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902825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6"/>
          </p:nvPr>
        </p:nvSpPr>
        <p:spPr>
          <a:xfrm>
            <a:off x="-360" y="87339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7"/>
          </p:nvPr>
        </p:nvSpPr>
        <p:spPr>
          <a:xfrm>
            <a:off x="3965040" y="87339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914D68-AFF0-46F2-BB07-A35CEA2C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09800" y="689040"/>
            <a:ext cx="4978080" cy="3448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480" y="4367160"/>
            <a:ext cx="5130720" cy="4138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6E17D-1F87-4C53-8021-2963F281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D3FBC-152D-467D-8EFC-560EE0D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C7E5B-FFF8-4757-8027-21703B6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7DAFC-7724-4BB9-8909-61FAA2F2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EA495-2EEA-45AE-83A8-02B5D74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258D-5C3C-4AB8-8D70-063CDE2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10911-842D-46D6-B04F-82D89D9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27730-AACE-449B-AF2E-9417AC5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C86D-E611-4512-9A3F-0CCBCC1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2B9A4-F2B2-462F-AA65-E1CEDA87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397F0-6415-44DB-AD40-7A71A94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8992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19600" y="60912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988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8992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19600" y="3196800"/>
            <a:ext cx="2790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82C3-34D3-40C1-8D4B-EC0EA823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9760" y="319680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988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9760" y="609120"/>
            <a:ext cx="4228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9880" y="3196800"/>
            <a:ext cx="8664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59880" y="5715000"/>
            <a:ext cx="86648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609120"/>
            <a:ext cx="8664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39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1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840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2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3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4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B56-3F58-4143-943C-C1F94660D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QoS Framework, Multimedia</a:t>
            </a:r>
            <a:br>
              <a:rPr sz="4800"/>
            </a:b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Applications and Roadmap</a:t>
            </a: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3600"/>
            </a:b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rles Dvorak - AT&amp;T Labs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G12 Vice-Chairm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80" y="228600"/>
            <a:ext cx="88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QoS Agreements – Future (far?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89864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733920"/>
            <a:ext cx="9067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588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29680" y="212616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02480" y="427248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7274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34656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189864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78480" y="2126160"/>
            <a:ext cx="150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Cla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o/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/E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64440" y="3878640"/>
            <a:ext cx="155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6418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7274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281304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58000" y="334584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5099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89864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6440" y="1973880"/>
            <a:ext cx="170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nfg.Cho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6640" y="3954960"/>
            <a:ext cx="142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46418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7274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34656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5099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3640" y="12880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6200" y="12880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15200" y="1288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25760" y="2081880"/>
            <a:ext cx="1197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50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333760" y="273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4840" y="2051640"/>
            <a:ext cx="1197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247824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742840" y="270684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315200" y="334584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867280" y="2889360"/>
            <a:ext cx="533520" cy="2209680"/>
          </a:xfrm>
          <a:custGeom>
            <a:avLst/>
            <a:gdLst>
              <a:gd name="textAreaLeft" fmla="*/ 71280 w 533520"/>
              <a:gd name="textAreaRight" fmla="*/ 462240 w 53352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95280" y="57150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8088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Model for User-centric QoS (per G.10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8001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2286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Roadmap for QoS Conve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framework / definitions exist (E.800, G.1000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 requirements are well known (G.1010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essment/monitoring methods well under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I-NI QoS classes capable of supporting most user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s exist for ATM (I.356) and IP (Y.1541)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though new signaling is needed for the IP c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G16 has a futuristic QoS Architecture direction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iver QoS dynamically, over multiple networ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Gs 11, 12, 13 &amp; 16 must make this work conver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38088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only reason God was able to create th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e in six days was that He did not hav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orry about the installed base.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ardless of technology choices, servi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s wil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an installed ba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and the QoS needed for thei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(which IP has not chang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 QoS is thus end-to-end, not someth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done “per-hop” or even “per-doma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38088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SG12 Mandate (a reminder)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d-to-end transmission performance of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tworks, terminals and their interactions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relation to the perceived qualit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ceptance by users of text, speech,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e applications; including the related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mission implications of al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PDH, SDH, ATM and IP) and termin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3049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IP and Multimedia in SG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2- Transm. Requirements for IP gateways and termi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8- E-Model (planning tool for speech quality incl.Vo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1- Transmission of multiple interconnected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2- Voiceband services transmission via IP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3- Multimedia QOS and performanc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4- Effects of interworking multiple IP domains on Vo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5- QOS coordination in the ITU (Lead Study Group wor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.16- In-service non-intrusive assessment of Vo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95280" y="57150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New G.1000 series of ITU-T</a:t>
            </a:r>
            <a:br>
              <a:rPr sz="4400"/>
            </a:b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Recommendations by SG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9600" y="4038480"/>
            <a:ext cx="7579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commendation G.1010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nd-User Multimedia QoS Categori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2080" y="1905120"/>
            <a:ext cx="755244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commendation G.1000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munications Quality of Service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 Framework and Definition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2860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QoS framework</a:t>
            </a: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(G.1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685800"/>
          <a:ext cx="840564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84056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ITU_Logo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1052280" cy="1067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95280" y="57913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52480" y="1066680"/>
          <a:ext cx="7010640" cy="449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066680"/>
                    <a:ext cx="7010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90920" y="228600"/>
            <a:ext cx="51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Four Views of Q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Service Provider’s View of Q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1981080" y="1752480"/>
          <a:ext cx="59436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81080" y="1752480"/>
                    <a:ext cx="59436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19520" y="3733920"/>
            <a:ext cx="67053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856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1600200"/>
            <a:ext cx="3352680" cy="1600200"/>
          </a:xfrm>
          <a:prstGeom prst="wedgeRoundRectCallout">
            <a:avLst>
              <a:gd name="adj1" fmla="val -131439"/>
              <a:gd name="adj2" fmla="val 31944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Perf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IP QoS Cla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25200">
            <a:off x="2604600" y="3414600"/>
            <a:ext cx="18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191120"/>
            <a:ext cx="3352680" cy="1600200"/>
          </a:xfrm>
          <a:prstGeom prst="wedgeRoundRectCallout">
            <a:avLst>
              <a:gd name="adj1" fmla="val -133902"/>
              <a:gd name="adj2" fmla="val -1606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Mechanis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d Active Me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Method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QoS Agreements - Ev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73392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51680" y="3351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7160" y="2284920"/>
            <a:ext cx="147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m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840" y="3961440"/>
            <a:ext cx="78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352680"/>
            <a:ext cx="228600" cy="609840"/>
          </a:xfrm>
          <a:prstGeom prst="upArrow">
            <a:avLst>
              <a:gd name="adj1" fmla="val 38889"/>
              <a:gd name="adj2" fmla="val 111155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905120"/>
            <a:ext cx="152388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980000"/>
            <a:ext cx="153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&amp; E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21440" y="3885120"/>
            <a:ext cx="155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oS Me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L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4648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733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819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86400" y="3276000"/>
            <a:ext cx="228600" cy="609480"/>
          </a:xfrm>
          <a:prstGeom prst="upArrow">
            <a:avLst>
              <a:gd name="adj1" fmla="val 38889"/>
              <a:gd name="adj2" fmla="val 111089"/>
            </a:avLst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105520"/>
            <a:ext cx="2286000" cy="228600"/>
          </a:xfrm>
          <a:prstGeom prst="leftArrow">
            <a:avLst>
              <a:gd name="adj1" fmla="val 50000"/>
              <a:gd name="adj2" fmla="val 2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438280"/>
            <a:ext cx="2362320" cy="228600"/>
          </a:xfrm>
          <a:prstGeom prst="leftRightArrow">
            <a:avLst>
              <a:gd name="adj1" fmla="val 50000"/>
              <a:gd name="adj2" fmla="val 20572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1905120"/>
            <a:ext cx="1524240" cy="3886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04160" y="243720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7320" y="312300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/REJ/M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505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781680" y="362736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2894760"/>
            <a:ext cx="533520" cy="2210040"/>
          </a:xfrm>
          <a:custGeom>
            <a:avLst/>
            <a:gdLst>
              <a:gd name="textAreaLeft" fmla="*/ 71280 w 533520"/>
              <a:gd name="textAreaRight" fmla="*/ 462240 w 533520"/>
              <a:gd name="textAreaTop" fmla="*/ 386640 h 2210040"/>
              <a:gd name="textAreaBottom" fmla="*/ 160236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Charles Dvorak</cp:lastModifiedBy>
  <cp:lastPrinted>2002-03-04T16:10:12Z</cp:lastPrinted>
  <dcterms:modified xsi:type="dcterms:W3CDTF">2002-03-13T11:24:51Z</dcterms:modified>
  <cp:revision>60</cp:revision>
  <dc:subject/>
  <dc:title>PowerPoint Presentation</dc:title>
</cp:coreProperties>
</file>