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C61C-0779-4A72-A2E7-7C8A0C42C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BF3E-76DC-4CDF-9029-793D21F4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657360" y="374760"/>
            <a:ext cx="5454360" cy="4091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6F63-9E8D-4F4C-8E24-B3195AE232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E87F-B2A3-462A-8370-F3F8E18F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0AFC-FE36-4C18-A939-0C677FF2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044C-4C57-4758-9145-45AB1FC054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4BEC4-3046-4AFF-BACF-E5574915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716D4-2E77-4786-BF0E-BA98E073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D8BA7-E37A-4D9E-9EBD-4D07A598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248B7-03AC-4FDB-AEEB-F82A74D6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62BB3-056F-4A96-AE61-9AB7ADFF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78FC4-3414-4FDC-89C5-671572E5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114FB-3437-430D-A9C8-DE15977F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86B4-09F8-44D7-9ECD-B32B24E9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1943C-814A-4826-8EE4-A6E4254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6E238-C53D-4B30-9D54-7536870C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70E3B-B67D-4D48-9D16-911C1851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D4F3E-61F2-4BAC-ACD5-100660CE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568BE-7915-4250-AB4D-E986B7DD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9DF6-2A63-4AA4-BE9B-549BA995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303E-285B-4B7E-8BBA-2EC2000F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C40B-0C8B-4168-B178-C0E26C47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9740-F467-43AC-9EFE-234DBBBE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F5DD-FAF3-4BC8-94E2-C5A1B5A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CCC7-CA20-43E9-9762-515D55DF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88D5-F7D7-4BA3-83AD-B63BFD50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4640" cy="6846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9041-D579-4EFF-82F0-41F4B6471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4640" cy="68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AEFE-7A5C-4125-B92B-DEC025250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.rosenfeld@cablelabs.com" TargetMode="External"/><Relationship Id="rId2" Type="http://schemas.openxmlformats.org/officeDocument/2006/relationships/hyperlink" Target="mailto:smedvinsky@motorola.com" TargetMode="External"/><Relationship Id="rId3" Type="http://schemas.openxmlformats.org/officeDocument/2006/relationships/hyperlink" Target="mailto:simonkang@motorola.co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684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rebuchet MS"/>
              </a:rPr>
              <a:t>IPCablecom Security</a:t>
            </a:r>
            <a:endParaRPr b="1" lang="en-US" sz="48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3733920"/>
            <a:ext cx="7848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94156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ric Rosenfeld, Cable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sha Medvinsky,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on Kang, 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5948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U IPCablecom Mediacom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rch 13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eneva, 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Services provided by J.112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seline Privacy Interface + (BPI+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cy between the Cable Modem and CM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 encry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ion from theft of Servi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uthentication of Cable Modems via X.509 digital certificat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able secure code download to the Cable Mod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uthentication of Cable Modem software image via X.509 Code Verification Certific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33280" y="555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BPI+ Applicability to IPCablecom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67840" y="1895040"/>
            <a:ext cx="887580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mbedded MTAs rely on Cable Modem for secure code downloa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ivacy of J.112 QoS messages prevents some denial of service attac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ft of Service protection doesn’t apply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PEs behind a CM are not authentica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 Telephony servers also not authenticat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dditional security at application layer is needed to protect IPCablecom servic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Security Objective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440" y="1770120"/>
            <a:ext cx="77979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d-to-end secure commun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st be at least as secure as PSTN netwo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ion for the us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sure privacy of media ses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ection for the opera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bat theft-of-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tect infrastructu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prehensive pl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o/What needs to protect and wh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en/Why do we protect this information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will we incorporate securit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Security Objective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se open standards whenever possi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duct a risk assess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vide a reasonable level of secur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ecify Interface secur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 device or operator network secur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ume operators must have reasonable network management security polic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quire J.112 networks with BPI+ enabl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Security Architecture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1852560" y="-4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601640" y="1447920"/>
          <a:ext cx="6043680" cy="50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447920"/>
                    <a:ext cx="6043680" cy="50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7000" y="1712880"/>
            <a:ext cx="79563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entralized network authentication via a Key Distribution Center (KDC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ublic Key Initialization (PKINIT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gital Certificates are used to authenticate the MTA to the KDC and KDC to M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y Manage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lows MTAs and CMSs to agree on cryptographic keys for secure communic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-layer security protocol (IETF standard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capsulating Security Payload (ES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ansport mode for end-to-end secur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ivacy/authentication/integrity of paylo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551960" indent="-22140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DES, HMAC SHA1 or HMAC MD5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itial Authentication &amp; Key Management provided by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erberos+PKINIT for MT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rnet Key Exchange (IKE) with pre-shared keys for infrastructure components (CMS, CMTS, RKS, Gateway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NMPv3 secur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NMPv3 is used to monitor &amp; manage MT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itial Authentication  &amp; Key Manage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rberos+PKIN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ssage Authentication &amp; Integr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MAC MD5 algorith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cy (option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 algorith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03080" y="1855800"/>
            <a:ext cx="78246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ll Signaling Secur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CS, TCAP/IP, ISTP, and TGCP Protoco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tocol security provided by IPsec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x of authentication &amp; key management technologie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KE with pre-shared keys for serv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fault for IPsec, comes bundled with off-the-shelf implementa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rberos+PKINIT for MT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ed to address scalability issues on the CMS-MTA interfa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ecurity Mechanism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65384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TP/RTCP (Media Stream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itial Authent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ch end-point (MTA or MG) authenticated by the Call Management Serv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y Manage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a IPsec-secured Network-based Call Signaling (NC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vanced Encryption Standard (AE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thentication &amp; Integrity (optional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MH (Multilinear Modular Hash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Agenda</a:t>
            </a: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PCablecom Overvie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rvices and Capabilit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urity Goals of IPCable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PCablecom Security Architectur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urity Mechanisms &amp; Compon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Key Distribution Center (KDC)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only standalone security component in IPCable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cts as a trusted third-party authentication servic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mplement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rberos version 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KINIT w/X.509 digital certifica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Multimedia Terminal Adapter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461600"/>
            <a:ext cx="777240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X.509 Digital Certificates for authent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 Telephony Root CA Certific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TA Manufacturer CA Certific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TA Device Certific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TA Private Ke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PS 140-1 Cryptographic Modu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vel 1 required (minimal physical security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physical security recommended for higher value servi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andom Number Generato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ES, MMH, IPsec, Kerberos+PKINI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mbedded J.112 CM with BPI+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582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Device Provisioning Server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10760" y="1968480"/>
            <a:ext cx="7131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thentication &amp; Key Manage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erberos+PKINIT authentic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grity &amp; Privac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NMPv3 secur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MAC MD5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vacy (optiona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PSTN Gateway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32880" y="1784520"/>
            <a:ext cx="781236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dia Gateway Controller (MGC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sec,IKE w/pre-shared keys for call signa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dia Gateway (M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ES, MMH for media stre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sec, IKE w/pre-shared keys for call signa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gnaling Gateway (SG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sec, IKE w/pre-shared keys for call signa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Other Component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55480" y="1620720"/>
            <a:ext cx="815040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ble Modem Termination System (CMT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.112 Access Node (AN) w/BPI+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 w/pre-shared keys and RADIUS authentication for QoS interface with C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ll Management Server (CM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 w/pre-shared key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 w/Kerberized Key Management for MT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cord Keeping Server (RK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sec w/pre-shared keys for billing eve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 flipV="1">
            <a:off x="8047080" y="2666880"/>
            <a:ext cx="106200" cy="2416320"/>
          </a:xfrm>
          <a:prstGeom prst="line">
            <a:avLst/>
          </a:prstGeom>
          <a:ln w="7632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On-Net to Off-Net Media Path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63" name=""/>
          <p:cNvSpPr/>
          <p:nvPr/>
        </p:nvSpPr>
        <p:spPr>
          <a:xfrm>
            <a:off x="7467480" y="3505320"/>
            <a:ext cx="1295640" cy="1128600"/>
          </a:xfrm>
          <a:custGeom>
            <a:avLst/>
            <a:gdLst/>
            <a:ahLst/>
            <a:rect l="l" t="t" r="r" b="b"/>
            <a:pathLst>
              <a:path w="952" h="951">
                <a:moveTo>
                  <a:pt x="140" y="706"/>
                </a:moveTo>
                <a:lnTo>
                  <a:pt x="152" y="744"/>
                </a:lnTo>
                <a:lnTo>
                  <a:pt x="165" y="782"/>
                </a:lnTo>
                <a:lnTo>
                  <a:pt x="179" y="815"/>
                </a:lnTo>
                <a:lnTo>
                  <a:pt x="196" y="846"/>
                </a:lnTo>
                <a:lnTo>
                  <a:pt x="213" y="873"/>
                </a:lnTo>
                <a:lnTo>
                  <a:pt x="231" y="896"/>
                </a:lnTo>
                <a:lnTo>
                  <a:pt x="251" y="915"/>
                </a:lnTo>
                <a:lnTo>
                  <a:pt x="271" y="931"/>
                </a:lnTo>
                <a:lnTo>
                  <a:pt x="293" y="941"/>
                </a:lnTo>
                <a:lnTo>
                  <a:pt x="315" y="948"/>
                </a:lnTo>
                <a:lnTo>
                  <a:pt x="336" y="951"/>
                </a:lnTo>
                <a:lnTo>
                  <a:pt x="357" y="948"/>
                </a:lnTo>
                <a:lnTo>
                  <a:pt x="378" y="943"/>
                </a:lnTo>
                <a:lnTo>
                  <a:pt x="400" y="931"/>
                </a:lnTo>
                <a:lnTo>
                  <a:pt x="421" y="916"/>
                </a:lnTo>
                <a:lnTo>
                  <a:pt x="440" y="897"/>
                </a:lnTo>
                <a:lnTo>
                  <a:pt x="458" y="874"/>
                </a:lnTo>
                <a:lnTo>
                  <a:pt x="477" y="847"/>
                </a:lnTo>
                <a:lnTo>
                  <a:pt x="494" y="874"/>
                </a:lnTo>
                <a:lnTo>
                  <a:pt x="512" y="897"/>
                </a:lnTo>
                <a:lnTo>
                  <a:pt x="532" y="916"/>
                </a:lnTo>
                <a:lnTo>
                  <a:pt x="552" y="931"/>
                </a:lnTo>
                <a:lnTo>
                  <a:pt x="573" y="943"/>
                </a:lnTo>
                <a:lnTo>
                  <a:pt x="595" y="948"/>
                </a:lnTo>
                <a:lnTo>
                  <a:pt x="617" y="951"/>
                </a:lnTo>
                <a:lnTo>
                  <a:pt x="638" y="948"/>
                </a:lnTo>
                <a:lnTo>
                  <a:pt x="659" y="941"/>
                </a:lnTo>
                <a:lnTo>
                  <a:pt x="681" y="931"/>
                </a:lnTo>
                <a:lnTo>
                  <a:pt x="701" y="915"/>
                </a:lnTo>
                <a:lnTo>
                  <a:pt x="720" y="896"/>
                </a:lnTo>
                <a:lnTo>
                  <a:pt x="739" y="873"/>
                </a:lnTo>
                <a:lnTo>
                  <a:pt x="757" y="846"/>
                </a:lnTo>
                <a:lnTo>
                  <a:pt x="773" y="815"/>
                </a:lnTo>
                <a:lnTo>
                  <a:pt x="788" y="782"/>
                </a:lnTo>
                <a:lnTo>
                  <a:pt x="800" y="744"/>
                </a:lnTo>
                <a:lnTo>
                  <a:pt x="812" y="706"/>
                </a:lnTo>
                <a:lnTo>
                  <a:pt x="827" y="711"/>
                </a:lnTo>
                <a:lnTo>
                  <a:pt x="840" y="714"/>
                </a:lnTo>
                <a:lnTo>
                  <a:pt x="855" y="711"/>
                </a:lnTo>
                <a:lnTo>
                  <a:pt x="870" y="705"/>
                </a:lnTo>
                <a:lnTo>
                  <a:pt x="884" y="694"/>
                </a:lnTo>
                <a:lnTo>
                  <a:pt x="896" y="681"/>
                </a:lnTo>
                <a:lnTo>
                  <a:pt x="909" y="664"/>
                </a:lnTo>
                <a:lnTo>
                  <a:pt x="919" y="643"/>
                </a:lnTo>
                <a:lnTo>
                  <a:pt x="929" y="620"/>
                </a:lnTo>
                <a:lnTo>
                  <a:pt x="937" y="594"/>
                </a:lnTo>
                <a:lnTo>
                  <a:pt x="943" y="567"/>
                </a:lnTo>
                <a:lnTo>
                  <a:pt x="947" y="537"/>
                </a:lnTo>
                <a:lnTo>
                  <a:pt x="951" y="506"/>
                </a:lnTo>
                <a:lnTo>
                  <a:pt x="952" y="476"/>
                </a:lnTo>
                <a:lnTo>
                  <a:pt x="951" y="445"/>
                </a:lnTo>
                <a:lnTo>
                  <a:pt x="947" y="414"/>
                </a:lnTo>
                <a:lnTo>
                  <a:pt x="943" y="386"/>
                </a:lnTo>
                <a:lnTo>
                  <a:pt x="937" y="357"/>
                </a:lnTo>
                <a:lnTo>
                  <a:pt x="929" y="332"/>
                </a:lnTo>
                <a:lnTo>
                  <a:pt x="919" y="308"/>
                </a:lnTo>
                <a:lnTo>
                  <a:pt x="909" y="288"/>
                </a:lnTo>
                <a:lnTo>
                  <a:pt x="896" y="270"/>
                </a:lnTo>
                <a:lnTo>
                  <a:pt x="884" y="257"/>
                </a:lnTo>
                <a:lnTo>
                  <a:pt x="870" y="247"/>
                </a:lnTo>
                <a:lnTo>
                  <a:pt x="855" y="241"/>
                </a:lnTo>
                <a:lnTo>
                  <a:pt x="840" y="239"/>
                </a:lnTo>
                <a:lnTo>
                  <a:pt x="827" y="240"/>
                </a:lnTo>
                <a:lnTo>
                  <a:pt x="812" y="245"/>
                </a:lnTo>
                <a:lnTo>
                  <a:pt x="800" y="207"/>
                </a:lnTo>
                <a:lnTo>
                  <a:pt x="788" y="170"/>
                </a:lnTo>
                <a:lnTo>
                  <a:pt x="773" y="136"/>
                </a:lnTo>
                <a:lnTo>
                  <a:pt x="757" y="105"/>
                </a:lnTo>
                <a:lnTo>
                  <a:pt x="739" y="79"/>
                </a:lnTo>
                <a:lnTo>
                  <a:pt x="720" y="55"/>
                </a:lnTo>
                <a:lnTo>
                  <a:pt x="701" y="36"/>
                </a:lnTo>
                <a:lnTo>
                  <a:pt x="681" y="21"/>
                </a:lnTo>
                <a:lnTo>
                  <a:pt x="659" y="10"/>
                </a:lnTo>
                <a:lnTo>
                  <a:pt x="638" y="3"/>
                </a:lnTo>
                <a:lnTo>
                  <a:pt x="617" y="0"/>
                </a:lnTo>
                <a:lnTo>
                  <a:pt x="595" y="3"/>
                </a:lnTo>
                <a:lnTo>
                  <a:pt x="573" y="10"/>
                </a:lnTo>
                <a:lnTo>
                  <a:pt x="552" y="20"/>
                </a:lnTo>
                <a:lnTo>
                  <a:pt x="532" y="36"/>
                </a:lnTo>
                <a:lnTo>
                  <a:pt x="512" y="54"/>
                </a:lnTo>
                <a:lnTo>
                  <a:pt x="494" y="78"/>
                </a:lnTo>
                <a:lnTo>
                  <a:pt x="477" y="105"/>
                </a:lnTo>
                <a:lnTo>
                  <a:pt x="458" y="78"/>
                </a:lnTo>
                <a:lnTo>
                  <a:pt x="440" y="54"/>
                </a:lnTo>
                <a:lnTo>
                  <a:pt x="421" y="36"/>
                </a:lnTo>
                <a:lnTo>
                  <a:pt x="400" y="20"/>
                </a:lnTo>
                <a:lnTo>
                  <a:pt x="378" y="10"/>
                </a:lnTo>
                <a:lnTo>
                  <a:pt x="357" y="3"/>
                </a:lnTo>
                <a:lnTo>
                  <a:pt x="336" y="0"/>
                </a:lnTo>
                <a:lnTo>
                  <a:pt x="315" y="3"/>
                </a:lnTo>
                <a:lnTo>
                  <a:pt x="293" y="10"/>
                </a:lnTo>
                <a:lnTo>
                  <a:pt x="271" y="21"/>
                </a:lnTo>
                <a:lnTo>
                  <a:pt x="251" y="36"/>
                </a:lnTo>
                <a:lnTo>
                  <a:pt x="231" y="55"/>
                </a:lnTo>
                <a:lnTo>
                  <a:pt x="213" y="79"/>
                </a:lnTo>
                <a:lnTo>
                  <a:pt x="196" y="105"/>
                </a:lnTo>
                <a:lnTo>
                  <a:pt x="179" y="136"/>
                </a:lnTo>
                <a:lnTo>
                  <a:pt x="165" y="170"/>
                </a:lnTo>
                <a:lnTo>
                  <a:pt x="152" y="207"/>
                </a:lnTo>
                <a:lnTo>
                  <a:pt x="140" y="245"/>
                </a:lnTo>
                <a:lnTo>
                  <a:pt x="127" y="240"/>
                </a:lnTo>
                <a:lnTo>
                  <a:pt x="112" y="239"/>
                </a:lnTo>
                <a:lnTo>
                  <a:pt x="97" y="241"/>
                </a:lnTo>
                <a:lnTo>
                  <a:pt x="83" y="247"/>
                </a:lnTo>
                <a:lnTo>
                  <a:pt x="68" y="257"/>
                </a:lnTo>
                <a:lnTo>
                  <a:pt x="56" y="270"/>
                </a:lnTo>
                <a:lnTo>
                  <a:pt x="43" y="288"/>
                </a:lnTo>
                <a:lnTo>
                  <a:pt x="33" y="308"/>
                </a:lnTo>
                <a:lnTo>
                  <a:pt x="23" y="332"/>
                </a:lnTo>
                <a:lnTo>
                  <a:pt x="15" y="357"/>
                </a:lnTo>
                <a:lnTo>
                  <a:pt x="9" y="386"/>
                </a:lnTo>
                <a:lnTo>
                  <a:pt x="5" y="414"/>
                </a:lnTo>
                <a:lnTo>
                  <a:pt x="1" y="445"/>
                </a:lnTo>
                <a:lnTo>
                  <a:pt x="0" y="476"/>
                </a:lnTo>
                <a:lnTo>
                  <a:pt x="1" y="506"/>
                </a:lnTo>
                <a:lnTo>
                  <a:pt x="5" y="537"/>
                </a:lnTo>
                <a:lnTo>
                  <a:pt x="9" y="567"/>
                </a:lnTo>
                <a:lnTo>
                  <a:pt x="15" y="594"/>
                </a:lnTo>
                <a:lnTo>
                  <a:pt x="23" y="620"/>
                </a:lnTo>
                <a:lnTo>
                  <a:pt x="33" y="643"/>
                </a:lnTo>
                <a:lnTo>
                  <a:pt x="43" y="664"/>
                </a:lnTo>
                <a:lnTo>
                  <a:pt x="56" y="681"/>
                </a:lnTo>
                <a:lnTo>
                  <a:pt x="68" y="694"/>
                </a:lnTo>
                <a:lnTo>
                  <a:pt x="83" y="705"/>
                </a:lnTo>
                <a:lnTo>
                  <a:pt x="97" y="711"/>
                </a:lnTo>
                <a:lnTo>
                  <a:pt x="112" y="714"/>
                </a:lnTo>
                <a:lnTo>
                  <a:pt x="127" y="711"/>
                </a:lnTo>
                <a:lnTo>
                  <a:pt x="140" y="706"/>
                </a:lnTo>
                <a:close/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847640" y="396252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838080" y="2362320"/>
            <a:ext cx="1904760" cy="685800"/>
            <a:chOff x="838080" y="2362320"/>
            <a:chExt cx="1904760" cy="685800"/>
          </a:xfrm>
        </p:grpSpPr>
        <p:sp>
          <p:nvSpPr>
            <p:cNvPr id="466" name=""/>
            <p:cNvSpPr/>
            <p:nvPr/>
          </p:nvSpPr>
          <p:spPr>
            <a:xfrm>
              <a:off x="838080" y="2362320"/>
              <a:ext cx="1904760" cy="68580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25200" y="2438640"/>
              <a:ext cx="727200" cy="533160"/>
            </a:xfrm>
            <a:prstGeom prst="rect">
              <a:avLst/>
            </a:prstGeom>
            <a:solidFill>
              <a:srgbClr val="e6e6e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90640" y="2438640"/>
              <a:ext cx="865080" cy="533160"/>
            </a:xfrm>
            <a:prstGeom prst="rect">
              <a:avLst/>
            </a:prstGeom>
            <a:solidFill>
              <a:srgbClr val="e6e6e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63440" y="2514600"/>
              <a:ext cx="630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98000" y="2590920"/>
              <a:ext cx="38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404120" y="2343240"/>
            <a:ext cx="990360" cy="533160"/>
            <a:chOff x="7404120" y="2343240"/>
            <a:chExt cx="990360" cy="533160"/>
          </a:xfrm>
        </p:grpSpPr>
        <p:sp>
          <p:nvSpPr>
            <p:cNvPr id="472" name=""/>
            <p:cNvSpPr/>
            <p:nvPr/>
          </p:nvSpPr>
          <p:spPr>
            <a:xfrm>
              <a:off x="7404120" y="2343240"/>
              <a:ext cx="990360" cy="53316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91960" y="2419200"/>
              <a:ext cx="733680" cy="426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086600" y="5029200"/>
            <a:ext cx="1676160" cy="1447920"/>
            <a:chOff x="7086600" y="5029200"/>
            <a:chExt cx="1676160" cy="1447920"/>
          </a:xfrm>
        </p:grpSpPr>
        <p:sp>
          <p:nvSpPr>
            <p:cNvPr id="475" name=""/>
            <p:cNvSpPr/>
            <p:nvPr/>
          </p:nvSpPr>
          <p:spPr>
            <a:xfrm>
              <a:off x="7315200" y="5181840"/>
              <a:ext cx="22860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5562720"/>
              <a:ext cx="16761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86600" y="5029200"/>
              <a:ext cx="1676160" cy="53352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8076960" y="5943600"/>
              <a:ext cx="593640" cy="454680"/>
              <a:chOff x="8076960" y="5943600"/>
              <a:chExt cx="593640" cy="454680"/>
            </a:xfrm>
          </p:grpSpPr>
          <p:sp>
            <p:nvSpPr>
              <p:cNvPr id="479" name=""/>
              <p:cNvSpPr/>
              <p:nvPr/>
            </p:nvSpPr>
            <p:spPr>
              <a:xfrm>
                <a:off x="8151120" y="6069960"/>
                <a:ext cx="417960" cy="328320"/>
              </a:xfrm>
              <a:prstGeom prst="triangle">
                <a:avLst>
                  <a:gd name="adj" fmla="val 49991"/>
                </a:avLst>
              </a:prstGeom>
              <a:solidFill>
                <a:srgbClr val="ff99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076960" y="5943600"/>
                <a:ext cx="593640" cy="221760"/>
              </a:xfrm>
              <a:custGeom>
                <a:avLst/>
                <a:gdLst/>
                <a:ahLst/>
                <a:rect l="l" t="t" r="r" b="b"/>
                <a:pathLst>
                  <a:path w="246" h="58">
                    <a:moveTo>
                      <a:pt x="61" y="57"/>
                    </a:moveTo>
                    <a:lnTo>
                      <a:pt x="70" y="45"/>
                    </a:lnTo>
                    <a:lnTo>
                      <a:pt x="78" y="36"/>
                    </a:lnTo>
                    <a:lnTo>
                      <a:pt x="96" y="30"/>
                    </a:lnTo>
                    <a:lnTo>
                      <a:pt x="122" y="27"/>
                    </a:lnTo>
                    <a:lnTo>
                      <a:pt x="149" y="30"/>
                    </a:lnTo>
                    <a:lnTo>
                      <a:pt x="166" y="36"/>
                    </a:lnTo>
                    <a:lnTo>
                      <a:pt x="184" y="45"/>
                    </a:lnTo>
                    <a:lnTo>
                      <a:pt x="184" y="57"/>
                    </a:lnTo>
                    <a:lnTo>
                      <a:pt x="245" y="57"/>
                    </a:lnTo>
                    <a:lnTo>
                      <a:pt x="236" y="33"/>
                    </a:lnTo>
                    <a:lnTo>
                      <a:pt x="210" y="15"/>
                    </a:lnTo>
                    <a:lnTo>
                      <a:pt x="175" y="3"/>
                    </a:lnTo>
                    <a:lnTo>
                      <a:pt x="122" y="0"/>
                    </a:lnTo>
                    <a:lnTo>
                      <a:pt x="70" y="3"/>
                    </a:lnTo>
                    <a:lnTo>
                      <a:pt x="35" y="15"/>
                    </a:lnTo>
                    <a:lnTo>
                      <a:pt x="8" y="33"/>
                    </a:lnTo>
                    <a:lnTo>
                      <a:pt x="0" y="57"/>
                    </a:lnTo>
                    <a:lnTo>
                      <a:pt x="61" y="57"/>
                    </a:lnTo>
                  </a:path>
                </a:pathLst>
              </a:custGeom>
              <a:solidFill>
                <a:srgbClr val="ff9900"/>
              </a:solidFill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7543800" y="5943600"/>
              <a:ext cx="228600" cy="533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8880" y="5867640"/>
              <a:ext cx="152280" cy="3045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8100000"/>
            </a:gra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48360" y="6019920"/>
              <a:ext cx="285840" cy="361800"/>
            </a:xfrm>
            <a:custGeom>
              <a:avLst/>
              <a:gdLst/>
              <a:ahLst/>
              <a:rect l="l" t="t" r="r" b="b"/>
              <a:pathLst>
                <a:path w="446" h="672">
                  <a:moveTo>
                    <a:pt x="398" y="0"/>
                  </a:moveTo>
                  <a:cubicBezTo>
                    <a:pt x="357" y="31"/>
                    <a:pt x="320" y="44"/>
                    <a:pt x="278" y="72"/>
                  </a:cubicBezTo>
                  <a:cubicBezTo>
                    <a:pt x="258" y="132"/>
                    <a:pt x="261" y="145"/>
                    <a:pt x="314" y="180"/>
                  </a:cubicBezTo>
                  <a:cubicBezTo>
                    <a:pt x="326" y="168"/>
                    <a:pt x="350" y="161"/>
                    <a:pt x="350" y="144"/>
                  </a:cubicBezTo>
                  <a:cubicBezTo>
                    <a:pt x="350" y="131"/>
                    <a:pt x="327" y="132"/>
                    <a:pt x="314" y="132"/>
                  </a:cubicBezTo>
                  <a:cubicBezTo>
                    <a:pt x="294" y="132"/>
                    <a:pt x="274" y="140"/>
                    <a:pt x="254" y="144"/>
                  </a:cubicBezTo>
                  <a:cubicBezTo>
                    <a:pt x="242" y="156"/>
                    <a:pt x="227" y="166"/>
                    <a:pt x="218" y="180"/>
                  </a:cubicBezTo>
                  <a:cubicBezTo>
                    <a:pt x="178" y="240"/>
                    <a:pt x="248" y="284"/>
                    <a:pt x="290" y="312"/>
                  </a:cubicBezTo>
                  <a:cubicBezTo>
                    <a:pt x="294" y="300"/>
                    <a:pt x="308" y="287"/>
                    <a:pt x="302" y="276"/>
                  </a:cubicBezTo>
                  <a:cubicBezTo>
                    <a:pt x="296" y="265"/>
                    <a:pt x="279" y="264"/>
                    <a:pt x="266" y="264"/>
                  </a:cubicBezTo>
                  <a:cubicBezTo>
                    <a:pt x="230" y="264"/>
                    <a:pt x="194" y="272"/>
                    <a:pt x="158" y="276"/>
                  </a:cubicBezTo>
                  <a:cubicBezTo>
                    <a:pt x="138" y="336"/>
                    <a:pt x="142" y="300"/>
                    <a:pt x="170" y="384"/>
                  </a:cubicBezTo>
                  <a:cubicBezTo>
                    <a:pt x="178" y="408"/>
                    <a:pt x="218" y="400"/>
                    <a:pt x="242" y="408"/>
                  </a:cubicBezTo>
                  <a:cubicBezTo>
                    <a:pt x="254" y="412"/>
                    <a:pt x="278" y="420"/>
                    <a:pt x="278" y="420"/>
                  </a:cubicBezTo>
                  <a:cubicBezTo>
                    <a:pt x="262" y="371"/>
                    <a:pt x="243" y="352"/>
                    <a:pt x="194" y="336"/>
                  </a:cubicBezTo>
                  <a:cubicBezTo>
                    <a:pt x="152" y="364"/>
                    <a:pt x="122" y="372"/>
                    <a:pt x="86" y="408"/>
                  </a:cubicBezTo>
                  <a:cubicBezTo>
                    <a:pt x="59" y="490"/>
                    <a:pt x="108" y="499"/>
                    <a:pt x="170" y="540"/>
                  </a:cubicBezTo>
                  <a:cubicBezTo>
                    <a:pt x="188" y="487"/>
                    <a:pt x="180" y="475"/>
                    <a:pt x="134" y="444"/>
                  </a:cubicBezTo>
                  <a:cubicBezTo>
                    <a:pt x="98" y="448"/>
                    <a:pt x="60" y="443"/>
                    <a:pt x="26" y="456"/>
                  </a:cubicBezTo>
                  <a:cubicBezTo>
                    <a:pt x="0" y="466"/>
                    <a:pt x="20" y="518"/>
                    <a:pt x="26" y="528"/>
                  </a:cubicBezTo>
                  <a:cubicBezTo>
                    <a:pt x="50" y="571"/>
                    <a:pt x="66" y="604"/>
                    <a:pt x="110" y="624"/>
                  </a:cubicBezTo>
                  <a:cubicBezTo>
                    <a:pt x="209" y="668"/>
                    <a:pt x="271" y="664"/>
                    <a:pt x="386" y="672"/>
                  </a:cubicBezTo>
                  <a:cubicBezTo>
                    <a:pt x="433" y="656"/>
                    <a:pt x="413" y="669"/>
                    <a:pt x="446" y="6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96080" y="6172200"/>
              <a:ext cx="76320" cy="76320"/>
            </a:xfrm>
            <a:prstGeom prst="ellipse">
              <a:avLst/>
            </a:prstGeom>
            <a:solidFill>
              <a:srgbClr val="996633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 flipH="1">
            <a:off x="1079280" y="2979720"/>
            <a:ext cx="12600" cy="538200"/>
          </a:xfrm>
          <a:prstGeom prst="line">
            <a:avLst/>
          </a:prstGeom>
          <a:ln w="7632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676160" y="2587680"/>
            <a:ext cx="5715000" cy="30780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19720" y="2203560"/>
            <a:ext cx="1752480" cy="107604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78600">
            <a:off x="763200" y="4267080"/>
            <a:ext cx="1524240" cy="2438280"/>
          </a:xfrm>
          <a:prstGeom prst="wedgeEllipseCallout">
            <a:avLst>
              <a:gd name="adj1" fmla="val 72078"/>
              <a:gd name="adj2" fmla="val -281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Mom.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457200" y="2819520"/>
            <a:ext cx="1125000" cy="1541520"/>
            <a:chOff x="457200" y="2819520"/>
            <a:chExt cx="1125000" cy="1541520"/>
          </a:xfrm>
        </p:grpSpPr>
        <p:graphicFrame>
          <p:nvGraphicFramePr>
            <p:cNvPr id="490" name=""/>
            <p:cNvGraphicFramePr/>
            <p:nvPr/>
          </p:nvGraphicFramePr>
          <p:xfrm>
            <a:off x="668160" y="3551400"/>
            <a:ext cx="914040" cy="809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8160" y="3551400"/>
                      <a:ext cx="914040" cy="809640"/>
                    </a:xfrm>
                    <a:prstGeom prst="rect">
                      <a:avLst/>
                    </a:prstGeom>
                    <a:ln w="28440">
                      <a:solidFill>
                        <a:srgbClr val="3366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92" name=""/>
            <p:cNvSpPr/>
            <p:nvPr/>
          </p:nvSpPr>
          <p:spPr>
            <a:xfrm>
              <a:off x="457200" y="2819520"/>
              <a:ext cx="337680" cy="847800"/>
            </a:xfrm>
            <a:custGeom>
              <a:avLst/>
              <a:gdLst/>
              <a:ahLst/>
              <a:rect l="l" t="t" r="r" b="b"/>
              <a:pathLst>
                <a:path w="213" h="534">
                  <a:moveTo>
                    <a:pt x="213" y="23"/>
                  </a:moveTo>
                  <a:cubicBezTo>
                    <a:pt x="162" y="6"/>
                    <a:pt x="143" y="0"/>
                    <a:pt x="124" y="56"/>
                  </a:cubicBezTo>
                  <a:cubicBezTo>
                    <a:pt x="135" y="63"/>
                    <a:pt x="144" y="81"/>
                    <a:pt x="157" y="78"/>
                  </a:cubicBezTo>
                  <a:cubicBezTo>
                    <a:pt x="168" y="75"/>
                    <a:pt x="173" y="55"/>
                    <a:pt x="168" y="45"/>
                  </a:cubicBezTo>
                  <a:cubicBezTo>
                    <a:pt x="163" y="35"/>
                    <a:pt x="146" y="38"/>
                    <a:pt x="135" y="34"/>
                  </a:cubicBezTo>
                  <a:cubicBezTo>
                    <a:pt x="124" y="38"/>
                    <a:pt x="110" y="37"/>
                    <a:pt x="102" y="45"/>
                  </a:cubicBezTo>
                  <a:cubicBezTo>
                    <a:pt x="82" y="65"/>
                    <a:pt x="91" y="117"/>
                    <a:pt x="102" y="134"/>
                  </a:cubicBezTo>
                  <a:cubicBezTo>
                    <a:pt x="108" y="144"/>
                    <a:pt x="124" y="141"/>
                    <a:pt x="135" y="145"/>
                  </a:cubicBezTo>
                  <a:cubicBezTo>
                    <a:pt x="139" y="134"/>
                    <a:pt x="150" y="123"/>
                    <a:pt x="146" y="112"/>
                  </a:cubicBezTo>
                  <a:cubicBezTo>
                    <a:pt x="130" y="71"/>
                    <a:pt x="80" y="96"/>
                    <a:pt x="57" y="101"/>
                  </a:cubicBezTo>
                  <a:cubicBezTo>
                    <a:pt x="45" y="138"/>
                    <a:pt x="24" y="184"/>
                    <a:pt x="57" y="223"/>
                  </a:cubicBezTo>
                  <a:cubicBezTo>
                    <a:pt x="69" y="237"/>
                    <a:pt x="94" y="216"/>
                    <a:pt x="113" y="212"/>
                  </a:cubicBezTo>
                  <a:cubicBezTo>
                    <a:pt x="120" y="204"/>
                    <a:pt x="138" y="199"/>
                    <a:pt x="135" y="189"/>
                  </a:cubicBezTo>
                  <a:cubicBezTo>
                    <a:pt x="131" y="178"/>
                    <a:pt x="114" y="178"/>
                    <a:pt x="102" y="178"/>
                  </a:cubicBezTo>
                  <a:cubicBezTo>
                    <a:pt x="83" y="178"/>
                    <a:pt x="65" y="185"/>
                    <a:pt x="46" y="189"/>
                  </a:cubicBezTo>
                  <a:cubicBezTo>
                    <a:pt x="32" y="233"/>
                    <a:pt x="8" y="291"/>
                    <a:pt x="46" y="334"/>
                  </a:cubicBezTo>
                  <a:cubicBezTo>
                    <a:pt x="63" y="354"/>
                    <a:pt x="98" y="327"/>
                    <a:pt x="124" y="323"/>
                  </a:cubicBezTo>
                  <a:cubicBezTo>
                    <a:pt x="128" y="308"/>
                    <a:pt x="141" y="292"/>
                    <a:pt x="135" y="278"/>
                  </a:cubicBezTo>
                  <a:cubicBezTo>
                    <a:pt x="125" y="253"/>
                    <a:pt x="63" y="277"/>
                    <a:pt x="57" y="278"/>
                  </a:cubicBezTo>
                  <a:cubicBezTo>
                    <a:pt x="21" y="315"/>
                    <a:pt x="0" y="332"/>
                    <a:pt x="24" y="389"/>
                  </a:cubicBezTo>
                  <a:cubicBezTo>
                    <a:pt x="37" y="420"/>
                    <a:pt x="113" y="434"/>
                    <a:pt x="113" y="434"/>
                  </a:cubicBezTo>
                  <a:cubicBezTo>
                    <a:pt x="93" y="405"/>
                    <a:pt x="84" y="371"/>
                    <a:pt x="35" y="412"/>
                  </a:cubicBezTo>
                  <a:cubicBezTo>
                    <a:pt x="23" y="422"/>
                    <a:pt x="28" y="441"/>
                    <a:pt x="24" y="456"/>
                  </a:cubicBezTo>
                  <a:cubicBezTo>
                    <a:pt x="45" y="518"/>
                    <a:pt x="70" y="534"/>
                    <a:pt x="135" y="534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957400" y="3166920"/>
            <a:ext cx="3429000" cy="204084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mDMSmB7HTKgEwLE3aSmttcBYAizqPicdTZKyXxVp7A4GxaPw/BH7kwYtuKxEr3nPS70i15nB+z7miTw2TXwrc+pYGO+FNvIScRQIrlaOqwYUMLF+5LjagzZSlbX8rrw+Y2uE21YZJxIirVuTX/tZI9af16nz75VcF5x0N4YRAjtjwpo3GW0CK+B4ihcg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503360"/>
            <a:ext cx="1295640" cy="825480"/>
          </a:xfrm>
          <a:prstGeom prst="rect">
            <a:avLst/>
          </a:prstGeom>
          <a:solidFill>
            <a:srgbClr val="00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A Encry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23120" y="1476360"/>
            <a:ext cx="1295280" cy="825480"/>
          </a:xfrm>
          <a:prstGeom prst="rect">
            <a:avLst/>
          </a:prstGeom>
          <a:solidFill>
            <a:srgbClr val="0099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G Decry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16278600">
            <a:off x="4868640" y="4503600"/>
            <a:ext cx="1387440" cy="2438280"/>
          </a:xfrm>
          <a:prstGeom prst="wedgeEllipseCallout">
            <a:avLst>
              <a:gd name="adj1" fmla="val -16560"/>
              <a:gd name="adj2" fmla="val 109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Mom. H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you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124080" y="2133720"/>
            <a:ext cx="914400" cy="533160"/>
            <a:chOff x="3124080" y="2133720"/>
            <a:chExt cx="914400" cy="533160"/>
          </a:xfrm>
        </p:grpSpPr>
        <p:sp>
          <p:nvSpPr>
            <p:cNvPr id="498" name=""/>
            <p:cNvSpPr/>
            <p:nvPr/>
          </p:nvSpPr>
          <p:spPr>
            <a:xfrm>
              <a:off x="3124080" y="2133720"/>
              <a:ext cx="914400" cy="533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51960" y="2286000"/>
              <a:ext cx="554040" cy="213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M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4578480" y="231948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P / R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48160" y="26114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ES, MM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PCablecom provides QoS-enhanced secure communic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urity is a major component and is integrated into the architectu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range of security protocols and services are us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PCablecom security architecture is fully defined in the J.170 recommend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2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For More Information…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505" name=""/>
          <p:cNvSpPr/>
          <p:nvPr/>
        </p:nvSpPr>
        <p:spPr>
          <a:xfrm>
            <a:off x="1127160" y="1432080"/>
            <a:ext cx="7205760" cy="57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ric Rosen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ble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cketCable Security Archi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rebuchet MS"/>
                <a:hlinkClick r:id="rId1"/>
              </a:rPr>
              <a:t>e.rosenfeld@cablelab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sha Medvi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nior Staff Engin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rebuchet MS"/>
                <a:hlinkClick r:id="rId2"/>
              </a:rPr>
              <a:t>smedvinsky@motorol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mon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tor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national Regulatory and Standards Speci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ahoma"/>
                <a:hlinkClick r:id="rId3"/>
              </a:rPr>
              <a:t>simonkang@motorol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What is IPCablecom?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2252520"/>
            <a:ext cx="63612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Cablecom is a set of standards that defin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protocol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functional requirement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the purpose of providing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Quality-of-Service (QoS) enhanced secure communication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ing the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Internet Protocol (IP)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er the cable televis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99a1"/>
                </a:solidFill>
                <a:latin typeface="Trebuchet MS"/>
              </a:rPr>
              <a:t>Hybrid Fiber Coax (HFC)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J.112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IPCablecom Framework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55760" y="5514840"/>
            <a:ext cx="6400800" cy="685800"/>
            <a:chOff x="1355760" y="5514840"/>
            <a:chExt cx="6400800" cy="685800"/>
          </a:xfrm>
        </p:grpSpPr>
        <p:sp>
          <p:nvSpPr>
            <p:cNvPr id="100" name=""/>
            <p:cNvSpPr/>
            <p:nvPr/>
          </p:nvSpPr>
          <p:spPr>
            <a:xfrm>
              <a:off x="1355760" y="5514840"/>
              <a:ext cx="6400800" cy="6858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99600" y="5589360"/>
              <a:ext cx="48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roadband Modem Physical Lay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355760" y="4702320"/>
            <a:ext cx="6400800" cy="685800"/>
            <a:chOff x="1355760" y="4702320"/>
            <a:chExt cx="6400800" cy="685800"/>
          </a:xfrm>
        </p:grpSpPr>
        <p:sp>
          <p:nvSpPr>
            <p:cNvPr id="103" name=""/>
            <p:cNvSpPr/>
            <p:nvPr/>
          </p:nvSpPr>
          <p:spPr>
            <a:xfrm>
              <a:off x="1355760" y="4702320"/>
              <a:ext cx="6400800" cy="685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35880" y="477684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a Access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341360" y="3544920"/>
            <a:ext cx="6400800" cy="685800"/>
            <a:chOff x="1341360" y="3544920"/>
            <a:chExt cx="6400800" cy="685800"/>
          </a:xfrm>
        </p:grpSpPr>
        <p:sp>
          <p:nvSpPr>
            <p:cNvPr id="106" name=""/>
            <p:cNvSpPr/>
            <p:nvPr/>
          </p:nvSpPr>
          <p:spPr>
            <a:xfrm>
              <a:off x="1341360" y="3544920"/>
              <a:ext cx="6400800" cy="6858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23880" y="3619440"/>
              <a:ext cx="24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ternet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341360" y="2752560"/>
            <a:ext cx="6400800" cy="685800"/>
            <a:chOff x="1341360" y="2752560"/>
            <a:chExt cx="6400800" cy="685800"/>
          </a:xfrm>
        </p:grpSpPr>
        <p:sp>
          <p:nvSpPr>
            <p:cNvPr id="109" name=""/>
            <p:cNvSpPr/>
            <p:nvPr/>
          </p:nvSpPr>
          <p:spPr>
            <a:xfrm>
              <a:off x="1341360" y="2752560"/>
              <a:ext cx="6400800" cy="68580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45520" y="2827440"/>
              <a:ext cx="319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PCablecom Protoc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341360" y="1297080"/>
            <a:ext cx="6400800" cy="914400"/>
            <a:chOff x="1341360" y="1297080"/>
            <a:chExt cx="6400800" cy="914400"/>
          </a:xfrm>
        </p:grpSpPr>
        <p:grpSp>
          <p:nvGrpSpPr>
            <p:cNvPr id="112" name=""/>
            <p:cNvGrpSpPr/>
            <p:nvPr/>
          </p:nvGrpSpPr>
          <p:grpSpPr>
            <a:xfrm>
              <a:off x="1341360" y="1297080"/>
              <a:ext cx="2971800" cy="914400"/>
              <a:chOff x="1341360" y="1297080"/>
              <a:chExt cx="2971800" cy="914400"/>
            </a:xfrm>
          </p:grpSpPr>
          <p:sp>
            <p:nvSpPr>
              <p:cNvPr id="113" name=""/>
              <p:cNvSpPr/>
              <p:nvPr/>
            </p:nvSpPr>
            <p:spPr>
              <a:xfrm>
                <a:off x="1341360" y="1297080"/>
                <a:ext cx="2971800" cy="91440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03360" y="1370160"/>
                <a:ext cx="279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oice/Video Telephon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ferenc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4770360" y="1297080"/>
              <a:ext cx="2971800" cy="914400"/>
              <a:chOff x="4770360" y="1297080"/>
              <a:chExt cx="2971800" cy="914400"/>
            </a:xfrm>
          </p:grpSpPr>
          <p:sp>
            <p:nvSpPr>
              <p:cNvPr id="116" name=""/>
              <p:cNvSpPr/>
              <p:nvPr/>
            </p:nvSpPr>
            <p:spPr>
              <a:xfrm>
                <a:off x="4770360" y="1297080"/>
                <a:ext cx="2971800" cy="91440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79200" y="1370160"/>
                <a:ext cx="1553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ideo/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3772080" y="4122720"/>
            <a:ext cx="15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J.1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06520" y="2182680"/>
            <a:ext cx="45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IPCable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55600" y="2471760"/>
            <a:ext cx="2081160" cy="1754280"/>
          </a:xfrm>
          <a:custGeom>
            <a:avLst/>
            <a:gdLst/>
            <a:ahLst/>
            <a:rect l="l" t="t" r="r" b="b"/>
            <a:pathLst>
              <a:path w="736" h="1105">
                <a:moveTo>
                  <a:pt x="0" y="1105"/>
                </a:moveTo>
                <a:lnTo>
                  <a:pt x="0" y="0"/>
                </a:lnTo>
                <a:lnTo>
                  <a:pt x="736" y="0"/>
                </a:ln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910120" y="2489040"/>
            <a:ext cx="2036880" cy="1754280"/>
          </a:xfrm>
          <a:custGeom>
            <a:avLst/>
            <a:gdLst/>
            <a:ahLst/>
            <a:rect l="l" t="t" r="r" b="b"/>
            <a:pathLst>
              <a:path w="736" h="1105">
                <a:moveTo>
                  <a:pt x="0" y="1105"/>
                </a:moveTo>
                <a:lnTo>
                  <a:pt x="0" y="0"/>
                </a:lnTo>
                <a:lnTo>
                  <a:pt x="736" y="0"/>
                </a:ln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7520" y="3392640"/>
            <a:ext cx="487440" cy="1014120"/>
          </a:xfrm>
          <a:prstGeom prst="upArrow">
            <a:avLst>
              <a:gd name="adj1" fmla="val 50000"/>
              <a:gd name="adj2" fmla="val 52013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80040" y="3421080"/>
            <a:ext cx="487440" cy="1014480"/>
          </a:xfrm>
          <a:prstGeom prst="upArrow">
            <a:avLst>
              <a:gd name="adj1" fmla="val 50000"/>
              <a:gd name="adj2" fmla="val 5203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1560" y="4427640"/>
            <a:ext cx="6805440" cy="1963800"/>
          </a:xfrm>
          <a:custGeom>
            <a:avLst/>
            <a:gdLst/>
            <a:ahLst/>
            <a:rect l="l" t="t" r="r" b="b"/>
            <a:pathLst>
              <a:path w="4287" h="1237">
                <a:moveTo>
                  <a:pt x="1407" y="0"/>
                </a:moveTo>
                <a:lnTo>
                  <a:pt x="0" y="0"/>
                </a:lnTo>
                <a:lnTo>
                  <a:pt x="0" y="1237"/>
                </a:lnTo>
                <a:lnTo>
                  <a:pt x="4287" y="1228"/>
                </a:lnTo>
                <a:lnTo>
                  <a:pt x="4287" y="0"/>
                </a:lnTo>
                <a:lnTo>
                  <a:pt x="2937" y="0"/>
                </a:ln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411960" y="3673440"/>
            <a:ext cx="2283120" cy="1119960"/>
            <a:chOff x="6411960" y="3673440"/>
            <a:chExt cx="2283120" cy="1119960"/>
          </a:xfrm>
        </p:grpSpPr>
        <p:grpSp>
          <p:nvGrpSpPr>
            <p:cNvPr id="126" name=""/>
            <p:cNvGrpSpPr/>
            <p:nvPr/>
          </p:nvGrpSpPr>
          <p:grpSpPr>
            <a:xfrm>
              <a:off x="6444000" y="3714120"/>
              <a:ext cx="2251080" cy="1079280"/>
              <a:chOff x="6444000" y="3714120"/>
              <a:chExt cx="2251080" cy="1079280"/>
            </a:xfrm>
          </p:grpSpPr>
          <p:sp>
            <p:nvSpPr>
              <p:cNvPr id="127" name=""/>
              <p:cNvSpPr/>
              <p:nvPr/>
            </p:nvSpPr>
            <p:spPr>
              <a:xfrm>
                <a:off x="7223760" y="3714120"/>
                <a:ext cx="964440" cy="4363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82680" y="3823200"/>
                <a:ext cx="725760" cy="4507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4000" y="4097520"/>
                <a:ext cx="491760" cy="3549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96280" y="4274280"/>
                <a:ext cx="745200" cy="3834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37720" y="4328640"/>
                <a:ext cx="1134360" cy="4647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66000" y="3835800"/>
                <a:ext cx="711000" cy="3427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4080" y="4069080"/>
                <a:ext cx="711000" cy="3427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7480" y="4150440"/>
                <a:ext cx="694080" cy="5616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50080" y="3973680"/>
                <a:ext cx="1455840" cy="5742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411960" y="3673440"/>
              <a:ext cx="2231640" cy="1093680"/>
              <a:chOff x="6411960" y="3673440"/>
              <a:chExt cx="2231640" cy="1093680"/>
            </a:xfrm>
          </p:grpSpPr>
          <p:sp>
            <p:nvSpPr>
              <p:cNvPr id="137" name=""/>
              <p:cNvSpPr/>
              <p:nvPr/>
            </p:nvSpPr>
            <p:spPr>
              <a:xfrm>
                <a:off x="7189200" y="3673440"/>
                <a:ext cx="947520" cy="4366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648120" y="3795480"/>
                <a:ext cx="728280" cy="4377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411960" y="4069080"/>
                <a:ext cx="489600" cy="3549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564240" y="4233600"/>
                <a:ext cx="743400" cy="3834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05680" y="4302360"/>
                <a:ext cx="1114920" cy="4647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1800" y="3809520"/>
                <a:ext cx="710640" cy="3409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932600" y="4042800"/>
                <a:ext cx="711000" cy="3409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866000" y="4110120"/>
                <a:ext cx="711000" cy="5742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17680" y="3933360"/>
                <a:ext cx="1454400" cy="5742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861840" y="2114640"/>
            <a:ext cx="8071560" cy="2076120"/>
            <a:chOff x="861840" y="2114640"/>
            <a:chExt cx="8071560" cy="2076120"/>
          </a:xfrm>
        </p:grpSpPr>
        <p:sp>
          <p:nvSpPr>
            <p:cNvPr id="147" name=""/>
            <p:cNvSpPr/>
            <p:nvPr/>
          </p:nvSpPr>
          <p:spPr>
            <a:xfrm flipH="1" flipV="1">
              <a:off x="1447920" y="3962160"/>
              <a:ext cx="736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PHONE" descr=""/>
            <p:cNvPicPr/>
            <p:nvPr/>
          </p:nvPicPr>
          <p:blipFill>
            <a:blip r:embed="rId1"/>
            <a:stretch/>
          </p:blipFill>
          <p:spPr>
            <a:xfrm>
              <a:off x="861840" y="3516480"/>
              <a:ext cx="68580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B_OEQ128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074000" y="2908440"/>
              <a:ext cx="4078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B_OEQ128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7226280" y="3060720"/>
              <a:ext cx="407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B_OEQ128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7378560" y="3213000"/>
              <a:ext cx="4082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820920" y="2114640"/>
              <a:ext cx="163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Arial"/>
                </a:rPr>
                <a:t>IPCable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Arial"/>
                </a:rPr>
                <a:t>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696080" y="3416040"/>
              <a:ext cx="406440" cy="1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74440" y="321948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4"/>
                  </a:solidFill>
                  <a:latin typeface="Arial"/>
                </a:rPr>
                <a:t>PST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How it Works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3863880" y="3932280"/>
            <a:ext cx="1374840" cy="547560"/>
          </a:xfrm>
          <a:prstGeom prst="ellipse">
            <a:avLst/>
          </a:prstGeom>
          <a:solidFill>
            <a:srgbClr val="33cc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17760" y="400536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H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200560" y="3921120"/>
            <a:ext cx="885960" cy="574560"/>
          </a:xfrm>
          <a:prstGeom prst="rect">
            <a:avLst/>
          </a:prstGeom>
          <a:ln w="0">
            <a:noFill/>
          </a:ln>
        </p:spPr>
      </p:pic>
      <p:pic>
        <p:nvPicPr>
          <p:cNvPr id="159" name="COMP1" descr=""/>
          <p:cNvPicPr/>
          <p:nvPr/>
        </p:nvPicPr>
        <p:blipFill>
          <a:blip r:embed="rId6"/>
          <a:stretch/>
        </p:blipFill>
        <p:spPr>
          <a:xfrm>
            <a:off x="227160" y="4178160"/>
            <a:ext cx="13554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2106720" y="3976560"/>
            <a:ext cx="982440" cy="360360"/>
            <a:chOff x="2106720" y="3976560"/>
            <a:chExt cx="982440" cy="360360"/>
          </a:xfrm>
        </p:grpSpPr>
        <p:sp>
          <p:nvSpPr>
            <p:cNvPr id="161" name=""/>
            <p:cNvSpPr/>
            <p:nvPr/>
          </p:nvSpPr>
          <p:spPr>
            <a:xfrm>
              <a:off x="2367720" y="4071600"/>
              <a:ext cx="721440" cy="265320"/>
            </a:xfrm>
            <a:custGeom>
              <a:avLst/>
              <a:gdLst/>
              <a:ahLst/>
              <a:rect l="l" t="t" r="r" b="b"/>
              <a:pathLst>
                <a:path w="2597" h="665">
                  <a:moveTo>
                    <a:pt x="0" y="665"/>
                  </a:moveTo>
                  <a:lnTo>
                    <a:pt x="0" y="131"/>
                  </a:lnTo>
                  <a:lnTo>
                    <a:pt x="2597" y="0"/>
                  </a:lnTo>
                  <a:lnTo>
                    <a:pt x="2597" y="535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3760" y="4071600"/>
              <a:ext cx="721440" cy="265320"/>
            </a:xfrm>
            <a:custGeom>
              <a:avLst/>
              <a:gdLst/>
              <a:ahLst/>
              <a:rect l="l" t="t" r="r" b="b"/>
              <a:pathLst>
                <a:path w="2597" h="665">
                  <a:moveTo>
                    <a:pt x="0" y="665"/>
                  </a:moveTo>
                  <a:lnTo>
                    <a:pt x="0" y="131"/>
                  </a:lnTo>
                  <a:lnTo>
                    <a:pt x="2597" y="0"/>
                  </a:lnTo>
                  <a:lnTo>
                    <a:pt x="2597" y="535"/>
                  </a:lnTo>
                  <a:lnTo>
                    <a:pt x="0" y="6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06720" y="4024080"/>
              <a:ext cx="257040" cy="312480"/>
            </a:xfrm>
            <a:custGeom>
              <a:avLst/>
              <a:gdLst/>
              <a:ahLst/>
              <a:rect l="l" t="t" r="r" b="b"/>
              <a:pathLst>
                <a:path w="925" h="781">
                  <a:moveTo>
                    <a:pt x="925" y="781"/>
                  </a:moveTo>
                  <a:lnTo>
                    <a:pt x="925" y="247"/>
                  </a:lnTo>
                  <a:lnTo>
                    <a:pt x="0" y="0"/>
                  </a:lnTo>
                  <a:lnTo>
                    <a:pt x="0" y="510"/>
                  </a:lnTo>
                  <a:lnTo>
                    <a:pt x="925" y="78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06720" y="4024080"/>
              <a:ext cx="257040" cy="312480"/>
            </a:xfrm>
            <a:custGeom>
              <a:avLst/>
              <a:gdLst/>
              <a:ahLst/>
              <a:rect l="l" t="t" r="r" b="b"/>
              <a:pathLst>
                <a:path w="925" h="781">
                  <a:moveTo>
                    <a:pt x="925" y="781"/>
                  </a:moveTo>
                  <a:lnTo>
                    <a:pt x="925" y="247"/>
                  </a:lnTo>
                  <a:lnTo>
                    <a:pt x="0" y="0"/>
                  </a:lnTo>
                  <a:lnTo>
                    <a:pt x="0" y="510"/>
                  </a:lnTo>
                  <a:lnTo>
                    <a:pt x="925" y="7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06720" y="3976560"/>
              <a:ext cx="978480" cy="146880"/>
            </a:xfrm>
            <a:custGeom>
              <a:avLst/>
              <a:gdLst/>
              <a:ahLst/>
              <a:rect l="l" t="t" r="r" b="b"/>
              <a:pathLst>
                <a:path w="3522" h="368">
                  <a:moveTo>
                    <a:pt x="925" y="368"/>
                  </a:moveTo>
                  <a:lnTo>
                    <a:pt x="3522" y="237"/>
                  </a:lnTo>
                  <a:lnTo>
                    <a:pt x="2389" y="0"/>
                  </a:lnTo>
                  <a:lnTo>
                    <a:pt x="0" y="121"/>
                  </a:lnTo>
                  <a:lnTo>
                    <a:pt x="925" y="368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06720" y="3976560"/>
              <a:ext cx="978480" cy="146880"/>
            </a:xfrm>
            <a:custGeom>
              <a:avLst/>
              <a:gdLst/>
              <a:ahLst/>
              <a:rect l="l" t="t" r="r" b="b"/>
              <a:pathLst>
                <a:path w="3522" h="368">
                  <a:moveTo>
                    <a:pt x="925" y="368"/>
                  </a:moveTo>
                  <a:lnTo>
                    <a:pt x="3522" y="237"/>
                  </a:lnTo>
                  <a:lnTo>
                    <a:pt x="2389" y="0"/>
                  </a:lnTo>
                  <a:lnTo>
                    <a:pt x="0" y="121"/>
                  </a:lnTo>
                  <a:lnTo>
                    <a:pt x="925" y="3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3760" y="4071600"/>
              <a:ext cx="721440" cy="177120"/>
            </a:xfrm>
            <a:custGeom>
              <a:avLst/>
              <a:gdLst/>
              <a:ahLst/>
              <a:rect l="l" t="t" r="r" b="b"/>
              <a:pathLst>
                <a:path w="2597" h="445">
                  <a:moveTo>
                    <a:pt x="0" y="445"/>
                  </a:moveTo>
                  <a:lnTo>
                    <a:pt x="0" y="131"/>
                  </a:lnTo>
                  <a:lnTo>
                    <a:pt x="2597" y="0"/>
                  </a:lnTo>
                  <a:lnTo>
                    <a:pt x="2597" y="316"/>
                  </a:lnTo>
                  <a:lnTo>
                    <a:pt x="0" y="4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8440" y="4128840"/>
              <a:ext cx="2520" cy="111600"/>
            </a:xfrm>
            <a:custGeom>
              <a:avLst/>
              <a:gdLst/>
              <a:ahLst/>
              <a:rect l="l" t="t" r="r" b="b"/>
              <a:pathLst>
                <a:path w="10" h="278">
                  <a:moveTo>
                    <a:pt x="5" y="0"/>
                  </a:moveTo>
                  <a:lnTo>
                    <a:pt x="0" y="4"/>
                  </a:lnTo>
                  <a:lnTo>
                    <a:pt x="0" y="278"/>
                  </a:lnTo>
                  <a:lnTo>
                    <a:pt x="10" y="278"/>
                  </a:lnTo>
                  <a:lnTo>
                    <a:pt x="10" y="4"/>
                  </a:lnTo>
                  <a:lnTo>
                    <a:pt x="5" y="9"/>
                  </a:lnTo>
                  <a:lnTo>
                    <a:pt x="10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9880" y="4077720"/>
              <a:ext cx="710280" cy="55080"/>
            </a:xfrm>
            <a:custGeom>
              <a:avLst/>
              <a:gdLst/>
              <a:ahLst/>
              <a:rect l="l" t="t" r="r" b="b"/>
              <a:pathLst>
                <a:path w="2558" h="137">
                  <a:moveTo>
                    <a:pt x="2558" y="4"/>
                  </a:moveTo>
                  <a:lnTo>
                    <a:pt x="2553" y="0"/>
                  </a:lnTo>
                  <a:lnTo>
                    <a:pt x="0" y="128"/>
                  </a:lnTo>
                  <a:lnTo>
                    <a:pt x="0" y="137"/>
                  </a:lnTo>
                  <a:lnTo>
                    <a:pt x="2553" y="9"/>
                  </a:lnTo>
                  <a:lnTo>
                    <a:pt x="2549" y="4"/>
                  </a:lnTo>
                  <a:lnTo>
                    <a:pt x="2553" y="9"/>
                  </a:lnTo>
                  <a:lnTo>
                    <a:pt x="2557" y="8"/>
                  </a:lnTo>
                  <a:lnTo>
                    <a:pt x="2558" y="4"/>
                  </a:lnTo>
                  <a:lnTo>
                    <a:pt x="2557" y="1"/>
                  </a:lnTo>
                  <a:lnTo>
                    <a:pt x="2553" y="0"/>
                  </a:lnTo>
                  <a:lnTo>
                    <a:pt x="25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8000" y="4080240"/>
              <a:ext cx="2160" cy="110880"/>
            </a:xfrm>
            <a:custGeom>
              <a:avLst/>
              <a:gdLst/>
              <a:ahLst/>
              <a:rect l="l" t="t" r="r" b="b"/>
              <a:pathLst>
                <a:path w="9" h="279">
                  <a:moveTo>
                    <a:pt x="4" y="279"/>
                  </a:moveTo>
                  <a:lnTo>
                    <a:pt x="9" y="27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4"/>
                  </a:lnTo>
                  <a:lnTo>
                    <a:pt x="4" y="270"/>
                  </a:lnTo>
                  <a:lnTo>
                    <a:pt x="0" y="274"/>
                  </a:lnTo>
                  <a:lnTo>
                    <a:pt x="1" y="278"/>
                  </a:lnTo>
                  <a:lnTo>
                    <a:pt x="4" y="279"/>
                  </a:lnTo>
                  <a:lnTo>
                    <a:pt x="8" y="278"/>
                  </a:lnTo>
                  <a:lnTo>
                    <a:pt x="9" y="274"/>
                  </a:lnTo>
                  <a:lnTo>
                    <a:pt x="4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8440" y="4187520"/>
              <a:ext cx="710640" cy="55080"/>
            </a:xfrm>
            <a:custGeom>
              <a:avLst/>
              <a:gdLst/>
              <a:ahLst/>
              <a:rect l="l" t="t" r="r" b="b"/>
              <a:pathLst>
                <a:path w="2558" h="137">
                  <a:moveTo>
                    <a:pt x="0" y="132"/>
                  </a:moveTo>
                  <a:lnTo>
                    <a:pt x="5" y="137"/>
                  </a:lnTo>
                  <a:lnTo>
                    <a:pt x="2558" y="9"/>
                  </a:lnTo>
                  <a:lnTo>
                    <a:pt x="2558" y="0"/>
                  </a:lnTo>
                  <a:lnTo>
                    <a:pt x="5" y="128"/>
                  </a:lnTo>
                  <a:lnTo>
                    <a:pt x="10" y="132"/>
                  </a:lnTo>
                  <a:lnTo>
                    <a:pt x="5" y="128"/>
                  </a:lnTo>
                  <a:lnTo>
                    <a:pt x="2" y="129"/>
                  </a:lnTo>
                  <a:lnTo>
                    <a:pt x="0" y="132"/>
                  </a:lnTo>
                  <a:lnTo>
                    <a:pt x="2" y="136"/>
                  </a:lnTo>
                  <a:lnTo>
                    <a:pt x="5" y="137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3760" y="4197600"/>
              <a:ext cx="721440" cy="76680"/>
            </a:xfrm>
            <a:custGeom>
              <a:avLst/>
              <a:gdLst/>
              <a:ahLst/>
              <a:rect l="l" t="t" r="r" b="b"/>
              <a:pathLst>
                <a:path w="2597" h="192">
                  <a:moveTo>
                    <a:pt x="0" y="192"/>
                  </a:moveTo>
                  <a:lnTo>
                    <a:pt x="0" y="129"/>
                  </a:lnTo>
                  <a:lnTo>
                    <a:pt x="2597" y="0"/>
                  </a:lnTo>
                  <a:lnTo>
                    <a:pt x="2597" y="6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3400" y="4229640"/>
              <a:ext cx="721440" cy="76320"/>
            </a:xfrm>
            <a:custGeom>
              <a:avLst/>
              <a:gdLst/>
              <a:ahLst/>
              <a:rect l="l" t="t" r="r" b="b"/>
              <a:pathLst>
                <a:path w="2597" h="192">
                  <a:moveTo>
                    <a:pt x="0" y="192"/>
                  </a:moveTo>
                  <a:lnTo>
                    <a:pt x="0" y="129"/>
                  </a:lnTo>
                  <a:lnTo>
                    <a:pt x="2597" y="0"/>
                  </a:lnTo>
                  <a:lnTo>
                    <a:pt x="2597" y="62"/>
                  </a:lnTo>
                  <a:lnTo>
                    <a:pt x="0" y="1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2720" y="4116960"/>
              <a:ext cx="21960" cy="1404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79" y="30"/>
                  </a:moveTo>
                  <a:lnTo>
                    <a:pt x="79" y="0"/>
                  </a:lnTo>
                  <a:lnTo>
                    <a:pt x="0" y="4"/>
                  </a:lnTo>
                  <a:lnTo>
                    <a:pt x="0" y="34"/>
                  </a:lnTo>
                  <a:lnTo>
                    <a:pt x="79" y="3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2720" y="4116960"/>
              <a:ext cx="21960" cy="1404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79" y="30"/>
                  </a:moveTo>
                  <a:lnTo>
                    <a:pt x="79" y="0"/>
                  </a:lnTo>
                  <a:lnTo>
                    <a:pt x="0" y="4"/>
                  </a:lnTo>
                  <a:lnTo>
                    <a:pt x="0" y="34"/>
                  </a:lnTo>
                  <a:lnTo>
                    <a:pt x="79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0200" y="4116240"/>
              <a:ext cx="24120" cy="28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4"/>
                  </a:moveTo>
                  <a:lnTo>
                    <a:pt x="79" y="0"/>
                  </a:lnTo>
                  <a:lnTo>
                    <a:pt x="0" y="4"/>
                  </a:lnTo>
                  <a:lnTo>
                    <a:pt x="7" y="8"/>
                  </a:lnTo>
                  <a:lnTo>
                    <a:pt x="8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0200" y="4116240"/>
              <a:ext cx="24120" cy="288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4"/>
                  </a:moveTo>
                  <a:lnTo>
                    <a:pt x="79" y="0"/>
                  </a:lnTo>
                  <a:lnTo>
                    <a:pt x="0" y="4"/>
                  </a:lnTo>
                  <a:lnTo>
                    <a:pt x="7" y="8"/>
                  </a:lnTo>
                  <a:lnTo>
                    <a:pt x="86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0200" y="4116960"/>
              <a:ext cx="2160" cy="1404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7" y="4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0200" y="4116960"/>
              <a:ext cx="2160" cy="14040"/>
            </a:xfrm>
            <a:custGeom>
              <a:avLst/>
              <a:gdLst/>
              <a:ahLst/>
              <a:rect l="l" t="t" r="r" b="b"/>
              <a:pathLst>
                <a:path w="7" h="34">
                  <a:moveTo>
                    <a:pt x="7" y="4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4"/>
                  </a:lnTo>
                  <a:lnTo>
                    <a:pt x="7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2720" y="4152960"/>
              <a:ext cx="21960" cy="1440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79" y="30"/>
                  </a:moveTo>
                  <a:lnTo>
                    <a:pt x="79" y="0"/>
                  </a:lnTo>
                  <a:lnTo>
                    <a:pt x="0" y="5"/>
                  </a:lnTo>
                  <a:lnTo>
                    <a:pt x="0" y="35"/>
                  </a:lnTo>
                  <a:lnTo>
                    <a:pt x="79" y="3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2720" y="4152960"/>
              <a:ext cx="21960" cy="1440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79" y="30"/>
                  </a:moveTo>
                  <a:lnTo>
                    <a:pt x="79" y="0"/>
                  </a:lnTo>
                  <a:lnTo>
                    <a:pt x="0" y="5"/>
                  </a:lnTo>
                  <a:lnTo>
                    <a:pt x="0" y="35"/>
                  </a:lnTo>
                  <a:lnTo>
                    <a:pt x="79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0200" y="4151520"/>
              <a:ext cx="24120" cy="396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3"/>
                  </a:moveTo>
                  <a:lnTo>
                    <a:pt x="79" y="0"/>
                  </a:lnTo>
                  <a:lnTo>
                    <a:pt x="0" y="3"/>
                  </a:lnTo>
                  <a:lnTo>
                    <a:pt x="7" y="8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0200" y="4151520"/>
              <a:ext cx="24120" cy="396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86" y="3"/>
                  </a:moveTo>
                  <a:lnTo>
                    <a:pt x="79" y="0"/>
                  </a:lnTo>
                  <a:lnTo>
                    <a:pt x="0" y="3"/>
                  </a:lnTo>
                  <a:lnTo>
                    <a:pt x="7" y="8"/>
                  </a:lnTo>
                  <a:lnTo>
                    <a:pt x="86" y="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40200" y="4152960"/>
              <a:ext cx="2160" cy="1440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7" y="5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0200" y="4152960"/>
              <a:ext cx="2160" cy="14400"/>
            </a:xfrm>
            <a:custGeom>
              <a:avLst/>
              <a:gdLst/>
              <a:ahLst/>
              <a:rect l="l" t="t" r="r" b="b"/>
              <a:pathLst>
                <a:path w="7" h="35">
                  <a:moveTo>
                    <a:pt x="7" y="5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7" y="35"/>
                  </a:lnTo>
                  <a:lnTo>
                    <a:pt x="7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17520" y="4121640"/>
              <a:ext cx="1080" cy="45360"/>
            </a:xfrm>
            <a:custGeom>
              <a:avLst/>
              <a:gdLst/>
              <a:ahLst/>
              <a:rect l="l" t="t" r="r" b="b"/>
              <a:pathLst>
                <a:path w="4" h="113">
                  <a:moveTo>
                    <a:pt x="0" y="11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4" y="11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17520" y="4121640"/>
              <a:ext cx="1080" cy="45360"/>
            </a:xfrm>
            <a:custGeom>
              <a:avLst/>
              <a:gdLst/>
              <a:ahLst/>
              <a:rect l="l" t="t" r="r" b="b"/>
              <a:pathLst>
                <a:path w="4" h="113">
                  <a:moveTo>
                    <a:pt x="0" y="110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4" y="113"/>
                  </a:lnTo>
                  <a:lnTo>
                    <a:pt x="0" y="1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23120" y="4165920"/>
              <a:ext cx="195480" cy="15120"/>
            </a:xfrm>
            <a:custGeom>
              <a:avLst/>
              <a:gdLst/>
              <a:ahLst/>
              <a:rect l="l" t="t" r="r" b="b"/>
              <a:pathLst>
                <a:path w="705" h="39">
                  <a:moveTo>
                    <a:pt x="705" y="3"/>
                  </a:moveTo>
                  <a:lnTo>
                    <a:pt x="0" y="39"/>
                  </a:lnTo>
                  <a:lnTo>
                    <a:pt x="0" y="34"/>
                  </a:lnTo>
                  <a:lnTo>
                    <a:pt x="701" y="0"/>
                  </a:lnTo>
                  <a:lnTo>
                    <a:pt x="705" y="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36880" y="4162680"/>
              <a:ext cx="3240" cy="468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5"/>
                  </a:moveTo>
                  <a:lnTo>
                    <a:pt x="4" y="10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4" y="1"/>
                  </a:lnTo>
                  <a:lnTo>
                    <a:pt x="9" y="5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36880" y="4149720"/>
              <a:ext cx="2520" cy="15120"/>
            </a:xfrm>
            <a:custGeom>
              <a:avLst/>
              <a:gdLst/>
              <a:ahLst/>
              <a:rect l="l" t="t" r="r" b="b"/>
              <a:pathLst>
                <a:path w="9" h="38">
                  <a:moveTo>
                    <a:pt x="4" y="10"/>
                  </a:moveTo>
                  <a:lnTo>
                    <a:pt x="0" y="5"/>
                  </a:lnTo>
                  <a:lnTo>
                    <a:pt x="0" y="38"/>
                  </a:lnTo>
                  <a:lnTo>
                    <a:pt x="9" y="38"/>
                  </a:lnTo>
                  <a:lnTo>
                    <a:pt x="9" y="5"/>
                  </a:lnTo>
                  <a:lnTo>
                    <a:pt x="4" y="0"/>
                  </a:lnTo>
                  <a:lnTo>
                    <a:pt x="9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34000" y="4149720"/>
              <a:ext cx="4320" cy="3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5"/>
                  </a:moveTo>
                  <a:lnTo>
                    <a:pt x="5" y="10"/>
                  </a:lnTo>
                  <a:lnTo>
                    <a:pt x="15" y="10"/>
                  </a:lnTo>
                  <a:lnTo>
                    <a:pt x="15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34000" y="4148280"/>
              <a:ext cx="2520" cy="3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5" y="9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35440" y="4144320"/>
              <a:ext cx="4680" cy="72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2" y="0"/>
                  </a:moveTo>
                  <a:lnTo>
                    <a:pt x="8" y="3"/>
                  </a:lnTo>
                  <a:lnTo>
                    <a:pt x="7" y="6"/>
                  </a:lnTo>
                  <a:lnTo>
                    <a:pt x="6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4" y="11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39040" y="4144320"/>
              <a:ext cx="1800" cy="3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9"/>
                  </a:lnTo>
                  <a:lnTo>
                    <a:pt x="9" y="8"/>
                  </a:lnTo>
                  <a:lnTo>
                    <a:pt x="10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9040" y="4146480"/>
              <a:ext cx="1800" cy="1980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5" y="51"/>
                  </a:moveTo>
                  <a:lnTo>
                    <a:pt x="10" y="4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5" y="42"/>
                  </a:lnTo>
                  <a:lnTo>
                    <a:pt x="0" y="46"/>
                  </a:lnTo>
                  <a:lnTo>
                    <a:pt x="2" y="50"/>
                  </a:lnTo>
                  <a:lnTo>
                    <a:pt x="5" y="51"/>
                  </a:lnTo>
                  <a:lnTo>
                    <a:pt x="9" y="50"/>
                  </a:lnTo>
                  <a:lnTo>
                    <a:pt x="10" y="46"/>
                  </a:lnTo>
                  <a:lnTo>
                    <a:pt x="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43720" y="4143240"/>
              <a:ext cx="5400" cy="9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0"/>
                  </a:moveTo>
                  <a:lnTo>
                    <a:pt x="20" y="0"/>
                  </a:lnTo>
                  <a:lnTo>
                    <a:pt x="15" y="1"/>
                  </a:lnTo>
                  <a:lnTo>
                    <a:pt x="8" y="5"/>
                  </a:lnTo>
                  <a:lnTo>
                    <a:pt x="1" y="13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49120" y="4143240"/>
              <a:ext cx="5040" cy="7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lnTo>
                    <a:pt x="19" y="19"/>
                  </a:lnTo>
                  <a:lnTo>
                    <a:pt x="18" y="12"/>
                  </a:lnTo>
                  <a:lnTo>
                    <a:pt x="14" y="5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11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49120" y="4150440"/>
              <a:ext cx="5040" cy="86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5" y="19"/>
                  </a:moveTo>
                  <a:lnTo>
                    <a:pt x="5" y="20"/>
                  </a:lnTo>
                  <a:lnTo>
                    <a:pt x="9" y="17"/>
                  </a:lnTo>
                  <a:lnTo>
                    <a:pt x="15" y="11"/>
                  </a:lnTo>
                  <a:lnTo>
                    <a:pt x="19" y="7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9" y="4"/>
                  </a:lnTo>
                  <a:lnTo>
                    <a:pt x="8" y="7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46960" y="4156200"/>
              <a:ext cx="3240" cy="39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7" y="11"/>
                  </a:moveTo>
                  <a:lnTo>
                    <a:pt x="7" y="11"/>
                  </a:lnTo>
                  <a:lnTo>
                    <a:pt x="12" y="7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4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44800" y="4156920"/>
              <a:ext cx="4320" cy="720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5" y="8"/>
                  </a:moveTo>
                  <a:lnTo>
                    <a:pt x="9" y="12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1" y="0"/>
                  </a:lnTo>
                  <a:lnTo>
                    <a:pt x="7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2"/>
                  </a:lnTo>
                  <a:lnTo>
                    <a:pt x="5" y="1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45880" y="4160160"/>
              <a:ext cx="8280" cy="396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30" y="4"/>
                  </a:moveTo>
                  <a:lnTo>
                    <a:pt x="25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25" y="9"/>
                  </a:lnTo>
                  <a:lnTo>
                    <a:pt x="21" y="4"/>
                  </a:lnTo>
                  <a:lnTo>
                    <a:pt x="25" y="9"/>
                  </a:lnTo>
                  <a:lnTo>
                    <a:pt x="29" y="8"/>
                  </a:lnTo>
                  <a:lnTo>
                    <a:pt x="30" y="4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52000" y="4161960"/>
              <a:ext cx="2160" cy="3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0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8" y="8"/>
                  </a:lnTo>
                  <a:lnTo>
                    <a:pt x="9" y="5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3000" y="4161960"/>
              <a:ext cx="10080" cy="46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7"/>
                  </a:moveTo>
                  <a:lnTo>
                    <a:pt x="5" y="12"/>
                  </a:lnTo>
                  <a:lnTo>
                    <a:pt x="36" y="10"/>
                  </a:lnTo>
                  <a:lnTo>
                    <a:pt x="36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5" y="3"/>
                  </a:lnTo>
                  <a:lnTo>
                    <a:pt x="2" y="4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3000" y="4155480"/>
              <a:ext cx="5040" cy="9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3" y="0"/>
                  </a:moveTo>
                  <a:lnTo>
                    <a:pt x="13" y="0"/>
                  </a:lnTo>
                  <a:lnTo>
                    <a:pt x="7" y="5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23"/>
                  </a:lnTo>
                  <a:lnTo>
                    <a:pt x="10" y="23"/>
                  </a:lnTo>
                  <a:lnTo>
                    <a:pt x="11" y="17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46960" y="4153680"/>
              <a:ext cx="3240" cy="468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6" y="0"/>
                  </a:moveTo>
                  <a:lnTo>
                    <a:pt x="6" y="0"/>
                  </a:lnTo>
                  <a:lnTo>
                    <a:pt x="0" y="3"/>
                  </a:lnTo>
                  <a:lnTo>
                    <a:pt x="5" y="10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2" y="1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48040" y="4150440"/>
              <a:ext cx="5040" cy="6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7" y="0"/>
                  </a:moveTo>
                  <a:lnTo>
                    <a:pt x="7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8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9"/>
                  </a:lnTo>
                  <a:lnTo>
                    <a:pt x="15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49120" y="4145760"/>
              <a:ext cx="3600" cy="4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9"/>
                  </a:moveTo>
                  <a:lnTo>
                    <a:pt x="0" y="9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14" y="13"/>
                  </a:lnTo>
                  <a:lnTo>
                    <a:pt x="14" y="9"/>
                  </a:lnTo>
                  <a:lnTo>
                    <a:pt x="11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45160" y="4145760"/>
              <a:ext cx="3600" cy="7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5" y="21"/>
                  </a:moveTo>
                  <a:lnTo>
                    <a:pt x="10" y="16"/>
                  </a:lnTo>
                  <a:lnTo>
                    <a:pt x="10" y="14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8" y="20"/>
                  </a:lnTo>
                  <a:lnTo>
                    <a:pt x="10" y="16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43720" y="4150440"/>
              <a:ext cx="2520" cy="39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4" y="10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4" y="1"/>
                  </a:lnTo>
                  <a:lnTo>
                    <a:pt x="9" y="5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9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54160" y="4161960"/>
              <a:ext cx="3240" cy="3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5"/>
                  </a:moveTo>
                  <a:lnTo>
                    <a:pt x="4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54160" y="4159440"/>
              <a:ext cx="252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0"/>
                  </a:moveTo>
                  <a:lnTo>
                    <a:pt x="0" y="5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9" y="5"/>
                  </a:lnTo>
                  <a:lnTo>
                    <a:pt x="4" y="10"/>
                  </a:lnTo>
                  <a:lnTo>
                    <a:pt x="9" y="5"/>
                  </a:lnTo>
                  <a:lnTo>
                    <a:pt x="8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55960" y="4159440"/>
              <a:ext cx="2520" cy="28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5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7" y="10"/>
                  </a:lnTo>
                  <a:lnTo>
                    <a:pt x="3" y="5"/>
                  </a:lnTo>
                  <a:lnTo>
                    <a:pt x="7" y="10"/>
                  </a:lnTo>
                  <a:lnTo>
                    <a:pt x="11" y="8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7" y="0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56320" y="4160880"/>
              <a:ext cx="2160" cy="46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9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9" y="7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4160" y="4150440"/>
              <a:ext cx="3240" cy="3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4"/>
                  </a:moveTo>
                  <a:lnTo>
                    <a:pt x="4" y="9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4" y="0"/>
                  </a:lnTo>
                  <a:lnTo>
                    <a:pt x="9" y="4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4160" y="4148280"/>
              <a:ext cx="2520" cy="46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9" y="11"/>
                  </a:lnTo>
                  <a:lnTo>
                    <a:pt x="9" y="4"/>
                  </a:lnTo>
                  <a:lnTo>
                    <a:pt x="4" y="9"/>
                  </a:lnTo>
                  <a:lnTo>
                    <a:pt x="9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55960" y="4148280"/>
              <a:ext cx="2520" cy="32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" y="9"/>
                  </a:lnTo>
                  <a:lnTo>
                    <a:pt x="3" y="4"/>
                  </a:lnTo>
                  <a:lnTo>
                    <a:pt x="7" y="9"/>
                  </a:lnTo>
                  <a:lnTo>
                    <a:pt x="11" y="8"/>
                  </a:lnTo>
                  <a:lnTo>
                    <a:pt x="12" y="4"/>
                  </a:lnTo>
                  <a:lnTo>
                    <a:pt x="11" y="1"/>
                  </a:lnTo>
                  <a:lnTo>
                    <a:pt x="7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6320" y="4149720"/>
              <a:ext cx="2160" cy="46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9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4" y="3"/>
                  </a:lnTo>
                  <a:lnTo>
                    <a:pt x="0" y="7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8" y="11"/>
                  </a:lnTo>
                  <a:lnTo>
                    <a:pt x="9" y="7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63520" y="4150440"/>
              <a:ext cx="360" cy="396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64240" y="4149720"/>
              <a:ext cx="3600" cy="46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3" y="0"/>
                  </a:moveTo>
                  <a:lnTo>
                    <a:pt x="3" y="0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64240" y="4145040"/>
              <a:ext cx="3600" cy="46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9"/>
                  </a:moveTo>
                  <a:lnTo>
                    <a:pt x="0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0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60280" y="4145040"/>
              <a:ext cx="3600" cy="79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4" y="19"/>
                  </a:moveTo>
                  <a:lnTo>
                    <a:pt x="9" y="15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8" y="1"/>
                  </a:lnTo>
                  <a:lnTo>
                    <a:pt x="2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58480" y="4149000"/>
              <a:ext cx="3240" cy="3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5"/>
                  </a:moveTo>
                  <a:lnTo>
                    <a:pt x="5" y="9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5" y="0"/>
                  </a:lnTo>
                  <a:lnTo>
                    <a:pt x="9" y="5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58480" y="4142520"/>
              <a:ext cx="5400" cy="79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20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9" y="21"/>
                  </a:lnTo>
                  <a:lnTo>
                    <a:pt x="9" y="15"/>
                  </a:lnTo>
                  <a:lnTo>
                    <a:pt x="10" y="13"/>
                  </a:lnTo>
                  <a:lnTo>
                    <a:pt x="13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64240" y="4142520"/>
              <a:ext cx="5400" cy="612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6"/>
                  </a:moveTo>
                  <a:lnTo>
                    <a:pt x="19" y="16"/>
                  </a:lnTo>
                  <a:lnTo>
                    <a:pt x="18" y="10"/>
                  </a:lnTo>
                  <a:lnTo>
                    <a:pt x="13" y="5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9"/>
                  </a:lnTo>
                  <a:lnTo>
                    <a:pt x="4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66400" y="4149000"/>
              <a:ext cx="3240" cy="648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3" y="6"/>
                  </a:moveTo>
                  <a:lnTo>
                    <a:pt x="3" y="15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2" y="5"/>
                  </a:lnTo>
                  <a:lnTo>
                    <a:pt x="13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65320" y="4151520"/>
              <a:ext cx="1440" cy="39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0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9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2" y="8"/>
                  </a:lnTo>
                  <a:lnTo>
                    <a:pt x="6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66400" y="4151520"/>
              <a:ext cx="3600" cy="54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14" y="15"/>
                  </a:lnTo>
                  <a:lnTo>
                    <a:pt x="13" y="10"/>
                  </a:lnTo>
                  <a:lnTo>
                    <a:pt x="11" y="6"/>
                  </a:lnTo>
                  <a:lnTo>
                    <a:pt x="7" y="2"/>
                  </a:lnTo>
                  <a:lnTo>
                    <a:pt x="3" y="0"/>
                  </a:lnTo>
                  <a:lnTo>
                    <a:pt x="0" y="9"/>
                  </a:lnTo>
                  <a:lnTo>
                    <a:pt x="3" y="9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64240" y="4156920"/>
              <a:ext cx="5760" cy="86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21"/>
                  </a:moveTo>
                  <a:lnTo>
                    <a:pt x="0" y="21"/>
                  </a:lnTo>
                  <a:lnTo>
                    <a:pt x="8" y="18"/>
                  </a:lnTo>
                  <a:lnTo>
                    <a:pt x="16" y="14"/>
                  </a:lnTo>
                  <a:lnTo>
                    <a:pt x="19" y="7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10" y="4"/>
                  </a:lnTo>
                  <a:lnTo>
                    <a:pt x="9" y="7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61000" y="4160880"/>
              <a:ext cx="3240" cy="46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9"/>
                  </a:moveTo>
                  <a:lnTo>
                    <a:pt x="0" y="9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58480" y="4156200"/>
              <a:ext cx="3600" cy="864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4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4" y="19"/>
                  </a:lnTo>
                  <a:lnTo>
                    <a:pt x="9" y="22"/>
                  </a:lnTo>
                  <a:lnTo>
                    <a:pt x="14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9" y="5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59920" y="4156200"/>
              <a:ext cx="2520" cy="32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5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2" y="5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1" y="5"/>
                  </a:lnTo>
                  <a:lnTo>
                    <a:pt x="10" y="2"/>
                  </a:lnTo>
                  <a:lnTo>
                    <a:pt x="6" y="0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60280" y="4158000"/>
              <a:ext cx="3600" cy="540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5"/>
                  </a:moveTo>
                  <a:lnTo>
                    <a:pt x="15" y="5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" y="8"/>
                  </a:lnTo>
                  <a:lnTo>
                    <a:pt x="8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64240" y="4158000"/>
              <a:ext cx="4320" cy="54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5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14"/>
                  </a:lnTo>
                  <a:lnTo>
                    <a:pt x="5" y="13"/>
                  </a:lnTo>
                  <a:lnTo>
                    <a:pt x="10" y="10"/>
                  </a:lnTo>
                  <a:lnTo>
                    <a:pt x="13" y="6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64240" y="4152960"/>
              <a:ext cx="4320" cy="468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16" y="13"/>
                  </a:lnTo>
                  <a:lnTo>
                    <a:pt x="15" y="6"/>
                  </a:lnTo>
                  <a:lnTo>
                    <a:pt x="11" y="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62080" y="4152960"/>
              <a:ext cx="2520" cy="3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2080" y="4150440"/>
              <a:ext cx="2520" cy="3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0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5" y="9"/>
                  </a:lnTo>
                  <a:lnTo>
                    <a:pt x="10" y="4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3960" y="4145040"/>
              <a:ext cx="2520" cy="3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7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" y="2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0360" y="4146480"/>
              <a:ext cx="6120" cy="11160"/>
            </a:xfrm>
            <a:custGeom>
              <a:avLst/>
              <a:gdLst/>
              <a:ahLst/>
              <a:rect l="l" t="t" r="r" b="b"/>
              <a:pathLst>
                <a:path w="22" h="29">
                  <a:moveTo>
                    <a:pt x="4" y="20"/>
                  </a:moveTo>
                  <a:lnTo>
                    <a:pt x="7" y="27"/>
                  </a:lnTo>
                  <a:lnTo>
                    <a:pt x="22" y="5"/>
                  </a:lnTo>
                  <a:lnTo>
                    <a:pt x="15" y="0"/>
                  </a:lnTo>
                  <a:lnTo>
                    <a:pt x="0" y="22"/>
                  </a:lnTo>
                  <a:lnTo>
                    <a:pt x="4" y="2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3" y="28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71440" y="4153680"/>
              <a:ext cx="5400" cy="396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4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5" y="9"/>
                  </a:lnTo>
                  <a:lnTo>
                    <a:pt x="10" y="4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73960" y="4156200"/>
              <a:ext cx="2520" cy="32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10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10"/>
                  </a:lnTo>
                  <a:lnTo>
                    <a:pt x="8" y="8"/>
                  </a:lnTo>
                  <a:lnTo>
                    <a:pt x="9" y="5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68560" y="4156200"/>
              <a:ext cx="6480" cy="396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6"/>
                  </a:moveTo>
                  <a:lnTo>
                    <a:pt x="4" y="11"/>
                  </a:lnTo>
                  <a:lnTo>
                    <a:pt x="24" y="10"/>
                  </a:lnTo>
                  <a:lnTo>
                    <a:pt x="24" y="0"/>
                  </a:lnTo>
                  <a:lnTo>
                    <a:pt x="4" y="2"/>
                  </a:lnTo>
                  <a:lnTo>
                    <a:pt x="9" y="6"/>
                  </a:lnTo>
                  <a:lnTo>
                    <a:pt x="4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4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68560" y="4153680"/>
              <a:ext cx="2520" cy="46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2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4"/>
                  </a:lnTo>
                  <a:lnTo>
                    <a:pt x="8" y="7"/>
                  </a:lnTo>
                  <a:lnTo>
                    <a:pt x="9" y="4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69280" y="4141800"/>
              <a:ext cx="7560" cy="1476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24" y="0"/>
                  </a:moveTo>
                  <a:lnTo>
                    <a:pt x="21" y="2"/>
                  </a:lnTo>
                  <a:lnTo>
                    <a:pt x="0" y="33"/>
                  </a:lnTo>
                  <a:lnTo>
                    <a:pt x="7" y="38"/>
                  </a:lnTo>
                  <a:lnTo>
                    <a:pt x="27" y="7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27" y="3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75760" y="4141800"/>
              <a:ext cx="2520" cy="2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9"/>
                  </a:lnTo>
                  <a:lnTo>
                    <a:pt x="0" y="4"/>
                  </a:lnTo>
                  <a:lnTo>
                    <a:pt x="5" y="9"/>
                  </a:lnTo>
                  <a:lnTo>
                    <a:pt x="8" y="8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75760" y="4143240"/>
              <a:ext cx="2520" cy="13320"/>
            </a:xfrm>
            <a:custGeom>
              <a:avLst/>
              <a:gdLst/>
              <a:ahLst/>
              <a:rect l="l" t="t" r="r" b="b"/>
              <a:pathLst>
                <a:path w="9" h="35">
                  <a:moveTo>
                    <a:pt x="5" y="26"/>
                  </a:moveTo>
                  <a:lnTo>
                    <a:pt x="9" y="3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5" y="35"/>
                  </a:lnTo>
                  <a:lnTo>
                    <a:pt x="8" y="34"/>
                  </a:lnTo>
                  <a:lnTo>
                    <a:pt x="9" y="30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76840" y="4153680"/>
              <a:ext cx="3240" cy="28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4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6" y="9"/>
                  </a:lnTo>
                  <a:lnTo>
                    <a:pt x="2" y="4"/>
                  </a:lnTo>
                  <a:lnTo>
                    <a:pt x="6" y="9"/>
                  </a:lnTo>
                  <a:lnTo>
                    <a:pt x="10" y="8"/>
                  </a:lnTo>
                  <a:lnTo>
                    <a:pt x="11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77560" y="4155480"/>
              <a:ext cx="2520" cy="39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11"/>
                  </a:moveTo>
                  <a:lnTo>
                    <a:pt x="9" y="6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1"/>
                  </a:ln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8" y="9"/>
                  </a:lnTo>
                  <a:lnTo>
                    <a:pt x="9" y="6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75760" y="4156200"/>
              <a:ext cx="3240" cy="32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9" y="5"/>
                  </a:moveTo>
                  <a:lnTo>
                    <a:pt x="5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10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75760" y="4158000"/>
              <a:ext cx="2520" cy="612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5" y="16"/>
                  </a:moveTo>
                  <a:lnTo>
                    <a:pt x="9" y="1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5" y="7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9" y="11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73960" y="4160160"/>
              <a:ext cx="2520" cy="3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4"/>
                  </a:moveTo>
                  <a:lnTo>
                    <a:pt x="5" y="9"/>
                  </a:lnTo>
                  <a:lnTo>
                    <a:pt x="11" y="9"/>
                  </a:lnTo>
                  <a:lnTo>
                    <a:pt x="11" y="0"/>
                  </a:lnTo>
                  <a:lnTo>
                    <a:pt x="5" y="0"/>
                  </a:lnTo>
                  <a:lnTo>
                    <a:pt x="9" y="4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3960" y="4145040"/>
              <a:ext cx="2520" cy="17280"/>
            </a:xfrm>
            <a:custGeom>
              <a:avLst/>
              <a:gdLst/>
              <a:ahLst/>
              <a:rect l="l" t="t" r="r" b="b"/>
              <a:pathLst>
                <a:path w="9" h="42">
                  <a:moveTo>
                    <a:pt x="8" y="7"/>
                  </a:moveTo>
                  <a:lnTo>
                    <a:pt x="0" y="4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4"/>
                  </a:lnTo>
                  <a:lnTo>
                    <a:pt x="1" y="2"/>
                  </a:lnTo>
                  <a:lnTo>
                    <a:pt x="9" y="4"/>
                  </a:lnTo>
                  <a:lnTo>
                    <a:pt x="8" y="1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95920" y="4131360"/>
              <a:ext cx="2160" cy="720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7" y="20"/>
                  </a:move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0" y="15"/>
                  </a:lnTo>
                  <a:lnTo>
                    <a:pt x="8" y="17"/>
                  </a:lnTo>
                  <a:lnTo>
                    <a:pt x="8" y="0"/>
                  </a:lnTo>
                  <a:lnTo>
                    <a:pt x="0" y="15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88000" y="4137120"/>
              <a:ext cx="9360" cy="1584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9" y="31"/>
                  </a:moveTo>
                  <a:lnTo>
                    <a:pt x="13" y="38"/>
                  </a:lnTo>
                  <a:lnTo>
                    <a:pt x="33" y="5"/>
                  </a:lnTo>
                  <a:lnTo>
                    <a:pt x="26" y="0"/>
                  </a:lnTo>
                  <a:lnTo>
                    <a:pt x="6" y="34"/>
                  </a:lnTo>
                  <a:lnTo>
                    <a:pt x="9" y="40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9" y="40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90880" y="4149720"/>
              <a:ext cx="6840" cy="288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5" y="5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1" y="9"/>
                  </a:lnTo>
                  <a:lnTo>
                    <a:pt x="16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95200" y="4151520"/>
              <a:ext cx="2520" cy="46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11"/>
                  </a:moveTo>
                  <a:lnTo>
                    <a:pt x="9" y="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" y="2"/>
                  </a:lnTo>
                  <a:lnTo>
                    <a:pt x="5" y="11"/>
                  </a:lnTo>
                  <a:lnTo>
                    <a:pt x="9" y="11"/>
                  </a:lnTo>
                  <a:lnTo>
                    <a:pt x="9" y="7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7640" y="4152240"/>
              <a:ext cx="8640" cy="396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6"/>
                  </a:moveTo>
                  <a:lnTo>
                    <a:pt x="4" y="11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4" y="1"/>
                  </a:lnTo>
                  <a:lnTo>
                    <a:pt x="9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87640" y="4150440"/>
              <a:ext cx="2520" cy="39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9" y="2"/>
                  </a:lnTo>
                  <a:lnTo>
                    <a:pt x="8" y="4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88000" y="4129920"/>
              <a:ext cx="9720" cy="2196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32" y="0"/>
                  </a:moveTo>
                  <a:lnTo>
                    <a:pt x="29" y="2"/>
                  </a:lnTo>
                  <a:lnTo>
                    <a:pt x="0" y="51"/>
                  </a:lnTo>
                  <a:lnTo>
                    <a:pt x="7" y="55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97000" y="4129920"/>
              <a:ext cx="3240" cy="3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7" y="9"/>
                  </a:lnTo>
                  <a:lnTo>
                    <a:pt x="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7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97720" y="4132440"/>
              <a:ext cx="2520" cy="2052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5" y="43"/>
                  </a:moveTo>
                  <a:lnTo>
                    <a:pt x="10" y="4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" y="5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5" y="52"/>
                  </a:lnTo>
                  <a:lnTo>
                    <a:pt x="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98440" y="4149000"/>
              <a:ext cx="3600" cy="39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5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9"/>
                  </a:lnTo>
                  <a:lnTo>
                    <a:pt x="5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9" y="0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00240" y="4150440"/>
              <a:ext cx="1800" cy="540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9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3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97720" y="4152240"/>
              <a:ext cx="3600" cy="39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0" y="5"/>
                  </a:moveTo>
                  <a:lnTo>
                    <a:pt x="5" y="9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97720" y="4153680"/>
              <a:ext cx="2520" cy="9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5" y="23"/>
                  </a:moveTo>
                  <a:lnTo>
                    <a:pt x="10" y="18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5" y="14"/>
                  </a:lnTo>
                  <a:lnTo>
                    <a:pt x="5" y="23"/>
                  </a:lnTo>
                  <a:lnTo>
                    <a:pt x="10" y="23"/>
                  </a:lnTo>
                  <a:lnTo>
                    <a:pt x="10" y="18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95200" y="4159440"/>
              <a:ext cx="3240" cy="39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4"/>
                  </a:moveTo>
                  <a:lnTo>
                    <a:pt x="5" y="9"/>
                  </a:lnTo>
                  <a:lnTo>
                    <a:pt x="13" y="9"/>
                  </a:lnTo>
                  <a:lnTo>
                    <a:pt x="13" y="0"/>
                  </a:lnTo>
                  <a:lnTo>
                    <a:pt x="5" y="0"/>
                  </a:lnTo>
                  <a:lnTo>
                    <a:pt x="9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5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95200" y="4131360"/>
              <a:ext cx="2520" cy="30240"/>
            </a:xfrm>
            <a:custGeom>
              <a:avLst/>
              <a:gdLst/>
              <a:ahLst/>
              <a:rect l="l" t="t" r="r" b="b"/>
              <a:pathLst>
                <a:path w="9" h="76">
                  <a:moveTo>
                    <a:pt x="8" y="20"/>
                  </a:moveTo>
                  <a:lnTo>
                    <a:pt x="0" y="17"/>
                  </a:lnTo>
                  <a:lnTo>
                    <a:pt x="0" y="76"/>
                  </a:lnTo>
                  <a:lnTo>
                    <a:pt x="9" y="76"/>
                  </a:lnTo>
                  <a:lnTo>
                    <a:pt x="9" y="17"/>
                  </a:lnTo>
                  <a:lnTo>
                    <a:pt x="1" y="15"/>
                  </a:lnTo>
                  <a:lnTo>
                    <a:pt x="9" y="17"/>
                  </a:lnTo>
                  <a:lnTo>
                    <a:pt x="9" y="0"/>
                  </a:lnTo>
                  <a:lnTo>
                    <a:pt x="1" y="15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09240" y="4129920"/>
              <a:ext cx="252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7" y="20"/>
                  </a:move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8" y="18"/>
                  </a:lnTo>
                  <a:lnTo>
                    <a:pt x="8" y="0"/>
                  </a:lnTo>
                  <a:lnTo>
                    <a:pt x="0" y="16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02400" y="4136400"/>
              <a:ext cx="8640" cy="1656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8" y="32"/>
                  </a:moveTo>
                  <a:lnTo>
                    <a:pt x="11" y="39"/>
                  </a:lnTo>
                  <a:lnTo>
                    <a:pt x="31" y="4"/>
                  </a:lnTo>
                  <a:lnTo>
                    <a:pt x="24" y="0"/>
                  </a:lnTo>
                  <a:lnTo>
                    <a:pt x="4" y="34"/>
                  </a:lnTo>
                  <a:lnTo>
                    <a:pt x="8" y="41"/>
                  </a:lnTo>
                  <a:lnTo>
                    <a:pt x="4" y="34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04920" y="4148280"/>
              <a:ext cx="6840" cy="46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4" y="5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0" y="10"/>
                  </a:lnTo>
                  <a:lnTo>
                    <a:pt x="19" y="9"/>
                  </a:lnTo>
                  <a:lnTo>
                    <a:pt x="15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09240" y="4150440"/>
              <a:ext cx="2520" cy="46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lnTo>
                    <a:pt x="9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" y="3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9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01320" y="4151520"/>
              <a:ext cx="8640" cy="468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0" y="6"/>
                  </a:moveTo>
                  <a:lnTo>
                    <a:pt x="5" y="10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" y="1"/>
                  </a:lnTo>
                  <a:lnTo>
                    <a:pt x="9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01320" y="4149720"/>
              <a:ext cx="252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1" y="0"/>
                  </a:moveTo>
                  <a:lnTo>
                    <a:pt x="0" y="3"/>
                  </a:lnTo>
                  <a:lnTo>
                    <a:pt x="0" y="12"/>
                  </a:lnTo>
                  <a:lnTo>
                    <a:pt x="9" y="12"/>
                  </a:lnTo>
                  <a:lnTo>
                    <a:pt x="9" y="3"/>
                  </a:lnTo>
                  <a:lnTo>
                    <a:pt x="8" y="5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02040" y="4129920"/>
              <a:ext cx="9720" cy="212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4" y="0"/>
                  </a:moveTo>
                  <a:lnTo>
                    <a:pt x="30" y="2"/>
                  </a:lnTo>
                  <a:lnTo>
                    <a:pt x="0" y="49"/>
                  </a:lnTo>
                  <a:lnTo>
                    <a:pt x="7" y="54"/>
                  </a:lnTo>
                  <a:lnTo>
                    <a:pt x="37" y="7"/>
                  </a:lnTo>
                  <a:lnTo>
                    <a:pt x="34" y="9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0680" y="4129920"/>
              <a:ext cx="3240" cy="28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5" y="9"/>
                  </a:lnTo>
                  <a:lnTo>
                    <a:pt x="1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11400" y="4131360"/>
              <a:ext cx="2520" cy="21240"/>
            </a:xfrm>
            <a:custGeom>
              <a:avLst/>
              <a:gdLst/>
              <a:ahLst/>
              <a:rect l="l" t="t" r="r" b="b"/>
              <a:pathLst>
                <a:path w="9" h="53">
                  <a:moveTo>
                    <a:pt x="4" y="43"/>
                  </a:moveTo>
                  <a:lnTo>
                    <a:pt x="9" y="4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" y="5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4" y="52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12480" y="4147560"/>
              <a:ext cx="3600" cy="46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0" y="1"/>
                  </a:lnTo>
                  <a:lnTo>
                    <a:pt x="0" y="2"/>
                  </a:lnTo>
                  <a:lnTo>
                    <a:pt x="0" y="11"/>
                  </a:lnTo>
                  <a:lnTo>
                    <a:pt x="10" y="10"/>
                  </a:lnTo>
                  <a:lnTo>
                    <a:pt x="5" y="5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14280" y="4149720"/>
              <a:ext cx="2160" cy="54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13"/>
                  </a:moveTo>
                  <a:lnTo>
                    <a:pt x="9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4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9" y="8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11400" y="4151520"/>
              <a:ext cx="3600" cy="396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9" y="4"/>
                  </a:moveTo>
                  <a:lnTo>
                    <a:pt x="4" y="9"/>
                  </a:lnTo>
                  <a:lnTo>
                    <a:pt x="14" y="9"/>
                  </a:lnTo>
                  <a:lnTo>
                    <a:pt x="1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11400" y="4152960"/>
              <a:ext cx="2520" cy="9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4" y="23"/>
                  </a:moveTo>
                  <a:lnTo>
                    <a:pt x="9" y="1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9" y="19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09240" y="4158720"/>
              <a:ext cx="3240" cy="39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5"/>
                  </a:moveTo>
                  <a:lnTo>
                    <a:pt x="4" y="9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4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09240" y="4129920"/>
              <a:ext cx="2520" cy="30240"/>
            </a:xfrm>
            <a:custGeom>
              <a:avLst/>
              <a:gdLst/>
              <a:ahLst/>
              <a:rect l="l" t="t" r="r" b="b"/>
              <a:pathLst>
                <a:path w="9" h="77">
                  <a:moveTo>
                    <a:pt x="8" y="20"/>
                  </a:moveTo>
                  <a:lnTo>
                    <a:pt x="0" y="18"/>
                  </a:lnTo>
                  <a:lnTo>
                    <a:pt x="0" y="77"/>
                  </a:lnTo>
                  <a:lnTo>
                    <a:pt x="9" y="77"/>
                  </a:lnTo>
                  <a:lnTo>
                    <a:pt x="9" y="18"/>
                  </a:lnTo>
                  <a:lnTo>
                    <a:pt x="1" y="16"/>
                  </a:lnTo>
                  <a:lnTo>
                    <a:pt x="9" y="18"/>
                  </a:lnTo>
                  <a:lnTo>
                    <a:pt x="9" y="0"/>
                  </a:lnTo>
                  <a:lnTo>
                    <a:pt x="1" y="16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35440" y="4146480"/>
              <a:ext cx="4320" cy="1836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0" y="47"/>
                  </a:moveTo>
                  <a:lnTo>
                    <a:pt x="10" y="14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0" y="5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47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44800" y="4145040"/>
              <a:ext cx="8280" cy="1980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1" y="17"/>
                  </a:moveTo>
                  <a:lnTo>
                    <a:pt x="2" y="11"/>
                  </a:lnTo>
                  <a:lnTo>
                    <a:pt x="5" y="7"/>
                  </a:lnTo>
                  <a:lnTo>
                    <a:pt x="9" y="2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4"/>
                  </a:lnTo>
                  <a:lnTo>
                    <a:pt x="30" y="9"/>
                  </a:lnTo>
                  <a:lnTo>
                    <a:pt x="31" y="14"/>
                  </a:lnTo>
                  <a:lnTo>
                    <a:pt x="30" y="18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4" y="32"/>
                  </a:lnTo>
                  <a:lnTo>
                    <a:pt x="13" y="33"/>
                  </a:lnTo>
                  <a:lnTo>
                    <a:pt x="10" y="36"/>
                  </a:lnTo>
                  <a:lnTo>
                    <a:pt x="7" y="39"/>
                  </a:lnTo>
                  <a:lnTo>
                    <a:pt x="6" y="42"/>
                  </a:lnTo>
                  <a:lnTo>
                    <a:pt x="31" y="41"/>
                  </a:lnTo>
                  <a:lnTo>
                    <a:pt x="31" y="47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2" y="37"/>
                  </a:lnTo>
                  <a:lnTo>
                    <a:pt x="6" y="32"/>
                  </a:lnTo>
                  <a:lnTo>
                    <a:pt x="12" y="28"/>
                  </a:lnTo>
                  <a:lnTo>
                    <a:pt x="20" y="23"/>
                  </a:lnTo>
                  <a:lnTo>
                    <a:pt x="22" y="22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4" y="9"/>
                  </a:lnTo>
                  <a:lnTo>
                    <a:pt x="22" y="7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3"/>
                  </a:lnTo>
                  <a:lnTo>
                    <a:pt x="7" y="17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59920" y="4144320"/>
              <a:ext cx="8640" cy="19080"/>
            </a:xfrm>
            <a:custGeom>
              <a:avLst/>
              <a:gdLst/>
              <a:ahLst/>
              <a:rect l="l" t="t" r="r" b="b"/>
              <a:pathLst>
                <a:path w="31" h="48">
                  <a:moveTo>
                    <a:pt x="6" y="34"/>
                  </a:moveTo>
                  <a:lnTo>
                    <a:pt x="6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3"/>
                  </a:lnTo>
                  <a:lnTo>
                    <a:pt x="20" y="42"/>
                  </a:lnTo>
                  <a:lnTo>
                    <a:pt x="23" y="40"/>
                  </a:lnTo>
                  <a:lnTo>
                    <a:pt x="26" y="36"/>
                  </a:lnTo>
                  <a:lnTo>
                    <a:pt x="26" y="33"/>
                  </a:lnTo>
                  <a:lnTo>
                    <a:pt x="25" y="28"/>
                  </a:lnTo>
                  <a:lnTo>
                    <a:pt x="22" y="26"/>
                  </a:lnTo>
                  <a:lnTo>
                    <a:pt x="19" y="25"/>
                  </a:lnTo>
                  <a:lnTo>
                    <a:pt x="13" y="25"/>
                  </a:lnTo>
                  <a:lnTo>
                    <a:pt x="13" y="20"/>
                  </a:lnTo>
                  <a:lnTo>
                    <a:pt x="18" y="20"/>
                  </a:lnTo>
                  <a:lnTo>
                    <a:pt x="21" y="19"/>
                  </a:lnTo>
                  <a:lnTo>
                    <a:pt x="22" y="17"/>
                  </a:lnTo>
                  <a:lnTo>
                    <a:pt x="23" y="12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2" y="6"/>
                  </a:lnTo>
                  <a:lnTo>
                    <a:pt x="8" y="8"/>
                  </a:lnTo>
                  <a:lnTo>
                    <a:pt x="7" y="11"/>
                  </a:lnTo>
                  <a:lnTo>
                    <a:pt x="6" y="16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29" y="6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8" y="19"/>
                  </a:lnTo>
                  <a:lnTo>
                    <a:pt x="27" y="20"/>
                  </a:lnTo>
                  <a:lnTo>
                    <a:pt x="25" y="23"/>
                  </a:lnTo>
                  <a:lnTo>
                    <a:pt x="28" y="24"/>
                  </a:lnTo>
                  <a:lnTo>
                    <a:pt x="30" y="26"/>
                  </a:lnTo>
                  <a:lnTo>
                    <a:pt x="31" y="30"/>
                  </a:lnTo>
                  <a:lnTo>
                    <a:pt x="31" y="33"/>
                  </a:lnTo>
                  <a:lnTo>
                    <a:pt x="30" y="39"/>
                  </a:lnTo>
                  <a:lnTo>
                    <a:pt x="27" y="43"/>
                  </a:lnTo>
                  <a:lnTo>
                    <a:pt x="22" y="47"/>
                  </a:lnTo>
                  <a:lnTo>
                    <a:pt x="15" y="48"/>
                  </a:lnTo>
                  <a:lnTo>
                    <a:pt x="7" y="47"/>
                  </a:lnTo>
                  <a:lnTo>
                    <a:pt x="3" y="4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6" y="3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69640" y="4143240"/>
              <a:ext cx="9360" cy="1908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21" y="11"/>
                  </a:moveTo>
                  <a:lnTo>
                    <a:pt x="21" y="11"/>
                  </a:lnTo>
                  <a:lnTo>
                    <a:pt x="6" y="31"/>
                  </a:lnTo>
                  <a:lnTo>
                    <a:pt x="21" y="31"/>
                  </a:lnTo>
                  <a:lnTo>
                    <a:pt x="21" y="37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31"/>
                  </a:lnTo>
                  <a:lnTo>
                    <a:pt x="33" y="30"/>
                  </a:lnTo>
                  <a:lnTo>
                    <a:pt x="33" y="36"/>
                  </a:lnTo>
                  <a:lnTo>
                    <a:pt x="27" y="36"/>
                  </a:lnTo>
                  <a:lnTo>
                    <a:pt x="27" y="47"/>
                  </a:lnTo>
                  <a:lnTo>
                    <a:pt x="21" y="47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02400" y="4131360"/>
              <a:ext cx="12600" cy="29520"/>
            </a:xfrm>
            <a:custGeom>
              <a:avLst/>
              <a:gdLst/>
              <a:ahLst/>
              <a:rect l="l" t="t" r="r" b="b"/>
              <a:pathLst>
                <a:path w="45" h="74">
                  <a:moveTo>
                    <a:pt x="27" y="15"/>
                  </a:moveTo>
                  <a:lnTo>
                    <a:pt x="27" y="15"/>
                  </a:lnTo>
                  <a:lnTo>
                    <a:pt x="8" y="49"/>
                  </a:lnTo>
                  <a:lnTo>
                    <a:pt x="27" y="48"/>
                  </a:lnTo>
                  <a:lnTo>
                    <a:pt x="27" y="57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5" y="48"/>
                  </a:lnTo>
                  <a:lnTo>
                    <a:pt x="45" y="48"/>
                  </a:lnTo>
                  <a:lnTo>
                    <a:pt x="45" y="56"/>
                  </a:lnTo>
                  <a:lnTo>
                    <a:pt x="35" y="57"/>
                  </a:lnTo>
                  <a:lnTo>
                    <a:pt x="35" y="74"/>
                  </a:lnTo>
                  <a:lnTo>
                    <a:pt x="27" y="74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358720" y="4134240"/>
              <a:ext cx="7560" cy="18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362320" y="32767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079440" y="4165560"/>
            <a:ext cx="7491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448080" y="4197240"/>
            <a:ext cx="0" cy="27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13320" y="3904920"/>
            <a:ext cx="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41960" y="3200400"/>
            <a:ext cx="183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J.1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Cable Mo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30280" y="321948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</a:rPr>
              <a:t>C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44"/>
                </a:solidFill>
                <a:latin typeface="Arial"/>
              </a:rPr>
              <a:t>(J.112 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0680" y="404820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ble IP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076440" y="4216320"/>
            <a:ext cx="34308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996240" y="5184720"/>
            <a:ext cx="1534680" cy="878760"/>
            <a:chOff x="6996240" y="5184720"/>
            <a:chExt cx="1534680" cy="878760"/>
          </a:xfrm>
        </p:grpSpPr>
        <p:grpSp>
          <p:nvGrpSpPr>
            <p:cNvPr id="297" name=""/>
            <p:cNvGrpSpPr/>
            <p:nvPr/>
          </p:nvGrpSpPr>
          <p:grpSpPr>
            <a:xfrm>
              <a:off x="7017840" y="5216760"/>
              <a:ext cx="1513080" cy="846720"/>
              <a:chOff x="7017840" y="5216760"/>
              <a:chExt cx="1513080" cy="846720"/>
            </a:xfrm>
          </p:grpSpPr>
          <p:sp>
            <p:nvSpPr>
              <p:cNvPr id="298" name=""/>
              <p:cNvSpPr/>
              <p:nvPr/>
            </p:nvSpPr>
            <p:spPr>
              <a:xfrm>
                <a:off x="7542000" y="5216760"/>
                <a:ext cx="648000" cy="3423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78040" y="5302440"/>
                <a:ext cx="487800" cy="3535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17840" y="5517360"/>
                <a:ext cx="330480" cy="2782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20080" y="5656320"/>
                <a:ext cx="500760" cy="30060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84040" y="5698800"/>
                <a:ext cx="762480" cy="3646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73640" y="5312160"/>
                <a:ext cx="477720" cy="2689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053200" y="5495040"/>
                <a:ext cx="477720" cy="2689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008200" y="5559120"/>
                <a:ext cx="466560" cy="44064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90720" y="5420520"/>
                <a:ext cx="978480" cy="4503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996240" y="5184720"/>
              <a:ext cx="1499760" cy="858240"/>
              <a:chOff x="6996240" y="5184720"/>
              <a:chExt cx="1499760" cy="858240"/>
            </a:xfrm>
          </p:grpSpPr>
          <p:sp>
            <p:nvSpPr>
              <p:cNvPr id="308" name=""/>
              <p:cNvSpPr/>
              <p:nvPr/>
            </p:nvSpPr>
            <p:spPr>
              <a:xfrm>
                <a:off x="7518600" y="5184720"/>
                <a:ext cx="636480" cy="34272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55000" y="5280480"/>
                <a:ext cx="489240" cy="34344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96240" y="5495400"/>
                <a:ext cx="328680" cy="27864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098480" y="5624280"/>
                <a:ext cx="499320" cy="3009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462440" y="5678280"/>
                <a:ext cx="749160" cy="3646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50600" y="5291640"/>
                <a:ext cx="477360" cy="2674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018280" y="5474520"/>
                <a:ext cx="477720" cy="2674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973280" y="5527440"/>
                <a:ext cx="477720" cy="4503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268760" y="5388840"/>
                <a:ext cx="977400" cy="45036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7313760" y="54849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96080" y="4800600"/>
            <a:ext cx="63720" cy="368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371600" y="4178160"/>
            <a:ext cx="825480" cy="6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17640" y="1708200"/>
            <a:ext cx="30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a1"/>
                </a:solidFill>
                <a:latin typeface="Arial"/>
              </a:rPr>
              <a:t>Upgrade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a1"/>
                </a:solidFill>
                <a:latin typeface="Arial"/>
              </a:rPr>
              <a:t>IPCable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371600" y="3429000"/>
            <a:ext cx="6680160" cy="1993680"/>
            <a:chOff x="1371600" y="3429000"/>
            <a:chExt cx="6680160" cy="1993680"/>
          </a:xfrm>
        </p:grpSpPr>
        <p:sp>
          <p:nvSpPr>
            <p:cNvPr id="322" name=""/>
            <p:cNvSpPr/>
            <p:nvPr/>
          </p:nvSpPr>
          <p:spPr>
            <a:xfrm flipV="1">
              <a:off x="7696080" y="3441240"/>
              <a:ext cx="355680" cy="12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86200" y="4177440"/>
              <a:ext cx="1384200" cy="266760"/>
            </a:xfrm>
            <a:custGeom>
              <a:avLst/>
              <a:gdLst/>
              <a:ahLst/>
              <a:rect l="l" t="t" r="r" b="b"/>
              <a:pathLst>
                <a:path w="872" h="168">
                  <a:moveTo>
                    <a:pt x="0" y="152"/>
                  </a:moveTo>
                  <a:cubicBezTo>
                    <a:pt x="14" y="112"/>
                    <a:pt x="28" y="73"/>
                    <a:pt x="104" y="48"/>
                  </a:cubicBezTo>
                  <a:cubicBezTo>
                    <a:pt x="180" y="23"/>
                    <a:pt x="356" y="0"/>
                    <a:pt x="456" y="0"/>
                  </a:cubicBezTo>
                  <a:cubicBezTo>
                    <a:pt x="556" y="0"/>
                    <a:pt x="640" y="31"/>
                    <a:pt x="704" y="48"/>
                  </a:cubicBezTo>
                  <a:cubicBezTo>
                    <a:pt x="768" y="65"/>
                    <a:pt x="812" y="84"/>
                    <a:pt x="840" y="104"/>
                  </a:cubicBezTo>
                  <a:cubicBezTo>
                    <a:pt x="868" y="124"/>
                    <a:pt x="868" y="159"/>
                    <a:pt x="872" y="168"/>
                  </a:cubicBezTo>
                </a:path>
              </a:pathLst>
            </a:custGeom>
            <a:noFill/>
            <a:ln w="7632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371600" y="4165560"/>
              <a:ext cx="812880" cy="6350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40480" y="4241520"/>
              <a:ext cx="1130400" cy="52092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58280" y="4775040"/>
              <a:ext cx="139680" cy="6476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86200" y="3924000"/>
              <a:ext cx="1384200" cy="266760"/>
            </a:xfrm>
            <a:custGeom>
              <a:avLst/>
              <a:gdLst/>
              <a:ahLst/>
              <a:rect l="l" t="t" r="r" b="b"/>
              <a:pathLst>
                <a:path w="872" h="168">
                  <a:moveTo>
                    <a:pt x="0" y="152"/>
                  </a:moveTo>
                  <a:cubicBezTo>
                    <a:pt x="14" y="112"/>
                    <a:pt x="28" y="73"/>
                    <a:pt x="104" y="48"/>
                  </a:cubicBezTo>
                  <a:cubicBezTo>
                    <a:pt x="180" y="23"/>
                    <a:pt x="356" y="0"/>
                    <a:pt x="456" y="0"/>
                  </a:cubicBezTo>
                  <a:cubicBezTo>
                    <a:pt x="556" y="0"/>
                    <a:pt x="640" y="31"/>
                    <a:pt x="704" y="48"/>
                  </a:cubicBezTo>
                  <a:cubicBezTo>
                    <a:pt x="768" y="65"/>
                    <a:pt x="812" y="84"/>
                    <a:pt x="840" y="104"/>
                  </a:cubicBezTo>
                  <a:cubicBezTo>
                    <a:pt x="868" y="124"/>
                    <a:pt x="868" y="159"/>
                    <a:pt x="872" y="168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58920" y="4140000"/>
              <a:ext cx="1701720" cy="12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70400" y="4152600"/>
              <a:ext cx="1270080" cy="38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46320" y="4190760"/>
              <a:ext cx="1739880" cy="1296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95960" y="4203720"/>
              <a:ext cx="1270080" cy="378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09760" y="3911400"/>
              <a:ext cx="774720" cy="241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527880" y="3429000"/>
              <a:ext cx="1155600" cy="774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372120" y="352116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4"/>
                </a:solidFill>
                <a:latin typeface="Arial"/>
              </a:rPr>
              <a:t>M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Architecture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336" name=""/>
          <p:cNvSpPr/>
          <p:nvPr/>
        </p:nvSpPr>
        <p:spPr>
          <a:xfrm>
            <a:off x="5703840" y="2476440"/>
            <a:ext cx="824040" cy="7034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00880" y="2556000"/>
            <a:ext cx="825480" cy="7030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3840" y="2306520"/>
            <a:ext cx="2222280" cy="3797280"/>
          </a:xfrm>
          <a:custGeom>
            <a:avLst/>
            <a:gdLst/>
            <a:ahLst/>
            <a:rect l="l" t="t" r="r" b="b"/>
            <a:pathLst>
              <a:path w="1400" h="2392">
                <a:moveTo>
                  <a:pt x="205" y="1775"/>
                </a:moveTo>
                <a:lnTo>
                  <a:pt x="216" y="1837"/>
                </a:lnTo>
                <a:lnTo>
                  <a:pt x="227" y="1897"/>
                </a:lnTo>
                <a:lnTo>
                  <a:pt x="240" y="1954"/>
                </a:lnTo>
                <a:lnTo>
                  <a:pt x="252" y="2007"/>
                </a:lnTo>
                <a:lnTo>
                  <a:pt x="266" y="2059"/>
                </a:lnTo>
                <a:lnTo>
                  <a:pt x="281" y="2108"/>
                </a:lnTo>
                <a:lnTo>
                  <a:pt x="297" y="2152"/>
                </a:lnTo>
                <a:lnTo>
                  <a:pt x="313" y="2193"/>
                </a:lnTo>
                <a:lnTo>
                  <a:pt x="328" y="2232"/>
                </a:lnTo>
                <a:lnTo>
                  <a:pt x="347" y="2266"/>
                </a:lnTo>
                <a:lnTo>
                  <a:pt x="364" y="2295"/>
                </a:lnTo>
                <a:lnTo>
                  <a:pt x="383" y="2322"/>
                </a:lnTo>
                <a:lnTo>
                  <a:pt x="401" y="2344"/>
                </a:lnTo>
                <a:lnTo>
                  <a:pt x="421" y="2363"/>
                </a:lnTo>
                <a:lnTo>
                  <a:pt x="440" y="2376"/>
                </a:lnTo>
                <a:lnTo>
                  <a:pt x="460" y="2385"/>
                </a:lnTo>
                <a:lnTo>
                  <a:pt x="479" y="2391"/>
                </a:lnTo>
                <a:lnTo>
                  <a:pt x="499" y="2392"/>
                </a:lnTo>
                <a:lnTo>
                  <a:pt x="519" y="2389"/>
                </a:lnTo>
                <a:lnTo>
                  <a:pt x="538" y="2382"/>
                </a:lnTo>
                <a:lnTo>
                  <a:pt x="558" y="2370"/>
                </a:lnTo>
                <a:lnTo>
                  <a:pt x="577" y="2354"/>
                </a:lnTo>
                <a:lnTo>
                  <a:pt x="596" y="2333"/>
                </a:lnTo>
                <a:lnTo>
                  <a:pt x="615" y="2309"/>
                </a:lnTo>
                <a:lnTo>
                  <a:pt x="633" y="2281"/>
                </a:lnTo>
                <a:lnTo>
                  <a:pt x="651" y="2249"/>
                </a:lnTo>
                <a:lnTo>
                  <a:pt x="668" y="2212"/>
                </a:lnTo>
                <a:lnTo>
                  <a:pt x="684" y="2174"/>
                </a:lnTo>
                <a:lnTo>
                  <a:pt x="700" y="2130"/>
                </a:lnTo>
                <a:lnTo>
                  <a:pt x="716" y="2174"/>
                </a:lnTo>
                <a:lnTo>
                  <a:pt x="732" y="2212"/>
                </a:lnTo>
                <a:lnTo>
                  <a:pt x="749" y="2249"/>
                </a:lnTo>
                <a:lnTo>
                  <a:pt x="767" y="2281"/>
                </a:lnTo>
                <a:lnTo>
                  <a:pt x="786" y="2309"/>
                </a:lnTo>
                <a:lnTo>
                  <a:pt x="804" y="2333"/>
                </a:lnTo>
                <a:lnTo>
                  <a:pt x="823" y="2354"/>
                </a:lnTo>
                <a:lnTo>
                  <a:pt x="843" y="2370"/>
                </a:lnTo>
                <a:lnTo>
                  <a:pt x="862" y="2382"/>
                </a:lnTo>
                <a:lnTo>
                  <a:pt x="881" y="2389"/>
                </a:lnTo>
                <a:lnTo>
                  <a:pt x="901" y="2392"/>
                </a:lnTo>
                <a:lnTo>
                  <a:pt x="921" y="2391"/>
                </a:lnTo>
                <a:lnTo>
                  <a:pt x="941" y="2385"/>
                </a:lnTo>
                <a:lnTo>
                  <a:pt x="960" y="2376"/>
                </a:lnTo>
                <a:lnTo>
                  <a:pt x="979" y="2363"/>
                </a:lnTo>
                <a:lnTo>
                  <a:pt x="999" y="2344"/>
                </a:lnTo>
                <a:lnTo>
                  <a:pt x="1017" y="2322"/>
                </a:lnTo>
                <a:lnTo>
                  <a:pt x="1035" y="2295"/>
                </a:lnTo>
                <a:lnTo>
                  <a:pt x="1054" y="2266"/>
                </a:lnTo>
                <a:lnTo>
                  <a:pt x="1071" y="2232"/>
                </a:lnTo>
                <a:lnTo>
                  <a:pt x="1088" y="2193"/>
                </a:lnTo>
                <a:lnTo>
                  <a:pt x="1104" y="2152"/>
                </a:lnTo>
                <a:lnTo>
                  <a:pt x="1120" y="2108"/>
                </a:lnTo>
                <a:lnTo>
                  <a:pt x="1135" y="2059"/>
                </a:lnTo>
                <a:lnTo>
                  <a:pt x="1148" y="2007"/>
                </a:lnTo>
                <a:lnTo>
                  <a:pt x="1161" y="1954"/>
                </a:lnTo>
                <a:lnTo>
                  <a:pt x="1173" y="1897"/>
                </a:lnTo>
                <a:lnTo>
                  <a:pt x="1185" y="1837"/>
                </a:lnTo>
                <a:lnTo>
                  <a:pt x="1194" y="1775"/>
                </a:lnTo>
                <a:lnTo>
                  <a:pt x="1209" y="1786"/>
                </a:lnTo>
                <a:lnTo>
                  <a:pt x="1222" y="1792"/>
                </a:lnTo>
                <a:lnTo>
                  <a:pt x="1237" y="1794"/>
                </a:lnTo>
                <a:lnTo>
                  <a:pt x="1251" y="1792"/>
                </a:lnTo>
                <a:lnTo>
                  <a:pt x="1266" y="1785"/>
                </a:lnTo>
                <a:lnTo>
                  <a:pt x="1279" y="1773"/>
                </a:lnTo>
                <a:lnTo>
                  <a:pt x="1293" y="1757"/>
                </a:lnTo>
                <a:lnTo>
                  <a:pt x="1306" y="1737"/>
                </a:lnTo>
                <a:lnTo>
                  <a:pt x="1318" y="1712"/>
                </a:lnTo>
                <a:lnTo>
                  <a:pt x="1331" y="1685"/>
                </a:lnTo>
                <a:lnTo>
                  <a:pt x="1342" y="1653"/>
                </a:lnTo>
                <a:lnTo>
                  <a:pt x="1352" y="1618"/>
                </a:lnTo>
                <a:lnTo>
                  <a:pt x="1363" y="1579"/>
                </a:lnTo>
                <a:lnTo>
                  <a:pt x="1371" y="1538"/>
                </a:lnTo>
                <a:lnTo>
                  <a:pt x="1378" y="1493"/>
                </a:lnTo>
                <a:lnTo>
                  <a:pt x="1385" y="1448"/>
                </a:lnTo>
                <a:lnTo>
                  <a:pt x="1390" y="1400"/>
                </a:lnTo>
                <a:lnTo>
                  <a:pt x="1394" y="1350"/>
                </a:lnTo>
                <a:lnTo>
                  <a:pt x="1398" y="1300"/>
                </a:lnTo>
                <a:lnTo>
                  <a:pt x="1399" y="1248"/>
                </a:lnTo>
                <a:lnTo>
                  <a:pt x="1400" y="1196"/>
                </a:lnTo>
                <a:lnTo>
                  <a:pt x="1399" y="1145"/>
                </a:lnTo>
                <a:lnTo>
                  <a:pt x="1398" y="1092"/>
                </a:lnTo>
                <a:lnTo>
                  <a:pt x="1394" y="1042"/>
                </a:lnTo>
                <a:lnTo>
                  <a:pt x="1390" y="992"/>
                </a:lnTo>
                <a:lnTo>
                  <a:pt x="1385" y="944"/>
                </a:lnTo>
                <a:lnTo>
                  <a:pt x="1378" y="899"/>
                </a:lnTo>
                <a:lnTo>
                  <a:pt x="1371" y="854"/>
                </a:lnTo>
                <a:lnTo>
                  <a:pt x="1363" y="813"/>
                </a:lnTo>
                <a:lnTo>
                  <a:pt x="1352" y="775"/>
                </a:lnTo>
                <a:lnTo>
                  <a:pt x="1342" y="739"/>
                </a:lnTo>
                <a:lnTo>
                  <a:pt x="1331" y="708"/>
                </a:lnTo>
                <a:lnTo>
                  <a:pt x="1318" y="680"/>
                </a:lnTo>
                <a:lnTo>
                  <a:pt x="1306" y="656"/>
                </a:lnTo>
                <a:lnTo>
                  <a:pt x="1293" y="636"/>
                </a:lnTo>
                <a:lnTo>
                  <a:pt x="1279" y="620"/>
                </a:lnTo>
                <a:lnTo>
                  <a:pt x="1266" y="608"/>
                </a:lnTo>
                <a:lnTo>
                  <a:pt x="1251" y="600"/>
                </a:lnTo>
                <a:lnTo>
                  <a:pt x="1237" y="598"/>
                </a:lnTo>
                <a:lnTo>
                  <a:pt x="1222" y="600"/>
                </a:lnTo>
                <a:lnTo>
                  <a:pt x="1209" y="606"/>
                </a:lnTo>
                <a:lnTo>
                  <a:pt x="1194" y="617"/>
                </a:lnTo>
                <a:lnTo>
                  <a:pt x="1185" y="556"/>
                </a:lnTo>
                <a:lnTo>
                  <a:pt x="1173" y="495"/>
                </a:lnTo>
                <a:lnTo>
                  <a:pt x="1161" y="438"/>
                </a:lnTo>
                <a:lnTo>
                  <a:pt x="1148" y="385"/>
                </a:lnTo>
                <a:lnTo>
                  <a:pt x="1135" y="334"/>
                </a:lnTo>
                <a:lnTo>
                  <a:pt x="1120" y="286"/>
                </a:lnTo>
                <a:lnTo>
                  <a:pt x="1104" y="240"/>
                </a:lnTo>
                <a:lnTo>
                  <a:pt x="1088" y="199"/>
                </a:lnTo>
                <a:lnTo>
                  <a:pt x="1071" y="162"/>
                </a:lnTo>
                <a:lnTo>
                  <a:pt x="1054" y="127"/>
                </a:lnTo>
                <a:lnTo>
                  <a:pt x="1035" y="97"/>
                </a:lnTo>
                <a:lnTo>
                  <a:pt x="1017" y="70"/>
                </a:lnTo>
                <a:lnTo>
                  <a:pt x="999" y="49"/>
                </a:lnTo>
                <a:lnTo>
                  <a:pt x="979" y="31"/>
                </a:lnTo>
                <a:lnTo>
                  <a:pt x="960" y="16"/>
                </a:lnTo>
                <a:lnTo>
                  <a:pt x="941" y="7"/>
                </a:lnTo>
                <a:lnTo>
                  <a:pt x="921" y="1"/>
                </a:lnTo>
                <a:lnTo>
                  <a:pt x="901" y="0"/>
                </a:lnTo>
                <a:lnTo>
                  <a:pt x="881" y="3"/>
                </a:lnTo>
                <a:lnTo>
                  <a:pt x="862" y="11"/>
                </a:lnTo>
                <a:lnTo>
                  <a:pt x="843" y="23"/>
                </a:lnTo>
                <a:lnTo>
                  <a:pt x="823" y="39"/>
                </a:lnTo>
                <a:lnTo>
                  <a:pt x="804" y="59"/>
                </a:lnTo>
                <a:lnTo>
                  <a:pt x="786" y="83"/>
                </a:lnTo>
                <a:lnTo>
                  <a:pt x="767" y="111"/>
                </a:lnTo>
                <a:lnTo>
                  <a:pt x="749" y="143"/>
                </a:lnTo>
                <a:lnTo>
                  <a:pt x="732" y="180"/>
                </a:lnTo>
                <a:lnTo>
                  <a:pt x="716" y="220"/>
                </a:lnTo>
                <a:lnTo>
                  <a:pt x="700" y="262"/>
                </a:lnTo>
                <a:lnTo>
                  <a:pt x="684" y="220"/>
                </a:lnTo>
                <a:lnTo>
                  <a:pt x="668" y="180"/>
                </a:lnTo>
                <a:lnTo>
                  <a:pt x="651" y="143"/>
                </a:lnTo>
                <a:lnTo>
                  <a:pt x="633" y="111"/>
                </a:lnTo>
                <a:lnTo>
                  <a:pt x="615" y="83"/>
                </a:lnTo>
                <a:lnTo>
                  <a:pt x="596" y="59"/>
                </a:lnTo>
                <a:lnTo>
                  <a:pt x="577" y="39"/>
                </a:lnTo>
                <a:lnTo>
                  <a:pt x="558" y="23"/>
                </a:lnTo>
                <a:lnTo>
                  <a:pt x="538" y="11"/>
                </a:lnTo>
                <a:lnTo>
                  <a:pt x="519" y="3"/>
                </a:lnTo>
                <a:lnTo>
                  <a:pt x="499" y="0"/>
                </a:lnTo>
                <a:lnTo>
                  <a:pt x="479" y="1"/>
                </a:lnTo>
                <a:lnTo>
                  <a:pt x="460" y="7"/>
                </a:lnTo>
                <a:lnTo>
                  <a:pt x="440" y="16"/>
                </a:lnTo>
                <a:lnTo>
                  <a:pt x="421" y="31"/>
                </a:lnTo>
                <a:lnTo>
                  <a:pt x="401" y="49"/>
                </a:lnTo>
                <a:lnTo>
                  <a:pt x="383" y="70"/>
                </a:lnTo>
                <a:lnTo>
                  <a:pt x="364" y="97"/>
                </a:lnTo>
                <a:lnTo>
                  <a:pt x="347" y="127"/>
                </a:lnTo>
                <a:lnTo>
                  <a:pt x="328" y="162"/>
                </a:lnTo>
                <a:lnTo>
                  <a:pt x="313" y="199"/>
                </a:lnTo>
                <a:lnTo>
                  <a:pt x="297" y="240"/>
                </a:lnTo>
                <a:lnTo>
                  <a:pt x="281" y="286"/>
                </a:lnTo>
                <a:lnTo>
                  <a:pt x="266" y="334"/>
                </a:lnTo>
                <a:lnTo>
                  <a:pt x="252" y="385"/>
                </a:lnTo>
                <a:lnTo>
                  <a:pt x="240" y="438"/>
                </a:lnTo>
                <a:lnTo>
                  <a:pt x="227" y="495"/>
                </a:lnTo>
                <a:lnTo>
                  <a:pt x="216" y="556"/>
                </a:lnTo>
                <a:lnTo>
                  <a:pt x="205" y="617"/>
                </a:lnTo>
                <a:lnTo>
                  <a:pt x="192" y="606"/>
                </a:lnTo>
                <a:lnTo>
                  <a:pt x="178" y="600"/>
                </a:lnTo>
                <a:lnTo>
                  <a:pt x="163" y="598"/>
                </a:lnTo>
                <a:lnTo>
                  <a:pt x="149" y="600"/>
                </a:lnTo>
                <a:lnTo>
                  <a:pt x="135" y="608"/>
                </a:lnTo>
                <a:lnTo>
                  <a:pt x="121" y="620"/>
                </a:lnTo>
                <a:lnTo>
                  <a:pt x="107" y="636"/>
                </a:lnTo>
                <a:lnTo>
                  <a:pt x="95" y="656"/>
                </a:lnTo>
                <a:lnTo>
                  <a:pt x="81" y="680"/>
                </a:lnTo>
                <a:lnTo>
                  <a:pt x="70" y="708"/>
                </a:lnTo>
                <a:lnTo>
                  <a:pt x="58" y="739"/>
                </a:lnTo>
                <a:lnTo>
                  <a:pt x="48" y="775"/>
                </a:lnTo>
                <a:lnTo>
                  <a:pt x="38" y="813"/>
                </a:lnTo>
                <a:lnTo>
                  <a:pt x="30" y="854"/>
                </a:lnTo>
                <a:lnTo>
                  <a:pt x="22" y="899"/>
                </a:lnTo>
                <a:lnTo>
                  <a:pt x="15" y="944"/>
                </a:lnTo>
                <a:lnTo>
                  <a:pt x="10" y="992"/>
                </a:lnTo>
                <a:lnTo>
                  <a:pt x="6" y="1042"/>
                </a:lnTo>
                <a:lnTo>
                  <a:pt x="2" y="1092"/>
                </a:lnTo>
                <a:lnTo>
                  <a:pt x="0" y="1145"/>
                </a:lnTo>
                <a:lnTo>
                  <a:pt x="0" y="1196"/>
                </a:lnTo>
                <a:lnTo>
                  <a:pt x="0" y="1248"/>
                </a:lnTo>
                <a:lnTo>
                  <a:pt x="2" y="1300"/>
                </a:lnTo>
                <a:lnTo>
                  <a:pt x="6" y="1350"/>
                </a:lnTo>
                <a:lnTo>
                  <a:pt x="10" y="1400"/>
                </a:lnTo>
                <a:lnTo>
                  <a:pt x="15" y="1448"/>
                </a:lnTo>
                <a:lnTo>
                  <a:pt x="22" y="1493"/>
                </a:lnTo>
                <a:lnTo>
                  <a:pt x="30" y="1538"/>
                </a:lnTo>
                <a:lnTo>
                  <a:pt x="38" y="1579"/>
                </a:lnTo>
                <a:lnTo>
                  <a:pt x="48" y="1618"/>
                </a:lnTo>
                <a:lnTo>
                  <a:pt x="58" y="1653"/>
                </a:lnTo>
                <a:lnTo>
                  <a:pt x="70" y="1685"/>
                </a:lnTo>
                <a:lnTo>
                  <a:pt x="81" y="1712"/>
                </a:lnTo>
                <a:lnTo>
                  <a:pt x="95" y="1737"/>
                </a:lnTo>
                <a:lnTo>
                  <a:pt x="107" y="1757"/>
                </a:lnTo>
                <a:lnTo>
                  <a:pt x="121" y="1773"/>
                </a:lnTo>
                <a:lnTo>
                  <a:pt x="135" y="1785"/>
                </a:lnTo>
                <a:lnTo>
                  <a:pt x="149" y="1792"/>
                </a:lnTo>
                <a:lnTo>
                  <a:pt x="163" y="1794"/>
                </a:lnTo>
                <a:lnTo>
                  <a:pt x="178" y="1792"/>
                </a:lnTo>
                <a:lnTo>
                  <a:pt x="192" y="1786"/>
                </a:lnTo>
                <a:lnTo>
                  <a:pt x="205" y="1775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6880" y="3919680"/>
            <a:ext cx="1626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Managed IP Backb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QoS Featur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(Headend, Local, Reg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094520" y="3430440"/>
            <a:ext cx="1511280" cy="1509840"/>
          </a:xfrm>
          <a:custGeom>
            <a:avLst/>
            <a:gdLst/>
            <a:ahLst/>
            <a:rect l="l" t="t" r="r" b="b"/>
            <a:pathLst>
              <a:path w="952" h="951">
                <a:moveTo>
                  <a:pt x="140" y="706"/>
                </a:moveTo>
                <a:lnTo>
                  <a:pt x="152" y="744"/>
                </a:lnTo>
                <a:lnTo>
                  <a:pt x="165" y="782"/>
                </a:lnTo>
                <a:lnTo>
                  <a:pt x="179" y="815"/>
                </a:lnTo>
                <a:lnTo>
                  <a:pt x="196" y="846"/>
                </a:lnTo>
                <a:lnTo>
                  <a:pt x="213" y="873"/>
                </a:lnTo>
                <a:lnTo>
                  <a:pt x="231" y="896"/>
                </a:lnTo>
                <a:lnTo>
                  <a:pt x="251" y="915"/>
                </a:lnTo>
                <a:lnTo>
                  <a:pt x="271" y="931"/>
                </a:lnTo>
                <a:lnTo>
                  <a:pt x="293" y="941"/>
                </a:lnTo>
                <a:lnTo>
                  <a:pt x="315" y="948"/>
                </a:lnTo>
                <a:lnTo>
                  <a:pt x="336" y="951"/>
                </a:lnTo>
                <a:lnTo>
                  <a:pt x="357" y="948"/>
                </a:lnTo>
                <a:lnTo>
                  <a:pt x="378" y="943"/>
                </a:lnTo>
                <a:lnTo>
                  <a:pt x="400" y="931"/>
                </a:lnTo>
                <a:lnTo>
                  <a:pt x="421" y="916"/>
                </a:lnTo>
                <a:lnTo>
                  <a:pt x="440" y="897"/>
                </a:lnTo>
                <a:lnTo>
                  <a:pt x="458" y="874"/>
                </a:lnTo>
                <a:lnTo>
                  <a:pt x="477" y="847"/>
                </a:lnTo>
                <a:lnTo>
                  <a:pt x="494" y="874"/>
                </a:lnTo>
                <a:lnTo>
                  <a:pt x="512" y="897"/>
                </a:lnTo>
                <a:lnTo>
                  <a:pt x="532" y="916"/>
                </a:lnTo>
                <a:lnTo>
                  <a:pt x="552" y="931"/>
                </a:lnTo>
                <a:lnTo>
                  <a:pt x="573" y="943"/>
                </a:lnTo>
                <a:lnTo>
                  <a:pt x="595" y="948"/>
                </a:lnTo>
                <a:lnTo>
                  <a:pt x="617" y="951"/>
                </a:lnTo>
                <a:lnTo>
                  <a:pt x="638" y="948"/>
                </a:lnTo>
                <a:lnTo>
                  <a:pt x="659" y="941"/>
                </a:lnTo>
                <a:lnTo>
                  <a:pt x="681" y="931"/>
                </a:lnTo>
                <a:lnTo>
                  <a:pt x="701" y="915"/>
                </a:lnTo>
                <a:lnTo>
                  <a:pt x="720" y="896"/>
                </a:lnTo>
                <a:lnTo>
                  <a:pt x="739" y="873"/>
                </a:lnTo>
                <a:lnTo>
                  <a:pt x="757" y="846"/>
                </a:lnTo>
                <a:lnTo>
                  <a:pt x="773" y="815"/>
                </a:lnTo>
                <a:lnTo>
                  <a:pt x="788" y="782"/>
                </a:lnTo>
                <a:lnTo>
                  <a:pt x="800" y="744"/>
                </a:lnTo>
                <a:lnTo>
                  <a:pt x="812" y="706"/>
                </a:lnTo>
                <a:lnTo>
                  <a:pt x="827" y="711"/>
                </a:lnTo>
                <a:lnTo>
                  <a:pt x="840" y="714"/>
                </a:lnTo>
                <a:lnTo>
                  <a:pt x="855" y="711"/>
                </a:lnTo>
                <a:lnTo>
                  <a:pt x="870" y="705"/>
                </a:lnTo>
                <a:lnTo>
                  <a:pt x="884" y="694"/>
                </a:lnTo>
                <a:lnTo>
                  <a:pt x="896" y="681"/>
                </a:lnTo>
                <a:lnTo>
                  <a:pt x="909" y="664"/>
                </a:lnTo>
                <a:lnTo>
                  <a:pt x="919" y="643"/>
                </a:lnTo>
                <a:lnTo>
                  <a:pt x="929" y="620"/>
                </a:lnTo>
                <a:lnTo>
                  <a:pt x="937" y="594"/>
                </a:lnTo>
                <a:lnTo>
                  <a:pt x="943" y="567"/>
                </a:lnTo>
                <a:lnTo>
                  <a:pt x="947" y="537"/>
                </a:lnTo>
                <a:lnTo>
                  <a:pt x="951" y="506"/>
                </a:lnTo>
                <a:lnTo>
                  <a:pt x="952" y="476"/>
                </a:lnTo>
                <a:lnTo>
                  <a:pt x="951" y="445"/>
                </a:lnTo>
                <a:lnTo>
                  <a:pt x="947" y="414"/>
                </a:lnTo>
                <a:lnTo>
                  <a:pt x="943" y="386"/>
                </a:lnTo>
                <a:lnTo>
                  <a:pt x="937" y="357"/>
                </a:lnTo>
                <a:lnTo>
                  <a:pt x="929" y="332"/>
                </a:lnTo>
                <a:lnTo>
                  <a:pt x="919" y="308"/>
                </a:lnTo>
                <a:lnTo>
                  <a:pt x="909" y="288"/>
                </a:lnTo>
                <a:lnTo>
                  <a:pt x="896" y="270"/>
                </a:lnTo>
                <a:lnTo>
                  <a:pt x="884" y="257"/>
                </a:lnTo>
                <a:lnTo>
                  <a:pt x="870" y="247"/>
                </a:lnTo>
                <a:lnTo>
                  <a:pt x="855" y="241"/>
                </a:lnTo>
                <a:lnTo>
                  <a:pt x="840" y="239"/>
                </a:lnTo>
                <a:lnTo>
                  <a:pt x="827" y="240"/>
                </a:lnTo>
                <a:lnTo>
                  <a:pt x="812" y="245"/>
                </a:lnTo>
                <a:lnTo>
                  <a:pt x="800" y="207"/>
                </a:lnTo>
                <a:lnTo>
                  <a:pt x="788" y="170"/>
                </a:lnTo>
                <a:lnTo>
                  <a:pt x="773" y="136"/>
                </a:lnTo>
                <a:lnTo>
                  <a:pt x="757" y="105"/>
                </a:lnTo>
                <a:lnTo>
                  <a:pt x="739" y="79"/>
                </a:lnTo>
                <a:lnTo>
                  <a:pt x="720" y="55"/>
                </a:lnTo>
                <a:lnTo>
                  <a:pt x="701" y="36"/>
                </a:lnTo>
                <a:lnTo>
                  <a:pt x="681" y="21"/>
                </a:lnTo>
                <a:lnTo>
                  <a:pt x="659" y="10"/>
                </a:lnTo>
                <a:lnTo>
                  <a:pt x="638" y="3"/>
                </a:lnTo>
                <a:lnTo>
                  <a:pt x="617" y="0"/>
                </a:lnTo>
                <a:lnTo>
                  <a:pt x="595" y="3"/>
                </a:lnTo>
                <a:lnTo>
                  <a:pt x="573" y="10"/>
                </a:lnTo>
                <a:lnTo>
                  <a:pt x="552" y="20"/>
                </a:lnTo>
                <a:lnTo>
                  <a:pt x="532" y="36"/>
                </a:lnTo>
                <a:lnTo>
                  <a:pt x="512" y="54"/>
                </a:lnTo>
                <a:lnTo>
                  <a:pt x="494" y="78"/>
                </a:lnTo>
                <a:lnTo>
                  <a:pt x="477" y="105"/>
                </a:lnTo>
                <a:lnTo>
                  <a:pt x="458" y="78"/>
                </a:lnTo>
                <a:lnTo>
                  <a:pt x="440" y="54"/>
                </a:lnTo>
                <a:lnTo>
                  <a:pt x="421" y="36"/>
                </a:lnTo>
                <a:lnTo>
                  <a:pt x="400" y="20"/>
                </a:lnTo>
                <a:lnTo>
                  <a:pt x="378" y="10"/>
                </a:lnTo>
                <a:lnTo>
                  <a:pt x="357" y="3"/>
                </a:lnTo>
                <a:lnTo>
                  <a:pt x="336" y="0"/>
                </a:lnTo>
                <a:lnTo>
                  <a:pt x="315" y="3"/>
                </a:lnTo>
                <a:lnTo>
                  <a:pt x="293" y="10"/>
                </a:lnTo>
                <a:lnTo>
                  <a:pt x="271" y="21"/>
                </a:lnTo>
                <a:lnTo>
                  <a:pt x="251" y="36"/>
                </a:lnTo>
                <a:lnTo>
                  <a:pt x="231" y="55"/>
                </a:lnTo>
                <a:lnTo>
                  <a:pt x="213" y="79"/>
                </a:lnTo>
                <a:lnTo>
                  <a:pt x="196" y="105"/>
                </a:lnTo>
                <a:lnTo>
                  <a:pt x="179" y="136"/>
                </a:lnTo>
                <a:lnTo>
                  <a:pt x="165" y="170"/>
                </a:lnTo>
                <a:lnTo>
                  <a:pt x="152" y="207"/>
                </a:lnTo>
                <a:lnTo>
                  <a:pt x="140" y="245"/>
                </a:lnTo>
                <a:lnTo>
                  <a:pt x="127" y="240"/>
                </a:lnTo>
                <a:lnTo>
                  <a:pt x="112" y="239"/>
                </a:lnTo>
                <a:lnTo>
                  <a:pt x="97" y="241"/>
                </a:lnTo>
                <a:lnTo>
                  <a:pt x="83" y="247"/>
                </a:lnTo>
                <a:lnTo>
                  <a:pt x="68" y="257"/>
                </a:lnTo>
                <a:lnTo>
                  <a:pt x="56" y="270"/>
                </a:lnTo>
                <a:lnTo>
                  <a:pt x="43" y="288"/>
                </a:lnTo>
                <a:lnTo>
                  <a:pt x="33" y="308"/>
                </a:lnTo>
                <a:lnTo>
                  <a:pt x="23" y="332"/>
                </a:lnTo>
                <a:lnTo>
                  <a:pt x="15" y="357"/>
                </a:lnTo>
                <a:lnTo>
                  <a:pt x="9" y="386"/>
                </a:lnTo>
                <a:lnTo>
                  <a:pt x="5" y="414"/>
                </a:lnTo>
                <a:lnTo>
                  <a:pt x="1" y="445"/>
                </a:lnTo>
                <a:lnTo>
                  <a:pt x="0" y="476"/>
                </a:lnTo>
                <a:lnTo>
                  <a:pt x="1" y="506"/>
                </a:lnTo>
                <a:lnTo>
                  <a:pt x="5" y="537"/>
                </a:lnTo>
                <a:lnTo>
                  <a:pt x="9" y="567"/>
                </a:lnTo>
                <a:lnTo>
                  <a:pt x="15" y="594"/>
                </a:lnTo>
                <a:lnTo>
                  <a:pt x="23" y="620"/>
                </a:lnTo>
                <a:lnTo>
                  <a:pt x="33" y="643"/>
                </a:lnTo>
                <a:lnTo>
                  <a:pt x="43" y="664"/>
                </a:lnTo>
                <a:lnTo>
                  <a:pt x="56" y="681"/>
                </a:lnTo>
                <a:lnTo>
                  <a:pt x="68" y="694"/>
                </a:lnTo>
                <a:lnTo>
                  <a:pt x="83" y="705"/>
                </a:lnTo>
                <a:lnTo>
                  <a:pt x="97" y="711"/>
                </a:lnTo>
                <a:lnTo>
                  <a:pt x="112" y="714"/>
                </a:lnTo>
                <a:lnTo>
                  <a:pt x="127" y="711"/>
                </a:lnTo>
                <a:lnTo>
                  <a:pt x="140" y="706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88520" y="411336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0320" y="3567240"/>
            <a:ext cx="915840" cy="4600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46680" y="3733920"/>
            <a:ext cx="87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30840" y="4584600"/>
            <a:ext cx="919080" cy="4604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aling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92720" y="1758960"/>
            <a:ext cx="1139760" cy="8524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22600" y="2041560"/>
            <a:ext cx="104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6160" y="3797280"/>
            <a:ext cx="468360" cy="388800"/>
          </a:xfrm>
          <a:custGeom>
            <a:avLst/>
            <a:gdLst/>
            <a:ahLst/>
            <a:rect l="l" t="t" r="r" b="b"/>
            <a:pathLst>
              <a:path w="295" h="245">
                <a:moveTo>
                  <a:pt x="0" y="0"/>
                </a:moveTo>
                <a:lnTo>
                  <a:pt x="129" y="0"/>
                </a:lnTo>
                <a:lnTo>
                  <a:pt x="129" y="245"/>
                </a:lnTo>
                <a:lnTo>
                  <a:pt x="295" y="24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49920" y="4815000"/>
            <a:ext cx="978120" cy="330120"/>
          </a:xfrm>
          <a:custGeom>
            <a:avLst/>
            <a:gdLst/>
            <a:ahLst/>
            <a:rect l="l" t="t" r="r" b="b"/>
            <a:pathLst>
              <a:path w="616" h="208">
                <a:moveTo>
                  <a:pt x="0" y="0"/>
                </a:moveTo>
                <a:lnTo>
                  <a:pt x="127" y="0"/>
                </a:lnTo>
                <a:lnTo>
                  <a:pt x="127" y="208"/>
                </a:lnTo>
                <a:lnTo>
                  <a:pt x="616" y="208"/>
                </a:lnTo>
                <a:lnTo>
                  <a:pt x="616" y="7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11640" y="2787480"/>
            <a:ext cx="407880" cy="729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59080" y="2066760"/>
            <a:ext cx="1814400" cy="1476720"/>
          </a:xfrm>
          <a:custGeom>
            <a:avLst/>
            <a:gdLst/>
            <a:ahLst/>
            <a:rect l="l" t="t" r="r" b="b"/>
            <a:pathLst>
              <a:path w="1143" h="930">
                <a:moveTo>
                  <a:pt x="976" y="241"/>
                </a:moveTo>
                <a:lnTo>
                  <a:pt x="962" y="202"/>
                </a:lnTo>
                <a:lnTo>
                  <a:pt x="946" y="167"/>
                </a:lnTo>
                <a:lnTo>
                  <a:pt x="928" y="134"/>
                </a:lnTo>
                <a:lnTo>
                  <a:pt x="908" y="104"/>
                </a:lnTo>
                <a:lnTo>
                  <a:pt x="888" y="77"/>
                </a:lnTo>
                <a:lnTo>
                  <a:pt x="865" y="54"/>
                </a:lnTo>
                <a:lnTo>
                  <a:pt x="841" y="36"/>
                </a:lnTo>
                <a:lnTo>
                  <a:pt x="817" y="20"/>
                </a:lnTo>
                <a:lnTo>
                  <a:pt x="792" y="9"/>
                </a:lnTo>
                <a:lnTo>
                  <a:pt x="766" y="3"/>
                </a:lnTo>
                <a:lnTo>
                  <a:pt x="740" y="0"/>
                </a:lnTo>
                <a:lnTo>
                  <a:pt x="715" y="3"/>
                </a:lnTo>
                <a:lnTo>
                  <a:pt x="688" y="9"/>
                </a:lnTo>
                <a:lnTo>
                  <a:pt x="663" y="20"/>
                </a:lnTo>
                <a:lnTo>
                  <a:pt x="638" y="35"/>
                </a:lnTo>
                <a:lnTo>
                  <a:pt x="615" y="54"/>
                </a:lnTo>
                <a:lnTo>
                  <a:pt x="593" y="77"/>
                </a:lnTo>
                <a:lnTo>
                  <a:pt x="572" y="103"/>
                </a:lnTo>
                <a:lnTo>
                  <a:pt x="550" y="77"/>
                </a:lnTo>
                <a:lnTo>
                  <a:pt x="528" y="54"/>
                </a:lnTo>
                <a:lnTo>
                  <a:pt x="505" y="35"/>
                </a:lnTo>
                <a:lnTo>
                  <a:pt x="480" y="20"/>
                </a:lnTo>
                <a:lnTo>
                  <a:pt x="455" y="9"/>
                </a:lnTo>
                <a:lnTo>
                  <a:pt x="428" y="3"/>
                </a:lnTo>
                <a:lnTo>
                  <a:pt x="403" y="0"/>
                </a:lnTo>
                <a:lnTo>
                  <a:pt x="377" y="3"/>
                </a:lnTo>
                <a:lnTo>
                  <a:pt x="351" y="9"/>
                </a:lnTo>
                <a:lnTo>
                  <a:pt x="326" y="20"/>
                </a:lnTo>
                <a:lnTo>
                  <a:pt x="302" y="36"/>
                </a:lnTo>
                <a:lnTo>
                  <a:pt x="278" y="54"/>
                </a:lnTo>
                <a:lnTo>
                  <a:pt x="255" y="77"/>
                </a:lnTo>
                <a:lnTo>
                  <a:pt x="235" y="104"/>
                </a:lnTo>
                <a:lnTo>
                  <a:pt x="215" y="134"/>
                </a:lnTo>
                <a:lnTo>
                  <a:pt x="197" y="167"/>
                </a:lnTo>
                <a:lnTo>
                  <a:pt x="182" y="202"/>
                </a:lnTo>
                <a:lnTo>
                  <a:pt x="168" y="241"/>
                </a:lnTo>
                <a:lnTo>
                  <a:pt x="150" y="235"/>
                </a:lnTo>
                <a:lnTo>
                  <a:pt x="133" y="233"/>
                </a:lnTo>
                <a:lnTo>
                  <a:pt x="116" y="235"/>
                </a:lnTo>
                <a:lnTo>
                  <a:pt x="99" y="241"/>
                </a:lnTo>
                <a:lnTo>
                  <a:pt x="82" y="251"/>
                </a:lnTo>
                <a:lnTo>
                  <a:pt x="66" y="265"/>
                </a:lnTo>
                <a:lnTo>
                  <a:pt x="52" y="282"/>
                </a:lnTo>
                <a:lnTo>
                  <a:pt x="38" y="301"/>
                </a:lnTo>
                <a:lnTo>
                  <a:pt x="27" y="324"/>
                </a:lnTo>
                <a:lnTo>
                  <a:pt x="18" y="350"/>
                </a:lnTo>
                <a:lnTo>
                  <a:pt x="10" y="376"/>
                </a:lnTo>
                <a:lnTo>
                  <a:pt x="4" y="406"/>
                </a:lnTo>
                <a:lnTo>
                  <a:pt x="1" y="436"/>
                </a:lnTo>
                <a:lnTo>
                  <a:pt x="0" y="465"/>
                </a:lnTo>
                <a:lnTo>
                  <a:pt x="1" y="496"/>
                </a:lnTo>
                <a:lnTo>
                  <a:pt x="4" y="526"/>
                </a:lnTo>
                <a:lnTo>
                  <a:pt x="10" y="554"/>
                </a:lnTo>
                <a:lnTo>
                  <a:pt x="18" y="581"/>
                </a:lnTo>
                <a:lnTo>
                  <a:pt x="27" y="606"/>
                </a:lnTo>
                <a:lnTo>
                  <a:pt x="38" y="629"/>
                </a:lnTo>
                <a:lnTo>
                  <a:pt x="52" y="649"/>
                </a:lnTo>
                <a:lnTo>
                  <a:pt x="66" y="666"/>
                </a:lnTo>
                <a:lnTo>
                  <a:pt x="82" y="679"/>
                </a:lnTo>
                <a:lnTo>
                  <a:pt x="99" y="690"/>
                </a:lnTo>
                <a:lnTo>
                  <a:pt x="116" y="695"/>
                </a:lnTo>
                <a:lnTo>
                  <a:pt x="133" y="698"/>
                </a:lnTo>
                <a:lnTo>
                  <a:pt x="150" y="695"/>
                </a:lnTo>
                <a:lnTo>
                  <a:pt x="168" y="690"/>
                </a:lnTo>
                <a:lnTo>
                  <a:pt x="182" y="728"/>
                </a:lnTo>
                <a:lnTo>
                  <a:pt x="197" y="764"/>
                </a:lnTo>
                <a:lnTo>
                  <a:pt x="215" y="797"/>
                </a:lnTo>
                <a:lnTo>
                  <a:pt x="235" y="828"/>
                </a:lnTo>
                <a:lnTo>
                  <a:pt x="255" y="854"/>
                </a:lnTo>
                <a:lnTo>
                  <a:pt x="278" y="877"/>
                </a:lnTo>
                <a:lnTo>
                  <a:pt x="302" y="895"/>
                </a:lnTo>
                <a:lnTo>
                  <a:pt x="326" y="911"/>
                </a:lnTo>
                <a:lnTo>
                  <a:pt x="351" y="921"/>
                </a:lnTo>
                <a:lnTo>
                  <a:pt x="377" y="928"/>
                </a:lnTo>
                <a:lnTo>
                  <a:pt x="403" y="930"/>
                </a:lnTo>
                <a:lnTo>
                  <a:pt x="428" y="928"/>
                </a:lnTo>
                <a:lnTo>
                  <a:pt x="455" y="921"/>
                </a:lnTo>
                <a:lnTo>
                  <a:pt x="480" y="911"/>
                </a:lnTo>
                <a:lnTo>
                  <a:pt x="505" y="896"/>
                </a:lnTo>
                <a:lnTo>
                  <a:pt x="528" y="877"/>
                </a:lnTo>
                <a:lnTo>
                  <a:pt x="550" y="855"/>
                </a:lnTo>
                <a:lnTo>
                  <a:pt x="572" y="828"/>
                </a:lnTo>
                <a:lnTo>
                  <a:pt x="593" y="855"/>
                </a:lnTo>
                <a:lnTo>
                  <a:pt x="615" y="877"/>
                </a:lnTo>
                <a:lnTo>
                  <a:pt x="638" y="896"/>
                </a:lnTo>
                <a:lnTo>
                  <a:pt x="663" y="911"/>
                </a:lnTo>
                <a:lnTo>
                  <a:pt x="688" y="921"/>
                </a:lnTo>
                <a:lnTo>
                  <a:pt x="715" y="928"/>
                </a:lnTo>
                <a:lnTo>
                  <a:pt x="740" y="930"/>
                </a:lnTo>
                <a:lnTo>
                  <a:pt x="766" y="928"/>
                </a:lnTo>
                <a:lnTo>
                  <a:pt x="792" y="921"/>
                </a:lnTo>
                <a:lnTo>
                  <a:pt x="817" y="911"/>
                </a:lnTo>
                <a:lnTo>
                  <a:pt x="841" y="895"/>
                </a:lnTo>
                <a:lnTo>
                  <a:pt x="865" y="877"/>
                </a:lnTo>
                <a:lnTo>
                  <a:pt x="888" y="854"/>
                </a:lnTo>
                <a:lnTo>
                  <a:pt x="908" y="828"/>
                </a:lnTo>
                <a:lnTo>
                  <a:pt x="928" y="797"/>
                </a:lnTo>
                <a:lnTo>
                  <a:pt x="946" y="764"/>
                </a:lnTo>
                <a:lnTo>
                  <a:pt x="962" y="728"/>
                </a:lnTo>
                <a:lnTo>
                  <a:pt x="976" y="690"/>
                </a:lnTo>
                <a:lnTo>
                  <a:pt x="993" y="695"/>
                </a:lnTo>
                <a:lnTo>
                  <a:pt x="1010" y="698"/>
                </a:lnTo>
                <a:lnTo>
                  <a:pt x="1027" y="695"/>
                </a:lnTo>
                <a:lnTo>
                  <a:pt x="1044" y="690"/>
                </a:lnTo>
                <a:lnTo>
                  <a:pt x="1061" y="679"/>
                </a:lnTo>
                <a:lnTo>
                  <a:pt x="1077" y="666"/>
                </a:lnTo>
                <a:lnTo>
                  <a:pt x="1091" y="649"/>
                </a:lnTo>
                <a:lnTo>
                  <a:pt x="1104" y="629"/>
                </a:lnTo>
                <a:lnTo>
                  <a:pt x="1116" y="606"/>
                </a:lnTo>
                <a:lnTo>
                  <a:pt x="1125" y="581"/>
                </a:lnTo>
                <a:lnTo>
                  <a:pt x="1133" y="554"/>
                </a:lnTo>
                <a:lnTo>
                  <a:pt x="1139" y="526"/>
                </a:lnTo>
                <a:lnTo>
                  <a:pt x="1142" y="496"/>
                </a:lnTo>
                <a:lnTo>
                  <a:pt x="1143" y="465"/>
                </a:lnTo>
                <a:lnTo>
                  <a:pt x="1142" y="436"/>
                </a:lnTo>
                <a:lnTo>
                  <a:pt x="1139" y="406"/>
                </a:lnTo>
                <a:lnTo>
                  <a:pt x="1133" y="376"/>
                </a:lnTo>
                <a:lnTo>
                  <a:pt x="1125" y="350"/>
                </a:lnTo>
                <a:lnTo>
                  <a:pt x="1116" y="324"/>
                </a:lnTo>
                <a:lnTo>
                  <a:pt x="1104" y="301"/>
                </a:lnTo>
                <a:lnTo>
                  <a:pt x="1091" y="282"/>
                </a:lnTo>
                <a:lnTo>
                  <a:pt x="1077" y="265"/>
                </a:lnTo>
                <a:lnTo>
                  <a:pt x="1061" y="251"/>
                </a:lnTo>
                <a:lnTo>
                  <a:pt x="1044" y="241"/>
                </a:lnTo>
                <a:lnTo>
                  <a:pt x="1027" y="235"/>
                </a:lnTo>
                <a:lnTo>
                  <a:pt x="1010" y="233"/>
                </a:lnTo>
                <a:lnTo>
                  <a:pt x="993" y="235"/>
                </a:lnTo>
                <a:lnTo>
                  <a:pt x="976" y="241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33280" y="25891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FC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55320" y="2733840"/>
            <a:ext cx="48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93400" y="287820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J.1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301920" y="4772160"/>
            <a:ext cx="382680" cy="43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0960" y="2138400"/>
            <a:ext cx="1249560" cy="6303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2240" y="2236680"/>
            <a:ext cx="554040" cy="40968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9360" y="2236680"/>
            <a:ext cx="406440" cy="40968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9560" y="237024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2400" y="1973160"/>
            <a:ext cx="95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edded M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6280" y="2579760"/>
            <a:ext cx="554040" cy="40968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28240" y="27115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92120" y="4492800"/>
            <a:ext cx="1814760" cy="1474560"/>
          </a:xfrm>
          <a:custGeom>
            <a:avLst/>
            <a:gdLst/>
            <a:ahLst/>
            <a:rect l="l" t="t" r="r" b="b"/>
            <a:pathLst>
              <a:path w="1143" h="929">
                <a:moveTo>
                  <a:pt x="974" y="239"/>
                </a:moveTo>
                <a:lnTo>
                  <a:pt x="961" y="202"/>
                </a:lnTo>
                <a:lnTo>
                  <a:pt x="945" y="165"/>
                </a:lnTo>
                <a:lnTo>
                  <a:pt x="928" y="132"/>
                </a:lnTo>
                <a:lnTo>
                  <a:pt x="908" y="103"/>
                </a:lnTo>
                <a:lnTo>
                  <a:pt x="887" y="77"/>
                </a:lnTo>
                <a:lnTo>
                  <a:pt x="865" y="54"/>
                </a:lnTo>
                <a:lnTo>
                  <a:pt x="841" y="34"/>
                </a:lnTo>
                <a:lnTo>
                  <a:pt x="816" y="20"/>
                </a:lnTo>
                <a:lnTo>
                  <a:pt x="791" y="9"/>
                </a:lnTo>
                <a:lnTo>
                  <a:pt x="766" y="2"/>
                </a:lnTo>
                <a:lnTo>
                  <a:pt x="739" y="0"/>
                </a:lnTo>
                <a:lnTo>
                  <a:pt x="713" y="2"/>
                </a:lnTo>
                <a:lnTo>
                  <a:pt x="688" y="8"/>
                </a:lnTo>
                <a:lnTo>
                  <a:pt x="662" y="20"/>
                </a:lnTo>
                <a:lnTo>
                  <a:pt x="638" y="34"/>
                </a:lnTo>
                <a:lnTo>
                  <a:pt x="614" y="53"/>
                </a:lnTo>
                <a:lnTo>
                  <a:pt x="592" y="75"/>
                </a:lnTo>
                <a:lnTo>
                  <a:pt x="571" y="102"/>
                </a:lnTo>
                <a:lnTo>
                  <a:pt x="550" y="75"/>
                </a:lnTo>
                <a:lnTo>
                  <a:pt x="527" y="53"/>
                </a:lnTo>
                <a:lnTo>
                  <a:pt x="503" y="34"/>
                </a:lnTo>
                <a:lnTo>
                  <a:pt x="480" y="20"/>
                </a:lnTo>
                <a:lnTo>
                  <a:pt x="454" y="8"/>
                </a:lnTo>
                <a:lnTo>
                  <a:pt x="428" y="2"/>
                </a:lnTo>
                <a:lnTo>
                  <a:pt x="402" y="0"/>
                </a:lnTo>
                <a:lnTo>
                  <a:pt x="376" y="2"/>
                </a:lnTo>
                <a:lnTo>
                  <a:pt x="351" y="9"/>
                </a:lnTo>
                <a:lnTo>
                  <a:pt x="326" y="20"/>
                </a:lnTo>
                <a:lnTo>
                  <a:pt x="301" y="34"/>
                </a:lnTo>
                <a:lnTo>
                  <a:pt x="277" y="54"/>
                </a:lnTo>
                <a:lnTo>
                  <a:pt x="255" y="77"/>
                </a:lnTo>
                <a:lnTo>
                  <a:pt x="233" y="103"/>
                </a:lnTo>
                <a:lnTo>
                  <a:pt x="214" y="132"/>
                </a:lnTo>
                <a:lnTo>
                  <a:pt x="197" y="165"/>
                </a:lnTo>
                <a:lnTo>
                  <a:pt x="181" y="202"/>
                </a:lnTo>
                <a:lnTo>
                  <a:pt x="167" y="239"/>
                </a:lnTo>
                <a:lnTo>
                  <a:pt x="150" y="234"/>
                </a:lnTo>
                <a:lnTo>
                  <a:pt x="133" y="233"/>
                </a:lnTo>
                <a:lnTo>
                  <a:pt x="115" y="235"/>
                </a:lnTo>
                <a:lnTo>
                  <a:pt x="98" y="241"/>
                </a:lnTo>
                <a:lnTo>
                  <a:pt x="82" y="251"/>
                </a:lnTo>
                <a:lnTo>
                  <a:pt x="66" y="265"/>
                </a:lnTo>
                <a:lnTo>
                  <a:pt x="51" y="280"/>
                </a:lnTo>
                <a:lnTo>
                  <a:pt x="38" y="301"/>
                </a:lnTo>
                <a:lnTo>
                  <a:pt x="27" y="324"/>
                </a:lnTo>
                <a:lnTo>
                  <a:pt x="17" y="349"/>
                </a:lnTo>
                <a:lnTo>
                  <a:pt x="9" y="376"/>
                </a:lnTo>
                <a:lnTo>
                  <a:pt x="3" y="405"/>
                </a:lnTo>
                <a:lnTo>
                  <a:pt x="0" y="434"/>
                </a:lnTo>
                <a:lnTo>
                  <a:pt x="0" y="465"/>
                </a:lnTo>
                <a:lnTo>
                  <a:pt x="0" y="495"/>
                </a:lnTo>
                <a:lnTo>
                  <a:pt x="3" y="524"/>
                </a:lnTo>
                <a:lnTo>
                  <a:pt x="9" y="553"/>
                </a:lnTo>
                <a:lnTo>
                  <a:pt x="17" y="580"/>
                </a:lnTo>
                <a:lnTo>
                  <a:pt x="27" y="605"/>
                </a:lnTo>
                <a:lnTo>
                  <a:pt x="38" y="628"/>
                </a:lnTo>
                <a:lnTo>
                  <a:pt x="51" y="648"/>
                </a:lnTo>
                <a:lnTo>
                  <a:pt x="66" y="666"/>
                </a:lnTo>
                <a:lnTo>
                  <a:pt x="82" y="679"/>
                </a:lnTo>
                <a:lnTo>
                  <a:pt x="98" y="688"/>
                </a:lnTo>
                <a:lnTo>
                  <a:pt x="115" y="695"/>
                </a:lnTo>
                <a:lnTo>
                  <a:pt x="133" y="697"/>
                </a:lnTo>
                <a:lnTo>
                  <a:pt x="150" y="695"/>
                </a:lnTo>
                <a:lnTo>
                  <a:pt x="167" y="689"/>
                </a:lnTo>
                <a:lnTo>
                  <a:pt x="181" y="728"/>
                </a:lnTo>
                <a:lnTo>
                  <a:pt x="197" y="764"/>
                </a:lnTo>
                <a:lnTo>
                  <a:pt x="214" y="797"/>
                </a:lnTo>
                <a:lnTo>
                  <a:pt x="233" y="826"/>
                </a:lnTo>
                <a:lnTo>
                  <a:pt x="255" y="852"/>
                </a:lnTo>
                <a:lnTo>
                  <a:pt x="277" y="875"/>
                </a:lnTo>
                <a:lnTo>
                  <a:pt x="301" y="895"/>
                </a:lnTo>
                <a:lnTo>
                  <a:pt x="326" y="909"/>
                </a:lnTo>
                <a:lnTo>
                  <a:pt x="351" y="921"/>
                </a:lnTo>
                <a:lnTo>
                  <a:pt x="376" y="928"/>
                </a:lnTo>
                <a:lnTo>
                  <a:pt x="402" y="929"/>
                </a:lnTo>
                <a:lnTo>
                  <a:pt x="428" y="928"/>
                </a:lnTo>
                <a:lnTo>
                  <a:pt x="454" y="921"/>
                </a:lnTo>
                <a:lnTo>
                  <a:pt x="480" y="911"/>
                </a:lnTo>
                <a:lnTo>
                  <a:pt x="503" y="896"/>
                </a:lnTo>
                <a:lnTo>
                  <a:pt x="527" y="876"/>
                </a:lnTo>
                <a:lnTo>
                  <a:pt x="550" y="854"/>
                </a:lnTo>
                <a:lnTo>
                  <a:pt x="571" y="827"/>
                </a:lnTo>
                <a:lnTo>
                  <a:pt x="592" y="854"/>
                </a:lnTo>
                <a:lnTo>
                  <a:pt x="614" y="876"/>
                </a:lnTo>
                <a:lnTo>
                  <a:pt x="638" y="896"/>
                </a:lnTo>
                <a:lnTo>
                  <a:pt x="662" y="911"/>
                </a:lnTo>
                <a:lnTo>
                  <a:pt x="688" y="921"/>
                </a:lnTo>
                <a:lnTo>
                  <a:pt x="713" y="928"/>
                </a:lnTo>
                <a:lnTo>
                  <a:pt x="739" y="929"/>
                </a:lnTo>
                <a:lnTo>
                  <a:pt x="766" y="928"/>
                </a:lnTo>
                <a:lnTo>
                  <a:pt x="791" y="921"/>
                </a:lnTo>
                <a:lnTo>
                  <a:pt x="816" y="909"/>
                </a:lnTo>
                <a:lnTo>
                  <a:pt x="841" y="895"/>
                </a:lnTo>
                <a:lnTo>
                  <a:pt x="865" y="875"/>
                </a:lnTo>
                <a:lnTo>
                  <a:pt x="887" y="852"/>
                </a:lnTo>
                <a:lnTo>
                  <a:pt x="908" y="826"/>
                </a:lnTo>
                <a:lnTo>
                  <a:pt x="928" y="797"/>
                </a:lnTo>
                <a:lnTo>
                  <a:pt x="945" y="764"/>
                </a:lnTo>
                <a:lnTo>
                  <a:pt x="961" y="728"/>
                </a:lnTo>
                <a:lnTo>
                  <a:pt x="974" y="689"/>
                </a:lnTo>
                <a:lnTo>
                  <a:pt x="991" y="695"/>
                </a:lnTo>
                <a:lnTo>
                  <a:pt x="1010" y="697"/>
                </a:lnTo>
                <a:lnTo>
                  <a:pt x="1027" y="695"/>
                </a:lnTo>
                <a:lnTo>
                  <a:pt x="1044" y="688"/>
                </a:lnTo>
                <a:lnTo>
                  <a:pt x="1060" y="679"/>
                </a:lnTo>
                <a:lnTo>
                  <a:pt x="1076" y="666"/>
                </a:lnTo>
                <a:lnTo>
                  <a:pt x="1091" y="648"/>
                </a:lnTo>
                <a:lnTo>
                  <a:pt x="1103" y="628"/>
                </a:lnTo>
                <a:lnTo>
                  <a:pt x="1115" y="605"/>
                </a:lnTo>
                <a:lnTo>
                  <a:pt x="1125" y="580"/>
                </a:lnTo>
                <a:lnTo>
                  <a:pt x="1133" y="553"/>
                </a:lnTo>
                <a:lnTo>
                  <a:pt x="1138" y="524"/>
                </a:lnTo>
                <a:lnTo>
                  <a:pt x="1142" y="495"/>
                </a:lnTo>
                <a:lnTo>
                  <a:pt x="1143" y="465"/>
                </a:lnTo>
                <a:lnTo>
                  <a:pt x="1142" y="434"/>
                </a:lnTo>
                <a:lnTo>
                  <a:pt x="1138" y="405"/>
                </a:lnTo>
                <a:lnTo>
                  <a:pt x="1133" y="376"/>
                </a:lnTo>
                <a:lnTo>
                  <a:pt x="1125" y="349"/>
                </a:lnTo>
                <a:lnTo>
                  <a:pt x="1115" y="324"/>
                </a:lnTo>
                <a:lnTo>
                  <a:pt x="1103" y="301"/>
                </a:lnTo>
                <a:lnTo>
                  <a:pt x="1091" y="280"/>
                </a:lnTo>
                <a:lnTo>
                  <a:pt x="1076" y="265"/>
                </a:lnTo>
                <a:lnTo>
                  <a:pt x="1060" y="251"/>
                </a:lnTo>
                <a:lnTo>
                  <a:pt x="1044" y="241"/>
                </a:lnTo>
                <a:lnTo>
                  <a:pt x="1027" y="235"/>
                </a:lnTo>
                <a:lnTo>
                  <a:pt x="1010" y="233"/>
                </a:lnTo>
                <a:lnTo>
                  <a:pt x="991" y="234"/>
                </a:lnTo>
                <a:lnTo>
                  <a:pt x="974" y="239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6320" y="50148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FC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85480" y="5159520"/>
            <a:ext cx="48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5000" y="5303880"/>
            <a:ext cx="40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J.11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4360" y="4560840"/>
            <a:ext cx="1249200" cy="6336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23840" y="4660920"/>
            <a:ext cx="554040" cy="41112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00520" y="4702320"/>
            <a:ext cx="42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0960" y="4660920"/>
            <a:ext cx="405000" cy="41112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720" y="47941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5800" y="4398840"/>
            <a:ext cx="95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bedded M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9680" y="5005440"/>
            <a:ext cx="552240" cy="407880"/>
          </a:xfrm>
          <a:prstGeom prst="rect">
            <a:avLst/>
          </a:prstGeom>
          <a:solidFill>
            <a:srgbClr val="e6e6e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9840" y="513720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35800" y="5121360"/>
            <a:ext cx="87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76920" y="5121360"/>
            <a:ext cx="87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18040" y="5121360"/>
            <a:ext cx="87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59520" y="5121360"/>
            <a:ext cx="87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00640" y="5121360"/>
            <a:ext cx="86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2120" y="512136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83240" y="512136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4720" y="512136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21560" y="499104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721560" y="484992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6721560" y="470844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721560" y="456732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6721560" y="442548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721560" y="428472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721560" y="414288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721560" y="400212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721560" y="386244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721560" y="3720600"/>
            <a:ext cx="1440" cy="8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721560" y="357984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73680" y="3486240"/>
            <a:ext cx="47880" cy="39600"/>
          </a:xfrm>
          <a:custGeom>
            <a:avLst/>
            <a:gdLst/>
            <a:ahLst/>
            <a:rect l="l" t="t" r="r" b="b"/>
            <a:pathLst>
              <a:path w="26" h="22">
                <a:moveTo>
                  <a:pt x="26" y="22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533640" y="3486240"/>
            <a:ext cx="86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392880" y="348624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251040" y="3486240"/>
            <a:ext cx="86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110280" y="3486240"/>
            <a:ext cx="85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969160" y="3486240"/>
            <a:ext cx="87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827320" y="3486240"/>
            <a:ext cx="87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686560" y="3486240"/>
            <a:ext cx="871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35800" y="348948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5800" y="363060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5800" y="377208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5800" y="391176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35800" y="405288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5800" y="419400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5800" y="433548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35800" y="4476600"/>
            <a:ext cx="144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35800" y="4618080"/>
            <a:ext cx="144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35800" y="475920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5800" y="4900680"/>
            <a:ext cx="144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35800" y="5040360"/>
            <a:ext cx="1440" cy="81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21480" y="4075200"/>
            <a:ext cx="915840" cy="4618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0720" y="4162320"/>
            <a:ext cx="87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81640" y="5373720"/>
            <a:ext cx="998640" cy="8524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S Back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533920" y="2643120"/>
            <a:ext cx="824040" cy="7034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42720" y="2851200"/>
            <a:ext cx="43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91240" y="2622600"/>
            <a:ext cx="142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nouncement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91600" y="2766960"/>
            <a:ext cx="163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erence Mixing Bri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25960" y="30430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31040" y="5353200"/>
            <a:ext cx="2530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 Resol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CP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FTP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Distribution Center (KD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7760" y="2292480"/>
            <a:ext cx="42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IPCablecom : What Equipment?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m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bedded Multimedia Terminal Adapter (MTA) -- cable modem with RJ-11 jac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adend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ble Modem Termination System (CMTS): J.112 A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PCablecom Servers: Call Management Server (CMS), Record Keeping Server (RKS), Device Provisioning Server, Key Distribution Center (KDC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teways: To link IP calls to backbone or PST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And now the security…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390528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713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rebuchet MS"/>
              </a:rPr>
              <a:t>Why do we need security?</a:t>
            </a:r>
            <a:endParaRPr b="0" lang="en-US" sz="4400" spc="-1" strike="noStrike">
              <a:solidFill>
                <a:srgbClr val="660033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880" y="1998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reats to the IPCablecom Networ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reats exist because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ared networ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cess in the users ho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lued function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ypes of threats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attac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ft of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nial of Servi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27:42Z</dcterms:created>
  <dc:creator>Rob Johnson</dc:creator>
  <dc:description/>
  <dc:language>en-US</dc:language>
  <cp:lastModifiedBy>Eric Rosenfeld</cp:lastModifiedBy>
  <dcterms:modified xsi:type="dcterms:W3CDTF">2002-03-05T16:47:04Z</dcterms:modified>
  <cp:revision>120</cp:revision>
  <dc:subject/>
  <dc:title>No Slide Title</dc:title>
</cp:coreProperties>
</file>