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93280" y="885960"/>
            <a:ext cx="57438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93280" y="885960"/>
            <a:ext cx="57438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9328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43760" y="6492960"/>
            <a:ext cx="300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al"/>
              </a:rPr>
              <a:t>Multi-Services Over MPLS - </a:t>
            </a:r>
            <a:fld id="{4925EF74-A3CA-4C21-81E5-FF9CFC387734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225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74560" y="3578760"/>
            <a:ext cx="500076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" y="6853320"/>
            <a:ext cx="9142200" cy="11160"/>
          </a:xfrm>
          <a:custGeom>
            <a:avLst/>
            <a:gdLst/>
            <a:ahLst/>
            <a:rect l="l" t="t" r="r" b="b"/>
            <a:pathLst>
              <a:path w="6335" h="8">
                <a:moveTo>
                  <a:pt x="0" y="4"/>
                </a:moveTo>
                <a:lnTo>
                  <a:pt x="4" y="8"/>
                </a:lnTo>
                <a:lnTo>
                  <a:pt x="6335" y="8"/>
                </a:lnTo>
                <a:lnTo>
                  <a:pt x="6335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8"/>
                </a:lnTo>
                <a:lnTo>
                  <a:pt x="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0"/>
            <a:ext cx="1116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0"/>
                </a:moveTo>
                <a:lnTo>
                  <a:pt x="0" y="4"/>
                </a:lnTo>
                <a:lnTo>
                  <a:pt x="0" y="4896"/>
                </a:lnTo>
                <a:lnTo>
                  <a:pt x="8" y="4896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39320" y="6480"/>
            <a:ext cx="1260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4896"/>
                </a:moveTo>
                <a:lnTo>
                  <a:pt x="8" y="4892"/>
                </a:lnTo>
                <a:lnTo>
                  <a:pt x="8" y="0"/>
                </a:lnTo>
                <a:lnTo>
                  <a:pt x="0" y="0"/>
                </a:lnTo>
                <a:lnTo>
                  <a:pt x="0" y="4892"/>
                </a:lnTo>
                <a:lnTo>
                  <a:pt x="4" y="4888"/>
                </a:lnTo>
                <a:lnTo>
                  <a:pt x="4" y="4896"/>
                </a:lnTo>
                <a:lnTo>
                  <a:pt x="8" y="4896"/>
                </a:lnTo>
                <a:lnTo>
                  <a:pt x="8" y="4892"/>
                </a:lnTo>
                <a:lnTo>
                  <a:pt x="4" y="48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22480" y="3171960"/>
            <a:ext cx="0" cy="2947680"/>
          </a:xfrm>
          <a:prstGeom prst="line">
            <a:avLst/>
          </a:prstGeom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77840" y="843120"/>
            <a:ext cx="4908600" cy="2247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45108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56340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7560" algn="ctr">
              <a:lnSpc>
                <a:spcPct val="90000"/>
              </a:lnSpc>
              <a:spcBef>
                <a:spcPts val="224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8.wmf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jpe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74920" y="3306240"/>
            <a:ext cx="59896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ulti-Services Over MP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71840" y="3854160"/>
            <a:ext cx="5984640" cy="132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Ghassem Koley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Khalid Ahm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oday’s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Evolution Towards MPLS Inter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ef MPLS Over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verview of MPLS Forwarding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520" y="5505480"/>
            <a:ext cx="8510760" cy="8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of the packet is done at the edge; restricting core to packet forwar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 is based solely on the </a:t>
            </a: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lab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not on destination IP address in the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Big_Cloud" descr=""/>
          <p:cNvPicPr/>
          <p:nvPr/>
        </p:nvPicPr>
        <p:blipFill>
          <a:blip r:embed="rId1"/>
          <a:srcRect l="26354" t="0" r="0" b="20000"/>
          <a:stretch/>
        </p:blipFill>
        <p:spPr>
          <a:xfrm>
            <a:off x="579600" y="4121280"/>
            <a:ext cx="1403280" cy="955440"/>
          </a:xfrm>
          <a:prstGeom prst="rect">
            <a:avLst/>
          </a:prstGeom>
          <a:ln w="0">
            <a:noFill/>
          </a:ln>
        </p:spPr>
      </p:pic>
      <p:pic>
        <p:nvPicPr>
          <p:cNvPr id="338" name="Big_Cloud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5562720" cy="3353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flipH="1">
            <a:off x="4723920" y="3733920"/>
            <a:ext cx="1219320" cy="83808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Big_Cloud" descr=""/>
          <p:cNvPicPr/>
          <p:nvPr/>
        </p:nvPicPr>
        <p:blipFill>
          <a:blip r:embed="rId3"/>
          <a:srcRect l="0" t="22671" r="26354" b="0"/>
          <a:stretch/>
        </p:blipFill>
        <p:spPr>
          <a:xfrm>
            <a:off x="6621480" y="1600200"/>
            <a:ext cx="1596960" cy="923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flipH="1">
            <a:off x="3276360" y="3505320"/>
            <a:ext cx="1143000" cy="45720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276720" y="2895480"/>
            <a:ext cx="1295280" cy="6098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3352680" y="2895480"/>
            <a:ext cx="2895840" cy="1526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705360" y="2133720"/>
            <a:ext cx="685800" cy="83808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095880" y="3124080"/>
            <a:ext cx="457200" cy="3812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800600" y="3124080"/>
            <a:ext cx="1447920" cy="30492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4800240" y="3504960"/>
            <a:ext cx="1143000" cy="15228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2895480"/>
            <a:ext cx="0" cy="10670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294920" y="4038480"/>
            <a:ext cx="1752840" cy="6098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276360" y="4114800"/>
            <a:ext cx="1066680" cy="45720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371240" y="4648320"/>
            <a:ext cx="2971800" cy="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876560" y="4572000"/>
            <a:ext cx="1143000" cy="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943240" y="3809520"/>
            <a:ext cx="304920" cy="68580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4267080" y="4343400"/>
            <a:ext cx="762120" cy="506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4267080" y="3276720"/>
            <a:ext cx="762120" cy="5061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5638680" y="3429000"/>
            <a:ext cx="762120" cy="506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5791320" y="4267080"/>
            <a:ext cx="761760" cy="506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6172200" y="2819520"/>
            <a:ext cx="762120" cy="506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7086600" y="1727280"/>
            <a:ext cx="762120" cy="506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2743200" y="3809880"/>
            <a:ext cx="762120" cy="506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2743200" y="2590920"/>
            <a:ext cx="762120" cy="5061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685800" y="4419720"/>
            <a:ext cx="762120" cy="5061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355560" y="2971800"/>
            <a:ext cx="2892960" cy="1087200"/>
            <a:chOff x="3355560" y="2971800"/>
            <a:chExt cx="2892960" cy="1087200"/>
          </a:xfrm>
        </p:grpSpPr>
        <p:sp>
          <p:nvSpPr>
            <p:cNvPr id="364" name=""/>
            <p:cNvSpPr/>
            <p:nvPr/>
          </p:nvSpPr>
          <p:spPr>
            <a:xfrm>
              <a:off x="3429000" y="2971800"/>
              <a:ext cx="2743200" cy="1066680"/>
            </a:xfrm>
            <a:custGeom>
              <a:avLst/>
              <a:gdLst/>
              <a:ahLst/>
              <a:rect l="l" t="t" r="r" b="b"/>
              <a:pathLst>
                <a:path w="1728" h="672">
                  <a:moveTo>
                    <a:pt x="0" y="480"/>
                  </a:moveTo>
                  <a:lnTo>
                    <a:pt x="720" y="192"/>
                  </a:lnTo>
                  <a:lnTo>
                    <a:pt x="1728" y="0"/>
                  </a:lnTo>
                  <a:lnTo>
                    <a:pt x="1728" y="192"/>
                  </a:lnTo>
                  <a:lnTo>
                    <a:pt x="768" y="384"/>
                  </a:lnTo>
                  <a:lnTo>
                    <a:pt x="48" y="67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0674200">
              <a:off x="3395520" y="3724200"/>
              <a:ext cx="147960" cy="32076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95880" y="2971800"/>
              <a:ext cx="152640" cy="3049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84480" y="1995120"/>
            <a:ext cx="2189520" cy="2380320"/>
            <a:chOff x="384480" y="1995120"/>
            <a:chExt cx="2189520" cy="2380320"/>
          </a:xfrm>
        </p:grpSpPr>
        <p:sp>
          <p:nvSpPr>
            <p:cNvPr id="368" name=""/>
            <p:cNvSpPr/>
            <p:nvPr/>
          </p:nvSpPr>
          <p:spPr>
            <a:xfrm>
              <a:off x="384480" y="1995120"/>
              <a:ext cx="2189520" cy="81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cket forwarded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sed on destin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1342800" y="2842920"/>
              <a:ext cx="469800" cy="12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746720" y="4019400"/>
              <a:ext cx="591840" cy="356040"/>
              <a:chOff x="1746720" y="4019400"/>
              <a:chExt cx="591840" cy="356040"/>
            </a:xfrm>
          </p:grpSpPr>
          <p:sp>
            <p:nvSpPr>
              <p:cNvPr id="371" name=""/>
              <p:cNvSpPr/>
              <p:nvPr/>
            </p:nvSpPr>
            <p:spPr>
              <a:xfrm rot="20491200">
                <a:off x="1766880" y="4132440"/>
                <a:ext cx="372960" cy="18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0491200">
                <a:off x="2125800" y="4044240"/>
                <a:ext cx="18864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3" name=""/>
          <p:cNvGrpSpPr/>
          <p:nvPr/>
        </p:nvGrpSpPr>
        <p:grpSpPr>
          <a:xfrm>
            <a:off x="1564920" y="2673000"/>
            <a:ext cx="1572120" cy="1139760"/>
            <a:chOff x="1564920" y="2673000"/>
            <a:chExt cx="1572120" cy="1139760"/>
          </a:xfrm>
        </p:grpSpPr>
        <p:sp>
          <p:nvSpPr>
            <p:cNvPr id="374" name=""/>
            <p:cNvSpPr/>
            <p:nvPr/>
          </p:nvSpPr>
          <p:spPr>
            <a:xfrm flipH="1" flipV="1">
              <a:off x="2698920" y="3436560"/>
              <a:ext cx="150480" cy="3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64920" y="2673000"/>
              <a:ext cx="1572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gres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R ad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 to pa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952440" y="2261160"/>
            <a:ext cx="191052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forward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4928760" y="2784240"/>
            <a:ext cx="117720" cy="39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170680" y="1469160"/>
            <a:ext cx="1517400" cy="1323360"/>
            <a:chOff x="5170680" y="1469160"/>
            <a:chExt cx="1517400" cy="1323360"/>
          </a:xfrm>
        </p:grpSpPr>
        <p:sp>
          <p:nvSpPr>
            <p:cNvPr id="379" name=""/>
            <p:cNvSpPr/>
            <p:nvPr/>
          </p:nvSpPr>
          <p:spPr>
            <a:xfrm flipH="1" flipV="1">
              <a:off x="6126120" y="2017800"/>
              <a:ext cx="324000" cy="77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70680" y="1469160"/>
              <a:ext cx="1517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gress LE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moves l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651720" y="2219040"/>
            <a:ext cx="2492280" cy="1731240"/>
            <a:chOff x="6651720" y="2219040"/>
            <a:chExt cx="2492280" cy="1731240"/>
          </a:xfrm>
        </p:grpSpPr>
        <p:grpSp>
          <p:nvGrpSpPr>
            <p:cNvPr id="382" name=""/>
            <p:cNvGrpSpPr/>
            <p:nvPr/>
          </p:nvGrpSpPr>
          <p:grpSpPr>
            <a:xfrm>
              <a:off x="6651720" y="2219040"/>
              <a:ext cx="501120" cy="554400"/>
              <a:chOff x="6651720" y="2219040"/>
              <a:chExt cx="501120" cy="554400"/>
            </a:xfrm>
          </p:grpSpPr>
          <p:sp>
            <p:nvSpPr>
              <p:cNvPr id="383" name=""/>
              <p:cNvSpPr/>
              <p:nvPr/>
            </p:nvSpPr>
            <p:spPr>
              <a:xfrm rot="18558000">
                <a:off x="6656040" y="2475000"/>
                <a:ext cx="372960" cy="18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8558000">
                <a:off x="6927480" y="2258280"/>
                <a:ext cx="18900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7502400" y="2650320"/>
              <a:ext cx="1641600" cy="12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cket forwarded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sed on destin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75440" y="2571840"/>
              <a:ext cx="42408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746720" y="4019400"/>
            <a:ext cx="591840" cy="356040"/>
            <a:chOff x="1746720" y="4019400"/>
            <a:chExt cx="591840" cy="356040"/>
          </a:xfrm>
        </p:grpSpPr>
        <p:sp>
          <p:nvSpPr>
            <p:cNvPr id="388" name=""/>
            <p:cNvSpPr/>
            <p:nvPr/>
          </p:nvSpPr>
          <p:spPr>
            <a:xfrm rot="20491200">
              <a:off x="1766880" y="4132440"/>
              <a:ext cx="372960" cy="18864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0491200">
              <a:off x="2125800" y="4044240"/>
              <a:ext cx="188640" cy="18288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e9cb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651720" y="2219040"/>
            <a:ext cx="501120" cy="554400"/>
            <a:chOff x="6651720" y="2219040"/>
            <a:chExt cx="501120" cy="554400"/>
          </a:xfrm>
        </p:grpSpPr>
        <p:sp>
          <p:nvSpPr>
            <p:cNvPr id="391" name=""/>
            <p:cNvSpPr/>
            <p:nvPr/>
          </p:nvSpPr>
          <p:spPr>
            <a:xfrm rot="18558000">
              <a:off x="6656040" y="2475000"/>
              <a:ext cx="372960" cy="18864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558000">
              <a:off x="6927480" y="2258280"/>
              <a:ext cx="189000" cy="18288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e9cb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158440" y="3085200"/>
            <a:ext cx="775440" cy="331200"/>
            <a:chOff x="5158440" y="3085200"/>
            <a:chExt cx="775440" cy="331200"/>
          </a:xfrm>
        </p:grpSpPr>
        <p:sp>
          <p:nvSpPr>
            <p:cNvPr id="394" name=""/>
            <p:cNvSpPr/>
            <p:nvPr/>
          </p:nvSpPr>
          <p:spPr>
            <a:xfrm rot="20917200">
              <a:off x="5173200" y="3192120"/>
              <a:ext cx="372960" cy="18900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917200">
              <a:off x="5541120" y="3139920"/>
              <a:ext cx="188640" cy="18288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e9cb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917200">
              <a:off x="5728680" y="3101760"/>
              <a:ext cx="188640" cy="182880"/>
            </a:xfrm>
            <a:prstGeom prst="rect">
              <a:avLst/>
            </a:prstGeom>
            <a:gradFill rotWithShape="0">
              <a:gsLst>
                <a:gs pos="0">
                  <a:srgbClr val="cbdff3"/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524400" y="3499920"/>
            <a:ext cx="767160" cy="458640"/>
            <a:chOff x="3524400" y="3499920"/>
            <a:chExt cx="767160" cy="458640"/>
          </a:xfrm>
        </p:grpSpPr>
        <p:sp>
          <p:nvSpPr>
            <p:cNvPr id="398" name=""/>
            <p:cNvSpPr/>
            <p:nvPr/>
          </p:nvSpPr>
          <p:spPr>
            <a:xfrm rot="20268000">
              <a:off x="3546000" y="3706200"/>
              <a:ext cx="372960" cy="18864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268000">
              <a:off x="3900240" y="3602520"/>
              <a:ext cx="189000" cy="18288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e9cb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0268000">
              <a:off x="4074840" y="3528360"/>
              <a:ext cx="189000" cy="182880"/>
            </a:xfrm>
            <a:prstGeom prst="rect">
              <a:avLst/>
            </a:prstGeom>
            <a:gradFill rotWithShape="0">
              <a:gsLst>
                <a:gs pos="0">
                  <a:srgbClr val="cbdff3"/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266760"/>
            <a:ext cx="680544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LS combination of routing and switching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25760" y="5334120"/>
            <a:ext cx="405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64200" y="5334120"/>
            <a:ext cx="702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400800" y="2373480"/>
            <a:ext cx="1828800" cy="2711160"/>
            <a:chOff x="6400800" y="2373480"/>
            <a:chExt cx="1828800" cy="2711160"/>
          </a:xfrm>
        </p:grpSpPr>
        <p:sp>
          <p:nvSpPr>
            <p:cNvPr id="405" name=""/>
            <p:cNvSpPr/>
            <p:nvPr/>
          </p:nvSpPr>
          <p:spPr>
            <a:xfrm>
              <a:off x="6400800" y="2373480"/>
              <a:ext cx="1828800" cy="2711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08680" y="3780000"/>
              <a:ext cx="10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09160" y="2946240"/>
              <a:ext cx="165312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74400" y="4013280"/>
              <a:ext cx="122184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181400" y="5334120"/>
            <a:ext cx="8575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1143000"/>
            <a:ext cx="6553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rotocol Label Switching (MPLS) is hybrid model that makes use of the best properties in both Packet routing &amp; label switc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14400" y="2373480"/>
            <a:ext cx="1828800" cy="2711160"/>
            <a:chOff x="914400" y="2373480"/>
            <a:chExt cx="1828800" cy="2711160"/>
          </a:xfrm>
        </p:grpSpPr>
        <p:sp>
          <p:nvSpPr>
            <p:cNvPr id="412" name=""/>
            <p:cNvSpPr/>
            <p:nvPr/>
          </p:nvSpPr>
          <p:spPr>
            <a:xfrm>
              <a:off x="914400" y="2373480"/>
              <a:ext cx="1828800" cy="2711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91960" y="2946240"/>
              <a:ext cx="123552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41920" y="4071960"/>
              <a:ext cx="1412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55680" y="377964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124080" y="5334120"/>
            <a:ext cx="3124440" cy="0"/>
          </a:xfrm>
          <a:prstGeom prst="line">
            <a:avLst/>
          </a:prstGeom>
          <a:ln w="763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90840" y="2373480"/>
            <a:ext cx="2438640" cy="2895480"/>
          </a:xfrm>
          <a:prstGeom prst="ellipse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86080" y="393696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733920" y="3936960"/>
            <a:ext cx="1553760" cy="894960"/>
            <a:chOff x="3733920" y="3936960"/>
            <a:chExt cx="1553760" cy="894960"/>
          </a:xfrm>
        </p:grpSpPr>
        <p:sp>
          <p:nvSpPr>
            <p:cNvPr id="420" name=""/>
            <p:cNvSpPr/>
            <p:nvPr/>
          </p:nvSpPr>
          <p:spPr>
            <a:xfrm>
              <a:off x="3733920" y="3936960"/>
              <a:ext cx="1553760" cy="894960"/>
            </a:xfrm>
            <a:prstGeom prst="rect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09600" y="4014000"/>
              <a:ext cx="124776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974760" y="2844720"/>
            <a:ext cx="1299600" cy="882720"/>
            <a:chOff x="3974760" y="2844720"/>
            <a:chExt cx="1299600" cy="882720"/>
          </a:xfrm>
        </p:grpSpPr>
        <p:sp>
          <p:nvSpPr>
            <p:cNvPr id="423" name=""/>
            <p:cNvSpPr/>
            <p:nvPr/>
          </p:nvSpPr>
          <p:spPr>
            <a:xfrm>
              <a:off x="3975120" y="2844720"/>
              <a:ext cx="1209600" cy="882720"/>
            </a:xfrm>
            <a:prstGeom prst="rect">
              <a:avLst/>
            </a:prstGeom>
            <a:gradFill rotWithShape="0">
              <a:gsLst>
                <a:gs pos="0">
                  <a:srgbClr val="464600"/>
                </a:gs>
                <a:gs pos="100000">
                  <a:srgbClr val="99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74760" y="2960640"/>
              <a:ext cx="12996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P rout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410080" y="4125960"/>
            <a:ext cx="1219320" cy="533520"/>
          </a:xfrm>
          <a:prstGeom prst="lef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99ccff"/>
              </a:gs>
              <a:gs pos="100000">
                <a:srgbClr val="6666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0800000">
            <a:off x="2514240" y="3058920"/>
            <a:ext cx="1219320" cy="533160"/>
          </a:xfrm>
          <a:prstGeom prst="leftArrow">
            <a:avLst>
              <a:gd name="adj1" fmla="val 50000"/>
              <a:gd name="adj2" fmla="val 57174"/>
            </a:avLst>
          </a:prstGeom>
          <a:gradFill rotWithShape="0">
            <a:gsLst>
              <a:gs pos="0">
                <a:srgbClr val="666666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5790960"/>
            <a:ext cx="9144000" cy="388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fa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 uses the advantages of both packet routing &amp; label switching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2408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4852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808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45820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5334120"/>
            <a:ext cx="2209680" cy="0"/>
          </a:xfrm>
          <a:prstGeom prst="line">
            <a:avLst/>
          </a:prstGeom>
          <a:ln w="763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8080" y="5334120"/>
            <a:ext cx="2286000" cy="0"/>
          </a:xfrm>
          <a:prstGeom prst="line">
            <a:avLst/>
          </a:prstGeom>
          <a:ln w="763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8840" y="645840"/>
            <a:ext cx="753912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ource Routing in MPL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8520" y="4799160"/>
            <a:ext cx="815328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2640" y="4799160"/>
            <a:ext cx="76201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ess node determines path from ingress to egress based on layer 3 routing protoc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er to do policy or QoS based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18760" y="2214720"/>
            <a:ext cx="8031240" cy="1794960"/>
            <a:chOff x="518760" y="2214720"/>
            <a:chExt cx="8031240" cy="1794960"/>
          </a:xfrm>
        </p:grpSpPr>
        <p:sp>
          <p:nvSpPr>
            <p:cNvPr id="438" name=""/>
            <p:cNvSpPr/>
            <p:nvPr/>
          </p:nvSpPr>
          <p:spPr>
            <a:xfrm>
              <a:off x="1050840" y="2828880"/>
              <a:ext cx="6692760" cy="266040"/>
            </a:xfrm>
            <a:custGeom>
              <a:avLst/>
              <a:gdLst/>
              <a:ahLst/>
              <a:rect l="l" t="t" r="r" b="b"/>
              <a:pathLst>
                <a:path w="4216" h="168">
                  <a:moveTo>
                    <a:pt x="0" y="0"/>
                  </a:moveTo>
                  <a:lnTo>
                    <a:pt x="1032" y="72"/>
                  </a:lnTo>
                  <a:lnTo>
                    <a:pt x="2032" y="168"/>
                  </a:lnTo>
                  <a:lnTo>
                    <a:pt x="3256" y="8"/>
                  </a:lnTo>
                  <a:lnTo>
                    <a:pt x="4216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2330280" y="2663640"/>
              <a:ext cx="623880" cy="53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682560" y="2498400"/>
              <a:ext cx="59688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"/>
            <a:stretch/>
          </p:blipFill>
          <p:spPr>
            <a:xfrm>
              <a:off x="7464240" y="2523960"/>
              <a:ext cx="5968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4"/>
            <a:stretch/>
          </p:blipFill>
          <p:spPr>
            <a:xfrm>
              <a:off x="3879720" y="2879640"/>
              <a:ext cx="623880" cy="53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5"/>
            <a:stretch/>
          </p:blipFill>
          <p:spPr>
            <a:xfrm>
              <a:off x="5759280" y="2587320"/>
              <a:ext cx="623880" cy="53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49240" y="24048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97160" y="2608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03800" y="23288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19640" y="231588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3720" y="22147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8760" y="3154320"/>
              <a:ext cx="820800" cy="85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 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R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R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R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R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69880" y="3349440"/>
              <a:ext cx="105408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38080" y="3450960"/>
              <a:ext cx="1486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251240" y="3222000"/>
              <a:ext cx="179064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9720" y="3247920"/>
              <a:ext cx="152388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6"/>
            <a:stretch/>
          </p:blipFill>
          <p:spPr>
            <a:xfrm>
              <a:off x="1811160" y="3227040"/>
              <a:ext cx="47304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7"/>
            <a:stretch/>
          </p:blipFill>
          <p:spPr>
            <a:xfrm>
              <a:off x="3207960" y="3290760"/>
              <a:ext cx="47340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8"/>
            <a:stretch/>
          </p:blipFill>
          <p:spPr>
            <a:xfrm>
              <a:off x="4871880" y="3201840"/>
              <a:ext cx="47304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9"/>
            <a:stretch/>
          </p:blipFill>
          <p:spPr>
            <a:xfrm>
              <a:off x="6789600" y="3100320"/>
              <a:ext cx="473040" cy="1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"/>
          <p:cNvSpPr/>
          <p:nvPr/>
        </p:nvSpPr>
        <p:spPr>
          <a:xfrm>
            <a:off x="972720" y="4213080"/>
            <a:ext cx="2939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SR=Label Switching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665964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op-by-Hop Routing in MPL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8040" y="5105520"/>
            <a:ext cx="8191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71600" y="2211480"/>
            <a:ext cx="8031240" cy="1820880"/>
            <a:chOff x="471600" y="2211480"/>
            <a:chExt cx="8031240" cy="1820880"/>
          </a:xfrm>
        </p:grpSpPr>
        <p:sp>
          <p:nvSpPr>
            <p:cNvPr id="462" name=""/>
            <p:cNvSpPr/>
            <p:nvPr/>
          </p:nvSpPr>
          <p:spPr>
            <a:xfrm>
              <a:off x="2616480" y="26226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03320" y="2965320"/>
              <a:ext cx="6693120" cy="266760"/>
            </a:xfrm>
            <a:custGeom>
              <a:avLst/>
              <a:gdLst/>
              <a:ahLst/>
              <a:rect l="l" t="t" r="r" b="b"/>
              <a:pathLst>
                <a:path w="4216" h="168">
                  <a:moveTo>
                    <a:pt x="0" y="0"/>
                  </a:moveTo>
                  <a:lnTo>
                    <a:pt x="1032" y="72"/>
                  </a:lnTo>
                  <a:lnTo>
                    <a:pt x="2032" y="168"/>
                  </a:lnTo>
                  <a:lnTo>
                    <a:pt x="3256" y="8"/>
                  </a:lnTo>
                  <a:lnTo>
                    <a:pt x="4216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1"/>
            <a:stretch/>
          </p:blipFill>
          <p:spPr>
            <a:xfrm>
              <a:off x="2283120" y="2800440"/>
              <a:ext cx="6238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2"/>
            <a:stretch/>
          </p:blipFill>
          <p:spPr>
            <a:xfrm>
              <a:off x="2362320" y="2462400"/>
              <a:ext cx="48096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3"/>
            <a:stretch/>
          </p:blipFill>
          <p:spPr>
            <a:xfrm>
              <a:off x="635040" y="2635200"/>
              <a:ext cx="59688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4"/>
            <a:stretch/>
          </p:blipFill>
          <p:spPr>
            <a:xfrm>
              <a:off x="7417080" y="2660760"/>
              <a:ext cx="596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165920" y="283860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5"/>
            <a:stretch/>
          </p:blipFill>
          <p:spPr>
            <a:xfrm>
              <a:off x="3832200" y="3016440"/>
              <a:ext cx="6238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6"/>
            <a:stretch/>
          </p:blipFill>
          <p:spPr>
            <a:xfrm>
              <a:off x="3911760" y="2678040"/>
              <a:ext cx="48096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6045480" y="25462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7"/>
            <a:stretch/>
          </p:blipFill>
          <p:spPr>
            <a:xfrm>
              <a:off x="5712120" y="2724120"/>
              <a:ext cx="6238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8"/>
            <a:stretch/>
          </p:blipFill>
          <p:spPr>
            <a:xfrm>
              <a:off x="5791320" y="2386080"/>
              <a:ext cx="48096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602080" y="221148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65640" y="244008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58160" y="22446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72480" y="245268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6200" y="235116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1600" y="3290760"/>
              <a:ext cx="8208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 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R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73320" y="3481560"/>
              <a:ext cx="8208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 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R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75040" y="3633840"/>
              <a:ext cx="8208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 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R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91240" y="3367080"/>
              <a:ext cx="8208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 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R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4480" y="3379680"/>
              <a:ext cx="8208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 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R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22720" y="3486240"/>
              <a:ext cx="672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98880" y="3727440"/>
              <a:ext cx="67320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851720" y="3612960"/>
              <a:ext cx="7365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642360" y="3562200"/>
              <a:ext cx="78732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8" name="" descr=""/>
            <p:cNvPicPr/>
            <p:nvPr/>
          </p:nvPicPr>
          <p:blipFill>
            <a:blip r:embed="rId9"/>
            <a:stretch/>
          </p:blipFill>
          <p:spPr>
            <a:xfrm>
              <a:off x="1535400" y="3351240"/>
              <a:ext cx="47304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10"/>
            <a:stretch/>
          </p:blipFill>
          <p:spPr>
            <a:xfrm>
              <a:off x="3198960" y="3579840"/>
              <a:ext cx="47304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11"/>
            <a:stretch/>
          </p:blipFill>
          <p:spPr>
            <a:xfrm>
              <a:off x="5002200" y="3834000"/>
              <a:ext cx="47340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12"/>
            <a:stretch/>
          </p:blipFill>
          <p:spPr>
            <a:xfrm>
              <a:off x="6780240" y="3351240"/>
              <a:ext cx="473040" cy="1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"/>
          <p:cNvSpPr/>
          <p:nvPr/>
        </p:nvSpPr>
        <p:spPr>
          <a:xfrm>
            <a:off x="547560" y="5257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node runs layer 3 routing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ing decisions made independently at each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LS Protocol Stack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4728960"/>
            <a:ext cx="358128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90920" y="4119480"/>
            <a:ext cx="3581280" cy="631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yer 2 (PPP, ATM, FR,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90920" y="3510000"/>
            <a:ext cx="3581280" cy="631800"/>
          </a:xfrm>
          <a:prstGeom prst="rect">
            <a:avLst/>
          </a:prstGeom>
          <a:solidFill>
            <a:srgbClr val="b2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900160"/>
            <a:ext cx="3581280" cy="631800"/>
          </a:xfrm>
          <a:prstGeom prst="rect">
            <a:avLst/>
          </a:prstGeom>
          <a:solidFill>
            <a:srgbClr val="c24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or Multi-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0920" y="2290680"/>
            <a:ext cx="3581280" cy="631800"/>
          </a:xfrm>
          <a:prstGeom prst="rect">
            <a:avLst/>
          </a:prstGeom>
          <a:solidFill>
            <a:srgbClr val="9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76320" y="701640"/>
            <a:ext cx="7010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rol Plane Diversity in MP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40" y="1752480"/>
            <a:ext cx="1546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8800" y="3403440"/>
            <a:ext cx="114300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NNI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3403440"/>
            <a:ext cx="106704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PF, 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0760" y="3605040"/>
            <a:ext cx="865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6400" y="2995560"/>
            <a:ext cx="1002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8800" y="2793960"/>
            <a:ext cx="114300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NNI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2680" y="2793960"/>
            <a:ext cx="106704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/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3800" y="2309760"/>
            <a:ext cx="1182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2184480"/>
            <a:ext cx="114300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A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2184480"/>
            <a:ext cx="106704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58560" y="1447920"/>
            <a:ext cx="648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00600" y="3403440"/>
            <a:ext cx="137160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PF-TE, ISIS-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2793960"/>
            <a:ext cx="137160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-LDP or RSVP-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2184480"/>
            <a:ext cx="137160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30720" y="1447920"/>
            <a:ext cx="787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58760" y="1447920"/>
            <a:ext cx="381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93200" y="3932280"/>
            <a:ext cx="4039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marL="119160" indent="-119160" algn="ctr"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7440" y="5069160"/>
            <a:ext cx="8402760" cy="1056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fa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marL="225360" indent="-22536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PLS essentially functions as a Connection-oriente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PLS uses IP routing and control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PLS makes use of Layer 2 typical link-layer protocols, e.g. PPP, FR, ATM, Ethernet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oday’s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Evolution Towards MPLS Inter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Brief MPLS Overvi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working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3640" y="885600"/>
            <a:ext cx="717552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neral Network interworking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11040" y="3021120"/>
            <a:ext cx="1860480" cy="1586880"/>
            <a:chOff x="311040" y="3021120"/>
            <a:chExt cx="1860480" cy="1586880"/>
          </a:xfrm>
        </p:grpSpPr>
        <p:sp>
          <p:nvSpPr>
            <p:cNvPr id="523" name=""/>
            <p:cNvSpPr/>
            <p:nvPr/>
          </p:nvSpPr>
          <p:spPr>
            <a:xfrm>
              <a:off x="311040" y="3927960"/>
              <a:ext cx="1732320" cy="6800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Cloud1" descr=""/>
            <p:cNvPicPr/>
            <p:nvPr/>
          </p:nvPicPr>
          <p:blipFill>
            <a:blip r:embed="rId1"/>
            <a:stretch/>
          </p:blipFill>
          <p:spPr>
            <a:xfrm>
              <a:off x="375120" y="3021120"/>
              <a:ext cx="1796400" cy="12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5" name=""/>
          <p:cNvGrpSpPr/>
          <p:nvPr/>
        </p:nvGrpSpPr>
        <p:grpSpPr>
          <a:xfrm>
            <a:off x="2952720" y="3122640"/>
            <a:ext cx="2571480" cy="1815840"/>
            <a:chOff x="2952720" y="3122640"/>
            <a:chExt cx="2571480" cy="1815840"/>
          </a:xfrm>
        </p:grpSpPr>
        <p:sp>
          <p:nvSpPr>
            <p:cNvPr id="526" name=""/>
            <p:cNvSpPr/>
            <p:nvPr/>
          </p:nvSpPr>
          <p:spPr>
            <a:xfrm>
              <a:off x="2952720" y="4160160"/>
              <a:ext cx="2394000" cy="778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7" name="Cloud1" descr=""/>
            <p:cNvPicPr/>
            <p:nvPr/>
          </p:nvPicPr>
          <p:blipFill>
            <a:blip r:embed="rId2"/>
            <a:stretch/>
          </p:blipFill>
          <p:spPr>
            <a:xfrm>
              <a:off x="3041280" y="3122640"/>
              <a:ext cx="2482920" cy="147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"/>
          <p:cNvSpPr/>
          <p:nvPr/>
        </p:nvSpPr>
        <p:spPr>
          <a:xfrm>
            <a:off x="3930480" y="354168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305400" y="3071880"/>
            <a:ext cx="1847520" cy="1701360"/>
            <a:chOff x="6305400" y="3071880"/>
            <a:chExt cx="1847520" cy="1701360"/>
          </a:xfrm>
        </p:grpSpPr>
        <p:sp>
          <p:nvSpPr>
            <p:cNvPr id="530" name=""/>
            <p:cNvSpPr/>
            <p:nvPr/>
          </p:nvSpPr>
          <p:spPr>
            <a:xfrm>
              <a:off x="6305400" y="4044240"/>
              <a:ext cx="1720080" cy="729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1" name="Cloud1" descr=""/>
            <p:cNvPicPr/>
            <p:nvPr/>
          </p:nvPicPr>
          <p:blipFill>
            <a:blip r:embed="rId3"/>
            <a:stretch/>
          </p:blipFill>
          <p:spPr>
            <a:xfrm>
              <a:off x="6369120" y="3071880"/>
              <a:ext cx="1783800" cy="13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"/>
          <p:cNvSpPr/>
          <p:nvPr/>
        </p:nvSpPr>
        <p:spPr>
          <a:xfrm>
            <a:off x="6647400" y="33256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480" y="32878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3"/>
            <a:endCxn id="527" idx="1"/>
          </p:cNvCxnSpPr>
          <p:nvPr/>
        </p:nvCxnSpPr>
        <p:spPr>
          <a:xfrm>
            <a:off x="2611080" y="3852720"/>
            <a:ext cx="4309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3"/>
          </p:cNvCxnSpPr>
          <p:nvPr/>
        </p:nvCxnSpPr>
        <p:spPr>
          <a:xfrm>
            <a:off x="5524200" y="3860640"/>
            <a:ext cx="818280" cy="13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37" name=""/>
          <p:cNvSpPr/>
          <p:nvPr/>
        </p:nvSpPr>
        <p:spPr>
          <a:xfrm flipV="1">
            <a:off x="6367320" y="3912840"/>
            <a:ext cx="438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6000" y="4016520"/>
            <a:ext cx="317160" cy="3823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6778800" y="3635280"/>
            <a:ext cx="317160" cy="382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6"/>
          <a:stretch/>
        </p:blipFill>
        <p:spPr>
          <a:xfrm>
            <a:off x="7693200" y="3711600"/>
            <a:ext cx="317160" cy="382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7083360" y="3940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540560" y="3939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7054920" y="3807000"/>
            <a:ext cx="6127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7"/>
          <a:stretch/>
        </p:blipFill>
        <p:spPr>
          <a:xfrm>
            <a:off x="1069920" y="3967200"/>
            <a:ext cx="317520" cy="3826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8"/>
          <a:stretch/>
        </p:blipFill>
        <p:spPr>
          <a:xfrm>
            <a:off x="612720" y="3586320"/>
            <a:ext cx="317520" cy="3823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9"/>
          <a:stretch/>
        </p:blipFill>
        <p:spPr>
          <a:xfrm>
            <a:off x="1527120" y="3662280"/>
            <a:ext cx="317520" cy="3826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917640" y="3890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374840" y="3890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88480" y="3782880"/>
            <a:ext cx="613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31320" bIns="-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51120" y="3843360"/>
            <a:ext cx="68724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34600" y="29844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39920" y="29844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47920" y="3684600"/>
            <a:ext cx="263520" cy="336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92840" y="3703680"/>
            <a:ext cx="263520" cy="336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0920" y="4481640"/>
            <a:ext cx="2780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F=Interworking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8040" y="5105520"/>
            <a:ext cx="8191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7560" y="5257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s A and B are similar networks, e.g. both are ATM or Frame Relay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1040" y="1468440"/>
            <a:ext cx="8460000" cy="1341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n Network Interworking, the PCI (Protocol Contro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nformation) of the protocol and the payload information used in two similar networks are transferred transparently by an IWF (Interworking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unction) . Typically the IWF encapsulates the information which is transmitted by means of an adaptation function and transfer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t transparently to the other net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4600" y="885600"/>
            <a:ext cx="72342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neral Service Interworking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930320" y="2855880"/>
            <a:ext cx="1860120" cy="1587600"/>
            <a:chOff x="1930320" y="2855880"/>
            <a:chExt cx="1860120" cy="1587600"/>
          </a:xfrm>
        </p:grpSpPr>
        <p:sp>
          <p:nvSpPr>
            <p:cNvPr id="560" name=""/>
            <p:cNvSpPr/>
            <p:nvPr/>
          </p:nvSpPr>
          <p:spPr>
            <a:xfrm>
              <a:off x="1930320" y="3763080"/>
              <a:ext cx="1731960" cy="680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Cloud1" descr=""/>
            <p:cNvPicPr/>
            <p:nvPr/>
          </p:nvPicPr>
          <p:blipFill>
            <a:blip r:embed="rId1"/>
            <a:stretch/>
          </p:blipFill>
          <p:spPr>
            <a:xfrm>
              <a:off x="1994400" y="2855880"/>
              <a:ext cx="1796040" cy="128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"/>
          <p:cNvGrpSpPr/>
          <p:nvPr/>
        </p:nvGrpSpPr>
        <p:grpSpPr>
          <a:xfrm>
            <a:off x="4572000" y="2855880"/>
            <a:ext cx="2571480" cy="1815840"/>
            <a:chOff x="4572000" y="2855880"/>
            <a:chExt cx="2571480" cy="1815840"/>
          </a:xfrm>
        </p:grpSpPr>
        <p:sp>
          <p:nvSpPr>
            <p:cNvPr id="563" name=""/>
            <p:cNvSpPr/>
            <p:nvPr/>
          </p:nvSpPr>
          <p:spPr>
            <a:xfrm>
              <a:off x="4572000" y="3893400"/>
              <a:ext cx="2394000" cy="778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Cloud1" descr=""/>
            <p:cNvPicPr/>
            <p:nvPr/>
          </p:nvPicPr>
          <p:blipFill>
            <a:blip r:embed="rId2"/>
            <a:stretch/>
          </p:blipFill>
          <p:spPr>
            <a:xfrm>
              <a:off x="4660560" y="2855880"/>
              <a:ext cx="2482920" cy="147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"/>
          <p:cNvSpPr/>
          <p:nvPr/>
        </p:nvSpPr>
        <p:spPr>
          <a:xfrm>
            <a:off x="5286600" y="34974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02200" y="335124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33920" y="365760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53880" y="2819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67200" y="3519360"/>
            <a:ext cx="263520" cy="336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0920" y="4481640"/>
            <a:ext cx="2780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F=Interworking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8040" y="5105520"/>
            <a:ext cx="8191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7560" y="5257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s A and B are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milar networks, e.g. one may be ATM and the other Frame Relay or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1040" y="1468440"/>
            <a:ext cx="8460000" cy="1067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n Service Interworking, the IWF between two dissimilar protocols (e.g., ATM &amp; MPLS) terminates the protocol used in one network and translates (i.e. maps) its Protocol Control Information (PCI) to the PCI of th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protocol used in other network for User, Control and Management Plane functions to the extent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cknowledgement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ions 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el Jamou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 Pea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a Az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is presentation is acknowledg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3640" y="885600"/>
            <a:ext cx="730584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xample ATM-MPLS Network Interworking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71360" y="1600200"/>
            <a:ext cx="8972640" cy="3951000"/>
            <a:chOff x="171360" y="1600200"/>
            <a:chExt cx="8972640" cy="3951000"/>
          </a:xfrm>
        </p:grpSpPr>
        <p:pic>
          <p:nvPicPr>
            <p:cNvPr id="576" name="Big_Cloud" descr=""/>
            <p:cNvPicPr/>
            <p:nvPr/>
          </p:nvPicPr>
          <p:blipFill>
            <a:blip r:embed="rId1"/>
            <a:stretch/>
          </p:blipFill>
          <p:spPr>
            <a:xfrm>
              <a:off x="6977160" y="4120920"/>
              <a:ext cx="2166840" cy="119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7" name=""/>
            <p:cNvGrpSpPr/>
            <p:nvPr/>
          </p:nvGrpSpPr>
          <p:grpSpPr>
            <a:xfrm>
              <a:off x="171360" y="1600200"/>
              <a:ext cx="8687520" cy="3951000"/>
              <a:chOff x="171360" y="1600200"/>
              <a:chExt cx="8687520" cy="3951000"/>
            </a:xfrm>
          </p:grpSpPr>
          <p:pic>
            <p:nvPicPr>
              <p:cNvPr id="578" name="Big_Cloud" descr=""/>
              <p:cNvPicPr/>
              <p:nvPr/>
            </p:nvPicPr>
            <p:blipFill>
              <a:blip r:embed="rId2"/>
              <a:stretch/>
            </p:blipFill>
            <p:spPr>
              <a:xfrm>
                <a:off x="2322360" y="1600200"/>
                <a:ext cx="5342040" cy="322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 flipH="1" flipV="1">
                <a:off x="6705720" y="2695320"/>
                <a:ext cx="1280880" cy="936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4723920" y="3457440"/>
                <a:ext cx="1219320" cy="83772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3276360" y="3228840"/>
                <a:ext cx="1143000" cy="45684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>
                <a:off x="3276720" y="2618640"/>
                <a:ext cx="1295280" cy="60948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>
                <a:off x="3352680" y="2618640"/>
                <a:ext cx="2895840" cy="15228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095880" y="2847600"/>
                <a:ext cx="457200" cy="38088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4800600" y="2847600"/>
                <a:ext cx="1447920" cy="30456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flipV="1">
                <a:off x="4800240" y="3228840"/>
                <a:ext cx="1143000" cy="15192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124080" y="2619000"/>
                <a:ext cx="0" cy="106668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>
                <a:off x="1812600" y="3682440"/>
                <a:ext cx="1235160" cy="7884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3276360" y="3837960"/>
                <a:ext cx="1066680" cy="45684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4876560" y="4295520"/>
                <a:ext cx="1143000" cy="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flipV="1">
                <a:off x="5943240" y="3533400"/>
                <a:ext cx="304920" cy="68544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67080" y="4066920"/>
                <a:ext cx="762120" cy="50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67080" y="3000240"/>
                <a:ext cx="762120" cy="50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152520"/>
                <a:ext cx="762120" cy="50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172200" y="2543040"/>
                <a:ext cx="762120" cy="50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43200" y="3533400"/>
                <a:ext cx="762120" cy="50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2314440"/>
                <a:ext cx="762120" cy="50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91320" y="3990600"/>
                <a:ext cx="761760" cy="50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Big_Cloud" descr=""/>
              <p:cNvPicPr/>
              <p:nvPr/>
            </p:nvPicPr>
            <p:blipFill>
              <a:blip r:embed="rId10"/>
              <a:stretch/>
            </p:blipFill>
            <p:spPr>
              <a:xfrm>
                <a:off x="171360" y="2979360"/>
                <a:ext cx="1673280" cy="15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248040" y="3403440"/>
                <a:ext cx="14594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TM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342920" y="4356000"/>
                <a:ext cx="151596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TM Network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476520" y="2693880"/>
                <a:ext cx="2800440" cy="1082160"/>
              </a:xfrm>
              <a:custGeom>
                <a:avLst/>
                <a:gdLst/>
                <a:ahLst/>
                <a:rect l="l" t="t" r="r" b="b"/>
                <a:pathLst>
                  <a:path w="3142" h="1199">
                    <a:moveTo>
                      <a:pt x="0" y="1010"/>
                    </a:moveTo>
                    <a:lnTo>
                      <a:pt x="702" y="766"/>
                    </a:lnTo>
                    <a:lnTo>
                      <a:pt x="1566" y="430"/>
                    </a:lnTo>
                    <a:lnTo>
                      <a:pt x="2838" y="183"/>
                    </a:lnTo>
                    <a:lnTo>
                      <a:pt x="2975" y="0"/>
                    </a:lnTo>
                    <a:lnTo>
                      <a:pt x="3142" y="78"/>
                    </a:lnTo>
                    <a:lnTo>
                      <a:pt x="2927" y="330"/>
                    </a:lnTo>
                    <a:lnTo>
                      <a:pt x="1566" y="622"/>
                    </a:lnTo>
                    <a:lnTo>
                      <a:pt x="58" y="1199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4583880" y="1927080"/>
                <a:ext cx="1483920" cy="1078560"/>
                <a:chOff x="4583880" y="1927080"/>
                <a:chExt cx="1483920" cy="1078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583880" y="1927080"/>
                  <a:ext cx="148392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440" rIns="82440" tIns="41400" bIns="414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SP “tunnel”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257800" y="2247120"/>
                  <a:ext cx="58680" cy="758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8139240" y="2857320"/>
                <a:ext cx="31680" cy="1302840"/>
              </a:xfrm>
              <a:prstGeom prst="line">
                <a:avLst/>
              </a:prstGeom>
              <a:ln w="284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27720" y="4006440"/>
                <a:ext cx="5940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W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085600" y="1820520"/>
                <a:ext cx="5374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3640" y="4981320"/>
                <a:ext cx="27806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WF=Interworking Fun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963800" y="3501720"/>
                <a:ext cx="263520" cy="336240"/>
              </a:xfrm>
              <a:prstGeom prst="rect">
                <a:avLst/>
              </a:prstGeom>
              <a:solidFill>
                <a:srgbClr val="00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85160" y="2500200"/>
                <a:ext cx="263520" cy="336240"/>
              </a:xfrm>
              <a:prstGeom prst="rect">
                <a:avLst/>
              </a:prstGeom>
              <a:solidFill>
                <a:srgbClr val="00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"/>
          <p:cNvSpPr/>
          <p:nvPr/>
        </p:nvSpPr>
        <p:spPr>
          <a:xfrm>
            <a:off x="6337080" y="3595680"/>
            <a:ext cx="62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" y="5638680"/>
            <a:ext cx="8459640" cy="337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n MPLS, network interworking and tunnelling concepts are used interchangea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74344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TM-MPLS Standards Activitie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189000" indent="-18900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ndards activities in ITU-T, ATM Forum and IETF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aft Recommendation Y.atmpls in SG13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tensive discussion in ITU-T on interworking issu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6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6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arency of ATM services, e.g., O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6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 and frame encapsulation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6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 signalling (e.g, PNNI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ork in progress in SG11 on signalling requirements and protocols for ATM-MPLS interwork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e approved specification in ATM Forum, af-aic-0178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6480">
              <a:lnSpc>
                <a:spcPct val="85000"/>
              </a:lnSpc>
              <a:spcBef>
                <a:spcPts val="312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ork in progress to enhance the specif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1063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ral drafts under consideration in IETF (PWE3 WG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6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f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6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koley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6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bray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1960" indent="-186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mart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5486400"/>
            <a:ext cx="8459640" cy="1067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U-T SG13 Lead Study Group for IP related matters and on Multi-protocol and IP-based networks and their inter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5/13 mandate is to work on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General Interworking including IP-based Multi-service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R-MPLS Standards Activitie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activities in ITU-T SG13,Frame Relay Forum,  MPLS Forum and IE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s are in preliminary stages in ITU-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pproved specification yet in any 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of drafts under consideration in IE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mapabha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mart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5486400"/>
            <a:ext cx="8459640" cy="337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gence on FR-MPLS interworking is progressing rapidly in all foru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3280" y="885960"/>
            <a:ext cx="66294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thernet/TDM-MPLS Standards Activitie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783108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activities only in IETF PWE3 W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pproved specification y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of drafts under consideration in IE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mart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activities only in IE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pproved specification y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drafts under consideration in IE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5943600"/>
            <a:ext cx="8459640" cy="337320"/>
          </a:xfrm>
          <a:prstGeom prst="rect">
            <a:avLst/>
          </a:prstGeom>
          <a:solidFill>
            <a:srgbClr val="ff9966"/>
          </a:soli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gence on Ethernet over MPLS specification is progressing in IE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679788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xample of Encapsulation Format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514600" y="3814560"/>
            <a:ext cx="3581280" cy="6318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14600" y="2754360"/>
            <a:ext cx="3581280" cy="1056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Fields and Service Specific Header (S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4600" y="2138400"/>
            <a:ext cx="3581280" cy="6318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working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14600" y="1528560"/>
            <a:ext cx="3581280" cy="631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5800" y="5033880"/>
            <a:ext cx="1981080" cy="631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66880" y="5033880"/>
            <a:ext cx="1981440" cy="6318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working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48320" y="5025960"/>
            <a:ext cx="2361960" cy="631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eld &amp; S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10280" y="5033880"/>
            <a:ext cx="1295640" cy="6318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2120" y="58672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81280" y="6019920"/>
            <a:ext cx="15494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LS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-720" y="1962000"/>
            <a:ext cx="17794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St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81080" y="1600200"/>
            <a:ext cx="228600" cy="1174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0600 h 1174680"/>
              <a:gd name="textAreaBottom" fmla="*/ 1144080 h 117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oday’s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Evolution Towards MPLS Inter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Brief MPLS Overvi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working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3760" y="666360"/>
            <a:ext cx="819936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working Challenges-Sharing of LSP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07880" y="5538960"/>
            <a:ext cx="84600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ensure QoS  transparency if multiple services share same transport LSP, e.g., bandwidth sharing between ATM &amp; F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7640" y="1241280"/>
            <a:ext cx="8849880" cy="3803760"/>
            <a:chOff x="17640" y="1241280"/>
            <a:chExt cx="8849880" cy="3803760"/>
          </a:xfrm>
        </p:grpSpPr>
        <p:pic>
          <p:nvPicPr>
            <p:cNvPr id="641" name="Big_Cloud" descr=""/>
            <p:cNvPicPr/>
            <p:nvPr/>
          </p:nvPicPr>
          <p:blipFill>
            <a:blip r:embed="rId1"/>
            <a:stretch/>
          </p:blipFill>
          <p:spPr>
            <a:xfrm>
              <a:off x="2046240" y="1944720"/>
              <a:ext cx="5562360" cy="28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 flipH="1">
              <a:off x="4633560" y="3360600"/>
              <a:ext cx="1218600" cy="70956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186000" y="3166920"/>
              <a:ext cx="1142640" cy="38736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185640" y="2650680"/>
              <a:ext cx="1294920" cy="5158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3262320" y="2650680"/>
              <a:ext cx="2895120" cy="12852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6005160" y="2844720"/>
              <a:ext cx="456840" cy="32220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709520" y="2844720"/>
              <a:ext cx="1447560" cy="25884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4709880" y="3166920"/>
              <a:ext cx="1142640" cy="13032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33720" y="2651040"/>
              <a:ext cx="0" cy="90324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204560" y="3619440"/>
              <a:ext cx="1752120" cy="5158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3186000" y="3682800"/>
              <a:ext cx="1066320" cy="38736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4786200" y="4070160"/>
              <a:ext cx="1142640" cy="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5852880" y="3425760"/>
              <a:ext cx="304560" cy="58104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4" name="" descr=""/>
            <p:cNvPicPr/>
            <p:nvPr/>
          </p:nvPicPr>
          <p:blipFill>
            <a:blip r:embed="rId2"/>
            <a:stretch/>
          </p:blipFill>
          <p:spPr>
            <a:xfrm>
              <a:off x="4176720" y="3876480"/>
              <a:ext cx="76140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3"/>
            <a:stretch/>
          </p:blipFill>
          <p:spPr>
            <a:xfrm>
              <a:off x="4176720" y="2973240"/>
              <a:ext cx="76140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4"/>
            <a:stretch/>
          </p:blipFill>
          <p:spPr>
            <a:xfrm>
              <a:off x="5548320" y="3103560"/>
              <a:ext cx="76140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5"/>
            <a:stretch/>
          </p:blipFill>
          <p:spPr>
            <a:xfrm>
              <a:off x="6081480" y="2587680"/>
              <a:ext cx="76176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6"/>
            <a:stretch/>
          </p:blipFill>
          <p:spPr>
            <a:xfrm>
              <a:off x="2652480" y="3425760"/>
              <a:ext cx="76176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7"/>
            <a:stretch/>
          </p:blipFill>
          <p:spPr>
            <a:xfrm>
              <a:off x="2652480" y="2394000"/>
              <a:ext cx="76176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8"/>
            <a:stretch/>
          </p:blipFill>
          <p:spPr>
            <a:xfrm>
              <a:off x="5700600" y="3813120"/>
              <a:ext cx="76176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Big_Cloud" descr=""/>
            <p:cNvPicPr/>
            <p:nvPr/>
          </p:nvPicPr>
          <p:blipFill>
            <a:blip r:embed="rId9"/>
            <a:stretch/>
          </p:blipFill>
          <p:spPr>
            <a:xfrm>
              <a:off x="7497720" y="1241280"/>
              <a:ext cx="11109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98280" y="2733840"/>
              <a:ext cx="2363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LS Transport L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66680" y="2448000"/>
              <a:ext cx="5411520" cy="1295280"/>
            </a:xfrm>
            <a:custGeom>
              <a:avLst/>
              <a:gdLst/>
              <a:ahLst/>
              <a:rect l="l" t="t" r="r" b="b"/>
              <a:pathLst>
                <a:path w="3142" h="1199">
                  <a:moveTo>
                    <a:pt x="0" y="1010"/>
                  </a:moveTo>
                  <a:lnTo>
                    <a:pt x="702" y="766"/>
                  </a:lnTo>
                  <a:lnTo>
                    <a:pt x="1566" y="430"/>
                  </a:lnTo>
                  <a:lnTo>
                    <a:pt x="2838" y="183"/>
                  </a:lnTo>
                  <a:lnTo>
                    <a:pt x="2975" y="0"/>
                  </a:lnTo>
                  <a:lnTo>
                    <a:pt x="3142" y="78"/>
                  </a:lnTo>
                  <a:lnTo>
                    <a:pt x="2927" y="330"/>
                  </a:lnTo>
                  <a:lnTo>
                    <a:pt x="1566" y="622"/>
                  </a:lnTo>
                  <a:lnTo>
                    <a:pt x="58" y="1199"/>
                  </a:lnTo>
                  <a:lnTo>
                    <a:pt x="0" y="101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07680" y="2979720"/>
              <a:ext cx="88380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03240" y="2908080"/>
              <a:ext cx="5676480" cy="1265400"/>
            </a:xfrm>
            <a:custGeom>
              <a:avLst/>
              <a:gdLst/>
              <a:ahLst/>
              <a:rect l="l" t="t" r="r" b="b"/>
              <a:pathLst>
                <a:path w="3142" h="1199">
                  <a:moveTo>
                    <a:pt x="0" y="1010"/>
                  </a:moveTo>
                  <a:lnTo>
                    <a:pt x="702" y="766"/>
                  </a:lnTo>
                  <a:lnTo>
                    <a:pt x="1397" y="901"/>
                  </a:lnTo>
                  <a:lnTo>
                    <a:pt x="2838" y="183"/>
                  </a:lnTo>
                  <a:lnTo>
                    <a:pt x="2975" y="0"/>
                  </a:lnTo>
                  <a:lnTo>
                    <a:pt x="3142" y="78"/>
                  </a:lnTo>
                  <a:lnTo>
                    <a:pt x="2927" y="330"/>
                  </a:lnTo>
                  <a:lnTo>
                    <a:pt x="1419" y="1101"/>
                  </a:lnTo>
                  <a:lnTo>
                    <a:pt x="768" y="945"/>
                  </a:lnTo>
                  <a:lnTo>
                    <a:pt x="58" y="1199"/>
                  </a:lnTo>
                  <a:lnTo>
                    <a:pt x="0" y="1010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90120" y="4689000"/>
              <a:ext cx="21819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LS Transport L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33680" y="4064040"/>
              <a:ext cx="388440" cy="55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726320" y="1455840"/>
              <a:ext cx="6044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7071840" y="2644560"/>
              <a:ext cx="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0" name="Big_Cloud" descr=""/>
            <p:cNvPicPr/>
            <p:nvPr/>
          </p:nvPicPr>
          <p:blipFill>
            <a:blip r:embed="rId10"/>
            <a:stretch/>
          </p:blipFill>
          <p:spPr>
            <a:xfrm>
              <a:off x="17640" y="3267000"/>
              <a:ext cx="11109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45880" y="3481560"/>
              <a:ext cx="6044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68040" y="4298760"/>
              <a:ext cx="1110960" cy="746280"/>
              <a:chOff x="68040" y="4298760"/>
              <a:chExt cx="1110960" cy="746280"/>
            </a:xfrm>
          </p:grpSpPr>
          <p:pic>
            <p:nvPicPr>
              <p:cNvPr id="673" name="Big_Cloud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040" y="4298760"/>
                <a:ext cx="11109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343440" y="4512240"/>
                <a:ext cx="43524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66dff"/>
                    </a:solidFill>
                    <a:latin typeface="Arial"/>
                  </a:rPr>
                  <a:t>F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7756560" y="2386080"/>
              <a:ext cx="1110960" cy="745920"/>
              <a:chOff x="7756560" y="2386080"/>
              <a:chExt cx="1110960" cy="745920"/>
            </a:xfrm>
          </p:grpSpPr>
          <p:pic>
            <p:nvPicPr>
              <p:cNvPr id="676" name="Big_Cloud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56560" y="2386080"/>
                <a:ext cx="1110960" cy="7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8031960" y="2599560"/>
                <a:ext cx="43524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66dff"/>
                    </a:solidFill>
                    <a:latin typeface="Arial"/>
                  </a:rPr>
                  <a:t>F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1035000" y="3575160"/>
              <a:ext cx="926640" cy="5544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3640" y="3687480"/>
              <a:ext cx="1231560" cy="695160"/>
            </a:xfrm>
            <a:prstGeom prst="line">
              <a:avLst/>
            </a:prstGeom>
            <a:ln w="28440">
              <a:solidFill>
                <a:srgbClr val="bf7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122560" y="3014640"/>
              <a:ext cx="2755440" cy="650880"/>
            </a:xfrm>
            <a:prstGeom prst="line">
              <a:avLst/>
            </a:prstGeom>
            <a:ln w="28440">
              <a:solidFill>
                <a:srgbClr val="bf7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4917960" y="2722680"/>
              <a:ext cx="2068200" cy="279360"/>
            </a:xfrm>
            <a:prstGeom prst="line">
              <a:avLst/>
            </a:prstGeom>
            <a:ln w="28440">
              <a:solidFill>
                <a:srgbClr val="bf7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6972120" y="2397240"/>
              <a:ext cx="450720" cy="312480"/>
            </a:xfrm>
            <a:prstGeom prst="line">
              <a:avLst/>
            </a:prstGeom>
            <a:ln w="28440">
              <a:solidFill>
                <a:srgbClr val="bf7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10240" y="2408040"/>
              <a:ext cx="847440" cy="111240"/>
            </a:xfrm>
            <a:prstGeom prst="line">
              <a:avLst/>
            </a:prstGeom>
            <a:ln w="28440">
              <a:solidFill>
                <a:srgbClr val="bf7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89000" y="2945880"/>
              <a:ext cx="2836440" cy="66204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4838760" y="2666520"/>
              <a:ext cx="2120400" cy="29052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6919920" y="1824120"/>
              <a:ext cx="941040" cy="87624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0960" y="3884400"/>
              <a:ext cx="1204560" cy="1461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949400" y="3798360"/>
              <a:ext cx="1153800" cy="23508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03560" y="3789360"/>
              <a:ext cx="1258560" cy="1443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4387680" y="3182760"/>
              <a:ext cx="2571480" cy="7509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6986520" y="2755800"/>
              <a:ext cx="488520" cy="4269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77200" y="1903320"/>
              <a:ext cx="528120" cy="85104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949320" y="4106520"/>
              <a:ext cx="1045800" cy="539640"/>
            </a:xfrm>
            <a:prstGeom prst="line">
              <a:avLst/>
            </a:prstGeom>
            <a:ln w="28440">
              <a:solidFill>
                <a:srgbClr val="bf7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976400" y="3855960"/>
              <a:ext cx="1245960" cy="257040"/>
            </a:xfrm>
            <a:prstGeom prst="line">
              <a:avLst/>
            </a:prstGeom>
            <a:ln w="28440">
              <a:solidFill>
                <a:srgbClr val="b66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35320" y="3867120"/>
              <a:ext cx="1112400" cy="157320"/>
            </a:xfrm>
            <a:prstGeom prst="line">
              <a:avLst/>
            </a:prstGeom>
            <a:ln w="28440">
              <a:solidFill>
                <a:srgbClr val="b66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4375080" y="3238560"/>
              <a:ext cx="2636640" cy="774720"/>
            </a:xfrm>
            <a:prstGeom prst="line">
              <a:avLst/>
            </a:prstGeom>
            <a:ln w="28440">
              <a:solidFill>
                <a:srgbClr val="b66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026120" y="2890800"/>
              <a:ext cx="502920" cy="347760"/>
            </a:xfrm>
            <a:prstGeom prst="line">
              <a:avLst/>
            </a:prstGeom>
            <a:ln w="28440">
              <a:solidFill>
                <a:srgbClr val="b66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29400" y="2879640"/>
              <a:ext cx="515520" cy="0"/>
            </a:xfrm>
            <a:prstGeom prst="line">
              <a:avLst/>
            </a:prstGeom>
            <a:ln w="28440">
              <a:solidFill>
                <a:srgbClr val="b66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36520" y="633240"/>
            <a:ext cx="7437600" cy="3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working Challenges-Qo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00" name="Big_Cloud" descr=""/>
          <p:cNvPicPr/>
          <p:nvPr/>
        </p:nvPicPr>
        <p:blipFill>
          <a:blip r:embed="rId1"/>
          <a:stretch/>
        </p:blipFill>
        <p:spPr>
          <a:xfrm>
            <a:off x="236520" y="3278160"/>
            <a:ext cx="1757520" cy="1393920"/>
          </a:xfrm>
          <a:prstGeom prst="rect">
            <a:avLst/>
          </a:prstGeom>
          <a:ln w="0">
            <a:noFill/>
          </a:ln>
        </p:spPr>
      </p:pic>
      <p:pic>
        <p:nvPicPr>
          <p:cNvPr id="701" name="Big_Cloud" descr=""/>
          <p:cNvPicPr/>
          <p:nvPr/>
        </p:nvPicPr>
        <p:blipFill>
          <a:blip r:embed="rId2"/>
          <a:stretch/>
        </p:blipFill>
        <p:spPr>
          <a:xfrm>
            <a:off x="1994040" y="1874880"/>
            <a:ext cx="5562360" cy="26845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 flipH="1">
            <a:off x="6641640" y="1996920"/>
            <a:ext cx="685800" cy="66996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Big_Cloud" descr=""/>
          <p:cNvPicPr/>
          <p:nvPr/>
        </p:nvPicPr>
        <p:blipFill>
          <a:blip r:embed="rId3"/>
          <a:stretch/>
        </p:blipFill>
        <p:spPr>
          <a:xfrm>
            <a:off x="6540480" y="1154160"/>
            <a:ext cx="2166840" cy="118260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 flipH="1">
            <a:off x="4660560" y="3278160"/>
            <a:ext cx="1219320" cy="66996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212640" y="3094200"/>
            <a:ext cx="1143000" cy="36648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3212640" y="2606760"/>
            <a:ext cx="1295640" cy="4874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3288960" y="2606400"/>
            <a:ext cx="2895480" cy="1220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6032520" y="2789280"/>
            <a:ext cx="457200" cy="30492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736880" y="2789280"/>
            <a:ext cx="1447560" cy="2444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4736880" y="3093840"/>
            <a:ext cx="1143000" cy="1220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60720" y="2606760"/>
            <a:ext cx="0" cy="85392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1231920" y="3521160"/>
            <a:ext cx="1752480" cy="48888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3213000" y="3583080"/>
            <a:ext cx="1067040" cy="3650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812840" y="3948120"/>
            <a:ext cx="1143000" cy="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5880240" y="3338280"/>
            <a:ext cx="304560" cy="54900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4203720" y="3765600"/>
            <a:ext cx="762120" cy="40644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5"/>
          <a:stretch/>
        </p:blipFill>
        <p:spPr>
          <a:xfrm>
            <a:off x="4203720" y="2911320"/>
            <a:ext cx="762120" cy="4064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6"/>
          <a:stretch/>
        </p:blipFill>
        <p:spPr>
          <a:xfrm>
            <a:off x="5575320" y="3033720"/>
            <a:ext cx="762120" cy="40464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7"/>
          <a:stretch/>
        </p:blipFill>
        <p:spPr>
          <a:xfrm>
            <a:off x="6108840" y="2546280"/>
            <a:ext cx="761760" cy="40500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8"/>
          <a:stretch/>
        </p:blipFill>
        <p:spPr>
          <a:xfrm>
            <a:off x="2679840" y="3338640"/>
            <a:ext cx="761760" cy="40644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9"/>
          <a:stretch/>
        </p:blipFill>
        <p:spPr>
          <a:xfrm>
            <a:off x="2679840" y="2362320"/>
            <a:ext cx="761760" cy="406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10"/>
          <a:stretch/>
        </p:blipFill>
        <p:spPr>
          <a:xfrm>
            <a:off x="5727600" y="3705120"/>
            <a:ext cx="762120" cy="4050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711360" y="3822840"/>
            <a:ext cx="604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432560" y="1346040"/>
            <a:ext cx="604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25280" y="2504160"/>
            <a:ext cx="1392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LS tunne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Qo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22480" y="2359080"/>
            <a:ext cx="4987800" cy="1523880"/>
          </a:xfrm>
          <a:custGeom>
            <a:avLst/>
            <a:gdLst/>
            <a:ahLst/>
            <a:rect l="l" t="t" r="r" b="b"/>
            <a:pathLst>
              <a:path w="3142" h="1199">
                <a:moveTo>
                  <a:pt x="0" y="1010"/>
                </a:moveTo>
                <a:lnTo>
                  <a:pt x="702" y="766"/>
                </a:lnTo>
                <a:lnTo>
                  <a:pt x="1566" y="430"/>
                </a:lnTo>
                <a:lnTo>
                  <a:pt x="2838" y="183"/>
                </a:lnTo>
                <a:lnTo>
                  <a:pt x="2975" y="0"/>
                </a:lnTo>
                <a:lnTo>
                  <a:pt x="3142" y="78"/>
                </a:lnTo>
                <a:lnTo>
                  <a:pt x="2927" y="330"/>
                </a:lnTo>
                <a:lnTo>
                  <a:pt x="1566" y="622"/>
                </a:lnTo>
                <a:lnTo>
                  <a:pt x="58" y="1199"/>
                </a:lnTo>
                <a:lnTo>
                  <a:pt x="0" y="101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2122560" y="3075120"/>
            <a:ext cx="296640" cy="426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7879400">
            <a:off x="6809400" y="2264760"/>
            <a:ext cx="122400" cy="3049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20674200">
            <a:off x="1993680" y="3636720"/>
            <a:ext cx="147600" cy="257040"/>
          </a:xfrm>
          <a:prstGeom prst="ellipse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41280" y="1432080"/>
            <a:ext cx="6102360" cy="2390760"/>
          </a:xfrm>
          <a:custGeom>
            <a:avLst/>
            <a:gdLst/>
            <a:ahLst/>
            <a:rect l="l" t="t" r="r" b="b"/>
            <a:pathLst>
              <a:path w="3844" h="1881">
                <a:moveTo>
                  <a:pt x="0" y="1881"/>
                </a:moveTo>
                <a:lnTo>
                  <a:pt x="563" y="1792"/>
                </a:lnTo>
                <a:lnTo>
                  <a:pt x="2081" y="1215"/>
                </a:lnTo>
                <a:lnTo>
                  <a:pt x="3370" y="948"/>
                </a:lnTo>
                <a:lnTo>
                  <a:pt x="3548" y="748"/>
                </a:lnTo>
                <a:lnTo>
                  <a:pt x="3341" y="133"/>
                </a:lnTo>
                <a:lnTo>
                  <a:pt x="38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174760" y="2603520"/>
            <a:ext cx="4988160" cy="1523880"/>
          </a:xfrm>
          <a:custGeom>
            <a:avLst/>
            <a:gdLst/>
            <a:ahLst/>
            <a:rect l="l" t="t" r="r" b="b"/>
            <a:pathLst>
              <a:path w="3142" h="1199">
                <a:moveTo>
                  <a:pt x="0" y="1010"/>
                </a:moveTo>
                <a:lnTo>
                  <a:pt x="702" y="766"/>
                </a:lnTo>
                <a:lnTo>
                  <a:pt x="1397" y="901"/>
                </a:lnTo>
                <a:lnTo>
                  <a:pt x="2838" y="183"/>
                </a:lnTo>
                <a:lnTo>
                  <a:pt x="2975" y="0"/>
                </a:lnTo>
                <a:lnTo>
                  <a:pt x="3142" y="78"/>
                </a:lnTo>
                <a:lnTo>
                  <a:pt x="2927" y="330"/>
                </a:lnTo>
                <a:lnTo>
                  <a:pt x="1419" y="1101"/>
                </a:lnTo>
                <a:lnTo>
                  <a:pt x="768" y="945"/>
                </a:lnTo>
                <a:lnTo>
                  <a:pt x="58" y="1199"/>
                </a:lnTo>
                <a:lnTo>
                  <a:pt x="0" y="101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20674200">
            <a:off x="2122560" y="3877920"/>
            <a:ext cx="147600" cy="255600"/>
          </a:xfrm>
          <a:prstGeom prst="ellipse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7879400">
            <a:off x="6990480" y="2490120"/>
            <a:ext cx="115920" cy="3049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281240" y="1546200"/>
            <a:ext cx="6215040" cy="2511360"/>
          </a:xfrm>
          <a:custGeom>
            <a:avLst/>
            <a:gdLst/>
            <a:ahLst/>
            <a:rect l="l" t="t" r="r" b="b"/>
            <a:pathLst>
              <a:path w="3896" h="1977">
                <a:moveTo>
                  <a:pt x="0" y="1946"/>
                </a:moveTo>
                <a:lnTo>
                  <a:pt x="548" y="1977"/>
                </a:lnTo>
                <a:lnTo>
                  <a:pt x="1272" y="1689"/>
                </a:lnTo>
                <a:lnTo>
                  <a:pt x="1970" y="1822"/>
                </a:lnTo>
                <a:lnTo>
                  <a:pt x="3448" y="1067"/>
                </a:lnTo>
                <a:lnTo>
                  <a:pt x="3657" y="859"/>
                </a:lnTo>
                <a:lnTo>
                  <a:pt x="3430" y="103"/>
                </a:lnTo>
                <a:lnTo>
                  <a:pt x="38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81280" y="4386960"/>
            <a:ext cx="1392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LS tunne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Qo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79840" y="4016520"/>
            <a:ext cx="534960" cy="35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3320" y="5181480"/>
            <a:ext cx="4252680" cy="146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of ATM services to diffserve classes for preservation  of QoS transpa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 LSPs be segregated based on QoS class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37160" y="4264200"/>
            <a:ext cx="2946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 of service 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791320" y="4771080"/>
            <a:ext cx="2437920" cy="1630800"/>
            <a:chOff x="5791320" y="4771080"/>
            <a:chExt cx="2437920" cy="1630800"/>
          </a:xfrm>
        </p:grpSpPr>
        <p:sp>
          <p:nvSpPr>
            <p:cNvPr id="740" name=""/>
            <p:cNvSpPr/>
            <p:nvPr/>
          </p:nvSpPr>
          <p:spPr>
            <a:xfrm>
              <a:off x="5796000" y="4777200"/>
              <a:ext cx="1213920" cy="6771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M Transf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apabil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32600" y="4771080"/>
              <a:ext cx="1196640" cy="72252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serv 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5796000" y="5477040"/>
              <a:ext cx="1218600" cy="304920"/>
              <a:chOff x="5796000" y="5477040"/>
              <a:chExt cx="1218600" cy="304920"/>
            </a:xfrm>
          </p:grpSpPr>
          <p:sp>
            <p:nvSpPr>
              <p:cNvPr id="743" name=""/>
              <p:cNvSpPr/>
              <p:nvPr/>
            </p:nvSpPr>
            <p:spPr>
              <a:xfrm>
                <a:off x="5796000" y="5477040"/>
                <a:ext cx="1218600" cy="30456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107400" y="5485680"/>
                <a:ext cx="568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B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7032600" y="5477040"/>
              <a:ext cx="1196640" cy="304560"/>
              <a:chOff x="7032600" y="5477040"/>
              <a:chExt cx="1196640" cy="304560"/>
            </a:xfrm>
          </p:grpSpPr>
          <p:sp>
            <p:nvSpPr>
              <p:cNvPr id="746" name=""/>
              <p:cNvSpPr/>
              <p:nvPr/>
            </p:nvSpPr>
            <p:spPr>
              <a:xfrm>
                <a:off x="7032600" y="5477040"/>
                <a:ext cx="1196640" cy="30456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356240" y="5484600"/>
                <a:ext cx="54144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5791320" y="5791320"/>
              <a:ext cx="1218960" cy="304560"/>
              <a:chOff x="5791320" y="5791320"/>
              <a:chExt cx="1218960" cy="304560"/>
            </a:xfrm>
          </p:grpSpPr>
          <p:sp>
            <p:nvSpPr>
              <p:cNvPr id="749" name=""/>
              <p:cNvSpPr/>
              <p:nvPr/>
            </p:nvSpPr>
            <p:spPr>
              <a:xfrm>
                <a:off x="5791320" y="5791320"/>
                <a:ext cx="1218960" cy="304560"/>
              </a:xfrm>
              <a:prstGeom prst="rect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021360" y="5791320"/>
                <a:ext cx="83664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BR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7010280" y="5791320"/>
              <a:ext cx="1218960" cy="304560"/>
              <a:chOff x="7010280" y="5791320"/>
              <a:chExt cx="1218960" cy="304560"/>
            </a:xfrm>
          </p:grpSpPr>
          <p:sp>
            <p:nvSpPr>
              <p:cNvPr id="752" name=""/>
              <p:cNvSpPr/>
              <p:nvPr/>
            </p:nvSpPr>
            <p:spPr>
              <a:xfrm>
                <a:off x="7010280" y="5791320"/>
                <a:ext cx="1218960" cy="304560"/>
              </a:xfrm>
              <a:prstGeom prst="rect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86400" y="5799240"/>
                <a:ext cx="6048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5796000" y="6095880"/>
              <a:ext cx="1218600" cy="306000"/>
              <a:chOff x="5796000" y="6095880"/>
              <a:chExt cx="1218600" cy="30600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6000" y="6095880"/>
                <a:ext cx="1218600" cy="30492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978160" y="6105600"/>
                <a:ext cx="9093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BR.2/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010280" y="6095880"/>
              <a:ext cx="1218960" cy="304920"/>
              <a:chOff x="7010280" y="6095880"/>
              <a:chExt cx="1218960" cy="304920"/>
            </a:xfrm>
          </p:grpSpPr>
          <p:sp>
            <p:nvSpPr>
              <p:cNvPr id="758" name=""/>
              <p:cNvSpPr/>
              <p:nvPr/>
            </p:nvSpPr>
            <p:spPr>
              <a:xfrm>
                <a:off x="7010280" y="6095880"/>
                <a:ext cx="1218960" cy="30492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111800" y="6095880"/>
                <a:ext cx="10285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F1/AF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2000" y="646200"/>
            <a:ext cx="821052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working Challenges- OAM &amp; Fault Management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61" name="Big_Cloud" descr=""/>
          <p:cNvPicPr/>
          <p:nvPr/>
        </p:nvPicPr>
        <p:blipFill>
          <a:blip r:embed="rId1"/>
          <a:stretch/>
        </p:blipFill>
        <p:spPr>
          <a:xfrm>
            <a:off x="6696000" y="3722760"/>
            <a:ext cx="2003400" cy="923760"/>
          </a:xfrm>
          <a:prstGeom prst="rect">
            <a:avLst/>
          </a:prstGeom>
          <a:ln w="0">
            <a:noFill/>
          </a:ln>
        </p:spPr>
      </p:pic>
      <p:pic>
        <p:nvPicPr>
          <p:cNvPr id="762" name="Big_Cloud" descr=""/>
          <p:cNvPicPr/>
          <p:nvPr/>
        </p:nvPicPr>
        <p:blipFill>
          <a:blip r:embed="rId2"/>
          <a:stretch/>
        </p:blipFill>
        <p:spPr>
          <a:xfrm>
            <a:off x="2563920" y="1774800"/>
            <a:ext cx="4768920" cy="24894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 flipH="1" flipV="1">
            <a:off x="6445080" y="2620440"/>
            <a:ext cx="1184400" cy="828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4614480" y="3209760"/>
            <a:ext cx="1127160" cy="64800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276720" y="3033720"/>
            <a:ext cx="1055520" cy="35388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3276360" y="2562120"/>
            <a:ext cx="1197000" cy="47160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3346560" y="2561760"/>
            <a:ext cx="2676240" cy="11772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5881320" y="2738520"/>
            <a:ext cx="423720" cy="29520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684320" y="2738520"/>
            <a:ext cx="1338120" cy="23652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4684320" y="3033720"/>
            <a:ext cx="1057320" cy="11736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35240" y="2562120"/>
            <a:ext cx="0" cy="82548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1924200" y="3384720"/>
            <a:ext cx="1141200" cy="6192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3276720" y="3504960"/>
            <a:ext cx="985680" cy="35244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756320" y="3857760"/>
            <a:ext cx="1055520" cy="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742000" y="3268800"/>
            <a:ext cx="280800" cy="52992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4192560" y="3681360"/>
            <a:ext cx="703440" cy="3920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4192560" y="2857680"/>
            <a:ext cx="703440" cy="39024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5"/>
          <a:stretch/>
        </p:blipFill>
        <p:spPr>
          <a:xfrm>
            <a:off x="5459400" y="2975040"/>
            <a:ext cx="704880" cy="39060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6"/>
          <a:stretch/>
        </p:blipFill>
        <p:spPr>
          <a:xfrm>
            <a:off x="5952960" y="2503440"/>
            <a:ext cx="703440" cy="3920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7"/>
          <a:stretch/>
        </p:blipFill>
        <p:spPr>
          <a:xfrm>
            <a:off x="2782800" y="3268800"/>
            <a:ext cx="704880" cy="3920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8"/>
          <a:stretch/>
        </p:blipFill>
        <p:spPr>
          <a:xfrm>
            <a:off x="2782800" y="2327400"/>
            <a:ext cx="704880" cy="3902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9"/>
          <a:stretch/>
        </p:blipFill>
        <p:spPr>
          <a:xfrm>
            <a:off x="5600880" y="3622680"/>
            <a:ext cx="704520" cy="392040"/>
          </a:xfrm>
          <a:prstGeom prst="rect">
            <a:avLst/>
          </a:prstGeom>
          <a:ln w="0">
            <a:noFill/>
          </a:ln>
        </p:spPr>
      </p:pic>
      <p:pic>
        <p:nvPicPr>
          <p:cNvPr id="783" name="Big_Cloud" descr=""/>
          <p:cNvPicPr/>
          <p:nvPr/>
        </p:nvPicPr>
        <p:blipFill>
          <a:blip r:embed="rId10"/>
          <a:stretch/>
        </p:blipFill>
        <p:spPr>
          <a:xfrm>
            <a:off x="406440" y="2841480"/>
            <a:ext cx="1546200" cy="118908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422640" y="3168720"/>
            <a:ext cx="1459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977880" y="3905280"/>
            <a:ext cx="1515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460680" y="2620800"/>
            <a:ext cx="2589120" cy="836640"/>
          </a:xfrm>
          <a:custGeom>
            <a:avLst/>
            <a:gdLst/>
            <a:ahLst/>
            <a:rect l="l" t="t" r="r" b="b"/>
            <a:pathLst>
              <a:path w="3142" h="1199">
                <a:moveTo>
                  <a:pt x="0" y="1010"/>
                </a:moveTo>
                <a:lnTo>
                  <a:pt x="702" y="766"/>
                </a:lnTo>
                <a:lnTo>
                  <a:pt x="1566" y="430"/>
                </a:lnTo>
                <a:lnTo>
                  <a:pt x="2838" y="183"/>
                </a:lnTo>
                <a:lnTo>
                  <a:pt x="2975" y="0"/>
                </a:lnTo>
                <a:lnTo>
                  <a:pt x="3142" y="78"/>
                </a:lnTo>
                <a:lnTo>
                  <a:pt x="2927" y="330"/>
                </a:lnTo>
                <a:lnTo>
                  <a:pt x="1566" y="622"/>
                </a:lnTo>
                <a:lnTo>
                  <a:pt x="58" y="1199"/>
                </a:lnTo>
                <a:lnTo>
                  <a:pt x="0" y="101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4430160" y="1991160"/>
            <a:ext cx="1483920" cy="871200"/>
            <a:chOff x="4430160" y="1991160"/>
            <a:chExt cx="1483920" cy="871200"/>
          </a:xfrm>
        </p:grpSpPr>
        <p:sp>
          <p:nvSpPr>
            <p:cNvPr id="788" name=""/>
            <p:cNvSpPr/>
            <p:nvPr/>
          </p:nvSpPr>
          <p:spPr>
            <a:xfrm>
              <a:off x="4430160" y="1991160"/>
              <a:ext cx="14839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SP “tunnel”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320" y="2275560"/>
              <a:ext cx="54000" cy="58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7770960" y="2746440"/>
            <a:ext cx="28440" cy="100800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58040" y="2577960"/>
            <a:ext cx="594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73040" y="1944720"/>
            <a:ext cx="594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063880" y="3208320"/>
            <a:ext cx="242640" cy="3366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628040" y="2433600"/>
            <a:ext cx="244440" cy="3366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11800" y="3129120"/>
            <a:ext cx="392040" cy="368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074600" y="3554280"/>
            <a:ext cx="390600" cy="368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240160" y="2571840"/>
            <a:ext cx="390600" cy="3664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18480" y="2236680"/>
            <a:ext cx="392040" cy="368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811840" y="4940280"/>
            <a:ext cx="392040" cy="368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162840" y="4940280"/>
            <a:ext cx="2748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Possible trouble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" y="1535040"/>
            <a:ext cx="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165800" y="1535040"/>
            <a:ext cx="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874880" y="1535040"/>
            <a:ext cx="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562120" y="1535040"/>
            <a:ext cx="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8600" y="1774800"/>
            <a:ext cx="164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859040" y="1774800"/>
            <a:ext cx="70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567160" y="1774800"/>
            <a:ext cx="459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5360" y="1371600"/>
            <a:ext cx="616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6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332240" y="1371600"/>
            <a:ext cx="808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.1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3880" y="1371600"/>
            <a:ext cx="289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6480" y="4406760"/>
            <a:ext cx="1316160" cy="5446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66080" y="4559400"/>
            <a:ext cx="1077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F/T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271520" y="3949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319640" y="4406760"/>
            <a:ext cx="1316160" cy="5446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623840" y="4559400"/>
            <a:ext cx="752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5005440" y="417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" y="5423040"/>
            <a:ext cx="8459640" cy="146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fault and performance monitoring capabilities between ATM and MPLS networks can be rela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the management I/F communicate (I.e., TMN (CMIP) and SNMP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SLA performance management is handl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957320" y="465948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49600" y="4456080"/>
            <a:ext cx="838080" cy="3808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21040" y="4510080"/>
            <a:ext cx="289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74600" y="417816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803840" y="431784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402200" y="3990960"/>
            <a:ext cx="886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3, M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31640" y="449280"/>
            <a:ext cx="75852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working Challenges -Protection Switching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228600" y="1098720"/>
            <a:ext cx="8612280" cy="3449880"/>
            <a:chOff x="228600" y="1098720"/>
            <a:chExt cx="8612280" cy="3449880"/>
          </a:xfrm>
        </p:grpSpPr>
        <p:pic>
          <p:nvPicPr>
            <p:cNvPr id="826" name="Big_Cloud" descr=""/>
            <p:cNvPicPr/>
            <p:nvPr/>
          </p:nvPicPr>
          <p:blipFill>
            <a:blip r:embed="rId1"/>
            <a:stretch/>
          </p:blipFill>
          <p:spPr>
            <a:xfrm>
              <a:off x="7175520" y="1098720"/>
              <a:ext cx="16653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Big_Cloud" descr=""/>
            <p:cNvPicPr/>
            <p:nvPr/>
          </p:nvPicPr>
          <p:blipFill>
            <a:blip r:embed="rId2"/>
            <a:stretch/>
          </p:blipFill>
          <p:spPr>
            <a:xfrm>
              <a:off x="228600" y="2755800"/>
              <a:ext cx="1905120" cy="15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Big_Cloud" descr=""/>
            <p:cNvPicPr/>
            <p:nvPr/>
          </p:nvPicPr>
          <p:blipFill>
            <a:blip r:embed="rId3"/>
            <a:stretch/>
          </p:blipFill>
          <p:spPr>
            <a:xfrm>
              <a:off x="2155680" y="1668240"/>
              <a:ext cx="5710320" cy="24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flipH="1">
              <a:off x="6927840" y="1776240"/>
              <a:ext cx="703440" cy="61380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893840" y="2949480"/>
              <a:ext cx="1251000" cy="61236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408480" y="2781000"/>
              <a:ext cx="1172880" cy="33480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3408120" y="2334960"/>
              <a:ext cx="1328760" cy="4456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3485880" y="2334960"/>
              <a:ext cx="2971800" cy="1108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302520" y="2501640"/>
              <a:ext cx="468000" cy="27900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971960" y="2501640"/>
              <a:ext cx="1486080" cy="22356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4971600" y="2781000"/>
              <a:ext cx="1173240" cy="1108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251160" y="2334960"/>
              <a:ext cx="0" cy="78084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1374840" y="3171600"/>
              <a:ext cx="1798560" cy="4456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3408480" y="3227040"/>
              <a:ext cx="1093680" cy="33480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049360" y="3562200"/>
              <a:ext cx="1173240" cy="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144840" y="3004920"/>
              <a:ext cx="312840" cy="50112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4"/>
            <a:stretch/>
          </p:blipFill>
          <p:spPr>
            <a:xfrm>
              <a:off x="4424400" y="3395520"/>
              <a:ext cx="782640" cy="3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" descr=""/>
            <p:cNvPicPr/>
            <p:nvPr/>
          </p:nvPicPr>
          <p:blipFill>
            <a:blip r:embed="rId5"/>
            <a:stretch/>
          </p:blipFill>
          <p:spPr>
            <a:xfrm>
              <a:off x="4424400" y="2614320"/>
              <a:ext cx="7826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6"/>
            <a:stretch/>
          </p:blipFill>
          <p:spPr>
            <a:xfrm>
              <a:off x="5832360" y="2725560"/>
              <a:ext cx="78264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7"/>
            <a:stretch/>
          </p:blipFill>
          <p:spPr>
            <a:xfrm>
              <a:off x="6380280" y="2279520"/>
              <a:ext cx="780840" cy="3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8"/>
            <a:stretch/>
          </p:blipFill>
          <p:spPr>
            <a:xfrm>
              <a:off x="2860560" y="3004920"/>
              <a:ext cx="782640" cy="3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9"/>
            <a:stretch/>
          </p:blipFill>
          <p:spPr>
            <a:xfrm>
              <a:off x="2860560" y="2111040"/>
              <a:ext cx="78264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10"/>
            <a:stretch/>
          </p:blipFill>
          <p:spPr>
            <a:xfrm>
              <a:off x="5989680" y="3339720"/>
              <a:ext cx="7808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228600" y="2377800"/>
              <a:ext cx="1295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M NW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07320" y="1253880"/>
              <a:ext cx="6044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57080" y="2241720"/>
              <a:ext cx="14245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L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70080" y="2107800"/>
              <a:ext cx="5119560" cy="1393560"/>
            </a:xfrm>
            <a:custGeom>
              <a:avLst/>
              <a:gdLst/>
              <a:ahLst/>
              <a:rect l="l" t="t" r="r" b="b"/>
              <a:pathLst>
                <a:path w="3142" h="1199">
                  <a:moveTo>
                    <a:pt x="0" y="1010"/>
                  </a:moveTo>
                  <a:lnTo>
                    <a:pt x="702" y="766"/>
                  </a:lnTo>
                  <a:lnTo>
                    <a:pt x="1566" y="430"/>
                  </a:lnTo>
                  <a:lnTo>
                    <a:pt x="2838" y="183"/>
                  </a:lnTo>
                  <a:lnTo>
                    <a:pt x="2975" y="0"/>
                  </a:lnTo>
                  <a:lnTo>
                    <a:pt x="3142" y="78"/>
                  </a:lnTo>
                  <a:lnTo>
                    <a:pt x="2927" y="330"/>
                  </a:lnTo>
                  <a:lnTo>
                    <a:pt x="1566" y="622"/>
                  </a:lnTo>
                  <a:lnTo>
                    <a:pt x="58" y="1199"/>
                  </a:lnTo>
                  <a:lnTo>
                    <a:pt x="0" y="101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2514600" y="2763360"/>
              <a:ext cx="79200" cy="38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7879400">
              <a:off x="7106040" y="2005200"/>
              <a:ext cx="110880" cy="3128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674200">
              <a:off x="2155680" y="3277440"/>
              <a:ext cx="152640" cy="23472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84200" y="1249200"/>
              <a:ext cx="6294600" cy="2198160"/>
            </a:xfrm>
            <a:custGeom>
              <a:avLst/>
              <a:gdLst/>
              <a:ahLst/>
              <a:rect l="l" t="t" r="r" b="b"/>
              <a:pathLst>
                <a:path w="3844" h="1881">
                  <a:moveTo>
                    <a:pt x="0" y="1881"/>
                  </a:moveTo>
                  <a:lnTo>
                    <a:pt x="563" y="1792"/>
                  </a:lnTo>
                  <a:lnTo>
                    <a:pt x="2081" y="1215"/>
                  </a:lnTo>
                  <a:lnTo>
                    <a:pt x="3370" y="948"/>
                  </a:lnTo>
                  <a:lnTo>
                    <a:pt x="3548" y="748"/>
                  </a:lnTo>
                  <a:lnTo>
                    <a:pt x="3341" y="133"/>
                  </a:lnTo>
                  <a:lnTo>
                    <a:pt x="3844" y="0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3240" y="2331720"/>
              <a:ext cx="5118120" cy="1393560"/>
            </a:xfrm>
            <a:custGeom>
              <a:avLst/>
              <a:gdLst/>
              <a:ahLst/>
              <a:rect l="l" t="t" r="r" b="b"/>
              <a:pathLst>
                <a:path w="3142" h="1199">
                  <a:moveTo>
                    <a:pt x="0" y="1010"/>
                  </a:moveTo>
                  <a:lnTo>
                    <a:pt x="702" y="766"/>
                  </a:lnTo>
                  <a:lnTo>
                    <a:pt x="1397" y="901"/>
                  </a:lnTo>
                  <a:lnTo>
                    <a:pt x="2838" y="183"/>
                  </a:lnTo>
                  <a:lnTo>
                    <a:pt x="2975" y="0"/>
                  </a:lnTo>
                  <a:lnTo>
                    <a:pt x="3142" y="78"/>
                  </a:lnTo>
                  <a:lnTo>
                    <a:pt x="2927" y="330"/>
                  </a:lnTo>
                  <a:lnTo>
                    <a:pt x="1419" y="1101"/>
                  </a:lnTo>
                  <a:lnTo>
                    <a:pt x="768" y="945"/>
                  </a:lnTo>
                  <a:lnTo>
                    <a:pt x="58" y="1199"/>
                  </a:lnTo>
                  <a:lnTo>
                    <a:pt x="0" y="1010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0674200">
              <a:off x="2289240" y="3496680"/>
              <a:ext cx="150840" cy="23472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17879400">
              <a:off x="7291440" y="2210760"/>
              <a:ext cx="105840" cy="3128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425600" y="1431720"/>
              <a:ext cx="6346800" cy="2230200"/>
            </a:xfrm>
            <a:custGeom>
              <a:avLst/>
              <a:gdLst/>
              <a:ahLst/>
              <a:rect l="l" t="t" r="r" b="b"/>
              <a:pathLst>
                <a:path w="3896" h="1977">
                  <a:moveTo>
                    <a:pt x="0" y="1946"/>
                  </a:moveTo>
                  <a:lnTo>
                    <a:pt x="548" y="1977"/>
                  </a:lnTo>
                  <a:lnTo>
                    <a:pt x="1272" y="1689"/>
                  </a:lnTo>
                  <a:lnTo>
                    <a:pt x="1970" y="1822"/>
                  </a:lnTo>
                  <a:lnTo>
                    <a:pt x="3448" y="1067"/>
                  </a:lnTo>
                  <a:lnTo>
                    <a:pt x="3657" y="859"/>
                  </a:lnTo>
                  <a:lnTo>
                    <a:pt x="3430" y="103"/>
                  </a:lnTo>
                  <a:lnTo>
                    <a:pt x="389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22760" y="3978720"/>
              <a:ext cx="1637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L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tection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60560" y="3624120"/>
              <a:ext cx="416160" cy="35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68000" y="2865600"/>
              <a:ext cx="14245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54360" y="3659040"/>
              <a:ext cx="1637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tection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22360" y="3444480"/>
              <a:ext cx="9525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1467000" y="3364920"/>
              <a:ext cx="82836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396200" y="2328480"/>
              <a:ext cx="1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390680" y="3433680"/>
              <a:ext cx="954000" cy="2217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44680" y="1268280"/>
              <a:ext cx="5470560" cy="2387160"/>
            </a:xfrm>
            <a:custGeom>
              <a:avLst/>
              <a:gdLst/>
              <a:ahLst/>
              <a:rect l="l" t="t" r="r" b="b"/>
              <a:pathLst>
                <a:path w="3454" h="1968">
                  <a:moveTo>
                    <a:pt x="0" y="1968"/>
                  </a:moveTo>
                  <a:cubicBezTo>
                    <a:pt x="234" y="1832"/>
                    <a:pt x="469" y="1697"/>
                    <a:pt x="711" y="1670"/>
                  </a:cubicBezTo>
                  <a:cubicBezTo>
                    <a:pt x="953" y="1643"/>
                    <a:pt x="1045" y="1938"/>
                    <a:pt x="1450" y="1805"/>
                  </a:cubicBezTo>
                  <a:cubicBezTo>
                    <a:pt x="1855" y="1672"/>
                    <a:pt x="2826" y="1174"/>
                    <a:pt x="3140" y="873"/>
                  </a:cubicBezTo>
                  <a:cubicBezTo>
                    <a:pt x="3454" y="572"/>
                    <a:pt x="3300" y="145"/>
                    <a:pt x="3332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297160" y="1503000"/>
              <a:ext cx="5427720" cy="1819080"/>
            </a:xfrm>
            <a:custGeom>
              <a:avLst/>
              <a:gdLst/>
              <a:ahLst/>
              <a:rect l="l" t="t" r="r" b="b"/>
              <a:pathLst>
                <a:path w="3283" h="1641">
                  <a:moveTo>
                    <a:pt x="0" y="1641"/>
                  </a:moveTo>
                  <a:cubicBezTo>
                    <a:pt x="544" y="1389"/>
                    <a:pt x="1089" y="1137"/>
                    <a:pt x="1555" y="998"/>
                  </a:cubicBezTo>
                  <a:cubicBezTo>
                    <a:pt x="2021" y="859"/>
                    <a:pt x="2506" y="972"/>
                    <a:pt x="2794" y="806"/>
                  </a:cubicBezTo>
                  <a:cubicBezTo>
                    <a:pt x="3082" y="640"/>
                    <a:pt x="3202" y="134"/>
                    <a:pt x="328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38480" y="1311120"/>
              <a:ext cx="15955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LS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80880" y="4724280"/>
            <a:ext cx="8460000" cy="17974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switching by OAM or fast reroute by control pla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TF adopting restoration based on rerouting capabilities (control pl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repair or end-to-end prote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local repair manage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U-T  working on protection switching model based on extensions of basic SDH (Synchronous Digital Hierarchy)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Evolution Towards MPLS Inter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Brief MPLS Over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8720" y="447840"/>
            <a:ext cx="691812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working Challenges-Traffic Management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74" name="Big_Cloud" descr=""/>
          <p:cNvPicPr/>
          <p:nvPr/>
        </p:nvPicPr>
        <p:blipFill>
          <a:blip r:embed="rId1"/>
          <a:stretch/>
        </p:blipFill>
        <p:spPr>
          <a:xfrm>
            <a:off x="7467480" y="3619440"/>
            <a:ext cx="1676520" cy="92412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7546320" y="3840120"/>
            <a:ext cx="1515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0880" y="5562720"/>
            <a:ext cx="8460000" cy="91692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VP providing some flexi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serv require substantial enhancement to LSR traffic management capabilities, i.e. CAC, poli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Big_Cloud" descr=""/>
          <p:cNvPicPr/>
          <p:nvPr/>
        </p:nvPicPr>
        <p:blipFill>
          <a:blip r:embed="rId2"/>
          <a:stretch/>
        </p:blipFill>
        <p:spPr>
          <a:xfrm>
            <a:off x="0" y="3208320"/>
            <a:ext cx="1673280" cy="153972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28600" y="1219320"/>
            <a:ext cx="1066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371 &amp; TM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76680" y="1447920"/>
            <a:ext cx="8403120" cy="3855960"/>
            <a:chOff x="76680" y="1447920"/>
            <a:chExt cx="8403120" cy="3855960"/>
          </a:xfrm>
        </p:grpSpPr>
        <p:sp>
          <p:nvSpPr>
            <p:cNvPr id="880" name=""/>
            <p:cNvSpPr/>
            <p:nvPr/>
          </p:nvSpPr>
          <p:spPr>
            <a:xfrm>
              <a:off x="152280" y="2209680"/>
              <a:ext cx="14479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ll defin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Big_Cloud" descr=""/>
            <p:cNvPicPr/>
            <p:nvPr/>
          </p:nvPicPr>
          <p:blipFill>
            <a:blip r:embed="rId3"/>
            <a:stretch/>
          </p:blipFill>
          <p:spPr>
            <a:xfrm>
              <a:off x="2151000" y="2057400"/>
              <a:ext cx="534204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flipH="1" flipV="1">
              <a:off x="6533640" y="2924280"/>
              <a:ext cx="1281240" cy="936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552560" y="3686040"/>
              <a:ext cx="1219320" cy="83844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104640" y="3457440"/>
              <a:ext cx="1143000" cy="45720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3104640" y="2847600"/>
              <a:ext cx="1295640" cy="6094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3180960" y="2847600"/>
              <a:ext cx="2895480" cy="1522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5924520" y="3076560"/>
              <a:ext cx="457200" cy="3808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628880" y="3076560"/>
              <a:ext cx="1447560" cy="30492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4628880" y="3457440"/>
              <a:ext cx="1143000" cy="15264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952720" y="2847960"/>
              <a:ext cx="0" cy="106668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 flipV="1">
              <a:off x="1641600" y="3911760"/>
              <a:ext cx="1234800" cy="7920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3105000" y="4067280"/>
              <a:ext cx="1067040" cy="45720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704840" y="4524480"/>
              <a:ext cx="1143000" cy="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5772240" y="3762000"/>
              <a:ext cx="304560" cy="68580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4"/>
            <a:stretch/>
          </p:blipFill>
          <p:spPr>
            <a:xfrm>
              <a:off x="4095720" y="4295880"/>
              <a:ext cx="7621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5"/>
            <a:stretch/>
          </p:blipFill>
          <p:spPr>
            <a:xfrm>
              <a:off x="4095720" y="3228840"/>
              <a:ext cx="76212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6"/>
            <a:stretch/>
          </p:blipFill>
          <p:spPr>
            <a:xfrm>
              <a:off x="5467320" y="3381480"/>
              <a:ext cx="7621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7"/>
            <a:stretch/>
          </p:blipFill>
          <p:spPr>
            <a:xfrm>
              <a:off x="6000840" y="2771640"/>
              <a:ext cx="7617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8"/>
            <a:stretch/>
          </p:blipFill>
          <p:spPr>
            <a:xfrm>
              <a:off x="2571840" y="3762360"/>
              <a:ext cx="7617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9"/>
            <a:stretch/>
          </p:blipFill>
          <p:spPr>
            <a:xfrm>
              <a:off x="2571840" y="2543040"/>
              <a:ext cx="7617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10"/>
            <a:stretch/>
          </p:blipFill>
          <p:spPr>
            <a:xfrm>
              <a:off x="5619600" y="4219560"/>
              <a:ext cx="762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76680" y="3632040"/>
              <a:ext cx="14594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M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305160" y="2922480"/>
              <a:ext cx="2800440" cy="1082880"/>
            </a:xfrm>
            <a:custGeom>
              <a:avLst/>
              <a:gdLst/>
              <a:ahLst/>
              <a:rect l="l" t="t" r="r" b="b"/>
              <a:pathLst>
                <a:path w="3142" h="1199">
                  <a:moveTo>
                    <a:pt x="0" y="1010"/>
                  </a:moveTo>
                  <a:lnTo>
                    <a:pt x="702" y="766"/>
                  </a:lnTo>
                  <a:lnTo>
                    <a:pt x="1566" y="430"/>
                  </a:lnTo>
                  <a:lnTo>
                    <a:pt x="2838" y="183"/>
                  </a:lnTo>
                  <a:lnTo>
                    <a:pt x="2975" y="0"/>
                  </a:lnTo>
                  <a:lnTo>
                    <a:pt x="3142" y="78"/>
                  </a:lnTo>
                  <a:lnTo>
                    <a:pt x="2927" y="330"/>
                  </a:lnTo>
                  <a:lnTo>
                    <a:pt x="1566" y="622"/>
                  </a:lnTo>
                  <a:lnTo>
                    <a:pt x="58" y="1199"/>
                  </a:lnTo>
                  <a:lnTo>
                    <a:pt x="0" y="1010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4412520" y="2155680"/>
              <a:ext cx="1483920" cy="1079280"/>
              <a:chOff x="4412520" y="2155680"/>
              <a:chExt cx="1483920" cy="1079280"/>
            </a:xfrm>
          </p:grpSpPr>
          <p:sp>
            <p:nvSpPr>
              <p:cNvPr id="905" name=""/>
              <p:cNvSpPr/>
              <p:nvPr/>
            </p:nvSpPr>
            <p:spPr>
              <a:xfrm>
                <a:off x="4412520" y="2155680"/>
                <a:ext cx="148392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SP “tunnel”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86440" y="2476080"/>
                <a:ext cx="58680" cy="75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7967520" y="3086280"/>
              <a:ext cx="166680" cy="830160"/>
            </a:xfrm>
            <a:prstGeom prst="line">
              <a:avLst/>
            </a:prstGeom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56360" y="4235400"/>
              <a:ext cx="5940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W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885800" y="2049480"/>
              <a:ext cx="5940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W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792440" y="3730680"/>
              <a:ext cx="263520" cy="3366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13800" y="2728800"/>
              <a:ext cx="263520" cy="3366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34040" y="3581280"/>
              <a:ext cx="423720" cy="476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7480" y="4827600"/>
              <a:ext cx="424080" cy="476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78360" y="4906800"/>
              <a:ext cx="14533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Conges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3200" y="1600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04800" y="1600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72440" y="1600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0600" y="1600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33200" y="1905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90600" y="190512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04800" y="1905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91520" y="1447920"/>
              <a:ext cx="17323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VP &amp; Diffser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676520" y="1447920"/>
              <a:ext cx="3808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oday’s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Evolution Towards MPLS Inter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Brief MPLS Over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esentation addresses interworking implications towards core networks evolution to  MPL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ve standards activities, aimed at addressing interworking between different technologies and challenges posed by interworking, in ITU-T, ATM Forum and IETF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TM-MPLS interworking is used to highlight approaches being adopted to achieve seamless interworking in the transfer plane, control plane and management plane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ist of acronym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nchronous Transfer Mo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Services Digital Networ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System to Intermediate System (an  Intra- Domain Routing  Exchange Protocol for use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nction with the Protocol for Providing the  Connectionless-mode Network Servi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W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working Fun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Switching Rou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Protocol Label Switch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rvice Access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P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Shortest Path Fir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N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 Network-to-Network Interfa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witched Telephone Networ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V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Reservation Protoc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Network Management Protoc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Monotype Corsiva"/>
              </a:rPr>
              <a:t>Thank you for you attention</a:t>
            </a:r>
            <a:endParaRPr b="1" lang="en-US" sz="6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280" y="896760"/>
            <a:ext cx="5743800" cy="3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oday’s Network Architecture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12000" y="551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410080"/>
            <a:ext cx="778824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, interworked, interdependent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ty of control and management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and performance bottlen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network has its own control plane and management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03160" y="1436760"/>
            <a:ext cx="7499520" cy="3909960"/>
            <a:chOff x="803160" y="1436760"/>
            <a:chExt cx="7499520" cy="3909960"/>
          </a:xfrm>
        </p:grpSpPr>
        <p:pic>
          <p:nvPicPr>
            <p:cNvPr id="94" name="Big_Cloud" descr=""/>
            <p:cNvPicPr/>
            <p:nvPr/>
          </p:nvPicPr>
          <p:blipFill>
            <a:blip r:embed="rId1"/>
            <a:stretch/>
          </p:blipFill>
          <p:spPr>
            <a:xfrm>
              <a:off x="1184400" y="2503440"/>
              <a:ext cx="13716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413000" y="2732040"/>
              <a:ext cx="9903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/MP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451480" y="1436760"/>
              <a:ext cx="1487520" cy="1090440"/>
              <a:chOff x="5451480" y="1436760"/>
              <a:chExt cx="1487520" cy="1090440"/>
            </a:xfrm>
          </p:grpSpPr>
          <p:pic>
            <p:nvPicPr>
              <p:cNvPr id="97" name="Big_Cloud" descr=""/>
              <p:cNvPicPr/>
              <p:nvPr/>
            </p:nvPicPr>
            <p:blipFill>
              <a:blip r:embed="rId2"/>
              <a:stretch/>
            </p:blipFill>
            <p:spPr>
              <a:xfrm>
                <a:off x="5451480" y="1436760"/>
                <a:ext cx="1487520" cy="10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72160" y="1817280"/>
                <a:ext cx="111420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/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" name="Big_Cloud" descr=""/>
            <p:cNvPicPr/>
            <p:nvPr/>
          </p:nvPicPr>
          <p:blipFill>
            <a:blip r:embed="rId3"/>
            <a:stretch/>
          </p:blipFill>
          <p:spPr>
            <a:xfrm>
              <a:off x="6781680" y="2971800"/>
              <a:ext cx="1521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068960" y="3159000"/>
              <a:ext cx="9320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dio Access Networ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Big_Cloud" descr=""/>
            <p:cNvPicPr/>
            <p:nvPr/>
          </p:nvPicPr>
          <p:blipFill>
            <a:blip r:embed="rId4"/>
            <a:stretch/>
          </p:blipFill>
          <p:spPr>
            <a:xfrm>
              <a:off x="803160" y="4332240"/>
              <a:ext cx="1114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38080" y="4495680"/>
              <a:ext cx="9511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936880" y="4179960"/>
              <a:ext cx="1487520" cy="1090440"/>
              <a:chOff x="2936880" y="4179960"/>
              <a:chExt cx="1487520" cy="1090440"/>
            </a:xfrm>
          </p:grpSpPr>
          <p:pic>
            <p:nvPicPr>
              <p:cNvPr id="104" name="Big_Cloud" descr=""/>
              <p:cNvPicPr/>
              <p:nvPr/>
            </p:nvPicPr>
            <p:blipFill>
              <a:blip r:embed="rId5"/>
              <a:stretch/>
            </p:blipFill>
            <p:spPr>
              <a:xfrm>
                <a:off x="2936880" y="4179960"/>
                <a:ext cx="1487520" cy="10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3157560" y="4473360"/>
                <a:ext cx="111420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SL- based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936880" y="1436760"/>
              <a:ext cx="1447560" cy="919080"/>
              <a:chOff x="2936880" y="1436760"/>
              <a:chExt cx="1447560" cy="919080"/>
            </a:xfrm>
          </p:grpSpPr>
          <p:pic>
            <p:nvPicPr>
              <p:cNvPr id="107" name="Big_Cloud" descr=""/>
              <p:cNvPicPr/>
              <p:nvPr/>
            </p:nvPicPr>
            <p:blipFill>
              <a:blip r:embed="rId6"/>
              <a:stretch/>
            </p:blipFill>
            <p:spPr>
              <a:xfrm>
                <a:off x="2936880" y="1436760"/>
                <a:ext cx="144756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3200760" y="1603440"/>
                <a:ext cx="919440" cy="63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ame Rel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H="1">
              <a:off x="5984640" y="2427120"/>
              <a:ext cx="1522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594120" y="3951360"/>
              <a:ext cx="569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70800" y="2351160"/>
              <a:ext cx="62532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927240" y="2198160"/>
              <a:ext cx="1865160" cy="23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308480" y="1893600"/>
              <a:ext cx="1177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403360" y="212256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13000" y="349416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308480" y="4713120"/>
              <a:ext cx="1295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384800" y="2884320"/>
              <a:ext cx="378360" cy="277920"/>
              <a:chOff x="4384800" y="2884320"/>
              <a:chExt cx="378360" cy="277920"/>
            </a:xfrm>
          </p:grpSpPr>
          <p:sp>
            <p:nvSpPr>
              <p:cNvPr id="118" name=""/>
              <p:cNvSpPr/>
              <p:nvPr/>
            </p:nvSpPr>
            <p:spPr>
              <a:xfrm>
                <a:off x="4384800" y="2884320"/>
                <a:ext cx="311040" cy="277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87320" y="2923200"/>
                <a:ext cx="3758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08680" y="3265560"/>
              <a:ext cx="378360" cy="277920"/>
              <a:chOff x="5908680" y="3265560"/>
              <a:chExt cx="378360" cy="277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908680" y="3265560"/>
                <a:ext cx="311400" cy="277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11200" y="3304440"/>
                <a:ext cx="3758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912000" y="2630520"/>
              <a:ext cx="378360" cy="277920"/>
              <a:chOff x="6912000" y="2630520"/>
              <a:chExt cx="378360" cy="277920"/>
            </a:xfrm>
          </p:grpSpPr>
          <p:sp>
            <p:nvSpPr>
              <p:cNvPr id="124" name=""/>
              <p:cNvSpPr/>
              <p:nvPr/>
            </p:nvSpPr>
            <p:spPr>
              <a:xfrm>
                <a:off x="6912000" y="2630520"/>
                <a:ext cx="311040" cy="277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14520" y="2669400"/>
                <a:ext cx="3758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746760" y="4027320"/>
              <a:ext cx="378360" cy="277920"/>
              <a:chOff x="6746760" y="4027320"/>
              <a:chExt cx="378360" cy="277920"/>
            </a:xfrm>
          </p:grpSpPr>
          <p:sp>
            <p:nvSpPr>
              <p:cNvPr id="127" name=""/>
              <p:cNvSpPr/>
              <p:nvPr/>
            </p:nvSpPr>
            <p:spPr>
              <a:xfrm>
                <a:off x="6746760" y="4027320"/>
                <a:ext cx="311400" cy="277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49280" y="4066200"/>
                <a:ext cx="3758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765680" y="4637160"/>
              <a:ext cx="378360" cy="277920"/>
              <a:chOff x="4765680" y="4637160"/>
              <a:chExt cx="378360" cy="277920"/>
            </a:xfrm>
          </p:grpSpPr>
          <p:sp>
            <p:nvSpPr>
              <p:cNvPr id="130" name=""/>
              <p:cNvSpPr/>
              <p:nvPr/>
            </p:nvSpPr>
            <p:spPr>
              <a:xfrm>
                <a:off x="4765680" y="4637160"/>
                <a:ext cx="311400" cy="277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68200" y="4676040"/>
                <a:ext cx="3758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413000" y="3722760"/>
              <a:ext cx="378360" cy="277920"/>
              <a:chOff x="1413000" y="3722760"/>
              <a:chExt cx="378360" cy="277920"/>
            </a:xfrm>
          </p:grpSpPr>
          <p:sp>
            <p:nvSpPr>
              <p:cNvPr id="133" name=""/>
              <p:cNvSpPr/>
              <p:nvPr/>
            </p:nvSpPr>
            <p:spPr>
              <a:xfrm>
                <a:off x="1413000" y="3722760"/>
                <a:ext cx="311040" cy="277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15520" y="3761640"/>
                <a:ext cx="3758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708280" y="2274840"/>
              <a:ext cx="378360" cy="277920"/>
              <a:chOff x="2708280" y="2274840"/>
              <a:chExt cx="378360" cy="277920"/>
            </a:xfrm>
          </p:grpSpPr>
          <p:sp>
            <p:nvSpPr>
              <p:cNvPr id="136" name=""/>
              <p:cNvSpPr/>
              <p:nvPr/>
            </p:nvSpPr>
            <p:spPr>
              <a:xfrm>
                <a:off x="2708280" y="2274840"/>
                <a:ext cx="311400" cy="277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10800" y="2313720"/>
                <a:ext cx="3758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689360" y="1741320"/>
              <a:ext cx="378360" cy="277920"/>
              <a:chOff x="4689360" y="1741320"/>
              <a:chExt cx="378360" cy="277920"/>
            </a:xfrm>
          </p:grpSpPr>
          <p:sp>
            <p:nvSpPr>
              <p:cNvPr id="139" name=""/>
              <p:cNvSpPr/>
              <p:nvPr/>
            </p:nvSpPr>
            <p:spPr>
              <a:xfrm>
                <a:off x="4689360" y="1741320"/>
                <a:ext cx="311400" cy="277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91880" y="1780200"/>
                <a:ext cx="3758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527800" y="4255920"/>
              <a:ext cx="1487520" cy="1090800"/>
              <a:chOff x="5527800" y="4255920"/>
              <a:chExt cx="1487520" cy="1090800"/>
            </a:xfrm>
          </p:grpSpPr>
          <p:pic>
            <p:nvPicPr>
              <p:cNvPr id="142" name="Big_Cloud" descr=""/>
              <p:cNvPicPr/>
              <p:nvPr/>
            </p:nvPicPr>
            <p:blipFill>
              <a:blip r:embed="rId7"/>
              <a:stretch/>
            </p:blipFill>
            <p:spPr>
              <a:xfrm>
                <a:off x="5527800" y="4255920"/>
                <a:ext cx="148752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5748480" y="4549680"/>
                <a:ext cx="111420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M Network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 flipV="1">
              <a:off x="2403360" y="3189240"/>
              <a:ext cx="32767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546360" y="3646440"/>
              <a:ext cx="378360" cy="277920"/>
              <a:chOff x="3546360" y="3646440"/>
              <a:chExt cx="378360" cy="277920"/>
            </a:xfrm>
          </p:grpSpPr>
          <p:sp>
            <p:nvSpPr>
              <p:cNvPr id="146" name=""/>
              <p:cNvSpPr/>
              <p:nvPr/>
            </p:nvSpPr>
            <p:spPr>
              <a:xfrm>
                <a:off x="3546360" y="3646440"/>
                <a:ext cx="311400" cy="277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48880" y="3685320"/>
                <a:ext cx="3758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W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8680" y="501480"/>
            <a:ext cx="5743440" cy="3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ear Term  Evolution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96000">
            <a:off x="3116160" y="2646360"/>
            <a:ext cx="2702160" cy="1376280"/>
          </a:xfrm>
          <a:custGeom>
            <a:avLst/>
            <a:gdLst/>
            <a:ahLst/>
            <a:rect l="l" t="t" r="r" b="b"/>
            <a:pathLst>
              <a:path w="1076" h="622">
                <a:moveTo>
                  <a:pt x="956" y="197"/>
                </a:moveTo>
                <a:lnTo>
                  <a:pt x="961" y="189"/>
                </a:lnTo>
                <a:lnTo>
                  <a:pt x="964" y="179"/>
                </a:lnTo>
                <a:lnTo>
                  <a:pt x="966" y="170"/>
                </a:lnTo>
                <a:lnTo>
                  <a:pt x="967" y="160"/>
                </a:lnTo>
                <a:lnTo>
                  <a:pt x="966" y="146"/>
                </a:lnTo>
                <a:lnTo>
                  <a:pt x="963" y="133"/>
                </a:lnTo>
                <a:lnTo>
                  <a:pt x="956" y="122"/>
                </a:lnTo>
                <a:lnTo>
                  <a:pt x="950" y="112"/>
                </a:lnTo>
                <a:lnTo>
                  <a:pt x="940" y="104"/>
                </a:lnTo>
                <a:lnTo>
                  <a:pt x="929" y="98"/>
                </a:lnTo>
                <a:lnTo>
                  <a:pt x="918" y="94"/>
                </a:lnTo>
                <a:lnTo>
                  <a:pt x="905" y="93"/>
                </a:lnTo>
                <a:lnTo>
                  <a:pt x="891" y="94"/>
                </a:lnTo>
                <a:lnTo>
                  <a:pt x="878" y="99"/>
                </a:lnTo>
                <a:lnTo>
                  <a:pt x="865" y="109"/>
                </a:lnTo>
                <a:lnTo>
                  <a:pt x="856" y="118"/>
                </a:lnTo>
                <a:lnTo>
                  <a:pt x="857" y="106"/>
                </a:lnTo>
                <a:lnTo>
                  <a:pt x="857" y="94"/>
                </a:lnTo>
                <a:lnTo>
                  <a:pt x="854" y="85"/>
                </a:lnTo>
                <a:lnTo>
                  <a:pt x="851" y="74"/>
                </a:lnTo>
                <a:lnTo>
                  <a:pt x="846" y="64"/>
                </a:lnTo>
                <a:lnTo>
                  <a:pt x="832" y="46"/>
                </a:lnTo>
                <a:lnTo>
                  <a:pt x="812" y="30"/>
                </a:lnTo>
                <a:lnTo>
                  <a:pt x="790" y="18"/>
                </a:lnTo>
                <a:lnTo>
                  <a:pt x="763" y="8"/>
                </a:lnTo>
                <a:lnTo>
                  <a:pt x="734" y="2"/>
                </a:lnTo>
                <a:lnTo>
                  <a:pt x="704" y="0"/>
                </a:lnTo>
                <a:lnTo>
                  <a:pt x="662" y="3"/>
                </a:lnTo>
                <a:lnTo>
                  <a:pt x="641" y="6"/>
                </a:lnTo>
                <a:lnTo>
                  <a:pt x="624" y="11"/>
                </a:lnTo>
                <a:lnTo>
                  <a:pt x="608" y="18"/>
                </a:lnTo>
                <a:lnTo>
                  <a:pt x="592" y="26"/>
                </a:lnTo>
                <a:lnTo>
                  <a:pt x="579" y="35"/>
                </a:lnTo>
                <a:lnTo>
                  <a:pt x="568" y="46"/>
                </a:lnTo>
                <a:lnTo>
                  <a:pt x="556" y="35"/>
                </a:lnTo>
                <a:lnTo>
                  <a:pt x="542" y="27"/>
                </a:lnTo>
                <a:lnTo>
                  <a:pt x="528" y="21"/>
                </a:lnTo>
                <a:lnTo>
                  <a:pt x="510" y="16"/>
                </a:lnTo>
                <a:lnTo>
                  <a:pt x="473" y="10"/>
                </a:lnTo>
                <a:lnTo>
                  <a:pt x="433" y="6"/>
                </a:lnTo>
                <a:lnTo>
                  <a:pt x="406" y="8"/>
                </a:lnTo>
                <a:lnTo>
                  <a:pt x="382" y="13"/>
                </a:lnTo>
                <a:lnTo>
                  <a:pt x="358" y="21"/>
                </a:lnTo>
                <a:lnTo>
                  <a:pt x="336" y="32"/>
                </a:lnTo>
                <a:lnTo>
                  <a:pt x="317" y="45"/>
                </a:lnTo>
                <a:lnTo>
                  <a:pt x="301" y="59"/>
                </a:lnTo>
                <a:lnTo>
                  <a:pt x="288" y="75"/>
                </a:lnTo>
                <a:lnTo>
                  <a:pt x="278" y="94"/>
                </a:lnTo>
                <a:lnTo>
                  <a:pt x="265" y="90"/>
                </a:lnTo>
                <a:lnTo>
                  <a:pt x="253" y="88"/>
                </a:lnTo>
                <a:lnTo>
                  <a:pt x="238" y="90"/>
                </a:lnTo>
                <a:lnTo>
                  <a:pt x="225" y="93"/>
                </a:lnTo>
                <a:lnTo>
                  <a:pt x="211" y="99"/>
                </a:lnTo>
                <a:lnTo>
                  <a:pt x="198" y="107"/>
                </a:lnTo>
                <a:lnTo>
                  <a:pt x="189" y="117"/>
                </a:lnTo>
                <a:lnTo>
                  <a:pt x="182" y="126"/>
                </a:lnTo>
                <a:lnTo>
                  <a:pt x="179" y="138"/>
                </a:lnTo>
                <a:lnTo>
                  <a:pt x="176" y="150"/>
                </a:lnTo>
                <a:lnTo>
                  <a:pt x="176" y="173"/>
                </a:lnTo>
                <a:lnTo>
                  <a:pt x="162" y="171"/>
                </a:lnTo>
                <a:lnTo>
                  <a:pt x="146" y="171"/>
                </a:lnTo>
                <a:lnTo>
                  <a:pt x="115" y="176"/>
                </a:lnTo>
                <a:lnTo>
                  <a:pt x="88" y="184"/>
                </a:lnTo>
                <a:lnTo>
                  <a:pt x="62" y="195"/>
                </a:lnTo>
                <a:lnTo>
                  <a:pt x="42" y="208"/>
                </a:lnTo>
                <a:lnTo>
                  <a:pt x="24" y="226"/>
                </a:lnTo>
                <a:lnTo>
                  <a:pt x="11" y="245"/>
                </a:lnTo>
                <a:lnTo>
                  <a:pt x="6" y="254"/>
                </a:lnTo>
                <a:lnTo>
                  <a:pt x="3" y="266"/>
                </a:lnTo>
                <a:lnTo>
                  <a:pt x="0" y="277"/>
                </a:lnTo>
                <a:lnTo>
                  <a:pt x="0" y="290"/>
                </a:lnTo>
                <a:lnTo>
                  <a:pt x="2" y="306"/>
                </a:lnTo>
                <a:lnTo>
                  <a:pt x="5" y="322"/>
                </a:lnTo>
                <a:lnTo>
                  <a:pt x="10" y="336"/>
                </a:lnTo>
                <a:lnTo>
                  <a:pt x="18" y="349"/>
                </a:lnTo>
                <a:lnTo>
                  <a:pt x="27" y="362"/>
                </a:lnTo>
                <a:lnTo>
                  <a:pt x="40" y="371"/>
                </a:lnTo>
                <a:lnTo>
                  <a:pt x="56" y="381"/>
                </a:lnTo>
                <a:lnTo>
                  <a:pt x="75" y="389"/>
                </a:lnTo>
                <a:lnTo>
                  <a:pt x="67" y="398"/>
                </a:lnTo>
                <a:lnTo>
                  <a:pt x="62" y="410"/>
                </a:lnTo>
                <a:lnTo>
                  <a:pt x="59" y="421"/>
                </a:lnTo>
                <a:lnTo>
                  <a:pt x="58" y="432"/>
                </a:lnTo>
                <a:lnTo>
                  <a:pt x="59" y="442"/>
                </a:lnTo>
                <a:lnTo>
                  <a:pt x="61" y="450"/>
                </a:lnTo>
                <a:lnTo>
                  <a:pt x="67" y="466"/>
                </a:lnTo>
                <a:lnTo>
                  <a:pt x="77" y="480"/>
                </a:lnTo>
                <a:lnTo>
                  <a:pt x="91" y="493"/>
                </a:lnTo>
                <a:lnTo>
                  <a:pt x="109" y="502"/>
                </a:lnTo>
                <a:lnTo>
                  <a:pt x="128" y="510"/>
                </a:lnTo>
                <a:lnTo>
                  <a:pt x="149" y="515"/>
                </a:lnTo>
                <a:lnTo>
                  <a:pt x="171" y="517"/>
                </a:lnTo>
                <a:lnTo>
                  <a:pt x="187" y="515"/>
                </a:lnTo>
                <a:lnTo>
                  <a:pt x="203" y="514"/>
                </a:lnTo>
                <a:lnTo>
                  <a:pt x="217" y="510"/>
                </a:lnTo>
                <a:lnTo>
                  <a:pt x="230" y="504"/>
                </a:lnTo>
                <a:lnTo>
                  <a:pt x="230" y="517"/>
                </a:lnTo>
                <a:lnTo>
                  <a:pt x="232" y="533"/>
                </a:lnTo>
                <a:lnTo>
                  <a:pt x="237" y="547"/>
                </a:lnTo>
                <a:lnTo>
                  <a:pt x="243" y="560"/>
                </a:lnTo>
                <a:lnTo>
                  <a:pt x="253" y="571"/>
                </a:lnTo>
                <a:lnTo>
                  <a:pt x="264" y="581"/>
                </a:lnTo>
                <a:lnTo>
                  <a:pt x="277" y="589"/>
                </a:lnTo>
                <a:lnTo>
                  <a:pt x="293" y="594"/>
                </a:lnTo>
                <a:lnTo>
                  <a:pt x="307" y="595"/>
                </a:lnTo>
                <a:lnTo>
                  <a:pt x="318" y="594"/>
                </a:lnTo>
                <a:lnTo>
                  <a:pt x="329" y="592"/>
                </a:lnTo>
                <a:lnTo>
                  <a:pt x="339" y="589"/>
                </a:lnTo>
                <a:lnTo>
                  <a:pt x="349" y="584"/>
                </a:lnTo>
                <a:lnTo>
                  <a:pt x="357" y="578"/>
                </a:lnTo>
                <a:lnTo>
                  <a:pt x="365" y="571"/>
                </a:lnTo>
                <a:lnTo>
                  <a:pt x="371" y="563"/>
                </a:lnTo>
                <a:lnTo>
                  <a:pt x="376" y="554"/>
                </a:lnTo>
                <a:lnTo>
                  <a:pt x="385" y="568"/>
                </a:lnTo>
                <a:lnTo>
                  <a:pt x="398" y="582"/>
                </a:lnTo>
                <a:lnTo>
                  <a:pt x="414" y="594"/>
                </a:lnTo>
                <a:lnTo>
                  <a:pt x="433" y="603"/>
                </a:lnTo>
                <a:lnTo>
                  <a:pt x="456" y="611"/>
                </a:lnTo>
                <a:lnTo>
                  <a:pt x="480" y="618"/>
                </a:lnTo>
                <a:lnTo>
                  <a:pt x="505" y="621"/>
                </a:lnTo>
                <a:lnTo>
                  <a:pt x="534" y="622"/>
                </a:lnTo>
                <a:lnTo>
                  <a:pt x="587" y="619"/>
                </a:lnTo>
                <a:lnTo>
                  <a:pt x="609" y="616"/>
                </a:lnTo>
                <a:lnTo>
                  <a:pt x="628" y="611"/>
                </a:lnTo>
                <a:lnTo>
                  <a:pt x="646" y="605"/>
                </a:lnTo>
                <a:lnTo>
                  <a:pt x="659" y="595"/>
                </a:lnTo>
                <a:lnTo>
                  <a:pt x="672" y="586"/>
                </a:lnTo>
                <a:lnTo>
                  <a:pt x="681" y="573"/>
                </a:lnTo>
                <a:lnTo>
                  <a:pt x="688" y="579"/>
                </a:lnTo>
                <a:lnTo>
                  <a:pt x="696" y="582"/>
                </a:lnTo>
                <a:lnTo>
                  <a:pt x="705" y="584"/>
                </a:lnTo>
                <a:lnTo>
                  <a:pt x="715" y="586"/>
                </a:lnTo>
                <a:lnTo>
                  <a:pt x="732" y="584"/>
                </a:lnTo>
                <a:lnTo>
                  <a:pt x="748" y="579"/>
                </a:lnTo>
                <a:lnTo>
                  <a:pt x="758" y="574"/>
                </a:lnTo>
                <a:lnTo>
                  <a:pt x="764" y="570"/>
                </a:lnTo>
                <a:lnTo>
                  <a:pt x="771" y="563"/>
                </a:lnTo>
                <a:lnTo>
                  <a:pt x="776" y="557"/>
                </a:lnTo>
                <a:lnTo>
                  <a:pt x="779" y="550"/>
                </a:lnTo>
                <a:lnTo>
                  <a:pt x="780" y="542"/>
                </a:lnTo>
                <a:lnTo>
                  <a:pt x="782" y="526"/>
                </a:lnTo>
                <a:lnTo>
                  <a:pt x="780" y="515"/>
                </a:lnTo>
                <a:lnTo>
                  <a:pt x="798" y="526"/>
                </a:lnTo>
                <a:lnTo>
                  <a:pt x="806" y="533"/>
                </a:lnTo>
                <a:lnTo>
                  <a:pt x="816" y="538"/>
                </a:lnTo>
                <a:lnTo>
                  <a:pt x="827" y="541"/>
                </a:lnTo>
                <a:lnTo>
                  <a:pt x="838" y="542"/>
                </a:lnTo>
                <a:lnTo>
                  <a:pt x="849" y="542"/>
                </a:lnTo>
                <a:lnTo>
                  <a:pt x="860" y="542"/>
                </a:lnTo>
                <a:lnTo>
                  <a:pt x="883" y="536"/>
                </a:lnTo>
                <a:lnTo>
                  <a:pt x="904" y="526"/>
                </a:lnTo>
                <a:lnTo>
                  <a:pt x="913" y="520"/>
                </a:lnTo>
                <a:lnTo>
                  <a:pt x="921" y="512"/>
                </a:lnTo>
                <a:lnTo>
                  <a:pt x="927" y="504"/>
                </a:lnTo>
                <a:lnTo>
                  <a:pt x="934" y="494"/>
                </a:lnTo>
                <a:lnTo>
                  <a:pt x="940" y="483"/>
                </a:lnTo>
                <a:lnTo>
                  <a:pt x="943" y="472"/>
                </a:lnTo>
                <a:lnTo>
                  <a:pt x="947" y="459"/>
                </a:lnTo>
                <a:lnTo>
                  <a:pt x="947" y="446"/>
                </a:lnTo>
                <a:lnTo>
                  <a:pt x="948" y="422"/>
                </a:lnTo>
                <a:lnTo>
                  <a:pt x="977" y="419"/>
                </a:lnTo>
                <a:lnTo>
                  <a:pt x="1003" y="411"/>
                </a:lnTo>
                <a:lnTo>
                  <a:pt x="1027" y="398"/>
                </a:lnTo>
                <a:lnTo>
                  <a:pt x="1047" y="382"/>
                </a:lnTo>
                <a:lnTo>
                  <a:pt x="1055" y="373"/>
                </a:lnTo>
                <a:lnTo>
                  <a:pt x="1062" y="363"/>
                </a:lnTo>
                <a:lnTo>
                  <a:pt x="1068" y="352"/>
                </a:lnTo>
                <a:lnTo>
                  <a:pt x="1073" y="341"/>
                </a:lnTo>
                <a:lnTo>
                  <a:pt x="1075" y="330"/>
                </a:lnTo>
                <a:lnTo>
                  <a:pt x="1076" y="317"/>
                </a:lnTo>
                <a:lnTo>
                  <a:pt x="1076" y="306"/>
                </a:lnTo>
                <a:lnTo>
                  <a:pt x="1073" y="293"/>
                </a:lnTo>
                <a:lnTo>
                  <a:pt x="1067" y="275"/>
                </a:lnTo>
                <a:lnTo>
                  <a:pt x="1059" y="259"/>
                </a:lnTo>
                <a:lnTo>
                  <a:pt x="1047" y="245"/>
                </a:lnTo>
                <a:lnTo>
                  <a:pt x="1035" y="230"/>
                </a:lnTo>
                <a:lnTo>
                  <a:pt x="1019" y="218"/>
                </a:lnTo>
                <a:lnTo>
                  <a:pt x="1001" y="208"/>
                </a:lnTo>
                <a:lnTo>
                  <a:pt x="980" y="202"/>
                </a:lnTo>
                <a:lnTo>
                  <a:pt x="956" y="19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9b9f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69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3124080"/>
            <a:ext cx="1295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M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01920" y="2798640"/>
            <a:ext cx="252360" cy="503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 flipV="1">
            <a:off x="1645920" y="2536920"/>
            <a:ext cx="168732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336760" y="2646360"/>
            <a:ext cx="378360" cy="277920"/>
            <a:chOff x="2336760" y="2646360"/>
            <a:chExt cx="378360" cy="277920"/>
          </a:xfrm>
        </p:grpSpPr>
        <p:sp>
          <p:nvSpPr>
            <p:cNvPr id="154" name=""/>
            <p:cNvSpPr/>
            <p:nvPr/>
          </p:nvSpPr>
          <p:spPr>
            <a:xfrm>
              <a:off x="2336760" y="2646360"/>
              <a:ext cx="311400" cy="27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39280" y="268524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504040" y="2924280"/>
            <a:ext cx="252360" cy="5014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324000" y="1909800"/>
            <a:ext cx="1430280" cy="1049400"/>
            <a:chOff x="324000" y="1909800"/>
            <a:chExt cx="1430280" cy="1049400"/>
          </a:xfrm>
        </p:grpSpPr>
        <p:pic>
          <p:nvPicPr>
            <p:cNvPr id="158" name="Big_Cloud" descr=""/>
            <p:cNvPicPr/>
            <p:nvPr/>
          </p:nvPicPr>
          <p:blipFill>
            <a:blip r:embed="rId3"/>
            <a:stretch/>
          </p:blipFill>
          <p:spPr>
            <a:xfrm>
              <a:off x="324000" y="1909800"/>
              <a:ext cx="14302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28920" y="2271960"/>
              <a:ext cx="1017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STN/ISD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429000" y="2286000"/>
            <a:ext cx="15238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. Q.2931, P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Big_Cloud" descr=""/>
          <p:cNvPicPr/>
          <p:nvPr/>
        </p:nvPicPr>
        <p:blipFill>
          <a:blip r:embed="rId4"/>
          <a:stretch/>
        </p:blipFill>
        <p:spPr>
          <a:xfrm>
            <a:off x="6907320" y="1571760"/>
            <a:ext cx="1398600" cy="1025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086600" y="1752480"/>
            <a:ext cx="97164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 Relay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Big_Cloud" descr=""/>
          <p:cNvPicPr/>
          <p:nvPr/>
        </p:nvPicPr>
        <p:blipFill>
          <a:blip r:embed="rId5"/>
          <a:stretch/>
        </p:blipFill>
        <p:spPr>
          <a:xfrm>
            <a:off x="7067520" y="3449520"/>
            <a:ext cx="1314360" cy="96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238880" y="3657600"/>
            <a:ext cx="10670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-based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" y="3122640"/>
            <a:ext cx="112572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TN/ISDN OSF &amp; NM, M series R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3962520"/>
            <a:ext cx="10555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. Y.1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191200" y="3449520"/>
            <a:ext cx="252360" cy="501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>
            <a:off x="5756040" y="2290680"/>
            <a:ext cx="115092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389200" y="3724200"/>
            <a:ext cx="179388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67880" y="3122640"/>
            <a:ext cx="1189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TF RF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83840" y="1295280"/>
            <a:ext cx="1845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&amp; X series 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083280" y="2548080"/>
            <a:ext cx="378360" cy="276120"/>
            <a:chOff x="6083280" y="2548080"/>
            <a:chExt cx="378360" cy="276120"/>
          </a:xfrm>
        </p:grpSpPr>
        <p:sp>
          <p:nvSpPr>
            <p:cNvPr id="173" name=""/>
            <p:cNvSpPr/>
            <p:nvPr/>
          </p:nvSpPr>
          <p:spPr>
            <a:xfrm>
              <a:off x="6083280" y="2548080"/>
              <a:ext cx="309960" cy="276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5800" y="258516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69040" y="3606840"/>
            <a:ext cx="378360" cy="277920"/>
            <a:chOff x="6269040" y="3606840"/>
            <a:chExt cx="378360" cy="277920"/>
          </a:xfrm>
        </p:grpSpPr>
        <p:sp>
          <p:nvSpPr>
            <p:cNvPr id="176" name=""/>
            <p:cNvSpPr/>
            <p:nvPr/>
          </p:nvSpPr>
          <p:spPr>
            <a:xfrm>
              <a:off x="6269040" y="3606840"/>
              <a:ext cx="311400" cy="27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71560" y="364572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983200" y="2895480"/>
            <a:ext cx="9511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. I.5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2971800"/>
            <a:ext cx="106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. I.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506600"/>
            <a:ext cx="1202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. Q.9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4114800"/>
            <a:ext cx="24382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 OSF &amp; NM, M series R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343400"/>
            <a:ext cx="13003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MP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81760" y="2598840"/>
            <a:ext cx="13003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 OSF &amp; 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809880"/>
            <a:ext cx="23018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F = Operating Support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648320"/>
            <a:ext cx="4191120" cy="20142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cc00cc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on ATM core networking enables initial stage of unified management an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performance and QoS capabilities for multi-services over common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51320" y="674640"/>
            <a:ext cx="1430280" cy="1049400"/>
            <a:chOff x="5251320" y="674640"/>
            <a:chExt cx="1430280" cy="1049400"/>
          </a:xfrm>
        </p:grpSpPr>
        <p:pic>
          <p:nvPicPr>
            <p:cNvPr id="187" name="Big_Cloud" descr=""/>
            <p:cNvPicPr/>
            <p:nvPr/>
          </p:nvPicPr>
          <p:blipFill>
            <a:blip r:embed="rId7"/>
            <a:stretch/>
          </p:blipFill>
          <p:spPr>
            <a:xfrm>
              <a:off x="5251320" y="674640"/>
              <a:ext cx="14302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556240" y="1036800"/>
              <a:ext cx="1017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STN/ISD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4995720" y="2486160"/>
            <a:ext cx="252720" cy="503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5052960" y="1670040"/>
            <a:ext cx="70344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235480" y="2017800"/>
            <a:ext cx="378360" cy="277560"/>
            <a:chOff x="5235480" y="2017800"/>
            <a:chExt cx="378360" cy="277560"/>
          </a:xfrm>
        </p:grpSpPr>
        <p:sp>
          <p:nvSpPr>
            <p:cNvPr id="192" name=""/>
            <p:cNvSpPr/>
            <p:nvPr/>
          </p:nvSpPr>
          <p:spPr>
            <a:xfrm>
              <a:off x="5235480" y="2017800"/>
              <a:ext cx="311400" cy="277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38000" y="205668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rot="20730600">
            <a:off x="2899800" y="1219320"/>
            <a:ext cx="1404720" cy="32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7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2057400"/>
            <a:ext cx="99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. I.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676520" y="1295280"/>
            <a:ext cx="358128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0695800">
            <a:off x="2824560" y="1828800"/>
            <a:ext cx="1845000" cy="32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. Q.700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4724280"/>
            <a:ext cx="3581280" cy="119124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66ff66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service transparency between IP based services and ATM/PST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3280" y="885600"/>
            <a:ext cx="57438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oday’s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Towards MPLS Inter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Brief MPLS Over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working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6666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200" y="403200"/>
            <a:ext cx="8313480" cy="549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id Term Evolution Network Architecture-Convergence on MPLS Core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96000">
            <a:off x="2081160" y="1912680"/>
            <a:ext cx="3816360" cy="2160360"/>
          </a:xfrm>
          <a:custGeom>
            <a:avLst/>
            <a:gdLst/>
            <a:ahLst/>
            <a:rect l="l" t="t" r="r" b="b"/>
            <a:pathLst>
              <a:path w="1076" h="622">
                <a:moveTo>
                  <a:pt x="956" y="197"/>
                </a:moveTo>
                <a:lnTo>
                  <a:pt x="961" y="189"/>
                </a:lnTo>
                <a:lnTo>
                  <a:pt x="964" y="179"/>
                </a:lnTo>
                <a:lnTo>
                  <a:pt x="966" y="170"/>
                </a:lnTo>
                <a:lnTo>
                  <a:pt x="967" y="160"/>
                </a:lnTo>
                <a:lnTo>
                  <a:pt x="966" y="146"/>
                </a:lnTo>
                <a:lnTo>
                  <a:pt x="963" y="133"/>
                </a:lnTo>
                <a:lnTo>
                  <a:pt x="956" y="122"/>
                </a:lnTo>
                <a:lnTo>
                  <a:pt x="950" y="112"/>
                </a:lnTo>
                <a:lnTo>
                  <a:pt x="940" y="104"/>
                </a:lnTo>
                <a:lnTo>
                  <a:pt x="929" y="98"/>
                </a:lnTo>
                <a:lnTo>
                  <a:pt x="918" y="94"/>
                </a:lnTo>
                <a:lnTo>
                  <a:pt x="905" y="93"/>
                </a:lnTo>
                <a:lnTo>
                  <a:pt x="891" y="94"/>
                </a:lnTo>
                <a:lnTo>
                  <a:pt x="878" y="99"/>
                </a:lnTo>
                <a:lnTo>
                  <a:pt x="865" y="109"/>
                </a:lnTo>
                <a:lnTo>
                  <a:pt x="856" y="118"/>
                </a:lnTo>
                <a:lnTo>
                  <a:pt x="857" y="106"/>
                </a:lnTo>
                <a:lnTo>
                  <a:pt x="857" y="94"/>
                </a:lnTo>
                <a:lnTo>
                  <a:pt x="854" y="85"/>
                </a:lnTo>
                <a:lnTo>
                  <a:pt x="851" y="74"/>
                </a:lnTo>
                <a:lnTo>
                  <a:pt x="846" y="64"/>
                </a:lnTo>
                <a:lnTo>
                  <a:pt x="832" y="46"/>
                </a:lnTo>
                <a:lnTo>
                  <a:pt x="812" y="30"/>
                </a:lnTo>
                <a:lnTo>
                  <a:pt x="790" y="18"/>
                </a:lnTo>
                <a:lnTo>
                  <a:pt x="763" y="8"/>
                </a:lnTo>
                <a:lnTo>
                  <a:pt x="734" y="2"/>
                </a:lnTo>
                <a:lnTo>
                  <a:pt x="704" y="0"/>
                </a:lnTo>
                <a:lnTo>
                  <a:pt x="662" y="3"/>
                </a:lnTo>
                <a:lnTo>
                  <a:pt x="641" y="6"/>
                </a:lnTo>
                <a:lnTo>
                  <a:pt x="624" y="11"/>
                </a:lnTo>
                <a:lnTo>
                  <a:pt x="608" y="18"/>
                </a:lnTo>
                <a:lnTo>
                  <a:pt x="592" y="26"/>
                </a:lnTo>
                <a:lnTo>
                  <a:pt x="579" y="35"/>
                </a:lnTo>
                <a:lnTo>
                  <a:pt x="568" y="46"/>
                </a:lnTo>
                <a:lnTo>
                  <a:pt x="556" y="35"/>
                </a:lnTo>
                <a:lnTo>
                  <a:pt x="542" y="27"/>
                </a:lnTo>
                <a:lnTo>
                  <a:pt x="528" y="21"/>
                </a:lnTo>
                <a:lnTo>
                  <a:pt x="510" y="16"/>
                </a:lnTo>
                <a:lnTo>
                  <a:pt x="473" y="10"/>
                </a:lnTo>
                <a:lnTo>
                  <a:pt x="433" y="6"/>
                </a:lnTo>
                <a:lnTo>
                  <a:pt x="406" y="8"/>
                </a:lnTo>
                <a:lnTo>
                  <a:pt x="382" y="13"/>
                </a:lnTo>
                <a:lnTo>
                  <a:pt x="358" y="21"/>
                </a:lnTo>
                <a:lnTo>
                  <a:pt x="336" y="32"/>
                </a:lnTo>
                <a:lnTo>
                  <a:pt x="317" y="45"/>
                </a:lnTo>
                <a:lnTo>
                  <a:pt x="301" y="59"/>
                </a:lnTo>
                <a:lnTo>
                  <a:pt x="288" y="75"/>
                </a:lnTo>
                <a:lnTo>
                  <a:pt x="278" y="94"/>
                </a:lnTo>
                <a:lnTo>
                  <a:pt x="265" y="90"/>
                </a:lnTo>
                <a:lnTo>
                  <a:pt x="253" y="88"/>
                </a:lnTo>
                <a:lnTo>
                  <a:pt x="238" y="90"/>
                </a:lnTo>
                <a:lnTo>
                  <a:pt x="225" y="93"/>
                </a:lnTo>
                <a:lnTo>
                  <a:pt x="211" y="99"/>
                </a:lnTo>
                <a:lnTo>
                  <a:pt x="198" y="107"/>
                </a:lnTo>
                <a:lnTo>
                  <a:pt x="189" y="117"/>
                </a:lnTo>
                <a:lnTo>
                  <a:pt x="182" y="126"/>
                </a:lnTo>
                <a:lnTo>
                  <a:pt x="179" y="138"/>
                </a:lnTo>
                <a:lnTo>
                  <a:pt x="176" y="150"/>
                </a:lnTo>
                <a:lnTo>
                  <a:pt x="176" y="173"/>
                </a:lnTo>
                <a:lnTo>
                  <a:pt x="162" y="171"/>
                </a:lnTo>
                <a:lnTo>
                  <a:pt x="146" y="171"/>
                </a:lnTo>
                <a:lnTo>
                  <a:pt x="115" y="176"/>
                </a:lnTo>
                <a:lnTo>
                  <a:pt x="88" y="184"/>
                </a:lnTo>
                <a:lnTo>
                  <a:pt x="62" y="195"/>
                </a:lnTo>
                <a:lnTo>
                  <a:pt x="42" y="208"/>
                </a:lnTo>
                <a:lnTo>
                  <a:pt x="24" y="226"/>
                </a:lnTo>
                <a:lnTo>
                  <a:pt x="11" y="245"/>
                </a:lnTo>
                <a:lnTo>
                  <a:pt x="6" y="254"/>
                </a:lnTo>
                <a:lnTo>
                  <a:pt x="3" y="266"/>
                </a:lnTo>
                <a:lnTo>
                  <a:pt x="0" y="277"/>
                </a:lnTo>
                <a:lnTo>
                  <a:pt x="0" y="290"/>
                </a:lnTo>
                <a:lnTo>
                  <a:pt x="2" y="306"/>
                </a:lnTo>
                <a:lnTo>
                  <a:pt x="5" y="322"/>
                </a:lnTo>
                <a:lnTo>
                  <a:pt x="10" y="336"/>
                </a:lnTo>
                <a:lnTo>
                  <a:pt x="18" y="349"/>
                </a:lnTo>
                <a:lnTo>
                  <a:pt x="27" y="362"/>
                </a:lnTo>
                <a:lnTo>
                  <a:pt x="40" y="371"/>
                </a:lnTo>
                <a:lnTo>
                  <a:pt x="56" y="381"/>
                </a:lnTo>
                <a:lnTo>
                  <a:pt x="75" y="389"/>
                </a:lnTo>
                <a:lnTo>
                  <a:pt x="67" y="398"/>
                </a:lnTo>
                <a:lnTo>
                  <a:pt x="62" y="410"/>
                </a:lnTo>
                <a:lnTo>
                  <a:pt x="59" y="421"/>
                </a:lnTo>
                <a:lnTo>
                  <a:pt x="58" y="432"/>
                </a:lnTo>
                <a:lnTo>
                  <a:pt x="59" y="442"/>
                </a:lnTo>
                <a:lnTo>
                  <a:pt x="61" y="450"/>
                </a:lnTo>
                <a:lnTo>
                  <a:pt x="67" y="466"/>
                </a:lnTo>
                <a:lnTo>
                  <a:pt x="77" y="480"/>
                </a:lnTo>
                <a:lnTo>
                  <a:pt x="91" y="493"/>
                </a:lnTo>
                <a:lnTo>
                  <a:pt x="109" y="502"/>
                </a:lnTo>
                <a:lnTo>
                  <a:pt x="128" y="510"/>
                </a:lnTo>
                <a:lnTo>
                  <a:pt x="149" y="515"/>
                </a:lnTo>
                <a:lnTo>
                  <a:pt x="171" y="517"/>
                </a:lnTo>
                <a:lnTo>
                  <a:pt x="187" y="515"/>
                </a:lnTo>
                <a:lnTo>
                  <a:pt x="203" y="514"/>
                </a:lnTo>
                <a:lnTo>
                  <a:pt x="217" y="510"/>
                </a:lnTo>
                <a:lnTo>
                  <a:pt x="230" y="504"/>
                </a:lnTo>
                <a:lnTo>
                  <a:pt x="230" y="517"/>
                </a:lnTo>
                <a:lnTo>
                  <a:pt x="232" y="533"/>
                </a:lnTo>
                <a:lnTo>
                  <a:pt x="237" y="547"/>
                </a:lnTo>
                <a:lnTo>
                  <a:pt x="243" y="560"/>
                </a:lnTo>
                <a:lnTo>
                  <a:pt x="253" y="571"/>
                </a:lnTo>
                <a:lnTo>
                  <a:pt x="264" y="581"/>
                </a:lnTo>
                <a:lnTo>
                  <a:pt x="277" y="589"/>
                </a:lnTo>
                <a:lnTo>
                  <a:pt x="293" y="594"/>
                </a:lnTo>
                <a:lnTo>
                  <a:pt x="307" y="595"/>
                </a:lnTo>
                <a:lnTo>
                  <a:pt x="318" y="594"/>
                </a:lnTo>
                <a:lnTo>
                  <a:pt x="329" y="592"/>
                </a:lnTo>
                <a:lnTo>
                  <a:pt x="339" y="589"/>
                </a:lnTo>
                <a:lnTo>
                  <a:pt x="349" y="584"/>
                </a:lnTo>
                <a:lnTo>
                  <a:pt x="357" y="578"/>
                </a:lnTo>
                <a:lnTo>
                  <a:pt x="365" y="571"/>
                </a:lnTo>
                <a:lnTo>
                  <a:pt x="371" y="563"/>
                </a:lnTo>
                <a:lnTo>
                  <a:pt x="376" y="554"/>
                </a:lnTo>
                <a:lnTo>
                  <a:pt x="385" y="568"/>
                </a:lnTo>
                <a:lnTo>
                  <a:pt x="398" y="582"/>
                </a:lnTo>
                <a:lnTo>
                  <a:pt x="414" y="594"/>
                </a:lnTo>
                <a:lnTo>
                  <a:pt x="433" y="603"/>
                </a:lnTo>
                <a:lnTo>
                  <a:pt x="456" y="611"/>
                </a:lnTo>
                <a:lnTo>
                  <a:pt x="480" y="618"/>
                </a:lnTo>
                <a:lnTo>
                  <a:pt x="505" y="621"/>
                </a:lnTo>
                <a:lnTo>
                  <a:pt x="534" y="622"/>
                </a:lnTo>
                <a:lnTo>
                  <a:pt x="587" y="619"/>
                </a:lnTo>
                <a:lnTo>
                  <a:pt x="609" y="616"/>
                </a:lnTo>
                <a:lnTo>
                  <a:pt x="628" y="611"/>
                </a:lnTo>
                <a:lnTo>
                  <a:pt x="646" y="605"/>
                </a:lnTo>
                <a:lnTo>
                  <a:pt x="659" y="595"/>
                </a:lnTo>
                <a:lnTo>
                  <a:pt x="672" y="586"/>
                </a:lnTo>
                <a:lnTo>
                  <a:pt x="681" y="573"/>
                </a:lnTo>
                <a:lnTo>
                  <a:pt x="688" y="579"/>
                </a:lnTo>
                <a:lnTo>
                  <a:pt x="696" y="582"/>
                </a:lnTo>
                <a:lnTo>
                  <a:pt x="705" y="584"/>
                </a:lnTo>
                <a:lnTo>
                  <a:pt x="715" y="586"/>
                </a:lnTo>
                <a:lnTo>
                  <a:pt x="732" y="584"/>
                </a:lnTo>
                <a:lnTo>
                  <a:pt x="748" y="579"/>
                </a:lnTo>
                <a:lnTo>
                  <a:pt x="758" y="574"/>
                </a:lnTo>
                <a:lnTo>
                  <a:pt x="764" y="570"/>
                </a:lnTo>
                <a:lnTo>
                  <a:pt x="771" y="563"/>
                </a:lnTo>
                <a:lnTo>
                  <a:pt x="776" y="557"/>
                </a:lnTo>
                <a:lnTo>
                  <a:pt x="779" y="550"/>
                </a:lnTo>
                <a:lnTo>
                  <a:pt x="780" y="542"/>
                </a:lnTo>
                <a:lnTo>
                  <a:pt x="782" y="526"/>
                </a:lnTo>
                <a:lnTo>
                  <a:pt x="780" y="515"/>
                </a:lnTo>
                <a:lnTo>
                  <a:pt x="798" y="526"/>
                </a:lnTo>
                <a:lnTo>
                  <a:pt x="806" y="533"/>
                </a:lnTo>
                <a:lnTo>
                  <a:pt x="816" y="538"/>
                </a:lnTo>
                <a:lnTo>
                  <a:pt x="827" y="541"/>
                </a:lnTo>
                <a:lnTo>
                  <a:pt x="838" y="542"/>
                </a:lnTo>
                <a:lnTo>
                  <a:pt x="849" y="542"/>
                </a:lnTo>
                <a:lnTo>
                  <a:pt x="860" y="542"/>
                </a:lnTo>
                <a:lnTo>
                  <a:pt x="883" y="536"/>
                </a:lnTo>
                <a:lnTo>
                  <a:pt x="904" y="526"/>
                </a:lnTo>
                <a:lnTo>
                  <a:pt x="913" y="520"/>
                </a:lnTo>
                <a:lnTo>
                  <a:pt x="921" y="512"/>
                </a:lnTo>
                <a:lnTo>
                  <a:pt x="927" y="504"/>
                </a:lnTo>
                <a:lnTo>
                  <a:pt x="934" y="494"/>
                </a:lnTo>
                <a:lnTo>
                  <a:pt x="940" y="483"/>
                </a:lnTo>
                <a:lnTo>
                  <a:pt x="943" y="472"/>
                </a:lnTo>
                <a:lnTo>
                  <a:pt x="947" y="459"/>
                </a:lnTo>
                <a:lnTo>
                  <a:pt x="947" y="446"/>
                </a:lnTo>
                <a:lnTo>
                  <a:pt x="948" y="422"/>
                </a:lnTo>
                <a:lnTo>
                  <a:pt x="977" y="419"/>
                </a:lnTo>
                <a:lnTo>
                  <a:pt x="1003" y="411"/>
                </a:lnTo>
                <a:lnTo>
                  <a:pt x="1027" y="398"/>
                </a:lnTo>
                <a:lnTo>
                  <a:pt x="1047" y="382"/>
                </a:lnTo>
                <a:lnTo>
                  <a:pt x="1055" y="373"/>
                </a:lnTo>
                <a:lnTo>
                  <a:pt x="1062" y="363"/>
                </a:lnTo>
                <a:lnTo>
                  <a:pt x="1068" y="352"/>
                </a:lnTo>
                <a:lnTo>
                  <a:pt x="1073" y="341"/>
                </a:lnTo>
                <a:lnTo>
                  <a:pt x="1075" y="330"/>
                </a:lnTo>
                <a:lnTo>
                  <a:pt x="1076" y="317"/>
                </a:lnTo>
                <a:lnTo>
                  <a:pt x="1076" y="306"/>
                </a:lnTo>
                <a:lnTo>
                  <a:pt x="1073" y="293"/>
                </a:lnTo>
                <a:lnTo>
                  <a:pt x="1067" y="275"/>
                </a:lnTo>
                <a:lnTo>
                  <a:pt x="1059" y="259"/>
                </a:lnTo>
                <a:lnTo>
                  <a:pt x="1047" y="245"/>
                </a:lnTo>
                <a:lnTo>
                  <a:pt x="1035" y="230"/>
                </a:lnTo>
                <a:lnTo>
                  <a:pt x="1019" y="218"/>
                </a:lnTo>
                <a:lnTo>
                  <a:pt x="1001" y="208"/>
                </a:lnTo>
                <a:lnTo>
                  <a:pt x="980" y="202"/>
                </a:lnTo>
                <a:lnTo>
                  <a:pt x="956" y="19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9b9f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69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447920"/>
            <a:ext cx="1627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184400" y="2569680"/>
            <a:ext cx="81432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Big_Cloud" descr=""/>
          <p:cNvPicPr/>
          <p:nvPr/>
        </p:nvPicPr>
        <p:blipFill>
          <a:blip r:embed="rId1"/>
          <a:stretch/>
        </p:blipFill>
        <p:spPr>
          <a:xfrm>
            <a:off x="374760" y="874800"/>
            <a:ext cx="1301760" cy="955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9480" y="1143000"/>
            <a:ext cx="9144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Big_Cloud" descr=""/>
          <p:cNvPicPr/>
          <p:nvPr/>
        </p:nvPicPr>
        <p:blipFill>
          <a:blip r:embed="rId2"/>
          <a:stretch/>
        </p:blipFill>
        <p:spPr>
          <a:xfrm>
            <a:off x="0" y="1981080"/>
            <a:ext cx="1336680" cy="981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8600" y="2209680"/>
            <a:ext cx="90648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Big_Cloud" descr=""/>
          <p:cNvPicPr/>
          <p:nvPr/>
        </p:nvPicPr>
        <p:blipFill>
          <a:blip r:embed="rId3"/>
          <a:stretch/>
        </p:blipFill>
        <p:spPr>
          <a:xfrm>
            <a:off x="6734160" y="1150920"/>
            <a:ext cx="1266840" cy="928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10280" y="1295280"/>
            <a:ext cx="9144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424160" y="2570040"/>
            <a:ext cx="378360" cy="277920"/>
            <a:chOff x="1424160" y="2570040"/>
            <a:chExt cx="378360" cy="277920"/>
          </a:xfrm>
        </p:grpSpPr>
        <p:sp>
          <p:nvSpPr>
            <p:cNvPr id="212" name=""/>
            <p:cNvSpPr/>
            <p:nvPr/>
          </p:nvSpPr>
          <p:spPr>
            <a:xfrm>
              <a:off x="1424160" y="2570040"/>
              <a:ext cx="311040" cy="27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6680" y="260892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" name="Big_Cloud" descr=""/>
          <p:cNvPicPr/>
          <p:nvPr/>
        </p:nvPicPr>
        <p:blipFill>
          <a:blip r:embed="rId4"/>
          <a:stretch/>
        </p:blipFill>
        <p:spPr>
          <a:xfrm>
            <a:off x="6786720" y="2365200"/>
            <a:ext cx="1290600" cy="946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010280" y="2590920"/>
            <a:ext cx="9032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Big_Cloud" descr=""/>
          <p:cNvPicPr/>
          <p:nvPr/>
        </p:nvPicPr>
        <p:blipFill>
          <a:blip r:embed="rId5"/>
          <a:stretch/>
        </p:blipFill>
        <p:spPr>
          <a:xfrm>
            <a:off x="0" y="3413160"/>
            <a:ext cx="1343160" cy="985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657600"/>
            <a:ext cx="9208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Big_Cloud" descr=""/>
          <p:cNvPicPr/>
          <p:nvPr/>
        </p:nvPicPr>
        <p:blipFill>
          <a:blip r:embed="rId6"/>
          <a:stretch/>
        </p:blipFill>
        <p:spPr>
          <a:xfrm>
            <a:off x="6734160" y="4017960"/>
            <a:ext cx="1190520" cy="873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900840" y="4191120"/>
            <a:ext cx="9478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295280" y="3770280"/>
            <a:ext cx="152244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676520"/>
            <a:ext cx="146340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238720" y="1692360"/>
            <a:ext cx="154800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084720" y="2927520"/>
            <a:ext cx="70200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468760" y="3769920"/>
            <a:ext cx="1432080" cy="5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4545000" y="3027240"/>
            <a:ext cx="522360" cy="311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4651200" y="2927520"/>
            <a:ext cx="522360" cy="466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9"/>
          <a:stretch/>
        </p:blipFill>
        <p:spPr>
          <a:xfrm>
            <a:off x="2911320" y="2232000"/>
            <a:ext cx="522360" cy="311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0"/>
          <a:stretch/>
        </p:blipFill>
        <p:spPr>
          <a:xfrm>
            <a:off x="3548160" y="3087720"/>
            <a:ext cx="52236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1"/>
          <a:stretch/>
        </p:blipFill>
        <p:spPr>
          <a:xfrm>
            <a:off x="1998720" y="2716200"/>
            <a:ext cx="522360" cy="311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946760" y="3546360"/>
            <a:ext cx="522000" cy="311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3"/>
          <a:stretch/>
        </p:blipFill>
        <p:spPr>
          <a:xfrm>
            <a:off x="4805280" y="2048040"/>
            <a:ext cx="52236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39280" y="4648320"/>
            <a:ext cx="3011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 Switching Router (LS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3581280" y="36576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90520" y="4648320"/>
            <a:ext cx="2719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 Switched Path (L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73080" y="1770120"/>
            <a:ext cx="378360" cy="277920"/>
            <a:chOff x="1873080" y="1770120"/>
            <a:chExt cx="378360" cy="277920"/>
          </a:xfrm>
        </p:grpSpPr>
        <p:sp>
          <p:nvSpPr>
            <p:cNvPr id="236" name=""/>
            <p:cNvSpPr/>
            <p:nvPr/>
          </p:nvSpPr>
          <p:spPr>
            <a:xfrm>
              <a:off x="1873080" y="1770120"/>
              <a:ext cx="311400" cy="27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75600" y="180900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832360" y="1771560"/>
            <a:ext cx="378360" cy="276480"/>
            <a:chOff x="5832360" y="1771560"/>
            <a:chExt cx="378360" cy="276480"/>
          </a:xfrm>
        </p:grpSpPr>
        <p:sp>
          <p:nvSpPr>
            <p:cNvPr id="239" name=""/>
            <p:cNvSpPr/>
            <p:nvPr/>
          </p:nvSpPr>
          <p:spPr>
            <a:xfrm>
              <a:off x="5832360" y="1771560"/>
              <a:ext cx="309960" cy="276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34880" y="180864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10360" y="2828880"/>
            <a:ext cx="378360" cy="277920"/>
            <a:chOff x="6210360" y="2828880"/>
            <a:chExt cx="378360" cy="277920"/>
          </a:xfrm>
        </p:grpSpPr>
        <p:sp>
          <p:nvSpPr>
            <p:cNvPr id="242" name=""/>
            <p:cNvSpPr/>
            <p:nvPr/>
          </p:nvSpPr>
          <p:spPr>
            <a:xfrm>
              <a:off x="6210360" y="2828880"/>
              <a:ext cx="311040" cy="27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2880" y="286776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952960" y="3875040"/>
            <a:ext cx="378360" cy="277920"/>
            <a:chOff x="5952960" y="3875040"/>
            <a:chExt cx="378360" cy="277920"/>
          </a:xfrm>
        </p:grpSpPr>
        <p:sp>
          <p:nvSpPr>
            <p:cNvPr id="245" name=""/>
            <p:cNvSpPr/>
            <p:nvPr/>
          </p:nvSpPr>
          <p:spPr>
            <a:xfrm>
              <a:off x="5952960" y="3875040"/>
              <a:ext cx="311400" cy="27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55480" y="391392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14"/>
          <a:stretch/>
        </p:blipFill>
        <p:spPr>
          <a:xfrm>
            <a:off x="2835360" y="3546360"/>
            <a:ext cx="522360" cy="31140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1873080" y="3770280"/>
            <a:ext cx="378360" cy="277920"/>
            <a:chOff x="1873080" y="3770280"/>
            <a:chExt cx="378360" cy="277920"/>
          </a:xfrm>
        </p:grpSpPr>
        <p:sp>
          <p:nvSpPr>
            <p:cNvPr id="249" name=""/>
            <p:cNvSpPr/>
            <p:nvPr/>
          </p:nvSpPr>
          <p:spPr>
            <a:xfrm>
              <a:off x="1873080" y="3770280"/>
              <a:ext cx="311400" cy="27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75600" y="3809160"/>
              <a:ext cx="3758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5"/>
          <a:stretch/>
        </p:blipFill>
        <p:spPr>
          <a:xfrm>
            <a:off x="5619600" y="2890800"/>
            <a:ext cx="522360" cy="31104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999880" y="2927520"/>
            <a:ext cx="2897280" cy="857520"/>
            <a:chOff x="2999880" y="2927520"/>
            <a:chExt cx="2897280" cy="857520"/>
          </a:xfrm>
        </p:grpSpPr>
        <p:sp>
          <p:nvSpPr>
            <p:cNvPr id="253" name=""/>
            <p:cNvSpPr/>
            <p:nvPr/>
          </p:nvSpPr>
          <p:spPr>
            <a:xfrm>
              <a:off x="3063960" y="2927520"/>
              <a:ext cx="2756520" cy="837720"/>
            </a:xfrm>
            <a:custGeom>
              <a:avLst/>
              <a:gdLst/>
              <a:ahLst/>
              <a:rect l="l" t="t" r="r" b="b"/>
              <a:pathLst>
                <a:path w="1728" h="672">
                  <a:moveTo>
                    <a:pt x="0" y="480"/>
                  </a:moveTo>
                  <a:lnTo>
                    <a:pt x="720" y="192"/>
                  </a:lnTo>
                  <a:lnTo>
                    <a:pt x="1728" y="0"/>
                  </a:lnTo>
                  <a:lnTo>
                    <a:pt x="1728" y="192"/>
                  </a:lnTo>
                  <a:lnTo>
                    <a:pt x="768" y="384"/>
                  </a:lnTo>
                  <a:lnTo>
                    <a:pt x="48" y="67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0674200">
              <a:off x="3030480" y="3517920"/>
              <a:ext cx="148680" cy="2516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3800" y="2927520"/>
              <a:ext cx="153360" cy="2394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77800" y="5319720"/>
            <a:ext cx="7788240" cy="1191240"/>
          </a:xfrm>
          <a:prstGeom prst="rect">
            <a:avLst/>
          </a:prstGeom>
          <a:gradFill rotWithShape="0">
            <a:gsLst>
              <a:gs pos="0">
                <a:srgbClr val="d0a1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well defined interworking mechanism for a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23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plane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23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plane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23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 plane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438280" y="38098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3280" y="44784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LS Gateway Networking Solution implication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674800" y="2922480"/>
            <a:ext cx="446400" cy="801720"/>
          </a:xfrm>
          <a:prstGeom prst="rect">
            <a:avLst/>
          </a:prstGeom>
          <a:ln w="0">
            <a:noFill/>
          </a:ln>
        </p:spPr>
      </p:pic>
      <p:pic>
        <p:nvPicPr>
          <p:cNvPr id="260" name="Big_Cloud" descr=""/>
          <p:cNvPicPr/>
          <p:nvPr/>
        </p:nvPicPr>
        <p:blipFill>
          <a:blip r:embed="rId2"/>
          <a:stretch/>
        </p:blipFill>
        <p:spPr>
          <a:xfrm>
            <a:off x="2819520" y="2438280"/>
            <a:ext cx="3122640" cy="2768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5826240" y="1444680"/>
            <a:ext cx="1440" cy="511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86040" y="1495440"/>
            <a:ext cx="15840" cy="502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02200" y="1508040"/>
            <a:ext cx="27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service Acc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18720" y="150804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service Acc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98200" y="15080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5520" y="4797360"/>
            <a:ext cx="833400" cy="540000"/>
          </a:xfrm>
          <a:prstGeom prst="rect">
            <a:avLst/>
          </a:prstGeom>
          <a:solidFill>
            <a:srgbClr val="ec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3 VPN and other IP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966960" y="336384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988920" y="3083040"/>
            <a:ext cx="48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8760" y="2625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08360" y="28242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60400" y="3578400"/>
            <a:ext cx="782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969840" y="2846520"/>
            <a:ext cx="50328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25280" y="5019840"/>
            <a:ext cx="284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7251840" y="3466800"/>
            <a:ext cx="5047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272360" y="3098880"/>
            <a:ext cx="458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02880" y="26305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42480" y="28576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82000" y="3511440"/>
            <a:ext cx="782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7232760" y="2839680"/>
            <a:ext cx="5032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229160" y="5127480"/>
            <a:ext cx="5014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8920" y="2746440"/>
            <a:ext cx="893880" cy="838080"/>
            <a:chOff x="88920" y="2746440"/>
            <a:chExt cx="893880" cy="838080"/>
          </a:xfrm>
        </p:grpSpPr>
        <p:sp>
          <p:nvSpPr>
            <p:cNvPr id="282" name=""/>
            <p:cNvSpPr/>
            <p:nvPr/>
          </p:nvSpPr>
          <p:spPr>
            <a:xfrm>
              <a:off x="88920" y="2746440"/>
              <a:ext cx="893880" cy="838080"/>
            </a:xfrm>
            <a:prstGeom prst="rect">
              <a:avLst/>
            </a:prstGeom>
            <a:solidFill>
              <a:srgbClr val="ecf5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920" y="2779560"/>
              <a:ext cx="86688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2/L3 VPN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ditional L2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713720" y="4906800"/>
            <a:ext cx="833400" cy="540000"/>
          </a:xfrm>
          <a:prstGeom prst="rect">
            <a:avLst/>
          </a:prstGeom>
          <a:solidFill>
            <a:srgbClr val="ec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3 VPN and other IP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748640" y="2717640"/>
            <a:ext cx="931680" cy="812880"/>
            <a:chOff x="7748640" y="2717640"/>
            <a:chExt cx="931680" cy="812880"/>
          </a:xfrm>
        </p:grpSpPr>
        <p:sp>
          <p:nvSpPr>
            <p:cNvPr id="286" name=""/>
            <p:cNvSpPr/>
            <p:nvPr/>
          </p:nvSpPr>
          <p:spPr>
            <a:xfrm>
              <a:off x="7748640" y="2717640"/>
              <a:ext cx="931680" cy="812880"/>
            </a:xfrm>
            <a:prstGeom prst="rect">
              <a:avLst/>
            </a:prstGeom>
            <a:solidFill>
              <a:srgbClr val="ecf5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48640" y="2749680"/>
              <a:ext cx="9036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2/L3 VPN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ditional L2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8" name="Big_Cloud" descr=""/>
          <p:cNvPicPr/>
          <p:nvPr/>
        </p:nvPicPr>
        <p:blipFill>
          <a:blip r:embed="rId3"/>
          <a:stretch/>
        </p:blipFill>
        <p:spPr>
          <a:xfrm>
            <a:off x="6310440" y="4721400"/>
            <a:ext cx="1004760" cy="922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H="1">
            <a:off x="2329920" y="3227400"/>
            <a:ext cx="427320" cy="1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053040" y="3142800"/>
            <a:ext cx="374760" cy="46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4267080"/>
            <a:ext cx="15573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LS 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55400" y="4343400"/>
            <a:ext cx="716040" cy="51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4724280"/>
            <a:ext cx="838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Big_Cloud" descr=""/>
          <p:cNvPicPr/>
          <p:nvPr/>
        </p:nvPicPr>
        <p:blipFill>
          <a:blip r:embed="rId4"/>
          <a:stretch/>
        </p:blipFill>
        <p:spPr>
          <a:xfrm>
            <a:off x="1384200" y="2397240"/>
            <a:ext cx="995400" cy="1706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437840" y="2938320"/>
            <a:ext cx="8712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Big_Cloud" descr=""/>
          <p:cNvPicPr/>
          <p:nvPr/>
        </p:nvPicPr>
        <p:blipFill>
          <a:blip r:embed="rId5"/>
          <a:stretch/>
        </p:blipFill>
        <p:spPr>
          <a:xfrm>
            <a:off x="1289160" y="4410000"/>
            <a:ext cx="1149120" cy="973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399720" y="4952880"/>
            <a:ext cx="843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75400" y="4422600"/>
            <a:ext cx="726840" cy="4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42040" y="4672080"/>
            <a:ext cx="838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Big_Cloud" descr=""/>
          <p:cNvPicPr/>
          <p:nvPr/>
        </p:nvPicPr>
        <p:blipFill>
          <a:blip r:embed="rId6"/>
          <a:stretch/>
        </p:blipFill>
        <p:spPr>
          <a:xfrm>
            <a:off x="6326280" y="2390760"/>
            <a:ext cx="995400" cy="17064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379560" y="2932200"/>
            <a:ext cx="8712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50800" y="1847880"/>
            <a:ext cx="5730840" cy="1012320"/>
            <a:chOff x="1450800" y="1847880"/>
            <a:chExt cx="5730840" cy="1012320"/>
          </a:xfrm>
        </p:grpSpPr>
        <p:sp>
          <p:nvSpPr>
            <p:cNvPr id="303" name=""/>
            <p:cNvSpPr/>
            <p:nvPr/>
          </p:nvSpPr>
          <p:spPr>
            <a:xfrm>
              <a:off x="1450800" y="2072880"/>
              <a:ext cx="5730840" cy="787320"/>
            </a:xfrm>
            <a:custGeom>
              <a:avLst/>
              <a:gdLst/>
              <a:ahLst/>
              <a:rect l="l" t="t" r="r" b="b"/>
              <a:pathLst>
                <a:path w="2514" h="465">
                  <a:moveTo>
                    <a:pt x="0" y="419"/>
                  </a:moveTo>
                  <a:cubicBezTo>
                    <a:pt x="201" y="350"/>
                    <a:pt x="788" y="0"/>
                    <a:pt x="1207" y="8"/>
                  </a:cubicBezTo>
                  <a:cubicBezTo>
                    <a:pt x="1626" y="16"/>
                    <a:pt x="2242" y="370"/>
                    <a:pt x="2514" y="465"/>
                  </a:cubicBezTo>
                </a:path>
              </a:pathLst>
            </a:custGeom>
            <a:noFill/>
            <a:ln cap="rnd" w="28440">
              <a:solidFill>
                <a:srgbClr val="99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0600" y="1847880"/>
              <a:ext cx="18694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End-to-end SPVC/SV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495360" y="5978520"/>
            <a:ext cx="8532720" cy="403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93640" y="5978520"/>
            <a:ext cx="84344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oiting label stacking capabilities of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736720" y="3092400"/>
            <a:ext cx="397440" cy="279360"/>
            <a:chOff x="2736720" y="3092400"/>
            <a:chExt cx="397440" cy="279360"/>
          </a:xfrm>
        </p:grpSpPr>
        <p:sp>
          <p:nvSpPr>
            <p:cNvPr id="308" name=""/>
            <p:cNvSpPr/>
            <p:nvPr/>
          </p:nvSpPr>
          <p:spPr>
            <a:xfrm>
              <a:off x="2736720" y="3092400"/>
              <a:ext cx="322920" cy="279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37080" y="3121200"/>
              <a:ext cx="3970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971800" y="2209680"/>
            <a:ext cx="2684520" cy="830520"/>
            <a:chOff x="2971800" y="2209680"/>
            <a:chExt cx="2684520" cy="830520"/>
          </a:xfrm>
        </p:grpSpPr>
        <p:sp>
          <p:nvSpPr>
            <p:cNvPr id="311" name=""/>
            <p:cNvSpPr/>
            <p:nvPr/>
          </p:nvSpPr>
          <p:spPr>
            <a:xfrm>
              <a:off x="3449520" y="2209680"/>
              <a:ext cx="16797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PNNI Networ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71800" y="2571840"/>
              <a:ext cx="2684520" cy="468360"/>
            </a:xfrm>
            <a:custGeom>
              <a:avLst/>
              <a:gdLst/>
              <a:ahLst/>
              <a:rect l="l" t="t" r="r" b="b"/>
              <a:pathLst>
                <a:path w="2514" h="465">
                  <a:moveTo>
                    <a:pt x="0" y="419"/>
                  </a:moveTo>
                  <a:cubicBezTo>
                    <a:pt x="201" y="350"/>
                    <a:pt x="788" y="0"/>
                    <a:pt x="1207" y="8"/>
                  </a:cubicBezTo>
                  <a:cubicBezTo>
                    <a:pt x="1626" y="16"/>
                    <a:pt x="2242" y="370"/>
                    <a:pt x="2514" y="465"/>
                  </a:cubicBezTo>
                </a:path>
              </a:pathLst>
            </a:custGeom>
            <a:noFill/>
            <a:ln cap="rnd" w="28440">
              <a:solidFill>
                <a:srgbClr val="99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048120" y="3276720"/>
            <a:ext cx="2781360" cy="723960"/>
            <a:chOff x="3048120" y="3276720"/>
            <a:chExt cx="2781360" cy="723960"/>
          </a:xfrm>
        </p:grpSpPr>
        <p:sp>
          <p:nvSpPr>
            <p:cNvPr id="314" name=""/>
            <p:cNvSpPr/>
            <p:nvPr/>
          </p:nvSpPr>
          <p:spPr>
            <a:xfrm>
              <a:off x="3048120" y="3276720"/>
              <a:ext cx="2781360" cy="723960"/>
            </a:xfrm>
            <a:custGeom>
              <a:avLst/>
              <a:gdLst/>
              <a:ahLst/>
              <a:rect l="l" t="t" r="r" b="b"/>
              <a:pathLst>
                <a:path w="1744" h="456">
                  <a:moveTo>
                    <a:pt x="0" y="0"/>
                  </a:moveTo>
                  <a:cubicBezTo>
                    <a:pt x="78" y="220"/>
                    <a:pt x="156" y="441"/>
                    <a:pt x="296" y="448"/>
                  </a:cubicBezTo>
                  <a:cubicBezTo>
                    <a:pt x="436" y="455"/>
                    <a:pt x="659" y="41"/>
                    <a:pt x="840" y="40"/>
                  </a:cubicBezTo>
                  <a:cubicBezTo>
                    <a:pt x="1021" y="39"/>
                    <a:pt x="1233" y="424"/>
                    <a:pt x="1384" y="440"/>
                  </a:cubicBezTo>
                  <a:cubicBezTo>
                    <a:pt x="1535" y="456"/>
                    <a:pt x="1683" y="193"/>
                    <a:pt x="1744" y="136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07000" y="3733920"/>
              <a:ext cx="11775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Stacked LS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971800" y="3124080"/>
            <a:ext cx="2666880" cy="457200"/>
          </a:xfrm>
          <a:custGeom>
            <a:avLst/>
            <a:gdLst/>
            <a:ahLst/>
            <a:rect l="l" t="t" r="r" b="b"/>
            <a:pathLst>
              <a:path w="1699" h="315">
                <a:moveTo>
                  <a:pt x="75" y="315"/>
                </a:moveTo>
                <a:cubicBezTo>
                  <a:pt x="37" y="309"/>
                  <a:pt x="0" y="303"/>
                  <a:pt x="123" y="251"/>
                </a:cubicBezTo>
                <a:cubicBezTo>
                  <a:pt x="246" y="199"/>
                  <a:pt x="548" y="0"/>
                  <a:pt x="811" y="3"/>
                </a:cubicBezTo>
                <a:cubicBezTo>
                  <a:pt x="1074" y="6"/>
                  <a:pt x="1386" y="136"/>
                  <a:pt x="1699" y="267"/>
                </a:cubicBezTo>
              </a:path>
            </a:pathLst>
          </a:custGeom>
          <a:noFill/>
          <a:ln cap="rnd" w="28440">
            <a:solidFill>
              <a:srgbClr val="990000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47480" y="2459160"/>
            <a:ext cx="1261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L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3360" y="2514600"/>
            <a:ext cx="1261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L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001520" y="354492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288200" y="3314520"/>
            <a:ext cx="49680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57400" y="3422520"/>
            <a:ext cx="665280" cy="10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79960" y="3402000"/>
            <a:ext cx="790560" cy="132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97080" y="3063960"/>
            <a:ext cx="6224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P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50080" y="2978280"/>
            <a:ext cx="622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P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5646600" y="2998800"/>
            <a:ext cx="446400" cy="80172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5722920" y="3227400"/>
            <a:ext cx="397440" cy="279360"/>
            <a:chOff x="5722920" y="3227400"/>
            <a:chExt cx="397440" cy="279360"/>
          </a:xfrm>
        </p:grpSpPr>
        <p:sp>
          <p:nvSpPr>
            <p:cNvPr id="327" name=""/>
            <p:cNvSpPr/>
            <p:nvPr/>
          </p:nvSpPr>
          <p:spPr>
            <a:xfrm>
              <a:off x="5722920" y="3227400"/>
              <a:ext cx="322920" cy="279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23280" y="3256200"/>
              <a:ext cx="3970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425760" y="2857680"/>
            <a:ext cx="1679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R-LDP/RSVP-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6840" y="4648320"/>
            <a:ext cx="843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8760" y="666360"/>
            <a:ext cx="776772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hy Multi-Services over MPLS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6440" y="2178000"/>
            <a:ext cx="7788240" cy="4034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 Expenditure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23796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ing existing IP/MPLS packet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23796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ing all networks across a common transport and control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rvation of Existing Layer Two Operationa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23796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Layer Two features and functionality (including SLAs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aintained by providing OAM inter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Network Sca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23796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speed links in routed core (e.g., potential OC192 forwarding cap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23796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/Traffic engineering based on explicit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23796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gregation capabilities based on label stac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13:31:50Z</dcterms:created>
  <dc:creator>User</dc:creator>
  <dc:description/>
  <dc:language>en-US</dc:language>
  <cp:lastModifiedBy>Nortel</cp:lastModifiedBy>
  <cp:lastPrinted>2000-08-21T16:00:22Z</cp:lastPrinted>
  <dcterms:modified xsi:type="dcterms:W3CDTF">2002-02-28T15:41:57Z</dcterms:modified>
  <cp:revision>596</cp:revision>
  <dc:subject/>
  <dc:title>Title Subtitle</dc:title>
</cp:coreProperties>
</file>