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380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963B-1C3A-42D4-9AFA-69AF19AA3A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747720" y="4686480"/>
            <a:ext cx="54640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6210-4567-413F-B08D-A4AB16F8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7973-AF2B-4F98-AAF6-62C8520B3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127B-F7AE-4236-94AC-14B270C47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27B2-402C-4A08-924A-AF9E25F2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B8E3B-A77A-40B6-B7DA-FB9A7F319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21C7-2168-44F7-9670-47A6C4D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58E8-479E-47DE-B1AE-1601A9E37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9159-31E3-4761-AFBF-5CB4FF4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2A7-81A6-4D60-B1A1-FB3684F8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D424-7680-4471-98A9-D2E545BAF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E95D-9225-4A0D-ABBB-563D11C2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AC8-55C8-4CC8-8182-C6DA33DB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06E7-6F9C-4EE6-919F-69E40630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0A3-5C23-412C-8993-1BF495D3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3177-17A3-4EC3-9992-069D5DFD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B6E5-7B48-47F7-9CC6-BA2E8D76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967D-D44A-419A-A471-F5B36100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FB38-54C6-4857-BACB-EDE49FD89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1F1D-51DA-4A5B-A5FF-3C69A6DD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1F6C-A5D9-483C-A076-4A441294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3FD5-1D9C-49E0-B9BB-C48BF54D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EC1F-9A54-4A30-867F-C5CD374FE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D82C-3898-4DCD-A3BC-B9CBB2C7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CA2-4AF1-466A-B502-DF97C726E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4202-36EF-45D1-A1D3-9C4232D39501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08E8-4A21-4B93-BB02-695ED53F8459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9B50C-9E2C-4A01-B04E-7F6B0315DA11}" type="slidenum"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image" Target="../media/image8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4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png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1866960"/>
            <a:ext cx="797724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in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Multimedia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nd Data Broadcas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106280" y="3886200"/>
            <a:ext cx="7234200" cy="24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MediaCom 2004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Presentation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ji Hirakawa</a:t>
            </a:r>
            <a:br>
              <a:rPr sz="36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edia &amp; Contents Business Division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shiba Corporation e-Solution Compa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e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hairman, ITU-R Working Party 6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6440" y="614520"/>
            <a:ext cx="8381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PCableCom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MediaCom 2004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nteractive Multimedia Workshop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TU, Geneva, 12 - 15 March 2002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7869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using Transcoding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2506680" y="1652760"/>
            <a:ext cx="4329000" cy="601200"/>
            <a:chOff x="2506680" y="1652760"/>
            <a:chExt cx="4329000" cy="601200"/>
          </a:xfrm>
        </p:grpSpPr>
        <p:sp>
          <p:nvSpPr>
            <p:cNvPr id="242" name=""/>
            <p:cNvSpPr/>
            <p:nvPr/>
          </p:nvSpPr>
          <p:spPr>
            <a:xfrm>
              <a:off x="3892680" y="1655640"/>
              <a:ext cx="134928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Video Format  Conver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38880" y="1652760"/>
              <a:ext cx="113508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Video En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06680" y="1673280"/>
              <a:ext cx="109044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Video De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668760" y="1967040"/>
              <a:ext cx="25704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199120" y="1996920"/>
              <a:ext cx="257040" cy="50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78640" y="1973160"/>
              <a:ext cx="257040" cy="50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" name=""/>
          <p:cNvGrpSpPr/>
          <p:nvPr/>
        </p:nvGrpSpPr>
        <p:grpSpPr>
          <a:xfrm>
            <a:off x="2565360" y="4076640"/>
            <a:ext cx="4341960" cy="591840"/>
            <a:chOff x="2565360" y="4076640"/>
            <a:chExt cx="4341960" cy="591840"/>
          </a:xfrm>
        </p:grpSpPr>
        <p:sp>
          <p:nvSpPr>
            <p:cNvPr id="249" name=""/>
            <p:cNvSpPr/>
            <p:nvPr/>
          </p:nvSpPr>
          <p:spPr>
            <a:xfrm>
              <a:off x="3830760" y="4087800"/>
              <a:ext cx="149040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ecff"/>
                </a:gs>
              </a:gsLst>
              <a:lin ang="10800000"/>
            </a:gradFill>
            <a:ln w="38160">
              <a:solidFill>
                <a:srgbClr val="0099cc"/>
              </a:solidFill>
              <a:miter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??? Transco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87840" y="4084560"/>
              <a:ext cx="114480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ata En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565360" y="4076640"/>
              <a:ext cx="104616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ata De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24120" y="4400640"/>
              <a:ext cx="25740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88040" y="4403880"/>
              <a:ext cx="25704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49920" y="4370400"/>
              <a:ext cx="25740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2500200" y="2541600"/>
            <a:ext cx="4427640" cy="1388880"/>
            <a:chOff x="2500200" y="2541600"/>
            <a:chExt cx="4427640" cy="1388880"/>
          </a:xfrm>
        </p:grpSpPr>
        <p:sp>
          <p:nvSpPr>
            <p:cNvPr id="256" name=""/>
            <p:cNvSpPr/>
            <p:nvPr/>
          </p:nvSpPr>
          <p:spPr>
            <a:xfrm>
              <a:off x="5460840" y="2541600"/>
              <a:ext cx="113688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udio Encod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876840" y="2575080"/>
              <a:ext cx="1349280" cy="5806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Language Trans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500800" y="3349800"/>
              <a:ext cx="1135080" cy="5806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udio Encod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500200" y="2548080"/>
              <a:ext cx="1082880" cy="58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udio Decod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635280" y="2849400"/>
              <a:ext cx="257400" cy="50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11720" y="2887560"/>
              <a:ext cx="257040" cy="50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040" y="2874960"/>
              <a:ext cx="25704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70800" y="3613320"/>
              <a:ext cx="25704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3324240" y="3164040"/>
              <a:ext cx="2176560" cy="426600"/>
              <a:chOff x="3324240" y="3164040"/>
              <a:chExt cx="2176560" cy="426600"/>
            </a:xfrm>
          </p:grpSpPr>
          <p:sp>
            <p:nvSpPr>
              <p:cNvPr id="265" name=""/>
              <p:cNvSpPr/>
              <p:nvPr/>
            </p:nvSpPr>
            <p:spPr>
              <a:xfrm flipV="1">
                <a:off x="3324240" y="3588840"/>
                <a:ext cx="2176560" cy="180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332160" y="3164040"/>
                <a:ext cx="0" cy="42516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2747880" y="4611240"/>
            <a:ext cx="4429080" cy="642600"/>
            <a:chOff x="2747880" y="4611240"/>
            <a:chExt cx="4429080" cy="642600"/>
          </a:xfrm>
        </p:grpSpPr>
        <p:sp>
          <p:nvSpPr>
            <p:cNvPr id="268" name=""/>
            <p:cNvSpPr/>
            <p:nvPr/>
          </p:nvSpPr>
          <p:spPr>
            <a:xfrm>
              <a:off x="2747880" y="4916520"/>
              <a:ext cx="3654360" cy="3373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I / PSI Re-genera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6413400" y="4611240"/>
              <a:ext cx="763560" cy="490680"/>
              <a:chOff x="6413400" y="4611240"/>
              <a:chExt cx="763560" cy="490680"/>
            </a:xfrm>
          </p:grpSpPr>
          <p:sp>
            <p:nvSpPr>
              <p:cNvPr id="270" name=""/>
              <p:cNvSpPr/>
              <p:nvPr/>
            </p:nvSpPr>
            <p:spPr>
              <a:xfrm>
                <a:off x="6413400" y="5091120"/>
                <a:ext cx="763560" cy="936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7169040" y="4611240"/>
                <a:ext cx="1800" cy="49068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2" name=""/>
          <p:cNvGrpSpPr/>
          <p:nvPr/>
        </p:nvGrpSpPr>
        <p:grpSpPr>
          <a:xfrm>
            <a:off x="1823400" y="1738440"/>
            <a:ext cx="921240" cy="3333600"/>
            <a:chOff x="1823400" y="1738440"/>
            <a:chExt cx="921240" cy="3333600"/>
          </a:xfrm>
        </p:grpSpPr>
        <p:sp>
          <p:nvSpPr>
            <p:cNvPr id="273" name=""/>
            <p:cNvSpPr/>
            <p:nvPr/>
          </p:nvSpPr>
          <p:spPr>
            <a:xfrm>
              <a:off x="1823400" y="1738440"/>
              <a:ext cx="454680" cy="2957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De multi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4560" y="1959120"/>
              <a:ext cx="25704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68360" y="2841480"/>
              <a:ext cx="257400" cy="50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81320" y="4451400"/>
              <a:ext cx="257040" cy="46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011320" y="4700520"/>
              <a:ext cx="733320" cy="371520"/>
              <a:chOff x="2011320" y="4700520"/>
              <a:chExt cx="733320" cy="371520"/>
            </a:xfrm>
          </p:grpSpPr>
          <p:sp>
            <p:nvSpPr>
              <p:cNvPr id="278" name=""/>
              <p:cNvSpPr/>
              <p:nvPr/>
            </p:nvSpPr>
            <p:spPr>
              <a:xfrm flipV="1">
                <a:off x="2043000" y="5054760"/>
                <a:ext cx="701640" cy="144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2011320" y="4700520"/>
                <a:ext cx="9720" cy="37152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669960" y="2448000"/>
            <a:ext cx="1125360" cy="679320"/>
            <a:chOff x="669960" y="2448000"/>
            <a:chExt cx="1125360" cy="679320"/>
          </a:xfrm>
        </p:grpSpPr>
        <p:sp>
          <p:nvSpPr>
            <p:cNvPr id="281" name=""/>
            <p:cNvSpPr/>
            <p:nvPr/>
          </p:nvSpPr>
          <p:spPr>
            <a:xfrm flipV="1">
              <a:off x="1093680" y="3125880"/>
              <a:ext cx="701640" cy="1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9960" y="2448000"/>
              <a:ext cx="1039680" cy="520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BC 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6896880" y="1785960"/>
            <a:ext cx="1732680" cy="2844720"/>
            <a:chOff x="6896880" y="1785960"/>
            <a:chExt cx="1732680" cy="2844720"/>
          </a:xfrm>
        </p:grpSpPr>
        <p:sp>
          <p:nvSpPr>
            <p:cNvPr id="284" name=""/>
            <p:cNvSpPr/>
            <p:nvPr/>
          </p:nvSpPr>
          <p:spPr>
            <a:xfrm>
              <a:off x="6896880" y="1785960"/>
              <a:ext cx="454680" cy="2844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ultipl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7345440" y="3111480"/>
              <a:ext cx="701640" cy="1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89880" y="2513160"/>
              <a:ext cx="1039680" cy="520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Local Cont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20720" y="5300640"/>
            <a:ext cx="7996320" cy="109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first solution is a transcoding method converting original contents to a local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 is better to prepare the well-formed original contents considering the limitation of transcoding capabilities if required a smart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using X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8080" y="4780080"/>
            <a:ext cx="7772400" cy="13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second solution is the adoption of XML for authoring multimedia and data broadcasting cont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XML contents may be converted suitable for more than one distribution media by using different C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41400" y="2725560"/>
            <a:ext cx="155556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XML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496960" y="3429000"/>
            <a:ext cx="5958000" cy="872640"/>
            <a:chOff x="2496960" y="3429000"/>
            <a:chExt cx="5958000" cy="872640"/>
          </a:xfrm>
        </p:grpSpPr>
        <p:sp>
          <p:nvSpPr>
            <p:cNvPr id="292" name=""/>
            <p:cNvSpPr/>
            <p:nvPr/>
          </p:nvSpPr>
          <p:spPr>
            <a:xfrm>
              <a:off x="3289320" y="3794040"/>
              <a:ext cx="1165320" cy="459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SS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950000" y="3825720"/>
              <a:ext cx="1501560" cy="459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53400" y="3841920"/>
              <a:ext cx="1501560" cy="45972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tern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496960" y="3429000"/>
              <a:ext cx="763920" cy="5493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452840" y="4052880"/>
              <a:ext cx="525600" cy="79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61280" y="4083120"/>
              <a:ext cx="507960" cy="158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505240" y="2836800"/>
            <a:ext cx="6119640" cy="825480"/>
            <a:chOff x="2505240" y="2836800"/>
            <a:chExt cx="6119640" cy="825480"/>
          </a:xfrm>
        </p:grpSpPr>
        <p:sp>
          <p:nvSpPr>
            <p:cNvPr id="299" name=""/>
            <p:cNvSpPr/>
            <p:nvPr/>
          </p:nvSpPr>
          <p:spPr>
            <a:xfrm>
              <a:off x="4938840" y="2962440"/>
              <a:ext cx="15015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X-HT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49720" y="2922480"/>
              <a:ext cx="1164960" cy="459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SS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84920" y="2836800"/>
              <a:ext cx="1839960" cy="825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roadcasting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05240" y="3142800"/>
              <a:ext cx="701640" cy="180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4425840" y="3171960"/>
              <a:ext cx="542880" cy="1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446880" y="3198960"/>
              <a:ext cx="330120" cy="93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2496960" y="1833480"/>
            <a:ext cx="6064560" cy="1053720"/>
            <a:chOff x="2496960" y="1833480"/>
            <a:chExt cx="6064560" cy="1053720"/>
          </a:xfrm>
        </p:grpSpPr>
        <p:sp>
          <p:nvSpPr>
            <p:cNvPr id="306" name=""/>
            <p:cNvSpPr/>
            <p:nvPr/>
          </p:nvSpPr>
          <p:spPr>
            <a:xfrm>
              <a:off x="5078520" y="2021040"/>
              <a:ext cx="116496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265560" y="2011320"/>
              <a:ext cx="11653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SS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48560" y="1833480"/>
              <a:ext cx="1812960" cy="8254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roadcasting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2496960" y="2255400"/>
              <a:ext cx="756000" cy="63180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441680" y="2246400"/>
              <a:ext cx="649440" cy="1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6256440" y="2265480"/>
              <a:ext cx="515880" cy="144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using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-Standard Set-Top-Box</a:t>
            </a:r>
            <a:r>
              <a:rPr b="0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05960" y="4808520"/>
            <a:ext cx="7913880" cy="137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third solution for interoperable multimedia and data broadcasting is the adoption of multi-standard ST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ven in this case, the common core should be maximised for minimising the complexity of ST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698400" y="2949480"/>
            <a:ext cx="4095720" cy="1517760"/>
            <a:chOff x="698400" y="2949480"/>
            <a:chExt cx="4095720" cy="1517760"/>
          </a:xfrm>
        </p:grpSpPr>
        <p:pic>
          <p:nvPicPr>
            <p:cNvPr id="315" name="" descr=""/>
            <p:cNvPicPr/>
            <p:nvPr/>
          </p:nvPicPr>
          <p:blipFill>
            <a:blip r:embed="rId2"/>
            <a:stretch/>
          </p:blipFill>
          <p:spPr>
            <a:xfrm>
              <a:off x="698400" y="2949480"/>
              <a:ext cx="619200" cy="151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6" name=""/>
            <p:cNvGrpSpPr/>
            <p:nvPr/>
          </p:nvGrpSpPr>
          <p:grpSpPr>
            <a:xfrm>
              <a:off x="3014640" y="3449520"/>
              <a:ext cx="1414440" cy="934920"/>
              <a:chOff x="3014640" y="3449520"/>
              <a:chExt cx="1414440" cy="934920"/>
            </a:xfrm>
          </p:grpSpPr>
          <p:sp>
            <p:nvSpPr>
              <p:cNvPr id="317" name=""/>
              <p:cNvSpPr/>
              <p:nvPr/>
            </p:nvSpPr>
            <p:spPr>
              <a:xfrm>
                <a:off x="3014640" y="3449520"/>
                <a:ext cx="1414440" cy="307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VHF/UH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33720" y="3803760"/>
                <a:ext cx="1373040" cy="58068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ont End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or Terrestri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4433760" y="4108320"/>
              <a:ext cx="360360" cy="64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25360" y="3068640"/>
              <a:ext cx="1862280" cy="10414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6969240" y="2387520"/>
            <a:ext cx="1535040" cy="1981440"/>
            <a:chOff x="6969240" y="2387520"/>
            <a:chExt cx="1535040" cy="1981440"/>
          </a:xfrm>
        </p:grpSpPr>
        <p:graphicFrame>
          <p:nvGraphicFramePr>
            <p:cNvPr id="322" name=""/>
            <p:cNvGraphicFramePr/>
            <p:nvPr/>
          </p:nvGraphicFramePr>
          <p:xfrm>
            <a:off x="6969240" y="2387520"/>
            <a:ext cx="1535040" cy="1981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2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69240" y="2387520"/>
                      <a:ext cx="153504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24" name=""/>
            <p:cNvGraphicFramePr/>
            <p:nvPr/>
          </p:nvGraphicFramePr>
          <p:xfrm>
            <a:off x="7035840" y="2476440"/>
            <a:ext cx="1371240" cy="8193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25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35840" y="2476440"/>
                      <a:ext cx="137124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26" name=""/>
          <p:cNvGrpSpPr/>
          <p:nvPr/>
        </p:nvGrpSpPr>
        <p:grpSpPr>
          <a:xfrm>
            <a:off x="4776840" y="2370240"/>
            <a:ext cx="2244600" cy="1974240"/>
            <a:chOff x="4776840" y="2370240"/>
            <a:chExt cx="2244600" cy="1974240"/>
          </a:xfrm>
        </p:grpSpPr>
        <p:grpSp>
          <p:nvGrpSpPr>
            <p:cNvPr id="327" name=""/>
            <p:cNvGrpSpPr/>
            <p:nvPr/>
          </p:nvGrpSpPr>
          <p:grpSpPr>
            <a:xfrm>
              <a:off x="4776840" y="2370240"/>
              <a:ext cx="1863720" cy="1974240"/>
              <a:chOff x="4776840" y="2370240"/>
              <a:chExt cx="1863720" cy="1974240"/>
            </a:xfrm>
          </p:grpSpPr>
          <p:sp>
            <p:nvSpPr>
              <p:cNvPr id="328" name=""/>
              <p:cNvSpPr/>
              <p:nvPr/>
            </p:nvSpPr>
            <p:spPr>
              <a:xfrm>
                <a:off x="4780080" y="2370240"/>
                <a:ext cx="1858680" cy="52020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ultimedia decoding for Satellit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76840" y="2884680"/>
                <a:ext cx="1859040" cy="94644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PEG-2 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Video and Audio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cc00ff"/>
                    </a:solidFill>
                    <a:latin typeface="Times New Roman"/>
                    <a:ea typeface="ＭＳ Ｐゴシック"/>
                  </a:rPr>
                  <a:t>Common Core of Multimedia decod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781520" y="3824280"/>
                <a:ext cx="1859040" cy="520200"/>
              </a:xfrm>
              <a:prstGeom prst="rect">
                <a:avLst/>
              </a:prstGeom>
              <a:solidFill>
                <a:srgbClr val="ccecff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Multimedia decoding for Terrestri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 flipV="1">
              <a:off x="6618240" y="3378240"/>
              <a:ext cx="403200" cy="144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608040" y="1984320"/>
            <a:ext cx="4138560" cy="975960"/>
            <a:chOff x="608040" y="1984320"/>
            <a:chExt cx="4138560" cy="975960"/>
          </a:xfrm>
        </p:grpSpPr>
        <p:grpSp>
          <p:nvGrpSpPr>
            <p:cNvPr id="333" name=""/>
            <p:cNvGrpSpPr/>
            <p:nvPr/>
          </p:nvGrpSpPr>
          <p:grpSpPr>
            <a:xfrm>
              <a:off x="3008160" y="2033640"/>
              <a:ext cx="1390680" cy="926640"/>
              <a:chOff x="3008160" y="2033640"/>
              <a:chExt cx="1390680" cy="926640"/>
            </a:xfrm>
          </p:grpSpPr>
          <p:sp>
            <p:nvSpPr>
              <p:cNvPr id="334" name=""/>
              <p:cNvSpPr/>
              <p:nvPr/>
            </p:nvSpPr>
            <p:spPr>
              <a:xfrm>
                <a:off x="3008160" y="2033640"/>
                <a:ext cx="1390680" cy="30708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QPSK C/Ku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25800" y="2379600"/>
                <a:ext cx="1373040" cy="580680"/>
              </a:xfrm>
              <a:prstGeom prst="rect">
                <a:avLst/>
              </a:prstGeom>
              <a:solidFill>
                <a:srgbClr val="99ffcc"/>
              </a:solidFill>
              <a:ln w="0">
                <a:noFill/>
              </a:ln>
              <a:effectLst>
                <a:outerShdw dist="107932" dir="2700000" blurRad="0" rotWithShape="0">
                  <a:srgbClr val="b2b2b2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ront End 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for Satelli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 flipV="1">
              <a:off x="4398840" y="2638080"/>
              <a:ext cx="347760" cy="46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7"/>
            <a:stretch/>
          </p:blipFill>
          <p:spPr>
            <a:xfrm>
              <a:off x="608040" y="1984320"/>
              <a:ext cx="1419120" cy="69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758960" y="2090880"/>
              <a:ext cx="1220760" cy="5824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42720"/>
            <a:ext cx="79232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NI for nation wide contribution and primary distribution networ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23600" y="1638000"/>
            <a:ext cx="8109000" cy="47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adcasters are preparing primarily distribution and contribution networks for digital terrestrial television broadcasting services in three major populated arias from the end of 2003 in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wo types of User Network Interface (UNI) are now considered, non-compressed baseband interface and MPEG-2 Transport Stream (TS) packets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jor commercial broadcasters are considering to adopt non-compressed transmission services for 1.45 Gbit/sec HDTV contribution networks between three most populated areas (Tokyo, Nagoya and Osak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this case, UNI is HDTV-SDI for HDTV digital video interface and AES/EBU for digital audio inter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ecial signalling mechanism is provided for accommodating cueing information in order to switch from remote to local contents, and vice ver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other major broadcaster is considering to use packetised video, audio and data transmission systems for primary distribution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this case, UNI is DVB-ASI for accommodating MPEG-2 TS pac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tion-wide Contribution and Primary Distribution Networ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3409920" y="1492200"/>
          <a:ext cx="4772160" cy="4286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09920" y="1492200"/>
                    <a:ext cx="4772160" cy="42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"/>
          <p:cNvSpPr/>
          <p:nvPr/>
        </p:nvSpPr>
        <p:spPr>
          <a:xfrm flipV="1">
            <a:off x="5300640" y="4417560"/>
            <a:ext cx="496800" cy="7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775480" y="4226040"/>
            <a:ext cx="645840" cy="18720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6418440" y="3458880"/>
            <a:ext cx="338040" cy="701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6767640" y="2308320"/>
            <a:ext cx="169560" cy="1154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783400" y="4163760"/>
            <a:ext cx="630000" cy="230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5302080" y="4376520"/>
            <a:ext cx="489240" cy="81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4697280" y="4456080"/>
            <a:ext cx="614520" cy="61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124160" y="4520880"/>
            <a:ext cx="578160" cy="220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4684320" y="4486320"/>
            <a:ext cx="41400" cy="204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641920" y="3995640"/>
            <a:ext cx="728640" cy="1429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523200" y="3438360"/>
            <a:ext cx="212400" cy="97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534000" y="3139920"/>
            <a:ext cx="17784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810480" y="3157560"/>
            <a:ext cx="71280" cy="239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 flipV="1">
            <a:off x="6713280" y="2952720"/>
            <a:ext cx="34920" cy="425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524640" y="3520800"/>
            <a:ext cx="204840" cy="2300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143000" y="2494080"/>
            <a:ext cx="1133640" cy="1908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154160" y="260208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DTV baseband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181160" y="3435480"/>
            <a:ext cx="10112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38320" y="3564000"/>
            <a:ext cx="43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PEG-2 TS packet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400560" y="5773680"/>
            <a:ext cx="5337000" cy="459720"/>
          </a:xfrm>
          <a:prstGeom prst="rect">
            <a:avLst/>
          </a:prstGeom>
          <a:solidFill>
            <a:srgbClr val="ffffcc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ote: All systems are under consid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122720" y="4749840"/>
            <a:ext cx="17784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4100040" y="4797360"/>
            <a:ext cx="25560" cy="434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948120" y="4779720"/>
            <a:ext cx="203040" cy="1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170240" y="4770360"/>
            <a:ext cx="195480" cy="115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711680" y="4699080"/>
            <a:ext cx="162000" cy="7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738680" y="4675320"/>
            <a:ext cx="320760" cy="15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711680" y="4584600"/>
            <a:ext cx="239760" cy="6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940440" y="2328840"/>
            <a:ext cx="559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637320" y="2329920"/>
            <a:ext cx="276120" cy="2667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6913440" y="2158920"/>
            <a:ext cx="160560" cy="196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66440" y="342720"/>
            <a:ext cx="7915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ents Distribution over Intern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2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U-R develops a new Question 7/6 for ‘Interface to webcasting and its supporting data servic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roadcasters should take care of rights of contents when they offer their contents to web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net service could reach to all over the world while a broadcasting service is licensed only in limited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ome contents are produced supposing being broadcast only within limited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se contents may be replaced by ‘safe’ materials when broadcasters offer their contents to 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equirements from broadcasters to ‘interface to webcasting’ may include not only technical aspect but a mechanism for right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685520"/>
            <a:ext cx="7772400" cy="454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this presentation, interoperability of multimedia and data broadcasting systems are consid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are several multimedia and data broadcasting systems in order to respond deferen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U-R WP 6M and  ITU-T SG 9 are jointly working to develop effective methods to exchange multimedia and data broadcasting contents between deferen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ther related observations such as UNI between broadcasters and common carriers are discus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U-R WP 6M is now studying the Question for ‘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face to webcasting and its supporting data services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ac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ji Hirakawa</a:t>
            </a:r>
            <a:br>
              <a:rPr sz="44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ice Chair of Working Party 6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huji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.Hirakawa@Toshiba.co.j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ank you for your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Electronic Co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This presentation is availabl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ttp://www.itu.int/ITU-T/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orksem/ipcablecom/program.htm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1PM1-P4.PD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P 6M Activities for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media-and-Data Broadcast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TU-R Working Party 6M and ITU-T Study Group 9 established Joint Rapporteur Group 1 (JRG-1) as the first joint studying body between ITU-R and ITU-T in March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are four major SDOs for multimedia and data broadcasting system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RIB (STD-B.2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TSC (A/65, A/90, DASE) for terrestrial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VB (MH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7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CTE (OpenCable/OCAP) for cable televi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P 6M is seeking interoperable mechanisms between these multimedia and data broadcas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  <p:animClr clrSpc="rgb"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  <p:animClr clrSpc="rgb"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" dur="1" fill="hold"/>
                                  <p:tgtEl>
                                    <p:spTgt spid="10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igital Broadcasting Systems for Fixed Reception and Mobile Rece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71560" y="1623960"/>
          <a:ext cx="7815240" cy="4159440"/>
        </p:xfrm>
        <a:graphic>
          <a:graphicData uri="http://schemas.openxmlformats.org/drawingml/2006/table">
            <a:tbl>
              <a:tblPr/>
              <a:tblGrid>
                <a:gridCol w="1212840"/>
                <a:gridCol w="1154160"/>
                <a:gridCol w="1847880"/>
                <a:gridCol w="1846080"/>
                <a:gridCol w="1754280"/>
              </a:tblGrid>
              <a:tr h="685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orth Ameri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VB/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696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Fixed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rre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C 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 BT.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A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T.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B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T.13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693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D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 BO.1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B, C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O.1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A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O.15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966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bile Recep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rrestr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F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 BS.1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C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S.111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A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S.11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4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atelli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E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 BO.1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D</a:t>
                      </a:r>
                      <a:r>
                        <a:rPr b="0" lang="en-GB" sz="1800" spc="-1" strike="noStrike" baseline="-10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H</a:t>
                      </a:r>
                      <a:br>
                        <a:rPr sz="1800"/>
                      </a:br>
                      <a:r>
                        <a:rPr b="0" lang="en-GB" sz="1800" spc="-1" strike="noStrike" baseline="-10000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in BO.1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ystem A</a:t>
                      </a:r>
                      <a:br>
                        <a:rPr sz="1800"/>
                      </a:b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 in BO.11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64260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hysical layers of all broadcasting systems are designed to satisfy the different requirements of respective reg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2603520" y="5789520"/>
            <a:ext cx="4835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ble 1 Physical Layer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ultimedia-and-Data Broadcasting System for Several Physical Broadcas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838080" y="1766880"/>
          <a:ext cx="7766280" cy="4019400"/>
        </p:xfrm>
        <a:graphic>
          <a:graphicData uri="http://schemas.openxmlformats.org/drawingml/2006/table">
            <a:tbl>
              <a:tblPr/>
              <a:tblGrid>
                <a:gridCol w="1193760"/>
                <a:gridCol w="1155960"/>
                <a:gridCol w="1677960"/>
                <a:gridCol w="1915920"/>
                <a:gridCol w="1822680"/>
              </a:tblGrid>
              <a:tr h="825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RI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North Americ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VB/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59508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Fixed 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rre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D-B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TSC-D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VB-MH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9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atell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D-B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prie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VB-MH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9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C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STD-B.2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VB-MH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30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Mobile Rece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Terrest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D-B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prie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B-MOT</a:t>
                      </a:r>
                      <a:br>
                        <a:rPr sz="2400"/>
                      </a:b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TSI EN 301 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03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atell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D-B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oprieta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B-MOT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TSI EN 301 2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>
            <a:off x="3186000" y="2592360"/>
            <a:ext cx="1687680" cy="3197160"/>
          </a:xfrm>
          <a:prstGeom prst="rect">
            <a:avLst/>
          </a:prstGeom>
          <a:noFill/>
          <a:ln w="3816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02560" y="2584440"/>
            <a:ext cx="1801800" cy="1805040"/>
          </a:xfrm>
          <a:prstGeom prst="rect">
            <a:avLst/>
          </a:prstGeom>
          <a:noFill/>
          <a:ln w="381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05440" y="4395960"/>
            <a:ext cx="1802160" cy="1363320"/>
          </a:xfrm>
          <a:prstGeom prst="rect">
            <a:avLst/>
          </a:prstGeom>
          <a:noFill/>
          <a:ln w="381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96760" y="5843520"/>
            <a:ext cx="773136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ble 2 Multimedia and Data Broadcasting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between Fixed Terrestrial and Satellite Tel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065400" y="4449600"/>
            <a:ext cx="2157480" cy="1735920"/>
            <a:chOff x="3065400" y="4449600"/>
            <a:chExt cx="2157480" cy="1735920"/>
          </a:xfrm>
        </p:grpSpPr>
        <p:sp>
          <p:nvSpPr>
            <p:cNvPr id="118" name=""/>
            <p:cNvSpPr/>
            <p:nvPr/>
          </p:nvSpPr>
          <p:spPr>
            <a:xfrm>
              <a:off x="3244680" y="4449600"/>
              <a:ext cx="1216080" cy="642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OFDM in VHF/UH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065400" y="5176800"/>
              <a:ext cx="1585800" cy="1008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ont End for System B /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C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BT.130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4643280" y="4792680"/>
              <a:ext cx="579600" cy="8697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4832280" y="3535200"/>
            <a:ext cx="1038240" cy="2697120"/>
            <a:chOff x="4832280" y="3535200"/>
            <a:chExt cx="1038240" cy="2697120"/>
          </a:xfrm>
        </p:grpSpPr>
        <p:sp>
          <p:nvSpPr>
            <p:cNvPr id="122" name=""/>
            <p:cNvSpPr/>
            <p:nvPr/>
          </p:nvSpPr>
          <p:spPr>
            <a:xfrm>
              <a:off x="4859280" y="5589720"/>
              <a:ext cx="1011240" cy="642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PEG-2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32280" y="3535200"/>
              <a:ext cx="238320" cy="2046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1258920" y="4819680"/>
            <a:ext cx="1800360" cy="1417680"/>
            <a:chOff x="1258920" y="4819680"/>
            <a:chExt cx="1800360" cy="1417680"/>
          </a:xfrm>
        </p:grpSpPr>
        <p:sp>
          <p:nvSpPr>
            <p:cNvPr id="125" name=""/>
            <p:cNvSpPr/>
            <p:nvPr/>
          </p:nvSpPr>
          <p:spPr>
            <a:xfrm>
              <a:off x="1663560" y="4952880"/>
              <a:ext cx="1395720" cy="73044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1258920" y="4819680"/>
              <a:ext cx="716040" cy="141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" name=""/>
          <p:cNvGrpSpPr/>
          <p:nvPr/>
        </p:nvGrpSpPr>
        <p:grpSpPr>
          <a:xfrm>
            <a:off x="647640" y="3505320"/>
            <a:ext cx="2355840" cy="1947600"/>
            <a:chOff x="647640" y="3505320"/>
            <a:chExt cx="2355840" cy="1947600"/>
          </a:xfrm>
        </p:grpSpPr>
        <p:graphicFrame>
          <p:nvGraphicFramePr>
            <p:cNvPr id="128" name=""/>
            <p:cNvGraphicFramePr/>
            <p:nvPr/>
          </p:nvGraphicFramePr>
          <p:xfrm>
            <a:off x="647640" y="3505320"/>
            <a:ext cx="636480" cy="15890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47640" y="3505320"/>
                      <a:ext cx="636480" cy="15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998640" y="3611520"/>
              <a:ext cx="2004840" cy="1841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176800" y="3146400"/>
            <a:ext cx="2174760" cy="1985760"/>
            <a:chOff x="5176800" y="3146400"/>
            <a:chExt cx="2174760" cy="1985760"/>
          </a:xfrm>
        </p:grpSpPr>
        <p:sp>
          <p:nvSpPr>
            <p:cNvPr id="132" name=""/>
            <p:cNvSpPr/>
            <p:nvPr/>
          </p:nvSpPr>
          <p:spPr>
            <a:xfrm>
              <a:off x="5176800" y="3146400"/>
              <a:ext cx="1976400" cy="916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HP /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ARIB B-24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ultimedia /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teractive Syst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261040" y="4184640"/>
              <a:ext cx="1787400" cy="9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ack End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PEG-2 Video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SDTV /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HDV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000920" y="4651200"/>
              <a:ext cx="350640" cy="828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281320" y="1650960"/>
            <a:ext cx="6454800" cy="64260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re is no interoperability between System B and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C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n BT.1306 or System A and </a:t>
            </a:r>
            <a:r>
              <a:rPr b="0" lang="en-GB" sz="1800" spc="-1" strike="noStrike">
                <a:solidFill>
                  <a:srgbClr val="ff0000"/>
                </a:solidFill>
                <a:latin typeface="Times New Roman"/>
                <a:ea typeface="ＭＳ Ｐゴシック"/>
              </a:rPr>
              <a:t>D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in BO.1516 regarding physical lay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44880" y="2465280"/>
            <a:ext cx="2214360" cy="1976400"/>
            <a:chOff x="3044880" y="2465280"/>
            <a:chExt cx="2214360" cy="1976400"/>
          </a:xfrm>
        </p:grpSpPr>
        <p:sp>
          <p:nvSpPr>
            <p:cNvPr id="137" name=""/>
            <p:cNvSpPr/>
            <p:nvPr/>
          </p:nvSpPr>
          <p:spPr>
            <a:xfrm>
              <a:off x="3044880" y="3166920"/>
              <a:ext cx="1700280" cy="1008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ont End for System A /</a:t>
              </a:r>
              <a:r>
                <a:rPr b="0" lang="ja-JP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 </a:t>
              </a: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D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BO.151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089160" y="2465280"/>
              <a:ext cx="1554120" cy="6426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QPSK / </a:t>
              </a: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  <a:ea typeface="ＭＳ Ｐゴシック"/>
                </a:rPr>
                <a:t>8 PSK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Ku Ba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22840" y="3718080"/>
              <a:ext cx="536400" cy="72360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289640" y="4084560"/>
            <a:ext cx="1535400" cy="1981440"/>
            <a:chOff x="7289640" y="4084560"/>
            <a:chExt cx="1535400" cy="1981440"/>
          </a:xfrm>
        </p:grpSpPr>
        <p:graphicFrame>
          <p:nvGraphicFramePr>
            <p:cNvPr id="141" name=""/>
            <p:cNvGraphicFramePr/>
            <p:nvPr/>
          </p:nvGraphicFramePr>
          <p:xfrm>
            <a:off x="7289640" y="4084560"/>
            <a:ext cx="1535400" cy="1981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289640" y="4084560"/>
                      <a:ext cx="153540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3" name=""/>
            <p:cNvGraphicFramePr/>
            <p:nvPr/>
          </p:nvGraphicFramePr>
          <p:xfrm>
            <a:off x="7356600" y="4173480"/>
            <a:ext cx="1371600" cy="819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56600" y="4173480"/>
                      <a:ext cx="1371600" cy="8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5" name=""/>
          <p:cNvGrpSpPr/>
          <p:nvPr/>
        </p:nvGrpSpPr>
        <p:grpSpPr>
          <a:xfrm>
            <a:off x="503280" y="2438280"/>
            <a:ext cx="2584440" cy="1266840"/>
            <a:chOff x="503280" y="2438280"/>
            <a:chExt cx="2584440" cy="1266840"/>
          </a:xfrm>
        </p:grpSpPr>
        <p:graphicFrame>
          <p:nvGraphicFramePr>
            <p:cNvPr id="146" name=""/>
            <p:cNvGraphicFramePr/>
            <p:nvPr/>
          </p:nvGraphicFramePr>
          <p:xfrm>
            <a:off x="503280" y="2438280"/>
            <a:ext cx="1838160" cy="990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3280" y="2438280"/>
                      <a:ext cx="183816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8" name=""/>
            <p:cNvSpPr/>
            <p:nvPr/>
          </p:nvSpPr>
          <p:spPr>
            <a:xfrm>
              <a:off x="2003400" y="2766960"/>
              <a:ext cx="1084320" cy="9381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32960" y="342720"/>
            <a:ext cx="7962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between Fixed/Mobil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Sound/Television Systems (1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broadcasting systems for various distribution media such as Satellite Television, Terrestrial Television, Satellite Sound and Terrestrial Sound adopt the same transport mechanism, i.e., MPEG-2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rrestrial television signal has 13 segments of its frequency domain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ach of these segments could have a different physical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Up to three kinds of parameter sets could be selected in order to satisfy different requi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e centre part of 13 segments could be received by terrestrial sound broadcasting rece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his segment usually uses QPSK or 16 QAM with high forward error correction capability for mobile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8920" y="342720"/>
            <a:ext cx="801684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between Fixed/Mobil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Sound/Television Systems (2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23600" y="1789200"/>
            <a:ext cx="810900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able 2 shows the interoperability between the different systems for multimedia and data broadcasting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ll ARIB broadcasting systems use MPEG-2 Systems for service multiplexing and Standard B.24 for multimedia and data broad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errestrial sound broadcasting receiver could handle the centre segment of 13-segmented terrestrial television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oth centre segment of terrestrial television broadcasting signal and the whole part of a terrestrial sound broadcasting signal could be received by portable rece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y adding a front end of BSS (s) signal, a portable receiver could also decode BSS (s) data streams because all broadcasting systems adopt the same multimedia and data broadcasting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342720"/>
            <a:ext cx="796932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between Fixed/Mobile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d Sound/Television Systems (3/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284640" y="1920960"/>
            <a:ext cx="2146320" cy="1508760"/>
            <a:chOff x="3284640" y="1920960"/>
            <a:chExt cx="2146320" cy="1508760"/>
          </a:xfrm>
        </p:grpSpPr>
        <p:sp>
          <p:nvSpPr>
            <p:cNvPr id="155" name=""/>
            <p:cNvSpPr/>
            <p:nvPr/>
          </p:nvSpPr>
          <p:spPr>
            <a:xfrm>
              <a:off x="3333600" y="3122640"/>
              <a:ext cx="1390680" cy="307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8-PSK 11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38640" y="1920960"/>
              <a:ext cx="1390680" cy="307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DM 2.6 G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284640" y="2243160"/>
              <a:ext cx="1485720" cy="82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ont En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or System E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BO.11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99160" y="2763720"/>
              <a:ext cx="631800" cy="5511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343480" y="3122640"/>
            <a:ext cx="2021040" cy="1886040"/>
            <a:chOff x="5343480" y="3122640"/>
            <a:chExt cx="2021040" cy="1886040"/>
          </a:xfrm>
        </p:grpSpPr>
        <p:sp>
          <p:nvSpPr>
            <p:cNvPr id="160" name=""/>
            <p:cNvSpPr/>
            <p:nvPr/>
          </p:nvSpPr>
          <p:spPr>
            <a:xfrm>
              <a:off x="5477040" y="3122640"/>
              <a:ext cx="1636560" cy="855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ack End</a:t>
              </a:r>
              <a:br>
                <a:rPr sz="18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AC Audio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PEG-4 Vide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343480" y="4184640"/>
              <a:ext cx="2021040" cy="8240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ARIB B-24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Common Multimedia/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teractiv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5470560" y="5203800"/>
            <a:ext cx="1673280" cy="855000"/>
          </a:xfrm>
          <a:prstGeom prst="rect">
            <a:avLst/>
          </a:prstGeom>
          <a:solidFill>
            <a:srgbClr val="99ffcc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Back End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PEG-2 Vide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AAC Au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246480" y="5216400"/>
            <a:ext cx="2216160" cy="1125720"/>
            <a:chOff x="3246480" y="5216400"/>
            <a:chExt cx="2216160" cy="1125720"/>
          </a:xfrm>
        </p:grpSpPr>
        <p:sp>
          <p:nvSpPr>
            <p:cNvPr id="164" name=""/>
            <p:cNvSpPr/>
            <p:nvPr/>
          </p:nvSpPr>
          <p:spPr>
            <a:xfrm>
              <a:off x="3246480" y="5216400"/>
              <a:ext cx="1582560" cy="307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OFDM VHF/UH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48000" y="5518080"/>
              <a:ext cx="1373400" cy="8240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ont En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or System C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BT.13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727520" y="5754600"/>
              <a:ext cx="735120" cy="10008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45040" y="2379600"/>
            <a:ext cx="1079640" cy="3519720"/>
            <a:chOff x="5045040" y="2379600"/>
            <a:chExt cx="1079640" cy="3519720"/>
          </a:xfrm>
        </p:grpSpPr>
        <p:sp>
          <p:nvSpPr>
            <p:cNvPr id="168" name=""/>
            <p:cNvSpPr/>
            <p:nvPr/>
          </p:nvSpPr>
          <p:spPr>
            <a:xfrm>
              <a:off x="5113440" y="2379600"/>
              <a:ext cx="1011240" cy="580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MPEG-2 Syste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45040" y="2992320"/>
              <a:ext cx="238320" cy="2907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7155000" y="2631960"/>
            <a:ext cx="1404720" cy="1695600"/>
            <a:chOff x="7155000" y="2631960"/>
            <a:chExt cx="1404720" cy="1695600"/>
          </a:xfrm>
        </p:grpSpPr>
        <p:pic>
          <p:nvPicPr>
            <p:cNvPr id="171" name="" descr=""/>
            <p:cNvPicPr/>
            <p:nvPr/>
          </p:nvPicPr>
          <p:blipFill>
            <a:blip r:embed="rId2"/>
            <a:stretch/>
          </p:blipFill>
          <p:spPr>
            <a:xfrm>
              <a:off x="7740720" y="2631960"/>
              <a:ext cx="819000" cy="16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V="1">
              <a:off x="7155000" y="3520800"/>
              <a:ext cx="660240" cy="1116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65120" y="3759120"/>
            <a:ext cx="2844720" cy="2602800"/>
            <a:chOff x="465120" y="3759120"/>
            <a:chExt cx="2844720" cy="2602800"/>
          </a:xfrm>
        </p:grpSpPr>
        <p:grpSp>
          <p:nvGrpSpPr>
            <p:cNvPr id="174" name=""/>
            <p:cNvGrpSpPr/>
            <p:nvPr/>
          </p:nvGrpSpPr>
          <p:grpSpPr>
            <a:xfrm>
              <a:off x="1052640" y="3759120"/>
              <a:ext cx="1633320" cy="1161000"/>
              <a:chOff x="1052640" y="3759120"/>
              <a:chExt cx="1633320" cy="11610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1276200" y="3759120"/>
                <a:ext cx="1002960" cy="631440"/>
                <a:chOff x="1276200" y="3759120"/>
                <a:chExt cx="1002960" cy="631440"/>
              </a:xfrm>
            </p:grpSpPr>
            <p:grpSp>
              <p:nvGrpSpPr>
                <p:cNvPr id="176" name=""/>
                <p:cNvGrpSpPr/>
                <p:nvPr/>
              </p:nvGrpSpPr>
              <p:grpSpPr>
                <a:xfrm>
                  <a:off x="1393200" y="4068360"/>
                  <a:ext cx="861840" cy="322200"/>
                  <a:chOff x="1393200" y="4068360"/>
                  <a:chExt cx="861840" cy="32220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1648440" y="4068360"/>
                    <a:ext cx="10764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1759680" y="4068360"/>
                    <a:ext cx="107640" cy="322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1859760" y="4068360"/>
                    <a:ext cx="10764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 flipV="1">
                    <a:off x="1393200" y="4362120"/>
                    <a:ext cx="861840" cy="14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1" name=""/>
                <p:cNvSpPr/>
                <p:nvPr/>
              </p:nvSpPr>
              <p:spPr>
                <a:xfrm>
                  <a:off x="1276200" y="3759120"/>
                  <a:ext cx="1002960" cy="27648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0.5/1.5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1052640" y="4458960"/>
                <a:ext cx="1633320" cy="461160"/>
              </a:xfrm>
              <a:prstGeom prst="rect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ISDB-T</a:t>
                </a:r>
                <a:r>
                  <a:rPr b="0" lang="en-US" sz="1200" spc="-1" strike="noStrike" baseline="-10000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SB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  <a:ea typeface="ＭＳ Ｐゴシック"/>
                  </a:rPr>
                  <a:t> One / Three Seg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465120" y="4183200"/>
              <a:ext cx="2844720" cy="2178720"/>
              <a:chOff x="465120" y="4183200"/>
              <a:chExt cx="2844720" cy="2178720"/>
            </a:xfrm>
          </p:grpSpPr>
          <p:graphicFrame>
            <p:nvGraphicFramePr>
              <p:cNvPr id="184" name=""/>
              <p:cNvGraphicFramePr/>
              <p:nvPr/>
            </p:nvGraphicFramePr>
            <p:xfrm>
              <a:off x="465120" y="4282920"/>
              <a:ext cx="636480" cy="1589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65120" y="4282920"/>
                        <a:ext cx="636480" cy="1589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pSp>
            <p:nvGrpSpPr>
              <p:cNvPr id="186" name=""/>
              <p:cNvGrpSpPr/>
              <p:nvPr/>
            </p:nvGrpSpPr>
            <p:grpSpPr>
              <a:xfrm>
                <a:off x="898560" y="5187960"/>
                <a:ext cx="2162160" cy="1173960"/>
                <a:chOff x="898560" y="5187960"/>
                <a:chExt cx="2162160" cy="1173960"/>
              </a:xfrm>
            </p:grpSpPr>
            <p:grpSp>
              <p:nvGrpSpPr>
                <p:cNvPr id="187" name=""/>
                <p:cNvGrpSpPr/>
                <p:nvPr/>
              </p:nvGrpSpPr>
              <p:grpSpPr>
                <a:xfrm>
                  <a:off x="1257120" y="5492520"/>
                  <a:ext cx="1362240" cy="328680"/>
                  <a:chOff x="1257120" y="5492520"/>
                  <a:chExt cx="1362240" cy="328680"/>
                </a:xfrm>
              </p:grpSpPr>
              <p:sp>
                <p:nvSpPr>
                  <p:cNvPr id="188" name=""/>
                  <p:cNvSpPr/>
                  <p:nvPr/>
                </p:nvSpPr>
                <p:spPr>
                  <a:xfrm>
                    <a:off x="1257120" y="549900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" name=""/>
                  <p:cNvSpPr/>
                  <p:nvPr/>
                </p:nvSpPr>
                <p:spPr>
                  <a:xfrm>
                    <a:off x="1361880" y="5492520"/>
                    <a:ext cx="108000" cy="32256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" name=""/>
                  <p:cNvSpPr/>
                  <p:nvPr/>
                </p:nvSpPr>
                <p:spPr>
                  <a:xfrm>
                    <a:off x="1461960" y="5492520"/>
                    <a:ext cx="108000" cy="32256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156672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166680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177804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1888920" y="5497560"/>
                    <a:ext cx="108000" cy="322200"/>
                  </a:xfrm>
                  <a:prstGeom prst="rect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198900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210024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2211480" y="5497560"/>
                    <a:ext cx="10764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231120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241128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2511360" y="5497560"/>
                    <a:ext cx="108000" cy="322200"/>
                  </a:xfrm>
                  <a:prstGeom prst="rect">
                    <a:avLst/>
                  </a:prstGeom>
                  <a:solidFill>
                    <a:srgbClr val="6600ff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1" name=""/>
                <p:cNvSpPr/>
                <p:nvPr/>
              </p:nvSpPr>
              <p:spPr>
                <a:xfrm>
                  <a:off x="898560" y="5802120"/>
                  <a:ext cx="2162160" cy="11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1276200" y="5316480"/>
                  <a:ext cx="131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1608120" y="5187960"/>
                  <a:ext cx="763560" cy="27648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5.6 MH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181160" y="5900760"/>
                  <a:ext cx="1514520" cy="461160"/>
                </a:xfrm>
                <a:prstGeom prst="rect">
                  <a:avLst/>
                </a:prstGeom>
                <a:solidFill>
                  <a:srgbClr val="99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One Segment out of ISDB-T</a:t>
                  </a:r>
                  <a:r>
                    <a:rPr b="0" lang="en-US" sz="1200" spc="-1" strike="noStrike" baseline="-10000">
                      <a:solidFill>
                        <a:srgbClr val="000000"/>
                      </a:solidFill>
                      <a:latin typeface="Times New Roman"/>
                      <a:ea typeface="ＭＳ Ｐゴシック"/>
                    </a:rPr>
                    <a:t>W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28800" y="5408640"/>
                  <a:ext cx="226800" cy="482400"/>
                </a:xfrm>
                <a:prstGeom prst="rect">
                  <a:avLst/>
                </a:prstGeom>
                <a:noFill/>
                <a:ln w="3816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 flipV="1">
                <a:off x="2089080" y="4790880"/>
                <a:ext cx="1150920" cy="61740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839880" y="4183200"/>
                <a:ext cx="731880" cy="21744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51040" y="4471920"/>
                <a:ext cx="341280" cy="97308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676600" y="5672160"/>
                <a:ext cx="633240" cy="223920"/>
              </a:xfrm>
              <a:prstGeom prst="line">
                <a:avLst/>
              </a:prstGeom>
              <a:ln w="38160">
                <a:solidFill>
                  <a:srgbClr val="0099cc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1128600" y="5424480"/>
                <a:ext cx="1560600" cy="493560"/>
              </a:xfrm>
              <a:prstGeom prst="roundRect">
                <a:avLst>
                  <a:gd name="adj" fmla="val 16667"/>
                </a:avLst>
              </a:prstGeom>
              <a:noFill/>
              <a:ln w="1908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990800" y="4194000"/>
                <a:ext cx="1284120" cy="498600"/>
              </a:xfrm>
              <a:prstGeom prst="line">
                <a:avLst/>
              </a:prstGeom>
              <a:ln w="38160">
                <a:solidFill>
                  <a:srgbClr val="cc00ff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"/>
          <p:cNvGrpSpPr/>
          <p:nvPr/>
        </p:nvGrpSpPr>
        <p:grpSpPr>
          <a:xfrm>
            <a:off x="3281400" y="3839760"/>
            <a:ext cx="2157120" cy="1362600"/>
            <a:chOff x="3281400" y="3839760"/>
            <a:chExt cx="2157120" cy="1362600"/>
          </a:xfrm>
        </p:grpSpPr>
        <p:sp>
          <p:nvSpPr>
            <p:cNvPr id="213" name=""/>
            <p:cNvSpPr/>
            <p:nvPr/>
          </p:nvSpPr>
          <p:spPr>
            <a:xfrm>
              <a:off x="3281400" y="4378320"/>
              <a:ext cx="1477800" cy="82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ont En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or System F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BS.11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771800" y="3839760"/>
              <a:ext cx="666720" cy="9349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327480" y="3468600"/>
            <a:ext cx="2136600" cy="1947960"/>
            <a:chOff x="3327480" y="3468600"/>
            <a:chExt cx="2136600" cy="1947960"/>
          </a:xfrm>
        </p:grpSpPr>
        <p:sp>
          <p:nvSpPr>
            <p:cNvPr id="216" name=""/>
            <p:cNvSpPr/>
            <p:nvPr/>
          </p:nvSpPr>
          <p:spPr>
            <a:xfrm>
              <a:off x="3327480" y="3468600"/>
              <a:ext cx="1373040" cy="82404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ront End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for System D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in BO.15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753080" y="3965400"/>
              <a:ext cx="711000" cy="145116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008760" y="1693800"/>
            <a:ext cx="2693880" cy="520200"/>
            <a:chOff x="6008760" y="1693800"/>
            <a:chExt cx="2693880" cy="520200"/>
          </a:xfrm>
        </p:grpSpPr>
        <p:sp>
          <p:nvSpPr>
            <p:cNvPr id="219" name=""/>
            <p:cNvSpPr/>
            <p:nvPr/>
          </p:nvSpPr>
          <p:spPr>
            <a:xfrm>
              <a:off x="6008760" y="1959120"/>
              <a:ext cx="592200" cy="2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610320" y="1693800"/>
              <a:ext cx="2092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One Segment Reception out of 13 Seg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987480" y="1457280"/>
            <a:ext cx="2179440" cy="1644840"/>
            <a:chOff x="987480" y="1457280"/>
            <a:chExt cx="2179440" cy="1644840"/>
          </a:xfrm>
        </p:grpSpPr>
        <p:pic>
          <p:nvPicPr>
            <p:cNvPr id="222" name="" descr=""/>
            <p:cNvPicPr/>
            <p:nvPr/>
          </p:nvPicPr>
          <p:blipFill>
            <a:blip r:embed="rId5"/>
            <a:stretch/>
          </p:blipFill>
          <p:spPr>
            <a:xfrm>
              <a:off x="987480" y="1457280"/>
              <a:ext cx="2039760" cy="164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1704960" y="2433600"/>
              <a:ext cx="1461960" cy="330120"/>
            </a:xfrm>
            <a:prstGeom prst="line">
              <a:avLst/>
            </a:prstGeom>
            <a:ln w="38160">
              <a:solidFill>
                <a:srgbClr val="cc00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09880" y="1641600"/>
              <a:ext cx="866520" cy="307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SS (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7151760" y="4280040"/>
            <a:ext cx="1814400" cy="1981080"/>
            <a:chOff x="7151760" y="4280040"/>
            <a:chExt cx="1814400" cy="1981080"/>
          </a:xfrm>
        </p:grpSpPr>
        <p:grpSp>
          <p:nvGrpSpPr>
            <p:cNvPr id="226" name=""/>
            <p:cNvGrpSpPr/>
            <p:nvPr/>
          </p:nvGrpSpPr>
          <p:grpSpPr>
            <a:xfrm>
              <a:off x="7431120" y="4280040"/>
              <a:ext cx="1535040" cy="1981080"/>
              <a:chOff x="7431120" y="4280040"/>
              <a:chExt cx="1535040" cy="1981080"/>
            </a:xfrm>
          </p:grpSpPr>
          <p:graphicFrame>
            <p:nvGraphicFramePr>
              <p:cNvPr id="227" name=""/>
              <p:cNvGraphicFramePr/>
              <p:nvPr/>
            </p:nvGraphicFramePr>
            <p:xfrm>
              <a:off x="7431120" y="4280040"/>
              <a:ext cx="1535040" cy="198108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228" name="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7431120" y="4280040"/>
                        <a:ext cx="1535040" cy="1981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229" name=""/>
              <p:cNvGraphicFramePr/>
              <p:nvPr/>
            </p:nvGraphicFramePr>
            <p:xfrm>
              <a:off x="7497720" y="4368600"/>
              <a:ext cx="1371240" cy="81900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230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7497720" y="4368600"/>
                        <a:ext cx="1371240" cy="819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231" name=""/>
            <p:cNvSpPr/>
            <p:nvPr/>
          </p:nvSpPr>
          <p:spPr>
            <a:xfrm flipV="1">
              <a:off x="7151760" y="5713560"/>
              <a:ext cx="403200" cy="144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93560" y="2657520"/>
            <a:ext cx="2791080" cy="1220760"/>
            <a:chOff x="493560" y="2657520"/>
            <a:chExt cx="2791080" cy="1220760"/>
          </a:xfrm>
        </p:grpSpPr>
        <p:sp>
          <p:nvSpPr>
            <p:cNvPr id="233" name=""/>
            <p:cNvSpPr/>
            <p:nvPr/>
          </p:nvSpPr>
          <p:spPr>
            <a:xfrm>
              <a:off x="493560" y="2657520"/>
              <a:ext cx="573120" cy="3070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  <a:effectLst>
              <a:outerShdw dist="107932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  <a:ea typeface="ＭＳ Ｐゴシック"/>
                </a:rPr>
                <a:t>B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34" name=""/>
            <p:cNvGraphicFramePr/>
            <p:nvPr/>
          </p:nvGraphicFramePr>
          <p:xfrm>
            <a:off x="517680" y="3076560"/>
            <a:ext cx="1306440" cy="7048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235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17680" y="3076560"/>
                      <a:ext cx="1306440" cy="704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6" name=""/>
            <p:cNvSpPr/>
            <p:nvPr/>
          </p:nvSpPr>
          <p:spPr>
            <a:xfrm>
              <a:off x="1649520" y="3284640"/>
              <a:ext cx="1635120" cy="593640"/>
            </a:xfrm>
            <a:prstGeom prst="line">
              <a:avLst/>
            </a:prstGeom>
            <a:ln w="38160">
              <a:solidFill>
                <a:srgbClr val="0099cc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teroperability in Multimedia and Data Broadcasting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838080" y="1673280"/>
          <a:ext cx="7770960" cy="3879720"/>
        </p:xfrm>
        <a:graphic>
          <a:graphicData uri="http://schemas.openxmlformats.org/drawingml/2006/table">
            <a:tbl>
              <a:tblPr/>
              <a:tblGrid>
                <a:gridCol w="2055960"/>
                <a:gridCol w="1905120"/>
                <a:gridCol w="1904760"/>
                <a:gridCol w="1905120"/>
              </a:tblGrid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RIB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STD B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VB MHP/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CA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ATSC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97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ta Transmis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ta Carou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Object Carou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Data Carouse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1872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Present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B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-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X-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5760">
                      <a:solidFill>
                        <a:srgbClr val="b2b2b2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969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xecu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ECMA Script</a:t>
                      </a:r>
                      <a:br>
                        <a:rPr sz="2400"/>
                      </a:b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(+ JAV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576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Ｐゴシック"/>
                        </a:rPr>
                        <a:t>JAV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b2b2b2"/>
                      </a:solidFill>
                    </a:lnL>
                    <a:lnR w="18720">
                      <a:solidFill>
                        <a:srgbClr val="b2b2b2"/>
                      </a:solidFill>
                    </a:lnR>
                    <a:lnT w="5760">
                      <a:solidFill>
                        <a:srgbClr val="b2b2b2"/>
                      </a:solidFill>
                    </a:lnT>
                    <a:lnB w="18720">
                      <a:solidFill>
                        <a:srgbClr val="b2b2b2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712800" y="5726160"/>
            <a:ext cx="7989840" cy="4291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07932" dir="27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urrently, JRG-1 is extracting the common parts of these system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0T21:46:10Z</dcterms:created>
  <dc:creator>Shuji Hirakawa</dc:creator>
  <dc:description/>
  <dc:language>en-US</dc:language>
  <cp:lastModifiedBy>Shuji Hirakwa</cp:lastModifiedBy>
  <cp:lastPrinted>2002-02-25T00:21:55Z</cp:lastPrinted>
  <dcterms:modified xsi:type="dcterms:W3CDTF">2002-03-11T23:00:55Z</dcterms:modified>
  <cp:revision>349</cp:revision>
  <dc:subject/>
  <dc:title>MediaCom 2004 Workshop</dc:title>
</cp:coreProperties>
</file>