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02408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367194B-43BC-42DF-8ADF-CEC1E357ACD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ge of J.112 provided media privacy on the cable acces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nd-to-end media encryption using AES-Rijndael to protect against eavesdropping by IPCable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revention of lawfully authorized electronic surveil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study does not mean under consideration of SG9 but considered by any involv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terface between user terminal and IPCablecom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ata encoding and decoding, signaling to CMS,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mbedded and stand-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 communication system AN und C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-rate, reliable and secure transport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ll signaling an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composes into CA to maintain call state and control of MTA and M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d GC to control resource allocation coordination and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TN Gateway with MG, SG and MG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G terminates PSTN trunks, SG to exchange signaling information with SS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IPCablecom zone defined by single CMS and MGC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scenari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TA - MTA with single 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TA - PSTN across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TA - MTA across multiple CMS =&gt; inter-domain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formation of signaling, routing and security information across zones and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ell-defined entry-/exit-point for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A detects events at user terminal (off-hook, dia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ser data encoded with ITU-T Codecs and encapsulated in RTP, UDP,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76320"/>
            <a:ext cx="8153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7632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1680" y="367632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2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400" y="1447560"/>
            <a:ext cx="262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2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76320"/>
            <a:ext cx="262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400" y="3676320"/>
            <a:ext cx="262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6920" y="3676320"/>
            <a:ext cx="262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7632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1680" y="367632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76320"/>
            <a:ext cx="8153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fN_logo" descr=""/>
          <p:cNvPicPr/>
          <p:nvPr/>
        </p:nvPicPr>
        <p:blipFill>
          <a:blip r:embed="rId2"/>
          <a:stretch/>
        </p:blipFill>
        <p:spPr>
          <a:xfrm>
            <a:off x="1371600" y="6095880"/>
            <a:ext cx="18288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95280" y="5867280"/>
            <a:ext cx="527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-Ing. Volker Leisse · Institute for Communications Technology · Braunschweig Technical University · ©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09400" y="5638680"/>
            <a:ext cx="36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PCablecom/Mediacom 2004/Interactivity in 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32600" y="588168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.</a:t>
            </a:r>
            <a:fld id="{D5BB74C2-12BE-4C91-ABB0-C99645C0726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4280" y="5867280"/>
            <a:ext cx="7479000" cy="17640"/>
          </a:xfrm>
          <a:prstGeom prst="rect">
            <a:avLst/>
          </a:prstGeom>
          <a:solidFill>
            <a:srgbClr val="55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TU_Logo_dunkel" descr=""/>
          <p:cNvPicPr/>
          <p:nvPr/>
        </p:nvPicPr>
        <p:blipFill>
          <a:blip r:embed="rId3"/>
          <a:stretch/>
        </p:blipFill>
        <p:spPr>
          <a:xfrm>
            <a:off x="380880" y="5562720"/>
            <a:ext cx="893880" cy="104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U_logo_halb" descr=""/>
          <p:cNvPicPr/>
          <p:nvPr/>
        </p:nvPicPr>
        <p:blipFill>
          <a:blip r:embed="rId1"/>
          <a:stretch/>
        </p:blipFill>
        <p:spPr>
          <a:xfrm>
            <a:off x="6270480" y="0"/>
            <a:ext cx="2873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IPCablecom -</a:t>
            </a:r>
            <a:br>
              <a:rPr sz="2800"/>
            </a:br>
            <a:r>
              <a:rPr b="1" i="1" lang="en-US" sz="2800" spc="-1" strike="noStrike">
                <a:solidFill>
                  <a:srgbClr val="0000cc"/>
                </a:solidFill>
                <a:latin typeface="Verdana"/>
              </a:rPr>
              <a:t>Network and Service Architecture</a:t>
            </a:r>
            <a:endParaRPr b="0" i="1" lang="en-US" sz="28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4571640"/>
            <a:ext cx="44956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pl.-Ing. Volker Leis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e for Communications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unschweig Technical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v.leisse@tu-bs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52560" y="3429000"/>
            <a:ext cx="919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840" y="342900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TU-T Workshop on Multimedia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eneva, 12-15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7520" y="5486400"/>
            <a:ext cx="3908160" cy="1041480"/>
          </a:xfrm>
          <a:prstGeom prst="rect">
            <a:avLst/>
          </a:prstGeom>
          <a:ln w="0">
            <a:noFill/>
          </a:ln>
        </p:spPr>
      </p:pic>
      <p:pic>
        <p:nvPicPr>
          <p:cNvPr id="57" name="ECCALogo" descr=""/>
          <p:cNvPicPr/>
          <p:nvPr/>
        </p:nvPicPr>
        <p:blipFill>
          <a:blip r:embed="rId3"/>
          <a:stretch/>
        </p:blipFill>
        <p:spPr>
          <a:xfrm>
            <a:off x="609480" y="376200"/>
            <a:ext cx="1933560" cy="89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63840" y="3430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p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QoS Interfaces (1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Interface between MTA and CM - J.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 only for embedded M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 access to MAC contro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: request for resource reservation, resource commitment, change of resource allocation and release of resources in cabl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Interface between CM and AN - J.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oS interface of cable communi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: resource reservation, resource commitment, change of resource allocation and release of resources in cabl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QoS Interfaces (2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Interface between MTA and AN - J.16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ReserVation Protocol (RSVP) as defined by IETF with IPCablecom specific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: reservation establishment, reservation change, reservation maintenance, resource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Interface between AN and GC (function of CMS) - J.16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ile of Common Open Policy Service (COPS) as defined by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: allocation and authorization of gates (access control entities for QoS), prevention of theft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e co-ordination based on 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QoS Interfaces (3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Interface among ANs and between AN and PSTN Gateway across - J.1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oS interface in backbone across domain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Integrated Services (IntServ) and Differentiated Services (DiffServ) architectures defined by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approaches to resource reservation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ge router defines border between network segment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lexible choice of QoS mechanisms in differen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-off between level of guaranty and scalability, delay,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Security Interfaces - J.170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mechanism defined for each protocol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 provided include authorization, integrity maintenance, confidentiality ensu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ling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PSec mechanisms as defined by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-to-end encryption of media streams using privacy interfaces of J.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authent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beros with public key initi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Key Exchange (IKE) with X.509 digital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Other Interfaces (1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Event Messages - J.1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represent information important for billing and session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RADIUS as defined by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message set supports event capture and generation for voic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to support addition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generated by trusted elements - CMS, AN, MGC and received by Record Keeping Server (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ted Call Detail Records made available to back-offic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Other Interfaces (2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MTA Device Provisioning - J.166 .. J.16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protocols like DHCP, DNS, SNMPv3, TFTP used to provision client and download MTA configuratio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elationship established between MTA and CMS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Information Bases (MIBs) for MTA and NCS support device provisioning and enable devi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Announcement Services - dra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Services for automated messages (e.g. incomplete c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as event package for NCS with further option based on H.248 unde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Interfaces under study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Signaling between call contro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-CMS, CMS-M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-domain and inter-domain signaling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Line Control Signa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 switch capacity of PSTN for call control in IPCabl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based on V5.2 (in Europe) and GR.303 (in U.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Lawful Interce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law enforcement agencies to intercept call information and call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be provided to collect intercepted data from IPCablecom elements for delivery to law enforcement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by country-specific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Specific Features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Primary Line Support - J.17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for embedded MTA to provide a primary-line capable service using the IPCablecom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reliability to meet consumer’s expectation of high availability (comparable to PSTN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back-up for customer premises’ equip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emergenc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metry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analog POTS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Cablecom is a completely defined end-to-end system to support the delivery of a plethora of packet-based interactive services across cable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 focus is on voic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rough international (ITU-T) and European standardization (ETSI) IPCablecom becomes a globally accepted communication system for cable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rther developments emphasize on support of additional services (beyond vo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5398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Thank you for your attention !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Introduction (1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Cablecom is a multimedia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network of data-ready broadband cabl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, end-to-en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Cablecom enables broad family of real-time packet-base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hase focused on packetized voic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multimedia services like video envisioned for future project ph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 of traditional broadcast service by established interactiv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ation of convergence of data and voice networks with increased load and cost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Introduction (2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Cablecom utilizes cable network, managed IP backbone and PSTN as transport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and interoperable interfaces enable horizontal mar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, routing, and media transport functions sufficient to enable high quality voice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effectively managing QoS on cable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event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provisioning of Customer Premises Equipment (C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-to-end Security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Architecture (1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601992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... Access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 ...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 ... Call Managem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A ... Multimedia Terminal 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60199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... Media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C ... Media Gateway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 ... Signaling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S ... Operational Suppo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46920" y="1403280"/>
            <a:ext cx="1692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erence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61280" y="2689200"/>
            <a:ext cx="1511280" cy="1811160"/>
            <a:chOff x="7361280" y="2689200"/>
            <a:chExt cx="1511280" cy="1811160"/>
          </a:xfrm>
        </p:grpSpPr>
        <p:sp>
          <p:nvSpPr>
            <p:cNvPr id="68" name=""/>
            <p:cNvSpPr/>
            <p:nvPr/>
          </p:nvSpPr>
          <p:spPr>
            <a:xfrm>
              <a:off x="7361280" y="2689200"/>
              <a:ext cx="1511280" cy="1811160"/>
            </a:xfrm>
            <a:custGeom>
              <a:avLst/>
              <a:gdLst/>
              <a:ahLst/>
              <a:rect l="l" t="t" r="r" b="b"/>
              <a:pathLst>
                <a:path w="952" h="951">
                  <a:moveTo>
                    <a:pt x="140" y="706"/>
                  </a:moveTo>
                  <a:lnTo>
                    <a:pt x="152" y="744"/>
                  </a:lnTo>
                  <a:lnTo>
                    <a:pt x="165" y="782"/>
                  </a:lnTo>
                  <a:lnTo>
                    <a:pt x="179" y="815"/>
                  </a:lnTo>
                  <a:lnTo>
                    <a:pt x="196" y="846"/>
                  </a:lnTo>
                  <a:lnTo>
                    <a:pt x="213" y="873"/>
                  </a:lnTo>
                  <a:lnTo>
                    <a:pt x="231" y="896"/>
                  </a:lnTo>
                  <a:lnTo>
                    <a:pt x="251" y="915"/>
                  </a:lnTo>
                  <a:lnTo>
                    <a:pt x="271" y="931"/>
                  </a:lnTo>
                  <a:lnTo>
                    <a:pt x="293" y="941"/>
                  </a:lnTo>
                  <a:lnTo>
                    <a:pt x="315" y="948"/>
                  </a:lnTo>
                  <a:lnTo>
                    <a:pt x="336" y="951"/>
                  </a:lnTo>
                  <a:lnTo>
                    <a:pt x="357" y="948"/>
                  </a:lnTo>
                  <a:lnTo>
                    <a:pt x="378" y="943"/>
                  </a:lnTo>
                  <a:lnTo>
                    <a:pt x="400" y="931"/>
                  </a:lnTo>
                  <a:lnTo>
                    <a:pt x="421" y="916"/>
                  </a:lnTo>
                  <a:lnTo>
                    <a:pt x="440" y="897"/>
                  </a:lnTo>
                  <a:lnTo>
                    <a:pt x="458" y="874"/>
                  </a:lnTo>
                  <a:lnTo>
                    <a:pt x="477" y="847"/>
                  </a:lnTo>
                  <a:lnTo>
                    <a:pt x="494" y="874"/>
                  </a:lnTo>
                  <a:lnTo>
                    <a:pt x="512" y="897"/>
                  </a:lnTo>
                  <a:lnTo>
                    <a:pt x="532" y="916"/>
                  </a:lnTo>
                  <a:lnTo>
                    <a:pt x="552" y="931"/>
                  </a:lnTo>
                  <a:lnTo>
                    <a:pt x="573" y="943"/>
                  </a:lnTo>
                  <a:lnTo>
                    <a:pt x="595" y="948"/>
                  </a:lnTo>
                  <a:lnTo>
                    <a:pt x="617" y="951"/>
                  </a:lnTo>
                  <a:lnTo>
                    <a:pt x="638" y="948"/>
                  </a:lnTo>
                  <a:lnTo>
                    <a:pt x="659" y="941"/>
                  </a:lnTo>
                  <a:lnTo>
                    <a:pt x="681" y="931"/>
                  </a:lnTo>
                  <a:lnTo>
                    <a:pt x="701" y="915"/>
                  </a:lnTo>
                  <a:lnTo>
                    <a:pt x="720" y="896"/>
                  </a:lnTo>
                  <a:lnTo>
                    <a:pt x="739" y="873"/>
                  </a:lnTo>
                  <a:lnTo>
                    <a:pt x="757" y="846"/>
                  </a:lnTo>
                  <a:lnTo>
                    <a:pt x="773" y="815"/>
                  </a:lnTo>
                  <a:lnTo>
                    <a:pt x="788" y="782"/>
                  </a:lnTo>
                  <a:lnTo>
                    <a:pt x="800" y="744"/>
                  </a:lnTo>
                  <a:lnTo>
                    <a:pt x="812" y="706"/>
                  </a:lnTo>
                  <a:lnTo>
                    <a:pt x="827" y="711"/>
                  </a:lnTo>
                  <a:lnTo>
                    <a:pt x="840" y="714"/>
                  </a:lnTo>
                  <a:lnTo>
                    <a:pt x="855" y="711"/>
                  </a:lnTo>
                  <a:lnTo>
                    <a:pt x="870" y="705"/>
                  </a:lnTo>
                  <a:lnTo>
                    <a:pt x="884" y="694"/>
                  </a:lnTo>
                  <a:lnTo>
                    <a:pt x="896" y="681"/>
                  </a:lnTo>
                  <a:lnTo>
                    <a:pt x="909" y="664"/>
                  </a:lnTo>
                  <a:lnTo>
                    <a:pt x="919" y="643"/>
                  </a:lnTo>
                  <a:lnTo>
                    <a:pt x="929" y="620"/>
                  </a:lnTo>
                  <a:lnTo>
                    <a:pt x="937" y="594"/>
                  </a:lnTo>
                  <a:lnTo>
                    <a:pt x="943" y="567"/>
                  </a:lnTo>
                  <a:lnTo>
                    <a:pt x="947" y="537"/>
                  </a:lnTo>
                  <a:lnTo>
                    <a:pt x="951" y="506"/>
                  </a:lnTo>
                  <a:lnTo>
                    <a:pt x="952" y="476"/>
                  </a:lnTo>
                  <a:lnTo>
                    <a:pt x="951" y="445"/>
                  </a:lnTo>
                  <a:lnTo>
                    <a:pt x="947" y="414"/>
                  </a:lnTo>
                  <a:lnTo>
                    <a:pt x="943" y="386"/>
                  </a:lnTo>
                  <a:lnTo>
                    <a:pt x="937" y="357"/>
                  </a:lnTo>
                  <a:lnTo>
                    <a:pt x="929" y="332"/>
                  </a:lnTo>
                  <a:lnTo>
                    <a:pt x="919" y="308"/>
                  </a:lnTo>
                  <a:lnTo>
                    <a:pt x="909" y="288"/>
                  </a:lnTo>
                  <a:lnTo>
                    <a:pt x="896" y="270"/>
                  </a:lnTo>
                  <a:lnTo>
                    <a:pt x="884" y="257"/>
                  </a:lnTo>
                  <a:lnTo>
                    <a:pt x="870" y="247"/>
                  </a:lnTo>
                  <a:lnTo>
                    <a:pt x="855" y="241"/>
                  </a:lnTo>
                  <a:lnTo>
                    <a:pt x="840" y="239"/>
                  </a:lnTo>
                  <a:lnTo>
                    <a:pt x="827" y="240"/>
                  </a:lnTo>
                  <a:lnTo>
                    <a:pt x="812" y="245"/>
                  </a:lnTo>
                  <a:lnTo>
                    <a:pt x="800" y="207"/>
                  </a:lnTo>
                  <a:lnTo>
                    <a:pt x="788" y="170"/>
                  </a:lnTo>
                  <a:lnTo>
                    <a:pt x="773" y="136"/>
                  </a:lnTo>
                  <a:lnTo>
                    <a:pt x="757" y="105"/>
                  </a:lnTo>
                  <a:lnTo>
                    <a:pt x="739" y="79"/>
                  </a:lnTo>
                  <a:lnTo>
                    <a:pt x="720" y="55"/>
                  </a:lnTo>
                  <a:lnTo>
                    <a:pt x="701" y="36"/>
                  </a:lnTo>
                  <a:lnTo>
                    <a:pt x="681" y="21"/>
                  </a:lnTo>
                  <a:lnTo>
                    <a:pt x="659" y="10"/>
                  </a:lnTo>
                  <a:lnTo>
                    <a:pt x="638" y="3"/>
                  </a:lnTo>
                  <a:lnTo>
                    <a:pt x="617" y="0"/>
                  </a:lnTo>
                  <a:lnTo>
                    <a:pt x="595" y="3"/>
                  </a:lnTo>
                  <a:lnTo>
                    <a:pt x="573" y="10"/>
                  </a:lnTo>
                  <a:lnTo>
                    <a:pt x="552" y="20"/>
                  </a:lnTo>
                  <a:lnTo>
                    <a:pt x="532" y="36"/>
                  </a:lnTo>
                  <a:lnTo>
                    <a:pt x="512" y="54"/>
                  </a:lnTo>
                  <a:lnTo>
                    <a:pt x="494" y="78"/>
                  </a:lnTo>
                  <a:lnTo>
                    <a:pt x="477" y="105"/>
                  </a:lnTo>
                  <a:lnTo>
                    <a:pt x="458" y="78"/>
                  </a:lnTo>
                  <a:lnTo>
                    <a:pt x="440" y="54"/>
                  </a:lnTo>
                  <a:lnTo>
                    <a:pt x="421" y="36"/>
                  </a:lnTo>
                  <a:lnTo>
                    <a:pt x="400" y="20"/>
                  </a:lnTo>
                  <a:lnTo>
                    <a:pt x="378" y="10"/>
                  </a:lnTo>
                  <a:lnTo>
                    <a:pt x="357" y="3"/>
                  </a:lnTo>
                  <a:lnTo>
                    <a:pt x="336" y="0"/>
                  </a:lnTo>
                  <a:lnTo>
                    <a:pt x="315" y="3"/>
                  </a:lnTo>
                  <a:lnTo>
                    <a:pt x="293" y="10"/>
                  </a:lnTo>
                  <a:lnTo>
                    <a:pt x="271" y="21"/>
                  </a:lnTo>
                  <a:lnTo>
                    <a:pt x="251" y="36"/>
                  </a:lnTo>
                  <a:lnTo>
                    <a:pt x="231" y="55"/>
                  </a:lnTo>
                  <a:lnTo>
                    <a:pt x="213" y="79"/>
                  </a:lnTo>
                  <a:lnTo>
                    <a:pt x="196" y="105"/>
                  </a:lnTo>
                  <a:lnTo>
                    <a:pt x="179" y="136"/>
                  </a:lnTo>
                  <a:lnTo>
                    <a:pt x="165" y="170"/>
                  </a:lnTo>
                  <a:lnTo>
                    <a:pt x="152" y="207"/>
                  </a:lnTo>
                  <a:lnTo>
                    <a:pt x="140" y="245"/>
                  </a:lnTo>
                  <a:lnTo>
                    <a:pt x="127" y="240"/>
                  </a:lnTo>
                  <a:lnTo>
                    <a:pt x="112" y="239"/>
                  </a:lnTo>
                  <a:lnTo>
                    <a:pt x="97" y="241"/>
                  </a:lnTo>
                  <a:lnTo>
                    <a:pt x="83" y="247"/>
                  </a:lnTo>
                  <a:lnTo>
                    <a:pt x="68" y="257"/>
                  </a:lnTo>
                  <a:lnTo>
                    <a:pt x="56" y="270"/>
                  </a:lnTo>
                  <a:lnTo>
                    <a:pt x="43" y="288"/>
                  </a:lnTo>
                  <a:lnTo>
                    <a:pt x="33" y="308"/>
                  </a:lnTo>
                  <a:lnTo>
                    <a:pt x="23" y="332"/>
                  </a:lnTo>
                  <a:lnTo>
                    <a:pt x="15" y="357"/>
                  </a:lnTo>
                  <a:lnTo>
                    <a:pt x="9" y="386"/>
                  </a:lnTo>
                  <a:lnTo>
                    <a:pt x="5" y="414"/>
                  </a:lnTo>
                  <a:lnTo>
                    <a:pt x="1" y="445"/>
                  </a:lnTo>
                  <a:lnTo>
                    <a:pt x="0" y="476"/>
                  </a:lnTo>
                  <a:lnTo>
                    <a:pt x="1" y="506"/>
                  </a:lnTo>
                  <a:lnTo>
                    <a:pt x="5" y="537"/>
                  </a:lnTo>
                  <a:lnTo>
                    <a:pt x="9" y="567"/>
                  </a:lnTo>
                  <a:lnTo>
                    <a:pt x="15" y="594"/>
                  </a:lnTo>
                  <a:lnTo>
                    <a:pt x="23" y="620"/>
                  </a:lnTo>
                  <a:lnTo>
                    <a:pt x="33" y="643"/>
                  </a:lnTo>
                  <a:lnTo>
                    <a:pt x="43" y="664"/>
                  </a:lnTo>
                  <a:lnTo>
                    <a:pt x="56" y="681"/>
                  </a:lnTo>
                  <a:lnTo>
                    <a:pt x="68" y="694"/>
                  </a:lnTo>
                  <a:lnTo>
                    <a:pt x="83" y="705"/>
                  </a:lnTo>
                  <a:lnTo>
                    <a:pt x="97" y="711"/>
                  </a:lnTo>
                  <a:lnTo>
                    <a:pt x="112" y="714"/>
                  </a:lnTo>
                  <a:lnTo>
                    <a:pt x="127" y="711"/>
                  </a:lnTo>
                  <a:lnTo>
                    <a:pt x="140" y="7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7440" y="3443040"/>
              <a:ext cx="67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292640" y="1587600"/>
            <a:ext cx="2222640" cy="3719520"/>
            <a:chOff x="4292640" y="1587600"/>
            <a:chExt cx="2222640" cy="3719520"/>
          </a:xfrm>
        </p:grpSpPr>
        <p:sp>
          <p:nvSpPr>
            <p:cNvPr id="71" name=""/>
            <p:cNvSpPr/>
            <p:nvPr/>
          </p:nvSpPr>
          <p:spPr>
            <a:xfrm>
              <a:off x="4292640" y="1587600"/>
              <a:ext cx="2222640" cy="3719520"/>
            </a:xfrm>
            <a:custGeom>
              <a:avLst/>
              <a:gdLst/>
              <a:ahLst/>
              <a:rect l="l" t="t" r="r" b="b"/>
              <a:pathLst>
                <a:path w="1400" h="2392">
                  <a:moveTo>
                    <a:pt x="205" y="1775"/>
                  </a:moveTo>
                  <a:lnTo>
                    <a:pt x="216" y="1837"/>
                  </a:lnTo>
                  <a:lnTo>
                    <a:pt x="227" y="1897"/>
                  </a:lnTo>
                  <a:lnTo>
                    <a:pt x="240" y="1954"/>
                  </a:lnTo>
                  <a:lnTo>
                    <a:pt x="252" y="2007"/>
                  </a:lnTo>
                  <a:lnTo>
                    <a:pt x="266" y="2059"/>
                  </a:lnTo>
                  <a:lnTo>
                    <a:pt x="281" y="2108"/>
                  </a:lnTo>
                  <a:lnTo>
                    <a:pt x="297" y="2152"/>
                  </a:lnTo>
                  <a:lnTo>
                    <a:pt x="313" y="2193"/>
                  </a:lnTo>
                  <a:lnTo>
                    <a:pt x="328" y="2232"/>
                  </a:lnTo>
                  <a:lnTo>
                    <a:pt x="347" y="2266"/>
                  </a:lnTo>
                  <a:lnTo>
                    <a:pt x="364" y="2295"/>
                  </a:lnTo>
                  <a:lnTo>
                    <a:pt x="383" y="2322"/>
                  </a:lnTo>
                  <a:lnTo>
                    <a:pt x="401" y="2344"/>
                  </a:lnTo>
                  <a:lnTo>
                    <a:pt x="421" y="2363"/>
                  </a:lnTo>
                  <a:lnTo>
                    <a:pt x="440" y="2376"/>
                  </a:lnTo>
                  <a:lnTo>
                    <a:pt x="460" y="2385"/>
                  </a:lnTo>
                  <a:lnTo>
                    <a:pt x="479" y="2391"/>
                  </a:lnTo>
                  <a:lnTo>
                    <a:pt x="499" y="2392"/>
                  </a:lnTo>
                  <a:lnTo>
                    <a:pt x="519" y="2389"/>
                  </a:lnTo>
                  <a:lnTo>
                    <a:pt x="538" y="2382"/>
                  </a:lnTo>
                  <a:lnTo>
                    <a:pt x="558" y="2370"/>
                  </a:lnTo>
                  <a:lnTo>
                    <a:pt x="577" y="2354"/>
                  </a:lnTo>
                  <a:lnTo>
                    <a:pt x="596" y="2333"/>
                  </a:lnTo>
                  <a:lnTo>
                    <a:pt x="615" y="2309"/>
                  </a:lnTo>
                  <a:lnTo>
                    <a:pt x="633" y="2281"/>
                  </a:lnTo>
                  <a:lnTo>
                    <a:pt x="651" y="2249"/>
                  </a:lnTo>
                  <a:lnTo>
                    <a:pt x="668" y="2212"/>
                  </a:lnTo>
                  <a:lnTo>
                    <a:pt x="684" y="2174"/>
                  </a:lnTo>
                  <a:lnTo>
                    <a:pt x="700" y="2130"/>
                  </a:lnTo>
                  <a:lnTo>
                    <a:pt x="716" y="2174"/>
                  </a:lnTo>
                  <a:lnTo>
                    <a:pt x="732" y="2212"/>
                  </a:lnTo>
                  <a:lnTo>
                    <a:pt x="749" y="2249"/>
                  </a:lnTo>
                  <a:lnTo>
                    <a:pt x="767" y="2281"/>
                  </a:lnTo>
                  <a:lnTo>
                    <a:pt x="786" y="2309"/>
                  </a:lnTo>
                  <a:lnTo>
                    <a:pt x="804" y="2333"/>
                  </a:lnTo>
                  <a:lnTo>
                    <a:pt x="823" y="2354"/>
                  </a:lnTo>
                  <a:lnTo>
                    <a:pt x="843" y="2370"/>
                  </a:lnTo>
                  <a:lnTo>
                    <a:pt x="862" y="2382"/>
                  </a:lnTo>
                  <a:lnTo>
                    <a:pt x="881" y="2389"/>
                  </a:lnTo>
                  <a:lnTo>
                    <a:pt x="901" y="2392"/>
                  </a:lnTo>
                  <a:lnTo>
                    <a:pt x="921" y="2391"/>
                  </a:lnTo>
                  <a:lnTo>
                    <a:pt x="941" y="2385"/>
                  </a:lnTo>
                  <a:lnTo>
                    <a:pt x="960" y="2376"/>
                  </a:lnTo>
                  <a:lnTo>
                    <a:pt x="979" y="2363"/>
                  </a:lnTo>
                  <a:lnTo>
                    <a:pt x="999" y="2344"/>
                  </a:lnTo>
                  <a:lnTo>
                    <a:pt x="1017" y="2322"/>
                  </a:lnTo>
                  <a:lnTo>
                    <a:pt x="1035" y="2295"/>
                  </a:lnTo>
                  <a:lnTo>
                    <a:pt x="1054" y="2266"/>
                  </a:lnTo>
                  <a:lnTo>
                    <a:pt x="1071" y="2232"/>
                  </a:lnTo>
                  <a:lnTo>
                    <a:pt x="1088" y="2193"/>
                  </a:lnTo>
                  <a:lnTo>
                    <a:pt x="1104" y="2152"/>
                  </a:lnTo>
                  <a:lnTo>
                    <a:pt x="1120" y="2108"/>
                  </a:lnTo>
                  <a:lnTo>
                    <a:pt x="1135" y="2059"/>
                  </a:lnTo>
                  <a:lnTo>
                    <a:pt x="1148" y="2007"/>
                  </a:lnTo>
                  <a:lnTo>
                    <a:pt x="1161" y="1954"/>
                  </a:lnTo>
                  <a:lnTo>
                    <a:pt x="1173" y="1897"/>
                  </a:lnTo>
                  <a:lnTo>
                    <a:pt x="1185" y="1837"/>
                  </a:lnTo>
                  <a:lnTo>
                    <a:pt x="1194" y="1775"/>
                  </a:lnTo>
                  <a:lnTo>
                    <a:pt x="1209" y="1786"/>
                  </a:lnTo>
                  <a:lnTo>
                    <a:pt x="1222" y="1792"/>
                  </a:lnTo>
                  <a:lnTo>
                    <a:pt x="1237" y="1794"/>
                  </a:lnTo>
                  <a:lnTo>
                    <a:pt x="1251" y="1792"/>
                  </a:lnTo>
                  <a:lnTo>
                    <a:pt x="1266" y="1785"/>
                  </a:lnTo>
                  <a:lnTo>
                    <a:pt x="1279" y="1773"/>
                  </a:lnTo>
                  <a:lnTo>
                    <a:pt x="1293" y="1757"/>
                  </a:lnTo>
                  <a:lnTo>
                    <a:pt x="1306" y="1737"/>
                  </a:lnTo>
                  <a:lnTo>
                    <a:pt x="1318" y="1712"/>
                  </a:lnTo>
                  <a:lnTo>
                    <a:pt x="1331" y="1685"/>
                  </a:lnTo>
                  <a:lnTo>
                    <a:pt x="1342" y="1653"/>
                  </a:lnTo>
                  <a:lnTo>
                    <a:pt x="1352" y="1618"/>
                  </a:lnTo>
                  <a:lnTo>
                    <a:pt x="1363" y="1579"/>
                  </a:lnTo>
                  <a:lnTo>
                    <a:pt x="1371" y="1538"/>
                  </a:lnTo>
                  <a:lnTo>
                    <a:pt x="1378" y="1493"/>
                  </a:lnTo>
                  <a:lnTo>
                    <a:pt x="1385" y="1448"/>
                  </a:lnTo>
                  <a:lnTo>
                    <a:pt x="1390" y="1400"/>
                  </a:lnTo>
                  <a:lnTo>
                    <a:pt x="1394" y="1350"/>
                  </a:lnTo>
                  <a:lnTo>
                    <a:pt x="1398" y="1300"/>
                  </a:lnTo>
                  <a:lnTo>
                    <a:pt x="1399" y="1248"/>
                  </a:lnTo>
                  <a:lnTo>
                    <a:pt x="1400" y="1196"/>
                  </a:lnTo>
                  <a:lnTo>
                    <a:pt x="1399" y="1145"/>
                  </a:lnTo>
                  <a:lnTo>
                    <a:pt x="1398" y="1092"/>
                  </a:lnTo>
                  <a:lnTo>
                    <a:pt x="1394" y="1042"/>
                  </a:lnTo>
                  <a:lnTo>
                    <a:pt x="1390" y="992"/>
                  </a:lnTo>
                  <a:lnTo>
                    <a:pt x="1385" y="944"/>
                  </a:lnTo>
                  <a:lnTo>
                    <a:pt x="1378" y="899"/>
                  </a:lnTo>
                  <a:lnTo>
                    <a:pt x="1371" y="854"/>
                  </a:lnTo>
                  <a:lnTo>
                    <a:pt x="1363" y="813"/>
                  </a:lnTo>
                  <a:lnTo>
                    <a:pt x="1352" y="775"/>
                  </a:lnTo>
                  <a:lnTo>
                    <a:pt x="1342" y="739"/>
                  </a:lnTo>
                  <a:lnTo>
                    <a:pt x="1331" y="708"/>
                  </a:lnTo>
                  <a:lnTo>
                    <a:pt x="1318" y="680"/>
                  </a:lnTo>
                  <a:lnTo>
                    <a:pt x="1306" y="656"/>
                  </a:lnTo>
                  <a:lnTo>
                    <a:pt x="1293" y="636"/>
                  </a:lnTo>
                  <a:lnTo>
                    <a:pt x="1279" y="620"/>
                  </a:lnTo>
                  <a:lnTo>
                    <a:pt x="1266" y="608"/>
                  </a:lnTo>
                  <a:lnTo>
                    <a:pt x="1251" y="600"/>
                  </a:lnTo>
                  <a:lnTo>
                    <a:pt x="1237" y="598"/>
                  </a:lnTo>
                  <a:lnTo>
                    <a:pt x="1222" y="600"/>
                  </a:lnTo>
                  <a:lnTo>
                    <a:pt x="1209" y="606"/>
                  </a:lnTo>
                  <a:lnTo>
                    <a:pt x="1194" y="617"/>
                  </a:lnTo>
                  <a:lnTo>
                    <a:pt x="1185" y="556"/>
                  </a:lnTo>
                  <a:lnTo>
                    <a:pt x="1173" y="495"/>
                  </a:lnTo>
                  <a:lnTo>
                    <a:pt x="1161" y="438"/>
                  </a:lnTo>
                  <a:lnTo>
                    <a:pt x="1148" y="385"/>
                  </a:lnTo>
                  <a:lnTo>
                    <a:pt x="1135" y="334"/>
                  </a:lnTo>
                  <a:lnTo>
                    <a:pt x="1120" y="286"/>
                  </a:lnTo>
                  <a:lnTo>
                    <a:pt x="1104" y="240"/>
                  </a:lnTo>
                  <a:lnTo>
                    <a:pt x="1088" y="199"/>
                  </a:lnTo>
                  <a:lnTo>
                    <a:pt x="1071" y="162"/>
                  </a:lnTo>
                  <a:lnTo>
                    <a:pt x="1054" y="127"/>
                  </a:lnTo>
                  <a:lnTo>
                    <a:pt x="1035" y="97"/>
                  </a:lnTo>
                  <a:lnTo>
                    <a:pt x="1017" y="70"/>
                  </a:lnTo>
                  <a:lnTo>
                    <a:pt x="999" y="49"/>
                  </a:lnTo>
                  <a:lnTo>
                    <a:pt x="979" y="31"/>
                  </a:lnTo>
                  <a:lnTo>
                    <a:pt x="960" y="16"/>
                  </a:lnTo>
                  <a:lnTo>
                    <a:pt x="941" y="7"/>
                  </a:lnTo>
                  <a:lnTo>
                    <a:pt x="921" y="1"/>
                  </a:lnTo>
                  <a:lnTo>
                    <a:pt x="901" y="0"/>
                  </a:lnTo>
                  <a:lnTo>
                    <a:pt x="881" y="3"/>
                  </a:lnTo>
                  <a:lnTo>
                    <a:pt x="862" y="11"/>
                  </a:lnTo>
                  <a:lnTo>
                    <a:pt x="843" y="23"/>
                  </a:lnTo>
                  <a:lnTo>
                    <a:pt x="823" y="39"/>
                  </a:lnTo>
                  <a:lnTo>
                    <a:pt x="804" y="59"/>
                  </a:lnTo>
                  <a:lnTo>
                    <a:pt x="786" y="83"/>
                  </a:lnTo>
                  <a:lnTo>
                    <a:pt x="767" y="111"/>
                  </a:lnTo>
                  <a:lnTo>
                    <a:pt x="749" y="143"/>
                  </a:lnTo>
                  <a:lnTo>
                    <a:pt x="732" y="180"/>
                  </a:lnTo>
                  <a:lnTo>
                    <a:pt x="716" y="220"/>
                  </a:lnTo>
                  <a:lnTo>
                    <a:pt x="700" y="262"/>
                  </a:lnTo>
                  <a:lnTo>
                    <a:pt x="684" y="220"/>
                  </a:lnTo>
                  <a:lnTo>
                    <a:pt x="668" y="180"/>
                  </a:lnTo>
                  <a:lnTo>
                    <a:pt x="651" y="143"/>
                  </a:lnTo>
                  <a:lnTo>
                    <a:pt x="633" y="111"/>
                  </a:lnTo>
                  <a:lnTo>
                    <a:pt x="615" y="83"/>
                  </a:lnTo>
                  <a:lnTo>
                    <a:pt x="596" y="59"/>
                  </a:lnTo>
                  <a:lnTo>
                    <a:pt x="577" y="39"/>
                  </a:lnTo>
                  <a:lnTo>
                    <a:pt x="558" y="23"/>
                  </a:lnTo>
                  <a:lnTo>
                    <a:pt x="538" y="11"/>
                  </a:lnTo>
                  <a:lnTo>
                    <a:pt x="519" y="3"/>
                  </a:lnTo>
                  <a:lnTo>
                    <a:pt x="499" y="0"/>
                  </a:lnTo>
                  <a:lnTo>
                    <a:pt x="479" y="1"/>
                  </a:lnTo>
                  <a:lnTo>
                    <a:pt x="460" y="7"/>
                  </a:lnTo>
                  <a:lnTo>
                    <a:pt x="440" y="16"/>
                  </a:lnTo>
                  <a:lnTo>
                    <a:pt x="421" y="31"/>
                  </a:lnTo>
                  <a:lnTo>
                    <a:pt x="401" y="49"/>
                  </a:lnTo>
                  <a:lnTo>
                    <a:pt x="383" y="70"/>
                  </a:lnTo>
                  <a:lnTo>
                    <a:pt x="364" y="97"/>
                  </a:lnTo>
                  <a:lnTo>
                    <a:pt x="347" y="127"/>
                  </a:lnTo>
                  <a:lnTo>
                    <a:pt x="328" y="162"/>
                  </a:lnTo>
                  <a:lnTo>
                    <a:pt x="313" y="199"/>
                  </a:lnTo>
                  <a:lnTo>
                    <a:pt x="297" y="240"/>
                  </a:lnTo>
                  <a:lnTo>
                    <a:pt x="281" y="286"/>
                  </a:lnTo>
                  <a:lnTo>
                    <a:pt x="266" y="334"/>
                  </a:lnTo>
                  <a:lnTo>
                    <a:pt x="252" y="385"/>
                  </a:lnTo>
                  <a:lnTo>
                    <a:pt x="240" y="438"/>
                  </a:lnTo>
                  <a:lnTo>
                    <a:pt x="227" y="495"/>
                  </a:lnTo>
                  <a:lnTo>
                    <a:pt x="216" y="556"/>
                  </a:lnTo>
                  <a:lnTo>
                    <a:pt x="205" y="617"/>
                  </a:lnTo>
                  <a:lnTo>
                    <a:pt x="192" y="606"/>
                  </a:lnTo>
                  <a:lnTo>
                    <a:pt x="178" y="600"/>
                  </a:lnTo>
                  <a:lnTo>
                    <a:pt x="163" y="598"/>
                  </a:lnTo>
                  <a:lnTo>
                    <a:pt x="149" y="600"/>
                  </a:lnTo>
                  <a:lnTo>
                    <a:pt x="135" y="608"/>
                  </a:lnTo>
                  <a:lnTo>
                    <a:pt x="121" y="620"/>
                  </a:lnTo>
                  <a:lnTo>
                    <a:pt x="107" y="636"/>
                  </a:lnTo>
                  <a:lnTo>
                    <a:pt x="95" y="656"/>
                  </a:lnTo>
                  <a:lnTo>
                    <a:pt x="81" y="680"/>
                  </a:lnTo>
                  <a:lnTo>
                    <a:pt x="70" y="708"/>
                  </a:lnTo>
                  <a:lnTo>
                    <a:pt x="58" y="739"/>
                  </a:lnTo>
                  <a:lnTo>
                    <a:pt x="48" y="775"/>
                  </a:lnTo>
                  <a:lnTo>
                    <a:pt x="38" y="813"/>
                  </a:lnTo>
                  <a:lnTo>
                    <a:pt x="30" y="854"/>
                  </a:lnTo>
                  <a:lnTo>
                    <a:pt x="22" y="899"/>
                  </a:lnTo>
                  <a:lnTo>
                    <a:pt x="15" y="944"/>
                  </a:lnTo>
                  <a:lnTo>
                    <a:pt x="10" y="992"/>
                  </a:lnTo>
                  <a:lnTo>
                    <a:pt x="6" y="1042"/>
                  </a:lnTo>
                  <a:lnTo>
                    <a:pt x="2" y="1092"/>
                  </a:lnTo>
                  <a:lnTo>
                    <a:pt x="0" y="1145"/>
                  </a:lnTo>
                  <a:lnTo>
                    <a:pt x="0" y="1196"/>
                  </a:lnTo>
                  <a:lnTo>
                    <a:pt x="0" y="1248"/>
                  </a:lnTo>
                  <a:lnTo>
                    <a:pt x="2" y="1300"/>
                  </a:lnTo>
                  <a:lnTo>
                    <a:pt x="6" y="1350"/>
                  </a:lnTo>
                  <a:lnTo>
                    <a:pt x="10" y="1400"/>
                  </a:lnTo>
                  <a:lnTo>
                    <a:pt x="15" y="1448"/>
                  </a:lnTo>
                  <a:lnTo>
                    <a:pt x="22" y="1493"/>
                  </a:lnTo>
                  <a:lnTo>
                    <a:pt x="30" y="1538"/>
                  </a:lnTo>
                  <a:lnTo>
                    <a:pt x="38" y="1579"/>
                  </a:lnTo>
                  <a:lnTo>
                    <a:pt x="48" y="1618"/>
                  </a:lnTo>
                  <a:lnTo>
                    <a:pt x="58" y="1653"/>
                  </a:lnTo>
                  <a:lnTo>
                    <a:pt x="70" y="1685"/>
                  </a:lnTo>
                  <a:lnTo>
                    <a:pt x="81" y="1712"/>
                  </a:lnTo>
                  <a:lnTo>
                    <a:pt x="95" y="1737"/>
                  </a:lnTo>
                  <a:lnTo>
                    <a:pt x="107" y="1757"/>
                  </a:lnTo>
                  <a:lnTo>
                    <a:pt x="121" y="1773"/>
                  </a:lnTo>
                  <a:lnTo>
                    <a:pt x="135" y="1785"/>
                  </a:lnTo>
                  <a:lnTo>
                    <a:pt x="149" y="1792"/>
                  </a:lnTo>
                  <a:lnTo>
                    <a:pt x="163" y="1794"/>
                  </a:lnTo>
                  <a:lnTo>
                    <a:pt x="178" y="1792"/>
                  </a:lnTo>
                  <a:lnTo>
                    <a:pt x="192" y="1786"/>
                  </a:lnTo>
                  <a:lnTo>
                    <a:pt x="205" y="177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91240" y="3164040"/>
              <a:ext cx="14065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aged IP Backb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307200" y="2606760"/>
            <a:ext cx="1146240" cy="16873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81360" y="3728880"/>
            <a:ext cx="1463760" cy="1657440"/>
          </a:xfrm>
          <a:custGeom>
            <a:avLst/>
            <a:gdLst/>
            <a:ahLst/>
            <a:rect l="l" t="t" r="r" b="b"/>
            <a:pathLst>
              <a:path w="1143" h="929">
                <a:moveTo>
                  <a:pt x="974" y="239"/>
                </a:moveTo>
                <a:lnTo>
                  <a:pt x="961" y="202"/>
                </a:lnTo>
                <a:lnTo>
                  <a:pt x="945" y="165"/>
                </a:lnTo>
                <a:lnTo>
                  <a:pt x="928" y="132"/>
                </a:lnTo>
                <a:lnTo>
                  <a:pt x="908" y="103"/>
                </a:lnTo>
                <a:lnTo>
                  <a:pt x="887" y="77"/>
                </a:lnTo>
                <a:lnTo>
                  <a:pt x="865" y="54"/>
                </a:lnTo>
                <a:lnTo>
                  <a:pt x="841" y="34"/>
                </a:lnTo>
                <a:lnTo>
                  <a:pt x="816" y="20"/>
                </a:lnTo>
                <a:lnTo>
                  <a:pt x="791" y="9"/>
                </a:lnTo>
                <a:lnTo>
                  <a:pt x="766" y="2"/>
                </a:lnTo>
                <a:lnTo>
                  <a:pt x="739" y="0"/>
                </a:lnTo>
                <a:lnTo>
                  <a:pt x="713" y="2"/>
                </a:lnTo>
                <a:lnTo>
                  <a:pt x="688" y="8"/>
                </a:lnTo>
                <a:lnTo>
                  <a:pt x="662" y="20"/>
                </a:lnTo>
                <a:lnTo>
                  <a:pt x="638" y="34"/>
                </a:lnTo>
                <a:lnTo>
                  <a:pt x="614" y="53"/>
                </a:lnTo>
                <a:lnTo>
                  <a:pt x="592" y="75"/>
                </a:lnTo>
                <a:lnTo>
                  <a:pt x="571" y="102"/>
                </a:lnTo>
                <a:lnTo>
                  <a:pt x="550" y="75"/>
                </a:lnTo>
                <a:lnTo>
                  <a:pt x="527" y="53"/>
                </a:lnTo>
                <a:lnTo>
                  <a:pt x="503" y="34"/>
                </a:lnTo>
                <a:lnTo>
                  <a:pt x="480" y="20"/>
                </a:lnTo>
                <a:lnTo>
                  <a:pt x="454" y="8"/>
                </a:lnTo>
                <a:lnTo>
                  <a:pt x="428" y="2"/>
                </a:lnTo>
                <a:lnTo>
                  <a:pt x="402" y="0"/>
                </a:lnTo>
                <a:lnTo>
                  <a:pt x="376" y="2"/>
                </a:lnTo>
                <a:lnTo>
                  <a:pt x="351" y="9"/>
                </a:lnTo>
                <a:lnTo>
                  <a:pt x="326" y="20"/>
                </a:lnTo>
                <a:lnTo>
                  <a:pt x="301" y="34"/>
                </a:lnTo>
                <a:lnTo>
                  <a:pt x="277" y="54"/>
                </a:lnTo>
                <a:lnTo>
                  <a:pt x="255" y="77"/>
                </a:lnTo>
                <a:lnTo>
                  <a:pt x="233" y="103"/>
                </a:lnTo>
                <a:lnTo>
                  <a:pt x="214" y="132"/>
                </a:lnTo>
                <a:lnTo>
                  <a:pt x="197" y="165"/>
                </a:lnTo>
                <a:lnTo>
                  <a:pt x="181" y="202"/>
                </a:lnTo>
                <a:lnTo>
                  <a:pt x="167" y="239"/>
                </a:lnTo>
                <a:lnTo>
                  <a:pt x="150" y="234"/>
                </a:lnTo>
                <a:lnTo>
                  <a:pt x="133" y="233"/>
                </a:lnTo>
                <a:lnTo>
                  <a:pt x="115" y="235"/>
                </a:lnTo>
                <a:lnTo>
                  <a:pt x="98" y="241"/>
                </a:lnTo>
                <a:lnTo>
                  <a:pt x="82" y="251"/>
                </a:lnTo>
                <a:lnTo>
                  <a:pt x="66" y="265"/>
                </a:lnTo>
                <a:lnTo>
                  <a:pt x="51" y="280"/>
                </a:lnTo>
                <a:lnTo>
                  <a:pt x="38" y="301"/>
                </a:lnTo>
                <a:lnTo>
                  <a:pt x="27" y="324"/>
                </a:lnTo>
                <a:lnTo>
                  <a:pt x="17" y="349"/>
                </a:lnTo>
                <a:lnTo>
                  <a:pt x="9" y="376"/>
                </a:lnTo>
                <a:lnTo>
                  <a:pt x="3" y="405"/>
                </a:lnTo>
                <a:lnTo>
                  <a:pt x="0" y="434"/>
                </a:lnTo>
                <a:lnTo>
                  <a:pt x="0" y="465"/>
                </a:lnTo>
                <a:lnTo>
                  <a:pt x="0" y="495"/>
                </a:lnTo>
                <a:lnTo>
                  <a:pt x="3" y="524"/>
                </a:lnTo>
                <a:lnTo>
                  <a:pt x="9" y="553"/>
                </a:lnTo>
                <a:lnTo>
                  <a:pt x="17" y="580"/>
                </a:lnTo>
                <a:lnTo>
                  <a:pt x="27" y="605"/>
                </a:lnTo>
                <a:lnTo>
                  <a:pt x="38" y="628"/>
                </a:lnTo>
                <a:lnTo>
                  <a:pt x="51" y="648"/>
                </a:lnTo>
                <a:lnTo>
                  <a:pt x="66" y="666"/>
                </a:lnTo>
                <a:lnTo>
                  <a:pt x="82" y="679"/>
                </a:lnTo>
                <a:lnTo>
                  <a:pt x="98" y="688"/>
                </a:lnTo>
                <a:lnTo>
                  <a:pt x="115" y="695"/>
                </a:lnTo>
                <a:lnTo>
                  <a:pt x="133" y="697"/>
                </a:lnTo>
                <a:lnTo>
                  <a:pt x="150" y="695"/>
                </a:lnTo>
                <a:lnTo>
                  <a:pt x="167" y="689"/>
                </a:lnTo>
                <a:lnTo>
                  <a:pt x="181" y="728"/>
                </a:lnTo>
                <a:lnTo>
                  <a:pt x="197" y="764"/>
                </a:lnTo>
                <a:lnTo>
                  <a:pt x="214" y="797"/>
                </a:lnTo>
                <a:lnTo>
                  <a:pt x="233" y="826"/>
                </a:lnTo>
                <a:lnTo>
                  <a:pt x="255" y="852"/>
                </a:lnTo>
                <a:lnTo>
                  <a:pt x="277" y="875"/>
                </a:lnTo>
                <a:lnTo>
                  <a:pt x="301" y="895"/>
                </a:lnTo>
                <a:lnTo>
                  <a:pt x="326" y="909"/>
                </a:lnTo>
                <a:lnTo>
                  <a:pt x="351" y="921"/>
                </a:lnTo>
                <a:lnTo>
                  <a:pt x="376" y="928"/>
                </a:lnTo>
                <a:lnTo>
                  <a:pt x="402" y="929"/>
                </a:lnTo>
                <a:lnTo>
                  <a:pt x="428" y="928"/>
                </a:lnTo>
                <a:lnTo>
                  <a:pt x="454" y="921"/>
                </a:lnTo>
                <a:lnTo>
                  <a:pt x="480" y="911"/>
                </a:lnTo>
                <a:lnTo>
                  <a:pt x="503" y="896"/>
                </a:lnTo>
                <a:lnTo>
                  <a:pt x="527" y="876"/>
                </a:lnTo>
                <a:lnTo>
                  <a:pt x="550" y="854"/>
                </a:lnTo>
                <a:lnTo>
                  <a:pt x="571" y="827"/>
                </a:lnTo>
                <a:lnTo>
                  <a:pt x="592" y="854"/>
                </a:lnTo>
                <a:lnTo>
                  <a:pt x="614" y="876"/>
                </a:lnTo>
                <a:lnTo>
                  <a:pt x="638" y="896"/>
                </a:lnTo>
                <a:lnTo>
                  <a:pt x="662" y="911"/>
                </a:lnTo>
                <a:lnTo>
                  <a:pt x="688" y="921"/>
                </a:lnTo>
                <a:lnTo>
                  <a:pt x="713" y="928"/>
                </a:lnTo>
                <a:lnTo>
                  <a:pt x="739" y="929"/>
                </a:lnTo>
                <a:lnTo>
                  <a:pt x="766" y="928"/>
                </a:lnTo>
                <a:lnTo>
                  <a:pt x="791" y="921"/>
                </a:lnTo>
                <a:lnTo>
                  <a:pt x="816" y="909"/>
                </a:lnTo>
                <a:lnTo>
                  <a:pt x="841" y="895"/>
                </a:lnTo>
                <a:lnTo>
                  <a:pt x="865" y="875"/>
                </a:lnTo>
                <a:lnTo>
                  <a:pt x="887" y="852"/>
                </a:lnTo>
                <a:lnTo>
                  <a:pt x="908" y="826"/>
                </a:lnTo>
                <a:lnTo>
                  <a:pt x="928" y="797"/>
                </a:lnTo>
                <a:lnTo>
                  <a:pt x="945" y="764"/>
                </a:lnTo>
                <a:lnTo>
                  <a:pt x="961" y="728"/>
                </a:lnTo>
                <a:lnTo>
                  <a:pt x="974" y="689"/>
                </a:lnTo>
                <a:lnTo>
                  <a:pt x="991" y="695"/>
                </a:lnTo>
                <a:lnTo>
                  <a:pt x="1010" y="697"/>
                </a:lnTo>
                <a:lnTo>
                  <a:pt x="1027" y="695"/>
                </a:lnTo>
                <a:lnTo>
                  <a:pt x="1044" y="688"/>
                </a:lnTo>
                <a:lnTo>
                  <a:pt x="1060" y="679"/>
                </a:lnTo>
                <a:lnTo>
                  <a:pt x="1076" y="666"/>
                </a:lnTo>
                <a:lnTo>
                  <a:pt x="1091" y="648"/>
                </a:lnTo>
                <a:lnTo>
                  <a:pt x="1103" y="628"/>
                </a:lnTo>
                <a:lnTo>
                  <a:pt x="1115" y="605"/>
                </a:lnTo>
                <a:lnTo>
                  <a:pt x="1125" y="580"/>
                </a:lnTo>
                <a:lnTo>
                  <a:pt x="1133" y="553"/>
                </a:lnTo>
                <a:lnTo>
                  <a:pt x="1138" y="524"/>
                </a:lnTo>
                <a:lnTo>
                  <a:pt x="1142" y="495"/>
                </a:lnTo>
                <a:lnTo>
                  <a:pt x="1143" y="465"/>
                </a:lnTo>
                <a:lnTo>
                  <a:pt x="1142" y="434"/>
                </a:lnTo>
                <a:lnTo>
                  <a:pt x="1138" y="405"/>
                </a:lnTo>
                <a:lnTo>
                  <a:pt x="1133" y="376"/>
                </a:lnTo>
                <a:lnTo>
                  <a:pt x="1125" y="349"/>
                </a:lnTo>
                <a:lnTo>
                  <a:pt x="1115" y="324"/>
                </a:lnTo>
                <a:lnTo>
                  <a:pt x="1103" y="301"/>
                </a:lnTo>
                <a:lnTo>
                  <a:pt x="1091" y="280"/>
                </a:lnTo>
                <a:lnTo>
                  <a:pt x="1076" y="265"/>
                </a:lnTo>
                <a:lnTo>
                  <a:pt x="1060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1" y="234"/>
                </a:lnTo>
                <a:lnTo>
                  <a:pt x="974" y="23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44800" y="4253040"/>
            <a:ext cx="1136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40440" y="1320840"/>
            <a:ext cx="824040" cy="70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50080" y="1400040"/>
            <a:ext cx="825480" cy="703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184640" y="1357200"/>
            <a:ext cx="1245960" cy="852480"/>
            <a:chOff x="4184640" y="1357200"/>
            <a:chExt cx="1245960" cy="852480"/>
          </a:xfrm>
        </p:grpSpPr>
        <p:sp>
          <p:nvSpPr>
            <p:cNvPr id="79" name=""/>
            <p:cNvSpPr/>
            <p:nvPr/>
          </p:nvSpPr>
          <p:spPr>
            <a:xfrm>
              <a:off x="4184640" y="1357200"/>
              <a:ext cx="1245960" cy="8524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25200" y="163188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265480" y="1569960"/>
            <a:ext cx="1814400" cy="1476360"/>
          </a:xfrm>
          <a:custGeom>
            <a:avLst/>
            <a:gdLst/>
            <a:ahLst/>
            <a:rect l="l" t="t" r="r" b="b"/>
            <a:pathLst>
              <a:path w="1143" h="930">
                <a:moveTo>
                  <a:pt x="976" y="241"/>
                </a:moveTo>
                <a:lnTo>
                  <a:pt x="962" y="202"/>
                </a:lnTo>
                <a:lnTo>
                  <a:pt x="946" y="167"/>
                </a:lnTo>
                <a:lnTo>
                  <a:pt x="928" y="134"/>
                </a:lnTo>
                <a:lnTo>
                  <a:pt x="908" y="104"/>
                </a:lnTo>
                <a:lnTo>
                  <a:pt x="888" y="77"/>
                </a:lnTo>
                <a:lnTo>
                  <a:pt x="865" y="54"/>
                </a:lnTo>
                <a:lnTo>
                  <a:pt x="841" y="36"/>
                </a:lnTo>
                <a:lnTo>
                  <a:pt x="817" y="20"/>
                </a:lnTo>
                <a:lnTo>
                  <a:pt x="792" y="9"/>
                </a:lnTo>
                <a:lnTo>
                  <a:pt x="766" y="3"/>
                </a:lnTo>
                <a:lnTo>
                  <a:pt x="740" y="0"/>
                </a:lnTo>
                <a:lnTo>
                  <a:pt x="715" y="3"/>
                </a:lnTo>
                <a:lnTo>
                  <a:pt x="688" y="9"/>
                </a:lnTo>
                <a:lnTo>
                  <a:pt x="663" y="20"/>
                </a:lnTo>
                <a:lnTo>
                  <a:pt x="638" y="35"/>
                </a:lnTo>
                <a:lnTo>
                  <a:pt x="615" y="54"/>
                </a:lnTo>
                <a:lnTo>
                  <a:pt x="593" y="77"/>
                </a:lnTo>
                <a:lnTo>
                  <a:pt x="572" y="103"/>
                </a:lnTo>
                <a:lnTo>
                  <a:pt x="550" y="77"/>
                </a:lnTo>
                <a:lnTo>
                  <a:pt x="528" y="54"/>
                </a:lnTo>
                <a:lnTo>
                  <a:pt x="505" y="35"/>
                </a:lnTo>
                <a:lnTo>
                  <a:pt x="480" y="20"/>
                </a:lnTo>
                <a:lnTo>
                  <a:pt x="455" y="9"/>
                </a:lnTo>
                <a:lnTo>
                  <a:pt x="428" y="3"/>
                </a:lnTo>
                <a:lnTo>
                  <a:pt x="403" y="0"/>
                </a:lnTo>
                <a:lnTo>
                  <a:pt x="377" y="3"/>
                </a:lnTo>
                <a:lnTo>
                  <a:pt x="351" y="9"/>
                </a:lnTo>
                <a:lnTo>
                  <a:pt x="326" y="20"/>
                </a:lnTo>
                <a:lnTo>
                  <a:pt x="302" y="36"/>
                </a:lnTo>
                <a:lnTo>
                  <a:pt x="278" y="54"/>
                </a:lnTo>
                <a:lnTo>
                  <a:pt x="255" y="77"/>
                </a:lnTo>
                <a:lnTo>
                  <a:pt x="235" y="104"/>
                </a:lnTo>
                <a:lnTo>
                  <a:pt x="215" y="134"/>
                </a:lnTo>
                <a:lnTo>
                  <a:pt x="197" y="167"/>
                </a:lnTo>
                <a:lnTo>
                  <a:pt x="182" y="202"/>
                </a:lnTo>
                <a:lnTo>
                  <a:pt x="168" y="241"/>
                </a:lnTo>
                <a:lnTo>
                  <a:pt x="150" y="235"/>
                </a:lnTo>
                <a:lnTo>
                  <a:pt x="133" y="233"/>
                </a:lnTo>
                <a:lnTo>
                  <a:pt x="116" y="235"/>
                </a:lnTo>
                <a:lnTo>
                  <a:pt x="99" y="241"/>
                </a:lnTo>
                <a:lnTo>
                  <a:pt x="82" y="251"/>
                </a:lnTo>
                <a:lnTo>
                  <a:pt x="66" y="265"/>
                </a:lnTo>
                <a:lnTo>
                  <a:pt x="52" y="282"/>
                </a:lnTo>
                <a:lnTo>
                  <a:pt x="38" y="301"/>
                </a:lnTo>
                <a:lnTo>
                  <a:pt x="27" y="324"/>
                </a:lnTo>
                <a:lnTo>
                  <a:pt x="18" y="350"/>
                </a:lnTo>
                <a:lnTo>
                  <a:pt x="10" y="376"/>
                </a:lnTo>
                <a:lnTo>
                  <a:pt x="4" y="406"/>
                </a:lnTo>
                <a:lnTo>
                  <a:pt x="1" y="436"/>
                </a:lnTo>
                <a:lnTo>
                  <a:pt x="0" y="465"/>
                </a:lnTo>
                <a:lnTo>
                  <a:pt x="1" y="496"/>
                </a:lnTo>
                <a:lnTo>
                  <a:pt x="4" y="526"/>
                </a:lnTo>
                <a:lnTo>
                  <a:pt x="10" y="554"/>
                </a:lnTo>
                <a:lnTo>
                  <a:pt x="18" y="581"/>
                </a:lnTo>
                <a:lnTo>
                  <a:pt x="27" y="606"/>
                </a:lnTo>
                <a:lnTo>
                  <a:pt x="38" y="629"/>
                </a:lnTo>
                <a:lnTo>
                  <a:pt x="52" y="649"/>
                </a:lnTo>
                <a:lnTo>
                  <a:pt x="66" y="666"/>
                </a:lnTo>
                <a:lnTo>
                  <a:pt x="82" y="679"/>
                </a:lnTo>
                <a:lnTo>
                  <a:pt x="99" y="690"/>
                </a:lnTo>
                <a:lnTo>
                  <a:pt x="116" y="695"/>
                </a:lnTo>
                <a:lnTo>
                  <a:pt x="133" y="698"/>
                </a:lnTo>
                <a:lnTo>
                  <a:pt x="150" y="695"/>
                </a:lnTo>
                <a:lnTo>
                  <a:pt x="168" y="690"/>
                </a:lnTo>
                <a:lnTo>
                  <a:pt x="182" y="728"/>
                </a:lnTo>
                <a:lnTo>
                  <a:pt x="197" y="764"/>
                </a:lnTo>
                <a:lnTo>
                  <a:pt x="215" y="797"/>
                </a:lnTo>
                <a:lnTo>
                  <a:pt x="235" y="828"/>
                </a:lnTo>
                <a:lnTo>
                  <a:pt x="255" y="854"/>
                </a:lnTo>
                <a:lnTo>
                  <a:pt x="278" y="877"/>
                </a:lnTo>
                <a:lnTo>
                  <a:pt x="302" y="895"/>
                </a:lnTo>
                <a:lnTo>
                  <a:pt x="326" y="911"/>
                </a:lnTo>
                <a:lnTo>
                  <a:pt x="351" y="921"/>
                </a:lnTo>
                <a:lnTo>
                  <a:pt x="377" y="928"/>
                </a:lnTo>
                <a:lnTo>
                  <a:pt x="403" y="930"/>
                </a:lnTo>
                <a:lnTo>
                  <a:pt x="428" y="928"/>
                </a:lnTo>
                <a:lnTo>
                  <a:pt x="455" y="921"/>
                </a:lnTo>
                <a:lnTo>
                  <a:pt x="480" y="911"/>
                </a:lnTo>
                <a:lnTo>
                  <a:pt x="505" y="896"/>
                </a:lnTo>
                <a:lnTo>
                  <a:pt x="528" y="877"/>
                </a:lnTo>
                <a:lnTo>
                  <a:pt x="550" y="855"/>
                </a:lnTo>
                <a:lnTo>
                  <a:pt x="572" y="828"/>
                </a:lnTo>
                <a:lnTo>
                  <a:pt x="593" y="855"/>
                </a:lnTo>
                <a:lnTo>
                  <a:pt x="615" y="877"/>
                </a:lnTo>
                <a:lnTo>
                  <a:pt x="638" y="896"/>
                </a:lnTo>
                <a:lnTo>
                  <a:pt x="663" y="911"/>
                </a:lnTo>
                <a:lnTo>
                  <a:pt x="688" y="921"/>
                </a:lnTo>
                <a:lnTo>
                  <a:pt x="715" y="928"/>
                </a:lnTo>
                <a:lnTo>
                  <a:pt x="740" y="930"/>
                </a:lnTo>
                <a:lnTo>
                  <a:pt x="766" y="928"/>
                </a:lnTo>
                <a:lnTo>
                  <a:pt x="792" y="921"/>
                </a:lnTo>
                <a:lnTo>
                  <a:pt x="817" y="911"/>
                </a:lnTo>
                <a:lnTo>
                  <a:pt x="841" y="895"/>
                </a:lnTo>
                <a:lnTo>
                  <a:pt x="865" y="877"/>
                </a:lnTo>
                <a:lnTo>
                  <a:pt x="888" y="854"/>
                </a:lnTo>
                <a:lnTo>
                  <a:pt x="908" y="828"/>
                </a:lnTo>
                <a:lnTo>
                  <a:pt x="928" y="797"/>
                </a:lnTo>
                <a:lnTo>
                  <a:pt x="946" y="764"/>
                </a:lnTo>
                <a:lnTo>
                  <a:pt x="962" y="728"/>
                </a:lnTo>
                <a:lnTo>
                  <a:pt x="976" y="690"/>
                </a:lnTo>
                <a:lnTo>
                  <a:pt x="993" y="695"/>
                </a:lnTo>
                <a:lnTo>
                  <a:pt x="1010" y="698"/>
                </a:lnTo>
                <a:lnTo>
                  <a:pt x="1027" y="695"/>
                </a:lnTo>
                <a:lnTo>
                  <a:pt x="1044" y="690"/>
                </a:lnTo>
                <a:lnTo>
                  <a:pt x="1061" y="679"/>
                </a:lnTo>
                <a:lnTo>
                  <a:pt x="1077" y="666"/>
                </a:lnTo>
                <a:lnTo>
                  <a:pt x="1091" y="649"/>
                </a:lnTo>
                <a:lnTo>
                  <a:pt x="1104" y="629"/>
                </a:lnTo>
                <a:lnTo>
                  <a:pt x="1116" y="606"/>
                </a:lnTo>
                <a:lnTo>
                  <a:pt x="1125" y="581"/>
                </a:lnTo>
                <a:lnTo>
                  <a:pt x="1133" y="554"/>
                </a:lnTo>
                <a:lnTo>
                  <a:pt x="1139" y="526"/>
                </a:lnTo>
                <a:lnTo>
                  <a:pt x="1142" y="496"/>
                </a:lnTo>
                <a:lnTo>
                  <a:pt x="1143" y="465"/>
                </a:lnTo>
                <a:lnTo>
                  <a:pt x="1142" y="436"/>
                </a:lnTo>
                <a:lnTo>
                  <a:pt x="1139" y="406"/>
                </a:lnTo>
                <a:lnTo>
                  <a:pt x="1133" y="376"/>
                </a:lnTo>
                <a:lnTo>
                  <a:pt x="1125" y="350"/>
                </a:lnTo>
                <a:lnTo>
                  <a:pt x="1116" y="324"/>
                </a:lnTo>
                <a:lnTo>
                  <a:pt x="1104" y="301"/>
                </a:lnTo>
                <a:lnTo>
                  <a:pt x="1091" y="282"/>
                </a:lnTo>
                <a:lnTo>
                  <a:pt x="1077" y="265"/>
                </a:lnTo>
                <a:lnTo>
                  <a:pt x="1061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3" y="235"/>
                </a:lnTo>
                <a:lnTo>
                  <a:pt x="976" y="24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16320" y="1954080"/>
            <a:ext cx="151416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571920"/>
            <a:ext cx="182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-alone M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32040" y="2635200"/>
            <a:ext cx="893880" cy="641520"/>
            <a:chOff x="3632040" y="2635200"/>
            <a:chExt cx="893880" cy="641520"/>
          </a:xfrm>
        </p:grpSpPr>
        <p:sp>
          <p:nvSpPr>
            <p:cNvPr id="85" name=""/>
            <p:cNvSpPr/>
            <p:nvPr/>
          </p:nvSpPr>
          <p:spPr>
            <a:xfrm>
              <a:off x="3632040" y="2635200"/>
              <a:ext cx="893880" cy="641520"/>
            </a:xfrm>
            <a:prstGeom prst="rect">
              <a:avLst/>
            </a:prstGeom>
            <a:solidFill>
              <a:srgbClr val="e6e6e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01680" y="280368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419880" y="2711520"/>
            <a:ext cx="919080" cy="1477440"/>
            <a:chOff x="6419880" y="2711520"/>
            <a:chExt cx="919080" cy="1477440"/>
          </a:xfrm>
        </p:grpSpPr>
        <p:grpSp>
          <p:nvGrpSpPr>
            <p:cNvPr id="88" name=""/>
            <p:cNvGrpSpPr/>
            <p:nvPr/>
          </p:nvGrpSpPr>
          <p:grpSpPr>
            <a:xfrm>
              <a:off x="6419880" y="2711520"/>
              <a:ext cx="915840" cy="460080"/>
              <a:chOff x="6419880" y="2711520"/>
              <a:chExt cx="915840" cy="460080"/>
            </a:xfrm>
          </p:grpSpPr>
          <p:sp>
            <p:nvSpPr>
              <p:cNvPr id="89" name=""/>
              <p:cNvSpPr/>
              <p:nvPr/>
            </p:nvSpPr>
            <p:spPr>
              <a:xfrm>
                <a:off x="6419880" y="2711520"/>
                <a:ext cx="915840" cy="46008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72240" y="2788920"/>
                <a:ext cx="41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19880" y="3728880"/>
              <a:ext cx="919080" cy="460080"/>
              <a:chOff x="6419880" y="3728880"/>
              <a:chExt cx="919080" cy="460080"/>
            </a:xfrm>
          </p:grpSpPr>
          <p:sp>
            <p:nvSpPr>
              <p:cNvPr id="92" name=""/>
              <p:cNvSpPr/>
              <p:nvPr/>
            </p:nvSpPr>
            <p:spPr>
              <a:xfrm>
                <a:off x="6419880" y="3728880"/>
                <a:ext cx="919080" cy="46008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95640" y="3806280"/>
                <a:ext cx="36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419880" y="3219120"/>
              <a:ext cx="915840" cy="461880"/>
              <a:chOff x="6419880" y="3219120"/>
              <a:chExt cx="915840" cy="461880"/>
            </a:xfrm>
          </p:grpSpPr>
          <p:sp>
            <p:nvSpPr>
              <p:cNvPr id="95" name=""/>
              <p:cNvSpPr/>
              <p:nvPr/>
            </p:nvSpPr>
            <p:spPr>
              <a:xfrm>
                <a:off x="6419880" y="3219120"/>
                <a:ext cx="915840" cy="46188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80080" y="3298320"/>
                <a:ext cx="595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G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7307280" y="4487760"/>
            <a:ext cx="12290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FT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70520" y="1487520"/>
            <a:ext cx="824040" cy="70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9200" y="1555920"/>
            <a:ext cx="72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45000" y="3552840"/>
            <a:ext cx="893520" cy="641160"/>
            <a:chOff x="3645000" y="3552840"/>
            <a:chExt cx="893520" cy="641160"/>
          </a:xfrm>
        </p:grpSpPr>
        <p:sp>
          <p:nvSpPr>
            <p:cNvPr id="101" name=""/>
            <p:cNvSpPr/>
            <p:nvPr/>
          </p:nvSpPr>
          <p:spPr>
            <a:xfrm>
              <a:off x="3645000" y="3552840"/>
              <a:ext cx="893520" cy="641160"/>
            </a:xfrm>
            <a:prstGeom prst="rect">
              <a:avLst/>
            </a:prstGeom>
            <a:solidFill>
              <a:srgbClr val="e6e6e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14280" y="372096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43120" y="4444920"/>
            <a:ext cx="1538280" cy="1162080"/>
          </a:xfrm>
          <a:custGeom>
            <a:avLst/>
            <a:gdLst/>
            <a:ahLst/>
            <a:rect l="l" t="t" r="r" b="b"/>
            <a:pathLst>
              <a:path w="1143" h="929">
                <a:moveTo>
                  <a:pt x="974" y="239"/>
                </a:moveTo>
                <a:lnTo>
                  <a:pt x="961" y="202"/>
                </a:lnTo>
                <a:lnTo>
                  <a:pt x="945" y="165"/>
                </a:lnTo>
                <a:lnTo>
                  <a:pt x="928" y="132"/>
                </a:lnTo>
                <a:lnTo>
                  <a:pt x="908" y="103"/>
                </a:lnTo>
                <a:lnTo>
                  <a:pt x="887" y="77"/>
                </a:lnTo>
                <a:lnTo>
                  <a:pt x="865" y="54"/>
                </a:lnTo>
                <a:lnTo>
                  <a:pt x="841" y="34"/>
                </a:lnTo>
                <a:lnTo>
                  <a:pt x="816" y="20"/>
                </a:lnTo>
                <a:lnTo>
                  <a:pt x="791" y="9"/>
                </a:lnTo>
                <a:lnTo>
                  <a:pt x="766" y="2"/>
                </a:lnTo>
                <a:lnTo>
                  <a:pt x="739" y="0"/>
                </a:lnTo>
                <a:lnTo>
                  <a:pt x="713" y="2"/>
                </a:lnTo>
                <a:lnTo>
                  <a:pt x="688" y="8"/>
                </a:lnTo>
                <a:lnTo>
                  <a:pt x="662" y="20"/>
                </a:lnTo>
                <a:lnTo>
                  <a:pt x="638" y="34"/>
                </a:lnTo>
                <a:lnTo>
                  <a:pt x="614" y="53"/>
                </a:lnTo>
                <a:lnTo>
                  <a:pt x="592" y="75"/>
                </a:lnTo>
                <a:lnTo>
                  <a:pt x="571" y="102"/>
                </a:lnTo>
                <a:lnTo>
                  <a:pt x="550" y="75"/>
                </a:lnTo>
                <a:lnTo>
                  <a:pt x="527" y="53"/>
                </a:lnTo>
                <a:lnTo>
                  <a:pt x="503" y="34"/>
                </a:lnTo>
                <a:lnTo>
                  <a:pt x="480" y="20"/>
                </a:lnTo>
                <a:lnTo>
                  <a:pt x="454" y="8"/>
                </a:lnTo>
                <a:lnTo>
                  <a:pt x="428" y="2"/>
                </a:lnTo>
                <a:lnTo>
                  <a:pt x="402" y="0"/>
                </a:lnTo>
                <a:lnTo>
                  <a:pt x="376" y="2"/>
                </a:lnTo>
                <a:lnTo>
                  <a:pt x="351" y="9"/>
                </a:lnTo>
                <a:lnTo>
                  <a:pt x="326" y="20"/>
                </a:lnTo>
                <a:lnTo>
                  <a:pt x="301" y="34"/>
                </a:lnTo>
                <a:lnTo>
                  <a:pt x="277" y="54"/>
                </a:lnTo>
                <a:lnTo>
                  <a:pt x="255" y="77"/>
                </a:lnTo>
                <a:lnTo>
                  <a:pt x="233" y="103"/>
                </a:lnTo>
                <a:lnTo>
                  <a:pt x="214" y="132"/>
                </a:lnTo>
                <a:lnTo>
                  <a:pt x="197" y="165"/>
                </a:lnTo>
                <a:lnTo>
                  <a:pt x="181" y="202"/>
                </a:lnTo>
                <a:lnTo>
                  <a:pt x="167" y="239"/>
                </a:lnTo>
                <a:lnTo>
                  <a:pt x="150" y="234"/>
                </a:lnTo>
                <a:lnTo>
                  <a:pt x="133" y="233"/>
                </a:lnTo>
                <a:lnTo>
                  <a:pt x="115" y="235"/>
                </a:lnTo>
                <a:lnTo>
                  <a:pt x="98" y="241"/>
                </a:lnTo>
                <a:lnTo>
                  <a:pt x="82" y="251"/>
                </a:lnTo>
                <a:lnTo>
                  <a:pt x="66" y="265"/>
                </a:lnTo>
                <a:lnTo>
                  <a:pt x="51" y="280"/>
                </a:lnTo>
                <a:lnTo>
                  <a:pt x="38" y="301"/>
                </a:lnTo>
                <a:lnTo>
                  <a:pt x="27" y="324"/>
                </a:lnTo>
                <a:lnTo>
                  <a:pt x="17" y="349"/>
                </a:lnTo>
                <a:lnTo>
                  <a:pt x="9" y="376"/>
                </a:lnTo>
                <a:lnTo>
                  <a:pt x="3" y="405"/>
                </a:lnTo>
                <a:lnTo>
                  <a:pt x="0" y="434"/>
                </a:lnTo>
                <a:lnTo>
                  <a:pt x="0" y="465"/>
                </a:lnTo>
                <a:lnTo>
                  <a:pt x="0" y="495"/>
                </a:lnTo>
                <a:lnTo>
                  <a:pt x="3" y="524"/>
                </a:lnTo>
                <a:lnTo>
                  <a:pt x="9" y="553"/>
                </a:lnTo>
                <a:lnTo>
                  <a:pt x="17" y="580"/>
                </a:lnTo>
                <a:lnTo>
                  <a:pt x="27" y="605"/>
                </a:lnTo>
                <a:lnTo>
                  <a:pt x="38" y="628"/>
                </a:lnTo>
                <a:lnTo>
                  <a:pt x="51" y="648"/>
                </a:lnTo>
                <a:lnTo>
                  <a:pt x="66" y="666"/>
                </a:lnTo>
                <a:lnTo>
                  <a:pt x="82" y="679"/>
                </a:lnTo>
                <a:lnTo>
                  <a:pt x="98" y="688"/>
                </a:lnTo>
                <a:lnTo>
                  <a:pt x="115" y="695"/>
                </a:lnTo>
                <a:lnTo>
                  <a:pt x="133" y="697"/>
                </a:lnTo>
                <a:lnTo>
                  <a:pt x="150" y="695"/>
                </a:lnTo>
                <a:lnTo>
                  <a:pt x="167" y="689"/>
                </a:lnTo>
                <a:lnTo>
                  <a:pt x="181" y="728"/>
                </a:lnTo>
                <a:lnTo>
                  <a:pt x="197" y="764"/>
                </a:lnTo>
                <a:lnTo>
                  <a:pt x="214" y="797"/>
                </a:lnTo>
                <a:lnTo>
                  <a:pt x="233" y="826"/>
                </a:lnTo>
                <a:lnTo>
                  <a:pt x="255" y="852"/>
                </a:lnTo>
                <a:lnTo>
                  <a:pt x="277" y="875"/>
                </a:lnTo>
                <a:lnTo>
                  <a:pt x="301" y="895"/>
                </a:lnTo>
                <a:lnTo>
                  <a:pt x="326" y="909"/>
                </a:lnTo>
                <a:lnTo>
                  <a:pt x="351" y="921"/>
                </a:lnTo>
                <a:lnTo>
                  <a:pt x="376" y="928"/>
                </a:lnTo>
                <a:lnTo>
                  <a:pt x="402" y="929"/>
                </a:lnTo>
                <a:lnTo>
                  <a:pt x="428" y="928"/>
                </a:lnTo>
                <a:lnTo>
                  <a:pt x="454" y="921"/>
                </a:lnTo>
                <a:lnTo>
                  <a:pt x="480" y="911"/>
                </a:lnTo>
                <a:lnTo>
                  <a:pt x="503" y="896"/>
                </a:lnTo>
                <a:lnTo>
                  <a:pt x="527" y="876"/>
                </a:lnTo>
                <a:lnTo>
                  <a:pt x="550" y="854"/>
                </a:lnTo>
                <a:lnTo>
                  <a:pt x="571" y="827"/>
                </a:lnTo>
                <a:lnTo>
                  <a:pt x="592" y="854"/>
                </a:lnTo>
                <a:lnTo>
                  <a:pt x="614" y="876"/>
                </a:lnTo>
                <a:lnTo>
                  <a:pt x="638" y="896"/>
                </a:lnTo>
                <a:lnTo>
                  <a:pt x="662" y="911"/>
                </a:lnTo>
                <a:lnTo>
                  <a:pt x="688" y="921"/>
                </a:lnTo>
                <a:lnTo>
                  <a:pt x="713" y="928"/>
                </a:lnTo>
                <a:lnTo>
                  <a:pt x="739" y="929"/>
                </a:lnTo>
                <a:lnTo>
                  <a:pt x="766" y="928"/>
                </a:lnTo>
                <a:lnTo>
                  <a:pt x="791" y="921"/>
                </a:lnTo>
                <a:lnTo>
                  <a:pt x="816" y="909"/>
                </a:lnTo>
                <a:lnTo>
                  <a:pt x="841" y="895"/>
                </a:lnTo>
                <a:lnTo>
                  <a:pt x="865" y="875"/>
                </a:lnTo>
                <a:lnTo>
                  <a:pt x="887" y="852"/>
                </a:lnTo>
                <a:lnTo>
                  <a:pt x="908" y="826"/>
                </a:lnTo>
                <a:lnTo>
                  <a:pt x="928" y="797"/>
                </a:lnTo>
                <a:lnTo>
                  <a:pt x="945" y="764"/>
                </a:lnTo>
                <a:lnTo>
                  <a:pt x="961" y="728"/>
                </a:lnTo>
                <a:lnTo>
                  <a:pt x="974" y="689"/>
                </a:lnTo>
                <a:lnTo>
                  <a:pt x="991" y="695"/>
                </a:lnTo>
                <a:lnTo>
                  <a:pt x="1010" y="697"/>
                </a:lnTo>
                <a:lnTo>
                  <a:pt x="1027" y="695"/>
                </a:lnTo>
                <a:lnTo>
                  <a:pt x="1044" y="688"/>
                </a:lnTo>
                <a:lnTo>
                  <a:pt x="1060" y="679"/>
                </a:lnTo>
                <a:lnTo>
                  <a:pt x="1076" y="666"/>
                </a:lnTo>
                <a:lnTo>
                  <a:pt x="1091" y="648"/>
                </a:lnTo>
                <a:lnTo>
                  <a:pt x="1103" y="628"/>
                </a:lnTo>
                <a:lnTo>
                  <a:pt x="1115" y="605"/>
                </a:lnTo>
                <a:lnTo>
                  <a:pt x="1125" y="580"/>
                </a:lnTo>
                <a:lnTo>
                  <a:pt x="1133" y="553"/>
                </a:lnTo>
                <a:lnTo>
                  <a:pt x="1138" y="524"/>
                </a:lnTo>
                <a:lnTo>
                  <a:pt x="1142" y="495"/>
                </a:lnTo>
                <a:lnTo>
                  <a:pt x="1143" y="465"/>
                </a:lnTo>
                <a:lnTo>
                  <a:pt x="1142" y="434"/>
                </a:lnTo>
                <a:lnTo>
                  <a:pt x="1138" y="405"/>
                </a:lnTo>
                <a:lnTo>
                  <a:pt x="1133" y="376"/>
                </a:lnTo>
                <a:lnTo>
                  <a:pt x="1125" y="349"/>
                </a:lnTo>
                <a:lnTo>
                  <a:pt x="1115" y="324"/>
                </a:lnTo>
                <a:lnTo>
                  <a:pt x="1103" y="301"/>
                </a:lnTo>
                <a:lnTo>
                  <a:pt x="1091" y="280"/>
                </a:lnTo>
                <a:lnTo>
                  <a:pt x="1076" y="265"/>
                </a:lnTo>
                <a:lnTo>
                  <a:pt x="1060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1" y="234"/>
                </a:lnTo>
                <a:lnTo>
                  <a:pt x="974" y="23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01600" y="4751280"/>
            <a:ext cx="1020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IP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22640" y="4910040"/>
            <a:ext cx="893520" cy="641160"/>
            <a:chOff x="2222640" y="4910040"/>
            <a:chExt cx="893520" cy="641160"/>
          </a:xfrm>
        </p:grpSpPr>
        <p:sp>
          <p:nvSpPr>
            <p:cNvPr id="106" name=""/>
            <p:cNvSpPr/>
            <p:nvPr/>
          </p:nvSpPr>
          <p:spPr>
            <a:xfrm>
              <a:off x="2222640" y="4910040"/>
              <a:ext cx="893520" cy="641160"/>
            </a:xfrm>
            <a:prstGeom prst="rect">
              <a:avLst/>
            </a:prstGeom>
            <a:solidFill>
              <a:srgbClr val="e6e6e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1040" y="507816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812880" y="3887640"/>
            <a:ext cx="893520" cy="641160"/>
            <a:chOff x="812880" y="3887640"/>
            <a:chExt cx="893520" cy="641160"/>
          </a:xfrm>
        </p:grpSpPr>
        <p:sp>
          <p:nvSpPr>
            <p:cNvPr id="109" name=""/>
            <p:cNvSpPr/>
            <p:nvPr/>
          </p:nvSpPr>
          <p:spPr>
            <a:xfrm>
              <a:off x="812880" y="3887640"/>
              <a:ext cx="893520" cy="641160"/>
            </a:xfrm>
            <a:prstGeom prst="rect">
              <a:avLst/>
            </a:prstGeom>
            <a:solidFill>
              <a:srgbClr val="e6e6e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1800" y="4055760"/>
              <a:ext cx="537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4040" y="1454040"/>
            <a:ext cx="2149560" cy="1257120"/>
            <a:chOff x="284040" y="1454040"/>
            <a:chExt cx="2149560" cy="1257120"/>
          </a:xfrm>
        </p:grpSpPr>
        <p:sp>
          <p:nvSpPr>
            <p:cNvPr id="112" name=""/>
            <p:cNvSpPr/>
            <p:nvPr/>
          </p:nvSpPr>
          <p:spPr>
            <a:xfrm>
              <a:off x="284040" y="1454040"/>
              <a:ext cx="2149560" cy="930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19040" y="1598400"/>
              <a:ext cx="1879200" cy="641160"/>
              <a:chOff x="419040" y="1598400"/>
              <a:chExt cx="1879200" cy="6411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19040" y="1598400"/>
                <a:ext cx="893520" cy="641160"/>
                <a:chOff x="419040" y="1598400"/>
                <a:chExt cx="893520" cy="6411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19040" y="1598400"/>
                  <a:ext cx="893520" cy="641160"/>
                </a:xfrm>
                <a:prstGeom prst="rect">
                  <a:avLst/>
                </a:prstGeom>
                <a:solidFill>
                  <a:srgbClr val="e6e6e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97960" y="1766520"/>
                  <a:ext cx="5371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404720" y="1598400"/>
                <a:ext cx="893520" cy="641160"/>
                <a:chOff x="1404720" y="1598400"/>
                <a:chExt cx="893520" cy="6411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404720" y="1598400"/>
                  <a:ext cx="893520" cy="641160"/>
                </a:xfrm>
                <a:prstGeom prst="rect">
                  <a:avLst/>
                </a:prstGeom>
                <a:solidFill>
                  <a:srgbClr val="e6e6e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653120" y="1766520"/>
                  <a:ext cx="397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523800" y="2436480"/>
              <a:ext cx="167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bedded M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16480" y="4649760"/>
            <a:ext cx="998280" cy="852480"/>
            <a:chOff x="6216480" y="4649760"/>
            <a:chExt cx="998280" cy="852480"/>
          </a:xfrm>
        </p:grpSpPr>
        <p:sp>
          <p:nvSpPr>
            <p:cNvPr id="122" name=""/>
            <p:cNvSpPr/>
            <p:nvPr/>
          </p:nvSpPr>
          <p:spPr>
            <a:xfrm>
              <a:off x="6216480" y="4649760"/>
              <a:ext cx="998280" cy="8524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47960" y="4924440"/>
              <a:ext cx="537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507000" y="2319480"/>
            <a:ext cx="182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TN 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07080" y="1230480"/>
            <a:ext cx="0" cy="41623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Architecture (2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 flipH="1" rot="5400000">
            <a:off x="4453920" y="4501800"/>
            <a:ext cx="1407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ableco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751920" y="4499280"/>
            <a:ext cx="1413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ableco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601992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... Access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 ...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 ... Call Managem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A ... Multimedia Terminal 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149440" y="1119240"/>
            <a:ext cx="3861000" cy="2481120"/>
            <a:chOff x="5149440" y="1119240"/>
            <a:chExt cx="3861000" cy="2481120"/>
          </a:xfrm>
        </p:grpSpPr>
        <p:sp>
          <p:nvSpPr>
            <p:cNvPr id="131" name=""/>
            <p:cNvSpPr/>
            <p:nvPr/>
          </p:nvSpPr>
          <p:spPr>
            <a:xfrm>
              <a:off x="5342040" y="1119240"/>
              <a:ext cx="3587760" cy="2481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37280" y="1276200"/>
              <a:ext cx="204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ablecom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557320" y="1911240"/>
              <a:ext cx="1344600" cy="964800"/>
              <a:chOff x="5557320" y="1911240"/>
              <a:chExt cx="1344600" cy="964800"/>
            </a:xfrm>
          </p:grpSpPr>
          <p:sp>
            <p:nvSpPr>
              <p:cNvPr id="134" name=""/>
              <p:cNvSpPr/>
              <p:nvPr/>
            </p:nvSpPr>
            <p:spPr>
              <a:xfrm flipH="1">
                <a:off x="5556960" y="1911240"/>
                <a:ext cx="1344600" cy="96480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5701320" y="2068200"/>
                <a:ext cx="10573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Backb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149440" y="1317240"/>
              <a:ext cx="854280" cy="852120"/>
              <a:chOff x="5149440" y="1317240"/>
              <a:chExt cx="854280" cy="85212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5149080" y="1317240"/>
                <a:ext cx="854280" cy="85212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5184000" y="1330920"/>
                <a:ext cx="78444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MS Border Prox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372440" y="1542960"/>
              <a:ext cx="1095120" cy="769320"/>
              <a:chOff x="7372440" y="1542960"/>
              <a:chExt cx="1095120" cy="76932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7372440" y="1542960"/>
                <a:ext cx="1095120" cy="76932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522200" y="1653840"/>
                <a:ext cx="7963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ble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8326080" y="1458720"/>
              <a:ext cx="684360" cy="471240"/>
              <a:chOff x="8326080" y="1458720"/>
              <a:chExt cx="684360" cy="47124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8325720" y="1458720"/>
                <a:ext cx="684360" cy="4712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8398800" y="1542600"/>
                <a:ext cx="537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824160" y="1868400"/>
              <a:ext cx="669960" cy="469440"/>
              <a:chOff x="6824160" y="1868400"/>
              <a:chExt cx="669960" cy="46944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6823800" y="1868400"/>
                <a:ext cx="669960" cy="4694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981120" y="1950840"/>
                <a:ext cx="354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372440" y="2574720"/>
              <a:ext cx="1095120" cy="769680"/>
              <a:chOff x="7372440" y="2574720"/>
              <a:chExt cx="1095120" cy="769680"/>
            </a:xfrm>
          </p:grpSpPr>
          <p:sp>
            <p:nvSpPr>
              <p:cNvPr id="149" name=""/>
              <p:cNvSpPr/>
              <p:nvPr/>
            </p:nvSpPr>
            <p:spPr>
              <a:xfrm flipH="1">
                <a:off x="7372440" y="2574720"/>
                <a:ext cx="1095120" cy="76968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522200" y="2685600"/>
                <a:ext cx="7963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ble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8326080" y="2985840"/>
              <a:ext cx="684360" cy="471240"/>
              <a:chOff x="8326080" y="2985840"/>
              <a:chExt cx="684360" cy="47124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8325720" y="2985840"/>
                <a:ext cx="684360" cy="4712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398800" y="3069720"/>
                <a:ext cx="537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824160" y="2509560"/>
              <a:ext cx="669960" cy="469440"/>
              <a:chOff x="6824160" y="2509560"/>
              <a:chExt cx="669960" cy="46944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6823800" y="2509560"/>
                <a:ext cx="669960" cy="4694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981120" y="2592000"/>
                <a:ext cx="354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959280" y="2592360"/>
            <a:ext cx="1682640" cy="1487520"/>
            <a:chOff x="3959280" y="2592360"/>
            <a:chExt cx="1682640" cy="1487520"/>
          </a:xfrm>
        </p:grpSpPr>
        <p:sp>
          <p:nvSpPr>
            <p:cNvPr id="158" name=""/>
            <p:cNvSpPr/>
            <p:nvPr/>
          </p:nvSpPr>
          <p:spPr>
            <a:xfrm flipH="1">
              <a:off x="3959280" y="2592360"/>
              <a:ext cx="1682640" cy="1487520"/>
            </a:xfrm>
            <a:custGeom>
              <a:avLst/>
              <a:gdLst/>
              <a:ahLst/>
              <a:rect l="l" t="t" r="r" b="b"/>
              <a:pathLst>
                <a:path w="1143" h="929">
                  <a:moveTo>
                    <a:pt x="974" y="239"/>
                  </a:moveTo>
                  <a:lnTo>
                    <a:pt x="961" y="202"/>
                  </a:lnTo>
                  <a:lnTo>
                    <a:pt x="945" y="165"/>
                  </a:lnTo>
                  <a:lnTo>
                    <a:pt x="928" y="132"/>
                  </a:lnTo>
                  <a:lnTo>
                    <a:pt x="908" y="103"/>
                  </a:lnTo>
                  <a:lnTo>
                    <a:pt x="887" y="77"/>
                  </a:lnTo>
                  <a:lnTo>
                    <a:pt x="865" y="54"/>
                  </a:lnTo>
                  <a:lnTo>
                    <a:pt x="841" y="34"/>
                  </a:lnTo>
                  <a:lnTo>
                    <a:pt x="816" y="20"/>
                  </a:lnTo>
                  <a:lnTo>
                    <a:pt x="791" y="9"/>
                  </a:lnTo>
                  <a:lnTo>
                    <a:pt x="766" y="2"/>
                  </a:lnTo>
                  <a:lnTo>
                    <a:pt x="739" y="0"/>
                  </a:lnTo>
                  <a:lnTo>
                    <a:pt x="713" y="2"/>
                  </a:lnTo>
                  <a:lnTo>
                    <a:pt x="688" y="8"/>
                  </a:lnTo>
                  <a:lnTo>
                    <a:pt x="662" y="20"/>
                  </a:lnTo>
                  <a:lnTo>
                    <a:pt x="638" y="34"/>
                  </a:lnTo>
                  <a:lnTo>
                    <a:pt x="614" y="53"/>
                  </a:lnTo>
                  <a:lnTo>
                    <a:pt x="592" y="75"/>
                  </a:lnTo>
                  <a:lnTo>
                    <a:pt x="571" y="102"/>
                  </a:lnTo>
                  <a:lnTo>
                    <a:pt x="550" y="75"/>
                  </a:lnTo>
                  <a:lnTo>
                    <a:pt x="527" y="53"/>
                  </a:lnTo>
                  <a:lnTo>
                    <a:pt x="503" y="34"/>
                  </a:lnTo>
                  <a:lnTo>
                    <a:pt x="480" y="20"/>
                  </a:lnTo>
                  <a:lnTo>
                    <a:pt x="454" y="8"/>
                  </a:lnTo>
                  <a:lnTo>
                    <a:pt x="428" y="2"/>
                  </a:lnTo>
                  <a:lnTo>
                    <a:pt x="402" y="0"/>
                  </a:lnTo>
                  <a:lnTo>
                    <a:pt x="376" y="2"/>
                  </a:lnTo>
                  <a:lnTo>
                    <a:pt x="351" y="9"/>
                  </a:lnTo>
                  <a:lnTo>
                    <a:pt x="326" y="20"/>
                  </a:lnTo>
                  <a:lnTo>
                    <a:pt x="301" y="34"/>
                  </a:lnTo>
                  <a:lnTo>
                    <a:pt x="277" y="54"/>
                  </a:lnTo>
                  <a:lnTo>
                    <a:pt x="255" y="77"/>
                  </a:lnTo>
                  <a:lnTo>
                    <a:pt x="233" y="103"/>
                  </a:lnTo>
                  <a:lnTo>
                    <a:pt x="214" y="132"/>
                  </a:lnTo>
                  <a:lnTo>
                    <a:pt x="197" y="165"/>
                  </a:lnTo>
                  <a:lnTo>
                    <a:pt x="181" y="202"/>
                  </a:lnTo>
                  <a:lnTo>
                    <a:pt x="167" y="239"/>
                  </a:lnTo>
                  <a:lnTo>
                    <a:pt x="150" y="234"/>
                  </a:lnTo>
                  <a:lnTo>
                    <a:pt x="133" y="233"/>
                  </a:lnTo>
                  <a:lnTo>
                    <a:pt x="115" y="235"/>
                  </a:lnTo>
                  <a:lnTo>
                    <a:pt x="98" y="241"/>
                  </a:lnTo>
                  <a:lnTo>
                    <a:pt x="82" y="251"/>
                  </a:lnTo>
                  <a:lnTo>
                    <a:pt x="66" y="265"/>
                  </a:lnTo>
                  <a:lnTo>
                    <a:pt x="51" y="280"/>
                  </a:lnTo>
                  <a:lnTo>
                    <a:pt x="38" y="301"/>
                  </a:lnTo>
                  <a:lnTo>
                    <a:pt x="27" y="324"/>
                  </a:lnTo>
                  <a:lnTo>
                    <a:pt x="17" y="349"/>
                  </a:lnTo>
                  <a:lnTo>
                    <a:pt x="9" y="376"/>
                  </a:lnTo>
                  <a:lnTo>
                    <a:pt x="3" y="405"/>
                  </a:lnTo>
                  <a:lnTo>
                    <a:pt x="0" y="434"/>
                  </a:lnTo>
                  <a:lnTo>
                    <a:pt x="0" y="465"/>
                  </a:lnTo>
                  <a:lnTo>
                    <a:pt x="0" y="495"/>
                  </a:lnTo>
                  <a:lnTo>
                    <a:pt x="3" y="524"/>
                  </a:lnTo>
                  <a:lnTo>
                    <a:pt x="9" y="553"/>
                  </a:lnTo>
                  <a:lnTo>
                    <a:pt x="17" y="580"/>
                  </a:lnTo>
                  <a:lnTo>
                    <a:pt x="27" y="605"/>
                  </a:lnTo>
                  <a:lnTo>
                    <a:pt x="38" y="628"/>
                  </a:lnTo>
                  <a:lnTo>
                    <a:pt x="51" y="648"/>
                  </a:lnTo>
                  <a:lnTo>
                    <a:pt x="66" y="666"/>
                  </a:lnTo>
                  <a:lnTo>
                    <a:pt x="82" y="679"/>
                  </a:lnTo>
                  <a:lnTo>
                    <a:pt x="98" y="688"/>
                  </a:lnTo>
                  <a:lnTo>
                    <a:pt x="115" y="695"/>
                  </a:lnTo>
                  <a:lnTo>
                    <a:pt x="133" y="697"/>
                  </a:lnTo>
                  <a:lnTo>
                    <a:pt x="150" y="695"/>
                  </a:lnTo>
                  <a:lnTo>
                    <a:pt x="167" y="689"/>
                  </a:lnTo>
                  <a:lnTo>
                    <a:pt x="181" y="728"/>
                  </a:lnTo>
                  <a:lnTo>
                    <a:pt x="197" y="764"/>
                  </a:lnTo>
                  <a:lnTo>
                    <a:pt x="214" y="797"/>
                  </a:lnTo>
                  <a:lnTo>
                    <a:pt x="233" y="826"/>
                  </a:lnTo>
                  <a:lnTo>
                    <a:pt x="255" y="852"/>
                  </a:lnTo>
                  <a:lnTo>
                    <a:pt x="277" y="875"/>
                  </a:lnTo>
                  <a:lnTo>
                    <a:pt x="301" y="895"/>
                  </a:lnTo>
                  <a:lnTo>
                    <a:pt x="326" y="909"/>
                  </a:lnTo>
                  <a:lnTo>
                    <a:pt x="351" y="921"/>
                  </a:lnTo>
                  <a:lnTo>
                    <a:pt x="376" y="928"/>
                  </a:lnTo>
                  <a:lnTo>
                    <a:pt x="402" y="929"/>
                  </a:lnTo>
                  <a:lnTo>
                    <a:pt x="428" y="928"/>
                  </a:lnTo>
                  <a:lnTo>
                    <a:pt x="454" y="921"/>
                  </a:lnTo>
                  <a:lnTo>
                    <a:pt x="480" y="911"/>
                  </a:lnTo>
                  <a:lnTo>
                    <a:pt x="503" y="896"/>
                  </a:lnTo>
                  <a:lnTo>
                    <a:pt x="527" y="876"/>
                  </a:lnTo>
                  <a:lnTo>
                    <a:pt x="550" y="854"/>
                  </a:lnTo>
                  <a:lnTo>
                    <a:pt x="571" y="827"/>
                  </a:lnTo>
                  <a:lnTo>
                    <a:pt x="592" y="854"/>
                  </a:lnTo>
                  <a:lnTo>
                    <a:pt x="614" y="876"/>
                  </a:lnTo>
                  <a:lnTo>
                    <a:pt x="638" y="896"/>
                  </a:lnTo>
                  <a:lnTo>
                    <a:pt x="662" y="911"/>
                  </a:lnTo>
                  <a:lnTo>
                    <a:pt x="688" y="921"/>
                  </a:lnTo>
                  <a:lnTo>
                    <a:pt x="713" y="928"/>
                  </a:lnTo>
                  <a:lnTo>
                    <a:pt x="739" y="929"/>
                  </a:lnTo>
                  <a:lnTo>
                    <a:pt x="766" y="928"/>
                  </a:lnTo>
                  <a:lnTo>
                    <a:pt x="791" y="921"/>
                  </a:lnTo>
                  <a:lnTo>
                    <a:pt x="816" y="909"/>
                  </a:lnTo>
                  <a:lnTo>
                    <a:pt x="841" y="895"/>
                  </a:lnTo>
                  <a:lnTo>
                    <a:pt x="865" y="875"/>
                  </a:lnTo>
                  <a:lnTo>
                    <a:pt x="887" y="852"/>
                  </a:lnTo>
                  <a:lnTo>
                    <a:pt x="908" y="826"/>
                  </a:lnTo>
                  <a:lnTo>
                    <a:pt x="928" y="797"/>
                  </a:lnTo>
                  <a:lnTo>
                    <a:pt x="945" y="764"/>
                  </a:lnTo>
                  <a:lnTo>
                    <a:pt x="961" y="728"/>
                  </a:lnTo>
                  <a:lnTo>
                    <a:pt x="974" y="689"/>
                  </a:lnTo>
                  <a:lnTo>
                    <a:pt x="991" y="695"/>
                  </a:lnTo>
                  <a:lnTo>
                    <a:pt x="1010" y="697"/>
                  </a:lnTo>
                  <a:lnTo>
                    <a:pt x="1027" y="695"/>
                  </a:lnTo>
                  <a:lnTo>
                    <a:pt x="1044" y="688"/>
                  </a:lnTo>
                  <a:lnTo>
                    <a:pt x="1060" y="679"/>
                  </a:lnTo>
                  <a:lnTo>
                    <a:pt x="1076" y="666"/>
                  </a:lnTo>
                  <a:lnTo>
                    <a:pt x="1091" y="648"/>
                  </a:lnTo>
                  <a:lnTo>
                    <a:pt x="1103" y="628"/>
                  </a:lnTo>
                  <a:lnTo>
                    <a:pt x="1115" y="605"/>
                  </a:lnTo>
                  <a:lnTo>
                    <a:pt x="1125" y="580"/>
                  </a:lnTo>
                  <a:lnTo>
                    <a:pt x="1133" y="553"/>
                  </a:lnTo>
                  <a:lnTo>
                    <a:pt x="1138" y="524"/>
                  </a:lnTo>
                  <a:lnTo>
                    <a:pt x="1142" y="495"/>
                  </a:lnTo>
                  <a:lnTo>
                    <a:pt x="1143" y="465"/>
                  </a:lnTo>
                  <a:lnTo>
                    <a:pt x="1142" y="434"/>
                  </a:lnTo>
                  <a:lnTo>
                    <a:pt x="1138" y="405"/>
                  </a:lnTo>
                  <a:lnTo>
                    <a:pt x="1133" y="376"/>
                  </a:lnTo>
                  <a:lnTo>
                    <a:pt x="1125" y="349"/>
                  </a:lnTo>
                  <a:lnTo>
                    <a:pt x="1115" y="324"/>
                  </a:lnTo>
                  <a:lnTo>
                    <a:pt x="1103" y="301"/>
                  </a:lnTo>
                  <a:lnTo>
                    <a:pt x="1091" y="280"/>
                  </a:lnTo>
                  <a:lnTo>
                    <a:pt x="1076" y="265"/>
                  </a:lnTo>
                  <a:lnTo>
                    <a:pt x="1060" y="251"/>
                  </a:lnTo>
                  <a:lnTo>
                    <a:pt x="1044" y="241"/>
                  </a:lnTo>
                  <a:lnTo>
                    <a:pt x="1027" y="235"/>
                  </a:lnTo>
                  <a:lnTo>
                    <a:pt x="1010" y="233"/>
                  </a:lnTo>
                  <a:lnTo>
                    <a:pt x="991" y="234"/>
                  </a:lnTo>
                  <a:lnTo>
                    <a:pt x="974" y="23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39640" y="3198960"/>
              <a:ext cx="132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rot="13245000">
            <a:off x="5405400" y="2492280"/>
            <a:ext cx="432000" cy="757440"/>
          </a:xfrm>
          <a:prstGeom prst="upDownArrow">
            <a:avLst>
              <a:gd name="adj1" fmla="val 59028"/>
              <a:gd name="adj2" fmla="val 6612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2120" y="3333600"/>
            <a:ext cx="3861000" cy="2487600"/>
            <a:chOff x="222120" y="3333600"/>
            <a:chExt cx="3861000" cy="2487600"/>
          </a:xfrm>
        </p:grpSpPr>
        <p:sp>
          <p:nvSpPr>
            <p:cNvPr id="162" name=""/>
            <p:cNvSpPr/>
            <p:nvPr/>
          </p:nvSpPr>
          <p:spPr>
            <a:xfrm>
              <a:off x="287280" y="3333600"/>
              <a:ext cx="3587760" cy="2487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330280" y="3949560"/>
              <a:ext cx="1344600" cy="965160"/>
              <a:chOff x="2330280" y="3949560"/>
              <a:chExt cx="1344600" cy="9651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30280" y="3949560"/>
                <a:ext cx="1344600" cy="96516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74640" y="4106880"/>
                <a:ext cx="10573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Backb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65000" y="3581280"/>
              <a:ext cx="1095480" cy="769680"/>
              <a:chOff x="765000" y="3581280"/>
              <a:chExt cx="1095480" cy="769680"/>
            </a:xfrm>
          </p:grpSpPr>
          <p:sp>
            <p:nvSpPr>
              <p:cNvPr id="167" name=""/>
              <p:cNvSpPr/>
              <p:nvPr/>
            </p:nvSpPr>
            <p:spPr>
              <a:xfrm>
                <a:off x="765000" y="3581280"/>
                <a:ext cx="1095480" cy="76968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14400" y="3692160"/>
                <a:ext cx="7966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ble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073160" y="5367240"/>
              <a:ext cx="218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ablecom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22120" y="3497040"/>
              <a:ext cx="684360" cy="471240"/>
              <a:chOff x="222120" y="3497040"/>
              <a:chExt cx="684360" cy="471240"/>
            </a:xfrm>
          </p:grpSpPr>
          <p:sp>
            <p:nvSpPr>
              <p:cNvPr id="171" name=""/>
              <p:cNvSpPr/>
              <p:nvPr/>
            </p:nvSpPr>
            <p:spPr>
              <a:xfrm>
                <a:off x="222120" y="3497040"/>
                <a:ext cx="684360" cy="4712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6640" y="3580920"/>
                <a:ext cx="537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738440" y="3906720"/>
              <a:ext cx="669960" cy="469800"/>
              <a:chOff x="1738440" y="3906720"/>
              <a:chExt cx="669960" cy="469800"/>
            </a:xfrm>
          </p:grpSpPr>
          <p:sp>
            <p:nvSpPr>
              <p:cNvPr id="174" name=""/>
              <p:cNvSpPr/>
              <p:nvPr/>
            </p:nvSpPr>
            <p:spPr>
              <a:xfrm>
                <a:off x="1738440" y="3906720"/>
                <a:ext cx="669960" cy="46980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7200" y="3989160"/>
                <a:ext cx="354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65000" y="4613040"/>
              <a:ext cx="1095480" cy="770040"/>
              <a:chOff x="765000" y="4613040"/>
              <a:chExt cx="1095480" cy="770040"/>
            </a:xfrm>
          </p:grpSpPr>
          <p:sp>
            <p:nvSpPr>
              <p:cNvPr id="177" name=""/>
              <p:cNvSpPr/>
              <p:nvPr/>
            </p:nvSpPr>
            <p:spPr>
              <a:xfrm>
                <a:off x="765000" y="4613040"/>
                <a:ext cx="1095480" cy="77004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914400" y="4724280"/>
                <a:ext cx="7966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ble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22120" y="5024160"/>
              <a:ext cx="684360" cy="471240"/>
              <a:chOff x="222120" y="5024160"/>
              <a:chExt cx="684360" cy="471240"/>
            </a:xfrm>
          </p:grpSpPr>
          <p:sp>
            <p:nvSpPr>
              <p:cNvPr id="180" name=""/>
              <p:cNvSpPr/>
              <p:nvPr/>
            </p:nvSpPr>
            <p:spPr>
              <a:xfrm>
                <a:off x="222120" y="5024160"/>
                <a:ext cx="684360" cy="4712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6640" y="5108040"/>
                <a:ext cx="537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738440" y="4547880"/>
              <a:ext cx="669960" cy="469800"/>
              <a:chOff x="1738440" y="4547880"/>
              <a:chExt cx="669960" cy="469800"/>
            </a:xfrm>
          </p:grpSpPr>
          <p:sp>
            <p:nvSpPr>
              <p:cNvPr id="183" name=""/>
              <p:cNvSpPr/>
              <p:nvPr/>
            </p:nvSpPr>
            <p:spPr>
              <a:xfrm>
                <a:off x="1738440" y="4547880"/>
                <a:ext cx="669960" cy="46980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7200" y="4630320"/>
                <a:ext cx="354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228840" y="4684320"/>
              <a:ext cx="854280" cy="852480"/>
              <a:chOff x="3228840" y="4684320"/>
              <a:chExt cx="854280" cy="852480"/>
            </a:xfrm>
          </p:grpSpPr>
          <p:sp>
            <p:nvSpPr>
              <p:cNvPr id="186" name=""/>
              <p:cNvSpPr/>
              <p:nvPr/>
            </p:nvSpPr>
            <p:spPr>
              <a:xfrm>
                <a:off x="3228840" y="4684320"/>
                <a:ext cx="854280" cy="85248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63760" y="4698360"/>
                <a:ext cx="78444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MS Border Prox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209520" y="844560"/>
            <a:ext cx="3861000" cy="2427120"/>
            <a:chOff x="209520" y="844560"/>
            <a:chExt cx="3861000" cy="2427120"/>
          </a:xfrm>
        </p:grpSpPr>
        <p:sp>
          <p:nvSpPr>
            <p:cNvPr id="189" name=""/>
            <p:cNvSpPr/>
            <p:nvPr/>
          </p:nvSpPr>
          <p:spPr>
            <a:xfrm>
              <a:off x="274680" y="844560"/>
              <a:ext cx="3587760" cy="2427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317680" y="1598400"/>
              <a:ext cx="1344600" cy="964800"/>
              <a:chOff x="2317680" y="1598400"/>
              <a:chExt cx="1344600" cy="964800"/>
            </a:xfrm>
          </p:grpSpPr>
          <p:sp>
            <p:nvSpPr>
              <p:cNvPr id="191" name=""/>
              <p:cNvSpPr/>
              <p:nvPr/>
            </p:nvSpPr>
            <p:spPr>
              <a:xfrm>
                <a:off x="2317680" y="1598400"/>
                <a:ext cx="1344600" cy="96480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62040" y="1755360"/>
                <a:ext cx="10573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Backb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52400" y="1230120"/>
              <a:ext cx="1095480" cy="769680"/>
              <a:chOff x="752400" y="1230120"/>
              <a:chExt cx="1095480" cy="769680"/>
            </a:xfrm>
          </p:grpSpPr>
          <p:sp>
            <p:nvSpPr>
              <p:cNvPr id="194" name=""/>
              <p:cNvSpPr/>
              <p:nvPr/>
            </p:nvSpPr>
            <p:spPr>
              <a:xfrm>
                <a:off x="752400" y="1230120"/>
                <a:ext cx="1095480" cy="76968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1800" y="1341000"/>
                <a:ext cx="7966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ble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073160" y="975960"/>
              <a:ext cx="214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ablecom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9520" y="1145880"/>
              <a:ext cx="684360" cy="471240"/>
              <a:chOff x="209520" y="1145880"/>
              <a:chExt cx="684360" cy="471240"/>
            </a:xfrm>
          </p:grpSpPr>
          <p:sp>
            <p:nvSpPr>
              <p:cNvPr id="198" name=""/>
              <p:cNvSpPr/>
              <p:nvPr/>
            </p:nvSpPr>
            <p:spPr>
              <a:xfrm>
                <a:off x="209520" y="1145880"/>
                <a:ext cx="684360" cy="4712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4040" y="1229760"/>
                <a:ext cx="537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725480" y="1555560"/>
              <a:ext cx="669960" cy="469440"/>
              <a:chOff x="1725480" y="1555560"/>
              <a:chExt cx="669960" cy="469440"/>
            </a:xfrm>
          </p:grpSpPr>
          <p:sp>
            <p:nvSpPr>
              <p:cNvPr id="201" name=""/>
              <p:cNvSpPr/>
              <p:nvPr/>
            </p:nvSpPr>
            <p:spPr>
              <a:xfrm>
                <a:off x="1725480" y="1555560"/>
                <a:ext cx="669960" cy="4694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84240" y="1638000"/>
                <a:ext cx="354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52400" y="2261880"/>
              <a:ext cx="1095480" cy="769680"/>
              <a:chOff x="752400" y="2261880"/>
              <a:chExt cx="1095480" cy="769680"/>
            </a:xfrm>
          </p:grpSpPr>
          <p:sp>
            <p:nvSpPr>
              <p:cNvPr id="204" name=""/>
              <p:cNvSpPr/>
              <p:nvPr/>
            </p:nvSpPr>
            <p:spPr>
              <a:xfrm>
                <a:off x="752400" y="2261880"/>
                <a:ext cx="1095480" cy="769680"/>
              </a:xfrm>
              <a:custGeom>
                <a:avLst/>
                <a:gdLst/>
                <a:ahLst/>
                <a:rect l="l" t="t" r="r" b="b"/>
                <a:pathLst>
                  <a:path w="1143" h="929">
                    <a:moveTo>
                      <a:pt x="974" y="239"/>
                    </a:moveTo>
                    <a:lnTo>
                      <a:pt x="961" y="202"/>
                    </a:lnTo>
                    <a:lnTo>
                      <a:pt x="945" y="165"/>
                    </a:lnTo>
                    <a:lnTo>
                      <a:pt x="928" y="132"/>
                    </a:lnTo>
                    <a:lnTo>
                      <a:pt x="908" y="103"/>
                    </a:lnTo>
                    <a:lnTo>
                      <a:pt x="887" y="77"/>
                    </a:lnTo>
                    <a:lnTo>
                      <a:pt x="865" y="54"/>
                    </a:lnTo>
                    <a:lnTo>
                      <a:pt x="841" y="34"/>
                    </a:lnTo>
                    <a:lnTo>
                      <a:pt x="816" y="20"/>
                    </a:lnTo>
                    <a:lnTo>
                      <a:pt x="791" y="9"/>
                    </a:lnTo>
                    <a:lnTo>
                      <a:pt x="766" y="2"/>
                    </a:lnTo>
                    <a:lnTo>
                      <a:pt x="739" y="0"/>
                    </a:lnTo>
                    <a:lnTo>
                      <a:pt x="713" y="2"/>
                    </a:lnTo>
                    <a:lnTo>
                      <a:pt x="688" y="8"/>
                    </a:lnTo>
                    <a:lnTo>
                      <a:pt x="662" y="20"/>
                    </a:lnTo>
                    <a:lnTo>
                      <a:pt x="638" y="34"/>
                    </a:lnTo>
                    <a:lnTo>
                      <a:pt x="614" y="53"/>
                    </a:lnTo>
                    <a:lnTo>
                      <a:pt x="592" y="75"/>
                    </a:lnTo>
                    <a:lnTo>
                      <a:pt x="571" y="102"/>
                    </a:lnTo>
                    <a:lnTo>
                      <a:pt x="550" y="75"/>
                    </a:lnTo>
                    <a:lnTo>
                      <a:pt x="527" y="53"/>
                    </a:lnTo>
                    <a:lnTo>
                      <a:pt x="503" y="34"/>
                    </a:lnTo>
                    <a:lnTo>
                      <a:pt x="480" y="20"/>
                    </a:lnTo>
                    <a:lnTo>
                      <a:pt x="454" y="8"/>
                    </a:lnTo>
                    <a:lnTo>
                      <a:pt x="428" y="2"/>
                    </a:lnTo>
                    <a:lnTo>
                      <a:pt x="402" y="0"/>
                    </a:lnTo>
                    <a:lnTo>
                      <a:pt x="376" y="2"/>
                    </a:lnTo>
                    <a:lnTo>
                      <a:pt x="351" y="9"/>
                    </a:lnTo>
                    <a:lnTo>
                      <a:pt x="326" y="20"/>
                    </a:lnTo>
                    <a:lnTo>
                      <a:pt x="301" y="34"/>
                    </a:lnTo>
                    <a:lnTo>
                      <a:pt x="277" y="54"/>
                    </a:lnTo>
                    <a:lnTo>
                      <a:pt x="255" y="77"/>
                    </a:lnTo>
                    <a:lnTo>
                      <a:pt x="233" y="103"/>
                    </a:lnTo>
                    <a:lnTo>
                      <a:pt x="214" y="132"/>
                    </a:lnTo>
                    <a:lnTo>
                      <a:pt x="197" y="165"/>
                    </a:lnTo>
                    <a:lnTo>
                      <a:pt x="181" y="202"/>
                    </a:lnTo>
                    <a:lnTo>
                      <a:pt x="167" y="239"/>
                    </a:lnTo>
                    <a:lnTo>
                      <a:pt x="150" y="234"/>
                    </a:lnTo>
                    <a:lnTo>
                      <a:pt x="133" y="233"/>
                    </a:lnTo>
                    <a:lnTo>
                      <a:pt x="115" y="235"/>
                    </a:lnTo>
                    <a:lnTo>
                      <a:pt x="98" y="241"/>
                    </a:lnTo>
                    <a:lnTo>
                      <a:pt x="82" y="251"/>
                    </a:lnTo>
                    <a:lnTo>
                      <a:pt x="66" y="265"/>
                    </a:lnTo>
                    <a:lnTo>
                      <a:pt x="51" y="280"/>
                    </a:lnTo>
                    <a:lnTo>
                      <a:pt x="38" y="301"/>
                    </a:lnTo>
                    <a:lnTo>
                      <a:pt x="27" y="324"/>
                    </a:lnTo>
                    <a:lnTo>
                      <a:pt x="17" y="349"/>
                    </a:lnTo>
                    <a:lnTo>
                      <a:pt x="9" y="376"/>
                    </a:lnTo>
                    <a:lnTo>
                      <a:pt x="3" y="405"/>
                    </a:lnTo>
                    <a:lnTo>
                      <a:pt x="0" y="434"/>
                    </a:lnTo>
                    <a:lnTo>
                      <a:pt x="0" y="465"/>
                    </a:lnTo>
                    <a:lnTo>
                      <a:pt x="0" y="495"/>
                    </a:lnTo>
                    <a:lnTo>
                      <a:pt x="3" y="524"/>
                    </a:lnTo>
                    <a:lnTo>
                      <a:pt x="9" y="553"/>
                    </a:lnTo>
                    <a:lnTo>
                      <a:pt x="17" y="580"/>
                    </a:lnTo>
                    <a:lnTo>
                      <a:pt x="27" y="605"/>
                    </a:lnTo>
                    <a:lnTo>
                      <a:pt x="38" y="628"/>
                    </a:lnTo>
                    <a:lnTo>
                      <a:pt x="51" y="648"/>
                    </a:lnTo>
                    <a:lnTo>
                      <a:pt x="66" y="666"/>
                    </a:lnTo>
                    <a:lnTo>
                      <a:pt x="82" y="679"/>
                    </a:lnTo>
                    <a:lnTo>
                      <a:pt x="98" y="688"/>
                    </a:lnTo>
                    <a:lnTo>
                      <a:pt x="115" y="695"/>
                    </a:lnTo>
                    <a:lnTo>
                      <a:pt x="133" y="697"/>
                    </a:lnTo>
                    <a:lnTo>
                      <a:pt x="150" y="695"/>
                    </a:lnTo>
                    <a:lnTo>
                      <a:pt x="167" y="689"/>
                    </a:lnTo>
                    <a:lnTo>
                      <a:pt x="181" y="728"/>
                    </a:lnTo>
                    <a:lnTo>
                      <a:pt x="197" y="764"/>
                    </a:lnTo>
                    <a:lnTo>
                      <a:pt x="214" y="797"/>
                    </a:lnTo>
                    <a:lnTo>
                      <a:pt x="233" y="826"/>
                    </a:lnTo>
                    <a:lnTo>
                      <a:pt x="255" y="852"/>
                    </a:lnTo>
                    <a:lnTo>
                      <a:pt x="277" y="875"/>
                    </a:lnTo>
                    <a:lnTo>
                      <a:pt x="301" y="895"/>
                    </a:lnTo>
                    <a:lnTo>
                      <a:pt x="326" y="909"/>
                    </a:lnTo>
                    <a:lnTo>
                      <a:pt x="351" y="921"/>
                    </a:lnTo>
                    <a:lnTo>
                      <a:pt x="376" y="928"/>
                    </a:lnTo>
                    <a:lnTo>
                      <a:pt x="402" y="929"/>
                    </a:lnTo>
                    <a:lnTo>
                      <a:pt x="428" y="928"/>
                    </a:lnTo>
                    <a:lnTo>
                      <a:pt x="454" y="921"/>
                    </a:lnTo>
                    <a:lnTo>
                      <a:pt x="480" y="911"/>
                    </a:lnTo>
                    <a:lnTo>
                      <a:pt x="503" y="896"/>
                    </a:lnTo>
                    <a:lnTo>
                      <a:pt x="527" y="876"/>
                    </a:lnTo>
                    <a:lnTo>
                      <a:pt x="550" y="854"/>
                    </a:lnTo>
                    <a:lnTo>
                      <a:pt x="571" y="827"/>
                    </a:lnTo>
                    <a:lnTo>
                      <a:pt x="592" y="854"/>
                    </a:lnTo>
                    <a:lnTo>
                      <a:pt x="614" y="876"/>
                    </a:lnTo>
                    <a:lnTo>
                      <a:pt x="638" y="896"/>
                    </a:lnTo>
                    <a:lnTo>
                      <a:pt x="662" y="911"/>
                    </a:lnTo>
                    <a:lnTo>
                      <a:pt x="688" y="921"/>
                    </a:lnTo>
                    <a:lnTo>
                      <a:pt x="713" y="928"/>
                    </a:lnTo>
                    <a:lnTo>
                      <a:pt x="739" y="929"/>
                    </a:lnTo>
                    <a:lnTo>
                      <a:pt x="766" y="928"/>
                    </a:lnTo>
                    <a:lnTo>
                      <a:pt x="791" y="921"/>
                    </a:lnTo>
                    <a:lnTo>
                      <a:pt x="816" y="909"/>
                    </a:lnTo>
                    <a:lnTo>
                      <a:pt x="841" y="895"/>
                    </a:lnTo>
                    <a:lnTo>
                      <a:pt x="865" y="875"/>
                    </a:lnTo>
                    <a:lnTo>
                      <a:pt x="887" y="852"/>
                    </a:lnTo>
                    <a:lnTo>
                      <a:pt x="908" y="826"/>
                    </a:lnTo>
                    <a:lnTo>
                      <a:pt x="928" y="797"/>
                    </a:lnTo>
                    <a:lnTo>
                      <a:pt x="945" y="764"/>
                    </a:lnTo>
                    <a:lnTo>
                      <a:pt x="961" y="728"/>
                    </a:lnTo>
                    <a:lnTo>
                      <a:pt x="974" y="689"/>
                    </a:lnTo>
                    <a:lnTo>
                      <a:pt x="991" y="695"/>
                    </a:lnTo>
                    <a:lnTo>
                      <a:pt x="1010" y="697"/>
                    </a:lnTo>
                    <a:lnTo>
                      <a:pt x="1027" y="695"/>
                    </a:lnTo>
                    <a:lnTo>
                      <a:pt x="1044" y="688"/>
                    </a:lnTo>
                    <a:lnTo>
                      <a:pt x="1060" y="679"/>
                    </a:lnTo>
                    <a:lnTo>
                      <a:pt x="1076" y="666"/>
                    </a:lnTo>
                    <a:lnTo>
                      <a:pt x="1091" y="648"/>
                    </a:lnTo>
                    <a:lnTo>
                      <a:pt x="1103" y="628"/>
                    </a:lnTo>
                    <a:lnTo>
                      <a:pt x="1115" y="605"/>
                    </a:lnTo>
                    <a:lnTo>
                      <a:pt x="1125" y="580"/>
                    </a:lnTo>
                    <a:lnTo>
                      <a:pt x="1133" y="553"/>
                    </a:lnTo>
                    <a:lnTo>
                      <a:pt x="1138" y="524"/>
                    </a:lnTo>
                    <a:lnTo>
                      <a:pt x="1142" y="495"/>
                    </a:lnTo>
                    <a:lnTo>
                      <a:pt x="1143" y="465"/>
                    </a:lnTo>
                    <a:lnTo>
                      <a:pt x="1142" y="434"/>
                    </a:lnTo>
                    <a:lnTo>
                      <a:pt x="1138" y="405"/>
                    </a:lnTo>
                    <a:lnTo>
                      <a:pt x="1133" y="376"/>
                    </a:lnTo>
                    <a:lnTo>
                      <a:pt x="1125" y="349"/>
                    </a:lnTo>
                    <a:lnTo>
                      <a:pt x="1115" y="324"/>
                    </a:lnTo>
                    <a:lnTo>
                      <a:pt x="1103" y="301"/>
                    </a:lnTo>
                    <a:lnTo>
                      <a:pt x="1091" y="280"/>
                    </a:lnTo>
                    <a:lnTo>
                      <a:pt x="1076" y="265"/>
                    </a:lnTo>
                    <a:lnTo>
                      <a:pt x="1060" y="251"/>
                    </a:lnTo>
                    <a:lnTo>
                      <a:pt x="1044" y="241"/>
                    </a:lnTo>
                    <a:lnTo>
                      <a:pt x="1027" y="235"/>
                    </a:lnTo>
                    <a:lnTo>
                      <a:pt x="1010" y="233"/>
                    </a:lnTo>
                    <a:lnTo>
                      <a:pt x="991" y="234"/>
                    </a:lnTo>
                    <a:lnTo>
                      <a:pt x="974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1800" y="2372760"/>
                <a:ext cx="7966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ble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09520" y="2673000"/>
              <a:ext cx="684360" cy="471240"/>
              <a:chOff x="209520" y="2673000"/>
              <a:chExt cx="684360" cy="471240"/>
            </a:xfrm>
          </p:grpSpPr>
          <p:sp>
            <p:nvSpPr>
              <p:cNvPr id="207" name=""/>
              <p:cNvSpPr/>
              <p:nvPr/>
            </p:nvSpPr>
            <p:spPr>
              <a:xfrm>
                <a:off x="209520" y="2673000"/>
                <a:ext cx="684360" cy="47124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4040" y="2756880"/>
                <a:ext cx="537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725480" y="2196720"/>
              <a:ext cx="669960" cy="469800"/>
              <a:chOff x="1725480" y="2196720"/>
              <a:chExt cx="669960" cy="469800"/>
            </a:xfrm>
          </p:grpSpPr>
          <p:sp>
            <p:nvSpPr>
              <p:cNvPr id="210" name=""/>
              <p:cNvSpPr/>
              <p:nvPr/>
            </p:nvSpPr>
            <p:spPr>
              <a:xfrm>
                <a:off x="1725480" y="2196720"/>
                <a:ext cx="669960" cy="469800"/>
              </a:xfrm>
              <a:prstGeom prst="rect">
                <a:avLst/>
              </a:prstGeom>
              <a:solidFill>
                <a:srgbClr val="e6e6e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84240" y="2279160"/>
                <a:ext cx="354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216240" y="1096560"/>
              <a:ext cx="854280" cy="852120"/>
              <a:chOff x="3216240" y="1096560"/>
              <a:chExt cx="854280" cy="852120"/>
            </a:xfrm>
          </p:grpSpPr>
          <p:sp>
            <p:nvSpPr>
              <p:cNvPr id="213" name=""/>
              <p:cNvSpPr/>
              <p:nvPr/>
            </p:nvSpPr>
            <p:spPr>
              <a:xfrm>
                <a:off x="3216240" y="1096560"/>
                <a:ext cx="854280" cy="85212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51160" y="1110240"/>
                <a:ext cx="78444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MS Border Prox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 rot="16800">
            <a:off x="2489040" y="2461680"/>
            <a:ext cx="432000" cy="1600200"/>
          </a:xfrm>
          <a:prstGeom prst="upDownArrow">
            <a:avLst>
              <a:gd name="adj1" fmla="val 59148"/>
              <a:gd name="adj2" fmla="val 65337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9101000">
            <a:off x="3698640" y="2012760"/>
            <a:ext cx="431640" cy="1144440"/>
          </a:xfrm>
          <a:prstGeom prst="upDownArrow">
            <a:avLst>
              <a:gd name="adj1" fmla="val 59028"/>
              <a:gd name="adj2" fmla="val 9999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3945200">
            <a:off x="3710520" y="3467160"/>
            <a:ext cx="431640" cy="1033560"/>
          </a:xfrm>
          <a:prstGeom prst="upDownArrow">
            <a:avLst>
              <a:gd name="adj1" fmla="val 59028"/>
              <a:gd name="adj2" fmla="val 9030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Call Signaling Example -</a:t>
            </a:r>
            <a:br>
              <a:rPr sz="3600"/>
            </a:b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Far-end terminal connected to PSTN</a:t>
            </a:r>
            <a:endParaRPr b="0" i="1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170840" y="2808360"/>
            <a:ext cx="1511280" cy="1811160"/>
            <a:chOff x="7170840" y="2808360"/>
            <a:chExt cx="1511280" cy="1811160"/>
          </a:xfrm>
        </p:grpSpPr>
        <p:sp>
          <p:nvSpPr>
            <p:cNvPr id="220" name=""/>
            <p:cNvSpPr/>
            <p:nvPr/>
          </p:nvSpPr>
          <p:spPr>
            <a:xfrm>
              <a:off x="7170840" y="2808360"/>
              <a:ext cx="1511280" cy="1811160"/>
            </a:xfrm>
            <a:custGeom>
              <a:avLst/>
              <a:gdLst/>
              <a:ahLst/>
              <a:rect l="l" t="t" r="r" b="b"/>
              <a:pathLst>
                <a:path w="952" h="951">
                  <a:moveTo>
                    <a:pt x="140" y="706"/>
                  </a:moveTo>
                  <a:lnTo>
                    <a:pt x="152" y="744"/>
                  </a:lnTo>
                  <a:lnTo>
                    <a:pt x="165" y="782"/>
                  </a:lnTo>
                  <a:lnTo>
                    <a:pt x="179" y="815"/>
                  </a:lnTo>
                  <a:lnTo>
                    <a:pt x="196" y="846"/>
                  </a:lnTo>
                  <a:lnTo>
                    <a:pt x="213" y="873"/>
                  </a:lnTo>
                  <a:lnTo>
                    <a:pt x="231" y="896"/>
                  </a:lnTo>
                  <a:lnTo>
                    <a:pt x="251" y="915"/>
                  </a:lnTo>
                  <a:lnTo>
                    <a:pt x="271" y="931"/>
                  </a:lnTo>
                  <a:lnTo>
                    <a:pt x="293" y="941"/>
                  </a:lnTo>
                  <a:lnTo>
                    <a:pt x="315" y="948"/>
                  </a:lnTo>
                  <a:lnTo>
                    <a:pt x="336" y="951"/>
                  </a:lnTo>
                  <a:lnTo>
                    <a:pt x="357" y="948"/>
                  </a:lnTo>
                  <a:lnTo>
                    <a:pt x="378" y="943"/>
                  </a:lnTo>
                  <a:lnTo>
                    <a:pt x="400" y="931"/>
                  </a:lnTo>
                  <a:lnTo>
                    <a:pt x="421" y="916"/>
                  </a:lnTo>
                  <a:lnTo>
                    <a:pt x="440" y="897"/>
                  </a:lnTo>
                  <a:lnTo>
                    <a:pt x="458" y="874"/>
                  </a:lnTo>
                  <a:lnTo>
                    <a:pt x="477" y="847"/>
                  </a:lnTo>
                  <a:lnTo>
                    <a:pt x="494" y="874"/>
                  </a:lnTo>
                  <a:lnTo>
                    <a:pt x="512" y="897"/>
                  </a:lnTo>
                  <a:lnTo>
                    <a:pt x="532" y="916"/>
                  </a:lnTo>
                  <a:lnTo>
                    <a:pt x="552" y="931"/>
                  </a:lnTo>
                  <a:lnTo>
                    <a:pt x="573" y="943"/>
                  </a:lnTo>
                  <a:lnTo>
                    <a:pt x="595" y="948"/>
                  </a:lnTo>
                  <a:lnTo>
                    <a:pt x="617" y="951"/>
                  </a:lnTo>
                  <a:lnTo>
                    <a:pt x="638" y="948"/>
                  </a:lnTo>
                  <a:lnTo>
                    <a:pt x="659" y="941"/>
                  </a:lnTo>
                  <a:lnTo>
                    <a:pt x="681" y="931"/>
                  </a:lnTo>
                  <a:lnTo>
                    <a:pt x="701" y="915"/>
                  </a:lnTo>
                  <a:lnTo>
                    <a:pt x="720" y="896"/>
                  </a:lnTo>
                  <a:lnTo>
                    <a:pt x="739" y="873"/>
                  </a:lnTo>
                  <a:lnTo>
                    <a:pt x="757" y="846"/>
                  </a:lnTo>
                  <a:lnTo>
                    <a:pt x="773" y="815"/>
                  </a:lnTo>
                  <a:lnTo>
                    <a:pt x="788" y="782"/>
                  </a:lnTo>
                  <a:lnTo>
                    <a:pt x="800" y="744"/>
                  </a:lnTo>
                  <a:lnTo>
                    <a:pt x="812" y="706"/>
                  </a:lnTo>
                  <a:lnTo>
                    <a:pt x="827" y="711"/>
                  </a:lnTo>
                  <a:lnTo>
                    <a:pt x="840" y="714"/>
                  </a:lnTo>
                  <a:lnTo>
                    <a:pt x="855" y="711"/>
                  </a:lnTo>
                  <a:lnTo>
                    <a:pt x="870" y="705"/>
                  </a:lnTo>
                  <a:lnTo>
                    <a:pt x="884" y="694"/>
                  </a:lnTo>
                  <a:lnTo>
                    <a:pt x="896" y="681"/>
                  </a:lnTo>
                  <a:lnTo>
                    <a:pt x="909" y="664"/>
                  </a:lnTo>
                  <a:lnTo>
                    <a:pt x="919" y="643"/>
                  </a:lnTo>
                  <a:lnTo>
                    <a:pt x="929" y="620"/>
                  </a:lnTo>
                  <a:lnTo>
                    <a:pt x="937" y="594"/>
                  </a:lnTo>
                  <a:lnTo>
                    <a:pt x="943" y="567"/>
                  </a:lnTo>
                  <a:lnTo>
                    <a:pt x="947" y="537"/>
                  </a:lnTo>
                  <a:lnTo>
                    <a:pt x="951" y="506"/>
                  </a:lnTo>
                  <a:lnTo>
                    <a:pt x="952" y="476"/>
                  </a:lnTo>
                  <a:lnTo>
                    <a:pt x="951" y="445"/>
                  </a:lnTo>
                  <a:lnTo>
                    <a:pt x="947" y="414"/>
                  </a:lnTo>
                  <a:lnTo>
                    <a:pt x="943" y="386"/>
                  </a:lnTo>
                  <a:lnTo>
                    <a:pt x="937" y="357"/>
                  </a:lnTo>
                  <a:lnTo>
                    <a:pt x="929" y="332"/>
                  </a:lnTo>
                  <a:lnTo>
                    <a:pt x="919" y="308"/>
                  </a:lnTo>
                  <a:lnTo>
                    <a:pt x="909" y="288"/>
                  </a:lnTo>
                  <a:lnTo>
                    <a:pt x="896" y="270"/>
                  </a:lnTo>
                  <a:lnTo>
                    <a:pt x="884" y="257"/>
                  </a:lnTo>
                  <a:lnTo>
                    <a:pt x="870" y="247"/>
                  </a:lnTo>
                  <a:lnTo>
                    <a:pt x="855" y="241"/>
                  </a:lnTo>
                  <a:lnTo>
                    <a:pt x="840" y="239"/>
                  </a:lnTo>
                  <a:lnTo>
                    <a:pt x="827" y="240"/>
                  </a:lnTo>
                  <a:lnTo>
                    <a:pt x="812" y="245"/>
                  </a:lnTo>
                  <a:lnTo>
                    <a:pt x="800" y="207"/>
                  </a:lnTo>
                  <a:lnTo>
                    <a:pt x="788" y="170"/>
                  </a:lnTo>
                  <a:lnTo>
                    <a:pt x="773" y="136"/>
                  </a:lnTo>
                  <a:lnTo>
                    <a:pt x="757" y="105"/>
                  </a:lnTo>
                  <a:lnTo>
                    <a:pt x="739" y="79"/>
                  </a:lnTo>
                  <a:lnTo>
                    <a:pt x="720" y="55"/>
                  </a:lnTo>
                  <a:lnTo>
                    <a:pt x="701" y="36"/>
                  </a:lnTo>
                  <a:lnTo>
                    <a:pt x="681" y="21"/>
                  </a:lnTo>
                  <a:lnTo>
                    <a:pt x="659" y="10"/>
                  </a:lnTo>
                  <a:lnTo>
                    <a:pt x="638" y="3"/>
                  </a:lnTo>
                  <a:lnTo>
                    <a:pt x="617" y="0"/>
                  </a:lnTo>
                  <a:lnTo>
                    <a:pt x="595" y="3"/>
                  </a:lnTo>
                  <a:lnTo>
                    <a:pt x="573" y="10"/>
                  </a:lnTo>
                  <a:lnTo>
                    <a:pt x="552" y="20"/>
                  </a:lnTo>
                  <a:lnTo>
                    <a:pt x="532" y="36"/>
                  </a:lnTo>
                  <a:lnTo>
                    <a:pt x="512" y="54"/>
                  </a:lnTo>
                  <a:lnTo>
                    <a:pt x="494" y="78"/>
                  </a:lnTo>
                  <a:lnTo>
                    <a:pt x="477" y="105"/>
                  </a:lnTo>
                  <a:lnTo>
                    <a:pt x="458" y="78"/>
                  </a:lnTo>
                  <a:lnTo>
                    <a:pt x="440" y="54"/>
                  </a:lnTo>
                  <a:lnTo>
                    <a:pt x="421" y="36"/>
                  </a:lnTo>
                  <a:lnTo>
                    <a:pt x="400" y="20"/>
                  </a:lnTo>
                  <a:lnTo>
                    <a:pt x="378" y="10"/>
                  </a:lnTo>
                  <a:lnTo>
                    <a:pt x="357" y="3"/>
                  </a:lnTo>
                  <a:lnTo>
                    <a:pt x="336" y="0"/>
                  </a:lnTo>
                  <a:lnTo>
                    <a:pt x="315" y="3"/>
                  </a:lnTo>
                  <a:lnTo>
                    <a:pt x="293" y="10"/>
                  </a:lnTo>
                  <a:lnTo>
                    <a:pt x="271" y="21"/>
                  </a:lnTo>
                  <a:lnTo>
                    <a:pt x="251" y="36"/>
                  </a:lnTo>
                  <a:lnTo>
                    <a:pt x="231" y="55"/>
                  </a:lnTo>
                  <a:lnTo>
                    <a:pt x="213" y="79"/>
                  </a:lnTo>
                  <a:lnTo>
                    <a:pt x="196" y="105"/>
                  </a:lnTo>
                  <a:lnTo>
                    <a:pt x="179" y="136"/>
                  </a:lnTo>
                  <a:lnTo>
                    <a:pt x="165" y="170"/>
                  </a:lnTo>
                  <a:lnTo>
                    <a:pt x="152" y="207"/>
                  </a:lnTo>
                  <a:lnTo>
                    <a:pt x="140" y="245"/>
                  </a:lnTo>
                  <a:lnTo>
                    <a:pt x="127" y="240"/>
                  </a:lnTo>
                  <a:lnTo>
                    <a:pt x="112" y="239"/>
                  </a:lnTo>
                  <a:lnTo>
                    <a:pt x="97" y="241"/>
                  </a:lnTo>
                  <a:lnTo>
                    <a:pt x="83" y="247"/>
                  </a:lnTo>
                  <a:lnTo>
                    <a:pt x="68" y="257"/>
                  </a:lnTo>
                  <a:lnTo>
                    <a:pt x="56" y="270"/>
                  </a:lnTo>
                  <a:lnTo>
                    <a:pt x="43" y="288"/>
                  </a:lnTo>
                  <a:lnTo>
                    <a:pt x="33" y="308"/>
                  </a:lnTo>
                  <a:lnTo>
                    <a:pt x="23" y="332"/>
                  </a:lnTo>
                  <a:lnTo>
                    <a:pt x="15" y="357"/>
                  </a:lnTo>
                  <a:lnTo>
                    <a:pt x="9" y="386"/>
                  </a:lnTo>
                  <a:lnTo>
                    <a:pt x="5" y="414"/>
                  </a:lnTo>
                  <a:lnTo>
                    <a:pt x="1" y="445"/>
                  </a:lnTo>
                  <a:lnTo>
                    <a:pt x="0" y="476"/>
                  </a:lnTo>
                  <a:lnTo>
                    <a:pt x="1" y="506"/>
                  </a:lnTo>
                  <a:lnTo>
                    <a:pt x="5" y="537"/>
                  </a:lnTo>
                  <a:lnTo>
                    <a:pt x="9" y="567"/>
                  </a:lnTo>
                  <a:lnTo>
                    <a:pt x="15" y="594"/>
                  </a:lnTo>
                  <a:lnTo>
                    <a:pt x="23" y="620"/>
                  </a:lnTo>
                  <a:lnTo>
                    <a:pt x="33" y="643"/>
                  </a:lnTo>
                  <a:lnTo>
                    <a:pt x="43" y="664"/>
                  </a:lnTo>
                  <a:lnTo>
                    <a:pt x="56" y="681"/>
                  </a:lnTo>
                  <a:lnTo>
                    <a:pt x="68" y="694"/>
                  </a:lnTo>
                  <a:lnTo>
                    <a:pt x="83" y="705"/>
                  </a:lnTo>
                  <a:lnTo>
                    <a:pt x="97" y="711"/>
                  </a:lnTo>
                  <a:lnTo>
                    <a:pt x="112" y="714"/>
                  </a:lnTo>
                  <a:lnTo>
                    <a:pt x="127" y="711"/>
                  </a:lnTo>
                  <a:lnTo>
                    <a:pt x="140" y="7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87000" y="3562200"/>
              <a:ext cx="67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102200" y="1706400"/>
            <a:ext cx="2222280" cy="3719520"/>
          </a:xfrm>
          <a:custGeom>
            <a:avLst/>
            <a:gdLst/>
            <a:ahLst/>
            <a:rect l="l" t="t" r="r" b="b"/>
            <a:pathLst>
              <a:path w="1400" h="2392">
                <a:moveTo>
                  <a:pt x="205" y="1775"/>
                </a:moveTo>
                <a:lnTo>
                  <a:pt x="216" y="1837"/>
                </a:lnTo>
                <a:lnTo>
                  <a:pt x="227" y="1897"/>
                </a:lnTo>
                <a:lnTo>
                  <a:pt x="240" y="1954"/>
                </a:lnTo>
                <a:lnTo>
                  <a:pt x="252" y="2007"/>
                </a:lnTo>
                <a:lnTo>
                  <a:pt x="266" y="2059"/>
                </a:lnTo>
                <a:lnTo>
                  <a:pt x="281" y="2108"/>
                </a:lnTo>
                <a:lnTo>
                  <a:pt x="297" y="2152"/>
                </a:lnTo>
                <a:lnTo>
                  <a:pt x="313" y="2193"/>
                </a:lnTo>
                <a:lnTo>
                  <a:pt x="328" y="2232"/>
                </a:lnTo>
                <a:lnTo>
                  <a:pt x="347" y="2266"/>
                </a:lnTo>
                <a:lnTo>
                  <a:pt x="364" y="2295"/>
                </a:lnTo>
                <a:lnTo>
                  <a:pt x="383" y="2322"/>
                </a:lnTo>
                <a:lnTo>
                  <a:pt x="401" y="2344"/>
                </a:lnTo>
                <a:lnTo>
                  <a:pt x="421" y="2363"/>
                </a:lnTo>
                <a:lnTo>
                  <a:pt x="440" y="2376"/>
                </a:lnTo>
                <a:lnTo>
                  <a:pt x="460" y="2385"/>
                </a:lnTo>
                <a:lnTo>
                  <a:pt x="479" y="2391"/>
                </a:lnTo>
                <a:lnTo>
                  <a:pt x="499" y="2392"/>
                </a:lnTo>
                <a:lnTo>
                  <a:pt x="519" y="2389"/>
                </a:lnTo>
                <a:lnTo>
                  <a:pt x="538" y="2382"/>
                </a:lnTo>
                <a:lnTo>
                  <a:pt x="558" y="2370"/>
                </a:lnTo>
                <a:lnTo>
                  <a:pt x="577" y="2354"/>
                </a:lnTo>
                <a:lnTo>
                  <a:pt x="596" y="2333"/>
                </a:lnTo>
                <a:lnTo>
                  <a:pt x="615" y="2309"/>
                </a:lnTo>
                <a:lnTo>
                  <a:pt x="633" y="2281"/>
                </a:lnTo>
                <a:lnTo>
                  <a:pt x="651" y="2249"/>
                </a:lnTo>
                <a:lnTo>
                  <a:pt x="668" y="2212"/>
                </a:lnTo>
                <a:lnTo>
                  <a:pt x="684" y="2174"/>
                </a:lnTo>
                <a:lnTo>
                  <a:pt x="700" y="2130"/>
                </a:lnTo>
                <a:lnTo>
                  <a:pt x="716" y="2174"/>
                </a:lnTo>
                <a:lnTo>
                  <a:pt x="732" y="2212"/>
                </a:lnTo>
                <a:lnTo>
                  <a:pt x="749" y="2249"/>
                </a:lnTo>
                <a:lnTo>
                  <a:pt x="767" y="2281"/>
                </a:lnTo>
                <a:lnTo>
                  <a:pt x="786" y="2309"/>
                </a:lnTo>
                <a:lnTo>
                  <a:pt x="804" y="2333"/>
                </a:lnTo>
                <a:lnTo>
                  <a:pt x="823" y="2354"/>
                </a:lnTo>
                <a:lnTo>
                  <a:pt x="843" y="2370"/>
                </a:lnTo>
                <a:lnTo>
                  <a:pt x="862" y="2382"/>
                </a:lnTo>
                <a:lnTo>
                  <a:pt x="881" y="2389"/>
                </a:lnTo>
                <a:lnTo>
                  <a:pt x="901" y="2392"/>
                </a:lnTo>
                <a:lnTo>
                  <a:pt x="921" y="2391"/>
                </a:lnTo>
                <a:lnTo>
                  <a:pt x="941" y="2385"/>
                </a:lnTo>
                <a:lnTo>
                  <a:pt x="960" y="2376"/>
                </a:lnTo>
                <a:lnTo>
                  <a:pt x="979" y="2363"/>
                </a:lnTo>
                <a:lnTo>
                  <a:pt x="999" y="2344"/>
                </a:lnTo>
                <a:lnTo>
                  <a:pt x="1017" y="2322"/>
                </a:lnTo>
                <a:lnTo>
                  <a:pt x="1035" y="2295"/>
                </a:lnTo>
                <a:lnTo>
                  <a:pt x="1054" y="2266"/>
                </a:lnTo>
                <a:lnTo>
                  <a:pt x="1071" y="2232"/>
                </a:lnTo>
                <a:lnTo>
                  <a:pt x="1088" y="2193"/>
                </a:lnTo>
                <a:lnTo>
                  <a:pt x="1104" y="2152"/>
                </a:lnTo>
                <a:lnTo>
                  <a:pt x="1120" y="2108"/>
                </a:lnTo>
                <a:lnTo>
                  <a:pt x="1135" y="2059"/>
                </a:lnTo>
                <a:lnTo>
                  <a:pt x="1148" y="2007"/>
                </a:lnTo>
                <a:lnTo>
                  <a:pt x="1161" y="1954"/>
                </a:lnTo>
                <a:lnTo>
                  <a:pt x="1173" y="1897"/>
                </a:lnTo>
                <a:lnTo>
                  <a:pt x="1185" y="1837"/>
                </a:lnTo>
                <a:lnTo>
                  <a:pt x="1194" y="1775"/>
                </a:lnTo>
                <a:lnTo>
                  <a:pt x="1209" y="1786"/>
                </a:lnTo>
                <a:lnTo>
                  <a:pt x="1222" y="1792"/>
                </a:lnTo>
                <a:lnTo>
                  <a:pt x="1237" y="1794"/>
                </a:lnTo>
                <a:lnTo>
                  <a:pt x="1251" y="1792"/>
                </a:lnTo>
                <a:lnTo>
                  <a:pt x="1266" y="1785"/>
                </a:lnTo>
                <a:lnTo>
                  <a:pt x="1279" y="1773"/>
                </a:lnTo>
                <a:lnTo>
                  <a:pt x="1293" y="1757"/>
                </a:lnTo>
                <a:lnTo>
                  <a:pt x="1306" y="1737"/>
                </a:lnTo>
                <a:lnTo>
                  <a:pt x="1318" y="1712"/>
                </a:lnTo>
                <a:lnTo>
                  <a:pt x="1331" y="1685"/>
                </a:lnTo>
                <a:lnTo>
                  <a:pt x="1342" y="1653"/>
                </a:lnTo>
                <a:lnTo>
                  <a:pt x="1352" y="1618"/>
                </a:lnTo>
                <a:lnTo>
                  <a:pt x="1363" y="1579"/>
                </a:lnTo>
                <a:lnTo>
                  <a:pt x="1371" y="1538"/>
                </a:lnTo>
                <a:lnTo>
                  <a:pt x="1378" y="1493"/>
                </a:lnTo>
                <a:lnTo>
                  <a:pt x="1385" y="1448"/>
                </a:lnTo>
                <a:lnTo>
                  <a:pt x="1390" y="1400"/>
                </a:lnTo>
                <a:lnTo>
                  <a:pt x="1394" y="1350"/>
                </a:lnTo>
                <a:lnTo>
                  <a:pt x="1398" y="1300"/>
                </a:lnTo>
                <a:lnTo>
                  <a:pt x="1399" y="1248"/>
                </a:lnTo>
                <a:lnTo>
                  <a:pt x="1400" y="1196"/>
                </a:lnTo>
                <a:lnTo>
                  <a:pt x="1399" y="1145"/>
                </a:lnTo>
                <a:lnTo>
                  <a:pt x="1398" y="1092"/>
                </a:lnTo>
                <a:lnTo>
                  <a:pt x="1394" y="1042"/>
                </a:lnTo>
                <a:lnTo>
                  <a:pt x="1390" y="992"/>
                </a:lnTo>
                <a:lnTo>
                  <a:pt x="1385" y="944"/>
                </a:lnTo>
                <a:lnTo>
                  <a:pt x="1378" y="899"/>
                </a:lnTo>
                <a:lnTo>
                  <a:pt x="1371" y="854"/>
                </a:lnTo>
                <a:lnTo>
                  <a:pt x="1363" y="813"/>
                </a:lnTo>
                <a:lnTo>
                  <a:pt x="1352" y="775"/>
                </a:lnTo>
                <a:lnTo>
                  <a:pt x="1342" y="739"/>
                </a:lnTo>
                <a:lnTo>
                  <a:pt x="1331" y="708"/>
                </a:lnTo>
                <a:lnTo>
                  <a:pt x="1318" y="680"/>
                </a:lnTo>
                <a:lnTo>
                  <a:pt x="1306" y="656"/>
                </a:lnTo>
                <a:lnTo>
                  <a:pt x="1293" y="636"/>
                </a:lnTo>
                <a:lnTo>
                  <a:pt x="1279" y="620"/>
                </a:lnTo>
                <a:lnTo>
                  <a:pt x="1266" y="608"/>
                </a:lnTo>
                <a:lnTo>
                  <a:pt x="1251" y="600"/>
                </a:lnTo>
                <a:lnTo>
                  <a:pt x="1237" y="598"/>
                </a:lnTo>
                <a:lnTo>
                  <a:pt x="1222" y="600"/>
                </a:lnTo>
                <a:lnTo>
                  <a:pt x="1209" y="606"/>
                </a:lnTo>
                <a:lnTo>
                  <a:pt x="1194" y="617"/>
                </a:lnTo>
                <a:lnTo>
                  <a:pt x="1185" y="556"/>
                </a:lnTo>
                <a:lnTo>
                  <a:pt x="1173" y="495"/>
                </a:lnTo>
                <a:lnTo>
                  <a:pt x="1161" y="438"/>
                </a:lnTo>
                <a:lnTo>
                  <a:pt x="1148" y="385"/>
                </a:lnTo>
                <a:lnTo>
                  <a:pt x="1135" y="334"/>
                </a:lnTo>
                <a:lnTo>
                  <a:pt x="1120" y="286"/>
                </a:lnTo>
                <a:lnTo>
                  <a:pt x="1104" y="240"/>
                </a:lnTo>
                <a:lnTo>
                  <a:pt x="1088" y="199"/>
                </a:lnTo>
                <a:lnTo>
                  <a:pt x="1071" y="162"/>
                </a:lnTo>
                <a:lnTo>
                  <a:pt x="1054" y="127"/>
                </a:lnTo>
                <a:lnTo>
                  <a:pt x="1035" y="97"/>
                </a:lnTo>
                <a:lnTo>
                  <a:pt x="1017" y="70"/>
                </a:lnTo>
                <a:lnTo>
                  <a:pt x="999" y="49"/>
                </a:lnTo>
                <a:lnTo>
                  <a:pt x="979" y="31"/>
                </a:lnTo>
                <a:lnTo>
                  <a:pt x="960" y="16"/>
                </a:lnTo>
                <a:lnTo>
                  <a:pt x="941" y="7"/>
                </a:lnTo>
                <a:lnTo>
                  <a:pt x="921" y="1"/>
                </a:lnTo>
                <a:lnTo>
                  <a:pt x="901" y="0"/>
                </a:lnTo>
                <a:lnTo>
                  <a:pt x="881" y="3"/>
                </a:lnTo>
                <a:lnTo>
                  <a:pt x="862" y="11"/>
                </a:lnTo>
                <a:lnTo>
                  <a:pt x="843" y="23"/>
                </a:lnTo>
                <a:lnTo>
                  <a:pt x="823" y="39"/>
                </a:lnTo>
                <a:lnTo>
                  <a:pt x="804" y="59"/>
                </a:lnTo>
                <a:lnTo>
                  <a:pt x="786" y="83"/>
                </a:lnTo>
                <a:lnTo>
                  <a:pt x="767" y="111"/>
                </a:lnTo>
                <a:lnTo>
                  <a:pt x="749" y="143"/>
                </a:lnTo>
                <a:lnTo>
                  <a:pt x="732" y="180"/>
                </a:lnTo>
                <a:lnTo>
                  <a:pt x="716" y="220"/>
                </a:lnTo>
                <a:lnTo>
                  <a:pt x="700" y="262"/>
                </a:lnTo>
                <a:lnTo>
                  <a:pt x="684" y="220"/>
                </a:lnTo>
                <a:lnTo>
                  <a:pt x="668" y="180"/>
                </a:lnTo>
                <a:lnTo>
                  <a:pt x="651" y="143"/>
                </a:lnTo>
                <a:lnTo>
                  <a:pt x="633" y="111"/>
                </a:lnTo>
                <a:lnTo>
                  <a:pt x="615" y="83"/>
                </a:lnTo>
                <a:lnTo>
                  <a:pt x="596" y="59"/>
                </a:lnTo>
                <a:lnTo>
                  <a:pt x="577" y="39"/>
                </a:lnTo>
                <a:lnTo>
                  <a:pt x="558" y="23"/>
                </a:lnTo>
                <a:lnTo>
                  <a:pt x="538" y="11"/>
                </a:lnTo>
                <a:lnTo>
                  <a:pt x="519" y="3"/>
                </a:lnTo>
                <a:lnTo>
                  <a:pt x="499" y="0"/>
                </a:lnTo>
                <a:lnTo>
                  <a:pt x="479" y="1"/>
                </a:lnTo>
                <a:lnTo>
                  <a:pt x="460" y="7"/>
                </a:lnTo>
                <a:lnTo>
                  <a:pt x="440" y="16"/>
                </a:lnTo>
                <a:lnTo>
                  <a:pt x="421" y="31"/>
                </a:lnTo>
                <a:lnTo>
                  <a:pt x="401" y="49"/>
                </a:lnTo>
                <a:lnTo>
                  <a:pt x="383" y="70"/>
                </a:lnTo>
                <a:lnTo>
                  <a:pt x="364" y="97"/>
                </a:lnTo>
                <a:lnTo>
                  <a:pt x="347" y="127"/>
                </a:lnTo>
                <a:lnTo>
                  <a:pt x="328" y="162"/>
                </a:lnTo>
                <a:lnTo>
                  <a:pt x="313" y="199"/>
                </a:lnTo>
                <a:lnTo>
                  <a:pt x="297" y="240"/>
                </a:lnTo>
                <a:lnTo>
                  <a:pt x="281" y="286"/>
                </a:lnTo>
                <a:lnTo>
                  <a:pt x="266" y="334"/>
                </a:lnTo>
                <a:lnTo>
                  <a:pt x="252" y="385"/>
                </a:lnTo>
                <a:lnTo>
                  <a:pt x="240" y="438"/>
                </a:lnTo>
                <a:lnTo>
                  <a:pt x="227" y="495"/>
                </a:lnTo>
                <a:lnTo>
                  <a:pt x="216" y="556"/>
                </a:lnTo>
                <a:lnTo>
                  <a:pt x="205" y="617"/>
                </a:lnTo>
                <a:lnTo>
                  <a:pt x="192" y="606"/>
                </a:lnTo>
                <a:lnTo>
                  <a:pt x="178" y="600"/>
                </a:lnTo>
                <a:lnTo>
                  <a:pt x="163" y="598"/>
                </a:lnTo>
                <a:lnTo>
                  <a:pt x="149" y="600"/>
                </a:lnTo>
                <a:lnTo>
                  <a:pt x="135" y="608"/>
                </a:lnTo>
                <a:lnTo>
                  <a:pt x="121" y="620"/>
                </a:lnTo>
                <a:lnTo>
                  <a:pt x="107" y="636"/>
                </a:lnTo>
                <a:lnTo>
                  <a:pt x="95" y="656"/>
                </a:lnTo>
                <a:lnTo>
                  <a:pt x="81" y="680"/>
                </a:lnTo>
                <a:lnTo>
                  <a:pt x="70" y="708"/>
                </a:lnTo>
                <a:lnTo>
                  <a:pt x="58" y="739"/>
                </a:lnTo>
                <a:lnTo>
                  <a:pt x="48" y="775"/>
                </a:lnTo>
                <a:lnTo>
                  <a:pt x="38" y="813"/>
                </a:lnTo>
                <a:lnTo>
                  <a:pt x="30" y="854"/>
                </a:lnTo>
                <a:lnTo>
                  <a:pt x="22" y="899"/>
                </a:lnTo>
                <a:lnTo>
                  <a:pt x="15" y="944"/>
                </a:lnTo>
                <a:lnTo>
                  <a:pt x="10" y="992"/>
                </a:lnTo>
                <a:lnTo>
                  <a:pt x="6" y="1042"/>
                </a:lnTo>
                <a:lnTo>
                  <a:pt x="2" y="1092"/>
                </a:lnTo>
                <a:lnTo>
                  <a:pt x="0" y="1145"/>
                </a:lnTo>
                <a:lnTo>
                  <a:pt x="0" y="1196"/>
                </a:lnTo>
                <a:lnTo>
                  <a:pt x="0" y="1248"/>
                </a:lnTo>
                <a:lnTo>
                  <a:pt x="2" y="1300"/>
                </a:lnTo>
                <a:lnTo>
                  <a:pt x="6" y="1350"/>
                </a:lnTo>
                <a:lnTo>
                  <a:pt x="10" y="1400"/>
                </a:lnTo>
                <a:lnTo>
                  <a:pt x="15" y="1448"/>
                </a:lnTo>
                <a:lnTo>
                  <a:pt x="22" y="1493"/>
                </a:lnTo>
                <a:lnTo>
                  <a:pt x="30" y="1538"/>
                </a:lnTo>
                <a:lnTo>
                  <a:pt x="38" y="1579"/>
                </a:lnTo>
                <a:lnTo>
                  <a:pt x="48" y="1618"/>
                </a:lnTo>
                <a:lnTo>
                  <a:pt x="58" y="1653"/>
                </a:lnTo>
                <a:lnTo>
                  <a:pt x="70" y="1685"/>
                </a:lnTo>
                <a:lnTo>
                  <a:pt x="81" y="1712"/>
                </a:lnTo>
                <a:lnTo>
                  <a:pt x="95" y="1737"/>
                </a:lnTo>
                <a:lnTo>
                  <a:pt x="107" y="1757"/>
                </a:lnTo>
                <a:lnTo>
                  <a:pt x="121" y="1773"/>
                </a:lnTo>
                <a:lnTo>
                  <a:pt x="135" y="1785"/>
                </a:lnTo>
                <a:lnTo>
                  <a:pt x="149" y="1792"/>
                </a:lnTo>
                <a:lnTo>
                  <a:pt x="163" y="1794"/>
                </a:lnTo>
                <a:lnTo>
                  <a:pt x="178" y="1792"/>
                </a:lnTo>
                <a:lnTo>
                  <a:pt x="192" y="1786"/>
                </a:lnTo>
                <a:lnTo>
                  <a:pt x="205" y="177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2813040"/>
            <a:ext cx="1587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IP 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760" y="2725560"/>
            <a:ext cx="1145880" cy="16876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89320" y="3441600"/>
            <a:ext cx="1463400" cy="1657440"/>
          </a:xfrm>
          <a:custGeom>
            <a:avLst/>
            <a:gdLst/>
            <a:ahLst/>
            <a:rect l="l" t="t" r="r" b="b"/>
            <a:pathLst>
              <a:path w="1143" h="929">
                <a:moveTo>
                  <a:pt x="974" y="239"/>
                </a:moveTo>
                <a:lnTo>
                  <a:pt x="961" y="202"/>
                </a:lnTo>
                <a:lnTo>
                  <a:pt x="945" y="165"/>
                </a:lnTo>
                <a:lnTo>
                  <a:pt x="928" y="132"/>
                </a:lnTo>
                <a:lnTo>
                  <a:pt x="908" y="103"/>
                </a:lnTo>
                <a:lnTo>
                  <a:pt x="887" y="77"/>
                </a:lnTo>
                <a:lnTo>
                  <a:pt x="865" y="54"/>
                </a:lnTo>
                <a:lnTo>
                  <a:pt x="841" y="34"/>
                </a:lnTo>
                <a:lnTo>
                  <a:pt x="816" y="20"/>
                </a:lnTo>
                <a:lnTo>
                  <a:pt x="791" y="9"/>
                </a:lnTo>
                <a:lnTo>
                  <a:pt x="766" y="2"/>
                </a:lnTo>
                <a:lnTo>
                  <a:pt x="739" y="0"/>
                </a:lnTo>
                <a:lnTo>
                  <a:pt x="713" y="2"/>
                </a:lnTo>
                <a:lnTo>
                  <a:pt x="688" y="8"/>
                </a:lnTo>
                <a:lnTo>
                  <a:pt x="662" y="20"/>
                </a:lnTo>
                <a:lnTo>
                  <a:pt x="638" y="34"/>
                </a:lnTo>
                <a:lnTo>
                  <a:pt x="614" y="53"/>
                </a:lnTo>
                <a:lnTo>
                  <a:pt x="592" y="75"/>
                </a:lnTo>
                <a:lnTo>
                  <a:pt x="571" y="102"/>
                </a:lnTo>
                <a:lnTo>
                  <a:pt x="550" y="75"/>
                </a:lnTo>
                <a:lnTo>
                  <a:pt x="527" y="53"/>
                </a:lnTo>
                <a:lnTo>
                  <a:pt x="503" y="34"/>
                </a:lnTo>
                <a:lnTo>
                  <a:pt x="480" y="20"/>
                </a:lnTo>
                <a:lnTo>
                  <a:pt x="454" y="8"/>
                </a:lnTo>
                <a:lnTo>
                  <a:pt x="428" y="2"/>
                </a:lnTo>
                <a:lnTo>
                  <a:pt x="402" y="0"/>
                </a:lnTo>
                <a:lnTo>
                  <a:pt x="376" y="2"/>
                </a:lnTo>
                <a:lnTo>
                  <a:pt x="351" y="9"/>
                </a:lnTo>
                <a:lnTo>
                  <a:pt x="326" y="20"/>
                </a:lnTo>
                <a:lnTo>
                  <a:pt x="301" y="34"/>
                </a:lnTo>
                <a:lnTo>
                  <a:pt x="277" y="54"/>
                </a:lnTo>
                <a:lnTo>
                  <a:pt x="255" y="77"/>
                </a:lnTo>
                <a:lnTo>
                  <a:pt x="233" y="103"/>
                </a:lnTo>
                <a:lnTo>
                  <a:pt x="214" y="132"/>
                </a:lnTo>
                <a:lnTo>
                  <a:pt x="197" y="165"/>
                </a:lnTo>
                <a:lnTo>
                  <a:pt x="181" y="202"/>
                </a:lnTo>
                <a:lnTo>
                  <a:pt x="167" y="239"/>
                </a:lnTo>
                <a:lnTo>
                  <a:pt x="150" y="234"/>
                </a:lnTo>
                <a:lnTo>
                  <a:pt x="133" y="233"/>
                </a:lnTo>
                <a:lnTo>
                  <a:pt x="115" y="235"/>
                </a:lnTo>
                <a:lnTo>
                  <a:pt x="98" y="241"/>
                </a:lnTo>
                <a:lnTo>
                  <a:pt x="82" y="251"/>
                </a:lnTo>
                <a:lnTo>
                  <a:pt x="66" y="265"/>
                </a:lnTo>
                <a:lnTo>
                  <a:pt x="51" y="280"/>
                </a:lnTo>
                <a:lnTo>
                  <a:pt x="38" y="301"/>
                </a:lnTo>
                <a:lnTo>
                  <a:pt x="27" y="324"/>
                </a:lnTo>
                <a:lnTo>
                  <a:pt x="17" y="349"/>
                </a:lnTo>
                <a:lnTo>
                  <a:pt x="9" y="376"/>
                </a:lnTo>
                <a:lnTo>
                  <a:pt x="3" y="405"/>
                </a:lnTo>
                <a:lnTo>
                  <a:pt x="0" y="434"/>
                </a:lnTo>
                <a:lnTo>
                  <a:pt x="0" y="465"/>
                </a:lnTo>
                <a:lnTo>
                  <a:pt x="0" y="495"/>
                </a:lnTo>
                <a:lnTo>
                  <a:pt x="3" y="524"/>
                </a:lnTo>
                <a:lnTo>
                  <a:pt x="9" y="553"/>
                </a:lnTo>
                <a:lnTo>
                  <a:pt x="17" y="580"/>
                </a:lnTo>
                <a:lnTo>
                  <a:pt x="27" y="605"/>
                </a:lnTo>
                <a:lnTo>
                  <a:pt x="38" y="628"/>
                </a:lnTo>
                <a:lnTo>
                  <a:pt x="51" y="648"/>
                </a:lnTo>
                <a:lnTo>
                  <a:pt x="66" y="666"/>
                </a:lnTo>
                <a:lnTo>
                  <a:pt x="82" y="679"/>
                </a:lnTo>
                <a:lnTo>
                  <a:pt x="98" y="688"/>
                </a:lnTo>
                <a:lnTo>
                  <a:pt x="115" y="695"/>
                </a:lnTo>
                <a:lnTo>
                  <a:pt x="133" y="697"/>
                </a:lnTo>
                <a:lnTo>
                  <a:pt x="150" y="695"/>
                </a:lnTo>
                <a:lnTo>
                  <a:pt x="167" y="689"/>
                </a:lnTo>
                <a:lnTo>
                  <a:pt x="181" y="728"/>
                </a:lnTo>
                <a:lnTo>
                  <a:pt x="197" y="764"/>
                </a:lnTo>
                <a:lnTo>
                  <a:pt x="214" y="797"/>
                </a:lnTo>
                <a:lnTo>
                  <a:pt x="233" y="826"/>
                </a:lnTo>
                <a:lnTo>
                  <a:pt x="255" y="852"/>
                </a:lnTo>
                <a:lnTo>
                  <a:pt x="277" y="875"/>
                </a:lnTo>
                <a:lnTo>
                  <a:pt x="301" y="895"/>
                </a:lnTo>
                <a:lnTo>
                  <a:pt x="326" y="909"/>
                </a:lnTo>
                <a:lnTo>
                  <a:pt x="351" y="921"/>
                </a:lnTo>
                <a:lnTo>
                  <a:pt x="376" y="928"/>
                </a:lnTo>
                <a:lnTo>
                  <a:pt x="402" y="929"/>
                </a:lnTo>
                <a:lnTo>
                  <a:pt x="428" y="928"/>
                </a:lnTo>
                <a:lnTo>
                  <a:pt x="454" y="921"/>
                </a:lnTo>
                <a:lnTo>
                  <a:pt x="480" y="911"/>
                </a:lnTo>
                <a:lnTo>
                  <a:pt x="503" y="896"/>
                </a:lnTo>
                <a:lnTo>
                  <a:pt x="527" y="876"/>
                </a:lnTo>
                <a:lnTo>
                  <a:pt x="550" y="854"/>
                </a:lnTo>
                <a:lnTo>
                  <a:pt x="571" y="827"/>
                </a:lnTo>
                <a:lnTo>
                  <a:pt x="592" y="854"/>
                </a:lnTo>
                <a:lnTo>
                  <a:pt x="614" y="876"/>
                </a:lnTo>
                <a:lnTo>
                  <a:pt x="638" y="896"/>
                </a:lnTo>
                <a:lnTo>
                  <a:pt x="662" y="911"/>
                </a:lnTo>
                <a:lnTo>
                  <a:pt x="688" y="921"/>
                </a:lnTo>
                <a:lnTo>
                  <a:pt x="713" y="928"/>
                </a:lnTo>
                <a:lnTo>
                  <a:pt x="739" y="929"/>
                </a:lnTo>
                <a:lnTo>
                  <a:pt x="766" y="928"/>
                </a:lnTo>
                <a:lnTo>
                  <a:pt x="791" y="921"/>
                </a:lnTo>
                <a:lnTo>
                  <a:pt x="816" y="909"/>
                </a:lnTo>
                <a:lnTo>
                  <a:pt x="841" y="895"/>
                </a:lnTo>
                <a:lnTo>
                  <a:pt x="865" y="875"/>
                </a:lnTo>
                <a:lnTo>
                  <a:pt x="887" y="852"/>
                </a:lnTo>
                <a:lnTo>
                  <a:pt x="908" y="826"/>
                </a:lnTo>
                <a:lnTo>
                  <a:pt x="928" y="797"/>
                </a:lnTo>
                <a:lnTo>
                  <a:pt x="945" y="764"/>
                </a:lnTo>
                <a:lnTo>
                  <a:pt x="961" y="728"/>
                </a:lnTo>
                <a:lnTo>
                  <a:pt x="974" y="689"/>
                </a:lnTo>
                <a:lnTo>
                  <a:pt x="991" y="695"/>
                </a:lnTo>
                <a:lnTo>
                  <a:pt x="1010" y="697"/>
                </a:lnTo>
                <a:lnTo>
                  <a:pt x="1027" y="695"/>
                </a:lnTo>
                <a:lnTo>
                  <a:pt x="1044" y="688"/>
                </a:lnTo>
                <a:lnTo>
                  <a:pt x="1060" y="679"/>
                </a:lnTo>
                <a:lnTo>
                  <a:pt x="1076" y="666"/>
                </a:lnTo>
                <a:lnTo>
                  <a:pt x="1091" y="648"/>
                </a:lnTo>
                <a:lnTo>
                  <a:pt x="1103" y="628"/>
                </a:lnTo>
                <a:lnTo>
                  <a:pt x="1115" y="605"/>
                </a:lnTo>
                <a:lnTo>
                  <a:pt x="1125" y="580"/>
                </a:lnTo>
                <a:lnTo>
                  <a:pt x="1133" y="553"/>
                </a:lnTo>
                <a:lnTo>
                  <a:pt x="1138" y="524"/>
                </a:lnTo>
                <a:lnTo>
                  <a:pt x="1142" y="495"/>
                </a:lnTo>
                <a:lnTo>
                  <a:pt x="1143" y="465"/>
                </a:lnTo>
                <a:lnTo>
                  <a:pt x="1142" y="434"/>
                </a:lnTo>
                <a:lnTo>
                  <a:pt x="1138" y="405"/>
                </a:lnTo>
                <a:lnTo>
                  <a:pt x="1133" y="376"/>
                </a:lnTo>
                <a:lnTo>
                  <a:pt x="1125" y="349"/>
                </a:lnTo>
                <a:lnTo>
                  <a:pt x="1115" y="324"/>
                </a:lnTo>
                <a:lnTo>
                  <a:pt x="1103" y="301"/>
                </a:lnTo>
                <a:lnTo>
                  <a:pt x="1091" y="280"/>
                </a:lnTo>
                <a:lnTo>
                  <a:pt x="1076" y="265"/>
                </a:lnTo>
                <a:lnTo>
                  <a:pt x="1060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1" y="234"/>
                </a:lnTo>
                <a:lnTo>
                  <a:pt x="974" y="23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52760" y="3965400"/>
            <a:ext cx="1136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94200" y="1476360"/>
            <a:ext cx="1245600" cy="852480"/>
            <a:chOff x="3994200" y="1476360"/>
            <a:chExt cx="1245600" cy="852480"/>
          </a:xfrm>
        </p:grpSpPr>
        <p:sp>
          <p:nvSpPr>
            <p:cNvPr id="228" name=""/>
            <p:cNvSpPr/>
            <p:nvPr/>
          </p:nvSpPr>
          <p:spPr>
            <a:xfrm>
              <a:off x="3994200" y="1476360"/>
              <a:ext cx="1245600" cy="8524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0" y="175104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29440" y="2830680"/>
            <a:ext cx="915840" cy="460080"/>
            <a:chOff x="6229440" y="2830680"/>
            <a:chExt cx="915840" cy="460080"/>
          </a:xfrm>
        </p:grpSpPr>
        <p:sp>
          <p:nvSpPr>
            <p:cNvPr id="231" name=""/>
            <p:cNvSpPr/>
            <p:nvPr/>
          </p:nvSpPr>
          <p:spPr>
            <a:xfrm>
              <a:off x="6229440" y="2830680"/>
              <a:ext cx="915840" cy="4600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03400" y="2908080"/>
              <a:ext cx="36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229440" y="3848040"/>
            <a:ext cx="919080" cy="460440"/>
            <a:chOff x="6229440" y="3848040"/>
            <a:chExt cx="919080" cy="460440"/>
          </a:xfrm>
        </p:grpSpPr>
        <p:sp>
          <p:nvSpPr>
            <p:cNvPr id="234" name=""/>
            <p:cNvSpPr/>
            <p:nvPr/>
          </p:nvSpPr>
          <p:spPr>
            <a:xfrm>
              <a:off x="6229440" y="3848040"/>
              <a:ext cx="919080" cy="4604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83600" y="3925800"/>
              <a:ext cx="41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29440" y="3338640"/>
            <a:ext cx="915840" cy="461880"/>
            <a:chOff x="6229440" y="3338640"/>
            <a:chExt cx="915840" cy="461880"/>
          </a:xfrm>
        </p:grpSpPr>
        <p:sp>
          <p:nvSpPr>
            <p:cNvPr id="237" name=""/>
            <p:cNvSpPr/>
            <p:nvPr/>
          </p:nvSpPr>
          <p:spPr>
            <a:xfrm>
              <a:off x="6229440" y="3338640"/>
              <a:ext cx="915840" cy="4618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89640" y="341784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G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414600" y="3268800"/>
            <a:ext cx="893880" cy="641160"/>
            <a:chOff x="3414600" y="3268800"/>
            <a:chExt cx="893880" cy="641160"/>
          </a:xfrm>
        </p:grpSpPr>
        <p:sp>
          <p:nvSpPr>
            <p:cNvPr id="240" name=""/>
            <p:cNvSpPr/>
            <p:nvPr/>
          </p:nvSpPr>
          <p:spPr>
            <a:xfrm>
              <a:off x="3414600" y="3268800"/>
              <a:ext cx="893880" cy="641160"/>
            </a:xfrm>
            <a:prstGeom prst="rect">
              <a:avLst/>
            </a:prstGeom>
            <a:solidFill>
              <a:srgbClr val="e6e6e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4240" y="34369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23720" y="2989440"/>
            <a:ext cx="1538280" cy="1161720"/>
          </a:xfrm>
          <a:custGeom>
            <a:avLst/>
            <a:gdLst/>
            <a:ahLst/>
            <a:rect l="l" t="t" r="r" b="b"/>
            <a:pathLst>
              <a:path w="1143" h="929">
                <a:moveTo>
                  <a:pt x="974" y="239"/>
                </a:moveTo>
                <a:lnTo>
                  <a:pt x="961" y="202"/>
                </a:lnTo>
                <a:lnTo>
                  <a:pt x="945" y="165"/>
                </a:lnTo>
                <a:lnTo>
                  <a:pt x="928" y="132"/>
                </a:lnTo>
                <a:lnTo>
                  <a:pt x="908" y="103"/>
                </a:lnTo>
                <a:lnTo>
                  <a:pt x="887" y="77"/>
                </a:lnTo>
                <a:lnTo>
                  <a:pt x="865" y="54"/>
                </a:lnTo>
                <a:lnTo>
                  <a:pt x="841" y="34"/>
                </a:lnTo>
                <a:lnTo>
                  <a:pt x="816" y="20"/>
                </a:lnTo>
                <a:lnTo>
                  <a:pt x="791" y="9"/>
                </a:lnTo>
                <a:lnTo>
                  <a:pt x="766" y="2"/>
                </a:lnTo>
                <a:lnTo>
                  <a:pt x="739" y="0"/>
                </a:lnTo>
                <a:lnTo>
                  <a:pt x="713" y="2"/>
                </a:lnTo>
                <a:lnTo>
                  <a:pt x="688" y="8"/>
                </a:lnTo>
                <a:lnTo>
                  <a:pt x="662" y="20"/>
                </a:lnTo>
                <a:lnTo>
                  <a:pt x="638" y="34"/>
                </a:lnTo>
                <a:lnTo>
                  <a:pt x="614" y="53"/>
                </a:lnTo>
                <a:lnTo>
                  <a:pt x="592" y="75"/>
                </a:lnTo>
                <a:lnTo>
                  <a:pt x="571" y="102"/>
                </a:lnTo>
                <a:lnTo>
                  <a:pt x="550" y="75"/>
                </a:lnTo>
                <a:lnTo>
                  <a:pt x="527" y="53"/>
                </a:lnTo>
                <a:lnTo>
                  <a:pt x="503" y="34"/>
                </a:lnTo>
                <a:lnTo>
                  <a:pt x="480" y="20"/>
                </a:lnTo>
                <a:lnTo>
                  <a:pt x="454" y="8"/>
                </a:lnTo>
                <a:lnTo>
                  <a:pt x="428" y="2"/>
                </a:lnTo>
                <a:lnTo>
                  <a:pt x="402" y="0"/>
                </a:lnTo>
                <a:lnTo>
                  <a:pt x="376" y="2"/>
                </a:lnTo>
                <a:lnTo>
                  <a:pt x="351" y="9"/>
                </a:lnTo>
                <a:lnTo>
                  <a:pt x="326" y="20"/>
                </a:lnTo>
                <a:lnTo>
                  <a:pt x="301" y="34"/>
                </a:lnTo>
                <a:lnTo>
                  <a:pt x="277" y="54"/>
                </a:lnTo>
                <a:lnTo>
                  <a:pt x="255" y="77"/>
                </a:lnTo>
                <a:lnTo>
                  <a:pt x="233" y="103"/>
                </a:lnTo>
                <a:lnTo>
                  <a:pt x="214" y="132"/>
                </a:lnTo>
                <a:lnTo>
                  <a:pt x="197" y="165"/>
                </a:lnTo>
                <a:lnTo>
                  <a:pt x="181" y="202"/>
                </a:lnTo>
                <a:lnTo>
                  <a:pt x="167" y="239"/>
                </a:lnTo>
                <a:lnTo>
                  <a:pt x="150" y="234"/>
                </a:lnTo>
                <a:lnTo>
                  <a:pt x="133" y="233"/>
                </a:lnTo>
                <a:lnTo>
                  <a:pt x="115" y="235"/>
                </a:lnTo>
                <a:lnTo>
                  <a:pt x="98" y="241"/>
                </a:lnTo>
                <a:lnTo>
                  <a:pt x="82" y="251"/>
                </a:lnTo>
                <a:lnTo>
                  <a:pt x="66" y="265"/>
                </a:lnTo>
                <a:lnTo>
                  <a:pt x="51" y="280"/>
                </a:lnTo>
                <a:lnTo>
                  <a:pt x="38" y="301"/>
                </a:lnTo>
                <a:lnTo>
                  <a:pt x="27" y="324"/>
                </a:lnTo>
                <a:lnTo>
                  <a:pt x="17" y="349"/>
                </a:lnTo>
                <a:lnTo>
                  <a:pt x="9" y="376"/>
                </a:lnTo>
                <a:lnTo>
                  <a:pt x="3" y="405"/>
                </a:lnTo>
                <a:lnTo>
                  <a:pt x="0" y="434"/>
                </a:lnTo>
                <a:lnTo>
                  <a:pt x="0" y="465"/>
                </a:lnTo>
                <a:lnTo>
                  <a:pt x="0" y="495"/>
                </a:lnTo>
                <a:lnTo>
                  <a:pt x="3" y="524"/>
                </a:lnTo>
                <a:lnTo>
                  <a:pt x="9" y="553"/>
                </a:lnTo>
                <a:lnTo>
                  <a:pt x="17" y="580"/>
                </a:lnTo>
                <a:lnTo>
                  <a:pt x="27" y="605"/>
                </a:lnTo>
                <a:lnTo>
                  <a:pt x="38" y="628"/>
                </a:lnTo>
                <a:lnTo>
                  <a:pt x="51" y="648"/>
                </a:lnTo>
                <a:lnTo>
                  <a:pt x="66" y="666"/>
                </a:lnTo>
                <a:lnTo>
                  <a:pt x="82" y="679"/>
                </a:lnTo>
                <a:lnTo>
                  <a:pt x="98" y="688"/>
                </a:lnTo>
                <a:lnTo>
                  <a:pt x="115" y="695"/>
                </a:lnTo>
                <a:lnTo>
                  <a:pt x="133" y="697"/>
                </a:lnTo>
                <a:lnTo>
                  <a:pt x="150" y="695"/>
                </a:lnTo>
                <a:lnTo>
                  <a:pt x="167" y="689"/>
                </a:lnTo>
                <a:lnTo>
                  <a:pt x="181" y="728"/>
                </a:lnTo>
                <a:lnTo>
                  <a:pt x="197" y="764"/>
                </a:lnTo>
                <a:lnTo>
                  <a:pt x="214" y="797"/>
                </a:lnTo>
                <a:lnTo>
                  <a:pt x="233" y="826"/>
                </a:lnTo>
                <a:lnTo>
                  <a:pt x="255" y="852"/>
                </a:lnTo>
                <a:lnTo>
                  <a:pt x="277" y="875"/>
                </a:lnTo>
                <a:lnTo>
                  <a:pt x="301" y="895"/>
                </a:lnTo>
                <a:lnTo>
                  <a:pt x="326" y="909"/>
                </a:lnTo>
                <a:lnTo>
                  <a:pt x="351" y="921"/>
                </a:lnTo>
                <a:lnTo>
                  <a:pt x="376" y="928"/>
                </a:lnTo>
                <a:lnTo>
                  <a:pt x="402" y="929"/>
                </a:lnTo>
                <a:lnTo>
                  <a:pt x="428" y="928"/>
                </a:lnTo>
                <a:lnTo>
                  <a:pt x="454" y="921"/>
                </a:lnTo>
                <a:lnTo>
                  <a:pt x="480" y="911"/>
                </a:lnTo>
                <a:lnTo>
                  <a:pt x="503" y="896"/>
                </a:lnTo>
                <a:lnTo>
                  <a:pt x="527" y="876"/>
                </a:lnTo>
                <a:lnTo>
                  <a:pt x="550" y="854"/>
                </a:lnTo>
                <a:lnTo>
                  <a:pt x="571" y="827"/>
                </a:lnTo>
                <a:lnTo>
                  <a:pt x="592" y="854"/>
                </a:lnTo>
                <a:lnTo>
                  <a:pt x="614" y="876"/>
                </a:lnTo>
                <a:lnTo>
                  <a:pt x="638" y="896"/>
                </a:lnTo>
                <a:lnTo>
                  <a:pt x="662" y="911"/>
                </a:lnTo>
                <a:lnTo>
                  <a:pt x="688" y="921"/>
                </a:lnTo>
                <a:lnTo>
                  <a:pt x="713" y="928"/>
                </a:lnTo>
                <a:lnTo>
                  <a:pt x="739" y="929"/>
                </a:lnTo>
                <a:lnTo>
                  <a:pt x="766" y="928"/>
                </a:lnTo>
                <a:lnTo>
                  <a:pt x="791" y="921"/>
                </a:lnTo>
                <a:lnTo>
                  <a:pt x="816" y="909"/>
                </a:lnTo>
                <a:lnTo>
                  <a:pt x="841" y="895"/>
                </a:lnTo>
                <a:lnTo>
                  <a:pt x="865" y="875"/>
                </a:lnTo>
                <a:lnTo>
                  <a:pt x="887" y="852"/>
                </a:lnTo>
                <a:lnTo>
                  <a:pt x="908" y="826"/>
                </a:lnTo>
                <a:lnTo>
                  <a:pt x="928" y="797"/>
                </a:lnTo>
                <a:lnTo>
                  <a:pt x="945" y="764"/>
                </a:lnTo>
                <a:lnTo>
                  <a:pt x="961" y="728"/>
                </a:lnTo>
                <a:lnTo>
                  <a:pt x="974" y="689"/>
                </a:lnTo>
                <a:lnTo>
                  <a:pt x="991" y="695"/>
                </a:lnTo>
                <a:lnTo>
                  <a:pt x="1010" y="697"/>
                </a:lnTo>
                <a:lnTo>
                  <a:pt x="1027" y="695"/>
                </a:lnTo>
                <a:lnTo>
                  <a:pt x="1044" y="688"/>
                </a:lnTo>
                <a:lnTo>
                  <a:pt x="1060" y="679"/>
                </a:lnTo>
                <a:lnTo>
                  <a:pt x="1076" y="666"/>
                </a:lnTo>
                <a:lnTo>
                  <a:pt x="1091" y="648"/>
                </a:lnTo>
                <a:lnTo>
                  <a:pt x="1103" y="628"/>
                </a:lnTo>
                <a:lnTo>
                  <a:pt x="1115" y="605"/>
                </a:lnTo>
                <a:lnTo>
                  <a:pt x="1125" y="580"/>
                </a:lnTo>
                <a:lnTo>
                  <a:pt x="1133" y="553"/>
                </a:lnTo>
                <a:lnTo>
                  <a:pt x="1138" y="524"/>
                </a:lnTo>
                <a:lnTo>
                  <a:pt x="1142" y="495"/>
                </a:lnTo>
                <a:lnTo>
                  <a:pt x="1143" y="465"/>
                </a:lnTo>
                <a:lnTo>
                  <a:pt x="1142" y="434"/>
                </a:lnTo>
                <a:lnTo>
                  <a:pt x="1138" y="405"/>
                </a:lnTo>
                <a:lnTo>
                  <a:pt x="1133" y="376"/>
                </a:lnTo>
                <a:lnTo>
                  <a:pt x="1125" y="349"/>
                </a:lnTo>
                <a:lnTo>
                  <a:pt x="1115" y="324"/>
                </a:lnTo>
                <a:lnTo>
                  <a:pt x="1103" y="301"/>
                </a:lnTo>
                <a:lnTo>
                  <a:pt x="1091" y="280"/>
                </a:lnTo>
                <a:lnTo>
                  <a:pt x="1076" y="265"/>
                </a:lnTo>
                <a:lnTo>
                  <a:pt x="1060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1" y="234"/>
                </a:lnTo>
                <a:lnTo>
                  <a:pt x="974" y="23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6200" y="3325680"/>
            <a:ext cx="1093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IP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98480" y="3719520"/>
            <a:ext cx="893520" cy="641160"/>
            <a:chOff x="1698480" y="3719520"/>
            <a:chExt cx="893520" cy="641160"/>
          </a:xfrm>
        </p:grpSpPr>
        <p:sp>
          <p:nvSpPr>
            <p:cNvPr id="245" name=""/>
            <p:cNvSpPr/>
            <p:nvPr/>
          </p:nvSpPr>
          <p:spPr>
            <a:xfrm>
              <a:off x="1698480" y="3719520"/>
              <a:ext cx="893520" cy="641160"/>
            </a:xfrm>
            <a:prstGeom prst="rect">
              <a:avLst/>
            </a:prstGeom>
            <a:solidFill>
              <a:srgbClr val="e6e6e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46880" y="3887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3840" y="2432160"/>
            <a:ext cx="893520" cy="641160"/>
            <a:chOff x="393840" y="2432160"/>
            <a:chExt cx="893520" cy="641160"/>
          </a:xfrm>
        </p:grpSpPr>
        <p:sp>
          <p:nvSpPr>
            <p:cNvPr id="248" name=""/>
            <p:cNvSpPr/>
            <p:nvPr/>
          </p:nvSpPr>
          <p:spPr>
            <a:xfrm>
              <a:off x="393840" y="2432160"/>
              <a:ext cx="893520" cy="641160"/>
            </a:xfrm>
            <a:prstGeom prst="rect">
              <a:avLst/>
            </a:prstGeom>
            <a:solidFill>
              <a:srgbClr val="e6e6e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2760" y="2600280"/>
              <a:ext cx="537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07880" y="1504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478640" y="5197320"/>
            <a:ext cx="838440" cy="441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31800" y="2003400"/>
            <a:ext cx="0" cy="3906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2000" y="2003400"/>
            <a:ext cx="0" cy="390600"/>
          </a:xfrm>
          <a:prstGeom prst="line">
            <a:avLst/>
          </a:prstGeom>
          <a:ln w="8892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22760" y="2367000"/>
            <a:ext cx="1565280" cy="1179360"/>
          </a:xfrm>
          <a:prstGeom prst="line">
            <a:avLst/>
          </a:prstGeom>
          <a:ln w="8892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44080" y="1594800"/>
            <a:ext cx="2788200" cy="1171440"/>
            <a:chOff x="1144080" y="1594800"/>
            <a:chExt cx="2788200" cy="1171440"/>
          </a:xfrm>
        </p:grpSpPr>
        <p:sp>
          <p:nvSpPr>
            <p:cNvPr id="256" name=""/>
            <p:cNvSpPr/>
            <p:nvPr/>
          </p:nvSpPr>
          <p:spPr>
            <a:xfrm flipV="1">
              <a:off x="1362240" y="1923840"/>
              <a:ext cx="2570040" cy="834840"/>
            </a:xfrm>
            <a:prstGeom prst="line">
              <a:avLst/>
            </a:prstGeom>
            <a:ln w="88920">
              <a:solidFill>
                <a:srgbClr val="ff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556600">
              <a:off x="1143000" y="198108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ing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26920" y="3151080"/>
            <a:ext cx="847800" cy="91116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654280" y="3631680"/>
            <a:ext cx="717480" cy="4590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353120" y="3633840"/>
            <a:ext cx="1810800" cy="738720"/>
            <a:chOff x="4353120" y="3633840"/>
            <a:chExt cx="1810800" cy="738720"/>
          </a:xfrm>
        </p:grpSpPr>
        <p:sp>
          <p:nvSpPr>
            <p:cNvPr id="261" name=""/>
            <p:cNvSpPr/>
            <p:nvPr/>
          </p:nvSpPr>
          <p:spPr>
            <a:xfrm>
              <a:off x="4389120" y="3633840"/>
              <a:ext cx="1774800" cy="453960"/>
            </a:xfrm>
            <a:prstGeom prst="line">
              <a:avLst/>
            </a:prstGeom>
            <a:ln w="889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19600">
              <a:off x="4379400" y="3804840"/>
              <a:ext cx="14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dia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209000" y="3084480"/>
            <a:ext cx="952200" cy="2075040"/>
          </a:xfrm>
          <a:prstGeom prst="line">
            <a:avLst/>
          </a:prstGeom>
          <a:ln w="8892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65920" y="4071960"/>
            <a:ext cx="915480" cy="1132200"/>
            <a:chOff x="6865920" y="4071960"/>
            <a:chExt cx="915480" cy="1132200"/>
          </a:xfrm>
        </p:grpSpPr>
        <p:sp>
          <p:nvSpPr>
            <p:cNvPr id="265" name=""/>
            <p:cNvSpPr/>
            <p:nvPr/>
          </p:nvSpPr>
          <p:spPr>
            <a:xfrm>
              <a:off x="7198920" y="4071960"/>
              <a:ext cx="582480" cy="1098360"/>
            </a:xfrm>
            <a:prstGeom prst="line">
              <a:avLst/>
            </a:prstGeom>
            <a:ln w="889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65920" y="480528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S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24680" y="3021120"/>
            <a:ext cx="0" cy="573120"/>
          </a:xfrm>
          <a:prstGeom prst="line">
            <a:avLst/>
          </a:prstGeom>
          <a:ln w="88920">
            <a:solidFill>
              <a:srgbClr val="ffcc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010280" y="3581280"/>
            <a:ext cx="14400" cy="533520"/>
          </a:xfrm>
          <a:prstGeom prst="line">
            <a:avLst/>
          </a:prstGeom>
          <a:ln w="8892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1219320"/>
            <a:ext cx="1371600" cy="761760"/>
          </a:xfrm>
          <a:prstGeom prst="wedgeRoundRectCallout">
            <a:avLst>
              <a:gd name="adj1" fmla="val -77083"/>
              <a:gd name="adj2" fmla="val 78541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ent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2743200"/>
            <a:ext cx="1066680" cy="533520"/>
          </a:xfrm>
          <a:prstGeom prst="wedgeRoundRectCallout">
            <a:avLst>
              <a:gd name="adj1" fmla="val -37203"/>
              <a:gd name="adj2" fmla="val -86606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735200"/>
            <a:ext cx="1066680" cy="703080"/>
          </a:xfrm>
          <a:prstGeom prst="wedgeRoundRectCallout">
            <a:avLst>
              <a:gd name="adj1" fmla="val -117856"/>
              <a:gd name="adj2" fmla="val 94694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er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1981080"/>
            <a:ext cx="1066680" cy="533520"/>
          </a:xfrm>
          <a:prstGeom prst="wedgeRoundRectCallout">
            <a:avLst>
              <a:gd name="adj1" fmla="val -97171"/>
              <a:gd name="adj2" fmla="val 208930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4648320"/>
            <a:ext cx="1067040" cy="533160"/>
          </a:xfrm>
          <a:prstGeom prst="wedgeRoundRectCallout">
            <a:avLst>
              <a:gd name="adj1" fmla="val 65476"/>
              <a:gd name="adj2" fmla="val -180060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3505320"/>
            <a:ext cx="1066680" cy="533160"/>
          </a:xfrm>
          <a:prstGeom prst="wedgeRoundRectCallout">
            <a:avLst>
              <a:gd name="adj1" fmla="val -45833"/>
              <a:gd name="adj2" fmla="val 101486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601992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P ... Internet Signaling Transport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S ... Network Call 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CP ... Trunking Gateway Control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Call Signaling Interfaces (1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Network Based Call Signaling (NCS) - J.1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(MTA) to IPCablecom network (CMS) signaling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of Media Gateway Control Protocol (MGCP) defined by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unctions to set-up and control calls within IPCablecom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specifics of cable acces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simple, thin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d protocol support for Quality of Service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extensible through the addition of event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Call Signaling Interfaces (2)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Trunking Gateway Control Protocol (TGCP) - J.1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Gateway Controller (MGC) to Media Gateway (MG) signaling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of MGCP, future alternative based on H.248 unde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unctions to control bearer connectivity between IPCablecom network and PS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Internet Signaling Transport Protocol (ISTP) - J.1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interface of IPCablecom call control elements (MGC, CMS) to Signaling Gateway (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unctions to interconnect IPCablecom signaling with Signaling System No. 7 (SS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tions of SS7 must be accommo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Media Interfaces</a:t>
            </a:r>
            <a:endParaRPr b="0" i="1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Media Stream - J.16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/UDP/IP for real-tim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(G.729), medium (G.728), and high (G.711) rate codecs (only G.711 re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MF transmission is in-band in G.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MF transmission according to RFC 2833 for other cod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3:27:29Z</dcterms:created>
  <dc:creator>Volker Leisse</dc:creator>
  <dc:description/>
  <dc:language>en-US</dc:language>
  <cp:lastModifiedBy>Volker Leisse</cp:lastModifiedBy>
  <cp:lastPrinted>2002-03-13T10:52:02Z</cp:lastPrinted>
  <dcterms:modified xsi:type="dcterms:W3CDTF">2002-03-13T10:56:52Z</dcterms:modified>
  <cp:revision>70</cp:revision>
  <dc:subject>ITU-T Workshop on Multimedia Convergence</dc:subject>
  <dc:title>IPCablecom - Network and Service Architecture</dc:title>
</cp:coreProperties>
</file>