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7D32-525A-4038-920B-F0BD0207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086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240" y="3948480"/>
            <a:ext cx="7086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8C77-FB35-46A6-99A6-59361C8D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02560" y="160020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240" y="394848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02560" y="394848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CBAE-1594-43B8-9BBA-AFDA4778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228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67400" y="1600200"/>
            <a:ext cx="228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3560" y="1600200"/>
            <a:ext cx="228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240" y="3948480"/>
            <a:ext cx="228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67400" y="3948480"/>
            <a:ext cx="228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3560" y="3948480"/>
            <a:ext cx="228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41E7-539A-4BEF-886C-27906175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24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53B8-A9C3-4243-8C6C-C18113A5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D8FD-E06F-4C6D-BF5B-663DCF14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34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02560" y="1600200"/>
            <a:ext cx="34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19E2-AF5C-40E2-B486-C414ECA4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34BA-4951-4836-96C0-FCE8EB92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609480"/>
            <a:ext cx="68580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BEE4-9758-4F2B-A256-E9E80E38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02560" y="1600200"/>
            <a:ext cx="34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240" y="394848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FF67-3E71-4A86-B99D-A6219DFB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34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02560" y="160020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02560" y="394848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1BB4-2C6C-424F-854F-02F46AFC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2560" y="1600200"/>
            <a:ext cx="34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240" y="3948480"/>
            <a:ext cx="7086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1752-E5D2-4E7C-90EA-C173C61D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ground_v_smaller" descr=""/>
          <p:cNvPicPr/>
          <p:nvPr/>
        </p:nvPicPr>
        <p:blipFill>
          <a:blip r:embed="rId2"/>
          <a:stretch/>
        </p:blipFill>
        <p:spPr>
          <a:xfrm>
            <a:off x="0" y="0"/>
            <a:ext cx="3424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0f0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4628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462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4628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4462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0f0b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0920" y="6400800"/>
            <a:ext cx="338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64008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2ADA-AB41-44B1-8463-519FD71B2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Logetsi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47960" cy="32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3240" y="631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hop on Multimedia Convergen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U-T Geneva, 12 March 2002</a:t>
            </a:r>
            <a:endParaRPr b="0" lang="en-US" sz="24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82800" y="2657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0f0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b90f0b"/>
                </a:solidFill>
                <a:latin typeface="Arial"/>
              </a:rPr>
              <a:t>ETSI’s Approach to IPCablecom</a:t>
            </a:r>
            <a:endParaRPr b="1" lang="en-US" sz="3200" spc="-1" strike="noStrike">
              <a:solidFill>
                <a:srgbClr val="b90f0b"/>
              </a:solidFill>
              <a:latin typeface="Arial"/>
            </a:endParaRPr>
          </a:p>
          <a:p>
            <a:pPr marL="20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0f0b"/>
                </a:solidFill>
                <a:latin typeface="Arial"/>
              </a:rPr>
              <a:t>Standardization</a:t>
            </a:r>
            <a:endParaRPr b="1" lang="en-US" sz="32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57560" y="4191120"/>
            <a:ext cx="555120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90f0b"/>
                </a:solidFill>
                <a:latin typeface="Arial"/>
              </a:rPr>
              <a:t>Jim Price, C.Eng, M.I.E.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90f0b"/>
                </a:solidFill>
                <a:latin typeface="Arial"/>
              </a:rPr>
              <a:t>Chairman, ETSI OCG ad hoc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90f0b"/>
                </a:solidFill>
                <a:latin typeface="Arial"/>
              </a:rPr>
              <a:t>on IPCable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0C09-5A24-4441-97C0-132B616AD48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812880"/>
            <a:ext cx="80424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PCablecom for Europe…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.... Recognising the opportunities</a:t>
            </a:r>
            <a:endParaRPr b="0" lang="en-US" sz="24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95240" y="1960200"/>
            <a:ext cx="81108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b90f0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0f0b"/>
                </a:solidFill>
                <a:latin typeface="Arial"/>
              </a:rPr>
              <a:t>European Cable TV Operators need to be able to compete with incumbent telecomms operators</a:t>
            </a:r>
            <a:endParaRPr b="1" lang="en-US" sz="18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90f0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0f0b"/>
                </a:solidFill>
                <a:latin typeface="Arial"/>
              </a:rPr>
              <a:t>ETSI acknowledged European Cable TV Operator requirements</a:t>
            </a:r>
            <a:endParaRPr b="1" lang="en-US" sz="1800" spc="-1" strike="noStrike">
              <a:solidFill>
                <a:srgbClr val="b90f0b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90f0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90f0b"/>
                </a:solidFill>
                <a:latin typeface="Arial"/>
              </a:rPr>
              <a:t>Differing regulatory and operational scenarios in Europe</a:t>
            </a:r>
            <a:endParaRPr b="1" lang="en-US" sz="1600" spc="-1" strike="noStrike">
              <a:solidFill>
                <a:srgbClr val="44628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90f0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90f0b"/>
                </a:solidFill>
                <a:latin typeface="Arial"/>
              </a:rPr>
              <a:t>Differing signalling types, regulatory regimes and service offerings</a:t>
            </a:r>
            <a:endParaRPr b="1" lang="en-US" sz="1600" spc="-1" strike="noStrike">
              <a:solidFill>
                <a:srgbClr val="44628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1001"/>
              </a:spcAft>
              <a:buClr>
                <a:srgbClr val="b90f0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90f0b"/>
                </a:solidFill>
                <a:latin typeface="Arial"/>
              </a:rPr>
              <a:t>Many cable operators already have existing telecomms operations</a:t>
            </a:r>
            <a:endParaRPr b="1" lang="en-US" sz="1600" spc="-1" strike="noStrike">
              <a:solidFill>
                <a:srgbClr val="44628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90f0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0f0b"/>
                </a:solidFill>
                <a:latin typeface="Arial"/>
              </a:rPr>
              <a:t>Decisions were made to</a:t>
            </a:r>
            <a:endParaRPr b="1" lang="en-US" sz="1800" spc="-1" strike="noStrike">
              <a:solidFill>
                <a:srgbClr val="b90f0b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90f0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90f0b"/>
                </a:solidFill>
                <a:latin typeface="Arial"/>
              </a:rPr>
              <a:t>Build on International work but not be afraid to challenge it</a:t>
            </a:r>
            <a:endParaRPr b="1" lang="en-US" sz="1600" spc="-1" strike="noStrike">
              <a:solidFill>
                <a:srgbClr val="44628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90f0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90f0b"/>
                </a:solidFill>
                <a:latin typeface="Arial"/>
              </a:rPr>
              <a:t>Utilise the expertise of multiple ETSI Technical Bodies</a:t>
            </a:r>
            <a:endParaRPr b="1" lang="en-US" sz="1600" spc="-1" strike="noStrike">
              <a:solidFill>
                <a:srgbClr val="44628e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A37-FB43-4EC4-80EA-E56B2EF2B74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55720" y="784080"/>
            <a:ext cx="798336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PCablecom for Europe …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.... The Challenges</a:t>
            </a:r>
            <a:br>
              <a:rPr sz="2400"/>
            </a:br>
            <a:endParaRPr b="0" lang="en-US" sz="24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42800" y="1658880"/>
            <a:ext cx="708660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b90f0b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b90f0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0f0b"/>
                </a:solidFill>
                <a:latin typeface="Arial"/>
              </a:rPr>
              <a:t>Cable Operators have begun to recognize importance of being involved</a:t>
            </a:r>
            <a:endParaRPr b="1" lang="en-US" sz="1800" spc="-1" strike="noStrike">
              <a:solidFill>
                <a:srgbClr val="b90f0b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b90f0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0f0b"/>
                </a:solidFill>
                <a:latin typeface="Arial"/>
              </a:rPr>
              <a:t>A challenge for cable operators where decisions depend on consensus and where they are in minority</a:t>
            </a:r>
            <a:endParaRPr b="1" lang="en-US" sz="1400" spc="-1" strike="noStrike">
              <a:solidFill>
                <a:srgbClr val="44628e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b90f0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0f0b"/>
                </a:solidFill>
                <a:latin typeface="Arial"/>
              </a:rPr>
              <a:t>Incumbent and Cable Operators, competitors with comparable technical needs, have demonstrated the will to work together</a:t>
            </a:r>
            <a:endParaRPr b="1" lang="en-US" sz="1400" spc="-1" strike="noStrike">
              <a:solidFill>
                <a:srgbClr val="44628e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4628e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b90f0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0f0b"/>
                </a:solidFill>
                <a:latin typeface="Arial"/>
              </a:rPr>
              <a:t>IPCablecom standards were a high priority in ETSI</a:t>
            </a:r>
            <a:endParaRPr b="1" lang="en-US" sz="1800" spc="-1" strike="noStrike">
              <a:solidFill>
                <a:srgbClr val="b90f0b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b90f0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b90f0b"/>
                </a:solidFill>
                <a:latin typeface="Arial"/>
              </a:rPr>
              <a:t>But so were lots of other things! </a:t>
            </a:r>
            <a:endParaRPr b="1" lang="en-US" sz="1400" spc="-1" strike="noStrike">
              <a:solidFill>
                <a:srgbClr val="44628e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spcAft>
                <a:spcPts val="1749"/>
              </a:spcAft>
              <a:buClr>
                <a:srgbClr val="b90f0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b90f0b"/>
                </a:solidFill>
                <a:latin typeface="Arial"/>
              </a:rPr>
              <a:t>Time to market was of crucial importance</a:t>
            </a:r>
            <a:endParaRPr b="1" lang="en-US" sz="1400" spc="-1" strike="noStrike">
              <a:solidFill>
                <a:srgbClr val="44628e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b90f0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90f0b"/>
                </a:solidFill>
                <a:latin typeface="Arial"/>
              </a:rPr>
              <a:t>Good standards take time to produce</a:t>
            </a:r>
            <a:endParaRPr b="1" lang="en-US" sz="1800" spc="-1" strike="noStrike">
              <a:solidFill>
                <a:srgbClr val="b90f0b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b90f0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b90f0b"/>
                </a:solidFill>
                <a:latin typeface="Arial"/>
              </a:rPr>
              <a:t>Base standards and local requirements needed to be mature</a:t>
            </a:r>
            <a:endParaRPr b="1" lang="en-US" sz="1400" spc="-1" strike="noStrike">
              <a:solidFill>
                <a:srgbClr val="44628e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b90f0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b90f0b"/>
                </a:solidFill>
                <a:latin typeface="Arial"/>
              </a:rPr>
              <a:t>Expertise of multiple ETSI Technical Bodies has been harnessed</a:t>
            </a:r>
            <a:endParaRPr b="1" lang="en-US" sz="1400" spc="-1" strike="noStrike">
              <a:solidFill>
                <a:srgbClr val="44628e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b90f0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b90f0b"/>
                </a:solidFill>
                <a:latin typeface="Arial"/>
              </a:rPr>
              <a:t>ETSI is now in the forefront of developing IPCablecom standards</a:t>
            </a:r>
            <a:endParaRPr b="1" lang="en-US" sz="1400" spc="-1" strike="noStrike">
              <a:solidFill>
                <a:srgbClr val="44628e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b90f0b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739C-81BE-45FD-819D-E1288E6F7E5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70120" y="609480"/>
            <a:ext cx="791208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PCablecom for Europe…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….ETSI’s approach</a:t>
            </a:r>
            <a:endParaRPr b="0" lang="en-US" sz="24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2480" y="1758960"/>
            <a:ext cx="808200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spcAft>
                <a:spcPts val="1001"/>
              </a:spcAft>
              <a:buClr>
                <a:srgbClr val="b90f0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90f0b"/>
                </a:solidFill>
                <a:latin typeface="Arial"/>
              </a:rPr>
              <a:t>Operations Co-ordination Group established early in 2001 to oversee the work</a:t>
            </a:r>
            <a:endParaRPr b="1" lang="en-US" sz="16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1001"/>
              </a:spcAft>
              <a:buClr>
                <a:srgbClr val="b90f0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90f0b"/>
                </a:solidFill>
                <a:latin typeface="Arial"/>
              </a:rPr>
              <a:t>ETSI Technical Report TR 101 963 defined European Industry Requirements, particularly operators’ needs</a:t>
            </a:r>
            <a:endParaRPr b="1" lang="en-US" sz="16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1001"/>
              </a:spcAft>
              <a:buClr>
                <a:srgbClr val="b90f0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90f0b"/>
                </a:solidFill>
                <a:latin typeface="Arial"/>
              </a:rPr>
              <a:t>A multi-part document structure was devised to ensure consistency in the deliverables</a:t>
            </a:r>
            <a:endParaRPr b="1" lang="en-US" sz="16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1001"/>
              </a:spcAft>
              <a:buClr>
                <a:srgbClr val="b90f0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90f0b"/>
                </a:solidFill>
                <a:latin typeface="Arial"/>
              </a:rPr>
              <a:t>A two stage process was established to translate the existing specifications</a:t>
            </a:r>
            <a:endParaRPr b="1" lang="en-US" sz="16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1001"/>
              </a:spcAft>
              <a:buClr>
                <a:srgbClr val="b90f0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90f0b"/>
                </a:solidFill>
                <a:latin typeface="Arial"/>
              </a:rPr>
              <a:t>Several ETSI Technical Bodies working harmoniously together</a:t>
            </a:r>
            <a:endParaRPr b="1" lang="en-US" sz="16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1001"/>
              </a:spcAft>
              <a:buClr>
                <a:srgbClr val="b90f0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90f0b"/>
                </a:solidFill>
                <a:latin typeface="Arial"/>
              </a:rPr>
              <a:t>The first stage work on the majority of the parts has been completed and published  </a:t>
            </a:r>
            <a:endParaRPr b="1" lang="en-US" sz="16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1001"/>
              </a:spcAft>
              <a:buClr>
                <a:srgbClr val="b90f0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90f0b"/>
                </a:solidFill>
                <a:latin typeface="Arial"/>
              </a:rPr>
              <a:t>Further work is well advanced to incorporate the ECCA requirements (second stage)</a:t>
            </a:r>
            <a:endParaRPr b="1" lang="en-US" sz="1600" spc="-1" strike="noStrike">
              <a:solidFill>
                <a:srgbClr val="b90f0b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79A4-4837-4B82-B331-262E6EDEE14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8560" y="898200"/>
            <a:ext cx="77248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PCablecom for Europe…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….future Work in ETSI</a:t>
            </a:r>
            <a:br>
              <a:rPr sz="2400"/>
            </a:br>
            <a:endParaRPr b="0" lang="en-US" sz="24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56840" y="2018880"/>
            <a:ext cx="7086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b90f0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90f0b"/>
                </a:solidFill>
                <a:latin typeface="Arial"/>
              </a:rPr>
              <a:t>As new parts of the international standards emerge, ETSI is well placed to translate them to match the European market needs</a:t>
            </a:r>
            <a:endParaRPr b="1" lang="en-US" sz="1600" spc="-1" strike="noStrike">
              <a:solidFill>
                <a:srgbClr val="b90f0b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90f0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90f0b"/>
                </a:solidFill>
                <a:latin typeface="Arial"/>
              </a:rPr>
              <a:t>ETSI will to develop further parts of the work to cover European specific services and regulatory requirements</a:t>
            </a:r>
            <a:endParaRPr b="1" lang="en-US" sz="1600" spc="-1" strike="noStrike">
              <a:solidFill>
                <a:srgbClr val="b90f0b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90f0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90f0b"/>
                </a:solidFill>
                <a:latin typeface="Arial"/>
              </a:rPr>
              <a:t>ETSI IPCablecom specifications for future multimedia services will be developed ahead of the US market </a:t>
            </a:r>
            <a:endParaRPr b="1" lang="en-US" sz="1600" spc="-1" strike="noStrike">
              <a:solidFill>
                <a:srgbClr val="b90f0b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90f0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90f0b"/>
                </a:solidFill>
                <a:latin typeface="Arial"/>
              </a:rPr>
              <a:t>Together with appropriate liaison with ITU-T this will enable European equipment vendors to succeed in the US market</a:t>
            </a:r>
            <a:endParaRPr b="1" lang="en-US" sz="1600" spc="-1" strike="noStrike">
              <a:solidFill>
                <a:srgbClr val="b90f0b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90f0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90f0b"/>
                </a:solidFill>
                <a:latin typeface="Arial"/>
              </a:rPr>
              <a:t>European operators will be able to offer world-beating, voice and multi-media services to their customers</a:t>
            </a:r>
            <a:endParaRPr b="1" lang="en-US" sz="1600" spc="-1" strike="noStrike">
              <a:solidFill>
                <a:srgbClr val="b90f0b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C731-B947-455D-97C1-49D7AD0FF9C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25360" y="258840"/>
            <a:ext cx="23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06480" y="1089000"/>
            <a:ext cx="78026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50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IPCablecom offers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50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IPCablecom offers customers freedom of 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50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some regulatory questions still to be answ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50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IPCablecom standards work alongside</a:t>
            </a:r>
            <a:r>
              <a:rPr b="0" lang="fr-FR" sz="2400" spc="-1" strike="noStrike">
                <a:solidFill>
                  <a:srgbClr val="b90f0b"/>
                </a:solidFill>
                <a:latin typeface="Arial"/>
                <a:ea typeface="Arial"/>
              </a:rPr>
              <a:t> t</a:t>
            </a: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raditional telecommunications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50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standardization is ‘business as usual’ at ET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50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ETSI welcomes IPCablecom</a:t>
            </a:r>
            <a:r>
              <a:rPr b="0" lang="fr-FR" sz="2400" spc="-1" strike="noStrike">
                <a:solidFill>
                  <a:srgbClr val="b90f0b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as a new telecommunications infrastructure</a:t>
            </a:r>
            <a:r>
              <a:rPr b="0" lang="fr-FR" sz="2400" spc="-1" strike="noStrike">
                <a:solidFill>
                  <a:srgbClr val="b90f0b"/>
                </a:solidFill>
                <a:latin typeface="Arial"/>
                <a:ea typeface="Arial"/>
              </a:rPr>
              <a:t> for</a:t>
            </a: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18EE-11AC-4265-B32D-E1F609599D26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873000" y="1795320"/>
          <a:ext cx="8271000" cy="39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1795320"/>
                    <a:ext cx="827100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873000" y="485640"/>
            <a:ext cx="689616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TSI's experience has clearly proven that .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1AE4-A060-4288-9FB7-3246E8840673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0f0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0f0b"/>
                </a:solidFill>
                <a:latin typeface="Arial"/>
              </a:rPr>
              <a:t>The example of standardisation of IPCablecom in ETSI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0f0b"/>
                </a:solidFill>
                <a:latin typeface="Arial"/>
              </a:rPr>
              <a:t>Basic aims of ETSI in standardisation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0f0b"/>
                </a:solidFill>
                <a:latin typeface="Arial"/>
              </a:rPr>
              <a:t>What is IPCablecom?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0f0b"/>
                </a:solidFill>
                <a:latin typeface="Arial"/>
              </a:rPr>
              <a:t>IPCablecom for Europe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0f0b"/>
                </a:solidFill>
                <a:latin typeface="Arial"/>
              </a:rPr>
              <a:t>The Issues, Opportunities and Challenges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0f0b"/>
                </a:solidFill>
                <a:latin typeface="Arial"/>
              </a:rPr>
              <a:t>ETSI’s approach to IPCablecom standardisation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0f0b"/>
                </a:solidFill>
                <a:latin typeface="Arial"/>
              </a:rPr>
              <a:t>The future of Euro-IPCablecom standardisation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11B-B154-4F4E-8AB5-B549E17E20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23840" y="1692360"/>
            <a:ext cx="78328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0f0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0f0b"/>
                </a:solidFill>
                <a:latin typeface="Arial"/>
              </a:rPr>
              <a:t>a coherent set of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0f0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0f0b"/>
                </a:solidFill>
                <a:latin typeface="Arial"/>
              </a:rPr>
              <a:t>a single standard in any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0f0b"/>
                </a:solidFill>
                <a:latin typeface="Arial"/>
              </a:rPr>
              <a:t>If this is not achiev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0f0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0f0b"/>
                </a:solidFill>
                <a:latin typeface="Arial"/>
              </a:rPr>
              <a:t>open to standards on competing solution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0f0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0f0b"/>
                </a:solidFill>
                <a:latin typeface="Arial"/>
              </a:rPr>
              <a:t>no conflicting standards allo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0f0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0f0b"/>
                </a:solidFill>
                <a:latin typeface="Arial"/>
              </a:rPr>
              <a:t>standards not to be excluded for market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0f0b"/>
                </a:solidFill>
                <a:latin typeface="Arial"/>
              </a:rPr>
              <a:t>Also, ETSI shall ens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0f0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0f0b"/>
                </a:solidFill>
                <a:latin typeface="Arial"/>
              </a:rPr>
              <a:t>interoperability and/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0f0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0f0b"/>
                </a:solidFill>
                <a:latin typeface="Arial"/>
              </a:rPr>
              <a:t>inter-working between its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7240" y="781200"/>
            <a:ext cx="39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rstly, ETSI’s basic ai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298-22B7-4DE7-ADDA-0C642B72BE3C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04960" y="65412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 pragmatic view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69840" y="1376280"/>
            <a:ext cx="7898040" cy="42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spcBef>
                <a:spcPts val="1500"/>
              </a:spcBef>
              <a:buClr>
                <a:srgbClr val="b90f0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workable </a:t>
            </a:r>
            <a:r>
              <a:rPr b="0" lang="fr-FR" sz="2400" spc="-1" strike="noStrike">
                <a:solidFill>
                  <a:srgbClr val="b90f0b"/>
                </a:solidFill>
                <a:latin typeface="Arial"/>
                <a:ea typeface="Arial"/>
              </a:rPr>
              <a:t>solutions</a:t>
            </a: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 are</a:t>
            </a:r>
            <a:r>
              <a:rPr b="0" lang="fr-FR" sz="2400" spc="-1" strike="noStrike">
                <a:solidFill>
                  <a:srgbClr val="b90f0b"/>
                </a:solidFill>
                <a:latin typeface="Arial"/>
                <a:ea typeface="Arial"/>
              </a:rPr>
              <a:t> f</a:t>
            </a: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or</a:t>
            </a:r>
            <a:r>
              <a:rPr b="0" lang="fr-FR" sz="2400" spc="-1" strike="noStrike">
                <a:solidFill>
                  <a:srgbClr val="b90f0b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70000"/>
              </a:lnSpc>
              <a:spcBef>
                <a:spcPts val="150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perfect solutions are for tomorr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70000"/>
              </a:lnSpc>
              <a:spcBef>
                <a:spcPts val="150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write good standards for the market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70000"/>
              </a:lnSpc>
              <a:spcBef>
                <a:spcPts val="150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not to gather dust on the booksh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70000"/>
              </a:lnSpc>
              <a:spcBef>
                <a:spcPts val="150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strive for systems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70000"/>
              </a:lnSpc>
              <a:spcBef>
                <a:spcPts val="150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90f0b"/>
                </a:solidFill>
                <a:latin typeface="Arial"/>
                <a:ea typeface="Arial"/>
              </a:rPr>
              <a:t>strive</a:t>
            </a: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 to improve standard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70000"/>
              </a:lnSpc>
              <a:spcBef>
                <a:spcPts val="150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must </a:t>
            </a:r>
            <a:r>
              <a:rPr b="0" lang="fr-FR" sz="2400" spc="-1" strike="noStrike">
                <a:solidFill>
                  <a:srgbClr val="b90f0b"/>
                </a:solidFill>
                <a:latin typeface="Arial"/>
                <a:ea typeface="Arial"/>
              </a:rPr>
              <a:t>no</a:t>
            </a: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t slow down th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70000"/>
              </a:lnSpc>
              <a:spcBef>
                <a:spcPts val="150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consider the significance of ON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70000"/>
              </a:lnSpc>
              <a:spcBef>
                <a:spcPts val="150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use the expertise of any and all the ETSI TBs when</a:t>
            </a:r>
            <a:r>
              <a:rPr b="0" lang="fr-FR" sz="2400" spc="-1" strike="noStrike">
                <a:solidFill>
                  <a:srgbClr val="b90f0b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and</a:t>
            </a:r>
            <a:r>
              <a:rPr b="0" lang="fr-FR" sz="2400" spc="-1" strike="noStrike">
                <a:solidFill>
                  <a:srgbClr val="b90f0b"/>
                </a:solidFill>
                <a:latin typeface="Arial"/>
                <a:ea typeface="Arial"/>
              </a:rPr>
              <a:t> w</a:t>
            </a: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here requir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6236-B0FD-4FBD-A745-F329F428F731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5068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me food for thought ….</a:t>
            </a:r>
            <a:endParaRPr b="0" lang="en-US" sz="24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84080" y="1343160"/>
            <a:ext cx="81108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90f0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the user does not care about technology</a:t>
            </a:r>
            <a:r>
              <a:rPr b="0" lang="fr-FR" sz="2400" spc="-1" strike="noStrike">
                <a:solidFill>
                  <a:srgbClr val="b90f0b"/>
                </a:solidFill>
                <a:latin typeface="Arial"/>
                <a:ea typeface="Arial"/>
              </a:rPr>
              <a:t>, h</a:t>
            </a: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e or she wants a good, cost-effective service!</a:t>
            </a:r>
            <a:endParaRPr b="1" lang="en-US" sz="24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90f0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interoperability - a key issue in telecommunications </a:t>
            </a:r>
            <a:endParaRPr b="1" lang="en-US" sz="2400" spc="-1" strike="noStrike">
              <a:solidFill>
                <a:srgbClr val="b90f0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90f0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90f0b"/>
                </a:solidFill>
                <a:latin typeface="Arial"/>
                <a:ea typeface="Arial"/>
              </a:rPr>
              <a:t>standards have to ensure interoperability</a:t>
            </a:r>
            <a:r>
              <a:rPr b="0" lang="fr-FR" sz="2000" spc="-1" strike="noStrike">
                <a:solidFill>
                  <a:srgbClr val="b90f0b"/>
                </a:solidFill>
                <a:latin typeface="Arial"/>
                <a:ea typeface="Arial"/>
              </a:rPr>
              <a:t> between</a:t>
            </a:r>
            <a:r>
              <a:rPr b="0" lang="en-GB" sz="2000" spc="-1" strike="noStrike">
                <a:solidFill>
                  <a:srgbClr val="b90f0b"/>
                </a:solidFill>
                <a:latin typeface="Arial"/>
                <a:ea typeface="Arial"/>
              </a:rPr>
              <a:t> all types</a:t>
            </a:r>
            <a:r>
              <a:rPr b="0" lang="fr-FR" sz="2000" spc="-1" strike="noStrike">
                <a:solidFill>
                  <a:srgbClr val="b90f0b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b90f0b"/>
                </a:solidFill>
                <a:latin typeface="Arial"/>
                <a:ea typeface="Arial"/>
              </a:rPr>
              <a:t>of telecommunications networks</a:t>
            </a:r>
            <a:endParaRPr b="1" lang="en-US" sz="2000" spc="-1" strike="noStrike">
              <a:solidFill>
                <a:srgbClr val="44628e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90f0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should the same performance requirements apply to all types of network?</a:t>
            </a:r>
            <a:endParaRPr b="1" lang="en-US" sz="24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90f0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does the EC ONP Directive extend to IPCablecom?</a:t>
            </a:r>
            <a:endParaRPr b="1" lang="en-US" sz="24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90f0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should it?</a:t>
            </a:r>
            <a:endParaRPr b="1" lang="en-US" sz="24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90f0b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what about Lawful Interception and Security issues?</a:t>
            </a:r>
            <a:endParaRPr b="1" lang="en-US" sz="24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085-BF03-4CB6-A763-FC4477B9383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3240" y="216000"/>
            <a:ext cx="55483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is IPCablecom? (1)</a:t>
            </a:r>
            <a:endParaRPr b="0" lang="en-US" sz="24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66520" y="1757160"/>
            <a:ext cx="759132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40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0f0b"/>
                </a:solidFill>
                <a:latin typeface="Arial"/>
                <a:ea typeface="Arial"/>
              </a:rPr>
              <a:t>Simply another enabling technology</a:t>
            </a:r>
            <a:endParaRPr b="1" lang="en-US" sz="28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0f0b"/>
                </a:solidFill>
                <a:latin typeface="Arial"/>
                <a:ea typeface="Arial"/>
              </a:rPr>
              <a:t>Using the Cable TV infrastructure</a:t>
            </a:r>
            <a:r>
              <a:rPr b="0" lang="en-US" sz="2400" spc="-1" strike="noStrike">
                <a:solidFill>
                  <a:srgbClr val="b90f0b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b90f0b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ad2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d2f25"/>
                </a:solidFill>
                <a:latin typeface="Arial"/>
                <a:ea typeface="Arial"/>
              </a:rPr>
              <a:t>for </a:t>
            </a:r>
            <a:r>
              <a:rPr b="0" lang="en-US" sz="2000" spc="-1" strike="noStrike">
                <a:solidFill>
                  <a:srgbClr val="ad2f25"/>
                </a:solidFill>
                <a:latin typeface="Arial"/>
                <a:ea typeface="Times New Roman"/>
              </a:rPr>
              <a:t>faster and cheaper Internet access</a:t>
            </a:r>
            <a:endParaRPr b="1" lang="en-US" sz="2000" spc="-1" strike="noStrike">
              <a:solidFill>
                <a:srgbClr val="44628e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ad2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d2f25"/>
                </a:solidFill>
                <a:latin typeface="Arial"/>
                <a:ea typeface="Times New Roman"/>
              </a:rPr>
              <a:t>for direct competition with PSTN, ISDN</a:t>
            </a:r>
            <a:endParaRPr b="1" lang="en-US" sz="2000" spc="-1" strike="noStrike">
              <a:solidFill>
                <a:srgbClr val="44628e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ad2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d2f25"/>
                </a:solidFill>
                <a:latin typeface="Arial"/>
                <a:ea typeface="Times New Roman"/>
              </a:rPr>
              <a:t>for leased lines</a:t>
            </a:r>
            <a:r>
              <a:rPr b="0" lang="en-US" sz="2000" spc="-1" strike="noStrike">
                <a:solidFill>
                  <a:srgbClr val="ad2f25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44628e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ad2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d2f25"/>
                </a:solidFill>
                <a:latin typeface="Arial"/>
              </a:rPr>
              <a:t>for entertainment</a:t>
            </a:r>
            <a:endParaRPr b="1" lang="en-US" sz="2000" spc="-1" strike="noStrike">
              <a:solidFill>
                <a:srgbClr val="44628e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ad2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d2f25"/>
                </a:solidFill>
                <a:latin typeface="Arial"/>
              </a:rPr>
              <a:t>for multimedia services of the future</a:t>
            </a:r>
            <a:endParaRPr b="1" lang="en-US" sz="2000" spc="-1" strike="noStrike">
              <a:solidFill>
                <a:srgbClr val="44628e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ad2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d2f25"/>
                </a:solidFill>
                <a:latin typeface="Arial"/>
              </a:rPr>
              <a:t>for business and residential customers</a:t>
            </a:r>
            <a:endParaRPr b="1" lang="en-US" sz="2000" spc="-1" strike="noStrike">
              <a:solidFill>
                <a:srgbClr val="44628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535B-D551-4EDA-AB3D-9BD608ACDAF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70120" y="722160"/>
            <a:ext cx="44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 IPCablecom? (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57160" y="1833480"/>
            <a:ext cx="7939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spcBef>
                <a:spcPts val="150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0f0b"/>
                </a:solidFill>
                <a:latin typeface="Arial"/>
                <a:ea typeface="Arial"/>
              </a:rPr>
              <a:t>so much bandwidth, can be used for "anything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150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0f0b"/>
                </a:solidFill>
                <a:latin typeface="Arial"/>
                <a:ea typeface="Arial"/>
              </a:rPr>
              <a:t>almost  independent from classical network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150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0f0b"/>
                </a:solidFill>
                <a:latin typeface="Arial"/>
                <a:ea typeface="Arial"/>
              </a:rPr>
              <a:t>fosters competition and gives users more 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150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0f0b"/>
                </a:solidFill>
                <a:latin typeface="Arial"/>
                <a:ea typeface="Arial"/>
              </a:rPr>
              <a:t>creates new opportunities for suppliers and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150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0f0b"/>
                </a:solidFill>
                <a:latin typeface="Arial"/>
                <a:ea typeface="Arial"/>
              </a:rPr>
              <a:t>complements policy laid down in Local Loop Dir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 algn="just">
              <a:lnSpc>
                <a:spcPct val="100000"/>
              </a:lnSpc>
              <a:spcBef>
                <a:spcPts val="150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0f0b"/>
                </a:solidFill>
                <a:latin typeface="Arial"/>
                <a:ea typeface="Arial"/>
              </a:rPr>
              <a:t>provides a real alternative to local loop unbu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50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620D-A803-476F-839B-874E93E6B0D4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5840" y="793800"/>
            <a:ext cx="41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PCablecom for Europe ….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70040" y="1576440"/>
            <a:ext cx="8184960" cy="44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150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ETSI is the recognised telecomms standards body f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50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ETSI’s targets are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>
              <a:lnSpc>
                <a:spcPct val="100000"/>
              </a:lnSpc>
              <a:spcBef>
                <a:spcPts val="125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90f0b"/>
                </a:solidFill>
                <a:latin typeface="Arial"/>
                <a:ea typeface="Arial"/>
              </a:rPr>
              <a:t>  </a:t>
            </a:r>
            <a:r>
              <a:rPr b="0" lang="fr-FR" sz="2000" spc="-1" strike="noStrike">
                <a:solidFill>
                  <a:srgbClr val="b90f0b"/>
                </a:solidFill>
                <a:latin typeface="Arial"/>
                <a:ea typeface="Arial"/>
              </a:rPr>
              <a:t>t</a:t>
            </a:r>
            <a:r>
              <a:rPr b="0" lang="en-GB" sz="2000" spc="-1" strike="noStrike">
                <a:solidFill>
                  <a:srgbClr val="b90f0b"/>
                </a:solidFill>
                <a:latin typeface="Arial"/>
                <a:ea typeface="Arial"/>
              </a:rPr>
              <a:t>o make IPCablecom fit in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>
              <a:lnSpc>
                <a:spcPct val="100000"/>
              </a:lnSpc>
              <a:spcBef>
                <a:spcPts val="125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90f0b"/>
                </a:solidFill>
                <a:latin typeface="Arial"/>
                <a:ea typeface="Arial"/>
              </a:rPr>
              <a:t>  </a:t>
            </a:r>
            <a:r>
              <a:rPr b="0" lang="fr-FR" sz="2000" spc="-1" strike="noStrike">
                <a:solidFill>
                  <a:srgbClr val="b90f0b"/>
                </a:solidFill>
                <a:latin typeface="Arial"/>
                <a:ea typeface="Arial"/>
              </a:rPr>
              <a:t>t</a:t>
            </a:r>
            <a:r>
              <a:rPr b="0" lang="en-GB" sz="2000" spc="-1" strike="noStrike">
                <a:solidFill>
                  <a:srgbClr val="b90f0b"/>
                </a:solidFill>
                <a:latin typeface="Arial"/>
                <a:ea typeface="Arial"/>
              </a:rPr>
              <a:t>o make IPCablecom fit for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>
              <a:lnSpc>
                <a:spcPct val="100000"/>
              </a:lnSpc>
              <a:spcBef>
                <a:spcPts val="125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90f0b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b90f0b"/>
                </a:solidFill>
                <a:latin typeface="Arial"/>
                <a:ea typeface="Arial"/>
              </a:rPr>
              <a:t>to allow seamless interoperability with existing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50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international and regional standardization of IPCable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50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co-operation with SCTE and CableL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500"/>
              </a:spcBef>
              <a:buClr>
                <a:srgbClr val="b90f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0f0b"/>
                </a:solidFill>
                <a:latin typeface="Arial"/>
                <a:ea typeface="Arial"/>
              </a:rPr>
              <a:t>each region has specific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1DE9-1592-48E4-9EC2-1573357BA4A9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10720" y="777600"/>
            <a:ext cx="83329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PCablecom for Europe …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…. Recognising the issues</a:t>
            </a:r>
            <a:br>
              <a:rPr sz="2400"/>
            </a:br>
            <a:endParaRPr b="0" lang="en-US" sz="24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5640" y="2320920"/>
            <a:ext cx="776448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0f0b"/>
                </a:solidFill>
                <a:latin typeface="Arial"/>
              </a:rPr>
              <a:t>European Cable Operators needed European IPCablecom standards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0f0b"/>
                </a:solidFill>
                <a:latin typeface="Arial"/>
              </a:rPr>
              <a:t>Existing standards lacked features and services demanded by the European market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0f0b"/>
                </a:solidFill>
                <a:latin typeface="Arial"/>
              </a:rPr>
              <a:t>ECCA produced an IPCablecom Requirements Document to ‘Europeanise’ the existing standards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0f0b"/>
                </a:solidFill>
                <a:latin typeface="Arial"/>
              </a:rPr>
              <a:t>ECCA considered generation of its own standards but  is not a recognised standards producing body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90f0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90f0b"/>
                </a:solidFill>
                <a:latin typeface="Arial"/>
              </a:rPr>
              <a:t>Sought co-operation of ETSI which produced a Technical Report on Cable Industry requirements in Europe</a:t>
            </a:r>
            <a:endParaRPr b="1" lang="en-US" sz="2000" spc="-1" strike="noStrike">
              <a:solidFill>
                <a:srgbClr val="b90f0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946D-A1C9-4E97-9195-B373408BD4F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 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3:56:58Z</dcterms:created>
  <dc:creator>STF</dc:creator>
  <dc:description/>
  <dc:language>en-US</dc:language>
  <cp:lastModifiedBy>Jim Price</cp:lastModifiedBy>
  <cp:lastPrinted>2002-03-05T20:16:11Z</cp:lastPrinted>
  <dcterms:modified xsi:type="dcterms:W3CDTF">2002-03-06T12:06:2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jim.price@telewest.co.uk</vt:lpwstr>
  </property>
  <property fmtid="{D5CDD505-2E9C-101B-9397-08002B2CF9AE}" pid="11" name="NavBtnPos">
    <vt:r8>1</vt:r8>
  </property>
  <property fmtid="{D5CDD505-2E9C-101B-9397-08002B2CF9AE}" pid="12" name="Other">
    <vt:lpwstr>Presentation to ITU-T Multimedia Convergence Workshop at Geneva, 12 March 2002 </vt:lpwstr>
  </property>
  <property fmtid="{D5CDD505-2E9C-101B-9397-08002B2CF9AE}" pid="13" name="OutputDir">
    <vt:lpwstr>C:\windows\deskto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