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B51-C9C7-400E-AC47-5F8DDA0E7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 term objective of IPCablecom is to provide cable subscribers with access to a variety of multimedia IP services over the high-speed cable data infrastructure using varying types of C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hase of the project focuses on IP telephony.  Future phases are envisioned to enable the architecture to fulfill it’s multimedia potent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zone is the set of all client devices under the control of a single call management server.  The baseline recommendations enable calls within the zone and traffic exchange with the PST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zone is the set of all client devices under the control of a single call management server.  The baseline recommendations enable calls within the zone and traffic exchange with the PST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E022-3D13-41AF-BE53-56B5A0DC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210-98ED-4147-8FE4-D4AE9C8D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9A0-95BB-479B-8F51-C5BF6E00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A7B-8538-48B5-8F61-FC9A10CD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2B0E-69B1-4543-8E3D-9D356547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3AAB-09BF-474A-ACB0-21C6C0BE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F0C6-59EE-4113-80E5-E09C2688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2A82-4B13-4413-9D35-6EA42A7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CB0C-B415-4D5A-8AF7-4FA9392C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1487-D4E1-4BC3-8A0F-E60358E8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FDB3-182E-4CA5-BE3D-88A5A8E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4E9F-8747-4457-A92D-DA92D1D6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F81C-2248-4417-8AD7-B9064B1F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C02B-A69B-4F03-86C4-741BA56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4FB0-F07F-41F6-B7F8-B97B6A11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2D8-2640-4FCE-BB89-B91D3790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BA98-6AE7-436D-9436-001C2CF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487-2CE3-46BE-A8D9-3EC93F2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17B-FAD6-4C5E-A65F-5C262972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24E-DAF5-4438-B44F-EA7897B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2D7-765A-442D-A32B-80E1A5B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2BC-E63B-4FC7-8892-00950301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8DF-8E1F-4157-B210-33BEA96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FFF-EF18-4CC2-A15C-8B0958D8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A34-CD97-4C40-9FD9-6853F9878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8D5-18EB-4131-AB47-52738A3F3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PCablecom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lobal standardisation of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IP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mmunication for cable network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ard Catch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Group 9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ssociate Rappor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jc@nortelnetworks 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PCablecom/Mediacom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rch 1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378000" y="5637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PCablecom Recs. for interoperability with Local Exchang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TA interf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2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twork Call Signaling has been extended, including examples for regiona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P Access Term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nder study in North America and Europe (ET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73A-8CD7-48D4-9846-0E0F08F7AD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74880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perability inter-zone and inter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rectly over managed IP backbon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33520" y="2438280"/>
            <a:ext cx="3274920" cy="34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334120" y="4267080"/>
            <a:ext cx="3276360" cy="163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113440" y="261000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111320" y="1690560"/>
            <a:ext cx="742320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220760" y="2795760"/>
            <a:ext cx="1690560" cy="1011240"/>
            <a:chOff x="1220760" y="2795760"/>
            <a:chExt cx="1690560" cy="1011240"/>
          </a:xfrm>
        </p:grpSpPr>
        <p:grpSp>
          <p:nvGrpSpPr>
            <p:cNvPr id="1395" name=""/>
            <p:cNvGrpSpPr/>
            <p:nvPr/>
          </p:nvGrpSpPr>
          <p:grpSpPr>
            <a:xfrm>
              <a:off x="1220760" y="2795760"/>
              <a:ext cx="1690560" cy="1011240"/>
              <a:chOff x="1220760" y="2795760"/>
              <a:chExt cx="1690560" cy="101124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1246320" y="2833920"/>
                <a:ext cx="1665000" cy="973080"/>
                <a:chOff x="1246320" y="2833920"/>
                <a:chExt cx="1665000" cy="97308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1822320" y="2833920"/>
                  <a:ext cx="7146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1422360" y="293256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1246320" y="3178440"/>
                  <a:ext cx="36324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1359000" y="3338640"/>
                  <a:ext cx="55080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760400" y="3387960"/>
                  <a:ext cx="8384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2298600" y="294336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2386080" y="315324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335320" y="3227760"/>
                  <a:ext cx="51408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1546200" y="3067200"/>
                  <a:ext cx="107784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1220760" y="2795760"/>
                <a:ext cx="1654200" cy="986040"/>
                <a:chOff x="1220760" y="2795760"/>
                <a:chExt cx="1654200" cy="98604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1797120" y="2795760"/>
                  <a:ext cx="70164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1397160" y="2907000"/>
                  <a:ext cx="53784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1220760" y="3153240"/>
                  <a:ext cx="3636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333440" y="3302280"/>
                  <a:ext cx="55080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1735200" y="336276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273400" y="291960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2347920" y="3129120"/>
                  <a:ext cx="5270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2298600" y="319104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1522440" y="3030840"/>
                  <a:ext cx="10764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6" name=""/>
            <p:cNvSpPr/>
            <p:nvPr/>
          </p:nvSpPr>
          <p:spPr>
            <a:xfrm>
              <a:off x="1743120" y="3065760"/>
              <a:ext cx="79848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819800" y="309600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A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06560" y="325476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6008760" y="2795760"/>
            <a:ext cx="1687320" cy="1011240"/>
            <a:chOff x="6008760" y="2795760"/>
            <a:chExt cx="1687320" cy="1011240"/>
          </a:xfrm>
        </p:grpSpPr>
        <p:grpSp>
          <p:nvGrpSpPr>
            <p:cNvPr id="1420" name=""/>
            <p:cNvGrpSpPr/>
            <p:nvPr/>
          </p:nvGrpSpPr>
          <p:grpSpPr>
            <a:xfrm>
              <a:off x="6008760" y="2795760"/>
              <a:ext cx="1687320" cy="1011240"/>
              <a:chOff x="6008760" y="2795760"/>
              <a:chExt cx="1687320" cy="101124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6033960" y="2833920"/>
                <a:ext cx="1662120" cy="973080"/>
                <a:chOff x="6033960" y="2833920"/>
                <a:chExt cx="1662120" cy="9730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6608880" y="2833920"/>
                  <a:ext cx="7128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208560" y="293256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033960" y="3178440"/>
                  <a:ext cx="36216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6146640" y="333864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6546960" y="3387960"/>
                  <a:ext cx="8366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083360" y="294336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170840" y="315324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121520" y="3227760"/>
                  <a:ext cx="51264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334200" y="3067200"/>
                  <a:ext cx="1074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6008760" y="2795760"/>
                <a:ext cx="1649520" cy="986040"/>
                <a:chOff x="6008760" y="2795760"/>
                <a:chExt cx="1649520" cy="98604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583320" y="2795760"/>
                  <a:ext cx="700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183360" y="2907000"/>
                  <a:ext cx="538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6008760" y="3153240"/>
                  <a:ext cx="3618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121440" y="330228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521400" y="336276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058160" y="291960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34120" y="3129120"/>
                  <a:ext cx="52416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83360" y="319104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6308640" y="3030840"/>
                  <a:ext cx="107496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1" name=""/>
            <p:cNvSpPr/>
            <p:nvPr/>
          </p:nvSpPr>
          <p:spPr>
            <a:xfrm>
              <a:off x="6543720" y="3065760"/>
              <a:ext cx="79704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621840" y="309600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B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707160" y="325476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6234120" y="4562640"/>
            <a:ext cx="1687680" cy="1005480"/>
            <a:chOff x="6234120" y="4562640"/>
            <a:chExt cx="1687680" cy="1005480"/>
          </a:xfrm>
        </p:grpSpPr>
        <p:grpSp>
          <p:nvGrpSpPr>
            <p:cNvPr id="1445" name=""/>
            <p:cNvGrpSpPr/>
            <p:nvPr/>
          </p:nvGrpSpPr>
          <p:grpSpPr>
            <a:xfrm>
              <a:off x="6234120" y="4562640"/>
              <a:ext cx="1687680" cy="1005480"/>
              <a:chOff x="6234120" y="4562640"/>
              <a:chExt cx="1687680" cy="1005480"/>
            </a:xfrm>
          </p:grpSpPr>
          <p:grpSp>
            <p:nvGrpSpPr>
              <p:cNvPr id="1446" name=""/>
              <p:cNvGrpSpPr/>
              <p:nvPr/>
            </p:nvGrpSpPr>
            <p:grpSpPr>
              <a:xfrm>
                <a:off x="6257880" y="4599000"/>
                <a:ext cx="1663920" cy="969120"/>
                <a:chOff x="6257880" y="4599000"/>
                <a:chExt cx="1663920" cy="96912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6834240" y="4599000"/>
                  <a:ext cx="712800" cy="391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434280" y="4696920"/>
                  <a:ext cx="536400" cy="404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257880" y="4943160"/>
                  <a:ext cx="363600" cy="3186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70560" y="5101920"/>
                  <a:ext cx="550800" cy="344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6770520" y="5150880"/>
                  <a:ext cx="838440" cy="417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308720" y="4708080"/>
                  <a:ext cx="52560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396200" y="4917600"/>
                  <a:ext cx="52560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346880" y="4990680"/>
                  <a:ext cx="513000" cy="504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558120" y="4831920"/>
                  <a:ext cx="107604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234120" y="4562640"/>
                <a:ext cx="1649520" cy="982080"/>
                <a:chOff x="6234120" y="4562640"/>
                <a:chExt cx="1649520" cy="98208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808680" y="4562640"/>
                  <a:ext cx="700200" cy="392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408720" y="4672080"/>
                  <a:ext cx="538200" cy="3931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234120" y="4917960"/>
                  <a:ext cx="361800" cy="3186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346800" y="5065560"/>
                  <a:ext cx="549360" cy="344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746760" y="5127480"/>
                  <a:ext cx="824040" cy="417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283520" y="4684680"/>
                  <a:ext cx="525240" cy="306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358040" y="4894200"/>
                  <a:ext cx="525600" cy="306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308720" y="4954680"/>
                  <a:ext cx="52560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534000" y="4795920"/>
                  <a:ext cx="107496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6" name=""/>
            <p:cNvSpPr/>
            <p:nvPr/>
          </p:nvSpPr>
          <p:spPr>
            <a:xfrm>
              <a:off x="6762600" y="4841640"/>
              <a:ext cx="795600" cy="371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37840" y="487368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C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923160" y="503244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809880" y="3657600"/>
            <a:ext cx="1689120" cy="1011240"/>
            <a:chOff x="3809880" y="3657600"/>
            <a:chExt cx="1689120" cy="1011240"/>
          </a:xfrm>
        </p:grpSpPr>
        <p:grpSp>
          <p:nvGrpSpPr>
            <p:cNvPr id="1470" name=""/>
            <p:cNvGrpSpPr/>
            <p:nvPr/>
          </p:nvGrpSpPr>
          <p:grpSpPr>
            <a:xfrm>
              <a:off x="3809880" y="3657600"/>
              <a:ext cx="1689120" cy="1011240"/>
              <a:chOff x="3809880" y="3657600"/>
              <a:chExt cx="1689120" cy="101124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3835440" y="3694320"/>
                <a:ext cx="1663560" cy="974520"/>
                <a:chOff x="3835440" y="3694320"/>
                <a:chExt cx="1663560" cy="97452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4411440" y="3694320"/>
                  <a:ext cx="711360" cy="3952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4010040" y="3792600"/>
                  <a:ext cx="538200" cy="407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3835440" y="4040280"/>
                  <a:ext cx="363240" cy="318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3948120" y="4200480"/>
                  <a:ext cx="550800" cy="344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4348080" y="4249800"/>
                  <a:ext cx="838080" cy="4190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4886280" y="3805200"/>
                  <a:ext cx="525240" cy="308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4973400" y="4015080"/>
                  <a:ext cx="525600" cy="3078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922640" y="4089600"/>
                  <a:ext cx="513000" cy="5047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4135320" y="3929040"/>
                  <a:ext cx="1076400" cy="517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3809880" y="3657600"/>
                <a:ext cx="1650960" cy="986040"/>
                <a:chOff x="3809880" y="3657600"/>
                <a:chExt cx="1650960" cy="9860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4386240" y="3657600"/>
                  <a:ext cx="699840" cy="3938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3986280" y="3768840"/>
                  <a:ext cx="536400" cy="3938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3809880" y="4015080"/>
                  <a:ext cx="363600" cy="32040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3922560" y="4162680"/>
                  <a:ext cx="550800" cy="34596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4322520" y="4224600"/>
                  <a:ext cx="825480" cy="41904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4860720" y="3781440"/>
                  <a:ext cx="525600" cy="30816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4935600" y="3990960"/>
                  <a:ext cx="525240" cy="30816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4886280" y="4051440"/>
                  <a:ext cx="525240" cy="517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4111560" y="3892680"/>
                  <a:ext cx="1074600" cy="517680"/>
                </a:xfrm>
                <a:prstGeom prst="ellipse">
                  <a:avLst/>
                </a:prstGeom>
                <a:solidFill>
                  <a:srgbClr val="ceda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1" name=""/>
            <p:cNvSpPr/>
            <p:nvPr/>
          </p:nvSpPr>
          <p:spPr>
            <a:xfrm>
              <a:off x="4078080" y="3929040"/>
              <a:ext cx="13255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17480" y="3959280"/>
              <a:ext cx="1137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157640" y="411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1297080" y="4562640"/>
            <a:ext cx="1690560" cy="1005480"/>
            <a:chOff x="1297080" y="4562640"/>
            <a:chExt cx="1690560" cy="1005480"/>
          </a:xfrm>
        </p:grpSpPr>
        <p:grpSp>
          <p:nvGrpSpPr>
            <p:cNvPr id="1495" name=""/>
            <p:cNvGrpSpPr/>
            <p:nvPr/>
          </p:nvGrpSpPr>
          <p:grpSpPr>
            <a:xfrm>
              <a:off x="1297080" y="4562640"/>
              <a:ext cx="1690560" cy="1005480"/>
              <a:chOff x="1297080" y="4562640"/>
              <a:chExt cx="1690560" cy="1005480"/>
            </a:xfrm>
          </p:grpSpPr>
          <p:grpSp>
            <p:nvGrpSpPr>
              <p:cNvPr id="1496" name=""/>
              <p:cNvGrpSpPr/>
              <p:nvPr/>
            </p:nvGrpSpPr>
            <p:grpSpPr>
              <a:xfrm>
                <a:off x="1320840" y="4599000"/>
                <a:ext cx="1666800" cy="969120"/>
                <a:chOff x="1320840" y="4599000"/>
                <a:chExt cx="1666800" cy="9691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1897200" y="4599000"/>
                  <a:ext cx="714240" cy="391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1496880" y="4696920"/>
                  <a:ext cx="538200" cy="404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1320840" y="4943160"/>
                  <a:ext cx="363600" cy="3186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1433520" y="5101920"/>
                  <a:ext cx="552600" cy="344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1835280" y="5150880"/>
                  <a:ext cx="838080" cy="417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373480" y="470808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460600" y="4917600"/>
                  <a:ext cx="5270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2411280" y="4990680"/>
                  <a:ext cx="513000" cy="504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1622520" y="4831920"/>
                  <a:ext cx="107640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1297080" y="4562640"/>
                <a:ext cx="1652400" cy="982080"/>
                <a:chOff x="1297080" y="4562640"/>
                <a:chExt cx="1652400" cy="9820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1873080" y="4562640"/>
                  <a:ext cx="700200" cy="392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1471680" y="4672080"/>
                  <a:ext cx="538200" cy="3931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1297080" y="4917960"/>
                  <a:ext cx="361800" cy="3186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1409760" y="5065560"/>
                  <a:ext cx="550800" cy="344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1809720" y="5127480"/>
                  <a:ext cx="827280" cy="417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2347920" y="4684680"/>
                  <a:ext cx="527040" cy="306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2424240" y="4894200"/>
                  <a:ext cx="525240" cy="306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2373480" y="4954680"/>
                  <a:ext cx="52524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1596960" y="4795920"/>
                  <a:ext cx="1076400" cy="515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6" name=""/>
            <p:cNvSpPr/>
            <p:nvPr/>
          </p:nvSpPr>
          <p:spPr>
            <a:xfrm>
              <a:off x="1816200" y="4841640"/>
              <a:ext cx="798480" cy="3711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892880" y="487368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A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979640" y="503244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2778120" y="3486240"/>
            <a:ext cx="1252440" cy="417600"/>
          </a:xfrm>
          <a:custGeom>
            <a:avLst/>
            <a:gdLst/>
            <a:ahLst/>
            <a:rect l="l" t="t" r="r" b="b"/>
            <a:pathLst>
              <a:path w="789" h="263">
                <a:moveTo>
                  <a:pt x="10" y="0"/>
                </a:moveTo>
                <a:lnTo>
                  <a:pt x="0" y="14"/>
                </a:lnTo>
                <a:lnTo>
                  <a:pt x="779" y="263"/>
                </a:lnTo>
                <a:lnTo>
                  <a:pt x="789" y="249"/>
                </a:lnTo>
                <a:lnTo>
                  <a:pt x="1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92800" y="3535200"/>
            <a:ext cx="749160" cy="416160"/>
          </a:xfrm>
          <a:custGeom>
            <a:avLst/>
            <a:gdLst/>
            <a:ahLst/>
            <a:rect l="l" t="t" r="r" b="b"/>
            <a:pathLst>
              <a:path w="472" h="262">
                <a:moveTo>
                  <a:pt x="0" y="249"/>
                </a:moveTo>
                <a:lnTo>
                  <a:pt x="13" y="262"/>
                </a:lnTo>
                <a:lnTo>
                  <a:pt x="472" y="13"/>
                </a:lnTo>
                <a:lnTo>
                  <a:pt x="459" y="0"/>
                </a:lnTo>
                <a:lnTo>
                  <a:pt x="0" y="24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22960" y="4522680"/>
            <a:ext cx="1035000" cy="414360"/>
          </a:xfrm>
          <a:custGeom>
            <a:avLst/>
            <a:gdLst/>
            <a:ahLst/>
            <a:rect l="l" t="t" r="r" b="b"/>
            <a:pathLst>
              <a:path w="652" h="261">
                <a:moveTo>
                  <a:pt x="11" y="0"/>
                </a:moveTo>
                <a:lnTo>
                  <a:pt x="0" y="13"/>
                </a:lnTo>
                <a:lnTo>
                  <a:pt x="641" y="261"/>
                </a:lnTo>
                <a:lnTo>
                  <a:pt x="652" y="248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851200" y="3240000"/>
            <a:ext cx="1614600" cy="515880"/>
          </a:xfrm>
          <a:custGeom>
            <a:avLst/>
            <a:gdLst/>
            <a:ahLst/>
            <a:rect l="l" t="t" r="r" b="b"/>
            <a:pathLst>
              <a:path w="1017" h="325">
                <a:moveTo>
                  <a:pt x="10" y="0"/>
                </a:moveTo>
                <a:lnTo>
                  <a:pt x="0" y="14"/>
                </a:lnTo>
                <a:lnTo>
                  <a:pt x="1007" y="325"/>
                </a:lnTo>
                <a:lnTo>
                  <a:pt x="1017" y="311"/>
                </a:lnTo>
                <a:lnTo>
                  <a:pt x="1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537160" y="3683160"/>
            <a:ext cx="1039680" cy="514080"/>
          </a:xfrm>
          <a:custGeom>
            <a:avLst/>
            <a:gdLst/>
            <a:ahLst/>
            <a:rect l="l" t="t" r="r" b="b"/>
            <a:pathLst>
              <a:path w="655" h="324">
                <a:moveTo>
                  <a:pt x="655" y="13"/>
                </a:moveTo>
                <a:lnTo>
                  <a:pt x="642" y="0"/>
                </a:lnTo>
                <a:lnTo>
                  <a:pt x="0" y="311"/>
                </a:lnTo>
                <a:lnTo>
                  <a:pt x="14" y="324"/>
                </a:lnTo>
                <a:lnTo>
                  <a:pt x="655" y="1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392800" y="4324320"/>
            <a:ext cx="1108080" cy="417600"/>
          </a:xfrm>
          <a:custGeom>
            <a:avLst/>
            <a:gdLst/>
            <a:ahLst/>
            <a:rect l="l" t="t" r="r" b="b"/>
            <a:pathLst>
              <a:path w="698" h="263">
                <a:moveTo>
                  <a:pt x="11" y="0"/>
                </a:moveTo>
                <a:lnTo>
                  <a:pt x="0" y="13"/>
                </a:lnTo>
                <a:lnTo>
                  <a:pt x="687" y="263"/>
                </a:lnTo>
                <a:lnTo>
                  <a:pt x="698" y="250"/>
                </a:lnTo>
                <a:lnTo>
                  <a:pt x="1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967040" y="3792600"/>
            <a:ext cx="36360" cy="8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475000" y="3743280"/>
            <a:ext cx="36360" cy="987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2743200" y="2971800"/>
            <a:ext cx="519120" cy="409680"/>
            <a:chOff x="2743200" y="2971800"/>
            <a:chExt cx="519120" cy="409680"/>
          </a:xfrm>
        </p:grpSpPr>
        <p:grpSp>
          <p:nvGrpSpPr>
            <p:cNvPr id="1528" name=""/>
            <p:cNvGrpSpPr/>
            <p:nvPr/>
          </p:nvGrpSpPr>
          <p:grpSpPr>
            <a:xfrm>
              <a:off x="2755800" y="2979720"/>
              <a:ext cx="506520" cy="401760"/>
              <a:chOff x="2755800" y="2979720"/>
              <a:chExt cx="506520" cy="401760"/>
            </a:xfrm>
          </p:grpSpPr>
          <p:sp>
            <p:nvSpPr>
              <p:cNvPr id="1529" name=""/>
              <p:cNvSpPr/>
              <p:nvPr/>
            </p:nvSpPr>
            <p:spPr>
              <a:xfrm>
                <a:off x="2913120" y="297972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913120" y="297972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755800" y="297972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5800" y="297972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55800" y="3056040"/>
                <a:ext cx="27792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766960" y="307008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779560" y="3100320"/>
                <a:ext cx="1206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2755800" y="3313080"/>
                <a:ext cx="277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2755800" y="3176640"/>
                <a:ext cx="2779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8" name=""/>
            <p:cNvGrpSpPr/>
            <p:nvPr/>
          </p:nvGrpSpPr>
          <p:grpSpPr>
            <a:xfrm>
              <a:off x="2743200" y="2971800"/>
              <a:ext cx="507960" cy="401760"/>
              <a:chOff x="2743200" y="2971800"/>
              <a:chExt cx="507960" cy="401760"/>
            </a:xfrm>
          </p:grpSpPr>
          <p:sp>
            <p:nvSpPr>
              <p:cNvPr id="1539" name=""/>
              <p:cNvSpPr/>
              <p:nvPr/>
            </p:nvSpPr>
            <p:spPr>
              <a:xfrm>
                <a:off x="2900160" y="297180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900160" y="297180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743200" y="297180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743200" y="297180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743200" y="3048120"/>
                <a:ext cx="27792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755800" y="3063960"/>
                <a:ext cx="15732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779560" y="308628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>
                <a:off x="2755800" y="330516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2755800" y="316872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8" name=""/>
          <p:cNvGrpSpPr/>
          <p:nvPr/>
        </p:nvGrpSpPr>
        <p:grpSpPr>
          <a:xfrm>
            <a:off x="5715000" y="3429000"/>
            <a:ext cx="522360" cy="409680"/>
            <a:chOff x="5715000" y="3429000"/>
            <a:chExt cx="522360" cy="409680"/>
          </a:xfrm>
        </p:grpSpPr>
        <p:grpSp>
          <p:nvGrpSpPr>
            <p:cNvPr id="1549" name=""/>
            <p:cNvGrpSpPr/>
            <p:nvPr/>
          </p:nvGrpSpPr>
          <p:grpSpPr>
            <a:xfrm>
              <a:off x="5727600" y="3436920"/>
              <a:ext cx="509760" cy="401760"/>
              <a:chOff x="5727600" y="3436920"/>
              <a:chExt cx="509760" cy="401760"/>
            </a:xfrm>
          </p:grpSpPr>
          <p:sp>
            <p:nvSpPr>
              <p:cNvPr id="1550" name=""/>
              <p:cNvSpPr/>
              <p:nvPr/>
            </p:nvSpPr>
            <p:spPr>
              <a:xfrm>
                <a:off x="5884920" y="343692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4920" y="343692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727600" y="343692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727600" y="343692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727600" y="3513240"/>
                <a:ext cx="27936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740200" y="352764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751360" y="3557520"/>
                <a:ext cx="1224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5727600" y="377028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5727600" y="363384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9" name=""/>
            <p:cNvGrpSpPr/>
            <p:nvPr/>
          </p:nvGrpSpPr>
          <p:grpSpPr>
            <a:xfrm>
              <a:off x="5715000" y="3429000"/>
              <a:ext cx="511200" cy="401760"/>
              <a:chOff x="5715000" y="3429000"/>
              <a:chExt cx="511200" cy="401760"/>
            </a:xfrm>
          </p:grpSpPr>
          <p:sp>
            <p:nvSpPr>
              <p:cNvPr id="1560" name=""/>
              <p:cNvSpPr/>
              <p:nvPr/>
            </p:nvSpPr>
            <p:spPr>
              <a:xfrm>
                <a:off x="5873760" y="34290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73760" y="34290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715000" y="342900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715000" y="342900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715000" y="3505320"/>
                <a:ext cx="27936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727600" y="3521160"/>
                <a:ext cx="15732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751360" y="354348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5727600" y="3762360"/>
                <a:ext cx="25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5727600" y="3625920"/>
                <a:ext cx="25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5943600" y="4343400"/>
            <a:ext cx="519120" cy="407880"/>
            <a:chOff x="5943600" y="4343400"/>
            <a:chExt cx="519120" cy="407880"/>
          </a:xfrm>
        </p:grpSpPr>
        <p:grpSp>
          <p:nvGrpSpPr>
            <p:cNvPr id="1570" name=""/>
            <p:cNvGrpSpPr/>
            <p:nvPr/>
          </p:nvGrpSpPr>
          <p:grpSpPr>
            <a:xfrm>
              <a:off x="5954760" y="4349880"/>
              <a:ext cx="507960" cy="401400"/>
              <a:chOff x="5954760" y="4349880"/>
              <a:chExt cx="507960" cy="401400"/>
            </a:xfrm>
          </p:grpSpPr>
          <p:sp>
            <p:nvSpPr>
              <p:cNvPr id="1571" name=""/>
              <p:cNvSpPr/>
              <p:nvPr/>
            </p:nvSpPr>
            <p:spPr>
              <a:xfrm>
                <a:off x="6112080" y="4349880"/>
                <a:ext cx="350640" cy="40140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9"/>
                    </a:lnTo>
                    <a:lnTo>
                      <a:pt x="221" y="0"/>
                    </a:lnTo>
                    <a:lnTo>
                      <a:pt x="221" y="206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112080" y="4349880"/>
                <a:ext cx="350640" cy="40140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9"/>
                    </a:lnTo>
                    <a:lnTo>
                      <a:pt x="221" y="0"/>
                    </a:lnTo>
                    <a:lnTo>
                      <a:pt x="221" y="206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954760" y="4349880"/>
                <a:ext cx="507960" cy="7596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954760" y="4349880"/>
                <a:ext cx="507960" cy="7596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954760" y="4425840"/>
                <a:ext cx="27792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967720" y="4441680"/>
                <a:ext cx="156960" cy="52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980320" y="4471920"/>
                <a:ext cx="1206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5954760" y="4683240"/>
                <a:ext cx="2779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954760" y="4546440"/>
                <a:ext cx="277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5943600" y="4343400"/>
              <a:ext cx="506520" cy="399960"/>
              <a:chOff x="5943600" y="4343400"/>
              <a:chExt cx="506520" cy="399960"/>
            </a:xfrm>
          </p:grpSpPr>
          <p:sp>
            <p:nvSpPr>
              <p:cNvPr id="1581" name=""/>
              <p:cNvSpPr/>
              <p:nvPr/>
            </p:nvSpPr>
            <p:spPr>
              <a:xfrm>
                <a:off x="6100920" y="4343400"/>
                <a:ext cx="349200" cy="399960"/>
              </a:xfrm>
              <a:custGeom>
                <a:avLst/>
                <a:gdLst/>
                <a:ahLst/>
                <a:rect l="l" t="t" r="r" b="b"/>
                <a:pathLst>
                  <a:path w="220" h="252">
                    <a:moveTo>
                      <a:pt x="76" y="252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2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100920" y="4343400"/>
                <a:ext cx="349200" cy="399960"/>
              </a:xfrm>
              <a:custGeom>
                <a:avLst/>
                <a:gdLst/>
                <a:ahLst/>
                <a:rect l="l" t="t" r="r" b="b"/>
                <a:pathLst>
                  <a:path w="220" h="252">
                    <a:moveTo>
                      <a:pt x="76" y="252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2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943600" y="4343400"/>
                <a:ext cx="506520" cy="74520"/>
              </a:xfrm>
              <a:custGeom>
                <a:avLst/>
                <a:gdLst/>
                <a:ahLst/>
                <a:rect l="l" t="t" r="r" b="b"/>
                <a:pathLst>
                  <a:path w="319" h="47">
                    <a:moveTo>
                      <a:pt x="0" y="47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943600" y="4343400"/>
                <a:ext cx="506520" cy="74520"/>
              </a:xfrm>
              <a:custGeom>
                <a:avLst/>
                <a:gdLst/>
                <a:ahLst/>
                <a:rect l="l" t="t" r="r" b="b"/>
                <a:pathLst>
                  <a:path w="319" h="47">
                    <a:moveTo>
                      <a:pt x="0" y="47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943600" y="4417920"/>
                <a:ext cx="27792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954760" y="4433760"/>
                <a:ext cx="15732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980320" y="4456080"/>
                <a:ext cx="96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954760" y="467676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5954760" y="454032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0" name=""/>
          <p:cNvSpPr/>
          <p:nvPr/>
        </p:nvSpPr>
        <p:spPr>
          <a:xfrm>
            <a:off x="3219480" y="2658960"/>
            <a:ext cx="877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428280" y="2590920"/>
            <a:ext cx="7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113440" y="3052800"/>
            <a:ext cx="87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180760" y="3124080"/>
            <a:ext cx="7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564240" y="4237200"/>
            <a:ext cx="8794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52360" y="4267080"/>
            <a:ext cx="70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B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6" name=""/>
          <p:cNvGrpSpPr/>
          <p:nvPr/>
        </p:nvGrpSpPr>
        <p:grpSpPr>
          <a:xfrm>
            <a:off x="1330200" y="2755800"/>
            <a:ext cx="363600" cy="284040"/>
            <a:chOff x="1330200" y="2755800"/>
            <a:chExt cx="363600" cy="284040"/>
          </a:xfrm>
        </p:grpSpPr>
        <p:grpSp>
          <p:nvGrpSpPr>
            <p:cNvPr id="1597" name=""/>
            <p:cNvGrpSpPr/>
            <p:nvPr/>
          </p:nvGrpSpPr>
          <p:grpSpPr>
            <a:xfrm>
              <a:off x="1335240" y="2760480"/>
              <a:ext cx="358560" cy="279360"/>
              <a:chOff x="1335240" y="2760480"/>
              <a:chExt cx="358560" cy="279360"/>
            </a:xfrm>
          </p:grpSpPr>
          <p:sp>
            <p:nvSpPr>
              <p:cNvPr id="1598" name=""/>
              <p:cNvSpPr/>
              <p:nvPr/>
            </p:nvSpPr>
            <p:spPr>
              <a:xfrm>
                <a:off x="1344600" y="290520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344600" y="290520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395360" y="2760480"/>
                <a:ext cx="238320" cy="1764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395360" y="2760480"/>
                <a:ext cx="238320" cy="1764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397160" y="2778120"/>
                <a:ext cx="236520" cy="14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346040" y="2932200"/>
                <a:ext cx="33660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17680" y="2795400"/>
                <a:ext cx="195120" cy="109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1576440" y="2954160"/>
                <a:ext cx="79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335240" y="3000240"/>
                <a:ext cx="35856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335240" y="3000240"/>
                <a:ext cx="35856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336680" y="3029040"/>
                <a:ext cx="355680" cy="10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9" name=""/>
            <p:cNvGrpSpPr/>
            <p:nvPr/>
          </p:nvGrpSpPr>
          <p:grpSpPr>
            <a:xfrm>
              <a:off x="1330200" y="2755800"/>
              <a:ext cx="357480" cy="281160"/>
              <a:chOff x="1330200" y="2755800"/>
              <a:chExt cx="357480" cy="281160"/>
            </a:xfrm>
          </p:grpSpPr>
          <p:sp>
            <p:nvSpPr>
              <p:cNvPr id="1610" name=""/>
              <p:cNvSpPr/>
              <p:nvPr/>
            </p:nvSpPr>
            <p:spPr>
              <a:xfrm>
                <a:off x="1338120" y="2900160"/>
                <a:ext cx="33840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8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38120" y="2900160"/>
                <a:ext cx="33840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8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389240" y="2755800"/>
                <a:ext cx="239400" cy="190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389240" y="2755800"/>
                <a:ext cx="239400" cy="190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390680" y="2774880"/>
                <a:ext cx="237960" cy="142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341360" y="2927160"/>
                <a:ext cx="335160" cy="637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411200" y="2790720"/>
                <a:ext cx="196920" cy="11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1569600" y="2949480"/>
                <a:ext cx="81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330200" y="2995560"/>
                <a:ext cx="357480" cy="30240"/>
              </a:xfrm>
              <a:custGeom>
                <a:avLst/>
                <a:gdLst/>
                <a:ahLst/>
                <a:rect l="l" t="t" r="r" b="b"/>
                <a:pathLst>
                  <a:path w="225" h="37">
                    <a:moveTo>
                      <a:pt x="0" y="37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330200" y="2995560"/>
                <a:ext cx="357480" cy="30240"/>
              </a:xfrm>
              <a:custGeom>
                <a:avLst/>
                <a:gdLst/>
                <a:ahLst/>
                <a:rect l="l" t="t" r="r" b="b"/>
                <a:pathLst>
                  <a:path w="225" h="37">
                    <a:moveTo>
                      <a:pt x="0" y="37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332000" y="3024000"/>
                <a:ext cx="353880" cy="1296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1" name=""/>
          <p:cNvGrpSpPr/>
          <p:nvPr/>
        </p:nvGrpSpPr>
        <p:grpSpPr>
          <a:xfrm>
            <a:off x="1852560" y="2665440"/>
            <a:ext cx="366840" cy="187200"/>
            <a:chOff x="1852560" y="2665440"/>
            <a:chExt cx="366840" cy="187200"/>
          </a:xfrm>
        </p:grpSpPr>
        <p:grpSp>
          <p:nvGrpSpPr>
            <p:cNvPr id="1622" name=""/>
            <p:cNvGrpSpPr/>
            <p:nvPr/>
          </p:nvGrpSpPr>
          <p:grpSpPr>
            <a:xfrm>
              <a:off x="1870200" y="2673360"/>
              <a:ext cx="349200" cy="179280"/>
              <a:chOff x="1870200" y="2673360"/>
              <a:chExt cx="349200" cy="179280"/>
            </a:xfrm>
          </p:grpSpPr>
          <p:sp>
            <p:nvSpPr>
              <p:cNvPr id="1623" name=""/>
              <p:cNvSpPr/>
              <p:nvPr/>
            </p:nvSpPr>
            <p:spPr>
              <a:xfrm>
                <a:off x="1870200" y="267336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886040" y="2698560"/>
                <a:ext cx="312480" cy="136800"/>
              </a:xfrm>
              <a:custGeom>
                <a:avLst/>
                <a:gdLst/>
                <a:ahLst/>
                <a:rect l="l" t="t" r="r" b="b"/>
                <a:pathLst>
                  <a:path w="197" h="86">
                    <a:moveTo>
                      <a:pt x="35" y="3"/>
                    </a:moveTo>
                    <a:lnTo>
                      <a:pt x="0" y="55"/>
                    </a:lnTo>
                    <a:lnTo>
                      <a:pt x="0" y="86"/>
                    </a:lnTo>
                    <a:lnTo>
                      <a:pt x="197" y="86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901880" y="2835360"/>
                <a:ext cx="507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143080" y="2835360"/>
                <a:ext cx="493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968480" y="272412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006640" y="2714400"/>
                <a:ext cx="144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066760" y="2714400"/>
                <a:ext cx="180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941480" y="274464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941480" y="276552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2" name=""/>
            <p:cNvGrpSpPr/>
            <p:nvPr/>
          </p:nvGrpSpPr>
          <p:grpSpPr>
            <a:xfrm>
              <a:off x="1852560" y="2665440"/>
              <a:ext cx="351000" cy="179280"/>
              <a:chOff x="1852560" y="2665440"/>
              <a:chExt cx="351000" cy="179280"/>
            </a:xfrm>
          </p:grpSpPr>
          <p:sp>
            <p:nvSpPr>
              <p:cNvPr id="1633" name=""/>
              <p:cNvSpPr/>
              <p:nvPr/>
            </p:nvSpPr>
            <p:spPr>
              <a:xfrm>
                <a:off x="1852560" y="2665440"/>
                <a:ext cx="35100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870200" y="2690640"/>
                <a:ext cx="311040" cy="1414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6" y="89"/>
                    </a:lnTo>
                    <a:lnTo>
                      <a:pt x="196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892160" y="283212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2131920" y="2832120"/>
                <a:ext cx="446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952640" y="2714400"/>
                <a:ext cx="14760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995480" y="2706480"/>
                <a:ext cx="1440" cy="954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2050920" y="2706480"/>
                <a:ext cx="1800" cy="954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930320" y="273528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930320" y="275760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2" name=""/>
          <p:cNvGrpSpPr/>
          <p:nvPr/>
        </p:nvGrpSpPr>
        <p:grpSpPr>
          <a:xfrm>
            <a:off x="1197000" y="4684680"/>
            <a:ext cx="366840" cy="187200"/>
            <a:chOff x="1197000" y="4684680"/>
            <a:chExt cx="366840" cy="187200"/>
          </a:xfrm>
        </p:grpSpPr>
        <p:grpSp>
          <p:nvGrpSpPr>
            <p:cNvPr id="1643" name=""/>
            <p:cNvGrpSpPr/>
            <p:nvPr/>
          </p:nvGrpSpPr>
          <p:grpSpPr>
            <a:xfrm>
              <a:off x="1212840" y="4694040"/>
              <a:ext cx="351000" cy="177840"/>
              <a:chOff x="1212840" y="4694040"/>
              <a:chExt cx="351000" cy="177840"/>
            </a:xfrm>
          </p:grpSpPr>
          <p:sp>
            <p:nvSpPr>
              <p:cNvPr id="1644" name=""/>
              <p:cNvSpPr/>
              <p:nvPr/>
            </p:nvSpPr>
            <p:spPr>
              <a:xfrm>
                <a:off x="1212840" y="4694040"/>
                <a:ext cx="35100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69" y="34"/>
                    </a:lnTo>
                    <a:lnTo>
                      <a:pt x="210" y="44"/>
                    </a:lnTo>
                    <a:lnTo>
                      <a:pt x="221" y="31"/>
                    </a:lnTo>
                    <a:lnTo>
                      <a:pt x="193" y="2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228680" y="4718160"/>
                <a:ext cx="31284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246320" y="485604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486080" y="485604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311120" y="474336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349280" y="473544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409760" y="473544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284120" y="476388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284120" y="478476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1197000" y="4684680"/>
              <a:ext cx="349200" cy="179280"/>
              <a:chOff x="1197000" y="4684680"/>
              <a:chExt cx="349200" cy="179280"/>
            </a:xfrm>
          </p:grpSpPr>
          <p:sp>
            <p:nvSpPr>
              <p:cNvPr id="1654" name=""/>
              <p:cNvSpPr/>
              <p:nvPr/>
            </p:nvSpPr>
            <p:spPr>
              <a:xfrm>
                <a:off x="1197000" y="468468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7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6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212840" y="4709880"/>
                <a:ext cx="31284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3"/>
                    </a:moveTo>
                    <a:lnTo>
                      <a:pt x="0" y="58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235160" y="485136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4920" y="4851360"/>
                <a:ext cx="442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295280" y="47354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338120" y="4727520"/>
                <a:ext cx="1800" cy="954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393920" y="4727520"/>
                <a:ext cx="1440" cy="954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273320" y="475596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273320" y="477684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2795760" y="5172120"/>
            <a:ext cx="366480" cy="187200"/>
            <a:chOff x="2795760" y="5172120"/>
            <a:chExt cx="366480" cy="187200"/>
          </a:xfrm>
        </p:grpSpPr>
        <p:grpSp>
          <p:nvGrpSpPr>
            <p:cNvPr id="1664" name=""/>
            <p:cNvGrpSpPr/>
            <p:nvPr/>
          </p:nvGrpSpPr>
          <p:grpSpPr>
            <a:xfrm>
              <a:off x="2811600" y="5180040"/>
              <a:ext cx="350640" cy="179280"/>
              <a:chOff x="2811600" y="5180040"/>
              <a:chExt cx="350640" cy="179280"/>
            </a:xfrm>
          </p:grpSpPr>
          <p:sp>
            <p:nvSpPr>
              <p:cNvPr id="1665" name=""/>
              <p:cNvSpPr/>
              <p:nvPr/>
            </p:nvSpPr>
            <p:spPr>
              <a:xfrm>
                <a:off x="2811600" y="518004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827440" y="520524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844720" y="534348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084480" y="534348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909880" y="523080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948040" y="5221080"/>
                <a:ext cx="144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008160" y="5221080"/>
                <a:ext cx="180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882880" y="525132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882880" y="52722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2795760" y="5172120"/>
              <a:ext cx="349200" cy="179280"/>
              <a:chOff x="2795760" y="5172120"/>
              <a:chExt cx="349200" cy="179280"/>
            </a:xfrm>
          </p:grpSpPr>
          <p:sp>
            <p:nvSpPr>
              <p:cNvPr id="1675" name=""/>
              <p:cNvSpPr/>
              <p:nvPr/>
            </p:nvSpPr>
            <p:spPr>
              <a:xfrm>
                <a:off x="2795760" y="5172120"/>
                <a:ext cx="349200" cy="69840"/>
              </a:xfrm>
              <a:custGeom>
                <a:avLst/>
                <a:gdLst/>
                <a:ahLst/>
                <a:rect l="l" t="t" r="r" b="b"/>
                <a:pathLst>
                  <a:path w="220" h="44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1"/>
                    </a:lnTo>
                    <a:lnTo>
                      <a:pt x="127" y="44"/>
                    </a:lnTo>
                    <a:lnTo>
                      <a:pt x="172" y="34"/>
                    </a:lnTo>
                    <a:lnTo>
                      <a:pt x="213" y="44"/>
                    </a:lnTo>
                    <a:lnTo>
                      <a:pt x="220" y="31"/>
                    </a:lnTo>
                    <a:lnTo>
                      <a:pt x="196" y="5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11600" y="5195880"/>
                <a:ext cx="312480" cy="14292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833560" y="533880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073320" y="5338800"/>
                <a:ext cx="446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894040" y="5221080"/>
                <a:ext cx="14760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936880" y="521316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992320" y="521316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871720" y="524196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871720" y="526392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4" name=""/>
          <p:cNvGrpSpPr/>
          <p:nvPr/>
        </p:nvGrpSpPr>
        <p:grpSpPr>
          <a:xfrm>
            <a:off x="982800" y="3103560"/>
            <a:ext cx="366480" cy="189000"/>
            <a:chOff x="982800" y="3103560"/>
            <a:chExt cx="366480" cy="189000"/>
          </a:xfrm>
        </p:grpSpPr>
        <p:grpSp>
          <p:nvGrpSpPr>
            <p:cNvPr id="1685" name=""/>
            <p:cNvGrpSpPr/>
            <p:nvPr/>
          </p:nvGrpSpPr>
          <p:grpSpPr>
            <a:xfrm>
              <a:off x="998640" y="3112920"/>
              <a:ext cx="350640" cy="179640"/>
              <a:chOff x="998640" y="3112920"/>
              <a:chExt cx="350640" cy="179640"/>
            </a:xfrm>
          </p:grpSpPr>
          <p:sp>
            <p:nvSpPr>
              <p:cNvPr id="1686" name=""/>
              <p:cNvSpPr/>
              <p:nvPr/>
            </p:nvSpPr>
            <p:spPr>
              <a:xfrm>
                <a:off x="998640" y="311292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9" y="34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69" y="34"/>
                    </a:lnTo>
                    <a:lnTo>
                      <a:pt x="211" y="44"/>
                    </a:lnTo>
                    <a:lnTo>
                      <a:pt x="221" y="31"/>
                    </a:lnTo>
                    <a:lnTo>
                      <a:pt x="194" y="2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015920" y="3136680"/>
                <a:ext cx="311400" cy="13824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031760" y="3274920"/>
                <a:ext cx="493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273320" y="3274920"/>
                <a:ext cx="489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098720" y="3162240"/>
                <a:ext cx="1411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136520" y="3154320"/>
                <a:ext cx="180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197000" y="3154320"/>
                <a:ext cx="144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69920" y="3182760"/>
                <a:ext cx="187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69920" y="3205080"/>
                <a:ext cx="187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982800" y="3103560"/>
              <a:ext cx="350640" cy="181080"/>
              <a:chOff x="982800" y="3103560"/>
              <a:chExt cx="350640" cy="181080"/>
            </a:xfrm>
          </p:grpSpPr>
          <p:sp>
            <p:nvSpPr>
              <p:cNvPr id="1696" name=""/>
              <p:cNvSpPr/>
              <p:nvPr/>
            </p:nvSpPr>
            <p:spPr>
              <a:xfrm>
                <a:off x="982800" y="310356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7"/>
                    </a:lnTo>
                    <a:lnTo>
                      <a:pt x="4" y="42"/>
                    </a:lnTo>
                    <a:lnTo>
                      <a:pt x="52" y="35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73" y="35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7" y="6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998640" y="3128760"/>
                <a:ext cx="312480" cy="14292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3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020600" y="3271680"/>
                <a:ext cx="4932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262160" y="3271680"/>
                <a:ext cx="4428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081080" y="315432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125360" y="3146400"/>
                <a:ext cx="180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79360" y="3146400"/>
                <a:ext cx="180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58760" y="317484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58760" y="319572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5" name=""/>
          <p:cNvGrpSpPr/>
          <p:nvPr/>
        </p:nvGrpSpPr>
        <p:grpSpPr>
          <a:xfrm>
            <a:off x="7642080" y="5272200"/>
            <a:ext cx="363600" cy="284040"/>
            <a:chOff x="7642080" y="5272200"/>
            <a:chExt cx="363600" cy="284040"/>
          </a:xfrm>
        </p:grpSpPr>
        <p:grpSp>
          <p:nvGrpSpPr>
            <p:cNvPr id="1706" name=""/>
            <p:cNvGrpSpPr/>
            <p:nvPr/>
          </p:nvGrpSpPr>
          <p:grpSpPr>
            <a:xfrm>
              <a:off x="7647120" y="5275080"/>
              <a:ext cx="358560" cy="281160"/>
              <a:chOff x="7647120" y="5275080"/>
              <a:chExt cx="358560" cy="281160"/>
            </a:xfrm>
          </p:grpSpPr>
          <p:sp>
            <p:nvSpPr>
              <p:cNvPr id="1707" name=""/>
              <p:cNvSpPr/>
              <p:nvPr/>
            </p:nvSpPr>
            <p:spPr>
              <a:xfrm>
                <a:off x="7656480" y="541980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656480" y="541980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707240" y="5275080"/>
                <a:ext cx="239760" cy="190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707240" y="5275080"/>
                <a:ext cx="239760" cy="190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709040" y="5294160"/>
                <a:ext cx="237960" cy="14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658280" y="5446800"/>
                <a:ext cx="336240" cy="6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729560" y="5311800"/>
                <a:ext cx="196920" cy="10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7887960" y="5470560"/>
                <a:ext cx="81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647120" y="5516640"/>
                <a:ext cx="358560" cy="29880"/>
              </a:xfrm>
              <a:custGeom>
                <a:avLst/>
                <a:gdLst/>
                <a:ahLst/>
                <a:rect l="l" t="t" r="r" b="b"/>
                <a:pathLst>
                  <a:path w="226" h="37">
                    <a:moveTo>
                      <a:pt x="0" y="37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647120" y="5516640"/>
                <a:ext cx="358560" cy="29880"/>
              </a:xfrm>
              <a:custGeom>
                <a:avLst/>
                <a:gdLst/>
                <a:ahLst/>
                <a:rect l="l" t="t" r="r" b="b"/>
                <a:pathLst>
                  <a:path w="226" h="37">
                    <a:moveTo>
                      <a:pt x="0" y="37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650000" y="5545080"/>
                <a:ext cx="35424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7642080" y="5272200"/>
              <a:ext cx="358920" cy="279360"/>
              <a:chOff x="7642080" y="5272200"/>
              <a:chExt cx="358920" cy="279360"/>
            </a:xfrm>
          </p:grpSpPr>
          <p:sp>
            <p:nvSpPr>
              <p:cNvPr id="1719" name=""/>
              <p:cNvSpPr/>
              <p:nvPr/>
            </p:nvSpPr>
            <p:spPr>
              <a:xfrm>
                <a:off x="7651800" y="541656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4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651800" y="541656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4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702560" y="5272200"/>
                <a:ext cx="237960" cy="17280"/>
              </a:xfrm>
              <a:custGeom>
                <a:avLst/>
                <a:gdLst/>
                <a:ahLst/>
                <a:rect l="l" t="t" r="r" b="b"/>
                <a:pathLst>
                  <a:path w="150" h="24">
                    <a:moveTo>
                      <a:pt x="0" y="24"/>
                    </a:moveTo>
                    <a:lnTo>
                      <a:pt x="17" y="0"/>
                    </a:lnTo>
                    <a:lnTo>
                      <a:pt x="132" y="0"/>
                    </a:lnTo>
                    <a:lnTo>
                      <a:pt x="15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702560" y="5272200"/>
                <a:ext cx="237960" cy="17280"/>
              </a:xfrm>
              <a:custGeom>
                <a:avLst/>
                <a:gdLst/>
                <a:ahLst/>
                <a:rect l="l" t="t" r="r" b="b"/>
                <a:pathLst>
                  <a:path w="150" h="24">
                    <a:moveTo>
                      <a:pt x="0" y="24"/>
                    </a:moveTo>
                    <a:lnTo>
                      <a:pt x="17" y="0"/>
                    </a:lnTo>
                    <a:lnTo>
                      <a:pt x="132" y="0"/>
                    </a:lnTo>
                    <a:lnTo>
                      <a:pt x="15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704000" y="5289480"/>
                <a:ext cx="236520" cy="142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653240" y="5443560"/>
                <a:ext cx="336600" cy="61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724880" y="5307120"/>
                <a:ext cx="195120" cy="11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7883640" y="5465520"/>
                <a:ext cx="79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642080" y="5511600"/>
                <a:ext cx="35892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642080" y="5511600"/>
                <a:ext cx="35892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643880" y="5540400"/>
                <a:ext cx="355680" cy="1116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0" name=""/>
          <p:cNvGrpSpPr/>
          <p:nvPr/>
        </p:nvGrpSpPr>
        <p:grpSpPr>
          <a:xfrm>
            <a:off x="6553080" y="5405400"/>
            <a:ext cx="363600" cy="280800"/>
            <a:chOff x="6553080" y="5405400"/>
            <a:chExt cx="363600" cy="280800"/>
          </a:xfrm>
        </p:grpSpPr>
        <p:grpSp>
          <p:nvGrpSpPr>
            <p:cNvPr id="1731" name=""/>
            <p:cNvGrpSpPr/>
            <p:nvPr/>
          </p:nvGrpSpPr>
          <p:grpSpPr>
            <a:xfrm>
              <a:off x="6558120" y="5410080"/>
              <a:ext cx="358560" cy="276120"/>
              <a:chOff x="6558120" y="5410080"/>
              <a:chExt cx="358560" cy="276120"/>
            </a:xfrm>
          </p:grpSpPr>
          <p:sp>
            <p:nvSpPr>
              <p:cNvPr id="1732" name=""/>
              <p:cNvSpPr/>
              <p:nvPr/>
            </p:nvSpPr>
            <p:spPr>
              <a:xfrm>
                <a:off x="6567480" y="5553000"/>
                <a:ext cx="338040" cy="270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567480" y="5553000"/>
                <a:ext cx="338040" cy="270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18240" y="5410080"/>
                <a:ext cx="239760" cy="1764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618240" y="5410080"/>
                <a:ext cx="239760" cy="1764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20040" y="5427720"/>
                <a:ext cx="237960" cy="141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568920" y="5580000"/>
                <a:ext cx="33660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640560" y="5445000"/>
                <a:ext cx="196920" cy="10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6798960" y="5602320"/>
                <a:ext cx="81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558120" y="5646600"/>
                <a:ext cx="358560" cy="30240"/>
              </a:xfrm>
              <a:custGeom>
                <a:avLst/>
                <a:gdLst/>
                <a:ahLst/>
                <a:rect l="l" t="t" r="r" b="b"/>
                <a:pathLst>
                  <a:path w="226" h="37">
                    <a:moveTo>
                      <a:pt x="0" y="37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558120" y="5646600"/>
                <a:ext cx="358560" cy="30240"/>
              </a:xfrm>
              <a:custGeom>
                <a:avLst/>
                <a:gdLst/>
                <a:ahLst/>
                <a:rect l="l" t="t" r="r" b="b"/>
                <a:pathLst>
                  <a:path w="226" h="37">
                    <a:moveTo>
                      <a:pt x="0" y="37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561000" y="5675400"/>
                <a:ext cx="354240" cy="10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553080" y="5405400"/>
              <a:ext cx="358920" cy="277920"/>
              <a:chOff x="6553080" y="5405400"/>
              <a:chExt cx="358920" cy="277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562800" y="554832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5">
                    <a:moveTo>
                      <a:pt x="0" y="35"/>
                    </a:moveTo>
                    <a:lnTo>
                      <a:pt x="24" y="0"/>
                    </a:lnTo>
                    <a:lnTo>
                      <a:pt x="187" y="0"/>
                    </a:lnTo>
                    <a:lnTo>
                      <a:pt x="21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562800" y="554832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5">
                    <a:moveTo>
                      <a:pt x="0" y="35"/>
                    </a:moveTo>
                    <a:lnTo>
                      <a:pt x="24" y="0"/>
                    </a:lnTo>
                    <a:lnTo>
                      <a:pt x="187" y="0"/>
                    </a:lnTo>
                    <a:lnTo>
                      <a:pt x="21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611760" y="5405400"/>
                <a:ext cx="239760" cy="172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611760" y="5405400"/>
                <a:ext cx="239760" cy="1728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15000" y="5422680"/>
                <a:ext cx="236520" cy="142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564240" y="5575320"/>
                <a:ext cx="336600" cy="61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635880" y="5440320"/>
                <a:ext cx="195120" cy="1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794640" y="5597280"/>
                <a:ext cx="792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553080" y="5643360"/>
                <a:ext cx="358920" cy="2880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553080" y="5643360"/>
                <a:ext cx="358920" cy="2880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554880" y="5670360"/>
                <a:ext cx="355680" cy="1296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5" name=""/>
          <p:cNvGrpSpPr/>
          <p:nvPr/>
        </p:nvGrpSpPr>
        <p:grpSpPr>
          <a:xfrm>
            <a:off x="2055960" y="5504040"/>
            <a:ext cx="360360" cy="281520"/>
            <a:chOff x="2055960" y="5504040"/>
            <a:chExt cx="360360" cy="281520"/>
          </a:xfrm>
        </p:grpSpPr>
        <p:grpSp>
          <p:nvGrpSpPr>
            <p:cNvPr id="1756" name=""/>
            <p:cNvGrpSpPr/>
            <p:nvPr/>
          </p:nvGrpSpPr>
          <p:grpSpPr>
            <a:xfrm>
              <a:off x="2060640" y="5508720"/>
              <a:ext cx="355680" cy="276840"/>
              <a:chOff x="2060640" y="5508720"/>
              <a:chExt cx="355680" cy="276840"/>
            </a:xfrm>
          </p:grpSpPr>
          <p:sp>
            <p:nvSpPr>
              <p:cNvPr id="1757" name=""/>
              <p:cNvSpPr/>
              <p:nvPr/>
            </p:nvSpPr>
            <p:spPr>
              <a:xfrm>
                <a:off x="2070000" y="5650920"/>
                <a:ext cx="335160" cy="2844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6" y="0"/>
                    </a:lnTo>
                    <a:lnTo>
                      <a:pt x="211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070000" y="5650920"/>
                <a:ext cx="335160" cy="28440"/>
              </a:xfrm>
              <a:custGeom>
                <a:avLst/>
                <a:gdLst/>
                <a:ahLst/>
                <a:rect l="l" t="t" r="r" b="b"/>
                <a:pathLst>
                  <a:path w="211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6" y="0"/>
                    </a:lnTo>
                    <a:lnTo>
                      <a:pt x="211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120760" y="5508720"/>
                <a:ext cx="236520" cy="18360"/>
              </a:xfrm>
              <a:custGeom>
                <a:avLst/>
                <a:gdLst/>
                <a:ahLst/>
                <a:rect l="l" t="t" r="r" b="b"/>
                <a:pathLst>
                  <a:path w="149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2" y="0"/>
                    </a:lnTo>
                    <a:lnTo>
                      <a:pt x="149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120760" y="5508720"/>
                <a:ext cx="236520" cy="18360"/>
              </a:xfrm>
              <a:custGeom>
                <a:avLst/>
                <a:gdLst/>
                <a:ahLst/>
                <a:rect l="l" t="t" r="r" b="b"/>
                <a:pathLst>
                  <a:path w="149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2" y="0"/>
                    </a:lnTo>
                    <a:lnTo>
                      <a:pt x="149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122560" y="5527080"/>
                <a:ext cx="234720" cy="141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071800" y="5677920"/>
                <a:ext cx="333360" cy="61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143080" y="5543280"/>
                <a:ext cx="193680" cy="10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2300400" y="5700240"/>
                <a:ext cx="792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060640" y="5746320"/>
                <a:ext cx="355680" cy="28080"/>
              </a:xfrm>
              <a:custGeom>
                <a:avLst/>
                <a:gdLst/>
                <a:ahLst/>
                <a:rect l="l" t="t" r="r" b="b"/>
                <a:pathLst>
                  <a:path w="224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8" y="0"/>
                    </a:lnTo>
                    <a:lnTo>
                      <a:pt x="22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060640" y="5746320"/>
                <a:ext cx="355680" cy="28080"/>
              </a:xfrm>
              <a:custGeom>
                <a:avLst/>
                <a:gdLst/>
                <a:ahLst/>
                <a:rect l="l" t="t" r="r" b="b"/>
                <a:pathLst>
                  <a:path w="224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8" y="0"/>
                    </a:lnTo>
                    <a:lnTo>
                      <a:pt x="22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063880" y="5774760"/>
                <a:ext cx="350640" cy="10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2055960" y="5504040"/>
              <a:ext cx="355320" cy="277200"/>
              <a:chOff x="2055960" y="5504040"/>
              <a:chExt cx="355320" cy="277200"/>
            </a:xfrm>
          </p:grpSpPr>
          <p:sp>
            <p:nvSpPr>
              <p:cNvPr id="1769" name=""/>
              <p:cNvSpPr/>
              <p:nvPr/>
            </p:nvSpPr>
            <p:spPr>
              <a:xfrm>
                <a:off x="2065320" y="5646600"/>
                <a:ext cx="335160" cy="28440"/>
              </a:xfrm>
              <a:custGeom>
                <a:avLst/>
                <a:gdLst/>
                <a:ahLst/>
                <a:rect l="l" t="t" r="r" b="b"/>
                <a:pathLst>
                  <a:path w="211" h="35">
                    <a:moveTo>
                      <a:pt x="0" y="35"/>
                    </a:moveTo>
                    <a:lnTo>
                      <a:pt x="24" y="0"/>
                    </a:lnTo>
                    <a:lnTo>
                      <a:pt x="185" y="0"/>
                    </a:lnTo>
                    <a:lnTo>
                      <a:pt x="2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065320" y="5646600"/>
                <a:ext cx="335160" cy="28440"/>
              </a:xfrm>
              <a:custGeom>
                <a:avLst/>
                <a:gdLst/>
                <a:ahLst/>
                <a:rect l="l" t="t" r="r" b="b"/>
                <a:pathLst>
                  <a:path w="211" h="35">
                    <a:moveTo>
                      <a:pt x="0" y="35"/>
                    </a:moveTo>
                    <a:lnTo>
                      <a:pt x="24" y="0"/>
                    </a:lnTo>
                    <a:lnTo>
                      <a:pt x="185" y="0"/>
                    </a:lnTo>
                    <a:lnTo>
                      <a:pt x="2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114640" y="550404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2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114640" y="550404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2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116080" y="5522760"/>
                <a:ext cx="236520" cy="1411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066760" y="5673600"/>
                <a:ext cx="333720" cy="6156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136600" y="5540400"/>
                <a:ext cx="195480" cy="107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2293560" y="5697360"/>
                <a:ext cx="81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2055960" y="5742000"/>
                <a:ext cx="355320" cy="29880"/>
              </a:xfrm>
              <a:custGeom>
                <a:avLst/>
                <a:gdLst/>
                <a:ahLst/>
                <a:rect l="l" t="t" r="r" b="b"/>
                <a:pathLst>
                  <a:path w="224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7" y="0"/>
                    </a:lnTo>
                    <a:lnTo>
                      <a:pt x="22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2055960" y="5742000"/>
                <a:ext cx="355320" cy="29880"/>
              </a:xfrm>
              <a:custGeom>
                <a:avLst/>
                <a:gdLst/>
                <a:ahLst/>
                <a:rect l="l" t="t" r="r" b="b"/>
                <a:pathLst>
                  <a:path w="224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7" y="0"/>
                    </a:lnTo>
                    <a:lnTo>
                      <a:pt x="224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2057400" y="5770440"/>
                <a:ext cx="352440" cy="1080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0" name=""/>
          <p:cNvGrpSpPr/>
          <p:nvPr/>
        </p:nvGrpSpPr>
        <p:grpSpPr>
          <a:xfrm>
            <a:off x="1038240" y="4975200"/>
            <a:ext cx="363600" cy="284040"/>
            <a:chOff x="1038240" y="4975200"/>
            <a:chExt cx="363600" cy="284040"/>
          </a:xfrm>
        </p:grpSpPr>
        <p:grpSp>
          <p:nvGrpSpPr>
            <p:cNvPr id="1781" name=""/>
            <p:cNvGrpSpPr/>
            <p:nvPr/>
          </p:nvGrpSpPr>
          <p:grpSpPr>
            <a:xfrm>
              <a:off x="1044720" y="4979880"/>
              <a:ext cx="357120" cy="279360"/>
              <a:chOff x="1044720" y="4979880"/>
              <a:chExt cx="357120" cy="279360"/>
            </a:xfrm>
          </p:grpSpPr>
          <p:sp>
            <p:nvSpPr>
              <p:cNvPr id="1782" name=""/>
              <p:cNvSpPr/>
              <p:nvPr/>
            </p:nvSpPr>
            <p:spPr>
              <a:xfrm>
                <a:off x="1052640" y="5124240"/>
                <a:ext cx="33804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052640" y="5124240"/>
                <a:ext cx="33804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103400" y="4979880"/>
                <a:ext cx="239760" cy="17640"/>
              </a:xfrm>
              <a:custGeom>
                <a:avLst/>
                <a:gdLst/>
                <a:ahLst/>
                <a:rect l="l" t="t" r="r" b="b"/>
                <a:pathLst>
                  <a:path w="151" h="24">
                    <a:moveTo>
                      <a:pt x="0" y="24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103400" y="4979880"/>
                <a:ext cx="239760" cy="17640"/>
              </a:xfrm>
              <a:custGeom>
                <a:avLst/>
                <a:gdLst/>
                <a:ahLst/>
                <a:rect l="l" t="t" r="r" b="b"/>
                <a:pathLst>
                  <a:path w="151" h="24">
                    <a:moveTo>
                      <a:pt x="0" y="24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104840" y="4997520"/>
                <a:ext cx="238320" cy="144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055520" y="5151240"/>
                <a:ext cx="335160" cy="6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125360" y="5014800"/>
                <a:ext cx="196920" cy="111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1283760" y="5173560"/>
                <a:ext cx="8100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044720" y="5219640"/>
                <a:ext cx="357120" cy="30240"/>
              </a:xfrm>
              <a:custGeom>
                <a:avLst/>
                <a:gdLst/>
                <a:ahLst/>
                <a:rect l="l" t="t" r="r" b="b"/>
                <a:pathLst>
                  <a:path w="225" h="38">
                    <a:moveTo>
                      <a:pt x="0" y="38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044720" y="5219640"/>
                <a:ext cx="357120" cy="30240"/>
              </a:xfrm>
              <a:custGeom>
                <a:avLst/>
                <a:gdLst/>
                <a:ahLst/>
                <a:rect l="l" t="t" r="r" b="b"/>
                <a:pathLst>
                  <a:path w="225" h="38">
                    <a:moveTo>
                      <a:pt x="0" y="38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046160" y="5248080"/>
                <a:ext cx="35388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1038240" y="4975200"/>
              <a:ext cx="358920" cy="280800"/>
              <a:chOff x="1038240" y="4975200"/>
              <a:chExt cx="358920" cy="280800"/>
            </a:xfrm>
          </p:grpSpPr>
          <p:sp>
            <p:nvSpPr>
              <p:cNvPr id="1794" name=""/>
              <p:cNvSpPr/>
              <p:nvPr/>
            </p:nvSpPr>
            <p:spPr>
              <a:xfrm>
                <a:off x="1047600" y="5119560"/>
                <a:ext cx="33840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047600" y="5119560"/>
                <a:ext cx="338400" cy="2880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098720" y="4975200"/>
                <a:ext cx="237960" cy="1908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098720" y="4975200"/>
                <a:ext cx="237960" cy="1908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100160" y="4994280"/>
                <a:ext cx="236520" cy="1429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049400" y="5146560"/>
                <a:ext cx="336600" cy="637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120680" y="5011560"/>
                <a:ext cx="195480" cy="1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1279080" y="5170320"/>
                <a:ext cx="79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038240" y="5214960"/>
                <a:ext cx="35892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038240" y="5214960"/>
                <a:ext cx="358920" cy="3024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039680" y="5243400"/>
                <a:ext cx="355680" cy="1260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5" name=""/>
          <p:cNvGrpSpPr/>
          <p:nvPr/>
        </p:nvGrpSpPr>
        <p:grpSpPr>
          <a:xfrm>
            <a:off x="7432560" y="3305160"/>
            <a:ext cx="366840" cy="187200"/>
            <a:chOff x="7432560" y="3305160"/>
            <a:chExt cx="366840" cy="187200"/>
          </a:xfrm>
        </p:grpSpPr>
        <p:grpSp>
          <p:nvGrpSpPr>
            <p:cNvPr id="1806" name=""/>
            <p:cNvGrpSpPr/>
            <p:nvPr/>
          </p:nvGrpSpPr>
          <p:grpSpPr>
            <a:xfrm>
              <a:off x="7448400" y="3313080"/>
              <a:ext cx="351000" cy="179280"/>
              <a:chOff x="7448400" y="3313080"/>
              <a:chExt cx="351000" cy="179280"/>
            </a:xfrm>
          </p:grpSpPr>
          <p:sp>
            <p:nvSpPr>
              <p:cNvPr id="1807" name=""/>
              <p:cNvSpPr/>
              <p:nvPr/>
            </p:nvSpPr>
            <p:spPr>
              <a:xfrm>
                <a:off x="7448400" y="331308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464600" y="333828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7481880" y="347652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7721640" y="347652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7547040" y="336384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585200" y="335592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645320" y="335592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520040" y="338436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520040" y="340524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7432560" y="3305160"/>
              <a:ext cx="349200" cy="179280"/>
              <a:chOff x="7432560" y="3305160"/>
              <a:chExt cx="349200" cy="179280"/>
            </a:xfrm>
          </p:grpSpPr>
          <p:sp>
            <p:nvSpPr>
              <p:cNvPr id="1817" name=""/>
              <p:cNvSpPr/>
              <p:nvPr/>
            </p:nvSpPr>
            <p:spPr>
              <a:xfrm>
                <a:off x="7432560" y="330516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448400" y="3330360"/>
                <a:ext cx="31284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470720" y="347184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711920" y="3471840"/>
                <a:ext cx="428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531200" y="3355920"/>
                <a:ext cx="14760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574040" y="334656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7629480" y="334656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508880" y="337644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508880" y="339732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6" name=""/>
          <p:cNvGrpSpPr/>
          <p:nvPr/>
        </p:nvGrpSpPr>
        <p:grpSpPr>
          <a:xfrm>
            <a:off x="6348240" y="2760840"/>
            <a:ext cx="366840" cy="187920"/>
            <a:chOff x="6348240" y="2760840"/>
            <a:chExt cx="366840" cy="187920"/>
          </a:xfrm>
        </p:grpSpPr>
        <p:grpSp>
          <p:nvGrpSpPr>
            <p:cNvPr id="1827" name=""/>
            <p:cNvGrpSpPr/>
            <p:nvPr/>
          </p:nvGrpSpPr>
          <p:grpSpPr>
            <a:xfrm>
              <a:off x="6364440" y="2768400"/>
              <a:ext cx="350640" cy="180360"/>
              <a:chOff x="6364440" y="2768400"/>
              <a:chExt cx="350640" cy="180360"/>
            </a:xfrm>
          </p:grpSpPr>
          <p:sp>
            <p:nvSpPr>
              <p:cNvPr id="1828" name=""/>
              <p:cNvSpPr/>
              <p:nvPr/>
            </p:nvSpPr>
            <p:spPr>
              <a:xfrm>
                <a:off x="6364440" y="27684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381720" y="2793600"/>
                <a:ext cx="31104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39756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63876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462720" y="2818800"/>
                <a:ext cx="1429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500880" y="28108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61000" y="281088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435720" y="283968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435720" y="28602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7" name=""/>
            <p:cNvGrpSpPr/>
            <p:nvPr/>
          </p:nvGrpSpPr>
          <p:grpSpPr>
            <a:xfrm>
              <a:off x="6348240" y="2760840"/>
              <a:ext cx="351000" cy="178920"/>
              <a:chOff x="6348240" y="2760840"/>
              <a:chExt cx="351000" cy="178920"/>
            </a:xfrm>
          </p:grpSpPr>
          <p:sp>
            <p:nvSpPr>
              <p:cNvPr id="1838" name=""/>
              <p:cNvSpPr/>
              <p:nvPr/>
            </p:nvSpPr>
            <p:spPr>
              <a:xfrm>
                <a:off x="6348240" y="276084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364440" y="2786040"/>
                <a:ext cx="31248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386400" y="2928960"/>
                <a:ext cx="4932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627960" y="2928960"/>
                <a:ext cx="4284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446880" y="28112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89720" y="28018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545160" y="2801880"/>
                <a:ext cx="180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424560" y="283212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424560" y="285264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7" name=""/>
          <p:cNvGrpSpPr/>
          <p:nvPr/>
        </p:nvGrpSpPr>
        <p:grpSpPr>
          <a:xfrm>
            <a:off x="7070760" y="5475240"/>
            <a:ext cx="366840" cy="187200"/>
            <a:chOff x="7070760" y="5475240"/>
            <a:chExt cx="366840" cy="187200"/>
          </a:xfrm>
        </p:grpSpPr>
        <p:grpSp>
          <p:nvGrpSpPr>
            <p:cNvPr id="1848" name=""/>
            <p:cNvGrpSpPr/>
            <p:nvPr/>
          </p:nvGrpSpPr>
          <p:grpSpPr>
            <a:xfrm>
              <a:off x="7086600" y="5483160"/>
              <a:ext cx="351000" cy="179280"/>
              <a:chOff x="7086600" y="5483160"/>
              <a:chExt cx="351000" cy="179280"/>
            </a:xfrm>
          </p:grpSpPr>
          <p:sp>
            <p:nvSpPr>
              <p:cNvPr id="1849" name=""/>
              <p:cNvSpPr/>
              <p:nvPr/>
            </p:nvSpPr>
            <p:spPr>
              <a:xfrm>
                <a:off x="7086600" y="548316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8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9" y="34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4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7104240" y="5508720"/>
                <a:ext cx="311040" cy="136440"/>
              </a:xfrm>
              <a:custGeom>
                <a:avLst/>
                <a:gdLst/>
                <a:ahLst/>
                <a:rect l="l" t="t" r="r" b="b"/>
                <a:pathLst>
                  <a:path w="196" h="86">
                    <a:moveTo>
                      <a:pt x="34" y="2"/>
                    </a:moveTo>
                    <a:lnTo>
                      <a:pt x="0" y="55"/>
                    </a:lnTo>
                    <a:lnTo>
                      <a:pt x="0" y="86"/>
                    </a:lnTo>
                    <a:lnTo>
                      <a:pt x="196" y="86"/>
                    </a:lnTo>
                    <a:lnTo>
                      <a:pt x="196" y="55"/>
                    </a:lnTo>
                    <a:lnTo>
                      <a:pt x="151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7120080" y="5645160"/>
                <a:ext cx="4896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361280" y="5645160"/>
                <a:ext cx="493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184880" y="553392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24840" y="552456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84960" y="552456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157880" y="555444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157880" y="557532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7070760" y="5475240"/>
              <a:ext cx="350640" cy="177840"/>
              <a:chOff x="7070760" y="5475240"/>
              <a:chExt cx="350640" cy="177840"/>
            </a:xfrm>
          </p:grpSpPr>
          <p:sp>
            <p:nvSpPr>
              <p:cNvPr id="1859" name=""/>
              <p:cNvSpPr/>
              <p:nvPr/>
            </p:nvSpPr>
            <p:spPr>
              <a:xfrm>
                <a:off x="7070760" y="547524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7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2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7086600" y="5500800"/>
                <a:ext cx="312840" cy="14112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9" y="2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7108920" y="5641920"/>
                <a:ext cx="4896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350120" y="5641920"/>
                <a:ext cx="4428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169040" y="552456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213680" y="5516640"/>
                <a:ext cx="144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7267680" y="5516640"/>
                <a:ext cx="144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147080" y="554508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147080" y="556560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8" name=""/>
          <p:cNvGrpSpPr/>
          <p:nvPr/>
        </p:nvGrpSpPr>
        <p:grpSpPr>
          <a:xfrm>
            <a:off x="7650000" y="4924440"/>
            <a:ext cx="368640" cy="189000"/>
            <a:chOff x="7650000" y="4924440"/>
            <a:chExt cx="368640" cy="189000"/>
          </a:xfrm>
        </p:grpSpPr>
        <p:grpSp>
          <p:nvGrpSpPr>
            <p:cNvPr id="1869" name=""/>
            <p:cNvGrpSpPr/>
            <p:nvPr/>
          </p:nvGrpSpPr>
          <p:grpSpPr>
            <a:xfrm>
              <a:off x="7666200" y="4932360"/>
              <a:ext cx="352440" cy="181080"/>
              <a:chOff x="7666200" y="4932360"/>
              <a:chExt cx="352440" cy="181080"/>
            </a:xfrm>
          </p:grpSpPr>
          <p:sp>
            <p:nvSpPr>
              <p:cNvPr id="1870" name=""/>
              <p:cNvSpPr/>
              <p:nvPr/>
            </p:nvSpPr>
            <p:spPr>
              <a:xfrm>
                <a:off x="7666200" y="4932360"/>
                <a:ext cx="352440" cy="71280"/>
              </a:xfrm>
              <a:custGeom>
                <a:avLst/>
                <a:gdLst/>
                <a:ahLst/>
                <a:rect l="l" t="t" r="r" b="b"/>
                <a:pathLst>
                  <a:path w="222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9" y="35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129" y="32"/>
                    </a:lnTo>
                    <a:lnTo>
                      <a:pt x="129" y="45"/>
                    </a:lnTo>
                    <a:lnTo>
                      <a:pt x="170" y="35"/>
                    </a:lnTo>
                    <a:lnTo>
                      <a:pt x="212" y="45"/>
                    </a:lnTo>
                    <a:lnTo>
                      <a:pt x="222" y="32"/>
                    </a:lnTo>
                    <a:lnTo>
                      <a:pt x="195" y="3"/>
                    </a:lnTo>
                    <a:lnTo>
                      <a:pt x="146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682040" y="4957560"/>
                <a:ext cx="314280" cy="138240"/>
              </a:xfrm>
              <a:custGeom>
                <a:avLst/>
                <a:gdLst/>
                <a:ahLst/>
                <a:rect l="l" t="t" r="r" b="b"/>
                <a:pathLst>
                  <a:path w="198" h="87">
                    <a:moveTo>
                      <a:pt x="35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8" y="87"/>
                    </a:lnTo>
                    <a:lnTo>
                      <a:pt x="198" y="56"/>
                    </a:lnTo>
                    <a:lnTo>
                      <a:pt x="153" y="3"/>
                    </a:lnTo>
                    <a:lnTo>
                      <a:pt x="146" y="3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32" y="3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699320" y="5095800"/>
                <a:ext cx="493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942320" y="5095800"/>
                <a:ext cx="4932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765920" y="4983120"/>
                <a:ext cx="1429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804080" y="497520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864560" y="497520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737480" y="5003640"/>
                <a:ext cx="1872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737480" y="5024520"/>
                <a:ext cx="187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7650000" y="4924440"/>
              <a:ext cx="352440" cy="179280"/>
              <a:chOff x="7650000" y="4924440"/>
              <a:chExt cx="352440" cy="179280"/>
            </a:xfrm>
          </p:grpSpPr>
          <p:sp>
            <p:nvSpPr>
              <p:cNvPr id="1880" name=""/>
              <p:cNvSpPr/>
              <p:nvPr/>
            </p:nvSpPr>
            <p:spPr>
              <a:xfrm>
                <a:off x="7650000" y="4924440"/>
                <a:ext cx="352440" cy="71280"/>
              </a:xfrm>
              <a:custGeom>
                <a:avLst/>
                <a:gdLst/>
                <a:ahLst/>
                <a:rect l="l" t="t" r="r" b="b"/>
                <a:pathLst>
                  <a:path w="222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73" y="34"/>
                    </a:lnTo>
                    <a:lnTo>
                      <a:pt x="215" y="45"/>
                    </a:lnTo>
                    <a:lnTo>
                      <a:pt x="222" y="32"/>
                    </a:lnTo>
                    <a:lnTo>
                      <a:pt x="198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666200" y="4949640"/>
                <a:ext cx="314280" cy="142920"/>
              </a:xfrm>
              <a:custGeom>
                <a:avLst/>
                <a:gdLst/>
                <a:ahLst/>
                <a:rect l="l" t="t" r="r" b="b"/>
                <a:pathLst>
                  <a:path w="198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8" y="90"/>
                    </a:lnTo>
                    <a:lnTo>
                      <a:pt x="198" y="58"/>
                    </a:lnTo>
                    <a:lnTo>
                      <a:pt x="153" y="3"/>
                    </a:lnTo>
                    <a:lnTo>
                      <a:pt x="149" y="3"/>
                    </a:lnTo>
                    <a:lnTo>
                      <a:pt x="142" y="0"/>
                    </a:lnTo>
                    <a:lnTo>
                      <a:pt x="132" y="0"/>
                    </a:lnTo>
                    <a:lnTo>
                      <a:pt x="132" y="3"/>
                    </a:lnTo>
                    <a:lnTo>
                      <a:pt x="63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688160" y="5092560"/>
                <a:ext cx="4932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931160" y="5092560"/>
                <a:ext cx="4428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748640" y="4975200"/>
                <a:ext cx="14904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792920" y="496548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848720" y="49654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726320" y="4995720"/>
                <a:ext cx="1825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726320" y="5016600"/>
                <a:ext cx="1825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9" name=""/>
          <p:cNvGrpSpPr/>
          <p:nvPr/>
        </p:nvGrpSpPr>
        <p:grpSpPr>
          <a:xfrm>
            <a:off x="1563840" y="5424480"/>
            <a:ext cx="366480" cy="187200"/>
            <a:chOff x="1563840" y="5424480"/>
            <a:chExt cx="366480" cy="187200"/>
          </a:xfrm>
        </p:grpSpPr>
        <p:grpSp>
          <p:nvGrpSpPr>
            <p:cNvPr id="1890" name=""/>
            <p:cNvGrpSpPr/>
            <p:nvPr/>
          </p:nvGrpSpPr>
          <p:grpSpPr>
            <a:xfrm>
              <a:off x="1579680" y="5433840"/>
              <a:ext cx="350640" cy="177840"/>
              <a:chOff x="1579680" y="5433840"/>
              <a:chExt cx="350640" cy="177840"/>
            </a:xfrm>
          </p:grpSpPr>
          <p:sp>
            <p:nvSpPr>
              <p:cNvPr id="1891" name=""/>
              <p:cNvSpPr/>
              <p:nvPr/>
            </p:nvSpPr>
            <p:spPr>
              <a:xfrm>
                <a:off x="1579680" y="543384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69" y="34"/>
                    </a:lnTo>
                    <a:lnTo>
                      <a:pt x="210" y="44"/>
                    </a:lnTo>
                    <a:lnTo>
                      <a:pt x="221" y="31"/>
                    </a:lnTo>
                    <a:lnTo>
                      <a:pt x="193" y="2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595520" y="545760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612800" y="55958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852560" y="55958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677960" y="548316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716120" y="547524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776240" y="547524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650960" y="550368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650960" y="552456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1563840" y="5424480"/>
              <a:ext cx="349200" cy="179280"/>
              <a:chOff x="1563840" y="5424480"/>
              <a:chExt cx="349200" cy="179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1563840" y="542448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7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6"/>
                    </a:lnTo>
                    <a:lnTo>
                      <a:pt x="144" y="0"/>
                    </a:lnTo>
                    <a:lnTo>
                      <a:pt x="76" y="0"/>
                    </a:lnTo>
                    <a:lnTo>
                      <a:pt x="17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79680" y="5449680"/>
                <a:ext cx="31248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3"/>
                    </a:moveTo>
                    <a:lnTo>
                      <a:pt x="0" y="58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01640" y="559116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843200" y="5591160"/>
                <a:ext cx="428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662120" y="54752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704960" y="5467320"/>
                <a:ext cx="144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760400" y="5467320"/>
                <a:ext cx="1800" cy="950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639800" y="549576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639800" y="551664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0" name=""/>
          <p:cNvGrpSpPr/>
          <p:nvPr/>
        </p:nvGrpSpPr>
        <p:grpSpPr>
          <a:xfrm>
            <a:off x="1415880" y="3648240"/>
            <a:ext cx="366840" cy="187920"/>
            <a:chOff x="1415880" y="3648240"/>
            <a:chExt cx="366840" cy="187920"/>
          </a:xfrm>
        </p:grpSpPr>
        <p:grpSp>
          <p:nvGrpSpPr>
            <p:cNvPr id="1911" name=""/>
            <p:cNvGrpSpPr/>
            <p:nvPr/>
          </p:nvGrpSpPr>
          <p:grpSpPr>
            <a:xfrm>
              <a:off x="1432080" y="3655800"/>
              <a:ext cx="350640" cy="180360"/>
              <a:chOff x="1432080" y="3655800"/>
              <a:chExt cx="350640" cy="180360"/>
            </a:xfrm>
          </p:grpSpPr>
          <p:sp>
            <p:nvSpPr>
              <p:cNvPr id="1912" name=""/>
              <p:cNvSpPr/>
              <p:nvPr/>
            </p:nvSpPr>
            <p:spPr>
              <a:xfrm>
                <a:off x="1432080" y="36558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5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447920" y="3681000"/>
                <a:ext cx="31248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465200" y="38192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704960" y="38192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530360" y="3706560"/>
                <a:ext cx="14292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568520" y="36982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628640" y="369828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503360" y="372708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03360" y="37476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1415880" y="3648240"/>
              <a:ext cx="349560" cy="178920"/>
              <a:chOff x="1415880" y="3648240"/>
              <a:chExt cx="349560" cy="178920"/>
            </a:xfrm>
          </p:grpSpPr>
          <p:sp>
            <p:nvSpPr>
              <p:cNvPr id="1922" name=""/>
              <p:cNvSpPr/>
              <p:nvPr/>
            </p:nvSpPr>
            <p:spPr>
              <a:xfrm>
                <a:off x="1415880" y="3648240"/>
                <a:ext cx="34956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432080" y="3673440"/>
                <a:ext cx="311040" cy="14076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38" y="2"/>
                    </a:moveTo>
                    <a:lnTo>
                      <a:pt x="0" y="58"/>
                    </a:lnTo>
                    <a:lnTo>
                      <a:pt x="0" y="89"/>
                    </a:lnTo>
                    <a:lnTo>
                      <a:pt x="196" y="89"/>
                    </a:lnTo>
                    <a:lnTo>
                      <a:pt x="196" y="58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454040" y="381456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693800" y="3814560"/>
                <a:ext cx="446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514520" y="36986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557360" y="36892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612800" y="3689280"/>
                <a:ext cx="180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492200" y="371952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492200" y="374004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1" name=""/>
          <p:cNvGrpSpPr/>
          <p:nvPr/>
        </p:nvGrpSpPr>
        <p:grpSpPr>
          <a:xfrm>
            <a:off x="6780240" y="3745080"/>
            <a:ext cx="366840" cy="186480"/>
            <a:chOff x="6780240" y="3745080"/>
            <a:chExt cx="366840" cy="186480"/>
          </a:xfrm>
        </p:grpSpPr>
        <p:grpSp>
          <p:nvGrpSpPr>
            <p:cNvPr id="1932" name=""/>
            <p:cNvGrpSpPr/>
            <p:nvPr/>
          </p:nvGrpSpPr>
          <p:grpSpPr>
            <a:xfrm>
              <a:off x="6797520" y="3752640"/>
              <a:ext cx="349560" cy="178920"/>
              <a:chOff x="6797520" y="3752640"/>
              <a:chExt cx="349560" cy="178920"/>
            </a:xfrm>
          </p:grpSpPr>
          <p:sp>
            <p:nvSpPr>
              <p:cNvPr id="1933" name=""/>
              <p:cNvSpPr/>
              <p:nvPr/>
            </p:nvSpPr>
            <p:spPr>
              <a:xfrm>
                <a:off x="6797520" y="3752640"/>
                <a:ext cx="34956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813720" y="3777840"/>
                <a:ext cx="31248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829560" y="3916080"/>
                <a:ext cx="489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070760" y="3916080"/>
                <a:ext cx="4932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896160" y="3803400"/>
                <a:ext cx="14112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934320" y="379368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994440" y="3793680"/>
                <a:ext cx="180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867360" y="3823920"/>
                <a:ext cx="1875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867360" y="3844440"/>
                <a:ext cx="187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6780240" y="3745080"/>
              <a:ext cx="350640" cy="178920"/>
              <a:chOff x="6780240" y="3745080"/>
              <a:chExt cx="350640" cy="178920"/>
            </a:xfrm>
          </p:grpSpPr>
          <p:sp>
            <p:nvSpPr>
              <p:cNvPr id="1943" name=""/>
              <p:cNvSpPr/>
              <p:nvPr/>
            </p:nvSpPr>
            <p:spPr>
              <a:xfrm>
                <a:off x="6780240" y="3745080"/>
                <a:ext cx="35064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797520" y="3768480"/>
                <a:ext cx="311400" cy="14256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818400" y="391140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059600" y="3911400"/>
                <a:ext cx="446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878520" y="3794040"/>
                <a:ext cx="14760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923160" y="378612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977160" y="378612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58000" y="3814560"/>
                <a:ext cx="1792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858000" y="3836880"/>
                <a:ext cx="1792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2" name=""/>
          <p:cNvGrpSpPr/>
          <p:nvPr/>
        </p:nvGrpSpPr>
        <p:grpSpPr>
          <a:xfrm>
            <a:off x="6058080" y="5070600"/>
            <a:ext cx="366480" cy="187920"/>
            <a:chOff x="6058080" y="5070600"/>
            <a:chExt cx="366480" cy="187920"/>
          </a:xfrm>
        </p:grpSpPr>
        <p:grpSp>
          <p:nvGrpSpPr>
            <p:cNvPr id="1953" name=""/>
            <p:cNvGrpSpPr/>
            <p:nvPr/>
          </p:nvGrpSpPr>
          <p:grpSpPr>
            <a:xfrm>
              <a:off x="6073920" y="5079960"/>
              <a:ext cx="350640" cy="178560"/>
              <a:chOff x="6073920" y="5079960"/>
              <a:chExt cx="350640" cy="178560"/>
            </a:xfrm>
          </p:grpSpPr>
          <p:sp>
            <p:nvSpPr>
              <p:cNvPr id="1954" name=""/>
              <p:cNvSpPr/>
              <p:nvPr/>
            </p:nvSpPr>
            <p:spPr>
              <a:xfrm>
                <a:off x="6073920" y="5079960"/>
                <a:ext cx="35064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9" y="34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69" y="34"/>
                    </a:lnTo>
                    <a:lnTo>
                      <a:pt x="211" y="44"/>
                    </a:lnTo>
                    <a:lnTo>
                      <a:pt x="221" y="31"/>
                    </a:lnTo>
                    <a:lnTo>
                      <a:pt x="194" y="2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091200" y="5103360"/>
                <a:ext cx="31104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107040" y="524160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348240" y="524160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172200" y="5128920"/>
                <a:ext cx="1429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211800" y="5121000"/>
                <a:ext cx="180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272280" y="512100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145200" y="514944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145200" y="517176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3" name=""/>
            <p:cNvGrpSpPr/>
            <p:nvPr/>
          </p:nvGrpSpPr>
          <p:grpSpPr>
            <a:xfrm>
              <a:off x="6058080" y="5070600"/>
              <a:ext cx="350640" cy="180360"/>
              <a:chOff x="6058080" y="5070600"/>
              <a:chExt cx="350640" cy="180360"/>
            </a:xfrm>
          </p:grpSpPr>
          <p:sp>
            <p:nvSpPr>
              <p:cNvPr id="1964" name=""/>
              <p:cNvSpPr/>
              <p:nvPr/>
            </p:nvSpPr>
            <p:spPr>
              <a:xfrm>
                <a:off x="6058080" y="50706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7"/>
                    </a:lnTo>
                    <a:lnTo>
                      <a:pt x="3" y="43"/>
                    </a:lnTo>
                    <a:lnTo>
                      <a:pt x="52" y="35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72" y="35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7" y="6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073920" y="5095800"/>
                <a:ext cx="31248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9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095880" y="5238720"/>
                <a:ext cx="49320" cy="1224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337440" y="5238720"/>
                <a:ext cx="44280" cy="1224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156360" y="5121360"/>
                <a:ext cx="14760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200640" y="5113440"/>
                <a:ext cx="1800" cy="946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254640" y="5113440"/>
                <a:ext cx="1800" cy="946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134040" y="514188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134040" y="516240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3" name=""/>
          <p:cNvGrpSpPr/>
          <p:nvPr/>
        </p:nvGrpSpPr>
        <p:grpSpPr>
          <a:xfrm>
            <a:off x="1038240" y="3392640"/>
            <a:ext cx="363600" cy="280080"/>
            <a:chOff x="1038240" y="3392640"/>
            <a:chExt cx="363600" cy="280080"/>
          </a:xfrm>
        </p:grpSpPr>
        <p:grpSp>
          <p:nvGrpSpPr>
            <p:cNvPr id="1974" name=""/>
            <p:cNvGrpSpPr/>
            <p:nvPr/>
          </p:nvGrpSpPr>
          <p:grpSpPr>
            <a:xfrm>
              <a:off x="1044720" y="3397320"/>
              <a:ext cx="357120" cy="275400"/>
              <a:chOff x="1044720" y="3397320"/>
              <a:chExt cx="357120" cy="275400"/>
            </a:xfrm>
          </p:grpSpPr>
          <p:sp>
            <p:nvSpPr>
              <p:cNvPr id="1975" name=""/>
              <p:cNvSpPr/>
              <p:nvPr/>
            </p:nvSpPr>
            <p:spPr>
              <a:xfrm>
                <a:off x="1052640" y="353952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052640" y="3539520"/>
                <a:ext cx="33804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103400" y="3397320"/>
                <a:ext cx="239760" cy="1692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103400" y="3397320"/>
                <a:ext cx="239760" cy="16920"/>
              </a:xfrm>
              <a:custGeom>
                <a:avLst/>
                <a:gdLst/>
                <a:ahLst/>
                <a:rect l="l" t="t" r="r" b="b"/>
                <a:pathLst>
                  <a:path w="151" h="23">
                    <a:moveTo>
                      <a:pt x="0" y="23"/>
                    </a:moveTo>
                    <a:lnTo>
                      <a:pt x="18" y="0"/>
                    </a:lnTo>
                    <a:lnTo>
                      <a:pt x="133" y="0"/>
                    </a:lnTo>
                    <a:lnTo>
                      <a:pt x="15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104840" y="3414240"/>
                <a:ext cx="238320" cy="141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055520" y="3566520"/>
                <a:ext cx="335160" cy="61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125360" y="3431880"/>
                <a:ext cx="196920" cy="10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1283760" y="3588840"/>
                <a:ext cx="8100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044720" y="3633480"/>
                <a:ext cx="357120" cy="29520"/>
              </a:xfrm>
              <a:custGeom>
                <a:avLst/>
                <a:gdLst/>
                <a:ahLst/>
                <a:rect l="l" t="t" r="r" b="b"/>
                <a:pathLst>
                  <a:path w="225" h="37">
                    <a:moveTo>
                      <a:pt x="0" y="37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044720" y="3633480"/>
                <a:ext cx="357120" cy="29520"/>
              </a:xfrm>
              <a:custGeom>
                <a:avLst/>
                <a:gdLst/>
                <a:ahLst/>
                <a:rect l="l" t="t" r="r" b="b"/>
                <a:pathLst>
                  <a:path w="225" h="37">
                    <a:moveTo>
                      <a:pt x="0" y="37"/>
                    </a:moveTo>
                    <a:lnTo>
                      <a:pt x="25" y="0"/>
                    </a:lnTo>
                    <a:lnTo>
                      <a:pt x="198" y="0"/>
                    </a:lnTo>
                    <a:lnTo>
                      <a:pt x="225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046160" y="3661920"/>
                <a:ext cx="353880" cy="10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1038240" y="3392640"/>
              <a:ext cx="358920" cy="277200"/>
              <a:chOff x="1038240" y="3392640"/>
              <a:chExt cx="358920" cy="277200"/>
            </a:xfrm>
          </p:grpSpPr>
          <p:sp>
            <p:nvSpPr>
              <p:cNvPr id="1987" name=""/>
              <p:cNvSpPr/>
              <p:nvPr/>
            </p:nvSpPr>
            <p:spPr>
              <a:xfrm>
                <a:off x="1047600" y="3535200"/>
                <a:ext cx="33840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047600" y="3535200"/>
                <a:ext cx="338400" cy="28440"/>
              </a:xfrm>
              <a:custGeom>
                <a:avLst/>
                <a:gdLst/>
                <a:ahLst/>
                <a:rect l="l" t="t" r="r" b="b"/>
                <a:pathLst>
                  <a:path w="213" h="36">
                    <a:moveTo>
                      <a:pt x="0" y="36"/>
                    </a:moveTo>
                    <a:lnTo>
                      <a:pt x="25" y="0"/>
                    </a:lnTo>
                    <a:lnTo>
                      <a:pt x="187" y="0"/>
                    </a:lnTo>
                    <a:lnTo>
                      <a:pt x="213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098720" y="339264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098720" y="3392640"/>
                <a:ext cx="237960" cy="18720"/>
              </a:xfrm>
              <a:custGeom>
                <a:avLst/>
                <a:gdLst/>
                <a:ahLst/>
                <a:rect l="l" t="t" r="r" b="b"/>
                <a:pathLst>
                  <a:path w="150" h="23">
                    <a:moveTo>
                      <a:pt x="0" y="23"/>
                    </a:moveTo>
                    <a:lnTo>
                      <a:pt x="17" y="0"/>
                    </a:lnTo>
                    <a:lnTo>
                      <a:pt x="133" y="0"/>
                    </a:lnTo>
                    <a:lnTo>
                      <a:pt x="1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100160" y="3411360"/>
                <a:ext cx="236520" cy="14112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049400" y="3562200"/>
                <a:ext cx="336600" cy="6156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120680" y="3427200"/>
                <a:ext cx="195480" cy="1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1279080" y="3584520"/>
                <a:ext cx="79560" cy="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038240" y="3630600"/>
                <a:ext cx="358920" cy="2808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038240" y="3630600"/>
                <a:ext cx="358920" cy="28080"/>
              </a:xfrm>
              <a:custGeom>
                <a:avLst/>
                <a:gdLst/>
                <a:ahLst/>
                <a:rect l="l" t="t" r="r" b="b"/>
                <a:pathLst>
                  <a:path w="226" h="38">
                    <a:moveTo>
                      <a:pt x="0" y="38"/>
                    </a:moveTo>
                    <a:lnTo>
                      <a:pt x="26" y="0"/>
                    </a:lnTo>
                    <a:lnTo>
                      <a:pt x="199" y="0"/>
                    </a:lnTo>
                    <a:lnTo>
                      <a:pt x="226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b7b79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039680" y="3659040"/>
                <a:ext cx="355680" cy="10800"/>
              </a:xfrm>
              <a:prstGeom prst="rect">
                <a:avLst/>
              </a:prstGeom>
              <a:solidFill>
                <a:srgbClr val="a5a5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8" name=""/>
          <p:cNvSpPr/>
          <p:nvPr/>
        </p:nvSpPr>
        <p:spPr>
          <a:xfrm>
            <a:off x="8096400" y="4057560"/>
            <a:ext cx="1090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001000" y="403848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565360" y="4483080"/>
            <a:ext cx="10922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743200" y="426708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7583400" y="2362320"/>
            <a:ext cx="109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391520" y="228600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646440" y="5334120"/>
            <a:ext cx="1459080" cy="25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733920" y="533412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Local Z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200400" y="5715000"/>
            <a:ext cx="2514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350160" y="5791320"/>
            <a:ext cx="22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Administrative Doma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8263080" y="2462040"/>
            <a:ext cx="8031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352000" y="262728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7947000" y="2658960"/>
            <a:ext cx="36504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8388360" y="4206960"/>
            <a:ext cx="798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474040" y="437184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8072280" y="4403880"/>
            <a:ext cx="362160" cy="145800"/>
          </a:xfrm>
          <a:custGeom>
            <a:avLst/>
            <a:gdLst/>
            <a:ahLst/>
            <a:rect l="l" t="t" r="r" b="b"/>
            <a:pathLst>
              <a:path w="228" h="92">
                <a:moveTo>
                  <a:pt x="170" y="0"/>
                </a:moveTo>
                <a:lnTo>
                  <a:pt x="170" y="23"/>
                </a:lnTo>
                <a:lnTo>
                  <a:pt x="0" y="23"/>
                </a:lnTo>
                <a:lnTo>
                  <a:pt x="0" y="70"/>
                </a:lnTo>
                <a:lnTo>
                  <a:pt x="170" y="70"/>
                </a:lnTo>
                <a:lnTo>
                  <a:pt x="170" y="92"/>
                </a:lnTo>
                <a:lnTo>
                  <a:pt x="228" y="47"/>
                </a:lnTo>
                <a:lnTo>
                  <a:pt x="170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3584520" y="4632480"/>
            <a:ext cx="7984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886200" y="4648320"/>
            <a:ext cx="58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505320" y="4724280"/>
            <a:ext cx="363240" cy="147600"/>
          </a:xfrm>
          <a:custGeom>
            <a:avLst/>
            <a:gdLst/>
            <a:ahLst/>
            <a:rect l="l" t="t" r="r" b="b"/>
            <a:pathLst>
              <a:path w="229" h="93">
                <a:moveTo>
                  <a:pt x="172" y="0"/>
                </a:moveTo>
                <a:lnTo>
                  <a:pt x="172" y="23"/>
                </a:lnTo>
                <a:lnTo>
                  <a:pt x="0" y="23"/>
                </a:lnTo>
                <a:lnTo>
                  <a:pt x="0" y="70"/>
                </a:lnTo>
                <a:lnTo>
                  <a:pt x="172" y="70"/>
                </a:lnTo>
                <a:lnTo>
                  <a:pt x="172" y="93"/>
                </a:lnTo>
                <a:lnTo>
                  <a:pt x="229" y="46"/>
                </a:lnTo>
                <a:lnTo>
                  <a:pt x="172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359000" y="3062160"/>
            <a:ext cx="6375240" cy="2284560"/>
          </a:xfrm>
          <a:custGeom>
            <a:avLst/>
            <a:gdLst/>
            <a:ahLst/>
            <a:rect l="l" t="t" r="r" b="b"/>
            <a:pathLst>
              <a:path w="4016" h="1431">
                <a:moveTo>
                  <a:pt x="0" y="1319"/>
                </a:moveTo>
                <a:cubicBezTo>
                  <a:pt x="244" y="1313"/>
                  <a:pt x="489" y="1307"/>
                  <a:pt x="608" y="1119"/>
                </a:cubicBezTo>
                <a:cubicBezTo>
                  <a:pt x="727" y="931"/>
                  <a:pt x="604" y="343"/>
                  <a:pt x="712" y="191"/>
                </a:cubicBezTo>
                <a:cubicBezTo>
                  <a:pt x="820" y="39"/>
                  <a:pt x="705" y="0"/>
                  <a:pt x="1256" y="207"/>
                </a:cubicBezTo>
                <a:cubicBezTo>
                  <a:pt x="1807" y="414"/>
                  <a:pt x="2911" y="922"/>
                  <a:pt x="4016" y="1431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346040" y="3255840"/>
            <a:ext cx="6388200" cy="2313000"/>
          </a:xfrm>
          <a:custGeom>
            <a:avLst/>
            <a:gdLst/>
            <a:ahLst/>
            <a:rect l="l" t="t" r="r" b="b"/>
            <a:pathLst>
              <a:path w="4024" h="1457">
                <a:moveTo>
                  <a:pt x="0" y="1157"/>
                </a:moveTo>
                <a:cubicBezTo>
                  <a:pt x="123" y="1163"/>
                  <a:pt x="247" y="1170"/>
                  <a:pt x="320" y="1021"/>
                </a:cubicBezTo>
                <a:cubicBezTo>
                  <a:pt x="393" y="872"/>
                  <a:pt x="333" y="404"/>
                  <a:pt x="440" y="261"/>
                </a:cubicBezTo>
                <a:cubicBezTo>
                  <a:pt x="547" y="118"/>
                  <a:pt x="447" y="0"/>
                  <a:pt x="960" y="165"/>
                </a:cubicBezTo>
                <a:cubicBezTo>
                  <a:pt x="1473" y="330"/>
                  <a:pt x="3016" y="1049"/>
                  <a:pt x="3520" y="1253"/>
                </a:cubicBezTo>
                <a:cubicBezTo>
                  <a:pt x="4024" y="1457"/>
                  <a:pt x="4004" y="1423"/>
                  <a:pt x="3984" y="1389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1069200" y="4914000"/>
            <a:ext cx="6918480" cy="577800"/>
            <a:chOff x="1069200" y="4914000"/>
            <a:chExt cx="6918480" cy="577800"/>
          </a:xfrm>
        </p:grpSpPr>
        <p:grpSp>
          <p:nvGrpSpPr>
            <p:cNvPr id="2020" name=""/>
            <p:cNvGrpSpPr/>
            <p:nvPr/>
          </p:nvGrpSpPr>
          <p:grpSpPr>
            <a:xfrm>
              <a:off x="1069200" y="4914000"/>
              <a:ext cx="289080" cy="260280"/>
              <a:chOff x="1069200" y="4914000"/>
              <a:chExt cx="289080" cy="260280"/>
            </a:xfrm>
          </p:grpSpPr>
          <p:sp>
            <p:nvSpPr>
              <p:cNvPr id="2021" name=""/>
              <p:cNvSpPr/>
              <p:nvPr/>
            </p:nvSpPr>
            <p:spPr>
              <a:xfrm rot="21391800">
                <a:off x="1076400" y="5037120"/>
                <a:ext cx="278280" cy="128520"/>
              </a:xfrm>
              <a:custGeom>
                <a:avLst/>
                <a:gdLst/>
                <a:ahLst/>
                <a:rect l="l" t="t" r="r" b="b"/>
                <a:pathLst>
                  <a:path w="7792" h="4429">
                    <a:moveTo>
                      <a:pt x="0" y="4388"/>
                    </a:moveTo>
                    <a:lnTo>
                      <a:pt x="7792" y="4429"/>
                    </a:lnTo>
                    <a:lnTo>
                      <a:pt x="7375" y="3207"/>
                    </a:lnTo>
                    <a:lnTo>
                      <a:pt x="7134" y="1682"/>
                    </a:lnTo>
                    <a:lnTo>
                      <a:pt x="5011" y="793"/>
                    </a:lnTo>
                    <a:lnTo>
                      <a:pt x="2981" y="0"/>
                    </a:lnTo>
                    <a:lnTo>
                      <a:pt x="2363" y="637"/>
                    </a:lnTo>
                    <a:lnTo>
                      <a:pt x="606" y="1797"/>
                    </a:lnTo>
                    <a:lnTo>
                      <a:pt x="83" y="2591"/>
                    </a:lnTo>
                    <a:lnTo>
                      <a:pt x="0" y="4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21391800">
                <a:off x="1167120" y="5029200"/>
                <a:ext cx="153360" cy="133560"/>
              </a:xfrm>
              <a:custGeom>
                <a:avLst/>
                <a:gdLst/>
                <a:ahLst/>
                <a:rect l="l" t="t" r="r" b="b"/>
                <a:pathLst>
                  <a:path w="4300" h="4616">
                    <a:moveTo>
                      <a:pt x="312" y="62"/>
                    </a:moveTo>
                    <a:lnTo>
                      <a:pt x="395" y="156"/>
                    </a:lnTo>
                    <a:lnTo>
                      <a:pt x="228" y="249"/>
                    </a:lnTo>
                    <a:lnTo>
                      <a:pt x="0" y="723"/>
                    </a:lnTo>
                    <a:lnTo>
                      <a:pt x="42" y="3198"/>
                    </a:lnTo>
                    <a:lnTo>
                      <a:pt x="498" y="3642"/>
                    </a:lnTo>
                    <a:lnTo>
                      <a:pt x="1058" y="4523"/>
                    </a:lnTo>
                    <a:lnTo>
                      <a:pt x="2012" y="4574"/>
                    </a:lnTo>
                    <a:lnTo>
                      <a:pt x="3057" y="4616"/>
                    </a:lnTo>
                    <a:lnTo>
                      <a:pt x="4166" y="3322"/>
                    </a:lnTo>
                    <a:lnTo>
                      <a:pt x="4300" y="1738"/>
                    </a:lnTo>
                    <a:lnTo>
                      <a:pt x="2426" y="1013"/>
                    </a:lnTo>
                    <a:lnTo>
                      <a:pt x="1939" y="1262"/>
                    </a:lnTo>
                    <a:lnTo>
                      <a:pt x="447" y="0"/>
                    </a:lnTo>
                    <a:lnTo>
                      <a:pt x="312" y="62"/>
                    </a:lnTo>
                    <a:close/>
                  </a:path>
                </a:pathLst>
              </a:custGeom>
              <a:solidFill>
                <a:srgbClr val="ddd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21391800">
                <a:off x="1256040" y="5032080"/>
                <a:ext cx="56160" cy="92520"/>
              </a:xfrm>
              <a:custGeom>
                <a:avLst/>
                <a:gdLst/>
                <a:ahLst/>
                <a:rect l="l" t="t" r="r" b="b"/>
                <a:pathLst>
                  <a:path w="1574" h="3197">
                    <a:moveTo>
                      <a:pt x="610" y="826"/>
                    </a:moveTo>
                    <a:lnTo>
                      <a:pt x="0" y="982"/>
                    </a:lnTo>
                    <a:lnTo>
                      <a:pt x="22" y="1241"/>
                    </a:lnTo>
                    <a:lnTo>
                      <a:pt x="476" y="1582"/>
                    </a:lnTo>
                    <a:lnTo>
                      <a:pt x="248" y="2441"/>
                    </a:lnTo>
                    <a:lnTo>
                      <a:pt x="424" y="3197"/>
                    </a:lnTo>
                    <a:lnTo>
                      <a:pt x="1056" y="2980"/>
                    </a:lnTo>
                    <a:lnTo>
                      <a:pt x="1180" y="2824"/>
                    </a:lnTo>
                    <a:lnTo>
                      <a:pt x="1553" y="1768"/>
                    </a:lnTo>
                    <a:lnTo>
                      <a:pt x="1574" y="1520"/>
                    </a:lnTo>
                    <a:lnTo>
                      <a:pt x="1356" y="1292"/>
                    </a:lnTo>
                    <a:lnTo>
                      <a:pt x="1243" y="940"/>
                    </a:lnTo>
                    <a:lnTo>
                      <a:pt x="1388" y="495"/>
                    </a:lnTo>
                    <a:lnTo>
                      <a:pt x="1356" y="0"/>
                    </a:lnTo>
                    <a:lnTo>
                      <a:pt x="1201" y="72"/>
                    </a:lnTo>
                    <a:lnTo>
                      <a:pt x="1139" y="660"/>
                    </a:lnTo>
                    <a:lnTo>
                      <a:pt x="610" y="826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21391800">
                <a:off x="1267200" y="5079960"/>
                <a:ext cx="40680" cy="44280"/>
              </a:xfrm>
              <a:custGeom>
                <a:avLst/>
                <a:gdLst/>
                <a:ahLst/>
                <a:rect l="l" t="t" r="r" b="b"/>
                <a:pathLst>
                  <a:path w="1142" h="1532">
                    <a:moveTo>
                      <a:pt x="817" y="318"/>
                    </a:moveTo>
                    <a:lnTo>
                      <a:pt x="795" y="433"/>
                    </a:lnTo>
                    <a:lnTo>
                      <a:pt x="700" y="643"/>
                    </a:lnTo>
                    <a:lnTo>
                      <a:pt x="520" y="831"/>
                    </a:lnTo>
                    <a:lnTo>
                      <a:pt x="361" y="867"/>
                    </a:lnTo>
                    <a:lnTo>
                      <a:pt x="325" y="954"/>
                    </a:lnTo>
                    <a:lnTo>
                      <a:pt x="397" y="1048"/>
                    </a:lnTo>
                    <a:lnTo>
                      <a:pt x="426" y="1164"/>
                    </a:lnTo>
                    <a:lnTo>
                      <a:pt x="860" y="730"/>
                    </a:lnTo>
                    <a:lnTo>
                      <a:pt x="882" y="418"/>
                    </a:lnTo>
                    <a:lnTo>
                      <a:pt x="955" y="318"/>
                    </a:lnTo>
                    <a:lnTo>
                      <a:pt x="1005" y="253"/>
                    </a:lnTo>
                    <a:lnTo>
                      <a:pt x="968" y="7"/>
                    </a:lnTo>
                    <a:lnTo>
                      <a:pt x="1078" y="0"/>
                    </a:lnTo>
                    <a:lnTo>
                      <a:pt x="1142" y="376"/>
                    </a:lnTo>
                    <a:lnTo>
                      <a:pt x="997" y="896"/>
                    </a:lnTo>
                    <a:lnTo>
                      <a:pt x="853" y="1221"/>
                    </a:lnTo>
                    <a:lnTo>
                      <a:pt x="658" y="1351"/>
                    </a:lnTo>
                    <a:lnTo>
                      <a:pt x="614" y="1417"/>
                    </a:lnTo>
                    <a:lnTo>
                      <a:pt x="245" y="1525"/>
                    </a:lnTo>
                    <a:lnTo>
                      <a:pt x="116" y="1532"/>
                    </a:lnTo>
                    <a:lnTo>
                      <a:pt x="0" y="1033"/>
                    </a:lnTo>
                    <a:lnTo>
                      <a:pt x="6" y="852"/>
                    </a:lnTo>
                    <a:lnTo>
                      <a:pt x="160" y="628"/>
                    </a:lnTo>
                    <a:lnTo>
                      <a:pt x="166" y="969"/>
                    </a:lnTo>
                    <a:lnTo>
                      <a:pt x="123" y="1164"/>
                    </a:lnTo>
                    <a:lnTo>
                      <a:pt x="238" y="1395"/>
                    </a:lnTo>
                    <a:lnTo>
                      <a:pt x="267" y="1243"/>
                    </a:lnTo>
                    <a:lnTo>
                      <a:pt x="238" y="982"/>
                    </a:lnTo>
                    <a:lnTo>
                      <a:pt x="224" y="556"/>
                    </a:lnTo>
                    <a:lnTo>
                      <a:pt x="542" y="20"/>
                    </a:lnTo>
                    <a:lnTo>
                      <a:pt x="700" y="194"/>
                    </a:lnTo>
                    <a:lnTo>
                      <a:pt x="817" y="31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21391800">
                <a:off x="1274400" y="5071320"/>
                <a:ext cx="45720" cy="51480"/>
              </a:xfrm>
              <a:custGeom>
                <a:avLst/>
                <a:gdLst/>
                <a:ahLst/>
                <a:rect l="l" t="t" r="r" b="b"/>
                <a:pathLst>
                  <a:path w="1285" h="1780">
                    <a:moveTo>
                      <a:pt x="40" y="1780"/>
                    </a:moveTo>
                    <a:lnTo>
                      <a:pt x="155" y="1646"/>
                    </a:lnTo>
                    <a:lnTo>
                      <a:pt x="31" y="1532"/>
                    </a:lnTo>
                    <a:lnTo>
                      <a:pt x="0" y="1367"/>
                    </a:lnTo>
                    <a:lnTo>
                      <a:pt x="11" y="1243"/>
                    </a:lnTo>
                    <a:lnTo>
                      <a:pt x="145" y="1501"/>
                    </a:lnTo>
                    <a:lnTo>
                      <a:pt x="321" y="1553"/>
                    </a:lnTo>
                    <a:lnTo>
                      <a:pt x="486" y="1429"/>
                    </a:lnTo>
                    <a:lnTo>
                      <a:pt x="724" y="1025"/>
                    </a:lnTo>
                    <a:lnTo>
                      <a:pt x="766" y="807"/>
                    </a:lnTo>
                    <a:lnTo>
                      <a:pt x="745" y="674"/>
                    </a:lnTo>
                    <a:lnTo>
                      <a:pt x="838" y="497"/>
                    </a:lnTo>
                    <a:lnTo>
                      <a:pt x="807" y="300"/>
                    </a:lnTo>
                    <a:lnTo>
                      <a:pt x="942" y="290"/>
                    </a:lnTo>
                    <a:lnTo>
                      <a:pt x="1036" y="342"/>
                    </a:lnTo>
                    <a:lnTo>
                      <a:pt x="1056" y="197"/>
                    </a:lnTo>
                    <a:lnTo>
                      <a:pt x="869" y="0"/>
                    </a:lnTo>
                    <a:lnTo>
                      <a:pt x="1098" y="93"/>
                    </a:lnTo>
                    <a:lnTo>
                      <a:pt x="1285" y="373"/>
                    </a:lnTo>
                    <a:lnTo>
                      <a:pt x="880" y="1387"/>
                    </a:lnTo>
                    <a:lnTo>
                      <a:pt x="724" y="1294"/>
                    </a:lnTo>
                    <a:lnTo>
                      <a:pt x="642" y="1532"/>
                    </a:lnTo>
                    <a:lnTo>
                      <a:pt x="362" y="1718"/>
                    </a:lnTo>
                    <a:lnTo>
                      <a:pt x="40" y="178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21391800">
                <a:off x="1267920" y="4998600"/>
                <a:ext cx="29520" cy="63000"/>
              </a:xfrm>
              <a:custGeom>
                <a:avLst/>
                <a:gdLst/>
                <a:ahLst/>
                <a:rect l="l" t="t" r="r" b="b"/>
                <a:pathLst>
                  <a:path w="832" h="2174">
                    <a:moveTo>
                      <a:pt x="796" y="1544"/>
                    </a:moveTo>
                    <a:lnTo>
                      <a:pt x="757" y="1707"/>
                    </a:lnTo>
                    <a:lnTo>
                      <a:pt x="720" y="1835"/>
                    </a:lnTo>
                    <a:lnTo>
                      <a:pt x="510" y="1882"/>
                    </a:lnTo>
                    <a:lnTo>
                      <a:pt x="0" y="2174"/>
                    </a:lnTo>
                    <a:lnTo>
                      <a:pt x="68" y="1904"/>
                    </a:lnTo>
                    <a:lnTo>
                      <a:pt x="353" y="1412"/>
                    </a:lnTo>
                    <a:lnTo>
                      <a:pt x="262" y="1219"/>
                    </a:lnTo>
                    <a:lnTo>
                      <a:pt x="353" y="817"/>
                    </a:lnTo>
                    <a:lnTo>
                      <a:pt x="522" y="272"/>
                    </a:lnTo>
                    <a:lnTo>
                      <a:pt x="691" y="0"/>
                    </a:lnTo>
                    <a:lnTo>
                      <a:pt x="664" y="247"/>
                    </a:lnTo>
                    <a:lnTo>
                      <a:pt x="782" y="480"/>
                    </a:lnTo>
                    <a:lnTo>
                      <a:pt x="832" y="960"/>
                    </a:lnTo>
                    <a:lnTo>
                      <a:pt x="794" y="1257"/>
                    </a:lnTo>
                    <a:lnTo>
                      <a:pt x="796" y="154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21391800">
                <a:off x="1278000" y="5001480"/>
                <a:ext cx="18720" cy="50040"/>
              </a:xfrm>
              <a:custGeom>
                <a:avLst/>
                <a:gdLst/>
                <a:ahLst/>
                <a:rect l="l" t="t" r="r" b="b"/>
                <a:pathLst>
                  <a:path w="529" h="1727">
                    <a:moveTo>
                      <a:pt x="73" y="880"/>
                    </a:moveTo>
                    <a:lnTo>
                      <a:pt x="166" y="662"/>
                    </a:lnTo>
                    <a:lnTo>
                      <a:pt x="342" y="829"/>
                    </a:lnTo>
                    <a:lnTo>
                      <a:pt x="239" y="466"/>
                    </a:lnTo>
                    <a:lnTo>
                      <a:pt x="301" y="238"/>
                    </a:lnTo>
                    <a:lnTo>
                      <a:pt x="415" y="580"/>
                    </a:lnTo>
                    <a:lnTo>
                      <a:pt x="435" y="953"/>
                    </a:lnTo>
                    <a:lnTo>
                      <a:pt x="353" y="1438"/>
                    </a:lnTo>
                    <a:lnTo>
                      <a:pt x="249" y="1727"/>
                    </a:lnTo>
                    <a:lnTo>
                      <a:pt x="404" y="1708"/>
                    </a:lnTo>
                    <a:lnTo>
                      <a:pt x="497" y="1345"/>
                    </a:lnTo>
                    <a:lnTo>
                      <a:pt x="529" y="984"/>
                    </a:lnTo>
                    <a:lnTo>
                      <a:pt x="508" y="600"/>
                    </a:lnTo>
                    <a:lnTo>
                      <a:pt x="466" y="372"/>
                    </a:lnTo>
                    <a:lnTo>
                      <a:pt x="404" y="197"/>
                    </a:lnTo>
                    <a:lnTo>
                      <a:pt x="290" y="0"/>
                    </a:lnTo>
                    <a:lnTo>
                      <a:pt x="135" y="384"/>
                    </a:lnTo>
                    <a:lnTo>
                      <a:pt x="0" y="891"/>
                    </a:lnTo>
                    <a:lnTo>
                      <a:pt x="73" y="88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21391800">
                <a:off x="1176480" y="4961520"/>
                <a:ext cx="113040" cy="172080"/>
              </a:xfrm>
              <a:custGeom>
                <a:avLst/>
                <a:gdLst/>
                <a:ahLst/>
                <a:rect l="l" t="t" r="r" b="b"/>
                <a:pathLst>
                  <a:path w="3170" h="5943">
                    <a:moveTo>
                      <a:pt x="1053" y="255"/>
                    </a:moveTo>
                    <a:lnTo>
                      <a:pt x="489" y="1078"/>
                    </a:lnTo>
                    <a:lnTo>
                      <a:pt x="466" y="2539"/>
                    </a:lnTo>
                    <a:lnTo>
                      <a:pt x="61" y="2461"/>
                    </a:lnTo>
                    <a:lnTo>
                      <a:pt x="0" y="2971"/>
                    </a:lnTo>
                    <a:lnTo>
                      <a:pt x="136" y="3473"/>
                    </a:lnTo>
                    <a:lnTo>
                      <a:pt x="825" y="5943"/>
                    </a:lnTo>
                    <a:lnTo>
                      <a:pt x="1405" y="4089"/>
                    </a:lnTo>
                    <a:lnTo>
                      <a:pt x="1788" y="3556"/>
                    </a:lnTo>
                    <a:lnTo>
                      <a:pt x="2422" y="2771"/>
                    </a:lnTo>
                    <a:lnTo>
                      <a:pt x="2896" y="2163"/>
                    </a:lnTo>
                    <a:lnTo>
                      <a:pt x="3008" y="1618"/>
                    </a:lnTo>
                    <a:lnTo>
                      <a:pt x="3170" y="683"/>
                    </a:lnTo>
                    <a:lnTo>
                      <a:pt x="1989" y="0"/>
                    </a:lnTo>
                    <a:lnTo>
                      <a:pt x="1053" y="255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21391800">
                <a:off x="1260360" y="5004360"/>
                <a:ext cx="16560" cy="6120"/>
              </a:xfrm>
              <a:custGeom>
                <a:avLst/>
                <a:gdLst/>
                <a:ahLst/>
                <a:rect l="l" t="t" r="r" b="b"/>
                <a:pathLst>
                  <a:path w="474" h="215">
                    <a:moveTo>
                      <a:pt x="92" y="16"/>
                    </a:moveTo>
                    <a:lnTo>
                      <a:pt x="32" y="52"/>
                    </a:lnTo>
                    <a:lnTo>
                      <a:pt x="0" y="116"/>
                    </a:lnTo>
                    <a:lnTo>
                      <a:pt x="144" y="184"/>
                    </a:lnTo>
                    <a:lnTo>
                      <a:pt x="270" y="215"/>
                    </a:lnTo>
                    <a:lnTo>
                      <a:pt x="354" y="208"/>
                    </a:lnTo>
                    <a:lnTo>
                      <a:pt x="474" y="160"/>
                    </a:lnTo>
                    <a:lnTo>
                      <a:pt x="438" y="61"/>
                    </a:lnTo>
                    <a:lnTo>
                      <a:pt x="322" y="0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21391800">
                <a:off x="1218960" y="499932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490" h="243">
                    <a:moveTo>
                      <a:pt x="0" y="33"/>
                    </a:moveTo>
                    <a:lnTo>
                      <a:pt x="159" y="0"/>
                    </a:lnTo>
                    <a:lnTo>
                      <a:pt x="271" y="21"/>
                    </a:lnTo>
                    <a:lnTo>
                      <a:pt x="395" y="72"/>
                    </a:lnTo>
                    <a:lnTo>
                      <a:pt x="474" y="136"/>
                    </a:lnTo>
                    <a:lnTo>
                      <a:pt x="490" y="223"/>
                    </a:lnTo>
                    <a:lnTo>
                      <a:pt x="362" y="243"/>
                    </a:lnTo>
                    <a:lnTo>
                      <a:pt x="139" y="22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21391800">
                <a:off x="1254240" y="500076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2" h="263">
                    <a:moveTo>
                      <a:pt x="144" y="0"/>
                    </a:moveTo>
                    <a:lnTo>
                      <a:pt x="45" y="80"/>
                    </a:lnTo>
                    <a:lnTo>
                      <a:pt x="0" y="160"/>
                    </a:lnTo>
                    <a:lnTo>
                      <a:pt x="8" y="263"/>
                    </a:lnTo>
                    <a:lnTo>
                      <a:pt x="96" y="207"/>
                    </a:lnTo>
                    <a:lnTo>
                      <a:pt x="212" y="5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21391800">
                <a:off x="1163520" y="500652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625" h="846">
                    <a:moveTo>
                      <a:pt x="349" y="85"/>
                    </a:moveTo>
                    <a:lnTo>
                      <a:pt x="368" y="269"/>
                    </a:lnTo>
                    <a:lnTo>
                      <a:pt x="625" y="331"/>
                    </a:lnTo>
                    <a:lnTo>
                      <a:pt x="589" y="846"/>
                    </a:lnTo>
                    <a:lnTo>
                      <a:pt x="270" y="759"/>
                    </a:lnTo>
                    <a:lnTo>
                      <a:pt x="0" y="490"/>
                    </a:lnTo>
                    <a:lnTo>
                      <a:pt x="172" y="0"/>
                    </a:lnTo>
                    <a:lnTo>
                      <a:pt x="349" y="8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21391800">
                <a:off x="1167120" y="5007960"/>
                <a:ext cx="18720" cy="16560"/>
              </a:xfrm>
              <a:custGeom>
                <a:avLst/>
                <a:gdLst/>
                <a:ahLst/>
                <a:rect l="l" t="t" r="r" b="b"/>
                <a:pathLst>
                  <a:path w="527" h="582">
                    <a:moveTo>
                      <a:pt x="164" y="390"/>
                    </a:moveTo>
                    <a:lnTo>
                      <a:pt x="387" y="418"/>
                    </a:lnTo>
                    <a:lnTo>
                      <a:pt x="257" y="479"/>
                    </a:lnTo>
                    <a:lnTo>
                      <a:pt x="382" y="544"/>
                    </a:lnTo>
                    <a:lnTo>
                      <a:pt x="191" y="582"/>
                    </a:lnTo>
                    <a:lnTo>
                      <a:pt x="28" y="455"/>
                    </a:lnTo>
                    <a:lnTo>
                      <a:pt x="0" y="335"/>
                    </a:lnTo>
                    <a:lnTo>
                      <a:pt x="80" y="102"/>
                    </a:lnTo>
                    <a:lnTo>
                      <a:pt x="205" y="0"/>
                    </a:lnTo>
                    <a:lnTo>
                      <a:pt x="429" y="28"/>
                    </a:lnTo>
                    <a:lnTo>
                      <a:pt x="527" y="148"/>
                    </a:lnTo>
                    <a:lnTo>
                      <a:pt x="480" y="293"/>
                    </a:lnTo>
                    <a:lnTo>
                      <a:pt x="164" y="3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21391800">
                <a:off x="1176480" y="5008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8" h="279">
                    <a:moveTo>
                      <a:pt x="0" y="70"/>
                    </a:moveTo>
                    <a:lnTo>
                      <a:pt x="158" y="279"/>
                    </a:lnTo>
                    <a:lnTo>
                      <a:pt x="130" y="121"/>
                    </a:lnTo>
                    <a:lnTo>
                      <a:pt x="5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21391800">
                <a:off x="1167840" y="4964040"/>
                <a:ext cx="30960" cy="56520"/>
              </a:xfrm>
              <a:custGeom>
                <a:avLst/>
                <a:gdLst/>
                <a:ahLst/>
                <a:rect l="l" t="t" r="r" b="b"/>
                <a:pathLst>
                  <a:path w="871" h="1946">
                    <a:moveTo>
                      <a:pt x="871" y="0"/>
                    </a:moveTo>
                    <a:lnTo>
                      <a:pt x="0" y="600"/>
                    </a:lnTo>
                    <a:lnTo>
                      <a:pt x="11" y="1470"/>
                    </a:lnTo>
                    <a:lnTo>
                      <a:pt x="331" y="1521"/>
                    </a:lnTo>
                    <a:lnTo>
                      <a:pt x="415" y="1573"/>
                    </a:lnTo>
                    <a:lnTo>
                      <a:pt x="509" y="1946"/>
                    </a:lnTo>
                    <a:lnTo>
                      <a:pt x="654" y="1149"/>
                    </a:lnTo>
                    <a:lnTo>
                      <a:pt x="643" y="414"/>
                    </a:lnTo>
                    <a:lnTo>
                      <a:pt x="871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21391800">
                <a:off x="1163520" y="4918320"/>
                <a:ext cx="147960" cy="75600"/>
              </a:xfrm>
              <a:custGeom>
                <a:avLst/>
                <a:gdLst/>
                <a:ahLst/>
                <a:rect l="l" t="t" r="r" b="b"/>
                <a:pathLst>
                  <a:path w="4146" h="2619">
                    <a:moveTo>
                      <a:pt x="0" y="1232"/>
                    </a:moveTo>
                    <a:lnTo>
                      <a:pt x="207" y="942"/>
                    </a:lnTo>
                    <a:lnTo>
                      <a:pt x="778" y="393"/>
                    </a:lnTo>
                    <a:lnTo>
                      <a:pt x="1514" y="83"/>
                    </a:lnTo>
                    <a:lnTo>
                      <a:pt x="2343" y="0"/>
                    </a:lnTo>
                    <a:lnTo>
                      <a:pt x="2974" y="300"/>
                    </a:lnTo>
                    <a:lnTo>
                      <a:pt x="3037" y="549"/>
                    </a:lnTo>
                    <a:lnTo>
                      <a:pt x="3337" y="714"/>
                    </a:lnTo>
                    <a:lnTo>
                      <a:pt x="3865" y="1325"/>
                    </a:lnTo>
                    <a:lnTo>
                      <a:pt x="4063" y="1822"/>
                    </a:lnTo>
                    <a:lnTo>
                      <a:pt x="4146" y="1978"/>
                    </a:lnTo>
                    <a:lnTo>
                      <a:pt x="4031" y="2330"/>
                    </a:lnTo>
                    <a:lnTo>
                      <a:pt x="3585" y="2619"/>
                    </a:lnTo>
                    <a:lnTo>
                      <a:pt x="3544" y="2070"/>
                    </a:lnTo>
                    <a:lnTo>
                      <a:pt x="3503" y="1781"/>
                    </a:lnTo>
                    <a:lnTo>
                      <a:pt x="3337" y="1708"/>
                    </a:lnTo>
                    <a:lnTo>
                      <a:pt x="2974" y="1956"/>
                    </a:lnTo>
                    <a:lnTo>
                      <a:pt x="2602" y="1594"/>
                    </a:lnTo>
                    <a:lnTo>
                      <a:pt x="1763" y="1481"/>
                    </a:lnTo>
                    <a:lnTo>
                      <a:pt x="974" y="1605"/>
                    </a:lnTo>
                    <a:lnTo>
                      <a:pt x="414" y="2018"/>
                    </a:lnTo>
                    <a:lnTo>
                      <a:pt x="0" y="1481"/>
                    </a:lnTo>
                    <a:lnTo>
                      <a:pt x="0" y="123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21391800">
                <a:off x="1294200" y="5030280"/>
                <a:ext cx="10800" cy="28800"/>
              </a:xfrm>
              <a:custGeom>
                <a:avLst/>
                <a:gdLst/>
                <a:ahLst/>
                <a:rect l="l" t="t" r="r" b="b"/>
                <a:pathLst>
                  <a:path w="306" h="1000">
                    <a:moveTo>
                      <a:pt x="100" y="349"/>
                    </a:moveTo>
                    <a:lnTo>
                      <a:pt x="188" y="455"/>
                    </a:lnTo>
                    <a:lnTo>
                      <a:pt x="149" y="528"/>
                    </a:lnTo>
                    <a:lnTo>
                      <a:pt x="149" y="733"/>
                    </a:lnTo>
                    <a:lnTo>
                      <a:pt x="88" y="900"/>
                    </a:lnTo>
                    <a:lnTo>
                      <a:pt x="122" y="961"/>
                    </a:lnTo>
                    <a:lnTo>
                      <a:pt x="216" y="583"/>
                    </a:lnTo>
                    <a:lnTo>
                      <a:pt x="216" y="449"/>
                    </a:lnTo>
                    <a:lnTo>
                      <a:pt x="82" y="271"/>
                    </a:lnTo>
                    <a:lnTo>
                      <a:pt x="82" y="260"/>
                    </a:lnTo>
                    <a:lnTo>
                      <a:pt x="82" y="229"/>
                    </a:lnTo>
                    <a:lnTo>
                      <a:pt x="84" y="135"/>
                    </a:lnTo>
                    <a:lnTo>
                      <a:pt x="104" y="0"/>
                    </a:lnTo>
                    <a:lnTo>
                      <a:pt x="261" y="6"/>
                    </a:lnTo>
                    <a:lnTo>
                      <a:pt x="288" y="217"/>
                    </a:lnTo>
                    <a:lnTo>
                      <a:pt x="306" y="344"/>
                    </a:lnTo>
                    <a:lnTo>
                      <a:pt x="272" y="594"/>
                    </a:lnTo>
                    <a:lnTo>
                      <a:pt x="161" y="1000"/>
                    </a:lnTo>
                    <a:lnTo>
                      <a:pt x="71" y="967"/>
                    </a:lnTo>
                    <a:lnTo>
                      <a:pt x="0" y="745"/>
                    </a:lnTo>
                    <a:lnTo>
                      <a:pt x="100" y="349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21391800">
                <a:off x="1265040" y="5052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79" h="348">
                    <a:moveTo>
                      <a:pt x="279" y="0"/>
                    </a:moveTo>
                    <a:lnTo>
                      <a:pt x="135" y="326"/>
                    </a:lnTo>
                    <a:lnTo>
                      <a:pt x="75" y="348"/>
                    </a:lnTo>
                    <a:lnTo>
                      <a:pt x="0" y="337"/>
                    </a:lnTo>
                    <a:lnTo>
                      <a:pt x="45" y="276"/>
                    </a:lnTo>
                    <a:lnTo>
                      <a:pt x="184" y="42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21391800">
                <a:off x="1228680" y="5077440"/>
                <a:ext cx="9720" cy="14760"/>
              </a:xfrm>
              <a:custGeom>
                <a:avLst/>
                <a:gdLst/>
                <a:ahLst/>
                <a:rect l="l" t="t" r="r" b="b"/>
                <a:pathLst>
                  <a:path w="276" h="521">
                    <a:moveTo>
                      <a:pt x="73" y="297"/>
                    </a:moveTo>
                    <a:lnTo>
                      <a:pt x="131" y="167"/>
                    </a:lnTo>
                    <a:lnTo>
                      <a:pt x="276" y="44"/>
                    </a:lnTo>
                    <a:lnTo>
                      <a:pt x="153" y="0"/>
                    </a:lnTo>
                    <a:lnTo>
                      <a:pt x="0" y="108"/>
                    </a:lnTo>
                    <a:lnTo>
                      <a:pt x="15" y="376"/>
                    </a:lnTo>
                    <a:lnTo>
                      <a:pt x="131" y="521"/>
                    </a:lnTo>
                    <a:lnTo>
                      <a:pt x="73" y="297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21391800">
                <a:off x="1225080" y="5059800"/>
                <a:ext cx="39600" cy="42480"/>
              </a:xfrm>
              <a:custGeom>
                <a:avLst/>
                <a:gdLst/>
                <a:ahLst/>
                <a:rect l="l" t="t" r="r" b="b"/>
                <a:pathLst>
                  <a:path w="1108" h="1469">
                    <a:moveTo>
                      <a:pt x="173" y="789"/>
                    </a:moveTo>
                    <a:lnTo>
                      <a:pt x="167" y="926"/>
                    </a:lnTo>
                    <a:lnTo>
                      <a:pt x="312" y="1114"/>
                    </a:lnTo>
                    <a:lnTo>
                      <a:pt x="428" y="1143"/>
                    </a:lnTo>
                    <a:lnTo>
                      <a:pt x="666" y="1034"/>
                    </a:lnTo>
                    <a:lnTo>
                      <a:pt x="897" y="571"/>
                    </a:lnTo>
                    <a:lnTo>
                      <a:pt x="840" y="435"/>
                    </a:lnTo>
                    <a:lnTo>
                      <a:pt x="767" y="362"/>
                    </a:lnTo>
                    <a:lnTo>
                      <a:pt x="521" y="529"/>
                    </a:lnTo>
                    <a:lnTo>
                      <a:pt x="253" y="716"/>
                    </a:lnTo>
                    <a:lnTo>
                      <a:pt x="224" y="608"/>
                    </a:lnTo>
                    <a:lnTo>
                      <a:pt x="659" y="297"/>
                    </a:lnTo>
                    <a:lnTo>
                      <a:pt x="732" y="0"/>
                    </a:lnTo>
                    <a:lnTo>
                      <a:pt x="869" y="160"/>
                    </a:lnTo>
                    <a:lnTo>
                      <a:pt x="905" y="305"/>
                    </a:lnTo>
                    <a:lnTo>
                      <a:pt x="1108" y="384"/>
                    </a:lnTo>
                    <a:lnTo>
                      <a:pt x="1108" y="435"/>
                    </a:lnTo>
                    <a:lnTo>
                      <a:pt x="1028" y="463"/>
                    </a:lnTo>
                    <a:lnTo>
                      <a:pt x="774" y="1100"/>
                    </a:lnTo>
                    <a:lnTo>
                      <a:pt x="580" y="1390"/>
                    </a:lnTo>
                    <a:lnTo>
                      <a:pt x="420" y="1469"/>
                    </a:lnTo>
                    <a:lnTo>
                      <a:pt x="187" y="1331"/>
                    </a:lnTo>
                    <a:lnTo>
                      <a:pt x="0" y="998"/>
                    </a:lnTo>
                    <a:lnTo>
                      <a:pt x="167" y="630"/>
                    </a:lnTo>
                    <a:lnTo>
                      <a:pt x="173" y="789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21391800">
                <a:off x="1243800" y="5070960"/>
                <a:ext cx="41400" cy="31680"/>
              </a:xfrm>
              <a:custGeom>
                <a:avLst/>
                <a:gdLst/>
                <a:ahLst/>
                <a:rect l="l" t="t" r="r" b="b"/>
                <a:pathLst>
                  <a:path w="1165" h="1105">
                    <a:moveTo>
                      <a:pt x="470" y="165"/>
                    </a:moveTo>
                    <a:lnTo>
                      <a:pt x="586" y="158"/>
                    </a:lnTo>
                    <a:lnTo>
                      <a:pt x="645" y="259"/>
                    </a:lnTo>
                    <a:lnTo>
                      <a:pt x="636" y="462"/>
                    </a:lnTo>
                    <a:lnTo>
                      <a:pt x="557" y="635"/>
                    </a:lnTo>
                    <a:lnTo>
                      <a:pt x="420" y="773"/>
                    </a:lnTo>
                    <a:lnTo>
                      <a:pt x="218" y="911"/>
                    </a:lnTo>
                    <a:lnTo>
                      <a:pt x="297" y="723"/>
                    </a:lnTo>
                    <a:lnTo>
                      <a:pt x="326" y="600"/>
                    </a:lnTo>
                    <a:lnTo>
                      <a:pt x="355" y="448"/>
                    </a:lnTo>
                    <a:lnTo>
                      <a:pt x="116" y="831"/>
                    </a:lnTo>
                    <a:lnTo>
                      <a:pt x="0" y="982"/>
                    </a:lnTo>
                    <a:lnTo>
                      <a:pt x="22" y="1033"/>
                    </a:lnTo>
                    <a:lnTo>
                      <a:pt x="66" y="1098"/>
                    </a:lnTo>
                    <a:lnTo>
                      <a:pt x="493" y="1105"/>
                    </a:lnTo>
                    <a:lnTo>
                      <a:pt x="1165" y="397"/>
                    </a:lnTo>
                    <a:lnTo>
                      <a:pt x="940" y="224"/>
                    </a:lnTo>
                    <a:lnTo>
                      <a:pt x="832" y="158"/>
                    </a:lnTo>
                    <a:lnTo>
                      <a:pt x="680" y="86"/>
                    </a:lnTo>
                    <a:lnTo>
                      <a:pt x="579" y="0"/>
                    </a:lnTo>
                    <a:lnTo>
                      <a:pt x="514" y="0"/>
                    </a:lnTo>
                    <a:lnTo>
                      <a:pt x="470" y="16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21391800">
                <a:off x="1263960" y="506808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933" h="760">
                    <a:moveTo>
                      <a:pt x="0" y="23"/>
                    </a:moveTo>
                    <a:lnTo>
                      <a:pt x="73" y="160"/>
                    </a:lnTo>
                    <a:lnTo>
                      <a:pt x="260" y="239"/>
                    </a:lnTo>
                    <a:lnTo>
                      <a:pt x="512" y="413"/>
                    </a:lnTo>
                    <a:lnTo>
                      <a:pt x="701" y="544"/>
                    </a:lnTo>
                    <a:lnTo>
                      <a:pt x="766" y="659"/>
                    </a:lnTo>
                    <a:lnTo>
                      <a:pt x="933" y="760"/>
                    </a:lnTo>
                    <a:lnTo>
                      <a:pt x="933" y="702"/>
                    </a:lnTo>
                    <a:lnTo>
                      <a:pt x="810" y="608"/>
                    </a:lnTo>
                    <a:lnTo>
                      <a:pt x="925" y="579"/>
                    </a:lnTo>
                    <a:lnTo>
                      <a:pt x="918" y="492"/>
                    </a:lnTo>
                    <a:lnTo>
                      <a:pt x="816" y="404"/>
                    </a:lnTo>
                    <a:lnTo>
                      <a:pt x="583" y="178"/>
                    </a:lnTo>
                    <a:lnTo>
                      <a:pt x="457" y="115"/>
                    </a:lnTo>
                    <a:lnTo>
                      <a:pt x="123" y="116"/>
                    </a:lnTo>
                    <a:lnTo>
                      <a:pt x="36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21391800">
                <a:off x="1257120" y="506340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1477" h="963">
                    <a:moveTo>
                      <a:pt x="304" y="145"/>
                    </a:moveTo>
                    <a:lnTo>
                      <a:pt x="378" y="226"/>
                    </a:lnTo>
                    <a:lnTo>
                      <a:pt x="499" y="226"/>
                    </a:lnTo>
                    <a:lnTo>
                      <a:pt x="601" y="254"/>
                    </a:lnTo>
                    <a:lnTo>
                      <a:pt x="644" y="290"/>
                    </a:lnTo>
                    <a:lnTo>
                      <a:pt x="801" y="309"/>
                    </a:lnTo>
                    <a:lnTo>
                      <a:pt x="1064" y="493"/>
                    </a:lnTo>
                    <a:lnTo>
                      <a:pt x="1215" y="637"/>
                    </a:lnTo>
                    <a:lnTo>
                      <a:pt x="1347" y="660"/>
                    </a:lnTo>
                    <a:lnTo>
                      <a:pt x="1389" y="963"/>
                    </a:lnTo>
                    <a:lnTo>
                      <a:pt x="1448" y="840"/>
                    </a:lnTo>
                    <a:lnTo>
                      <a:pt x="1477" y="652"/>
                    </a:lnTo>
                    <a:lnTo>
                      <a:pt x="1426" y="580"/>
                    </a:lnTo>
                    <a:lnTo>
                      <a:pt x="1187" y="406"/>
                    </a:lnTo>
                    <a:lnTo>
                      <a:pt x="962" y="254"/>
                    </a:lnTo>
                    <a:lnTo>
                      <a:pt x="977" y="197"/>
                    </a:lnTo>
                    <a:lnTo>
                      <a:pt x="886" y="38"/>
                    </a:lnTo>
                    <a:lnTo>
                      <a:pt x="623" y="0"/>
                    </a:lnTo>
                    <a:lnTo>
                      <a:pt x="387" y="0"/>
                    </a:lnTo>
                    <a:lnTo>
                      <a:pt x="0" y="74"/>
                    </a:lnTo>
                    <a:lnTo>
                      <a:pt x="174" y="160"/>
                    </a:lnTo>
                    <a:lnTo>
                      <a:pt x="304" y="145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21391800">
                <a:off x="1270080" y="5052240"/>
                <a:ext cx="26640" cy="14760"/>
              </a:xfrm>
              <a:custGeom>
                <a:avLst/>
                <a:gdLst/>
                <a:ahLst/>
                <a:rect l="l" t="t" r="r" b="b"/>
                <a:pathLst>
                  <a:path w="745" h="520">
                    <a:moveTo>
                      <a:pt x="658" y="8"/>
                    </a:moveTo>
                    <a:lnTo>
                      <a:pt x="607" y="87"/>
                    </a:lnTo>
                    <a:lnTo>
                      <a:pt x="521" y="135"/>
                    </a:lnTo>
                    <a:lnTo>
                      <a:pt x="418" y="159"/>
                    </a:lnTo>
                    <a:lnTo>
                      <a:pt x="267" y="231"/>
                    </a:lnTo>
                    <a:lnTo>
                      <a:pt x="309" y="267"/>
                    </a:lnTo>
                    <a:lnTo>
                      <a:pt x="462" y="224"/>
                    </a:lnTo>
                    <a:lnTo>
                      <a:pt x="607" y="180"/>
                    </a:lnTo>
                    <a:lnTo>
                      <a:pt x="658" y="261"/>
                    </a:lnTo>
                    <a:lnTo>
                      <a:pt x="614" y="376"/>
                    </a:lnTo>
                    <a:lnTo>
                      <a:pt x="745" y="520"/>
                    </a:lnTo>
                    <a:lnTo>
                      <a:pt x="361" y="369"/>
                    </a:lnTo>
                    <a:lnTo>
                      <a:pt x="143" y="347"/>
                    </a:lnTo>
                    <a:lnTo>
                      <a:pt x="0" y="347"/>
                    </a:lnTo>
                    <a:lnTo>
                      <a:pt x="36" y="246"/>
                    </a:lnTo>
                    <a:lnTo>
                      <a:pt x="252" y="123"/>
                    </a:lnTo>
                    <a:lnTo>
                      <a:pt x="585" y="0"/>
                    </a:lnTo>
                    <a:lnTo>
                      <a:pt x="658" y="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21391800">
                <a:off x="1254600" y="5050800"/>
                <a:ext cx="56880" cy="31680"/>
              </a:xfrm>
              <a:custGeom>
                <a:avLst/>
                <a:gdLst/>
                <a:ahLst/>
                <a:rect l="l" t="t" r="r" b="b"/>
                <a:pathLst>
                  <a:path w="1599" h="1102">
                    <a:moveTo>
                      <a:pt x="50" y="458"/>
                    </a:moveTo>
                    <a:lnTo>
                      <a:pt x="217" y="422"/>
                    </a:lnTo>
                    <a:lnTo>
                      <a:pt x="303" y="428"/>
                    </a:lnTo>
                    <a:lnTo>
                      <a:pt x="406" y="415"/>
                    </a:lnTo>
                    <a:lnTo>
                      <a:pt x="470" y="458"/>
                    </a:lnTo>
                    <a:lnTo>
                      <a:pt x="629" y="451"/>
                    </a:lnTo>
                    <a:lnTo>
                      <a:pt x="867" y="465"/>
                    </a:lnTo>
                    <a:lnTo>
                      <a:pt x="940" y="544"/>
                    </a:lnTo>
                    <a:lnTo>
                      <a:pt x="997" y="551"/>
                    </a:lnTo>
                    <a:lnTo>
                      <a:pt x="1085" y="617"/>
                    </a:lnTo>
                    <a:lnTo>
                      <a:pt x="1287" y="784"/>
                    </a:lnTo>
                    <a:lnTo>
                      <a:pt x="1375" y="826"/>
                    </a:lnTo>
                    <a:lnTo>
                      <a:pt x="1483" y="878"/>
                    </a:lnTo>
                    <a:lnTo>
                      <a:pt x="1534" y="935"/>
                    </a:lnTo>
                    <a:lnTo>
                      <a:pt x="1527" y="1058"/>
                    </a:lnTo>
                    <a:lnTo>
                      <a:pt x="1570" y="1102"/>
                    </a:lnTo>
                    <a:lnTo>
                      <a:pt x="1599" y="942"/>
                    </a:lnTo>
                    <a:lnTo>
                      <a:pt x="1540" y="805"/>
                    </a:lnTo>
                    <a:lnTo>
                      <a:pt x="1316" y="458"/>
                    </a:lnTo>
                    <a:lnTo>
                      <a:pt x="1259" y="248"/>
                    </a:lnTo>
                    <a:lnTo>
                      <a:pt x="1115" y="0"/>
                    </a:lnTo>
                    <a:lnTo>
                      <a:pt x="1056" y="103"/>
                    </a:lnTo>
                    <a:lnTo>
                      <a:pt x="1125" y="187"/>
                    </a:lnTo>
                    <a:lnTo>
                      <a:pt x="1193" y="393"/>
                    </a:lnTo>
                    <a:lnTo>
                      <a:pt x="1203" y="505"/>
                    </a:lnTo>
                    <a:lnTo>
                      <a:pt x="1069" y="456"/>
                    </a:lnTo>
                    <a:lnTo>
                      <a:pt x="970" y="408"/>
                    </a:lnTo>
                    <a:lnTo>
                      <a:pt x="687" y="386"/>
                    </a:lnTo>
                    <a:lnTo>
                      <a:pt x="261" y="327"/>
                    </a:lnTo>
                    <a:lnTo>
                      <a:pt x="0" y="349"/>
                    </a:lnTo>
                    <a:lnTo>
                      <a:pt x="50" y="45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21391800">
                <a:off x="1115640" y="5056920"/>
                <a:ext cx="67320" cy="111240"/>
              </a:xfrm>
              <a:custGeom>
                <a:avLst/>
                <a:gdLst/>
                <a:ahLst/>
                <a:rect l="l" t="t" r="r" b="b"/>
                <a:pathLst>
                  <a:path w="1882" h="3837">
                    <a:moveTo>
                      <a:pt x="545" y="1374"/>
                    </a:moveTo>
                    <a:lnTo>
                      <a:pt x="753" y="441"/>
                    </a:lnTo>
                    <a:lnTo>
                      <a:pt x="1311" y="0"/>
                    </a:lnTo>
                    <a:lnTo>
                      <a:pt x="1090" y="622"/>
                    </a:lnTo>
                    <a:lnTo>
                      <a:pt x="1142" y="2008"/>
                    </a:lnTo>
                    <a:lnTo>
                      <a:pt x="1688" y="2527"/>
                    </a:lnTo>
                    <a:lnTo>
                      <a:pt x="1779" y="2696"/>
                    </a:lnTo>
                    <a:lnTo>
                      <a:pt x="1882" y="2774"/>
                    </a:lnTo>
                    <a:lnTo>
                      <a:pt x="1713" y="3098"/>
                    </a:lnTo>
                    <a:lnTo>
                      <a:pt x="1817" y="3616"/>
                    </a:lnTo>
                    <a:lnTo>
                      <a:pt x="1440" y="3798"/>
                    </a:lnTo>
                    <a:lnTo>
                      <a:pt x="1078" y="3823"/>
                    </a:lnTo>
                    <a:lnTo>
                      <a:pt x="467" y="2489"/>
                    </a:lnTo>
                    <a:lnTo>
                      <a:pt x="948" y="3616"/>
                    </a:lnTo>
                    <a:lnTo>
                      <a:pt x="909" y="3837"/>
                    </a:lnTo>
                    <a:lnTo>
                      <a:pt x="324" y="3732"/>
                    </a:lnTo>
                    <a:lnTo>
                      <a:pt x="0" y="2138"/>
                    </a:lnTo>
                    <a:lnTo>
                      <a:pt x="415" y="1296"/>
                    </a:lnTo>
                    <a:lnTo>
                      <a:pt x="545" y="1374"/>
                    </a:lnTo>
                    <a:close/>
                  </a:path>
                </a:pathLst>
              </a:custGeom>
              <a:solidFill>
                <a:srgbClr val="a5b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21391800">
                <a:off x="1081800" y="5090760"/>
                <a:ext cx="60480" cy="80280"/>
              </a:xfrm>
              <a:custGeom>
                <a:avLst/>
                <a:gdLst/>
                <a:ahLst/>
                <a:rect l="l" t="t" r="r" b="b"/>
                <a:pathLst>
                  <a:path w="1700" h="2773">
                    <a:moveTo>
                      <a:pt x="1700" y="2773"/>
                    </a:moveTo>
                    <a:lnTo>
                      <a:pt x="1440" y="2125"/>
                    </a:lnTo>
                    <a:lnTo>
                      <a:pt x="1440" y="1658"/>
                    </a:lnTo>
                    <a:lnTo>
                      <a:pt x="1297" y="1192"/>
                    </a:lnTo>
                    <a:lnTo>
                      <a:pt x="1557" y="479"/>
                    </a:lnTo>
                    <a:lnTo>
                      <a:pt x="1259" y="0"/>
                    </a:lnTo>
                    <a:lnTo>
                      <a:pt x="259" y="272"/>
                    </a:lnTo>
                    <a:lnTo>
                      <a:pt x="104" y="855"/>
                    </a:lnTo>
                    <a:lnTo>
                      <a:pt x="91" y="1516"/>
                    </a:lnTo>
                    <a:lnTo>
                      <a:pt x="0" y="2319"/>
                    </a:lnTo>
                    <a:lnTo>
                      <a:pt x="91" y="2579"/>
                    </a:lnTo>
                    <a:lnTo>
                      <a:pt x="143" y="2695"/>
                    </a:lnTo>
                    <a:lnTo>
                      <a:pt x="610" y="2748"/>
                    </a:lnTo>
                    <a:lnTo>
                      <a:pt x="337" y="2269"/>
                    </a:lnTo>
                    <a:lnTo>
                      <a:pt x="416" y="2061"/>
                    </a:lnTo>
                    <a:lnTo>
                      <a:pt x="610" y="1892"/>
                    </a:lnTo>
                    <a:lnTo>
                      <a:pt x="416" y="1295"/>
                    </a:lnTo>
                    <a:lnTo>
                      <a:pt x="350" y="1037"/>
                    </a:lnTo>
                    <a:lnTo>
                      <a:pt x="532" y="648"/>
                    </a:lnTo>
                    <a:lnTo>
                      <a:pt x="999" y="1568"/>
                    </a:lnTo>
                    <a:lnTo>
                      <a:pt x="519" y="1153"/>
                    </a:lnTo>
                    <a:lnTo>
                      <a:pt x="739" y="1594"/>
                    </a:lnTo>
                    <a:lnTo>
                      <a:pt x="947" y="1995"/>
                    </a:lnTo>
                    <a:lnTo>
                      <a:pt x="687" y="2022"/>
                    </a:lnTo>
                    <a:lnTo>
                      <a:pt x="908" y="2709"/>
                    </a:lnTo>
                    <a:lnTo>
                      <a:pt x="1700" y="2773"/>
                    </a:lnTo>
                    <a:close/>
                  </a:path>
                </a:pathLst>
              </a:custGeom>
              <a:solidFill>
                <a:srgbClr val="d3e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21391800">
                <a:off x="1179360" y="5032440"/>
                <a:ext cx="52200" cy="119520"/>
              </a:xfrm>
              <a:custGeom>
                <a:avLst/>
                <a:gdLst/>
                <a:ahLst/>
                <a:rect l="l" t="t" r="r" b="b"/>
                <a:pathLst>
                  <a:path w="1468" h="4120">
                    <a:moveTo>
                      <a:pt x="350" y="568"/>
                    </a:moveTo>
                    <a:lnTo>
                      <a:pt x="377" y="426"/>
                    </a:lnTo>
                    <a:lnTo>
                      <a:pt x="455" y="387"/>
                    </a:lnTo>
                    <a:lnTo>
                      <a:pt x="532" y="620"/>
                    </a:lnTo>
                    <a:lnTo>
                      <a:pt x="839" y="1120"/>
                    </a:lnTo>
                    <a:lnTo>
                      <a:pt x="1019" y="1488"/>
                    </a:lnTo>
                    <a:lnTo>
                      <a:pt x="926" y="2088"/>
                    </a:lnTo>
                    <a:lnTo>
                      <a:pt x="1050" y="2222"/>
                    </a:lnTo>
                    <a:lnTo>
                      <a:pt x="1038" y="2546"/>
                    </a:lnTo>
                    <a:lnTo>
                      <a:pt x="802" y="2467"/>
                    </a:lnTo>
                    <a:lnTo>
                      <a:pt x="1104" y="3407"/>
                    </a:lnTo>
                    <a:lnTo>
                      <a:pt x="366" y="2103"/>
                    </a:lnTo>
                    <a:lnTo>
                      <a:pt x="739" y="3136"/>
                    </a:lnTo>
                    <a:lnTo>
                      <a:pt x="1142" y="4120"/>
                    </a:lnTo>
                    <a:lnTo>
                      <a:pt x="1454" y="2357"/>
                    </a:lnTo>
                    <a:lnTo>
                      <a:pt x="1329" y="2056"/>
                    </a:lnTo>
                    <a:lnTo>
                      <a:pt x="1468" y="1571"/>
                    </a:lnTo>
                    <a:lnTo>
                      <a:pt x="1440" y="1307"/>
                    </a:lnTo>
                    <a:lnTo>
                      <a:pt x="1090" y="957"/>
                    </a:lnTo>
                    <a:lnTo>
                      <a:pt x="455" y="362"/>
                    </a:lnTo>
                    <a:lnTo>
                      <a:pt x="220" y="0"/>
                    </a:lnTo>
                    <a:lnTo>
                      <a:pt x="65" y="78"/>
                    </a:lnTo>
                    <a:lnTo>
                      <a:pt x="0" y="439"/>
                    </a:lnTo>
                    <a:lnTo>
                      <a:pt x="13" y="764"/>
                    </a:lnTo>
                    <a:lnTo>
                      <a:pt x="309" y="1725"/>
                    </a:lnTo>
                    <a:lnTo>
                      <a:pt x="613" y="2555"/>
                    </a:lnTo>
                    <a:lnTo>
                      <a:pt x="143" y="932"/>
                    </a:lnTo>
                    <a:lnTo>
                      <a:pt x="143" y="620"/>
                    </a:lnTo>
                    <a:lnTo>
                      <a:pt x="195" y="439"/>
                    </a:lnTo>
                    <a:lnTo>
                      <a:pt x="350" y="56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21391800">
                <a:off x="1224360" y="502128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64" h="345">
                    <a:moveTo>
                      <a:pt x="247" y="71"/>
                    </a:moveTo>
                    <a:lnTo>
                      <a:pt x="347" y="0"/>
                    </a:lnTo>
                    <a:lnTo>
                      <a:pt x="464" y="111"/>
                    </a:lnTo>
                    <a:lnTo>
                      <a:pt x="386" y="111"/>
                    </a:lnTo>
                    <a:lnTo>
                      <a:pt x="335" y="88"/>
                    </a:lnTo>
                    <a:lnTo>
                      <a:pt x="286" y="139"/>
                    </a:lnTo>
                    <a:lnTo>
                      <a:pt x="341" y="250"/>
                    </a:lnTo>
                    <a:lnTo>
                      <a:pt x="325" y="345"/>
                    </a:lnTo>
                    <a:lnTo>
                      <a:pt x="235" y="233"/>
                    </a:lnTo>
                    <a:lnTo>
                      <a:pt x="184" y="188"/>
                    </a:lnTo>
                    <a:lnTo>
                      <a:pt x="89" y="219"/>
                    </a:lnTo>
                    <a:lnTo>
                      <a:pt x="0" y="233"/>
                    </a:lnTo>
                    <a:lnTo>
                      <a:pt x="135" y="134"/>
                    </a:lnTo>
                    <a:lnTo>
                      <a:pt x="247" y="71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21391800">
                <a:off x="1221480" y="5011200"/>
                <a:ext cx="63720" cy="52920"/>
              </a:xfrm>
              <a:custGeom>
                <a:avLst/>
                <a:gdLst/>
                <a:ahLst/>
                <a:rect l="l" t="t" r="r" b="b"/>
                <a:pathLst>
                  <a:path w="1783" h="1832">
                    <a:moveTo>
                      <a:pt x="516" y="954"/>
                    </a:moveTo>
                    <a:lnTo>
                      <a:pt x="70" y="848"/>
                    </a:lnTo>
                    <a:lnTo>
                      <a:pt x="0" y="823"/>
                    </a:lnTo>
                    <a:lnTo>
                      <a:pt x="43" y="918"/>
                    </a:lnTo>
                    <a:lnTo>
                      <a:pt x="70" y="957"/>
                    </a:lnTo>
                    <a:lnTo>
                      <a:pt x="144" y="1084"/>
                    </a:lnTo>
                    <a:lnTo>
                      <a:pt x="277" y="1261"/>
                    </a:lnTo>
                    <a:lnTo>
                      <a:pt x="223" y="1311"/>
                    </a:lnTo>
                    <a:lnTo>
                      <a:pt x="184" y="1334"/>
                    </a:lnTo>
                    <a:lnTo>
                      <a:pt x="367" y="1363"/>
                    </a:lnTo>
                    <a:lnTo>
                      <a:pt x="463" y="1412"/>
                    </a:lnTo>
                    <a:lnTo>
                      <a:pt x="586" y="1485"/>
                    </a:lnTo>
                    <a:lnTo>
                      <a:pt x="609" y="1557"/>
                    </a:lnTo>
                    <a:lnTo>
                      <a:pt x="570" y="1619"/>
                    </a:lnTo>
                    <a:lnTo>
                      <a:pt x="346" y="1692"/>
                    </a:lnTo>
                    <a:lnTo>
                      <a:pt x="508" y="1832"/>
                    </a:lnTo>
                    <a:lnTo>
                      <a:pt x="995" y="1463"/>
                    </a:lnTo>
                    <a:lnTo>
                      <a:pt x="1403" y="988"/>
                    </a:lnTo>
                    <a:lnTo>
                      <a:pt x="1649" y="581"/>
                    </a:lnTo>
                    <a:lnTo>
                      <a:pt x="1738" y="240"/>
                    </a:lnTo>
                    <a:lnTo>
                      <a:pt x="1783" y="0"/>
                    </a:lnTo>
                    <a:lnTo>
                      <a:pt x="1651" y="119"/>
                    </a:lnTo>
                    <a:lnTo>
                      <a:pt x="1624" y="265"/>
                    </a:lnTo>
                    <a:lnTo>
                      <a:pt x="1586" y="341"/>
                    </a:lnTo>
                    <a:lnTo>
                      <a:pt x="1475" y="531"/>
                    </a:lnTo>
                    <a:lnTo>
                      <a:pt x="1296" y="732"/>
                    </a:lnTo>
                    <a:lnTo>
                      <a:pt x="1224" y="715"/>
                    </a:lnTo>
                    <a:lnTo>
                      <a:pt x="1118" y="492"/>
                    </a:lnTo>
                    <a:lnTo>
                      <a:pt x="1090" y="833"/>
                    </a:lnTo>
                    <a:lnTo>
                      <a:pt x="783" y="843"/>
                    </a:lnTo>
                    <a:lnTo>
                      <a:pt x="788" y="1084"/>
                    </a:lnTo>
                    <a:lnTo>
                      <a:pt x="565" y="1088"/>
                    </a:lnTo>
                    <a:lnTo>
                      <a:pt x="516" y="954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21391800">
                <a:off x="1226880" y="504000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732" h="333">
                    <a:moveTo>
                      <a:pt x="643" y="0"/>
                    </a:moveTo>
                    <a:lnTo>
                      <a:pt x="732" y="138"/>
                    </a:lnTo>
                    <a:lnTo>
                      <a:pt x="654" y="221"/>
                    </a:lnTo>
                    <a:lnTo>
                      <a:pt x="419" y="333"/>
                    </a:lnTo>
                    <a:lnTo>
                      <a:pt x="251" y="323"/>
                    </a:lnTo>
                    <a:lnTo>
                      <a:pt x="151" y="171"/>
                    </a:lnTo>
                    <a:lnTo>
                      <a:pt x="312" y="294"/>
                    </a:lnTo>
                    <a:lnTo>
                      <a:pt x="425" y="255"/>
                    </a:lnTo>
                    <a:lnTo>
                      <a:pt x="200" y="159"/>
                    </a:lnTo>
                    <a:lnTo>
                      <a:pt x="0" y="54"/>
                    </a:lnTo>
                    <a:lnTo>
                      <a:pt x="323" y="48"/>
                    </a:lnTo>
                    <a:lnTo>
                      <a:pt x="525" y="143"/>
                    </a:lnTo>
                    <a:lnTo>
                      <a:pt x="570" y="71"/>
                    </a:lnTo>
                    <a:lnTo>
                      <a:pt x="643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rot="21391800">
                <a:off x="1233720" y="4998600"/>
                <a:ext cx="53280" cy="41040"/>
              </a:xfrm>
              <a:custGeom>
                <a:avLst/>
                <a:gdLst/>
                <a:ahLst/>
                <a:rect l="l" t="t" r="r" b="b"/>
                <a:pathLst>
                  <a:path w="1494" h="1420">
                    <a:moveTo>
                      <a:pt x="626" y="199"/>
                    </a:moveTo>
                    <a:lnTo>
                      <a:pt x="591" y="329"/>
                    </a:lnTo>
                    <a:lnTo>
                      <a:pt x="565" y="590"/>
                    </a:lnTo>
                    <a:lnTo>
                      <a:pt x="573" y="824"/>
                    </a:lnTo>
                    <a:lnTo>
                      <a:pt x="573" y="1006"/>
                    </a:lnTo>
                    <a:lnTo>
                      <a:pt x="531" y="1085"/>
                    </a:lnTo>
                    <a:lnTo>
                      <a:pt x="443" y="1093"/>
                    </a:lnTo>
                    <a:lnTo>
                      <a:pt x="303" y="1005"/>
                    </a:lnTo>
                    <a:lnTo>
                      <a:pt x="179" y="973"/>
                    </a:lnTo>
                    <a:lnTo>
                      <a:pt x="71" y="1015"/>
                    </a:lnTo>
                    <a:lnTo>
                      <a:pt x="0" y="1042"/>
                    </a:lnTo>
                    <a:lnTo>
                      <a:pt x="27" y="1111"/>
                    </a:lnTo>
                    <a:lnTo>
                      <a:pt x="140" y="1137"/>
                    </a:lnTo>
                    <a:lnTo>
                      <a:pt x="243" y="1119"/>
                    </a:lnTo>
                    <a:lnTo>
                      <a:pt x="270" y="1232"/>
                    </a:lnTo>
                    <a:lnTo>
                      <a:pt x="392" y="1232"/>
                    </a:lnTo>
                    <a:lnTo>
                      <a:pt x="409" y="1420"/>
                    </a:lnTo>
                    <a:lnTo>
                      <a:pt x="504" y="1301"/>
                    </a:lnTo>
                    <a:lnTo>
                      <a:pt x="583" y="1380"/>
                    </a:lnTo>
                    <a:lnTo>
                      <a:pt x="791" y="1276"/>
                    </a:lnTo>
                    <a:lnTo>
                      <a:pt x="791" y="946"/>
                    </a:lnTo>
                    <a:lnTo>
                      <a:pt x="730" y="772"/>
                    </a:lnTo>
                    <a:lnTo>
                      <a:pt x="756" y="521"/>
                    </a:lnTo>
                    <a:lnTo>
                      <a:pt x="761" y="410"/>
                    </a:lnTo>
                    <a:lnTo>
                      <a:pt x="905" y="466"/>
                    </a:lnTo>
                    <a:lnTo>
                      <a:pt x="1085" y="581"/>
                    </a:lnTo>
                    <a:lnTo>
                      <a:pt x="1224" y="559"/>
                    </a:lnTo>
                    <a:lnTo>
                      <a:pt x="1398" y="521"/>
                    </a:lnTo>
                    <a:lnTo>
                      <a:pt x="1450" y="348"/>
                    </a:lnTo>
                    <a:lnTo>
                      <a:pt x="1494" y="165"/>
                    </a:lnTo>
                    <a:lnTo>
                      <a:pt x="1355" y="44"/>
                    </a:lnTo>
                    <a:lnTo>
                      <a:pt x="921" y="0"/>
                    </a:lnTo>
                    <a:lnTo>
                      <a:pt x="791" y="52"/>
                    </a:lnTo>
                    <a:lnTo>
                      <a:pt x="730" y="87"/>
                    </a:lnTo>
                    <a:lnTo>
                      <a:pt x="676" y="157"/>
                    </a:lnTo>
                    <a:lnTo>
                      <a:pt x="795" y="268"/>
                    </a:lnTo>
                    <a:lnTo>
                      <a:pt x="852" y="243"/>
                    </a:lnTo>
                    <a:lnTo>
                      <a:pt x="982" y="252"/>
                    </a:lnTo>
                    <a:lnTo>
                      <a:pt x="939" y="329"/>
                    </a:lnTo>
                    <a:lnTo>
                      <a:pt x="886" y="348"/>
                    </a:lnTo>
                    <a:lnTo>
                      <a:pt x="930" y="399"/>
                    </a:lnTo>
                    <a:lnTo>
                      <a:pt x="1026" y="417"/>
                    </a:lnTo>
                    <a:lnTo>
                      <a:pt x="1095" y="338"/>
                    </a:lnTo>
                    <a:lnTo>
                      <a:pt x="1077" y="260"/>
                    </a:lnTo>
                    <a:lnTo>
                      <a:pt x="1137" y="252"/>
                    </a:lnTo>
                    <a:lnTo>
                      <a:pt x="1216" y="338"/>
                    </a:lnTo>
                    <a:lnTo>
                      <a:pt x="1181" y="399"/>
                    </a:lnTo>
                    <a:lnTo>
                      <a:pt x="1164" y="504"/>
                    </a:lnTo>
                    <a:lnTo>
                      <a:pt x="957" y="468"/>
                    </a:lnTo>
                    <a:lnTo>
                      <a:pt x="791" y="382"/>
                    </a:lnTo>
                    <a:lnTo>
                      <a:pt x="686" y="295"/>
                    </a:lnTo>
                    <a:lnTo>
                      <a:pt x="626" y="199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21391800">
                <a:off x="1182960" y="4958640"/>
                <a:ext cx="133200" cy="107280"/>
              </a:xfrm>
              <a:custGeom>
                <a:avLst/>
                <a:gdLst/>
                <a:ahLst/>
                <a:rect l="l" t="t" r="r" b="b"/>
                <a:pathLst>
                  <a:path w="3728" h="3700">
                    <a:moveTo>
                      <a:pt x="2587" y="1397"/>
                    </a:moveTo>
                    <a:lnTo>
                      <a:pt x="2772" y="1103"/>
                    </a:lnTo>
                    <a:lnTo>
                      <a:pt x="2796" y="895"/>
                    </a:lnTo>
                    <a:lnTo>
                      <a:pt x="2790" y="710"/>
                    </a:lnTo>
                    <a:lnTo>
                      <a:pt x="2563" y="735"/>
                    </a:lnTo>
                    <a:lnTo>
                      <a:pt x="2269" y="760"/>
                    </a:lnTo>
                    <a:lnTo>
                      <a:pt x="1963" y="650"/>
                    </a:lnTo>
                    <a:lnTo>
                      <a:pt x="2110" y="588"/>
                    </a:lnTo>
                    <a:lnTo>
                      <a:pt x="1975" y="527"/>
                    </a:lnTo>
                    <a:lnTo>
                      <a:pt x="1779" y="650"/>
                    </a:lnTo>
                    <a:lnTo>
                      <a:pt x="1620" y="650"/>
                    </a:lnTo>
                    <a:lnTo>
                      <a:pt x="1803" y="429"/>
                    </a:lnTo>
                    <a:lnTo>
                      <a:pt x="1594" y="490"/>
                    </a:lnTo>
                    <a:lnTo>
                      <a:pt x="1411" y="520"/>
                    </a:lnTo>
                    <a:lnTo>
                      <a:pt x="1324" y="408"/>
                    </a:lnTo>
                    <a:lnTo>
                      <a:pt x="1086" y="433"/>
                    </a:lnTo>
                    <a:lnTo>
                      <a:pt x="907" y="503"/>
                    </a:lnTo>
                    <a:lnTo>
                      <a:pt x="840" y="826"/>
                    </a:lnTo>
                    <a:lnTo>
                      <a:pt x="829" y="1044"/>
                    </a:lnTo>
                    <a:lnTo>
                      <a:pt x="898" y="1045"/>
                    </a:lnTo>
                    <a:lnTo>
                      <a:pt x="1239" y="1116"/>
                    </a:lnTo>
                    <a:lnTo>
                      <a:pt x="1783" y="1303"/>
                    </a:lnTo>
                    <a:lnTo>
                      <a:pt x="1897" y="1210"/>
                    </a:lnTo>
                    <a:lnTo>
                      <a:pt x="1911" y="1486"/>
                    </a:lnTo>
                    <a:lnTo>
                      <a:pt x="1705" y="1570"/>
                    </a:lnTo>
                    <a:lnTo>
                      <a:pt x="1500" y="1705"/>
                    </a:lnTo>
                    <a:lnTo>
                      <a:pt x="1301" y="1713"/>
                    </a:lnTo>
                    <a:lnTo>
                      <a:pt x="1067" y="1570"/>
                    </a:lnTo>
                    <a:lnTo>
                      <a:pt x="1263" y="1618"/>
                    </a:lnTo>
                    <a:lnTo>
                      <a:pt x="1570" y="1630"/>
                    </a:lnTo>
                    <a:lnTo>
                      <a:pt x="1620" y="1507"/>
                    </a:lnTo>
                    <a:lnTo>
                      <a:pt x="1436" y="1434"/>
                    </a:lnTo>
                    <a:lnTo>
                      <a:pt x="1239" y="1360"/>
                    </a:lnTo>
                    <a:lnTo>
                      <a:pt x="1287" y="1299"/>
                    </a:lnTo>
                    <a:lnTo>
                      <a:pt x="1067" y="1288"/>
                    </a:lnTo>
                    <a:lnTo>
                      <a:pt x="994" y="1373"/>
                    </a:lnTo>
                    <a:lnTo>
                      <a:pt x="929" y="1430"/>
                    </a:lnTo>
                    <a:lnTo>
                      <a:pt x="835" y="1361"/>
                    </a:lnTo>
                    <a:lnTo>
                      <a:pt x="735" y="1287"/>
                    </a:lnTo>
                    <a:lnTo>
                      <a:pt x="663" y="733"/>
                    </a:lnTo>
                    <a:lnTo>
                      <a:pt x="508" y="858"/>
                    </a:lnTo>
                    <a:lnTo>
                      <a:pt x="460" y="1095"/>
                    </a:lnTo>
                    <a:lnTo>
                      <a:pt x="353" y="1260"/>
                    </a:lnTo>
                    <a:lnTo>
                      <a:pt x="342" y="1432"/>
                    </a:lnTo>
                    <a:lnTo>
                      <a:pt x="357" y="1678"/>
                    </a:lnTo>
                    <a:lnTo>
                      <a:pt x="431" y="2011"/>
                    </a:lnTo>
                    <a:lnTo>
                      <a:pt x="456" y="2379"/>
                    </a:lnTo>
                    <a:lnTo>
                      <a:pt x="530" y="2708"/>
                    </a:lnTo>
                    <a:lnTo>
                      <a:pt x="677" y="2937"/>
                    </a:lnTo>
                    <a:lnTo>
                      <a:pt x="907" y="3185"/>
                    </a:lnTo>
                    <a:lnTo>
                      <a:pt x="1165" y="3344"/>
                    </a:lnTo>
                    <a:lnTo>
                      <a:pt x="1423" y="3504"/>
                    </a:lnTo>
                    <a:lnTo>
                      <a:pt x="1779" y="3454"/>
                    </a:lnTo>
                    <a:lnTo>
                      <a:pt x="1484" y="3700"/>
                    </a:lnTo>
                    <a:lnTo>
                      <a:pt x="883" y="3528"/>
                    </a:lnTo>
                    <a:lnTo>
                      <a:pt x="12" y="2561"/>
                    </a:lnTo>
                    <a:lnTo>
                      <a:pt x="0" y="2230"/>
                    </a:lnTo>
                    <a:lnTo>
                      <a:pt x="184" y="1226"/>
                    </a:lnTo>
                    <a:lnTo>
                      <a:pt x="294" y="711"/>
                    </a:lnTo>
                    <a:lnTo>
                      <a:pt x="699" y="306"/>
                    </a:lnTo>
                    <a:lnTo>
                      <a:pt x="1436" y="123"/>
                    </a:lnTo>
                    <a:lnTo>
                      <a:pt x="2196" y="135"/>
                    </a:lnTo>
                    <a:lnTo>
                      <a:pt x="2575" y="441"/>
                    </a:lnTo>
                    <a:lnTo>
                      <a:pt x="2956" y="319"/>
                    </a:lnTo>
                    <a:lnTo>
                      <a:pt x="3078" y="417"/>
                    </a:lnTo>
                    <a:lnTo>
                      <a:pt x="3201" y="295"/>
                    </a:lnTo>
                    <a:lnTo>
                      <a:pt x="3139" y="0"/>
                    </a:lnTo>
                    <a:lnTo>
                      <a:pt x="3545" y="246"/>
                    </a:lnTo>
                    <a:lnTo>
                      <a:pt x="3728" y="637"/>
                    </a:lnTo>
                    <a:lnTo>
                      <a:pt x="3582" y="845"/>
                    </a:lnTo>
                    <a:lnTo>
                      <a:pt x="3201" y="1189"/>
                    </a:lnTo>
                    <a:lnTo>
                      <a:pt x="2919" y="1557"/>
                    </a:lnTo>
                    <a:lnTo>
                      <a:pt x="2735" y="1447"/>
                    </a:lnTo>
                    <a:lnTo>
                      <a:pt x="2587" y="1397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21391800">
                <a:off x="1152000" y="4957920"/>
                <a:ext cx="59400" cy="63720"/>
              </a:xfrm>
              <a:custGeom>
                <a:avLst/>
                <a:gdLst/>
                <a:ahLst/>
                <a:rect l="l" t="t" r="r" b="b"/>
                <a:pathLst>
                  <a:path w="1661" h="2205">
                    <a:moveTo>
                      <a:pt x="1661" y="14"/>
                    </a:moveTo>
                    <a:lnTo>
                      <a:pt x="1196" y="0"/>
                    </a:lnTo>
                    <a:lnTo>
                      <a:pt x="572" y="186"/>
                    </a:lnTo>
                    <a:lnTo>
                      <a:pt x="278" y="545"/>
                    </a:lnTo>
                    <a:lnTo>
                      <a:pt x="0" y="1036"/>
                    </a:lnTo>
                    <a:lnTo>
                      <a:pt x="0" y="1435"/>
                    </a:lnTo>
                    <a:lnTo>
                      <a:pt x="0" y="1780"/>
                    </a:lnTo>
                    <a:lnTo>
                      <a:pt x="332" y="2205"/>
                    </a:lnTo>
                    <a:lnTo>
                      <a:pt x="399" y="1793"/>
                    </a:lnTo>
                    <a:lnTo>
                      <a:pt x="519" y="1581"/>
                    </a:lnTo>
                    <a:lnTo>
                      <a:pt x="396" y="1053"/>
                    </a:lnTo>
                    <a:lnTo>
                      <a:pt x="562" y="774"/>
                    </a:lnTo>
                    <a:lnTo>
                      <a:pt x="759" y="701"/>
                    </a:lnTo>
                    <a:lnTo>
                      <a:pt x="873" y="681"/>
                    </a:lnTo>
                    <a:lnTo>
                      <a:pt x="1122" y="827"/>
                    </a:lnTo>
                    <a:lnTo>
                      <a:pt x="873" y="1292"/>
                    </a:lnTo>
                    <a:lnTo>
                      <a:pt x="738" y="1116"/>
                    </a:lnTo>
                    <a:lnTo>
                      <a:pt x="1204" y="545"/>
                    </a:lnTo>
                    <a:lnTo>
                      <a:pt x="1661" y="1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21391800">
                <a:off x="1163160" y="4918320"/>
                <a:ext cx="129960" cy="48960"/>
              </a:xfrm>
              <a:custGeom>
                <a:avLst/>
                <a:gdLst/>
                <a:ahLst/>
                <a:rect l="l" t="t" r="r" b="b"/>
                <a:pathLst>
                  <a:path w="3642" h="1688">
                    <a:moveTo>
                      <a:pt x="0" y="1501"/>
                    </a:moveTo>
                    <a:lnTo>
                      <a:pt x="585" y="851"/>
                    </a:lnTo>
                    <a:lnTo>
                      <a:pt x="944" y="772"/>
                    </a:lnTo>
                    <a:lnTo>
                      <a:pt x="491" y="1130"/>
                    </a:lnTo>
                    <a:lnTo>
                      <a:pt x="331" y="1396"/>
                    </a:lnTo>
                    <a:lnTo>
                      <a:pt x="1169" y="957"/>
                    </a:lnTo>
                    <a:lnTo>
                      <a:pt x="930" y="1222"/>
                    </a:lnTo>
                    <a:lnTo>
                      <a:pt x="1369" y="1076"/>
                    </a:lnTo>
                    <a:lnTo>
                      <a:pt x="1901" y="1116"/>
                    </a:lnTo>
                    <a:lnTo>
                      <a:pt x="2207" y="1303"/>
                    </a:lnTo>
                    <a:lnTo>
                      <a:pt x="1915" y="1011"/>
                    </a:lnTo>
                    <a:lnTo>
                      <a:pt x="2352" y="1157"/>
                    </a:lnTo>
                    <a:lnTo>
                      <a:pt x="2712" y="1528"/>
                    </a:lnTo>
                    <a:lnTo>
                      <a:pt x="2619" y="1276"/>
                    </a:lnTo>
                    <a:lnTo>
                      <a:pt x="3269" y="1688"/>
                    </a:lnTo>
                    <a:lnTo>
                      <a:pt x="2725" y="1157"/>
                    </a:lnTo>
                    <a:lnTo>
                      <a:pt x="3257" y="1489"/>
                    </a:lnTo>
                    <a:lnTo>
                      <a:pt x="3642" y="1528"/>
                    </a:lnTo>
                    <a:lnTo>
                      <a:pt x="2832" y="851"/>
                    </a:lnTo>
                    <a:lnTo>
                      <a:pt x="2990" y="665"/>
                    </a:lnTo>
                    <a:lnTo>
                      <a:pt x="2870" y="545"/>
                    </a:lnTo>
                    <a:lnTo>
                      <a:pt x="2910" y="413"/>
                    </a:lnTo>
                    <a:lnTo>
                      <a:pt x="2712" y="213"/>
                    </a:lnTo>
                    <a:lnTo>
                      <a:pt x="2286" y="0"/>
                    </a:lnTo>
                    <a:lnTo>
                      <a:pt x="1768" y="41"/>
                    </a:lnTo>
                    <a:lnTo>
                      <a:pt x="1343" y="160"/>
                    </a:lnTo>
                    <a:lnTo>
                      <a:pt x="1834" y="120"/>
                    </a:lnTo>
                    <a:lnTo>
                      <a:pt x="2486" y="239"/>
                    </a:lnTo>
                    <a:lnTo>
                      <a:pt x="1609" y="306"/>
                    </a:lnTo>
                    <a:lnTo>
                      <a:pt x="2499" y="373"/>
                    </a:lnTo>
                    <a:lnTo>
                      <a:pt x="2433" y="505"/>
                    </a:lnTo>
                    <a:lnTo>
                      <a:pt x="2646" y="585"/>
                    </a:lnTo>
                    <a:lnTo>
                      <a:pt x="2087" y="626"/>
                    </a:lnTo>
                    <a:lnTo>
                      <a:pt x="2633" y="837"/>
                    </a:lnTo>
                    <a:lnTo>
                      <a:pt x="1635" y="638"/>
                    </a:lnTo>
                    <a:lnTo>
                      <a:pt x="1236" y="758"/>
                    </a:lnTo>
                    <a:lnTo>
                      <a:pt x="1343" y="452"/>
                    </a:lnTo>
                    <a:lnTo>
                      <a:pt x="850" y="559"/>
                    </a:lnTo>
                    <a:lnTo>
                      <a:pt x="518" y="731"/>
                    </a:lnTo>
                    <a:lnTo>
                      <a:pt x="0" y="1501"/>
                    </a:lnTo>
                    <a:close/>
                  </a:path>
                </a:pathLst>
              </a:custGeom>
              <a:solidFill>
                <a:srgbClr val="ffd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21391800">
                <a:off x="1186920" y="4959000"/>
                <a:ext cx="84240" cy="36720"/>
              </a:xfrm>
              <a:custGeom>
                <a:avLst/>
                <a:gdLst/>
                <a:ahLst/>
                <a:rect l="l" t="t" r="r" b="b"/>
                <a:pathLst>
                  <a:path w="2362" h="1274">
                    <a:moveTo>
                      <a:pt x="2362" y="580"/>
                    </a:moveTo>
                    <a:lnTo>
                      <a:pt x="2042" y="695"/>
                    </a:lnTo>
                    <a:lnTo>
                      <a:pt x="1783" y="683"/>
                    </a:lnTo>
                    <a:lnTo>
                      <a:pt x="2031" y="600"/>
                    </a:lnTo>
                    <a:lnTo>
                      <a:pt x="1804" y="591"/>
                    </a:lnTo>
                    <a:lnTo>
                      <a:pt x="1855" y="518"/>
                    </a:lnTo>
                    <a:lnTo>
                      <a:pt x="1514" y="664"/>
                    </a:lnTo>
                    <a:lnTo>
                      <a:pt x="1679" y="414"/>
                    </a:lnTo>
                    <a:lnTo>
                      <a:pt x="1462" y="497"/>
                    </a:lnTo>
                    <a:lnTo>
                      <a:pt x="1565" y="321"/>
                    </a:lnTo>
                    <a:lnTo>
                      <a:pt x="1306" y="467"/>
                    </a:lnTo>
                    <a:lnTo>
                      <a:pt x="1420" y="311"/>
                    </a:lnTo>
                    <a:lnTo>
                      <a:pt x="954" y="383"/>
                    </a:lnTo>
                    <a:lnTo>
                      <a:pt x="373" y="653"/>
                    </a:lnTo>
                    <a:lnTo>
                      <a:pt x="384" y="538"/>
                    </a:lnTo>
                    <a:lnTo>
                      <a:pt x="228" y="715"/>
                    </a:lnTo>
                    <a:lnTo>
                      <a:pt x="176" y="1005"/>
                    </a:lnTo>
                    <a:lnTo>
                      <a:pt x="0" y="1274"/>
                    </a:lnTo>
                    <a:lnTo>
                      <a:pt x="0" y="1015"/>
                    </a:lnTo>
                    <a:lnTo>
                      <a:pt x="125" y="518"/>
                    </a:lnTo>
                    <a:lnTo>
                      <a:pt x="622" y="11"/>
                    </a:lnTo>
                    <a:lnTo>
                      <a:pt x="1565" y="0"/>
                    </a:lnTo>
                    <a:lnTo>
                      <a:pt x="1949" y="197"/>
                    </a:lnTo>
                    <a:lnTo>
                      <a:pt x="2362" y="58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21391800">
                <a:off x="1290960" y="495684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631" h="1045">
                    <a:moveTo>
                      <a:pt x="62" y="93"/>
                    </a:moveTo>
                    <a:lnTo>
                      <a:pt x="0" y="362"/>
                    </a:lnTo>
                    <a:lnTo>
                      <a:pt x="0" y="1035"/>
                    </a:lnTo>
                    <a:lnTo>
                      <a:pt x="228" y="1045"/>
                    </a:lnTo>
                    <a:lnTo>
                      <a:pt x="631" y="714"/>
                    </a:lnTo>
                    <a:lnTo>
                      <a:pt x="507" y="310"/>
                    </a:lnTo>
                    <a:lnTo>
                      <a:pt x="321" y="134"/>
                    </a:lnTo>
                    <a:lnTo>
                      <a:pt x="134" y="0"/>
                    </a:lnTo>
                    <a:lnTo>
                      <a:pt x="62" y="9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21391800">
                <a:off x="1179720" y="50079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4" h="279">
                    <a:moveTo>
                      <a:pt x="0" y="19"/>
                    </a:moveTo>
                    <a:lnTo>
                      <a:pt x="69" y="98"/>
                    </a:lnTo>
                    <a:lnTo>
                      <a:pt x="89" y="186"/>
                    </a:lnTo>
                    <a:lnTo>
                      <a:pt x="65" y="279"/>
                    </a:lnTo>
                    <a:lnTo>
                      <a:pt x="125" y="264"/>
                    </a:lnTo>
                    <a:lnTo>
                      <a:pt x="144" y="144"/>
                    </a:lnTo>
                    <a:lnTo>
                      <a:pt x="112" y="51"/>
                    </a:lnTo>
                    <a:lnTo>
                      <a:pt x="51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21391800">
                <a:off x="1264320" y="5005080"/>
                <a:ext cx="7200" cy="4320"/>
              </a:xfrm>
              <a:custGeom>
                <a:avLst/>
                <a:gdLst/>
                <a:ahLst/>
                <a:rect l="l" t="t" r="r" b="b"/>
                <a:pathLst>
                  <a:path w="204" h="159">
                    <a:moveTo>
                      <a:pt x="0" y="78"/>
                    </a:moveTo>
                    <a:lnTo>
                      <a:pt x="46" y="148"/>
                    </a:lnTo>
                    <a:lnTo>
                      <a:pt x="107" y="159"/>
                    </a:lnTo>
                    <a:lnTo>
                      <a:pt x="158" y="139"/>
                    </a:lnTo>
                    <a:lnTo>
                      <a:pt x="190" y="78"/>
                    </a:lnTo>
                    <a:lnTo>
                      <a:pt x="204" y="0"/>
                    </a:lnTo>
                    <a:lnTo>
                      <a:pt x="126" y="0"/>
                    </a:lnTo>
                    <a:lnTo>
                      <a:pt x="83" y="74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21391800">
                <a:off x="1223280" y="500040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205" h="141">
                    <a:moveTo>
                      <a:pt x="0" y="29"/>
                    </a:moveTo>
                    <a:lnTo>
                      <a:pt x="0" y="98"/>
                    </a:lnTo>
                    <a:lnTo>
                      <a:pt x="80" y="141"/>
                    </a:lnTo>
                    <a:lnTo>
                      <a:pt x="145" y="130"/>
                    </a:lnTo>
                    <a:lnTo>
                      <a:pt x="205" y="80"/>
                    </a:lnTo>
                    <a:lnTo>
                      <a:pt x="201" y="23"/>
                    </a:lnTo>
                    <a:lnTo>
                      <a:pt x="112" y="84"/>
                    </a:lnTo>
                    <a:lnTo>
                      <a:pt x="43" y="51"/>
                    </a:lnTo>
                    <a:lnTo>
                      <a:pt x="32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21391800">
                <a:off x="1223640" y="4999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31" h="103">
                    <a:moveTo>
                      <a:pt x="0" y="19"/>
                    </a:moveTo>
                    <a:lnTo>
                      <a:pt x="33" y="103"/>
                    </a:lnTo>
                    <a:lnTo>
                      <a:pt x="131" y="89"/>
                    </a:lnTo>
                    <a:lnTo>
                      <a:pt x="10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21391800">
                <a:off x="1264320" y="5005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98" h="74">
                    <a:moveTo>
                      <a:pt x="98" y="10"/>
                    </a:moveTo>
                    <a:lnTo>
                      <a:pt x="78" y="74"/>
                    </a:lnTo>
                    <a:lnTo>
                      <a:pt x="0" y="60"/>
                    </a:lnTo>
                    <a:lnTo>
                      <a:pt x="9" y="0"/>
                    </a:lnTo>
                    <a:lnTo>
                      <a:pt x="9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rot="21391800">
                <a:off x="1265040" y="500508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80" h="148">
                    <a:moveTo>
                      <a:pt x="139" y="0"/>
                    </a:moveTo>
                    <a:lnTo>
                      <a:pt x="147" y="50"/>
                    </a:lnTo>
                    <a:lnTo>
                      <a:pt x="116" y="102"/>
                    </a:lnTo>
                    <a:lnTo>
                      <a:pt x="69" y="111"/>
                    </a:lnTo>
                    <a:lnTo>
                      <a:pt x="0" y="106"/>
                    </a:lnTo>
                    <a:lnTo>
                      <a:pt x="41" y="143"/>
                    </a:lnTo>
                    <a:lnTo>
                      <a:pt x="102" y="148"/>
                    </a:lnTo>
                    <a:lnTo>
                      <a:pt x="162" y="106"/>
                    </a:lnTo>
                    <a:lnTo>
                      <a:pt x="180" y="32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1391800">
                <a:off x="1224360" y="500040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64" h="145">
                    <a:moveTo>
                      <a:pt x="0" y="93"/>
                    </a:moveTo>
                    <a:lnTo>
                      <a:pt x="80" y="112"/>
                    </a:lnTo>
                    <a:lnTo>
                      <a:pt x="122" y="84"/>
                    </a:lnTo>
                    <a:lnTo>
                      <a:pt x="99" y="0"/>
                    </a:lnTo>
                    <a:lnTo>
                      <a:pt x="159" y="23"/>
                    </a:lnTo>
                    <a:lnTo>
                      <a:pt x="164" y="98"/>
                    </a:lnTo>
                    <a:lnTo>
                      <a:pt x="99" y="145"/>
                    </a:lnTo>
                    <a:lnTo>
                      <a:pt x="38" y="14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1391800">
                <a:off x="1247760" y="500004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938" h="1168">
                    <a:moveTo>
                      <a:pt x="525" y="0"/>
                    </a:moveTo>
                    <a:lnTo>
                      <a:pt x="384" y="61"/>
                    </a:lnTo>
                    <a:lnTo>
                      <a:pt x="275" y="170"/>
                    </a:lnTo>
                    <a:lnTo>
                      <a:pt x="213" y="287"/>
                    </a:lnTo>
                    <a:lnTo>
                      <a:pt x="196" y="499"/>
                    </a:lnTo>
                    <a:lnTo>
                      <a:pt x="208" y="669"/>
                    </a:lnTo>
                    <a:lnTo>
                      <a:pt x="220" y="992"/>
                    </a:lnTo>
                    <a:lnTo>
                      <a:pt x="140" y="1053"/>
                    </a:lnTo>
                    <a:lnTo>
                      <a:pt x="0" y="1114"/>
                    </a:lnTo>
                    <a:lnTo>
                      <a:pt x="262" y="1168"/>
                    </a:lnTo>
                    <a:lnTo>
                      <a:pt x="294" y="1168"/>
                    </a:lnTo>
                    <a:lnTo>
                      <a:pt x="360" y="1138"/>
                    </a:lnTo>
                    <a:lnTo>
                      <a:pt x="348" y="998"/>
                    </a:lnTo>
                    <a:lnTo>
                      <a:pt x="281" y="669"/>
                    </a:lnTo>
                    <a:lnTo>
                      <a:pt x="335" y="298"/>
                    </a:lnTo>
                    <a:lnTo>
                      <a:pt x="379" y="250"/>
                    </a:lnTo>
                    <a:lnTo>
                      <a:pt x="494" y="135"/>
                    </a:lnTo>
                    <a:lnTo>
                      <a:pt x="676" y="91"/>
                    </a:lnTo>
                    <a:lnTo>
                      <a:pt x="938" y="31"/>
                    </a:lnTo>
                    <a:lnTo>
                      <a:pt x="651" y="0"/>
                    </a:lnTo>
                    <a:lnTo>
                      <a:pt x="525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1391800">
                <a:off x="1224000" y="5036760"/>
                <a:ext cx="28080" cy="12600"/>
              </a:xfrm>
              <a:custGeom>
                <a:avLst/>
                <a:gdLst/>
                <a:ahLst/>
                <a:rect l="l" t="t" r="r" b="b"/>
                <a:pathLst>
                  <a:path w="792" h="443">
                    <a:moveTo>
                      <a:pt x="122" y="157"/>
                    </a:moveTo>
                    <a:lnTo>
                      <a:pt x="250" y="370"/>
                    </a:lnTo>
                    <a:lnTo>
                      <a:pt x="348" y="436"/>
                    </a:lnTo>
                    <a:lnTo>
                      <a:pt x="567" y="443"/>
                    </a:lnTo>
                    <a:lnTo>
                      <a:pt x="792" y="254"/>
                    </a:lnTo>
                    <a:lnTo>
                      <a:pt x="603" y="230"/>
                    </a:lnTo>
                    <a:lnTo>
                      <a:pt x="511" y="97"/>
                    </a:lnTo>
                    <a:lnTo>
                      <a:pt x="0" y="0"/>
                    </a:lnTo>
                    <a:lnTo>
                      <a:pt x="122" y="157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1391800">
                <a:off x="1233000" y="5044320"/>
                <a:ext cx="7200" cy="2520"/>
              </a:xfrm>
              <a:custGeom>
                <a:avLst/>
                <a:gdLst/>
                <a:ahLst/>
                <a:rect l="l" t="t" r="r" b="b"/>
                <a:pathLst>
                  <a:path w="207" h="98">
                    <a:moveTo>
                      <a:pt x="0" y="0"/>
                    </a:moveTo>
                    <a:lnTo>
                      <a:pt x="97" y="98"/>
                    </a:lnTo>
                    <a:lnTo>
                      <a:pt x="207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1391800">
                <a:off x="1211400" y="4967280"/>
                <a:ext cx="83520" cy="97920"/>
              </a:xfrm>
              <a:custGeom>
                <a:avLst/>
                <a:gdLst/>
                <a:ahLst/>
                <a:rect l="l" t="t" r="r" b="b"/>
                <a:pathLst>
                  <a:path w="2337" h="3380">
                    <a:moveTo>
                      <a:pt x="0" y="3022"/>
                    </a:moveTo>
                    <a:lnTo>
                      <a:pt x="347" y="3204"/>
                    </a:lnTo>
                    <a:lnTo>
                      <a:pt x="547" y="3254"/>
                    </a:lnTo>
                    <a:lnTo>
                      <a:pt x="706" y="3228"/>
                    </a:lnTo>
                    <a:lnTo>
                      <a:pt x="870" y="3138"/>
                    </a:lnTo>
                    <a:lnTo>
                      <a:pt x="998" y="3003"/>
                    </a:lnTo>
                    <a:lnTo>
                      <a:pt x="1260" y="2791"/>
                    </a:lnTo>
                    <a:lnTo>
                      <a:pt x="1516" y="2499"/>
                    </a:lnTo>
                    <a:lnTo>
                      <a:pt x="1661" y="2250"/>
                    </a:lnTo>
                    <a:lnTo>
                      <a:pt x="1892" y="1868"/>
                    </a:lnTo>
                    <a:lnTo>
                      <a:pt x="1953" y="1587"/>
                    </a:lnTo>
                    <a:lnTo>
                      <a:pt x="1886" y="1576"/>
                    </a:lnTo>
                    <a:lnTo>
                      <a:pt x="1807" y="1582"/>
                    </a:lnTo>
                    <a:lnTo>
                      <a:pt x="1886" y="1502"/>
                    </a:lnTo>
                    <a:lnTo>
                      <a:pt x="1820" y="1284"/>
                    </a:lnTo>
                    <a:lnTo>
                      <a:pt x="1929" y="1302"/>
                    </a:lnTo>
                    <a:lnTo>
                      <a:pt x="1977" y="1369"/>
                    </a:lnTo>
                    <a:lnTo>
                      <a:pt x="2003" y="1429"/>
                    </a:lnTo>
                    <a:lnTo>
                      <a:pt x="2027" y="1325"/>
                    </a:lnTo>
                    <a:lnTo>
                      <a:pt x="2008" y="1137"/>
                    </a:lnTo>
                    <a:lnTo>
                      <a:pt x="2099" y="852"/>
                    </a:lnTo>
                    <a:lnTo>
                      <a:pt x="2160" y="517"/>
                    </a:lnTo>
                    <a:lnTo>
                      <a:pt x="2160" y="401"/>
                    </a:lnTo>
                    <a:lnTo>
                      <a:pt x="2123" y="231"/>
                    </a:lnTo>
                    <a:lnTo>
                      <a:pt x="1917" y="335"/>
                    </a:lnTo>
                    <a:lnTo>
                      <a:pt x="1709" y="377"/>
                    </a:lnTo>
                    <a:lnTo>
                      <a:pt x="1375" y="371"/>
                    </a:lnTo>
                    <a:lnTo>
                      <a:pt x="1703" y="262"/>
                    </a:lnTo>
                    <a:lnTo>
                      <a:pt x="2166" y="0"/>
                    </a:lnTo>
                    <a:lnTo>
                      <a:pt x="2306" y="104"/>
                    </a:lnTo>
                    <a:lnTo>
                      <a:pt x="2337" y="395"/>
                    </a:lnTo>
                    <a:lnTo>
                      <a:pt x="2173" y="1205"/>
                    </a:lnTo>
                    <a:lnTo>
                      <a:pt x="2112" y="1332"/>
                    </a:lnTo>
                    <a:lnTo>
                      <a:pt x="2027" y="1508"/>
                    </a:lnTo>
                    <a:lnTo>
                      <a:pt x="1929" y="1903"/>
                    </a:lnTo>
                    <a:lnTo>
                      <a:pt x="1807" y="2274"/>
                    </a:lnTo>
                    <a:lnTo>
                      <a:pt x="1571" y="2596"/>
                    </a:lnTo>
                    <a:lnTo>
                      <a:pt x="1297" y="2901"/>
                    </a:lnTo>
                    <a:lnTo>
                      <a:pt x="968" y="3186"/>
                    </a:lnTo>
                    <a:lnTo>
                      <a:pt x="620" y="3380"/>
                    </a:lnTo>
                    <a:lnTo>
                      <a:pt x="298" y="3302"/>
                    </a:lnTo>
                    <a:lnTo>
                      <a:pt x="0" y="3022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1391800">
                <a:off x="1229040" y="504108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69" h="411">
                    <a:moveTo>
                      <a:pt x="0" y="97"/>
                    </a:moveTo>
                    <a:lnTo>
                      <a:pt x="117" y="284"/>
                    </a:lnTo>
                    <a:lnTo>
                      <a:pt x="61" y="306"/>
                    </a:lnTo>
                    <a:lnTo>
                      <a:pt x="240" y="354"/>
                    </a:lnTo>
                    <a:lnTo>
                      <a:pt x="398" y="384"/>
                    </a:lnTo>
                    <a:lnTo>
                      <a:pt x="476" y="411"/>
                    </a:lnTo>
                    <a:lnTo>
                      <a:pt x="607" y="319"/>
                    </a:lnTo>
                    <a:lnTo>
                      <a:pt x="769" y="27"/>
                    </a:lnTo>
                    <a:lnTo>
                      <a:pt x="586" y="0"/>
                    </a:lnTo>
                    <a:lnTo>
                      <a:pt x="450" y="61"/>
                    </a:lnTo>
                    <a:lnTo>
                      <a:pt x="639" y="122"/>
                    </a:lnTo>
                    <a:lnTo>
                      <a:pt x="494" y="258"/>
                    </a:lnTo>
                    <a:lnTo>
                      <a:pt x="309" y="272"/>
                    </a:lnTo>
                    <a:lnTo>
                      <a:pt x="153" y="219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1391800">
                <a:off x="1210680" y="4991040"/>
                <a:ext cx="38160" cy="15120"/>
              </a:xfrm>
              <a:custGeom>
                <a:avLst/>
                <a:gdLst/>
                <a:ahLst/>
                <a:rect l="l" t="t" r="r" b="b"/>
                <a:pathLst>
                  <a:path w="1074" h="525">
                    <a:moveTo>
                      <a:pt x="0" y="203"/>
                    </a:moveTo>
                    <a:lnTo>
                      <a:pt x="184" y="299"/>
                    </a:lnTo>
                    <a:lnTo>
                      <a:pt x="296" y="215"/>
                    </a:lnTo>
                    <a:lnTo>
                      <a:pt x="547" y="199"/>
                    </a:lnTo>
                    <a:lnTo>
                      <a:pt x="650" y="218"/>
                    </a:lnTo>
                    <a:lnTo>
                      <a:pt x="794" y="362"/>
                    </a:lnTo>
                    <a:lnTo>
                      <a:pt x="786" y="525"/>
                    </a:lnTo>
                    <a:lnTo>
                      <a:pt x="885" y="474"/>
                    </a:lnTo>
                    <a:lnTo>
                      <a:pt x="957" y="382"/>
                    </a:lnTo>
                    <a:lnTo>
                      <a:pt x="1074" y="350"/>
                    </a:lnTo>
                    <a:lnTo>
                      <a:pt x="1005" y="247"/>
                    </a:lnTo>
                    <a:lnTo>
                      <a:pt x="762" y="111"/>
                    </a:lnTo>
                    <a:lnTo>
                      <a:pt x="343" y="12"/>
                    </a:lnTo>
                    <a:lnTo>
                      <a:pt x="231" y="0"/>
                    </a:lnTo>
                    <a:lnTo>
                      <a:pt x="375" y="64"/>
                    </a:lnTo>
                    <a:lnTo>
                      <a:pt x="503" y="139"/>
                    </a:lnTo>
                    <a:lnTo>
                      <a:pt x="275" y="155"/>
                    </a:lnTo>
                    <a:lnTo>
                      <a:pt x="147" y="218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1391800">
                <a:off x="1172160" y="4962240"/>
                <a:ext cx="79920" cy="88560"/>
              </a:xfrm>
              <a:custGeom>
                <a:avLst/>
                <a:gdLst/>
                <a:ahLst/>
                <a:rect l="l" t="t" r="r" b="b"/>
                <a:pathLst>
                  <a:path w="2247" h="3052">
                    <a:moveTo>
                      <a:pt x="359" y="1667"/>
                    </a:moveTo>
                    <a:lnTo>
                      <a:pt x="332" y="2058"/>
                    </a:lnTo>
                    <a:lnTo>
                      <a:pt x="311" y="2512"/>
                    </a:lnTo>
                    <a:lnTo>
                      <a:pt x="825" y="3052"/>
                    </a:lnTo>
                    <a:lnTo>
                      <a:pt x="525" y="2557"/>
                    </a:lnTo>
                    <a:lnTo>
                      <a:pt x="463" y="2185"/>
                    </a:lnTo>
                    <a:lnTo>
                      <a:pt x="466" y="1585"/>
                    </a:lnTo>
                    <a:lnTo>
                      <a:pt x="591" y="1827"/>
                    </a:lnTo>
                    <a:lnTo>
                      <a:pt x="507" y="1501"/>
                    </a:lnTo>
                    <a:lnTo>
                      <a:pt x="599" y="1213"/>
                    </a:lnTo>
                    <a:lnTo>
                      <a:pt x="678" y="971"/>
                    </a:lnTo>
                    <a:lnTo>
                      <a:pt x="751" y="688"/>
                    </a:lnTo>
                    <a:lnTo>
                      <a:pt x="825" y="632"/>
                    </a:lnTo>
                    <a:lnTo>
                      <a:pt x="982" y="553"/>
                    </a:lnTo>
                    <a:lnTo>
                      <a:pt x="1105" y="982"/>
                    </a:lnTo>
                    <a:lnTo>
                      <a:pt x="1095" y="715"/>
                    </a:lnTo>
                    <a:lnTo>
                      <a:pt x="1193" y="441"/>
                    </a:lnTo>
                    <a:lnTo>
                      <a:pt x="1440" y="330"/>
                    </a:lnTo>
                    <a:lnTo>
                      <a:pt x="1807" y="294"/>
                    </a:lnTo>
                    <a:lnTo>
                      <a:pt x="1731" y="394"/>
                    </a:lnTo>
                    <a:lnTo>
                      <a:pt x="2247" y="154"/>
                    </a:lnTo>
                    <a:lnTo>
                      <a:pt x="2054" y="0"/>
                    </a:lnTo>
                    <a:lnTo>
                      <a:pt x="591" y="262"/>
                    </a:lnTo>
                    <a:lnTo>
                      <a:pt x="199" y="512"/>
                    </a:lnTo>
                    <a:lnTo>
                      <a:pt x="0" y="692"/>
                    </a:lnTo>
                    <a:lnTo>
                      <a:pt x="156" y="728"/>
                    </a:lnTo>
                    <a:lnTo>
                      <a:pt x="208" y="876"/>
                    </a:lnTo>
                    <a:lnTo>
                      <a:pt x="191" y="951"/>
                    </a:lnTo>
                    <a:lnTo>
                      <a:pt x="112" y="1086"/>
                    </a:lnTo>
                    <a:lnTo>
                      <a:pt x="107" y="1234"/>
                    </a:lnTo>
                    <a:lnTo>
                      <a:pt x="168" y="1326"/>
                    </a:lnTo>
                    <a:lnTo>
                      <a:pt x="159" y="1409"/>
                    </a:lnTo>
                    <a:lnTo>
                      <a:pt x="279" y="1472"/>
                    </a:lnTo>
                    <a:lnTo>
                      <a:pt x="327" y="1421"/>
                    </a:lnTo>
                    <a:lnTo>
                      <a:pt x="256" y="1213"/>
                    </a:lnTo>
                    <a:lnTo>
                      <a:pt x="319" y="1134"/>
                    </a:lnTo>
                    <a:lnTo>
                      <a:pt x="384" y="1310"/>
                    </a:lnTo>
                    <a:lnTo>
                      <a:pt x="359" y="1667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1391800">
                <a:off x="1190520" y="5049720"/>
                <a:ext cx="17280" cy="57960"/>
              </a:xfrm>
              <a:custGeom>
                <a:avLst/>
                <a:gdLst/>
                <a:ahLst/>
                <a:rect l="l" t="t" r="r" b="b"/>
                <a:pathLst>
                  <a:path w="492" h="1997">
                    <a:moveTo>
                      <a:pt x="0" y="301"/>
                    </a:moveTo>
                    <a:lnTo>
                      <a:pt x="66" y="807"/>
                    </a:lnTo>
                    <a:lnTo>
                      <a:pt x="492" y="1997"/>
                    </a:lnTo>
                    <a:lnTo>
                      <a:pt x="283" y="920"/>
                    </a:lnTo>
                    <a:lnTo>
                      <a:pt x="228" y="425"/>
                    </a:lnTo>
                    <a:lnTo>
                      <a:pt x="52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1391800">
                <a:off x="1198800" y="5046840"/>
                <a:ext cx="35280" cy="105120"/>
              </a:xfrm>
              <a:custGeom>
                <a:avLst/>
                <a:gdLst/>
                <a:ahLst/>
                <a:rect l="l" t="t" r="r" b="b"/>
                <a:pathLst>
                  <a:path w="995" h="3623">
                    <a:moveTo>
                      <a:pt x="0" y="0"/>
                    </a:moveTo>
                    <a:lnTo>
                      <a:pt x="290" y="445"/>
                    </a:lnTo>
                    <a:lnTo>
                      <a:pt x="600" y="746"/>
                    </a:lnTo>
                    <a:lnTo>
                      <a:pt x="643" y="1035"/>
                    </a:lnTo>
                    <a:lnTo>
                      <a:pt x="673" y="1418"/>
                    </a:lnTo>
                    <a:lnTo>
                      <a:pt x="735" y="1749"/>
                    </a:lnTo>
                    <a:lnTo>
                      <a:pt x="581" y="3117"/>
                    </a:lnTo>
                    <a:lnTo>
                      <a:pt x="93" y="2526"/>
                    </a:lnTo>
                    <a:lnTo>
                      <a:pt x="622" y="3623"/>
                    </a:lnTo>
                    <a:lnTo>
                      <a:pt x="891" y="2505"/>
                    </a:lnTo>
                    <a:lnTo>
                      <a:pt x="921" y="1802"/>
                    </a:lnTo>
                    <a:lnTo>
                      <a:pt x="776" y="1408"/>
                    </a:lnTo>
                    <a:lnTo>
                      <a:pt x="995" y="953"/>
                    </a:lnTo>
                    <a:lnTo>
                      <a:pt x="963" y="725"/>
                    </a:lnTo>
                    <a:lnTo>
                      <a:pt x="279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1391800">
                <a:off x="1198800" y="4989240"/>
                <a:ext cx="37080" cy="59040"/>
              </a:xfrm>
              <a:custGeom>
                <a:avLst/>
                <a:gdLst/>
                <a:ahLst/>
                <a:rect l="l" t="t" r="r" b="b"/>
                <a:pathLst>
                  <a:path w="1047" h="2046">
                    <a:moveTo>
                      <a:pt x="197" y="0"/>
                    </a:moveTo>
                    <a:lnTo>
                      <a:pt x="249" y="362"/>
                    </a:lnTo>
                    <a:lnTo>
                      <a:pt x="517" y="532"/>
                    </a:lnTo>
                    <a:lnTo>
                      <a:pt x="584" y="658"/>
                    </a:lnTo>
                    <a:lnTo>
                      <a:pt x="767" y="807"/>
                    </a:lnTo>
                    <a:lnTo>
                      <a:pt x="1047" y="798"/>
                    </a:lnTo>
                    <a:lnTo>
                      <a:pt x="900" y="930"/>
                    </a:lnTo>
                    <a:lnTo>
                      <a:pt x="846" y="1159"/>
                    </a:lnTo>
                    <a:lnTo>
                      <a:pt x="565" y="1562"/>
                    </a:lnTo>
                    <a:lnTo>
                      <a:pt x="648" y="2046"/>
                    </a:lnTo>
                    <a:lnTo>
                      <a:pt x="283" y="1760"/>
                    </a:lnTo>
                    <a:lnTo>
                      <a:pt x="166" y="1449"/>
                    </a:lnTo>
                    <a:lnTo>
                      <a:pt x="83" y="848"/>
                    </a:lnTo>
                    <a:lnTo>
                      <a:pt x="0" y="466"/>
                    </a:lnTo>
                    <a:lnTo>
                      <a:pt x="73" y="166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1391800">
                <a:off x="1239840" y="5002920"/>
                <a:ext cx="12240" cy="25920"/>
              </a:xfrm>
              <a:custGeom>
                <a:avLst/>
                <a:gdLst/>
                <a:ahLst/>
                <a:rect l="l" t="t" r="r" b="b"/>
                <a:pathLst>
                  <a:path w="352" h="901">
                    <a:moveTo>
                      <a:pt x="352" y="0"/>
                    </a:moveTo>
                    <a:lnTo>
                      <a:pt x="166" y="114"/>
                    </a:lnTo>
                    <a:lnTo>
                      <a:pt x="0" y="238"/>
                    </a:lnTo>
                    <a:lnTo>
                      <a:pt x="155" y="311"/>
                    </a:lnTo>
                    <a:lnTo>
                      <a:pt x="217" y="413"/>
                    </a:lnTo>
                    <a:lnTo>
                      <a:pt x="217" y="663"/>
                    </a:lnTo>
                    <a:lnTo>
                      <a:pt x="114" y="787"/>
                    </a:lnTo>
                    <a:lnTo>
                      <a:pt x="217" y="901"/>
                    </a:lnTo>
                    <a:lnTo>
                      <a:pt x="300" y="890"/>
                    </a:lnTo>
                    <a:lnTo>
                      <a:pt x="300" y="715"/>
                    </a:lnTo>
                    <a:lnTo>
                      <a:pt x="290" y="196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1391800">
                <a:off x="1214640" y="497448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437" h="529">
                    <a:moveTo>
                      <a:pt x="104" y="84"/>
                    </a:moveTo>
                    <a:lnTo>
                      <a:pt x="74" y="322"/>
                    </a:lnTo>
                    <a:lnTo>
                      <a:pt x="0" y="529"/>
                    </a:lnTo>
                    <a:lnTo>
                      <a:pt x="290" y="519"/>
                    </a:lnTo>
                    <a:lnTo>
                      <a:pt x="437" y="519"/>
                    </a:lnTo>
                    <a:lnTo>
                      <a:pt x="290" y="332"/>
                    </a:lnTo>
                    <a:lnTo>
                      <a:pt x="218" y="124"/>
                    </a:lnTo>
                    <a:lnTo>
                      <a:pt x="290" y="0"/>
                    </a:lnTo>
                    <a:lnTo>
                      <a:pt x="188" y="0"/>
                    </a:lnTo>
                    <a:lnTo>
                      <a:pt x="10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1391800">
                <a:off x="1213560" y="503136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663" h="257">
                    <a:moveTo>
                      <a:pt x="658" y="131"/>
                    </a:moveTo>
                    <a:lnTo>
                      <a:pt x="663" y="257"/>
                    </a:lnTo>
                    <a:lnTo>
                      <a:pt x="337" y="172"/>
                    </a:lnTo>
                    <a:lnTo>
                      <a:pt x="0" y="184"/>
                    </a:lnTo>
                    <a:lnTo>
                      <a:pt x="441" y="0"/>
                    </a:lnTo>
                    <a:lnTo>
                      <a:pt x="658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1391800">
                <a:off x="1211760" y="504396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674" h="508">
                    <a:moveTo>
                      <a:pt x="633" y="372"/>
                    </a:moveTo>
                    <a:lnTo>
                      <a:pt x="301" y="238"/>
                    </a:lnTo>
                    <a:lnTo>
                      <a:pt x="0" y="0"/>
                    </a:lnTo>
                    <a:lnTo>
                      <a:pt x="217" y="248"/>
                    </a:lnTo>
                    <a:lnTo>
                      <a:pt x="476" y="455"/>
                    </a:lnTo>
                    <a:lnTo>
                      <a:pt x="591" y="508"/>
                    </a:lnTo>
                    <a:lnTo>
                      <a:pt x="674" y="455"/>
                    </a:lnTo>
                    <a:lnTo>
                      <a:pt x="633" y="3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21391800">
                <a:off x="1218960" y="501912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508" h="291">
                    <a:moveTo>
                      <a:pt x="425" y="94"/>
                    </a:moveTo>
                    <a:lnTo>
                      <a:pt x="249" y="176"/>
                    </a:lnTo>
                    <a:lnTo>
                      <a:pt x="0" y="291"/>
                    </a:lnTo>
                    <a:lnTo>
                      <a:pt x="227" y="73"/>
                    </a:lnTo>
                    <a:lnTo>
                      <a:pt x="384" y="0"/>
                    </a:lnTo>
                    <a:lnTo>
                      <a:pt x="508" y="42"/>
                    </a:lnTo>
                    <a:lnTo>
                      <a:pt x="42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21391800">
                <a:off x="1262880" y="5011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51" h="456">
                    <a:moveTo>
                      <a:pt x="21" y="104"/>
                    </a:moveTo>
                    <a:lnTo>
                      <a:pt x="21" y="280"/>
                    </a:lnTo>
                    <a:lnTo>
                      <a:pt x="114" y="456"/>
                    </a:lnTo>
                    <a:lnTo>
                      <a:pt x="259" y="332"/>
                    </a:lnTo>
                    <a:lnTo>
                      <a:pt x="351" y="145"/>
                    </a:lnTo>
                    <a:lnTo>
                      <a:pt x="237" y="156"/>
                    </a:lnTo>
                    <a:lnTo>
                      <a:pt x="0" y="0"/>
                    </a:lnTo>
                    <a:lnTo>
                      <a:pt x="21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1391800">
                <a:off x="1265040" y="498060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331" h="476">
                    <a:moveTo>
                      <a:pt x="123" y="30"/>
                    </a:moveTo>
                    <a:lnTo>
                      <a:pt x="331" y="0"/>
                    </a:lnTo>
                    <a:lnTo>
                      <a:pt x="331" y="166"/>
                    </a:lnTo>
                    <a:lnTo>
                      <a:pt x="268" y="311"/>
                    </a:lnTo>
                    <a:lnTo>
                      <a:pt x="155" y="456"/>
                    </a:lnTo>
                    <a:lnTo>
                      <a:pt x="0" y="476"/>
                    </a:lnTo>
                    <a:lnTo>
                      <a:pt x="94" y="331"/>
                    </a:lnTo>
                    <a:lnTo>
                      <a:pt x="123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1391800">
                <a:off x="1148400" y="4964400"/>
                <a:ext cx="19800" cy="57960"/>
              </a:xfrm>
              <a:custGeom>
                <a:avLst/>
                <a:gdLst/>
                <a:ahLst/>
                <a:rect l="l" t="t" r="r" b="b"/>
                <a:pathLst>
                  <a:path w="560" h="1999">
                    <a:moveTo>
                      <a:pt x="560" y="0"/>
                    </a:moveTo>
                    <a:lnTo>
                      <a:pt x="321" y="538"/>
                    </a:lnTo>
                    <a:lnTo>
                      <a:pt x="539" y="414"/>
                    </a:lnTo>
                    <a:lnTo>
                      <a:pt x="270" y="881"/>
                    </a:lnTo>
                    <a:lnTo>
                      <a:pt x="270" y="1429"/>
                    </a:lnTo>
                    <a:lnTo>
                      <a:pt x="415" y="1036"/>
                    </a:lnTo>
                    <a:lnTo>
                      <a:pt x="332" y="1563"/>
                    </a:lnTo>
                    <a:lnTo>
                      <a:pt x="456" y="1999"/>
                    </a:lnTo>
                    <a:lnTo>
                      <a:pt x="166" y="1739"/>
                    </a:lnTo>
                    <a:lnTo>
                      <a:pt x="52" y="1543"/>
                    </a:lnTo>
                    <a:lnTo>
                      <a:pt x="0" y="1077"/>
                    </a:lnTo>
                    <a:lnTo>
                      <a:pt x="249" y="600"/>
                    </a:lnTo>
                    <a:lnTo>
                      <a:pt x="290" y="363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21391800">
                <a:off x="1177200" y="4931640"/>
                <a:ext cx="58680" cy="21600"/>
              </a:xfrm>
              <a:custGeom>
                <a:avLst/>
                <a:gdLst/>
                <a:ahLst/>
                <a:rect l="l" t="t" r="r" b="b"/>
                <a:pathLst>
                  <a:path w="1649" h="756">
                    <a:moveTo>
                      <a:pt x="104" y="496"/>
                    </a:moveTo>
                    <a:lnTo>
                      <a:pt x="560" y="124"/>
                    </a:lnTo>
                    <a:lnTo>
                      <a:pt x="457" y="321"/>
                    </a:lnTo>
                    <a:lnTo>
                      <a:pt x="902" y="31"/>
                    </a:lnTo>
                    <a:lnTo>
                      <a:pt x="727" y="259"/>
                    </a:lnTo>
                    <a:lnTo>
                      <a:pt x="1245" y="0"/>
                    </a:lnTo>
                    <a:lnTo>
                      <a:pt x="923" y="248"/>
                    </a:lnTo>
                    <a:lnTo>
                      <a:pt x="1649" y="207"/>
                    </a:lnTo>
                    <a:lnTo>
                      <a:pt x="882" y="414"/>
                    </a:lnTo>
                    <a:lnTo>
                      <a:pt x="1307" y="467"/>
                    </a:lnTo>
                    <a:lnTo>
                      <a:pt x="1109" y="529"/>
                    </a:lnTo>
                    <a:lnTo>
                      <a:pt x="1514" y="642"/>
                    </a:lnTo>
                    <a:lnTo>
                      <a:pt x="1027" y="632"/>
                    </a:lnTo>
                    <a:lnTo>
                      <a:pt x="488" y="756"/>
                    </a:lnTo>
                    <a:lnTo>
                      <a:pt x="747" y="570"/>
                    </a:lnTo>
                    <a:lnTo>
                      <a:pt x="467" y="653"/>
                    </a:lnTo>
                    <a:lnTo>
                      <a:pt x="757" y="405"/>
                    </a:lnTo>
                    <a:lnTo>
                      <a:pt x="219" y="736"/>
                    </a:lnTo>
                    <a:lnTo>
                      <a:pt x="436" y="424"/>
                    </a:lnTo>
                    <a:lnTo>
                      <a:pt x="0" y="632"/>
                    </a:lnTo>
                    <a:lnTo>
                      <a:pt x="104" y="496"/>
                    </a:lnTo>
                    <a:close/>
                  </a:path>
                </a:pathLst>
              </a:cu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1391800">
                <a:off x="1171440" y="504288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1462" h="4170">
                    <a:moveTo>
                      <a:pt x="0" y="362"/>
                    </a:moveTo>
                    <a:lnTo>
                      <a:pt x="176" y="1375"/>
                    </a:lnTo>
                    <a:lnTo>
                      <a:pt x="208" y="2938"/>
                    </a:lnTo>
                    <a:lnTo>
                      <a:pt x="829" y="3135"/>
                    </a:lnTo>
                    <a:lnTo>
                      <a:pt x="860" y="3529"/>
                    </a:lnTo>
                    <a:lnTo>
                      <a:pt x="1347" y="4170"/>
                    </a:lnTo>
                    <a:lnTo>
                      <a:pt x="1462" y="4170"/>
                    </a:lnTo>
                    <a:lnTo>
                      <a:pt x="933" y="3135"/>
                    </a:lnTo>
                    <a:lnTo>
                      <a:pt x="695" y="2690"/>
                    </a:lnTo>
                    <a:lnTo>
                      <a:pt x="229" y="920"/>
                    </a:lnTo>
                    <a:lnTo>
                      <a:pt x="146" y="319"/>
                    </a:lnTo>
                    <a:lnTo>
                      <a:pt x="155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1391800">
                <a:off x="1249200" y="5124960"/>
                <a:ext cx="43920" cy="28440"/>
              </a:xfrm>
              <a:custGeom>
                <a:avLst/>
                <a:gdLst/>
                <a:ahLst/>
                <a:rect l="l" t="t" r="r" b="b"/>
                <a:pathLst>
                  <a:path w="1232" h="983">
                    <a:moveTo>
                      <a:pt x="0" y="238"/>
                    </a:moveTo>
                    <a:lnTo>
                      <a:pt x="145" y="259"/>
                    </a:lnTo>
                    <a:lnTo>
                      <a:pt x="155" y="403"/>
                    </a:lnTo>
                    <a:lnTo>
                      <a:pt x="312" y="465"/>
                    </a:lnTo>
                    <a:lnTo>
                      <a:pt x="455" y="570"/>
                    </a:lnTo>
                    <a:lnTo>
                      <a:pt x="455" y="715"/>
                    </a:lnTo>
                    <a:lnTo>
                      <a:pt x="331" y="983"/>
                    </a:lnTo>
                    <a:lnTo>
                      <a:pt x="962" y="538"/>
                    </a:lnTo>
                    <a:lnTo>
                      <a:pt x="1232" y="0"/>
                    </a:lnTo>
                    <a:lnTo>
                      <a:pt x="632" y="103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21391800">
                <a:off x="1230120" y="5127840"/>
                <a:ext cx="10800" cy="33840"/>
              </a:xfrm>
              <a:custGeom>
                <a:avLst/>
                <a:gdLst/>
                <a:ahLst/>
                <a:rect l="l" t="t" r="r" b="b"/>
                <a:pathLst>
                  <a:path w="310" h="1170">
                    <a:moveTo>
                      <a:pt x="0" y="1088"/>
                    </a:moveTo>
                    <a:lnTo>
                      <a:pt x="103" y="0"/>
                    </a:lnTo>
                    <a:lnTo>
                      <a:pt x="134" y="311"/>
                    </a:lnTo>
                    <a:lnTo>
                      <a:pt x="259" y="383"/>
                    </a:lnTo>
                    <a:lnTo>
                      <a:pt x="216" y="507"/>
                    </a:lnTo>
                    <a:lnTo>
                      <a:pt x="310" y="664"/>
                    </a:lnTo>
                    <a:lnTo>
                      <a:pt x="124" y="1170"/>
                    </a:lnTo>
                    <a:lnTo>
                      <a:pt x="0" y="10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21391800">
                <a:off x="1230120" y="50706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591" h="881">
                    <a:moveTo>
                      <a:pt x="591" y="0"/>
                    </a:moveTo>
                    <a:lnTo>
                      <a:pt x="0" y="424"/>
                    </a:lnTo>
                    <a:lnTo>
                      <a:pt x="10" y="621"/>
                    </a:lnTo>
                    <a:lnTo>
                      <a:pt x="104" y="807"/>
                    </a:lnTo>
                    <a:lnTo>
                      <a:pt x="270" y="881"/>
                    </a:lnTo>
                    <a:lnTo>
                      <a:pt x="394" y="695"/>
                    </a:lnTo>
                    <a:lnTo>
                      <a:pt x="518" y="466"/>
                    </a:lnTo>
                    <a:lnTo>
                      <a:pt x="580" y="238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21391800">
                <a:off x="1254600" y="50788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28" h="507">
                    <a:moveTo>
                      <a:pt x="228" y="0"/>
                    </a:moveTo>
                    <a:lnTo>
                      <a:pt x="197" y="290"/>
                    </a:lnTo>
                    <a:lnTo>
                      <a:pt x="0" y="507"/>
                    </a:lnTo>
                    <a:lnTo>
                      <a:pt x="83" y="238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21391800">
                <a:off x="1274400" y="503784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373" h="600">
                    <a:moveTo>
                      <a:pt x="0" y="600"/>
                    </a:moveTo>
                    <a:lnTo>
                      <a:pt x="103" y="382"/>
                    </a:lnTo>
                    <a:lnTo>
                      <a:pt x="373" y="0"/>
                    </a:lnTo>
                    <a:lnTo>
                      <a:pt x="248" y="495"/>
                    </a:lnTo>
                    <a:lnTo>
                      <a:pt x="103" y="568"/>
                    </a:lnTo>
                    <a:lnTo>
                      <a:pt x="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21391800">
                <a:off x="1281960" y="509328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415" h="632">
                    <a:moveTo>
                      <a:pt x="0" y="477"/>
                    </a:moveTo>
                    <a:lnTo>
                      <a:pt x="42" y="549"/>
                    </a:lnTo>
                    <a:lnTo>
                      <a:pt x="21" y="632"/>
                    </a:lnTo>
                    <a:lnTo>
                      <a:pt x="187" y="529"/>
                    </a:lnTo>
                    <a:lnTo>
                      <a:pt x="384" y="291"/>
                    </a:lnTo>
                    <a:lnTo>
                      <a:pt x="415" y="0"/>
                    </a:lnTo>
                    <a:lnTo>
                      <a:pt x="249" y="331"/>
                    </a:lnTo>
                    <a:lnTo>
                      <a:pt x="104" y="435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21391800">
                <a:off x="1265760" y="5072760"/>
                <a:ext cx="30600" cy="38880"/>
              </a:xfrm>
              <a:custGeom>
                <a:avLst/>
                <a:gdLst/>
                <a:ahLst/>
                <a:rect l="l" t="t" r="r" b="b"/>
                <a:pathLst>
                  <a:path w="859" h="1345">
                    <a:moveTo>
                      <a:pt x="383" y="558"/>
                    </a:moveTo>
                    <a:lnTo>
                      <a:pt x="83" y="993"/>
                    </a:lnTo>
                    <a:lnTo>
                      <a:pt x="0" y="1128"/>
                    </a:lnTo>
                    <a:lnTo>
                      <a:pt x="53" y="1345"/>
                    </a:lnTo>
                    <a:lnTo>
                      <a:pt x="124" y="1159"/>
                    </a:lnTo>
                    <a:lnTo>
                      <a:pt x="259" y="993"/>
                    </a:lnTo>
                    <a:lnTo>
                      <a:pt x="351" y="973"/>
                    </a:lnTo>
                    <a:lnTo>
                      <a:pt x="330" y="1097"/>
                    </a:lnTo>
                    <a:lnTo>
                      <a:pt x="518" y="1003"/>
                    </a:lnTo>
                    <a:lnTo>
                      <a:pt x="631" y="828"/>
                    </a:lnTo>
                    <a:lnTo>
                      <a:pt x="745" y="713"/>
                    </a:lnTo>
                    <a:lnTo>
                      <a:pt x="745" y="601"/>
                    </a:lnTo>
                    <a:lnTo>
                      <a:pt x="839" y="579"/>
                    </a:lnTo>
                    <a:lnTo>
                      <a:pt x="766" y="465"/>
                    </a:lnTo>
                    <a:lnTo>
                      <a:pt x="756" y="403"/>
                    </a:lnTo>
                    <a:lnTo>
                      <a:pt x="859" y="382"/>
                    </a:lnTo>
                    <a:lnTo>
                      <a:pt x="663" y="258"/>
                    </a:lnTo>
                    <a:lnTo>
                      <a:pt x="507" y="93"/>
                    </a:lnTo>
                    <a:lnTo>
                      <a:pt x="330" y="41"/>
                    </a:lnTo>
                    <a:lnTo>
                      <a:pt x="83" y="0"/>
                    </a:lnTo>
                    <a:lnTo>
                      <a:pt x="268" y="124"/>
                    </a:lnTo>
                    <a:lnTo>
                      <a:pt x="424" y="248"/>
                    </a:lnTo>
                    <a:lnTo>
                      <a:pt x="383" y="558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21391800">
                <a:off x="1279440" y="5072040"/>
                <a:ext cx="70560" cy="87120"/>
              </a:xfrm>
              <a:custGeom>
                <a:avLst/>
                <a:gdLst/>
                <a:ahLst/>
                <a:rect l="l" t="t" r="r" b="b"/>
                <a:pathLst>
                  <a:path w="1979" h="3013">
                    <a:moveTo>
                      <a:pt x="0" y="2964"/>
                    </a:moveTo>
                    <a:lnTo>
                      <a:pt x="1979" y="3013"/>
                    </a:lnTo>
                    <a:lnTo>
                      <a:pt x="1607" y="1902"/>
                    </a:lnTo>
                    <a:lnTo>
                      <a:pt x="989" y="864"/>
                    </a:lnTo>
                    <a:lnTo>
                      <a:pt x="1187" y="98"/>
                    </a:lnTo>
                    <a:lnTo>
                      <a:pt x="914" y="0"/>
                    </a:lnTo>
                    <a:lnTo>
                      <a:pt x="914" y="395"/>
                    </a:lnTo>
                    <a:lnTo>
                      <a:pt x="742" y="964"/>
                    </a:lnTo>
                    <a:lnTo>
                      <a:pt x="494" y="1532"/>
                    </a:lnTo>
                    <a:lnTo>
                      <a:pt x="692" y="1457"/>
                    </a:lnTo>
                    <a:lnTo>
                      <a:pt x="717" y="1753"/>
                    </a:lnTo>
                    <a:lnTo>
                      <a:pt x="742" y="2149"/>
                    </a:lnTo>
                    <a:lnTo>
                      <a:pt x="0" y="2964"/>
                    </a:lnTo>
                    <a:close/>
                  </a:path>
                </a:pathLst>
              </a:custGeom>
              <a:solidFill>
                <a:srgbClr val="78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21391800">
                <a:off x="1269360" y="503028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w="1068" h="1525">
                    <a:moveTo>
                      <a:pt x="885" y="31"/>
                    </a:moveTo>
                    <a:lnTo>
                      <a:pt x="891" y="195"/>
                    </a:lnTo>
                    <a:lnTo>
                      <a:pt x="922" y="316"/>
                    </a:lnTo>
                    <a:lnTo>
                      <a:pt x="946" y="518"/>
                    </a:lnTo>
                    <a:lnTo>
                      <a:pt x="903" y="817"/>
                    </a:lnTo>
                    <a:lnTo>
                      <a:pt x="841" y="945"/>
                    </a:lnTo>
                    <a:lnTo>
                      <a:pt x="780" y="859"/>
                    </a:lnTo>
                    <a:lnTo>
                      <a:pt x="811" y="682"/>
                    </a:lnTo>
                    <a:lnTo>
                      <a:pt x="830" y="444"/>
                    </a:lnTo>
                    <a:lnTo>
                      <a:pt x="787" y="432"/>
                    </a:lnTo>
                    <a:lnTo>
                      <a:pt x="732" y="712"/>
                    </a:lnTo>
                    <a:lnTo>
                      <a:pt x="573" y="712"/>
                    </a:lnTo>
                    <a:lnTo>
                      <a:pt x="255" y="859"/>
                    </a:lnTo>
                    <a:lnTo>
                      <a:pt x="121" y="927"/>
                    </a:lnTo>
                    <a:lnTo>
                      <a:pt x="0" y="1049"/>
                    </a:lnTo>
                    <a:lnTo>
                      <a:pt x="132" y="1030"/>
                    </a:lnTo>
                    <a:lnTo>
                      <a:pt x="224" y="933"/>
                    </a:lnTo>
                    <a:lnTo>
                      <a:pt x="469" y="822"/>
                    </a:lnTo>
                    <a:lnTo>
                      <a:pt x="616" y="780"/>
                    </a:lnTo>
                    <a:lnTo>
                      <a:pt x="684" y="841"/>
                    </a:lnTo>
                    <a:lnTo>
                      <a:pt x="776" y="1067"/>
                    </a:lnTo>
                    <a:lnTo>
                      <a:pt x="799" y="1281"/>
                    </a:lnTo>
                    <a:lnTo>
                      <a:pt x="530" y="1117"/>
                    </a:lnTo>
                    <a:lnTo>
                      <a:pt x="200" y="1073"/>
                    </a:lnTo>
                    <a:lnTo>
                      <a:pt x="37" y="1104"/>
                    </a:lnTo>
                    <a:lnTo>
                      <a:pt x="280" y="1134"/>
                    </a:lnTo>
                    <a:lnTo>
                      <a:pt x="488" y="1178"/>
                    </a:lnTo>
                    <a:lnTo>
                      <a:pt x="591" y="1250"/>
                    </a:lnTo>
                    <a:lnTo>
                      <a:pt x="861" y="1445"/>
                    </a:lnTo>
                    <a:lnTo>
                      <a:pt x="1068" y="1525"/>
                    </a:lnTo>
                    <a:lnTo>
                      <a:pt x="964" y="1348"/>
                    </a:lnTo>
                    <a:lnTo>
                      <a:pt x="841" y="1025"/>
                    </a:lnTo>
                    <a:lnTo>
                      <a:pt x="916" y="872"/>
                    </a:lnTo>
                    <a:lnTo>
                      <a:pt x="964" y="737"/>
                    </a:lnTo>
                    <a:lnTo>
                      <a:pt x="995" y="457"/>
                    </a:lnTo>
                    <a:lnTo>
                      <a:pt x="1007" y="238"/>
                    </a:lnTo>
                    <a:lnTo>
                      <a:pt x="946" y="0"/>
                    </a:lnTo>
                    <a:lnTo>
                      <a:pt x="885" y="31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21391800">
                <a:off x="1259280" y="5064840"/>
                <a:ext cx="43920" cy="14040"/>
              </a:xfrm>
              <a:custGeom>
                <a:avLst/>
                <a:gdLst/>
                <a:ahLst/>
                <a:rect l="l" t="t" r="r" b="b"/>
                <a:pathLst>
                  <a:path w="1234" h="488">
                    <a:moveTo>
                      <a:pt x="0" y="42"/>
                    </a:moveTo>
                    <a:lnTo>
                      <a:pt x="98" y="36"/>
                    </a:lnTo>
                    <a:lnTo>
                      <a:pt x="183" y="0"/>
                    </a:lnTo>
                    <a:lnTo>
                      <a:pt x="386" y="42"/>
                    </a:lnTo>
                    <a:lnTo>
                      <a:pt x="531" y="48"/>
                    </a:lnTo>
                    <a:lnTo>
                      <a:pt x="697" y="110"/>
                    </a:lnTo>
                    <a:lnTo>
                      <a:pt x="800" y="103"/>
                    </a:lnTo>
                    <a:lnTo>
                      <a:pt x="880" y="238"/>
                    </a:lnTo>
                    <a:lnTo>
                      <a:pt x="1234" y="488"/>
                    </a:lnTo>
                    <a:lnTo>
                      <a:pt x="1057" y="403"/>
                    </a:lnTo>
                    <a:lnTo>
                      <a:pt x="751" y="195"/>
                    </a:lnTo>
                    <a:lnTo>
                      <a:pt x="562" y="171"/>
                    </a:lnTo>
                    <a:lnTo>
                      <a:pt x="446" y="134"/>
                    </a:lnTo>
                    <a:lnTo>
                      <a:pt x="276" y="103"/>
                    </a:lnTo>
                    <a:lnTo>
                      <a:pt x="189" y="67"/>
                    </a:lnTo>
                    <a:lnTo>
                      <a:pt x="61" y="11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21391800">
                <a:off x="1235880" y="510696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440" h="1968">
                    <a:moveTo>
                      <a:pt x="190" y="61"/>
                    </a:moveTo>
                    <a:lnTo>
                      <a:pt x="61" y="568"/>
                    </a:lnTo>
                    <a:lnTo>
                      <a:pt x="92" y="636"/>
                    </a:lnTo>
                    <a:lnTo>
                      <a:pt x="264" y="740"/>
                    </a:lnTo>
                    <a:lnTo>
                      <a:pt x="159" y="746"/>
                    </a:lnTo>
                    <a:lnTo>
                      <a:pt x="92" y="849"/>
                    </a:lnTo>
                    <a:lnTo>
                      <a:pt x="220" y="953"/>
                    </a:lnTo>
                    <a:lnTo>
                      <a:pt x="281" y="1021"/>
                    </a:lnTo>
                    <a:lnTo>
                      <a:pt x="196" y="1093"/>
                    </a:lnTo>
                    <a:lnTo>
                      <a:pt x="208" y="1179"/>
                    </a:lnTo>
                    <a:lnTo>
                      <a:pt x="343" y="1301"/>
                    </a:lnTo>
                    <a:lnTo>
                      <a:pt x="281" y="1362"/>
                    </a:lnTo>
                    <a:lnTo>
                      <a:pt x="275" y="1484"/>
                    </a:lnTo>
                    <a:lnTo>
                      <a:pt x="397" y="1588"/>
                    </a:lnTo>
                    <a:lnTo>
                      <a:pt x="356" y="1717"/>
                    </a:lnTo>
                    <a:lnTo>
                      <a:pt x="318" y="1784"/>
                    </a:lnTo>
                    <a:lnTo>
                      <a:pt x="440" y="1968"/>
                    </a:lnTo>
                    <a:lnTo>
                      <a:pt x="227" y="1839"/>
                    </a:lnTo>
                    <a:lnTo>
                      <a:pt x="190" y="1649"/>
                    </a:lnTo>
                    <a:lnTo>
                      <a:pt x="165" y="1515"/>
                    </a:lnTo>
                    <a:lnTo>
                      <a:pt x="251" y="1326"/>
                    </a:lnTo>
                    <a:lnTo>
                      <a:pt x="129" y="1198"/>
                    </a:lnTo>
                    <a:lnTo>
                      <a:pt x="129" y="1131"/>
                    </a:lnTo>
                    <a:lnTo>
                      <a:pt x="184" y="1045"/>
                    </a:lnTo>
                    <a:lnTo>
                      <a:pt x="74" y="923"/>
                    </a:lnTo>
                    <a:lnTo>
                      <a:pt x="37" y="844"/>
                    </a:lnTo>
                    <a:lnTo>
                      <a:pt x="98" y="740"/>
                    </a:lnTo>
                    <a:lnTo>
                      <a:pt x="0" y="648"/>
                    </a:lnTo>
                    <a:lnTo>
                      <a:pt x="7" y="525"/>
                    </a:lnTo>
                    <a:lnTo>
                      <a:pt x="68" y="239"/>
                    </a:lnTo>
                    <a:lnTo>
                      <a:pt x="141" y="0"/>
                    </a:lnTo>
                    <a:lnTo>
                      <a:pt x="19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21391800">
                <a:off x="1224360" y="5037480"/>
                <a:ext cx="30600" cy="7920"/>
              </a:xfrm>
              <a:custGeom>
                <a:avLst/>
                <a:gdLst/>
                <a:ahLst/>
                <a:rect l="l" t="t" r="r" b="b"/>
                <a:pathLst>
                  <a:path w="864" h="274">
                    <a:moveTo>
                      <a:pt x="0" y="0"/>
                    </a:moveTo>
                    <a:lnTo>
                      <a:pt x="463" y="95"/>
                    </a:lnTo>
                    <a:lnTo>
                      <a:pt x="543" y="167"/>
                    </a:lnTo>
                    <a:lnTo>
                      <a:pt x="661" y="147"/>
                    </a:lnTo>
                    <a:lnTo>
                      <a:pt x="745" y="177"/>
                    </a:lnTo>
                    <a:lnTo>
                      <a:pt x="864" y="187"/>
                    </a:lnTo>
                    <a:lnTo>
                      <a:pt x="670" y="262"/>
                    </a:lnTo>
                    <a:lnTo>
                      <a:pt x="567" y="262"/>
                    </a:lnTo>
                    <a:lnTo>
                      <a:pt x="505" y="274"/>
                    </a:lnTo>
                    <a:lnTo>
                      <a:pt x="317" y="217"/>
                    </a:lnTo>
                    <a:lnTo>
                      <a:pt x="199" y="158"/>
                    </a:lnTo>
                    <a:lnTo>
                      <a:pt x="89" y="180"/>
                    </a:lnTo>
                    <a:lnTo>
                      <a:pt x="67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21391800">
                <a:off x="1227600" y="5041080"/>
                <a:ext cx="28080" cy="9720"/>
              </a:xfrm>
              <a:custGeom>
                <a:avLst/>
                <a:gdLst/>
                <a:ahLst/>
                <a:rect l="l" t="t" r="r" b="b"/>
                <a:pathLst>
                  <a:path w="788" h="335">
                    <a:moveTo>
                      <a:pt x="0" y="20"/>
                    </a:moveTo>
                    <a:lnTo>
                      <a:pt x="286" y="71"/>
                    </a:lnTo>
                    <a:lnTo>
                      <a:pt x="397" y="144"/>
                    </a:lnTo>
                    <a:lnTo>
                      <a:pt x="661" y="116"/>
                    </a:lnTo>
                    <a:lnTo>
                      <a:pt x="581" y="203"/>
                    </a:lnTo>
                    <a:lnTo>
                      <a:pt x="492" y="255"/>
                    </a:lnTo>
                    <a:lnTo>
                      <a:pt x="390" y="225"/>
                    </a:lnTo>
                    <a:lnTo>
                      <a:pt x="258" y="248"/>
                    </a:lnTo>
                    <a:lnTo>
                      <a:pt x="153" y="149"/>
                    </a:lnTo>
                    <a:lnTo>
                      <a:pt x="48" y="0"/>
                    </a:lnTo>
                    <a:lnTo>
                      <a:pt x="0" y="64"/>
                    </a:lnTo>
                    <a:lnTo>
                      <a:pt x="154" y="248"/>
                    </a:lnTo>
                    <a:lnTo>
                      <a:pt x="279" y="328"/>
                    </a:lnTo>
                    <a:lnTo>
                      <a:pt x="470" y="335"/>
                    </a:lnTo>
                    <a:lnTo>
                      <a:pt x="610" y="248"/>
                    </a:lnTo>
                    <a:lnTo>
                      <a:pt x="788" y="51"/>
                    </a:lnTo>
                    <a:lnTo>
                      <a:pt x="581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1391800">
                <a:off x="1213200" y="499752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648" h="273">
                    <a:moveTo>
                      <a:pt x="173" y="132"/>
                    </a:moveTo>
                    <a:lnTo>
                      <a:pt x="85" y="127"/>
                    </a:lnTo>
                    <a:lnTo>
                      <a:pt x="0" y="41"/>
                    </a:lnTo>
                    <a:lnTo>
                      <a:pt x="130" y="45"/>
                    </a:lnTo>
                    <a:lnTo>
                      <a:pt x="260" y="0"/>
                    </a:lnTo>
                    <a:lnTo>
                      <a:pt x="221" y="35"/>
                    </a:lnTo>
                    <a:lnTo>
                      <a:pt x="234" y="61"/>
                    </a:lnTo>
                    <a:lnTo>
                      <a:pt x="326" y="58"/>
                    </a:lnTo>
                    <a:lnTo>
                      <a:pt x="424" y="67"/>
                    </a:lnTo>
                    <a:lnTo>
                      <a:pt x="500" y="96"/>
                    </a:lnTo>
                    <a:lnTo>
                      <a:pt x="556" y="130"/>
                    </a:lnTo>
                    <a:lnTo>
                      <a:pt x="617" y="178"/>
                    </a:lnTo>
                    <a:lnTo>
                      <a:pt x="648" y="245"/>
                    </a:lnTo>
                    <a:lnTo>
                      <a:pt x="631" y="257"/>
                    </a:lnTo>
                    <a:lnTo>
                      <a:pt x="579" y="199"/>
                    </a:lnTo>
                    <a:lnTo>
                      <a:pt x="548" y="163"/>
                    </a:lnTo>
                    <a:lnTo>
                      <a:pt x="509" y="149"/>
                    </a:lnTo>
                    <a:lnTo>
                      <a:pt x="495" y="188"/>
                    </a:lnTo>
                    <a:lnTo>
                      <a:pt x="472" y="234"/>
                    </a:lnTo>
                    <a:lnTo>
                      <a:pt x="435" y="262"/>
                    </a:lnTo>
                    <a:lnTo>
                      <a:pt x="364" y="273"/>
                    </a:lnTo>
                    <a:lnTo>
                      <a:pt x="314" y="255"/>
                    </a:lnTo>
                    <a:lnTo>
                      <a:pt x="352" y="237"/>
                    </a:lnTo>
                    <a:lnTo>
                      <a:pt x="410" y="234"/>
                    </a:lnTo>
                    <a:lnTo>
                      <a:pt x="441" y="209"/>
                    </a:lnTo>
                    <a:lnTo>
                      <a:pt x="454" y="156"/>
                    </a:lnTo>
                    <a:lnTo>
                      <a:pt x="444" y="132"/>
                    </a:lnTo>
                    <a:lnTo>
                      <a:pt x="424" y="178"/>
                    </a:lnTo>
                    <a:lnTo>
                      <a:pt x="403" y="199"/>
                    </a:lnTo>
                    <a:lnTo>
                      <a:pt x="370" y="204"/>
                    </a:lnTo>
                    <a:lnTo>
                      <a:pt x="326" y="186"/>
                    </a:lnTo>
                    <a:lnTo>
                      <a:pt x="318" y="163"/>
                    </a:lnTo>
                    <a:lnTo>
                      <a:pt x="357" y="165"/>
                    </a:lnTo>
                    <a:lnTo>
                      <a:pt x="374" y="142"/>
                    </a:lnTo>
                    <a:lnTo>
                      <a:pt x="378" y="115"/>
                    </a:lnTo>
                    <a:lnTo>
                      <a:pt x="334" y="112"/>
                    </a:lnTo>
                    <a:lnTo>
                      <a:pt x="303" y="125"/>
                    </a:lnTo>
                    <a:lnTo>
                      <a:pt x="288" y="171"/>
                    </a:lnTo>
                    <a:lnTo>
                      <a:pt x="298" y="211"/>
                    </a:lnTo>
                    <a:lnTo>
                      <a:pt x="326" y="242"/>
                    </a:lnTo>
                    <a:lnTo>
                      <a:pt x="309" y="252"/>
                    </a:lnTo>
                    <a:lnTo>
                      <a:pt x="275" y="224"/>
                    </a:lnTo>
                    <a:lnTo>
                      <a:pt x="260" y="194"/>
                    </a:lnTo>
                    <a:lnTo>
                      <a:pt x="250" y="161"/>
                    </a:lnTo>
                    <a:lnTo>
                      <a:pt x="245" y="115"/>
                    </a:lnTo>
                    <a:lnTo>
                      <a:pt x="206" y="110"/>
                    </a:lnTo>
                    <a:lnTo>
                      <a:pt x="173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21391800">
                <a:off x="1217520" y="4996440"/>
                <a:ext cx="24120" cy="10440"/>
              </a:xfrm>
              <a:custGeom>
                <a:avLst/>
                <a:gdLst/>
                <a:ahLst/>
                <a:rect l="l" t="t" r="r" b="b"/>
                <a:pathLst>
                  <a:path w="685" h="367">
                    <a:moveTo>
                      <a:pt x="0" y="81"/>
                    </a:moveTo>
                    <a:lnTo>
                      <a:pt x="61" y="6"/>
                    </a:lnTo>
                    <a:lnTo>
                      <a:pt x="207" y="2"/>
                    </a:lnTo>
                    <a:lnTo>
                      <a:pt x="381" y="0"/>
                    </a:lnTo>
                    <a:lnTo>
                      <a:pt x="486" y="12"/>
                    </a:lnTo>
                    <a:lnTo>
                      <a:pt x="546" y="52"/>
                    </a:lnTo>
                    <a:lnTo>
                      <a:pt x="559" y="102"/>
                    </a:lnTo>
                    <a:lnTo>
                      <a:pt x="611" y="175"/>
                    </a:lnTo>
                    <a:lnTo>
                      <a:pt x="685" y="197"/>
                    </a:lnTo>
                    <a:lnTo>
                      <a:pt x="663" y="279"/>
                    </a:lnTo>
                    <a:lnTo>
                      <a:pt x="582" y="367"/>
                    </a:lnTo>
                    <a:lnTo>
                      <a:pt x="570" y="273"/>
                    </a:lnTo>
                    <a:lnTo>
                      <a:pt x="540" y="139"/>
                    </a:lnTo>
                    <a:lnTo>
                      <a:pt x="465" y="63"/>
                    </a:lnTo>
                    <a:lnTo>
                      <a:pt x="396" y="37"/>
                    </a:lnTo>
                    <a:lnTo>
                      <a:pt x="260" y="31"/>
                    </a:lnTo>
                    <a:lnTo>
                      <a:pt x="138" y="31"/>
                    </a:lnTo>
                    <a:lnTo>
                      <a:pt x="71" y="58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21391800">
                <a:off x="1211040" y="4989960"/>
                <a:ext cx="37440" cy="10440"/>
              </a:xfrm>
              <a:custGeom>
                <a:avLst/>
                <a:gdLst/>
                <a:ahLst/>
                <a:rect l="l" t="t" r="r" b="b"/>
                <a:pathLst>
                  <a:path w="1059" h="369">
                    <a:moveTo>
                      <a:pt x="0" y="33"/>
                    </a:moveTo>
                    <a:lnTo>
                      <a:pt x="100" y="77"/>
                    </a:lnTo>
                    <a:lnTo>
                      <a:pt x="157" y="62"/>
                    </a:lnTo>
                    <a:lnTo>
                      <a:pt x="293" y="64"/>
                    </a:lnTo>
                    <a:lnTo>
                      <a:pt x="371" y="79"/>
                    </a:lnTo>
                    <a:lnTo>
                      <a:pt x="440" y="108"/>
                    </a:lnTo>
                    <a:lnTo>
                      <a:pt x="504" y="146"/>
                    </a:lnTo>
                    <a:lnTo>
                      <a:pt x="599" y="163"/>
                    </a:lnTo>
                    <a:lnTo>
                      <a:pt x="691" y="209"/>
                    </a:lnTo>
                    <a:lnTo>
                      <a:pt x="788" y="240"/>
                    </a:lnTo>
                    <a:lnTo>
                      <a:pt x="847" y="278"/>
                    </a:lnTo>
                    <a:lnTo>
                      <a:pt x="914" y="345"/>
                    </a:lnTo>
                    <a:lnTo>
                      <a:pt x="971" y="363"/>
                    </a:lnTo>
                    <a:lnTo>
                      <a:pt x="1059" y="369"/>
                    </a:lnTo>
                    <a:lnTo>
                      <a:pt x="1028" y="255"/>
                    </a:lnTo>
                    <a:lnTo>
                      <a:pt x="1021" y="232"/>
                    </a:lnTo>
                    <a:lnTo>
                      <a:pt x="994" y="232"/>
                    </a:lnTo>
                    <a:lnTo>
                      <a:pt x="946" y="205"/>
                    </a:lnTo>
                    <a:lnTo>
                      <a:pt x="826" y="120"/>
                    </a:lnTo>
                    <a:lnTo>
                      <a:pt x="734" y="71"/>
                    </a:lnTo>
                    <a:lnTo>
                      <a:pt x="581" y="62"/>
                    </a:lnTo>
                    <a:lnTo>
                      <a:pt x="632" y="36"/>
                    </a:lnTo>
                    <a:lnTo>
                      <a:pt x="615" y="18"/>
                    </a:lnTo>
                    <a:lnTo>
                      <a:pt x="517" y="0"/>
                    </a:lnTo>
                    <a:lnTo>
                      <a:pt x="313" y="10"/>
                    </a:lnTo>
                    <a:lnTo>
                      <a:pt x="169" y="2"/>
                    </a:lnTo>
                    <a:lnTo>
                      <a:pt x="182" y="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21391800">
                <a:off x="1217160" y="500040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565" h="279">
                    <a:moveTo>
                      <a:pt x="514" y="132"/>
                    </a:moveTo>
                    <a:lnTo>
                      <a:pt x="499" y="181"/>
                    </a:lnTo>
                    <a:lnTo>
                      <a:pt x="422" y="199"/>
                    </a:lnTo>
                    <a:lnTo>
                      <a:pt x="263" y="191"/>
                    </a:lnTo>
                    <a:lnTo>
                      <a:pt x="167" y="160"/>
                    </a:lnTo>
                    <a:lnTo>
                      <a:pt x="110" y="81"/>
                    </a:lnTo>
                    <a:lnTo>
                      <a:pt x="68" y="0"/>
                    </a:lnTo>
                    <a:lnTo>
                      <a:pt x="0" y="9"/>
                    </a:lnTo>
                    <a:lnTo>
                      <a:pt x="26" y="99"/>
                    </a:lnTo>
                    <a:lnTo>
                      <a:pt x="70" y="170"/>
                    </a:lnTo>
                    <a:lnTo>
                      <a:pt x="139" y="229"/>
                    </a:lnTo>
                    <a:lnTo>
                      <a:pt x="240" y="278"/>
                    </a:lnTo>
                    <a:lnTo>
                      <a:pt x="343" y="279"/>
                    </a:lnTo>
                    <a:lnTo>
                      <a:pt x="484" y="258"/>
                    </a:lnTo>
                    <a:lnTo>
                      <a:pt x="353" y="242"/>
                    </a:lnTo>
                    <a:lnTo>
                      <a:pt x="266" y="219"/>
                    </a:lnTo>
                    <a:lnTo>
                      <a:pt x="263" y="204"/>
                    </a:lnTo>
                    <a:lnTo>
                      <a:pt x="384" y="212"/>
                    </a:lnTo>
                    <a:lnTo>
                      <a:pt x="478" y="202"/>
                    </a:lnTo>
                    <a:lnTo>
                      <a:pt x="519" y="224"/>
                    </a:lnTo>
                    <a:lnTo>
                      <a:pt x="565" y="188"/>
                    </a:lnTo>
                    <a:lnTo>
                      <a:pt x="565" y="147"/>
                    </a:lnTo>
                    <a:lnTo>
                      <a:pt x="496" y="78"/>
                    </a:lnTo>
                    <a:lnTo>
                      <a:pt x="514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21391800">
                <a:off x="1258920" y="500148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649" h="409">
                    <a:moveTo>
                      <a:pt x="47" y="215"/>
                    </a:moveTo>
                    <a:lnTo>
                      <a:pt x="71" y="164"/>
                    </a:lnTo>
                    <a:lnTo>
                      <a:pt x="128" y="133"/>
                    </a:lnTo>
                    <a:lnTo>
                      <a:pt x="210" y="126"/>
                    </a:lnTo>
                    <a:lnTo>
                      <a:pt x="210" y="166"/>
                    </a:lnTo>
                    <a:lnTo>
                      <a:pt x="163" y="194"/>
                    </a:lnTo>
                    <a:lnTo>
                      <a:pt x="179" y="218"/>
                    </a:lnTo>
                    <a:lnTo>
                      <a:pt x="233" y="221"/>
                    </a:lnTo>
                    <a:lnTo>
                      <a:pt x="275" y="197"/>
                    </a:lnTo>
                    <a:lnTo>
                      <a:pt x="281" y="156"/>
                    </a:lnTo>
                    <a:lnTo>
                      <a:pt x="281" y="126"/>
                    </a:lnTo>
                    <a:lnTo>
                      <a:pt x="322" y="142"/>
                    </a:lnTo>
                    <a:lnTo>
                      <a:pt x="322" y="190"/>
                    </a:lnTo>
                    <a:lnTo>
                      <a:pt x="301" y="239"/>
                    </a:lnTo>
                    <a:lnTo>
                      <a:pt x="271" y="262"/>
                    </a:lnTo>
                    <a:lnTo>
                      <a:pt x="214" y="279"/>
                    </a:lnTo>
                    <a:lnTo>
                      <a:pt x="248" y="296"/>
                    </a:lnTo>
                    <a:lnTo>
                      <a:pt x="301" y="279"/>
                    </a:lnTo>
                    <a:lnTo>
                      <a:pt x="336" y="248"/>
                    </a:lnTo>
                    <a:lnTo>
                      <a:pt x="362" y="201"/>
                    </a:lnTo>
                    <a:lnTo>
                      <a:pt x="355" y="119"/>
                    </a:lnTo>
                    <a:lnTo>
                      <a:pt x="416" y="149"/>
                    </a:lnTo>
                    <a:lnTo>
                      <a:pt x="458" y="197"/>
                    </a:lnTo>
                    <a:lnTo>
                      <a:pt x="454" y="258"/>
                    </a:lnTo>
                    <a:lnTo>
                      <a:pt x="402" y="293"/>
                    </a:lnTo>
                    <a:lnTo>
                      <a:pt x="362" y="319"/>
                    </a:lnTo>
                    <a:lnTo>
                      <a:pt x="294" y="333"/>
                    </a:lnTo>
                    <a:lnTo>
                      <a:pt x="383" y="331"/>
                    </a:lnTo>
                    <a:lnTo>
                      <a:pt x="471" y="282"/>
                    </a:lnTo>
                    <a:lnTo>
                      <a:pt x="454" y="326"/>
                    </a:lnTo>
                    <a:lnTo>
                      <a:pt x="393" y="354"/>
                    </a:lnTo>
                    <a:lnTo>
                      <a:pt x="292" y="360"/>
                    </a:lnTo>
                    <a:lnTo>
                      <a:pt x="203" y="357"/>
                    </a:lnTo>
                    <a:lnTo>
                      <a:pt x="336" y="409"/>
                    </a:lnTo>
                    <a:lnTo>
                      <a:pt x="440" y="397"/>
                    </a:lnTo>
                    <a:lnTo>
                      <a:pt x="494" y="343"/>
                    </a:lnTo>
                    <a:lnTo>
                      <a:pt x="546" y="310"/>
                    </a:lnTo>
                    <a:lnTo>
                      <a:pt x="604" y="326"/>
                    </a:lnTo>
                    <a:lnTo>
                      <a:pt x="649" y="303"/>
                    </a:lnTo>
                    <a:lnTo>
                      <a:pt x="584" y="303"/>
                    </a:lnTo>
                    <a:lnTo>
                      <a:pt x="536" y="275"/>
                    </a:lnTo>
                    <a:lnTo>
                      <a:pt x="501" y="166"/>
                    </a:lnTo>
                    <a:lnTo>
                      <a:pt x="407" y="105"/>
                    </a:lnTo>
                    <a:lnTo>
                      <a:pt x="355" y="88"/>
                    </a:lnTo>
                    <a:lnTo>
                      <a:pt x="238" y="88"/>
                    </a:lnTo>
                    <a:lnTo>
                      <a:pt x="156" y="88"/>
                    </a:lnTo>
                    <a:lnTo>
                      <a:pt x="84" y="112"/>
                    </a:lnTo>
                    <a:lnTo>
                      <a:pt x="165" y="55"/>
                    </a:lnTo>
                    <a:lnTo>
                      <a:pt x="317" y="34"/>
                    </a:lnTo>
                    <a:lnTo>
                      <a:pt x="440" y="69"/>
                    </a:lnTo>
                    <a:lnTo>
                      <a:pt x="525" y="135"/>
                    </a:lnTo>
                    <a:lnTo>
                      <a:pt x="546" y="244"/>
                    </a:lnTo>
                    <a:lnTo>
                      <a:pt x="553" y="180"/>
                    </a:lnTo>
                    <a:lnTo>
                      <a:pt x="546" y="95"/>
                    </a:lnTo>
                    <a:lnTo>
                      <a:pt x="409" y="20"/>
                    </a:lnTo>
                    <a:lnTo>
                      <a:pt x="308" y="0"/>
                    </a:lnTo>
                    <a:lnTo>
                      <a:pt x="189" y="3"/>
                    </a:lnTo>
                    <a:lnTo>
                      <a:pt x="84" y="57"/>
                    </a:lnTo>
                    <a:lnTo>
                      <a:pt x="43" y="119"/>
                    </a:lnTo>
                    <a:lnTo>
                      <a:pt x="0" y="166"/>
                    </a:lnTo>
                    <a:lnTo>
                      <a:pt x="5" y="211"/>
                    </a:lnTo>
                    <a:lnTo>
                      <a:pt x="61" y="269"/>
                    </a:lnTo>
                    <a:lnTo>
                      <a:pt x="4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21391800">
                <a:off x="1262520" y="5005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77" h="180">
                    <a:moveTo>
                      <a:pt x="21" y="38"/>
                    </a:moveTo>
                    <a:lnTo>
                      <a:pt x="21" y="74"/>
                    </a:lnTo>
                    <a:lnTo>
                      <a:pt x="41" y="130"/>
                    </a:lnTo>
                    <a:lnTo>
                      <a:pt x="71" y="160"/>
                    </a:lnTo>
                    <a:lnTo>
                      <a:pt x="127" y="180"/>
                    </a:lnTo>
                    <a:lnTo>
                      <a:pt x="177" y="180"/>
                    </a:lnTo>
                    <a:lnTo>
                      <a:pt x="99" y="147"/>
                    </a:lnTo>
                    <a:lnTo>
                      <a:pt x="71" y="95"/>
                    </a:lnTo>
                    <a:lnTo>
                      <a:pt x="59" y="68"/>
                    </a:lnTo>
                    <a:lnTo>
                      <a:pt x="85" y="50"/>
                    </a:lnTo>
                    <a:lnTo>
                      <a:pt x="85" y="0"/>
                    </a:lnTo>
                    <a:lnTo>
                      <a:pt x="0" y="17"/>
                    </a:lnTo>
                    <a:lnTo>
                      <a:pt x="21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21391800">
                <a:off x="1263240" y="4996440"/>
                <a:ext cx="24480" cy="8280"/>
              </a:xfrm>
              <a:custGeom>
                <a:avLst/>
                <a:gdLst/>
                <a:ahLst/>
                <a:rect l="l" t="t" r="r" b="b"/>
                <a:pathLst>
                  <a:path w="690" h="293">
                    <a:moveTo>
                      <a:pt x="48" y="136"/>
                    </a:moveTo>
                    <a:lnTo>
                      <a:pt x="213" y="136"/>
                    </a:lnTo>
                    <a:lnTo>
                      <a:pt x="404" y="158"/>
                    </a:lnTo>
                    <a:lnTo>
                      <a:pt x="540" y="150"/>
                    </a:lnTo>
                    <a:lnTo>
                      <a:pt x="581" y="191"/>
                    </a:lnTo>
                    <a:lnTo>
                      <a:pt x="595" y="233"/>
                    </a:lnTo>
                    <a:lnTo>
                      <a:pt x="608" y="293"/>
                    </a:lnTo>
                    <a:lnTo>
                      <a:pt x="690" y="191"/>
                    </a:lnTo>
                    <a:lnTo>
                      <a:pt x="676" y="120"/>
                    </a:lnTo>
                    <a:lnTo>
                      <a:pt x="612" y="103"/>
                    </a:lnTo>
                    <a:lnTo>
                      <a:pt x="554" y="25"/>
                    </a:lnTo>
                    <a:lnTo>
                      <a:pt x="458" y="0"/>
                    </a:lnTo>
                    <a:lnTo>
                      <a:pt x="400" y="21"/>
                    </a:lnTo>
                    <a:lnTo>
                      <a:pt x="268" y="31"/>
                    </a:lnTo>
                    <a:lnTo>
                      <a:pt x="163" y="52"/>
                    </a:lnTo>
                    <a:lnTo>
                      <a:pt x="95" y="66"/>
                    </a:lnTo>
                    <a:lnTo>
                      <a:pt x="0" y="136"/>
                    </a:lnTo>
                    <a:lnTo>
                      <a:pt x="48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21391800">
                <a:off x="1242720" y="5033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112" h="245">
                    <a:moveTo>
                      <a:pt x="42" y="245"/>
                    </a:moveTo>
                    <a:lnTo>
                      <a:pt x="74" y="145"/>
                    </a:lnTo>
                    <a:lnTo>
                      <a:pt x="112" y="53"/>
                    </a:lnTo>
                    <a:lnTo>
                      <a:pt x="112" y="0"/>
                    </a:lnTo>
                    <a:lnTo>
                      <a:pt x="34" y="30"/>
                    </a:lnTo>
                    <a:lnTo>
                      <a:pt x="0" y="186"/>
                    </a:lnTo>
                    <a:lnTo>
                      <a:pt x="42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21391800">
                <a:off x="1226160" y="5022720"/>
                <a:ext cx="19800" cy="9720"/>
              </a:xfrm>
              <a:custGeom>
                <a:avLst/>
                <a:gdLst/>
                <a:ahLst/>
                <a:rect l="l" t="t" r="r" b="b"/>
                <a:pathLst>
                  <a:path w="560" h="340">
                    <a:moveTo>
                      <a:pt x="542" y="297"/>
                    </a:moveTo>
                    <a:lnTo>
                      <a:pt x="485" y="241"/>
                    </a:lnTo>
                    <a:lnTo>
                      <a:pt x="410" y="228"/>
                    </a:lnTo>
                    <a:lnTo>
                      <a:pt x="369" y="237"/>
                    </a:lnTo>
                    <a:lnTo>
                      <a:pt x="343" y="250"/>
                    </a:lnTo>
                    <a:lnTo>
                      <a:pt x="334" y="265"/>
                    </a:lnTo>
                    <a:lnTo>
                      <a:pt x="357" y="278"/>
                    </a:lnTo>
                    <a:lnTo>
                      <a:pt x="461" y="278"/>
                    </a:lnTo>
                    <a:lnTo>
                      <a:pt x="393" y="302"/>
                    </a:lnTo>
                    <a:lnTo>
                      <a:pt x="305" y="289"/>
                    </a:lnTo>
                    <a:lnTo>
                      <a:pt x="248" y="213"/>
                    </a:lnTo>
                    <a:lnTo>
                      <a:pt x="236" y="149"/>
                    </a:lnTo>
                    <a:lnTo>
                      <a:pt x="236" y="68"/>
                    </a:lnTo>
                    <a:lnTo>
                      <a:pt x="300" y="0"/>
                    </a:lnTo>
                    <a:lnTo>
                      <a:pt x="224" y="44"/>
                    </a:lnTo>
                    <a:lnTo>
                      <a:pt x="143" y="95"/>
                    </a:lnTo>
                    <a:lnTo>
                      <a:pt x="0" y="181"/>
                    </a:lnTo>
                    <a:lnTo>
                      <a:pt x="155" y="160"/>
                    </a:lnTo>
                    <a:lnTo>
                      <a:pt x="184" y="225"/>
                    </a:lnTo>
                    <a:lnTo>
                      <a:pt x="216" y="268"/>
                    </a:lnTo>
                    <a:lnTo>
                      <a:pt x="271" y="325"/>
                    </a:lnTo>
                    <a:lnTo>
                      <a:pt x="373" y="340"/>
                    </a:lnTo>
                    <a:lnTo>
                      <a:pt x="458" y="321"/>
                    </a:lnTo>
                    <a:lnTo>
                      <a:pt x="514" y="305"/>
                    </a:lnTo>
                    <a:lnTo>
                      <a:pt x="560" y="333"/>
                    </a:lnTo>
                    <a:lnTo>
                      <a:pt x="54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21391800">
                <a:off x="1242720" y="5001480"/>
                <a:ext cx="22680" cy="32400"/>
              </a:xfrm>
              <a:custGeom>
                <a:avLst/>
                <a:gdLst/>
                <a:ahLst/>
                <a:rect l="l" t="t" r="r" b="b"/>
                <a:pathLst>
                  <a:path w="641" h="1122">
                    <a:moveTo>
                      <a:pt x="517" y="77"/>
                    </a:moveTo>
                    <a:lnTo>
                      <a:pt x="425" y="177"/>
                    </a:lnTo>
                    <a:lnTo>
                      <a:pt x="380" y="233"/>
                    </a:lnTo>
                    <a:lnTo>
                      <a:pt x="360" y="341"/>
                    </a:lnTo>
                    <a:lnTo>
                      <a:pt x="372" y="499"/>
                    </a:lnTo>
                    <a:lnTo>
                      <a:pt x="336" y="703"/>
                    </a:lnTo>
                    <a:lnTo>
                      <a:pt x="350" y="806"/>
                    </a:lnTo>
                    <a:lnTo>
                      <a:pt x="352" y="952"/>
                    </a:lnTo>
                    <a:lnTo>
                      <a:pt x="312" y="1008"/>
                    </a:lnTo>
                    <a:lnTo>
                      <a:pt x="204" y="1042"/>
                    </a:lnTo>
                    <a:lnTo>
                      <a:pt x="124" y="1053"/>
                    </a:lnTo>
                    <a:lnTo>
                      <a:pt x="44" y="1045"/>
                    </a:lnTo>
                    <a:lnTo>
                      <a:pt x="79" y="1072"/>
                    </a:lnTo>
                    <a:lnTo>
                      <a:pt x="0" y="1122"/>
                    </a:lnTo>
                    <a:lnTo>
                      <a:pt x="63" y="1119"/>
                    </a:lnTo>
                    <a:lnTo>
                      <a:pt x="130" y="1108"/>
                    </a:lnTo>
                    <a:lnTo>
                      <a:pt x="208" y="1088"/>
                    </a:lnTo>
                    <a:lnTo>
                      <a:pt x="329" y="1099"/>
                    </a:lnTo>
                    <a:lnTo>
                      <a:pt x="371" y="1070"/>
                    </a:lnTo>
                    <a:lnTo>
                      <a:pt x="360" y="1039"/>
                    </a:lnTo>
                    <a:lnTo>
                      <a:pt x="234" y="1069"/>
                    </a:lnTo>
                    <a:lnTo>
                      <a:pt x="357" y="1011"/>
                    </a:lnTo>
                    <a:lnTo>
                      <a:pt x="399" y="1064"/>
                    </a:lnTo>
                    <a:lnTo>
                      <a:pt x="383" y="1113"/>
                    </a:lnTo>
                    <a:lnTo>
                      <a:pt x="444" y="1042"/>
                    </a:lnTo>
                    <a:lnTo>
                      <a:pt x="452" y="955"/>
                    </a:lnTo>
                    <a:lnTo>
                      <a:pt x="434" y="882"/>
                    </a:lnTo>
                    <a:lnTo>
                      <a:pt x="409" y="655"/>
                    </a:lnTo>
                    <a:lnTo>
                      <a:pt x="433" y="470"/>
                    </a:lnTo>
                    <a:lnTo>
                      <a:pt x="433" y="282"/>
                    </a:lnTo>
                    <a:lnTo>
                      <a:pt x="468" y="173"/>
                    </a:lnTo>
                    <a:lnTo>
                      <a:pt x="641" y="0"/>
                    </a:lnTo>
                    <a:lnTo>
                      <a:pt x="51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21391800">
                <a:off x="1222920" y="500112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168" h="130">
                    <a:moveTo>
                      <a:pt x="23" y="30"/>
                    </a:moveTo>
                    <a:lnTo>
                      <a:pt x="35" y="62"/>
                    </a:lnTo>
                    <a:lnTo>
                      <a:pt x="62" y="83"/>
                    </a:lnTo>
                    <a:lnTo>
                      <a:pt x="80" y="90"/>
                    </a:lnTo>
                    <a:lnTo>
                      <a:pt x="124" y="95"/>
                    </a:lnTo>
                    <a:lnTo>
                      <a:pt x="168" y="85"/>
                    </a:lnTo>
                    <a:lnTo>
                      <a:pt x="155" y="109"/>
                    </a:lnTo>
                    <a:lnTo>
                      <a:pt x="93" y="130"/>
                    </a:lnTo>
                    <a:lnTo>
                      <a:pt x="58" y="124"/>
                    </a:lnTo>
                    <a:lnTo>
                      <a:pt x="21" y="99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21391800">
                <a:off x="1158840" y="4969440"/>
                <a:ext cx="37080" cy="50400"/>
              </a:xfrm>
              <a:custGeom>
                <a:avLst/>
                <a:gdLst/>
                <a:ahLst/>
                <a:rect l="l" t="t" r="r" b="b"/>
                <a:pathLst>
                  <a:path w="1047" h="1749">
                    <a:moveTo>
                      <a:pt x="426" y="532"/>
                    </a:moveTo>
                    <a:lnTo>
                      <a:pt x="337" y="608"/>
                    </a:lnTo>
                    <a:lnTo>
                      <a:pt x="324" y="760"/>
                    </a:lnTo>
                    <a:lnTo>
                      <a:pt x="356" y="1096"/>
                    </a:lnTo>
                    <a:lnTo>
                      <a:pt x="394" y="1274"/>
                    </a:lnTo>
                    <a:lnTo>
                      <a:pt x="324" y="1317"/>
                    </a:lnTo>
                    <a:lnTo>
                      <a:pt x="235" y="1438"/>
                    </a:lnTo>
                    <a:lnTo>
                      <a:pt x="164" y="1749"/>
                    </a:lnTo>
                    <a:lnTo>
                      <a:pt x="179" y="1267"/>
                    </a:lnTo>
                    <a:lnTo>
                      <a:pt x="255" y="1014"/>
                    </a:lnTo>
                    <a:lnTo>
                      <a:pt x="197" y="906"/>
                    </a:lnTo>
                    <a:lnTo>
                      <a:pt x="77" y="1140"/>
                    </a:lnTo>
                    <a:lnTo>
                      <a:pt x="134" y="836"/>
                    </a:lnTo>
                    <a:lnTo>
                      <a:pt x="0" y="1014"/>
                    </a:lnTo>
                    <a:lnTo>
                      <a:pt x="83" y="583"/>
                    </a:lnTo>
                    <a:lnTo>
                      <a:pt x="140" y="457"/>
                    </a:lnTo>
                    <a:lnTo>
                      <a:pt x="51" y="457"/>
                    </a:lnTo>
                    <a:lnTo>
                      <a:pt x="273" y="203"/>
                    </a:lnTo>
                    <a:lnTo>
                      <a:pt x="730" y="0"/>
                    </a:lnTo>
                    <a:lnTo>
                      <a:pt x="571" y="127"/>
                    </a:lnTo>
                    <a:lnTo>
                      <a:pt x="407" y="273"/>
                    </a:lnTo>
                    <a:lnTo>
                      <a:pt x="584" y="273"/>
                    </a:lnTo>
                    <a:lnTo>
                      <a:pt x="908" y="107"/>
                    </a:lnTo>
                    <a:lnTo>
                      <a:pt x="1047" y="82"/>
                    </a:lnTo>
                    <a:lnTo>
                      <a:pt x="889" y="221"/>
                    </a:lnTo>
                    <a:lnTo>
                      <a:pt x="730" y="457"/>
                    </a:lnTo>
                    <a:lnTo>
                      <a:pt x="673" y="589"/>
                    </a:lnTo>
                    <a:lnTo>
                      <a:pt x="610" y="513"/>
                    </a:lnTo>
                    <a:lnTo>
                      <a:pt x="495" y="488"/>
                    </a:lnTo>
                    <a:lnTo>
                      <a:pt x="426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21391800">
                <a:off x="1171440" y="498780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165" h="362">
                    <a:moveTo>
                      <a:pt x="13" y="70"/>
                    </a:moveTo>
                    <a:lnTo>
                      <a:pt x="0" y="197"/>
                    </a:lnTo>
                    <a:lnTo>
                      <a:pt x="38" y="362"/>
                    </a:lnTo>
                    <a:lnTo>
                      <a:pt x="44" y="222"/>
                    </a:lnTo>
                    <a:lnTo>
                      <a:pt x="89" y="121"/>
                    </a:lnTo>
                    <a:lnTo>
                      <a:pt x="165" y="108"/>
                    </a:lnTo>
                    <a:lnTo>
                      <a:pt x="133" y="0"/>
                    </a:lnTo>
                    <a:lnTo>
                      <a:pt x="51" y="26"/>
                    </a:lnTo>
                    <a:lnTo>
                      <a:pt x="1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21391800">
                <a:off x="1176480" y="4988880"/>
                <a:ext cx="7200" cy="17280"/>
              </a:xfrm>
              <a:custGeom>
                <a:avLst/>
                <a:gdLst/>
                <a:ahLst/>
                <a:rect l="l" t="t" r="r" b="b"/>
                <a:pathLst>
                  <a:path w="204" h="602">
                    <a:moveTo>
                      <a:pt x="27" y="247"/>
                    </a:moveTo>
                    <a:lnTo>
                      <a:pt x="0" y="342"/>
                    </a:lnTo>
                    <a:lnTo>
                      <a:pt x="20" y="443"/>
                    </a:lnTo>
                    <a:lnTo>
                      <a:pt x="70" y="494"/>
                    </a:lnTo>
                    <a:lnTo>
                      <a:pt x="134" y="589"/>
                    </a:lnTo>
                    <a:lnTo>
                      <a:pt x="166" y="602"/>
                    </a:lnTo>
                    <a:lnTo>
                      <a:pt x="204" y="576"/>
                    </a:lnTo>
                    <a:lnTo>
                      <a:pt x="153" y="450"/>
                    </a:lnTo>
                    <a:lnTo>
                      <a:pt x="115" y="367"/>
                    </a:lnTo>
                    <a:lnTo>
                      <a:pt x="146" y="317"/>
                    </a:lnTo>
                    <a:lnTo>
                      <a:pt x="172" y="247"/>
                    </a:lnTo>
                    <a:lnTo>
                      <a:pt x="153" y="152"/>
                    </a:lnTo>
                    <a:lnTo>
                      <a:pt x="13" y="0"/>
                    </a:lnTo>
                    <a:lnTo>
                      <a:pt x="32" y="114"/>
                    </a:lnTo>
                    <a:lnTo>
                      <a:pt x="96" y="165"/>
                    </a:lnTo>
                    <a:lnTo>
                      <a:pt x="27" y="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21391800">
                <a:off x="1173240" y="499824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43" y="202"/>
                    </a:moveTo>
                    <a:lnTo>
                      <a:pt x="0" y="114"/>
                    </a:lnTo>
                    <a:lnTo>
                      <a:pt x="12" y="0"/>
                    </a:lnTo>
                    <a:lnTo>
                      <a:pt x="43" y="94"/>
                    </a:lnTo>
                    <a:lnTo>
                      <a:pt x="94" y="189"/>
                    </a:lnTo>
                    <a:lnTo>
                      <a:pt x="43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21391800">
                <a:off x="1167840" y="500724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477" h="608">
                    <a:moveTo>
                      <a:pt x="419" y="82"/>
                    </a:moveTo>
                    <a:lnTo>
                      <a:pt x="356" y="57"/>
                    </a:lnTo>
                    <a:lnTo>
                      <a:pt x="419" y="165"/>
                    </a:lnTo>
                    <a:lnTo>
                      <a:pt x="318" y="82"/>
                    </a:lnTo>
                    <a:lnTo>
                      <a:pt x="280" y="121"/>
                    </a:lnTo>
                    <a:lnTo>
                      <a:pt x="325" y="203"/>
                    </a:lnTo>
                    <a:lnTo>
                      <a:pt x="374" y="260"/>
                    </a:lnTo>
                    <a:lnTo>
                      <a:pt x="432" y="273"/>
                    </a:lnTo>
                    <a:lnTo>
                      <a:pt x="432" y="361"/>
                    </a:lnTo>
                    <a:lnTo>
                      <a:pt x="388" y="412"/>
                    </a:lnTo>
                    <a:lnTo>
                      <a:pt x="260" y="424"/>
                    </a:lnTo>
                    <a:lnTo>
                      <a:pt x="166" y="430"/>
                    </a:lnTo>
                    <a:lnTo>
                      <a:pt x="267" y="488"/>
                    </a:lnTo>
                    <a:lnTo>
                      <a:pt x="394" y="475"/>
                    </a:lnTo>
                    <a:lnTo>
                      <a:pt x="445" y="462"/>
                    </a:lnTo>
                    <a:lnTo>
                      <a:pt x="477" y="361"/>
                    </a:lnTo>
                    <a:lnTo>
                      <a:pt x="477" y="507"/>
                    </a:lnTo>
                    <a:lnTo>
                      <a:pt x="432" y="577"/>
                    </a:lnTo>
                    <a:lnTo>
                      <a:pt x="273" y="608"/>
                    </a:lnTo>
                    <a:lnTo>
                      <a:pt x="83" y="538"/>
                    </a:lnTo>
                    <a:lnTo>
                      <a:pt x="0" y="367"/>
                    </a:lnTo>
                    <a:lnTo>
                      <a:pt x="38" y="190"/>
                    </a:lnTo>
                    <a:lnTo>
                      <a:pt x="121" y="89"/>
                    </a:lnTo>
                    <a:lnTo>
                      <a:pt x="204" y="44"/>
                    </a:lnTo>
                    <a:lnTo>
                      <a:pt x="128" y="44"/>
                    </a:lnTo>
                    <a:lnTo>
                      <a:pt x="33" y="107"/>
                    </a:lnTo>
                    <a:lnTo>
                      <a:pt x="77" y="6"/>
                    </a:lnTo>
                    <a:lnTo>
                      <a:pt x="242" y="0"/>
                    </a:lnTo>
                    <a:lnTo>
                      <a:pt x="356" y="6"/>
                    </a:lnTo>
                    <a:lnTo>
                      <a:pt x="41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21391800">
                <a:off x="1156320" y="5002560"/>
                <a:ext cx="50040" cy="56520"/>
              </a:xfrm>
              <a:custGeom>
                <a:avLst/>
                <a:gdLst/>
                <a:ahLst/>
                <a:rect l="l" t="t" r="r" b="b"/>
                <a:pathLst>
                  <a:path w="1404" h="1947">
                    <a:moveTo>
                      <a:pt x="970" y="1340"/>
                    </a:moveTo>
                    <a:lnTo>
                      <a:pt x="889" y="1207"/>
                    </a:lnTo>
                    <a:lnTo>
                      <a:pt x="860" y="1132"/>
                    </a:lnTo>
                    <a:lnTo>
                      <a:pt x="830" y="1044"/>
                    </a:lnTo>
                    <a:lnTo>
                      <a:pt x="830" y="940"/>
                    </a:lnTo>
                    <a:lnTo>
                      <a:pt x="822" y="718"/>
                    </a:lnTo>
                    <a:lnTo>
                      <a:pt x="714" y="763"/>
                    </a:lnTo>
                    <a:lnTo>
                      <a:pt x="521" y="780"/>
                    </a:lnTo>
                    <a:lnTo>
                      <a:pt x="432" y="717"/>
                    </a:lnTo>
                    <a:lnTo>
                      <a:pt x="343" y="634"/>
                    </a:lnTo>
                    <a:lnTo>
                      <a:pt x="305" y="501"/>
                    </a:lnTo>
                    <a:lnTo>
                      <a:pt x="305" y="355"/>
                    </a:lnTo>
                    <a:lnTo>
                      <a:pt x="241" y="128"/>
                    </a:lnTo>
                    <a:lnTo>
                      <a:pt x="241" y="343"/>
                    </a:lnTo>
                    <a:lnTo>
                      <a:pt x="197" y="438"/>
                    </a:lnTo>
                    <a:lnTo>
                      <a:pt x="71" y="305"/>
                    </a:lnTo>
                    <a:lnTo>
                      <a:pt x="64" y="0"/>
                    </a:lnTo>
                    <a:lnTo>
                      <a:pt x="0" y="171"/>
                    </a:lnTo>
                    <a:lnTo>
                      <a:pt x="7" y="295"/>
                    </a:lnTo>
                    <a:lnTo>
                      <a:pt x="7" y="300"/>
                    </a:lnTo>
                    <a:lnTo>
                      <a:pt x="7" y="306"/>
                    </a:lnTo>
                    <a:lnTo>
                      <a:pt x="8" y="315"/>
                    </a:lnTo>
                    <a:lnTo>
                      <a:pt x="8" y="324"/>
                    </a:lnTo>
                    <a:lnTo>
                      <a:pt x="8" y="335"/>
                    </a:lnTo>
                    <a:lnTo>
                      <a:pt x="10" y="352"/>
                    </a:lnTo>
                    <a:lnTo>
                      <a:pt x="11" y="360"/>
                    </a:lnTo>
                    <a:lnTo>
                      <a:pt x="11" y="364"/>
                    </a:lnTo>
                    <a:lnTo>
                      <a:pt x="11" y="368"/>
                    </a:lnTo>
                    <a:lnTo>
                      <a:pt x="12" y="375"/>
                    </a:lnTo>
                    <a:lnTo>
                      <a:pt x="12" y="380"/>
                    </a:lnTo>
                    <a:lnTo>
                      <a:pt x="12" y="386"/>
                    </a:lnTo>
                    <a:lnTo>
                      <a:pt x="13" y="391"/>
                    </a:lnTo>
                    <a:lnTo>
                      <a:pt x="13" y="400"/>
                    </a:lnTo>
                    <a:lnTo>
                      <a:pt x="159" y="602"/>
                    </a:lnTo>
                    <a:lnTo>
                      <a:pt x="229" y="792"/>
                    </a:lnTo>
                    <a:lnTo>
                      <a:pt x="362" y="919"/>
                    </a:lnTo>
                    <a:lnTo>
                      <a:pt x="267" y="925"/>
                    </a:lnTo>
                    <a:lnTo>
                      <a:pt x="387" y="1046"/>
                    </a:lnTo>
                    <a:lnTo>
                      <a:pt x="540" y="1237"/>
                    </a:lnTo>
                    <a:lnTo>
                      <a:pt x="740" y="1170"/>
                    </a:lnTo>
                    <a:lnTo>
                      <a:pt x="869" y="1341"/>
                    </a:lnTo>
                    <a:lnTo>
                      <a:pt x="1404" y="1947"/>
                    </a:lnTo>
                    <a:lnTo>
                      <a:pt x="1118" y="1568"/>
                    </a:lnTo>
                    <a:lnTo>
                      <a:pt x="970" y="1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21391800">
                <a:off x="1179000" y="5007240"/>
                <a:ext cx="7200" cy="15480"/>
              </a:xfrm>
              <a:custGeom>
                <a:avLst/>
                <a:gdLst/>
                <a:ahLst/>
                <a:rect l="l" t="t" r="r" b="b"/>
                <a:pathLst>
                  <a:path w="204" h="539">
                    <a:moveTo>
                      <a:pt x="171" y="374"/>
                    </a:moveTo>
                    <a:lnTo>
                      <a:pt x="204" y="259"/>
                    </a:lnTo>
                    <a:lnTo>
                      <a:pt x="197" y="133"/>
                    </a:lnTo>
                    <a:lnTo>
                      <a:pt x="101" y="12"/>
                    </a:lnTo>
                    <a:lnTo>
                      <a:pt x="0" y="0"/>
                    </a:lnTo>
                    <a:lnTo>
                      <a:pt x="133" y="102"/>
                    </a:lnTo>
                    <a:lnTo>
                      <a:pt x="159" y="227"/>
                    </a:lnTo>
                    <a:lnTo>
                      <a:pt x="76" y="304"/>
                    </a:lnTo>
                    <a:lnTo>
                      <a:pt x="76" y="380"/>
                    </a:lnTo>
                    <a:lnTo>
                      <a:pt x="146" y="330"/>
                    </a:lnTo>
                    <a:lnTo>
                      <a:pt x="146" y="456"/>
                    </a:lnTo>
                    <a:lnTo>
                      <a:pt x="139" y="539"/>
                    </a:lnTo>
                    <a:lnTo>
                      <a:pt x="171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21391800">
                <a:off x="1178280" y="5032800"/>
                <a:ext cx="46800" cy="130680"/>
              </a:xfrm>
              <a:custGeom>
                <a:avLst/>
                <a:gdLst/>
                <a:ahLst/>
                <a:rect l="l" t="t" r="r" b="b"/>
                <a:pathLst>
                  <a:path w="1315" h="4512">
                    <a:moveTo>
                      <a:pt x="113" y="932"/>
                    </a:moveTo>
                    <a:lnTo>
                      <a:pt x="72" y="627"/>
                    </a:lnTo>
                    <a:lnTo>
                      <a:pt x="136" y="399"/>
                    </a:lnTo>
                    <a:lnTo>
                      <a:pt x="121" y="98"/>
                    </a:lnTo>
                    <a:lnTo>
                      <a:pt x="194" y="176"/>
                    </a:lnTo>
                    <a:lnTo>
                      <a:pt x="283" y="327"/>
                    </a:lnTo>
                    <a:lnTo>
                      <a:pt x="280" y="197"/>
                    </a:lnTo>
                    <a:lnTo>
                      <a:pt x="354" y="177"/>
                    </a:lnTo>
                    <a:lnTo>
                      <a:pt x="151" y="0"/>
                    </a:lnTo>
                    <a:lnTo>
                      <a:pt x="0" y="323"/>
                    </a:lnTo>
                    <a:lnTo>
                      <a:pt x="8" y="554"/>
                    </a:lnTo>
                    <a:lnTo>
                      <a:pt x="8" y="691"/>
                    </a:lnTo>
                    <a:lnTo>
                      <a:pt x="94" y="1011"/>
                    </a:lnTo>
                    <a:lnTo>
                      <a:pt x="284" y="1697"/>
                    </a:lnTo>
                    <a:lnTo>
                      <a:pt x="431" y="2269"/>
                    </a:lnTo>
                    <a:lnTo>
                      <a:pt x="639" y="3102"/>
                    </a:lnTo>
                    <a:lnTo>
                      <a:pt x="780" y="3466"/>
                    </a:lnTo>
                    <a:lnTo>
                      <a:pt x="1168" y="4219"/>
                    </a:lnTo>
                    <a:lnTo>
                      <a:pt x="1299" y="4512"/>
                    </a:lnTo>
                    <a:lnTo>
                      <a:pt x="1315" y="4305"/>
                    </a:lnTo>
                    <a:lnTo>
                      <a:pt x="1047" y="3675"/>
                    </a:lnTo>
                    <a:lnTo>
                      <a:pt x="757" y="3079"/>
                    </a:lnTo>
                    <a:lnTo>
                      <a:pt x="693" y="2613"/>
                    </a:lnTo>
                    <a:lnTo>
                      <a:pt x="449" y="1887"/>
                    </a:lnTo>
                    <a:lnTo>
                      <a:pt x="266" y="1335"/>
                    </a:lnTo>
                    <a:lnTo>
                      <a:pt x="113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21391800">
                <a:off x="1191600" y="503928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694" h="1597">
                    <a:moveTo>
                      <a:pt x="234" y="235"/>
                    </a:moveTo>
                    <a:lnTo>
                      <a:pt x="551" y="557"/>
                    </a:lnTo>
                    <a:lnTo>
                      <a:pt x="785" y="731"/>
                    </a:lnTo>
                    <a:lnTo>
                      <a:pt x="970" y="824"/>
                    </a:lnTo>
                    <a:lnTo>
                      <a:pt x="1107" y="884"/>
                    </a:lnTo>
                    <a:lnTo>
                      <a:pt x="1299" y="868"/>
                    </a:lnTo>
                    <a:lnTo>
                      <a:pt x="1440" y="846"/>
                    </a:lnTo>
                    <a:lnTo>
                      <a:pt x="1336" y="1003"/>
                    </a:lnTo>
                    <a:lnTo>
                      <a:pt x="1308" y="1146"/>
                    </a:lnTo>
                    <a:lnTo>
                      <a:pt x="1295" y="1224"/>
                    </a:lnTo>
                    <a:lnTo>
                      <a:pt x="1694" y="949"/>
                    </a:lnTo>
                    <a:lnTo>
                      <a:pt x="1674" y="1011"/>
                    </a:lnTo>
                    <a:lnTo>
                      <a:pt x="1096" y="1450"/>
                    </a:lnTo>
                    <a:lnTo>
                      <a:pt x="932" y="1597"/>
                    </a:lnTo>
                    <a:lnTo>
                      <a:pt x="1028" y="1318"/>
                    </a:lnTo>
                    <a:lnTo>
                      <a:pt x="1030" y="1085"/>
                    </a:lnTo>
                    <a:lnTo>
                      <a:pt x="878" y="943"/>
                    </a:lnTo>
                    <a:lnTo>
                      <a:pt x="542" y="730"/>
                    </a:lnTo>
                    <a:lnTo>
                      <a:pt x="387" y="481"/>
                    </a:lnTo>
                    <a:lnTo>
                      <a:pt x="0" y="0"/>
                    </a:lnTo>
                    <a:lnTo>
                      <a:pt x="71" y="26"/>
                    </a:lnTo>
                    <a:lnTo>
                      <a:pt x="234" y="2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21391800">
                <a:off x="1236240" y="4993920"/>
                <a:ext cx="57960" cy="75960"/>
              </a:xfrm>
              <a:custGeom>
                <a:avLst/>
                <a:gdLst/>
                <a:ahLst/>
                <a:rect l="l" t="t" r="r" b="b"/>
                <a:pathLst>
                  <a:path w="1630" h="2623">
                    <a:moveTo>
                      <a:pt x="1439" y="317"/>
                    </a:moveTo>
                    <a:lnTo>
                      <a:pt x="1375" y="469"/>
                    </a:lnTo>
                    <a:lnTo>
                      <a:pt x="1319" y="692"/>
                    </a:lnTo>
                    <a:lnTo>
                      <a:pt x="1240" y="962"/>
                    </a:lnTo>
                    <a:lnTo>
                      <a:pt x="1152" y="1216"/>
                    </a:lnTo>
                    <a:lnTo>
                      <a:pt x="962" y="1541"/>
                    </a:lnTo>
                    <a:lnTo>
                      <a:pt x="668" y="1907"/>
                    </a:lnTo>
                    <a:lnTo>
                      <a:pt x="326" y="2185"/>
                    </a:lnTo>
                    <a:lnTo>
                      <a:pt x="15" y="2383"/>
                    </a:lnTo>
                    <a:lnTo>
                      <a:pt x="0" y="2486"/>
                    </a:lnTo>
                    <a:lnTo>
                      <a:pt x="182" y="2439"/>
                    </a:lnTo>
                    <a:lnTo>
                      <a:pt x="205" y="2555"/>
                    </a:lnTo>
                    <a:lnTo>
                      <a:pt x="174" y="2623"/>
                    </a:lnTo>
                    <a:lnTo>
                      <a:pt x="301" y="2511"/>
                    </a:lnTo>
                    <a:lnTo>
                      <a:pt x="354" y="2236"/>
                    </a:lnTo>
                    <a:lnTo>
                      <a:pt x="365" y="2495"/>
                    </a:lnTo>
                    <a:lnTo>
                      <a:pt x="466" y="2496"/>
                    </a:lnTo>
                    <a:lnTo>
                      <a:pt x="485" y="2399"/>
                    </a:lnTo>
                    <a:lnTo>
                      <a:pt x="537" y="2375"/>
                    </a:lnTo>
                    <a:lnTo>
                      <a:pt x="617" y="2371"/>
                    </a:lnTo>
                    <a:lnTo>
                      <a:pt x="706" y="2372"/>
                    </a:lnTo>
                    <a:lnTo>
                      <a:pt x="831" y="2379"/>
                    </a:lnTo>
                    <a:lnTo>
                      <a:pt x="803" y="2264"/>
                    </a:lnTo>
                    <a:lnTo>
                      <a:pt x="621" y="2216"/>
                    </a:lnTo>
                    <a:lnTo>
                      <a:pt x="501" y="2169"/>
                    </a:lnTo>
                    <a:lnTo>
                      <a:pt x="438" y="2137"/>
                    </a:lnTo>
                    <a:lnTo>
                      <a:pt x="580" y="2025"/>
                    </a:lnTo>
                    <a:lnTo>
                      <a:pt x="779" y="1851"/>
                    </a:lnTo>
                    <a:lnTo>
                      <a:pt x="1001" y="1564"/>
                    </a:lnTo>
                    <a:lnTo>
                      <a:pt x="1207" y="1176"/>
                    </a:lnTo>
                    <a:lnTo>
                      <a:pt x="1351" y="755"/>
                    </a:lnTo>
                    <a:lnTo>
                      <a:pt x="1431" y="477"/>
                    </a:lnTo>
                    <a:lnTo>
                      <a:pt x="1542" y="311"/>
                    </a:lnTo>
                    <a:lnTo>
                      <a:pt x="1550" y="413"/>
                    </a:lnTo>
                    <a:lnTo>
                      <a:pt x="1630" y="222"/>
                    </a:lnTo>
                    <a:lnTo>
                      <a:pt x="1526" y="0"/>
                    </a:lnTo>
                    <a:lnTo>
                      <a:pt x="1479" y="175"/>
                    </a:lnTo>
                    <a:lnTo>
                      <a:pt x="1479" y="278"/>
                    </a:lnTo>
                    <a:lnTo>
                      <a:pt x="1439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21391800">
                <a:off x="1225440" y="50824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598" h="755">
                    <a:moveTo>
                      <a:pt x="25" y="87"/>
                    </a:moveTo>
                    <a:lnTo>
                      <a:pt x="0" y="217"/>
                    </a:lnTo>
                    <a:lnTo>
                      <a:pt x="18" y="302"/>
                    </a:lnTo>
                    <a:lnTo>
                      <a:pt x="90" y="461"/>
                    </a:lnTo>
                    <a:lnTo>
                      <a:pt x="184" y="589"/>
                    </a:lnTo>
                    <a:lnTo>
                      <a:pt x="322" y="723"/>
                    </a:lnTo>
                    <a:lnTo>
                      <a:pt x="439" y="755"/>
                    </a:lnTo>
                    <a:lnTo>
                      <a:pt x="527" y="668"/>
                    </a:lnTo>
                    <a:lnTo>
                      <a:pt x="598" y="572"/>
                    </a:lnTo>
                    <a:lnTo>
                      <a:pt x="431" y="628"/>
                    </a:lnTo>
                    <a:lnTo>
                      <a:pt x="288" y="564"/>
                    </a:lnTo>
                    <a:lnTo>
                      <a:pt x="121" y="350"/>
                    </a:lnTo>
                    <a:lnTo>
                      <a:pt x="82" y="191"/>
                    </a:lnTo>
                    <a:lnTo>
                      <a:pt x="121" y="0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21391800">
                <a:off x="1242360" y="5071320"/>
                <a:ext cx="56520" cy="54360"/>
              </a:xfrm>
              <a:custGeom>
                <a:avLst/>
                <a:gdLst/>
                <a:ahLst/>
                <a:rect l="l" t="t" r="r" b="b"/>
                <a:pathLst>
                  <a:path w="1582" h="1882">
                    <a:moveTo>
                      <a:pt x="111" y="1009"/>
                    </a:moveTo>
                    <a:lnTo>
                      <a:pt x="134" y="1056"/>
                    </a:lnTo>
                    <a:lnTo>
                      <a:pt x="365" y="1056"/>
                    </a:lnTo>
                    <a:lnTo>
                      <a:pt x="565" y="953"/>
                    </a:lnTo>
                    <a:lnTo>
                      <a:pt x="811" y="722"/>
                    </a:lnTo>
                    <a:lnTo>
                      <a:pt x="962" y="524"/>
                    </a:lnTo>
                    <a:lnTo>
                      <a:pt x="1064" y="349"/>
                    </a:lnTo>
                    <a:lnTo>
                      <a:pt x="962" y="222"/>
                    </a:lnTo>
                    <a:lnTo>
                      <a:pt x="811" y="150"/>
                    </a:lnTo>
                    <a:lnTo>
                      <a:pt x="699" y="71"/>
                    </a:lnTo>
                    <a:lnTo>
                      <a:pt x="676" y="0"/>
                    </a:lnTo>
                    <a:lnTo>
                      <a:pt x="748" y="69"/>
                    </a:lnTo>
                    <a:lnTo>
                      <a:pt x="876" y="95"/>
                    </a:lnTo>
                    <a:lnTo>
                      <a:pt x="951" y="156"/>
                    </a:lnTo>
                    <a:lnTo>
                      <a:pt x="1035" y="175"/>
                    </a:lnTo>
                    <a:lnTo>
                      <a:pt x="1164" y="270"/>
                    </a:lnTo>
                    <a:lnTo>
                      <a:pt x="1252" y="315"/>
                    </a:lnTo>
                    <a:lnTo>
                      <a:pt x="1357" y="414"/>
                    </a:lnTo>
                    <a:lnTo>
                      <a:pt x="1486" y="437"/>
                    </a:lnTo>
                    <a:lnTo>
                      <a:pt x="1519" y="469"/>
                    </a:lnTo>
                    <a:lnTo>
                      <a:pt x="1399" y="469"/>
                    </a:lnTo>
                    <a:lnTo>
                      <a:pt x="1415" y="564"/>
                    </a:lnTo>
                    <a:lnTo>
                      <a:pt x="1582" y="675"/>
                    </a:lnTo>
                    <a:lnTo>
                      <a:pt x="1519" y="660"/>
                    </a:lnTo>
                    <a:lnTo>
                      <a:pt x="1383" y="603"/>
                    </a:lnTo>
                    <a:lnTo>
                      <a:pt x="1308" y="523"/>
                    </a:lnTo>
                    <a:lnTo>
                      <a:pt x="1252" y="517"/>
                    </a:lnTo>
                    <a:lnTo>
                      <a:pt x="1154" y="694"/>
                    </a:lnTo>
                    <a:lnTo>
                      <a:pt x="1041" y="826"/>
                    </a:lnTo>
                    <a:lnTo>
                      <a:pt x="1033" y="922"/>
                    </a:lnTo>
                    <a:lnTo>
                      <a:pt x="866" y="1041"/>
                    </a:lnTo>
                    <a:lnTo>
                      <a:pt x="772" y="1112"/>
                    </a:lnTo>
                    <a:lnTo>
                      <a:pt x="719" y="1295"/>
                    </a:lnTo>
                    <a:lnTo>
                      <a:pt x="756" y="1438"/>
                    </a:lnTo>
                    <a:lnTo>
                      <a:pt x="780" y="1596"/>
                    </a:lnTo>
                    <a:lnTo>
                      <a:pt x="835" y="1842"/>
                    </a:lnTo>
                    <a:lnTo>
                      <a:pt x="910" y="1825"/>
                    </a:lnTo>
                    <a:lnTo>
                      <a:pt x="1038" y="1809"/>
                    </a:lnTo>
                    <a:lnTo>
                      <a:pt x="1192" y="1766"/>
                    </a:lnTo>
                    <a:lnTo>
                      <a:pt x="1474" y="1667"/>
                    </a:lnTo>
                    <a:lnTo>
                      <a:pt x="1291" y="1763"/>
                    </a:lnTo>
                    <a:lnTo>
                      <a:pt x="1130" y="1825"/>
                    </a:lnTo>
                    <a:lnTo>
                      <a:pt x="803" y="1882"/>
                    </a:lnTo>
                    <a:lnTo>
                      <a:pt x="756" y="1700"/>
                    </a:lnTo>
                    <a:lnTo>
                      <a:pt x="660" y="1454"/>
                    </a:lnTo>
                    <a:lnTo>
                      <a:pt x="628" y="1319"/>
                    </a:lnTo>
                    <a:lnTo>
                      <a:pt x="445" y="1247"/>
                    </a:lnTo>
                    <a:lnTo>
                      <a:pt x="317" y="1184"/>
                    </a:lnTo>
                    <a:lnTo>
                      <a:pt x="286" y="1120"/>
                    </a:lnTo>
                    <a:lnTo>
                      <a:pt x="221" y="1134"/>
                    </a:lnTo>
                    <a:lnTo>
                      <a:pt x="118" y="1120"/>
                    </a:lnTo>
                    <a:lnTo>
                      <a:pt x="87" y="1049"/>
                    </a:lnTo>
                    <a:lnTo>
                      <a:pt x="0" y="1033"/>
                    </a:lnTo>
                    <a:lnTo>
                      <a:pt x="55" y="993"/>
                    </a:lnTo>
                    <a:lnTo>
                      <a:pt x="111" y="10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21391800">
                <a:off x="1244520" y="51098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21" h="668">
                    <a:moveTo>
                      <a:pt x="605" y="0"/>
                    </a:moveTo>
                    <a:lnTo>
                      <a:pt x="446" y="87"/>
                    </a:lnTo>
                    <a:lnTo>
                      <a:pt x="0" y="239"/>
                    </a:lnTo>
                    <a:lnTo>
                      <a:pt x="151" y="478"/>
                    </a:lnTo>
                    <a:lnTo>
                      <a:pt x="239" y="668"/>
                    </a:lnTo>
                    <a:lnTo>
                      <a:pt x="621" y="349"/>
                    </a:lnTo>
                    <a:lnTo>
                      <a:pt x="589" y="63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21391800">
                <a:off x="1257120" y="512100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517" h="285">
                    <a:moveTo>
                      <a:pt x="517" y="165"/>
                    </a:moveTo>
                    <a:lnTo>
                      <a:pt x="247" y="230"/>
                    </a:lnTo>
                    <a:lnTo>
                      <a:pt x="0" y="285"/>
                    </a:lnTo>
                    <a:lnTo>
                      <a:pt x="119" y="206"/>
                    </a:lnTo>
                    <a:lnTo>
                      <a:pt x="279" y="39"/>
                    </a:lnTo>
                    <a:lnTo>
                      <a:pt x="342" y="0"/>
                    </a:lnTo>
                    <a:lnTo>
                      <a:pt x="366" y="157"/>
                    </a:lnTo>
                    <a:lnTo>
                      <a:pt x="517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21391800">
                <a:off x="1258200" y="51415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0" y="95"/>
                    </a:moveTo>
                    <a:lnTo>
                      <a:pt x="25" y="182"/>
                    </a:lnTo>
                    <a:lnTo>
                      <a:pt x="136" y="182"/>
                    </a:lnTo>
                    <a:lnTo>
                      <a:pt x="183" y="126"/>
                    </a:lnTo>
                    <a:lnTo>
                      <a:pt x="183" y="55"/>
                    </a:lnTo>
                    <a:lnTo>
                      <a:pt x="127" y="0"/>
                    </a:lnTo>
                    <a:lnTo>
                      <a:pt x="48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21391800">
                <a:off x="1234800" y="5102280"/>
                <a:ext cx="11520" cy="28440"/>
              </a:xfrm>
              <a:custGeom>
                <a:avLst/>
                <a:gdLst/>
                <a:ahLst/>
                <a:rect l="l" t="t" r="r" b="b"/>
                <a:pathLst>
                  <a:path w="327" h="993">
                    <a:moveTo>
                      <a:pt x="160" y="190"/>
                    </a:moveTo>
                    <a:lnTo>
                      <a:pt x="32" y="675"/>
                    </a:lnTo>
                    <a:lnTo>
                      <a:pt x="16" y="818"/>
                    </a:lnTo>
                    <a:lnTo>
                      <a:pt x="136" y="890"/>
                    </a:lnTo>
                    <a:lnTo>
                      <a:pt x="287" y="898"/>
                    </a:lnTo>
                    <a:lnTo>
                      <a:pt x="271" y="842"/>
                    </a:lnTo>
                    <a:lnTo>
                      <a:pt x="191" y="810"/>
                    </a:lnTo>
                    <a:lnTo>
                      <a:pt x="295" y="802"/>
                    </a:lnTo>
                    <a:lnTo>
                      <a:pt x="327" y="857"/>
                    </a:lnTo>
                    <a:lnTo>
                      <a:pt x="327" y="922"/>
                    </a:lnTo>
                    <a:lnTo>
                      <a:pt x="231" y="993"/>
                    </a:lnTo>
                    <a:lnTo>
                      <a:pt x="175" y="970"/>
                    </a:lnTo>
                    <a:lnTo>
                      <a:pt x="88" y="906"/>
                    </a:lnTo>
                    <a:lnTo>
                      <a:pt x="8" y="842"/>
                    </a:lnTo>
                    <a:lnTo>
                      <a:pt x="0" y="747"/>
                    </a:lnTo>
                    <a:lnTo>
                      <a:pt x="32" y="595"/>
                    </a:lnTo>
                    <a:lnTo>
                      <a:pt x="120" y="159"/>
                    </a:lnTo>
                    <a:lnTo>
                      <a:pt x="231" y="0"/>
                    </a:lnTo>
                    <a:lnTo>
                      <a:pt x="240" y="47"/>
                    </a:lnTo>
                    <a:lnTo>
                      <a:pt x="16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21391800">
                <a:off x="1237680" y="5104080"/>
                <a:ext cx="11880" cy="21240"/>
              </a:xfrm>
              <a:custGeom>
                <a:avLst/>
                <a:gdLst/>
                <a:ahLst/>
                <a:rect l="l" t="t" r="r" b="b"/>
                <a:pathLst>
                  <a:path w="335" h="740">
                    <a:moveTo>
                      <a:pt x="0" y="731"/>
                    </a:moveTo>
                    <a:lnTo>
                      <a:pt x="0" y="660"/>
                    </a:lnTo>
                    <a:lnTo>
                      <a:pt x="88" y="453"/>
                    </a:lnTo>
                    <a:lnTo>
                      <a:pt x="111" y="215"/>
                    </a:lnTo>
                    <a:lnTo>
                      <a:pt x="119" y="167"/>
                    </a:lnTo>
                    <a:lnTo>
                      <a:pt x="48" y="135"/>
                    </a:lnTo>
                    <a:lnTo>
                      <a:pt x="88" y="79"/>
                    </a:lnTo>
                    <a:lnTo>
                      <a:pt x="144" y="135"/>
                    </a:lnTo>
                    <a:lnTo>
                      <a:pt x="263" y="0"/>
                    </a:lnTo>
                    <a:lnTo>
                      <a:pt x="335" y="40"/>
                    </a:lnTo>
                    <a:lnTo>
                      <a:pt x="254" y="79"/>
                    </a:lnTo>
                    <a:lnTo>
                      <a:pt x="201" y="177"/>
                    </a:lnTo>
                    <a:lnTo>
                      <a:pt x="135" y="223"/>
                    </a:lnTo>
                    <a:lnTo>
                      <a:pt x="127" y="461"/>
                    </a:lnTo>
                    <a:lnTo>
                      <a:pt x="24" y="668"/>
                    </a:lnTo>
                    <a:lnTo>
                      <a:pt x="64" y="740"/>
                    </a:lnTo>
                    <a:lnTo>
                      <a:pt x="0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21391800">
                <a:off x="1239840" y="513036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85" y="4"/>
                    </a:moveTo>
                    <a:lnTo>
                      <a:pt x="17" y="46"/>
                    </a:lnTo>
                    <a:lnTo>
                      <a:pt x="0" y="81"/>
                    </a:lnTo>
                    <a:lnTo>
                      <a:pt x="35" y="108"/>
                    </a:lnTo>
                    <a:lnTo>
                      <a:pt x="71" y="122"/>
                    </a:lnTo>
                    <a:lnTo>
                      <a:pt x="49" y="86"/>
                    </a:lnTo>
                    <a:lnTo>
                      <a:pt x="71" y="46"/>
                    </a:lnTo>
                    <a:lnTo>
                      <a:pt x="139" y="0"/>
                    </a:lnTo>
                    <a:lnTo>
                      <a:pt x="8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21391800">
                <a:off x="1236960" y="512856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325" h="428">
                    <a:moveTo>
                      <a:pt x="73" y="36"/>
                    </a:moveTo>
                    <a:lnTo>
                      <a:pt x="28" y="108"/>
                    </a:lnTo>
                    <a:lnTo>
                      <a:pt x="31" y="158"/>
                    </a:lnTo>
                    <a:lnTo>
                      <a:pt x="73" y="221"/>
                    </a:lnTo>
                    <a:lnTo>
                      <a:pt x="127" y="275"/>
                    </a:lnTo>
                    <a:lnTo>
                      <a:pt x="198" y="311"/>
                    </a:lnTo>
                    <a:lnTo>
                      <a:pt x="257" y="324"/>
                    </a:lnTo>
                    <a:lnTo>
                      <a:pt x="297" y="288"/>
                    </a:lnTo>
                    <a:lnTo>
                      <a:pt x="275" y="238"/>
                    </a:lnTo>
                    <a:lnTo>
                      <a:pt x="185" y="212"/>
                    </a:lnTo>
                    <a:lnTo>
                      <a:pt x="271" y="216"/>
                    </a:lnTo>
                    <a:lnTo>
                      <a:pt x="325" y="266"/>
                    </a:lnTo>
                    <a:lnTo>
                      <a:pt x="325" y="338"/>
                    </a:lnTo>
                    <a:lnTo>
                      <a:pt x="289" y="378"/>
                    </a:lnTo>
                    <a:lnTo>
                      <a:pt x="238" y="428"/>
                    </a:lnTo>
                    <a:lnTo>
                      <a:pt x="248" y="378"/>
                    </a:lnTo>
                    <a:lnTo>
                      <a:pt x="181" y="355"/>
                    </a:lnTo>
                    <a:lnTo>
                      <a:pt x="139" y="343"/>
                    </a:lnTo>
                    <a:lnTo>
                      <a:pt x="144" y="311"/>
                    </a:lnTo>
                    <a:lnTo>
                      <a:pt x="95" y="288"/>
                    </a:lnTo>
                    <a:lnTo>
                      <a:pt x="40" y="252"/>
                    </a:lnTo>
                    <a:lnTo>
                      <a:pt x="19" y="189"/>
                    </a:lnTo>
                    <a:lnTo>
                      <a:pt x="0" y="127"/>
                    </a:lnTo>
                    <a:lnTo>
                      <a:pt x="14" y="68"/>
                    </a:lnTo>
                    <a:lnTo>
                      <a:pt x="68" y="0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21391800">
                <a:off x="1242720" y="513936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170" h="135">
                    <a:moveTo>
                      <a:pt x="102" y="36"/>
                    </a:moveTo>
                    <a:lnTo>
                      <a:pt x="71" y="36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26" y="76"/>
                    </a:lnTo>
                    <a:lnTo>
                      <a:pt x="67" y="94"/>
                    </a:lnTo>
                    <a:lnTo>
                      <a:pt x="170" y="135"/>
                    </a:lnTo>
                    <a:lnTo>
                      <a:pt x="62" y="63"/>
                    </a:lnTo>
                    <a:lnTo>
                      <a:pt x="10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21391800">
                <a:off x="1240200" y="513684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9" h="374">
                    <a:moveTo>
                      <a:pt x="85" y="33"/>
                    </a:moveTo>
                    <a:lnTo>
                      <a:pt x="35" y="91"/>
                    </a:lnTo>
                    <a:lnTo>
                      <a:pt x="26" y="163"/>
                    </a:lnTo>
                    <a:lnTo>
                      <a:pt x="76" y="212"/>
                    </a:lnTo>
                    <a:lnTo>
                      <a:pt x="121" y="266"/>
                    </a:lnTo>
                    <a:lnTo>
                      <a:pt x="211" y="329"/>
                    </a:lnTo>
                    <a:lnTo>
                      <a:pt x="274" y="334"/>
                    </a:lnTo>
                    <a:lnTo>
                      <a:pt x="283" y="294"/>
                    </a:lnTo>
                    <a:lnTo>
                      <a:pt x="266" y="244"/>
                    </a:lnTo>
                    <a:lnTo>
                      <a:pt x="229" y="212"/>
                    </a:lnTo>
                    <a:lnTo>
                      <a:pt x="297" y="240"/>
                    </a:lnTo>
                    <a:lnTo>
                      <a:pt x="329" y="298"/>
                    </a:lnTo>
                    <a:lnTo>
                      <a:pt x="320" y="352"/>
                    </a:lnTo>
                    <a:lnTo>
                      <a:pt x="274" y="374"/>
                    </a:lnTo>
                    <a:lnTo>
                      <a:pt x="211" y="374"/>
                    </a:lnTo>
                    <a:lnTo>
                      <a:pt x="165" y="374"/>
                    </a:lnTo>
                    <a:lnTo>
                      <a:pt x="162" y="334"/>
                    </a:lnTo>
                    <a:lnTo>
                      <a:pt x="144" y="311"/>
                    </a:lnTo>
                    <a:lnTo>
                      <a:pt x="54" y="249"/>
                    </a:lnTo>
                    <a:lnTo>
                      <a:pt x="17" y="207"/>
                    </a:lnTo>
                    <a:lnTo>
                      <a:pt x="0" y="145"/>
                    </a:lnTo>
                    <a:lnTo>
                      <a:pt x="12" y="77"/>
                    </a:lnTo>
                    <a:lnTo>
                      <a:pt x="85" y="0"/>
                    </a:lnTo>
                    <a:lnTo>
                      <a:pt x="8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21391800">
                <a:off x="1243440" y="514512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293" h="419">
                    <a:moveTo>
                      <a:pt x="81" y="41"/>
                    </a:moveTo>
                    <a:lnTo>
                      <a:pt x="32" y="118"/>
                    </a:lnTo>
                    <a:lnTo>
                      <a:pt x="13" y="176"/>
                    </a:lnTo>
                    <a:lnTo>
                      <a:pt x="18" y="235"/>
                    </a:lnTo>
                    <a:lnTo>
                      <a:pt x="89" y="289"/>
                    </a:lnTo>
                    <a:lnTo>
                      <a:pt x="153" y="320"/>
                    </a:lnTo>
                    <a:lnTo>
                      <a:pt x="225" y="334"/>
                    </a:lnTo>
                    <a:lnTo>
                      <a:pt x="256" y="316"/>
                    </a:lnTo>
                    <a:lnTo>
                      <a:pt x="261" y="270"/>
                    </a:lnTo>
                    <a:lnTo>
                      <a:pt x="230" y="235"/>
                    </a:lnTo>
                    <a:lnTo>
                      <a:pt x="279" y="257"/>
                    </a:lnTo>
                    <a:lnTo>
                      <a:pt x="293" y="329"/>
                    </a:lnTo>
                    <a:lnTo>
                      <a:pt x="293" y="383"/>
                    </a:lnTo>
                    <a:lnTo>
                      <a:pt x="261" y="419"/>
                    </a:lnTo>
                    <a:lnTo>
                      <a:pt x="230" y="388"/>
                    </a:lnTo>
                    <a:lnTo>
                      <a:pt x="185" y="378"/>
                    </a:lnTo>
                    <a:lnTo>
                      <a:pt x="135" y="369"/>
                    </a:lnTo>
                    <a:lnTo>
                      <a:pt x="145" y="334"/>
                    </a:lnTo>
                    <a:lnTo>
                      <a:pt x="54" y="289"/>
                    </a:lnTo>
                    <a:lnTo>
                      <a:pt x="0" y="247"/>
                    </a:lnTo>
                    <a:lnTo>
                      <a:pt x="0" y="176"/>
                    </a:lnTo>
                    <a:lnTo>
                      <a:pt x="18" y="118"/>
                    </a:lnTo>
                    <a:lnTo>
                      <a:pt x="54" y="50"/>
                    </a:lnTo>
                    <a:lnTo>
                      <a:pt x="58" y="0"/>
                    </a:lnTo>
                    <a:lnTo>
                      <a:pt x="8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21391800">
                <a:off x="1245600" y="514692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57" h="153">
                    <a:moveTo>
                      <a:pt x="157" y="0"/>
                    </a:moveTo>
                    <a:lnTo>
                      <a:pt x="131" y="45"/>
                    </a:lnTo>
                    <a:lnTo>
                      <a:pt x="77" y="85"/>
                    </a:lnTo>
                    <a:lnTo>
                      <a:pt x="35" y="85"/>
                    </a:lnTo>
                    <a:lnTo>
                      <a:pt x="32" y="54"/>
                    </a:lnTo>
                    <a:lnTo>
                      <a:pt x="14" y="17"/>
                    </a:lnTo>
                    <a:lnTo>
                      <a:pt x="0" y="62"/>
                    </a:lnTo>
                    <a:lnTo>
                      <a:pt x="0" y="103"/>
                    </a:lnTo>
                    <a:lnTo>
                      <a:pt x="32" y="125"/>
                    </a:lnTo>
                    <a:lnTo>
                      <a:pt x="122" y="153"/>
                    </a:lnTo>
                    <a:lnTo>
                      <a:pt x="72" y="125"/>
                    </a:lnTo>
                    <a:lnTo>
                      <a:pt x="112" y="94"/>
                    </a:lnTo>
                    <a:lnTo>
                      <a:pt x="157" y="5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21391800">
                <a:off x="1245240" y="51548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229" h="348">
                    <a:moveTo>
                      <a:pt x="118" y="0"/>
                    </a:moveTo>
                    <a:lnTo>
                      <a:pt x="45" y="64"/>
                    </a:lnTo>
                    <a:lnTo>
                      <a:pt x="27" y="122"/>
                    </a:lnTo>
                    <a:lnTo>
                      <a:pt x="62" y="208"/>
                    </a:lnTo>
                    <a:lnTo>
                      <a:pt x="139" y="239"/>
                    </a:lnTo>
                    <a:lnTo>
                      <a:pt x="226" y="303"/>
                    </a:lnTo>
                    <a:lnTo>
                      <a:pt x="229" y="348"/>
                    </a:lnTo>
                    <a:lnTo>
                      <a:pt x="180" y="307"/>
                    </a:lnTo>
                    <a:lnTo>
                      <a:pt x="95" y="249"/>
                    </a:lnTo>
                    <a:lnTo>
                      <a:pt x="22" y="199"/>
                    </a:lnTo>
                    <a:lnTo>
                      <a:pt x="0" y="91"/>
                    </a:lnTo>
                    <a:lnTo>
                      <a:pt x="62" y="14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21391800">
                <a:off x="1248480" y="5153760"/>
                <a:ext cx="7200" cy="10080"/>
              </a:xfrm>
              <a:custGeom>
                <a:avLst/>
                <a:gdLst/>
                <a:ahLst/>
                <a:rect l="l" t="t" r="r" b="b"/>
                <a:pathLst>
                  <a:path w="203" h="351">
                    <a:moveTo>
                      <a:pt x="143" y="80"/>
                    </a:moveTo>
                    <a:lnTo>
                      <a:pt x="76" y="122"/>
                    </a:lnTo>
                    <a:lnTo>
                      <a:pt x="44" y="154"/>
                    </a:lnTo>
                    <a:lnTo>
                      <a:pt x="4" y="108"/>
                    </a:lnTo>
                    <a:lnTo>
                      <a:pt x="0" y="162"/>
                    </a:lnTo>
                    <a:lnTo>
                      <a:pt x="85" y="185"/>
                    </a:lnTo>
                    <a:lnTo>
                      <a:pt x="157" y="207"/>
                    </a:lnTo>
                    <a:lnTo>
                      <a:pt x="176" y="265"/>
                    </a:lnTo>
                    <a:lnTo>
                      <a:pt x="157" y="307"/>
                    </a:lnTo>
                    <a:lnTo>
                      <a:pt x="81" y="316"/>
                    </a:lnTo>
                    <a:lnTo>
                      <a:pt x="122" y="351"/>
                    </a:lnTo>
                    <a:lnTo>
                      <a:pt x="189" y="324"/>
                    </a:lnTo>
                    <a:lnTo>
                      <a:pt x="203" y="274"/>
                    </a:lnTo>
                    <a:lnTo>
                      <a:pt x="203" y="220"/>
                    </a:lnTo>
                    <a:lnTo>
                      <a:pt x="176" y="180"/>
                    </a:lnTo>
                    <a:lnTo>
                      <a:pt x="131" y="180"/>
                    </a:lnTo>
                    <a:lnTo>
                      <a:pt x="68" y="162"/>
                    </a:lnTo>
                    <a:lnTo>
                      <a:pt x="134" y="126"/>
                    </a:lnTo>
                    <a:lnTo>
                      <a:pt x="171" y="77"/>
                    </a:lnTo>
                    <a:lnTo>
                      <a:pt x="148" y="0"/>
                    </a:lnTo>
                    <a:lnTo>
                      <a:pt x="143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21391800">
                <a:off x="1147320" y="5034240"/>
                <a:ext cx="70920" cy="131040"/>
              </a:xfrm>
              <a:custGeom>
                <a:avLst/>
                <a:gdLst/>
                <a:ahLst/>
                <a:rect l="l" t="t" r="r" b="b"/>
                <a:pathLst>
                  <a:path w="1988" h="4518">
                    <a:moveTo>
                      <a:pt x="969" y="135"/>
                    </a:moveTo>
                    <a:lnTo>
                      <a:pt x="845" y="202"/>
                    </a:lnTo>
                    <a:lnTo>
                      <a:pt x="711" y="481"/>
                    </a:lnTo>
                    <a:lnTo>
                      <a:pt x="611" y="614"/>
                    </a:lnTo>
                    <a:lnTo>
                      <a:pt x="689" y="1174"/>
                    </a:lnTo>
                    <a:lnTo>
                      <a:pt x="767" y="1666"/>
                    </a:lnTo>
                    <a:lnTo>
                      <a:pt x="812" y="2840"/>
                    </a:lnTo>
                    <a:lnTo>
                      <a:pt x="801" y="3244"/>
                    </a:lnTo>
                    <a:lnTo>
                      <a:pt x="834" y="3322"/>
                    </a:lnTo>
                    <a:lnTo>
                      <a:pt x="1283" y="3467"/>
                    </a:lnTo>
                    <a:lnTo>
                      <a:pt x="1529" y="3523"/>
                    </a:lnTo>
                    <a:lnTo>
                      <a:pt x="1461" y="3769"/>
                    </a:lnTo>
                    <a:lnTo>
                      <a:pt x="1461" y="3915"/>
                    </a:lnTo>
                    <a:lnTo>
                      <a:pt x="1988" y="4518"/>
                    </a:lnTo>
                    <a:lnTo>
                      <a:pt x="1425" y="4485"/>
                    </a:lnTo>
                    <a:lnTo>
                      <a:pt x="1265" y="4503"/>
                    </a:lnTo>
                    <a:lnTo>
                      <a:pt x="531" y="4485"/>
                    </a:lnTo>
                    <a:lnTo>
                      <a:pt x="459" y="4027"/>
                    </a:lnTo>
                    <a:lnTo>
                      <a:pt x="858" y="3468"/>
                    </a:lnTo>
                    <a:lnTo>
                      <a:pt x="715" y="3372"/>
                    </a:lnTo>
                    <a:lnTo>
                      <a:pt x="658" y="3222"/>
                    </a:lnTo>
                    <a:lnTo>
                      <a:pt x="0" y="2763"/>
                    </a:lnTo>
                    <a:lnTo>
                      <a:pt x="18" y="1243"/>
                    </a:lnTo>
                    <a:lnTo>
                      <a:pt x="431" y="626"/>
                    </a:lnTo>
                    <a:lnTo>
                      <a:pt x="666" y="436"/>
                    </a:lnTo>
                    <a:lnTo>
                      <a:pt x="778" y="168"/>
                    </a:lnTo>
                    <a:lnTo>
                      <a:pt x="1035" y="0"/>
                    </a:lnTo>
                    <a:lnTo>
                      <a:pt x="969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21391800">
                <a:off x="1100520" y="5070240"/>
                <a:ext cx="65520" cy="98640"/>
              </a:xfrm>
              <a:custGeom>
                <a:avLst/>
                <a:gdLst/>
                <a:ahLst/>
                <a:rect l="l" t="t" r="r" b="b"/>
                <a:pathLst>
                  <a:path w="1838" h="3404">
                    <a:moveTo>
                      <a:pt x="1279" y="0"/>
                    </a:moveTo>
                    <a:lnTo>
                      <a:pt x="1244" y="191"/>
                    </a:lnTo>
                    <a:lnTo>
                      <a:pt x="1233" y="827"/>
                    </a:lnTo>
                    <a:lnTo>
                      <a:pt x="1267" y="1532"/>
                    </a:lnTo>
                    <a:lnTo>
                      <a:pt x="1345" y="1746"/>
                    </a:lnTo>
                    <a:lnTo>
                      <a:pt x="1838" y="2238"/>
                    </a:lnTo>
                    <a:lnTo>
                      <a:pt x="1805" y="2439"/>
                    </a:lnTo>
                    <a:lnTo>
                      <a:pt x="1535" y="2685"/>
                    </a:lnTo>
                    <a:lnTo>
                      <a:pt x="1480" y="2942"/>
                    </a:lnTo>
                    <a:lnTo>
                      <a:pt x="1676" y="3404"/>
                    </a:lnTo>
                    <a:lnTo>
                      <a:pt x="1436" y="3404"/>
                    </a:lnTo>
                    <a:lnTo>
                      <a:pt x="1245" y="3404"/>
                    </a:lnTo>
                    <a:lnTo>
                      <a:pt x="1066" y="2786"/>
                    </a:lnTo>
                    <a:lnTo>
                      <a:pt x="954" y="2427"/>
                    </a:lnTo>
                    <a:lnTo>
                      <a:pt x="886" y="2081"/>
                    </a:lnTo>
                    <a:lnTo>
                      <a:pt x="886" y="1789"/>
                    </a:lnTo>
                    <a:lnTo>
                      <a:pt x="1021" y="1387"/>
                    </a:lnTo>
                    <a:lnTo>
                      <a:pt x="1111" y="1879"/>
                    </a:lnTo>
                    <a:lnTo>
                      <a:pt x="1154" y="2505"/>
                    </a:lnTo>
                    <a:lnTo>
                      <a:pt x="1368" y="2997"/>
                    </a:lnTo>
                    <a:lnTo>
                      <a:pt x="1370" y="2754"/>
                    </a:lnTo>
                    <a:lnTo>
                      <a:pt x="1212" y="2349"/>
                    </a:lnTo>
                    <a:lnTo>
                      <a:pt x="1284" y="1909"/>
                    </a:lnTo>
                    <a:lnTo>
                      <a:pt x="1202" y="1712"/>
                    </a:lnTo>
                    <a:lnTo>
                      <a:pt x="1135" y="1381"/>
                    </a:lnTo>
                    <a:lnTo>
                      <a:pt x="863" y="1066"/>
                    </a:lnTo>
                    <a:lnTo>
                      <a:pt x="607" y="2110"/>
                    </a:lnTo>
                    <a:lnTo>
                      <a:pt x="0" y="792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21391800">
                <a:off x="1221840" y="5096160"/>
                <a:ext cx="14760" cy="65880"/>
              </a:xfrm>
              <a:custGeom>
                <a:avLst/>
                <a:gdLst/>
                <a:ahLst/>
                <a:rect l="l" t="t" r="r" b="b"/>
                <a:pathLst>
                  <a:path w="419" h="2273">
                    <a:moveTo>
                      <a:pt x="419" y="191"/>
                    </a:moveTo>
                    <a:lnTo>
                      <a:pt x="363" y="549"/>
                    </a:lnTo>
                    <a:lnTo>
                      <a:pt x="262" y="1220"/>
                    </a:lnTo>
                    <a:lnTo>
                      <a:pt x="172" y="1925"/>
                    </a:lnTo>
                    <a:lnTo>
                      <a:pt x="184" y="2273"/>
                    </a:lnTo>
                    <a:lnTo>
                      <a:pt x="0" y="1849"/>
                    </a:lnTo>
                    <a:lnTo>
                      <a:pt x="185" y="933"/>
                    </a:lnTo>
                    <a:lnTo>
                      <a:pt x="274" y="0"/>
                    </a:lnTo>
                    <a:lnTo>
                      <a:pt x="363" y="69"/>
                    </a:lnTo>
                    <a:lnTo>
                      <a:pt x="419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21391800">
                <a:off x="1253880" y="5108760"/>
                <a:ext cx="68400" cy="51840"/>
              </a:xfrm>
              <a:custGeom>
                <a:avLst/>
                <a:gdLst/>
                <a:ahLst/>
                <a:rect l="l" t="t" r="r" b="b"/>
                <a:pathLst>
                  <a:path w="1915" h="1794">
                    <a:moveTo>
                      <a:pt x="0" y="1525"/>
                    </a:moveTo>
                    <a:lnTo>
                      <a:pt x="89" y="1750"/>
                    </a:lnTo>
                    <a:lnTo>
                      <a:pt x="760" y="1794"/>
                    </a:lnTo>
                    <a:lnTo>
                      <a:pt x="224" y="1715"/>
                    </a:lnTo>
                    <a:lnTo>
                      <a:pt x="458" y="1778"/>
                    </a:lnTo>
                    <a:lnTo>
                      <a:pt x="1154" y="1778"/>
                    </a:lnTo>
                    <a:lnTo>
                      <a:pt x="1521" y="1485"/>
                    </a:lnTo>
                    <a:lnTo>
                      <a:pt x="1541" y="850"/>
                    </a:lnTo>
                    <a:lnTo>
                      <a:pt x="1915" y="1112"/>
                    </a:lnTo>
                    <a:lnTo>
                      <a:pt x="1590" y="542"/>
                    </a:lnTo>
                    <a:lnTo>
                      <a:pt x="1523" y="284"/>
                    </a:lnTo>
                    <a:lnTo>
                      <a:pt x="1477" y="150"/>
                    </a:lnTo>
                    <a:lnTo>
                      <a:pt x="1392" y="0"/>
                    </a:lnTo>
                    <a:lnTo>
                      <a:pt x="1455" y="273"/>
                    </a:lnTo>
                    <a:lnTo>
                      <a:pt x="1523" y="564"/>
                    </a:lnTo>
                    <a:lnTo>
                      <a:pt x="1141" y="866"/>
                    </a:lnTo>
                    <a:lnTo>
                      <a:pt x="694" y="1246"/>
                    </a:lnTo>
                    <a:lnTo>
                      <a:pt x="291" y="1525"/>
                    </a:lnTo>
                    <a:lnTo>
                      <a:pt x="134" y="1592"/>
                    </a:lnTo>
                    <a:lnTo>
                      <a:pt x="56" y="1548"/>
                    </a:lnTo>
                    <a:lnTo>
                      <a:pt x="0" y="1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21391800">
                <a:off x="1242360" y="5126400"/>
                <a:ext cx="28440" cy="5760"/>
              </a:xfrm>
              <a:custGeom>
                <a:avLst/>
                <a:gdLst/>
                <a:ahLst/>
                <a:rect l="l" t="t" r="r" b="b"/>
                <a:pathLst>
                  <a:path w="799" h="210">
                    <a:moveTo>
                      <a:pt x="412" y="0"/>
                    </a:moveTo>
                    <a:lnTo>
                      <a:pt x="161" y="136"/>
                    </a:lnTo>
                    <a:lnTo>
                      <a:pt x="0" y="210"/>
                    </a:lnTo>
                    <a:lnTo>
                      <a:pt x="227" y="182"/>
                    </a:lnTo>
                    <a:lnTo>
                      <a:pt x="552" y="114"/>
                    </a:lnTo>
                    <a:lnTo>
                      <a:pt x="799" y="25"/>
                    </a:lnTo>
                    <a:lnTo>
                      <a:pt x="306" y="126"/>
                    </a:lnTo>
                    <a:lnTo>
                      <a:pt x="320" y="92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21391800">
                <a:off x="1096560" y="5055480"/>
                <a:ext cx="67320" cy="81720"/>
              </a:xfrm>
              <a:custGeom>
                <a:avLst/>
                <a:gdLst/>
                <a:ahLst/>
                <a:rect l="l" t="t" r="r" b="b"/>
                <a:pathLst>
                  <a:path w="1884" h="2819">
                    <a:moveTo>
                      <a:pt x="1502" y="386"/>
                    </a:moveTo>
                    <a:lnTo>
                      <a:pt x="1289" y="587"/>
                    </a:lnTo>
                    <a:lnTo>
                      <a:pt x="1155" y="924"/>
                    </a:lnTo>
                    <a:lnTo>
                      <a:pt x="819" y="972"/>
                    </a:lnTo>
                    <a:lnTo>
                      <a:pt x="216" y="1273"/>
                    </a:lnTo>
                    <a:lnTo>
                      <a:pt x="310" y="1388"/>
                    </a:lnTo>
                    <a:lnTo>
                      <a:pt x="471" y="1851"/>
                    </a:lnTo>
                    <a:lnTo>
                      <a:pt x="539" y="2131"/>
                    </a:lnTo>
                    <a:lnTo>
                      <a:pt x="585" y="2819"/>
                    </a:lnTo>
                    <a:lnTo>
                      <a:pt x="205" y="1663"/>
                    </a:lnTo>
                    <a:lnTo>
                      <a:pt x="0" y="1438"/>
                    </a:lnTo>
                    <a:lnTo>
                      <a:pt x="35" y="1157"/>
                    </a:lnTo>
                    <a:lnTo>
                      <a:pt x="170" y="1069"/>
                    </a:lnTo>
                    <a:lnTo>
                      <a:pt x="763" y="800"/>
                    </a:lnTo>
                    <a:lnTo>
                      <a:pt x="1040" y="660"/>
                    </a:lnTo>
                    <a:lnTo>
                      <a:pt x="1137" y="532"/>
                    </a:lnTo>
                    <a:lnTo>
                      <a:pt x="1884" y="0"/>
                    </a:lnTo>
                    <a:lnTo>
                      <a:pt x="1502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21391800">
                <a:off x="1168560" y="495288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3224" h="1846">
                    <a:moveTo>
                      <a:pt x="560" y="745"/>
                    </a:moveTo>
                    <a:lnTo>
                      <a:pt x="325" y="1104"/>
                    </a:lnTo>
                    <a:lnTo>
                      <a:pt x="212" y="1226"/>
                    </a:lnTo>
                    <a:lnTo>
                      <a:pt x="425" y="1124"/>
                    </a:lnTo>
                    <a:lnTo>
                      <a:pt x="583" y="1058"/>
                    </a:lnTo>
                    <a:lnTo>
                      <a:pt x="359" y="1270"/>
                    </a:lnTo>
                    <a:lnTo>
                      <a:pt x="447" y="1248"/>
                    </a:lnTo>
                    <a:lnTo>
                      <a:pt x="369" y="1382"/>
                    </a:lnTo>
                    <a:lnTo>
                      <a:pt x="447" y="1382"/>
                    </a:lnTo>
                    <a:lnTo>
                      <a:pt x="359" y="1517"/>
                    </a:lnTo>
                    <a:lnTo>
                      <a:pt x="470" y="1506"/>
                    </a:lnTo>
                    <a:lnTo>
                      <a:pt x="474" y="1846"/>
                    </a:lnTo>
                    <a:lnTo>
                      <a:pt x="583" y="1506"/>
                    </a:lnTo>
                    <a:lnTo>
                      <a:pt x="537" y="1450"/>
                    </a:lnTo>
                    <a:lnTo>
                      <a:pt x="672" y="1248"/>
                    </a:lnTo>
                    <a:lnTo>
                      <a:pt x="616" y="1248"/>
                    </a:lnTo>
                    <a:lnTo>
                      <a:pt x="695" y="1124"/>
                    </a:lnTo>
                    <a:lnTo>
                      <a:pt x="716" y="991"/>
                    </a:lnTo>
                    <a:lnTo>
                      <a:pt x="616" y="1003"/>
                    </a:lnTo>
                    <a:lnTo>
                      <a:pt x="780" y="889"/>
                    </a:lnTo>
                    <a:lnTo>
                      <a:pt x="1004" y="675"/>
                    </a:lnTo>
                    <a:lnTo>
                      <a:pt x="951" y="803"/>
                    </a:lnTo>
                    <a:lnTo>
                      <a:pt x="1123" y="707"/>
                    </a:lnTo>
                    <a:lnTo>
                      <a:pt x="1486" y="536"/>
                    </a:lnTo>
                    <a:lnTo>
                      <a:pt x="1859" y="521"/>
                    </a:lnTo>
                    <a:lnTo>
                      <a:pt x="1590" y="566"/>
                    </a:lnTo>
                    <a:lnTo>
                      <a:pt x="1746" y="566"/>
                    </a:lnTo>
                    <a:lnTo>
                      <a:pt x="1882" y="566"/>
                    </a:lnTo>
                    <a:lnTo>
                      <a:pt x="1982" y="521"/>
                    </a:lnTo>
                    <a:lnTo>
                      <a:pt x="2173" y="420"/>
                    </a:lnTo>
                    <a:lnTo>
                      <a:pt x="2105" y="521"/>
                    </a:lnTo>
                    <a:lnTo>
                      <a:pt x="1982" y="599"/>
                    </a:lnTo>
                    <a:lnTo>
                      <a:pt x="1814" y="689"/>
                    </a:lnTo>
                    <a:lnTo>
                      <a:pt x="1658" y="734"/>
                    </a:lnTo>
                    <a:lnTo>
                      <a:pt x="1781" y="734"/>
                    </a:lnTo>
                    <a:lnTo>
                      <a:pt x="1994" y="655"/>
                    </a:lnTo>
                    <a:lnTo>
                      <a:pt x="2218" y="544"/>
                    </a:lnTo>
                    <a:lnTo>
                      <a:pt x="2105" y="667"/>
                    </a:lnTo>
                    <a:lnTo>
                      <a:pt x="1926" y="768"/>
                    </a:lnTo>
                    <a:lnTo>
                      <a:pt x="2049" y="734"/>
                    </a:lnTo>
                    <a:lnTo>
                      <a:pt x="2184" y="655"/>
                    </a:lnTo>
                    <a:lnTo>
                      <a:pt x="2340" y="622"/>
                    </a:lnTo>
                    <a:lnTo>
                      <a:pt x="2207" y="755"/>
                    </a:lnTo>
                    <a:lnTo>
                      <a:pt x="2049" y="880"/>
                    </a:lnTo>
                    <a:lnTo>
                      <a:pt x="1937" y="924"/>
                    </a:lnTo>
                    <a:lnTo>
                      <a:pt x="2062" y="924"/>
                    </a:lnTo>
                    <a:lnTo>
                      <a:pt x="2218" y="835"/>
                    </a:lnTo>
                    <a:lnTo>
                      <a:pt x="2330" y="745"/>
                    </a:lnTo>
                    <a:lnTo>
                      <a:pt x="2408" y="722"/>
                    </a:lnTo>
                    <a:lnTo>
                      <a:pt x="2588" y="768"/>
                    </a:lnTo>
                    <a:lnTo>
                      <a:pt x="2375" y="812"/>
                    </a:lnTo>
                    <a:lnTo>
                      <a:pt x="2486" y="835"/>
                    </a:lnTo>
                    <a:lnTo>
                      <a:pt x="2621" y="835"/>
                    </a:lnTo>
                    <a:lnTo>
                      <a:pt x="2767" y="835"/>
                    </a:lnTo>
                    <a:lnTo>
                      <a:pt x="2509" y="901"/>
                    </a:lnTo>
                    <a:lnTo>
                      <a:pt x="2340" y="901"/>
                    </a:lnTo>
                    <a:lnTo>
                      <a:pt x="2464" y="946"/>
                    </a:lnTo>
                    <a:lnTo>
                      <a:pt x="2609" y="946"/>
                    </a:lnTo>
                    <a:lnTo>
                      <a:pt x="2833" y="901"/>
                    </a:lnTo>
                    <a:lnTo>
                      <a:pt x="3012" y="801"/>
                    </a:lnTo>
                    <a:lnTo>
                      <a:pt x="3214" y="689"/>
                    </a:lnTo>
                    <a:lnTo>
                      <a:pt x="3224" y="605"/>
                    </a:lnTo>
                    <a:lnTo>
                      <a:pt x="3224" y="569"/>
                    </a:lnTo>
                    <a:lnTo>
                      <a:pt x="3224" y="554"/>
                    </a:lnTo>
                    <a:lnTo>
                      <a:pt x="3169" y="476"/>
                    </a:lnTo>
                    <a:lnTo>
                      <a:pt x="2852" y="144"/>
                    </a:lnTo>
                    <a:lnTo>
                      <a:pt x="2932" y="426"/>
                    </a:lnTo>
                    <a:lnTo>
                      <a:pt x="2624" y="3"/>
                    </a:lnTo>
                    <a:lnTo>
                      <a:pt x="2817" y="452"/>
                    </a:lnTo>
                    <a:lnTo>
                      <a:pt x="2386" y="73"/>
                    </a:lnTo>
                    <a:lnTo>
                      <a:pt x="2554" y="253"/>
                    </a:lnTo>
                    <a:lnTo>
                      <a:pt x="2285" y="141"/>
                    </a:lnTo>
                    <a:lnTo>
                      <a:pt x="1478" y="29"/>
                    </a:lnTo>
                    <a:lnTo>
                      <a:pt x="1223" y="0"/>
                    </a:lnTo>
                    <a:lnTo>
                      <a:pt x="921" y="51"/>
                    </a:lnTo>
                    <a:lnTo>
                      <a:pt x="1582" y="151"/>
                    </a:lnTo>
                    <a:lnTo>
                      <a:pt x="1087" y="129"/>
                    </a:lnTo>
                    <a:lnTo>
                      <a:pt x="963" y="219"/>
                    </a:lnTo>
                    <a:lnTo>
                      <a:pt x="761" y="275"/>
                    </a:lnTo>
                    <a:lnTo>
                      <a:pt x="929" y="308"/>
                    </a:lnTo>
                    <a:lnTo>
                      <a:pt x="695" y="353"/>
                    </a:lnTo>
                    <a:lnTo>
                      <a:pt x="593" y="264"/>
                    </a:lnTo>
                    <a:lnTo>
                      <a:pt x="280" y="353"/>
                    </a:lnTo>
                    <a:lnTo>
                      <a:pt x="0" y="589"/>
                    </a:lnTo>
                    <a:lnTo>
                      <a:pt x="583" y="433"/>
                    </a:lnTo>
                    <a:lnTo>
                      <a:pt x="247" y="689"/>
                    </a:lnTo>
                    <a:lnTo>
                      <a:pt x="593" y="599"/>
                    </a:lnTo>
                    <a:lnTo>
                      <a:pt x="369" y="755"/>
                    </a:lnTo>
                    <a:lnTo>
                      <a:pt x="560" y="7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21391800">
                <a:off x="1144800" y="4920120"/>
                <a:ext cx="110160" cy="91800"/>
              </a:xfrm>
              <a:custGeom>
                <a:avLst/>
                <a:gdLst/>
                <a:ahLst/>
                <a:rect l="l" t="t" r="r" b="b"/>
                <a:pathLst>
                  <a:path w="3091" h="3178">
                    <a:moveTo>
                      <a:pt x="582" y="1120"/>
                    </a:moveTo>
                    <a:lnTo>
                      <a:pt x="369" y="1613"/>
                    </a:lnTo>
                    <a:lnTo>
                      <a:pt x="100" y="2104"/>
                    </a:lnTo>
                    <a:lnTo>
                      <a:pt x="257" y="2060"/>
                    </a:lnTo>
                    <a:lnTo>
                      <a:pt x="89" y="2372"/>
                    </a:lnTo>
                    <a:lnTo>
                      <a:pt x="0" y="2697"/>
                    </a:lnTo>
                    <a:lnTo>
                      <a:pt x="201" y="3178"/>
                    </a:lnTo>
                    <a:lnTo>
                      <a:pt x="178" y="2831"/>
                    </a:lnTo>
                    <a:lnTo>
                      <a:pt x="257" y="2965"/>
                    </a:lnTo>
                    <a:lnTo>
                      <a:pt x="313" y="2574"/>
                    </a:lnTo>
                    <a:lnTo>
                      <a:pt x="380" y="2920"/>
                    </a:lnTo>
                    <a:lnTo>
                      <a:pt x="425" y="2350"/>
                    </a:lnTo>
                    <a:lnTo>
                      <a:pt x="346" y="2226"/>
                    </a:lnTo>
                    <a:lnTo>
                      <a:pt x="190" y="2462"/>
                    </a:lnTo>
                    <a:lnTo>
                      <a:pt x="391" y="2015"/>
                    </a:lnTo>
                    <a:lnTo>
                      <a:pt x="638" y="1724"/>
                    </a:lnTo>
                    <a:lnTo>
                      <a:pt x="436" y="1857"/>
                    </a:lnTo>
                    <a:lnTo>
                      <a:pt x="638" y="1600"/>
                    </a:lnTo>
                    <a:lnTo>
                      <a:pt x="784" y="1321"/>
                    </a:lnTo>
                    <a:lnTo>
                      <a:pt x="649" y="1444"/>
                    </a:lnTo>
                    <a:lnTo>
                      <a:pt x="817" y="1131"/>
                    </a:lnTo>
                    <a:lnTo>
                      <a:pt x="694" y="1153"/>
                    </a:lnTo>
                    <a:lnTo>
                      <a:pt x="784" y="974"/>
                    </a:lnTo>
                    <a:lnTo>
                      <a:pt x="1354" y="482"/>
                    </a:lnTo>
                    <a:lnTo>
                      <a:pt x="2139" y="124"/>
                    </a:lnTo>
                    <a:lnTo>
                      <a:pt x="2811" y="45"/>
                    </a:lnTo>
                    <a:lnTo>
                      <a:pt x="3091" y="136"/>
                    </a:lnTo>
                    <a:lnTo>
                      <a:pt x="2866" y="0"/>
                    </a:lnTo>
                    <a:lnTo>
                      <a:pt x="2642" y="0"/>
                    </a:lnTo>
                    <a:lnTo>
                      <a:pt x="2026" y="113"/>
                    </a:lnTo>
                    <a:lnTo>
                      <a:pt x="1299" y="415"/>
                    </a:lnTo>
                    <a:lnTo>
                      <a:pt x="974" y="739"/>
                    </a:lnTo>
                    <a:lnTo>
                      <a:pt x="582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21391800">
                <a:off x="1216080" y="4916160"/>
                <a:ext cx="83880" cy="53280"/>
              </a:xfrm>
              <a:custGeom>
                <a:avLst/>
                <a:gdLst/>
                <a:ahLst/>
                <a:rect l="l" t="t" r="r" b="b"/>
                <a:pathLst>
                  <a:path w="2351" h="1852">
                    <a:moveTo>
                      <a:pt x="1143" y="169"/>
                    </a:moveTo>
                    <a:lnTo>
                      <a:pt x="1433" y="415"/>
                    </a:lnTo>
                    <a:lnTo>
                      <a:pt x="1411" y="515"/>
                    </a:lnTo>
                    <a:lnTo>
                      <a:pt x="1098" y="515"/>
                    </a:lnTo>
                    <a:lnTo>
                      <a:pt x="561" y="505"/>
                    </a:lnTo>
                    <a:lnTo>
                      <a:pt x="847" y="587"/>
                    </a:lnTo>
                    <a:lnTo>
                      <a:pt x="1159" y="621"/>
                    </a:lnTo>
                    <a:lnTo>
                      <a:pt x="1356" y="616"/>
                    </a:lnTo>
                    <a:lnTo>
                      <a:pt x="1490" y="739"/>
                    </a:lnTo>
                    <a:lnTo>
                      <a:pt x="1126" y="654"/>
                    </a:lnTo>
                    <a:lnTo>
                      <a:pt x="694" y="671"/>
                    </a:lnTo>
                    <a:lnTo>
                      <a:pt x="1286" y="856"/>
                    </a:lnTo>
                    <a:lnTo>
                      <a:pt x="771" y="747"/>
                    </a:lnTo>
                    <a:lnTo>
                      <a:pt x="213" y="762"/>
                    </a:lnTo>
                    <a:lnTo>
                      <a:pt x="0" y="817"/>
                    </a:lnTo>
                    <a:lnTo>
                      <a:pt x="478" y="822"/>
                    </a:lnTo>
                    <a:lnTo>
                      <a:pt x="849" y="849"/>
                    </a:lnTo>
                    <a:lnTo>
                      <a:pt x="1227" y="980"/>
                    </a:lnTo>
                    <a:lnTo>
                      <a:pt x="1509" y="1107"/>
                    </a:lnTo>
                    <a:lnTo>
                      <a:pt x="1745" y="1267"/>
                    </a:lnTo>
                    <a:lnTo>
                      <a:pt x="1959" y="1395"/>
                    </a:lnTo>
                    <a:lnTo>
                      <a:pt x="2005" y="1522"/>
                    </a:lnTo>
                    <a:lnTo>
                      <a:pt x="1747" y="1467"/>
                    </a:lnTo>
                    <a:lnTo>
                      <a:pt x="2081" y="1852"/>
                    </a:lnTo>
                    <a:lnTo>
                      <a:pt x="2117" y="1656"/>
                    </a:lnTo>
                    <a:lnTo>
                      <a:pt x="2240" y="1646"/>
                    </a:lnTo>
                    <a:lnTo>
                      <a:pt x="2351" y="1623"/>
                    </a:lnTo>
                    <a:lnTo>
                      <a:pt x="2263" y="1377"/>
                    </a:lnTo>
                    <a:lnTo>
                      <a:pt x="2038" y="1242"/>
                    </a:lnTo>
                    <a:lnTo>
                      <a:pt x="1736" y="840"/>
                    </a:lnTo>
                    <a:lnTo>
                      <a:pt x="1591" y="706"/>
                    </a:lnTo>
                    <a:lnTo>
                      <a:pt x="1747" y="694"/>
                    </a:lnTo>
                    <a:lnTo>
                      <a:pt x="2098" y="988"/>
                    </a:lnTo>
                    <a:lnTo>
                      <a:pt x="1769" y="583"/>
                    </a:lnTo>
                    <a:lnTo>
                      <a:pt x="1601" y="538"/>
                    </a:lnTo>
                    <a:lnTo>
                      <a:pt x="1466" y="302"/>
                    </a:lnTo>
                    <a:lnTo>
                      <a:pt x="1065" y="58"/>
                    </a:lnTo>
                    <a:lnTo>
                      <a:pt x="840" y="0"/>
                    </a:lnTo>
                    <a:lnTo>
                      <a:pt x="1143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21391800">
                <a:off x="1274040" y="4957920"/>
                <a:ext cx="42120" cy="41040"/>
              </a:xfrm>
              <a:custGeom>
                <a:avLst/>
                <a:gdLst/>
                <a:ahLst/>
                <a:rect l="l" t="t" r="r" b="b"/>
                <a:pathLst>
                  <a:path w="1181" h="1421">
                    <a:moveTo>
                      <a:pt x="341" y="190"/>
                    </a:moveTo>
                    <a:lnTo>
                      <a:pt x="0" y="408"/>
                    </a:lnTo>
                    <a:lnTo>
                      <a:pt x="394" y="302"/>
                    </a:lnTo>
                    <a:lnTo>
                      <a:pt x="452" y="424"/>
                    </a:lnTo>
                    <a:lnTo>
                      <a:pt x="464" y="705"/>
                    </a:lnTo>
                    <a:lnTo>
                      <a:pt x="431" y="939"/>
                    </a:lnTo>
                    <a:lnTo>
                      <a:pt x="374" y="1152"/>
                    </a:lnTo>
                    <a:lnTo>
                      <a:pt x="329" y="1409"/>
                    </a:lnTo>
                    <a:lnTo>
                      <a:pt x="442" y="1421"/>
                    </a:lnTo>
                    <a:lnTo>
                      <a:pt x="531" y="1308"/>
                    </a:lnTo>
                    <a:lnTo>
                      <a:pt x="520" y="1421"/>
                    </a:lnTo>
                    <a:lnTo>
                      <a:pt x="576" y="1353"/>
                    </a:lnTo>
                    <a:lnTo>
                      <a:pt x="620" y="1230"/>
                    </a:lnTo>
                    <a:lnTo>
                      <a:pt x="665" y="1320"/>
                    </a:lnTo>
                    <a:lnTo>
                      <a:pt x="755" y="1074"/>
                    </a:lnTo>
                    <a:lnTo>
                      <a:pt x="833" y="996"/>
                    </a:lnTo>
                    <a:lnTo>
                      <a:pt x="823" y="1119"/>
                    </a:lnTo>
                    <a:lnTo>
                      <a:pt x="979" y="996"/>
                    </a:lnTo>
                    <a:lnTo>
                      <a:pt x="1080" y="851"/>
                    </a:lnTo>
                    <a:lnTo>
                      <a:pt x="1035" y="1017"/>
                    </a:lnTo>
                    <a:lnTo>
                      <a:pt x="1114" y="939"/>
                    </a:lnTo>
                    <a:lnTo>
                      <a:pt x="1181" y="760"/>
                    </a:lnTo>
                    <a:lnTo>
                      <a:pt x="1124" y="504"/>
                    </a:lnTo>
                    <a:lnTo>
                      <a:pt x="1035" y="280"/>
                    </a:lnTo>
                    <a:lnTo>
                      <a:pt x="956" y="167"/>
                    </a:lnTo>
                    <a:lnTo>
                      <a:pt x="655" y="0"/>
                    </a:lnTo>
                    <a:lnTo>
                      <a:pt x="890" y="223"/>
                    </a:lnTo>
                    <a:lnTo>
                      <a:pt x="1035" y="437"/>
                    </a:lnTo>
                    <a:lnTo>
                      <a:pt x="1013" y="672"/>
                    </a:lnTo>
                    <a:lnTo>
                      <a:pt x="923" y="414"/>
                    </a:lnTo>
                    <a:lnTo>
                      <a:pt x="767" y="246"/>
                    </a:lnTo>
                    <a:lnTo>
                      <a:pt x="452" y="79"/>
                    </a:lnTo>
                    <a:lnTo>
                      <a:pt x="531" y="313"/>
                    </a:lnTo>
                    <a:lnTo>
                      <a:pt x="665" y="424"/>
                    </a:lnTo>
                    <a:lnTo>
                      <a:pt x="700" y="559"/>
                    </a:lnTo>
                    <a:lnTo>
                      <a:pt x="923" y="715"/>
                    </a:lnTo>
                    <a:lnTo>
                      <a:pt x="733" y="693"/>
                    </a:lnTo>
                    <a:lnTo>
                      <a:pt x="565" y="515"/>
                    </a:lnTo>
                    <a:lnTo>
                      <a:pt x="745" y="828"/>
                    </a:lnTo>
                    <a:lnTo>
                      <a:pt x="665" y="984"/>
                    </a:lnTo>
                    <a:lnTo>
                      <a:pt x="531" y="783"/>
                    </a:lnTo>
                    <a:lnTo>
                      <a:pt x="531" y="549"/>
                    </a:lnTo>
                    <a:lnTo>
                      <a:pt x="513" y="269"/>
                    </a:lnTo>
                    <a:lnTo>
                      <a:pt x="341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21391800">
                <a:off x="1276920" y="493236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896" h="1222">
                    <a:moveTo>
                      <a:pt x="225" y="363"/>
                    </a:moveTo>
                    <a:lnTo>
                      <a:pt x="407" y="609"/>
                    </a:lnTo>
                    <a:lnTo>
                      <a:pt x="579" y="684"/>
                    </a:lnTo>
                    <a:lnTo>
                      <a:pt x="739" y="1009"/>
                    </a:lnTo>
                    <a:lnTo>
                      <a:pt x="896" y="1222"/>
                    </a:lnTo>
                    <a:lnTo>
                      <a:pt x="784" y="875"/>
                    </a:lnTo>
                    <a:lnTo>
                      <a:pt x="705" y="639"/>
                    </a:lnTo>
                    <a:lnTo>
                      <a:pt x="582" y="428"/>
                    </a:lnTo>
                    <a:lnTo>
                      <a:pt x="414" y="338"/>
                    </a:lnTo>
                    <a:lnTo>
                      <a:pt x="97" y="0"/>
                    </a:lnTo>
                    <a:lnTo>
                      <a:pt x="0" y="43"/>
                    </a:lnTo>
                    <a:lnTo>
                      <a:pt x="225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21391800">
                <a:off x="1188360" y="493128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602" h="681">
                    <a:moveTo>
                      <a:pt x="784" y="224"/>
                    </a:moveTo>
                    <a:lnTo>
                      <a:pt x="481" y="335"/>
                    </a:lnTo>
                    <a:lnTo>
                      <a:pt x="202" y="536"/>
                    </a:lnTo>
                    <a:lnTo>
                      <a:pt x="0" y="681"/>
                    </a:lnTo>
                    <a:lnTo>
                      <a:pt x="190" y="468"/>
                    </a:lnTo>
                    <a:lnTo>
                      <a:pt x="459" y="257"/>
                    </a:lnTo>
                    <a:lnTo>
                      <a:pt x="751" y="133"/>
                    </a:lnTo>
                    <a:lnTo>
                      <a:pt x="852" y="55"/>
                    </a:lnTo>
                    <a:lnTo>
                      <a:pt x="1423" y="0"/>
                    </a:lnTo>
                    <a:lnTo>
                      <a:pt x="1602" y="33"/>
                    </a:lnTo>
                    <a:lnTo>
                      <a:pt x="1030" y="111"/>
                    </a:lnTo>
                    <a:lnTo>
                      <a:pt x="1165" y="166"/>
                    </a:lnTo>
                    <a:lnTo>
                      <a:pt x="1401" y="178"/>
                    </a:lnTo>
                    <a:lnTo>
                      <a:pt x="1042" y="257"/>
                    </a:lnTo>
                    <a:lnTo>
                      <a:pt x="1042" y="178"/>
                    </a:lnTo>
                    <a:lnTo>
                      <a:pt x="784" y="224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21391800">
                <a:off x="1186920" y="492192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2016" h="648">
                    <a:moveTo>
                      <a:pt x="1569" y="178"/>
                    </a:moveTo>
                    <a:lnTo>
                      <a:pt x="840" y="246"/>
                    </a:lnTo>
                    <a:lnTo>
                      <a:pt x="1031" y="157"/>
                    </a:lnTo>
                    <a:lnTo>
                      <a:pt x="717" y="246"/>
                    </a:lnTo>
                    <a:lnTo>
                      <a:pt x="326" y="492"/>
                    </a:lnTo>
                    <a:lnTo>
                      <a:pt x="0" y="648"/>
                    </a:lnTo>
                    <a:lnTo>
                      <a:pt x="281" y="414"/>
                    </a:lnTo>
                    <a:lnTo>
                      <a:pt x="504" y="269"/>
                    </a:lnTo>
                    <a:lnTo>
                      <a:pt x="695" y="168"/>
                    </a:lnTo>
                    <a:lnTo>
                      <a:pt x="1232" y="78"/>
                    </a:lnTo>
                    <a:lnTo>
                      <a:pt x="1479" y="0"/>
                    </a:lnTo>
                    <a:lnTo>
                      <a:pt x="2016" y="178"/>
                    </a:lnTo>
                    <a:lnTo>
                      <a:pt x="1479" y="90"/>
                    </a:lnTo>
                    <a:lnTo>
                      <a:pt x="1232" y="157"/>
                    </a:lnTo>
                    <a:lnTo>
                      <a:pt x="1569" y="178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21391800">
                <a:off x="1269360" y="5023440"/>
                <a:ext cx="19440" cy="36720"/>
              </a:xfrm>
              <a:custGeom>
                <a:avLst/>
                <a:gdLst/>
                <a:ahLst/>
                <a:rect l="l" t="t" r="r" b="b"/>
                <a:pathLst>
                  <a:path w="551" h="1267">
                    <a:moveTo>
                      <a:pt x="187" y="366"/>
                    </a:moveTo>
                    <a:lnTo>
                      <a:pt x="151" y="413"/>
                    </a:lnTo>
                    <a:lnTo>
                      <a:pt x="205" y="490"/>
                    </a:lnTo>
                    <a:lnTo>
                      <a:pt x="282" y="517"/>
                    </a:lnTo>
                    <a:lnTo>
                      <a:pt x="253" y="605"/>
                    </a:lnTo>
                    <a:lnTo>
                      <a:pt x="181" y="798"/>
                    </a:lnTo>
                    <a:lnTo>
                      <a:pt x="0" y="1267"/>
                    </a:lnTo>
                    <a:lnTo>
                      <a:pt x="56" y="1203"/>
                    </a:lnTo>
                    <a:lnTo>
                      <a:pt x="136" y="1026"/>
                    </a:lnTo>
                    <a:lnTo>
                      <a:pt x="196" y="889"/>
                    </a:lnTo>
                    <a:lnTo>
                      <a:pt x="295" y="749"/>
                    </a:lnTo>
                    <a:lnTo>
                      <a:pt x="482" y="505"/>
                    </a:lnTo>
                    <a:lnTo>
                      <a:pt x="542" y="376"/>
                    </a:lnTo>
                    <a:lnTo>
                      <a:pt x="551" y="238"/>
                    </a:lnTo>
                    <a:lnTo>
                      <a:pt x="502" y="148"/>
                    </a:lnTo>
                    <a:lnTo>
                      <a:pt x="413" y="120"/>
                    </a:lnTo>
                    <a:lnTo>
                      <a:pt x="344" y="79"/>
                    </a:lnTo>
                    <a:lnTo>
                      <a:pt x="344" y="0"/>
                    </a:lnTo>
                    <a:lnTo>
                      <a:pt x="215" y="268"/>
                    </a:lnTo>
                    <a:lnTo>
                      <a:pt x="187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21391800">
                <a:off x="1283760" y="501264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267" h="1371">
                    <a:moveTo>
                      <a:pt x="0" y="108"/>
                    </a:moveTo>
                    <a:lnTo>
                      <a:pt x="60" y="237"/>
                    </a:lnTo>
                    <a:lnTo>
                      <a:pt x="217" y="504"/>
                    </a:lnTo>
                    <a:lnTo>
                      <a:pt x="198" y="701"/>
                    </a:lnTo>
                    <a:lnTo>
                      <a:pt x="99" y="1066"/>
                    </a:lnTo>
                    <a:lnTo>
                      <a:pt x="20" y="1371"/>
                    </a:lnTo>
                    <a:lnTo>
                      <a:pt x="69" y="1362"/>
                    </a:lnTo>
                    <a:lnTo>
                      <a:pt x="148" y="986"/>
                    </a:lnTo>
                    <a:lnTo>
                      <a:pt x="267" y="543"/>
                    </a:lnTo>
                    <a:lnTo>
                      <a:pt x="228" y="385"/>
                    </a:lnTo>
                    <a:lnTo>
                      <a:pt x="79" y="188"/>
                    </a:lnTo>
                    <a:lnTo>
                      <a:pt x="0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21391800">
                <a:off x="1289160" y="500184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252" h="1752">
                    <a:moveTo>
                      <a:pt x="0" y="69"/>
                    </a:moveTo>
                    <a:lnTo>
                      <a:pt x="69" y="159"/>
                    </a:lnTo>
                    <a:lnTo>
                      <a:pt x="156" y="337"/>
                    </a:lnTo>
                    <a:lnTo>
                      <a:pt x="208" y="637"/>
                    </a:lnTo>
                    <a:lnTo>
                      <a:pt x="208" y="936"/>
                    </a:lnTo>
                    <a:lnTo>
                      <a:pt x="174" y="1013"/>
                    </a:lnTo>
                    <a:lnTo>
                      <a:pt x="174" y="1212"/>
                    </a:lnTo>
                    <a:lnTo>
                      <a:pt x="156" y="1408"/>
                    </a:lnTo>
                    <a:lnTo>
                      <a:pt x="112" y="1607"/>
                    </a:lnTo>
                    <a:lnTo>
                      <a:pt x="63" y="1723"/>
                    </a:lnTo>
                    <a:lnTo>
                      <a:pt x="116" y="1752"/>
                    </a:lnTo>
                    <a:lnTo>
                      <a:pt x="189" y="1337"/>
                    </a:lnTo>
                    <a:lnTo>
                      <a:pt x="217" y="1077"/>
                    </a:lnTo>
                    <a:lnTo>
                      <a:pt x="252" y="1012"/>
                    </a:lnTo>
                    <a:lnTo>
                      <a:pt x="242" y="598"/>
                    </a:lnTo>
                    <a:lnTo>
                      <a:pt x="193" y="352"/>
                    </a:lnTo>
                    <a:lnTo>
                      <a:pt x="160" y="256"/>
                    </a:lnTo>
                    <a:lnTo>
                      <a:pt x="99" y="139"/>
                    </a:lnTo>
                    <a:lnTo>
                      <a:pt x="2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21391800">
                <a:off x="1256400" y="506376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271" h="82">
                    <a:moveTo>
                      <a:pt x="0" y="16"/>
                    </a:moveTo>
                    <a:lnTo>
                      <a:pt x="54" y="47"/>
                    </a:lnTo>
                    <a:lnTo>
                      <a:pt x="164" y="57"/>
                    </a:lnTo>
                    <a:lnTo>
                      <a:pt x="87" y="0"/>
                    </a:lnTo>
                    <a:lnTo>
                      <a:pt x="184" y="0"/>
                    </a:lnTo>
                    <a:lnTo>
                      <a:pt x="267" y="18"/>
                    </a:lnTo>
                    <a:lnTo>
                      <a:pt x="271" y="47"/>
                    </a:lnTo>
                    <a:lnTo>
                      <a:pt x="146" y="82"/>
                    </a:lnTo>
                    <a:lnTo>
                      <a:pt x="73" y="77"/>
                    </a:lnTo>
                    <a:lnTo>
                      <a:pt x="21" y="6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21391800">
                <a:off x="1266120" y="504972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45" h="439">
                    <a:moveTo>
                      <a:pt x="0" y="439"/>
                    </a:moveTo>
                    <a:lnTo>
                      <a:pt x="34" y="283"/>
                    </a:lnTo>
                    <a:lnTo>
                      <a:pt x="68" y="158"/>
                    </a:lnTo>
                    <a:lnTo>
                      <a:pt x="111" y="72"/>
                    </a:lnTo>
                    <a:lnTo>
                      <a:pt x="150" y="13"/>
                    </a:lnTo>
                    <a:lnTo>
                      <a:pt x="245" y="0"/>
                    </a:lnTo>
                    <a:lnTo>
                      <a:pt x="226" y="90"/>
                    </a:lnTo>
                    <a:lnTo>
                      <a:pt x="178" y="212"/>
                    </a:lnTo>
                    <a:lnTo>
                      <a:pt x="82" y="246"/>
                    </a:lnTo>
                    <a:lnTo>
                      <a:pt x="34" y="366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1391800">
                <a:off x="1263600" y="5059800"/>
                <a:ext cx="44640" cy="14400"/>
              </a:xfrm>
              <a:custGeom>
                <a:avLst/>
                <a:gdLst/>
                <a:ahLst/>
                <a:rect l="l" t="t" r="r" b="b"/>
                <a:pathLst>
                  <a:path w="1253" h="506">
                    <a:moveTo>
                      <a:pt x="0" y="48"/>
                    </a:moveTo>
                    <a:lnTo>
                      <a:pt x="204" y="51"/>
                    </a:lnTo>
                    <a:lnTo>
                      <a:pt x="422" y="48"/>
                    </a:lnTo>
                    <a:lnTo>
                      <a:pt x="594" y="69"/>
                    </a:lnTo>
                    <a:lnTo>
                      <a:pt x="640" y="76"/>
                    </a:lnTo>
                    <a:lnTo>
                      <a:pt x="616" y="21"/>
                    </a:lnTo>
                    <a:lnTo>
                      <a:pt x="732" y="92"/>
                    </a:lnTo>
                    <a:lnTo>
                      <a:pt x="749" y="0"/>
                    </a:lnTo>
                    <a:lnTo>
                      <a:pt x="808" y="48"/>
                    </a:lnTo>
                    <a:lnTo>
                      <a:pt x="761" y="108"/>
                    </a:lnTo>
                    <a:lnTo>
                      <a:pt x="840" y="171"/>
                    </a:lnTo>
                    <a:lnTo>
                      <a:pt x="998" y="260"/>
                    </a:lnTo>
                    <a:lnTo>
                      <a:pt x="1113" y="374"/>
                    </a:lnTo>
                    <a:lnTo>
                      <a:pt x="1172" y="421"/>
                    </a:lnTo>
                    <a:lnTo>
                      <a:pt x="1253" y="506"/>
                    </a:lnTo>
                    <a:lnTo>
                      <a:pt x="1140" y="463"/>
                    </a:lnTo>
                    <a:lnTo>
                      <a:pt x="990" y="339"/>
                    </a:lnTo>
                    <a:lnTo>
                      <a:pt x="824" y="237"/>
                    </a:lnTo>
                    <a:lnTo>
                      <a:pt x="768" y="168"/>
                    </a:lnTo>
                    <a:lnTo>
                      <a:pt x="731" y="132"/>
                    </a:lnTo>
                    <a:lnTo>
                      <a:pt x="672" y="120"/>
                    </a:lnTo>
                    <a:lnTo>
                      <a:pt x="633" y="120"/>
                    </a:lnTo>
                    <a:lnTo>
                      <a:pt x="468" y="93"/>
                    </a:lnTo>
                    <a:lnTo>
                      <a:pt x="308" y="100"/>
                    </a:lnTo>
                    <a:lnTo>
                      <a:pt x="233" y="123"/>
                    </a:lnTo>
                    <a:lnTo>
                      <a:pt x="191" y="97"/>
                    </a:lnTo>
                    <a:lnTo>
                      <a:pt x="142" y="7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21391800">
                <a:off x="1266480" y="5051160"/>
                <a:ext cx="28080" cy="10800"/>
              </a:xfrm>
              <a:custGeom>
                <a:avLst/>
                <a:gdLst/>
                <a:ahLst/>
                <a:rect l="l" t="t" r="r" b="b"/>
                <a:pathLst>
                  <a:path w="791" h="386">
                    <a:moveTo>
                      <a:pt x="729" y="50"/>
                    </a:moveTo>
                    <a:lnTo>
                      <a:pt x="620" y="73"/>
                    </a:lnTo>
                    <a:lnTo>
                      <a:pt x="479" y="128"/>
                    </a:lnTo>
                    <a:lnTo>
                      <a:pt x="342" y="182"/>
                    </a:lnTo>
                    <a:lnTo>
                      <a:pt x="276" y="219"/>
                    </a:lnTo>
                    <a:lnTo>
                      <a:pt x="240" y="292"/>
                    </a:lnTo>
                    <a:lnTo>
                      <a:pt x="215" y="249"/>
                    </a:lnTo>
                    <a:lnTo>
                      <a:pt x="188" y="264"/>
                    </a:lnTo>
                    <a:lnTo>
                      <a:pt x="140" y="327"/>
                    </a:lnTo>
                    <a:lnTo>
                      <a:pt x="97" y="386"/>
                    </a:lnTo>
                    <a:lnTo>
                      <a:pt x="0" y="362"/>
                    </a:lnTo>
                    <a:lnTo>
                      <a:pt x="113" y="264"/>
                    </a:lnTo>
                    <a:lnTo>
                      <a:pt x="276" y="162"/>
                    </a:lnTo>
                    <a:lnTo>
                      <a:pt x="405" y="112"/>
                    </a:lnTo>
                    <a:lnTo>
                      <a:pt x="538" y="50"/>
                    </a:lnTo>
                    <a:lnTo>
                      <a:pt x="636" y="7"/>
                    </a:lnTo>
                    <a:lnTo>
                      <a:pt x="791" y="0"/>
                    </a:lnTo>
                    <a:lnTo>
                      <a:pt x="788" y="42"/>
                    </a:lnTo>
                    <a:lnTo>
                      <a:pt x="72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21391800">
                <a:off x="1292040" y="502920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49" h="1534">
                    <a:moveTo>
                      <a:pt x="394" y="1511"/>
                    </a:moveTo>
                    <a:lnTo>
                      <a:pt x="261" y="1277"/>
                    </a:lnTo>
                    <a:lnTo>
                      <a:pt x="186" y="1065"/>
                    </a:lnTo>
                    <a:lnTo>
                      <a:pt x="137" y="1013"/>
                    </a:lnTo>
                    <a:lnTo>
                      <a:pt x="117" y="923"/>
                    </a:lnTo>
                    <a:lnTo>
                      <a:pt x="70" y="799"/>
                    </a:lnTo>
                    <a:lnTo>
                      <a:pt x="0" y="755"/>
                    </a:lnTo>
                    <a:lnTo>
                      <a:pt x="93" y="615"/>
                    </a:lnTo>
                    <a:lnTo>
                      <a:pt x="140" y="253"/>
                    </a:lnTo>
                    <a:lnTo>
                      <a:pt x="150" y="100"/>
                    </a:lnTo>
                    <a:lnTo>
                      <a:pt x="178" y="31"/>
                    </a:lnTo>
                    <a:lnTo>
                      <a:pt x="223" y="10"/>
                    </a:lnTo>
                    <a:lnTo>
                      <a:pt x="273" y="6"/>
                    </a:lnTo>
                    <a:lnTo>
                      <a:pt x="331" y="0"/>
                    </a:lnTo>
                    <a:lnTo>
                      <a:pt x="319" y="35"/>
                    </a:lnTo>
                    <a:lnTo>
                      <a:pt x="219" y="59"/>
                    </a:lnTo>
                    <a:lnTo>
                      <a:pt x="180" y="156"/>
                    </a:lnTo>
                    <a:lnTo>
                      <a:pt x="168" y="284"/>
                    </a:lnTo>
                    <a:lnTo>
                      <a:pt x="195" y="395"/>
                    </a:lnTo>
                    <a:lnTo>
                      <a:pt x="244" y="432"/>
                    </a:lnTo>
                    <a:lnTo>
                      <a:pt x="266" y="486"/>
                    </a:lnTo>
                    <a:lnTo>
                      <a:pt x="178" y="494"/>
                    </a:lnTo>
                    <a:lnTo>
                      <a:pt x="142" y="589"/>
                    </a:lnTo>
                    <a:lnTo>
                      <a:pt x="142" y="761"/>
                    </a:lnTo>
                    <a:lnTo>
                      <a:pt x="112" y="791"/>
                    </a:lnTo>
                    <a:lnTo>
                      <a:pt x="160" y="895"/>
                    </a:lnTo>
                    <a:lnTo>
                      <a:pt x="199" y="943"/>
                    </a:lnTo>
                    <a:lnTo>
                      <a:pt x="231" y="905"/>
                    </a:lnTo>
                    <a:lnTo>
                      <a:pt x="330" y="490"/>
                    </a:lnTo>
                    <a:lnTo>
                      <a:pt x="379" y="444"/>
                    </a:lnTo>
                    <a:lnTo>
                      <a:pt x="382" y="354"/>
                    </a:lnTo>
                    <a:lnTo>
                      <a:pt x="354" y="539"/>
                    </a:lnTo>
                    <a:lnTo>
                      <a:pt x="336" y="755"/>
                    </a:lnTo>
                    <a:lnTo>
                      <a:pt x="239" y="1065"/>
                    </a:lnTo>
                    <a:lnTo>
                      <a:pt x="300" y="1262"/>
                    </a:lnTo>
                    <a:lnTo>
                      <a:pt x="418" y="1461"/>
                    </a:lnTo>
                    <a:lnTo>
                      <a:pt x="449" y="1534"/>
                    </a:lnTo>
                    <a:lnTo>
                      <a:pt x="394" y="1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21391800">
                <a:off x="1253880" y="506232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514" h="310">
                    <a:moveTo>
                      <a:pt x="0" y="123"/>
                    </a:moveTo>
                    <a:lnTo>
                      <a:pt x="22" y="195"/>
                    </a:lnTo>
                    <a:lnTo>
                      <a:pt x="80" y="232"/>
                    </a:lnTo>
                    <a:lnTo>
                      <a:pt x="171" y="255"/>
                    </a:lnTo>
                    <a:lnTo>
                      <a:pt x="262" y="268"/>
                    </a:lnTo>
                    <a:lnTo>
                      <a:pt x="285" y="219"/>
                    </a:lnTo>
                    <a:lnTo>
                      <a:pt x="350" y="228"/>
                    </a:lnTo>
                    <a:lnTo>
                      <a:pt x="445" y="292"/>
                    </a:lnTo>
                    <a:lnTo>
                      <a:pt x="417" y="298"/>
                    </a:lnTo>
                    <a:lnTo>
                      <a:pt x="277" y="242"/>
                    </a:lnTo>
                    <a:lnTo>
                      <a:pt x="287" y="262"/>
                    </a:lnTo>
                    <a:lnTo>
                      <a:pt x="397" y="308"/>
                    </a:lnTo>
                    <a:lnTo>
                      <a:pt x="471" y="310"/>
                    </a:lnTo>
                    <a:lnTo>
                      <a:pt x="514" y="291"/>
                    </a:lnTo>
                    <a:lnTo>
                      <a:pt x="386" y="177"/>
                    </a:lnTo>
                    <a:lnTo>
                      <a:pt x="278" y="141"/>
                    </a:lnTo>
                    <a:lnTo>
                      <a:pt x="278" y="199"/>
                    </a:lnTo>
                    <a:lnTo>
                      <a:pt x="198" y="213"/>
                    </a:lnTo>
                    <a:lnTo>
                      <a:pt x="133" y="177"/>
                    </a:lnTo>
                    <a:lnTo>
                      <a:pt x="86" y="134"/>
                    </a:lnTo>
                    <a:lnTo>
                      <a:pt x="82" y="76"/>
                    </a:lnTo>
                    <a:lnTo>
                      <a:pt x="23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21391800">
                <a:off x="1266120" y="5065560"/>
                <a:ext cx="45000" cy="20520"/>
              </a:xfrm>
              <a:custGeom>
                <a:avLst/>
                <a:gdLst/>
                <a:ahLst/>
                <a:rect l="l" t="t" r="r" b="b"/>
                <a:pathLst>
                  <a:path w="1260" h="710">
                    <a:moveTo>
                      <a:pt x="98" y="67"/>
                    </a:moveTo>
                    <a:lnTo>
                      <a:pt x="156" y="69"/>
                    </a:lnTo>
                    <a:lnTo>
                      <a:pt x="243" y="84"/>
                    </a:lnTo>
                    <a:lnTo>
                      <a:pt x="307" y="115"/>
                    </a:lnTo>
                    <a:lnTo>
                      <a:pt x="369" y="156"/>
                    </a:lnTo>
                    <a:lnTo>
                      <a:pt x="492" y="174"/>
                    </a:lnTo>
                    <a:lnTo>
                      <a:pt x="579" y="205"/>
                    </a:lnTo>
                    <a:lnTo>
                      <a:pt x="644" y="256"/>
                    </a:lnTo>
                    <a:lnTo>
                      <a:pt x="785" y="337"/>
                    </a:lnTo>
                    <a:lnTo>
                      <a:pt x="875" y="400"/>
                    </a:lnTo>
                    <a:lnTo>
                      <a:pt x="930" y="476"/>
                    </a:lnTo>
                    <a:lnTo>
                      <a:pt x="999" y="524"/>
                    </a:lnTo>
                    <a:lnTo>
                      <a:pt x="1054" y="587"/>
                    </a:lnTo>
                    <a:lnTo>
                      <a:pt x="1118" y="576"/>
                    </a:lnTo>
                    <a:lnTo>
                      <a:pt x="1099" y="531"/>
                    </a:lnTo>
                    <a:lnTo>
                      <a:pt x="1122" y="511"/>
                    </a:lnTo>
                    <a:lnTo>
                      <a:pt x="1181" y="552"/>
                    </a:lnTo>
                    <a:lnTo>
                      <a:pt x="1192" y="627"/>
                    </a:lnTo>
                    <a:lnTo>
                      <a:pt x="1184" y="710"/>
                    </a:lnTo>
                    <a:lnTo>
                      <a:pt x="1232" y="658"/>
                    </a:lnTo>
                    <a:lnTo>
                      <a:pt x="1260" y="576"/>
                    </a:lnTo>
                    <a:lnTo>
                      <a:pt x="1198" y="507"/>
                    </a:lnTo>
                    <a:lnTo>
                      <a:pt x="1127" y="467"/>
                    </a:lnTo>
                    <a:lnTo>
                      <a:pt x="1028" y="446"/>
                    </a:lnTo>
                    <a:lnTo>
                      <a:pt x="926" y="383"/>
                    </a:lnTo>
                    <a:lnTo>
                      <a:pt x="843" y="318"/>
                    </a:lnTo>
                    <a:lnTo>
                      <a:pt x="725" y="254"/>
                    </a:lnTo>
                    <a:lnTo>
                      <a:pt x="664" y="210"/>
                    </a:lnTo>
                    <a:lnTo>
                      <a:pt x="610" y="129"/>
                    </a:lnTo>
                    <a:lnTo>
                      <a:pt x="503" y="126"/>
                    </a:lnTo>
                    <a:lnTo>
                      <a:pt x="392" y="91"/>
                    </a:lnTo>
                    <a:lnTo>
                      <a:pt x="330" y="69"/>
                    </a:lnTo>
                    <a:lnTo>
                      <a:pt x="239" y="61"/>
                    </a:lnTo>
                    <a:lnTo>
                      <a:pt x="167" y="42"/>
                    </a:lnTo>
                    <a:lnTo>
                      <a:pt x="115" y="36"/>
                    </a:lnTo>
                    <a:lnTo>
                      <a:pt x="0" y="0"/>
                    </a:lnTo>
                    <a:lnTo>
                      <a:pt x="112" y="112"/>
                    </a:lnTo>
                    <a:lnTo>
                      <a:pt x="163" y="139"/>
                    </a:lnTo>
                    <a:lnTo>
                      <a:pt x="194" y="129"/>
                    </a:lnTo>
                    <a:lnTo>
                      <a:pt x="184" y="10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21391800">
                <a:off x="1307160" y="507060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149" h="422">
                    <a:moveTo>
                      <a:pt x="24" y="79"/>
                    </a:moveTo>
                    <a:lnTo>
                      <a:pt x="65" y="102"/>
                    </a:lnTo>
                    <a:lnTo>
                      <a:pt x="111" y="148"/>
                    </a:lnTo>
                    <a:lnTo>
                      <a:pt x="114" y="189"/>
                    </a:lnTo>
                    <a:lnTo>
                      <a:pt x="114" y="262"/>
                    </a:lnTo>
                    <a:lnTo>
                      <a:pt x="90" y="357"/>
                    </a:lnTo>
                    <a:lnTo>
                      <a:pt x="73" y="422"/>
                    </a:lnTo>
                    <a:lnTo>
                      <a:pt x="124" y="381"/>
                    </a:lnTo>
                    <a:lnTo>
                      <a:pt x="149" y="282"/>
                    </a:lnTo>
                    <a:lnTo>
                      <a:pt x="149" y="189"/>
                    </a:lnTo>
                    <a:lnTo>
                      <a:pt x="138" y="141"/>
                    </a:lnTo>
                    <a:lnTo>
                      <a:pt x="100" y="103"/>
                    </a:lnTo>
                    <a:lnTo>
                      <a:pt x="0" y="0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21391800">
                <a:off x="1263240" y="5068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85" h="233">
                    <a:moveTo>
                      <a:pt x="33" y="24"/>
                    </a:moveTo>
                    <a:lnTo>
                      <a:pt x="33" y="72"/>
                    </a:lnTo>
                    <a:lnTo>
                      <a:pt x="64" y="145"/>
                    </a:lnTo>
                    <a:lnTo>
                      <a:pt x="185" y="231"/>
                    </a:lnTo>
                    <a:lnTo>
                      <a:pt x="123" y="233"/>
                    </a:lnTo>
                    <a:lnTo>
                      <a:pt x="38" y="162"/>
                    </a:lnTo>
                    <a:lnTo>
                      <a:pt x="2" y="96"/>
                    </a:lnTo>
                    <a:lnTo>
                      <a:pt x="0" y="24"/>
                    </a:lnTo>
                    <a:lnTo>
                      <a:pt x="26" y="0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21391800">
                <a:off x="1272240" y="5080320"/>
                <a:ext cx="39960" cy="40680"/>
              </a:xfrm>
              <a:custGeom>
                <a:avLst/>
                <a:gdLst/>
                <a:ahLst/>
                <a:rect l="l" t="t" r="r" b="b"/>
                <a:pathLst>
                  <a:path w="1121" h="1406">
                    <a:moveTo>
                      <a:pt x="1121" y="108"/>
                    </a:moveTo>
                    <a:lnTo>
                      <a:pt x="1096" y="149"/>
                    </a:lnTo>
                    <a:lnTo>
                      <a:pt x="1080" y="295"/>
                    </a:lnTo>
                    <a:lnTo>
                      <a:pt x="989" y="597"/>
                    </a:lnTo>
                    <a:lnTo>
                      <a:pt x="901" y="842"/>
                    </a:lnTo>
                    <a:lnTo>
                      <a:pt x="838" y="975"/>
                    </a:lnTo>
                    <a:lnTo>
                      <a:pt x="836" y="1009"/>
                    </a:lnTo>
                    <a:lnTo>
                      <a:pt x="831" y="1055"/>
                    </a:lnTo>
                    <a:lnTo>
                      <a:pt x="822" y="1191"/>
                    </a:lnTo>
                    <a:lnTo>
                      <a:pt x="781" y="1253"/>
                    </a:lnTo>
                    <a:lnTo>
                      <a:pt x="636" y="1332"/>
                    </a:lnTo>
                    <a:lnTo>
                      <a:pt x="481" y="1406"/>
                    </a:lnTo>
                    <a:lnTo>
                      <a:pt x="382" y="1361"/>
                    </a:lnTo>
                    <a:lnTo>
                      <a:pt x="233" y="1328"/>
                    </a:lnTo>
                    <a:lnTo>
                      <a:pt x="149" y="1257"/>
                    </a:lnTo>
                    <a:lnTo>
                      <a:pt x="103" y="1207"/>
                    </a:lnTo>
                    <a:lnTo>
                      <a:pt x="103" y="1155"/>
                    </a:lnTo>
                    <a:lnTo>
                      <a:pt x="69" y="1087"/>
                    </a:lnTo>
                    <a:lnTo>
                      <a:pt x="0" y="1052"/>
                    </a:lnTo>
                    <a:lnTo>
                      <a:pt x="103" y="1042"/>
                    </a:lnTo>
                    <a:lnTo>
                      <a:pt x="157" y="1228"/>
                    </a:lnTo>
                    <a:lnTo>
                      <a:pt x="303" y="1295"/>
                    </a:lnTo>
                    <a:lnTo>
                      <a:pt x="497" y="1315"/>
                    </a:lnTo>
                    <a:lnTo>
                      <a:pt x="606" y="1244"/>
                    </a:lnTo>
                    <a:lnTo>
                      <a:pt x="706" y="1037"/>
                    </a:lnTo>
                    <a:lnTo>
                      <a:pt x="772" y="913"/>
                    </a:lnTo>
                    <a:lnTo>
                      <a:pt x="897" y="710"/>
                    </a:lnTo>
                    <a:lnTo>
                      <a:pt x="919" y="577"/>
                    </a:lnTo>
                    <a:lnTo>
                      <a:pt x="897" y="481"/>
                    </a:lnTo>
                    <a:lnTo>
                      <a:pt x="838" y="398"/>
                    </a:lnTo>
                    <a:lnTo>
                      <a:pt x="838" y="332"/>
                    </a:lnTo>
                    <a:lnTo>
                      <a:pt x="922" y="316"/>
                    </a:lnTo>
                    <a:lnTo>
                      <a:pt x="981" y="236"/>
                    </a:lnTo>
                    <a:lnTo>
                      <a:pt x="972" y="149"/>
                    </a:lnTo>
                    <a:lnTo>
                      <a:pt x="897" y="0"/>
                    </a:lnTo>
                    <a:lnTo>
                      <a:pt x="992" y="74"/>
                    </a:lnTo>
                    <a:lnTo>
                      <a:pt x="1010" y="228"/>
                    </a:lnTo>
                    <a:lnTo>
                      <a:pt x="1026" y="319"/>
                    </a:lnTo>
                    <a:lnTo>
                      <a:pt x="1059" y="174"/>
                    </a:lnTo>
                    <a:lnTo>
                      <a:pt x="1118" y="74"/>
                    </a:lnTo>
                    <a:lnTo>
                      <a:pt x="112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21391800">
                <a:off x="1276920" y="508320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399" h="607">
                    <a:moveTo>
                      <a:pt x="337" y="13"/>
                    </a:moveTo>
                    <a:lnTo>
                      <a:pt x="304" y="154"/>
                    </a:lnTo>
                    <a:lnTo>
                      <a:pt x="133" y="424"/>
                    </a:lnTo>
                    <a:lnTo>
                      <a:pt x="0" y="577"/>
                    </a:lnTo>
                    <a:lnTo>
                      <a:pt x="146" y="511"/>
                    </a:lnTo>
                    <a:lnTo>
                      <a:pt x="151" y="607"/>
                    </a:lnTo>
                    <a:lnTo>
                      <a:pt x="278" y="375"/>
                    </a:lnTo>
                    <a:lnTo>
                      <a:pt x="321" y="270"/>
                    </a:lnTo>
                    <a:lnTo>
                      <a:pt x="350" y="340"/>
                    </a:lnTo>
                    <a:lnTo>
                      <a:pt x="399" y="283"/>
                    </a:lnTo>
                    <a:lnTo>
                      <a:pt x="386" y="179"/>
                    </a:lnTo>
                    <a:lnTo>
                      <a:pt x="358" y="95"/>
                    </a:lnTo>
                    <a:lnTo>
                      <a:pt x="358" y="0"/>
                    </a:lnTo>
                    <a:lnTo>
                      <a:pt x="33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21391800">
                <a:off x="1302480" y="5028120"/>
                <a:ext cx="2520" cy="20520"/>
              </a:xfrm>
              <a:custGeom>
                <a:avLst/>
                <a:gdLst/>
                <a:ahLst/>
                <a:rect l="l" t="t" r="r" b="b"/>
                <a:pathLst>
                  <a:path w="76" h="712">
                    <a:moveTo>
                      <a:pt x="6" y="82"/>
                    </a:moveTo>
                    <a:lnTo>
                      <a:pt x="18" y="184"/>
                    </a:lnTo>
                    <a:lnTo>
                      <a:pt x="43" y="289"/>
                    </a:lnTo>
                    <a:lnTo>
                      <a:pt x="0" y="712"/>
                    </a:lnTo>
                    <a:lnTo>
                      <a:pt x="73" y="474"/>
                    </a:lnTo>
                    <a:lnTo>
                      <a:pt x="76" y="343"/>
                    </a:lnTo>
                    <a:lnTo>
                      <a:pt x="72" y="258"/>
                    </a:lnTo>
                    <a:lnTo>
                      <a:pt x="38" y="164"/>
                    </a:lnTo>
                    <a:lnTo>
                      <a:pt x="27" y="0"/>
                    </a:lnTo>
                    <a:lnTo>
                      <a:pt x="6" y="24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21391800">
                <a:off x="1237680" y="5070240"/>
                <a:ext cx="27720" cy="30600"/>
              </a:xfrm>
              <a:custGeom>
                <a:avLst/>
                <a:gdLst/>
                <a:ahLst/>
                <a:rect l="l" t="t" r="r" b="b"/>
                <a:pathLst>
                  <a:path w="787" h="1054">
                    <a:moveTo>
                      <a:pt x="787" y="74"/>
                    </a:moveTo>
                    <a:lnTo>
                      <a:pt x="703" y="74"/>
                    </a:lnTo>
                    <a:lnTo>
                      <a:pt x="669" y="133"/>
                    </a:lnTo>
                    <a:lnTo>
                      <a:pt x="577" y="393"/>
                    </a:lnTo>
                    <a:lnTo>
                      <a:pt x="460" y="669"/>
                    </a:lnTo>
                    <a:lnTo>
                      <a:pt x="317" y="902"/>
                    </a:lnTo>
                    <a:lnTo>
                      <a:pt x="254" y="990"/>
                    </a:lnTo>
                    <a:lnTo>
                      <a:pt x="167" y="1054"/>
                    </a:lnTo>
                    <a:lnTo>
                      <a:pt x="0" y="1054"/>
                    </a:lnTo>
                    <a:lnTo>
                      <a:pt x="217" y="962"/>
                    </a:lnTo>
                    <a:lnTo>
                      <a:pt x="376" y="743"/>
                    </a:lnTo>
                    <a:lnTo>
                      <a:pt x="511" y="475"/>
                    </a:lnTo>
                    <a:lnTo>
                      <a:pt x="619" y="167"/>
                    </a:lnTo>
                    <a:lnTo>
                      <a:pt x="669" y="41"/>
                    </a:lnTo>
                    <a:lnTo>
                      <a:pt x="769" y="0"/>
                    </a:lnTo>
                    <a:lnTo>
                      <a:pt x="78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21391800">
                <a:off x="1236960" y="514512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08" h="587">
                    <a:moveTo>
                      <a:pt x="0" y="580"/>
                    </a:moveTo>
                    <a:lnTo>
                      <a:pt x="83" y="382"/>
                    </a:lnTo>
                    <a:lnTo>
                      <a:pt x="182" y="146"/>
                    </a:lnTo>
                    <a:lnTo>
                      <a:pt x="241" y="0"/>
                    </a:lnTo>
                    <a:lnTo>
                      <a:pt x="269" y="27"/>
                    </a:lnTo>
                    <a:lnTo>
                      <a:pt x="213" y="146"/>
                    </a:lnTo>
                    <a:lnTo>
                      <a:pt x="206" y="197"/>
                    </a:lnTo>
                    <a:lnTo>
                      <a:pt x="209" y="245"/>
                    </a:lnTo>
                    <a:lnTo>
                      <a:pt x="308" y="347"/>
                    </a:lnTo>
                    <a:lnTo>
                      <a:pt x="234" y="446"/>
                    </a:lnTo>
                    <a:lnTo>
                      <a:pt x="261" y="58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21391800">
                <a:off x="1305000" y="5069160"/>
                <a:ext cx="50400" cy="89280"/>
              </a:xfrm>
              <a:custGeom>
                <a:avLst/>
                <a:gdLst/>
                <a:ahLst/>
                <a:rect l="l" t="t" r="r" b="b"/>
                <a:pathLst>
                  <a:path w="1414" h="3085">
                    <a:moveTo>
                      <a:pt x="130" y="0"/>
                    </a:moveTo>
                    <a:lnTo>
                      <a:pt x="425" y="102"/>
                    </a:lnTo>
                    <a:lnTo>
                      <a:pt x="755" y="226"/>
                    </a:lnTo>
                    <a:lnTo>
                      <a:pt x="834" y="443"/>
                    </a:lnTo>
                    <a:lnTo>
                      <a:pt x="1127" y="788"/>
                    </a:lnTo>
                    <a:lnTo>
                      <a:pt x="1189" y="1273"/>
                    </a:lnTo>
                    <a:lnTo>
                      <a:pt x="1149" y="1924"/>
                    </a:lnTo>
                    <a:lnTo>
                      <a:pt x="1353" y="2494"/>
                    </a:lnTo>
                    <a:lnTo>
                      <a:pt x="1414" y="3085"/>
                    </a:lnTo>
                    <a:lnTo>
                      <a:pt x="1100" y="3080"/>
                    </a:lnTo>
                    <a:lnTo>
                      <a:pt x="755" y="2567"/>
                    </a:lnTo>
                    <a:lnTo>
                      <a:pt x="561" y="2426"/>
                    </a:lnTo>
                    <a:lnTo>
                      <a:pt x="176" y="1789"/>
                    </a:lnTo>
                    <a:lnTo>
                      <a:pt x="0" y="1352"/>
                    </a:lnTo>
                    <a:lnTo>
                      <a:pt x="191" y="819"/>
                    </a:lnTo>
                    <a:lnTo>
                      <a:pt x="250" y="454"/>
                    </a:lnTo>
                    <a:lnTo>
                      <a:pt x="349" y="306"/>
                    </a:lnTo>
                    <a:lnTo>
                      <a:pt x="311" y="136"/>
                    </a:lnTo>
                    <a:lnTo>
                      <a:pt x="187" y="91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21391800">
                <a:off x="1329480" y="507528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397" h="988">
                    <a:moveTo>
                      <a:pt x="44" y="91"/>
                    </a:moveTo>
                    <a:lnTo>
                      <a:pt x="0" y="0"/>
                    </a:lnTo>
                    <a:lnTo>
                      <a:pt x="204" y="81"/>
                    </a:lnTo>
                    <a:lnTo>
                      <a:pt x="397" y="568"/>
                    </a:lnTo>
                    <a:lnTo>
                      <a:pt x="329" y="988"/>
                    </a:lnTo>
                    <a:lnTo>
                      <a:pt x="295" y="534"/>
                    </a:lnTo>
                    <a:lnTo>
                      <a:pt x="133" y="405"/>
                    </a:lnTo>
                    <a:lnTo>
                      <a:pt x="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21391800">
                <a:off x="1310760" y="513144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739" h="918">
                    <a:moveTo>
                      <a:pt x="0" y="34"/>
                    </a:moveTo>
                    <a:lnTo>
                      <a:pt x="80" y="261"/>
                    </a:lnTo>
                    <a:lnTo>
                      <a:pt x="261" y="601"/>
                    </a:lnTo>
                    <a:lnTo>
                      <a:pt x="432" y="749"/>
                    </a:lnTo>
                    <a:lnTo>
                      <a:pt x="511" y="908"/>
                    </a:lnTo>
                    <a:lnTo>
                      <a:pt x="739" y="918"/>
                    </a:lnTo>
                    <a:lnTo>
                      <a:pt x="579" y="533"/>
                    </a:lnTo>
                    <a:lnTo>
                      <a:pt x="397" y="330"/>
                    </a:lnTo>
                    <a:lnTo>
                      <a:pt x="12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21391800">
                <a:off x="1071360" y="5089680"/>
                <a:ext cx="32400" cy="83520"/>
              </a:xfrm>
              <a:custGeom>
                <a:avLst/>
                <a:gdLst/>
                <a:ahLst/>
                <a:rect l="l" t="t" r="r" b="b"/>
                <a:pathLst>
                  <a:path w="911" h="2890">
                    <a:moveTo>
                      <a:pt x="911" y="0"/>
                    </a:moveTo>
                    <a:lnTo>
                      <a:pt x="860" y="332"/>
                    </a:lnTo>
                    <a:lnTo>
                      <a:pt x="492" y="967"/>
                    </a:lnTo>
                    <a:lnTo>
                      <a:pt x="484" y="1272"/>
                    </a:lnTo>
                    <a:lnTo>
                      <a:pt x="776" y="1937"/>
                    </a:lnTo>
                    <a:lnTo>
                      <a:pt x="459" y="1736"/>
                    </a:lnTo>
                    <a:lnTo>
                      <a:pt x="425" y="2070"/>
                    </a:lnTo>
                    <a:lnTo>
                      <a:pt x="621" y="2837"/>
                    </a:lnTo>
                    <a:lnTo>
                      <a:pt x="33" y="2890"/>
                    </a:lnTo>
                    <a:lnTo>
                      <a:pt x="0" y="1452"/>
                    </a:lnTo>
                    <a:lnTo>
                      <a:pt x="166" y="683"/>
                    </a:lnTo>
                    <a:lnTo>
                      <a:pt x="501" y="214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21391800">
                <a:off x="1103400" y="5107320"/>
                <a:ext cx="32400" cy="61920"/>
              </a:xfrm>
              <a:custGeom>
                <a:avLst/>
                <a:gdLst/>
                <a:ahLst/>
                <a:rect l="l" t="t" r="r" b="b"/>
                <a:pathLst>
                  <a:path w="911" h="2145">
                    <a:moveTo>
                      <a:pt x="677" y="2108"/>
                    </a:moveTo>
                    <a:lnTo>
                      <a:pt x="491" y="2134"/>
                    </a:lnTo>
                    <a:lnTo>
                      <a:pt x="158" y="1707"/>
                    </a:lnTo>
                    <a:lnTo>
                      <a:pt x="158" y="1488"/>
                    </a:lnTo>
                    <a:lnTo>
                      <a:pt x="493" y="1539"/>
                    </a:lnTo>
                    <a:lnTo>
                      <a:pt x="0" y="770"/>
                    </a:lnTo>
                    <a:lnTo>
                      <a:pt x="409" y="1155"/>
                    </a:lnTo>
                    <a:lnTo>
                      <a:pt x="409" y="686"/>
                    </a:lnTo>
                    <a:lnTo>
                      <a:pt x="209" y="0"/>
                    </a:lnTo>
                    <a:lnTo>
                      <a:pt x="309" y="101"/>
                    </a:lnTo>
                    <a:lnTo>
                      <a:pt x="493" y="485"/>
                    </a:lnTo>
                    <a:lnTo>
                      <a:pt x="728" y="1105"/>
                    </a:lnTo>
                    <a:lnTo>
                      <a:pt x="761" y="1640"/>
                    </a:lnTo>
                    <a:lnTo>
                      <a:pt x="911" y="2145"/>
                    </a:lnTo>
                    <a:lnTo>
                      <a:pt x="677" y="2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698600" y="5231520"/>
              <a:ext cx="289080" cy="260280"/>
              <a:chOff x="7698600" y="5231520"/>
              <a:chExt cx="289080" cy="260280"/>
            </a:xfrm>
          </p:grpSpPr>
          <p:sp>
            <p:nvSpPr>
              <p:cNvPr id="2170" name=""/>
              <p:cNvSpPr/>
              <p:nvPr/>
            </p:nvSpPr>
            <p:spPr>
              <a:xfrm rot="21391800">
                <a:off x="7705800" y="5354640"/>
                <a:ext cx="278280" cy="128520"/>
              </a:xfrm>
              <a:custGeom>
                <a:avLst/>
                <a:gdLst/>
                <a:ahLst/>
                <a:rect l="l" t="t" r="r" b="b"/>
                <a:pathLst>
                  <a:path w="7792" h="4429">
                    <a:moveTo>
                      <a:pt x="0" y="4388"/>
                    </a:moveTo>
                    <a:lnTo>
                      <a:pt x="7792" y="4429"/>
                    </a:lnTo>
                    <a:lnTo>
                      <a:pt x="7375" y="3207"/>
                    </a:lnTo>
                    <a:lnTo>
                      <a:pt x="7134" y="1682"/>
                    </a:lnTo>
                    <a:lnTo>
                      <a:pt x="5011" y="793"/>
                    </a:lnTo>
                    <a:lnTo>
                      <a:pt x="2981" y="0"/>
                    </a:lnTo>
                    <a:lnTo>
                      <a:pt x="2363" y="637"/>
                    </a:lnTo>
                    <a:lnTo>
                      <a:pt x="606" y="1797"/>
                    </a:lnTo>
                    <a:lnTo>
                      <a:pt x="83" y="2591"/>
                    </a:lnTo>
                    <a:lnTo>
                      <a:pt x="0" y="4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21391800">
                <a:off x="7796520" y="5346720"/>
                <a:ext cx="153360" cy="133560"/>
              </a:xfrm>
              <a:custGeom>
                <a:avLst/>
                <a:gdLst/>
                <a:ahLst/>
                <a:rect l="l" t="t" r="r" b="b"/>
                <a:pathLst>
                  <a:path w="4300" h="4616">
                    <a:moveTo>
                      <a:pt x="312" y="62"/>
                    </a:moveTo>
                    <a:lnTo>
                      <a:pt x="395" y="156"/>
                    </a:lnTo>
                    <a:lnTo>
                      <a:pt x="228" y="249"/>
                    </a:lnTo>
                    <a:lnTo>
                      <a:pt x="0" y="723"/>
                    </a:lnTo>
                    <a:lnTo>
                      <a:pt x="42" y="3198"/>
                    </a:lnTo>
                    <a:lnTo>
                      <a:pt x="498" y="3642"/>
                    </a:lnTo>
                    <a:lnTo>
                      <a:pt x="1058" y="4523"/>
                    </a:lnTo>
                    <a:lnTo>
                      <a:pt x="2012" y="4574"/>
                    </a:lnTo>
                    <a:lnTo>
                      <a:pt x="3057" y="4616"/>
                    </a:lnTo>
                    <a:lnTo>
                      <a:pt x="4166" y="3322"/>
                    </a:lnTo>
                    <a:lnTo>
                      <a:pt x="4300" y="1738"/>
                    </a:lnTo>
                    <a:lnTo>
                      <a:pt x="2426" y="1013"/>
                    </a:lnTo>
                    <a:lnTo>
                      <a:pt x="1939" y="1262"/>
                    </a:lnTo>
                    <a:lnTo>
                      <a:pt x="447" y="0"/>
                    </a:lnTo>
                    <a:lnTo>
                      <a:pt x="312" y="62"/>
                    </a:lnTo>
                    <a:close/>
                  </a:path>
                </a:pathLst>
              </a:custGeom>
              <a:solidFill>
                <a:srgbClr val="dddd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21391800">
                <a:off x="7885440" y="5349600"/>
                <a:ext cx="56160" cy="92520"/>
              </a:xfrm>
              <a:custGeom>
                <a:avLst/>
                <a:gdLst/>
                <a:ahLst/>
                <a:rect l="l" t="t" r="r" b="b"/>
                <a:pathLst>
                  <a:path w="1574" h="3197">
                    <a:moveTo>
                      <a:pt x="610" y="826"/>
                    </a:moveTo>
                    <a:lnTo>
                      <a:pt x="0" y="982"/>
                    </a:lnTo>
                    <a:lnTo>
                      <a:pt x="22" y="1241"/>
                    </a:lnTo>
                    <a:lnTo>
                      <a:pt x="476" y="1582"/>
                    </a:lnTo>
                    <a:lnTo>
                      <a:pt x="248" y="2441"/>
                    </a:lnTo>
                    <a:lnTo>
                      <a:pt x="424" y="3197"/>
                    </a:lnTo>
                    <a:lnTo>
                      <a:pt x="1056" y="2980"/>
                    </a:lnTo>
                    <a:lnTo>
                      <a:pt x="1180" y="2824"/>
                    </a:lnTo>
                    <a:lnTo>
                      <a:pt x="1553" y="1768"/>
                    </a:lnTo>
                    <a:lnTo>
                      <a:pt x="1574" y="1520"/>
                    </a:lnTo>
                    <a:lnTo>
                      <a:pt x="1356" y="1292"/>
                    </a:lnTo>
                    <a:lnTo>
                      <a:pt x="1243" y="940"/>
                    </a:lnTo>
                    <a:lnTo>
                      <a:pt x="1388" y="495"/>
                    </a:lnTo>
                    <a:lnTo>
                      <a:pt x="1356" y="0"/>
                    </a:lnTo>
                    <a:lnTo>
                      <a:pt x="1201" y="72"/>
                    </a:lnTo>
                    <a:lnTo>
                      <a:pt x="1139" y="660"/>
                    </a:lnTo>
                    <a:lnTo>
                      <a:pt x="610" y="826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21391800">
                <a:off x="7896600" y="5397480"/>
                <a:ext cx="40680" cy="44280"/>
              </a:xfrm>
              <a:custGeom>
                <a:avLst/>
                <a:gdLst/>
                <a:ahLst/>
                <a:rect l="l" t="t" r="r" b="b"/>
                <a:pathLst>
                  <a:path w="1142" h="1532">
                    <a:moveTo>
                      <a:pt x="817" y="318"/>
                    </a:moveTo>
                    <a:lnTo>
                      <a:pt x="795" y="433"/>
                    </a:lnTo>
                    <a:lnTo>
                      <a:pt x="700" y="643"/>
                    </a:lnTo>
                    <a:lnTo>
                      <a:pt x="520" y="831"/>
                    </a:lnTo>
                    <a:lnTo>
                      <a:pt x="361" y="867"/>
                    </a:lnTo>
                    <a:lnTo>
                      <a:pt x="325" y="954"/>
                    </a:lnTo>
                    <a:lnTo>
                      <a:pt x="397" y="1048"/>
                    </a:lnTo>
                    <a:lnTo>
                      <a:pt x="426" y="1164"/>
                    </a:lnTo>
                    <a:lnTo>
                      <a:pt x="860" y="730"/>
                    </a:lnTo>
                    <a:lnTo>
                      <a:pt x="882" y="418"/>
                    </a:lnTo>
                    <a:lnTo>
                      <a:pt x="955" y="318"/>
                    </a:lnTo>
                    <a:lnTo>
                      <a:pt x="1005" y="253"/>
                    </a:lnTo>
                    <a:lnTo>
                      <a:pt x="968" y="7"/>
                    </a:lnTo>
                    <a:lnTo>
                      <a:pt x="1078" y="0"/>
                    </a:lnTo>
                    <a:lnTo>
                      <a:pt x="1142" y="376"/>
                    </a:lnTo>
                    <a:lnTo>
                      <a:pt x="997" y="896"/>
                    </a:lnTo>
                    <a:lnTo>
                      <a:pt x="853" y="1221"/>
                    </a:lnTo>
                    <a:lnTo>
                      <a:pt x="658" y="1351"/>
                    </a:lnTo>
                    <a:lnTo>
                      <a:pt x="614" y="1417"/>
                    </a:lnTo>
                    <a:lnTo>
                      <a:pt x="245" y="1525"/>
                    </a:lnTo>
                    <a:lnTo>
                      <a:pt x="116" y="1532"/>
                    </a:lnTo>
                    <a:lnTo>
                      <a:pt x="0" y="1033"/>
                    </a:lnTo>
                    <a:lnTo>
                      <a:pt x="6" y="852"/>
                    </a:lnTo>
                    <a:lnTo>
                      <a:pt x="160" y="628"/>
                    </a:lnTo>
                    <a:lnTo>
                      <a:pt x="166" y="969"/>
                    </a:lnTo>
                    <a:lnTo>
                      <a:pt x="123" y="1164"/>
                    </a:lnTo>
                    <a:lnTo>
                      <a:pt x="238" y="1395"/>
                    </a:lnTo>
                    <a:lnTo>
                      <a:pt x="267" y="1243"/>
                    </a:lnTo>
                    <a:lnTo>
                      <a:pt x="238" y="982"/>
                    </a:lnTo>
                    <a:lnTo>
                      <a:pt x="224" y="556"/>
                    </a:lnTo>
                    <a:lnTo>
                      <a:pt x="542" y="20"/>
                    </a:lnTo>
                    <a:lnTo>
                      <a:pt x="700" y="194"/>
                    </a:lnTo>
                    <a:lnTo>
                      <a:pt x="817" y="31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21391800">
                <a:off x="7903800" y="5388840"/>
                <a:ext cx="45720" cy="51480"/>
              </a:xfrm>
              <a:custGeom>
                <a:avLst/>
                <a:gdLst/>
                <a:ahLst/>
                <a:rect l="l" t="t" r="r" b="b"/>
                <a:pathLst>
                  <a:path w="1285" h="1780">
                    <a:moveTo>
                      <a:pt x="40" y="1780"/>
                    </a:moveTo>
                    <a:lnTo>
                      <a:pt x="155" y="1646"/>
                    </a:lnTo>
                    <a:lnTo>
                      <a:pt x="31" y="1532"/>
                    </a:lnTo>
                    <a:lnTo>
                      <a:pt x="0" y="1367"/>
                    </a:lnTo>
                    <a:lnTo>
                      <a:pt x="11" y="1243"/>
                    </a:lnTo>
                    <a:lnTo>
                      <a:pt x="145" y="1501"/>
                    </a:lnTo>
                    <a:lnTo>
                      <a:pt x="321" y="1553"/>
                    </a:lnTo>
                    <a:lnTo>
                      <a:pt x="486" y="1429"/>
                    </a:lnTo>
                    <a:lnTo>
                      <a:pt x="724" y="1025"/>
                    </a:lnTo>
                    <a:lnTo>
                      <a:pt x="766" y="807"/>
                    </a:lnTo>
                    <a:lnTo>
                      <a:pt x="745" y="674"/>
                    </a:lnTo>
                    <a:lnTo>
                      <a:pt x="838" y="497"/>
                    </a:lnTo>
                    <a:lnTo>
                      <a:pt x="807" y="300"/>
                    </a:lnTo>
                    <a:lnTo>
                      <a:pt x="942" y="290"/>
                    </a:lnTo>
                    <a:lnTo>
                      <a:pt x="1036" y="342"/>
                    </a:lnTo>
                    <a:lnTo>
                      <a:pt x="1056" y="197"/>
                    </a:lnTo>
                    <a:lnTo>
                      <a:pt x="869" y="0"/>
                    </a:lnTo>
                    <a:lnTo>
                      <a:pt x="1098" y="93"/>
                    </a:lnTo>
                    <a:lnTo>
                      <a:pt x="1285" y="373"/>
                    </a:lnTo>
                    <a:lnTo>
                      <a:pt x="880" y="1387"/>
                    </a:lnTo>
                    <a:lnTo>
                      <a:pt x="724" y="1294"/>
                    </a:lnTo>
                    <a:lnTo>
                      <a:pt x="642" y="1532"/>
                    </a:lnTo>
                    <a:lnTo>
                      <a:pt x="362" y="1718"/>
                    </a:lnTo>
                    <a:lnTo>
                      <a:pt x="40" y="178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21391800">
                <a:off x="7897320" y="5316120"/>
                <a:ext cx="29520" cy="63000"/>
              </a:xfrm>
              <a:custGeom>
                <a:avLst/>
                <a:gdLst/>
                <a:ahLst/>
                <a:rect l="l" t="t" r="r" b="b"/>
                <a:pathLst>
                  <a:path w="832" h="2174">
                    <a:moveTo>
                      <a:pt x="796" y="1544"/>
                    </a:moveTo>
                    <a:lnTo>
                      <a:pt x="757" y="1707"/>
                    </a:lnTo>
                    <a:lnTo>
                      <a:pt x="720" y="1835"/>
                    </a:lnTo>
                    <a:lnTo>
                      <a:pt x="510" y="1882"/>
                    </a:lnTo>
                    <a:lnTo>
                      <a:pt x="0" y="2174"/>
                    </a:lnTo>
                    <a:lnTo>
                      <a:pt x="68" y="1904"/>
                    </a:lnTo>
                    <a:lnTo>
                      <a:pt x="353" y="1412"/>
                    </a:lnTo>
                    <a:lnTo>
                      <a:pt x="262" y="1219"/>
                    </a:lnTo>
                    <a:lnTo>
                      <a:pt x="353" y="817"/>
                    </a:lnTo>
                    <a:lnTo>
                      <a:pt x="522" y="272"/>
                    </a:lnTo>
                    <a:lnTo>
                      <a:pt x="691" y="0"/>
                    </a:lnTo>
                    <a:lnTo>
                      <a:pt x="664" y="247"/>
                    </a:lnTo>
                    <a:lnTo>
                      <a:pt x="782" y="480"/>
                    </a:lnTo>
                    <a:lnTo>
                      <a:pt x="832" y="960"/>
                    </a:lnTo>
                    <a:lnTo>
                      <a:pt x="794" y="1257"/>
                    </a:lnTo>
                    <a:lnTo>
                      <a:pt x="796" y="154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21391800">
                <a:off x="7907400" y="5319000"/>
                <a:ext cx="18720" cy="50040"/>
              </a:xfrm>
              <a:custGeom>
                <a:avLst/>
                <a:gdLst/>
                <a:ahLst/>
                <a:rect l="l" t="t" r="r" b="b"/>
                <a:pathLst>
                  <a:path w="529" h="1727">
                    <a:moveTo>
                      <a:pt x="73" y="880"/>
                    </a:moveTo>
                    <a:lnTo>
                      <a:pt x="166" y="662"/>
                    </a:lnTo>
                    <a:lnTo>
                      <a:pt x="342" y="829"/>
                    </a:lnTo>
                    <a:lnTo>
                      <a:pt x="239" y="466"/>
                    </a:lnTo>
                    <a:lnTo>
                      <a:pt x="301" y="238"/>
                    </a:lnTo>
                    <a:lnTo>
                      <a:pt x="415" y="580"/>
                    </a:lnTo>
                    <a:lnTo>
                      <a:pt x="435" y="953"/>
                    </a:lnTo>
                    <a:lnTo>
                      <a:pt x="353" y="1438"/>
                    </a:lnTo>
                    <a:lnTo>
                      <a:pt x="249" y="1727"/>
                    </a:lnTo>
                    <a:lnTo>
                      <a:pt x="404" y="1708"/>
                    </a:lnTo>
                    <a:lnTo>
                      <a:pt x="497" y="1345"/>
                    </a:lnTo>
                    <a:lnTo>
                      <a:pt x="529" y="984"/>
                    </a:lnTo>
                    <a:lnTo>
                      <a:pt x="508" y="600"/>
                    </a:lnTo>
                    <a:lnTo>
                      <a:pt x="466" y="372"/>
                    </a:lnTo>
                    <a:lnTo>
                      <a:pt x="404" y="197"/>
                    </a:lnTo>
                    <a:lnTo>
                      <a:pt x="290" y="0"/>
                    </a:lnTo>
                    <a:lnTo>
                      <a:pt x="135" y="384"/>
                    </a:lnTo>
                    <a:lnTo>
                      <a:pt x="0" y="891"/>
                    </a:lnTo>
                    <a:lnTo>
                      <a:pt x="73" y="88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21391800">
                <a:off x="7805880" y="5279040"/>
                <a:ext cx="113040" cy="172080"/>
              </a:xfrm>
              <a:custGeom>
                <a:avLst/>
                <a:gdLst/>
                <a:ahLst/>
                <a:rect l="l" t="t" r="r" b="b"/>
                <a:pathLst>
                  <a:path w="3170" h="5943">
                    <a:moveTo>
                      <a:pt x="1053" y="255"/>
                    </a:moveTo>
                    <a:lnTo>
                      <a:pt x="489" y="1078"/>
                    </a:lnTo>
                    <a:lnTo>
                      <a:pt x="466" y="2539"/>
                    </a:lnTo>
                    <a:lnTo>
                      <a:pt x="61" y="2461"/>
                    </a:lnTo>
                    <a:lnTo>
                      <a:pt x="0" y="2971"/>
                    </a:lnTo>
                    <a:lnTo>
                      <a:pt x="136" y="3473"/>
                    </a:lnTo>
                    <a:lnTo>
                      <a:pt x="825" y="5943"/>
                    </a:lnTo>
                    <a:lnTo>
                      <a:pt x="1405" y="4089"/>
                    </a:lnTo>
                    <a:lnTo>
                      <a:pt x="1788" y="3556"/>
                    </a:lnTo>
                    <a:lnTo>
                      <a:pt x="2422" y="2771"/>
                    </a:lnTo>
                    <a:lnTo>
                      <a:pt x="2896" y="2163"/>
                    </a:lnTo>
                    <a:lnTo>
                      <a:pt x="3008" y="1618"/>
                    </a:lnTo>
                    <a:lnTo>
                      <a:pt x="3170" y="683"/>
                    </a:lnTo>
                    <a:lnTo>
                      <a:pt x="1989" y="0"/>
                    </a:lnTo>
                    <a:lnTo>
                      <a:pt x="1053" y="255"/>
                    </a:lnTo>
                    <a:close/>
                  </a:path>
                </a:pathLst>
              </a:custGeom>
              <a:solidFill>
                <a:srgbClr val="ff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21391800">
                <a:off x="7889760" y="5321880"/>
                <a:ext cx="16560" cy="6120"/>
              </a:xfrm>
              <a:custGeom>
                <a:avLst/>
                <a:gdLst/>
                <a:ahLst/>
                <a:rect l="l" t="t" r="r" b="b"/>
                <a:pathLst>
                  <a:path w="474" h="215">
                    <a:moveTo>
                      <a:pt x="92" y="16"/>
                    </a:moveTo>
                    <a:lnTo>
                      <a:pt x="32" y="52"/>
                    </a:lnTo>
                    <a:lnTo>
                      <a:pt x="0" y="116"/>
                    </a:lnTo>
                    <a:lnTo>
                      <a:pt x="144" y="184"/>
                    </a:lnTo>
                    <a:lnTo>
                      <a:pt x="270" y="215"/>
                    </a:lnTo>
                    <a:lnTo>
                      <a:pt x="354" y="208"/>
                    </a:lnTo>
                    <a:lnTo>
                      <a:pt x="474" y="160"/>
                    </a:lnTo>
                    <a:lnTo>
                      <a:pt x="438" y="61"/>
                    </a:lnTo>
                    <a:lnTo>
                      <a:pt x="322" y="0"/>
                    </a:lnTo>
                    <a:lnTo>
                      <a:pt x="9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21391800">
                <a:off x="7848360" y="5316840"/>
                <a:ext cx="17280" cy="6840"/>
              </a:xfrm>
              <a:custGeom>
                <a:avLst/>
                <a:gdLst/>
                <a:ahLst/>
                <a:rect l="l" t="t" r="r" b="b"/>
                <a:pathLst>
                  <a:path w="490" h="243">
                    <a:moveTo>
                      <a:pt x="0" y="33"/>
                    </a:moveTo>
                    <a:lnTo>
                      <a:pt x="159" y="0"/>
                    </a:lnTo>
                    <a:lnTo>
                      <a:pt x="271" y="21"/>
                    </a:lnTo>
                    <a:lnTo>
                      <a:pt x="395" y="72"/>
                    </a:lnTo>
                    <a:lnTo>
                      <a:pt x="474" y="136"/>
                    </a:lnTo>
                    <a:lnTo>
                      <a:pt x="490" y="223"/>
                    </a:lnTo>
                    <a:lnTo>
                      <a:pt x="362" y="243"/>
                    </a:lnTo>
                    <a:lnTo>
                      <a:pt x="139" y="223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21391800">
                <a:off x="7883640" y="5318280"/>
                <a:ext cx="7560" cy="7200"/>
              </a:xfrm>
              <a:custGeom>
                <a:avLst/>
                <a:gdLst/>
                <a:ahLst/>
                <a:rect l="l" t="t" r="r" b="b"/>
                <a:pathLst>
                  <a:path w="212" h="263">
                    <a:moveTo>
                      <a:pt x="144" y="0"/>
                    </a:moveTo>
                    <a:lnTo>
                      <a:pt x="45" y="80"/>
                    </a:lnTo>
                    <a:lnTo>
                      <a:pt x="0" y="160"/>
                    </a:lnTo>
                    <a:lnTo>
                      <a:pt x="8" y="263"/>
                    </a:lnTo>
                    <a:lnTo>
                      <a:pt x="96" y="207"/>
                    </a:lnTo>
                    <a:lnTo>
                      <a:pt x="212" y="51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21391800">
                <a:off x="7792920" y="5324040"/>
                <a:ext cx="21960" cy="24480"/>
              </a:xfrm>
              <a:custGeom>
                <a:avLst/>
                <a:gdLst/>
                <a:ahLst/>
                <a:rect l="l" t="t" r="r" b="b"/>
                <a:pathLst>
                  <a:path w="625" h="846">
                    <a:moveTo>
                      <a:pt x="349" y="85"/>
                    </a:moveTo>
                    <a:lnTo>
                      <a:pt x="368" y="269"/>
                    </a:lnTo>
                    <a:lnTo>
                      <a:pt x="625" y="331"/>
                    </a:lnTo>
                    <a:lnTo>
                      <a:pt x="589" y="846"/>
                    </a:lnTo>
                    <a:lnTo>
                      <a:pt x="270" y="759"/>
                    </a:lnTo>
                    <a:lnTo>
                      <a:pt x="0" y="490"/>
                    </a:lnTo>
                    <a:lnTo>
                      <a:pt x="172" y="0"/>
                    </a:lnTo>
                    <a:lnTo>
                      <a:pt x="349" y="8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21391800">
                <a:off x="7796520" y="5325480"/>
                <a:ext cx="18720" cy="16560"/>
              </a:xfrm>
              <a:custGeom>
                <a:avLst/>
                <a:gdLst/>
                <a:ahLst/>
                <a:rect l="l" t="t" r="r" b="b"/>
                <a:pathLst>
                  <a:path w="527" h="582">
                    <a:moveTo>
                      <a:pt x="164" y="390"/>
                    </a:moveTo>
                    <a:lnTo>
                      <a:pt x="387" y="418"/>
                    </a:lnTo>
                    <a:lnTo>
                      <a:pt x="257" y="479"/>
                    </a:lnTo>
                    <a:lnTo>
                      <a:pt x="382" y="544"/>
                    </a:lnTo>
                    <a:lnTo>
                      <a:pt x="191" y="582"/>
                    </a:lnTo>
                    <a:lnTo>
                      <a:pt x="28" y="455"/>
                    </a:lnTo>
                    <a:lnTo>
                      <a:pt x="0" y="335"/>
                    </a:lnTo>
                    <a:lnTo>
                      <a:pt x="80" y="102"/>
                    </a:lnTo>
                    <a:lnTo>
                      <a:pt x="205" y="0"/>
                    </a:lnTo>
                    <a:lnTo>
                      <a:pt x="429" y="28"/>
                    </a:lnTo>
                    <a:lnTo>
                      <a:pt x="527" y="148"/>
                    </a:lnTo>
                    <a:lnTo>
                      <a:pt x="480" y="293"/>
                    </a:lnTo>
                    <a:lnTo>
                      <a:pt x="164" y="39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21391800">
                <a:off x="7805880" y="5326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158" h="279">
                    <a:moveTo>
                      <a:pt x="0" y="70"/>
                    </a:moveTo>
                    <a:lnTo>
                      <a:pt x="158" y="279"/>
                    </a:lnTo>
                    <a:lnTo>
                      <a:pt x="130" y="121"/>
                    </a:lnTo>
                    <a:lnTo>
                      <a:pt x="5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21391800">
                <a:off x="7797240" y="5281560"/>
                <a:ext cx="30960" cy="56520"/>
              </a:xfrm>
              <a:custGeom>
                <a:avLst/>
                <a:gdLst/>
                <a:ahLst/>
                <a:rect l="l" t="t" r="r" b="b"/>
                <a:pathLst>
                  <a:path w="871" h="1946">
                    <a:moveTo>
                      <a:pt x="871" y="0"/>
                    </a:moveTo>
                    <a:lnTo>
                      <a:pt x="0" y="600"/>
                    </a:lnTo>
                    <a:lnTo>
                      <a:pt x="11" y="1470"/>
                    </a:lnTo>
                    <a:lnTo>
                      <a:pt x="331" y="1521"/>
                    </a:lnTo>
                    <a:lnTo>
                      <a:pt x="415" y="1573"/>
                    </a:lnTo>
                    <a:lnTo>
                      <a:pt x="509" y="1946"/>
                    </a:lnTo>
                    <a:lnTo>
                      <a:pt x="654" y="1149"/>
                    </a:lnTo>
                    <a:lnTo>
                      <a:pt x="643" y="414"/>
                    </a:lnTo>
                    <a:lnTo>
                      <a:pt x="871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21391800">
                <a:off x="7792920" y="5235840"/>
                <a:ext cx="147960" cy="75600"/>
              </a:xfrm>
              <a:custGeom>
                <a:avLst/>
                <a:gdLst/>
                <a:ahLst/>
                <a:rect l="l" t="t" r="r" b="b"/>
                <a:pathLst>
                  <a:path w="4146" h="2619">
                    <a:moveTo>
                      <a:pt x="0" y="1232"/>
                    </a:moveTo>
                    <a:lnTo>
                      <a:pt x="207" y="942"/>
                    </a:lnTo>
                    <a:lnTo>
                      <a:pt x="778" y="393"/>
                    </a:lnTo>
                    <a:lnTo>
                      <a:pt x="1514" y="83"/>
                    </a:lnTo>
                    <a:lnTo>
                      <a:pt x="2343" y="0"/>
                    </a:lnTo>
                    <a:lnTo>
                      <a:pt x="2974" y="300"/>
                    </a:lnTo>
                    <a:lnTo>
                      <a:pt x="3037" y="549"/>
                    </a:lnTo>
                    <a:lnTo>
                      <a:pt x="3337" y="714"/>
                    </a:lnTo>
                    <a:lnTo>
                      <a:pt x="3865" y="1325"/>
                    </a:lnTo>
                    <a:lnTo>
                      <a:pt x="4063" y="1822"/>
                    </a:lnTo>
                    <a:lnTo>
                      <a:pt x="4146" y="1978"/>
                    </a:lnTo>
                    <a:lnTo>
                      <a:pt x="4031" y="2330"/>
                    </a:lnTo>
                    <a:lnTo>
                      <a:pt x="3585" y="2619"/>
                    </a:lnTo>
                    <a:lnTo>
                      <a:pt x="3544" y="2070"/>
                    </a:lnTo>
                    <a:lnTo>
                      <a:pt x="3503" y="1781"/>
                    </a:lnTo>
                    <a:lnTo>
                      <a:pt x="3337" y="1708"/>
                    </a:lnTo>
                    <a:lnTo>
                      <a:pt x="2974" y="1956"/>
                    </a:lnTo>
                    <a:lnTo>
                      <a:pt x="2602" y="1594"/>
                    </a:lnTo>
                    <a:lnTo>
                      <a:pt x="1763" y="1481"/>
                    </a:lnTo>
                    <a:lnTo>
                      <a:pt x="974" y="1605"/>
                    </a:lnTo>
                    <a:lnTo>
                      <a:pt x="414" y="2018"/>
                    </a:lnTo>
                    <a:lnTo>
                      <a:pt x="0" y="1481"/>
                    </a:lnTo>
                    <a:lnTo>
                      <a:pt x="0" y="1232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21391800">
                <a:off x="7923600" y="5347800"/>
                <a:ext cx="10800" cy="28800"/>
              </a:xfrm>
              <a:custGeom>
                <a:avLst/>
                <a:gdLst/>
                <a:ahLst/>
                <a:rect l="l" t="t" r="r" b="b"/>
                <a:pathLst>
                  <a:path w="306" h="1000">
                    <a:moveTo>
                      <a:pt x="100" y="349"/>
                    </a:moveTo>
                    <a:lnTo>
                      <a:pt x="188" y="455"/>
                    </a:lnTo>
                    <a:lnTo>
                      <a:pt x="149" y="528"/>
                    </a:lnTo>
                    <a:lnTo>
                      <a:pt x="149" y="733"/>
                    </a:lnTo>
                    <a:lnTo>
                      <a:pt x="88" y="900"/>
                    </a:lnTo>
                    <a:lnTo>
                      <a:pt x="122" y="961"/>
                    </a:lnTo>
                    <a:lnTo>
                      <a:pt x="216" y="583"/>
                    </a:lnTo>
                    <a:lnTo>
                      <a:pt x="216" y="449"/>
                    </a:lnTo>
                    <a:lnTo>
                      <a:pt x="82" y="271"/>
                    </a:lnTo>
                    <a:lnTo>
                      <a:pt x="82" y="260"/>
                    </a:lnTo>
                    <a:lnTo>
                      <a:pt x="82" y="229"/>
                    </a:lnTo>
                    <a:lnTo>
                      <a:pt x="84" y="135"/>
                    </a:lnTo>
                    <a:lnTo>
                      <a:pt x="104" y="0"/>
                    </a:lnTo>
                    <a:lnTo>
                      <a:pt x="261" y="6"/>
                    </a:lnTo>
                    <a:lnTo>
                      <a:pt x="288" y="217"/>
                    </a:lnTo>
                    <a:lnTo>
                      <a:pt x="306" y="344"/>
                    </a:lnTo>
                    <a:lnTo>
                      <a:pt x="272" y="594"/>
                    </a:lnTo>
                    <a:lnTo>
                      <a:pt x="161" y="1000"/>
                    </a:lnTo>
                    <a:lnTo>
                      <a:pt x="71" y="967"/>
                    </a:lnTo>
                    <a:lnTo>
                      <a:pt x="0" y="745"/>
                    </a:lnTo>
                    <a:lnTo>
                      <a:pt x="100" y="349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21391800">
                <a:off x="7894440" y="5370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279" h="348">
                    <a:moveTo>
                      <a:pt x="279" y="0"/>
                    </a:moveTo>
                    <a:lnTo>
                      <a:pt x="135" y="326"/>
                    </a:lnTo>
                    <a:lnTo>
                      <a:pt x="75" y="348"/>
                    </a:lnTo>
                    <a:lnTo>
                      <a:pt x="0" y="337"/>
                    </a:lnTo>
                    <a:lnTo>
                      <a:pt x="45" y="276"/>
                    </a:lnTo>
                    <a:lnTo>
                      <a:pt x="184" y="42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21391800">
                <a:off x="7858080" y="5394960"/>
                <a:ext cx="9720" cy="14760"/>
              </a:xfrm>
              <a:custGeom>
                <a:avLst/>
                <a:gdLst/>
                <a:ahLst/>
                <a:rect l="l" t="t" r="r" b="b"/>
                <a:pathLst>
                  <a:path w="276" h="521">
                    <a:moveTo>
                      <a:pt x="73" y="297"/>
                    </a:moveTo>
                    <a:lnTo>
                      <a:pt x="131" y="167"/>
                    </a:lnTo>
                    <a:lnTo>
                      <a:pt x="276" y="44"/>
                    </a:lnTo>
                    <a:lnTo>
                      <a:pt x="153" y="0"/>
                    </a:lnTo>
                    <a:lnTo>
                      <a:pt x="0" y="108"/>
                    </a:lnTo>
                    <a:lnTo>
                      <a:pt x="15" y="376"/>
                    </a:lnTo>
                    <a:lnTo>
                      <a:pt x="131" y="521"/>
                    </a:lnTo>
                    <a:lnTo>
                      <a:pt x="73" y="297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21391800">
                <a:off x="7854480" y="5377320"/>
                <a:ext cx="39600" cy="42480"/>
              </a:xfrm>
              <a:custGeom>
                <a:avLst/>
                <a:gdLst/>
                <a:ahLst/>
                <a:rect l="l" t="t" r="r" b="b"/>
                <a:pathLst>
                  <a:path w="1108" h="1469">
                    <a:moveTo>
                      <a:pt x="173" y="789"/>
                    </a:moveTo>
                    <a:lnTo>
                      <a:pt x="167" y="926"/>
                    </a:lnTo>
                    <a:lnTo>
                      <a:pt x="312" y="1114"/>
                    </a:lnTo>
                    <a:lnTo>
                      <a:pt x="428" y="1143"/>
                    </a:lnTo>
                    <a:lnTo>
                      <a:pt x="666" y="1034"/>
                    </a:lnTo>
                    <a:lnTo>
                      <a:pt x="897" y="571"/>
                    </a:lnTo>
                    <a:lnTo>
                      <a:pt x="840" y="435"/>
                    </a:lnTo>
                    <a:lnTo>
                      <a:pt x="767" y="362"/>
                    </a:lnTo>
                    <a:lnTo>
                      <a:pt x="521" y="529"/>
                    </a:lnTo>
                    <a:lnTo>
                      <a:pt x="253" y="716"/>
                    </a:lnTo>
                    <a:lnTo>
                      <a:pt x="224" y="608"/>
                    </a:lnTo>
                    <a:lnTo>
                      <a:pt x="659" y="297"/>
                    </a:lnTo>
                    <a:lnTo>
                      <a:pt x="732" y="0"/>
                    </a:lnTo>
                    <a:lnTo>
                      <a:pt x="869" y="160"/>
                    </a:lnTo>
                    <a:lnTo>
                      <a:pt x="905" y="305"/>
                    </a:lnTo>
                    <a:lnTo>
                      <a:pt x="1108" y="384"/>
                    </a:lnTo>
                    <a:lnTo>
                      <a:pt x="1108" y="435"/>
                    </a:lnTo>
                    <a:lnTo>
                      <a:pt x="1028" y="463"/>
                    </a:lnTo>
                    <a:lnTo>
                      <a:pt x="774" y="1100"/>
                    </a:lnTo>
                    <a:lnTo>
                      <a:pt x="580" y="1390"/>
                    </a:lnTo>
                    <a:lnTo>
                      <a:pt x="420" y="1469"/>
                    </a:lnTo>
                    <a:lnTo>
                      <a:pt x="187" y="1331"/>
                    </a:lnTo>
                    <a:lnTo>
                      <a:pt x="0" y="998"/>
                    </a:lnTo>
                    <a:lnTo>
                      <a:pt x="167" y="630"/>
                    </a:lnTo>
                    <a:lnTo>
                      <a:pt x="173" y="789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21391800">
                <a:off x="7873200" y="5388480"/>
                <a:ext cx="41400" cy="31680"/>
              </a:xfrm>
              <a:custGeom>
                <a:avLst/>
                <a:gdLst/>
                <a:ahLst/>
                <a:rect l="l" t="t" r="r" b="b"/>
                <a:pathLst>
                  <a:path w="1165" h="1105">
                    <a:moveTo>
                      <a:pt x="470" y="165"/>
                    </a:moveTo>
                    <a:lnTo>
                      <a:pt x="586" y="158"/>
                    </a:lnTo>
                    <a:lnTo>
                      <a:pt x="645" y="259"/>
                    </a:lnTo>
                    <a:lnTo>
                      <a:pt x="636" y="462"/>
                    </a:lnTo>
                    <a:lnTo>
                      <a:pt x="557" y="635"/>
                    </a:lnTo>
                    <a:lnTo>
                      <a:pt x="420" y="773"/>
                    </a:lnTo>
                    <a:lnTo>
                      <a:pt x="218" y="911"/>
                    </a:lnTo>
                    <a:lnTo>
                      <a:pt x="297" y="723"/>
                    </a:lnTo>
                    <a:lnTo>
                      <a:pt x="326" y="600"/>
                    </a:lnTo>
                    <a:lnTo>
                      <a:pt x="355" y="448"/>
                    </a:lnTo>
                    <a:lnTo>
                      <a:pt x="116" y="831"/>
                    </a:lnTo>
                    <a:lnTo>
                      <a:pt x="0" y="982"/>
                    </a:lnTo>
                    <a:lnTo>
                      <a:pt x="22" y="1033"/>
                    </a:lnTo>
                    <a:lnTo>
                      <a:pt x="66" y="1098"/>
                    </a:lnTo>
                    <a:lnTo>
                      <a:pt x="493" y="1105"/>
                    </a:lnTo>
                    <a:lnTo>
                      <a:pt x="1165" y="397"/>
                    </a:lnTo>
                    <a:lnTo>
                      <a:pt x="940" y="224"/>
                    </a:lnTo>
                    <a:lnTo>
                      <a:pt x="832" y="158"/>
                    </a:lnTo>
                    <a:lnTo>
                      <a:pt x="680" y="86"/>
                    </a:lnTo>
                    <a:lnTo>
                      <a:pt x="579" y="0"/>
                    </a:lnTo>
                    <a:lnTo>
                      <a:pt x="514" y="0"/>
                    </a:lnTo>
                    <a:lnTo>
                      <a:pt x="470" y="16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21391800">
                <a:off x="7893360" y="538560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933" h="760">
                    <a:moveTo>
                      <a:pt x="0" y="23"/>
                    </a:moveTo>
                    <a:lnTo>
                      <a:pt x="73" y="160"/>
                    </a:lnTo>
                    <a:lnTo>
                      <a:pt x="260" y="239"/>
                    </a:lnTo>
                    <a:lnTo>
                      <a:pt x="512" y="413"/>
                    </a:lnTo>
                    <a:lnTo>
                      <a:pt x="701" y="544"/>
                    </a:lnTo>
                    <a:lnTo>
                      <a:pt x="766" y="659"/>
                    </a:lnTo>
                    <a:lnTo>
                      <a:pt x="933" y="760"/>
                    </a:lnTo>
                    <a:lnTo>
                      <a:pt x="933" y="702"/>
                    </a:lnTo>
                    <a:lnTo>
                      <a:pt x="810" y="608"/>
                    </a:lnTo>
                    <a:lnTo>
                      <a:pt x="925" y="579"/>
                    </a:lnTo>
                    <a:lnTo>
                      <a:pt x="918" y="492"/>
                    </a:lnTo>
                    <a:lnTo>
                      <a:pt x="816" y="404"/>
                    </a:lnTo>
                    <a:lnTo>
                      <a:pt x="583" y="178"/>
                    </a:lnTo>
                    <a:lnTo>
                      <a:pt x="457" y="115"/>
                    </a:lnTo>
                    <a:lnTo>
                      <a:pt x="123" y="116"/>
                    </a:lnTo>
                    <a:lnTo>
                      <a:pt x="36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21391800">
                <a:off x="7886520" y="5380920"/>
                <a:ext cx="52560" cy="27720"/>
              </a:xfrm>
              <a:custGeom>
                <a:avLst/>
                <a:gdLst/>
                <a:ahLst/>
                <a:rect l="l" t="t" r="r" b="b"/>
                <a:pathLst>
                  <a:path w="1477" h="963">
                    <a:moveTo>
                      <a:pt x="304" y="145"/>
                    </a:moveTo>
                    <a:lnTo>
                      <a:pt x="378" y="226"/>
                    </a:lnTo>
                    <a:lnTo>
                      <a:pt x="499" y="226"/>
                    </a:lnTo>
                    <a:lnTo>
                      <a:pt x="601" y="254"/>
                    </a:lnTo>
                    <a:lnTo>
                      <a:pt x="644" y="290"/>
                    </a:lnTo>
                    <a:lnTo>
                      <a:pt x="801" y="309"/>
                    </a:lnTo>
                    <a:lnTo>
                      <a:pt x="1064" y="493"/>
                    </a:lnTo>
                    <a:lnTo>
                      <a:pt x="1215" y="637"/>
                    </a:lnTo>
                    <a:lnTo>
                      <a:pt x="1347" y="660"/>
                    </a:lnTo>
                    <a:lnTo>
                      <a:pt x="1389" y="963"/>
                    </a:lnTo>
                    <a:lnTo>
                      <a:pt x="1448" y="840"/>
                    </a:lnTo>
                    <a:lnTo>
                      <a:pt x="1477" y="652"/>
                    </a:lnTo>
                    <a:lnTo>
                      <a:pt x="1426" y="580"/>
                    </a:lnTo>
                    <a:lnTo>
                      <a:pt x="1187" y="406"/>
                    </a:lnTo>
                    <a:lnTo>
                      <a:pt x="962" y="254"/>
                    </a:lnTo>
                    <a:lnTo>
                      <a:pt x="977" y="197"/>
                    </a:lnTo>
                    <a:lnTo>
                      <a:pt x="886" y="38"/>
                    </a:lnTo>
                    <a:lnTo>
                      <a:pt x="623" y="0"/>
                    </a:lnTo>
                    <a:lnTo>
                      <a:pt x="387" y="0"/>
                    </a:lnTo>
                    <a:lnTo>
                      <a:pt x="0" y="74"/>
                    </a:lnTo>
                    <a:lnTo>
                      <a:pt x="174" y="160"/>
                    </a:lnTo>
                    <a:lnTo>
                      <a:pt x="304" y="145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21391800">
                <a:off x="7899480" y="5369760"/>
                <a:ext cx="26640" cy="14760"/>
              </a:xfrm>
              <a:custGeom>
                <a:avLst/>
                <a:gdLst/>
                <a:ahLst/>
                <a:rect l="l" t="t" r="r" b="b"/>
                <a:pathLst>
                  <a:path w="745" h="520">
                    <a:moveTo>
                      <a:pt x="658" y="8"/>
                    </a:moveTo>
                    <a:lnTo>
                      <a:pt x="607" y="87"/>
                    </a:lnTo>
                    <a:lnTo>
                      <a:pt x="521" y="135"/>
                    </a:lnTo>
                    <a:lnTo>
                      <a:pt x="418" y="159"/>
                    </a:lnTo>
                    <a:lnTo>
                      <a:pt x="267" y="231"/>
                    </a:lnTo>
                    <a:lnTo>
                      <a:pt x="309" y="267"/>
                    </a:lnTo>
                    <a:lnTo>
                      <a:pt x="462" y="224"/>
                    </a:lnTo>
                    <a:lnTo>
                      <a:pt x="607" y="180"/>
                    </a:lnTo>
                    <a:lnTo>
                      <a:pt x="658" y="261"/>
                    </a:lnTo>
                    <a:lnTo>
                      <a:pt x="614" y="376"/>
                    </a:lnTo>
                    <a:lnTo>
                      <a:pt x="745" y="520"/>
                    </a:lnTo>
                    <a:lnTo>
                      <a:pt x="361" y="369"/>
                    </a:lnTo>
                    <a:lnTo>
                      <a:pt x="143" y="347"/>
                    </a:lnTo>
                    <a:lnTo>
                      <a:pt x="0" y="347"/>
                    </a:lnTo>
                    <a:lnTo>
                      <a:pt x="36" y="246"/>
                    </a:lnTo>
                    <a:lnTo>
                      <a:pt x="252" y="123"/>
                    </a:lnTo>
                    <a:lnTo>
                      <a:pt x="585" y="0"/>
                    </a:lnTo>
                    <a:lnTo>
                      <a:pt x="658" y="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21391800">
                <a:off x="7884000" y="5368320"/>
                <a:ext cx="56880" cy="31680"/>
              </a:xfrm>
              <a:custGeom>
                <a:avLst/>
                <a:gdLst/>
                <a:ahLst/>
                <a:rect l="l" t="t" r="r" b="b"/>
                <a:pathLst>
                  <a:path w="1599" h="1102">
                    <a:moveTo>
                      <a:pt x="50" y="458"/>
                    </a:moveTo>
                    <a:lnTo>
                      <a:pt x="217" y="422"/>
                    </a:lnTo>
                    <a:lnTo>
                      <a:pt x="303" y="428"/>
                    </a:lnTo>
                    <a:lnTo>
                      <a:pt x="406" y="415"/>
                    </a:lnTo>
                    <a:lnTo>
                      <a:pt x="470" y="458"/>
                    </a:lnTo>
                    <a:lnTo>
                      <a:pt x="629" y="451"/>
                    </a:lnTo>
                    <a:lnTo>
                      <a:pt x="867" y="465"/>
                    </a:lnTo>
                    <a:lnTo>
                      <a:pt x="940" y="544"/>
                    </a:lnTo>
                    <a:lnTo>
                      <a:pt x="997" y="551"/>
                    </a:lnTo>
                    <a:lnTo>
                      <a:pt x="1085" y="617"/>
                    </a:lnTo>
                    <a:lnTo>
                      <a:pt x="1287" y="784"/>
                    </a:lnTo>
                    <a:lnTo>
                      <a:pt x="1375" y="826"/>
                    </a:lnTo>
                    <a:lnTo>
                      <a:pt x="1483" y="878"/>
                    </a:lnTo>
                    <a:lnTo>
                      <a:pt x="1534" y="935"/>
                    </a:lnTo>
                    <a:lnTo>
                      <a:pt x="1527" y="1058"/>
                    </a:lnTo>
                    <a:lnTo>
                      <a:pt x="1570" y="1102"/>
                    </a:lnTo>
                    <a:lnTo>
                      <a:pt x="1599" y="942"/>
                    </a:lnTo>
                    <a:lnTo>
                      <a:pt x="1540" y="805"/>
                    </a:lnTo>
                    <a:lnTo>
                      <a:pt x="1316" y="458"/>
                    </a:lnTo>
                    <a:lnTo>
                      <a:pt x="1259" y="248"/>
                    </a:lnTo>
                    <a:lnTo>
                      <a:pt x="1115" y="0"/>
                    </a:lnTo>
                    <a:lnTo>
                      <a:pt x="1056" y="103"/>
                    </a:lnTo>
                    <a:lnTo>
                      <a:pt x="1125" y="187"/>
                    </a:lnTo>
                    <a:lnTo>
                      <a:pt x="1193" y="393"/>
                    </a:lnTo>
                    <a:lnTo>
                      <a:pt x="1203" y="505"/>
                    </a:lnTo>
                    <a:lnTo>
                      <a:pt x="1069" y="456"/>
                    </a:lnTo>
                    <a:lnTo>
                      <a:pt x="970" y="408"/>
                    </a:lnTo>
                    <a:lnTo>
                      <a:pt x="687" y="386"/>
                    </a:lnTo>
                    <a:lnTo>
                      <a:pt x="261" y="327"/>
                    </a:lnTo>
                    <a:lnTo>
                      <a:pt x="0" y="349"/>
                    </a:lnTo>
                    <a:lnTo>
                      <a:pt x="50" y="45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21391800">
                <a:off x="7745040" y="5374440"/>
                <a:ext cx="67320" cy="111240"/>
              </a:xfrm>
              <a:custGeom>
                <a:avLst/>
                <a:gdLst/>
                <a:ahLst/>
                <a:rect l="l" t="t" r="r" b="b"/>
                <a:pathLst>
                  <a:path w="1882" h="3837">
                    <a:moveTo>
                      <a:pt x="545" y="1374"/>
                    </a:moveTo>
                    <a:lnTo>
                      <a:pt x="753" y="441"/>
                    </a:lnTo>
                    <a:lnTo>
                      <a:pt x="1311" y="0"/>
                    </a:lnTo>
                    <a:lnTo>
                      <a:pt x="1090" y="622"/>
                    </a:lnTo>
                    <a:lnTo>
                      <a:pt x="1142" y="2008"/>
                    </a:lnTo>
                    <a:lnTo>
                      <a:pt x="1688" y="2527"/>
                    </a:lnTo>
                    <a:lnTo>
                      <a:pt x="1779" y="2696"/>
                    </a:lnTo>
                    <a:lnTo>
                      <a:pt x="1882" y="2774"/>
                    </a:lnTo>
                    <a:lnTo>
                      <a:pt x="1713" y="3098"/>
                    </a:lnTo>
                    <a:lnTo>
                      <a:pt x="1817" y="3616"/>
                    </a:lnTo>
                    <a:lnTo>
                      <a:pt x="1440" y="3798"/>
                    </a:lnTo>
                    <a:lnTo>
                      <a:pt x="1078" y="3823"/>
                    </a:lnTo>
                    <a:lnTo>
                      <a:pt x="467" y="2489"/>
                    </a:lnTo>
                    <a:lnTo>
                      <a:pt x="948" y="3616"/>
                    </a:lnTo>
                    <a:lnTo>
                      <a:pt x="909" y="3837"/>
                    </a:lnTo>
                    <a:lnTo>
                      <a:pt x="324" y="3732"/>
                    </a:lnTo>
                    <a:lnTo>
                      <a:pt x="0" y="2138"/>
                    </a:lnTo>
                    <a:lnTo>
                      <a:pt x="415" y="1296"/>
                    </a:lnTo>
                    <a:lnTo>
                      <a:pt x="545" y="1374"/>
                    </a:lnTo>
                    <a:close/>
                  </a:path>
                </a:pathLst>
              </a:custGeom>
              <a:solidFill>
                <a:srgbClr val="a5b2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21391800">
                <a:off x="7711200" y="5408280"/>
                <a:ext cx="60480" cy="80280"/>
              </a:xfrm>
              <a:custGeom>
                <a:avLst/>
                <a:gdLst/>
                <a:ahLst/>
                <a:rect l="l" t="t" r="r" b="b"/>
                <a:pathLst>
                  <a:path w="1700" h="2773">
                    <a:moveTo>
                      <a:pt x="1700" y="2773"/>
                    </a:moveTo>
                    <a:lnTo>
                      <a:pt x="1440" y="2125"/>
                    </a:lnTo>
                    <a:lnTo>
                      <a:pt x="1440" y="1658"/>
                    </a:lnTo>
                    <a:lnTo>
                      <a:pt x="1297" y="1192"/>
                    </a:lnTo>
                    <a:lnTo>
                      <a:pt x="1557" y="479"/>
                    </a:lnTo>
                    <a:lnTo>
                      <a:pt x="1259" y="0"/>
                    </a:lnTo>
                    <a:lnTo>
                      <a:pt x="259" y="272"/>
                    </a:lnTo>
                    <a:lnTo>
                      <a:pt x="104" y="855"/>
                    </a:lnTo>
                    <a:lnTo>
                      <a:pt x="91" y="1516"/>
                    </a:lnTo>
                    <a:lnTo>
                      <a:pt x="0" y="2319"/>
                    </a:lnTo>
                    <a:lnTo>
                      <a:pt x="91" y="2579"/>
                    </a:lnTo>
                    <a:lnTo>
                      <a:pt x="143" y="2695"/>
                    </a:lnTo>
                    <a:lnTo>
                      <a:pt x="610" y="2748"/>
                    </a:lnTo>
                    <a:lnTo>
                      <a:pt x="337" y="2269"/>
                    </a:lnTo>
                    <a:lnTo>
                      <a:pt x="416" y="2061"/>
                    </a:lnTo>
                    <a:lnTo>
                      <a:pt x="610" y="1892"/>
                    </a:lnTo>
                    <a:lnTo>
                      <a:pt x="416" y="1295"/>
                    </a:lnTo>
                    <a:lnTo>
                      <a:pt x="350" y="1037"/>
                    </a:lnTo>
                    <a:lnTo>
                      <a:pt x="532" y="648"/>
                    </a:lnTo>
                    <a:lnTo>
                      <a:pt x="999" y="1568"/>
                    </a:lnTo>
                    <a:lnTo>
                      <a:pt x="519" y="1153"/>
                    </a:lnTo>
                    <a:lnTo>
                      <a:pt x="739" y="1594"/>
                    </a:lnTo>
                    <a:lnTo>
                      <a:pt x="947" y="1995"/>
                    </a:lnTo>
                    <a:lnTo>
                      <a:pt x="687" y="2022"/>
                    </a:lnTo>
                    <a:lnTo>
                      <a:pt x="908" y="2709"/>
                    </a:lnTo>
                    <a:lnTo>
                      <a:pt x="1700" y="2773"/>
                    </a:lnTo>
                    <a:close/>
                  </a:path>
                </a:pathLst>
              </a:custGeom>
              <a:solidFill>
                <a:srgbClr val="d3e0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21391800">
                <a:off x="7808760" y="5349960"/>
                <a:ext cx="52200" cy="119520"/>
              </a:xfrm>
              <a:custGeom>
                <a:avLst/>
                <a:gdLst/>
                <a:ahLst/>
                <a:rect l="l" t="t" r="r" b="b"/>
                <a:pathLst>
                  <a:path w="1468" h="4120">
                    <a:moveTo>
                      <a:pt x="350" y="568"/>
                    </a:moveTo>
                    <a:lnTo>
                      <a:pt x="377" y="426"/>
                    </a:lnTo>
                    <a:lnTo>
                      <a:pt x="455" y="387"/>
                    </a:lnTo>
                    <a:lnTo>
                      <a:pt x="532" y="620"/>
                    </a:lnTo>
                    <a:lnTo>
                      <a:pt x="839" y="1120"/>
                    </a:lnTo>
                    <a:lnTo>
                      <a:pt x="1019" y="1488"/>
                    </a:lnTo>
                    <a:lnTo>
                      <a:pt x="926" y="2088"/>
                    </a:lnTo>
                    <a:lnTo>
                      <a:pt x="1050" y="2222"/>
                    </a:lnTo>
                    <a:lnTo>
                      <a:pt x="1038" y="2546"/>
                    </a:lnTo>
                    <a:lnTo>
                      <a:pt x="802" y="2467"/>
                    </a:lnTo>
                    <a:lnTo>
                      <a:pt x="1104" y="3407"/>
                    </a:lnTo>
                    <a:lnTo>
                      <a:pt x="366" y="2103"/>
                    </a:lnTo>
                    <a:lnTo>
                      <a:pt x="739" y="3136"/>
                    </a:lnTo>
                    <a:lnTo>
                      <a:pt x="1142" y="4120"/>
                    </a:lnTo>
                    <a:lnTo>
                      <a:pt x="1454" y="2357"/>
                    </a:lnTo>
                    <a:lnTo>
                      <a:pt x="1329" y="2056"/>
                    </a:lnTo>
                    <a:lnTo>
                      <a:pt x="1468" y="1571"/>
                    </a:lnTo>
                    <a:lnTo>
                      <a:pt x="1440" y="1307"/>
                    </a:lnTo>
                    <a:lnTo>
                      <a:pt x="1090" y="957"/>
                    </a:lnTo>
                    <a:lnTo>
                      <a:pt x="455" y="362"/>
                    </a:lnTo>
                    <a:lnTo>
                      <a:pt x="220" y="0"/>
                    </a:lnTo>
                    <a:lnTo>
                      <a:pt x="65" y="78"/>
                    </a:lnTo>
                    <a:lnTo>
                      <a:pt x="0" y="439"/>
                    </a:lnTo>
                    <a:lnTo>
                      <a:pt x="13" y="764"/>
                    </a:lnTo>
                    <a:lnTo>
                      <a:pt x="309" y="1725"/>
                    </a:lnTo>
                    <a:lnTo>
                      <a:pt x="613" y="2555"/>
                    </a:lnTo>
                    <a:lnTo>
                      <a:pt x="143" y="932"/>
                    </a:lnTo>
                    <a:lnTo>
                      <a:pt x="143" y="620"/>
                    </a:lnTo>
                    <a:lnTo>
                      <a:pt x="195" y="439"/>
                    </a:lnTo>
                    <a:lnTo>
                      <a:pt x="350" y="568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21391800">
                <a:off x="7853760" y="5338800"/>
                <a:ext cx="16560" cy="9720"/>
              </a:xfrm>
              <a:custGeom>
                <a:avLst/>
                <a:gdLst/>
                <a:ahLst/>
                <a:rect l="l" t="t" r="r" b="b"/>
                <a:pathLst>
                  <a:path w="464" h="345">
                    <a:moveTo>
                      <a:pt x="247" y="71"/>
                    </a:moveTo>
                    <a:lnTo>
                      <a:pt x="347" y="0"/>
                    </a:lnTo>
                    <a:lnTo>
                      <a:pt x="464" y="111"/>
                    </a:lnTo>
                    <a:lnTo>
                      <a:pt x="386" y="111"/>
                    </a:lnTo>
                    <a:lnTo>
                      <a:pt x="335" y="88"/>
                    </a:lnTo>
                    <a:lnTo>
                      <a:pt x="286" y="139"/>
                    </a:lnTo>
                    <a:lnTo>
                      <a:pt x="341" y="250"/>
                    </a:lnTo>
                    <a:lnTo>
                      <a:pt x="325" y="345"/>
                    </a:lnTo>
                    <a:lnTo>
                      <a:pt x="235" y="233"/>
                    </a:lnTo>
                    <a:lnTo>
                      <a:pt x="184" y="188"/>
                    </a:lnTo>
                    <a:lnTo>
                      <a:pt x="89" y="219"/>
                    </a:lnTo>
                    <a:lnTo>
                      <a:pt x="0" y="233"/>
                    </a:lnTo>
                    <a:lnTo>
                      <a:pt x="135" y="134"/>
                    </a:lnTo>
                    <a:lnTo>
                      <a:pt x="247" y="71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21391800">
                <a:off x="7850880" y="5328720"/>
                <a:ext cx="63720" cy="52920"/>
              </a:xfrm>
              <a:custGeom>
                <a:avLst/>
                <a:gdLst/>
                <a:ahLst/>
                <a:rect l="l" t="t" r="r" b="b"/>
                <a:pathLst>
                  <a:path w="1783" h="1832">
                    <a:moveTo>
                      <a:pt x="516" y="954"/>
                    </a:moveTo>
                    <a:lnTo>
                      <a:pt x="70" y="848"/>
                    </a:lnTo>
                    <a:lnTo>
                      <a:pt x="0" y="823"/>
                    </a:lnTo>
                    <a:lnTo>
                      <a:pt x="43" y="918"/>
                    </a:lnTo>
                    <a:lnTo>
                      <a:pt x="70" y="957"/>
                    </a:lnTo>
                    <a:lnTo>
                      <a:pt x="144" y="1084"/>
                    </a:lnTo>
                    <a:lnTo>
                      <a:pt x="277" y="1261"/>
                    </a:lnTo>
                    <a:lnTo>
                      <a:pt x="223" y="1311"/>
                    </a:lnTo>
                    <a:lnTo>
                      <a:pt x="184" y="1334"/>
                    </a:lnTo>
                    <a:lnTo>
                      <a:pt x="367" y="1363"/>
                    </a:lnTo>
                    <a:lnTo>
                      <a:pt x="463" y="1412"/>
                    </a:lnTo>
                    <a:lnTo>
                      <a:pt x="586" y="1485"/>
                    </a:lnTo>
                    <a:lnTo>
                      <a:pt x="609" y="1557"/>
                    </a:lnTo>
                    <a:lnTo>
                      <a:pt x="570" y="1619"/>
                    </a:lnTo>
                    <a:lnTo>
                      <a:pt x="346" y="1692"/>
                    </a:lnTo>
                    <a:lnTo>
                      <a:pt x="508" y="1832"/>
                    </a:lnTo>
                    <a:lnTo>
                      <a:pt x="995" y="1463"/>
                    </a:lnTo>
                    <a:lnTo>
                      <a:pt x="1403" y="988"/>
                    </a:lnTo>
                    <a:lnTo>
                      <a:pt x="1649" y="581"/>
                    </a:lnTo>
                    <a:lnTo>
                      <a:pt x="1738" y="240"/>
                    </a:lnTo>
                    <a:lnTo>
                      <a:pt x="1783" y="0"/>
                    </a:lnTo>
                    <a:lnTo>
                      <a:pt x="1651" y="119"/>
                    </a:lnTo>
                    <a:lnTo>
                      <a:pt x="1624" y="265"/>
                    </a:lnTo>
                    <a:lnTo>
                      <a:pt x="1586" y="341"/>
                    </a:lnTo>
                    <a:lnTo>
                      <a:pt x="1475" y="531"/>
                    </a:lnTo>
                    <a:lnTo>
                      <a:pt x="1296" y="732"/>
                    </a:lnTo>
                    <a:lnTo>
                      <a:pt x="1224" y="715"/>
                    </a:lnTo>
                    <a:lnTo>
                      <a:pt x="1118" y="492"/>
                    </a:lnTo>
                    <a:lnTo>
                      <a:pt x="1090" y="833"/>
                    </a:lnTo>
                    <a:lnTo>
                      <a:pt x="783" y="843"/>
                    </a:lnTo>
                    <a:lnTo>
                      <a:pt x="788" y="1084"/>
                    </a:lnTo>
                    <a:lnTo>
                      <a:pt x="565" y="1088"/>
                    </a:lnTo>
                    <a:lnTo>
                      <a:pt x="516" y="954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21391800">
                <a:off x="7856280" y="5357520"/>
                <a:ext cx="25920" cy="9720"/>
              </a:xfrm>
              <a:custGeom>
                <a:avLst/>
                <a:gdLst/>
                <a:ahLst/>
                <a:rect l="l" t="t" r="r" b="b"/>
                <a:pathLst>
                  <a:path w="732" h="333">
                    <a:moveTo>
                      <a:pt x="643" y="0"/>
                    </a:moveTo>
                    <a:lnTo>
                      <a:pt x="732" y="138"/>
                    </a:lnTo>
                    <a:lnTo>
                      <a:pt x="654" y="221"/>
                    </a:lnTo>
                    <a:lnTo>
                      <a:pt x="419" y="333"/>
                    </a:lnTo>
                    <a:lnTo>
                      <a:pt x="251" y="323"/>
                    </a:lnTo>
                    <a:lnTo>
                      <a:pt x="151" y="171"/>
                    </a:lnTo>
                    <a:lnTo>
                      <a:pt x="312" y="294"/>
                    </a:lnTo>
                    <a:lnTo>
                      <a:pt x="425" y="255"/>
                    </a:lnTo>
                    <a:lnTo>
                      <a:pt x="200" y="159"/>
                    </a:lnTo>
                    <a:lnTo>
                      <a:pt x="0" y="54"/>
                    </a:lnTo>
                    <a:lnTo>
                      <a:pt x="323" y="48"/>
                    </a:lnTo>
                    <a:lnTo>
                      <a:pt x="525" y="143"/>
                    </a:lnTo>
                    <a:lnTo>
                      <a:pt x="570" y="71"/>
                    </a:lnTo>
                    <a:lnTo>
                      <a:pt x="643" y="0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21391800">
                <a:off x="7863120" y="5316120"/>
                <a:ext cx="53280" cy="41040"/>
              </a:xfrm>
              <a:custGeom>
                <a:avLst/>
                <a:gdLst/>
                <a:ahLst/>
                <a:rect l="l" t="t" r="r" b="b"/>
                <a:pathLst>
                  <a:path w="1494" h="1420">
                    <a:moveTo>
                      <a:pt x="626" y="199"/>
                    </a:moveTo>
                    <a:lnTo>
                      <a:pt x="591" y="329"/>
                    </a:lnTo>
                    <a:lnTo>
                      <a:pt x="565" y="590"/>
                    </a:lnTo>
                    <a:lnTo>
                      <a:pt x="573" y="824"/>
                    </a:lnTo>
                    <a:lnTo>
                      <a:pt x="573" y="1006"/>
                    </a:lnTo>
                    <a:lnTo>
                      <a:pt x="531" y="1085"/>
                    </a:lnTo>
                    <a:lnTo>
                      <a:pt x="443" y="1093"/>
                    </a:lnTo>
                    <a:lnTo>
                      <a:pt x="303" y="1005"/>
                    </a:lnTo>
                    <a:lnTo>
                      <a:pt x="179" y="973"/>
                    </a:lnTo>
                    <a:lnTo>
                      <a:pt x="71" y="1015"/>
                    </a:lnTo>
                    <a:lnTo>
                      <a:pt x="0" y="1042"/>
                    </a:lnTo>
                    <a:lnTo>
                      <a:pt x="27" y="1111"/>
                    </a:lnTo>
                    <a:lnTo>
                      <a:pt x="140" y="1137"/>
                    </a:lnTo>
                    <a:lnTo>
                      <a:pt x="243" y="1119"/>
                    </a:lnTo>
                    <a:lnTo>
                      <a:pt x="270" y="1232"/>
                    </a:lnTo>
                    <a:lnTo>
                      <a:pt x="392" y="1232"/>
                    </a:lnTo>
                    <a:lnTo>
                      <a:pt x="409" y="1420"/>
                    </a:lnTo>
                    <a:lnTo>
                      <a:pt x="504" y="1301"/>
                    </a:lnTo>
                    <a:lnTo>
                      <a:pt x="583" y="1380"/>
                    </a:lnTo>
                    <a:lnTo>
                      <a:pt x="791" y="1276"/>
                    </a:lnTo>
                    <a:lnTo>
                      <a:pt x="791" y="946"/>
                    </a:lnTo>
                    <a:lnTo>
                      <a:pt x="730" y="772"/>
                    </a:lnTo>
                    <a:lnTo>
                      <a:pt x="756" y="521"/>
                    </a:lnTo>
                    <a:lnTo>
                      <a:pt x="761" y="410"/>
                    </a:lnTo>
                    <a:lnTo>
                      <a:pt x="905" y="466"/>
                    </a:lnTo>
                    <a:lnTo>
                      <a:pt x="1085" y="581"/>
                    </a:lnTo>
                    <a:lnTo>
                      <a:pt x="1224" y="559"/>
                    </a:lnTo>
                    <a:lnTo>
                      <a:pt x="1398" y="521"/>
                    </a:lnTo>
                    <a:lnTo>
                      <a:pt x="1450" y="348"/>
                    </a:lnTo>
                    <a:lnTo>
                      <a:pt x="1494" y="165"/>
                    </a:lnTo>
                    <a:lnTo>
                      <a:pt x="1355" y="44"/>
                    </a:lnTo>
                    <a:lnTo>
                      <a:pt x="921" y="0"/>
                    </a:lnTo>
                    <a:lnTo>
                      <a:pt x="791" y="52"/>
                    </a:lnTo>
                    <a:lnTo>
                      <a:pt x="730" y="87"/>
                    </a:lnTo>
                    <a:lnTo>
                      <a:pt x="676" y="157"/>
                    </a:lnTo>
                    <a:lnTo>
                      <a:pt x="795" y="268"/>
                    </a:lnTo>
                    <a:lnTo>
                      <a:pt x="852" y="243"/>
                    </a:lnTo>
                    <a:lnTo>
                      <a:pt x="982" y="252"/>
                    </a:lnTo>
                    <a:lnTo>
                      <a:pt x="939" y="329"/>
                    </a:lnTo>
                    <a:lnTo>
                      <a:pt x="886" y="348"/>
                    </a:lnTo>
                    <a:lnTo>
                      <a:pt x="930" y="399"/>
                    </a:lnTo>
                    <a:lnTo>
                      <a:pt x="1026" y="417"/>
                    </a:lnTo>
                    <a:lnTo>
                      <a:pt x="1095" y="338"/>
                    </a:lnTo>
                    <a:lnTo>
                      <a:pt x="1077" y="260"/>
                    </a:lnTo>
                    <a:lnTo>
                      <a:pt x="1137" y="252"/>
                    </a:lnTo>
                    <a:lnTo>
                      <a:pt x="1216" y="338"/>
                    </a:lnTo>
                    <a:lnTo>
                      <a:pt x="1181" y="399"/>
                    </a:lnTo>
                    <a:lnTo>
                      <a:pt x="1164" y="504"/>
                    </a:lnTo>
                    <a:lnTo>
                      <a:pt x="957" y="468"/>
                    </a:lnTo>
                    <a:lnTo>
                      <a:pt x="791" y="382"/>
                    </a:lnTo>
                    <a:lnTo>
                      <a:pt x="686" y="295"/>
                    </a:lnTo>
                    <a:lnTo>
                      <a:pt x="626" y="199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21391800">
                <a:off x="7812360" y="5276160"/>
                <a:ext cx="133200" cy="107280"/>
              </a:xfrm>
              <a:custGeom>
                <a:avLst/>
                <a:gdLst/>
                <a:ahLst/>
                <a:rect l="l" t="t" r="r" b="b"/>
                <a:pathLst>
                  <a:path w="3728" h="3700">
                    <a:moveTo>
                      <a:pt x="2587" y="1397"/>
                    </a:moveTo>
                    <a:lnTo>
                      <a:pt x="2772" y="1103"/>
                    </a:lnTo>
                    <a:lnTo>
                      <a:pt x="2796" y="895"/>
                    </a:lnTo>
                    <a:lnTo>
                      <a:pt x="2790" y="710"/>
                    </a:lnTo>
                    <a:lnTo>
                      <a:pt x="2563" y="735"/>
                    </a:lnTo>
                    <a:lnTo>
                      <a:pt x="2269" y="760"/>
                    </a:lnTo>
                    <a:lnTo>
                      <a:pt x="1963" y="650"/>
                    </a:lnTo>
                    <a:lnTo>
                      <a:pt x="2110" y="588"/>
                    </a:lnTo>
                    <a:lnTo>
                      <a:pt x="1975" y="527"/>
                    </a:lnTo>
                    <a:lnTo>
                      <a:pt x="1779" y="650"/>
                    </a:lnTo>
                    <a:lnTo>
                      <a:pt x="1620" y="650"/>
                    </a:lnTo>
                    <a:lnTo>
                      <a:pt x="1803" y="429"/>
                    </a:lnTo>
                    <a:lnTo>
                      <a:pt x="1594" y="490"/>
                    </a:lnTo>
                    <a:lnTo>
                      <a:pt x="1411" y="520"/>
                    </a:lnTo>
                    <a:lnTo>
                      <a:pt x="1324" y="408"/>
                    </a:lnTo>
                    <a:lnTo>
                      <a:pt x="1086" y="433"/>
                    </a:lnTo>
                    <a:lnTo>
                      <a:pt x="907" y="503"/>
                    </a:lnTo>
                    <a:lnTo>
                      <a:pt x="840" y="826"/>
                    </a:lnTo>
                    <a:lnTo>
                      <a:pt x="829" y="1044"/>
                    </a:lnTo>
                    <a:lnTo>
                      <a:pt x="898" y="1045"/>
                    </a:lnTo>
                    <a:lnTo>
                      <a:pt x="1239" y="1116"/>
                    </a:lnTo>
                    <a:lnTo>
                      <a:pt x="1783" y="1303"/>
                    </a:lnTo>
                    <a:lnTo>
                      <a:pt x="1897" y="1210"/>
                    </a:lnTo>
                    <a:lnTo>
                      <a:pt x="1911" y="1486"/>
                    </a:lnTo>
                    <a:lnTo>
                      <a:pt x="1705" y="1570"/>
                    </a:lnTo>
                    <a:lnTo>
                      <a:pt x="1500" y="1705"/>
                    </a:lnTo>
                    <a:lnTo>
                      <a:pt x="1301" y="1713"/>
                    </a:lnTo>
                    <a:lnTo>
                      <a:pt x="1067" y="1570"/>
                    </a:lnTo>
                    <a:lnTo>
                      <a:pt x="1263" y="1618"/>
                    </a:lnTo>
                    <a:lnTo>
                      <a:pt x="1570" y="1630"/>
                    </a:lnTo>
                    <a:lnTo>
                      <a:pt x="1620" y="1507"/>
                    </a:lnTo>
                    <a:lnTo>
                      <a:pt x="1436" y="1434"/>
                    </a:lnTo>
                    <a:lnTo>
                      <a:pt x="1239" y="1360"/>
                    </a:lnTo>
                    <a:lnTo>
                      <a:pt x="1287" y="1299"/>
                    </a:lnTo>
                    <a:lnTo>
                      <a:pt x="1067" y="1288"/>
                    </a:lnTo>
                    <a:lnTo>
                      <a:pt x="994" y="1373"/>
                    </a:lnTo>
                    <a:lnTo>
                      <a:pt x="929" y="1430"/>
                    </a:lnTo>
                    <a:lnTo>
                      <a:pt x="835" y="1361"/>
                    </a:lnTo>
                    <a:lnTo>
                      <a:pt x="735" y="1287"/>
                    </a:lnTo>
                    <a:lnTo>
                      <a:pt x="663" y="733"/>
                    </a:lnTo>
                    <a:lnTo>
                      <a:pt x="508" y="858"/>
                    </a:lnTo>
                    <a:lnTo>
                      <a:pt x="460" y="1095"/>
                    </a:lnTo>
                    <a:lnTo>
                      <a:pt x="353" y="1260"/>
                    </a:lnTo>
                    <a:lnTo>
                      <a:pt x="342" y="1432"/>
                    </a:lnTo>
                    <a:lnTo>
                      <a:pt x="357" y="1678"/>
                    </a:lnTo>
                    <a:lnTo>
                      <a:pt x="431" y="2011"/>
                    </a:lnTo>
                    <a:lnTo>
                      <a:pt x="456" y="2379"/>
                    </a:lnTo>
                    <a:lnTo>
                      <a:pt x="530" y="2708"/>
                    </a:lnTo>
                    <a:lnTo>
                      <a:pt x="677" y="2937"/>
                    </a:lnTo>
                    <a:lnTo>
                      <a:pt x="907" y="3185"/>
                    </a:lnTo>
                    <a:lnTo>
                      <a:pt x="1165" y="3344"/>
                    </a:lnTo>
                    <a:lnTo>
                      <a:pt x="1423" y="3504"/>
                    </a:lnTo>
                    <a:lnTo>
                      <a:pt x="1779" y="3454"/>
                    </a:lnTo>
                    <a:lnTo>
                      <a:pt x="1484" y="3700"/>
                    </a:lnTo>
                    <a:lnTo>
                      <a:pt x="883" y="3528"/>
                    </a:lnTo>
                    <a:lnTo>
                      <a:pt x="12" y="2561"/>
                    </a:lnTo>
                    <a:lnTo>
                      <a:pt x="0" y="2230"/>
                    </a:lnTo>
                    <a:lnTo>
                      <a:pt x="184" y="1226"/>
                    </a:lnTo>
                    <a:lnTo>
                      <a:pt x="294" y="711"/>
                    </a:lnTo>
                    <a:lnTo>
                      <a:pt x="699" y="306"/>
                    </a:lnTo>
                    <a:lnTo>
                      <a:pt x="1436" y="123"/>
                    </a:lnTo>
                    <a:lnTo>
                      <a:pt x="2196" y="135"/>
                    </a:lnTo>
                    <a:lnTo>
                      <a:pt x="2575" y="441"/>
                    </a:lnTo>
                    <a:lnTo>
                      <a:pt x="2956" y="319"/>
                    </a:lnTo>
                    <a:lnTo>
                      <a:pt x="3078" y="417"/>
                    </a:lnTo>
                    <a:lnTo>
                      <a:pt x="3201" y="295"/>
                    </a:lnTo>
                    <a:lnTo>
                      <a:pt x="3139" y="0"/>
                    </a:lnTo>
                    <a:lnTo>
                      <a:pt x="3545" y="246"/>
                    </a:lnTo>
                    <a:lnTo>
                      <a:pt x="3728" y="637"/>
                    </a:lnTo>
                    <a:lnTo>
                      <a:pt x="3582" y="845"/>
                    </a:lnTo>
                    <a:lnTo>
                      <a:pt x="3201" y="1189"/>
                    </a:lnTo>
                    <a:lnTo>
                      <a:pt x="2919" y="1557"/>
                    </a:lnTo>
                    <a:lnTo>
                      <a:pt x="2735" y="1447"/>
                    </a:lnTo>
                    <a:lnTo>
                      <a:pt x="2587" y="1397"/>
                    </a:lnTo>
                    <a:close/>
                  </a:path>
                </a:pathLst>
              </a:custGeom>
              <a:solidFill>
                <a:srgbClr val="ff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21391800">
                <a:off x="7781400" y="5275440"/>
                <a:ext cx="59400" cy="63720"/>
              </a:xfrm>
              <a:custGeom>
                <a:avLst/>
                <a:gdLst/>
                <a:ahLst/>
                <a:rect l="l" t="t" r="r" b="b"/>
                <a:pathLst>
                  <a:path w="1661" h="2205">
                    <a:moveTo>
                      <a:pt x="1661" y="14"/>
                    </a:moveTo>
                    <a:lnTo>
                      <a:pt x="1196" y="0"/>
                    </a:lnTo>
                    <a:lnTo>
                      <a:pt x="572" y="186"/>
                    </a:lnTo>
                    <a:lnTo>
                      <a:pt x="278" y="545"/>
                    </a:lnTo>
                    <a:lnTo>
                      <a:pt x="0" y="1036"/>
                    </a:lnTo>
                    <a:lnTo>
                      <a:pt x="0" y="1435"/>
                    </a:lnTo>
                    <a:lnTo>
                      <a:pt x="0" y="1780"/>
                    </a:lnTo>
                    <a:lnTo>
                      <a:pt x="332" y="2205"/>
                    </a:lnTo>
                    <a:lnTo>
                      <a:pt x="399" y="1793"/>
                    </a:lnTo>
                    <a:lnTo>
                      <a:pt x="519" y="1581"/>
                    </a:lnTo>
                    <a:lnTo>
                      <a:pt x="396" y="1053"/>
                    </a:lnTo>
                    <a:lnTo>
                      <a:pt x="562" y="774"/>
                    </a:lnTo>
                    <a:lnTo>
                      <a:pt x="759" y="701"/>
                    </a:lnTo>
                    <a:lnTo>
                      <a:pt x="873" y="681"/>
                    </a:lnTo>
                    <a:lnTo>
                      <a:pt x="1122" y="827"/>
                    </a:lnTo>
                    <a:lnTo>
                      <a:pt x="873" y="1292"/>
                    </a:lnTo>
                    <a:lnTo>
                      <a:pt x="738" y="1116"/>
                    </a:lnTo>
                    <a:lnTo>
                      <a:pt x="1204" y="545"/>
                    </a:lnTo>
                    <a:lnTo>
                      <a:pt x="1661" y="1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21391800">
                <a:off x="7792560" y="5235840"/>
                <a:ext cx="129960" cy="48960"/>
              </a:xfrm>
              <a:custGeom>
                <a:avLst/>
                <a:gdLst/>
                <a:ahLst/>
                <a:rect l="l" t="t" r="r" b="b"/>
                <a:pathLst>
                  <a:path w="3642" h="1688">
                    <a:moveTo>
                      <a:pt x="0" y="1501"/>
                    </a:moveTo>
                    <a:lnTo>
                      <a:pt x="585" y="851"/>
                    </a:lnTo>
                    <a:lnTo>
                      <a:pt x="944" y="772"/>
                    </a:lnTo>
                    <a:lnTo>
                      <a:pt x="491" y="1130"/>
                    </a:lnTo>
                    <a:lnTo>
                      <a:pt x="331" y="1396"/>
                    </a:lnTo>
                    <a:lnTo>
                      <a:pt x="1169" y="957"/>
                    </a:lnTo>
                    <a:lnTo>
                      <a:pt x="930" y="1222"/>
                    </a:lnTo>
                    <a:lnTo>
                      <a:pt x="1369" y="1076"/>
                    </a:lnTo>
                    <a:lnTo>
                      <a:pt x="1901" y="1116"/>
                    </a:lnTo>
                    <a:lnTo>
                      <a:pt x="2207" y="1303"/>
                    </a:lnTo>
                    <a:lnTo>
                      <a:pt x="1915" y="1011"/>
                    </a:lnTo>
                    <a:lnTo>
                      <a:pt x="2352" y="1157"/>
                    </a:lnTo>
                    <a:lnTo>
                      <a:pt x="2712" y="1528"/>
                    </a:lnTo>
                    <a:lnTo>
                      <a:pt x="2619" y="1276"/>
                    </a:lnTo>
                    <a:lnTo>
                      <a:pt x="3269" y="1688"/>
                    </a:lnTo>
                    <a:lnTo>
                      <a:pt x="2725" y="1157"/>
                    </a:lnTo>
                    <a:lnTo>
                      <a:pt x="3257" y="1489"/>
                    </a:lnTo>
                    <a:lnTo>
                      <a:pt x="3642" y="1528"/>
                    </a:lnTo>
                    <a:lnTo>
                      <a:pt x="2832" y="851"/>
                    </a:lnTo>
                    <a:lnTo>
                      <a:pt x="2990" y="665"/>
                    </a:lnTo>
                    <a:lnTo>
                      <a:pt x="2870" y="545"/>
                    </a:lnTo>
                    <a:lnTo>
                      <a:pt x="2910" y="413"/>
                    </a:lnTo>
                    <a:lnTo>
                      <a:pt x="2712" y="213"/>
                    </a:lnTo>
                    <a:lnTo>
                      <a:pt x="2286" y="0"/>
                    </a:lnTo>
                    <a:lnTo>
                      <a:pt x="1768" y="41"/>
                    </a:lnTo>
                    <a:lnTo>
                      <a:pt x="1343" y="160"/>
                    </a:lnTo>
                    <a:lnTo>
                      <a:pt x="1834" y="120"/>
                    </a:lnTo>
                    <a:lnTo>
                      <a:pt x="2486" y="239"/>
                    </a:lnTo>
                    <a:lnTo>
                      <a:pt x="1609" y="306"/>
                    </a:lnTo>
                    <a:lnTo>
                      <a:pt x="2499" y="373"/>
                    </a:lnTo>
                    <a:lnTo>
                      <a:pt x="2433" y="505"/>
                    </a:lnTo>
                    <a:lnTo>
                      <a:pt x="2646" y="585"/>
                    </a:lnTo>
                    <a:lnTo>
                      <a:pt x="2087" y="626"/>
                    </a:lnTo>
                    <a:lnTo>
                      <a:pt x="2633" y="837"/>
                    </a:lnTo>
                    <a:lnTo>
                      <a:pt x="1635" y="638"/>
                    </a:lnTo>
                    <a:lnTo>
                      <a:pt x="1236" y="758"/>
                    </a:lnTo>
                    <a:lnTo>
                      <a:pt x="1343" y="452"/>
                    </a:lnTo>
                    <a:lnTo>
                      <a:pt x="850" y="559"/>
                    </a:lnTo>
                    <a:lnTo>
                      <a:pt x="518" y="731"/>
                    </a:lnTo>
                    <a:lnTo>
                      <a:pt x="0" y="1501"/>
                    </a:lnTo>
                    <a:close/>
                  </a:path>
                </a:pathLst>
              </a:custGeom>
              <a:solidFill>
                <a:srgbClr val="ffd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21391800">
                <a:off x="7816320" y="5276520"/>
                <a:ext cx="84240" cy="36720"/>
              </a:xfrm>
              <a:custGeom>
                <a:avLst/>
                <a:gdLst/>
                <a:ahLst/>
                <a:rect l="l" t="t" r="r" b="b"/>
                <a:pathLst>
                  <a:path w="2362" h="1274">
                    <a:moveTo>
                      <a:pt x="2362" y="580"/>
                    </a:moveTo>
                    <a:lnTo>
                      <a:pt x="2042" y="695"/>
                    </a:lnTo>
                    <a:lnTo>
                      <a:pt x="1783" y="683"/>
                    </a:lnTo>
                    <a:lnTo>
                      <a:pt x="2031" y="600"/>
                    </a:lnTo>
                    <a:lnTo>
                      <a:pt x="1804" y="591"/>
                    </a:lnTo>
                    <a:lnTo>
                      <a:pt x="1855" y="518"/>
                    </a:lnTo>
                    <a:lnTo>
                      <a:pt x="1514" y="664"/>
                    </a:lnTo>
                    <a:lnTo>
                      <a:pt x="1679" y="414"/>
                    </a:lnTo>
                    <a:lnTo>
                      <a:pt x="1462" y="497"/>
                    </a:lnTo>
                    <a:lnTo>
                      <a:pt x="1565" y="321"/>
                    </a:lnTo>
                    <a:lnTo>
                      <a:pt x="1306" y="467"/>
                    </a:lnTo>
                    <a:lnTo>
                      <a:pt x="1420" y="311"/>
                    </a:lnTo>
                    <a:lnTo>
                      <a:pt x="954" y="383"/>
                    </a:lnTo>
                    <a:lnTo>
                      <a:pt x="373" y="653"/>
                    </a:lnTo>
                    <a:lnTo>
                      <a:pt x="384" y="538"/>
                    </a:lnTo>
                    <a:lnTo>
                      <a:pt x="228" y="715"/>
                    </a:lnTo>
                    <a:lnTo>
                      <a:pt x="176" y="1005"/>
                    </a:lnTo>
                    <a:lnTo>
                      <a:pt x="0" y="1274"/>
                    </a:lnTo>
                    <a:lnTo>
                      <a:pt x="0" y="1015"/>
                    </a:lnTo>
                    <a:lnTo>
                      <a:pt x="125" y="518"/>
                    </a:lnTo>
                    <a:lnTo>
                      <a:pt x="622" y="11"/>
                    </a:lnTo>
                    <a:lnTo>
                      <a:pt x="1565" y="0"/>
                    </a:lnTo>
                    <a:lnTo>
                      <a:pt x="1949" y="197"/>
                    </a:lnTo>
                    <a:lnTo>
                      <a:pt x="2362" y="58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21391800">
                <a:off x="7920360" y="52743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631" h="1045">
                    <a:moveTo>
                      <a:pt x="62" y="93"/>
                    </a:moveTo>
                    <a:lnTo>
                      <a:pt x="0" y="362"/>
                    </a:lnTo>
                    <a:lnTo>
                      <a:pt x="0" y="1035"/>
                    </a:lnTo>
                    <a:lnTo>
                      <a:pt x="228" y="1045"/>
                    </a:lnTo>
                    <a:lnTo>
                      <a:pt x="631" y="714"/>
                    </a:lnTo>
                    <a:lnTo>
                      <a:pt x="507" y="310"/>
                    </a:lnTo>
                    <a:lnTo>
                      <a:pt x="321" y="134"/>
                    </a:lnTo>
                    <a:lnTo>
                      <a:pt x="134" y="0"/>
                    </a:lnTo>
                    <a:lnTo>
                      <a:pt x="62" y="9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21391800">
                <a:off x="7809120" y="53254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144" h="279">
                    <a:moveTo>
                      <a:pt x="0" y="19"/>
                    </a:moveTo>
                    <a:lnTo>
                      <a:pt x="69" y="98"/>
                    </a:lnTo>
                    <a:lnTo>
                      <a:pt x="89" y="186"/>
                    </a:lnTo>
                    <a:lnTo>
                      <a:pt x="65" y="279"/>
                    </a:lnTo>
                    <a:lnTo>
                      <a:pt x="125" y="264"/>
                    </a:lnTo>
                    <a:lnTo>
                      <a:pt x="144" y="144"/>
                    </a:lnTo>
                    <a:lnTo>
                      <a:pt x="112" y="51"/>
                    </a:lnTo>
                    <a:lnTo>
                      <a:pt x="51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21391800">
                <a:off x="7893720" y="5322600"/>
                <a:ext cx="7200" cy="4320"/>
              </a:xfrm>
              <a:custGeom>
                <a:avLst/>
                <a:gdLst/>
                <a:ahLst/>
                <a:rect l="l" t="t" r="r" b="b"/>
                <a:pathLst>
                  <a:path w="204" h="159">
                    <a:moveTo>
                      <a:pt x="0" y="78"/>
                    </a:moveTo>
                    <a:lnTo>
                      <a:pt x="46" y="148"/>
                    </a:lnTo>
                    <a:lnTo>
                      <a:pt x="107" y="159"/>
                    </a:lnTo>
                    <a:lnTo>
                      <a:pt x="158" y="139"/>
                    </a:lnTo>
                    <a:lnTo>
                      <a:pt x="190" y="78"/>
                    </a:lnTo>
                    <a:lnTo>
                      <a:pt x="204" y="0"/>
                    </a:lnTo>
                    <a:lnTo>
                      <a:pt x="126" y="0"/>
                    </a:lnTo>
                    <a:lnTo>
                      <a:pt x="83" y="74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21391800">
                <a:off x="7852680" y="5317920"/>
                <a:ext cx="7200" cy="3960"/>
              </a:xfrm>
              <a:custGeom>
                <a:avLst/>
                <a:gdLst/>
                <a:ahLst/>
                <a:rect l="l" t="t" r="r" b="b"/>
                <a:pathLst>
                  <a:path w="205" h="141">
                    <a:moveTo>
                      <a:pt x="0" y="29"/>
                    </a:moveTo>
                    <a:lnTo>
                      <a:pt x="0" y="98"/>
                    </a:lnTo>
                    <a:lnTo>
                      <a:pt x="80" y="141"/>
                    </a:lnTo>
                    <a:lnTo>
                      <a:pt x="145" y="130"/>
                    </a:lnTo>
                    <a:lnTo>
                      <a:pt x="205" y="80"/>
                    </a:lnTo>
                    <a:lnTo>
                      <a:pt x="201" y="23"/>
                    </a:lnTo>
                    <a:lnTo>
                      <a:pt x="112" y="84"/>
                    </a:lnTo>
                    <a:lnTo>
                      <a:pt x="43" y="51"/>
                    </a:lnTo>
                    <a:lnTo>
                      <a:pt x="32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21391800">
                <a:off x="7853040" y="53172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31" h="103">
                    <a:moveTo>
                      <a:pt x="0" y="19"/>
                    </a:moveTo>
                    <a:lnTo>
                      <a:pt x="33" y="103"/>
                    </a:lnTo>
                    <a:lnTo>
                      <a:pt x="131" y="89"/>
                    </a:lnTo>
                    <a:lnTo>
                      <a:pt x="107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21391800">
                <a:off x="7893720" y="5322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98" h="74">
                    <a:moveTo>
                      <a:pt x="98" y="10"/>
                    </a:moveTo>
                    <a:lnTo>
                      <a:pt x="78" y="74"/>
                    </a:lnTo>
                    <a:lnTo>
                      <a:pt x="0" y="60"/>
                    </a:lnTo>
                    <a:lnTo>
                      <a:pt x="9" y="0"/>
                    </a:lnTo>
                    <a:lnTo>
                      <a:pt x="98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21391800">
                <a:off x="7894440" y="5322600"/>
                <a:ext cx="6120" cy="3960"/>
              </a:xfrm>
              <a:custGeom>
                <a:avLst/>
                <a:gdLst/>
                <a:ahLst/>
                <a:rect l="l" t="t" r="r" b="b"/>
                <a:pathLst>
                  <a:path w="180" h="148">
                    <a:moveTo>
                      <a:pt x="139" y="0"/>
                    </a:moveTo>
                    <a:lnTo>
                      <a:pt x="147" y="50"/>
                    </a:lnTo>
                    <a:lnTo>
                      <a:pt x="116" y="102"/>
                    </a:lnTo>
                    <a:lnTo>
                      <a:pt x="69" y="111"/>
                    </a:lnTo>
                    <a:lnTo>
                      <a:pt x="0" y="106"/>
                    </a:lnTo>
                    <a:lnTo>
                      <a:pt x="41" y="143"/>
                    </a:lnTo>
                    <a:lnTo>
                      <a:pt x="102" y="148"/>
                    </a:lnTo>
                    <a:lnTo>
                      <a:pt x="162" y="106"/>
                    </a:lnTo>
                    <a:lnTo>
                      <a:pt x="180" y="32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21391800">
                <a:off x="7853760" y="531792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164" h="145">
                    <a:moveTo>
                      <a:pt x="0" y="93"/>
                    </a:moveTo>
                    <a:lnTo>
                      <a:pt x="80" y="112"/>
                    </a:lnTo>
                    <a:lnTo>
                      <a:pt x="122" y="84"/>
                    </a:lnTo>
                    <a:lnTo>
                      <a:pt x="99" y="0"/>
                    </a:lnTo>
                    <a:lnTo>
                      <a:pt x="159" y="23"/>
                    </a:lnTo>
                    <a:lnTo>
                      <a:pt x="164" y="98"/>
                    </a:lnTo>
                    <a:lnTo>
                      <a:pt x="99" y="145"/>
                    </a:lnTo>
                    <a:lnTo>
                      <a:pt x="38" y="14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21391800">
                <a:off x="7877160" y="531756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938" h="1168">
                    <a:moveTo>
                      <a:pt x="525" y="0"/>
                    </a:moveTo>
                    <a:lnTo>
                      <a:pt x="384" y="61"/>
                    </a:lnTo>
                    <a:lnTo>
                      <a:pt x="275" y="170"/>
                    </a:lnTo>
                    <a:lnTo>
                      <a:pt x="213" y="287"/>
                    </a:lnTo>
                    <a:lnTo>
                      <a:pt x="196" y="499"/>
                    </a:lnTo>
                    <a:lnTo>
                      <a:pt x="208" y="669"/>
                    </a:lnTo>
                    <a:lnTo>
                      <a:pt x="220" y="992"/>
                    </a:lnTo>
                    <a:lnTo>
                      <a:pt x="140" y="1053"/>
                    </a:lnTo>
                    <a:lnTo>
                      <a:pt x="0" y="1114"/>
                    </a:lnTo>
                    <a:lnTo>
                      <a:pt x="262" y="1168"/>
                    </a:lnTo>
                    <a:lnTo>
                      <a:pt x="294" y="1168"/>
                    </a:lnTo>
                    <a:lnTo>
                      <a:pt x="360" y="1138"/>
                    </a:lnTo>
                    <a:lnTo>
                      <a:pt x="348" y="998"/>
                    </a:lnTo>
                    <a:lnTo>
                      <a:pt x="281" y="669"/>
                    </a:lnTo>
                    <a:lnTo>
                      <a:pt x="335" y="298"/>
                    </a:lnTo>
                    <a:lnTo>
                      <a:pt x="379" y="250"/>
                    </a:lnTo>
                    <a:lnTo>
                      <a:pt x="494" y="135"/>
                    </a:lnTo>
                    <a:lnTo>
                      <a:pt x="676" y="91"/>
                    </a:lnTo>
                    <a:lnTo>
                      <a:pt x="938" y="31"/>
                    </a:lnTo>
                    <a:lnTo>
                      <a:pt x="651" y="0"/>
                    </a:lnTo>
                    <a:lnTo>
                      <a:pt x="525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21391800">
                <a:off x="7853400" y="5354280"/>
                <a:ext cx="28080" cy="12600"/>
              </a:xfrm>
              <a:custGeom>
                <a:avLst/>
                <a:gdLst/>
                <a:ahLst/>
                <a:rect l="l" t="t" r="r" b="b"/>
                <a:pathLst>
                  <a:path w="792" h="443">
                    <a:moveTo>
                      <a:pt x="122" y="157"/>
                    </a:moveTo>
                    <a:lnTo>
                      <a:pt x="250" y="370"/>
                    </a:lnTo>
                    <a:lnTo>
                      <a:pt x="348" y="436"/>
                    </a:lnTo>
                    <a:lnTo>
                      <a:pt x="567" y="443"/>
                    </a:lnTo>
                    <a:lnTo>
                      <a:pt x="792" y="254"/>
                    </a:lnTo>
                    <a:lnTo>
                      <a:pt x="603" y="230"/>
                    </a:lnTo>
                    <a:lnTo>
                      <a:pt x="511" y="97"/>
                    </a:lnTo>
                    <a:lnTo>
                      <a:pt x="0" y="0"/>
                    </a:lnTo>
                    <a:lnTo>
                      <a:pt x="122" y="157"/>
                    </a:lnTo>
                    <a:close/>
                  </a:path>
                </a:pathLst>
              </a:custGeom>
              <a:solidFill>
                <a:srgbClr val="cc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21391800">
                <a:off x="7862400" y="5361840"/>
                <a:ext cx="7200" cy="2520"/>
              </a:xfrm>
              <a:custGeom>
                <a:avLst/>
                <a:gdLst/>
                <a:ahLst/>
                <a:rect l="l" t="t" r="r" b="b"/>
                <a:pathLst>
                  <a:path w="207" h="98">
                    <a:moveTo>
                      <a:pt x="0" y="0"/>
                    </a:moveTo>
                    <a:lnTo>
                      <a:pt x="97" y="98"/>
                    </a:lnTo>
                    <a:lnTo>
                      <a:pt x="207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b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21391800">
                <a:off x="7840800" y="5284800"/>
                <a:ext cx="83520" cy="97920"/>
              </a:xfrm>
              <a:custGeom>
                <a:avLst/>
                <a:gdLst/>
                <a:ahLst/>
                <a:rect l="l" t="t" r="r" b="b"/>
                <a:pathLst>
                  <a:path w="2337" h="3380">
                    <a:moveTo>
                      <a:pt x="0" y="3022"/>
                    </a:moveTo>
                    <a:lnTo>
                      <a:pt x="347" y="3204"/>
                    </a:lnTo>
                    <a:lnTo>
                      <a:pt x="547" y="3254"/>
                    </a:lnTo>
                    <a:lnTo>
                      <a:pt x="706" y="3228"/>
                    </a:lnTo>
                    <a:lnTo>
                      <a:pt x="870" y="3138"/>
                    </a:lnTo>
                    <a:lnTo>
                      <a:pt x="998" y="3003"/>
                    </a:lnTo>
                    <a:lnTo>
                      <a:pt x="1260" y="2791"/>
                    </a:lnTo>
                    <a:lnTo>
                      <a:pt x="1516" y="2499"/>
                    </a:lnTo>
                    <a:lnTo>
                      <a:pt x="1661" y="2250"/>
                    </a:lnTo>
                    <a:lnTo>
                      <a:pt x="1892" y="1868"/>
                    </a:lnTo>
                    <a:lnTo>
                      <a:pt x="1953" y="1587"/>
                    </a:lnTo>
                    <a:lnTo>
                      <a:pt x="1886" y="1576"/>
                    </a:lnTo>
                    <a:lnTo>
                      <a:pt x="1807" y="1582"/>
                    </a:lnTo>
                    <a:lnTo>
                      <a:pt x="1886" y="1502"/>
                    </a:lnTo>
                    <a:lnTo>
                      <a:pt x="1820" y="1284"/>
                    </a:lnTo>
                    <a:lnTo>
                      <a:pt x="1929" y="1302"/>
                    </a:lnTo>
                    <a:lnTo>
                      <a:pt x="1977" y="1369"/>
                    </a:lnTo>
                    <a:lnTo>
                      <a:pt x="2003" y="1429"/>
                    </a:lnTo>
                    <a:lnTo>
                      <a:pt x="2027" y="1325"/>
                    </a:lnTo>
                    <a:lnTo>
                      <a:pt x="2008" y="1137"/>
                    </a:lnTo>
                    <a:lnTo>
                      <a:pt x="2099" y="852"/>
                    </a:lnTo>
                    <a:lnTo>
                      <a:pt x="2160" y="517"/>
                    </a:lnTo>
                    <a:lnTo>
                      <a:pt x="2160" y="401"/>
                    </a:lnTo>
                    <a:lnTo>
                      <a:pt x="2123" y="231"/>
                    </a:lnTo>
                    <a:lnTo>
                      <a:pt x="1917" y="335"/>
                    </a:lnTo>
                    <a:lnTo>
                      <a:pt x="1709" y="377"/>
                    </a:lnTo>
                    <a:lnTo>
                      <a:pt x="1375" y="371"/>
                    </a:lnTo>
                    <a:lnTo>
                      <a:pt x="1703" y="262"/>
                    </a:lnTo>
                    <a:lnTo>
                      <a:pt x="2166" y="0"/>
                    </a:lnTo>
                    <a:lnTo>
                      <a:pt x="2306" y="104"/>
                    </a:lnTo>
                    <a:lnTo>
                      <a:pt x="2337" y="395"/>
                    </a:lnTo>
                    <a:lnTo>
                      <a:pt x="2173" y="1205"/>
                    </a:lnTo>
                    <a:lnTo>
                      <a:pt x="2112" y="1332"/>
                    </a:lnTo>
                    <a:lnTo>
                      <a:pt x="2027" y="1508"/>
                    </a:lnTo>
                    <a:lnTo>
                      <a:pt x="1929" y="1903"/>
                    </a:lnTo>
                    <a:lnTo>
                      <a:pt x="1807" y="2274"/>
                    </a:lnTo>
                    <a:lnTo>
                      <a:pt x="1571" y="2596"/>
                    </a:lnTo>
                    <a:lnTo>
                      <a:pt x="1297" y="2901"/>
                    </a:lnTo>
                    <a:lnTo>
                      <a:pt x="968" y="3186"/>
                    </a:lnTo>
                    <a:lnTo>
                      <a:pt x="620" y="3380"/>
                    </a:lnTo>
                    <a:lnTo>
                      <a:pt x="298" y="3302"/>
                    </a:lnTo>
                    <a:lnTo>
                      <a:pt x="0" y="3022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21391800">
                <a:off x="7858440" y="5358600"/>
                <a:ext cx="27360" cy="11520"/>
              </a:xfrm>
              <a:custGeom>
                <a:avLst/>
                <a:gdLst/>
                <a:ahLst/>
                <a:rect l="l" t="t" r="r" b="b"/>
                <a:pathLst>
                  <a:path w="769" h="411">
                    <a:moveTo>
                      <a:pt x="0" y="97"/>
                    </a:moveTo>
                    <a:lnTo>
                      <a:pt x="117" y="284"/>
                    </a:lnTo>
                    <a:lnTo>
                      <a:pt x="61" y="306"/>
                    </a:lnTo>
                    <a:lnTo>
                      <a:pt x="240" y="354"/>
                    </a:lnTo>
                    <a:lnTo>
                      <a:pt x="398" y="384"/>
                    </a:lnTo>
                    <a:lnTo>
                      <a:pt x="476" y="411"/>
                    </a:lnTo>
                    <a:lnTo>
                      <a:pt x="607" y="319"/>
                    </a:lnTo>
                    <a:lnTo>
                      <a:pt x="769" y="27"/>
                    </a:lnTo>
                    <a:lnTo>
                      <a:pt x="586" y="0"/>
                    </a:lnTo>
                    <a:lnTo>
                      <a:pt x="450" y="61"/>
                    </a:lnTo>
                    <a:lnTo>
                      <a:pt x="639" y="122"/>
                    </a:lnTo>
                    <a:lnTo>
                      <a:pt x="494" y="258"/>
                    </a:lnTo>
                    <a:lnTo>
                      <a:pt x="309" y="272"/>
                    </a:lnTo>
                    <a:lnTo>
                      <a:pt x="153" y="219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21391800">
                <a:off x="7840080" y="5308560"/>
                <a:ext cx="38160" cy="15120"/>
              </a:xfrm>
              <a:custGeom>
                <a:avLst/>
                <a:gdLst/>
                <a:ahLst/>
                <a:rect l="l" t="t" r="r" b="b"/>
                <a:pathLst>
                  <a:path w="1074" h="525">
                    <a:moveTo>
                      <a:pt x="0" y="203"/>
                    </a:moveTo>
                    <a:lnTo>
                      <a:pt x="184" y="299"/>
                    </a:lnTo>
                    <a:lnTo>
                      <a:pt x="296" y="215"/>
                    </a:lnTo>
                    <a:lnTo>
                      <a:pt x="547" y="199"/>
                    </a:lnTo>
                    <a:lnTo>
                      <a:pt x="650" y="218"/>
                    </a:lnTo>
                    <a:lnTo>
                      <a:pt x="794" y="362"/>
                    </a:lnTo>
                    <a:lnTo>
                      <a:pt x="786" y="525"/>
                    </a:lnTo>
                    <a:lnTo>
                      <a:pt x="885" y="474"/>
                    </a:lnTo>
                    <a:lnTo>
                      <a:pt x="957" y="382"/>
                    </a:lnTo>
                    <a:lnTo>
                      <a:pt x="1074" y="350"/>
                    </a:lnTo>
                    <a:lnTo>
                      <a:pt x="1005" y="247"/>
                    </a:lnTo>
                    <a:lnTo>
                      <a:pt x="762" y="111"/>
                    </a:lnTo>
                    <a:lnTo>
                      <a:pt x="343" y="12"/>
                    </a:lnTo>
                    <a:lnTo>
                      <a:pt x="231" y="0"/>
                    </a:lnTo>
                    <a:lnTo>
                      <a:pt x="375" y="64"/>
                    </a:lnTo>
                    <a:lnTo>
                      <a:pt x="503" y="139"/>
                    </a:lnTo>
                    <a:lnTo>
                      <a:pt x="275" y="155"/>
                    </a:lnTo>
                    <a:lnTo>
                      <a:pt x="147" y="218"/>
                    </a:lnTo>
                    <a:lnTo>
                      <a:pt x="0" y="203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rot="21391800">
                <a:off x="7801560" y="5279760"/>
                <a:ext cx="79920" cy="88560"/>
              </a:xfrm>
              <a:custGeom>
                <a:avLst/>
                <a:gdLst/>
                <a:ahLst/>
                <a:rect l="l" t="t" r="r" b="b"/>
                <a:pathLst>
                  <a:path w="2247" h="3052">
                    <a:moveTo>
                      <a:pt x="359" y="1667"/>
                    </a:moveTo>
                    <a:lnTo>
                      <a:pt x="332" y="2058"/>
                    </a:lnTo>
                    <a:lnTo>
                      <a:pt x="311" y="2512"/>
                    </a:lnTo>
                    <a:lnTo>
                      <a:pt x="825" y="3052"/>
                    </a:lnTo>
                    <a:lnTo>
                      <a:pt x="525" y="2557"/>
                    </a:lnTo>
                    <a:lnTo>
                      <a:pt x="463" y="2185"/>
                    </a:lnTo>
                    <a:lnTo>
                      <a:pt x="466" y="1585"/>
                    </a:lnTo>
                    <a:lnTo>
                      <a:pt x="591" y="1827"/>
                    </a:lnTo>
                    <a:lnTo>
                      <a:pt x="507" y="1501"/>
                    </a:lnTo>
                    <a:lnTo>
                      <a:pt x="599" y="1213"/>
                    </a:lnTo>
                    <a:lnTo>
                      <a:pt x="678" y="971"/>
                    </a:lnTo>
                    <a:lnTo>
                      <a:pt x="751" y="688"/>
                    </a:lnTo>
                    <a:lnTo>
                      <a:pt x="825" y="632"/>
                    </a:lnTo>
                    <a:lnTo>
                      <a:pt x="982" y="553"/>
                    </a:lnTo>
                    <a:lnTo>
                      <a:pt x="1105" y="982"/>
                    </a:lnTo>
                    <a:lnTo>
                      <a:pt x="1095" y="715"/>
                    </a:lnTo>
                    <a:lnTo>
                      <a:pt x="1193" y="441"/>
                    </a:lnTo>
                    <a:lnTo>
                      <a:pt x="1440" y="330"/>
                    </a:lnTo>
                    <a:lnTo>
                      <a:pt x="1807" y="294"/>
                    </a:lnTo>
                    <a:lnTo>
                      <a:pt x="1731" y="394"/>
                    </a:lnTo>
                    <a:lnTo>
                      <a:pt x="2247" y="154"/>
                    </a:lnTo>
                    <a:lnTo>
                      <a:pt x="2054" y="0"/>
                    </a:lnTo>
                    <a:lnTo>
                      <a:pt x="591" y="262"/>
                    </a:lnTo>
                    <a:lnTo>
                      <a:pt x="199" y="512"/>
                    </a:lnTo>
                    <a:lnTo>
                      <a:pt x="0" y="692"/>
                    </a:lnTo>
                    <a:lnTo>
                      <a:pt x="156" y="728"/>
                    </a:lnTo>
                    <a:lnTo>
                      <a:pt x="208" y="876"/>
                    </a:lnTo>
                    <a:lnTo>
                      <a:pt x="191" y="951"/>
                    </a:lnTo>
                    <a:lnTo>
                      <a:pt x="112" y="1086"/>
                    </a:lnTo>
                    <a:lnTo>
                      <a:pt x="107" y="1234"/>
                    </a:lnTo>
                    <a:lnTo>
                      <a:pt x="168" y="1326"/>
                    </a:lnTo>
                    <a:lnTo>
                      <a:pt x="159" y="1409"/>
                    </a:lnTo>
                    <a:lnTo>
                      <a:pt x="279" y="1472"/>
                    </a:lnTo>
                    <a:lnTo>
                      <a:pt x="327" y="1421"/>
                    </a:lnTo>
                    <a:lnTo>
                      <a:pt x="256" y="1213"/>
                    </a:lnTo>
                    <a:lnTo>
                      <a:pt x="319" y="1134"/>
                    </a:lnTo>
                    <a:lnTo>
                      <a:pt x="384" y="1310"/>
                    </a:lnTo>
                    <a:lnTo>
                      <a:pt x="359" y="1667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21391800">
                <a:off x="7819920" y="5367240"/>
                <a:ext cx="17280" cy="57960"/>
              </a:xfrm>
              <a:custGeom>
                <a:avLst/>
                <a:gdLst/>
                <a:ahLst/>
                <a:rect l="l" t="t" r="r" b="b"/>
                <a:pathLst>
                  <a:path w="492" h="1997">
                    <a:moveTo>
                      <a:pt x="0" y="301"/>
                    </a:moveTo>
                    <a:lnTo>
                      <a:pt x="66" y="807"/>
                    </a:lnTo>
                    <a:lnTo>
                      <a:pt x="492" y="1997"/>
                    </a:lnTo>
                    <a:lnTo>
                      <a:pt x="283" y="920"/>
                    </a:lnTo>
                    <a:lnTo>
                      <a:pt x="228" y="425"/>
                    </a:lnTo>
                    <a:lnTo>
                      <a:pt x="52" y="0"/>
                    </a:lnTo>
                    <a:lnTo>
                      <a:pt x="0" y="3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21391800">
                <a:off x="7828200" y="5364360"/>
                <a:ext cx="35280" cy="105120"/>
              </a:xfrm>
              <a:custGeom>
                <a:avLst/>
                <a:gdLst/>
                <a:ahLst/>
                <a:rect l="l" t="t" r="r" b="b"/>
                <a:pathLst>
                  <a:path w="995" h="3623">
                    <a:moveTo>
                      <a:pt x="0" y="0"/>
                    </a:moveTo>
                    <a:lnTo>
                      <a:pt x="290" y="445"/>
                    </a:lnTo>
                    <a:lnTo>
                      <a:pt x="600" y="746"/>
                    </a:lnTo>
                    <a:lnTo>
                      <a:pt x="643" y="1035"/>
                    </a:lnTo>
                    <a:lnTo>
                      <a:pt x="673" y="1418"/>
                    </a:lnTo>
                    <a:lnTo>
                      <a:pt x="735" y="1749"/>
                    </a:lnTo>
                    <a:lnTo>
                      <a:pt x="581" y="3117"/>
                    </a:lnTo>
                    <a:lnTo>
                      <a:pt x="93" y="2526"/>
                    </a:lnTo>
                    <a:lnTo>
                      <a:pt x="622" y="3623"/>
                    </a:lnTo>
                    <a:lnTo>
                      <a:pt x="891" y="2505"/>
                    </a:lnTo>
                    <a:lnTo>
                      <a:pt x="921" y="1802"/>
                    </a:lnTo>
                    <a:lnTo>
                      <a:pt x="776" y="1408"/>
                    </a:lnTo>
                    <a:lnTo>
                      <a:pt x="995" y="953"/>
                    </a:lnTo>
                    <a:lnTo>
                      <a:pt x="963" y="725"/>
                    </a:lnTo>
                    <a:lnTo>
                      <a:pt x="279" y="2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rot="21391800">
                <a:off x="7828200" y="5306760"/>
                <a:ext cx="37080" cy="59040"/>
              </a:xfrm>
              <a:custGeom>
                <a:avLst/>
                <a:gdLst/>
                <a:ahLst/>
                <a:rect l="l" t="t" r="r" b="b"/>
                <a:pathLst>
                  <a:path w="1047" h="2046">
                    <a:moveTo>
                      <a:pt x="197" y="0"/>
                    </a:moveTo>
                    <a:lnTo>
                      <a:pt x="249" y="362"/>
                    </a:lnTo>
                    <a:lnTo>
                      <a:pt x="517" y="532"/>
                    </a:lnTo>
                    <a:lnTo>
                      <a:pt x="584" y="658"/>
                    </a:lnTo>
                    <a:lnTo>
                      <a:pt x="767" y="807"/>
                    </a:lnTo>
                    <a:lnTo>
                      <a:pt x="1047" y="798"/>
                    </a:lnTo>
                    <a:lnTo>
                      <a:pt x="900" y="930"/>
                    </a:lnTo>
                    <a:lnTo>
                      <a:pt x="846" y="1159"/>
                    </a:lnTo>
                    <a:lnTo>
                      <a:pt x="565" y="1562"/>
                    </a:lnTo>
                    <a:lnTo>
                      <a:pt x="648" y="2046"/>
                    </a:lnTo>
                    <a:lnTo>
                      <a:pt x="283" y="1760"/>
                    </a:lnTo>
                    <a:lnTo>
                      <a:pt x="166" y="1449"/>
                    </a:lnTo>
                    <a:lnTo>
                      <a:pt x="83" y="848"/>
                    </a:lnTo>
                    <a:lnTo>
                      <a:pt x="0" y="466"/>
                    </a:lnTo>
                    <a:lnTo>
                      <a:pt x="73" y="166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21391800">
                <a:off x="7869240" y="5320440"/>
                <a:ext cx="12240" cy="25920"/>
              </a:xfrm>
              <a:custGeom>
                <a:avLst/>
                <a:gdLst/>
                <a:ahLst/>
                <a:rect l="l" t="t" r="r" b="b"/>
                <a:pathLst>
                  <a:path w="352" h="901">
                    <a:moveTo>
                      <a:pt x="352" y="0"/>
                    </a:moveTo>
                    <a:lnTo>
                      <a:pt x="166" y="114"/>
                    </a:lnTo>
                    <a:lnTo>
                      <a:pt x="0" y="238"/>
                    </a:lnTo>
                    <a:lnTo>
                      <a:pt x="155" y="311"/>
                    </a:lnTo>
                    <a:lnTo>
                      <a:pt x="217" y="413"/>
                    </a:lnTo>
                    <a:lnTo>
                      <a:pt x="217" y="663"/>
                    </a:lnTo>
                    <a:lnTo>
                      <a:pt x="114" y="787"/>
                    </a:lnTo>
                    <a:lnTo>
                      <a:pt x="217" y="901"/>
                    </a:lnTo>
                    <a:lnTo>
                      <a:pt x="300" y="890"/>
                    </a:lnTo>
                    <a:lnTo>
                      <a:pt x="300" y="715"/>
                    </a:lnTo>
                    <a:lnTo>
                      <a:pt x="290" y="196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rot="21391800">
                <a:off x="7844040" y="5292000"/>
                <a:ext cx="15480" cy="15120"/>
              </a:xfrm>
              <a:custGeom>
                <a:avLst/>
                <a:gdLst/>
                <a:ahLst/>
                <a:rect l="l" t="t" r="r" b="b"/>
                <a:pathLst>
                  <a:path w="437" h="529">
                    <a:moveTo>
                      <a:pt x="104" y="84"/>
                    </a:moveTo>
                    <a:lnTo>
                      <a:pt x="74" y="322"/>
                    </a:lnTo>
                    <a:lnTo>
                      <a:pt x="0" y="529"/>
                    </a:lnTo>
                    <a:lnTo>
                      <a:pt x="290" y="519"/>
                    </a:lnTo>
                    <a:lnTo>
                      <a:pt x="437" y="519"/>
                    </a:lnTo>
                    <a:lnTo>
                      <a:pt x="290" y="332"/>
                    </a:lnTo>
                    <a:lnTo>
                      <a:pt x="218" y="124"/>
                    </a:lnTo>
                    <a:lnTo>
                      <a:pt x="290" y="0"/>
                    </a:lnTo>
                    <a:lnTo>
                      <a:pt x="188" y="0"/>
                    </a:lnTo>
                    <a:lnTo>
                      <a:pt x="10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rot="21391800">
                <a:off x="7842960" y="534888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663" h="257">
                    <a:moveTo>
                      <a:pt x="658" y="131"/>
                    </a:moveTo>
                    <a:lnTo>
                      <a:pt x="663" y="257"/>
                    </a:lnTo>
                    <a:lnTo>
                      <a:pt x="337" y="172"/>
                    </a:lnTo>
                    <a:lnTo>
                      <a:pt x="0" y="184"/>
                    </a:lnTo>
                    <a:lnTo>
                      <a:pt x="441" y="0"/>
                    </a:lnTo>
                    <a:lnTo>
                      <a:pt x="658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rot="21391800">
                <a:off x="7841160" y="536148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674" h="508">
                    <a:moveTo>
                      <a:pt x="633" y="372"/>
                    </a:moveTo>
                    <a:lnTo>
                      <a:pt x="301" y="238"/>
                    </a:lnTo>
                    <a:lnTo>
                      <a:pt x="0" y="0"/>
                    </a:lnTo>
                    <a:lnTo>
                      <a:pt x="217" y="248"/>
                    </a:lnTo>
                    <a:lnTo>
                      <a:pt x="476" y="455"/>
                    </a:lnTo>
                    <a:lnTo>
                      <a:pt x="591" y="508"/>
                    </a:lnTo>
                    <a:lnTo>
                      <a:pt x="674" y="455"/>
                    </a:lnTo>
                    <a:lnTo>
                      <a:pt x="633" y="3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21391800">
                <a:off x="7848360" y="533664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508" h="291">
                    <a:moveTo>
                      <a:pt x="425" y="94"/>
                    </a:moveTo>
                    <a:lnTo>
                      <a:pt x="249" y="176"/>
                    </a:lnTo>
                    <a:lnTo>
                      <a:pt x="0" y="291"/>
                    </a:lnTo>
                    <a:lnTo>
                      <a:pt x="227" y="73"/>
                    </a:lnTo>
                    <a:lnTo>
                      <a:pt x="384" y="0"/>
                    </a:lnTo>
                    <a:lnTo>
                      <a:pt x="508" y="42"/>
                    </a:lnTo>
                    <a:lnTo>
                      <a:pt x="425" y="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rot="21391800">
                <a:off x="7892280" y="532872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51" h="456">
                    <a:moveTo>
                      <a:pt x="21" y="104"/>
                    </a:moveTo>
                    <a:lnTo>
                      <a:pt x="21" y="280"/>
                    </a:lnTo>
                    <a:lnTo>
                      <a:pt x="114" y="456"/>
                    </a:lnTo>
                    <a:lnTo>
                      <a:pt x="259" y="332"/>
                    </a:lnTo>
                    <a:lnTo>
                      <a:pt x="351" y="145"/>
                    </a:lnTo>
                    <a:lnTo>
                      <a:pt x="237" y="156"/>
                    </a:lnTo>
                    <a:lnTo>
                      <a:pt x="0" y="0"/>
                    </a:lnTo>
                    <a:lnTo>
                      <a:pt x="21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rot="21391800">
                <a:off x="7894440" y="5298120"/>
                <a:ext cx="11520" cy="13680"/>
              </a:xfrm>
              <a:custGeom>
                <a:avLst/>
                <a:gdLst/>
                <a:ahLst/>
                <a:rect l="l" t="t" r="r" b="b"/>
                <a:pathLst>
                  <a:path w="331" h="476">
                    <a:moveTo>
                      <a:pt x="123" y="30"/>
                    </a:moveTo>
                    <a:lnTo>
                      <a:pt x="331" y="0"/>
                    </a:lnTo>
                    <a:lnTo>
                      <a:pt x="331" y="166"/>
                    </a:lnTo>
                    <a:lnTo>
                      <a:pt x="268" y="311"/>
                    </a:lnTo>
                    <a:lnTo>
                      <a:pt x="155" y="456"/>
                    </a:lnTo>
                    <a:lnTo>
                      <a:pt x="0" y="476"/>
                    </a:lnTo>
                    <a:lnTo>
                      <a:pt x="94" y="331"/>
                    </a:lnTo>
                    <a:lnTo>
                      <a:pt x="123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rot="21391800">
                <a:off x="7777800" y="5281920"/>
                <a:ext cx="19800" cy="57960"/>
              </a:xfrm>
              <a:custGeom>
                <a:avLst/>
                <a:gdLst/>
                <a:ahLst/>
                <a:rect l="l" t="t" r="r" b="b"/>
                <a:pathLst>
                  <a:path w="560" h="1999">
                    <a:moveTo>
                      <a:pt x="560" y="0"/>
                    </a:moveTo>
                    <a:lnTo>
                      <a:pt x="321" y="538"/>
                    </a:lnTo>
                    <a:lnTo>
                      <a:pt x="539" y="414"/>
                    </a:lnTo>
                    <a:lnTo>
                      <a:pt x="270" y="881"/>
                    </a:lnTo>
                    <a:lnTo>
                      <a:pt x="270" y="1429"/>
                    </a:lnTo>
                    <a:lnTo>
                      <a:pt x="415" y="1036"/>
                    </a:lnTo>
                    <a:lnTo>
                      <a:pt x="332" y="1563"/>
                    </a:lnTo>
                    <a:lnTo>
                      <a:pt x="456" y="1999"/>
                    </a:lnTo>
                    <a:lnTo>
                      <a:pt x="166" y="1739"/>
                    </a:lnTo>
                    <a:lnTo>
                      <a:pt x="52" y="1543"/>
                    </a:lnTo>
                    <a:lnTo>
                      <a:pt x="0" y="1077"/>
                    </a:lnTo>
                    <a:lnTo>
                      <a:pt x="249" y="600"/>
                    </a:lnTo>
                    <a:lnTo>
                      <a:pt x="290" y="363"/>
                    </a:lnTo>
                    <a:lnTo>
                      <a:pt x="56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rot="21391800">
                <a:off x="7806600" y="5249160"/>
                <a:ext cx="58680" cy="21600"/>
              </a:xfrm>
              <a:custGeom>
                <a:avLst/>
                <a:gdLst/>
                <a:ahLst/>
                <a:rect l="l" t="t" r="r" b="b"/>
                <a:pathLst>
                  <a:path w="1649" h="756">
                    <a:moveTo>
                      <a:pt x="104" y="496"/>
                    </a:moveTo>
                    <a:lnTo>
                      <a:pt x="560" y="124"/>
                    </a:lnTo>
                    <a:lnTo>
                      <a:pt x="457" y="321"/>
                    </a:lnTo>
                    <a:lnTo>
                      <a:pt x="902" y="31"/>
                    </a:lnTo>
                    <a:lnTo>
                      <a:pt x="727" y="259"/>
                    </a:lnTo>
                    <a:lnTo>
                      <a:pt x="1245" y="0"/>
                    </a:lnTo>
                    <a:lnTo>
                      <a:pt x="923" y="248"/>
                    </a:lnTo>
                    <a:lnTo>
                      <a:pt x="1649" y="207"/>
                    </a:lnTo>
                    <a:lnTo>
                      <a:pt x="882" y="414"/>
                    </a:lnTo>
                    <a:lnTo>
                      <a:pt x="1307" y="467"/>
                    </a:lnTo>
                    <a:lnTo>
                      <a:pt x="1109" y="529"/>
                    </a:lnTo>
                    <a:lnTo>
                      <a:pt x="1514" y="642"/>
                    </a:lnTo>
                    <a:lnTo>
                      <a:pt x="1027" y="632"/>
                    </a:lnTo>
                    <a:lnTo>
                      <a:pt x="488" y="756"/>
                    </a:lnTo>
                    <a:lnTo>
                      <a:pt x="747" y="570"/>
                    </a:lnTo>
                    <a:lnTo>
                      <a:pt x="467" y="653"/>
                    </a:lnTo>
                    <a:lnTo>
                      <a:pt x="757" y="405"/>
                    </a:lnTo>
                    <a:lnTo>
                      <a:pt x="219" y="736"/>
                    </a:lnTo>
                    <a:lnTo>
                      <a:pt x="436" y="424"/>
                    </a:lnTo>
                    <a:lnTo>
                      <a:pt x="0" y="632"/>
                    </a:lnTo>
                    <a:lnTo>
                      <a:pt x="104" y="496"/>
                    </a:lnTo>
                    <a:close/>
                  </a:path>
                </a:pathLst>
              </a:cu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rot="21391800">
                <a:off x="7800840" y="5360400"/>
                <a:ext cx="52200" cy="120600"/>
              </a:xfrm>
              <a:custGeom>
                <a:avLst/>
                <a:gdLst/>
                <a:ahLst/>
                <a:rect l="l" t="t" r="r" b="b"/>
                <a:pathLst>
                  <a:path w="1462" h="4170">
                    <a:moveTo>
                      <a:pt x="0" y="362"/>
                    </a:moveTo>
                    <a:lnTo>
                      <a:pt x="176" y="1375"/>
                    </a:lnTo>
                    <a:lnTo>
                      <a:pt x="208" y="2938"/>
                    </a:lnTo>
                    <a:lnTo>
                      <a:pt x="829" y="3135"/>
                    </a:lnTo>
                    <a:lnTo>
                      <a:pt x="860" y="3529"/>
                    </a:lnTo>
                    <a:lnTo>
                      <a:pt x="1347" y="4170"/>
                    </a:lnTo>
                    <a:lnTo>
                      <a:pt x="1462" y="4170"/>
                    </a:lnTo>
                    <a:lnTo>
                      <a:pt x="933" y="3135"/>
                    </a:lnTo>
                    <a:lnTo>
                      <a:pt x="695" y="2690"/>
                    </a:lnTo>
                    <a:lnTo>
                      <a:pt x="229" y="920"/>
                    </a:lnTo>
                    <a:lnTo>
                      <a:pt x="146" y="319"/>
                    </a:lnTo>
                    <a:lnTo>
                      <a:pt x="155" y="0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rot="21391800">
                <a:off x="7878600" y="5442480"/>
                <a:ext cx="43920" cy="28440"/>
              </a:xfrm>
              <a:custGeom>
                <a:avLst/>
                <a:gdLst/>
                <a:ahLst/>
                <a:rect l="l" t="t" r="r" b="b"/>
                <a:pathLst>
                  <a:path w="1232" h="983">
                    <a:moveTo>
                      <a:pt x="0" y="238"/>
                    </a:moveTo>
                    <a:lnTo>
                      <a:pt x="145" y="259"/>
                    </a:lnTo>
                    <a:lnTo>
                      <a:pt x="155" y="403"/>
                    </a:lnTo>
                    <a:lnTo>
                      <a:pt x="312" y="465"/>
                    </a:lnTo>
                    <a:lnTo>
                      <a:pt x="455" y="570"/>
                    </a:lnTo>
                    <a:lnTo>
                      <a:pt x="455" y="715"/>
                    </a:lnTo>
                    <a:lnTo>
                      <a:pt x="331" y="983"/>
                    </a:lnTo>
                    <a:lnTo>
                      <a:pt x="962" y="538"/>
                    </a:lnTo>
                    <a:lnTo>
                      <a:pt x="1232" y="0"/>
                    </a:lnTo>
                    <a:lnTo>
                      <a:pt x="632" y="103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rot="21391800">
                <a:off x="7859520" y="5445360"/>
                <a:ext cx="10800" cy="33840"/>
              </a:xfrm>
              <a:custGeom>
                <a:avLst/>
                <a:gdLst/>
                <a:ahLst/>
                <a:rect l="l" t="t" r="r" b="b"/>
                <a:pathLst>
                  <a:path w="310" h="1170">
                    <a:moveTo>
                      <a:pt x="0" y="1088"/>
                    </a:moveTo>
                    <a:lnTo>
                      <a:pt x="103" y="0"/>
                    </a:lnTo>
                    <a:lnTo>
                      <a:pt x="134" y="311"/>
                    </a:lnTo>
                    <a:lnTo>
                      <a:pt x="259" y="383"/>
                    </a:lnTo>
                    <a:lnTo>
                      <a:pt x="216" y="507"/>
                    </a:lnTo>
                    <a:lnTo>
                      <a:pt x="310" y="664"/>
                    </a:lnTo>
                    <a:lnTo>
                      <a:pt x="124" y="1170"/>
                    </a:lnTo>
                    <a:lnTo>
                      <a:pt x="0" y="10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rot="21391800">
                <a:off x="7859520" y="538812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591" h="881">
                    <a:moveTo>
                      <a:pt x="591" y="0"/>
                    </a:moveTo>
                    <a:lnTo>
                      <a:pt x="0" y="424"/>
                    </a:lnTo>
                    <a:lnTo>
                      <a:pt x="10" y="621"/>
                    </a:lnTo>
                    <a:lnTo>
                      <a:pt x="104" y="807"/>
                    </a:lnTo>
                    <a:lnTo>
                      <a:pt x="270" y="881"/>
                    </a:lnTo>
                    <a:lnTo>
                      <a:pt x="394" y="695"/>
                    </a:lnTo>
                    <a:lnTo>
                      <a:pt x="518" y="466"/>
                    </a:lnTo>
                    <a:lnTo>
                      <a:pt x="580" y="238"/>
                    </a:lnTo>
                    <a:lnTo>
                      <a:pt x="5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rot="21391800">
                <a:off x="7884000" y="5396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28" h="507">
                    <a:moveTo>
                      <a:pt x="228" y="0"/>
                    </a:moveTo>
                    <a:lnTo>
                      <a:pt x="197" y="290"/>
                    </a:lnTo>
                    <a:lnTo>
                      <a:pt x="0" y="507"/>
                    </a:lnTo>
                    <a:lnTo>
                      <a:pt x="83" y="238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 rot="21391800">
                <a:off x="7903800" y="53553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373" h="600">
                    <a:moveTo>
                      <a:pt x="0" y="600"/>
                    </a:moveTo>
                    <a:lnTo>
                      <a:pt x="103" y="382"/>
                    </a:lnTo>
                    <a:lnTo>
                      <a:pt x="373" y="0"/>
                    </a:lnTo>
                    <a:lnTo>
                      <a:pt x="248" y="495"/>
                    </a:lnTo>
                    <a:lnTo>
                      <a:pt x="103" y="568"/>
                    </a:lnTo>
                    <a:lnTo>
                      <a:pt x="0" y="6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rot="21391800">
                <a:off x="7911360" y="541080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415" h="632">
                    <a:moveTo>
                      <a:pt x="0" y="477"/>
                    </a:moveTo>
                    <a:lnTo>
                      <a:pt x="42" y="549"/>
                    </a:lnTo>
                    <a:lnTo>
                      <a:pt x="21" y="632"/>
                    </a:lnTo>
                    <a:lnTo>
                      <a:pt x="187" y="529"/>
                    </a:lnTo>
                    <a:lnTo>
                      <a:pt x="384" y="291"/>
                    </a:lnTo>
                    <a:lnTo>
                      <a:pt x="415" y="0"/>
                    </a:lnTo>
                    <a:lnTo>
                      <a:pt x="249" y="331"/>
                    </a:lnTo>
                    <a:lnTo>
                      <a:pt x="104" y="435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21391800">
                <a:off x="7895160" y="5390280"/>
                <a:ext cx="30600" cy="38880"/>
              </a:xfrm>
              <a:custGeom>
                <a:avLst/>
                <a:gdLst/>
                <a:ahLst/>
                <a:rect l="l" t="t" r="r" b="b"/>
                <a:pathLst>
                  <a:path w="859" h="1345">
                    <a:moveTo>
                      <a:pt x="383" y="558"/>
                    </a:moveTo>
                    <a:lnTo>
                      <a:pt x="83" y="993"/>
                    </a:lnTo>
                    <a:lnTo>
                      <a:pt x="0" y="1128"/>
                    </a:lnTo>
                    <a:lnTo>
                      <a:pt x="53" y="1345"/>
                    </a:lnTo>
                    <a:lnTo>
                      <a:pt x="124" y="1159"/>
                    </a:lnTo>
                    <a:lnTo>
                      <a:pt x="259" y="993"/>
                    </a:lnTo>
                    <a:lnTo>
                      <a:pt x="351" y="973"/>
                    </a:lnTo>
                    <a:lnTo>
                      <a:pt x="330" y="1097"/>
                    </a:lnTo>
                    <a:lnTo>
                      <a:pt x="518" y="1003"/>
                    </a:lnTo>
                    <a:lnTo>
                      <a:pt x="631" y="828"/>
                    </a:lnTo>
                    <a:lnTo>
                      <a:pt x="745" y="713"/>
                    </a:lnTo>
                    <a:lnTo>
                      <a:pt x="745" y="601"/>
                    </a:lnTo>
                    <a:lnTo>
                      <a:pt x="839" y="579"/>
                    </a:lnTo>
                    <a:lnTo>
                      <a:pt x="766" y="465"/>
                    </a:lnTo>
                    <a:lnTo>
                      <a:pt x="756" y="403"/>
                    </a:lnTo>
                    <a:lnTo>
                      <a:pt x="859" y="382"/>
                    </a:lnTo>
                    <a:lnTo>
                      <a:pt x="663" y="258"/>
                    </a:lnTo>
                    <a:lnTo>
                      <a:pt x="507" y="93"/>
                    </a:lnTo>
                    <a:lnTo>
                      <a:pt x="330" y="41"/>
                    </a:lnTo>
                    <a:lnTo>
                      <a:pt x="83" y="0"/>
                    </a:lnTo>
                    <a:lnTo>
                      <a:pt x="268" y="124"/>
                    </a:lnTo>
                    <a:lnTo>
                      <a:pt x="424" y="248"/>
                    </a:lnTo>
                    <a:lnTo>
                      <a:pt x="383" y="558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rot="21391800">
                <a:off x="7908840" y="5389560"/>
                <a:ext cx="70560" cy="87120"/>
              </a:xfrm>
              <a:custGeom>
                <a:avLst/>
                <a:gdLst/>
                <a:ahLst/>
                <a:rect l="l" t="t" r="r" b="b"/>
                <a:pathLst>
                  <a:path w="1979" h="3013">
                    <a:moveTo>
                      <a:pt x="0" y="2964"/>
                    </a:moveTo>
                    <a:lnTo>
                      <a:pt x="1979" y="3013"/>
                    </a:lnTo>
                    <a:lnTo>
                      <a:pt x="1607" y="1902"/>
                    </a:lnTo>
                    <a:lnTo>
                      <a:pt x="989" y="864"/>
                    </a:lnTo>
                    <a:lnTo>
                      <a:pt x="1187" y="98"/>
                    </a:lnTo>
                    <a:lnTo>
                      <a:pt x="914" y="0"/>
                    </a:lnTo>
                    <a:lnTo>
                      <a:pt x="914" y="395"/>
                    </a:lnTo>
                    <a:lnTo>
                      <a:pt x="742" y="964"/>
                    </a:lnTo>
                    <a:lnTo>
                      <a:pt x="494" y="1532"/>
                    </a:lnTo>
                    <a:lnTo>
                      <a:pt x="692" y="1457"/>
                    </a:lnTo>
                    <a:lnTo>
                      <a:pt x="717" y="1753"/>
                    </a:lnTo>
                    <a:lnTo>
                      <a:pt x="742" y="2149"/>
                    </a:lnTo>
                    <a:lnTo>
                      <a:pt x="0" y="2964"/>
                    </a:lnTo>
                    <a:close/>
                  </a:path>
                </a:pathLst>
              </a:custGeom>
              <a:solidFill>
                <a:srgbClr val="788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rot="21391800">
                <a:off x="7898760" y="5347800"/>
                <a:ext cx="37800" cy="43920"/>
              </a:xfrm>
              <a:custGeom>
                <a:avLst/>
                <a:gdLst/>
                <a:ahLst/>
                <a:rect l="l" t="t" r="r" b="b"/>
                <a:pathLst>
                  <a:path w="1068" h="1525">
                    <a:moveTo>
                      <a:pt x="885" y="31"/>
                    </a:moveTo>
                    <a:lnTo>
                      <a:pt x="891" y="195"/>
                    </a:lnTo>
                    <a:lnTo>
                      <a:pt x="922" y="316"/>
                    </a:lnTo>
                    <a:lnTo>
                      <a:pt x="946" y="518"/>
                    </a:lnTo>
                    <a:lnTo>
                      <a:pt x="903" y="817"/>
                    </a:lnTo>
                    <a:lnTo>
                      <a:pt x="841" y="945"/>
                    </a:lnTo>
                    <a:lnTo>
                      <a:pt x="780" y="859"/>
                    </a:lnTo>
                    <a:lnTo>
                      <a:pt x="811" y="682"/>
                    </a:lnTo>
                    <a:lnTo>
                      <a:pt x="830" y="444"/>
                    </a:lnTo>
                    <a:lnTo>
                      <a:pt x="787" y="432"/>
                    </a:lnTo>
                    <a:lnTo>
                      <a:pt x="732" y="712"/>
                    </a:lnTo>
                    <a:lnTo>
                      <a:pt x="573" y="712"/>
                    </a:lnTo>
                    <a:lnTo>
                      <a:pt x="255" y="859"/>
                    </a:lnTo>
                    <a:lnTo>
                      <a:pt x="121" y="927"/>
                    </a:lnTo>
                    <a:lnTo>
                      <a:pt x="0" y="1049"/>
                    </a:lnTo>
                    <a:lnTo>
                      <a:pt x="132" y="1030"/>
                    </a:lnTo>
                    <a:lnTo>
                      <a:pt x="224" y="933"/>
                    </a:lnTo>
                    <a:lnTo>
                      <a:pt x="469" y="822"/>
                    </a:lnTo>
                    <a:lnTo>
                      <a:pt x="616" y="780"/>
                    </a:lnTo>
                    <a:lnTo>
                      <a:pt x="684" y="841"/>
                    </a:lnTo>
                    <a:lnTo>
                      <a:pt x="776" y="1067"/>
                    </a:lnTo>
                    <a:lnTo>
                      <a:pt x="799" y="1281"/>
                    </a:lnTo>
                    <a:lnTo>
                      <a:pt x="530" y="1117"/>
                    </a:lnTo>
                    <a:lnTo>
                      <a:pt x="200" y="1073"/>
                    </a:lnTo>
                    <a:lnTo>
                      <a:pt x="37" y="1104"/>
                    </a:lnTo>
                    <a:lnTo>
                      <a:pt x="280" y="1134"/>
                    </a:lnTo>
                    <a:lnTo>
                      <a:pt x="488" y="1178"/>
                    </a:lnTo>
                    <a:lnTo>
                      <a:pt x="591" y="1250"/>
                    </a:lnTo>
                    <a:lnTo>
                      <a:pt x="861" y="1445"/>
                    </a:lnTo>
                    <a:lnTo>
                      <a:pt x="1068" y="1525"/>
                    </a:lnTo>
                    <a:lnTo>
                      <a:pt x="964" y="1348"/>
                    </a:lnTo>
                    <a:lnTo>
                      <a:pt x="841" y="1025"/>
                    </a:lnTo>
                    <a:lnTo>
                      <a:pt x="916" y="872"/>
                    </a:lnTo>
                    <a:lnTo>
                      <a:pt x="964" y="737"/>
                    </a:lnTo>
                    <a:lnTo>
                      <a:pt x="995" y="457"/>
                    </a:lnTo>
                    <a:lnTo>
                      <a:pt x="1007" y="238"/>
                    </a:lnTo>
                    <a:lnTo>
                      <a:pt x="946" y="0"/>
                    </a:lnTo>
                    <a:lnTo>
                      <a:pt x="885" y="31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rot="21391800">
                <a:off x="7888680" y="5382360"/>
                <a:ext cx="43920" cy="14040"/>
              </a:xfrm>
              <a:custGeom>
                <a:avLst/>
                <a:gdLst/>
                <a:ahLst/>
                <a:rect l="l" t="t" r="r" b="b"/>
                <a:pathLst>
                  <a:path w="1234" h="488">
                    <a:moveTo>
                      <a:pt x="0" y="42"/>
                    </a:moveTo>
                    <a:lnTo>
                      <a:pt x="98" y="36"/>
                    </a:lnTo>
                    <a:lnTo>
                      <a:pt x="183" y="0"/>
                    </a:lnTo>
                    <a:lnTo>
                      <a:pt x="386" y="42"/>
                    </a:lnTo>
                    <a:lnTo>
                      <a:pt x="531" y="48"/>
                    </a:lnTo>
                    <a:lnTo>
                      <a:pt x="697" y="110"/>
                    </a:lnTo>
                    <a:lnTo>
                      <a:pt x="800" y="103"/>
                    </a:lnTo>
                    <a:lnTo>
                      <a:pt x="880" y="238"/>
                    </a:lnTo>
                    <a:lnTo>
                      <a:pt x="1234" y="488"/>
                    </a:lnTo>
                    <a:lnTo>
                      <a:pt x="1057" y="403"/>
                    </a:lnTo>
                    <a:lnTo>
                      <a:pt x="751" y="195"/>
                    </a:lnTo>
                    <a:lnTo>
                      <a:pt x="562" y="171"/>
                    </a:lnTo>
                    <a:lnTo>
                      <a:pt x="446" y="134"/>
                    </a:lnTo>
                    <a:lnTo>
                      <a:pt x="276" y="103"/>
                    </a:lnTo>
                    <a:lnTo>
                      <a:pt x="189" y="67"/>
                    </a:lnTo>
                    <a:lnTo>
                      <a:pt x="61" y="11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21391800">
                <a:off x="7865280" y="5424480"/>
                <a:ext cx="15480" cy="56880"/>
              </a:xfrm>
              <a:custGeom>
                <a:avLst/>
                <a:gdLst/>
                <a:ahLst/>
                <a:rect l="l" t="t" r="r" b="b"/>
                <a:pathLst>
                  <a:path w="440" h="1968">
                    <a:moveTo>
                      <a:pt x="190" y="61"/>
                    </a:moveTo>
                    <a:lnTo>
                      <a:pt x="61" y="568"/>
                    </a:lnTo>
                    <a:lnTo>
                      <a:pt x="92" y="636"/>
                    </a:lnTo>
                    <a:lnTo>
                      <a:pt x="264" y="740"/>
                    </a:lnTo>
                    <a:lnTo>
                      <a:pt x="159" y="746"/>
                    </a:lnTo>
                    <a:lnTo>
                      <a:pt x="92" y="849"/>
                    </a:lnTo>
                    <a:lnTo>
                      <a:pt x="220" y="953"/>
                    </a:lnTo>
                    <a:lnTo>
                      <a:pt x="281" y="1021"/>
                    </a:lnTo>
                    <a:lnTo>
                      <a:pt x="196" y="1093"/>
                    </a:lnTo>
                    <a:lnTo>
                      <a:pt x="208" y="1179"/>
                    </a:lnTo>
                    <a:lnTo>
                      <a:pt x="343" y="1301"/>
                    </a:lnTo>
                    <a:lnTo>
                      <a:pt x="281" y="1362"/>
                    </a:lnTo>
                    <a:lnTo>
                      <a:pt x="275" y="1484"/>
                    </a:lnTo>
                    <a:lnTo>
                      <a:pt x="397" y="1588"/>
                    </a:lnTo>
                    <a:lnTo>
                      <a:pt x="356" y="1717"/>
                    </a:lnTo>
                    <a:lnTo>
                      <a:pt x="318" y="1784"/>
                    </a:lnTo>
                    <a:lnTo>
                      <a:pt x="440" y="1968"/>
                    </a:lnTo>
                    <a:lnTo>
                      <a:pt x="227" y="1839"/>
                    </a:lnTo>
                    <a:lnTo>
                      <a:pt x="190" y="1649"/>
                    </a:lnTo>
                    <a:lnTo>
                      <a:pt x="165" y="1515"/>
                    </a:lnTo>
                    <a:lnTo>
                      <a:pt x="251" y="1326"/>
                    </a:lnTo>
                    <a:lnTo>
                      <a:pt x="129" y="1198"/>
                    </a:lnTo>
                    <a:lnTo>
                      <a:pt x="129" y="1131"/>
                    </a:lnTo>
                    <a:lnTo>
                      <a:pt x="184" y="1045"/>
                    </a:lnTo>
                    <a:lnTo>
                      <a:pt x="74" y="923"/>
                    </a:lnTo>
                    <a:lnTo>
                      <a:pt x="37" y="844"/>
                    </a:lnTo>
                    <a:lnTo>
                      <a:pt x="98" y="740"/>
                    </a:lnTo>
                    <a:lnTo>
                      <a:pt x="0" y="648"/>
                    </a:lnTo>
                    <a:lnTo>
                      <a:pt x="7" y="525"/>
                    </a:lnTo>
                    <a:lnTo>
                      <a:pt x="68" y="239"/>
                    </a:lnTo>
                    <a:lnTo>
                      <a:pt x="141" y="0"/>
                    </a:lnTo>
                    <a:lnTo>
                      <a:pt x="19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21391800">
                <a:off x="7853760" y="5355000"/>
                <a:ext cx="30600" cy="7920"/>
              </a:xfrm>
              <a:custGeom>
                <a:avLst/>
                <a:gdLst/>
                <a:ahLst/>
                <a:rect l="l" t="t" r="r" b="b"/>
                <a:pathLst>
                  <a:path w="864" h="274">
                    <a:moveTo>
                      <a:pt x="0" y="0"/>
                    </a:moveTo>
                    <a:lnTo>
                      <a:pt x="463" y="95"/>
                    </a:lnTo>
                    <a:lnTo>
                      <a:pt x="543" y="167"/>
                    </a:lnTo>
                    <a:lnTo>
                      <a:pt x="661" y="147"/>
                    </a:lnTo>
                    <a:lnTo>
                      <a:pt x="745" y="177"/>
                    </a:lnTo>
                    <a:lnTo>
                      <a:pt x="864" y="187"/>
                    </a:lnTo>
                    <a:lnTo>
                      <a:pt x="670" y="262"/>
                    </a:lnTo>
                    <a:lnTo>
                      <a:pt x="567" y="262"/>
                    </a:lnTo>
                    <a:lnTo>
                      <a:pt x="505" y="274"/>
                    </a:lnTo>
                    <a:lnTo>
                      <a:pt x="317" y="217"/>
                    </a:lnTo>
                    <a:lnTo>
                      <a:pt x="199" y="158"/>
                    </a:lnTo>
                    <a:lnTo>
                      <a:pt x="89" y="180"/>
                    </a:lnTo>
                    <a:lnTo>
                      <a:pt x="67" y="1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21391800">
                <a:off x="7857000" y="5358600"/>
                <a:ext cx="28080" cy="9720"/>
              </a:xfrm>
              <a:custGeom>
                <a:avLst/>
                <a:gdLst/>
                <a:ahLst/>
                <a:rect l="l" t="t" r="r" b="b"/>
                <a:pathLst>
                  <a:path w="788" h="335">
                    <a:moveTo>
                      <a:pt x="0" y="20"/>
                    </a:moveTo>
                    <a:lnTo>
                      <a:pt x="286" y="71"/>
                    </a:lnTo>
                    <a:lnTo>
                      <a:pt x="397" y="144"/>
                    </a:lnTo>
                    <a:lnTo>
                      <a:pt x="661" y="116"/>
                    </a:lnTo>
                    <a:lnTo>
                      <a:pt x="581" y="203"/>
                    </a:lnTo>
                    <a:lnTo>
                      <a:pt x="492" y="255"/>
                    </a:lnTo>
                    <a:lnTo>
                      <a:pt x="390" y="225"/>
                    </a:lnTo>
                    <a:lnTo>
                      <a:pt x="258" y="248"/>
                    </a:lnTo>
                    <a:lnTo>
                      <a:pt x="153" y="149"/>
                    </a:lnTo>
                    <a:lnTo>
                      <a:pt x="48" y="0"/>
                    </a:lnTo>
                    <a:lnTo>
                      <a:pt x="0" y="64"/>
                    </a:lnTo>
                    <a:lnTo>
                      <a:pt x="154" y="248"/>
                    </a:lnTo>
                    <a:lnTo>
                      <a:pt x="279" y="328"/>
                    </a:lnTo>
                    <a:lnTo>
                      <a:pt x="470" y="335"/>
                    </a:lnTo>
                    <a:lnTo>
                      <a:pt x="610" y="248"/>
                    </a:lnTo>
                    <a:lnTo>
                      <a:pt x="788" y="51"/>
                    </a:lnTo>
                    <a:lnTo>
                      <a:pt x="581" y="6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21391800">
                <a:off x="7842600" y="5315040"/>
                <a:ext cx="23040" cy="7920"/>
              </a:xfrm>
              <a:custGeom>
                <a:avLst/>
                <a:gdLst/>
                <a:ahLst/>
                <a:rect l="l" t="t" r="r" b="b"/>
                <a:pathLst>
                  <a:path w="648" h="273">
                    <a:moveTo>
                      <a:pt x="173" y="132"/>
                    </a:moveTo>
                    <a:lnTo>
                      <a:pt x="85" y="127"/>
                    </a:lnTo>
                    <a:lnTo>
                      <a:pt x="0" y="41"/>
                    </a:lnTo>
                    <a:lnTo>
                      <a:pt x="130" y="45"/>
                    </a:lnTo>
                    <a:lnTo>
                      <a:pt x="260" y="0"/>
                    </a:lnTo>
                    <a:lnTo>
                      <a:pt x="221" y="35"/>
                    </a:lnTo>
                    <a:lnTo>
                      <a:pt x="234" y="61"/>
                    </a:lnTo>
                    <a:lnTo>
                      <a:pt x="326" y="58"/>
                    </a:lnTo>
                    <a:lnTo>
                      <a:pt x="424" y="67"/>
                    </a:lnTo>
                    <a:lnTo>
                      <a:pt x="500" y="96"/>
                    </a:lnTo>
                    <a:lnTo>
                      <a:pt x="556" y="130"/>
                    </a:lnTo>
                    <a:lnTo>
                      <a:pt x="617" y="178"/>
                    </a:lnTo>
                    <a:lnTo>
                      <a:pt x="648" y="245"/>
                    </a:lnTo>
                    <a:lnTo>
                      <a:pt x="631" y="257"/>
                    </a:lnTo>
                    <a:lnTo>
                      <a:pt x="579" y="199"/>
                    </a:lnTo>
                    <a:lnTo>
                      <a:pt x="548" y="163"/>
                    </a:lnTo>
                    <a:lnTo>
                      <a:pt x="509" y="149"/>
                    </a:lnTo>
                    <a:lnTo>
                      <a:pt x="495" y="188"/>
                    </a:lnTo>
                    <a:lnTo>
                      <a:pt x="472" y="234"/>
                    </a:lnTo>
                    <a:lnTo>
                      <a:pt x="435" y="262"/>
                    </a:lnTo>
                    <a:lnTo>
                      <a:pt x="364" y="273"/>
                    </a:lnTo>
                    <a:lnTo>
                      <a:pt x="314" y="255"/>
                    </a:lnTo>
                    <a:lnTo>
                      <a:pt x="352" y="237"/>
                    </a:lnTo>
                    <a:lnTo>
                      <a:pt x="410" y="234"/>
                    </a:lnTo>
                    <a:lnTo>
                      <a:pt x="441" y="209"/>
                    </a:lnTo>
                    <a:lnTo>
                      <a:pt x="454" y="156"/>
                    </a:lnTo>
                    <a:lnTo>
                      <a:pt x="444" y="132"/>
                    </a:lnTo>
                    <a:lnTo>
                      <a:pt x="424" y="178"/>
                    </a:lnTo>
                    <a:lnTo>
                      <a:pt x="403" y="199"/>
                    </a:lnTo>
                    <a:lnTo>
                      <a:pt x="370" y="204"/>
                    </a:lnTo>
                    <a:lnTo>
                      <a:pt x="326" y="186"/>
                    </a:lnTo>
                    <a:lnTo>
                      <a:pt x="318" y="163"/>
                    </a:lnTo>
                    <a:lnTo>
                      <a:pt x="357" y="165"/>
                    </a:lnTo>
                    <a:lnTo>
                      <a:pt x="374" y="142"/>
                    </a:lnTo>
                    <a:lnTo>
                      <a:pt x="378" y="115"/>
                    </a:lnTo>
                    <a:lnTo>
                      <a:pt x="334" y="112"/>
                    </a:lnTo>
                    <a:lnTo>
                      <a:pt x="303" y="125"/>
                    </a:lnTo>
                    <a:lnTo>
                      <a:pt x="288" y="171"/>
                    </a:lnTo>
                    <a:lnTo>
                      <a:pt x="298" y="211"/>
                    </a:lnTo>
                    <a:lnTo>
                      <a:pt x="326" y="242"/>
                    </a:lnTo>
                    <a:lnTo>
                      <a:pt x="309" y="252"/>
                    </a:lnTo>
                    <a:lnTo>
                      <a:pt x="275" y="224"/>
                    </a:lnTo>
                    <a:lnTo>
                      <a:pt x="260" y="194"/>
                    </a:lnTo>
                    <a:lnTo>
                      <a:pt x="250" y="161"/>
                    </a:lnTo>
                    <a:lnTo>
                      <a:pt x="245" y="115"/>
                    </a:lnTo>
                    <a:lnTo>
                      <a:pt x="206" y="110"/>
                    </a:lnTo>
                    <a:lnTo>
                      <a:pt x="173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21391800">
                <a:off x="7846920" y="5313960"/>
                <a:ext cx="24120" cy="10440"/>
              </a:xfrm>
              <a:custGeom>
                <a:avLst/>
                <a:gdLst/>
                <a:ahLst/>
                <a:rect l="l" t="t" r="r" b="b"/>
                <a:pathLst>
                  <a:path w="685" h="367">
                    <a:moveTo>
                      <a:pt x="0" y="81"/>
                    </a:moveTo>
                    <a:lnTo>
                      <a:pt x="61" y="6"/>
                    </a:lnTo>
                    <a:lnTo>
                      <a:pt x="207" y="2"/>
                    </a:lnTo>
                    <a:lnTo>
                      <a:pt x="381" y="0"/>
                    </a:lnTo>
                    <a:lnTo>
                      <a:pt x="486" y="12"/>
                    </a:lnTo>
                    <a:lnTo>
                      <a:pt x="546" y="52"/>
                    </a:lnTo>
                    <a:lnTo>
                      <a:pt x="559" y="102"/>
                    </a:lnTo>
                    <a:lnTo>
                      <a:pt x="611" y="175"/>
                    </a:lnTo>
                    <a:lnTo>
                      <a:pt x="685" y="197"/>
                    </a:lnTo>
                    <a:lnTo>
                      <a:pt x="663" y="279"/>
                    </a:lnTo>
                    <a:lnTo>
                      <a:pt x="582" y="367"/>
                    </a:lnTo>
                    <a:lnTo>
                      <a:pt x="570" y="273"/>
                    </a:lnTo>
                    <a:lnTo>
                      <a:pt x="540" y="139"/>
                    </a:lnTo>
                    <a:lnTo>
                      <a:pt x="465" y="63"/>
                    </a:lnTo>
                    <a:lnTo>
                      <a:pt x="396" y="37"/>
                    </a:lnTo>
                    <a:lnTo>
                      <a:pt x="260" y="31"/>
                    </a:lnTo>
                    <a:lnTo>
                      <a:pt x="138" y="31"/>
                    </a:lnTo>
                    <a:lnTo>
                      <a:pt x="71" y="58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21391800">
                <a:off x="7840440" y="5307480"/>
                <a:ext cx="37440" cy="10440"/>
              </a:xfrm>
              <a:custGeom>
                <a:avLst/>
                <a:gdLst/>
                <a:ahLst/>
                <a:rect l="l" t="t" r="r" b="b"/>
                <a:pathLst>
                  <a:path w="1059" h="369">
                    <a:moveTo>
                      <a:pt x="0" y="33"/>
                    </a:moveTo>
                    <a:lnTo>
                      <a:pt x="100" y="77"/>
                    </a:lnTo>
                    <a:lnTo>
                      <a:pt x="157" y="62"/>
                    </a:lnTo>
                    <a:lnTo>
                      <a:pt x="293" y="64"/>
                    </a:lnTo>
                    <a:lnTo>
                      <a:pt x="371" y="79"/>
                    </a:lnTo>
                    <a:lnTo>
                      <a:pt x="440" y="108"/>
                    </a:lnTo>
                    <a:lnTo>
                      <a:pt x="504" y="146"/>
                    </a:lnTo>
                    <a:lnTo>
                      <a:pt x="599" y="163"/>
                    </a:lnTo>
                    <a:lnTo>
                      <a:pt x="691" y="209"/>
                    </a:lnTo>
                    <a:lnTo>
                      <a:pt x="788" y="240"/>
                    </a:lnTo>
                    <a:lnTo>
                      <a:pt x="847" y="278"/>
                    </a:lnTo>
                    <a:lnTo>
                      <a:pt x="914" y="345"/>
                    </a:lnTo>
                    <a:lnTo>
                      <a:pt x="971" y="363"/>
                    </a:lnTo>
                    <a:lnTo>
                      <a:pt x="1059" y="369"/>
                    </a:lnTo>
                    <a:lnTo>
                      <a:pt x="1028" y="255"/>
                    </a:lnTo>
                    <a:lnTo>
                      <a:pt x="1021" y="232"/>
                    </a:lnTo>
                    <a:lnTo>
                      <a:pt x="994" y="232"/>
                    </a:lnTo>
                    <a:lnTo>
                      <a:pt x="946" y="205"/>
                    </a:lnTo>
                    <a:lnTo>
                      <a:pt x="826" y="120"/>
                    </a:lnTo>
                    <a:lnTo>
                      <a:pt x="734" y="71"/>
                    </a:lnTo>
                    <a:lnTo>
                      <a:pt x="581" y="62"/>
                    </a:lnTo>
                    <a:lnTo>
                      <a:pt x="632" y="36"/>
                    </a:lnTo>
                    <a:lnTo>
                      <a:pt x="615" y="18"/>
                    </a:lnTo>
                    <a:lnTo>
                      <a:pt x="517" y="0"/>
                    </a:lnTo>
                    <a:lnTo>
                      <a:pt x="313" y="10"/>
                    </a:lnTo>
                    <a:lnTo>
                      <a:pt x="169" y="2"/>
                    </a:lnTo>
                    <a:lnTo>
                      <a:pt x="182" y="2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21391800">
                <a:off x="7846560" y="5317920"/>
                <a:ext cx="20160" cy="7920"/>
              </a:xfrm>
              <a:custGeom>
                <a:avLst/>
                <a:gdLst/>
                <a:ahLst/>
                <a:rect l="l" t="t" r="r" b="b"/>
                <a:pathLst>
                  <a:path w="565" h="279">
                    <a:moveTo>
                      <a:pt x="514" y="132"/>
                    </a:moveTo>
                    <a:lnTo>
                      <a:pt x="499" y="181"/>
                    </a:lnTo>
                    <a:lnTo>
                      <a:pt x="422" y="199"/>
                    </a:lnTo>
                    <a:lnTo>
                      <a:pt x="263" y="191"/>
                    </a:lnTo>
                    <a:lnTo>
                      <a:pt x="167" y="160"/>
                    </a:lnTo>
                    <a:lnTo>
                      <a:pt x="110" y="81"/>
                    </a:lnTo>
                    <a:lnTo>
                      <a:pt x="68" y="0"/>
                    </a:lnTo>
                    <a:lnTo>
                      <a:pt x="0" y="9"/>
                    </a:lnTo>
                    <a:lnTo>
                      <a:pt x="26" y="99"/>
                    </a:lnTo>
                    <a:lnTo>
                      <a:pt x="70" y="170"/>
                    </a:lnTo>
                    <a:lnTo>
                      <a:pt x="139" y="229"/>
                    </a:lnTo>
                    <a:lnTo>
                      <a:pt x="240" y="278"/>
                    </a:lnTo>
                    <a:lnTo>
                      <a:pt x="343" y="279"/>
                    </a:lnTo>
                    <a:lnTo>
                      <a:pt x="484" y="258"/>
                    </a:lnTo>
                    <a:lnTo>
                      <a:pt x="353" y="242"/>
                    </a:lnTo>
                    <a:lnTo>
                      <a:pt x="266" y="219"/>
                    </a:lnTo>
                    <a:lnTo>
                      <a:pt x="263" y="204"/>
                    </a:lnTo>
                    <a:lnTo>
                      <a:pt x="384" y="212"/>
                    </a:lnTo>
                    <a:lnTo>
                      <a:pt x="478" y="202"/>
                    </a:lnTo>
                    <a:lnTo>
                      <a:pt x="519" y="224"/>
                    </a:lnTo>
                    <a:lnTo>
                      <a:pt x="565" y="188"/>
                    </a:lnTo>
                    <a:lnTo>
                      <a:pt x="565" y="147"/>
                    </a:lnTo>
                    <a:lnTo>
                      <a:pt x="496" y="78"/>
                    </a:lnTo>
                    <a:lnTo>
                      <a:pt x="514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21391800">
                <a:off x="7888320" y="531900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649" h="409">
                    <a:moveTo>
                      <a:pt x="47" y="215"/>
                    </a:moveTo>
                    <a:lnTo>
                      <a:pt x="71" y="164"/>
                    </a:lnTo>
                    <a:lnTo>
                      <a:pt x="128" y="133"/>
                    </a:lnTo>
                    <a:lnTo>
                      <a:pt x="210" y="126"/>
                    </a:lnTo>
                    <a:lnTo>
                      <a:pt x="210" y="166"/>
                    </a:lnTo>
                    <a:lnTo>
                      <a:pt x="163" y="194"/>
                    </a:lnTo>
                    <a:lnTo>
                      <a:pt x="179" y="218"/>
                    </a:lnTo>
                    <a:lnTo>
                      <a:pt x="233" y="221"/>
                    </a:lnTo>
                    <a:lnTo>
                      <a:pt x="275" y="197"/>
                    </a:lnTo>
                    <a:lnTo>
                      <a:pt x="281" y="156"/>
                    </a:lnTo>
                    <a:lnTo>
                      <a:pt x="281" y="126"/>
                    </a:lnTo>
                    <a:lnTo>
                      <a:pt x="322" y="142"/>
                    </a:lnTo>
                    <a:lnTo>
                      <a:pt x="322" y="190"/>
                    </a:lnTo>
                    <a:lnTo>
                      <a:pt x="301" y="239"/>
                    </a:lnTo>
                    <a:lnTo>
                      <a:pt x="271" y="262"/>
                    </a:lnTo>
                    <a:lnTo>
                      <a:pt x="214" y="279"/>
                    </a:lnTo>
                    <a:lnTo>
                      <a:pt x="248" y="296"/>
                    </a:lnTo>
                    <a:lnTo>
                      <a:pt x="301" y="279"/>
                    </a:lnTo>
                    <a:lnTo>
                      <a:pt x="336" y="248"/>
                    </a:lnTo>
                    <a:lnTo>
                      <a:pt x="362" y="201"/>
                    </a:lnTo>
                    <a:lnTo>
                      <a:pt x="355" y="119"/>
                    </a:lnTo>
                    <a:lnTo>
                      <a:pt x="416" y="149"/>
                    </a:lnTo>
                    <a:lnTo>
                      <a:pt x="458" y="197"/>
                    </a:lnTo>
                    <a:lnTo>
                      <a:pt x="454" y="258"/>
                    </a:lnTo>
                    <a:lnTo>
                      <a:pt x="402" y="293"/>
                    </a:lnTo>
                    <a:lnTo>
                      <a:pt x="362" y="319"/>
                    </a:lnTo>
                    <a:lnTo>
                      <a:pt x="294" y="333"/>
                    </a:lnTo>
                    <a:lnTo>
                      <a:pt x="383" y="331"/>
                    </a:lnTo>
                    <a:lnTo>
                      <a:pt x="471" y="282"/>
                    </a:lnTo>
                    <a:lnTo>
                      <a:pt x="454" y="326"/>
                    </a:lnTo>
                    <a:lnTo>
                      <a:pt x="393" y="354"/>
                    </a:lnTo>
                    <a:lnTo>
                      <a:pt x="292" y="360"/>
                    </a:lnTo>
                    <a:lnTo>
                      <a:pt x="203" y="357"/>
                    </a:lnTo>
                    <a:lnTo>
                      <a:pt x="336" y="409"/>
                    </a:lnTo>
                    <a:lnTo>
                      <a:pt x="440" y="397"/>
                    </a:lnTo>
                    <a:lnTo>
                      <a:pt x="494" y="343"/>
                    </a:lnTo>
                    <a:lnTo>
                      <a:pt x="546" y="310"/>
                    </a:lnTo>
                    <a:lnTo>
                      <a:pt x="604" y="326"/>
                    </a:lnTo>
                    <a:lnTo>
                      <a:pt x="649" y="303"/>
                    </a:lnTo>
                    <a:lnTo>
                      <a:pt x="584" y="303"/>
                    </a:lnTo>
                    <a:lnTo>
                      <a:pt x="536" y="275"/>
                    </a:lnTo>
                    <a:lnTo>
                      <a:pt x="501" y="166"/>
                    </a:lnTo>
                    <a:lnTo>
                      <a:pt x="407" y="105"/>
                    </a:lnTo>
                    <a:lnTo>
                      <a:pt x="355" y="88"/>
                    </a:lnTo>
                    <a:lnTo>
                      <a:pt x="238" y="88"/>
                    </a:lnTo>
                    <a:lnTo>
                      <a:pt x="156" y="88"/>
                    </a:lnTo>
                    <a:lnTo>
                      <a:pt x="84" y="112"/>
                    </a:lnTo>
                    <a:lnTo>
                      <a:pt x="165" y="55"/>
                    </a:lnTo>
                    <a:lnTo>
                      <a:pt x="317" y="34"/>
                    </a:lnTo>
                    <a:lnTo>
                      <a:pt x="440" y="69"/>
                    </a:lnTo>
                    <a:lnTo>
                      <a:pt x="525" y="135"/>
                    </a:lnTo>
                    <a:lnTo>
                      <a:pt x="546" y="244"/>
                    </a:lnTo>
                    <a:lnTo>
                      <a:pt x="553" y="180"/>
                    </a:lnTo>
                    <a:lnTo>
                      <a:pt x="546" y="95"/>
                    </a:lnTo>
                    <a:lnTo>
                      <a:pt x="409" y="20"/>
                    </a:lnTo>
                    <a:lnTo>
                      <a:pt x="308" y="0"/>
                    </a:lnTo>
                    <a:lnTo>
                      <a:pt x="189" y="3"/>
                    </a:lnTo>
                    <a:lnTo>
                      <a:pt x="84" y="57"/>
                    </a:lnTo>
                    <a:lnTo>
                      <a:pt x="43" y="119"/>
                    </a:lnTo>
                    <a:lnTo>
                      <a:pt x="0" y="166"/>
                    </a:lnTo>
                    <a:lnTo>
                      <a:pt x="5" y="211"/>
                    </a:lnTo>
                    <a:lnTo>
                      <a:pt x="61" y="269"/>
                    </a:lnTo>
                    <a:lnTo>
                      <a:pt x="47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21391800">
                <a:off x="7891920" y="532260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77" h="180">
                    <a:moveTo>
                      <a:pt x="21" y="38"/>
                    </a:moveTo>
                    <a:lnTo>
                      <a:pt x="21" y="74"/>
                    </a:lnTo>
                    <a:lnTo>
                      <a:pt x="41" y="130"/>
                    </a:lnTo>
                    <a:lnTo>
                      <a:pt x="71" y="160"/>
                    </a:lnTo>
                    <a:lnTo>
                      <a:pt x="127" y="180"/>
                    </a:lnTo>
                    <a:lnTo>
                      <a:pt x="177" y="180"/>
                    </a:lnTo>
                    <a:lnTo>
                      <a:pt x="99" y="147"/>
                    </a:lnTo>
                    <a:lnTo>
                      <a:pt x="71" y="95"/>
                    </a:lnTo>
                    <a:lnTo>
                      <a:pt x="59" y="68"/>
                    </a:lnTo>
                    <a:lnTo>
                      <a:pt x="85" y="50"/>
                    </a:lnTo>
                    <a:lnTo>
                      <a:pt x="85" y="0"/>
                    </a:lnTo>
                    <a:lnTo>
                      <a:pt x="0" y="17"/>
                    </a:lnTo>
                    <a:lnTo>
                      <a:pt x="21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21391800">
                <a:off x="7892640" y="5313960"/>
                <a:ext cx="24480" cy="8280"/>
              </a:xfrm>
              <a:custGeom>
                <a:avLst/>
                <a:gdLst/>
                <a:ahLst/>
                <a:rect l="l" t="t" r="r" b="b"/>
                <a:pathLst>
                  <a:path w="690" h="293">
                    <a:moveTo>
                      <a:pt x="48" y="136"/>
                    </a:moveTo>
                    <a:lnTo>
                      <a:pt x="213" y="136"/>
                    </a:lnTo>
                    <a:lnTo>
                      <a:pt x="404" y="158"/>
                    </a:lnTo>
                    <a:lnTo>
                      <a:pt x="540" y="150"/>
                    </a:lnTo>
                    <a:lnTo>
                      <a:pt x="581" y="191"/>
                    </a:lnTo>
                    <a:lnTo>
                      <a:pt x="595" y="233"/>
                    </a:lnTo>
                    <a:lnTo>
                      <a:pt x="608" y="293"/>
                    </a:lnTo>
                    <a:lnTo>
                      <a:pt x="690" y="191"/>
                    </a:lnTo>
                    <a:lnTo>
                      <a:pt x="676" y="120"/>
                    </a:lnTo>
                    <a:lnTo>
                      <a:pt x="612" y="103"/>
                    </a:lnTo>
                    <a:lnTo>
                      <a:pt x="554" y="25"/>
                    </a:lnTo>
                    <a:lnTo>
                      <a:pt x="458" y="0"/>
                    </a:lnTo>
                    <a:lnTo>
                      <a:pt x="400" y="21"/>
                    </a:lnTo>
                    <a:lnTo>
                      <a:pt x="268" y="31"/>
                    </a:lnTo>
                    <a:lnTo>
                      <a:pt x="163" y="52"/>
                    </a:lnTo>
                    <a:lnTo>
                      <a:pt x="95" y="66"/>
                    </a:lnTo>
                    <a:lnTo>
                      <a:pt x="0" y="136"/>
                    </a:lnTo>
                    <a:lnTo>
                      <a:pt x="48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21391800">
                <a:off x="7872120" y="5351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112" h="245">
                    <a:moveTo>
                      <a:pt x="42" y="245"/>
                    </a:moveTo>
                    <a:lnTo>
                      <a:pt x="74" y="145"/>
                    </a:lnTo>
                    <a:lnTo>
                      <a:pt x="112" y="53"/>
                    </a:lnTo>
                    <a:lnTo>
                      <a:pt x="112" y="0"/>
                    </a:lnTo>
                    <a:lnTo>
                      <a:pt x="34" y="30"/>
                    </a:lnTo>
                    <a:lnTo>
                      <a:pt x="0" y="186"/>
                    </a:lnTo>
                    <a:lnTo>
                      <a:pt x="42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1391800">
                <a:off x="7855560" y="5340240"/>
                <a:ext cx="19800" cy="9720"/>
              </a:xfrm>
              <a:custGeom>
                <a:avLst/>
                <a:gdLst/>
                <a:ahLst/>
                <a:rect l="l" t="t" r="r" b="b"/>
                <a:pathLst>
                  <a:path w="560" h="340">
                    <a:moveTo>
                      <a:pt x="542" y="297"/>
                    </a:moveTo>
                    <a:lnTo>
                      <a:pt x="485" y="241"/>
                    </a:lnTo>
                    <a:lnTo>
                      <a:pt x="410" y="228"/>
                    </a:lnTo>
                    <a:lnTo>
                      <a:pt x="369" y="237"/>
                    </a:lnTo>
                    <a:lnTo>
                      <a:pt x="343" y="250"/>
                    </a:lnTo>
                    <a:lnTo>
                      <a:pt x="334" y="265"/>
                    </a:lnTo>
                    <a:lnTo>
                      <a:pt x="357" y="278"/>
                    </a:lnTo>
                    <a:lnTo>
                      <a:pt x="461" y="278"/>
                    </a:lnTo>
                    <a:lnTo>
                      <a:pt x="393" y="302"/>
                    </a:lnTo>
                    <a:lnTo>
                      <a:pt x="305" y="289"/>
                    </a:lnTo>
                    <a:lnTo>
                      <a:pt x="248" y="213"/>
                    </a:lnTo>
                    <a:lnTo>
                      <a:pt x="236" y="149"/>
                    </a:lnTo>
                    <a:lnTo>
                      <a:pt x="236" y="68"/>
                    </a:lnTo>
                    <a:lnTo>
                      <a:pt x="300" y="0"/>
                    </a:lnTo>
                    <a:lnTo>
                      <a:pt x="224" y="44"/>
                    </a:lnTo>
                    <a:lnTo>
                      <a:pt x="143" y="95"/>
                    </a:lnTo>
                    <a:lnTo>
                      <a:pt x="0" y="181"/>
                    </a:lnTo>
                    <a:lnTo>
                      <a:pt x="155" y="160"/>
                    </a:lnTo>
                    <a:lnTo>
                      <a:pt x="184" y="225"/>
                    </a:lnTo>
                    <a:lnTo>
                      <a:pt x="216" y="268"/>
                    </a:lnTo>
                    <a:lnTo>
                      <a:pt x="271" y="325"/>
                    </a:lnTo>
                    <a:lnTo>
                      <a:pt x="373" y="340"/>
                    </a:lnTo>
                    <a:lnTo>
                      <a:pt x="458" y="321"/>
                    </a:lnTo>
                    <a:lnTo>
                      <a:pt x="514" y="305"/>
                    </a:lnTo>
                    <a:lnTo>
                      <a:pt x="560" y="333"/>
                    </a:lnTo>
                    <a:lnTo>
                      <a:pt x="54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1391800">
                <a:off x="7872120" y="5319000"/>
                <a:ext cx="22680" cy="32400"/>
              </a:xfrm>
              <a:custGeom>
                <a:avLst/>
                <a:gdLst/>
                <a:ahLst/>
                <a:rect l="l" t="t" r="r" b="b"/>
                <a:pathLst>
                  <a:path w="641" h="1122">
                    <a:moveTo>
                      <a:pt x="517" y="77"/>
                    </a:moveTo>
                    <a:lnTo>
                      <a:pt x="425" y="177"/>
                    </a:lnTo>
                    <a:lnTo>
                      <a:pt x="380" y="233"/>
                    </a:lnTo>
                    <a:lnTo>
                      <a:pt x="360" y="341"/>
                    </a:lnTo>
                    <a:lnTo>
                      <a:pt x="372" y="499"/>
                    </a:lnTo>
                    <a:lnTo>
                      <a:pt x="336" y="703"/>
                    </a:lnTo>
                    <a:lnTo>
                      <a:pt x="350" y="806"/>
                    </a:lnTo>
                    <a:lnTo>
                      <a:pt x="352" y="952"/>
                    </a:lnTo>
                    <a:lnTo>
                      <a:pt x="312" y="1008"/>
                    </a:lnTo>
                    <a:lnTo>
                      <a:pt x="204" y="1042"/>
                    </a:lnTo>
                    <a:lnTo>
                      <a:pt x="124" y="1053"/>
                    </a:lnTo>
                    <a:lnTo>
                      <a:pt x="44" y="1045"/>
                    </a:lnTo>
                    <a:lnTo>
                      <a:pt x="79" y="1072"/>
                    </a:lnTo>
                    <a:lnTo>
                      <a:pt x="0" y="1122"/>
                    </a:lnTo>
                    <a:lnTo>
                      <a:pt x="63" y="1119"/>
                    </a:lnTo>
                    <a:lnTo>
                      <a:pt x="130" y="1108"/>
                    </a:lnTo>
                    <a:lnTo>
                      <a:pt x="208" y="1088"/>
                    </a:lnTo>
                    <a:lnTo>
                      <a:pt x="329" y="1099"/>
                    </a:lnTo>
                    <a:lnTo>
                      <a:pt x="371" y="1070"/>
                    </a:lnTo>
                    <a:lnTo>
                      <a:pt x="360" y="1039"/>
                    </a:lnTo>
                    <a:lnTo>
                      <a:pt x="234" y="1069"/>
                    </a:lnTo>
                    <a:lnTo>
                      <a:pt x="357" y="1011"/>
                    </a:lnTo>
                    <a:lnTo>
                      <a:pt x="399" y="1064"/>
                    </a:lnTo>
                    <a:lnTo>
                      <a:pt x="383" y="1113"/>
                    </a:lnTo>
                    <a:lnTo>
                      <a:pt x="444" y="1042"/>
                    </a:lnTo>
                    <a:lnTo>
                      <a:pt x="452" y="955"/>
                    </a:lnTo>
                    <a:lnTo>
                      <a:pt x="434" y="882"/>
                    </a:lnTo>
                    <a:lnTo>
                      <a:pt x="409" y="655"/>
                    </a:lnTo>
                    <a:lnTo>
                      <a:pt x="433" y="470"/>
                    </a:lnTo>
                    <a:lnTo>
                      <a:pt x="433" y="282"/>
                    </a:lnTo>
                    <a:lnTo>
                      <a:pt x="468" y="173"/>
                    </a:lnTo>
                    <a:lnTo>
                      <a:pt x="641" y="0"/>
                    </a:lnTo>
                    <a:lnTo>
                      <a:pt x="51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1391800">
                <a:off x="7852320" y="531864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168" h="130">
                    <a:moveTo>
                      <a:pt x="23" y="30"/>
                    </a:moveTo>
                    <a:lnTo>
                      <a:pt x="35" y="62"/>
                    </a:lnTo>
                    <a:lnTo>
                      <a:pt x="62" y="83"/>
                    </a:lnTo>
                    <a:lnTo>
                      <a:pt x="80" y="90"/>
                    </a:lnTo>
                    <a:lnTo>
                      <a:pt x="124" y="95"/>
                    </a:lnTo>
                    <a:lnTo>
                      <a:pt x="168" y="85"/>
                    </a:lnTo>
                    <a:lnTo>
                      <a:pt x="155" y="109"/>
                    </a:lnTo>
                    <a:lnTo>
                      <a:pt x="93" y="130"/>
                    </a:lnTo>
                    <a:lnTo>
                      <a:pt x="58" y="124"/>
                    </a:lnTo>
                    <a:lnTo>
                      <a:pt x="21" y="99"/>
                    </a:lnTo>
                    <a:lnTo>
                      <a:pt x="0" y="44"/>
                    </a:lnTo>
                    <a:lnTo>
                      <a:pt x="0" y="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21391800">
                <a:off x="7788240" y="5286960"/>
                <a:ext cx="37080" cy="50400"/>
              </a:xfrm>
              <a:custGeom>
                <a:avLst/>
                <a:gdLst/>
                <a:ahLst/>
                <a:rect l="l" t="t" r="r" b="b"/>
                <a:pathLst>
                  <a:path w="1047" h="1749">
                    <a:moveTo>
                      <a:pt x="426" y="532"/>
                    </a:moveTo>
                    <a:lnTo>
                      <a:pt x="337" y="608"/>
                    </a:lnTo>
                    <a:lnTo>
                      <a:pt x="324" y="760"/>
                    </a:lnTo>
                    <a:lnTo>
                      <a:pt x="356" y="1096"/>
                    </a:lnTo>
                    <a:lnTo>
                      <a:pt x="394" y="1274"/>
                    </a:lnTo>
                    <a:lnTo>
                      <a:pt x="324" y="1317"/>
                    </a:lnTo>
                    <a:lnTo>
                      <a:pt x="235" y="1438"/>
                    </a:lnTo>
                    <a:lnTo>
                      <a:pt x="164" y="1749"/>
                    </a:lnTo>
                    <a:lnTo>
                      <a:pt x="179" y="1267"/>
                    </a:lnTo>
                    <a:lnTo>
                      <a:pt x="255" y="1014"/>
                    </a:lnTo>
                    <a:lnTo>
                      <a:pt x="197" y="906"/>
                    </a:lnTo>
                    <a:lnTo>
                      <a:pt x="77" y="1140"/>
                    </a:lnTo>
                    <a:lnTo>
                      <a:pt x="134" y="836"/>
                    </a:lnTo>
                    <a:lnTo>
                      <a:pt x="0" y="1014"/>
                    </a:lnTo>
                    <a:lnTo>
                      <a:pt x="83" y="583"/>
                    </a:lnTo>
                    <a:lnTo>
                      <a:pt x="140" y="457"/>
                    </a:lnTo>
                    <a:lnTo>
                      <a:pt x="51" y="457"/>
                    </a:lnTo>
                    <a:lnTo>
                      <a:pt x="273" y="203"/>
                    </a:lnTo>
                    <a:lnTo>
                      <a:pt x="730" y="0"/>
                    </a:lnTo>
                    <a:lnTo>
                      <a:pt x="571" y="127"/>
                    </a:lnTo>
                    <a:lnTo>
                      <a:pt x="407" y="273"/>
                    </a:lnTo>
                    <a:lnTo>
                      <a:pt x="584" y="273"/>
                    </a:lnTo>
                    <a:lnTo>
                      <a:pt x="908" y="107"/>
                    </a:lnTo>
                    <a:lnTo>
                      <a:pt x="1047" y="82"/>
                    </a:lnTo>
                    <a:lnTo>
                      <a:pt x="889" y="221"/>
                    </a:lnTo>
                    <a:lnTo>
                      <a:pt x="730" y="457"/>
                    </a:lnTo>
                    <a:lnTo>
                      <a:pt x="673" y="589"/>
                    </a:lnTo>
                    <a:lnTo>
                      <a:pt x="610" y="513"/>
                    </a:lnTo>
                    <a:lnTo>
                      <a:pt x="495" y="488"/>
                    </a:lnTo>
                    <a:lnTo>
                      <a:pt x="426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1391800">
                <a:off x="7800840" y="5305320"/>
                <a:ext cx="5760" cy="10440"/>
              </a:xfrm>
              <a:custGeom>
                <a:avLst/>
                <a:gdLst/>
                <a:ahLst/>
                <a:rect l="l" t="t" r="r" b="b"/>
                <a:pathLst>
                  <a:path w="165" h="362">
                    <a:moveTo>
                      <a:pt x="13" y="70"/>
                    </a:moveTo>
                    <a:lnTo>
                      <a:pt x="0" y="197"/>
                    </a:lnTo>
                    <a:lnTo>
                      <a:pt x="38" y="362"/>
                    </a:lnTo>
                    <a:lnTo>
                      <a:pt x="44" y="222"/>
                    </a:lnTo>
                    <a:lnTo>
                      <a:pt x="89" y="121"/>
                    </a:lnTo>
                    <a:lnTo>
                      <a:pt x="165" y="108"/>
                    </a:lnTo>
                    <a:lnTo>
                      <a:pt x="133" y="0"/>
                    </a:lnTo>
                    <a:lnTo>
                      <a:pt x="51" y="26"/>
                    </a:lnTo>
                    <a:lnTo>
                      <a:pt x="1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1391800">
                <a:off x="7805880" y="5306400"/>
                <a:ext cx="7200" cy="17280"/>
              </a:xfrm>
              <a:custGeom>
                <a:avLst/>
                <a:gdLst/>
                <a:ahLst/>
                <a:rect l="l" t="t" r="r" b="b"/>
                <a:pathLst>
                  <a:path w="204" h="602">
                    <a:moveTo>
                      <a:pt x="27" y="247"/>
                    </a:moveTo>
                    <a:lnTo>
                      <a:pt x="0" y="342"/>
                    </a:lnTo>
                    <a:lnTo>
                      <a:pt x="20" y="443"/>
                    </a:lnTo>
                    <a:lnTo>
                      <a:pt x="70" y="494"/>
                    </a:lnTo>
                    <a:lnTo>
                      <a:pt x="134" y="589"/>
                    </a:lnTo>
                    <a:lnTo>
                      <a:pt x="166" y="602"/>
                    </a:lnTo>
                    <a:lnTo>
                      <a:pt x="204" y="576"/>
                    </a:lnTo>
                    <a:lnTo>
                      <a:pt x="153" y="450"/>
                    </a:lnTo>
                    <a:lnTo>
                      <a:pt x="115" y="367"/>
                    </a:lnTo>
                    <a:lnTo>
                      <a:pt x="146" y="317"/>
                    </a:lnTo>
                    <a:lnTo>
                      <a:pt x="172" y="247"/>
                    </a:lnTo>
                    <a:lnTo>
                      <a:pt x="153" y="152"/>
                    </a:lnTo>
                    <a:lnTo>
                      <a:pt x="13" y="0"/>
                    </a:lnTo>
                    <a:lnTo>
                      <a:pt x="32" y="114"/>
                    </a:lnTo>
                    <a:lnTo>
                      <a:pt x="96" y="165"/>
                    </a:lnTo>
                    <a:lnTo>
                      <a:pt x="27" y="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1391800">
                <a:off x="7802640" y="5315760"/>
                <a:ext cx="3240" cy="57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43" y="202"/>
                    </a:moveTo>
                    <a:lnTo>
                      <a:pt x="0" y="114"/>
                    </a:lnTo>
                    <a:lnTo>
                      <a:pt x="12" y="0"/>
                    </a:lnTo>
                    <a:lnTo>
                      <a:pt x="43" y="94"/>
                    </a:lnTo>
                    <a:lnTo>
                      <a:pt x="94" y="189"/>
                    </a:lnTo>
                    <a:lnTo>
                      <a:pt x="43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1391800">
                <a:off x="7797240" y="532476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477" h="608">
                    <a:moveTo>
                      <a:pt x="419" y="82"/>
                    </a:moveTo>
                    <a:lnTo>
                      <a:pt x="356" y="57"/>
                    </a:lnTo>
                    <a:lnTo>
                      <a:pt x="419" y="165"/>
                    </a:lnTo>
                    <a:lnTo>
                      <a:pt x="318" y="82"/>
                    </a:lnTo>
                    <a:lnTo>
                      <a:pt x="280" y="121"/>
                    </a:lnTo>
                    <a:lnTo>
                      <a:pt x="325" y="203"/>
                    </a:lnTo>
                    <a:lnTo>
                      <a:pt x="374" y="260"/>
                    </a:lnTo>
                    <a:lnTo>
                      <a:pt x="432" y="273"/>
                    </a:lnTo>
                    <a:lnTo>
                      <a:pt x="432" y="361"/>
                    </a:lnTo>
                    <a:lnTo>
                      <a:pt x="388" y="412"/>
                    </a:lnTo>
                    <a:lnTo>
                      <a:pt x="260" y="424"/>
                    </a:lnTo>
                    <a:lnTo>
                      <a:pt x="166" y="430"/>
                    </a:lnTo>
                    <a:lnTo>
                      <a:pt x="267" y="488"/>
                    </a:lnTo>
                    <a:lnTo>
                      <a:pt x="394" y="475"/>
                    </a:lnTo>
                    <a:lnTo>
                      <a:pt x="445" y="462"/>
                    </a:lnTo>
                    <a:lnTo>
                      <a:pt x="477" y="361"/>
                    </a:lnTo>
                    <a:lnTo>
                      <a:pt x="477" y="507"/>
                    </a:lnTo>
                    <a:lnTo>
                      <a:pt x="432" y="577"/>
                    </a:lnTo>
                    <a:lnTo>
                      <a:pt x="273" y="608"/>
                    </a:lnTo>
                    <a:lnTo>
                      <a:pt x="83" y="538"/>
                    </a:lnTo>
                    <a:lnTo>
                      <a:pt x="0" y="367"/>
                    </a:lnTo>
                    <a:lnTo>
                      <a:pt x="38" y="190"/>
                    </a:lnTo>
                    <a:lnTo>
                      <a:pt x="121" y="89"/>
                    </a:lnTo>
                    <a:lnTo>
                      <a:pt x="204" y="44"/>
                    </a:lnTo>
                    <a:lnTo>
                      <a:pt x="128" y="44"/>
                    </a:lnTo>
                    <a:lnTo>
                      <a:pt x="33" y="107"/>
                    </a:lnTo>
                    <a:lnTo>
                      <a:pt x="77" y="6"/>
                    </a:lnTo>
                    <a:lnTo>
                      <a:pt x="242" y="0"/>
                    </a:lnTo>
                    <a:lnTo>
                      <a:pt x="356" y="6"/>
                    </a:lnTo>
                    <a:lnTo>
                      <a:pt x="41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1391800">
                <a:off x="7785720" y="5320080"/>
                <a:ext cx="50040" cy="56520"/>
              </a:xfrm>
              <a:custGeom>
                <a:avLst/>
                <a:gdLst/>
                <a:ahLst/>
                <a:rect l="l" t="t" r="r" b="b"/>
                <a:pathLst>
                  <a:path w="1404" h="1947">
                    <a:moveTo>
                      <a:pt x="970" y="1340"/>
                    </a:moveTo>
                    <a:lnTo>
                      <a:pt x="889" y="1207"/>
                    </a:lnTo>
                    <a:lnTo>
                      <a:pt x="860" y="1132"/>
                    </a:lnTo>
                    <a:lnTo>
                      <a:pt x="830" y="1044"/>
                    </a:lnTo>
                    <a:lnTo>
                      <a:pt x="830" y="940"/>
                    </a:lnTo>
                    <a:lnTo>
                      <a:pt x="822" y="718"/>
                    </a:lnTo>
                    <a:lnTo>
                      <a:pt x="714" y="763"/>
                    </a:lnTo>
                    <a:lnTo>
                      <a:pt x="521" y="780"/>
                    </a:lnTo>
                    <a:lnTo>
                      <a:pt x="432" y="717"/>
                    </a:lnTo>
                    <a:lnTo>
                      <a:pt x="343" y="634"/>
                    </a:lnTo>
                    <a:lnTo>
                      <a:pt x="305" y="501"/>
                    </a:lnTo>
                    <a:lnTo>
                      <a:pt x="305" y="355"/>
                    </a:lnTo>
                    <a:lnTo>
                      <a:pt x="241" y="128"/>
                    </a:lnTo>
                    <a:lnTo>
                      <a:pt x="241" y="343"/>
                    </a:lnTo>
                    <a:lnTo>
                      <a:pt x="197" y="438"/>
                    </a:lnTo>
                    <a:lnTo>
                      <a:pt x="71" y="305"/>
                    </a:lnTo>
                    <a:lnTo>
                      <a:pt x="64" y="0"/>
                    </a:lnTo>
                    <a:lnTo>
                      <a:pt x="0" y="171"/>
                    </a:lnTo>
                    <a:lnTo>
                      <a:pt x="7" y="295"/>
                    </a:lnTo>
                    <a:lnTo>
                      <a:pt x="7" y="300"/>
                    </a:lnTo>
                    <a:lnTo>
                      <a:pt x="7" y="306"/>
                    </a:lnTo>
                    <a:lnTo>
                      <a:pt x="8" y="315"/>
                    </a:lnTo>
                    <a:lnTo>
                      <a:pt x="8" y="324"/>
                    </a:lnTo>
                    <a:lnTo>
                      <a:pt x="8" y="335"/>
                    </a:lnTo>
                    <a:lnTo>
                      <a:pt x="10" y="352"/>
                    </a:lnTo>
                    <a:lnTo>
                      <a:pt x="11" y="360"/>
                    </a:lnTo>
                    <a:lnTo>
                      <a:pt x="11" y="364"/>
                    </a:lnTo>
                    <a:lnTo>
                      <a:pt x="11" y="368"/>
                    </a:lnTo>
                    <a:lnTo>
                      <a:pt x="12" y="375"/>
                    </a:lnTo>
                    <a:lnTo>
                      <a:pt x="12" y="380"/>
                    </a:lnTo>
                    <a:lnTo>
                      <a:pt x="12" y="386"/>
                    </a:lnTo>
                    <a:lnTo>
                      <a:pt x="13" y="391"/>
                    </a:lnTo>
                    <a:lnTo>
                      <a:pt x="13" y="400"/>
                    </a:lnTo>
                    <a:lnTo>
                      <a:pt x="159" y="602"/>
                    </a:lnTo>
                    <a:lnTo>
                      <a:pt x="229" y="792"/>
                    </a:lnTo>
                    <a:lnTo>
                      <a:pt x="362" y="919"/>
                    </a:lnTo>
                    <a:lnTo>
                      <a:pt x="267" y="925"/>
                    </a:lnTo>
                    <a:lnTo>
                      <a:pt x="387" y="1046"/>
                    </a:lnTo>
                    <a:lnTo>
                      <a:pt x="540" y="1237"/>
                    </a:lnTo>
                    <a:lnTo>
                      <a:pt x="740" y="1170"/>
                    </a:lnTo>
                    <a:lnTo>
                      <a:pt x="869" y="1341"/>
                    </a:lnTo>
                    <a:lnTo>
                      <a:pt x="1404" y="1947"/>
                    </a:lnTo>
                    <a:lnTo>
                      <a:pt x="1118" y="1568"/>
                    </a:lnTo>
                    <a:lnTo>
                      <a:pt x="970" y="13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1391800">
                <a:off x="7808400" y="5324760"/>
                <a:ext cx="7200" cy="15480"/>
              </a:xfrm>
              <a:custGeom>
                <a:avLst/>
                <a:gdLst/>
                <a:ahLst/>
                <a:rect l="l" t="t" r="r" b="b"/>
                <a:pathLst>
                  <a:path w="204" h="539">
                    <a:moveTo>
                      <a:pt x="171" y="374"/>
                    </a:moveTo>
                    <a:lnTo>
                      <a:pt x="204" y="259"/>
                    </a:lnTo>
                    <a:lnTo>
                      <a:pt x="197" y="133"/>
                    </a:lnTo>
                    <a:lnTo>
                      <a:pt x="101" y="12"/>
                    </a:lnTo>
                    <a:lnTo>
                      <a:pt x="0" y="0"/>
                    </a:lnTo>
                    <a:lnTo>
                      <a:pt x="133" y="102"/>
                    </a:lnTo>
                    <a:lnTo>
                      <a:pt x="159" y="227"/>
                    </a:lnTo>
                    <a:lnTo>
                      <a:pt x="76" y="304"/>
                    </a:lnTo>
                    <a:lnTo>
                      <a:pt x="76" y="380"/>
                    </a:lnTo>
                    <a:lnTo>
                      <a:pt x="146" y="330"/>
                    </a:lnTo>
                    <a:lnTo>
                      <a:pt x="146" y="456"/>
                    </a:lnTo>
                    <a:lnTo>
                      <a:pt x="139" y="539"/>
                    </a:lnTo>
                    <a:lnTo>
                      <a:pt x="171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1391800">
                <a:off x="7807680" y="5350320"/>
                <a:ext cx="46800" cy="130680"/>
              </a:xfrm>
              <a:custGeom>
                <a:avLst/>
                <a:gdLst/>
                <a:ahLst/>
                <a:rect l="l" t="t" r="r" b="b"/>
                <a:pathLst>
                  <a:path w="1315" h="4512">
                    <a:moveTo>
                      <a:pt x="113" y="932"/>
                    </a:moveTo>
                    <a:lnTo>
                      <a:pt x="72" y="627"/>
                    </a:lnTo>
                    <a:lnTo>
                      <a:pt x="136" y="399"/>
                    </a:lnTo>
                    <a:lnTo>
                      <a:pt x="121" y="98"/>
                    </a:lnTo>
                    <a:lnTo>
                      <a:pt x="194" y="176"/>
                    </a:lnTo>
                    <a:lnTo>
                      <a:pt x="283" y="327"/>
                    </a:lnTo>
                    <a:lnTo>
                      <a:pt x="280" y="197"/>
                    </a:lnTo>
                    <a:lnTo>
                      <a:pt x="354" y="177"/>
                    </a:lnTo>
                    <a:lnTo>
                      <a:pt x="151" y="0"/>
                    </a:lnTo>
                    <a:lnTo>
                      <a:pt x="0" y="323"/>
                    </a:lnTo>
                    <a:lnTo>
                      <a:pt x="8" y="554"/>
                    </a:lnTo>
                    <a:lnTo>
                      <a:pt x="8" y="691"/>
                    </a:lnTo>
                    <a:lnTo>
                      <a:pt x="94" y="1011"/>
                    </a:lnTo>
                    <a:lnTo>
                      <a:pt x="284" y="1697"/>
                    </a:lnTo>
                    <a:lnTo>
                      <a:pt x="431" y="2269"/>
                    </a:lnTo>
                    <a:lnTo>
                      <a:pt x="639" y="3102"/>
                    </a:lnTo>
                    <a:lnTo>
                      <a:pt x="780" y="3466"/>
                    </a:lnTo>
                    <a:lnTo>
                      <a:pt x="1168" y="4219"/>
                    </a:lnTo>
                    <a:lnTo>
                      <a:pt x="1299" y="4512"/>
                    </a:lnTo>
                    <a:lnTo>
                      <a:pt x="1315" y="4305"/>
                    </a:lnTo>
                    <a:lnTo>
                      <a:pt x="1047" y="3675"/>
                    </a:lnTo>
                    <a:lnTo>
                      <a:pt x="757" y="3079"/>
                    </a:lnTo>
                    <a:lnTo>
                      <a:pt x="693" y="2613"/>
                    </a:lnTo>
                    <a:lnTo>
                      <a:pt x="449" y="1887"/>
                    </a:lnTo>
                    <a:lnTo>
                      <a:pt x="266" y="1335"/>
                    </a:lnTo>
                    <a:lnTo>
                      <a:pt x="113" y="9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1391800">
                <a:off x="7821000" y="53568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1694" h="1597">
                    <a:moveTo>
                      <a:pt x="234" y="235"/>
                    </a:moveTo>
                    <a:lnTo>
                      <a:pt x="551" y="557"/>
                    </a:lnTo>
                    <a:lnTo>
                      <a:pt x="785" y="731"/>
                    </a:lnTo>
                    <a:lnTo>
                      <a:pt x="970" y="824"/>
                    </a:lnTo>
                    <a:lnTo>
                      <a:pt x="1107" y="884"/>
                    </a:lnTo>
                    <a:lnTo>
                      <a:pt x="1299" y="868"/>
                    </a:lnTo>
                    <a:lnTo>
                      <a:pt x="1440" y="846"/>
                    </a:lnTo>
                    <a:lnTo>
                      <a:pt x="1336" y="1003"/>
                    </a:lnTo>
                    <a:lnTo>
                      <a:pt x="1308" y="1146"/>
                    </a:lnTo>
                    <a:lnTo>
                      <a:pt x="1295" y="1224"/>
                    </a:lnTo>
                    <a:lnTo>
                      <a:pt x="1694" y="949"/>
                    </a:lnTo>
                    <a:lnTo>
                      <a:pt x="1674" y="1011"/>
                    </a:lnTo>
                    <a:lnTo>
                      <a:pt x="1096" y="1450"/>
                    </a:lnTo>
                    <a:lnTo>
                      <a:pt x="932" y="1597"/>
                    </a:lnTo>
                    <a:lnTo>
                      <a:pt x="1028" y="1318"/>
                    </a:lnTo>
                    <a:lnTo>
                      <a:pt x="1030" y="1085"/>
                    </a:lnTo>
                    <a:lnTo>
                      <a:pt x="878" y="943"/>
                    </a:lnTo>
                    <a:lnTo>
                      <a:pt x="542" y="730"/>
                    </a:lnTo>
                    <a:lnTo>
                      <a:pt x="387" y="481"/>
                    </a:lnTo>
                    <a:lnTo>
                      <a:pt x="0" y="0"/>
                    </a:lnTo>
                    <a:lnTo>
                      <a:pt x="71" y="26"/>
                    </a:lnTo>
                    <a:lnTo>
                      <a:pt x="234" y="2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1391800">
                <a:off x="7865640" y="5311440"/>
                <a:ext cx="57960" cy="75960"/>
              </a:xfrm>
              <a:custGeom>
                <a:avLst/>
                <a:gdLst/>
                <a:ahLst/>
                <a:rect l="l" t="t" r="r" b="b"/>
                <a:pathLst>
                  <a:path w="1630" h="2623">
                    <a:moveTo>
                      <a:pt x="1439" y="317"/>
                    </a:moveTo>
                    <a:lnTo>
                      <a:pt x="1375" y="469"/>
                    </a:lnTo>
                    <a:lnTo>
                      <a:pt x="1319" y="692"/>
                    </a:lnTo>
                    <a:lnTo>
                      <a:pt x="1240" y="962"/>
                    </a:lnTo>
                    <a:lnTo>
                      <a:pt x="1152" y="1216"/>
                    </a:lnTo>
                    <a:lnTo>
                      <a:pt x="962" y="1541"/>
                    </a:lnTo>
                    <a:lnTo>
                      <a:pt x="668" y="1907"/>
                    </a:lnTo>
                    <a:lnTo>
                      <a:pt x="326" y="2185"/>
                    </a:lnTo>
                    <a:lnTo>
                      <a:pt x="15" y="2383"/>
                    </a:lnTo>
                    <a:lnTo>
                      <a:pt x="0" y="2486"/>
                    </a:lnTo>
                    <a:lnTo>
                      <a:pt x="182" y="2439"/>
                    </a:lnTo>
                    <a:lnTo>
                      <a:pt x="205" y="2555"/>
                    </a:lnTo>
                    <a:lnTo>
                      <a:pt x="174" y="2623"/>
                    </a:lnTo>
                    <a:lnTo>
                      <a:pt x="301" y="2511"/>
                    </a:lnTo>
                    <a:lnTo>
                      <a:pt x="354" y="2236"/>
                    </a:lnTo>
                    <a:lnTo>
                      <a:pt x="365" y="2495"/>
                    </a:lnTo>
                    <a:lnTo>
                      <a:pt x="466" y="2496"/>
                    </a:lnTo>
                    <a:lnTo>
                      <a:pt x="485" y="2399"/>
                    </a:lnTo>
                    <a:lnTo>
                      <a:pt x="537" y="2375"/>
                    </a:lnTo>
                    <a:lnTo>
                      <a:pt x="617" y="2371"/>
                    </a:lnTo>
                    <a:lnTo>
                      <a:pt x="706" y="2372"/>
                    </a:lnTo>
                    <a:lnTo>
                      <a:pt x="831" y="2379"/>
                    </a:lnTo>
                    <a:lnTo>
                      <a:pt x="803" y="2264"/>
                    </a:lnTo>
                    <a:lnTo>
                      <a:pt x="621" y="2216"/>
                    </a:lnTo>
                    <a:lnTo>
                      <a:pt x="501" y="2169"/>
                    </a:lnTo>
                    <a:lnTo>
                      <a:pt x="438" y="2137"/>
                    </a:lnTo>
                    <a:lnTo>
                      <a:pt x="580" y="2025"/>
                    </a:lnTo>
                    <a:lnTo>
                      <a:pt x="779" y="1851"/>
                    </a:lnTo>
                    <a:lnTo>
                      <a:pt x="1001" y="1564"/>
                    </a:lnTo>
                    <a:lnTo>
                      <a:pt x="1207" y="1176"/>
                    </a:lnTo>
                    <a:lnTo>
                      <a:pt x="1351" y="755"/>
                    </a:lnTo>
                    <a:lnTo>
                      <a:pt x="1431" y="477"/>
                    </a:lnTo>
                    <a:lnTo>
                      <a:pt x="1542" y="311"/>
                    </a:lnTo>
                    <a:lnTo>
                      <a:pt x="1550" y="413"/>
                    </a:lnTo>
                    <a:lnTo>
                      <a:pt x="1630" y="222"/>
                    </a:lnTo>
                    <a:lnTo>
                      <a:pt x="1526" y="0"/>
                    </a:lnTo>
                    <a:lnTo>
                      <a:pt x="1479" y="175"/>
                    </a:lnTo>
                    <a:lnTo>
                      <a:pt x="1479" y="278"/>
                    </a:lnTo>
                    <a:lnTo>
                      <a:pt x="1439" y="3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1391800">
                <a:off x="7854840" y="540000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598" h="755">
                    <a:moveTo>
                      <a:pt x="25" y="87"/>
                    </a:moveTo>
                    <a:lnTo>
                      <a:pt x="0" y="217"/>
                    </a:lnTo>
                    <a:lnTo>
                      <a:pt x="18" y="302"/>
                    </a:lnTo>
                    <a:lnTo>
                      <a:pt x="90" y="461"/>
                    </a:lnTo>
                    <a:lnTo>
                      <a:pt x="184" y="589"/>
                    </a:lnTo>
                    <a:lnTo>
                      <a:pt x="322" y="723"/>
                    </a:lnTo>
                    <a:lnTo>
                      <a:pt x="439" y="755"/>
                    </a:lnTo>
                    <a:lnTo>
                      <a:pt x="527" y="668"/>
                    </a:lnTo>
                    <a:lnTo>
                      <a:pt x="598" y="572"/>
                    </a:lnTo>
                    <a:lnTo>
                      <a:pt x="431" y="628"/>
                    </a:lnTo>
                    <a:lnTo>
                      <a:pt x="288" y="564"/>
                    </a:lnTo>
                    <a:lnTo>
                      <a:pt x="121" y="350"/>
                    </a:lnTo>
                    <a:lnTo>
                      <a:pt x="82" y="191"/>
                    </a:lnTo>
                    <a:lnTo>
                      <a:pt x="121" y="0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1391800">
                <a:off x="7871760" y="5388840"/>
                <a:ext cx="56520" cy="54360"/>
              </a:xfrm>
              <a:custGeom>
                <a:avLst/>
                <a:gdLst/>
                <a:ahLst/>
                <a:rect l="l" t="t" r="r" b="b"/>
                <a:pathLst>
                  <a:path w="1582" h="1882">
                    <a:moveTo>
                      <a:pt x="111" y="1009"/>
                    </a:moveTo>
                    <a:lnTo>
                      <a:pt x="134" y="1056"/>
                    </a:lnTo>
                    <a:lnTo>
                      <a:pt x="365" y="1056"/>
                    </a:lnTo>
                    <a:lnTo>
                      <a:pt x="565" y="953"/>
                    </a:lnTo>
                    <a:lnTo>
                      <a:pt x="811" y="722"/>
                    </a:lnTo>
                    <a:lnTo>
                      <a:pt x="962" y="524"/>
                    </a:lnTo>
                    <a:lnTo>
                      <a:pt x="1064" y="349"/>
                    </a:lnTo>
                    <a:lnTo>
                      <a:pt x="962" y="222"/>
                    </a:lnTo>
                    <a:lnTo>
                      <a:pt x="811" y="150"/>
                    </a:lnTo>
                    <a:lnTo>
                      <a:pt x="699" y="71"/>
                    </a:lnTo>
                    <a:lnTo>
                      <a:pt x="676" y="0"/>
                    </a:lnTo>
                    <a:lnTo>
                      <a:pt x="748" y="69"/>
                    </a:lnTo>
                    <a:lnTo>
                      <a:pt x="876" y="95"/>
                    </a:lnTo>
                    <a:lnTo>
                      <a:pt x="951" y="156"/>
                    </a:lnTo>
                    <a:lnTo>
                      <a:pt x="1035" y="175"/>
                    </a:lnTo>
                    <a:lnTo>
                      <a:pt x="1164" y="270"/>
                    </a:lnTo>
                    <a:lnTo>
                      <a:pt x="1252" y="315"/>
                    </a:lnTo>
                    <a:lnTo>
                      <a:pt x="1357" y="414"/>
                    </a:lnTo>
                    <a:lnTo>
                      <a:pt x="1486" y="437"/>
                    </a:lnTo>
                    <a:lnTo>
                      <a:pt x="1519" y="469"/>
                    </a:lnTo>
                    <a:lnTo>
                      <a:pt x="1399" y="469"/>
                    </a:lnTo>
                    <a:lnTo>
                      <a:pt x="1415" y="564"/>
                    </a:lnTo>
                    <a:lnTo>
                      <a:pt x="1582" y="675"/>
                    </a:lnTo>
                    <a:lnTo>
                      <a:pt x="1519" y="660"/>
                    </a:lnTo>
                    <a:lnTo>
                      <a:pt x="1383" y="603"/>
                    </a:lnTo>
                    <a:lnTo>
                      <a:pt x="1308" y="523"/>
                    </a:lnTo>
                    <a:lnTo>
                      <a:pt x="1252" y="517"/>
                    </a:lnTo>
                    <a:lnTo>
                      <a:pt x="1154" y="694"/>
                    </a:lnTo>
                    <a:lnTo>
                      <a:pt x="1041" y="826"/>
                    </a:lnTo>
                    <a:lnTo>
                      <a:pt x="1033" y="922"/>
                    </a:lnTo>
                    <a:lnTo>
                      <a:pt x="866" y="1041"/>
                    </a:lnTo>
                    <a:lnTo>
                      <a:pt x="772" y="1112"/>
                    </a:lnTo>
                    <a:lnTo>
                      <a:pt x="719" y="1295"/>
                    </a:lnTo>
                    <a:lnTo>
                      <a:pt x="756" y="1438"/>
                    </a:lnTo>
                    <a:lnTo>
                      <a:pt x="780" y="1596"/>
                    </a:lnTo>
                    <a:lnTo>
                      <a:pt x="835" y="1842"/>
                    </a:lnTo>
                    <a:lnTo>
                      <a:pt x="910" y="1825"/>
                    </a:lnTo>
                    <a:lnTo>
                      <a:pt x="1038" y="1809"/>
                    </a:lnTo>
                    <a:lnTo>
                      <a:pt x="1192" y="1766"/>
                    </a:lnTo>
                    <a:lnTo>
                      <a:pt x="1474" y="1667"/>
                    </a:lnTo>
                    <a:lnTo>
                      <a:pt x="1291" y="1763"/>
                    </a:lnTo>
                    <a:lnTo>
                      <a:pt x="1130" y="1825"/>
                    </a:lnTo>
                    <a:lnTo>
                      <a:pt x="803" y="1882"/>
                    </a:lnTo>
                    <a:lnTo>
                      <a:pt x="756" y="1700"/>
                    </a:lnTo>
                    <a:lnTo>
                      <a:pt x="660" y="1454"/>
                    </a:lnTo>
                    <a:lnTo>
                      <a:pt x="628" y="1319"/>
                    </a:lnTo>
                    <a:lnTo>
                      <a:pt x="445" y="1247"/>
                    </a:lnTo>
                    <a:lnTo>
                      <a:pt x="317" y="1184"/>
                    </a:lnTo>
                    <a:lnTo>
                      <a:pt x="286" y="1120"/>
                    </a:lnTo>
                    <a:lnTo>
                      <a:pt x="221" y="1134"/>
                    </a:lnTo>
                    <a:lnTo>
                      <a:pt x="118" y="1120"/>
                    </a:lnTo>
                    <a:lnTo>
                      <a:pt x="87" y="1049"/>
                    </a:lnTo>
                    <a:lnTo>
                      <a:pt x="0" y="1033"/>
                    </a:lnTo>
                    <a:lnTo>
                      <a:pt x="55" y="993"/>
                    </a:lnTo>
                    <a:lnTo>
                      <a:pt x="111" y="10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rot="21391800">
                <a:off x="7873920" y="542736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21" h="668">
                    <a:moveTo>
                      <a:pt x="605" y="0"/>
                    </a:moveTo>
                    <a:lnTo>
                      <a:pt x="446" y="87"/>
                    </a:lnTo>
                    <a:lnTo>
                      <a:pt x="0" y="239"/>
                    </a:lnTo>
                    <a:lnTo>
                      <a:pt x="151" y="478"/>
                    </a:lnTo>
                    <a:lnTo>
                      <a:pt x="239" y="668"/>
                    </a:lnTo>
                    <a:lnTo>
                      <a:pt x="621" y="349"/>
                    </a:lnTo>
                    <a:lnTo>
                      <a:pt x="589" y="63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rot="21391800">
                <a:off x="7886520" y="5438520"/>
                <a:ext cx="18360" cy="7920"/>
              </a:xfrm>
              <a:custGeom>
                <a:avLst/>
                <a:gdLst/>
                <a:ahLst/>
                <a:rect l="l" t="t" r="r" b="b"/>
                <a:pathLst>
                  <a:path w="517" h="285">
                    <a:moveTo>
                      <a:pt x="517" y="165"/>
                    </a:moveTo>
                    <a:lnTo>
                      <a:pt x="247" y="230"/>
                    </a:lnTo>
                    <a:lnTo>
                      <a:pt x="0" y="285"/>
                    </a:lnTo>
                    <a:lnTo>
                      <a:pt x="119" y="206"/>
                    </a:lnTo>
                    <a:lnTo>
                      <a:pt x="279" y="39"/>
                    </a:lnTo>
                    <a:lnTo>
                      <a:pt x="342" y="0"/>
                    </a:lnTo>
                    <a:lnTo>
                      <a:pt x="366" y="157"/>
                    </a:lnTo>
                    <a:lnTo>
                      <a:pt x="517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1391800">
                <a:off x="7887600" y="54590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0" y="95"/>
                    </a:moveTo>
                    <a:lnTo>
                      <a:pt x="25" y="182"/>
                    </a:lnTo>
                    <a:lnTo>
                      <a:pt x="136" y="182"/>
                    </a:lnTo>
                    <a:lnTo>
                      <a:pt x="183" y="126"/>
                    </a:lnTo>
                    <a:lnTo>
                      <a:pt x="183" y="55"/>
                    </a:lnTo>
                    <a:lnTo>
                      <a:pt x="127" y="0"/>
                    </a:lnTo>
                    <a:lnTo>
                      <a:pt x="48" y="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1391800">
                <a:off x="7864200" y="5419800"/>
                <a:ext cx="11520" cy="28440"/>
              </a:xfrm>
              <a:custGeom>
                <a:avLst/>
                <a:gdLst/>
                <a:ahLst/>
                <a:rect l="l" t="t" r="r" b="b"/>
                <a:pathLst>
                  <a:path w="327" h="993">
                    <a:moveTo>
                      <a:pt x="160" y="190"/>
                    </a:moveTo>
                    <a:lnTo>
                      <a:pt x="32" y="675"/>
                    </a:lnTo>
                    <a:lnTo>
                      <a:pt x="16" y="818"/>
                    </a:lnTo>
                    <a:lnTo>
                      <a:pt x="136" y="890"/>
                    </a:lnTo>
                    <a:lnTo>
                      <a:pt x="287" y="898"/>
                    </a:lnTo>
                    <a:lnTo>
                      <a:pt x="271" y="842"/>
                    </a:lnTo>
                    <a:lnTo>
                      <a:pt x="191" y="810"/>
                    </a:lnTo>
                    <a:lnTo>
                      <a:pt x="295" y="802"/>
                    </a:lnTo>
                    <a:lnTo>
                      <a:pt x="327" y="857"/>
                    </a:lnTo>
                    <a:lnTo>
                      <a:pt x="327" y="922"/>
                    </a:lnTo>
                    <a:lnTo>
                      <a:pt x="231" y="993"/>
                    </a:lnTo>
                    <a:lnTo>
                      <a:pt x="175" y="970"/>
                    </a:lnTo>
                    <a:lnTo>
                      <a:pt x="88" y="906"/>
                    </a:lnTo>
                    <a:lnTo>
                      <a:pt x="8" y="842"/>
                    </a:lnTo>
                    <a:lnTo>
                      <a:pt x="0" y="747"/>
                    </a:lnTo>
                    <a:lnTo>
                      <a:pt x="32" y="595"/>
                    </a:lnTo>
                    <a:lnTo>
                      <a:pt x="120" y="159"/>
                    </a:lnTo>
                    <a:lnTo>
                      <a:pt x="231" y="0"/>
                    </a:lnTo>
                    <a:lnTo>
                      <a:pt x="240" y="47"/>
                    </a:lnTo>
                    <a:lnTo>
                      <a:pt x="16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21391800">
                <a:off x="7867080" y="5421600"/>
                <a:ext cx="11880" cy="21240"/>
              </a:xfrm>
              <a:custGeom>
                <a:avLst/>
                <a:gdLst/>
                <a:ahLst/>
                <a:rect l="l" t="t" r="r" b="b"/>
                <a:pathLst>
                  <a:path w="335" h="740">
                    <a:moveTo>
                      <a:pt x="0" y="731"/>
                    </a:moveTo>
                    <a:lnTo>
                      <a:pt x="0" y="660"/>
                    </a:lnTo>
                    <a:lnTo>
                      <a:pt x="88" y="453"/>
                    </a:lnTo>
                    <a:lnTo>
                      <a:pt x="111" y="215"/>
                    </a:lnTo>
                    <a:lnTo>
                      <a:pt x="119" y="167"/>
                    </a:lnTo>
                    <a:lnTo>
                      <a:pt x="48" y="135"/>
                    </a:lnTo>
                    <a:lnTo>
                      <a:pt x="88" y="79"/>
                    </a:lnTo>
                    <a:lnTo>
                      <a:pt x="144" y="135"/>
                    </a:lnTo>
                    <a:lnTo>
                      <a:pt x="263" y="0"/>
                    </a:lnTo>
                    <a:lnTo>
                      <a:pt x="335" y="40"/>
                    </a:lnTo>
                    <a:lnTo>
                      <a:pt x="254" y="79"/>
                    </a:lnTo>
                    <a:lnTo>
                      <a:pt x="201" y="177"/>
                    </a:lnTo>
                    <a:lnTo>
                      <a:pt x="135" y="223"/>
                    </a:lnTo>
                    <a:lnTo>
                      <a:pt x="127" y="461"/>
                    </a:lnTo>
                    <a:lnTo>
                      <a:pt x="24" y="668"/>
                    </a:lnTo>
                    <a:lnTo>
                      <a:pt x="64" y="740"/>
                    </a:lnTo>
                    <a:lnTo>
                      <a:pt x="0" y="7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21391800">
                <a:off x="7869240" y="544788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39" h="122">
                    <a:moveTo>
                      <a:pt x="85" y="4"/>
                    </a:moveTo>
                    <a:lnTo>
                      <a:pt x="17" y="46"/>
                    </a:lnTo>
                    <a:lnTo>
                      <a:pt x="0" y="81"/>
                    </a:lnTo>
                    <a:lnTo>
                      <a:pt x="35" y="108"/>
                    </a:lnTo>
                    <a:lnTo>
                      <a:pt x="71" y="122"/>
                    </a:lnTo>
                    <a:lnTo>
                      <a:pt x="49" y="86"/>
                    </a:lnTo>
                    <a:lnTo>
                      <a:pt x="71" y="46"/>
                    </a:lnTo>
                    <a:lnTo>
                      <a:pt x="139" y="0"/>
                    </a:lnTo>
                    <a:lnTo>
                      <a:pt x="8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1391800">
                <a:off x="7866360" y="544608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325" h="428">
                    <a:moveTo>
                      <a:pt x="73" y="36"/>
                    </a:moveTo>
                    <a:lnTo>
                      <a:pt x="28" y="108"/>
                    </a:lnTo>
                    <a:lnTo>
                      <a:pt x="31" y="158"/>
                    </a:lnTo>
                    <a:lnTo>
                      <a:pt x="73" y="221"/>
                    </a:lnTo>
                    <a:lnTo>
                      <a:pt x="127" y="275"/>
                    </a:lnTo>
                    <a:lnTo>
                      <a:pt x="198" y="311"/>
                    </a:lnTo>
                    <a:lnTo>
                      <a:pt x="257" y="324"/>
                    </a:lnTo>
                    <a:lnTo>
                      <a:pt x="297" y="288"/>
                    </a:lnTo>
                    <a:lnTo>
                      <a:pt x="275" y="238"/>
                    </a:lnTo>
                    <a:lnTo>
                      <a:pt x="185" y="212"/>
                    </a:lnTo>
                    <a:lnTo>
                      <a:pt x="271" y="216"/>
                    </a:lnTo>
                    <a:lnTo>
                      <a:pt x="325" y="266"/>
                    </a:lnTo>
                    <a:lnTo>
                      <a:pt x="325" y="338"/>
                    </a:lnTo>
                    <a:lnTo>
                      <a:pt x="289" y="378"/>
                    </a:lnTo>
                    <a:lnTo>
                      <a:pt x="238" y="428"/>
                    </a:lnTo>
                    <a:lnTo>
                      <a:pt x="248" y="378"/>
                    </a:lnTo>
                    <a:lnTo>
                      <a:pt x="181" y="355"/>
                    </a:lnTo>
                    <a:lnTo>
                      <a:pt x="139" y="343"/>
                    </a:lnTo>
                    <a:lnTo>
                      <a:pt x="144" y="311"/>
                    </a:lnTo>
                    <a:lnTo>
                      <a:pt x="95" y="288"/>
                    </a:lnTo>
                    <a:lnTo>
                      <a:pt x="40" y="252"/>
                    </a:lnTo>
                    <a:lnTo>
                      <a:pt x="19" y="189"/>
                    </a:lnTo>
                    <a:lnTo>
                      <a:pt x="0" y="127"/>
                    </a:lnTo>
                    <a:lnTo>
                      <a:pt x="14" y="68"/>
                    </a:lnTo>
                    <a:lnTo>
                      <a:pt x="68" y="0"/>
                    </a:lnTo>
                    <a:lnTo>
                      <a:pt x="7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1391800">
                <a:off x="7872120" y="5456880"/>
                <a:ext cx="5760" cy="3600"/>
              </a:xfrm>
              <a:custGeom>
                <a:avLst/>
                <a:gdLst/>
                <a:ahLst/>
                <a:rect l="l" t="t" r="r" b="b"/>
                <a:pathLst>
                  <a:path w="170" h="135">
                    <a:moveTo>
                      <a:pt x="102" y="36"/>
                    </a:moveTo>
                    <a:lnTo>
                      <a:pt x="71" y="36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26" y="76"/>
                    </a:lnTo>
                    <a:lnTo>
                      <a:pt x="67" y="94"/>
                    </a:lnTo>
                    <a:lnTo>
                      <a:pt x="170" y="135"/>
                    </a:lnTo>
                    <a:lnTo>
                      <a:pt x="62" y="63"/>
                    </a:lnTo>
                    <a:lnTo>
                      <a:pt x="10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1391800">
                <a:off x="7869600" y="545436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329" h="374">
                    <a:moveTo>
                      <a:pt x="85" y="33"/>
                    </a:moveTo>
                    <a:lnTo>
                      <a:pt x="35" y="91"/>
                    </a:lnTo>
                    <a:lnTo>
                      <a:pt x="26" y="163"/>
                    </a:lnTo>
                    <a:lnTo>
                      <a:pt x="76" y="212"/>
                    </a:lnTo>
                    <a:lnTo>
                      <a:pt x="121" y="266"/>
                    </a:lnTo>
                    <a:lnTo>
                      <a:pt x="211" y="329"/>
                    </a:lnTo>
                    <a:lnTo>
                      <a:pt x="274" y="334"/>
                    </a:lnTo>
                    <a:lnTo>
                      <a:pt x="283" y="294"/>
                    </a:lnTo>
                    <a:lnTo>
                      <a:pt x="266" y="244"/>
                    </a:lnTo>
                    <a:lnTo>
                      <a:pt x="229" y="212"/>
                    </a:lnTo>
                    <a:lnTo>
                      <a:pt x="297" y="240"/>
                    </a:lnTo>
                    <a:lnTo>
                      <a:pt x="329" y="298"/>
                    </a:lnTo>
                    <a:lnTo>
                      <a:pt x="320" y="352"/>
                    </a:lnTo>
                    <a:lnTo>
                      <a:pt x="274" y="374"/>
                    </a:lnTo>
                    <a:lnTo>
                      <a:pt x="211" y="374"/>
                    </a:lnTo>
                    <a:lnTo>
                      <a:pt x="165" y="374"/>
                    </a:lnTo>
                    <a:lnTo>
                      <a:pt x="162" y="334"/>
                    </a:lnTo>
                    <a:lnTo>
                      <a:pt x="144" y="311"/>
                    </a:lnTo>
                    <a:lnTo>
                      <a:pt x="54" y="249"/>
                    </a:lnTo>
                    <a:lnTo>
                      <a:pt x="17" y="207"/>
                    </a:lnTo>
                    <a:lnTo>
                      <a:pt x="0" y="145"/>
                    </a:lnTo>
                    <a:lnTo>
                      <a:pt x="12" y="77"/>
                    </a:lnTo>
                    <a:lnTo>
                      <a:pt x="85" y="0"/>
                    </a:lnTo>
                    <a:lnTo>
                      <a:pt x="8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1391800">
                <a:off x="7872840" y="5462640"/>
                <a:ext cx="10080" cy="11880"/>
              </a:xfrm>
              <a:custGeom>
                <a:avLst/>
                <a:gdLst/>
                <a:ahLst/>
                <a:rect l="l" t="t" r="r" b="b"/>
                <a:pathLst>
                  <a:path w="293" h="419">
                    <a:moveTo>
                      <a:pt x="81" y="41"/>
                    </a:moveTo>
                    <a:lnTo>
                      <a:pt x="32" y="118"/>
                    </a:lnTo>
                    <a:lnTo>
                      <a:pt x="13" y="176"/>
                    </a:lnTo>
                    <a:lnTo>
                      <a:pt x="18" y="235"/>
                    </a:lnTo>
                    <a:lnTo>
                      <a:pt x="89" y="289"/>
                    </a:lnTo>
                    <a:lnTo>
                      <a:pt x="153" y="320"/>
                    </a:lnTo>
                    <a:lnTo>
                      <a:pt x="225" y="334"/>
                    </a:lnTo>
                    <a:lnTo>
                      <a:pt x="256" y="316"/>
                    </a:lnTo>
                    <a:lnTo>
                      <a:pt x="261" y="270"/>
                    </a:lnTo>
                    <a:lnTo>
                      <a:pt x="230" y="235"/>
                    </a:lnTo>
                    <a:lnTo>
                      <a:pt x="279" y="257"/>
                    </a:lnTo>
                    <a:lnTo>
                      <a:pt x="293" y="329"/>
                    </a:lnTo>
                    <a:lnTo>
                      <a:pt x="293" y="383"/>
                    </a:lnTo>
                    <a:lnTo>
                      <a:pt x="261" y="419"/>
                    </a:lnTo>
                    <a:lnTo>
                      <a:pt x="230" y="388"/>
                    </a:lnTo>
                    <a:lnTo>
                      <a:pt x="185" y="378"/>
                    </a:lnTo>
                    <a:lnTo>
                      <a:pt x="135" y="369"/>
                    </a:lnTo>
                    <a:lnTo>
                      <a:pt x="145" y="334"/>
                    </a:lnTo>
                    <a:lnTo>
                      <a:pt x="54" y="289"/>
                    </a:lnTo>
                    <a:lnTo>
                      <a:pt x="0" y="247"/>
                    </a:lnTo>
                    <a:lnTo>
                      <a:pt x="0" y="176"/>
                    </a:lnTo>
                    <a:lnTo>
                      <a:pt x="18" y="118"/>
                    </a:lnTo>
                    <a:lnTo>
                      <a:pt x="54" y="50"/>
                    </a:lnTo>
                    <a:lnTo>
                      <a:pt x="58" y="0"/>
                    </a:lnTo>
                    <a:lnTo>
                      <a:pt x="8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1391800">
                <a:off x="7875000" y="5464440"/>
                <a:ext cx="5400" cy="4320"/>
              </a:xfrm>
              <a:custGeom>
                <a:avLst/>
                <a:gdLst/>
                <a:ahLst/>
                <a:rect l="l" t="t" r="r" b="b"/>
                <a:pathLst>
                  <a:path w="157" h="153">
                    <a:moveTo>
                      <a:pt x="157" y="0"/>
                    </a:moveTo>
                    <a:lnTo>
                      <a:pt x="131" y="45"/>
                    </a:lnTo>
                    <a:lnTo>
                      <a:pt x="77" y="85"/>
                    </a:lnTo>
                    <a:lnTo>
                      <a:pt x="35" y="85"/>
                    </a:lnTo>
                    <a:lnTo>
                      <a:pt x="32" y="54"/>
                    </a:lnTo>
                    <a:lnTo>
                      <a:pt x="14" y="17"/>
                    </a:lnTo>
                    <a:lnTo>
                      <a:pt x="0" y="62"/>
                    </a:lnTo>
                    <a:lnTo>
                      <a:pt x="0" y="103"/>
                    </a:lnTo>
                    <a:lnTo>
                      <a:pt x="32" y="125"/>
                    </a:lnTo>
                    <a:lnTo>
                      <a:pt x="122" y="153"/>
                    </a:lnTo>
                    <a:lnTo>
                      <a:pt x="72" y="125"/>
                    </a:lnTo>
                    <a:lnTo>
                      <a:pt x="112" y="94"/>
                    </a:lnTo>
                    <a:lnTo>
                      <a:pt x="157" y="58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1391800">
                <a:off x="7874640" y="547236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229" h="348">
                    <a:moveTo>
                      <a:pt x="118" y="0"/>
                    </a:moveTo>
                    <a:lnTo>
                      <a:pt x="45" y="64"/>
                    </a:lnTo>
                    <a:lnTo>
                      <a:pt x="27" y="122"/>
                    </a:lnTo>
                    <a:lnTo>
                      <a:pt x="62" y="208"/>
                    </a:lnTo>
                    <a:lnTo>
                      <a:pt x="139" y="239"/>
                    </a:lnTo>
                    <a:lnTo>
                      <a:pt x="226" y="303"/>
                    </a:lnTo>
                    <a:lnTo>
                      <a:pt x="229" y="348"/>
                    </a:lnTo>
                    <a:lnTo>
                      <a:pt x="180" y="307"/>
                    </a:lnTo>
                    <a:lnTo>
                      <a:pt x="95" y="249"/>
                    </a:lnTo>
                    <a:lnTo>
                      <a:pt x="22" y="199"/>
                    </a:lnTo>
                    <a:lnTo>
                      <a:pt x="0" y="91"/>
                    </a:lnTo>
                    <a:lnTo>
                      <a:pt x="62" y="14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1391800">
                <a:off x="7877880" y="5471280"/>
                <a:ext cx="7200" cy="10080"/>
              </a:xfrm>
              <a:custGeom>
                <a:avLst/>
                <a:gdLst/>
                <a:ahLst/>
                <a:rect l="l" t="t" r="r" b="b"/>
                <a:pathLst>
                  <a:path w="203" h="351">
                    <a:moveTo>
                      <a:pt x="143" y="80"/>
                    </a:moveTo>
                    <a:lnTo>
                      <a:pt x="76" y="122"/>
                    </a:lnTo>
                    <a:lnTo>
                      <a:pt x="44" y="154"/>
                    </a:lnTo>
                    <a:lnTo>
                      <a:pt x="4" y="108"/>
                    </a:lnTo>
                    <a:lnTo>
                      <a:pt x="0" y="162"/>
                    </a:lnTo>
                    <a:lnTo>
                      <a:pt x="85" y="185"/>
                    </a:lnTo>
                    <a:lnTo>
                      <a:pt x="157" y="207"/>
                    </a:lnTo>
                    <a:lnTo>
                      <a:pt x="176" y="265"/>
                    </a:lnTo>
                    <a:lnTo>
                      <a:pt x="157" y="307"/>
                    </a:lnTo>
                    <a:lnTo>
                      <a:pt x="81" y="316"/>
                    </a:lnTo>
                    <a:lnTo>
                      <a:pt x="122" y="351"/>
                    </a:lnTo>
                    <a:lnTo>
                      <a:pt x="189" y="324"/>
                    </a:lnTo>
                    <a:lnTo>
                      <a:pt x="203" y="274"/>
                    </a:lnTo>
                    <a:lnTo>
                      <a:pt x="203" y="220"/>
                    </a:lnTo>
                    <a:lnTo>
                      <a:pt x="176" y="180"/>
                    </a:lnTo>
                    <a:lnTo>
                      <a:pt x="131" y="180"/>
                    </a:lnTo>
                    <a:lnTo>
                      <a:pt x="68" y="162"/>
                    </a:lnTo>
                    <a:lnTo>
                      <a:pt x="134" y="126"/>
                    </a:lnTo>
                    <a:lnTo>
                      <a:pt x="171" y="77"/>
                    </a:lnTo>
                    <a:lnTo>
                      <a:pt x="148" y="0"/>
                    </a:lnTo>
                    <a:lnTo>
                      <a:pt x="143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1391800">
                <a:off x="7776720" y="5351760"/>
                <a:ext cx="70920" cy="131040"/>
              </a:xfrm>
              <a:custGeom>
                <a:avLst/>
                <a:gdLst/>
                <a:ahLst/>
                <a:rect l="l" t="t" r="r" b="b"/>
                <a:pathLst>
                  <a:path w="1988" h="4518">
                    <a:moveTo>
                      <a:pt x="969" y="135"/>
                    </a:moveTo>
                    <a:lnTo>
                      <a:pt x="845" y="202"/>
                    </a:lnTo>
                    <a:lnTo>
                      <a:pt x="711" y="481"/>
                    </a:lnTo>
                    <a:lnTo>
                      <a:pt x="611" y="614"/>
                    </a:lnTo>
                    <a:lnTo>
                      <a:pt x="689" y="1174"/>
                    </a:lnTo>
                    <a:lnTo>
                      <a:pt x="767" y="1666"/>
                    </a:lnTo>
                    <a:lnTo>
                      <a:pt x="812" y="2840"/>
                    </a:lnTo>
                    <a:lnTo>
                      <a:pt x="801" y="3244"/>
                    </a:lnTo>
                    <a:lnTo>
                      <a:pt x="834" y="3322"/>
                    </a:lnTo>
                    <a:lnTo>
                      <a:pt x="1283" y="3467"/>
                    </a:lnTo>
                    <a:lnTo>
                      <a:pt x="1529" y="3523"/>
                    </a:lnTo>
                    <a:lnTo>
                      <a:pt x="1461" y="3769"/>
                    </a:lnTo>
                    <a:lnTo>
                      <a:pt x="1461" y="3915"/>
                    </a:lnTo>
                    <a:lnTo>
                      <a:pt x="1988" y="4518"/>
                    </a:lnTo>
                    <a:lnTo>
                      <a:pt x="1425" y="4485"/>
                    </a:lnTo>
                    <a:lnTo>
                      <a:pt x="1265" y="4503"/>
                    </a:lnTo>
                    <a:lnTo>
                      <a:pt x="531" y="4485"/>
                    </a:lnTo>
                    <a:lnTo>
                      <a:pt x="459" y="4027"/>
                    </a:lnTo>
                    <a:lnTo>
                      <a:pt x="858" y="3468"/>
                    </a:lnTo>
                    <a:lnTo>
                      <a:pt x="715" y="3372"/>
                    </a:lnTo>
                    <a:lnTo>
                      <a:pt x="658" y="3222"/>
                    </a:lnTo>
                    <a:lnTo>
                      <a:pt x="0" y="2763"/>
                    </a:lnTo>
                    <a:lnTo>
                      <a:pt x="18" y="1243"/>
                    </a:lnTo>
                    <a:lnTo>
                      <a:pt x="431" y="626"/>
                    </a:lnTo>
                    <a:lnTo>
                      <a:pt x="666" y="436"/>
                    </a:lnTo>
                    <a:lnTo>
                      <a:pt x="778" y="168"/>
                    </a:lnTo>
                    <a:lnTo>
                      <a:pt x="1035" y="0"/>
                    </a:lnTo>
                    <a:lnTo>
                      <a:pt x="969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1391800">
                <a:off x="7729920" y="5387760"/>
                <a:ext cx="65520" cy="98640"/>
              </a:xfrm>
              <a:custGeom>
                <a:avLst/>
                <a:gdLst/>
                <a:ahLst/>
                <a:rect l="l" t="t" r="r" b="b"/>
                <a:pathLst>
                  <a:path w="1838" h="3404">
                    <a:moveTo>
                      <a:pt x="1279" y="0"/>
                    </a:moveTo>
                    <a:lnTo>
                      <a:pt x="1244" y="191"/>
                    </a:lnTo>
                    <a:lnTo>
                      <a:pt x="1233" y="827"/>
                    </a:lnTo>
                    <a:lnTo>
                      <a:pt x="1267" y="1532"/>
                    </a:lnTo>
                    <a:lnTo>
                      <a:pt x="1345" y="1746"/>
                    </a:lnTo>
                    <a:lnTo>
                      <a:pt x="1838" y="2238"/>
                    </a:lnTo>
                    <a:lnTo>
                      <a:pt x="1805" y="2439"/>
                    </a:lnTo>
                    <a:lnTo>
                      <a:pt x="1535" y="2685"/>
                    </a:lnTo>
                    <a:lnTo>
                      <a:pt x="1480" y="2942"/>
                    </a:lnTo>
                    <a:lnTo>
                      <a:pt x="1676" y="3404"/>
                    </a:lnTo>
                    <a:lnTo>
                      <a:pt x="1436" y="3404"/>
                    </a:lnTo>
                    <a:lnTo>
                      <a:pt x="1245" y="3404"/>
                    </a:lnTo>
                    <a:lnTo>
                      <a:pt x="1066" y="2786"/>
                    </a:lnTo>
                    <a:lnTo>
                      <a:pt x="954" y="2427"/>
                    </a:lnTo>
                    <a:lnTo>
                      <a:pt x="886" y="2081"/>
                    </a:lnTo>
                    <a:lnTo>
                      <a:pt x="886" y="1789"/>
                    </a:lnTo>
                    <a:lnTo>
                      <a:pt x="1021" y="1387"/>
                    </a:lnTo>
                    <a:lnTo>
                      <a:pt x="1111" y="1879"/>
                    </a:lnTo>
                    <a:lnTo>
                      <a:pt x="1154" y="2505"/>
                    </a:lnTo>
                    <a:lnTo>
                      <a:pt x="1368" y="2997"/>
                    </a:lnTo>
                    <a:lnTo>
                      <a:pt x="1370" y="2754"/>
                    </a:lnTo>
                    <a:lnTo>
                      <a:pt x="1212" y="2349"/>
                    </a:lnTo>
                    <a:lnTo>
                      <a:pt x="1284" y="1909"/>
                    </a:lnTo>
                    <a:lnTo>
                      <a:pt x="1202" y="1712"/>
                    </a:lnTo>
                    <a:lnTo>
                      <a:pt x="1135" y="1381"/>
                    </a:lnTo>
                    <a:lnTo>
                      <a:pt x="863" y="1066"/>
                    </a:lnTo>
                    <a:lnTo>
                      <a:pt x="607" y="2110"/>
                    </a:lnTo>
                    <a:lnTo>
                      <a:pt x="0" y="792"/>
                    </a:lnTo>
                    <a:lnTo>
                      <a:pt x="12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1391800">
                <a:off x="7851240" y="5413680"/>
                <a:ext cx="14760" cy="65880"/>
              </a:xfrm>
              <a:custGeom>
                <a:avLst/>
                <a:gdLst/>
                <a:ahLst/>
                <a:rect l="l" t="t" r="r" b="b"/>
                <a:pathLst>
                  <a:path w="419" h="2273">
                    <a:moveTo>
                      <a:pt x="419" y="191"/>
                    </a:moveTo>
                    <a:lnTo>
                      <a:pt x="363" y="549"/>
                    </a:lnTo>
                    <a:lnTo>
                      <a:pt x="262" y="1220"/>
                    </a:lnTo>
                    <a:lnTo>
                      <a:pt x="172" y="1925"/>
                    </a:lnTo>
                    <a:lnTo>
                      <a:pt x="184" y="2273"/>
                    </a:lnTo>
                    <a:lnTo>
                      <a:pt x="0" y="1849"/>
                    </a:lnTo>
                    <a:lnTo>
                      <a:pt x="185" y="933"/>
                    </a:lnTo>
                    <a:lnTo>
                      <a:pt x="274" y="0"/>
                    </a:lnTo>
                    <a:lnTo>
                      <a:pt x="363" y="69"/>
                    </a:lnTo>
                    <a:lnTo>
                      <a:pt x="419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1391800">
                <a:off x="7883280" y="5426280"/>
                <a:ext cx="68400" cy="51840"/>
              </a:xfrm>
              <a:custGeom>
                <a:avLst/>
                <a:gdLst/>
                <a:ahLst/>
                <a:rect l="l" t="t" r="r" b="b"/>
                <a:pathLst>
                  <a:path w="1915" h="1794">
                    <a:moveTo>
                      <a:pt x="0" y="1525"/>
                    </a:moveTo>
                    <a:lnTo>
                      <a:pt x="89" y="1750"/>
                    </a:lnTo>
                    <a:lnTo>
                      <a:pt x="760" y="1794"/>
                    </a:lnTo>
                    <a:lnTo>
                      <a:pt x="224" y="1715"/>
                    </a:lnTo>
                    <a:lnTo>
                      <a:pt x="458" y="1778"/>
                    </a:lnTo>
                    <a:lnTo>
                      <a:pt x="1154" y="1778"/>
                    </a:lnTo>
                    <a:lnTo>
                      <a:pt x="1521" y="1485"/>
                    </a:lnTo>
                    <a:lnTo>
                      <a:pt x="1541" y="850"/>
                    </a:lnTo>
                    <a:lnTo>
                      <a:pt x="1915" y="1112"/>
                    </a:lnTo>
                    <a:lnTo>
                      <a:pt x="1590" y="542"/>
                    </a:lnTo>
                    <a:lnTo>
                      <a:pt x="1523" y="284"/>
                    </a:lnTo>
                    <a:lnTo>
                      <a:pt x="1477" y="150"/>
                    </a:lnTo>
                    <a:lnTo>
                      <a:pt x="1392" y="0"/>
                    </a:lnTo>
                    <a:lnTo>
                      <a:pt x="1455" y="273"/>
                    </a:lnTo>
                    <a:lnTo>
                      <a:pt x="1523" y="564"/>
                    </a:lnTo>
                    <a:lnTo>
                      <a:pt x="1141" y="866"/>
                    </a:lnTo>
                    <a:lnTo>
                      <a:pt x="694" y="1246"/>
                    </a:lnTo>
                    <a:lnTo>
                      <a:pt x="291" y="1525"/>
                    </a:lnTo>
                    <a:lnTo>
                      <a:pt x="134" y="1592"/>
                    </a:lnTo>
                    <a:lnTo>
                      <a:pt x="56" y="1548"/>
                    </a:lnTo>
                    <a:lnTo>
                      <a:pt x="0" y="1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21391800">
                <a:off x="7871760" y="5443920"/>
                <a:ext cx="28440" cy="5760"/>
              </a:xfrm>
              <a:custGeom>
                <a:avLst/>
                <a:gdLst/>
                <a:ahLst/>
                <a:rect l="l" t="t" r="r" b="b"/>
                <a:pathLst>
                  <a:path w="799" h="210">
                    <a:moveTo>
                      <a:pt x="412" y="0"/>
                    </a:moveTo>
                    <a:lnTo>
                      <a:pt x="161" y="136"/>
                    </a:lnTo>
                    <a:lnTo>
                      <a:pt x="0" y="210"/>
                    </a:lnTo>
                    <a:lnTo>
                      <a:pt x="227" y="182"/>
                    </a:lnTo>
                    <a:lnTo>
                      <a:pt x="552" y="114"/>
                    </a:lnTo>
                    <a:lnTo>
                      <a:pt x="799" y="25"/>
                    </a:lnTo>
                    <a:lnTo>
                      <a:pt x="306" y="126"/>
                    </a:lnTo>
                    <a:lnTo>
                      <a:pt x="320" y="92"/>
                    </a:lnTo>
                    <a:lnTo>
                      <a:pt x="4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21391800">
                <a:off x="7725960" y="5373000"/>
                <a:ext cx="67320" cy="81720"/>
              </a:xfrm>
              <a:custGeom>
                <a:avLst/>
                <a:gdLst/>
                <a:ahLst/>
                <a:rect l="l" t="t" r="r" b="b"/>
                <a:pathLst>
                  <a:path w="1884" h="2819">
                    <a:moveTo>
                      <a:pt x="1502" y="386"/>
                    </a:moveTo>
                    <a:lnTo>
                      <a:pt x="1289" y="587"/>
                    </a:lnTo>
                    <a:lnTo>
                      <a:pt x="1155" y="924"/>
                    </a:lnTo>
                    <a:lnTo>
                      <a:pt x="819" y="972"/>
                    </a:lnTo>
                    <a:lnTo>
                      <a:pt x="216" y="1273"/>
                    </a:lnTo>
                    <a:lnTo>
                      <a:pt x="310" y="1388"/>
                    </a:lnTo>
                    <a:lnTo>
                      <a:pt x="471" y="1851"/>
                    </a:lnTo>
                    <a:lnTo>
                      <a:pt x="539" y="2131"/>
                    </a:lnTo>
                    <a:lnTo>
                      <a:pt x="585" y="2819"/>
                    </a:lnTo>
                    <a:lnTo>
                      <a:pt x="205" y="1663"/>
                    </a:lnTo>
                    <a:lnTo>
                      <a:pt x="0" y="1438"/>
                    </a:lnTo>
                    <a:lnTo>
                      <a:pt x="35" y="1157"/>
                    </a:lnTo>
                    <a:lnTo>
                      <a:pt x="170" y="1069"/>
                    </a:lnTo>
                    <a:lnTo>
                      <a:pt x="763" y="800"/>
                    </a:lnTo>
                    <a:lnTo>
                      <a:pt x="1040" y="660"/>
                    </a:lnTo>
                    <a:lnTo>
                      <a:pt x="1137" y="532"/>
                    </a:lnTo>
                    <a:lnTo>
                      <a:pt x="1884" y="0"/>
                    </a:lnTo>
                    <a:lnTo>
                      <a:pt x="1502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21391800">
                <a:off x="7797960" y="527040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3224" h="1846">
                    <a:moveTo>
                      <a:pt x="560" y="745"/>
                    </a:moveTo>
                    <a:lnTo>
                      <a:pt x="325" y="1104"/>
                    </a:lnTo>
                    <a:lnTo>
                      <a:pt x="212" y="1226"/>
                    </a:lnTo>
                    <a:lnTo>
                      <a:pt x="425" y="1124"/>
                    </a:lnTo>
                    <a:lnTo>
                      <a:pt x="583" y="1058"/>
                    </a:lnTo>
                    <a:lnTo>
                      <a:pt x="359" y="1270"/>
                    </a:lnTo>
                    <a:lnTo>
                      <a:pt x="447" y="1248"/>
                    </a:lnTo>
                    <a:lnTo>
                      <a:pt x="369" y="1382"/>
                    </a:lnTo>
                    <a:lnTo>
                      <a:pt x="447" y="1382"/>
                    </a:lnTo>
                    <a:lnTo>
                      <a:pt x="359" y="1517"/>
                    </a:lnTo>
                    <a:lnTo>
                      <a:pt x="470" y="1506"/>
                    </a:lnTo>
                    <a:lnTo>
                      <a:pt x="474" y="1846"/>
                    </a:lnTo>
                    <a:lnTo>
                      <a:pt x="583" y="1506"/>
                    </a:lnTo>
                    <a:lnTo>
                      <a:pt x="537" y="1450"/>
                    </a:lnTo>
                    <a:lnTo>
                      <a:pt x="672" y="1248"/>
                    </a:lnTo>
                    <a:lnTo>
                      <a:pt x="616" y="1248"/>
                    </a:lnTo>
                    <a:lnTo>
                      <a:pt x="695" y="1124"/>
                    </a:lnTo>
                    <a:lnTo>
                      <a:pt x="716" y="991"/>
                    </a:lnTo>
                    <a:lnTo>
                      <a:pt x="616" y="1003"/>
                    </a:lnTo>
                    <a:lnTo>
                      <a:pt x="780" y="889"/>
                    </a:lnTo>
                    <a:lnTo>
                      <a:pt x="1004" y="675"/>
                    </a:lnTo>
                    <a:lnTo>
                      <a:pt x="951" y="803"/>
                    </a:lnTo>
                    <a:lnTo>
                      <a:pt x="1123" y="707"/>
                    </a:lnTo>
                    <a:lnTo>
                      <a:pt x="1486" y="536"/>
                    </a:lnTo>
                    <a:lnTo>
                      <a:pt x="1859" y="521"/>
                    </a:lnTo>
                    <a:lnTo>
                      <a:pt x="1590" y="566"/>
                    </a:lnTo>
                    <a:lnTo>
                      <a:pt x="1746" y="566"/>
                    </a:lnTo>
                    <a:lnTo>
                      <a:pt x="1882" y="566"/>
                    </a:lnTo>
                    <a:lnTo>
                      <a:pt x="1982" y="521"/>
                    </a:lnTo>
                    <a:lnTo>
                      <a:pt x="2173" y="420"/>
                    </a:lnTo>
                    <a:lnTo>
                      <a:pt x="2105" y="521"/>
                    </a:lnTo>
                    <a:lnTo>
                      <a:pt x="1982" y="599"/>
                    </a:lnTo>
                    <a:lnTo>
                      <a:pt x="1814" y="689"/>
                    </a:lnTo>
                    <a:lnTo>
                      <a:pt x="1658" y="734"/>
                    </a:lnTo>
                    <a:lnTo>
                      <a:pt x="1781" y="734"/>
                    </a:lnTo>
                    <a:lnTo>
                      <a:pt x="1994" y="655"/>
                    </a:lnTo>
                    <a:lnTo>
                      <a:pt x="2218" y="544"/>
                    </a:lnTo>
                    <a:lnTo>
                      <a:pt x="2105" y="667"/>
                    </a:lnTo>
                    <a:lnTo>
                      <a:pt x="1926" y="768"/>
                    </a:lnTo>
                    <a:lnTo>
                      <a:pt x="2049" y="734"/>
                    </a:lnTo>
                    <a:lnTo>
                      <a:pt x="2184" y="655"/>
                    </a:lnTo>
                    <a:lnTo>
                      <a:pt x="2340" y="622"/>
                    </a:lnTo>
                    <a:lnTo>
                      <a:pt x="2207" y="755"/>
                    </a:lnTo>
                    <a:lnTo>
                      <a:pt x="2049" y="880"/>
                    </a:lnTo>
                    <a:lnTo>
                      <a:pt x="1937" y="924"/>
                    </a:lnTo>
                    <a:lnTo>
                      <a:pt x="2062" y="924"/>
                    </a:lnTo>
                    <a:lnTo>
                      <a:pt x="2218" y="835"/>
                    </a:lnTo>
                    <a:lnTo>
                      <a:pt x="2330" y="745"/>
                    </a:lnTo>
                    <a:lnTo>
                      <a:pt x="2408" y="722"/>
                    </a:lnTo>
                    <a:lnTo>
                      <a:pt x="2588" y="768"/>
                    </a:lnTo>
                    <a:lnTo>
                      <a:pt x="2375" y="812"/>
                    </a:lnTo>
                    <a:lnTo>
                      <a:pt x="2486" y="835"/>
                    </a:lnTo>
                    <a:lnTo>
                      <a:pt x="2621" y="835"/>
                    </a:lnTo>
                    <a:lnTo>
                      <a:pt x="2767" y="835"/>
                    </a:lnTo>
                    <a:lnTo>
                      <a:pt x="2509" y="901"/>
                    </a:lnTo>
                    <a:lnTo>
                      <a:pt x="2340" y="901"/>
                    </a:lnTo>
                    <a:lnTo>
                      <a:pt x="2464" y="946"/>
                    </a:lnTo>
                    <a:lnTo>
                      <a:pt x="2609" y="946"/>
                    </a:lnTo>
                    <a:lnTo>
                      <a:pt x="2833" y="901"/>
                    </a:lnTo>
                    <a:lnTo>
                      <a:pt x="3012" y="801"/>
                    </a:lnTo>
                    <a:lnTo>
                      <a:pt x="3214" y="689"/>
                    </a:lnTo>
                    <a:lnTo>
                      <a:pt x="3224" y="605"/>
                    </a:lnTo>
                    <a:lnTo>
                      <a:pt x="3224" y="569"/>
                    </a:lnTo>
                    <a:lnTo>
                      <a:pt x="3224" y="554"/>
                    </a:lnTo>
                    <a:lnTo>
                      <a:pt x="3169" y="476"/>
                    </a:lnTo>
                    <a:lnTo>
                      <a:pt x="2852" y="144"/>
                    </a:lnTo>
                    <a:lnTo>
                      <a:pt x="2932" y="426"/>
                    </a:lnTo>
                    <a:lnTo>
                      <a:pt x="2624" y="3"/>
                    </a:lnTo>
                    <a:lnTo>
                      <a:pt x="2817" y="452"/>
                    </a:lnTo>
                    <a:lnTo>
                      <a:pt x="2386" y="73"/>
                    </a:lnTo>
                    <a:lnTo>
                      <a:pt x="2554" y="253"/>
                    </a:lnTo>
                    <a:lnTo>
                      <a:pt x="2285" y="141"/>
                    </a:lnTo>
                    <a:lnTo>
                      <a:pt x="1478" y="29"/>
                    </a:lnTo>
                    <a:lnTo>
                      <a:pt x="1223" y="0"/>
                    </a:lnTo>
                    <a:lnTo>
                      <a:pt x="921" y="51"/>
                    </a:lnTo>
                    <a:lnTo>
                      <a:pt x="1582" y="151"/>
                    </a:lnTo>
                    <a:lnTo>
                      <a:pt x="1087" y="129"/>
                    </a:lnTo>
                    <a:lnTo>
                      <a:pt x="963" y="219"/>
                    </a:lnTo>
                    <a:lnTo>
                      <a:pt x="761" y="275"/>
                    </a:lnTo>
                    <a:lnTo>
                      <a:pt x="929" y="308"/>
                    </a:lnTo>
                    <a:lnTo>
                      <a:pt x="695" y="353"/>
                    </a:lnTo>
                    <a:lnTo>
                      <a:pt x="593" y="264"/>
                    </a:lnTo>
                    <a:lnTo>
                      <a:pt x="280" y="353"/>
                    </a:lnTo>
                    <a:lnTo>
                      <a:pt x="0" y="589"/>
                    </a:lnTo>
                    <a:lnTo>
                      <a:pt x="583" y="433"/>
                    </a:lnTo>
                    <a:lnTo>
                      <a:pt x="247" y="689"/>
                    </a:lnTo>
                    <a:lnTo>
                      <a:pt x="593" y="599"/>
                    </a:lnTo>
                    <a:lnTo>
                      <a:pt x="369" y="755"/>
                    </a:lnTo>
                    <a:lnTo>
                      <a:pt x="560" y="7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21391800">
                <a:off x="7774200" y="5237640"/>
                <a:ext cx="110160" cy="91800"/>
              </a:xfrm>
              <a:custGeom>
                <a:avLst/>
                <a:gdLst/>
                <a:ahLst/>
                <a:rect l="l" t="t" r="r" b="b"/>
                <a:pathLst>
                  <a:path w="3091" h="3178">
                    <a:moveTo>
                      <a:pt x="582" y="1120"/>
                    </a:moveTo>
                    <a:lnTo>
                      <a:pt x="369" y="1613"/>
                    </a:lnTo>
                    <a:lnTo>
                      <a:pt x="100" y="2104"/>
                    </a:lnTo>
                    <a:lnTo>
                      <a:pt x="257" y="2060"/>
                    </a:lnTo>
                    <a:lnTo>
                      <a:pt x="89" y="2372"/>
                    </a:lnTo>
                    <a:lnTo>
                      <a:pt x="0" y="2697"/>
                    </a:lnTo>
                    <a:lnTo>
                      <a:pt x="201" y="3178"/>
                    </a:lnTo>
                    <a:lnTo>
                      <a:pt x="178" y="2831"/>
                    </a:lnTo>
                    <a:lnTo>
                      <a:pt x="257" y="2965"/>
                    </a:lnTo>
                    <a:lnTo>
                      <a:pt x="313" y="2574"/>
                    </a:lnTo>
                    <a:lnTo>
                      <a:pt x="380" y="2920"/>
                    </a:lnTo>
                    <a:lnTo>
                      <a:pt x="425" y="2350"/>
                    </a:lnTo>
                    <a:lnTo>
                      <a:pt x="346" y="2226"/>
                    </a:lnTo>
                    <a:lnTo>
                      <a:pt x="190" y="2462"/>
                    </a:lnTo>
                    <a:lnTo>
                      <a:pt x="391" y="2015"/>
                    </a:lnTo>
                    <a:lnTo>
                      <a:pt x="638" y="1724"/>
                    </a:lnTo>
                    <a:lnTo>
                      <a:pt x="436" y="1857"/>
                    </a:lnTo>
                    <a:lnTo>
                      <a:pt x="638" y="1600"/>
                    </a:lnTo>
                    <a:lnTo>
                      <a:pt x="784" y="1321"/>
                    </a:lnTo>
                    <a:lnTo>
                      <a:pt x="649" y="1444"/>
                    </a:lnTo>
                    <a:lnTo>
                      <a:pt x="817" y="1131"/>
                    </a:lnTo>
                    <a:lnTo>
                      <a:pt x="694" y="1153"/>
                    </a:lnTo>
                    <a:lnTo>
                      <a:pt x="784" y="974"/>
                    </a:lnTo>
                    <a:lnTo>
                      <a:pt x="1354" y="482"/>
                    </a:lnTo>
                    <a:lnTo>
                      <a:pt x="2139" y="124"/>
                    </a:lnTo>
                    <a:lnTo>
                      <a:pt x="2811" y="45"/>
                    </a:lnTo>
                    <a:lnTo>
                      <a:pt x="3091" y="136"/>
                    </a:lnTo>
                    <a:lnTo>
                      <a:pt x="2866" y="0"/>
                    </a:lnTo>
                    <a:lnTo>
                      <a:pt x="2642" y="0"/>
                    </a:lnTo>
                    <a:lnTo>
                      <a:pt x="2026" y="113"/>
                    </a:lnTo>
                    <a:lnTo>
                      <a:pt x="1299" y="415"/>
                    </a:lnTo>
                    <a:lnTo>
                      <a:pt x="974" y="739"/>
                    </a:lnTo>
                    <a:lnTo>
                      <a:pt x="582" y="1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21391800">
                <a:off x="7845480" y="5233680"/>
                <a:ext cx="83880" cy="53280"/>
              </a:xfrm>
              <a:custGeom>
                <a:avLst/>
                <a:gdLst/>
                <a:ahLst/>
                <a:rect l="l" t="t" r="r" b="b"/>
                <a:pathLst>
                  <a:path w="2351" h="1852">
                    <a:moveTo>
                      <a:pt x="1143" y="169"/>
                    </a:moveTo>
                    <a:lnTo>
                      <a:pt x="1433" y="415"/>
                    </a:lnTo>
                    <a:lnTo>
                      <a:pt x="1411" y="515"/>
                    </a:lnTo>
                    <a:lnTo>
                      <a:pt x="1098" y="515"/>
                    </a:lnTo>
                    <a:lnTo>
                      <a:pt x="561" y="505"/>
                    </a:lnTo>
                    <a:lnTo>
                      <a:pt x="847" y="587"/>
                    </a:lnTo>
                    <a:lnTo>
                      <a:pt x="1159" y="621"/>
                    </a:lnTo>
                    <a:lnTo>
                      <a:pt x="1356" y="616"/>
                    </a:lnTo>
                    <a:lnTo>
                      <a:pt x="1490" y="739"/>
                    </a:lnTo>
                    <a:lnTo>
                      <a:pt x="1126" y="654"/>
                    </a:lnTo>
                    <a:lnTo>
                      <a:pt x="694" y="671"/>
                    </a:lnTo>
                    <a:lnTo>
                      <a:pt x="1286" y="856"/>
                    </a:lnTo>
                    <a:lnTo>
                      <a:pt x="771" y="747"/>
                    </a:lnTo>
                    <a:lnTo>
                      <a:pt x="213" y="762"/>
                    </a:lnTo>
                    <a:lnTo>
                      <a:pt x="0" y="817"/>
                    </a:lnTo>
                    <a:lnTo>
                      <a:pt x="478" y="822"/>
                    </a:lnTo>
                    <a:lnTo>
                      <a:pt x="849" y="849"/>
                    </a:lnTo>
                    <a:lnTo>
                      <a:pt x="1227" y="980"/>
                    </a:lnTo>
                    <a:lnTo>
                      <a:pt x="1509" y="1107"/>
                    </a:lnTo>
                    <a:lnTo>
                      <a:pt x="1745" y="1267"/>
                    </a:lnTo>
                    <a:lnTo>
                      <a:pt x="1959" y="1395"/>
                    </a:lnTo>
                    <a:lnTo>
                      <a:pt x="2005" y="1522"/>
                    </a:lnTo>
                    <a:lnTo>
                      <a:pt x="1747" y="1467"/>
                    </a:lnTo>
                    <a:lnTo>
                      <a:pt x="2081" y="1852"/>
                    </a:lnTo>
                    <a:lnTo>
                      <a:pt x="2117" y="1656"/>
                    </a:lnTo>
                    <a:lnTo>
                      <a:pt x="2240" y="1646"/>
                    </a:lnTo>
                    <a:lnTo>
                      <a:pt x="2351" y="1623"/>
                    </a:lnTo>
                    <a:lnTo>
                      <a:pt x="2263" y="1377"/>
                    </a:lnTo>
                    <a:lnTo>
                      <a:pt x="2038" y="1242"/>
                    </a:lnTo>
                    <a:lnTo>
                      <a:pt x="1736" y="840"/>
                    </a:lnTo>
                    <a:lnTo>
                      <a:pt x="1591" y="706"/>
                    </a:lnTo>
                    <a:lnTo>
                      <a:pt x="1747" y="694"/>
                    </a:lnTo>
                    <a:lnTo>
                      <a:pt x="2098" y="988"/>
                    </a:lnTo>
                    <a:lnTo>
                      <a:pt x="1769" y="583"/>
                    </a:lnTo>
                    <a:lnTo>
                      <a:pt x="1601" y="538"/>
                    </a:lnTo>
                    <a:lnTo>
                      <a:pt x="1466" y="302"/>
                    </a:lnTo>
                    <a:lnTo>
                      <a:pt x="1065" y="58"/>
                    </a:lnTo>
                    <a:lnTo>
                      <a:pt x="840" y="0"/>
                    </a:lnTo>
                    <a:lnTo>
                      <a:pt x="1143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21391800">
                <a:off x="7903440" y="5275440"/>
                <a:ext cx="42120" cy="41040"/>
              </a:xfrm>
              <a:custGeom>
                <a:avLst/>
                <a:gdLst/>
                <a:ahLst/>
                <a:rect l="l" t="t" r="r" b="b"/>
                <a:pathLst>
                  <a:path w="1181" h="1421">
                    <a:moveTo>
                      <a:pt x="341" y="190"/>
                    </a:moveTo>
                    <a:lnTo>
                      <a:pt x="0" y="408"/>
                    </a:lnTo>
                    <a:lnTo>
                      <a:pt x="394" y="302"/>
                    </a:lnTo>
                    <a:lnTo>
                      <a:pt x="452" y="424"/>
                    </a:lnTo>
                    <a:lnTo>
                      <a:pt x="464" y="705"/>
                    </a:lnTo>
                    <a:lnTo>
                      <a:pt x="431" y="939"/>
                    </a:lnTo>
                    <a:lnTo>
                      <a:pt x="374" y="1152"/>
                    </a:lnTo>
                    <a:lnTo>
                      <a:pt x="329" y="1409"/>
                    </a:lnTo>
                    <a:lnTo>
                      <a:pt x="442" y="1421"/>
                    </a:lnTo>
                    <a:lnTo>
                      <a:pt x="531" y="1308"/>
                    </a:lnTo>
                    <a:lnTo>
                      <a:pt x="520" y="1421"/>
                    </a:lnTo>
                    <a:lnTo>
                      <a:pt x="576" y="1353"/>
                    </a:lnTo>
                    <a:lnTo>
                      <a:pt x="620" y="1230"/>
                    </a:lnTo>
                    <a:lnTo>
                      <a:pt x="665" y="1320"/>
                    </a:lnTo>
                    <a:lnTo>
                      <a:pt x="755" y="1074"/>
                    </a:lnTo>
                    <a:lnTo>
                      <a:pt x="833" y="996"/>
                    </a:lnTo>
                    <a:lnTo>
                      <a:pt x="823" y="1119"/>
                    </a:lnTo>
                    <a:lnTo>
                      <a:pt x="979" y="996"/>
                    </a:lnTo>
                    <a:lnTo>
                      <a:pt x="1080" y="851"/>
                    </a:lnTo>
                    <a:lnTo>
                      <a:pt x="1035" y="1017"/>
                    </a:lnTo>
                    <a:lnTo>
                      <a:pt x="1114" y="939"/>
                    </a:lnTo>
                    <a:lnTo>
                      <a:pt x="1181" y="760"/>
                    </a:lnTo>
                    <a:lnTo>
                      <a:pt x="1124" y="504"/>
                    </a:lnTo>
                    <a:lnTo>
                      <a:pt x="1035" y="280"/>
                    </a:lnTo>
                    <a:lnTo>
                      <a:pt x="956" y="167"/>
                    </a:lnTo>
                    <a:lnTo>
                      <a:pt x="655" y="0"/>
                    </a:lnTo>
                    <a:lnTo>
                      <a:pt x="890" y="223"/>
                    </a:lnTo>
                    <a:lnTo>
                      <a:pt x="1035" y="437"/>
                    </a:lnTo>
                    <a:lnTo>
                      <a:pt x="1013" y="672"/>
                    </a:lnTo>
                    <a:lnTo>
                      <a:pt x="923" y="414"/>
                    </a:lnTo>
                    <a:lnTo>
                      <a:pt x="767" y="246"/>
                    </a:lnTo>
                    <a:lnTo>
                      <a:pt x="452" y="79"/>
                    </a:lnTo>
                    <a:lnTo>
                      <a:pt x="531" y="313"/>
                    </a:lnTo>
                    <a:lnTo>
                      <a:pt x="665" y="424"/>
                    </a:lnTo>
                    <a:lnTo>
                      <a:pt x="700" y="559"/>
                    </a:lnTo>
                    <a:lnTo>
                      <a:pt x="923" y="715"/>
                    </a:lnTo>
                    <a:lnTo>
                      <a:pt x="733" y="693"/>
                    </a:lnTo>
                    <a:lnTo>
                      <a:pt x="565" y="515"/>
                    </a:lnTo>
                    <a:lnTo>
                      <a:pt x="745" y="828"/>
                    </a:lnTo>
                    <a:lnTo>
                      <a:pt x="665" y="984"/>
                    </a:lnTo>
                    <a:lnTo>
                      <a:pt x="531" y="783"/>
                    </a:lnTo>
                    <a:lnTo>
                      <a:pt x="531" y="549"/>
                    </a:lnTo>
                    <a:lnTo>
                      <a:pt x="513" y="269"/>
                    </a:lnTo>
                    <a:lnTo>
                      <a:pt x="341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21391800">
                <a:off x="7906320" y="524988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896" h="1222">
                    <a:moveTo>
                      <a:pt x="225" y="363"/>
                    </a:moveTo>
                    <a:lnTo>
                      <a:pt x="407" y="609"/>
                    </a:lnTo>
                    <a:lnTo>
                      <a:pt x="579" y="684"/>
                    </a:lnTo>
                    <a:lnTo>
                      <a:pt x="739" y="1009"/>
                    </a:lnTo>
                    <a:lnTo>
                      <a:pt x="896" y="1222"/>
                    </a:lnTo>
                    <a:lnTo>
                      <a:pt x="784" y="875"/>
                    </a:lnTo>
                    <a:lnTo>
                      <a:pt x="705" y="639"/>
                    </a:lnTo>
                    <a:lnTo>
                      <a:pt x="582" y="428"/>
                    </a:lnTo>
                    <a:lnTo>
                      <a:pt x="414" y="338"/>
                    </a:lnTo>
                    <a:lnTo>
                      <a:pt x="97" y="0"/>
                    </a:lnTo>
                    <a:lnTo>
                      <a:pt x="0" y="43"/>
                    </a:lnTo>
                    <a:lnTo>
                      <a:pt x="225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21391800">
                <a:off x="7817760" y="5248800"/>
                <a:ext cx="56880" cy="19800"/>
              </a:xfrm>
              <a:custGeom>
                <a:avLst/>
                <a:gdLst/>
                <a:ahLst/>
                <a:rect l="l" t="t" r="r" b="b"/>
                <a:pathLst>
                  <a:path w="1602" h="681">
                    <a:moveTo>
                      <a:pt x="784" y="224"/>
                    </a:moveTo>
                    <a:lnTo>
                      <a:pt x="481" y="335"/>
                    </a:lnTo>
                    <a:lnTo>
                      <a:pt x="202" y="536"/>
                    </a:lnTo>
                    <a:lnTo>
                      <a:pt x="0" y="681"/>
                    </a:lnTo>
                    <a:lnTo>
                      <a:pt x="190" y="468"/>
                    </a:lnTo>
                    <a:lnTo>
                      <a:pt x="459" y="257"/>
                    </a:lnTo>
                    <a:lnTo>
                      <a:pt x="751" y="133"/>
                    </a:lnTo>
                    <a:lnTo>
                      <a:pt x="852" y="55"/>
                    </a:lnTo>
                    <a:lnTo>
                      <a:pt x="1423" y="0"/>
                    </a:lnTo>
                    <a:lnTo>
                      <a:pt x="1602" y="33"/>
                    </a:lnTo>
                    <a:lnTo>
                      <a:pt x="1030" y="111"/>
                    </a:lnTo>
                    <a:lnTo>
                      <a:pt x="1165" y="166"/>
                    </a:lnTo>
                    <a:lnTo>
                      <a:pt x="1401" y="178"/>
                    </a:lnTo>
                    <a:lnTo>
                      <a:pt x="1042" y="257"/>
                    </a:lnTo>
                    <a:lnTo>
                      <a:pt x="1042" y="178"/>
                    </a:lnTo>
                    <a:lnTo>
                      <a:pt x="784" y="224"/>
                    </a:lnTo>
                    <a:close/>
                  </a:path>
                </a:pathLst>
              </a:custGeom>
              <a:solidFill>
                <a:srgbClr val="ff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21391800">
                <a:off x="7816320" y="5239440"/>
                <a:ext cx="72000" cy="18720"/>
              </a:xfrm>
              <a:custGeom>
                <a:avLst/>
                <a:gdLst/>
                <a:ahLst/>
                <a:rect l="l" t="t" r="r" b="b"/>
                <a:pathLst>
                  <a:path w="2016" h="648">
                    <a:moveTo>
                      <a:pt x="1569" y="178"/>
                    </a:moveTo>
                    <a:lnTo>
                      <a:pt x="840" y="246"/>
                    </a:lnTo>
                    <a:lnTo>
                      <a:pt x="1031" y="157"/>
                    </a:lnTo>
                    <a:lnTo>
                      <a:pt x="717" y="246"/>
                    </a:lnTo>
                    <a:lnTo>
                      <a:pt x="326" y="492"/>
                    </a:lnTo>
                    <a:lnTo>
                      <a:pt x="0" y="648"/>
                    </a:lnTo>
                    <a:lnTo>
                      <a:pt x="281" y="414"/>
                    </a:lnTo>
                    <a:lnTo>
                      <a:pt x="504" y="269"/>
                    </a:lnTo>
                    <a:lnTo>
                      <a:pt x="695" y="168"/>
                    </a:lnTo>
                    <a:lnTo>
                      <a:pt x="1232" y="78"/>
                    </a:lnTo>
                    <a:lnTo>
                      <a:pt x="1479" y="0"/>
                    </a:lnTo>
                    <a:lnTo>
                      <a:pt x="2016" y="178"/>
                    </a:lnTo>
                    <a:lnTo>
                      <a:pt x="1479" y="90"/>
                    </a:lnTo>
                    <a:lnTo>
                      <a:pt x="1232" y="157"/>
                    </a:lnTo>
                    <a:lnTo>
                      <a:pt x="1569" y="178"/>
                    </a:lnTo>
                    <a:close/>
                  </a:path>
                </a:pathLst>
              </a:cu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21391800">
                <a:off x="7898760" y="5340960"/>
                <a:ext cx="19440" cy="36720"/>
              </a:xfrm>
              <a:custGeom>
                <a:avLst/>
                <a:gdLst/>
                <a:ahLst/>
                <a:rect l="l" t="t" r="r" b="b"/>
                <a:pathLst>
                  <a:path w="551" h="1267">
                    <a:moveTo>
                      <a:pt x="187" y="366"/>
                    </a:moveTo>
                    <a:lnTo>
                      <a:pt x="151" y="413"/>
                    </a:lnTo>
                    <a:lnTo>
                      <a:pt x="205" y="490"/>
                    </a:lnTo>
                    <a:lnTo>
                      <a:pt x="282" y="517"/>
                    </a:lnTo>
                    <a:lnTo>
                      <a:pt x="253" y="605"/>
                    </a:lnTo>
                    <a:lnTo>
                      <a:pt x="181" y="798"/>
                    </a:lnTo>
                    <a:lnTo>
                      <a:pt x="0" y="1267"/>
                    </a:lnTo>
                    <a:lnTo>
                      <a:pt x="56" y="1203"/>
                    </a:lnTo>
                    <a:lnTo>
                      <a:pt x="136" y="1026"/>
                    </a:lnTo>
                    <a:lnTo>
                      <a:pt x="196" y="889"/>
                    </a:lnTo>
                    <a:lnTo>
                      <a:pt x="295" y="749"/>
                    </a:lnTo>
                    <a:lnTo>
                      <a:pt x="482" y="505"/>
                    </a:lnTo>
                    <a:lnTo>
                      <a:pt x="542" y="376"/>
                    </a:lnTo>
                    <a:lnTo>
                      <a:pt x="551" y="238"/>
                    </a:lnTo>
                    <a:lnTo>
                      <a:pt x="502" y="148"/>
                    </a:lnTo>
                    <a:lnTo>
                      <a:pt x="413" y="120"/>
                    </a:lnTo>
                    <a:lnTo>
                      <a:pt x="344" y="79"/>
                    </a:lnTo>
                    <a:lnTo>
                      <a:pt x="344" y="0"/>
                    </a:lnTo>
                    <a:lnTo>
                      <a:pt x="215" y="268"/>
                    </a:lnTo>
                    <a:lnTo>
                      <a:pt x="187" y="3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21391800">
                <a:off x="7913160" y="53301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267" h="1371">
                    <a:moveTo>
                      <a:pt x="0" y="108"/>
                    </a:moveTo>
                    <a:lnTo>
                      <a:pt x="60" y="237"/>
                    </a:lnTo>
                    <a:lnTo>
                      <a:pt x="217" y="504"/>
                    </a:lnTo>
                    <a:lnTo>
                      <a:pt x="198" y="701"/>
                    </a:lnTo>
                    <a:lnTo>
                      <a:pt x="99" y="1066"/>
                    </a:lnTo>
                    <a:lnTo>
                      <a:pt x="20" y="1371"/>
                    </a:lnTo>
                    <a:lnTo>
                      <a:pt x="69" y="1362"/>
                    </a:lnTo>
                    <a:lnTo>
                      <a:pt x="148" y="986"/>
                    </a:lnTo>
                    <a:lnTo>
                      <a:pt x="267" y="543"/>
                    </a:lnTo>
                    <a:lnTo>
                      <a:pt x="228" y="385"/>
                    </a:lnTo>
                    <a:lnTo>
                      <a:pt x="79" y="188"/>
                    </a:lnTo>
                    <a:lnTo>
                      <a:pt x="0" y="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21391800">
                <a:off x="7918560" y="5319360"/>
                <a:ext cx="9000" cy="50760"/>
              </a:xfrm>
              <a:custGeom>
                <a:avLst/>
                <a:gdLst/>
                <a:ahLst/>
                <a:rect l="l" t="t" r="r" b="b"/>
                <a:pathLst>
                  <a:path w="252" h="1752">
                    <a:moveTo>
                      <a:pt x="0" y="69"/>
                    </a:moveTo>
                    <a:lnTo>
                      <a:pt x="69" y="159"/>
                    </a:lnTo>
                    <a:lnTo>
                      <a:pt x="156" y="337"/>
                    </a:lnTo>
                    <a:lnTo>
                      <a:pt x="208" y="637"/>
                    </a:lnTo>
                    <a:lnTo>
                      <a:pt x="208" y="936"/>
                    </a:lnTo>
                    <a:lnTo>
                      <a:pt x="174" y="1013"/>
                    </a:lnTo>
                    <a:lnTo>
                      <a:pt x="174" y="1212"/>
                    </a:lnTo>
                    <a:lnTo>
                      <a:pt x="156" y="1408"/>
                    </a:lnTo>
                    <a:lnTo>
                      <a:pt x="112" y="1607"/>
                    </a:lnTo>
                    <a:lnTo>
                      <a:pt x="63" y="1723"/>
                    </a:lnTo>
                    <a:lnTo>
                      <a:pt x="116" y="1752"/>
                    </a:lnTo>
                    <a:lnTo>
                      <a:pt x="189" y="1337"/>
                    </a:lnTo>
                    <a:lnTo>
                      <a:pt x="217" y="1077"/>
                    </a:lnTo>
                    <a:lnTo>
                      <a:pt x="252" y="1012"/>
                    </a:lnTo>
                    <a:lnTo>
                      <a:pt x="242" y="598"/>
                    </a:lnTo>
                    <a:lnTo>
                      <a:pt x="193" y="352"/>
                    </a:lnTo>
                    <a:lnTo>
                      <a:pt x="160" y="256"/>
                    </a:lnTo>
                    <a:lnTo>
                      <a:pt x="99" y="139"/>
                    </a:lnTo>
                    <a:lnTo>
                      <a:pt x="2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21391800">
                <a:off x="7885800" y="538128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271" h="82">
                    <a:moveTo>
                      <a:pt x="0" y="16"/>
                    </a:moveTo>
                    <a:lnTo>
                      <a:pt x="54" y="47"/>
                    </a:lnTo>
                    <a:lnTo>
                      <a:pt x="164" y="57"/>
                    </a:lnTo>
                    <a:lnTo>
                      <a:pt x="87" y="0"/>
                    </a:lnTo>
                    <a:lnTo>
                      <a:pt x="184" y="0"/>
                    </a:lnTo>
                    <a:lnTo>
                      <a:pt x="267" y="18"/>
                    </a:lnTo>
                    <a:lnTo>
                      <a:pt x="271" y="47"/>
                    </a:lnTo>
                    <a:lnTo>
                      <a:pt x="146" y="82"/>
                    </a:lnTo>
                    <a:lnTo>
                      <a:pt x="73" y="77"/>
                    </a:lnTo>
                    <a:lnTo>
                      <a:pt x="21" y="6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21391800">
                <a:off x="7895520" y="5367240"/>
                <a:ext cx="8640" cy="12600"/>
              </a:xfrm>
              <a:custGeom>
                <a:avLst/>
                <a:gdLst/>
                <a:ahLst/>
                <a:rect l="l" t="t" r="r" b="b"/>
                <a:pathLst>
                  <a:path w="245" h="439">
                    <a:moveTo>
                      <a:pt x="0" y="439"/>
                    </a:moveTo>
                    <a:lnTo>
                      <a:pt x="34" y="283"/>
                    </a:lnTo>
                    <a:lnTo>
                      <a:pt x="68" y="158"/>
                    </a:lnTo>
                    <a:lnTo>
                      <a:pt x="111" y="72"/>
                    </a:lnTo>
                    <a:lnTo>
                      <a:pt x="150" y="13"/>
                    </a:lnTo>
                    <a:lnTo>
                      <a:pt x="245" y="0"/>
                    </a:lnTo>
                    <a:lnTo>
                      <a:pt x="226" y="90"/>
                    </a:lnTo>
                    <a:lnTo>
                      <a:pt x="178" y="212"/>
                    </a:lnTo>
                    <a:lnTo>
                      <a:pt x="82" y="246"/>
                    </a:lnTo>
                    <a:lnTo>
                      <a:pt x="34" y="366"/>
                    </a:lnTo>
                    <a:lnTo>
                      <a:pt x="0" y="4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21391800">
                <a:off x="7893000" y="5377320"/>
                <a:ext cx="44640" cy="14400"/>
              </a:xfrm>
              <a:custGeom>
                <a:avLst/>
                <a:gdLst/>
                <a:ahLst/>
                <a:rect l="l" t="t" r="r" b="b"/>
                <a:pathLst>
                  <a:path w="1253" h="506">
                    <a:moveTo>
                      <a:pt x="0" y="48"/>
                    </a:moveTo>
                    <a:lnTo>
                      <a:pt x="204" y="51"/>
                    </a:lnTo>
                    <a:lnTo>
                      <a:pt x="422" y="48"/>
                    </a:lnTo>
                    <a:lnTo>
                      <a:pt x="594" y="69"/>
                    </a:lnTo>
                    <a:lnTo>
                      <a:pt x="640" y="76"/>
                    </a:lnTo>
                    <a:lnTo>
                      <a:pt x="616" y="21"/>
                    </a:lnTo>
                    <a:lnTo>
                      <a:pt x="732" y="92"/>
                    </a:lnTo>
                    <a:lnTo>
                      <a:pt x="749" y="0"/>
                    </a:lnTo>
                    <a:lnTo>
                      <a:pt x="808" y="48"/>
                    </a:lnTo>
                    <a:lnTo>
                      <a:pt x="761" y="108"/>
                    </a:lnTo>
                    <a:lnTo>
                      <a:pt x="840" y="171"/>
                    </a:lnTo>
                    <a:lnTo>
                      <a:pt x="998" y="260"/>
                    </a:lnTo>
                    <a:lnTo>
                      <a:pt x="1113" y="374"/>
                    </a:lnTo>
                    <a:lnTo>
                      <a:pt x="1172" y="421"/>
                    </a:lnTo>
                    <a:lnTo>
                      <a:pt x="1253" y="506"/>
                    </a:lnTo>
                    <a:lnTo>
                      <a:pt x="1140" y="463"/>
                    </a:lnTo>
                    <a:lnTo>
                      <a:pt x="990" y="339"/>
                    </a:lnTo>
                    <a:lnTo>
                      <a:pt x="824" y="237"/>
                    </a:lnTo>
                    <a:lnTo>
                      <a:pt x="768" y="168"/>
                    </a:lnTo>
                    <a:lnTo>
                      <a:pt x="731" y="132"/>
                    </a:lnTo>
                    <a:lnTo>
                      <a:pt x="672" y="120"/>
                    </a:lnTo>
                    <a:lnTo>
                      <a:pt x="633" y="120"/>
                    </a:lnTo>
                    <a:lnTo>
                      <a:pt x="468" y="93"/>
                    </a:lnTo>
                    <a:lnTo>
                      <a:pt x="308" y="100"/>
                    </a:lnTo>
                    <a:lnTo>
                      <a:pt x="233" y="123"/>
                    </a:lnTo>
                    <a:lnTo>
                      <a:pt x="191" y="97"/>
                    </a:lnTo>
                    <a:lnTo>
                      <a:pt x="142" y="7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21391800">
                <a:off x="7895880" y="5368680"/>
                <a:ext cx="28080" cy="10800"/>
              </a:xfrm>
              <a:custGeom>
                <a:avLst/>
                <a:gdLst/>
                <a:ahLst/>
                <a:rect l="l" t="t" r="r" b="b"/>
                <a:pathLst>
                  <a:path w="791" h="386">
                    <a:moveTo>
                      <a:pt x="729" y="50"/>
                    </a:moveTo>
                    <a:lnTo>
                      <a:pt x="620" y="73"/>
                    </a:lnTo>
                    <a:lnTo>
                      <a:pt x="479" y="128"/>
                    </a:lnTo>
                    <a:lnTo>
                      <a:pt x="342" y="182"/>
                    </a:lnTo>
                    <a:lnTo>
                      <a:pt x="276" y="219"/>
                    </a:lnTo>
                    <a:lnTo>
                      <a:pt x="240" y="292"/>
                    </a:lnTo>
                    <a:lnTo>
                      <a:pt x="215" y="249"/>
                    </a:lnTo>
                    <a:lnTo>
                      <a:pt x="188" y="264"/>
                    </a:lnTo>
                    <a:lnTo>
                      <a:pt x="140" y="327"/>
                    </a:lnTo>
                    <a:lnTo>
                      <a:pt x="97" y="386"/>
                    </a:lnTo>
                    <a:lnTo>
                      <a:pt x="0" y="362"/>
                    </a:lnTo>
                    <a:lnTo>
                      <a:pt x="113" y="264"/>
                    </a:lnTo>
                    <a:lnTo>
                      <a:pt x="276" y="162"/>
                    </a:lnTo>
                    <a:lnTo>
                      <a:pt x="405" y="112"/>
                    </a:lnTo>
                    <a:lnTo>
                      <a:pt x="538" y="50"/>
                    </a:lnTo>
                    <a:lnTo>
                      <a:pt x="636" y="7"/>
                    </a:lnTo>
                    <a:lnTo>
                      <a:pt x="791" y="0"/>
                    </a:lnTo>
                    <a:lnTo>
                      <a:pt x="788" y="42"/>
                    </a:lnTo>
                    <a:lnTo>
                      <a:pt x="72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21391800">
                <a:off x="7921440" y="5346720"/>
                <a:ext cx="15840" cy="44280"/>
              </a:xfrm>
              <a:custGeom>
                <a:avLst/>
                <a:gdLst/>
                <a:ahLst/>
                <a:rect l="l" t="t" r="r" b="b"/>
                <a:pathLst>
                  <a:path w="449" h="1534">
                    <a:moveTo>
                      <a:pt x="394" y="1511"/>
                    </a:moveTo>
                    <a:lnTo>
                      <a:pt x="261" y="1277"/>
                    </a:lnTo>
                    <a:lnTo>
                      <a:pt x="186" y="1065"/>
                    </a:lnTo>
                    <a:lnTo>
                      <a:pt x="137" y="1013"/>
                    </a:lnTo>
                    <a:lnTo>
                      <a:pt x="117" y="923"/>
                    </a:lnTo>
                    <a:lnTo>
                      <a:pt x="70" y="799"/>
                    </a:lnTo>
                    <a:lnTo>
                      <a:pt x="0" y="755"/>
                    </a:lnTo>
                    <a:lnTo>
                      <a:pt x="93" y="615"/>
                    </a:lnTo>
                    <a:lnTo>
                      <a:pt x="140" y="253"/>
                    </a:lnTo>
                    <a:lnTo>
                      <a:pt x="150" y="100"/>
                    </a:lnTo>
                    <a:lnTo>
                      <a:pt x="178" y="31"/>
                    </a:lnTo>
                    <a:lnTo>
                      <a:pt x="223" y="10"/>
                    </a:lnTo>
                    <a:lnTo>
                      <a:pt x="273" y="6"/>
                    </a:lnTo>
                    <a:lnTo>
                      <a:pt x="331" y="0"/>
                    </a:lnTo>
                    <a:lnTo>
                      <a:pt x="319" y="35"/>
                    </a:lnTo>
                    <a:lnTo>
                      <a:pt x="219" y="59"/>
                    </a:lnTo>
                    <a:lnTo>
                      <a:pt x="180" y="156"/>
                    </a:lnTo>
                    <a:lnTo>
                      <a:pt x="168" y="284"/>
                    </a:lnTo>
                    <a:lnTo>
                      <a:pt x="195" y="395"/>
                    </a:lnTo>
                    <a:lnTo>
                      <a:pt x="244" y="432"/>
                    </a:lnTo>
                    <a:lnTo>
                      <a:pt x="266" y="486"/>
                    </a:lnTo>
                    <a:lnTo>
                      <a:pt x="178" y="494"/>
                    </a:lnTo>
                    <a:lnTo>
                      <a:pt x="142" y="589"/>
                    </a:lnTo>
                    <a:lnTo>
                      <a:pt x="142" y="761"/>
                    </a:lnTo>
                    <a:lnTo>
                      <a:pt x="112" y="791"/>
                    </a:lnTo>
                    <a:lnTo>
                      <a:pt x="160" y="895"/>
                    </a:lnTo>
                    <a:lnTo>
                      <a:pt x="199" y="943"/>
                    </a:lnTo>
                    <a:lnTo>
                      <a:pt x="231" y="905"/>
                    </a:lnTo>
                    <a:lnTo>
                      <a:pt x="330" y="490"/>
                    </a:lnTo>
                    <a:lnTo>
                      <a:pt x="379" y="444"/>
                    </a:lnTo>
                    <a:lnTo>
                      <a:pt x="382" y="354"/>
                    </a:lnTo>
                    <a:lnTo>
                      <a:pt x="354" y="539"/>
                    </a:lnTo>
                    <a:lnTo>
                      <a:pt x="336" y="755"/>
                    </a:lnTo>
                    <a:lnTo>
                      <a:pt x="239" y="1065"/>
                    </a:lnTo>
                    <a:lnTo>
                      <a:pt x="300" y="1262"/>
                    </a:lnTo>
                    <a:lnTo>
                      <a:pt x="418" y="1461"/>
                    </a:lnTo>
                    <a:lnTo>
                      <a:pt x="449" y="1534"/>
                    </a:lnTo>
                    <a:lnTo>
                      <a:pt x="394" y="1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21391800">
                <a:off x="7883280" y="537984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514" h="310">
                    <a:moveTo>
                      <a:pt x="0" y="123"/>
                    </a:moveTo>
                    <a:lnTo>
                      <a:pt x="22" y="195"/>
                    </a:lnTo>
                    <a:lnTo>
                      <a:pt x="80" y="232"/>
                    </a:lnTo>
                    <a:lnTo>
                      <a:pt x="171" y="255"/>
                    </a:lnTo>
                    <a:lnTo>
                      <a:pt x="262" y="268"/>
                    </a:lnTo>
                    <a:lnTo>
                      <a:pt x="285" y="219"/>
                    </a:lnTo>
                    <a:lnTo>
                      <a:pt x="350" y="228"/>
                    </a:lnTo>
                    <a:lnTo>
                      <a:pt x="445" y="292"/>
                    </a:lnTo>
                    <a:lnTo>
                      <a:pt x="417" y="298"/>
                    </a:lnTo>
                    <a:lnTo>
                      <a:pt x="277" y="242"/>
                    </a:lnTo>
                    <a:lnTo>
                      <a:pt x="287" y="262"/>
                    </a:lnTo>
                    <a:lnTo>
                      <a:pt x="397" y="308"/>
                    </a:lnTo>
                    <a:lnTo>
                      <a:pt x="471" y="310"/>
                    </a:lnTo>
                    <a:lnTo>
                      <a:pt x="514" y="291"/>
                    </a:lnTo>
                    <a:lnTo>
                      <a:pt x="386" y="177"/>
                    </a:lnTo>
                    <a:lnTo>
                      <a:pt x="278" y="141"/>
                    </a:lnTo>
                    <a:lnTo>
                      <a:pt x="278" y="199"/>
                    </a:lnTo>
                    <a:lnTo>
                      <a:pt x="198" y="213"/>
                    </a:lnTo>
                    <a:lnTo>
                      <a:pt x="133" y="177"/>
                    </a:lnTo>
                    <a:lnTo>
                      <a:pt x="86" y="134"/>
                    </a:lnTo>
                    <a:lnTo>
                      <a:pt x="82" y="76"/>
                    </a:lnTo>
                    <a:lnTo>
                      <a:pt x="23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21391800">
                <a:off x="7895520" y="5383080"/>
                <a:ext cx="45000" cy="20520"/>
              </a:xfrm>
              <a:custGeom>
                <a:avLst/>
                <a:gdLst/>
                <a:ahLst/>
                <a:rect l="l" t="t" r="r" b="b"/>
                <a:pathLst>
                  <a:path w="1260" h="710">
                    <a:moveTo>
                      <a:pt x="98" y="67"/>
                    </a:moveTo>
                    <a:lnTo>
                      <a:pt x="156" y="69"/>
                    </a:lnTo>
                    <a:lnTo>
                      <a:pt x="243" y="84"/>
                    </a:lnTo>
                    <a:lnTo>
                      <a:pt x="307" y="115"/>
                    </a:lnTo>
                    <a:lnTo>
                      <a:pt x="369" y="156"/>
                    </a:lnTo>
                    <a:lnTo>
                      <a:pt x="492" y="174"/>
                    </a:lnTo>
                    <a:lnTo>
                      <a:pt x="579" y="205"/>
                    </a:lnTo>
                    <a:lnTo>
                      <a:pt x="644" y="256"/>
                    </a:lnTo>
                    <a:lnTo>
                      <a:pt x="785" y="337"/>
                    </a:lnTo>
                    <a:lnTo>
                      <a:pt x="875" y="400"/>
                    </a:lnTo>
                    <a:lnTo>
                      <a:pt x="930" y="476"/>
                    </a:lnTo>
                    <a:lnTo>
                      <a:pt x="999" y="524"/>
                    </a:lnTo>
                    <a:lnTo>
                      <a:pt x="1054" y="587"/>
                    </a:lnTo>
                    <a:lnTo>
                      <a:pt x="1118" y="576"/>
                    </a:lnTo>
                    <a:lnTo>
                      <a:pt x="1099" y="531"/>
                    </a:lnTo>
                    <a:lnTo>
                      <a:pt x="1122" y="511"/>
                    </a:lnTo>
                    <a:lnTo>
                      <a:pt x="1181" y="552"/>
                    </a:lnTo>
                    <a:lnTo>
                      <a:pt x="1192" y="627"/>
                    </a:lnTo>
                    <a:lnTo>
                      <a:pt x="1184" y="710"/>
                    </a:lnTo>
                    <a:lnTo>
                      <a:pt x="1232" y="658"/>
                    </a:lnTo>
                    <a:lnTo>
                      <a:pt x="1260" y="576"/>
                    </a:lnTo>
                    <a:lnTo>
                      <a:pt x="1198" y="507"/>
                    </a:lnTo>
                    <a:lnTo>
                      <a:pt x="1127" y="467"/>
                    </a:lnTo>
                    <a:lnTo>
                      <a:pt x="1028" y="446"/>
                    </a:lnTo>
                    <a:lnTo>
                      <a:pt x="926" y="383"/>
                    </a:lnTo>
                    <a:lnTo>
                      <a:pt x="843" y="318"/>
                    </a:lnTo>
                    <a:lnTo>
                      <a:pt x="725" y="254"/>
                    </a:lnTo>
                    <a:lnTo>
                      <a:pt x="664" y="210"/>
                    </a:lnTo>
                    <a:lnTo>
                      <a:pt x="610" y="129"/>
                    </a:lnTo>
                    <a:lnTo>
                      <a:pt x="503" y="126"/>
                    </a:lnTo>
                    <a:lnTo>
                      <a:pt x="392" y="91"/>
                    </a:lnTo>
                    <a:lnTo>
                      <a:pt x="330" y="69"/>
                    </a:lnTo>
                    <a:lnTo>
                      <a:pt x="239" y="61"/>
                    </a:lnTo>
                    <a:lnTo>
                      <a:pt x="167" y="42"/>
                    </a:lnTo>
                    <a:lnTo>
                      <a:pt x="115" y="36"/>
                    </a:lnTo>
                    <a:lnTo>
                      <a:pt x="0" y="0"/>
                    </a:lnTo>
                    <a:lnTo>
                      <a:pt x="112" y="112"/>
                    </a:lnTo>
                    <a:lnTo>
                      <a:pt x="163" y="139"/>
                    </a:lnTo>
                    <a:lnTo>
                      <a:pt x="194" y="129"/>
                    </a:lnTo>
                    <a:lnTo>
                      <a:pt x="184" y="108"/>
                    </a:lnTo>
                    <a:lnTo>
                      <a:pt x="98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21391800">
                <a:off x="7936560" y="538812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149" h="422">
                    <a:moveTo>
                      <a:pt x="24" y="79"/>
                    </a:moveTo>
                    <a:lnTo>
                      <a:pt x="65" y="102"/>
                    </a:lnTo>
                    <a:lnTo>
                      <a:pt x="111" y="148"/>
                    </a:lnTo>
                    <a:lnTo>
                      <a:pt x="114" y="189"/>
                    </a:lnTo>
                    <a:lnTo>
                      <a:pt x="114" y="262"/>
                    </a:lnTo>
                    <a:lnTo>
                      <a:pt x="90" y="357"/>
                    </a:lnTo>
                    <a:lnTo>
                      <a:pt x="73" y="422"/>
                    </a:lnTo>
                    <a:lnTo>
                      <a:pt x="124" y="381"/>
                    </a:lnTo>
                    <a:lnTo>
                      <a:pt x="149" y="282"/>
                    </a:lnTo>
                    <a:lnTo>
                      <a:pt x="149" y="189"/>
                    </a:lnTo>
                    <a:lnTo>
                      <a:pt x="138" y="141"/>
                    </a:lnTo>
                    <a:lnTo>
                      <a:pt x="100" y="103"/>
                    </a:lnTo>
                    <a:lnTo>
                      <a:pt x="0" y="0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21391800">
                <a:off x="7892640" y="53856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85" h="233">
                    <a:moveTo>
                      <a:pt x="33" y="24"/>
                    </a:moveTo>
                    <a:lnTo>
                      <a:pt x="33" y="72"/>
                    </a:lnTo>
                    <a:lnTo>
                      <a:pt x="64" y="145"/>
                    </a:lnTo>
                    <a:lnTo>
                      <a:pt x="185" y="231"/>
                    </a:lnTo>
                    <a:lnTo>
                      <a:pt x="123" y="233"/>
                    </a:lnTo>
                    <a:lnTo>
                      <a:pt x="38" y="162"/>
                    </a:lnTo>
                    <a:lnTo>
                      <a:pt x="2" y="96"/>
                    </a:lnTo>
                    <a:lnTo>
                      <a:pt x="0" y="24"/>
                    </a:lnTo>
                    <a:lnTo>
                      <a:pt x="26" y="0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21391800">
                <a:off x="7901640" y="5397840"/>
                <a:ext cx="39960" cy="40680"/>
              </a:xfrm>
              <a:custGeom>
                <a:avLst/>
                <a:gdLst/>
                <a:ahLst/>
                <a:rect l="l" t="t" r="r" b="b"/>
                <a:pathLst>
                  <a:path w="1121" h="1406">
                    <a:moveTo>
                      <a:pt x="1121" y="108"/>
                    </a:moveTo>
                    <a:lnTo>
                      <a:pt x="1096" y="149"/>
                    </a:lnTo>
                    <a:lnTo>
                      <a:pt x="1080" y="295"/>
                    </a:lnTo>
                    <a:lnTo>
                      <a:pt x="989" y="597"/>
                    </a:lnTo>
                    <a:lnTo>
                      <a:pt x="901" y="842"/>
                    </a:lnTo>
                    <a:lnTo>
                      <a:pt x="838" y="975"/>
                    </a:lnTo>
                    <a:lnTo>
                      <a:pt x="836" y="1009"/>
                    </a:lnTo>
                    <a:lnTo>
                      <a:pt x="831" y="1055"/>
                    </a:lnTo>
                    <a:lnTo>
                      <a:pt x="822" y="1191"/>
                    </a:lnTo>
                    <a:lnTo>
                      <a:pt x="781" y="1253"/>
                    </a:lnTo>
                    <a:lnTo>
                      <a:pt x="636" y="1332"/>
                    </a:lnTo>
                    <a:lnTo>
                      <a:pt x="481" y="1406"/>
                    </a:lnTo>
                    <a:lnTo>
                      <a:pt x="382" y="1361"/>
                    </a:lnTo>
                    <a:lnTo>
                      <a:pt x="233" y="1328"/>
                    </a:lnTo>
                    <a:lnTo>
                      <a:pt x="149" y="1257"/>
                    </a:lnTo>
                    <a:lnTo>
                      <a:pt x="103" y="1207"/>
                    </a:lnTo>
                    <a:lnTo>
                      <a:pt x="103" y="1155"/>
                    </a:lnTo>
                    <a:lnTo>
                      <a:pt x="69" y="1087"/>
                    </a:lnTo>
                    <a:lnTo>
                      <a:pt x="0" y="1052"/>
                    </a:lnTo>
                    <a:lnTo>
                      <a:pt x="103" y="1042"/>
                    </a:lnTo>
                    <a:lnTo>
                      <a:pt x="157" y="1228"/>
                    </a:lnTo>
                    <a:lnTo>
                      <a:pt x="303" y="1295"/>
                    </a:lnTo>
                    <a:lnTo>
                      <a:pt x="497" y="1315"/>
                    </a:lnTo>
                    <a:lnTo>
                      <a:pt x="606" y="1244"/>
                    </a:lnTo>
                    <a:lnTo>
                      <a:pt x="706" y="1037"/>
                    </a:lnTo>
                    <a:lnTo>
                      <a:pt x="772" y="913"/>
                    </a:lnTo>
                    <a:lnTo>
                      <a:pt x="897" y="710"/>
                    </a:lnTo>
                    <a:lnTo>
                      <a:pt x="919" y="577"/>
                    </a:lnTo>
                    <a:lnTo>
                      <a:pt x="897" y="481"/>
                    </a:lnTo>
                    <a:lnTo>
                      <a:pt x="838" y="398"/>
                    </a:lnTo>
                    <a:lnTo>
                      <a:pt x="838" y="332"/>
                    </a:lnTo>
                    <a:lnTo>
                      <a:pt x="922" y="316"/>
                    </a:lnTo>
                    <a:lnTo>
                      <a:pt x="981" y="236"/>
                    </a:lnTo>
                    <a:lnTo>
                      <a:pt x="972" y="149"/>
                    </a:lnTo>
                    <a:lnTo>
                      <a:pt x="897" y="0"/>
                    </a:lnTo>
                    <a:lnTo>
                      <a:pt x="992" y="74"/>
                    </a:lnTo>
                    <a:lnTo>
                      <a:pt x="1010" y="228"/>
                    </a:lnTo>
                    <a:lnTo>
                      <a:pt x="1026" y="319"/>
                    </a:lnTo>
                    <a:lnTo>
                      <a:pt x="1059" y="174"/>
                    </a:lnTo>
                    <a:lnTo>
                      <a:pt x="1118" y="74"/>
                    </a:lnTo>
                    <a:lnTo>
                      <a:pt x="1121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21391800">
                <a:off x="7906320" y="5400720"/>
                <a:ext cx="14040" cy="17280"/>
              </a:xfrm>
              <a:custGeom>
                <a:avLst/>
                <a:gdLst/>
                <a:ahLst/>
                <a:rect l="l" t="t" r="r" b="b"/>
                <a:pathLst>
                  <a:path w="399" h="607">
                    <a:moveTo>
                      <a:pt x="337" y="13"/>
                    </a:moveTo>
                    <a:lnTo>
                      <a:pt x="304" y="154"/>
                    </a:lnTo>
                    <a:lnTo>
                      <a:pt x="133" y="424"/>
                    </a:lnTo>
                    <a:lnTo>
                      <a:pt x="0" y="577"/>
                    </a:lnTo>
                    <a:lnTo>
                      <a:pt x="146" y="511"/>
                    </a:lnTo>
                    <a:lnTo>
                      <a:pt x="151" y="607"/>
                    </a:lnTo>
                    <a:lnTo>
                      <a:pt x="278" y="375"/>
                    </a:lnTo>
                    <a:lnTo>
                      <a:pt x="321" y="270"/>
                    </a:lnTo>
                    <a:lnTo>
                      <a:pt x="350" y="340"/>
                    </a:lnTo>
                    <a:lnTo>
                      <a:pt x="399" y="283"/>
                    </a:lnTo>
                    <a:lnTo>
                      <a:pt x="386" y="179"/>
                    </a:lnTo>
                    <a:lnTo>
                      <a:pt x="358" y="95"/>
                    </a:lnTo>
                    <a:lnTo>
                      <a:pt x="358" y="0"/>
                    </a:lnTo>
                    <a:lnTo>
                      <a:pt x="33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21391800">
                <a:off x="7931880" y="5345640"/>
                <a:ext cx="2520" cy="20520"/>
              </a:xfrm>
              <a:custGeom>
                <a:avLst/>
                <a:gdLst/>
                <a:ahLst/>
                <a:rect l="l" t="t" r="r" b="b"/>
                <a:pathLst>
                  <a:path w="76" h="712">
                    <a:moveTo>
                      <a:pt x="6" y="82"/>
                    </a:moveTo>
                    <a:lnTo>
                      <a:pt x="18" y="184"/>
                    </a:lnTo>
                    <a:lnTo>
                      <a:pt x="43" y="289"/>
                    </a:lnTo>
                    <a:lnTo>
                      <a:pt x="0" y="712"/>
                    </a:lnTo>
                    <a:lnTo>
                      <a:pt x="73" y="474"/>
                    </a:lnTo>
                    <a:lnTo>
                      <a:pt x="76" y="343"/>
                    </a:lnTo>
                    <a:lnTo>
                      <a:pt x="72" y="258"/>
                    </a:lnTo>
                    <a:lnTo>
                      <a:pt x="38" y="164"/>
                    </a:lnTo>
                    <a:lnTo>
                      <a:pt x="27" y="0"/>
                    </a:lnTo>
                    <a:lnTo>
                      <a:pt x="6" y="24"/>
                    </a:lnTo>
                    <a:lnTo>
                      <a:pt x="6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21391800">
                <a:off x="7867080" y="5387760"/>
                <a:ext cx="27720" cy="30600"/>
              </a:xfrm>
              <a:custGeom>
                <a:avLst/>
                <a:gdLst/>
                <a:ahLst/>
                <a:rect l="l" t="t" r="r" b="b"/>
                <a:pathLst>
                  <a:path w="787" h="1054">
                    <a:moveTo>
                      <a:pt x="787" y="74"/>
                    </a:moveTo>
                    <a:lnTo>
                      <a:pt x="703" y="74"/>
                    </a:lnTo>
                    <a:lnTo>
                      <a:pt x="669" y="133"/>
                    </a:lnTo>
                    <a:lnTo>
                      <a:pt x="577" y="393"/>
                    </a:lnTo>
                    <a:lnTo>
                      <a:pt x="460" y="669"/>
                    </a:lnTo>
                    <a:lnTo>
                      <a:pt x="317" y="902"/>
                    </a:lnTo>
                    <a:lnTo>
                      <a:pt x="254" y="990"/>
                    </a:lnTo>
                    <a:lnTo>
                      <a:pt x="167" y="1054"/>
                    </a:lnTo>
                    <a:lnTo>
                      <a:pt x="0" y="1054"/>
                    </a:lnTo>
                    <a:lnTo>
                      <a:pt x="217" y="962"/>
                    </a:lnTo>
                    <a:lnTo>
                      <a:pt x="376" y="743"/>
                    </a:lnTo>
                    <a:lnTo>
                      <a:pt x="511" y="475"/>
                    </a:lnTo>
                    <a:lnTo>
                      <a:pt x="619" y="167"/>
                    </a:lnTo>
                    <a:lnTo>
                      <a:pt x="669" y="41"/>
                    </a:lnTo>
                    <a:lnTo>
                      <a:pt x="769" y="0"/>
                    </a:lnTo>
                    <a:lnTo>
                      <a:pt x="78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21391800">
                <a:off x="7866360" y="5462640"/>
                <a:ext cx="10800" cy="16920"/>
              </a:xfrm>
              <a:custGeom>
                <a:avLst/>
                <a:gdLst/>
                <a:ahLst/>
                <a:rect l="l" t="t" r="r" b="b"/>
                <a:pathLst>
                  <a:path w="308" h="587">
                    <a:moveTo>
                      <a:pt x="0" y="580"/>
                    </a:moveTo>
                    <a:lnTo>
                      <a:pt x="83" y="382"/>
                    </a:lnTo>
                    <a:lnTo>
                      <a:pt x="182" y="146"/>
                    </a:lnTo>
                    <a:lnTo>
                      <a:pt x="241" y="0"/>
                    </a:lnTo>
                    <a:lnTo>
                      <a:pt x="269" y="27"/>
                    </a:lnTo>
                    <a:lnTo>
                      <a:pt x="213" y="146"/>
                    </a:lnTo>
                    <a:lnTo>
                      <a:pt x="206" y="197"/>
                    </a:lnTo>
                    <a:lnTo>
                      <a:pt x="209" y="245"/>
                    </a:lnTo>
                    <a:lnTo>
                      <a:pt x="308" y="347"/>
                    </a:lnTo>
                    <a:lnTo>
                      <a:pt x="234" y="446"/>
                    </a:lnTo>
                    <a:lnTo>
                      <a:pt x="261" y="587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21391800">
                <a:off x="7934400" y="5386680"/>
                <a:ext cx="50400" cy="89280"/>
              </a:xfrm>
              <a:custGeom>
                <a:avLst/>
                <a:gdLst/>
                <a:ahLst/>
                <a:rect l="l" t="t" r="r" b="b"/>
                <a:pathLst>
                  <a:path w="1414" h="3085">
                    <a:moveTo>
                      <a:pt x="130" y="0"/>
                    </a:moveTo>
                    <a:lnTo>
                      <a:pt x="425" y="102"/>
                    </a:lnTo>
                    <a:lnTo>
                      <a:pt x="755" y="226"/>
                    </a:lnTo>
                    <a:lnTo>
                      <a:pt x="834" y="443"/>
                    </a:lnTo>
                    <a:lnTo>
                      <a:pt x="1127" y="788"/>
                    </a:lnTo>
                    <a:lnTo>
                      <a:pt x="1189" y="1273"/>
                    </a:lnTo>
                    <a:lnTo>
                      <a:pt x="1149" y="1924"/>
                    </a:lnTo>
                    <a:lnTo>
                      <a:pt x="1353" y="2494"/>
                    </a:lnTo>
                    <a:lnTo>
                      <a:pt x="1414" y="3085"/>
                    </a:lnTo>
                    <a:lnTo>
                      <a:pt x="1100" y="3080"/>
                    </a:lnTo>
                    <a:lnTo>
                      <a:pt x="755" y="2567"/>
                    </a:lnTo>
                    <a:lnTo>
                      <a:pt x="561" y="2426"/>
                    </a:lnTo>
                    <a:lnTo>
                      <a:pt x="176" y="1789"/>
                    </a:lnTo>
                    <a:lnTo>
                      <a:pt x="0" y="1352"/>
                    </a:lnTo>
                    <a:lnTo>
                      <a:pt x="191" y="819"/>
                    </a:lnTo>
                    <a:lnTo>
                      <a:pt x="250" y="454"/>
                    </a:lnTo>
                    <a:lnTo>
                      <a:pt x="349" y="306"/>
                    </a:lnTo>
                    <a:lnTo>
                      <a:pt x="311" y="136"/>
                    </a:lnTo>
                    <a:lnTo>
                      <a:pt x="187" y="91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21391800">
                <a:off x="7958880" y="539280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397" h="988">
                    <a:moveTo>
                      <a:pt x="44" y="91"/>
                    </a:moveTo>
                    <a:lnTo>
                      <a:pt x="0" y="0"/>
                    </a:lnTo>
                    <a:lnTo>
                      <a:pt x="204" y="81"/>
                    </a:lnTo>
                    <a:lnTo>
                      <a:pt x="397" y="568"/>
                    </a:lnTo>
                    <a:lnTo>
                      <a:pt x="329" y="988"/>
                    </a:lnTo>
                    <a:lnTo>
                      <a:pt x="295" y="534"/>
                    </a:lnTo>
                    <a:lnTo>
                      <a:pt x="133" y="405"/>
                    </a:lnTo>
                    <a:lnTo>
                      <a:pt x="4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21391800">
                <a:off x="7940160" y="544896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739" h="918">
                    <a:moveTo>
                      <a:pt x="0" y="34"/>
                    </a:moveTo>
                    <a:lnTo>
                      <a:pt x="80" y="261"/>
                    </a:lnTo>
                    <a:lnTo>
                      <a:pt x="261" y="601"/>
                    </a:lnTo>
                    <a:lnTo>
                      <a:pt x="432" y="749"/>
                    </a:lnTo>
                    <a:lnTo>
                      <a:pt x="511" y="908"/>
                    </a:lnTo>
                    <a:lnTo>
                      <a:pt x="739" y="918"/>
                    </a:lnTo>
                    <a:lnTo>
                      <a:pt x="579" y="533"/>
                    </a:lnTo>
                    <a:lnTo>
                      <a:pt x="397" y="330"/>
                    </a:lnTo>
                    <a:lnTo>
                      <a:pt x="12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21391800">
                <a:off x="7700760" y="5407200"/>
                <a:ext cx="32400" cy="83520"/>
              </a:xfrm>
              <a:custGeom>
                <a:avLst/>
                <a:gdLst/>
                <a:ahLst/>
                <a:rect l="l" t="t" r="r" b="b"/>
                <a:pathLst>
                  <a:path w="911" h="2890">
                    <a:moveTo>
                      <a:pt x="911" y="0"/>
                    </a:moveTo>
                    <a:lnTo>
                      <a:pt x="860" y="332"/>
                    </a:lnTo>
                    <a:lnTo>
                      <a:pt x="492" y="967"/>
                    </a:lnTo>
                    <a:lnTo>
                      <a:pt x="484" y="1272"/>
                    </a:lnTo>
                    <a:lnTo>
                      <a:pt x="776" y="1937"/>
                    </a:lnTo>
                    <a:lnTo>
                      <a:pt x="459" y="1736"/>
                    </a:lnTo>
                    <a:lnTo>
                      <a:pt x="425" y="2070"/>
                    </a:lnTo>
                    <a:lnTo>
                      <a:pt x="621" y="2837"/>
                    </a:lnTo>
                    <a:lnTo>
                      <a:pt x="33" y="2890"/>
                    </a:lnTo>
                    <a:lnTo>
                      <a:pt x="0" y="1452"/>
                    </a:lnTo>
                    <a:lnTo>
                      <a:pt x="166" y="683"/>
                    </a:lnTo>
                    <a:lnTo>
                      <a:pt x="501" y="214"/>
                    </a:lnTo>
                    <a:lnTo>
                      <a:pt x="9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21391800">
                <a:off x="7732800" y="5424840"/>
                <a:ext cx="32400" cy="61920"/>
              </a:xfrm>
              <a:custGeom>
                <a:avLst/>
                <a:gdLst/>
                <a:ahLst/>
                <a:rect l="l" t="t" r="r" b="b"/>
                <a:pathLst>
                  <a:path w="911" h="2145">
                    <a:moveTo>
                      <a:pt x="677" y="2108"/>
                    </a:moveTo>
                    <a:lnTo>
                      <a:pt x="491" y="2134"/>
                    </a:lnTo>
                    <a:lnTo>
                      <a:pt x="158" y="1707"/>
                    </a:lnTo>
                    <a:lnTo>
                      <a:pt x="158" y="1488"/>
                    </a:lnTo>
                    <a:lnTo>
                      <a:pt x="493" y="1539"/>
                    </a:lnTo>
                    <a:lnTo>
                      <a:pt x="0" y="770"/>
                    </a:lnTo>
                    <a:lnTo>
                      <a:pt x="409" y="1155"/>
                    </a:lnTo>
                    <a:lnTo>
                      <a:pt x="409" y="686"/>
                    </a:lnTo>
                    <a:lnTo>
                      <a:pt x="209" y="0"/>
                    </a:lnTo>
                    <a:lnTo>
                      <a:pt x="309" y="101"/>
                    </a:lnTo>
                    <a:lnTo>
                      <a:pt x="493" y="485"/>
                    </a:lnTo>
                    <a:lnTo>
                      <a:pt x="728" y="1105"/>
                    </a:lnTo>
                    <a:lnTo>
                      <a:pt x="761" y="1640"/>
                    </a:lnTo>
                    <a:lnTo>
                      <a:pt x="911" y="2145"/>
                    </a:lnTo>
                    <a:lnTo>
                      <a:pt x="677" y="2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8" name=""/>
          <p:cNvGrpSpPr/>
          <p:nvPr/>
        </p:nvGrpSpPr>
        <p:grpSpPr>
          <a:xfrm>
            <a:off x="7543800" y="4267080"/>
            <a:ext cx="519120" cy="409680"/>
            <a:chOff x="7543800" y="4267080"/>
            <a:chExt cx="519120" cy="409680"/>
          </a:xfrm>
        </p:grpSpPr>
        <p:grpSp>
          <p:nvGrpSpPr>
            <p:cNvPr id="2319" name=""/>
            <p:cNvGrpSpPr/>
            <p:nvPr/>
          </p:nvGrpSpPr>
          <p:grpSpPr>
            <a:xfrm>
              <a:off x="7556400" y="4275000"/>
              <a:ext cx="506520" cy="401760"/>
              <a:chOff x="7556400" y="4275000"/>
              <a:chExt cx="506520" cy="401760"/>
            </a:xfrm>
          </p:grpSpPr>
          <p:sp>
            <p:nvSpPr>
              <p:cNvPr id="2320" name=""/>
              <p:cNvSpPr/>
              <p:nvPr/>
            </p:nvSpPr>
            <p:spPr>
              <a:xfrm>
                <a:off x="7713720" y="427500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713720" y="427500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556400" y="427500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556400" y="427500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556400" y="4351320"/>
                <a:ext cx="27792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567560" y="436536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580160" y="4395600"/>
                <a:ext cx="1206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H="1">
                <a:off x="7556400" y="4608360"/>
                <a:ext cx="277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7556400" y="4471920"/>
                <a:ext cx="2779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7543800" y="4267080"/>
              <a:ext cx="507960" cy="401760"/>
              <a:chOff x="7543800" y="4267080"/>
              <a:chExt cx="507960" cy="401760"/>
            </a:xfrm>
          </p:grpSpPr>
          <p:sp>
            <p:nvSpPr>
              <p:cNvPr id="2330" name=""/>
              <p:cNvSpPr/>
              <p:nvPr/>
            </p:nvSpPr>
            <p:spPr>
              <a:xfrm>
                <a:off x="7700760" y="426708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700760" y="426708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543800" y="426708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543800" y="426708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543800" y="4343400"/>
                <a:ext cx="27792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556400" y="4359240"/>
                <a:ext cx="15732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580160" y="438156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7556400" y="460044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7556400" y="446400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9" name=""/>
          <p:cNvGrpSpPr/>
          <p:nvPr/>
        </p:nvGrpSpPr>
        <p:grpSpPr>
          <a:xfrm>
            <a:off x="7467480" y="2590920"/>
            <a:ext cx="519120" cy="408960"/>
            <a:chOff x="7467480" y="2590920"/>
            <a:chExt cx="519120" cy="408960"/>
          </a:xfrm>
        </p:grpSpPr>
        <p:grpSp>
          <p:nvGrpSpPr>
            <p:cNvPr id="2340" name=""/>
            <p:cNvGrpSpPr/>
            <p:nvPr/>
          </p:nvGrpSpPr>
          <p:grpSpPr>
            <a:xfrm>
              <a:off x="7480080" y="2598480"/>
              <a:ext cx="506520" cy="401400"/>
              <a:chOff x="7480080" y="2598480"/>
              <a:chExt cx="506520" cy="401400"/>
            </a:xfrm>
          </p:grpSpPr>
          <p:sp>
            <p:nvSpPr>
              <p:cNvPr id="2341" name=""/>
              <p:cNvSpPr/>
              <p:nvPr/>
            </p:nvSpPr>
            <p:spPr>
              <a:xfrm>
                <a:off x="7637400" y="2598480"/>
                <a:ext cx="349200" cy="40140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637400" y="2598480"/>
                <a:ext cx="349200" cy="40140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480080" y="2598480"/>
                <a:ext cx="506520" cy="7596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480080" y="2598480"/>
                <a:ext cx="506520" cy="7596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480080" y="2674440"/>
                <a:ext cx="27792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491240" y="2688480"/>
                <a:ext cx="15732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503840" y="2718720"/>
                <a:ext cx="1206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>
                <a:off x="7480080" y="2931480"/>
                <a:ext cx="2779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7480080" y="2795040"/>
                <a:ext cx="277920" cy="108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7467480" y="2590920"/>
              <a:ext cx="507960" cy="401400"/>
              <a:chOff x="7467480" y="2590920"/>
              <a:chExt cx="507960" cy="401400"/>
            </a:xfrm>
          </p:grpSpPr>
          <p:sp>
            <p:nvSpPr>
              <p:cNvPr id="2351" name=""/>
              <p:cNvSpPr/>
              <p:nvPr/>
            </p:nvSpPr>
            <p:spPr>
              <a:xfrm>
                <a:off x="7624440" y="2590920"/>
                <a:ext cx="351000" cy="40140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624440" y="2590920"/>
                <a:ext cx="351000" cy="40140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467480" y="2590920"/>
                <a:ext cx="507960" cy="7596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467480" y="2590920"/>
                <a:ext cx="507960" cy="7596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467480" y="2666880"/>
                <a:ext cx="27792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480080" y="2682720"/>
                <a:ext cx="157320" cy="5184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503840" y="2705040"/>
                <a:ext cx="968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7480080" y="2923920"/>
                <a:ext cx="25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7480080" y="2787480"/>
                <a:ext cx="254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0" name=""/>
          <p:cNvGrpSpPr/>
          <p:nvPr/>
        </p:nvGrpSpPr>
        <p:grpSpPr>
          <a:xfrm>
            <a:off x="2971800" y="4572000"/>
            <a:ext cx="519120" cy="409680"/>
            <a:chOff x="2971800" y="4572000"/>
            <a:chExt cx="519120" cy="409680"/>
          </a:xfrm>
        </p:grpSpPr>
        <p:grpSp>
          <p:nvGrpSpPr>
            <p:cNvPr id="2361" name=""/>
            <p:cNvGrpSpPr/>
            <p:nvPr/>
          </p:nvGrpSpPr>
          <p:grpSpPr>
            <a:xfrm>
              <a:off x="2984400" y="4579920"/>
              <a:ext cx="506520" cy="401760"/>
              <a:chOff x="2984400" y="4579920"/>
              <a:chExt cx="506520" cy="401760"/>
            </a:xfrm>
          </p:grpSpPr>
          <p:sp>
            <p:nvSpPr>
              <p:cNvPr id="2362" name=""/>
              <p:cNvSpPr/>
              <p:nvPr/>
            </p:nvSpPr>
            <p:spPr>
              <a:xfrm>
                <a:off x="3141720" y="457992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141720" y="4579920"/>
                <a:ext cx="349200" cy="401760"/>
              </a:xfrm>
              <a:custGeom>
                <a:avLst/>
                <a:gdLst/>
                <a:ahLst/>
                <a:rect l="l" t="t" r="r" b="b"/>
                <a:pathLst>
                  <a:path w="220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0" y="0"/>
                    </a:lnTo>
                    <a:lnTo>
                      <a:pt x="220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984400" y="457992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984400" y="4579920"/>
                <a:ext cx="506520" cy="76320"/>
              </a:xfrm>
              <a:custGeom>
                <a:avLst/>
                <a:gdLst/>
                <a:ahLst/>
                <a:rect l="l" t="t" r="r" b="b"/>
                <a:pathLst>
                  <a:path w="319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19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984400" y="4656240"/>
                <a:ext cx="27792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2995560" y="467028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008160" y="4700520"/>
                <a:ext cx="1206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>
                <a:off x="2984400" y="4913280"/>
                <a:ext cx="27792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2984400" y="4776840"/>
                <a:ext cx="27792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2971800" y="4572000"/>
              <a:ext cx="507960" cy="401760"/>
              <a:chOff x="2971800" y="4572000"/>
              <a:chExt cx="507960" cy="401760"/>
            </a:xfrm>
          </p:grpSpPr>
          <p:sp>
            <p:nvSpPr>
              <p:cNvPr id="2372" name=""/>
              <p:cNvSpPr/>
              <p:nvPr/>
            </p:nvSpPr>
            <p:spPr>
              <a:xfrm>
                <a:off x="3128760" y="457200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3128760" y="4572000"/>
                <a:ext cx="351000" cy="401760"/>
              </a:xfrm>
              <a:custGeom>
                <a:avLst/>
                <a:gdLst/>
                <a:ahLst/>
                <a:rect l="l" t="t" r="r" b="b"/>
                <a:pathLst>
                  <a:path w="221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1" y="0"/>
                    </a:lnTo>
                    <a:lnTo>
                      <a:pt x="221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971800" y="457200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2971800" y="4572000"/>
                <a:ext cx="507960" cy="76320"/>
              </a:xfrm>
              <a:custGeom>
                <a:avLst/>
                <a:gdLst/>
                <a:ahLst/>
                <a:rect l="l" t="t" r="r" b="b"/>
                <a:pathLst>
                  <a:path w="320" h="48">
                    <a:moveTo>
                      <a:pt x="0" y="48"/>
                    </a:moveTo>
                    <a:lnTo>
                      <a:pt x="137" y="0"/>
                    </a:lnTo>
                    <a:lnTo>
                      <a:pt x="320" y="0"/>
                    </a:lnTo>
                    <a:lnTo>
                      <a:pt x="175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971800" y="4648320"/>
                <a:ext cx="27792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984400" y="4664160"/>
                <a:ext cx="15732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008160" y="468648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2984400" y="490536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>
                <a:off x="2984400" y="4768920"/>
                <a:ext cx="254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6AA-A5E6-4E22-9833-48431A3FA31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"/>
          <p:cNvSpPr/>
          <p:nvPr/>
        </p:nvSpPr>
        <p:spPr>
          <a:xfrm>
            <a:off x="378000" y="5637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PCablecom Recs. for 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ter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perability inter-zone and inter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main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irectly over managed IP backbon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358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174 Inter-domain Q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70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further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724280" y="2743200"/>
            <a:ext cx="37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ign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further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4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Mess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8417-170E-46B8-ABBB-447C1A8842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cketCab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esting Progra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leLabs conducts interoperability and certification testing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 conformance with interface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e multi-vendor interoper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urage rapid product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ed after highly successful certification progra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SIS™ (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U-T J.112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cable mode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ertification Waves and Interoperability events scheduled for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C9B-4AB5-40CB-A5EB-CBDB88B7C7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"/>
          <p:cNvSpPr/>
          <p:nvPr/>
        </p:nvSpPr>
        <p:spPr>
          <a:xfrm>
            <a:off x="1143000" y="2438280"/>
            <a:ext cx="6629400" cy="4114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457200" y="2286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cketCab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 Proc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457200" y="2514600"/>
            <a:ext cx="8380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124080" y="3733920"/>
            <a:ext cx="60984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133720" y="3124080"/>
            <a:ext cx="6094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4038480" y="4419720"/>
            <a:ext cx="160020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095880" y="4800600"/>
            <a:ext cx="12956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 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57200" y="2743200"/>
            <a:ext cx="16761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209320" y="3430440"/>
            <a:ext cx="10674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031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03139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818800" y="4116240"/>
            <a:ext cx="16772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320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3201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4876920" y="4572000"/>
            <a:ext cx="15235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rot="10800000">
            <a:off x="990720" y="2819880"/>
            <a:ext cx="22852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rot="10800000">
            <a:off x="2437200" y="3273840"/>
            <a:ext cx="106452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6" y="341"/>
                </a:moveTo>
                <a:arcTo wR="10800" hR="10800" stAng="-6266652" swAng="6266652"/>
                <a:lnTo>
                  <a:pt x="10800" y="10800"/>
                </a:lnTo>
                <a:close/>
              </a:path>
              <a:path fill="none" w="21600" h="21600">
                <a:moveTo>
                  <a:pt x="8106" y="341"/>
                </a:moveTo>
                <a:arcTo wR="10800" hR="10800" stAng="-6266652" swAng="6266652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 rot="10800000">
            <a:off x="3352680" y="4190760"/>
            <a:ext cx="1220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0" y="135"/>
                </a:moveTo>
                <a:arcTo wR="10800" hR="10800" stAng="-5943507" swAng="5943507"/>
                <a:lnTo>
                  <a:pt x="10800" y="10800"/>
                </a:lnTo>
                <a:close/>
              </a:path>
              <a:path fill="none" w="21600" h="21600">
                <a:moveTo>
                  <a:pt x="9100" y="135"/>
                </a:moveTo>
                <a:arcTo wR="10800" hR="10800" stAng="-5943507" swAng="5943507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 rot="10800000">
            <a:off x="5179320" y="4800600"/>
            <a:ext cx="1677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75" y="70"/>
                </a:moveTo>
                <a:arcTo wR="10800" hR="10800" stAng="-5790807" swAng="5662454"/>
                <a:lnTo>
                  <a:pt x="10800" y="10800"/>
                </a:lnTo>
                <a:close/>
              </a:path>
              <a:path fill="none" w="21600" h="21600">
                <a:moveTo>
                  <a:pt x="9575" y="70"/>
                </a:moveTo>
                <a:arcTo wR="10800" hR="10800" stAng="-5790807" swAng="566245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rot="10800000">
            <a:off x="2282760" y="2973240"/>
            <a:ext cx="2976840" cy="197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63" y="175"/>
                </a:moveTo>
                <a:arcTo wR="10800" hR="10800" stAng="-6020040" swAng="6287133"/>
                <a:lnTo>
                  <a:pt x="10800" y="10800"/>
                </a:lnTo>
                <a:close/>
              </a:path>
              <a:path fill="none" w="21600" h="21600">
                <a:moveTo>
                  <a:pt x="8863" y="175"/>
                </a:moveTo>
                <a:arcTo wR="10800" hR="10800" stAng="-6020040" swAng="6287133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rot="10800000">
            <a:off x="762480" y="1450800"/>
            <a:ext cx="10697760" cy="39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7" y="1"/>
                </a:moveTo>
                <a:arcTo wR="10800" hR="10800" stAng="-5439151" swAng="5706244"/>
                <a:lnTo>
                  <a:pt x="10800" y="10800"/>
                </a:lnTo>
                <a:close/>
              </a:path>
              <a:path fill="none" w="21600" h="21600">
                <a:moveTo>
                  <a:pt x="10677" y="1"/>
                </a:moveTo>
                <a:arcTo wR="10800" hR="10800" stAng="-5439151" swAng="570624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114800" y="2514600"/>
            <a:ext cx="141120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477120" y="12952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 t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F55-A172-4BAA-ABEA-EA1590E84B0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cketCab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- 2001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3 vendors brought to CableLab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M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Call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MT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B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Provisioning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ecurity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Gateway Control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Media Gate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ignaling Gate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FE2-2C1B-496D-ABE8-82B5075304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rogress summa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c. 1999: PacketC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ra-zone VoIP publis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v. 2000: PacketC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™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ter-zone VoIP publish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r. 2001: European cable operator (ECCA) VoIP requ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2001: SCTE intra-zone set of VoIP standa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g. 2001: ETSI intra-zone set of VoIP standa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b. 2002: ITU-T intra-zone VoIP recommendations,  and first inter-zone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EEB-116C-438B-9B2B-2FA12CE95A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lated presentations to follow in this worksho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6705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TSI on IPCable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PCablecom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PCablecom Q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PCablecom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ble modem transport plat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69E-5669-46D7-943A-F958A5CD5B0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TU-T SG9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13/9 Voice/video IP applns. over cable TV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apporteur: Ed Miller (edward.miller@terayon 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ssoc. Rapporteur: Volker Leisse (v.leisse@tu-bs.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10/9 Interconnection of cable networks with public switched network and other delivery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apporteur: Ed Miller (neil.olsen@ieee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ssoc. Rapporteur: Richard Catchpole (rjc@nortelnetworks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12/9 Cable TV delivery of multimedia using IP or pac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apporteur: Rouzbeh Yassini (rouzbeh@yas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ssoc. Rapporteur: Richard Catchpole (rjc@nortelnetworks.co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8CA-255E-40E4-A132-5BA60D88F6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mmary for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initial focus has been on Vo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a single zone, a set of interfaces has bee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y SCTE, ETSI and ITU-T SG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y cover 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naling, QoS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ecs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ling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visioning,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y cover POTS capabilit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 Exchange interfacing is the subject of regional work (using GR303 for North America, V5.2 in ETS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terdomai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oIP over cable networks, QoS is def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ter there will be 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han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ments f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i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commuting, videoconferencing, interactive gaming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.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164-4CDA-421E-85BD-6E36D8055E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974000" cy="4190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419112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Cablecom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refers to standards f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IP cable comm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un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Cablecom defines architecture and interface spe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Cablecom builds on SG9’s J.83/J.112 cable modem transport (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CSI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EuroDOCSIS 1.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tc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Cablecom initial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arket driv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 IP telepho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29200" y="152388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77120" y="16002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4876920" y="25146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1905120"/>
            <a:ext cx="83844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22093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10080" y="228600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172200" y="144756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962520" y="114300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 flipV="1">
            <a:off x="4419360" y="167616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E35-B4D3-4721-A954-372A9E4E16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22120" y="2276640"/>
            <a:ext cx="8762760" cy="1304640"/>
            <a:chOff x="222120" y="2276640"/>
            <a:chExt cx="8762760" cy="1304640"/>
          </a:xfrm>
        </p:grpSpPr>
        <p:sp>
          <p:nvSpPr>
            <p:cNvPr id="111" name=""/>
            <p:cNvSpPr/>
            <p:nvPr/>
          </p:nvSpPr>
          <p:spPr>
            <a:xfrm>
              <a:off x="222120" y="2276640"/>
              <a:ext cx="8762760" cy="1304640"/>
            </a:xfrm>
            <a:prstGeom prst="rect">
              <a:avLst/>
            </a:prstGeom>
            <a:solidFill>
              <a:srgbClr val="b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52680" y="2438280"/>
              <a:ext cx="1665000" cy="459720"/>
            </a:xfrm>
            <a:prstGeom prst="rect">
              <a:avLst/>
            </a:prstGeom>
            <a:solidFill>
              <a:srgbClr val="b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itial Re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8600" y="2362320"/>
            <a:ext cx="8763120" cy="4047480"/>
            <a:chOff x="228600" y="2362320"/>
            <a:chExt cx="8763120" cy="4047480"/>
          </a:xfrm>
        </p:grpSpPr>
        <p:sp>
          <p:nvSpPr>
            <p:cNvPr id="114" name=""/>
            <p:cNvSpPr/>
            <p:nvPr/>
          </p:nvSpPr>
          <p:spPr>
            <a:xfrm>
              <a:off x="228600" y="2523960"/>
              <a:ext cx="8763120" cy="3885840"/>
            </a:xfrm>
            <a:prstGeom prst="rect">
              <a:avLst/>
            </a:prstGeom>
            <a:solidFill>
              <a:srgbClr val="b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61040" y="2362320"/>
              <a:ext cx="183960" cy="456840"/>
            </a:xfrm>
            <a:prstGeom prst="rect">
              <a:avLst/>
            </a:prstGeom>
            <a:solidFill>
              <a:srgbClr val="b9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ervice vis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92560" y="2863800"/>
            <a:ext cx="2289240" cy="1716120"/>
          </a:xfrm>
          <a:custGeom>
            <a:avLst/>
            <a:gdLst/>
            <a:ahLst/>
            <a:rect l="l" t="t" r="r" b="b"/>
            <a:pathLst>
              <a:path w="2886" h="2164">
                <a:moveTo>
                  <a:pt x="425" y="1606"/>
                </a:moveTo>
                <a:lnTo>
                  <a:pt x="454" y="1683"/>
                </a:lnTo>
                <a:lnTo>
                  <a:pt x="487" y="1754"/>
                </a:lnTo>
                <a:lnTo>
                  <a:pt x="523" y="1823"/>
                </a:lnTo>
                <a:lnTo>
                  <a:pt x="564" y="1885"/>
                </a:lnTo>
                <a:lnTo>
                  <a:pt x="608" y="1943"/>
                </a:lnTo>
                <a:lnTo>
                  <a:pt x="654" y="1995"/>
                </a:lnTo>
                <a:lnTo>
                  <a:pt x="702" y="2039"/>
                </a:lnTo>
                <a:lnTo>
                  <a:pt x="752" y="2077"/>
                </a:lnTo>
                <a:lnTo>
                  <a:pt x="806" y="2110"/>
                </a:lnTo>
                <a:lnTo>
                  <a:pt x="860" y="2133"/>
                </a:lnTo>
                <a:lnTo>
                  <a:pt x="914" y="2150"/>
                </a:lnTo>
                <a:lnTo>
                  <a:pt x="970" y="2162"/>
                </a:lnTo>
                <a:lnTo>
                  <a:pt x="1027" y="2164"/>
                </a:lnTo>
                <a:lnTo>
                  <a:pt x="1083" y="2158"/>
                </a:lnTo>
                <a:lnTo>
                  <a:pt x="1139" y="2146"/>
                </a:lnTo>
                <a:lnTo>
                  <a:pt x="1193" y="2127"/>
                </a:lnTo>
                <a:lnTo>
                  <a:pt x="1247" y="2100"/>
                </a:lnTo>
                <a:lnTo>
                  <a:pt x="1299" y="2068"/>
                </a:lnTo>
                <a:lnTo>
                  <a:pt x="1351" y="2027"/>
                </a:lnTo>
                <a:lnTo>
                  <a:pt x="1397" y="1979"/>
                </a:lnTo>
                <a:lnTo>
                  <a:pt x="1443" y="1927"/>
                </a:lnTo>
                <a:lnTo>
                  <a:pt x="1489" y="1979"/>
                </a:lnTo>
                <a:lnTo>
                  <a:pt x="1535" y="2027"/>
                </a:lnTo>
                <a:lnTo>
                  <a:pt x="1587" y="2068"/>
                </a:lnTo>
                <a:lnTo>
                  <a:pt x="1639" y="2100"/>
                </a:lnTo>
                <a:lnTo>
                  <a:pt x="1693" y="2127"/>
                </a:lnTo>
                <a:lnTo>
                  <a:pt x="1747" y="2146"/>
                </a:lnTo>
                <a:lnTo>
                  <a:pt x="1803" y="2158"/>
                </a:lnTo>
                <a:lnTo>
                  <a:pt x="1858" y="2164"/>
                </a:lnTo>
                <a:lnTo>
                  <a:pt x="1916" y="2162"/>
                </a:lnTo>
                <a:lnTo>
                  <a:pt x="1972" y="2150"/>
                </a:lnTo>
                <a:lnTo>
                  <a:pt x="2026" y="2133"/>
                </a:lnTo>
                <a:lnTo>
                  <a:pt x="2080" y="2110"/>
                </a:lnTo>
                <a:lnTo>
                  <a:pt x="2134" y="2077"/>
                </a:lnTo>
                <a:lnTo>
                  <a:pt x="2184" y="2039"/>
                </a:lnTo>
                <a:lnTo>
                  <a:pt x="2232" y="1995"/>
                </a:lnTo>
                <a:lnTo>
                  <a:pt x="2278" y="1943"/>
                </a:lnTo>
                <a:lnTo>
                  <a:pt x="2322" y="1885"/>
                </a:lnTo>
                <a:lnTo>
                  <a:pt x="2362" y="1823"/>
                </a:lnTo>
                <a:lnTo>
                  <a:pt x="2399" y="1754"/>
                </a:lnTo>
                <a:lnTo>
                  <a:pt x="2432" y="1683"/>
                </a:lnTo>
                <a:lnTo>
                  <a:pt x="2461" y="1606"/>
                </a:lnTo>
                <a:lnTo>
                  <a:pt x="2499" y="1618"/>
                </a:lnTo>
                <a:lnTo>
                  <a:pt x="2537" y="1623"/>
                </a:lnTo>
                <a:lnTo>
                  <a:pt x="2576" y="1621"/>
                </a:lnTo>
                <a:lnTo>
                  <a:pt x="2614" y="1612"/>
                </a:lnTo>
                <a:lnTo>
                  <a:pt x="2653" y="1596"/>
                </a:lnTo>
                <a:lnTo>
                  <a:pt x="2688" y="1573"/>
                </a:lnTo>
                <a:lnTo>
                  <a:pt x="2722" y="1544"/>
                </a:lnTo>
                <a:lnTo>
                  <a:pt x="2755" y="1510"/>
                </a:lnTo>
                <a:lnTo>
                  <a:pt x="2784" y="1469"/>
                </a:lnTo>
                <a:lnTo>
                  <a:pt x="2809" y="1423"/>
                </a:lnTo>
                <a:lnTo>
                  <a:pt x="2832" y="1373"/>
                </a:lnTo>
                <a:lnTo>
                  <a:pt x="2851" y="1319"/>
                </a:lnTo>
                <a:lnTo>
                  <a:pt x="2866" y="1264"/>
                </a:lnTo>
                <a:lnTo>
                  <a:pt x="2876" y="1204"/>
                </a:lnTo>
                <a:lnTo>
                  <a:pt x="2884" y="1143"/>
                </a:lnTo>
                <a:lnTo>
                  <a:pt x="2886" y="1083"/>
                </a:lnTo>
                <a:lnTo>
                  <a:pt x="2884" y="1021"/>
                </a:lnTo>
                <a:lnTo>
                  <a:pt x="2876" y="960"/>
                </a:lnTo>
                <a:lnTo>
                  <a:pt x="2866" y="900"/>
                </a:lnTo>
                <a:lnTo>
                  <a:pt x="2851" y="844"/>
                </a:lnTo>
                <a:lnTo>
                  <a:pt x="2832" y="791"/>
                </a:lnTo>
                <a:lnTo>
                  <a:pt x="2809" y="741"/>
                </a:lnTo>
                <a:lnTo>
                  <a:pt x="2784" y="694"/>
                </a:lnTo>
                <a:lnTo>
                  <a:pt x="2755" y="654"/>
                </a:lnTo>
                <a:lnTo>
                  <a:pt x="2722" y="619"/>
                </a:lnTo>
                <a:lnTo>
                  <a:pt x="2688" y="591"/>
                </a:lnTo>
                <a:lnTo>
                  <a:pt x="2653" y="567"/>
                </a:lnTo>
                <a:lnTo>
                  <a:pt x="2614" y="552"/>
                </a:lnTo>
                <a:lnTo>
                  <a:pt x="2576" y="542"/>
                </a:lnTo>
                <a:lnTo>
                  <a:pt x="2537" y="541"/>
                </a:lnTo>
                <a:lnTo>
                  <a:pt x="2499" y="546"/>
                </a:lnTo>
                <a:lnTo>
                  <a:pt x="2461" y="558"/>
                </a:lnTo>
                <a:lnTo>
                  <a:pt x="2432" y="481"/>
                </a:lnTo>
                <a:lnTo>
                  <a:pt x="2399" y="410"/>
                </a:lnTo>
                <a:lnTo>
                  <a:pt x="2362" y="340"/>
                </a:lnTo>
                <a:lnTo>
                  <a:pt x="2322" y="279"/>
                </a:lnTo>
                <a:lnTo>
                  <a:pt x="2278" y="221"/>
                </a:lnTo>
                <a:lnTo>
                  <a:pt x="2232" y="169"/>
                </a:lnTo>
                <a:lnTo>
                  <a:pt x="2184" y="125"/>
                </a:lnTo>
                <a:lnTo>
                  <a:pt x="2134" y="87"/>
                </a:lnTo>
                <a:lnTo>
                  <a:pt x="2080" y="54"/>
                </a:lnTo>
                <a:lnTo>
                  <a:pt x="2026" y="31"/>
                </a:lnTo>
                <a:lnTo>
                  <a:pt x="1972" y="14"/>
                </a:lnTo>
                <a:lnTo>
                  <a:pt x="1916" y="2"/>
                </a:lnTo>
                <a:lnTo>
                  <a:pt x="1858" y="0"/>
                </a:lnTo>
                <a:lnTo>
                  <a:pt x="1803" y="6"/>
                </a:lnTo>
                <a:lnTo>
                  <a:pt x="1747" y="17"/>
                </a:lnTo>
                <a:lnTo>
                  <a:pt x="1693" y="37"/>
                </a:lnTo>
                <a:lnTo>
                  <a:pt x="1639" y="64"/>
                </a:lnTo>
                <a:lnTo>
                  <a:pt x="1587" y="96"/>
                </a:lnTo>
                <a:lnTo>
                  <a:pt x="1535" y="137"/>
                </a:lnTo>
                <a:lnTo>
                  <a:pt x="1489" y="185"/>
                </a:lnTo>
                <a:lnTo>
                  <a:pt x="1443" y="237"/>
                </a:lnTo>
                <a:lnTo>
                  <a:pt x="1397" y="185"/>
                </a:lnTo>
                <a:lnTo>
                  <a:pt x="1351" y="137"/>
                </a:lnTo>
                <a:lnTo>
                  <a:pt x="1299" y="96"/>
                </a:lnTo>
                <a:lnTo>
                  <a:pt x="1247" y="64"/>
                </a:lnTo>
                <a:lnTo>
                  <a:pt x="1193" y="37"/>
                </a:lnTo>
                <a:lnTo>
                  <a:pt x="1139" y="17"/>
                </a:lnTo>
                <a:lnTo>
                  <a:pt x="1083" y="6"/>
                </a:lnTo>
                <a:lnTo>
                  <a:pt x="1027" y="0"/>
                </a:lnTo>
                <a:lnTo>
                  <a:pt x="970" y="2"/>
                </a:lnTo>
                <a:lnTo>
                  <a:pt x="914" y="14"/>
                </a:lnTo>
                <a:lnTo>
                  <a:pt x="860" y="31"/>
                </a:lnTo>
                <a:lnTo>
                  <a:pt x="806" y="54"/>
                </a:lnTo>
                <a:lnTo>
                  <a:pt x="752" y="87"/>
                </a:lnTo>
                <a:lnTo>
                  <a:pt x="702" y="125"/>
                </a:lnTo>
                <a:lnTo>
                  <a:pt x="654" y="169"/>
                </a:lnTo>
                <a:lnTo>
                  <a:pt x="608" y="221"/>
                </a:lnTo>
                <a:lnTo>
                  <a:pt x="564" y="279"/>
                </a:lnTo>
                <a:lnTo>
                  <a:pt x="523" y="340"/>
                </a:lnTo>
                <a:lnTo>
                  <a:pt x="487" y="410"/>
                </a:lnTo>
                <a:lnTo>
                  <a:pt x="454" y="481"/>
                </a:lnTo>
                <a:lnTo>
                  <a:pt x="425" y="558"/>
                </a:lnTo>
                <a:lnTo>
                  <a:pt x="387" y="546"/>
                </a:lnTo>
                <a:lnTo>
                  <a:pt x="348" y="541"/>
                </a:lnTo>
                <a:lnTo>
                  <a:pt x="310" y="542"/>
                </a:lnTo>
                <a:lnTo>
                  <a:pt x="271" y="552"/>
                </a:lnTo>
                <a:lnTo>
                  <a:pt x="233" y="567"/>
                </a:lnTo>
                <a:lnTo>
                  <a:pt x="198" y="591"/>
                </a:lnTo>
                <a:lnTo>
                  <a:pt x="164" y="619"/>
                </a:lnTo>
                <a:lnTo>
                  <a:pt x="131" y="654"/>
                </a:lnTo>
                <a:lnTo>
                  <a:pt x="102" y="694"/>
                </a:lnTo>
                <a:lnTo>
                  <a:pt x="77" y="741"/>
                </a:lnTo>
                <a:lnTo>
                  <a:pt x="54" y="791"/>
                </a:lnTo>
                <a:lnTo>
                  <a:pt x="35" y="844"/>
                </a:lnTo>
                <a:lnTo>
                  <a:pt x="19" y="900"/>
                </a:lnTo>
                <a:lnTo>
                  <a:pt x="10" y="960"/>
                </a:lnTo>
                <a:lnTo>
                  <a:pt x="2" y="1021"/>
                </a:lnTo>
                <a:lnTo>
                  <a:pt x="0" y="1083"/>
                </a:lnTo>
                <a:lnTo>
                  <a:pt x="2" y="1143"/>
                </a:lnTo>
                <a:lnTo>
                  <a:pt x="10" y="1204"/>
                </a:lnTo>
                <a:lnTo>
                  <a:pt x="19" y="1264"/>
                </a:lnTo>
                <a:lnTo>
                  <a:pt x="35" y="1319"/>
                </a:lnTo>
                <a:lnTo>
                  <a:pt x="54" y="1373"/>
                </a:lnTo>
                <a:lnTo>
                  <a:pt x="77" y="1423"/>
                </a:lnTo>
                <a:lnTo>
                  <a:pt x="102" y="1469"/>
                </a:lnTo>
                <a:lnTo>
                  <a:pt x="131" y="1510"/>
                </a:lnTo>
                <a:lnTo>
                  <a:pt x="164" y="1544"/>
                </a:lnTo>
                <a:lnTo>
                  <a:pt x="198" y="1573"/>
                </a:lnTo>
                <a:lnTo>
                  <a:pt x="233" y="1596"/>
                </a:lnTo>
                <a:lnTo>
                  <a:pt x="271" y="1612"/>
                </a:lnTo>
                <a:lnTo>
                  <a:pt x="310" y="1621"/>
                </a:lnTo>
                <a:lnTo>
                  <a:pt x="348" y="1623"/>
                </a:lnTo>
                <a:lnTo>
                  <a:pt x="387" y="1618"/>
                </a:lnTo>
                <a:lnTo>
                  <a:pt x="425" y="1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165400" y="2295360"/>
            <a:ext cx="658800" cy="3776400"/>
            <a:chOff x="2165400" y="2295360"/>
            <a:chExt cx="658800" cy="377640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2165400" y="2295360"/>
              <a:ext cx="65880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165400" y="3605040"/>
              <a:ext cx="658800" cy="11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2165400" y="4914720"/>
              <a:ext cx="658800" cy="11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51920" y="160020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1600200"/>
            <a:ext cx="25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883120" y="2295360"/>
            <a:ext cx="1752480" cy="3666960"/>
            <a:chOff x="5883120" y="2295360"/>
            <a:chExt cx="1752480" cy="366696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5883120" y="2295360"/>
              <a:ext cx="99036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6035400" y="5074920"/>
              <a:ext cx="1257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CMONITR" descr=""/>
            <p:cNvPicPr/>
            <p:nvPr/>
          </p:nvPicPr>
          <p:blipFill>
            <a:blip r:embed="rId6"/>
            <a:stretch/>
          </p:blipFill>
          <p:spPr>
            <a:xfrm>
              <a:off x="6035400" y="3452760"/>
              <a:ext cx="847800" cy="8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7"/>
            <a:stretch/>
          </p:blipFill>
          <p:spPr>
            <a:xfrm>
              <a:off x="6644880" y="3605040"/>
              <a:ext cx="99072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7635960" y="2554200"/>
            <a:ext cx="104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t-T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222800" y="3452760"/>
            <a:ext cx="595440" cy="666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04600" y="4863960"/>
            <a:ext cx="205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PCable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2600" y="2828880"/>
            <a:ext cx="3352680" cy="1041480"/>
          </a:xfrm>
          <a:custGeom>
            <a:avLst/>
            <a:gdLst/>
            <a:ahLst/>
            <a:rect l="l" t="t" r="r" b="b"/>
            <a:pathLst>
              <a:path w="2112" h="656">
                <a:moveTo>
                  <a:pt x="2112" y="192"/>
                </a:moveTo>
                <a:cubicBezTo>
                  <a:pt x="1808" y="424"/>
                  <a:pt x="1504" y="656"/>
                  <a:pt x="1152" y="624"/>
                </a:cubicBezTo>
                <a:cubicBezTo>
                  <a:pt x="800" y="592"/>
                  <a:pt x="400" y="296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8920" y="3895560"/>
            <a:ext cx="3352680" cy="1800"/>
          </a:xfrm>
          <a:custGeom>
            <a:avLst/>
            <a:gdLst/>
            <a:ahLst/>
            <a:rect l="l" t="t" r="r" b="b"/>
            <a:pathLst>
              <a:path w="2112" h="1">
                <a:moveTo>
                  <a:pt x="2112" y="0"/>
                </a:moveTo>
                <a:cubicBezTo>
                  <a:pt x="2112" y="0"/>
                  <a:pt x="1056" y="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8920" y="3819600"/>
            <a:ext cx="3581280" cy="1600200"/>
          </a:xfrm>
          <a:custGeom>
            <a:avLst/>
            <a:gdLst/>
            <a:ahLst/>
            <a:rect l="l" t="t" r="r" b="b"/>
            <a:pathLst>
              <a:path w="2256" h="1008">
                <a:moveTo>
                  <a:pt x="2256" y="1008"/>
                </a:moveTo>
                <a:cubicBezTo>
                  <a:pt x="1892" y="504"/>
                  <a:pt x="1528" y="0"/>
                  <a:pt x="1152" y="0"/>
                </a:cubicBezTo>
                <a:cubicBezTo>
                  <a:pt x="776" y="0"/>
                  <a:pt x="388" y="504"/>
                  <a:pt x="0" y="1008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22600" y="2828880"/>
            <a:ext cx="3429000" cy="1244520"/>
          </a:xfrm>
          <a:custGeom>
            <a:avLst/>
            <a:gdLst/>
            <a:ahLst/>
            <a:rect l="l" t="t" r="r" b="b"/>
            <a:pathLst>
              <a:path w="2160" h="784">
                <a:moveTo>
                  <a:pt x="2160" y="672"/>
                </a:moveTo>
                <a:cubicBezTo>
                  <a:pt x="1836" y="728"/>
                  <a:pt x="1512" y="784"/>
                  <a:pt x="1152" y="672"/>
                </a:cubicBezTo>
                <a:cubicBezTo>
                  <a:pt x="792" y="560"/>
                  <a:pt x="396" y="28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171120" y="3492720"/>
            <a:ext cx="628920" cy="560160"/>
            <a:chOff x="6171120" y="3492720"/>
            <a:chExt cx="628920" cy="560160"/>
          </a:xfrm>
        </p:grpSpPr>
        <p:sp>
          <p:nvSpPr>
            <p:cNvPr id="137" name=""/>
            <p:cNvSpPr/>
            <p:nvPr/>
          </p:nvSpPr>
          <p:spPr>
            <a:xfrm rot="21391800">
              <a:off x="6186600" y="3758040"/>
              <a:ext cx="605520" cy="276480"/>
            </a:xfrm>
            <a:custGeom>
              <a:avLst/>
              <a:gdLst/>
              <a:ahLst/>
              <a:rect l="l" t="t" r="r" b="b"/>
              <a:pathLst>
                <a:path w="7792" h="4429">
                  <a:moveTo>
                    <a:pt x="0" y="4388"/>
                  </a:moveTo>
                  <a:lnTo>
                    <a:pt x="7792" y="4429"/>
                  </a:lnTo>
                  <a:lnTo>
                    <a:pt x="7375" y="3207"/>
                  </a:lnTo>
                  <a:lnTo>
                    <a:pt x="7134" y="1682"/>
                  </a:lnTo>
                  <a:lnTo>
                    <a:pt x="5011" y="793"/>
                  </a:lnTo>
                  <a:lnTo>
                    <a:pt x="2981" y="0"/>
                  </a:lnTo>
                  <a:lnTo>
                    <a:pt x="2363" y="637"/>
                  </a:lnTo>
                  <a:lnTo>
                    <a:pt x="606" y="1797"/>
                  </a:lnTo>
                  <a:lnTo>
                    <a:pt x="83" y="2591"/>
                  </a:lnTo>
                  <a:lnTo>
                    <a:pt x="0" y="43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1391800">
              <a:off x="6384960" y="3740760"/>
              <a:ext cx="334080" cy="287640"/>
            </a:xfrm>
            <a:custGeom>
              <a:avLst/>
              <a:gdLst/>
              <a:ahLst/>
              <a:rect l="l" t="t" r="r" b="b"/>
              <a:pathLst>
                <a:path w="4300" h="4616">
                  <a:moveTo>
                    <a:pt x="312" y="62"/>
                  </a:moveTo>
                  <a:lnTo>
                    <a:pt x="395" y="156"/>
                  </a:lnTo>
                  <a:lnTo>
                    <a:pt x="228" y="249"/>
                  </a:lnTo>
                  <a:lnTo>
                    <a:pt x="0" y="723"/>
                  </a:lnTo>
                  <a:lnTo>
                    <a:pt x="42" y="3198"/>
                  </a:lnTo>
                  <a:lnTo>
                    <a:pt x="498" y="3642"/>
                  </a:lnTo>
                  <a:lnTo>
                    <a:pt x="1058" y="4523"/>
                  </a:lnTo>
                  <a:lnTo>
                    <a:pt x="2012" y="4574"/>
                  </a:lnTo>
                  <a:lnTo>
                    <a:pt x="3057" y="4616"/>
                  </a:lnTo>
                  <a:lnTo>
                    <a:pt x="4166" y="3322"/>
                  </a:lnTo>
                  <a:lnTo>
                    <a:pt x="4300" y="1738"/>
                  </a:lnTo>
                  <a:lnTo>
                    <a:pt x="2426" y="1013"/>
                  </a:lnTo>
                  <a:lnTo>
                    <a:pt x="1939" y="1262"/>
                  </a:lnTo>
                  <a:lnTo>
                    <a:pt x="447" y="0"/>
                  </a:lnTo>
                  <a:lnTo>
                    <a:pt x="312" y="62"/>
                  </a:lnTo>
                  <a:close/>
                </a:path>
              </a:pathLst>
            </a:custGeom>
            <a:solidFill>
              <a:srgbClr val="ddd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391800">
              <a:off x="6577560" y="3747240"/>
              <a:ext cx="122040" cy="199440"/>
            </a:xfrm>
            <a:custGeom>
              <a:avLst/>
              <a:gdLst/>
              <a:ahLst/>
              <a:rect l="l" t="t" r="r" b="b"/>
              <a:pathLst>
                <a:path w="1574" h="3197">
                  <a:moveTo>
                    <a:pt x="610" y="826"/>
                  </a:moveTo>
                  <a:lnTo>
                    <a:pt x="0" y="982"/>
                  </a:lnTo>
                  <a:lnTo>
                    <a:pt x="22" y="1241"/>
                  </a:lnTo>
                  <a:lnTo>
                    <a:pt x="476" y="1582"/>
                  </a:lnTo>
                  <a:lnTo>
                    <a:pt x="248" y="2441"/>
                  </a:lnTo>
                  <a:lnTo>
                    <a:pt x="424" y="3197"/>
                  </a:lnTo>
                  <a:lnTo>
                    <a:pt x="1056" y="2980"/>
                  </a:lnTo>
                  <a:lnTo>
                    <a:pt x="1180" y="2824"/>
                  </a:lnTo>
                  <a:lnTo>
                    <a:pt x="1553" y="1768"/>
                  </a:lnTo>
                  <a:lnTo>
                    <a:pt x="1574" y="1520"/>
                  </a:lnTo>
                  <a:lnTo>
                    <a:pt x="1356" y="1292"/>
                  </a:lnTo>
                  <a:lnTo>
                    <a:pt x="1243" y="940"/>
                  </a:lnTo>
                  <a:lnTo>
                    <a:pt x="1388" y="495"/>
                  </a:lnTo>
                  <a:lnTo>
                    <a:pt x="1356" y="0"/>
                  </a:lnTo>
                  <a:lnTo>
                    <a:pt x="1201" y="72"/>
                  </a:lnTo>
                  <a:lnTo>
                    <a:pt x="1139" y="660"/>
                  </a:lnTo>
                  <a:lnTo>
                    <a:pt x="610" y="826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1391800">
              <a:off x="6602400" y="3849480"/>
              <a:ext cx="88920" cy="95400"/>
            </a:xfrm>
            <a:custGeom>
              <a:avLst/>
              <a:gdLst/>
              <a:ahLst/>
              <a:rect l="l" t="t" r="r" b="b"/>
              <a:pathLst>
                <a:path w="1142" h="1532">
                  <a:moveTo>
                    <a:pt x="817" y="318"/>
                  </a:moveTo>
                  <a:lnTo>
                    <a:pt x="795" y="433"/>
                  </a:lnTo>
                  <a:lnTo>
                    <a:pt x="700" y="643"/>
                  </a:lnTo>
                  <a:lnTo>
                    <a:pt x="520" y="831"/>
                  </a:lnTo>
                  <a:lnTo>
                    <a:pt x="361" y="867"/>
                  </a:lnTo>
                  <a:lnTo>
                    <a:pt x="325" y="954"/>
                  </a:lnTo>
                  <a:lnTo>
                    <a:pt x="397" y="1048"/>
                  </a:lnTo>
                  <a:lnTo>
                    <a:pt x="426" y="1164"/>
                  </a:lnTo>
                  <a:lnTo>
                    <a:pt x="860" y="730"/>
                  </a:lnTo>
                  <a:lnTo>
                    <a:pt x="882" y="418"/>
                  </a:lnTo>
                  <a:lnTo>
                    <a:pt x="955" y="318"/>
                  </a:lnTo>
                  <a:lnTo>
                    <a:pt x="1005" y="253"/>
                  </a:lnTo>
                  <a:lnTo>
                    <a:pt x="968" y="7"/>
                  </a:lnTo>
                  <a:lnTo>
                    <a:pt x="1078" y="0"/>
                  </a:lnTo>
                  <a:lnTo>
                    <a:pt x="1142" y="376"/>
                  </a:lnTo>
                  <a:lnTo>
                    <a:pt x="997" y="896"/>
                  </a:lnTo>
                  <a:lnTo>
                    <a:pt x="853" y="1221"/>
                  </a:lnTo>
                  <a:lnTo>
                    <a:pt x="658" y="1351"/>
                  </a:lnTo>
                  <a:lnTo>
                    <a:pt x="614" y="1417"/>
                  </a:lnTo>
                  <a:lnTo>
                    <a:pt x="245" y="1525"/>
                  </a:lnTo>
                  <a:lnTo>
                    <a:pt x="116" y="1532"/>
                  </a:lnTo>
                  <a:lnTo>
                    <a:pt x="0" y="1033"/>
                  </a:lnTo>
                  <a:lnTo>
                    <a:pt x="6" y="852"/>
                  </a:lnTo>
                  <a:lnTo>
                    <a:pt x="160" y="628"/>
                  </a:lnTo>
                  <a:lnTo>
                    <a:pt x="166" y="969"/>
                  </a:lnTo>
                  <a:lnTo>
                    <a:pt x="123" y="1164"/>
                  </a:lnTo>
                  <a:lnTo>
                    <a:pt x="238" y="1395"/>
                  </a:lnTo>
                  <a:lnTo>
                    <a:pt x="267" y="1243"/>
                  </a:lnTo>
                  <a:lnTo>
                    <a:pt x="238" y="982"/>
                  </a:lnTo>
                  <a:lnTo>
                    <a:pt x="224" y="556"/>
                  </a:lnTo>
                  <a:lnTo>
                    <a:pt x="542" y="20"/>
                  </a:lnTo>
                  <a:lnTo>
                    <a:pt x="700" y="194"/>
                  </a:lnTo>
                  <a:lnTo>
                    <a:pt x="817" y="318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1391800">
              <a:off x="6617880" y="3831480"/>
              <a:ext cx="100080" cy="110880"/>
            </a:xfrm>
            <a:custGeom>
              <a:avLst/>
              <a:gdLst/>
              <a:ahLst/>
              <a:rect l="l" t="t" r="r" b="b"/>
              <a:pathLst>
                <a:path w="1285" h="1780">
                  <a:moveTo>
                    <a:pt x="40" y="1780"/>
                  </a:moveTo>
                  <a:lnTo>
                    <a:pt x="155" y="1646"/>
                  </a:lnTo>
                  <a:lnTo>
                    <a:pt x="31" y="1532"/>
                  </a:lnTo>
                  <a:lnTo>
                    <a:pt x="0" y="1367"/>
                  </a:lnTo>
                  <a:lnTo>
                    <a:pt x="11" y="1243"/>
                  </a:lnTo>
                  <a:lnTo>
                    <a:pt x="145" y="1501"/>
                  </a:lnTo>
                  <a:lnTo>
                    <a:pt x="321" y="1553"/>
                  </a:lnTo>
                  <a:lnTo>
                    <a:pt x="486" y="1429"/>
                  </a:lnTo>
                  <a:lnTo>
                    <a:pt x="724" y="1025"/>
                  </a:lnTo>
                  <a:lnTo>
                    <a:pt x="766" y="807"/>
                  </a:lnTo>
                  <a:lnTo>
                    <a:pt x="745" y="674"/>
                  </a:lnTo>
                  <a:lnTo>
                    <a:pt x="838" y="497"/>
                  </a:lnTo>
                  <a:lnTo>
                    <a:pt x="807" y="300"/>
                  </a:lnTo>
                  <a:lnTo>
                    <a:pt x="942" y="290"/>
                  </a:lnTo>
                  <a:lnTo>
                    <a:pt x="1036" y="342"/>
                  </a:lnTo>
                  <a:lnTo>
                    <a:pt x="1056" y="197"/>
                  </a:lnTo>
                  <a:lnTo>
                    <a:pt x="869" y="0"/>
                  </a:lnTo>
                  <a:lnTo>
                    <a:pt x="1098" y="93"/>
                  </a:lnTo>
                  <a:lnTo>
                    <a:pt x="1285" y="373"/>
                  </a:lnTo>
                  <a:lnTo>
                    <a:pt x="880" y="1387"/>
                  </a:lnTo>
                  <a:lnTo>
                    <a:pt x="724" y="1294"/>
                  </a:lnTo>
                  <a:lnTo>
                    <a:pt x="642" y="1532"/>
                  </a:lnTo>
                  <a:lnTo>
                    <a:pt x="362" y="1718"/>
                  </a:lnTo>
                  <a:lnTo>
                    <a:pt x="40" y="178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1391800">
              <a:off x="6603840" y="3675240"/>
              <a:ext cx="64440" cy="135720"/>
            </a:xfrm>
            <a:custGeom>
              <a:avLst/>
              <a:gdLst/>
              <a:ahLst/>
              <a:rect l="l" t="t" r="r" b="b"/>
              <a:pathLst>
                <a:path w="832" h="2174">
                  <a:moveTo>
                    <a:pt x="796" y="1544"/>
                  </a:moveTo>
                  <a:lnTo>
                    <a:pt x="757" y="1707"/>
                  </a:lnTo>
                  <a:lnTo>
                    <a:pt x="720" y="1835"/>
                  </a:lnTo>
                  <a:lnTo>
                    <a:pt x="510" y="1882"/>
                  </a:lnTo>
                  <a:lnTo>
                    <a:pt x="0" y="2174"/>
                  </a:lnTo>
                  <a:lnTo>
                    <a:pt x="68" y="1904"/>
                  </a:lnTo>
                  <a:lnTo>
                    <a:pt x="353" y="1412"/>
                  </a:lnTo>
                  <a:lnTo>
                    <a:pt x="262" y="1219"/>
                  </a:lnTo>
                  <a:lnTo>
                    <a:pt x="353" y="817"/>
                  </a:lnTo>
                  <a:lnTo>
                    <a:pt x="522" y="272"/>
                  </a:lnTo>
                  <a:lnTo>
                    <a:pt x="691" y="0"/>
                  </a:lnTo>
                  <a:lnTo>
                    <a:pt x="664" y="247"/>
                  </a:lnTo>
                  <a:lnTo>
                    <a:pt x="782" y="480"/>
                  </a:lnTo>
                  <a:lnTo>
                    <a:pt x="832" y="960"/>
                  </a:lnTo>
                  <a:lnTo>
                    <a:pt x="794" y="1257"/>
                  </a:lnTo>
                  <a:lnTo>
                    <a:pt x="796" y="154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391800">
              <a:off x="6626160" y="3681720"/>
              <a:ext cx="41040" cy="107640"/>
            </a:xfrm>
            <a:custGeom>
              <a:avLst/>
              <a:gdLst/>
              <a:ahLst/>
              <a:rect l="l" t="t" r="r" b="b"/>
              <a:pathLst>
                <a:path w="529" h="1727">
                  <a:moveTo>
                    <a:pt x="73" y="880"/>
                  </a:moveTo>
                  <a:lnTo>
                    <a:pt x="166" y="662"/>
                  </a:lnTo>
                  <a:lnTo>
                    <a:pt x="342" y="829"/>
                  </a:lnTo>
                  <a:lnTo>
                    <a:pt x="239" y="466"/>
                  </a:lnTo>
                  <a:lnTo>
                    <a:pt x="301" y="238"/>
                  </a:lnTo>
                  <a:lnTo>
                    <a:pt x="415" y="580"/>
                  </a:lnTo>
                  <a:lnTo>
                    <a:pt x="435" y="953"/>
                  </a:lnTo>
                  <a:lnTo>
                    <a:pt x="353" y="1438"/>
                  </a:lnTo>
                  <a:lnTo>
                    <a:pt x="249" y="1727"/>
                  </a:lnTo>
                  <a:lnTo>
                    <a:pt x="404" y="1708"/>
                  </a:lnTo>
                  <a:lnTo>
                    <a:pt x="497" y="1345"/>
                  </a:lnTo>
                  <a:lnTo>
                    <a:pt x="529" y="984"/>
                  </a:lnTo>
                  <a:lnTo>
                    <a:pt x="508" y="600"/>
                  </a:lnTo>
                  <a:lnTo>
                    <a:pt x="466" y="372"/>
                  </a:lnTo>
                  <a:lnTo>
                    <a:pt x="404" y="197"/>
                  </a:lnTo>
                  <a:lnTo>
                    <a:pt x="290" y="0"/>
                  </a:lnTo>
                  <a:lnTo>
                    <a:pt x="135" y="384"/>
                  </a:lnTo>
                  <a:lnTo>
                    <a:pt x="0" y="891"/>
                  </a:lnTo>
                  <a:lnTo>
                    <a:pt x="73" y="88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391800">
              <a:off x="6404760" y="3595680"/>
              <a:ext cx="246600" cy="370440"/>
            </a:xfrm>
            <a:custGeom>
              <a:avLst/>
              <a:gdLst/>
              <a:ahLst/>
              <a:rect l="l" t="t" r="r" b="b"/>
              <a:pathLst>
                <a:path w="3170" h="5943">
                  <a:moveTo>
                    <a:pt x="1053" y="255"/>
                  </a:moveTo>
                  <a:lnTo>
                    <a:pt x="489" y="1078"/>
                  </a:lnTo>
                  <a:lnTo>
                    <a:pt x="466" y="2539"/>
                  </a:lnTo>
                  <a:lnTo>
                    <a:pt x="61" y="2461"/>
                  </a:lnTo>
                  <a:lnTo>
                    <a:pt x="0" y="2971"/>
                  </a:lnTo>
                  <a:lnTo>
                    <a:pt x="136" y="3473"/>
                  </a:lnTo>
                  <a:lnTo>
                    <a:pt x="825" y="5943"/>
                  </a:lnTo>
                  <a:lnTo>
                    <a:pt x="1405" y="4089"/>
                  </a:lnTo>
                  <a:lnTo>
                    <a:pt x="1788" y="3556"/>
                  </a:lnTo>
                  <a:lnTo>
                    <a:pt x="2422" y="2771"/>
                  </a:lnTo>
                  <a:lnTo>
                    <a:pt x="2896" y="2163"/>
                  </a:lnTo>
                  <a:lnTo>
                    <a:pt x="3008" y="1618"/>
                  </a:lnTo>
                  <a:lnTo>
                    <a:pt x="3170" y="683"/>
                  </a:lnTo>
                  <a:lnTo>
                    <a:pt x="1989" y="0"/>
                  </a:lnTo>
                  <a:lnTo>
                    <a:pt x="1053" y="255"/>
                  </a:lnTo>
                  <a:close/>
                </a:path>
              </a:pathLst>
            </a:custGeom>
            <a:solidFill>
              <a:srgbClr val="ff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1391800">
              <a:off x="6587280" y="3688200"/>
              <a:ext cx="36360" cy="12960"/>
            </a:xfrm>
            <a:custGeom>
              <a:avLst/>
              <a:gdLst/>
              <a:ahLst/>
              <a:rect l="l" t="t" r="r" b="b"/>
              <a:pathLst>
                <a:path w="474" h="215">
                  <a:moveTo>
                    <a:pt x="92" y="16"/>
                  </a:moveTo>
                  <a:lnTo>
                    <a:pt x="32" y="52"/>
                  </a:lnTo>
                  <a:lnTo>
                    <a:pt x="0" y="116"/>
                  </a:lnTo>
                  <a:lnTo>
                    <a:pt x="144" y="184"/>
                  </a:lnTo>
                  <a:lnTo>
                    <a:pt x="270" y="215"/>
                  </a:lnTo>
                  <a:lnTo>
                    <a:pt x="354" y="208"/>
                  </a:lnTo>
                  <a:lnTo>
                    <a:pt x="474" y="160"/>
                  </a:lnTo>
                  <a:lnTo>
                    <a:pt x="438" y="61"/>
                  </a:lnTo>
                  <a:lnTo>
                    <a:pt x="322" y="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391800">
              <a:off x="6496920" y="3676680"/>
              <a:ext cx="37800" cy="14760"/>
            </a:xfrm>
            <a:custGeom>
              <a:avLst/>
              <a:gdLst/>
              <a:ahLst/>
              <a:rect l="l" t="t" r="r" b="b"/>
              <a:pathLst>
                <a:path w="490" h="243">
                  <a:moveTo>
                    <a:pt x="0" y="33"/>
                  </a:moveTo>
                  <a:lnTo>
                    <a:pt x="159" y="0"/>
                  </a:lnTo>
                  <a:lnTo>
                    <a:pt x="271" y="21"/>
                  </a:lnTo>
                  <a:lnTo>
                    <a:pt x="395" y="72"/>
                  </a:lnTo>
                  <a:lnTo>
                    <a:pt x="474" y="136"/>
                  </a:lnTo>
                  <a:lnTo>
                    <a:pt x="490" y="223"/>
                  </a:lnTo>
                  <a:lnTo>
                    <a:pt x="362" y="243"/>
                  </a:lnTo>
                  <a:lnTo>
                    <a:pt x="139" y="22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1391800">
              <a:off x="6574680" y="3679920"/>
              <a:ext cx="16200" cy="16200"/>
            </a:xfrm>
            <a:custGeom>
              <a:avLst/>
              <a:gdLst/>
              <a:ahLst/>
              <a:rect l="l" t="t" r="r" b="b"/>
              <a:pathLst>
                <a:path w="212" h="263">
                  <a:moveTo>
                    <a:pt x="144" y="0"/>
                  </a:moveTo>
                  <a:lnTo>
                    <a:pt x="45" y="80"/>
                  </a:lnTo>
                  <a:lnTo>
                    <a:pt x="0" y="160"/>
                  </a:lnTo>
                  <a:lnTo>
                    <a:pt x="8" y="263"/>
                  </a:lnTo>
                  <a:lnTo>
                    <a:pt x="96" y="207"/>
                  </a:lnTo>
                  <a:lnTo>
                    <a:pt x="212" y="5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1391800">
              <a:off x="6376320" y="3691440"/>
              <a:ext cx="48240" cy="52920"/>
            </a:xfrm>
            <a:custGeom>
              <a:avLst/>
              <a:gdLst/>
              <a:ahLst/>
              <a:rect l="l" t="t" r="r" b="b"/>
              <a:pathLst>
                <a:path w="625" h="846">
                  <a:moveTo>
                    <a:pt x="349" y="85"/>
                  </a:moveTo>
                  <a:lnTo>
                    <a:pt x="368" y="269"/>
                  </a:lnTo>
                  <a:lnTo>
                    <a:pt x="625" y="331"/>
                  </a:lnTo>
                  <a:lnTo>
                    <a:pt x="589" y="846"/>
                  </a:lnTo>
                  <a:lnTo>
                    <a:pt x="270" y="759"/>
                  </a:lnTo>
                  <a:lnTo>
                    <a:pt x="0" y="490"/>
                  </a:lnTo>
                  <a:lnTo>
                    <a:pt x="172" y="0"/>
                  </a:lnTo>
                  <a:lnTo>
                    <a:pt x="349" y="8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1391800">
              <a:off x="6384600" y="3695040"/>
              <a:ext cx="41040" cy="36000"/>
            </a:xfrm>
            <a:custGeom>
              <a:avLst/>
              <a:gdLst/>
              <a:ahLst/>
              <a:rect l="l" t="t" r="r" b="b"/>
              <a:pathLst>
                <a:path w="527" h="582">
                  <a:moveTo>
                    <a:pt x="164" y="390"/>
                  </a:moveTo>
                  <a:lnTo>
                    <a:pt x="387" y="418"/>
                  </a:lnTo>
                  <a:lnTo>
                    <a:pt x="257" y="479"/>
                  </a:lnTo>
                  <a:lnTo>
                    <a:pt x="382" y="544"/>
                  </a:lnTo>
                  <a:lnTo>
                    <a:pt x="191" y="582"/>
                  </a:lnTo>
                  <a:lnTo>
                    <a:pt x="28" y="455"/>
                  </a:lnTo>
                  <a:lnTo>
                    <a:pt x="0" y="335"/>
                  </a:lnTo>
                  <a:lnTo>
                    <a:pt x="80" y="102"/>
                  </a:lnTo>
                  <a:lnTo>
                    <a:pt x="205" y="0"/>
                  </a:lnTo>
                  <a:lnTo>
                    <a:pt x="429" y="28"/>
                  </a:lnTo>
                  <a:lnTo>
                    <a:pt x="527" y="148"/>
                  </a:lnTo>
                  <a:lnTo>
                    <a:pt x="480" y="293"/>
                  </a:lnTo>
                  <a:lnTo>
                    <a:pt x="164" y="39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1391800">
              <a:off x="6405480" y="3696480"/>
              <a:ext cx="11880" cy="17280"/>
            </a:xfrm>
            <a:custGeom>
              <a:avLst/>
              <a:gdLst/>
              <a:ahLst/>
              <a:rect l="l" t="t" r="r" b="b"/>
              <a:pathLst>
                <a:path w="158" h="279">
                  <a:moveTo>
                    <a:pt x="0" y="70"/>
                  </a:moveTo>
                  <a:lnTo>
                    <a:pt x="158" y="279"/>
                  </a:lnTo>
                  <a:lnTo>
                    <a:pt x="130" y="121"/>
                  </a:lnTo>
                  <a:lnTo>
                    <a:pt x="5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1391800">
              <a:off x="6386400" y="3601080"/>
              <a:ext cx="67680" cy="121320"/>
            </a:xfrm>
            <a:custGeom>
              <a:avLst/>
              <a:gdLst/>
              <a:ahLst/>
              <a:rect l="l" t="t" r="r" b="b"/>
              <a:pathLst>
                <a:path w="871" h="1946">
                  <a:moveTo>
                    <a:pt x="871" y="0"/>
                  </a:moveTo>
                  <a:lnTo>
                    <a:pt x="0" y="600"/>
                  </a:lnTo>
                  <a:lnTo>
                    <a:pt x="11" y="1470"/>
                  </a:lnTo>
                  <a:lnTo>
                    <a:pt x="331" y="1521"/>
                  </a:lnTo>
                  <a:lnTo>
                    <a:pt x="415" y="1573"/>
                  </a:lnTo>
                  <a:lnTo>
                    <a:pt x="509" y="1946"/>
                  </a:lnTo>
                  <a:lnTo>
                    <a:pt x="654" y="1149"/>
                  </a:lnTo>
                  <a:lnTo>
                    <a:pt x="643" y="414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391800">
              <a:off x="6376680" y="3502800"/>
              <a:ext cx="322200" cy="163080"/>
            </a:xfrm>
            <a:custGeom>
              <a:avLst/>
              <a:gdLst/>
              <a:ahLst/>
              <a:rect l="l" t="t" r="r" b="b"/>
              <a:pathLst>
                <a:path w="4146" h="2619">
                  <a:moveTo>
                    <a:pt x="0" y="1232"/>
                  </a:moveTo>
                  <a:lnTo>
                    <a:pt x="207" y="942"/>
                  </a:lnTo>
                  <a:lnTo>
                    <a:pt x="778" y="393"/>
                  </a:lnTo>
                  <a:lnTo>
                    <a:pt x="1514" y="83"/>
                  </a:lnTo>
                  <a:lnTo>
                    <a:pt x="2343" y="0"/>
                  </a:lnTo>
                  <a:lnTo>
                    <a:pt x="2974" y="300"/>
                  </a:lnTo>
                  <a:lnTo>
                    <a:pt x="3037" y="549"/>
                  </a:lnTo>
                  <a:lnTo>
                    <a:pt x="3337" y="714"/>
                  </a:lnTo>
                  <a:lnTo>
                    <a:pt x="3865" y="1325"/>
                  </a:lnTo>
                  <a:lnTo>
                    <a:pt x="4063" y="1822"/>
                  </a:lnTo>
                  <a:lnTo>
                    <a:pt x="4146" y="1978"/>
                  </a:lnTo>
                  <a:lnTo>
                    <a:pt x="4031" y="2330"/>
                  </a:lnTo>
                  <a:lnTo>
                    <a:pt x="3585" y="2619"/>
                  </a:lnTo>
                  <a:lnTo>
                    <a:pt x="3544" y="2070"/>
                  </a:lnTo>
                  <a:lnTo>
                    <a:pt x="3503" y="1781"/>
                  </a:lnTo>
                  <a:lnTo>
                    <a:pt x="3337" y="1708"/>
                  </a:lnTo>
                  <a:lnTo>
                    <a:pt x="2974" y="1956"/>
                  </a:lnTo>
                  <a:lnTo>
                    <a:pt x="2602" y="1594"/>
                  </a:lnTo>
                  <a:lnTo>
                    <a:pt x="1763" y="1481"/>
                  </a:lnTo>
                  <a:lnTo>
                    <a:pt x="974" y="1605"/>
                  </a:lnTo>
                  <a:lnTo>
                    <a:pt x="414" y="2018"/>
                  </a:lnTo>
                  <a:lnTo>
                    <a:pt x="0" y="1481"/>
                  </a:lnTo>
                  <a:lnTo>
                    <a:pt x="0" y="1232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391800">
              <a:off x="6661080" y="3742200"/>
              <a:ext cx="23400" cy="61920"/>
            </a:xfrm>
            <a:custGeom>
              <a:avLst/>
              <a:gdLst/>
              <a:ahLst/>
              <a:rect l="l" t="t" r="r" b="b"/>
              <a:pathLst>
                <a:path w="306" h="1000">
                  <a:moveTo>
                    <a:pt x="100" y="349"/>
                  </a:moveTo>
                  <a:lnTo>
                    <a:pt x="188" y="455"/>
                  </a:lnTo>
                  <a:lnTo>
                    <a:pt x="149" y="528"/>
                  </a:lnTo>
                  <a:lnTo>
                    <a:pt x="149" y="733"/>
                  </a:lnTo>
                  <a:lnTo>
                    <a:pt x="88" y="900"/>
                  </a:lnTo>
                  <a:lnTo>
                    <a:pt x="122" y="961"/>
                  </a:lnTo>
                  <a:lnTo>
                    <a:pt x="216" y="583"/>
                  </a:lnTo>
                  <a:lnTo>
                    <a:pt x="216" y="449"/>
                  </a:lnTo>
                  <a:lnTo>
                    <a:pt x="82" y="271"/>
                  </a:lnTo>
                  <a:lnTo>
                    <a:pt x="82" y="260"/>
                  </a:lnTo>
                  <a:lnTo>
                    <a:pt x="82" y="229"/>
                  </a:lnTo>
                  <a:lnTo>
                    <a:pt x="84" y="135"/>
                  </a:lnTo>
                  <a:lnTo>
                    <a:pt x="104" y="0"/>
                  </a:lnTo>
                  <a:lnTo>
                    <a:pt x="261" y="6"/>
                  </a:lnTo>
                  <a:lnTo>
                    <a:pt x="288" y="217"/>
                  </a:lnTo>
                  <a:lnTo>
                    <a:pt x="306" y="344"/>
                  </a:lnTo>
                  <a:lnTo>
                    <a:pt x="272" y="594"/>
                  </a:lnTo>
                  <a:lnTo>
                    <a:pt x="161" y="1000"/>
                  </a:lnTo>
                  <a:lnTo>
                    <a:pt x="71" y="967"/>
                  </a:lnTo>
                  <a:lnTo>
                    <a:pt x="0" y="745"/>
                  </a:lnTo>
                  <a:lnTo>
                    <a:pt x="100" y="34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1391800">
              <a:off x="6597360" y="3791160"/>
              <a:ext cx="21600" cy="21600"/>
            </a:xfrm>
            <a:custGeom>
              <a:avLst/>
              <a:gdLst/>
              <a:ahLst/>
              <a:rect l="l" t="t" r="r" b="b"/>
              <a:pathLst>
                <a:path w="279" h="348">
                  <a:moveTo>
                    <a:pt x="279" y="0"/>
                  </a:moveTo>
                  <a:lnTo>
                    <a:pt x="135" y="326"/>
                  </a:lnTo>
                  <a:lnTo>
                    <a:pt x="75" y="348"/>
                  </a:lnTo>
                  <a:lnTo>
                    <a:pt x="0" y="337"/>
                  </a:lnTo>
                  <a:lnTo>
                    <a:pt x="45" y="276"/>
                  </a:lnTo>
                  <a:lnTo>
                    <a:pt x="184" y="42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391800">
              <a:off x="6518160" y="3844800"/>
              <a:ext cx="21240" cy="32400"/>
            </a:xfrm>
            <a:custGeom>
              <a:avLst/>
              <a:gdLst/>
              <a:ahLst/>
              <a:rect l="l" t="t" r="r" b="b"/>
              <a:pathLst>
                <a:path w="276" h="521">
                  <a:moveTo>
                    <a:pt x="73" y="297"/>
                  </a:moveTo>
                  <a:lnTo>
                    <a:pt x="131" y="167"/>
                  </a:lnTo>
                  <a:lnTo>
                    <a:pt x="276" y="44"/>
                  </a:lnTo>
                  <a:lnTo>
                    <a:pt x="153" y="0"/>
                  </a:lnTo>
                  <a:lnTo>
                    <a:pt x="0" y="108"/>
                  </a:lnTo>
                  <a:lnTo>
                    <a:pt x="15" y="376"/>
                  </a:lnTo>
                  <a:lnTo>
                    <a:pt x="131" y="521"/>
                  </a:lnTo>
                  <a:lnTo>
                    <a:pt x="73" y="297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391800">
              <a:off x="6510960" y="3807000"/>
              <a:ext cx="86040" cy="91440"/>
            </a:xfrm>
            <a:custGeom>
              <a:avLst/>
              <a:gdLst/>
              <a:ahLst/>
              <a:rect l="l" t="t" r="r" b="b"/>
              <a:pathLst>
                <a:path w="1108" h="1469">
                  <a:moveTo>
                    <a:pt x="173" y="789"/>
                  </a:moveTo>
                  <a:lnTo>
                    <a:pt x="167" y="926"/>
                  </a:lnTo>
                  <a:lnTo>
                    <a:pt x="312" y="1114"/>
                  </a:lnTo>
                  <a:lnTo>
                    <a:pt x="428" y="1143"/>
                  </a:lnTo>
                  <a:lnTo>
                    <a:pt x="666" y="1034"/>
                  </a:lnTo>
                  <a:lnTo>
                    <a:pt x="897" y="571"/>
                  </a:lnTo>
                  <a:lnTo>
                    <a:pt x="840" y="435"/>
                  </a:lnTo>
                  <a:lnTo>
                    <a:pt x="767" y="362"/>
                  </a:lnTo>
                  <a:lnTo>
                    <a:pt x="521" y="529"/>
                  </a:lnTo>
                  <a:lnTo>
                    <a:pt x="253" y="716"/>
                  </a:lnTo>
                  <a:lnTo>
                    <a:pt x="224" y="608"/>
                  </a:lnTo>
                  <a:lnTo>
                    <a:pt x="659" y="297"/>
                  </a:lnTo>
                  <a:lnTo>
                    <a:pt x="732" y="0"/>
                  </a:lnTo>
                  <a:lnTo>
                    <a:pt x="869" y="160"/>
                  </a:lnTo>
                  <a:lnTo>
                    <a:pt x="905" y="305"/>
                  </a:lnTo>
                  <a:lnTo>
                    <a:pt x="1108" y="384"/>
                  </a:lnTo>
                  <a:lnTo>
                    <a:pt x="1108" y="435"/>
                  </a:lnTo>
                  <a:lnTo>
                    <a:pt x="1028" y="463"/>
                  </a:lnTo>
                  <a:lnTo>
                    <a:pt x="774" y="1100"/>
                  </a:lnTo>
                  <a:lnTo>
                    <a:pt x="580" y="1390"/>
                  </a:lnTo>
                  <a:lnTo>
                    <a:pt x="420" y="1469"/>
                  </a:lnTo>
                  <a:lnTo>
                    <a:pt x="187" y="1331"/>
                  </a:lnTo>
                  <a:lnTo>
                    <a:pt x="0" y="998"/>
                  </a:lnTo>
                  <a:lnTo>
                    <a:pt x="167" y="630"/>
                  </a:lnTo>
                  <a:lnTo>
                    <a:pt x="173" y="789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1391800">
              <a:off x="6551640" y="3831120"/>
              <a:ext cx="90360" cy="68760"/>
            </a:xfrm>
            <a:custGeom>
              <a:avLst/>
              <a:gdLst/>
              <a:ahLst/>
              <a:rect l="l" t="t" r="r" b="b"/>
              <a:pathLst>
                <a:path w="1165" h="1105">
                  <a:moveTo>
                    <a:pt x="470" y="165"/>
                  </a:moveTo>
                  <a:lnTo>
                    <a:pt x="586" y="158"/>
                  </a:lnTo>
                  <a:lnTo>
                    <a:pt x="645" y="259"/>
                  </a:lnTo>
                  <a:lnTo>
                    <a:pt x="636" y="462"/>
                  </a:lnTo>
                  <a:lnTo>
                    <a:pt x="557" y="635"/>
                  </a:lnTo>
                  <a:lnTo>
                    <a:pt x="420" y="773"/>
                  </a:lnTo>
                  <a:lnTo>
                    <a:pt x="218" y="911"/>
                  </a:lnTo>
                  <a:lnTo>
                    <a:pt x="297" y="723"/>
                  </a:lnTo>
                  <a:lnTo>
                    <a:pt x="326" y="600"/>
                  </a:lnTo>
                  <a:lnTo>
                    <a:pt x="355" y="448"/>
                  </a:lnTo>
                  <a:lnTo>
                    <a:pt x="116" y="831"/>
                  </a:lnTo>
                  <a:lnTo>
                    <a:pt x="0" y="982"/>
                  </a:lnTo>
                  <a:lnTo>
                    <a:pt x="22" y="1033"/>
                  </a:lnTo>
                  <a:lnTo>
                    <a:pt x="66" y="1098"/>
                  </a:lnTo>
                  <a:lnTo>
                    <a:pt x="493" y="1105"/>
                  </a:lnTo>
                  <a:lnTo>
                    <a:pt x="1165" y="397"/>
                  </a:lnTo>
                  <a:lnTo>
                    <a:pt x="940" y="224"/>
                  </a:lnTo>
                  <a:lnTo>
                    <a:pt x="832" y="158"/>
                  </a:lnTo>
                  <a:lnTo>
                    <a:pt x="680" y="86"/>
                  </a:lnTo>
                  <a:lnTo>
                    <a:pt x="579" y="0"/>
                  </a:lnTo>
                  <a:lnTo>
                    <a:pt x="514" y="0"/>
                  </a:lnTo>
                  <a:lnTo>
                    <a:pt x="470" y="165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391800">
              <a:off x="6595200" y="3823920"/>
              <a:ext cx="72360" cy="47160"/>
            </a:xfrm>
            <a:custGeom>
              <a:avLst/>
              <a:gdLst/>
              <a:ahLst/>
              <a:rect l="l" t="t" r="r" b="b"/>
              <a:pathLst>
                <a:path w="933" h="760">
                  <a:moveTo>
                    <a:pt x="0" y="23"/>
                  </a:moveTo>
                  <a:lnTo>
                    <a:pt x="73" y="160"/>
                  </a:lnTo>
                  <a:lnTo>
                    <a:pt x="260" y="239"/>
                  </a:lnTo>
                  <a:lnTo>
                    <a:pt x="512" y="413"/>
                  </a:lnTo>
                  <a:lnTo>
                    <a:pt x="701" y="544"/>
                  </a:lnTo>
                  <a:lnTo>
                    <a:pt x="766" y="659"/>
                  </a:lnTo>
                  <a:lnTo>
                    <a:pt x="933" y="760"/>
                  </a:lnTo>
                  <a:lnTo>
                    <a:pt x="933" y="702"/>
                  </a:lnTo>
                  <a:lnTo>
                    <a:pt x="810" y="608"/>
                  </a:lnTo>
                  <a:lnTo>
                    <a:pt x="925" y="579"/>
                  </a:lnTo>
                  <a:lnTo>
                    <a:pt x="918" y="492"/>
                  </a:lnTo>
                  <a:lnTo>
                    <a:pt x="816" y="404"/>
                  </a:lnTo>
                  <a:lnTo>
                    <a:pt x="583" y="178"/>
                  </a:lnTo>
                  <a:lnTo>
                    <a:pt x="457" y="115"/>
                  </a:lnTo>
                  <a:lnTo>
                    <a:pt x="123" y="116"/>
                  </a:lnTo>
                  <a:lnTo>
                    <a:pt x="3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391800">
              <a:off x="6579720" y="3814920"/>
              <a:ext cx="114480" cy="60120"/>
            </a:xfrm>
            <a:custGeom>
              <a:avLst/>
              <a:gdLst/>
              <a:ahLst/>
              <a:rect l="l" t="t" r="r" b="b"/>
              <a:pathLst>
                <a:path w="1477" h="963">
                  <a:moveTo>
                    <a:pt x="304" y="145"/>
                  </a:moveTo>
                  <a:lnTo>
                    <a:pt x="378" y="226"/>
                  </a:lnTo>
                  <a:lnTo>
                    <a:pt x="499" y="226"/>
                  </a:lnTo>
                  <a:lnTo>
                    <a:pt x="601" y="254"/>
                  </a:lnTo>
                  <a:lnTo>
                    <a:pt x="644" y="290"/>
                  </a:lnTo>
                  <a:lnTo>
                    <a:pt x="801" y="309"/>
                  </a:lnTo>
                  <a:lnTo>
                    <a:pt x="1064" y="493"/>
                  </a:lnTo>
                  <a:lnTo>
                    <a:pt x="1215" y="637"/>
                  </a:lnTo>
                  <a:lnTo>
                    <a:pt x="1347" y="660"/>
                  </a:lnTo>
                  <a:lnTo>
                    <a:pt x="1389" y="963"/>
                  </a:lnTo>
                  <a:lnTo>
                    <a:pt x="1448" y="840"/>
                  </a:lnTo>
                  <a:lnTo>
                    <a:pt x="1477" y="652"/>
                  </a:lnTo>
                  <a:lnTo>
                    <a:pt x="1426" y="580"/>
                  </a:lnTo>
                  <a:lnTo>
                    <a:pt x="1187" y="406"/>
                  </a:lnTo>
                  <a:lnTo>
                    <a:pt x="962" y="254"/>
                  </a:lnTo>
                  <a:lnTo>
                    <a:pt x="977" y="197"/>
                  </a:lnTo>
                  <a:lnTo>
                    <a:pt x="886" y="38"/>
                  </a:lnTo>
                  <a:lnTo>
                    <a:pt x="623" y="0"/>
                  </a:lnTo>
                  <a:lnTo>
                    <a:pt x="387" y="0"/>
                  </a:lnTo>
                  <a:lnTo>
                    <a:pt x="0" y="74"/>
                  </a:lnTo>
                  <a:lnTo>
                    <a:pt x="174" y="160"/>
                  </a:lnTo>
                  <a:lnTo>
                    <a:pt x="304" y="145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391800">
              <a:off x="6608160" y="3790800"/>
              <a:ext cx="57960" cy="32400"/>
            </a:xfrm>
            <a:custGeom>
              <a:avLst/>
              <a:gdLst/>
              <a:ahLst/>
              <a:rect l="l" t="t" r="r" b="b"/>
              <a:pathLst>
                <a:path w="745" h="520">
                  <a:moveTo>
                    <a:pt x="658" y="8"/>
                  </a:moveTo>
                  <a:lnTo>
                    <a:pt x="607" y="87"/>
                  </a:lnTo>
                  <a:lnTo>
                    <a:pt x="521" y="135"/>
                  </a:lnTo>
                  <a:lnTo>
                    <a:pt x="418" y="159"/>
                  </a:lnTo>
                  <a:lnTo>
                    <a:pt x="267" y="231"/>
                  </a:lnTo>
                  <a:lnTo>
                    <a:pt x="309" y="267"/>
                  </a:lnTo>
                  <a:lnTo>
                    <a:pt x="462" y="224"/>
                  </a:lnTo>
                  <a:lnTo>
                    <a:pt x="607" y="180"/>
                  </a:lnTo>
                  <a:lnTo>
                    <a:pt x="658" y="261"/>
                  </a:lnTo>
                  <a:lnTo>
                    <a:pt x="614" y="376"/>
                  </a:lnTo>
                  <a:lnTo>
                    <a:pt x="745" y="520"/>
                  </a:lnTo>
                  <a:lnTo>
                    <a:pt x="361" y="369"/>
                  </a:lnTo>
                  <a:lnTo>
                    <a:pt x="143" y="347"/>
                  </a:lnTo>
                  <a:lnTo>
                    <a:pt x="0" y="347"/>
                  </a:lnTo>
                  <a:lnTo>
                    <a:pt x="36" y="246"/>
                  </a:lnTo>
                  <a:lnTo>
                    <a:pt x="252" y="123"/>
                  </a:lnTo>
                  <a:lnTo>
                    <a:pt x="585" y="0"/>
                  </a:lnTo>
                  <a:lnTo>
                    <a:pt x="658" y="8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391800">
              <a:off x="6575040" y="3787560"/>
              <a:ext cx="124200" cy="68760"/>
            </a:xfrm>
            <a:custGeom>
              <a:avLst/>
              <a:gdLst/>
              <a:ahLst/>
              <a:rect l="l" t="t" r="r" b="b"/>
              <a:pathLst>
                <a:path w="1599" h="1102">
                  <a:moveTo>
                    <a:pt x="50" y="458"/>
                  </a:moveTo>
                  <a:lnTo>
                    <a:pt x="217" y="422"/>
                  </a:lnTo>
                  <a:lnTo>
                    <a:pt x="303" y="428"/>
                  </a:lnTo>
                  <a:lnTo>
                    <a:pt x="406" y="415"/>
                  </a:lnTo>
                  <a:lnTo>
                    <a:pt x="470" y="458"/>
                  </a:lnTo>
                  <a:lnTo>
                    <a:pt x="629" y="451"/>
                  </a:lnTo>
                  <a:lnTo>
                    <a:pt x="867" y="465"/>
                  </a:lnTo>
                  <a:lnTo>
                    <a:pt x="940" y="544"/>
                  </a:lnTo>
                  <a:lnTo>
                    <a:pt x="997" y="551"/>
                  </a:lnTo>
                  <a:lnTo>
                    <a:pt x="1085" y="617"/>
                  </a:lnTo>
                  <a:lnTo>
                    <a:pt x="1287" y="784"/>
                  </a:lnTo>
                  <a:lnTo>
                    <a:pt x="1375" y="826"/>
                  </a:lnTo>
                  <a:lnTo>
                    <a:pt x="1483" y="878"/>
                  </a:lnTo>
                  <a:lnTo>
                    <a:pt x="1534" y="935"/>
                  </a:lnTo>
                  <a:lnTo>
                    <a:pt x="1527" y="1058"/>
                  </a:lnTo>
                  <a:lnTo>
                    <a:pt x="1570" y="1102"/>
                  </a:lnTo>
                  <a:lnTo>
                    <a:pt x="1599" y="942"/>
                  </a:lnTo>
                  <a:lnTo>
                    <a:pt x="1540" y="805"/>
                  </a:lnTo>
                  <a:lnTo>
                    <a:pt x="1316" y="458"/>
                  </a:lnTo>
                  <a:lnTo>
                    <a:pt x="1259" y="248"/>
                  </a:lnTo>
                  <a:lnTo>
                    <a:pt x="1115" y="0"/>
                  </a:lnTo>
                  <a:lnTo>
                    <a:pt x="1056" y="103"/>
                  </a:lnTo>
                  <a:lnTo>
                    <a:pt x="1125" y="187"/>
                  </a:lnTo>
                  <a:lnTo>
                    <a:pt x="1193" y="393"/>
                  </a:lnTo>
                  <a:lnTo>
                    <a:pt x="1203" y="505"/>
                  </a:lnTo>
                  <a:lnTo>
                    <a:pt x="1069" y="456"/>
                  </a:lnTo>
                  <a:lnTo>
                    <a:pt x="970" y="408"/>
                  </a:lnTo>
                  <a:lnTo>
                    <a:pt x="687" y="386"/>
                  </a:lnTo>
                  <a:lnTo>
                    <a:pt x="261" y="327"/>
                  </a:lnTo>
                  <a:lnTo>
                    <a:pt x="0" y="349"/>
                  </a:lnTo>
                  <a:lnTo>
                    <a:pt x="50" y="458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1391800">
              <a:off x="6272280" y="3800520"/>
              <a:ext cx="146160" cy="239040"/>
            </a:xfrm>
            <a:custGeom>
              <a:avLst/>
              <a:gdLst/>
              <a:ahLst/>
              <a:rect l="l" t="t" r="r" b="b"/>
              <a:pathLst>
                <a:path w="1882" h="3837">
                  <a:moveTo>
                    <a:pt x="545" y="1374"/>
                  </a:moveTo>
                  <a:lnTo>
                    <a:pt x="753" y="441"/>
                  </a:lnTo>
                  <a:lnTo>
                    <a:pt x="1311" y="0"/>
                  </a:lnTo>
                  <a:lnTo>
                    <a:pt x="1090" y="622"/>
                  </a:lnTo>
                  <a:lnTo>
                    <a:pt x="1142" y="2008"/>
                  </a:lnTo>
                  <a:lnTo>
                    <a:pt x="1688" y="2527"/>
                  </a:lnTo>
                  <a:lnTo>
                    <a:pt x="1779" y="2696"/>
                  </a:lnTo>
                  <a:lnTo>
                    <a:pt x="1882" y="2774"/>
                  </a:lnTo>
                  <a:lnTo>
                    <a:pt x="1713" y="3098"/>
                  </a:lnTo>
                  <a:lnTo>
                    <a:pt x="1817" y="3616"/>
                  </a:lnTo>
                  <a:lnTo>
                    <a:pt x="1440" y="3798"/>
                  </a:lnTo>
                  <a:lnTo>
                    <a:pt x="1078" y="3823"/>
                  </a:lnTo>
                  <a:lnTo>
                    <a:pt x="467" y="2489"/>
                  </a:lnTo>
                  <a:lnTo>
                    <a:pt x="948" y="3616"/>
                  </a:lnTo>
                  <a:lnTo>
                    <a:pt x="909" y="3837"/>
                  </a:lnTo>
                  <a:lnTo>
                    <a:pt x="324" y="3732"/>
                  </a:lnTo>
                  <a:lnTo>
                    <a:pt x="0" y="2138"/>
                  </a:lnTo>
                  <a:lnTo>
                    <a:pt x="415" y="1296"/>
                  </a:lnTo>
                  <a:lnTo>
                    <a:pt x="545" y="1374"/>
                  </a:lnTo>
                  <a:close/>
                </a:path>
              </a:pathLst>
            </a:custGeom>
            <a:solidFill>
              <a:srgbClr val="a5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1391800">
              <a:off x="6198840" y="3873600"/>
              <a:ext cx="132120" cy="172800"/>
            </a:xfrm>
            <a:custGeom>
              <a:avLst/>
              <a:gdLst/>
              <a:ahLst/>
              <a:rect l="l" t="t" r="r" b="b"/>
              <a:pathLst>
                <a:path w="1700" h="2773">
                  <a:moveTo>
                    <a:pt x="1700" y="2773"/>
                  </a:moveTo>
                  <a:lnTo>
                    <a:pt x="1440" y="2125"/>
                  </a:lnTo>
                  <a:lnTo>
                    <a:pt x="1440" y="1658"/>
                  </a:lnTo>
                  <a:lnTo>
                    <a:pt x="1297" y="1192"/>
                  </a:lnTo>
                  <a:lnTo>
                    <a:pt x="1557" y="479"/>
                  </a:lnTo>
                  <a:lnTo>
                    <a:pt x="1259" y="0"/>
                  </a:lnTo>
                  <a:lnTo>
                    <a:pt x="259" y="272"/>
                  </a:lnTo>
                  <a:lnTo>
                    <a:pt x="104" y="855"/>
                  </a:lnTo>
                  <a:lnTo>
                    <a:pt x="91" y="1516"/>
                  </a:lnTo>
                  <a:lnTo>
                    <a:pt x="0" y="2319"/>
                  </a:lnTo>
                  <a:lnTo>
                    <a:pt x="91" y="2579"/>
                  </a:lnTo>
                  <a:lnTo>
                    <a:pt x="143" y="2695"/>
                  </a:lnTo>
                  <a:lnTo>
                    <a:pt x="610" y="2748"/>
                  </a:lnTo>
                  <a:lnTo>
                    <a:pt x="337" y="2269"/>
                  </a:lnTo>
                  <a:lnTo>
                    <a:pt x="416" y="2061"/>
                  </a:lnTo>
                  <a:lnTo>
                    <a:pt x="610" y="1892"/>
                  </a:lnTo>
                  <a:lnTo>
                    <a:pt x="416" y="1295"/>
                  </a:lnTo>
                  <a:lnTo>
                    <a:pt x="350" y="1037"/>
                  </a:lnTo>
                  <a:lnTo>
                    <a:pt x="532" y="648"/>
                  </a:lnTo>
                  <a:lnTo>
                    <a:pt x="999" y="1568"/>
                  </a:lnTo>
                  <a:lnTo>
                    <a:pt x="519" y="1153"/>
                  </a:lnTo>
                  <a:lnTo>
                    <a:pt x="739" y="1594"/>
                  </a:lnTo>
                  <a:lnTo>
                    <a:pt x="947" y="1995"/>
                  </a:lnTo>
                  <a:lnTo>
                    <a:pt x="687" y="2022"/>
                  </a:lnTo>
                  <a:lnTo>
                    <a:pt x="908" y="2709"/>
                  </a:lnTo>
                  <a:lnTo>
                    <a:pt x="1700" y="2773"/>
                  </a:lnTo>
                  <a:close/>
                </a:path>
              </a:pathLst>
            </a:custGeom>
            <a:solidFill>
              <a:srgbClr val="d3e0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1391800">
              <a:off x="6411960" y="3747960"/>
              <a:ext cx="113760" cy="257040"/>
            </a:xfrm>
            <a:custGeom>
              <a:avLst/>
              <a:gdLst/>
              <a:ahLst/>
              <a:rect l="l" t="t" r="r" b="b"/>
              <a:pathLst>
                <a:path w="1468" h="4120">
                  <a:moveTo>
                    <a:pt x="350" y="568"/>
                  </a:moveTo>
                  <a:lnTo>
                    <a:pt x="377" y="426"/>
                  </a:lnTo>
                  <a:lnTo>
                    <a:pt x="455" y="387"/>
                  </a:lnTo>
                  <a:lnTo>
                    <a:pt x="532" y="620"/>
                  </a:lnTo>
                  <a:lnTo>
                    <a:pt x="839" y="1120"/>
                  </a:lnTo>
                  <a:lnTo>
                    <a:pt x="1019" y="1488"/>
                  </a:lnTo>
                  <a:lnTo>
                    <a:pt x="926" y="2088"/>
                  </a:lnTo>
                  <a:lnTo>
                    <a:pt x="1050" y="2222"/>
                  </a:lnTo>
                  <a:lnTo>
                    <a:pt x="1038" y="2546"/>
                  </a:lnTo>
                  <a:lnTo>
                    <a:pt x="802" y="2467"/>
                  </a:lnTo>
                  <a:lnTo>
                    <a:pt x="1104" y="3407"/>
                  </a:lnTo>
                  <a:lnTo>
                    <a:pt x="366" y="2103"/>
                  </a:lnTo>
                  <a:lnTo>
                    <a:pt x="739" y="3136"/>
                  </a:lnTo>
                  <a:lnTo>
                    <a:pt x="1142" y="4120"/>
                  </a:lnTo>
                  <a:lnTo>
                    <a:pt x="1454" y="2357"/>
                  </a:lnTo>
                  <a:lnTo>
                    <a:pt x="1329" y="2056"/>
                  </a:lnTo>
                  <a:lnTo>
                    <a:pt x="1468" y="1571"/>
                  </a:lnTo>
                  <a:lnTo>
                    <a:pt x="1440" y="1307"/>
                  </a:lnTo>
                  <a:lnTo>
                    <a:pt x="1090" y="957"/>
                  </a:lnTo>
                  <a:lnTo>
                    <a:pt x="455" y="362"/>
                  </a:lnTo>
                  <a:lnTo>
                    <a:pt x="220" y="0"/>
                  </a:lnTo>
                  <a:lnTo>
                    <a:pt x="65" y="78"/>
                  </a:lnTo>
                  <a:lnTo>
                    <a:pt x="0" y="439"/>
                  </a:lnTo>
                  <a:lnTo>
                    <a:pt x="13" y="764"/>
                  </a:lnTo>
                  <a:lnTo>
                    <a:pt x="309" y="1725"/>
                  </a:lnTo>
                  <a:lnTo>
                    <a:pt x="613" y="2555"/>
                  </a:lnTo>
                  <a:lnTo>
                    <a:pt x="143" y="932"/>
                  </a:lnTo>
                  <a:lnTo>
                    <a:pt x="143" y="620"/>
                  </a:lnTo>
                  <a:lnTo>
                    <a:pt x="195" y="439"/>
                  </a:lnTo>
                  <a:lnTo>
                    <a:pt x="350" y="568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391800">
              <a:off x="6509520" y="3724200"/>
              <a:ext cx="36000" cy="21240"/>
            </a:xfrm>
            <a:custGeom>
              <a:avLst/>
              <a:gdLst/>
              <a:ahLst/>
              <a:rect l="l" t="t" r="r" b="b"/>
              <a:pathLst>
                <a:path w="464" h="345">
                  <a:moveTo>
                    <a:pt x="247" y="71"/>
                  </a:moveTo>
                  <a:lnTo>
                    <a:pt x="347" y="0"/>
                  </a:lnTo>
                  <a:lnTo>
                    <a:pt x="464" y="111"/>
                  </a:lnTo>
                  <a:lnTo>
                    <a:pt x="386" y="111"/>
                  </a:lnTo>
                  <a:lnTo>
                    <a:pt x="335" y="88"/>
                  </a:lnTo>
                  <a:lnTo>
                    <a:pt x="286" y="139"/>
                  </a:lnTo>
                  <a:lnTo>
                    <a:pt x="341" y="250"/>
                  </a:lnTo>
                  <a:lnTo>
                    <a:pt x="325" y="345"/>
                  </a:lnTo>
                  <a:lnTo>
                    <a:pt x="235" y="233"/>
                  </a:lnTo>
                  <a:lnTo>
                    <a:pt x="184" y="188"/>
                  </a:lnTo>
                  <a:lnTo>
                    <a:pt x="89" y="219"/>
                  </a:lnTo>
                  <a:lnTo>
                    <a:pt x="0" y="233"/>
                  </a:lnTo>
                  <a:lnTo>
                    <a:pt x="135" y="134"/>
                  </a:lnTo>
                  <a:lnTo>
                    <a:pt x="247" y="71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1391800">
              <a:off x="6502680" y="3702240"/>
              <a:ext cx="138600" cy="114120"/>
            </a:xfrm>
            <a:custGeom>
              <a:avLst/>
              <a:gdLst/>
              <a:ahLst/>
              <a:rect l="l" t="t" r="r" b="b"/>
              <a:pathLst>
                <a:path w="1783" h="1832">
                  <a:moveTo>
                    <a:pt x="516" y="954"/>
                  </a:moveTo>
                  <a:lnTo>
                    <a:pt x="70" y="848"/>
                  </a:lnTo>
                  <a:lnTo>
                    <a:pt x="0" y="823"/>
                  </a:lnTo>
                  <a:lnTo>
                    <a:pt x="43" y="918"/>
                  </a:lnTo>
                  <a:lnTo>
                    <a:pt x="70" y="957"/>
                  </a:lnTo>
                  <a:lnTo>
                    <a:pt x="144" y="1084"/>
                  </a:lnTo>
                  <a:lnTo>
                    <a:pt x="277" y="1261"/>
                  </a:lnTo>
                  <a:lnTo>
                    <a:pt x="223" y="1311"/>
                  </a:lnTo>
                  <a:lnTo>
                    <a:pt x="184" y="1334"/>
                  </a:lnTo>
                  <a:lnTo>
                    <a:pt x="367" y="1363"/>
                  </a:lnTo>
                  <a:lnTo>
                    <a:pt x="463" y="1412"/>
                  </a:lnTo>
                  <a:lnTo>
                    <a:pt x="586" y="1485"/>
                  </a:lnTo>
                  <a:lnTo>
                    <a:pt x="609" y="1557"/>
                  </a:lnTo>
                  <a:lnTo>
                    <a:pt x="570" y="1619"/>
                  </a:lnTo>
                  <a:lnTo>
                    <a:pt x="346" y="1692"/>
                  </a:lnTo>
                  <a:lnTo>
                    <a:pt x="508" y="1832"/>
                  </a:lnTo>
                  <a:lnTo>
                    <a:pt x="995" y="1463"/>
                  </a:lnTo>
                  <a:lnTo>
                    <a:pt x="1403" y="988"/>
                  </a:lnTo>
                  <a:lnTo>
                    <a:pt x="1649" y="581"/>
                  </a:lnTo>
                  <a:lnTo>
                    <a:pt x="1738" y="240"/>
                  </a:lnTo>
                  <a:lnTo>
                    <a:pt x="1783" y="0"/>
                  </a:lnTo>
                  <a:lnTo>
                    <a:pt x="1651" y="119"/>
                  </a:lnTo>
                  <a:lnTo>
                    <a:pt x="1624" y="265"/>
                  </a:lnTo>
                  <a:lnTo>
                    <a:pt x="1586" y="341"/>
                  </a:lnTo>
                  <a:lnTo>
                    <a:pt x="1475" y="531"/>
                  </a:lnTo>
                  <a:lnTo>
                    <a:pt x="1296" y="732"/>
                  </a:lnTo>
                  <a:lnTo>
                    <a:pt x="1224" y="715"/>
                  </a:lnTo>
                  <a:lnTo>
                    <a:pt x="1118" y="492"/>
                  </a:lnTo>
                  <a:lnTo>
                    <a:pt x="1090" y="833"/>
                  </a:lnTo>
                  <a:lnTo>
                    <a:pt x="783" y="843"/>
                  </a:lnTo>
                  <a:lnTo>
                    <a:pt x="788" y="1084"/>
                  </a:lnTo>
                  <a:lnTo>
                    <a:pt x="565" y="1088"/>
                  </a:lnTo>
                  <a:lnTo>
                    <a:pt x="516" y="954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1391800">
              <a:off x="6514200" y="3764160"/>
              <a:ext cx="56880" cy="20880"/>
            </a:xfrm>
            <a:custGeom>
              <a:avLst/>
              <a:gdLst/>
              <a:ahLst/>
              <a:rect l="l" t="t" r="r" b="b"/>
              <a:pathLst>
                <a:path w="732" h="333">
                  <a:moveTo>
                    <a:pt x="643" y="0"/>
                  </a:moveTo>
                  <a:lnTo>
                    <a:pt x="732" y="138"/>
                  </a:lnTo>
                  <a:lnTo>
                    <a:pt x="654" y="221"/>
                  </a:lnTo>
                  <a:lnTo>
                    <a:pt x="419" y="333"/>
                  </a:lnTo>
                  <a:lnTo>
                    <a:pt x="251" y="323"/>
                  </a:lnTo>
                  <a:lnTo>
                    <a:pt x="151" y="171"/>
                  </a:lnTo>
                  <a:lnTo>
                    <a:pt x="312" y="294"/>
                  </a:lnTo>
                  <a:lnTo>
                    <a:pt x="425" y="255"/>
                  </a:lnTo>
                  <a:lnTo>
                    <a:pt x="200" y="159"/>
                  </a:lnTo>
                  <a:lnTo>
                    <a:pt x="0" y="54"/>
                  </a:lnTo>
                  <a:lnTo>
                    <a:pt x="323" y="48"/>
                  </a:lnTo>
                  <a:lnTo>
                    <a:pt x="525" y="143"/>
                  </a:lnTo>
                  <a:lnTo>
                    <a:pt x="570" y="71"/>
                  </a:lnTo>
                  <a:lnTo>
                    <a:pt x="643" y="0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1391800">
              <a:off x="6529320" y="3675240"/>
              <a:ext cx="115920" cy="88200"/>
            </a:xfrm>
            <a:custGeom>
              <a:avLst/>
              <a:gdLst/>
              <a:ahLst/>
              <a:rect l="l" t="t" r="r" b="b"/>
              <a:pathLst>
                <a:path w="1494" h="1420">
                  <a:moveTo>
                    <a:pt x="626" y="199"/>
                  </a:moveTo>
                  <a:lnTo>
                    <a:pt x="591" y="329"/>
                  </a:lnTo>
                  <a:lnTo>
                    <a:pt x="565" y="590"/>
                  </a:lnTo>
                  <a:lnTo>
                    <a:pt x="573" y="824"/>
                  </a:lnTo>
                  <a:lnTo>
                    <a:pt x="573" y="1006"/>
                  </a:lnTo>
                  <a:lnTo>
                    <a:pt x="531" y="1085"/>
                  </a:lnTo>
                  <a:lnTo>
                    <a:pt x="443" y="1093"/>
                  </a:lnTo>
                  <a:lnTo>
                    <a:pt x="303" y="1005"/>
                  </a:lnTo>
                  <a:lnTo>
                    <a:pt x="179" y="973"/>
                  </a:lnTo>
                  <a:lnTo>
                    <a:pt x="71" y="1015"/>
                  </a:lnTo>
                  <a:lnTo>
                    <a:pt x="0" y="1042"/>
                  </a:lnTo>
                  <a:lnTo>
                    <a:pt x="27" y="1111"/>
                  </a:lnTo>
                  <a:lnTo>
                    <a:pt x="140" y="1137"/>
                  </a:lnTo>
                  <a:lnTo>
                    <a:pt x="243" y="1119"/>
                  </a:lnTo>
                  <a:lnTo>
                    <a:pt x="270" y="1232"/>
                  </a:lnTo>
                  <a:lnTo>
                    <a:pt x="392" y="1232"/>
                  </a:lnTo>
                  <a:lnTo>
                    <a:pt x="409" y="1420"/>
                  </a:lnTo>
                  <a:lnTo>
                    <a:pt x="504" y="1301"/>
                  </a:lnTo>
                  <a:lnTo>
                    <a:pt x="583" y="1380"/>
                  </a:lnTo>
                  <a:lnTo>
                    <a:pt x="791" y="1276"/>
                  </a:lnTo>
                  <a:lnTo>
                    <a:pt x="791" y="946"/>
                  </a:lnTo>
                  <a:lnTo>
                    <a:pt x="730" y="772"/>
                  </a:lnTo>
                  <a:lnTo>
                    <a:pt x="756" y="521"/>
                  </a:lnTo>
                  <a:lnTo>
                    <a:pt x="761" y="410"/>
                  </a:lnTo>
                  <a:lnTo>
                    <a:pt x="905" y="466"/>
                  </a:lnTo>
                  <a:lnTo>
                    <a:pt x="1085" y="581"/>
                  </a:lnTo>
                  <a:lnTo>
                    <a:pt x="1224" y="559"/>
                  </a:lnTo>
                  <a:lnTo>
                    <a:pt x="1398" y="521"/>
                  </a:lnTo>
                  <a:lnTo>
                    <a:pt x="1450" y="348"/>
                  </a:lnTo>
                  <a:lnTo>
                    <a:pt x="1494" y="165"/>
                  </a:lnTo>
                  <a:lnTo>
                    <a:pt x="1355" y="44"/>
                  </a:lnTo>
                  <a:lnTo>
                    <a:pt x="921" y="0"/>
                  </a:lnTo>
                  <a:lnTo>
                    <a:pt x="791" y="52"/>
                  </a:lnTo>
                  <a:lnTo>
                    <a:pt x="730" y="87"/>
                  </a:lnTo>
                  <a:lnTo>
                    <a:pt x="676" y="157"/>
                  </a:lnTo>
                  <a:lnTo>
                    <a:pt x="795" y="268"/>
                  </a:lnTo>
                  <a:lnTo>
                    <a:pt x="852" y="243"/>
                  </a:lnTo>
                  <a:lnTo>
                    <a:pt x="982" y="252"/>
                  </a:lnTo>
                  <a:lnTo>
                    <a:pt x="939" y="329"/>
                  </a:lnTo>
                  <a:lnTo>
                    <a:pt x="886" y="348"/>
                  </a:lnTo>
                  <a:lnTo>
                    <a:pt x="930" y="399"/>
                  </a:lnTo>
                  <a:lnTo>
                    <a:pt x="1026" y="417"/>
                  </a:lnTo>
                  <a:lnTo>
                    <a:pt x="1095" y="338"/>
                  </a:lnTo>
                  <a:lnTo>
                    <a:pt x="1077" y="260"/>
                  </a:lnTo>
                  <a:lnTo>
                    <a:pt x="1137" y="252"/>
                  </a:lnTo>
                  <a:lnTo>
                    <a:pt x="1216" y="338"/>
                  </a:lnTo>
                  <a:lnTo>
                    <a:pt x="1181" y="399"/>
                  </a:lnTo>
                  <a:lnTo>
                    <a:pt x="1164" y="504"/>
                  </a:lnTo>
                  <a:lnTo>
                    <a:pt x="957" y="468"/>
                  </a:lnTo>
                  <a:lnTo>
                    <a:pt x="791" y="382"/>
                  </a:lnTo>
                  <a:lnTo>
                    <a:pt x="686" y="295"/>
                  </a:lnTo>
                  <a:lnTo>
                    <a:pt x="626" y="199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391800">
              <a:off x="6419880" y="3589920"/>
              <a:ext cx="289800" cy="231120"/>
            </a:xfrm>
            <a:custGeom>
              <a:avLst/>
              <a:gdLst/>
              <a:ahLst/>
              <a:rect l="l" t="t" r="r" b="b"/>
              <a:pathLst>
                <a:path w="3728" h="3700">
                  <a:moveTo>
                    <a:pt x="2587" y="1397"/>
                  </a:moveTo>
                  <a:lnTo>
                    <a:pt x="2772" y="1103"/>
                  </a:lnTo>
                  <a:lnTo>
                    <a:pt x="2796" y="895"/>
                  </a:lnTo>
                  <a:lnTo>
                    <a:pt x="2790" y="710"/>
                  </a:lnTo>
                  <a:lnTo>
                    <a:pt x="2563" y="735"/>
                  </a:lnTo>
                  <a:lnTo>
                    <a:pt x="2269" y="760"/>
                  </a:lnTo>
                  <a:lnTo>
                    <a:pt x="1963" y="650"/>
                  </a:lnTo>
                  <a:lnTo>
                    <a:pt x="2110" y="588"/>
                  </a:lnTo>
                  <a:lnTo>
                    <a:pt x="1975" y="527"/>
                  </a:lnTo>
                  <a:lnTo>
                    <a:pt x="1779" y="650"/>
                  </a:lnTo>
                  <a:lnTo>
                    <a:pt x="1620" y="650"/>
                  </a:lnTo>
                  <a:lnTo>
                    <a:pt x="1803" y="429"/>
                  </a:lnTo>
                  <a:lnTo>
                    <a:pt x="1594" y="490"/>
                  </a:lnTo>
                  <a:lnTo>
                    <a:pt x="1411" y="520"/>
                  </a:lnTo>
                  <a:lnTo>
                    <a:pt x="1324" y="408"/>
                  </a:lnTo>
                  <a:lnTo>
                    <a:pt x="1086" y="433"/>
                  </a:lnTo>
                  <a:lnTo>
                    <a:pt x="907" y="503"/>
                  </a:lnTo>
                  <a:lnTo>
                    <a:pt x="840" y="826"/>
                  </a:lnTo>
                  <a:lnTo>
                    <a:pt x="829" y="1044"/>
                  </a:lnTo>
                  <a:lnTo>
                    <a:pt x="898" y="1045"/>
                  </a:lnTo>
                  <a:lnTo>
                    <a:pt x="1239" y="1116"/>
                  </a:lnTo>
                  <a:lnTo>
                    <a:pt x="1783" y="1303"/>
                  </a:lnTo>
                  <a:lnTo>
                    <a:pt x="1897" y="1210"/>
                  </a:lnTo>
                  <a:lnTo>
                    <a:pt x="1911" y="1486"/>
                  </a:lnTo>
                  <a:lnTo>
                    <a:pt x="1705" y="1570"/>
                  </a:lnTo>
                  <a:lnTo>
                    <a:pt x="1500" y="1705"/>
                  </a:lnTo>
                  <a:lnTo>
                    <a:pt x="1301" y="1713"/>
                  </a:lnTo>
                  <a:lnTo>
                    <a:pt x="1067" y="1570"/>
                  </a:lnTo>
                  <a:lnTo>
                    <a:pt x="1263" y="1618"/>
                  </a:lnTo>
                  <a:lnTo>
                    <a:pt x="1570" y="1630"/>
                  </a:lnTo>
                  <a:lnTo>
                    <a:pt x="1620" y="1507"/>
                  </a:lnTo>
                  <a:lnTo>
                    <a:pt x="1436" y="1434"/>
                  </a:lnTo>
                  <a:lnTo>
                    <a:pt x="1239" y="1360"/>
                  </a:lnTo>
                  <a:lnTo>
                    <a:pt x="1287" y="1299"/>
                  </a:lnTo>
                  <a:lnTo>
                    <a:pt x="1067" y="1288"/>
                  </a:lnTo>
                  <a:lnTo>
                    <a:pt x="994" y="1373"/>
                  </a:lnTo>
                  <a:lnTo>
                    <a:pt x="929" y="1430"/>
                  </a:lnTo>
                  <a:lnTo>
                    <a:pt x="835" y="1361"/>
                  </a:lnTo>
                  <a:lnTo>
                    <a:pt x="735" y="1287"/>
                  </a:lnTo>
                  <a:lnTo>
                    <a:pt x="663" y="733"/>
                  </a:lnTo>
                  <a:lnTo>
                    <a:pt x="508" y="858"/>
                  </a:lnTo>
                  <a:lnTo>
                    <a:pt x="460" y="1095"/>
                  </a:lnTo>
                  <a:lnTo>
                    <a:pt x="353" y="1260"/>
                  </a:lnTo>
                  <a:lnTo>
                    <a:pt x="342" y="1432"/>
                  </a:lnTo>
                  <a:lnTo>
                    <a:pt x="357" y="1678"/>
                  </a:lnTo>
                  <a:lnTo>
                    <a:pt x="431" y="2011"/>
                  </a:lnTo>
                  <a:lnTo>
                    <a:pt x="456" y="2379"/>
                  </a:lnTo>
                  <a:lnTo>
                    <a:pt x="530" y="2708"/>
                  </a:lnTo>
                  <a:lnTo>
                    <a:pt x="677" y="2937"/>
                  </a:lnTo>
                  <a:lnTo>
                    <a:pt x="907" y="3185"/>
                  </a:lnTo>
                  <a:lnTo>
                    <a:pt x="1165" y="3344"/>
                  </a:lnTo>
                  <a:lnTo>
                    <a:pt x="1423" y="3504"/>
                  </a:lnTo>
                  <a:lnTo>
                    <a:pt x="1779" y="3454"/>
                  </a:lnTo>
                  <a:lnTo>
                    <a:pt x="1484" y="3700"/>
                  </a:lnTo>
                  <a:lnTo>
                    <a:pt x="883" y="3528"/>
                  </a:lnTo>
                  <a:lnTo>
                    <a:pt x="12" y="2561"/>
                  </a:lnTo>
                  <a:lnTo>
                    <a:pt x="0" y="2230"/>
                  </a:lnTo>
                  <a:lnTo>
                    <a:pt x="184" y="1226"/>
                  </a:lnTo>
                  <a:lnTo>
                    <a:pt x="294" y="711"/>
                  </a:lnTo>
                  <a:lnTo>
                    <a:pt x="699" y="306"/>
                  </a:lnTo>
                  <a:lnTo>
                    <a:pt x="1436" y="123"/>
                  </a:lnTo>
                  <a:lnTo>
                    <a:pt x="2196" y="135"/>
                  </a:lnTo>
                  <a:lnTo>
                    <a:pt x="2575" y="441"/>
                  </a:lnTo>
                  <a:lnTo>
                    <a:pt x="2956" y="319"/>
                  </a:lnTo>
                  <a:lnTo>
                    <a:pt x="3078" y="417"/>
                  </a:lnTo>
                  <a:lnTo>
                    <a:pt x="3201" y="295"/>
                  </a:lnTo>
                  <a:lnTo>
                    <a:pt x="3139" y="0"/>
                  </a:lnTo>
                  <a:lnTo>
                    <a:pt x="3545" y="246"/>
                  </a:lnTo>
                  <a:lnTo>
                    <a:pt x="3728" y="637"/>
                  </a:lnTo>
                  <a:lnTo>
                    <a:pt x="3582" y="845"/>
                  </a:lnTo>
                  <a:lnTo>
                    <a:pt x="3201" y="1189"/>
                  </a:lnTo>
                  <a:lnTo>
                    <a:pt x="2919" y="1557"/>
                  </a:lnTo>
                  <a:lnTo>
                    <a:pt x="2735" y="1447"/>
                  </a:lnTo>
                  <a:lnTo>
                    <a:pt x="2587" y="1397"/>
                  </a:lnTo>
                  <a:close/>
                </a:path>
              </a:pathLst>
            </a:custGeom>
            <a:solidFill>
              <a:srgbClr val="f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1391800">
              <a:off x="6351840" y="3588120"/>
              <a:ext cx="129240" cy="137520"/>
            </a:xfrm>
            <a:custGeom>
              <a:avLst/>
              <a:gdLst/>
              <a:ahLst/>
              <a:rect l="l" t="t" r="r" b="b"/>
              <a:pathLst>
                <a:path w="1661" h="2205">
                  <a:moveTo>
                    <a:pt x="1661" y="14"/>
                  </a:moveTo>
                  <a:lnTo>
                    <a:pt x="1196" y="0"/>
                  </a:lnTo>
                  <a:lnTo>
                    <a:pt x="572" y="186"/>
                  </a:lnTo>
                  <a:lnTo>
                    <a:pt x="278" y="545"/>
                  </a:lnTo>
                  <a:lnTo>
                    <a:pt x="0" y="1036"/>
                  </a:lnTo>
                  <a:lnTo>
                    <a:pt x="0" y="1435"/>
                  </a:lnTo>
                  <a:lnTo>
                    <a:pt x="0" y="1780"/>
                  </a:lnTo>
                  <a:lnTo>
                    <a:pt x="332" y="2205"/>
                  </a:lnTo>
                  <a:lnTo>
                    <a:pt x="399" y="1793"/>
                  </a:lnTo>
                  <a:lnTo>
                    <a:pt x="519" y="1581"/>
                  </a:lnTo>
                  <a:lnTo>
                    <a:pt x="396" y="1053"/>
                  </a:lnTo>
                  <a:lnTo>
                    <a:pt x="562" y="774"/>
                  </a:lnTo>
                  <a:lnTo>
                    <a:pt x="759" y="701"/>
                  </a:lnTo>
                  <a:lnTo>
                    <a:pt x="873" y="681"/>
                  </a:lnTo>
                  <a:lnTo>
                    <a:pt x="1122" y="827"/>
                  </a:lnTo>
                  <a:lnTo>
                    <a:pt x="873" y="1292"/>
                  </a:lnTo>
                  <a:lnTo>
                    <a:pt x="738" y="1116"/>
                  </a:lnTo>
                  <a:lnTo>
                    <a:pt x="1204" y="545"/>
                  </a:lnTo>
                  <a:lnTo>
                    <a:pt x="1661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391800">
              <a:off x="6377040" y="3503520"/>
              <a:ext cx="282960" cy="105120"/>
            </a:xfrm>
            <a:custGeom>
              <a:avLst/>
              <a:gdLst/>
              <a:ahLst/>
              <a:rect l="l" t="t" r="r" b="b"/>
              <a:pathLst>
                <a:path w="3642" h="1688">
                  <a:moveTo>
                    <a:pt x="0" y="1501"/>
                  </a:moveTo>
                  <a:lnTo>
                    <a:pt x="585" y="851"/>
                  </a:lnTo>
                  <a:lnTo>
                    <a:pt x="944" y="772"/>
                  </a:lnTo>
                  <a:lnTo>
                    <a:pt x="491" y="1130"/>
                  </a:lnTo>
                  <a:lnTo>
                    <a:pt x="331" y="1396"/>
                  </a:lnTo>
                  <a:lnTo>
                    <a:pt x="1169" y="957"/>
                  </a:lnTo>
                  <a:lnTo>
                    <a:pt x="930" y="1222"/>
                  </a:lnTo>
                  <a:lnTo>
                    <a:pt x="1369" y="1076"/>
                  </a:lnTo>
                  <a:lnTo>
                    <a:pt x="1901" y="1116"/>
                  </a:lnTo>
                  <a:lnTo>
                    <a:pt x="2207" y="1303"/>
                  </a:lnTo>
                  <a:lnTo>
                    <a:pt x="1915" y="1011"/>
                  </a:lnTo>
                  <a:lnTo>
                    <a:pt x="2352" y="1157"/>
                  </a:lnTo>
                  <a:lnTo>
                    <a:pt x="2712" y="1528"/>
                  </a:lnTo>
                  <a:lnTo>
                    <a:pt x="2619" y="1276"/>
                  </a:lnTo>
                  <a:lnTo>
                    <a:pt x="3269" y="1688"/>
                  </a:lnTo>
                  <a:lnTo>
                    <a:pt x="2725" y="1157"/>
                  </a:lnTo>
                  <a:lnTo>
                    <a:pt x="3257" y="1489"/>
                  </a:lnTo>
                  <a:lnTo>
                    <a:pt x="3642" y="1528"/>
                  </a:lnTo>
                  <a:lnTo>
                    <a:pt x="2832" y="851"/>
                  </a:lnTo>
                  <a:lnTo>
                    <a:pt x="2990" y="665"/>
                  </a:lnTo>
                  <a:lnTo>
                    <a:pt x="2870" y="545"/>
                  </a:lnTo>
                  <a:lnTo>
                    <a:pt x="2910" y="413"/>
                  </a:lnTo>
                  <a:lnTo>
                    <a:pt x="2712" y="213"/>
                  </a:lnTo>
                  <a:lnTo>
                    <a:pt x="2286" y="0"/>
                  </a:lnTo>
                  <a:lnTo>
                    <a:pt x="1768" y="41"/>
                  </a:lnTo>
                  <a:lnTo>
                    <a:pt x="1343" y="160"/>
                  </a:lnTo>
                  <a:lnTo>
                    <a:pt x="1834" y="120"/>
                  </a:lnTo>
                  <a:lnTo>
                    <a:pt x="2486" y="239"/>
                  </a:lnTo>
                  <a:lnTo>
                    <a:pt x="1609" y="306"/>
                  </a:lnTo>
                  <a:lnTo>
                    <a:pt x="2499" y="373"/>
                  </a:lnTo>
                  <a:lnTo>
                    <a:pt x="2433" y="505"/>
                  </a:lnTo>
                  <a:lnTo>
                    <a:pt x="2646" y="585"/>
                  </a:lnTo>
                  <a:lnTo>
                    <a:pt x="2087" y="626"/>
                  </a:lnTo>
                  <a:lnTo>
                    <a:pt x="2633" y="837"/>
                  </a:lnTo>
                  <a:lnTo>
                    <a:pt x="1635" y="638"/>
                  </a:lnTo>
                  <a:lnTo>
                    <a:pt x="1236" y="758"/>
                  </a:lnTo>
                  <a:lnTo>
                    <a:pt x="1343" y="452"/>
                  </a:lnTo>
                  <a:lnTo>
                    <a:pt x="850" y="559"/>
                  </a:lnTo>
                  <a:lnTo>
                    <a:pt x="518" y="731"/>
                  </a:lnTo>
                  <a:lnTo>
                    <a:pt x="0" y="1501"/>
                  </a:lnTo>
                  <a:close/>
                </a:path>
              </a:pathLst>
            </a:custGeom>
            <a:solidFill>
              <a:srgbClr val="ffd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1391800">
              <a:off x="6428160" y="3590280"/>
              <a:ext cx="183240" cy="79560"/>
            </a:xfrm>
            <a:custGeom>
              <a:avLst/>
              <a:gdLst/>
              <a:ahLst/>
              <a:rect l="l" t="t" r="r" b="b"/>
              <a:pathLst>
                <a:path w="2362" h="1274">
                  <a:moveTo>
                    <a:pt x="2362" y="580"/>
                  </a:moveTo>
                  <a:lnTo>
                    <a:pt x="2042" y="695"/>
                  </a:lnTo>
                  <a:lnTo>
                    <a:pt x="1783" y="683"/>
                  </a:lnTo>
                  <a:lnTo>
                    <a:pt x="2031" y="600"/>
                  </a:lnTo>
                  <a:lnTo>
                    <a:pt x="1804" y="591"/>
                  </a:lnTo>
                  <a:lnTo>
                    <a:pt x="1855" y="518"/>
                  </a:lnTo>
                  <a:lnTo>
                    <a:pt x="1514" y="664"/>
                  </a:lnTo>
                  <a:lnTo>
                    <a:pt x="1679" y="414"/>
                  </a:lnTo>
                  <a:lnTo>
                    <a:pt x="1462" y="497"/>
                  </a:lnTo>
                  <a:lnTo>
                    <a:pt x="1565" y="321"/>
                  </a:lnTo>
                  <a:lnTo>
                    <a:pt x="1306" y="467"/>
                  </a:lnTo>
                  <a:lnTo>
                    <a:pt x="1420" y="311"/>
                  </a:lnTo>
                  <a:lnTo>
                    <a:pt x="954" y="383"/>
                  </a:lnTo>
                  <a:lnTo>
                    <a:pt x="373" y="653"/>
                  </a:lnTo>
                  <a:lnTo>
                    <a:pt x="384" y="538"/>
                  </a:lnTo>
                  <a:lnTo>
                    <a:pt x="228" y="715"/>
                  </a:lnTo>
                  <a:lnTo>
                    <a:pt x="176" y="1005"/>
                  </a:lnTo>
                  <a:lnTo>
                    <a:pt x="0" y="1274"/>
                  </a:lnTo>
                  <a:lnTo>
                    <a:pt x="0" y="1015"/>
                  </a:lnTo>
                  <a:lnTo>
                    <a:pt x="125" y="518"/>
                  </a:lnTo>
                  <a:lnTo>
                    <a:pt x="622" y="11"/>
                  </a:lnTo>
                  <a:lnTo>
                    <a:pt x="1565" y="0"/>
                  </a:lnTo>
                  <a:lnTo>
                    <a:pt x="1949" y="197"/>
                  </a:lnTo>
                  <a:lnTo>
                    <a:pt x="2362" y="58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1391800">
              <a:off x="6654240" y="3584520"/>
              <a:ext cx="48960" cy="64800"/>
            </a:xfrm>
            <a:custGeom>
              <a:avLst/>
              <a:gdLst/>
              <a:ahLst/>
              <a:rect l="l" t="t" r="r" b="b"/>
              <a:pathLst>
                <a:path w="631" h="1045">
                  <a:moveTo>
                    <a:pt x="62" y="93"/>
                  </a:moveTo>
                  <a:lnTo>
                    <a:pt x="0" y="362"/>
                  </a:lnTo>
                  <a:lnTo>
                    <a:pt x="0" y="1035"/>
                  </a:lnTo>
                  <a:lnTo>
                    <a:pt x="228" y="1045"/>
                  </a:lnTo>
                  <a:lnTo>
                    <a:pt x="631" y="714"/>
                  </a:lnTo>
                  <a:lnTo>
                    <a:pt x="507" y="310"/>
                  </a:lnTo>
                  <a:lnTo>
                    <a:pt x="321" y="134"/>
                  </a:lnTo>
                  <a:lnTo>
                    <a:pt x="134" y="0"/>
                  </a:lnTo>
                  <a:lnTo>
                    <a:pt x="62" y="9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1391800">
              <a:off x="6412320" y="3695400"/>
              <a:ext cx="11160" cy="17280"/>
            </a:xfrm>
            <a:custGeom>
              <a:avLst/>
              <a:gdLst/>
              <a:ahLst/>
              <a:rect l="l" t="t" r="r" b="b"/>
              <a:pathLst>
                <a:path w="144" h="279">
                  <a:moveTo>
                    <a:pt x="0" y="19"/>
                  </a:moveTo>
                  <a:lnTo>
                    <a:pt x="69" y="98"/>
                  </a:lnTo>
                  <a:lnTo>
                    <a:pt x="89" y="186"/>
                  </a:lnTo>
                  <a:lnTo>
                    <a:pt x="65" y="279"/>
                  </a:lnTo>
                  <a:lnTo>
                    <a:pt x="125" y="264"/>
                  </a:lnTo>
                  <a:lnTo>
                    <a:pt x="144" y="144"/>
                  </a:lnTo>
                  <a:lnTo>
                    <a:pt x="112" y="51"/>
                  </a:lnTo>
                  <a:lnTo>
                    <a:pt x="51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1391800">
              <a:off x="6595560" y="3689280"/>
              <a:ext cx="15840" cy="9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0" y="78"/>
                  </a:moveTo>
                  <a:lnTo>
                    <a:pt x="46" y="148"/>
                  </a:lnTo>
                  <a:lnTo>
                    <a:pt x="107" y="159"/>
                  </a:lnTo>
                  <a:lnTo>
                    <a:pt x="158" y="139"/>
                  </a:lnTo>
                  <a:lnTo>
                    <a:pt x="190" y="78"/>
                  </a:lnTo>
                  <a:lnTo>
                    <a:pt x="204" y="0"/>
                  </a:lnTo>
                  <a:lnTo>
                    <a:pt x="126" y="0"/>
                  </a:lnTo>
                  <a:lnTo>
                    <a:pt x="83" y="74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391800">
              <a:off x="6506640" y="3678840"/>
              <a:ext cx="15480" cy="8640"/>
            </a:xfrm>
            <a:custGeom>
              <a:avLst/>
              <a:gdLst/>
              <a:ahLst/>
              <a:rect l="l" t="t" r="r" b="b"/>
              <a:pathLst>
                <a:path w="205" h="141">
                  <a:moveTo>
                    <a:pt x="0" y="29"/>
                  </a:moveTo>
                  <a:lnTo>
                    <a:pt x="0" y="98"/>
                  </a:lnTo>
                  <a:lnTo>
                    <a:pt x="80" y="141"/>
                  </a:lnTo>
                  <a:lnTo>
                    <a:pt x="145" y="130"/>
                  </a:lnTo>
                  <a:lnTo>
                    <a:pt x="205" y="80"/>
                  </a:lnTo>
                  <a:lnTo>
                    <a:pt x="201" y="23"/>
                  </a:lnTo>
                  <a:lnTo>
                    <a:pt x="112" y="84"/>
                  </a:lnTo>
                  <a:lnTo>
                    <a:pt x="43" y="51"/>
                  </a:lnTo>
                  <a:lnTo>
                    <a:pt x="3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1391800">
              <a:off x="6507360" y="3678120"/>
              <a:ext cx="9720" cy="61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0" y="19"/>
                  </a:moveTo>
                  <a:lnTo>
                    <a:pt x="33" y="103"/>
                  </a:lnTo>
                  <a:lnTo>
                    <a:pt x="131" y="89"/>
                  </a:lnTo>
                  <a:lnTo>
                    <a:pt x="107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391800">
              <a:off x="6595920" y="3689280"/>
              <a:ext cx="7560" cy="4320"/>
            </a:xfrm>
            <a:custGeom>
              <a:avLst/>
              <a:gdLst/>
              <a:ahLst/>
              <a:rect l="l" t="t" r="r" b="b"/>
              <a:pathLst>
                <a:path w="98" h="74">
                  <a:moveTo>
                    <a:pt x="98" y="10"/>
                  </a:moveTo>
                  <a:lnTo>
                    <a:pt x="78" y="74"/>
                  </a:lnTo>
                  <a:lnTo>
                    <a:pt x="0" y="60"/>
                  </a:lnTo>
                  <a:lnTo>
                    <a:pt x="9" y="0"/>
                  </a:lnTo>
                  <a:lnTo>
                    <a:pt x="98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21391800">
              <a:off x="6597360" y="3689640"/>
              <a:ext cx="13680" cy="9000"/>
            </a:xfrm>
            <a:custGeom>
              <a:avLst/>
              <a:gdLst/>
              <a:ahLst/>
              <a:rect l="l" t="t" r="r" b="b"/>
              <a:pathLst>
                <a:path w="180" h="148">
                  <a:moveTo>
                    <a:pt x="139" y="0"/>
                  </a:moveTo>
                  <a:lnTo>
                    <a:pt x="147" y="50"/>
                  </a:lnTo>
                  <a:lnTo>
                    <a:pt x="116" y="102"/>
                  </a:lnTo>
                  <a:lnTo>
                    <a:pt x="69" y="111"/>
                  </a:lnTo>
                  <a:lnTo>
                    <a:pt x="0" y="106"/>
                  </a:lnTo>
                  <a:lnTo>
                    <a:pt x="41" y="143"/>
                  </a:lnTo>
                  <a:lnTo>
                    <a:pt x="102" y="148"/>
                  </a:lnTo>
                  <a:lnTo>
                    <a:pt x="162" y="106"/>
                  </a:lnTo>
                  <a:lnTo>
                    <a:pt x="180" y="3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1391800">
              <a:off x="6509160" y="3678840"/>
              <a:ext cx="12600" cy="9000"/>
            </a:xfrm>
            <a:custGeom>
              <a:avLst/>
              <a:gdLst/>
              <a:ahLst/>
              <a:rect l="l" t="t" r="r" b="b"/>
              <a:pathLst>
                <a:path w="164" h="145">
                  <a:moveTo>
                    <a:pt x="0" y="93"/>
                  </a:moveTo>
                  <a:lnTo>
                    <a:pt x="80" y="112"/>
                  </a:lnTo>
                  <a:lnTo>
                    <a:pt x="122" y="84"/>
                  </a:lnTo>
                  <a:lnTo>
                    <a:pt x="99" y="0"/>
                  </a:lnTo>
                  <a:lnTo>
                    <a:pt x="159" y="23"/>
                  </a:lnTo>
                  <a:lnTo>
                    <a:pt x="164" y="98"/>
                  </a:lnTo>
                  <a:lnTo>
                    <a:pt x="99" y="145"/>
                  </a:lnTo>
                  <a:lnTo>
                    <a:pt x="38" y="141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391800">
              <a:off x="6559920" y="3678480"/>
              <a:ext cx="72360" cy="72720"/>
            </a:xfrm>
            <a:custGeom>
              <a:avLst/>
              <a:gdLst/>
              <a:ahLst/>
              <a:rect l="l" t="t" r="r" b="b"/>
              <a:pathLst>
                <a:path w="938" h="1168">
                  <a:moveTo>
                    <a:pt x="525" y="0"/>
                  </a:moveTo>
                  <a:lnTo>
                    <a:pt x="384" y="61"/>
                  </a:lnTo>
                  <a:lnTo>
                    <a:pt x="275" y="170"/>
                  </a:lnTo>
                  <a:lnTo>
                    <a:pt x="213" y="287"/>
                  </a:lnTo>
                  <a:lnTo>
                    <a:pt x="196" y="499"/>
                  </a:lnTo>
                  <a:lnTo>
                    <a:pt x="208" y="669"/>
                  </a:lnTo>
                  <a:lnTo>
                    <a:pt x="220" y="992"/>
                  </a:lnTo>
                  <a:lnTo>
                    <a:pt x="140" y="1053"/>
                  </a:lnTo>
                  <a:lnTo>
                    <a:pt x="0" y="1114"/>
                  </a:lnTo>
                  <a:lnTo>
                    <a:pt x="262" y="1168"/>
                  </a:lnTo>
                  <a:lnTo>
                    <a:pt x="294" y="1168"/>
                  </a:lnTo>
                  <a:lnTo>
                    <a:pt x="360" y="1138"/>
                  </a:lnTo>
                  <a:lnTo>
                    <a:pt x="348" y="998"/>
                  </a:lnTo>
                  <a:lnTo>
                    <a:pt x="281" y="669"/>
                  </a:lnTo>
                  <a:lnTo>
                    <a:pt x="335" y="298"/>
                  </a:lnTo>
                  <a:lnTo>
                    <a:pt x="379" y="250"/>
                  </a:lnTo>
                  <a:lnTo>
                    <a:pt x="494" y="135"/>
                  </a:lnTo>
                  <a:lnTo>
                    <a:pt x="676" y="91"/>
                  </a:lnTo>
                  <a:lnTo>
                    <a:pt x="938" y="31"/>
                  </a:lnTo>
                  <a:lnTo>
                    <a:pt x="651" y="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1391800">
              <a:off x="6509160" y="3757320"/>
              <a:ext cx="61560" cy="27720"/>
            </a:xfrm>
            <a:custGeom>
              <a:avLst/>
              <a:gdLst/>
              <a:ahLst/>
              <a:rect l="l" t="t" r="r" b="b"/>
              <a:pathLst>
                <a:path w="792" h="443">
                  <a:moveTo>
                    <a:pt x="122" y="157"/>
                  </a:moveTo>
                  <a:lnTo>
                    <a:pt x="250" y="370"/>
                  </a:lnTo>
                  <a:lnTo>
                    <a:pt x="348" y="436"/>
                  </a:lnTo>
                  <a:lnTo>
                    <a:pt x="567" y="443"/>
                  </a:lnTo>
                  <a:lnTo>
                    <a:pt x="792" y="254"/>
                  </a:lnTo>
                  <a:lnTo>
                    <a:pt x="603" y="230"/>
                  </a:lnTo>
                  <a:lnTo>
                    <a:pt x="511" y="97"/>
                  </a:lnTo>
                  <a:lnTo>
                    <a:pt x="0" y="0"/>
                  </a:lnTo>
                  <a:lnTo>
                    <a:pt x="122" y="157"/>
                  </a:lnTo>
                  <a:close/>
                </a:path>
              </a:pathLst>
            </a:cu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391800">
              <a:off x="6527880" y="3773880"/>
              <a:ext cx="15840" cy="5760"/>
            </a:xfrm>
            <a:custGeom>
              <a:avLst/>
              <a:gdLst/>
              <a:ahLst/>
              <a:rect l="l" t="t" r="r" b="b"/>
              <a:pathLst>
                <a:path w="207" h="98">
                  <a:moveTo>
                    <a:pt x="0" y="0"/>
                  </a:moveTo>
                  <a:lnTo>
                    <a:pt x="97" y="98"/>
                  </a:lnTo>
                  <a:lnTo>
                    <a:pt x="207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b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1391800">
              <a:off x="6480720" y="3608280"/>
              <a:ext cx="181800" cy="210600"/>
            </a:xfrm>
            <a:custGeom>
              <a:avLst/>
              <a:gdLst/>
              <a:ahLst/>
              <a:rect l="l" t="t" r="r" b="b"/>
              <a:pathLst>
                <a:path w="2337" h="3380">
                  <a:moveTo>
                    <a:pt x="0" y="3022"/>
                  </a:moveTo>
                  <a:lnTo>
                    <a:pt x="347" y="3204"/>
                  </a:lnTo>
                  <a:lnTo>
                    <a:pt x="547" y="3254"/>
                  </a:lnTo>
                  <a:lnTo>
                    <a:pt x="706" y="3228"/>
                  </a:lnTo>
                  <a:lnTo>
                    <a:pt x="870" y="3138"/>
                  </a:lnTo>
                  <a:lnTo>
                    <a:pt x="998" y="3003"/>
                  </a:lnTo>
                  <a:lnTo>
                    <a:pt x="1260" y="2791"/>
                  </a:lnTo>
                  <a:lnTo>
                    <a:pt x="1516" y="2499"/>
                  </a:lnTo>
                  <a:lnTo>
                    <a:pt x="1661" y="2250"/>
                  </a:lnTo>
                  <a:lnTo>
                    <a:pt x="1892" y="1868"/>
                  </a:lnTo>
                  <a:lnTo>
                    <a:pt x="1953" y="1587"/>
                  </a:lnTo>
                  <a:lnTo>
                    <a:pt x="1886" y="1576"/>
                  </a:lnTo>
                  <a:lnTo>
                    <a:pt x="1807" y="1582"/>
                  </a:lnTo>
                  <a:lnTo>
                    <a:pt x="1886" y="1502"/>
                  </a:lnTo>
                  <a:lnTo>
                    <a:pt x="1820" y="1284"/>
                  </a:lnTo>
                  <a:lnTo>
                    <a:pt x="1929" y="1302"/>
                  </a:lnTo>
                  <a:lnTo>
                    <a:pt x="1977" y="1369"/>
                  </a:lnTo>
                  <a:lnTo>
                    <a:pt x="2003" y="1429"/>
                  </a:lnTo>
                  <a:lnTo>
                    <a:pt x="2027" y="1325"/>
                  </a:lnTo>
                  <a:lnTo>
                    <a:pt x="2008" y="1137"/>
                  </a:lnTo>
                  <a:lnTo>
                    <a:pt x="2099" y="852"/>
                  </a:lnTo>
                  <a:lnTo>
                    <a:pt x="2160" y="517"/>
                  </a:lnTo>
                  <a:lnTo>
                    <a:pt x="2160" y="401"/>
                  </a:lnTo>
                  <a:lnTo>
                    <a:pt x="2123" y="231"/>
                  </a:lnTo>
                  <a:lnTo>
                    <a:pt x="1917" y="335"/>
                  </a:lnTo>
                  <a:lnTo>
                    <a:pt x="1709" y="377"/>
                  </a:lnTo>
                  <a:lnTo>
                    <a:pt x="1375" y="371"/>
                  </a:lnTo>
                  <a:lnTo>
                    <a:pt x="1703" y="262"/>
                  </a:lnTo>
                  <a:lnTo>
                    <a:pt x="2166" y="0"/>
                  </a:lnTo>
                  <a:lnTo>
                    <a:pt x="2306" y="104"/>
                  </a:lnTo>
                  <a:lnTo>
                    <a:pt x="2337" y="395"/>
                  </a:lnTo>
                  <a:lnTo>
                    <a:pt x="2173" y="1205"/>
                  </a:lnTo>
                  <a:lnTo>
                    <a:pt x="2112" y="1332"/>
                  </a:lnTo>
                  <a:lnTo>
                    <a:pt x="2027" y="1508"/>
                  </a:lnTo>
                  <a:lnTo>
                    <a:pt x="1929" y="1903"/>
                  </a:lnTo>
                  <a:lnTo>
                    <a:pt x="1807" y="2274"/>
                  </a:lnTo>
                  <a:lnTo>
                    <a:pt x="1571" y="2596"/>
                  </a:lnTo>
                  <a:lnTo>
                    <a:pt x="1297" y="2901"/>
                  </a:lnTo>
                  <a:lnTo>
                    <a:pt x="968" y="3186"/>
                  </a:lnTo>
                  <a:lnTo>
                    <a:pt x="620" y="3380"/>
                  </a:lnTo>
                  <a:lnTo>
                    <a:pt x="298" y="3302"/>
                  </a:lnTo>
                  <a:lnTo>
                    <a:pt x="0" y="3022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1391800">
              <a:off x="6519240" y="3766320"/>
              <a:ext cx="59400" cy="25200"/>
            </a:xfrm>
            <a:custGeom>
              <a:avLst/>
              <a:gdLst/>
              <a:ahLst/>
              <a:rect l="l" t="t" r="r" b="b"/>
              <a:pathLst>
                <a:path w="769" h="411">
                  <a:moveTo>
                    <a:pt x="0" y="97"/>
                  </a:moveTo>
                  <a:lnTo>
                    <a:pt x="117" y="284"/>
                  </a:lnTo>
                  <a:lnTo>
                    <a:pt x="61" y="306"/>
                  </a:lnTo>
                  <a:lnTo>
                    <a:pt x="240" y="354"/>
                  </a:lnTo>
                  <a:lnTo>
                    <a:pt x="398" y="384"/>
                  </a:lnTo>
                  <a:lnTo>
                    <a:pt x="476" y="411"/>
                  </a:lnTo>
                  <a:lnTo>
                    <a:pt x="607" y="319"/>
                  </a:lnTo>
                  <a:lnTo>
                    <a:pt x="769" y="27"/>
                  </a:lnTo>
                  <a:lnTo>
                    <a:pt x="586" y="0"/>
                  </a:lnTo>
                  <a:lnTo>
                    <a:pt x="450" y="61"/>
                  </a:lnTo>
                  <a:lnTo>
                    <a:pt x="639" y="122"/>
                  </a:lnTo>
                  <a:lnTo>
                    <a:pt x="494" y="258"/>
                  </a:lnTo>
                  <a:lnTo>
                    <a:pt x="309" y="272"/>
                  </a:lnTo>
                  <a:lnTo>
                    <a:pt x="153" y="219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1391800">
              <a:off x="6479640" y="3659760"/>
              <a:ext cx="83160" cy="32400"/>
            </a:xfrm>
            <a:custGeom>
              <a:avLst/>
              <a:gdLst/>
              <a:ahLst/>
              <a:rect l="l" t="t" r="r" b="b"/>
              <a:pathLst>
                <a:path w="1074" h="525">
                  <a:moveTo>
                    <a:pt x="0" y="203"/>
                  </a:moveTo>
                  <a:lnTo>
                    <a:pt x="184" y="299"/>
                  </a:lnTo>
                  <a:lnTo>
                    <a:pt x="296" y="215"/>
                  </a:lnTo>
                  <a:lnTo>
                    <a:pt x="547" y="199"/>
                  </a:lnTo>
                  <a:lnTo>
                    <a:pt x="650" y="218"/>
                  </a:lnTo>
                  <a:lnTo>
                    <a:pt x="794" y="362"/>
                  </a:lnTo>
                  <a:lnTo>
                    <a:pt x="786" y="525"/>
                  </a:lnTo>
                  <a:lnTo>
                    <a:pt x="885" y="474"/>
                  </a:lnTo>
                  <a:lnTo>
                    <a:pt x="957" y="382"/>
                  </a:lnTo>
                  <a:lnTo>
                    <a:pt x="1074" y="350"/>
                  </a:lnTo>
                  <a:lnTo>
                    <a:pt x="1005" y="247"/>
                  </a:lnTo>
                  <a:lnTo>
                    <a:pt x="762" y="111"/>
                  </a:lnTo>
                  <a:lnTo>
                    <a:pt x="343" y="12"/>
                  </a:lnTo>
                  <a:lnTo>
                    <a:pt x="231" y="0"/>
                  </a:lnTo>
                  <a:lnTo>
                    <a:pt x="375" y="64"/>
                  </a:lnTo>
                  <a:lnTo>
                    <a:pt x="503" y="139"/>
                  </a:lnTo>
                  <a:lnTo>
                    <a:pt x="275" y="155"/>
                  </a:lnTo>
                  <a:lnTo>
                    <a:pt x="147" y="218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1391800">
              <a:off x="6395040" y="3597120"/>
              <a:ext cx="174240" cy="190440"/>
            </a:xfrm>
            <a:custGeom>
              <a:avLst/>
              <a:gdLst/>
              <a:ahLst/>
              <a:rect l="l" t="t" r="r" b="b"/>
              <a:pathLst>
                <a:path w="2247" h="3052">
                  <a:moveTo>
                    <a:pt x="359" y="1667"/>
                  </a:moveTo>
                  <a:lnTo>
                    <a:pt x="332" y="2058"/>
                  </a:lnTo>
                  <a:lnTo>
                    <a:pt x="311" y="2512"/>
                  </a:lnTo>
                  <a:lnTo>
                    <a:pt x="825" y="3052"/>
                  </a:lnTo>
                  <a:lnTo>
                    <a:pt x="525" y="2557"/>
                  </a:lnTo>
                  <a:lnTo>
                    <a:pt x="463" y="2185"/>
                  </a:lnTo>
                  <a:lnTo>
                    <a:pt x="466" y="1585"/>
                  </a:lnTo>
                  <a:lnTo>
                    <a:pt x="591" y="1827"/>
                  </a:lnTo>
                  <a:lnTo>
                    <a:pt x="507" y="1501"/>
                  </a:lnTo>
                  <a:lnTo>
                    <a:pt x="599" y="1213"/>
                  </a:lnTo>
                  <a:lnTo>
                    <a:pt x="678" y="971"/>
                  </a:lnTo>
                  <a:lnTo>
                    <a:pt x="751" y="688"/>
                  </a:lnTo>
                  <a:lnTo>
                    <a:pt x="825" y="632"/>
                  </a:lnTo>
                  <a:lnTo>
                    <a:pt x="982" y="553"/>
                  </a:lnTo>
                  <a:lnTo>
                    <a:pt x="1105" y="982"/>
                  </a:lnTo>
                  <a:lnTo>
                    <a:pt x="1095" y="715"/>
                  </a:lnTo>
                  <a:lnTo>
                    <a:pt x="1193" y="441"/>
                  </a:lnTo>
                  <a:lnTo>
                    <a:pt x="1440" y="330"/>
                  </a:lnTo>
                  <a:lnTo>
                    <a:pt x="1807" y="294"/>
                  </a:lnTo>
                  <a:lnTo>
                    <a:pt x="1731" y="394"/>
                  </a:lnTo>
                  <a:lnTo>
                    <a:pt x="2247" y="154"/>
                  </a:lnTo>
                  <a:lnTo>
                    <a:pt x="2054" y="0"/>
                  </a:lnTo>
                  <a:lnTo>
                    <a:pt x="591" y="262"/>
                  </a:lnTo>
                  <a:lnTo>
                    <a:pt x="199" y="512"/>
                  </a:lnTo>
                  <a:lnTo>
                    <a:pt x="0" y="692"/>
                  </a:lnTo>
                  <a:lnTo>
                    <a:pt x="156" y="728"/>
                  </a:lnTo>
                  <a:lnTo>
                    <a:pt x="208" y="876"/>
                  </a:lnTo>
                  <a:lnTo>
                    <a:pt x="191" y="951"/>
                  </a:lnTo>
                  <a:lnTo>
                    <a:pt x="112" y="1086"/>
                  </a:lnTo>
                  <a:lnTo>
                    <a:pt x="107" y="1234"/>
                  </a:lnTo>
                  <a:lnTo>
                    <a:pt x="168" y="1326"/>
                  </a:lnTo>
                  <a:lnTo>
                    <a:pt x="159" y="1409"/>
                  </a:lnTo>
                  <a:lnTo>
                    <a:pt x="279" y="1472"/>
                  </a:lnTo>
                  <a:lnTo>
                    <a:pt x="327" y="1421"/>
                  </a:lnTo>
                  <a:lnTo>
                    <a:pt x="256" y="1213"/>
                  </a:lnTo>
                  <a:lnTo>
                    <a:pt x="319" y="1134"/>
                  </a:lnTo>
                  <a:lnTo>
                    <a:pt x="384" y="1310"/>
                  </a:lnTo>
                  <a:lnTo>
                    <a:pt x="359" y="1667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1391800">
              <a:off x="6436080" y="3785040"/>
              <a:ext cx="38160" cy="124560"/>
            </a:xfrm>
            <a:custGeom>
              <a:avLst/>
              <a:gdLst/>
              <a:ahLst/>
              <a:rect l="l" t="t" r="r" b="b"/>
              <a:pathLst>
                <a:path w="492" h="1997">
                  <a:moveTo>
                    <a:pt x="0" y="301"/>
                  </a:moveTo>
                  <a:lnTo>
                    <a:pt x="66" y="807"/>
                  </a:lnTo>
                  <a:lnTo>
                    <a:pt x="492" y="1997"/>
                  </a:lnTo>
                  <a:lnTo>
                    <a:pt x="283" y="920"/>
                  </a:lnTo>
                  <a:lnTo>
                    <a:pt x="228" y="425"/>
                  </a:lnTo>
                  <a:lnTo>
                    <a:pt x="52" y="0"/>
                  </a:lnTo>
                  <a:lnTo>
                    <a:pt x="0" y="3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1391800">
              <a:off x="6453720" y="3779280"/>
              <a:ext cx="77400" cy="226080"/>
            </a:xfrm>
            <a:custGeom>
              <a:avLst/>
              <a:gdLst/>
              <a:ahLst/>
              <a:rect l="l" t="t" r="r" b="b"/>
              <a:pathLst>
                <a:path w="995" h="3623">
                  <a:moveTo>
                    <a:pt x="0" y="0"/>
                  </a:moveTo>
                  <a:lnTo>
                    <a:pt x="290" y="445"/>
                  </a:lnTo>
                  <a:lnTo>
                    <a:pt x="600" y="746"/>
                  </a:lnTo>
                  <a:lnTo>
                    <a:pt x="643" y="1035"/>
                  </a:lnTo>
                  <a:lnTo>
                    <a:pt x="673" y="1418"/>
                  </a:lnTo>
                  <a:lnTo>
                    <a:pt x="735" y="1749"/>
                  </a:lnTo>
                  <a:lnTo>
                    <a:pt x="581" y="3117"/>
                  </a:lnTo>
                  <a:lnTo>
                    <a:pt x="93" y="2526"/>
                  </a:lnTo>
                  <a:lnTo>
                    <a:pt x="622" y="3623"/>
                  </a:lnTo>
                  <a:lnTo>
                    <a:pt x="891" y="2505"/>
                  </a:lnTo>
                  <a:lnTo>
                    <a:pt x="921" y="1802"/>
                  </a:lnTo>
                  <a:lnTo>
                    <a:pt x="776" y="1408"/>
                  </a:lnTo>
                  <a:lnTo>
                    <a:pt x="995" y="953"/>
                  </a:lnTo>
                  <a:lnTo>
                    <a:pt x="963" y="725"/>
                  </a:lnTo>
                  <a:lnTo>
                    <a:pt x="279" y="2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1391800">
              <a:off x="6453720" y="3655440"/>
              <a:ext cx="81000" cy="127440"/>
            </a:xfrm>
            <a:custGeom>
              <a:avLst/>
              <a:gdLst/>
              <a:ahLst/>
              <a:rect l="l" t="t" r="r" b="b"/>
              <a:pathLst>
                <a:path w="1047" h="2046">
                  <a:moveTo>
                    <a:pt x="197" y="0"/>
                  </a:moveTo>
                  <a:lnTo>
                    <a:pt x="249" y="362"/>
                  </a:lnTo>
                  <a:lnTo>
                    <a:pt x="517" y="532"/>
                  </a:lnTo>
                  <a:lnTo>
                    <a:pt x="584" y="658"/>
                  </a:lnTo>
                  <a:lnTo>
                    <a:pt x="767" y="807"/>
                  </a:lnTo>
                  <a:lnTo>
                    <a:pt x="1047" y="798"/>
                  </a:lnTo>
                  <a:lnTo>
                    <a:pt x="900" y="930"/>
                  </a:lnTo>
                  <a:lnTo>
                    <a:pt x="846" y="1159"/>
                  </a:lnTo>
                  <a:lnTo>
                    <a:pt x="565" y="1562"/>
                  </a:lnTo>
                  <a:lnTo>
                    <a:pt x="648" y="2046"/>
                  </a:lnTo>
                  <a:lnTo>
                    <a:pt x="283" y="1760"/>
                  </a:lnTo>
                  <a:lnTo>
                    <a:pt x="166" y="1449"/>
                  </a:lnTo>
                  <a:lnTo>
                    <a:pt x="83" y="848"/>
                  </a:lnTo>
                  <a:lnTo>
                    <a:pt x="0" y="466"/>
                  </a:lnTo>
                  <a:lnTo>
                    <a:pt x="73" y="166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1391800">
              <a:off x="6542640" y="3684600"/>
              <a:ext cx="27360" cy="55800"/>
            </a:xfrm>
            <a:custGeom>
              <a:avLst/>
              <a:gdLst/>
              <a:ahLst/>
              <a:rect l="l" t="t" r="r" b="b"/>
              <a:pathLst>
                <a:path w="352" h="901">
                  <a:moveTo>
                    <a:pt x="352" y="0"/>
                  </a:moveTo>
                  <a:lnTo>
                    <a:pt x="166" y="114"/>
                  </a:lnTo>
                  <a:lnTo>
                    <a:pt x="0" y="238"/>
                  </a:lnTo>
                  <a:lnTo>
                    <a:pt x="155" y="311"/>
                  </a:lnTo>
                  <a:lnTo>
                    <a:pt x="217" y="413"/>
                  </a:lnTo>
                  <a:lnTo>
                    <a:pt x="217" y="663"/>
                  </a:lnTo>
                  <a:lnTo>
                    <a:pt x="114" y="787"/>
                  </a:lnTo>
                  <a:lnTo>
                    <a:pt x="217" y="901"/>
                  </a:lnTo>
                  <a:lnTo>
                    <a:pt x="300" y="890"/>
                  </a:lnTo>
                  <a:lnTo>
                    <a:pt x="300" y="715"/>
                  </a:lnTo>
                  <a:lnTo>
                    <a:pt x="290" y="19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1391800">
              <a:off x="6487200" y="3623040"/>
              <a:ext cx="33840" cy="32760"/>
            </a:xfrm>
            <a:custGeom>
              <a:avLst/>
              <a:gdLst/>
              <a:ahLst/>
              <a:rect l="l" t="t" r="r" b="b"/>
              <a:pathLst>
                <a:path w="437" h="529">
                  <a:moveTo>
                    <a:pt x="104" y="84"/>
                  </a:moveTo>
                  <a:lnTo>
                    <a:pt x="74" y="322"/>
                  </a:lnTo>
                  <a:lnTo>
                    <a:pt x="0" y="529"/>
                  </a:lnTo>
                  <a:lnTo>
                    <a:pt x="290" y="519"/>
                  </a:lnTo>
                  <a:lnTo>
                    <a:pt x="437" y="519"/>
                  </a:lnTo>
                  <a:lnTo>
                    <a:pt x="290" y="332"/>
                  </a:lnTo>
                  <a:lnTo>
                    <a:pt x="218" y="124"/>
                  </a:lnTo>
                  <a:lnTo>
                    <a:pt x="290" y="0"/>
                  </a:lnTo>
                  <a:lnTo>
                    <a:pt x="188" y="0"/>
                  </a:lnTo>
                  <a:lnTo>
                    <a:pt x="10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1391800">
              <a:off x="6486120" y="3745080"/>
              <a:ext cx="51480" cy="15840"/>
            </a:xfrm>
            <a:custGeom>
              <a:avLst/>
              <a:gdLst/>
              <a:ahLst/>
              <a:rect l="l" t="t" r="r" b="b"/>
              <a:pathLst>
                <a:path w="663" h="257">
                  <a:moveTo>
                    <a:pt x="658" y="131"/>
                  </a:moveTo>
                  <a:lnTo>
                    <a:pt x="663" y="257"/>
                  </a:lnTo>
                  <a:lnTo>
                    <a:pt x="337" y="172"/>
                  </a:lnTo>
                  <a:lnTo>
                    <a:pt x="0" y="184"/>
                  </a:lnTo>
                  <a:lnTo>
                    <a:pt x="441" y="0"/>
                  </a:lnTo>
                  <a:lnTo>
                    <a:pt x="658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21391800">
              <a:off x="6482160" y="3772800"/>
              <a:ext cx="52200" cy="31680"/>
            </a:xfrm>
            <a:custGeom>
              <a:avLst/>
              <a:gdLst/>
              <a:ahLst/>
              <a:rect l="l" t="t" r="r" b="b"/>
              <a:pathLst>
                <a:path w="674" h="508">
                  <a:moveTo>
                    <a:pt x="633" y="372"/>
                  </a:moveTo>
                  <a:lnTo>
                    <a:pt x="301" y="238"/>
                  </a:lnTo>
                  <a:lnTo>
                    <a:pt x="0" y="0"/>
                  </a:lnTo>
                  <a:lnTo>
                    <a:pt x="217" y="248"/>
                  </a:lnTo>
                  <a:lnTo>
                    <a:pt x="476" y="455"/>
                  </a:lnTo>
                  <a:lnTo>
                    <a:pt x="591" y="508"/>
                  </a:lnTo>
                  <a:lnTo>
                    <a:pt x="674" y="455"/>
                  </a:lnTo>
                  <a:lnTo>
                    <a:pt x="633" y="3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391800">
              <a:off x="6497640" y="3719160"/>
              <a:ext cx="39600" cy="18000"/>
            </a:xfrm>
            <a:custGeom>
              <a:avLst/>
              <a:gdLst/>
              <a:ahLst/>
              <a:rect l="l" t="t" r="r" b="b"/>
              <a:pathLst>
                <a:path w="508" h="291">
                  <a:moveTo>
                    <a:pt x="425" y="94"/>
                  </a:moveTo>
                  <a:lnTo>
                    <a:pt x="249" y="176"/>
                  </a:lnTo>
                  <a:lnTo>
                    <a:pt x="0" y="291"/>
                  </a:lnTo>
                  <a:lnTo>
                    <a:pt x="227" y="73"/>
                  </a:lnTo>
                  <a:lnTo>
                    <a:pt x="384" y="0"/>
                  </a:lnTo>
                  <a:lnTo>
                    <a:pt x="508" y="42"/>
                  </a:lnTo>
                  <a:lnTo>
                    <a:pt x="425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391800">
              <a:off x="6593040" y="3702240"/>
              <a:ext cx="27360" cy="28440"/>
            </a:xfrm>
            <a:custGeom>
              <a:avLst/>
              <a:gdLst/>
              <a:ahLst/>
              <a:rect l="l" t="t" r="r" b="b"/>
              <a:pathLst>
                <a:path w="351" h="456">
                  <a:moveTo>
                    <a:pt x="21" y="104"/>
                  </a:moveTo>
                  <a:lnTo>
                    <a:pt x="21" y="280"/>
                  </a:lnTo>
                  <a:lnTo>
                    <a:pt x="114" y="456"/>
                  </a:lnTo>
                  <a:lnTo>
                    <a:pt x="259" y="332"/>
                  </a:lnTo>
                  <a:lnTo>
                    <a:pt x="351" y="145"/>
                  </a:lnTo>
                  <a:lnTo>
                    <a:pt x="237" y="156"/>
                  </a:lnTo>
                  <a:lnTo>
                    <a:pt x="0" y="0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21391800">
              <a:off x="6597000" y="3637440"/>
              <a:ext cx="25560" cy="29520"/>
            </a:xfrm>
            <a:custGeom>
              <a:avLst/>
              <a:gdLst/>
              <a:ahLst/>
              <a:rect l="l" t="t" r="r" b="b"/>
              <a:pathLst>
                <a:path w="331" h="476">
                  <a:moveTo>
                    <a:pt x="123" y="30"/>
                  </a:moveTo>
                  <a:lnTo>
                    <a:pt x="331" y="0"/>
                  </a:lnTo>
                  <a:lnTo>
                    <a:pt x="331" y="166"/>
                  </a:lnTo>
                  <a:lnTo>
                    <a:pt x="268" y="311"/>
                  </a:lnTo>
                  <a:lnTo>
                    <a:pt x="155" y="456"/>
                  </a:lnTo>
                  <a:lnTo>
                    <a:pt x="0" y="476"/>
                  </a:lnTo>
                  <a:lnTo>
                    <a:pt x="94" y="331"/>
                  </a:lnTo>
                  <a:lnTo>
                    <a:pt x="12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1391800">
              <a:off x="6344280" y="3601800"/>
              <a:ext cx="43200" cy="124560"/>
            </a:xfrm>
            <a:custGeom>
              <a:avLst/>
              <a:gdLst/>
              <a:ahLst/>
              <a:rect l="l" t="t" r="r" b="b"/>
              <a:pathLst>
                <a:path w="560" h="1999">
                  <a:moveTo>
                    <a:pt x="560" y="0"/>
                  </a:moveTo>
                  <a:lnTo>
                    <a:pt x="321" y="538"/>
                  </a:lnTo>
                  <a:lnTo>
                    <a:pt x="539" y="414"/>
                  </a:lnTo>
                  <a:lnTo>
                    <a:pt x="270" y="881"/>
                  </a:lnTo>
                  <a:lnTo>
                    <a:pt x="270" y="1429"/>
                  </a:lnTo>
                  <a:lnTo>
                    <a:pt x="415" y="1036"/>
                  </a:lnTo>
                  <a:lnTo>
                    <a:pt x="332" y="1563"/>
                  </a:lnTo>
                  <a:lnTo>
                    <a:pt x="456" y="1999"/>
                  </a:lnTo>
                  <a:lnTo>
                    <a:pt x="166" y="1739"/>
                  </a:lnTo>
                  <a:lnTo>
                    <a:pt x="52" y="1543"/>
                  </a:lnTo>
                  <a:lnTo>
                    <a:pt x="0" y="1077"/>
                  </a:lnTo>
                  <a:lnTo>
                    <a:pt x="249" y="600"/>
                  </a:lnTo>
                  <a:lnTo>
                    <a:pt x="290" y="36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391800">
              <a:off x="6407280" y="3530520"/>
              <a:ext cx="127800" cy="47160"/>
            </a:xfrm>
            <a:custGeom>
              <a:avLst/>
              <a:gdLst/>
              <a:ahLst/>
              <a:rect l="l" t="t" r="r" b="b"/>
              <a:pathLst>
                <a:path w="1649" h="756">
                  <a:moveTo>
                    <a:pt x="104" y="496"/>
                  </a:moveTo>
                  <a:lnTo>
                    <a:pt x="560" y="124"/>
                  </a:lnTo>
                  <a:lnTo>
                    <a:pt x="457" y="321"/>
                  </a:lnTo>
                  <a:lnTo>
                    <a:pt x="902" y="31"/>
                  </a:lnTo>
                  <a:lnTo>
                    <a:pt x="727" y="259"/>
                  </a:lnTo>
                  <a:lnTo>
                    <a:pt x="1245" y="0"/>
                  </a:lnTo>
                  <a:lnTo>
                    <a:pt x="923" y="248"/>
                  </a:lnTo>
                  <a:lnTo>
                    <a:pt x="1649" y="207"/>
                  </a:lnTo>
                  <a:lnTo>
                    <a:pt x="882" y="414"/>
                  </a:lnTo>
                  <a:lnTo>
                    <a:pt x="1307" y="467"/>
                  </a:lnTo>
                  <a:lnTo>
                    <a:pt x="1109" y="529"/>
                  </a:lnTo>
                  <a:lnTo>
                    <a:pt x="1514" y="642"/>
                  </a:lnTo>
                  <a:lnTo>
                    <a:pt x="1027" y="632"/>
                  </a:lnTo>
                  <a:lnTo>
                    <a:pt x="488" y="756"/>
                  </a:lnTo>
                  <a:lnTo>
                    <a:pt x="747" y="570"/>
                  </a:lnTo>
                  <a:lnTo>
                    <a:pt x="467" y="653"/>
                  </a:lnTo>
                  <a:lnTo>
                    <a:pt x="757" y="405"/>
                  </a:lnTo>
                  <a:lnTo>
                    <a:pt x="219" y="736"/>
                  </a:lnTo>
                  <a:lnTo>
                    <a:pt x="436" y="424"/>
                  </a:lnTo>
                  <a:lnTo>
                    <a:pt x="0" y="632"/>
                  </a:lnTo>
                  <a:lnTo>
                    <a:pt x="104" y="496"/>
                  </a:lnTo>
                  <a:close/>
                </a:path>
              </a:pathLst>
            </a:cu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391800">
              <a:off x="6393240" y="3770280"/>
              <a:ext cx="113760" cy="259920"/>
            </a:xfrm>
            <a:custGeom>
              <a:avLst/>
              <a:gdLst/>
              <a:ahLst/>
              <a:rect l="l" t="t" r="r" b="b"/>
              <a:pathLst>
                <a:path w="1462" h="4170">
                  <a:moveTo>
                    <a:pt x="0" y="362"/>
                  </a:moveTo>
                  <a:lnTo>
                    <a:pt x="176" y="1375"/>
                  </a:lnTo>
                  <a:lnTo>
                    <a:pt x="208" y="2938"/>
                  </a:lnTo>
                  <a:lnTo>
                    <a:pt x="829" y="3135"/>
                  </a:lnTo>
                  <a:lnTo>
                    <a:pt x="860" y="3529"/>
                  </a:lnTo>
                  <a:lnTo>
                    <a:pt x="1347" y="4170"/>
                  </a:lnTo>
                  <a:lnTo>
                    <a:pt x="1462" y="4170"/>
                  </a:lnTo>
                  <a:lnTo>
                    <a:pt x="933" y="3135"/>
                  </a:lnTo>
                  <a:lnTo>
                    <a:pt x="695" y="2690"/>
                  </a:lnTo>
                  <a:lnTo>
                    <a:pt x="229" y="920"/>
                  </a:lnTo>
                  <a:lnTo>
                    <a:pt x="146" y="319"/>
                  </a:lnTo>
                  <a:lnTo>
                    <a:pt x="155" y="0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1391800">
              <a:off x="6562440" y="3946320"/>
              <a:ext cx="95760" cy="61200"/>
            </a:xfrm>
            <a:custGeom>
              <a:avLst/>
              <a:gdLst/>
              <a:ahLst/>
              <a:rect l="l" t="t" r="r" b="b"/>
              <a:pathLst>
                <a:path w="1232" h="983">
                  <a:moveTo>
                    <a:pt x="0" y="238"/>
                  </a:moveTo>
                  <a:lnTo>
                    <a:pt x="145" y="259"/>
                  </a:lnTo>
                  <a:lnTo>
                    <a:pt x="155" y="403"/>
                  </a:lnTo>
                  <a:lnTo>
                    <a:pt x="312" y="465"/>
                  </a:lnTo>
                  <a:lnTo>
                    <a:pt x="455" y="570"/>
                  </a:lnTo>
                  <a:lnTo>
                    <a:pt x="455" y="715"/>
                  </a:lnTo>
                  <a:lnTo>
                    <a:pt x="331" y="983"/>
                  </a:lnTo>
                  <a:lnTo>
                    <a:pt x="962" y="538"/>
                  </a:lnTo>
                  <a:lnTo>
                    <a:pt x="1232" y="0"/>
                  </a:lnTo>
                  <a:lnTo>
                    <a:pt x="632" y="103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1391800">
              <a:off x="6522480" y="3952440"/>
              <a:ext cx="24120" cy="72720"/>
            </a:xfrm>
            <a:custGeom>
              <a:avLst/>
              <a:gdLst/>
              <a:ahLst/>
              <a:rect l="l" t="t" r="r" b="b"/>
              <a:pathLst>
                <a:path w="310" h="1170">
                  <a:moveTo>
                    <a:pt x="0" y="1088"/>
                  </a:moveTo>
                  <a:lnTo>
                    <a:pt x="103" y="0"/>
                  </a:lnTo>
                  <a:lnTo>
                    <a:pt x="134" y="311"/>
                  </a:lnTo>
                  <a:lnTo>
                    <a:pt x="259" y="383"/>
                  </a:lnTo>
                  <a:lnTo>
                    <a:pt x="216" y="507"/>
                  </a:lnTo>
                  <a:lnTo>
                    <a:pt x="310" y="664"/>
                  </a:lnTo>
                  <a:lnTo>
                    <a:pt x="124" y="1170"/>
                  </a:lnTo>
                  <a:lnTo>
                    <a:pt x="0" y="10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1391800">
              <a:off x="6520680" y="3830040"/>
              <a:ext cx="45720" cy="54720"/>
            </a:xfrm>
            <a:custGeom>
              <a:avLst/>
              <a:gdLst/>
              <a:ahLst/>
              <a:rect l="l" t="t" r="r" b="b"/>
              <a:pathLst>
                <a:path w="591" h="881">
                  <a:moveTo>
                    <a:pt x="591" y="0"/>
                  </a:moveTo>
                  <a:lnTo>
                    <a:pt x="0" y="424"/>
                  </a:lnTo>
                  <a:lnTo>
                    <a:pt x="10" y="621"/>
                  </a:lnTo>
                  <a:lnTo>
                    <a:pt x="104" y="807"/>
                  </a:lnTo>
                  <a:lnTo>
                    <a:pt x="270" y="881"/>
                  </a:lnTo>
                  <a:lnTo>
                    <a:pt x="394" y="695"/>
                  </a:lnTo>
                  <a:lnTo>
                    <a:pt x="518" y="466"/>
                  </a:lnTo>
                  <a:lnTo>
                    <a:pt x="580" y="238"/>
                  </a:lnTo>
                  <a:lnTo>
                    <a:pt x="5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1391800">
              <a:off x="6575040" y="3847320"/>
              <a:ext cx="17640" cy="31680"/>
            </a:xfrm>
            <a:custGeom>
              <a:avLst/>
              <a:gdLst/>
              <a:ahLst/>
              <a:rect l="l" t="t" r="r" b="b"/>
              <a:pathLst>
                <a:path w="228" h="507">
                  <a:moveTo>
                    <a:pt x="228" y="0"/>
                  </a:moveTo>
                  <a:lnTo>
                    <a:pt x="197" y="290"/>
                  </a:lnTo>
                  <a:lnTo>
                    <a:pt x="0" y="507"/>
                  </a:lnTo>
                  <a:lnTo>
                    <a:pt x="83" y="23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1391800">
              <a:off x="6618600" y="3759480"/>
              <a:ext cx="28800" cy="37440"/>
            </a:xfrm>
            <a:custGeom>
              <a:avLst/>
              <a:gdLst/>
              <a:ahLst/>
              <a:rect l="l" t="t" r="r" b="b"/>
              <a:pathLst>
                <a:path w="373" h="600">
                  <a:moveTo>
                    <a:pt x="0" y="600"/>
                  </a:moveTo>
                  <a:lnTo>
                    <a:pt x="103" y="382"/>
                  </a:lnTo>
                  <a:lnTo>
                    <a:pt x="373" y="0"/>
                  </a:lnTo>
                  <a:lnTo>
                    <a:pt x="248" y="495"/>
                  </a:lnTo>
                  <a:lnTo>
                    <a:pt x="103" y="568"/>
                  </a:lnTo>
                  <a:lnTo>
                    <a:pt x="0" y="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391800">
              <a:off x="6634080" y="3879000"/>
              <a:ext cx="31680" cy="39240"/>
            </a:xfrm>
            <a:custGeom>
              <a:avLst/>
              <a:gdLst/>
              <a:ahLst/>
              <a:rect l="l" t="t" r="r" b="b"/>
              <a:pathLst>
                <a:path w="415" h="632">
                  <a:moveTo>
                    <a:pt x="0" y="477"/>
                  </a:moveTo>
                  <a:lnTo>
                    <a:pt x="42" y="549"/>
                  </a:lnTo>
                  <a:lnTo>
                    <a:pt x="21" y="632"/>
                  </a:lnTo>
                  <a:lnTo>
                    <a:pt x="187" y="529"/>
                  </a:lnTo>
                  <a:lnTo>
                    <a:pt x="384" y="291"/>
                  </a:lnTo>
                  <a:lnTo>
                    <a:pt x="415" y="0"/>
                  </a:lnTo>
                  <a:lnTo>
                    <a:pt x="249" y="331"/>
                  </a:lnTo>
                  <a:lnTo>
                    <a:pt x="104" y="435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21391800">
              <a:off x="6599160" y="3834360"/>
              <a:ext cx="66600" cy="83520"/>
            </a:xfrm>
            <a:custGeom>
              <a:avLst/>
              <a:gdLst/>
              <a:ahLst/>
              <a:rect l="l" t="t" r="r" b="b"/>
              <a:pathLst>
                <a:path w="859" h="1345">
                  <a:moveTo>
                    <a:pt x="383" y="558"/>
                  </a:moveTo>
                  <a:lnTo>
                    <a:pt x="83" y="993"/>
                  </a:lnTo>
                  <a:lnTo>
                    <a:pt x="0" y="1128"/>
                  </a:lnTo>
                  <a:lnTo>
                    <a:pt x="53" y="1345"/>
                  </a:lnTo>
                  <a:lnTo>
                    <a:pt x="124" y="1159"/>
                  </a:lnTo>
                  <a:lnTo>
                    <a:pt x="259" y="993"/>
                  </a:lnTo>
                  <a:lnTo>
                    <a:pt x="351" y="973"/>
                  </a:lnTo>
                  <a:lnTo>
                    <a:pt x="330" y="1097"/>
                  </a:lnTo>
                  <a:lnTo>
                    <a:pt x="518" y="1003"/>
                  </a:lnTo>
                  <a:lnTo>
                    <a:pt x="631" y="828"/>
                  </a:lnTo>
                  <a:lnTo>
                    <a:pt x="745" y="713"/>
                  </a:lnTo>
                  <a:lnTo>
                    <a:pt x="745" y="601"/>
                  </a:lnTo>
                  <a:lnTo>
                    <a:pt x="839" y="579"/>
                  </a:lnTo>
                  <a:lnTo>
                    <a:pt x="766" y="465"/>
                  </a:lnTo>
                  <a:lnTo>
                    <a:pt x="756" y="403"/>
                  </a:lnTo>
                  <a:lnTo>
                    <a:pt x="859" y="382"/>
                  </a:lnTo>
                  <a:lnTo>
                    <a:pt x="663" y="258"/>
                  </a:lnTo>
                  <a:lnTo>
                    <a:pt x="507" y="93"/>
                  </a:lnTo>
                  <a:lnTo>
                    <a:pt x="330" y="41"/>
                  </a:lnTo>
                  <a:lnTo>
                    <a:pt x="83" y="0"/>
                  </a:lnTo>
                  <a:lnTo>
                    <a:pt x="268" y="124"/>
                  </a:lnTo>
                  <a:lnTo>
                    <a:pt x="424" y="248"/>
                  </a:lnTo>
                  <a:lnTo>
                    <a:pt x="383" y="558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1391800">
              <a:off x="6627960" y="3833640"/>
              <a:ext cx="153720" cy="187920"/>
            </a:xfrm>
            <a:custGeom>
              <a:avLst/>
              <a:gdLst/>
              <a:ahLst/>
              <a:rect l="l" t="t" r="r" b="b"/>
              <a:pathLst>
                <a:path w="1979" h="3013">
                  <a:moveTo>
                    <a:pt x="0" y="2964"/>
                  </a:moveTo>
                  <a:lnTo>
                    <a:pt x="1979" y="3013"/>
                  </a:lnTo>
                  <a:lnTo>
                    <a:pt x="1607" y="1902"/>
                  </a:lnTo>
                  <a:lnTo>
                    <a:pt x="989" y="864"/>
                  </a:lnTo>
                  <a:lnTo>
                    <a:pt x="1187" y="98"/>
                  </a:lnTo>
                  <a:lnTo>
                    <a:pt x="914" y="0"/>
                  </a:lnTo>
                  <a:lnTo>
                    <a:pt x="914" y="395"/>
                  </a:lnTo>
                  <a:lnTo>
                    <a:pt x="742" y="964"/>
                  </a:lnTo>
                  <a:lnTo>
                    <a:pt x="494" y="1532"/>
                  </a:lnTo>
                  <a:lnTo>
                    <a:pt x="692" y="1457"/>
                  </a:lnTo>
                  <a:lnTo>
                    <a:pt x="717" y="1753"/>
                  </a:lnTo>
                  <a:lnTo>
                    <a:pt x="742" y="2149"/>
                  </a:lnTo>
                  <a:lnTo>
                    <a:pt x="0" y="2964"/>
                  </a:lnTo>
                  <a:close/>
                </a:path>
              </a:pathLst>
            </a:custGeom>
            <a:solidFill>
              <a:srgbClr val="788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1391800">
              <a:off x="6607440" y="3743640"/>
              <a:ext cx="82800" cy="95040"/>
            </a:xfrm>
            <a:custGeom>
              <a:avLst/>
              <a:gdLst/>
              <a:ahLst/>
              <a:rect l="l" t="t" r="r" b="b"/>
              <a:pathLst>
                <a:path w="1068" h="1525">
                  <a:moveTo>
                    <a:pt x="885" y="31"/>
                  </a:moveTo>
                  <a:lnTo>
                    <a:pt x="891" y="195"/>
                  </a:lnTo>
                  <a:lnTo>
                    <a:pt x="922" y="316"/>
                  </a:lnTo>
                  <a:lnTo>
                    <a:pt x="946" y="518"/>
                  </a:lnTo>
                  <a:lnTo>
                    <a:pt x="903" y="817"/>
                  </a:lnTo>
                  <a:lnTo>
                    <a:pt x="841" y="945"/>
                  </a:lnTo>
                  <a:lnTo>
                    <a:pt x="780" y="859"/>
                  </a:lnTo>
                  <a:lnTo>
                    <a:pt x="811" y="682"/>
                  </a:lnTo>
                  <a:lnTo>
                    <a:pt x="830" y="444"/>
                  </a:lnTo>
                  <a:lnTo>
                    <a:pt x="787" y="432"/>
                  </a:lnTo>
                  <a:lnTo>
                    <a:pt x="732" y="712"/>
                  </a:lnTo>
                  <a:lnTo>
                    <a:pt x="573" y="712"/>
                  </a:lnTo>
                  <a:lnTo>
                    <a:pt x="255" y="859"/>
                  </a:lnTo>
                  <a:lnTo>
                    <a:pt x="121" y="927"/>
                  </a:lnTo>
                  <a:lnTo>
                    <a:pt x="0" y="1049"/>
                  </a:lnTo>
                  <a:lnTo>
                    <a:pt x="132" y="1030"/>
                  </a:lnTo>
                  <a:lnTo>
                    <a:pt x="224" y="933"/>
                  </a:lnTo>
                  <a:lnTo>
                    <a:pt x="469" y="822"/>
                  </a:lnTo>
                  <a:lnTo>
                    <a:pt x="616" y="780"/>
                  </a:lnTo>
                  <a:lnTo>
                    <a:pt x="684" y="841"/>
                  </a:lnTo>
                  <a:lnTo>
                    <a:pt x="776" y="1067"/>
                  </a:lnTo>
                  <a:lnTo>
                    <a:pt x="799" y="1281"/>
                  </a:lnTo>
                  <a:lnTo>
                    <a:pt x="530" y="1117"/>
                  </a:lnTo>
                  <a:lnTo>
                    <a:pt x="200" y="1073"/>
                  </a:lnTo>
                  <a:lnTo>
                    <a:pt x="37" y="1104"/>
                  </a:lnTo>
                  <a:lnTo>
                    <a:pt x="280" y="1134"/>
                  </a:lnTo>
                  <a:lnTo>
                    <a:pt x="488" y="1178"/>
                  </a:lnTo>
                  <a:lnTo>
                    <a:pt x="591" y="1250"/>
                  </a:lnTo>
                  <a:lnTo>
                    <a:pt x="861" y="1445"/>
                  </a:lnTo>
                  <a:lnTo>
                    <a:pt x="1068" y="1525"/>
                  </a:lnTo>
                  <a:lnTo>
                    <a:pt x="964" y="1348"/>
                  </a:lnTo>
                  <a:lnTo>
                    <a:pt x="841" y="1025"/>
                  </a:lnTo>
                  <a:lnTo>
                    <a:pt x="916" y="872"/>
                  </a:lnTo>
                  <a:lnTo>
                    <a:pt x="964" y="737"/>
                  </a:lnTo>
                  <a:lnTo>
                    <a:pt x="995" y="457"/>
                  </a:lnTo>
                  <a:lnTo>
                    <a:pt x="1007" y="238"/>
                  </a:lnTo>
                  <a:lnTo>
                    <a:pt x="946" y="0"/>
                  </a:lnTo>
                  <a:lnTo>
                    <a:pt x="885" y="31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21391800">
              <a:off x="6585120" y="3817440"/>
              <a:ext cx="95760" cy="30600"/>
            </a:xfrm>
            <a:custGeom>
              <a:avLst/>
              <a:gdLst/>
              <a:ahLst/>
              <a:rect l="l" t="t" r="r" b="b"/>
              <a:pathLst>
                <a:path w="1234" h="488">
                  <a:moveTo>
                    <a:pt x="0" y="42"/>
                  </a:moveTo>
                  <a:lnTo>
                    <a:pt x="98" y="36"/>
                  </a:lnTo>
                  <a:lnTo>
                    <a:pt x="183" y="0"/>
                  </a:lnTo>
                  <a:lnTo>
                    <a:pt x="386" y="42"/>
                  </a:lnTo>
                  <a:lnTo>
                    <a:pt x="531" y="48"/>
                  </a:lnTo>
                  <a:lnTo>
                    <a:pt x="697" y="110"/>
                  </a:lnTo>
                  <a:lnTo>
                    <a:pt x="800" y="103"/>
                  </a:lnTo>
                  <a:lnTo>
                    <a:pt x="880" y="238"/>
                  </a:lnTo>
                  <a:lnTo>
                    <a:pt x="1234" y="488"/>
                  </a:lnTo>
                  <a:lnTo>
                    <a:pt x="1057" y="403"/>
                  </a:lnTo>
                  <a:lnTo>
                    <a:pt x="751" y="195"/>
                  </a:lnTo>
                  <a:lnTo>
                    <a:pt x="562" y="171"/>
                  </a:lnTo>
                  <a:lnTo>
                    <a:pt x="446" y="134"/>
                  </a:lnTo>
                  <a:lnTo>
                    <a:pt x="276" y="103"/>
                  </a:lnTo>
                  <a:lnTo>
                    <a:pt x="189" y="67"/>
                  </a:lnTo>
                  <a:lnTo>
                    <a:pt x="61" y="11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391800">
              <a:off x="6534000" y="3908160"/>
              <a:ext cx="34200" cy="122760"/>
            </a:xfrm>
            <a:custGeom>
              <a:avLst/>
              <a:gdLst/>
              <a:ahLst/>
              <a:rect l="l" t="t" r="r" b="b"/>
              <a:pathLst>
                <a:path w="440" h="1968">
                  <a:moveTo>
                    <a:pt x="190" y="61"/>
                  </a:moveTo>
                  <a:lnTo>
                    <a:pt x="61" y="568"/>
                  </a:lnTo>
                  <a:lnTo>
                    <a:pt x="92" y="636"/>
                  </a:lnTo>
                  <a:lnTo>
                    <a:pt x="264" y="740"/>
                  </a:lnTo>
                  <a:lnTo>
                    <a:pt x="159" y="746"/>
                  </a:lnTo>
                  <a:lnTo>
                    <a:pt x="92" y="849"/>
                  </a:lnTo>
                  <a:lnTo>
                    <a:pt x="220" y="953"/>
                  </a:lnTo>
                  <a:lnTo>
                    <a:pt x="281" y="1021"/>
                  </a:lnTo>
                  <a:lnTo>
                    <a:pt x="196" y="1093"/>
                  </a:lnTo>
                  <a:lnTo>
                    <a:pt x="208" y="1179"/>
                  </a:lnTo>
                  <a:lnTo>
                    <a:pt x="343" y="1301"/>
                  </a:lnTo>
                  <a:lnTo>
                    <a:pt x="281" y="1362"/>
                  </a:lnTo>
                  <a:lnTo>
                    <a:pt x="275" y="1484"/>
                  </a:lnTo>
                  <a:lnTo>
                    <a:pt x="397" y="1588"/>
                  </a:lnTo>
                  <a:lnTo>
                    <a:pt x="356" y="1717"/>
                  </a:lnTo>
                  <a:lnTo>
                    <a:pt x="318" y="1784"/>
                  </a:lnTo>
                  <a:lnTo>
                    <a:pt x="440" y="1968"/>
                  </a:lnTo>
                  <a:lnTo>
                    <a:pt x="227" y="1839"/>
                  </a:lnTo>
                  <a:lnTo>
                    <a:pt x="190" y="1649"/>
                  </a:lnTo>
                  <a:lnTo>
                    <a:pt x="165" y="1515"/>
                  </a:lnTo>
                  <a:lnTo>
                    <a:pt x="251" y="1326"/>
                  </a:lnTo>
                  <a:lnTo>
                    <a:pt x="129" y="1198"/>
                  </a:lnTo>
                  <a:lnTo>
                    <a:pt x="129" y="1131"/>
                  </a:lnTo>
                  <a:lnTo>
                    <a:pt x="184" y="1045"/>
                  </a:lnTo>
                  <a:lnTo>
                    <a:pt x="74" y="923"/>
                  </a:lnTo>
                  <a:lnTo>
                    <a:pt x="37" y="844"/>
                  </a:lnTo>
                  <a:lnTo>
                    <a:pt x="98" y="740"/>
                  </a:lnTo>
                  <a:lnTo>
                    <a:pt x="0" y="648"/>
                  </a:lnTo>
                  <a:lnTo>
                    <a:pt x="7" y="525"/>
                  </a:lnTo>
                  <a:lnTo>
                    <a:pt x="68" y="239"/>
                  </a:lnTo>
                  <a:lnTo>
                    <a:pt x="141" y="0"/>
                  </a:lnTo>
                  <a:lnTo>
                    <a:pt x="19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391800">
              <a:off x="6509160" y="3759120"/>
              <a:ext cx="66960" cy="16920"/>
            </a:xfrm>
            <a:custGeom>
              <a:avLst/>
              <a:gdLst/>
              <a:ahLst/>
              <a:rect l="l" t="t" r="r" b="b"/>
              <a:pathLst>
                <a:path w="864" h="274">
                  <a:moveTo>
                    <a:pt x="0" y="0"/>
                  </a:moveTo>
                  <a:lnTo>
                    <a:pt x="463" y="95"/>
                  </a:lnTo>
                  <a:lnTo>
                    <a:pt x="543" y="167"/>
                  </a:lnTo>
                  <a:lnTo>
                    <a:pt x="661" y="147"/>
                  </a:lnTo>
                  <a:lnTo>
                    <a:pt x="745" y="177"/>
                  </a:lnTo>
                  <a:lnTo>
                    <a:pt x="864" y="187"/>
                  </a:lnTo>
                  <a:lnTo>
                    <a:pt x="670" y="262"/>
                  </a:lnTo>
                  <a:lnTo>
                    <a:pt x="567" y="262"/>
                  </a:lnTo>
                  <a:lnTo>
                    <a:pt x="505" y="274"/>
                  </a:lnTo>
                  <a:lnTo>
                    <a:pt x="317" y="217"/>
                  </a:lnTo>
                  <a:lnTo>
                    <a:pt x="199" y="158"/>
                  </a:lnTo>
                  <a:lnTo>
                    <a:pt x="89" y="180"/>
                  </a:lnTo>
                  <a:lnTo>
                    <a:pt x="67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1391800">
              <a:off x="6516000" y="3766320"/>
              <a:ext cx="61560" cy="20880"/>
            </a:xfrm>
            <a:custGeom>
              <a:avLst/>
              <a:gdLst/>
              <a:ahLst/>
              <a:rect l="l" t="t" r="r" b="b"/>
              <a:pathLst>
                <a:path w="788" h="335">
                  <a:moveTo>
                    <a:pt x="0" y="20"/>
                  </a:moveTo>
                  <a:lnTo>
                    <a:pt x="286" y="71"/>
                  </a:lnTo>
                  <a:lnTo>
                    <a:pt x="397" y="144"/>
                  </a:lnTo>
                  <a:lnTo>
                    <a:pt x="661" y="116"/>
                  </a:lnTo>
                  <a:lnTo>
                    <a:pt x="581" y="203"/>
                  </a:lnTo>
                  <a:lnTo>
                    <a:pt x="492" y="255"/>
                  </a:lnTo>
                  <a:lnTo>
                    <a:pt x="390" y="225"/>
                  </a:lnTo>
                  <a:lnTo>
                    <a:pt x="258" y="248"/>
                  </a:lnTo>
                  <a:lnTo>
                    <a:pt x="153" y="149"/>
                  </a:lnTo>
                  <a:lnTo>
                    <a:pt x="48" y="0"/>
                  </a:lnTo>
                  <a:lnTo>
                    <a:pt x="0" y="64"/>
                  </a:lnTo>
                  <a:lnTo>
                    <a:pt x="154" y="248"/>
                  </a:lnTo>
                  <a:lnTo>
                    <a:pt x="279" y="328"/>
                  </a:lnTo>
                  <a:lnTo>
                    <a:pt x="470" y="335"/>
                  </a:lnTo>
                  <a:lnTo>
                    <a:pt x="610" y="248"/>
                  </a:lnTo>
                  <a:lnTo>
                    <a:pt x="788" y="51"/>
                  </a:lnTo>
                  <a:lnTo>
                    <a:pt x="581" y="6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1391800">
              <a:off x="6485760" y="3672360"/>
              <a:ext cx="50040" cy="16920"/>
            </a:xfrm>
            <a:custGeom>
              <a:avLst/>
              <a:gdLst/>
              <a:ahLst/>
              <a:rect l="l" t="t" r="r" b="b"/>
              <a:pathLst>
                <a:path w="648" h="273">
                  <a:moveTo>
                    <a:pt x="173" y="132"/>
                  </a:moveTo>
                  <a:lnTo>
                    <a:pt x="85" y="127"/>
                  </a:lnTo>
                  <a:lnTo>
                    <a:pt x="0" y="41"/>
                  </a:lnTo>
                  <a:lnTo>
                    <a:pt x="130" y="45"/>
                  </a:lnTo>
                  <a:lnTo>
                    <a:pt x="260" y="0"/>
                  </a:lnTo>
                  <a:lnTo>
                    <a:pt x="221" y="35"/>
                  </a:lnTo>
                  <a:lnTo>
                    <a:pt x="234" y="61"/>
                  </a:lnTo>
                  <a:lnTo>
                    <a:pt x="326" y="58"/>
                  </a:lnTo>
                  <a:lnTo>
                    <a:pt x="424" y="67"/>
                  </a:lnTo>
                  <a:lnTo>
                    <a:pt x="500" y="96"/>
                  </a:lnTo>
                  <a:lnTo>
                    <a:pt x="556" y="130"/>
                  </a:lnTo>
                  <a:lnTo>
                    <a:pt x="617" y="178"/>
                  </a:lnTo>
                  <a:lnTo>
                    <a:pt x="648" y="245"/>
                  </a:lnTo>
                  <a:lnTo>
                    <a:pt x="631" y="257"/>
                  </a:lnTo>
                  <a:lnTo>
                    <a:pt x="579" y="199"/>
                  </a:lnTo>
                  <a:lnTo>
                    <a:pt x="548" y="163"/>
                  </a:lnTo>
                  <a:lnTo>
                    <a:pt x="509" y="149"/>
                  </a:lnTo>
                  <a:lnTo>
                    <a:pt x="495" y="188"/>
                  </a:lnTo>
                  <a:lnTo>
                    <a:pt x="472" y="234"/>
                  </a:lnTo>
                  <a:lnTo>
                    <a:pt x="435" y="262"/>
                  </a:lnTo>
                  <a:lnTo>
                    <a:pt x="364" y="273"/>
                  </a:lnTo>
                  <a:lnTo>
                    <a:pt x="314" y="255"/>
                  </a:lnTo>
                  <a:lnTo>
                    <a:pt x="352" y="237"/>
                  </a:lnTo>
                  <a:lnTo>
                    <a:pt x="410" y="234"/>
                  </a:lnTo>
                  <a:lnTo>
                    <a:pt x="441" y="209"/>
                  </a:lnTo>
                  <a:lnTo>
                    <a:pt x="454" y="156"/>
                  </a:lnTo>
                  <a:lnTo>
                    <a:pt x="444" y="132"/>
                  </a:lnTo>
                  <a:lnTo>
                    <a:pt x="424" y="178"/>
                  </a:lnTo>
                  <a:lnTo>
                    <a:pt x="403" y="199"/>
                  </a:lnTo>
                  <a:lnTo>
                    <a:pt x="370" y="204"/>
                  </a:lnTo>
                  <a:lnTo>
                    <a:pt x="326" y="186"/>
                  </a:lnTo>
                  <a:lnTo>
                    <a:pt x="318" y="163"/>
                  </a:lnTo>
                  <a:lnTo>
                    <a:pt x="357" y="165"/>
                  </a:lnTo>
                  <a:lnTo>
                    <a:pt x="374" y="142"/>
                  </a:lnTo>
                  <a:lnTo>
                    <a:pt x="378" y="115"/>
                  </a:lnTo>
                  <a:lnTo>
                    <a:pt x="334" y="112"/>
                  </a:lnTo>
                  <a:lnTo>
                    <a:pt x="303" y="125"/>
                  </a:lnTo>
                  <a:lnTo>
                    <a:pt x="288" y="171"/>
                  </a:lnTo>
                  <a:lnTo>
                    <a:pt x="298" y="211"/>
                  </a:lnTo>
                  <a:lnTo>
                    <a:pt x="326" y="242"/>
                  </a:lnTo>
                  <a:lnTo>
                    <a:pt x="309" y="252"/>
                  </a:lnTo>
                  <a:lnTo>
                    <a:pt x="275" y="224"/>
                  </a:lnTo>
                  <a:lnTo>
                    <a:pt x="260" y="194"/>
                  </a:lnTo>
                  <a:lnTo>
                    <a:pt x="250" y="161"/>
                  </a:lnTo>
                  <a:lnTo>
                    <a:pt x="245" y="115"/>
                  </a:lnTo>
                  <a:lnTo>
                    <a:pt x="206" y="110"/>
                  </a:lnTo>
                  <a:lnTo>
                    <a:pt x="173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21391800">
              <a:off x="6494760" y="3671280"/>
              <a:ext cx="52920" cy="22680"/>
            </a:xfrm>
            <a:custGeom>
              <a:avLst/>
              <a:gdLst/>
              <a:ahLst/>
              <a:rect l="l" t="t" r="r" b="b"/>
              <a:pathLst>
                <a:path w="685" h="367">
                  <a:moveTo>
                    <a:pt x="0" y="81"/>
                  </a:moveTo>
                  <a:lnTo>
                    <a:pt x="61" y="6"/>
                  </a:lnTo>
                  <a:lnTo>
                    <a:pt x="207" y="2"/>
                  </a:lnTo>
                  <a:lnTo>
                    <a:pt x="381" y="0"/>
                  </a:lnTo>
                  <a:lnTo>
                    <a:pt x="486" y="12"/>
                  </a:lnTo>
                  <a:lnTo>
                    <a:pt x="546" y="52"/>
                  </a:lnTo>
                  <a:lnTo>
                    <a:pt x="559" y="102"/>
                  </a:lnTo>
                  <a:lnTo>
                    <a:pt x="611" y="175"/>
                  </a:lnTo>
                  <a:lnTo>
                    <a:pt x="685" y="197"/>
                  </a:lnTo>
                  <a:lnTo>
                    <a:pt x="663" y="279"/>
                  </a:lnTo>
                  <a:lnTo>
                    <a:pt x="582" y="367"/>
                  </a:lnTo>
                  <a:lnTo>
                    <a:pt x="570" y="273"/>
                  </a:lnTo>
                  <a:lnTo>
                    <a:pt x="540" y="139"/>
                  </a:lnTo>
                  <a:lnTo>
                    <a:pt x="465" y="63"/>
                  </a:lnTo>
                  <a:lnTo>
                    <a:pt x="396" y="37"/>
                  </a:lnTo>
                  <a:lnTo>
                    <a:pt x="260" y="31"/>
                  </a:lnTo>
                  <a:lnTo>
                    <a:pt x="138" y="31"/>
                  </a:lnTo>
                  <a:lnTo>
                    <a:pt x="71" y="5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21391800">
              <a:off x="6480720" y="3657600"/>
              <a:ext cx="82080" cy="22680"/>
            </a:xfrm>
            <a:custGeom>
              <a:avLst/>
              <a:gdLst/>
              <a:ahLst/>
              <a:rect l="l" t="t" r="r" b="b"/>
              <a:pathLst>
                <a:path w="1059" h="369">
                  <a:moveTo>
                    <a:pt x="0" y="33"/>
                  </a:moveTo>
                  <a:lnTo>
                    <a:pt x="100" y="77"/>
                  </a:lnTo>
                  <a:lnTo>
                    <a:pt x="157" y="62"/>
                  </a:lnTo>
                  <a:lnTo>
                    <a:pt x="293" y="64"/>
                  </a:lnTo>
                  <a:lnTo>
                    <a:pt x="371" y="79"/>
                  </a:lnTo>
                  <a:lnTo>
                    <a:pt x="440" y="108"/>
                  </a:lnTo>
                  <a:lnTo>
                    <a:pt x="504" y="146"/>
                  </a:lnTo>
                  <a:lnTo>
                    <a:pt x="599" y="163"/>
                  </a:lnTo>
                  <a:lnTo>
                    <a:pt x="691" y="209"/>
                  </a:lnTo>
                  <a:lnTo>
                    <a:pt x="788" y="240"/>
                  </a:lnTo>
                  <a:lnTo>
                    <a:pt x="847" y="278"/>
                  </a:lnTo>
                  <a:lnTo>
                    <a:pt x="914" y="345"/>
                  </a:lnTo>
                  <a:lnTo>
                    <a:pt x="971" y="363"/>
                  </a:lnTo>
                  <a:lnTo>
                    <a:pt x="1059" y="369"/>
                  </a:lnTo>
                  <a:lnTo>
                    <a:pt x="1028" y="255"/>
                  </a:lnTo>
                  <a:lnTo>
                    <a:pt x="1021" y="232"/>
                  </a:lnTo>
                  <a:lnTo>
                    <a:pt x="994" y="232"/>
                  </a:lnTo>
                  <a:lnTo>
                    <a:pt x="946" y="205"/>
                  </a:lnTo>
                  <a:lnTo>
                    <a:pt x="826" y="120"/>
                  </a:lnTo>
                  <a:lnTo>
                    <a:pt x="734" y="71"/>
                  </a:lnTo>
                  <a:lnTo>
                    <a:pt x="581" y="62"/>
                  </a:lnTo>
                  <a:lnTo>
                    <a:pt x="632" y="36"/>
                  </a:lnTo>
                  <a:lnTo>
                    <a:pt x="615" y="18"/>
                  </a:lnTo>
                  <a:lnTo>
                    <a:pt x="517" y="0"/>
                  </a:lnTo>
                  <a:lnTo>
                    <a:pt x="313" y="10"/>
                  </a:lnTo>
                  <a:lnTo>
                    <a:pt x="169" y="2"/>
                  </a:lnTo>
                  <a:lnTo>
                    <a:pt x="182" y="2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1391800">
              <a:off x="6493680" y="3679200"/>
              <a:ext cx="43920" cy="17280"/>
            </a:xfrm>
            <a:custGeom>
              <a:avLst/>
              <a:gdLst/>
              <a:ahLst/>
              <a:rect l="l" t="t" r="r" b="b"/>
              <a:pathLst>
                <a:path w="565" h="279">
                  <a:moveTo>
                    <a:pt x="514" y="132"/>
                  </a:moveTo>
                  <a:lnTo>
                    <a:pt x="499" y="181"/>
                  </a:lnTo>
                  <a:lnTo>
                    <a:pt x="422" y="199"/>
                  </a:lnTo>
                  <a:lnTo>
                    <a:pt x="263" y="191"/>
                  </a:lnTo>
                  <a:lnTo>
                    <a:pt x="167" y="160"/>
                  </a:lnTo>
                  <a:lnTo>
                    <a:pt x="110" y="81"/>
                  </a:lnTo>
                  <a:lnTo>
                    <a:pt x="68" y="0"/>
                  </a:lnTo>
                  <a:lnTo>
                    <a:pt x="0" y="9"/>
                  </a:lnTo>
                  <a:lnTo>
                    <a:pt x="26" y="99"/>
                  </a:lnTo>
                  <a:lnTo>
                    <a:pt x="70" y="170"/>
                  </a:lnTo>
                  <a:lnTo>
                    <a:pt x="139" y="229"/>
                  </a:lnTo>
                  <a:lnTo>
                    <a:pt x="240" y="278"/>
                  </a:lnTo>
                  <a:lnTo>
                    <a:pt x="343" y="279"/>
                  </a:lnTo>
                  <a:lnTo>
                    <a:pt x="484" y="258"/>
                  </a:lnTo>
                  <a:lnTo>
                    <a:pt x="353" y="242"/>
                  </a:lnTo>
                  <a:lnTo>
                    <a:pt x="266" y="219"/>
                  </a:lnTo>
                  <a:lnTo>
                    <a:pt x="263" y="204"/>
                  </a:lnTo>
                  <a:lnTo>
                    <a:pt x="384" y="212"/>
                  </a:lnTo>
                  <a:lnTo>
                    <a:pt x="478" y="202"/>
                  </a:lnTo>
                  <a:lnTo>
                    <a:pt x="519" y="224"/>
                  </a:lnTo>
                  <a:lnTo>
                    <a:pt x="565" y="188"/>
                  </a:lnTo>
                  <a:lnTo>
                    <a:pt x="565" y="147"/>
                  </a:lnTo>
                  <a:lnTo>
                    <a:pt x="496" y="78"/>
                  </a:lnTo>
                  <a:lnTo>
                    <a:pt x="51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21391800">
              <a:off x="6585480" y="3681360"/>
              <a:ext cx="50400" cy="25200"/>
            </a:xfrm>
            <a:custGeom>
              <a:avLst/>
              <a:gdLst/>
              <a:ahLst/>
              <a:rect l="l" t="t" r="r" b="b"/>
              <a:pathLst>
                <a:path w="649" h="409">
                  <a:moveTo>
                    <a:pt x="47" y="215"/>
                  </a:moveTo>
                  <a:lnTo>
                    <a:pt x="71" y="164"/>
                  </a:lnTo>
                  <a:lnTo>
                    <a:pt x="128" y="133"/>
                  </a:lnTo>
                  <a:lnTo>
                    <a:pt x="210" y="126"/>
                  </a:lnTo>
                  <a:lnTo>
                    <a:pt x="210" y="166"/>
                  </a:lnTo>
                  <a:lnTo>
                    <a:pt x="163" y="194"/>
                  </a:lnTo>
                  <a:lnTo>
                    <a:pt x="179" y="218"/>
                  </a:lnTo>
                  <a:lnTo>
                    <a:pt x="233" y="221"/>
                  </a:lnTo>
                  <a:lnTo>
                    <a:pt x="275" y="197"/>
                  </a:lnTo>
                  <a:lnTo>
                    <a:pt x="281" y="156"/>
                  </a:lnTo>
                  <a:lnTo>
                    <a:pt x="281" y="126"/>
                  </a:lnTo>
                  <a:lnTo>
                    <a:pt x="322" y="142"/>
                  </a:lnTo>
                  <a:lnTo>
                    <a:pt x="322" y="190"/>
                  </a:lnTo>
                  <a:lnTo>
                    <a:pt x="301" y="239"/>
                  </a:lnTo>
                  <a:lnTo>
                    <a:pt x="271" y="262"/>
                  </a:lnTo>
                  <a:lnTo>
                    <a:pt x="214" y="279"/>
                  </a:lnTo>
                  <a:lnTo>
                    <a:pt x="248" y="296"/>
                  </a:lnTo>
                  <a:lnTo>
                    <a:pt x="301" y="279"/>
                  </a:lnTo>
                  <a:lnTo>
                    <a:pt x="336" y="248"/>
                  </a:lnTo>
                  <a:lnTo>
                    <a:pt x="362" y="201"/>
                  </a:lnTo>
                  <a:lnTo>
                    <a:pt x="355" y="119"/>
                  </a:lnTo>
                  <a:lnTo>
                    <a:pt x="416" y="149"/>
                  </a:lnTo>
                  <a:lnTo>
                    <a:pt x="458" y="197"/>
                  </a:lnTo>
                  <a:lnTo>
                    <a:pt x="454" y="258"/>
                  </a:lnTo>
                  <a:lnTo>
                    <a:pt x="402" y="293"/>
                  </a:lnTo>
                  <a:lnTo>
                    <a:pt x="362" y="319"/>
                  </a:lnTo>
                  <a:lnTo>
                    <a:pt x="294" y="333"/>
                  </a:lnTo>
                  <a:lnTo>
                    <a:pt x="383" y="331"/>
                  </a:lnTo>
                  <a:lnTo>
                    <a:pt x="471" y="282"/>
                  </a:lnTo>
                  <a:lnTo>
                    <a:pt x="454" y="326"/>
                  </a:lnTo>
                  <a:lnTo>
                    <a:pt x="393" y="354"/>
                  </a:lnTo>
                  <a:lnTo>
                    <a:pt x="292" y="360"/>
                  </a:lnTo>
                  <a:lnTo>
                    <a:pt x="203" y="357"/>
                  </a:lnTo>
                  <a:lnTo>
                    <a:pt x="336" y="409"/>
                  </a:lnTo>
                  <a:lnTo>
                    <a:pt x="440" y="397"/>
                  </a:lnTo>
                  <a:lnTo>
                    <a:pt x="494" y="343"/>
                  </a:lnTo>
                  <a:lnTo>
                    <a:pt x="546" y="310"/>
                  </a:lnTo>
                  <a:lnTo>
                    <a:pt x="604" y="326"/>
                  </a:lnTo>
                  <a:lnTo>
                    <a:pt x="649" y="303"/>
                  </a:lnTo>
                  <a:lnTo>
                    <a:pt x="584" y="303"/>
                  </a:lnTo>
                  <a:lnTo>
                    <a:pt x="536" y="275"/>
                  </a:lnTo>
                  <a:lnTo>
                    <a:pt x="501" y="166"/>
                  </a:lnTo>
                  <a:lnTo>
                    <a:pt x="407" y="105"/>
                  </a:lnTo>
                  <a:lnTo>
                    <a:pt x="355" y="88"/>
                  </a:lnTo>
                  <a:lnTo>
                    <a:pt x="238" y="88"/>
                  </a:lnTo>
                  <a:lnTo>
                    <a:pt x="156" y="88"/>
                  </a:lnTo>
                  <a:lnTo>
                    <a:pt x="84" y="112"/>
                  </a:lnTo>
                  <a:lnTo>
                    <a:pt x="165" y="55"/>
                  </a:lnTo>
                  <a:lnTo>
                    <a:pt x="317" y="34"/>
                  </a:lnTo>
                  <a:lnTo>
                    <a:pt x="440" y="69"/>
                  </a:lnTo>
                  <a:lnTo>
                    <a:pt x="525" y="135"/>
                  </a:lnTo>
                  <a:lnTo>
                    <a:pt x="546" y="244"/>
                  </a:lnTo>
                  <a:lnTo>
                    <a:pt x="553" y="180"/>
                  </a:lnTo>
                  <a:lnTo>
                    <a:pt x="546" y="95"/>
                  </a:lnTo>
                  <a:lnTo>
                    <a:pt x="409" y="20"/>
                  </a:lnTo>
                  <a:lnTo>
                    <a:pt x="308" y="0"/>
                  </a:lnTo>
                  <a:lnTo>
                    <a:pt x="189" y="3"/>
                  </a:lnTo>
                  <a:lnTo>
                    <a:pt x="84" y="57"/>
                  </a:lnTo>
                  <a:lnTo>
                    <a:pt x="43" y="119"/>
                  </a:lnTo>
                  <a:lnTo>
                    <a:pt x="0" y="166"/>
                  </a:lnTo>
                  <a:lnTo>
                    <a:pt x="5" y="211"/>
                  </a:lnTo>
                  <a:lnTo>
                    <a:pt x="61" y="269"/>
                  </a:lnTo>
                  <a:lnTo>
                    <a:pt x="4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21391800">
              <a:off x="6592320" y="3688560"/>
              <a:ext cx="13680" cy="11160"/>
            </a:xfrm>
            <a:custGeom>
              <a:avLst/>
              <a:gdLst/>
              <a:ahLst/>
              <a:rect l="l" t="t" r="r" b="b"/>
              <a:pathLst>
                <a:path w="177" h="180">
                  <a:moveTo>
                    <a:pt x="21" y="38"/>
                  </a:moveTo>
                  <a:lnTo>
                    <a:pt x="21" y="74"/>
                  </a:lnTo>
                  <a:lnTo>
                    <a:pt x="41" y="130"/>
                  </a:lnTo>
                  <a:lnTo>
                    <a:pt x="71" y="160"/>
                  </a:lnTo>
                  <a:lnTo>
                    <a:pt x="127" y="180"/>
                  </a:lnTo>
                  <a:lnTo>
                    <a:pt x="177" y="180"/>
                  </a:lnTo>
                  <a:lnTo>
                    <a:pt x="99" y="147"/>
                  </a:lnTo>
                  <a:lnTo>
                    <a:pt x="71" y="95"/>
                  </a:lnTo>
                  <a:lnTo>
                    <a:pt x="59" y="68"/>
                  </a:lnTo>
                  <a:lnTo>
                    <a:pt x="85" y="50"/>
                  </a:lnTo>
                  <a:lnTo>
                    <a:pt x="85" y="0"/>
                  </a:lnTo>
                  <a:lnTo>
                    <a:pt x="0" y="17"/>
                  </a:lnTo>
                  <a:lnTo>
                    <a:pt x="2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1391800">
              <a:off x="6593400" y="3670560"/>
              <a:ext cx="53640" cy="18000"/>
            </a:xfrm>
            <a:custGeom>
              <a:avLst/>
              <a:gdLst/>
              <a:ahLst/>
              <a:rect l="l" t="t" r="r" b="b"/>
              <a:pathLst>
                <a:path w="690" h="293">
                  <a:moveTo>
                    <a:pt x="48" y="136"/>
                  </a:moveTo>
                  <a:lnTo>
                    <a:pt x="213" y="136"/>
                  </a:lnTo>
                  <a:lnTo>
                    <a:pt x="404" y="158"/>
                  </a:lnTo>
                  <a:lnTo>
                    <a:pt x="540" y="150"/>
                  </a:lnTo>
                  <a:lnTo>
                    <a:pt x="581" y="191"/>
                  </a:lnTo>
                  <a:lnTo>
                    <a:pt x="595" y="233"/>
                  </a:lnTo>
                  <a:lnTo>
                    <a:pt x="608" y="293"/>
                  </a:lnTo>
                  <a:lnTo>
                    <a:pt x="690" y="191"/>
                  </a:lnTo>
                  <a:lnTo>
                    <a:pt x="676" y="120"/>
                  </a:lnTo>
                  <a:lnTo>
                    <a:pt x="612" y="103"/>
                  </a:lnTo>
                  <a:lnTo>
                    <a:pt x="554" y="25"/>
                  </a:lnTo>
                  <a:lnTo>
                    <a:pt x="458" y="0"/>
                  </a:lnTo>
                  <a:lnTo>
                    <a:pt x="400" y="21"/>
                  </a:lnTo>
                  <a:lnTo>
                    <a:pt x="268" y="31"/>
                  </a:lnTo>
                  <a:lnTo>
                    <a:pt x="163" y="52"/>
                  </a:lnTo>
                  <a:lnTo>
                    <a:pt x="95" y="66"/>
                  </a:lnTo>
                  <a:lnTo>
                    <a:pt x="0" y="136"/>
                  </a:lnTo>
                  <a:lnTo>
                    <a:pt x="48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21391800">
              <a:off x="6548760" y="3751560"/>
              <a:ext cx="8640" cy="15120"/>
            </a:xfrm>
            <a:custGeom>
              <a:avLst/>
              <a:gdLst/>
              <a:ahLst/>
              <a:rect l="l" t="t" r="r" b="b"/>
              <a:pathLst>
                <a:path w="112" h="245">
                  <a:moveTo>
                    <a:pt x="42" y="245"/>
                  </a:moveTo>
                  <a:lnTo>
                    <a:pt x="74" y="145"/>
                  </a:lnTo>
                  <a:lnTo>
                    <a:pt x="112" y="53"/>
                  </a:lnTo>
                  <a:lnTo>
                    <a:pt x="112" y="0"/>
                  </a:lnTo>
                  <a:lnTo>
                    <a:pt x="34" y="30"/>
                  </a:lnTo>
                  <a:lnTo>
                    <a:pt x="0" y="186"/>
                  </a:lnTo>
                  <a:lnTo>
                    <a:pt x="42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21391800">
              <a:off x="6513120" y="3726720"/>
              <a:ext cx="43200" cy="20880"/>
            </a:xfrm>
            <a:custGeom>
              <a:avLst/>
              <a:gdLst/>
              <a:ahLst/>
              <a:rect l="l" t="t" r="r" b="b"/>
              <a:pathLst>
                <a:path w="560" h="340">
                  <a:moveTo>
                    <a:pt x="542" y="297"/>
                  </a:moveTo>
                  <a:lnTo>
                    <a:pt x="485" y="241"/>
                  </a:lnTo>
                  <a:lnTo>
                    <a:pt x="410" y="228"/>
                  </a:lnTo>
                  <a:lnTo>
                    <a:pt x="369" y="237"/>
                  </a:lnTo>
                  <a:lnTo>
                    <a:pt x="343" y="250"/>
                  </a:lnTo>
                  <a:lnTo>
                    <a:pt x="334" y="265"/>
                  </a:lnTo>
                  <a:lnTo>
                    <a:pt x="357" y="278"/>
                  </a:lnTo>
                  <a:lnTo>
                    <a:pt x="461" y="278"/>
                  </a:lnTo>
                  <a:lnTo>
                    <a:pt x="393" y="302"/>
                  </a:lnTo>
                  <a:lnTo>
                    <a:pt x="305" y="289"/>
                  </a:lnTo>
                  <a:lnTo>
                    <a:pt x="248" y="213"/>
                  </a:lnTo>
                  <a:lnTo>
                    <a:pt x="236" y="149"/>
                  </a:lnTo>
                  <a:lnTo>
                    <a:pt x="236" y="68"/>
                  </a:lnTo>
                  <a:lnTo>
                    <a:pt x="300" y="0"/>
                  </a:lnTo>
                  <a:lnTo>
                    <a:pt x="224" y="44"/>
                  </a:lnTo>
                  <a:lnTo>
                    <a:pt x="143" y="95"/>
                  </a:lnTo>
                  <a:lnTo>
                    <a:pt x="0" y="181"/>
                  </a:lnTo>
                  <a:lnTo>
                    <a:pt x="155" y="160"/>
                  </a:lnTo>
                  <a:lnTo>
                    <a:pt x="184" y="225"/>
                  </a:lnTo>
                  <a:lnTo>
                    <a:pt x="216" y="268"/>
                  </a:lnTo>
                  <a:lnTo>
                    <a:pt x="271" y="325"/>
                  </a:lnTo>
                  <a:lnTo>
                    <a:pt x="373" y="340"/>
                  </a:lnTo>
                  <a:lnTo>
                    <a:pt x="458" y="321"/>
                  </a:lnTo>
                  <a:lnTo>
                    <a:pt x="514" y="305"/>
                  </a:lnTo>
                  <a:lnTo>
                    <a:pt x="560" y="333"/>
                  </a:lnTo>
                  <a:lnTo>
                    <a:pt x="542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21391800">
              <a:off x="6549120" y="3681000"/>
              <a:ext cx="49680" cy="69840"/>
            </a:xfrm>
            <a:custGeom>
              <a:avLst/>
              <a:gdLst/>
              <a:ahLst/>
              <a:rect l="l" t="t" r="r" b="b"/>
              <a:pathLst>
                <a:path w="641" h="1122">
                  <a:moveTo>
                    <a:pt x="517" y="77"/>
                  </a:moveTo>
                  <a:lnTo>
                    <a:pt x="425" y="177"/>
                  </a:lnTo>
                  <a:lnTo>
                    <a:pt x="380" y="233"/>
                  </a:lnTo>
                  <a:lnTo>
                    <a:pt x="360" y="341"/>
                  </a:lnTo>
                  <a:lnTo>
                    <a:pt x="372" y="499"/>
                  </a:lnTo>
                  <a:lnTo>
                    <a:pt x="336" y="703"/>
                  </a:lnTo>
                  <a:lnTo>
                    <a:pt x="350" y="806"/>
                  </a:lnTo>
                  <a:lnTo>
                    <a:pt x="352" y="952"/>
                  </a:lnTo>
                  <a:lnTo>
                    <a:pt x="312" y="1008"/>
                  </a:lnTo>
                  <a:lnTo>
                    <a:pt x="204" y="1042"/>
                  </a:lnTo>
                  <a:lnTo>
                    <a:pt x="124" y="1053"/>
                  </a:lnTo>
                  <a:lnTo>
                    <a:pt x="44" y="1045"/>
                  </a:lnTo>
                  <a:lnTo>
                    <a:pt x="79" y="1072"/>
                  </a:lnTo>
                  <a:lnTo>
                    <a:pt x="0" y="1122"/>
                  </a:lnTo>
                  <a:lnTo>
                    <a:pt x="63" y="1119"/>
                  </a:lnTo>
                  <a:lnTo>
                    <a:pt x="130" y="1108"/>
                  </a:lnTo>
                  <a:lnTo>
                    <a:pt x="208" y="1088"/>
                  </a:lnTo>
                  <a:lnTo>
                    <a:pt x="329" y="1099"/>
                  </a:lnTo>
                  <a:lnTo>
                    <a:pt x="371" y="1070"/>
                  </a:lnTo>
                  <a:lnTo>
                    <a:pt x="360" y="1039"/>
                  </a:lnTo>
                  <a:lnTo>
                    <a:pt x="234" y="1069"/>
                  </a:lnTo>
                  <a:lnTo>
                    <a:pt x="357" y="1011"/>
                  </a:lnTo>
                  <a:lnTo>
                    <a:pt x="399" y="1064"/>
                  </a:lnTo>
                  <a:lnTo>
                    <a:pt x="383" y="1113"/>
                  </a:lnTo>
                  <a:lnTo>
                    <a:pt x="444" y="1042"/>
                  </a:lnTo>
                  <a:lnTo>
                    <a:pt x="452" y="955"/>
                  </a:lnTo>
                  <a:lnTo>
                    <a:pt x="434" y="882"/>
                  </a:lnTo>
                  <a:lnTo>
                    <a:pt x="409" y="655"/>
                  </a:lnTo>
                  <a:lnTo>
                    <a:pt x="433" y="470"/>
                  </a:lnTo>
                  <a:lnTo>
                    <a:pt x="433" y="282"/>
                  </a:lnTo>
                  <a:lnTo>
                    <a:pt x="468" y="173"/>
                  </a:lnTo>
                  <a:lnTo>
                    <a:pt x="641" y="0"/>
                  </a:lnTo>
                  <a:lnTo>
                    <a:pt x="51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1391800">
              <a:off x="6506280" y="3681000"/>
              <a:ext cx="12960" cy="7920"/>
            </a:xfrm>
            <a:custGeom>
              <a:avLst/>
              <a:gdLst/>
              <a:ahLst/>
              <a:rect l="l" t="t" r="r" b="b"/>
              <a:pathLst>
                <a:path w="168" h="130">
                  <a:moveTo>
                    <a:pt x="23" y="30"/>
                  </a:moveTo>
                  <a:lnTo>
                    <a:pt x="35" y="62"/>
                  </a:lnTo>
                  <a:lnTo>
                    <a:pt x="62" y="83"/>
                  </a:lnTo>
                  <a:lnTo>
                    <a:pt x="80" y="90"/>
                  </a:lnTo>
                  <a:lnTo>
                    <a:pt x="124" y="95"/>
                  </a:lnTo>
                  <a:lnTo>
                    <a:pt x="168" y="85"/>
                  </a:lnTo>
                  <a:lnTo>
                    <a:pt x="155" y="109"/>
                  </a:lnTo>
                  <a:lnTo>
                    <a:pt x="93" y="130"/>
                  </a:lnTo>
                  <a:lnTo>
                    <a:pt x="58" y="124"/>
                  </a:lnTo>
                  <a:lnTo>
                    <a:pt x="21" y="99"/>
                  </a:lnTo>
                  <a:lnTo>
                    <a:pt x="0" y="44"/>
                  </a:lnTo>
                  <a:lnTo>
                    <a:pt x="0" y="0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1391800">
              <a:off x="6365880" y="3612960"/>
              <a:ext cx="81000" cy="109080"/>
            </a:xfrm>
            <a:custGeom>
              <a:avLst/>
              <a:gdLst/>
              <a:ahLst/>
              <a:rect l="l" t="t" r="r" b="b"/>
              <a:pathLst>
                <a:path w="1047" h="1749">
                  <a:moveTo>
                    <a:pt x="426" y="532"/>
                  </a:moveTo>
                  <a:lnTo>
                    <a:pt x="337" y="608"/>
                  </a:lnTo>
                  <a:lnTo>
                    <a:pt x="324" y="760"/>
                  </a:lnTo>
                  <a:lnTo>
                    <a:pt x="356" y="1096"/>
                  </a:lnTo>
                  <a:lnTo>
                    <a:pt x="394" y="1274"/>
                  </a:lnTo>
                  <a:lnTo>
                    <a:pt x="324" y="1317"/>
                  </a:lnTo>
                  <a:lnTo>
                    <a:pt x="235" y="1438"/>
                  </a:lnTo>
                  <a:lnTo>
                    <a:pt x="164" y="1749"/>
                  </a:lnTo>
                  <a:lnTo>
                    <a:pt x="179" y="1267"/>
                  </a:lnTo>
                  <a:lnTo>
                    <a:pt x="255" y="1014"/>
                  </a:lnTo>
                  <a:lnTo>
                    <a:pt x="197" y="906"/>
                  </a:lnTo>
                  <a:lnTo>
                    <a:pt x="77" y="1140"/>
                  </a:lnTo>
                  <a:lnTo>
                    <a:pt x="134" y="836"/>
                  </a:lnTo>
                  <a:lnTo>
                    <a:pt x="0" y="1014"/>
                  </a:lnTo>
                  <a:lnTo>
                    <a:pt x="83" y="583"/>
                  </a:lnTo>
                  <a:lnTo>
                    <a:pt x="140" y="457"/>
                  </a:lnTo>
                  <a:lnTo>
                    <a:pt x="51" y="457"/>
                  </a:lnTo>
                  <a:lnTo>
                    <a:pt x="273" y="203"/>
                  </a:lnTo>
                  <a:lnTo>
                    <a:pt x="730" y="0"/>
                  </a:lnTo>
                  <a:lnTo>
                    <a:pt x="571" y="127"/>
                  </a:lnTo>
                  <a:lnTo>
                    <a:pt x="407" y="273"/>
                  </a:lnTo>
                  <a:lnTo>
                    <a:pt x="584" y="273"/>
                  </a:lnTo>
                  <a:lnTo>
                    <a:pt x="908" y="107"/>
                  </a:lnTo>
                  <a:lnTo>
                    <a:pt x="1047" y="82"/>
                  </a:lnTo>
                  <a:lnTo>
                    <a:pt x="889" y="221"/>
                  </a:lnTo>
                  <a:lnTo>
                    <a:pt x="730" y="457"/>
                  </a:lnTo>
                  <a:lnTo>
                    <a:pt x="673" y="589"/>
                  </a:lnTo>
                  <a:lnTo>
                    <a:pt x="610" y="513"/>
                  </a:lnTo>
                  <a:lnTo>
                    <a:pt x="495" y="488"/>
                  </a:lnTo>
                  <a:lnTo>
                    <a:pt x="426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21391800">
              <a:off x="6394320" y="3651480"/>
              <a:ext cx="12600" cy="22680"/>
            </a:xfrm>
            <a:custGeom>
              <a:avLst/>
              <a:gdLst/>
              <a:ahLst/>
              <a:rect l="l" t="t" r="r" b="b"/>
              <a:pathLst>
                <a:path w="165" h="362">
                  <a:moveTo>
                    <a:pt x="13" y="70"/>
                  </a:moveTo>
                  <a:lnTo>
                    <a:pt x="0" y="197"/>
                  </a:lnTo>
                  <a:lnTo>
                    <a:pt x="38" y="362"/>
                  </a:lnTo>
                  <a:lnTo>
                    <a:pt x="44" y="222"/>
                  </a:lnTo>
                  <a:lnTo>
                    <a:pt x="89" y="121"/>
                  </a:lnTo>
                  <a:lnTo>
                    <a:pt x="165" y="108"/>
                  </a:lnTo>
                  <a:lnTo>
                    <a:pt x="133" y="0"/>
                  </a:lnTo>
                  <a:lnTo>
                    <a:pt x="51" y="26"/>
                  </a:lnTo>
                  <a:lnTo>
                    <a:pt x="1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391800">
              <a:off x="6404760" y="3654000"/>
              <a:ext cx="15840" cy="37440"/>
            </a:xfrm>
            <a:custGeom>
              <a:avLst/>
              <a:gdLst/>
              <a:ahLst/>
              <a:rect l="l" t="t" r="r" b="b"/>
              <a:pathLst>
                <a:path w="204" h="602">
                  <a:moveTo>
                    <a:pt x="27" y="247"/>
                  </a:moveTo>
                  <a:lnTo>
                    <a:pt x="0" y="342"/>
                  </a:lnTo>
                  <a:lnTo>
                    <a:pt x="20" y="443"/>
                  </a:lnTo>
                  <a:lnTo>
                    <a:pt x="70" y="494"/>
                  </a:lnTo>
                  <a:lnTo>
                    <a:pt x="134" y="589"/>
                  </a:lnTo>
                  <a:lnTo>
                    <a:pt x="166" y="602"/>
                  </a:lnTo>
                  <a:lnTo>
                    <a:pt x="204" y="576"/>
                  </a:lnTo>
                  <a:lnTo>
                    <a:pt x="153" y="450"/>
                  </a:lnTo>
                  <a:lnTo>
                    <a:pt x="115" y="367"/>
                  </a:lnTo>
                  <a:lnTo>
                    <a:pt x="146" y="317"/>
                  </a:lnTo>
                  <a:lnTo>
                    <a:pt x="172" y="247"/>
                  </a:lnTo>
                  <a:lnTo>
                    <a:pt x="153" y="152"/>
                  </a:lnTo>
                  <a:lnTo>
                    <a:pt x="13" y="0"/>
                  </a:lnTo>
                  <a:lnTo>
                    <a:pt x="32" y="114"/>
                  </a:lnTo>
                  <a:lnTo>
                    <a:pt x="96" y="165"/>
                  </a:lnTo>
                  <a:lnTo>
                    <a:pt x="27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391800">
              <a:off x="6397920" y="3674880"/>
              <a:ext cx="6840" cy="12600"/>
            </a:xfrm>
            <a:custGeom>
              <a:avLst/>
              <a:gdLst/>
              <a:ahLst/>
              <a:rect l="l" t="t" r="r" b="b"/>
              <a:pathLst>
                <a:path w="94" h="202">
                  <a:moveTo>
                    <a:pt x="43" y="202"/>
                  </a:moveTo>
                  <a:lnTo>
                    <a:pt x="0" y="114"/>
                  </a:lnTo>
                  <a:lnTo>
                    <a:pt x="12" y="0"/>
                  </a:lnTo>
                  <a:lnTo>
                    <a:pt x="43" y="94"/>
                  </a:lnTo>
                  <a:lnTo>
                    <a:pt x="94" y="189"/>
                  </a:lnTo>
                  <a:lnTo>
                    <a:pt x="43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1391800">
              <a:off x="6386040" y="3693600"/>
              <a:ext cx="36720" cy="37800"/>
            </a:xfrm>
            <a:custGeom>
              <a:avLst/>
              <a:gdLst/>
              <a:ahLst/>
              <a:rect l="l" t="t" r="r" b="b"/>
              <a:pathLst>
                <a:path w="477" h="608">
                  <a:moveTo>
                    <a:pt x="419" y="82"/>
                  </a:moveTo>
                  <a:lnTo>
                    <a:pt x="356" y="57"/>
                  </a:lnTo>
                  <a:lnTo>
                    <a:pt x="419" y="165"/>
                  </a:lnTo>
                  <a:lnTo>
                    <a:pt x="318" y="82"/>
                  </a:lnTo>
                  <a:lnTo>
                    <a:pt x="280" y="121"/>
                  </a:lnTo>
                  <a:lnTo>
                    <a:pt x="325" y="203"/>
                  </a:lnTo>
                  <a:lnTo>
                    <a:pt x="374" y="260"/>
                  </a:lnTo>
                  <a:lnTo>
                    <a:pt x="432" y="273"/>
                  </a:lnTo>
                  <a:lnTo>
                    <a:pt x="432" y="361"/>
                  </a:lnTo>
                  <a:lnTo>
                    <a:pt x="388" y="412"/>
                  </a:lnTo>
                  <a:lnTo>
                    <a:pt x="260" y="424"/>
                  </a:lnTo>
                  <a:lnTo>
                    <a:pt x="166" y="430"/>
                  </a:lnTo>
                  <a:lnTo>
                    <a:pt x="267" y="488"/>
                  </a:lnTo>
                  <a:lnTo>
                    <a:pt x="394" y="475"/>
                  </a:lnTo>
                  <a:lnTo>
                    <a:pt x="445" y="462"/>
                  </a:lnTo>
                  <a:lnTo>
                    <a:pt x="477" y="361"/>
                  </a:lnTo>
                  <a:lnTo>
                    <a:pt x="477" y="507"/>
                  </a:lnTo>
                  <a:lnTo>
                    <a:pt x="432" y="577"/>
                  </a:lnTo>
                  <a:lnTo>
                    <a:pt x="273" y="608"/>
                  </a:lnTo>
                  <a:lnTo>
                    <a:pt x="83" y="538"/>
                  </a:lnTo>
                  <a:lnTo>
                    <a:pt x="0" y="367"/>
                  </a:lnTo>
                  <a:lnTo>
                    <a:pt x="38" y="190"/>
                  </a:lnTo>
                  <a:lnTo>
                    <a:pt x="121" y="89"/>
                  </a:lnTo>
                  <a:lnTo>
                    <a:pt x="204" y="44"/>
                  </a:lnTo>
                  <a:lnTo>
                    <a:pt x="128" y="44"/>
                  </a:lnTo>
                  <a:lnTo>
                    <a:pt x="33" y="107"/>
                  </a:lnTo>
                  <a:lnTo>
                    <a:pt x="77" y="6"/>
                  </a:lnTo>
                  <a:lnTo>
                    <a:pt x="242" y="0"/>
                  </a:lnTo>
                  <a:lnTo>
                    <a:pt x="356" y="6"/>
                  </a:lnTo>
                  <a:lnTo>
                    <a:pt x="41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21391800">
              <a:off x="6361560" y="3684240"/>
              <a:ext cx="109080" cy="121320"/>
            </a:xfrm>
            <a:custGeom>
              <a:avLst/>
              <a:gdLst/>
              <a:ahLst/>
              <a:rect l="l" t="t" r="r" b="b"/>
              <a:pathLst>
                <a:path w="1404" h="1947">
                  <a:moveTo>
                    <a:pt x="970" y="1340"/>
                  </a:moveTo>
                  <a:lnTo>
                    <a:pt x="889" y="1207"/>
                  </a:lnTo>
                  <a:lnTo>
                    <a:pt x="860" y="1132"/>
                  </a:lnTo>
                  <a:lnTo>
                    <a:pt x="830" y="1044"/>
                  </a:lnTo>
                  <a:lnTo>
                    <a:pt x="830" y="940"/>
                  </a:lnTo>
                  <a:lnTo>
                    <a:pt x="822" y="718"/>
                  </a:lnTo>
                  <a:lnTo>
                    <a:pt x="714" y="763"/>
                  </a:lnTo>
                  <a:lnTo>
                    <a:pt x="521" y="780"/>
                  </a:lnTo>
                  <a:lnTo>
                    <a:pt x="432" y="717"/>
                  </a:lnTo>
                  <a:lnTo>
                    <a:pt x="343" y="634"/>
                  </a:lnTo>
                  <a:lnTo>
                    <a:pt x="305" y="501"/>
                  </a:lnTo>
                  <a:lnTo>
                    <a:pt x="305" y="355"/>
                  </a:lnTo>
                  <a:lnTo>
                    <a:pt x="241" y="128"/>
                  </a:lnTo>
                  <a:lnTo>
                    <a:pt x="241" y="343"/>
                  </a:lnTo>
                  <a:lnTo>
                    <a:pt x="197" y="438"/>
                  </a:lnTo>
                  <a:lnTo>
                    <a:pt x="71" y="305"/>
                  </a:lnTo>
                  <a:lnTo>
                    <a:pt x="64" y="0"/>
                  </a:lnTo>
                  <a:lnTo>
                    <a:pt x="0" y="171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8" y="315"/>
                  </a:lnTo>
                  <a:lnTo>
                    <a:pt x="8" y="324"/>
                  </a:lnTo>
                  <a:lnTo>
                    <a:pt x="8" y="335"/>
                  </a:lnTo>
                  <a:lnTo>
                    <a:pt x="10" y="352"/>
                  </a:lnTo>
                  <a:lnTo>
                    <a:pt x="11" y="360"/>
                  </a:lnTo>
                  <a:lnTo>
                    <a:pt x="11" y="364"/>
                  </a:lnTo>
                  <a:lnTo>
                    <a:pt x="11" y="368"/>
                  </a:lnTo>
                  <a:lnTo>
                    <a:pt x="12" y="375"/>
                  </a:lnTo>
                  <a:lnTo>
                    <a:pt x="12" y="380"/>
                  </a:lnTo>
                  <a:lnTo>
                    <a:pt x="12" y="386"/>
                  </a:lnTo>
                  <a:lnTo>
                    <a:pt x="13" y="391"/>
                  </a:lnTo>
                  <a:lnTo>
                    <a:pt x="13" y="400"/>
                  </a:lnTo>
                  <a:lnTo>
                    <a:pt x="159" y="602"/>
                  </a:lnTo>
                  <a:lnTo>
                    <a:pt x="229" y="792"/>
                  </a:lnTo>
                  <a:lnTo>
                    <a:pt x="362" y="919"/>
                  </a:lnTo>
                  <a:lnTo>
                    <a:pt x="267" y="925"/>
                  </a:lnTo>
                  <a:lnTo>
                    <a:pt x="387" y="1046"/>
                  </a:lnTo>
                  <a:lnTo>
                    <a:pt x="540" y="1237"/>
                  </a:lnTo>
                  <a:lnTo>
                    <a:pt x="740" y="1170"/>
                  </a:lnTo>
                  <a:lnTo>
                    <a:pt x="869" y="1341"/>
                  </a:lnTo>
                  <a:lnTo>
                    <a:pt x="1404" y="1947"/>
                  </a:lnTo>
                  <a:lnTo>
                    <a:pt x="1118" y="1568"/>
                  </a:lnTo>
                  <a:lnTo>
                    <a:pt x="970" y="1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1391800">
              <a:off x="6410520" y="3693960"/>
              <a:ext cx="15840" cy="33120"/>
            </a:xfrm>
            <a:custGeom>
              <a:avLst/>
              <a:gdLst/>
              <a:ahLst/>
              <a:rect l="l" t="t" r="r" b="b"/>
              <a:pathLst>
                <a:path w="204" h="539">
                  <a:moveTo>
                    <a:pt x="171" y="374"/>
                  </a:moveTo>
                  <a:lnTo>
                    <a:pt x="204" y="259"/>
                  </a:lnTo>
                  <a:lnTo>
                    <a:pt x="197" y="133"/>
                  </a:lnTo>
                  <a:lnTo>
                    <a:pt x="101" y="12"/>
                  </a:lnTo>
                  <a:lnTo>
                    <a:pt x="0" y="0"/>
                  </a:lnTo>
                  <a:lnTo>
                    <a:pt x="133" y="102"/>
                  </a:lnTo>
                  <a:lnTo>
                    <a:pt x="159" y="227"/>
                  </a:lnTo>
                  <a:lnTo>
                    <a:pt x="76" y="304"/>
                  </a:lnTo>
                  <a:lnTo>
                    <a:pt x="76" y="380"/>
                  </a:lnTo>
                  <a:lnTo>
                    <a:pt x="146" y="330"/>
                  </a:lnTo>
                  <a:lnTo>
                    <a:pt x="146" y="456"/>
                  </a:lnTo>
                  <a:lnTo>
                    <a:pt x="139" y="539"/>
                  </a:lnTo>
                  <a:lnTo>
                    <a:pt x="171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1391800">
              <a:off x="6409440" y="3749040"/>
              <a:ext cx="102240" cy="281520"/>
            </a:xfrm>
            <a:custGeom>
              <a:avLst/>
              <a:gdLst/>
              <a:ahLst/>
              <a:rect l="l" t="t" r="r" b="b"/>
              <a:pathLst>
                <a:path w="1315" h="4512">
                  <a:moveTo>
                    <a:pt x="113" y="932"/>
                  </a:moveTo>
                  <a:lnTo>
                    <a:pt x="72" y="627"/>
                  </a:lnTo>
                  <a:lnTo>
                    <a:pt x="136" y="399"/>
                  </a:lnTo>
                  <a:lnTo>
                    <a:pt x="121" y="98"/>
                  </a:lnTo>
                  <a:lnTo>
                    <a:pt x="194" y="176"/>
                  </a:lnTo>
                  <a:lnTo>
                    <a:pt x="283" y="327"/>
                  </a:lnTo>
                  <a:lnTo>
                    <a:pt x="280" y="197"/>
                  </a:lnTo>
                  <a:lnTo>
                    <a:pt x="354" y="177"/>
                  </a:lnTo>
                  <a:lnTo>
                    <a:pt x="151" y="0"/>
                  </a:lnTo>
                  <a:lnTo>
                    <a:pt x="0" y="323"/>
                  </a:lnTo>
                  <a:lnTo>
                    <a:pt x="8" y="554"/>
                  </a:lnTo>
                  <a:lnTo>
                    <a:pt x="8" y="691"/>
                  </a:lnTo>
                  <a:lnTo>
                    <a:pt x="94" y="1011"/>
                  </a:lnTo>
                  <a:lnTo>
                    <a:pt x="284" y="1697"/>
                  </a:lnTo>
                  <a:lnTo>
                    <a:pt x="431" y="2269"/>
                  </a:lnTo>
                  <a:lnTo>
                    <a:pt x="639" y="3102"/>
                  </a:lnTo>
                  <a:lnTo>
                    <a:pt x="780" y="3466"/>
                  </a:lnTo>
                  <a:lnTo>
                    <a:pt x="1168" y="4219"/>
                  </a:lnTo>
                  <a:lnTo>
                    <a:pt x="1299" y="4512"/>
                  </a:lnTo>
                  <a:lnTo>
                    <a:pt x="1315" y="4305"/>
                  </a:lnTo>
                  <a:lnTo>
                    <a:pt x="1047" y="3675"/>
                  </a:lnTo>
                  <a:lnTo>
                    <a:pt x="757" y="3079"/>
                  </a:lnTo>
                  <a:lnTo>
                    <a:pt x="693" y="2613"/>
                  </a:lnTo>
                  <a:lnTo>
                    <a:pt x="449" y="1887"/>
                  </a:lnTo>
                  <a:lnTo>
                    <a:pt x="266" y="1335"/>
                  </a:lnTo>
                  <a:lnTo>
                    <a:pt x="113" y="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1391800">
              <a:off x="6437880" y="3763440"/>
              <a:ext cx="131400" cy="99720"/>
            </a:xfrm>
            <a:custGeom>
              <a:avLst/>
              <a:gdLst/>
              <a:ahLst/>
              <a:rect l="l" t="t" r="r" b="b"/>
              <a:pathLst>
                <a:path w="1694" h="1597">
                  <a:moveTo>
                    <a:pt x="234" y="235"/>
                  </a:moveTo>
                  <a:lnTo>
                    <a:pt x="551" y="557"/>
                  </a:lnTo>
                  <a:lnTo>
                    <a:pt x="785" y="731"/>
                  </a:lnTo>
                  <a:lnTo>
                    <a:pt x="970" y="824"/>
                  </a:lnTo>
                  <a:lnTo>
                    <a:pt x="1107" y="884"/>
                  </a:lnTo>
                  <a:lnTo>
                    <a:pt x="1299" y="868"/>
                  </a:lnTo>
                  <a:lnTo>
                    <a:pt x="1440" y="846"/>
                  </a:lnTo>
                  <a:lnTo>
                    <a:pt x="1336" y="1003"/>
                  </a:lnTo>
                  <a:lnTo>
                    <a:pt x="1308" y="1146"/>
                  </a:lnTo>
                  <a:lnTo>
                    <a:pt x="1295" y="1224"/>
                  </a:lnTo>
                  <a:lnTo>
                    <a:pt x="1694" y="949"/>
                  </a:lnTo>
                  <a:lnTo>
                    <a:pt x="1674" y="1011"/>
                  </a:lnTo>
                  <a:lnTo>
                    <a:pt x="1096" y="1450"/>
                  </a:lnTo>
                  <a:lnTo>
                    <a:pt x="932" y="1597"/>
                  </a:lnTo>
                  <a:lnTo>
                    <a:pt x="1028" y="1318"/>
                  </a:lnTo>
                  <a:lnTo>
                    <a:pt x="1030" y="1085"/>
                  </a:lnTo>
                  <a:lnTo>
                    <a:pt x="878" y="943"/>
                  </a:lnTo>
                  <a:lnTo>
                    <a:pt x="542" y="730"/>
                  </a:lnTo>
                  <a:lnTo>
                    <a:pt x="387" y="481"/>
                  </a:lnTo>
                  <a:lnTo>
                    <a:pt x="0" y="0"/>
                  </a:lnTo>
                  <a:lnTo>
                    <a:pt x="71" y="26"/>
                  </a:lnTo>
                  <a:lnTo>
                    <a:pt x="234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1391800">
              <a:off x="6534720" y="3664800"/>
              <a:ext cx="126720" cy="163440"/>
            </a:xfrm>
            <a:custGeom>
              <a:avLst/>
              <a:gdLst/>
              <a:ahLst/>
              <a:rect l="l" t="t" r="r" b="b"/>
              <a:pathLst>
                <a:path w="1630" h="2623">
                  <a:moveTo>
                    <a:pt x="1439" y="317"/>
                  </a:moveTo>
                  <a:lnTo>
                    <a:pt x="1375" y="469"/>
                  </a:lnTo>
                  <a:lnTo>
                    <a:pt x="1319" y="692"/>
                  </a:lnTo>
                  <a:lnTo>
                    <a:pt x="1240" y="962"/>
                  </a:lnTo>
                  <a:lnTo>
                    <a:pt x="1152" y="1216"/>
                  </a:lnTo>
                  <a:lnTo>
                    <a:pt x="962" y="1541"/>
                  </a:lnTo>
                  <a:lnTo>
                    <a:pt x="668" y="1907"/>
                  </a:lnTo>
                  <a:lnTo>
                    <a:pt x="326" y="2185"/>
                  </a:lnTo>
                  <a:lnTo>
                    <a:pt x="15" y="2383"/>
                  </a:lnTo>
                  <a:lnTo>
                    <a:pt x="0" y="2486"/>
                  </a:lnTo>
                  <a:lnTo>
                    <a:pt x="182" y="2439"/>
                  </a:lnTo>
                  <a:lnTo>
                    <a:pt x="205" y="2555"/>
                  </a:lnTo>
                  <a:lnTo>
                    <a:pt x="174" y="2623"/>
                  </a:lnTo>
                  <a:lnTo>
                    <a:pt x="301" y="2511"/>
                  </a:lnTo>
                  <a:lnTo>
                    <a:pt x="354" y="2236"/>
                  </a:lnTo>
                  <a:lnTo>
                    <a:pt x="365" y="2495"/>
                  </a:lnTo>
                  <a:lnTo>
                    <a:pt x="466" y="2496"/>
                  </a:lnTo>
                  <a:lnTo>
                    <a:pt x="485" y="2399"/>
                  </a:lnTo>
                  <a:lnTo>
                    <a:pt x="537" y="2375"/>
                  </a:lnTo>
                  <a:lnTo>
                    <a:pt x="617" y="2371"/>
                  </a:lnTo>
                  <a:lnTo>
                    <a:pt x="706" y="2372"/>
                  </a:lnTo>
                  <a:lnTo>
                    <a:pt x="831" y="2379"/>
                  </a:lnTo>
                  <a:lnTo>
                    <a:pt x="803" y="2264"/>
                  </a:lnTo>
                  <a:lnTo>
                    <a:pt x="621" y="2216"/>
                  </a:lnTo>
                  <a:lnTo>
                    <a:pt x="501" y="2169"/>
                  </a:lnTo>
                  <a:lnTo>
                    <a:pt x="438" y="2137"/>
                  </a:lnTo>
                  <a:lnTo>
                    <a:pt x="580" y="2025"/>
                  </a:lnTo>
                  <a:lnTo>
                    <a:pt x="779" y="1851"/>
                  </a:lnTo>
                  <a:lnTo>
                    <a:pt x="1001" y="1564"/>
                  </a:lnTo>
                  <a:lnTo>
                    <a:pt x="1207" y="1176"/>
                  </a:lnTo>
                  <a:lnTo>
                    <a:pt x="1351" y="755"/>
                  </a:lnTo>
                  <a:lnTo>
                    <a:pt x="1431" y="477"/>
                  </a:lnTo>
                  <a:lnTo>
                    <a:pt x="1542" y="311"/>
                  </a:lnTo>
                  <a:lnTo>
                    <a:pt x="1550" y="413"/>
                  </a:lnTo>
                  <a:lnTo>
                    <a:pt x="1630" y="222"/>
                  </a:lnTo>
                  <a:lnTo>
                    <a:pt x="1526" y="0"/>
                  </a:lnTo>
                  <a:lnTo>
                    <a:pt x="1479" y="175"/>
                  </a:lnTo>
                  <a:lnTo>
                    <a:pt x="1479" y="278"/>
                  </a:lnTo>
                  <a:lnTo>
                    <a:pt x="14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1391800">
              <a:off x="6511680" y="3855960"/>
              <a:ext cx="46440" cy="46800"/>
            </a:xfrm>
            <a:custGeom>
              <a:avLst/>
              <a:gdLst/>
              <a:ahLst/>
              <a:rect l="l" t="t" r="r" b="b"/>
              <a:pathLst>
                <a:path w="598" h="755">
                  <a:moveTo>
                    <a:pt x="25" y="87"/>
                  </a:moveTo>
                  <a:lnTo>
                    <a:pt x="0" y="217"/>
                  </a:lnTo>
                  <a:lnTo>
                    <a:pt x="18" y="302"/>
                  </a:lnTo>
                  <a:lnTo>
                    <a:pt x="90" y="461"/>
                  </a:lnTo>
                  <a:lnTo>
                    <a:pt x="184" y="589"/>
                  </a:lnTo>
                  <a:lnTo>
                    <a:pt x="322" y="723"/>
                  </a:lnTo>
                  <a:lnTo>
                    <a:pt x="439" y="755"/>
                  </a:lnTo>
                  <a:lnTo>
                    <a:pt x="527" y="668"/>
                  </a:lnTo>
                  <a:lnTo>
                    <a:pt x="598" y="572"/>
                  </a:lnTo>
                  <a:lnTo>
                    <a:pt x="431" y="628"/>
                  </a:lnTo>
                  <a:lnTo>
                    <a:pt x="288" y="564"/>
                  </a:lnTo>
                  <a:lnTo>
                    <a:pt x="121" y="350"/>
                  </a:lnTo>
                  <a:lnTo>
                    <a:pt x="82" y="191"/>
                  </a:lnTo>
                  <a:lnTo>
                    <a:pt x="121" y="0"/>
                  </a:lnTo>
                  <a:lnTo>
                    <a:pt x="2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1391800">
              <a:off x="6548400" y="3831480"/>
              <a:ext cx="123120" cy="117360"/>
            </a:xfrm>
            <a:custGeom>
              <a:avLst/>
              <a:gdLst/>
              <a:ahLst/>
              <a:rect l="l" t="t" r="r" b="b"/>
              <a:pathLst>
                <a:path w="1582" h="1882">
                  <a:moveTo>
                    <a:pt x="111" y="1009"/>
                  </a:moveTo>
                  <a:lnTo>
                    <a:pt x="134" y="1056"/>
                  </a:lnTo>
                  <a:lnTo>
                    <a:pt x="365" y="1056"/>
                  </a:lnTo>
                  <a:lnTo>
                    <a:pt x="565" y="953"/>
                  </a:lnTo>
                  <a:lnTo>
                    <a:pt x="811" y="722"/>
                  </a:lnTo>
                  <a:lnTo>
                    <a:pt x="962" y="524"/>
                  </a:lnTo>
                  <a:lnTo>
                    <a:pt x="1064" y="349"/>
                  </a:lnTo>
                  <a:lnTo>
                    <a:pt x="962" y="222"/>
                  </a:lnTo>
                  <a:lnTo>
                    <a:pt x="811" y="150"/>
                  </a:lnTo>
                  <a:lnTo>
                    <a:pt x="699" y="71"/>
                  </a:lnTo>
                  <a:lnTo>
                    <a:pt x="676" y="0"/>
                  </a:lnTo>
                  <a:lnTo>
                    <a:pt x="748" y="69"/>
                  </a:lnTo>
                  <a:lnTo>
                    <a:pt x="876" y="95"/>
                  </a:lnTo>
                  <a:lnTo>
                    <a:pt x="951" y="156"/>
                  </a:lnTo>
                  <a:lnTo>
                    <a:pt x="1035" y="175"/>
                  </a:lnTo>
                  <a:lnTo>
                    <a:pt x="1164" y="270"/>
                  </a:lnTo>
                  <a:lnTo>
                    <a:pt x="1252" y="315"/>
                  </a:lnTo>
                  <a:lnTo>
                    <a:pt x="1357" y="414"/>
                  </a:lnTo>
                  <a:lnTo>
                    <a:pt x="1486" y="437"/>
                  </a:lnTo>
                  <a:lnTo>
                    <a:pt x="1519" y="469"/>
                  </a:lnTo>
                  <a:lnTo>
                    <a:pt x="1399" y="469"/>
                  </a:lnTo>
                  <a:lnTo>
                    <a:pt x="1415" y="564"/>
                  </a:lnTo>
                  <a:lnTo>
                    <a:pt x="1582" y="675"/>
                  </a:lnTo>
                  <a:lnTo>
                    <a:pt x="1519" y="660"/>
                  </a:lnTo>
                  <a:lnTo>
                    <a:pt x="1383" y="603"/>
                  </a:lnTo>
                  <a:lnTo>
                    <a:pt x="1308" y="523"/>
                  </a:lnTo>
                  <a:lnTo>
                    <a:pt x="1252" y="517"/>
                  </a:lnTo>
                  <a:lnTo>
                    <a:pt x="1154" y="694"/>
                  </a:lnTo>
                  <a:lnTo>
                    <a:pt x="1041" y="826"/>
                  </a:lnTo>
                  <a:lnTo>
                    <a:pt x="1033" y="922"/>
                  </a:lnTo>
                  <a:lnTo>
                    <a:pt x="866" y="1041"/>
                  </a:lnTo>
                  <a:lnTo>
                    <a:pt x="772" y="1112"/>
                  </a:lnTo>
                  <a:lnTo>
                    <a:pt x="719" y="1295"/>
                  </a:lnTo>
                  <a:lnTo>
                    <a:pt x="756" y="1438"/>
                  </a:lnTo>
                  <a:lnTo>
                    <a:pt x="780" y="1596"/>
                  </a:lnTo>
                  <a:lnTo>
                    <a:pt x="835" y="1842"/>
                  </a:lnTo>
                  <a:lnTo>
                    <a:pt x="910" y="1825"/>
                  </a:lnTo>
                  <a:lnTo>
                    <a:pt x="1038" y="1809"/>
                  </a:lnTo>
                  <a:lnTo>
                    <a:pt x="1192" y="1766"/>
                  </a:lnTo>
                  <a:lnTo>
                    <a:pt x="1474" y="1667"/>
                  </a:lnTo>
                  <a:lnTo>
                    <a:pt x="1291" y="1763"/>
                  </a:lnTo>
                  <a:lnTo>
                    <a:pt x="1130" y="1825"/>
                  </a:lnTo>
                  <a:lnTo>
                    <a:pt x="803" y="1882"/>
                  </a:lnTo>
                  <a:lnTo>
                    <a:pt x="756" y="1700"/>
                  </a:lnTo>
                  <a:lnTo>
                    <a:pt x="660" y="1454"/>
                  </a:lnTo>
                  <a:lnTo>
                    <a:pt x="628" y="1319"/>
                  </a:lnTo>
                  <a:lnTo>
                    <a:pt x="445" y="1247"/>
                  </a:lnTo>
                  <a:lnTo>
                    <a:pt x="317" y="1184"/>
                  </a:lnTo>
                  <a:lnTo>
                    <a:pt x="286" y="1120"/>
                  </a:lnTo>
                  <a:lnTo>
                    <a:pt x="221" y="1134"/>
                  </a:lnTo>
                  <a:lnTo>
                    <a:pt x="118" y="1120"/>
                  </a:lnTo>
                  <a:lnTo>
                    <a:pt x="87" y="1049"/>
                  </a:lnTo>
                  <a:lnTo>
                    <a:pt x="0" y="1033"/>
                  </a:lnTo>
                  <a:lnTo>
                    <a:pt x="55" y="993"/>
                  </a:lnTo>
                  <a:lnTo>
                    <a:pt x="111" y="10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391800">
              <a:off x="6553080" y="3914280"/>
              <a:ext cx="47880" cy="41400"/>
            </a:xfrm>
            <a:custGeom>
              <a:avLst/>
              <a:gdLst/>
              <a:ahLst/>
              <a:rect l="l" t="t" r="r" b="b"/>
              <a:pathLst>
                <a:path w="621" h="668">
                  <a:moveTo>
                    <a:pt x="605" y="0"/>
                  </a:moveTo>
                  <a:lnTo>
                    <a:pt x="446" y="87"/>
                  </a:lnTo>
                  <a:lnTo>
                    <a:pt x="0" y="239"/>
                  </a:lnTo>
                  <a:lnTo>
                    <a:pt x="151" y="478"/>
                  </a:lnTo>
                  <a:lnTo>
                    <a:pt x="239" y="668"/>
                  </a:lnTo>
                  <a:lnTo>
                    <a:pt x="621" y="349"/>
                  </a:lnTo>
                  <a:lnTo>
                    <a:pt x="589" y="63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391800">
              <a:off x="6580800" y="3938400"/>
              <a:ext cx="39960" cy="17640"/>
            </a:xfrm>
            <a:custGeom>
              <a:avLst/>
              <a:gdLst/>
              <a:ahLst/>
              <a:rect l="l" t="t" r="r" b="b"/>
              <a:pathLst>
                <a:path w="517" h="285">
                  <a:moveTo>
                    <a:pt x="517" y="165"/>
                  </a:moveTo>
                  <a:lnTo>
                    <a:pt x="247" y="230"/>
                  </a:lnTo>
                  <a:lnTo>
                    <a:pt x="0" y="285"/>
                  </a:lnTo>
                  <a:lnTo>
                    <a:pt x="119" y="206"/>
                  </a:lnTo>
                  <a:lnTo>
                    <a:pt x="279" y="39"/>
                  </a:lnTo>
                  <a:lnTo>
                    <a:pt x="342" y="0"/>
                  </a:lnTo>
                  <a:lnTo>
                    <a:pt x="366" y="157"/>
                  </a:lnTo>
                  <a:lnTo>
                    <a:pt x="51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1391800">
              <a:off x="6582240" y="3982320"/>
              <a:ext cx="13680" cy="11160"/>
            </a:xfrm>
            <a:custGeom>
              <a:avLst/>
              <a:gdLst/>
              <a:ahLst/>
              <a:rect l="l" t="t" r="r" b="b"/>
              <a:pathLst>
                <a:path w="183" h="182">
                  <a:moveTo>
                    <a:pt x="0" y="95"/>
                  </a:moveTo>
                  <a:lnTo>
                    <a:pt x="25" y="182"/>
                  </a:lnTo>
                  <a:lnTo>
                    <a:pt x="136" y="182"/>
                  </a:lnTo>
                  <a:lnTo>
                    <a:pt x="183" y="126"/>
                  </a:lnTo>
                  <a:lnTo>
                    <a:pt x="183" y="55"/>
                  </a:lnTo>
                  <a:lnTo>
                    <a:pt x="127" y="0"/>
                  </a:lnTo>
                  <a:lnTo>
                    <a:pt x="48" y="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391800">
              <a:off x="6531840" y="3898440"/>
              <a:ext cx="25200" cy="61560"/>
            </a:xfrm>
            <a:custGeom>
              <a:avLst/>
              <a:gdLst/>
              <a:ahLst/>
              <a:rect l="l" t="t" r="r" b="b"/>
              <a:pathLst>
                <a:path w="327" h="993">
                  <a:moveTo>
                    <a:pt x="160" y="190"/>
                  </a:moveTo>
                  <a:lnTo>
                    <a:pt x="32" y="675"/>
                  </a:lnTo>
                  <a:lnTo>
                    <a:pt x="16" y="818"/>
                  </a:lnTo>
                  <a:lnTo>
                    <a:pt x="136" y="890"/>
                  </a:lnTo>
                  <a:lnTo>
                    <a:pt x="287" y="898"/>
                  </a:lnTo>
                  <a:lnTo>
                    <a:pt x="271" y="842"/>
                  </a:lnTo>
                  <a:lnTo>
                    <a:pt x="191" y="810"/>
                  </a:lnTo>
                  <a:lnTo>
                    <a:pt x="295" y="802"/>
                  </a:lnTo>
                  <a:lnTo>
                    <a:pt x="327" y="857"/>
                  </a:lnTo>
                  <a:lnTo>
                    <a:pt x="327" y="922"/>
                  </a:lnTo>
                  <a:lnTo>
                    <a:pt x="231" y="993"/>
                  </a:lnTo>
                  <a:lnTo>
                    <a:pt x="175" y="970"/>
                  </a:lnTo>
                  <a:lnTo>
                    <a:pt x="88" y="906"/>
                  </a:lnTo>
                  <a:lnTo>
                    <a:pt x="8" y="842"/>
                  </a:lnTo>
                  <a:lnTo>
                    <a:pt x="0" y="747"/>
                  </a:lnTo>
                  <a:lnTo>
                    <a:pt x="32" y="595"/>
                  </a:lnTo>
                  <a:lnTo>
                    <a:pt x="120" y="159"/>
                  </a:lnTo>
                  <a:lnTo>
                    <a:pt x="231" y="0"/>
                  </a:lnTo>
                  <a:lnTo>
                    <a:pt x="240" y="47"/>
                  </a:lnTo>
                  <a:lnTo>
                    <a:pt x="16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1391800">
              <a:off x="6538320" y="3901680"/>
              <a:ext cx="25920" cy="46080"/>
            </a:xfrm>
            <a:custGeom>
              <a:avLst/>
              <a:gdLst/>
              <a:ahLst/>
              <a:rect l="l" t="t" r="r" b="b"/>
              <a:pathLst>
                <a:path w="335" h="740">
                  <a:moveTo>
                    <a:pt x="0" y="731"/>
                  </a:moveTo>
                  <a:lnTo>
                    <a:pt x="0" y="660"/>
                  </a:lnTo>
                  <a:lnTo>
                    <a:pt x="88" y="453"/>
                  </a:lnTo>
                  <a:lnTo>
                    <a:pt x="111" y="215"/>
                  </a:lnTo>
                  <a:lnTo>
                    <a:pt x="119" y="167"/>
                  </a:lnTo>
                  <a:lnTo>
                    <a:pt x="48" y="135"/>
                  </a:lnTo>
                  <a:lnTo>
                    <a:pt x="88" y="79"/>
                  </a:lnTo>
                  <a:lnTo>
                    <a:pt x="144" y="135"/>
                  </a:lnTo>
                  <a:lnTo>
                    <a:pt x="263" y="0"/>
                  </a:lnTo>
                  <a:lnTo>
                    <a:pt x="335" y="40"/>
                  </a:lnTo>
                  <a:lnTo>
                    <a:pt x="254" y="79"/>
                  </a:lnTo>
                  <a:lnTo>
                    <a:pt x="201" y="177"/>
                  </a:lnTo>
                  <a:lnTo>
                    <a:pt x="135" y="223"/>
                  </a:lnTo>
                  <a:lnTo>
                    <a:pt x="127" y="461"/>
                  </a:lnTo>
                  <a:lnTo>
                    <a:pt x="24" y="668"/>
                  </a:lnTo>
                  <a:lnTo>
                    <a:pt x="64" y="740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1391800">
              <a:off x="6542640" y="3959280"/>
              <a:ext cx="10800" cy="75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85" y="4"/>
                  </a:moveTo>
                  <a:lnTo>
                    <a:pt x="17" y="46"/>
                  </a:lnTo>
                  <a:lnTo>
                    <a:pt x="0" y="81"/>
                  </a:lnTo>
                  <a:lnTo>
                    <a:pt x="35" y="108"/>
                  </a:lnTo>
                  <a:lnTo>
                    <a:pt x="71" y="122"/>
                  </a:lnTo>
                  <a:lnTo>
                    <a:pt x="49" y="86"/>
                  </a:lnTo>
                  <a:lnTo>
                    <a:pt x="71" y="46"/>
                  </a:lnTo>
                  <a:lnTo>
                    <a:pt x="139" y="0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21391800">
              <a:off x="6537600" y="3953880"/>
              <a:ext cx="24840" cy="26640"/>
            </a:xfrm>
            <a:custGeom>
              <a:avLst/>
              <a:gdLst/>
              <a:ahLst/>
              <a:rect l="l" t="t" r="r" b="b"/>
              <a:pathLst>
                <a:path w="325" h="428">
                  <a:moveTo>
                    <a:pt x="73" y="36"/>
                  </a:moveTo>
                  <a:lnTo>
                    <a:pt x="28" y="108"/>
                  </a:lnTo>
                  <a:lnTo>
                    <a:pt x="31" y="158"/>
                  </a:lnTo>
                  <a:lnTo>
                    <a:pt x="73" y="221"/>
                  </a:lnTo>
                  <a:lnTo>
                    <a:pt x="127" y="275"/>
                  </a:lnTo>
                  <a:lnTo>
                    <a:pt x="198" y="311"/>
                  </a:lnTo>
                  <a:lnTo>
                    <a:pt x="257" y="324"/>
                  </a:lnTo>
                  <a:lnTo>
                    <a:pt x="297" y="288"/>
                  </a:lnTo>
                  <a:lnTo>
                    <a:pt x="275" y="238"/>
                  </a:lnTo>
                  <a:lnTo>
                    <a:pt x="185" y="212"/>
                  </a:lnTo>
                  <a:lnTo>
                    <a:pt x="271" y="216"/>
                  </a:lnTo>
                  <a:lnTo>
                    <a:pt x="325" y="266"/>
                  </a:lnTo>
                  <a:lnTo>
                    <a:pt x="325" y="338"/>
                  </a:lnTo>
                  <a:lnTo>
                    <a:pt x="289" y="378"/>
                  </a:lnTo>
                  <a:lnTo>
                    <a:pt x="238" y="428"/>
                  </a:lnTo>
                  <a:lnTo>
                    <a:pt x="248" y="378"/>
                  </a:lnTo>
                  <a:lnTo>
                    <a:pt x="181" y="355"/>
                  </a:lnTo>
                  <a:lnTo>
                    <a:pt x="139" y="343"/>
                  </a:lnTo>
                  <a:lnTo>
                    <a:pt x="144" y="311"/>
                  </a:lnTo>
                  <a:lnTo>
                    <a:pt x="95" y="288"/>
                  </a:lnTo>
                  <a:lnTo>
                    <a:pt x="40" y="252"/>
                  </a:lnTo>
                  <a:lnTo>
                    <a:pt x="19" y="189"/>
                  </a:lnTo>
                  <a:lnTo>
                    <a:pt x="0" y="127"/>
                  </a:lnTo>
                  <a:lnTo>
                    <a:pt x="14" y="68"/>
                  </a:lnTo>
                  <a:lnTo>
                    <a:pt x="68" y="0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1391800">
              <a:off x="6548760" y="3977640"/>
              <a:ext cx="12960" cy="8280"/>
            </a:xfrm>
            <a:custGeom>
              <a:avLst/>
              <a:gdLst/>
              <a:ahLst/>
              <a:rect l="l" t="t" r="r" b="b"/>
              <a:pathLst>
                <a:path w="170" h="135">
                  <a:moveTo>
                    <a:pt x="102" y="36"/>
                  </a:moveTo>
                  <a:lnTo>
                    <a:pt x="71" y="36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26" y="76"/>
                  </a:lnTo>
                  <a:lnTo>
                    <a:pt x="67" y="94"/>
                  </a:lnTo>
                  <a:lnTo>
                    <a:pt x="170" y="135"/>
                  </a:lnTo>
                  <a:lnTo>
                    <a:pt x="62" y="63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21391800">
              <a:off x="6543720" y="3972600"/>
              <a:ext cx="25200" cy="23040"/>
            </a:xfrm>
            <a:custGeom>
              <a:avLst/>
              <a:gdLst/>
              <a:ahLst/>
              <a:rect l="l" t="t" r="r" b="b"/>
              <a:pathLst>
                <a:path w="329" h="374">
                  <a:moveTo>
                    <a:pt x="85" y="33"/>
                  </a:moveTo>
                  <a:lnTo>
                    <a:pt x="35" y="91"/>
                  </a:lnTo>
                  <a:lnTo>
                    <a:pt x="26" y="163"/>
                  </a:lnTo>
                  <a:lnTo>
                    <a:pt x="76" y="212"/>
                  </a:lnTo>
                  <a:lnTo>
                    <a:pt x="121" y="266"/>
                  </a:lnTo>
                  <a:lnTo>
                    <a:pt x="211" y="329"/>
                  </a:lnTo>
                  <a:lnTo>
                    <a:pt x="274" y="334"/>
                  </a:lnTo>
                  <a:lnTo>
                    <a:pt x="283" y="294"/>
                  </a:lnTo>
                  <a:lnTo>
                    <a:pt x="266" y="244"/>
                  </a:lnTo>
                  <a:lnTo>
                    <a:pt x="229" y="212"/>
                  </a:lnTo>
                  <a:lnTo>
                    <a:pt x="297" y="240"/>
                  </a:lnTo>
                  <a:lnTo>
                    <a:pt x="329" y="298"/>
                  </a:lnTo>
                  <a:lnTo>
                    <a:pt x="320" y="352"/>
                  </a:lnTo>
                  <a:lnTo>
                    <a:pt x="274" y="374"/>
                  </a:lnTo>
                  <a:lnTo>
                    <a:pt x="211" y="374"/>
                  </a:lnTo>
                  <a:lnTo>
                    <a:pt x="165" y="374"/>
                  </a:lnTo>
                  <a:lnTo>
                    <a:pt x="162" y="334"/>
                  </a:lnTo>
                  <a:lnTo>
                    <a:pt x="144" y="311"/>
                  </a:lnTo>
                  <a:lnTo>
                    <a:pt x="54" y="249"/>
                  </a:lnTo>
                  <a:lnTo>
                    <a:pt x="17" y="207"/>
                  </a:lnTo>
                  <a:lnTo>
                    <a:pt x="0" y="145"/>
                  </a:lnTo>
                  <a:lnTo>
                    <a:pt x="12" y="77"/>
                  </a:lnTo>
                  <a:lnTo>
                    <a:pt x="85" y="0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21391800">
              <a:off x="6551280" y="3989880"/>
              <a:ext cx="22680" cy="25920"/>
            </a:xfrm>
            <a:custGeom>
              <a:avLst/>
              <a:gdLst/>
              <a:ahLst/>
              <a:rect l="l" t="t" r="r" b="b"/>
              <a:pathLst>
                <a:path w="293" h="419">
                  <a:moveTo>
                    <a:pt x="81" y="41"/>
                  </a:moveTo>
                  <a:lnTo>
                    <a:pt x="32" y="118"/>
                  </a:lnTo>
                  <a:lnTo>
                    <a:pt x="13" y="176"/>
                  </a:lnTo>
                  <a:lnTo>
                    <a:pt x="18" y="235"/>
                  </a:lnTo>
                  <a:lnTo>
                    <a:pt x="89" y="289"/>
                  </a:lnTo>
                  <a:lnTo>
                    <a:pt x="153" y="320"/>
                  </a:lnTo>
                  <a:lnTo>
                    <a:pt x="225" y="334"/>
                  </a:lnTo>
                  <a:lnTo>
                    <a:pt x="256" y="316"/>
                  </a:lnTo>
                  <a:lnTo>
                    <a:pt x="261" y="270"/>
                  </a:lnTo>
                  <a:lnTo>
                    <a:pt x="230" y="235"/>
                  </a:lnTo>
                  <a:lnTo>
                    <a:pt x="279" y="257"/>
                  </a:lnTo>
                  <a:lnTo>
                    <a:pt x="293" y="329"/>
                  </a:lnTo>
                  <a:lnTo>
                    <a:pt x="293" y="383"/>
                  </a:lnTo>
                  <a:lnTo>
                    <a:pt x="261" y="419"/>
                  </a:lnTo>
                  <a:lnTo>
                    <a:pt x="230" y="388"/>
                  </a:lnTo>
                  <a:lnTo>
                    <a:pt x="185" y="378"/>
                  </a:lnTo>
                  <a:lnTo>
                    <a:pt x="135" y="369"/>
                  </a:lnTo>
                  <a:lnTo>
                    <a:pt x="145" y="334"/>
                  </a:lnTo>
                  <a:lnTo>
                    <a:pt x="54" y="289"/>
                  </a:lnTo>
                  <a:lnTo>
                    <a:pt x="0" y="247"/>
                  </a:lnTo>
                  <a:lnTo>
                    <a:pt x="0" y="176"/>
                  </a:lnTo>
                  <a:lnTo>
                    <a:pt x="18" y="118"/>
                  </a:lnTo>
                  <a:lnTo>
                    <a:pt x="54" y="50"/>
                  </a:lnTo>
                  <a:lnTo>
                    <a:pt x="58" y="0"/>
                  </a:lnTo>
                  <a:lnTo>
                    <a:pt x="8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1391800">
              <a:off x="6554880" y="3994200"/>
              <a:ext cx="12240" cy="9360"/>
            </a:xfrm>
            <a:custGeom>
              <a:avLst/>
              <a:gdLst/>
              <a:ahLst/>
              <a:rect l="l" t="t" r="r" b="b"/>
              <a:pathLst>
                <a:path w="157" h="153">
                  <a:moveTo>
                    <a:pt x="157" y="0"/>
                  </a:moveTo>
                  <a:lnTo>
                    <a:pt x="131" y="45"/>
                  </a:lnTo>
                  <a:lnTo>
                    <a:pt x="77" y="85"/>
                  </a:lnTo>
                  <a:lnTo>
                    <a:pt x="35" y="85"/>
                  </a:lnTo>
                  <a:lnTo>
                    <a:pt x="32" y="54"/>
                  </a:lnTo>
                  <a:lnTo>
                    <a:pt x="14" y="17"/>
                  </a:lnTo>
                  <a:lnTo>
                    <a:pt x="0" y="62"/>
                  </a:lnTo>
                  <a:lnTo>
                    <a:pt x="0" y="103"/>
                  </a:lnTo>
                  <a:lnTo>
                    <a:pt x="32" y="125"/>
                  </a:lnTo>
                  <a:lnTo>
                    <a:pt x="122" y="153"/>
                  </a:lnTo>
                  <a:lnTo>
                    <a:pt x="72" y="125"/>
                  </a:lnTo>
                  <a:lnTo>
                    <a:pt x="112" y="94"/>
                  </a:lnTo>
                  <a:lnTo>
                    <a:pt x="157" y="5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1391800">
              <a:off x="6554520" y="4011840"/>
              <a:ext cx="17640" cy="21600"/>
            </a:xfrm>
            <a:custGeom>
              <a:avLst/>
              <a:gdLst/>
              <a:ahLst/>
              <a:rect l="l" t="t" r="r" b="b"/>
              <a:pathLst>
                <a:path w="229" h="348">
                  <a:moveTo>
                    <a:pt x="118" y="0"/>
                  </a:moveTo>
                  <a:lnTo>
                    <a:pt x="45" y="64"/>
                  </a:lnTo>
                  <a:lnTo>
                    <a:pt x="27" y="122"/>
                  </a:lnTo>
                  <a:lnTo>
                    <a:pt x="62" y="208"/>
                  </a:lnTo>
                  <a:lnTo>
                    <a:pt x="139" y="239"/>
                  </a:lnTo>
                  <a:lnTo>
                    <a:pt x="226" y="303"/>
                  </a:lnTo>
                  <a:lnTo>
                    <a:pt x="229" y="348"/>
                  </a:lnTo>
                  <a:lnTo>
                    <a:pt x="180" y="307"/>
                  </a:lnTo>
                  <a:lnTo>
                    <a:pt x="95" y="249"/>
                  </a:lnTo>
                  <a:lnTo>
                    <a:pt x="22" y="199"/>
                  </a:lnTo>
                  <a:lnTo>
                    <a:pt x="0" y="91"/>
                  </a:lnTo>
                  <a:lnTo>
                    <a:pt x="62" y="1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21391800">
              <a:off x="6561360" y="4009320"/>
              <a:ext cx="15840" cy="21960"/>
            </a:xfrm>
            <a:custGeom>
              <a:avLst/>
              <a:gdLst/>
              <a:ahLst/>
              <a:rect l="l" t="t" r="r" b="b"/>
              <a:pathLst>
                <a:path w="203" h="351">
                  <a:moveTo>
                    <a:pt x="143" y="80"/>
                  </a:moveTo>
                  <a:lnTo>
                    <a:pt x="76" y="122"/>
                  </a:lnTo>
                  <a:lnTo>
                    <a:pt x="44" y="154"/>
                  </a:lnTo>
                  <a:lnTo>
                    <a:pt x="4" y="108"/>
                  </a:lnTo>
                  <a:lnTo>
                    <a:pt x="0" y="162"/>
                  </a:lnTo>
                  <a:lnTo>
                    <a:pt x="85" y="185"/>
                  </a:lnTo>
                  <a:lnTo>
                    <a:pt x="157" y="207"/>
                  </a:lnTo>
                  <a:lnTo>
                    <a:pt x="176" y="265"/>
                  </a:lnTo>
                  <a:lnTo>
                    <a:pt x="157" y="307"/>
                  </a:lnTo>
                  <a:lnTo>
                    <a:pt x="81" y="316"/>
                  </a:lnTo>
                  <a:lnTo>
                    <a:pt x="122" y="351"/>
                  </a:lnTo>
                  <a:lnTo>
                    <a:pt x="189" y="324"/>
                  </a:lnTo>
                  <a:lnTo>
                    <a:pt x="203" y="274"/>
                  </a:lnTo>
                  <a:lnTo>
                    <a:pt x="203" y="220"/>
                  </a:lnTo>
                  <a:lnTo>
                    <a:pt x="176" y="180"/>
                  </a:lnTo>
                  <a:lnTo>
                    <a:pt x="131" y="180"/>
                  </a:lnTo>
                  <a:lnTo>
                    <a:pt x="68" y="162"/>
                  </a:lnTo>
                  <a:lnTo>
                    <a:pt x="134" y="126"/>
                  </a:lnTo>
                  <a:lnTo>
                    <a:pt x="171" y="77"/>
                  </a:lnTo>
                  <a:lnTo>
                    <a:pt x="148" y="0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1391800">
              <a:off x="6341400" y="3752280"/>
              <a:ext cx="154440" cy="281880"/>
            </a:xfrm>
            <a:custGeom>
              <a:avLst/>
              <a:gdLst/>
              <a:ahLst/>
              <a:rect l="l" t="t" r="r" b="b"/>
              <a:pathLst>
                <a:path w="1988" h="4518">
                  <a:moveTo>
                    <a:pt x="969" y="135"/>
                  </a:moveTo>
                  <a:lnTo>
                    <a:pt x="845" y="202"/>
                  </a:lnTo>
                  <a:lnTo>
                    <a:pt x="711" y="481"/>
                  </a:lnTo>
                  <a:lnTo>
                    <a:pt x="611" y="614"/>
                  </a:lnTo>
                  <a:lnTo>
                    <a:pt x="689" y="1174"/>
                  </a:lnTo>
                  <a:lnTo>
                    <a:pt x="767" y="1666"/>
                  </a:lnTo>
                  <a:lnTo>
                    <a:pt x="812" y="2840"/>
                  </a:lnTo>
                  <a:lnTo>
                    <a:pt x="801" y="3244"/>
                  </a:lnTo>
                  <a:lnTo>
                    <a:pt x="834" y="3322"/>
                  </a:lnTo>
                  <a:lnTo>
                    <a:pt x="1283" y="3467"/>
                  </a:lnTo>
                  <a:lnTo>
                    <a:pt x="1529" y="3523"/>
                  </a:lnTo>
                  <a:lnTo>
                    <a:pt x="1461" y="3769"/>
                  </a:lnTo>
                  <a:lnTo>
                    <a:pt x="1461" y="3915"/>
                  </a:lnTo>
                  <a:lnTo>
                    <a:pt x="1988" y="4518"/>
                  </a:lnTo>
                  <a:lnTo>
                    <a:pt x="1425" y="4485"/>
                  </a:lnTo>
                  <a:lnTo>
                    <a:pt x="1265" y="4503"/>
                  </a:lnTo>
                  <a:lnTo>
                    <a:pt x="531" y="4485"/>
                  </a:lnTo>
                  <a:lnTo>
                    <a:pt x="459" y="4027"/>
                  </a:lnTo>
                  <a:lnTo>
                    <a:pt x="858" y="3468"/>
                  </a:lnTo>
                  <a:lnTo>
                    <a:pt x="715" y="3372"/>
                  </a:lnTo>
                  <a:lnTo>
                    <a:pt x="658" y="3222"/>
                  </a:lnTo>
                  <a:lnTo>
                    <a:pt x="0" y="2763"/>
                  </a:lnTo>
                  <a:lnTo>
                    <a:pt x="18" y="1243"/>
                  </a:lnTo>
                  <a:lnTo>
                    <a:pt x="431" y="626"/>
                  </a:lnTo>
                  <a:lnTo>
                    <a:pt x="666" y="436"/>
                  </a:lnTo>
                  <a:lnTo>
                    <a:pt x="778" y="168"/>
                  </a:lnTo>
                  <a:lnTo>
                    <a:pt x="1035" y="0"/>
                  </a:lnTo>
                  <a:lnTo>
                    <a:pt x="969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1391800">
              <a:off x="6239160" y="3829320"/>
              <a:ext cx="142920" cy="212400"/>
            </a:xfrm>
            <a:custGeom>
              <a:avLst/>
              <a:gdLst/>
              <a:ahLst/>
              <a:rect l="l" t="t" r="r" b="b"/>
              <a:pathLst>
                <a:path w="1838" h="3404">
                  <a:moveTo>
                    <a:pt x="1279" y="0"/>
                  </a:moveTo>
                  <a:lnTo>
                    <a:pt x="1244" y="191"/>
                  </a:lnTo>
                  <a:lnTo>
                    <a:pt x="1233" y="827"/>
                  </a:lnTo>
                  <a:lnTo>
                    <a:pt x="1267" y="1532"/>
                  </a:lnTo>
                  <a:lnTo>
                    <a:pt x="1345" y="1746"/>
                  </a:lnTo>
                  <a:lnTo>
                    <a:pt x="1838" y="2238"/>
                  </a:lnTo>
                  <a:lnTo>
                    <a:pt x="1805" y="2439"/>
                  </a:lnTo>
                  <a:lnTo>
                    <a:pt x="1535" y="2685"/>
                  </a:lnTo>
                  <a:lnTo>
                    <a:pt x="1480" y="2942"/>
                  </a:lnTo>
                  <a:lnTo>
                    <a:pt x="1676" y="3404"/>
                  </a:lnTo>
                  <a:lnTo>
                    <a:pt x="1436" y="3404"/>
                  </a:lnTo>
                  <a:lnTo>
                    <a:pt x="1245" y="3404"/>
                  </a:lnTo>
                  <a:lnTo>
                    <a:pt x="1066" y="2786"/>
                  </a:lnTo>
                  <a:lnTo>
                    <a:pt x="954" y="2427"/>
                  </a:lnTo>
                  <a:lnTo>
                    <a:pt x="886" y="2081"/>
                  </a:lnTo>
                  <a:lnTo>
                    <a:pt x="886" y="1789"/>
                  </a:lnTo>
                  <a:lnTo>
                    <a:pt x="1021" y="1387"/>
                  </a:lnTo>
                  <a:lnTo>
                    <a:pt x="1111" y="1879"/>
                  </a:lnTo>
                  <a:lnTo>
                    <a:pt x="1154" y="2505"/>
                  </a:lnTo>
                  <a:lnTo>
                    <a:pt x="1368" y="2997"/>
                  </a:lnTo>
                  <a:lnTo>
                    <a:pt x="1370" y="2754"/>
                  </a:lnTo>
                  <a:lnTo>
                    <a:pt x="1212" y="2349"/>
                  </a:lnTo>
                  <a:lnTo>
                    <a:pt x="1284" y="1909"/>
                  </a:lnTo>
                  <a:lnTo>
                    <a:pt x="1202" y="1712"/>
                  </a:lnTo>
                  <a:lnTo>
                    <a:pt x="1135" y="1381"/>
                  </a:lnTo>
                  <a:lnTo>
                    <a:pt x="863" y="1066"/>
                  </a:lnTo>
                  <a:lnTo>
                    <a:pt x="607" y="2110"/>
                  </a:lnTo>
                  <a:lnTo>
                    <a:pt x="0" y="792"/>
                  </a:lnTo>
                  <a:lnTo>
                    <a:pt x="12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1391800">
              <a:off x="6503760" y="3885840"/>
              <a:ext cx="32400" cy="141480"/>
            </a:xfrm>
            <a:custGeom>
              <a:avLst/>
              <a:gdLst/>
              <a:ahLst/>
              <a:rect l="l" t="t" r="r" b="b"/>
              <a:pathLst>
                <a:path w="419" h="2273">
                  <a:moveTo>
                    <a:pt x="419" y="191"/>
                  </a:moveTo>
                  <a:lnTo>
                    <a:pt x="363" y="549"/>
                  </a:lnTo>
                  <a:lnTo>
                    <a:pt x="262" y="1220"/>
                  </a:lnTo>
                  <a:lnTo>
                    <a:pt x="172" y="1925"/>
                  </a:lnTo>
                  <a:lnTo>
                    <a:pt x="184" y="2273"/>
                  </a:lnTo>
                  <a:lnTo>
                    <a:pt x="0" y="1849"/>
                  </a:lnTo>
                  <a:lnTo>
                    <a:pt x="185" y="933"/>
                  </a:lnTo>
                  <a:lnTo>
                    <a:pt x="274" y="0"/>
                  </a:lnTo>
                  <a:lnTo>
                    <a:pt x="363" y="69"/>
                  </a:lnTo>
                  <a:lnTo>
                    <a:pt x="419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1391800">
              <a:off x="6573240" y="3912120"/>
              <a:ext cx="148680" cy="111960"/>
            </a:xfrm>
            <a:custGeom>
              <a:avLst/>
              <a:gdLst/>
              <a:ahLst/>
              <a:rect l="l" t="t" r="r" b="b"/>
              <a:pathLst>
                <a:path w="1915" h="1794">
                  <a:moveTo>
                    <a:pt x="0" y="1525"/>
                  </a:moveTo>
                  <a:lnTo>
                    <a:pt x="89" y="1750"/>
                  </a:lnTo>
                  <a:lnTo>
                    <a:pt x="760" y="1794"/>
                  </a:lnTo>
                  <a:lnTo>
                    <a:pt x="224" y="1715"/>
                  </a:lnTo>
                  <a:lnTo>
                    <a:pt x="458" y="1778"/>
                  </a:lnTo>
                  <a:lnTo>
                    <a:pt x="1154" y="1778"/>
                  </a:lnTo>
                  <a:lnTo>
                    <a:pt x="1521" y="1485"/>
                  </a:lnTo>
                  <a:lnTo>
                    <a:pt x="1541" y="850"/>
                  </a:lnTo>
                  <a:lnTo>
                    <a:pt x="1915" y="1112"/>
                  </a:lnTo>
                  <a:lnTo>
                    <a:pt x="1590" y="542"/>
                  </a:lnTo>
                  <a:lnTo>
                    <a:pt x="1523" y="284"/>
                  </a:lnTo>
                  <a:lnTo>
                    <a:pt x="1477" y="150"/>
                  </a:lnTo>
                  <a:lnTo>
                    <a:pt x="1392" y="0"/>
                  </a:lnTo>
                  <a:lnTo>
                    <a:pt x="1455" y="273"/>
                  </a:lnTo>
                  <a:lnTo>
                    <a:pt x="1523" y="564"/>
                  </a:lnTo>
                  <a:lnTo>
                    <a:pt x="1141" y="866"/>
                  </a:lnTo>
                  <a:lnTo>
                    <a:pt x="694" y="1246"/>
                  </a:lnTo>
                  <a:lnTo>
                    <a:pt x="291" y="1525"/>
                  </a:lnTo>
                  <a:lnTo>
                    <a:pt x="134" y="1592"/>
                  </a:lnTo>
                  <a:lnTo>
                    <a:pt x="56" y="1548"/>
                  </a:lnTo>
                  <a:lnTo>
                    <a:pt x="0" y="1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21391800">
              <a:off x="6548400" y="3949920"/>
              <a:ext cx="61920" cy="12960"/>
            </a:xfrm>
            <a:custGeom>
              <a:avLst/>
              <a:gdLst/>
              <a:ahLst/>
              <a:rect l="l" t="t" r="r" b="b"/>
              <a:pathLst>
                <a:path w="799" h="210">
                  <a:moveTo>
                    <a:pt x="412" y="0"/>
                  </a:moveTo>
                  <a:lnTo>
                    <a:pt x="161" y="136"/>
                  </a:lnTo>
                  <a:lnTo>
                    <a:pt x="0" y="210"/>
                  </a:lnTo>
                  <a:lnTo>
                    <a:pt x="227" y="182"/>
                  </a:lnTo>
                  <a:lnTo>
                    <a:pt x="552" y="114"/>
                  </a:lnTo>
                  <a:lnTo>
                    <a:pt x="799" y="25"/>
                  </a:lnTo>
                  <a:lnTo>
                    <a:pt x="306" y="126"/>
                  </a:lnTo>
                  <a:lnTo>
                    <a:pt x="320" y="92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1391800">
              <a:off x="6231240" y="3798000"/>
              <a:ext cx="146160" cy="175680"/>
            </a:xfrm>
            <a:custGeom>
              <a:avLst/>
              <a:gdLst/>
              <a:ahLst/>
              <a:rect l="l" t="t" r="r" b="b"/>
              <a:pathLst>
                <a:path w="1884" h="2819">
                  <a:moveTo>
                    <a:pt x="1502" y="386"/>
                  </a:moveTo>
                  <a:lnTo>
                    <a:pt x="1289" y="587"/>
                  </a:lnTo>
                  <a:lnTo>
                    <a:pt x="1155" y="924"/>
                  </a:lnTo>
                  <a:lnTo>
                    <a:pt x="819" y="972"/>
                  </a:lnTo>
                  <a:lnTo>
                    <a:pt x="216" y="1273"/>
                  </a:lnTo>
                  <a:lnTo>
                    <a:pt x="310" y="1388"/>
                  </a:lnTo>
                  <a:lnTo>
                    <a:pt x="471" y="1851"/>
                  </a:lnTo>
                  <a:lnTo>
                    <a:pt x="539" y="2131"/>
                  </a:lnTo>
                  <a:lnTo>
                    <a:pt x="585" y="2819"/>
                  </a:lnTo>
                  <a:lnTo>
                    <a:pt x="205" y="1663"/>
                  </a:lnTo>
                  <a:lnTo>
                    <a:pt x="0" y="1438"/>
                  </a:lnTo>
                  <a:lnTo>
                    <a:pt x="35" y="1157"/>
                  </a:lnTo>
                  <a:lnTo>
                    <a:pt x="170" y="1069"/>
                  </a:lnTo>
                  <a:lnTo>
                    <a:pt x="763" y="800"/>
                  </a:lnTo>
                  <a:lnTo>
                    <a:pt x="1040" y="660"/>
                  </a:lnTo>
                  <a:lnTo>
                    <a:pt x="1137" y="532"/>
                  </a:lnTo>
                  <a:lnTo>
                    <a:pt x="1884" y="0"/>
                  </a:lnTo>
                  <a:lnTo>
                    <a:pt x="150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1391800">
              <a:off x="6387840" y="3575880"/>
              <a:ext cx="250560" cy="114840"/>
            </a:xfrm>
            <a:custGeom>
              <a:avLst/>
              <a:gdLst/>
              <a:ahLst/>
              <a:rect l="l" t="t" r="r" b="b"/>
              <a:pathLst>
                <a:path w="3224" h="1846">
                  <a:moveTo>
                    <a:pt x="560" y="745"/>
                  </a:moveTo>
                  <a:lnTo>
                    <a:pt x="325" y="1104"/>
                  </a:lnTo>
                  <a:lnTo>
                    <a:pt x="212" y="1226"/>
                  </a:lnTo>
                  <a:lnTo>
                    <a:pt x="425" y="1124"/>
                  </a:lnTo>
                  <a:lnTo>
                    <a:pt x="583" y="1058"/>
                  </a:lnTo>
                  <a:lnTo>
                    <a:pt x="359" y="1270"/>
                  </a:lnTo>
                  <a:lnTo>
                    <a:pt x="447" y="1248"/>
                  </a:lnTo>
                  <a:lnTo>
                    <a:pt x="369" y="1382"/>
                  </a:lnTo>
                  <a:lnTo>
                    <a:pt x="447" y="1382"/>
                  </a:lnTo>
                  <a:lnTo>
                    <a:pt x="359" y="1517"/>
                  </a:lnTo>
                  <a:lnTo>
                    <a:pt x="470" y="1506"/>
                  </a:lnTo>
                  <a:lnTo>
                    <a:pt x="474" y="1846"/>
                  </a:lnTo>
                  <a:lnTo>
                    <a:pt x="583" y="1506"/>
                  </a:lnTo>
                  <a:lnTo>
                    <a:pt x="537" y="1450"/>
                  </a:lnTo>
                  <a:lnTo>
                    <a:pt x="672" y="1248"/>
                  </a:lnTo>
                  <a:lnTo>
                    <a:pt x="616" y="1248"/>
                  </a:lnTo>
                  <a:lnTo>
                    <a:pt x="695" y="1124"/>
                  </a:lnTo>
                  <a:lnTo>
                    <a:pt x="716" y="991"/>
                  </a:lnTo>
                  <a:lnTo>
                    <a:pt x="616" y="1003"/>
                  </a:lnTo>
                  <a:lnTo>
                    <a:pt x="780" y="889"/>
                  </a:lnTo>
                  <a:lnTo>
                    <a:pt x="1004" y="675"/>
                  </a:lnTo>
                  <a:lnTo>
                    <a:pt x="951" y="803"/>
                  </a:lnTo>
                  <a:lnTo>
                    <a:pt x="1123" y="707"/>
                  </a:lnTo>
                  <a:lnTo>
                    <a:pt x="1486" y="536"/>
                  </a:lnTo>
                  <a:lnTo>
                    <a:pt x="1859" y="521"/>
                  </a:lnTo>
                  <a:lnTo>
                    <a:pt x="1590" y="566"/>
                  </a:lnTo>
                  <a:lnTo>
                    <a:pt x="1746" y="566"/>
                  </a:lnTo>
                  <a:lnTo>
                    <a:pt x="1882" y="566"/>
                  </a:lnTo>
                  <a:lnTo>
                    <a:pt x="1982" y="521"/>
                  </a:lnTo>
                  <a:lnTo>
                    <a:pt x="2173" y="420"/>
                  </a:lnTo>
                  <a:lnTo>
                    <a:pt x="2105" y="521"/>
                  </a:lnTo>
                  <a:lnTo>
                    <a:pt x="1982" y="599"/>
                  </a:lnTo>
                  <a:lnTo>
                    <a:pt x="1814" y="689"/>
                  </a:lnTo>
                  <a:lnTo>
                    <a:pt x="1658" y="734"/>
                  </a:lnTo>
                  <a:lnTo>
                    <a:pt x="1781" y="734"/>
                  </a:lnTo>
                  <a:lnTo>
                    <a:pt x="1994" y="655"/>
                  </a:lnTo>
                  <a:lnTo>
                    <a:pt x="2218" y="544"/>
                  </a:lnTo>
                  <a:lnTo>
                    <a:pt x="2105" y="667"/>
                  </a:lnTo>
                  <a:lnTo>
                    <a:pt x="1926" y="768"/>
                  </a:lnTo>
                  <a:lnTo>
                    <a:pt x="2049" y="734"/>
                  </a:lnTo>
                  <a:lnTo>
                    <a:pt x="2184" y="655"/>
                  </a:lnTo>
                  <a:lnTo>
                    <a:pt x="2340" y="622"/>
                  </a:lnTo>
                  <a:lnTo>
                    <a:pt x="2207" y="755"/>
                  </a:lnTo>
                  <a:lnTo>
                    <a:pt x="2049" y="880"/>
                  </a:lnTo>
                  <a:lnTo>
                    <a:pt x="1937" y="924"/>
                  </a:lnTo>
                  <a:lnTo>
                    <a:pt x="2062" y="924"/>
                  </a:lnTo>
                  <a:lnTo>
                    <a:pt x="2218" y="835"/>
                  </a:lnTo>
                  <a:lnTo>
                    <a:pt x="2330" y="745"/>
                  </a:lnTo>
                  <a:lnTo>
                    <a:pt x="2408" y="722"/>
                  </a:lnTo>
                  <a:lnTo>
                    <a:pt x="2588" y="768"/>
                  </a:lnTo>
                  <a:lnTo>
                    <a:pt x="2375" y="812"/>
                  </a:lnTo>
                  <a:lnTo>
                    <a:pt x="2486" y="835"/>
                  </a:lnTo>
                  <a:lnTo>
                    <a:pt x="2621" y="835"/>
                  </a:lnTo>
                  <a:lnTo>
                    <a:pt x="2767" y="835"/>
                  </a:lnTo>
                  <a:lnTo>
                    <a:pt x="2509" y="901"/>
                  </a:lnTo>
                  <a:lnTo>
                    <a:pt x="2340" y="901"/>
                  </a:lnTo>
                  <a:lnTo>
                    <a:pt x="2464" y="946"/>
                  </a:lnTo>
                  <a:lnTo>
                    <a:pt x="2609" y="946"/>
                  </a:lnTo>
                  <a:lnTo>
                    <a:pt x="2833" y="901"/>
                  </a:lnTo>
                  <a:lnTo>
                    <a:pt x="3012" y="801"/>
                  </a:lnTo>
                  <a:lnTo>
                    <a:pt x="3214" y="689"/>
                  </a:lnTo>
                  <a:lnTo>
                    <a:pt x="3224" y="605"/>
                  </a:lnTo>
                  <a:lnTo>
                    <a:pt x="3224" y="569"/>
                  </a:lnTo>
                  <a:lnTo>
                    <a:pt x="3224" y="554"/>
                  </a:lnTo>
                  <a:lnTo>
                    <a:pt x="3169" y="476"/>
                  </a:lnTo>
                  <a:lnTo>
                    <a:pt x="2852" y="144"/>
                  </a:lnTo>
                  <a:lnTo>
                    <a:pt x="2932" y="426"/>
                  </a:lnTo>
                  <a:lnTo>
                    <a:pt x="2624" y="3"/>
                  </a:lnTo>
                  <a:lnTo>
                    <a:pt x="2817" y="452"/>
                  </a:lnTo>
                  <a:lnTo>
                    <a:pt x="2386" y="73"/>
                  </a:lnTo>
                  <a:lnTo>
                    <a:pt x="2554" y="253"/>
                  </a:lnTo>
                  <a:lnTo>
                    <a:pt x="2285" y="141"/>
                  </a:lnTo>
                  <a:lnTo>
                    <a:pt x="1478" y="29"/>
                  </a:lnTo>
                  <a:lnTo>
                    <a:pt x="1223" y="0"/>
                  </a:lnTo>
                  <a:lnTo>
                    <a:pt x="921" y="51"/>
                  </a:lnTo>
                  <a:lnTo>
                    <a:pt x="1582" y="151"/>
                  </a:lnTo>
                  <a:lnTo>
                    <a:pt x="1087" y="129"/>
                  </a:lnTo>
                  <a:lnTo>
                    <a:pt x="963" y="219"/>
                  </a:lnTo>
                  <a:lnTo>
                    <a:pt x="761" y="275"/>
                  </a:lnTo>
                  <a:lnTo>
                    <a:pt x="929" y="308"/>
                  </a:lnTo>
                  <a:lnTo>
                    <a:pt x="695" y="353"/>
                  </a:lnTo>
                  <a:lnTo>
                    <a:pt x="593" y="264"/>
                  </a:lnTo>
                  <a:lnTo>
                    <a:pt x="280" y="353"/>
                  </a:lnTo>
                  <a:lnTo>
                    <a:pt x="0" y="589"/>
                  </a:lnTo>
                  <a:lnTo>
                    <a:pt x="583" y="433"/>
                  </a:lnTo>
                  <a:lnTo>
                    <a:pt x="247" y="689"/>
                  </a:lnTo>
                  <a:lnTo>
                    <a:pt x="593" y="599"/>
                  </a:lnTo>
                  <a:lnTo>
                    <a:pt x="369" y="755"/>
                  </a:lnTo>
                  <a:lnTo>
                    <a:pt x="560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21391800">
              <a:off x="6336720" y="3506040"/>
              <a:ext cx="240120" cy="198000"/>
            </a:xfrm>
            <a:custGeom>
              <a:avLst/>
              <a:gdLst/>
              <a:ahLst/>
              <a:rect l="l" t="t" r="r" b="b"/>
              <a:pathLst>
                <a:path w="3091" h="3178">
                  <a:moveTo>
                    <a:pt x="582" y="1120"/>
                  </a:moveTo>
                  <a:lnTo>
                    <a:pt x="369" y="1613"/>
                  </a:lnTo>
                  <a:lnTo>
                    <a:pt x="100" y="2104"/>
                  </a:lnTo>
                  <a:lnTo>
                    <a:pt x="257" y="2060"/>
                  </a:lnTo>
                  <a:lnTo>
                    <a:pt x="89" y="2372"/>
                  </a:lnTo>
                  <a:lnTo>
                    <a:pt x="0" y="2697"/>
                  </a:lnTo>
                  <a:lnTo>
                    <a:pt x="201" y="3178"/>
                  </a:lnTo>
                  <a:lnTo>
                    <a:pt x="178" y="2831"/>
                  </a:lnTo>
                  <a:lnTo>
                    <a:pt x="257" y="2965"/>
                  </a:lnTo>
                  <a:lnTo>
                    <a:pt x="313" y="2574"/>
                  </a:lnTo>
                  <a:lnTo>
                    <a:pt x="380" y="2920"/>
                  </a:lnTo>
                  <a:lnTo>
                    <a:pt x="425" y="2350"/>
                  </a:lnTo>
                  <a:lnTo>
                    <a:pt x="346" y="2226"/>
                  </a:lnTo>
                  <a:lnTo>
                    <a:pt x="190" y="2462"/>
                  </a:lnTo>
                  <a:lnTo>
                    <a:pt x="391" y="2015"/>
                  </a:lnTo>
                  <a:lnTo>
                    <a:pt x="638" y="1724"/>
                  </a:lnTo>
                  <a:lnTo>
                    <a:pt x="436" y="1857"/>
                  </a:lnTo>
                  <a:lnTo>
                    <a:pt x="638" y="1600"/>
                  </a:lnTo>
                  <a:lnTo>
                    <a:pt x="784" y="1321"/>
                  </a:lnTo>
                  <a:lnTo>
                    <a:pt x="649" y="1444"/>
                  </a:lnTo>
                  <a:lnTo>
                    <a:pt x="817" y="1131"/>
                  </a:lnTo>
                  <a:lnTo>
                    <a:pt x="694" y="1153"/>
                  </a:lnTo>
                  <a:lnTo>
                    <a:pt x="784" y="974"/>
                  </a:lnTo>
                  <a:lnTo>
                    <a:pt x="1354" y="482"/>
                  </a:lnTo>
                  <a:lnTo>
                    <a:pt x="2139" y="124"/>
                  </a:lnTo>
                  <a:lnTo>
                    <a:pt x="2811" y="45"/>
                  </a:lnTo>
                  <a:lnTo>
                    <a:pt x="3091" y="136"/>
                  </a:lnTo>
                  <a:lnTo>
                    <a:pt x="2866" y="0"/>
                  </a:lnTo>
                  <a:lnTo>
                    <a:pt x="2642" y="0"/>
                  </a:lnTo>
                  <a:lnTo>
                    <a:pt x="2026" y="113"/>
                  </a:lnTo>
                  <a:lnTo>
                    <a:pt x="1299" y="415"/>
                  </a:lnTo>
                  <a:lnTo>
                    <a:pt x="974" y="739"/>
                  </a:lnTo>
                  <a:lnTo>
                    <a:pt x="582" y="1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1391800">
              <a:off x="6491520" y="3498120"/>
              <a:ext cx="182160" cy="115200"/>
            </a:xfrm>
            <a:custGeom>
              <a:avLst/>
              <a:gdLst/>
              <a:ahLst/>
              <a:rect l="l" t="t" r="r" b="b"/>
              <a:pathLst>
                <a:path w="2351" h="1852">
                  <a:moveTo>
                    <a:pt x="1143" y="169"/>
                  </a:moveTo>
                  <a:lnTo>
                    <a:pt x="1433" y="415"/>
                  </a:lnTo>
                  <a:lnTo>
                    <a:pt x="1411" y="515"/>
                  </a:lnTo>
                  <a:lnTo>
                    <a:pt x="1098" y="515"/>
                  </a:lnTo>
                  <a:lnTo>
                    <a:pt x="561" y="505"/>
                  </a:lnTo>
                  <a:lnTo>
                    <a:pt x="847" y="587"/>
                  </a:lnTo>
                  <a:lnTo>
                    <a:pt x="1159" y="621"/>
                  </a:lnTo>
                  <a:lnTo>
                    <a:pt x="1356" y="616"/>
                  </a:lnTo>
                  <a:lnTo>
                    <a:pt x="1490" y="739"/>
                  </a:lnTo>
                  <a:lnTo>
                    <a:pt x="1126" y="654"/>
                  </a:lnTo>
                  <a:lnTo>
                    <a:pt x="694" y="671"/>
                  </a:lnTo>
                  <a:lnTo>
                    <a:pt x="1286" y="856"/>
                  </a:lnTo>
                  <a:lnTo>
                    <a:pt x="771" y="747"/>
                  </a:lnTo>
                  <a:lnTo>
                    <a:pt x="213" y="762"/>
                  </a:lnTo>
                  <a:lnTo>
                    <a:pt x="0" y="817"/>
                  </a:lnTo>
                  <a:lnTo>
                    <a:pt x="478" y="822"/>
                  </a:lnTo>
                  <a:lnTo>
                    <a:pt x="849" y="849"/>
                  </a:lnTo>
                  <a:lnTo>
                    <a:pt x="1227" y="980"/>
                  </a:lnTo>
                  <a:lnTo>
                    <a:pt x="1509" y="1107"/>
                  </a:lnTo>
                  <a:lnTo>
                    <a:pt x="1745" y="1267"/>
                  </a:lnTo>
                  <a:lnTo>
                    <a:pt x="1959" y="1395"/>
                  </a:lnTo>
                  <a:lnTo>
                    <a:pt x="2005" y="1522"/>
                  </a:lnTo>
                  <a:lnTo>
                    <a:pt x="1747" y="1467"/>
                  </a:lnTo>
                  <a:lnTo>
                    <a:pt x="2081" y="1852"/>
                  </a:lnTo>
                  <a:lnTo>
                    <a:pt x="2117" y="1656"/>
                  </a:lnTo>
                  <a:lnTo>
                    <a:pt x="2240" y="1646"/>
                  </a:lnTo>
                  <a:lnTo>
                    <a:pt x="2351" y="1623"/>
                  </a:lnTo>
                  <a:lnTo>
                    <a:pt x="2263" y="1377"/>
                  </a:lnTo>
                  <a:lnTo>
                    <a:pt x="2038" y="1242"/>
                  </a:lnTo>
                  <a:lnTo>
                    <a:pt x="1736" y="840"/>
                  </a:lnTo>
                  <a:lnTo>
                    <a:pt x="1591" y="706"/>
                  </a:lnTo>
                  <a:lnTo>
                    <a:pt x="1747" y="694"/>
                  </a:lnTo>
                  <a:lnTo>
                    <a:pt x="2098" y="988"/>
                  </a:lnTo>
                  <a:lnTo>
                    <a:pt x="1769" y="583"/>
                  </a:lnTo>
                  <a:lnTo>
                    <a:pt x="1601" y="538"/>
                  </a:lnTo>
                  <a:lnTo>
                    <a:pt x="1466" y="302"/>
                  </a:lnTo>
                  <a:lnTo>
                    <a:pt x="1065" y="58"/>
                  </a:lnTo>
                  <a:lnTo>
                    <a:pt x="840" y="0"/>
                  </a:lnTo>
                  <a:lnTo>
                    <a:pt x="114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1391800">
              <a:off x="6617520" y="3587760"/>
              <a:ext cx="91440" cy="88560"/>
            </a:xfrm>
            <a:custGeom>
              <a:avLst/>
              <a:gdLst/>
              <a:ahLst/>
              <a:rect l="l" t="t" r="r" b="b"/>
              <a:pathLst>
                <a:path w="1181" h="1421">
                  <a:moveTo>
                    <a:pt x="341" y="190"/>
                  </a:moveTo>
                  <a:lnTo>
                    <a:pt x="0" y="408"/>
                  </a:lnTo>
                  <a:lnTo>
                    <a:pt x="394" y="302"/>
                  </a:lnTo>
                  <a:lnTo>
                    <a:pt x="452" y="424"/>
                  </a:lnTo>
                  <a:lnTo>
                    <a:pt x="464" y="705"/>
                  </a:lnTo>
                  <a:lnTo>
                    <a:pt x="431" y="939"/>
                  </a:lnTo>
                  <a:lnTo>
                    <a:pt x="374" y="1152"/>
                  </a:lnTo>
                  <a:lnTo>
                    <a:pt x="329" y="1409"/>
                  </a:lnTo>
                  <a:lnTo>
                    <a:pt x="442" y="1421"/>
                  </a:lnTo>
                  <a:lnTo>
                    <a:pt x="531" y="1308"/>
                  </a:lnTo>
                  <a:lnTo>
                    <a:pt x="520" y="1421"/>
                  </a:lnTo>
                  <a:lnTo>
                    <a:pt x="576" y="1353"/>
                  </a:lnTo>
                  <a:lnTo>
                    <a:pt x="620" y="1230"/>
                  </a:lnTo>
                  <a:lnTo>
                    <a:pt x="665" y="1320"/>
                  </a:lnTo>
                  <a:lnTo>
                    <a:pt x="755" y="1074"/>
                  </a:lnTo>
                  <a:lnTo>
                    <a:pt x="833" y="996"/>
                  </a:lnTo>
                  <a:lnTo>
                    <a:pt x="823" y="1119"/>
                  </a:lnTo>
                  <a:lnTo>
                    <a:pt x="979" y="996"/>
                  </a:lnTo>
                  <a:lnTo>
                    <a:pt x="1080" y="851"/>
                  </a:lnTo>
                  <a:lnTo>
                    <a:pt x="1035" y="1017"/>
                  </a:lnTo>
                  <a:lnTo>
                    <a:pt x="1114" y="939"/>
                  </a:lnTo>
                  <a:lnTo>
                    <a:pt x="1181" y="760"/>
                  </a:lnTo>
                  <a:lnTo>
                    <a:pt x="1124" y="504"/>
                  </a:lnTo>
                  <a:lnTo>
                    <a:pt x="1035" y="280"/>
                  </a:lnTo>
                  <a:lnTo>
                    <a:pt x="956" y="167"/>
                  </a:lnTo>
                  <a:lnTo>
                    <a:pt x="655" y="0"/>
                  </a:lnTo>
                  <a:lnTo>
                    <a:pt x="890" y="223"/>
                  </a:lnTo>
                  <a:lnTo>
                    <a:pt x="1035" y="437"/>
                  </a:lnTo>
                  <a:lnTo>
                    <a:pt x="1013" y="672"/>
                  </a:lnTo>
                  <a:lnTo>
                    <a:pt x="923" y="414"/>
                  </a:lnTo>
                  <a:lnTo>
                    <a:pt x="767" y="246"/>
                  </a:lnTo>
                  <a:lnTo>
                    <a:pt x="452" y="79"/>
                  </a:lnTo>
                  <a:lnTo>
                    <a:pt x="531" y="313"/>
                  </a:lnTo>
                  <a:lnTo>
                    <a:pt x="665" y="424"/>
                  </a:lnTo>
                  <a:lnTo>
                    <a:pt x="700" y="559"/>
                  </a:lnTo>
                  <a:lnTo>
                    <a:pt x="923" y="715"/>
                  </a:lnTo>
                  <a:lnTo>
                    <a:pt x="733" y="693"/>
                  </a:lnTo>
                  <a:lnTo>
                    <a:pt x="565" y="515"/>
                  </a:lnTo>
                  <a:lnTo>
                    <a:pt x="745" y="828"/>
                  </a:lnTo>
                  <a:lnTo>
                    <a:pt x="665" y="984"/>
                  </a:lnTo>
                  <a:lnTo>
                    <a:pt x="531" y="783"/>
                  </a:lnTo>
                  <a:lnTo>
                    <a:pt x="531" y="549"/>
                  </a:lnTo>
                  <a:lnTo>
                    <a:pt x="513" y="269"/>
                  </a:lnTo>
                  <a:lnTo>
                    <a:pt x="341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21391800">
              <a:off x="6624000" y="3532320"/>
              <a:ext cx="69480" cy="75960"/>
            </a:xfrm>
            <a:custGeom>
              <a:avLst/>
              <a:gdLst/>
              <a:ahLst/>
              <a:rect l="l" t="t" r="r" b="b"/>
              <a:pathLst>
                <a:path w="896" h="1222">
                  <a:moveTo>
                    <a:pt x="225" y="363"/>
                  </a:moveTo>
                  <a:lnTo>
                    <a:pt x="407" y="609"/>
                  </a:lnTo>
                  <a:lnTo>
                    <a:pt x="579" y="684"/>
                  </a:lnTo>
                  <a:lnTo>
                    <a:pt x="739" y="1009"/>
                  </a:lnTo>
                  <a:lnTo>
                    <a:pt x="896" y="1222"/>
                  </a:lnTo>
                  <a:lnTo>
                    <a:pt x="784" y="875"/>
                  </a:lnTo>
                  <a:lnTo>
                    <a:pt x="705" y="639"/>
                  </a:lnTo>
                  <a:lnTo>
                    <a:pt x="582" y="428"/>
                  </a:lnTo>
                  <a:lnTo>
                    <a:pt x="414" y="338"/>
                  </a:lnTo>
                  <a:lnTo>
                    <a:pt x="97" y="0"/>
                  </a:lnTo>
                  <a:lnTo>
                    <a:pt x="0" y="43"/>
                  </a:lnTo>
                  <a:lnTo>
                    <a:pt x="225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21391800">
              <a:off x="6431040" y="3529800"/>
              <a:ext cx="124200" cy="42480"/>
            </a:xfrm>
            <a:custGeom>
              <a:avLst/>
              <a:gdLst/>
              <a:ahLst/>
              <a:rect l="l" t="t" r="r" b="b"/>
              <a:pathLst>
                <a:path w="1602" h="681">
                  <a:moveTo>
                    <a:pt x="784" y="224"/>
                  </a:moveTo>
                  <a:lnTo>
                    <a:pt x="481" y="335"/>
                  </a:lnTo>
                  <a:lnTo>
                    <a:pt x="202" y="536"/>
                  </a:lnTo>
                  <a:lnTo>
                    <a:pt x="0" y="681"/>
                  </a:lnTo>
                  <a:lnTo>
                    <a:pt x="190" y="468"/>
                  </a:lnTo>
                  <a:lnTo>
                    <a:pt x="459" y="257"/>
                  </a:lnTo>
                  <a:lnTo>
                    <a:pt x="751" y="133"/>
                  </a:lnTo>
                  <a:lnTo>
                    <a:pt x="852" y="55"/>
                  </a:lnTo>
                  <a:lnTo>
                    <a:pt x="1423" y="0"/>
                  </a:lnTo>
                  <a:lnTo>
                    <a:pt x="1602" y="33"/>
                  </a:lnTo>
                  <a:lnTo>
                    <a:pt x="1030" y="111"/>
                  </a:lnTo>
                  <a:lnTo>
                    <a:pt x="1165" y="166"/>
                  </a:lnTo>
                  <a:lnTo>
                    <a:pt x="1401" y="178"/>
                  </a:lnTo>
                  <a:lnTo>
                    <a:pt x="1042" y="257"/>
                  </a:lnTo>
                  <a:lnTo>
                    <a:pt x="1042" y="178"/>
                  </a:lnTo>
                  <a:lnTo>
                    <a:pt x="784" y="224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21391800">
              <a:off x="6427800" y="3510360"/>
              <a:ext cx="156600" cy="40320"/>
            </a:xfrm>
            <a:custGeom>
              <a:avLst/>
              <a:gdLst/>
              <a:ahLst/>
              <a:rect l="l" t="t" r="r" b="b"/>
              <a:pathLst>
                <a:path w="2016" h="648">
                  <a:moveTo>
                    <a:pt x="1569" y="178"/>
                  </a:moveTo>
                  <a:lnTo>
                    <a:pt x="840" y="246"/>
                  </a:lnTo>
                  <a:lnTo>
                    <a:pt x="1031" y="157"/>
                  </a:lnTo>
                  <a:lnTo>
                    <a:pt x="717" y="246"/>
                  </a:lnTo>
                  <a:lnTo>
                    <a:pt x="326" y="492"/>
                  </a:lnTo>
                  <a:lnTo>
                    <a:pt x="0" y="648"/>
                  </a:lnTo>
                  <a:lnTo>
                    <a:pt x="281" y="414"/>
                  </a:lnTo>
                  <a:lnTo>
                    <a:pt x="504" y="269"/>
                  </a:lnTo>
                  <a:lnTo>
                    <a:pt x="695" y="168"/>
                  </a:lnTo>
                  <a:lnTo>
                    <a:pt x="1232" y="78"/>
                  </a:lnTo>
                  <a:lnTo>
                    <a:pt x="1479" y="0"/>
                  </a:lnTo>
                  <a:lnTo>
                    <a:pt x="2016" y="178"/>
                  </a:lnTo>
                  <a:lnTo>
                    <a:pt x="1479" y="90"/>
                  </a:lnTo>
                  <a:lnTo>
                    <a:pt x="1232" y="157"/>
                  </a:lnTo>
                  <a:lnTo>
                    <a:pt x="1569" y="178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1391800">
              <a:off x="6606360" y="3728160"/>
              <a:ext cx="42480" cy="78840"/>
            </a:xfrm>
            <a:custGeom>
              <a:avLst/>
              <a:gdLst/>
              <a:ahLst/>
              <a:rect l="l" t="t" r="r" b="b"/>
              <a:pathLst>
                <a:path w="551" h="1267">
                  <a:moveTo>
                    <a:pt x="187" y="366"/>
                  </a:moveTo>
                  <a:lnTo>
                    <a:pt x="151" y="413"/>
                  </a:lnTo>
                  <a:lnTo>
                    <a:pt x="205" y="490"/>
                  </a:lnTo>
                  <a:lnTo>
                    <a:pt x="282" y="517"/>
                  </a:lnTo>
                  <a:lnTo>
                    <a:pt x="253" y="605"/>
                  </a:lnTo>
                  <a:lnTo>
                    <a:pt x="181" y="798"/>
                  </a:lnTo>
                  <a:lnTo>
                    <a:pt x="0" y="1267"/>
                  </a:lnTo>
                  <a:lnTo>
                    <a:pt x="56" y="1203"/>
                  </a:lnTo>
                  <a:lnTo>
                    <a:pt x="136" y="1026"/>
                  </a:lnTo>
                  <a:lnTo>
                    <a:pt x="196" y="889"/>
                  </a:lnTo>
                  <a:lnTo>
                    <a:pt x="295" y="749"/>
                  </a:lnTo>
                  <a:lnTo>
                    <a:pt x="482" y="505"/>
                  </a:lnTo>
                  <a:lnTo>
                    <a:pt x="542" y="376"/>
                  </a:lnTo>
                  <a:lnTo>
                    <a:pt x="551" y="238"/>
                  </a:lnTo>
                  <a:lnTo>
                    <a:pt x="502" y="148"/>
                  </a:lnTo>
                  <a:lnTo>
                    <a:pt x="413" y="120"/>
                  </a:lnTo>
                  <a:lnTo>
                    <a:pt x="344" y="79"/>
                  </a:lnTo>
                  <a:lnTo>
                    <a:pt x="344" y="0"/>
                  </a:lnTo>
                  <a:lnTo>
                    <a:pt x="215" y="268"/>
                  </a:lnTo>
                  <a:lnTo>
                    <a:pt x="187" y="3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391800">
              <a:off x="6639120" y="3705480"/>
              <a:ext cx="20520" cy="85320"/>
            </a:xfrm>
            <a:custGeom>
              <a:avLst/>
              <a:gdLst/>
              <a:ahLst/>
              <a:rect l="l" t="t" r="r" b="b"/>
              <a:pathLst>
                <a:path w="267" h="1371">
                  <a:moveTo>
                    <a:pt x="0" y="108"/>
                  </a:moveTo>
                  <a:lnTo>
                    <a:pt x="60" y="237"/>
                  </a:lnTo>
                  <a:lnTo>
                    <a:pt x="217" y="504"/>
                  </a:lnTo>
                  <a:lnTo>
                    <a:pt x="198" y="701"/>
                  </a:lnTo>
                  <a:lnTo>
                    <a:pt x="99" y="1066"/>
                  </a:lnTo>
                  <a:lnTo>
                    <a:pt x="20" y="1371"/>
                  </a:lnTo>
                  <a:lnTo>
                    <a:pt x="69" y="1362"/>
                  </a:lnTo>
                  <a:lnTo>
                    <a:pt x="148" y="986"/>
                  </a:lnTo>
                  <a:lnTo>
                    <a:pt x="267" y="543"/>
                  </a:lnTo>
                  <a:lnTo>
                    <a:pt x="228" y="385"/>
                  </a:lnTo>
                  <a:lnTo>
                    <a:pt x="79" y="18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1391800">
              <a:off x="6650280" y="3681360"/>
              <a:ext cx="19440" cy="109080"/>
            </a:xfrm>
            <a:custGeom>
              <a:avLst/>
              <a:gdLst/>
              <a:ahLst/>
              <a:rect l="l" t="t" r="r" b="b"/>
              <a:pathLst>
                <a:path w="252" h="1752">
                  <a:moveTo>
                    <a:pt x="0" y="69"/>
                  </a:moveTo>
                  <a:lnTo>
                    <a:pt x="69" y="159"/>
                  </a:lnTo>
                  <a:lnTo>
                    <a:pt x="156" y="337"/>
                  </a:lnTo>
                  <a:lnTo>
                    <a:pt x="208" y="637"/>
                  </a:lnTo>
                  <a:lnTo>
                    <a:pt x="208" y="936"/>
                  </a:lnTo>
                  <a:lnTo>
                    <a:pt x="174" y="1013"/>
                  </a:lnTo>
                  <a:lnTo>
                    <a:pt x="174" y="1212"/>
                  </a:lnTo>
                  <a:lnTo>
                    <a:pt x="156" y="1408"/>
                  </a:lnTo>
                  <a:lnTo>
                    <a:pt x="112" y="1607"/>
                  </a:lnTo>
                  <a:lnTo>
                    <a:pt x="63" y="1723"/>
                  </a:lnTo>
                  <a:lnTo>
                    <a:pt x="116" y="1752"/>
                  </a:lnTo>
                  <a:lnTo>
                    <a:pt x="189" y="1337"/>
                  </a:lnTo>
                  <a:lnTo>
                    <a:pt x="217" y="1077"/>
                  </a:lnTo>
                  <a:lnTo>
                    <a:pt x="252" y="1012"/>
                  </a:lnTo>
                  <a:lnTo>
                    <a:pt x="242" y="598"/>
                  </a:lnTo>
                  <a:lnTo>
                    <a:pt x="193" y="352"/>
                  </a:lnTo>
                  <a:lnTo>
                    <a:pt x="160" y="256"/>
                  </a:lnTo>
                  <a:lnTo>
                    <a:pt x="99" y="139"/>
                  </a:lnTo>
                  <a:lnTo>
                    <a:pt x="2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391800">
              <a:off x="6578640" y="3815280"/>
              <a:ext cx="20880" cy="4680"/>
            </a:xfrm>
            <a:custGeom>
              <a:avLst/>
              <a:gdLst/>
              <a:ahLst/>
              <a:rect l="l" t="t" r="r" b="b"/>
              <a:pathLst>
                <a:path w="271" h="82">
                  <a:moveTo>
                    <a:pt x="0" y="16"/>
                  </a:moveTo>
                  <a:lnTo>
                    <a:pt x="54" y="47"/>
                  </a:lnTo>
                  <a:lnTo>
                    <a:pt x="164" y="57"/>
                  </a:lnTo>
                  <a:lnTo>
                    <a:pt x="87" y="0"/>
                  </a:lnTo>
                  <a:lnTo>
                    <a:pt x="184" y="0"/>
                  </a:lnTo>
                  <a:lnTo>
                    <a:pt x="267" y="18"/>
                  </a:lnTo>
                  <a:lnTo>
                    <a:pt x="271" y="47"/>
                  </a:lnTo>
                  <a:lnTo>
                    <a:pt x="146" y="82"/>
                  </a:lnTo>
                  <a:lnTo>
                    <a:pt x="73" y="77"/>
                  </a:lnTo>
                  <a:lnTo>
                    <a:pt x="21" y="6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21391800">
              <a:off x="6599880" y="3785760"/>
              <a:ext cx="18720" cy="27360"/>
            </a:xfrm>
            <a:custGeom>
              <a:avLst/>
              <a:gdLst/>
              <a:ahLst/>
              <a:rect l="l" t="t" r="r" b="b"/>
              <a:pathLst>
                <a:path w="245" h="439">
                  <a:moveTo>
                    <a:pt x="0" y="439"/>
                  </a:moveTo>
                  <a:lnTo>
                    <a:pt x="34" y="283"/>
                  </a:lnTo>
                  <a:lnTo>
                    <a:pt x="68" y="158"/>
                  </a:lnTo>
                  <a:lnTo>
                    <a:pt x="111" y="72"/>
                  </a:lnTo>
                  <a:lnTo>
                    <a:pt x="150" y="13"/>
                  </a:lnTo>
                  <a:lnTo>
                    <a:pt x="245" y="0"/>
                  </a:lnTo>
                  <a:lnTo>
                    <a:pt x="226" y="90"/>
                  </a:lnTo>
                  <a:lnTo>
                    <a:pt x="178" y="212"/>
                  </a:lnTo>
                  <a:lnTo>
                    <a:pt x="82" y="246"/>
                  </a:lnTo>
                  <a:lnTo>
                    <a:pt x="34" y="366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1391800">
              <a:off x="6594120" y="3806640"/>
              <a:ext cx="97200" cy="31320"/>
            </a:xfrm>
            <a:custGeom>
              <a:avLst/>
              <a:gdLst/>
              <a:ahLst/>
              <a:rect l="l" t="t" r="r" b="b"/>
              <a:pathLst>
                <a:path w="1253" h="506">
                  <a:moveTo>
                    <a:pt x="0" y="48"/>
                  </a:moveTo>
                  <a:lnTo>
                    <a:pt x="204" y="51"/>
                  </a:lnTo>
                  <a:lnTo>
                    <a:pt x="422" y="48"/>
                  </a:lnTo>
                  <a:lnTo>
                    <a:pt x="594" y="69"/>
                  </a:lnTo>
                  <a:lnTo>
                    <a:pt x="640" y="76"/>
                  </a:lnTo>
                  <a:lnTo>
                    <a:pt x="616" y="21"/>
                  </a:lnTo>
                  <a:lnTo>
                    <a:pt x="732" y="92"/>
                  </a:lnTo>
                  <a:lnTo>
                    <a:pt x="749" y="0"/>
                  </a:lnTo>
                  <a:lnTo>
                    <a:pt x="808" y="48"/>
                  </a:lnTo>
                  <a:lnTo>
                    <a:pt x="761" y="108"/>
                  </a:lnTo>
                  <a:lnTo>
                    <a:pt x="840" y="171"/>
                  </a:lnTo>
                  <a:lnTo>
                    <a:pt x="998" y="260"/>
                  </a:lnTo>
                  <a:lnTo>
                    <a:pt x="1113" y="374"/>
                  </a:lnTo>
                  <a:lnTo>
                    <a:pt x="1172" y="421"/>
                  </a:lnTo>
                  <a:lnTo>
                    <a:pt x="1253" y="506"/>
                  </a:lnTo>
                  <a:lnTo>
                    <a:pt x="1140" y="463"/>
                  </a:lnTo>
                  <a:lnTo>
                    <a:pt x="990" y="339"/>
                  </a:lnTo>
                  <a:lnTo>
                    <a:pt x="824" y="237"/>
                  </a:lnTo>
                  <a:lnTo>
                    <a:pt x="768" y="168"/>
                  </a:lnTo>
                  <a:lnTo>
                    <a:pt x="731" y="132"/>
                  </a:lnTo>
                  <a:lnTo>
                    <a:pt x="672" y="120"/>
                  </a:lnTo>
                  <a:lnTo>
                    <a:pt x="633" y="120"/>
                  </a:lnTo>
                  <a:lnTo>
                    <a:pt x="468" y="93"/>
                  </a:lnTo>
                  <a:lnTo>
                    <a:pt x="308" y="100"/>
                  </a:lnTo>
                  <a:lnTo>
                    <a:pt x="233" y="123"/>
                  </a:lnTo>
                  <a:lnTo>
                    <a:pt x="191" y="97"/>
                  </a:lnTo>
                  <a:lnTo>
                    <a:pt x="142" y="7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1391800">
              <a:off x="6601320" y="3788280"/>
              <a:ext cx="61560" cy="23760"/>
            </a:xfrm>
            <a:custGeom>
              <a:avLst/>
              <a:gdLst/>
              <a:ahLst/>
              <a:rect l="l" t="t" r="r" b="b"/>
              <a:pathLst>
                <a:path w="791" h="386">
                  <a:moveTo>
                    <a:pt x="729" y="50"/>
                  </a:moveTo>
                  <a:lnTo>
                    <a:pt x="620" y="73"/>
                  </a:lnTo>
                  <a:lnTo>
                    <a:pt x="479" y="128"/>
                  </a:lnTo>
                  <a:lnTo>
                    <a:pt x="342" y="182"/>
                  </a:lnTo>
                  <a:lnTo>
                    <a:pt x="276" y="219"/>
                  </a:lnTo>
                  <a:lnTo>
                    <a:pt x="240" y="292"/>
                  </a:lnTo>
                  <a:lnTo>
                    <a:pt x="215" y="249"/>
                  </a:lnTo>
                  <a:lnTo>
                    <a:pt x="188" y="264"/>
                  </a:lnTo>
                  <a:lnTo>
                    <a:pt x="140" y="327"/>
                  </a:lnTo>
                  <a:lnTo>
                    <a:pt x="97" y="386"/>
                  </a:lnTo>
                  <a:lnTo>
                    <a:pt x="0" y="362"/>
                  </a:lnTo>
                  <a:lnTo>
                    <a:pt x="113" y="264"/>
                  </a:lnTo>
                  <a:lnTo>
                    <a:pt x="276" y="162"/>
                  </a:lnTo>
                  <a:lnTo>
                    <a:pt x="405" y="112"/>
                  </a:lnTo>
                  <a:lnTo>
                    <a:pt x="538" y="50"/>
                  </a:lnTo>
                  <a:lnTo>
                    <a:pt x="636" y="7"/>
                  </a:lnTo>
                  <a:lnTo>
                    <a:pt x="791" y="0"/>
                  </a:lnTo>
                  <a:lnTo>
                    <a:pt x="788" y="42"/>
                  </a:lnTo>
                  <a:lnTo>
                    <a:pt x="72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21391800">
              <a:off x="6656760" y="3741120"/>
              <a:ext cx="34560" cy="95400"/>
            </a:xfrm>
            <a:custGeom>
              <a:avLst/>
              <a:gdLst/>
              <a:ahLst/>
              <a:rect l="l" t="t" r="r" b="b"/>
              <a:pathLst>
                <a:path w="449" h="1534">
                  <a:moveTo>
                    <a:pt x="394" y="1511"/>
                  </a:moveTo>
                  <a:lnTo>
                    <a:pt x="261" y="1277"/>
                  </a:lnTo>
                  <a:lnTo>
                    <a:pt x="186" y="1065"/>
                  </a:lnTo>
                  <a:lnTo>
                    <a:pt x="137" y="1013"/>
                  </a:lnTo>
                  <a:lnTo>
                    <a:pt x="117" y="923"/>
                  </a:lnTo>
                  <a:lnTo>
                    <a:pt x="70" y="799"/>
                  </a:lnTo>
                  <a:lnTo>
                    <a:pt x="0" y="755"/>
                  </a:lnTo>
                  <a:lnTo>
                    <a:pt x="93" y="615"/>
                  </a:lnTo>
                  <a:lnTo>
                    <a:pt x="140" y="253"/>
                  </a:lnTo>
                  <a:lnTo>
                    <a:pt x="150" y="100"/>
                  </a:lnTo>
                  <a:lnTo>
                    <a:pt x="178" y="31"/>
                  </a:lnTo>
                  <a:lnTo>
                    <a:pt x="223" y="10"/>
                  </a:lnTo>
                  <a:lnTo>
                    <a:pt x="273" y="6"/>
                  </a:lnTo>
                  <a:lnTo>
                    <a:pt x="331" y="0"/>
                  </a:lnTo>
                  <a:lnTo>
                    <a:pt x="319" y="35"/>
                  </a:lnTo>
                  <a:lnTo>
                    <a:pt x="219" y="59"/>
                  </a:lnTo>
                  <a:lnTo>
                    <a:pt x="180" y="156"/>
                  </a:lnTo>
                  <a:lnTo>
                    <a:pt x="168" y="284"/>
                  </a:lnTo>
                  <a:lnTo>
                    <a:pt x="195" y="395"/>
                  </a:lnTo>
                  <a:lnTo>
                    <a:pt x="244" y="432"/>
                  </a:lnTo>
                  <a:lnTo>
                    <a:pt x="266" y="486"/>
                  </a:lnTo>
                  <a:lnTo>
                    <a:pt x="178" y="494"/>
                  </a:lnTo>
                  <a:lnTo>
                    <a:pt x="142" y="589"/>
                  </a:lnTo>
                  <a:lnTo>
                    <a:pt x="142" y="761"/>
                  </a:lnTo>
                  <a:lnTo>
                    <a:pt x="112" y="791"/>
                  </a:lnTo>
                  <a:lnTo>
                    <a:pt x="160" y="895"/>
                  </a:lnTo>
                  <a:lnTo>
                    <a:pt x="199" y="943"/>
                  </a:lnTo>
                  <a:lnTo>
                    <a:pt x="231" y="905"/>
                  </a:lnTo>
                  <a:lnTo>
                    <a:pt x="330" y="490"/>
                  </a:lnTo>
                  <a:lnTo>
                    <a:pt x="379" y="444"/>
                  </a:lnTo>
                  <a:lnTo>
                    <a:pt x="382" y="354"/>
                  </a:lnTo>
                  <a:lnTo>
                    <a:pt x="354" y="539"/>
                  </a:lnTo>
                  <a:lnTo>
                    <a:pt x="336" y="755"/>
                  </a:lnTo>
                  <a:lnTo>
                    <a:pt x="239" y="1065"/>
                  </a:lnTo>
                  <a:lnTo>
                    <a:pt x="300" y="1262"/>
                  </a:lnTo>
                  <a:lnTo>
                    <a:pt x="418" y="1461"/>
                  </a:lnTo>
                  <a:lnTo>
                    <a:pt x="449" y="1534"/>
                  </a:lnTo>
                  <a:lnTo>
                    <a:pt x="394" y="1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1391800">
              <a:off x="6573960" y="3812040"/>
              <a:ext cx="39960" cy="19440"/>
            </a:xfrm>
            <a:custGeom>
              <a:avLst/>
              <a:gdLst/>
              <a:ahLst/>
              <a:rect l="l" t="t" r="r" b="b"/>
              <a:pathLst>
                <a:path w="514" h="310">
                  <a:moveTo>
                    <a:pt x="0" y="123"/>
                  </a:moveTo>
                  <a:lnTo>
                    <a:pt x="22" y="195"/>
                  </a:lnTo>
                  <a:lnTo>
                    <a:pt x="80" y="232"/>
                  </a:lnTo>
                  <a:lnTo>
                    <a:pt x="171" y="255"/>
                  </a:lnTo>
                  <a:lnTo>
                    <a:pt x="262" y="268"/>
                  </a:lnTo>
                  <a:lnTo>
                    <a:pt x="285" y="219"/>
                  </a:lnTo>
                  <a:lnTo>
                    <a:pt x="350" y="228"/>
                  </a:lnTo>
                  <a:lnTo>
                    <a:pt x="445" y="292"/>
                  </a:lnTo>
                  <a:lnTo>
                    <a:pt x="417" y="298"/>
                  </a:lnTo>
                  <a:lnTo>
                    <a:pt x="277" y="242"/>
                  </a:lnTo>
                  <a:lnTo>
                    <a:pt x="287" y="262"/>
                  </a:lnTo>
                  <a:lnTo>
                    <a:pt x="397" y="308"/>
                  </a:lnTo>
                  <a:lnTo>
                    <a:pt x="471" y="310"/>
                  </a:lnTo>
                  <a:lnTo>
                    <a:pt x="514" y="291"/>
                  </a:lnTo>
                  <a:lnTo>
                    <a:pt x="386" y="177"/>
                  </a:lnTo>
                  <a:lnTo>
                    <a:pt x="278" y="141"/>
                  </a:lnTo>
                  <a:lnTo>
                    <a:pt x="278" y="199"/>
                  </a:lnTo>
                  <a:lnTo>
                    <a:pt x="198" y="213"/>
                  </a:lnTo>
                  <a:lnTo>
                    <a:pt x="133" y="177"/>
                  </a:lnTo>
                  <a:lnTo>
                    <a:pt x="86" y="134"/>
                  </a:lnTo>
                  <a:lnTo>
                    <a:pt x="82" y="76"/>
                  </a:lnTo>
                  <a:lnTo>
                    <a:pt x="23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1391800">
              <a:off x="6600240" y="3818520"/>
              <a:ext cx="98280" cy="43920"/>
            </a:xfrm>
            <a:custGeom>
              <a:avLst/>
              <a:gdLst/>
              <a:ahLst/>
              <a:rect l="l" t="t" r="r" b="b"/>
              <a:pathLst>
                <a:path w="1260" h="710">
                  <a:moveTo>
                    <a:pt x="98" y="67"/>
                  </a:moveTo>
                  <a:lnTo>
                    <a:pt x="156" y="69"/>
                  </a:lnTo>
                  <a:lnTo>
                    <a:pt x="243" y="84"/>
                  </a:lnTo>
                  <a:lnTo>
                    <a:pt x="307" y="115"/>
                  </a:lnTo>
                  <a:lnTo>
                    <a:pt x="369" y="156"/>
                  </a:lnTo>
                  <a:lnTo>
                    <a:pt x="492" y="174"/>
                  </a:lnTo>
                  <a:lnTo>
                    <a:pt x="579" y="205"/>
                  </a:lnTo>
                  <a:lnTo>
                    <a:pt x="644" y="256"/>
                  </a:lnTo>
                  <a:lnTo>
                    <a:pt x="785" y="337"/>
                  </a:lnTo>
                  <a:lnTo>
                    <a:pt x="875" y="400"/>
                  </a:lnTo>
                  <a:lnTo>
                    <a:pt x="930" y="476"/>
                  </a:lnTo>
                  <a:lnTo>
                    <a:pt x="999" y="524"/>
                  </a:lnTo>
                  <a:lnTo>
                    <a:pt x="1054" y="587"/>
                  </a:lnTo>
                  <a:lnTo>
                    <a:pt x="1118" y="576"/>
                  </a:lnTo>
                  <a:lnTo>
                    <a:pt x="1099" y="531"/>
                  </a:lnTo>
                  <a:lnTo>
                    <a:pt x="1122" y="511"/>
                  </a:lnTo>
                  <a:lnTo>
                    <a:pt x="1181" y="552"/>
                  </a:lnTo>
                  <a:lnTo>
                    <a:pt x="1192" y="627"/>
                  </a:lnTo>
                  <a:lnTo>
                    <a:pt x="1184" y="710"/>
                  </a:lnTo>
                  <a:lnTo>
                    <a:pt x="1232" y="658"/>
                  </a:lnTo>
                  <a:lnTo>
                    <a:pt x="1260" y="576"/>
                  </a:lnTo>
                  <a:lnTo>
                    <a:pt x="1198" y="507"/>
                  </a:lnTo>
                  <a:lnTo>
                    <a:pt x="1127" y="467"/>
                  </a:lnTo>
                  <a:lnTo>
                    <a:pt x="1028" y="446"/>
                  </a:lnTo>
                  <a:lnTo>
                    <a:pt x="926" y="383"/>
                  </a:lnTo>
                  <a:lnTo>
                    <a:pt x="843" y="318"/>
                  </a:lnTo>
                  <a:lnTo>
                    <a:pt x="725" y="254"/>
                  </a:lnTo>
                  <a:lnTo>
                    <a:pt x="664" y="210"/>
                  </a:lnTo>
                  <a:lnTo>
                    <a:pt x="610" y="129"/>
                  </a:lnTo>
                  <a:lnTo>
                    <a:pt x="503" y="126"/>
                  </a:lnTo>
                  <a:lnTo>
                    <a:pt x="392" y="91"/>
                  </a:lnTo>
                  <a:lnTo>
                    <a:pt x="330" y="69"/>
                  </a:lnTo>
                  <a:lnTo>
                    <a:pt x="239" y="61"/>
                  </a:lnTo>
                  <a:lnTo>
                    <a:pt x="167" y="42"/>
                  </a:lnTo>
                  <a:lnTo>
                    <a:pt x="115" y="36"/>
                  </a:lnTo>
                  <a:lnTo>
                    <a:pt x="0" y="0"/>
                  </a:lnTo>
                  <a:lnTo>
                    <a:pt x="112" y="112"/>
                  </a:lnTo>
                  <a:lnTo>
                    <a:pt x="163" y="139"/>
                  </a:lnTo>
                  <a:lnTo>
                    <a:pt x="194" y="129"/>
                  </a:lnTo>
                  <a:lnTo>
                    <a:pt x="184" y="108"/>
                  </a:lnTo>
                  <a:lnTo>
                    <a:pt x="9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1391800">
              <a:off x="6689880" y="3829320"/>
              <a:ext cx="11160" cy="25920"/>
            </a:xfrm>
            <a:custGeom>
              <a:avLst/>
              <a:gdLst/>
              <a:ahLst/>
              <a:rect l="l" t="t" r="r" b="b"/>
              <a:pathLst>
                <a:path w="149" h="422">
                  <a:moveTo>
                    <a:pt x="24" y="79"/>
                  </a:moveTo>
                  <a:lnTo>
                    <a:pt x="65" y="102"/>
                  </a:lnTo>
                  <a:lnTo>
                    <a:pt x="111" y="148"/>
                  </a:lnTo>
                  <a:lnTo>
                    <a:pt x="114" y="189"/>
                  </a:lnTo>
                  <a:lnTo>
                    <a:pt x="114" y="262"/>
                  </a:lnTo>
                  <a:lnTo>
                    <a:pt x="90" y="357"/>
                  </a:lnTo>
                  <a:lnTo>
                    <a:pt x="73" y="422"/>
                  </a:lnTo>
                  <a:lnTo>
                    <a:pt x="124" y="381"/>
                  </a:lnTo>
                  <a:lnTo>
                    <a:pt x="149" y="282"/>
                  </a:lnTo>
                  <a:lnTo>
                    <a:pt x="149" y="189"/>
                  </a:lnTo>
                  <a:lnTo>
                    <a:pt x="138" y="141"/>
                  </a:lnTo>
                  <a:lnTo>
                    <a:pt x="100" y="103"/>
                  </a:lnTo>
                  <a:lnTo>
                    <a:pt x="0" y="0"/>
                  </a:lnTo>
                  <a:lnTo>
                    <a:pt x="24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1391800">
              <a:off x="6594480" y="3824280"/>
              <a:ext cx="14040" cy="14400"/>
            </a:xfrm>
            <a:custGeom>
              <a:avLst/>
              <a:gdLst/>
              <a:ahLst/>
              <a:rect l="l" t="t" r="r" b="b"/>
              <a:pathLst>
                <a:path w="185" h="233">
                  <a:moveTo>
                    <a:pt x="33" y="24"/>
                  </a:moveTo>
                  <a:lnTo>
                    <a:pt x="33" y="72"/>
                  </a:lnTo>
                  <a:lnTo>
                    <a:pt x="64" y="145"/>
                  </a:lnTo>
                  <a:lnTo>
                    <a:pt x="185" y="231"/>
                  </a:lnTo>
                  <a:lnTo>
                    <a:pt x="123" y="233"/>
                  </a:lnTo>
                  <a:lnTo>
                    <a:pt x="38" y="162"/>
                  </a:lnTo>
                  <a:lnTo>
                    <a:pt x="2" y="96"/>
                  </a:lnTo>
                  <a:lnTo>
                    <a:pt x="0" y="24"/>
                  </a:lnTo>
                  <a:lnTo>
                    <a:pt x="26" y="0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1391800">
              <a:off x="6612840" y="3850560"/>
              <a:ext cx="86760" cy="87840"/>
            </a:xfrm>
            <a:custGeom>
              <a:avLst/>
              <a:gdLst/>
              <a:ahLst/>
              <a:rect l="l" t="t" r="r" b="b"/>
              <a:pathLst>
                <a:path w="1121" h="1406">
                  <a:moveTo>
                    <a:pt x="1121" y="108"/>
                  </a:moveTo>
                  <a:lnTo>
                    <a:pt x="1096" y="149"/>
                  </a:lnTo>
                  <a:lnTo>
                    <a:pt x="1080" y="295"/>
                  </a:lnTo>
                  <a:lnTo>
                    <a:pt x="989" y="597"/>
                  </a:lnTo>
                  <a:lnTo>
                    <a:pt x="901" y="842"/>
                  </a:lnTo>
                  <a:lnTo>
                    <a:pt x="838" y="975"/>
                  </a:lnTo>
                  <a:lnTo>
                    <a:pt x="836" y="1009"/>
                  </a:lnTo>
                  <a:lnTo>
                    <a:pt x="831" y="1055"/>
                  </a:lnTo>
                  <a:lnTo>
                    <a:pt x="822" y="1191"/>
                  </a:lnTo>
                  <a:lnTo>
                    <a:pt x="781" y="1253"/>
                  </a:lnTo>
                  <a:lnTo>
                    <a:pt x="636" y="1332"/>
                  </a:lnTo>
                  <a:lnTo>
                    <a:pt x="481" y="1406"/>
                  </a:lnTo>
                  <a:lnTo>
                    <a:pt x="382" y="1361"/>
                  </a:lnTo>
                  <a:lnTo>
                    <a:pt x="233" y="1328"/>
                  </a:lnTo>
                  <a:lnTo>
                    <a:pt x="149" y="1257"/>
                  </a:lnTo>
                  <a:lnTo>
                    <a:pt x="103" y="1207"/>
                  </a:lnTo>
                  <a:lnTo>
                    <a:pt x="103" y="1155"/>
                  </a:lnTo>
                  <a:lnTo>
                    <a:pt x="69" y="1087"/>
                  </a:lnTo>
                  <a:lnTo>
                    <a:pt x="0" y="1052"/>
                  </a:lnTo>
                  <a:lnTo>
                    <a:pt x="103" y="1042"/>
                  </a:lnTo>
                  <a:lnTo>
                    <a:pt x="157" y="1228"/>
                  </a:lnTo>
                  <a:lnTo>
                    <a:pt x="303" y="1295"/>
                  </a:lnTo>
                  <a:lnTo>
                    <a:pt x="497" y="1315"/>
                  </a:lnTo>
                  <a:lnTo>
                    <a:pt x="606" y="1244"/>
                  </a:lnTo>
                  <a:lnTo>
                    <a:pt x="706" y="1037"/>
                  </a:lnTo>
                  <a:lnTo>
                    <a:pt x="772" y="913"/>
                  </a:lnTo>
                  <a:lnTo>
                    <a:pt x="897" y="710"/>
                  </a:lnTo>
                  <a:lnTo>
                    <a:pt x="919" y="577"/>
                  </a:lnTo>
                  <a:lnTo>
                    <a:pt x="897" y="481"/>
                  </a:lnTo>
                  <a:lnTo>
                    <a:pt x="838" y="398"/>
                  </a:lnTo>
                  <a:lnTo>
                    <a:pt x="838" y="332"/>
                  </a:lnTo>
                  <a:lnTo>
                    <a:pt x="922" y="316"/>
                  </a:lnTo>
                  <a:lnTo>
                    <a:pt x="981" y="236"/>
                  </a:lnTo>
                  <a:lnTo>
                    <a:pt x="972" y="149"/>
                  </a:lnTo>
                  <a:lnTo>
                    <a:pt x="897" y="0"/>
                  </a:lnTo>
                  <a:lnTo>
                    <a:pt x="992" y="74"/>
                  </a:lnTo>
                  <a:lnTo>
                    <a:pt x="1010" y="228"/>
                  </a:lnTo>
                  <a:lnTo>
                    <a:pt x="1026" y="319"/>
                  </a:lnTo>
                  <a:lnTo>
                    <a:pt x="1059" y="174"/>
                  </a:lnTo>
                  <a:lnTo>
                    <a:pt x="1118" y="74"/>
                  </a:lnTo>
                  <a:lnTo>
                    <a:pt x="1121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1391800">
              <a:off x="6624000" y="3857760"/>
              <a:ext cx="30960" cy="37440"/>
            </a:xfrm>
            <a:custGeom>
              <a:avLst/>
              <a:gdLst/>
              <a:ahLst/>
              <a:rect l="l" t="t" r="r" b="b"/>
              <a:pathLst>
                <a:path w="399" h="607">
                  <a:moveTo>
                    <a:pt x="337" y="13"/>
                  </a:moveTo>
                  <a:lnTo>
                    <a:pt x="304" y="154"/>
                  </a:lnTo>
                  <a:lnTo>
                    <a:pt x="133" y="424"/>
                  </a:lnTo>
                  <a:lnTo>
                    <a:pt x="0" y="577"/>
                  </a:lnTo>
                  <a:lnTo>
                    <a:pt x="146" y="511"/>
                  </a:lnTo>
                  <a:lnTo>
                    <a:pt x="151" y="607"/>
                  </a:lnTo>
                  <a:lnTo>
                    <a:pt x="278" y="375"/>
                  </a:lnTo>
                  <a:lnTo>
                    <a:pt x="321" y="270"/>
                  </a:lnTo>
                  <a:lnTo>
                    <a:pt x="350" y="340"/>
                  </a:lnTo>
                  <a:lnTo>
                    <a:pt x="399" y="283"/>
                  </a:lnTo>
                  <a:lnTo>
                    <a:pt x="386" y="179"/>
                  </a:lnTo>
                  <a:lnTo>
                    <a:pt x="358" y="95"/>
                  </a:lnTo>
                  <a:lnTo>
                    <a:pt x="358" y="0"/>
                  </a:lnTo>
                  <a:lnTo>
                    <a:pt x="3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1391800">
              <a:off x="6679080" y="3739320"/>
              <a:ext cx="5760" cy="44280"/>
            </a:xfrm>
            <a:custGeom>
              <a:avLst/>
              <a:gdLst/>
              <a:ahLst/>
              <a:rect l="l" t="t" r="r" b="b"/>
              <a:pathLst>
                <a:path w="76" h="712">
                  <a:moveTo>
                    <a:pt x="6" y="82"/>
                  </a:moveTo>
                  <a:lnTo>
                    <a:pt x="18" y="184"/>
                  </a:lnTo>
                  <a:lnTo>
                    <a:pt x="43" y="289"/>
                  </a:lnTo>
                  <a:lnTo>
                    <a:pt x="0" y="712"/>
                  </a:lnTo>
                  <a:lnTo>
                    <a:pt x="73" y="474"/>
                  </a:lnTo>
                  <a:lnTo>
                    <a:pt x="76" y="343"/>
                  </a:lnTo>
                  <a:lnTo>
                    <a:pt x="72" y="258"/>
                  </a:lnTo>
                  <a:lnTo>
                    <a:pt x="38" y="164"/>
                  </a:lnTo>
                  <a:lnTo>
                    <a:pt x="27" y="0"/>
                  </a:lnTo>
                  <a:lnTo>
                    <a:pt x="6" y="24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1391800">
              <a:off x="6537960" y="3829680"/>
              <a:ext cx="60840" cy="65880"/>
            </a:xfrm>
            <a:custGeom>
              <a:avLst/>
              <a:gdLst/>
              <a:ahLst/>
              <a:rect l="l" t="t" r="r" b="b"/>
              <a:pathLst>
                <a:path w="787" h="1054">
                  <a:moveTo>
                    <a:pt x="787" y="74"/>
                  </a:moveTo>
                  <a:lnTo>
                    <a:pt x="703" y="74"/>
                  </a:lnTo>
                  <a:lnTo>
                    <a:pt x="669" y="133"/>
                  </a:lnTo>
                  <a:lnTo>
                    <a:pt x="577" y="393"/>
                  </a:lnTo>
                  <a:lnTo>
                    <a:pt x="460" y="669"/>
                  </a:lnTo>
                  <a:lnTo>
                    <a:pt x="317" y="902"/>
                  </a:lnTo>
                  <a:lnTo>
                    <a:pt x="254" y="990"/>
                  </a:lnTo>
                  <a:lnTo>
                    <a:pt x="167" y="1054"/>
                  </a:lnTo>
                  <a:lnTo>
                    <a:pt x="0" y="1054"/>
                  </a:lnTo>
                  <a:lnTo>
                    <a:pt x="217" y="962"/>
                  </a:lnTo>
                  <a:lnTo>
                    <a:pt x="376" y="743"/>
                  </a:lnTo>
                  <a:lnTo>
                    <a:pt x="511" y="475"/>
                  </a:lnTo>
                  <a:lnTo>
                    <a:pt x="619" y="167"/>
                  </a:lnTo>
                  <a:lnTo>
                    <a:pt x="669" y="41"/>
                  </a:lnTo>
                  <a:lnTo>
                    <a:pt x="769" y="0"/>
                  </a:lnTo>
                  <a:lnTo>
                    <a:pt x="78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1391800">
              <a:off x="6536160" y="3990240"/>
              <a:ext cx="23760" cy="36360"/>
            </a:xfrm>
            <a:custGeom>
              <a:avLst/>
              <a:gdLst/>
              <a:ahLst/>
              <a:rect l="l" t="t" r="r" b="b"/>
              <a:pathLst>
                <a:path w="308" h="587">
                  <a:moveTo>
                    <a:pt x="0" y="580"/>
                  </a:moveTo>
                  <a:lnTo>
                    <a:pt x="83" y="382"/>
                  </a:lnTo>
                  <a:lnTo>
                    <a:pt x="182" y="146"/>
                  </a:lnTo>
                  <a:lnTo>
                    <a:pt x="241" y="0"/>
                  </a:lnTo>
                  <a:lnTo>
                    <a:pt x="269" y="27"/>
                  </a:lnTo>
                  <a:lnTo>
                    <a:pt x="213" y="146"/>
                  </a:lnTo>
                  <a:lnTo>
                    <a:pt x="206" y="197"/>
                  </a:lnTo>
                  <a:lnTo>
                    <a:pt x="209" y="245"/>
                  </a:lnTo>
                  <a:lnTo>
                    <a:pt x="308" y="347"/>
                  </a:lnTo>
                  <a:lnTo>
                    <a:pt x="234" y="446"/>
                  </a:lnTo>
                  <a:lnTo>
                    <a:pt x="261" y="587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1391800">
              <a:off x="6684480" y="3827160"/>
              <a:ext cx="109440" cy="192240"/>
            </a:xfrm>
            <a:custGeom>
              <a:avLst/>
              <a:gdLst/>
              <a:ahLst/>
              <a:rect l="l" t="t" r="r" b="b"/>
              <a:pathLst>
                <a:path w="1414" h="3085">
                  <a:moveTo>
                    <a:pt x="130" y="0"/>
                  </a:moveTo>
                  <a:lnTo>
                    <a:pt x="425" y="102"/>
                  </a:lnTo>
                  <a:lnTo>
                    <a:pt x="755" y="226"/>
                  </a:lnTo>
                  <a:lnTo>
                    <a:pt x="834" y="443"/>
                  </a:lnTo>
                  <a:lnTo>
                    <a:pt x="1127" y="788"/>
                  </a:lnTo>
                  <a:lnTo>
                    <a:pt x="1189" y="1273"/>
                  </a:lnTo>
                  <a:lnTo>
                    <a:pt x="1149" y="1924"/>
                  </a:lnTo>
                  <a:lnTo>
                    <a:pt x="1353" y="2494"/>
                  </a:lnTo>
                  <a:lnTo>
                    <a:pt x="1414" y="3085"/>
                  </a:lnTo>
                  <a:lnTo>
                    <a:pt x="1100" y="3080"/>
                  </a:lnTo>
                  <a:lnTo>
                    <a:pt x="755" y="2567"/>
                  </a:lnTo>
                  <a:lnTo>
                    <a:pt x="561" y="2426"/>
                  </a:lnTo>
                  <a:lnTo>
                    <a:pt x="176" y="1789"/>
                  </a:lnTo>
                  <a:lnTo>
                    <a:pt x="0" y="1352"/>
                  </a:lnTo>
                  <a:lnTo>
                    <a:pt x="191" y="819"/>
                  </a:lnTo>
                  <a:lnTo>
                    <a:pt x="250" y="454"/>
                  </a:lnTo>
                  <a:lnTo>
                    <a:pt x="349" y="306"/>
                  </a:lnTo>
                  <a:lnTo>
                    <a:pt x="311" y="136"/>
                  </a:lnTo>
                  <a:lnTo>
                    <a:pt x="187" y="91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1391800">
              <a:off x="6737760" y="3840120"/>
              <a:ext cx="30600" cy="61560"/>
            </a:xfrm>
            <a:custGeom>
              <a:avLst/>
              <a:gdLst/>
              <a:ahLst/>
              <a:rect l="l" t="t" r="r" b="b"/>
              <a:pathLst>
                <a:path w="397" h="988">
                  <a:moveTo>
                    <a:pt x="44" y="91"/>
                  </a:moveTo>
                  <a:lnTo>
                    <a:pt x="0" y="0"/>
                  </a:lnTo>
                  <a:lnTo>
                    <a:pt x="204" y="81"/>
                  </a:lnTo>
                  <a:lnTo>
                    <a:pt x="397" y="568"/>
                  </a:lnTo>
                  <a:lnTo>
                    <a:pt x="329" y="988"/>
                  </a:lnTo>
                  <a:lnTo>
                    <a:pt x="295" y="534"/>
                  </a:lnTo>
                  <a:lnTo>
                    <a:pt x="133" y="405"/>
                  </a:lnTo>
                  <a:lnTo>
                    <a:pt x="4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21391800">
              <a:off x="6697080" y="3961080"/>
              <a:ext cx="56880" cy="56880"/>
            </a:xfrm>
            <a:custGeom>
              <a:avLst/>
              <a:gdLst/>
              <a:ahLst/>
              <a:rect l="l" t="t" r="r" b="b"/>
              <a:pathLst>
                <a:path w="739" h="918">
                  <a:moveTo>
                    <a:pt x="0" y="34"/>
                  </a:moveTo>
                  <a:lnTo>
                    <a:pt x="80" y="261"/>
                  </a:lnTo>
                  <a:lnTo>
                    <a:pt x="261" y="601"/>
                  </a:lnTo>
                  <a:lnTo>
                    <a:pt x="432" y="749"/>
                  </a:lnTo>
                  <a:lnTo>
                    <a:pt x="511" y="908"/>
                  </a:lnTo>
                  <a:lnTo>
                    <a:pt x="739" y="918"/>
                  </a:lnTo>
                  <a:lnTo>
                    <a:pt x="579" y="533"/>
                  </a:lnTo>
                  <a:lnTo>
                    <a:pt x="397" y="330"/>
                  </a:lnTo>
                  <a:lnTo>
                    <a:pt x="125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21391800">
              <a:off x="6176160" y="3870720"/>
              <a:ext cx="70920" cy="180000"/>
            </a:xfrm>
            <a:custGeom>
              <a:avLst/>
              <a:gdLst/>
              <a:ahLst/>
              <a:rect l="l" t="t" r="r" b="b"/>
              <a:pathLst>
                <a:path w="911" h="2890">
                  <a:moveTo>
                    <a:pt x="911" y="0"/>
                  </a:moveTo>
                  <a:lnTo>
                    <a:pt x="860" y="332"/>
                  </a:lnTo>
                  <a:lnTo>
                    <a:pt x="492" y="967"/>
                  </a:lnTo>
                  <a:lnTo>
                    <a:pt x="484" y="1272"/>
                  </a:lnTo>
                  <a:lnTo>
                    <a:pt x="776" y="1937"/>
                  </a:lnTo>
                  <a:lnTo>
                    <a:pt x="459" y="1736"/>
                  </a:lnTo>
                  <a:lnTo>
                    <a:pt x="425" y="2070"/>
                  </a:lnTo>
                  <a:lnTo>
                    <a:pt x="621" y="2837"/>
                  </a:lnTo>
                  <a:lnTo>
                    <a:pt x="33" y="2890"/>
                  </a:lnTo>
                  <a:lnTo>
                    <a:pt x="0" y="1452"/>
                  </a:lnTo>
                  <a:lnTo>
                    <a:pt x="166" y="683"/>
                  </a:lnTo>
                  <a:lnTo>
                    <a:pt x="501" y="214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1391800">
              <a:off x="6246360" y="3909240"/>
              <a:ext cx="70560" cy="133560"/>
            </a:xfrm>
            <a:custGeom>
              <a:avLst/>
              <a:gdLst/>
              <a:ahLst/>
              <a:rect l="l" t="t" r="r" b="b"/>
              <a:pathLst>
                <a:path w="911" h="2145">
                  <a:moveTo>
                    <a:pt x="677" y="2108"/>
                  </a:moveTo>
                  <a:lnTo>
                    <a:pt x="491" y="2134"/>
                  </a:lnTo>
                  <a:lnTo>
                    <a:pt x="158" y="1707"/>
                  </a:lnTo>
                  <a:lnTo>
                    <a:pt x="158" y="1488"/>
                  </a:lnTo>
                  <a:lnTo>
                    <a:pt x="493" y="1539"/>
                  </a:lnTo>
                  <a:lnTo>
                    <a:pt x="0" y="770"/>
                  </a:lnTo>
                  <a:lnTo>
                    <a:pt x="409" y="1155"/>
                  </a:lnTo>
                  <a:lnTo>
                    <a:pt x="409" y="686"/>
                  </a:lnTo>
                  <a:lnTo>
                    <a:pt x="209" y="0"/>
                  </a:lnTo>
                  <a:lnTo>
                    <a:pt x="309" y="101"/>
                  </a:lnTo>
                  <a:lnTo>
                    <a:pt x="493" y="485"/>
                  </a:lnTo>
                  <a:lnTo>
                    <a:pt x="728" y="1105"/>
                  </a:lnTo>
                  <a:lnTo>
                    <a:pt x="761" y="1640"/>
                  </a:lnTo>
                  <a:lnTo>
                    <a:pt x="911" y="2145"/>
                  </a:lnTo>
                  <a:lnTo>
                    <a:pt x="677" y="2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319800" y="5401440"/>
            <a:ext cx="393840" cy="285120"/>
            <a:chOff x="6319800" y="5401440"/>
            <a:chExt cx="393840" cy="285120"/>
          </a:xfrm>
        </p:grpSpPr>
        <p:grpSp>
          <p:nvGrpSpPr>
            <p:cNvPr id="286" name=""/>
            <p:cNvGrpSpPr/>
            <p:nvPr/>
          </p:nvGrpSpPr>
          <p:grpSpPr>
            <a:xfrm>
              <a:off x="6371640" y="5509800"/>
              <a:ext cx="46080" cy="47880"/>
              <a:chOff x="6371640" y="5509800"/>
              <a:chExt cx="46080" cy="478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6371640" y="5509800"/>
                <a:ext cx="46080" cy="47880"/>
                <a:chOff x="6371640" y="5509800"/>
                <a:chExt cx="46080" cy="47880"/>
              </a:xfrm>
            </p:grpSpPr>
            <p:sp>
              <p:nvSpPr>
                <p:cNvPr id="288" name=""/>
                <p:cNvSpPr/>
                <p:nvPr/>
              </p:nvSpPr>
              <p:spPr>
                <a:xfrm rot="17773200">
                  <a:off x="6375960" y="5517000"/>
                  <a:ext cx="36720" cy="32760"/>
                </a:xfrm>
                <a:custGeom>
                  <a:avLst/>
                  <a:gdLst/>
                  <a:ahLst/>
                  <a:rect l="l" t="t" r="r" b="b"/>
                  <a:pathLst>
                    <a:path w="253" h="287">
                      <a:moveTo>
                        <a:pt x="0" y="287"/>
                      </a:moveTo>
                      <a:lnTo>
                        <a:pt x="85" y="24"/>
                      </a:lnTo>
                      <a:lnTo>
                        <a:pt x="95" y="8"/>
                      </a:lnTo>
                      <a:lnTo>
                        <a:pt x="110" y="0"/>
                      </a:lnTo>
                      <a:lnTo>
                        <a:pt x="123" y="5"/>
                      </a:lnTo>
                      <a:lnTo>
                        <a:pt x="133" y="17"/>
                      </a:lnTo>
                      <a:lnTo>
                        <a:pt x="253" y="287"/>
                      </a:lnTo>
                      <a:lnTo>
                        <a:pt x="0" y="28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7773200">
                  <a:off x="6382080" y="5526720"/>
                  <a:ext cx="15120" cy="32760"/>
                </a:xfrm>
                <a:custGeom>
                  <a:avLst/>
                  <a:gdLst/>
                  <a:ahLst/>
                  <a:rect l="l" t="t" r="r" b="b"/>
                  <a:pathLst>
                    <a:path w="107" h="285">
                      <a:moveTo>
                        <a:pt x="0" y="285"/>
                      </a:moveTo>
                      <a:lnTo>
                        <a:pt x="81" y="24"/>
                      </a:lnTo>
                      <a:lnTo>
                        <a:pt x="91" y="8"/>
                      </a:lnTo>
                      <a:lnTo>
                        <a:pt x="107" y="0"/>
                      </a:lnTo>
                      <a:lnTo>
                        <a:pt x="86" y="285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7773200">
                  <a:off x="6375960" y="5517000"/>
                  <a:ext cx="36720" cy="3312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0" y="288"/>
                      </a:moveTo>
                      <a:lnTo>
                        <a:pt x="84" y="24"/>
                      </a:lnTo>
                      <a:lnTo>
                        <a:pt x="94" y="8"/>
                      </a:lnTo>
                      <a:lnTo>
                        <a:pt x="110" y="0"/>
                      </a:lnTo>
                      <a:lnTo>
                        <a:pt x="123" y="5"/>
                      </a:lnTo>
                      <a:lnTo>
                        <a:pt x="133" y="17"/>
                      </a:lnTo>
                      <a:lnTo>
                        <a:pt x="253" y="288"/>
                      </a:lnTo>
                      <a:lnTo>
                        <a:pt x="0" y="288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 rot="17773200">
                <a:off x="6396480" y="5529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4" y="25"/>
                    </a:moveTo>
                    <a:lnTo>
                      <a:pt x="0" y="3"/>
                    </a:lnTo>
                    <a:lnTo>
                      <a:pt x="20" y="0"/>
                    </a:lnTo>
                    <a:lnTo>
                      <a:pt x="30" y="25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6401520" y="5525640"/>
              <a:ext cx="209520" cy="127800"/>
              <a:chOff x="6401520" y="5525640"/>
              <a:chExt cx="209520" cy="127800"/>
            </a:xfrm>
          </p:grpSpPr>
          <p:sp>
            <p:nvSpPr>
              <p:cNvPr id="293" name=""/>
              <p:cNvSpPr/>
              <p:nvPr/>
            </p:nvSpPr>
            <p:spPr>
              <a:xfrm rot="17773200">
                <a:off x="6488640" y="5481360"/>
                <a:ext cx="35280" cy="215280"/>
              </a:xfrm>
              <a:prstGeom prst="rect">
                <a:avLst/>
              </a:prstGeom>
              <a:solidFill>
                <a:srgbClr val="dfd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773200">
                <a:off x="6495120" y="5491800"/>
                <a:ext cx="11520" cy="216360"/>
              </a:xfrm>
              <a:prstGeom prst="rect">
                <a:avLst/>
              </a:prstGeom>
              <a:solidFill>
                <a:srgbClr val="bf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6423480" y="5533200"/>
                <a:ext cx="169560" cy="109440"/>
                <a:chOff x="6423480" y="5533200"/>
                <a:chExt cx="169560" cy="109440"/>
              </a:xfrm>
            </p:grpSpPr>
            <p:sp>
              <p:nvSpPr>
                <p:cNvPr id="296" name=""/>
                <p:cNvSpPr/>
                <p:nvPr/>
              </p:nvSpPr>
              <p:spPr>
                <a:xfrm flipH="1">
                  <a:off x="6576120" y="560844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6557040" y="559908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6537960" y="558972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6518880" y="558036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499800" y="557100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6480720" y="5561640"/>
                  <a:ext cx="1656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6461640" y="5551920"/>
                  <a:ext cx="16560" cy="34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6442560" y="5542560"/>
                  <a:ext cx="16560" cy="34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6423480" y="5533200"/>
                  <a:ext cx="16560" cy="34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 rot="17773200">
                <a:off x="6488640" y="5481360"/>
                <a:ext cx="35280" cy="215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423840" y="5403960"/>
              <a:ext cx="46080" cy="47880"/>
              <a:chOff x="6423840" y="5403960"/>
              <a:chExt cx="46080" cy="4788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6423840" y="5403960"/>
                <a:ext cx="46080" cy="47880"/>
                <a:chOff x="6423840" y="5403960"/>
                <a:chExt cx="46080" cy="47880"/>
              </a:xfrm>
            </p:grpSpPr>
            <p:sp>
              <p:nvSpPr>
                <p:cNvPr id="308" name=""/>
                <p:cNvSpPr/>
                <p:nvPr/>
              </p:nvSpPr>
              <p:spPr>
                <a:xfrm rot="17773200">
                  <a:off x="6428160" y="5411160"/>
                  <a:ext cx="36720" cy="3312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288"/>
                      </a:moveTo>
                      <a:lnTo>
                        <a:pt x="169" y="24"/>
                      </a:lnTo>
                      <a:lnTo>
                        <a:pt x="159" y="8"/>
                      </a:lnTo>
                      <a:lnTo>
                        <a:pt x="143" y="0"/>
                      </a:lnTo>
                      <a:lnTo>
                        <a:pt x="131" y="5"/>
                      </a:lnTo>
                      <a:lnTo>
                        <a:pt x="119" y="17"/>
                      </a:lnTo>
                      <a:lnTo>
                        <a:pt x="0" y="288"/>
                      </a:lnTo>
                      <a:lnTo>
                        <a:pt x="253" y="288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17773200">
                  <a:off x="6442920" y="5402160"/>
                  <a:ext cx="15840" cy="32760"/>
                </a:xfrm>
                <a:custGeom>
                  <a:avLst/>
                  <a:gdLst/>
                  <a:ahLst/>
                  <a:rect l="l" t="t" r="r" b="b"/>
                  <a:pathLst>
                    <a:path w="108" h="285">
                      <a:moveTo>
                        <a:pt x="108" y="285"/>
                      </a:moveTo>
                      <a:lnTo>
                        <a:pt x="26" y="24"/>
                      </a:lnTo>
                      <a:lnTo>
                        <a:pt x="16" y="8"/>
                      </a:lnTo>
                      <a:lnTo>
                        <a:pt x="0" y="0"/>
                      </a:lnTo>
                      <a:lnTo>
                        <a:pt x="22" y="285"/>
                      </a:lnTo>
                      <a:lnTo>
                        <a:pt x="108" y="285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7773200">
                  <a:off x="6428160" y="5411160"/>
                  <a:ext cx="36720" cy="33120"/>
                </a:xfrm>
                <a:custGeom>
                  <a:avLst/>
                  <a:gdLst/>
                  <a:ahLst/>
                  <a:rect l="l" t="t" r="r" b="b"/>
                  <a:pathLst>
                    <a:path w="253" h="288">
                      <a:moveTo>
                        <a:pt x="253" y="288"/>
                      </a:moveTo>
                      <a:lnTo>
                        <a:pt x="169" y="24"/>
                      </a:lnTo>
                      <a:lnTo>
                        <a:pt x="159" y="8"/>
                      </a:lnTo>
                      <a:lnTo>
                        <a:pt x="143" y="0"/>
                      </a:lnTo>
                      <a:lnTo>
                        <a:pt x="131" y="5"/>
                      </a:lnTo>
                      <a:lnTo>
                        <a:pt x="119" y="17"/>
                      </a:lnTo>
                      <a:lnTo>
                        <a:pt x="0" y="288"/>
                      </a:lnTo>
                      <a:lnTo>
                        <a:pt x="253" y="288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rot="17773200">
                <a:off x="6443280" y="54306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25" y="25"/>
                    </a:moveTo>
                    <a:lnTo>
                      <a:pt x="30" y="4"/>
                    </a:lnTo>
                    <a:lnTo>
                      <a:pt x="10" y="0"/>
                    </a:lnTo>
                    <a:lnTo>
                      <a:pt x="0" y="25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4440" y="5419080"/>
              <a:ext cx="209520" cy="127440"/>
              <a:chOff x="6454440" y="5419080"/>
              <a:chExt cx="209520" cy="127440"/>
            </a:xfrm>
          </p:grpSpPr>
          <p:sp>
            <p:nvSpPr>
              <p:cNvPr id="313" name=""/>
              <p:cNvSpPr/>
              <p:nvPr/>
            </p:nvSpPr>
            <p:spPr>
              <a:xfrm rot="17773200">
                <a:off x="6540840" y="5375160"/>
                <a:ext cx="35640" cy="215280"/>
              </a:xfrm>
              <a:prstGeom prst="rect">
                <a:avLst/>
              </a:prstGeom>
              <a:solidFill>
                <a:srgbClr val="dfd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7773200">
                <a:off x="6558120" y="5364000"/>
                <a:ext cx="11880" cy="216360"/>
              </a:xfrm>
              <a:prstGeom prst="rect">
                <a:avLst/>
              </a:prstGeom>
              <a:solidFill>
                <a:srgbClr val="bf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773200">
                <a:off x="6540840" y="5375160"/>
                <a:ext cx="35640" cy="215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6" name=""/>
              <p:cNvGrpSpPr/>
              <p:nvPr/>
            </p:nvGrpSpPr>
            <p:grpSpPr>
              <a:xfrm>
                <a:off x="6473880" y="5427720"/>
                <a:ext cx="169560" cy="109440"/>
                <a:chOff x="6473880" y="5427720"/>
                <a:chExt cx="169560" cy="10944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6626880" y="5502960"/>
                  <a:ext cx="1656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6607800" y="5493600"/>
                  <a:ext cx="1656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6588720" y="548424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6569640" y="5474880"/>
                  <a:ext cx="1656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6550560" y="546552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6531480" y="5456160"/>
                  <a:ext cx="1656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6512040" y="5446800"/>
                  <a:ext cx="16920" cy="34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6492960" y="5437080"/>
                  <a:ext cx="16920" cy="34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>
                  <a:off x="6473880" y="5427720"/>
                  <a:ext cx="16920" cy="34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6319800" y="5401440"/>
              <a:ext cx="326160" cy="218880"/>
              <a:chOff x="6319800" y="5401440"/>
              <a:chExt cx="326160" cy="2188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319800" y="5401440"/>
                <a:ext cx="326160" cy="217800"/>
                <a:chOff x="6319800" y="5401440"/>
                <a:chExt cx="326160" cy="217800"/>
              </a:xfrm>
            </p:grpSpPr>
            <p:sp>
              <p:nvSpPr>
                <p:cNvPr id="328" name=""/>
                <p:cNvSpPr/>
                <p:nvPr/>
              </p:nvSpPr>
              <p:spPr>
                <a:xfrm rot="17773200">
                  <a:off x="6337080" y="5413680"/>
                  <a:ext cx="84240" cy="91440"/>
                </a:xfrm>
                <a:custGeom>
                  <a:avLst/>
                  <a:gdLst/>
                  <a:ahLst/>
                  <a:rect l="l" t="t" r="r" b="b"/>
                  <a:pathLst>
                    <a:path w="572" h="787">
                      <a:moveTo>
                        <a:pt x="572" y="787"/>
                      </a:moveTo>
                      <a:lnTo>
                        <a:pt x="0" y="787"/>
                      </a:lnTo>
                      <a:lnTo>
                        <a:pt x="0" y="680"/>
                      </a:lnTo>
                      <a:lnTo>
                        <a:pt x="4" y="627"/>
                      </a:lnTo>
                      <a:lnTo>
                        <a:pt x="10" y="572"/>
                      </a:lnTo>
                      <a:lnTo>
                        <a:pt x="17" y="520"/>
                      </a:lnTo>
                      <a:lnTo>
                        <a:pt x="26" y="469"/>
                      </a:lnTo>
                      <a:lnTo>
                        <a:pt x="37" y="414"/>
                      </a:lnTo>
                      <a:lnTo>
                        <a:pt x="49" y="364"/>
                      </a:lnTo>
                      <a:lnTo>
                        <a:pt x="62" y="312"/>
                      </a:lnTo>
                      <a:lnTo>
                        <a:pt x="76" y="267"/>
                      </a:lnTo>
                      <a:lnTo>
                        <a:pt x="93" y="225"/>
                      </a:lnTo>
                      <a:lnTo>
                        <a:pt x="106" y="193"/>
                      </a:lnTo>
                      <a:lnTo>
                        <a:pt x="126" y="151"/>
                      </a:lnTo>
                      <a:lnTo>
                        <a:pt x="147" y="111"/>
                      </a:lnTo>
                      <a:lnTo>
                        <a:pt x="170" y="82"/>
                      </a:lnTo>
                      <a:lnTo>
                        <a:pt x="194" y="56"/>
                      </a:lnTo>
                      <a:lnTo>
                        <a:pt x="223" y="36"/>
                      </a:lnTo>
                      <a:lnTo>
                        <a:pt x="259" y="14"/>
                      </a:lnTo>
                      <a:lnTo>
                        <a:pt x="286" y="0"/>
                      </a:lnTo>
                      <a:lnTo>
                        <a:pt x="327" y="18"/>
                      </a:lnTo>
                      <a:lnTo>
                        <a:pt x="363" y="47"/>
                      </a:lnTo>
                      <a:lnTo>
                        <a:pt x="396" y="78"/>
                      </a:lnTo>
                      <a:lnTo>
                        <a:pt x="422" y="114"/>
                      </a:lnTo>
                      <a:lnTo>
                        <a:pt x="445" y="149"/>
                      </a:lnTo>
                      <a:lnTo>
                        <a:pt x="469" y="202"/>
                      </a:lnTo>
                      <a:lnTo>
                        <a:pt x="495" y="264"/>
                      </a:lnTo>
                      <a:lnTo>
                        <a:pt x="509" y="310"/>
                      </a:lnTo>
                      <a:lnTo>
                        <a:pt x="520" y="350"/>
                      </a:lnTo>
                      <a:lnTo>
                        <a:pt x="533" y="401"/>
                      </a:lnTo>
                      <a:lnTo>
                        <a:pt x="545" y="469"/>
                      </a:lnTo>
                      <a:lnTo>
                        <a:pt x="553" y="538"/>
                      </a:lnTo>
                      <a:lnTo>
                        <a:pt x="562" y="609"/>
                      </a:lnTo>
                      <a:lnTo>
                        <a:pt x="569" y="685"/>
                      </a:lnTo>
                      <a:lnTo>
                        <a:pt x="572" y="78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7773200">
                  <a:off x="6482880" y="5415480"/>
                  <a:ext cx="82440" cy="231120"/>
                </a:xfrm>
                <a:prstGeom prst="rect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319800" y="5439960"/>
                <a:ext cx="308880" cy="180360"/>
                <a:chOff x="6319800" y="5439960"/>
                <a:chExt cx="308880" cy="180360"/>
              </a:xfrm>
            </p:grpSpPr>
            <p:sp>
              <p:nvSpPr>
                <p:cNvPr id="331" name=""/>
                <p:cNvSpPr/>
                <p:nvPr/>
              </p:nvSpPr>
              <p:spPr>
                <a:xfrm rot="17773200">
                  <a:off x="6348960" y="5432760"/>
                  <a:ext cx="41400" cy="91080"/>
                </a:xfrm>
                <a:custGeom>
                  <a:avLst/>
                  <a:gdLst/>
                  <a:ahLst/>
                  <a:rect l="l" t="t" r="r" b="b"/>
                  <a:pathLst>
                    <a:path w="284" h="784">
                      <a:moveTo>
                        <a:pt x="284" y="770"/>
                      </a:moveTo>
                      <a:lnTo>
                        <a:pt x="0" y="784"/>
                      </a:lnTo>
                      <a:lnTo>
                        <a:pt x="0" y="677"/>
                      </a:lnTo>
                      <a:lnTo>
                        <a:pt x="4" y="625"/>
                      </a:lnTo>
                      <a:lnTo>
                        <a:pt x="10" y="571"/>
                      </a:lnTo>
                      <a:lnTo>
                        <a:pt x="18" y="519"/>
                      </a:lnTo>
                      <a:lnTo>
                        <a:pt x="25" y="467"/>
                      </a:lnTo>
                      <a:lnTo>
                        <a:pt x="37" y="413"/>
                      </a:lnTo>
                      <a:lnTo>
                        <a:pt x="48" y="363"/>
                      </a:lnTo>
                      <a:lnTo>
                        <a:pt x="61" y="310"/>
                      </a:lnTo>
                      <a:lnTo>
                        <a:pt x="75" y="266"/>
                      </a:lnTo>
                      <a:lnTo>
                        <a:pt x="91" y="223"/>
                      </a:lnTo>
                      <a:lnTo>
                        <a:pt x="104" y="193"/>
                      </a:lnTo>
                      <a:lnTo>
                        <a:pt x="124" y="151"/>
                      </a:lnTo>
                      <a:lnTo>
                        <a:pt x="147" y="111"/>
                      </a:lnTo>
                      <a:lnTo>
                        <a:pt x="170" y="82"/>
                      </a:lnTo>
                      <a:lnTo>
                        <a:pt x="193" y="56"/>
                      </a:lnTo>
                      <a:lnTo>
                        <a:pt x="220" y="36"/>
                      </a:lnTo>
                      <a:lnTo>
                        <a:pt x="255" y="14"/>
                      </a:lnTo>
                      <a:lnTo>
                        <a:pt x="283" y="0"/>
                      </a:lnTo>
                      <a:lnTo>
                        <a:pt x="284" y="770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7773200">
                  <a:off x="6494040" y="5433120"/>
                  <a:ext cx="41400" cy="233640"/>
                </a:xfrm>
                <a:custGeom>
                  <a:avLst/>
                  <a:gdLst/>
                  <a:ahLst/>
                  <a:rect l="l" t="t" r="r" b="b"/>
                  <a:pathLst>
                    <a:path w="284" h="2012">
                      <a:moveTo>
                        <a:pt x="284" y="2012"/>
                      </a:moveTo>
                      <a:lnTo>
                        <a:pt x="284" y="0"/>
                      </a:lnTo>
                      <a:lnTo>
                        <a:pt x="0" y="6"/>
                      </a:lnTo>
                      <a:lnTo>
                        <a:pt x="0" y="2006"/>
                      </a:lnTo>
                      <a:lnTo>
                        <a:pt x="284" y="2012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325920" y="5415480"/>
                <a:ext cx="314280" cy="191520"/>
                <a:chOff x="6325920" y="5415480"/>
                <a:chExt cx="314280" cy="191520"/>
              </a:xfrm>
            </p:grpSpPr>
            <p:sp>
              <p:nvSpPr>
                <p:cNvPr id="334" name=""/>
                <p:cNvSpPr/>
                <p:nvPr/>
              </p:nvSpPr>
              <p:spPr>
                <a:xfrm rot="17773200">
                  <a:off x="6351480" y="5414400"/>
                  <a:ext cx="54720" cy="91080"/>
                </a:xfrm>
                <a:custGeom>
                  <a:avLst/>
                  <a:gdLst/>
                  <a:ahLst/>
                  <a:rect l="l" t="t" r="r" b="b"/>
                  <a:pathLst>
                    <a:path w="371" h="784">
                      <a:moveTo>
                        <a:pt x="371" y="784"/>
                      </a:moveTo>
                      <a:lnTo>
                        <a:pt x="0" y="784"/>
                      </a:lnTo>
                      <a:lnTo>
                        <a:pt x="0" y="677"/>
                      </a:lnTo>
                      <a:lnTo>
                        <a:pt x="3" y="625"/>
                      </a:lnTo>
                      <a:lnTo>
                        <a:pt x="7" y="571"/>
                      </a:lnTo>
                      <a:lnTo>
                        <a:pt x="13" y="519"/>
                      </a:lnTo>
                      <a:lnTo>
                        <a:pt x="17" y="467"/>
                      </a:lnTo>
                      <a:lnTo>
                        <a:pt x="24" y="413"/>
                      </a:lnTo>
                      <a:lnTo>
                        <a:pt x="33" y="363"/>
                      </a:lnTo>
                      <a:lnTo>
                        <a:pt x="40" y="310"/>
                      </a:lnTo>
                      <a:lnTo>
                        <a:pt x="50" y="266"/>
                      </a:lnTo>
                      <a:lnTo>
                        <a:pt x="58" y="223"/>
                      </a:lnTo>
                      <a:lnTo>
                        <a:pt x="68" y="193"/>
                      </a:lnTo>
                      <a:lnTo>
                        <a:pt x="81" y="151"/>
                      </a:lnTo>
                      <a:lnTo>
                        <a:pt x="94" y="111"/>
                      </a:lnTo>
                      <a:lnTo>
                        <a:pt x="110" y="82"/>
                      </a:lnTo>
                      <a:lnTo>
                        <a:pt x="127" y="56"/>
                      </a:lnTo>
                      <a:lnTo>
                        <a:pt x="144" y="36"/>
                      </a:lnTo>
                      <a:lnTo>
                        <a:pt x="167" y="14"/>
                      </a:lnTo>
                      <a:lnTo>
                        <a:pt x="185" y="0"/>
                      </a:lnTo>
                      <a:lnTo>
                        <a:pt x="213" y="18"/>
                      </a:lnTo>
                      <a:lnTo>
                        <a:pt x="237" y="47"/>
                      </a:lnTo>
                      <a:lnTo>
                        <a:pt x="258" y="78"/>
                      </a:lnTo>
                      <a:lnTo>
                        <a:pt x="276" y="114"/>
                      </a:lnTo>
                      <a:lnTo>
                        <a:pt x="290" y="149"/>
                      </a:lnTo>
                      <a:lnTo>
                        <a:pt x="304" y="200"/>
                      </a:lnTo>
                      <a:lnTo>
                        <a:pt x="320" y="263"/>
                      </a:lnTo>
                      <a:lnTo>
                        <a:pt x="330" y="309"/>
                      </a:lnTo>
                      <a:lnTo>
                        <a:pt x="337" y="349"/>
                      </a:lnTo>
                      <a:lnTo>
                        <a:pt x="346" y="400"/>
                      </a:lnTo>
                      <a:lnTo>
                        <a:pt x="354" y="467"/>
                      </a:lnTo>
                      <a:lnTo>
                        <a:pt x="358" y="536"/>
                      </a:lnTo>
                      <a:lnTo>
                        <a:pt x="364" y="607"/>
                      </a:lnTo>
                      <a:lnTo>
                        <a:pt x="370" y="682"/>
                      </a:lnTo>
                      <a:lnTo>
                        <a:pt x="371" y="7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rot="17773200">
                  <a:off x="6496200" y="5414760"/>
                  <a:ext cx="54720" cy="232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319800" y="5401440"/>
                <a:ext cx="326160" cy="217800"/>
                <a:chOff x="6319800" y="5401440"/>
                <a:chExt cx="326160" cy="217800"/>
              </a:xfrm>
            </p:grpSpPr>
            <p:sp>
              <p:nvSpPr>
                <p:cNvPr id="337" name=""/>
                <p:cNvSpPr/>
                <p:nvPr/>
              </p:nvSpPr>
              <p:spPr>
                <a:xfrm rot="17773200">
                  <a:off x="6337080" y="5413680"/>
                  <a:ext cx="84240" cy="91440"/>
                </a:xfrm>
                <a:custGeom>
                  <a:avLst/>
                  <a:gdLst/>
                  <a:ahLst/>
                  <a:rect l="l" t="t" r="r" b="b"/>
                  <a:pathLst>
                    <a:path w="573" h="787">
                      <a:moveTo>
                        <a:pt x="573" y="787"/>
                      </a:moveTo>
                      <a:lnTo>
                        <a:pt x="0" y="787"/>
                      </a:lnTo>
                      <a:lnTo>
                        <a:pt x="0" y="680"/>
                      </a:lnTo>
                      <a:lnTo>
                        <a:pt x="4" y="627"/>
                      </a:lnTo>
                      <a:lnTo>
                        <a:pt x="10" y="572"/>
                      </a:lnTo>
                      <a:lnTo>
                        <a:pt x="18" y="520"/>
                      </a:lnTo>
                      <a:lnTo>
                        <a:pt x="25" y="469"/>
                      </a:lnTo>
                      <a:lnTo>
                        <a:pt x="37" y="414"/>
                      </a:lnTo>
                      <a:lnTo>
                        <a:pt x="48" y="364"/>
                      </a:lnTo>
                      <a:lnTo>
                        <a:pt x="61" y="312"/>
                      </a:lnTo>
                      <a:lnTo>
                        <a:pt x="77" y="267"/>
                      </a:lnTo>
                      <a:lnTo>
                        <a:pt x="93" y="225"/>
                      </a:lnTo>
                      <a:lnTo>
                        <a:pt x="105" y="193"/>
                      </a:lnTo>
                      <a:lnTo>
                        <a:pt x="125" y="151"/>
                      </a:lnTo>
                      <a:lnTo>
                        <a:pt x="148" y="111"/>
                      </a:lnTo>
                      <a:lnTo>
                        <a:pt x="171" y="82"/>
                      </a:lnTo>
                      <a:lnTo>
                        <a:pt x="194" y="56"/>
                      </a:lnTo>
                      <a:lnTo>
                        <a:pt x="223" y="36"/>
                      </a:lnTo>
                      <a:lnTo>
                        <a:pt x="258" y="14"/>
                      </a:lnTo>
                      <a:lnTo>
                        <a:pt x="285" y="0"/>
                      </a:lnTo>
                      <a:lnTo>
                        <a:pt x="327" y="18"/>
                      </a:lnTo>
                      <a:lnTo>
                        <a:pt x="363" y="47"/>
                      </a:lnTo>
                      <a:lnTo>
                        <a:pt x="396" y="78"/>
                      </a:lnTo>
                      <a:lnTo>
                        <a:pt x="421" y="114"/>
                      </a:lnTo>
                      <a:lnTo>
                        <a:pt x="444" y="149"/>
                      </a:lnTo>
                      <a:lnTo>
                        <a:pt x="468" y="202"/>
                      </a:lnTo>
                      <a:lnTo>
                        <a:pt x="494" y="264"/>
                      </a:lnTo>
                      <a:lnTo>
                        <a:pt x="508" y="310"/>
                      </a:lnTo>
                      <a:lnTo>
                        <a:pt x="520" y="350"/>
                      </a:lnTo>
                      <a:lnTo>
                        <a:pt x="533" y="401"/>
                      </a:lnTo>
                      <a:lnTo>
                        <a:pt x="544" y="469"/>
                      </a:lnTo>
                      <a:lnTo>
                        <a:pt x="554" y="538"/>
                      </a:lnTo>
                      <a:lnTo>
                        <a:pt x="561" y="609"/>
                      </a:lnTo>
                      <a:lnTo>
                        <a:pt x="568" y="685"/>
                      </a:lnTo>
                      <a:lnTo>
                        <a:pt x="573" y="78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17773200">
                  <a:off x="6482880" y="5415480"/>
                  <a:ext cx="82080" cy="23112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6443280" y="5461920"/>
                <a:ext cx="162720" cy="138240"/>
                <a:chOff x="6443280" y="5461920"/>
                <a:chExt cx="162720" cy="138240"/>
              </a:xfrm>
            </p:grpSpPr>
            <p:sp>
              <p:nvSpPr>
                <p:cNvPr id="340" name=""/>
                <p:cNvSpPr/>
                <p:nvPr/>
              </p:nvSpPr>
              <p:spPr>
                <a:xfrm flipH="1">
                  <a:off x="6568200" y="5523480"/>
                  <a:ext cx="37800" cy="76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6526080" y="5502600"/>
                  <a:ext cx="37800" cy="76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6484680" y="5482080"/>
                  <a:ext cx="37440" cy="76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6443280" y="5461920"/>
                  <a:ext cx="37440" cy="76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6595560" y="5618880"/>
              <a:ext cx="68040" cy="64440"/>
              <a:chOff x="6595560" y="5618880"/>
              <a:chExt cx="68040" cy="6444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6614280" y="5621040"/>
                <a:ext cx="49320" cy="62280"/>
                <a:chOff x="6614280" y="5621040"/>
                <a:chExt cx="49320" cy="6228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614280" y="5621040"/>
                  <a:ext cx="39600" cy="62280"/>
                  <a:chOff x="6614280" y="5621040"/>
                  <a:chExt cx="39600" cy="622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7773200">
                    <a:off x="6602760" y="5645160"/>
                    <a:ext cx="626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0" h="115">
                        <a:moveTo>
                          <a:pt x="83" y="0"/>
                        </a:moveTo>
                        <a:lnTo>
                          <a:pt x="353" y="0"/>
                        </a:lnTo>
                        <a:lnTo>
                          <a:pt x="430" y="115"/>
                        </a:lnTo>
                        <a:lnTo>
                          <a:pt x="0" y="115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7773200">
                    <a:off x="6611400" y="5658840"/>
                    <a:ext cx="320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17">
                        <a:moveTo>
                          <a:pt x="83" y="2"/>
                        </a:moveTo>
                        <a:lnTo>
                          <a:pt x="219" y="0"/>
                        </a:lnTo>
                        <a:lnTo>
                          <a:pt x="219" y="117"/>
                        </a:lnTo>
                        <a:lnTo>
                          <a:pt x="0" y="117"/>
                        </a:lnTo>
                        <a:lnTo>
                          <a:pt x="83" y="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7773200">
                    <a:off x="6615000" y="5664960"/>
                    <a:ext cx="183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17">
                        <a:moveTo>
                          <a:pt x="83" y="2"/>
                        </a:moveTo>
                        <a:lnTo>
                          <a:pt x="126" y="0"/>
                        </a:lnTo>
                        <a:lnTo>
                          <a:pt x="125" y="117"/>
                        </a:lnTo>
                        <a:lnTo>
                          <a:pt x="0" y="117"/>
                        </a:lnTo>
                        <a:lnTo>
                          <a:pt x="83" y="2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7773200">
                    <a:off x="6635160" y="5625360"/>
                    <a:ext cx="172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5">
                        <a:moveTo>
                          <a:pt x="0" y="0"/>
                        </a:moveTo>
                        <a:lnTo>
                          <a:pt x="44" y="0"/>
                        </a:lnTo>
                        <a:lnTo>
                          <a:pt x="121" y="115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621840" y="5637600"/>
                  <a:ext cx="20520" cy="34560"/>
                  <a:chOff x="6621840" y="5637600"/>
                  <a:chExt cx="20520" cy="345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17773200">
                    <a:off x="6636960" y="5638680"/>
                    <a:ext cx="4680" cy="3960"/>
                  </a:xfrm>
                  <a:prstGeom prst="rect">
                    <a:avLst/>
                  </a:prstGeom>
                  <a:solidFill>
                    <a:srgbClr val="5f5f7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17773200">
                    <a:off x="6621840" y="566352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2">
                        <a:moveTo>
                          <a:pt x="0" y="52"/>
                        </a:moveTo>
                        <a:lnTo>
                          <a:pt x="33" y="0"/>
                        </a:lnTo>
                        <a:lnTo>
                          <a:pt x="64" y="0"/>
                        </a:lnTo>
                        <a:lnTo>
                          <a:pt x="35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 rot="17773200">
                  <a:off x="6623640" y="5650560"/>
                  <a:ext cx="46800" cy="14040"/>
                </a:xfrm>
                <a:custGeom>
                  <a:avLst/>
                  <a:gdLst/>
                  <a:ahLst/>
                  <a:rect l="l" t="t" r="r" b="b"/>
                  <a:pathLst>
                    <a:path w="322" h="122">
                      <a:moveTo>
                        <a:pt x="270" y="0"/>
                      </a:moveTo>
                      <a:lnTo>
                        <a:pt x="322" y="122"/>
                      </a:lnTo>
                      <a:lnTo>
                        <a:pt x="0" y="122"/>
                      </a:lnTo>
                      <a:lnTo>
                        <a:pt x="43" y="0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95560" y="5618880"/>
                <a:ext cx="41400" cy="47160"/>
                <a:chOff x="6595560" y="5618880"/>
                <a:chExt cx="41400" cy="4716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6595560" y="5618880"/>
                  <a:ext cx="41040" cy="47160"/>
                  <a:chOff x="6595560" y="5618880"/>
                  <a:chExt cx="41040" cy="4716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17773200">
                    <a:off x="6588000" y="5634360"/>
                    <a:ext cx="39600" cy="828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17773200">
                    <a:off x="6595920" y="5637960"/>
                    <a:ext cx="39600" cy="828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17773200">
                    <a:off x="6604200" y="5641560"/>
                    <a:ext cx="39600" cy="864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597360" y="5622480"/>
                  <a:ext cx="38520" cy="40320"/>
                  <a:chOff x="6597360" y="5622480"/>
                  <a:chExt cx="38520" cy="40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17773200">
                    <a:off x="6592320" y="5634000"/>
                    <a:ext cx="31680" cy="864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17773200">
                    <a:off x="6600240" y="5637960"/>
                    <a:ext cx="31680" cy="864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7773200">
                    <a:off x="6608880" y="5641920"/>
                    <a:ext cx="31680" cy="936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604200" y="5625000"/>
                  <a:ext cx="30240" cy="23400"/>
                  <a:chOff x="6604200" y="5625000"/>
                  <a:chExt cx="30240" cy="234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17773200">
                    <a:off x="6604200" y="5628240"/>
                    <a:ext cx="12960" cy="864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17773200">
                    <a:off x="6612480" y="5632200"/>
                    <a:ext cx="12960" cy="864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17773200">
                    <a:off x="6620760" y="5635800"/>
                    <a:ext cx="12960" cy="936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595560" y="5618880"/>
                  <a:ext cx="41400" cy="47160"/>
                  <a:chOff x="6595560" y="5618880"/>
                  <a:chExt cx="41400" cy="471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rot="17773200">
                    <a:off x="6588000" y="5634360"/>
                    <a:ext cx="39600" cy="82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17773200">
                    <a:off x="6595920" y="5638320"/>
                    <a:ext cx="39600" cy="82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17773200">
                    <a:off x="6604200" y="5641560"/>
                    <a:ext cx="39600" cy="900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72" name=""/>
            <p:cNvGrpSpPr/>
            <p:nvPr/>
          </p:nvGrpSpPr>
          <p:grpSpPr>
            <a:xfrm>
              <a:off x="6422760" y="5506200"/>
              <a:ext cx="208080" cy="180360"/>
              <a:chOff x="6422760" y="5506200"/>
              <a:chExt cx="208080" cy="180360"/>
            </a:xfrm>
          </p:grpSpPr>
          <p:sp>
            <p:nvSpPr>
              <p:cNvPr id="373" name=""/>
              <p:cNvSpPr/>
              <p:nvPr/>
            </p:nvSpPr>
            <p:spPr>
              <a:xfrm rot="17773200">
                <a:off x="6469200" y="5508360"/>
                <a:ext cx="114840" cy="175320"/>
              </a:xfrm>
              <a:custGeom>
                <a:avLst/>
                <a:gdLst/>
                <a:ahLst/>
                <a:rect l="l" t="t" r="r" b="b"/>
                <a:pathLst>
                  <a:path w="783" h="1510">
                    <a:moveTo>
                      <a:pt x="615" y="1510"/>
                    </a:moveTo>
                    <a:lnTo>
                      <a:pt x="783" y="1510"/>
                    </a:lnTo>
                    <a:lnTo>
                      <a:pt x="783" y="65"/>
                    </a:lnTo>
                    <a:lnTo>
                      <a:pt x="615" y="0"/>
                    </a:lnTo>
                    <a:lnTo>
                      <a:pt x="598" y="94"/>
                    </a:lnTo>
                    <a:lnTo>
                      <a:pt x="581" y="186"/>
                    </a:lnTo>
                    <a:lnTo>
                      <a:pt x="566" y="286"/>
                    </a:lnTo>
                    <a:lnTo>
                      <a:pt x="553" y="370"/>
                    </a:lnTo>
                    <a:lnTo>
                      <a:pt x="539" y="480"/>
                    </a:lnTo>
                    <a:lnTo>
                      <a:pt x="529" y="566"/>
                    </a:lnTo>
                    <a:lnTo>
                      <a:pt x="521" y="614"/>
                    </a:lnTo>
                    <a:lnTo>
                      <a:pt x="508" y="668"/>
                    </a:lnTo>
                    <a:lnTo>
                      <a:pt x="495" y="710"/>
                    </a:lnTo>
                    <a:lnTo>
                      <a:pt x="481" y="746"/>
                    </a:lnTo>
                    <a:lnTo>
                      <a:pt x="465" y="772"/>
                    </a:lnTo>
                    <a:lnTo>
                      <a:pt x="450" y="796"/>
                    </a:lnTo>
                    <a:lnTo>
                      <a:pt x="435" y="818"/>
                    </a:lnTo>
                    <a:lnTo>
                      <a:pt x="405" y="852"/>
                    </a:lnTo>
                    <a:lnTo>
                      <a:pt x="372" y="887"/>
                    </a:lnTo>
                    <a:lnTo>
                      <a:pt x="320" y="933"/>
                    </a:lnTo>
                    <a:lnTo>
                      <a:pt x="252" y="998"/>
                    </a:lnTo>
                    <a:lnTo>
                      <a:pt x="179" y="1063"/>
                    </a:lnTo>
                    <a:lnTo>
                      <a:pt x="127" y="1105"/>
                    </a:lnTo>
                    <a:lnTo>
                      <a:pt x="112" y="1124"/>
                    </a:lnTo>
                    <a:lnTo>
                      <a:pt x="83" y="1151"/>
                    </a:lnTo>
                    <a:lnTo>
                      <a:pt x="56" y="1184"/>
                    </a:lnTo>
                    <a:lnTo>
                      <a:pt x="40" y="1212"/>
                    </a:lnTo>
                    <a:lnTo>
                      <a:pt x="26" y="1249"/>
                    </a:lnTo>
                    <a:lnTo>
                      <a:pt x="13" y="1303"/>
                    </a:lnTo>
                    <a:lnTo>
                      <a:pt x="5" y="1376"/>
                    </a:lnTo>
                    <a:lnTo>
                      <a:pt x="0" y="1441"/>
                    </a:lnTo>
                    <a:lnTo>
                      <a:pt x="615" y="151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6478200" y="5553720"/>
                <a:ext cx="124920" cy="124560"/>
                <a:chOff x="6478200" y="5553720"/>
                <a:chExt cx="124920" cy="12456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6478200" y="5559840"/>
                  <a:ext cx="124920" cy="118440"/>
                  <a:chOff x="6478200" y="5559840"/>
                  <a:chExt cx="124920" cy="11844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6478200" y="5559840"/>
                    <a:ext cx="122040" cy="115200"/>
                    <a:chOff x="6478200" y="5559840"/>
                    <a:chExt cx="122040" cy="11520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flipH="1">
                      <a:off x="6562080" y="5596560"/>
                      <a:ext cx="38160" cy="784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>
                      <a:off x="6560280" y="5596560"/>
                      <a:ext cx="38160" cy="784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H="1">
                      <a:off x="6558480" y="5595480"/>
                      <a:ext cx="38160" cy="7884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7773200">
                      <a:off x="6498360" y="5567760"/>
                      <a:ext cx="7560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2" h="792">
                          <a:moveTo>
                            <a:pt x="0" y="792"/>
                          </a:moveTo>
                          <a:lnTo>
                            <a:pt x="8" y="758"/>
                          </a:lnTo>
                          <a:lnTo>
                            <a:pt x="18" y="728"/>
                          </a:lnTo>
                          <a:lnTo>
                            <a:pt x="30" y="705"/>
                          </a:lnTo>
                          <a:lnTo>
                            <a:pt x="44" y="682"/>
                          </a:lnTo>
                          <a:lnTo>
                            <a:pt x="60" y="660"/>
                          </a:lnTo>
                          <a:lnTo>
                            <a:pt x="84" y="637"/>
                          </a:lnTo>
                          <a:lnTo>
                            <a:pt x="114" y="607"/>
                          </a:lnTo>
                          <a:lnTo>
                            <a:pt x="150" y="576"/>
                          </a:lnTo>
                          <a:lnTo>
                            <a:pt x="189" y="544"/>
                          </a:lnTo>
                          <a:lnTo>
                            <a:pt x="234" y="503"/>
                          </a:lnTo>
                          <a:lnTo>
                            <a:pt x="279" y="461"/>
                          </a:lnTo>
                          <a:lnTo>
                            <a:pt x="316" y="427"/>
                          </a:lnTo>
                          <a:lnTo>
                            <a:pt x="349" y="396"/>
                          </a:lnTo>
                          <a:lnTo>
                            <a:pt x="376" y="369"/>
                          </a:lnTo>
                          <a:lnTo>
                            <a:pt x="391" y="350"/>
                          </a:lnTo>
                          <a:lnTo>
                            <a:pt x="410" y="331"/>
                          </a:lnTo>
                          <a:lnTo>
                            <a:pt x="423" y="313"/>
                          </a:lnTo>
                          <a:lnTo>
                            <a:pt x="439" y="289"/>
                          </a:lnTo>
                          <a:lnTo>
                            <a:pt x="454" y="262"/>
                          </a:lnTo>
                          <a:lnTo>
                            <a:pt x="467" y="232"/>
                          </a:lnTo>
                          <a:lnTo>
                            <a:pt x="479" y="199"/>
                          </a:lnTo>
                          <a:lnTo>
                            <a:pt x="489" y="165"/>
                          </a:lnTo>
                          <a:lnTo>
                            <a:pt x="496" y="126"/>
                          </a:lnTo>
                          <a:lnTo>
                            <a:pt x="502" y="89"/>
                          </a:lnTo>
                          <a:lnTo>
                            <a:pt x="507" y="52"/>
                          </a:lnTo>
                          <a:lnTo>
                            <a:pt x="512" y="18"/>
                          </a:lnTo>
                          <a:lnTo>
                            <a:pt x="510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rot="17773200">
                    <a:off x="6538320" y="5636520"/>
                    <a:ext cx="87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8" h="27">
                        <a:moveTo>
                          <a:pt x="0" y="0"/>
                        </a:moveTo>
                        <a:lnTo>
                          <a:pt x="0" y="27"/>
                        </a:lnTo>
                        <a:lnTo>
                          <a:pt x="598" y="27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7773200">
                    <a:off x="6584400" y="5638320"/>
                    <a:ext cx="2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46">
                        <a:moveTo>
                          <a:pt x="0" y="142"/>
                        </a:move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146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 flipH="1">
                  <a:off x="6509880" y="5553720"/>
                  <a:ext cx="3960" cy="9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6585120" y="5574960"/>
              <a:ext cx="53640" cy="46440"/>
              <a:chOff x="6585120" y="5574960"/>
              <a:chExt cx="53640" cy="464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617880" y="5593680"/>
                <a:ext cx="20880" cy="23040"/>
                <a:chOff x="6617880" y="5593680"/>
                <a:chExt cx="20880" cy="23040"/>
              </a:xfrm>
            </p:grpSpPr>
            <p:sp>
              <p:nvSpPr>
                <p:cNvPr id="386" name=""/>
                <p:cNvSpPr/>
                <p:nvPr/>
              </p:nvSpPr>
              <p:spPr>
                <a:xfrm rot="17773200">
                  <a:off x="6617880" y="5598720"/>
                  <a:ext cx="19080" cy="1260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0" y="109"/>
                      </a:moveTo>
                      <a:lnTo>
                        <a:pt x="25" y="0"/>
                      </a:lnTo>
                      <a:lnTo>
                        <a:pt x="105" y="0"/>
                      </a:lnTo>
                      <a:lnTo>
                        <a:pt x="131" y="109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7773200">
                  <a:off x="6623280" y="5605560"/>
                  <a:ext cx="18720" cy="3600"/>
                </a:xfrm>
                <a:prstGeom prst="ellipse">
                  <a:avLst/>
                </a:prstGeom>
                <a:solidFill>
                  <a:srgbClr val="7f7f9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621480" y="5590800"/>
                <a:ext cx="15480" cy="16200"/>
                <a:chOff x="6621480" y="5590800"/>
                <a:chExt cx="15480" cy="16200"/>
              </a:xfrm>
            </p:grpSpPr>
            <p:sp>
              <p:nvSpPr>
                <p:cNvPr id="389" name=""/>
                <p:cNvSpPr/>
                <p:nvPr/>
              </p:nvSpPr>
              <p:spPr>
                <a:xfrm rot="17773200">
                  <a:off x="6622200" y="5593680"/>
                  <a:ext cx="12240" cy="9360"/>
                </a:xfrm>
                <a:prstGeom prst="rect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7773200">
                  <a:off x="6620040" y="5596920"/>
                  <a:ext cx="12240" cy="1800"/>
                </a:xfrm>
                <a:prstGeom prst="ellipse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"/>
                <p:cNvGrpSpPr/>
                <p:nvPr/>
              </p:nvGrpSpPr>
              <p:grpSpPr>
                <a:xfrm>
                  <a:off x="6624720" y="5592600"/>
                  <a:ext cx="10080" cy="13680"/>
                  <a:chOff x="6624720" y="5592600"/>
                  <a:chExt cx="10080" cy="136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17773200">
                    <a:off x="6621840" y="559764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rot="17773200">
                    <a:off x="6623640" y="5598360"/>
                    <a:ext cx="12240" cy="144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7773200">
                    <a:off x="6625080" y="559944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5" name=""/>
                <p:cNvSpPr/>
                <p:nvPr/>
              </p:nvSpPr>
              <p:spPr>
                <a:xfrm rot="17773200">
                  <a:off x="6627240" y="5600160"/>
                  <a:ext cx="12240" cy="1440"/>
                </a:xfrm>
                <a:prstGeom prst="ellipse">
                  <a:avLst/>
                </a:prstGeom>
                <a:solidFill>
                  <a:srgbClr val="5f5f7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6614280" y="5605200"/>
                <a:ext cx="15480" cy="16200"/>
                <a:chOff x="6614280" y="5605200"/>
                <a:chExt cx="15480" cy="16200"/>
              </a:xfrm>
            </p:grpSpPr>
            <p:sp>
              <p:nvSpPr>
                <p:cNvPr id="397" name=""/>
                <p:cNvSpPr/>
                <p:nvPr/>
              </p:nvSpPr>
              <p:spPr>
                <a:xfrm rot="17773200">
                  <a:off x="6615000" y="5608080"/>
                  <a:ext cx="12240" cy="9360"/>
                </a:xfrm>
                <a:prstGeom prst="rect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17773200">
                  <a:off x="6613200" y="5610960"/>
                  <a:ext cx="12240" cy="1800"/>
                </a:xfrm>
                <a:prstGeom prst="ellipse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6617880" y="5607000"/>
                  <a:ext cx="10080" cy="13320"/>
                  <a:chOff x="6617880" y="5607000"/>
                  <a:chExt cx="10080" cy="133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17773200">
                    <a:off x="6615000" y="561204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17773200">
                    <a:off x="6616440" y="5612760"/>
                    <a:ext cx="12240" cy="144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7773200">
                    <a:off x="6618240" y="561348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3" name=""/>
                <p:cNvSpPr/>
                <p:nvPr/>
              </p:nvSpPr>
              <p:spPr>
                <a:xfrm rot="17773200">
                  <a:off x="6620040" y="5614560"/>
                  <a:ext cx="12240" cy="1440"/>
                </a:xfrm>
                <a:prstGeom prst="ellipse">
                  <a:avLst/>
                </a:prstGeom>
                <a:solidFill>
                  <a:srgbClr val="5f5f7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585120" y="5574960"/>
                <a:ext cx="43560" cy="43560"/>
                <a:chOff x="6585120" y="5574960"/>
                <a:chExt cx="43560" cy="43560"/>
              </a:xfrm>
            </p:grpSpPr>
            <p:sp>
              <p:nvSpPr>
                <p:cNvPr id="405" name=""/>
                <p:cNvSpPr/>
                <p:nvPr/>
              </p:nvSpPr>
              <p:spPr>
                <a:xfrm rot="17773200">
                  <a:off x="6590520" y="5580360"/>
                  <a:ext cx="32400" cy="32760"/>
                </a:xfrm>
                <a:custGeom>
                  <a:avLst/>
                  <a:gdLst/>
                  <a:ahLst/>
                  <a:rect l="l" t="t" r="r" b="b"/>
                  <a:pathLst>
                    <a:path w="222" h="281">
                      <a:moveTo>
                        <a:pt x="2" y="281"/>
                      </a:moveTo>
                      <a:lnTo>
                        <a:pt x="222" y="281"/>
                      </a:lnTo>
                      <a:lnTo>
                        <a:pt x="222" y="258"/>
                      </a:lnTo>
                      <a:lnTo>
                        <a:pt x="222" y="232"/>
                      </a:lnTo>
                      <a:lnTo>
                        <a:pt x="220" y="211"/>
                      </a:lnTo>
                      <a:lnTo>
                        <a:pt x="219" y="191"/>
                      </a:lnTo>
                      <a:lnTo>
                        <a:pt x="216" y="169"/>
                      </a:lnTo>
                      <a:lnTo>
                        <a:pt x="212" y="143"/>
                      </a:lnTo>
                      <a:lnTo>
                        <a:pt x="206" y="122"/>
                      </a:lnTo>
                      <a:lnTo>
                        <a:pt x="200" y="101"/>
                      </a:lnTo>
                      <a:lnTo>
                        <a:pt x="193" y="82"/>
                      </a:lnTo>
                      <a:lnTo>
                        <a:pt x="187" y="66"/>
                      </a:lnTo>
                      <a:lnTo>
                        <a:pt x="177" y="46"/>
                      </a:lnTo>
                      <a:lnTo>
                        <a:pt x="169" y="34"/>
                      </a:lnTo>
                      <a:lnTo>
                        <a:pt x="160" y="25"/>
                      </a:lnTo>
                      <a:lnTo>
                        <a:pt x="150" y="16"/>
                      </a:lnTo>
                      <a:lnTo>
                        <a:pt x="142" y="9"/>
                      </a:lnTo>
                      <a:lnTo>
                        <a:pt x="132" y="4"/>
                      </a:lnTo>
                      <a:lnTo>
                        <a:pt x="127" y="2"/>
                      </a:lnTo>
                      <a:lnTo>
                        <a:pt x="117" y="0"/>
                      </a:lnTo>
                      <a:lnTo>
                        <a:pt x="107" y="2"/>
                      </a:lnTo>
                      <a:lnTo>
                        <a:pt x="96" y="4"/>
                      </a:lnTo>
                      <a:lnTo>
                        <a:pt x="82" y="12"/>
                      </a:lnTo>
                      <a:lnTo>
                        <a:pt x="67" y="23"/>
                      </a:lnTo>
                      <a:lnTo>
                        <a:pt x="56" y="36"/>
                      </a:lnTo>
                      <a:lnTo>
                        <a:pt x="46" y="50"/>
                      </a:lnTo>
                      <a:lnTo>
                        <a:pt x="36" y="68"/>
                      </a:lnTo>
                      <a:lnTo>
                        <a:pt x="29" y="83"/>
                      </a:lnTo>
                      <a:lnTo>
                        <a:pt x="23" y="99"/>
                      </a:lnTo>
                      <a:lnTo>
                        <a:pt x="16" y="122"/>
                      </a:lnTo>
                      <a:lnTo>
                        <a:pt x="10" y="143"/>
                      </a:lnTo>
                      <a:lnTo>
                        <a:pt x="6" y="165"/>
                      </a:lnTo>
                      <a:lnTo>
                        <a:pt x="3" y="183"/>
                      </a:lnTo>
                      <a:lnTo>
                        <a:pt x="2" y="205"/>
                      </a:lnTo>
                      <a:lnTo>
                        <a:pt x="0" y="233"/>
                      </a:lnTo>
                      <a:lnTo>
                        <a:pt x="2" y="28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773200">
                  <a:off x="6599520" y="5578560"/>
                  <a:ext cx="15480" cy="32400"/>
                </a:xfrm>
                <a:custGeom>
                  <a:avLst/>
                  <a:gdLst/>
                  <a:ahLst/>
                  <a:rect l="l" t="t" r="r" b="b"/>
                  <a:pathLst>
                    <a:path w="105" h="279">
                      <a:moveTo>
                        <a:pt x="0" y="279"/>
                      </a:moveTo>
                      <a:lnTo>
                        <a:pt x="105" y="279"/>
                      </a:lnTo>
                      <a:lnTo>
                        <a:pt x="105" y="256"/>
                      </a:lnTo>
                      <a:lnTo>
                        <a:pt x="105" y="229"/>
                      </a:lnTo>
                      <a:lnTo>
                        <a:pt x="105" y="210"/>
                      </a:lnTo>
                      <a:lnTo>
                        <a:pt x="104" y="189"/>
                      </a:lnTo>
                      <a:lnTo>
                        <a:pt x="102" y="168"/>
                      </a:lnTo>
                      <a:lnTo>
                        <a:pt x="101" y="142"/>
                      </a:lnTo>
                      <a:lnTo>
                        <a:pt x="98" y="120"/>
                      </a:lnTo>
                      <a:lnTo>
                        <a:pt x="95" y="100"/>
                      </a:lnTo>
                      <a:lnTo>
                        <a:pt x="91" y="81"/>
                      </a:lnTo>
                      <a:lnTo>
                        <a:pt x="88" y="66"/>
                      </a:lnTo>
                      <a:lnTo>
                        <a:pt x="84" y="46"/>
                      </a:lnTo>
                      <a:lnTo>
                        <a:pt x="80" y="34"/>
                      </a:lnTo>
                      <a:lnTo>
                        <a:pt x="77" y="25"/>
                      </a:lnTo>
                      <a:lnTo>
                        <a:pt x="71" y="16"/>
                      </a:lnTo>
                      <a:lnTo>
                        <a:pt x="67" y="9"/>
                      </a:lnTo>
                      <a:lnTo>
                        <a:pt x="62" y="4"/>
                      </a:lnTo>
                      <a:lnTo>
                        <a:pt x="60" y="2"/>
                      </a:lnTo>
                      <a:lnTo>
                        <a:pt x="54" y="0"/>
                      </a:lnTo>
                      <a:lnTo>
                        <a:pt x="51" y="2"/>
                      </a:lnTo>
                      <a:lnTo>
                        <a:pt x="45" y="4"/>
                      </a:lnTo>
                      <a:lnTo>
                        <a:pt x="38" y="12"/>
                      </a:lnTo>
                      <a:lnTo>
                        <a:pt x="31" y="23"/>
                      </a:lnTo>
                      <a:lnTo>
                        <a:pt x="27" y="36"/>
                      </a:lnTo>
                      <a:lnTo>
                        <a:pt x="21" y="50"/>
                      </a:lnTo>
                      <a:lnTo>
                        <a:pt x="17" y="68"/>
                      </a:lnTo>
                      <a:lnTo>
                        <a:pt x="12" y="82"/>
                      </a:lnTo>
                      <a:lnTo>
                        <a:pt x="10" y="97"/>
                      </a:lnTo>
                      <a:lnTo>
                        <a:pt x="7" y="120"/>
                      </a:lnTo>
                      <a:lnTo>
                        <a:pt x="4" y="142"/>
                      </a:lnTo>
                      <a:lnTo>
                        <a:pt x="1" y="164"/>
                      </a:lnTo>
                      <a:lnTo>
                        <a:pt x="0" y="182"/>
                      </a:lnTo>
                      <a:lnTo>
                        <a:pt x="0" y="204"/>
                      </a:lnTo>
                      <a:lnTo>
                        <a:pt x="0" y="230"/>
                      </a:lnTo>
                      <a:lnTo>
                        <a:pt x="0" y="27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773200">
                  <a:off x="6590520" y="5580360"/>
                  <a:ext cx="32400" cy="32760"/>
                </a:xfrm>
                <a:custGeom>
                  <a:avLst/>
                  <a:gdLst/>
                  <a:ahLst/>
                  <a:rect l="l" t="t" r="r" b="b"/>
                  <a:pathLst>
                    <a:path w="221" h="281">
                      <a:moveTo>
                        <a:pt x="1" y="281"/>
                      </a:moveTo>
                      <a:lnTo>
                        <a:pt x="221" y="281"/>
                      </a:lnTo>
                      <a:lnTo>
                        <a:pt x="221" y="258"/>
                      </a:lnTo>
                      <a:lnTo>
                        <a:pt x="221" y="232"/>
                      </a:lnTo>
                      <a:lnTo>
                        <a:pt x="220" y="211"/>
                      </a:lnTo>
                      <a:lnTo>
                        <a:pt x="218" y="191"/>
                      </a:lnTo>
                      <a:lnTo>
                        <a:pt x="215" y="169"/>
                      </a:lnTo>
                      <a:lnTo>
                        <a:pt x="211" y="143"/>
                      </a:lnTo>
                      <a:lnTo>
                        <a:pt x="205" y="122"/>
                      </a:lnTo>
                      <a:lnTo>
                        <a:pt x="200" y="101"/>
                      </a:lnTo>
                      <a:lnTo>
                        <a:pt x="192" y="82"/>
                      </a:lnTo>
                      <a:lnTo>
                        <a:pt x="187" y="66"/>
                      </a:lnTo>
                      <a:lnTo>
                        <a:pt x="177" y="46"/>
                      </a:lnTo>
                      <a:lnTo>
                        <a:pt x="168" y="34"/>
                      </a:lnTo>
                      <a:lnTo>
                        <a:pt x="160" y="25"/>
                      </a:lnTo>
                      <a:lnTo>
                        <a:pt x="150" y="16"/>
                      </a:lnTo>
                      <a:lnTo>
                        <a:pt x="141" y="9"/>
                      </a:lnTo>
                      <a:lnTo>
                        <a:pt x="131" y="4"/>
                      </a:lnTo>
                      <a:lnTo>
                        <a:pt x="125" y="2"/>
                      </a:lnTo>
                      <a:lnTo>
                        <a:pt x="117" y="0"/>
                      </a:lnTo>
                      <a:lnTo>
                        <a:pt x="107" y="2"/>
                      </a:lnTo>
                      <a:lnTo>
                        <a:pt x="95" y="4"/>
                      </a:lnTo>
                      <a:lnTo>
                        <a:pt x="81" y="12"/>
                      </a:lnTo>
                      <a:lnTo>
                        <a:pt x="67" y="23"/>
                      </a:lnTo>
                      <a:lnTo>
                        <a:pt x="55" y="36"/>
                      </a:lnTo>
                      <a:lnTo>
                        <a:pt x="45" y="50"/>
                      </a:lnTo>
                      <a:lnTo>
                        <a:pt x="35" y="68"/>
                      </a:lnTo>
                      <a:lnTo>
                        <a:pt x="28" y="83"/>
                      </a:lnTo>
                      <a:lnTo>
                        <a:pt x="22" y="99"/>
                      </a:lnTo>
                      <a:lnTo>
                        <a:pt x="15" y="122"/>
                      </a:lnTo>
                      <a:lnTo>
                        <a:pt x="10" y="143"/>
                      </a:lnTo>
                      <a:lnTo>
                        <a:pt x="5" y="165"/>
                      </a:lnTo>
                      <a:lnTo>
                        <a:pt x="2" y="183"/>
                      </a:lnTo>
                      <a:lnTo>
                        <a:pt x="1" y="205"/>
                      </a:lnTo>
                      <a:lnTo>
                        <a:pt x="0" y="233"/>
                      </a:lnTo>
                      <a:lnTo>
                        <a:pt x="1" y="28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6645960" y="5513760"/>
              <a:ext cx="67680" cy="62640"/>
              <a:chOff x="6645960" y="5513760"/>
              <a:chExt cx="67680" cy="6264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6665400" y="5514120"/>
                <a:ext cx="48240" cy="62280"/>
                <a:chOff x="6665400" y="5514120"/>
                <a:chExt cx="48240" cy="6228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6665400" y="5514120"/>
                  <a:ext cx="39960" cy="61920"/>
                  <a:chOff x="6665400" y="5514120"/>
                  <a:chExt cx="39960" cy="619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7773200">
                    <a:off x="6653880" y="5538240"/>
                    <a:ext cx="626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0" h="115">
                        <a:moveTo>
                          <a:pt x="348" y="0"/>
                        </a:moveTo>
                        <a:lnTo>
                          <a:pt x="77" y="0"/>
                        </a:lnTo>
                        <a:lnTo>
                          <a:pt x="0" y="115"/>
                        </a:lnTo>
                        <a:lnTo>
                          <a:pt x="430" y="115"/>
                        </a:lnTo>
                        <a:lnTo>
                          <a:pt x="348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7773200">
                    <a:off x="6675840" y="5524560"/>
                    <a:ext cx="32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116">
                        <a:moveTo>
                          <a:pt x="138" y="1"/>
                        </a:moveTo>
                        <a:lnTo>
                          <a:pt x="2" y="0"/>
                        </a:lnTo>
                        <a:lnTo>
                          <a:pt x="0" y="116"/>
                        </a:lnTo>
                        <a:lnTo>
                          <a:pt x="220" y="116"/>
                        </a:lnTo>
                        <a:lnTo>
                          <a:pt x="138" y="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7773200">
                    <a:off x="6685560" y="5518440"/>
                    <a:ext cx="183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16">
                        <a:moveTo>
                          <a:pt x="43" y="1"/>
                        </a:moveTo>
                        <a:lnTo>
                          <a:pt x="0" y="0"/>
                        </a:lnTo>
                        <a:lnTo>
                          <a:pt x="1" y="116"/>
                        </a:lnTo>
                        <a:lnTo>
                          <a:pt x="125" y="116"/>
                        </a:lnTo>
                        <a:lnTo>
                          <a:pt x="43" y="1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7773200">
                    <a:off x="6666480" y="5558760"/>
                    <a:ext cx="172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15">
                        <a:moveTo>
                          <a:pt x="122" y="0"/>
                        </a:moveTo>
                        <a:lnTo>
                          <a:pt x="77" y="0"/>
                        </a:lnTo>
                        <a:lnTo>
                          <a:pt x="0" y="115"/>
                        </a:lnTo>
                        <a:lnTo>
                          <a:pt x="122" y="115"/>
                        </a:lnTo>
                        <a:lnTo>
                          <a:pt x="122" y="0"/>
                        </a:lnTo>
                        <a:close/>
                      </a:path>
                    </a:pathLst>
                  </a:cu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6676920" y="5525640"/>
                  <a:ext cx="19800" cy="33840"/>
                  <a:chOff x="6676920" y="5525640"/>
                  <a:chExt cx="19800" cy="33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rot="17773200">
                    <a:off x="6676920" y="5554800"/>
                    <a:ext cx="4680" cy="3600"/>
                  </a:xfrm>
                  <a:prstGeom prst="rect">
                    <a:avLst/>
                  </a:prstGeom>
                  <a:solidFill>
                    <a:srgbClr val="5f5f7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17773200">
                    <a:off x="6687360" y="55278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3">
                        <a:moveTo>
                          <a:pt x="64" y="53"/>
                        </a:moveTo>
                        <a:lnTo>
                          <a:pt x="31" y="0"/>
                        </a:lnTo>
                        <a:lnTo>
                          <a:pt x="0" y="0"/>
                        </a:lnTo>
                        <a:lnTo>
                          <a:pt x="28" y="53"/>
                        </a:lnTo>
                        <a:lnTo>
                          <a:pt x="64" y="53"/>
                        </a:lnTo>
                        <a:close/>
                      </a:path>
                    </a:pathLst>
                  </a:custGeom>
                  <a:solidFill>
                    <a:srgbClr val="5f5f7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17773200">
                  <a:off x="6673680" y="5545080"/>
                  <a:ext cx="46800" cy="14040"/>
                </a:xfrm>
                <a:custGeom>
                  <a:avLst/>
                  <a:gdLst/>
                  <a:ahLst/>
                  <a:rect l="l" t="t" r="r" b="b"/>
                  <a:pathLst>
                    <a:path w="321" h="123">
                      <a:moveTo>
                        <a:pt x="51" y="0"/>
                      </a:moveTo>
                      <a:lnTo>
                        <a:pt x="0" y="123"/>
                      </a:lnTo>
                      <a:lnTo>
                        <a:pt x="321" y="123"/>
                      </a:lnTo>
                      <a:lnTo>
                        <a:pt x="279" y="0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645960" y="5513760"/>
                <a:ext cx="41400" cy="47160"/>
                <a:chOff x="6645960" y="5513760"/>
                <a:chExt cx="41400" cy="4716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6645960" y="5514120"/>
                  <a:ext cx="41400" cy="46800"/>
                  <a:chOff x="6645960" y="5514120"/>
                  <a:chExt cx="41400" cy="4680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17773200">
                    <a:off x="6638400" y="5529240"/>
                    <a:ext cx="39240" cy="792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17773200">
                    <a:off x="6646320" y="5532840"/>
                    <a:ext cx="39240" cy="828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17773200">
                    <a:off x="6654600" y="5536800"/>
                    <a:ext cx="39240" cy="9000"/>
                  </a:xfrm>
                  <a:prstGeom prst="rect">
                    <a:avLst/>
                  </a:prstGeom>
                  <a:solidFill>
                    <a:srgbClr val="9f9fb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647760" y="5517000"/>
                  <a:ext cx="38160" cy="39960"/>
                  <a:chOff x="6647760" y="5517000"/>
                  <a:chExt cx="38160" cy="3996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17773200">
                    <a:off x="6642720" y="5528520"/>
                    <a:ext cx="31320" cy="864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17773200">
                    <a:off x="6650280" y="5532120"/>
                    <a:ext cx="31320" cy="900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17773200">
                    <a:off x="6658920" y="5536080"/>
                    <a:ext cx="31320" cy="936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648840" y="5531760"/>
                  <a:ext cx="29880" cy="23040"/>
                  <a:chOff x="6648840" y="5531760"/>
                  <a:chExt cx="29880" cy="2304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17773200">
                    <a:off x="6648840" y="5534640"/>
                    <a:ext cx="12600" cy="864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17773200">
                    <a:off x="6656760" y="5538600"/>
                    <a:ext cx="12600" cy="900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17773200">
                    <a:off x="6665040" y="5542560"/>
                    <a:ext cx="12600" cy="9360"/>
                  </a:xfrm>
                  <a:prstGeom prst="rect">
                    <a:avLst/>
                  </a:pr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6645960" y="5513760"/>
                  <a:ext cx="40680" cy="46800"/>
                  <a:chOff x="6645960" y="5513760"/>
                  <a:chExt cx="40680" cy="468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17773200">
                    <a:off x="6638760" y="5528880"/>
                    <a:ext cx="38880" cy="82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17773200">
                    <a:off x="6646680" y="5532840"/>
                    <a:ext cx="38880" cy="828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rot="17773200">
                    <a:off x="6654600" y="5536440"/>
                    <a:ext cx="38880" cy="8640"/>
                  </a:xfrm>
                  <a:prstGeom prst="rect">
                    <a:avLst/>
                  </a:prstGeom>
                  <a:noFill/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6" name=""/>
            <p:cNvGrpSpPr/>
            <p:nvPr/>
          </p:nvGrpSpPr>
          <p:grpSpPr>
            <a:xfrm>
              <a:off x="6471360" y="5403240"/>
              <a:ext cx="208440" cy="180720"/>
              <a:chOff x="6471360" y="5403240"/>
              <a:chExt cx="208440" cy="180720"/>
            </a:xfrm>
          </p:grpSpPr>
          <p:sp>
            <p:nvSpPr>
              <p:cNvPr id="437" name=""/>
              <p:cNvSpPr/>
              <p:nvPr/>
            </p:nvSpPr>
            <p:spPr>
              <a:xfrm rot="17773200">
                <a:off x="6517800" y="5405400"/>
                <a:ext cx="114840" cy="175680"/>
              </a:xfrm>
              <a:custGeom>
                <a:avLst/>
                <a:gdLst/>
                <a:ahLst/>
                <a:rect l="l" t="t" r="r" b="b"/>
                <a:pathLst>
                  <a:path w="783" h="1510">
                    <a:moveTo>
                      <a:pt x="169" y="1510"/>
                    </a:moveTo>
                    <a:lnTo>
                      <a:pt x="0" y="1510"/>
                    </a:lnTo>
                    <a:lnTo>
                      <a:pt x="0" y="65"/>
                    </a:lnTo>
                    <a:lnTo>
                      <a:pt x="169" y="0"/>
                    </a:lnTo>
                    <a:lnTo>
                      <a:pt x="186" y="95"/>
                    </a:lnTo>
                    <a:lnTo>
                      <a:pt x="203" y="187"/>
                    </a:lnTo>
                    <a:lnTo>
                      <a:pt x="217" y="286"/>
                    </a:lnTo>
                    <a:lnTo>
                      <a:pt x="230" y="371"/>
                    </a:lnTo>
                    <a:lnTo>
                      <a:pt x="245" y="480"/>
                    </a:lnTo>
                    <a:lnTo>
                      <a:pt x="255" y="566"/>
                    </a:lnTo>
                    <a:lnTo>
                      <a:pt x="263" y="615"/>
                    </a:lnTo>
                    <a:lnTo>
                      <a:pt x="276" y="668"/>
                    </a:lnTo>
                    <a:lnTo>
                      <a:pt x="289" y="710"/>
                    </a:lnTo>
                    <a:lnTo>
                      <a:pt x="303" y="746"/>
                    </a:lnTo>
                    <a:lnTo>
                      <a:pt x="319" y="772"/>
                    </a:lnTo>
                    <a:lnTo>
                      <a:pt x="333" y="796"/>
                    </a:lnTo>
                    <a:lnTo>
                      <a:pt x="349" y="818"/>
                    </a:lnTo>
                    <a:lnTo>
                      <a:pt x="379" y="852"/>
                    </a:lnTo>
                    <a:lnTo>
                      <a:pt x="412" y="887"/>
                    </a:lnTo>
                    <a:lnTo>
                      <a:pt x="463" y="933"/>
                    </a:lnTo>
                    <a:lnTo>
                      <a:pt x="532" y="998"/>
                    </a:lnTo>
                    <a:lnTo>
                      <a:pt x="605" y="1063"/>
                    </a:lnTo>
                    <a:lnTo>
                      <a:pt x="656" y="1105"/>
                    </a:lnTo>
                    <a:lnTo>
                      <a:pt x="672" y="1124"/>
                    </a:lnTo>
                    <a:lnTo>
                      <a:pt x="701" y="1151"/>
                    </a:lnTo>
                    <a:lnTo>
                      <a:pt x="728" y="1184"/>
                    </a:lnTo>
                    <a:lnTo>
                      <a:pt x="743" y="1213"/>
                    </a:lnTo>
                    <a:lnTo>
                      <a:pt x="758" y="1250"/>
                    </a:lnTo>
                    <a:lnTo>
                      <a:pt x="771" y="1303"/>
                    </a:lnTo>
                    <a:lnTo>
                      <a:pt x="779" y="1376"/>
                    </a:lnTo>
                    <a:lnTo>
                      <a:pt x="783" y="1441"/>
                    </a:lnTo>
                    <a:lnTo>
                      <a:pt x="169" y="151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6534720" y="5436360"/>
                <a:ext cx="127800" cy="115560"/>
                <a:chOff x="6534720" y="5436360"/>
                <a:chExt cx="127800" cy="11556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536880" y="5436360"/>
                  <a:ext cx="125640" cy="115560"/>
                  <a:chOff x="6536880" y="5436360"/>
                  <a:chExt cx="125640" cy="115560"/>
                </a:xfrm>
              </p:grpSpPr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6536880" y="5436360"/>
                    <a:ext cx="122400" cy="113760"/>
                    <a:chOff x="6536880" y="5436360"/>
                    <a:chExt cx="122400" cy="113760"/>
                  </a:xfrm>
                </p:grpSpPr>
                <p:sp>
                  <p:nvSpPr>
                    <p:cNvPr id="441" name=""/>
                    <p:cNvSpPr/>
                    <p:nvPr/>
                  </p:nvSpPr>
                  <p:spPr>
                    <a:xfrm flipH="1">
                      <a:off x="6620760" y="5472000"/>
                      <a:ext cx="38520" cy="781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6619680" y="5470920"/>
                      <a:ext cx="38520" cy="784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>
                      <a:off x="6617880" y="5470200"/>
                      <a:ext cx="38880" cy="784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17773200">
                      <a:off x="6557040" y="5444280"/>
                      <a:ext cx="756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2" h="792">
                          <a:moveTo>
                            <a:pt x="512" y="792"/>
                          </a:moveTo>
                          <a:lnTo>
                            <a:pt x="503" y="758"/>
                          </a:lnTo>
                          <a:lnTo>
                            <a:pt x="493" y="728"/>
                          </a:lnTo>
                          <a:lnTo>
                            <a:pt x="482" y="705"/>
                          </a:lnTo>
                          <a:lnTo>
                            <a:pt x="468" y="682"/>
                          </a:lnTo>
                          <a:lnTo>
                            <a:pt x="450" y="661"/>
                          </a:lnTo>
                          <a:lnTo>
                            <a:pt x="427" y="638"/>
                          </a:lnTo>
                          <a:lnTo>
                            <a:pt x="397" y="607"/>
                          </a:lnTo>
                          <a:lnTo>
                            <a:pt x="362" y="576"/>
                          </a:lnTo>
                          <a:lnTo>
                            <a:pt x="323" y="544"/>
                          </a:lnTo>
                          <a:lnTo>
                            <a:pt x="277" y="503"/>
                          </a:lnTo>
                          <a:lnTo>
                            <a:pt x="233" y="461"/>
                          </a:lnTo>
                          <a:lnTo>
                            <a:pt x="196" y="427"/>
                          </a:lnTo>
                          <a:lnTo>
                            <a:pt x="163" y="396"/>
                          </a:lnTo>
                          <a:lnTo>
                            <a:pt x="136" y="369"/>
                          </a:lnTo>
                          <a:lnTo>
                            <a:pt x="120" y="350"/>
                          </a:lnTo>
                          <a:lnTo>
                            <a:pt x="102" y="331"/>
                          </a:lnTo>
                          <a:lnTo>
                            <a:pt x="89" y="313"/>
                          </a:lnTo>
                          <a:lnTo>
                            <a:pt x="73" y="289"/>
                          </a:lnTo>
                          <a:lnTo>
                            <a:pt x="57" y="262"/>
                          </a:lnTo>
                          <a:lnTo>
                            <a:pt x="44" y="233"/>
                          </a:lnTo>
                          <a:lnTo>
                            <a:pt x="33" y="199"/>
                          </a:lnTo>
                          <a:lnTo>
                            <a:pt x="23" y="165"/>
                          </a:lnTo>
                          <a:lnTo>
                            <a:pt x="16" y="128"/>
                          </a:lnTo>
                          <a:lnTo>
                            <a:pt x="10" y="89"/>
                          </a:lnTo>
                          <a:lnTo>
                            <a:pt x="4" y="52"/>
                          </a:lnTo>
                          <a:lnTo>
                            <a:pt x="0" y="18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5" name=""/>
                  <p:cNvSpPr/>
                  <p:nvPr/>
                </p:nvSpPr>
                <p:spPr>
                  <a:xfrm rot="17773200">
                    <a:off x="6597720" y="5510160"/>
                    <a:ext cx="878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597" h="27">
                        <a:moveTo>
                          <a:pt x="597" y="0"/>
                        </a:moveTo>
                        <a:lnTo>
                          <a:pt x="597" y="27"/>
                        </a:lnTo>
                        <a:lnTo>
                          <a:pt x="0" y="27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rot="17773200">
                    <a:off x="6648840" y="5500800"/>
                    <a:ext cx="28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46">
                        <a:moveTo>
                          <a:pt x="20" y="142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46"/>
                        </a:lnTo>
                        <a:lnTo>
                          <a:pt x="20" y="1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 flipH="1">
                  <a:off x="6534720" y="5499000"/>
                  <a:ext cx="4680" cy="9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8" name=""/>
            <p:cNvGrpSpPr/>
            <p:nvPr/>
          </p:nvGrpSpPr>
          <p:grpSpPr>
            <a:xfrm>
              <a:off x="6603120" y="5534640"/>
              <a:ext cx="51840" cy="47160"/>
              <a:chOff x="6603120" y="5534640"/>
              <a:chExt cx="51840" cy="47160"/>
            </a:xfrm>
          </p:grpSpPr>
          <p:grpSp>
            <p:nvGrpSpPr>
              <p:cNvPr id="449" name=""/>
              <p:cNvGrpSpPr/>
              <p:nvPr/>
            </p:nvGrpSpPr>
            <p:grpSpPr>
              <a:xfrm>
                <a:off x="6634080" y="5557320"/>
                <a:ext cx="20880" cy="23400"/>
                <a:chOff x="6634080" y="5557320"/>
                <a:chExt cx="20880" cy="23400"/>
              </a:xfrm>
            </p:grpSpPr>
            <p:sp>
              <p:nvSpPr>
                <p:cNvPr id="450" name=""/>
                <p:cNvSpPr/>
                <p:nvPr/>
              </p:nvSpPr>
              <p:spPr>
                <a:xfrm rot="17773200">
                  <a:off x="6634080" y="5562360"/>
                  <a:ext cx="19080" cy="12240"/>
                </a:xfrm>
                <a:custGeom>
                  <a:avLst/>
                  <a:gdLst/>
                  <a:ahLst/>
                  <a:rect l="l" t="t" r="r" b="b"/>
                  <a:pathLst>
                    <a:path w="131" h="109">
                      <a:moveTo>
                        <a:pt x="131" y="109"/>
                      </a:moveTo>
                      <a:lnTo>
                        <a:pt x="105" y="0"/>
                      </a:lnTo>
                      <a:lnTo>
                        <a:pt x="25" y="0"/>
                      </a:lnTo>
                      <a:lnTo>
                        <a:pt x="0" y="109"/>
                      </a:lnTo>
                      <a:lnTo>
                        <a:pt x="131" y="109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7773200">
                  <a:off x="6639840" y="5569920"/>
                  <a:ext cx="18720" cy="3240"/>
                </a:xfrm>
                <a:prstGeom prst="ellipse">
                  <a:avLst/>
                </a:prstGeom>
                <a:solidFill>
                  <a:srgbClr val="7f7f9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631920" y="5565600"/>
                <a:ext cx="16200" cy="16200"/>
                <a:chOff x="6631920" y="5565600"/>
                <a:chExt cx="16200" cy="16200"/>
              </a:xfrm>
            </p:grpSpPr>
            <p:sp>
              <p:nvSpPr>
                <p:cNvPr id="453" name=""/>
                <p:cNvSpPr/>
                <p:nvPr/>
              </p:nvSpPr>
              <p:spPr>
                <a:xfrm rot="17773200">
                  <a:off x="6633000" y="5568120"/>
                  <a:ext cx="12240" cy="10080"/>
                </a:xfrm>
                <a:prstGeom prst="rect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7773200">
                  <a:off x="6630840" y="5571720"/>
                  <a:ext cx="12240" cy="1800"/>
                </a:xfrm>
                <a:prstGeom prst="ellipse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6635520" y="5567400"/>
                  <a:ext cx="10440" cy="13680"/>
                  <a:chOff x="6635520" y="5567400"/>
                  <a:chExt cx="10440" cy="136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7773200">
                    <a:off x="6632640" y="557244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17773200">
                    <a:off x="6634440" y="5573160"/>
                    <a:ext cx="12240" cy="2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rot="17773200">
                    <a:off x="6636240" y="5573880"/>
                    <a:ext cx="12240" cy="216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 rot="17773200">
                  <a:off x="6638040" y="5574960"/>
                  <a:ext cx="12240" cy="1800"/>
                </a:xfrm>
                <a:prstGeom prst="ellipse">
                  <a:avLst/>
                </a:prstGeom>
                <a:solidFill>
                  <a:srgbClr val="5f5f7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638760" y="5551560"/>
                <a:ext cx="16200" cy="16200"/>
                <a:chOff x="6638760" y="5551560"/>
                <a:chExt cx="16200" cy="16200"/>
              </a:xfrm>
            </p:grpSpPr>
            <p:sp>
              <p:nvSpPr>
                <p:cNvPr id="461" name=""/>
                <p:cNvSpPr/>
                <p:nvPr/>
              </p:nvSpPr>
              <p:spPr>
                <a:xfrm rot="17773200">
                  <a:off x="6639840" y="5554080"/>
                  <a:ext cx="12240" cy="10080"/>
                </a:xfrm>
                <a:prstGeom prst="rect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rot="17773200">
                  <a:off x="6637680" y="5557320"/>
                  <a:ext cx="12240" cy="1800"/>
                </a:xfrm>
                <a:prstGeom prst="ellipse">
                  <a:avLst/>
                </a:prstGeom>
                <a:solidFill>
                  <a:srgbClr val="dfd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6642720" y="5553360"/>
                  <a:ext cx="10080" cy="13680"/>
                  <a:chOff x="6642720" y="5553360"/>
                  <a:chExt cx="10080" cy="1368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rot="17773200">
                    <a:off x="6639840" y="5558400"/>
                    <a:ext cx="12240" cy="144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rot="17773200">
                    <a:off x="6641280" y="5559120"/>
                    <a:ext cx="12240" cy="2160"/>
                  </a:xfrm>
                  <a:prstGeom prst="ellipse">
                    <a:avLst/>
                  </a:pr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7773200">
                    <a:off x="6643080" y="5559840"/>
                    <a:ext cx="12240" cy="216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rot="17773200">
                  <a:off x="6644880" y="5560920"/>
                  <a:ext cx="12240" cy="1800"/>
                </a:xfrm>
                <a:prstGeom prst="ellipse">
                  <a:avLst/>
                </a:prstGeom>
                <a:solidFill>
                  <a:srgbClr val="5f5f7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03120" y="5534640"/>
                <a:ext cx="43560" cy="43920"/>
                <a:chOff x="6603120" y="5534640"/>
                <a:chExt cx="43560" cy="43920"/>
              </a:xfrm>
            </p:grpSpPr>
            <p:sp>
              <p:nvSpPr>
                <p:cNvPr id="469" name=""/>
                <p:cNvSpPr/>
                <p:nvPr/>
              </p:nvSpPr>
              <p:spPr>
                <a:xfrm rot="17773200">
                  <a:off x="6608520" y="5540040"/>
                  <a:ext cx="32400" cy="32400"/>
                </a:xfrm>
                <a:custGeom>
                  <a:avLst/>
                  <a:gdLst/>
                  <a:ahLst/>
                  <a:rect l="l" t="t" r="r" b="b"/>
                  <a:pathLst>
                    <a:path w="222" h="281">
                      <a:moveTo>
                        <a:pt x="220" y="281"/>
                      </a:moveTo>
                      <a:lnTo>
                        <a:pt x="0" y="281"/>
                      </a:lnTo>
                      <a:lnTo>
                        <a:pt x="0" y="258"/>
                      </a:lnTo>
                      <a:lnTo>
                        <a:pt x="0" y="231"/>
                      </a:lnTo>
                      <a:lnTo>
                        <a:pt x="2" y="210"/>
                      </a:lnTo>
                      <a:lnTo>
                        <a:pt x="3" y="190"/>
                      </a:lnTo>
                      <a:lnTo>
                        <a:pt x="6" y="168"/>
                      </a:lnTo>
                      <a:lnTo>
                        <a:pt x="10" y="143"/>
                      </a:lnTo>
                      <a:lnTo>
                        <a:pt x="16" y="121"/>
                      </a:lnTo>
                      <a:lnTo>
                        <a:pt x="22" y="101"/>
                      </a:lnTo>
                      <a:lnTo>
                        <a:pt x="29" y="81"/>
                      </a:lnTo>
                      <a:lnTo>
                        <a:pt x="34" y="65"/>
                      </a:lnTo>
                      <a:lnTo>
                        <a:pt x="44" y="46"/>
                      </a:lnTo>
                      <a:lnTo>
                        <a:pt x="53" y="33"/>
                      </a:lnTo>
                      <a:lnTo>
                        <a:pt x="62" y="24"/>
                      </a:lnTo>
                      <a:lnTo>
                        <a:pt x="72" y="15"/>
                      </a:lnTo>
                      <a:lnTo>
                        <a:pt x="80" y="9"/>
                      </a:lnTo>
                      <a:lnTo>
                        <a:pt x="89" y="3"/>
                      </a:lnTo>
                      <a:lnTo>
                        <a:pt x="94" y="1"/>
                      </a:lnTo>
                      <a:lnTo>
                        <a:pt x="104" y="0"/>
                      </a:lnTo>
                      <a:lnTo>
                        <a:pt x="114" y="1"/>
                      </a:lnTo>
                      <a:lnTo>
                        <a:pt x="126" y="3"/>
                      </a:lnTo>
                      <a:lnTo>
                        <a:pt x="140" y="11"/>
                      </a:lnTo>
                      <a:lnTo>
                        <a:pt x="154" y="23"/>
                      </a:lnTo>
                      <a:lnTo>
                        <a:pt x="166" y="35"/>
                      </a:lnTo>
                      <a:lnTo>
                        <a:pt x="176" y="49"/>
                      </a:lnTo>
                      <a:lnTo>
                        <a:pt x="186" y="67"/>
                      </a:lnTo>
                      <a:lnTo>
                        <a:pt x="193" y="83"/>
                      </a:lnTo>
                      <a:lnTo>
                        <a:pt x="199" y="98"/>
                      </a:lnTo>
                      <a:lnTo>
                        <a:pt x="206" y="121"/>
                      </a:lnTo>
                      <a:lnTo>
                        <a:pt x="212" y="143"/>
                      </a:lnTo>
                      <a:lnTo>
                        <a:pt x="216" y="164"/>
                      </a:lnTo>
                      <a:lnTo>
                        <a:pt x="219" y="182"/>
                      </a:lnTo>
                      <a:lnTo>
                        <a:pt x="220" y="204"/>
                      </a:lnTo>
                      <a:lnTo>
                        <a:pt x="222" y="232"/>
                      </a:lnTo>
                      <a:lnTo>
                        <a:pt x="220" y="28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7773200">
                  <a:off x="6616080" y="5542560"/>
                  <a:ext cx="15120" cy="32040"/>
                </a:xfrm>
                <a:custGeom>
                  <a:avLst/>
                  <a:gdLst/>
                  <a:ahLst/>
                  <a:rect l="l" t="t" r="r" b="b"/>
                  <a:pathLst>
                    <a:path w="105" h="278">
                      <a:moveTo>
                        <a:pt x="105" y="278"/>
                      </a:moveTo>
                      <a:lnTo>
                        <a:pt x="0" y="278"/>
                      </a:lnTo>
                      <a:lnTo>
                        <a:pt x="0" y="255"/>
                      </a:lnTo>
                      <a:lnTo>
                        <a:pt x="0" y="228"/>
                      </a:lnTo>
                      <a:lnTo>
                        <a:pt x="0" y="209"/>
                      </a:lnTo>
                      <a:lnTo>
                        <a:pt x="1" y="189"/>
                      </a:lnTo>
                      <a:lnTo>
                        <a:pt x="2" y="167"/>
                      </a:lnTo>
                      <a:lnTo>
                        <a:pt x="4" y="141"/>
                      </a:lnTo>
                      <a:lnTo>
                        <a:pt x="7" y="120"/>
                      </a:lnTo>
                      <a:lnTo>
                        <a:pt x="10" y="99"/>
                      </a:lnTo>
                      <a:lnTo>
                        <a:pt x="14" y="80"/>
                      </a:lnTo>
                      <a:lnTo>
                        <a:pt x="17" y="65"/>
                      </a:lnTo>
                      <a:lnTo>
                        <a:pt x="21" y="46"/>
                      </a:lnTo>
                      <a:lnTo>
                        <a:pt x="25" y="33"/>
                      </a:lnTo>
                      <a:lnTo>
                        <a:pt x="28" y="24"/>
                      </a:lnTo>
                      <a:lnTo>
                        <a:pt x="34" y="15"/>
                      </a:lnTo>
                      <a:lnTo>
                        <a:pt x="38" y="9"/>
                      </a:lnTo>
                      <a:lnTo>
                        <a:pt x="42" y="3"/>
                      </a:lnTo>
                      <a:lnTo>
                        <a:pt x="45" y="1"/>
                      </a:lnTo>
                      <a:lnTo>
                        <a:pt x="50" y="0"/>
                      </a:lnTo>
                      <a:lnTo>
                        <a:pt x="54" y="1"/>
                      </a:lnTo>
                      <a:lnTo>
                        <a:pt x="60" y="3"/>
                      </a:lnTo>
                      <a:lnTo>
                        <a:pt x="67" y="11"/>
                      </a:lnTo>
                      <a:lnTo>
                        <a:pt x="74" y="23"/>
                      </a:lnTo>
                      <a:lnTo>
                        <a:pt x="80" y="35"/>
                      </a:lnTo>
                      <a:lnTo>
                        <a:pt x="84" y="49"/>
                      </a:lnTo>
                      <a:lnTo>
                        <a:pt x="88" y="67"/>
                      </a:lnTo>
                      <a:lnTo>
                        <a:pt x="92" y="81"/>
                      </a:lnTo>
                      <a:lnTo>
                        <a:pt x="95" y="97"/>
                      </a:lnTo>
                      <a:lnTo>
                        <a:pt x="98" y="120"/>
                      </a:lnTo>
                      <a:lnTo>
                        <a:pt x="101" y="141"/>
                      </a:lnTo>
                      <a:lnTo>
                        <a:pt x="104" y="163"/>
                      </a:lnTo>
                      <a:lnTo>
                        <a:pt x="105" y="181"/>
                      </a:lnTo>
                      <a:lnTo>
                        <a:pt x="105" y="203"/>
                      </a:lnTo>
                      <a:lnTo>
                        <a:pt x="105" y="230"/>
                      </a:lnTo>
                      <a:lnTo>
                        <a:pt x="105" y="27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773200">
                  <a:off x="6608520" y="5540400"/>
                  <a:ext cx="32400" cy="32400"/>
                </a:xfrm>
                <a:custGeom>
                  <a:avLst/>
                  <a:gdLst/>
                  <a:ahLst/>
                  <a:rect l="l" t="t" r="r" b="b"/>
                  <a:pathLst>
                    <a:path w="221" h="281">
                      <a:moveTo>
                        <a:pt x="220" y="281"/>
                      </a:moveTo>
                      <a:lnTo>
                        <a:pt x="0" y="281"/>
                      </a:lnTo>
                      <a:lnTo>
                        <a:pt x="0" y="258"/>
                      </a:lnTo>
                      <a:lnTo>
                        <a:pt x="0" y="231"/>
                      </a:lnTo>
                      <a:lnTo>
                        <a:pt x="1" y="210"/>
                      </a:lnTo>
                      <a:lnTo>
                        <a:pt x="3" y="190"/>
                      </a:lnTo>
                      <a:lnTo>
                        <a:pt x="5" y="168"/>
                      </a:lnTo>
                      <a:lnTo>
                        <a:pt x="10" y="143"/>
                      </a:lnTo>
                      <a:lnTo>
                        <a:pt x="15" y="121"/>
                      </a:lnTo>
                      <a:lnTo>
                        <a:pt x="21" y="101"/>
                      </a:lnTo>
                      <a:lnTo>
                        <a:pt x="28" y="81"/>
                      </a:lnTo>
                      <a:lnTo>
                        <a:pt x="34" y="65"/>
                      </a:lnTo>
                      <a:lnTo>
                        <a:pt x="44" y="46"/>
                      </a:lnTo>
                      <a:lnTo>
                        <a:pt x="53" y="33"/>
                      </a:lnTo>
                      <a:lnTo>
                        <a:pt x="61" y="24"/>
                      </a:lnTo>
                      <a:lnTo>
                        <a:pt x="71" y="15"/>
                      </a:lnTo>
                      <a:lnTo>
                        <a:pt x="80" y="9"/>
                      </a:lnTo>
                      <a:lnTo>
                        <a:pt x="90" y="3"/>
                      </a:lnTo>
                      <a:lnTo>
                        <a:pt x="94" y="1"/>
                      </a:lnTo>
                      <a:lnTo>
                        <a:pt x="104" y="0"/>
                      </a:lnTo>
                      <a:lnTo>
                        <a:pt x="114" y="1"/>
                      </a:lnTo>
                      <a:lnTo>
                        <a:pt x="125" y="3"/>
                      </a:lnTo>
                      <a:lnTo>
                        <a:pt x="140" y="11"/>
                      </a:lnTo>
                      <a:lnTo>
                        <a:pt x="154" y="23"/>
                      </a:lnTo>
                      <a:lnTo>
                        <a:pt x="165" y="35"/>
                      </a:lnTo>
                      <a:lnTo>
                        <a:pt x="175" y="49"/>
                      </a:lnTo>
                      <a:lnTo>
                        <a:pt x="185" y="67"/>
                      </a:lnTo>
                      <a:lnTo>
                        <a:pt x="193" y="83"/>
                      </a:lnTo>
                      <a:lnTo>
                        <a:pt x="198" y="98"/>
                      </a:lnTo>
                      <a:lnTo>
                        <a:pt x="205" y="121"/>
                      </a:lnTo>
                      <a:lnTo>
                        <a:pt x="211" y="143"/>
                      </a:lnTo>
                      <a:lnTo>
                        <a:pt x="215" y="164"/>
                      </a:lnTo>
                      <a:lnTo>
                        <a:pt x="218" y="182"/>
                      </a:lnTo>
                      <a:lnTo>
                        <a:pt x="220" y="204"/>
                      </a:lnTo>
                      <a:lnTo>
                        <a:pt x="221" y="232"/>
                      </a:lnTo>
                      <a:lnTo>
                        <a:pt x="220" y="281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2" name=""/>
            <p:cNvSpPr/>
            <p:nvPr/>
          </p:nvSpPr>
          <p:spPr>
            <a:xfrm rot="17773200">
              <a:off x="6621480" y="5554440"/>
              <a:ext cx="8640" cy="55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7773200">
              <a:off x="6518520" y="5480640"/>
              <a:ext cx="50400" cy="122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488640" y="5514480"/>
              <a:ext cx="111240" cy="55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562440" y="5532480"/>
              <a:ext cx="23400" cy="4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534720" y="5517360"/>
              <a:ext cx="23040" cy="4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06640" y="5505120"/>
              <a:ext cx="23040" cy="4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585480" y="5544000"/>
              <a:ext cx="22680" cy="47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6425640" y="5465880"/>
              <a:ext cx="75240" cy="72360"/>
              <a:chOff x="6425640" y="5465880"/>
              <a:chExt cx="75240" cy="72360"/>
            </a:xfrm>
          </p:grpSpPr>
          <p:sp>
            <p:nvSpPr>
              <p:cNvPr id="480" name=""/>
              <p:cNvSpPr/>
              <p:nvPr/>
            </p:nvSpPr>
            <p:spPr>
              <a:xfrm rot="17773200">
                <a:off x="6436800" y="5473080"/>
                <a:ext cx="52200" cy="57600"/>
              </a:xfrm>
              <a:custGeom>
                <a:avLst/>
                <a:gdLst/>
                <a:ahLst/>
                <a:rect l="l" t="t" r="r" b="b"/>
                <a:pathLst>
                  <a:path w="357" h="497">
                    <a:moveTo>
                      <a:pt x="357" y="497"/>
                    </a:moveTo>
                    <a:lnTo>
                      <a:pt x="357" y="436"/>
                    </a:lnTo>
                    <a:lnTo>
                      <a:pt x="347" y="347"/>
                    </a:lnTo>
                    <a:lnTo>
                      <a:pt x="337" y="280"/>
                    </a:lnTo>
                    <a:lnTo>
                      <a:pt x="325" y="218"/>
                    </a:lnTo>
                    <a:lnTo>
                      <a:pt x="311" y="168"/>
                    </a:lnTo>
                    <a:lnTo>
                      <a:pt x="297" y="123"/>
                    </a:lnTo>
                    <a:lnTo>
                      <a:pt x="278" y="83"/>
                    </a:lnTo>
                    <a:lnTo>
                      <a:pt x="261" y="58"/>
                    </a:lnTo>
                    <a:lnTo>
                      <a:pt x="240" y="31"/>
                    </a:lnTo>
                    <a:lnTo>
                      <a:pt x="220" y="13"/>
                    </a:lnTo>
                    <a:lnTo>
                      <a:pt x="207" y="7"/>
                    </a:lnTo>
                    <a:lnTo>
                      <a:pt x="197" y="3"/>
                    </a:lnTo>
                    <a:lnTo>
                      <a:pt x="177" y="0"/>
                    </a:lnTo>
                    <a:lnTo>
                      <a:pt x="158" y="5"/>
                    </a:lnTo>
                    <a:lnTo>
                      <a:pt x="138" y="14"/>
                    </a:lnTo>
                    <a:lnTo>
                      <a:pt x="120" y="28"/>
                    </a:lnTo>
                    <a:lnTo>
                      <a:pt x="97" y="57"/>
                    </a:lnTo>
                    <a:lnTo>
                      <a:pt x="85" y="74"/>
                    </a:lnTo>
                    <a:lnTo>
                      <a:pt x="64" y="118"/>
                    </a:lnTo>
                    <a:lnTo>
                      <a:pt x="47" y="165"/>
                    </a:lnTo>
                    <a:lnTo>
                      <a:pt x="32" y="223"/>
                    </a:lnTo>
                    <a:lnTo>
                      <a:pt x="18" y="284"/>
                    </a:lnTo>
                    <a:lnTo>
                      <a:pt x="8" y="357"/>
                    </a:lnTo>
                    <a:lnTo>
                      <a:pt x="0" y="439"/>
                    </a:lnTo>
                    <a:lnTo>
                      <a:pt x="0" y="497"/>
                    </a:lnTo>
                    <a:lnTo>
                      <a:pt x="357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7773200">
                <a:off x="6429600" y="549000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219" h="57">
                    <a:moveTo>
                      <a:pt x="203" y="20"/>
                    </a:moveTo>
                    <a:lnTo>
                      <a:pt x="173" y="11"/>
                    </a:lnTo>
                    <a:lnTo>
                      <a:pt x="143" y="4"/>
                    </a:lnTo>
                    <a:lnTo>
                      <a:pt x="109" y="0"/>
                    </a:lnTo>
                    <a:lnTo>
                      <a:pt x="84" y="2"/>
                    </a:lnTo>
                    <a:lnTo>
                      <a:pt x="67" y="6"/>
                    </a:lnTo>
                    <a:lnTo>
                      <a:pt x="50" y="11"/>
                    </a:lnTo>
                    <a:lnTo>
                      <a:pt x="20" y="20"/>
                    </a:lnTo>
                    <a:lnTo>
                      <a:pt x="0" y="57"/>
                    </a:lnTo>
                    <a:lnTo>
                      <a:pt x="32" y="43"/>
                    </a:lnTo>
                    <a:lnTo>
                      <a:pt x="70" y="30"/>
                    </a:lnTo>
                    <a:lnTo>
                      <a:pt x="96" y="27"/>
                    </a:lnTo>
                    <a:lnTo>
                      <a:pt x="114" y="27"/>
                    </a:lnTo>
                    <a:lnTo>
                      <a:pt x="136" y="27"/>
                    </a:lnTo>
                    <a:lnTo>
                      <a:pt x="157" y="30"/>
                    </a:lnTo>
                    <a:lnTo>
                      <a:pt x="185" y="38"/>
                    </a:lnTo>
                    <a:lnTo>
                      <a:pt x="200" y="43"/>
                    </a:lnTo>
                    <a:lnTo>
                      <a:pt x="219" y="55"/>
                    </a:lnTo>
                    <a:lnTo>
                      <a:pt x="203" y="2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6461280" y="5490000"/>
                <a:ext cx="24480" cy="36360"/>
                <a:chOff x="6461280" y="5490000"/>
                <a:chExt cx="24480" cy="363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467040" y="5490000"/>
                  <a:ext cx="18720" cy="15480"/>
                  <a:chOff x="6467040" y="5490000"/>
                  <a:chExt cx="18720" cy="1548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17773200">
                    <a:off x="6468120" y="5499000"/>
                    <a:ext cx="5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50">
                        <a:moveTo>
                          <a:pt x="33" y="6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34" y="50"/>
                        </a:lnTo>
                        <a:lnTo>
                          <a:pt x="33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773200">
                    <a:off x="6472800" y="549216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0" y="42"/>
                        </a:moveTo>
                        <a:lnTo>
                          <a:pt x="0" y="0"/>
                        </a:lnTo>
                        <a:lnTo>
                          <a:pt x="43" y="35"/>
                        </a:lnTo>
                        <a:lnTo>
                          <a:pt x="20" y="58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773200">
                    <a:off x="6478560" y="5491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2">
                        <a:moveTo>
                          <a:pt x="23" y="0"/>
                        </a:moveTo>
                        <a:lnTo>
                          <a:pt x="0" y="17"/>
                        </a:lnTo>
                        <a:lnTo>
                          <a:pt x="9" y="42"/>
                        </a:lnTo>
                        <a:lnTo>
                          <a:pt x="45" y="37"/>
                        </a:lnTo>
                        <a:lnTo>
                          <a:pt x="36" y="2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6461280" y="5505120"/>
                  <a:ext cx="9720" cy="21240"/>
                  <a:chOff x="6461280" y="5505120"/>
                  <a:chExt cx="9720" cy="212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17773200">
                    <a:off x="6464520" y="5505840"/>
                    <a:ext cx="5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52">
                        <a:moveTo>
                          <a:pt x="2" y="8"/>
                        </a:moveTo>
                        <a:lnTo>
                          <a:pt x="35" y="0"/>
                        </a:lnTo>
                        <a:lnTo>
                          <a:pt x="35" y="45"/>
                        </a:lnTo>
                        <a:lnTo>
                          <a:pt x="0" y="52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17773200">
                    <a:off x="6462360" y="551340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43" y="42"/>
                        </a:moveTo>
                        <a:lnTo>
                          <a:pt x="43" y="0"/>
                        </a:lnTo>
                        <a:lnTo>
                          <a:pt x="0" y="35"/>
                        </a:lnTo>
                        <a:lnTo>
                          <a:pt x="23" y="58"/>
                        </a:lnTo>
                        <a:lnTo>
                          <a:pt x="43" y="42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rot="17773200">
                    <a:off x="6464520" y="5519880"/>
                    <a:ext cx="61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21" y="0"/>
                        </a:moveTo>
                        <a:lnTo>
                          <a:pt x="44" y="19"/>
                        </a:lnTo>
                        <a:lnTo>
                          <a:pt x="36" y="42"/>
                        </a:lnTo>
                        <a:lnTo>
                          <a:pt x="0" y="38"/>
                        </a:lnTo>
                        <a:lnTo>
                          <a:pt x="8" y="24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1" name=""/>
              <p:cNvSpPr/>
              <p:nvPr/>
            </p:nvSpPr>
            <p:spPr>
              <a:xfrm rot="17773200">
                <a:off x="6438240" y="5496840"/>
                <a:ext cx="42480" cy="6120"/>
              </a:xfrm>
              <a:custGeom>
                <a:avLst/>
                <a:gdLst/>
                <a:ahLst/>
                <a:rect l="l" t="t" r="r" b="b"/>
                <a:pathLst>
                  <a:path w="293" h="54">
                    <a:moveTo>
                      <a:pt x="293" y="54"/>
                    </a:moveTo>
                    <a:lnTo>
                      <a:pt x="268" y="33"/>
                    </a:lnTo>
                    <a:lnTo>
                      <a:pt x="239" y="19"/>
                    </a:lnTo>
                    <a:lnTo>
                      <a:pt x="212" y="9"/>
                    </a:lnTo>
                    <a:lnTo>
                      <a:pt x="175" y="0"/>
                    </a:lnTo>
                    <a:lnTo>
                      <a:pt x="149" y="0"/>
                    </a:lnTo>
                    <a:lnTo>
                      <a:pt x="113" y="3"/>
                    </a:lnTo>
                    <a:lnTo>
                      <a:pt x="79" y="9"/>
                    </a:lnTo>
                    <a:lnTo>
                      <a:pt x="52" y="18"/>
                    </a:lnTo>
                    <a:lnTo>
                      <a:pt x="26" y="31"/>
                    </a:lnTo>
                    <a:lnTo>
                      <a:pt x="0" y="4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482880" y="5508360"/>
                <a:ext cx="5400" cy="9360"/>
                <a:chOff x="6482880" y="5508360"/>
                <a:chExt cx="5400" cy="9360"/>
              </a:xfrm>
            </p:grpSpPr>
            <p:sp>
              <p:nvSpPr>
                <p:cNvPr id="493" name=""/>
                <p:cNvSpPr/>
                <p:nvPr/>
              </p:nvSpPr>
              <p:spPr>
                <a:xfrm rot="17773200">
                  <a:off x="6485760" y="5509080"/>
                  <a:ext cx="2520" cy="1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rot="17773200">
                  <a:off x="6482520" y="5515920"/>
                  <a:ext cx="2520" cy="108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rot="17773200">
                <a:off x="6442920" y="5492880"/>
                <a:ext cx="16920" cy="4680"/>
              </a:xfrm>
              <a:custGeom>
                <a:avLst/>
                <a:gdLst/>
                <a:ahLst/>
                <a:rect l="l" t="t" r="r" b="b"/>
                <a:pathLst>
                  <a:path w="116" h="42">
                    <a:moveTo>
                      <a:pt x="116" y="42"/>
                    </a:moveTo>
                    <a:lnTo>
                      <a:pt x="113" y="11"/>
                    </a:lnTo>
                    <a:lnTo>
                      <a:pt x="94" y="5"/>
                    </a:lnTo>
                    <a:lnTo>
                      <a:pt x="73" y="0"/>
                    </a:lnTo>
                    <a:lnTo>
                      <a:pt x="53" y="0"/>
                    </a:lnTo>
                    <a:lnTo>
                      <a:pt x="25" y="1"/>
                    </a:lnTo>
                    <a:lnTo>
                      <a:pt x="1" y="7"/>
                    </a:lnTo>
                    <a:lnTo>
                      <a:pt x="0" y="42"/>
                    </a:lnTo>
                    <a:lnTo>
                      <a:pt x="21" y="34"/>
                    </a:lnTo>
                    <a:lnTo>
                      <a:pt x="43" y="30"/>
                    </a:lnTo>
                    <a:lnTo>
                      <a:pt x="64" y="28"/>
                    </a:lnTo>
                    <a:lnTo>
                      <a:pt x="83" y="32"/>
                    </a:lnTo>
                    <a:lnTo>
                      <a:pt x="103" y="38"/>
                    </a:lnTo>
                    <a:lnTo>
                      <a:pt x="116" y="42"/>
                    </a:lnTo>
                    <a:close/>
                  </a:path>
                </a:pathLst>
              </a:custGeom>
              <a:solidFill>
                <a:srgbClr val="dfd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7773200">
                <a:off x="6451200" y="549540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357" h="227">
                    <a:moveTo>
                      <a:pt x="357" y="227"/>
                    </a:moveTo>
                    <a:lnTo>
                      <a:pt x="357" y="199"/>
                    </a:lnTo>
                    <a:lnTo>
                      <a:pt x="347" y="158"/>
                    </a:lnTo>
                    <a:lnTo>
                      <a:pt x="337" y="129"/>
                    </a:lnTo>
                    <a:lnTo>
                      <a:pt x="325" y="100"/>
                    </a:lnTo>
                    <a:lnTo>
                      <a:pt x="311" y="77"/>
                    </a:lnTo>
                    <a:lnTo>
                      <a:pt x="297" y="56"/>
                    </a:lnTo>
                    <a:lnTo>
                      <a:pt x="278" y="38"/>
                    </a:lnTo>
                    <a:lnTo>
                      <a:pt x="261" y="25"/>
                    </a:lnTo>
                    <a:lnTo>
                      <a:pt x="240" y="14"/>
                    </a:lnTo>
                    <a:lnTo>
                      <a:pt x="220" y="5"/>
                    </a:lnTo>
                    <a:lnTo>
                      <a:pt x="207" y="2"/>
                    </a:lnTo>
                    <a:lnTo>
                      <a:pt x="197" y="0"/>
                    </a:lnTo>
                    <a:lnTo>
                      <a:pt x="177" y="0"/>
                    </a:lnTo>
                    <a:lnTo>
                      <a:pt x="158" y="1"/>
                    </a:lnTo>
                    <a:lnTo>
                      <a:pt x="138" y="6"/>
                    </a:lnTo>
                    <a:lnTo>
                      <a:pt x="120" y="13"/>
                    </a:lnTo>
                    <a:lnTo>
                      <a:pt x="97" y="25"/>
                    </a:lnTo>
                    <a:lnTo>
                      <a:pt x="85" y="33"/>
                    </a:lnTo>
                    <a:lnTo>
                      <a:pt x="64" y="54"/>
                    </a:lnTo>
                    <a:lnTo>
                      <a:pt x="47" y="75"/>
                    </a:lnTo>
                    <a:lnTo>
                      <a:pt x="32" y="102"/>
                    </a:lnTo>
                    <a:lnTo>
                      <a:pt x="18" y="130"/>
                    </a:lnTo>
                    <a:lnTo>
                      <a:pt x="8" y="162"/>
                    </a:lnTo>
                    <a:lnTo>
                      <a:pt x="0" y="201"/>
                    </a:lnTo>
                    <a:lnTo>
                      <a:pt x="0" y="227"/>
                    </a:lnTo>
                    <a:lnTo>
                      <a:pt x="357" y="22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" name=""/>
          <p:cNvSpPr/>
          <p:nvPr/>
        </p:nvSpPr>
        <p:spPr>
          <a:xfrm>
            <a:off x="242280" y="2554200"/>
            <a:ext cx="2091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lephon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siness/SO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ice/Data/Vid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era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ming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tai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975-92E5-4105-80CD-BABEDC8F35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Service Possibilit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idential/Business IP Teleph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 IP teleph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/data/video unified mess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conferencing and media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ertainm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-time multiplayer interactive ga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FD2-CCDC-4511-B56D-D528801D55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sic standards process for IPCableco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bleLa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projec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2960" y="2201760"/>
            <a:ext cx="946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1219320"/>
            <a:ext cx="111456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U-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22860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43240" y="4038480"/>
            <a:ext cx="375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638320" y="1599840"/>
            <a:ext cx="2210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743200" y="2742840"/>
            <a:ext cx="1981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105520" y="2743200"/>
            <a:ext cx="759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09720" y="2743200"/>
            <a:ext cx="38124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5562360" y="27428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105520" y="1599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666880" y="1599840"/>
            <a:ext cx="1905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048120" y="2742840"/>
            <a:ext cx="47242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666880" y="2742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724280" y="3809880"/>
            <a:ext cx="12193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1911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410080" y="3962160"/>
            <a:ext cx="533520" cy="2286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419720" y="2743200"/>
            <a:ext cx="5331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2120" y="6400800"/>
            <a:ext cx="53316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6172200"/>
            <a:ext cx="533160" cy="0"/>
          </a:xfrm>
          <a:prstGeom prst="line">
            <a:avLst/>
          </a:prstGeom>
          <a:ln w="936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9480" y="1143000"/>
            <a:ext cx="11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Global SDO 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3800" y="2133720"/>
            <a:ext cx="110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/nati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DO 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2720" y="350532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tribu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3200400" y="365724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200040" y="3886200"/>
            <a:ext cx="1600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2514240" y="3885840"/>
            <a:ext cx="2971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22860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867280" y="3505320"/>
            <a:ext cx="13716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uro oper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.g. EC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requiremen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391520" y="2286000"/>
            <a:ext cx="9903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Japa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3733920"/>
            <a:ext cx="6094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00600" y="4114800"/>
            <a:ext cx="609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86400" y="4495680"/>
            <a:ext cx="609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6960" y="4565520"/>
            <a:ext cx="520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CCA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uropean Cable Communication Assoc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SI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uropean Telecom Standards Institu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ITU-T   International Telecom Union, Telecom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CTE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ciety of Cable Telecom Engine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DO     Standards Development Organisation (accredit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Vend.  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tandards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tandards draft text to IPR terms of recip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E81-75BF-4A71-85D3-8BD6F7C702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532440" y="4952880"/>
            <a:ext cx="38188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Access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M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Cable Mod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FC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Hybrid Fiber Coax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TA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ltimedia Terminal Adap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STN Public Switched Tel.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COMP1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1523880" cy="1171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914400" y="4419720"/>
            <a:ext cx="201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bedde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HONE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685800" cy="6256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990720" y="41911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34320" y="3048120"/>
            <a:ext cx="228600" cy="2286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1828800"/>
            <a:ext cx="3047760" cy="3048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PCablecom Compone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4343400"/>
            <a:ext cx="15228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3" name="PHONE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685800" cy="625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934320" y="2971800"/>
            <a:ext cx="1676160" cy="15238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5" name="B_OEQ128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6553080" y="2514600"/>
            <a:ext cx="505080" cy="609480"/>
          </a:xfrm>
          <a:prstGeom prst="rect">
            <a:avLst/>
          </a:prstGeom>
          <a:ln w="0">
            <a:noFill/>
          </a:ln>
        </p:spPr>
      </p:pic>
      <p:pic>
        <p:nvPicPr>
          <p:cNvPr id="546" name="B_OEQ128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4495680" y="3733920"/>
            <a:ext cx="408240" cy="7617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780600" y="1828800"/>
            <a:ext cx="114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0880" y="1066680"/>
            <a:ext cx="161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2133720"/>
            <a:ext cx="1447920" cy="2361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71800" y="2209680"/>
            <a:ext cx="129528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48320" y="2438280"/>
            <a:ext cx="1218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876920" y="2819520"/>
            <a:ext cx="121896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19720" y="2895480"/>
            <a:ext cx="22860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3880" y="3886200"/>
            <a:ext cx="1219320" cy="4572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4038480"/>
            <a:ext cx="621000" cy="250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4200" y="375912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7" name="B_OEQ128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5334120" y="5029200"/>
            <a:ext cx="407880" cy="762120"/>
          </a:xfrm>
          <a:prstGeom prst="rect">
            <a:avLst/>
          </a:prstGeom>
          <a:ln w="0">
            <a:noFill/>
          </a:ln>
        </p:spPr>
      </p:pic>
      <p:pic>
        <p:nvPicPr>
          <p:cNvPr id="558" name="B_OEQ128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5486400" y="5105520"/>
            <a:ext cx="407880" cy="761760"/>
          </a:xfrm>
          <a:prstGeom prst="rect">
            <a:avLst/>
          </a:prstGeom>
          <a:ln w="0">
            <a:noFill/>
          </a:ln>
        </p:spPr>
      </p:pic>
      <p:pic>
        <p:nvPicPr>
          <p:cNvPr id="559" name="B_OEQ128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5638680" y="5181480"/>
            <a:ext cx="408240" cy="762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6018840" y="5105520"/>
            <a:ext cx="146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ck Off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94600" y="2743200"/>
            <a:ext cx="15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d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B_OEQ128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590920" y="1828800"/>
            <a:ext cx="407880" cy="7621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135160" y="16002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2819520"/>
            <a:ext cx="863640" cy="28260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43200" y="2133720"/>
            <a:ext cx="0" cy="2081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20600" y="31240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23880" y="29718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B_OEQ128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5867280" y="2133720"/>
            <a:ext cx="408240" cy="761760"/>
          </a:xfrm>
          <a:prstGeom prst="rect">
            <a:avLst/>
          </a:prstGeom>
          <a:ln w="0">
            <a:noFill/>
          </a:ln>
        </p:spPr>
      </p:pic>
      <p:pic>
        <p:nvPicPr>
          <p:cNvPr id="569" name="B_OEQ128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4267080" y="2209680"/>
            <a:ext cx="408240" cy="762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248520" y="2666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41E-E4C2-42C2-AEAE-1BDF22B481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teroperability intra-z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and with PSTN using I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261000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3505320" y="2819520"/>
            <a:ext cx="1687320" cy="1011240"/>
            <a:chOff x="3505320" y="2819520"/>
            <a:chExt cx="1687320" cy="1011240"/>
          </a:xfrm>
        </p:grpSpPr>
        <p:grpSp>
          <p:nvGrpSpPr>
            <p:cNvPr id="574" name=""/>
            <p:cNvGrpSpPr/>
            <p:nvPr/>
          </p:nvGrpSpPr>
          <p:grpSpPr>
            <a:xfrm>
              <a:off x="3505320" y="2819520"/>
              <a:ext cx="1687320" cy="1011240"/>
              <a:chOff x="3505320" y="2819520"/>
              <a:chExt cx="1687320" cy="101124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3530520" y="2857680"/>
                <a:ext cx="1662120" cy="973080"/>
                <a:chOff x="3530520" y="2857680"/>
                <a:chExt cx="1662120" cy="9730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4105440" y="2857680"/>
                  <a:ext cx="7128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705120" y="295632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530520" y="3202200"/>
                  <a:ext cx="36216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643200" y="336240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043520" y="3411720"/>
                  <a:ext cx="8366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579920" y="296712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667400" y="317700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18080" y="3251520"/>
                  <a:ext cx="51264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830760" y="3090960"/>
                  <a:ext cx="1074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3505320" y="2819520"/>
                <a:ext cx="1649520" cy="986040"/>
                <a:chOff x="3505320" y="2819520"/>
                <a:chExt cx="1649520" cy="9860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79880" y="2819520"/>
                  <a:ext cx="700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679920" y="2930760"/>
                  <a:ext cx="538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505320" y="3177000"/>
                  <a:ext cx="3618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618000" y="332604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17960" y="338652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554720" y="294336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630680" y="3152880"/>
                  <a:ext cx="52416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579920" y="321480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805200" y="3054600"/>
                  <a:ext cx="107496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4040280" y="3089520"/>
              <a:ext cx="79704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18400" y="311976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A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03720" y="327852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19520" y="3271680"/>
            <a:ext cx="521640" cy="409680"/>
            <a:chOff x="2819520" y="3271680"/>
            <a:chExt cx="521640" cy="409680"/>
          </a:xfrm>
        </p:grpSpPr>
        <p:grpSp>
          <p:nvGrpSpPr>
            <p:cNvPr id="599" name=""/>
            <p:cNvGrpSpPr/>
            <p:nvPr/>
          </p:nvGrpSpPr>
          <p:grpSpPr>
            <a:xfrm>
              <a:off x="2831400" y="3279600"/>
              <a:ext cx="509760" cy="401760"/>
              <a:chOff x="2831400" y="3279600"/>
              <a:chExt cx="509760" cy="401760"/>
            </a:xfrm>
          </p:grpSpPr>
          <p:sp>
            <p:nvSpPr>
              <p:cNvPr id="600" name=""/>
              <p:cNvSpPr/>
              <p:nvPr/>
            </p:nvSpPr>
            <p:spPr>
              <a:xfrm>
                <a:off x="2988720" y="3279600"/>
                <a:ext cx="35208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88720" y="3279600"/>
                <a:ext cx="35208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31760" y="3279600"/>
                <a:ext cx="50940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31760" y="3279600"/>
                <a:ext cx="50940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831760" y="3355920"/>
                <a:ext cx="27900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844000" y="3370320"/>
                <a:ext cx="15696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855160" y="3400200"/>
                <a:ext cx="12204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831400" y="3612960"/>
                <a:ext cx="2790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831400" y="3476520"/>
                <a:ext cx="2790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2819520" y="3271680"/>
              <a:ext cx="510840" cy="401760"/>
              <a:chOff x="2819520" y="3271680"/>
              <a:chExt cx="510840" cy="401760"/>
            </a:xfrm>
          </p:grpSpPr>
          <p:sp>
            <p:nvSpPr>
              <p:cNvPr id="610" name=""/>
              <p:cNvSpPr/>
              <p:nvPr/>
            </p:nvSpPr>
            <p:spPr>
              <a:xfrm>
                <a:off x="2977920" y="3271680"/>
                <a:ext cx="35208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77920" y="3271680"/>
                <a:ext cx="35208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19520" y="3271680"/>
                <a:ext cx="51084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819520" y="3271680"/>
                <a:ext cx="51084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19520" y="3348000"/>
                <a:ext cx="27900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31760" y="3363840"/>
                <a:ext cx="15696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55520" y="3386160"/>
                <a:ext cx="96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2831400" y="3605040"/>
                <a:ext cx="255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831400" y="3468600"/>
                <a:ext cx="25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9" name=""/>
          <p:cNvSpPr/>
          <p:nvPr/>
        </p:nvSpPr>
        <p:spPr>
          <a:xfrm>
            <a:off x="2590920" y="3052800"/>
            <a:ext cx="87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43200" y="297180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4876920" y="3657600"/>
            <a:ext cx="366120" cy="187200"/>
            <a:chOff x="4876920" y="3657600"/>
            <a:chExt cx="366120" cy="187200"/>
          </a:xfrm>
        </p:grpSpPr>
        <p:grpSp>
          <p:nvGrpSpPr>
            <p:cNvPr id="622" name=""/>
            <p:cNvGrpSpPr/>
            <p:nvPr/>
          </p:nvGrpSpPr>
          <p:grpSpPr>
            <a:xfrm>
              <a:off x="4892400" y="3665520"/>
              <a:ext cx="350640" cy="179280"/>
              <a:chOff x="4892400" y="3665520"/>
              <a:chExt cx="350640" cy="179280"/>
            </a:xfrm>
          </p:grpSpPr>
          <p:sp>
            <p:nvSpPr>
              <p:cNvPr id="623" name=""/>
              <p:cNvSpPr/>
              <p:nvPr/>
            </p:nvSpPr>
            <p:spPr>
              <a:xfrm>
                <a:off x="4892400" y="366552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08240" y="3690720"/>
                <a:ext cx="31212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925520" y="3828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165280" y="3828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990680" y="3716280"/>
                <a:ext cx="14256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28840" y="3708360"/>
                <a:ext cx="108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088960" y="370836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963680" y="3736800"/>
                <a:ext cx="185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963680" y="375768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876920" y="3657600"/>
              <a:ext cx="348840" cy="179280"/>
              <a:chOff x="4876920" y="3657600"/>
              <a:chExt cx="348840" cy="179280"/>
            </a:xfrm>
          </p:grpSpPr>
          <p:sp>
            <p:nvSpPr>
              <p:cNvPr id="633" name=""/>
              <p:cNvSpPr/>
              <p:nvPr/>
            </p:nvSpPr>
            <p:spPr>
              <a:xfrm>
                <a:off x="4876920" y="3657600"/>
                <a:ext cx="34884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892400" y="3682800"/>
                <a:ext cx="31248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914720" y="382428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55920" y="3824280"/>
                <a:ext cx="424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75200" y="3708360"/>
                <a:ext cx="14724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18040" y="3699000"/>
                <a:ext cx="108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073480" y="369900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52880" y="372888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52880" y="374976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3441600" y="2760840"/>
            <a:ext cx="366840" cy="187920"/>
            <a:chOff x="3441600" y="2760840"/>
            <a:chExt cx="366840" cy="187920"/>
          </a:xfrm>
        </p:grpSpPr>
        <p:grpSp>
          <p:nvGrpSpPr>
            <p:cNvPr id="643" name=""/>
            <p:cNvGrpSpPr/>
            <p:nvPr/>
          </p:nvGrpSpPr>
          <p:grpSpPr>
            <a:xfrm>
              <a:off x="3457800" y="2768400"/>
              <a:ext cx="350640" cy="180360"/>
              <a:chOff x="3457800" y="2768400"/>
              <a:chExt cx="350640" cy="180360"/>
            </a:xfrm>
          </p:grpSpPr>
          <p:sp>
            <p:nvSpPr>
              <p:cNvPr id="644" name=""/>
              <p:cNvSpPr/>
              <p:nvPr/>
            </p:nvSpPr>
            <p:spPr>
              <a:xfrm>
                <a:off x="3457800" y="27684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475080" y="2793600"/>
                <a:ext cx="31104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9092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3212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56080" y="2818800"/>
                <a:ext cx="1429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594240" y="28108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54360" y="281088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29080" y="283968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529080" y="28602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3441600" y="2760840"/>
              <a:ext cx="351000" cy="178920"/>
              <a:chOff x="3441600" y="2760840"/>
              <a:chExt cx="351000" cy="178920"/>
            </a:xfrm>
          </p:grpSpPr>
          <p:sp>
            <p:nvSpPr>
              <p:cNvPr id="654" name=""/>
              <p:cNvSpPr/>
              <p:nvPr/>
            </p:nvSpPr>
            <p:spPr>
              <a:xfrm>
                <a:off x="3441600" y="276084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457800" y="2786040"/>
                <a:ext cx="31248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79760" y="2928960"/>
                <a:ext cx="4932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21320" y="2928960"/>
                <a:ext cx="4284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540240" y="28112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83080" y="28018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638520" y="2801880"/>
                <a:ext cx="180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517920" y="283212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517920" y="285264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3886200" y="3809880"/>
            <a:ext cx="366840" cy="187560"/>
            <a:chOff x="3886200" y="3809880"/>
            <a:chExt cx="366840" cy="187560"/>
          </a:xfrm>
        </p:grpSpPr>
        <p:grpSp>
          <p:nvGrpSpPr>
            <p:cNvPr id="664" name=""/>
            <p:cNvGrpSpPr/>
            <p:nvPr/>
          </p:nvGrpSpPr>
          <p:grpSpPr>
            <a:xfrm>
              <a:off x="3903480" y="3817800"/>
              <a:ext cx="349560" cy="179640"/>
              <a:chOff x="3903480" y="3817800"/>
              <a:chExt cx="349560" cy="179640"/>
            </a:xfrm>
          </p:grpSpPr>
          <p:sp>
            <p:nvSpPr>
              <p:cNvPr id="665" name=""/>
              <p:cNvSpPr/>
              <p:nvPr/>
            </p:nvSpPr>
            <p:spPr>
              <a:xfrm>
                <a:off x="3903480" y="3817800"/>
                <a:ext cx="349560" cy="7164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19680" y="384336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935520" y="398160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76720" y="398160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002120" y="3868920"/>
                <a:ext cx="141120" cy="6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40280" y="3859200"/>
                <a:ext cx="144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00400" y="3859200"/>
                <a:ext cx="180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73320" y="3889440"/>
                <a:ext cx="187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73320" y="3909960"/>
                <a:ext cx="187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886200" y="3809880"/>
              <a:ext cx="350640" cy="179640"/>
              <a:chOff x="3886200" y="3809880"/>
              <a:chExt cx="350640" cy="179640"/>
            </a:xfrm>
          </p:grpSpPr>
          <p:sp>
            <p:nvSpPr>
              <p:cNvPr id="675" name=""/>
              <p:cNvSpPr/>
              <p:nvPr/>
            </p:nvSpPr>
            <p:spPr>
              <a:xfrm>
                <a:off x="3886200" y="380988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03480" y="3833640"/>
                <a:ext cx="311400" cy="14292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24360" y="3976560"/>
                <a:ext cx="4896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165560" y="3976560"/>
                <a:ext cx="4464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84480" y="385920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029120" y="38512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083120" y="38512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63960" y="3879720"/>
                <a:ext cx="1792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63960" y="3902040"/>
                <a:ext cx="1792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5060880" y="2362320"/>
            <a:ext cx="109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81480" y="2286000"/>
            <a:ext cx="106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29480" y="2627280"/>
            <a:ext cx="72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24480" y="2658960"/>
            <a:ext cx="36504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411480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523880" y="4876920"/>
            <a:ext cx="1808280" cy="1011240"/>
            <a:chOff x="1523880" y="4876920"/>
            <a:chExt cx="1808280" cy="1011240"/>
          </a:xfrm>
        </p:grpSpPr>
        <p:grpSp>
          <p:nvGrpSpPr>
            <p:cNvPr id="690" name=""/>
            <p:cNvGrpSpPr/>
            <p:nvPr/>
          </p:nvGrpSpPr>
          <p:grpSpPr>
            <a:xfrm>
              <a:off x="1523880" y="4876920"/>
              <a:ext cx="1687320" cy="1011240"/>
              <a:chOff x="1523880" y="4876920"/>
              <a:chExt cx="1687320" cy="101124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1549080" y="4915080"/>
                <a:ext cx="1662120" cy="973080"/>
                <a:chOff x="1549080" y="4915080"/>
                <a:chExt cx="1662120" cy="9730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2124000" y="4915080"/>
                  <a:ext cx="7128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723680" y="501372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549080" y="5259600"/>
                  <a:ext cx="36216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661760" y="541980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062080" y="5469120"/>
                  <a:ext cx="8366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598480" y="502452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685960" y="523440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2636640" y="5308920"/>
                  <a:ext cx="51264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849320" y="5148360"/>
                  <a:ext cx="1074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1523880" y="4876920"/>
                <a:ext cx="1649520" cy="986040"/>
                <a:chOff x="1523880" y="4876920"/>
                <a:chExt cx="1649520" cy="98604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2098440" y="4876920"/>
                  <a:ext cx="700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698480" y="4988160"/>
                  <a:ext cx="538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523880" y="5234400"/>
                  <a:ext cx="3618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36560" y="538344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036520" y="544392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573280" y="500076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649240" y="5210280"/>
                  <a:ext cx="52416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598480" y="527220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823760" y="5112000"/>
                  <a:ext cx="107496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1" name=""/>
            <p:cNvSpPr/>
            <p:nvPr/>
          </p:nvSpPr>
          <p:spPr>
            <a:xfrm>
              <a:off x="2058840" y="5146920"/>
              <a:ext cx="79704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8040" y="5177160"/>
              <a:ext cx="119412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perator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22280" y="533592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565600" y="4871880"/>
            <a:ext cx="522360" cy="409680"/>
            <a:chOff x="5565600" y="4871880"/>
            <a:chExt cx="522360" cy="409680"/>
          </a:xfrm>
        </p:grpSpPr>
        <p:grpSp>
          <p:nvGrpSpPr>
            <p:cNvPr id="715" name=""/>
            <p:cNvGrpSpPr/>
            <p:nvPr/>
          </p:nvGrpSpPr>
          <p:grpSpPr>
            <a:xfrm>
              <a:off x="5578200" y="4879800"/>
              <a:ext cx="509760" cy="401760"/>
              <a:chOff x="5578200" y="4879800"/>
              <a:chExt cx="509760" cy="401760"/>
            </a:xfrm>
          </p:grpSpPr>
          <p:sp>
            <p:nvSpPr>
              <p:cNvPr id="716" name=""/>
              <p:cNvSpPr/>
              <p:nvPr/>
            </p:nvSpPr>
            <p:spPr>
              <a:xfrm>
                <a:off x="5735520" y="48798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735520" y="48798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78200" y="487980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578200" y="487980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78200" y="4956120"/>
                <a:ext cx="27936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590800" y="497052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01960" y="5000400"/>
                <a:ext cx="1224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5578200" y="521316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5578200" y="507672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565600" y="4871880"/>
              <a:ext cx="511200" cy="401760"/>
              <a:chOff x="5565600" y="4871880"/>
              <a:chExt cx="511200" cy="401760"/>
            </a:xfrm>
          </p:grpSpPr>
          <p:sp>
            <p:nvSpPr>
              <p:cNvPr id="726" name=""/>
              <p:cNvSpPr/>
              <p:nvPr/>
            </p:nvSpPr>
            <p:spPr>
              <a:xfrm>
                <a:off x="5724360" y="487188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24360" y="487188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65600" y="487188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65600" y="487188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65600" y="4948200"/>
                <a:ext cx="27936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78200" y="4964040"/>
                <a:ext cx="15732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601960" y="498636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5578200" y="5205240"/>
                <a:ext cx="25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5578200" y="5068800"/>
                <a:ext cx="25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5" name=""/>
          <p:cNvSpPr/>
          <p:nvPr/>
        </p:nvSpPr>
        <p:spPr>
          <a:xfrm>
            <a:off x="4952880" y="4653000"/>
            <a:ext cx="87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495288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620120" y="4800600"/>
            <a:ext cx="366120" cy="187200"/>
            <a:chOff x="7620120" y="4800600"/>
            <a:chExt cx="366120" cy="187200"/>
          </a:xfrm>
        </p:grpSpPr>
        <p:grpSp>
          <p:nvGrpSpPr>
            <p:cNvPr id="738" name=""/>
            <p:cNvGrpSpPr/>
            <p:nvPr/>
          </p:nvGrpSpPr>
          <p:grpSpPr>
            <a:xfrm>
              <a:off x="7635600" y="4808520"/>
              <a:ext cx="350640" cy="179280"/>
              <a:chOff x="7635600" y="4808520"/>
              <a:chExt cx="350640" cy="179280"/>
            </a:xfrm>
          </p:grpSpPr>
          <p:sp>
            <p:nvSpPr>
              <p:cNvPr id="739" name=""/>
              <p:cNvSpPr/>
              <p:nvPr/>
            </p:nvSpPr>
            <p:spPr>
              <a:xfrm>
                <a:off x="7635600" y="480852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51440" y="4833720"/>
                <a:ext cx="31212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68720" y="4971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908480" y="4971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33880" y="4859280"/>
                <a:ext cx="14256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72040" y="4851360"/>
                <a:ext cx="108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832160" y="485136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06880" y="4879800"/>
                <a:ext cx="185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880" y="490068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7620120" y="4800600"/>
              <a:ext cx="348840" cy="179280"/>
              <a:chOff x="7620120" y="4800600"/>
              <a:chExt cx="348840" cy="179280"/>
            </a:xfrm>
          </p:grpSpPr>
          <p:sp>
            <p:nvSpPr>
              <p:cNvPr id="749" name=""/>
              <p:cNvSpPr/>
              <p:nvPr/>
            </p:nvSpPr>
            <p:spPr>
              <a:xfrm>
                <a:off x="7620120" y="4800600"/>
                <a:ext cx="34884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35600" y="4825800"/>
                <a:ext cx="31248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7920" y="496728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99120" y="4967280"/>
                <a:ext cx="424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718400" y="4851360"/>
                <a:ext cx="14724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761240" y="4842000"/>
                <a:ext cx="108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816680" y="484200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96080" y="487188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96080" y="489276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8" name=""/>
          <p:cNvGrpSpPr/>
          <p:nvPr/>
        </p:nvGrpSpPr>
        <p:grpSpPr>
          <a:xfrm>
            <a:off x="6188040" y="4361040"/>
            <a:ext cx="366840" cy="187920"/>
            <a:chOff x="6188040" y="4361040"/>
            <a:chExt cx="366840" cy="187920"/>
          </a:xfrm>
        </p:grpSpPr>
        <p:grpSp>
          <p:nvGrpSpPr>
            <p:cNvPr id="759" name=""/>
            <p:cNvGrpSpPr/>
            <p:nvPr/>
          </p:nvGrpSpPr>
          <p:grpSpPr>
            <a:xfrm>
              <a:off x="6204240" y="4368600"/>
              <a:ext cx="350640" cy="180360"/>
              <a:chOff x="6204240" y="4368600"/>
              <a:chExt cx="350640" cy="180360"/>
            </a:xfrm>
          </p:grpSpPr>
          <p:sp>
            <p:nvSpPr>
              <p:cNvPr id="760" name=""/>
              <p:cNvSpPr/>
              <p:nvPr/>
            </p:nvSpPr>
            <p:spPr>
              <a:xfrm>
                <a:off x="6204240" y="43686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21520" y="4393800"/>
                <a:ext cx="31104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37360" y="45320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78560" y="45320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02520" y="4419000"/>
                <a:ext cx="1429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40680" y="44110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400800" y="441108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75520" y="443988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275520" y="44604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188040" y="4361040"/>
              <a:ext cx="351000" cy="178920"/>
              <a:chOff x="6188040" y="4361040"/>
              <a:chExt cx="351000" cy="178920"/>
            </a:xfrm>
          </p:grpSpPr>
          <p:sp>
            <p:nvSpPr>
              <p:cNvPr id="770" name=""/>
              <p:cNvSpPr/>
              <p:nvPr/>
            </p:nvSpPr>
            <p:spPr>
              <a:xfrm>
                <a:off x="6188040" y="436104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204240" y="4386240"/>
                <a:ext cx="31248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26200" y="4529160"/>
                <a:ext cx="4932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467760" y="4529160"/>
                <a:ext cx="4284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286680" y="44114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329520" y="44020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384960" y="4402080"/>
                <a:ext cx="180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64360" y="443232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264360" y="445284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"/>
          <p:cNvGrpSpPr/>
          <p:nvPr/>
        </p:nvGrpSpPr>
        <p:grpSpPr>
          <a:xfrm>
            <a:off x="6620040" y="5345280"/>
            <a:ext cx="366120" cy="186480"/>
            <a:chOff x="6620040" y="5345280"/>
            <a:chExt cx="366120" cy="186480"/>
          </a:xfrm>
        </p:grpSpPr>
        <p:grpSp>
          <p:nvGrpSpPr>
            <p:cNvPr id="780" name=""/>
            <p:cNvGrpSpPr/>
            <p:nvPr/>
          </p:nvGrpSpPr>
          <p:grpSpPr>
            <a:xfrm>
              <a:off x="6636960" y="5352840"/>
              <a:ext cx="349200" cy="178920"/>
              <a:chOff x="6636960" y="5352840"/>
              <a:chExt cx="349200" cy="178920"/>
            </a:xfrm>
          </p:grpSpPr>
          <p:sp>
            <p:nvSpPr>
              <p:cNvPr id="781" name=""/>
              <p:cNvSpPr/>
              <p:nvPr/>
            </p:nvSpPr>
            <p:spPr>
              <a:xfrm>
                <a:off x="6636960" y="535284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652800" y="5378040"/>
                <a:ext cx="31212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668640" y="5516280"/>
                <a:ext cx="48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09840" y="5516280"/>
                <a:ext cx="489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35240" y="5403600"/>
                <a:ext cx="14076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773400" y="5393880"/>
                <a:ext cx="108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33520" y="539388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706440" y="5424120"/>
                <a:ext cx="1872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706440" y="5444640"/>
                <a:ext cx="187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6620040" y="5345280"/>
              <a:ext cx="350280" cy="178920"/>
              <a:chOff x="6620040" y="5345280"/>
              <a:chExt cx="350280" cy="178920"/>
            </a:xfrm>
          </p:grpSpPr>
          <p:sp>
            <p:nvSpPr>
              <p:cNvPr id="791" name=""/>
              <p:cNvSpPr/>
              <p:nvPr/>
            </p:nvSpPr>
            <p:spPr>
              <a:xfrm>
                <a:off x="6620040" y="5345280"/>
                <a:ext cx="35028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636960" y="5368680"/>
                <a:ext cx="311040" cy="14256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57840" y="5511600"/>
                <a:ext cx="4860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99040" y="5511600"/>
                <a:ext cx="442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17960" y="5394240"/>
                <a:ext cx="14724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62600" y="538632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816600" y="538632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97440" y="541476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697440" y="543708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0" name=""/>
          <p:cNvSpPr/>
          <p:nvPr/>
        </p:nvSpPr>
        <p:spPr>
          <a:xfrm>
            <a:off x="7423200" y="3962520"/>
            <a:ext cx="109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38880" y="37339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191440" y="4267080"/>
            <a:ext cx="72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786800" y="4259160"/>
            <a:ext cx="36504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2120" y="464832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1371600" y="5334120"/>
            <a:ext cx="522360" cy="408960"/>
            <a:chOff x="1371600" y="5334120"/>
            <a:chExt cx="522360" cy="408960"/>
          </a:xfrm>
        </p:grpSpPr>
        <p:grpSp>
          <p:nvGrpSpPr>
            <p:cNvPr id="806" name=""/>
            <p:cNvGrpSpPr/>
            <p:nvPr/>
          </p:nvGrpSpPr>
          <p:grpSpPr>
            <a:xfrm>
              <a:off x="1384200" y="5341680"/>
              <a:ext cx="509760" cy="401400"/>
              <a:chOff x="1384200" y="5341680"/>
              <a:chExt cx="509760" cy="401400"/>
            </a:xfrm>
          </p:grpSpPr>
          <p:sp>
            <p:nvSpPr>
              <p:cNvPr id="807" name=""/>
              <p:cNvSpPr/>
              <p:nvPr/>
            </p:nvSpPr>
            <p:spPr>
              <a:xfrm>
                <a:off x="1541520" y="5341680"/>
                <a:ext cx="35244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41520" y="5341680"/>
                <a:ext cx="35244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384200" y="5341680"/>
                <a:ext cx="50976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84200" y="5341680"/>
                <a:ext cx="50976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384200" y="5417640"/>
                <a:ext cx="27936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396800" y="5432040"/>
                <a:ext cx="15732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07960" y="5461920"/>
                <a:ext cx="1224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1384200" y="5674680"/>
                <a:ext cx="279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1384200" y="5538240"/>
                <a:ext cx="27936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371600" y="5334120"/>
              <a:ext cx="511200" cy="401400"/>
              <a:chOff x="1371600" y="5334120"/>
              <a:chExt cx="511200" cy="401400"/>
            </a:xfrm>
          </p:grpSpPr>
          <p:sp>
            <p:nvSpPr>
              <p:cNvPr id="817" name=""/>
              <p:cNvSpPr/>
              <p:nvPr/>
            </p:nvSpPr>
            <p:spPr>
              <a:xfrm>
                <a:off x="1530360" y="5334120"/>
                <a:ext cx="35244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30360" y="5334120"/>
                <a:ext cx="35244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371600" y="5334120"/>
                <a:ext cx="51120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371600" y="5334120"/>
                <a:ext cx="51120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371600" y="5410080"/>
                <a:ext cx="27936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384200" y="5425920"/>
                <a:ext cx="15732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07960" y="5448240"/>
                <a:ext cx="968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1384200" y="5667120"/>
                <a:ext cx="25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384200" y="5530680"/>
                <a:ext cx="2556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"/>
          <p:cNvSpPr/>
          <p:nvPr/>
        </p:nvSpPr>
        <p:spPr>
          <a:xfrm>
            <a:off x="685800" y="5110200"/>
            <a:ext cx="87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38080" y="5334120"/>
            <a:ext cx="50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3429000" y="5410080"/>
            <a:ext cx="366840" cy="187200"/>
            <a:chOff x="3429000" y="5410080"/>
            <a:chExt cx="366840" cy="187200"/>
          </a:xfrm>
        </p:grpSpPr>
        <p:grpSp>
          <p:nvGrpSpPr>
            <p:cNvPr id="829" name=""/>
            <p:cNvGrpSpPr/>
            <p:nvPr/>
          </p:nvGrpSpPr>
          <p:grpSpPr>
            <a:xfrm>
              <a:off x="3444840" y="5418000"/>
              <a:ext cx="351000" cy="179280"/>
              <a:chOff x="3444840" y="5418000"/>
              <a:chExt cx="351000" cy="179280"/>
            </a:xfrm>
          </p:grpSpPr>
          <p:sp>
            <p:nvSpPr>
              <p:cNvPr id="830" name=""/>
              <p:cNvSpPr/>
              <p:nvPr/>
            </p:nvSpPr>
            <p:spPr>
              <a:xfrm>
                <a:off x="3444840" y="541800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61040" y="544320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478320" y="55814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18080" y="55814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543480" y="546876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581640" y="546084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41760" y="546084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516480" y="548928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516480" y="551016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3429000" y="5410080"/>
              <a:ext cx="349200" cy="179280"/>
              <a:chOff x="3429000" y="5410080"/>
              <a:chExt cx="349200" cy="179280"/>
            </a:xfrm>
          </p:grpSpPr>
          <p:sp>
            <p:nvSpPr>
              <p:cNvPr id="840" name=""/>
              <p:cNvSpPr/>
              <p:nvPr/>
            </p:nvSpPr>
            <p:spPr>
              <a:xfrm>
                <a:off x="3429000" y="541008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44840" y="5435280"/>
                <a:ext cx="31284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467160" y="557676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08360" y="5576760"/>
                <a:ext cx="428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527640" y="5460840"/>
                <a:ext cx="14760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570480" y="54514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25920" y="545148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505320" y="548136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505320" y="550224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"/>
          <p:cNvGrpSpPr/>
          <p:nvPr/>
        </p:nvGrpSpPr>
        <p:grpSpPr>
          <a:xfrm>
            <a:off x="1920960" y="4818240"/>
            <a:ext cx="366120" cy="187920"/>
            <a:chOff x="1920960" y="4818240"/>
            <a:chExt cx="366120" cy="187920"/>
          </a:xfrm>
        </p:grpSpPr>
        <p:grpSp>
          <p:nvGrpSpPr>
            <p:cNvPr id="850" name=""/>
            <p:cNvGrpSpPr/>
            <p:nvPr/>
          </p:nvGrpSpPr>
          <p:grpSpPr>
            <a:xfrm>
              <a:off x="1936800" y="4825800"/>
              <a:ext cx="350280" cy="180360"/>
              <a:chOff x="1936800" y="4825800"/>
              <a:chExt cx="350280" cy="180360"/>
            </a:xfrm>
          </p:grpSpPr>
          <p:sp>
            <p:nvSpPr>
              <p:cNvPr id="851" name=""/>
              <p:cNvSpPr/>
              <p:nvPr/>
            </p:nvSpPr>
            <p:spPr>
              <a:xfrm>
                <a:off x="1936800" y="4825800"/>
                <a:ext cx="35028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3720" y="4851000"/>
                <a:ext cx="31068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69560" y="4989240"/>
                <a:ext cx="4896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210760" y="4989240"/>
                <a:ext cx="4896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034720" y="4876200"/>
                <a:ext cx="14256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72880" y="4868280"/>
                <a:ext cx="108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133000" y="48682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07720" y="4897080"/>
                <a:ext cx="1854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07720" y="491760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1920960" y="4818240"/>
              <a:ext cx="350640" cy="178920"/>
              <a:chOff x="1920960" y="4818240"/>
              <a:chExt cx="350640" cy="178920"/>
            </a:xfrm>
          </p:grpSpPr>
          <p:sp>
            <p:nvSpPr>
              <p:cNvPr id="861" name=""/>
              <p:cNvSpPr/>
              <p:nvPr/>
            </p:nvSpPr>
            <p:spPr>
              <a:xfrm>
                <a:off x="1920960" y="481824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36800" y="4843440"/>
                <a:ext cx="31212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58760" y="4986360"/>
                <a:ext cx="4896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200320" y="4986360"/>
                <a:ext cx="4248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019240" y="4868640"/>
                <a:ext cx="14724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62080" y="485928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117520" y="48592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96920" y="4889520"/>
                <a:ext cx="18072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96920" y="4910040"/>
                <a:ext cx="18072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2352600" y="5802480"/>
            <a:ext cx="366840" cy="186480"/>
            <a:chOff x="2352600" y="5802480"/>
            <a:chExt cx="366840" cy="186480"/>
          </a:xfrm>
        </p:grpSpPr>
        <p:grpSp>
          <p:nvGrpSpPr>
            <p:cNvPr id="871" name=""/>
            <p:cNvGrpSpPr/>
            <p:nvPr/>
          </p:nvGrpSpPr>
          <p:grpSpPr>
            <a:xfrm>
              <a:off x="2369880" y="5810040"/>
              <a:ext cx="349560" cy="178920"/>
              <a:chOff x="2369880" y="5810040"/>
              <a:chExt cx="349560" cy="178920"/>
            </a:xfrm>
          </p:grpSpPr>
          <p:sp>
            <p:nvSpPr>
              <p:cNvPr id="872" name=""/>
              <p:cNvSpPr/>
              <p:nvPr/>
            </p:nvSpPr>
            <p:spPr>
              <a:xfrm>
                <a:off x="2369880" y="5810040"/>
                <a:ext cx="34956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386080" y="5835240"/>
                <a:ext cx="31248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401920" y="5973480"/>
                <a:ext cx="489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43120" y="5973480"/>
                <a:ext cx="4932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468520" y="5860800"/>
                <a:ext cx="14112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506680" y="585108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566800" y="5851080"/>
                <a:ext cx="180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439720" y="5881320"/>
                <a:ext cx="1875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439720" y="5901840"/>
                <a:ext cx="187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2352600" y="5802480"/>
              <a:ext cx="350640" cy="178920"/>
              <a:chOff x="2352600" y="5802480"/>
              <a:chExt cx="350640" cy="178920"/>
            </a:xfrm>
          </p:grpSpPr>
          <p:sp>
            <p:nvSpPr>
              <p:cNvPr id="882" name=""/>
              <p:cNvSpPr/>
              <p:nvPr/>
            </p:nvSpPr>
            <p:spPr>
              <a:xfrm>
                <a:off x="2352600" y="5802480"/>
                <a:ext cx="35064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369880" y="5825880"/>
                <a:ext cx="311400" cy="14256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390760" y="596880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631960" y="5968800"/>
                <a:ext cx="446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450880" y="5851440"/>
                <a:ext cx="14760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95520" y="584352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49520" y="584352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30360" y="5871960"/>
                <a:ext cx="1792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30360" y="5894280"/>
                <a:ext cx="1792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1" name=""/>
          <p:cNvSpPr/>
          <p:nvPr/>
        </p:nvSpPr>
        <p:spPr>
          <a:xfrm>
            <a:off x="2971800" y="426708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24360" y="468468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T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19360" y="4716360"/>
            <a:ext cx="36540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32000" y="2882880"/>
            <a:ext cx="801720" cy="927000"/>
          </a:xfrm>
          <a:custGeom>
            <a:avLst/>
            <a:gdLst/>
            <a:ahLst/>
            <a:rect l="l" t="t" r="r" b="b"/>
            <a:pathLst>
              <a:path w="505" h="584">
                <a:moveTo>
                  <a:pt x="257" y="0"/>
                </a:moveTo>
                <a:cubicBezTo>
                  <a:pt x="128" y="135"/>
                  <a:pt x="0" y="271"/>
                  <a:pt x="41" y="368"/>
                </a:cubicBezTo>
                <a:cubicBezTo>
                  <a:pt x="82" y="465"/>
                  <a:pt x="293" y="524"/>
                  <a:pt x="505" y="584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57600" y="2895480"/>
            <a:ext cx="38088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2895480"/>
            <a:ext cx="1676160" cy="838440"/>
          </a:xfrm>
          <a:custGeom>
            <a:avLst/>
            <a:gdLst/>
            <a:ahLst/>
            <a:rect l="l" t="t" r="r" b="b"/>
            <a:pathLst>
              <a:path w="863" h="512">
                <a:moveTo>
                  <a:pt x="863" y="512"/>
                </a:moveTo>
                <a:cubicBezTo>
                  <a:pt x="438" y="478"/>
                  <a:pt x="14" y="445"/>
                  <a:pt x="7" y="360"/>
                </a:cubicBezTo>
                <a:cubicBezTo>
                  <a:pt x="0" y="275"/>
                  <a:pt x="686" y="60"/>
                  <a:pt x="823" y="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1828800" y="5029200"/>
            <a:ext cx="1566360" cy="750240"/>
            <a:chOff x="1828800" y="5029200"/>
            <a:chExt cx="1566360" cy="750240"/>
          </a:xfrm>
        </p:grpSpPr>
        <p:grpSp>
          <p:nvGrpSpPr>
            <p:cNvPr id="898" name=""/>
            <p:cNvGrpSpPr/>
            <p:nvPr/>
          </p:nvGrpSpPr>
          <p:grpSpPr>
            <a:xfrm>
              <a:off x="1828800" y="5029200"/>
              <a:ext cx="1210680" cy="685440"/>
              <a:chOff x="1828800" y="5029200"/>
              <a:chExt cx="1210680" cy="68544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1846800" y="5054760"/>
                <a:ext cx="1192680" cy="659880"/>
                <a:chOff x="1846800" y="5054760"/>
                <a:chExt cx="1192680" cy="65988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2259360" y="5054760"/>
                  <a:ext cx="511200" cy="2671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972080" y="5121360"/>
                  <a:ext cx="385920" cy="275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846800" y="5288400"/>
                  <a:ext cx="259560" cy="2174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27440" y="5397120"/>
                  <a:ext cx="394200" cy="233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214720" y="5430600"/>
                  <a:ext cx="600120" cy="284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2599560" y="5128920"/>
                  <a:ext cx="37692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662560" y="5271120"/>
                  <a:ext cx="37692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2626920" y="5321880"/>
                  <a:ext cx="367560" cy="342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062080" y="5212800"/>
                  <a:ext cx="7711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1828800" y="5029200"/>
                <a:ext cx="1182960" cy="668520"/>
                <a:chOff x="1828800" y="5029200"/>
                <a:chExt cx="1182960" cy="6685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2241000" y="5029200"/>
                  <a:ext cx="502200" cy="267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953720" y="5104440"/>
                  <a:ext cx="385920" cy="267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828800" y="5271480"/>
                  <a:ext cx="259560" cy="217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909440" y="5372640"/>
                  <a:ext cx="393840" cy="233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196360" y="5413680"/>
                  <a:ext cx="592200" cy="284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581560" y="5113080"/>
                  <a:ext cx="37656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2635920" y="5255280"/>
                  <a:ext cx="37584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599560" y="5297040"/>
                  <a:ext cx="3769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043720" y="5188680"/>
                  <a:ext cx="7711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9" name=""/>
            <p:cNvSpPr/>
            <p:nvPr/>
          </p:nvSpPr>
          <p:spPr>
            <a:xfrm>
              <a:off x="2212560" y="5212440"/>
              <a:ext cx="571680" cy="25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268360" y="5230440"/>
              <a:ext cx="112680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 </a:t>
              </a: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29920" y="534060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5867280" y="4495680"/>
            <a:ext cx="1747800" cy="1065960"/>
            <a:chOff x="5867280" y="4495680"/>
            <a:chExt cx="1747800" cy="1065960"/>
          </a:xfrm>
        </p:grpSpPr>
        <p:grpSp>
          <p:nvGrpSpPr>
            <p:cNvPr id="923" name=""/>
            <p:cNvGrpSpPr/>
            <p:nvPr/>
          </p:nvGrpSpPr>
          <p:grpSpPr>
            <a:xfrm>
              <a:off x="5867280" y="4495680"/>
              <a:ext cx="1676160" cy="1065960"/>
              <a:chOff x="5867280" y="4495680"/>
              <a:chExt cx="1676160" cy="106596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5892120" y="4535640"/>
                <a:ext cx="1651320" cy="1026000"/>
                <a:chOff x="5892120" y="4535640"/>
                <a:chExt cx="1651320" cy="102600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463080" y="4535640"/>
                  <a:ext cx="708120" cy="415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065280" y="4639320"/>
                  <a:ext cx="534600" cy="428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892120" y="4898880"/>
                  <a:ext cx="359640" cy="338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004080" y="5067720"/>
                  <a:ext cx="545760" cy="363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401880" y="5119920"/>
                  <a:ext cx="831240" cy="441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934680" y="4650840"/>
                  <a:ext cx="52200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021800" y="4872240"/>
                  <a:ext cx="521640" cy="324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972840" y="4950720"/>
                  <a:ext cx="509400" cy="532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90200" y="4781520"/>
                  <a:ext cx="106776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5867280" y="4495680"/>
                <a:ext cx="1638720" cy="1039680"/>
                <a:chOff x="5867280" y="4495680"/>
                <a:chExt cx="1638720" cy="103968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6437880" y="4495680"/>
                  <a:ext cx="695520" cy="4168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040440" y="4612680"/>
                  <a:ext cx="534600" cy="4168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867280" y="4872600"/>
                  <a:ext cx="359280" cy="33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979240" y="5029920"/>
                  <a:ext cx="545760" cy="363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376320" y="5093640"/>
                  <a:ext cx="820080" cy="441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909840" y="4626000"/>
                  <a:ext cx="52164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985440" y="4847040"/>
                  <a:ext cx="52056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935040" y="4912560"/>
                  <a:ext cx="52200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65000" y="4743360"/>
                  <a:ext cx="106812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4" name=""/>
            <p:cNvSpPr/>
            <p:nvPr/>
          </p:nvSpPr>
          <p:spPr>
            <a:xfrm>
              <a:off x="6398640" y="4780440"/>
              <a:ext cx="792000" cy="391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76040" y="4812480"/>
              <a:ext cx="113904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61360" y="497988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7315200" y="4114800"/>
            <a:ext cx="522360" cy="409680"/>
            <a:chOff x="7315200" y="4114800"/>
            <a:chExt cx="522360" cy="409680"/>
          </a:xfrm>
        </p:grpSpPr>
        <p:grpSp>
          <p:nvGrpSpPr>
            <p:cNvPr id="948" name=""/>
            <p:cNvGrpSpPr/>
            <p:nvPr/>
          </p:nvGrpSpPr>
          <p:grpSpPr>
            <a:xfrm>
              <a:off x="7327800" y="4122720"/>
              <a:ext cx="509760" cy="401760"/>
              <a:chOff x="7327800" y="4122720"/>
              <a:chExt cx="509760" cy="401760"/>
            </a:xfrm>
          </p:grpSpPr>
          <p:sp>
            <p:nvSpPr>
              <p:cNvPr id="949" name=""/>
              <p:cNvSpPr/>
              <p:nvPr/>
            </p:nvSpPr>
            <p:spPr>
              <a:xfrm>
                <a:off x="7485120" y="412272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5120" y="412272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7800" y="412272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327800" y="412272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327800" y="4199040"/>
                <a:ext cx="27936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340400" y="421344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351560" y="4243320"/>
                <a:ext cx="1224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7327800" y="445608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7327800" y="431964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7315200" y="4114800"/>
              <a:ext cx="511200" cy="401760"/>
              <a:chOff x="7315200" y="4114800"/>
              <a:chExt cx="511200" cy="401760"/>
            </a:xfrm>
          </p:grpSpPr>
          <p:sp>
            <p:nvSpPr>
              <p:cNvPr id="959" name=""/>
              <p:cNvSpPr/>
              <p:nvPr/>
            </p:nvSpPr>
            <p:spPr>
              <a:xfrm>
                <a:off x="7473960" y="41148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73960" y="41148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315200" y="411480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315200" y="411480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15200" y="4191120"/>
                <a:ext cx="27936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27800" y="4206960"/>
                <a:ext cx="15732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51560" y="422928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7327800" y="4448160"/>
                <a:ext cx="25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7327800" y="4311720"/>
                <a:ext cx="25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8" name=""/>
          <p:cNvGrpSpPr/>
          <p:nvPr/>
        </p:nvGrpSpPr>
        <p:grpSpPr>
          <a:xfrm>
            <a:off x="4876920" y="2590920"/>
            <a:ext cx="521640" cy="408960"/>
            <a:chOff x="4876920" y="2590920"/>
            <a:chExt cx="521640" cy="408960"/>
          </a:xfrm>
        </p:grpSpPr>
        <p:grpSp>
          <p:nvGrpSpPr>
            <p:cNvPr id="969" name=""/>
            <p:cNvGrpSpPr/>
            <p:nvPr/>
          </p:nvGrpSpPr>
          <p:grpSpPr>
            <a:xfrm>
              <a:off x="4888800" y="2598480"/>
              <a:ext cx="509760" cy="401400"/>
              <a:chOff x="4888800" y="2598480"/>
              <a:chExt cx="509760" cy="401400"/>
            </a:xfrm>
          </p:grpSpPr>
          <p:sp>
            <p:nvSpPr>
              <p:cNvPr id="970" name=""/>
              <p:cNvSpPr/>
              <p:nvPr/>
            </p:nvSpPr>
            <p:spPr>
              <a:xfrm>
                <a:off x="5046120" y="25984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046120" y="25984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889160" y="25984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889160" y="25984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9160" y="2674440"/>
                <a:ext cx="27900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01400" y="2688840"/>
                <a:ext cx="15696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912560" y="2718720"/>
                <a:ext cx="1220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888800" y="293148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4888800" y="279504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4876920" y="2590920"/>
              <a:ext cx="510840" cy="401400"/>
              <a:chOff x="4876920" y="2590920"/>
              <a:chExt cx="510840" cy="401400"/>
            </a:xfrm>
          </p:grpSpPr>
          <p:sp>
            <p:nvSpPr>
              <p:cNvPr id="980" name=""/>
              <p:cNvSpPr/>
              <p:nvPr/>
            </p:nvSpPr>
            <p:spPr>
              <a:xfrm>
                <a:off x="5035320" y="25909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035320" y="25909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876920" y="25909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6920" y="25909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876920" y="2666880"/>
                <a:ext cx="27900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89160" y="2682720"/>
                <a:ext cx="15696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912920" y="2705040"/>
                <a:ext cx="9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4888800" y="2923920"/>
                <a:ext cx="25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4888800" y="2787480"/>
                <a:ext cx="255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048120" y="4648320"/>
            <a:ext cx="521640" cy="408960"/>
            <a:chOff x="3048120" y="4648320"/>
            <a:chExt cx="521640" cy="408960"/>
          </a:xfrm>
        </p:grpSpPr>
        <p:grpSp>
          <p:nvGrpSpPr>
            <p:cNvPr id="990" name=""/>
            <p:cNvGrpSpPr/>
            <p:nvPr/>
          </p:nvGrpSpPr>
          <p:grpSpPr>
            <a:xfrm>
              <a:off x="3060000" y="4655880"/>
              <a:ext cx="509760" cy="401400"/>
              <a:chOff x="3060000" y="4655880"/>
              <a:chExt cx="509760" cy="401400"/>
            </a:xfrm>
          </p:grpSpPr>
          <p:sp>
            <p:nvSpPr>
              <p:cNvPr id="991" name=""/>
              <p:cNvSpPr/>
              <p:nvPr/>
            </p:nvSpPr>
            <p:spPr>
              <a:xfrm>
                <a:off x="3217320" y="46558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17320" y="46558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60360" y="46558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060360" y="46558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060360" y="4731840"/>
                <a:ext cx="27900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072600" y="4746240"/>
                <a:ext cx="15696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083760" y="4776120"/>
                <a:ext cx="1220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3060000" y="498888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060000" y="485244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3048120" y="4648320"/>
              <a:ext cx="510840" cy="401400"/>
              <a:chOff x="3048120" y="4648320"/>
              <a:chExt cx="510840" cy="401400"/>
            </a:xfrm>
          </p:grpSpPr>
          <p:sp>
            <p:nvSpPr>
              <p:cNvPr id="1001" name=""/>
              <p:cNvSpPr/>
              <p:nvPr/>
            </p:nvSpPr>
            <p:spPr>
              <a:xfrm>
                <a:off x="3206520" y="46483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206520" y="46483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048120" y="46483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048120" y="46483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048120" y="4724280"/>
                <a:ext cx="27900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060360" y="4740120"/>
                <a:ext cx="15696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084120" y="4762440"/>
                <a:ext cx="9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3060000" y="4981320"/>
                <a:ext cx="25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060000" y="4844880"/>
                <a:ext cx="255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>
            <a:off x="5029200" y="2743200"/>
            <a:ext cx="685800" cy="914400"/>
          </a:xfrm>
          <a:custGeom>
            <a:avLst/>
            <a:gdLst/>
            <a:ahLst/>
            <a:rect l="l" t="t" r="r" b="b"/>
            <a:pathLst>
              <a:path w="464" h="400">
                <a:moveTo>
                  <a:pt x="32" y="400"/>
                </a:moveTo>
                <a:cubicBezTo>
                  <a:pt x="16" y="264"/>
                  <a:pt x="0" y="128"/>
                  <a:pt x="72" y="64"/>
                </a:cubicBezTo>
                <a:cubicBezTo>
                  <a:pt x="144" y="0"/>
                  <a:pt x="400" y="24"/>
                  <a:pt x="464" y="1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37A-7A1D-4B92-A7D9-87C9122983B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378000" y="5637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PCablecom Recs. for interoperability intra-zone and with PST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0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2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twork  Call Sign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5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PCablecom Signaling Transport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71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runk Gateway Control Protoc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ality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3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ynamic Q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a/Code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1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dio Codec Requ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4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Messa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6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B Frame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7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TA Provis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TA M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69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CS M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170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3352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A set of recommendations is now approved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A0AE-8658-47DD-A1C1-38EE73EE9225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teroperability with Local Exchang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590920" y="261000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505320" y="2819520"/>
            <a:ext cx="1687320" cy="1011240"/>
            <a:chOff x="3505320" y="2819520"/>
            <a:chExt cx="1687320" cy="1011240"/>
          </a:xfrm>
        </p:grpSpPr>
        <p:grpSp>
          <p:nvGrpSpPr>
            <p:cNvPr id="1019" name=""/>
            <p:cNvGrpSpPr/>
            <p:nvPr/>
          </p:nvGrpSpPr>
          <p:grpSpPr>
            <a:xfrm>
              <a:off x="3505320" y="2819520"/>
              <a:ext cx="1687320" cy="1011240"/>
              <a:chOff x="3505320" y="2819520"/>
              <a:chExt cx="1687320" cy="101124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3530520" y="2857680"/>
                <a:ext cx="1662120" cy="973080"/>
                <a:chOff x="3530520" y="2857680"/>
                <a:chExt cx="1662120" cy="97308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105440" y="2857680"/>
                  <a:ext cx="7128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705120" y="295632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3530520" y="3202200"/>
                  <a:ext cx="36216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643200" y="336240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043520" y="3411720"/>
                  <a:ext cx="8366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79920" y="296712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667400" y="317700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618080" y="3251520"/>
                  <a:ext cx="51264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3830760" y="3090960"/>
                  <a:ext cx="1074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3505320" y="2819520"/>
                <a:ext cx="1649520" cy="986040"/>
                <a:chOff x="3505320" y="2819520"/>
                <a:chExt cx="1649520" cy="9860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079880" y="2819520"/>
                  <a:ext cx="700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3679920" y="2930760"/>
                  <a:ext cx="538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3505320" y="3177000"/>
                  <a:ext cx="3618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3618000" y="332604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017960" y="338652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54720" y="294336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630680" y="3152880"/>
                  <a:ext cx="52416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579920" y="321480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805200" y="3054600"/>
                  <a:ext cx="107496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0" name=""/>
            <p:cNvSpPr/>
            <p:nvPr/>
          </p:nvSpPr>
          <p:spPr>
            <a:xfrm>
              <a:off x="4040280" y="3089520"/>
              <a:ext cx="79704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18400" y="3119760"/>
              <a:ext cx="91656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Opera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A 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03720" y="327852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876920" y="3657600"/>
            <a:ext cx="366120" cy="187200"/>
            <a:chOff x="4876920" y="3657600"/>
            <a:chExt cx="366120" cy="187200"/>
          </a:xfrm>
        </p:grpSpPr>
        <p:grpSp>
          <p:nvGrpSpPr>
            <p:cNvPr id="1044" name=""/>
            <p:cNvGrpSpPr/>
            <p:nvPr/>
          </p:nvGrpSpPr>
          <p:grpSpPr>
            <a:xfrm>
              <a:off x="4892400" y="3665520"/>
              <a:ext cx="350640" cy="179280"/>
              <a:chOff x="4892400" y="3665520"/>
              <a:chExt cx="350640" cy="179280"/>
            </a:xfrm>
          </p:grpSpPr>
          <p:sp>
            <p:nvSpPr>
              <p:cNvPr id="1045" name=""/>
              <p:cNvSpPr/>
              <p:nvPr/>
            </p:nvSpPr>
            <p:spPr>
              <a:xfrm>
                <a:off x="4892400" y="366552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08240" y="3690720"/>
                <a:ext cx="31212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925520" y="3828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165280" y="3828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990680" y="3716280"/>
                <a:ext cx="14256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28840" y="3708360"/>
                <a:ext cx="108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088960" y="370836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963680" y="3736800"/>
                <a:ext cx="185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963680" y="375768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4876920" y="3657600"/>
              <a:ext cx="348840" cy="179280"/>
              <a:chOff x="4876920" y="3657600"/>
              <a:chExt cx="348840" cy="179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4876920" y="3657600"/>
                <a:ext cx="34884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892400" y="3682800"/>
                <a:ext cx="31248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14720" y="382428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155920" y="3824280"/>
                <a:ext cx="424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975200" y="3708360"/>
                <a:ext cx="14724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018040" y="3699000"/>
                <a:ext cx="108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073480" y="369900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2880" y="372888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952880" y="374976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3441600" y="2760840"/>
            <a:ext cx="366840" cy="187920"/>
            <a:chOff x="3441600" y="2760840"/>
            <a:chExt cx="366840" cy="187920"/>
          </a:xfrm>
        </p:grpSpPr>
        <p:grpSp>
          <p:nvGrpSpPr>
            <p:cNvPr id="1065" name=""/>
            <p:cNvGrpSpPr/>
            <p:nvPr/>
          </p:nvGrpSpPr>
          <p:grpSpPr>
            <a:xfrm>
              <a:off x="3457800" y="2768400"/>
              <a:ext cx="350640" cy="180360"/>
              <a:chOff x="3457800" y="2768400"/>
              <a:chExt cx="350640" cy="180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3457800" y="276840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75080" y="2793600"/>
                <a:ext cx="31104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49092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732120" y="2931840"/>
                <a:ext cx="4932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556080" y="2818800"/>
                <a:ext cx="14292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594240" y="281088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654360" y="2810880"/>
                <a:ext cx="180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529080" y="2839680"/>
                <a:ext cx="1857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529080" y="286020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3441600" y="2760840"/>
              <a:ext cx="351000" cy="178920"/>
              <a:chOff x="3441600" y="2760840"/>
              <a:chExt cx="351000" cy="178920"/>
            </a:xfrm>
          </p:grpSpPr>
          <p:sp>
            <p:nvSpPr>
              <p:cNvPr id="1076" name=""/>
              <p:cNvSpPr/>
              <p:nvPr/>
            </p:nvSpPr>
            <p:spPr>
              <a:xfrm>
                <a:off x="3441600" y="276084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457800" y="2786040"/>
                <a:ext cx="31248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479760" y="2928960"/>
                <a:ext cx="4932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721320" y="2928960"/>
                <a:ext cx="4284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540240" y="281124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583080" y="280188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638520" y="2801880"/>
                <a:ext cx="180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517920" y="283212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517920" y="2852640"/>
                <a:ext cx="18108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5" name=""/>
          <p:cNvGrpSpPr/>
          <p:nvPr/>
        </p:nvGrpSpPr>
        <p:grpSpPr>
          <a:xfrm>
            <a:off x="3886200" y="3809880"/>
            <a:ext cx="366840" cy="187560"/>
            <a:chOff x="3886200" y="3809880"/>
            <a:chExt cx="366840" cy="187560"/>
          </a:xfrm>
        </p:grpSpPr>
        <p:grpSp>
          <p:nvGrpSpPr>
            <p:cNvPr id="1086" name=""/>
            <p:cNvGrpSpPr/>
            <p:nvPr/>
          </p:nvGrpSpPr>
          <p:grpSpPr>
            <a:xfrm>
              <a:off x="3903480" y="3817800"/>
              <a:ext cx="349560" cy="179640"/>
              <a:chOff x="3903480" y="3817800"/>
              <a:chExt cx="349560" cy="179640"/>
            </a:xfrm>
          </p:grpSpPr>
          <p:sp>
            <p:nvSpPr>
              <p:cNvPr id="1087" name=""/>
              <p:cNvSpPr/>
              <p:nvPr/>
            </p:nvSpPr>
            <p:spPr>
              <a:xfrm>
                <a:off x="3903480" y="3817800"/>
                <a:ext cx="349560" cy="7164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919680" y="384336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35520" y="398160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176720" y="398160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02120" y="3868920"/>
                <a:ext cx="141120" cy="61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040280" y="3859200"/>
                <a:ext cx="144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00400" y="3859200"/>
                <a:ext cx="1800" cy="968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973320" y="3889440"/>
                <a:ext cx="1875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973320" y="3909960"/>
                <a:ext cx="1875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3886200" y="3809880"/>
              <a:ext cx="350640" cy="179640"/>
              <a:chOff x="3886200" y="3809880"/>
              <a:chExt cx="350640" cy="179640"/>
            </a:xfrm>
          </p:grpSpPr>
          <p:sp>
            <p:nvSpPr>
              <p:cNvPr id="1097" name=""/>
              <p:cNvSpPr/>
              <p:nvPr/>
            </p:nvSpPr>
            <p:spPr>
              <a:xfrm>
                <a:off x="3886200" y="3809880"/>
                <a:ext cx="350640" cy="6984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903480" y="3833640"/>
                <a:ext cx="311400" cy="14292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924360" y="3976560"/>
                <a:ext cx="4896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165560" y="3976560"/>
                <a:ext cx="44640" cy="129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984480" y="3859200"/>
                <a:ext cx="14760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029120" y="38512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83120" y="38512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963960" y="3879720"/>
                <a:ext cx="1792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963960" y="3902040"/>
                <a:ext cx="1792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6" name=""/>
          <p:cNvSpPr/>
          <p:nvPr/>
        </p:nvSpPr>
        <p:spPr>
          <a:xfrm>
            <a:off x="5060880" y="2362320"/>
            <a:ext cx="109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648320" y="198108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IP Access Term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829480" y="2590920"/>
            <a:ext cx="1028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Local Ex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24480" y="2658960"/>
            <a:ext cx="36504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00600" y="411480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1523880" y="4876920"/>
            <a:ext cx="1808280" cy="1011240"/>
            <a:chOff x="1523880" y="4876920"/>
            <a:chExt cx="1808280" cy="1011240"/>
          </a:xfrm>
        </p:grpSpPr>
        <p:grpSp>
          <p:nvGrpSpPr>
            <p:cNvPr id="1112" name=""/>
            <p:cNvGrpSpPr/>
            <p:nvPr/>
          </p:nvGrpSpPr>
          <p:grpSpPr>
            <a:xfrm>
              <a:off x="1523880" y="4876920"/>
              <a:ext cx="1687320" cy="1011240"/>
              <a:chOff x="1523880" y="4876920"/>
              <a:chExt cx="1687320" cy="1011240"/>
            </a:xfrm>
          </p:grpSpPr>
          <p:grpSp>
            <p:nvGrpSpPr>
              <p:cNvPr id="1113" name=""/>
              <p:cNvGrpSpPr/>
              <p:nvPr/>
            </p:nvGrpSpPr>
            <p:grpSpPr>
              <a:xfrm>
                <a:off x="1549080" y="4915080"/>
                <a:ext cx="1662120" cy="973080"/>
                <a:chOff x="1549080" y="4915080"/>
                <a:chExt cx="1662120" cy="97308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2124000" y="4915080"/>
                  <a:ext cx="712800" cy="393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723680" y="5013720"/>
                  <a:ext cx="538200" cy="406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549080" y="5259600"/>
                  <a:ext cx="362160" cy="320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661760" y="541980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2062080" y="5469120"/>
                  <a:ext cx="83664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2598480" y="5024520"/>
                  <a:ext cx="52560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685960" y="5234400"/>
                  <a:ext cx="525240" cy="307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636640" y="5308920"/>
                  <a:ext cx="512640" cy="50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49320" y="5148360"/>
                  <a:ext cx="1074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1523880" y="4876920"/>
                <a:ext cx="1649520" cy="986040"/>
                <a:chOff x="1523880" y="4876920"/>
                <a:chExt cx="1649520" cy="986040"/>
              </a:xfrm>
            </p:grpSpPr>
            <p:sp>
              <p:nvSpPr>
                <p:cNvPr id="1124" name=""/>
                <p:cNvSpPr/>
                <p:nvPr/>
              </p:nvSpPr>
              <p:spPr>
                <a:xfrm>
                  <a:off x="2098440" y="4876920"/>
                  <a:ext cx="700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1698480" y="4988160"/>
                  <a:ext cx="538200" cy="3952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1523880" y="5234400"/>
                  <a:ext cx="361800" cy="320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636560" y="5383440"/>
                  <a:ext cx="549360" cy="3445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036520" y="5443920"/>
                  <a:ext cx="825480" cy="419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573280" y="5000760"/>
                  <a:ext cx="52524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649240" y="5210280"/>
                  <a:ext cx="524160" cy="3081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598480" y="5272200"/>
                  <a:ext cx="52560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823760" y="5112000"/>
                  <a:ext cx="1074960" cy="51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3" name=""/>
            <p:cNvSpPr/>
            <p:nvPr/>
          </p:nvSpPr>
          <p:spPr>
            <a:xfrm>
              <a:off x="2058840" y="5146920"/>
              <a:ext cx="797040" cy="371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138040" y="5177160"/>
              <a:ext cx="119412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Operator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22280" y="5335920"/>
              <a:ext cx="360" cy="274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4952880" y="4653000"/>
            <a:ext cx="87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7620120" y="4800600"/>
            <a:ext cx="366120" cy="187200"/>
            <a:chOff x="7620120" y="4800600"/>
            <a:chExt cx="366120" cy="187200"/>
          </a:xfrm>
        </p:grpSpPr>
        <p:grpSp>
          <p:nvGrpSpPr>
            <p:cNvPr id="1138" name=""/>
            <p:cNvGrpSpPr/>
            <p:nvPr/>
          </p:nvGrpSpPr>
          <p:grpSpPr>
            <a:xfrm>
              <a:off x="7635600" y="4808520"/>
              <a:ext cx="350640" cy="179280"/>
              <a:chOff x="7635600" y="4808520"/>
              <a:chExt cx="350640" cy="179280"/>
            </a:xfrm>
          </p:grpSpPr>
          <p:sp>
            <p:nvSpPr>
              <p:cNvPr id="1139" name=""/>
              <p:cNvSpPr/>
              <p:nvPr/>
            </p:nvSpPr>
            <p:spPr>
              <a:xfrm>
                <a:off x="7635600" y="480852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51440" y="4833720"/>
                <a:ext cx="31212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668720" y="4971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8480" y="4971960"/>
                <a:ext cx="4896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33880" y="4859280"/>
                <a:ext cx="14256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72040" y="4851360"/>
                <a:ext cx="108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32160" y="485136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706880" y="4879800"/>
                <a:ext cx="18540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706880" y="490068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7620120" y="4800600"/>
              <a:ext cx="348840" cy="179280"/>
              <a:chOff x="7620120" y="4800600"/>
              <a:chExt cx="348840" cy="179280"/>
            </a:xfrm>
          </p:grpSpPr>
          <p:sp>
            <p:nvSpPr>
              <p:cNvPr id="1149" name=""/>
              <p:cNvSpPr/>
              <p:nvPr/>
            </p:nvSpPr>
            <p:spPr>
              <a:xfrm>
                <a:off x="7620120" y="4800600"/>
                <a:ext cx="34884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35600" y="4825800"/>
                <a:ext cx="31248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57920" y="4967280"/>
                <a:ext cx="4896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899120" y="4967280"/>
                <a:ext cx="424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718400" y="4851360"/>
                <a:ext cx="14724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761240" y="4842000"/>
                <a:ext cx="108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6680" y="484200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96080" y="4871880"/>
                <a:ext cx="18072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96080" y="4892760"/>
                <a:ext cx="1807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8" name=""/>
          <p:cNvGrpSpPr/>
          <p:nvPr/>
        </p:nvGrpSpPr>
        <p:grpSpPr>
          <a:xfrm>
            <a:off x="5638680" y="4495680"/>
            <a:ext cx="366840" cy="189000"/>
            <a:chOff x="5638680" y="4495680"/>
            <a:chExt cx="366840" cy="189000"/>
          </a:xfrm>
        </p:grpSpPr>
        <p:grpSp>
          <p:nvGrpSpPr>
            <p:cNvPr id="1159" name=""/>
            <p:cNvGrpSpPr/>
            <p:nvPr/>
          </p:nvGrpSpPr>
          <p:grpSpPr>
            <a:xfrm>
              <a:off x="5654880" y="4503600"/>
              <a:ext cx="350640" cy="181080"/>
              <a:chOff x="5654880" y="4503600"/>
              <a:chExt cx="350640" cy="181080"/>
            </a:xfrm>
          </p:grpSpPr>
          <p:sp>
            <p:nvSpPr>
              <p:cNvPr id="1160" name=""/>
              <p:cNvSpPr/>
              <p:nvPr/>
            </p:nvSpPr>
            <p:spPr>
              <a:xfrm>
                <a:off x="5654880" y="4503600"/>
                <a:ext cx="350640" cy="7164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72160" y="4529160"/>
                <a:ext cx="311040" cy="13824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688000" y="4667400"/>
                <a:ext cx="493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929200" y="4667400"/>
                <a:ext cx="4932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53160" y="4554360"/>
                <a:ext cx="142920" cy="63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791320" y="454644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51440" y="454644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26160" y="457524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726160" y="459576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5638680" y="4495680"/>
              <a:ext cx="351000" cy="179640"/>
              <a:chOff x="5638680" y="4495680"/>
              <a:chExt cx="351000" cy="179640"/>
            </a:xfrm>
          </p:grpSpPr>
          <p:sp>
            <p:nvSpPr>
              <p:cNvPr id="1170" name=""/>
              <p:cNvSpPr/>
              <p:nvPr/>
            </p:nvSpPr>
            <p:spPr>
              <a:xfrm>
                <a:off x="5638680" y="4495680"/>
                <a:ext cx="351000" cy="7164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654880" y="4521240"/>
                <a:ext cx="312480" cy="14292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676840" y="4664160"/>
                <a:ext cx="4932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18400" y="4664160"/>
                <a:ext cx="42840" cy="1116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37320" y="4546440"/>
                <a:ext cx="147600" cy="6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80160" y="45370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35600" y="453708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15000" y="456732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15000" y="458784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9" name=""/>
          <p:cNvGrpSpPr/>
          <p:nvPr/>
        </p:nvGrpSpPr>
        <p:grpSpPr>
          <a:xfrm>
            <a:off x="6620040" y="5345280"/>
            <a:ext cx="366120" cy="186480"/>
            <a:chOff x="6620040" y="5345280"/>
            <a:chExt cx="366120" cy="186480"/>
          </a:xfrm>
        </p:grpSpPr>
        <p:grpSp>
          <p:nvGrpSpPr>
            <p:cNvPr id="1180" name=""/>
            <p:cNvGrpSpPr/>
            <p:nvPr/>
          </p:nvGrpSpPr>
          <p:grpSpPr>
            <a:xfrm>
              <a:off x="6636960" y="5352840"/>
              <a:ext cx="349200" cy="178920"/>
              <a:chOff x="6636960" y="5352840"/>
              <a:chExt cx="349200" cy="178920"/>
            </a:xfrm>
          </p:grpSpPr>
          <p:sp>
            <p:nvSpPr>
              <p:cNvPr id="1181" name=""/>
              <p:cNvSpPr/>
              <p:nvPr/>
            </p:nvSpPr>
            <p:spPr>
              <a:xfrm>
                <a:off x="6636960" y="535284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652800" y="5378040"/>
                <a:ext cx="31212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668640" y="5516280"/>
                <a:ext cx="48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09840" y="5516280"/>
                <a:ext cx="489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735240" y="5403600"/>
                <a:ext cx="14076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773400" y="5393880"/>
                <a:ext cx="108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833520" y="539388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706440" y="5424120"/>
                <a:ext cx="1872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706440" y="5444640"/>
                <a:ext cx="187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6620040" y="5345280"/>
              <a:ext cx="350280" cy="178920"/>
              <a:chOff x="6620040" y="5345280"/>
              <a:chExt cx="350280" cy="178920"/>
            </a:xfrm>
          </p:grpSpPr>
          <p:sp>
            <p:nvSpPr>
              <p:cNvPr id="1191" name=""/>
              <p:cNvSpPr/>
              <p:nvPr/>
            </p:nvSpPr>
            <p:spPr>
              <a:xfrm>
                <a:off x="6620040" y="5345280"/>
                <a:ext cx="35028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36960" y="5368680"/>
                <a:ext cx="311040" cy="14256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657840" y="5511600"/>
                <a:ext cx="4860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899040" y="5511600"/>
                <a:ext cx="442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17960" y="5394240"/>
                <a:ext cx="14724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762600" y="538632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16600" y="538632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97440" y="541476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97440" y="543708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0" name=""/>
          <p:cNvSpPr/>
          <p:nvPr/>
        </p:nvSpPr>
        <p:spPr>
          <a:xfrm>
            <a:off x="7423200" y="3962520"/>
            <a:ext cx="109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00800" y="342900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IP Access Term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396252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Local Ex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162920" y="4038480"/>
            <a:ext cx="36504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120" y="4648320"/>
            <a:ext cx="3274920" cy="153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" y="5110200"/>
            <a:ext cx="874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3429000" y="5410080"/>
            <a:ext cx="366840" cy="187200"/>
            <a:chOff x="3429000" y="5410080"/>
            <a:chExt cx="366840" cy="187200"/>
          </a:xfrm>
        </p:grpSpPr>
        <p:grpSp>
          <p:nvGrpSpPr>
            <p:cNvPr id="1207" name=""/>
            <p:cNvGrpSpPr/>
            <p:nvPr/>
          </p:nvGrpSpPr>
          <p:grpSpPr>
            <a:xfrm>
              <a:off x="3444840" y="5418000"/>
              <a:ext cx="351000" cy="179280"/>
              <a:chOff x="3444840" y="5418000"/>
              <a:chExt cx="351000" cy="179280"/>
            </a:xfrm>
          </p:grpSpPr>
          <p:sp>
            <p:nvSpPr>
              <p:cNvPr id="1208" name=""/>
              <p:cNvSpPr/>
              <p:nvPr/>
            </p:nvSpPr>
            <p:spPr>
              <a:xfrm>
                <a:off x="3444840" y="5418000"/>
                <a:ext cx="35100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461040" y="5443200"/>
                <a:ext cx="312480" cy="13824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5" y="3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3"/>
                    </a:lnTo>
                    <a:lnTo>
                      <a:pt x="145" y="3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5" y="3"/>
                    </a:lnTo>
                    <a:lnTo>
                      <a:pt x="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478320" y="55814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18080" y="5581440"/>
                <a:ext cx="493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543480" y="5468760"/>
                <a:ext cx="14292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581640" y="5460840"/>
                <a:ext cx="144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641760" y="5460840"/>
                <a:ext cx="1800" cy="95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516480" y="5489280"/>
                <a:ext cx="18576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516480" y="5510160"/>
                <a:ext cx="18576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29000" y="5410080"/>
              <a:ext cx="349200" cy="179280"/>
              <a:chOff x="3429000" y="5410080"/>
              <a:chExt cx="349200" cy="17928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29000" y="541008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1" y="34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3" y="45"/>
                    </a:lnTo>
                    <a:lnTo>
                      <a:pt x="220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444840" y="5435280"/>
                <a:ext cx="312840" cy="141480"/>
              </a:xfrm>
              <a:custGeom>
                <a:avLst/>
                <a:gdLst/>
                <a:ahLst/>
                <a:rect l="l" t="t" r="r" b="b"/>
                <a:pathLst>
                  <a:path w="197" h="89">
                    <a:moveTo>
                      <a:pt x="38" y="2"/>
                    </a:moveTo>
                    <a:lnTo>
                      <a:pt x="0" y="57"/>
                    </a:lnTo>
                    <a:lnTo>
                      <a:pt x="0" y="89"/>
                    </a:lnTo>
                    <a:lnTo>
                      <a:pt x="197" y="89"/>
                    </a:lnTo>
                    <a:lnTo>
                      <a:pt x="197" y="57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8" y="2"/>
                    </a:lnTo>
                    <a:lnTo>
                      <a:pt x="38" y="2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467160" y="5576760"/>
                <a:ext cx="4932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3708360" y="5576760"/>
                <a:ext cx="4284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527640" y="5460840"/>
                <a:ext cx="147600" cy="65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570480" y="5451480"/>
                <a:ext cx="144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625920" y="5451480"/>
                <a:ext cx="1800" cy="968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505320" y="5481360"/>
                <a:ext cx="181080" cy="180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505320" y="5502240"/>
                <a:ext cx="18108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1447920" y="4876920"/>
            <a:ext cx="366120" cy="187920"/>
            <a:chOff x="1447920" y="4876920"/>
            <a:chExt cx="366120" cy="187920"/>
          </a:xfrm>
        </p:grpSpPr>
        <p:grpSp>
          <p:nvGrpSpPr>
            <p:cNvPr id="1228" name=""/>
            <p:cNvGrpSpPr/>
            <p:nvPr/>
          </p:nvGrpSpPr>
          <p:grpSpPr>
            <a:xfrm>
              <a:off x="1463760" y="4884480"/>
              <a:ext cx="350280" cy="180360"/>
              <a:chOff x="1463760" y="4884480"/>
              <a:chExt cx="350280" cy="180360"/>
            </a:xfrm>
          </p:grpSpPr>
          <p:sp>
            <p:nvSpPr>
              <p:cNvPr id="1229" name=""/>
              <p:cNvSpPr/>
              <p:nvPr/>
            </p:nvSpPr>
            <p:spPr>
              <a:xfrm>
                <a:off x="1463760" y="4884480"/>
                <a:ext cx="35028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6"/>
                    </a:moveTo>
                    <a:lnTo>
                      <a:pt x="0" y="27"/>
                    </a:lnTo>
                    <a:lnTo>
                      <a:pt x="0" y="43"/>
                    </a:lnTo>
                    <a:lnTo>
                      <a:pt x="48" y="35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128" y="32"/>
                    </a:lnTo>
                    <a:lnTo>
                      <a:pt x="128" y="45"/>
                    </a:lnTo>
                    <a:lnTo>
                      <a:pt x="169" y="35"/>
                    </a:lnTo>
                    <a:lnTo>
                      <a:pt x="211" y="45"/>
                    </a:lnTo>
                    <a:lnTo>
                      <a:pt x="221" y="32"/>
                    </a:lnTo>
                    <a:lnTo>
                      <a:pt x="193" y="3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3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480680" y="4909680"/>
                <a:ext cx="310680" cy="137880"/>
              </a:xfrm>
              <a:custGeom>
                <a:avLst/>
                <a:gdLst/>
                <a:ahLst/>
                <a:rect l="l" t="t" r="r" b="b"/>
                <a:pathLst>
                  <a:path w="196" h="87">
                    <a:moveTo>
                      <a:pt x="34" y="3"/>
                    </a:moveTo>
                    <a:lnTo>
                      <a:pt x="0" y="56"/>
                    </a:lnTo>
                    <a:lnTo>
                      <a:pt x="0" y="87"/>
                    </a:lnTo>
                    <a:lnTo>
                      <a:pt x="196" y="87"/>
                    </a:lnTo>
                    <a:lnTo>
                      <a:pt x="196" y="56"/>
                    </a:lnTo>
                    <a:lnTo>
                      <a:pt x="151" y="3"/>
                    </a:lnTo>
                    <a:lnTo>
                      <a:pt x="144" y="3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496520" y="5047920"/>
                <a:ext cx="4896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737720" y="5047920"/>
                <a:ext cx="48960" cy="16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561680" y="4934880"/>
                <a:ext cx="142560" cy="6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599840" y="4926960"/>
                <a:ext cx="108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659960" y="4926960"/>
                <a:ext cx="1440" cy="950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534680" y="4955760"/>
                <a:ext cx="1854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534680" y="4976280"/>
                <a:ext cx="1854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1447920" y="4876920"/>
              <a:ext cx="350640" cy="178920"/>
              <a:chOff x="1447920" y="4876920"/>
              <a:chExt cx="350640" cy="178920"/>
            </a:xfrm>
          </p:grpSpPr>
          <p:sp>
            <p:nvSpPr>
              <p:cNvPr id="1239" name=""/>
              <p:cNvSpPr/>
              <p:nvPr/>
            </p:nvSpPr>
            <p:spPr>
              <a:xfrm>
                <a:off x="1447920" y="4876920"/>
                <a:ext cx="350640" cy="71280"/>
              </a:xfrm>
              <a:custGeom>
                <a:avLst/>
                <a:gdLst/>
                <a:ahLst/>
                <a:rect l="l" t="t" r="r" b="b"/>
                <a:pathLst>
                  <a:path w="221" h="45">
                    <a:moveTo>
                      <a:pt x="17" y="8"/>
                    </a:moveTo>
                    <a:lnTo>
                      <a:pt x="0" y="26"/>
                    </a:lnTo>
                    <a:lnTo>
                      <a:pt x="3" y="42"/>
                    </a:lnTo>
                    <a:lnTo>
                      <a:pt x="52" y="34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72" y="34"/>
                    </a:lnTo>
                    <a:lnTo>
                      <a:pt x="214" y="45"/>
                    </a:lnTo>
                    <a:lnTo>
                      <a:pt x="221" y="32"/>
                    </a:lnTo>
                    <a:lnTo>
                      <a:pt x="196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7" y="5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463760" y="4902120"/>
                <a:ext cx="312120" cy="142560"/>
              </a:xfrm>
              <a:custGeom>
                <a:avLst/>
                <a:gdLst/>
                <a:ahLst/>
                <a:rect l="l" t="t" r="r" b="b"/>
                <a:pathLst>
                  <a:path w="197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7" y="90"/>
                    </a:lnTo>
                    <a:lnTo>
                      <a:pt x="197" y="58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2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5" y="0"/>
                    </a:lnTo>
                    <a:lnTo>
                      <a:pt x="45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485720" y="5045040"/>
                <a:ext cx="4896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27280" y="5045040"/>
                <a:ext cx="42480" cy="108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546200" y="4927320"/>
                <a:ext cx="147240" cy="6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589040" y="491796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644480" y="4917960"/>
                <a:ext cx="144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523880" y="4948200"/>
                <a:ext cx="18072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523880" y="4968720"/>
                <a:ext cx="180720" cy="10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8" name=""/>
          <p:cNvGrpSpPr/>
          <p:nvPr/>
        </p:nvGrpSpPr>
        <p:grpSpPr>
          <a:xfrm>
            <a:off x="1676520" y="5715000"/>
            <a:ext cx="366120" cy="186480"/>
            <a:chOff x="1676520" y="5715000"/>
            <a:chExt cx="366120" cy="186480"/>
          </a:xfrm>
        </p:grpSpPr>
        <p:grpSp>
          <p:nvGrpSpPr>
            <p:cNvPr id="1249" name=""/>
            <p:cNvGrpSpPr/>
            <p:nvPr/>
          </p:nvGrpSpPr>
          <p:grpSpPr>
            <a:xfrm>
              <a:off x="1693440" y="5722560"/>
              <a:ext cx="349200" cy="178920"/>
              <a:chOff x="1693440" y="5722560"/>
              <a:chExt cx="349200" cy="178920"/>
            </a:xfrm>
          </p:grpSpPr>
          <p:sp>
            <p:nvSpPr>
              <p:cNvPr id="1250" name=""/>
              <p:cNvSpPr/>
              <p:nvPr/>
            </p:nvSpPr>
            <p:spPr>
              <a:xfrm>
                <a:off x="1693440" y="5722560"/>
                <a:ext cx="349200" cy="71280"/>
              </a:xfrm>
              <a:custGeom>
                <a:avLst/>
                <a:gdLst/>
                <a:ahLst/>
                <a:rect l="l" t="t" r="r" b="b"/>
                <a:pathLst>
                  <a:path w="220" h="45">
                    <a:moveTo>
                      <a:pt x="17" y="5"/>
                    </a:moveTo>
                    <a:lnTo>
                      <a:pt x="0" y="26"/>
                    </a:lnTo>
                    <a:lnTo>
                      <a:pt x="0" y="42"/>
                    </a:lnTo>
                    <a:lnTo>
                      <a:pt x="48" y="34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127" y="32"/>
                    </a:lnTo>
                    <a:lnTo>
                      <a:pt x="127" y="45"/>
                    </a:lnTo>
                    <a:lnTo>
                      <a:pt x="169" y="34"/>
                    </a:lnTo>
                    <a:lnTo>
                      <a:pt x="210" y="45"/>
                    </a:lnTo>
                    <a:lnTo>
                      <a:pt x="220" y="32"/>
                    </a:lnTo>
                    <a:lnTo>
                      <a:pt x="193" y="3"/>
                    </a:lnTo>
                    <a:lnTo>
                      <a:pt x="144" y="0"/>
                    </a:lnTo>
                    <a:lnTo>
                      <a:pt x="75" y="0"/>
                    </a:lnTo>
                    <a:lnTo>
                      <a:pt x="17" y="3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709280" y="5747760"/>
                <a:ext cx="312120" cy="137880"/>
              </a:xfrm>
              <a:custGeom>
                <a:avLst/>
                <a:gdLst/>
                <a:ahLst/>
                <a:rect l="l" t="t" r="r" b="b"/>
                <a:pathLst>
                  <a:path w="197" h="87">
                    <a:moveTo>
                      <a:pt x="34" y="2"/>
                    </a:moveTo>
                    <a:lnTo>
                      <a:pt x="0" y="55"/>
                    </a:lnTo>
                    <a:lnTo>
                      <a:pt x="0" y="87"/>
                    </a:lnTo>
                    <a:lnTo>
                      <a:pt x="197" y="87"/>
                    </a:lnTo>
                    <a:lnTo>
                      <a:pt x="197" y="55"/>
                    </a:lnTo>
                    <a:lnTo>
                      <a:pt x="152" y="2"/>
                    </a:lnTo>
                    <a:lnTo>
                      <a:pt x="145" y="2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31" y="2"/>
                    </a:lnTo>
                    <a:lnTo>
                      <a:pt x="62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45" y="2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725120" y="5886000"/>
                <a:ext cx="4860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966320" y="5886000"/>
                <a:ext cx="4896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791720" y="5773320"/>
                <a:ext cx="140760" cy="61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829880" y="5763600"/>
                <a:ext cx="108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890000" y="5763600"/>
                <a:ext cx="1440" cy="96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62920" y="5793840"/>
                <a:ext cx="18720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62920" y="5814360"/>
                <a:ext cx="187200" cy="14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1676520" y="5715000"/>
              <a:ext cx="350280" cy="178920"/>
              <a:chOff x="1676520" y="5715000"/>
              <a:chExt cx="350280" cy="178920"/>
            </a:xfrm>
          </p:grpSpPr>
          <p:sp>
            <p:nvSpPr>
              <p:cNvPr id="1260" name=""/>
              <p:cNvSpPr/>
              <p:nvPr/>
            </p:nvSpPr>
            <p:spPr>
              <a:xfrm>
                <a:off x="1676520" y="5715000"/>
                <a:ext cx="350280" cy="69480"/>
              </a:xfrm>
              <a:custGeom>
                <a:avLst/>
                <a:gdLst/>
                <a:ahLst/>
                <a:rect l="l" t="t" r="r" b="b"/>
                <a:pathLst>
                  <a:path w="221" h="44">
                    <a:moveTo>
                      <a:pt x="18" y="8"/>
                    </a:moveTo>
                    <a:lnTo>
                      <a:pt x="0" y="26"/>
                    </a:lnTo>
                    <a:lnTo>
                      <a:pt x="4" y="42"/>
                    </a:lnTo>
                    <a:lnTo>
                      <a:pt x="52" y="34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128" y="31"/>
                    </a:lnTo>
                    <a:lnTo>
                      <a:pt x="128" y="44"/>
                    </a:lnTo>
                    <a:lnTo>
                      <a:pt x="173" y="34"/>
                    </a:lnTo>
                    <a:lnTo>
                      <a:pt x="214" y="44"/>
                    </a:lnTo>
                    <a:lnTo>
                      <a:pt x="221" y="31"/>
                    </a:lnTo>
                    <a:lnTo>
                      <a:pt x="197" y="5"/>
                    </a:lnTo>
                    <a:lnTo>
                      <a:pt x="145" y="0"/>
                    </a:lnTo>
                    <a:lnTo>
                      <a:pt x="76" y="0"/>
                    </a:lnTo>
                    <a:lnTo>
                      <a:pt x="18" y="5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9393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693440" y="5738400"/>
                <a:ext cx="311040" cy="142560"/>
              </a:xfrm>
              <a:custGeom>
                <a:avLst/>
                <a:gdLst/>
                <a:ahLst/>
                <a:rect l="l" t="t" r="r" b="b"/>
                <a:pathLst>
                  <a:path w="196" h="90">
                    <a:moveTo>
                      <a:pt x="38" y="3"/>
                    </a:moveTo>
                    <a:lnTo>
                      <a:pt x="0" y="58"/>
                    </a:lnTo>
                    <a:lnTo>
                      <a:pt x="0" y="90"/>
                    </a:lnTo>
                    <a:lnTo>
                      <a:pt x="196" y="90"/>
                    </a:lnTo>
                    <a:lnTo>
                      <a:pt x="196" y="58"/>
                    </a:lnTo>
                    <a:lnTo>
                      <a:pt x="151" y="3"/>
                    </a:lnTo>
                    <a:lnTo>
                      <a:pt x="148" y="3"/>
                    </a:lnTo>
                    <a:lnTo>
                      <a:pt x="141" y="0"/>
                    </a:lnTo>
                    <a:lnTo>
                      <a:pt x="131" y="0"/>
                    </a:lnTo>
                    <a:lnTo>
                      <a:pt x="131" y="3"/>
                    </a:lnTo>
                    <a:lnTo>
                      <a:pt x="62" y="3"/>
                    </a:lnTo>
                    <a:lnTo>
                      <a:pt x="58" y="0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38" y="3"/>
                    </a:lnTo>
                    <a:lnTo>
                      <a:pt x="38" y="3"/>
                    </a:lnTo>
                    <a:close/>
                  </a:path>
                </a:pathLst>
              </a:custGeom>
              <a:solidFill>
                <a:srgbClr val="b7b7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714320" y="5881320"/>
                <a:ext cx="4860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955520" y="5881320"/>
                <a:ext cx="44280" cy="12600"/>
              </a:xfrm>
              <a:prstGeom prst="rect">
                <a:avLst/>
              </a:prstGeom>
              <a:solidFill>
                <a:srgbClr val="7a7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774440" y="5763960"/>
                <a:ext cx="147240" cy="66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819080" y="575604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873080" y="5756040"/>
                <a:ext cx="1080" cy="9648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753920" y="578448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753920" y="5806800"/>
                <a:ext cx="178920" cy="1440"/>
              </a:xfrm>
              <a:prstGeom prst="line">
                <a:avLst/>
              </a:prstGeom>
              <a:ln w="11160">
                <a:solidFill>
                  <a:srgbClr val="b7b7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9" name=""/>
          <p:cNvSpPr/>
          <p:nvPr/>
        </p:nvSpPr>
        <p:spPr>
          <a:xfrm>
            <a:off x="1905120" y="3886200"/>
            <a:ext cx="99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IP Access Term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29000" y="4267080"/>
            <a:ext cx="1066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Local Ex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971800" y="4572000"/>
            <a:ext cx="380880" cy="146160"/>
          </a:xfrm>
          <a:custGeom>
            <a:avLst/>
            <a:gdLst/>
            <a:ahLst/>
            <a:rect l="l" t="t" r="r" b="b"/>
            <a:pathLst>
              <a:path w="230" h="92">
                <a:moveTo>
                  <a:pt x="173" y="0"/>
                </a:moveTo>
                <a:lnTo>
                  <a:pt x="173" y="22"/>
                </a:lnTo>
                <a:lnTo>
                  <a:pt x="0" y="22"/>
                </a:lnTo>
                <a:lnTo>
                  <a:pt x="0" y="69"/>
                </a:lnTo>
                <a:lnTo>
                  <a:pt x="173" y="69"/>
                </a:lnTo>
                <a:lnTo>
                  <a:pt x="173" y="92"/>
                </a:lnTo>
                <a:lnTo>
                  <a:pt x="230" y="45"/>
                </a:lnTo>
                <a:lnTo>
                  <a:pt x="173" y="0"/>
                </a:lnTo>
                <a:close/>
              </a:path>
            </a:pathLst>
          </a:cu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1828800" y="5029200"/>
            <a:ext cx="1566360" cy="750240"/>
            <a:chOff x="1828800" y="5029200"/>
            <a:chExt cx="1566360" cy="750240"/>
          </a:xfrm>
        </p:grpSpPr>
        <p:grpSp>
          <p:nvGrpSpPr>
            <p:cNvPr id="1273" name=""/>
            <p:cNvGrpSpPr/>
            <p:nvPr/>
          </p:nvGrpSpPr>
          <p:grpSpPr>
            <a:xfrm>
              <a:off x="1828800" y="5029200"/>
              <a:ext cx="1210680" cy="685440"/>
              <a:chOff x="1828800" y="5029200"/>
              <a:chExt cx="1210680" cy="68544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1846800" y="5054760"/>
                <a:ext cx="1192680" cy="659880"/>
                <a:chOff x="1846800" y="5054760"/>
                <a:chExt cx="1192680" cy="65988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259360" y="5054760"/>
                  <a:ext cx="511200" cy="2671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1972080" y="5121360"/>
                  <a:ext cx="385920" cy="2754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846800" y="5288400"/>
                  <a:ext cx="259560" cy="2174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1927440" y="5397120"/>
                  <a:ext cx="394200" cy="233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214720" y="5430600"/>
                  <a:ext cx="600120" cy="284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599560" y="5128920"/>
                  <a:ext cx="37692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62560" y="5271120"/>
                  <a:ext cx="37692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26920" y="5321880"/>
                  <a:ext cx="367560" cy="342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062080" y="5212800"/>
                  <a:ext cx="7711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1828800" y="5029200"/>
                <a:ext cx="1182960" cy="668520"/>
                <a:chOff x="1828800" y="5029200"/>
                <a:chExt cx="1182960" cy="668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2241000" y="5029200"/>
                  <a:ext cx="502200" cy="267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953720" y="5104440"/>
                  <a:ext cx="385920" cy="2678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828800" y="5271480"/>
                  <a:ext cx="259560" cy="217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1909440" y="5372640"/>
                  <a:ext cx="393840" cy="2336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196360" y="5413680"/>
                  <a:ext cx="592200" cy="284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581560" y="5113080"/>
                  <a:ext cx="37656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35920" y="5255280"/>
                  <a:ext cx="375840" cy="2088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599560" y="5297040"/>
                  <a:ext cx="3769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043720" y="5188680"/>
                  <a:ext cx="771120" cy="35100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4" name=""/>
            <p:cNvSpPr/>
            <p:nvPr/>
          </p:nvSpPr>
          <p:spPr>
            <a:xfrm>
              <a:off x="2212560" y="5212440"/>
              <a:ext cx="571680" cy="252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68360" y="5230440"/>
              <a:ext cx="112680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 </a:t>
              </a: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329920" y="534060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867280" y="4495680"/>
            <a:ext cx="1747800" cy="1065960"/>
            <a:chOff x="5867280" y="4495680"/>
            <a:chExt cx="1747800" cy="1065960"/>
          </a:xfrm>
        </p:grpSpPr>
        <p:grpSp>
          <p:nvGrpSpPr>
            <p:cNvPr id="1298" name=""/>
            <p:cNvGrpSpPr/>
            <p:nvPr/>
          </p:nvGrpSpPr>
          <p:grpSpPr>
            <a:xfrm>
              <a:off x="5867280" y="4495680"/>
              <a:ext cx="1676160" cy="1065960"/>
              <a:chOff x="5867280" y="4495680"/>
              <a:chExt cx="1676160" cy="1065960"/>
            </a:xfrm>
          </p:grpSpPr>
          <p:grpSp>
            <p:nvGrpSpPr>
              <p:cNvPr id="1299" name=""/>
              <p:cNvGrpSpPr/>
              <p:nvPr/>
            </p:nvGrpSpPr>
            <p:grpSpPr>
              <a:xfrm>
                <a:off x="5892120" y="4535640"/>
                <a:ext cx="1651320" cy="1026000"/>
                <a:chOff x="5892120" y="4535640"/>
                <a:chExt cx="1651320" cy="102600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6463080" y="4535640"/>
                  <a:ext cx="708120" cy="415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6065280" y="4639320"/>
                  <a:ext cx="534600" cy="428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892120" y="4898880"/>
                  <a:ext cx="359640" cy="3380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004080" y="5067720"/>
                  <a:ext cx="545760" cy="363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6401880" y="5119920"/>
                  <a:ext cx="831240" cy="441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6934680" y="4650840"/>
                  <a:ext cx="52200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021800" y="4872240"/>
                  <a:ext cx="521640" cy="3243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972840" y="4950720"/>
                  <a:ext cx="509400" cy="532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190200" y="4781520"/>
                  <a:ext cx="106776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5867280" y="4495680"/>
                <a:ext cx="1638720" cy="1039680"/>
                <a:chOff x="5867280" y="4495680"/>
                <a:chExt cx="1638720" cy="10396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6437880" y="4495680"/>
                  <a:ext cx="695520" cy="4168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040440" y="4612680"/>
                  <a:ext cx="534600" cy="4168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5867280" y="4872600"/>
                  <a:ext cx="359280" cy="3376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979240" y="5029920"/>
                  <a:ext cx="545760" cy="36324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376320" y="5093640"/>
                  <a:ext cx="820080" cy="441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909840" y="4626000"/>
                  <a:ext cx="52164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985440" y="4847040"/>
                  <a:ext cx="520560" cy="32472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935040" y="4912560"/>
                  <a:ext cx="52200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165000" y="4743360"/>
                  <a:ext cx="1068120" cy="54576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9" name=""/>
            <p:cNvSpPr/>
            <p:nvPr/>
          </p:nvSpPr>
          <p:spPr>
            <a:xfrm>
              <a:off x="6398640" y="4780440"/>
              <a:ext cx="792000" cy="3916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476040" y="4812480"/>
              <a:ext cx="1139040" cy="549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Operator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Times New Roman"/>
                </a:rPr>
                <a:t>Z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61360" y="4979880"/>
              <a:ext cx="360" cy="2743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705720" y="3962520"/>
            <a:ext cx="521640" cy="408960"/>
            <a:chOff x="6705720" y="3962520"/>
            <a:chExt cx="521640" cy="408960"/>
          </a:xfrm>
        </p:grpSpPr>
        <p:grpSp>
          <p:nvGrpSpPr>
            <p:cNvPr id="1323" name=""/>
            <p:cNvGrpSpPr/>
            <p:nvPr/>
          </p:nvGrpSpPr>
          <p:grpSpPr>
            <a:xfrm>
              <a:off x="6717600" y="3970080"/>
              <a:ext cx="509760" cy="401400"/>
              <a:chOff x="6717600" y="3970080"/>
              <a:chExt cx="509760" cy="40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6874920" y="39700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74920" y="39700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717960" y="39700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717960" y="39700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17960" y="4046040"/>
                <a:ext cx="27900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0200" y="4060440"/>
                <a:ext cx="15696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41360" y="4090320"/>
                <a:ext cx="1220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6717600" y="430308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6717600" y="416664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6705720" y="3962520"/>
              <a:ext cx="510840" cy="401400"/>
              <a:chOff x="6705720" y="3962520"/>
              <a:chExt cx="510840" cy="401400"/>
            </a:xfrm>
          </p:grpSpPr>
          <p:sp>
            <p:nvSpPr>
              <p:cNvPr id="1334" name=""/>
              <p:cNvSpPr/>
              <p:nvPr/>
            </p:nvSpPr>
            <p:spPr>
              <a:xfrm>
                <a:off x="6864120" y="39625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864120" y="39625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05720" y="39625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05720" y="39625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05720" y="4038480"/>
                <a:ext cx="27900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17960" y="4054320"/>
                <a:ext cx="15696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41720" y="4076640"/>
                <a:ext cx="9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6717600" y="4295520"/>
                <a:ext cx="25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717600" y="4159080"/>
                <a:ext cx="255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3" name=""/>
          <p:cNvGrpSpPr/>
          <p:nvPr/>
        </p:nvGrpSpPr>
        <p:grpSpPr>
          <a:xfrm>
            <a:off x="4876920" y="2590920"/>
            <a:ext cx="521640" cy="408960"/>
            <a:chOff x="4876920" y="2590920"/>
            <a:chExt cx="521640" cy="408960"/>
          </a:xfrm>
        </p:grpSpPr>
        <p:grpSp>
          <p:nvGrpSpPr>
            <p:cNvPr id="1344" name=""/>
            <p:cNvGrpSpPr/>
            <p:nvPr/>
          </p:nvGrpSpPr>
          <p:grpSpPr>
            <a:xfrm>
              <a:off x="4888800" y="2598480"/>
              <a:ext cx="509760" cy="401400"/>
              <a:chOff x="4888800" y="2598480"/>
              <a:chExt cx="509760" cy="401400"/>
            </a:xfrm>
          </p:grpSpPr>
          <p:sp>
            <p:nvSpPr>
              <p:cNvPr id="1345" name=""/>
              <p:cNvSpPr/>
              <p:nvPr/>
            </p:nvSpPr>
            <p:spPr>
              <a:xfrm>
                <a:off x="5046120" y="25984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46120" y="259848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889160" y="25984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889160" y="2598480"/>
                <a:ext cx="509400" cy="7596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89160" y="2674440"/>
                <a:ext cx="279000" cy="32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901400" y="2688840"/>
                <a:ext cx="156960" cy="53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912560" y="2718720"/>
                <a:ext cx="12204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4888800" y="293148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888800" y="2795040"/>
                <a:ext cx="279000" cy="144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4876920" y="2590920"/>
              <a:ext cx="510840" cy="401400"/>
              <a:chOff x="4876920" y="2590920"/>
              <a:chExt cx="510840" cy="401400"/>
            </a:xfrm>
          </p:grpSpPr>
          <p:sp>
            <p:nvSpPr>
              <p:cNvPr id="1355" name=""/>
              <p:cNvSpPr/>
              <p:nvPr/>
            </p:nvSpPr>
            <p:spPr>
              <a:xfrm>
                <a:off x="5035320" y="25909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035320" y="2590920"/>
                <a:ext cx="352080" cy="40140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876920" y="25909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76920" y="2590920"/>
                <a:ext cx="510840" cy="7596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876920" y="2666880"/>
                <a:ext cx="279000" cy="32508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889160" y="2682720"/>
                <a:ext cx="156960" cy="5220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912920" y="2705040"/>
                <a:ext cx="9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4888800" y="2923920"/>
                <a:ext cx="25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4888800" y="2787480"/>
                <a:ext cx="255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4" name=""/>
          <p:cNvGrpSpPr/>
          <p:nvPr/>
        </p:nvGrpSpPr>
        <p:grpSpPr>
          <a:xfrm>
            <a:off x="2438280" y="4495680"/>
            <a:ext cx="522360" cy="409680"/>
            <a:chOff x="2438280" y="4495680"/>
            <a:chExt cx="522360" cy="409680"/>
          </a:xfrm>
        </p:grpSpPr>
        <p:grpSp>
          <p:nvGrpSpPr>
            <p:cNvPr id="1365" name=""/>
            <p:cNvGrpSpPr/>
            <p:nvPr/>
          </p:nvGrpSpPr>
          <p:grpSpPr>
            <a:xfrm>
              <a:off x="2450880" y="4503600"/>
              <a:ext cx="509760" cy="401760"/>
              <a:chOff x="2450880" y="4503600"/>
              <a:chExt cx="509760" cy="401760"/>
            </a:xfrm>
          </p:grpSpPr>
          <p:sp>
            <p:nvSpPr>
              <p:cNvPr id="1366" name=""/>
              <p:cNvSpPr/>
              <p:nvPr/>
            </p:nvSpPr>
            <p:spPr>
              <a:xfrm>
                <a:off x="2608200" y="45036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608200" y="450360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7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7" y="25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450880" y="450360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450880" y="4503600"/>
                <a:ext cx="509760" cy="76320"/>
              </a:xfrm>
              <a:custGeom>
                <a:avLst/>
                <a:gdLst/>
                <a:ahLst/>
                <a:rect l="l" t="t" r="r" b="b"/>
                <a:pathLst>
                  <a:path w="321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1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450880" y="4579920"/>
                <a:ext cx="279360" cy="32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463480" y="4594320"/>
                <a:ext cx="157320" cy="54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474640" y="4624200"/>
                <a:ext cx="12240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2450880" y="483696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H="1">
                <a:off x="2450880" y="4700520"/>
                <a:ext cx="279360" cy="1800"/>
              </a:xfrm>
              <a:prstGeom prst="line">
                <a:avLst/>
              </a:prstGeom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2438280" y="4495680"/>
              <a:ext cx="511200" cy="401760"/>
              <a:chOff x="2438280" y="4495680"/>
              <a:chExt cx="511200" cy="401760"/>
            </a:xfrm>
          </p:grpSpPr>
          <p:sp>
            <p:nvSpPr>
              <p:cNvPr id="1376" name=""/>
              <p:cNvSpPr/>
              <p:nvPr/>
            </p:nvSpPr>
            <p:spPr>
              <a:xfrm>
                <a:off x="2597040" y="449568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597040" y="4495680"/>
                <a:ext cx="352440" cy="401760"/>
              </a:xfrm>
              <a:custGeom>
                <a:avLst/>
                <a:gdLst/>
                <a:ahLst/>
                <a:rect l="l" t="t" r="r" b="b"/>
                <a:pathLst>
                  <a:path w="222" h="253">
                    <a:moveTo>
                      <a:pt x="76" y="253"/>
                    </a:moveTo>
                    <a:lnTo>
                      <a:pt x="0" y="38"/>
                    </a:lnTo>
                    <a:lnTo>
                      <a:pt x="222" y="0"/>
                    </a:lnTo>
                    <a:lnTo>
                      <a:pt x="222" y="205"/>
                    </a:lnTo>
                    <a:lnTo>
                      <a:pt x="76" y="253"/>
                    </a:lnTo>
                    <a:close/>
                  </a:path>
                </a:pathLst>
              </a:custGeom>
              <a:solidFill>
                <a:srgbClr val="a5a5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438280" y="449568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438280" y="4495680"/>
                <a:ext cx="511200" cy="76320"/>
              </a:xfrm>
              <a:custGeom>
                <a:avLst/>
                <a:gdLst/>
                <a:ahLst/>
                <a:rect l="l" t="t" r="r" b="b"/>
                <a:pathLst>
                  <a:path w="322" h="48">
                    <a:moveTo>
                      <a:pt x="0" y="48"/>
                    </a:moveTo>
                    <a:lnTo>
                      <a:pt x="138" y="0"/>
                    </a:lnTo>
                    <a:lnTo>
                      <a:pt x="322" y="0"/>
                    </a:lnTo>
                    <a:lnTo>
                      <a:pt x="17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9c9b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438280" y="4572000"/>
                <a:ext cx="279360" cy="325440"/>
              </a:xfrm>
              <a:prstGeom prst="rect">
                <a:avLst/>
              </a:prstGeom>
              <a:solidFill>
                <a:srgbClr val="b7b79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450880" y="4587840"/>
                <a:ext cx="157320" cy="52560"/>
              </a:xfrm>
              <a:prstGeom prst="rect">
                <a:avLst/>
              </a:prstGeom>
              <a:solidFill>
                <a:srgbClr val="7a7a5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474640" y="4610160"/>
                <a:ext cx="968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2450880" y="4829040"/>
                <a:ext cx="25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>
                <a:off x="2450880" y="4692600"/>
                <a:ext cx="25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5" name=""/>
          <p:cNvSpPr/>
          <p:nvPr/>
        </p:nvSpPr>
        <p:spPr>
          <a:xfrm>
            <a:off x="5029200" y="2743200"/>
            <a:ext cx="685800" cy="914400"/>
          </a:xfrm>
          <a:custGeom>
            <a:avLst/>
            <a:gdLst/>
            <a:ahLst/>
            <a:rect l="l" t="t" r="r" b="b"/>
            <a:pathLst>
              <a:path w="464" h="400">
                <a:moveTo>
                  <a:pt x="32" y="400"/>
                </a:moveTo>
                <a:cubicBezTo>
                  <a:pt x="16" y="264"/>
                  <a:pt x="0" y="128"/>
                  <a:pt x="72" y="64"/>
                </a:cubicBezTo>
                <a:cubicBezTo>
                  <a:pt x="144" y="0"/>
                  <a:pt x="400" y="24"/>
                  <a:pt x="464" y="1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226-4A58-4DCF-9AD8-CDF1F0A43A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21:47:07Z</dcterms:created>
  <dc:creator>Edward Miller</dc:creator>
  <dc:description/>
  <dc:language>en-US</dc:language>
  <cp:lastModifiedBy>Richard John Catchpole</cp:lastModifiedBy>
  <dcterms:modified xsi:type="dcterms:W3CDTF">2002-03-06T11:21:19Z</dcterms:modified>
  <cp:revision>119</cp:revision>
  <dc:subject/>
  <dc:title>IPCablecom Overview</dc:title>
</cp:coreProperties>
</file>