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40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B81-CA04-4371-9328-424399B6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D27-3D8F-4068-9526-A586FC86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E33-C82F-44DB-BC51-DB589102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36A-B283-4686-945F-7600A9CA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3DC5-11B5-4A50-A019-6D21E813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1F7C-6322-415F-BE30-C95C24E5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9BF4-3D2E-4F02-9A76-D31F104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804-F8C4-498D-A0C4-CB28D8A7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9E0B-8082-40AB-BDDB-C99D85E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AE0-197B-4BF5-B3B1-5F8E2FA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DAE9-2A3C-4EEA-95B7-81BB0CC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45B-D8D7-4ED0-A6A1-A69320B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BAA0-47CF-4EAA-BD88-C1C8E96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814-CB11-402E-AC04-3623150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90A8-D5E7-4A53-B582-31D496C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DB19-E4BB-47E2-B00B-00FB236B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F1ED-CAB6-4E7D-8C4F-19DC7CF7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5DD-2ED2-46FA-B743-F2BAE03A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0FC-D5CD-4C3A-9EEE-6A4844F1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FC2-8275-40B8-9031-AB828692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5EC-D9E4-4AD3-B858-7965A20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7D8-A302-4108-A35B-8115106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F03-F439-419B-AB6E-938E6C1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766-89C1-446B-B00D-1027754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F54-6E38-4B69-82AC-27FB8319D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B59-C130-46F2-89FF-DDF677213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1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664-49F4-4F7B-A6D0-FF065400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7010280" cy="220968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Workshop on 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Multimedia Convergence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(Geneva, 12-15 March 200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743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bio Big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orkshop Coordinat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440" y="6162840"/>
            <a:ext cx="93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760" y="585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5480" y="5943600"/>
            <a:ext cx="96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610480" y="6324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19320"/>
          <a:ext cx="9907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90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525-70CD-47CB-924E-5852DE17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543800" cy="114300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orkshop on 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Multimedia Convergenc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Cablecom (ITU-T SG 9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com 2004 (ITU-T SG 1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ity in Multimedia (ITU-R SG 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11560" y="6248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838080"/>
          <a:ext cx="6858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685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efe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F91-7195-4D53-8DA2-141561BC5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83808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orkshop purpos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371600"/>
            <a:ext cx="8534520" cy="5054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wareness of ITU-T studie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 the activities of ITU-T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s in a given field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from the progresses achieve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TU-R Study Groups and in other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Os, in order to avoid duplication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fforts and stimulate coordination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00800"/>
            <a:ext cx="21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304920"/>
          <a:ext cx="685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ef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685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orkshop purposes (cont’d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219320"/>
            <a:ext cx="8458200" cy="4506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items necessary to enhanc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studies and related project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new activities and initiative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pond to concerns of ITU-T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 Member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 and promulgate th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 activities in given fiel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6248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0492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670-4D9A-469B-B764-45965AA80586}" type="slidenum">
              <a:t>4</a:t>
            </a:fld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A9E7-267F-4220-8477-CB653755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3316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orkshop structure and schedul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066680"/>
          <a:ext cx="8153280" cy="5197680"/>
        </p:xfrm>
        <a:graphic>
          <a:graphicData uri="http://schemas.openxmlformats.org/drawingml/2006/table">
            <a:tbl>
              <a:tblPr/>
              <a:tblGrid>
                <a:gridCol w="801360"/>
                <a:gridCol w="1672920"/>
                <a:gridCol w="1858320"/>
                <a:gridCol w="2148120"/>
                <a:gridCol w="1672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sday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rsday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da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00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ing sess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2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and Priv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4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adband delivery and in-home Distribu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 6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ce and Video Coding and Speech Process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1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and Network Archite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3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media Quality of 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5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activity in Broadca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ing 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686800" y="6248520"/>
            <a:ext cx="21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28600"/>
          <a:ext cx="685800" cy="609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0" y="22860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ABC-F795-4C81-94E9-322566B3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ession Leaders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ssio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C.-S. Lee, Vice-Chairman, ITU-T SG 13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ssion 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J. Magill, Vice-Chairman, ITU-T SG 16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ssion 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C. Dvorak, Vice-Chairman, ITU-T SG 12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34520" y="61722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80880"/>
          <a:ext cx="6858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685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0F2-44C3-4F8B-B402-3A35F3F3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ession Leaders (cont’d.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2581200"/>
            <a:ext cx="717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27664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066680"/>
            <a:ext cx="891540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ssion 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. A. Nunn, Chairman, WP1/15, ITU-T SG15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ssion 5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. F. Kozamernick, EBU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ssion 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. J.Y. Monfort, Chairman, ITU-T SG 12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6172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286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B30-E4F0-4828-B832-D106E8319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8384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Workshop Management Tea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P.A. Probst, Chairman, ITU-T SG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R. Green, Chairman, ITU-T SG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H. Magenta, Chairman, ITU-R SG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Fabio Bigi, Former Deputy-Director, TS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22840" y="6031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685800"/>
          <a:ext cx="762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762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E78-6677-4C38-8F19-5732AA3C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96440" cy="455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609480" y="228600"/>
          <a:ext cx="91440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9144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8137440" y="219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200400"/>
            <a:ext cx="17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8000" y="264168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07:50:22Z</dcterms:created>
  <dc:creator>tchaika</dc:creator>
  <dc:description/>
  <dc:language>en-US</dc:language>
  <cp:lastModifiedBy>quist</cp:lastModifiedBy>
  <dcterms:modified xsi:type="dcterms:W3CDTF">2002-02-25T16:26:24Z</dcterms:modified>
  <cp:revision>95</cp:revision>
  <dc:subject/>
  <dc:title>ITU Technical Results in IMT-2000 Studies</dc:title>
</cp:coreProperties>
</file>