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8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11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E81A-55C6-44D3-953C-6697AD93D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CBB57-504A-4EDB-95B9-F39E9B9C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E7B7-DEB6-4B87-B2C3-F0177F845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83DF-FE1F-45B9-8625-B4B721A9E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2A702-1731-4739-8A31-083F0A885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816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20920" y="184752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540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816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20920" y="4217400"/>
            <a:ext cx="234504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ED6E-200E-4921-B74A-98C1A78F1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AA1D-3033-4AA5-9A26-FE847A8E9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AA09-BC11-4297-B1AD-A85EBD14E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34640" y="363240"/>
            <a:ext cx="714564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FF3D-858B-4090-B817-BFFB9138D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0D0B-736A-4A81-8875-63E63B2BE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421740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735C-2C3C-434D-B9B3-4608B26CB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1847520"/>
            <a:ext cx="355428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5400" y="4217400"/>
            <a:ext cx="7283520" cy="21639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09AC-5AE7-4E3D-A59E-44CD279B6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5400" y="6286680"/>
            <a:ext cx="1773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0852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2b2b2"/>
                </a:solidFill>
                <a:latin typeface="RotisSemi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5F2-789B-43EB-BE34-C1D81B834F85}" type="slidenum">
              <a:rPr b="0" lang="en-US" sz="800" spc="-1" strike="noStrike">
                <a:solidFill>
                  <a:srgbClr val="b2b2b2"/>
                </a:solidFill>
                <a:latin typeface="RotisSemiSerif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13080" y="6362640"/>
            <a:ext cx="34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SemiSerif"/>
              </a:rPr>
              <a:t>PANAMSAT PROPRIETARY/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S%20Logo%20Black" descr=""/>
          <p:cNvPicPr/>
          <p:nvPr/>
        </p:nvPicPr>
        <p:blipFill>
          <a:blip r:embed="rId2"/>
          <a:stretch/>
        </p:blipFill>
        <p:spPr>
          <a:xfrm>
            <a:off x="271440" y="660240"/>
            <a:ext cx="1239840" cy="2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12574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7146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2171880" indent="-343080">
              <a:spcBef>
                <a:spcPts val="2001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46040"/>
            <a:ext cx="914400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1066680" y="641160"/>
            <a:ext cx="1422360" cy="139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S%20Logo%20Black" descr=""/>
          <p:cNvPicPr/>
          <p:nvPr/>
        </p:nvPicPr>
        <p:blipFill>
          <a:blip r:embed="rId2"/>
          <a:stretch/>
        </p:blipFill>
        <p:spPr>
          <a:xfrm>
            <a:off x="6610320" y="5946840"/>
            <a:ext cx="1503360" cy="28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77040" y="5415120"/>
            <a:ext cx="2171520" cy="1110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4040"/>
            <a:ext cx="8888400" cy="5769000"/>
          </a:xfrm>
          <a:custGeom>
            <a:avLst/>
            <a:gdLst/>
            <a:ahLst/>
            <a:rect l="l" t="t" r="r" b="b"/>
            <a:pathLst>
              <a:path w="5599" h="3634">
                <a:moveTo>
                  <a:pt x="0" y="607"/>
                </a:moveTo>
                <a:lnTo>
                  <a:pt x="1299" y="614"/>
                </a:lnTo>
                <a:lnTo>
                  <a:pt x="1299" y="0"/>
                </a:lnTo>
                <a:lnTo>
                  <a:pt x="5598" y="0"/>
                </a:lnTo>
                <a:lnTo>
                  <a:pt x="5598" y="3633"/>
                </a:lnTo>
                <a:lnTo>
                  <a:pt x="416" y="3633"/>
                </a:lnTo>
                <a:lnTo>
                  <a:pt x="416" y="1973"/>
                </a:lnTo>
              </a:path>
            </a:pathLst>
          </a:custGeom>
          <a:noFill/>
          <a:ln cap="rnd" w="12600">
            <a:solidFill>
              <a:srgbClr val="f1e8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040" y="3421080"/>
            <a:ext cx="264960" cy="264960"/>
          </a:xfrm>
          <a:prstGeom prst="rect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52680" y="411120"/>
            <a:ext cx="6046560" cy="6046920"/>
          </a:xfrm>
          <a:prstGeom prst="ellipse">
            <a:avLst/>
          </a:prstGeom>
          <a:noFill/>
          <a:ln w="12600">
            <a:solidFill>
              <a:srgbClr val="f1e8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14800"/>
            <a:ext cx="147600" cy="2741760"/>
          </a:xfrm>
          <a:prstGeom prst="rect">
            <a:avLst/>
          </a:prstGeom>
          <a:solidFill>
            <a:srgbClr val="ffb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94600" y="0"/>
            <a:ext cx="147960" cy="2741760"/>
          </a:xfrm>
          <a:prstGeom prst="rect">
            <a:avLst/>
          </a:prstGeom>
          <a:solidFill>
            <a:srgbClr val="d90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800" y="0"/>
            <a:ext cx="4191120" cy="14112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4600" y="6715080"/>
            <a:ext cx="3346200" cy="141480"/>
          </a:xfrm>
          <a:prstGeom prst="rect">
            <a:avLst/>
          </a:prstGeom>
          <a:solidFill>
            <a:srgbClr val="243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51200" y="1983960"/>
            <a:ext cx="5248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3" marL="13716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4" marL="1828800" algn="ctr">
              <a:spcBef>
                <a:spcPts val="624"/>
              </a:spcBef>
              <a:buClr>
                <a:srgbClr val="000000"/>
              </a:buClr>
              <a:buFont typeface="RotisSemiSerif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RotisSem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0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4160" y="1920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RotisSemiSerif"/>
              </a:rPr>
              <a:t>MULTIMEDIA VIA SATELLITE </a:t>
            </a:r>
            <a:br>
              <a:rPr sz="2600"/>
            </a:br>
            <a:br>
              <a:rPr sz="2600"/>
            </a:b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June 5, 2001</a:t>
            </a:r>
            <a:br>
              <a:rPr sz="2600"/>
            </a:br>
            <a:br>
              <a:rPr sz="2600"/>
            </a:br>
            <a:br>
              <a:rPr sz="2200"/>
            </a:br>
            <a:br>
              <a:rPr sz="2600"/>
            </a:b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21000" y="4465440"/>
            <a:ext cx="4238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Kalpak Gud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Vice President &amp;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Associate General Counsel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350040" y="6278400"/>
            <a:ext cx="2793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34640" y="447480"/>
            <a:ext cx="7145640" cy="642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NETWORK ARCHITECTURE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76320" y="1255680"/>
          <a:ext cx="759132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255680"/>
                    <a:ext cx="759132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7A77-D7ED-4FBB-8B37-DFF2D2063A4E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Launching with premiere Broadband Last-Mile Partners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ET-36 footprint will grow in concert with broadband growth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Reaching over 35 million households by 2004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pic>
        <p:nvPicPr>
          <p:cNvPr id="197" name="qwest_logo" descr=""/>
          <p:cNvPicPr/>
          <p:nvPr/>
        </p:nvPicPr>
        <p:blipFill>
          <a:blip r:embed="rId1"/>
          <a:stretch/>
        </p:blipFill>
        <p:spPr>
          <a:xfrm>
            <a:off x="1467000" y="2176560"/>
            <a:ext cx="1244520" cy="6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963880" y="2773440"/>
          <a:ext cx="222876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3880" y="2773440"/>
                    <a:ext cx="222876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direcpc_logo" descr=""/>
          <p:cNvPicPr/>
          <p:nvPr/>
        </p:nvPicPr>
        <p:blipFill>
          <a:blip r:embed="rId4"/>
          <a:stretch/>
        </p:blipFill>
        <p:spPr>
          <a:xfrm>
            <a:off x="6348240" y="2325600"/>
            <a:ext cx="916200" cy="614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1760" y="51037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87400" y="4581360"/>
            <a:ext cx="74880" cy="685800"/>
          </a:xfrm>
          <a:custGeom>
            <a:avLst/>
            <a:gdLst/>
            <a:ahLst/>
            <a:rect l="l" t="t" r="r" b="b"/>
            <a:pathLst>
              <a:path w="6" h="66">
                <a:moveTo>
                  <a:pt x="6" y="0"/>
                </a:moveTo>
                <a:lnTo>
                  <a:pt x="0" y="0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87400" y="5267160"/>
            <a:ext cx="263520" cy="331920"/>
          </a:xfrm>
          <a:custGeom>
            <a:avLst/>
            <a:gdLst/>
            <a:ahLst/>
            <a:rect l="l" t="t" r="r" b="b"/>
            <a:pathLst>
              <a:path w="162" h="162">
                <a:moveTo>
                  <a:pt x="0" y="0"/>
                </a:moveTo>
                <a:lnTo>
                  <a:pt x="24" y="0"/>
                </a:lnTo>
                <a:lnTo>
                  <a:pt x="36" y="0"/>
                </a:lnTo>
                <a:lnTo>
                  <a:pt x="54" y="0"/>
                </a:lnTo>
                <a:lnTo>
                  <a:pt x="78" y="0"/>
                </a:lnTo>
                <a:lnTo>
                  <a:pt x="90" y="0"/>
                </a:lnTo>
                <a:lnTo>
                  <a:pt x="108" y="0"/>
                </a:lnTo>
                <a:lnTo>
                  <a:pt x="132" y="0"/>
                </a:lnTo>
                <a:lnTo>
                  <a:pt x="144" y="0"/>
                </a:lnTo>
                <a:lnTo>
                  <a:pt x="162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4900680"/>
            <a:ext cx="87480" cy="366480"/>
          </a:xfrm>
          <a:custGeom>
            <a:avLst/>
            <a:gdLst/>
            <a:ahLst/>
            <a:rect l="l" t="t" r="r" b="b"/>
            <a:pathLst>
              <a:path w="7" h="39">
                <a:moveTo>
                  <a:pt x="7" y="0"/>
                </a:moveTo>
                <a:lnTo>
                  <a:pt x="1" y="0"/>
                </a:lnTo>
                <a:lnTo>
                  <a:pt x="0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5278320"/>
            <a:ext cx="368280" cy="32076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162" y="0"/>
                </a:moveTo>
                <a:lnTo>
                  <a:pt x="186" y="0"/>
                </a:lnTo>
                <a:lnTo>
                  <a:pt x="204" y="0"/>
                </a:lnTo>
                <a:lnTo>
                  <a:pt x="228" y="6"/>
                </a:lnTo>
                <a:lnTo>
                  <a:pt x="0" y="156"/>
                </a:lnTo>
                <a:lnTo>
                  <a:pt x="16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2640" y="5599080"/>
            <a:ext cx="695160" cy="666720"/>
          </a:xfrm>
          <a:custGeom>
            <a:avLst/>
            <a:gdLst/>
            <a:ahLst/>
            <a:rect l="l" t="t" r="r" b="b"/>
            <a:pathLst>
              <a:path w="432" h="324">
                <a:moveTo>
                  <a:pt x="432" y="150"/>
                </a:move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300" y="138"/>
                </a:lnTo>
                <a:lnTo>
                  <a:pt x="282" y="132"/>
                </a:lnTo>
                <a:lnTo>
                  <a:pt x="264" y="132"/>
                </a:lnTo>
                <a:lnTo>
                  <a:pt x="240" y="126"/>
                </a:lnTo>
                <a:lnTo>
                  <a:pt x="222" y="120"/>
                </a:lnTo>
                <a:lnTo>
                  <a:pt x="204" y="120"/>
                </a:lnTo>
                <a:lnTo>
                  <a:pt x="192" y="114"/>
                </a:lnTo>
                <a:lnTo>
                  <a:pt x="174" y="114"/>
                </a:lnTo>
                <a:lnTo>
                  <a:pt x="150" y="102"/>
                </a:lnTo>
                <a:lnTo>
                  <a:pt x="138" y="102"/>
                </a:lnTo>
                <a:lnTo>
                  <a:pt x="126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2" y="72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6" y="54"/>
                </a:lnTo>
                <a:lnTo>
                  <a:pt x="24" y="48"/>
                </a:lnTo>
                <a:lnTo>
                  <a:pt x="18" y="42"/>
                </a:lnTo>
                <a:lnTo>
                  <a:pt x="12" y="36"/>
                </a:lnTo>
                <a:lnTo>
                  <a:pt x="12" y="30"/>
                </a:lnTo>
                <a:lnTo>
                  <a:pt x="6" y="24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86"/>
                </a:lnTo>
                <a:lnTo>
                  <a:pt x="6" y="192"/>
                </a:lnTo>
                <a:lnTo>
                  <a:pt x="6" y="198"/>
                </a:lnTo>
                <a:lnTo>
                  <a:pt x="12" y="204"/>
                </a:lnTo>
                <a:lnTo>
                  <a:pt x="12" y="210"/>
                </a:lnTo>
                <a:lnTo>
                  <a:pt x="18" y="216"/>
                </a:lnTo>
                <a:lnTo>
                  <a:pt x="24" y="222"/>
                </a:lnTo>
                <a:lnTo>
                  <a:pt x="36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2" y="246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26" y="270"/>
                </a:lnTo>
                <a:lnTo>
                  <a:pt x="138" y="276"/>
                </a:lnTo>
                <a:lnTo>
                  <a:pt x="150" y="276"/>
                </a:lnTo>
                <a:lnTo>
                  <a:pt x="174" y="288"/>
                </a:lnTo>
                <a:lnTo>
                  <a:pt x="192" y="288"/>
                </a:lnTo>
                <a:lnTo>
                  <a:pt x="204" y="294"/>
                </a:lnTo>
                <a:lnTo>
                  <a:pt x="222" y="294"/>
                </a:lnTo>
                <a:lnTo>
                  <a:pt x="240" y="300"/>
                </a:lnTo>
                <a:lnTo>
                  <a:pt x="264" y="306"/>
                </a:lnTo>
                <a:lnTo>
                  <a:pt x="282" y="306"/>
                </a:lnTo>
                <a:lnTo>
                  <a:pt x="300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32" y="15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2640" y="5267160"/>
            <a:ext cx="1004760" cy="640080"/>
          </a:xfrm>
          <a:custGeom>
            <a:avLst/>
            <a:gdLst/>
            <a:ahLst/>
            <a:rect l="l" t="t" r="r" b="b"/>
            <a:pathLst>
              <a:path w="624" h="312">
                <a:moveTo>
                  <a:pt x="432" y="312"/>
                </a:moveTo>
                <a:lnTo>
                  <a:pt x="414" y="312"/>
                </a:lnTo>
                <a:lnTo>
                  <a:pt x="378" y="312"/>
                </a:lnTo>
                <a:lnTo>
                  <a:pt x="360" y="306"/>
                </a:lnTo>
                <a:lnTo>
                  <a:pt x="342" y="306"/>
                </a:lnTo>
                <a:lnTo>
                  <a:pt x="324" y="300"/>
                </a:lnTo>
                <a:lnTo>
                  <a:pt x="294" y="300"/>
                </a:lnTo>
                <a:lnTo>
                  <a:pt x="276" y="294"/>
                </a:lnTo>
                <a:lnTo>
                  <a:pt x="258" y="294"/>
                </a:lnTo>
                <a:lnTo>
                  <a:pt x="240" y="288"/>
                </a:lnTo>
                <a:lnTo>
                  <a:pt x="216" y="282"/>
                </a:lnTo>
                <a:lnTo>
                  <a:pt x="198" y="276"/>
                </a:lnTo>
                <a:lnTo>
                  <a:pt x="180" y="276"/>
                </a:lnTo>
                <a:lnTo>
                  <a:pt x="168" y="270"/>
                </a:lnTo>
                <a:lnTo>
                  <a:pt x="144" y="264"/>
                </a:lnTo>
                <a:lnTo>
                  <a:pt x="132" y="258"/>
                </a:lnTo>
                <a:lnTo>
                  <a:pt x="120" y="258"/>
                </a:lnTo>
                <a:lnTo>
                  <a:pt x="108" y="252"/>
                </a:lnTo>
                <a:lnTo>
                  <a:pt x="90" y="246"/>
                </a:lnTo>
                <a:lnTo>
                  <a:pt x="78" y="240"/>
                </a:lnTo>
                <a:lnTo>
                  <a:pt x="66" y="234"/>
                </a:lnTo>
                <a:lnTo>
                  <a:pt x="60" y="228"/>
                </a:lnTo>
                <a:lnTo>
                  <a:pt x="42" y="222"/>
                </a:lnTo>
                <a:lnTo>
                  <a:pt x="36" y="216"/>
                </a:lnTo>
                <a:lnTo>
                  <a:pt x="30" y="210"/>
                </a:lnTo>
                <a:lnTo>
                  <a:pt x="24" y="204"/>
                </a:lnTo>
                <a:lnTo>
                  <a:pt x="12" y="198"/>
                </a:lnTo>
                <a:lnTo>
                  <a:pt x="12" y="192"/>
                </a:lnTo>
                <a:lnTo>
                  <a:pt x="6" y="186"/>
                </a:lnTo>
                <a:lnTo>
                  <a:pt x="6" y="180"/>
                </a:lnTo>
                <a:lnTo>
                  <a:pt x="0" y="174"/>
                </a:lnTo>
                <a:lnTo>
                  <a:pt x="0" y="168"/>
                </a:lnTo>
                <a:lnTo>
                  <a:pt x="0" y="162"/>
                </a:lnTo>
                <a:lnTo>
                  <a:pt x="0" y="156"/>
                </a:lnTo>
                <a:lnTo>
                  <a:pt x="0" y="144"/>
                </a:lnTo>
                <a:lnTo>
                  <a:pt x="6" y="138"/>
                </a:lnTo>
                <a:lnTo>
                  <a:pt x="6" y="138"/>
                </a:lnTo>
                <a:lnTo>
                  <a:pt x="12" y="132"/>
                </a:lnTo>
                <a:lnTo>
                  <a:pt x="18" y="120"/>
                </a:lnTo>
                <a:lnTo>
                  <a:pt x="24" y="114"/>
                </a:lnTo>
                <a:lnTo>
                  <a:pt x="30" y="108"/>
                </a:lnTo>
                <a:lnTo>
                  <a:pt x="36" y="108"/>
                </a:lnTo>
                <a:lnTo>
                  <a:pt x="48" y="96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2" y="60"/>
                </a:lnTo>
                <a:lnTo>
                  <a:pt x="150" y="54"/>
                </a:lnTo>
                <a:lnTo>
                  <a:pt x="168" y="48"/>
                </a:lnTo>
                <a:lnTo>
                  <a:pt x="180" y="48"/>
                </a:lnTo>
                <a:lnTo>
                  <a:pt x="198" y="42"/>
                </a:lnTo>
                <a:lnTo>
                  <a:pt x="222" y="36"/>
                </a:lnTo>
                <a:lnTo>
                  <a:pt x="240" y="30"/>
                </a:lnTo>
                <a:lnTo>
                  <a:pt x="258" y="30"/>
                </a:lnTo>
                <a:lnTo>
                  <a:pt x="276" y="24"/>
                </a:lnTo>
                <a:lnTo>
                  <a:pt x="300" y="24"/>
                </a:lnTo>
                <a:lnTo>
                  <a:pt x="324" y="18"/>
                </a:lnTo>
                <a:lnTo>
                  <a:pt x="342" y="18"/>
                </a:lnTo>
                <a:lnTo>
                  <a:pt x="360" y="12"/>
                </a:lnTo>
                <a:lnTo>
                  <a:pt x="390" y="12"/>
                </a:lnTo>
                <a:lnTo>
                  <a:pt x="414" y="6"/>
                </a:lnTo>
                <a:lnTo>
                  <a:pt x="432" y="6"/>
                </a:lnTo>
                <a:lnTo>
                  <a:pt x="450" y="6"/>
                </a:lnTo>
                <a:lnTo>
                  <a:pt x="486" y="0"/>
                </a:lnTo>
                <a:lnTo>
                  <a:pt x="504" y="0"/>
                </a:lnTo>
                <a:lnTo>
                  <a:pt x="528" y="0"/>
                </a:lnTo>
                <a:lnTo>
                  <a:pt x="552" y="0"/>
                </a:lnTo>
                <a:lnTo>
                  <a:pt x="582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432" y="31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7800" y="5599080"/>
            <a:ext cx="1328760" cy="690480"/>
          </a:xfrm>
          <a:custGeom>
            <a:avLst/>
            <a:gdLst/>
            <a:ahLst/>
            <a:rect l="l" t="t" r="r" b="b"/>
            <a:pathLst>
              <a:path w="823" h="336">
                <a:moveTo>
                  <a:pt x="823" y="0"/>
                </a:moveTo>
                <a:lnTo>
                  <a:pt x="823" y="6"/>
                </a:lnTo>
                <a:lnTo>
                  <a:pt x="817" y="12"/>
                </a:lnTo>
                <a:lnTo>
                  <a:pt x="817" y="18"/>
                </a:lnTo>
                <a:lnTo>
                  <a:pt x="811" y="24"/>
                </a:lnTo>
                <a:lnTo>
                  <a:pt x="811" y="30"/>
                </a:lnTo>
                <a:lnTo>
                  <a:pt x="805" y="36"/>
                </a:lnTo>
                <a:lnTo>
                  <a:pt x="799" y="42"/>
                </a:lnTo>
                <a:lnTo>
                  <a:pt x="793" y="48"/>
                </a:lnTo>
                <a:lnTo>
                  <a:pt x="781" y="54"/>
                </a:lnTo>
                <a:lnTo>
                  <a:pt x="769" y="60"/>
                </a:lnTo>
                <a:lnTo>
                  <a:pt x="763" y="66"/>
                </a:lnTo>
                <a:lnTo>
                  <a:pt x="751" y="72"/>
                </a:lnTo>
                <a:lnTo>
                  <a:pt x="745" y="78"/>
                </a:lnTo>
                <a:lnTo>
                  <a:pt x="727" y="84"/>
                </a:lnTo>
                <a:lnTo>
                  <a:pt x="715" y="90"/>
                </a:lnTo>
                <a:lnTo>
                  <a:pt x="703" y="96"/>
                </a:lnTo>
                <a:lnTo>
                  <a:pt x="691" y="96"/>
                </a:lnTo>
                <a:lnTo>
                  <a:pt x="667" y="102"/>
                </a:lnTo>
                <a:lnTo>
                  <a:pt x="655" y="108"/>
                </a:lnTo>
                <a:lnTo>
                  <a:pt x="637" y="114"/>
                </a:lnTo>
                <a:lnTo>
                  <a:pt x="625" y="114"/>
                </a:lnTo>
                <a:lnTo>
                  <a:pt x="595" y="120"/>
                </a:lnTo>
                <a:lnTo>
                  <a:pt x="583" y="126"/>
                </a:lnTo>
                <a:lnTo>
                  <a:pt x="565" y="132"/>
                </a:lnTo>
                <a:lnTo>
                  <a:pt x="546" y="132"/>
                </a:lnTo>
                <a:lnTo>
                  <a:pt x="516" y="138"/>
                </a:lnTo>
                <a:lnTo>
                  <a:pt x="498" y="138"/>
                </a:lnTo>
                <a:lnTo>
                  <a:pt x="480" y="144"/>
                </a:lnTo>
                <a:lnTo>
                  <a:pt x="456" y="144"/>
                </a:lnTo>
                <a:lnTo>
                  <a:pt x="426" y="150"/>
                </a:lnTo>
                <a:lnTo>
                  <a:pt x="408" y="150"/>
                </a:lnTo>
                <a:lnTo>
                  <a:pt x="390" y="150"/>
                </a:lnTo>
                <a:lnTo>
                  <a:pt x="366" y="156"/>
                </a:lnTo>
                <a:lnTo>
                  <a:pt x="336" y="156"/>
                </a:lnTo>
                <a:lnTo>
                  <a:pt x="312" y="156"/>
                </a:lnTo>
                <a:lnTo>
                  <a:pt x="294" y="156"/>
                </a:lnTo>
                <a:lnTo>
                  <a:pt x="270" y="162"/>
                </a:lnTo>
                <a:lnTo>
                  <a:pt x="240" y="162"/>
                </a:lnTo>
                <a:lnTo>
                  <a:pt x="216" y="162"/>
                </a:lnTo>
                <a:lnTo>
                  <a:pt x="192" y="162"/>
                </a:lnTo>
                <a:lnTo>
                  <a:pt x="174" y="162"/>
                </a:lnTo>
                <a:lnTo>
                  <a:pt x="138" y="162"/>
                </a:lnTo>
                <a:lnTo>
                  <a:pt x="120" y="162"/>
                </a:lnTo>
                <a:lnTo>
                  <a:pt x="96" y="156"/>
                </a:lnTo>
                <a:lnTo>
                  <a:pt x="72" y="156"/>
                </a:lnTo>
                <a:lnTo>
                  <a:pt x="42" y="156"/>
                </a:lnTo>
                <a:lnTo>
                  <a:pt x="18" y="156"/>
                </a:lnTo>
                <a:lnTo>
                  <a:pt x="0" y="150"/>
                </a:lnTo>
                <a:lnTo>
                  <a:pt x="0" y="324"/>
                </a:lnTo>
                <a:lnTo>
                  <a:pt x="18" y="330"/>
                </a:lnTo>
                <a:lnTo>
                  <a:pt x="42" y="330"/>
                </a:lnTo>
                <a:lnTo>
                  <a:pt x="72" y="330"/>
                </a:lnTo>
                <a:lnTo>
                  <a:pt x="96" y="330"/>
                </a:lnTo>
                <a:lnTo>
                  <a:pt x="120" y="336"/>
                </a:lnTo>
                <a:lnTo>
                  <a:pt x="138" y="336"/>
                </a:lnTo>
                <a:lnTo>
                  <a:pt x="174" y="336"/>
                </a:lnTo>
                <a:lnTo>
                  <a:pt x="192" y="336"/>
                </a:lnTo>
                <a:lnTo>
                  <a:pt x="216" y="336"/>
                </a:lnTo>
                <a:lnTo>
                  <a:pt x="240" y="336"/>
                </a:lnTo>
                <a:lnTo>
                  <a:pt x="270" y="336"/>
                </a:lnTo>
                <a:lnTo>
                  <a:pt x="294" y="330"/>
                </a:lnTo>
                <a:lnTo>
                  <a:pt x="312" y="330"/>
                </a:lnTo>
                <a:lnTo>
                  <a:pt x="336" y="330"/>
                </a:lnTo>
                <a:lnTo>
                  <a:pt x="366" y="330"/>
                </a:lnTo>
                <a:lnTo>
                  <a:pt x="390" y="324"/>
                </a:lnTo>
                <a:lnTo>
                  <a:pt x="408" y="324"/>
                </a:lnTo>
                <a:lnTo>
                  <a:pt x="426" y="324"/>
                </a:lnTo>
                <a:lnTo>
                  <a:pt x="456" y="318"/>
                </a:lnTo>
                <a:lnTo>
                  <a:pt x="480" y="318"/>
                </a:lnTo>
                <a:lnTo>
                  <a:pt x="498" y="312"/>
                </a:lnTo>
                <a:lnTo>
                  <a:pt x="516" y="312"/>
                </a:lnTo>
                <a:lnTo>
                  <a:pt x="546" y="306"/>
                </a:lnTo>
                <a:lnTo>
                  <a:pt x="565" y="306"/>
                </a:lnTo>
                <a:lnTo>
                  <a:pt x="583" y="300"/>
                </a:lnTo>
                <a:lnTo>
                  <a:pt x="595" y="294"/>
                </a:lnTo>
                <a:lnTo>
                  <a:pt x="625" y="288"/>
                </a:lnTo>
                <a:lnTo>
                  <a:pt x="637" y="288"/>
                </a:lnTo>
                <a:lnTo>
                  <a:pt x="655" y="282"/>
                </a:lnTo>
                <a:lnTo>
                  <a:pt x="667" y="276"/>
                </a:lnTo>
                <a:lnTo>
                  <a:pt x="691" y="270"/>
                </a:lnTo>
                <a:lnTo>
                  <a:pt x="703" y="270"/>
                </a:lnTo>
                <a:lnTo>
                  <a:pt x="715" y="264"/>
                </a:lnTo>
                <a:lnTo>
                  <a:pt x="727" y="258"/>
                </a:lnTo>
                <a:lnTo>
                  <a:pt x="745" y="252"/>
                </a:lnTo>
                <a:lnTo>
                  <a:pt x="751" y="246"/>
                </a:lnTo>
                <a:lnTo>
                  <a:pt x="763" y="240"/>
                </a:lnTo>
                <a:lnTo>
                  <a:pt x="769" y="234"/>
                </a:lnTo>
                <a:lnTo>
                  <a:pt x="781" y="228"/>
                </a:lnTo>
                <a:lnTo>
                  <a:pt x="793" y="222"/>
                </a:lnTo>
                <a:lnTo>
                  <a:pt x="799" y="216"/>
                </a:lnTo>
                <a:lnTo>
                  <a:pt x="805" y="210"/>
                </a:lnTo>
                <a:lnTo>
                  <a:pt x="811" y="204"/>
                </a:lnTo>
                <a:lnTo>
                  <a:pt x="811" y="198"/>
                </a:lnTo>
                <a:lnTo>
                  <a:pt x="817" y="192"/>
                </a:lnTo>
                <a:lnTo>
                  <a:pt x="817" y="186"/>
                </a:lnTo>
                <a:lnTo>
                  <a:pt x="823" y="180"/>
                </a:lnTo>
                <a:lnTo>
                  <a:pt x="823" y="174"/>
                </a:lnTo>
                <a:lnTo>
                  <a:pt x="823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7800" y="5291280"/>
            <a:ext cx="1328760" cy="642960"/>
          </a:xfrm>
          <a:custGeom>
            <a:avLst/>
            <a:gdLst/>
            <a:ahLst/>
            <a:rect l="l" t="t" r="r" b="b"/>
            <a:pathLst>
              <a:path w="823" h="312">
                <a:moveTo>
                  <a:pt x="420" y="0"/>
                </a:moveTo>
                <a:lnTo>
                  <a:pt x="438" y="0"/>
                </a:lnTo>
                <a:lnTo>
                  <a:pt x="468" y="0"/>
                </a:lnTo>
                <a:lnTo>
                  <a:pt x="486" y="6"/>
                </a:lnTo>
                <a:lnTo>
                  <a:pt x="510" y="6"/>
                </a:lnTo>
                <a:lnTo>
                  <a:pt x="528" y="12"/>
                </a:lnTo>
                <a:lnTo>
                  <a:pt x="552" y="18"/>
                </a:lnTo>
                <a:lnTo>
                  <a:pt x="571" y="18"/>
                </a:lnTo>
                <a:lnTo>
                  <a:pt x="589" y="24"/>
                </a:lnTo>
                <a:lnTo>
                  <a:pt x="607" y="24"/>
                </a:lnTo>
                <a:lnTo>
                  <a:pt x="631" y="30"/>
                </a:lnTo>
                <a:lnTo>
                  <a:pt x="643" y="36"/>
                </a:lnTo>
                <a:lnTo>
                  <a:pt x="661" y="42"/>
                </a:lnTo>
                <a:lnTo>
                  <a:pt x="679" y="48"/>
                </a:lnTo>
                <a:lnTo>
                  <a:pt x="697" y="54"/>
                </a:lnTo>
                <a:lnTo>
                  <a:pt x="709" y="54"/>
                </a:lnTo>
                <a:lnTo>
                  <a:pt x="721" y="60"/>
                </a:lnTo>
                <a:lnTo>
                  <a:pt x="739" y="66"/>
                </a:lnTo>
                <a:lnTo>
                  <a:pt x="751" y="72"/>
                </a:lnTo>
                <a:lnTo>
                  <a:pt x="757" y="78"/>
                </a:lnTo>
                <a:lnTo>
                  <a:pt x="769" y="84"/>
                </a:lnTo>
                <a:lnTo>
                  <a:pt x="781" y="90"/>
                </a:lnTo>
                <a:lnTo>
                  <a:pt x="787" y="96"/>
                </a:lnTo>
                <a:lnTo>
                  <a:pt x="793" y="102"/>
                </a:lnTo>
                <a:lnTo>
                  <a:pt x="799" y="108"/>
                </a:lnTo>
                <a:lnTo>
                  <a:pt x="805" y="114"/>
                </a:lnTo>
                <a:lnTo>
                  <a:pt x="811" y="120"/>
                </a:lnTo>
                <a:lnTo>
                  <a:pt x="817" y="126"/>
                </a:lnTo>
                <a:lnTo>
                  <a:pt x="817" y="132"/>
                </a:lnTo>
                <a:lnTo>
                  <a:pt x="823" y="138"/>
                </a:lnTo>
                <a:lnTo>
                  <a:pt x="823" y="144"/>
                </a:lnTo>
                <a:lnTo>
                  <a:pt x="823" y="150"/>
                </a:lnTo>
                <a:lnTo>
                  <a:pt x="817" y="162"/>
                </a:lnTo>
                <a:lnTo>
                  <a:pt x="817" y="168"/>
                </a:lnTo>
                <a:lnTo>
                  <a:pt x="817" y="174"/>
                </a:lnTo>
                <a:lnTo>
                  <a:pt x="811" y="174"/>
                </a:lnTo>
                <a:lnTo>
                  <a:pt x="805" y="186"/>
                </a:lnTo>
                <a:lnTo>
                  <a:pt x="799" y="192"/>
                </a:lnTo>
                <a:lnTo>
                  <a:pt x="793" y="198"/>
                </a:lnTo>
                <a:lnTo>
                  <a:pt x="781" y="204"/>
                </a:lnTo>
                <a:lnTo>
                  <a:pt x="775" y="210"/>
                </a:lnTo>
                <a:lnTo>
                  <a:pt x="769" y="216"/>
                </a:lnTo>
                <a:lnTo>
                  <a:pt x="757" y="222"/>
                </a:lnTo>
                <a:lnTo>
                  <a:pt x="745" y="228"/>
                </a:lnTo>
                <a:lnTo>
                  <a:pt x="733" y="234"/>
                </a:lnTo>
                <a:lnTo>
                  <a:pt x="721" y="234"/>
                </a:lnTo>
                <a:lnTo>
                  <a:pt x="709" y="240"/>
                </a:lnTo>
                <a:lnTo>
                  <a:pt x="691" y="246"/>
                </a:lnTo>
                <a:lnTo>
                  <a:pt x="673" y="252"/>
                </a:lnTo>
                <a:lnTo>
                  <a:pt x="661" y="258"/>
                </a:lnTo>
                <a:lnTo>
                  <a:pt x="643" y="264"/>
                </a:lnTo>
                <a:lnTo>
                  <a:pt x="625" y="264"/>
                </a:lnTo>
                <a:lnTo>
                  <a:pt x="607" y="270"/>
                </a:lnTo>
                <a:lnTo>
                  <a:pt x="589" y="276"/>
                </a:lnTo>
                <a:lnTo>
                  <a:pt x="565" y="282"/>
                </a:lnTo>
                <a:lnTo>
                  <a:pt x="546" y="282"/>
                </a:lnTo>
                <a:lnTo>
                  <a:pt x="528" y="288"/>
                </a:lnTo>
                <a:lnTo>
                  <a:pt x="510" y="288"/>
                </a:lnTo>
                <a:lnTo>
                  <a:pt x="480" y="294"/>
                </a:lnTo>
                <a:lnTo>
                  <a:pt x="456" y="294"/>
                </a:lnTo>
                <a:lnTo>
                  <a:pt x="438" y="300"/>
                </a:lnTo>
                <a:lnTo>
                  <a:pt x="420" y="300"/>
                </a:lnTo>
                <a:lnTo>
                  <a:pt x="390" y="300"/>
                </a:lnTo>
                <a:lnTo>
                  <a:pt x="366" y="306"/>
                </a:lnTo>
                <a:lnTo>
                  <a:pt x="348" y="306"/>
                </a:lnTo>
                <a:lnTo>
                  <a:pt x="312" y="306"/>
                </a:lnTo>
                <a:lnTo>
                  <a:pt x="294" y="306"/>
                </a:lnTo>
                <a:lnTo>
                  <a:pt x="270" y="312"/>
                </a:lnTo>
                <a:lnTo>
                  <a:pt x="246" y="312"/>
                </a:lnTo>
                <a:lnTo>
                  <a:pt x="216" y="312"/>
                </a:lnTo>
                <a:lnTo>
                  <a:pt x="192" y="312"/>
                </a:lnTo>
                <a:lnTo>
                  <a:pt x="174" y="312"/>
                </a:lnTo>
                <a:lnTo>
                  <a:pt x="150" y="312"/>
                </a:lnTo>
                <a:lnTo>
                  <a:pt x="120" y="312"/>
                </a:lnTo>
                <a:lnTo>
                  <a:pt x="96" y="306"/>
                </a:lnTo>
                <a:lnTo>
                  <a:pt x="72" y="306"/>
                </a:lnTo>
                <a:lnTo>
                  <a:pt x="54" y="306"/>
                </a:lnTo>
                <a:lnTo>
                  <a:pt x="18" y="306"/>
                </a:lnTo>
                <a:lnTo>
                  <a:pt x="0" y="300"/>
                </a:lnTo>
                <a:lnTo>
                  <a:pt x="192" y="150"/>
                </a:lnTo>
                <a:lnTo>
                  <a:pt x="42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360" y="44816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92320" y="47894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21120" y="5019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8640" y="601812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8040" y="4159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0 (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6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2440" y="4148280"/>
            <a:ext cx="273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YE 2001 (est. </a:t>
            </a:r>
            <a:r>
              <a:rPr b="1" lang="en-US" sz="1800" spc="-1" strike="noStrike">
                <a:solidFill>
                  <a:srgbClr val="000000"/>
                </a:solidFill>
                <a:latin typeface="RotisSemiSans ExtraBold"/>
              </a:rPr>
              <a:t>11.8M subs</a:t>
            </a:r>
            <a:r>
              <a:rPr b="0" lang="en-US" sz="1800" spc="-1" strike="noStrike">
                <a:solidFill>
                  <a:srgbClr val="000000"/>
                </a:solidFill>
                <a:latin typeface="RotisSemiSans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57840" y="5132520"/>
            <a:ext cx="495360" cy="387360"/>
          </a:xfrm>
          <a:custGeom>
            <a:avLst/>
            <a:gdLst/>
            <a:ahLst/>
            <a:rect l="l" t="t" r="r" b="b"/>
            <a:pathLst>
              <a:path w="216" h="162">
                <a:moveTo>
                  <a:pt x="0" y="0"/>
                </a:moveTo>
                <a:lnTo>
                  <a:pt x="24" y="0"/>
                </a:lnTo>
                <a:lnTo>
                  <a:pt x="48" y="0"/>
                </a:lnTo>
                <a:lnTo>
                  <a:pt x="78" y="0"/>
                </a:lnTo>
                <a:lnTo>
                  <a:pt x="102" y="0"/>
                </a:lnTo>
                <a:lnTo>
                  <a:pt x="120" y="0"/>
                </a:lnTo>
                <a:lnTo>
                  <a:pt x="144" y="0"/>
                </a:lnTo>
                <a:lnTo>
                  <a:pt x="174" y="6"/>
                </a:lnTo>
                <a:lnTo>
                  <a:pt x="198" y="6"/>
                </a:lnTo>
                <a:lnTo>
                  <a:pt x="216" y="6"/>
                </a:lnTo>
                <a:lnTo>
                  <a:pt x="0" y="162"/>
                </a:lnTo>
                <a:lnTo>
                  <a:pt x="0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57840" y="5148360"/>
            <a:ext cx="1403640" cy="371520"/>
          </a:xfrm>
          <a:custGeom>
            <a:avLst/>
            <a:gdLst/>
            <a:ahLst/>
            <a:rect l="l" t="t" r="r" b="b"/>
            <a:pathLst>
              <a:path w="612" h="156">
                <a:moveTo>
                  <a:pt x="216" y="0"/>
                </a:moveTo>
                <a:lnTo>
                  <a:pt x="234" y="6"/>
                </a:lnTo>
                <a:lnTo>
                  <a:pt x="258" y="6"/>
                </a:lnTo>
                <a:lnTo>
                  <a:pt x="276" y="6"/>
                </a:lnTo>
                <a:lnTo>
                  <a:pt x="306" y="12"/>
                </a:lnTo>
                <a:lnTo>
                  <a:pt x="324" y="18"/>
                </a:lnTo>
                <a:lnTo>
                  <a:pt x="342" y="18"/>
                </a:lnTo>
                <a:lnTo>
                  <a:pt x="360" y="24"/>
                </a:lnTo>
                <a:lnTo>
                  <a:pt x="378" y="24"/>
                </a:lnTo>
                <a:lnTo>
                  <a:pt x="396" y="30"/>
                </a:lnTo>
                <a:lnTo>
                  <a:pt x="414" y="30"/>
                </a:lnTo>
                <a:lnTo>
                  <a:pt x="438" y="36"/>
                </a:lnTo>
                <a:lnTo>
                  <a:pt x="450" y="42"/>
                </a:lnTo>
                <a:lnTo>
                  <a:pt x="468" y="48"/>
                </a:lnTo>
                <a:lnTo>
                  <a:pt x="480" y="48"/>
                </a:lnTo>
                <a:lnTo>
                  <a:pt x="498" y="54"/>
                </a:lnTo>
                <a:lnTo>
                  <a:pt x="510" y="60"/>
                </a:lnTo>
                <a:lnTo>
                  <a:pt x="528" y="66"/>
                </a:lnTo>
                <a:lnTo>
                  <a:pt x="540" y="72"/>
                </a:lnTo>
                <a:lnTo>
                  <a:pt x="552" y="78"/>
                </a:lnTo>
                <a:lnTo>
                  <a:pt x="558" y="78"/>
                </a:lnTo>
                <a:lnTo>
                  <a:pt x="570" y="84"/>
                </a:lnTo>
                <a:lnTo>
                  <a:pt x="576" y="90"/>
                </a:lnTo>
                <a:lnTo>
                  <a:pt x="588" y="96"/>
                </a:lnTo>
                <a:lnTo>
                  <a:pt x="600" y="102"/>
                </a:lnTo>
                <a:lnTo>
                  <a:pt x="606" y="108"/>
                </a:lnTo>
                <a:lnTo>
                  <a:pt x="612" y="114"/>
                </a:lnTo>
                <a:lnTo>
                  <a:pt x="612" y="120"/>
                </a:lnTo>
                <a:lnTo>
                  <a:pt x="0" y="156"/>
                </a:lnTo>
                <a:lnTo>
                  <a:pt x="216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46840" y="5073480"/>
            <a:ext cx="163800" cy="18756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0"/>
                </a:moveTo>
                <a:lnTo>
                  <a:pt x="6" y="0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57840" y="5433840"/>
            <a:ext cx="1432080" cy="86040"/>
          </a:xfrm>
          <a:custGeom>
            <a:avLst/>
            <a:gdLst/>
            <a:ahLst/>
            <a:rect l="l" t="t" r="r" b="b"/>
            <a:pathLst>
              <a:path w="624" h="36">
                <a:moveTo>
                  <a:pt x="612" y="0"/>
                </a:moveTo>
                <a:lnTo>
                  <a:pt x="618" y="6"/>
                </a:lnTo>
                <a:lnTo>
                  <a:pt x="618" y="12"/>
                </a:lnTo>
                <a:lnTo>
                  <a:pt x="624" y="12"/>
                </a:lnTo>
                <a:lnTo>
                  <a:pt x="624" y="12"/>
                </a:lnTo>
                <a:lnTo>
                  <a:pt x="624" y="18"/>
                </a:lnTo>
                <a:lnTo>
                  <a:pt x="624" y="24"/>
                </a:lnTo>
                <a:lnTo>
                  <a:pt x="0" y="36"/>
                </a:lnTo>
                <a:lnTo>
                  <a:pt x="612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89920" y="5460840"/>
            <a:ext cx="193680" cy="324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24320" y="5519880"/>
            <a:ext cx="1800" cy="415800"/>
          </a:xfrm>
          <a:custGeom>
            <a:avLst/>
            <a:gdLst/>
            <a:ahLst/>
            <a:rect l="l" t="t" r="r" b="b"/>
            <a:pathLst>
              <a:path w="0" h="17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174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4320" y="5132520"/>
            <a:ext cx="1433520" cy="387360"/>
          </a:xfrm>
          <a:custGeom>
            <a:avLst/>
            <a:gdLst/>
            <a:ahLst/>
            <a:rect l="l" t="t" r="r" b="b"/>
            <a:pathLst>
              <a:path w="624" h="162">
                <a:moveTo>
                  <a:pt x="0" y="162"/>
                </a:moveTo>
                <a:lnTo>
                  <a:pt x="0" y="156"/>
                </a:lnTo>
                <a:lnTo>
                  <a:pt x="0" y="150"/>
                </a:lnTo>
                <a:lnTo>
                  <a:pt x="0" y="144"/>
                </a:lnTo>
                <a:lnTo>
                  <a:pt x="6" y="138"/>
                </a:lnTo>
                <a:lnTo>
                  <a:pt x="12" y="132"/>
                </a:lnTo>
                <a:lnTo>
                  <a:pt x="12" y="126"/>
                </a:lnTo>
                <a:lnTo>
                  <a:pt x="18" y="120"/>
                </a:lnTo>
                <a:lnTo>
                  <a:pt x="30" y="108"/>
                </a:lnTo>
                <a:lnTo>
                  <a:pt x="36" y="108"/>
                </a:lnTo>
                <a:lnTo>
                  <a:pt x="42" y="102"/>
                </a:lnTo>
                <a:lnTo>
                  <a:pt x="60" y="90"/>
                </a:lnTo>
                <a:lnTo>
                  <a:pt x="66" y="84"/>
                </a:lnTo>
                <a:lnTo>
                  <a:pt x="78" y="84"/>
                </a:lnTo>
                <a:lnTo>
                  <a:pt x="96" y="72"/>
                </a:lnTo>
                <a:lnTo>
                  <a:pt x="108" y="72"/>
                </a:lnTo>
                <a:lnTo>
                  <a:pt x="120" y="66"/>
                </a:lnTo>
                <a:lnTo>
                  <a:pt x="138" y="60"/>
                </a:lnTo>
                <a:lnTo>
                  <a:pt x="150" y="54"/>
                </a:lnTo>
                <a:lnTo>
                  <a:pt x="168" y="48"/>
                </a:lnTo>
                <a:lnTo>
                  <a:pt x="192" y="42"/>
                </a:lnTo>
                <a:lnTo>
                  <a:pt x="204" y="42"/>
                </a:lnTo>
                <a:lnTo>
                  <a:pt x="222" y="36"/>
                </a:lnTo>
                <a:lnTo>
                  <a:pt x="246" y="30"/>
                </a:lnTo>
                <a:lnTo>
                  <a:pt x="264" y="30"/>
                </a:lnTo>
                <a:lnTo>
                  <a:pt x="282" y="24"/>
                </a:lnTo>
                <a:lnTo>
                  <a:pt x="312" y="18"/>
                </a:lnTo>
                <a:lnTo>
                  <a:pt x="330" y="18"/>
                </a:lnTo>
                <a:lnTo>
                  <a:pt x="348" y="12"/>
                </a:lnTo>
                <a:lnTo>
                  <a:pt x="378" y="12"/>
                </a:lnTo>
                <a:lnTo>
                  <a:pt x="402" y="12"/>
                </a:lnTo>
                <a:lnTo>
                  <a:pt x="420" y="6"/>
                </a:lnTo>
                <a:lnTo>
                  <a:pt x="450" y="6"/>
                </a:lnTo>
                <a:lnTo>
                  <a:pt x="474" y="6"/>
                </a:lnTo>
                <a:lnTo>
                  <a:pt x="498" y="0"/>
                </a:lnTo>
                <a:lnTo>
                  <a:pt x="528" y="0"/>
                </a:lnTo>
                <a:lnTo>
                  <a:pt x="552" y="0"/>
                </a:lnTo>
                <a:lnTo>
                  <a:pt x="570" y="0"/>
                </a:lnTo>
                <a:lnTo>
                  <a:pt x="606" y="0"/>
                </a:lnTo>
                <a:lnTo>
                  <a:pt x="624" y="0"/>
                </a:lnTo>
                <a:lnTo>
                  <a:pt x="624" y="162"/>
                </a:lnTo>
                <a:lnTo>
                  <a:pt x="0" y="162"/>
                </a:lnTo>
                <a:close/>
              </a:path>
            </a:pathLst>
          </a:custGeom>
          <a:solidFill>
            <a:srgbClr val="6000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4320" y="5519880"/>
            <a:ext cx="2880000" cy="803160"/>
          </a:xfrm>
          <a:custGeom>
            <a:avLst/>
            <a:gdLst/>
            <a:ahLst/>
            <a:rect l="l" t="t" r="r" b="b"/>
            <a:pathLst>
              <a:path w="1254" h="336">
                <a:moveTo>
                  <a:pt x="1254" y="0"/>
                </a:moveTo>
                <a:lnTo>
                  <a:pt x="1254" y="6"/>
                </a:lnTo>
                <a:lnTo>
                  <a:pt x="1248" y="12"/>
                </a:lnTo>
                <a:lnTo>
                  <a:pt x="1248" y="18"/>
                </a:lnTo>
                <a:lnTo>
                  <a:pt x="1242" y="24"/>
                </a:lnTo>
                <a:lnTo>
                  <a:pt x="1242" y="30"/>
                </a:lnTo>
                <a:lnTo>
                  <a:pt x="1236" y="36"/>
                </a:lnTo>
                <a:lnTo>
                  <a:pt x="1230" y="42"/>
                </a:lnTo>
                <a:lnTo>
                  <a:pt x="1224" y="48"/>
                </a:lnTo>
                <a:lnTo>
                  <a:pt x="1212" y="54"/>
                </a:lnTo>
                <a:lnTo>
                  <a:pt x="1200" y="60"/>
                </a:lnTo>
                <a:lnTo>
                  <a:pt x="1194" y="66"/>
                </a:lnTo>
                <a:lnTo>
                  <a:pt x="1182" y="72"/>
                </a:lnTo>
                <a:lnTo>
                  <a:pt x="1170" y="78"/>
                </a:lnTo>
                <a:lnTo>
                  <a:pt x="1158" y="84"/>
                </a:lnTo>
                <a:lnTo>
                  <a:pt x="1146" y="90"/>
                </a:lnTo>
                <a:lnTo>
                  <a:pt x="1128" y="96"/>
                </a:lnTo>
                <a:lnTo>
                  <a:pt x="1110" y="102"/>
                </a:lnTo>
                <a:lnTo>
                  <a:pt x="1098" y="102"/>
                </a:lnTo>
                <a:lnTo>
                  <a:pt x="1074" y="114"/>
                </a:lnTo>
                <a:lnTo>
                  <a:pt x="1062" y="114"/>
                </a:lnTo>
                <a:lnTo>
                  <a:pt x="1044" y="120"/>
                </a:lnTo>
                <a:lnTo>
                  <a:pt x="1026" y="120"/>
                </a:lnTo>
                <a:lnTo>
                  <a:pt x="1002" y="126"/>
                </a:lnTo>
                <a:lnTo>
                  <a:pt x="984" y="132"/>
                </a:lnTo>
                <a:lnTo>
                  <a:pt x="966" y="132"/>
                </a:lnTo>
                <a:lnTo>
                  <a:pt x="942" y="138"/>
                </a:lnTo>
                <a:lnTo>
                  <a:pt x="918" y="144"/>
                </a:lnTo>
                <a:lnTo>
                  <a:pt x="900" y="144"/>
                </a:lnTo>
                <a:lnTo>
                  <a:pt x="870" y="150"/>
                </a:lnTo>
                <a:lnTo>
                  <a:pt x="852" y="150"/>
                </a:lnTo>
                <a:lnTo>
                  <a:pt x="828" y="150"/>
                </a:lnTo>
                <a:lnTo>
                  <a:pt x="810" y="156"/>
                </a:lnTo>
                <a:lnTo>
                  <a:pt x="780" y="156"/>
                </a:lnTo>
                <a:lnTo>
                  <a:pt x="756" y="156"/>
                </a:lnTo>
                <a:lnTo>
                  <a:pt x="732" y="156"/>
                </a:lnTo>
                <a:lnTo>
                  <a:pt x="702" y="162"/>
                </a:lnTo>
                <a:lnTo>
                  <a:pt x="678" y="162"/>
                </a:lnTo>
                <a:lnTo>
                  <a:pt x="660" y="162"/>
                </a:lnTo>
                <a:lnTo>
                  <a:pt x="624" y="162"/>
                </a:lnTo>
                <a:lnTo>
                  <a:pt x="606" y="162"/>
                </a:lnTo>
                <a:lnTo>
                  <a:pt x="582" y="162"/>
                </a:lnTo>
                <a:lnTo>
                  <a:pt x="558" y="162"/>
                </a:lnTo>
                <a:lnTo>
                  <a:pt x="528" y="156"/>
                </a:lnTo>
                <a:lnTo>
                  <a:pt x="504" y="156"/>
                </a:lnTo>
                <a:lnTo>
                  <a:pt x="486" y="156"/>
                </a:lnTo>
                <a:lnTo>
                  <a:pt x="450" y="156"/>
                </a:lnTo>
                <a:lnTo>
                  <a:pt x="432" y="150"/>
                </a:lnTo>
                <a:lnTo>
                  <a:pt x="414" y="150"/>
                </a:lnTo>
                <a:lnTo>
                  <a:pt x="390" y="150"/>
                </a:lnTo>
                <a:lnTo>
                  <a:pt x="360" y="144"/>
                </a:lnTo>
                <a:lnTo>
                  <a:pt x="342" y="144"/>
                </a:lnTo>
                <a:lnTo>
                  <a:pt x="324" y="138"/>
                </a:lnTo>
                <a:lnTo>
                  <a:pt x="294" y="138"/>
                </a:lnTo>
                <a:lnTo>
                  <a:pt x="276" y="132"/>
                </a:lnTo>
                <a:lnTo>
                  <a:pt x="258" y="132"/>
                </a:lnTo>
                <a:lnTo>
                  <a:pt x="228" y="126"/>
                </a:lnTo>
                <a:lnTo>
                  <a:pt x="216" y="120"/>
                </a:lnTo>
                <a:lnTo>
                  <a:pt x="198" y="114"/>
                </a:lnTo>
                <a:lnTo>
                  <a:pt x="180" y="114"/>
                </a:lnTo>
                <a:lnTo>
                  <a:pt x="162" y="108"/>
                </a:lnTo>
                <a:lnTo>
                  <a:pt x="144" y="102"/>
                </a:lnTo>
                <a:lnTo>
                  <a:pt x="132" y="96"/>
                </a:lnTo>
                <a:lnTo>
                  <a:pt x="114" y="90"/>
                </a:lnTo>
                <a:lnTo>
                  <a:pt x="102" y="84"/>
                </a:lnTo>
                <a:lnTo>
                  <a:pt x="90" y="84"/>
                </a:lnTo>
                <a:lnTo>
                  <a:pt x="78" y="78"/>
                </a:lnTo>
                <a:lnTo>
                  <a:pt x="60" y="72"/>
                </a:lnTo>
                <a:lnTo>
                  <a:pt x="54" y="66"/>
                </a:lnTo>
                <a:lnTo>
                  <a:pt x="42" y="60"/>
                </a:lnTo>
                <a:lnTo>
                  <a:pt x="30" y="54"/>
                </a:lnTo>
                <a:lnTo>
                  <a:pt x="24" y="48"/>
                </a:lnTo>
                <a:lnTo>
                  <a:pt x="18" y="42"/>
                </a:lnTo>
                <a:lnTo>
                  <a:pt x="12" y="30"/>
                </a:lnTo>
                <a:lnTo>
                  <a:pt x="6" y="24"/>
                </a:lnTo>
                <a:lnTo>
                  <a:pt x="6" y="24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0" y="174"/>
                </a:lnTo>
                <a:lnTo>
                  <a:pt x="0" y="180"/>
                </a:lnTo>
                <a:lnTo>
                  <a:pt x="0" y="192"/>
                </a:lnTo>
                <a:lnTo>
                  <a:pt x="6" y="198"/>
                </a:lnTo>
                <a:lnTo>
                  <a:pt x="6" y="198"/>
                </a:lnTo>
                <a:lnTo>
                  <a:pt x="12" y="204"/>
                </a:lnTo>
                <a:lnTo>
                  <a:pt x="18" y="216"/>
                </a:lnTo>
                <a:lnTo>
                  <a:pt x="24" y="222"/>
                </a:lnTo>
                <a:lnTo>
                  <a:pt x="30" y="228"/>
                </a:lnTo>
                <a:lnTo>
                  <a:pt x="42" y="234"/>
                </a:lnTo>
                <a:lnTo>
                  <a:pt x="54" y="240"/>
                </a:lnTo>
                <a:lnTo>
                  <a:pt x="60" y="246"/>
                </a:lnTo>
                <a:lnTo>
                  <a:pt x="78" y="252"/>
                </a:lnTo>
                <a:lnTo>
                  <a:pt x="90" y="258"/>
                </a:lnTo>
                <a:lnTo>
                  <a:pt x="102" y="258"/>
                </a:lnTo>
                <a:lnTo>
                  <a:pt x="114" y="264"/>
                </a:lnTo>
                <a:lnTo>
                  <a:pt x="132" y="270"/>
                </a:lnTo>
                <a:lnTo>
                  <a:pt x="144" y="276"/>
                </a:lnTo>
                <a:lnTo>
                  <a:pt x="162" y="282"/>
                </a:lnTo>
                <a:lnTo>
                  <a:pt x="180" y="288"/>
                </a:lnTo>
                <a:lnTo>
                  <a:pt x="198" y="288"/>
                </a:lnTo>
                <a:lnTo>
                  <a:pt x="216" y="294"/>
                </a:lnTo>
                <a:lnTo>
                  <a:pt x="228" y="300"/>
                </a:lnTo>
                <a:lnTo>
                  <a:pt x="258" y="306"/>
                </a:lnTo>
                <a:lnTo>
                  <a:pt x="276" y="306"/>
                </a:lnTo>
                <a:lnTo>
                  <a:pt x="294" y="312"/>
                </a:lnTo>
                <a:lnTo>
                  <a:pt x="324" y="312"/>
                </a:lnTo>
                <a:lnTo>
                  <a:pt x="342" y="318"/>
                </a:lnTo>
                <a:lnTo>
                  <a:pt x="360" y="318"/>
                </a:lnTo>
                <a:lnTo>
                  <a:pt x="390" y="324"/>
                </a:lnTo>
                <a:lnTo>
                  <a:pt x="414" y="324"/>
                </a:lnTo>
                <a:lnTo>
                  <a:pt x="432" y="324"/>
                </a:lnTo>
                <a:lnTo>
                  <a:pt x="450" y="330"/>
                </a:lnTo>
                <a:lnTo>
                  <a:pt x="486" y="330"/>
                </a:lnTo>
                <a:lnTo>
                  <a:pt x="504" y="330"/>
                </a:lnTo>
                <a:lnTo>
                  <a:pt x="528" y="330"/>
                </a:lnTo>
                <a:lnTo>
                  <a:pt x="558" y="336"/>
                </a:lnTo>
                <a:lnTo>
                  <a:pt x="582" y="336"/>
                </a:lnTo>
                <a:lnTo>
                  <a:pt x="606" y="336"/>
                </a:lnTo>
                <a:lnTo>
                  <a:pt x="624" y="336"/>
                </a:lnTo>
                <a:lnTo>
                  <a:pt x="660" y="336"/>
                </a:lnTo>
                <a:lnTo>
                  <a:pt x="678" y="336"/>
                </a:lnTo>
                <a:lnTo>
                  <a:pt x="702" y="336"/>
                </a:lnTo>
                <a:lnTo>
                  <a:pt x="732" y="330"/>
                </a:lnTo>
                <a:lnTo>
                  <a:pt x="756" y="330"/>
                </a:lnTo>
                <a:lnTo>
                  <a:pt x="780" y="330"/>
                </a:lnTo>
                <a:lnTo>
                  <a:pt x="810" y="330"/>
                </a:lnTo>
                <a:lnTo>
                  <a:pt x="828" y="324"/>
                </a:lnTo>
                <a:lnTo>
                  <a:pt x="852" y="324"/>
                </a:lnTo>
                <a:lnTo>
                  <a:pt x="870" y="324"/>
                </a:lnTo>
                <a:lnTo>
                  <a:pt x="900" y="318"/>
                </a:lnTo>
                <a:lnTo>
                  <a:pt x="918" y="318"/>
                </a:lnTo>
                <a:lnTo>
                  <a:pt x="942" y="312"/>
                </a:lnTo>
                <a:lnTo>
                  <a:pt x="966" y="306"/>
                </a:lnTo>
                <a:lnTo>
                  <a:pt x="984" y="306"/>
                </a:lnTo>
                <a:lnTo>
                  <a:pt x="1002" y="300"/>
                </a:lnTo>
                <a:lnTo>
                  <a:pt x="1026" y="294"/>
                </a:lnTo>
                <a:lnTo>
                  <a:pt x="1044" y="294"/>
                </a:lnTo>
                <a:lnTo>
                  <a:pt x="1062" y="288"/>
                </a:lnTo>
                <a:lnTo>
                  <a:pt x="1074" y="288"/>
                </a:lnTo>
                <a:lnTo>
                  <a:pt x="1098" y="276"/>
                </a:lnTo>
                <a:lnTo>
                  <a:pt x="1110" y="276"/>
                </a:lnTo>
                <a:lnTo>
                  <a:pt x="1128" y="270"/>
                </a:lnTo>
                <a:lnTo>
                  <a:pt x="1146" y="264"/>
                </a:lnTo>
                <a:lnTo>
                  <a:pt x="1158" y="258"/>
                </a:lnTo>
                <a:lnTo>
                  <a:pt x="1170" y="252"/>
                </a:lnTo>
                <a:lnTo>
                  <a:pt x="1182" y="246"/>
                </a:lnTo>
                <a:lnTo>
                  <a:pt x="1194" y="240"/>
                </a:lnTo>
                <a:lnTo>
                  <a:pt x="1200" y="234"/>
                </a:lnTo>
                <a:lnTo>
                  <a:pt x="1212" y="228"/>
                </a:lnTo>
                <a:lnTo>
                  <a:pt x="1224" y="222"/>
                </a:lnTo>
                <a:lnTo>
                  <a:pt x="1230" y="216"/>
                </a:lnTo>
                <a:lnTo>
                  <a:pt x="1236" y="210"/>
                </a:lnTo>
                <a:lnTo>
                  <a:pt x="1242" y="204"/>
                </a:lnTo>
                <a:lnTo>
                  <a:pt x="1242" y="198"/>
                </a:lnTo>
                <a:lnTo>
                  <a:pt x="1248" y="192"/>
                </a:lnTo>
                <a:lnTo>
                  <a:pt x="1248" y="186"/>
                </a:lnTo>
                <a:lnTo>
                  <a:pt x="1254" y="180"/>
                </a:lnTo>
                <a:lnTo>
                  <a:pt x="1254" y="174"/>
                </a:lnTo>
                <a:lnTo>
                  <a:pt x="1254" y="0"/>
                </a:lnTo>
                <a:close/>
              </a:path>
            </a:pathLst>
          </a:custGeom>
          <a:solidFill>
            <a:srgbClr val="8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24320" y="5489640"/>
            <a:ext cx="2880000" cy="417600"/>
          </a:xfrm>
          <a:custGeom>
            <a:avLst/>
            <a:gdLst/>
            <a:ahLst/>
            <a:rect l="l" t="t" r="r" b="b"/>
            <a:pathLst>
              <a:path w="1254" h="174">
                <a:moveTo>
                  <a:pt x="1248" y="0"/>
                </a:moveTo>
                <a:lnTo>
                  <a:pt x="1254" y="6"/>
                </a:lnTo>
                <a:lnTo>
                  <a:pt x="1254" y="12"/>
                </a:lnTo>
                <a:lnTo>
                  <a:pt x="1254" y="18"/>
                </a:lnTo>
                <a:lnTo>
                  <a:pt x="1248" y="24"/>
                </a:lnTo>
                <a:lnTo>
                  <a:pt x="1248" y="30"/>
                </a:lnTo>
                <a:lnTo>
                  <a:pt x="1242" y="36"/>
                </a:lnTo>
                <a:lnTo>
                  <a:pt x="1236" y="42"/>
                </a:lnTo>
                <a:lnTo>
                  <a:pt x="1236" y="48"/>
                </a:lnTo>
                <a:lnTo>
                  <a:pt x="1230" y="54"/>
                </a:lnTo>
                <a:lnTo>
                  <a:pt x="1218" y="66"/>
                </a:lnTo>
                <a:lnTo>
                  <a:pt x="1212" y="66"/>
                </a:lnTo>
                <a:lnTo>
                  <a:pt x="1200" y="72"/>
                </a:lnTo>
                <a:lnTo>
                  <a:pt x="1194" y="78"/>
                </a:lnTo>
                <a:lnTo>
                  <a:pt x="1182" y="84"/>
                </a:lnTo>
                <a:lnTo>
                  <a:pt x="1170" y="90"/>
                </a:lnTo>
                <a:lnTo>
                  <a:pt x="1158" y="96"/>
                </a:lnTo>
                <a:lnTo>
                  <a:pt x="1146" y="102"/>
                </a:lnTo>
                <a:lnTo>
                  <a:pt x="1128" y="108"/>
                </a:lnTo>
                <a:lnTo>
                  <a:pt x="1110" y="114"/>
                </a:lnTo>
                <a:lnTo>
                  <a:pt x="1098" y="114"/>
                </a:lnTo>
                <a:lnTo>
                  <a:pt x="1086" y="120"/>
                </a:lnTo>
                <a:lnTo>
                  <a:pt x="1062" y="126"/>
                </a:lnTo>
                <a:lnTo>
                  <a:pt x="1044" y="132"/>
                </a:lnTo>
                <a:lnTo>
                  <a:pt x="1026" y="132"/>
                </a:lnTo>
                <a:lnTo>
                  <a:pt x="1014" y="138"/>
                </a:lnTo>
                <a:lnTo>
                  <a:pt x="984" y="144"/>
                </a:lnTo>
                <a:lnTo>
                  <a:pt x="966" y="144"/>
                </a:lnTo>
                <a:lnTo>
                  <a:pt x="948" y="150"/>
                </a:lnTo>
                <a:lnTo>
                  <a:pt x="918" y="156"/>
                </a:lnTo>
                <a:lnTo>
                  <a:pt x="900" y="156"/>
                </a:lnTo>
                <a:lnTo>
                  <a:pt x="882" y="156"/>
                </a:lnTo>
                <a:lnTo>
                  <a:pt x="858" y="162"/>
                </a:lnTo>
                <a:lnTo>
                  <a:pt x="828" y="162"/>
                </a:lnTo>
                <a:lnTo>
                  <a:pt x="810" y="168"/>
                </a:lnTo>
                <a:lnTo>
                  <a:pt x="786" y="168"/>
                </a:lnTo>
                <a:lnTo>
                  <a:pt x="768" y="168"/>
                </a:lnTo>
                <a:lnTo>
                  <a:pt x="732" y="168"/>
                </a:lnTo>
                <a:lnTo>
                  <a:pt x="714" y="168"/>
                </a:lnTo>
                <a:lnTo>
                  <a:pt x="690" y="174"/>
                </a:lnTo>
                <a:lnTo>
                  <a:pt x="672" y="174"/>
                </a:lnTo>
                <a:lnTo>
                  <a:pt x="636" y="174"/>
                </a:lnTo>
                <a:lnTo>
                  <a:pt x="612" y="174"/>
                </a:lnTo>
                <a:lnTo>
                  <a:pt x="594" y="174"/>
                </a:lnTo>
                <a:lnTo>
                  <a:pt x="570" y="174"/>
                </a:lnTo>
                <a:lnTo>
                  <a:pt x="540" y="168"/>
                </a:lnTo>
                <a:lnTo>
                  <a:pt x="516" y="168"/>
                </a:lnTo>
                <a:lnTo>
                  <a:pt x="498" y="168"/>
                </a:lnTo>
                <a:lnTo>
                  <a:pt x="474" y="168"/>
                </a:lnTo>
                <a:lnTo>
                  <a:pt x="444" y="168"/>
                </a:lnTo>
                <a:lnTo>
                  <a:pt x="420" y="162"/>
                </a:lnTo>
                <a:lnTo>
                  <a:pt x="402" y="162"/>
                </a:lnTo>
                <a:lnTo>
                  <a:pt x="378" y="162"/>
                </a:lnTo>
                <a:lnTo>
                  <a:pt x="348" y="156"/>
                </a:lnTo>
                <a:lnTo>
                  <a:pt x="330" y="156"/>
                </a:lnTo>
                <a:lnTo>
                  <a:pt x="312" y="150"/>
                </a:lnTo>
                <a:lnTo>
                  <a:pt x="282" y="144"/>
                </a:lnTo>
                <a:lnTo>
                  <a:pt x="264" y="144"/>
                </a:lnTo>
                <a:lnTo>
                  <a:pt x="246" y="138"/>
                </a:lnTo>
                <a:lnTo>
                  <a:pt x="228" y="138"/>
                </a:lnTo>
                <a:lnTo>
                  <a:pt x="204" y="132"/>
                </a:lnTo>
                <a:lnTo>
                  <a:pt x="192" y="126"/>
                </a:lnTo>
                <a:lnTo>
                  <a:pt x="174" y="126"/>
                </a:lnTo>
                <a:lnTo>
                  <a:pt x="162" y="120"/>
                </a:lnTo>
                <a:lnTo>
                  <a:pt x="138" y="114"/>
                </a:lnTo>
                <a:lnTo>
                  <a:pt x="126" y="108"/>
                </a:lnTo>
                <a:lnTo>
                  <a:pt x="114" y="102"/>
                </a:lnTo>
                <a:lnTo>
                  <a:pt x="102" y="96"/>
                </a:lnTo>
                <a:lnTo>
                  <a:pt x="84" y="90"/>
                </a:lnTo>
                <a:lnTo>
                  <a:pt x="72" y="84"/>
                </a:lnTo>
                <a:lnTo>
                  <a:pt x="60" y="84"/>
                </a:lnTo>
                <a:lnTo>
                  <a:pt x="54" y="78"/>
                </a:lnTo>
                <a:lnTo>
                  <a:pt x="42" y="66"/>
                </a:lnTo>
                <a:lnTo>
                  <a:pt x="30" y="66"/>
                </a:lnTo>
                <a:lnTo>
                  <a:pt x="24" y="60"/>
                </a:lnTo>
                <a:lnTo>
                  <a:pt x="18" y="54"/>
                </a:lnTo>
                <a:lnTo>
                  <a:pt x="12" y="42"/>
                </a:lnTo>
                <a:lnTo>
                  <a:pt x="6" y="36"/>
                </a:lnTo>
                <a:lnTo>
                  <a:pt x="6" y="36"/>
                </a:lnTo>
                <a:lnTo>
                  <a:pt x="0" y="30"/>
                </a:lnTo>
                <a:lnTo>
                  <a:pt x="0" y="18"/>
                </a:lnTo>
                <a:lnTo>
                  <a:pt x="0" y="12"/>
                </a:lnTo>
                <a:lnTo>
                  <a:pt x="624" y="12"/>
                </a:lnTo>
                <a:lnTo>
                  <a:pt x="1248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61000" y="639756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7032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0600" y="48308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760" y="4960800"/>
            <a:ext cx="35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3840" y="5342040"/>
            <a:ext cx="2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4994280"/>
            <a:ext cx="96840" cy="122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1080" y="494496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5276880"/>
            <a:ext cx="96840" cy="1220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0800" y="5227560"/>
            <a:ext cx="32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560920"/>
            <a:ext cx="96840" cy="12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9920" y="55101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842080"/>
            <a:ext cx="96840" cy="125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2720" y="5794200"/>
            <a:ext cx="115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Excite@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6127920"/>
            <a:ext cx="96840" cy="120600"/>
          </a:xfrm>
          <a:prstGeom prst="rect">
            <a:avLst/>
          </a:prstGeom>
          <a:solidFill>
            <a:srgbClr val="600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72160" y="6076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emiSans ExtraBold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9800" y="4064040"/>
            <a:ext cx="82803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242" name="logqo" descr=""/>
          <p:cNvPicPr/>
          <p:nvPr/>
        </p:nvPicPr>
        <p:blipFill>
          <a:blip r:embed="rId5"/>
          <a:stretch/>
        </p:blipFill>
        <p:spPr>
          <a:xfrm>
            <a:off x="3832200" y="2179800"/>
            <a:ext cx="1952640" cy="26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3F0D-D2B8-4A4B-82A2-380F5281E896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859360" y="2100240"/>
            <a:ext cx="2311560" cy="1447920"/>
          </a:xfrm>
          <a:prstGeom prst="leftArrowCallout">
            <a:avLst>
              <a:gd name="adj1" fmla="val 15566"/>
              <a:gd name="adj2" fmla="val 22171"/>
              <a:gd name="adj3" fmla="val 41257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75480" y="230364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30,000+ 56kbps str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3520" y="4010040"/>
            <a:ext cx="2311200" cy="1447920"/>
          </a:xfrm>
          <a:prstGeom prst="leftArrowCallout">
            <a:avLst>
              <a:gd name="adj1" fmla="val 15566"/>
              <a:gd name="adj2" fmla="val 22171"/>
              <a:gd name="adj3" fmla="val 41250"/>
              <a:gd name="adj4" fmla="val 66645"/>
            </a:avLst>
          </a:prstGeom>
          <a:solidFill>
            <a:srgbClr val="a5ba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27840" y="4213080"/>
            <a:ext cx="14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quivalent to 125,000+ hours at 56k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-36 FOOTPRIN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North American Network Capacity and Reac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 capacity of 25,000 concurrent 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300kbps streams from the edge, today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concur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ream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torage capacity of 23,900 hours of cont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at 300kbps from the edge, today 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Growing to more than 300,000 hours by YE 2001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E449-5F02-4B36-8ECD-AB1FD5B3D236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57640" y="6515280"/>
            <a:ext cx="1064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Times New Roman"/>
              </a:rPr>
              <a:t>080011.PASoverview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6120" y="316080"/>
            <a:ext cx="7286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38160" y="4494240"/>
            <a:ext cx="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0200" y="181080"/>
            <a:ext cx="6689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2960" y="662040"/>
            <a:ext cx="66690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7320" y="582480"/>
            <a:ext cx="5674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PANAMSAT INTERNET ACC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22760" y="3627360"/>
            <a:ext cx="2673360" cy="1682640"/>
            <a:chOff x="5522760" y="3627360"/>
            <a:chExt cx="2673360" cy="1682640"/>
          </a:xfrm>
        </p:grpSpPr>
        <p:sp>
          <p:nvSpPr>
            <p:cNvPr id="256" name=""/>
            <p:cNvSpPr/>
            <p:nvPr/>
          </p:nvSpPr>
          <p:spPr>
            <a:xfrm>
              <a:off x="5648760" y="4044240"/>
              <a:ext cx="237240" cy="646920"/>
            </a:xfrm>
            <a:custGeom>
              <a:avLst/>
              <a:gdLst/>
              <a:ahLst/>
              <a:rect l="l" t="t" r="r" b="b"/>
              <a:pathLst>
                <a:path w="182" h="546">
                  <a:moveTo>
                    <a:pt x="182" y="546"/>
                  </a:moveTo>
                  <a:lnTo>
                    <a:pt x="0" y="54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243e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7642440" y="4058640"/>
              <a:ext cx="40536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76920" y="4217400"/>
              <a:ext cx="1297440" cy="474120"/>
            </a:xfrm>
            <a:custGeom>
              <a:avLst/>
              <a:gdLst/>
              <a:ahLst/>
              <a:rect l="l" t="t" r="r" b="b"/>
              <a:pathLst>
                <a:path w="996" h="400">
                  <a:moveTo>
                    <a:pt x="850" y="0"/>
                  </a:moveTo>
                  <a:lnTo>
                    <a:pt x="0" y="48"/>
                  </a:lnTo>
                  <a:lnTo>
                    <a:pt x="996" y="400"/>
                  </a:lnTo>
                  <a:lnTo>
                    <a:pt x="850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854680" y="4260240"/>
              <a:ext cx="2151000" cy="1049760"/>
              <a:chOff x="5854680" y="4260240"/>
              <a:chExt cx="2151000" cy="10497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5854680" y="4260240"/>
                <a:ext cx="2151000" cy="1049760"/>
                <a:chOff x="5854680" y="4260240"/>
                <a:chExt cx="2151000" cy="10497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54680" y="4260240"/>
                  <a:ext cx="2151000" cy="104976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07400" y="4375080"/>
                  <a:ext cx="1613880" cy="790200"/>
                </a:xfrm>
                <a:prstGeom prst="ellipse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75600" y="4503960"/>
                  <a:ext cx="1075680" cy="531720"/>
                </a:xfrm>
                <a:prstGeom prst="ellipse">
                  <a:avLst/>
                </a:prstGeom>
                <a:solidFill>
                  <a:srgbClr val="c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45240" y="4633200"/>
                  <a:ext cx="553320" cy="273240"/>
                </a:xfrm>
                <a:prstGeom prst="ellipse">
                  <a:avLst/>
                </a:prstGeom>
                <a:solidFill>
                  <a:srgbClr val="d1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5854680" y="4260240"/>
                <a:ext cx="2151000" cy="10497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60600" y="4447440"/>
              <a:ext cx="1787400" cy="847080"/>
            </a:xfrm>
            <a:custGeom>
              <a:avLst/>
              <a:gdLst/>
              <a:ahLst/>
              <a:rect l="l" t="t" r="r" b="b"/>
              <a:pathLst>
                <a:path w="1372" h="715">
                  <a:moveTo>
                    <a:pt x="48" y="12"/>
                  </a:moveTo>
                  <a:lnTo>
                    <a:pt x="692" y="12"/>
                  </a:lnTo>
                  <a:lnTo>
                    <a:pt x="704" y="0"/>
                  </a:lnTo>
                  <a:lnTo>
                    <a:pt x="716" y="24"/>
                  </a:lnTo>
                  <a:lnTo>
                    <a:pt x="753" y="24"/>
                  </a:lnTo>
                  <a:lnTo>
                    <a:pt x="789" y="48"/>
                  </a:lnTo>
                  <a:lnTo>
                    <a:pt x="825" y="48"/>
                  </a:lnTo>
                  <a:lnTo>
                    <a:pt x="777" y="97"/>
                  </a:lnTo>
                  <a:lnTo>
                    <a:pt x="801" y="85"/>
                  </a:lnTo>
                  <a:lnTo>
                    <a:pt x="813" y="97"/>
                  </a:lnTo>
                  <a:lnTo>
                    <a:pt x="862" y="85"/>
                  </a:lnTo>
                  <a:lnTo>
                    <a:pt x="862" y="97"/>
                  </a:lnTo>
                  <a:lnTo>
                    <a:pt x="874" y="85"/>
                  </a:lnTo>
                  <a:lnTo>
                    <a:pt x="886" y="97"/>
                  </a:lnTo>
                  <a:lnTo>
                    <a:pt x="935" y="97"/>
                  </a:lnTo>
                  <a:lnTo>
                    <a:pt x="935" y="97"/>
                  </a:lnTo>
                  <a:lnTo>
                    <a:pt x="947" y="97"/>
                  </a:lnTo>
                  <a:lnTo>
                    <a:pt x="959" y="97"/>
                  </a:lnTo>
                  <a:lnTo>
                    <a:pt x="959" y="109"/>
                  </a:lnTo>
                  <a:lnTo>
                    <a:pt x="959" y="109"/>
                  </a:lnTo>
                  <a:lnTo>
                    <a:pt x="959" y="121"/>
                  </a:lnTo>
                  <a:lnTo>
                    <a:pt x="898" y="121"/>
                  </a:lnTo>
                  <a:lnTo>
                    <a:pt x="874" y="157"/>
                  </a:lnTo>
                  <a:lnTo>
                    <a:pt x="886" y="145"/>
                  </a:lnTo>
                  <a:lnTo>
                    <a:pt x="874" y="206"/>
                  </a:lnTo>
                  <a:lnTo>
                    <a:pt x="874" y="242"/>
                  </a:lnTo>
                  <a:lnTo>
                    <a:pt x="886" y="254"/>
                  </a:lnTo>
                  <a:lnTo>
                    <a:pt x="886" y="254"/>
                  </a:lnTo>
                  <a:lnTo>
                    <a:pt x="910" y="242"/>
                  </a:lnTo>
                  <a:lnTo>
                    <a:pt x="910" y="182"/>
                  </a:lnTo>
                  <a:lnTo>
                    <a:pt x="910" y="145"/>
                  </a:lnTo>
                  <a:lnTo>
                    <a:pt x="935" y="145"/>
                  </a:lnTo>
                  <a:lnTo>
                    <a:pt x="935" y="121"/>
                  </a:lnTo>
                  <a:lnTo>
                    <a:pt x="971" y="133"/>
                  </a:lnTo>
                  <a:lnTo>
                    <a:pt x="983" y="170"/>
                  </a:lnTo>
                  <a:lnTo>
                    <a:pt x="971" y="194"/>
                  </a:lnTo>
                  <a:lnTo>
                    <a:pt x="983" y="182"/>
                  </a:lnTo>
                  <a:lnTo>
                    <a:pt x="1008" y="206"/>
                  </a:lnTo>
                  <a:lnTo>
                    <a:pt x="1008" y="206"/>
                  </a:lnTo>
                  <a:lnTo>
                    <a:pt x="983" y="254"/>
                  </a:lnTo>
                  <a:lnTo>
                    <a:pt x="971" y="254"/>
                  </a:lnTo>
                  <a:lnTo>
                    <a:pt x="995" y="254"/>
                  </a:lnTo>
                  <a:lnTo>
                    <a:pt x="1020" y="254"/>
                  </a:lnTo>
                  <a:lnTo>
                    <a:pt x="1093" y="218"/>
                  </a:lnTo>
                  <a:lnTo>
                    <a:pt x="1080" y="218"/>
                  </a:lnTo>
                  <a:lnTo>
                    <a:pt x="1080" y="206"/>
                  </a:lnTo>
                  <a:lnTo>
                    <a:pt x="1153" y="194"/>
                  </a:lnTo>
                  <a:lnTo>
                    <a:pt x="1153" y="170"/>
                  </a:lnTo>
                  <a:lnTo>
                    <a:pt x="1178" y="145"/>
                  </a:lnTo>
                  <a:lnTo>
                    <a:pt x="1250" y="145"/>
                  </a:lnTo>
                  <a:lnTo>
                    <a:pt x="1287" y="133"/>
                  </a:lnTo>
                  <a:lnTo>
                    <a:pt x="1311" y="73"/>
                  </a:lnTo>
                  <a:lnTo>
                    <a:pt x="1323" y="73"/>
                  </a:lnTo>
                  <a:lnTo>
                    <a:pt x="1335" y="73"/>
                  </a:lnTo>
                  <a:lnTo>
                    <a:pt x="1348" y="85"/>
                  </a:lnTo>
                  <a:lnTo>
                    <a:pt x="1348" y="121"/>
                  </a:lnTo>
                  <a:lnTo>
                    <a:pt x="1372" y="145"/>
                  </a:lnTo>
                  <a:lnTo>
                    <a:pt x="1360" y="145"/>
                  </a:lnTo>
                  <a:lnTo>
                    <a:pt x="1360" y="157"/>
                  </a:lnTo>
                  <a:lnTo>
                    <a:pt x="1360" y="157"/>
                  </a:lnTo>
                  <a:lnTo>
                    <a:pt x="1323" y="170"/>
                  </a:lnTo>
                  <a:lnTo>
                    <a:pt x="1323" y="170"/>
                  </a:lnTo>
                  <a:lnTo>
                    <a:pt x="1311" y="182"/>
                  </a:lnTo>
                  <a:lnTo>
                    <a:pt x="1287" y="194"/>
                  </a:lnTo>
                  <a:lnTo>
                    <a:pt x="1275" y="230"/>
                  </a:lnTo>
                  <a:lnTo>
                    <a:pt x="1287" y="254"/>
                  </a:lnTo>
                  <a:lnTo>
                    <a:pt x="1287" y="254"/>
                  </a:lnTo>
                  <a:lnTo>
                    <a:pt x="1287" y="242"/>
                  </a:lnTo>
                  <a:lnTo>
                    <a:pt x="1299" y="242"/>
                  </a:lnTo>
                  <a:lnTo>
                    <a:pt x="1299" y="254"/>
                  </a:lnTo>
                  <a:lnTo>
                    <a:pt x="1275" y="254"/>
                  </a:lnTo>
                  <a:lnTo>
                    <a:pt x="1263" y="254"/>
                  </a:lnTo>
                  <a:lnTo>
                    <a:pt x="1263" y="267"/>
                  </a:lnTo>
                  <a:lnTo>
                    <a:pt x="1226" y="267"/>
                  </a:lnTo>
                  <a:lnTo>
                    <a:pt x="1202" y="279"/>
                  </a:lnTo>
                  <a:lnTo>
                    <a:pt x="1190" y="327"/>
                  </a:lnTo>
                  <a:lnTo>
                    <a:pt x="1178" y="339"/>
                  </a:lnTo>
                  <a:lnTo>
                    <a:pt x="1165" y="315"/>
                  </a:lnTo>
                  <a:lnTo>
                    <a:pt x="1178" y="351"/>
                  </a:lnTo>
                  <a:lnTo>
                    <a:pt x="1153" y="388"/>
                  </a:lnTo>
                  <a:lnTo>
                    <a:pt x="1153" y="388"/>
                  </a:lnTo>
                  <a:lnTo>
                    <a:pt x="1165" y="364"/>
                  </a:lnTo>
                  <a:lnTo>
                    <a:pt x="1141" y="351"/>
                  </a:lnTo>
                  <a:lnTo>
                    <a:pt x="1153" y="315"/>
                  </a:lnTo>
                  <a:lnTo>
                    <a:pt x="1141" y="327"/>
                  </a:lnTo>
                  <a:lnTo>
                    <a:pt x="1141" y="351"/>
                  </a:lnTo>
                  <a:lnTo>
                    <a:pt x="1129" y="351"/>
                  </a:lnTo>
                  <a:lnTo>
                    <a:pt x="1141" y="364"/>
                  </a:lnTo>
                  <a:lnTo>
                    <a:pt x="1141" y="388"/>
                  </a:lnTo>
                  <a:lnTo>
                    <a:pt x="1165" y="424"/>
                  </a:lnTo>
                  <a:lnTo>
                    <a:pt x="1141" y="461"/>
                  </a:lnTo>
                  <a:lnTo>
                    <a:pt x="1080" y="485"/>
                  </a:lnTo>
                  <a:lnTo>
                    <a:pt x="1032" y="533"/>
                  </a:lnTo>
                  <a:lnTo>
                    <a:pt x="1020" y="558"/>
                  </a:lnTo>
                  <a:lnTo>
                    <a:pt x="1056" y="667"/>
                  </a:lnTo>
                  <a:lnTo>
                    <a:pt x="1056" y="703"/>
                  </a:lnTo>
                  <a:lnTo>
                    <a:pt x="1032" y="715"/>
                  </a:lnTo>
                  <a:lnTo>
                    <a:pt x="1020" y="691"/>
                  </a:lnTo>
                  <a:lnTo>
                    <a:pt x="1008" y="667"/>
                  </a:lnTo>
                  <a:lnTo>
                    <a:pt x="995" y="606"/>
                  </a:lnTo>
                  <a:lnTo>
                    <a:pt x="971" y="582"/>
                  </a:lnTo>
                  <a:lnTo>
                    <a:pt x="935" y="594"/>
                  </a:lnTo>
                  <a:lnTo>
                    <a:pt x="935" y="582"/>
                  </a:lnTo>
                  <a:lnTo>
                    <a:pt x="910" y="570"/>
                  </a:lnTo>
                  <a:lnTo>
                    <a:pt x="874" y="582"/>
                  </a:lnTo>
                  <a:lnTo>
                    <a:pt x="874" y="570"/>
                  </a:lnTo>
                  <a:lnTo>
                    <a:pt x="825" y="582"/>
                  </a:lnTo>
                  <a:lnTo>
                    <a:pt x="813" y="570"/>
                  </a:lnTo>
                  <a:lnTo>
                    <a:pt x="813" y="582"/>
                  </a:lnTo>
                  <a:lnTo>
                    <a:pt x="838" y="582"/>
                  </a:lnTo>
                  <a:lnTo>
                    <a:pt x="838" y="594"/>
                  </a:lnTo>
                  <a:lnTo>
                    <a:pt x="850" y="606"/>
                  </a:lnTo>
                  <a:lnTo>
                    <a:pt x="838" y="618"/>
                  </a:lnTo>
                  <a:lnTo>
                    <a:pt x="825" y="606"/>
                  </a:lnTo>
                  <a:lnTo>
                    <a:pt x="789" y="606"/>
                  </a:lnTo>
                  <a:lnTo>
                    <a:pt x="777" y="594"/>
                  </a:lnTo>
                  <a:lnTo>
                    <a:pt x="765" y="594"/>
                  </a:lnTo>
                  <a:lnTo>
                    <a:pt x="740" y="594"/>
                  </a:lnTo>
                  <a:lnTo>
                    <a:pt x="716" y="606"/>
                  </a:lnTo>
                  <a:lnTo>
                    <a:pt x="716" y="594"/>
                  </a:lnTo>
                  <a:lnTo>
                    <a:pt x="704" y="594"/>
                  </a:lnTo>
                  <a:lnTo>
                    <a:pt x="704" y="606"/>
                  </a:lnTo>
                  <a:lnTo>
                    <a:pt x="655" y="643"/>
                  </a:lnTo>
                  <a:lnTo>
                    <a:pt x="655" y="691"/>
                  </a:lnTo>
                  <a:lnTo>
                    <a:pt x="607" y="679"/>
                  </a:lnTo>
                  <a:lnTo>
                    <a:pt x="558" y="594"/>
                  </a:lnTo>
                  <a:lnTo>
                    <a:pt x="522" y="594"/>
                  </a:lnTo>
                  <a:lnTo>
                    <a:pt x="510" y="606"/>
                  </a:lnTo>
                  <a:lnTo>
                    <a:pt x="498" y="606"/>
                  </a:lnTo>
                  <a:lnTo>
                    <a:pt x="473" y="594"/>
                  </a:lnTo>
                  <a:lnTo>
                    <a:pt x="473" y="570"/>
                  </a:lnTo>
                  <a:lnTo>
                    <a:pt x="437" y="546"/>
                  </a:lnTo>
                  <a:lnTo>
                    <a:pt x="327" y="558"/>
                  </a:lnTo>
                  <a:lnTo>
                    <a:pt x="230" y="521"/>
                  </a:lnTo>
                  <a:lnTo>
                    <a:pt x="182" y="521"/>
                  </a:lnTo>
                  <a:lnTo>
                    <a:pt x="182" y="521"/>
                  </a:lnTo>
                  <a:lnTo>
                    <a:pt x="170" y="497"/>
                  </a:lnTo>
                  <a:lnTo>
                    <a:pt x="157" y="485"/>
                  </a:lnTo>
                  <a:lnTo>
                    <a:pt x="157" y="473"/>
                  </a:lnTo>
                  <a:lnTo>
                    <a:pt x="97" y="461"/>
                  </a:lnTo>
                  <a:lnTo>
                    <a:pt x="97" y="449"/>
                  </a:lnTo>
                  <a:lnTo>
                    <a:pt x="72" y="412"/>
                  </a:lnTo>
                  <a:lnTo>
                    <a:pt x="72" y="388"/>
                  </a:lnTo>
                  <a:lnTo>
                    <a:pt x="60" y="388"/>
                  </a:lnTo>
                  <a:lnTo>
                    <a:pt x="60" y="376"/>
                  </a:lnTo>
                  <a:lnTo>
                    <a:pt x="60" y="376"/>
                  </a:lnTo>
                  <a:lnTo>
                    <a:pt x="60" y="364"/>
                  </a:lnTo>
                  <a:lnTo>
                    <a:pt x="48" y="364"/>
                  </a:lnTo>
                  <a:lnTo>
                    <a:pt x="48" y="351"/>
                  </a:lnTo>
                  <a:lnTo>
                    <a:pt x="24" y="339"/>
                  </a:lnTo>
                  <a:lnTo>
                    <a:pt x="24" y="315"/>
                  </a:lnTo>
                  <a:lnTo>
                    <a:pt x="12" y="291"/>
                  </a:lnTo>
                  <a:lnTo>
                    <a:pt x="24" y="254"/>
                  </a:lnTo>
                  <a:lnTo>
                    <a:pt x="12" y="218"/>
                  </a:lnTo>
                  <a:lnTo>
                    <a:pt x="24" y="109"/>
                  </a:lnTo>
                  <a:lnTo>
                    <a:pt x="36" y="109"/>
                  </a:lnTo>
                  <a:lnTo>
                    <a:pt x="24" y="109"/>
                  </a:lnTo>
                  <a:lnTo>
                    <a:pt x="0" y="48"/>
                  </a:lnTo>
                  <a:lnTo>
                    <a:pt x="12" y="36"/>
                  </a:lnTo>
                  <a:lnTo>
                    <a:pt x="36" y="48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48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060600" y="4475880"/>
              <a:ext cx="379800" cy="344520"/>
              <a:chOff x="6060600" y="4475880"/>
              <a:chExt cx="379800" cy="344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392520" y="4489920"/>
                <a:ext cx="46800" cy="128880"/>
              </a:xfrm>
              <a:custGeom>
                <a:avLst/>
                <a:gdLst/>
                <a:ahLst/>
                <a:rect l="l" t="t" r="r" b="b"/>
                <a:pathLst>
                  <a:path w="36" h="109">
                    <a:moveTo>
                      <a:pt x="0" y="3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10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76080" y="4562280"/>
                <a:ext cx="172800" cy="215640"/>
              </a:xfrm>
              <a:custGeom>
                <a:avLst/>
                <a:gdLst/>
                <a:ahLst/>
                <a:rect l="l" t="t" r="r" b="b"/>
                <a:pathLst>
                  <a:path w="133" h="182">
                    <a:moveTo>
                      <a:pt x="0" y="73"/>
                    </a:moveTo>
                    <a:lnTo>
                      <a:pt x="0" y="182"/>
                    </a:lnTo>
                    <a:lnTo>
                      <a:pt x="133" y="182"/>
                    </a:lnTo>
                    <a:lnTo>
                      <a:pt x="133" y="73"/>
                    </a:lnTo>
                    <a:lnTo>
                      <a:pt x="6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49240" y="4648680"/>
                <a:ext cx="174600" cy="143280"/>
              </a:xfrm>
              <a:prstGeom prst="rect">
                <a:avLst/>
              </a:prstGeom>
              <a:solidFill>
                <a:srgbClr val="ffe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4428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4428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81640" y="4648680"/>
                <a:ext cx="30960" cy="4248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81640" y="4648680"/>
                <a:ext cx="30960" cy="2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44280" y="4705560"/>
                <a:ext cx="6372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22880" y="4590720"/>
                <a:ext cx="6408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07400" y="4633560"/>
                <a:ext cx="309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07400" y="4648680"/>
                <a:ext cx="3096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71120" y="4633560"/>
                <a:ext cx="4644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86960" y="4648680"/>
                <a:ext cx="15120" cy="42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264720" y="4734000"/>
                <a:ext cx="3240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64720" y="4734000"/>
                <a:ext cx="1656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297480" y="4734000"/>
                <a:ext cx="15480" cy="43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07400" y="4705560"/>
                <a:ext cx="110160" cy="57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4428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4428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1640" y="466308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8164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44280" y="4705560"/>
                <a:ext cx="63720" cy="57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49"/>
                    </a:moveTo>
                    <a:lnTo>
                      <a:pt x="49" y="24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49"/>
                    </a:lnTo>
                    <a:lnTo>
                      <a:pt x="49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7112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38360" y="45907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200" y="459072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07400" y="467712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12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07400" y="4648680"/>
                <a:ext cx="30960" cy="140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12"/>
                    </a:move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186960" y="467712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8696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07400" y="47055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85" h="49">
                    <a:moveTo>
                      <a:pt x="24" y="49"/>
                    </a:moveTo>
                    <a:lnTo>
                      <a:pt x="61" y="49"/>
                    </a:lnTo>
                    <a:lnTo>
                      <a:pt x="85" y="49"/>
                    </a:lnTo>
                    <a:lnTo>
                      <a:pt x="85" y="36"/>
                    </a:lnTo>
                    <a:lnTo>
                      <a:pt x="85" y="0"/>
                    </a:lnTo>
                    <a:lnTo>
                      <a:pt x="4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24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60120" y="46630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81640" y="46630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22880" y="46771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86960" y="467712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60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442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6012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442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748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8164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974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8164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44280" y="4734000"/>
                <a:ext cx="63720" cy="2952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49" y="0"/>
                    </a:moveTo>
                    <a:lnTo>
                      <a:pt x="49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44280" y="4705560"/>
                <a:ext cx="63720" cy="1404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9" y="12"/>
                    </a:moveTo>
                    <a:lnTo>
                      <a:pt x="49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3836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07400" y="467712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2288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07400" y="4648680"/>
                <a:ext cx="1512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2080" y="46771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71120" y="46771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02080" y="46486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86960" y="464868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112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12" y="49"/>
                    </a:moveTo>
                    <a:lnTo>
                      <a:pt x="36" y="49"/>
                    </a:lnTo>
                    <a:lnTo>
                      <a:pt x="36" y="3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07400" y="4705560"/>
                <a:ext cx="46440" cy="57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24" y="49"/>
                    </a:moveTo>
                    <a:lnTo>
                      <a:pt x="0" y="49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24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e293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92520" y="4489920"/>
                <a:ext cx="30960" cy="128880"/>
              </a:xfrm>
              <a:custGeom>
                <a:avLst/>
                <a:gdLst/>
                <a:ahLst/>
                <a:rect l="l" t="t" r="r" b="b"/>
                <a:pathLst>
                  <a:path w="24" h="109">
                    <a:moveTo>
                      <a:pt x="0" y="0"/>
                    </a:moveTo>
                    <a:lnTo>
                      <a:pt x="24" y="0"/>
                    </a:lnTo>
                    <a:lnTo>
                      <a:pt x="24" y="109"/>
                    </a:lnTo>
                    <a:lnTo>
                      <a:pt x="0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3840" y="464868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49240" y="4648680"/>
                <a:ext cx="174600" cy="1080"/>
              </a:xfrm>
              <a:custGeom>
                <a:avLst/>
                <a:gdLst/>
                <a:ahLst/>
                <a:rect l="l" t="t" r="r" b="b"/>
                <a:pathLst>
                  <a:path w="134" h="0">
                    <a:moveTo>
                      <a:pt x="0" y="0"/>
                    </a:moveTo>
                    <a:lnTo>
                      <a:pt x="61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4924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76080" y="4648680"/>
                <a:ext cx="36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76080" y="4562280"/>
                <a:ext cx="95040" cy="100440"/>
              </a:xfrm>
              <a:custGeom>
                <a:avLst/>
                <a:gdLst/>
                <a:ahLst/>
                <a:rect l="l" t="t" r="r" b="b"/>
                <a:pathLst>
                  <a:path w="73" h="85">
                    <a:moveTo>
                      <a:pt x="0" y="73"/>
                    </a:moveTo>
                    <a:lnTo>
                      <a:pt x="12" y="85"/>
                    </a:lnTo>
                    <a:lnTo>
                      <a:pt x="73" y="12"/>
                    </a:lnTo>
                    <a:lnTo>
                      <a:pt x="6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442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6012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6012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75600" y="4748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0600" y="4533840"/>
                <a:ext cx="378720" cy="99360"/>
              </a:xfrm>
              <a:custGeom>
                <a:avLst/>
                <a:gdLst/>
                <a:ahLst/>
                <a:rect l="l" t="t" r="r" b="b"/>
                <a:pathLst>
                  <a:path w="291" h="84">
                    <a:moveTo>
                      <a:pt x="0" y="84"/>
                    </a:moveTo>
                    <a:lnTo>
                      <a:pt x="0" y="84"/>
                    </a:lnTo>
                    <a:lnTo>
                      <a:pt x="48" y="0"/>
                    </a:lnTo>
                    <a:lnTo>
                      <a:pt x="255" y="0"/>
                    </a:lnTo>
                    <a:lnTo>
                      <a:pt x="291" y="84"/>
                    </a:lnTo>
                    <a:lnTo>
                      <a:pt x="218" y="84"/>
                    </a:lnTo>
                    <a:lnTo>
                      <a:pt x="145" y="84"/>
                    </a:lnTo>
                    <a:lnTo>
                      <a:pt x="72" y="24"/>
                    </a:lnTo>
                    <a:lnTo>
                      <a:pt x="12" y="84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49240" y="46915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85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37" y="24"/>
                    </a:lnTo>
                    <a:lnTo>
                      <a:pt x="85" y="24"/>
                    </a:lnTo>
                    <a:lnTo>
                      <a:pt x="73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49240" y="47199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85" y="12"/>
                    </a:moveTo>
                    <a:lnTo>
                      <a:pt x="85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76080" y="4663080"/>
                <a:ext cx="1080" cy="10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60600" y="4648680"/>
                <a:ext cx="15480" cy="12888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109"/>
                    </a:moveTo>
                    <a:lnTo>
                      <a:pt x="12" y="10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09"/>
                    </a:lnTo>
                    <a:lnTo>
                      <a:pt x="12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23840" y="46486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23840" y="46771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23840" y="4648680"/>
                <a:ext cx="154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23840" y="464868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39320" y="4648680"/>
                <a:ext cx="3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39320" y="4648680"/>
                <a:ext cx="10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39320" y="4648680"/>
                <a:ext cx="1080" cy="5688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39320" y="4705560"/>
                <a:ext cx="1080" cy="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33400" y="4648680"/>
                <a:ext cx="15480" cy="4248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12" y="36"/>
                    </a:moveTo>
                    <a:lnTo>
                      <a:pt x="12" y="3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33400" y="46915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33400" y="470556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33400" y="471996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334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12" y="49"/>
                    </a:moveTo>
                    <a:lnTo>
                      <a:pt x="12" y="4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60600" y="4562280"/>
                <a:ext cx="204120" cy="86400"/>
              </a:xfrm>
              <a:custGeom>
                <a:avLst/>
                <a:gdLst/>
                <a:ahLst/>
                <a:rect l="l" t="t" r="r" b="b"/>
                <a:pathLst>
                  <a:path w="157" h="73">
                    <a:moveTo>
                      <a:pt x="12" y="60"/>
                    </a:moveTo>
                    <a:lnTo>
                      <a:pt x="72" y="0"/>
                    </a:lnTo>
                    <a:lnTo>
                      <a:pt x="145" y="60"/>
                    </a:lnTo>
                    <a:lnTo>
                      <a:pt x="157" y="73"/>
                    </a:lnTo>
                    <a:lnTo>
                      <a:pt x="145" y="73"/>
                    </a:lnTo>
                    <a:lnTo>
                      <a:pt x="72" y="12"/>
                    </a:lnTo>
                    <a:lnTo>
                      <a:pt x="12" y="73"/>
                    </a:lnTo>
                    <a:lnTo>
                      <a:pt x="0" y="73"/>
                    </a:lnTo>
                    <a:lnTo>
                      <a:pt x="1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60600" y="463356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49240" y="4633560"/>
                <a:ext cx="190080" cy="15120"/>
              </a:xfrm>
              <a:custGeom>
                <a:avLst/>
                <a:gdLst/>
                <a:ahLst/>
                <a:rect l="l" t="t" r="r" b="b"/>
                <a:pathLst>
                  <a:path w="146" h="13">
                    <a:moveTo>
                      <a:pt x="0" y="0"/>
                    </a:moveTo>
                    <a:lnTo>
                      <a:pt x="73" y="0"/>
                    </a:lnTo>
                    <a:lnTo>
                      <a:pt x="146" y="0"/>
                    </a:lnTo>
                    <a:lnTo>
                      <a:pt x="146" y="13"/>
                    </a:lnTo>
                    <a:lnTo>
                      <a:pt x="134" y="13"/>
                    </a:lnTo>
                    <a:lnTo>
                      <a:pt x="61" y="13"/>
                    </a:lnTo>
                    <a:lnTo>
                      <a:pt x="12" y="1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49240" y="47199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924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28800" y="4719960"/>
                <a:ext cx="15480" cy="5796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49"/>
                    </a:move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0" y="4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49240" y="4777920"/>
                <a:ext cx="95040" cy="1404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0" y="0"/>
                    </a:moveTo>
                    <a:lnTo>
                      <a:pt x="73" y="0"/>
                    </a:lnTo>
                    <a:lnTo>
                      <a:pt x="73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49240" y="479232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12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73" y="0"/>
                    </a:lnTo>
                    <a:lnTo>
                      <a:pt x="85" y="0"/>
                    </a:lnTo>
                    <a:lnTo>
                      <a:pt x="85" y="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249240" y="4806360"/>
                <a:ext cx="110520" cy="14040"/>
              </a:xfrm>
              <a:custGeom>
                <a:avLst/>
                <a:gdLst/>
                <a:ahLst/>
                <a:rect l="l" t="t" r="r" b="b"/>
                <a:pathLst>
                  <a:path w="85" h="12">
                    <a:moveTo>
                      <a:pt x="0" y="0"/>
                    </a:move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49240" y="4806360"/>
                <a:ext cx="110520" cy="72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12960" y="473400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44280" y="469152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12" y="24"/>
                    </a:lnTo>
                    <a:lnTo>
                      <a:pt x="12" y="2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8164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97480" y="4748400"/>
                <a:ext cx="1440" cy="29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164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12960" y="4748400"/>
                <a:ext cx="1440" cy="2952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974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81640" y="474840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81640" y="47340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97480" y="47340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2880" y="4748400"/>
                <a:ext cx="1548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2880" y="47484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2880" y="4719960"/>
                <a:ext cx="1548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228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1120" y="4719960"/>
                <a:ext cx="3096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86960" y="4748400"/>
                <a:ext cx="15120" cy="15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lnTo>
                      <a:pt x="12" y="1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86960" y="471996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02080" y="47199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2020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86960" y="4748400"/>
                <a:ext cx="15120" cy="72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22880" y="47484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54200" y="4719960"/>
                <a:ext cx="16920" cy="2844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54200" y="4734000"/>
                <a:ext cx="16920" cy="295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2"/>
                    </a:moveTo>
                    <a:lnTo>
                      <a:pt x="0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92520" y="4475880"/>
                <a:ext cx="309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76080" y="4777920"/>
                <a:ext cx="17280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59760" y="4792320"/>
                <a:ext cx="637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072920" y="4921200"/>
              <a:ext cx="373680" cy="152640"/>
              <a:chOff x="7072920" y="4921200"/>
              <a:chExt cx="373680" cy="152640"/>
            </a:xfrm>
          </p:grpSpPr>
          <p:sp>
            <p:nvSpPr>
              <p:cNvPr id="421" name=""/>
              <p:cNvSpPr/>
              <p:nvPr/>
            </p:nvSpPr>
            <p:spPr>
              <a:xfrm>
                <a:off x="7219800" y="5026680"/>
                <a:ext cx="3960" cy="10440"/>
              </a:xfrm>
              <a:custGeom>
                <a:avLst/>
                <a:gdLst/>
                <a:ahLst/>
                <a:rect l="l" t="t" r="r" b="b"/>
                <a:pathLst>
                  <a:path w="31" h="103">
                    <a:moveTo>
                      <a:pt x="31" y="32"/>
                    </a:moveTo>
                    <a:lnTo>
                      <a:pt x="31" y="103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31" y="3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72920" y="4949640"/>
                <a:ext cx="286560" cy="108720"/>
              </a:xfrm>
              <a:custGeom>
                <a:avLst/>
                <a:gdLst/>
                <a:ahLst/>
                <a:rect l="l" t="t" r="r" b="b"/>
                <a:pathLst>
                  <a:path w="2637" h="1107">
                    <a:moveTo>
                      <a:pt x="2637" y="0"/>
                    </a:moveTo>
                    <a:lnTo>
                      <a:pt x="2637" y="1107"/>
                    </a:lnTo>
                    <a:lnTo>
                      <a:pt x="98" y="1107"/>
                    </a:lnTo>
                    <a:lnTo>
                      <a:pt x="98" y="902"/>
                    </a:lnTo>
                    <a:lnTo>
                      <a:pt x="48" y="888"/>
                    </a:lnTo>
                    <a:lnTo>
                      <a:pt x="48" y="750"/>
                    </a:lnTo>
                    <a:lnTo>
                      <a:pt x="0" y="729"/>
                    </a:lnTo>
                    <a:lnTo>
                      <a:pt x="26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6004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5000" y="5026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51040" y="50266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47080" y="502776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35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5" y="121"/>
                    </a:lnTo>
                    <a:lnTo>
                      <a:pt x="35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42040" y="50277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1">
                    <a:moveTo>
                      <a:pt x="0" y="0"/>
                    </a:moveTo>
                    <a:lnTo>
                      <a:pt x="0" y="121"/>
                    </a:lnTo>
                    <a:lnTo>
                      <a:pt x="36" y="121"/>
                    </a:lnTo>
                    <a:lnTo>
                      <a:pt x="3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380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7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7" y="122"/>
                    </a:lnTo>
                    <a:lnTo>
                      <a:pt x="3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32680" y="502884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36" h="122">
                    <a:moveTo>
                      <a:pt x="0" y="0"/>
                    </a:moveTo>
                    <a:lnTo>
                      <a:pt x="0" y="122"/>
                    </a:lnTo>
                    <a:lnTo>
                      <a:pt x="36" y="122"/>
                    </a:lnTo>
                    <a:lnTo>
                      <a:pt x="36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2916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6" y="143"/>
                    </a:lnTo>
                    <a:lnTo>
                      <a:pt x="46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21240" y="501804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5" h="143">
                    <a:moveTo>
                      <a:pt x="0" y="0"/>
                    </a:moveTo>
                    <a:lnTo>
                      <a:pt x="0" y="143"/>
                    </a:lnTo>
                    <a:lnTo>
                      <a:pt x="45" y="143"/>
                    </a:lnTo>
                    <a:lnTo>
                      <a:pt x="45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14760" y="50191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06840" y="501912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00360" y="50205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6" h="144">
                    <a:moveTo>
                      <a:pt x="0" y="0"/>
                    </a:moveTo>
                    <a:lnTo>
                      <a:pt x="0" y="144"/>
                    </a:lnTo>
                    <a:lnTo>
                      <a:pt x="46" y="144"/>
                    </a:lnTo>
                    <a:lnTo>
                      <a:pt x="46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92800" y="502056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7" h="145">
                    <a:moveTo>
                      <a:pt x="0" y="0"/>
                    </a:moveTo>
                    <a:lnTo>
                      <a:pt x="0" y="145"/>
                    </a:lnTo>
                    <a:lnTo>
                      <a:pt x="47" y="145"/>
                    </a:lnTo>
                    <a:lnTo>
                      <a:pt x="47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38600" y="500868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26720" y="500868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0" y="0"/>
                    </a:moveTo>
                    <a:lnTo>
                      <a:pt x="0" y="138"/>
                    </a:lnTo>
                    <a:lnTo>
                      <a:pt x="48" y="138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3760" y="500976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01880" y="5011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7" y="139"/>
                    </a:lnTo>
                    <a:lnTo>
                      <a:pt x="47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90360" y="501228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48" h="139">
                    <a:moveTo>
                      <a:pt x="0" y="0"/>
                    </a:moveTo>
                    <a:lnTo>
                      <a:pt x="0" y="139"/>
                    </a:lnTo>
                    <a:lnTo>
                      <a:pt x="48" y="139"/>
                    </a:lnTo>
                    <a:lnTo>
                      <a:pt x="48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83000" y="5019120"/>
                <a:ext cx="276120" cy="33120"/>
              </a:xfrm>
              <a:custGeom>
                <a:avLst/>
                <a:gdLst/>
                <a:ahLst/>
                <a:rect l="l" t="t" r="r" b="b"/>
                <a:pathLst>
                  <a:path w="2534" h="337">
                    <a:moveTo>
                      <a:pt x="2534" y="185"/>
                    </a:moveTo>
                    <a:lnTo>
                      <a:pt x="2534" y="0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2534" y="18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7960" y="4982760"/>
                <a:ext cx="281160" cy="54360"/>
              </a:xfrm>
              <a:custGeom>
                <a:avLst/>
                <a:gdLst/>
                <a:ahLst/>
                <a:rect l="l" t="t" r="r" b="b"/>
                <a:pathLst>
                  <a:path w="2585" h="558">
                    <a:moveTo>
                      <a:pt x="2585" y="153"/>
                    </a:moveTo>
                    <a:lnTo>
                      <a:pt x="2585" y="0"/>
                    </a:lnTo>
                    <a:lnTo>
                      <a:pt x="0" y="490"/>
                    </a:lnTo>
                    <a:lnTo>
                      <a:pt x="0" y="558"/>
                    </a:lnTo>
                    <a:lnTo>
                      <a:pt x="2585" y="15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072920" y="4921200"/>
                <a:ext cx="286560" cy="100440"/>
              </a:xfrm>
              <a:custGeom>
                <a:avLst/>
                <a:gdLst/>
                <a:ahLst/>
                <a:rect l="l" t="t" r="r" b="b"/>
                <a:pathLst>
                  <a:path w="2637" h="1019">
                    <a:moveTo>
                      <a:pt x="2637" y="359"/>
                    </a:moveTo>
                    <a:lnTo>
                      <a:pt x="2637" y="0"/>
                    </a:lnTo>
                    <a:lnTo>
                      <a:pt x="0" y="888"/>
                    </a:lnTo>
                    <a:lnTo>
                      <a:pt x="0" y="1019"/>
                    </a:lnTo>
                    <a:lnTo>
                      <a:pt x="2637" y="359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59480" y="504432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596" h="146">
                    <a:moveTo>
                      <a:pt x="0" y="0"/>
                    </a:moveTo>
                    <a:lnTo>
                      <a:pt x="596" y="45"/>
                    </a:lnTo>
                    <a:lnTo>
                      <a:pt x="596" y="108"/>
                    </a:lnTo>
                    <a:lnTo>
                      <a:pt x="0" y="1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59480" y="4954320"/>
                <a:ext cx="87120" cy="95760"/>
              </a:xfrm>
              <a:custGeom>
                <a:avLst/>
                <a:gdLst/>
                <a:ahLst/>
                <a:rect l="l" t="t" r="r" b="b"/>
                <a:pathLst>
                  <a:path w="805" h="975">
                    <a:moveTo>
                      <a:pt x="0" y="0"/>
                    </a:moveTo>
                    <a:lnTo>
                      <a:pt x="805" y="511"/>
                    </a:lnTo>
                    <a:lnTo>
                      <a:pt x="706" y="511"/>
                    </a:lnTo>
                    <a:lnTo>
                      <a:pt x="706" y="691"/>
                    </a:lnTo>
                    <a:lnTo>
                      <a:pt x="741" y="711"/>
                    </a:lnTo>
                    <a:lnTo>
                      <a:pt x="706" y="710"/>
                    </a:lnTo>
                    <a:lnTo>
                      <a:pt x="705" y="946"/>
                    </a:lnTo>
                    <a:lnTo>
                      <a:pt x="614" y="975"/>
                    </a:lnTo>
                    <a:lnTo>
                      <a:pt x="0" y="9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359480" y="4921200"/>
                <a:ext cx="87120" cy="84240"/>
              </a:xfrm>
              <a:custGeom>
                <a:avLst/>
                <a:gdLst/>
                <a:ahLst/>
                <a:rect l="l" t="t" r="r" b="b"/>
                <a:pathLst>
                  <a:path w="805" h="845">
                    <a:moveTo>
                      <a:pt x="0" y="0"/>
                    </a:moveTo>
                    <a:lnTo>
                      <a:pt x="0" y="358"/>
                    </a:lnTo>
                    <a:lnTo>
                      <a:pt x="805" y="845"/>
                    </a:lnTo>
                    <a:lnTo>
                      <a:pt x="805" y="6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18160" y="50241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414200" y="50230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10240" y="50216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406280" y="502056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02680" y="50180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98720" y="5016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94400" y="50148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90800" y="501336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0" y="44"/>
                    </a:moveTo>
                    <a:lnTo>
                      <a:pt x="0" y="201"/>
                    </a:lnTo>
                    <a:lnTo>
                      <a:pt x="76" y="221"/>
                    </a:lnTo>
                    <a:lnTo>
                      <a:pt x="76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6840" y="50122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82880" y="50112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78920" y="500868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74960" y="500760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71360" y="500652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67400" y="500400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63440" y="50029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3"/>
                    </a:moveTo>
                    <a:lnTo>
                      <a:pt x="0" y="199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9480" y="500148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14200" y="4998960"/>
                <a:ext cx="8640" cy="1872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43"/>
                    </a:moveTo>
                    <a:lnTo>
                      <a:pt x="0" y="153"/>
                    </a:lnTo>
                    <a:lnTo>
                      <a:pt x="78" y="186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10240" y="4997880"/>
                <a:ext cx="9000" cy="17640"/>
              </a:xfrm>
              <a:custGeom>
                <a:avLst/>
                <a:gdLst/>
                <a:ahLst/>
                <a:rect l="l" t="t" r="r" b="b"/>
                <a:pathLst>
                  <a:path w="76" h="180">
                    <a:moveTo>
                      <a:pt x="0" y="42"/>
                    </a:moveTo>
                    <a:lnTo>
                      <a:pt x="0" y="149"/>
                    </a:lnTo>
                    <a:lnTo>
                      <a:pt x="76" y="180"/>
                    </a:lnTo>
                    <a:lnTo>
                      <a:pt x="7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406280" y="499572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7" h="188">
                    <a:moveTo>
                      <a:pt x="0" y="43"/>
                    </a:moveTo>
                    <a:lnTo>
                      <a:pt x="0" y="171"/>
                    </a:lnTo>
                    <a:lnTo>
                      <a:pt x="77" y="188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02680" y="499320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78" h="192">
                    <a:moveTo>
                      <a:pt x="0" y="43"/>
                    </a:moveTo>
                    <a:lnTo>
                      <a:pt x="0" y="173"/>
                    </a:lnTo>
                    <a:lnTo>
                      <a:pt x="78" y="192"/>
                    </a:lnTo>
                    <a:lnTo>
                      <a:pt x="78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98720" y="4991040"/>
                <a:ext cx="8640" cy="2196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94400" y="4988520"/>
                <a:ext cx="9000" cy="2232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90800" y="4987440"/>
                <a:ext cx="792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6840" y="49852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2880" y="49827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8" h="219">
                    <a:moveTo>
                      <a:pt x="0" y="42"/>
                    </a:moveTo>
                    <a:lnTo>
                      <a:pt x="0" y="200"/>
                    </a:lnTo>
                    <a:lnTo>
                      <a:pt x="78" y="219"/>
                    </a:lnTo>
                    <a:lnTo>
                      <a:pt x="78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920" y="498024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6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6" y="219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4960" y="497808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0" y="43"/>
                    </a:moveTo>
                    <a:lnTo>
                      <a:pt x="0" y="201"/>
                    </a:lnTo>
                    <a:lnTo>
                      <a:pt x="76" y="220"/>
                    </a:lnTo>
                    <a:lnTo>
                      <a:pt x="76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1360" y="4977000"/>
                <a:ext cx="9000" cy="20880"/>
              </a:xfrm>
              <a:custGeom>
                <a:avLst/>
                <a:gdLst/>
                <a:ahLst/>
                <a:rect l="l" t="t" r="r" b="b"/>
                <a:pathLst>
                  <a:path w="78" h="220">
                    <a:moveTo>
                      <a:pt x="0" y="44"/>
                    </a:moveTo>
                    <a:lnTo>
                      <a:pt x="0" y="200"/>
                    </a:lnTo>
                    <a:lnTo>
                      <a:pt x="78" y="220"/>
                    </a:lnTo>
                    <a:lnTo>
                      <a:pt x="78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67400" y="497448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63440" y="497196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19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59480" y="4969440"/>
                <a:ext cx="900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0" y="43"/>
                    </a:moveTo>
                    <a:lnTo>
                      <a:pt x="0" y="200"/>
                    </a:lnTo>
                    <a:lnTo>
                      <a:pt x="77" y="220"/>
                    </a:lnTo>
                    <a:lnTo>
                      <a:pt x="7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59480" y="4982760"/>
                <a:ext cx="80640" cy="41040"/>
              </a:xfrm>
              <a:custGeom>
                <a:avLst/>
                <a:gdLst/>
                <a:ahLst/>
                <a:rect l="l" t="t" r="r" b="b"/>
                <a:pathLst>
                  <a:path w="746" h="429">
                    <a:moveTo>
                      <a:pt x="0" y="0"/>
                    </a:moveTo>
                    <a:lnTo>
                      <a:pt x="746" y="340"/>
                    </a:lnTo>
                    <a:lnTo>
                      <a:pt x="746" y="429"/>
                    </a:lnTo>
                    <a:lnTo>
                      <a:pt x="0" y="1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59480" y="5019120"/>
                <a:ext cx="76680" cy="28440"/>
              </a:xfrm>
              <a:custGeom>
                <a:avLst/>
                <a:gdLst/>
                <a:ahLst/>
                <a:rect l="l" t="t" r="r" b="b"/>
                <a:pathLst>
                  <a:path w="714" h="290">
                    <a:moveTo>
                      <a:pt x="0" y="0"/>
                    </a:moveTo>
                    <a:lnTo>
                      <a:pt x="714" y="188"/>
                    </a:lnTo>
                    <a:lnTo>
                      <a:pt x="714" y="290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75880" y="4956840"/>
                <a:ext cx="34920" cy="117000"/>
              </a:xfrm>
              <a:custGeom>
                <a:avLst/>
                <a:gdLst/>
                <a:ahLst/>
                <a:rect l="l" t="t" r="r" b="b"/>
                <a:pathLst>
                  <a:path w="319" h="1185">
                    <a:moveTo>
                      <a:pt x="319" y="102"/>
                    </a:moveTo>
                    <a:lnTo>
                      <a:pt x="147" y="0"/>
                    </a:lnTo>
                    <a:lnTo>
                      <a:pt x="126" y="0"/>
                    </a:lnTo>
                    <a:lnTo>
                      <a:pt x="91" y="5"/>
                    </a:lnTo>
                    <a:lnTo>
                      <a:pt x="32" y="65"/>
                    </a:lnTo>
                    <a:lnTo>
                      <a:pt x="0" y="46"/>
                    </a:lnTo>
                    <a:lnTo>
                      <a:pt x="0" y="1182"/>
                    </a:lnTo>
                    <a:lnTo>
                      <a:pt x="48" y="1134"/>
                    </a:lnTo>
                    <a:lnTo>
                      <a:pt x="87" y="1134"/>
                    </a:lnTo>
                    <a:lnTo>
                      <a:pt x="87" y="1185"/>
                    </a:lnTo>
                    <a:lnTo>
                      <a:pt x="128" y="1185"/>
                    </a:lnTo>
                    <a:lnTo>
                      <a:pt x="155" y="1159"/>
                    </a:lnTo>
                    <a:lnTo>
                      <a:pt x="155" y="157"/>
                    </a:lnTo>
                    <a:lnTo>
                      <a:pt x="31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73360" y="4961160"/>
                <a:ext cx="2520" cy="112320"/>
              </a:xfrm>
              <a:custGeom>
                <a:avLst/>
                <a:gdLst/>
                <a:ahLst/>
                <a:rect l="l" t="t" r="r" b="b"/>
                <a:pathLst>
                  <a:path w="27" h="1137">
                    <a:moveTo>
                      <a:pt x="27" y="0"/>
                    </a:moveTo>
                    <a:lnTo>
                      <a:pt x="27" y="1137"/>
                    </a:lnTo>
                    <a:lnTo>
                      <a:pt x="0" y="1137"/>
                    </a:lnTo>
                    <a:lnTo>
                      <a:pt x="0" y="9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84880" y="4956840"/>
                <a:ext cx="3960" cy="117000"/>
              </a:xfrm>
              <a:custGeom>
                <a:avLst/>
                <a:gdLst/>
                <a:ahLst/>
                <a:rect l="l" t="t" r="r" b="b"/>
                <a:pathLst>
                  <a:path w="39" h="1185">
                    <a:moveTo>
                      <a:pt x="0" y="5"/>
                    </a:moveTo>
                    <a:lnTo>
                      <a:pt x="39" y="0"/>
                    </a:lnTo>
                    <a:lnTo>
                      <a:pt x="39" y="1185"/>
                    </a:lnTo>
                    <a:lnTo>
                      <a:pt x="0" y="118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79840" y="4960080"/>
                <a:ext cx="4680" cy="109800"/>
              </a:xfrm>
              <a:custGeom>
                <a:avLst/>
                <a:gdLst/>
                <a:ahLst/>
                <a:rect l="l" t="t" r="r" b="b"/>
                <a:pathLst>
                  <a:path w="55" h="1121">
                    <a:moveTo>
                      <a:pt x="0" y="1121"/>
                    </a:moveTo>
                    <a:lnTo>
                      <a:pt x="0" y="55"/>
                    </a:lnTo>
                    <a:lnTo>
                      <a:pt x="55" y="0"/>
                    </a:lnTo>
                    <a:lnTo>
                      <a:pt x="55" y="1121"/>
                    </a:lnTo>
                    <a:lnTo>
                      <a:pt x="0" y="1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64080" y="4923360"/>
                <a:ext cx="44280" cy="149040"/>
              </a:xfrm>
              <a:custGeom>
                <a:avLst/>
                <a:gdLst/>
                <a:ahLst/>
                <a:rect l="l" t="t" r="r" b="b"/>
                <a:pathLst>
                  <a:path w="406" h="1512">
                    <a:moveTo>
                      <a:pt x="406" y="129"/>
                    </a:moveTo>
                    <a:lnTo>
                      <a:pt x="187" y="0"/>
                    </a:lnTo>
                    <a:lnTo>
                      <a:pt x="161" y="0"/>
                    </a:lnTo>
                    <a:lnTo>
                      <a:pt x="117" y="6"/>
                    </a:lnTo>
                    <a:lnTo>
                      <a:pt x="40" y="81"/>
                    </a:lnTo>
                    <a:lnTo>
                      <a:pt x="0" y="58"/>
                    </a:lnTo>
                    <a:lnTo>
                      <a:pt x="0" y="1507"/>
                    </a:lnTo>
                    <a:lnTo>
                      <a:pt x="61" y="1447"/>
                    </a:lnTo>
                    <a:lnTo>
                      <a:pt x="112" y="1447"/>
                    </a:lnTo>
                    <a:lnTo>
                      <a:pt x="112" y="1512"/>
                    </a:lnTo>
                    <a:lnTo>
                      <a:pt x="163" y="1512"/>
                    </a:lnTo>
                    <a:lnTo>
                      <a:pt x="198" y="1478"/>
                    </a:lnTo>
                    <a:lnTo>
                      <a:pt x="198" y="198"/>
                    </a:lnTo>
                    <a:lnTo>
                      <a:pt x="406" y="1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61920" y="4929480"/>
                <a:ext cx="2160" cy="143280"/>
              </a:xfrm>
              <a:custGeom>
                <a:avLst/>
                <a:gdLst/>
                <a:ahLst/>
                <a:rect l="l" t="t" r="r" b="b"/>
                <a:pathLst>
                  <a:path w="33" h="1451">
                    <a:moveTo>
                      <a:pt x="33" y="0"/>
                    </a:moveTo>
                    <a:lnTo>
                      <a:pt x="33" y="1451"/>
                    </a:lnTo>
                    <a:lnTo>
                      <a:pt x="0" y="1451"/>
                    </a:lnTo>
                    <a:lnTo>
                      <a:pt x="0" y="1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77400" y="4923360"/>
                <a:ext cx="5040" cy="149040"/>
              </a:xfrm>
              <a:custGeom>
                <a:avLst/>
                <a:gdLst/>
                <a:ahLst/>
                <a:rect l="l" t="t" r="r" b="b"/>
                <a:pathLst>
                  <a:path w="49" h="1512">
                    <a:moveTo>
                      <a:pt x="0" y="6"/>
                    </a:moveTo>
                    <a:lnTo>
                      <a:pt x="49" y="0"/>
                    </a:lnTo>
                    <a:lnTo>
                      <a:pt x="49" y="1512"/>
                    </a:lnTo>
                    <a:lnTo>
                      <a:pt x="0" y="15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69480" y="4926960"/>
                <a:ext cx="7560" cy="142200"/>
              </a:xfrm>
              <a:custGeom>
                <a:avLst/>
                <a:gdLst/>
                <a:ahLst/>
                <a:rect l="l" t="t" r="r" b="b"/>
                <a:pathLst>
                  <a:path w="72" h="1428">
                    <a:moveTo>
                      <a:pt x="0" y="1428"/>
                    </a:moveTo>
                    <a:lnTo>
                      <a:pt x="0" y="69"/>
                    </a:lnTo>
                    <a:lnTo>
                      <a:pt x="72" y="0"/>
                    </a:lnTo>
                    <a:lnTo>
                      <a:pt x="72" y="1428"/>
                    </a:lnTo>
                    <a:lnTo>
                      <a:pt x="0" y="1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120800" y="4978080"/>
                <a:ext cx="27360" cy="93240"/>
              </a:xfrm>
              <a:custGeom>
                <a:avLst/>
                <a:gdLst/>
                <a:ahLst/>
                <a:rect l="l" t="t" r="r" b="b"/>
                <a:pathLst>
                  <a:path w="254" h="952">
                    <a:moveTo>
                      <a:pt x="254" y="82"/>
                    </a:moveTo>
                    <a:lnTo>
                      <a:pt x="117" y="0"/>
                    </a:lnTo>
                    <a:lnTo>
                      <a:pt x="100" y="0"/>
                    </a:lnTo>
                    <a:lnTo>
                      <a:pt x="73" y="4"/>
                    </a:lnTo>
                    <a:lnTo>
                      <a:pt x="26" y="52"/>
                    </a:lnTo>
                    <a:lnTo>
                      <a:pt x="0" y="37"/>
                    </a:lnTo>
                    <a:lnTo>
                      <a:pt x="0" y="949"/>
                    </a:lnTo>
                    <a:lnTo>
                      <a:pt x="38" y="910"/>
                    </a:lnTo>
                    <a:lnTo>
                      <a:pt x="69" y="910"/>
                    </a:lnTo>
                    <a:lnTo>
                      <a:pt x="69" y="952"/>
                    </a:lnTo>
                    <a:lnTo>
                      <a:pt x="101" y="952"/>
                    </a:lnTo>
                    <a:lnTo>
                      <a:pt x="124" y="930"/>
                    </a:lnTo>
                    <a:lnTo>
                      <a:pt x="124" y="126"/>
                    </a:lnTo>
                    <a:lnTo>
                      <a:pt x="25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18640" y="4981320"/>
                <a:ext cx="2160" cy="89640"/>
              </a:xfrm>
              <a:custGeom>
                <a:avLst/>
                <a:gdLst/>
                <a:ahLst/>
                <a:rect l="l" t="t" r="r" b="b"/>
                <a:pathLst>
                  <a:path w="21" h="913">
                    <a:moveTo>
                      <a:pt x="21" y="0"/>
                    </a:moveTo>
                    <a:lnTo>
                      <a:pt x="21" y="913"/>
                    </a:lnTo>
                    <a:lnTo>
                      <a:pt x="0" y="913"/>
                    </a:lnTo>
                    <a:lnTo>
                      <a:pt x="0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27280" y="4978080"/>
                <a:ext cx="3960" cy="93240"/>
              </a:xfrm>
              <a:custGeom>
                <a:avLst/>
                <a:gdLst/>
                <a:ahLst/>
                <a:rect l="l" t="t" r="r" b="b"/>
                <a:pathLst>
                  <a:path w="32" h="950">
                    <a:moveTo>
                      <a:pt x="0" y="7"/>
                    </a:moveTo>
                    <a:lnTo>
                      <a:pt x="32" y="0"/>
                    </a:lnTo>
                    <a:lnTo>
                      <a:pt x="32" y="950"/>
                    </a:lnTo>
                    <a:lnTo>
                      <a:pt x="0" y="95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23680" y="4980240"/>
                <a:ext cx="3600" cy="88560"/>
              </a:xfrm>
              <a:custGeom>
                <a:avLst/>
                <a:gdLst/>
                <a:ahLst/>
                <a:rect l="l" t="t" r="r" b="b"/>
                <a:pathLst>
                  <a:path w="43" h="899">
                    <a:moveTo>
                      <a:pt x="0" y="899"/>
                    </a:moveTo>
                    <a:lnTo>
                      <a:pt x="0" y="41"/>
                    </a:lnTo>
                    <a:lnTo>
                      <a:pt x="43" y="0"/>
                    </a:lnTo>
                    <a:lnTo>
                      <a:pt x="43" y="899"/>
                    </a:lnTo>
                    <a:lnTo>
                      <a:pt x="0" y="8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3000" y="4992120"/>
                <a:ext cx="23400" cy="76680"/>
              </a:xfrm>
              <a:custGeom>
                <a:avLst/>
                <a:gdLst/>
                <a:ahLst/>
                <a:rect l="l" t="t" r="r" b="b"/>
                <a:pathLst>
                  <a:path w="222" h="777">
                    <a:moveTo>
                      <a:pt x="222" y="62"/>
                    </a:moveTo>
                    <a:lnTo>
                      <a:pt x="102" y="0"/>
                    </a:lnTo>
                    <a:lnTo>
                      <a:pt x="87" y="0"/>
                    </a:lnTo>
                    <a:lnTo>
                      <a:pt x="63" y="2"/>
                    </a:lnTo>
                    <a:lnTo>
                      <a:pt x="23" y="41"/>
                    </a:lnTo>
                    <a:lnTo>
                      <a:pt x="0" y="29"/>
                    </a:lnTo>
                    <a:lnTo>
                      <a:pt x="0" y="776"/>
                    </a:lnTo>
                    <a:lnTo>
                      <a:pt x="33" y="745"/>
                    </a:lnTo>
                    <a:lnTo>
                      <a:pt x="61" y="745"/>
                    </a:lnTo>
                    <a:lnTo>
                      <a:pt x="61" y="777"/>
                    </a:lnTo>
                    <a:lnTo>
                      <a:pt x="89" y="777"/>
                    </a:lnTo>
                    <a:lnTo>
                      <a:pt x="109" y="761"/>
                    </a:lnTo>
                    <a:lnTo>
                      <a:pt x="109" y="101"/>
                    </a:lnTo>
                    <a:lnTo>
                      <a:pt x="222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081920" y="4994640"/>
                <a:ext cx="1080" cy="74520"/>
              </a:xfrm>
              <a:custGeom>
                <a:avLst/>
                <a:gdLst/>
                <a:ahLst/>
                <a:rect l="l" t="t" r="r" b="b"/>
                <a:pathLst>
                  <a:path w="18" h="747">
                    <a:moveTo>
                      <a:pt x="18" y="0"/>
                    </a:moveTo>
                    <a:lnTo>
                      <a:pt x="18" y="747"/>
                    </a:lnTo>
                    <a:lnTo>
                      <a:pt x="0" y="747"/>
                    </a:lnTo>
                    <a:lnTo>
                      <a:pt x="0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89480" y="4992120"/>
                <a:ext cx="2520" cy="76680"/>
              </a:xfrm>
              <a:custGeom>
                <a:avLst/>
                <a:gdLst/>
                <a:ahLst/>
                <a:rect l="l" t="t" r="r" b="b"/>
                <a:pathLst>
                  <a:path w="27" h="779">
                    <a:moveTo>
                      <a:pt x="0" y="3"/>
                    </a:moveTo>
                    <a:lnTo>
                      <a:pt x="27" y="0"/>
                    </a:lnTo>
                    <a:lnTo>
                      <a:pt x="27" y="779"/>
                    </a:lnTo>
                    <a:lnTo>
                      <a:pt x="0" y="77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85880" y="4993200"/>
                <a:ext cx="3600" cy="73440"/>
              </a:xfrm>
              <a:custGeom>
                <a:avLst/>
                <a:gdLst/>
                <a:ahLst/>
                <a:rect l="l" t="t" r="r" b="b"/>
                <a:pathLst>
                  <a:path w="38" h="736">
                    <a:moveTo>
                      <a:pt x="0" y="736"/>
                    </a:moveTo>
                    <a:lnTo>
                      <a:pt x="0" y="39"/>
                    </a:lnTo>
                    <a:lnTo>
                      <a:pt x="38" y="0"/>
                    </a:lnTo>
                    <a:lnTo>
                      <a:pt x="38" y="736"/>
                    </a:lnTo>
                    <a:lnTo>
                      <a:pt x="0" y="7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310160" y="4245840"/>
              <a:ext cx="474120" cy="660600"/>
              <a:chOff x="7310160" y="4245840"/>
              <a:chExt cx="474120" cy="6606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7310160" y="4259880"/>
                <a:ext cx="474120" cy="64656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1640" y="4245840"/>
                <a:ext cx="62280" cy="864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48" y="73"/>
                    </a:moveTo>
                    <a:lnTo>
                      <a:pt x="48" y="0"/>
                    </a:lnTo>
                    <a:lnTo>
                      <a:pt x="0" y="36"/>
                    </a:lnTo>
                    <a:lnTo>
                      <a:pt x="24" y="24"/>
                    </a:lnTo>
                    <a:lnTo>
                      <a:pt x="48" y="7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6233760" y="4504320"/>
              <a:ext cx="94680" cy="114840"/>
              <a:chOff x="6233760" y="4504320"/>
              <a:chExt cx="94680" cy="114840"/>
            </a:xfrm>
          </p:grpSpPr>
          <p:sp>
            <p:nvSpPr>
              <p:cNvPr id="500" name=""/>
              <p:cNvSpPr/>
              <p:nvPr/>
            </p:nvSpPr>
            <p:spPr>
              <a:xfrm>
                <a:off x="6297480" y="450432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297480" y="4518360"/>
                <a:ext cx="15480" cy="1080"/>
                <a:chOff x="6297480" y="4518360"/>
                <a:chExt cx="15480" cy="10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97480" y="45183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297480" y="4504320"/>
                <a:ext cx="15480" cy="14040"/>
                <a:chOff x="6297480" y="4504320"/>
                <a:chExt cx="15480" cy="140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97480" y="450432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312960" y="4518360"/>
                <a:ext cx="360" cy="360"/>
                <a:chOff x="6312960" y="4518360"/>
                <a:chExt cx="360" cy="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12960" y="451836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297480" y="4518360"/>
                <a:ext cx="15480" cy="15120"/>
                <a:chOff x="6297480" y="4518360"/>
                <a:chExt cx="15480" cy="15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297480" y="4518360"/>
                  <a:ext cx="15480" cy="151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0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233760" y="4533840"/>
                <a:ext cx="1440" cy="1080"/>
                <a:chOff x="6233760" y="4533840"/>
                <a:chExt cx="1440" cy="10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33760" y="453384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297480" y="4518360"/>
                <a:ext cx="15480" cy="72000"/>
                <a:chOff x="6297480" y="4518360"/>
                <a:chExt cx="15480" cy="72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297480" y="4518360"/>
                  <a:ext cx="15480" cy="72000"/>
                </a:xfrm>
                <a:custGeom>
                  <a:avLst/>
                  <a:gdLst/>
                  <a:ahLst/>
                  <a:rect l="l" t="t" r="r" b="b"/>
                  <a:pathLst>
                    <a:path w="12" h="61">
                      <a:moveTo>
                        <a:pt x="12" y="0"/>
                      </a:move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0" y="61"/>
                      </a:lnTo>
                      <a:lnTo>
                        <a:pt x="12" y="61"/>
                      </a:lnTo>
                      <a:lnTo>
                        <a:pt x="12" y="61"/>
                      </a:lnTo>
                      <a:lnTo>
                        <a:pt x="12" y="49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281640" y="4590720"/>
                <a:ext cx="1440" cy="1080"/>
                <a:chOff x="6281640" y="4590720"/>
                <a:chExt cx="1440" cy="10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281640" y="4590720"/>
                  <a:ext cx="1440" cy="108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264720" y="4590720"/>
                <a:ext cx="16560" cy="1080"/>
                <a:chOff x="6264720" y="4590720"/>
                <a:chExt cx="16560" cy="1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264720" y="4590720"/>
                  <a:ext cx="16560" cy="108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6264720" y="4576320"/>
                <a:ext cx="16560" cy="14040"/>
                <a:chOff x="6264720" y="4576320"/>
                <a:chExt cx="16560" cy="14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264720" y="4576320"/>
                  <a:ext cx="165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272280" y="4583520"/>
                  <a:ext cx="108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281640" y="4576320"/>
                <a:ext cx="360" cy="14040"/>
                <a:chOff x="6281640" y="4576320"/>
                <a:chExt cx="360" cy="140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281640" y="4576320"/>
                  <a:ext cx="360" cy="14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6281640" y="4590720"/>
                <a:ext cx="360" cy="360"/>
                <a:chOff x="6281640" y="4590720"/>
                <a:chExt cx="360" cy="3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1640" y="4590720"/>
                  <a:ext cx="360" cy="36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264720" y="4590720"/>
                <a:ext cx="16560" cy="14040"/>
                <a:chOff x="6264720" y="4590720"/>
                <a:chExt cx="16560" cy="140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264720" y="4590720"/>
                  <a:ext cx="16560" cy="14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13" y="1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264720" y="4590720"/>
                <a:ext cx="16560" cy="28440"/>
                <a:chOff x="6264720" y="4590720"/>
                <a:chExt cx="16560" cy="28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264720" y="4590720"/>
                  <a:ext cx="16560" cy="28440"/>
                </a:xfrm>
                <a:custGeom>
                  <a:avLst/>
                  <a:gdLst/>
                  <a:ahLst/>
                  <a:rect l="l" t="t" r="r" b="b"/>
                  <a:pathLst>
                    <a:path w="13" h="24">
                      <a:moveTo>
                        <a:pt x="13" y="24"/>
                      </a:moveTo>
                      <a:lnTo>
                        <a:pt x="13" y="12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3" y="2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312960" y="4533840"/>
                <a:ext cx="15480" cy="42480"/>
                <a:chOff x="6312960" y="4533840"/>
                <a:chExt cx="15480" cy="424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312960" y="4533840"/>
                  <a:ext cx="15480" cy="42480"/>
                </a:xfrm>
                <a:custGeom>
                  <a:avLst/>
                  <a:gdLst/>
                  <a:ahLst/>
                  <a:rect l="l" t="t" r="r" b="b"/>
                  <a:pathLst>
                    <a:path w="12" h="36">
                      <a:moveTo>
                        <a:pt x="0" y="36"/>
                      </a:move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6233760" y="4518360"/>
                <a:ext cx="79200" cy="57960"/>
                <a:chOff x="6233760" y="4518360"/>
                <a:chExt cx="79200" cy="579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233760" y="4518360"/>
                  <a:ext cx="79200" cy="57960"/>
                </a:xfrm>
                <a:custGeom>
                  <a:avLst/>
                  <a:gdLst/>
                  <a:ahLst/>
                  <a:rect l="l" t="t" r="r" b="b"/>
                  <a:pathLst>
                    <a:path w="61" h="49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49" y="13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1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49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37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24" y="49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37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233760" y="4518360"/>
                <a:ext cx="47880" cy="15120"/>
                <a:chOff x="6233760" y="4518360"/>
                <a:chExt cx="47880" cy="15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33760" y="4518360"/>
                  <a:ext cx="47880" cy="1512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6312960" y="4576320"/>
                <a:ext cx="15480" cy="1080"/>
                <a:chOff x="6312960" y="4576320"/>
                <a:chExt cx="15480" cy="108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312960" y="45763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233760" y="4533840"/>
                <a:ext cx="79200" cy="56880"/>
                <a:chOff x="6233760" y="4533840"/>
                <a:chExt cx="79200" cy="568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33760" y="4533840"/>
                  <a:ext cx="79200" cy="568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61" y="48"/>
                      </a:moveTo>
                      <a:lnTo>
                        <a:pt x="61" y="48"/>
                      </a:lnTo>
                      <a:lnTo>
                        <a:pt x="61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49" y="48"/>
                      </a:lnTo>
                      <a:lnTo>
                        <a:pt x="37" y="48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12" y="3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37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49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4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233760" y="4518360"/>
                <a:ext cx="63720" cy="29520"/>
                <a:chOff x="6233760" y="4518360"/>
                <a:chExt cx="63720" cy="295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233760" y="4518360"/>
                  <a:ext cx="63720" cy="2952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12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0" name=""/>
            <p:cNvSpPr/>
            <p:nvPr/>
          </p:nvSpPr>
          <p:spPr>
            <a:xfrm>
              <a:off x="5522760" y="3627360"/>
              <a:ext cx="2673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61280" y="3669840"/>
              <a:ext cx="69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RotisSemiSerif"/>
                </a:rPr>
                <a:t>Direc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98720" y="394344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Wingdings"/>
                  <a:ea typeface="Wingdings"/>
                </a:rPr>
                <a:t>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03840" y="3899880"/>
              <a:ext cx="19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RotisSemiSerif"/>
                </a:rPr>
                <a:t>Bandwidth for HNS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03320" y="1536840"/>
            <a:ext cx="376884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Backbone access for foreign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ervice in over 25 count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Up to 45 Mbps on forward 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POTbytes DV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Shared access for IS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eployed in Latin Americ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irec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Forward path over PA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domestic fle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Over 10 transponders of capa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Introducing two-way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RotisSemiSerif"/>
              </a:rPr>
              <a:t>version in 2Q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38680" y="5402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20760" y="1488960"/>
            <a:ext cx="3940920" cy="2054520"/>
            <a:chOff x="4820760" y="1488960"/>
            <a:chExt cx="3940920" cy="2054520"/>
          </a:xfrm>
        </p:grpSpPr>
        <p:pic>
          <p:nvPicPr>
            <p:cNvPr id="577" name="dish" descr=""/>
            <p:cNvPicPr/>
            <p:nvPr/>
          </p:nvPicPr>
          <p:blipFill>
            <a:blip r:embed="rId2"/>
            <a:stretch/>
          </p:blipFill>
          <p:spPr>
            <a:xfrm>
              <a:off x="5397480" y="2160720"/>
              <a:ext cx="498600" cy="44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sat" descr=""/>
            <p:cNvPicPr/>
            <p:nvPr/>
          </p:nvPicPr>
          <p:blipFill>
            <a:blip r:embed="rId3"/>
            <a:stretch/>
          </p:blipFill>
          <p:spPr>
            <a:xfrm>
              <a:off x="6211800" y="1488960"/>
              <a:ext cx="97812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icloud" descr=""/>
            <p:cNvPicPr/>
            <p:nvPr/>
          </p:nvPicPr>
          <p:blipFill>
            <a:blip r:embed="rId4"/>
            <a:stretch/>
          </p:blipFill>
          <p:spPr>
            <a:xfrm>
              <a:off x="6324480" y="2743200"/>
              <a:ext cx="781200" cy="4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60880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dish2" descr=""/>
            <p:cNvPicPr/>
            <p:nvPr/>
          </p:nvPicPr>
          <p:blipFill>
            <a:blip r:embed="rId5"/>
            <a:stretch/>
          </p:blipFill>
          <p:spPr>
            <a:xfrm>
              <a:off x="7421400" y="2163600"/>
              <a:ext cx="4953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7767720" y="2568600"/>
              <a:ext cx="0" cy="280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92680" y="1833480"/>
              <a:ext cx="893880" cy="39528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88160" y="1860480"/>
              <a:ext cx="792000" cy="3492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5964120" y="2968560"/>
              <a:ext cx="39240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Atlanta" descr=""/>
            <p:cNvPicPr/>
            <p:nvPr/>
          </p:nvPicPr>
          <p:blipFill>
            <a:blip r:embed="rId6"/>
            <a:stretch/>
          </p:blipFill>
          <p:spPr>
            <a:xfrm>
              <a:off x="5067360" y="2637000"/>
              <a:ext cx="106200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874200" y="1574640"/>
              <a:ext cx="152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Satel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07400" y="236376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Down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31920" y="236376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pl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20760" y="324180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PanAmSat Tele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21160" y="326700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ISPs/Corpor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13520" y="2604960"/>
              <a:ext cx="120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00"/>
                  </a:solidFill>
                  <a:latin typeface="RotisSansSerif ExtraBold"/>
                </a:rPr>
                <a:t>U.S. Backb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3" name="AA013640" descr=""/>
            <p:cNvPicPr/>
            <p:nvPr/>
          </p:nvPicPr>
          <p:blipFill>
            <a:blip r:embed="rId7"/>
            <a:srcRect l="0" t="542" r="11512" b="10378"/>
            <a:stretch/>
          </p:blipFill>
          <p:spPr>
            <a:xfrm>
              <a:off x="7251840" y="2635200"/>
              <a:ext cx="100152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"/>
          <p:cNvSpPr/>
          <p:nvPr/>
        </p:nvSpPr>
        <p:spPr>
          <a:xfrm>
            <a:off x="4978440" y="1638360"/>
            <a:ext cx="1054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RotisSemiSerif"/>
              </a:rPr>
              <a:t>SPOT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07C8-F133-4A01-B8F7-2A72CDBEEA93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851040" y="2108160"/>
            <a:ext cx="1962000" cy="2331360"/>
            <a:chOff x="851040" y="2108160"/>
            <a:chExt cx="1962000" cy="2331360"/>
          </a:xfrm>
        </p:grpSpPr>
        <p:sp>
          <p:nvSpPr>
            <p:cNvPr id="596" name=""/>
            <p:cNvSpPr/>
            <p:nvPr/>
          </p:nvSpPr>
          <p:spPr>
            <a:xfrm>
              <a:off x="851040" y="2108160"/>
              <a:ext cx="1962000" cy="2319120"/>
            </a:xfrm>
            <a:custGeom>
              <a:avLst/>
              <a:gdLst/>
              <a:ahLst/>
              <a:rect l="l" t="t" r="r" b="b"/>
              <a:pathLst>
                <a:path w="4927" h="6996">
                  <a:moveTo>
                    <a:pt x="1952" y="4991"/>
                  </a:moveTo>
                  <a:lnTo>
                    <a:pt x="1960" y="5051"/>
                  </a:lnTo>
                  <a:lnTo>
                    <a:pt x="1967" y="5109"/>
                  </a:lnTo>
                  <a:lnTo>
                    <a:pt x="1977" y="5166"/>
                  </a:lnTo>
                  <a:lnTo>
                    <a:pt x="1987" y="5222"/>
                  </a:lnTo>
                  <a:lnTo>
                    <a:pt x="1999" y="5277"/>
                  </a:lnTo>
                  <a:lnTo>
                    <a:pt x="2011" y="5331"/>
                  </a:lnTo>
                  <a:lnTo>
                    <a:pt x="2024" y="5385"/>
                  </a:lnTo>
                  <a:lnTo>
                    <a:pt x="2039" y="5437"/>
                  </a:lnTo>
                  <a:lnTo>
                    <a:pt x="2054" y="5489"/>
                  </a:lnTo>
                  <a:lnTo>
                    <a:pt x="2070" y="5540"/>
                  </a:lnTo>
                  <a:lnTo>
                    <a:pt x="2087" y="5590"/>
                  </a:lnTo>
                  <a:lnTo>
                    <a:pt x="2106" y="5640"/>
                  </a:lnTo>
                  <a:lnTo>
                    <a:pt x="2125" y="5690"/>
                  </a:lnTo>
                  <a:lnTo>
                    <a:pt x="2145" y="5738"/>
                  </a:lnTo>
                  <a:lnTo>
                    <a:pt x="2166" y="5787"/>
                  </a:lnTo>
                  <a:lnTo>
                    <a:pt x="2189" y="5836"/>
                  </a:lnTo>
                  <a:lnTo>
                    <a:pt x="2212" y="5885"/>
                  </a:lnTo>
                  <a:lnTo>
                    <a:pt x="2236" y="5933"/>
                  </a:lnTo>
                  <a:lnTo>
                    <a:pt x="2262" y="5981"/>
                  </a:lnTo>
                  <a:lnTo>
                    <a:pt x="2288" y="6030"/>
                  </a:lnTo>
                  <a:lnTo>
                    <a:pt x="2316" y="6078"/>
                  </a:lnTo>
                  <a:lnTo>
                    <a:pt x="2343" y="6127"/>
                  </a:lnTo>
                  <a:lnTo>
                    <a:pt x="2373" y="6177"/>
                  </a:lnTo>
                  <a:lnTo>
                    <a:pt x="2403" y="6226"/>
                  </a:lnTo>
                  <a:lnTo>
                    <a:pt x="2435" y="6276"/>
                  </a:lnTo>
                  <a:lnTo>
                    <a:pt x="2451" y="6302"/>
                  </a:lnTo>
                  <a:lnTo>
                    <a:pt x="2467" y="6327"/>
                  </a:lnTo>
                  <a:lnTo>
                    <a:pt x="2485" y="6353"/>
                  </a:lnTo>
                  <a:lnTo>
                    <a:pt x="2501" y="6380"/>
                  </a:lnTo>
                  <a:lnTo>
                    <a:pt x="2518" y="6405"/>
                  </a:lnTo>
                  <a:lnTo>
                    <a:pt x="2536" y="6431"/>
                  </a:lnTo>
                  <a:lnTo>
                    <a:pt x="2555" y="6456"/>
                  </a:lnTo>
                  <a:lnTo>
                    <a:pt x="2572" y="6481"/>
                  </a:lnTo>
                  <a:lnTo>
                    <a:pt x="2590" y="6507"/>
                  </a:lnTo>
                  <a:lnTo>
                    <a:pt x="2608" y="6532"/>
                  </a:lnTo>
                  <a:lnTo>
                    <a:pt x="2627" y="6557"/>
                  </a:lnTo>
                  <a:lnTo>
                    <a:pt x="2646" y="6581"/>
                  </a:lnTo>
                  <a:lnTo>
                    <a:pt x="2664" y="6606"/>
                  </a:lnTo>
                  <a:lnTo>
                    <a:pt x="2684" y="6630"/>
                  </a:lnTo>
                  <a:lnTo>
                    <a:pt x="2703" y="6652"/>
                  </a:lnTo>
                  <a:lnTo>
                    <a:pt x="2723" y="6676"/>
                  </a:lnTo>
                  <a:lnTo>
                    <a:pt x="2743" y="6698"/>
                  </a:lnTo>
                  <a:lnTo>
                    <a:pt x="2763" y="6720"/>
                  </a:lnTo>
                  <a:lnTo>
                    <a:pt x="2783" y="6741"/>
                  </a:lnTo>
                  <a:lnTo>
                    <a:pt x="2804" y="6762"/>
                  </a:lnTo>
                  <a:lnTo>
                    <a:pt x="2824" y="6782"/>
                  </a:lnTo>
                  <a:lnTo>
                    <a:pt x="2846" y="6802"/>
                  </a:lnTo>
                  <a:lnTo>
                    <a:pt x="2867" y="6821"/>
                  </a:lnTo>
                  <a:lnTo>
                    <a:pt x="2887" y="6838"/>
                  </a:lnTo>
                  <a:lnTo>
                    <a:pt x="2908" y="6856"/>
                  </a:lnTo>
                  <a:lnTo>
                    <a:pt x="2931" y="6872"/>
                  </a:lnTo>
                  <a:lnTo>
                    <a:pt x="2952" y="6888"/>
                  </a:lnTo>
                  <a:lnTo>
                    <a:pt x="2973" y="6903"/>
                  </a:lnTo>
                  <a:lnTo>
                    <a:pt x="2996" y="6917"/>
                  </a:lnTo>
                  <a:lnTo>
                    <a:pt x="3017" y="6930"/>
                  </a:lnTo>
                  <a:lnTo>
                    <a:pt x="3039" y="6941"/>
                  </a:lnTo>
                  <a:lnTo>
                    <a:pt x="3062" y="6952"/>
                  </a:lnTo>
                  <a:lnTo>
                    <a:pt x="3084" y="6962"/>
                  </a:lnTo>
                  <a:lnTo>
                    <a:pt x="3107" y="6970"/>
                  </a:lnTo>
                  <a:lnTo>
                    <a:pt x="3129" y="6977"/>
                  </a:lnTo>
                  <a:lnTo>
                    <a:pt x="3152" y="6983"/>
                  </a:lnTo>
                  <a:lnTo>
                    <a:pt x="3169" y="6987"/>
                  </a:lnTo>
                  <a:lnTo>
                    <a:pt x="3188" y="6991"/>
                  </a:lnTo>
                  <a:lnTo>
                    <a:pt x="3205" y="6993"/>
                  </a:lnTo>
                  <a:lnTo>
                    <a:pt x="3223" y="6995"/>
                  </a:lnTo>
                  <a:lnTo>
                    <a:pt x="3240" y="6996"/>
                  </a:lnTo>
                  <a:lnTo>
                    <a:pt x="3259" y="6996"/>
                  </a:lnTo>
                  <a:lnTo>
                    <a:pt x="3277" y="6996"/>
                  </a:lnTo>
                  <a:lnTo>
                    <a:pt x="3294" y="6996"/>
                  </a:lnTo>
                  <a:lnTo>
                    <a:pt x="3313" y="6993"/>
                  </a:lnTo>
                  <a:lnTo>
                    <a:pt x="3330" y="6992"/>
                  </a:lnTo>
                  <a:lnTo>
                    <a:pt x="3348" y="6990"/>
                  </a:lnTo>
                  <a:lnTo>
                    <a:pt x="3367" y="6986"/>
                  </a:lnTo>
                  <a:lnTo>
                    <a:pt x="3384" y="6982"/>
                  </a:lnTo>
                  <a:lnTo>
                    <a:pt x="3403" y="6977"/>
                  </a:lnTo>
                  <a:lnTo>
                    <a:pt x="3420" y="6973"/>
                  </a:lnTo>
                  <a:lnTo>
                    <a:pt x="3439" y="6967"/>
                  </a:lnTo>
                  <a:lnTo>
                    <a:pt x="3456" y="6962"/>
                  </a:lnTo>
                  <a:lnTo>
                    <a:pt x="3474" y="6955"/>
                  </a:lnTo>
                  <a:lnTo>
                    <a:pt x="3493" y="6948"/>
                  </a:lnTo>
                  <a:lnTo>
                    <a:pt x="3510" y="6941"/>
                  </a:lnTo>
                  <a:lnTo>
                    <a:pt x="3528" y="6933"/>
                  </a:lnTo>
                  <a:lnTo>
                    <a:pt x="3545" y="6925"/>
                  </a:lnTo>
                  <a:lnTo>
                    <a:pt x="3564" y="6917"/>
                  </a:lnTo>
                  <a:lnTo>
                    <a:pt x="3581" y="6908"/>
                  </a:lnTo>
                  <a:lnTo>
                    <a:pt x="3599" y="6898"/>
                  </a:lnTo>
                  <a:lnTo>
                    <a:pt x="3616" y="6888"/>
                  </a:lnTo>
                  <a:lnTo>
                    <a:pt x="3634" y="6878"/>
                  </a:lnTo>
                  <a:lnTo>
                    <a:pt x="3651" y="6868"/>
                  </a:lnTo>
                  <a:lnTo>
                    <a:pt x="3668" y="6858"/>
                  </a:lnTo>
                  <a:lnTo>
                    <a:pt x="3685" y="6847"/>
                  </a:lnTo>
                  <a:lnTo>
                    <a:pt x="3703" y="6836"/>
                  </a:lnTo>
                  <a:lnTo>
                    <a:pt x="3719" y="6825"/>
                  </a:lnTo>
                  <a:lnTo>
                    <a:pt x="3736" y="6812"/>
                  </a:lnTo>
                  <a:lnTo>
                    <a:pt x="3753" y="6801"/>
                  </a:lnTo>
                  <a:lnTo>
                    <a:pt x="3770" y="6788"/>
                  </a:lnTo>
                  <a:lnTo>
                    <a:pt x="3786" y="6776"/>
                  </a:lnTo>
                  <a:lnTo>
                    <a:pt x="3820" y="6750"/>
                  </a:lnTo>
                  <a:lnTo>
                    <a:pt x="3854" y="6722"/>
                  </a:lnTo>
                  <a:lnTo>
                    <a:pt x="3886" y="6693"/>
                  </a:lnTo>
                  <a:lnTo>
                    <a:pt x="3919" y="6665"/>
                  </a:lnTo>
                  <a:lnTo>
                    <a:pt x="3950" y="6636"/>
                  </a:lnTo>
                  <a:lnTo>
                    <a:pt x="3981" y="6605"/>
                  </a:lnTo>
                  <a:lnTo>
                    <a:pt x="4012" y="6575"/>
                  </a:lnTo>
                  <a:lnTo>
                    <a:pt x="4042" y="6542"/>
                  </a:lnTo>
                  <a:lnTo>
                    <a:pt x="4072" y="6510"/>
                  </a:lnTo>
                  <a:lnTo>
                    <a:pt x="4102" y="6477"/>
                  </a:lnTo>
                  <a:lnTo>
                    <a:pt x="4132" y="6443"/>
                  </a:lnTo>
                  <a:lnTo>
                    <a:pt x="4161" y="6408"/>
                  </a:lnTo>
                  <a:lnTo>
                    <a:pt x="4190" y="6375"/>
                  </a:lnTo>
                  <a:lnTo>
                    <a:pt x="4218" y="6338"/>
                  </a:lnTo>
                  <a:lnTo>
                    <a:pt x="4247" y="6302"/>
                  </a:lnTo>
                  <a:lnTo>
                    <a:pt x="4275" y="6266"/>
                  </a:lnTo>
                  <a:lnTo>
                    <a:pt x="4303" y="6230"/>
                  </a:lnTo>
                  <a:lnTo>
                    <a:pt x="4331" y="6192"/>
                  </a:lnTo>
                  <a:lnTo>
                    <a:pt x="4358" y="6153"/>
                  </a:lnTo>
                  <a:lnTo>
                    <a:pt x="4386" y="6116"/>
                  </a:lnTo>
                  <a:lnTo>
                    <a:pt x="4413" y="6076"/>
                  </a:lnTo>
                  <a:lnTo>
                    <a:pt x="4441" y="6037"/>
                  </a:lnTo>
                  <a:lnTo>
                    <a:pt x="4463" y="6005"/>
                  </a:lnTo>
                  <a:lnTo>
                    <a:pt x="4486" y="5972"/>
                  </a:lnTo>
                  <a:lnTo>
                    <a:pt x="4507" y="5940"/>
                  </a:lnTo>
                  <a:lnTo>
                    <a:pt x="4529" y="5906"/>
                  </a:lnTo>
                  <a:lnTo>
                    <a:pt x="4552" y="5873"/>
                  </a:lnTo>
                  <a:lnTo>
                    <a:pt x="4573" y="5840"/>
                  </a:lnTo>
                  <a:lnTo>
                    <a:pt x="4594" y="5806"/>
                  </a:lnTo>
                  <a:lnTo>
                    <a:pt x="4616" y="5772"/>
                  </a:lnTo>
                  <a:lnTo>
                    <a:pt x="4636" y="5738"/>
                  </a:lnTo>
                  <a:lnTo>
                    <a:pt x="4657" y="5705"/>
                  </a:lnTo>
                  <a:lnTo>
                    <a:pt x="4677" y="5670"/>
                  </a:lnTo>
                  <a:lnTo>
                    <a:pt x="4696" y="5636"/>
                  </a:lnTo>
                  <a:lnTo>
                    <a:pt x="4714" y="5601"/>
                  </a:lnTo>
                  <a:lnTo>
                    <a:pt x="4733" y="5566"/>
                  </a:lnTo>
                  <a:lnTo>
                    <a:pt x="4751" y="5532"/>
                  </a:lnTo>
                  <a:lnTo>
                    <a:pt x="4768" y="5497"/>
                  </a:lnTo>
                  <a:lnTo>
                    <a:pt x="4784" y="5462"/>
                  </a:lnTo>
                  <a:lnTo>
                    <a:pt x="4801" y="5427"/>
                  </a:lnTo>
                  <a:lnTo>
                    <a:pt x="4816" y="5392"/>
                  </a:lnTo>
                  <a:lnTo>
                    <a:pt x="4831" y="5357"/>
                  </a:lnTo>
                  <a:lnTo>
                    <a:pt x="4843" y="5322"/>
                  </a:lnTo>
                  <a:lnTo>
                    <a:pt x="4856" y="5287"/>
                  </a:lnTo>
                  <a:lnTo>
                    <a:pt x="4868" y="5252"/>
                  </a:lnTo>
                  <a:lnTo>
                    <a:pt x="4878" y="5217"/>
                  </a:lnTo>
                  <a:lnTo>
                    <a:pt x="4888" y="5184"/>
                  </a:lnTo>
                  <a:lnTo>
                    <a:pt x="4897" y="5149"/>
                  </a:lnTo>
                  <a:lnTo>
                    <a:pt x="4904" y="5114"/>
                  </a:lnTo>
                  <a:lnTo>
                    <a:pt x="4912" y="5079"/>
                  </a:lnTo>
                  <a:lnTo>
                    <a:pt x="4917" y="5044"/>
                  </a:lnTo>
                  <a:lnTo>
                    <a:pt x="4922" y="5010"/>
                  </a:lnTo>
                  <a:lnTo>
                    <a:pt x="4924" y="4975"/>
                  </a:lnTo>
                  <a:lnTo>
                    <a:pt x="4925" y="4941"/>
                  </a:lnTo>
                  <a:lnTo>
                    <a:pt x="4927" y="4906"/>
                  </a:lnTo>
                  <a:lnTo>
                    <a:pt x="4925" y="4872"/>
                  </a:lnTo>
                  <a:lnTo>
                    <a:pt x="4923" y="4839"/>
                  </a:lnTo>
                  <a:lnTo>
                    <a:pt x="4920" y="4805"/>
                  </a:lnTo>
                  <a:lnTo>
                    <a:pt x="4915" y="4771"/>
                  </a:lnTo>
                  <a:lnTo>
                    <a:pt x="4908" y="4737"/>
                  </a:lnTo>
                  <a:lnTo>
                    <a:pt x="4903" y="4716"/>
                  </a:lnTo>
                  <a:lnTo>
                    <a:pt x="4898" y="4695"/>
                  </a:lnTo>
                  <a:lnTo>
                    <a:pt x="4892" y="4674"/>
                  </a:lnTo>
                  <a:lnTo>
                    <a:pt x="4884" y="4654"/>
                  </a:lnTo>
                  <a:lnTo>
                    <a:pt x="4878" y="4632"/>
                  </a:lnTo>
                  <a:lnTo>
                    <a:pt x="4869" y="4611"/>
                  </a:lnTo>
                  <a:lnTo>
                    <a:pt x="4862" y="4591"/>
                  </a:lnTo>
                  <a:lnTo>
                    <a:pt x="4852" y="4570"/>
                  </a:lnTo>
                  <a:lnTo>
                    <a:pt x="4843" y="4550"/>
                  </a:lnTo>
                  <a:lnTo>
                    <a:pt x="4833" y="4530"/>
                  </a:lnTo>
                  <a:lnTo>
                    <a:pt x="4822" y="4510"/>
                  </a:lnTo>
                  <a:lnTo>
                    <a:pt x="4812" y="4489"/>
                  </a:lnTo>
                  <a:lnTo>
                    <a:pt x="4801" y="4469"/>
                  </a:lnTo>
                  <a:lnTo>
                    <a:pt x="4788" y="4449"/>
                  </a:lnTo>
                  <a:lnTo>
                    <a:pt x="4776" y="4430"/>
                  </a:lnTo>
                  <a:lnTo>
                    <a:pt x="4763" y="4410"/>
                  </a:lnTo>
                  <a:lnTo>
                    <a:pt x="4751" y="4390"/>
                  </a:lnTo>
                  <a:lnTo>
                    <a:pt x="4737" y="4370"/>
                  </a:lnTo>
                  <a:lnTo>
                    <a:pt x="4723" y="4351"/>
                  </a:lnTo>
                  <a:lnTo>
                    <a:pt x="4709" y="4333"/>
                  </a:lnTo>
                  <a:lnTo>
                    <a:pt x="4694" y="4313"/>
                  </a:lnTo>
                  <a:lnTo>
                    <a:pt x="4679" y="4294"/>
                  </a:lnTo>
                  <a:lnTo>
                    <a:pt x="4664" y="4275"/>
                  </a:lnTo>
                  <a:lnTo>
                    <a:pt x="4649" y="4256"/>
                  </a:lnTo>
                  <a:lnTo>
                    <a:pt x="4633" y="4238"/>
                  </a:lnTo>
                  <a:lnTo>
                    <a:pt x="4617" y="4219"/>
                  </a:lnTo>
                  <a:lnTo>
                    <a:pt x="4601" y="4201"/>
                  </a:lnTo>
                  <a:lnTo>
                    <a:pt x="4584" y="4183"/>
                  </a:lnTo>
                  <a:lnTo>
                    <a:pt x="4568" y="4165"/>
                  </a:lnTo>
                  <a:lnTo>
                    <a:pt x="4551" y="4148"/>
                  </a:lnTo>
                  <a:lnTo>
                    <a:pt x="4533" y="4129"/>
                  </a:lnTo>
                  <a:lnTo>
                    <a:pt x="4517" y="4111"/>
                  </a:lnTo>
                  <a:lnTo>
                    <a:pt x="4500" y="4094"/>
                  </a:lnTo>
                  <a:lnTo>
                    <a:pt x="4481" y="4078"/>
                  </a:lnTo>
                  <a:lnTo>
                    <a:pt x="4463" y="4060"/>
                  </a:lnTo>
                  <a:lnTo>
                    <a:pt x="4446" y="4043"/>
                  </a:lnTo>
                  <a:lnTo>
                    <a:pt x="4427" y="4026"/>
                  </a:lnTo>
                  <a:lnTo>
                    <a:pt x="4410" y="4010"/>
                  </a:lnTo>
                  <a:lnTo>
                    <a:pt x="4381" y="3984"/>
                  </a:lnTo>
                  <a:lnTo>
                    <a:pt x="4353" y="3960"/>
                  </a:lnTo>
                  <a:lnTo>
                    <a:pt x="4325" y="3935"/>
                  </a:lnTo>
                  <a:lnTo>
                    <a:pt x="4296" y="3910"/>
                  </a:lnTo>
                  <a:lnTo>
                    <a:pt x="4267" y="3886"/>
                  </a:lnTo>
                  <a:lnTo>
                    <a:pt x="4238" y="3863"/>
                  </a:lnTo>
                  <a:lnTo>
                    <a:pt x="4210" y="3840"/>
                  </a:lnTo>
                  <a:lnTo>
                    <a:pt x="4181" y="3816"/>
                  </a:lnTo>
                  <a:lnTo>
                    <a:pt x="4152" y="3794"/>
                  </a:lnTo>
                  <a:lnTo>
                    <a:pt x="4124" y="3770"/>
                  </a:lnTo>
                  <a:lnTo>
                    <a:pt x="4095" y="3748"/>
                  </a:lnTo>
                  <a:lnTo>
                    <a:pt x="4066" y="3725"/>
                  </a:lnTo>
                  <a:lnTo>
                    <a:pt x="4037" y="3704"/>
                  </a:lnTo>
                  <a:lnTo>
                    <a:pt x="4010" y="3681"/>
                  </a:lnTo>
                  <a:lnTo>
                    <a:pt x="3982" y="3659"/>
                  </a:lnTo>
                  <a:lnTo>
                    <a:pt x="3954" y="3636"/>
                  </a:lnTo>
                  <a:lnTo>
                    <a:pt x="3927" y="3615"/>
                  </a:lnTo>
                  <a:lnTo>
                    <a:pt x="3900" y="3593"/>
                  </a:lnTo>
                  <a:lnTo>
                    <a:pt x="3874" y="3570"/>
                  </a:lnTo>
                  <a:lnTo>
                    <a:pt x="3847" y="3549"/>
                  </a:lnTo>
                  <a:lnTo>
                    <a:pt x="3821" y="3526"/>
                  </a:lnTo>
                  <a:lnTo>
                    <a:pt x="3796" y="3504"/>
                  </a:lnTo>
                  <a:lnTo>
                    <a:pt x="3771" y="3481"/>
                  </a:lnTo>
                  <a:lnTo>
                    <a:pt x="3748" y="3459"/>
                  </a:lnTo>
                  <a:lnTo>
                    <a:pt x="3723" y="3436"/>
                  </a:lnTo>
                  <a:lnTo>
                    <a:pt x="3700" y="3414"/>
                  </a:lnTo>
                  <a:lnTo>
                    <a:pt x="3678" y="3390"/>
                  </a:lnTo>
                  <a:lnTo>
                    <a:pt x="3655" y="3368"/>
                  </a:lnTo>
                  <a:lnTo>
                    <a:pt x="3634" y="3344"/>
                  </a:lnTo>
                  <a:lnTo>
                    <a:pt x="3614" y="3320"/>
                  </a:lnTo>
                  <a:lnTo>
                    <a:pt x="3594" y="3295"/>
                  </a:lnTo>
                  <a:lnTo>
                    <a:pt x="3575" y="3271"/>
                  </a:lnTo>
                  <a:lnTo>
                    <a:pt x="3556" y="3246"/>
                  </a:lnTo>
                  <a:lnTo>
                    <a:pt x="3539" y="3221"/>
                  </a:lnTo>
                  <a:lnTo>
                    <a:pt x="3523" y="3195"/>
                  </a:lnTo>
                  <a:lnTo>
                    <a:pt x="3506" y="3169"/>
                  </a:lnTo>
                  <a:lnTo>
                    <a:pt x="3491" y="3143"/>
                  </a:lnTo>
                  <a:lnTo>
                    <a:pt x="3478" y="3116"/>
                  </a:lnTo>
                  <a:lnTo>
                    <a:pt x="3465" y="3089"/>
                  </a:lnTo>
                  <a:lnTo>
                    <a:pt x="3454" y="3060"/>
                  </a:lnTo>
                  <a:lnTo>
                    <a:pt x="3443" y="3033"/>
                  </a:lnTo>
                  <a:lnTo>
                    <a:pt x="3433" y="3000"/>
                  </a:lnTo>
                  <a:lnTo>
                    <a:pt x="3423" y="2968"/>
                  </a:lnTo>
                  <a:lnTo>
                    <a:pt x="3415" y="2934"/>
                  </a:lnTo>
                  <a:lnTo>
                    <a:pt x="3408" y="2900"/>
                  </a:lnTo>
                  <a:lnTo>
                    <a:pt x="3403" y="2865"/>
                  </a:lnTo>
                  <a:lnTo>
                    <a:pt x="3398" y="2830"/>
                  </a:lnTo>
                  <a:lnTo>
                    <a:pt x="3394" y="2795"/>
                  </a:lnTo>
                  <a:lnTo>
                    <a:pt x="3391" y="2759"/>
                  </a:lnTo>
                  <a:lnTo>
                    <a:pt x="3389" y="2722"/>
                  </a:lnTo>
                  <a:lnTo>
                    <a:pt x="3389" y="2684"/>
                  </a:lnTo>
                  <a:lnTo>
                    <a:pt x="3389" y="2647"/>
                  </a:lnTo>
                  <a:lnTo>
                    <a:pt x="3389" y="2608"/>
                  </a:lnTo>
                  <a:lnTo>
                    <a:pt x="3390" y="2569"/>
                  </a:lnTo>
                  <a:lnTo>
                    <a:pt x="3393" y="2530"/>
                  </a:lnTo>
                  <a:lnTo>
                    <a:pt x="3395" y="2490"/>
                  </a:lnTo>
                  <a:lnTo>
                    <a:pt x="3399" y="2450"/>
                  </a:lnTo>
                  <a:lnTo>
                    <a:pt x="3403" y="2410"/>
                  </a:lnTo>
                  <a:lnTo>
                    <a:pt x="3408" y="2369"/>
                  </a:lnTo>
                  <a:lnTo>
                    <a:pt x="3413" y="2328"/>
                  </a:lnTo>
                  <a:lnTo>
                    <a:pt x="3418" y="2287"/>
                  </a:lnTo>
                  <a:lnTo>
                    <a:pt x="3423" y="2244"/>
                  </a:lnTo>
                  <a:lnTo>
                    <a:pt x="3429" y="2202"/>
                  </a:lnTo>
                  <a:lnTo>
                    <a:pt x="3435" y="2159"/>
                  </a:lnTo>
                  <a:lnTo>
                    <a:pt x="3441" y="2117"/>
                  </a:lnTo>
                  <a:lnTo>
                    <a:pt x="3449" y="2074"/>
                  </a:lnTo>
                  <a:lnTo>
                    <a:pt x="3455" y="2030"/>
                  </a:lnTo>
                  <a:lnTo>
                    <a:pt x="3461" y="1988"/>
                  </a:lnTo>
                  <a:lnTo>
                    <a:pt x="3469" y="1944"/>
                  </a:lnTo>
                  <a:lnTo>
                    <a:pt x="3475" y="1900"/>
                  </a:lnTo>
                  <a:lnTo>
                    <a:pt x="3483" y="1857"/>
                  </a:lnTo>
                  <a:lnTo>
                    <a:pt x="3489" y="1812"/>
                  </a:lnTo>
                  <a:lnTo>
                    <a:pt x="3495" y="1768"/>
                  </a:lnTo>
                  <a:lnTo>
                    <a:pt x="3501" y="1724"/>
                  </a:lnTo>
                  <a:lnTo>
                    <a:pt x="3506" y="1679"/>
                  </a:lnTo>
                  <a:lnTo>
                    <a:pt x="3513" y="1636"/>
                  </a:lnTo>
                  <a:lnTo>
                    <a:pt x="3518" y="1591"/>
                  </a:lnTo>
                  <a:lnTo>
                    <a:pt x="3523" y="1547"/>
                  </a:lnTo>
                  <a:lnTo>
                    <a:pt x="3526" y="1502"/>
                  </a:lnTo>
                  <a:lnTo>
                    <a:pt x="3530" y="1458"/>
                  </a:lnTo>
                  <a:lnTo>
                    <a:pt x="3534" y="1413"/>
                  </a:lnTo>
                  <a:lnTo>
                    <a:pt x="3536" y="1369"/>
                  </a:lnTo>
                  <a:lnTo>
                    <a:pt x="3538" y="1348"/>
                  </a:lnTo>
                  <a:lnTo>
                    <a:pt x="3539" y="1328"/>
                  </a:lnTo>
                  <a:lnTo>
                    <a:pt x="3539" y="1308"/>
                  </a:lnTo>
                  <a:lnTo>
                    <a:pt x="3540" y="1288"/>
                  </a:lnTo>
                  <a:lnTo>
                    <a:pt x="3540" y="1267"/>
                  </a:lnTo>
                  <a:lnTo>
                    <a:pt x="3540" y="1247"/>
                  </a:lnTo>
                  <a:lnTo>
                    <a:pt x="3540" y="1227"/>
                  </a:lnTo>
                  <a:lnTo>
                    <a:pt x="3540" y="1207"/>
                  </a:lnTo>
                  <a:lnTo>
                    <a:pt x="3540" y="1187"/>
                  </a:lnTo>
                  <a:lnTo>
                    <a:pt x="3539" y="1167"/>
                  </a:lnTo>
                  <a:lnTo>
                    <a:pt x="3539" y="1147"/>
                  </a:lnTo>
                  <a:lnTo>
                    <a:pt x="3538" y="1127"/>
                  </a:lnTo>
                  <a:lnTo>
                    <a:pt x="3536" y="1107"/>
                  </a:lnTo>
                  <a:lnTo>
                    <a:pt x="3535" y="1088"/>
                  </a:lnTo>
                  <a:lnTo>
                    <a:pt x="3534" y="1068"/>
                  </a:lnTo>
                  <a:lnTo>
                    <a:pt x="3533" y="1049"/>
                  </a:lnTo>
                  <a:lnTo>
                    <a:pt x="3530" y="1029"/>
                  </a:lnTo>
                  <a:lnTo>
                    <a:pt x="3529" y="1011"/>
                  </a:lnTo>
                  <a:lnTo>
                    <a:pt x="3526" y="992"/>
                  </a:lnTo>
                  <a:lnTo>
                    <a:pt x="3524" y="973"/>
                  </a:lnTo>
                  <a:lnTo>
                    <a:pt x="3520" y="953"/>
                  </a:lnTo>
                  <a:lnTo>
                    <a:pt x="3518" y="936"/>
                  </a:lnTo>
                  <a:lnTo>
                    <a:pt x="3514" y="917"/>
                  </a:lnTo>
                  <a:lnTo>
                    <a:pt x="3511" y="898"/>
                  </a:lnTo>
                  <a:lnTo>
                    <a:pt x="3508" y="881"/>
                  </a:lnTo>
                  <a:lnTo>
                    <a:pt x="3503" y="862"/>
                  </a:lnTo>
                  <a:lnTo>
                    <a:pt x="3499" y="844"/>
                  </a:lnTo>
                  <a:lnTo>
                    <a:pt x="3494" y="827"/>
                  </a:lnTo>
                  <a:lnTo>
                    <a:pt x="3489" y="809"/>
                  </a:lnTo>
                  <a:lnTo>
                    <a:pt x="3484" y="792"/>
                  </a:lnTo>
                  <a:lnTo>
                    <a:pt x="3479" y="774"/>
                  </a:lnTo>
                  <a:lnTo>
                    <a:pt x="3473" y="758"/>
                  </a:lnTo>
                  <a:lnTo>
                    <a:pt x="3468" y="742"/>
                  </a:lnTo>
                  <a:lnTo>
                    <a:pt x="3461" y="724"/>
                  </a:lnTo>
                  <a:lnTo>
                    <a:pt x="3454" y="709"/>
                  </a:lnTo>
                  <a:lnTo>
                    <a:pt x="3448" y="693"/>
                  </a:lnTo>
                  <a:lnTo>
                    <a:pt x="3440" y="677"/>
                  </a:lnTo>
                  <a:lnTo>
                    <a:pt x="3433" y="662"/>
                  </a:lnTo>
                  <a:lnTo>
                    <a:pt x="3415" y="629"/>
                  </a:lnTo>
                  <a:lnTo>
                    <a:pt x="3398" y="599"/>
                  </a:lnTo>
                  <a:lnTo>
                    <a:pt x="3378" y="569"/>
                  </a:lnTo>
                  <a:lnTo>
                    <a:pt x="3357" y="541"/>
                  </a:lnTo>
                  <a:lnTo>
                    <a:pt x="3334" y="513"/>
                  </a:lnTo>
                  <a:lnTo>
                    <a:pt x="3312" y="486"/>
                  </a:lnTo>
                  <a:lnTo>
                    <a:pt x="3287" y="461"/>
                  </a:lnTo>
                  <a:lnTo>
                    <a:pt x="3260" y="436"/>
                  </a:lnTo>
                  <a:lnTo>
                    <a:pt x="3234" y="412"/>
                  </a:lnTo>
                  <a:lnTo>
                    <a:pt x="3205" y="390"/>
                  </a:lnTo>
                  <a:lnTo>
                    <a:pt x="3177" y="367"/>
                  </a:lnTo>
                  <a:lnTo>
                    <a:pt x="3147" y="346"/>
                  </a:lnTo>
                  <a:lnTo>
                    <a:pt x="3115" y="326"/>
                  </a:lnTo>
                  <a:lnTo>
                    <a:pt x="3083" y="307"/>
                  </a:lnTo>
                  <a:lnTo>
                    <a:pt x="3050" y="288"/>
                  </a:lnTo>
                  <a:lnTo>
                    <a:pt x="3017" y="271"/>
                  </a:lnTo>
                  <a:lnTo>
                    <a:pt x="2983" y="253"/>
                  </a:lnTo>
                  <a:lnTo>
                    <a:pt x="2947" y="237"/>
                  </a:lnTo>
                  <a:lnTo>
                    <a:pt x="2912" y="222"/>
                  </a:lnTo>
                  <a:lnTo>
                    <a:pt x="2874" y="207"/>
                  </a:lnTo>
                  <a:lnTo>
                    <a:pt x="2837" y="193"/>
                  </a:lnTo>
                  <a:lnTo>
                    <a:pt x="2799" y="180"/>
                  </a:lnTo>
                  <a:lnTo>
                    <a:pt x="2761" y="167"/>
                  </a:lnTo>
                  <a:lnTo>
                    <a:pt x="2722" y="155"/>
                  </a:lnTo>
                  <a:lnTo>
                    <a:pt x="2683" y="143"/>
                  </a:lnTo>
                  <a:lnTo>
                    <a:pt x="2643" y="132"/>
                  </a:lnTo>
                  <a:lnTo>
                    <a:pt x="2602" y="121"/>
                  </a:lnTo>
                  <a:lnTo>
                    <a:pt x="2562" y="112"/>
                  </a:lnTo>
                  <a:lnTo>
                    <a:pt x="2521" y="102"/>
                  </a:lnTo>
                  <a:lnTo>
                    <a:pt x="2480" y="93"/>
                  </a:lnTo>
                  <a:lnTo>
                    <a:pt x="2438" y="85"/>
                  </a:lnTo>
                  <a:lnTo>
                    <a:pt x="2396" y="77"/>
                  </a:lnTo>
                  <a:lnTo>
                    <a:pt x="2355" y="70"/>
                  </a:lnTo>
                  <a:lnTo>
                    <a:pt x="2312" y="62"/>
                  </a:lnTo>
                  <a:lnTo>
                    <a:pt x="2270" y="56"/>
                  </a:lnTo>
                  <a:lnTo>
                    <a:pt x="2229" y="50"/>
                  </a:lnTo>
                  <a:lnTo>
                    <a:pt x="2186" y="43"/>
                  </a:lnTo>
                  <a:lnTo>
                    <a:pt x="2144" y="38"/>
                  </a:lnTo>
                  <a:lnTo>
                    <a:pt x="2092" y="31"/>
                  </a:lnTo>
                  <a:lnTo>
                    <a:pt x="2040" y="26"/>
                  </a:lnTo>
                  <a:lnTo>
                    <a:pt x="1989" y="20"/>
                  </a:lnTo>
                  <a:lnTo>
                    <a:pt x="1937" y="15"/>
                  </a:lnTo>
                  <a:lnTo>
                    <a:pt x="1886" y="11"/>
                  </a:lnTo>
                  <a:lnTo>
                    <a:pt x="1835" y="7"/>
                  </a:lnTo>
                  <a:lnTo>
                    <a:pt x="1785" y="5"/>
                  </a:lnTo>
                  <a:lnTo>
                    <a:pt x="1734" y="2"/>
                  </a:lnTo>
                  <a:lnTo>
                    <a:pt x="1684" y="0"/>
                  </a:lnTo>
                  <a:lnTo>
                    <a:pt x="1633" y="0"/>
                  </a:lnTo>
                  <a:lnTo>
                    <a:pt x="1583" y="0"/>
                  </a:lnTo>
                  <a:lnTo>
                    <a:pt x="1534" y="0"/>
                  </a:lnTo>
                  <a:lnTo>
                    <a:pt x="1484" y="2"/>
                  </a:lnTo>
                  <a:lnTo>
                    <a:pt x="1435" y="5"/>
                  </a:lnTo>
                  <a:lnTo>
                    <a:pt x="1385" y="7"/>
                  </a:lnTo>
                  <a:lnTo>
                    <a:pt x="1337" y="12"/>
                  </a:lnTo>
                  <a:lnTo>
                    <a:pt x="1289" y="17"/>
                  </a:lnTo>
                  <a:lnTo>
                    <a:pt x="1240" y="23"/>
                  </a:lnTo>
                  <a:lnTo>
                    <a:pt x="1193" y="31"/>
                  </a:lnTo>
                  <a:lnTo>
                    <a:pt x="1145" y="40"/>
                  </a:lnTo>
                  <a:lnTo>
                    <a:pt x="1098" y="48"/>
                  </a:lnTo>
                  <a:lnTo>
                    <a:pt x="1052" y="60"/>
                  </a:lnTo>
                  <a:lnTo>
                    <a:pt x="1006" y="72"/>
                  </a:lnTo>
                  <a:lnTo>
                    <a:pt x="959" y="85"/>
                  </a:lnTo>
                  <a:lnTo>
                    <a:pt x="913" y="98"/>
                  </a:lnTo>
                  <a:lnTo>
                    <a:pt x="868" y="115"/>
                  </a:lnTo>
                  <a:lnTo>
                    <a:pt x="824" y="131"/>
                  </a:lnTo>
                  <a:lnTo>
                    <a:pt x="796" y="142"/>
                  </a:lnTo>
                  <a:lnTo>
                    <a:pt x="768" y="155"/>
                  </a:lnTo>
                  <a:lnTo>
                    <a:pt x="741" y="166"/>
                  </a:lnTo>
                  <a:lnTo>
                    <a:pt x="715" y="180"/>
                  </a:lnTo>
                  <a:lnTo>
                    <a:pt x="687" y="192"/>
                  </a:lnTo>
                  <a:lnTo>
                    <a:pt x="661" y="206"/>
                  </a:lnTo>
                  <a:lnTo>
                    <a:pt x="635" y="221"/>
                  </a:lnTo>
                  <a:lnTo>
                    <a:pt x="608" y="236"/>
                  </a:lnTo>
                  <a:lnTo>
                    <a:pt x="582" y="251"/>
                  </a:lnTo>
                  <a:lnTo>
                    <a:pt x="557" y="267"/>
                  </a:lnTo>
                  <a:lnTo>
                    <a:pt x="532" y="283"/>
                  </a:lnTo>
                  <a:lnTo>
                    <a:pt x="507" y="300"/>
                  </a:lnTo>
                  <a:lnTo>
                    <a:pt x="483" y="318"/>
                  </a:lnTo>
                  <a:lnTo>
                    <a:pt x="458" y="336"/>
                  </a:lnTo>
                  <a:lnTo>
                    <a:pt x="435" y="355"/>
                  </a:lnTo>
                  <a:lnTo>
                    <a:pt x="412" y="373"/>
                  </a:lnTo>
                  <a:lnTo>
                    <a:pt x="390" y="393"/>
                  </a:lnTo>
                  <a:lnTo>
                    <a:pt x="367" y="413"/>
                  </a:lnTo>
                  <a:lnTo>
                    <a:pt x="345" y="435"/>
                  </a:lnTo>
                  <a:lnTo>
                    <a:pt x="324" y="456"/>
                  </a:lnTo>
                  <a:lnTo>
                    <a:pt x="304" y="477"/>
                  </a:lnTo>
                  <a:lnTo>
                    <a:pt x="284" y="499"/>
                  </a:lnTo>
                  <a:lnTo>
                    <a:pt x="264" y="523"/>
                  </a:lnTo>
                  <a:lnTo>
                    <a:pt x="244" y="546"/>
                  </a:lnTo>
                  <a:lnTo>
                    <a:pt x="225" y="571"/>
                  </a:lnTo>
                  <a:lnTo>
                    <a:pt x="207" y="594"/>
                  </a:lnTo>
                  <a:lnTo>
                    <a:pt x="190" y="621"/>
                  </a:lnTo>
                  <a:lnTo>
                    <a:pt x="179" y="638"/>
                  </a:lnTo>
                  <a:lnTo>
                    <a:pt x="166" y="657"/>
                  </a:lnTo>
                  <a:lnTo>
                    <a:pt x="155" y="676"/>
                  </a:lnTo>
                  <a:lnTo>
                    <a:pt x="144" y="694"/>
                  </a:lnTo>
                  <a:lnTo>
                    <a:pt x="134" y="713"/>
                  </a:lnTo>
                  <a:lnTo>
                    <a:pt x="124" y="733"/>
                  </a:lnTo>
                  <a:lnTo>
                    <a:pt x="114" y="753"/>
                  </a:lnTo>
                  <a:lnTo>
                    <a:pt x="104" y="773"/>
                  </a:lnTo>
                  <a:lnTo>
                    <a:pt x="95" y="793"/>
                  </a:lnTo>
                  <a:lnTo>
                    <a:pt x="86" y="813"/>
                  </a:lnTo>
                  <a:lnTo>
                    <a:pt x="77" y="833"/>
                  </a:lnTo>
                  <a:lnTo>
                    <a:pt x="69" y="853"/>
                  </a:lnTo>
                  <a:lnTo>
                    <a:pt x="61" y="874"/>
                  </a:lnTo>
                  <a:lnTo>
                    <a:pt x="54" y="894"/>
                  </a:lnTo>
                  <a:lnTo>
                    <a:pt x="47" y="916"/>
                  </a:lnTo>
                  <a:lnTo>
                    <a:pt x="41" y="937"/>
                  </a:lnTo>
                  <a:lnTo>
                    <a:pt x="35" y="957"/>
                  </a:lnTo>
                  <a:lnTo>
                    <a:pt x="30" y="978"/>
                  </a:lnTo>
                  <a:lnTo>
                    <a:pt x="25" y="999"/>
                  </a:lnTo>
                  <a:lnTo>
                    <a:pt x="20" y="1021"/>
                  </a:lnTo>
                  <a:lnTo>
                    <a:pt x="16" y="1042"/>
                  </a:lnTo>
                  <a:lnTo>
                    <a:pt x="12" y="1063"/>
                  </a:lnTo>
                  <a:lnTo>
                    <a:pt x="9" y="1084"/>
                  </a:lnTo>
                  <a:lnTo>
                    <a:pt x="6" y="1106"/>
                  </a:lnTo>
                  <a:lnTo>
                    <a:pt x="4" y="1127"/>
                  </a:lnTo>
                  <a:lnTo>
                    <a:pt x="2" y="1147"/>
                  </a:lnTo>
                  <a:lnTo>
                    <a:pt x="1" y="1168"/>
                  </a:lnTo>
                  <a:lnTo>
                    <a:pt x="0" y="1189"/>
                  </a:lnTo>
                  <a:lnTo>
                    <a:pt x="0" y="1211"/>
                  </a:lnTo>
                  <a:lnTo>
                    <a:pt x="0" y="1231"/>
                  </a:lnTo>
                  <a:lnTo>
                    <a:pt x="1" y="1252"/>
                  </a:lnTo>
                  <a:lnTo>
                    <a:pt x="2" y="1272"/>
                  </a:lnTo>
                  <a:lnTo>
                    <a:pt x="5" y="1293"/>
                  </a:lnTo>
                  <a:lnTo>
                    <a:pt x="7" y="1313"/>
                  </a:lnTo>
                  <a:lnTo>
                    <a:pt x="10" y="1333"/>
                  </a:lnTo>
                  <a:lnTo>
                    <a:pt x="14" y="1353"/>
                  </a:lnTo>
                  <a:lnTo>
                    <a:pt x="17" y="1373"/>
                  </a:lnTo>
                  <a:lnTo>
                    <a:pt x="22" y="1393"/>
                  </a:lnTo>
                  <a:lnTo>
                    <a:pt x="27" y="1412"/>
                  </a:lnTo>
                  <a:lnTo>
                    <a:pt x="34" y="1431"/>
                  </a:lnTo>
                  <a:lnTo>
                    <a:pt x="44" y="1459"/>
                  </a:lnTo>
                  <a:lnTo>
                    <a:pt x="55" y="1487"/>
                  </a:lnTo>
                  <a:lnTo>
                    <a:pt x="67" y="1513"/>
                  </a:lnTo>
                  <a:lnTo>
                    <a:pt x="81" y="1541"/>
                  </a:lnTo>
                  <a:lnTo>
                    <a:pt x="96" y="1566"/>
                  </a:lnTo>
                  <a:lnTo>
                    <a:pt x="111" y="1592"/>
                  </a:lnTo>
                  <a:lnTo>
                    <a:pt x="129" y="1617"/>
                  </a:lnTo>
                  <a:lnTo>
                    <a:pt x="146" y="1642"/>
                  </a:lnTo>
                  <a:lnTo>
                    <a:pt x="164" y="1667"/>
                  </a:lnTo>
                  <a:lnTo>
                    <a:pt x="184" y="1692"/>
                  </a:lnTo>
                  <a:lnTo>
                    <a:pt x="204" y="1716"/>
                  </a:lnTo>
                  <a:lnTo>
                    <a:pt x="224" y="1739"/>
                  </a:lnTo>
                  <a:lnTo>
                    <a:pt x="246" y="1763"/>
                  </a:lnTo>
                  <a:lnTo>
                    <a:pt x="267" y="1787"/>
                  </a:lnTo>
                  <a:lnTo>
                    <a:pt x="290" y="1810"/>
                  </a:lnTo>
                  <a:lnTo>
                    <a:pt x="312" y="1834"/>
                  </a:lnTo>
                  <a:lnTo>
                    <a:pt x="336" y="1857"/>
                  </a:lnTo>
                  <a:lnTo>
                    <a:pt x="360" y="1880"/>
                  </a:lnTo>
                  <a:lnTo>
                    <a:pt x="383" y="1903"/>
                  </a:lnTo>
                  <a:lnTo>
                    <a:pt x="407" y="1925"/>
                  </a:lnTo>
                  <a:lnTo>
                    <a:pt x="432" y="1949"/>
                  </a:lnTo>
                  <a:lnTo>
                    <a:pt x="456" y="1972"/>
                  </a:lnTo>
                  <a:lnTo>
                    <a:pt x="481" y="1995"/>
                  </a:lnTo>
                  <a:lnTo>
                    <a:pt x="505" y="2018"/>
                  </a:lnTo>
                  <a:lnTo>
                    <a:pt x="530" y="2042"/>
                  </a:lnTo>
                  <a:lnTo>
                    <a:pt x="553" y="2064"/>
                  </a:lnTo>
                  <a:lnTo>
                    <a:pt x="577" y="2088"/>
                  </a:lnTo>
                  <a:lnTo>
                    <a:pt x="601" y="2112"/>
                  </a:lnTo>
                  <a:lnTo>
                    <a:pt x="625" y="2135"/>
                  </a:lnTo>
                  <a:lnTo>
                    <a:pt x="647" y="2159"/>
                  </a:lnTo>
                  <a:lnTo>
                    <a:pt x="671" y="2183"/>
                  </a:lnTo>
                  <a:lnTo>
                    <a:pt x="692" y="2208"/>
                  </a:lnTo>
                  <a:lnTo>
                    <a:pt x="715" y="2232"/>
                  </a:lnTo>
                  <a:lnTo>
                    <a:pt x="736" y="2257"/>
                  </a:lnTo>
                  <a:lnTo>
                    <a:pt x="756" y="2283"/>
                  </a:lnTo>
                  <a:lnTo>
                    <a:pt x="776" y="2308"/>
                  </a:lnTo>
                  <a:lnTo>
                    <a:pt x="794" y="2334"/>
                  </a:lnTo>
                  <a:lnTo>
                    <a:pt x="813" y="2360"/>
                  </a:lnTo>
                  <a:lnTo>
                    <a:pt x="829" y="2388"/>
                  </a:lnTo>
                  <a:lnTo>
                    <a:pt x="846" y="2415"/>
                  </a:lnTo>
                  <a:lnTo>
                    <a:pt x="862" y="2443"/>
                  </a:lnTo>
                  <a:lnTo>
                    <a:pt x="876" y="2470"/>
                  </a:lnTo>
                  <a:lnTo>
                    <a:pt x="889" y="2500"/>
                  </a:lnTo>
                  <a:lnTo>
                    <a:pt x="902" y="2530"/>
                  </a:lnTo>
                  <a:lnTo>
                    <a:pt x="913" y="2562"/>
                  </a:lnTo>
                  <a:lnTo>
                    <a:pt x="923" y="2593"/>
                  </a:lnTo>
                  <a:lnTo>
                    <a:pt x="933" y="2624"/>
                  </a:lnTo>
                  <a:lnTo>
                    <a:pt x="942" y="2657"/>
                  </a:lnTo>
                  <a:lnTo>
                    <a:pt x="949" y="2689"/>
                  </a:lnTo>
                  <a:lnTo>
                    <a:pt x="956" y="2722"/>
                  </a:lnTo>
                  <a:lnTo>
                    <a:pt x="961" y="2755"/>
                  </a:lnTo>
                  <a:lnTo>
                    <a:pt x="966" y="2788"/>
                  </a:lnTo>
                  <a:lnTo>
                    <a:pt x="971" y="2822"/>
                  </a:lnTo>
                  <a:lnTo>
                    <a:pt x="974" y="2855"/>
                  </a:lnTo>
                  <a:lnTo>
                    <a:pt x="977" y="2890"/>
                  </a:lnTo>
                  <a:lnTo>
                    <a:pt x="979" y="2924"/>
                  </a:lnTo>
                  <a:lnTo>
                    <a:pt x="982" y="2959"/>
                  </a:lnTo>
                  <a:lnTo>
                    <a:pt x="983" y="2993"/>
                  </a:lnTo>
                  <a:lnTo>
                    <a:pt x="984" y="3028"/>
                  </a:lnTo>
                  <a:lnTo>
                    <a:pt x="984" y="3063"/>
                  </a:lnTo>
                  <a:lnTo>
                    <a:pt x="984" y="3098"/>
                  </a:lnTo>
                  <a:lnTo>
                    <a:pt x="984" y="3133"/>
                  </a:lnTo>
                  <a:lnTo>
                    <a:pt x="984" y="3168"/>
                  </a:lnTo>
                  <a:lnTo>
                    <a:pt x="984" y="3201"/>
                  </a:lnTo>
                  <a:lnTo>
                    <a:pt x="983" y="3236"/>
                  </a:lnTo>
                  <a:lnTo>
                    <a:pt x="982" y="3271"/>
                  </a:lnTo>
                  <a:lnTo>
                    <a:pt x="982" y="3305"/>
                  </a:lnTo>
                  <a:lnTo>
                    <a:pt x="981" y="3340"/>
                  </a:lnTo>
                  <a:lnTo>
                    <a:pt x="979" y="3374"/>
                  </a:lnTo>
                  <a:lnTo>
                    <a:pt x="979" y="3408"/>
                  </a:lnTo>
                  <a:lnTo>
                    <a:pt x="978" y="3441"/>
                  </a:lnTo>
                  <a:lnTo>
                    <a:pt x="978" y="3475"/>
                  </a:lnTo>
                  <a:lnTo>
                    <a:pt x="977" y="3508"/>
                  </a:lnTo>
                  <a:lnTo>
                    <a:pt x="977" y="3540"/>
                  </a:lnTo>
                  <a:lnTo>
                    <a:pt x="977" y="3573"/>
                  </a:lnTo>
                  <a:lnTo>
                    <a:pt x="978" y="3605"/>
                  </a:lnTo>
                  <a:lnTo>
                    <a:pt x="979" y="3636"/>
                  </a:lnTo>
                  <a:lnTo>
                    <a:pt x="981" y="3668"/>
                  </a:lnTo>
                  <a:lnTo>
                    <a:pt x="982" y="3699"/>
                  </a:lnTo>
                  <a:lnTo>
                    <a:pt x="984" y="3729"/>
                  </a:lnTo>
                  <a:lnTo>
                    <a:pt x="988" y="3758"/>
                  </a:lnTo>
                  <a:lnTo>
                    <a:pt x="992" y="3788"/>
                  </a:lnTo>
                  <a:lnTo>
                    <a:pt x="996" y="3815"/>
                  </a:lnTo>
                  <a:lnTo>
                    <a:pt x="1001" y="3844"/>
                  </a:lnTo>
                  <a:lnTo>
                    <a:pt x="1004" y="3864"/>
                  </a:lnTo>
                  <a:lnTo>
                    <a:pt x="1009" y="3885"/>
                  </a:lnTo>
                  <a:lnTo>
                    <a:pt x="1014" y="3905"/>
                  </a:lnTo>
                  <a:lnTo>
                    <a:pt x="1021" y="3924"/>
                  </a:lnTo>
                  <a:lnTo>
                    <a:pt x="1027" y="3944"/>
                  </a:lnTo>
                  <a:lnTo>
                    <a:pt x="1033" y="3963"/>
                  </a:lnTo>
                  <a:lnTo>
                    <a:pt x="1041" y="3983"/>
                  </a:lnTo>
                  <a:lnTo>
                    <a:pt x="1048" y="4001"/>
                  </a:lnTo>
                  <a:lnTo>
                    <a:pt x="1056" y="4020"/>
                  </a:lnTo>
                  <a:lnTo>
                    <a:pt x="1064" y="4039"/>
                  </a:lnTo>
                  <a:lnTo>
                    <a:pt x="1074" y="4058"/>
                  </a:lnTo>
                  <a:lnTo>
                    <a:pt x="1083" y="4076"/>
                  </a:lnTo>
                  <a:lnTo>
                    <a:pt x="1093" y="4094"/>
                  </a:lnTo>
                  <a:lnTo>
                    <a:pt x="1104" y="4113"/>
                  </a:lnTo>
                  <a:lnTo>
                    <a:pt x="1115" y="4131"/>
                  </a:lnTo>
                  <a:lnTo>
                    <a:pt x="1127" y="4150"/>
                  </a:lnTo>
                  <a:lnTo>
                    <a:pt x="1139" y="4169"/>
                  </a:lnTo>
                  <a:lnTo>
                    <a:pt x="1152" y="4188"/>
                  </a:lnTo>
                  <a:lnTo>
                    <a:pt x="1165" y="4206"/>
                  </a:lnTo>
                  <a:lnTo>
                    <a:pt x="1179" y="4226"/>
                  </a:lnTo>
                  <a:lnTo>
                    <a:pt x="1194" y="4245"/>
                  </a:lnTo>
                  <a:lnTo>
                    <a:pt x="1209" y="4265"/>
                  </a:lnTo>
                  <a:lnTo>
                    <a:pt x="1224" y="4285"/>
                  </a:lnTo>
                  <a:lnTo>
                    <a:pt x="1240" y="4305"/>
                  </a:lnTo>
                  <a:lnTo>
                    <a:pt x="1258" y="4325"/>
                  </a:lnTo>
                  <a:lnTo>
                    <a:pt x="1275" y="4346"/>
                  </a:lnTo>
                  <a:lnTo>
                    <a:pt x="1293" y="4368"/>
                  </a:lnTo>
                  <a:lnTo>
                    <a:pt x="1312" y="4389"/>
                  </a:lnTo>
                  <a:lnTo>
                    <a:pt x="1332" y="4411"/>
                  </a:lnTo>
                  <a:lnTo>
                    <a:pt x="1352" y="4434"/>
                  </a:lnTo>
                  <a:lnTo>
                    <a:pt x="1372" y="4457"/>
                  </a:lnTo>
                  <a:lnTo>
                    <a:pt x="1393" y="4481"/>
                  </a:lnTo>
                  <a:lnTo>
                    <a:pt x="1414" y="4505"/>
                  </a:lnTo>
                  <a:lnTo>
                    <a:pt x="1437" y="4530"/>
                  </a:lnTo>
                  <a:lnTo>
                    <a:pt x="1457" y="4551"/>
                  </a:lnTo>
                  <a:lnTo>
                    <a:pt x="1477" y="4572"/>
                  </a:lnTo>
                  <a:lnTo>
                    <a:pt x="1496" y="4595"/>
                  </a:lnTo>
                  <a:lnTo>
                    <a:pt x="1518" y="4617"/>
                  </a:lnTo>
                  <a:lnTo>
                    <a:pt x="1538" y="4639"/>
                  </a:lnTo>
                  <a:lnTo>
                    <a:pt x="1559" y="4661"/>
                  </a:lnTo>
                  <a:lnTo>
                    <a:pt x="1580" y="4684"/>
                  </a:lnTo>
                  <a:lnTo>
                    <a:pt x="1601" y="4706"/>
                  </a:lnTo>
                  <a:lnTo>
                    <a:pt x="1623" y="4727"/>
                  </a:lnTo>
                  <a:lnTo>
                    <a:pt x="1644" y="4750"/>
                  </a:lnTo>
                  <a:lnTo>
                    <a:pt x="1665" y="4771"/>
                  </a:lnTo>
                  <a:lnTo>
                    <a:pt x="1686" y="4791"/>
                  </a:lnTo>
                  <a:lnTo>
                    <a:pt x="1708" y="4812"/>
                  </a:lnTo>
                  <a:lnTo>
                    <a:pt x="1729" y="4831"/>
                  </a:lnTo>
                  <a:lnTo>
                    <a:pt x="1749" y="4850"/>
                  </a:lnTo>
                  <a:lnTo>
                    <a:pt x="1769" y="4869"/>
                  </a:lnTo>
                  <a:lnTo>
                    <a:pt x="1789" y="4886"/>
                  </a:lnTo>
                  <a:lnTo>
                    <a:pt x="1808" y="4902"/>
                  </a:lnTo>
                  <a:lnTo>
                    <a:pt x="1826" y="4917"/>
                  </a:lnTo>
                  <a:lnTo>
                    <a:pt x="1845" y="4931"/>
                  </a:lnTo>
                  <a:lnTo>
                    <a:pt x="1862" y="4944"/>
                  </a:lnTo>
                  <a:lnTo>
                    <a:pt x="1880" y="4956"/>
                  </a:lnTo>
                  <a:lnTo>
                    <a:pt x="1896" y="4966"/>
                  </a:lnTo>
                  <a:lnTo>
                    <a:pt x="1911" y="4975"/>
                  </a:lnTo>
                  <a:lnTo>
                    <a:pt x="1926" y="4981"/>
                  </a:lnTo>
                  <a:lnTo>
                    <a:pt x="1940" y="4987"/>
                  </a:lnTo>
                  <a:lnTo>
                    <a:pt x="1952" y="4991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985680" y="2158920"/>
              <a:ext cx="1760400" cy="2280600"/>
              <a:chOff x="985680" y="2158920"/>
              <a:chExt cx="1760400" cy="228060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985680" y="2158920"/>
                <a:ext cx="1753200" cy="2280600"/>
                <a:chOff x="985680" y="2158920"/>
                <a:chExt cx="1753200" cy="22806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6200" y="332676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72360" y="310788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892160" y="295452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895400" y="310392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13400" y="312480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934280" y="313560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943280" y="315144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962000" y="316260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84320" y="316656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98360" y="317268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0960" y="313956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190880" y="2705040"/>
                  <a:ext cx="77436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14280" y="2320920"/>
                  <a:ext cx="82872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906560" y="324396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815480" y="319536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785600" y="317340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100600" y="321048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887480" y="313380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979640" y="31845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896480" y="285300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60920" y="267804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86480" y="272484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702440" y="252792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32320" y="252972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757880" y="262224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747800" y="268308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28600" y="261144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667880" y="247716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730160" y="242820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634760" y="234792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682640" y="234468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600200" y="232488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602360" y="230112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09200" y="223128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622520" y="219060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4800" y="224820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570320" y="225828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600200" y="228708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566000" y="228492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64560" y="230400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561320" y="23230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563840" y="234792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537920" y="22662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30360" y="22712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534680" y="22762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496880" y="229608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83560" y="227628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502640" y="229392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468440" y="234468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440360" y="231408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124280" y="2188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075320" y="22464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081080" y="237852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202040" y="257148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220760" y="265104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691280" y="2158920"/>
                  <a:ext cx="34848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2029680" y="216684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139760" y="215892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936440" y="3331800"/>
                  <a:ext cx="19548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18520" y="333180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897560" y="339552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893240" y="340128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841040" y="339912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785600" y="337860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748880" y="331164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704600" y="332856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713600" y="329868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973160" y="320652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015280" y="320328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663560" y="327204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714320" y="326196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257480" y="300636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985680" y="219960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694520" y="279720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762200" y="284436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07920" y="281340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639080" y="276048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384920" y="243036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408320" y="251604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446120" y="257148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18120" y="260856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554840" y="268308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32520" y="269280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55720" y="280044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662480" y="320652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672560" y="355932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255040" y="435816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07760" y="442080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233800" y="332676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937520" y="321840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234880" y="323244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670040" y="326196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661400" y="320652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731240" y="325008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710000" y="33188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723680" y="327996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754280" y="328968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785600" y="335736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36720" y="337644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93240" y="337536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897560" y="336852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933200" y="338040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909800" y="330660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022840" y="330876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44960" y="336636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304720" y="340812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2373840" y="341532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012040" y="3419280"/>
                  <a:ext cx="72684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2017440" y="341820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300040" y="400572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27320" y="382572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95920" y="366732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872000" y="352044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878840" y="350352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79000" y="421020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070720" y="380304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105640" y="386892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175480" y="4383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108520" y="438264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13480" y="320544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84760" y="320544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15360" y="320544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146320" y="320544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061000" y="320544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902520" y="1542960"/>
            <a:ext cx="1812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Internation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541680" y="2082960"/>
            <a:ext cx="1805040" cy="2280600"/>
            <a:chOff x="3541680" y="2082960"/>
            <a:chExt cx="1805040" cy="2280600"/>
          </a:xfrm>
        </p:grpSpPr>
        <p:grpSp>
          <p:nvGrpSpPr>
            <p:cNvPr id="832" name=""/>
            <p:cNvGrpSpPr/>
            <p:nvPr/>
          </p:nvGrpSpPr>
          <p:grpSpPr>
            <a:xfrm>
              <a:off x="3541680" y="2082960"/>
              <a:ext cx="1760400" cy="2280600"/>
              <a:chOff x="3541680" y="2082960"/>
              <a:chExt cx="1760400" cy="228060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3541680" y="2082960"/>
                <a:ext cx="1752480" cy="2280600"/>
                <a:chOff x="3541680" y="2082960"/>
                <a:chExt cx="1752480" cy="2280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4642200" y="3250800"/>
                  <a:ext cx="6480" cy="3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428000" y="303192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56" h="14">
                      <a:moveTo>
                        <a:pt x="0" y="5"/>
                      </a:moveTo>
                      <a:lnTo>
                        <a:pt x="16" y="14"/>
                      </a:lnTo>
                      <a:lnTo>
                        <a:pt x="34" y="3"/>
                      </a:lnTo>
                      <a:lnTo>
                        <a:pt x="48" y="0"/>
                      </a:lnTo>
                      <a:lnTo>
                        <a:pt x="56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447800" y="287856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0" y="30"/>
                      </a:moveTo>
                      <a:lnTo>
                        <a:pt x="14" y="1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451040" y="3027960"/>
                  <a:ext cx="9000" cy="13680"/>
                </a:xfrm>
                <a:custGeom>
                  <a:avLst/>
                  <a:gdLst/>
                  <a:ahLst/>
                  <a:rect l="l" t="t" r="r" b="b"/>
                  <a:pathLst>
                    <a:path w="25" h="43">
                      <a:moveTo>
                        <a:pt x="0" y="0"/>
                      </a:moveTo>
                      <a:lnTo>
                        <a:pt x="25" y="17"/>
                      </a:lnTo>
                      <a:lnTo>
                        <a:pt x="21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469040" y="304884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35" h="37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3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490280" y="3059640"/>
                  <a:ext cx="6480" cy="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498920" y="3075480"/>
                  <a:ext cx="10800" cy="118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518000" y="3086640"/>
                  <a:ext cx="8640" cy="108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0"/>
                      </a:moveTo>
                      <a:lnTo>
                        <a:pt x="25" y="9"/>
                      </a:lnTo>
                      <a:lnTo>
                        <a:pt x="13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539960" y="3090600"/>
                  <a:ext cx="64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554360" y="3096720"/>
                  <a:ext cx="16560" cy="3960"/>
                </a:xfrm>
                <a:custGeom>
                  <a:avLst/>
                  <a:gdLst/>
                  <a:ahLst/>
                  <a:rect l="l" t="t" r="r" b="b"/>
                  <a:pathLst>
                    <a:path w="46" h="14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4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386600" y="306360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57" y="0"/>
                      </a:moveTo>
                      <a:lnTo>
                        <a:pt x="52" y="8"/>
                      </a:lnTo>
                      <a:lnTo>
                        <a:pt x="48" y="14"/>
                      </a:lnTo>
                      <a:lnTo>
                        <a:pt x="42" y="18"/>
                      </a:lnTo>
                      <a:lnTo>
                        <a:pt x="34" y="24"/>
                      </a:lnTo>
                      <a:lnTo>
                        <a:pt x="23" y="28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746880" y="2629080"/>
                  <a:ext cx="774000" cy="440640"/>
                </a:xfrm>
                <a:custGeom>
                  <a:avLst/>
                  <a:gdLst/>
                  <a:ahLst/>
                  <a:rect l="l" t="t" r="r" b="b"/>
                  <a:pathLst>
                    <a:path w="2094" h="1329">
                      <a:moveTo>
                        <a:pt x="1544" y="505"/>
                      </a:moveTo>
                      <a:lnTo>
                        <a:pt x="1570" y="514"/>
                      </a:lnTo>
                      <a:lnTo>
                        <a:pt x="1613" y="503"/>
                      </a:lnTo>
                      <a:lnTo>
                        <a:pt x="1694" y="441"/>
                      </a:lnTo>
                      <a:lnTo>
                        <a:pt x="1707" y="421"/>
                      </a:lnTo>
                      <a:lnTo>
                        <a:pt x="1707" y="421"/>
                      </a:lnTo>
                      <a:lnTo>
                        <a:pt x="1695" y="405"/>
                      </a:lnTo>
                      <a:lnTo>
                        <a:pt x="1695" y="405"/>
                      </a:lnTo>
                      <a:lnTo>
                        <a:pt x="1712" y="395"/>
                      </a:lnTo>
                      <a:lnTo>
                        <a:pt x="1753" y="391"/>
                      </a:lnTo>
                      <a:lnTo>
                        <a:pt x="1795" y="370"/>
                      </a:lnTo>
                      <a:lnTo>
                        <a:pt x="1787" y="345"/>
                      </a:lnTo>
                      <a:lnTo>
                        <a:pt x="1789" y="328"/>
                      </a:lnTo>
                      <a:lnTo>
                        <a:pt x="1789" y="328"/>
                      </a:lnTo>
                      <a:lnTo>
                        <a:pt x="1822" y="286"/>
                      </a:lnTo>
                      <a:lnTo>
                        <a:pt x="1931" y="254"/>
                      </a:lnTo>
                      <a:lnTo>
                        <a:pt x="1945" y="235"/>
                      </a:lnTo>
                      <a:lnTo>
                        <a:pt x="1964" y="227"/>
                      </a:lnTo>
                      <a:lnTo>
                        <a:pt x="1963" y="140"/>
                      </a:lnTo>
                      <a:lnTo>
                        <a:pt x="1969" y="114"/>
                      </a:lnTo>
                      <a:lnTo>
                        <a:pt x="1978" y="112"/>
                      </a:lnTo>
                      <a:lnTo>
                        <a:pt x="1988" y="117"/>
                      </a:lnTo>
                      <a:lnTo>
                        <a:pt x="1998" y="114"/>
                      </a:lnTo>
                      <a:lnTo>
                        <a:pt x="2004" y="103"/>
                      </a:lnTo>
                      <a:lnTo>
                        <a:pt x="2025" y="112"/>
                      </a:lnTo>
                      <a:lnTo>
                        <a:pt x="2056" y="177"/>
                      </a:lnTo>
                      <a:lnTo>
                        <a:pt x="2076" y="195"/>
                      </a:lnTo>
                      <a:lnTo>
                        <a:pt x="2089" y="193"/>
                      </a:lnTo>
                      <a:lnTo>
                        <a:pt x="2089" y="192"/>
                      </a:lnTo>
                      <a:lnTo>
                        <a:pt x="2094" y="208"/>
                      </a:lnTo>
                      <a:lnTo>
                        <a:pt x="2081" y="227"/>
                      </a:lnTo>
                      <a:lnTo>
                        <a:pt x="2050" y="255"/>
                      </a:lnTo>
                      <a:lnTo>
                        <a:pt x="2039" y="251"/>
                      </a:lnTo>
                      <a:lnTo>
                        <a:pt x="2034" y="274"/>
                      </a:lnTo>
                      <a:lnTo>
                        <a:pt x="2001" y="304"/>
                      </a:lnTo>
                      <a:lnTo>
                        <a:pt x="2004" y="311"/>
                      </a:lnTo>
                      <a:lnTo>
                        <a:pt x="1994" y="350"/>
                      </a:lnTo>
                      <a:lnTo>
                        <a:pt x="2000" y="361"/>
                      </a:lnTo>
                      <a:lnTo>
                        <a:pt x="1995" y="375"/>
                      </a:lnTo>
                      <a:lnTo>
                        <a:pt x="2009" y="380"/>
                      </a:lnTo>
                      <a:lnTo>
                        <a:pt x="2021" y="399"/>
                      </a:lnTo>
                      <a:lnTo>
                        <a:pt x="2040" y="394"/>
                      </a:lnTo>
                      <a:lnTo>
                        <a:pt x="2035" y="381"/>
                      </a:lnTo>
                      <a:lnTo>
                        <a:pt x="2041" y="399"/>
                      </a:lnTo>
                      <a:lnTo>
                        <a:pt x="2020" y="414"/>
                      </a:lnTo>
                      <a:lnTo>
                        <a:pt x="2016" y="405"/>
                      </a:lnTo>
                      <a:lnTo>
                        <a:pt x="2004" y="419"/>
                      </a:lnTo>
                      <a:lnTo>
                        <a:pt x="1991" y="408"/>
                      </a:lnTo>
                      <a:lnTo>
                        <a:pt x="1990" y="426"/>
                      </a:lnTo>
                      <a:lnTo>
                        <a:pt x="1975" y="440"/>
                      </a:lnTo>
                      <a:lnTo>
                        <a:pt x="1938" y="451"/>
                      </a:lnTo>
                      <a:lnTo>
                        <a:pt x="1906" y="480"/>
                      </a:lnTo>
                      <a:lnTo>
                        <a:pt x="1898" y="500"/>
                      </a:lnTo>
                      <a:lnTo>
                        <a:pt x="1913" y="505"/>
                      </a:lnTo>
                      <a:lnTo>
                        <a:pt x="1906" y="559"/>
                      </a:lnTo>
                      <a:lnTo>
                        <a:pt x="1890" y="580"/>
                      </a:lnTo>
                      <a:lnTo>
                        <a:pt x="1878" y="565"/>
                      </a:lnTo>
                      <a:lnTo>
                        <a:pt x="1863" y="560"/>
                      </a:lnTo>
                      <a:lnTo>
                        <a:pt x="1875" y="584"/>
                      </a:lnTo>
                      <a:lnTo>
                        <a:pt x="1898" y="609"/>
                      </a:lnTo>
                      <a:lnTo>
                        <a:pt x="1883" y="646"/>
                      </a:lnTo>
                      <a:lnTo>
                        <a:pt x="1881" y="673"/>
                      </a:lnTo>
                      <a:lnTo>
                        <a:pt x="1873" y="679"/>
                      </a:lnTo>
                      <a:lnTo>
                        <a:pt x="1876" y="636"/>
                      </a:lnTo>
                      <a:lnTo>
                        <a:pt x="1864" y="638"/>
                      </a:lnTo>
                      <a:lnTo>
                        <a:pt x="1864" y="625"/>
                      </a:lnTo>
                      <a:lnTo>
                        <a:pt x="1847" y="620"/>
                      </a:lnTo>
                      <a:lnTo>
                        <a:pt x="1847" y="564"/>
                      </a:lnTo>
                      <a:lnTo>
                        <a:pt x="1833" y="576"/>
                      </a:lnTo>
                      <a:lnTo>
                        <a:pt x="1829" y="594"/>
                      </a:lnTo>
                      <a:lnTo>
                        <a:pt x="1845" y="633"/>
                      </a:lnTo>
                      <a:lnTo>
                        <a:pt x="1825" y="633"/>
                      </a:lnTo>
                      <a:lnTo>
                        <a:pt x="1852" y="645"/>
                      </a:lnTo>
                      <a:lnTo>
                        <a:pt x="1857" y="683"/>
                      </a:lnTo>
                      <a:lnTo>
                        <a:pt x="1876" y="696"/>
                      </a:lnTo>
                      <a:lnTo>
                        <a:pt x="1894" y="730"/>
                      </a:lnTo>
                      <a:lnTo>
                        <a:pt x="1908" y="745"/>
                      </a:lnTo>
                      <a:lnTo>
                        <a:pt x="1894" y="730"/>
                      </a:lnTo>
                      <a:lnTo>
                        <a:pt x="1883" y="729"/>
                      </a:lnTo>
                      <a:lnTo>
                        <a:pt x="1857" y="746"/>
                      </a:lnTo>
                      <a:lnTo>
                        <a:pt x="1891" y="739"/>
                      </a:lnTo>
                      <a:lnTo>
                        <a:pt x="1896" y="756"/>
                      </a:lnTo>
                      <a:lnTo>
                        <a:pt x="1891" y="770"/>
                      </a:lnTo>
                      <a:lnTo>
                        <a:pt x="1879" y="773"/>
                      </a:lnTo>
                      <a:lnTo>
                        <a:pt x="1863" y="793"/>
                      </a:lnTo>
                      <a:lnTo>
                        <a:pt x="1883" y="789"/>
                      </a:lnTo>
                      <a:lnTo>
                        <a:pt x="1875" y="804"/>
                      </a:lnTo>
                      <a:lnTo>
                        <a:pt x="1852" y="813"/>
                      </a:lnTo>
                      <a:lnTo>
                        <a:pt x="1823" y="851"/>
                      </a:lnTo>
                      <a:lnTo>
                        <a:pt x="1789" y="875"/>
                      </a:lnTo>
                      <a:lnTo>
                        <a:pt x="1770" y="914"/>
                      </a:lnTo>
                      <a:lnTo>
                        <a:pt x="1715" y="971"/>
                      </a:lnTo>
                      <a:lnTo>
                        <a:pt x="1702" y="1024"/>
                      </a:lnTo>
                      <a:lnTo>
                        <a:pt x="1715" y="1074"/>
                      </a:lnTo>
                      <a:lnTo>
                        <a:pt x="1740" y="1120"/>
                      </a:lnTo>
                      <a:lnTo>
                        <a:pt x="1759" y="1143"/>
                      </a:lnTo>
                      <a:lnTo>
                        <a:pt x="1762" y="1160"/>
                      </a:lnTo>
                      <a:lnTo>
                        <a:pt x="1793" y="1214"/>
                      </a:lnTo>
                      <a:lnTo>
                        <a:pt x="1797" y="1273"/>
                      </a:lnTo>
                      <a:lnTo>
                        <a:pt x="1789" y="1300"/>
                      </a:lnTo>
                      <a:lnTo>
                        <a:pt x="1778" y="1309"/>
                      </a:lnTo>
                      <a:lnTo>
                        <a:pt x="1759" y="1315"/>
                      </a:lnTo>
                      <a:lnTo>
                        <a:pt x="1750" y="1296"/>
                      </a:lnTo>
                      <a:lnTo>
                        <a:pt x="1728" y="1281"/>
                      </a:lnTo>
                      <a:lnTo>
                        <a:pt x="1700" y="1240"/>
                      </a:lnTo>
                      <a:lnTo>
                        <a:pt x="1683" y="1224"/>
                      </a:lnTo>
                      <a:lnTo>
                        <a:pt x="1678" y="1209"/>
                      </a:lnTo>
                      <a:lnTo>
                        <a:pt x="1682" y="1183"/>
                      </a:lnTo>
                      <a:lnTo>
                        <a:pt x="1668" y="1189"/>
                      </a:lnTo>
                      <a:lnTo>
                        <a:pt x="1668" y="1150"/>
                      </a:lnTo>
                      <a:lnTo>
                        <a:pt x="1657" y="1128"/>
                      </a:lnTo>
                      <a:lnTo>
                        <a:pt x="1645" y="1124"/>
                      </a:lnTo>
                      <a:lnTo>
                        <a:pt x="1622" y="1098"/>
                      </a:lnTo>
                      <a:lnTo>
                        <a:pt x="1602" y="1083"/>
                      </a:lnTo>
                      <a:lnTo>
                        <a:pt x="1544" y="1110"/>
                      </a:lnTo>
                      <a:lnTo>
                        <a:pt x="1534" y="1090"/>
                      </a:lnTo>
                      <a:lnTo>
                        <a:pt x="1512" y="1086"/>
                      </a:lnTo>
                      <a:lnTo>
                        <a:pt x="1495" y="1074"/>
                      </a:lnTo>
                      <a:lnTo>
                        <a:pt x="1432" y="1088"/>
                      </a:lnTo>
                      <a:lnTo>
                        <a:pt x="1422" y="1071"/>
                      </a:lnTo>
                      <a:lnTo>
                        <a:pt x="1413" y="1086"/>
                      </a:lnTo>
                      <a:lnTo>
                        <a:pt x="1372" y="1084"/>
                      </a:lnTo>
                      <a:lnTo>
                        <a:pt x="1352" y="1098"/>
                      </a:lnTo>
                      <a:lnTo>
                        <a:pt x="1328" y="1088"/>
                      </a:lnTo>
                      <a:lnTo>
                        <a:pt x="1319" y="1109"/>
                      </a:lnTo>
                      <a:lnTo>
                        <a:pt x="1334" y="1113"/>
                      </a:lnTo>
                      <a:lnTo>
                        <a:pt x="1371" y="1106"/>
                      </a:lnTo>
                      <a:lnTo>
                        <a:pt x="1368" y="1118"/>
                      </a:lnTo>
                      <a:lnTo>
                        <a:pt x="1357" y="1128"/>
                      </a:lnTo>
                      <a:lnTo>
                        <a:pt x="1358" y="1135"/>
                      </a:lnTo>
                      <a:lnTo>
                        <a:pt x="1381" y="1150"/>
                      </a:lnTo>
                      <a:lnTo>
                        <a:pt x="1374" y="1158"/>
                      </a:lnTo>
                      <a:lnTo>
                        <a:pt x="1363" y="1148"/>
                      </a:lnTo>
                      <a:lnTo>
                        <a:pt x="1347" y="1144"/>
                      </a:lnTo>
                      <a:lnTo>
                        <a:pt x="1333" y="1154"/>
                      </a:lnTo>
                      <a:lnTo>
                        <a:pt x="1308" y="1160"/>
                      </a:lnTo>
                      <a:lnTo>
                        <a:pt x="1284" y="1156"/>
                      </a:lnTo>
                      <a:lnTo>
                        <a:pt x="1281" y="1140"/>
                      </a:lnTo>
                      <a:lnTo>
                        <a:pt x="1258" y="1124"/>
                      </a:lnTo>
                      <a:lnTo>
                        <a:pt x="1239" y="1138"/>
                      </a:lnTo>
                      <a:lnTo>
                        <a:pt x="1196" y="1128"/>
                      </a:lnTo>
                      <a:lnTo>
                        <a:pt x="1171" y="1133"/>
                      </a:lnTo>
                      <a:lnTo>
                        <a:pt x="1131" y="1149"/>
                      </a:lnTo>
                      <a:lnTo>
                        <a:pt x="1131" y="1129"/>
                      </a:lnTo>
                      <a:lnTo>
                        <a:pt x="1116" y="1138"/>
                      </a:lnTo>
                      <a:lnTo>
                        <a:pt x="1127" y="1158"/>
                      </a:lnTo>
                      <a:lnTo>
                        <a:pt x="1097" y="1183"/>
                      </a:lnTo>
                      <a:lnTo>
                        <a:pt x="1076" y="1188"/>
                      </a:lnTo>
                      <a:lnTo>
                        <a:pt x="1017" y="1239"/>
                      </a:lnTo>
                      <a:lnTo>
                        <a:pt x="1013" y="1263"/>
                      </a:lnTo>
                      <a:lnTo>
                        <a:pt x="1021" y="1289"/>
                      </a:lnTo>
                      <a:lnTo>
                        <a:pt x="1028" y="1329"/>
                      </a:lnTo>
                      <a:lnTo>
                        <a:pt x="1028" y="1329"/>
                      </a:lnTo>
                      <a:lnTo>
                        <a:pt x="976" y="1319"/>
                      </a:lnTo>
                      <a:lnTo>
                        <a:pt x="938" y="1301"/>
                      </a:lnTo>
                      <a:lnTo>
                        <a:pt x="925" y="1275"/>
                      </a:lnTo>
                      <a:lnTo>
                        <a:pt x="915" y="1248"/>
                      </a:lnTo>
                      <a:lnTo>
                        <a:pt x="881" y="1203"/>
                      </a:lnTo>
                      <a:lnTo>
                        <a:pt x="865" y="1163"/>
                      </a:lnTo>
                      <a:lnTo>
                        <a:pt x="837" y="1133"/>
                      </a:lnTo>
                      <a:lnTo>
                        <a:pt x="825" y="1126"/>
                      </a:lnTo>
                      <a:lnTo>
                        <a:pt x="783" y="1126"/>
                      </a:lnTo>
                      <a:lnTo>
                        <a:pt x="758" y="1161"/>
                      </a:lnTo>
                      <a:lnTo>
                        <a:pt x="746" y="1166"/>
                      </a:lnTo>
                      <a:lnTo>
                        <a:pt x="733" y="1160"/>
                      </a:lnTo>
                      <a:lnTo>
                        <a:pt x="695" y="1121"/>
                      </a:lnTo>
                      <a:lnTo>
                        <a:pt x="684" y="1078"/>
                      </a:lnTo>
                      <a:lnTo>
                        <a:pt x="655" y="1050"/>
                      </a:lnTo>
                      <a:lnTo>
                        <a:pt x="627" y="1018"/>
                      </a:lnTo>
                      <a:lnTo>
                        <a:pt x="550" y="1009"/>
                      </a:lnTo>
                      <a:lnTo>
                        <a:pt x="545" y="1024"/>
                      </a:lnTo>
                      <a:lnTo>
                        <a:pt x="532" y="1028"/>
                      </a:lnTo>
                      <a:lnTo>
                        <a:pt x="426" y="1018"/>
                      </a:lnTo>
                      <a:lnTo>
                        <a:pt x="303" y="941"/>
                      </a:lnTo>
                      <a:lnTo>
                        <a:pt x="271" y="918"/>
                      </a:lnTo>
                      <a:lnTo>
                        <a:pt x="180" y="908"/>
                      </a:lnTo>
                      <a:lnTo>
                        <a:pt x="180" y="908"/>
                      </a:lnTo>
                      <a:lnTo>
                        <a:pt x="173" y="855"/>
                      </a:lnTo>
                      <a:lnTo>
                        <a:pt x="155" y="831"/>
                      </a:lnTo>
                      <a:lnTo>
                        <a:pt x="141" y="829"/>
                      </a:lnTo>
                      <a:lnTo>
                        <a:pt x="143" y="810"/>
                      </a:lnTo>
                      <a:lnTo>
                        <a:pt x="129" y="808"/>
                      </a:lnTo>
                      <a:lnTo>
                        <a:pt x="60" y="761"/>
                      </a:lnTo>
                      <a:lnTo>
                        <a:pt x="66" y="735"/>
                      </a:lnTo>
                      <a:lnTo>
                        <a:pt x="45" y="676"/>
                      </a:lnTo>
                      <a:lnTo>
                        <a:pt x="30" y="653"/>
                      </a:lnTo>
                      <a:lnTo>
                        <a:pt x="43" y="619"/>
                      </a:lnTo>
                      <a:lnTo>
                        <a:pt x="30" y="614"/>
                      </a:lnTo>
                      <a:lnTo>
                        <a:pt x="25" y="594"/>
                      </a:lnTo>
                      <a:lnTo>
                        <a:pt x="29" y="571"/>
                      </a:lnTo>
                      <a:lnTo>
                        <a:pt x="41" y="590"/>
                      </a:lnTo>
                      <a:lnTo>
                        <a:pt x="38" y="565"/>
                      </a:lnTo>
                      <a:lnTo>
                        <a:pt x="45" y="559"/>
                      </a:lnTo>
                      <a:lnTo>
                        <a:pt x="35" y="550"/>
                      </a:lnTo>
                      <a:lnTo>
                        <a:pt x="31" y="564"/>
                      </a:lnTo>
                      <a:lnTo>
                        <a:pt x="13" y="551"/>
                      </a:lnTo>
                      <a:lnTo>
                        <a:pt x="23" y="536"/>
                      </a:lnTo>
                      <a:lnTo>
                        <a:pt x="1" y="496"/>
                      </a:lnTo>
                      <a:lnTo>
                        <a:pt x="11" y="456"/>
                      </a:lnTo>
                      <a:lnTo>
                        <a:pt x="0" y="418"/>
                      </a:lnTo>
                      <a:lnTo>
                        <a:pt x="33" y="359"/>
                      </a:lnTo>
                      <a:lnTo>
                        <a:pt x="33" y="311"/>
                      </a:lnTo>
                      <a:lnTo>
                        <a:pt x="39" y="284"/>
                      </a:lnTo>
                      <a:lnTo>
                        <a:pt x="75" y="232"/>
                      </a:lnTo>
                      <a:lnTo>
                        <a:pt x="98" y="182"/>
                      </a:lnTo>
                      <a:lnTo>
                        <a:pt x="110" y="163"/>
                      </a:lnTo>
                      <a:lnTo>
                        <a:pt x="120" y="125"/>
                      </a:lnTo>
                      <a:lnTo>
                        <a:pt x="145" y="135"/>
                      </a:lnTo>
                      <a:lnTo>
                        <a:pt x="124" y="117"/>
                      </a:lnTo>
                      <a:lnTo>
                        <a:pt x="131" y="82"/>
                      </a:lnTo>
                      <a:lnTo>
                        <a:pt x="133" y="14"/>
                      </a:lnTo>
                      <a:lnTo>
                        <a:pt x="141" y="3"/>
                      </a:lnTo>
                      <a:lnTo>
                        <a:pt x="161" y="27"/>
                      </a:lnTo>
                      <a:lnTo>
                        <a:pt x="183" y="35"/>
                      </a:lnTo>
                      <a:lnTo>
                        <a:pt x="195" y="55"/>
                      </a:lnTo>
                      <a:lnTo>
                        <a:pt x="175" y="70"/>
                      </a:lnTo>
                      <a:lnTo>
                        <a:pt x="193" y="68"/>
                      </a:lnTo>
                      <a:lnTo>
                        <a:pt x="191" y="77"/>
                      </a:lnTo>
                      <a:lnTo>
                        <a:pt x="208" y="55"/>
                      </a:lnTo>
                      <a:lnTo>
                        <a:pt x="205" y="30"/>
                      </a:lnTo>
                      <a:lnTo>
                        <a:pt x="214" y="24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409" y="74"/>
                      </a:lnTo>
                      <a:lnTo>
                        <a:pt x="626" y="128"/>
                      </a:lnTo>
                      <a:lnTo>
                        <a:pt x="798" y="157"/>
                      </a:lnTo>
                      <a:lnTo>
                        <a:pt x="965" y="173"/>
                      </a:lnTo>
                      <a:lnTo>
                        <a:pt x="1096" y="177"/>
                      </a:lnTo>
                      <a:lnTo>
                        <a:pt x="1109" y="155"/>
                      </a:lnTo>
                      <a:lnTo>
                        <a:pt x="1122" y="183"/>
                      </a:lnTo>
                      <a:lnTo>
                        <a:pt x="1132" y="189"/>
                      </a:lnTo>
                      <a:lnTo>
                        <a:pt x="1162" y="195"/>
                      </a:lnTo>
                      <a:lnTo>
                        <a:pt x="1183" y="193"/>
                      </a:lnTo>
                      <a:lnTo>
                        <a:pt x="1233" y="220"/>
                      </a:lnTo>
                      <a:lnTo>
                        <a:pt x="1243" y="215"/>
                      </a:lnTo>
                      <a:lnTo>
                        <a:pt x="1284" y="220"/>
                      </a:lnTo>
                      <a:lnTo>
                        <a:pt x="1284" y="220"/>
                      </a:lnTo>
                      <a:lnTo>
                        <a:pt x="1263" y="238"/>
                      </a:lnTo>
                      <a:lnTo>
                        <a:pt x="1212" y="289"/>
                      </a:lnTo>
                      <a:lnTo>
                        <a:pt x="1228" y="289"/>
                      </a:lnTo>
                      <a:lnTo>
                        <a:pt x="1252" y="275"/>
                      </a:lnTo>
                      <a:lnTo>
                        <a:pt x="1268" y="295"/>
                      </a:lnTo>
                      <a:lnTo>
                        <a:pt x="1318" y="266"/>
                      </a:lnTo>
                      <a:lnTo>
                        <a:pt x="1341" y="245"/>
                      </a:lnTo>
                      <a:lnTo>
                        <a:pt x="1358" y="243"/>
                      </a:lnTo>
                      <a:lnTo>
                        <a:pt x="1337" y="261"/>
                      </a:lnTo>
                      <a:lnTo>
                        <a:pt x="1338" y="278"/>
                      </a:lnTo>
                      <a:lnTo>
                        <a:pt x="1362" y="271"/>
                      </a:lnTo>
                      <a:lnTo>
                        <a:pt x="1377" y="291"/>
                      </a:lnTo>
                      <a:lnTo>
                        <a:pt x="1401" y="288"/>
                      </a:lnTo>
                      <a:lnTo>
                        <a:pt x="1428" y="273"/>
                      </a:lnTo>
                      <a:lnTo>
                        <a:pt x="1456" y="265"/>
                      </a:lnTo>
                      <a:lnTo>
                        <a:pt x="1457" y="278"/>
                      </a:lnTo>
                      <a:lnTo>
                        <a:pt x="1476" y="275"/>
                      </a:lnTo>
                      <a:lnTo>
                        <a:pt x="1476" y="275"/>
                      </a:lnTo>
                      <a:lnTo>
                        <a:pt x="1489" y="286"/>
                      </a:lnTo>
                      <a:lnTo>
                        <a:pt x="1488" y="286"/>
                      </a:lnTo>
                      <a:lnTo>
                        <a:pt x="1495" y="301"/>
                      </a:lnTo>
                      <a:lnTo>
                        <a:pt x="1452" y="304"/>
                      </a:lnTo>
                      <a:lnTo>
                        <a:pt x="1393" y="324"/>
                      </a:lnTo>
                      <a:lnTo>
                        <a:pt x="1363" y="384"/>
                      </a:lnTo>
                      <a:lnTo>
                        <a:pt x="1388" y="365"/>
                      </a:lnTo>
                      <a:lnTo>
                        <a:pt x="1372" y="453"/>
                      </a:lnTo>
                      <a:lnTo>
                        <a:pt x="1378" y="503"/>
                      </a:lnTo>
                      <a:lnTo>
                        <a:pt x="1394" y="526"/>
                      </a:lnTo>
                      <a:lnTo>
                        <a:pt x="1409" y="525"/>
                      </a:lnTo>
                      <a:lnTo>
                        <a:pt x="1426" y="514"/>
                      </a:lnTo>
                      <a:lnTo>
                        <a:pt x="1432" y="498"/>
                      </a:lnTo>
                      <a:lnTo>
                        <a:pt x="1434" y="468"/>
                      </a:lnTo>
                      <a:lnTo>
                        <a:pt x="1419" y="404"/>
                      </a:lnTo>
                      <a:lnTo>
                        <a:pt x="1428" y="360"/>
                      </a:lnTo>
                      <a:lnTo>
                        <a:pt x="1453" y="345"/>
                      </a:lnTo>
                      <a:lnTo>
                        <a:pt x="1463" y="319"/>
                      </a:lnTo>
                      <a:lnTo>
                        <a:pt x="1481" y="315"/>
                      </a:lnTo>
                      <a:lnTo>
                        <a:pt x="1514" y="328"/>
                      </a:lnTo>
                      <a:lnTo>
                        <a:pt x="1527" y="344"/>
                      </a:lnTo>
                      <a:lnTo>
                        <a:pt x="1530" y="373"/>
                      </a:lnTo>
                      <a:lnTo>
                        <a:pt x="1515" y="399"/>
                      </a:lnTo>
                      <a:lnTo>
                        <a:pt x="1519" y="416"/>
                      </a:lnTo>
                      <a:lnTo>
                        <a:pt x="1532" y="398"/>
                      </a:lnTo>
                      <a:lnTo>
                        <a:pt x="1547" y="386"/>
                      </a:lnTo>
                      <a:lnTo>
                        <a:pt x="1574" y="433"/>
                      </a:lnTo>
                      <a:lnTo>
                        <a:pt x="1574" y="434"/>
                      </a:lnTo>
                      <a:lnTo>
                        <a:pt x="1557" y="491"/>
                      </a:lnTo>
                      <a:lnTo>
                        <a:pt x="1557" y="490"/>
                      </a:lnTo>
                      <a:lnTo>
                        <a:pt x="1544" y="5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770280" y="2244960"/>
                  <a:ext cx="828360" cy="547200"/>
                </a:xfrm>
                <a:custGeom>
                  <a:avLst/>
                  <a:gdLst/>
                  <a:ahLst/>
                  <a:rect l="l" t="t" r="r" b="b"/>
                  <a:pathLst>
                    <a:path w="2240" h="1649">
                      <a:moveTo>
                        <a:pt x="328" y="0"/>
                      </a:moveTo>
                      <a:lnTo>
                        <a:pt x="347" y="20"/>
                      </a:lnTo>
                      <a:lnTo>
                        <a:pt x="355" y="70"/>
                      </a:lnTo>
                      <a:lnTo>
                        <a:pt x="363" y="95"/>
                      </a:lnTo>
                      <a:lnTo>
                        <a:pt x="380" y="80"/>
                      </a:lnTo>
                      <a:lnTo>
                        <a:pt x="400" y="75"/>
                      </a:lnTo>
                      <a:lnTo>
                        <a:pt x="417" y="83"/>
                      </a:lnTo>
                      <a:lnTo>
                        <a:pt x="422" y="100"/>
                      </a:lnTo>
                      <a:lnTo>
                        <a:pt x="442" y="97"/>
                      </a:lnTo>
                      <a:lnTo>
                        <a:pt x="498" y="100"/>
                      </a:lnTo>
                      <a:lnTo>
                        <a:pt x="492" y="121"/>
                      </a:lnTo>
                      <a:lnTo>
                        <a:pt x="510" y="123"/>
                      </a:lnTo>
                      <a:lnTo>
                        <a:pt x="532" y="103"/>
                      </a:lnTo>
                      <a:lnTo>
                        <a:pt x="538" y="137"/>
                      </a:lnTo>
                      <a:lnTo>
                        <a:pt x="532" y="163"/>
                      </a:lnTo>
                      <a:lnTo>
                        <a:pt x="542" y="178"/>
                      </a:lnTo>
                      <a:lnTo>
                        <a:pt x="570" y="160"/>
                      </a:lnTo>
                      <a:lnTo>
                        <a:pt x="557" y="186"/>
                      </a:lnTo>
                      <a:lnTo>
                        <a:pt x="568" y="196"/>
                      </a:lnTo>
                      <a:lnTo>
                        <a:pt x="588" y="178"/>
                      </a:lnTo>
                      <a:lnTo>
                        <a:pt x="613" y="192"/>
                      </a:lnTo>
                      <a:lnTo>
                        <a:pt x="623" y="217"/>
                      </a:lnTo>
                      <a:lnTo>
                        <a:pt x="642" y="238"/>
                      </a:lnTo>
                      <a:lnTo>
                        <a:pt x="660" y="258"/>
                      </a:lnTo>
                      <a:lnTo>
                        <a:pt x="684" y="270"/>
                      </a:lnTo>
                      <a:lnTo>
                        <a:pt x="703" y="291"/>
                      </a:lnTo>
                      <a:lnTo>
                        <a:pt x="706" y="313"/>
                      </a:lnTo>
                      <a:lnTo>
                        <a:pt x="686" y="313"/>
                      </a:lnTo>
                      <a:lnTo>
                        <a:pt x="674" y="328"/>
                      </a:lnTo>
                      <a:lnTo>
                        <a:pt x="697" y="336"/>
                      </a:lnTo>
                      <a:lnTo>
                        <a:pt x="716" y="350"/>
                      </a:lnTo>
                      <a:lnTo>
                        <a:pt x="769" y="350"/>
                      </a:lnTo>
                      <a:lnTo>
                        <a:pt x="804" y="378"/>
                      </a:lnTo>
                      <a:lnTo>
                        <a:pt x="816" y="360"/>
                      </a:lnTo>
                      <a:lnTo>
                        <a:pt x="797" y="343"/>
                      </a:lnTo>
                      <a:lnTo>
                        <a:pt x="813" y="330"/>
                      </a:lnTo>
                      <a:lnTo>
                        <a:pt x="863" y="325"/>
                      </a:lnTo>
                      <a:lnTo>
                        <a:pt x="878" y="353"/>
                      </a:lnTo>
                      <a:lnTo>
                        <a:pt x="928" y="392"/>
                      </a:lnTo>
                      <a:lnTo>
                        <a:pt x="958" y="405"/>
                      </a:lnTo>
                      <a:lnTo>
                        <a:pt x="983" y="402"/>
                      </a:lnTo>
                      <a:lnTo>
                        <a:pt x="987" y="372"/>
                      </a:lnTo>
                      <a:lnTo>
                        <a:pt x="1001" y="357"/>
                      </a:lnTo>
                      <a:lnTo>
                        <a:pt x="974" y="333"/>
                      </a:lnTo>
                      <a:lnTo>
                        <a:pt x="993" y="318"/>
                      </a:lnTo>
                      <a:lnTo>
                        <a:pt x="1007" y="296"/>
                      </a:lnTo>
                      <a:lnTo>
                        <a:pt x="1032" y="322"/>
                      </a:lnTo>
                      <a:lnTo>
                        <a:pt x="1045" y="351"/>
                      </a:lnTo>
                      <a:lnTo>
                        <a:pt x="1021" y="368"/>
                      </a:lnTo>
                      <a:lnTo>
                        <a:pt x="1021" y="397"/>
                      </a:lnTo>
                      <a:lnTo>
                        <a:pt x="1039" y="412"/>
                      </a:lnTo>
                      <a:lnTo>
                        <a:pt x="1045" y="390"/>
                      </a:lnTo>
                      <a:lnTo>
                        <a:pt x="1052" y="388"/>
                      </a:lnTo>
                      <a:lnTo>
                        <a:pt x="1069" y="363"/>
                      </a:lnTo>
                      <a:lnTo>
                        <a:pt x="1063" y="338"/>
                      </a:lnTo>
                      <a:lnTo>
                        <a:pt x="1074" y="318"/>
                      </a:lnTo>
                      <a:lnTo>
                        <a:pt x="1045" y="297"/>
                      </a:lnTo>
                      <a:lnTo>
                        <a:pt x="1029" y="267"/>
                      </a:lnTo>
                      <a:lnTo>
                        <a:pt x="1045" y="213"/>
                      </a:lnTo>
                      <a:lnTo>
                        <a:pt x="1058" y="201"/>
                      </a:lnTo>
                      <a:lnTo>
                        <a:pt x="1060" y="156"/>
                      </a:lnTo>
                      <a:lnTo>
                        <a:pt x="1052" y="111"/>
                      </a:lnTo>
                      <a:lnTo>
                        <a:pt x="1058" y="90"/>
                      </a:lnTo>
                      <a:lnTo>
                        <a:pt x="1087" y="81"/>
                      </a:lnTo>
                      <a:lnTo>
                        <a:pt x="1129" y="97"/>
                      </a:lnTo>
                      <a:lnTo>
                        <a:pt x="1107" y="152"/>
                      </a:lnTo>
                      <a:lnTo>
                        <a:pt x="1088" y="152"/>
                      </a:lnTo>
                      <a:lnTo>
                        <a:pt x="1075" y="160"/>
                      </a:lnTo>
                      <a:lnTo>
                        <a:pt x="1083" y="177"/>
                      </a:lnTo>
                      <a:lnTo>
                        <a:pt x="1073" y="193"/>
                      </a:lnTo>
                      <a:lnTo>
                        <a:pt x="1120" y="280"/>
                      </a:lnTo>
                      <a:lnTo>
                        <a:pt x="1102" y="302"/>
                      </a:lnTo>
                      <a:lnTo>
                        <a:pt x="1123" y="312"/>
                      </a:lnTo>
                      <a:lnTo>
                        <a:pt x="1150" y="357"/>
                      </a:lnTo>
                      <a:lnTo>
                        <a:pt x="1167" y="323"/>
                      </a:lnTo>
                      <a:lnTo>
                        <a:pt x="1185" y="346"/>
                      </a:lnTo>
                      <a:lnTo>
                        <a:pt x="1187" y="391"/>
                      </a:lnTo>
                      <a:lnTo>
                        <a:pt x="1207" y="418"/>
                      </a:lnTo>
                      <a:lnTo>
                        <a:pt x="1219" y="410"/>
                      </a:lnTo>
                      <a:lnTo>
                        <a:pt x="1218" y="388"/>
                      </a:lnTo>
                      <a:lnTo>
                        <a:pt x="1237" y="370"/>
                      </a:lnTo>
                      <a:lnTo>
                        <a:pt x="1223" y="287"/>
                      </a:lnTo>
                      <a:lnTo>
                        <a:pt x="1244" y="285"/>
                      </a:lnTo>
                      <a:lnTo>
                        <a:pt x="1269" y="287"/>
                      </a:lnTo>
                      <a:lnTo>
                        <a:pt x="1274" y="305"/>
                      </a:lnTo>
                      <a:lnTo>
                        <a:pt x="1300" y="306"/>
                      </a:lnTo>
                      <a:lnTo>
                        <a:pt x="1307" y="336"/>
                      </a:lnTo>
                      <a:lnTo>
                        <a:pt x="1289" y="352"/>
                      </a:lnTo>
                      <a:lnTo>
                        <a:pt x="1294" y="377"/>
                      </a:lnTo>
                      <a:lnTo>
                        <a:pt x="1320" y="385"/>
                      </a:lnTo>
                      <a:lnTo>
                        <a:pt x="1323" y="415"/>
                      </a:lnTo>
                      <a:lnTo>
                        <a:pt x="1283" y="463"/>
                      </a:lnTo>
                      <a:lnTo>
                        <a:pt x="1255" y="458"/>
                      </a:lnTo>
                      <a:lnTo>
                        <a:pt x="1244" y="448"/>
                      </a:lnTo>
                      <a:lnTo>
                        <a:pt x="1220" y="455"/>
                      </a:lnTo>
                      <a:lnTo>
                        <a:pt x="1238" y="470"/>
                      </a:lnTo>
                      <a:lnTo>
                        <a:pt x="1220" y="505"/>
                      </a:lnTo>
                      <a:lnTo>
                        <a:pt x="1224" y="530"/>
                      </a:lnTo>
                      <a:lnTo>
                        <a:pt x="1195" y="582"/>
                      </a:lnTo>
                      <a:lnTo>
                        <a:pt x="1163" y="585"/>
                      </a:lnTo>
                      <a:lnTo>
                        <a:pt x="1150" y="615"/>
                      </a:lnTo>
                      <a:lnTo>
                        <a:pt x="1154" y="638"/>
                      </a:lnTo>
                      <a:lnTo>
                        <a:pt x="1110" y="657"/>
                      </a:lnTo>
                      <a:lnTo>
                        <a:pt x="1110" y="682"/>
                      </a:lnTo>
                      <a:lnTo>
                        <a:pt x="1094" y="691"/>
                      </a:lnTo>
                      <a:lnTo>
                        <a:pt x="1070" y="737"/>
                      </a:lnTo>
                      <a:lnTo>
                        <a:pt x="1058" y="777"/>
                      </a:lnTo>
                      <a:lnTo>
                        <a:pt x="1055" y="832"/>
                      </a:lnTo>
                      <a:lnTo>
                        <a:pt x="1064" y="853"/>
                      </a:lnTo>
                      <a:lnTo>
                        <a:pt x="1082" y="848"/>
                      </a:lnTo>
                      <a:lnTo>
                        <a:pt x="1099" y="853"/>
                      </a:lnTo>
                      <a:lnTo>
                        <a:pt x="1112" y="881"/>
                      </a:lnTo>
                      <a:lnTo>
                        <a:pt x="1112" y="902"/>
                      </a:lnTo>
                      <a:lnTo>
                        <a:pt x="1120" y="922"/>
                      </a:lnTo>
                      <a:lnTo>
                        <a:pt x="1123" y="940"/>
                      </a:lnTo>
                      <a:lnTo>
                        <a:pt x="1158" y="921"/>
                      </a:lnTo>
                      <a:lnTo>
                        <a:pt x="1242" y="956"/>
                      </a:lnTo>
                      <a:lnTo>
                        <a:pt x="1260" y="976"/>
                      </a:lnTo>
                      <a:lnTo>
                        <a:pt x="1304" y="987"/>
                      </a:lnTo>
                      <a:lnTo>
                        <a:pt x="1335" y="1005"/>
                      </a:lnTo>
                      <a:lnTo>
                        <a:pt x="1393" y="996"/>
                      </a:lnTo>
                      <a:lnTo>
                        <a:pt x="1418" y="1005"/>
                      </a:lnTo>
                      <a:lnTo>
                        <a:pt x="1418" y="1042"/>
                      </a:lnTo>
                      <a:lnTo>
                        <a:pt x="1429" y="1061"/>
                      </a:lnTo>
                      <a:lnTo>
                        <a:pt x="1431" y="1107"/>
                      </a:lnTo>
                      <a:lnTo>
                        <a:pt x="1491" y="1155"/>
                      </a:lnTo>
                      <a:lnTo>
                        <a:pt x="1505" y="1173"/>
                      </a:lnTo>
                      <a:lnTo>
                        <a:pt x="1529" y="1186"/>
                      </a:lnTo>
                      <a:lnTo>
                        <a:pt x="1523" y="1171"/>
                      </a:lnTo>
                      <a:lnTo>
                        <a:pt x="1545" y="1148"/>
                      </a:lnTo>
                      <a:lnTo>
                        <a:pt x="1556" y="1121"/>
                      </a:lnTo>
                      <a:lnTo>
                        <a:pt x="1539" y="1100"/>
                      </a:lnTo>
                      <a:lnTo>
                        <a:pt x="1524" y="1047"/>
                      </a:lnTo>
                      <a:lnTo>
                        <a:pt x="1499" y="1010"/>
                      </a:lnTo>
                      <a:lnTo>
                        <a:pt x="1535" y="972"/>
                      </a:lnTo>
                      <a:lnTo>
                        <a:pt x="1558" y="922"/>
                      </a:lnTo>
                      <a:lnTo>
                        <a:pt x="1550" y="890"/>
                      </a:lnTo>
                      <a:lnTo>
                        <a:pt x="1510" y="820"/>
                      </a:lnTo>
                      <a:lnTo>
                        <a:pt x="1493" y="815"/>
                      </a:lnTo>
                      <a:lnTo>
                        <a:pt x="1474" y="802"/>
                      </a:lnTo>
                      <a:lnTo>
                        <a:pt x="1473" y="786"/>
                      </a:lnTo>
                      <a:lnTo>
                        <a:pt x="1488" y="776"/>
                      </a:lnTo>
                      <a:lnTo>
                        <a:pt x="1495" y="753"/>
                      </a:lnTo>
                      <a:lnTo>
                        <a:pt x="1480" y="710"/>
                      </a:lnTo>
                      <a:lnTo>
                        <a:pt x="1464" y="701"/>
                      </a:lnTo>
                      <a:lnTo>
                        <a:pt x="1468" y="657"/>
                      </a:lnTo>
                      <a:lnTo>
                        <a:pt x="1450" y="648"/>
                      </a:lnTo>
                      <a:lnTo>
                        <a:pt x="1445" y="628"/>
                      </a:lnTo>
                      <a:lnTo>
                        <a:pt x="1458" y="613"/>
                      </a:lnTo>
                      <a:lnTo>
                        <a:pt x="1505" y="613"/>
                      </a:lnTo>
                      <a:lnTo>
                        <a:pt x="1543" y="591"/>
                      </a:lnTo>
                      <a:lnTo>
                        <a:pt x="1605" y="615"/>
                      </a:lnTo>
                      <a:lnTo>
                        <a:pt x="1606" y="633"/>
                      </a:lnTo>
                      <a:lnTo>
                        <a:pt x="1629" y="637"/>
                      </a:lnTo>
                      <a:lnTo>
                        <a:pt x="1664" y="628"/>
                      </a:lnTo>
                      <a:lnTo>
                        <a:pt x="1668" y="650"/>
                      </a:lnTo>
                      <a:lnTo>
                        <a:pt x="1681" y="667"/>
                      </a:lnTo>
                      <a:lnTo>
                        <a:pt x="1694" y="707"/>
                      </a:lnTo>
                      <a:lnTo>
                        <a:pt x="1714" y="722"/>
                      </a:lnTo>
                      <a:lnTo>
                        <a:pt x="1730" y="720"/>
                      </a:lnTo>
                      <a:lnTo>
                        <a:pt x="1758" y="741"/>
                      </a:lnTo>
                      <a:lnTo>
                        <a:pt x="1776" y="717"/>
                      </a:lnTo>
                      <a:lnTo>
                        <a:pt x="1778" y="700"/>
                      </a:lnTo>
                      <a:lnTo>
                        <a:pt x="1790" y="680"/>
                      </a:lnTo>
                      <a:lnTo>
                        <a:pt x="1793" y="656"/>
                      </a:lnTo>
                      <a:lnTo>
                        <a:pt x="1776" y="643"/>
                      </a:lnTo>
                      <a:lnTo>
                        <a:pt x="1784" y="607"/>
                      </a:lnTo>
                      <a:lnTo>
                        <a:pt x="1892" y="687"/>
                      </a:lnTo>
                      <a:lnTo>
                        <a:pt x="1912" y="696"/>
                      </a:lnTo>
                      <a:lnTo>
                        <a:pt x="1920" y="710"/>
                      </a:lnTo>
                      <a:lnTo>
                        <a:pt x="1937" y="716"/>
                      </a:lnTo>
                      <a:lnTo>
                        <a:pt x="1936" y="736"/>
                      </a:lnTo>
                      <a:lnTo>
                        <a:pt x="1949" y="760"/>
                      </a:lnTo>
                      <a:lnTo>
                        <a:pt x="1965" y="768"/>
                      </a:lnTo>
                      <a:lnTo>
                        <a:pt x="1994" y="768"/>
                      </a:lnTo>
                      <a:lnTo>
                        <a:pt x="2007" y="786"/>
                      </a:lnTo>
                      <a:lnTo>
                        <a:pt x="2037" y="773"/>
                      </a:lnTo>
                      <a:lnTo>
                        <a:pt x="2052" y="783"/>
                      </a:lnTo>
                      <a:lnTo>
                        <a:pt x="2080" y="775"/>
                      </a:lnTo>
                      <a:lnTo>
                        <a:pt x="2099" y="777"/>
                      </a:lnTo>
                      <a:lnTo>
                        <a:pt x="2086" y="806"/>
                      </a:lnTo>
                      <a:lnTo>
                        <a:pt x="2114" y="793"/>
                      </a:lnTo>
                      <a:lnTo>
                        <a:pt x="2126" y="811"/>
                      </a:lnTo>
                      <a:lnTo>
                        <a:pt x="2145" y="800"/>
                      </a:lnTo>
                      <a:lnTo>
                        <a:pt x="2176" y="811"/>
                      </a:lnTo>
                      <a:lnTo>
                        <a:pt x="2182" y="832"/>
                      </a:lnTo>
                      <a:lnTo>
                        <a:pt x="2208" y="856"/>
                      </a:lnTo>
                      <a:lnTo>
                        <a:pt x="2193" y="902"/>
                      </a:lnTo>
                      <a:lnTo>
                        <a:pt x="2169" y="922"/>
                      </a:lnTo>
                      <a:lnTo>
                        <a:pt x="2151" y="947"/>
                      </a:lnTo>
                      <a:lnTo>
                        <a:pt x="2139" y="1015"/>
                      </a:lnTo>
                      <a:lnTo>
                        <a:pt x="2092" y="1042"/>
                      </a:lnTo>
                      <a:lnTo>
                        <a:pt x="2074" y="1042"/>
                      </a:lnTo>
                      <a:lnTo>
                        <a:pt x="2019" y="1065"/>
                      </a:lnTo>
                      <a:lnTo>
                        <a:pt x="1961" y="1093"/>
                      </a:lnTo>
                      <a:lnTo>
                        <a:pt x="1942" y="1111"/>
                      </a:lnTo>
                      <a:lnTo>
                        <a:pt x="1936" y="1132"/>
                      </a:lnTo>
                      <a:lnTo>
                        <a:pt x="1937" y="1153"/>
                      </a:lnTo>
                      <a:lnTo>
                        <a:pt x="1917" y="1161"/>
                      </a:lnTo>
                      <a:lnTo>
                        <a:pt x="1892" y="1212"/>
                      </a:lnTo>
                      <a:lnTo>
                        <a:pt x="1857" y="1317"/>
                      </a:lnTo>
                      <a:lnTo>
                        <a:pt x="1877" y="1301"/>
                      </a:lnTo>
                      <a:lnTo>
                        <a:pt x="1900" y="1235"/>
                      </a:lnTo>
                      <a:lnTo>
                        <a:pt x="1912" y="1213"/>
                      </a:lnTo>
                      <a:lnTo>
                        <a:pt x="1961" y="1158"/>
                      </a:lnTo>
                      <a:lnTo>
                        <a:pt x="2002" y="1132"/>
                      </a:lnTo>
                      <a:lnTo>
                        <a:pt x="2026" y="1131"/>
                      </a:lnTo>
                      <a:lnTo>
                        <a:pt x="2042" y="1138"/>
                      </a:lnTo>
                      <a:lnTo>
                        <a:pt x="2049" y="1153"/>
                      </a:lnTo>
                      <a:lnTo>
                        <a:pt x="2024" y="1188"/>
                      </a:lnTo>
                      <a:lnTo>
                        <a:pt x="1992" y="1201"/>
                      </a:lnTo>
                      <a:lnTo>
                        <a:pt x="2024" y="1217"/>
                      </a:lnTo>
                      <a:lnTo>
                        <a:pt x="2045" y="1198"/>
                      </a:lnTo>
                      <a:lnTo>
                        <a:pt x="2049" y="1220"/>
                      </a:lnTo>
                      <a:lnTo>
                        <a:pt x="2062" y="1246"/>
                      </a:lnTo>
                      <a:lnTo>
                        <a:pt x="2082" y="1266"/>
                      </a:lnTo>
                      <a:lnTo>
                        <a:pt x="2136" y="1271"/>
                      </a:lnTo>
                      <a:lnTo>
                        <a:pt x="2159" y="1266"/>
                      </a:lnTo>
                      <a:lnTo>
                        <a:pt x="2175" y="1248"/>
                      </a:lnTo>
                      <a:lnTo>
                        <a:pt x="2192" y="1246"/>
                      </a:lnTo>
                      <a:lnTo>
                        <a:pt x="2184" y="1226"/>
                      </a:lnTo>
                      <a:lnTo>
                        <a:pt x="2192" y="1173"/>
                      </a:lnTo>
                      <a:lnTo>
                        <a:pt x="2202" y="1177"/>
                      </a:lnTo>
                      <a:lnTo>
                        <a:pt x="2212" y="1203"/>
                      </a:lnTo>
                      <a:lnTo>
                        <a:pt x="2240" y="1207"/>
                      </a:lnTo>
                      <a:lnTo>
                        <a:pt x="2230" y="1232"/>
                      </a:lnTo>
                      <a:lnTo>
                        <a:pt x="2213" y="1251"/>
                      </a:lnTo>
                      <a:lnTo>
                        <a:pt x="2215" y="1270"/>
                      </a:lnTo>
                      <a:lnTo>
                        <a:pt x="2149" y="1337"/>
                      </a:lnTo>
                      <a:lnTo>
                        <a:pt x="2131" y="1345"/>
                      </a:lnTo>
                      <a:lnTo>
                        <a:pt x="2126" y="1365"/>
                      </a:lnTo>
                      <a:lnTo>
                        <a:pt x="2105" y="1411"/>
                      </a:lnTo>
                      <a:lnTo>
                        <a:pt x="2082" y="1406"/>
                      </a:lnTo>
                      <a:lnTo>
                        <a:pt x="2070" y="1387"/>
                      </a:lnTo>
                      <a:lnTo>
                        <a:pt x="2071" y="1365"/>
                      </a:lnTo>
                      <a:lnTo>
                        <a:pt x="2111" y="1301"/>
                      </a:lnTo>
                      <a:lnTo>
                        <a:pt x="2090" y="1315"/>
                      </a:lnTo>
                      <a:lnTo>
                        <a:pt x="2086" y="1297"/>
                      </a:lnTo>
                      <a:lnTo>
                        <a:pt x="2069" y="1323"/>
                      </a:lnTo>
                      <a:lnTo>
                        <a:pt x="2049" y="1340"/>
                      </a:lnTo>
                      <a:lnTo>
                        <a:pt x="2025" y="1350"/>
                      </a:lnTo>
                      <a:lnTo>
                        <a:pt x="2025" y="1351"/>
                      </a:lnTo>
                      <a:lnTo>
                        <a:pt x="2012" y="1353"/>
                      </a:lnTo>
                      <a:lnTo>
                        <a:pt x="1992" y="1335"/>
                      </a:lnTo>
                      <a:lnTo>
                        <a:pt x="1961" y="1270"/>
                      </a:lnTo>
                      <a:lnTo>
                        <a:pt x="1940" y="1261"/>
                      </a:lnTo>
                      <a:lnTo>
                        <a:pt x="1934" y="1272"/>
                      </a:lnTo>
                      <a:lnTo>
                        <a:pt x="1924" y="1275"/>
                      </a:lnTo>
                      <a:lnTo>
                        <a:pt x="1914" y="1270"/>
                      </a:lnTo>
                      <a:lnTo>
                        <a:pt x="1905" y="1272"/>
                      </a:lnTo>
                      <a:lnTo>
                        <a:pt x="1899" y="1298"/>
                      </a:lnTo>
                      <a:lnTo>
                        <a:pt x="1900" y="1385"/>
                      </a:lnTo>
                      <a:lnTo>
                        <a:pt x="1881" y="1393"/>
                      </a:lnTo>
                      <a:lnTo>
                        <a:pt x="1867" y="1412"/>
                      </a:lnTo>
                      <a:lnTo>
                        <a:pt x="1758" y="1444"/>
                      </a:lnTo>
                      <a:lnTo>
                        <a:pt x="1725" y="1486"/>
                      </a:lnTo>
                      <a:lnTo>
                        <a:pt x="1725" y="1486"/>
                      </a:lnTo>
                      <a:lnTo>
                        <a:pt x="1706" y="1498"/>
                      </a:lnTo>
                      <a:lnTo>
                        <a:pt x="1698" y="1513"/>
                      </a:lnTo>
                      <a:lnTo>
                        <a:pt x="1673" y="1516"/>
                      </a:lnTo>
                      <a:lnTo>
                        <a:pt x="1613" y="1543"/>
                      </a:lnTo>
                      <a:lnTo>
                        <a:pt x="1605" y="1566"/>
                      </a:lnTo>
                      <a:lnTo>
                        <a:pt x="1624" y="1568"/>
                      </a:lnTo>
                      <a:lnTo>
                        <a:pt x="1631" y="1563"/>
                      </a:lnTo>
                      <a:lnTo>
                        <a:pt x="1631" y="1563"/>
                      </a:lnTo>
                      <a:lnTo>
                        <a:pt x="1643" y="1579"/>
                      </a:lnTo>
                      <a:lnTo>
                        <a:pt x="1643" y="1579"/>
                      </a:lnTo>
                      <a:lnTo>
                        <a:pt x="1594" y="1589"/>
                      </a:lnTo>
                      <a:lnTo>
                        <a:pt x="1585" y="1604"/>
                      </a:lnTo>
                      <a:lnTo>
                        <a:pt x="1568" y="1603"/>
                      </a:lnTo>
                      <a:lnTo>
                        <a:pt x="1548" y="1611"/>
                      </a:lnTo>
                      <a:lnTo>
                        <a:pt x="1538" y="1629"/>
                      </a:lnTo>
                      <a:lnTo>
                        <a:pt x="1514" y="1644"/>
                      </a:lnTo>
                      <a:lnTo>
                        <a:pt x="1493" y="1648"/>
                      </a:lnTo>
                      <a:lnTo>
                        <a:pt x="1493" y="1649"/>
                      </a:lnTo>
                      <a:lnTo>
                        <a:pt x="1510" y="1592"/>
                      </a:lnTo>
                      <a:lnTo>
                        <a:pt x="1510" y="1591"/>
                      </a:lnTo>
                      <a:lnTo>
                        <a:pt x="1531" y="1576"/>
                      </a:lnTo>
                      <a:lnTo>
                        <a:pt x="1526" y="1546"/>
                      </a:lnTo>
                      <a:lnTo>
                        <a:pt x="1535" y="1498"/>
                      </a:lnTo>
                      <a:lnTo>
                        <a:pt x="1525" y="1483"/>
                      </a:lnTo>
                      <a:lnTo>
                        <a:pt x="1550" y="1499"/>
                      </a:lnTo>
                      <a:lnTo>
                        <a:pt x="1581" y="1508"/>
                      </a:lnTo>
                      <a:lnTo>
                        <a:pt x="1591" y="1489"/>
                      </a:lnTo>
                      <a:lnTo>
                        <a:pt x="1545" y="1442"/>
                      </a:lnTo>
                      <a:lnTo>
                        <a:pt x="1488" y="1438"/>
                      </a:lnTo>
                      <a:lnTo>
                        <a:pt x="1424" y="1444"/>
                      </a:lnTo>
                      <a:lnTo>
                        <a:pt x="1425" y="1444"/>
                      </a:lnTo>
                      <a:lnTo>
                        <a:pt x="1412" y="1433"/>
                      </a:lnTo>
                      <a:lnTo>
                        <a:pt x="1412" y="1433"/>
                      </a:lnTo>
                      <a:lnTo>
                        <a:pt x="1399" y="1413"/>
                      </a:lnTo>
                      <a:lnTo>
                        <a:pt x="1399" y="1393"/>
                      </a:lnTo>
                      <a:lnTo>
                        <a:pt x="1387" y="1383"/>
                      </a:lnTo>
                      <a:lnTo>
                        <a:pt x="1385" y="1366"/>
                      </a:lnTo>
                      <a:lnTo>
                        <a:pt x="1360" y="1370"/>
                      </a:lnTo>
                      <a:lnTo>
                        <a:pt x="1343" y="1353"/>
                      </a:lnTo>
                      <a:lnTo>
                        <a:pt x="1329" y="1331"/>
                      </a:lnTo>
                      <a:lnTo>
                        <a:pt x="1302" y="1333"/>
                      </a:lnTo>
                      <a:lnTo>
                        <a:pt x="1275" y="1325"/>
                      </a:lnTo>
                      <a:lnTo>
                        <a:pt x="1267" y="1341"/>
                      </a:lnTo>
                      <a:lnTo>
                        <a:pt x="1244" y="1356"/>
                      </a:lnTo>
                      <a:lnTo>
                        <a:pt x="1220" y="1378"/>
                      </a:lnTo>
                      <a:lnTo>
                        <a:pt x="1220" y="1378"/>
                      </a:lnTo>
                      <a:lnTo>
                        <a:pt x="1179" y="1373"/>
                      </a:lnTo>
                      <a:lnTo>
                        <a:pt x="1169" y="1378"/>
                      </a:lnTo>
                      <a:lnTo>
                        <a:pt x="1119" y="1351"/>
                      </a:lnTo>
                      <a:lnTo>
                        <a:pt x="1098" y="1353"/>
                      </a:lnTo>
                      <a:lnTo>
                        <a:pt x="1068" y="1347"/>
                      </a:lnTo>
                      <a:lnTo>
                        <a:pt x="1058" y="1341"/>
                      </a:lnTo>
                      <a:lnTo>
                        <a:pt x="1045" y="1313"/>
                      </a:lnTo>
                      <a:lnTo>
                        <a:pt x="1032" y="1335"/>
                      </a:lnTo>
                      <a:lnTo>
                        <a:pt x="901" y="1331"/>
                      </a:lnTo>
                      <a:lnTo>
                        <a:pt x="734" y="1315"/>
                      </a:lnTo>
                      <a:lnTo>
                        <a:pt x="562" y="1286"/>
                      </a:lnTo>
                      <a:lnTo>
                        <a:pt x="345" y="1232"/>
                      </a:lnTo>
                      <a:lnTo>
                        <a:pt x="149" y="1158"/>
                      </a:lnTo>
                      <a:lnTo>
                        <a:pt x="147" y="1158"/>
                      </a:lnTo>
                      <a:lnTo>
                        <a:pt x="140" y="1141"/>
                      </a:lnTo>
                      <a:lnTo>
                        <a:pt x="149" y="1116"/>
                      </a:lnTo>
                      <a:lnTo>
                        <a:pt x="127" y="1121"/>
                      </a:lnTo>
                      <a:lnTo>
                        <a:pt x="92" y="1052"/>
                      </a:lnTo>
                      <a:lnTo>
                        <a:pt x="60" y="1010"/>
                      </a:lnTo>
                      <a:lnTo>
                        <a:pt x="46" y="982"/>
                      </a:lnTo>
                      <a:lnTo>
                        <a:pt x="54" y="967"/>
                      </a:lnTo>
                      <a:lnTo>
                        <a:pt x="49" y="946"/>
                      </a:lnTo>
                      <a:lnTo>
                        <a:pt x="54" y="918"/>
                      </a:lnTo>
                      <a:lnTo>
                        <a:pt x="40" y="893"/>
                      </a:lnTo>
                      <a:lnTo>
                        <a:pt x="37" y="857"/>
                      </a:lnTo>
                      <a:lnTo>
                        <a:pt x="30" y="836"/>
                      </a:lnTo>
                      <a:lnTo>
                        <a:pt x="31" y="807"/>
                      </a:lnTo>
                      <a:lnTo>
                        <a:pt x="54" y="803"/>
                      </a:lnTo>
                      <a:lnTo>
                        <a:pt x="54" y="788"/>
                      </a:lnTo>
                      <a:lnTo>
                        <a:pt x="79" y="763"/>
                      </a:lnTo>
                      <a:lnTo>
                        <a:pt x="104" y="717"/>
                      </a:lnTo>
                      <a:lnTo>
                        <a:pt x="74" y="663"/>
                      </a:lnTo>
                      <a:lnTo>
                        <a:pt x="90" y="543"/>
                      </a:lnTo>
                      <a:lnTo>
                        <a:pt x="84" y="525"/>
                      </a:lnTo>
                      <a:lnTo>
                        <a:pt x="90" y="472"/>
                      </a:lnTo>
                      <a:lnTo>
                        <a:pt x="66" y="465"/>
                      </a:lnTo>
                      <a:lnTo>
                        <a:pt x="44" y="476"/>
                      </a:lnTo>
                      <a:lnTo>
                        <a:pt x="27" y="475"/>
                      </a:lnTo>
                      <a:lnTo>
                        <a:pt x="21" y="466"/>
                      </a:lnTo>
                      <a:lnTo>
                        <a:pt x="25" y="452"/>
                      </a:lnTo>
                      <a:lnTo>
                        <a:pt x="24" y="398"/>
                      </a:lnTo>
                      <a:lnTo>
                        <a:pt x="34" y="386"/>
                      </a:lnTo>
                      <a:lnTo>
                        <a:pt x="0" y="362"/>
                      </a:lnTo>
                      <a:lnTo>
                        <a:pt x="5" y="348"/>
                      </a:lnTo>
                      <a:lnTo>
                        <a:pt x="160" y="181"/>
                      </a:lnTo>
                      <a:lnTo>
                        <a:pt x="3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4462200" y="3168000"/>
                  <a:ext cx="3672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0" y="20"/>
                      </a:moveTo>
                      <a:lnTo>
                        <a:pt x="16" y="16"/>
                      </a:lnTo>
                      <a:lnTo>
                        <a:pt x="35" y="32"/>
                      </a:lnTo>
                      <a:lnTo>
                        <a:pt x="55" y="34"/>
                      </a:lnTo>
                      <a:lnTo>
                        <a:pt x="69" y="22"/>
                      </a:lnTo>
                      <a:lnTo>
                        <a:pt x="101" y="22"/>
                      </a:lnTo>
                      <a:lnTo>
                        <a:pt x="92" y="7"/>
                      </a:lnTo>
                      <a:lnTo>
                        <a:pt x="70" y="1"/>
                      </a:lnTo>
                      <a:lnTo>
                        <a:pt x="22" y="0"/>
                      </a:lnTo>
                      <a:lnTo>
                        <a:pt x="4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371480" y="31194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13"/>
                      </a:moveTo>
                      <a:lnTo>
                        <a:pt x="6" y="20"/>
                      </a:lnTo>
                      <a:lnTo>
                        <a:pt x="1" y="26"/>
                      </a:lnTo>
                      <a:lnTo>
                        <a:pt x="29" y="20"/>
                      </a:lnTo>
                      <a:lnTo>
                        <a:pt x="8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41600" y="3097440"/>
                  <a:ext cx="187200" cy="47520"/>
                </a:xfrm>
                <a:custGeom>
                  <a:avLst/>
                  <a:gdLst/>
                  <a:ahLst/>
                  <a:rect l="l" t="t" r="r" b="b"/>
                  <a:pathLst>
                    <a:path w="509" h="143">
                      <a:moveTo>
                        <a:pt x="0" y="84"/>
                      </a:moveTo>
                      <a:lnTo>
                        <a:pt x="31" y="80"/>
                      </a:lnTo>
                      <a:lnTo>
                        <a:pt x="36" y="64"/>
                      </a:lnTo>
                      <a:lnTo>
                        <a:pt x="63" y="60"/>
                      </a:lnTo>
                      <a:lnTo>
                        <a:pt x="92" y="31"/>
                      </a:lnTo>
                      <a:lnTo>
                        <a:pt x="146" y="34"/>
                      </a:lnTo>
                      <a:lnTo>
                        <a:pt x="125" y="45"/>
                      </a:lnTo>
                      <a:lnTo>
                        <a:pt x="142" y="55"/>
                      </a:lnTo>
                      <a:lnTo>
                        <a:pt x="201" y="52"/>
                      </a:lnTo>
                      <a:lnTo>
                        <a:pt x="218" y="61"/>
                      </a:lnTo>
                      <a:lnTo>
                        <a:pt x="262" y="70"/>
                      </a:lnTo>
                      <a:lnTo>
                        <a:pt x="284" y="61"/>
                      </a:lnTo>
                      <a:lnTo>
                        <a:pt x="293" y="70"/>
                      </a:lnTo>
                      <a:lnTo>
                        <a:pt x="301" y="90"/>
                      </a:lnTo>
                      <a:lnTo>
                        <a:pt x="326" y="104"/>
                      </a:lnTo>
                      <a:lnTo>
                        <a:pt x="362" y="97"/>
                      </a:lnTo>
                      <a:lnTo>
                        <a:pt x="371" y="114"/>
                      </a:lnTo>
                      <a:lnTo>
                        <a:pt x="347" y="143"/>
                      </a:lnTo>
                      <a:lnTo>
                        <a:pt x="426" y="126"/>
                      </a:lnTo>
                      <a:lnTo>
                        <a:pt x="472" y="124"/>
                      </a:lnTo>
                      <a:lnTo>
                        <a:pt x="488" y="112"/>
                      </a:lnTo>
                      <a:lnTo>
                        <a:pt x="509" y="105"/>
                      </a:lnTo>
                      <a:lnTo>
                        <a:pt x="506" y="97"/>
                      </a:lnTo>
                      <a:lnTo>
                        <a:pt x="493" y="99"/>
                      </a:lnTo>
                      <a:lnTo>
                        <a:pt x="476" y="85"/>
                      </a:lnTo>
                      <a:lnTo>
                        <a:pt x="451" y="85"/>
                      </a:lnTo>
                      <a:lnTo>
                        <a:pt x="437" y="91"/>
                      </a:lnTo>
                      <a:lnTo>
                        <a:pt x="437" y="70"/>
                      </a:lnTo>
                      <a:lnTo>
                        <a:pt x="393" y="67"/>
                      </a:lnTo>
                      <a:lnTo>
                        <a:pt x="299" y="29"/>
                      </a:lnTo>
                      <a:lnTo>
                        <a:pt x="276" y="25"/>
                      </a:lnTo>
                      <a:lnTo>
                        <a:pt x="252" y="27"/>
                      </a:lnTo>
                      <a:lnTo>
                        <a:pt x="235" y="14"/>
                      </a:lnTo>
                      <a:lnTo>
                        <a:pt x="193" y="1"/>
                      </a:lnTo>
                      <a:lnTo>
                        <a:pt x="171" y="5"/>
                      </a:lnTo>
                      <a:lnTo>
                        <a:pt x="146" y="0"/>
                      </a:lnTo>
                      <a:lnTo>
                        <a:pt x="123" y="4"/>
                      </a:lnTo>
                      <a:lnTo>
                        <a:pt x="56" y="26"/>
                      </a:lnTo>
                      <a:lnTo>
                        <a:pt x="20" y="55"/>
                      </a:lnTo>
                      <a:lnTo>
                        <a:pt x="21" y="72"/>
                      </a:lnTo>
                      <a:lnTo>
                        <a:pt x="0" y="8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656600" y="3134520"/>
                  <a:ext cx="27360" cy="11520"/>
                </a:xfrm>
                <a:custGeom>
                  <a:avLst/>
                  <a:gdLst/>
                  <a:ahLst/>
                  <a:rect l="l" t="t" r="r" b="b"/>
                  <a:pathLst>
                    <a:path w="74" h="37">
                      <a:moveTo>
                        <a:pt x="5" y="37"/>
                      </a:moveTo>
                      <a:lnTo>
                        <a:pt x="25" y="37"/>
                      </a:lnTo>
                      <a:lnTo>
                        <a:pt x="65" y="26"/>
                      </a:lnTo>
                      <a:lnTo>
                        <a:pt x="74" y="9"/>
                      </a:lnTo>
                      <a:lnTo>
                        <a:pt x="55" y="0"/>
                      </a:lnTo>
                      <a:lnTo>
                        <a:pt x="0" y="11"/>
                      </a:lnTo>
                      <a:lnTo>
                        <a:pt x="5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443480" y="3057840"/>
                  <a:ext cx="17640" cy="23760"/>
                </a:xfrm>
                <a:custGeom>
                  <a:avLst/>
                  <a:gdLst/>
                  <a:ahLst/>
                  <a:rect l="l" t="t" r="r" b="b"/>
                  <a:pathLst>
                    <a:path w="47" h="72">
                      <a:moveTo>
                        <a:pt x="4" y="1"/>
                      </a:moveTo>
                      <a:lnTo>
                        <a:pt x="11" y="16"/>
                      </a:lnTo>
                      <a:lnTo>
                        <a:pt x="0" y="30"/>
                      </a:lnTo>
                      <a:lnTo>
                        <a:pt x="26" y="48"/>
                      </a:lnTo>
                      <a:lnTo>
                        <a:pt x="42" y="72"/>
                      </a:lnTo>
                      <a:lnTo>
                        <a:pt x="47" y="53"/>
                      </a:lnTo>
                      <a:lnTo>
                        <a:pt x="32" y="40"/>
                      </a:lnTo>
                      <a:lnTo>
                        <a:pt x="30" y="22"/>
                      </a:lnTo>
                      <a:lnTo>
                        <a:pt x="16" y="0"/>
                      </a:lnTo>
                      <a:lnTo>
                        <a:pt x="4" y="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535280" y="310860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0" y="27"/>
                      </a:moveTo>
                      <a:lnTo>
                        <a:pt x="22" y="22"/>
                      </a:lnTo>
                      <a:lnTo>
                        <a:pt x="26" y="0"/>
                      </a:lnTo>
                      <a:lnTo>
                        <a:pt x="22" y="14"/>
                      </a:lnTo>
                      <a:lnTo>
                        <a:pt x="5" y="13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452480" y="277704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0" y="45"/>
                      </a:moveTo>
                      <a:lnTo>
                        <a:pt x="47" y="23"/>
                      </a:lnTo>
                      <a:lnTo>
                        <a:pt x="69" y="5"/>
                      </a:lnTo>
                      <a:lnTo>
                        <a:pt x="55" y="0"/>
                      </a:lnTo>
                      <a:lnTo>
                        <a:pt x="37" y="12"/>
                      </a:lnTo>
                      <a:lnTo>
                        <a:pt x="0" y="32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516560" y="2602080"/>
                  <a:ext cx="35640" cy="9000"/>
                </a:xfrm>
                <a:custGeom>
                  <a:avLst/>
                  <a:gdLst/>
                  <a:ahLst/>
                  <a:rect l="l" t="t" r="r" b="b"/>
                  <a:pathLst>
                    <a:path w="97" h="27">
                      <a:moveTo>
                        <a:pt x="0" y="15"/>
                      </a:moveTo>
                      <a:lnTo>
                        <a:pt x="25" y="17"/>
                      </a:lnTo>
                      <a:lnTo>
                        <a:pt x="38" y="27"/>
                      </a:lnTo>
                      <a:lnTo>
                        <a:pt x="58" y="27"/>
                      </a:lnTo>
                      <a:lnTo>
                        <a:pt x="97" y="13"/>
                      </a:lnTo>
                      <a:lnTo>
                        <a:pt x="82" y="2"/>
                      </a:lnTo>
                      <a:lnTo>
                        <a:pt x="4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542120" y="2648880"/>
                  <a:ext cx="27360" cy="10800"/>
                </a:xfrm>
                <a:custGeom>
                  <a:avLst/>
                  <a:gdLst/>
                  <a:ahLst/>
                  <a:rect l="l" t="t" r="r" b="b"/>
                  <a:pathLst>
                    <a:path w="75" h="35">
                      <a:moveTo>
                        <a:pt x="0" y="24"/>
                      </a:moveTo>
                      <a:lnTo>
                        <a:pt x="39" y="35"/>
                      </a:lnTo>
                      <a:lnTo>
                        <a:pt x="71" y="35"/>
                      </a:lnTo>
                      <a:lnTo>
                        <a:pt x="64" y="20"/>
                      </a:lnTo>
                      <a:lnTo>
                        <a:pt x="75" y="0"/>
                      </a:lnTo>
                      <a:lnTo>
                        <a:pt x="34" y="24"/>
                      </a:lnTo>
                      <a:lnTo>
                        <a:pt x="13" y="24"/>
                      </a:lnTo>
                      <a:lnTo>
                        <a:pt x="3" y="9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258080" y="2451960"/>
                  <a:ext cx="13320" cy="1080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35"/>
                      </a:moveTo>
                      <a:lnTo>
                        <a:pt x="19" y="28"/>
                      </a:lnTo>
                      <a:lnTo>
                        <a:pt x="36" y="0"/>
                      </a:lnTo>
                      <a:lnTo>
                        <a:pt x="20" y="4"/>
                      </a:lnTo>
                      <a:lnTo>
                        <a:pt x="5" y="14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288320" y="2453760"/>
                  <a:ext cx="7560" cy="14760"/>
                </a:xfrm>
                <a:custGeom>
                  <a:avLst/>
                  <a:gdLst/>
                  <a:ahLst/>
                  <a:rect l="l" t="t" r="r" b="b"/>
                  <a:pathLst>
                    <a:path w="21" h="44">
                      <a:moveTo>
                        <a:pt x="0" y="5"/>
                      </a:moveTo>
                      <a:lnTo>
                        <a:pt x="5" y="32"/>
                      </a:lnTo>
                      <a:lnTo>
                        <a:pt x="18" y="44"/>
                      </a:lnTo>
                      <a:lnTo>
                        <a:pt x="21" y="20"/>
                      </a:lnTo>
                      <a:lnTo>
                        <a:pt x="20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313520" y="2546280"/>
                  <a:ext cx="9720" cy="13680"/>
                </a:xfrm>
                <a:custGeom>
                  <a:avLst/>
                  <a:gdLst/>
                  <a:ahLst/>
                  <a:rect l="l" t="t" r="r" b="b"/>
                  <a:pathLst>
                    <a:path w="27" h="40">
                      <a:moveTo>
                        <a:pt x="0" y="22"/>
                      </a:moveTo>
                      <a:lnTo>
                        <a:pt x="13" y="13"/>
                      </a:lnTo>
                      <a:lnTo>
                        <a:pt x="0" y="38"/>
                      </a:lnTo>
                      <a:lnTo>
                        <a:pt x="17" y="33"/>
                      </a:lnTo>
                      <a:lnTo>
                        <a:pt x="23" y="20"/>
                      </a:lnTo>
                      <a:lnTo>
                        <a:pt x="27" y="40"/>
                      </a:lnTo>
                      <a:lnTo>
                        <a:pt x="27" y="11"/>
                      </a:lnTo>
                      <a:lnTo>
                        <a:pt x="18" y="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303800" y="260712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10"/>
                      </a:moveTo>
                      <a:lnTo>
                        <a:pt x="40" y="20"/>
                      </a:lnTo>
                      <a:lnTo>
                        <a:pt x="29" y="1"/>
                      </a:lnTo>
                      <a:lnTo>
                        <a:pt x="15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84240" y="2535480"/>
                  <a:ext cx="84240" cy="82440"/>
                </a:xfrm>
                <a:custGeom>
                  <a:avLst/>
                  <a:gdLst/>
                  <a:ahLst/>
                  <a:rect l="l" t="t" r="r" b="b"/>
                  <a:pathLst>
                    <a:path w="228" h="250">
                      <a:moveTo>
                        <a:pt x="9" y="232"/>
                      </a:moveTo>
                      <a:lnTo>
                        <a:pt x="24" y="250"/>
                      </a:lnTo>
                      <a:lnTo>
                        <a:pt x="43" y="230"/>
                      </a:lnTo>
                      <a:lnTo>
                        <a:pt x="136" y="186"/>
                      </a:lnTo>
                      <a:lnTo>
                        <a:pt x="144" y="202"/>
                      </a:lnTo>
                      <a:lnTo>
                        <a:pt x="136" y="222"/>
                      </a:lnTo>
                      <a:lnTo>
                        <a:pt x="155" y="216"/>
                      </a:lnTo>
                      <a:lnTo>
                        <a:pt x="156" y="184"/>
                      </a:lnTo>
                      <a:lnTo>
                        <a:pt x="168" y="171"/>
                      </a:lnTo>
                      <a:lnTo>
                        <a:pt x="184" y="166"/>
                      </a:lnTo>
                      <a:lnTo>
                        <a:pt x="190" y="195"/>
                      </a:lnTo>
                      <a:lnTo>
                        <a:pt x="198" y="172"/>
                      </a:lnTo>
                      <a:lnTo>
                        <a:pt x="210" y="192"/>
                      </a:lnTo>
                      <a:lnTo>
                        <a:pt x="228" y="180"/>
                      </a:lnTo>
                      <a:lnTo>
                        <a:pt x="209" y="129"/>
                      </a:lnTo>
                      <a:lnTo>
                        <a:pt x="196" y="142"/>
                      </a:lnTo>
                      <a:lnTo>
                        <a:pt x="190" y="114"/>
                      </a:lnTo>
                      <a:lnTo>
                        <a:pt x="184" y="125"/>
                      </a:lnTo>
                      <a:lnTo>
                        <a:pt x="185" y="150"/>
                      </a:lnTo>
                      <a:lnTo>
                        <a:pt x="173" y="146"/>
                      </a:lnTo>
                      <a:lnTo>
                        <a:pt x="168" y="129"/>
                      </a:lnTo>
                      <a:lnTo>
                        <a:pt x="175" y="91"/>
                      </a:lnTo>
                      <a:lnTo>
                        <a:pt x="156" y="110"/>
                      </a:lnTo>
                      <a:lnTo>
                        <a:pt x="141" y="99"/>
                      </a:lnTo>
                      <a:lnTo>
                        <a:pt x="143" y="71"/>
                      </a:lnTo>
                      <a:lnTo>
                        <a:pt x="125" y="72"/>
                      </a:lnTo>
                      <a:lnTo>
                        <a:pt x="90" y="100"/>
                      </a:lnTo>
                      <a:lnTo>
                        <a:pt x="65" y="94"/>
                      </a:lnTo>
                      <a:lnTo>
                        <a:pt x="69" y="76"/>
                      </a:lnTo>
                      <a:lnTo>
                        <a:pt x="49" y="79"/>
                      </a:lnTo>
                      <a:lnTo>
                        <a:pt x="36" y="106"/>
                      </a:lnTo>
                      <a:lnTo>
                        <a:pt x="31" y="27"/>
                      </a:lnTo>
                      <a:lnTo>
                        <a:pt x="25" y="0"/>
                      </a:ln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5" y="105"/>
                      </a:lnTo>
                      <a:lnTo>
                        <a:pt x="11" y="136"/>
                      </a:lnTo>
                      <a:lnTo>
                        <a:pt x="10" y="192"/>
                      </a:lnTo>
                      <a:lnTo>
                        <a:pt x="23" y="191"/>
                      </a:lnTo>
                      <a:lnTo>
                        <a:pt x="9" y="2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223880" y="2401200"/>
                  <a:ext cx="56520" cy="48600"/>
                </a:xfrm>
                <a:custGeom>
                  <a:avLst/>
                  <a:gdLst/>
                  <a:ahLst/>
                  <a:rect l="l" t="t" r="r" b="b"/>
                  <a:pathLst>
                    <a:path w="152" h="146">
                      <a:moveTo>
                        <a:pt x="0" y="125"/>
                      </a:moveTo>
                      <a:lnTo>
                        <a:pt x="31" y="122"/>
                      </a:lnTo>
                      <a:lnTo>
                        <a:pt x="36" y="146"/>
                      </a:lnTo>
                      <a:lnTo>
                        <a:pt x="56" y="139"/>
                      </a:lnTo>
                      <a:lnTo>
                        <a:pt x="78" y="97"/>
                      </a:lnTo>
                      <a:lnTo>
                        <a:pt x="93" y="96"/>
                      </a:lnTo>
                      <a:lnTo>
                        <a:pt x="136" y="117"/>
                      </a:lnTo>
                      <a:lnTo>
                        <a:pt x="152" y="92"/>
                      </a:lnTo>
                      <a:lnTo>
                        <a:pt x="128" y="85"/>
                      </a:lnTo>
                      <a:lnTo>
                        <a:pt x="112" y="66"/>
                      </a:lnTo>
                      <a:lnTo>
                        <a:pt x="42" y="24"/>
                      </a:lnTo>
                      <a:lnTo>
                        <a:pt x="31" y="0"/>
                      </a:lnTo>
                      <a:lnTo>
                        <a:pt x="15" y="24"/>
                      </a:lnTo>
                      <a:lnTo>
                        <a:pt x="11" y="45"/>
                      </a:lnTo>
                      <a:lnTo>
                        <a:pt x="11" y="74"/>
                      </a:lnTo>
                      <a:lnTo>
                        <a:pt x="21" y="101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285800" y="2352240"/>
                  <a:ext cx="15480" cy="1980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38"/>
                      </a:moveTo>
                      <a:lnTo>
                        <a:pt x="15" y="60"/>
                      </a:lnTo>
                      <a:lnTo>
                        <a:pt x="36" y="50"/>
                      </a:lnTo>
                      <a:lnTo>
                        <a:pt x="43" y="33"/>
                      </a:lnTo>
                      <a:lnTo>
                        <a:pt x="40" y="12"/>
                      </a:lnTo>
                      <a:lnTo>
                        <a:pt x="26" y="0"/>
                      </a:lnTo>
                      <a:lnTo>
                        <a:pt x="6" y="6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90400" y="2271960"/>
                  <a:ext cx="219600" cy="158040"/>
                </a:xfrm>
                <a:custGeom>
                  <a:avLst/>
                  <a:gdLst/>
                  <a:ahLst/>
                  <a:rect l="l" t="t" r="r" b="b"/>
                  <a:pathLst>
                    <a:path w="593" h="476">
                      <a:moveTo>
                        <a:pt x="1" y="119"/>
                      </a:moveTo>
                      <a:lnTo>
                        <a:pt x="51" y="182"/>
                      </a:lnTo>
                      <a:lnTo>
                        <a:pt x="80" y="195"/>
                      </a:lnTo>
                      <a:lnTo>
                        <a:pt x="140" y="192"/>
                      </a:lnTo>
                      <a:lnTo>
                        <a:pt x="156" y="185"/>
                      </a:lnTo>
                      <a:lnTo>
                        <a:pt x="186" y="201"/>
                      </a:lnTo>
                      <a:lnTo>
                        <a:pt x="198" y="189"/>
                      </a:lnTo>
                      <a:lnTo>
                        <a:pt x="207" y="161"/>
                      </a:lnTo>
                      <a:lnTo>
                        <a:pt x="223" y="179"/>
                      </a:lnTo>
                      <a:lnTo>
                        <a:pt x="257" y="195"/>
                      </a:lnTo>
                      <a:lnTo>
                        <a:pt x="262" y="229"/>
                      </a:lnTo>
                      <a:lnTo>
                        <a:pt x="277" y="205"/>
                      </a:lnTo>
                      <a:lnTo>
                        <a:pt x="298" y="225"/>
                      </a:lnTo>
                      <a:lnTo>
                        <a:pt x="326" y="232"/>
                      </a:lnTo>
                      <a:lnTo>
                        <a:pt x="354" y="272"/>
                      </a:lnTo>
                      <a:lnTo>
                        <a:pt x="329" y="337"/>
                      </a:lnTo>
                      <a:lnTo>
                        <a:pt x="354" y="356"/>
                      </a:lnTo>
                      <a:lnTo>
                        <a:pt x="339" y="380"/>
                      </a:lnTo>
                      <a:lnTo>
                        <a:pt x="313" y="387"/>
                      </a:lnTo>
                      <a:lnTo>
                        <a:pt x="281" y="387"/>
                      </a:lnTo>
                      <a:lnTo>
                        <a:pt x="281" y="404"/>
                      </a:lnTo>
                      <a:lnTo>
                        <a:pt x="270" y="411"/>
                      </a:lnTo>
                      <a:lnTo>
                        <a:pt x="268" y="434"/>
                      </a:lnTo>
                      <a:lnTo>
                        <a:pt x="286" y="450"/>
                      </a:lnTo>
                      <a:lnTo>
                        <a:pt x="318" y="442"/>
                      </a:lnTo>
                      <a:lnTo>
                        <a:pt x="331" y="425"/>
                      </a:lnTo>
                      <a:lnTo>
                        <a:pt x="354" y="422"/>
                      </a:lnTo>
                      <a:lnTo>
                        <a:pt x="423" y="435"/>
                      </a:lnTo>
                      <a:lnTo>
                        <a:pt x="429" y="455"/>
                      </a:lnTo>
                      <a:lnTo>
                        <a:pt x="454" y="464"/>
                      </a:lnTo>
                      <a:lnTo>
                        <a:pt x="498" y="464"/>
                      </a:lnTo>
                      <a:lnTo>
                        <a:pt x="508" y="474"/>
                      </a:lnTo>
                      <a:lnTo>
                        <a:pt x="533" y="476"/>
                      </a:lnTo>
                      <a:lnTo>
                        <a:pt x="581" y="469"/>
                      </a:lnTo>
                      <a:lnTo>
                        <a:pt x="571" y="450"/>
                      </a:lnTo>
                      <a:lnTo>
                        <a:pt x="501" y="422"/>
                      </a:lnTo>
                      <a:lnTo>
                        <a:pt x="483" y="407"/>
                      </a:lnTo>
                      <a:lnTo>
                        <a:pt x="568" y="420"/>
                      </a:lnTo>
                      <a:lnTo>
                        <a:pt x="593" y="407"/>
                      </a:lnTo>
                      <a:lnTo>
                        <a:pt x="583" y="375"/>
                      </a:lnTo>
                      <a:lnTo>
                        <a:pt x="558" y="362"/>
                      </a:lnTo>
                      <a:lnTo>
                        <a:pt x="546" y="341"/>
                      </a:lnTo>
                      <a:lnTo>
                        <a:pt x="496" y="324"/>
                      </a:lnTo>
                      <a:lnTo>
                        <a:pt x="474" y="305"/>
                      </a:lnTo>
                      <a:lnTo>
                        <a:pt x="464" y="272"/>
                      </a:lnTo>
                      <a:lnTo>
                        <a:pt x="506" y="281"/>
                      </a:lnTo>
                      <a:lnTo>
                        <a:pt x="529" y="302"/>
                      </a:lnTo>
                      <a:lnTo>
                        <a:pt x="558" y="307"/>
                      </a:lnTo>
                      <a:lnTo>
                        <a:pt x="552" y="281"/>
                      </a:lnTo>
                      <a:lnTo>
                        <a:pt x="569" y="262"/>
                      </a:lnTo>
                      <a:lnTo>
                        <a:pt x="562" y="209"/>
                      </a:lnTo>
                      <a:lnTo>
                        <a:pt x="488" y="191"/>
                      </a:lnTo>
                      <a:lnTo>
                        <a:pt x="463" y="179"/>
                      </a:lnTo>
                      <a:lnTo>
                        <a:pt x="437" y="192"/>
                      </a:lnTo>
                      <a:lnTo>
                        <a:pt x="404" y="184"/>
                      </a:lnTo>
                      <a:lnTo>
                        <a:pt x="394" y="161"/>
                      </a:lnTo>
                      <a:lnTo>
                        <a:pt x="412" y="144"/>
                      </a:lnTo>
                      <a:lnTo>
                        <a:pt x="386" y="132"/>
                      </a:lnTo>
                      <a:lnTo>
                        <a:pt x="382" y="111"/>
                      </a:lnTo>
                      <a:lnTo>
                        <a:pt x="358" y="95"/>
                      </a:lnTo>
                      <a:lnTo>
                        <a:pt x="331" y="89"/>
                      </a:lnTo>
                      <a:lnTo>
                        <a:pt x="296" y="71"/>
                      </a:lnTo>
                      <a:lnTo>
                        <a:pt x="275" y="65"/>
                      </a:lnTo>
                      <a:lnTo>
                        <a:pt x="250" y="70"/>
                      </a:lnTo>
                      <a:lnTo>
                        <a:pt x="231" y="32"/>
                      </a:lnTo>
                      <a:lnTo>
                        <a:pt x="212" y="44"/>
                      </a:lnTo>
                      <a:lnTo>
                        <a:pt x="177" y="37"/>
                      </a:lnTo>
                      <a:lnTo>
                        <a:pt x="165" y="57"/>
                      </a:lnTo>
                      <a:lnTo>
                        <a:pt x="148" y="62"/>
                      </a:lnTo>
                      <a:lnTo>
                        <a:pt x="136" y="80"/>
                      </a:lnTo>
                      <a:lnTo>
                        <a:pt x="136" y="54"/>
                      </a:lnTo>
                      <a:lnTo>
                        <a:pt x="121" y="34"/>
                      </a:lnTo>
                      <a:lnTo>
                        <a:pt x="121" y="11"/>
                      </a:lnTo>
                      <a:lnTo>
                        <a:pt x="111" y="0"/>
                      </a:lnTo>
                      <a:lnTo>
                        <a:pt x="95" y="9"/>
                      </a:lnTo>
                      <a:lnTo>
                        <a:pt x="63" y="50"/>
                      </a:lnTo>
                      <a:lnTo>
                        <a:pt x="67" y="96"/>
                      </a:lnTo>
                      <a:lnTo>
                        <a:pt x="76" y="116"/>
                      </a:lnTo>
                      <a:lnTo>
                        <a:pt x="57" y="100"/>
                      </a:lnTo>
                      <a:lnTo>
                        <a:pt x="50" y="60"/>
                      </a:lnTo>
                      <a:lnTo>
                        <a:pt x="61" y="24"/>
                      </a:lnTo>
                      <a:lnTo>
                        <a:pt x="80" y="9"/>
                      </a:lnTo>
                      <a:lnTo>
                        <a:pt x="37" y="11"/>
                      </a:lnTo>
                      <a:lnTo>
                        <a:pt x="25" y="25"/>
                      </a:lnTo>
                      <a:lnTo>
                        <a:pt x="11" y="49"/>
                      </a:lnTo>
                      <a:lnTo>
                        <a:pt x="5" y="70"/>
                      </a:lnTo>
                      <a:lnTo>
                        <a:pt x="0" y="90"/>
                      </a:lnTo>
                      <a:lnTo>
                        <a:pt x="1" y="1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238280" y="2268720"/>
                  <a:ext cx="24120" cy="1584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10" y="47"/>
                      </a:lnTo>
                      <a:lnTo>
                        <a:pt x="30" y="50"/>
                      </a:lnTo>
                      <a:lnTo>
                        <a:pt x="43" y="40"/>
                      </a:lnTo>
                      <a:lnTo>
                        <a:pt x="68" y="40"/>
                      </a:lnTo>
                      <a:lnTo>
                        <a:pt x="65" y="24"/>
                      </a:lnTo>
                      <a:lnTo>
                        <a:pt x="55" y="6"/>
                      </a:lnTo>
                      <a:lnTo>
                        <a:pt x="36" y="0"/>
                      </a:lnTo>
                      <a:lnTo>
                        <a:pt x="18" y="3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156200" y="224892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37" h="45">
                      <a:moveTo>
                        <a:pt x="0" y="28"/>
                      </a:moveTo>
                      <a:lnTo>
                        <a:pt x="37" y="45"/>
                      </a:lnTo>
                      <a:lnTo>
                        <a:pt x="37" y="19"/>
                      </a:lnTo>
                      <a:lnTo>
                        <a:pt x="27" y="0"/>
                      </a:lnTo>
                      <a:lnTo>
                        <a:pt x="12" y="0"/>
                      </a:lnTo>
                      <a:lnTo>
                        <a:pt x="0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158360" y="2225160"/>
                  <a:ext cx="77400" cy="40680"/>
                </a:xfrm>
                <a:custGeom>
                  <a:avLst/>
                  <a:gdLst/>
                  <a:ahLst/>
                  <a:rect l="l" t="t" r="r" b="b"/>
                  <a:pathLst>
                    <a:path w="209" h="125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3" y="40"/>
                      </a:lnTo>
                      <a:lnTo>
                        <a:pt x="36" y="35"/>
                      </a:lnTo>
                      <a:lnTo>
                        <a:pt x="49" y="47"/>
                      </a:lnTo>
                      <a:lnTo>
                        <a:pt x="53" y="67"/>
                      </a:lnTo>
                      <a:lnTo>
                        <a:pt x="50" y="88"/>
                      </a:lnTo>
                      <a:lnTo>
                        <a:pt x="53" y="113"/>
                      </a:lnTo>
                      <a:lnTo>
                        <a:pt x="80" y="122"/>
                      </a:lnTo>
                      <a:lnTo>
                        <a:pt x="128" y="125"/>
                      </a:lnTo>
                      <a:lnTo>
                        <a:pt x="151" y="121"/>
                      </a:lnTo>
                      <a:lnTo>
                        <a:pt x="164" y="102"/>
                      </a:lnTo>
                      <a:lnTo>
                        <a:pt x="186" y="110"/>
                      </a:lnTo>
                      <a:lnTo>
                        <a:pt x="206" y="98"/>
                      </a:lnTo>
                      <a:lnTo>
                        <a:pt x="209" y="76"/>
                      </a:lnTo>
                      <a:lnTo>
                        <a:pt x="205" y="58"/>
                      </a:lnTo>
                      <a:lnTo>
                        <a:pt x="180" y="50"/>
                      </a:lnTo>
                      <a:lnTo>
                        <a:pt x="139" y="52"/>
                      </a:lnTo>
                      <a:lnTo>
                        <a:pt x="118" y="67"/>
                      </a:lnTo>
                      <a:lnTo>
                        <a:pt x="93" y="65"/>
                      </a:lnTo>
                      <a:lnTo>
                        <a:pt x="74" y="52"/>
                      </a:lnTo>
                      <a:lnTo>
                        <a:pt x="78" y="41"/>
                      </a:lnTo>
                      <a:lnTo>
                        <a:pt x="65" y="32"/>
                      </a:lnTo>
                      <a:lnTo>
                        <a:pt x="58" y="20"/>
                      </a:lnTo>
                      <a:lnTo>
                        <a:pt x="38" y="20"/>
                      </a:lnTo>
                      <a:lnTo>
                        <a:pt x="21" y="6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165200" y="2155320"/>
                  <a:ext cx="30600" cy="50400"/>
                </a:xfrm>
                <a:custGeom>
                  <a:avLst/>
                  <a:gdLst/>
                  <a:ahLst/>
                  <a:rect l="l" t="t" r="r" b="b"/>
                  <a:pathLst>
                    <a:path w="84" h="153">
                      <a:moveTo>
                        <a:pt x="0" y="61"/>
                      </a:moveTo>
                      <a:lnTo>
                        <a:pt x="15" y="96"/>
                      </a:lnTo>
                      <a:lnTo>
                        <a:pt x="11" y="112"/>
                      </a:lnTo>
                      <a:lnTo>
                        <a:pt x="15" y="136"/>
                      </a:lnTo>
                      <a:lnTo>
                        <a:pt x="27" y="153"/>
                      </a:lnTo>
                      <a:lnTo>
                        <a:pt x="57" y="152"/>
                      </a:lnTo>
                      <a:lnTo>
                        <a:pt x="74" y="110"/>
                      </a:lnTo>
                      <a:lnTo>
                        <a:pt x="84" y="96"/>
                      </a:lnTo>
                      <a:lnTo>
                        <a:pt x="81" y="76"/>
                      </a:lnTo>
                      <a:lnTo>
                        <a:pt x="65" y="72"/>
                      </a:lnTo>
                      <a:lnTo>
                        <a:pt x="67" y="51"/>
                      </a:lnTo>
                      <a:lnTo>
                        <a:pt x="59" y="38"/>
                      </a:lnTo>
                      <a:lnTo>
                        <a:pt x="39" y="37"/>
                      </a:lnTo>
                      <a:lnTo>
                        <a:pt x="30" y="21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1" y="23"/>
                      </a:lnTo>
                      <a:lnTo>
                        <a:pt x="0" y="40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178160" y="2114640"/>
                  <a:ext cx="69840" cy="119880"/>
                </a:xfrm>
                <a:custGeom>
                  <a:avLst/>
                  <a:gdLst/>
                  <a:ahLst/>
                  <a:rect l="l" t="t" r="r" b="b"/>
                  <a:pathLst>
                    <a:path w="190" h="365">
                      <a:moveTo>
                        <a:pt x="0" y="109"/>
                      </a:moveTo>
                      <a:lnTo>
                        <a:pt x="6" y="134"/>
                      </a:lnTo>
                      <a:lnTo>
                        <a:pt x="22" y="150"/>
                      </a:lnTo>
                      <a:lnTo>
                        <a:pt x="43" y="148"/>
                      </a:lnTo>
                      <a:lnTo>
                        <a:pt x="103" y="123"/>
                      </a:lnTo>
                      <a:lnTo>
                        <a:pt x="92" y="140"/>
                      </a:lnTo>
                      <a:lnTo>
                        <a:pt x="71" y="154"/>
                      </a:lnTo>
                      <a:lnTo>
                        <a:pt x="62" y="166"/>
                      </a:lnTo>
                      <a:lnTo>
                        <a:pt x="42" y="160"/>
                      </a:lnTo>
                      <a:lnTo>
                        <a:pt x="40" y="188"/>
                      </a:lnTo>
                      <a:lnTo>
                        <a:pt x="55" y="195"/>
                      </a:lnTo>
                      <a:lnTo>
                        <a:pt x="66" y="235"/>
                      </a:lnTo>
                      <a:lnTo>
                        <a:pt x="53" y="243"/>
                      </a:lnTo>
                      <a:lnTo>
                        <a:pt x="41" y="274"/>
                      </a:lnTo>
                      <a:lnTo>
                        <a:pt x="62" y="283"/>
                      </a:lnTo>
                      <a:lnTo>
                        <a:pt x="37" y="290"/>
                      </a:lnTo>
                      <a:lnTo>
                        <a:pt x="40" y="311"/>
                      </a:lnTo>
                      <a:lnTo>
                        <a:pt x="52" y="319"/>
                      </a:lnTo>
                      <a:lnTo>
                        <a:pt x="25" y="341"/>
                      </a:lnTo>
                      <a:lnTo>
                        <a:pt x="27" y="361"/>
                      </a:lnTo>
                      <a:lnTo>
                        <a:pt x="80" y="365"/>
                      </a:lnTo>
                      <a:lnTo>
                        <a:pt x="92" y="354"/>
                      </a:lnTo>
                      <a:lnTo>
                        <a:pt x="108" y="355"/>
                      </a:lnTo>
                      <a:lnTo>
                        <a:pt x="118" y="345"/>
                      </a:lnTo>
                      <a:lnTo>
                        <a:pt x="130" y="360"/>
                      </a:lnTo>
                      <a:lnTo>
                        <a:pt x="150" y="341"/>
                      </a:lnTo>
                      <a:lnTo>
                        <a:pt x="160" y="319"/>
                      </a:lnTo>
                      <a:lnTo>
                        <a:pt x="136" y="303"/>
                      </a:lnTo>
                      <a:lnTo>
                        <a:pt x="150" y="281"/>
                      </a:lnTo>
                      <a:lnTo>
                        <a:pt x="141" y="268"/>
                      </a:lnTo>
                      <a:lnTo>
                        <a:pt x="162" y="256"/>
                      </a:lnTo>
                      <a:lnTo>
                        <a:pt x="155" y="180"/>
                      </a:lnTo>
                      <a:lnTo>
                        <a:pt x="172" y="161"/>
                      </a:lnTo>
                      <a:lnTo>
                        <a:pt x="177" y="114"/>
                      </a:lnTo>
                      <a:lnTo>
                        <a:pt x="190" y="60"/>
                      </a:lnTo>
                      <a:lnTo>
                        <a:pt x="185" y="49"/>
                      </a:lnTo>
                      <a:lnTo>
                        <a:pt x="190" y="15"/>
                      </a:lnTo>
                      <a:lnTo>
                        <a:pt x="183" y="5"/>
                      </a:lnTo>
                      <a:lnTo>
                        <a:pt x="155" y="0"/>
                      </a:lnTo>
                      <a:lnTo>
                        <a:pt x="118" y="1"/>
                      </a:lnTo>
                      <a:lnTo>
                        <a:pt x="93" y="16"/>
                      </a:lnTo>
                      <a:lnTo>
                        <a:pt x="78" y="18"/>
                      </a:lnTo>
                      <a:lnTo>
                        <a:pt x="56" y="30"/>
                      </a:lnTo>
                      <a:lnTo>
                        <a:pt x="48" y="50"/>
                      </a:lnTo>
                      <a:lnTo>
                        <a:pt x="25" y="76"/>
                      </a:lnTo>
                      <a:lnTo>
                        <a:pt x="27" y="88"/>
                      </a:lnTo>
                      <a:lnTo>
                        <a:pt x="10" y="89"/>
                      </a:lnTo>
                      <a:lnTo>
                        <a:pt x="0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150440" y="2172240"/>
                  <a:ext cx="5400" cy="6840"/>
                </a:xfrm>
                <a:custGeom>
                  <a:avLst/>
                  <a:gdLst/>
                  <a:ahLst/>
                  <a:rect l="l" t="t" r="r" b="b"/>
                  <a:pathLst>
                    <a:path w="16" h="21">
                      <a:moveTo>
                        <a:pt x="0" y="13"/>
                      </a:moveTo>
                      <a:lnTo>
                        <a:pt x="16" y="21"/>
                      </a:lnTo>
                      <a:lnTo>
                        <a:pt x="9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126320" y="2182320"/>
                  <a:ext cx="36720" cy="29880"/>
                </a:xfrm>
                <a:custGeom>
                  <a:avLst/>
                  <a:gdLst/>
                  <a:ahLst/>
                  <a:rect l="l" t="t" r="r" b="b"/>
                  <a:pathLst>
                    <a:path w="101" h="90">
                      <a:moveTo>
                        <a:pt x="0" y="9"/>
                      </a:moveTo>
                      <a:lnTo>
                        <a:pt x="1" y="19"/>
                      </a:lnTo>
                      <a:lnTo>
                        <a:pt x="16" y="31"/>
                      </a:lnTo>
                      <a:lnTo>
                        <a:pt x="6" y="44"/>
                      </a:lnTo>
                      <a:lnTo>
                        <a:pt x="12" y="57"/>
                      </a:lnTo>
                      <a:lnTo>
                        <a:pt x="45" y="69"/>
                      </a:lnTo>
                      <a:lnTo>
                        <a:pt x="51" y="90"/>
                      </a:lnTo>
                      <a:lnTo>
                        <a:pt x="63" y="82"/>
                      </a:lnTo>
                      <a:lnTo>
                        <a:pt x="96" y="81"/>
                      </a:lnTo>
                      <a:lnTo>
                        <a:pt x="101" y="65"/>
                      </a:lnTo>
                      <a:lnTo>
                        <a:pt x="96" y="52"/>
                      </a:lnTo>
                      <a:lnTo>
                        <a:pt x="76" y="35"/>
                      </a:lnTo>
                      <a:lnTo>
                        <a:pt x="66" y="75"/>
                      </a:lnTo>
                      <a:lnTo>
                        <a:pt x="57" y="71"/>
                      </a:lnTo>
                      <a:lnTo>
                        <a:pt x="57" y="35"/>
                      </a:lnTo>
                      <a:lnTo>
                        <a:pt x="45" y="1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7" y="0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4156200" y="221112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51" h="23">
                      <a:moveTo>
                        <a:pt x="0" y="7"/>
                      </a:moveTo>
                      <a:lnTo>
                        <a:pt x="42" y="23"/>
                      </a:lnTo>
                      <a:lnTo>
                        <a:pt x="51" y="13"/>
                      </a:lnTo>
                      <a:lnTo>
                        <a:pt x="49" y="2"/>
                      </a:lnTo>
                      <a:lnTo>
                        <a:pt x="21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122000" y="22089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2" y="3"/>
                      </a:moveTo>
                      <a:lnTo>
                        <a:pt x="0" y="27"/>
                      </a:lnTo>
                      <a:lnTo>
                        <a:pt x="14" y="34"/>
                      </a:lnTo>
                      <a:lnTo>
                        <a:pt x="12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20560" y="2228040"/>
                  <a:ext cx="29880" cy="2880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0" y="0"/>
                      </a:moveTo>
                      <a:lnTo>
                        <a:pt x="5" y="38"/>
                      </a:lnTo>
                      <a:lnTo>
                        <a:pt x="14" y="62"/>
                      </a:lnTo>
                      <a:lnTo>
                        <a:pt x="34" y="55"/>
                      </a:lnTo>
                      <a:lnTo>
                        <a:pt x="41" y="83"/>
                      </a:lnTo>
                      <a:lnTo>
                        <a:pt x="71" y="86"/>
                      </a:lnTo>
                      <a:lnTo>
                        <a:pt x="79" y="60"/>
                      </a:lnTo>
                      <a:lnTo>
                        <a:pt x="79" y="20"/>
                      </a:lnTo>
                      <a:lnTo>
                        <a:pt x="64" y="5"/>
                      </a:lnTo>
                      <a:lnTo>
                        <a:pt x="44" y="2"/>
                      </a:lnTo>
                      <a:lnTo>
                        <a:pt x="34" y="13"/>
                      </a:lnTo>
                      <a:lnTo>
                        <a:pt x="29" y="36"/>
                      </a:lnTo>
                      <a:lnTo>
                        <a:pt x="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117320" y="22471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0" y="15"/>
                      </a:moveTo>
                      <a:lnTo>
                        <a:pt x="14" y="18"/>
                      </a:lnTo>
                      <a:lnTo>
                        <a:pt x="1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119480" y="2271960"/>
                  <a:ext cx="35280" cy="45720"/>
                </a:xfrm>
                <a:custGeom>
                  <a:avLst/>
                  <a:gdLst/>
                  <a:ahLst/>
                  <a:rect l="l" t="t" r="r" b="b"/>
                  <a:pathLst>
                    <a:path w="96" h="139">
                      <a:moveTo>
                        <a:pt x="0" y="52"/>
                      </a:moveTo>
                      <a:lnTo>
                        <a:pt x="10" y="89"/>
                      </a:lnTo>
                      <a:lnTo>
                        <a:pt x="25" y="90"/>
                      </a:lnTo>
                      <a:lnTo>
                        <a:pt x="51" y="139"/>
                      </a:lnTo>
                      <a:lnTo>
                        <a:pt x="70" y="124"/>
                      </a:lnTo>
                      <a:lnTo>
                        <a:pt x="94" y="116"/>
                      </a:lnTo>
                      <a:lnTo>
                        <a:pt x="96" y="86"/>
                      </a:lnTo>
                      <a:lnTo>
                        <a:pt x="93" y="59"/>
                      </a:lnTo>
                      <a:lnTo>
                        <a:pt x="71" y="49"/>
                      </a:lnTo>
                      <a:lnTo>
                        <a:pt x="88" y="26"/>
                      </a:lnTo>
                      <a:lnTo>
                        <a:pt x="80" y="0"/>
                      </a:lnTo>
                      <a:lnTo>
                        <a:pt x="64" y="10"/>
                      </a:lnTo>
                      <a:lnTo>
                        <a:pt x="46" y="5"/>
                      </a:lnTo>
                      <a:lnTo>
                        <a:pt x="30" y="11"/>
                      </a:lnTo>
                      <a:lnTo>
                        <a:pt x="25" y="26"/>
                      </a:lnTo>
                      <a:lnTo>
                        <a:pt x="36" y="51"/>
                      </a:lnTo>
                      <a:lnTo>
                        <a:pt x="14" y="49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093920" y="219024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0" y="10"/>
                      </a:moveTo>
                      <a:lnTo>
                        <a:pt x="18" y="12"/>
                      </a:lnTo>
                      <a:lnTo>
                        <a:pt x="27" y="21"/>
                      </a:lnTo>
                      <a:lnTo>
                        <a:pt x="41" y="25"/>
                      </a:lnTo>
                      <a:lnTo>
                        <a:pt x="50" y="17"/>
                      </a:lnTo>
                      <a:lnTo>
                        <a:pt x="35" y="4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086000" y="2195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0" y="3"/>
                      </a:moveTo>
                      <a:lnTo>
                        <a:pt x="2" y="15"/>
                      </a:lnTo>
                      <a:lnTo>
                        <a:pt x="12" y="15"/>
                      </a:lnTo>
                      <a:lnTo>
                        <a:pt x="14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090680" y="220032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2" y="3"/>
                      </a:moveTo>
                      <a:lnTo>
                        <a:pt x="0" y="20"/>
                      </a:lnTo>
                      <a:lnTo>
                        <a:pt x="15" y="28"/>
                      </a:lnTo>
                      <a:lnTo>
                        <a:pt x="36" y="21"/>
                      </a:lnTo>
                      <a:lnTo>
                        <a:pt x="44" y="0"/>
                      </a:lnTo>
                      <a:lnTo>
                        <a:pt x="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052880" y="222012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16"/>
                      </a:moveTo>
                      <a:lnTo>
                        <a:pt x="10" y="26"/>
                      </a:lnTo>
                      <a:lnTo>
                        <a:pt x="31" y="0"/>
                      </a:lnTo>
                      <a:lnTo>
                        <a:pt x="15" y="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039560" y="2200320"/>
                  <a:ext cx="42120" cy="19800"/>
                </a:xfrm>
                <a:custGeom>
                  <a:avLst/>
                  <a:gdLst/>
                  <a:ahLst/>
                  <a:rect l="l" t="t" r="r" b="b"/>
                  <a:pathLst>
                    <a:path w="113" h="61">
                      <a:moveTo>
                        <a:pt x="0" y="22"/>
                      </a:moveTo>
                      <a:lnTo>
                        <a:pt x="2" y="46"/>
                      </a:lnTo>
                      <a:lnTo>
                        <a:pt x="28" y="61"/>
                      </a:lnTo>
                      <a:lnTo>
                        <a:pt x="62" y="40"/>
                      </a:lnTo>
                      <a:lnTo>
                        <a:pt x="72" y="55"/>
                      </a:lnTo>
                      <a:lnTo>
                        <a:pt x="95" y="41"/>
                      </a:lnTo>
                      <a:lnTo>
                        <a:pt x="97" y="22"/>
                      </a:lnTo>
                      <a:lnTo>
                        <a:pt x="113" y="15"/>
                      </a:lnTo>
                      <a:lnTo>
                        <a:pt x="105" y="0"/>
                      </a:lnTo>
                      <a:lnTo>
                        <a:pt x="90" y="9"/>
                      </a:lnTo>
                      <a:lnTo>
                        <a:pt x="74" y="0"/>
                      </a:lnTo>
                      <a:lnTo>
                        <a:pt x="40" y="7"/>
                      </a:lnTo>
                      <a:lnTo>
                        <a:pt x="20" y="2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58640" y="2217960"/>
                  <a:ext cx="56520" cy="36720"/>
                </a:xfrm>
                <a:custGeom>
                  <a:avLst/>
                  <a:gdLst/>
                  <a:ahLst/>
                  <a:rect l="l" t="t" r="r" b="b"/>
                  <a:pathLst>
                    <a:path w="154" h="109">
                      <a:moveTo>
                        <a:pt x="0" y="47"/>
                      </a:moveTo>
                      <a:lnTo>
                        <a:pt x="25" y="72"/>
                      </a:lnTo>
                      <a:lnTo>
                        <a:pt x="41" y="62"/>
                      </a:lnTo>
                      <a:lnTo>
                        <a:pt x="48" y="84"/>
                      </a:lnTo>
                      <a:lnTo>
                        <a:pt x="29" y="87"/>
                      </a:lnTo>
                      <a:lnTo>
                        <a:pt x="33" y="100"/>
                      </a:lnTo>
                      <a:lnTo>
                        <a:pt x="46" y="109"/>
                      </a:lnTo>
                      <a:lnTo>
                        <a:pt x="63" y="107"/>
                      </a:lnTo>
                      <a:lnTo>
                        <a:pt x="96" y="94"/>
                      </a:lnTo>
                      <a:lnTo>
                        <a:pt x="123" y="104"/>
                      </a:lnTo>
                      <a:lnTo>
                        <a:pt x="140" y="101"/>
                      </a:lnTo>
                      <a:lnTo>
                        <a:pt x="154" y="62"/>
                      </a:lnTo>
                      <a:lnTo>
                        <a:pt x="125" y="32"/>
                      </a:lnTo>
                      <a:lnTo>
                        <a:pt x="125" y="7"/>
                      </a:lnTo>
                      <a:lnTo>
                        <a:pt x="98" y="29"/>
                      </a:lnTo>
                      <a:lnTo>
                        <a:pt x="108" y="40"/>
                      </a:lnTo>
                      <a:lnTo>
                        <a:pt x="101" y="52"/>
                      </a:lnTo>
                      <a:lnTo>
                        <a:pt x="104" y="71"/>
                      </a:lnTo>
                      <a:lnTo>
                        <a:pt x="81" y="60"/>
                      </a:lnTo>
                      <a:lnTo>
                        <a:pt x="75" y="26"/>
                      </a:lnTo>
                      <a:lnTo>
                        <a:pt x="60" y="9"/>
                      </a:lnTo>
                      <a:lnTo>
                        <a:pt x="46" y="0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24440" y="2268720"/>
                  <a:ext cx="101880" cy="85320"/>
                </a:xfrm>
                <a:custGeom>
                  <a:avLst/>
                  <a:gdLst/>
                  <a:ahLst/>
                  <a:rect l="l" t="t" r="r" b="b"/>
                  <a:pathLst>
                    <a:path w="274" h="259">
                      <a:moveTo>
                        <a:pt x="0" y="55"/>
                      </a:moveTo>
                      <a:lnTo>
                        <a:pt x="14" y="74"/>
                      </a:lnTo>
                      <a:lnTo>
                        <a:pt x="1" y="88"/>
                      </a:lnTo>
                      <a:lnTo>
                        <a:pt x="12" y="108"/>
                      </a:lnTo>
                      <a:lnTo>
                        <a:pt x="36" y="121"/>
                      </a:lnTo>
                      <a:lnTo>
                        <a:pt x="60" y="128"/>
                      </a:lnTo>
                      <a:lnTo>
                        <a:pt x="76" y="148"/>
                      </a:lnTo>
                      <a:lnTo>
                        <a:pt x="50" y="153"/>
                      </a:lnTo>
                      <a:lnTo>
                        <a:pt x="5" y="139"/>
                      </a:lnTo>
                      <a:lnTo>
                        <a:pt x="0" y="170"/>
                      </a:lnTo>
                      <a:lnTo>
                        <a:pt x="16" y="190"/>
                      </a:lnTo>
                      <a:lnTo>
                        <a:pt x="39" y="198"/>
                      </a:lnTo>
                      <a:lnTo>
                        <a:pt x="41" y="234"/>
                      </a:lnTo>
                      <a:lnTo>
                        <a:pt x="97" y="241"/>
                      </a:lnTo>
                      <a:lnTo>
                        <a:pt x="155" y="234"/>
                      </a:lnTo>
                      <a:lnTo>
                        <a:pt x="176" y="221"/>
                      </a:lnTo>
                      <a:lnTo>
                        <a:pt x="189" y="241"/>
                      </a:lnTo>
                      <a:lnTo>
                        <a:pt x="210" y="259"/>
                      </a:lnTo>
                      <a:lnTo>
                        <a:pt x="232" y="256"/>
                      </a:lnTo>
                      <a:lnTo>
                        <a:pt x="255" y="244"/>
                      </a:lnTo>
                      <a:lnTo>
                        <a:pt x="247" y="225"/>
                      </a:lnTo>
                      <a:lnTo>
                        <a:pt x="269" y="224"/>
                      </a:lnTo>
                      <a:lnTo>
                        <a:pt x="274" y="200"/>
                      </a:lnTo>
                      <a:lnTo>
                        <a:pt x="247" y="188"/>
                      </a:lnTo>
                      <a:lnTo>
                        <a:pt x="225" y="171"/>
                      </a:lnTo>
                      <a:lnTo>
                        <a:pt x="212" y="150"/>
                      </a:lnTo>
                      <a:lnTo>
                        <a:pt x="220" y="121"/>
                      </a:lnTo>
                      <a:lnTo>
                        <a:pt x="216" y="73"/>
                      </a:lnTo>
                      <a:lnTo>
                        <a:pt x="242" y="34"/>
                      </a:lnTo>
                      <a:lnTo>
                        <a:pt x="232" y="19"/>
                      </a:lnTo>
                      <a:lnTo>
                        <a:pt x="211" y="15"/>
                      </a:lnTo>
                      <a:lnTo>
                        <a:pt x="180" y="60"/>
                      </a:lnTo>
                      <a:lnTo>
                        <a:pt x="161" y="38"/>
                      </a:lnTo>
                      <a:lnTo>
                        <a:pt x="141" y="40"/>
                      </a:lnTo>
                      <a:lnTo>
                        <a:pt x="129" y="25"/>
                      </a:lnTo>
                      <a:lnTo>
                        <a:pt x="104" y="35"/>
                      </a:lnTo>
                      <a:lnTo>
                        <a:pt x="107" y="7"/>
                      </a:lnTo>
                      <a:lnTo>
                        <a:pt x="92" y="0"/>
                      </a:lnTo>
                      <a:lnTo>
                        <a:pt x="74" y="9"/>
                      </a:lnTo>
                      <a:lnTo>
                        <a:pt x="35" y="18"/>
                      </a:lnTo>
                      <a:lnTo>
                        <a:pt x="29" y="29"/>
                      </a:lnTo>
                      <a:lnTo>
                        <a:pt x="11" y="38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996360" y="2238120"/>
                  <a:ext cx="61920" cy="48600"/>
                </a:xfrm>
                <a:custGeom>
                  <a:avLst/>
                  <a:gdLst/>
                  <a:ahLst/>
                  <a:rect l="l" t="t" r="r" b="b"/>
                  <a:pathLst>
                    <a:path w="168" h="146">
                      <a:moveTo>
                        <a:pt x="0" y="81"/>
                      </a:moveTo>
                      <a:lnTo>
                        <a:pt x="9" y="111"/>
                      </a:lnTo>
                      <a:lnTo>
                        <a:pt x="6" y="143"/>
                      </a:lnTo>
                      <a:lnTo>
                        <a:pt x="50" y="146"/>
                      </a:lnTo>
                      <a:lnTo>
                        <a:pt x="73" y="130"/>
                      </a:lnTo>
                      <a:lnTo>
                        <a:pt x="93" y="101"/>
                      </a:lnTo>
                      <a:lnTo>
                        <a:pt x="168" y="81"/>
                      </a:lnTo>
                      <a:lnTo>
                        <a:pt x="155" y="59"/>
                      </a:lnTo>
                      <a:lnTo>
                        <a:pt x="150" y="34"/>
                      </a:lnTo>
                      <a:lnTo>
                        <a:pt x="126" y="25"/>
                      </a:lnTo>
                      <a:lnTo>
                        <a:pt x="111" y="2"/>
                      </a:lnTo>
                      <a:lnTo>
                        <a:pt x="61" y="0"/>
                      </a:lnTo>
                      <a:lnTo>
                        <a:pt x="55" y="31"/>
                      </a:lnTo>
                      <a:lnTo>
                        <a:pt x="39" y="51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680280" y="211284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18" y="0"/>
                      </a:moveTo>
                      <a:lnTo>
                        <a:pt x="3" y="5"/>
                      </a:lnTo>
                      <a:lnTo>
                        <a:pt x="12" y="28"/>
                      </a:lnTo>
                      <a:lnTo>
                        <a:pt x="0" y="55"/>
                      </a:lnTo>
                      <a:lnTo>
                        <a:pt x="19" y="74"/>
                      </a:lnTo>
                      <a:lnTo>
                        <a:pt x="17" y="50"/>
                      </a:lnTo>
                      <a:lnTo>
                        <a:pt x="25" y="3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631320" y="217044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28" h="53">
                      <a:moveTo>
                        <a:pt x="6" y="0"/>
                      </a:moveTo>
                      <a:lnTo>
                        <a:pt x="0" y="21"/>
                      </a:lnTo>
                      <a:lnTo>
                        <a:pt x="3" y="40"/>
                      </a:lnTo>
                      <a:lnTo>
                        <a:pt x="16" y="53"/>
                      </a:lnTo>
                      <a:lnTo>
                        <a:pt x="28" y="47"/>
                      </a:lnTo>
                      <a:lnTo>
                        <a:pt x="28" y="31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37080" y="2302560"/>
                  <a:ext cx="34200" cy="17640"/>
                </a:xfrm>
                <a:custGeom>
                  <a:avLst/>
                  <a:gdLst/>
                  <a:ahLst/>
                  <a:rect l="l" t="t" r="r" b="b"/>
                  <a:pathLst>
                    <a:path w="93" h="54">
                      <a:moveTo>
                        <a:pt x="10" y="0"/>
                      </a:moveTo>
                      <a:lnTo>
                        <a:pt x="0" y="37"/>
                      </a:lnTo>
                      <a:lnTo>
                        <a:pt x="21" y="44"/>
                      </a:lnTo>
                      <a:lnTo>
                        <a:pt x="40" y="40"/>
                      </a:lnTo>
                      <a:lnTo>
                        <a:pt x="60" y="54"/>
                      </a:lnTo>
                      <a:lnTo>
                        <a:pt x="68" y="38"/>
                      </a:lnTo>
                      <a:lnTo>
                        <a:pt x="66" y="23"/>
                      </a:lnTo>
                      <a:lnTo>
                        <a:pt x="91" y="34"/>
                      </a:lnTo>
                      <a:lnTo>
                        <a:pt x="93" y="18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757680" y="2495520"/>
                  <a:ext cx="16560" cy="44640"/>
                </a:xfrm>
                <a:custGeom>
                  <a:avLst/>
                  <a:gdLst/>
                  <a:ahLst/>
                  <a:rect l="l" t="t" r="r" b="b"/>
                  <a:pathLst>
                    <a:path w="47" h="135">
                      <a:moveTo>
                        <a:pt x="15" y="0"/>
                      </a:moveTo>
                      <a:lnTo>
                        <a:pt x="1" y="29"/>
                      </a:lnTo>
                      <a:lnTo>
                        <a:pt x="6" y="49"/>
                      </a:lnTo>
                      <a:lnTo>
                        <a:pt x="0" y="75"/>
                      </a:lnTo>
                      <a:lnTo>
                        <a:pt x="0" y="100"/>
                      </a:lnTo>
                      <a:lnTo>
                        <a:pt x="10" y="135"/>
                      </a:lnTo>
                      <a:lnTo>
                        <a:pt x="15" y="105"/>
                      </a:lnTo>
                      <a:lnTo>
                        <a:pt x="7" y="86"/>
                      </a:lnTo>
                      <a:lnTo>
                        <a:pt x="21" y="73"/>
                      </a:lnTo>
                      <a:lnTo>
                        <a:pt x="26" y="45"/>
                      </a:lnTo>
                      <a:lnTo>
                        <a:pt x="47" y="2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776760" y="2575080"/>
                  <a:ext cx="39960" cy="60480"/>
                </a:xfrm>
                <a:custGeom>
                  <a:avLst/>
                  <a:gdLst/>
                  <a:ahLst/>
                  <a:rect l="l" t="t" r="r" b="b"/>
                  <a:pathLst>
                    <a:path w="108" h="184">
                      <a:moveTo>
                        <a:pt x="0" y="2"/>
                      </a:moveTo>
                      <a:lnTo>
                        <a:pt x="5" y="34"/>
                      </a:lnTo>
                      <a:lnTo>
                        <a:pt x="33" y="79"/>
                      </a:lnTo>
                      <a:lnTo>
                        <a:pt x="25" y="90"/>
                      </a:lnTo>
                      <a:lnTo>
                        <a:pt x="39" y="106"/>
                      </a:lnTo>
                      <a:lnTo>
                        <a:pt x="45" y="125"/>
                      </a:lnTo>
                      <a:lnTo>
                        <a:pt x="62" y="131"/>
                      </a:lnTo>
                      <a:lnTo>
                        <a:pt x="57" y="144"/>
                      </a:lnTo>
                      <a:lnTo>
                        <a:pt x="89" y="184"/>
                      </a:lnTo>
                      <a:lnTo>
                        <a:pt x="108" y="182"/>
                      </a:lnTo>
                      <a:lnTo>
                        <a:pt x="77" y="96"/>
                      </a:lnTo>
                      <a:lnTo>
                        <a:pt x="73" y="64"/>
                      </a:lnTo>
                      <a:lnTo>
                        <a:pt x="32" y="24"/>
                      </a:lnTo>
                      <a:lnTo>
                        <a:pt x="17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247280" y="2082960"/>
                  <a:ext cx="348120" cy="279720"/>
                </a:xfrm>
                <a:custGeom>
                  <a:avLst/>
                  <a:gdLst/>
                  <a:ahLst/>
                  <a:rect l="l" t="t" r="r" b="b"/>
                  <a:pathLst>
                    <a:path w="942" h="843">
                      <a:moveTo>
                        <a:pt x="54" y="0"/>
                      </a:moveTo>
                      <a:lnTo>
                        <a:pt x="56" y="26"/>
                      </a:lnTo>
                      <a:lnTo>
                        <a:pt x="69" y="45"/>
                      </a:lnTo>
                      <a:lnTo>
                        <a:pt x="51" y="57"/>
                      </a:lnTo>
                      <a:lnTo>
                        <a:pt x="64" y="77"/>
                      </a:lnTo>
                      <a:lnTo>
                        <a:pt x="36" y="79"/>
                      </a:lnTo>
                      <a:lnTo>
                        <a:pt x="17" y="110"/>
                      </a:lnTo>
                      <a:lnTo>
                        <a:pt x="10" y="132"/>
                      </a:lnTo>
                      <a:lnTo>
                        <a:pt x="24" y="145"/>
                      </a:lnTo>
                      <a:lnTo>
                        <a:pt x="26" y="159"/>
                      </a:lnTo>
                      <a:lnTo>
                        <a:pt x="12" y="165"/>
                      </a:lnTo>
                      <a:lnTo>
                        <a:pt x="7" y="204"/>
                      </a:lnTo>
                      <a:lnTo>
                        <a:pt x="11" y="229"/>
                      </a:lnTo>
                      <a:lnTo>
                        <a:pt x="31" y="217"/>
                      </a:lnTo>
                      <a:lnTo>
                        <a:pt x="44" y="230"/>
                      </a:lnTo>
                      <a:lnTo>
                        <a:pt x="47" y="259"/>
                      </a:lnTo>
                      <a:lnTo>
                        <a:pt x="0" y="312"/>
                      </a:lnTo>
                      <a:lnTo>
                        <a:pt x="1" y="336"/>
                      </a:lnTo>
                      <a:lnTo>
                        <a:pt x="20" y="344"/>
                      </a:lnTo>
                      <a:lnTo>
                        <a:pt x="32" y="336"/>
                      </a:lnTo>
                      <a:lnTo>
                        <a:pt x="42" y="351"/>
                      </a:lnTo>
                      <a:lnTo>
                        <a:pt x="62" y="355"/>
                      </a:lnTo>
                      <a:lnTo>
                        <a:pt x="49" y="366"/>
                      </a:lnTo>
                      <a:lnTo>
                        <a:pt x="41" y="382"/>
                      </a:lnTo>
                      <a:lnTo>
                        <a:pt x="75" y="390"/>
                      </a:lnTo>
                      <a:lnTo>
                        <a:pt x="72" y="404"/>
                      </a:lnTo>
                      <a:lnTo>
                        <a:pt x="87" y="410"/>
                      </a:lnTo>
                      <a:lnTo>
                        <a:pt x="114" y="410"/>
                      </a:lnTo>
                      <a:lnTo>
                        <a:pt x="122" y="392"/>
                      </a:lnTo>
                      <a:lnTo>
                        <a:pt x="160" y="370"/>
                      </a:lnTo>
                      <a:lnTo>
                        <a:pt x="187" y="375"/>
                      </a:lnTo>
                      <a:lnTo>
                        <a:pt x="207" y="370"/>
                      </a:lnTo>
                      <a:lnTo>
                        <a:pt x="218" y="384"/>
                      </a:lnTo>
                      <a:lnTo>
                        <a:pt x="262" y="404"/>
                      </a:lnTo>
                      <a:lnTo>
                        <a:pt x="276" y="424"/>
                      </a:lnTo>
                      <a:lnTo>
                        <a:pt x="298" y="432"/>
                      </a:lnTo>
                      <a:lnTo>
                        <a:pt x="313" y="449"/>
                      </a:lnTo>
                      <a:lnTo>
                        <a:pt x="328" y="476"/>
                      </a:lnTo>
                      <a:lnTo>
                        <a:pt x="347" y="487"/>
                      </a:lnTo>
                      <a:lnTo>
                        <a:pt x="356" y="511"/>
                      </a:lnTo>
                      <a:lnTo>
                        <a:pt x="370" y="517"/>
                      </a:lnTo>
                      <a:lnTo>
                        <a:pt x="386" y="505"/>
                      </a:lnTo>
                      <a:lnTo>
                        <a:pt x="385" y="485"/>
                      </a:lnTo>
                      <a:lnTo>
                        <a:pt x="410" y="502"/>
                      </a:lnTo>
                      <a:lnTo>
                        <a:pt x="430" y="496"/>
                      </a:lnTo>
                      <a:lnTo>
                        <a:pt x="451" y="511"/>
                      </a:lnTo>
                      <a:lnTo>
                        <a:pt x="420" y="517"/>
                      </a:lnTo>
                      <a:lnTo>
                        <a:pt x="401" y="531"/>
                      </a:lnTo>
                      <a:lnTo>
                        <a:pt x="430" y="583"/>
                      </a:lnTo>
                      <a:lnTo>
                        <a:pt x="457" y="587"/>
                      </a:lnTo>
                      <a:lnTo>
                        <a:pt x="473" y="562"/>
                      </a:lnTo>
                      <a:lnTo>
                        <a:pt x="470" y="535"/>
                      </a:lnTo>
                      <a:lnTo>
                        <a:pt x="496" y="551"/>
                      </a:lnTo>
                      <a:lnTo>
                        <a:pt x="517" y="583"/>
                      </a:lnTo>
                      <a:lnTo>
                        <a:pt x="495" y="602"/>
                      </a:lnTo>
                      <a:lnTo>
                        <a:pt x="498" y="628"/>
                      </a:lnTo>
                      <a:lnTo>
                        <a:pt x="527" y="680"/>
                      </a:lnTo>
                      <a:lnTo>
                        <a:pt x="562" y="717"/>
                      </a:lnTo>
                      <a:lnTo>
                        <a:pt x="594" y="723"/>
                      </a:lnTo>
                      <a:lnTo>
                        <a:pt x="621" y="742"/>
                      </a:lnTo>
                      <a:lnTo>
                        <a:pt x="639" y="766"/>
                      </a:lnTo>
                      <a:lnTo>
                        <a:pt x="662" y="768"/>
                      </a:lnTo>
                      <a:lnTo>
                        <a:pt x="676" y="786"/>
                      </a:lnTo>
                      <a:lnTo>
                        <a:pt x="788" y="838"/>
                      </a:lnTo>
                      <a:lnTo>
                        <a:pt x="826" y="843"/>
                      </a:lnTo>
                      <a:lnTo>
                        <a:pt x="876" y="816"/>
                      </a:lnTo>
                      <a:lnTo>
                        <a:pt x="900" y="821"/>
                      </a:lnTo>
                      <a:lnTo>
                        <a:pt x="935" y="810"/>
                      </a:lnTo>
                      <a:lnTo>
                        <a:pt x="942" y="792"/>
                      </a:lnTo>
                      <a:lnTo>
                        <a:pt x="929" y="766"/>
                      </a:lnTo>
                      <a:lnTo>
                        <a:pt x="898" y="722"/>
                      </a:lnTo>
                      <a:lnTo>
                        <a:pt x="887" y="696"/>
                      </a:lnTo>
                      <a:lnTo>
                        <a:pt x="856" y="680"/>
                      </a:lnTo>
                      <a:lnTo>
                        <a:pt x="857" y="650"/>
                      </a:lnTo>
                      <a:lnTo>
                        <a:pt x="848" y="620"/>
                      </a:lnTo>
                      <a:lnTo>
                        <a:pt x="813" y="580"/>
                      </a:lnTo>
                      <a:lnTo>
                        <a:pt x="781" y="567"/>
                      </a:lnTo>
                      <a:lnTo>
                        <a:pt x="796" y="554"/>
                      </a:lnTo>
                      <a:lnTo>
                        <a:pt x="786" y="534"/>
                      </a:lnTo>
                      <a:lnTo>
                        <a:pt x="793" y="509"/>
                      </a:lnTo>
                      <a:lnTo>
                        <a:pt x="812" y="482"/>
                      </a:lnTo>
                      <a:lnTo>
                        <a:pt x="813" y="449"/>
                      </a:lnTo>
                      <a:lnTo>
                        <a:pt x="806" y="399"/>
                      </a:lnTo>
                      <a:lnTo>
                        <a:pt x="779" y="359"/>
                      </a:lnTo>
                      <a:lnTo>
                        <a:pt x="769" y="335"/>
                      </a:lnTo>
                      <a:lnTo>
                        <a:pt x="767" y="312"/>
                      </a:lnTo>
                      <a:lnTo>
                        <a:pt x="777" y="290"/>
                      </a:lnTo>
                      <a:lnTo>
                        <a:pt x="781" y="237"/>
                      </a:lnTo>
                      <a:lnTo>
                        <a:pt x="774" y="189"/>
                      </a:lnTo>
                      <a:lnTo>
                        <a:pt x="757" y="139"/>
                      </a:lnTo>
                      <a:lnTo>
                        <a:pt x="744" y="122"/>
                      </a:lnTo>
                      <a:lnTo>
                        <a:pt x="732" y="140"/>
                      </a:lnTo>
                      <a:lnTo>
                        <a:pt x="713" y="157"/>
                      </a:lnTo>
                      <a:lnTo>
                        <a:pt x="714" y="182"/>
                      </a:lnTo>
                      <a:lnTo>
                        <a:pt x="704" y="176"/>
                      </a:lnTo>
                      <a:lnTo>
                        <a:pt x="699" y="154"/>
                      </a:lnTo>
                      <a:lnTo>
                        <a:pt x="674" y="146"/>
                      </a:lnTo>
                      <a:lnTo>
                        <a:pt x="673" y="127"/>
                      </a:lnTo>
                      <a:lnTo>
                        <a:pt x="712" y="136"/>
                      </a:lnTo>
                      <a:lnTo>
                        <a:pt x="724" y="125"/>
                      </a:lnTo>
                      <a:lnTo>
                        <a:pt x="729" y="101"/>
                      </a:lnTo>
                      <a:lnTo>
                        <a:pt x="686" y="85"/>
                      </a:lnTo>
                      <a:lnTo>
                        <a:pt x="618" y="106"/>
                      </a:lnTo>
                      <a:lnTo>
                        <a:pt x="651" y="76"/>
                      </a:lnTo>
                      <a:lnTo>
                        <a:pt x="637" y="66"/>
                      </a:lnTo>
                      <a:lnTo>
                        <a:pt x="612" y="61"/>
                      </a:lnTo>
                      <a:lnTo>
                        <a:pt x="601" y="72"/>
                      </a:lnTo>
                      <a:lnTo>
                        <a:pt x="589" y="46"/>
                      </a:lnTo>
                      <a:lnTo>
                        <a:pt x="593" y="27"/>
                      </a:lnTo>
                      <a:lnTo>
                        <a:pt x="574" y="24"/>
                      </a:lnTo>
                      <a:lnTo>
                        <a:pt x="562" y="36"/>
                      </a:lnTo>
                      <a:lnTo>
                        <a:pt x="558" y="0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585680" y="2090880"/>
                  <a:ext cx="65160" cy="77400"/>
                </a:xfrm>
                <a:custGeom>
                  <a:avLst/>
                  <a:gdLst/>
                  <a:ahLst/>
                  <a:rect l="l" t="t" r="r" b="b"/>
                  <a:pathLst>
                    <a:path w="175" h="234">
                      <a:moveTo>
                        <a:pt x="32" y="224"/>
                      </a:moveTo>
                      <a:lnTo>
                        <a:pt x="41" y="211"/>
                      </a:lnTo>
                      <a:lnTo>
                        <a:pt x="40" y="190"/>
                      </a:lnTo>
                      <a:lnTo>
                        <a:pt x="53" y="180"/>
                      </a:lnTo>
                      <a:lnTo>
                        <a:pt x="70" y="234"/>
                      </a:lnTo>
                      <a:lnTo>
                        <a:pt x="82" y="205"/>
                      </a:lnTo>
                      <a:lnTo>
                        <a:pt x="110" y="203"/>
                      </a:lnTo>
                      <a:lnTo>
                        <a:pt x="125" y="228"/>
                      </a:lnTo>
                      <a:lnTo>
                        <a:pt x="137" y="190"/>
                      </a:lnTo>
                      <a:lnTo>
                        <a:pt x="157" y="173"/>
                      </a:lnTo>
                      <a:lnTo>
                        <a:pt x="175" y="148"/>
                      </a:lnTo>
                      <a:lnTo>
                        <a:pt x="165" y="116"/>
                      </a:lnTo>
                      <a:lnTo>
                        <a:pt x="165" y="94"/>
                      </a:lnTo>
                      <a:lnTo>
                        <a:pt x="153" y="68"/>
                      </a:lnTo>
                      <a:lnTo>
                        <a:pt x="147" y="34"/>
                      </a:lnTo>
                      <a:lnTo>
                        <a:pt x="127" y="8"/>
                      </a:lnTo>
                      <a:lnTo>
                        <a:pt x="97" y="0"/>
                      </a:lnTo>
                      <a:lnTo>
                        <a:pt x="81" y="19"/>
                      </a:lnTo>
                      <a:lnTo>
                        <a:pt x="51" y="13"/>
                      </a:lnTo>
                      <a:lnTo>
                        <a:pt x="51" y="33"/>
                      </a:lnTo>
                      <a:lnTo>
                        <a:pt x="37" y="41"/>
                      </a:lnTo>
                      <a:lnTo>
                        <a:pt x="50" y="59"/>
                      </a:lnTo>
                      <a:lnTo>
                        <a:pt x="53" y="75"/>
                      </a:lnTo>
                      <a:lnTo>
                        <a:pt x="41" y="86"/>
                      </a:lnTo>
                      <a:lnTo>
                        <a:pt x="40" y="110"/>
                      </a:lnTo>
                      <a:lnTo>
                        <a:pt x="50" y="121"/>
                      </a:lnTo>
                      <a:lnTo>
                        <a:pt x="33" y="130"/>
                      </a:lnTo>
                      <a:lnTo>
                        <a:pt x="57" y="140"/>
                      </a:lnTo>
                      <a:lnTo>
                        <a:pt x="58" y="166"/>
                      </a:lnTo>
                      <a:lnTo>
                        <a:pt x="28" y="156"/>
                      </a:lnTo>
                      <a:lnTo>
                        <a:pt x="8" y="165"/>
                      </a:lnTo>
                      <a:lnTo>
                        <a:pt x="0" y="178"/>
                      </a:lnTo>
                      <a:lnTo>
                        <a:pt x="10" y="184"/>
                      </a:lnTo>
                      <a:lnTo>
                        <a:pt x="6" y="196"/>
                      </a:lnTo>
                      <a:lnTo>
                        <a:pt x="21" y="205"/>
                      </a:lnTo>
                      <a:lnTo>
                        <a:pt x="32" y="2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695760" y="2082960"/>
                  <a:ext cx="50760" cy="31680"/>
                </a:xfrm>
                <a:custGeom>
                  <a:avLst/>
                  <a:gdLst/>
                  <a:ahLst/>
                  <a:rect l="l" t="t" r="r" b="b"/>
                  <a:pathLst>
                    <a:path w="139" h="97">
                      <a:moveTo>
                        <a:pt x="17" y="0"/>
                      </a:moveTo>
                      <a:lnTo>
                        <a:pt x="2" y="30"/>
                      </a:lnTo>
                      <a:lnTo>
                        <a:pt x="0" y="56"/>
                      </a:lnTo>
                      <a:lnTo>
                        <a:pt x="21" y="56"/>
                      </a:lnTo>
                      <a:lnTo>
                        <a:pt x="40" y="64"/>
                      </a:lnTo>
                      <a:lnTo>
                        <a:pt x="65" y="56"/>
                      </a:lnTo>
                      <a:lnTo>
                        <a:pt x="71" y="80"/>
                      </a:lnTo>
                      <a:lnTo>
                        <a:pt x="90" y="85"/>
                      </a:lnTo>
                      <a:lnTo>
                        <a:pt x="106" y="97"/>
                      </a:lnTo>
                      <a:lnTo>
                        <a:pt x="138" y="46"/>
                      </a:lnTo>
                      <a:lnTo>
                        <a:pt x="139" y="14"/>
                      </a:lnTo>
                      <a:lnTo>
                        <a:pt x="137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492080" y="3255840"/>
                  <a:ext cx="195120" cy="115920"/>
                </a:xfrm>
                <a:custGeom>
                  <a:avLst/>
                  <a:gdLst/>
                  <a:ahLst/>
                  <a:rect l="l" t="t" r="r" b="b"/>
                  <a:pathLst>
                    <a:path w="530" h="350">
                      <a:moveTo>
                        <a:pt x="522" y="350"/>
                      </a:moveTo>
                      <a:lnTo>
                        <a:pt x="530" y="299"/>
                      </a:lnTo>
                      <a:lnTo>
                        <a:pt x="514" y="296"/>
                      </a:lnTo>
                      <a:lnTo>
                        <a:pt x="486" y="310"/>
                      </a:lnTo>
                      <a:lnTo>
                        <a:pt x="456" y="306"/>
                      </a:lnTo>
                      <a:lnTo>
                        <a:pt x="442" y="314"/>
                      </a:lnTo>
                      <a:lnTo>
                        <a:pt x="429" y="310"/>
                      </a:lnTo>
                      <a:lnTo>
                        <a:pt x="394" y="273"/>
                      </a:lnTo>
                      <a:lnTo>
                        <a:pt x="361" y="269"/>
                      </a:lnTo>
                      <a:lnTo>
                        <a:pt x="329" y="279"/>
                      </a:lnTo>
                      <a:lnTo>
                        <a:pt x="307" y="279"/>
                      </a:lnTo>
                      <a:lnTo>
                        <a:pt x="279" y="264"/>
                      </a:lnTo>
                      <a:lnTo>
                        <a:pt x="274" y="230"/>
                      </a:lnTo>
                      <a:lnTo>
                        <a:pt x="249" y="193"/>
                      </a:lnTo>
                      <a:lnTo>
                        <a:pt x="224" y="166"/>
                      </a:lnTo>
                      <a:lnTo>
                        <a:pt x="230" y="153"/>
                      </a:lnTo>
                      <a:lnTo>
                        <a:pt x="236" y="105"/>
                      </a:lnTo>
                      <a:lnTo>
                        <a:pt x="249" y="81"/>
                      </a:lnTo>
                      <a:lnTo>
                        <a:pt x="280" y="38"/>
                      </a:lnTo>
                      <a:lnTo>
                        <a:pt x="300" y="30"/>
                      </a:lnTo>
                      <a:lnTo>
                        <a:pt x="300" y="30"/>
                      </a:lnTo>
                      <a:lnTo>
                        <a:pt x="307" y="14"/>
                      </a:lnTo>
                      <a:lnTo>
                        <a:pt x="299" y="1"/>
                      </a:lnTo>
                      <a:lnTo>
                        <a:pt x="281" y="0"/>
                      </a:lnTo>
                      <a:lnTo>
                        <a:pt x="256" y="34"/>
                      </a:lnTo>
                      <a:lnTo>
                        <a:pt x="199" y="78"/>
                      </a:lnTo>
                      <a:lnTo>
                        <a:pt x="166" y="78"/>
                      </a:lnTo>
                      <a:lnTo>
                        <a:pt x="156" y="96"/>
                      </a:lnTo>
                      <a:lnTo>
                        <a:pt x="135" y="94"/>
                      </a:lnTo>
                      <a:lnTo>
                        <a:pt x="116" y="105"/>
                      </a:lnTo>
                      <a:lnTo>
                        <a:pt x="105" y="124"/>
                      </a:lnTo>
                      <a:lnTo>
                        <a:pt x="106" y="176"/>
                      </a:lnTo>
                      <a:lnTo>
                        <a:pt x="86" y="183"/>
                      </a:lnTo>
                      <a:lnTo>
                        <a:pt x="75" y="204"/>
                      </a:lnTo>
                      <a:lnTo>
                        <a:pt x="54" y="228"/>
                      </a:lnTo>
                      <a:lnTo>
                        <a:pt x="56" y="266"/>
                      </a:lnTo>
                      <a:lnTo>
                        <a:pt x="19" y="230"/>
                      </a:lnTo>
                      <a:lnTo>
                        <a:pt x="19" y="228"/>
                      </a:lnTo>
                      <a:lnTo>
                        <a:pt x="31" y="259"/>
                      </a:lnTo>
                      <a:lnTo>
                        <a:pt x="23" y="274"/>
                      </a:lnTo>
                      <a:lnTo>
                        <a:pt x="10" y="280"/>
                      </a:lnTo>
                      <a:lnTo>
                        <a:pt x="0" y="299"/>
                      </a:lnTo>
                      <a:lnTo>
                        <a:pt x="0" y="299"/>
                      </a:lnTo>
                      <a:lnTo>
                        <a:pt x="30" y="333"/>
                      </a:lnTo>
                      <a:lnTo>
                        <a:pt x="29" y="350"/>
                      </a:lnTo>
                      <a:lnTo>
                        <a:pt x="522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574520" y="3255840"/>
                  <a:ext cx="128520" cy="115920"/>
                </a:xfrm>
                <a:custGeom>
                  <a:avLst/>
                  <a:gdLst/>
                  <a:ahLst/>
                  <a:rect l="l" t="t" r="r" b="b"/>
                  <a:pathLst>
                    <a:path w="348" h="350">
                      <a:moveTo>
                        <a:pt x="348" y="350"/>
                      </a:moveTo>
                      <a:lnTo>
                        <a:pt x="348" y="64"/>
                      </a:lnTo>
                      <a:lnTo>
                        <a:pt x="348" y="53"/>
                      </a:lnTo>
                      <a:lnTo>
                        <a:pt x="243" y="78"/>
                      </a:lnTo>
                      <a:lnTo>
                        <a:pt x="226" y="40"/>
                      </a:lnTo>
                      <a:lnTo>
                        <a:pt x="202" y="31"/>
                      </a:lnTo>
                      <a:lnTo>
                        <a:pt x="157" y="33"/>
                      </a:lnTo>
                      <a:lnTo>
                        <a:pt x="145" y="0"/>
                      </a:lnTo>
                      <a:lnTo>
                        <a:pt x="126" y="15"/>
                      </a:lnTo>
                      <a:lnTo>
                        <a:pt x="137" y="35"/>
                      </a:lnTo>
                      <a:lnTo>
                        <a:pt x="80" y="75"/>
                      </a:lnTo>
                      <a:lnTo>
                        <a:pt x="83" y="106"/>
                      </a:lnTo>
                      <a:lnTo>
                        <a:pt x="105" y="134"/>
                      </a:lnTo>
                      <a:lnTo>
                        <a:pt x="107" y="165"/>
                      </a:lnTo>
                      <a:lnTo>
                        <a:pt x="80" y="178"/>
                      </a:lnTo>
                      <a:lnTo>
                        <a:pt x="73" y="156"/>
                      </a:lnTo>
                      <a:lnTo>
                        <a:pt x="58" y="140"/>
                      </a:lnTo>
                      <a:lnTo>
                        <a:pt x="77" y="94"/>
                      </a:lnTo>
                      <a:lnTo>
                        <a:pt x="51" y="50"/>
                      </a:lnTo>
                      <a:lnTo>
                        <a:pt x="75" y="38"/>
                      </a:lnTo>
                      <a:lnTo>
                        <a:pt x="76" y="30"/>
                      </a:lnTo>
                      <a:lnTo>
                        <a:pt x="76" y="30"/>
                      </a:lnTo>
                      <a:lnTo>
                        <a:pt x="56" y="38"/>
                      </a:lnTo>
                      <a:lnTo>
                        <a:pt x="25" y="81"/>
                      </a:lnTo>
                      <a:lnTo>
                        <a:pt x="12" y="105"/>
                      </a:lnTo>
                      <a:lnTo>
                        <a:pt x="6" y="153"/>
                      </a:lnTo>
                      <a:lnTo>
                        <a:pt x="0" y="166"/>
                      </a:lnTo>
                      <a:lnTo>
                        <a:pt x="25" y="193"/>
                      </a:lnTo>
                      <a:lnTo>
                        <a:pt x="50" y="230"/>
                      </a:lnTo>
                      <a:lnTo>
                        <a:pt x="55" y="264"/>
                      </a:lnTo>
                      <a:lnTo>
                        <a:pt x="83" y="279"/>
                      </a:lnTo>
                      <a:lnTo>
                        <a:pt x="105" y="279"/>
                      </a:lnTo>
                      <a:lnTo>
                        <a:pt x="137" y="269"/>
                      </a:lnTo>
                      <a:lnTo>
                        <a:pt x="170" y="273"/>
                      </a:lnTo>
                      <a:lnTo>
                        <a:pt x="205" y="310"/>
                      </a:lnTo>
                      <a:lnTo>
                        <a:pt x="218" y="314"/>
                      </a:lnTo>
                      <a:lnTo>
                        <a:pt x="232" y="306"/>
                      </a:lnTo>
                      <a:lnTo>
                        <a:pt x="262" y="310"/>
                      </a:lnTo>
                      <a:lnTo>
                        <a:pt x="290" y="296"/>
                      </a:lnTo>
                      <a:lnTo>
                        <a:pt x="306" y="299"/>
                      </a:lnTo>
                      <a:lnTo>
                        <a:pt x="298" y="350"/>
                      </a:lnTo>
                      <a:lnTo>
                        <a:pt x="348" y="35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453560" y="3319560"/>
                  <a:ext cx="50040" cy="35640"/>
                </a:xfrm>
                <a:custGeom>
                  <a:avLst/>
                  <a:gdLst/>
                  <a:ahLst/>
                  <a:rect l="l" t="t" r="r" b="b"/>
                  <a:pathLst>
                    <a:path w="136" h="109">
                      <a:moveTo>
                        <a:pt x="105" y="109"/>
                      </a:moveTo>
                      <a:lnTo>
                        <a:pt x="115" y="90"/>
                      </a:lnTo>
                      <a:lnTo>
                        <a:pt x="128" y="84"/>
                      </a:lnTo>
                      <a:lnTo>
                        <a:pt x="136" y="69"/>
                      </a:lnTo>
                      <a:lnTo>
                        <a:pt x="124" y="38"/>
                      </a:lnTo>
                      <a:lnTo>
                        <a:pt x="124" y="40"/>
                      </a:lnTo>
                      <a:lnTo>
                        <a:pt x="80" y="8"/>
                      </a:lnTo>
                      <a:lnTo>
                        <a:pt x="36" y="0"/>
                      </a:lnTo>
                      <a:lnTo>
                        <a:pt x="11" y="1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21" y="30"/>
                      </a:lnTo>
                      <a:lnTo>
                        <a:pt x="35" y="29"/>
                      </a:lnTo>
                      <a:lnTo>
                        <a:pt x="59" y="40"/>
                      </a:lnTo>
                      <a:lnTo>
                        <a:pt x="73" y="60"/>
                      </a:lnTo>
                      <a:lnTo>
                        <a:pt x="88" y="59"/>
                      </a:lnTo>
                      <a:lnTo>
                        <a:pt x="78" y="75"/>
                      </a:lnTo>
                      <a:lnTo>
                        <a:pt x="93" y="104"/>
                      </a:lnTo>
                      <a:lnTo>
                        <a:pt x="105" y="109"/>
                      </a:lnTo>
                      <a:lnTo>
                        <a:pt x="105" y="10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448880" y="332532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30" h="25">
                      <a:moveTo>
                        <a:pt x="0" y="3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0" y="17"/>
                      </a:lnTo>
                      <a:lnTo>
                        <a:pt x="30" y="17"/>
                      </a:lnTo>
                      <a:lnTo>
                        <a:pt x="25" y="25"/>
                      </a:lnTo>
                      <a:lnTo>
                        <a:pt x="23" y="25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396680" y="3323160"/>
                  <a:ext cx="60840" cy="38520"/>
                </a:xfrm>
                <a:custGeom>
                  <a:avLst/>
                  <a:gdLst/>
                  <a:ahLst/>
                  <a:rect l="l" t="t" r="r" b="b"/>
                  <a:pathLst>
                    <a:path w="166" h="115">
                      <a:moveTo>
                        <a:pt x="17" y="0"/>
                      </a:moveTo>
                      <a:lnTo>
                        <a:pt x="30" y="9"/>
                      </a:lnTo>
                      <a:lnTo>
                        <a:pt x="40" y="29"/>
                      </a:lnTo>
                      <a:lnTo>
                        <a:pt x="60" y="27"/>
                      </a:lnTo>
                      <a:lnTo>
                        <a:pt x="77" y="39"/>
                      </a:lnTo>
                      <a:lnTo>
                        <a:pt x="141" y="7"/>
                      </a:lnTo>
                      <a:lnTo>
                        <a:pt x="141" y="7"/>
                      </a:lnTo>
                      <a:lnTo>
                        <a:pt x="164" y="29"/>
                      </a:lnTo>
                      <a:lnTo>
                        <a:pt x="166" y="29"/>
                      </a:lnTo>
                      <a:lnTo>
                        <a:pt x="162" y="40"/>
                      </a:lnTo>
                      <a:lnTo>
                        <a:pt x="126" y="62"/>
                      </a:lnTo>
                      <a:lnTo>
                        <a:pt x="132" y="80"/>
                      </a:lnTo>
                      <a:lnTo>
                        <a:pt x="153" y="95"/>
                      </a:lnTo>
                      <a:lnTo>
                        <a:pt x="131" y="109"/>
                      </a:lnTo>
                      <a:lnTo>
                        <a:pt x="110" y="115"/>
                      </a:lnTo>
                      <a:lnTo>
                        <a:pt x="103" y="86"/>
                      </a:lnTo>
                      <a:lnTo>
                        <a:pt x="77" y="89"/>
                      </a:lnTo>
                      <a:lnTo>
                        <a:pt x="65" y="74"/>
                      </a:lnTo>
                      <a:lnTo>
                        <a:pt x="38" y="67"/>
                      </a:lnTo>
                      <a:lnTo>
                        <a:pt x="13" y="65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8" y="52"/>
                      </a:lnTo>
                      <a:lnTo>
                        <a:pt x="8" y="35"/>
                      </a:lnTo>
                      <a:lnTo>
                        <a:pt x="1" y="22"/>
                      </a:lnTo>
                      <a:lnTo>
                        <a:pt x="1" y="7"/>
                      </a:lnTo>
                      <a:lnTo>
                        <a:pt x="15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341600" y="3302640"/>
                  <a:ext cx="60840" cy="4248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1" y="6"/>
                      </a:moveTo>
                      <a:lnTo>
                        <a:pt x="0" y="41"/>
                      </a:lnTo>
                      <a:lnTo>
                        <a:pt x="11" y="61"/>
                      </a:lnTo>
                      <a:lnTo>
                        <a:pt x="29" y="65"/>
                      </a:lnTo>
                      <a:lnTo>
                        <a:pt x="36" y="72"/>
                      </a:lnTo>
                      <a:lnTo>
                        <a:pt x="51" y="55"/>
                      </a:lnTo>
                      <a:lnTo>
                        <a:pt x="66" y="71"/>
                      </a:lnTo>
                      <a:lnTo>
                        <a:pt x="95" y="85"/>
                      </a:lnTo>
                      <a:lnTo>
                        <a:pt x="114" y="100"/>
                      </a:lnTo>
                      <a:lnTo>
                        <a:pt x="112" y="125"/>
                      </a:lnTo>
                      <a:lnTo>
                        <a:pt x="137" y="127"/>
                      </a:lnTo>
                      <a:lnTo>
                        <a:pt x="149" y="131"/>
                      </a:lnTo>
                      <a:lnTo>
                        <a:pt x="149" y="131"/>
                      </a:lnTo>
                      <a:lnTo>
                        <a:pt x="157" y="117"/>
                      </a:lnTo>
                      <a:lnTo>
                        <a:pt x="157" y="100"/>
                      </a:lnTo>
                      <a:lnTo>
                        <a:pt x="150" y="87"/>
                      </a:lnTo>
                      <a:lnTo>
                        <a:pt x="150" y="72"/>
                      </a:lnTo>
                      <a:lnTo>
                        <a:pt x="164" y="65"/>
                      </a:lnTo>
                      <a:lnTo>
                        <a:pt x="166" y="65"/>
                      </a:lnTo>
                      <a:lnTo>
                        <a:pt x="135" y="47"/>
                      </a:lnTo>
                      <a:lnTo>
                        <a:pt x="106" y="2"/>
                      </a:lnTo>
                      <a:lnTo>
                        <a:pt x="105" y="5"/>
                      </a:lnTo>
                      <a:lnTo>
                        <a:pt x="91" y="11"/>
                      </a:lnTo>
                      <a:lnTo>
                        <a:pt x="62" y="2"/>
                      </a:lnTo>
                      <a:lnTo>
                        <a:pt x="41" y="7"/>
                      </a:ln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304880" y="3235680"/>
                  <a:ext cx="77400" cy="694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14" y="115"/>
                      </a:moveTo>
                      <a:lnTo>
                        <a:pt x="0" y="117"/>
                      </a:lnTo>
                      <a:lnTo>
                        <a:pt x="17" y="137"/>
                      </a:lnTo>
                      <a:lnTo>
                        <a:pt x="101" y="207"/>
                      </a:lnTo>
                      <a:lnTo>
                        <a:pt x="100" y="207"/>
                      </a:lnTo>
                      <a:lnTo>
                        <a:pt x="110" y="201"/>
                      </a:lnTo>
                      <a:lnTo>
                        <a:pt x="141" y="208"/>
                      </a:lnTo>
                      <a:lnTo>
                        <a:pt x="162" y="203"/>
                      </a:lnTo>
                      <a:lnTo>
                        <a:pt x="191" y="212"/>
                      </a:lnTo>
                      <a:lnTo>
                        <a:pt x="205" y="206"/>
                      </a:lnTo>
                      <a:lnTo>
                        <a:pt x="206" y="203"/>
                      </a:lnTo>
                      <a:lnTo>
                        <a:pt x="195" y="190"/>
                      </a:lnTo>
                      <a:lnTo>
                        <a:pt x="204" y="168"/>
                      </a:lnTo>
                      <a:lnTo>
                        <a:pt x="200" y="142"/>
                      </a:lnTo>
                      <a:lnTo>
                        <a:pt x="206" y="113"/>
                      </a:lnTo>
                      <a:lnTo>
                        <a:pt x="200" y="60"/>
                      </a:lnTo>
                      <a:lnTo>
                        <a:pt x="211" y="37"/>
                      </a:lnTo>
                      <a:lnTo>
                        <a:pt x="206" y="0"/>
                      </a:lnTo>
                      <a:lnTo>
                        <a:pt x="205" y="0"/>
                      </a:lnTo>
                      <a:lnTo>
                        <a:pt x="157" y="22"/>
                      </a:lnTo>
                      <a:lnTo>
                        <a:pt x="129" y="22"/>
                      </a:lnTo>
                      <a:lnTo>
                        <a:pt x="120" y="41"/>
                      </a:lnTo>
                      <a:lnTo>
                        <a:pt x="95" y="61"/>
                      </a:lnTo>
                      <a:lnTo>
                        <a:pt x="64" y="68"/>
                      </a:lnTo>
                      <a:lnTo>
                        <a:pt x="41" y="87"/>
                      </a:lnTo>
                      <a:lnTo>
                        <a:pt x="35" y="103"/>
                      </a:lnTo>
                      <a:lnTo>
                        <a:pt x="24" y="115"/>
                      </a:lnTo>
                      <a:lnTo>
                        <a:pt x="14" y="115"/>
                      </a:lnTo>
                      <a:lnTo>
                        <a:pt x="14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260600" y="3252600"/>
                  <a:ext cx="41760" cy="19800"/>
                </a:xfrm>
                <a:custGeom>
                  <a:avLst/>
                  <a:gdLst/>
                  <a:ahLst/>
                  <a:rect l="l" t="t" r="r" b="b"/>
                  <a:pathLst>
                    <a:path w="114" h="62">
                      <a:moveTo>
                        <a:pt x="26" y="0"/>
                      </a:moveTo>
                      <a:lnTo>
                        <a:pt x="21" y="15"/>
                      </a:lnTo>
                      <a:lnTo>
                        <a:pt x="6" y="25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15" y="52"/>
                      </a:lnTo>
                      <a:lnTo>
                        <a:pt x="36" y="51"/>
                      </a:lnTo>
                      <a:lnTo>
                        <a:pt x="61" y="62"/>
                      </a:lnTo>
                      <a:lnTo>
                        <a:pt x="111" y="59"/>
                      </a:lnTo>
                      <a:lnTo>
                        <a:pt x="112" y="46"/>
                      </a:lnTo>
                      <a:lnTo>
                        <a:pt x="114" y="46"/>
                      </a:lnTo>
                      <a:lnTo>
                        <a:pt x="109" y="26"/>
                      </a:lnTo>
                      <a:lnTo>
                        <a:pt x="94" y="20"/>
                      </a:lnTo>
                      <a:lnTo>
                        <a:pt x="80" y="26"/>
                      </a:lnTo>
                      <a:lnTo>
                        <a:pt x="43" y="4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269240" y="3222720"/>
                  <a:ext cx="110880" cy="50400"/>
                </a:xfrm>
                <a:custGeom>
                  <a:avLst/>
                  <a:gdLst/>
                  <a:ahLst/>
                  <a:rect l="l" t="t" r="r" b="b"/>
                  <a:pathLst>
                    <a:path w="300" h="153">
                      <a:moveTo>
                        <a:pt x="299" y="38"/>
                      </a:moveTo>
                      <a:lnTo>
                        <a:pt x="251" y="60"/>
                      </a:lnTo>
                      <a:lnTo>
                        <a:pt x="223" y="60"/>
                      </a:lnTo>
                      <a:lnTo>
                        <a:pt x="214" y="79"/>
                      </a:lnTo>
                      <a:lnTo>
                        <a:pt x="189" y="99"/>
                      </a:lnTo>
                      <a:lnTo>
                        <a:pt x="158" y="106"/>
                      </a:lnTo>
                      <a:lnTo>
                        <a:pt x="135" y="125"/>
                      </a:lnTo>
                      <a:lnTo>
                        <a:pt x="129" y="141"/>
                      </a:lnTo>
                      <a:lnTo>
                        <a:pt x="118" y="153"/>
                      </a:lnTo>
                      <a:lnTo>
                        <a:pt x="108" y="153"/>
                      </a:lnTo>
                      <a:lnTo>
                        <a:pt x="108" y="153"/>
                      </a:lnTo>
                      <a:lnTo>
                        <a:pt x="86" y="135"/>
                      </a:lnTo>
                      <a:lnTo>
                        <a:pt x="88" y="135"/>
                      </a:lnTo>
                      <a:lnTo>
                        <a:pt x="83" y="115"/>
                      </a:lnTo>
                      <a:lnTo>
                        <a:pt x="68" y="109"/>
                      </a:lnTo>
                      <a:lnTo>
                        <a:pt x="54" y="115"/>
                      </a:lnTo>
                      <a:lnTo>
                        <a:pt x="17" y="93"/>
                      </a:lnTo>
                      <a:lnTo>
                        <a:pt x="0" y="89"/>
                      </a:lnTo>
                      <a:lnTo>
                        <a:pt x="12" y="78"/>
                      </a:lnTo>
                      <a:lnTo>
                        <a:pt x="10" y="64"/>
                      </a:lnTo>
                      <a:lnTo>
                        <a:pt x="43" y="35"/>
                      </a:lnTo>
                      <a:lnTo>
                        <a:pt x="49" y="20"/>
                      </a:lnTo>
                      <a:lnTo>
                        <a:pt x="50" y="20"/>
                      </a:lnTo>
                      <a:lnTo>
                        <a:pt x="60" y="29"/>
                      </a:lnTo>
                      <a:lnTo>
                        <a:pt x="88" y="14"/>
                      </a:lnTo>
                      <a:lnTo>
                        <a:pt x="116" y="20"/>
                      </a:lnTo>
                      <a:lnTo>
                        <a:pt x="163" y="5"/>
                      </a:lnTo>
                      <a:lnTo>
                        <a:pt x="188" y="6"/>
                      </a:lnTo>
                      <a:lnTo>
                        <a:pt x="213" y="0"/>
                      </a:lnTo>
                      <a:lnTo>
                        <a:pt x="249" y="5"/>
                      </a:lnTo>
                      <a:lnTo>
                        <a:pt x="273" y="25"/>
                      </a:lnTo>
                      <a:lnTo>
                        <a:pt x="300" y="38"/>
                      </a:lnTo>
                      <a:lnTo>
                        <a:pt x="299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28800" y="3130560"/>
                  <a:ext cx="486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110">
                      <a:moveTo>
                        <a:pt x="133" y="90"/>
                      </a:moveTo>
                      <a:lnTo>
                        <a:pt x="133" y="76"/>
                      </a:lnTo>
                      <a:lnTo>
                        <a:pt x="124" y="60"/>
                      </a:lnTo>
                      <a:lnTo>
                        <a:pt x="129" y="29"/>
                      </a:lnTo>
                      <a:lnTo>
                        <a:pt x="116" y="0"/>
                      </a:lnTo>
                      <a:lnTo>
                        <a:pt x="114" y="2"/>
                      </a:lnTo>
                      <a:lnTo>
                        <a:pt x="108" y="10"/>
                      </a:lnTo>
                      <a:lnTo>
                        <a:pt x="79" y="3"/>
                      </a:lnTo>
                      <a:lnTo>
                        <a:pt x="50" y="8"/>
                      </a:lnTo>
                      <a:lnTo>
                        <a:pt x="38" y="23"/>
                      </a:lnTo>
                      <a:lnTo>
                        <a:pt x="60" y="18"/>
                      </a:lnTo>
                      <a:lnTo>
                        <a:pt x="75" y="34"/>
                      </a:lnTo>
                      <a:lnTo>
                        <a:pt x="79" y="50"/>
                      </a:lnTo>
                      <a:lnTo>
                        <a:pt x="100" y="69"/>
                      </a:lnTo>
                      <a:lnTo>
                        <a:pt x="83" y="84"/>
                      </a:lnTo>
                      <a:lnTo>
                        <a:pt x="60" y="89"/>
                      </a:lnTo>
                      <a:lnTo>
                        <a:pt x="14" y="83"/>
                      </a:lnTo>
                      <a:lnTo>
                        <a:pt x="0" y="99"/>
                      </a:lnTo>
                      <a:lnTo>
                        <a:pt x="35" y="110"/>
                      </a:lnTo>
                      <a:lnTo>
                        <a:pt x="41" y="101"/>
                      </a:lnTo>
                      <a:lnTo>
                        <a:pt x="133" y="93"/>
                      </a:lnTo>
                      <a:lnTo>
                        <a:pt x="133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571280" y="3127320"/>
                  <a:ext cx="65160" cy="39600"/>
                </a:xfrm>
                <a:custGeom>
                  <a:avLst/>
                  <a:gdLst/>
                  <a:ahLst/>
                  <a:rect l="l" t="t" r="r" b="b"/>
                  <a:pathLst>
                    <a:path w="177" h="120">
                      <a:moveTo>
                        <a:pt x="19" y="97"/>
                      </a:moveTo>
                      <a:lnTo>
                        <a:pt x="19" y="83"/>
                      </a:lnTo>
                      <a:lnTo>
                        <a:pt x="10" y="67"/>
                      </a:lnTo>
                      <a:lnTo>
                        <a:pt x="15" y="36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40" y="1"/>
                      </a:lnTo>
                      <a:lnTo>
                        <a:pt x="91" y="0"/>
                      </a:lnTo>
                      <a:lnTo>
                        <a:pt x="102" y="15"/>
                      </a:lnTo>
                      <a:lnTo>
                        <a:pt x="130" y="9"/>
                      </a:lnTo>
                      <a:lnTo>
                        <a:pt x="112" y="25"/>
                      </a:lnTo>
                      <a:lnTo>
                        <a:pt x="153" y="27"/>
                      </a:lnTo>
                      <a:lnTo>
                        <a:pt x="177" y="43"/>
                      </a:lnTo>
                      <a:lnTo>
                        <a:pt x="165" y="68"/>
                      </a:lnTo>
                      <a:lnTo>
                        <a:pt x="146" y="55"/>
                      </a:lnTo>
                      <a:lnTo>
                        <a:pt x="122" y="60"/>
                      </a:lnTo>
                      <a:lnTo>
                        <a:pt x="73" y="82"/>
                      </a:lnTo>
                      <a:lnTo>
                        <a:pt x="72" y="70"/>
                      </a:lnTo>
                      <a:lnTo>
                        <a:pt x="48" y="82"/>
                      </a:lnTo>
                      <a:lnTo>
                        <a:pt x="52" y="95"/>
                      </a:lnTo>
                      <a:lnTo>
                        <a:pt x="40" y="120"/>
                      </a:lnTo>
                      <a:lnTo>
                        <a:pt x="19" y="100"/>
                      </a:lnTo>
                      <a:lnTo>
                        <a:pt x="19" y="9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219560" y="319608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185" h="207">
                      <a:moveTo>
                        <a:pt x="160" y="95"/>
                      </a:moveTo>
                      <a:lnTo>
                        <a:pt x="148" y="95"/>
                      </a:lnTo>
                      <a:lnTo>
                        <a:pt x="141" y="81"/>
                      </a:lnTo>
                      <a:lnTo>
                        <a:pt x="138" y="0"/>
                      </a:lnTo>
                      <a:lnTo>
                        <a:pt x="66" y="4"/>
                      </a:lnTo>
                      <a:lnTo>
                        <a:pt x="55" y="14"/>
                      </a:lnTo>
                      <a:lnTo>
                        <a:pt x="55" y="29"/>
                      </a:lnTo>
                      <a:lnTo>
                        <a:pt x="40" y="29"/>
                      </a:lnTo>
                      <a:lnTo>
                        <a:pt x="46" y="46"/>
                      </a:lnTo>
                      <a:lnTo>
                        <a:pt x="60" y="56"/>
                      </a:lnTo>
                      <a:lnTo>
                        <a:pt x="79" y="79"/>
                      </a:lnTo>
                      <a:lnTo>
                        <a:pt x="65" y="90"/>
                      </a:lnTo>
                      <a:lnTo>
                        <a:pt x="34" y="94"/>
                      </a:lnTo>
                      <a:lnTo>
                        <a:pt x="4" y="146"/>
                      </a:lnTo>
                      <a:lnTo>
                        <a:pt x="0" y="172"/>
                      </a:lnTo>
                      <a:lnTo>
                        <a:pt x="0" y="174"/>
                      </a:lnTo>
                      <a:lnTo>
                        <a:pt x="13" y="185"/>
                      </a:lnTo>
                      <a:lnTo>
                        <a:pt x="38" y="195"/>
                      </a:lnTo>
                      <a:lnTo>
                        <a:pt x="63" y="202"/>
                      </a:lnTo>
                      <a:lnTo>
                        <a:pt x="88" y="200"/>
                      </a:lnTo>
                      <a:lnTo>
                        <a:pt x="110" y="207"/>
                      </a:lnTo>
                      <a:lnTo>
                        <a:pt x="110" y="207"/>
                      </a:lnTo>
                      <a:lnTo>
                        <a:pt x="116" y="195"/>
                      </a:lnTo>
                      <a:lnTo>
                        <a:pt x="131" y="185"/>
                      </a:lnTo>
                      <a:lnTo>
                        <a:pt x="136" y="170"/>
                      </a:lnTo>
                      <a:lnTo>
                        <a:pt x="148" y="159"/>
                      </a:lnTo>
                      <a:lnTo>
                        <a:pt x="146" y="145"/>
                      </a:lnTo>
                      <a:lnTo>
                        <a:pt x="179" y="116"/>
                      </a:lnTo>
                      <a:lnTo>
                        <a:pt x="185" y="101"/>
                      </a:lnTo>
                      <a:lnTo>
                        <a:pt x="16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270320" y="3186000"/>
                  <a:ext cx="17640" cy="41400"/>
                </a:xfrm>
                <a:custGeom>
                  <a:avLst/>
                  <a:gdLst/>
                  <a:ahLst/>
                  <a:rect l="l" t="t" r="r" b="b"/>
                  <a:pathLst>
                    <a:path w="48" h="126">
                      <a:moveTo>
                        <a:pt x="36" y="0"/>
                      </a:moveTo>
                      <a:lnTo>
                        <a:pt x="23" y="7"/>
                      </a:lnTo>
                      <a:lnTo>
                        <a:pt x="17" y="21"/>
                      </a:lnTo>
                      <a:lnTo>
                        <a:pt x="0" y="31"/>
                      </a:lnTo>
                      <a:lnTo>
                        <a:pt x="3" y="112"/>
                      </a:lnTo>
                      <a:lnTo>
                        <a:pt x="10" y="126"/>
                      </a:lnTo>
                      <a:lnTo>
                        <a:pt x="22" y="126"/>
                      </a:lnTo>
                      <a:lnTo>
                        <a:pt x="22" y="126"/>
                      </a:lnTo>
                      <a:lnTo>
                        <a:pt x="16" y="123"/>
                      </a:lnTo>
                      <a:lnTo>
                        <a:pt x="40" y="105"/>
                      </a:lnTo>
                      <a:lnTo>
                        <a:pt x="48" y="71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813480" y="2930400"/>
                  <a:ext cx="493560" cy="322920"/>
                </a:xfrm>
                <a:custGeom>
                  <a:avLst/>
                  <a:gdLst/>
                  <a:ahLst/>
                  <a:rect l="l" t="t" r="r" b="b"/>
                  <a:pathLst>
                    <a:path w="1335" h="976">
                      <a:moveTo>
                        <a:pt x="0" y="0"/>
                      </a:moveTo>
                      <a:lnTo>
                        <a:pt x="20" y="72"/>
                      </a:lnTo>
                      <a:lnTo>
                        <a:pt x="18" y="83"/>
                      </a:lnTo>
                      <a:lnTo>
                        <a:pt x="30" y="101"/>
                      </a:lnTo>
                      <a:lnTo>
                        <a:pt x="25" y="122"/>
                      </a:lnTo>
                      <a:lnTo>
                        <a:pt x="36" y="128"/>
                      </a:lnTo>
                      <a:lnTo>
                        <a:pt x="34" y="160"/>
                      </a:lnTo>
                      <a:lnTo>
                        <a:pt x="54" y="173"/>
                      </a:lnTo>
                      <a:lnTo>
                        <a:pt x="98" y="238"/>
                      </a:lnTo>
                      <a:lnTo>
                        <a:pt x="95" y="260"/>
                      </a:lnTo>
                      <a:lnTo>
                        <a:pt x="75" y="271"/>
                      </a:lnTo>
                      <a:lnTo>
                        <a:pt x="50" y="261"/>
                      </a:lnTo>
                      <a:lnTo>
                        <a:pt x="69" y="282"/>
                      </a:lnTo>
                      <a:lnTo>
                        <a:pt x="75" y="301"/>
                      </a:lnTo>
                      <a:lnTo>
                        <a:pt x="104" y="328"/>
                      </a:lnTo>
                      <a:lnTo>
                        <a:pt x="123" y="331"/>
                      </a:lnTo>
                      <a:lnTo>
                        <a:pt x="138" y="351"/>
                      </a:lnTo>
                      <a:lnTo>
                        <a:pt x="158" y="366"/>
                      </a:lnTo>
                      <a:lnTo>
                        <a:pt x="166" y="393"/>
                      </a:lnTo>
                      <a:lnTo>
                        <a:pt x="164" y="420"/>
                      </a:lnTo>
                      <a:lnTo>
                        <a:pt x="150" y="437"/>
                      </a:lnTo>
                      <a:lnTo>
                        <a:pt x="179" y="453"/>
                      </a:lnTo>
                      <a:lnTo>
                        <a:pt x="235" y="515"/>
                      </a:lnTo>
                      <a:lnTo>
                        <a:pt x="250" y="552"/>
                      </a:lnTo>
                      <a:lnTo>
                        <a:pt x="277" y="530"/>
                      </a:lnTo>
                      <a:lnTo>
                        <a:pt x="246" y="478"/>
                      </a:lnTo>
                      <a:lnTo>
                        <a:pt x="227" y="475"/>
                      </a:lnTo>
                      <a:lnTo>
                        <a:pt x="219" y="453"/>
                      </a:lnTo>
                      <a:lnTo>
                        <a:pt x="226" y="445"/>
                      </a:lnTo>
                      <a:lnTo>
                        <a:pt x="214" y="426"/>
                      </a:lnTo>
                      <a:lnTo>
                        <a:pt x="215" y="408"/>
                      </a:lnTo>
                      <a:lnTo>
                        <a:pt x="202" y="381"/>
                      </a:lnTo>
                      <a:lnTo>
                        <a:pt x="196" y="353"/>
                      </a:lnTo>
                      <a:lnTo>
                        <a:pt x="177" y="325"/>
                      </a:lnTo>
                      <a:lnTo>
                        <a:pt x="165" y="296"/>
                      </a:lnTo>
                      <a:lnTo>
                        <a:pt x="150" y="276"/>
                      </a:lnTo>
                      <a:lnTo>
                        <a:pt x="145" y="250"/>
                      </a:lnTo>
                      <a:lnTo>
                        <a:pt x="133" y="226"/>
                      </a:lnTo>
                      <a:lnTo>
                        <a:pt x="83" y="141"/>
                      </a:lnTo>
                      <a:lnTo>
                        <a:pt x="89" y="121"/>
                      </a:lnTo>
                      <a:lnTo>
                        <a:pt x="85" y="75"/>
                      </a:lnTo>
                      <a:lnTo>
                        <a:pt x="91" y="57"/>
                      </a:lnTo>
                      <a:lnTo>
                        <a:pt x="114" y="76"/>
                      </a:lnTo>
                      <a:lnTo>
                        <a:pt x="129" y="75"/>
                      </a:lnTo>
                      <a:lnTo>
                        <a:pt x="158" y="101"/>
                      </a:lnTo>
                      <a:lnTo>
                        <a:pt x="154" y="122"/>
                      </a:lnTo>
                      <a:lnTo>
                        <a:pt x="163" y="168"/>
                      </a:lnTo>
                      <a:lnTo>
                        <a:pt x="182" y="220"/>
                      </a:lnTo>
                      <a:lnTo>
                        <a:pt x="220" y="278"/>
                      </a:lnTo>
                      <a:lnTo>
                        <a:pt x="245" y="286"/>
                      </a:lnTo>
                      <a:lnTo>
                        <a:pt x="244" y="312"/>
                      </a:lnTo>
                      <a:lnTo>
                        <a:pt x="266" y="337"/>
                      </a:lnTo>
                      <a:lnTo>
                        <a:pt x="276" y="355"/>
                      </a:lnTo>
                      <a:lnTo>
                        <a:pt x="289" y="355"/>
                      </a:lnTo>
                      <a:lnTo>
                        <a:pt x="297" y="373"/>
                      </a:lnTo>
                      <a:lnTo>
                        <a:pt x="287" y="403"/>
                      </a:lnTo>
                      <a:lnTo>
                        <a:pt x="335" y="433"/>
                      </a:lnTo>
                      <a:lnTo>
                        <a:pt x="347" y="465"/>
                      </a:lnTo>
                      <a:lnTo>
                        <a:pt x="384" y="501"/>
                      </a:lnTo>
                      <a:lnTo>
                        <a:pt x="451" y="587"/>
                      </a:lnTo>
                      <a:lnTo>
                        <a:pt x="457" y="621"/>
                      </a:lnTo>
                      <a:lnTo>
                        <a:pt x="471" y="636"/>
                      </a:lnTo>
                      <a:lnTo>
                        <a:pt x="471" y="652"/>
                      </a:lnTo>
                      <a:lnTo>
                        <a:pt x="456" y="667"/>
                      </a:lnTo>
                      <a:lnTo>
                        <a:pt x="462" y="682"/>
                      </a:lnTo>
                      <a:lnTo>
                        <a:pt x="446" y="693"/>
                      </a:lnTo>
                      <a:lnTo>
                        <a:pt x="481" y="746"/>
                      </a:lnTo>
                      <a:lnTo>
                        <a:pt x="532" y="777"/>
                      </a:lnTo>
                      <a:lnTo>
                        <a:pt x="547" y="798"/>
                      </a:lnTo>
                      <a:lnTo>
                        <a:pt x="581" y="812"/>
                      </a:lnTo>
                      <a:lnTo>
                        <a:pt x="620" y="816"/>
                      </a:lnTo>
                      <a:lnTo>
                        <a:pt x="668" y="854"/>
                      </a:lnTo>
                      <a:lnTo>
                        <a:pt x="741" y="883"/>
                      </a:lnTo>
                      <a:lnTo>
                        <a:pt x="765" y="886"/>
                      </a:lnTo>
                      <a:lnTo>
                        <a:pt x="815" y="911"/>
                      </a:lnTo>
                      <a:lnTo>
                        <a:pt x="901" y="929"/>
                      </a:lnTo>
                      <a:lnTo>
                        <a:pt x="952" y="902"/>
                      </a:lnTo>
                      <a:lnTo>
                        <a:pt x="997" y="904"/>
                      </a:lnTo>
                      <a:lnTo>
                        <a:pt x="1038" y="923"/>
                      </a:lnTo>
                      <a:lnTo>
                        <a:pt x="1098" y="976"/>
                      </a:lnTo>
                      <a:lnTo>
                        <a:pt x="1098" y="974"/>
                      </a:lnTo>
                      <a:lnTo>
                        <a:pt x="1102" y="948"/>
                      </a:lnTo>
                      <a:lnTo>
                        <a:pt x="1132" y="896"/>
                      </a:lnTo>
                      <a:lnTo>
                        <a:pt x="1163" y="892"/>
                      </a:lnTo>
                      <a:lnTo>
                        <a:pt x="1177" y="881"/>
                      </a:lnTo>
                      <a:lnTo>
                        <a:pt x="1158" y="858"/>
                      </a:lnTo>
                      <a:lnTo>
                        <a:pt x="1144" y="848"/>
                      </a:lnTo>
                      <a:lnTo>
                        <a:pt x="1138" y="831"/>
                      </a:lnTo>
                      <a:lnTo>
                        <a:pt x="1153" y="831"/>
                      </a:lnTo>
                      <a:lnTo>
                        <a:pt x="1153" y="816"/>
                      </a:lnTo>
                      <a:lnTo>
                        <a:pt x="1164" y="806"/>
                      </a:lnTo>
                      <a:lnTo>
                        <a:pt x="1236" y="802"/>
                      </a:lnTo>
                      <a:lnTo>
                        <a:pt x="1253" y="792"/>
                      </a:lnTo>
                      <a:lnTo>
                        <a:pt x="1259" y="778"/>
                      </a:lnTo>
                      <a:lnTo>
                        <a:pt x="1272" y="771"/>
                      </a:lnTo>
                      <a:lnTo>
                        <a:pt x="1272" y="771"/>
                      </a:lnTo>
                      <a:lnTo>
                        <a:pt x="1297" y="796"/>
                      </a:lnTo>
                      <a:lnTo>
                        <a:pt x="1307" y="769"/>
                      </a:lnTo>
                      <a:lnTo>
                        <a:pt x="1313" y="691"/>
                      </a:lnTo>
                      <a:lnTo>
                        <a:pt x="1319" y="664"/>
                      </a:lnTo>
                      <a:lnTo>
                        <a:pt x="1335" y="643"/>
                      </a:lnTo>
                      <a:lnTo>
                        <a:pt x="1334" y="621"/>
                      </a:lnTo>
                      <a:lnTo>
                        <a:pt x="1322" y="616"/>
                      </a:lnTo>
                      <a:lnTo>
                        <a:pt x="1278" y="613"/>
                      </a:lnTo>
                      <a:lnTo>
                        <a:pt x="1186" y="642"/>
                      </a:lnTo>
                      <a:lnTo>
                        <a:pt x="1172" y="651"/>
                      </a:lnTo>
                      <a:lnTo>
                        <a:pt x="1166" y="699"/>
                      </a:lnTo>
                      <a:lnTo>
                        <a:pt x="1159" y="717"/>
                      </a:lnTo>
                      <a:lnTo>
                        <a:pt x="1161" y="738"/>
                      </a:lnTo>
                      <a:lnTo>
                        <a:pt x="1129" y="762"/>
                      </a:lnTo>
                      <a:lnTo>
                        <a:pt x="1134" y="772"/>
                      </a:lnTo>
                      <a:lnTo>
                        <a:pt x="1108" y="783"/>
                      </a:lnTo>
                      <a:lnTo>
                        <a:pt x="1107" y="776"/>
                      </a:lnTo>
                      <a:lnTo>
                        <a:pt x="1078" y="772"/>
                      </a:lnTo>
                      <a:lnTo>
                        <a:pt x="1052" y="786"/>
                      </a:lnTo>
                      <a:lnTo>
                        <a:pt x="979" y="802"/>
                      </a:lnTo>
                      <a:lnTo>
                        <a:pt x="963" y="784"/>
                      </a:lnTo>
                      <a:lnTo>
                        <a:pt x="915" y="771"/>
                      </a:lnTo>
                      <a:lnTo>
                        <a:pt x="873" y="704"/>
                      </a:lnTo>
                      <a:lnTo>
                        <a:pt x="845" y="672"/>
                      </a:lnTo>
                      <a:lnTo>
                        <a:pt x="837" y="652"/>
                      </a:lnTo>
                      <a:lnTo>
                        <a:pt x="845" y="636"/>
                      </a:lnTo>
                      <a:lnTo>
                        <a:pt x="821" y="618"/>
                      </a:lnTo>
                      <a:lnTo>
                        <a:pt x="813" y="593"/>
                      </a:lnTo>
                      <a:lnTo>
                        <a:pt x="821" y="572"/>
                      </a:lnTo>
                      <a:lnTo>
                        <a:pt x="820" y="497"/>
                      </a:lnTo>
                      <a:lnTo>
                        <a:pt x="833" y="447"/>
                      </a:lnTo>
                      <a:lnTo>
                        <a:pt x="848" y="421"/>
                      </a:lnTo>
                      <a:lnTo>
                        <a:pt x="848" y="421"/>
                      </a:lnTo>
                      <a:lnTo>
                        <a:pt x="796" y="411"/>
                      </a:lnTo>
                      <a:lnTo>
                        <a:pt x="758" y="393"/>
                      </a:lnTo>
                      <a:lnTo>
                        <a:pt x="745" y="367"/>
                      </a:lnTo>
                      <a:lnTo>
                        <a:pt x="735" y="340"/>
                      </a:lnTo>
                      <a:lnTo>
                        <a:pt x="701" y="295"/>
                      </a:lnTo>
                      <a:lnTo>
                        <a:pt x="685" y="255"/>
                      </a:lnTo>
                      <a:lnTo>
                        <a:pt x="657" y="225"/>
                      </a:lnTo>
                      <a:lnTo>
                        <a:pt x="645" y="218"/>
                      </a:lnTo>
                      <a:lnTo>
                        <a:pt x="603" y="218"/>
                      </a:lnTo>
                      <a:lnTo>
                        <a:pt x="578" y="253"/>
                      </a:lnTo>
                      <a:lnTo>
                        <a:pt x="566" y="258"/>
                      </a:lnTo>
                      <a:lnTo>
                        <a:pt x="553" y="252"/>
                      </a:lnTo>
                      <a:lnTo>
                        <a:pt x="515" y="213"/>
                      </a:lnTo>
                      <a:lnTo>
                        <a:pt x="504" y="170"/>
                      </a:lnTo>
                      <a:lnTo>
                        <a:pt x="475" y="142"/>
                      </a:lnTo>
                      <a:lnTo>
                        <a:pt x="447" y="110"/>
                      </a:lnTo>
                      <a:lnTo>
                        <a:pt x="370" y="101"/>
                      </a:lnTo>
                      <a:lnTo>
                        <a:pt x="365" y="116"/>
                      </a:lnTo>
                      <a:lnTo>
                        <a:pt x="352" y="120"/>
                      </a:lnTo>
                      <a:lnTo>
                        <a:pt x="246" y="110"/>
                      </a:lnTo>
                      <a:lnTo>
                        <a:pt x="123" y="33"/>
                      </a:lnTo>
                      <a:lnTo>
                        <a:pt x="91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541680" y="2123640"/>
                  <a:ext cx="350640" cy="375840"/>
                </a:xfrm>
                <a:custGeom>
                  <a:avLst/>
                  <a:gdLst/>
                  <a:ahLst/>
                  <a:rect l="l" t="t" r="r" b="b"/>
                  <a:pathLst>
                    <a:path w="948" h="1134">
                      <a:moveTo>
                        <a:pt x="948" y="366"/>
                      </a:moveTo>
                      <a:lnTo>
                        <a:pt x="780" y="547"/>
                      </a:lnTo>
                      <a:lnTo>
                        <a:pt x="625" y="714"/>
                      </a:lnTo>
                      <a:lnTo>
                        <a:pt x="620" y="728"/>
                      </a:lnTo>
                      <a:lnTo>
                        <a:pt x="654" y="752"/>
                      </a:lnTo>
                      <a:lnTo>
                        <a:pt x="644" y="764"/>
                      </a:lnTo>
                      <a:lnTo>
                        <a:pt x="645" y="818"/>
                      </a:lnTo>
                      <a:lnTo>
                        <a:pt x="641" y="832"/>
                      </a:lnTo>
                      <a:lnTo>
                        <a:pt x="647" y="841"/>
                      </a:lnTo>
                      <a:lnTo>
                        <a:pt x="664" y="842"/>
                      </a:lnTo>
                      <a:lnTo>
                        <a:pt x="686" y="831"/>
                      </a:lnTo>
                      <a:lnTo>
                        <a:pt x="710" y="838"/>
                      </a:lnTo>
                      <a:lnTo>
                        <a:pt x="704" y="891"/>
                      </a:lnTo>
                      <a:lnTo>
                        <a:pt x="710" y="909"/>
                      </a:lnTo>
                      <a:lnTo>
                        <a:pt x="694" y="1029"/>
                      </a:lnTo>
                      <a:lnTo>
                        <a:pt x="724" y="1083"/>
                      </a:lnTo>
                      <a:lnTo>
                        <a:pt x="699" y="1129"/>
                      </a:lnTo>
                      <a:lnTo>
                        <a:pt x="674" y="1134"/>
                      </a:lnTo>
                      <a:lnTo>
                        <a:pt x="666" y="1114"/>
                      </a:lnTo>
                      <a:lnTo>
                        <a:pt x="667" y="1068"/>
                      </a:lnTo>
                      <a:lnTo>
                        <a:pt x="679" y="1054"/>
                      </a:lnTo>
                      <a:lnTo>
                        <a:pt x="667" y="1047"/>
                      </a:lnTo>
                      <a:lnTo>
                        <a:pt x="660" y="1029"/>
                      </a:lnTo>
                      <a:lnTo>
                        <a:pt x="654" y="1089"/>
                      </a:lnTo>
                      <a:lnTo>
                        <a:pt x="637" y="1117"/>
                      </a:lnTo>
                      <a:lnTo>
                        <a:pt x="639" y="1091"/>
                      </a:lnTo>
                      <a:lnTo>
                        <a:pt x="631" y="1053"/>
                      </a:lnTo>
                      <a:lnTo>
                        <a:pt x="635" y="1034"/>
                      </a:lnTo>
                      <a:lnTo>
                        <a:pt x="647" y="1016"/>
                      </a:lnTo>
                      <a:lnTo>
                        <a:pt x="632" y="1011"/>
                      </a:lnTo>
                      <a:lnTo>
                        <a:pt x="644" y="987"/>
                      </a:lnTo>
                      <a:lnTo>
                        <a:pt x="664" y="979"/>
                      </a:lnTo>
                      <a:lnTo>
                        <a:pt x="679" y="1001"/>
                      </a:lnTo>
                      <a:lnTo>
                        <a:pt x="681" y="959"/>
                      </a:lnTo>
                      <a:lnTo>
                        <a:pt x="666" y="969"/>
                      </a:lnTo>
                      <a:lnTo>
                        <a:pt x="647" y="973"/>
                      </a:lnTo>
                      <a:lnTo>
                        <a:pt x="669" y="928"/>
                      </a:lnTo>
                      <a:lnTo>
                        <a:pt x="680" y="914"/>
                      </a:lnTo>
                      <a:lnTo>
                        <a:pt x="686" y="891"/>
                      </a:lnTo>
                      <a:lnTo>
                        <a:pt x="669" y="907"/>
                      </a:lnTo>
                      <a:lnTo>
                        <a:pt x="657" y="898"/>
                      </a:lnTo>
                      <a:lnTo>
                        <a:pt x="662" y="923"/>
                      </a:lnTo>
                      <a:lnTo>
                        <a:pt x="617" y="1004"/>
                      </a:lnTo>
                      <a:lnTo>
                        <a:pt x="631" y="944"/>
                      </a:lnTo>
                      <a:lnTo>
                        <a:pt x="630" y="916"/>
                      </a:lnTo>
                      <a:lnTo>
                        <a:pt x="639" y="888"/>
                      </a:lnTo>
                      <a:lnTo>
                        <a:pt x="630" y="864"/>
                      </a:lnTo>
                      <a:lnTo>
                        <a:pt x="626" y="808"/>
                      </a:lnTo>
                      <a:lnTo>
                        <a:pt x="617" y="783"/>
                      </a:lnTo>
                      <a:lnTo>
                        <a:pt x="631" y="761"/>
                      </a:lnTo>
                      <a:lnTo>
                        <a:pt x="611" y="761"/>
                      </a:lnTo>
                      <a:lnTo>
                        <a:pt x="599" y="742"/>
                      </a:lnTo>
                      <a:lnTo>
                        <a:pt x="591" y="716"/>
                      </a:lnTo>
                      <a:lnTo>
                        <a:pt x="555" y="677"/>
                      </a:lnTo>
                      <a:lnTo>
                        <a:pt x="547" y="649"/>
                      </a:lnTo>
                      <a:lnTo>
                        <a:pt x="541" y="596"/>
                      </a:lnTo>
                      <a:lnTo>
                        <a:pt x="526" y="578"/>
                      </a:lnTo>
                      <a:lnTo>
                        <a:pt x="520" y="556"/>
                      </a:lnTo>
                      <a:lnTo>
                        <a:pt x="500" y="579"/>
                      </a:lnTo>
                      <a:lnTo>
                        <a:pt x="473" y="588"/>
                      </a:lnTo>
                      <a:lnTo>
                        <a:pt x="460" y="571"/>
                      </a:lnTo>
                      <a:lnTo>
                        <a:pt x="410" y="563"/>
                      </a:lnTo>
                      <a:lnTo>
                        <a:pt x="391" y="544"/>
                      </a:lnTo>
                      <a:lnTo>
                        <a:pt x="413" y="544"/>
                      </a:lnTo>
                      <a:lnTo>
                        <a:pt x="413" y="527"/>
                      </a:lnTo>
                      <a:lnTo>
                        <a:pt x="441" y="522"/>
                      </a:lnTo>
                      <a:lnTo>
                        <a:pt x="464" y="503"/>
                      </a:lnTo>
                      <a:lnTo>
                        <a:pt x="486" y="517"/>
                      </a:lnTo>
                      <a:lnTo>
                        <a:pt x="506" y="516"/>
                      </a:lnTo>
                      <a:lnTo>
                        <a:pt x="495" y="499"/>
                      </a:lnTo>
                      <a:lnTo>
                        <a:pt x="468" y="491"/>
                      </a:lnTo>
                      <a:lnTo>
                        <a:pt x="445" y="489"/>
                      </a:lnTo>
                      <a:lnTo>
                        <a:pt x="420" y="499"/>
                      </a:lnTo>
                      <a:lnTo>
                        <a:pt x="394" y="501"/>
                      </a:lnTo>
                      <a:lnTo>
                        <a:pt x="374" y="492"/>
                      </a:lnTo>
                      <a:lnTo>
                        <a:pt x="355" y="498"/>
                      </a:lnTo>
                      <a:lnTo>
                        <a:pt x="360" y="519"/>
                      </a:lnTo>
                      <a:lnTo>
                        <a:pt x="335" y="523"/>
                      </a:lnTo>
                      <a:lnTo>
                        <a:pt x="313" y="522"/>
                      </a:lnTo>
                      <a:lnTo>
                        <a:pt x="254" y="501"/>
                      </a:lnTo>
                      <a:lnTo>
                        <a:pt x="229" y="503"/>
                      </a:lnTo>
                      <a:lnTo>
                        <a:pt x="179" y="476"/>
                      </a:lnTo>
                      <a:lnTo>
                        <a:pt x="155" y="479"/>
                      </a:lnTo>
                      <a:lnTo>
                        <a:pt x="93" y="425"/>
                      </a:lnTo>
                      <a:lnTo>
                        <a:pt x="74" y="415"/>
                      </a:lnTo>
                      <a:lnTo>
                        <a:pt x="55" y="395"/>
                      </a:lnTo>
                      <a:lnTo>
                        <a:pt x="0" y="357"/>
                      </a:lnTo>
                      <a:lnTo>
                        <a:pt x="12" y="346"/>
                      </a:lnTo>
                      <a:lnTo>
                        <a:pt x="42" y="363"/>
                      </a:lnTo>
                      <a:lnTo>
                        <a:pt x="67" y="386"/>
                      </a:lnTo>
                      <a:lnTo>
                        <a:pt x="93" y="391"/>
                      </a:lnTo>
                      <a:lnTo>
                        <a:pt x="117" y="410"/>
                      </a:lnTo>
                      <a:lnTo>
                        <a:pt x="132" y="432"/>
                      </a:lnTo>
                      <a:lnTo>
                        <a:pt x="161" y="432"/>
                      </a:lnTo>
                      <a:lnTo>
                        <a:pt x="188" y="447"/>
                      </a:lnTo>
                      <a:lnTo>
                        <a:pt x="241" y="458"/>
                      </a:lnTo>
                      <a:lnTo>
                        <a:pt x="294" y="430"/>
                      </a:lnTo>
                      <a:lnTo>
                        <a:pt x="283" y="417"/>
                      </a:lnTo>
                      <a:lnTo>
                        <a:pt x="279" y="398"/>
                      </a:lnTo>
                      <a:lnTo>
                        <a:pt x="260" y="401"/>
                      </a:lnTo>
                      <a:lnTo>
                        <a:pt x="274" y="371"/>
                      </a:lnTo>
                      <a:lnTo>
                        <a:pt x="256" y="335"/>
                      </a:lnTo>
                      <a:lnTo>
                        <a:pt x="243" y="325"/>
                      </a:lnTo>
                      <a:lnTo>
                        <a:pt x="258" y="306"/>
                      </a:lnTo>
                      <a:lnTo>
                        <a:pt x="276" y="303"/>
                      </a:lnTo>
                      <a:lnTo>
                        <a:pt x="298" y="275"/>
                      </a:lnTo>
                      <a:lnTo>
                        <a:pt x="269" y="265"/>
                      </a:lnTo>
                      <a:lnTo>
                        <a:pt x="261" y="245"/>
                      </a:lnTo>
                      <a:lnTo>
                        <a:pt x="294" y="193"/>
                      </a:lnTo>
                      <a:lnTo>
                        <a:pt x="314" y="175"/>
                      </a:lnTo>
                      <a:lnTo>
                        <a:pt x="329" y="147"/>
                      </a:lnTo>
                      <a:lnTo>
                        <a:pt x="364" y="145"/>
                      </a:lnTo>
                      <a:lnTo>
                        <a:pt x="394" y="148"/>
                      </a:lnTo>
                      <a:lnTo>
                        <a:pt x="411" y="146"/>
                      </a:lnTo>
                      <a:lnTo>
                        <a:pt x="429" y="156"/>
                      </a:lnTo>
                      <a:lnTo>
                        <a:pt x="425" y="182"/>
                      </a:lnTo>
                      <a:lnTo>
                        <a:pt x="451" y="191"/>
                      </a:lnTo>
                      <a:lnTo>
                        <a:pt x="468" y="215"/>
                      </a:lnTo>
                      <a:lnTo>
                        <a:pt x="493" y="207"/>
                      </a:lnTo>
                      <a:lnTo>
                        <a:pt x="506" y="187"/>
                      </a:lnTo>
                      <a:lnTo>
                        <a:pt x="529" y="182"/>
                      </a:lnTo>
                      <a:lnTo>
                        <a:pt x="494" y="156"/>
                      </a:lnTo>
                      <a:lnTo>
                        <a:pt x="494" y="132"/>
                      </a:lnTo>
                      <a:lnTo>
                        <a:pt x="480" y="107"/>
                      </a:lnTo>
                      <a:lnTo>
                        <a:pt x="476" y="73"/>
                      </a:lnTo>
                      <a:lnTo>
                        <a:pt x="491" y="60"/>
                      </a:lnTo>
                      <a:lnTo>
                        <a:pt x="510" y="60"/>
                      </a:lnTo>
                      <a:lnTo>
                        <a:pt x="506" y="40"/>
                      </a:lnTo>
                      <a:lnTo>
                        <a:pt x="511" y="23"/>
                      </a:lnTo>
                      <a:lnTo>
                        <a:pt x="537" y="36"/>
                      </a:lnTo>
                      <a:lnTo>
                        <a:pt x="576" y="70"/>
                      </a:lnTo>
                      <a:lnTo>
                        <a:pt x="582" y="87"/>
                      </a:lnTo>
                      <a:lnTo>
                        <a:pt x="564" y="98"/>
                      </a:lnTo>
                      <a:lnTo>
                        <a:pt x="576" y="128"/>
                      </a:lnTo>
                      <a:lnTo>
                        <a:pt x="595" y="128"/>
                      </a:lnTo>
                      <a:lnTo>
                        <a:pt x="617" y="80"/>
                      </a:lnTo>
                      <a:lnTo>
                        <a:pt x="637" y="60"/>
                      </a:lnTo>
                      <a:lnTo>
                        <a:pt x="655" y="6"/>
                      </a:lnTo>
                      <a:lnTo>
                        <a:pt x="680" y="0"/>
                      </a:lnTo>
                      <a:lnTo>
                        <a:pt x="707" y="40"/>
                      </a:lnTo>
                      <a:lnTo>
                        <a:pt x="751" y="36"/>
                      </a:lnTo>
                      <a:lnTo>
                        <a:pt x="779" y="46"/>
                      </a:lnTo>
                      <a:lnTo>
                        <a:pt x="790" y="61"/>
                      </a:lnTo>
                      <a:lnTo>
                        <a:pt x="820" y="73"/>
                      </a:lnTo>
                      <a:lnTo>
                        <a:pt x="832" y="95"/>
                      </a:lnTo>
                      <a:lnTo>
                        <a:pt x="862" y="102"/>
                      </a:lnTo>
                      <a:lnTo>
                        <a:pt x="865" y="128"/>
                      </a:lnTo>
                      <a:lnTo>
                        <a:pt x="857" y="142"/>
                      </a:lnTo>
                      <a:lnTo>
                        <a:pt x="875" y="168"/>
                      </a:lnTo>
                      <a:lnTo>
                        <a:pt x="867" y="195"/>
                      </a:lnTo>
                      <a:lnTo>
                        <a:pt x="892" y="231"/>
                      </a:lnTo>
                      <a:lnTo>
                        <a:pt x="896" y="260"/>
                      </a:lnTo>
                      <a:lnTo>
                        <a:pt x="911" y="278"/>
                      </a:lnTo>
                      <a:lnTo>
                        <a:pt x="913" y="300"/>
                      </a:lnTo>
                      <a:lnTo>
                        <a:pt x="943" y="326"/>
                      </a:lnTo>
                      <a:lnTo>
                        <a:pt x="948" y="36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250520" y="2721240"/>
                  <a:ext cx="108360" cy="81360"/>
                </a:xfrm>
                <a:custGeom>
                  <a:avLst/>
                  <a:gdLst/>
                  <a:ahLst/>
                  <a:rect l="l" t="t" r="r" b="b"/>
                  <a:pathLst>
                    <a:path w="292" h="246">
                      <a:moveTo>
                        <a:pt x="211" y="154"/>
                      </a:moveTo>
                      <a:lnTo>
                        <a:pt x="211" y="153"/>
                      </a:lnTo>
                      <a:lnTo>
                        <a:pt x="232" y="138"/>
                      </a:lnTo>
                      <a:lnTo>
                        <a:pt x="227" y="108"/>
                      </a:lnTo>
                      <a:lnTo>
                        <a:pt x="236" y="60"/>
                      </a:lnTo>
                      <a:lnTo>
                        <a:pt x="226" y="45"/>
                      </a:lnTo>
                      <a:lnTo>
                        <a:pt x="251" y="61"/>
                      </a:lnTo>
                      <a:lnTo>
                        <a:pt x="282" y="70"/>
                      </a:lnTo>
                      <a:lnTo>
                        <a:pt x="292" y="51"/>
                      </a:lnTo>
                      <a:lnTo>
                        <a:pt x="246" y="4"/>
                      </a:lnTo>
                      <a:lnTo>
                        <a:pt x="189" y="0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5" y="6"/>
                      </a:lnTo>
                      <a:lnTo>
                        <a:pt x="132" y="21"/>
                      </a:lnTo>
                      <a:lnTo>
                        <a:pt x="89" y="24"/>
                      </a:lnTo>
                      <a:lnTo>
                        <a:pt x="30" y="44"/>
                      </a:lnTo>
                      <a:lnTo>
                        <a:pt x="0" y="104"/>
                      </a:lnTo>
                      <a:lnTo>
                        <a:pt x="25" y="85"/>
                      </a:lnTo>
                      <a:lnTo>
                        <a:pt x="9" y="173"/>
                      </a:lnTo>
                      <a:lnTo>
                        <a:pt x="15" y="223"/>
                      </a:lnTo>
                      <a:lnTo>
                        <a:pt x="31" y="246"/>
                      </a:lnTo>
                      <a:lnTo>
                        <a:pt x="46" y="245"/>
                      </a:lnTo>
                      <a:lnTo>
                        <a:pt x="63" y="234"/>
                      </a:lnTo>
                      <a:lnTo>
                        <a:pt x="69" y="218"/>
                      </a:lnTo>
                      <a:lnTo>
                        <a:pt x="71" y="188"/>
                      </a:lnTo>
                      <a:lnTo>
                        <a:pt x="56" y="124"/>
                      </a:lnTo>
                      <a:lnTo>
                        <a:pt x="65" y="80"/>
                      </a:lnTo>
                      <a:lnTo>
                        <a:pt x="90" y="65"/>
                      </a:lnTo>
                      <a:lnTo>
                        <a:pt x="100" y="39"/>
                      </a:lnTo>
                      <a:lnTo>
                        <a:pt x="118" y="35"/>
                      </a:lnTo>
                      <a:lnTo>
                        <a:pt x="151" y="48"/>
                      </a:lnTo>
                      <a:lnTo>
                        <a:pt x="164" y="64"/>
                      </a:lnTo>
                      <a:lnTo>
                        <a:pt x="167" y="93"/>
                      </a:lnTo>
                      <a:lnTo>
                        <a:pt x="152" y="119"/>
                      </a:lnTo>
                      <a:lnTo>
                        <a:pt x="156" y="136"/>
                      </a:lnTo>
                      <a:lnTo>
                        <a:pt x="169" y="118"/>
                      </a:lnTo>
                      <a:lnTo>
                        <a:pt x="184" y="106"/>
                      </a:lnTo>
                      <a:lnTo>
                        <a:pt x="211" y="153"/>
                      </a:lnTo>
                      <a:lnTo>
                        <a:pt x="211" y="1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318200" y="2768400"/>
                  <a:ext cx="59760" cy="30600"/>
                </a:xfrm>
                <a:custGeom>
                  <a:avLst/>
                  <a:gdLst/>
                  <a:ahLst/>
                  <a:rect l="l" t="t" r="r" b="b"/>
                  <a:pathLst>
                    <a:path w="163" h="93">
                      <a:moveTo>
                        <a:pt x="163" y="0"/>
                      </a:moveTo>
                      <a:lnTo>
                        <a:pt x="163" y="0"/>
                      </a:lnTo>
                      <a:lnTo>
                        <a:pt x="150" y="20"/>
                      </a:lnTo>
                      <a:lnTo>
                        <a:pt x="69" y="82"/>
                      </a:lnTo>
                      <a:lnTo>
                        <a:pt x="26" y="93"/>
                      </a:lnTo>
                      <a:lnTo>
                        <a:pt x="0" y="84"/>
                      </a:lnTo>
                      <a:lnTo>
                        <a:pt x="13" y="69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34" y="65"/>
                      </a:lnTo>
                      <a:lnTo>
                        <a:pt x="58" y="50"/>
                      </a:lnTo>
                      <a:lnTo>
                        <a:pt x="68" y="32"/>
                      </a:lnTo>
                      <a:lnTo>
                        <a:pt x="88" y="24"/>
                      </a:lnTo>
                      <a:lnTo>
                        <a:pt x="105" y="25"/>
                      </a:lnTo>
                      <a:lnTo>
                        <a:pt x="114" y="10"/>
                      </a:lnTo>
                      <a:lnTo>
                        <a:pt x="163" y="0"/>
                      </a:lnTo>
                      <a:lnTo>
                        <a:pt x="16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363560" y="2737440"/>
                  <a:ext cx="46440" cy="27720"/>
                </a:xfrm>
                <a:custGeom>
                  <a:avLst/>
                  <a:gdLst/>
                  <a:ahLst/>
                  <a:rect l="l" t="t" r="r" b="b"/>
                  <a:pathLst>
                    <a:path w="126" h="82">
                      <a:moveTo>
                        <a:pt x="26" y="77"/>
                      </a:moveTo>
                      <a:lnTo>
                        <a:pt x="26" y="77"/>
                      </a:lnTo>
                      <a:lnTo>
                        <a:pt x="19" y="82"/>
                      </a:lnTo>
                      <a:lnTo>
                        <a:pt x="0" y="80"/>
                      </a:lnTo>
                      <a:lnTo>
                        <a:pt x="8" y="57"/>
                      </a:lnTo>
                      <a:lnTo>
                        <a:pt x="68" y="30"/>
                      </a:lnTo>
                      <a:lnTo>
                        <a:pt x="93" y="27"/>
                      </a:lnTo>
                      <a:lnTo>
                        <a:pt x="101" y="12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8" y="17"/>
                      </a:lnTo>
                      <a:lnTo>
                        <a:pt x="126" y="42"/>
                      </a:lnTo>
                      <a:lnTo>
                        <a:pt x="84" y="63"/>
                      </a:lnTo>
                      <a:lnTo>
                        <a:pt x="43" y="67"/>
                      </a:lnTo>
                      <a:lnTo>
                        <a:pt x="26" y="77"/>
                      </a:lnTo>
                      <a:lnTo>
                        <a:pt x="26" y="7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4195080" y="2684520"/>
                  <a:ext cx="97560" cy="41760"/>
                </a:xfrm>
                <a:custGeom>
                  <a:avLst/>
                  <a:gdLst/>
                  <a:ahLst/>
                  <a:rect l="l" t="t" r="r" b="b"/>
                  <a:pathLst>
                    <a:path w="264" h="128">
                      <a:moveTo>
                        <a:pt x="72" y="53"/>
                      </a:moveTo>
                      <a:lnTo>
                        <a:pt x="72" y="53"/>
                      </a:lnTo>
                      <a:lnTo>
                        <a:pt x="96" y="31"/>
                      </a:lnTo>
                      <a:lnTo>
                        <a:pt x="119" y="16"/>
                      </a:lnTo>
                      <a:lnTo>
                        <a:pt x="127" y="0"/>
                      </a:lnTo>
                      <a:lnTo>
                        <a:pt x="154" y="8"/>
                      </a:lnTo>
                      <a:lnTo>
                        <a:pt x="181" y="6"/>
                      </a:lnTo>
                      <a:lnTo>
                        <a:pt x="195" y="28"/>
                      </a:lnTo>
                      <a:lnTo>
                        <a:pt x="212" y="45"/>
                      </a:lnTo>
                      <a:lnTo>
                        <a:pt x="237" y="41"/>
                      </a:lnTo>
                      <a:lnTo>
                        <a:pt x="239" y="58"/>
                      </a:lnTo>
                      <a:lnTo>
                        <a:pt x="251" y="68"/>
                      </a:lnTo>
                      <a:lnTo>
                        <a:pt x="251" y="8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64" y="108"/>
                      </a:lnTo>
                      <a:lnTo>
                        <a:pt x="245" y="111"/>
                      </a:lnTo>
                      <a:lnTo>
                        <a:pt x="244" y="98"/>
                      </a:lnTo>
                      <a:lnTo>
                        <a:pt x="216" y="106"/>
                      </a:lnTo>
                      <a:lnTo>
                        <a:pt x="189" y="121"/>
                      </a:lnTo>
                      <a:lnTo>
                        <a:pt x="165" y="124"/>
                      </a:lnTo>
                      <a:lnTo>
                        <a:pt x="150" y="104"/>
                      </a:lnTo>
                      <a:lnTo>
                        <a:pt x="126" y="111"/>
                      </a:lnTo>
                      <a:lnTo>
                        <a:pt x="125" y="94"/>
                      </a:lnTo>
                      <a:lnTo>
                        <a:pt x="146" y="76"/>
                      </a:lnTo>
                      <a:lnTo>
                        <a:pt x="129" y="78"/>
                      </a:lnTo>
                      <a:lnTo>
                        <a:pt x="106" y="99"/>
                      </a:lnTo>
                      <a:lnTo>
                        <a:pt x="56" y="128"/>
                      </a:lnTo>
                      <a:lnTo>
                        <a:pt x="40" y="108"/>
                      </a:lnTo>
                      <a:lnTo>
                        <a:pt x="16" y="122"/>
                      </a:lnTo>
                      <a:lnTo>
                        <a:pt x="0" y="122"/>
                      </a:lnTo>
                      <a:lnTo>
                        <a:pt x="51" y="71"/>
                      </a:lnTo>
                      <a:lnTo>
                        <a:pt x="72" y="53"/>
                      </a:lnTo>
                      <a:lnTo>
                        <a:pt x="72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940920" y="2354400"/>
                  <a:ext cx="54000" cy="31680"/>
                </a:xfrm>
                <a:custGeom>
                  <a:avLst/>
                  <a:gdLst/>
                  <a:ahLst/>
                  <a:rect l="l" t="t" r="r" b="b"/>
                  <a:pathLst>
                    <a:path w="145" h="95">
                      <a:moveTo>
                        <a:pt x="0" y="0"/>
                      </a:moveTo>
                      <a:lnTo>
                        <a:pt x="61" y="20"/>
                      </a:lnTo>
                      <a:lnTo>
                        <a:pt x="74" y="41"/>
                      </a:lnTo>
                      <a:lnTo>
                        <a:pt x="33" y="45"/>
                      </a:lnTo>
                      <a:lnTo>
                        <a:pt x="10" y="66"/>
                      </a:lnTo>
                      <a:lnTo>
                        <a:pt x="38" y="80"/>
                      </a:lnTo>
                      <a:lnTo>
                        <a:pt x="49" y="66"/>
                      </a:lnTo>
                      <a:lnTo>
                        <a:pt x="74" y="60"/>
                      </a:lnTo>
                      <a:lnTo>
                        <a:pt x="69" y="76"/>
                      </a:lnTo>
                      <a:lnTo>
                        <a:pt x="50" y="95"/>
                      </a:lnTo>
                      <a:lnTo>
                        <a:pt x="93" y="85"/>
                      </a:lnTo>
                      <a:lnTo>
                        <a:pt x="89" y="58"/>
                      </a:lnTo>
                      <a:lnTo>
                        <a:pt x="116" y="78"/>
                      </a:lnTo>
                      <a:lnTo>
                        <a:pt x="145" y="48"/>
                      </a:lnTo>
                      <a:lnTo>
                        <a:pt x="118" y="41"/>
                      </a:lnTo>
                      <a:lnTo>
                        <a:pt x="93" y="26"/>
                      </a:lnTo>
                      <a:lnTo>
                        <a:pt x="131" y="15"/>
                      </a:lnTo>
                      <a:lnTo>
                        <a:pt x="116" y="0"/>
                      </a:lnTo>
                      <a:lnTo>
                        <a:pt x="85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963960" y="2440080"/>
                  <a:ext cx="75240" cy="26640"/>
                </a:xfrm>
                <a:custGeom>
                  <a:avLst/>
                  <a:gdLst/>
                  <a:ahLst/>
                  <a:rect l="l" t="t" r="r" b="b"/>
                  <a:pathLst>
                    <a:path w="204" h="83">
                      <a:moveTo>
                        <a:pt x="0" y="46"/>
                      </a:moveTo>
                      <a:lnTo>
                        <a:pt x="17" y="69"/>
                      </a:lnTo>
                      <a:lnTo>
                        <a:pt x="36" y="75"/>
                      </a:lnTo>
                      <a:lnTo>
                        <a:pt x="57" y="74"/>
                      </a:lnTo>
                      <a:lnTo>
                        <a:pt x="67" y="83"/>
                      </a:lnTo>
                      <a:lnTo>
                        <a:pt x="76" y="68"/>
                      </a:lnTo>
                      <a:lnTo>
                        <a:pt x="118" y="61"/>
                      </a:lnTo>
                      <a:lnTo>
                        <a:pt x="136" y="40"/>
                      </a:lnTo>
                      <a:lnTo>
                        <a:pt x="157" y="34"/>
                      </a:lnTo>
                      <a:lnTo>
                        <a:pt x="182" y="35"/>
                      </a:lnTo>
                      <a:lnTo>
                        <a:pt x="178" y="21"/>
                      </a:lnTo>
                      <a:lnTo>
                        <a:pt x="204" y="28"/>
                      </a:lnTo>
                      <a:lnTo>
                        <a:pt x="184" y="14"/>
                      </a:lnTo>
                      <a:lnTo>
                        <a:pt x="167" y="10"/>
                      </a:lnTo>
                      <a:lnTo>
                        <a:pt x="147" y="14"/>
                      </a:lnTo>
                      <a:lnTo>
                        <a:pt x="120" y="35"/>
                      </a:lnTo>
                      <a:lnTo>
                        <a:pt x="103" y="35"/>
                      </a:lnTo>
                      <a:lnTo>
                        <a:pt x="88" y="23"/>
                      </a:lnTo>
                      <a:lnTo>
                        <a:pt x="86" y="8"/>
                      </a:lnTo>
                      <a:lnTo>
                        <a:pt x="60" y="0"/>
                      </a:lnTo>
                      <a:lnTo>
                        <a:pt x="68" y="34"/>
                      </a:lnTo>
                      <a:lnTo>
                        <a:pt x="50" y="31"/>
                      </a:lnTo>
                      <a:lnTo>
                        <a:pt x="43" y="48"/>
                      </a:lnTo>
                      <a:lnTo>
                        <a:pt x="28" y="5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001760" y="2495520"/>
                  <a:ext cx="38880" cy="16560"/>
                </a:xfrm>
                <a:custGeom>
                  <a:avLst/>
                  <a:gdLst/>
                  <a:ahLst/>
                  <a:rect l="l" t="t" r="r" b="b"/>
                  <a:pathLst>
                    <a:path w="105" h="50">
                      <a:moveTo>
                        <a:pt x="0" y="40"/>
                      </a:moveTo>
                      <a:lnTo>
                        <a:pt x="22" y="50"/>
                      </a:lnTo>
                      <a:lnTo>
                        <a:pt x="36" y="36"/>
                      </a:lnTo>
                      <a:lnTo>
                        <a:pt x="56" y="31"/>
                      </a:lnTo>
                      <a:lnTo>
                        <a:pt x="81" y="38"/>
                      </a:lnTo>
                      <a:lnTo>
                        <a:pt x="105" y="34"/>
                      </a:lnTo>
                      <a:lnTo>
                        <a:pt x="92" y="23"/>
                      </a:lnTo>
                      <a:lnTo>
                        <a:pt x="77" y="19"/>
                      </a:lnTo>
                      <a:lnTo>
                        <a:pt x="66" y="4"/>
                      </a:lnTo>
                      <a:lnTo>
                        <a:pt x="53" y="0"/>
                      </a:lnTo>
                      <a:lnTo>
                        <a:pt x="35" y="19"/>
                      </a:lnTo>
                      <a:lnTo>
                        <a:pt x="0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074120" y="253260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50" h="86">
                      <a:moveTo>
                        <a:pt x="0" y="86"/>
                      </a:moveTo>
                      <a:lnTo>
                        <a:pt x="27" y="76"/>
                      </a:lnTo>
                      <a:lnTo>
                        <a:pt x="32" y="36"/>
                      </a:lnTo>
                      <a:lnTo>
                        <a:pt x="50" y="26"/>
                      </a:lnTo>
                      <a:lnTo>
                        <a:pt x="39" y="0"/>
                      </a:lnTo>
                      <a:lnTo>
                        <a:pt x="14" y="34"/>
                      </a:lnTo>
                      <a:lnTo>
                        <a:pt x="20" y="55"/>
                      </a:lnTo>
                      <a:lnTo>
                        <a:pt x="0" y="8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4110480" y="2607120"/>
                  <a:ext cx="33120" cy="57600"/>
                </a:xfrm>
                <a:custGeom>
                  <a:avLst/>
                  <a:gdLst/>
                  <a:ahLst/>
                  <a:rect l="l" t="t" r="r" b="b"/>
                  <a:pathLst>
                    <a:path w="92" h="173">
                      <a:moveTo>
                        <a:pt x="0" y="20"/>
                      </a:moveTo>
                      <a:lnTo>
                        <a:pt x="15" y="64"/>
                      </a:lnTo>
                      <a:lnTo>
                        <a:pt x="30" y="78"/>
                      </a:lnTo>
                      <a:lnTo>
                        <a:pt x="29" y="93"/>
                      </a:lnTo>
                      <a:lnTo>
                        <a:pt x="52" y="94"/>
                      </a:lnTo>
                      <a:lnTo>
                        <a:pt x="54" y="119"/>
                      </a:lnTo>
                      <a:lnTo>
                        <a:pt x="69" y="112"/>
                      </a:lnTo>
                      <a:lnTo>
                        <a:pt x="63" y="173"/>
                      </a:lnTo>
                      <a:lnTo>
                        <a:pt x="82" y="165"/>
                      </a:lnTo>
                      <a:lnTo>
                        <a:pt x="92" y="133"/>
                      </a:lnTo>
                      <a:lnTo>
                        <a:pt x="67" y="82"/>
                      </a:lnTo>
                      <a:lnTo>
                        <a:pt x="43" y="7"/>
                      </a:lnTo>
                      <a:lnTo>
                        <a:pt x="9" y="0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088520" y="2616840"/>
                  <a:ext cx="33120" cy="49680"/>
                </a:xfrm>
                <a:custGeom>
                  <a:avLst/>
                  <a:gdLst/>
                  <a:ahLst/>
                  <a:rect l="l" t="t" r="r" b="b"/>
                  <a:pathLst>
                    <a:path w="88" h="151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21" y="16"/>
                      </a:lnTo>
                      <a:lnTo>
                        <a:pt x="32" y="27"/>
                      </a:lnTo>
                      <a:lnTo>
                        <a:pt x="25" y="40"/>
                      </a:lnTo>
                      <a:lnTo>
                        <a:pt x="21" y="65"/>
                      </a:lnTo>
                      <a:lnTo>
                        <a:pt x="58" y="102"/>
                      </a:lnTo>
                      <a:lnTo>
                        <a:pt x="58" y="117"/>
                      </a:lnTo>
                      <a:lnTo>
                        <a:pt x="68" y="134"/>
                      </a:lnTo>
                      <a:lnTo>
                        <a:pt x="63" y="151"/>
                      </a:lnTo>
                      <a:lnTo>
                        <a:pt x="88" y="149"/>
                      </a:lnTo>
                      <a:lnTo>
                        <a:pt x="65" y="97"/>
                      </a:lnTo>
                      <a:lnTo>
                        <a:pt x="71" y="77"/>
                      </a:lnTo>
                      <a:lnTo>
                        <a:pt x="56" y="71"/>
                      </a:lnTo>
                      <a:lnTo>
                        <a:pt x="40" y="79"/>
                      </a:lnTo>
                      <a:lnTo>
                        <a:pt x="36" y="50"/>
                      </a:lnTo>
                      <a:lnTo>
                        <a:pt x="45" y="37"/>
                      </a:lnTo>
                      <a:lnTo>
                        <a:pt x="46" y="21"/>
                      </a:lnTo>
                      <a:lnTo>
                        <a:pt x="2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311720" y="27244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46" h="22">
                      <a:moveTo>
                        <a:pt x="0" y="12"/>
                      </a:moveTo>
                      <a:lnTo>
                        <a:pt x="44" y="22"/>
                      </a:lnTo>
                      <a:lnTo>
                        <a:pt x="46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218120" y="3130560"/>
                  <a:ext cx="192960" cy="39600"/>
                </a:xfrm>
                <a:custGeom>
                  <a:avLst/>
                  <a:gdLst/>
                  <a:ahLst/>
                  <a:rect l="l" t="t" r="r" b="b"/>
                  <a:pathLst>
                    <a:path w="521" h="118">
                      <a:moveTo>
                        <a:pt x="0" y="118"/>
                      </a:moveTo>
                      <a:lnTo>
                        <a:pt x="130" y="81"/>
                      </a:lnTo>
                      <a:lnTo>
                        <a:pt x="274" y="48"/>
                      </a:lnTo>
                      <a:lnTo>
                        <a:pt x="346" y="34"/>
                      </a:lnTo>
                      <a:lnTo>
                        <a:pt x="412" y="20"/>
                      </a:lnTo>
                      <a:lnTo>
                        <a:pt x="472" y="10"/>
                      </a:lnTo>
                      <a:lnTo>
                        <a:pt x="5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228200" y="348336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35" h="54">
                      <a:moveTo>
                        <a:pt x="4" y="0"/>
                      </a:moveTo>
                      <a:lnTo>
                        <a:pt x="0" y="25"/>
                      </a:lnTo>
                      <a:lnTo>
                        <a:pt x="18" y="34"/>
                      </a:lnTo>
                      <a:lnTo>
                        <a:pt x="0" y="50"/>
                      </a:lnTo>
                      <a:lnTo>
                        <a:pt x="18" y="54"/>
                      </a:lnTo>
                      <a:lnTo>
                        <a:pt x="35" y="35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810680" y="428220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109" h="50">
                      <a:moveTo>
                        <a:pt x="0" y="25"/>
                      </a:moveTo>
                      <a:lnTo>
                        <a:pt x="21" y="47"/>
                      </a:lnTo>
                      <a:lnTo>
                        <a:pt x="37" y="32"/>
                      </a:lnTo>
                      <a:lnTo>
                        <a:pt x="47" y="37"/>
                      </a:lnTo>
                      <a:lnTo>
                        <a:pt x="51" y="50"/>
                      </a:lnTo>
                      <a:lnTo>
                        <a:pt x="74" y="47"/>
                      </a:lnTo>
                      <a:lnTo>
                        <a:pt x="84" y="35"/>
                      </a:lnTo>
                      <a:lnTo>
                        <a:pt x="107" y="25"/>
                      </a:lnTo>
                      <a:lnTo>
                        <a:pt x="109" y="10"/>
                      </a:lnTo>
                      <a:lnTo>
                        <a:pt x="90" y="0"/>
                      </a:lnTo>
                      <a:lnTo>
                        <a:pt x="67" y="10"/>
                      </a:lnTo>
                      <a:lnTo>
                        <a:pt x="47" y="0"/>
                      </a:lnTo>
                      <a:lnTo>
                        <a:pt x="20" y="5"/>
                      </a:lnTo>
                      <a:lnTo>
                        <a:pt x="31" y="20"/>
                      </a:lnTo>
                      <a:lnTo>
                        <a:pt x="21" y="32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063400" y="434484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0" y="0"/>
                      </a:moveTo>
                      <a:lnTo>
                        <a:pt x="33" y="31"/>
                      </a:lnTo>
                      <a:lnTo>
                        <a:pt x="42" y="56"/>
                      </a:lnTo>
                      <a:lnTo>
                        <a:pt x="53" y="40"/>
                      </a:lnTo>
                      <a:lnTo>
                        <a:pt x="45" y="25"/>
                      </a:lnTo>
                      <a:lnTo>
                        <a:pt x="28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789440" y="3250800"/>
                  <a:ext cx="15480" cy="11880"/>
                </a:xfrm>
                <a:custGeom>
                  <a:avLst/>
                  <a:gdLst/>
                  <a:ahLst/>
                  <a:rect l="l" t="t" r="r" b="b"/>
                  <a:pathLst>
                    <a:path w="42" h="38">
                      <a:moveTo>
                        <a:pt x="0" y="38"/>
                      </a:moveTo>
                      <a:lnTo>
                        <a:pt x="30" y="37"/>
                      </a:lnTo>
                      <a:lnTo>
                        <a:pt x="42" y="25"/>
                      </a:lnTo>
                      <a:lnTo>
                        <a:pt x="42" y="0"/>
                      </a:lnTo>
                      <a:lnTo>
                        <a:pt x="9" y="5"/>
                      </a:lnTo>
                      <a:lnTo>
                        <a:pt x="17" y="10"/>
                      </a:lnTo>
                      <a:lnTo>
                        <a:pt x="17" y="3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493520" y="3142440"/>
                  <a:ext cx="37440" cy="10800"/>
                </a:xfrm>
                <a:custGeom>
                  <a:avLst/>
                  <a:gdLst/>
                  <a:ahLst/>
                  <a:rect l="l" t="t" r="r" b="b"/>
                  <a:pathLst>
                    <a:path w="101" h="33">
                      <a:moveTo>
                        <a:pt x="0" y="20"/>
                      </a:moveTo>
                      <a:lnTo>
                        <a:pt x="18" y="18"/>
                      </a:lnTo>
                      <a:lnTo>
                        <a:pt x="31" y="32"/>
                      </a:lnTo>
                      <a:lnTo>
                        <a:pt x="53" y="33"/>
                      </a:lnTo>
                      <a:lnTo>
                        <a:pt x="70" y="23"/>
                      </a:lnTo>
                      <a:lnTo>
                        <a:pt x="101" y="23"/>
                      </a:lnTo>
                      <a:lnTo>
                        <a:pt x="95" y="7"/>
                      </a:lnTo>
                      <a:lnTo>
                        <a:pt x="76" y="1"/>
                      </a:lnTo>
                      <a:lnTo>
                        <a:pt x="26" y="0"/>
                      </a:lnTo>
                      <a:lnTo>
                        <a:pt x="5" y="11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790880" y="3156480"/>
                  <a:ext cx="8640" cy="75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9"/>
                      </a:moveTo>
                      <a:lnTo>
                        <a:pt x="4" y="25"/>
                      </a:lnTo>
                      <a:lnTo>
                        <a:pt x="13" y="15"/>
                      </a:lnTo>
                      <a:lnTo>
                        <a:pt x="24" y="12"/>
                      </a:lnTo>
                      <a:lnTo>
                        <a:pt x="17" y="0"/>
                      </a:lnTo>
                      <a:lnTo>
                        <a:pt x="12" y="12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226040" y="3186000"/>
                  <a:ext cx="76320" cy="71280"/>
                </a:xfrm>
                <a:custGeom>
                  <a:avLst/>
                  <a:gdLst/>
                  <a:ahLst/>
                  <a:rect l="l" t="t" r="r" b="b"/>
                  <a:pathLst>
                    <a:path w="206" h="214">
                      <a:moveTo>
                        <a:pt x="7" y="169"/>
                      </a:moveTo>
                      <a:lnTo>
                        <a:pt x="50" y="111"/>
                      </a:lnTo>
                      <a:lnTo>
                        <a:pt x="82" y="104"/>
                      </a:lnTo>
                      <a:lnTo>
                        <a:pt x="101" y="89"/>
                      </a:lnTo>
                      <a:lnTo>
                        <a:pt x="85" y="70"/>
                      </a:lnTo>
                      <a:lnTo>
                        <a:pt x="71" y="64"/>
                      </a:lnTo>
                      <a:lnTo>
                        <a:pt x="67" y="48"/>
                      </a:lnTo>
                      <a:lnTo>
                        <a:pt x="85" y="44"/>
                      </a:lnTo>
                      <a:lnTo>
                        <a:pt x="86" y="29"/>
                      </a:lnTo>
                      <a:lnTo>
                        <a:pt x="102" y="16"/>
                      </a:lnTo>
                      <a:lnTo>
                        <a:pt x="176" y="0"/>
                      </a:lnTo>
                      <a:lnTo>
                        <a:pt x="165" y="80"/>
                      </a:lnTo>
                      <a:lnTo>
                        <a:pt x="168" y="93"/>
                      </a:lnTo>
                      <a:lnTo>
                        <a:pt x="180" y="91"/>
                      </a:lnTo>
                      <a:lnTo>
                        <a:pt x="180" y="91"/>
                      </a:lnTo>
                      <a:lnTo>
                        <a:pt x="206" y="95"/>
                      </a:lnTo>
                      <a:lnTo>
                        <a:pt x="206" y="96"/>
                      </a:lnTo>
                      <a:lnTo>
                        <a:pt x="197" y="110"/>
                      </a:lnTo>
                      <a:lnTo>
                        <a:pt x="157" y="143"/>
                      </a:lnTo>
                      <a:lnTo>
                        <a:pt x="156" y="156"/>
                      </a:lnTo>
                      <a:lnTo>
                        <a:pt x="143" y="171"/>
                      </a:lnTo>
                      <a:lnTo>
                        <a:pt x="135" y="186"/>
                      </a:lnTo>
                      <a:lnTo>
                        <a:pt x="108" y="211"/>
                      </a:lnTo>
                      <a:lnTo>
                        <a:pt x="110" y="211"/>
                      </a:lnTo>
                      <a:lnTo>
                        <a:pt x="86" y="209"/>
                      </a:lnTo>
                      <a:lnTo>
                        <a:pt x="61" y="214"/>
                      </a:lnTo>
                      <a:lnTo>
                        <a:pt x="36" y="211"/>
                      </a:lnTo>
                      <a:lnTo>
                        <a:pt x="11" y="205"/>
                      </a:lnTo>
                      <a:lnTo>
                        <a:pt x="0" y="196"/>
                      </a:lnTo>
                      <a:lnTo>
                        <a:pt x="7" y="1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217400" y="3130560"/>
                  <a:ext cx="124200" cy="121320"/>
                </a:xfrm>
                <a:custGeom>
                  <a:avLst/>
                  <a:gdLst/>
                  <a:ahLst/>
                  <a:rect l="l" t="t" r="r" b="b"/>
                  <a:pathLst>
                    <a:path w="335" h="364">
                      <a:moveTo>
                        <a:pt x="23" y="364"/>
                      </a:moveTo>
                      <a:lnTo>
                        <a:pt x="0" y="347"/>
                      </a:lnTo>
                      <a:lnTo>
                        <a:pt x="0" y="191"/>
                      </a:lnTo>
                      <a:lnTo>
                        <a:pt x="9" y="187"/>
                      </a:lnTo>
                      <a:lnTo>
                        <a:pt x="40" y="168"/>
                      </a:lnTo>
                      <a:lnTo>
                        <a:pt x="70" y="164"/>
                      </a:lnTo>
                      <a:lnTo>
                        <a:pt x="69" y="172"/>
                      </a:lnTo>
                      <a:lnTo>
                        <a:pt x="100" y="158"/>
                      </a:lnTo>
                      <a:lnTo>
                        <a:pt x="96" y="146"/>
                      </a:lnTo>
                      <a:lnTo>
                        <a:pt x="134" y="118"/>
                      </a:lnTo>
                      <a:lnTo>
                        <a:pt x="138" y="98"/>
                      </a:lnTo>
                      <a:lnTo>
                        <a:pt x="149" y="81"/>
                      </a:lnTo>
                      <a:lnTo>
                        <a:pt x="164" y="30"/>
                      </a:lnTo>
                      <a:lnTo>
                        <a:pt x="179" y="17"/>
                      </a:lnTo>
                      <a:lnTo>
                        <a:pt x="221" y="0"/>
                      </a:lnTo>
                      <a:lnTo>
                        <a:pt x="335" y="0"/>
                      </a:lnTo>
                      <a:lnTo>
                        <a:pt x="335" y="0"/>
                      </a:lnTo>
                      <a:lnTo>
                        <a:pt x="314" y="20"/>
                      </a:lnTo>
                      <a:lnTo>
                        <a:pt x="305" y="47"/>
                      </a:lnTo>
                      <a:lnTo>
                        <a:pt x="281" y="126"/>
                      </a:lnTo>
                      <a:lnTo>
                        <a:pt x="265" y="153"/>
                      </a:lnTo>
                      <a:lnTo>
                        <a:pt x="245" y="132"/>
                      </a:lnTo>
                      <a:lnTo>
                        <a:pt x="244" y="132"/>
                      </a:lnTo>
                      <a:lnTo>
                        <a:pt x="229" y="143"/>
                      </a:lnTo>
                      <a:lnTo>
                        <a:pt x="221" y="157"/>
                      </a:lnTo>
                      <a:lnTo>
                        <a:pt x="199" y="168"/>
                      </a:lnTo>
                      <a:lnTo>
                        <a:pt x="125" y="184"/>
                      </a:lnTo>
                      <a:lnTo>
                        <a:pt x="109" y="197"/>
                      </a:lnTo>
                      <a:lnTo>
                        <a:pt x="108" y="212"/>
                      </a:lnTo>
                      <a:lnTo>
                        <a:pt x="90" y="216"/>
                      </a:lnTo>
                      <a:lnTo>
                        <a:pt x="94" y="232"/>
                      </a:lnTo>
                      <a:lnTo>
                        <a:pt x="108" y="238"/>
                      </a:lnTo>
                      <a:lnTo>
                        <a:pt x="124" y="257"/>
                      </a:lnTo>
                      <a:lnTo>
                        <a:pt x="105" y="272"/>
                      </a:lnTo>
                      <a:lnTo>
                        <a:pt x="73" y="279"/>
                      </a:lnTo>
                      <a:lnTo>
                        <a:pt x="30" y="337"/>
                      </a:lnTo>
                      <a:lnTo>
                        <a:pt x="23" y="36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87240" y="3174120"/>
                  <a:ext cx="20880" cy="42840"/>
                </a:xfrm>
                <a:custGeom>
                  <a:avLst/>
                  <a:gdLst/>
                  <a:ahLst/>
                  <a:rect l="l" t="t" r="r" b="b"/>
                  <a:pathLst>
                    <a:path w="57" h="129">
                      <a:moveTo>
                        <a:pt x="15" y="127"/>
                      </a:moveTo>
                      <a:lnTo>
                        <a:pt x="38" y="106"/>
                      </a:lnTo>
                      <a:lnTo>
                        <a:pt x="56" y="7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41" y="11"/>
                      </a:lnTo>
                      <a:lnTo>
                        <a:pt x="33" y="25"/>
                      </a:lnTo>
                      <a:lnTo>
                        <a:pt x="11" y="36"/>
                      </a:lnTo>
                      <a:lnTo>
                        <a:pt x="0" y="116"/>
                      </a:lnTo>
                      <a:lnTo>
                        <a:pt x="3" y="129"/>
                      </a:lnTo>
                      <a:lnTo>
                        <a:pt x="15" y="127"/>
                      </a:lnTo>
                      <a:lnTo>
                        <a:pt x="15" y="12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266000" y="3242880"/>
                  <a:ext cx="43920" cy="19800"/>
                </a:xfrm>
                <a:custGeom>
                  <a:avLst/>
                  <a:gdLst/>
                  <a:ahLst/>
                  <a:rect l="l" t="t" r="r" b="b"/>
                  <a:pathLst>
                    <a:path w="119" h="58">
                      <a:moveTo>
                        <a:pt x="119" y="34"/>
                      </a:moveTo>
                      <a:lnTo>
                        <a:pt x="113" y="47"/>
                      </a:lnTo>
                      <a:lnTo>
                        <a:pt x="62" y="58"/>
                      </a:lnTo>
                      <a:lnTo>
                        <a:pt x="37" y="49"/>
                      </a:lnTo>
                      <a:lnTo>
                        <a:pt x="14" y="54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27" y="15"/>
                      </a:lnTo>
                      <a:lnTo>
                        <a:pt x="35" y="0"/>
                      </a:lnTo>
                      <a:lnTo>
                        <a:pt x="49" y="0"/>
                      </a:lnTo>
                      <a:lnTo>
                        <a:pt x="85" y="19"/>
                      </a:lnTo>
                      <a:lnTo>
                        <a:pt x="101" y="10"/>
                      </a:lnTo>
                      <a:lnTo>
                        <a:pt x="115" y="15"/>
                      </a:lnTo>
                      <a:lnTo>
                        <a:pt x="116" y="34"/>
                      </a:lnTo>
                      <a:lnTo>
                        <a:pt x="119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279320" y="3204000"/>
                  <a:ext cx="117360" cy="5544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18" y="30"/>
                      </a:moveTo>
                      <a:lnTo>
                        <a:pt x="265" y="56"/>
                      </a:lnTo>
                      <a:lnTo>
                        <a:pt x="235" y="60"/>
                      </a:lnTo>
                      <a:lnTo>
                        <a:pt x="224" y="80"/>
                      </a:lnTo>
                      <a:lnTo>
                        <a:pt x="194" y="101"/>
                      </a:lnTo>
                      <a:lnTo>
                        <a:pt x="160" y="112"/>
                      </a:lnTo>
                      <a:lnTo>
                        <a:pt x="134" y="134"/>
                      </a:lnTo>
                      <a:lnTo>
                        <a:pt x="124" y="152"/>
                      </a:lnTo>
                      <a:lnTo>
                        <a:pt x="114" y="164"/>
                      </a:lnTo>
                      <a:lnTo>
                        <a:pt x="104" y="166"/>
                      </a:lnTo>
                      <a:lnTo>
                        <a:pt x="103" y="166"/>
                      </a:lnTo>
                      <a:lnTo>
                        <a:pt x="84" y="151"/>
                      </a:lnTo>
                      <a:lnTo>
                        <a:pt x="81" y="151"/>
                      </a:lnTo>
                      <a:lnTo>
                        <a:pt x="80" y="132"/>
                      </a:lnTo>
                      <a:lnTo>
                        <a:pt x="66" y="127"/>
                      </a:lnTo>
                      <a:lnTo>
                        <a:pt x="50" y="136"/>
                      </a:lnTo>
                      <a:lnTo>
                        <a:pt x="14" y="117"/>
                      </a:lnTo>
                      <a:lnTo>
                        <a:pt x="0" y="117"/>
                      </a:lnTo>
                      <a:lnTo>
                        <a:pt x="13" y="102"/>
                      </a:lnTo>
                      <a:lnTo>
                        <a:pt x="14" y="89"/>
                      </a:lnTo>
                      <a:lnTo>
                        <a:pt x="54" y="56"/>
                      </a:lnTo>
                      <a:lnTo>
                        <a:pt x="63" y="42"/>
                      </a:lnTo>
                      <a:lnTo>
                        <a:pt x="63" y="41"/>
                      </a:lnTo>
                      <a:lnTo>
                        <a:pt x="73" y="49"/>
                      </a:lnTo>
                      <a:lnTo>
                        <a:pt x="104" y="30"/>
                      </a:lnTo>
                      <a:lnTo>
                        <a:pt x="133" y="32"/>
                      </a:lnTo>
                      <a:lnTo>
                        <a:pt x="186" y="10"/>
                      </a:lnTo>
                      <a:lnTo>
                        <a:pt x="209" y="10"/>
                      </a:lnTo>
                      <a:lnTo>
                        <a:pt x="236" y="0"/>
                      </a:lnTo>
                      <a:lnTo>
                        <a:pt x="273" y="2"/>
                      </a:lnTo>
                      <a:lnTo>
                        <a:pt x="291" y="19"/>
                      </a:lnTo>
                      <a:lnTo>
                        <a:pt x="311" y="24"/>
                      </a:lnTo>
                      <a:lnTo>
                        <a:pt x="318" y="30"/>
                      </a:lnTo>
                      <a:lnTo>
                        <a:pt x="318" y="3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310280" y="3213720"/>
                  <a:ext cx="86400" cy="72360"/>
                </a:xfrm>
                <a:custGeom>
                  <a:avLst/>
                  <a:gdLst/>
                  <a:ahLst/>
                  <a:rect l="l" t="t" r="r" b="b"/>
                  <a:pathLst>
                    <a:path w="233" h="217">
                      <a:moveTo>
                        <a:pt x="233" y="0"/>
                      </a:moveTo>
                      <a:lnTo>
                        <a:pt x="180" y="26"/>
                      </a:lnTo>
                      <a:lnTo>
                        <a:pt x="150" y="30"/>
                      </a:lnTo>
                      <a:lnTo>
                        <a:pt x="139" y="50"/>
                      </a:lnTo>
                      <a:lnTo>
                        <a:pt x="109" y="71"/>
                      </a:lnTo>
                      <a:lnTo>
                        <a:pt x="75" y="82"/>
                      </a:lnTo>
                      <a:lnTo>
                        <a:pt x="49" y="104"/>
                      </a:lnTo>
                      <a:lnTo>
                        <a:pt x="39" y="122"/>
                      </a:lnTo>
                      <a:lnTo>
                        <a:pt x="29" y="134"/>
                      </a:lnTo>
                      <a:lnTo>
                        <a:pt x="19" y="136"/>
                      </a:lnTo>
                      <a:lnTo>
                        <a:pt x="18" y="136"/>
                      </a:lnTo>
                      <a:lnTo>
                        <a:pt x="0" y="140"/>
                      </a:lnTo>
                      <a:lnTo>
                        <a:pt x="15" y="157"/>
                      </a:lnTo>
                      <a:lnTo>
                        <a:pt x="50" y="186"/>
                      </a:lnTo>
                      <a:lnTo>
                        <a:pt x="90" y="217"/>
                      </a:lnTo>
                      <a:lnTo>
                        <a:pt x="90" y="216"/>
                      </a:lnTo>
                      <a:lnTo>
                        <a:pt x="101" y="210"/>
                      </a:lnTo>
                      <a:lnTo>
                        <a:pt x="130" y="212"/>
                      </a:lnTo>
                      <a:lnTo>
                        <a:pt x="153" y="209"/>
                      </a:lnTo>
                      <a:lnTo>
                        <a:pt x="165" y="212"/>
                      </a:lnTo>
                      <a:lnTo>
                        <a:pt x="181" y="212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0" y="190"/>
                      </a:lnTo>
                      <a:lnTo>
                        <a:pt x="200" y="167"/>
                      </a:lnTo>
                      <a:lnTo>
                        <a:pt x="201" y="142"/>
                      </a:lnTo>
                      <a:lnTo>
                        <a:pt x="213" y="114"/>
                      </a:lnTo>
                      <a:lnTo>
                        <a:pt x="218" y="59"/>
                      </a:lnTo>
                      <a:lnTo>
                        <a:pt x="231" y="37"/>
                      </a:lnTo>
                      <a:lnTo>
                        <a:pt x="233" y="0"/>
                      </a:lnTo>
                      <a:lnTo>
                        <a:pt x="23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341600" y="3281400"/>
                  <a:ext cx="60840" cy="40680"/>
                </a:xfrm>
                <a:custGeom>
                  <a:avLst/>
                  <a:gdLst/>
                  <a:ahLst/>
                  <a:rect l="l" t="t" r="r" b="b"/>
                  <a:pathLst>
                    <a:path w="163" h="122">
                      <a:moveTo>
                        <a:pt x="5" y="12"/>
                      </a:moveTo>
                      <a:lnTo>
                        <a:pt x="16" y="6"/>
                      </a:lnTo>
                      <a:lnTo>
                        <a:pt x="45" y="8"/>
                      </a:lnTo>
                      <a:lnTo>
                        <a:pt x="68" y="5"/>
                      </a:lnTo>
                      <a:lnTo>
                        <a:pt x="80" y="8"/>
                      </a:lnTo>
                      <a:lnTo>
                        <a:pt x="96" y="8"/>
                      </a:lnTo>
                      <a:lnTo>
                        <a:pt x="111" y="0"/>
                      </a:lnTo>
                      <a:lnTo>
                        <a:pt x="111" y="0"/>
                      </a:lnTo>
                      <a:lnTo>
                        <a:pt x="135" y="42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48" y="65"/>
                      </a:lnTo>
                      <a:lnTo>
                        <a:pt x="145" y="81"/>
                      </a:lnTo>
                      <a:lnTo>
                        <a:pt x="151" y="91"/>
                      </a:lnTo>
                      <a:lnTo>
                        <a:pt x="146" y="107"/>
                      </a:lnTo>
                      <a:lnTo>
                        <a:pt x="138" y="122"/>
                      </a:lnTo>
                      <a:lnTo>
                        <a:pt x="138" y="122"/>
                      </a:lnTo>
                      <a:lnTo>
                        <a:pt x="126" y="121"/>
                      </a:lnTo>
                      <a:lnTo>
                        <a:pt x="101" y="121"/>
                      </a:lnTo>
                      <a:lnTo>
                        <a:pt x="108" y="96"/>
                      </a:lnTo>
                      <a:lnTo>
                        <a:pt x="90" y="82"/>
                      </a:lnTo>
                      <a:lnTo>
                        <a:pt x="61" y="71"/>
                      </a:lnTo>
                      <a:lnTo>
                        <a:pt x="49" y="57"/>
                      </a:lnTo>
                      <a:lnTo>
                        <a:pt x="31" y="76"/>
                      </a:lnTo>
                      <a:lnTo>
                        <a:pt x="24" y="70"/>
                      </a:lnTo>
                      <a:lnTo>
                        <a:pt x="6" y="68"/>
                      </a:lnTo>
                      <a:lnTo>
                        <a:pt x="0" y="50"/>
                      </a:lnTo>
                      <a:lnTo>
                        <a:pt x="5" y="13"/>
                      </a:lnTo>
                      <a:lnTo>
                        <a:pt x="5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392720" y="3300480"/>
                  <a:ext cx="65160" cy="35640"/>
                </a:xfrm>
                <a:custGeom>
                  <a:avLst/>
                  <a:gdLst/>
                  <a:ahLst/>
                  <a:rect l="l" t="t" r="r" b="b"/>
                  <a:pathLst>
                    <a:path w="176" h="110">
                      <a:moveTo>
                        <a:pt x="176" y="20"/>
                      </a:moveTo>
                      <a:lnTo>
                        <a:pt x="159" y="12"/>
                      </a:lnTo>
                      <a:lnTo>
                        <a:pt x="152" y="1"/>
                      </a:lnTo>
                      <a:lnTo>
                        <a:pt x="152" y="0"/>
                      </a:lnTo>
                      <a:lnTo>
                        <a:pt x="85" y="35"/>
                      </a:lnTo>
                      <a:lnTo>
                        <a:pt x="67" y="26"/>
                      </a:lnTo>
                      <a:lnTo>
                        <a:pt x="46" y="28"/>
                      </a:lnTo>
                      <a:lnTo>
                        <a:pt x="38" y="8"/>
                      </a:lnTo>
                      <a:lnTo>
                        <a:pt x="25" y="2"/>
                      </a:lnTo>
                      <a:lnTo>
                        <a:pt x="25" y="1"/>
                      </a:lnTo>
                      <a:lnTo>
                        <a:pt x="10" y="10"/>
                      </a:lnTo>
                      <a:lnTo>
                        <a:pt x="7" y="26"/>
                      </a:lnTo>
                      <a:lnTo>
                        <a:pt x="13" y="36"/>
                      </a:lnTo>
                      <a:lnTo>
                        <a:pt x="8" y="52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13" y="66"/>
                      </a:lnTo>
                      <a:lnTo>
                        <a:pt x="40" y="66"/>
                      </a:lnTo>
                      <a:lnTo>
                        <a:pt x="66" y="71"/>
                      </a:lnTo>
                      <a:lnTo>
                        <a:pt x="76" y="85"/>
                      </a:lnTo>
                      <a:lnTo>
                        <a:pt x="103" y="82"/>
                      </a:lnTo>
                      <a:lnTo>
                        <a:pt x="106" y="110"/>
                      </a:lnTo>
                      <a:lnTo>
                        <a:pt x="153" y="86"/>
                      </a:lnTo>
                      <a:lnTo>
                        <a:pt x="133" y="72"/>
                      </a:lnTo>
                      <a:lnTo>
                        <a:pt x="129" y="57"/>
                      </a:lnTo>
                      <a:lnTo>
                        <a:pt x="168" y="30"/>
                      </a:lnTo>
                      <a:lnTo>
                        <a:pt x="176" y="20"/>
                      </a:lnTo>
                      <a:lnTo>
                        <a:pt x="17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448880" y="32994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2" y="0"/>
                      </a:moveTo>
                      <a:lnTo>
                        <a:pt x="29" y="15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7" y="1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453560" y="3292560"/>
                  <a:ext cx="48600" cy="34560"/>
                </a:xfrm>
                <a:custGeom>
                  <a:avLst/>
                  <a:gdLst/>
                  <a:ahLst/>
                  <a:rect l="l" t="t" r="r" b="b"/>
                  <a:pathLst>
                    <a:path w="133" h="107">
                      <a:moveTo>
                        <a:pt x="0" y="21"/>
                      </a:moveTo>
                      <a:lnTo>
                        <a:pt x="17" y="36"/>
                      </a:lnTo>
                      <a:lnTo>
                        <a:pt x="35" y="30"/>
                      </a:lnTo>
                      <a:lnTo>
                        <a:pt x="55" y="39"/>
                      </a:lnTo>
                      <a:lnTo>
                        <a:pt x="68" y="59"/>
                      </a:lnTo>
                      <a:lnTo>
                        <a:pt x="84" y="56"/>
                      </a:lnTo>
                      <a:lnTo>
                        <a:pt x="72" y="75"/>
                      </a:lnTo>
                      <a:lnTo>
                        <a:pt x="83" y="101"/>
                      </a:lnTo>
                      <a:lnTo>
                        <a:pt x="95" y="107"/>
                      </a:lnTo>
                      <a:lnTo>
                        <a:pt x="95" y="106"/>
                      </a:lnTo>
                      <a:lnTo>
                        <a:pt x="107" y="87"/>
                      </a:lnTo>
                      <a:lnTo>
                        <a:pt x="120" y="81"/>
                      </a:lnTo>
                      <a:lnTo>
                        <a:pt x="133" y="65"/>
                      </a:lnTo>
                      <a:lnTo>
                        <a:pt x="123" y="37"/>
                      </a:lnTo>
                      <a:lnTo>
                        <a:pt x="123" y="37"/>
                      </a:lnTo>
                      <a:lnTo>
                        <a:pt x="103" y="20"/>
                      </a:lnTo>
                      <a:lnTo>
                        <a:pt x="83" y="7"/>
                      </a:lnTo>
                      <a:lnTo>
                        <a:pt x="42" y="0"/>
                      </a:lnTo>
                      <a:lnTo>
                        <a:pt x="14" y="5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88840" y="3304440"/>
                  <a:ext cx="13320" cy="22680"/>
                </a:xfrm>
                <a:custGeom>
                  <a:avLst/>
                  <a:gdLst/>
                  <a:ahLst/>
                  <a:rect l="l" t="t" r="r" b="b"/>
                  <a:pathLst>
                    <a:path w="38" h="69">
                      <a:moveTo>
                        <a:pt x="28" y="0"/>
                      </a:moveTo>
                      <a:lnTo>
                        <a:pt x="38" y="28"/>
                      </a:lnTo>
                      <a:lnTo>
                        <a:pt x="25" y="44"/>
                      </a:lnTo>
                      <a:lnTo>
                        <a:pt x="12" y="50"/>
                      </a:lnTo>
                      <a:lnTo>
                        <a:pt x="0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  <a:lnTo>
                        <a:pt x="89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65800" y="3230640"/>
                  <a:ext cx="229320" cy="273600"/>
                </a:xfrm>
                <a:custGeom>
                  <a:avLst/>
                  <a:gdLst/>
                  <a:ahLst/>
                  <a:rect l="l" t="t" r="r" b="b"/>
                  <a:pathLst>
                    <a:path w="619" h="824">
                      <a:moveTo>
                        <a:pt x="89" y="221"/>
                      </a:moveTo>
                      <a:lnTo>
                        <a:pt x="121" y="255"/>
                      </a:lnTo>
                      <a:lnTo>
                        <a:pt x="123" y="218"/>
                      </a:lnTo>
                      <a:lnTo>
                        <a:pt x="149" y="195"/>
                      </a:lnTo>
                      <a:lnTo>
                        <a:pt x="164" y="173"/>
                      </a:lnTo>
                      <a:lnTo>
                        <a:pt x="184" y="166"/>
                      </a:lnTo>
                      <a:lnTo>
                        <a:pt x="190" y="115"/>
                      </a:lnTo>
                      <a:lnTo>
                        <a:pt x="204" y="98"/>
                      </a:lnTo>
                      <a:lnTo>
                        <a:pt x="225" y="88"/>
                      </a:lnTo>
                      <a:lnTo>
                        <a:pt x="246" y="89"/>
                      </a:lnTo>
                      <a:lnTo>
                        <a:pt x="260" y="71"/>
                      </a:lnTo>
                      <a:lnTo>
                        <a:pt x="293" y="71"/>
                      </a:lnTo>
                      <a:lnTo>
                        <a:pt x="357" y="33"/>
                      </a:lnTo>
                      <a:lnTo>
                        <a:pt x="387" y="0"/>
                      </a:lnTo>
                      <a:lnTo>
                        <a:pt x="405" y="3"/>
                      </a:lnTo>
                      <a:lnTo>
                        <a:pt x="412" y="14"/>
                      </a:lnTo>
                      <a:lnTo>
                        <a:pt x="401" y="28"/>
                      </a:lnTo>
                      <a:lnTo>
                        <a:pt x="379" y="36"/>
                      </a:lnTo>
                      <a:lnTo>
                        <a:pt x="341" y="78"/>
                      </a:lnTo>
                      <a:lnTo>
                        <a:pt x="326" y="100"/>
                      </a:lnTo>
                      <a:lnTo>
                        <a:pt x="311" y="145"/>
                      </a:lnTo>
                      <a:lnTo>
                        <a:pt x="304" y="159"/>
                      </a:lnTo>
                      <a:lnTo>
                        <a:pt x="324" y="184"/>
                      </a:lnTo>
                      <a:lnTo>
                        <a:pt x="345" y="221"/>
                      </a:lnTo>
                      <a:lnTo>
                        <a:pt x="342" y="254"/>
                      </a:lnTo>
                      <a:lnTo>
                        <a:pt x="371" y="269"/>
                      </a:lnTo>
                      <a:lnTo>
                        <a:pt x="392" y="271"/>
                      </a:lnTo>
                      <a:lnTo>
                        <a:pt x="426" y="260"/>
                      </a:lnTo>
                      <a:lnTo>
                        <a:pt x="457" y="268"/>
                      </a:lnTo>
                      <a:lnTo>
                        <a:pt x="487" y="304"/>
                      </a:lnTo>
                      <a:lnTo>
                        <a:pt x="502" y="309"/>
                      </a:lnTo>
                      <a:lnTo>
                        <a:pt x="515" y="303"/>
                      </a:lnTo>
                      <a:lnTo>
                        <a:pt x="546" y="306"/>
                      </a:lnTo>
                      <a:lnTo>
                        <a:pt x="576" y="296"/>
                      </a:lnTo>
                      <a:lnTo>
                        <a:pt x="590" y="299"/>
                      </a:lnTo>
                      <a:lnTo>
                        <a:pt x="569" y="379"/>
                      </a:lnTo>
                      <a:lnTo>
                        <a:pt x="575" y="408"/>
                      </a:lnTo>
                      <a:lnTo>
                        <a:pt x="594" y="428"/>
                      </a:lnTo>
                      <a:lnTo>
                        <a:pt x="594" y="444"/>
                      </a:lnTo>
                      <a:lnTo>
                        <a:pt x="574" y="465"/>
                      </a:lnTo>
                      <a:lnTo>
                        <a:pt x="596" y="490"/>
                      </a:lnTo>
                      <a:lnTo>
                        <a:pt x="617" y="541"/>
                      </a:lnTo>
                      <a:lnTo>
                        <a:pt x="619" y="540"/>
                      </a:lnTo>
                      <a:lnTo>
                        <a:pt x="605" y="534"/>
                      </a:lnTo>
                      <a:lnTo>
                        <a:pt x="600" y="520"/>
                      </a:lnTo>
                      <a:lnTo>
                        <a:pt x="589" y="508"/>
                      </a:lnTo>
                      <a:lnTo>
                        <a:pt x="557" y="515"/>
                      </a:lnTo>
                      <a:lnTo>
                        <a:pt x="545" y="523"/>
                      </a:lnTo>
                      <a:lnTo>
                        <a:pt x="474" y="529"/>
                      </a:lnTo>
                      <a:lnTo>
                        <a:pt x="467" y="545"/>
                      </a:lnTo>
                      <a:lnTo>
                        <a:pt x="467" y="559"/>
                      </a:lnTo>
                      <a:lnTo>
                        <a:pt x="497" y="568"/>
                      </a:lnTo>
                      <a:lnTo>
                        <a:pt x="502" y="583"/>
                      </a:lnTo>
                      <a:lnTo>
                        <a:pt x="484" y="580"/>
                      </a:lnTo>
                      <a:lnTo>
                        <a:pt x="469" y="585"/>
                      </a:lnTo>
                      <a:lnTo>
                        <a:pt x="456" y="598"/>
                      </a:lnTo>
                      <a:lnTo>
                        <a:pt x="457" y="628"/>
                      </a:lnTo>
                      <a:lnTo>
                        <a:pt x="481" y="653"/>
                      </a:lnTo>
                      <a:lnTo>
                        <a:pt x="487" y="681"/>
                      </a:lnTo>
                      <a:lnTo>
                        <a:pt x="461" y="824"/>
                      </a:lnTo>
                      <a:lnTo>
                        <a:pt x="435" y="811"/>
                      </a:lnTo>
                      <a:lnTo>
                        <a:pt x="431" y="795"/>
                      </a:lnTo>
                      <a:lnTo>
                        <a:pt x="455" y="764"/>
                      </a:lnTo>
                      <a:lnTo>
                        <a:pt x="447" y="749"/>
                      </a:lnTo>
                      <a:lnTo>
                        <a:pt x="415" y="735"/>
                      </a:lnTo>
                      <a:lnTo>
                        <a:pt x="384" y="741"/>
                      </a:lnTo>
                      <a:lnTo>
                        <a:pt x="364" y="736"/>
                      </a:lnTo>
                      <a:lnTo>
                        <a:pt x="351" y="748"/>
                      </a:lnTo>
                      <a:lnTo>
                        <a:pt x="335" y="750"/>
                      </a:lnTo>
                      <a:lnTo>
                        <a:pt x="304" y="750"/>
                      </a:lnTo>
                      <a:lnTo>
                        <a:pt x="288" y="720"/>
                      </a:lnTo>
                      <a:lnTo>
                        <a:pt x="275" y="711"/>
                      </a:lnTo>
                      <a:lnTo>
                        <a:pt x="273" y="696"/>
                      </a:lnTo>
                      <a:lnTo>
                        <a:pt x="244" y="681"/>
                      </a:lnTo>
                      <a:lnTo>
                        <a:pt x="215" y="649"/>
                      </a:lnTo>
                      <a:lnTo>
                        <a:pt x="189" y="643"/>
                      </a:lnTo>
                      <a:lnTo>
                        <a:pt x="159" y="629"/>
                      </a:lnTo>
                      <a:lnTo>
                        <a:pt x="93" y="640"/>
                      </a:lnTo>
                      <a:lnTo>
                        <a:pt x="74" y="621"/>
                      </a:lnTo>
                      <a:lnTo>
                        <a:pt x="9" y="596"/>
                      </a:lnTo>
                      <a:lnTo>
                        <a:pt x="9" y="596"/>
                      </a:lnTo>
                      <a:lnTo>
                        <a:pt x="0" y="578"/>
                      </a:lnTo>
                      <a:lnTo>
                        <a:pt x="21" y="570"/>
                      </a:lnTo>
                      <a:lnTo>
                        <a:pt x="16" y="549"/>
                      </a:lnTo>
                      <a:lnTo>
                        <a:pt x="34" y="523"/>
                      </a:lnTo>
                      <a:lnTo>
                        <a:pt x="64" y="520"/>
                      </a:lnTo>
                      <a:lnTo>
                        <a:pt x="76" y="489"/>
                      </a:lnTo>
                      <a:lnTo>
                        <a:pt x="95" y="465"/>
                      </a:lnTo>
                      <a:lnTo>
                        <a:pt x="79" y="451"/>
                      </a:lnTo>
                      <a:lnTo>
                        <a:pt x="88" y="425"/>
                      </a:lnTo>
                      <a:lnTo>
                        <a:pt x="81" y="344"/>
                      </a:lnTo>
                      <a:lnTo>
                        <a:pt x="86" y="323"/>
                      </a:lnTo>
                      <a:lnTo>
                        <a:pt x="61" y="29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78840" y="3232800"/>
                  <a:ext cx="248400" cy="185760"/>
                </a:xfrm>
                <a:custGeom>
                  <a:avLst/>
                  <a:gdLst/>
                  <a:ahLst/>
                  <a:rect l="l" t="t" r="r" b="b"/>
                  <a:pathLst>
                    <a:path w="674" h="559">
                      <a:moveTo>
                        <a:pt x="674" y="174"/>
                      </a:moveTo>
                      <a:lnTo>
                        <a:pt x="671" y="185"/>
                      </a:lnTo>
                      <a:lnTo>
                        <a:pt x="632" y="204"/>
                      </a:lnTo>
                      <a:lnTo>
                        <a:pt x="622" y="218"/>
                      </a:lnTo>
                      <a:lnTo>
                        <a:pt x="626" y="232"/>
                      </a:lnTo>
                      <a:lnTo>
                        <a:pt x="638" y="243"/>
                      </a:lnTo>
                      <a:lnTo>
                        <a:pt x="611" y="259"/>
                      </a:lnTo>
                      <a:lnTo>
                        <a:pt x="602" y="293"/>
                      </a:lnTo>
                      <a:lnTo>
                        <a:pt x="633" y="332"/>
                      </a:lnTo>
                      <a:lnTo>
                        <a:pt x="632" y="345"/>
                      </a:lnTo>
                      <a:lnTo>
                        <a:pt x="618" y="360"/>
                      </a:lnTo>
                      <a:lnTo>
                        <a:pt x="589" y="369"/>
                      </a:lnTo>
                      <a:lnTo>
                        <a:pt x="578" y="380"/>
                      </a:lnTo>
                      <a:lnTo>
                        <a:pt x="527" y="390"/>
                      </a:lnTo>
                      <a:lnTo>
                        <a:pt x="508" y="400"/>
                      </a:lnTo>
                      <a:lnTo>
                        <a:pt x="489" y="399"/>
                      </a:lnTo>
                      <a:lnTo>
                        <a:pt x="453" y="384"/>
                      </a:lnTo>
                      <a:lnTo>
                        <a:pt x="437" y="383"/>
                      </a:lnTo>
                      <a:lnTo>
                        <a:pt x="422" y="389"/>
                      </a:lnTo>
                      <a:lnTo>
                        <a:pt x="448" y="414"/>
                      </a:lnTo>
                      <a:lnTo>
                        <a:pt x="446" y="432"/>
                      </a:lnTo>
                      <a:lnTo>
                        <a:pt x="451" y="463"/>
                      </a:lnTo>
                      <a:lnTo>
                        <a:pt x="459" y="473"/>
                      </a:lnTo>
                      <a:lnTo>
                        <a:pt x="477" y="477"/>
                      </a:lnTo>
                      <a:lnTo>
                        <a:pt x="487" y="488"/>
                      </a:lnTo>
                      <a:lnTo>
                        <a:pt x="454" y="504"/>
                      </a:lnTo>
                      <a:lnTo>
                        <a:pt x="447" y="522"/>
                      </a:lnTo>
                      <a:lnTo>
                        <a:pt x="373" y="558"/>
                      </a:lnTo>
                      <a:lnTo>
                        <a:pt x="338" y="559"/>
                      </a:lnTo>
                      <a:lnTo>
                        <a:pt x="315" y="534"/>
                      </a:lnTo>
                      <a:lnTo>
                        <a:pt x="313" y="535"/>
                      </a:lnTo>
                      <a:lnTo>
                        <a:pt x="292" y="484"/>
                      </a:lnTo>
                      <a:lnTo>
                        <a:pt x="270" y="459"/>
                      </a:lnTo>
                      <a:lnTo>
                        <a:pt x="290" y="438"/>
                      </a:lnTo>
                      <a:lnTo>
                        <a:pt x="290" y="422"/>
                      </a:lnTo>
                      <a:lnTo>
                        <a:pt x="271" y="402"/>
                      </a:lnTo>
                      <a:lnTo>
                        <a:pt x="265" y="373"/>
                      </a:lnTo>
                      <a:lnTo>
                        <a:pt x="286" y="293"/>
                      </a:lnTo>
                      <a:lnTo>
                        <a:pt x="272" y="290"/>
                      </a:lnTo>
                      <a:lnTo>
                        <a:pt x="242" y="300"/>
                      </a:lnTo>
                      <a:lnTo>
                        <a:pt x="211" y="297"/>
                      </a:lnTo>
                      <a:lnTo>
                        <a:pt x="198" y="303"/>
                      </a:lnTo>
                      <a:lnTo>
                        <a:pt x="183" y="298"/>
                      </a:lnTo>
                      <a:lnTo>
                        <a:pt x="153" y="262"/>
                      </a:lnTo>
                      <a:lnTo>
                        <a:pt x="122" y="254"/>
                      </a:lnTo>
                      <a:lnTo>
                        <a:pt x="88" y="265"/>
                      </a:lnTo>
                      <a:lnTo>
                        <a:pt x="67" y="263"/>
                      </a:lnTo>
                      <a:lnTo>
                        <a:pt x="38" y="248"/>
                      </a:lnTo>
                      <a:lnTo>
                        <a:pt x="41" y="215"/>
                      </a:lnTo>
                      <a:lnTo>
                        <a:pt x="20" y="178"/>
                      </a:lnTo>
                      <a:lnTo>
                        <a:pt x="0" y="153"/>
                      </a:lnTo>
                      <a:lnTo>
                        <a:pt x="7" y="139"/>
                      </a:lnTo>
                      <a:lnTo>
                        <a:pt x="22" y="94"/>
                      </a:lnTo>
                      <a:lnTo>
                        <a:pt x="37" y="72"/>
                      </a:lnTo>
                      <a:lnTo>
                        <a:pt x="75" y="30"/>
                      </a:lnTo>
                      <a:lnTo>
                        <a:pt x="97" y="22"/>
                      </a:lnTo>
                      <a:lnTo>
                        <a:pt x="95" y="30"/>
                      </a:lnTo>
                      <a:lnTo>
                        <a:pt x="71" y="43"/>
                      </a:lnTo>
                      <a:lnTo>
                        <a:pt x="88" y="84"/>
                      </a:lnTo>
                      <a:lnTo>
                        <a:pt x="61" y="129"/>
                      </a:lnTo>
                      <a:lnTo>
                        <a:pt x="73" y="145"/>
                      </a:lnTo>
                      <a:lnTo>
                        <a:pt x="77" y="165"/>
                      </a:lnTo>
                      <a:lnTo>
                        <a:pt x="107" y="154"/>
                      </a:lnTo>
                      <a:lnTo>
                        <a:pt x="108" y="125"/>
                      </a:lnTo>
                      <a:lnTo>
                        <a:pt x="92" y="97"/>
                      </a:lnTo>
                      <a:lnTo>
                        <a:pt x="92" y="69"/>
                      </a:lnTo>
                      <a:lnTo>
                        <a:pt x="157" y="34"/>
                      </a:lnTo>
                      <a:lnTo>
                        <a:pt x="150" y="14"/>
                      </a:lnTo>
                      <a:lnTo>
                        <a:pt x="171" y="0"/>
                      </a:lnTo>
                      <a:lnTo>
                        <a:pt x="177" y="32"/>
                      </a:lnTo>
                      <a:lnTo>
                        <a:pt x="223" y="33"/>
                      </a:lnTo>
                      <a:lnTo>
                        <a:pt x="243" y="44"/>
                      </a:lnTo>
                      <a:lnTo>
                        <a:pt x="255" y="82"/>
                      </a:lnTo>
                      <a:lnTo>
                        <a:pt x="356" y="68"/>
                      </a:lnTo>
                      <a:lnTo>
                        <a:pt x="363" y="79"/>
                      </a:lnTo>
                      <a:lnTo>
                        <a:pt x="414" y="90"/>
                      </a:lnTo>
                      <a:lnTo>
                        <a:pt x="439" y="82"/>
                      </a:lnTo>
                      <a:lnTo>
                        <a:pt x="464" y="59"/>
                      </a:lnTo>
                      <a:lnTo>
                        <a:pt x="556" y="57"/>
                      </a:lnTo>
                      <a:lnTo>
                        <a:pt x="513" y="65"/>
                      </a:lnTo>
                      <a:lnTo>
                        <a:pt x="546" y="103"/>
                      </a:lnTo>
                      <a:lnTo>
                        <a:pt x="563" y="98"/>
                      </a:lnTo>
                      <a:lnTo>
                        <a:pt x="614" y="115"/>
                      </a:lnTo>
                      <a:lnTo>
                        <a:pt x="622" y="139"/>
                      </a:lnTo>
                      <a:lnTo>
                        <a:pt x="614" y="168"/>
                      </a:lnTo>
                      <a:lnTo>
                        <a:pt x="652" y="160"/>
                      </a:lnTo>
                      <a:lnTo>
                        <a:pt x="674" y="174"/>
                      </a:lnTo>
                      <a:lnTo>
                        <a:pt x="674" y="1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800600" y="3290400"/>
                  <a:ext cx="90000" cy="117000"/>
                </a:xfrm>
                <a:custGeom>
                  <a:avLst/>
                  <a:gdLst/>
                  <a:ahLst/>
                  <a:rect l="l" t="t" r="r" b="b"/>
                  <a:pathLst>
                    <a:path w="243" h="354">
                      <a:moveTo>
                        <a:pt x="31" y="158"/>
                      </a:moveTo>
                      <a:lnTo>
                        <a:pt x="0" y="119"/>
                      </a:lnTo>
                      <a:lnTo>
                        <a:pt x="9" y="85"/>
                      </a:lnTo>
                      <a:lnTo>
                        <a:pt x="36" y="69"/>
                      </a:lnTo>
                      <a:lnTo>
                        <a:pt x="24" y="58"/>
                      </a:lnTo>
                      <a:lnTo>
                        <a:pt x="20" y="44"/>
                      </a:lnTo>
                      <a:lnTo>
                        <a:pt x="30" y="30"/>
                      </a:lnTo>
                      <a:lnTo>
                        <a:pt x="69" y="11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129" y="36"/>
                      </a:lnTo>
                      <a:lnTo>
                        <a:pt x="136" y="58"/>
                      </a:lnTo>
                      <a:lnTo>
                        <a:pt x="134" y="79"/>
                      </a:lnTo>
                      <a:lnTo>
                        <a:pt x="154" y="75"/>
                      </a:lnTo>
                      <a:lnTo>
                        <a:pt x="196" y="105"/>
                      </a:lnTo>
                      <a:lnTo>
                        <a:pt x="212" y="129"/>
                      </a:lnTo>
                      <a:lnTo>
                        <a:pt x="212" y="129"/>
                      </a:lnTo>
                      <a:lnTo>
                        <a:pt x="193" y="168"/>
                      </a:lnTo>
                      <a:lnTo>
                        <a:pt x="166" y="178"/>
                      </a:lnTo>
                      <a:lnTo>
                        <a:pt x="160" y="206"/>
                      </a:lnTo>
                      <a:lnTo>
                        <a:pt x="163" y="220"/>
                      </a:lnTo>
                      <a:lnTo>
                        <a:pt x="185" y="250"/>
                      </a:lnTo>
                      <a:lnTo>
                        <a:pt x="201" y="256"/>
                      </a:lnTo>
                      <a:lnTo>
                        <a:pt x="223" y="299"/>
                      </a:lnTo>
                      <a:lnTo>
                        <a:pt x="243" y="321"/>
                      </a:lnTo>
                      <a:lnTo>
                        <a:pt x="225" y="324"/>
                      </a:lnTo>
                      <a:lnTo>
                        <a:pt x="211" y="318"/>
                      </a:lnTo>
                      <a:lnTo>
                        <a:pt x="125" y="354"/>
                      </a:lnTo>
                      <a:lnTo>
                        <a:pt x="97" y="343"/>
                      </a:lnTo>
                      <a:lnTo>
                        <a:pt x="86" y="330"/>
                      </a:lnTo>
                      <a:lnTo>
                        <a:pt x="69" y="284"/>
                      </a:lnTo>
                      <a:lnTo>
                        <a:pt x="76" y="234"/>
                      </a:lnTo>
                      <a:lnTo>
                        <a:pt x="86" y="223"/>
                      </a:lnTo>
                      <a:lnTo>
                        <a:pt x="81" y="208"/>
                      </a:lnTo>
                      <a:lnTo>
                        <a:pt x="74" y="193"/>
                      </a:lnTo>
                      <a:lnTo>
                        <a:pt x="61" y="184"/>
                      </a:lnTo>
                      <a:lnTo>
                        <a:pt x="64" y="164"/>
                      </a:lnTo>
                      <a:lnTo>
                        <a:pt x="49" y="158"/>
                      </a:lnTo>
                      <a:lnTo>
                        <a:pt x="31" y="1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860360" y="3332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208" h="202">
                      <a:moveTo>
                        <a:pt x="186" y="182"/>
                      </a:moveTo>
                      <a:lnTo>
                        <a:pt x="198" y="170"/>
                      </a:lnTo>
                      <a:lnTo>
                        <a:pt x="208" y="118"/>
                      </a:lnTo>
                      <a:lnTo>
                        <a:pt x="192" y="87"/>
                      </a:lnTo>
                      <a:lnTo>
                        <a:pt x="190" y="50"/>
                      </a:lnTo>
                      <a:lnTo>
                        <a:pt x="192" y="38"/>
                      </a:lnTo>
                      <a:lnTo>
                        <a:pt x="206" y="20"/>
                      </a:lnTo>
                      <a:lnTo>
                        <a:pt x="206" y="20"/>
                      </a:lnTo>
                      <a:lnTo>
                        <a:pt x="153" y="0"/>
                      </a:lnTo>
                      <a:lnTo>
                        <a:pt x="78" y="0"/>
                      </a:lnTo>
                      <a:lnTo>
                        <a:pt x="52" y="3"/>
                      </a:lnTo>
                      <a:lnTo>
                        <a:pt x="52" y="3"/>
                      </a:lnTo>
                      <a:lnTo>
                        <a:pt x="33" y="42"/>
                      </a:lnTo>
                      <a:lnTo>
                        <a:pt x="6" y="52"/>
                      </a:lnTo>
                      <a:lnTo>
                        <a:pt x="0" y="80"/>
                      </a:lnTo>
                      <a:lnTo>
                        <a:pt x="3" y="94"/>
                      </a:lnTo>
                      <a:lnTo>
                        <a:pt x="25" y="124"/>
                      </a:lnTo>
                      <a:lnTo>
                        <a:pt x="41" y="130"/>
                      </a:lnTo>
                      <a:lnTo>
                        <a:pt x="63" y="173"/>
                      </a:lnTo>
                      <a:lnTo>
                        <a:pt x="83" y="195"/>
                      </a:lnTo>
                      <a:lnTo>
                        <a:pt x="103" y="202"/>
                      </a:lnTo>
                      <a:lnTo>
                        <a:pt x="118" y="173"/>
                      </a:lnTo>
                      <a:lnTo>
                        <a:pt x="133" y="177"/>
                      </a:lnTo>
                      <a:lnTo>
                        <a:pt x="151" y="172"/>
                      </a:lnTo>
                      <a:lnTo>
                        <a:pt x="186" y="1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929480" y="3339360"/>
                  <a:ext cx="53280" cy="59760"/>
                </a:xfrm>
                <a:custGeom>
                  <a:avLst/>
                  <a:gdLst/>
                  <a:ahLst/>
                  <a:rect l="l" t="t" r="r" b="b"/>
                  <a:pathLst>
                    <a:path w="144" h="180">
                      <a:moveTo>
                        <a:pt x="0" y="162"/>
                      </a:moveTo>
                      <a:lnTo>
                        <a:pt x="11" y="174"/>
                      </a:lnTo>
                      <a:lnTo>
                        <a:pt x="26" y="180"/>
                      </a:lnTo>
                      <a:lnTo>
                        <a:pt x="41" y="174"/>
                      </a:lnTo>
                      <a:lnTo>
                        <a:pt x="56" y="177"/>
                      </a:lnTo>
                      <a:lnTo>
                        <a:pt x="74" y="172"/>
                      </a:lnTo>
                      <a:lnTo>
                        <a:pt x="97" y="153"/>
                      </a:lnTo>
                      <a:lnTo>
                        <a:pt x="104" y="135"/>
                      </a:lnTo>
                      <a:lnTo>
                        <a:pt x="144" y="83"/>
                      </a:lnTo>
                      <a:lnTo>
                        <a:pt x="144" y="83"/>
                      </a:lnTo>
                      <a:lnTo>
                        <a:pt x="82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6" y="18"/>
                      </a:lnTo>
                      <a:lnTo>
                        <a:pt x="4" y="30"/>
                      </a:lnTo>
                      <a:lnTo>
                        <a:pt x="6" y="67"/>
                      </a:lnTo>
                      <a:lnTo>
                        <a:pt x="22" y="98"/>
                      </a:lnTo>
                      <a:lnTo>
                        <a:pt x="12" y="150"/>
                      </a:lnTo>
                      <a:lnTo>
                        <a:pt x="0" y="16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567680" y="3343320"/>
                  <a:ext cx="726480" cy="649440"/>
                </a:xfrm>
                <a:custGeom>
                  <a:avLst/>
                  <a:gdLst/>
                  <a:ahLst/>
                  <a:rect l="l" t="t" r="r" b="b"/>
                  <a:pathLst>
                    <a:path w="1965" h="1959">
                      <a:moveTo>
                        <a:pt x="971" y="1959"/>
                      </a:moveTo>
                      <a:lnTo>
                        <a:pt x="989" y="1947"/>
                      </a:lnTo>
                      <a:lnTo>
                        <a:pt x="1008" y="1922"/>
                      </a:lnTo>
                      <a:lnTo>
                        <a:pt x="1018" y="1897"/>
                      </a:lnTo>
                      <a:lnTo>
                        <a:pt x="1083" y="1849"/>
                      </a:lnTo>
                      <a:lnTo>
                        <a:pt x="1141" y="1753"/>
                      </a:lnTo>
                      <a:lnTo>
                        <a:pt x="1163" y="1728"/>
                      </a:lnTo>
                      <a:lnTo>
                        <a:pt x="1194" y="1707"/>
                      </a:lnTo>
                      <a:lnTo>
                        <a:pt x="1210" y="1657"/>
                      </a:lnTo>
                      <a:lnTo>
                        <a:pt x="1213" y="1574"/>
                      </a:lnTo>
                      <a:lnTo>
                        <a:pt x="1302" y="1497"/>
                      </a:lnTo>
                      <a:lnTo>
                        <a:pt x="1353" y="1477"/>
                      </a:lnTo>
                      <a:lnTo>
                        <a:pt x="1369" y="1486"/>
                      </a:lnTo>
                      <a:lnTo>
                        <a:pt x="1392" y="1462"/>
                      </a:lnTo>
                      <a:lnTo>
                        <a:pt x="1413" y="1466"/>
                      </a:lnTo>
                      <a:lnTo>
                        <a:pt x="1409" y="1448"/>
                      </a:lnTo>
                      <a:lnTo>
                        <a:pt x="1439" y="1447"/>
                      </a:lnTo>
                      <a:lnTo>
                        <a:pt x="1462" y="1453"/>
                      </a:lnTo>
                      <a:lnTo>
                        <a:pt x="1532" y="1456"/>
                      </a:lnTo>
                      <a:lnTo>
                        <a:pt x="1534" y="1436"/>
                      </a:lnTo>
                      <a:lnTo>
                        <a:pt x="1585" y="1416"/>
                      </a:lnTo>
                      <a:lnTo>
                        <a:pt x="1588" y="1392"/>
                      </a:lnTo>
                      <a:lnTo>
                        <a:pt x="1599" y="1368"/>
                      </a:lnTo>
                      <a:lnTo>
                        <a:pt x="1626" y="1346"/>
                      </a:lnTo>
                      <a:lnTo>
                        <a:pt x="1636" y="1322"/>
                      </a:lnTo>
                      <a:lnTo>
                        <a:pt x="1664" y="1301"/>
                      </a:lnTo>
                      <a:lnTo>
                        <a:pt x="1679" y="1226"/>
                      </a:lnTo>
                      <a:lnTo>
                        <a:pt x="1699" y="1212"/>
                      </a:lnTo>
                      <a:lnTo>
                        <a:pt x="1708" y="1159"/>
                      </a:lnTo>
                      <a:lnTo>
                        <a:pt x="1719" y="1131"/>
                      </a:lnTo>
                      <a:lnTo>
                        <a:pt x="1719" y="1054"/>
                      </a:lnTo>
                      <a:lnTo>
                        <a:pt x="1733" y="998"/>
                      </a:lnTo>
                      <a:lnTo>
                        <a:pt x="1781" y="968"/>
                      </a:lnTo>
                      <a:lnTo>
                        <a:pt x="1839" y="896"/>
                      </a:lnTo>
                      <a:lnTo>
                        <a:pt x="1878" y="873"/>
                      </a:lnTo>
                      <a:lnTo>
                        <a:pt x="1893" y="854"/>
                      </a:lnTo>
                      <a:lnTo>
                        <a:pt x="1916" y="837"/>
                      </a:lnTo>
                      <a:lnTo>
                        <a:pt x="1959" y="772"/>
                      </a:lnTo>
                      <a:lnTo>
                        <a:pt x="1965" y="741"/>
                      </a:lnTo>
                      <a:lnTo>
                        <a:pt x="1961" y="714"/>
                      </a:lnTo>
                      <a:lnTo>
                        <a:pt x="1937" y="623"/>
                      </a:lnTo>
                      <a:lnTo>
                        <a:pt x="1910" y="610"/>
                      </a:lnTo>
                      <a:lnTo>
                        <a:pt x="1883" y="611"/>
                      </a:lnTo>
                      <a:lnTo>
                        <a:pt x="1858" y="602"/>
                      </a:lnTo>
                      <a:lnTo>
                        <a:pt x="1841" y="583"/>
                      </a:lnTo>
                      <a:lnTo>
                        <a:pt x="1816" y="568"/>
                      </a:lnTo>
                      <a:lnTo>
                        <a:pt x="1784" y="528"/>
                      </a:lnTo>
                      <a:lnTo>
                        <a:pt x="1709" y="470"/>
                      </a:lnTo>
                      <a:lnTo>
                        <a:pt x="1633" y="468"/>
                      </a:lnTo>
                      <a:lnTo>
                        <a:pt x="1606" y="452"/>
                      </a:lnTo>
                      <a:lnTo>
                        <a:pt x="1581" y="450"/>
                      </a:lnTo>
                      <a:lnTo>
                        <a:pt x="1556" y="435"/>
                      </a:lnTo>
                      <a:lnTo>
                        <a:pt x="1532" y="426"/>
                      </a:lnTo>
                      <a:lnTo>
                        <a:pt x="1475" y="442"/>
                      </a:lnTo>
                      <a:lnTo>
                        <a:pt x="1484" y="418"/>
                      </a:lnTo>
                      <a:lnTo>
                        <a:pt x="1464" y="373"/>
                      </a:lnTo>
                      <a:lnTo>
                        <a:pt x="1439" y="380"/>
                      </a:lnTo>
                      <a:lnTo>
                        <a:pt x="1429" y="362"/>
                      </a:lnTo>
                      <a:lnTo>
                        <a:pt x="1370" y="341"/>
                      </a:lnTo>
                      <a:lnTo>
                        <a:pt x="1340" y="321"/>
                      </a:lnTo>
                      <a:lnTo>
                        <a:pt x="1310" y="318"/>
                      </a:lnTo>
                      <a:lnTo>
                        <a:pt x="1293" y="325"/>
                      </a:lnTo>
                      <a:lnTo>
                        <a:pt x="1277" y="361"/>
                      </a:lnTo>
                      <a:lnTo>
                        <a:pt x="1264" y="352"/>
                      </a:lnTo>
                      <a:lnTo>
                        <a:pt x="1280" y="298"/>
                      </a:lnTo>
                      <a:lnTo>
                        <a:pt x="1250" y="290"/>
                      </a:lnTo>
                      <a:lnTo>
                        <a:pt x="1225" y="291"/>
                      </a:lnTo>
                      <a:lnTo>
                        <a:pt x="1200" y="285"/>
                      </a:lnTo>
                      <a:lnTo>
                        <a:pt x="1180" y="296"/>
                      </a:lnTo>
                      <a:lnTo>
                        <a:pt x="1178" y="325"/>
                      </a:lnTo>
                      <a:lnTo>
                        <a:pt x="1171" y="358"/>
                      </a:lnTo>
                      <a:lnTo>
                        <a:pt x="1158" y="323"/>
                      </a:lnTo>
                      <a:lnTo>
                        <a:pt x="1128" y="335"/>
                      </a:lnTo>
                      <a:lnTo>
                        <a:pt x="1141" y="282"/>
                      </a:lnTo>
                      <a:lnTo>
                        <a:pt x="1200" y="227"/>
                      </a:lnTo>
                      <a:lnTo>
                        <a:pt x="1205" y="190"/>
                      </a:lnTo>
                      <a:lnTo>
                        <a:pt x="1175" y="183"/>
                      </a:lnTo>
                      <a:lnTo>
                        <a:pt x="1166" y="150"/>
                      </a:lnTo>
                      <a:lnTo>
                        <a:pt x="1148" y="115"/>
                      </a:lnTo>
                      <a:lnTo>
                        <a:pt x="1144" y="90"/>
                      </a:lnTo>
                      <a:lnTo>
                        <a:pt x="1121" y="71"/>
                      </a:lnTo>
                      <a:lnTo>
                        <a:pt x="1121" y="71"/>
                      </a:lnTo>
                      <a:lnTo>
                        <a:pt x="1081" y="123"/>
                      </a:lnTo>
                      <a:lnTo>
                        <a:pt x="1074" y="141"/>
                      </a:lnTo>
                      <a:lnTo>
                        <a:pt x="1051" y="160"/>
                      </a:lnTo>
                      <a:lnTo>
                        <a:pt x="1033" y="165"/>
                      </a:lnTo>
                      <a:lnTo>
                        <a:pt x="1018" y="162"/>
                      </a:lnTo>
                      <a:lnTo>
                        <a:pt x="1003" y="168"/>
                      </a:lnTo>
                      <a:lnTo>
                        <a:pt x="988" y="162"/>
                      </a:lnTo>
                      <a:lnTo>
                        <a:pt x="977" y="150"/>
                      </a:lnTo>
                      <a:lnTo>
                        <a:pt x="942" y="140"/>
                      </a:lnTo>
                      <a:lnTo>
                        <a:pt x="924" y="145"/>
                      </a:lnTo>
                      <a:lnTo>
                        <a:pt x="909" y="141"/>
                      </a:lnTo>
                      <a:lnTo>
                        <a:pt x="894" y="170"/>
                      </a:lnTo>
                      <a:lnTo>
                        <a:pt x="874" y="163"/>
                      </a:lnTo>
                      <a:lnTo>
                        <a:pt x="856" y="166"/>
                      </a:lnTo>
                      <a:lnTo>
                        <a:pt x="842" y="160"/>
                      </a:lnTo>
                      <a:lnTo>
                        <a:pt x="756" y="196"/>
                      </a:lnTo>
                      <a:lnTo>
                        <a:pt x="728" y="185"/>
                      </a:lnTo>
                      <a:lnTo>
                        <a:pt x="717" y="172"/>
                      </a:lnTo>
                      <a:lnTo>
                        <a:pt x="700" y="126"/>
                      </a:lnTo>
                      <a:lnTo>
                        <a:pt x="707" y="76"/>
                      </a:lnTo>
                      <a:lnTo>
                        <a:pt x="717" y="65"/>
                      </a:lnTo>
                      <a:lnTo>
                        <a:pt x="712" y="50"/>
                      </a:lnTo>
                      <a:lnTo>
                        <a:pt x="705" y="35"/>
                      </a:lnTo>
                      <a:lnTo>
                        <a:pt x="692" y="26"/>
                      </a:lnTo>
                      <a:lnTo>
                        <a:pt x="695" y="6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61" y="13"/>
                      </a:lnTo>
                      <a:lnTo>
                        <a:pt x="647" y="28"/>
                      </a:lnTo>
                      <a:lnTo>
                        <a:pt x="618" y="37"/>
                      </a:lnTo>
                      <a:lnTo>
                        <a:pt x="607" y="48"/>
                      </a:lnTo>
                      <a:lnTo>
                        <a:pt x="556" y="58"/>
                      </a:lnTo>
                      <a:lnTo>
                        <a:pt x="537" y="68"/>
                      </a:lnTo>
                      <a:lnTo>
                        <a:pt x="518" y="67"/>
                      </a:lnTo>
                      <a:lnTo>
                        <a:pt x="482" y="52"/>
                      </a:lnTo>
                      <a:lnTo>
                        <a:pt x="466" y="51"/>
                      </a:lnTo>
                      <a:lnTo>
                        <a:pt x="451" y="57"/>
                      </a:lnTo>
                      <a:lnTo>
                        <a:pt x="477" y="82"/>
                      </a:lnTo>
                      <a:lnTo>
                        <a:pt x="475" y="100"/>
                      </a:lnTo>
                      <a:lnTo>
                        <a:pt x="480" y="131"/>
                      </a:lnTo>
                      <a:lnTo>
                        <a:pt x="488" y="141"/>
                      </a:lnTo>
                      <a:lnTo>
                        <a:pt x="506" y="145"/>
                      </a:lnTo>
                      <a:lnTo>
                        <a:pt x="516" y="156"/>
                      </a:lnTo>
                      <a:lnTo>
                        <a:pt x="483" y="172"/>
                      </a:lnTo>
                      <a:lnTo>
                        <a:pt x="476" y="190"/>
                      </a:lnTo>
                      <a:lnTo>
                        <a:pt x="402" y="226"/>
                      </a:lnTo>
                      <a:lnTo>
                        <a:pt x="367" y="227"/>
                      </a:lnTo>
                      <a:lnTo>
                        <a:pt x="344" y="202"/>
                      </a:lnTo>
                      <a:lnTo>
                        <a:pt x="330" y="196"/>
                      </a:lnTo>
                      <a:lnTo>
                        <a:pt x="325" y="182"/>
                      </a:lnTo>
                      <a:lnTo>
                        <a:pt x="314" y="170"/>
                      </a:lnTo>
                      <a:lnTo>
                        <a:pt x="282" y="177"/>
                      </a:lnTo>
                      <a:lnTo>
                        <a:pt x="270" y="185"/>
                      </a:lnTo>
                      <a:lnTo>
                        <a:pt x="199" y="191"/>
                      </a:lnTo>
                      <a:lnTo>
                        <a:pt x="192" y="207"/>
                      </a:lnTo>
                      <a:lnTo>
                        <a:pt x="192" y="221"/>
                      </a:lnTo>
                      <a:lnTo>
                        <a:pt x="222" y="230"/>
                      </a:lnTo>
                      <a:lnTo>
                        <a:pt x="227" y="245"/>
                      </a:lnTo>
                      <a:lnTo>
                        <a:pt x="209" y="242"/>
                      </a:lnTo>
                      <a:lnTo>
                        <a:pt x="194" y="247"/>
                      </a:lnTo>
                      <a:lnTo>
                        <a:pt x="181" y="260"/>
                      </a:lnTo>
                      <a:lnTo>
                        <a:pt x="182" y="290"/>
                      </a:lnTo>
                      <a:lnTo>
                        <a:pt x="206" y="315"/>
                      </a:lnTo>
                      <a:lnTo>
                        <a:pt x="212" y="343"/>
                      </a:lnTo>
                      <a:lnTo>
                        <a:pt x="186" y="486"/>
                      </a:lnTo>
                      <a:lnTo>
                        <a:pt x="102" y="513"/>
                      </a:lnTo>
                      <a:lnTo>
                        <a:pt x="70" y="533"/>
                      </a:lnTo>
                      <a:lnTo>
                        <a:pt x="35" y="581"/>
                      </a:lnTo>
                      <a:lnTo>
                        <a:pt x="31" y="617"/>
                      </a:lnTo>
                      <a:lnTo>
                        <a:pt x="15" y="622"/>
                      </a:lnTo>
                      <a:lnTo>
                        <a:pt x="0" y="660"/>
                      </a:lnTo>
                      <a:lnTo>
                        <a:pt x="0" y="677"/>
                      </a:lnTo>
                      <a:lnTo>
                        <a:pt x="16" y="711"/>
                      </a:lnTo>
                      <a:lnTo>
                        <a:pt x="44" y="737"/>
                      </a:lnTo>
                      <a:lnTo>
                        <a:pt x="41" y="754"/>
                      </a:lnTo>
                      <a:lnTo>
                        <a:pt x="72" y="761"/>
                      </a:lnTo>
                      <a:lnTo>
                        <a:pt x="80" y="773"/>
                      </a:lnTo>
                      <a:lnTo>
                        <a:pt x="97" y="782"/>
                      </a:lnTo>
                      <a:lnTo>
                        <a:pt x="119" y="779"/>
                      </a:lnTo>
                      <a:lnTo>
                        <a:pt x="157" y="748"/>
                      </a:lnTo>
                      <a:lnTo>
                        <a:pt x="166" y="762"/>
                      </a:lnTo>
                      <a:lnTo>
                        <a:pt x="167" y="824"/>
                      </a:lnTo>
                      <a:lnTo>
                        <a:pt x="186" y="829"/>
                      </a:lnTo>
                      <a:lnTo>
                        <a:pt x="210" y="822"/>
                      </a:lnTo>
                      <a:lnTo>
                        <a:pt x="241" y="824"/>
                      </a:lnTo>
                      <a:lnTo>
                        <a:pt x="279" y="819"/>
                      </a:lnTo>
                      <a:lnTo>
                        <a:pt x="314" y="801"/>
                      </a:lnTo>
                      <a:lnTo>
                        <a:pt x="356" y="757"/>
                      </a:lnTo>
                      <a:lnTo>
                        <a:pt x="404" y="748"/>
                      </a:lnTo>
                      <a:lnTo>
                        <a:pt x="421" y="749"/>
                      </a:lnTo>
                      <a:lnTo>
                        <a:pt x="427" y="763"/>
                      </a:lnTo>
                      <a:lnTo>
                        <a:pt x="428" y="784"/>
                      </a:lnTo>
                      <a:lnTo>
                        <a:pt x="422" y="828"/>
                      </a:lnTo>
                      <a:lnTo>
                        <a:pt x="432" y="856"/>
                      </a:lnTo>
                      <a:lnTo>
                        <a:pt x="443" y="864"/>
                      </a:lnTo>
                      <a:lnTo>
                        <a:pt x="468" y="882"/>
                      </a:lnTo>
                      <a:lnTo>
                        <a:pt x="526" y="889"/>
                      </a:lnTo>
                      <a:lnTo>
                        <a:pt x="550" y="909"/>
                      </a:lnTo>
                      <a:lnTo>
                        <a:pt x="583" y="918"/>
                      </a:lnTo>
                      <a:lnTo>
                        <a:pt x="596" y="931"/>
                      </a:lnTo>
                      <a:lnTo>
                        <a:pt x="633" y="933"/>
                      </a:lnTo>
                      <a:lnTo>
                        <a:pt x="647" y="941"/>
                      </a:lnTo>
                      <a:lnTo>
                        <a:pt x="661" y="951"/>
                      </a:lnTo>
                      <a:lnTo>
                        <a:pt x="676" y="996"/>
                      </a:lnTo>
                      <a:lnTo>
                        <a:pt x="675" y="1013"/>
                      </a:lnTo>
                      <a:lnTo>
                        <a:pt x="668" y="1026"/>
                      </a:lnTo>
                      <a:lnTo>
                        <a:pt x="683" y="1071"/>
                      </a:lnTo>
                      <a:lnTo>
                        <a:pt x="758" y="1077"/>
                      </a:lnTo>
                      <a:lnTo>
                        <a:pt x="771" y="1083"/>
                      </a:lnTo>
                      <a:lnTo>
                        <a:pt x="767" y="1112"/>
                      </a:lnTo>
                      <a:lnTo>
                        <a:pt x="791" y="1137"/>
                      </a:lnTo>
                      <a:lnTo>
                        <a:pt x="803" y="1173"/>
                      </a:lnTo>
                      <a:lnTo>
                        <a:pt x="801" y="1218"/>
                      </a:lnTo>
                      <a:lnTo>
                        <a:pt x="791" y="1246"/>
                      </a:lnTo>
                      <a:lnTo>
                        <a:pt x="792" y="1263"/>
                      </a:lnTo>
                      <a:lnTo>
                        <a:pt x="785" y="1268"/>
                      </a:lnTo>
                      <a:lnTo>
                        <a:pt x="791" y="1299"/>
                      </a:lnTo>
                      <a:lnTo>
                        <a:pt x="788" y="1358"/>
                      </a:lnTo>
                      <a:lnTo>
                        <a:pt x="807" y="1371"/>
                      </a:lnTo>
                      <a:lnTo>
                        <a:pt x="827" y="1376"/>
                      </a:lnTo>
                      <a:lnTo>
                        <a:pt x="856" y="1374"/>
                      </a:lnTo>
                      <a:lnTo>
                        <a:pt x="878" y="1378"/>
                      </a:lnTo>
                      <a:lnTo>
                        <a:pt x="893" y="1389"/>
                      </a:lnTo>
                      <a:lnTo>
                        <a:pt x="903" y="1456"/>
                      </a:lnTo>
                      <a:lnTo>
                        <a:pt x="952" y="1466"/>
                      </a:lnTo>
                      <a:lnTo>
                        <a:pt x="954" y="1481"/>
                      </a:lnTo>
                      <a:lnTo>
                        <a:pt x="944" y="1547"/>
                      </a:lnTo>
                      <a:lnTo>
                        <a:pt x="958" y="1544"/>
                      </a:lnTo>
                      <a:lnTo>
                        <a:pt x="971" y="1549"/>
                      </a:lnTo>
                      <a:lnTo>
                        <a:pt x="978" y="1579"/>
                      </a:lnTo>
                      <a:lnTo>
                        <a:pt x="977" y="1619"/>
                      </a:lnTo>
                      <a:lnTo>
                        <a:pt x="946" y="1639"/>
                      </a:lnTo>
                      <a:lnTo>
                        <a:pt x="929" y="1643"/>
                      </a:lnTo>
                      <a:lnTo>
                        <a:pt x="878" y="1689"/>
                      </a:lnTo>
                      <a:lnTo>
                        <a:pt x="848" y="1728"/>
                      </a:lnTo>
                      <a:lnTo>
                        <a:pt x="796" y="1777"/>
                      </a:lnTo>
                      <a:lnTo>
                        <a:pt x="809" y="1778"/>
                      </a:lnTo>
                      <a:lnTo>
                        <a:pt x="822" y="1769"/>
                      </a:lnTo>
                      <a:lnTo>
                        <a:pt x="837" y="1776"/>
                      </a:lnTo>
                      <a:lnTo>
                        <a:pt x="872" y="1817"/>
                      </a:lnTo>
                      <a:lnTo>
                        <a:pt x="884" y="1808"/>
                      </a:lnTo>
                      <a:lnTo>
                        <a:pt x="901" y="1832"/>
                      </a:lnTo>
                      <a:lnTo>
                        <a:pt x="927" y="1841"/>
                      </a:lnTo>
                      <a:lnTo>
                        <a:pt x="933" y="1853"/>
                      </a:lnTo>
                      <a:lnTo>
                        <a:pt x="959" y="1867"/>
                      </a:lnTo>
                      <a:lnTo>
                        <a:pt x="964" y="1887"/>
                      </a:lnTo>
                      <a:lnTo>
                        <a:pt x="984" y="1909"/>
                      </a:lnTo>
                      <a:lnTo>
                        <a:pt x="969" y="1932"/>
                      </a:lnTo>
                      <a:lnTo>
                        <a:pt x="969" y="1957"/>
                      </a:lnTo>
                      <a:lnTo>
                        <a:pt x="971" y="19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4573440" y="3342240"/>
                <a:ext cx="728640" cy="65088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855680" y="3929760"/>
                <a:ext cx="82440" cy="79920"/>
              </a:xfrm>
              <a:custGeom>
                <a:avLst/>
                <a:gdLst/>
                <a:ahLst/>
                <a:rect l="l" t="t" r="r" b="b"/>
                <a:pathLst>
                  <a:path w="221" h="238">
                    <a:moveTo>
                      <a:pt x="0" y="197"/>
                    </a:moveTo>
                    <a:lnTo>
                      <a:pt x="3" y="175"/>
                    </a:lnTo>
                    <a:lnTo>
                      <a:pt x="9" y="142"/>
                    </a:lnTo>
                    <a:lnTo>
                      <a:pt x="23" y="19"/>
                    </a:lnTo>
                    <a:lnTo>
                      <a:pt x="33" y="8"/>
                    </a:lnTo>
                    <a:lnTo>
                      <a:pt x="46" y="9"/>
                    </a:lnTo>
                    <a:lnTo>
                      <a:pt x="59" y="0"/>
                    </a:lnTo>
                    <a:lnTo>
                      <a:pt x="74" y="7"/>
                    </a:lnTo>
                    <a:lnTo>
                      <a:pt x="109" y="48"/>
                    </a:lnTo>
                    <a:lnTo>
                      <a:pt x="121" y="39"/>
                    </a:lnTo>
                    <a:lnTo>
                      <a:pt x="138" y="63"/>
                    </a:lnTo>
                    <a:lnTo>
                      <a:pt x="164" y="72"/>
                    </a:lnTo>
                    <a:lnTo>
                      <a:pt x="170" y="84"/>
                    </a:lnTo>
                    <a:lnTo>
                      <a:pt x="196" y="98"/>
                    </a:lnTo>
                    <a:lnTo>
                      <a:pt x="201" y="118"/>
                    </a:lnTo>
                    <a:lnTo>
                      <a:pt x="221" y="140"/>
                    </a:lnTo>
                    <a:lnTo>
                      <a:pt x="206" y="163"/>
                    </a:lnTo>
                    <a:lnTo>
                      <a:pt x="206" y="188"/>
                    </a:lnTo>
                    <a:lnTo>
                      <a:pt x="208" y="190"/>
                    </a:lnTo>
                    <a:lnTo>
                      <a:pt x="200" y="209"/>
                    </a:lnTo>
                    <a:lnTo>
                      <a:pt x="159" y="237"/>
                    </a:lnTo>
                    <a:lnTo>
                      <a:pt x="86" y="238"/>
                    </a:lnTo>
                    <a:lnTo>
                      <a:pt x="61" y="230"/>
                    </a:lnTo>
                    <a:lnTo>
                      <a:pt x="49" y="217"/>
                    </a:lnTo>
                    <a:lnTo>
                      <a:pt x="20" y="217"/>
                    </a:lnTo>
                    <a:lnTo>
                      <a:pt x="0" y="197"/>
                    </a:lnTo>
                    <a:lnTo>
                      <a:pt x="0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83320" y="374976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389" h="415">
                    <a:moveTo>
                      <a:pt x="379" y="323"/>
                    </a:moveTo>
                    <a:lnTo>
                      <a:pt x="389" y="257"/>
                    </a:lnTo>
                    <a:lnTo>
                      <a:pt x="387" y="242"/>
                    </a:lnTo>
                    <a:lnTo>
                      <a:pt x="338" y="232"/>
                    </a:lnTo>
                    <a:lnTo>
                      <a:pt x="328" y="165"/>
                    </a:lnTo>
                    <a:lnTo>
                      <a:pt x="313" y="154"/>
                    </a:lnTo>
                    <a:lnTo>
                      <a:pt x="291" y="150"/>
                    </a:lnTo>
                    <a:lnTo>
                      <a:pt x="262" y="152"/>
                    </a:lnTo>
                    <a:lnTo>
                      <a:pt x="242" y="147"/>
                    </a:lnTo>
                    <a:lnTo>
                      <a:pt x="223" y="134"/>
                    </a:lnTo>
                    <a:lnTo>
                      <a:pt x="226" y="75"/>
                    </a:lnTo>
                    <a:lnTo>
                      <a:pt x="220" y="44"/>
                    </a:lnTo>
                    <a:lnTo>
                      <a:pt x="200" y="18"/>
                    </a:lnTo>
                    <a:lnTo>
                      <a:pt x="185" y="5"/>
                    </a:lnTo>
                    <a:lnTo>
                      <a:pt x="171" y="0"/>
                    </a:lnTo>
                    <a:lnTo>
                      <a:pt x="127" y="0"/>
                    </a:lnTo>
                    <a:lnTo>
                      <a:pt x="40" y="25"/>
                    </a:lnTo>
                    <a:lnTo>
                      <a:pt x="20" y="65"/>
                    </a:lnTo>
                    <a:lnTo>
                      <a:pt x="13" y="83"/>
                    </a:lnTo>
                    <a:lnTo>
                      <a:pt x="13" y="117"/>
                    </a:lnTo>
                    <a:lnTo>
                      <a:pt x="1" y="154"/>
                    </a:lnTo>
                    <a:lnTo>
                      <a:pt x="0" y="154"/>
                    </a:lnTo>
                    <a:lnTo>
                      <a:pt x="18" y="164"/>
                    </a:lnTo>
                    <a:lnTo>
                      <a:pt x="27" y="180"/>
                    </a:lnTo>
                    <a:lnTo>
                      <a:pt x="78" y="222"/>
                    </a:lnTo>
                    <a:lnTo>
                      <a:pt x="87" y="237"/>
                    </a:lnTo>
                    <a:lnTo>
                      <a:pt x="147" y="250"/>
                    </a:lnTo>
                    <a:lnTo>
                      <a:pt x="220" y="297"/>
                    </a:lnTo>
                    <a:lnTo>
                      <a:pt x="229" y="308"/>
                    </a:lnTo>
                    <a:lnTo>
                      <a:pt x="229" y="327"/>
                    </a:lnTo>
                    <a:lnTo>
                      <a:pt x="211" y="354"/>
                    </a:lnTo>
                    <a:lnTo>
                      <a:pt x="198" y="394"/>
                    </a:lnTo>
                    <a:lnTo>
                      <a:pt x="248" y="403"/>
                    </a:lnTo>
                    <a:lnTo>
                      <a:pt x="262" y="413"/>
                    </a:lnTo>
                    <a:lnTo>
                      <a:pt x="283" y="415"/>
                    </a:lnTo>
                    <a:lnTo>
                      <a:pt x="316" y="409"/>
                    </a:lnTo>
                    <a:lnTo>
                      <a:pt x="363" y="374"/>
                    </a:lnTo>
                    <a:lnTo>
                      <a:pt x="373" y="355"/>
                    </a:lnTo>
                    <a:lnTo>
                      <a:pt x="379" y="3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51560" y="3591360"/>
                <a:ext cx="219240" cy="221040"/>
              </a:xfrm>
              <a:custGeom>
                <a:avLst/>
                <a:gdLst/>
                <a:ahLst/>
                <a:rect l="l" t="t" r="r" b="b"/>
                <a:pathLst>
                  <a:path w="593" h="668">
                    <a:moveTo>
                      <a:pt x="0" y="74"/>
                    </a:moveTo>
                    <a:lnTo>
                      <a:pt x="31" y="76"/>
                    </a:lnTo>
                    <a:lnTo>
                      <a:pt x="69" y="71"/>
                    </a:lnTo>
                    <a:lnTo>
                      <a:pt x="104" y="53"/>
                    </a:lnTo>
                    <a:lnTo>
                      <a:pt x="146" y="9"/>
                    </a:lnTo>
                    <a:lnTo>
                      <a:pt x="194" y="0"/>
                    </a:lnTo>
                    <a:lnTo>
                      <a:pt x="211" y="1"/>
                    </a:lnTo>
                    <a:lnTo>
                      <a:pt x="217" y="15"/>
                    </a:lnTo>
                    <a:lnTo>
                      <a:pt x="218" y="36"/>
                    </a:lnTo>
                    <a:lnTo>
                      <a:pt x="212" y="80"/>
                    </a:lnTo>
                    <a:lnTo>
                      <a:pt x="222" y="108"/>
                    </a:lnTo>
                    <a:lnTo>
                      <a:pt x="233" y="116"/>
                    </a:lnTo>
                    <a:lnTo>
                      <a:pt x="258" y="134"/>
                    </a:lnTo>
                    <a:lnTo>
                      <a:pt x="316" y="141"/>
                    </a:lnTo>
                    <a:lnTo>
                      <a:pt x="340" y="161"/>
                    </a:lnTo>
                    <a:lnTo>
                      <a:pt x="373" y="170"/>
                    </a:lnTo>
                    <a:lnTo>
                      <a:pt x="386" y="183"/>
                    </a:lnTo>
                    <a:lnTo>
                      <a:pt x="423" y="185"/>
                    </a:lnTo>
                    <a:lnTo>
                      <a:pt x="437" y="193"/>
                    </a:lnTo>
                    <a:lnTo>
                      <a:pt x="451" y="203"/>
                    </a:lnTo>
                    <a:lnTo>
                      <a:pt x="466" y="248"/>
                    </a:lnTo>
                    <a:lnTo>
                      <a:pt x="465" y="265"/>
                    </a:lnTo>
                    <a:lnTo>
                      <a:pt x="458" y="278"/>
                    </a:lnTo>
                    <a:lnTo>
                      <a:pt x="473" y="323"/>
                    </a:lnTo>
                    <a:lnTo>
                      <a:pt x="548" y="329"/>
                    </a:lnTo>
                    <a:lnTo>
                      <a:pt x="561" y="335"/>
                    </a:lnTo>
                    <a:lnTo>
                      <a:pt x="557" y="364"/>
                    </a:lnTo>
                    <a:lnTo>
                      <a:pt x="581" y="389"/>
                    </a:lnTo>
                    <a:lnTo>
                      <a:pt x="593" y="425"/>
                    </a:lnTo>
                    <a:lnTo>
                      <a:pt x="591" y="470"/>
                    </a:lnTo>
                    <a:lnTo>
                      <a:pt x="581" y="498"/>
                    </a:lnTo>
                    <a:lnTo>
                      <a:pt x="582" y="515"/>
                    </a:lnTo>
                    <a:lnTo>
                      <a:pt x="575" y="520"/>
                    </a:lnTo>
                    <a:lnTo>
                      <a:pt x="555" y="494"/>
                    </a:lnTo>
                    <a:lnTo>
                      <a:pt x="540" y="481"/>
                    </a:lnTo>
                    <a:lnTo>
                      <a:pt x="526" y="476"/>
                    </a:lnTo>
                    <a:lnTo>
                      <a:pt x="482" y="476"/>
                    </a:lnTo>
                    <a:lnTo>
                      <a:pt x="395" y="501"/>
                    </a:lnTo>
                    <a:lnTo>
                      <a:pt x="375" y="541"/>
                    </a:lnTo>
                    <a:lnTo>
                      <a:pt x="368" y="559"/>
                    </a:lnTo>
                    <a:lnTo>
                      <a:pt x="368" y="593"/>
                    </a:lnTo>
                    <a:lnTo>
                      <a:pt x="356" y="630"/>
                    </a:lnTo>
                    <a:lnTo>
                      <a:pt x="355" y="630"/>
                    </a:lnTo>
                    <a:lnTo>
                      <a:pt x="328" y="620"/>
                    </a:lnTo>
                    <a:lnTo>
                      <a:pt x="297" y="618"/>
                    </a:lnTo>
                    <a:lnTo>
                      <a:pt x="286" y="628"/>
                    </a:lnTo>
                    <a:lnTo>
                      <a:pt x="282" y="641"/>
                    </a:lnTo>
                    <a:lnTo>
                      <a:pt x="267" y="638"/>
                    </a:lnTo>
                    <a:lnTo>
                      <a:pt x="256" y="629"/>
                    </a:lnTo>
                    <a:lnTo>
                      <a:pt x="216" y="624"/>
                    </a:lnTo>
                    <a:lnTo>
                      <a:pt x="192" y="609"/>
                    </a:lnTo>
                    <a:lnTo>
                      <a:pt x="145" y="665"/>
                    </a:lnTo>
                    <a:lnTo>
                      <a:pt x="125" y="668"/>
                    </a:lnTo>
                    <a:lnTo>
                      <a:pt x="110" y="666"/>
                    </a:lnTo>
                    <a:lnTo>
                      <a:pt x="85" y="568"/>
                    </a:lnTo>
                    <a:lnTo>
                      <a:pt x="74" y="560"/>
                    </a:lnTo>
                    <a:lnTo>
                      <a:pt x="72" y="545"/>
                    </a:lnTo>
                    <a:lnTo>
                      <a:pt x="61" y="531"/>
                    </a:lnTo>
                    <a:lnTo>
                      <a:pt x="71" y="516"/>
                    </a:lnTo>
                    <a:lnTo>
                      <a:pt x="67" y="485"/>
                    </a:lnTo>
                    <a:lnTo>
                      <a:pt x="45" y="464"/>
                    </a:lnTo>
                    <a:lnTo>
                      <a:pt x="39" y="428"/>
                    </a:lnTo>
                    <a:lnTo>
                      <a:pt x="17" y="406"/>
                    </a:lnTo>
                    <a:lnTo>
                      <a:pt x="14" y="393"/>
                    </a:lnTo>
                    <a:lnTo>
                      <a:pt x="42" y="351"/>
                    </a:lnTo>
                    <a:lnTo>
                      <a:pt x="37" y="336"/>
                    </a:lnTo>
                    <a:lnTo>
                      <a:pt x="25" y="329"/>
                    </a:lnTo>
                    <a:lnTo>
                      <a:pt x="22" y="313"/>
                    </a:lnTo>
                    <a:lnTo>
                      <a:pt x="32" y="285"/>
                    </a:lnTo>
                    <a:lnTo>
                      <a:pt x="26" y="271"/>
                    </a:lnTo>
                    <a:lnTo>
                      <a:pt x="29" y="255"/>
                    </a:lnTo>
                    <a:lnTo>
                      <a:pt x="37" y="243"/>
                    </a:lnTo>
                    <a:lnTo>
                      <a:pt x="35" y="180"/>
                    </a:lnTo>
                    <a:lnTo>
                      <a:pt x="37" y="158"/>
                    </a:lnTo>
                    <a:lnTo>
                      <a:pt x="45" y="145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427640" y="3444480"/>
                <a:ext cx="240480" cy="293760"/>
              </a:xfrm>
              <a:custGeom>
                <a:avLst/>
                <a:gdLst/>
                <a:ahLst/>
                <a:rect l="l" t="t" r="r" b="b"/>
                <a:pathLst>
                  <a:path w="643" h="886">
                    <a:moveTo>
                      <a:pt x="302" y="0"/>
                    </a:moveTo>
                    <a:lnTo>
                      <a:pt x="289" y="11"/>
                    </a:lnTo>
                    <a:lnTo>
                      <a:pt x="307" y="38"/>
                    </a:lnTo>
                    <a:lnTo>
                      <a:pt x="279" y="83"/>
                    </a:lnTo>
                    <a:lnTo>
                      <a:pt x="243" y="126"/>
                    </a:lnTo>
                    <a:lnTo>
                      <a:pt x="171" y="165"/>
                    </a:lnTo>
                    <a:lnTo>
                      <a:pt x="134" y="208"/>
                    </a:lnTo>
                    <a:lnTo>
                      <a:pt x="132" y="242"/>
                    </a:lnTo>
                    <a:lnTo>
                      <a:pt x="106" y="267"/>
                    </a:lnTo>
                    <a:lnTo>
                      <a:pt x="92" y="263"/>
                    </a:lnTo>
                    <a:lnTo>
                      <a:pt x="84" y="251"/>
                    </a:lnTo>
                    <a:lnTo>
                      <a:pt x="68" y="252"/>
                    </a:lnTo>
                    <a:lnTo>
                      <a:pt x="38" y="246"/>
                    </a:lnTo>
                    <a:lnTo>
                      <a:pt x="36" y="232"/>
                    </a:lnTo>
                    <a:lnTo>
                      <a:pt x="51" y="222"/>
                    </a:lnTo>
                    <a:lnTo>
                      <a:pt x="47" y="200"/>
                    </a:lnTo>
                    <a:lnTo>
                      <a:pt x="47" y="200"/>
                    </a:lnTo>
                    <a:lnTo>
                      <a:pt x="0" y="245"/>
                    </a:lnTo>
                    <a:lnTo>
                      <a:pt x="0" y="265"/>
                    </a:lnTo>
                    <a:lnTo>
                      <a:pt x="8" y="288"/>
                    </a:lnTo>
                    <a:lnTo>
                      <a:pt x="26" y="311"/>
                    </a:lnTo>
                    <a:lnTo>
                      <a:pt x="11" y="330"/>
                    </a:lnTo>
                    <a:lnTo>
                      <a:pt x="54" y="348"/>
                    </a:lnTo>
                    <a:lnTo>
                      <a:pt x="72" y="362"/>
                    </a:lnTo>
                    <a:lnTo>
                      <a:pt x="89" y="381"/>
                    </a:lnTo>
                    <a:lnTo>
                      <a:pt x="99" y="409"/>
                    </a:lnTo>
                    <a:lnTo>
                      <a:pt x="126" y="423"/>
                    </a:lnTo>
                    <a:lnTo>
                      <a:pt x="142" y="447"/>
                    </a:lnTo>
                    <a:lnTo>
                      <a:pt x="172" y="518"/>
                    </a:lnTo>
                    <a:lnTo>
                      <a:pt x="199" y="547"/>
                    </a:lnTo>
                    <a:lnTo>
                      <a:pt x="208" y="572"/>
                    </a:lnTo>
                    <a:lnTo>
                      <a:pt x="237" y="611"/>
                    </a:lnTo>
                    <a:lnTo>
                      <a:pt x="254" y="626"/>
                    </a:lnTo>
                    <a:lnTo>
                      <a:pt x="283" y="681"/>
                    </a:lnTo>
                    <a:lnTo>
                      <a:pt x="281" y="706"/>
                    </a:lnTo>
                    <a:lnTo>
                      <a:pt x="303" y="729"/>
                    </a:lnTo>
                    <a:lnTo>
                      <a:pt x="338" y="759"/>
                    </a:lnTo>
                    <a:lnTo>
                      <a:pt x="373" y="776"/>
                    </a:lnTo>
                    <a:lnTo>
                      <a:pt x="398" y="779"/>
                    </a:lnTo>
                    <a:lnTo>
                      <a:pt x="423" y="798"/>
                    </a:lnTo>
                    <a:lnTo>
                      <a:pt x="473" y="813"/>
                    </a:lnTo>
                    <a:lnTo>
                      <a:pt x="524" y="839"/>
                    </a:lnTo>
                    <a:lnTo>
                      <a:pt x="542" y="858"/>
                    </a:lnTo>
                    <a:lnTo>
                      <a:pt x="570" y="886"/>
                    </a:lnTo>
                    <a:lnTo>
                      <a:pt x="570" y="883"/>
                    </a:lnTo>
                    <a:lnTo>
                      <a:pt x="579" y="876"/>
                    </a:lnTo>
                    <a:lnTo>
                      <a:pt x="594" y="874"/>
                    </a:lnTo>
                    <a:lnTo>
                      <a:pt x="615" y="849"/>
                    </a:lnTo>
                    <a:lnTo>
                      <a:pt x="612" y="836"/>
                    </a:lnTo>
                    <a:lnTo>
                      <a:pt x="640" y="794"/>
                    </a:lnTo>
                    <a:lnTo>
                      <a:pt x="635" y="779"/>
                    </a:lnTo>
                    <a:lnTo>
                      <a:pt x="623" y="772"/>
                    </a:lnTo>
                    <a:lnTo>
                      <a:pt x="620" y="756"/>
                    </a:lnTo>
                    <a:lnTo>
                      <a:pt x="630" y="728"/>
                    </a:lnTo>
                    <a:lnTo>
                      <a:pt x="624" y="714"/>
                    </a:lnTo>
                    <a:lnTo>
                      <a:pt x="627" y="698"/>
                    </a:lnTo>
                    <a:lnTo>
                      <a:pt x="635" y="686"/>
                    </a:lnTo>
                    <a:lnTo>
                      <a:pt x="633" y="623"/>
                    </a:lnTo>
                    <a:lnTo>
                      <a:pt x="635" y="601"/>
                    </a:lnTo>
                    <a:lnTo>
                      <a:pt x="643" y="588"/>
                    </a:lnTo>
                    <a:lnTo>
                      <a:pt x="598" y="517"/>
                    </a:lnTo>
                    <a:lnTo>
                      <a:pt x="574" y="524"/>
                    </a:lnTo>
                    <a:lnTo>
                      <a:pt x="555" y="519"/>
                    </a:lnTo>
                    <a:lnTo>
                      <a:pt x="554" y="457"/>
                    </a:lnTo>
                    <a:lnTo>
                      <a:pt x="545" y="443"/>
                    </a:lnTo>
                    <a:lnTo>
                      <a:pt x="507" y="474"/>
                    </a:lnTo>
                    <a:lnTo>
                      <a:pt x="485" y="477"/>
                    </a:lnTo>
                    <a:lnTo>
                      <a:pt x="468" y="468"/>
                    </a:lnTo>
                    <a:lnTo>
                      <a:pt x="460" y="456"/>
                    </a:lnTo>
                    <a:lnTo>
                      <a:pt x="429" y="449"/>
                    </a:lnTo>
                    <a:lnTo>
                      <a:pt x="432" y="432"/>
                    </a:lnTo>
                    <a:lnTo>
                      <a:pt x="404" y="406"/>
                    </a:lnTo>
                    <a:lnTo>
                      <a:pt x="388" y="372"/>
                    </a:lnTo>
                    <a:lnTo>
                      <a:pt x="388" y="355"/>
                    </a:lnTo>
                    <a:lnTo>
                      <a:pt x="403" y="317"/>
                    </a:lnTo>
                    <a:lnTo>
                      <a:pt x="419" y="312"/>
                    </a:lnTo>
                    <a:lnTo>
                      <a:pt x="423" y="276"/>
                    </a:lnTo>
                    <a:lnTo>
                      <a:pt x="458" y="228"/>
                    </a:lnTo>
                    <a:lnTo>
                      <a:pt x="490" y="208"/>
                    </a:lnTo>
                    <a:lnTo>
                      <a:pt x="574" y="181"/>
                    </a:lnTo>
                    <a:lnTo>
                      <a:pt x="548" y="168"/>
                    </a:lnTo>
                    <a:lnTo>
                      <a:pt x="544" y="152"/>
                    </a:lnTo>
                    <a:lnTo>
                      <a:pt x="568" y="121"/>
                    </a:lnTo>
                    <a:lnTo>
                      <a:pt x="560" y="106"/>
                    </a:lnTo>
                    <a:lnTo>
                      <a:pt x="528" y="92"/>
                    </a:lnTo>
                    <a:lnTo>
                      <a:pt x="497" y="98"/>
                    </a:lnTo>
                    <a:lnTo>
                      <a:pt x="477" y="93"/>
                    </a:lnTo>
                    <a:lnTo>
                      <a:pt x="464" y="105"/>
                    </a:lnTo>
                    <a:lnTo>
                      <a:pt x="448" y="107"/>
                    </a:lnTo>
                    <a:lnTo>
                      <a:pt x="417" y="107"/>
                    </a:lnTo>
                    <a:lnTo>
                      <a:pt x="401" y="77"/>
                    </a:lnTo>
                    <a:lnTo>
                      <a:pt x="388" y="68"/>
                    </a:lnTo>
                    <a:lnTo>
                      <a:pt x="386" y="53"/>
                    </a:lnTo>
                    <a:lnTo>
                      <a:pt x="357" y="38"/>
                    </a:lnTo>
                    <a:lnTo>
                      <a:pt x="328" y="6"/>
                    </a:lnTo>
                    <a:lnTo>
                      <a:pt x="3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34840" y="342756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290" h="314">
                    <a:moveTo>
                      <a:pt x="30" y="247"/>
                    </a:moveTo>
                    <a:lnTo>
                      <a:pt x="34" y="269"/>
                    </a:lnTo>
                    <a:lnTo>
                      <a:pt x="19" y="279"/>
                    </a:lnTo>
                    <a:lnTo>
                      <a:pt x="21" y="293"/>
                    </a:lnTo>
                    <a:lnTo>
                      <a:pt x="51" y="299"/>
                    </a:lnTo>
                    <a:lnTo>
                      <a:pt x="67" y="298"/>
                    </a:lnTo>
                    <a:lnTo>
                      <a:pt x="75" y="310"/>
                    </a:lnTo>
                    <a:lnTo>
                      <a:pt x="89" y="314"/>
                    </a:lnTo>
                    <a:lnTo>
                      <a:pt x="115" y="289"/>
                    </a:lnTo>
                    <a:lnTo>
                      <a:pt x="117" y="255"/>
                    </a:lnTo>
                    <a:lnTo>
                      <a:pt x="154" y="212"/>
                    </a:lnTo>
                    <a:lnTo>
                      <a:pt x="226" y="173"/>
                    </a:lnTo>
                    <a:lnTo>
                      <a:pt x="262" y="130"/>
                    </a:lnTo>
                    <a:lnTo>
                      <a:pt x="290" y="85"/>
                    </a:lnTo>
                    <a:lnTo>
                      <a:pt x="272" y="58"/>
                    </a:lnTo>
                    <a:lnTo>
                      <a:pt x="285" y="47"/>
                    </a:lnTo>
                    <a:lnTo>
                      <a:pt x="255" y="33"/>
                    </a:lnTo>
                    <a:lnTo>
                      <a:pt x="189" y="44"/>
                    </a:lnTo>
                    <a:lnTo>
                      <a:pt x="170" y="2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45" y="38"/>
                    </a:lnTo>
                    <a:lnTo>
                      <a:pt x="40" y="72"/>
                    </a:lnTo>
                    <a:lnTo>
                      <a:pt x="20" y="90"/>
                    </a:lnTo>
                    <a:lnTo>
                      <a:pt x="20" y="115"/>
                    </a:lnTo>
                    <a:lnTo>
                      <a:pt x="0" y="127"/>
                    </a:lnTo>
                    <a:lnTo>
                      <a:pt x="8" y="159"/>
                    </a:lnTo>
                    <a:lnTo>
                      <a:pt x="9" y="184"/>
                    </a:lnTo>
                    <a:lnTo>
                      <a:pt x="0" y="193"/>
                    </a:lnTo>
                    <a:lnTo>
                      <a:pt x="16" y="199"/>
                    </a:lnTo>
                    <a:lnTo>
                      <a:pt x="39" y="222"/>
                    </a:lnTo>
                    <a:lnTo>
                      <a:pt x="42" y="194"/>
                    </a:lnTo>
                    <a:lnTo>
                      <a:pt x="64" y="193"/>
                    </a:lnTo>
                    <a:lnTo>
                      <a:pt x="49" y="237"/>
                    </a:lnTo>
                    <a:lnTo>
                      <a:pt x="30" y="247"/>
                    </a:lnTo>
                    <a:lnTo>
                      <a:pt x="30" y="2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34640" y="413424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0" y="0"/>
                    </a:moveTo>
                    <a:lnTo>
                      <a:pt x="2" y="76"/>
                    </a:lnTo>
                    <a:lnTo>
                      <a:pt x="23" y="78"/>
                    </a:lnTo>
                    <a:lnTo>
                      <a:pt x="28" y="56"/>
                    </a:lnTo>
                    <a:lnTo>
                      <a:pt x="21" y="41"/>
                    </a:lnTo>
                    <a:lnTo>
                      <a:pt x="30" y="23"/>
                    </a:lnTo>
                    <a:lnTo>
                      <a:pt x="23" y="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26720" y="3727080"/>
                <a:ext cx="104400" cy="601560"/>
              </a:xfrm>
              <a:custGeom>
                <a:avLst/>
                <a:gdLst/>
                <a:ahLst/>
                <a:rect l="l" t="t" r="r" b="b"/>
                <a:pathLst>
                  <a:path w="285" h="1819">
                    <a:moveTo>
                      <a:pt x="70" y="1418"/>
                    </a:moveTo>
                    <a:lnTo>
                      <a:pt x="74" y="1446"/>
                    </a:lnTo>
                    <a:lnTo>
                      <a:pt x="71" y="1456"/>
                    </a:lnTo>
                    <a:lnTo>
                      <a:pt x="66" y="1449"/>
                    </a:lnTo>
                    <a:lnTo>
                      <a:pt x="60" y="1460"/>
                    </a:lnTo>
                    <a:lnTo>
                      <a:pt x="55" y="1460"/>
                    </a:lnTo>
                    <a:lnTo>
                      <a:pt x="57" y="1446"/>
                    </a:lnTo>
                    <a:lnTo>
                      <a:pt x="52" y="1436"/>
                    </a:lnTo>
                    <a:lnTo>
                      <a:pt x="36" y="1430"/>
                    </a:lnTo>
                    <a:lnTo>
                      <a:pt x="21" y="1435"/>
                    </a:lnTo>
                    <a:lnTo>
                      <a:pt x="31" y="1448"/>
                    </a:lnTo>
                    <a:lnTo>
                      <a:pt x="10" y="1470"/>
                    </a:lnTo>
                    <a:lnTo>
                      <a:pt x="12" y="1488"/>
                    </a:lnTo>
                    <a:lnTo>
                      <a:pt x="27" y="1473"/>
                    </a:lnTo>
                    <a:lnTo>
                      <a:pt x="46" y="1480"/>
                    </a:lnTo>
                    <a:lnTo>
                      <a:pt x="64" y="1476"/>
                    </a:lnTo>
                    <a:lnTo>
                      <a:pt x="55" y="1508"/>
                    </a:lnTo>
                    <a:lnTo>
                      <a:pt x="60" y="1555"/>
                    </a:lnTo>
                    <a:lnTo>
                      <a:pt x="41" y="1526"/>
                    </a:lnTo>
                    <a:lnTo>
                      <a:pt x="27" y="1533"/>
                    </a:lnTo>
                    <a:lnTo>
                      <a:pt x="29" y="1549"/>
                    </a:lnTo>
                    <a:lnTo>
                      <a:pt x="46" y="1593"/>
                    </a:lnTo>
                    <a:lnTo>
                      <a:pt x="41" y="1613"/>
                    </a:lnTo>
                    <a:lnTo>
                      <a:pt x="42" y="1633"/>
                    </a:lnTo>
                    <a:lnTo>
                      <a:pt x="60" y="1635"/>
                    </a:lnTo>
                    <a:lnTo>
                      <a:pt x="52" y="1648"/>
                    </a:lnTo>
                    <a:lnTo>
                      <a:pt x="59" y="1660"/>
                    </a:lnTo>
                    <a:lnTo>
                      <a:pt x="77" y="1646"/>
                    </a:lnTo>
                    <a:lnTo>
                      <a:pt x="76" y="1659"/>
                    </a:lnTo>
                    <a:lnTo>
                      <a:pt x="84" y="1675"/>
                    </a:lnTo>
                    <a:lnTo>
                      <a:pt x="72" y="1671"/>
                    </a:lnTo>
                    <a:lnTo>
                      <a:pt x="76" y="1710"/>
                    </a:lnTo>
                    <a:lnTo>
                      <a:pt x="90" y="1704"/>
                    </a:lnTo>
                    <a:lnTo>
                      <a:pt x="91" y="1688"/>
                    </a:lnTo>
                    <a:lnTo>
                      <a:pt x="102" y="1710"/>
                    </a:lnTo>
                    <a:lnTo>
                      <a:pt x="101" y="1728"/>
                    </a:lnTo>
                    <a:lnTo>
                      <a:pt x="79" y="1726"/>
                    </a:lnTo>
                    <a:lnTo>
                      <a:pt x="84" y="1751"/>
                    </a:lnTo>
                    <a:lnTo>
                      <a:pt x="101" y="1740"/>
                    </a:lnTo>
                    <a:lnTo>
                      <a:pt x="126" y="1735"/>
                    </a:lnTo>
                    <a:lnTo>
                      <a:pt x="119" y="1765"/>
                    </a:lnTo>
                    <a:lnTo>
                      <a:pt x="134" y="1766"/>
                    </a:lnTo>
                    <a:lnTo>
                      <a:pt x="136" y="1780"/>
                    </a:lnTo>
                    <a:lnTo>
                      <a:pt x="170" y="1803"/>
                    </a:lnTo>
                    <a:lnTo>
                      <a:pt x="196" y="1765"/>
                    </a:lnTo>
                    <a:lnTo>
                      <a:pt x="209" y="1768"/>
                    </a:lnTo>
                    <a:lnTo>
                      <a:pt x="204" y="1786"/>
                    </a:lnTo>
                    <a:lnTo>
                      <a:pt x="179" y="1800"/>
                    </a:lnTo>
                    <a:lnTo>
                      <a:pt x="187" y="1813"/>
                    </a:lnTo>
                    <a:lnTo>
                      <a:pt x="211" y="1819"/>
                    </a:lnTo>
                    <a:lnTo>
                      <a:pt x="221" y="1815"/>
                    </a:lnTo>
                    <a:lnTo>
                      <a:pt x="217" y="1764"/>
                    </a:lnTo>
                    <a:lnTo>
                      <a:pt x="240" y="1749"/>
                    </a:lnTo>
                    <a:lnTo>
                      <a:pt x="252" y="1748"/>
                    </a:lnTo>
                    <a:lnTo>
                      <a:pt x="252" y="1735"/>
                    </a:lnTo>
                    <a:lnTo>
                      <a:pt x="285" y="1736"/>
                    </a:lnTo>
                    <a:lnTo>
                      <a:pt x="285" y="1736"/>
                    </a:lnTo>
                    <a:lnTo>
                      <a:pt x="242" y="1728"/>
                    </a:lnTo>
                    <a:lnTo>
                      <a:pt x="186" y="1733"/>
                    </a:lnTo>
                    <a:lnTo>
                      <a:pt x="167" y="1728"/>
                    </a:lnTo>
                    <a:lnTo>
                      <a:pt x="150" y="1664"/>
                    </a:lnTo>
                    <a:lnTo>
                      <a:pt x="121" y="1671"/>
                    </a:lnTo>
                    <a:lnTo>
                      <a:pt x="114" y="1621"/>
                    </a:lnTo>
                    <a:lnTo>
                      <a:pt x="131" y="1565"/>
                    </a:lnTo>
                    <a:lnTo>
                      <a:pt x="132" y="1546"/>
                    </a:lnTo>
                    <a:lnTo>
                      <a:pt x="125" y="1516"/>
                    </a:lnTo>
                    <a:lnTo>
                      <a:pt x="142" y="1463"/>
                    </a:lnTo>
                    <a:lnTo>
                      <a:pt x="136" y="1384"/>
                    </a:lnTo>
                    <a:lnTo>
                      <a:pt x="125" y="1368"/>
                    </a:lnTo>
                    <a:lnTo>
                      <a:pt x="139" y="1368"/>
                    </a:lnTo>
                    <a:lnTo>
                      <a:pt x="132" y="1351"/>
                    </a:lnTo>
                    <a:lnTo>
                      <a:pt x="119" y="1349"/>
                    </a:lnTo>
                    <a:lnTo>
                      <a:pt x="115" y="1320"/>
                    </a:lnTo>
                    <a:lnTo>
                      <a:pt x="96" y="1258"/>
                    </a:lnTo>
                    <a:lnTo>
                      <a:pt x="106" y="1226"/>
                    </a:lnTo>
                    <a:lnTo>
                      <a:pt x="94" y="1200"/>
                    </a:lnTo>
                    <a:lnTo>
                      <a:pt x="94" y="1125"/>
                    </a:lnTo>
                    <a:lnTo>
                      <a:pt x="97" y="1089"/>
                    </a:lnTo>
                    <a:lnTo>
                      <a:pt x="109" y="1056"/>
                    </a:lnTo>
                    <a:lnTo>
                      <a:pt x="100" y="1024"/>
                    </a:lnTo>
                    <a:lnTo>
                      <a:pt x="96" y="968"/>
                    </a:lnTo>
                    <a:lnTo>
                      <a:pt x="97" y="954"/>
                    </a:lnTo>
                    <a:lnTo>
                      <a:pt x="119" y="929"/>
                    </a:lnTo>
                    <a:lnTo>
                      <a:pt x="110" y="889"/>
                    </a:lnTo>
                    <a:lnTo>
                      <a:pt x="119" y="875"/>
                    </a:lnTo>
                    <a:lnTo>
                      <a:pt x="131" y="820"/>
                    </a:lnTo>
                    <a:lnTo>
                      <a:pt x="101" y="735"/>
                    </a:lnTo>
                    <a:lnTo>
                      <a:pt x="100" y="718"/>
                    </a:lnTo>
                    <a:lnTo>
                      <a:pt x="91" y="704"/>
                    </a:lnTo>
                    <a:lnTo>
                      <a:pt x="91" y="688"/>
                    </a:lnTo>
                    <a:lnTo>
                      <a:pt x="110" y="629"/>
                    </a:lnTo>
                    <a:lnTo>
                      <a:pt x="109" y="597"/>
                    </a:lnTo>
                    <a:lnTo>
                      <a:pt x="119" y="539"/>
                    </a:lnTo>
                    <a:lnTo>
                      <a:pt x="137" y="509"/>
                    </a:lnTo>
                    <a:lnTo>
                      <a:pt x="146" y="479"/>
                    </a:lnTo>
                    <a:lnTo>
                      <a:pt x="169" y="453"/>
                    </a:lnTo>
                    <a:lnTo>
                      <a:pt x="154" y="382"/>
                    </a:lnTo>
                    <a:lnTo>
                      <a:pt x="157" y="368"/>
                    </a:lnTo>
                    <a:lnTo>
                      <a:pt x="155" y="350"/>
                    </a:lnTo>
                    <a:lnTo>
                      <a:pt x="167" y="339"/>
                    </a:lnTo>
                    <a:lnTo>
                      <a:pt x="205" y="319"/>
                    </a:lnTo>
                    <a:lnTo>
                      <a:pt x="211" y="307"/>
                    </a:lnTo>
                    <a:lnTo>
                      <a:pt x="216" y="273"/>
                    </a:lnTo>
                    <a:lnTo>
                      <a:pt x="210" y="259"/>
                    </a:lnTo>
                    <a:lnTo>
                      <a:pt x="190" y="262"/>
                    </a:lnTo>
                    <a:lnTo>
                      <a:pt x="175" y="260"/>
                    </a:lnTo>
                    <a:lnTo>
                      <a:pt x="150" y="162"/>
                    </a:lnTo>
                    <a:lnTo>
                      <a:pt x="139" y="154"/>
                    </a:lnTo>
                    <a:lnTo>
                      <a:pt x="137" y="139"/>
                    </a:lnTo>
                    <a:lnTo>
                      <a:pt x="126" y="125"/>
                    </a:lnTo>
                    <a:lnTo>
                      <a:pt x="136" y="110"/>
                    </a:lnTo>
                    <a:lnTo>
                      <a:pt x="132" y="79"/>
                    </a:lnTo>
                    <a:lnTo>
                      <a:pt x="110" y="58"/>
                    </a:lnTo>
                    <a:lnTo>
                      <a:pt x="104" y="22"/>
                    </a:lnTo>
                    <a:lnTo>
                      <a:pt x="82" y="0"/>
                    </a:lnTo>
                    <a:lnTo>
                      <a:pt x="61" y="25"/>
                    </a:lnTo>
                    <a:lnTo>
                      <a:pt x="46" y="27"/>
                    </a:lnTo>
                    <a:lnTo>
                      <a:pt x="37" y="34"/>
                    </a:lnTo>
                    <a:lnTo>
                      <a:pt x="37" y="37"/>
                    </a:lnTo>
                    <a:lnTo>
                      <a:pt x="51" y="63"/>
                    </a:lnTo>
                    <a:lnTo>
                      <a:pt x="66" y="123"/>
                    </a:lnTo>
                    <a:lnTo>
                      <a:pt x="65" y="149"/>
                    </a:lnTo>
                    <a:lnTo>
                      <a:pt x="71" y="198"/>
                    </a:lnTo>
                    <a:lnTo>
                      <a:pt x="66" y="249"/>
                    </a:lnTo>
                    <a:lnTo>
                      <a:pt x="57" y="274"/>
                    </a:lnTo>
                    <a:lnTo>
                      <a:pt x="59" y="350"/>
                    </a:lnTo>
                    <a:lnTo>
                      <a:pt x="66" y="395"/>
                    </a:lnTo>
                    <a:lnTo>
                      <a:pt x="57" y="413"/>
                    </a:lnTo>
                    <a:lnTo>
                      <a:pt x="66" y="443"/>
                    </a:lnTo>
                    <a:lnTo>
                      <a:pt x="54" y="477"/>
                    </a:lnTo>
                    <a:lnTo>
                      <a:pt x="57" y="502"/>
                    </a:lnTo>
                    <a:lnTo>
                      <a:pt x="37" y="578"/>
                    </a:lnTo>
                    <a:lnTo>
                      <a:pt x="46" y="595"/>
                    </a:lnTo>
                    <a:lnTo>
                      <a:pt x="54" y="628"/>
                    </a:lnTo>
                    <a:lnTo>
                      <a:pt x="41" y="642"/>
                    </a:lnTo>
                    <a:lnTo>
                      <a:pt x="40" y="667"/>
                    </a:lnTo>
                    <a:lnTo>
                      <a:pt x="54" y="737"/>
                    </a:lnTo>
                    <a:lnTo>
                      <a:pt x="64" y="754"/>
                    </a:lnTo>
                    <a:lnTo>
                      <a:pt x="52" y="788"/>
                    </a:lnTo>
                    <a:lnTo>
                      <a:pt x="59" y="813"/>
                    </a:lnTo>
                    <a:lnTo>
                      <a:pt x="51" y="830"/>
                    </a:lnTo>
                    <a:lnTo>
                      <a:pt x="51" y="854"/>
                    </a:lnTo>
                    <a:lnTo>
                      <a:pt x="31" y="906"/>
                    </a:lnTo>
                    <a:lnTo>
                      <a:pt x="25" y="958"/>
                    </a:lnTo>
                    <a:lnTo>
                      <a:pt x="16" y="966"/>
                    </a:lnTo>
                    <a:lnTo>
                      <a:pt x="19" y="991"/>
                    </a:lnTo>
                    <a:lnTo>
                      <a:pt x="4" y="993"/>
                    </a:lnTo>
                    <a:lnTo>
                      <a:pt x="0" y="1023"/>
                    </a:lnTo>
                    <a:lnTo>
                      <a:pt x="15" y="1043"/>
                    </a:lnTo>
                    <a:lnTo>
                      <a:pt x="30" y="1108"/>
                    </a:lnTo>
                    <a:lnTo>
                      <a:pt x="17" y="1135"/>
                    </a:lnTo>
                    <a:lnTo>
                      <a:pt x="22" y="1164"/>
                    </a:lnTo>
                    <a:lnTo>
                      <a:pt x="19" y="1186"/>
                    </a:lnTo>
                    <a:lnTo>
                      <a:pt x="25" y="1206"/>
                    </a:lnTo>
                    <a:lnTo>
                      <a:pt x="35" y="1221"/>
                    </a:lnTo>
                    <a:lnTo>
                      <a:pt x="51" y="1225"/>
                    </a:lnTo>
                    <a:lnTo>
                      <a:pt x="55" y="1208"/>
                    </a:lnTo>
                    <a:lnTo>
                      <a:pt x="74" y="1214"/>
                    </a:lnTo>
                    <a:lnTo>
                      <a:pt x="67" y="1233"/>
                    </a:lnTo>
                    <a:lnTo>
                      <a:pt x="79" y="1239"/>
                    </a:lnTo>
                    <a:lnTo>
                      <a:pt x="71" y="1248"/>
                    </a:lnTo>
                    <a:lnTo>
                      <a:pt x="76" y="1283"/>
                    </a:lnTo>
                    <a:lnTo>
                      <a:pt x="70" y="1304"/>
                    </a:lnTo>
                    <a:lnTo>
                      <a:pt x="79" y="1320"/>
                    </a:lnTo>
                    <a:lnTo>
                      <a:pt x="70" y="1341"/>
                    </a:lnTo>
                    <a:lnTo>
                      <a:pt x="77" y="1354"/>
                    </a:lnTo>
                    <a:lnTo>
                      <a:pt x="65" y="1368"/>
                    </a:lnTo>
                    <a:lnTo>
                      <a:pt x="71" y="1384"/>
                    </a:lnTo>
                    <a:lnTo>
                      <a:pt x="72" y="1399"/>
                    </a:lnTo>
                    <a:lnTo>
                      <a:pt x="70" y="14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661280" y="3792960"/>
                <a:ext cx="275400" cy="507960"/>
              </a:xfrm>
              <a:custGeom>
                <a:avLst/>
                <a:gdLst/>
                <a:ahLst/>
                <a:rect l="l" t="t" r="r" b="b"/>
                <a:pathLst>
                  <a:path w="742" h="1533">
                    <a:moveTo>
                      <a:pt x="194" y="1533"/>
                    </a:moveTo>
                    <a:lnTo>
                      <a:pt x="151" y="1525"/>
                    </a:lnTo>
                    <a:lnTo>
                      <a:pt x="95" y="1530"/>
                    </a:lnTo>
                    <a:lnTo>
                      <a:pt x="76" y="1525"/>
                    </a:lnTo>
                    <a:lnTo>
                      <a:pt x="59" y="1461"/>
                    </a:lnTo>
                    <a:lnTo>
                      <a:pt x="30" y="1468"/>
                    </a:lnTo>
                    <a:lnTo>
                      <a:pt x="23" y="1418"/>
                    </a:lnTo>
                    <a:lnTo>
                      <a:pt x="40" y="1362"/>
                    </a:lnTo>
                    <a:lnTo>
                      <a:pt x="41" y="1343"/>
                    </a:lnTo>
                    <a:lnTo>
                      <a:pt x="34" y="1313"/>
                    </a:lnTo>
                    <a:lnTo>
                      <a:pt x="51" y="1260"/>
                    </a:lnTo>
                    <a:lnTo>
                      <a:pt x="45" y="1181"/>
                    </a:lnTo>
                    <a:lnTo>
                      <a:pt x="34" y="1165"/>
                    </a:lnTo>
                    <a:lnTo>
                      <a:pt x="48" y="1165"/>
                    </a:lnTo>
                    <a:lnTo>
                      <a:pt x="41" y="1148"/>
                    </a:lnTo>
                    <a:lnTo>
                      <a:pt x="28" y="1146"/>
                    </a:lnTo>
                    <a:lnTo>
                      <a:pt x="24" y="1117"/>
                    </a:lnTo>
                    <a:lnTo>
                      <a:pt x="5" y="1055"/>
                    </a:lnTo>
                    <a:lnTo>
                      <a:pt x="15" y="1023"/>
                    </a:lnTo>
                    <a:lnTo>
                      <a:pt x="3" y="997"/>
                    </a:lnTo>
                    <a:lnTo>
                      <a:pt x="3" y="922"/>
                    </a:lnTo>
                    <a:lnTo>
                      <a:pt x="6" y="886"/>
                    </a:lnTo>
                    <a:lnTo>
                      <a:pt x="18" y="853"/>
                    </a:lnTo>
                    <a:lnTo>
                      <a:pt x="9" y="821"/>
                    </a:lnTo>
                    <a:lnTo>
                      <a:pt x="5" y="765"/>
                    </a:lnTo>
                    <a:lnTo>
                      <a:pt x="6" y="751"/>
                    </a:lnTo>
                    <a:lnTo>
                      <a:pt x="28" y="726"/>
                    </a:lnTo>
                    <a:lnTo>
                      <a:pt x="19" y="686"/>
                    </a:lnTo>
                    <a:lnTo>
                      <a:pt x="28" y="672"/>
                    </a:lnTo>
                    <a:lnTo>
                      <a:pt x="40" y="617"/>
                    </a:lnTo>
                    <a:lnTo>
                      <a:pt x="10" y="532"/>
                    </a:lnTo>
                    <a:lnTo>
                      <a:pt x="9" y="515"/>
                    </a:lnTo>
                    <a:lnTo>
                      <a:pt x="0" y="501"/>
                    </a:lnTo>
                    <a:lnTo>
                      <a:pt x="0" y="485"/>
                    </a:lnTo>
                    <a:lnTo>
                      <a:pt x="19" y="426"/>
                    </a:lnTo>
                    <a:lnTo>
                      <a:pt x="18" y="394"/>
                    </a:lnTo>
                    <a:lnTo>
                      <a:pt x="28" y="336"/>
                    </a:lnTo>
                    <a:lnTo>
                      <a:pt x="46" y="306"/>
                    </a:lnTo>
                    <a:lnTo>
                      <a:pt x="55" y="276"/>
                    </a:lnTo>
                    <a:lnTo>
                      <a:pt x="78" y="250"/>
                    </a:lnTo>
                    <a:lnTo>
                      <a:pt x="63" y="179"/>
                    </a:lnTo>
                    <a:lnTo>
                      <a:pt x="66" y="165"/>
                    </a:lnTo>
                    <a:lnTo>
                      <a:pt x="64" y="147"/>
                    </a:lnTo>
                    <a:lnTo>
                      <a:pt x="76" y="136"/>
                    </a:lnTo>
                    <a:lnTo>
                      <a:pt x="114" y="116"/>
                    </a:lnTo>
                    <a:lnTo>
                      <a:pt x="120" y="104"/>
                    </a:lnTo>
                    <a:lnTo>
                      <a:pt x="125" y="70"/>
                    </a:lnTo>
                    <a:lnTo>
                      <a:pt x="119" y="56"/>
                    </a:lnTo>
                    <a:lnTo>
                      <a:pt x="166" y="0"/>
                    </a:lnTo>
                    <a:lnTo>
                      <a:pt x="190" y="15"/>
                    </a:lnTo>
                    <a:lnTo>
                      <a:pt x="230" y="20"/>
                    </a:lnTo>
                    <a:lnTo>
                      <a:pt x="241" y="29"/>
                    </a:lnTo>
                    <a:lnTo>
                      <a:pt x="256" y="32"/>
                    </a:lnTo>
                    <a:lnTo>
                      <a:pt x="260" y="19"/>
                    </a:lnTo>
                    <a:lnTo>
                      <a:pt x="271" y="9"/>
                    </a:lnTo>
                    <a:lnTo>
                      <a:pt x="302" y="11"/>
                    </a:lnTo>
                    <a:lnTo>
                      <a:pt x="329" y="21"/>
                    </a:lnTo>
                    <a:lnTo>
                      <a:pt x="347" y="31"/>
                    </a:lnTo>
                    <a:lnTo>
                      <a:pt x="356" y="47"/>
                    </a:lnTo>
                    <a:lnTo>
                      <a:pt x="407" y="89"/>
                    </a:lnTo>
                    <a:lnTo>
                      <a:pt x="416" y="104"/>
                    </a:lnTo>
                    <a:lnTo>
                      <a:pt x="476" y="117"/>
                    </a:lnTo>
                    <a:lnTo>
                      <a:pt x="549" y="164"/>
                    </a:lnTo>
                    <a:lnTo>
                      <a:pt x="558" y="175"/>
                    </a:lnTo>
                    <a:lnTo>
                      <a:pt x="558" y="194"/>
                    </a:lnTo>
                    <a:lnTo>
                      <a:pt x="540" y="221"/>
                    </a:lnTo>
                    <a:lnTo>
                      <a:pt x="527" y="261"/>
                    </a:lnTo>
                    <a:lnTo>
                      <a:pt x="577" y="270"/>
                    </a:lnTo>
                    <a:lnTo>
                      <a:pt x="591" y="280"/>
                    </a:lnTo>
                    <a:lnTo>
                      <a:pt x="612" y="282"/>
                    </a:lnTo>
                    <a:lnTo>
                      <a:pt x="645" y="276"/>
                    </a:lnTo>
                    <a:lnTo>
                      <a:pt x="692" y="241"/>
                    </a:lnTo>
                    <a:lnTo>
                      <a:pt x="702" y="222"/>
                    </a:lnTo>
                    <a:lnTo>
                      <a:pt x="708" y="190"/>
                    </a:lnTo>
                    <a:lnTo>
                      <a:pt x="722" y="187"/>
                    </a:lnTo>
                    <a:lnTo>
                      <a:pt x="735" y="192"/>
                    </a:lnTo>
                    <a:lnTo>
                      <a:pt x="742" y="222"/>
                    </a:lnTo>
                    <a:lnTo>
                      <a:pt x="741" y="262"/>
                    </a:lnTo>
                    <a:lnTo>
                      <a:pt x="710" y="282"/>
                    </a:lnTo>
                    <a:lnTo>
                      <a:pt x="693" y="286"/>
                    </a:lnTo>
                    <a:lnTo>
                      <a:pt x="642" y="332"/>
                    </a:lnTo>
                    <a:lnTo>
                      <a:pt x="612" y="371"/>
                    </a:lnTo>
                    <a:lnTo>
                      <a:pt x="560" y="420"/>
                    </a:lnTo>
                    <a:lnTo>
                      <a:pt x="550" y="431"/>
                    </a:lnTo>
                    <a:lnTo>
                      <a:pt x="536" y="554"/>
                    </a:lnTo>
                    <a:lnTo>
                      <a:pt x="530" y="587"/>
                    </a:lnTo>
                    <a:lnTo>
                      <a:pt x="527" y="609"/>
                    </a:lnTo>
                    <a:lnTo>
                      <a:pt x="527" y="609"/>
                    </a:lnTo>
                    <a:lnTo>
                      <a:pt x="519" y="624"/>
                    </a:lnTo>
                    <a:lnTo>
                      <a:pt x="527" y="641"/>
                    </a:lnTo>
                    <a:lnTo>
                      <a:pt x="560" y="657"/>
                    </a:lnTo>
                    <a:lnTo>
                      <a:pt x="573" y="675"/>
                    </a:lnTo>
                    <a:lnTo>
                      <a:pt x="563" y="700"/>
                    </a:lnTo>
                    <a:lnTo>
                      <a:pt x="572" y="721"/>
                    </a:lnTo>
                    <a:lnTo>
                      <a:pt x="590" y="725"/>
                    </a:lnTo>
                    <a:lnTo>
                      <a:pt x="592" y="751"/>
                    </a:lnTo>
                    <a:lnTo>
                      <a:pt x="560" y="796"/>
                    </a:lnTo>
                    <a:lnTo>
                      <a:pt x="554" y="816"/>
                    </a:lnTo>
                    <a:lnTo>
                      <a:pt x="510" y="837"/>
                    </a:lnTo>
                    <a:lnTo>
                      <a:pt x="437" y="853"/>
                    </a:lnTo>
                    <a:lnTo>
                      <a:pt x="379" y="858"/>
                    </a:lnTo>
                    <a:lnTo>
                      <a:pt x="367" y="846"/>
                    </a:lnTo>
                    <a:lnTo>
                      <a:pt x="365" y="866"/>
                    </a:lnTo>
                    <a:lnTo>
                      <a:pt x="379" y="883"/>
                    </a:lnTo>
                    <a:lnTo>
                      <a:pt x="362" y="926"/>
                    </a:lnTo>
                    <a:lnTo>
                      <a:pt x="371" y="938"/>
                    </a:lnTo>
                    <a:lnTo>
                      <a:pt x="367" y="955"/>
                    </a:lnTo>
                    <a:lnTo>
                      <a:pt x="342" y="967"/>
                    </a:lnTo>
                    <a:lnTo>
                      <a:pt x="311" y="967"/>
                    </a:lnTo>
                    <a:lnTo>
                      <a:pt x="271" y="948"/>
                    </a:lnTo>
                    <a:lnTo>
                      <a:pt x="259" y="961"/>
                    </a:lnTo>
                    <a:lnTo>
                      <a:pt x="266" y="986"/>
                    </a:lnTo>
                    <a:lnTo>
                      <a:pt x="269" y="1016"/>
                    </a:lnTo>
                    <a:lnTo>
                      <a:pt x="287" y="1028"/>
                    </a:lnTo>
                    <a:lnTo>
                      <a:pt x="316" y="1015"/>
                    </a:lnTo>
                    <a:lnTo>
                      <a:pt x="324" y="1038"/>
                    </a:lnTo>
                    <a:lnTo>
                      <a:pt x="320" y="1051"/>
                    </a:lnTo>
                    <a:lnTo>
                      <a:pt x="301" y="1051"/>
                    </a:lnTo>
                    <a:lnTo>
                      <a:pt x="289" y="1036"/>
                    </a:lnTo>
                    <a:lnTo>
                      <a:pt x="270" y="1053"/>
                    </a:lnTo>
                    <a:lnTo>
                      <a:pt x="295" y="1061"/>
                    </a:lnTo>
                    <a:lnTo>
                      <a:pt x="271" y="1078"/>
                    </a:lnTo>
                    <a:lnTo>
                      <a:pt x="264" y="1095"/>
                    </a:lnTo>
                    <a:lnTo>
                      <a:pt x="270" y="1137"/>
                    </a:lnTo>
                    <a:lnTo>
                      <a:pt x="256" y="1146"/>
                    </a:lnTo>
                    <a:lnTo>
                      <a:pt x="256" y="1162"/>
                    </a:lnTo>
                    <a:lnTo>
                      <a:pt x="235" y="1163"/>
                    </a:lnTo>
                    <a:lnTo>
                      <a:pt x="214" y="1177"/>
                    </a:lnTo>
                    <a:lnTo>
                      <a:pt x="202" y="1190"/>
                    </a:lnTo>
                    <a:lnTo>
                      <a:pt x="192" y="1216"/>
                    </a:lnTo>
                    <a:lnTo>
                      <a:pt x="197" y="1241"/>
                    </a:lnTo>
                    <a:lnTo>
                      <a:pt x="232" y="1272"/>
                    </a:lnTo>
                    <a:lnTo>
                      <a:pt x="259" y="1271"/>
                    </a:lnTo>
                    <a:lnTo>
                      <a:pt x="262" y="1288"/>
                    </a:lnTo>
                    <a:lnTo>
                      <a:pt x="259" y="1313"/>
                    </a:lnTo>
                    <a:lnTo>
                      <a:pt x="207" y="1366"/>
                    </a:lnTo>
                    <a:lnTo>
                      <a:pt x="202" y="1417"/>
                    </a:lnTo>
                    <a:lnTo>
                      <a:pt x="180" y="1426"/>
                    </a:lnTo>
                    <a:lnTo>
                      <a:pt x="166" y="1443"/>
                    </a:lnTo>
                    <a:lnTo>
                      <a:pt x="164" y="1470"/>
                    </a:lnTo>
                    <a:lnTo>
                      <a:pt x="180" y="1511"/>
                    </a:lnTo>
                    <a:lnTo>
                      <a:pt x="194" y="1533"/>
                    </a:lnTo>
                    <a:lnTo>
                      <a:pt x="194" y="15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731120" y="43077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14" h="150">
                    <a:moveTo>
                      <a:pt x="18" y="13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4" y="17"/>
                    </a:lnTo>
                    <a:lnTo>
                      <a:pt x="25" y="50"/>
                    </a:lnTo>
                    <a:lnTo>
                      <a:pt x="79" y="89"/>
                    </a:lnTo>
                    <a:lnTo>
                      <a:pt x="95" y="96"/>
                    </a:lnTo>
                    <a:lnTo>
                      <a:pt x="114" y="95"/>
                    </a:lnTo>
                    <a:lnTo>
                      <a:pt x="111" y="107"/>
                    </a:lnTo>
                    <a:lnTo>
                      <a:pt x="78" y="114"/>
                    </a:lnTo>
                    <a:lnTo>
                      <a:pt x="54" y="127"/>
                    </a:lnTo>
                    <a:lnTo>
                      <a:pt x="30" y="129"/>
                    </a:lnTo>
                    <a:lnTo>
                      <a:pt x="36" y="150"/>
                    </a:lnTo>
                    <a:lnTo>
                      <a:pt x="16" y="139"/>
                    </a:lnTo>
                    <a:lnTo>
                      <a:pt x="18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664160" y="4306680"/>
                <a:ext cx="73800" cy="4860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82" y="3"/>
                    </a:moveTo>
                    <a:lnTo>
                      <a:pt x="200" y="142"/>
                    </a:lnTo>
                    <a:lnTo>
                      <a:pt x="198" y="142"/>
                    </a:lnTo>
                    <a:lnTo>
                      <a:pt x="181" y="147"/>
                    </a:lnTo>
                    <a:lnTo>
                      <a:pt x="165" y="140"/>
                    </a:lnTo>
                    <a:lnTo>
                      <a:pt x="157" y="123"/>
                    </a:lnTo>
                    <a:lnTo>
                      <a:pt x="152" y="142"/>
                    </a:lnTo>
                    <a:lnTo>
                      <a:pt x="132" y="135"/>
                    </a:lnTo>
                    <a:lnTo>
                      <a:pt x="115" y="112"/>
                    </a:lnTo>
                    <a:lnTo>
                      <a:pt x="112" y="99"/>
                    </a:lnTo>
                    <a:lnTo>
                      <a:pt x="90" y="92"/>
                    </a:lnTo>
                    <a:lnTo>
                      <a:pt x="72" y="84"/>
                    </a:lnTo>
                    <a:lnTo>
                      <a:pt x="54" y="85"/>
                    </a:lnTo>
                    <a:lnTo>
                      <a:pt x="50" y="74"/>
                    </a:lnTo>
                    <a:lnTo>
                      <a:pt x="32" y="64"/>
                    </a:lnTo>
                    <a:lnTo>
                      <a:pt x="40" y="49"/>
                    </a:lnTo>
                    <a:lnTo>
                      <a:pt x="25" y="47"/>
                    </a:lnTo>
                    <a:lnTo>
                      <a:pt x="7" y="35"/>
                    </a:lnTo>
                    <a:lnTo>
                      <a:pt x="0" y="23"/>
                    </a:lnTo>
                    <a:lnTo>
                      <a:pt x="122" y="84"/>
                    </a:lnTo>
                    <a:lnTo>
                      <a:pt x="134" y="58"/>
                    </a:lnTo>
                    <a:lnTo>
                      <a:pt x="141" y="83"/>
                    </a:lnTo>
                    <a:lnTo>
                      <a:pt x="152" y="85"/>
                    </a:lnTo>
                    <a:lnTo>
                      <a:pt x="146" y="60"/>
                    </a:lnTo>
                    <a:lnTo>
                      <a:pt x="166" y="47"/>
                    </a:lnTo>
                    <a:lnTo>
                      <a:pt x="164" y="39"/>
                    </a:lnTo>
                    <a:lnTo>
                      <a:pt x="141" y="48"/>
                    </a:lnTo>
                    <a:lnTo>
                      <a:pt x="134" y="40"/>
                    </a:lnTo>
                    <a:lnTo>
                      <a:pt x="134" y="15"/>
                    </a:lnTo>
                    <a:lnTo>
                      <a:pt x="149" y="14"/>
                    </a:lnTo>
                    <a:lnTo>
                      <a:pt x="155" y="2"/>
                    </a:lnTo>
                    <a:lnTo>
                      <a:pt x="166" y="4"/>
                    </a:lnTo>
                    <a:lnTo>
                      <a:pt x="177" y="0"/>
                    </a:lnTo>
                    <a:lnTo>
                      <a:pt x="18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69120" y="3129480"/>
                <a:ext cx="51480" cy="12600"/>
              </a:xfrm>
              <a:custGeom>
                <a:avLst/>
                <a:gdLst/>
                <a:ahLst/>
                <a:rect l="l" t="t" r="r" b="b"/>
                <a:pathLst>
                  <a:path w="135" h="36">
                    <a:moveTo>
                      <a:pt x="130" y="23"/>
                    </a:moveTo>
                    <a:lnTo>
                      <a:pt x="39" y="26"/>
                    </a:lnTo>
                    <a:lnTo>
                      <a:pt x="30" y="36"/>
                    </a:lnTo>
                    <a:lnTo>
                      <a:pt x="0" y="23"/>
                    </a:lnTo>
                    <a:lnTo>
                      <a:pt x="15" y="10"/>
                    </a:lnTo>
                    <a:lnTo>
                      <a:pt x="60" y="16"/>
                    </a:lnTo>
                    <a:lnTo>
                      <a:pt x="85" y="13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10"/>
                    </a:lnTo>
                    <a:lnTo>
                      <a:pt x="133" y="23"/>
                    </a:lnTo>
                    <a:lnTo>
                      <a:pt x="13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640400" y="3129480"/>
                <a:ext cx="12240" cy="540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6" y="0"/>
                    </a:moveTo>
                    <a:lnTo>
                      <a:pt x="1" y="0"/>
                    </a:lnTo>
                    <a:lnTo>
                      <a:pt x="0" y="11"/>
                    </a:lnTo>
                    <a:lnTo>
                      <a:pt x="37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71360" y="3129480"/>
                <a:ext cx="6840" cy="25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0"/>
                    </a:lnTo>
                    <a:lnTo>
                      <a:pt x="7" y="7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701960" y="3129480"/>
                <a:ext cx="23760" cy="5400"/>
              </a:xfrm>
              <a:custGeom>
                <a:avLst/>
                <a:gdLst/>
                <a:ahLst/>
                <a:rect l="l" t="t" r="r" b="b"/>
                <a:pathLst>
                  <a:path w="64" h="11">
                    <a:moveTo>
                      <a:pt x="6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616640" y="3129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5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10"/>
                    </a:lnTo>
                    <a:lnTo>
                      <a:pt x="3" y="23"/>
                    </a:lnTo>
                    <a:lnTo>
                      <a:pt x="0" y="23"/>
                    </a:lnTo>
                    <a:lnTo>
                      <a:pt x="18" y="44"/>
                    </a:lnTo>
                    <a:lnTo>
                      <a:pt x="35" y="22"/>
                    </a:lnTo>
                    <a:lnTo>
                      <a:pt x="35" y="10"/>
                    </a:lnTo>
                    <a:lnTo>
                      <a:pt x="58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675240" y="2457360"/>
              <a:ext cx="1056960" cy="729720"/>
            </a:xfrm>
            <a:custGeom>
              <a:avLst/>
              <a:gdLst/>
              <a:ahLst/>
              <a:rect l="l" t="t" r="r" b="b"/>
              <a:pathLst>
                <a:path w="2841" h="2201">
                  <a:moveTo>
                    <a:pt x="2485" y="0"/>
                  </a:moveTo>
                  <a:lnTo>
                    <a:pt x="2449" y="21"/>
                  </a:lnTo>
                  <a:lnTo>
                    <a:pt x="2410" y="40"/>
                  </a:lnTo>
                  <a:lnTo>
                    <a:pt x="2370" y="56"/>
                  </a:lnTo>
                  <a:lnTo>
                    <a:pt x="2327" y="70"/>
                  </a:lnTo>
                  <a:lnTo>
                    <a:pt x="2284" y="83"/>
                  </a:lnTo>
                  <a:lnTo>
                    <a:pt x="2237" y="93"/>
                  </a:lnTo>
                  <a:lnTo>
                    <a:pt x="2190" y="100"/>
                  </a:lnTo>
                  <a:lnTo>
                    <a:pt x="2141" y="108"/>
                  </a:lnTo>
                  <a:lnTo>
                    <a:pt x="2090" y="111"/>
                  </a:lnTo>
                  <a:lnTo>
                    <a:pt x="2039" y="115"/>
                  </a:lnTo>
                  <a:lnTo>
                    <a:pt x="1986" y="118"/>
                  </a:lnTo>
                  <a:lnTo>
                    <a:pt x="1931" y="119"/>
                  </a:lnTo>
                  <a:lnTo>
                    <a:pt x="1876" y="119"/>
                  </a:lnTo>
                  <a:lnTo>
                    <a:pt x="1821" y="118"/>
                  </a:lnTo>
                  <a:lnTo>
                    <a:pt x="1764" y="116"/>
                  </a:lnTo>
                  <a:lnTo>
                    <a:pt x="1707" y="114"/>
                  </a:lnTo>
                  <a:lnTo>
                    <a:pt x="1649" y="110"/>
                  </a:lnTo>
                  <a:lnTo>
                    <a:pt x="1590" y="108"/>
                  </a:lnTo>
                  <a:lnTo>
                    <a:pt x="1532" y="104"/>
                  </a:lnTo>
                  <a:lnTo>
                    <a:pt x="1472" y="100"/>
                  </a:lnTo>
                  <a:lnTo>
                    <a:pt x="1413" y="96"/>
                  </a:lnTo>
                  <a:lnTo>
                    <a:pt x="1353" y="93"/>
                  </a:lnTo>
                  <a:lnTo>
                    <a:pt x="1294" y="90"/>
                  </a:lnTo>
                  <a:lnTo>
                    <a:pt x="1234" y="88"/>
                  </a:lnTo>
                  <a:lnTo>
                    <a:pt x="1176" y="85"/>
                  </a:lnTo>
                  <a:lnTo>
                    <a:pt x="1117" y="84"/>
                  </a:lnTo>
                  <a:lnTo>
                    <a:pt x="1058" y="83"/>
                  </a:lnTo>
                  <a:lnTo>
                    <a:pt x="1001" y="83"/>
                  </a:lnTo>
                  <a:lnTo>
                    <a:pt x="943" y="84"/>
                  </a:lnTo>
                  <a:lnTo>
                    <a:pt x="886" y="86"/>
                  </a:lnTo>
                  <a:lnTo>
                    <a:pt x="831" y="90"/>
                  </a:lnTo>
                  <a:lnTo>
                    <a:pt x="776" y="96"/>
                  </a:lnTo>
                  <a:lnTo>
                    <a:pt x="722" y="103"/>
                  </a:lnTo>
                  <a:lnTo>
                    <a:pt x="668" y="111"/>
                  </a:lnTo>
                  <a:lnTo>
                    <a:pt x="617" y="123"/>
                  </a:lnTo>
                  <a:lnTo>
                    <a:pt x="567" y="135"/>
                  </a:lnTo>
                  <a:lnTo>
                    <a:pt x="519" y="150"/>
                  </a:lnTo>
                  <a:lnTo>
                    <a:pt x="471" y="166"/>
                  </a:lnTo>
                  <a:lnTo>
                    <a:pt x="425" y="186"/>
                  </a:lnTo>
                  <a:lnTo>
                    <a:pt x="381" y="208"/>
                  </a:lnTo>
                  <a:lnTo>
                    <a:pt x="339" y="233"/>
                  </a:lnTo>
                  <a:lnTo>
                    <a:pt x="299" y="260"/>
                  </a:lnTo>
                  <a:lnTo>
                    <a:pt x="261" y="291"/>
                  </a:lnTo>
                  <a:lnTo>
                    <a:pt x="250" y="300"/>
                  </a:lnTo>
                  <a:lnTo>
                    <a:pt x="240" y="310"/>
                  </a:lnTo>
                  <a:lnTo>
                    <a:pt x="230" y="319"/>
                  </a:lnTo>
                  <a:lnTo>
                    <a:pt x="220" y="329"/>
                  </a:lnTo>
                  <a:lnTo>
                    <a:pt x="210" y="340"/>
                  </a:lnTo>
                  <a:lnTo>
                    <a:pt x="200" y="350"/>
                  </a:lnTo>
                  <a:lnTo>
                    <a:pt x="190" y="361"/>
                  </a:lnTo>
                  <a:lnTo>
                    <a:pt x="181" y="371"/>
                  </a:lnTo>
                  <a:lnTo>
                    <a:pt x="173" y="383"/>
                  </a:lnTo>
                  <a:lnTo>
                    <a:pt x="164" y="394"/>
                  </a:lnTo>
                  <a:lnTo>
                    <a:pt x="155" y="405"/>
                  </a:lnTo>
                  <a:lnTo>
                    <a:pt x="146" y="418"/>
                  </a:lnTo>
                  <a:lnTo>
                    <a:pt x="138" y="429"/>
                  </a:lnTo>
                  <a:lnTo>
                    <a:pt x="130" y="441"/>
                  </a:lnTo>
                  <a:lnTo>
                    <a:pt x="121" y="453"/>
                  </a:lnTo>
                  <a:lnTo>
                    <a:pt x="114" y="465"/>
                  </a:lnTo>
                  <a:lnTo>
                    <a:pt x="106" y="478"/>
                  </a:lnTo>
                  <a:lnTo>
                    <a:pt x="100" y="490"/>
                  </a:lnTo>
                  <a:lnTo>
                    <a:pt x="93" y="504"/>
                  </a:lnTo>
                  <a:lnTo>
                    <a:pt x="86" y="516"/>
                  </a:lnTo>
                  <a:lnTo>
                    <a:pt x="80" y="529"/>
                  </a:lnTo>
                  <a:lnTo>
                    <a:pt x="74" y="543"/>
                  </a:lnTo>
                  <a:lnTo>
                    <a:pt x="68" y="55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0" y="595"/>
                  </a:lnTo>
                  <a:lnTo>
                    <a:pt x="45" y="609"/>
                  </a:lnTo>
                  <a:lnTo>
                    <a:pt x="41" y="623"/>
                  </a:lnTo>
                  <a:lnTo>
                    <a:pt x="36" y="636"/>
                  </a:lnTo>
                  <a:lnTo>
                    <a:pt x="31" y="650"/>
                  </a:lnTo>
                  <a:lnTo>
                    <a:pt x="28" y="664"/>
                  </a:lnTo>
                  <a:lnTo>
                    <a:pt x="24" y="678"/>
                  </a:lnTo>
                  <a:lnTo>
                    <a:pt x="20" y="691"/>
                  </a:lnTo>
                  <a:lnTo>
                    <a:pt x="18" y="705"/>
                  </a:lnTo>
                  <a:lnTo>
                    <a:pt x="15" y="720"/>
                  </a:lnTo>
                  <a:lnTo>
                    <a:pt x="11" y="734"/>
                  </a:lnTo>
                  <a:lnTo>
                    <a:pt x="9" y="747"/>
                  </a:lnTo>
                  <a:lnTo>
                    <a:pt x="8" y="761"/>
                  </a:lnTo>
                  <a:lnTo>
                    <a:pt x="5" y="775"/>
                  </a:lnTo>
                  <a:lnTo>
                    <a:pt x="4" y="790"/>
                  </a:lnTo>
                  <a:lnTo>
                    <a:pt x="3" y="804"/>
                  </a:lnTo>
                  <a:lnTo>
                    <a:pt x="1" y="817"/>
                  </a:lnTo>
                  <a:lnTo>
                    <a:pt x="1" y="831"/>
                  </a:lnTo>
                  <a:lnTo>
                    <a:pt x="0" y="855"/>
                  </a:lnTo>
                  <a:lnTo>
                    <a:pt x="0" y="877"/>
                  </a:lnTo>
                  <a:lnTo>
                    <a:pt x="1" y="901"/>
                  </a:lnTo>
                  <a:lnTo>
                    <a:pt x="4" y="924"/>
                  </a:lnTo>
                  <a:lnTo>
                    <a:pt x="6" y="946"/>
                  </a:lnTo>
                  <a:lnTo>
                    <a:pt x="10" y="969"/>
                  </a:lnTo>
                  <a:lnTo>
                    <a:pt x="14" y="992"/>
                  </a:lnTo>
                  <a:lnTo>
                    <a:pt x="19" y="1015"/>
                  </a:lnTo>
                  <a:lnTo>
                    <a:pt x="24" y="1037"/>
                  </a:lnTo>
                  <a:lnTo>
                    <a:pt x="30" y="1060"/>
                  </a:lnTo>
                  <a:lnTo>
                    <a:pt x="36" y="1082"/>
                  </a:lnTo>
                  <a:lnTo>
                    <a:pt x="44" y="1105"/>
                  </a:lnTo>
                  <a:lnTo>
                    <a:pt x="51" y="1127"/>
                  </a:lnTo>
                  <a:lnTo>
                    <a:pt x="60" y="1150"/>
                  </a:lnTo>
                  <a:lnTo>
                    <a:pt x="69" y="1171"/>
                  </a:lnTo>
                  <a:lnTo>
                    <a:pt x="78" y="1194"/>
                  </a:lnTo>
                  <a:lnTo>
                    <a:pt x="88" y="1216"/>
                  </a:lnTo>
                  <a:lnTo>
                    <a:pt x="99" y="1239"/>
                  </a:lnTo>
                  <a:lnTo>
                    <a:pt x="109" y="1261"/>
                  </a:lnTo>
                  <a:lnTo>
                    <a:pt x="120" y="1282"/>
                  </a:lnTo>
                  <a:lnTo>
                    <a:pt x="133" y="1305"/>
                  </a:lnTo>
                  <a:lnTo>
                    <a:pt x="144" y="1327"/>
                  </a:lnTo>
                  <a:lnTo>
                    <a:pt x="156" y="1349"/>
                  </a:lnTo>
                  <a:lnTo>
                    <a:pt x="169" y="1371"/>
                  </a:lnTo>
                  <a:lnTo>
                    <a:pt x="183" y="1394"/>
                  </a:lnTo>
                  <a:lnTo>
                    <a:pt x="196" y="1416"/>
                  </a:lnTo>
                  <a:lnTo>
                    <a:pt x="210" y="1437"/>
                  </a:lnTo>
                  <a:lnTo>
                    <a:pt x="224" y="1460"/>
                  </a:lnTo>
                  <a:lnTo>
                    <a:pt x="237" y="1482"/>
                  </a:lnTo>
                  <a:lnTo>
                    <a:pt x="252" y="1505"/>
                  </a:lnTo>
                  <a:lnTo>
                    <a:pt x="266" y="1526"/>
                  </a:lnTo>
                  <a:lnTo>
                    <a:pt x="281" y="1549"/>
                  </a:lnTo>
                  <a:lnTo>
                    <a:pt x="294" y="1567"/>
                  </a:lnTo>
                  <a:lnTo>
                    <a:pt x="306" y="1585"/>
                  </a:lnTo>
                  <a:lnTo>
                    <a:pt x="319" y="1604"/>
                  </a:lnTo>
                  <a:lnTo>
                    <a:pt x="331" y="1621"/>
                  </a:lnTo>
                  <a:lnTo>
                    <a:pt x="344" y="1640"/>
                  </a:lnTo>
                  <a:lnTo>
                    <a:pt x="356" y="1657"/>
                  </a:lnTo>
                  <a:lnTo>
                    <a:pt x="369" y="1676"/>
                  </a:lnTo>
                  <a:lnTo>
                    <a:pt x="382" y="1694"/>
                  </a:lnTo>
                  <a:lnTo>
                    <a:pt x="395" y="1712"/>
                  </a:lnTo>
                  <a:lnTo>
                    <a:pt x="409" y="1730"/>
                  </a:lnTo>
                  <a:lnTo>
                    <a:pt x="421" y="1747"/>
                  </a:lnTo>
                  <a:lnTo>
                    <a:pt x="435" y="1765"/>
                  </a:lnTo>
                  <a:lnTo>
                    <a:pt x="447" y="1782"/>
                  </a:lnTo>
                  <a:lnTo>
                    <a:pt x="461" y="1800"/>
                  </a:lnTo>
                  <a:lnTo>
                    <a:pt x="475" y="1816"/>
                  </a:lnTo>
                  <a:lnTo>
                    <a:pt x="489" y="1834"/>
                  </a:lnTo>
                  <a:lnTo>
                    <a:pt x="502" y="1850"/>
                  </a:lnTo>
                  <a:lnTo>
                    <a:pt x="516" y="1866"/>
                  </a:lnTo>
                  <a:lnTo>
                    <a:pt x="530" y="1882"/>
                  </a:lnTo>
                  <a:lnTo>
                    <a:pt x="544" y="1899"/>
                  </a:lnTo>
                  <a:lnTo>
                    <a:pt x="557" y="1915"/>
                  </a:lnTo>
                  <a:lnTo>
                    <a:pt x="571" y="1930"/>
                  </a:lnTo>
                  <a:lnTo>
                    <a:pt x="585" y="1945"/>
                  </a:lnTo>
                  <a:lnTo>
                    <a:pt x="598" y="1960"/>
                  </a:lnTo>
                  <a:lnTo>
                    <a:pt x="612" y="1975"/>
                  </a:lnTo>
                  <a:lnTo>
                    <a:pt x="627" y="1989"/>
                  </a:lnTo>
                  <a:lnTo>
                    <a:pt x="641" y="2002"/>
                  </a:lnTo>
                  <a:lnTo>
                    <a:pt x="655" y="2016"/>
                  </a:lnTo>
                  <a:lnTo>
                    <a:pt x="670" y="2029"/>
                  </a:lnTo>
                  <a:lnTo>
                    <a:pt x="683" y="2042"/>
                  </a:lnTo>
                  <a:lnTo>
                    <a:pt x="697" y="2055"/>
                  </a:lnTo>
                  <a:lnTo>
                    <a:pt x="712" y="2066"/>
                  </a:lnTo>
                  <a:lnTo>
                    <a:pt x="726" y="2077"/>
                  </a:lnTo>
                  <a:lnTo>
                    <a:pt x="741" y="2088"/>
                  </a:lnTo>
                  <a:lnTo>
                    <a:pt x="755" y="2100"/>
                  </a:lnTo>
                  <a:lnTo>
                    <a:pt x="770" y="2110"/>
                  </a:lnTo>
                  <a:lnTo>
                    <a:pt x="783" y="2120"/>
                  </a:lnTo>
                  <a:lnTo>
                    <a:pt x="798" y="2128"/>
                  </a:lnTo>
                  <a:lnTo>
                    <a:pt x="812" y="2137"/>
                  </a:lnTo>
                  <a:lnTo>
                    <a:pt x="827" y="2146"/>
                  </a:lnTo>
                  <a:lnTo>
                    <a:pt x="841" y="2153"/>
                  </a:lnTo>
                  <a:lnTo>
                    <a:pt x="856" y="2160"/>
                  </a:lnTo>
                  <a:lnTo>
                    <a:pt x="870" y="2167"/>
                  </a:lnTo>
                  <a:lnTo>
                    <a:pt x="885" y="2172"/>
                  </a:lnTo>
                  <a:lnTo>
                    <a:pt x="908" y="2181"/>
                  </a:lnTo>
                  <a:lnTo>
                    <a:pt x="931" y="2188"/>
                  </a:lnTo>
                  <a:lnTo>
                    <a:pt x="954" y="2193"/>
                  </a:lnTo>
                  <a:lnTo>
                    <a:pt x="978" y="2197"/>
                  </a:lnTo>
                  <a:lnTo>
                    <a:pt x="1001" y="2200"/>
                  </a:lnTo>
                  <a:lnTo>
                    <a:pt x="1024" y="2201"/>
                  </a:lnTo>
                  <a:lnTo>
                    <a:pt x="1048" y="2201"/>
                  </a:lnTo>
                  <a:lnTo>
                    <a:pt x="1071" y="2200"/>
                  </a:lnTo>
                  <a:lnTo>
                    <a:pt x="1094" y="2197"/>
                  </a:lnTo>
                  <a:lnTo>
                    <a:pt x="1118" y="2193"/>
                  </a:lnTo>
                  <a:lnTo>
                    <a:pt x="1142" y="2188"/>
                  </a:lnTo>
                  <a:lnTo>
                    <a:pt x="1164" y="2182"/>
                  </a:lnTo>
                  <a:lnTo>
                    <a:pt x="1188" y="2175"/>
                  </a:lnTo>
                  <a:lnTo>
                    <a:pt x="1212" y="2166"/>
                  </a:lnTo>
                  <a:lnTo>
                    <a:pt x="1236" y="2156"/>
                  </a:lnTo>
                  <a:lnTo>
                    <a:pt x="1259" y="2146"/>
                  </a:lnTo>
                  <a:lnTo>
                    <a:pt x="1283" y="2135"/>
                  </a:lnTo>
                  <a:lnTo>
                    <a:pt x="1307" y="2122"/>
                  </a:lnTo>
                  <a:lnTo>
                    <a:pt x="1330" y="2108"/>
                  </a:lnTo>
                  <a:lnTo>
                    <a:pt x="1354" y="2095"/>
                  </a:lnTo>
                  <a:lnTo>
                    <a:pt x="1378" y="2080"/>
                  </a:lnTo>
                  <a:lnTo>
                    <a:pt x="1402" y="2063"/>
                  </a:lnTo>
                  <a:lnTo>
                    <a:pt x="1425" y="2047"/>
                  </a:lnTo>
                  <a:lnTo>
                    <a:pt x="1450" y="2030"/>
                  </a:lnTo>
                  <a:lnTo>
                    <a:pt x="1474" y="2011"/>
                  </a:lnTo>
                  <a:lnTo>
                    <a:pt x="1498" y="1994"/>
                  </a:lnTo>
                  <a:lnTo>
                    <a:pt x="1523" y="1974"/>
                  </a:lnTo>
                  <a:lnTo>
                    <a:pt x="1547" y="1954"/>
                  </a:lnTo>
                  <a:lnTo>
                    <a:pt x="1572" y="1934"/>
                  </a:lnTo>
                  <a:lnTo>
                    <a:pt x="1597" y="1912"/>
                  </a:lnTo>
                  <a:lnTo>
                    <a:pt x="1622" y="1891"/>
                  </a:lnTo>
                  <a:lnTo>
                    <a:pt x="1647" y="1870"/>
                  </a:lnTo>
                  <a:lnTo>
                    <a:pt x="1672" y="1847"/>
                  </a:lnTo>
                  <a:lnTo>
                    <a:pt x="1697" y="1826"/>
                  </a:lnTo>
                  <a:lnTo>
                    <a:pt x="1721" y="1802"/>
                  </a:lnTo>
                  <a:lnTo>
                    <a:pt x="1746" y="1780"/>
                  </a:lnTo>
                  <a:lnTo>
                    <a:pt x="1773" y="1756"/>
                  </a:lnTo>
                  <a:lnTo>
                    <a:pt x="1798" y="1734"/>
                  </a:lnTo>
                  <a:lnTo>
                    <a:pt x="1824" y="1710"/>
                  </a:lnTo>
                  <a:lnTo>
                    <a:pt x="1850" y="1686"/>
                  </a:lnTo>
                  <a:lnTo>
                    <a:pt x="1875" y="1662"/>
                  </a:lnTo>
                  <a:lnTo>
                    <a:pt x="1901" y="1639"/>
                  </a:lnTo>
                  <a:lnTo>
                    <a:pt x="1929" y="1615"/>
                  </a:lnTo>
                  <a:lnTo>
                    <a:pt x="1955" y="1591"/>
                  </a:lnTo>
                  <a:lnTo>
                    <a:pt x="1998" y="1552"/>
                  </a:lnTo>
                  <a:lnTo>
                    <a:pt x="2040" y="1515"/>
                  </a:lnTo>
                  <a:lnTo>
                    <a:pt x="2083" y="1479"/>
                  </a:lnTo>
                  <a:lnTo>
                    <a:pt x="2125" y="1441"/>
                  </a:lnTo>
                  <a:lnTo>
                    <a:pt x="2169" y="1404"/>
                  </a:lnTo>
                  <a:lnTo>
                    <a:pt x="2211" y="1366"/>
                  </a:lnTo>
                  <a:lnTo>
                    <a:pt x="2252" y="1330"/>
                  </a:lnTo>
                  <a:lnTo>
                    <a:pt x="2295" y="1292"/>
                  </a:lnTo>
                  <a:lnTo>
                    <a:pt x="2336" y="1256"/>
                  </a:lnTo>
                  <a:lnTo>
                    <a:pt x="2376" y="1220"/>
                  </a:lnTo>
                  <a:lnTo>
                    <a:pt x="2416" y="1182"/>
                  </a:lnTo>
                  <a:lnTo>
                    <a:pt x="2455" y="1146"/>
                  </a:lnTo>
                  <a:lnTo>
                    <a:pt x="2492" y="1110"/>
                  </a:lnTo>
                  <a:lnTo>
                    <a:pt x="2528" y="1074"/>
                  </a:lnTo>
                  <a:lnTo>
                    <a:pt x="2563" y="1037"/>
                  </a:lnTo>
                  <a:lnTo>
                    <a:pt x="2596" y="1001"/>
                  </a:lnTo>
                  <a:lnTo>
                    <a:pt x="2628" y="965"/>
                  </a:lnTo>
                  <a:lnTo>
                    <a:pt x="2658" y="929"/>
                  </a:lnTo>
                  <a:lnTo>
                    <a:pt x="2687" y="891"/>
                  </a:lnTo>
                  <a:lnTo>
                    <a:pt x="2713" y="855"/>
                  </a:lnTo>
                  <a:lnTo>
                    <a:pt x="2737" y="819"/>
                  </a:lnTo>
                  <a:lnTo>
                    <a:pt x="2760" y="782"/>
                  </a:lnTo>
                  <a:lnTo>
                    <a:pt x="2780" y="746"/>
                  </a:lnTo>
                  <a:lnTo>
                    <a:pt x="2796" y="710"/>
                  </a:lnTo>
                  <a:lnTo>
                    <a:pt x="2811" y="674"/>
                  </a:lnTo>
                  <a:lnTo>
                    <a:pt x="2823" y="636"/>
                  </a:lnTo>
                  <a:lnTo>
                    <a:pt x="2832" y="600"/>
                  </a:lnTo>
                  <a:lnTo>
                    <a:pt x="2838" y="564"/>
                  </a:lnTo>
                  <a:lnTo>
                    <a:pt x="2841" y="526"/>
                  </a:lnTo>
                  <a:lnTo>
                    <a:pt x="2841" y="490"/>
                  </a:lnTo>
                  <a:lnTo>
                    <a:pt x="2837" y="453"/>
                  </a:lnTo>
                  <a:lnTo>
                    <a:pt x="2830" y="416"/>
                  </a:lnTo>
                  <a:lnTo>
                    <a:pt x="2818" y="379"/>
                  </a:lnTo>
                  <a:lnTo>
                    <a:pt x="2805" y="341"/>
                  </a:lnTo>
                  <a:lnTo>
                    <a:pt x="2786" y="304"/>
                  </a:lnTo>
                  <a:lnTo>
                    <a:pt x="2763" y="266"/>
                  </a:lnTo>
                  <a:lnTo>
                    <a:pt x="2737" y="229"/>
                  </a:lnTo>
                  <a:lnTo>
                    <a:pt x="2706" y="191"/>
                  </a:lnTo>
                  <a:lnTo>
                    <a:pt x="2671" y="153"/>
                  </a:lnTo>
                  <a:lnTo>
                    <a:pt x="2632" y="115"/>
                  </a:lnTo>
                  <a:lnTo>
                    <a:pt x="2587" y="76"/>
                  </a:lnTo>
                  <a:lnTo>
                    <a:pt x="2538" y="39"/>
                  </a:lnTo>
                  <a:lnTo>
                    <a:pt x="2485" y="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14680" y="3263760"/>
              <a:ext cx="932040" cy="1069560"/>
            </a:xfrm>
            <a:custGeom>
              <a:avLst/>
              <a:gdLst/>
              <a:ahLst/>
              <a:rect l="l" t="t" r="r" b="b"/>
              <a:pathLst>
                <a:path w="2506" h="3222">
                  <a:moveTo>
                    <a:pt x="116" y="450"/>
                  </a:moveTo>
                  <a:lnTo>
                    <a:pt x="92" y="505"/>
                  </a:lnTo>
                  <a:lnTo>
                    <a:pt x="72" y="562"/>
                  </a:lnTo>
                  <a:lnTo>
                    <a:pt x="55" y="618"/>
                  </a:lnTo>
                  <a:lnTo>
                    <a:pt x="41" y="675"/>
                  </a:lnTo>
                  <a:lnTo>
                    <a:pt x="29" y="732"/>
                  </a:lnTo>
                  <a:lnTo>
                    <a:pt x="17" y="789"/>
                  </a:lnTo>
                  <a:lnTo>
                    <a:pt x="10" y="847"/>
                  </a:lnTo>
                  <a:lnTo>
                    <a:pt x="5" y="904"/>
                  </a:lnTo>
                  <a:lnTo>
                    <a:pt x="1" y="962"/>
                  </a:lnTo>
                  <a:lnTo>
                    <a:pt x="0" y="1019"/>
                  </a:lnTo>
                  <a:lnTo>
                    <a:pt x="1" y="1076"/>
                  </a:lnTo>
                  <a:lnTo>
                    <a:pt x="4" y="1134"/>
                  </a:lnTo>
                  <a:lnTo>
                    <a:pt x="9" y="1191"/>
                  </a:lnTo>
                  <a:lnTo>
                    <a:pt x="15" y="1249"/>
                  </a:lnTo>
                  <a:lnTo>
                    <a:pt x="24" y="1306"/>
                  </a:lnTo>
                  <a:lnTo>
                    <a:pt x="34" y="1363"/>
                  </a:lnTo>
                  <a:lnTo>
                    <a:pt x="45" y="1419"/>
                  </a:lnTo>
                  <a:lnTo>
                    <a:pt x="59" y="1475"/>
                  </a:lnTo>
                  <a:lnTo>
                    <a:pt x="74" y="1531"/>
                  </a:lnTo>
                  <a:lnTo>
                    <a:pt x="81" y="1556"/>
                  </a:lnTo>
                  <a:lnTo>
                    <a:pt x="89" y="1581"/>
                  </a:lnTo>
                  <a:lnTo>
                    <a:pt x="97" y="1605"/>
                  </a:lnTo>
                  <a:lnTo>
                    <a:pt x="105" y="1630"/>
                  </a:lnTo>
                  <a:lnTo>
                    <a:pt x="114" y="1655"/>
                  </a:lnTo>
                  <a:lnTo>
                    <a:pt x="122" y="1679"/>
                  </a:lnTo>
                  <a:lnTo>
                    <a:pt x="132" y="1704"/>
                  </a:lnTo>
                  <a:lnTo>
                    <a:pt x="142" y="1728"/>
                  </a:lnTo>
                  <a:lnTo>
                    <a:pt x="152" y="1751"/>
                  </a:lnTo>
                  <a:lnTo>
                    <a:pt x="164" y="1775"/>
                  </a:lnTo>
                  <a:lnTo>
                    <a:pt x="175" y="1799"/>
                  </a:lnTo>
                  <a:lnTo>
                    <a:pt x="186" y="1821"/>
                  </a:lnTo>
                  <a:lnTo>
                    <a:pt x="199" y="1845"/>
                  </a:lnTo>
                  <a:lnTo>
                    <a:pt x="211" y="1868"/>
                  </a:lnTo>
                  <a:lnTo>
                    <a:pt x="225" y="1890"/>
                  </a:lnTo>
                  <a:lnTo>
                    <a:pt x="239" y="1913"/>
                  </a:lnTo>
                  <a:lnTo>
                    <a:pt x="252" y="1935"/>
                  </a:lnTo>
                  <a:lnTo>
                    <a:pt x="267" y="1956"/>
                  </a:lnTo>
                  <a:lnTo>
                    <a:pt x="284" y="1978"/>
                  </a:lnTo>
                  <a:lnTo>
                    <a:pt x="300" y="1999"/>
                  </a:lnTo>
                  <a:lnTo>
                    <a:pt x="316" y="2020"/>
                  </a:lnTo>
                  <a:lnTo>
                    <a:pt x="334" y="2040"/>
                  </a:lnTo>
                  <a:lnTo>
                    <a:pt x="350" y="2059"/>
                  </a:lnTo>
                  <a:lnTo>
                    <a:pt x="366" y="2075"/>
                  </a:lnTo>
                  <a:lnTo>
                    <a:pt x="382" y="2093"/>
                  </a:lnTo>
                  <a:lnTo>
                    <a:pt x="400" y="2110"/>
                  </a:lnTo>
                  <a:lnTo>
                    <a:pt x="416" y="2126"/>
                  </a:lnTo>
                  <a:lnTo>
                    <a:pt x="433" y="2144"/>
                  </a:lnTo>
                  <a:lnTo>
                    <a:pt x="451" y="2160"/>
                  </a:lnTo>
                  <a:lnTo>
                    <a:pt x="468" y="2176"/>
                  </a:lnTo>
                  <a:lnTo>
                    <a:pt x="486" y="2193"/>
                  </a:lnTo>
                  <a:lnTo>
                    <a:pt x="503" y="2209"/>
                  </a:lnTo>
                  <a:lnTo>
                    <a:pt x="521" y="2225"/>
                  </a:lnTo>
                  <a:lnTo>
                    <a:pt x="538" y="2241"/>
                  </a:lnTo>
                  <a:lnTo>
                    <a:pt x="556" y="2258"/>
                  </a:lnTo>
                  <a:lnTo>
                    <a:pt x="573" y="2274"/>
                  </a:lnTo>
                  <a:lnTo>
                    <a:pt x="590" y="2291"/>
                  </a:lnTo>
                  <a:lnTo>
                    <a:pt x="606" y="2307"/>
                  </a:lnTo>
                  <a:lnTo>
                    <a:pt x="622" y="2324"/>
                  </a:lnTo>
                  <a:lnTo>
                    <a:pt x="637" y="2341"/>
                  </a:lnTo>
                  <a:lnTo>
                    <a:pt x="652" y="2357"/>
                  </a:lnTo>
                  <a:lnTo>
                    <a:pt x="667" y="2375"/>
                  </a:lnTo>
                  <a:lnTo>
                    <a:pt x="681" y="2392"/>
                  </a:lnTo>
                  <a:lnTo>
                    <a:pt x="693" y="2410"/>
                  </a:lnTo>
                  <a:lnTo>
                    <a:pt x="706" y="2427"/>
                  </a:lnTo>
                  <a:lnTo>
                    <a:pt x="717" y="2445"/>
                  </a:lnTo>
                  <a:lnTo>
                    <a:pt x="728" y="2464"/>
                  </a:lnTo>
                  <a:lnTo>
                    <a:pt x="737" y="2482"/>
                  </a:lnTo>
                  <a:lnTo>
                    <a:pt x="746" y="2501"/>
                  </a:lnTo>
                  <a:lnTo>
                    <a:pt x="753" y="2520"/>
                  </a:lnTo>
                  <a:lnTo>
                    <a:pt x="760" y="2540"/>
                  </a:lnTo>
                  <a:lnTo>
                    <a:pt x="765" y="2559"/>
                  </a:lnTo>
                  <a:lnTo>
                    <a:pt x="769" y="2576"/>
                  </a:lnTo>
                  <a:lnTo>
                    <a:pt x="772" y="2596"/>
                  </a:lnTo>
                  <a:lnTo>
                    <a:pt x="774" y="2615"/>
                  </a:lnTo>
                  <a:lnTo>
                    <a:pt x="776" y="2634"/>
                  </a:lnTo>
                  <a:lnTo>
                    <a:pt x="777" y="2654"/>
                  </a:lnTo>
                  <a:lnTo>
                    <a:pt x="778" y="2674"/>
                  </a:lnTo>
                  <a:lnTo>
                    <a:pt x="778" y="2694"/>
                  </a:lnTo>
                  <a:lnTo>
                    <a:pt x="777" y="2712"/>
                  </a:lnTo>
                  <a:lnTo>
                    <a:pt x="777" y="2732"/>
                  </a:lnTo>
                  <a:lnTo>
                    <a:pt x="776" y="2752"/>
                  </a:lnTo>
                  <a:lnTo>
                    <a:pt x="774" y="2772"/>
                  </a:lnTo>
                  <a:lnTo>
                    <a:pt x="773" y="2792"/>
                  </a:lnTo>
                  <a:lnTo>
                    <a:pt x="771" y="2811"/>
                  </a:lnTo>
                  <a:lnTo>
                    <a:pt x="769" y="2831"/>
                  </a:lnTo>
                  <a:lnTo>
                    <a:pt x="768" y="2851"/>
                  </a:lnTo>
                  <a:lnTo>
                    <a:pt x="766" y="2870"/>
                  </a:lnTo>
                  <a:lnTo>
                    <a:pt x="765" y="2889"/>
                  </a:lnTo>
                  <a:lnTo>
                    <a:pt x="765" y="2907"/>
                  </a:lnTo>
                  <a:lnTo>
                    <a:pt x="763" y="2925"/>
                  </a:lnTo>
                  <a:lnTo>
                    <a:pt x="763" y="2944"/>
                  </a:lnTo>
                  <a:lnTo>
                    <a:pt x="763" y="2961"/>
                  </a:lnTo>
                  <a:lnTo>
                    <a:pt x="763" y="2977"/>
                  </a:lnTo>
                  <a:lnTo>
                    <a:pt x="765" y="2995"/>
                  </a:lnTo>
                  <a:lnTo>
                    <a:pt x="766" y="3011"/>
                  </a:lnTo>
                  <a:lnTo>
                    <a:pt x="768" y="3026"/>
                  </a:lnTo>
                  <a:lnTo>
                    <a:pt x="772" y="3041"/>
                  </a:lnTo>
                  <a:lnTo>
                    <a:pt x="776" y="3056"/>
                  </a:lnTo>
                  <a:lnTo>
                    <a:pt x="781" y="3070"/>
                  </a:lnTo>
                  <a:lnTo>
                    <a:pt x="784" y="3079"/>
                  </a:lnTo>
                  <a:lnTo>
                    <a:pt x="789" y="3087"/>
                  </a:lnTo>
                  <a:lnTo>
                    <a:pt x="793" y="3096"/>
                  </a:lnTo>
                  <a:lnTo>
                    <a:pt x="799" y="3105"/>
                  </a:lnTo>
                  <a:lnTo>
                    <a:pt x="804" y="3112"/>
                  </a:lnTo>
                  <a:lnTo>
                    <a:pt x="811" y="3120"/>
                  </a:lnTo>
                  <a:lnTo>
                    <a:pt x="817" y="3127"/>
                  </a:lnTo>
                  <a:lnTo>
                    <a:pt x="823" y="3134"/>
                  </a:lnTo>
                  <a:lnTo>
                    <a:pt x="831" y="3141"/>
                  </a:lnTo>
                  <a:lnTo>
                    <a:pt x="837" y="3147"/>
                  </a:lnTo>
                  <a:lnTo>
                    <a:pt x="844" y="3154"/>
                  </a:lnTo>
                  <a:lnTo>
                    <a:pt x="853" y="3159"/>
                  </a:lnTo>
                  <a:lnTo>
                    <a:pt x="861" y="3165"/>
                  </a:lnTo>
                  <a:lnTo>
                    <a:pt x="869" y="3170"/>
                  </a:lnTo>
                  <a:lnTo>
                    <a:pt x="878" y="3175"/>
                  </a:lnTo>
                  <a:lnTo>
                    <a:pt x="887" y="3180"/>
                  </a:lnTo>
                  <a:lnTo>
                    <a:pt x="897" y="3185"/>
                  </a:lnTo>
                  <a:lnTo>
                    <a:pt x="906" y="3189"/>
                  </a:lnTo>
                  <a:lnTo>
                    <a:pt x="916" y="3192"/>
                  </a:lnTo>
                  <a:lnTo>
                    <a:pt x="926" y="3196"/>
                  </a:lnTo>
                  <a:lnTo>
                    <a:pt x="936" y="3200"/>
                  </a:lnTo>
                  <a:lnTo>
                    <a:pt x="946" y="3204"/>
                  </a:lnTo>
                  <a:lnTo>
                    <a:pt x="956" y="3206"/>
                  </a:lnTo>
                  <a:lnTo>
                    <a:pt x="967" y="3209"/>
                  </a:lnTo>
                  <a:lnTo>
                    <a:pt x="977" y="3211"/>
                  </a:lnTo>
                  <a:lnTo>
                    <a:pt x="988" y="3214"/>
                  </a:lnTo>
                  <a:lnTo>
                    <a:pt x="999" y="3216"/>
                  </a:lnTo>
                  <a:lnTo>
                    <a:pt x="1021" y="3219"/>
                  </a:lnTo>
                  <a:lnTo>
                    <a:pt x="1043" y="3221"/>
                  </a:lnTo>
                  <a:lnTo>
                    <a:pt x="1067" y="3222"/>
                  </a:lnTo>
                  <a:lnTo>
                    <a:pt x="1089" y="3222"/>
                  </a:lnTo>
                  <a:lnTo>
                    <a:pt x="1113" y="3222"/>
                  </a:lnTo>
                  <a:lnTo>
                    <a:pt x="1137" y="3221"/>
                  </a:lnTo>
                  <a:lnTo>
                    <a:pt x="1160" y="3219"/>
                  </a:lnTo>
                  <a:lnTo>
                    <a:pt x="1184" y="3215"/>
                  </a:lnTo>
                  <a:lnTo>
                    <a:pt x="1208" y="3211"/>
                  </a:lnTo>
                  <a:lnTo>
                    <a:pt x="1233" y="3206"/>
                  </a:lnTo>
                  <a:lnTo>
                    <a:pt x="1257" y="3200"/>
                  </a:lnTo>
                  <a:lnTo>
                    <a:pt x="1280" y="3192"/>
                  </a:lnTo>
                  <a:lnTo>
                    <a:pt x="1305" y="3185"/>
                  </a:lnTo>
                  <a:lnTo>
                    <a:pt x="1329" y="3177"/>
                  </a:lnTo>
                  <a:lnTo>
                    <a:pt x="1353" y="3167"/>
                  </a:lnTo>
                  <a:lnTo>
                    <a:pt x="1378" y="3157"/>
                  </a:lnTo>
                  <a:lnTo>
                    <a:pt x="1402" y="3146"/>
                  </a:lnTo>
                  <a:lnTo>
                    <a:pt x="1425" y="3135"/>
                  </a:lnTo>
                  <a:lnTo>
                    <a:pt x="1448" y="3122"/>
                  </a:lnTo>
                  <a:lnTo>
                    <a:pt x="1472" y="3110"/>
                  </a:lnTo>
                  <a:lnTo>
                    <a:pt x="1494" y="3096"/>
                  </a:lnTo>
                  <a:lnTo>
                    <a:pt x="1517" y="3081"/>
                  </a:lnTo>
                  <a:lnTo>
                    <a:pt x="1539" y="3066"/>
                  </a:lnTo>
                  <a:lnTo>
                    <a:pt x="1560" y="3050"/>
                  </a:lnTo>
                  <a:lnTo>
                    <a:pt x="1581" y="3032"/>
                  </a:lnTo>
                  <a:lnTo>
                    <a:pt x="1603" y="3015"/>
                  </a:lnTo>
                  <a:lnTo>
                    <a:pt x="1623" y="2997"/>
                  </a:lnTo>
                  <a:lnTo>
                    <a:pt x="1641" y="2980"/>
                  </a:lnTo>
                  <a:lnTo>
                    <a:pt x="1659" y="2962"/>
                  </a:lnTo>
                  <a:lnTo>
                    <a:pt x="1676" y="2944"/>
                  </a:lnTo>
                  <a:lnTo>
                    <a:pt x="1693" y="2925"/>
                  </a:lnTo>
                  <a:lnTo>
                    <a:pt x="1710" y="2905"/>
                  </a:lnTo>
                  <a:lnTo>
                    <a:pt x="1725" y="2886"/>
                  </a:lnTo>
                  <a:lnTo>
                    <a:pt x="1741" y="2865"/>
                  </a:lnTo>
                  <a:lnTo>
                    <a:pt x="1756" y="2845"/>
                  </a:lnTo>
                  <a:lnTo>
                    <a:pt x="1771" y="2824"/>
                  </a:lnTo>
                  <a:lnTo>
                    <a:pt x="1786" y="2802"/>
                  </a:lnTo>
                  <a:lnTo>
                    <a:pt x="1800" y="2781"/>
                  </a:lnTo>
                  <a:lnTo>
                    <a:pt x="1814" y="2759"/>
                  </a:lnTo>
                  <a:lnTo>
                    <a:pt x="1828" y="2736"/>
                  </a:lnTo>
                  <a:lnTo>
                    <a:pt x="1841" y="2714"/>
                  </a:lnTo>
                  <a:lnTo>
                    <a:pt x="1854" y="2691"/>
                  </a:lnTo>
                  <a:lnTo>
                    <a:pt x="1866" y="2667"/>
                  </a:lnTo>
                  <a:lnTo>
                    <a:pt x="1879" y="2645"/>
                  </a:lnTo>
                  <a:lnTo>
                    <a:pt x="1890" y="2621"/>
                  </a:lnTo>
                  <a:lnTo>
                    <a:pt x="1903" y="2597"/>
                  </a:lnTo>
                  <a:lnTo>
                    <a:pt x="1914" y="2574"/>
                  </a:lnTo>
                  <a:lnTo>
                    <a:pt x="1925" y="2550"/>
                  </a:lnTo>
                  <a:lnTo>
                    <a:pt x="1935" y="2525"/>
                  </a:lnTo>
                  <a:lnTo>
                    <a:pt x="1946" y="2501"/>
                  </a:lnTo>
                  <a:lnTo>
                    <a:pt x="1956" y="2477"/>
                  </a:lnTo>
                  <a:lnTo>
                    <a:pt x="1966" y="2452"/>
                  </a:lnTo>
                  <a:lnTo>
                    <a:pt x="1976" y="2429"/>
                  </a:lnTo>
                  <a:lnTo>
                    <a:pt x="1986" y="2405"/>
                  </a:lnTo>
                  <a:lnTo>
                    <a:pt x="2007" y="2350"/>
                  </a:lnTo>
                  <a:lnTo>
                    <a:pt x="2029" y="2296"/>
                  </a:lnTo>
                  <a:lnTo>
                    <a:pt x="2047" y="2243"/>
                  </a:lnTo>
                  <a:lnTo>
                    <a:pt x="2067" y="2189"/>
                  </a:lnTo>
                  <a:lnTo>
                    <a:pt x="2085" y="2135"/>
                  </a:lnTo>
                  <a:lnTo>
                    <a:pt x="2102" y="2083"/>
                  </a:lnTo>
                  <a:lnTo>
                    <a:pt x="2120" y="2029"/>
                  </a:lnTo>
                  <a:lnTo>
                    <a:pt x="2137" y="1975"/>
                  </a:lnTo>
                  <a:lnTo>
                    <a:pt x="2154" y="1921"/>
                  </a:lnTo>
                  <a:lnTo>
                    <a:pt x="2169" y="1868"/>
                  </a:lnTo>
                  <a:lnTo>
                    <a:pt x="2185" y="1814"/>
                  </a:lnTo>
                  <a:lnTo>
                    <a:pt x="2200" y="1760"/>
                  </a:lnTo>
                  <a:lnTo>
                    <a:pt x="2215" y="1705"/>
                  </a:lnTo>
                  <a:lnTo>
                    <a:pt x="2230" y="1651"/>
                  </a:lnTo>
                  <a:lnTo>
                    <a:pt x="2245" y="1596"/>
                  </a:lnTo>
                  <a:lnTo>
                    <a:pt x="2260" y="1541"/>
                  </a:lnTo>
                  <a:lnTo>
                    <a:pt x="2275" y="1486"/>
                  </a:lnTo>
                  <a:lnTo>
                    <a:pt x="2290" y="1431"/>
                  </a:lnTo>
                  <a:lnTo>
                    <a:pt x="2305" y="1375"/>
                  </a:lnTo>
                  <a:lnTo>
                    <a:pt x="2320" y="1319"/>
                  </a:lnTo>
                  <a:lnTo>
                    <a:pt x="2336" y="1263"/>
                  </a:lnTo>
                  <a:lnTo>
                    <a:pt x="2351" y="1205"/>
                  </a:lnTo>
                  <a:lnTo>
                    <a:pt x="2368" y="1148"/>
                  </a:lnTo>
                  <a:lnTo>
                    <a:pt x="2385" y="1090"/>
                  </a:lnTo>
                  <a:lnTo>
                    <a:pt x="2402" y="1031"/>
                  </a:lnTo>
                  <a:lnTo>
                    <a:pt x="2406" y="1021"/>
                  </a:lnTo>
                  <a:lnTo>
                    <a:pt x="2408" y="1010"/>
                  </a:lnTo>
                  <a:lnTo>
                    <a:pt x="2412" y="999"/>
                  </a:lnTo>
                  <a:lnTo>
                    <a:pt x="2415" y="989"/>
                  </a:lnTo>
                  <a:lnTo>
                    <a:pt x="2418" y="978"/>
                  </a:lnTo>
                  <a:lnTo>
                    <a:pt x="2422" y="967"/>
                  </a:lnTo>
                  <a:lnTo>
                    <a:pt x="2425" y="957"/>
                  </a:lnTo>
                  <a:lnTo>
                    <a:pt x="2428" y="945"/>
                  </a:lnTo>
                  <a:lnTo>
                    <a:pt x="2432" y="934"/>
                  </a:lnTo>
                  <a:lnTo>
                    <a:pt x="2435" y="923"/>
                  </a:lnTo>
                  <a:lnTo>
                    <a:pt x="2438" y="913"/>
                  </a:lnTo>
                  <a:lnTo>
                    <a:pt x="2441" y="902"/>
                  </a:lnTo>
                  <a:lnTo>
                    <a:pt x="2445" y="890"/>
                  </a:lnTo>
                  <a:lnTo>
                    <a:pt x="2447" y="880"/>
                  </a:lnTo>
                  <a:lnTo>
                    <a:pt x="2451" y="869"/>
                  </a:lnTo>
                  <a:lnTo>
                    <a:pt x="2453" y="858"/>
                  </a:lnTo>
                  <a:lnTo>
                    <a:pt x="2457" y="848"/>
                  </a:lnTo>
                  <a:lnTo>
                    <a:pt x="2460" y="837"/>
                  </a:lnTo>
                  <a:lnTo>
                    <a:pt x="2463" y="825"/>
                  </a:lnTo>
                  <a:lnTo>
                    <a:pt x="2466" y="815"/>
                  </a:lnTo>
                  <a:lnTo>
                    <a:pt x="2468" y="804"/>
                  </a:lnTo>
                  <a:lnTo>
                    <a:pt x="2471" y="794"/>
                  </a:lnTo>
                  <a:lnTo>
                    <a:pt x="2473" y="783"/>
                  </a:lnTo>
                  <a:lnTo>
                    <a:pt x="2476" y="773"/>
                  </a:lnTo>
                  <a:lnTo>
                    <a:pt x="2478" y="762"/>
                  </a:lnTo>
                  <a:lnTo>
                    <a:pt x="2481" y="752"/>
                  </a:lnTo>
                  <a:lnTo>
                    <a:pt x="2483" y="742"/>
                  </a:lnTo>
                  <a:lnTo>
                    <a:pt x="2486" y="730"/>
                  </a:lnTo>
                  <a:lnTo>
                    <a:pt x="2488" y="720"/>
                  </a:lnTo>
                  <a:lnTo>
                    <a:pt x="2490" y="710"/>
                  </a:lnTo>
                  <a:lnTo>
                    <a:pt x="2492" y="699"/>
                  </a:lnTo>
                  <a:lnTo>
                    <a:pt x="2495" y="689"/>
                  </a:lnTo>
                  <a:lnTo>
                    <a:pt x="2496" y="679"/>
                  </a:lnTo>
                  <a:lnTo>
                    <a:pt x="2497" y="669"/>
                  </a:lnTo>
                  <a:lnTo>
                    <a:pt x="2498" y="659"/>
                  </a:lnTo>
                  <a:lnTo>
                    <a:pt x="2500" y="649"/>
                  </a:lnTo>
                  <a:lnTo>
                    <a:pt x="2501" y="639"/>
                  </a:lnTo>
                  <a:lnTo>
                    <a:pt x="2502" y="629"/>
                  </a:lnTo>
                  <a:lnTo>
                    <a:pt x="2503" y="619"/>
                  </a:lnTo>
                  <a:lnTo>
                    <a:pt x="2505" y="609"/>
                  </a:lnTo>
                  <a:lnTo>
                    <a:pt x="2505" y="600"/>
                  </a:lnTo>
                  <a:lnTo>
                    <a:pt x="2506" y="590"/>
                  </a:lnTo>
                  <a:lnTo>
                    <a:pt x="2506" y="580"/>
                  </a:lnTo>
                  <a:lnTo>
                    <a:pt x="2506" y="572"/>
                  </a:lnTo>
                  <a:lnTo>
                    <a:pt x="2506" y="562"/>
                  </a:lnTo>
                  <a:lnTo>
                    <a:pt x="2506" y="553"/>
                  </a:lnTo>
                  <a:lnTo>
                    <a:pt x="2506" y="543"/>
                  </a:lnTo>
                  <a:lnTo>
                    <a:pt x="2503" y="509"/>
                  </a:lnTo>
                  <a:lnTo>
                    <a:pt x="2498" y="475"/>
                  </a:lnTo>
                  <a:lnTo>
                    <a:pt x="2491" y="443"/>
                  </a:lnTo>
                  <a:lnTo>
                    <a:pt x="2481" y="413"/>
                  </a:lnTo>
                  <a:lnTo>
                    <a:pt x="2468" y="383"/>
                  </a:lnTo>
                  <a:lnTo>
                    <a:pt x="2455" y="354"/>
                  </a:lnTo>
                  <a:lnTo>
                    <a:pt x="2438" y="328"/>
                  </a:lnTo>
                  <a:lnTo>
                    <a:pt x="2420" y="302"/>
                  </a:lnTo>
                  <a:lnTo>
                    <a:pt x="2398" y="278"/>
                  </a:lnTo>
                  <a:lnTo>
                    <a:pt x="2376" y="254"/>
                  </a:lnTo>
                  <a:lnTo>
                    <a:pt x="2351" y="232"/>
                  </a:lnTo>
                  <a:lnTo>
                    <a:pt x="2325" y="210"/>
                  </a:lnTo>
                  <a:lnTo>
                    <a:pt x="2297" y="190"/>
                  </a:lnTo>
                  <a:lnTo>
                    <a:pt x="2267" y="172"/>
                  </a:lnTo>
                  <a:lnTo>
                    <a:pt x="2236" y="154"/>
                  </a:lnTo>
                  <a:lnTo>
                    <a:pt x="2204" y="138"/>
                  </a:lnTo>
                  <a:lnTo>
                    <a:pt x="2169" y="122"/>
                  </a:lnTo>
                  <a:lnTo>
                    <a:pt x="2134" y="108"/>
                  </a:lnTo>
                  <a:lnTo>
                    <a:pt x="2096" y="94"/>
                  </a:lnTo>
                  <a:lnTo>
                    <a:pt x="2059" y="82"/>
                  </a:lnTo>
                  <a:lnTo>
                    <a:pt x="2019" y="70"/>
                  </a:lnTo>
                  <a:lnTo>
                    <a:pt x="1979" y="59"/>
                  </a:lnTo>
                  <a:lnTo>
                    <a:pt x="1937" y="49"/>
                  </a:lnTo>
                  <a:lnTo>
                    <a:pt x="1895" y="40"/>
                  </a:lnTo>
                  <a:lnTo>
                    <a:pt x="1851" y="33"/>
                  </a:lnTo>
                  <a:lnTo>
                    <a:pt x="1808" y="27"/>
                  </a:lnTo>
                  <a:lnTo>
                    <a:pt x="1763" y="20"/>
                  </a:lnTo>
                  <a:lnTo>
                    <a:pt x="1718" y="15"/>
                  </a:lnTo>
                  <a:lnTo>
                    <a:pt x="1671" y="10"/>
                  </a:lnTo>
                  <a:lnTo>
                    <a:pt x="1625" y="7"/>
                  </a:lnTo>
                  <a:lnTo>
                    <a:pt x="1578" y="4"/>
                  </a:lnTo>
                  <a:lnTo>
                    <a:pt x="1530" y="3"/>
                  </a:lnTo>
                  <a:lnTo>
                    <a:pt x="1483" y="2"/>
                  </a:lnTo>
                  <a:lnTo>
                    <a:pt x="1434" y="0"/>
                  </a:lnTo>
                  <a:lnTo>
                    <a:pt x="1387" y="2"/>
                  </a:lnTo>
                  <a:lnTo>
                    <a:pt x="1338" y="2"/>
                  </a:lnTo>
                  <a:lnTo>
                    <a:pt x="1290" y="4"/>
                  </a:lnTo>
                  <a:lnTo>
                    <a:pt x="1242" y="7"/>
                  </a:lnTo>
                  <a:lnTo>
                    <a:pt x="1194" y="9"/>
                  </a:lnTo>
                  <a:lnTo>
                    <a:pt x="1146" y="13"/>
                  </a:lnTo>
                  <a:lnTo>
                    <a:pt x="1098" y="17"/>
                  </a:lnTo>
                  <a:lnTo>
                    <a:pt x="1052" y="22"/>
                  </a:lnTo>
                  <a:lnTo>
                    <a:pt x="1004" y="28"/>
                  </a:lnTo>
                  <a:lnTo>
                    <a:pt x="958" y="33"/>
                  </a:lnTo>
                  <a:lnTo>
                    <a:pt x="912" y="40"/>
                  </a:lnTo>
                  <a:lnTo>
                    <a:pt x="867" y="47"/>
                  </a:lnTo>
                  <a:lnTo>
                    <a:pt x="822" y="54"/>
                  </a:lnTo>
                  <a:lnTo>
                    <a:pt x="789" y="60"/>
                  </a:lnTo>
                  <a:lnTo>
                    <a:pt x="757" y="67"/>
                  </a:lnTo>
                  <a:lnTo>
                    <a:pt x="726" y="73"/>
                  </a:lnTo>
                  <a:lnTo>
                    <a:pt x="695" y="80"/>
                  </a:lnTo>
                  <a:lnTo>
                    <a:pt x="663" y="88"/>
                  </a:lnTo>
                  <a:lnTo>
                    <a:pt x="633" y="95"/>
                  </a:lnTo>
                  <a:lnTo>
                    <a:pt x="603" y="103"/>
                  </a:lnTo>
                  <a:lnTo>
                    <a:pt x="575" y="112"/>
                  </a:lnTo>
                  <a:lnTo>
                    <a:pt x="546" y="120"/>
                  </a:lnTo>
                  <a:lnTo>
                    <a:pt x="517" y="130"/>
                  </a:lnTo>
                  <a:lnTo>
                    <a:pt x="490" y="140"/>
                  </a:lnTo>
                  <a:lnTo>
                    <a:pt x="463" y="150"/>
                  </a:lnTo>
                  <a:lnTo>
                    <a:pt x="437" y="162"/>
                  </a:lnTo>
                  <a:lnTo>
                    <a:pt x="412" y="173"/>
                  </a:lnTo>
                  <a:lnTo>
                    <a:pt x="387" y="185"/>
                  </a:lnTo>
                  <a:lnTo>
                    <a:pt x="364" y="198"/>
                  </a:lnTo>
                  <a:lnTo>
                    <a:pt x="340" y="210"/>
                  </a:lnTo>
                  <a:lnTo>
                    <a:pt x="317" y="225"/>
                  </a:lnTo>
                  <a:lnTo>
                    <a:pt x="296" y="239"/>
                  </a:lnTo>
                  <a:lnTo>
                    <a:pt x="275" y="254"/>
                  </a:lnTo>
                  <a:lnTo>
                    <a:pt x="255" y="270"/>
                  </a:lnTo>
                  <a:lnTo>
                    <a:pt x="236" y="288"/>
                  </a:lnTo>
                  <a:lnTo>
                    <a:pt x="217" y="305"/>
                  </a:lnTo>
                  <a:lnTo>
                    <a:pt x="200" y="323"/>
                  </a:lnTo>
                  <a:lnTo>
                    <a:pt x="184" y="342"/>
                  </a:lnTo>
                  <a:lnTo>
                    <a:pt x="169" y="362"/>
                  </a:lnTo>
                  <a:lnTo>
                    <a:pt x="154" y="383"/>
                  </a:lnTo>
                  <a:lnTo>
                    <a:pt x="140" y="404"/>
                  </a:lnTo>
                  <a:lnTo>
                    <a:pt x="127" y="427"/>
                  </a:lnTo>
                  <a:lnTo>
                    <a:pt x="116" y="450"/>
                  </a:lnTo>
                </a:path>
              </a:pathLst>
            </a:custGeom>
            <a:noFill/>
            <a:ln w="22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626280" y="1530360"/>
            <a:ext cx="170928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u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Continent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278400" y="2130480"/>
            <a:ext cx="1762200" cy="2280960"/>
            <a:chOff x="6278400" y="2130480"/>
            <a:chExt cx="1762200" cy="2280960"/>
          </a:xfrm>
        </p:grpSpPr>
        <p:grpSp>
          <p:nvGrpSpPr>
            <p:cNvPr id="1069" name=""/>
            <p:cNvGrpSpPr/>
            <p:nvPr/>
          </p:nvGrpSpPr>
          <p:grpSpPr>
            <a:xfrm>
              <a:off x="6278400" y="2130480"/>
              <a:ext cx="1754280" cy="2280960"/>
              <a:chOff x="6278400" y="2130480"/>
              <a:chExt cx="1754280" cy="2280960"/>
            </a:xfrm>
          </p:grpSpPr>
          <p:sp>
            <p:nvSpPr>
              <p:cNvPr id="1070" name=""/>
              <p:cNvSpPr/>
              <p:nvPr/>
            </p:nvSpPr>
            <p:spPr>
              <a:xfrm>
                <a:off x="7380000" y="3298320"/>
                <a:ext cx="648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65800" y="3079440"/>
                <a:ext cx="20880" cy="4680"/>
              </a:xfrm>
              <a:custGeom>
                <a:avLst/>
                <a:gdLst/>
                <a:ahLst/>
                <a:rect l="l" t="t" r="r" b="b"/>
                <a:pathLst>
                  <a:path w="56" h="14">
                    <a:moveTo>
                      <a:pt x="0" y="5"/>
                    </a:moveTo>
                    <a:lnTo>
                      <a:pt x="16" y="14"/>
                    </a:lnTo>
                    <a:lnTo>
                      <a:pt x="34" y="3"/>
                    </a:lnTo>
                    <a:lnTo>
                      <a:pt x="48" y="0"/>
                    </a:lnTo>
                    <a:lnTo>
                      <a:pt x="5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85600" y="29264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0"/>
                    </a:moveTo>
                    <a:lnTo>
                      <a:pt x="14" y="17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88840" y="3075480"/>
                <a:ext cx="9000" cy="13680"/>
              </a:xfrm>
              <a:custGeom>
                <a:avLst/>
                <a:gdLst/>
                <a:ahLst/>
                <a:rect l="l" t="t" r="r" b="b"/>
                <a:pathLst>
                  <a:path w="25" h="43">
                    <a:moveTo>
                      <a:pt x="0" y="0"/>
                    </a:moveTo>
                    <a:lnTo>
                      <a:pt x="25" y="17"/>
                    </a:lnTo>
                    <a:lnTo>
                      <a:pt x="21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206840" y="309636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35" h="37">
                    <a:moveTo>
                      <a:pt x="0" y="0"/>
                    </a:moveTo>
                    <a:lnTo>
                      <a:pt x="31" y="14"/>
                    </a:lnTo>
                    <a:lnTo>
                      <a:pt x="3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227720" y="3107520"/>
                <a:ext cx="648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36720" y="3123360"/>
                <a:ext cx="10800" cy="1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55440" y="313416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25" y="9"/>
                    </a:lnTo>
                    <a:lnTo>
                      <a:pt x="1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77760" y="3138480"/>
                <a:ext cx="6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92160" y="314424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14"/>
                    </a:moveTo>
                    <a:lnTo>
                      <a:pt x="13" y="0"/>
                    </a:lnTo>
                    <a:lnTo>
                      <a:pt x="4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124400" y="31111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7" h="35">
                    <a:moveTo>
                      <a:pt x="57" y="0"/>
                    </a:moveTo>
                    <a:lnTo>
                      <a:pt x="52" y="8"/>
                    </a:lnTo>
                    <a:lnTo>
                      <a:pt x="48" y="14"/>
                    </a:lnTo>
                    <a:lnTo>
                      <a:pt x="42" y="18"/>
                    </a:lnTo>
                    <a:lnTo>
                      <a:pt x="34" y="24"/>
                    </a:lnTo>
                    <a:lnTo>
                      <a:pt x="23" y="28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483600" y="2676600"/>
                <a:ext cx="775080" cy="440640"/>
              </a:xfrm>
              <a:custGeom>
                <a:avLst/>
                <a:gdLst/>
                <a:ahLst/>
                <a:rect l="l" t="t" r="r" b="b"/>
                <a:pathLst>
                  <a:path w="2094" h="1329">
                    <a:moveTo>
                      <a:pt x="1544" y="505"/>
                    </a:moveTo>
                    <a:lnTo>
                      <a:pt x="1570" y="514"/>
                    </a:lnTo>
                    <a:lnTo>
                      <a:pt x="1613" y="503"/>
                    </a:lnTo>
                    <a:lnTo>
                      <a:pt x="1694" y="441"/>
                    </a:lnTo>
                    <a:lnTo>
                      <a:pt x="1707" y="421"/>
                    </a:lnTo>
                    <a:lnTo>
                      <a:pt x="1707" y="421"/>
                    </a:lnTo>
                    <a:lnTo>
                      <a:pt x="1695" y="405"/>
                    </a:lnTo>
                    <a:lnTo>
                      <a:pt x="1695" y="405"/>
                    </a:lnTo>
                    <a:lnTo>
                      <a:pt x="1712" y="395"/>
                    </a:lnTo>
                    <a:lnTo>
                      <a:pt x="1753" y="391"/>
                    </a:lnTo>
                    <a:lnTo>
                      <a:pt x="1795" y="370"/>
                    </a:lnTo>
                    <a:lnTo>
                      <a:pt x="1787" y="345"/>
                    </a:lnTo>
                    <a:lnTo>
                      <a:pt x="1789" y="328"/>
                    </a:lnTo>
                    <a:lnTo>
                      <a:pt x="1789" y="328"/>
                    </a:lnTo>
                    <a:lnTo>
                      <a:pt x="1822" y="286"/>
                    </a:lnTo>
                    <a:lnTo>
                      <a:pt x="1931" y="254"/>
                    </a:lnTo>
                    <a:lnTo>
                      <a:pt x="1945" y="235"/>
                    </a:lnTo>
                    <a:lnTo>
                      <a:pt x="1964" y="227"/>
                    </a:lnTo>
                    <a:lnTo>
                      <a:pt x="1963" y="140"/>
                    </a:lnTo>
                    <a:lnTo>
                      <a:pt x="1969" y="114"/>
                    </a:lnTo>
                    <a:lnTo>
                      <a:pt x="1978" y="112"/>
                    </a:lnTo>
                    <a:lnTo>
                      <a:pt x="1988" y="117"/>
                    </a:lnTo>
                    <a:lnTo>
                      <a:pt x="1998" y="114"/>
                    </a:lnTo>
                    <a:lnTo>
                      <a:pt x="2004" y="103"/>
                    </a:lnTo>
                    <a:lnTo>
                      <a:pt x="2025" y="112"/>
                    </a:lnTo>
                    <a:lnTo>
                      <a:pt x="2056" y="177"/>
                    </a:lnTo>
                    <a:lnTo>
                      <a:pt x="2076" y="195"/>
                    </a:lnTo>
                    <a:lnTo>
                      <a:pt x="2089" y="193"/>
                    </a:lnTo>
                    <a:lnTo>
                      <a:pt x="2089" y="192"/>
                    </a:lnTo>
                    <a:lnTo>
                      <a:pt x="2094" y="208"/>
                    </a:lnTo>
                    <a:lnTo>
                      <a:pt x="2081" y="227"/>
                    </a:lnTo>
                    <a:lnTo>
                      <a:pt x="2050" y="255"/>
                    </a:lnTo>
                    <a:lnTo>
                      <a:pt x="2039" y="251"/>
                    </a:lnTo>
                    <a:lnTo>
                      <a:pt x="2034" y="274"/>
                    </a:lnTo>
                    <a:lnTo>
                      <a:pt x="2001" y="304"/>
                    </a:lnTo>
                    <a:lnTo>
                      <a:pt x="2004" y="311"/>
                    </a:lnTo>
                    <a:lnTo>
                      <a:pt x="1994" y="350"/>
                    </a:lnTo>
                    <a:lnTo>
                      <a:pt x="2000" y="361"/>
                    </a:lnTo>
                    <a:lnTo>
                      <a:pt x="1995" y="375"/>
                    </a:lnTo>
                    <a:lnTo>
                      <a:pt x="2009" y="380"/>
                    </a:lnTo>
                    <a:lnTo>
                      <a:pt x="2021" y="399"/>
                    </a:lnTo>
                    <a:lnTo>
                      <a:pt x="2040" y="394"/>
                    </a:lnTo>
                    <a:lnTo>
                      <a:pt x="2035" y="381"/>
                    </a:lnTo>
                    <a:lnTo>
                      <a:pt x="2041" y="399"/>
                    </a:lnTo>
                    <a:lnTo>
                      <a:pt x="2020" y="414"/>
                    </a:lnTo>
                    <a:lnTo>
                      <a:pt x="2016" y="405"/>
                    </a:lnTo>
                    <a:lnTo>
                      <a:pt x="2004" y="419"/>
                    </a:lnTo>
                    <a:lnTo>
                      <a:pt x="1991" y="408"/>
                    </a:lnTo>
                    <a:lnTo>
                      <a:pt x="1990" y="426"/>
                    </a:lnTo>
                    <a:lnTo>
                      <a:pt x="1975" y="440"/>
                    </a:lnTo>
                    <a:lnTo>
                      <a:pt x="1938" y="451"/>
                    </a:lnTo>
                    <a:lnTo>
                      <a:pt x="1906" y="480"/>
                    </a:lnTo>
                    <a:lnTo>
                      <a:pt x="1898" y="500"/>
                    </a:lnTo>
                    <a:lnTo>
                      <a:pt x="1913" y="505"/>
                    </a:lnTo>
                    <a:lnTo>
                      <a:pt x="1906" y="559"/>
                    </a:lnTo>
                    <a:lnTo>
                      <a:pt x="1890" y="580"/>
                    </a:lnTo>
                    <a:lnTo>
                      <a:pt x="1878" y="565"/>
                    </a:lnTo>
                    <a:lnTo>
                      <a:pt x="1863" y="560"/>
                    </a:lnTo>
                    <a:lnTo>
                      <a:pt x="1875" y="584"/>
                    </a:lnTo>
                    <a:lnTo>
                      <a:pt x="1898" y="609"/>
                    </a:lnTo>
                    <a:lnTo>
                      <a:pt x="1883" y="646"/>
                    </a:lnTo>
                    <a:lnTo>
                      <a:pt x="1881" y="673"/>
                    </a:lnTo>
                    <a:lnTo>
                      <a:pt x="1873" y="679"/>
                    </a:lnTo>
                    <a:lnTo>
                      <a:pt x="1876" y="636"/>
                    </a:lnTo>
                    <a:lnTo>
                      <a:pt x="1864" y="638"/>
                    </a:lnTo>
                    <a:lnTo>
                      <a:pt x="1864" y="625"/>
                    </a:lnTo>
                    <a:lnTo>
                      <a:pt x="1847" y="620"/>
                    </a:lnTo>
                    <a:lnTo>
                      <a:pt x="1847" y="564"/>
                    </a:lnTo>
                    <a:lnTo>
                      <a:pt x="1833" y="576"/>
                    </a:lnTo>
                    <a:lnTo>
                      <a:pt x="1829" y="594"/>
                    </a:lnTo>
                    <a:lnTo>
                      <a:pt x="1845" y="633"/>
                    </a:lnTo>
                    <a:lnTo>
                      <a:pt x="1825" y="633"/>
                    </a:lnTo>
                    <a:lnTo>
                      <a:pt x="1852" y="645"/>
                    </a:lnTo>
                    <a:lnTo>
                      <a:pt x="1857" y="683"/>
                    </a:lnTo>
                    <a:lnTo>
                      <a:pt x="1876" y="696"/>
                    </a:lnTo>
                    <a:lnTo>
                      <a:pt x="1894" y="730"/>
                    </a:lnTo>
                    <a:lnTo>
                      <a:pt x="1908" y="745"/>
                    </a:lnTo>
                    <a:lnTo>
                      <a:pt x="1894" y="730"/>
                    </a:lnTo>
                    <a:lnTo>
                      <a:pt x="1883" y="729"/>
                    </a:lnTo>
                    <a:lnTo>
                      <a:pt x="1857" y="746"/>
                    </a:lnTo>
                    <a:lnTo>
                      <a:pt x="1891" y="739"/>
                    </a:lnTo>
                    <a:lnTo>
                      <a:pt x="1896" y="756"/>
                    </a:lnTo>
                    <a:lnTo>
                      <a:pt x="1891" y="770"/>
                    </a:lnTo>
                    <a:lnTo>
                      <a:pt x="1879" y="773"/>
                    </a:lnTo>
                    <a:lnTo>
                      <a:pt x="1863" y="793"/>
                    </a:lnTo>
                    <a:lnTo>
                      <a:pt x="1883" y="789"/>
                    </a:lnTo>
                    <a:lnTo>
                      <a:pt x="1875" y="804"/>
                    </a:lnTo>
                    <a:lnTo>
                      <a:pt x="1852" y="813"/>
                    </a:lnTo>
                    <a:lnTo>
                      <a:pt x="1823" y="851"/>
                    </a:lnTo>
                    <a:lnTo>
                      <a:pt x="1789" y="875"/>
                    </a:lnTo>
                    <a:lnTo>
                      <a:pt x="1770" y="914"/>
                    </a:lnTo>
                    <a:lnTo>
                      <a:pt x="1715" y="971"/>
                    </a:lnTo>
                    <a:lnTo>
                      <a:pt x="1702" y="1024"/>
                    </a:lnTo>
                    <a:lnTo>
                      <a:pt x="1715" y="1074"/>
                    </a:lnTo>
                    <a:lnTo>
                      <a:pt x="1740" y="1120"/>
                    </a:lnTo>
                    <a:lnTo>
                      <a:pt x="1759" y="1143"/>
                    </a:lnTo>
                    <a:lnTo>
                      <a:pt x="1762" y="1160"/>
                    </a:lnTo>
                    <a:lnTo>
                      <a:pt x="1793" y="1214"/>
                    </a:lnTo>
                    <a:lnTo>
                      <a:pt x="1797" y="1273"/>
                    </a:lnTo>
                    <a:lnTo>
                      <a:pt x="1789" y="1300"/>
                    </a:lnTo>
                    <a:lnTo>
                      <a:pt x="1778" y="1309"/>
                    </a:lnTo>
                    <a:lnTo>
                      <a:pt x="1759" y="1315"/>
                    </a:lnTo>
                    <a:lnTo>
                      <a:pt x="1750" y="1296"/>
                    </a:lnTo>
                    <a:lnTo>
                      <a:pt x="1728" y="1281"/>
                    </a:lnTo>
                    <a:lnTo>
                      <a:pt x="1700" y="1240"/>
                    </a:lnTo>
                    <a:lnTo>
                      <a:pt x="1683" y="1224"/>
                    </a:lnTo>
                    <a:lnTo>
                      <a:pt x="1678" y="1209"/>
                    </a:lnTo>
                    <a:lnTo>
                      <a:pt x="1682" y="1183"/>
                    </a:lnTo>
                    <a:lnTo>
                      <a:pt x="1668" y="1189"/>
                    </a:lnTo>
                    <a:lnTo>
                      <a:pt x="1668" y="1150"/>
                    </a:lnTo>
                    <a:lnTo>
                      <a:pt x="1657" y="1128"/>
                    </a:lnTo>
                    <a:lnTo>
                      <a:pt x="1645" y="1124"/>
                    </a:lnTo>
                    <a:lnTo>
                      <a:pt x="1622" y="1098"/>
                    </a:lnTo>
                    <a:lnTo>
                      <a:pt x="1602" y="1083"/>
                    </a:lnTo>
                    <a:lnTo>
                      <a:pt x="1544" y="1110"/>
                    </a:lnTo>
                    <a:lnTo>
                      <a:pt x="1534" y="1090"/>
                    </a:lnTo>
                    <a:lnTo>
                      <a:pt x="1512" y="1086"/>
                    </a:lnTo>
                    <a:lnTo>
                      <a:pt x="1495" y="1074"/>
                    </a:lnTo>
                    <a:lnTo>
                      <a:pt x="1432" y="1088"/>
                    </a:lnTo>
                    <a:lnTo>
                      <a:pt x="1422" y="1071"/>
                    </a:lnTo>
                    <a:lnTo>
                      <a:pt x="1413" y="1086"/>
                    </a:lnTo>
                    <a:lnTo>
                      <a:pt x="1372" y="1084"/>
                    </a:lnTo>
                    <a:lnTo>
                      <a:pt x="1352" y="1098"/>
                    </a:lnTo>
                    <a:lnTo>
                      <a:pt x="1328" y="1088"/>
                    </a:lnTo>
                    <a:lnTo>
                      <a:pt x="1319" y="1109"/>
                    </a:lnTo>
                    <a:lnTo>
                      <a:pt x="1334" y="1113"/>
                    </a:lnTo>
                    <a:lnTo>
                      <a:pt x="1371" y="1106"/>
                    </a:lnTo>
                    <a:lnTo>
                      <a:pt x="1368" y="1118"/>
                    </a:lnTo>
                    <a:lnTo>
                      <a:pt x="1357" y="1128"/>
                    </a:lnTo>
                    <a:lnTo>
                      <a:pt x="1358" y="1135"/>
                    </a:lnTo>
                    <a:lnTo>
                      <a:pt x="1381" y="1150"/>
                    </a:lnTo>
                    <a:lnTo>
                      <a:pt x="1374" y="1158"/>
                    </a:lnTo>
                    <a:lnTo>
                      <a:pt x="1363" y="1148"/>
                    </a:lnTo>
                    <a:lnTo>
                      <a:pt x="1347" y="1144"/>
                    </a:lnTo>
                    <a:lnTo>
                      <a:pt x="1333" y="1154"/>
                    </a:lnTo>
                    <a:lnTo>
                      <a:pt x="1308" y="1160"/>
                    </a:lnTo>
                    <a:lnTo>
                      <a:pt x="1284" y="1156"/>
                    </a:lnTo>
                    <a:lnTo>
                      <a:pt x="1281" y="1140"/>
                    </a:lnTo>
                    <a:lnTo>
                      <a:pt x="1258" y="1124"/>
                    </a:lnTo>
                    <a:lnTo>
                      <a:pt x="1239" y="1138"/>
                    </a:lnTo>
                    <a:lnTo>
                      <a:pt x="1196" y="1128"/>
                    </a:lnTo>
                    <a:lnTo>
                      <a:pt x="1171" y="1133"/>
                    </a:lnTo>
                    <a:lnTo>
                      <a:pt x="1131" y="1149"/>
                    </a:lnTo>
                    <a:lnTo>
                      <a:pt x="1131" y="1129"/>
                    </a:lnTo>
                    <a:lnTo>
                      <a:pt x="1116" y="1138"/>
                    </a:lnTo>
                    <a:lnTo>
                      <a:pt x="1127" y="1158"/>
                    </a:lnTo>
                    <a:lnTo>
                      <a:pt x="1097" y="1183"/>
                    </a:lnTo>
                    <a:lnTo>
                      <a:pt x="1076" y="1188"/>
                    </a:lnTo>
                    <a:lnTo>
                      <a:pt x="1017" y="1239"/>
                    </a:lnTo>
                    <a:lnTo>
                      <a:pt x="1013" y="1263"/>
                    </a:lnTo>
                    <a:lnTo>
                      <a:pt x="1021" y="1289"/>
                    </a:lnTo>
                    <a:lnTo>
                      <a:pt x="1028" y="1329"/>
                    </a:lnTo>
                    <a:lnTo>
                      <a:pt x="1028" y="1329"/>
                    </a:lnTo>
                    <a:lnTo>
                      <a:pt x="976" y="1319"/>
                    </a:lnTo>
                    <a:lnTo>
                      <a:pt x="938" y="1301"/>
                    </a:lnTo>
                    <a:lnTo>
                      <a:pt x="925" y="1275"/>
                    </a:lnTo>
                    <a:lnTo>
                      <a:pt x="915" y="1248"/>
                    </a:lnTo>
                    <a:lnTo>
                      <a:pt x="881" y="1203"/>
                    </a:lnTo>
                    <a:lnTo>
                      <a:pt x="865" y="1163"/>
                    </a:lnTo>
                    <a:lnTo>
                      <a:pt x="837" y="1133"/>
                    </a:lnTo>
                    <a:lnTo>
                      <a:pt x="825" y="1126"/>
                    </a:lnTo>
                    <a:lnTo>
                      <a:pt x="783" y="1126"/>
                    </a:lnTo>
                    <a:lnTo>
                      <a:pt x="758" y="1161"/>
                    </a:lnTo>
                    <a:lnTo>
                      <a:pt x="746" y="1166"/>
                    </a:lnTo>
                    <a:lnTo>
                      <a:pt x="733" y="1160"/>
                    </a:lnTo>
                    <a:lnTo>
                      <a:pt x="695" y="1121"/>
                    </a:lnTo>
                    <a:lnTo>
                      <a:pt x="684" y="1078"/>
                    </a:lnTo>
                    <a:lnTo>
                      <a:pt x="655" y="1050"/>
                    </a:lnTo>
                    <a:lnTo>
                      <a:pt x="627" y="1018"/>
                    </a:lnTo>
                    <a:lnTo>
                      <a:pt x="550" y="1009"/>
                    </a:lnTo>
                    <a:lnTo>
                      <a:pt x="545" y="1024"/>
                    </a:lnTo>
                    <a:lnTo>
                      <a:pt x="532" y="1028"/>
                    </a:lnTo>
                    <a:lnTo>
                      <a:pt x="426" y="1018"/>
                    </a:lnTo>
                    <a:lnTo>
                      <a:pt x="303" y="941"/>
                    </a:lnTo>
                    <a:lnTo>
                      <a:pt x="271" y="918"/>
                    </a:lnTo>
                    <a:lnTo>
                      <a:pt x="180" y="908"/>
                    </a:lnTo>
                    <a:lnTo>
                      <a:pt x="180" y="908"/>
                    </a:lnTo>
                    <a:lnTo>
                      <a:pt x="173" y="855"/>
                    </a:lnTo>
                    <a:lnTo>
                      <a:pt x="155" y="831"/>
                    </a:lnTo>
                    <a:lnTo>
                      <a:pt x="141" y="829"/>
                    </a:lnTo>
                    <a:lnTo>
                      <a:pt x="143" y="810"/>
                    </a:lnTo>
                    <a:lnTo>
                      <a:pt x="129" y="808"/>
                    </a:lnTo>
                    <a:lnTo>
                      <a:pt x="60" y="761"/>
                    </a:lnTo>
                    <a:lnTo>
                      <a:pt x="66" y="735"/>
                    </a:lnTo>
                    <a:lnTo>
                      <a:pt x="45" y="676"/>
                    </a:lnTo>
                    <a:lnTo>
                      <a:pt x="30" y="653"/>
                    </a:lnTo>
                    <a:lnTo>
                      <a:pt x="43" y="619"/>
                    </a:lnTo>
                    <a:lnTo>
                      <a:pt x="30" y="614"/>
                    </a:lnTo>
                    <a:lnTo>
                      <a:pt x="25" y="594"/>
                    </a:lnTo>
                    <a:lnTo>
                      <a:pt x="29" y="571"/>
                    </a:lnTo>
                    <a:lnTo>
                      <a:pt x="41" y="590"/>
                    </a:lnTo>
                    <a:lnTo>
                      <a:pt x="38" y="565"/>
                    </a:lnTo>
                    <a:lnTo>
                      <a:pt x="45" y="559"/>
                    </a:lnTo>
                    <a:lnTo>
                      <a:pt x="35" y="550"/>
                    </a:lnTo>
                    <a:lnTo>
                      <a:pt x="31" y="564"/>
                    </a:lnTo>
                    <a:lnTo>
                      <a:pt x="13" y="551"/>
                    </a:lnTo>
                    <a:lnTo>
                      <a:pt x="23" y="536"/>
                    </a:lnTo>
                    <a:lnTo>
                      <a:pt x="1" y="496"/>
                    </a:lnTo>
                    <a:lnTo>
                      <a:pt x="11" y="456"/>
                    </a:lnTo>
                    <a:lnTo>
                      <a:pt x="0" y="418"/>
                    </a:lnTo>
                    <a:lnTo>
                      <a:pt x="33" y="359"/>
                    </a:lnTo>
                    <a:lnTo>
                      <a:pt x="33" y="311"/>
                    </a:lnTo>
                    <a:lnTo>
                      <a:pt x="39" y="284"/>
                    </a:lnTo>
                    <a:lnTo>
                      <a:pt x="75" y="232"/>
                    </a:lnTo>
                    <a:lnTo>
                      <a:pt x="98" y="182"/>
                    </a:lnTo>
                    <a:lnTo>
                      <a:pt x="110" y="163"/>
                    </a:lnTo>
                    <a:lnTo>
                      <a:pt x="120" y="125"/>
                    </a:lnTo>
                    <a:lnTo>
                      <a:pt x="145" y="135"/>
                    </a:lnTo>
                    <a:lnTo>
                      <a:pt x="124" y="117"/>
                    </a:lnTo>
                    <a:lnTo>
                      <a:pt x="131" y="82"/>
                    </a:lnTo>
                    <a:lnTo>
                      <a:pt x="133" y="14"/>
                    </a:lnTo>
                    <a:lnTo>
                      <a:pt x="141" y="3"/>
                    </a:lnTo>
                    <a:lnTo>
                      <a:pt x="161" y="27"/>
                    </a:lnTo>
                    <a:lnTo>
                      <a:pt x="183" y="35"/>
                    </a:lnTo>
                    <a:lnTo>
                      <a:pt x="195" y="55"/>
                    </a:lnTo>
                    <a:lnTo>
                      <a:pt x="175" y="70"/>
                    </a:lnTo>
                    <a:lnTo>
                      <a:pt x="193" y="68"/>
                    </a:lnTo>
                    <a:lnTo>
                      <a:pt x="191" y="77"/>
                    </a:lnTo>
                    <a:lnTo>
                      <a:pt x="208" y="55"/>
                    </a:lnTo>
                    <a:lnTo>
                      <a:pt x="205" y="30"/>
                    </a:lnTo>
                    <a:lnTo>
                      <a:pt x="214" y="24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409" y="74"/>
                    </a:lnTo>
                    <a:lnTo>
                      <a:pt x="626" y="128"/>
                    </a:lnTo>
                    <a:lnTo>
                      <a:pt x="798" y="157"/>
                    </a:lnTo>
                    <a:lnTo>
                      <a:pt x="965" y="173"/>
                    </a:lnTo>
                    <a:lnTo>
                      <a:pt x="1096" y="177"/>
                    </a:lnTo>
                    <a:lnTo>
                      <a:pt x="1109" y="155"/>
                    </a:lnTo>
                    <a:lnTo>
                      <a:pt x="1122" y="183"/>
                    </a:lnTo>
                    <a:lnTo>
                      <a:pt x="1132" y="189"/>
                    </a:lnTo>
                    <a:lnTo>
                      <a:pt x="1162" y="195"/>
                    </a:lnTo>
                    <a:lnTo>
                      <a:pt x="1183" y="193"/>
                    </a:lnTo>
                    <a:lnTo>
                      <a:pt x="1233" y="220"/>
                    </a:lnTo>
                    <a:lnTo>
                      <a:pt x="1243" y="215"/>
                    </a:lnTo>
                    <a:lnTo>
                      <a:pt x="1284" y="220"/>
                    </a:lnTo>
                    <a:lnTo>
                      <a:pt x="1284" y="220"/>
                    </a:lnTo>
                    <a:lnTo>
                      <a:pt x="1263" y="238"/>
                    </a:lnTo>
                    <a:lnTo>
                      <a:pt x="1212" y="289"/>
                    </a:lnTo>
                    <a:lnTo>
                      <a:pt x="1228" y="289"/>
                    </a:lnTo>
                    <a:lnTo>
                      <a:pt x="1252" y="275"/>
                    </a:lnTo>
                    <a:lnTo>
                      <a:pt x="1268" y="295"/>
                    </a:lnTo>
                    <a:lnTo>
                      <a:pt x="1318" y="266"/>
                    </a:lnTo>
                    <a:lnTo>
                      <a:pt x="1341" y="245"/>
                    </a:lnTo>
                    <a:lnTo>
                      <a:pt x="1358" y="243"/>
                    </a:lnTo>
                    <a:lnTo>
                      <a:pt x="1337" y="261"/>
                    </a:lnTo>
                    <a:lnTo>
                      <a:pt x="1338" y="278"/>
                    </a:lnTo>
                    <a:lnTo>
                      <a:pt x="1362" y="271"/>
                    </a:lnTo>
                    <a:lnTo>
                      <a:pt x="1377" y="291"/>
                    </a:lnTo>
                    <a:lnTo>
                      <a:pt x="1401" y="288"/>
                    </a:lnTo>
                    <a:lnTo>
                      <a:pt x="1428" y="273"/>
                    </a:lnTo>
                    <a:lnTo>
                      <a:pt x="1456" y="265"/>
                    </a:lnTo>
                    <a:lnTo>
                      <a:pt x="1457" y="278"/>
                    </a:lnTo>
                    <a:lnTo>
                      <a:pt x="1476" y="275"/>
                    </a:lnTo>
                    <a:lnTo>
                      <a:pt x="1476" y="275"/>
                    </a:lnTo>
                    <a:lnTo>
                      <a:pt x="1489" y="286"/>
                    </a:lnTo>
                    <a:lnTo>
                      <a:pt x="1488" y="286"/>
                    </a:lnTo>
                    <a:lnTo>
                      <a:pt x="1495" y="301"/>
                    </a:lnTo>
                    <a:lnTo>
                      <a:pt x="1452" y="304"/>
                    </a:lnTo>
                    <a:lnTo>
                      <a:pt x="1393" y="324"/>
                    </a:lnTo>
                    <a:lnTo>
                      <a:pt x="1363" y="384"/>
                    </a:lnTo>
                    <a:lnTo>
                      <a:pt x="1388" y="365"/>
                    </a:lnTo>
                    <a:lnTo>
                      <a:pt x="1372" y="453"/>
                    </a:lnTo>
                    <a:lnTo>
                      <a:pt x="1378" y="503"/>
                    </a:lnTo>
                    <a:lnTo>
                      <a:pt x="1394" y="526"/>
                    </a:lnTo>
                    <a:lnTo>
                      <a:pt x="1409" y="525"/>
                    </a:lnTo>
                    <a:lnTo>
                      <a:pt x="1426" y="514"/>
                    </a:lnTo>
                    <a:lnTo>
                      <a:pt x="1432" y="498"/>
                    </a:lnTo>
                    <a:lnTo>
                      <a:pt x="1434" y="468"/>
                    </a:lnTo>
                    <a:lnTo>
                      <a:pt x="1419" y="404"/>
                    </a:lnTo>
                    <a:lnTo>
                      <a:pt x="1428" y="360"/>
                    </a:lnTo>
                    <a:lnTo>
                      <a:pt x="1453" y="345"/>
                    </a:lnTo>
                    <a:lnTo>
                      <a:pt x="1463" y="319"/>
                    </a:lnTo>
                    <a:lnTo>
                      <a:pt x="1481" y="315"/>
                    </a:lnTo>
                    <a:lnTo>
                      <a:pt x="1514" y="328"/>
                    </a:lnTo>
                    <a:lnTo>
                      <a:pt x="1527" y="344"/>
                    </a:lnTo>
                    <a:lnTo>
                      <a:pt x="1530" y="373"/>
                    </a:lnTo>
                    <a:lnTo>
                      <a:pt x="1515" y="399"/>
                    </a:lnTo>
                    <a:lnTo>
                      <a:pt x="1519" y="416"/>
                    </a:lnTo>
                    <a:lnTo>
                      <a:pt x="1532" y="398"/>
                    </a:lnTo>
                    <a:lnTo>
                      <a:pt x="1547" y="386"/>
                    </a:lnTo>
                    <a:lnTo>
                      <a:pt x="1574" y="433"/>
                    </a:lnTo>
                    <a:lnTo>
                      <a:pt x="1574" y="434"/>
                    </a:lnTo>
                    <a:lnTo>
                      <a:pt x="1557" y="491"/>
                    </a:lnTo>
                    <a:lnTo>
                      <a:pt x="1557" y="490"/>
                    </a:lnTo>
                    <a:lnTo>
                      <a:pt x="1544" y="5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07000" y="2292480"/>
                <a:ext cx="829440" cy="547200"/>
              </a:xfrm>
              <a:custGeom>
                <a:avLst/>
                <a:gdLst/>
                <a:ahLst/>
                <a:rect l="l" t="t" r="r" b="b"/>
                <a:pathLst>
                  <a:path w="2240" h="1649">
                    <a:moveTo>
                      <a:pt x="328" y="0"/>
                    </a:moveTo>
                    <a:lnTo>
                      <a:pt x="347" y="20"/>
                    </a:lnTo>
                    <a:lnTo>
                      <a:pt x="355" y="70"/>
                    </a:lnTo>
                    <a:lnTo>
                      <a:pt x="363" y="95"/>
                    </a:lnTo>
                    <a:lnTo>
                      <a:pt x="380" y="80"/>
                    </a:lnTo>
                    <a:lnTo>
                      <a:pt x="400" y="75"/>
                    </a:lnTo>
                    <a:lnTo>
                      <a:pt x="417" y="83"/>
                    </a:lnTo>
                    <a:lnTo>
                      <a:pt x="422" y="100"/>
                    </a:lnTo>
                    <a:lnTo>
                      <a:pt x="442" y="97"/>
                    </a:lnTo>
                    <a:lnTo>
                      <a:pt x="498" y="100"/>
                    </a:lnTo>
                    <a:lnTo>
                      <a:pt x="492" y="121"/>
                    </a:lnTo>
                    <a:lnTo>
                      <a:pt x="510" y="123"/>
                    </a:lnTo>
                    <a:lnTo>
                      <a:pt x="532" y="103"/>
                    </a:lnTo>
                    <a:lnTo>
                      <a:pt x="538" y="137"/>
                    </a:lnTo>
                    <a:lnTo>
                      <a:pt x="532" y="163"/>
                    </a:lnTo>
                    <a:lnTo>
                      <a:pt x="542" y="178"/>
                    </a:lnTo>
                    <a:lnTo>
                      <a:pt x="570" y="160"/>
                    </a:lnTo>
                    <a:lnTo>
                      <a:pt x="557" y="186"/>
                    </a:lnTo>
                    <a:lnTo>
                      <a:pt x="568" y="196"/>
                    </a:lnTo>
                    <a:lnTo>
                      <a:pt x="588" y="178"/>
                    </a:lnTo>
                    <a:lnTo>
                      <a:pt x="613" y="192"/>
                    </a:lnTo>
                    <a:lnTo>
                      <a:pt x="623" y="217"/>
                    </a:lnTo>
                    <a:lnTo>
                      <a:pt x="642" y="238"/>
                    </a:lnTo>
                    <a:lnTo>
                      <a:pt x="660" y="258"/>
                    </a:lnTo>
                    <a:lnTo>
                      <a:pt x="684" y="270"/>
                    </a:lnTo>
                    <a:lnTo>
                      <a:pt x="703" y="291"/>
                    </a:lnTo>
                    <a:lnTo>
                      <a:pt x="706" y="313"/>
                    </a:lnTo>
                    <a:lnTo>
                      <a:pt x="686" y="313"/>
                    </a:lnTo>
                    <a:lnTo>
                      <a:pt x="674" y="328"/>
                    </a:lnTo>
                    <a:lnTo>
                      <a:pt x="697" y="336"/>
                    </a:lnTo>
                    <a:lnTo>
                      <a:pt x="716" y="350"/>
                    </a:lnTo>
                    <a:lnTo>
                      <a:pt x="769" y="350"/>
                    </a:lnTo>
                    <a:lnTo>
                      <a:pt x="804" y="378"/>
                    </a:lnTo>
                    <a:lnTo>
                      <a:pt x="816" y="360"/>
                    </a:lnTo>
                    <a:lnTo>
                      <a:pt x="797" y="343"/>
                    </a:lnTo>
                    <a:lnTo>
                      <a:pt x="813" y="330"/>
                    </a:lnTo>
                    <a:lnTo>
                      <a:pt x="863" y="325"/>
                    </a:lnTo>
                    <a:lnTo>
                      <a:pt x="878" y="353"/>
                    </a:lnTo>
                    <a:lnTo>
                      <a:pt x="928" y="392"/>
                    </a:lnTo>
                    <a:lnTo>
                      <a:pt x="958" y="405"/>
                    </a:lnTo>
                    <a:lnTo>
                      <a:pt x="983" y="402"/>
                    </a:lnTo>
                    <a:lnTo>
                      <a:pt x="987" y="372"/>
                    </a:lnTo>
                    <a:lnTo>
                      <a:pt x="1001" y="357"/>
                    </a:lnTo>
                    <a:lnTo>
                      <a:pt x="974" y="333"/>
                    </a:lnTo>
                    <a:lnTo>
                      <a:pt x="993" y="318"/>
                    </a:lnTo>
                    <a:lnTo>
                      <a:pt x="1007" y="296"/>
                    </a:lnTo>
                    <a:lnTo>
                      <a:pt x="1032" y="322"/>
                    </a:lnTo>
                    <a:lnTo>
                      <a:pt x="1045" y="351"/>
                    </a:lnTo>
                    <a:lnTo>
                      <a:pt x="1021" y="368"/>
                    </a:lnTo>
                    <a:lnTo>
                      <a:pt x="1021" y="397"/>
                    </a:lnTo>
                    <a:lnTo>
                      <a:pt x="1039" y="412"/>
                    </a:lnTo>
                    <a:lnTo>
                      <a:pt x="1045" y="390"/>
                    </a:lnTo>
                    <a:lnTo>
                      <a:pt x="1052" y="388"/>
                    </a:lnTo>
                    <a:lnTo>
                      <a:pt x="1069" y="363"/>
                    </a:lnTo>
                    <a:lnTo>
                      <a:pt x="1063" y="338"/>
                    </a:lnTo>
                    <a:lnTo>
                      <a:pt x="1074" y="318"/>
                    </a:lnTo>
                    <a:lnTo>
                      <a:pt x="1045" y="297"/>
                    </a:lnTo>
                    <a:lnTo>
                      <a:pt x="1029" y="267"/>
                    </a:lnTo>
                    <a:lnTo>
                      <a:pt x="1045" y="213"/>
                    </a:lnTo>
                    <a:lnTo>
                      <a:pt x="1058" y="201"/>
                    </a:lnTo>
                    <a:lnTo>
                      <a:pt x="1060" y="156"/>
                    </a:lnTo>
                    <a:lnTo>
                      <a:pt x="1052" y="111"/>
                    </a:lnTo>
                    <a:lnTo>
                      <a:pt x="1058" y="90"/>
                    </a:lnTo>
                    <a:lnTo>
                      <a:pt x="1087" y="81"/>
                    </a:lnTo>
                    <a:lnTo>
                      <a:pt x="1129" y="97"/>
                    </a:lnTo>
                    <a:lnTo>
                      <a:pt x="1107" y="152"/>
                    </a:lnTo>
                    <a:lnTo>
                      <a:pt x="1088" y="152"/>
                    </a:lnTo>
                    <a:lnTo>
                      <a:pt x="1075" y="160"/>
                    </a:lnTo>
                    <a:lnTo>
                      <a:pt x="1083" y="177"/>
                    </a:lnTo>
                    <a:lnTo>
                      <a:pt x="1073" y="193"/>
                    </a:lnTo>
                    <a:lnTo>
                      <a:pt x="1120" y="280"/>
                    </a:lnTo>
                    <a:lnTo>
                      <a:pt x="1102" y="302"/>
                    </a:lnTo>
                    <a:lnTo>
                      <a:pt x="1123" y="312"/>
                    </a:lnTo>
                    <a:lnTo>
                      <a:pt x="1150" y="357"/>
                    </a:lnTo>
                    <a:lnTo>
                      <a:pt x="1167" y="323"/>
                    </a:lnTo>
                    <a:lnTo>
                      <a:pt x="1185" y="346"/>
                    </a:lnTo>
                    <a:lnTo>
                      <a:pt x="1187" y="391"/>
                    </a:lnTo>
                    <a:lnTo>
                      <a:pt x="1207" y="418"/>
                    </a:lnTo>
                    <a:lnTo>
                      <a:pt x="1219" y="410"/>
                    </a:lnTo>
                    <a:lnTo>
                      <a:pt x="1218" y="388"/>
                    </a:lnTo>
                    <a:lnTo>
                      <a:pt x="1237" y="370"/>
                    </a:lnTo>
                    <a:lnTo>
                      <a:pt x="1223" y="287"/>
                    </a:lnTo>
                    <a:lnTo>
                      <a:pt x="1244" y="285"/>
                    </a:lnTo>
                    <a:lnTo>
                      <a:pt x="1269" y="287"/>
                    </a:lnTo>
                    <a:lnTo>
                      <a:pt x="1274" y="305"/>
                    </a:lnTo>
                    <a:lnTo>
                      <a:pt x="1300" y="306"/>
                    </a:lnTo>
                    <a:lnTo>
                      <a:pt x="1307" y="336"/>
                    </a:lnTo>
                    <a:lnTo>
                      <a:pt x="1289" y="352"/>
                    </a:lnTo>
                    <a:lnTo>
                      <a:pt x="1294" y="377"/>
                    </a:lnTo>
                    <a:lnTo>
                      <a:pt x="1320" y="385"/>
                    </a:lnTo>
                    <a:lnTo>
                      <a:pt x="1323" y="415"/>
                    </a:lnTo>
                    <a:lnTo>
                      <a:pt x="1283" y="463"/>
                    </a:lnTo>
                    <a:lnTo>
                      <a:pt x="1255" y="458"/>
                    </a:lnTo>
                    <a:lnTo>
                      <a:pt x="1244" y="448"/>
                    </a:lnTo>
                    <a:lnTo>
                      <a:pt x="1220" y="455"/>
                    </a:lnTo>
                    <a:lnTo>
                      <a:pt x="1238" y="470"/>
                    </a:lnTo>
                    <a:lnTo>
                      <a:pt x="1220" y="505"/>
                    </a:lnTo>
                    <a:lnTo>
                      <a:pt x="1224" y="530"/>
                    </a:lnTo>
                    <a:lnTo>
                      <a:pt x="1195" y="582"/>
                    </a:lnTo>
                    <a:lnTo>
                      <a:pt x="1163" y="585"/>
                    </a:lnTo>
                    <a:lnTo>
                      <a:pt x="1150" y="615"/>
                    </a:lnTo>
                    <a:lnTo>
                      <a:pt x="1154" y="638"/>
                    </a:lnTo>
                    <a:lnTo>
                      <a:pt x="1110" y="657"/>
                    </a:lnTo>
                    <a:lnTo>
                      <a:pt x="1110" y="682"/>
                    </a:lnTo>
                    <a:lnTo>
                      <a:pt x="1094" y="691"/>
                    </a:lnTo>
                    <a:lnTo>
                      <a:pt x="1070" y="737"/>
                    </a:lnTo>
                    <a:lnTo>
                      <a:pt x="1058" y="777"/>
                    </a:lnTo>
                    <a:lnTo>
                      <a:pt x="1055" y="832"/>
                    </a:lnTo>
                    <a:lnTo>
                      <a:pt x="1064" y="853"/>
                    </a:lnTo>
                    <a:lnTo>
                      <a:pt x="1082" y="848"/>
                    </a:lnTo>
                    <a:lnTo>
                      <a:pt x="1099" y="853"/>
                    </a:lnTo>
                    <a:lnTo>
                      <a:pt x="1112" y="881"/>
                    </a:lnTo>
                    <a:lnTo>
                      <a:pt x="1112" y="902"/>
                    </a:lnTo>
                    <a:lnTo>
                      <a:pt x="1120" y="922"/>
                    </a:lnTo>
                    <a:lnTo>
                      <a:pt x="1123" y="940"/>
                    </a:lnTo>
                    <a:lnTo>
                      <a:pt x="1158" y="921"/>
                    </a:lnTo>
                    <a:lnTo>
                      <a:pt x="1242" y="956"/>
                    </a:lnTo>
                    <a:lnTo>
                      <a:pt x="1260" y="976"/>
                    </a:lnTo>
                    <a:lnTo>
                      <a:pt x="1304" y="987"/>
                    </a:lnTo>
                    <a:lnTo>
                      <a:pt x="1335" y="1005"/>
                    </a:lnTo>
                    <a:lnTo>
                      <a:pt x="1393" y="996"/>
                    </a:lnTo>
                    <a:lnTo>
                      <a:pt x="1418" y="1005"/>
                    </a:lnTo>
                    <a:lnTo>
                      <a:pt x="1418" y="1042"/>
                    </a:lnTo>
                    <a:lnTo>
                      <a:pt x="1429" y="1061"/>
                    </a:lnTo>
                    <a:lnTo>
                      <a:pt x="1431" y="1107"/>
                    </a:lnTo>
                    <a:lnTo>
                      <a:pt x="1491" y="1155"/>
                    </a:lnTo>
                    <a:lnTo>
                      <a:pt x="1505" y="1173"/>
                    </a:lnTo>
                    <a:lnTo>
                      <a:pt x="1529" y="1186"/>
                    </a:lnTo>
                    <a:lnTo>
                      <a:pt x="1523" y="1171"/>
                    </a:lnTo>
                    <a:lnTo>
                      <a:pt x="1545" y="1148"/>
                    </a:lnTo>
                    <a:lnTo>
                      <a:pt x="1556" y="1121"/>
                    </a:lnTo>
                    <a:lnTo>
                      <a:pt x="1539" y="1100"/>
                    </a:lnTo>
                    <a:lnTo>
                      <a:pt x="1524" y="1047"/>
                    </a:lnTo>
                    <a:lnTo>
                      <a:pt x="1499" y="1010"/>
                    </a:lnTo>
                    <a:lnTo>
                      <a:pt x="1535" y="972"/>
                    </a:lnTo>
                    <a:lnTo>
                      <a:pt x="1558" y="922"/>
                    </a:lnTo>
                    <a:lnTo>
                      <a:pt x="1550" y="890"/>
                    </a:lnTo>
                    <a:lnTo>
                      <a:pt x="1510" y="820"/>
                    </a:lnTo>
                    <a:lnTo>
                      <a:pt x="1493" y="815"/>
                    </a:lnTo>
                    <a:lnTo>
                      <a:pt x="1474" y="802"/>
                    </a:lnTo>
                    <a:lnTo>
                      <a:pt x="1473" y="786"/>
                    </a:lnTo>
                    <a:lnTo>
                      <a:pt x="1488" y="776"/>
                    </a:lnTo>
                    <a:lnTo>
                      <a:pt x="1495" y="753"/>
                    </a:lnTo>
                    <a:lnTo>
                      <a:pt x="1480" y="710"/>
                    </a:lnTo>
                    <a:lnTo>
                      <a:pt x="1464" y="701"/>
                    </a:lnTo>
                    <a:lnTo>
                      <a:pt x="1468" y="657"/>
                    </a:lnTo>
                    <a:lnTo>
                      <a:pt x="1450" y="648"/>
                    </a:lnTo>
                    <a:lnTo>
                      <a:pt x="1445" y="628"/>
                    </a:lnTo>
                    <a:lnTo>
                      <a:pt x="1458" y="613"/>
                    </a:lnTo>
                    <a:lnTo>
                      <a:pt x="1505" y="613"/>
                    </a:lnTo>
                    <a:lnTo>
                      <a:pt x="1543" y="591"/>
                    </a:lnTo>
                    <a:lnTo>
                      <a:pt x="1605" y="615"/>
                    </a:lnTo>
                    <a:lnTo>
                      <a:pt x="1606" y="633"/>
                    </a:lnTo>
                    <a:lnTo>
                      <a:pt x="1629" y="637"/>
                    </a:lnTo>
                    <a:lnTo>
                      <a:pt x="1664" y="628"/>
                    </a:lnTo>
                    <a:lnTo>
                      <a:pt x="1668" y="650"/>
                    </a:lnTo>
                    <a:lnTo>
                      <a:pt x="1681" y="667"/>
                    </a:lnTo>
                    <a:lnTo>
                      <a:pt x="1694" y="707"/>
                    </a:lnTo>
                    <a:lnTo>
                      <a:pt x="1714" y="722"/>
                    </a:lnTo>
                    <a:lnTo>
                      <a:pt x="1730" y="720"/>
                    </a:lnTo>
                    <a:lnTo>
                      <a:pt x="1758" y="741"/>
                    </a:lnTo>
                    <a:lnTo>
                      <a:pt x="1776" y="717"/>
                    </a:lnTo>
                    <a:lnTo>
                      <a:pt x="1778" y="700"/>
                    </a:lnTo>
                    <a:lnTo>
                      <a:pt x="1790" y="680"/>
                    </a:lnTo>
                    <a:lnTo>
                      <a:pt x="1793" y="656"/>
                    </a:lnTo>
                    <a:lnTo>
                      <a:pt x="1776" y="643"/>
                    </a:lnTo>
                    <a:lnTo>
                      <a:pt x="1784" y="607"/>
                    </a:lnTo>
                    <a:lnTo>
                      <a:pt x="1892" y="687"/>
                    </a:lnTo>
                    <a:lnTo>
                      <a:pt x="1912" y="696"/>
                    </a:lnTo>
                    <a:lnTo>
                      <a:pt x="1920" y="710"/>
                    </a:lnTo>
                    <a:lnTo>
                      <a:pt x="1937" y="716"/>
                    </a:lnTo>
                    <a:lnTo>
                      <a:pt x="1936" y="736"/>
                    </a:lnTo>
                    <a:lnTo>
                      <a:pt x="1949" y="760"/>
                    </a:lnTo>
                    <a:lnTo>
                      <a:pt x="1965" y="768"/>
                    </a:lnTo>
                    <a:lnTo>
                      <a:pt x="1994" y="768"/>
                    </a:lnTo>
                    <a:lnTo>
                      <a:pt x="2007" y="786"/>
                    </a:lnTo>
                    <a:lnTo>
                      <a:pt x="2037" y="773"/>
                    </a:lnTo>
                    <a:lnTo>
                      <a:pt x="2052" y="783"/>
                    </a:lnTo>
                    <a:lnTo>
                      <a:pt x="2080" y="775"/>
                    </a:lnTo>
                    <a:lnTo>
                      <a:pt x="2099" y="777"/>
                    </a:lnTo>
                    <a:lnTo>
                      <a:pt x="2086" y="806"/>
                    </a:lnTo>
                    <a:lnTo>
                      <a:pt x="2114" y="793"/>
                    </a:lnTo>
                    <a:lnTo>
                      <a:pt x="2126" y="811"/>
                    </a:lnTo>
                    <a:lnTo>
                      <a:pt x="2145" y="800"/>
                    </a:lnTo>
                    <a:lnTo>
                      <a:pt x="2176" y="811"/>
                    </a:lnTo>
                    <a:lnTo>
                      <a:pt x="2182" y="832"/>
                    </a:lnTo>
                    <a:lnTo>
                      <a:pt x="2208" y="856"/>
                    </a:lnTo>
                    <a:lnTo>
                      <a:pt x="2193" y="902"/>
                    </a:lnTo>
                    <a:lnTo>
                      <a:pt x="2169" y="922"/>
                    </a:lnTo>
                    <a:lnTo>
                      <a:pt x="2151" y="947"/>
                    </a:lnTo>
                    <a:lnTo>
                      <a:pt x="2139" y="1015"/>
                    </a:lnTo>
                    <a:lnTo>
                      <a:pt x="2092" y="1042"/>
                    </a:lnTo>
                    <a:lnTo>
                      <a:pt x="2074" y="1042"/>
                    </a:lnTo>
                    <a:lnTo>
                      <a:pt x="2019" y="1065"/>
                    </a:lnTo>
                    <a:lnTo>
                      <a:pt x="1961" y="1093"/>
                    </a:lnTo>
                    <a:lnTo>
                      <a:pt x="1942" y="1111"/>
                    </a:lnTo>
                    <a:lnTo>
                      <a:pt x="1936" y="1132"/>
                    </a:lnTo>
                    <a:lnTo>
                      <a:pt x="1937" y="1153"/>
                    </a:lnTo>
                    <a:lnTo>
                      <a:pt x="1917" y="1161"/>
                    </a:lnTo>
                    <a:lnTo>
                      <a:pt x="1892" y="1212"/>
                    </a:lnTo>
                    <a:lnTo>
                      <a:pt x="1857" y="1317"/>
                    </a:lnTo>
                    <a:lnTo>
                      <a:pt x="1877" y="1301"/>
                    </a:lnTo>
                    <a:lnTo>
                      <a:pt x="1900" y="1235"/>
                    </a:lnTo>
                    <a:lnTo>
                      <a:pt x="1912" y="1213"/>
                    </a:lnTo>
                    <a:lnTo>
                      <a:pt x="1961" y="1158"/>
                    </a:lnTo>
                    <a:lnTo>
                      <a:pt x="2002" y="1132"/>
                    </a:lnTo>
                    <a:lnTo>
                      <a:pt x="2026" y="1131"/>
                    </a:lnTo>
                    <a:lnTo>
                      <a:pt x="2042" y="1138"/>
                    </a:lnTo>
                    <a:lnTo>
                      <a:pt x="2049" y="1153"/>
                    </a:lnTo>
                    <a:lnTo>
                      <a:pt x="2024" y="1188"/>
                    </a:lnTo>
                    <a:lnTo>
                      <a:pt x="1992" y="1201"/>
                    </a:lnTo>
                    <a:lnTo>
                      <a:pt x="2024" y="1217"/>
                    </a:lnTo>
                    <a:lnTo>
                      <a:pt x="2045" y="1198"/>
                    </a:lnTo>
                    <a:lnTo>
                      <a:pt x="2049" y="1220"/>
                    </a:lnTo>
                    <a:lnTo>
                      <a:pt x="2062" y="1246"/>
                    </a:lnTo>
                    <a:lnTo>
                      <a:pt x="2082" y="1266"/>
                    </a:lnTo>
                    <a:lnTo>
                      <a:pt x="2136" y="1271"/>
                    </a:lnTo>
                    <a:lnTo>
                      <a:pt x="2159" y="1266"/>
                    </a:lnTo>
                    <a:lnTo>
                      <a:pt x="2175" y="1248"/>
                    </a:lnTo>
                    <a:lnTo>
                      <a:pt x="2192" y="1246"/>
                    </a:lnTo>
                    <a:lnTo>
                      <a:pt x="2184" y="1226"/>
                    </a:lnTo>
                    <a:lnTo>
                      <a:pt x="2192" y="1173"/>
                    </a:lnTo>
                    <a:lnTo>
                      <a:pt x="2202" y="1177"/>
                    </a:lnTo>
                    <a:lnTo>
                      <a:pt x="2212" y="1203"/>
                    </a:lnTo>
                    <a:lnTo>
                      <a:pt x="2240" y="1207"/>
                    </a:lnTo>
                    <a:lnTo>
                      <a:pt x="2230" y="1232"/>
                    </a:lnTo>
                    <a:lnTo>
                      <a:pt x="2213" y="1251"/>
                    </a:lnTo>
                    <a:lnTo>
                      <a:pt x="2215" y="1270"/>
                    </a:lnTo>
                    <a:lnTo>
                      <a:pt x="2149" y="1337"/>
                    </a:lnTo>
                    <a:lnTo>
                      <a:pt x="2131" y="1345"/>
                    </a:lnTo>
                    <a:lnTo>
                      <a:pt x="2126" y="1365"/>
                    </a:lnTo>
                    <a:lnTo>
                      <a:pt x="2105" y="1411"/>
                    </a:lnTo>
                    <a:lnTo>
                      <a:pt x="2082" y="1406"/>
                    </a:lnTo>
                    <a:lnTo>
                      <a:pt x="2070" y="1387"/>
                    </a:lnTo>
                    <a:lnTo>
                      <a:pt x="2071" y="1365"/>
                    </a:lnTo>
                    <a:lnTo>
                      <a:pt x="2111" y="1301"/>
                    </a:lnTo>
                    <a:lnTo>
                      <a:pt x="2090" y="1315"/>
                    </a:lnTo>
                    <a:lnTo>
                      <a:pt x="2086" y="1297"/>
                    </a:lnTo>
                    <a:lnTo>
                      <a:pt x="2069" y="1323"/>
                    </a:lnTo>
                    <a:lnTo>
                      <a:pt x="2049" y="1340"/>
                    </a:lnTo>
                    <a:lnTo>
                      <a:pt x="2025" y="1350"/>
                    </a:lnTo>
                    <a:lnTo>
                      <a:pt x="2025" y="1351"/>
                    </a:lnTo>
                    <a:lnTo>
                      <a:pt x="2012" y="1353"/>
                    </a:lnTo>
                    <a:lnTo>
                      <a:pt x="1992" y="1335"/>
                    </a:lnTo>
                    <a:lnTo>
                      <a:pt x="1961" y="1270"/>
                    </a:lnTo>
                    <a:lnTo>
                      <a:pt x="1940" y="1261"/>
                    </a:lnTo>
                    <a:lnTo>
                      <a:pt x="1934" y="1272"/>
                    </a:lnTo>
                    <a:lnTo>
                      <a:pt x="1924" y="1275"/>
                    </a:lnTo>
                    <a:lnTo>
                      <a:pt x="1914" y="1270"/>
                    </a:lnTo>
                    <a:lnTo>
                      <a:pt x="1905" y="1272"/>
                    </a:lnTo>
                    <a:lnTo>
                      <a:pt x="1899" y="1298"/>
                    </a:lnTo>
                    <a:lnTo>
                      <a:pt x="1900" y="1385"/>
                    </a:lnTo>
                    <a:lnTo>
                      <a:pt x="1881" y="1393"/>
                    </a:lnTo>
                    <a:lnTo>
                      <a:pt x="1867" y="1412"/>
                    </a:lnTo>
                    <a:lnTo>
                      <a:pt x="1758" y="1444"/>
                    </a:lnTo>
                    <a:lnTo>
                      <a:pt x="1725" y="1486"/>
                    </a:lnTo>
                    <a:lnTo>
                      <a:pt x="1725" y="1486"/>
                    </a:lnTo>
                    <a:lnTo>
                      <a:pt x="1706" y="1498"/>
                    </a:lnTo>
                    <a:lnTo>
                      <a:pt x="1698" y="1513"/>
                    </a:lnTo>
                    <a:lnTo>
                      <a:pt x="1673" y="1516"/>
                    </a:lnTo>
                    <a:lnTo>
                      <a:pt x="1613" y="1543"/>
                    </a:lnTo>
                    <a:lnTo>
                      <a:pt x="1605" y="1566"/>
                    </a:lnTo>
                    <a:lnTo>
                      <a:pt x="1624" y="1568"/>
                    </a:lnTo>
                    <a:lnTo>
                      <a:pt x="1631" y="1563"/>
                    </a:lnTo>
                    <a:lnTo>
                      <a:pt x="1631" y="1563"/>
                    </a:lnTo>
                    <a:lnTo>
                      <a:pt x="1643" y="1579"/>
                    </a:lnTo>
                    <a:lnTo>
                      <a:pt x="1643" y="1579"/>
                    </a:lnTo>
                    <a:lnTo>
                      <a:pt x="1594" y="1589"/>
                    </a:lnTo>
                    <a:lnTo>
                      <a:pt x="1585" y="1604"/>
                    </a:lnTo>
                    <a:lnTo>
                      <a:pt x="1568" y="1603"/>
                    </a:lnTo>
                    <a:lnTo>
                      <a:pt x="1548" y="1611"/>
                    </a:lnTo>
                    <a:lnTo>
                      <a:pt x="1538" y="1629"/>
                    </a:lnTo>
                    <a:lnTo>
                      <a:pt x="1514" y="1644"/>
                    </a:lnTo>
                    <a:lnTo>
                      <a:pt x="1493" y="1648"/>
                    </a:lnTo>
                    <a:lnTo>
                      <a:pt x="1493" y="1649"/>
                    </a:lnTo>
                    <a:lnTo>
                      <a:pt x="1510" y="1592"/>
                    </a:lnTo>
                    <a:lnTo>
                      <a:pt x="1510" y="1591"/>
                    </a:lnTo>
                    <a:lnTo>
                      <a:pt x="1531" y="1576"/>
                    </a:lnTo>
                    <a:lnTo>
                      <a:pt x="1526" y="1546"/>
                    </a:lnTo>
                    <a:lnTo>
                      <a:pt x="1535" y="1498"/>
                    </a:lnTo>
                    <a:lnTo>
                      <a:pt x="1525" y="1483"/>
                    </a:lnTo>
                    <a:lnTo>
                      <a:pt x="1550" y="1499"/>
                    </a:lnTo>
                    <a:lnTo>
                      <a:pt x="1581" y="1508"/>
                    </a:lnTo>
                    <a:lnTo>
                      <a:pt x="1591" y="1489"/>
                    </a:lnTo>
                    <a:lnTo>
                      <a:pt x="1545" y="1442"/>
                    </a:lnTo>
                    <a:lnTo>
                      <a:pt x="1488" y="1438"/>
                    </a:lnTo>
                    <a:lnTo>
                      <a:pt x="1424" y="1444"/>
                    </a:lnTo>
                    <a:lnTo>
                      <a:pt x="1425" y="1444"/>
                    </a:lnTo>
                    <a:lnTo>
                      <a:pt x="1412" y="1433"/>
                    </a:lnTo>
                    <a:lnTo>
                      <a:pt x="1412" y="1433"/>
                    </a:lnTo>
                    <a:lnTo>
                      <a:pt x="1399" y="1413"/>
                    </a:lnTo>
                    <a:lnTo>
                      <a:pt x="1399" y="1393"/>
                    </a:lnTo>
                    <a:lnTo>
                      <a:pt x="1387" y="1383"/>
                    </a:lnTo>
                    <a:lnTo>
                      <a:pt x="1385" y="1366"/>
                    </a:lnTo>
                    <a:lnTo>
                      <a:pt x="1360" y="1370"/>
                    </a:lnTo>
                    <a:lnTo>
                      <a:pt x="1343" y="1353"/>
                    </a:lnTo>
                    <a:lnTo>
                      <a:pt x="1329" y="1331"/>
                    </a:lnTo>
                    <a:lnTo>
                      <a:pt x="1302" y="1333"/>
                    </a:lnTo>
                    <a:lnTo>
                      <a:pt x="1275" y="1325"/>
                    </a:lnTo>
                    <a:lnTo>
                      <a:pt x="1267" y="1341"/>
                    </a:lnTo>
                    <a:lnTo>
                      <a:pt x="1244" y="1356"/>
                    </a:lnTo>
                    <a:lnTo>
                      <a:pt x="1220" y="1378"/>
                    </a:lnTo>
                    <a:lnTo>
                      <a:pt x="1220" y="1378"/>
                    </a:lnTo>
                    <a:lnTo>
                      <a:pt x="1179" y="1373"/>
                    </a:lnTo>
                    <a:lnTo>
                      <a:pt x="1169" y="1378"/>
                    </a:lnTo>
                    <a:lnTo>
                      <a:pt x="1119" y="1351"/>
                    </a:lnTo>
                    <a:lnTo>
                      <a:pt x="1098" y="1353"/>
                    </a:lnTo>
                    <a:lnTo>
                      <a:pt x="1068" y="1347"/>
                    </a:lnTo>
                    <a:lnTo>
                      <a:pt x="1058" y="1341"/>
                    </a:lnTo>
                    <a:lnTo>
                      <a:pt x="1045" y="1313"/>
                    </a:lnTo>
                    <a:lnTo>
                      <a:pt x="1032" y="1335"/>
                    </a:lnTo>
                    <a:lnTo>
                      <a:pt x="901" y="1331"/>
                    </a:lnTo>
                    <a:lnTo>
                      <a:pt x="734" y="1315"/>
                    </a:lnTo>
                    <a:lnTo>
                      <a:pt x="562" y="1286"/>
                    </a:lnTo>
                    <a:lnTo>
                      <a:pt x="345" y="1232"/>
                    </a:lnTo>
                    <a:lnTo>
                      <a:pt x="149" y="1158"/>
                    </a:lnTo>
                    <a:lnTo>
                      <a:pt x="147" y="1158"/>
                    </a:lnTo>
                    <a:lnTo>
                      <a:pt x="140" y="1141"/>
                    </a:lnTo>
                    <a:lnTo>
                      <a:pt x="149" y="1116"/>
                    </a:lnTo>
                    <a:lnTo>
                      <a:pt x="127" y="1121"/>
                    </a:lnTo>
                    <a:lnTo>
                      <a:pt x="92" y="1052"/>
                    </a:lnTo>
                    <a:lnTo>
                      <a:pt x="60" y="1010"/>
                    </a:lnTo>
                    <a:lnTo>
                      <a:pt x="46" y="982"/>
                    </a:lnTo>
                    <a:lnTo>
                      <a:pt x="54" y="967"/>
                    </a:lnTo>
                    <a:lnTo>
                      <a:pt x="49" y="946"/>
                    </a:lnTo>
                    <a:lnTo>
                      <a:pt x="54" y="918"/>
                    </a:lnTo>
                    <a:lnTo>
                      <a:pt x="40" y="893"/>
                    </a:lnTo>
                    <a:lnTo>
                      <a:pt x="37" y="857"/>
                    </a:lnTo>
                    <a:lnTo>
                      <a:pt x="30" y="836"/>
                    </a:lnTo>
                    <a:lnTo>
                      <a:pt x="31" y="807"/>
                    </a:lnTo>
                    <a:lnTo>
                      <a:pt x="54" y="803"/>
                    </a:lnTo>
                    <a:lnTo>
                      <a:pt x="54" y="788"/>
                    </a:lnTo>
                    <a:lnTo>
                      <a:pt x="79" y="763"/>
                    </a:lnTo>
                    <a:lnTo>
                      <a:pt x="104" y="717"/>
                    </a:lnTo>
                    <a:lnTo>
                      <a:pt x="74" y="663"/>
                    </a:lnTo>
                    <a:lnTo>
                      <a:pt x="90" y="543"/>
                    </a:lnTo>
                    <a:lnTo>
                      <a:pt x="84" y="525"/>
                    </a:lnTo>
                    <a:lnTo>
                      <a:pt x="90" y="472"/>
                    </a:lnTo>
                    <a:lnTo>
                      <a:pt x="66" y="465"/>
                    </a:lnTo>
                    <a:lnTo>
                      <a:pt x="44" y="476"/>
                    </a:lnTo>
                    <a:lnTo>
                      <a:pt x="27" y="475"/>
                    </a:lnTo>
                    <a:lnTo>
                      <a:pt x="21" y="466"/>
                    </a:lnTo>
                    <a:lnTo>
                      <a:pt x="25" y="452"/>
                    </a:lnTo>
                    <a:lnTo>
                      <a:pt x="24" y="398"/>
                    </a:lnTo>
                    <a:lnTo>
                      <a:pt x="34" y="386"/>
                    </a:lnTo>
                    <a:lnTo>
                      <a:pt x="0" y="362"/>
                    </a:lnTo>
                    <a:lnTo>
                      <a:pt x="5" y="348"/>
                    </a:lnTo>
                    <a:lnTo>
                      <a:pt x="160" y="181"/>
                    </a:lnTo>
                    <a:lnTo>
                      <a:pt x="3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200000" y="321588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01" h="34">
                    <a:moveTo>
                      <a:pt x="0" y="20"/>
                    </a:moveTo>
                    <a:lnTo>
                      <a:pt x="16" y="16"/>
                    </a:lnTo>
                    <a:lnTo>
                      <a:pt x="35" y="32"/>
                    </a:lnTo>
                    <a:lnTo>
                      <a:pt x="55" y="34"/>
                    </a:lnTo>
                    <a:lnTo>
                      <a:pt x="69" y="22"/>
                    </a:lnTo>
                    <a:lnTo>
                      <a:pt x="101" y="22"/>
                    </a:lnTo>
                    <a:lnTo>
                      <a:pt x="92" y="7"/>
                    </a:lnTo>
                    <a:lnTo>
                      <a:pt x="70" y="1"/>
                    </a:lnTo>
                    <a:lnTo>
                      <a:pt x="22" y="0"/>
                    </a:lnTo>
                    <a:lnTo>
                      <a:pt x="4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08920" y="31669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13"/>
                    </a:moveTo>
                    <a:lnTo>
                      <a:pt x="6" y="20"/>
                    </a:lnTo>
                    <a:lnTo>
                      <a:pt x="1" y="26"/>
                    </a:lnTo>
                    <a:lnTo>
                      <a:pt x="29" y="20"/>
                    </a:lnTo>
                    <a:lnTo>
                      <a:pt x="8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079040" y="3144960"/>
                <a:ext cx="187560" cy="47520"/>
              </a:xfrm>
              <a:custGeom>
                <a:avLst/>
                <a:gdLst/>
                <a:ahLst/>
                <a:rect l="l" t="t" r="r" b="b"/>
                <a:pathLst>
                  <a:path w="509" h="143">
                    <a:moveTo>
                      <a:pt x="0" y="84"/>
                    </a:moveTo>
                    <a:lnTo>
                      <a:pt x="31" y="80"/>
                    </a:lnTo>
                    <a:lnTo>
                      <a:pt x="36" y="64"/>
                    </a:lnTo>
                    <a:lnTo>
                      <a:pt x="63" y="60"/>
                    </a:lnTo>
                    <a:lnTo>
                      <a:pt x="92" y="31"/>
                    </a:lnTo>
                    <a:lnTo>
                      <a:pt x="146" y="34"/>
                    </a:lnTo>
                    <a:lnTo>
                      <a:pt x="125" y="45"/>
                    </a:lnTo>
                    <a:lnTo>
                      <a:pt x="142" y="55"/>
                    </a:lnTo>
                    <a:lnTo>
                      <a:pt x="201" y="52"/>
                    </a:lnTo>
                    <a:lnTo>
                      <a:pt x="218" y="61"/>
                    </a:lnTo>
                    <a:lnTo>
                      <a:pt x="262" y="70"/>
                    </a:lnTo>
                    <a:lnTo>
                      <a:pt x="284" y="61"/>
                    </a:lnTo>
                    <a:lnTo>
                      <a:pt x="293" y="70"/>
                    </a:lnTo>
                    <a:lnTo>
                      <a:pt x="301" y="90"/>
                    </a:lnTo>
                    <a:lnTo>
                      <a:pt x="326" y="104"/>
                    </a:lnTo>
                    <a:lnTo>
                      <a:pt x="362" y="97"/>
                    </a:lnTo>
                    <a:lnTo>
                      <a:pt x="371" y="114"/>
                    </a:lnTo>
                    <a:lnTo>
                      <a:pt x="347" y="143"/>
                    </a:lnTo>
                    <a:lnTo>
                      <a:pt x="426" y="126"/>
                    </a:lnTo>
                    <a:lnTo>
                      <a:pt x="472" y="124"/>
                    </a:lnTo>
                    <a:lnTo>
                      <a:pt x="488" y="112"/>
                    </a:lnTo>
                    <a:lnTo>
                      <a:pt x="509" y="105"/>
                    </a:lnTo>
                    <a:lnTo>
                      <a:pt x="506" y="97"/>
                    </a:lnTo>
                    <a:lnTo>
                      <a:pt x="493" y="99"/>
                    </a:lnTo>
                    <a:lnTo>
                      <a:pt x="476" y="85"/>
                    </a:lnTo>
                    <a:lnTo>
                      <a:pt x="451" y="85"/>
                    </a:lnTo>
                    <a:lnTo>
                      <a:pt x="437" y="91"/>
                    </a:lnTo>
                    <a:lnTo>
                      <a:pt x="437" y="70"/>
                    </a:lnTo>
                    <a:lnTo>
                      <a:pt x="393" y="67"/>
                    </a:lnTo>
                    <a:lnTo>
                      <a:pt x="299" y="29"/>
                    </a:lnTo>
                    <a:lnTo>
                      <a:pt x="276" y="25"/>
                    </a:lnTo>
                    <a:lnTo>
                      <a:pt x="252" y="27"/>
                    </a:lnTo>
                    <a:lnTo>
                      <a:pt x="235" y="14"/>
                    </a:lnTo>
                    <a:lnTo>
                      <a:pt x="193" y="1"/>
                    </a:lnTo>
                    <a:lnTo>
                      <a:pt x="171" y="5"/>
                    </a:lnTo>
                    <a:lnTo>
                      <a:pt x="146" y="0"/>
                    </a:lnTo>
                    <a:lnTo>
                      <a:pt x="123" y="4"/>
                    </a:lnTo>
                    <a:lnTo>
                      <a:pt x="56" y="26"/>
                    </a:lnTo>
                    <a:lnTo>
                      <a:pt x="20" y="55"/>
                    </a:lnTo>
                    <a:lnTo>
                      <a:pt x="21" y="72"/>
                    </a:lnTo>
                    <a:lnTo>
                      <a:pt x="0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394400" y="318204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5" y="37"/>
                    </a:moveTo>
                    <a:lnTo>
                      <a:pt x="25" y="37"/>
                    </a:lnTo>
                    <a:lnTo>
                      <a:pt x="65" y="26"/>
                    </a:lnTo>
                    <a:lnTo>
                      <a:pt x="74" y="9"/>
                    </a:lnTo>
                    <a:lnTo>
                      <a:pt x="55" y="0"/>
                    </a:lnTo>
                    <a:lnTo>
                      <a:pt x="0" y="11"/>
                    </a:lnTo>
                    <a:lnTo>
                      <a:pt x="5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80920" y="310536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47" h="72">
                    <a:moveTo>
                      <a:pt x="4" y="1"/>
                    </a:moveTo>
                    <a:lnTo>
                      <a:pt x="11" y="16"/>
                    </a:lnTo>
                    <a:lnTo>
                      <a:pt x="0" y="30"/>
                    </a:lnTo>
                    <a:lnTo>
                      <a:pt x="26" y="48"/>
                    </a:lnTo>
                    <a:lnTo>
                      <a:pt x="42" y="72"/>
                    </a:lnTo>
                    <a:lnTo>
                      <a:pt x="47" y="53"/>
                    </a:lnTo>
                    <a:lnTo>
                      <a:pt x="32" y="40"/>
                    </a:lnTo>
                    <a:lnTo>
                      <a:pt x="30" y="22"/>
                    </a:lnTo>
                    <a:lnTo>
                      <a:pt x="16" y="0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73080" y="315612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27"/>
                    </a:moveTo>
                    <a:lnTo>
                      <a:pt x="22" y="22"/>
                    </a:lnTo>
                    <a:lnTo>
                      <a:pt x="26" y="0"/>
                    </a:lnTo>
                    <a:lnTo>
                      <a:pt x="22" y="14"/>
                    </a:lnTo>
                    <a:lnTo>
                      <a:pt x="5" y="13"/>
                    </a:lnTo>
                    <a:lnTo>
                      <a:pt x="0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189920" y="2824920"/>
                <a:ext cx="25200" cy="14760"/>
              </a:xfrm>
              <a:custGeom>
                <a:avLst/>
                <a:gdLst/>
                <a:ahLst/>
                <a:rect l="l" t="t" r="r" b="b"/>
                <a:pathLst>
                  <a:path w="69" h="45">
                    <a:moveTo>
                      <a:pt x="0" y="45"/>
                    </a:moveTo>
                    <a:lnTo>
                      <a:pt x="47" y="23"/>
                    </a:lnTo>
                    <a:lnTo>
                      <a:pt x="69" y="5"/>
                    </a:lnTo>
                    <a:lnTo>
                      <a:pt x="55" y="0"/>
                    </a:lnTo>
                    <a:lnTo>
                      <a:pt x="37" y="12"/>
                    </a:lnTo>
                    <a:lnTo>
                      <a:pt x="0" y="32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254360" y="2649600"/>
                <a:ext cx="35640" cy="9000"/>
              </a:xfrm>
              <a:custGeom>
                <a:avLst/>
                <a:gdLst/>
                <a:ahLst/>
                <a:rect l="l" t="t" r="r" b="b"/>
                <a:pathLst>
                  <a:path w="97" h="27">
                    <a:moveTo>
                      <a:pt x="0" y="15"/>
                    </a:moveTo>
                    <a:lnTo>
                      <a:pt x="25" y="17"/>
                    </a:lnTo>
                    <a:lnTo>
                      <a:pt x="38" y="27"/>
                    </a:lnTo>
                    <a:lnTo>
                      <a:pt x="58" y="27"/>
                    </a:lnTo>
                    <a:lnTo>
                      <a:pt x="97" y="13"/>
                    </a:lnTo>
                    <a:lnTo>
                      <a:pt x="82" y="2"/>
                    </a:lnTo>
                    <a:lnTo>
                      <a:pt x="4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279920" y="2696760"/>
                <a:ext cx="27360" cy="1080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24"/>
                    </a:moveTo>
                    <a:lnTo>
                      <a:pt x="39" y="35"/>
                    </a:lnTo>
                    <a:lnTo>
                      <a:pt x="71" y="35"/>
                    </a:lnTo>
                    <a:lnTo>
                      <a:pt x="64" y="20"/>
                    </a:lnTo>
                    <a:lnTo>
                      <a:pt x="75" y="0"/>
                    </a:lnTo>
                    <a:lnTo>
                      <a:pt x="34" y="24"/>
                    </a:lnTo>
                    <a:lnTo>
                      <a:pt x="13" y="24"/>
                    </a:lnTo>
                    <a:lnTo>
                      <a:pt x="3" y="9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995520" y="249948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19" y="28"/>
                    </a:lnTo>
                    <a:lnTo>
                      <a:pt x="36" y="0"/>
                    </a:lnTo>
                    <a:lnTo>
                      <a:pt x="20" y="4"/>
                    </a:lnTo>
                    <a:lnTo>
                      <a:pt x="5" y="14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025760" y="2501280"/>
                <a:ext cx="7560" cy="1476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0" y="5"/>
                    </a:moveTo>
                    <a:lnTo>
                      <a:pt x="5" y="32"/>
                    </a:lnTo>
                    <a:lnTo>
                      <a:pt x="18" y="44"/>
                    </a:lnTo>
                    <a:lnTo>
                      <a:pt x="21" y="20"/>
                    </a:lnTo>
                    <a:lnTo>
                      <a:pt x="20" y="0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050960" y="2593800"/>
                <a:ext cx="9720" cy="13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22"/>
                    </a:moveTo>
                    <a:lnTo>
                      <a:pt x="13" y="13"/>
                    </a:lnTo>
                    <a:lnTo>
                      <a:pt x="0" y="38"/>
                    </a:lnTo>
                    <a:lnTo>
                      <a:pt x="17" y="33"/>
                    </a:lnTo>
                    <a:lnTo>
                      <a:pt x="23" y="20"/>
                    </a:lnTo>
                    <a:lnTo>
                      <a:pt x="27" y="40"/>
                    </a:lnTo>
                    <a:lnTo>
                      <a:pt x="27" y="11"/>
                    </a:lnTo>
                    <a:lnTo>
                      <a:pt x="18" y="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041240" y="265464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10"/>
                    </a:moveTo>
                    <a:lnTo>
                      <a:pt x="40" y="20"/>
                    </a:lnTo>
                    <a:lnTo>
                      <a:pt x="29" y="1"/>
                    </a:lnTo>
                    <a:lnTo>
                      <a:pt x="15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22040" y="2583000"/>
                <a:ext cx="84600" cy="82440"/>
              </a:xfrm>
              <a:custGeom>
                <a:avLst/>
                <a:gdLst/>
                <a:ahLst/>
                <a:rect l="l" t="t" r="r" b="b"/>
                <a:pathLst>
                  <a:path w="228" h="250">
                    <a:moveTo>
                      <a:pt x="9" y="232"/>
                    </a:moveTo>
                    <a:lnTo>
                      <a:pt x="24" y="250"/>
                    </a:lnTo>
                    <a:lnTo>
                      <a:pt x="43" y="230"/>
                    </a:lnTo>
                    <a:lnTo>
                      <a:pt x="136" y="186"/>
                    </a:lnTo>
                    <a:lnTo>
                      <a:pt x="144" y="202"/>
                    </a:lnTo>
                    <a:lnTo>
                      <a:pt x="136" y="222"/>
                    </a:lnTo>
                    <a:lnTo>
                      <a:pt x="155" y="216"/>
                    </a:lnTo>
                    <a:lnTo>
                      <a:pt x="156" y="184"/>
                    </a:lnTo>
                    <a:lnTo>
                      <a:pt x="168" y="171"/>
                    </a:lnTo>
                    <a:lnTo>
                      <a:pt x="184" y="166"/>
                    </a:lnTo>
                    <a:lnTo>
                      <a:pt x="190" y="195"/>
                    </a:lnTo>
                    <a:lnTo>
                      <a:pt x="198" y="172"/>
                    </a:lnTo>
                    <a:lnTo>
                      <a:pt x="210" y="192"/>
                    </a:lnTo>
                    <a:lnTo>
                      <a:pt x="228" y="180"/>
                    </a:lnTo>
                    <a:lnTo>
                      <a:pt x="209" y="129"/>
                    </a:lnTo>
                    <a:lnTo>
                      <a:pt x="196" y="142"/>
                    </a:lnTo>
                    <a:lnTo>
                      <a:pt x="190" y="114"/>
                    </a:lnTo>
                    <a:lnTo>
                      <a:pt x="184" y="125"/>
                    </a:lnTo>
                    <a:lnTo>
                      <a:pt x="185" y="150"/>
                    </a:lnTo>
                    <a:lnTo>
                      <a:pt x="173" y="146"/>
                    </a:lnTo>
                    <a:lnTo>
                      <a:pt x="168" y="129"/>
                    </a:lnTo>
                    <a:lnTo>
                      <a:pt x="175" y="91"/>
                    </a:lnTo>
                    <a:lnTo>
                      <a:pt x="156" y="110"/>
                    </a:lnTo>
                    <a:lnTo>
                      <a:pt x="141" y="99"/>
                    </a:lnTo>
                    <a:lnTo>
                      <a:pt x="143" y="71"/>
                    </a:lnTo>
                    <a:lnTo>
                      <a:pt x="125" y="72"/>
                    </a:lnTo>
                    <a:lnTo>
                      <a:pt x="90" y="100"/>
                    </a:lnTo>
                    <a:lnTo>
                      <a:pt x="65" y="94"/>
                    </a:lnTo>
                    <a:lnTo>
                      <a:pt x="69" y="76"/>
                    </a:lnTo>
                    <a:lnTo>
                      <a:pt x="49" y="79"/>
                    </a:lnTo>
                    <a:lnTo>
                      <a:pt x="36" y="106"/>
                    </a:lnTo>
                    <a:lnTo>
                      <a:pt x="31" y="27"/>
                    </a:lnTo>
                    <a:lnTo>
                      <a:pt x="25" y="0"/>
                    </a:lnTo>
                    <a:lnTo>
                      <a:pt x="11" y="10"/>
                    </a:lnTo>
                    <a:lnTo>
                      <a:pt x="0" y="31"/>
                    </a:lnTo>
                    <a:lnTo>
                      <a:pt x="5" y="105"/>
                    </a:lnTo>
                    <a:lnTo>
                      <a:pt x="11" y="136"/>
                    </a:lnTo>
                    <a:lnTo>
                      <a:pt x="10" y="192"/>
                    </a:lnTo>
                    <a:lnTo>
                      <a:pt x="23" y="191"/>
                    </a:lnTo>
                    <a:lnTo>
                      <a:pt x="9" y="2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61320" y="2448720"/>
                <a:ext cx="56520" cy="48600"/>
              </a:xfrm>
              <a:custGeom>
                <a:avLst/>
                <a:gdLst/>
                <a:ahLst/>
                <a:rect l="l" t="t" r="r" b="b"/>
                <a:pathLst>
                  <a:path w="152" h="146">
                    <a:moveTo>
                      <a:pt x="0" y="125"/>
                    </a:moveTo>
                    <a:lnTo>
                      <a:pt x="31" y="122"/>
                    </a:lnTo>
                    <a:lnTo>
                      <a:pt x="36" y="146"/>
                    </a:lnTo>
                    <a:lnTo>
                      <a:pt x="56" y="139"/>
                    </a:lnTo>
                    <a:lnTo>
                      <a:pt x="78" y="97"/>
                    </a:lnTo>
                    <a:lnTo>
                      <a:pt x="93" y="96"/>
                    </a:lnTo>
                    <a:lnTo>
                      <a:pt x="136" y="117"/>
                    </a:lnTo>
                    <a:lnTo>
                      <a:pt x="152" y="92"/>
                    </a:lnTo>
                    <a:lnTo>
                      <a:pt x="128" y="85"/>
                    </a:lnTo>
                    <a:lnTo>
                      <a:pt x="112" y="66"/>
                    </a:lnTo>
                    <a:lnTo>
                      <a:pt x="42" y="24"/>
                    </a:lnTo>
                    <a:lnTo>
                      <a:pt x="31" y="0"/>
                    </a:lnTo>
                    <a:lnTo>
                      <a:pt x="15" y="24"/>
                    </a:lnTo>
                    <a:lnTo>
                      <a:pt x="11" y="45"/>
                    </a:lnTo>
                    <a:lnTo>
                      <a:pt x="11" y="74"/>
                    </a:lnTo>
                    <a:lnTo>
                      <a:pt x="21" y="10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23240" y="239976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43" h="60">
                    <a:moveTo>
                      <a:pt x="0" y="38"/>
                    </a:moveTo>
                    <a:lnTo>
                      <a:pt x="15" y="60"/>
                    </a:lnTo>
                    <a:lnTo>
                      <a:pt x="36" y="50"/>
                    </a:lnTo>
                    <a:lnTo>
                      <a:pt x="43" y="33"/>
                    </a:lnTo>
                    <a:lnTo>
                      <a:pt x="40" y="12"/>
                    </a:lnTo>
                    <a:lnTo>
                      <a:pt x="26" y="0"/>
                    </a:lnTo>
                    <a:lnTo>
                      <a:pt x="6" y="6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927840" y="2319480"/>
                <a:ext cx="219600" cy="158040"/>
              </a:xfrm>
              <a:custGeom>
                <a:avLst/>
                <a:gdLst/>
                <a:ahLst/>
                <a:rect l="l" t="t" r="r" b="b"/>
                <a:pathLst>
                  <a:path w="593" h="476">
                    <a:moveTo>
                      <a:pt x="1" y="119"/>
                    </a:moveTo>
                    <a:lnTo>
                      <a:pt x="51" y="182"/>
                    </a:lnTo>
                    <a:lnTo>
                      <a:pt x="80" y="195"/>
                    </a:lnTo>
                    <a:lnTo>
                      <a:pt x="140" y="192"/>
                    </a:lnTo>
                    <a:lnTo>
                      <a:pt x="156" y="185"/>
                    </a:lnTo>
                    <a:lnTo>
                      <a:pt x="186" y="201"/>
                    </a:lnTo>
                    <a:lnTo>
                      <a:pt x="198" y="189"/>
                    </a:lnTo>
                    <a:lnTo>
                      <a:pt x="207" y="161"/>
                    </a:lnTo>
                    <a:lnTo>
                      <a:pt x="223" y="179"/>
                    </a:lnTo>
                    <a:lnTo>
                      <a:pt x="257" y="195"/>
                    </a:lnTo>
                    <a:lnTo>
                      <a:pt x="262" y="229"/>
                    </a:lnTo>
                    <a:lnTo>
                      <a:pt x="277" y="205"/>
                    </a:lnTo>
                    <a:lnTo>
                      <a:pt x="298" y="225"/>
                    </a:lnTo>
                    <a:lnTo>
                      <a:pt x="326" y="232"/>
                    </a:lnTo>
                    <a:lnTo>
                      <a:pt x="354" y="272"/>
                    </a:lnTo>
                    <a:lnTo>
                      <a:pt x="329" y="337"/>
                    </a:lnTo>
                    <a:lnTo>
                      <a:pt x="354" y="356"/>
                    </a:lnTo>
                    <a:lnTo>
                      <a:pt x="339" y="380"/>
                    </a:lnTo>
                    <a:lnTo>
                      <a:pt x="313" y="387"/>
                    </a:lnTo>
                    <a:lnTo>
                      <a:pt x="281" y="387"/>
                    </a:lnTo>
                    <a:lnTo>
                      <a:pt x="281" y="404"/>
                    </a:lnTo>
                    <a:lnTo>
                      <a:pt x="270" y="411"/>
                    </a:lnTo>
                    <a:lnTo>
                      <a:pt x="268" y="434"/>
                    </a:lnTo>
                    <a:lnTo>
                      <a:pt x="286" y="450"/>
                    </a:lnTo>
                    <a:lnTo>
                      <a:pt x="318" y="442"/>
                    </a:lnTo>
                    <a:lnTo>
                      <a:pt x="331" y="425"/>
                    </a:lnTo>
                    <a:lnTo>
                      <a:pt x="354" y="422"/>
                    </a:lnTo>
                    <a:lnTo>
                      <a:pt x="423" y="435"/>
                    </a:lnTo>
                    <a:lnTo>
                      <a:pt x="429" y="455"/>
                    </a:lnTo>
                    <a:lnTo>
                      <a:pt x="454" y="464"/>
                    </a:lnTo>
                    <a:lnTo>
                      <a:pt x="498" y="464"/>
                    </a:lnTo>
                    <a:lnTo>
                      <a:pt x="508" y="474"/>
                    </a:lnTo>
                    <a:lnTo>
                      <a:pt x="533" y="476"/>
                    </a:lnTo>
                    <a:lnTo>
                      <a:pt x="581" y="469"/>
                    </a:lnTo>
                    <a:lnTo>
                      <a:pt x="571" y="450"/>
                    </a:lnTo>
                    <a:lnTo>
                      <a:pt x="501" y="422"/>
                    </a:lnTo>
                    <a:lnTo>
                      <a:pt x="483" y="407"/>
                    </a:lnTo>
                    <a:lnTo>
                      <a:pt x="568" y="420"/>
                    </a:lnTo>
                    <a:lnTo>
                      <a:pt x="593" y="407"/>
                    </a:lnTo>
                    <a:lnTo>
                      <a:pt x="583" y="375"/>
                    </a:lnTo>
                    <a:lnTo>
                      <a:pt x="558" y="362"/>
                    </a:lnTo>
                    <a:lnTo>
                      <a:pt x="546" y="341"/>
                    </a:lnTo>
                    <a:lnTo>
                      <a:pt x="496" y="324"/>
                    </a:lnTo>
                    <a:lnTo>
                      <a:pt x="474" y="305"/>
                    </a:lnTo>
                    <a:lnTo>
                      <a:pt x="464" y="272"/>
                    </a:lnTo>
                    <a:lnTo>
                      <a:pt x="506" y="281"/>
                    </a:lnTo>
                    <a:lnTo>
                      <a:pt x="529" y="302"/>
                    </a:lnTo>
                    <a:lnTo>
                      <a:pt x="558" y="307"/>
                    </a:lnTo>
                    <a:lnTo>
                      <a:pt x="552" y="281"/>
                    </a:lnTo>
                    <a:lnTo>
                      <a:pt x="569" y="262"/>
                    </a:lnTo>
                    <a:lnTo>
                      <a:pt x="562" y="209"/>
                    </a:lnTo>
                    <a:lnTo>
                      <a:pt x="488" y="191"/>
                    </a:lnTo>
                    <a:lnTo>
                      <a:pt x="463" y="179"/>
                    </a:lnTo>
                    <a:lnTo>
                      <a:pt x="437" y="192"/>
                    </a:lnTo>
                    <a:lnTo>
                      <a:pt x="404" y="184"/>
                    </a:lnTo>
                    <a:lnTo>
                      <a:pt x="394" y="161"/>
                    </a:lnTo>
                    <a:lnTo>
                      <a:pt x="412" y="144"/>
                    </a:lnTo>
                    <a:lnTo>
                      <a:pt x="386" y="132"/>
                    </a:lnTo>
                    <a:lnTo>
                      <a:pt x="382" y="111"/>
                    </a:lnTo>
                    <a:lnTo>
                      <a:pt x="358" y="95"/>
                    </a:lnTo>
                    <a:lnTo>
                      <a:pt x="331" y="89"/>
                    </a:lnTo>
                    <a:lnTo>
                      <a:pt x="296" y="71"/>
                    </a:lnTo>
                    <a:lnTo>
                      <a:pt x="275" y="65"/>
                    </a:lnTo>
                    <a:lnTo>
                      <a:pt x="250" y="70"/>
                    </a:lnTo>
                    <a:lnTo>
                      <a:pt x="231" y="32"/>
                    </a:lnTo>
                    <a:lnTo>
                      <a:pt x="212" y="44"/>
                    </a:lnTo>
                    <a:lnTo>
                      <a:pt x="177" y="37"/>
                    </a:lnTo>
                    <a:lnTo>
                      <a:pt x="165" y="57"/>
                    </a:lnTo>
                    <a:lnTo>
                      <a:pt x="148" y="62"/>
                    </a:lnTo>
                    <a:lnTo>
                      <a:pt x="136" y="80"/>
                    </a:lnTo>
                    <a:lnTo>
                      <a:pt x="136" y="54"/>
                    </a:lnTo>
                    <a:lnTo>
                      <a:pt x="121" y="34"/>
                    </a:lnTo>
                    <a:lnTo>
                      <a:pt x="121" y="11"/>
                    </a:lnTo>
                    <a:lnTo>
                      <a:pt x="111" y="0"/>
                    </a:lnTo>
                    <a:lnTo>
                      <a:pt x="95" y="9"/>
                    </a:lnTo>
                    <a:lnTo>
                      <a:pt x="63" y="50"/>
                    </a:lnTo>
                    <a:lnTo>
                      <a:pt x="67" y="96"/>
                    </a:lnTo>
                    <a:lnTo>
                      <a:pt x="76" y="116"/>
                    </a:lnTo>
                    <a:lnTo>
                      <a:pt x="57" y="100"/>
                    </a:lnTo>
                    <a:lnTo>
                      <a:pt x="50" y="60"/>
                    </a:lnTo>
                    <a:lnTo>
                      <a:pt x="61" y="24"/>
                    </a:lnTo>
                    <a:lnTo>
                      <a:pt x="80" y="9"/>
                    </a:lnTo>
                    <a:lnTo>
                      <a:pt x="37" y="11"/>
                    </a:lnTo>
                    <a:lnTo>
                      <a:pt x="25" y="25"/>
                    </a:lnTo>
                    <a:lnTo>
                      <a:pt x="11" y="49"/>
                    </a:lnTo>
                    <a:lnTo>
                      <a:pt x="5" y="70"/>
                    </a:lnTo>
                    <a:lnTo>
                      <a:pt x="0" y="90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975720" y="231660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68" h="50">
                    <a:moveTo>
                      <a:pt x="0" y="10"/>
                    </a:moveTo>
                    <a:lnTo>
                      <a:pt x="0" y="27"/>
                    </a:lnTo>
                    <a:lnTo>
                      <a:pt x="10" y="47"/>
                    </a:lnTo>
                    <a:lnTo>
                      <a:pt x="30" y="50"/>
                    </a:lnTo>
                    <a:lnTo>
                      <a:pt x="43" y="40"/>
                    </a:lnTo>
                    <a:lnTo>
                      <a:pt x="68" y="40"/>
                    </a:lnTo>
                    <a:lnTo>
                      <a:pt x="65" y="24"/>
                    </a:lnTo>
                    <a:lnTo>
                      <a:pt x="55" y="6"/>
                    </a:lnTo>
                    <a:lnTo>
                      <a:pt x="36" y="0"/>
                    </a:lnTo>
                    <a:lnTo>
                      <a:pt x="18" y="3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93280" y="229644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0" y="28"/>
                    </a:moveTo>
                    <a:lnTo>
                      <a:pt x="37" y="45"/>
                    </a:lnTo>
                    <a:lnTo>
                      <a:pt x="37" y="19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5800" y="227268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1" y="0"/>
                    </a:moveTo>
                    <a:lnTo>
                      <a:pt x="0" y="18"/>
                    </a:lnTo>
                    <a:lnTo>
                      <a:pt x="13" y="40"/>
                    </a:lnTo>
                    <a:lnTo>
                      <a:pt x="36" y="35"/>
                    </a:lnTo>
                    <a:lnTo>
                      <a:pt x="49" y="47"/>
                    </a:lnTo>
                    <a:lnTo>
                      <a:pt x="53" y="67"/>
                    </a:lnTo>
                    <a:lnTo>
                      <a:pt x="50" y="88"/>
                    </a:lnTo>
                    <a:lnTo>
                      <a:pt x="53" y="113"/>
                    </a:lnTo>
                    <a:lnTo>
                      <a:pt x="80" y="122"/>
                    </a:lnTo>
                    <a:lnTo>
                      <a:pt x="128" y="125"/>
                    </a:lnTo>
                    <a:lnTo>
                      <a:pt x="151" y="121"/>
                    </a:lnTo>
                    <a:lnTo>
                      <a:pt x="164" y="102"/>
                    </a:lnTo>
                    <a:lnTo>
                      <a:pt x="186" y="110"/>
                    </a:lnTo>
                    <a:lnTo>
                      <a:pt x="206" y="98"/>
                    </a:lnTo>
                    <a:lnTo>
                      <a:pt x="209" y="76"/>
                    </a:lnTo>
                    <a:lnTo>
                      <a:pt x="205" y="58"/>
                    </a:lnTo>
                    <a:lnTo>
                      <a:pt x="180" y="50"/>
                    </a:lnTo>
                    <a:lnTo>
                      <a:pt x="139" y="52"/>
                    </a:lnTo>
                    <a:lnTo>
                      <a:pt x="118" y="67"/>
                    </a:lnTo>
                    <a:lnTo>
                      <a:pt x="93" y="65"/>
                    </a:lnTo>
                    <a:lnTo>
                      <a:pt x="74" y="52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8" y="20"/>
                    </a:lnTo>
                    <a:lnTo>
                      <a:pt x="38" y="20"/>
                    </a:lnTo>
                    <a:lnTo>
                      <a:pt x="21" y="6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2640" y="2202840"/>
                <a:ext cx="30960" cy="50760"/>
              </a:xfrm>
              <a:custGeom>
                <a:avLst/>
                <a:gdLst/>
                <a:ahLst/>
                <a:rect l="l" t="t" r="r" b="b"/>
                <a:pathLst>
                  <a:path w="84" h="153">
                    <a:moveTo>
                      <a:pt x="0" y="61"/>
                    </a:moveTo>
                    <a:lnTo>
                      <a:pt x="15" y="96"/>
                    </a:lnTo>
                    <a:lnTo>
                      <a:pt x="11" y="112"/>
                    </a:lnTo>
                    <a:lnTo>
                      <a:pt x="15" y="136"/>
                    </a:lnTo>
                    <a:lnTo>
                      <a:pt x="27" y="153"/>
                    </a:lnTo>
                    <a:lnTo>
                      <a:pt x="57" y="152"/>
                    </a:lnTo>
                    <a:lnTo>
                      <a:pt x="74" y="110"/>
                    </a:lnTo>
                    <a:lnTo>
                      <a:pt x="84" y="96"/>
                    </a:lnTo>
                    <a:lnTo>
                      <a:pt x="81" y="76"/>
                    </a:lnTo>
                    <a:lnTo>
                      <a:pt x="65" y="72"/>
                    </a:lnTo>
                    <a:lnTo>
                      <a:pt x="67" y="51"/>
                    </a:lnTo>
                    <a:lnTo>
                      <a:pt x="59" y="38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1" y="23"/>
                    </a:lnTo>
                    <a:lnTo>
                      <a:pt x="0" y="40"/>
                    </a:lnTo>
                    <a:lnTo>
                      <a:pt x="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15600" y="2162160"/>
                <a:ext cx="69840" cy="120240"/>
              </a:xfrm>
              <a:custGeom>
                <a:avLst/>
                <a:gdLst/>
                <a:ahLst/>
                <a:rect l="l" t="t" r="r" b="b"/>
                <a:pathLst>
                  <a:path w="190" h="365">
                    <a:moveTo>
                      <a:pt x="0" y="109"/>
                    </a:moveTo>
                    <a:lnTo>
                      <a:pt x="6" y="134"/>
                    </a:lnTo>
                    <a:lnTo>
                      <a:pt x="22" y="150"/>
                    </a:lnTo>
                    <a:lnTo>
                      <a:pt x="43" y="148"/>
                    </a:lnTo>
                    <a:lnTo>
                      <a:pt x="103" y="123"/>
                    </a:lnTo>
                    <a:lnTo>
                      <a:pt x="92" y="140"/>
                    </a:lnTo>
                    <a:lnTo>
                      <a:pt x="71" y="154"/>
                    </a:lnTo>
                    <a:lnTo>
                      <a:pt x="62" y="166"/>
                    </a:lnTo>
                    <a:lnTo>
                      <a:pt x="42" y="160"/>
                    </a:lnTo>
                    <a:lnTo>
                      <a:pt x="40" y="188"/>
                    </a:lnTo>
                    <a:lnTo>
                      <a:pt x="55" y="195"/>
                    </a:lnTo>
                    <a:lnTo>
                      <a:pt x="66" y="235"/>
                    </a:lnTo>
                    <a:lnTo>
                      <a:pt x="53" y="243"/>
                    </a:lnTo>
                    <a:lnTo>
                      <a:pt x="41" y="274"/>
                    </a:lnTo>
                    <a:lnTo>
                      <a:pt x="62" y="283"/>
                    </a:lnTo>
                    <a:lnTo>
                      <a:pt x="37" y="290"/>
                    </a:lnTo>
                    <a:lnTo>
                      <a:pt x="40" y="311"/>
                    </a:lnTo>
                    <a:lnTo>
                      <a:pt x="52" y="319"/>
                    </a:lnTo>
                    <a:lnTo>
                      <a:pt x="25" y="341"/>
                    </a:lnTo>
                    <a:lnTo>
                      <a:pt x="27" y="361"/>
                    </a:lnTo>
                    <a:lnTo>
                      <a:pt x="80" y="365"/>
                    </a:lnTo>
                    <a:lnTo>
                      <a:pt x="92" y="354"/>
                    </a:lnTo>
                    <a:lnTo>
                      <a:pt x="108" y="355"/>
                    </a:lnTo>
                    <a:lnTo>
                      <a:pt x="118" y="345"/>
                    </a:lnTo>
                    <a:lnTo>
                      <a:pt x="130" y="360"/>
                    </a:lnTo>
                    <a:lnTo>
                      <a:pt x="150" y="341"/>
                    </a:lnTo>
                    <a:lnTo>
                      <a:pt x="160" y="319"/>
                    </a:lnTo>
                    <a:lnTo>
                      <a:pt x="136" y="303"/>
                    </a:lnTo>
                    <a:lnTo>
                      <a:pt x="150" y="281"/>
                    </a:lnTo>
                    <a:lnTo>
                      <a:pt x="141" y="268"/>
                    </a:lnTo>
                    <a:lnTo>
                      <a:pt x="162" y="256"/>
                    </a:lnTo>
                    <a:lnTo>
                      <a:pt x="155" y="180"/>
                    </a:lnTo>
                    <a:lnTo>
                      <a:pt x="172" y="161"/>
                    </a:lnTo>
                    <a:lnTo>
                      <a:pt x="177" y="114"/>
                    </a:lnTo>
                    <a:lnTo>
                      <a:pt x="190" y="60"/>
                    </a:lnTo>
                    <a:lnTo>
                      <a:pt x="185" y="49"/>
                    </a:lnTo>
                    <a:lnTo>
                      <a:pt x="190" y="15"/>
                    </a:lnTo>
                    <a:lnTo>
                      <a:pt x="183" y="5"/>
                    </a:lnTo>
                    <a:lnTo>
                      <a:pt x="155" y="0"/>
                    </a:lnTo>
                    <a:lnTo>
                      <a:pt x="118" y="1"/>
                    </a:lnTo>
                    <a:lnTo>
                      <a:pt x="93" y="16"/>
                    </a:lnTo>
                    <a:lnTo>
                      <a:pt x="78" y="18"/>
                    </a:lnTo>
                    <a:lnTo>
                      <a:pt x="56" y="30"/>
                    </a:lnTo>
                    <a:lnTo>
                      <a:pt x="48" y="50"/>
                    </a:lnTo>
                    <a:lnTo>
                      <a:pt x="25" y="76"/>
                    </a:lnTo>
                    <a:lnTo>
                      <a:pt x="27" y="88"/>
                    </a:lnTo>
                    <a:lnTo>
                      <a:pt x="10" y="89"/>
                    </a:lnTo>
                    <a:lnTo>
                      <a:pt x="0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887880" y="221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13"/>
                    </a:moveTo>
                    <a:lnTo>
                      <a:pt x="16" y="21"/>
                    </a:lnTo>
                    <a:lnTo>
                      <a:pt x="9" y="0"/>
                    </a:lnTo>
                    <a:lnTo>
                      <a:pt x="0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63400" y="2229840"/>
                <a:ext cx="36720" cy="2988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0" y="9"/>
                    </a:moveTo>
                    <a:lnTo>
                      <a:pt x="1" y="19"/>
                    </a:lnTo>
                    <a:lnTo>
                      <a:pt x="16" y="31"/>
                    </a:lnTo>
                    <a:lnTo>
                      <a:pt x="6" y="44"/>
                    </a:lnTo>
                    <a:lnTo>
                      <a:pt x="12" y="57"/>
                    </a:lnTo>
                    <a:lnTo>
                      <a:pt x="45" y="69"/>
                    </a:lnTo>
                    <a:lnTo>
                      <a:pt x="51" y="90"/>
                    </a:lnTo>
                    <a:lnTo>
                      <a:pt x="63" y="82"/>
                    </a:lnTo>
                    <a:lnTo>
                      <a:pt x="96" y="81"/>
                    </a:lnTo>
                    <a:lnTo>
                      <a:pt x="101" y="65"/>
                    </a:lnTo>
                    <a:lnTo>
                      <a:pt x="96" y="52"/>
                    </a:lnTo>
                    <a:lnTo>
                      <a:pt x="76" y="35"/>
                    </a:lnTo>
                    <a:lnTo>
                      <a:pt x="66" y="75"/>
                    </a:lnTo>
                    <a:lnTo>
                      <a:pt x="57" y="71"/>
                    </a:lnTo>
                    <a:lnTo>
                      <a:pt x="57" y="35"/>
                    </a:lnTo>
                    <a:lnTo>
                      <a:pt x="45" y="16"/>
                    </a:lnTo>
                    <a:lnTo>
                      <a:pt x="31" y="15"/>
                    </a:lnTo>
                    <a:lnTo>
                      <a:pt x="20" y="4"/>
                    </a:lnTo>
                    <a:lnTo>
                      <a:pt x="7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893280" y="22586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0" y="7"/>
                    </a:moveTo>
                    <a:lnTo>
                      <a:pt x="42" y="23"/>
                    </a:lnTo>
                    <a:lnTo>
                      <a:pt x="51" y="13"/>
                    </a:lnTo>
                    <a:lnTo>
                      <a:pt x="49" y="2"/>
                    </a:lnTo>
                    <a:lnTo>
                      <a:pt x="21" y="0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859080" y="225648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14" h="34">
                    <a:moveTo>
                      <a:pt x="2" y="3"/>
                    </a:moveTo>
                    <a:lnTo>
                      <a:pt x="0" y="27"/>
                    </a:lnTo>
                    <a:lnTo>
                      <a:pt x="14" y="34"/>
                    </a:lnTo>
                    <a:lnTo>
                      <a:pt x="1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858000" y="2275560"/>
                <a:ext cx="29880" cy="28800"/>
              </a:xfrm>
              <a:custGeom>
                <a:avLst/>
                <a:gdLst/>
                <a:ahLst/>
                <a:rect l="l" t="t" r="r" b="b"/>
                <a:pathLst>
                  <a:path w="79" h="86">
                    <a:moveTo>
                      <a:pt x="0" y="0"/>
                    </a:moveTo>
                    <a:lnTo>
                      <a:pt x="5" y="38"/>
                    </a:lnTo>
                    <a:lnTo>
                      <a:pt x="14" y="62"/>
                    </a:lnTo>
                    <a:lnTo>
                      <a:pt x="34" y="55"/>
                    </a:lnTo>
                    <a:lnTo>
                      <a:pt x="41" y="83"/>
                    </a:lnTo>
                    <a:lnTo>
                      <a:pt x="71" y="86"/>
                    </a:lnTo>
                    <a:lnTo>
                      <a:pt x="79" y="60"/>
                    </a:lnTo>
                    <a:lnTo>
                      <a:pt x="79" y="20"/>
                    </a:lnTo>
                    <a:lnTo>
                      <a:pt x="64" y="5"/>
                    </a:lnTo>
                    <a:lnTo>
                      <a:pt x="44" y="2"/>
                    </a:lnTo>
                    <a:lnTo>
                      <a:pt x="34" y="13"/>
                    </a:lnTo>
                    <a:lnTo>
                      <a:pt x="29" y="36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54760" y="22946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5"/>
                    </a:moveTo>
                    <a:lnTo>
                      <a:pt x="14" y="18"/>
                    </a:lnTo>
                    <a:lnTo>
                      <a:pt x="10" y="0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56920" y="23194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96" h="139">
                    <a:moveTo>
                      <a:pt x="0" y="52"/>
                    </a:moveTo>
                    <a:lnTo>
                      <a:pt x="10" y="89"/>
                    </a:lnTo>
                    <a:lnTo>
                      <a:pt x="25" y="90"/>
                    </a:lnTo>
                    <a:lnTo>
                      <a:pt x="51" y="139"/>
                    </a:lnTo>
                    <a:lnTo>
                      <a:pt x="70" y="124"/>
                    </a:lnTo>
                    <a:lnTo>
                      <a:pt x="94" y="116"/>
                    </a:lnTo>
                    <a:lnTo>
                      <a:pt x="96" y="86"/>
                    </a:lnTo>
                    <a:lnTo>
                      <a:pt x="93" y="59"/>
                    </a:lnTo>
                    <a:lnTo>
                      <a:pt x="71" y="49"/>
                    </a:lnTo>
                    <a:lnTo>
                      <a:pt x="88" y="26"/>
                    </a:lnTo>
                    <a:lnTo>
                      <a:pt x="80" y="0"/>
                    </a:lnTo>
                    <a:lnTo>
                      <a:pt x="64" y="10"/>
                    </a:lnTo>
                    <a:lnTo>
                      <a:pt x="46" y="5"/>
                    </a:lnTo>
                    <a:lnTo>
                      <a:pt x="30" y="11"/>
                    </a:lnTo>
                    <a:lnTo>
                      <a:pt x="25" y="26"/>
                    </a:lnTo>
                    <a:lnTo>
                      <a:pt x="36" y="51"/>
                    </a:lnTo>
                    <a:lnTo>
                      <a:pt x="14" y="49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31360" y="223776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0" y="10"/>
                    </a:moveTo>
                    <a:lnTo>
                      <a:pt x="18" y="12"/>
                    </a:lnTo>
                    <a:lnTo>
                      <a:pt x="27" y="21"/>
                    </a:lnTo>
                    <a:lnTo>
                      <a:pt x="41" y="25"/>
                    </a:lnTo>
                    <a:lnTo>
                      <a:pt x="50" y="17"/>
                    </a:lnTo>
                    <a:lnTo>
                      <a:pt x="35" y="4"/>
                    </a:lnTo>
                    <a:lnTo>
                      <a:pt x="11" y="0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823440" y="22428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3"/>
                    </a:moveTo>
                    <a:lnTo>
                      <a:pt x="2" y="15"/>
                    </a:lnTo>
                    <a:lnTo>
                      <a:pt x="12" y="15"/>
                    </a:lnTo>
                    <a:lnTo>
                      <a:pt x="14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828120" y="224784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2" y="3"/>
                    </a:moveTo>
                    <a:lnTo>
                      <a:pt x="0" y="20"/>
                    </a:lnTo>
                    <a:lnTo>
                      <a:pt x="15" y="28"/>
                    </a:lnTo>
                    <a:lnTo>
                      <a:pt x="36" y="21"/>
                    </a:lnTo>
                    <a:lnTo>
                      <a:pt x="44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90320" y="226764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16"/>
                    </a:moveTo>
                    <a:lnTo>
                      <a:pt x="10" y="26"/>
                    </a:lnTo>
                    <a:lnTo>
                      <a:pt x="31" y="0"/>
                    </a:lnTo>
                    <a:lnTo>
                      <a:pt x="15" y="6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777000" y="2247840"/>
                <a:ext cx="42120" cy="1980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0" y="22"/>
                    </a:moveTo>
                    <a:lnTo>
                      <a:pt x="2" y="46"/>
                    </a:lnTo>
                    <a:lnTo>
                      <a:pt x="28" y="61"/>
                    </a:lnTo>
                    <a:lnTo>
                      <a:pt x="62" y="40"/>
                    </a:lnTo>
                    <a:lnTo>
                      <a:pt x="72" y="55"/>
                    </a:lnTo>
                    <a:lnTo>
                      <a:pt x="95" y="41"/>
                    </a:lnTo>
                    <a:lnTo>
                      <a:pt x="97" y="22"/>
                    </a:lnTo>
                    <a:lnTo>
                      <a:pt x="113" y="15"/>
                    </a:lnTo>
                    <a:lnTo>
                      <a:pt x="105" y="0"/>
                    </a:lnTo>
                    <a:lnTo>
                      <a:pt x="90" y="9"/>
                    </a:lnTo>
                    <a:lnTo>
                      <a:pt x="74" y="0"/>
                    </a:lnTo>
                    <a:lnTo>
                      <a:pt x="40" y="7"/>
                    </a:lnTo>
                    <a:lnTo>
                      <a:pt x="20" y="20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795720" y="2265840"/>
                <a:ext cx="56520" cy="36720"/>
              </a:xfrm>
              <a:custGeom>
                <a:avLst/>
                <a:gdLst/>
                <a:ahLst/>
                <a:rect l="l" t="t" r="r" b="b"/>
                <a:pathLst>
                  <a:path w="154" h="109">
                    <a:moveTo>
                      <a:pt x="0" y="47"/>
                    </a:moveTo>
                    <a:lnTo>
                      <a:pt x="25" y="72"/>
                    </a:lnTo>
                    <a:lnTo>
                      <a:pt x="41" y="62"/>
                    </a:lnTo>
                    <a:lnTo>
                      <a:pt x="48" y="84"/>
                    </a:lnTo>
                    <a:lnTo>
                      <a:pt x="29" y="87"/>
                    </a:lnTo>
                    <a:lnTo>
                      <a:pt x="33" y="100"/>
                    </a:lnTo>
                    <a:lnTo>
                      <a:pt x="46" y="109"/>
                    </a:lnTo>
                    <a:lnTo>
                      <a:pt x="63" y="107"/>
                    </a:lnTo>
                    <a:lnTo>
                      <a:pt x="96" y="94"/>
                    </a:lnTo>
                    <a:lnTo>
                      <a:pt x="123" y="104"/>
                    </a:lnTo>
                    <a:lnTo>
                      <a:pt x="140" y="101"/>
                    </a:lnTo>
                    <a:lnTo>
                      <a:pt x="154" y="62"/>
                    </a:lnTo>
                    <a:lnTo>
                      <a:pt x="125" y="32"/>
                    </a:lnTo>
                    <a:lnTo>
                      <a:pt x="125" y="7"/>
                    </a:lnTo>
                    <a:lnTo>
                      <a:pt x="98" y="29"/>
                    </a:lnTo>
                    <a:lnTo>
                      <a:pt x="108" y="40"/>
                    </a:lnTo>
                    <a:lnTo>
                      <a:pt x="101" y="52"/>
                    </a:lnTo>
                    <a:lnTo>
                      <a:pt x="104" y="71"/>
                    </a:lnTo>
                    <a:lnTo>
                      <a:pt x="81" y="60"/>
                    </a:lnTo>
                    <a:lnTo>
                      <a:pt x="75" y="26"/>
                    </a:lnTo>
                    <a:lnTo>
                      <a:pt x="60" y="9"/>
                    </a:lnTo>
                    <a:lnTo>
                      <a:pt x="46" y="0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61520" y="2316600"/>
                <a:ext cx="101880" cy="85320"/>
              </a:xfrm>
              <a:custGeom>
                <a:avLst/>
                <a:gdLst/>
                <a:ahLst/>
                <a:rect l="l" t="t" r="r" b="b"/>
                <a:pathLst>
                  <a:path w="274" h="259">
                    <a:moveTo>
                      <a:pt x="0" y="55"/>
                    </a:moveTo>
                    <a:lnTo>
                      <a:pt x="14" y="74"/>
                    </a:lnTo>
                    <a:lnTo>
                      <a:pt x="1" y="88"/>
                    </a:lnTo>
                    <a:lnTo>
                      <a:pt x="12" y="108"/>
                    </a:lnTo>
                    <a:lnTo>
                      <a:pt x="36" y="121"/>
                    </a:lnTo>
                    <a:lnTo>
                      <a:pt x="60" y="128"/>
                    </a:lnTo>
                    <a:lnTo>
                      <a:pt x="76" y="148"/>
                    </a:lnTo>
                    <a:lnTo>
                      <a:pt x="50" y="153"/>
                    </a:lnTo>
                    <a:lnTo>
                      <a:pt x="5" y="139"/>
                    </a:lnTo>
                    <a:lnTo>
                      <a:pt x="0" y="170"/>
                    </a:lnTo>
                    <a:lnTo>
                      <a:pt x="16" y="190"/>
                    </a:lnTo>
                    <a:lnTo>
                      <a:pt x="39" y="198"/>
                    </a:lnTo>
                    <a:lnTo>
                      <a:pt x="41" y="234"/>
                    </a:lnTo>
                    <a:lnTo>
                      <a:pt x="97" y="241"/>
                    </a:lnTo>
                    <a:lnTo>
                      <a:pt x="155" y="234"/>
                    </a:lnTo>
                    <a:lnTo>
                      <a:pt x="176" y="221"/>
                    </a:lnTo>
                    <a:lnTo>
                      <a:pt x="189" y="241"/>
                    </a:lnTo>
                    <a:lnTo>
                      <a:pt x="210" y="259"/>
                    </a:lnTo>
                    <a:lnTo>
                      <a:pt x="232" y="256"/>
                    </a:lnTo>
                    <a:lnTo>
                      <a:pt x="255" y="244"/>
                    </a:lnTo>
                    <a:lnTo>
                      <a:pt x="247" y="225"/>
                    </a:lnTo>
                    <a:lnTo>
                      <a:pt x="269" y="224"/>
                    </a:lnTo>
                    <a:lnTo>
                      <a:pt x="274" y="200"/>
                    </a:lnTo>
                    <a:lnTo>
                      <a:pt x="247" y="188"/>
                    </a:lnTo>
                    <a:lnTo>
                      <a:pt x="225" y="171"/>
                    </a:lnTo>
                    <a:lnTo>
                      <a:pt x="212" y="150"/>
                    </a:lnTo>
                    <a:lnTo>
                      <a:pt x="220" y="121"/>
                    </a:lnTo>
                    <a:lnTo>
                      <a:pt x="216" y="73"/>
                    </a:lnTo>
                    <a:lnTo>
                      <a:pt x="242" y="34"/>
                    </a:lnTo>
                    <a:lnTo>
                      <a:pt x="232" y="19"/>
                    </a:lnTo>
                    <a:lnTo>
                      <a:pt x="211" y="15"/>
                    </a:lnTo>
                    <a:lnTo>
                      <a:pt x="180" y="60"/>
                    </a:lnTo>
                    <a:lnTo>
                      <a:pt x="161" y="38"/>
                    </a:lnTo>
                    <a:lnTo>
                      <a:pt x="141" y="40"/>
                    </a:lnTo>
                    <a:lnTo>
                      <a:pt x="129" y="25"/>
                    </a:lnTo>
                    <a:lnTo>
                      <a:pt x="104" y="35"/>
                    </a:lnTo>
                    <a:lnTo>
                      <a:pt x="107" y="7"/>
                    </a:lnTo>
                    <a:lnTo>
                      <a:pt x="92" y="0"/>
                    </a:lnTo>
                    <a:lnTo>
                      <a:pt x="74" y="9"/>
                    </a:lnTo>
                    <a:lnTo>
                      <a:pt x="35" y="18"/>
                    </a:lnTo>
                    <a:lnTo>
                      <a:pt x="29" y="29"/>
                    </a:lnTo>
                    <a:lnTo>
                      <a:pt x="11" y="38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733440" y="2285640"/>
                <a:ext cx="61920" cy="48600"/>
              </a:xfrm>
              <a:custGeom>
                <a:avLst/>
                <a:gdLst/>
                <a:ahLst/>
                <a:rect l="l" t="t" r="r" b="b"/>
                <a:pathLst>
                  <a:path w="168" h="146">
                    <a:moveTo>
                      <a:pt x="0" y="81"/>
                    </a:moveTo>
                    <a:lnTo>
                      <a:pt x="9" y="111"/>
                    </a:lnTo>
                    <a:lnTo>
                      <a:pt x="6" y="143"/>
                    </a:lnTo>
                    <a:lnTo>
                      <a:pt x="50" y="146"/>
                    </a:lnTo>
                    <a:lnTo>
                      <a:pt x="73" y="130"/>
                    </a:lnTo>
                    <a:lnTo>
                      <a:pt x="93" y="101"/>
                    </a:lnTo>
                    <a:lnTo>
                      <a:pt x="168" y="81"/>
                    </a:lnTo>
                    <a:lnTo>
                      <a:pt x="155" y="59"/>
                    </a:lnTo>
                    <a:lnTo>
                      <a:pt x="150" y="34"/>
                    </a:lnTo>
                    <a:lnTo>
                      <a:pt x="126" y="25"/>
                    </a:lnTo>
                    <a:lnTo>
                      <a:pt x="111" y="2"/>
                    </a:lnTo>
                    <a:lnTo>
                      <a:pt x="61" y="0"/>
                    </a:lnTo>
                    <a:lnTo>
                      <a:pt x="55" y="31"/>
                    </a:lnTo>
                    <a:lnTo>
                      <a:pt x="39" y="51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17000" y="21603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25" h="74">
                    <a:moveTo>
                      <a:pt x="18" y="0"/>
                    </a:moveTo>
                    <a:lnTo>
                      <a:pt x="3" y="5"/>
                    </a:lnTo>
                    <a:lnTo>
                      <a:pt x="12" y="28"/>
                    </a:lnTo>
                    <a:lnTo>
                      <a:pt x="0" y="55"/>
                    </a:lnTo>
                    <a:lnTo>
                      <a:pt x="19" y="74"/>
                    </a:lnTo>
                    <a:lnTo>
                      <a:pt x="17" y="50"/>
                    </a:lnTo>
                    <a:lnTo>
                      <a:pt x="25" y="3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368040" y="221796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6" y="0"/>
                    </a:moveTo>
                    <a:lnTo>
                      <a:pt x="0" y="21"/>
                    </a:lnTo>
                    <a:lnTo>
                      <a:pt x="3" y="40"/>
                    </a:lnTo>
                    <a:lnTo>
                      <a:pt x="16" y="53"/>
                    </a:lnTo>
                    <a:lnTo>
                      <a:pt x="28" y="47"/>
                    </a:lnTo>
                    <a:lnTo>
                      <a:pt x="28" y="31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373800" y="235044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93" h="54">
                    <a:moveTo>
                      <a:pt x="10" y="0"/>
                    </a:moveTo>
                    <a:lnTo>
                      <a:pt x="0" y="37"/>
                    </a:lnTo>
                    <a:lnTo>
                      <a:pt x="21" y="44"/>
                    </a:lnTo>
                    <a:lnTo>
                      <a:pt x="40" y="40"/>
                    </a:lnTo>
                    <a:lnTo>
                      <a:pt x="60" y="54"/>
                    </a:lnTo>
                    <a:lnTo>
                      <a:pt x="68" y="38"/>
                    </a:lnTo>
                    <a:lnTo>
                      <a:pt x="66" y="23"/>
                    </a:lnTo>
                    <a:lnTo>
                      <a:pt x="91" y="34"/>
                    </a:lnTo>
                    <a:lnTo>
                      <a:pt x="93" y="18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494760" y="2543040"/>
                <a:ext cx="16560" cy="44640"/>
              </a:xfrm>
              <a:custGeom>
                <a:avLst/>
                <a:gdLst/>
                <a:ahLst/>
                <a:rect l="l" t="t" r="r" b="b"/>
                <a:pathLst>
                  <a:path w="47" h="135">
                    <a:moveTo>
                      <a:pt x="15" y="0"/>
                    </a:moveTo>
                    <a:lnTo>
                      <a:pt x="1" y="29"/>
                    </a:lnTo>
                    <a:lnTo>
                      <a:pt x="6" y="4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0" y="135"/>
                    </a:lnTo>
                    <a:lnTo>
                      <a:pt x="15" y="105"/>
                    </a:lnTo>
                    <a:lnTo>
                      <a:pt x="7" y="86"/>
                    </a:lnTo>
                    <a:lnTo>
                      <a:pt x="21" y="73"/>
                    </a:lnTo>
                    <a:lnTo>
                      <a:pt x="26" y="45"/>
                    </a:lnTo>
                    <a:lnTo>
                      <a:pt x="47" y="26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513840" y="2622960"/>
                <a:ext cx="39960" cy="604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0" y="2"/>
                    </a:moveTo>
                    <a:lnTo>
                      <a:pt x="5" y="34"/>
                    </a:lnTo>
                    <a:lnTo>
                      <a:pt x="33" y="79"/>
                    </a:lnTo>
                    <a:lnTo>
                      <a:pt x="25" y="90"/>
                    </a:lnTo>
                    <a:lnTo>
                      <a:pt x="39" y="106"/>
                    </a:lnTo>
                    <a:lnTo>
                      <a:pt x="45" y="125"/>
                    </a:lnTo>
                    <a:lnTo>
                      <a:pt x="62" y="131"/>
                    </a:lnTo>
                    <a:lnTo>
                      <a:pt x="57" y="144"/>
                    </a:lnTo>
                    <a:lnTo>
                      <a:pt x="89" y="184"/>
                    </a:lnTo>
                    <a:lnTo>
                      <a:pt x="108" y="182"/>
                    </a:lnTo>
                    <a:lnTo>
                      <a:pt x="77" y="96"/>
                    </a:lnTo>
                    <a:lnTo>
                      <a:pt x="73" y="64"/>
                    </a:lnTo>
                    <a:lnTo>
                      <a:pt x="32" y="24"/>
                    </a:lnTo>
                    <a:lnTo>
                      <a:pt x="17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984720" y="2130480"/>
                <a:ext cx="348480" cy="279720"/>
              </a:xfrm>
              <a:custGeom>
                <a:avLst/>
                <a:gdLst/>
                <a:ahLst/>
                <a:rect l="l" t="t" r="r" b="b"/>
                <a:pathLst>
                  <a:path w="942" h="843">
                    <a:moveTo>
                      <a:pt x="54" y="0"/>
                    </a:moveTo>
                    <a:lnTo>
                      <a:pt x="56" y="26"/>
                    </a:lnTo>
                    <a:lnTo>
                      <a:pt x="69" y="45"/>
                    </a:lnTo>
                    <a:lnTo>
                      <a:pt x="51" y="57"/>
                    </a:lnTo>
                    <a:lnTo>
                      <a:pt x="64" y="77"/>
                    </a:lnTo>
                    <a:lnTo>
                      <a:pt x="36" y="79"/>
                    </a:lnTo>
                    <a:lnTo>
                      <a:pt x="17" y="110"/>
                    </a:lnTo>
                    <a:lnTo>
                      <a:pt x="10" y="132"/>
                    </a:lnTo>
                    <a:lnTo>
                      <a:pt x="24" y="145"/>
                    </a:lnTo>
                    <a:lnTo>
                      <a:pt x="26" y="159"/>
                    </a:lnTo>
                    <a:lnTo>
                      <a:pt x="12" y="165"/>
                    </a:lnTo>
                    <a:lnTo>
                      <a:pt x="7" y="204"/>
                    </a:lnTo>
                    <a:lnTo>
                      <a:pt x="11" y="229"/>
                    </a:lnTo>
                    <a:lnTo>
                      <a:pt x="31" y="217"/>
                    </a:lnTo>
                    <a:lnTo>
                      <a:pt x="44" y="230"/>
                    </a:lnTo>
                    <a:lnTo>
                      <a:pt x="47" y="259"/>
                    </a:lnTo>
                    <a:lnTo>
                      <a:pt x="0" y="312"/>
                    </a:lnTo>
                    <a:lnTo>
                      <a:pt x="1" y="336"/>
                    </a:lnTo>
                    <a:lnTo>
                      <a:pt x="20" y="344"/>
                    </a:lnTo>
                    <a:lnTo>
                      <a:pt x="32" y="336"/>
                    </a:lnTo>
                    <a:lnTo>
                      <a:pt x="42" y="351"/>
                    </a:lnTo>
                    <a:lnTo>
                      <a:pt x="62" y="355"/>
                    </a:lnTo>
                    <a:lnTo>
                      <a:pt x="49" y="366"/>
                    </a:lnTo>
                    <a:lnTo>
                      <a:pt x="41" y="382"/>
                    </a:lnTo>
                    <a:lnTo>
                      <a:pt x="75" y="390"/>
                    </a:lnTo>
                    <a:lnTo>
                      <a:pt x="72" y="404"/>
                    </a:lnTo>
                    <a:lnTo>
                      <a:pt x="87" y="410"/>
                    </a:lnTo>
                    <a:lnTo>
                      <a:pt x="114" y="410"/>
                    </a:lnTo>
                    <a:lnTo>
                      <a:pt x="122" y="392"/>
                    </a:lnTo>
                    <a:lnTo>
                      <a:pt x="160" y="370"/>
                    </a:lnTo>
                    <a:lnTo>
                      <a:pt x="187" y="375"/>
                    </a:lnTo>
                    <a:lnTo>
                      <a:pt x="207" y="370"/>
                    </a:lnTo>
                    <a:lnTo>
                      <a:pt x="218" y="384"/>
                    </a:lnTo>
                    <a:lnTo>
                      <a:pt x="262" y="404"/>
                    </a:lnTo>
                    <a:lnTo>
                      <a:pt x="276" y="424"/>
                    </a:lnTo>
                    <a:lnTo>
                      <a:pt x="298" y="432"/>
                    </a:lnTo>
                    <a:lnTo>
                      <a:pt x="313" y="449"/>
                    </a:lnTo>
                    <a:lnTo>
                      <a:pt x="328" y="476"/>
                    </a:lnTo>
                    <a:lnTo>
                      <a:pt x="347" y="487"/>
                    </a:lnTo>
                    <a:lnTo>
                      <a:pt x="356" y="511"/>
                    </a:lnTo>
                    <a:lnTo>
                      <a:pt x="370" y="517"/>
                    </a:lnTo>
                    <a:lnTo>
                      <a:pt x="386" y="505"/>
                    </a:lnTo>
                    <a:lnTo>
                      <a:pt x="385" y="485"/>
                    </a:lnTo>
                    <a:lnTo>
                      <a:pt x="410" y="502"/>
                    </a:lnTo>
                    <a:lnTo>
                      <a:pt x="430" y="496"/>
                    </a:lnTo>
                    <a:lnTo>
                      <a:pt x="451" y="511"/>
                    </a:lnTo>
                    <a:lnTo>
                      <a:pt x="420" y="517"/>
                    </a:lnTo>
                    <a:lnTo>
                      <a:pt x="401" y="531"/>
                    </a:lnTo>
                    <a:lnTo>
                      <a:pt x="430" y="583"/>
                    </a:lnTo>
                    <a:lnTo>
                      <a:pt x="457" y="587"/>
                    </a:lnTo>
                    <a:lnTo>
                      <a:pt x="473" y="562"/>
                    </a:lnTo>
                    <a:lnTo>
                      <a:pt x="470" y="535"/>
                    </a:lnTo>
                    <a:lnTo>
                      <a:pt x="496" y="551"/>
                    </a:lnTo>
                    <a:lnTo>
                      <a:pt x="517" y="583"/>
                    </a:lnTo>
                    <a:lnTo>
                      <a:pt x="495" y="602"/>
                    </a:lnTo>
                    <a:lnTo>
                      <a:pt x="498" y="628"/>
                    </a:lnTo>
                    <a:lnTo>
                      <a:pt x="527" y="680"/>
                    </a:lnTo>
                    <a:lnTo>
                      <a:pt x="562" y="717"/>
                    </a:lnTo>
                    <a:lnTo>
                      <a:pt x="594" y="723"/>
                    </a:lnTo>
                    <a:lnTo>
                      <a:pt x="621" y="742"/>
                    </a:lnTo>
                    <a:lnTo>
                      <a:pt x="639" y="766"/>
                    </a:lnTo>
                    <a:lnTo>
                      <a:pt x="662" y="768"/>
                    </a:lnTo>
                    <a:lnTo>
                      <a:pt x="676" y="786"/>
                    </a:lnTo>
                    <a:lnTo>
                      <a:pt x="788" y="838"/>
                    </a:lnTo>
                    <a:lnTo>
                      <a:pt x="826" y="843"/>
                    </a:lnTo>
                    <a:lnTo>
                      <a:pt x="876" y="816"/>
                    </a:lnTo>
                    <a:lnTo>
                      <a:pt x="900" y="821"/>
                    </a:lnTo>
                    <a:lnTo>
                      <a:pt x="935" y="810"/>
                    </a:lnTo>
                    <a:lnTo>
                      <a:pt x="942" y="792"/>
                    </a:lnTo>
                    <a:lnTo>
                      <a:pt x="929" y="766"/>
                    </a:lnTo>
                    <a:lnTo>
                      <a:pt x="898" y="722"/>
                    </a:lnTo>
                    <a:lnTo>
                      <a:pt x="887" y="696"/>
                    </a:lnTo>
                    <a:lnTo>
                      <a:pt x="856" y="680"/>
                    </a:lnTo>
                    <a:lnTo>
                      <a:pt x="857" y="650"/>
                    </a:lnTo>
                    <a:lnTo>
                      <a:pt x="848" y="620"/>
                    </a:lnTo>
                    <a:lnTo>
                      <a:pt x="813" y="580"/>
                    </a:lnTo>
                    <a:lnTo>
                      <a:pt x="781" y="567"/>
                    </a:lnTo>
                    <a:lnTo>
                      <a:pt x="796" y="554"/>
                    </a:lnTo>
                    <a:lnTo>
                      <a:pt x="786" y="534"/>
                    </a:lnTo>
                    <a:lnTo>
                      <a:pt x="793" y="509"/>
                    </a:lnTo>
                    <a:lnTo>
                      <a:pt x="812" y="482"/>
                    </a:lnTo>
                    <a:lnTo>
                      <a:pt x="813" y="449"/>
                    </a:lnTo>
                    <a:lnTo>
                      <a:pt x="806" y="399"/>
                    </a:lnTo>
                    <a:lnTo>
                      <a:pt x="779" y="359"/>
                    </a:lnTo>
                    <a:lnTo>
                      <a:pt x="769" y="335"/>
                    </a:lnTo>
                    <a:lnTo>
                      <a:pt x="767" y="312"/>
                    </a:lnTo>
                    <a:lnTo>
                      <a:pt x="777" y="290"/>
                    </a:lnTo>
                    <a:lnTo>
                      <a:pt x="781" y="237"/>
                    </a:lnTo>
                    <a:lnTo>
                      <a:pt x="774" y="189"/>
                    </a:lnTo>
                    <a:lnTo>
                      <a:pt x="757" y="139"/>
                    </a:lnTo>
                    <a:lnTo>
                      <a:pt x="744" y="122"/>
                    </a:lnTo>
                    <a:lnTo>
                      <a:pt x="732" y="140"/>
                    </a:lnTo>
                    <a:lnTo>
                      <a:pt x="713" y="157"/>
                    </a:lnTo>
                    <a:lnTo>
                      <a:pt x="714" y="182"/>
                    </a:lnTo>
                    <a:lnTo>
                      <a:pt x="704" y="176"/>
                    </a:lnTo>
                    <a:lnTo>
                      <a:pt x="699" y="154"/>
                    </a:lnTo>
                    <a:lnTo>
                      <a:pt x="674" y="146"/>
                    </a:lnTo>
                    <a:lnTo>
                      <a:pt x="673" y="127"/>
                    </a:lnTo>
                    <a:lnTo>
                      <a:pt x="712" y="136"/>
                    </a:lnTo>
                    <a:lnTo>
                      <a:pt x="724" y="125"/>
                    </a:lnTo>
                    <a:lnTo>
                      <a:pt x="729" y="101"/>
                    </a:lnTo>
                    <a:lnTo>
                      <a:pt x="686" y="85"/>
                    </a:lnTo>
                    <a:lnTo>
                      <a:pt x="618" y="106"/>
                    </a:lnTo>
                    <a:lnTo>
                      <a:pt x="651" y="76"/>
                    </a:lnTo>
                    <a:lnTo>
                      <a:pt x="637" y="66"/>
                    </a:lnTo>
                    <a:lnTo>
                      <a:pt x="612" y="61"/>
                    </a:lnTo>
                    <a:lnTo>
                      <a:pt x="601" y="72"/>
                    </a:lnTo>
                    <a:lnTo>
                      <a:pt x="589" y="46"/>
                    </a:lnTo>
                    <a:lnTo>
                      <a:pt x="593" y="27"/>
                    </a:lnTo>
                    <a:lnTo>
                      <a:pt x="574" y="24"/>
                    </a:lnTo>
                    <a:lnTo>
                      <a:pt x="562" y="36"/>
                    </a:lnTo>
                    <a:lnTo>
                      <a:pt x="558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23480" y="2138400"/>
                <a:ext cx="65160" cy="77400"/>
              </a:xfrm>
              <a:custGeom>
                <a:avLst/>
                <a:gdLst/>
                <a:ahLst/>
                <a:rect l="l" t="t" r="r" b="b"/>
                <a:pathLst>
                  <a:path w="175" h="234">
                    <a:moveTo>
                      <a:pt x="32" y="224"/>
                    </a:moveTo>
                    <a:lnTo>
                      <a:pt x="41" y="211"/>
                    </a:lnTo>
                    <a:lnTo>
                      <a:pt x="40" y="190"/>
                    </a:lnTo>
                    <a:lnTo>
                      <a:pt x="53" y="180"/>
                    </a:lnTo>
                    <a:lnTo>
                      <a:pt x="70" y="234"/>
                    </a:lnTo>
                    <a:lnTo>
                      <a:pt x="82" y="205"/>
                    </a:lnTo>
                    <a:lnTo>
                      <a:pt x="110" y="203"/>
                    </a:lnTo>
                    <a:lnTo>
                      <a:pt x="125" y="228"/>
                    </a:lnTo>
                    <a:lnTo>
                      <a:pt x="137" y="190"/>
                    </a:lnTo>
                    <a:lnTo>
                      <a:pt x="157" y="173"/>
                    </a:lnTo>
                    <a:lnTo>
                      <a:pt x="175" y="148"/>
                    </a:lnTo>
                    <a:lnTo>
                      <a:pt x="165" y="116"/>
                    </a:lnTo>
                    <a:lnTo>
                      <a:pt x="165" y="94"/>
                    </a:lnTo>
                    <a:lnTo>
                      <a:pt x="153" y="68"/>
                    </a:lnTo>
                    <a:lnTo>
                      <a:pt x="147" y="34"/>
                    </a:lnTo>
                    <a:lnTo>
                      <a:pt x="127" y="8"/>
                    </a:lnTo>
                    <a:lnTo>
                      <a:pt x="97" y="0"/>
                    </a:lnTo>
                    <a:lnTo>
                      <a:pt x="81" y="19"/>
                    </a:lnTo>
                    <a:lnTo>
                      <a:pt x="51" y="13"/>
                    </a:lnTo>
                    <a:lnTo>
                      <a:pt x="51" y="33"/>
                    </a:lnTo>
                    <a:lnTo>
                      <a:pt x="37" y="41"/>
                    </a:lnTo>
                    <a:lnTo>
                      <a:pt x="50" y="59"/>
                    </a:lnTo>
                    <a:lnTo>
                      <a:pt x="53" y="75"/>
                    </a:lnTo>
                    <a:lnTo>
                      <a:pt x="41" y="86"/>
                    </a:lnTo>
                    <a:lnTo>
                      <a:pt x="40" y="110"/>
                    </a:lnTo>
                    <a:lnTo>
                      <a:pt x="50" y="121"/>
                    </a:lnTo>
                    <a:lnTo>
                      <a:pt x="33" y="130"/>
                    </a:lnTo>
                    <a:lnTo>
                      <a:pt x="57" y="140"/>
                    </a:lnTo>
                    <a:lnTo>
                      <a:pt x="58" y="166"/>
                    </a:lnTo>
                    <a:lnTo>
                      <a:pt x="28" y="156"/>
                    </a:lnTo>
                    <a:lnTo>
                      <a:pt x="8" y="165"/>
                    </a:lnTo>
                    <a:lnTo>
                      <a:pt x="0" y="178"/>
                    </a:lnTo>
                    <a:lnTo>
                      <a:pt x="10" y="184"/>
                    </a:lnTo>
                    <a:lnTo>
                      <a:pt x="6" y="196"/>
                    </a:lnTo>
                    <a:lnTo>
                      <a:pt x="21" y="205"/>
                    </a:lnTo>
                    <a:lnTo>
                      <a:pt x="32" y="2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432480" y="213048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7" y="0"/>
                    </a:moveTo>
                    <a:lnTo>
                      <a:pt x="2" y="30"/>
                    </a:lnTo>
                    <a:lnTo>
                      <a:pt x="0" y="56"/>
                    </a:lnTo>
                    <a:lnTo>
                      <a:pt x="21" y="56"/>
                    </a:lnTo>
                    <a:lnTo>
                      <a:pt x="40" y="64"/>
                    </a:lnTo>
                    <a:lnTo>
                      <a:pt x="65" y="56"/>
                    </a:lnTo>
                    <a:lnTo>
                      <a:pt x="71" y="80"/>
                    </a:lnTo>
                    <a:lnTo>
                      <a:pt x="90" y="85"/>
                    </a:lnTo>
                    <a:lnTo>
                      <a:pt x="106" y="97"/>
                    </a:lnTo>
                    <a:lnTo>
                      <a:pt x="138" y="46"/>
                    </a:lnTo>
                    <a:lnTo>
                      <a:pt x="139" y="14"/>
                    </a:lnTo>
                    <a:lnTo>
                      <a:pt x="137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229880" y="3303360"/>
                <a:ext cx="195480" cy="115920"/>
              </a:xfrm>
              <a:custGeom>
                <a:avLst/>
                <a:gdLst/>
                <a:ahLst/>
                <a:rect l="l" t="t" r="r" b="b"/>
                <a:pathLst>
                  <a:path w="530" h="350">
                    <a:moveTo>
                      <a:pt x="522" y="350"/>
                    </a:moveTo>
                    <a:lnTo>
                      <a:pt x="530" y="299"/>
                    </a:lnTo>
                    <a:lnTo>
                      <a:pt x="514" y="296"/>
                    </a:lnTo>
                    <a:lnTo>
                      <a:pt x="486" y="310"/>
                    </a:lnTo>
                    <a:lnTo>
                      <a:pt x="456" y="306"/>
                    </a:lnTo>
                    <a:lnTo>
                      <a:pt x="442" y="314"/>
                    </a:lnTo>
                    <a:lnTo>
                      <a:pt x="429" y="310"/>
                    </a:lnTo>
                    <a:lnTo>
                      <a:pt x="394" y="273"/>
                    </a:lnTo>
                    <a:lnTo>
                      <a:pt x="361" y="269"/>
                    </a:lnTo>
                    <a:lnTo>
                      <a:pt x="329" y="279"/>
                    </a:lnTo>
                    <a:lnTo>
                      <a:pt x="307" y="279"/>
                    </a:lnTo>
                    <a:lnTo>
                      <a:pt x="279" y="264"/>
                    </a:lnTo>
                    <a:lnTo>
                      <a:pt x="274" y="230"/>
                    </a:lnTo>
                    <a:lnTo>
                      <a:pt x="249" y="193"/>
                    </a:lnTo>
                    <a:lnTo>
                      <a:pt x="224" y="166"/>
                    </a:lnTo>
                    <a:lnTo>
                      <a:pt x="230" y="153"/>
                    </a:lnTo>
                    <a:lnTo>
                      <a:pt x="236" y="105"/>
                    </a:lnTo>
                    <a:lnTo>
                      <a:pt x="249" y="81"/>
                    </a:lnTo>
                    <a:lnTo>
                      <a:pt x="280" y="38"/>
                    </a:lnTo>
                    <a:lnTo>
                      <a:pt x="300" y="30"/>
                    </a:lnTo>
                    <a:lnTo>
                      <a:pt x="300" y="30"/>
                    </a:lnTo>
                    <a:lnTo>
                      <a:pt x="307" y="14"/>
                    </a:lnTo>
                    <a:lnTo>
                      <a:pt x="299" y="1"/>
                    </a:lnTo>
                    <a:lnTo>
                      <a:pt x="281" y="0"/>
                    </a:lnTo>
                    <a:lnTo>
                      <a:pt x="256" y="34"/>
                    </a:lnTo>
                    <a:lnTo>
                      <a:pt x="199" y="78"/>
                    </a:lnTo>
                    <a:lnTo>
                      <a:pt x="166" y="78"/>
                    </a:lnTo>
                    <a:lnTo>
                      <a:pt x="156" y="96"/>
                    </a:lnTo>
                    <a:lnTo>
                      <a:pt x="135" y="94"/>
                    </a:lnTo>
                    <a:lnTo>
                      <a:pt x="116" y="105"/>
                    </a:lnTo>
                    <a:lnTo>
                      <a:pt x="105" y="124"/>
                    </a:lnTo>
                    <a:lnTo>
                      <a:pt x="106" y="176"/>
                    </a:lnTo>
                    <a:lnTo>
                      <a:pt x="86" y="183"/>
                    </a:lnTo>
                    <a:lnTo>
                      <a:pt x="75" y="204"/>
                    </a:lnTo>
                    <a:lnTo>
                      <a:pt x="54" y="228"/>
                    </a:lnTo>
                    <a:lnTo>
                      <a:pt x="56" y="266"/>
                    </a:lnTo>
                    <a:lnTo>
                      <a:pt x="19" y="230"/>
                    </a:lnTo>
                    <a:lnTo>
                      <a:pt x="19" y="228"/>
                    </a:lnTo>
                    <a:lnTo>
                      <a:pt x="31" y="259"/>
                    </a:lnTo>
                    <a:lnTo>
                      <a:pt x="23" y="274"/>
                    </a:lnTo>
                    <a:lnTo>
                      <a:pt x="10" y="280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30" y="333"/>
                    </a:lnTo>
                    <a:lnTo>
                      <a:pt x="29" y="350"/>
                    </a:lnTo>
                    <a:lnTo>
                      <a:pt x="522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2320" y="3303360"/>
                <a:ext cx="128520" cy="1159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348" y="350"/>
                    </a:moveTo>
                    <a:lnTo>
                      <a:pt x="348" y="64"/>
                    </a:lnTo>
                    <a:lnTo>
                      <a:pt x="348" y="53"/>
                    </a:lnTo>
                    <a:lnTo>
                      <a:pt x="243" y="78"/>
                    </a:lnTo>
                    <a:lnTo>
                      <a:pt x="226" y="40"/>
                    </a:lnTo>
                    <a:lnTo>
                      <a:pt x="202" y="31"/>
                    </a:lnTo>
                    <a:lnTo>
                      <a:pt x="157" y="33"/>
                    </a:lnTo>
                    <a:lnTo>
                      <a:pt x="145" y="0"/>
                    </a:lnTo>
                    <a:lnTo>
                      <a:pt x="126" y="15"/>
                    </a:lnTo>
                    <a:lnTo>
                      <a:pt x="137" y="35"/>
                    </a:lnTo>
                    <a:lnTo>
                      <a:pt x="80" y="75"/>
                    </a:lnTo>
                    <a:lnTo>
                      <a:pt x="83" y="106"/>
                    </a:lnTo>
                    <a:lnTo>
                      <a:pt x="105" y="134"/>
                    </a:lnTo>
                    <a:lnTo>
                      <a:pt x="107" y="165"/>
                    </a:lnTo>
                    <a:lnTo>
                      <a:pt x="80" y="178"/>
                    </a:lnTo>
                    <a:lnTo>
                      <a:pt x="73" y="156"/>
                    </a:lnTo>
                    <a:lnTo>
                      <a:pt x="58" y="140"/>
                    </a:lnTo>
                    <a:lnTo>
                      <a:pt x="77" y="94"/>
                    </a:lnTo>
                    <a:lnTo>
                      <a:pt x="51" y="50"/>
                    </a:lnTo>
                    <a:lnTo>
                      <a:pt x="75" y="3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56" y="38"/>
                    </a:lnTo>
                    <a:lnTo>
                      <a:pt x="25" y="81"/>
                    </a:lnTo>
                    <a:lnTo>
                      <a:pt x="12" y="105"/>
                    </a:lnTo>
                    <a:lnTo>
                      <a:pt x="6" y="153"/>
                    </a:lnTo>
                    <a:lnTo>
                      <a:pt x="0" y="166"/>
                    </a:lnTo>
                    <a:lnTo>
                      <a:pt x="25" y="193"/>
                    </a:lnTo>
                    <a:lnTo>
                      <a:pt x="50" y="230"/>
                    </a:lnTo>
                    <a:lnTo>
                      <a:pt x="55" y="264"/>
                    </a:lnTo>
                    <a:lnTo>
                      <a:pt x="83" y="279"/>
                    </a:lnTo>
                    <a:lnTo>
                      <a:pt x="105" y="279"/>
                    </a:lnTo>
                    <a:lnTo>
                      <a:pt x="137" y="269"/>
                    </a:lnTo>
                    <a:lnTo>
                      <a:pt x="170" y="273"/>
                    </a:lnTo>
                    <a:lnTo>
                      <a:pt x="205" y="310"/>
                    </a:lnTo>
                    <a:lnTo>
                      <a:pt x="218" y="314"/>
                    </a:lnTo>
                    <a:lnTo>
                      <a:pt x="232" y="306"/>
                    </a:lnTo>
                    <a:lnTo>
                      <a:pt x="262" y="310"/>
                    </a:lnTo>
                    <a:lnTo>
                      <a:pt x="290" y="296"/>
                    </a:lnTo>
                    <a:lnTo>
                      <a:pt x="306" y="299"/>
                    </a:lnTo>
                    <a:lnTo>
                      <a:pt x="298" y="350"/>
                    </a:lnTo>
                    <a:lnTo>
                      <a:pt x="348" y="3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91000" y="3367080"/>
                <a:ext cx="50040" cy="35640"/>
              </a:xfrm>
              <a:custGeom>
                <a:avLst/>
                <a:gdLst/>
                <a:ahLst/>
                <a:rect l="l" t="t" r="r" b="b"/>
                <a:pathLst>
                  <a:path w="136" h="109">
                    <a:moveTo>
                      <a:pt x="105" y="109"/>
                    </a:moveTo>
                    <a:lnTo>
                      <a:pt x="115" y="90"/>
                    </a:lnTo>
                    <a:lnTo>
                      <a:pt x="128" y="84"/>
                    </a:lnTo>
                    <a:lnTo>
                      <a:pt x="136" y="69"/>
                    </a:lnTo>
                    <a:lnTo>
                      <a:pt x="124" y="38"/>
                    </a:lnTo>
                    <a:lnTo>
                      <a:pt x="124" y="40"/>
                    </a:lnTo>
                    <a:lnTo>
                      <a:pt x="80" y="8"/>
                    </a:lnTo>
                    <a:lnTo>
                      <a:pt x="36" y="0"/>
                    </a:lnTo>
                    <a:lnTo>
                      <a:pt x="11" y="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0"/>
                    </a:lnTo>
                    <a:lnTo>
                      <a:pt x="35" y="29"/>
                    </a:lnTo>
                    <a:lnTo>
                      <a:pt x="59" y="40"/>
                    </a:lnTo>
                    <a:lnTo>
                      <a:pt x="73" y="60"/>
                    </a:lnTo>
                    <a:lnTo>
                      <a:pt x="88" y="59"/>
                    </a:lnTo>
                    <a:lnTo>
                      <a:pt x="78" y="75"/>
                    </a:lnTo>
                    <a:lnTo>
                      <a:pt x="93" y="104"/>
                    </a:lnTo>
                    <a:lnTo>
                      <a:pt x="105" y="109"/>
                    </a:lnTo>
                    <a:lnTo>
                      <a:pt x="105" y="10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86680" y="33728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0" y="3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34480" y="3371040"/>
                <a:ext cx="60840" cy="38520"/>
              </a:xfrm>
              <a:custGeom>
                <a:avLst/>
                <a:gdLst/>
                <a:ahLst/>
                <a:rect l="l" t="t" r="r" b="b"/>
                <a:pathLst>
                  <a:path w="166" h="115">
                    <a:moveTo>
                      <a:pt x="17" y="0"/>
                    </a:moveTo>
                    <a:lnTo>
                      <a:pt x="30" y="9"/>
                    </a:lnTo>
                    <a:lnTo>
                      <a:pt x="40" y="29"/>
                    </a:lnTo>
                    <a:lnTo>
                      <a:pt x="60" y="27"/>
                    </a:lnTo>
                    <a:lnTo>
                      <a:pt x="77" y="39"/>
                    </a:lnTo>
                    <a:lnTo>
                      <a:pt x="141" y="7"/>
                    </a:lnTo>
                    <a:lnTo>
                      <a:pt x="141" y="7"/>
                    </a:lnTo>
                    <a:lnTo>
                      <a:pt x="164" y="29"/>
                    </a:lnTo>
                    <a:lnTo>
                      <a:pt x="166" y="29"/>
                    </a:lnTo>
                    <a:lnTo>
                      <a:pt x="162" y="40"/>
                    </a:lnTo>
                    <a:lnTo>
                      <a:pt x="126" y="62"/>
                    </a:lnTo>
                    <a:lnTo>
                      <a:pt x="132" y="80"/>
                    </a:lnTo>
                    <a:lnTo>
                      <a:pt x="153" y="95"/>
                    </a:lnTo>
                    <a:lnTo>
                      <a:pt x="131" y="109"/>
                    </a:lnTo>
                    <a:lnTo>
                      <a:pt x="110" y="115"/>
                    </a:lnTo>
                    <a:lnTo>
                      <a:pt x="103" y="86"/>
                    </a:lnTo>
                    <a:lnTo>
                      <a:pt x="77" y="89"/>
                    </a:lnTo>
                    <a:lnTo>
                      <a:pt x="65" y="74"/>
                    </a:lnTo>
                    <a:lnTo>
                      <a:pt x="38" y="67"/>
                    </a:lnTo>
                    <a:lnTo>
                      <a:pt x="13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52"/>
                    </a:lnTo>
                    <a:lnTo>
                      <a:pt x="8" y="35"/>
                    </a:lnTo>
                    <a:lnTo>
                      <a:pt x="1" y="22"/>
                    </a:lnTo>
                    <a:lnTo>
                      <a:pt x="1" y="7"/>
                    </a:lnTo>
                    <a:lnTo>
                      <a:pt x="15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079040" y="3350160"/>
                <a:ext cx="60840" cy="4248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" y="6"/>
                    </a:moveTo>
                    <a:lnTo>
                      <a:pt x="0" y="41"/>
                    </a:lnTo>
                    <a:lnTo>
                      <a:pt x="11" y="61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51" y="55"/>
                    </a:lnTo>
                    <a:lnTo>
                      <a:pt x="66" y="71"/>
                    </a:lnTo>
                    <a:lnTo>
                      <a:pt x="95" y="85"/>
                    </a:lnTo>
                    <a:lnTo>
                      <a:pt x="114" y="100"/>
                    </a:lnTo>
                    <a:lnTo>
                      <a:pt x="112" y="125"/>
                    </a:lnTo>
                    <a:lnTo>
                      <a:pt x="137" y="127"/>
                    </a:lnTo>
                    <a:lnTo>
                      <a:pt x="149" y="131"/>
                    </a:lnTo>
                    <a:lnTo>
                      <a:pt x="149" y="131"/>
                    </a:lnTo>
                    <a:lnTo>
                      <a:pt x="157" y="117"/>
                    </a:lnTo>
                    <a:lnTo>
                      <a:pt x="157" y="100"/>
                    </a:lnTo>
                    <a:lnTo>
                      <a:pt x="150" y="87"/>
                    </a:lnTo>
                    <a:lnTo>
                      <a:pt x="150" y="72"/>
                    </a:lnTo>
                    <a:lnTo>
                      <a:pt x="164" y="65"/>
                    </a:lnTo>
                    <a:lnTo>
                      <a:pt x="166" y="65"/>
                    </a:lnTo>
                    <a:lnTo>
                      <a:pt x="135" y="47"/>
                    </a:lnTo>
                    <a:lnTo>
                      <a:pt x="106" y="2"/>
                    </a:lnTo>
                    <a:lnTo>
                      <a:pt x="105" y="5"/>
                    </a:lnTo>
                    <a:lnTo>
                      <a:pt x="91" y="11"/>
                    </a:lnTo>
                    <a:lnTo>
                      <a:pt x="62" y="2"/>
                    </a:lnTo>
                    <a:lnTo>
                      <a:pt x="41" y="7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1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42320" y="3283560"/>
                <a:ext cx="77760" cy="694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14" y="115"/>
                    </a:moveTo>
                    <a:lnTo>
                      <a:pt x="0" y="117"/>
                    </a:lnTo>
                    <a:lnTo>
                      <a:pt x="17" y="137"/>
                    </a:lnTo>
                    <a:lnTo>
                      <a:pt x="101" y="207"/>
                    </a:lnTo>
                    <a:lnTo>
                      <a:pt x="100" y="207"/>
                    </a:lnTo>
                    <a:lnTo>
                      <a:pt x="110" y="201"/>
                    </a:lnTo>
                    <a:lnTo>
                      <a:pt x="141" y="208"/>
                    </a:lnTo>
                    <a:lnTo>
                      <a:pt x="162" y="203"/>
                    </a:lnTo>
                    <a:lnTo>
                      <a:pt x="191" y="212"/>
                    </a:lnTo>
                    <a:lnTo>
                      <a:pt x="205" y="206"/>
                    </a:lnTo>
                    <a:lnTo>
                      <a:pt x="206" y="203"/>
                    </a:lnTo>
                    <a:lnTo>
                      <a:pt x="195" y="190"/>
                    </a:lnTo>
                    <a:lnTo>
                      <a:pt x="204" y="168"/>
                    </a:lnTo>
                    <a:lnTo>
                      <a:pt x="200" y="142"/>
                    </a:lnTo>
                    <a:lnTo>
                      <a:pt x="206" y="113"/>
                    </a:lnTo>
                    <a:lnTo>
                      <a:pt x="200" y="60"/>
                    </a:lnTo>
                    <a:lnTo>
                      <a:pt x="211" y="37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157" y="22"/>
                    </a:lnTo>
                    <a:lnTo>
                      <a:pt x="129" y="22"/>
                    </a:lnTo>
                    <a:lnTo>
                      <a:pt x="120" y="41"/>
                    </a:lnTo>
                    <a:lnTo>
                      <a:pt x="95" y="61"/>
                    </a:lnTo>
                    <a:lnTo>
                      <a:pt x="64" y="68"/>
                    </a:lnTo>
                    <a:lnTo>
                      <a:pt x="41" y="87"/>
                    </a:lnTo>
                    <a:lnTo>
                      <a:pt x="35" y="103"/>
                    </a:lnTo>
                    <a:lnTo>
                      <a:pt x="24" y="115"/>
                    </a:lnTo>
                    <a:lnTo>
                      <a:pt x="14" y="115"/>
                    </a:lnTo>
                    <a:lnTo>
                      <a:pt x="14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8040" y="3300480"/>
                <a:ext cx="41760" cy="19800"/>
              </a:xfrm>
              <a:custGeom>
                <a:avLst/>
                <a:gdLst/>
                <a:ahLst/>
                <a:rect l="l" t="t" r="r" b="b"/>
                <a:pathLst>
                  <a:path w="114" h="62">
                    <a:moveTo>
                      <a:pt x="26" y="0"/>
                    </a:moveTo>
                    <a:lnTo>
                      <a:pt x="21" y="15"/>
                    </a:lnTo>
                    <a:lnTo>
                      <a:pt x="6" y="2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5" y="52"/>
                    </a:lnTo>
                    <a:lnTo>
                      <a:pt x="36" y="51"/>
                    </a:lnTo>
                    <a:lnTo>
                      <a:pt x="61" y="62"/>
                    </a:lnTo>
                    <a:lnTo>
                      <a:pt x="111" y="59"/>
                    </a:lnTo>
                    <a:lnTo>
                      <a:pt x="112" y="46"/>
                    </a:lnTo>
                    <a:lnTo>
                      <a:pt x="114" y="46"/>
                    </a:lnTo>
                    <a:lnTo>
                      <a:pt x="109" y="26"/>
                    </a:lnTo>
                    <a:lnTo>
                      <a:pt x="94" y="20"/>
                    </a:lnTo>
                    <a:lnTo>
                      <a:pt x="80" y="26"/>
                    </a:lnTo>
                    <a:lnTo>
                      <a:pt x="43" y="4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006680" y="3270600"/>
                <a:ext cx="110880" cy="50760"/>
              </a:xfrm>
              <a:custGeom>
                <a:avLst/>
                <a:gdLst/>
                <a:ahLst/>
                <a:rect l="l" t="t" r="r" b="b"/>
                <a:pathLst>
                  <a:path w="300" h="153">
                    <a:moveTo>
                      <a:pt x="299" y="38"/>
                    </a:moveTo>
                    <a:lnTo>
                      <a:pt x="251" y="60"/>
                    </a:lnTo>
                    <a:lnTo>
                      <a:pt x="223" y="60"/>
                    </a:lnTo>
                    <a:lnTo>
                      <a:pt x="214" y="79"/>
                    </a:lnTo>
                    <a:lnTo>
                      <a:pt x="189" y="99"/>
                    </a:lnTo>
                    <a:lnTo>
                      <a:pt x="158" y="106"/>
                    </a:lnTo>
                    <a:lnTo>
                      <a:pt x="135" y="125"/>
                    </a:lnTo>
                    <a:lnTo>
                      <a:pt x="129" y="141"/>
                    </a:lnTo>
                    <a:lnTo>
                      <a:pt x="118" y="153"/>
                    </a:lnTo>
                    <a:lnTo>
                      <a:pt x="108" y="153"/>
                    </a:lnTo>
                    <a:lnTo>
                      <a:pt x="108" y="153"/>
                    </a:lnTo>
                    <a:lnTo>
                      <a:pt x="86" y="135"/>
                    </a:lnTo>
                    <a:lnTo>
                      <a:pt x="88" y="135"/>
                    </a:lnTo>
                    <a:lnTo>
                      <a:pt x="83" y="115"/>
                    </a:lnTo>
                    <a:lnTo>
                      <a:pt x="68" y="109"/>
                    </a:lnTo>
                    <a:lnTo>
                      <a:pt x="54" y="115"/>
                    </a:lnTo>
                    <a:lnTo>
                      <a:pt x="17" y="93"/>
                    </a:lnTo>
                    <a:lnTo>
                      <a:pt x="0" y="89"/>
                    </a:lnTo>
                    <a:lnTo>
                      <a:pt x="12" y="78"/>
                    </a:lnTo>
                    <a:lnTo>
                      <a:pt x="10" y="64"/>
                    </a:lnTo>
                    <a:lnTo>
                      <a:pt x="43" y="35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60" y="29"/>
                    </a:lnTo>
                    <a:lnTo>
                      <a:pt x="88" y="14"/>
                    </a:lnTo>
                    <a:lnTo>
                      <a:pt x="116" y="20"/>
                    </a:lnTo>
                    <a:lnTo>
                      <a:pt x="163" y="5"/>
                    </a:lnTo>
                    <a:lnTo>
                      <a:pt x="188" y="6"/>
                    </a:lnTo>
                    <a:lnTo>
                      <a:pt x="213" y="0"/>
                    </a:lnTo>
                    <a:lnTo>
                      <a:pt x="249" y="5"/>
                    </a:lnTo>
                    <a:lnTo>
                      <a:pt x="273" y="25"/>
                    </a:lnTo>
                    <a:lnTo>
                      <a:pt x="300" y="38"/>
                    </a:lnTo>
                    <a:lnTo>
                      <a:pt x="29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66600" y="3178080"/>
                <a:ext cx="48600" cy="35640"/>
              </a:xfrm>
              <a:custGeom>
                <a:avLst/>
                <a:gdLst/>
                <a:ahLst/>
                <a:rect l="l" t="t" r="r" b="b"/>
                <a:pathLst>
                  <a:path w="133" h="110">
                    <a:moveTo>
                      <a:pt x="133" y="90"/>
                    </a:moveTo>
                    <a:lnTo>
                      <a:pt x="133" y="76"/>
                    </a:lnTo>
                    <a:lnTo>
                      <a:pt x="124" y="60"/>
                    </a:lnTo>
                    <a:lnTo>
                      <a:pt x="129" y="29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08" y="10"/>
                    </a:lnTo>
                    <a:lnTo>
                      <a:pt x="79" y="3"/>
                    </a:lnTo>
                    <a:lnTo>
                      <a:pt x="50" y="8"/>
                    </a:lnTo>
                    <a:lnTo>
                      <a:pt x="38" y="23"/>
                    </a:lnTo>
                    <a:lnTo>
                      <a:pt x="60" y="18"/>
                    </a:lnTo>
                    <a:lnTo>
                      <a:pt x="75" y="34"/>
                    </a:lnTo>
                    <a:lnTo>
                      <a:pt x="79" y="50"/>
                    </a:lnTo>
                    <a:lnTo>
                      <a:pt x="100" y="69"/>
                    </a:lnTo>
                    <a:lnTo>
                      <a:pt x="83" y="84"/>
                    </a:lnTo>
                    <a:lnTo>
                      <a:pt x="60" y="89"/>
                    </a:lnTo>
                    <a:lnTo>
                      <a:pt x="14" y="83"/>
                    </a:lnTo>
                    <a:lnTo>
                      <a:pt x="0" y="99"/>
                    </a:lnTo>
                    <a:lnTo>
                      <a:pt x="35" y="110"/>
                    </a:lnTo>
                    <a:lnTo>
                      <a:pt x="41" y="101"/>
                    </a:lnTo>
                    <a:lnTo>
                      <a:pt x="133" y="93"/>
                    </a:lnTo>
                    <a:lnTo>
                      <a:pt x="133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309080" y="317520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19" y="97"/>
                    </a:moveTo>
                    <a:lnTo>
                      <a:pt x="19" y="83"/>
                    </a:lnTo>
                    <a:lnTo>
                      <a:pt x="10" y="67"/>
                    </a:lnTo>
                    <a:lnTo>
                      <a:pt x="15" y="36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40" y="1"/>
                    </a:lnTo>
                    <a:lnTo>
                      <a:pt x="91" y="0"/>
                    </a:lnTo>
                    <a:lnTo>
                      <a:pt x="102" y="15"/>
                    </a:lnTo>
                    <a:lnTo>
                      <a:pt x="130" y="9"/>
                    </a:lnTo>
                    <a:lnTo>
                      <a:pt x="112" y="25"/>
                    </a:lnTo>
                    <a:lnTo>
                      <a:pt x="153" y="27"/>
                    </a:lnTo>
                    <a:lnTo>
                      <a:pt x="177" y="43"/>
                    </a:lnTo>
                    <a:lnTo>
                      <a:pt x="165" y="68"/>
                    </a:lnTo>
                    <a:lnTo>
                      <a:pt x="146" y="55"/>
                    </a:lnTo>
                    <a:lnTo>
                      <a:pt x="122" y="60"/>
                    </a:lnTo>
                    <a:lnTo>
                      <a:pt x="73" y="82"/>
                    </a:lnTo>
                    <a:lnTo>
                      <a:pt x="72" y="70"/>
                    </a:lnTo>
                    <a:lnTo>
                      <a:pt x="48" y="82"/>
                    </a:lnTo>
                    <a:lnTo>
                      <a:pt x="52" y="95"/>
                    </a:lnTo>
                    <a:lnTo>
                      <a:pt x="40" y="120"/>
                    </a:lnTo>
                    <a:lnTo>
                      <a:pt x="19" y="100"/>
                    </a:lnTo>
                    <a:lnTo>
                      <a:pt x="19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57000" y="3243600"/>
                <a:ext cx="68400" cy="68400"/>
              </a:xfrm>
              <a:custGeom>
                <a:avLst/>
                <a:gdLst/>
                <a:ahLst/>
                <a:rect l="l" t="t" r="r" b="b"/>
                <a:pathLst>
                  <a:path w="185" h="207">
                    <a:moveTo>
                      <a:pt x="160" y="95"/>
                    </a:moveTo>
                    <a:lnTo>
                      <a:pt x="148" y="95"/>
                    </a:lnTo>
                    <a:lnTo>
                      <a:pt x="141" y="81"/>
                    </a:lnTo>
                    <a:lnTo>
                      <a:pt x="138" y="0"/>
                    </a:lnTo>
                    <a:lnTo>
                      <a:pt x="66" y="4"/>
                    </a:lnTo>
                    <a:lnTo>
                      <a:pt x="55" y="14"/>
                    </a:lnTo>
                    <a:lnTo>
                      <a:pt x="55" y="29"/>
                    </a:lnTo>
                    <a:lnTo>
                      <a:pt x="40" y="29"/>
                    </a:lnTo>
                    <a:lnTo>
                      <a:pt x="46" y="46"/>
                    </a:lnTo>
                    <a:lnTo>
                      <a:pt x="60" y="56"/>
                    </a:lnTo>
                    <a:lnTo>
                      <a:pt x="79" y="79"/>
                    </a:lnTo>
                    <a:lnTo>
                      <a:pt x="65" y="90"/>
                    </a:lnTo>
                    <a:lnTo>
                      <a:pt x="34" y="94"/>
                    </a:lnTo>
                    <a:lnTo>
                      <a:pt x="4" y="146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3" y="185"/>
                    </a:lnTo>
                    <a:lnTo>
                      <a:pt x="38" y="195"/>
                    </a:lnTo>
                    <a:lnTo>
                      <a:pt x="63" y="202"/>
                    </a:lnTo>
                    <a:lnTo>
                      <a:pt x="88" y="200"/>
                    </a:lnTo>
                    <a:lnTo>
                      <a:pt x="110" y="207"/>
                    </a:lnTo>
                    <a:lnTo>
                      <a:pt x="110" y="207"/>
                    </a:lnTo>
                    <a:lnTo>
                      <a:pt x="116" y="195"/>
                    </a:lnTo>
                    <a:lnTo>
                      <a:pt x="131" y="185"/>
                    </a:lnTo>
                    <a:lnTo>
                      <a:pt x="136" y="170"/>
                    </a:lnTo>
                    <a:lnTo>
                      <a:pt x="148" y="159"/>
                    </a:lnTo>
                    <a:lnTo>
                      <a:pt x="146" y="145"/>
                    </a:lnTo>
                    <a:lnTo>
                      <a:pt x="179" y="116"/>
                    </a:lnTo>
                    <a:lnTo>
                      <a:pt x="185" y="101"/>
                    </a:lnTo>
                    <a:lnTo>
                      <a:pt x="160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007760" y="32338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36" y="0"/>
                    </a:moveTo>
                    <a:lnTo>
                      <a:pt x="23" y="7"/>
                    </a:lnTo>
                    <a:lnTo>
                      <a:pt x="17" y="21"/>
                    </a:lnTo>
                    <a:lnTo>
                      <a:pt x="0" y="31"/>
                    </a:lnTo>
                    <a:lnTo>
                      <a:pt x="3" y="112"/>
                    </a:lnTo>
                    <a:lnTo>
                      <a:pt x="10" y="126"/>
                    </a:lnTo>
                    <a:lnTo>
                      <a:pt x="22" y="126"/>
                    </a:lnTo>
                    <a:lnTo>
                      <a:pt x="22" y="126"/>
                    </a:lnTo>
                    <a:lnTo>
                      <a:pt x="16" y="123"/>
                    </a:lnTo>
                    <a:lnTo>
                      <a:pt x="40" y="105"/>
                    </a:lnTo>
                    <a:lnTo>
                      <a:pt x="48" y="71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550560" y="2978280"/>
                <a:ext cx="493920" cy="323280"/>
              </a:xfrm>
              <a:custGeom>
                <a:avLst/>
                <a:gdLst/>
                <a:ahLst/>
                <a:rect l="l" t="t" r="r" b="b"/>
                <a:pathLst>
                  <a:path w="1335" h="976">
                    <a:moveTo>
                      <a:pt x="0" y="0"/>
                    </a:moveTo>
                    <a:lnTo>
                      <a:pt x="20" y="72"/>
                    </a:lnTo>
                    <a:lnTo>
                      <a:pt x="18" y="83"/>
                    </a:lnTo>
                    <a:lnTo>
                      <a:pt x="30" y="101"/>
                    </a:lnTo>
                    <a:lnTo>
                      <a:pt x="25" y="122"/>
                    </a:lnTo>
                    <a:lnTo>
                      <a:pt x="36" y="128"/>
                    </a:lnTo>
                    <a:lnTo>
                      <a:pt x="34" y="160"/>
                    </a:lnTo>
                    <a:lnTo>
                      <a:pt x="54" y="173"/>
                    </a:lnTo>
                    <a:lnTo>
                      <a:pt x="98" y="238"/>
                    </a:lnTo>
                    <a:lnTo>
                      <a:pt x="95" y="260"/>
                    </a:lnTo>
                    <a:lnTo>
                      <a:pt x="75" y="271"/>
                    </a:lnTo>
                    <a:lnTo>
                      <a:pt x="50" y="261"/>
                    </a:lnTo>
                    <a:lnTo>
                      <a:pt x="69" y="282"/>
                    </a:lnTo>
                    <a:lnTo>
                      <a:pt x="75" y="301"/>
                    </a:lnTo>
                    <a:lnTo>
                      <a:pt x="104" y="328"/>
                    </a:lnTo>
                    <a:lnTo>
                      <a:pt x="123" y="331"/>
                    </a:lnTo>
                    <a:lnTo>
                      <a:pt x="138" y="351"/>
                    </a:lnTo>
                    <a:lnTo>
                      <a:pt x="158" y="366"/>
                    </a:lnTo>
                    <a:lnTo>
                      <a:pt x="166" y="393"/>
                    </a:lnTo>
                    <a:lnTo>
                      <a:pt x="164" y="420"/>
                    </a:lnTo>
                    <a:lnTo>
                      <a:pt x="150" y="437"/>
                    </a:lnTo>
                    <a:lnTo>
                      <a:pt x="179" y="453"/>
                    </a:lnTo>
                    <a:lnTo>
                      <a:pt x="235" y="515"/>
                    </a:lnTo>
                    <a:lnTo>
                      <a:pt x="250" y="552"/>
                    </a:lnTo>
                    <a:lnTo>
                      <a:pt x="277" y="530"/>
                    </a:lnTo>
                    <a:lnTo>
                      <a:pt x="246" y="478"/>
                    </a:lnTo>
                    <a:lnTo>
                      <a:pt x="227" y="475"/>
                    </a:lnTo>
                    <a:lnTo>
                      <a:pt x="219" y="453"/>
                    </a:lnTo>
                    <a:lnTo>
                      <a:pt x="226" y="445"/>
                    </a:lnTo>
                    <a:lnTo>
                      <a:pt x="214" y="426"/>
                    </a:lnTo>
                    <a:lnTo>
                      <a:pt x="215" y="408"/>
                    </a:lnTo>
                    <a:lnTo>
                      <a:pt x="202" y="381"/>
                    </a:lnTo>
                    <a:lnTo>
                      <a:pt x="196" y="353"/>
                    </a:lnTo>
                    <a:lnTo>
                      <a:pt x="177" y="325"/>
                    </a:lnTo>
                    <a:lnTo>
                      <a:pt x="165" y="296"/>
                    </a:lnTo>
                    <a:lnTo>
                      <a:pt x="150" y="276"/>
                    </a:lnTo>
                    <a:lnTo>
                      <a:pt x="145" y="250"/>
                    </a:lnTo>
                    <a:lnTo>
                      <a:pt x="133" y="226"/>
                    </a:lnTo>
                    <a:lnTo>
                      <a:pt x="83" y="141"/>
                    </a:lnTo>
                    <a:lnTo>
                      <a:pt x="89" y="121"/>
                    </a:lnTo>
                    <a:lnTo>
                      <a:pt x="85" y="75"/>
                    </a:lnTo>
                    <a:lnTo>
                      <a:pt x="91" y="57"/>
                    </a:lnTo>
                    <a:lnTo>
                      <a:pt x="114" y="76"/>
                    </a:lnTo>
                    <a:lnTo>
                      <a:pt x="129" y="75"/>
                    </a:lnTo>
                    <a:lnTo>
                      <a:pt x="158" y="101"/>
                    </a:lnTo>
                    <a:lnTo>
                      <a:pt x="154" y="122"/>
                    </a:lnTo>
                    <a:lnTo>
                      <a:pt x="163" y="168"/>
                    </a:lnTo>
                    <a:lnTo>
                      <a:pt x="182" y="220"/>
                    </a:lnTo>
                    <a:lnTo>
                      <a:pt x="220" y="278"/>
                    </a:lnTo>
                    <a:lnTo>
                      <a:pt x="245" y="286"/>
                    </a:lnTo>
                    <a:lnTo>
                      <a:pt x="244" y="312"/>
                    </a:lnTo>
                    <a:lnTo>
                      <a:pt x="266" y="337"/>
                    </a:lnTo>
                    <a:lnTo>
                      <a:pt x="276" y="355"/>
                    </a:lnTo>
                    <a:lnTo>
                      <a:pt x="289" y="355"/>
                    </a:lnTo>
                    <a:lnTo>
                      <a:pt x="297" y="373"/>
                    </a:lnTo>
                    <a:lnTo>
                      <a:pt x="287" y="403"/>
                    </a:lnTo>
                    <a:lnTo>
                      <a:pt x="335" y="433"/>
                    </a:lnTo>
                    <a:lnTo>
                      <a:pt x="347" y="465"/>
                    </a:lnTo>
                    <a:lnTo>
                      <a:pt x="384" y="501"/>
                    </a:lnTo>
                    <a:lnTo>
                      <a:pt x="451" y="587"/>
                    </a:lnTo>
                    <a:lnTo>
                      <a:pt x="457" y="621"/>
                    </a:lnTo>
                    <a:lnTo>
                      <a:pt x="471" y="636"/>
                    </a:lnTo>
                    <a:lnTo>
                      <a:pt x="471" y="652"/>
                    </a:lnTo>
                    <a:lnTo>
                      <a:pt x="456" y="667"/>
                    </a:lnTo>
                    <a:lnTo>
                      <a:pt x="462" y="682"/>
                    </a:lnTo>
                    <a:lnTo>
                      <a:pt x="446" y="693"/>
                    </a:lnTo>
                    <a:lnTo>
                      <a:pt x="481" y="746"/>
                    </a:lnTo>
                    <a:lnTo>
                      <a:pt x="532" y="777"/>
                    </a:lnTo>
                    <a:lnTo>
                      <a:pt x="547" y="798"/>
                    </a:lnTo>
                    <a:lnTo>
                      <a:pt x="581" y="812"/>
                    </a:lnTo>
                    <a:lnTo>
                      <a:pt x="620" y="816"/>
                    </a:lnTo>
                    <a:lnTo>
                      <a:pt x="668" y="854"/>
                    </a:lnTo>
                    <a:lnTo>
                      <a:pt x="741" y="883"/>
                    </a:lnTo>
                    <a:lnTo>
                      <a:pt x="765" y="886"/>
                    </a:lnTo>
                    <a:lnTo>
                      <a:pt x="815" y="911"/>
                    </a:lnTo>
                    <a:lnTo>
                      <a:pt x="901" y="929"/>
                    </a:lnTo>
                    <a:lnTo>
                      <a:pt x="952" y="902"/>
                    </a:lnTo>
                    <a:lnTo>
                      <a:pt x="997" y="904"/>
                    </a:lnTo>
                    <a:lnTo>
                      <a:pt x="1038" y="923"/>
                    </a:lnTo>
                    <a:lnTo>
                      <a:pt x="1098" y="976"/>
                    </a:lnTo>
                    <a:lnTo>
                      <a:pt x="1098" y="974"/>
                    </a:lnTo>
                    <a:lnTo>
                      <a:pt x="1102" y="948"/>
                    </a:lnTo>
                    <a:lnTo>
                      <a:pt x="1132" y="896"/>
                    </a:lnTo>
                    <a:lnTo>
                      <a:pt x="1163" y="892"/>
                    </a:lnTo>
                    <a:lnTo>
                      <a:pt x="1177" y="881"/>
                    </a:lnTo>
                    <a:lnTo>
                      <a:pt x="1158" y="858"/>
                    </a:lnTo>
                    <a:lnTo>
                      <a:pt x="1144" y="848"/>
                    </a:lnTo>
                    <a:lnTo>
                      <a:pt x="1138" y="831"/>
                    </a:lnTo>
                    <a:lnTo>
                      <a:pt x="1153" y="831"/>
                    </a:lnTo>
                    <a:lnTo>
                      <a:pt x="1153" y="816"/>
                    </a:lnTo>
                    <a:lnTo>
                      <a:pt x="1164" y="806"/>
                    </a:lnTo>
                    <a:lnTo>
                      <a:pt x="1236" y="802"/>
                    </a:lnTo>
                    <a:lnTo>
                      <a:pt x="1253" y="792"/>
                    </a:lnTo>
                    <a:lnTo>
                      <a:pt x="1259" y="778"/>
                    </a:lnTo>
                    <a:lnTo>
                      <a:pt x="1272" y="771"/>
                    </a:lnTo>
                    <a:lnTo>
                      <a:pt x="1272" y="771"/>
                    </a:lnTo>
                    <a:lnTo>
                      <a:pt x="1297" y="796"/>
                    </a:lnTo>
                    <a:lnTo>
                      <a:pt x="1307" y="769"/>
                    </a:lnTo>
                    <a:lnTo>
                      <a:pt x="1313" y="691"/>
                    </a:lnTo>
                    <a:lnTo>
                      <a:pt x="1319" y="664"/>
                    </a:lnTo>
                    <a:lnTo>
                      <a:pt x="1335" y="643"/>
                    </a:lnTo>
                    <a:lnTo>
                      <a:pt x="1334" y="621"/>
                    </a:lnTo>
                    <a:lnTo>
                      <a:pt x="1322" y="616"/>
                    </a:lnTo>
                    <a:lnTo>
                      <a:pt x="1278" y="613"/>
                    </a:lnTo>
                    <a:lnTo>
                      <a:pt x="1186" y="642"/>
                    </a:lnTo>
                    <a:lnTo>
                      <a:pt x="1172" y="651"/>
                    </a:lnTo>
                    <a:lnTo>
                      <a:pt x="1166" y="699"/>
                    </a:lnTo>
                    <a:lnTo>
                      <a:pt x="1159" y="717"/>
                    </a:lnTo>
                    <a:lnTo>
                      <a:pt x="1161" y="738"/>
                    </a:lnTo>
                    <a:lnTo>
                      <a:pt x="1129" y="762"/>
                    </a:lnTo>
                    <a:lnTo>
                      <a:pt x="1134" y="772"/>
                    </a:lnTo>
                    <a:lnTo>
                      <a:pt x="1108" y="783"/>
                    </a:lnTo>
                    <a:lnTo>
                      <a:pt x="1107" y="776"/>
                    </a:lnTo>
                    <a:lnTo>
                      <a:pt x="1078" y="772"/>
                    </a:lnTo>
                    <a:lnTo>
                      <a:pt x="1052" y="786"/>
                    </a:lnTo>
                    <a:lnTo>
                      <a:pt x="979" y="802"/>
                    </a:lnTo>
                    <a:lnTo>
                      <a:pt x="963" y="784"/>
                    </a:lnTo>
                    <a:lnTo>
                      <a:pt x="915" y="771"/>
                    </a:lnTo>
                    <a:lnTo>
                      <a:pt x="873" y="704"/>
                    </a:lnTo>
                    <a:lnTo>
                      <a:pt x="845" y="672"/>
                    </a:lnTo>
                    <a:lnTo>
                      <a:pt x="837" y="652"/>
                    </a:lnTo>
                    <a:lnTo>
                      <a:pt x="845" y="636"/>
                    </a:lnTo>
                    <a:lnTo>
                      <a:pt x="821" y="618"/>
                    </a:lnTo>
                    <a:lnTo>
                      <a:pt x="813" y="593"/>
                    </a:lnTo>
                    <a:lnTo>
                      <a:pt x="821" y="572"/>
                    </a:lnTo>
                    <a:lnTo>
                      <a:pt x="820" y="497"/>
                    </a:lnTo>
                    <a:lnTo>
                      <a:pt x="833" y="447"/>
                    </a:lnTo>
                    <a:lnTo>
                      <a:pt x="848" y="421"/>
                    </a:lnTo>
                    <a:lnTo>
                      <a:pt x="848" y="421"/>
                    </a:lnTo>
                    <a:lnTo>
                      <a:pt x="796" y="411"/>
                    </a:lnTo>
                    <a:lnTo>
                      <a:pt x="758" y="393"/>
                    </a:lnTo>
                    <a:lnTo>
                      <a:pt x="745" y="367"/>
                    </a:lnTo>
                    <a:lnTo>
                      <a:pt x="735" y="340"/>
                    </a:lnTo>
                    <a:lnTo>
                      <a:pt x="701" y="295"/>
                    </a:lnTo>
                    <a:lnTo>
                      <a:pt x="685" y="255"/>
                    </a:lnTo>
                    <a:lnTo>
                      <a:pt x="657" y="225"/>
                    </a:lnTo>
                    <a:lnTo>
                      <a:pt x="645" y="218"/>
                    </a:lnTo>
                    <a:lnTo>
                      <a:pt x="603" y="218"/>
                    </a:lnTo>
                    <a:lnTo>
                      <a:pt x="578" y="253"/>
                    </a:lnTo>
                    <a:lnTo>
                      <a:pt x="566" y="258"/>
                    </a:lnTo>
                    <a:lnTo>
                      <a:pt x="553" y="252"/>
                    </a:lnTo>
                    <a:lnTo>
                      <a:pt x="515" y="213"/>
                    </a:lnTo>
                    <a:lnTo>
                      <a:pt x="504" y="170"/>
                    </a:lnTo>
                    <a:lnTo>
                      <a:pt x="475" y="142"/>
                    </a:lnTo>
                    <a:lnTo>
                      <a:pt x="447" y="110"/>
                    </a:lnTo>
                    <a:lnTo>
                      <a:pt x="370" y="101"/>
                    </a:lnTo>
                    <a:lnTo>
                      <a:pt x="365" y="116"/>
                    </a:lnTo>
                    <a:lnTo>
                      <a:pt x="352" y="120"/>
                    </a:lnTo>
                    <a:lnTo>
                      <a:pt x="246" y="110"/>
                    </a:lnTo>
                    <a:lnTo>
                      <a:pt x="123" y="33"/>
                    </a:lnTo>
                    <a:lnTo>
                      <a:pt x="91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278400" y="2171160"/>
                <a:ext cx="351000" cy="375840"/>
              </a:xfrm>
              <a:custGeom>
                <a:avLst/>
                <a:gdLst/>
                <a:ahLst/>
                <a:rect l="l" t="t" r="r" b="b"/>
                <a:pathLst>
                  <a:path w="948" h="1134">
                    <a:moveTo>
                      <a:pt x="948" y="366"/>
                    </a:moveTo>
                    <a:lnTo>
                      <a:pt x="780" y="547"/>
                    </a:lnTo>
                    <a:lnTo>
                      <a:pt x="625" y="714"/>
                    </a:lnTo>
                    <a:lnTo>
                      <a:pt x="620" y="728"/>
                    </a:lnTo>
                    <a:lnTo>
                      <a:pt x="654" y="752"/>
                    </a:lnTo>
                    <a:lnTo>
                      <a:pt x="644" y="764"/>
                    </a:lnTo>
                    <a:lnTo>
                      <a:pt x="645" y="818"/>
                    </a:lnTo>
                    <a:lnTo>
                      <a:pt x="641" y="832"/>
                    </a:lnTo>
                    <a:lnTo>
                      <a:pt x="647" y="841"/>
                    </a:lnTo>
                    <a:lnTo>
                      <a:pt x="664" y="842"/>
                    </a:lnTo>
                    <a:lnTo>
                      <a:pt x="686" y="831"/>
                    </a:lnTo>
                    <a:lnTo>
                      <a:pt x="710" y="838"/>
                    </a:lnTo>
                    <a:lnTo>
                      <a:pt x="704" y="891"/>
                    </a:lnTo>
                    <a:lnTo>
                      <a:pt x="710" y="909"/>
                    </a:lnTo>
                    <a:lnTo>
                      <a:pt x="694" y="1029"/>
                    </a:lnTo>
                    <a:lnTo>
                      <a:pt x="724" y="1083"/>
                    </a:lnTo>
                    <a:lnTo>
                      <a:pt x="699" y="1129"/>
                    </a:lnTo>
                    <a:lnTo>
                      <a:pt x="674" y="1134"/>
                    </a:lnTo>
                    <a:lnTo>
                      <a:pt x="666" y="1114"/>
                    </a:lnTo>
                    <a:lnTo>
                      <a:pt x="667" y="1068"/>
                    </a:lnTo>
                    <a:lnTo>
                      <a:pt x="679" y="1054"/>
                    </a:lnTo>
                    <a:lnTo>
                      <a:pt x="667" y="1047"/>
                    </a:lnTo>
                    <a:lnTo>
                      <a:pt x="660" y="1029"/>
                    </a:lnTo>
                    <a:lnTo>
                      <a:pt x="654" y="1089"/>
                    </a:lnTo>
                    <a:lnTo>
                      <a:pt x="637" y="1117"/>
                    </a:lnTo>
                    <a:lnTo>
                      <a:pt x="639" y="1091"/>
                    </a:lnTo>
                    <a:lnTo>
                      <a:pt x="631" y="1053"/>
                    </a:lnTo>
                    <a:lnTo>
                      <a:pt x="635" y="1034"/>
                    </a:lnTo>
                    <a:lnTo>
                      <a:pt x="647" y="1016"/>
                    </a:lnTo>
                    <a:lnTo>
                      <a:pt x="632" y="1011"/>
                    </a:lnTo>
                    <a:lnTo>
                      <a:pt x="644" y="987"/>
                    </a:lnTo>
                    <a:lnTo>
                      <a:pt x="664" y="979"/>
                    </a:lnTo>
                    <a:lnTo>
                      <a:pt x="679" y="1001"/>
                    </a:lnTo>
                    <a:lnTo>
                      <a:pt x="681" y="959"/>
                    </a:lnTo>
                    <a:lnTo>
                      <a:pt x="666" y="969"/>
                    </a:lnTo>
                    <a:lnTo>
                      <a:pt x="647" y="973"/>
                    </a:lnTo>
                    <a:lnTo>
                      <a:pt x="669" y="928"/>
                    </a:lnTo>
                    <a:lnTo>
                      <a:pt x="680" y="914"/>
                    </a:lnTo>
                    <a:lnTo>
                      <a:pt x="686" y="891"/>
                    </a:lnTo>
                    <a:lnTo>
                      <a:pt x="669" y="907"/>
                    </a:lnTo>
                    <a:lnTo>
                      <a:pt x="657" y="898"/>
                    </a:lnTo>
                    <a:lnTo>
                      <a:pt x="662" y="923"/>
                    </a:lnTo>
                    <a:lnTo>
                      <a:pt x="617" y="1004"/>
                    </a:lnTo>
                    <a:lnTo>
                      <a:pt x="631" y="944"/>
                    </a:lnTo>
                    <a:lnTo>
                      <a:pt x="630" y="916"/>
                    </a:lnTo>
                    <a:lnTo>
                      <a:pt x="639" y="888"/>
                    </a:lnTo>
                    <a:lnTo>
                      <a:pt x="630" y="864"/>
                    </a:lnTo>
                    <a:lnTo>
                      <a:pt x="626" y="808"/>
                    </a:lnTo>
                    <a:lnTo>
                      <a:pt x="617" y="783"/>
                    </a:lnTo>
                    <a:lnTo>
                      <a:pt x="631" y="761"/>
                    </a:lnTo>
                    <a:lnTo>
                      <a:pt x="611" y="761"/>
                    </a:lnTo>
                    <a:lnTo>
                      <a:pt x="599" y="742"/>
                    </a:lnTo>
                    <a:lnTo>
                      <a:pt x="591" y="716"/>
                    </a:lnTo>
                    <a:lnTo>
                      <a:pt x="555" y="677"/>
                    </a:lnTo>
                    <a:lnTo>
                      <a:pt x="547" y="649"/>
                    </a:lnTo>
                    <a:lnTo>
                      <a:pt x="541" y="596"/>
                    </a:lnTo>
                    <a:lnTo>
                      <a:pt x="526" y="578"/>
                    </a:lnTo>
                    <a:lnTo>
                      <a:pt x="520" y="556"/>
                    </a:lnTo>
                    <a:lnTo>
                      <a:pt x="500" y="579"/>
                    </a:lnTo>
                    <a:lnTo>
                      <a:pt x="473" y="588"/>
                    </a:lnTo>
                    <a:lnTo>
                      <a:pt x="460" y="571"/>
                    </a:lnTo>
                    <a:lnTo>
                      <a:pt x="410" y="563"/>
                    </a:lnTo>
                    <a:lnTo>
                      <a:pt x="391" y="544"/>
                    </a:lnTo>
                    <a:lnTo>
                      <a:pt x="413" y="544"/>
                    </a:lnTo>
                    <a:lnTo>
                      <a:pt x="413" y="527"/>
                    </a:lnTo>
                    <a:lnTo>
                      <a:pt x="441" y="522"/>
                    </a:lnTo>
                    <a:lnTo>
                      <a:pt x="464" y="503"/>
                    </a:lnTo>
                    <a:lnTo>
                      <a:pt x="486" y="517"/>
                    </a:lnTo>
                    <a:lnTo>
                      <a:pt x="506" y="516"/>
                    </a:lnTo>
                    <a:lnTo>
                      <a:pt x="495" y="499"/>
                    </a:lnTo>
                    <a:lnTo>
                      <a:pt x="468" y="491"/>
                    </a:lnTo>
                    <a:lnTo>
                      <a:pt x="445" y="489"/>
                    </a:lnTo>
                    <a:lnTo>
                      <a:pt x="420" y="499"/>
                    </a:lnTo>
                    <a:lnTo>
                      <a:pt x="394" y="501"/>
                    </a:lnTo>
                    <a:lnTo>
                      <a:pt x="374" y="492"/>
                    </a:lnTo>
                    <a:lnTo>
                      <a:pt x="355" y="498"/>
                    </a:lnTo>
                    <a:lnTo>
                      <a:pt x="360" y="519"/>
                    </a:lnTo>
                    <a:lnTo>
                      <a:pt x="335" y="523"/>
                    </a:lnTo>
                    <a:lnTo>
                      <a:pt x="313" y="522"/>
                    </a:lnTo>
                    <a:lnTo>
                      <a:pt x="254" y="501"/>
                    </a:lnTo>
                    <a:lnTo>
                      <a:pt x="229" y="503"/>
                    </a:lnTo>
                    <a:lnTo>
                      <a:pt x="179" y="476"/>
                    </a:lnTo>
                    <a:lnTo>
                      <a:pt x="155" y="479"/>
                    </a:lnTo>
                    <a:lnTo>
                      <a:pt x="93" y="425"/>
                    </a:lnTo>
                    <a:lnTo>
                      <a:pt x="74" y="415"/>
                    </a:lnTo>
                    <a:lnTo>
                      <a:pt x="55" y="395"/>
                    </a:lnTo>
                    <a:lnTo>
                      <a:pt x="0" y="357"/>
                    </a:lnTo>
                    <a:lnTo>
                      <a:pt x="12" y="346"/>
                    </a:lnTo>
                    <a:lnTo>
                      <a:pt x="42" y="363"/>
                    </a:lnTo>
                    <a:lnTo>
                      <a:pt x="67" y="386"/>
                    </a:lnTo>
                    <a:lnTo>
                      <a:pt x="93" y="391"/>
                    </a:lnTo>
                    <a:lnTo>
                      <a:pt x="117" y="410"/>
                    </a:lnTo>
                    <a:lnTo>
                      <a:pt x="132" y="432"/>
                    </a:lnTo>
                    <a:lnTo>
                      <a:pt x="161" y="432"/>
                    </a:lnTo>
                    <a:lnTo>
                      <a:pt x="188" y="447"/>
                    </a:lnTo>
                    <a:lnTo>
                      <a:pt x="241" y="458"/>
                    </a:lnTo>
                    <a:lnTo>
                      <a:pt x="294" y="430"/>
                    </a:lnTo>
                    <a:lnTo>
                      <a:pt x="283" y="417"/>
                    </a:lnTo>
                    <a:lnTo>
                      <a:pt x="279" y="398"/>
                    </a:lnTo>
                    <a:lnTo>
                      <a:pt x="260" y="401"/>
                    </a:lnTo>
                    <a:lnTo>
                      <a:pt x="274" y="371"/>
                    </a:lnTo>
                    <a:lnTo>
                      <a:pt x="256" y="335"/>
                    </a:lnTo>
                    <a:lnTo>
                      <a:pt x="243" y="325"/>
                    </a:lnTo>
                    <a:lnTo>
                      <a:pt x="258" y="306"/>
                    </a:lnTo>
                    <a:lnTo>
                      <a:pt x="276" y="303"/>
                    </a:lnTo>
                    <a:lnTo>
                      <a:pt x="298" y="275"/>
                    </a:lnTo>
                    <a:lnTo>
                      <a:pt x="269" y="265"/>
                    </a:lnTo>
                    <a:lnTo>
                      <a:pt x="261" y="245"/>
                    </a:lnTo>
                    <a:lnTo>
                      <a:pt x="294" y="193"/>
                    </a:lnTo>
                    <a:lnTo>
                      <a:pt x="314" y="175"/>
                    </a:lnTo>
                    <a:lnTo>
                      <a:pt x="329" y="147"/>
                    </a:lnTo>
                    <a:lnTo>
                      <a:pt x="364" y="145"/>
                    </a:lnTo>
                    <a:lnTo>
                      <a:pt x="394" y="148"/>
                    </a:lnTo>
                    <a:lnTo>
                      <a:pt x="411" y="146"/>
                    </a:lnTo>
                    <a:lnTo>
                      <a:pt x="429" y="156"/>
                    </a:lnTo>
                    <a:lnTo>
                      <a:pt x="425" y="182"/>
                    </a:lnTo>
                    <a:lnTo>
                      <a:pt x="451" y="191"/>
                    </a:lnTo>
                    <a:lnTo>
                      <a:pt x="468" y="215"/>
                    </a:lnTo>
                    <a:lnTo>
                      <a:pt x="493" y="207"/>
                    </a:lnTo>
                    <a:lnTo>
                      <a:pt x="506" y="187"/>
                    </a:lnTo>
                    <a:lnTo>
                      <a:pt x="529" y="182"/>
                    </a:lnTo>
                    <a:lnTo>
                      <a:pt x="494" y="156"/>
                    </a:lnTo>
                    <a:lnTo>
                      <a:pt x="494" y="132"/>
                    </a:lnTo>
                    <a:lnTo>
                      <a:pt x="480" y="107"/>
                    </a:lnTo>
                    <a:lnTo>
                      <a:pt x="476" y="73"/>
                    </a:lnTo>
                    <a:lnTo>
                      <a:pt x="491" y="60"/>
                    </a:lnTo>
                    <a:lnTo>
                      <a:pt x="510" y="60"/>
                    </a:lnTo>
                    <a:lnTo>
                      <a:pt x="506" y="40"/>
                    </a:lnTo>
                    <a:lnTo>
                      <a:pt x="511" y="23"/>
                    </a:lnTo>
                    <a:lnTo>
                      <a:pt x="537" y="36"/>
                    </a:lnTo>
                    <a:lnTo>
                      <a:pt x="576" y="70"/>
                    </a:lnTo>
                    <a:lnTo>
                      <a:pt x="582" y="87"/>
                    </a:lnTo>
                    <a:lnTo>
                      <a:pt x="564" y="98"/>
                    </a:lnTo>
                    <a:lnTo>
                      <a:pt x="576" y="128"/>
                    </a:lnTo>
                    <a:lnTo>
                      <a:pt x="595" y="128"/>
                    </a:lnTo>
                    <a:lnTo>
                      <a:pt x="617" y="80"/>
                    </a:lnTo>
                    <a:lnTo>
                      <a:pt x="637" y="60"/>
                    </a:lnTo>
                    <a:lnTo>
                      <a:pt x="655" y="6"/>
                    </a:lnTo>
                    <a:lnTo>
                      <a:pt x="680" y="0"/>
                    </a:lnTo>
                    <a:lnTo>
                      <a:pt x="707" y="40"/>
                    </a:lnTo>
                    <a:lnTo>
                      <a:pt x="751" y="36"/>
                    </a:lnTo>
                    <a:lnTo>
                      <a:pt x="779" y="46"/>
                    </a:lnTo>
                    <a:lnTo>
                      <a:pt x="790" y="61"/>
                    </a:lnTo>
                    <a:lnTo>
                      <a:pt x="820" y="73"/>
                    </a:lnTo>
                    <a:lnTo>
                      <a:pt x="832" y="95"/>
                    </a:lnTo>
                    <a:lnTo>
                      <a:pt x="862" y="102"/>
                    </a:lnTo>
                    <a:lnTo>
                      <a:pt x="865" y="128"/>
                    </a:lnTo>
                    <a:lnTo>
                      <a:pt x="857" y="142"/>
                    </a:lnTo>
                    <a:lnTo>
                      <a:pt x="875" y="168"/>
                    </a:lnTo>
                    <a:lnTo>
                      <a:pt x="867" y="195"/>
                    </a:lnTo>
                    <a:lnTo>
                      <a:pt x="892" y="231"/>
                    </a:lnTo>
                    <a:lnTo>
                      <a:pt x="896" y="260"/>
                    </a:lnTo>
                    <a:lnTo>
                      <a:pt x="911" y="278"/>
                    </a:lnTo>
                    <a:lnTo>
                      <a:pt x="913" y="300"/>
                    </a:lnTo>
                    <a:lnTo>
                      <a:pt x="943" y="326"/>
                    </a:lnTo>
                    <a:lnTo>
                      <a:pt x="948" y="3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87960" y="2769120"/>
                <a:ext cx="108720" cy="81360"/>
              </a:xfrm>
              <a:custGeom>
                <a:avLst/>
                <a:gdLst/>
                <a:ahLst/>
                <a:rect l="l" t="t" r="r" b="b"/>
                <a:pathLst>
                  <a:path w="292" h="246">
                    <a:moveTo>
                      <a:pt x="211" y="154"/>
                    </a:moveTo>
                    <a:lnTo>
                      <a:pt x="211" y="153"/>
                    </a:lnTo>
                    <a:lnTo>
                      <a:pt x="232" y="138"/>
                    </a:lnTo>
                    <a:lnTo>
                      <a:pt x="227" y="108"/>
                    </a:lnTo>
                    <a:lnTo>
                      <a:pt x="236" y="60"/>
                    </a:lnTo>
                    <a:lnTo>
                      <a:pt x="226" y="45"/>
                    </a:lnTo>
                    <a:lnTo>
                      <a:pt x="251" y="61"/>
                    </a:lnTo>
                    <a:lnTo>
                      <a:pt x="282" y="70"/>
                    </a:lnTo>
                    <a:lnTo>
                      <a:pt x="292" y="51"/>
                    </a:lnTo>
                    <a:lnTo>
                      <a:pt x="246" y="4"/>
                    </a:lnTo>
                    <a:lnTo>
                      <a:pt x="189" y="0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5" y="6"/>
                    </a:lnTo>
                    <a:lnTo>
                      <a:pt x="132" y="21"/>
                    </a:lnTo>
                    <a:lnTo>
                      <a:pt x="89" y="24"/>
                    </a:lnTo>
                    <a:lnTo>
                      <a:pt x="30" y="44"/>
                    </a:lnTo>
                    <a:lnTo>
                      <a:pt x="0" y="104"/>
                    </a:lnTo>
                    <a:lnTo>
                      <a:pt x="25" y="85"/>
                    </a:lnTo>
                    <a:lnTo>
                      <a:pt x="9" y="173"/>
                    </a:lnTo>
                    <a:lnTo>
                      <a:pt x="15" y="223"/>
                    </a:lnTo>
                    <a:lnTo>
                      <a:pt x="31" y="246"/>
                    </a:lnTo>
                    <a:lnTo>
                      <a:pt x="46" y="245"/>
                    </a:lnTo>
                    <a:lnTo>
                      <a:pt x="63" y="234"/>
                    </a:lnTo>
                    <a:lnTo>
                      <a:pt x="69" y="218"/>
                    </a:lnTo>
                    <a:lnTo>
                      <a:pt x="71" y="188"/>
                    </a:lnTo>
                    <a:lnTo>
                      <a:pt x="56" y="124"/>
                    </a:lnTo>
                    <a:lnTo>
                      <a:pt x="65" y="80"/>
                    </a:lnTo>
                    <a:lnTo>
                      <a:pt x="90" y="65"/>
                    </a:lnTo>
                    <a:lnTo>
                      <a:pt x="100" y="39"/>
                    </a:lnTo>
                    <a:lnTo>
                      <a:pt x="118" y="35"/>
                    </a:lnTo>
                    <a:lnTo>
                      <a:pt x="151" y="48"/>
                    </a:lnTo>
                    <a:lnTo>
                      <a:pt x="164" y="64"/>
                    </a:lnTo>
                    <a:lnTo>
                      <a:pt x="167" y="93"/>
                    </a:lnTo>
                    <a:lnTo>
                      <a:pt x="152" y="119"/>
                    </a:lnTo>
                    <a:lnTo>
                      <a:pt x="156" y="136"/>
                    </a:lnTo>
                    <a:lnTo>
                      <a:pt x="169" y="118"/>
                    </a:lnTo>
                    <a:lnTo>
                      <a:pt x="184" y="106"/>
                    </a:lnTo>
                    <a:lnTo>
                      <a:pt x="211" y="153"/>
                    </a:lnTo>
                    <a:lnTo>
                      <a:pt x="211" y="1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55640" y="2815920"/>
                <a:ext cx="59760" cy="3060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63" y="0"/>
                    </a:moveTo>
                    <a:lnTo>
                      <a:pt x="163" y="0"/>
                    </a:lnTo>
                    <a:lnTo>
                      <a:pt x="150" y="20"/>
                    </a:lnTo>
                    <a:lnTo>
                      <a:pt x="69" y="82"/>
                    </a:lnTo>
                    <a:lnTo>
                      <a:pt x="26" y="93"/>
                    </a:lnTo>
                    <a:lnTo>
                      <a:pt x="0" y="84"/>
                    </a:lnTo>
                    <a:lnTo>
                      <a:pt x="13" y="69"/>
                    </a:lnTo>
                    <a:lnTo>
                      <a:pt x="13" y="70"/>
                    </a:lnTo>
                    <a:lnTo>
                      <a:pt x="13" y="69"/>
                    </a:lnTo>
                    <a:lnTo>
                      <a:pt x="34" y="65"/>
                    </a:lnTo>
                    <a:lnTo>
                      <a:pt x="58" y="50"/>
                    </a:lnTo>
                    <a:lnTo>
                      <a:pt x="68" y="32"/>
                    </a:lnTo>
                    <a:lnTo>
                      <a:pt x="88" y="24"/>
                    </a:lnTo>
                    <a:lnTo>
                      <a:pt x="105" y="25"/>
                    </a:lnTo>
                    <a:lnTo>
                      <a:pt x="114" y="10"/>
                    </a:lnTo>
                    <a:lnTo>
                      <a:pt x="163" y="0"/>
                    </a:lnTo>
                    <a:lnTo>
                      <a:pt x="1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101360" y="2784960"/>
                <a:ext cx="46440" cy="2772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26" y="77"/>
                    </a:moveTo>
                    <a:lnTo>
                      <a:pt x="26" y="77"/>
                    </a:lnTo>
                    <a:lnTo>
                      <a:pt x="19" y="82"/>
                    </a:lnTo>
                    <a:lnTo>
                      <a:pt x="0" y="80"/>
                    </a:lnTo>
                    <a:lnTo>
                      <a:pt x="8" y="57"/>
                    </a:lnTo>
                    <a:lnTo>
                      <a:pt x="68" y="30"/>
                    </a:lnTo>
                    <a:lnTo>
                      <a:pt x="93" y="27"/>
                    </a:lnTo>
                    <a:lnTo>
                      <a:pt x="101" y="12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8" y="17"/>
                    </a:lnTo>
                    <a:lnTo>
                      <a:pt x="126" y="42"/>
                    </a:lnTo>
                    <a:lnTo>
                      <a:pt x="84" y="63"/>
                    </a:lnTo>
                    <a:lnTo>
                      <a:pt x="43" y="67"/>
                    </a:lnTo>
                    <a:lnTo>
                      <a:pt x="26" y="77"/>
                    </a:lnTo>
                    <a:lnTo>
                      <a:pt x="26" y="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932520" y="2732400"/>
                <a:ext cx="97560" cy="41760"/>
              </a:xfrm>
              <a:custGeom>
                <a:avLst/>
                <a:gdLst/>
                <a:ahLst/>
                <a:rect l="l" t="t" r="r" b="b"/>
                <a:pathLst>
                  <a:path w="264" h="128">
                    <a:moveTo>
                      <a:pt x="72" y="53"/>
                    </a:moveTo>
                    <a:lnTo>
                      <a:pt x="72" y="53"/>
                    </a:lnTo>
                    <a:lnTo>
                      <a:pt x="96" y="31"/>
                    </a:lnTo>
                    <a:lnTo>
                      <a:pt x="119" y="16"/>
                    </a:lnTo>
                    <a:lnTo>
                      <a:pt x="127" y="0"/>
                    </a:lnTo>
                    <a:lnTo>
                      <a:pt x="154" y="8"/>
                    </a:lnTo>
                    <a:lnTo>
                      <a:pt x="181" y="6"/>
                    </a:lnTo>
                    <a:lnTo>
                      <a:pt x="195" y="28"/>
                    </a:lnTo>
                    <a:lnTo>
                      <a:pt x="212" y="45"/>
                    </a:lnTo>
                    <a:lnTo>
                      <a:pt x="237" y="41"/>
                    </a:lnTo>
                    <a:lnTo>
                      <a:pt x="239" y="58"/>
                    </a:lnTo>
                    <a:lnTo>
                      <a:pt x="251" y="68"/>
                    </a:lnTo>
                    <a:lnTo>
                      <a:pt x="251" y="8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64" y="108"/>
                    </a:lnTo>
                    <a:lnTo>
                      <a:pt x="245" y="111"/>
                    </a:lnTo>
                    <a:lnTo>
                      <a:pt x="244" y="98"/>
                    </a:lnTo>
                    <a:lnTo>
                      <a:pt x="216" y="106"/>
                    </a:lnTo>
                    <a:lnTo>
                      <a:pt x="189" y="121"/>
                    </a:lnTo>
                    <a:lnTo>
                      <a:pt x="165" y="124"/>
                    </a:lnTo>
                    <a:lnTo>
                      <a:pt x="150" y="104"/>
                    </a:lnTo>
                    <a:lnTo>
                      <a:pt x="126" y="111"/>
                    </a:lnTo>
                    <a:lnTo>
                      <a:pt x="125" y="94"/>
                    </a:lnTo>
                    <a:lnTo>
                      <a:pt x="146" y="76"/>
                    </a:lnTo>
                    <a:lnTo>
                      <a:pt x="129" y="78"/>
                    </a:lnTo>
                    <a:lnTo>
                      <a:pt x="106" y="99"/>
                    </a:lnTo>
                    <a:lnTo>
                      <a:pt x="56" y="128"/>
                    </a:lnTo>
                    <a:lnTo>
                      <a:pt x="40" y="108"/>
                    </a:lnTo>
                    <a:lnTo>
                      <a:pt x="16" y="122"/>
                    </a:lnTo>
                    <a:lnTo>
                      <a:pt x="0" y="122"/>
                    </a:lnTo>
                    <a:lnTo>
                      <a:pt x="51" y="71"/>
                    </a:lnTo>
                    <a:lnTo>
                      <a:pt x="72" y="53"/>
                    </a:lnTo>
                    <a:lnTo>
                      <a:pt x="72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78000" y="2401920"/>
                <a:ext cx="54360" cy="31680"/>
              </a:xfrm>
              <a:custGeom>
                <a:avLst/>
                <a:gdLst/>
                <a:ahLst/>
                <a:rect l="l" t="t" r="r" b="b"/>
                <a:pathLst>
                  <a:path w="145" h="95">
                    <a:moveTo>
                      <a:pt x="0" y="0"/>
                    </a:moveTo>
                    <a:lnTo>
                      <a:pt x="61" y="20"/>
                    </a:lnTo>
                    <a:lnTo>
                      <a:pt x="74" y="41"/>
                    </a:lnTo>
                    <a:lnTo>
                      <a:pt x="33" y="45"/>
                    </a:lnTo>
                    <a:lnTo>
                      <a:pt x="10" y="66"/>
                    </a:lnTo>
                    <a:lnTo>
                      <a:pt x="38" y="80"/>
                    </a:lnTo>
                    <a:lnTo>
                      <a:pt x="49" y="66"/>
                    </a:lnTo>
                    <a:lnTo>
                      <a:pt x="74" y="60"/>
                    </a:lnTo>
                    <a:lnTo>
                      <a:pt x="69" y="76"/>
                    </a:lnTo>
                    <a:lnTo>
                      <a:pt x="50" y="95"/>
                    </a:lnTo>
                    <a:lnTo>
                      <a:pt x="93" y="85"/>
                    </a:lnTo>
                    <a:lnTo>
                      <a:pt x="89" y="58"/>
                    </a:lnTo>
                    <a:lnTo>
                      <a:pt x="116" y="78"/>
                    </a:lnTo>
                    <a:lnTo>
                      <a:pt x="145" y="48"/>
                    </a:lnTo>
                    <a:lnTo>
                      <a:pt x="118" y="41"/>
                    </a:lnTo>
                    <a:lnTo>
                      <a:pt x="93" y="26"/>
                    </a:lnTo>
                    <a:lnTo>
                      <a:pt x="131" y="15"/>
                    </a:lnTo>
                    <a:lnTo>
                      <a:pt x="116" y="0"/>
                    </a:lnTo>
                    <a:lnTo>
                      <a:pt x="85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701400" y="2487600"/>
                <a:ext cx="75240" cy="26640"/>
              </a:xfrm>
              <a:custGeom>
                <a:avLst/>
                <a:gdLst/>
                <a:ahLst/>
                <a:rect l="l" t="t" r="r" b="b"/>
                <a:pathLst>
                  <a:path w="204" h="83">
                    <a:moveTo>
                      <a:pt x="0" y="46"/>
                    </a:moveTo>
                    <a:lnTo>
                      <a:pt x="17" y="69"/>
                    </a:lnTo>
                    <a:lnTo>
                      <a:pt x="36" y="75"/>
                    </a:lnTo>
                    <a:lnTo>
                      <a:pt x="57" y="74"/>
                    </a:lnTo>
                    <a:lnTo>
                      <a:pt x="67" y="83"/>
                    </a:lnTo>
                    <a:lnTo>
                      <a:pt x="76" y="68"/>
                    </a:lnTo>
                    <a:lnTo>
                      <a:pt x="118" y="61"/>
                    </a:lnTo>
                    <a:lnTo>
                      <a:pt x="136" y="40"/>
                    </a:lnTo>
                    <a:lnTo>
                      <a:pt x="157" y="34"/>
                    </a:lnTo>
                    <a:lnTo>
                      <a:pt x="182" y="35"/>
                    </a:lnTo>
                    <a:lnTo>
                      <a:pt x="178" y="21"/>
                    </a:lnTo>
                    <a:lnTo>
                      <a:pt x="204" y="28"/>
                    </a:lnTo>
                    <a:lnTo>
                      <a:pt x="184" y="14"/>
                    </a:lnTo>
                    <a:lnTo>
                      <a:pt x="167" y="10"/>
                    </a:lnTo>
                    <a:lnTo>
                      <a:pt x="147" y="14"/>
                    </a:lnTo>
                    <a:lnTo>
                      <a:pt x="120" y="35"/>
                    </a:lnTo>
                    <a:lnTo>
                      <a:pt x="103" y="35"/>
                    </a:lnTo>
                    <a:lnTo>
                      <a:pt x="88" y="23"/>
                    </a:lnTo>
                    <a:lnTo>
                      <a:pt x="86" y="8"/>
                    </a:lnTo>
                    <a:lnTo>
                      <a:pt x="60" y="0"/>
                    </a:lnTo>
                    <a:lnTo>
                      <a:pt x="68" y="34"/>
                    </a:lnTo>
                    <a:lnTo>
                      <a:pt x="50" y="31"/>
                    </a:lnTo>
                    <a:lnTo>
                      <a:pt x="43" y="48"/>
                    </a:lnTo>
                    <a:lnTo>
                      <a:pt x="28" y="55"/>
                    </a:lnTo>
                    <a:lnTo>
                      <a:pt x="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739200" y="254304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105" h="50">
                    <a:moveTo>
                      <a:pt x="0" y="40"/>
                    </a:moveTo>
                    <a:lnTo>
                      <a:pt x="22" y="50"/>
                    </a:lnTo>
                    <a:lnTo>
                      <a:pt x="36" y="36"/>
                    </a:lnTo>
                    <a:lnTo>
                      <a:pt x="56" y="31"/>
                    </a:lnTo>
                    <a:lnTo>
                      <a:pt x="81" y="38"/>
                    </a:lnTo>
                    <a:lnTo>
                      <a:pt x="105" y="34"/>
                    </a:lnTo>
                    <a:lnTo>
                      <a:pt x="92" y="23"/>
                    </a:lnTo>
                    <a:lnTo>
                      <a:pt x="77" y="19"/>
                    </a:lnTo>
                    <a:lnTo>
                      <a:pt x="66" y="4"/>
                    </a:lnTo>
                    <a:lnTo>
                      <a:pt x="53" y="0"/>
                    </a:lnTo>
                    <a:lnTo>
                      <a:pt x="35" y="19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811200" y="2580120"/>
                <a:ext cx="18720" cy="288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27" y="76"/>
                    </a:lnTo>
                    <a:lnTo>
                      <a:pt x="32" y="36"/>
                    </a:lnTo>
                    <a:lnTo>
                      <a:pt x="50" y="26"/>
                    </a:lnTo>
                    <a:lnTo>
                      <a:pt x="39" y="0"/>
                    </a:lnTo>
                    <a:lnTo>
                      <a:pt x="14" y="34"/>
                    </a:lnTo>
                    <a:lnTo>
                      <a:pt x="20" y="55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847920" y="2654640"/>
                <a:ext cx="33480" cy="57600"/>
              </a:xfrm>
              <a:custGeom>
                <a:avLst/>
                <a:gdLst/>
                <a:ahLst/>
                <a:rect l="l" t="t" r="r" b="b"/>
                <a:pathLst>
                  <a:path w="92" h="173">
                    <a:moveTo>
                      <a:pt x="0" y="20"/>
                    </a:moveTo>
                    <a:lnTo>
                      <a:pt x="15" y="64"/>
                    </a:lnTo>
                    <a:lnTo>
                      <a:pt x="30" y="78"/>
                    </a:lnTo>
                    <a:lnTo>
                      <a:pt x="29" y="93"/>
                    </a:lnTo>
                    <a:lnTo>
                      <a:pt x="52" y="94"/>
                    </a:lnTo>
                    <a:lnTo>
                      <a:pt x="54" y="119"/>
                    </a:lnTo>
                    <a:lnTo>
                      <a:pt x="69" y="112"/>
                    </a:lnTo>
                    <a:lnTo>
                      <a:pt x="63" y="173"/>
                    </a:lnTo>
                    <a:lnTo>
                      <a:pt x="82" y="165"/>
                    </a:lnTo>
                    <a:lnTo>
                      <a:pt x="92" y="133"/>
                    </a:lnTo>
                    <a:lnTo>
                      <a:pt x="67" y="82"/>
                    </a:lnTo>
                    <a:lnTo>
                      <a:pt x="43" y="7"/>
                    </a:lnTo>
                    <a:lnTo>
                      <a:pt x="9" y="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825600" y="266472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8" h="151">
                    <a:moveTo>
                      <a:pt x="0" y="0"/>
                    </a:moveTo>
                    <a:lnTo>
                      <a:pt x="7" y="26"/>
                    </a:lnTo>
                    <a:lnTo>
                      <a:pt x="21" y="16"/>
                    </a:lnTo>
                    <a:lnTo>
                      <a:pt x="32" y="27"/>
                    </a:lnTo>
                    <a:lnTo>
                      <a:pt x="25" y="40"/>
                    </a:lnTo>
                    <a:lnTo>
                      <a:pt x="21" y="65"/>
                    </a:lnTo>
                    <a:lnTo>
                      <a:pt x="58" y="102"/>
                    </a:lnTo>
                    <a:lnTo>
                      <a:pt x="58" y="117"/>
                    </a:lnTo>
                    <a:lnTo>
                      <a:pt x="68" y="134"/>
                    </a:lnTo>
                    <a:lnTo>
                      <a:pt x="63" y="151"/>
                    </a:lnTo>
                    <a:lnTo>
                      <a:pt x="88" y="149"/>
                    </a:lnTo>
                    <a:lnTo>
                      <a:pt x="65" y="97"/>
                    </a:lnTo>
                    <a:lnTo>
                      <a:pt x="71" y="77"/>
                    </a:lnTo>
                    <a:lnTo>
                      <a:pt x="56" y="71"/>
                    </a:lnTo>
                    <a:lnTo>
                      <a:pt x="40" y="79"/>
                    </a:lnTo>
                    <a:lnTo>
                      <a:pt x="36" y="50"/>
                    </a:lnTo>
                    <a:lnTo>
                      <a:pt x="45" y="37"/>
                    </a:lnTo>
                    <a:lnTo>
                      <a:pt x="46" y="21"/>
                    </a:lnTo>
                    <a:lnTo>
                      <a:pt x="26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49160" y="277236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0" y="12"/>
                    </a:moveTo>
                    <a:lnTo>
                      <a:pt x="44" y="22"/>
                    </a:lnTo>
                    <a:lnTo>
                      <a:pt x="46" y="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955560" y="3178080"/>
                <a:ext cx="193320" cy="39600"/>
              </a:xfrm>
              <a:custGeom>
                <a:avLst/>
                <a:gdLst/>
                <a:ahLst/>
                <a:rect l="l" t="t" r="r" b="b"/>
                <a:pathLst>
                  <a:path w="521" h="118">
                    <a:moveTo>
                      <a:pt x="0" y="118"/>
                    </a:moveTo>
                    <a:lnTo>
                      <a:pt x="130" y="81"/>
                    </a:lnTo>
                    <a:lnTo>
                      <a:pt x="274" y="48"/>
                    </a:lnTo>
                    <a:lnTo>
                      <a:pt x="346" y="34"/>
                    </a:lnTo>
                    <a:lnTo>
                      <a:pt x="412" y="20"/>
                    </a:lnTo>
                    <a:lnTo>
                      <a:pt x="472" y="10"/>
                    </a:lnTo>
                    <a:lnTo>
                      <a:pt x="5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965640" y="35312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5" h="54">
                    <a:moveTo>
                      <a:pt x="4" y="0"/>
                    </a:moveTo>
                    <a:lnTo>
                      <a:pt x="0" y="25"/>
                    </a:lnTo>
                    <a:lnTo>
                      <a:pt x="18" y="34"/>
                    </a:lnTo>
                    <a:lnTo>
                      <a:pt x="0" y="50"/>
                    </a:lnTo>
                    <a:lnTo>
                      <a:pt x="18" y="54"/>
                    </a:lnTo>
                    <a:lnTo>
                      <a:pt x="35" y="35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48840" y="4330080"/>
                <a:ext cx="39960" cy="16920"/>
              </a:xfrm>
              <a:custGeom>
                <a:avLst/>
                <a:gdLst/>
                <a:ahLst/>
                <a:rect l="l" t="t" r="r" b="b"/>
                <a:pathLst>
                  <a:path w="109" h="50">
                    <a:moveTo>
                      <a:pt x="0" y="25"/>
                    </a:moveTo>
                    <a:lnTo>
                      <a:pt x="21" y="47"/>
                    </a:lnTo>
                    <a:lnTo>
                      <a:pt x="37" y="32"/>
                    </a:lnTo>
                    <a:lnTo>
                      <a:pt x="47" y="37"/>
                    </a:lnTo>
                    <a:lnTo>
                      <a:pt x="51" y="50"/>
                    </a:lnTo>
                    <a:lnTo>
                      <a:pt x="74" y="47"/>
                    </a:lnTo>
                    <a:lnTo>
                      <a:pt x="84" y="35"/>
                    </a:lnTo>
                    <a:lnTo>
                      <a:pt x="107" y="25"/>
                    </a:lnTo>
                    <a:lnTo>
                      <a:pt x="109" y="10"/>
                    </a:lnTo>
                    <a:lnTo>
                      <a:pt x="90" y="0"/>
                    </a:lnTo>
                    <a:lnTo>
                      <a:pt x="67" y="10"/>
                    </a:lnTo>
                    <a:lnTo>
                      <a:pt x="47" y="0"/>
                    </a:lnTo>
                    <a:lnTo>
                      <a:pt x="20" y="5"/>
                    </a:lnTo>
                    <a:lnTo>
                      <a:pt x="31" y="20"/>
                    </a:lnTo>
                    <a:lnTo>
                      <a:pt x="21" y="32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801920" y="4392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0"/>
                    </a:moveTo>
                    <a:lnTo>
                      <a:pt x="33" y="31"/>
                    </a:lnTo>
                    <a:lnTo>
                      <a:pt x="42" y="56"/>
                    </a:lnTo>
                    <a:lnTo>
                      <a:pt x="53" y="40"/>
                    </a:lnTo>
                    <a:lnTo>
                      <a:pt x="45" y="25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27600" y="3298320"/>
                <a:ext cx="15480" cy="118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0" y="38"/>
                    </a:moveTo>
                    <a:lnTo>
                      <a:pt x="30" y="37"/>
                    </a:lnTo>
                    <a:lnTo>
                      <a:pt x="42" y="25"/>
                    </a:lnTo>
                    <a:lnTo>
                      <a:pt x="42" y="0"/>
                    </a:lnTo>
                    <a:lnTo>
                      <a:pt x="9" y="5"/>
                    </a:lnTo>
                    <a:lnTo>
                      <a:pt x="17" y="10"/>
                    </a:lnTo>
                    <a:lnTo>
                      <a:pt x="17" y="30"/>
                    </a:lnTo>
                    <a:lnTo>
                      <a:pt x="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31320" y="31899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101" h="33">
                    <a:moveTo>
                      <a:pt x="0" y="20"/>
                    </a:moveTo>
                    <a:lnTo>
                      <a:pt x="18" y="18"/>
                    </a:lnTo>
                    <a:lnTo>
                      <a:pt x="31" y="32"/>
                    </a:lnTo>
                    <a:lnTo>
                      <a:pt x="53" y="33"/>
                    </a:lnTo>
                    <a:lnTo>
                      <a:pt x="70" y="23"/>
                    </a:lnTo>
                    <a:lnTo>
                      <a:pt x="101" y="23"/>
                    </a:lnTo>
                    <a:lnTo>
                      <a:pt x="95" y="7"/>
                    </a:lnTo>
                    <a:lnTo>
                      <a:pt x="76" y="1"/>
                    </a:lnTo>
                    <a:lnTo>
                      <a:pt x="26" y="0"/>
                    </a:lnTo>
                    <a:lnTo>
                      <a:pt x="5" y="11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28680" y="320400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9"/>
                    </a:moveTo>
                    <a:lnTo>
                      <a:pt x="4" y="25"/>
                    </a:lnTo>
                    <a:lnTo>
                      <a:pt x="13" y="15"/>
                    </a:lnTo>
                    <a:lnTo>
                      <a:pt x="24" y="12"/>
                    </a:lnTo>
                    <a:lnTo>
                      <a:pt x="17" y="0"/>
                    </a:lnTo>
                    <a:lnTo>
                      <a:pt x="12" y="12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963480" y="323388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6" h="214">
                    <a:moveTo>
                      <a:pt x="7" y="169"/>
                    </a:moveTo>
                    <a:lnTo>
                      <a:pt x="50" y="111"/>
                    </a:lnTo>
                    <a:lnTo>
                      <a:pt x="82" y="104"/>
                    </a:lnTo>
                    <a:lnTo>
                      <a:pt x="101" y="89"/>
                    </a:lnTo>
                    <a:lnTo>
                      <a:pt x="85" y="70"/>
                    </a:lnTo>
                    <a:lnTo>
                      <a:pt x="71" y="64"/>
                    </a:lnTo>
                    <a:lnTo>
                      <a:pt x="67" y="48"/>
                    </a:lnTo>
                    <a:lnTo>
                      <a:pt x="85" y="44"/>
                    </a:lnTo>
                    <a:lnTo>
                      <a:pt x="86" y="29"/>
                    </a:lnTo>
                    <a:lnTo>
                      <a:pt x="102" y="16"/>
                    </a:lnTo>
                    <a:lnTo>
                      <a:pt x="176" y="0"/>
                    </a:lnTo>
                    <a:lnTo>
                      <a:pt x="165" y="80"/>
                    </a:lnTo>
                    <a:lnTo>
                      <a:pt x="168" y="93"/>
                    </a:lnTo>
                    <a:lnTo>
                      <a:pt x="180" y="91"/>
                    </a:lnTo>
                    <a:lnTo>
                      <a:pt x="180" y="91"/>
                    </a:lnTo>
                    <a:lnTo>
                      <a:pt x="206" y="95"/>
                    </a:lnTo>
                    <a:lnTo>
                      <a:pt x="206" y="96"/>
                    </a:lnTo>
                    <a:lnTo>
                      <a:pt x="197" y="110"/>
                    </a:lnTo>
                    <a:lnTo>
                      <a:pt x="157" y="143"/>
                    </a:lnTo>
                    <a:lnTo>
                      <a:pt x="156" y="156"/>
                    </a:lnTo>
                    <a:lnTo>
                      <a:pt x="143" y="171"/>
                    </a:lnTo>
                    <a:lnTo>
                      <a:pt x="135" y="186"/>
                    </a:lnTo>
                    <a:lnTo>
                      <a:pt x="108" y="211"/>
                    </a:lnTo>
                    <a:lnTo>
                      <a:pt x="110" y="211"/>
                    </a:lnTo>
                    <a:lnTo>
                      <a:pt x="86" y="209"/>
                    </a:lnTo>
                    <a:lnTo>
                      <a:pt x="61" y="214"/>
                    </a:lnTo>
                    <a:lnTo>
                      <a:pt x="36" y="211"/>
                    </a:lnTo>
                    <a:lnTo>
                      <a:pt x="11" y="205"/>
                    </a:lnTo>
                    <a:lnTo>
                      <a:pt x="0" y="196"/>
                    </a:lnTo>
                    <a:lnTo>
                      <a:pt x="7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54480" y="3178080"/>
                <a:ext cx="124200" cy="121320"/>
              </a:xfrm>
              <a:custGeom>
                <a:avLst/>
                <a:gdLst/>
                <a:ahLst/>
                <a:rect l="l" t="t" r="r" b="b"/>
                <a:pathLst>
                  <a:path w="335" h="364">
                    <a:moveTo>
                      <a:pt x="23" y="364"/>
                    </a:moveTo>
                    <a:lnTo>
                      <a:pt x="0" y="347"/>
                    </a:lnTo>
                    <a:lnTo>
                      <a:pt x="0" y="191"/>
                    </a:lnTo>
                    <a:lnTo>
                      <a:pt x="9" y="187"/>
                    </a:lnTo>
                    <a:lnTo>
                      <a:pt x="40" y="168"/>
                    </a:lnTo>
                    <a:lnTo>
                      <a:pt x="70" y="164"/>
                    </a:lnTo>
                    <a:lnTo>
                      <a:pt x="69" y="172"/>
                    </a:lnTo>
                    <a:lnTo>
                      <a:pt x="100" y="158"/>
                    </a:lnTo>
                    <a:lnTo>
                      <a:pt x="96" y="146"/>
                    </a:lnTo>
                    <a:lnTo>
                      <a:pt x="134" y="118"/>
                    </a:lnTo>
                    <a:lnTo>
                      <a:pt x="138" y="98"/>
                    </a:lnTo>
                    <a:lnTo>
                      <a:pt x="149" y="81"/>
                    </a:lnTo>
                    <a:lnTo>
                      <a:pt x="164" y="30"/>
                    </a:lnTo>
                    <a:lnTo>
                      <a:pt x="179" y="17"/>
                    </a:lnTo>
                    <a:lnTo>
                      <a:pt x="221" y="0"/>
                    </a:lnTo>
                    <a:lnTo>
                      <a:pt x="335" y="0"/>
                    </a:lnTo>
                    <a:lnTo>
                      <a:pt x="335" y="0"/>
                    </a:lnTo>
                    <a:lnTo>
                      <a:pt x="314" y="20"/>
                    </a:lnTo>
                    <a:lnTo>
                      <a:pt x="305" y="47"/>
                    </a:lnTo>
                    <a:lnTo>
                      <a:pt x="281" y="126"/>
                    </a:lnTo>
                    <a:lnTo>
                      <a:pt x="265" y="153"/>
                    </a:lnTo>
                    <a:lnTo>
                      <a:pt x="245" y="132"/>
                    </a:lnTo>
                    <a:lnTo>
                      <a:pt x="244" y="132"/>
                    </a:lnTo>
                    <a:lnTo>
                      <a:pt x="229" y="143"/>
                    </a:lnTo>
                    <a:lnTo>
                      <a:pt x="221" y="157"/>
                    </a:lnTo>
                    <a:lnTo>
                      <a:pt x="199" y="168"/>
                    </a:lnTo>
                    <a:lnTo>
                      <a:pt x="125" y="184"/>
                    </a:lnTo>
                    <a:lnTo>
                      <a:pt x="109" y="197"/>
                    </a:lnTo>
                    <a:lnTo>
                      <a:pt x="108" y="212"/>
                    </a:lnTo>
                    <a:lnTo>
                      <a:pt x="90" y="216"/>
                    </a:lnTo>
                    <a:lnTo>
                      <a:pt x="94" y="232"/>
                    </a:lnTo>
                    <a:lnTo>
                      <a:pt x="108" y="238"/>
                    </a:lnTo>
                    <a:lnTo>
                      <a:pt x="124" y="257"/>
                    </a:lnTo>
                    <a:lnTo>
                      <a:pt x="105" y="272"/>
                    </a:lnTo>
                    <a:lnTo>
                      <a:pt x="73" y="279"/>
                    </a:lnTo>
                    <a:lnTo>
                      <a:pt x="30" y="337"/>
                    </a:lnTo>
                    <a:lnTo>
                      <a:pt x="23" y="3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24680" y="3222000"/>
                <a:ext cx="20880" cy="42840"/>
              </a:xfrm>
              <a:custGeom>
                <a:avLst/>
                <a:gdLst/>
                <a:ahLst/>
                <a:rect l="l" t="t" r="r" b="b"/>
                <a:pathLst>
                  <a:path w="57" h="129">
                    <a:moveTo>
                      <a:pt x="15" y="127"/>
                    </a:moveTo>
                    <a:lnTo>
                      <a:pt x="38" y="106"/>
                    </a:lnTo>
                    <a:lnTo>
                      <a:pt x="56" y="7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41" y="11"/>
                    </a:lnTo>
                    <a:lnTo>
                      <a:pt x="33" y="25"/>
                    </a:lnTo>
                    <a:lnTo>
                      <a:pt x="11" y="36"/>
                    </a:lnTo>
                    <a:lnTo>
                      <a:pt x="0" y="116"/>
                    </a:lnTo>
                    <a:lnTo>
                      <a:pt x="3" y="129"/>
                    </a:lnTo>
                    <a:lnTo>
                      <a:pt x="15" y="127"/>
                    </a:lnTo>
                    <a:lnTo>
                      <a:pt x="15" y="1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003440" y="3290400"/>
                <a:ext cx="44280" cy="19800"/>
              </a:xfrm>
              <a:custGeom>
                <a:avLst/>
                <a:gdLst/>
                <a:ahLst/>
                <a:rect l="l" t="t" r="r" b="b"/>
                <a:pathLst>
                  <a:path w="119" h="58">
                    <a:moveTo>
                      <a:pt x="119" y="34"/>
                    </a:moveTo>
                    <a:lnTo>
                      <a:pt x="113" y="47"/>
                    </a:lnTo>
                    <a:lnTo>
                      <a:pt x="62" y="58"/>
                    </a:lnTo>
                    <a:lnTo>
                      <a:pt x="37" y="49"/>
                    </a:lnTo>
                    <a:lnTo>
                      <a:pt x="14" y="54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27" y="15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85" y="19"/>
                    </a:lnTo>
                    <a:lnTo>
                      <a:pt x="101" y="10"/>
                    </a:lnTo>
                    <a:lnTo>
                      <a:pt x="115" y="15"/>
                    </a:lnTo>
                    <a:lnTo>
                      <a:pt x="116" y="34"/>
                    </a:lnTo>
                    <a:lnTo>
                      <a:pt x="119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016760" y="3251520"/>
                <a:ext cx="117360" cy="5544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30"/>
                    </a:moveTo>
                    <a:lnTo>
                      <a:pt x="265" y="56"/>
                    </a:lnTo>
                    <a:lnTo>
                      <a:pt x="235" y="60"/>
                    </a:lnTo>
                    <a:lnTo>
                      <a:pt x="224" y="80"/>
                    </a:lnTo>
                    <a:lnTo>
                      <a:pt x="194" y="101"/>
                    </a:lnTo>
                    <a:lnTo>
                      <a:pt x="160" y="112"/>
                    </a:lnTo>
                    <a:lnTo>
                      <a:pt x="134" y="134"/>
                    </a:lnTo>
                    <a:lnTo>
                      <a:pt x="124" y="152"/>
                    </a:lnTo>
                    <a:lnTo>
                      <a:pt x="114" y="164"/>
                    </a:lnTo>
                    <a:lnTo>
                      <a:pt x="104" y="166"/>
                    </a:lnTo>
                    <a:lnTo>
                      <a:pt x="103" y="166"/>
                    </a:lnTo>
                    <a:lnTo>
                      <a:pt x="84" y="151"/>
                    </a:lnTo>
                    <a:lnTo>
                      <a:pt x="81" y="151"/>
                    </a:lnTo>
                    <a:lnTo>
                      <a:pt x="80" y="132"/>
                    </a:lnTo>
                    <a:lnTo>
                      <a:pt x="66" y="127"/>
                    </a:lnTo>
                    <a:lnTo>
                      <a:pt x="50" y="136"/>
                    </a:lnTo>
                    <a:lnTo>
                      <a:pt x="14" y="117"/>
                    </a:lnTo>
                    <a:lnTo>
                      <a:pt x="0" y="117"/>
                    </a:lnTo>
                    <a:lnTo>
                      <a:pt x="13" y="102"/>
                    </a:lnTo>
                    <a:lnTo>
                      <a:pt x="14" y="89"/>
                    </a:lnTo>
                    <a:lnTo>
                      <a:pt x="54" y="56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73" y="49"/>
                    </a:lnTo>
                    <a:lnTo>
                      <a:pt x="104" y="30"/>
                    </a:lnTo>
                    <a:lnTo>
                      <a:pt x="133" y="32"/>
                    </a:lnTo>
                    <a:lnTo>
                      <a:pt x="186" y="10"/>
                    </a:lnTo>
                    <a:lnTo>
                      <a:pt x="209" y="10"/>
                    </a:lnTo>
                    <a:lnTo>
                      <a:pt x="236" y="0"/>
                    </a:lnTo>
                    <a:lnTo>
                      <a:pt x="273" y="2"/>
                    </a:lnTo>
                    <a:lnTo>
                      <a:pt x="291" y="19"/>
                    </a:lnTo>
                    <a:lnTo>
                      <a:pt x="311" y="24"/>
                    </a:lnTo>
                    <a:lnTo>
                      <a:pt x="318" y="30"/>
                    </a:lnTo>
                    <a:lnTo>
                      <a:pt x="318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047720" y="3261600"/>
                <a:ext cx="86400" cy="7236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33" y="0"/>
                    </a:moveTo>
                    <a:lnTo>
                      <a:pt x="180" y="26"/>
                    </a:lnTo>
                    <a:lnTo>
                      <a:pt x="150" y="30"/>
                    </a:lnTo>
                    <a:lnTo>
                      <a:pt x="139" y="50"/>
                    </a:lnTo>
                    <a:lnTo>
                      <a:pt x="109" y="71"/>
                    </a:lnTo>
                    <a:lnTo>
                      <a:pt x="75" y="82"/>
                    </a:lnTo>
                    <a:lnTo>
                      <a:pt x="49" y="104"/>
                    </a:lnTo>
                    <a:lnTo>
                      <a:pt x="39" y="122"/>
                    </a:lnTo>
                    <a:lnTo>
                      <a:pt x="29" y="134"/>
                    </a:lnTo>
                    <a:lnTo>
                      <a:pt x="19" y="136"/>
                    </a:lnTo>
                    <a:lnTo>
                      <a:pt x="18" y="136"/>
                    </a:lnTo>
                    <a:lnTo>
                      <a:pt x="0" y="140"/>
                    </a:lnTo>
                    <a:lnTo>
                      <a:pt x="15" y="157"/>
                    </a:lnTo>
                    <a:lnTo>
                      <a:pt x="50" y="186"/>
                    </a:lnTo>
                    <a:lnTo>
                      <a:pt x="90" y="217"/>
                    </a:lnTo>
                    <a:lnTo>
                      <a:pt x="90" y="216"/>
                    </a:lnTo>
                    <a:lnTo>
                      <a:pt x="101" y="210"/>
                    </a:lnTo>
                    <a:lnTo>
                      <a:pt x="130" y="212"/>
                    </a:lnTo>
                    <a:lnTo>
                      <a:pt x="153" y="209"/>
                    </a:lnTo>
                    <a:lnTo>
                      <a:pt x="165" y="212"/>
                    </a:lnTo>
                    <a:lnTo>
                      <a:pt x="181" y="212"/>
                    </a:lnTo>
                    <a:lnTo>
                      <a:pt x="196" y="204"/>
                    </a:lnTo>
                    <a:lnTo>
                      <a:pt x="196" y="204"/>
                    </a:lnTo>
                    <a:lnTo>
                      <a:pt x="190" y="190"/>
                    </a:lnTo>
                    <a:lnTo>
                      <a:pt x="200" y="167"/>
                    </a:lnTo>
                    <a:lnTo>
                      <a:pt x="201" y="142"/>
                    </a:lnTo>
                    <a:lnTo>
                      <a:pt x="213" y="114"/>
                    </a:lnTo>
                    <a:lnTo>
                      <a:pt x="218" y="59"/>
                    </a:lnTo>
                    <a:lnTo>
                      <a:pt x="231" y="37"/>
                    </a:lnTo>
                    <a:lnTo>
                      <a:pt x="233" y="0"/>
                    </a:lnTo>
                    <a:lnTo>
                      <a:pt x="2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079040" y="3329280"/>
                <a:ext cx="60840" cy="40680"/>
              </a:xfrm>
              <a:custGeom>
                <a:avLst/>
                <a:gdLst/>
                <a:ahLst/>
                <a:rect l="l" t="t" r="r" b="b"/>
                <a:pathLst>
                  <a:path w="163" h="122">
                    <a:moveTo>
                      <a:pt x="5" y="12"/>
                    </a:moveTo>
                    <a:lnTo>
                      <a:pt x="16" y="6"/>
                    </a:lnTo>
                    <a:lnTo>
                      <a:pt x="45" y="8"/>
                    </a:lnTo>
                    <a:lnTo>
                      <a:pt x="68" y="5"/>
                    </a:lnTo>
                    <a:lnTo>
                      <a:pt x="80" y="8"/>
                    </a:lnTo>
                    <a:lnTo>
                      <a:pt x="96" y="8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5" y="42"/>
                    </a:lnTo>
                    <a:lnTo>
                      <a:pt x="163" y="57"/>
                    </a:lnTo>
                    <a:lnTo>
                      <a:pt x="163" y="56"/>
                    </a:lnTo>
                    <a:lnTo>
                      <a:pt x="148" y="65"/>
                    </a:lnTo>
                    <a:lnTo>
                      <a:pt x="145" y="81"/>
                    </a:lnTo>
                    <a:lnTo>
                      <a:pt x="151" y="91"/>
                    </a:lnTo>
                    <a:lnTo>
                      <a:pt x="146" y="107"/>
                    </a:lnTo>
                    <a:lnTo>
                      <a:pt x="138" y="122"/>
                    </a:lnTo>
                    <a:lnTo>
                      <a:pt x="138" y="122"/>
                    </a:lnTo>
                    <a:lnTo>
                      <a:pt x="126" y="121"/>
                    </a:lnTo>
                    <a:lnTo>
                      <a:pt x="101" y="121"/>
                    </a:lnTo>
                    <a:lnTo>
                      <a:pt x="108" y="96"/>
                    </a:lnTo>
                    <a:lnTo>
                      <a:pt x="90" y="82"/>
                    </a:lnTo>
                    <a:lnTo>
                      <a:pt x="61" y="71"/>
                    </a:lnTo>
                    <a:lnTo>
                      <a:pt x="49" y="57"/>
                    </a:lnTo>
                    <a:lnTo>
                      <a:pt x="31" y="76"/>
                    </a:lnTo>
                    <a:lnTo>
                      <a:pt x="24" y="70"/>
                    </a:lnTo>
                    <a:lnTo>
                      <a:pt x="6" y="68"/>
                    </a:lnTo>
                    <a:lnTo>
                      <a:pt x="0" y="50"/>
                    </a:lnTo>
                    <a:lnTo>
                      <a:pt x="5" y="13"/>
                    </a:lnTo>
                    <a:lnTo>
                      <a:pt x="5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30160" y="3348360"/>
                <a:ext cx="65160" cy="35640"/>
              </a:xfrm>
              <a:custGeom>
                <a:avLst/>
                <a:gdLst/>
                <a:ahLst/>
                <a:rect l="l" t="t" r="r" b="b"/>
                <a:pathLst>
                  <a:path w="176" h="110">
                    <a:moveTo>
                      <a:pt x="176" y="20"/>
                    </a:moveTo>
                    <a:lnTo>
                      <a:pt x="159" y="12"/>
                    </a:lnTo>
                    <a:lnTo>
                      <a:pt x="152" y="1"/>
                    </a:lnTo>
                    <a:lnTo>
                      <a:pt x="152" y="0"/>
                    </a:lnTo>
                    <a:lnTo>
                      <a:pt x="85" y="35"/>
                    </a:lnTo>
                    <a:lnTo>
                      <a:pt x="67" y="26"/>
                    </a:lnTo>
                    <a:lnTo>
                      <a:pt x="46" y="28"/>
                    </a:lnTo>
                    <a:lnTo>
                      <a:pt x="38" y="8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0" y="10"/>
                    </a:lnTo>
                    <a:lnTo>
                      <a:pt x="7" y="26"/>
                    </a:lnTo>
                    <a:lnTo>
                      <a:pt x="13" y="36"/>
                    </a:lnTo>
                    <a:lnTo>
                      <a:pt x="8" y="52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3" y="66"/>
                    </a:lnTo>
                    <a:lnTo>
                      <a:pt x="40" y="66"/>
                    </a:lnTo>
                    <a:lnTo>
                      <a:pt x="66" y="71"/>
                    </a:lnTo>
                    <a:lnTo>
                      <a:pt x="76" y="85"/>
                    </a:lnTo>
                    <a:lnTo>
                      <a:pt x="103" y="82"/>
                    </a:lnTo>
                    <a:lnTo>
                      <a:pt x="106" y="110"/>
                    </a:lnTo>
                    <a:lnTo>
                      <a:pt x="153" y="86"/>
                    </a:lnTo>
                    <a:lnTo>
                      <a:pt x="133" y="72"/>
                    </a:lnTo>
                    <a:lnTo>
                      <a:pt x="129" y="57"/>
                    </a:lnTo>
                    <a:lnTo>
                      <a:pt x="168" y="30"/>
                    </a:lnTo>
                    <a:lnTo>
                      <a:pt x="176" y="20"/>
                    </a:lnTo>
                    <a:lnTo>
                      <a:pt x="176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186680" y="3347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2" y="0"/>
                    </a:moveTo>
                    <a:lnTo>
                      <a:pt x="29" y="1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7" y="1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191000" y="3340440"/>
                <a:ext cx="48600" cy="34560"/>
              </a:xfrm>
              <a:custGeom>
                <a:avLst/>
                <a:gdLst/>
                <a:ahLst/>
                <a:rect l="l" t="t" r="r" b="b"/>
                <a:pathLst>
                  <a:path w="133" h="107">
                    <a:moveTo>
                      <a:pt x="0" y="21"/>
                    </a:moveTo>
                    <a:lnTo>
                      <a:pt x="17" y="36"/>
                    </a:lnTo>
                    <a:lnTo>
                      <a:pt x="35" y="30"/>
                    </a:lnTo>
                    <a:lnTo>
                      <a:pt x="55" y="39"/>
                    </a:lnTo>
                    <a:lnTo>
                      <a:pt x="68" y="59"/>
                    </a:lnTo>
                    <a:lnTo>
                      <a:pt x="84" y="56"/>
                    </a:lnTo>
                    <a:lnTo>
                      <a:pt x="72" y="75"/>
                    </a:lnTo>
                    <a:lnTo>
                      <a:pt x="83" y="101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107" y="87"/>
                    </a:lnTo>
                    <a:lnTo>
                      <a:pt x="120" y="81"/>
                    </a:lnTo>
                    <a:lnTo>
                      <a:pt x="133" y="65"/>
                    </a:lnTo>
                    <a:lnTo>
                      <a:pt x="123" y="37"/>
                    </a:lnTo>
                    <a:lnTo>
                      <a:pt x="123" y="37"/>
                    </a:lnTo>
                    <a:lnTo>
                      <a:pt x="103" y="20"/>
                    </a:lnTo>
                    <a:lnTo>
                      <a:pt x="83" y="7"/>
                    </a:lnTo>
                    <a:lnTo>
                      <a:pt x="42" y="0"/>
                    </a:lnTo>
                    <a:lnTo>
                      <a:pt x="14" y="5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226640" y="3352320"/>
                <a:ext cx="13320" cy="2268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28" y="0"/>
                    </a:moveTo>
                    <a:lnTo>
                      <a:pt x="38" y="28"/>
                    </a:lnTo>
                    <a:lnTo>
                      <a:pt x="25" y="44"/>
                    </a:lnTo>
                    <a:lnTo>
                      <a:pt x="12" y="50"/>
                    </a:lnTo>
                    <a:lnTo>
                      <a:pt x="0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  <a:lnTo>
                      <a:pt x="89" y="2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203600" y="3278520"/>
                <a:ext cx="229320" cy="273600"/>
              </a:xfrm>
              <a:custGeom>
                <a:avLst/>
                <a:gdLst/>
                <a:ahLst/>
                <a:rect l="l" t="t" r="r" b="b"/>
                <a:pathLst>
                  <a:path w="619" h="824">
                    <a:moveTo>
                      <a:pt x="89" y="221"/>
                    </a:moveTo>
                    <a:lnTo>
                      <a:pt x="121" y="255"/>
                    </a:lnTo>
                    <a:lnTo>
                      <a:pt x="123" y="218"/>
                    </a:lnTo>
                    <a:lnTo>
                      <a:pt x="149" y="195"/>
                    </a:lnTo>
                    <a:lnTo>
                      <a:pt x="164" y="173"/>
                    </a:lnTo>
                    <a:lnTo>
                      <a:pt x="184" y="166"/>
                    </a:lnTo>
                    <a:lnTo>
                      <a:pt x="190" y="115"/>
                    </a:lnTo>
                    <a:lnTo>
                      <a:pt x="204" y="98"/>
                    </a:lnTo>
                    <a:lnTo>
                      <a:pt x="225" y="88"/>
                    </a:lnTo>
                    <a:lnTo>
                      <a:pt x="246" y="89"/>
                    </a:lnTo>
                    <a:lnTo>
                      <a:pt x="260" y="71"/>
                    </a:lnTo>
                    <a:lnTo>
                      <a:pt x="293" y="71"/>
                    </a:lnTo>
                    <a:lnTo>
                      <a:pt x="357" y="33"/>
                    </a:lnTo>
                    <a:lnTo>
                      <a:pt x="387" y="0"/>
                    </a:lnTo>
                    <a:lnTo>
                      <a:pt x="405" y="3"/>
                    </a:lnTo>
                    <a:lnTo>
                      <a:pt x="412" y="14"/>
                    </a:lnTo>
                    <a:lnTo>
                      <a:pt x="401" y="28"/>
                    </a:lnTo>
                    <a:lnTo>
                      <a:pt x="379" y="36"/>
                    </a:lnTo>
                    <a:lnTo>
                      <a:pt x="341" y="78"/>
                    </a:lnTo>
                    <a:lnTo>
                      <a:pt x="326" y="100"/>
                    </a:lnTo>
                    <a:lnTo>
                      <a:pt x="311" y="145"/>
                    </a:lnTo>
                    <a:lnTo>
                      <a:pt x="304" y="159"/>
                    </a:lnTo>
                    <a:lnTo>
                      <a:pt x="324" y="184"/>
                    </a:lnTo>
                    <a:lnTo>
                      <a:pt x="345" y="221"/>
                    </a:lnTo>
                    <a:lnTo>
                      <a:pt x="342" y="254"/>
                    </a:lnTo>
                    <a:lnTo>
                      <a:pt x="371" y="269"/>
                    </a:lnTo>
                    <a:lnTo>
                      <a:pt x="392" y="271"/>
                    </a:lnTo>
                    <a:lnTo>
                      <a:pt x="426" y="260"/>
                    </a:lnTo>
                    <a:lnTo>
                      <a:pt x="457" y="268"/>
                    </a:lnTo>
                    <a:lnTo>
                      <a:pt x="487" y="304"/>
                    </a:lnTo>
                    <a:lnTo>
                      <a:pt x="502" y="309"/>
                    </a:lnTo>
                    <a:lnTo>
                      <a:pt x="515" y="303"/>
                    </a:lnTo>
                    <a:lnTo>
                      <a:pt x="546" y="306"/>
                    </a:lnTo>
                    <a:lnTo>
                      <a:pt x="576" y="296"/>
                    </a:lnTo>
                    <a:lnTo>
                      <a:pt x="590" y="299"/>
                    </a:lnTo>
                    <a:lnTo>
                      <a:pt x="569" y="379"/>
                    </a:lnTo>
                    <a:lnTo>
                      <a:pt x="575" y="408"/>
                    </a:lnTo>
                    <a:lnTo>
                      <a:pt x="594" y="428"/>
                    </a:lnTo>
                    <a:lnTo>
                      <a:pt x="594" y="444"/>
                    </a:lnTo>
                    <a:lnTo>
                      <a:pt x="574" y="465"/>
                    </a:lnTo>
                    <a:lnTo>
                      <a:pt x="596" y="490"/>
                    </a:lnTo>
                    <a:lnTo>
                      <a:pt x="617" y="541"/>
                    </a:lnTo>
                    <a:lnTo>
                      <a:pt x="619" y="540"/>
                    </a:lnTo>
                    <a:lnTo>
                      <a:pt x="605" y="534"/>
                    </a:lnTo>
                    <a:lnTo>
                      <a:pt x="600" y="520"/>
                    </a:lnTo>
                    <a:lnTo>
                      <a:pt x="589" y="508"/>
                    </a:lnTo>
                    <a:lnTo>
                      <a:pt x="557" y="515"/>
                    </a:lnTo>
                    <a:lnTo>
                      <a:pt x="545" y="523"/>
                    </a:lnTo>
                    <a:lnTo>
                      <a:pt x="474" y="529"/>
                    </a:lnTo>
                    <a:lnTo>
                      <a:pt x="467" y="545"/>
                    </a:lnTo>
                    <a:lnTo>
                      <a:pt x="467" y="559"/>
                    </a:lnTo>
                    <a:lnTo>
                      <a:pt x="497" y="568"/>
                    </a:lnTo>
                    <a:lnTo>
                      <a:pt x="502" y="583"/>
                    </a:lnTo>
                    <a:lnTo>
                      <a:pt x="484" y="580"/>
                    </a:lnTo>
                    <a:lnTo>
                      <a:pt x="469" y="585"/>
                    </a:lnTo>
                    <a:lnTo>
                      <a:pt x="456" y="598"/>
                    </a:lnTo>
                    <a:lnTo>
                      <a:pt x="457" y="628"/>
                    </a:lnTo>
                    <a:lnTo>
                      <a:pt x="481" y="653"/>
                    </a:lnTo>
                    <a:lnTo>
                      <a:pt x="487" y="681"/>
                    </a:lnTo>
                    <a:lnTo>
                      <a:pt x="461" y="824"/>
                    </a:lnTo>
                    <a:lnTo>
                      <a:pt x="435" y="811"/>
                    </a:lnTo>
                    <a:lnTo>
                      <a:pt x="431" y="795"/>
                    </a:lnTo>
                    <a:lnTo>
                      <a:pt x="455" y="764"/>
                    </a:lnTo>
                    <a:lnTo>
                      <a:pt x="447" y="749"/>
                    </a:lnTo>
                    <a:lnTo>
                      <a:pt x="415" y="735"/>
                    </a:lnTo>
                    <a:lnTo>
                      <a:pt x="384" y="741"/>
                    </a:lnTo>
                    <a:lnTo>
                      <a:pt x="364" y="736"/>
                    </a:lnTo>
                    <a:lnTo>
                      <a:pt x="351" y="748"/>
                    </a:lnTo>
                    <a:lnTo>
                      <a:pt x="335" y="750"/>
                    </a:lnTo>
                    <a:lnTo>
                      <a:pt x="304" y="750"/>
                    </a:lnTo>
                    <a:lnTo>
                      <a:pt x="288" y="720"/>
                    </a:lnTo>
                    <a:lnTo>
                      <a:pt x="275" y="711"/>
                    </a:lnTo>
                    <a:lnTo>
                      <a:pt x="273" y="696"/>
                    </a:lnTo>
                    <a:lnTo>
                      <a:pt x="244" y="681"/>
                    </a:lnTo>
                    <a:lnTo>
                      <a:pt x="215" y="649"/>
                    </a:lnTo>
                    <a:lnTo>
                      <a:pt x="189" y="643"/>
                    </a:lnTo>
                    <a:lnTo>
                      <a:pt x="159" y="629"/>
                    </a:lnTo>
                    <a:lnTo>
                      <a:pt x="93" y="640"/>
                    </a:lnTo>
                    <a:lnTo>
                      <a:pt x="74" y="621"/>
                    </a:lnTo>
                    <a:lnTo>
                      <a:pt x="9" y="596"/>
                    </a:lnTo>
                    <a:lnTo>
                      <a:pt x="9" y="596"/>
                    </a:lnTo>
                    <a:lnTo>
                      <a:pt x="0" y="578"/>
                    </a:lnTo>
                    <a:lnTo>
                      <a:pt x="21" y="570"/>
                    </a:lnTo>
                    <a:lnTo>
                      <a:pt x="16" y="549"/>
                    </a:lnTo>
                    <a:lnTo>
                      <a:pt x="34" y="523"/>
                    </a:lnTo>
                    <a:lnTo>
                      <a:pt x="64" y="520"/>
                    </a:lnTo>
                    <a:lnTo>
                      <a:pt x="76" y="489"/>
                    </a:lnTo>
                    <a:lnTo>
                      <a:pt x="95" y="465"/>
                    </a:lnTo>
                    <a:lnTo>
                      <a:pt x="79" y="451"/>
                    </a:lnTo>
                    <a:lnTo>
                      <a:pt x="88" y="425"/>
                    </a:lnTo>
                    <a:lnTo>
                      <a:pt x="81" y="344"/>
                    </a:lnTo>
                    <a:lnTo>
                      <a:pt x="86" y="323"/>
                    </a:lnTo>
                    <a:lnTo>
                      <a:pt x="61" y="2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16640" y="3280680"/>
                <a:ext cx="248760" cy="186120"/>
              </a:xfrm>
              <a:custGeom>
                <a:avLst/>
                <a:gdLst/>
                <a:ahLst/>
                <a:rect l="l" t="t" r="r" b="b"/>
                <a:pathLst>
                  <a:path w="674" h="559">
                    <a:moveTo>
                      <a:pt x="674" y="174"/>
                    </a:moveTo>
                    <a:lnTo>
                      <a:pt x="671" y="185"/>
                    </a:lnTo>
                    <a:lnTo>
                      <a:pt x="632" y="204"/>
                    </a:lnTo>
                    <a:lnTo>
                      <a:pt x="622" y="218"/>
                    </a:lnTo>
                    <a:lnTo>
                      <a:pt x="626" y="232"/>
                    </a:lnTo>
                    <a:lnTo>
                      <a:pt x="638" y="243"/>
                    </a:lnTo>
                    <a:lnTo>
                      <a:pt x="611" y="259"/>
                    </a:lnTo>
                    <a:lnTo>
                      <a:pt x="602" y="293"/>
                    </a:lnTo>
                    <a:lnTo>
                      <a:pt x="633" y="332"/>
                    </a:lnTo>
                    <a:lnTo>
                      <a:pt x="632" y="345"/>
                    </a:lnTo>
                    <a:lnTo>
                      <a:pt x="618" y="360"/>
                    </a:lnTo>
                    <a:lnTo>
                      <a:pt x="589" y="369"/>
                    </a:lnTo>
                    <a:lnTo>
                      <a:pt x="578" y="380"/>
                    </a:lnTo>
                    <a:lnTo>
                      <a:pt x="527" y="390"/>
                    </a:lnTo>
                    <a:lnTo>
                      <a:pt x="508" y="400"/>
                    </a:lnTo>
                    <a:lnTo>
                      <a:pt x="489" y="399"/>
                    </a:lnTo>
                    <a:lnTo>
                      <a:pt x="453" y="384"/>
                    </a:lnTo>
                    <a:lnTo>
                      <a:pt x="437" y="383"/>
                    </a:lnTo>
                    <a:lnTo>
                      <a:pt x="422" y="389"/>
                    </a:lnTo>
                    <a:lnTo>
                      <a:pt x="448" y="414"/>
                    </a:lnTo>
                    <a:lnTo>
                      <a:pt x="446" y="432"/>
                    </a:lnTo>
                    <a:lnTo>
                      <a:pt x="451" y="463"/>
                    </a:lnTo>
                    <a:lnTo>
                      <a:pt x="459" y="473"/>
                    </a:lnTo>
                    <a:lnTo>
                      <a:pt x="477" y="477"/>
                    </a:lnTo>
                    <a:lnTo>
                      <a:pt x="487" y="488"/>
                    </a:lnTo>
                    <a:lnTo>
                      <a:pt x="454" y="504"/>
                    </a:lnTo>
                    <a:lnTo>
                      <a:pt x="447" y="522"/>
                    </a:lnTo>
                    <a:lnTo>
                      <a:pt x="373" y="558"/>
                    </a:lnTo>
                    <a:lnTo>
                      <a:pt x="338" y="559"/>
                    </a:lnTo>
                    <a:lnTo>
                      <a:pt x="315" y="534"/>
                    </a:lnTo>
                    <a:lnTo>
                      <a:pt x="313" y="535"/>
                    </a:lnTo>
                    <a:lnTo>
                      <a:pt x="292" y="484"/>
                    </a:lnTo>
                    <a:lnTo>
                      <a:pt x="270" y="459"/>
                    </a:lnTo>
                    <a:lnTo>
                      <a:pt x="290" y="438"/>
                    </a:lnTo>
                    <a:lnTo>
                      <a:pt x="290" y="422"/>
                    </a:lnTo>
                    <a:lnTo>
                      <a:pt x="271" y="402"/>
                    </a:lnTo>
                    <a:lnTo>
                      <a:pt x="265" y="373"/>
                    </a:lnTo>
                    <a:lnTo>
                      <a:pt x="286" y="293"/>
                    </a:lnTo>
                    <a:lnTo>
                      <a:pt x="272" y="290"/>
                    </a:lnTo>
                    <a:lnTo>
                      <a:pt x="242" y="300"/>
                    </a:lnTo>
                    <a:lnTo>
                      <a:pt x="211" y="297"/>
                    </a:lnTo>
                    <a:lnTo>
                      <a:pt x="198" y="303"/>
                    </a:lnTo>
                    <a:lnTo>
                      <a:pt x="183" y="298"/>
                    </a:lnTo>
                    <a:lnTo>
                      <a:pt x="153" y="262"/>
                    </a:lnTo>
                    <a:lnTo>
                      <a:pt x="122" y="254"/>
                    </a:lnTo>
                    <a:lnTo>
                      <a:pt x="88" y="265"/>
                    </a:lnTo>
                    <a:lnTo>
                      <a:pt x="67" y="263"/>
                    </a:lnTo>
                    <a:lnTo>
                      <a:pt x="38" y="248"/>
                    </a:lnTo>
                    <a:lnTo>
                      <a:pt x="41" y="215"/>
                    </a:lnTo>
                    <a:lnTo>
                      <a:pt x="20" y="178"/>
                    </a:lnTo>
                    <a:lnTo>
                      <a:pt x="0" y="153"/>
                    </a:lnTo>
                    <a:lnTo>
                      <a:pt x="7" y="139"/>
                    </a:lnTo>
                    <a:lnTo>
                      <a:pt x="22" y="94"/>
                    </a:lnTo>
                    <a:lnTo>
                      <a:pt x="37" y="72"/>
                    </a:lnTo>
                    <a:lnTo>
                      <a:pt x="75" y="30"/>
                    </a:lnTo>
                    <a:lnTo>
                      <a:pt x="97" y="22"/>
                    </a:lnTo>
                    <a:lnTo>
                      <a:pt x="95" y="30"/>
                    </a:lnTo>
                    <a:lnTo>
                      <a:pt x="71" y="43"/>
                    </a:lnTo>
                    <a:lnTo>
                      <a:pt x="88" y="84"/>
                    </a:lnTo>
                    <a:lnTo>
                      <a:pt x="61" y="129"/>
                    </a:lnTo>
                    <a:lnTo>
                      <a:pt x="73" y="145"/>
                    </a:lnTo>
                    <a:lnTo>
                      <a:pt x="77" y="165"/>
                    </a:lnTo>
                    <a:lnTo>
                      <a:pt x="107" y="154"/>
                    </a:lnTo>
                    <a:lnTo>
                      <a:pt x="108" y="125"/>
                    </a:lnTo>
                    <a:lnTo>
                      <a:pt x="92" y="97"/>
                    </a:lnTo>
                    <a:lnTo>
                      <a:pt x="92" y="69"/>
                    </a:lnTo>
                    <a:lnTo>
                      <a:pt x="157" y="34"/>
                    </a:lnTo>
                    <a:lnTo>
                      <a:pt x="150" y="14"/>
                    </a:lnTo>
                    <a:lnTo>
                      <a:pt x="171" y="0"/>
                    </a:lnTo>
                    <a:lnTo>
                      <a:pt x="177" y="32"/>
                    </a:lnTo>
                    <a:lnTo>
                      <a:pt x="223" y="33"/>
                    </a:lnTo>
                    <a:lnTo>
                      <a:pt x="243" y="44"/>
                    </a:lnTo>
                    <a:lnTo>
                      <a:pt x="255" y="82"/>
                    </a:lnTo>
                    <a:lnTo>
                      <a:pt x="356" y="68"/>
                    </a:lnTo>
                    <a:lnTo>
                      <a:pt x="363" y="79"/>
                    </a:lnTo>
                    <a:lnTo>
                      <a:pt x="414" y="90"/>
                    </a:lnTo>
                    <a:lnTo>
                      <a:pt x="439" y="82"/>
                    </a:lnTo>
                    <a:lnTo>
                      <a:pt x="464" y="59"/>
                    </a:lnTo>
                    <a:lnTo>
                      <a:pt x="556" y="57"/>
                    </a:lnTo>
                    <a:lnTo>
                      <a:pt x="513" y="65"/>
                    </a:lnTo>
                    <a:lnTo>
                      <a:pt x="546" y="103"/>
                    </a:lnTo>
                    <a:lnTo>
                      <a:pt x="563" y="98"/>
                    </a:lnTo>
                    <a:lnTo>
                      <a:pt x="614" y="115"/>
                    </a:lnTo>
                    <a:lnTo>
                      <a:pt x="622" y="139"/>
                    </a:lnTo>
                    <a:lnTo>
                      <a:pt x="614" y="168"/>
                    </a:lnTo>
                    <a:lnTo>
                      <a:pt x="652" y="160"/>
                    </a:lnTo>
                    <a:lnTo>
                      <a:pt x="674" y="174"/>
                    </a:lnTo>
                    <a:lnTo>
                      <a:pt x="674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38760" y="3338280"/>
                <a:ext cx="90000" cy="117000"/>
              </a:xfrm>
              <a:custGeom>
                <a:avLst/>
                <a:gdLst/>
                <a:ahLst/>
                <a:rect l="l" t="t" r="r" b="b"/>
                <a:pathLst>
                  <a:path w="243" h="354">
                    <a:moveTo>
                      <a:pt x="31" y="158"/>
                    </a:moveTo>
                    <a:lnTo>
                      <a:pt x="0" y="119"/>
                    </a:lnTo>
                    <a:lnTo>
                      <a:pt x="9" y="85"/>
                    </a:lnTo>
                    <a:lnTo>
                      <a:pt x="36" y="69"/>
                    </a:lnTo>
                    <a:lnTo>
                      <a:pt x="24" y="58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69" y="11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29" y="36"/>
                    </a:lnTo>
                    <a:lnTo>
                      <a:pt x="136" y="58"/>
                    </a:lnTo>
                    <a:lnTo>
                      <a:pt x="134" y="79"/>
                    </a:lnTo>
                    <a:lnTo>
                      <a:pt x="154" y="75"/>
                    </a:lnTo>
                    <a:lnTo>
                      <a:pt x="196" y="105"/>
                    </a:lnTo>
                    <a:lnTo>
                      <a:pt x="212" y="129"/>
                    </a:lnTo>
                    <a:lnTo>
                      <a:pt x="212" y="129"/>
                    </a:lnTo>
                    <a:lnTo>
                      <a:pt x="193" y="168"/>
                    </a:lnTo>
                    <a:lnTo>
                      <a:pt x="166" y="178"/>
                    </a:lnTo>
                    <a:lnTo>
                      <a:pt x="160" y="206"/>
                    </a:lnTo>
                    <a:lnTo>
                      <a:pt x="163" y="220"/>
                    </a:lnTo>
                    <a:lnTo>
                      <a:pt x="185" y="250"/>
                    </a:lnTo>
                    <a:lnTo>
                      <a:pt x="201" y="256"/>
                    </a:lnTo>
                    <a:lnTo>
                      <a:pt x="223" y="299"/>
                    </a:lnTo>
                    <a:lnTo>
                      <a:pt x="243" y="321"/>
                    </a:lnTo>
                    <a:lnTo>
                      <a:pt x="225" y="324"/>
                    </a:lnTo>
                    <a:lnTo>
                      <a:pt x="211" y="318"/>
                    </a:lnTo>
                    <a:lnTo>
                      <a:pt x="125" y="354"/>
                    </a:lnTo>
                    <a:lnTo>
                      <a:pt x="97" y="343"/>
                    </a:lnTo>
                    <a:lnTo>
                      <a:pt x="86" y="330"/>
                    </a:lnTo>
                    <a:lnTo>
                      <a:pt x="69" y="284"/>
                    </a:lnTo>
                    <a:lnTo>
                      <a:pt x="76" y="234"/>
                    </a:lnTo>
                    <a:lnTo>
                      <a:pt x="86" y="223"/>
                    </a:lnTo>
                    <a:lnTo>
                      <a:pt x="81" y="208"/>
                    </a:lnTo>
                    <a:lnTo>
                      <a:pt x="74" y="193"/>
                    </a:lnTo>
                    <a:lnTo>
                      <a:pt x="61" y="184"/>
                    </a:lnTo>
                    <a:lnTo>
                      <a:pt x="64" y="164"/>
                    </a:lnTo>
                    <a:lnTo>
                      <a:pt x="49" y="158"/>
                    </a:lnTo>
                    <a:lnTo>
                      <a:pt x="31" y="1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8520" y="3380040"/>
                <a:ext cx="76680" cy="67680"/>
              </a:xfrm>
              <a:custGeom>
                <a:avLst/>
                <a:gdLst/>
                <a:ahLst/>
                <a:rect l="l" t="t" r="r" b="b"/>
                <a:pathLst>
                  <a:path w="208" h="202">
                    <a:moveTo>
                      <a:pt x="186" y="182"/>
                    </a:moveTo>
                    <a:lnTo>
                      <a:pt x="198" y="170"/>
                    </a:lnTo>
                    <a:lnTo>
                      <a:pt x="208" y="118"/>
                    </a:lnTo>
                    <a:lnTo>
                      <a:pt x="192" y="87"/>
                    </a:lnTo>
                    <a:lnTo>
                      <a:pt x="190" y="50"/>
                    </a:lnTo>
                    <a:lnTo>
                      <a:pt x="192" y="38"/>
                    </a:lnTo>
                    <a:lnTo>
                      <a:pt x="206" y="20"/>
                    </a:lnTo>
                    <a:lnTo>
                      <a:pt x="206" y="20"/>
                    </a:lnTo>
                    <a:lnTo>
                      <a:pt x="153" y="0"/>
                    </a:lnTo>
                    <a:lnTo>
                      <a:pt x="78" y="0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33" y="42"/>
                    </a:lnTo>
                    <a:lnTo>
                      <a:pt x="6" y="52"/>
                    </a:lnTo>
                    <a:lnTo>
                      <a:pt x="0" y="80"/>
                    </a:lnTo>
                    <a:lnTo>
                      <a:pt x="3" y="94"/>
                    </a:lnTo>
                    <a:lnTo>
                      <a:pt x="25" y="124"/>
                    </a:lnTo>
                    <a:lnTo>
                      <a:pt x="41" y="130"/>
                    </a:lnTo>
                    <a:lnTo>
                      <a:pt x="63" y="173"/>
                    </a:lnTo>
                    <a:lnTo>
                      <a:pt x="83" y="195"/>
                    </a:lnTo>
                    <a:lnTo>
                      <a:pt x="103" y="202"/>
                    </a:lnTo>
                    <a:lnTo>
                      <a:pt x="118" y="173"/>
                    </a:lnTo>
                    <a:lnTo>
                      <a:pt x="133" y="177"/>
                    </a:lnTo>
                    <a:lnTo>
                      <a:pt x="151" y="172"/>
                    </a:lnTo>
                    <a:lnTo>
                      <a:pt x="186" y="1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67640" y="3386880"/>
                <a:ext cx="53280" cy="59760"/>
              </a:xfrm>
              <a:custGeom>
                <a:avLst/>
                <a:gdLst/>
                <a:ahLst/>
                <a:rect l="l" t="t" r="r" b="b"/>
                <a:pathLst>
                  <a:path w="144" h="180">
                    <a:moveTo>
                      <a:pt x="0" y="162"/>
                    </a:moveTo>
                    <a:lnTo>
                      <a:pt x="11" y="174"/>
                    </a:lnTo>
                    <a:lnTo>
                      <a:pt x="26" y="180"/>
                    </a:lnTo>
                    <a:lnTo>
                      <a:pt x="41" y="174"/>
                    </a:lnTo>
                    <a:lnTo>
                      <a:pt x="56" y="177"/>
                    </a:lnTo>
                    <a:lnTo>
                      <a:pt x="74" y="172"/>
                    </a:lnTo>
                    <a:lnTo>
                      <a:pt x="97" y="153"/>
                    </a:lnTo>
                    <a:lnTo>
                      <a:pt x="104" y="135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82" y="2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6" y="18"/>
                    </a:lnTo>
                    <a:lnTo>
                      <a:pt x="4" y="30"/>
                    </a:lnTo>
                    <a:lnTo>
                      <a:pt x="6" y="67"/>
                    </a:lnTo>
                    <a:lnTo>
                      <a:pt x="22" y="98"/>
                    </a:lnTo>
                    <a:lnTo>
                      <a:pt x="12" y="150"/>
                    </a:lnTo>
                    <a:lnTo>
                      <a:pt x="0" y="1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05480" y="3391200"/>
                <a:ext cx="727200" cy="649440"/>
              </a:xfrm>
              <a:custGeom>
                <a:avLst/>
                <a:gdLst/>
                <a:ahLst/>
                <a:rect l="l" t="t" r="r" b="b"/>
                <a:pathLst>
                  <a:path w="1965" h="1959">
                    <a:moveTo>
                      <a:pt x="971" y="1959"/>
                    </a:moveTo>
                    <a:lnTo>
                      <a:pt x="989" y="1947"/>
                    </a:lnTo>
                    <a:lnTo>
                      <a:pt x="1008" y="1922"/>
                    </a:lnTo>
                    <a:lnTo>
                      <a:pt x="1018" y="1897"/>
                    </a:lnTo>
                    <a:lnTo>
                      <a:pt x="1083" y="1849"/>
                    </a:lnTo>
                    <a:lnTo>
                      <a:pt x="1141" y="1753"/>
                    </a:lnTo>
                    <a:lnTo>
                      <a:pt x="1163" y="1728"/>
                    </a:lnTo>
                    <a:lnTo>
                      <a:pt x="1194" y="1707"/>
                    </a:lnTo>
                    <a:lnTo>
                      <a:pt x="1210" y="1657"/>
                    </a:lnTo>
                    <a:lnTo>
                      <a:pt x="1213" y="1574"/>
                    </a:lnTo>
                    <a:lnTo>
                      <a:pt x="1302" y="1497"/>
                    </a:lnTo>
                    <a:lnTo>
                      <a:pt x="1353" y="1477"/>
                    </a:lnTo>
                    <a:lnTo>
                      <a:pt x="1369" y="1486"/>
                    </a:lnTo>
                    <a:lnTo>
                      <a:pt x="1392" y="1462"/>
                    </a:lnTo>
                    <a:lnTo>
                      <a:pt x="1413" y="1466"/>
                    </a:lnTo>
                    <a:lnTo>
                      <a:pt x="1409" y="1448"/>
                    </a:lnTo>
                    <a:lnTo>
                      <a:pt x="1439" y="1447"/>
                    </a:lnTo>
                    <a:lnTo>
                      <a:pt x="1462" y="1453"/>
                    </a:lnTo>
                    <a:lnTo>
                      <a:pt x="1532" y="1456"/>
                    </a:lnTo>
                    <a:lnTo>
                      <a:pt x="1534" y="1436"/>
                    </a:lnTo>
                    <a:lnTo>
                      <a:pt x="1585" y="1416"/>
                    </a:lnTo>
                    <a:lnTo>
                      <a:pt x="1588" y="1392"/>
                    </a:lnTo>
                    <a:lnTo>
                      <a:pt x="1599" y="1368"/>
                    </a:lnTo>
                    <a:lnTo>
                      <a:pt x="1626" y="1346"/>
                    </a:lnTo>
                    <a:lnTo>
                      <a:pt x="1636" y="1322"/>
                    </a:lnTo>
                    <a:lnTo>
                      <a:pt x="1664" y="1301"/>
                    </a:lnTo>
                    <a:lnTo>
                      <a:pt x="1679" y="1226"/>
                    </a:lnTo>
                    <a:lnTo>
                      <a:pt x="1699" y="1212"/>
                    </a:lnTo>
                    <a:lnTo>
                      <a:pt x="1708" y="1159"/>
                    </a:lnTo>
                    <a:lnTo>
                      <a:pt x="1719" y="1131"/>
                    </a:lnTo>
                    <a:lnTo>
                      <a:pt x="1719" y="1054"/>
                    </a:lnTo>
                    <a:lnTo>
                      <a:pt x="1733" y="998"/>
                    </a:lnTo>
                    <a:lnTo>
                      <a:pt x="1781" y="968"/>
                    </a:lnTo>
                    <a:lnTo>
                      <a:pt x="1839" y="896"/>
                    </a:lnTo>
                    <a:lnTo>
                      <a:pt x="1878" y="873"/>
                    </a:lnTo>
                    <a:lnTo>
                      <a:pt x="1893" y="854"/>
                    </a:lnTo>
                    <a:lnTo>
                      <a:pt x="1916" y="837"/>
                    </a:lnTo>
                    <a:lnTo>
                      <a:pt x="1959" y="772"/>
                    </a:lnTo>
                    <a:lnTo>
                      <a:pt x="1965" y="741"/>
                    </a:lnTo>
                    <a:lnTo>
                      <a:pt x="1961" y="714"/>
                    </a:lnTo>
                    <a:lnTo>
                      <a:pt x="1937" y="623"/>
                    </a:lnTo>
                    <a:lnTo>
                      <a:pt x="1910" y="610"/>
                    </a:lnTo>
                    <a:lnTo>
                      <a:pt x="1883" y="611"/>
                    </a:lnTo>
                    <a:lnTo>
                      <a:pt x="1858" y="602"/>
                    </a:lnTo>
                    <a:lnTo>
                      <a:pt x="1841" y="583"/>
                    </a:lnTo>
                    <a:lnTo>
                      <a:pt x="1816" y="568"/>
                    </a:lnTo>
                    <a:lnTo>
                      <a:pt x="1784" y="528"/>
                    </a:lnTo>
                    <a:lnTo>
                      <a:pt x="1709" y="470"/>
                    </a:lnTo>
                    <a:lnTo>
                      <a:pt x="1633" y="468"/>
                    </a:lnTo>
                    <a:lnTo>
                      <a:pt x="1606" y="452"/>
                    </a:lnTo>
                    <a:lnTo>
                      <a:pt x="1581" y="450"/>
                    </a:lnTo>
                    <a:lnTo>
                      <a:pt x="1556" y="435"/>
                    </a:lnTo>
                    <a:lnTo>
                      <a:pt x="1532" y="426"/>
                    </a:lnTo>
                    <a:lnTo>
                      <a:pt x="1475" y="442"/>
                    </a:lnTo>
                    <a:lnTo>
                      <a:pt x="1484" y="418"/>
                    </a:lnTo>
                    <a:lnTo>
                      <a:pt x="1464" y="373"/>
                    </a:lnTo>
                    <a:lnTo>
                      <a:pt x="1439" y="380"/>
                    </a:lnTo>
                    <a:lnTo>
                      <a:pt x="1429" y="362"/>
                    </a:lnTo>
                    <a:lnTo>
                      <a:pt x="1370" y="341"/>
                    </a:lnTo>
                    <a:lnTo>
                      <a:pt x="1340" y="321"/>
                    </a:lnTo>
                    <a:lnTo>
                      <a:pt x="1310" y="318"/>
                    </a:lnTo>
                    <a:lnTo>
                      <a:pt x="1293" y="325"/>
                    </a:lnTo>
                    <a:lnTo>
                      <a:pt x="1277" y="361"/>
                    </a:lnTo>
                    <a:lnTo>
                      <a:pt x="1264" y="352"/>
                    </a:lnTo>
                    <a:lnTo>
                      <a:pt x="1280" y="298"/>
                    </a:lnTo>
                    <a:lnTo>
                      <a:pt x="1250" y="290"/>
                    </a:lnTo>
                    <a:lnTo>
                      <a:pt x="1225" y="291"/>
                    </a:lnTo>
                    <a:lnTo>
                      <a:pt x="1200" y="285"/>
                    </a:lnTo>
                    <a:lnTo>
                      <a:pt x="1180" y="296"/>
                    </a:lnTo>
                    <a:lnTo>
                      <a:pt x="1178" y="325"/>
                    </a:lnTo>
                    <a:lnTo>
                      <a:pt x="1171" y="358"/>
                    </a:lnTo>
                    <a:lnTo>
                      <a:pt x="1158" y="323"/>
                    </a:lnTo>
                    <a:lnTo>
                      <a:pt x="1128" y="335"/>
                    </a:lnTo>
                    <a:lnTo>
                      <a:pt x="1141" y="282"/>
                    </a:lnTo>
                    <a:lnTo>
                      <a:pt x="1200" y="227"/>
                    </a:lnTo>
                    <a:lnTo>
                      <a:pt x="1205" y="190"/>
                    </a:lnTo>
                    <a:lnTo>
                      <a:pt x="1175" y="183"/>
                    </a:lnTo>
                    <a:lnTo>
                      <a:pt x="1166" y="150"/>
                    </a:lnTo>
                    <a:lnTo>
                      <a:pt x="1148" y="115"/>
                    </a:lnTo>
                    <a:lnTo>
                      <a:pt x="1144" y="90"/>
                    </a:lnTo>
                    <a:lnTo>
                      <a:pt x="1121" y="71"/>
                    </a:lnTo>
                    <a:lnTo>
                      <a:pt x="1121" y="71"/>
                    </a:lnTo>
                    <a:lnTo>
                      <a:pt x="1081" y="123"/>
                    </a:lnTo>
                    <a:lnTo>
                      <a:pt x="1074" y="141"/>
                    </a:lnTo>
                    <a:lnTo>
                      <a:pt x="1051" y="160"/>
                    </a:lnTo>
                    <a:lnTo>
                      <a:pt x="1033" y="165"/>
                    </a:lnTo>
                    <a:lnTo>
                      <a:pt x="1018" y="162"/>
                    </a:lnTo>
                    <a:lnTo>
                      <a:pt x="1003" y="168"/>
                    </a:lnTo>
                    <a:lnTo>
                      <a:pt x="988" y="162"/>
                    </a:lnTo>
                    <a:lnTo>
                      <a:pt x="977" y="150"/>
                    </a:lnTo>
                    <a:lnTo>
                      <a:pt x="942" y="140"/>
                    </a:lnTo>
                    <a:lnTo>
                      <a:pt x="924" y="145"/>
                    </a:lnTo>
                    <a:lnTo>
                      <a:pt x="909" y="141"/>
                    </a:lnTo>
                    <a:lnTo>
                      <a:pt x="894" y="170"/>
                    </a:lnTo>
                    <a:lnTo>
                      <a:pt x="874" y="163"/>
                    </a:lnTo>
                    <a:lnTo>
                      <a:pt x="856" y="166"/>
                    </a:lnTo>
                    <a:lnTo>
                      <a:pt x="842" y="160"/>
                    </a:lnTo>
                    <a:lnTo>
                      <a:pt x="756" y="196"/>
                    </a:lnTo>
                    <a:lnTo>
                      <a:pt x="728" y="185"/>
                    </a:lnTo>
                    <a:lnTo>
                      <a:pt x="717" y="172"/>
                    </a:lnTo>
                    <a:lnTo>
                      <a:pt x="700" y="126"/>
                    </a:lnTo>
                    <a:lnTo>
                      <a:pt x="707" y="76"/>
                    </a:lnTo>
                    <a:lnTo>
                      <a:pt x="717" y="65"/>
                    </a:lnTo>
                    <a:lnTo>
                      <a:pt x="712" y="50"/>
                    </a:lnTo>
                    <a:lnTo>
                      <a:pt x="705" y="35"/>
                    </a:lnTo>
                    <a:lnTo>
                      <a:pt x="692" y="26"/>
                    </a:lnTo>
                    <a:lnTo>
                      <a:pt x="695" y="6"/>
                    </a:lnTo>
                    <a:lnTo>
                      <a:pt x="680" y="0"/>
                    </a:lnTo>
                    <a:lnTo>
                      <a:pt x="662" y="0"/>
                    </a:lnTo>
                    <a:lnTo>
                      <a:pt x="661" y="13"/>
                    </a:lnTo>
                    <a:lnTo>
                      <a:pt x="647" y="28"/>
                    </a:lnTo>
                    <a:lnTo>
                      <a:pt x="618" y="37"/>
                    </a:lnTo>
                    <a:lnTo>
                      <a:pt x="607" y="48"/>
                    </a:lnTo>
                    <a:lnTo>
                      <a:pt x="556" y="58"/>
                    </a:lnTo>
                    <a:lnTo>
                      <a:pt x="537" y="68"/>
                    </a:lnTo>
                    <a:lnTo>
                      <a:pt x="518" y="67"/>
                    </a:lnTo>
                    <a:lnTo>
                      <a:pt x="482" y="52"/>
                    </a:lnTo>
                    <a:lnTo>
                      <a:pt x="466" y="51"/>
                    </a:lnTo>
                    <a:lnTo>
                      <a:pt x="451" y="57"/>
                    </a:lnTo>
                    <a:lnTo>
                      <a:pt x="477" y="82"/>
                    </a:lnTo>
                    <a:lnTo>
                      <a:pt x="475" y="100"/>
                    </a:lnTo>
                    <a:lnTo>
                      <a:pt x="480" y="131"/>
                    </a:lnTo>
                    <a:lnTo>
                      <a:pt x="488" y="141"/>
                    </a:lnTo>
                    <a:lnTo>
                      <a:pt x="506" y="145"/>
                    </a:lnTo>
                    <a:lnTo>
                      <a:pt x="516" y="156"/>
                    </a:lnTo>
                    <a:lnTo>
                      <a:pt x="483" y="172"/>
                    </a:lnTo>
                    <a:lnTo>
                      <a:pt x="476" y="190"/>
                    </a:lnTo>
                    <a:lnTo>
                      <a:pt x="402" y="226"/>
                    </a:lnTo>
                    <a:lnTo>
                      <a:pt x="367" y="227"/>
                    </a:lnTo>
                    <a:lnTo>
                      <a:pt x="344" y="202"/>
                    </a:lnTo>
                    <a:lnTo>
                      <a:pt x="330" y="196"/>
                    </a:lnTo>
                    <a:lnTo>
                      <a:pt x="325" y="182"/>
                    </a:lnTo>
                    <a:lnTo>
                      <a:pt x="314" y="170"/>
                    </a:lnTo>
                    <a:lnTo>
                      <a:pt x="282" y="177"/>
                    </a:lnTo>
                    <a:lnTo>
                      <a:pt x="270" y="185"/>
                    </a:lnTo>
                    <a:lnTo>
                      <a:pt x="199" y="191"/>
                    </a:lnTo>
                    <a:lnTo>
                      <a:pt x="192" y="207"/>
                    </a:lnTo>
                    <a:lnTo>
                      <a:pt x="192" y="221"/>
                    </a:lnTo>
                    <a:lnTo>
                      <a:pt x="222" y="230"/>
                    </a:lnTo>
                    <a:lnTo>
                      <a:pt x="227" y="245"/>
                    </a:lnTo>
                    <a:lnTo>
                      <a:pt x="209" y="242"/>
                    </a:lnTo>
                    <a:lnTo>
                      <a:pt x="194" y="247"/>
                    </a:lnTo>
                    <a:lnTo>
                      <a:pt x="181" y="260"/>
                    </a:lnTo>
                    <a:lnTo>
                      <a:pt x="182" y="290"/>
                    </a:lnTo>
                    <a:lnTo>
                      <a:pt x="206" y="315"/>
                    </a:lnTo>
                    <a:lnTo>
                      <a:pt x="212" y="343"/>
                    </a:lnTo>
                    <a:lnTo>
                      <a:pt x="186" y="486"/>
                    </a:lnTo>
                    <a:lnTo>
                      <a:pt x="102" y="513"/>
                    </a:lnTo>
                    <a:lnTo>
                      <a:pt x="70" y="533"/>
                    </a:lnTo>
                    <a:lnTo>
                      <a:pt x="35" y="581"/>
                    </a:lnTo>
                    <a:lnTo>
                      <a:pt x="31" y="617"/>
                    </a:lnTo>
                    <a:lnTo>
                      <a:pt x="15" y="622"/>
                    </a:lnTo>
                    <a:lnTo>
                      <a:pt x="0" y="660"/>
                    </a:lnTo>
                    <a:lnTo>
                      <a:pt x="0" y="677"/>
                    </a:lnTo>
                    <a:lnTo>
                      <a:pt x="16" y="711"/>
                    </a:lnTo>
                    <a:lnTo>
                      <a:pt x="44" y="737"/>
                    </a:lnTo>
                    <a:lnTo>
                      <a:pt x="41" y="754"/>
                    </a:lnTo>
                    <a:lnTo>
                      <a:pt x="72" y="761"/>
                    </a:lnTo>
                    <a:lnTo>
                      <a:pt x="80" y="773"/>
                    </a:lnTo>
                    <a:lnTo>
                      <a:pt x="97" y="782"/>
                    </a:lnTo>
                    <a:lnTo>
                      <a:pt x="119" y="779"/>
                    </a:lnTo>
                    <a:lnTo>
                      <a:pt x="157" y="748"/>
                    </a:lnTo>
                    <a:lnTo>
                      <a:pt x="166" y="762"/>
                    </a:lnTo>
                    <a:lnTo>
                      <a:pt x="167" y="824"/>
                    </a:lnTo>
                    <a:lnTo>
                      <a:pt x="186" y="829"/>
                    </a:lnTo>
                    <a:lnTo>
                      <a:pt x="210" y="822"/>
                    </a:lnTo>
                    <a:lnTo>
                      <a:pt x="241" y="824"/>
                    </a:lnTo>
                    <a:lnTo>
                      <a:pt x="279" y="819"/>
                    </a:lnTo>
                    <a:lnTo>
                      <a:pt x="314" y="801"/>
                    </a:lnTo>
                    <a:lnTo>
                      <a:pt x="356" y="757"/>
                    </a:lnTo>
                    <a:lnTo>
                      <a:pt x="404" y="748"/>
                    </a:lnTo>
                    <a:lnTo>
                      <a:pt x="421" y="749"/>
                    </a:lnTo>
                    <a:lnTo>
                      <a:pt x="427" y="763"/>
                    </a:lnTo>
                    <a:lnTo>
                      <a:pt x="428" y="784"/>
                    </a:lnTo>
                    <a:lnTo>
                      <a:pt x="422" y="828"/>
                    </a:lnTo>
                    <a:lnTo>
                      <a:pt x="432" y="856"/>
                    </a:lnTo>
                    <a:lnTo>
                      <a:pt x="443" y="864"/>
                    </a:lnTo>
                    <a:lnTo>
                      <a:pt x="468" y="882"/>
                    </a:lnTo>
                    <a:lnTo>
                      <a:pt x="526" y="889"/>
                    </a:lnTo>
                    <a:lnTo>
                      <a:pt x="550" y="909"/>
                    </a:lnTo>
                    <a:lnTo>
                      <a:pt x="583" y="918"/>
                    </a:lnTo>
                    <a:lnTo>
                      <a:pt x="596" y="931"/>
                    </a:lnTo>
                    <a:lnTo>
                      <a:pt x="633" y="933"/>
                    </a:lnTo>
                    <a:lnTo>
                      <a:pt x="647" y="941"/>
                    </a:lnTo>
                    <a:lnTo>
                      <a:pt x="661" y="951"/>
                    </a:lnTo>
                    <a:lnTo>
                      <a:pt x="676" y="996"/>
                    </a:lnTo>
                    <a:lnTo>
                      <a:pt x="675" y="1013"/>
                    </a:lnTo>
                    <a:lnTo>
                      <a:pt x="668" y="1026"/>
                    </a:lnTo>
                    <a:lnTo>
                      <a:pt x="683" y="1071"/>
                    </a:lnTo>
                    <a:lnTo>
                      <a:pt x="758" y="1077"/>
                    </a:lnTo>
                    <a:lnTo>
                      <a:pt x="771" y="1083"/>
                    </a:lnTo>
                    <a:lnTo>
                      <a:pt x="767" y="1112"/>
                    </a:lnTo>
                    <a:lnTo>
                      <a:pt x="791" y="1137"/>
                    </a:lnTo>
                    <a:lnTo>
                      <a:pt x="803" y="1173"/>
                    </a:lnTo>
                    <a:lnTo>
                      <a:pt x="801" y="1218"/>
                    </a:lnTo>
                    <a:lnTo>
                      <a:pt x="791" y="1246"/>
                    </a:lnTo>
                    <a:lnTo>
                      <a:pt x="792" y="1263"/>
                    </a:lnTo>
                    <a:lnTo>
                      <a:pt x="785" y="1268"/>
                    </a:lnTo>
                    <a:lnTo>
                      <a:pt x="791" y="1299"/>
                    </a:lnTo>
                    <a:lnTo>
                      <a:pt x="788" y="1358"/>
                    </a:lnTo>
                    <a:lnTo>
                      <a:pt x="807" y="1371"/>
                    </a:lnTo>
                    <a:lnTo>
                      <a:pt x="827" y="1376"/>
                    </a:lnTo>
                    <a:lnTo>
                      <a:pt x="856" y="1374"/>
                    </a:lnTo>
                    <a:lnTo>
                      <a:pt x="878" y="1378"/>
                    </a:lnTo>
                    <a:lnTo>
                      <a:pt x="893" y="1389"/>
                    </a:lnTo>
                    <a:lnTo>
                      <a:pt x="903" y="1456"/>
                    </a:lnTo>
                    <a:lnTo>
                      <a:pt x="952" y="1466"/>
                    </a:lnTo>
                    <a:lnTo>
                      <a:pt x="954" y="1481"/>
                    </a:lnTo>
                    <a:lnTo>
                      <a:pt x="944" y="1547"/>
                    </a:lnTo>
                    <a:lnTo>
                      <a:pt x="958" y="1544"/>
                    </a:lnTo>
                    <a:lnTo>
                      <a:pt x="971" y="1549"/>
                    </a:lnTo>
                    <a:lnTo>
                      <a:pt x="978" y="1579"/>
                    </a:lnTo>
                    <a:lnTo>
                      <a:pt x="977" y="1619"/>
                    </a:lnTo>
                    <a:lnTo>
                      <a:pt x="946" y="1639"/>
                    </a:lnTo>
                    <a:lnTo>
                      <a:pt x="929" y="1643"/>
                    </a:lnTo>
                    <a:lnTo>
                      <a:pt x="878" y="1689"/>
                    </a:lnTo>
                    <a:lnTo>
                      <a:pt x="848" y="1728"/>
                    </a:lnTo>
                    <a:lnTo>
                      <a:pt x="796" y="1777"/>
                    </a:lnTo>
                    <a:lnTo>
                      <a:pt x="809" y="1778"/>
                    </a:lnTo>
                    <a:lnTo>
                      <a:pt x="822" y="1769"/>
                    </a:lnTo>
                    <a:lnTo>
                      <a:pt x="837" y="1776"/>
                    </a:lnTo>
                    <a:lnTo>
                      <a:pt x="872" y="1817"/>
                    </a:lnTo>
                    <a:lnTo>
                      <a:pt x="884" y="1808"/>
                    </a:lnTo>
                    <a:lnTo>
                      <a:pt x="901" y="1832"/>
                    </a:lnTo>
                    <a:lnTo>
                      <a:pt x="927" y="1841"/>
                    </a:lnTo>
                    <a:lnTo>
                      <a:pt x="933" y="1853"/>
                    </a:lnTo>
                    <a:lnTo>
                      <a:pt x="959" y="1867"/>
                    </a:lnTo>
                    <a:lnTo>
                      <a:pt x="964" y="1887"/>
                    </a:lnTo>
                    <a:lnTo>
                      <a:pt x="984" y="1909"/>
                    </a:lnTo>
                    <a:lnTo>
                      <a:pt x="969" y="1932"/>
                    </a:lnTo>
                    <a:lnTo>
                      <a:pt x="969" y="1957"/>
                    </a:lnTo>
                    <a:lnTo>
                      <a:pt x="971" y="19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7311240" y="3389760"/>
              <a:ext cx="729360" cy="650880"/>
            </a:xfrm>
            <a:custGeom>
              <a:avLst/>
              <a:gdLst/>
              <a:ahLst/>
              <a:rect l="l" t="t" r="r" b="b"/>
              <a:pathLst>
                <a:path w="1965" h="1959">
                  <a:moveTo>
                    <a:pt x="971" y="1959"/>
                  </a:moveTo>
                  <a:lnTo>
                    <a:pt x="989" y="1947"/>
                  </a:lnTo>
                  <a:lnTo>
                    <a:pt x="1008" y="1922"/>
                  </a:lnTo>
                  <a:lnTo>
                    <a:pt x="1018" y="1897"/>
                  </a:lnTo>
                  <a:lnTo>
                    <a:pt x="1083" y="1849"/>
                  </a:lnTo>
                  <a:lnTo>
                    <a:pt x="1141" y="1753"/>
                  </a:lnTo>
                  <a:lnTo>
                    <a:pt x="1163" y="1728"/>
                  </a:lnTo>
                  <a:lnTo>
                    <a:pt x="1194" y="1707"/>
                  </a:lnTo>
                  <a:lnTo>
                    <a:pt x="1210" y="1657"/>
                  </a:lnTo>
                  <a:lnTo>
                    <a:pt x="1213" y="1574"/>
                  </a:lnTo>
                  <a:lnTo>
                    <a:pt x="1302" y="1497"/>
                  </a:lnTo>
                  <a:lnTo>
                    <a:pt x="1353" y="1477"/>
                  </a:lnTo>
                  <a:lnTo>
                    <a:pt x="1369" y="1486"/>
                  </a:lnTo>
                  <a:lnTo>
                    <a:pt x="1392" y="1462"/>
                  </a:lnTo>
                  <a:lnTo>
                    <a:pt x="1413" y="1466"/>
                  </a:lnTo>
                  <a:lnTo>
                    <a:pt x="1409" y="1448"/>
                  </a:lnTo>
                  <a:lnTo>
                    <a:pt x="1439" y="1447"/>
                  </a:lnTo>
                  <a:lnTo>
                    <a:pt x="1462" y="1453"/>
                  </a:lnTo>
                  <a:lnTo>
                    <a:pt x="1532" y="1456"/>
                  </a:lnTo>
                  <a:lnTo>
                    <a:pt x="1534" y="1436"/>
                  </a:lnTo>
                  <a:lnTo>
                    <a:pt x="1585" y="1416"/>
                  </a:lnTo>
                  <a:lnTo>
                    <a:pt x="1588" y="1392"/>
                  </a:lnTo>
                  <a:lnTo>
                    <a:pt x="1599" y="1368"/>
                  </a:lnTo>
                  <a:lnTo>
                    <a:pt x="1626" y="1346"/>
                  </a:lnTo>
                  <a:lnTo>
                    <a:pt x="1636" y="1322"/>
                  </a:lnTo>
                  <a:lnTo>
                    <a:pt x="1664" y="1301"/>
                  </a:lnTo>
                  <a:lnTo>
                    <a:pt x="1679" y="1226"/>
                  </a:lnTo>
                  <a:lnTo>
                    <a:pt x="1699" y="1212"/>
                  </a:lnTo>
                  <a:lnTo>
                    <a:pt x="1708" y="1159"/>
                  </a:lnTo>
                  <a:lnTo>
                    <a:pt x="1719" y="1131"/>
                  </a:lnTo>
                  <a:lnTo>
                    <a:pt x="1719" y="1054"/>
                  </a:lnTo>
                  <a:lnTo>
                    <a:pt x="1733" y="998"/>
                  </a:lnTo>
                  <a:lnTo>
                    <a:pt x="1781" y="968"/>
                  </a:lnTo>
                  <a:lnTo>
                    <a:pt x="1839" y="896"/>
                  </a:lnTo>
                  <a:lnTo>
                    <a:pt x="1878" y="873"/>
                  </a:lnTo>
                  <a:lnTo>
                    <a:pt x="1893" y="854"/>
                  </a:lnTo>
                  <a:lnTo>
                    <a:pt x="1916" y="837"/>
                  </a:lnTo>
                  <a:lnTo>
                    <a:pt x="1959" y="772"/>
                  </a:lnTo>
                  <a:lnTo>
                    <a:pt x="1965" y="741"/>
                  </a:lnTo>
                  <a:lnTo>
                    <a:pt x="1961" y="714"/>
                  </a:lnTo>
                  <a:lnTo>
                    <a:pt x="1937" y="623"/>
                  </a:lnTo>
                  <a:lnTo>
                    <a:pt x="1910" y="610"/>
                  </a:lnTo>
                  <a:lnTo>
                    <a:pt x="1883" y="611"/>
                  </a:lnTo>
                  <a:lnTo>
                    <a:pt x="1858" y="602"/>
                  </a:lnTo>
                  <a:lnTo>
                    <a:pt x="1841" y="583"/>
                  </a:lnTo>
                  <a:lnTo>
                    <a:pt x="1816" y="568"/>
                  </a:lnTo>
                  <a:lnTo>
                    <a:pt x="1784" y="528"/>
                  </a:lnTo>
                  <a:lnTo>
                    <a:pt x="1709" y="470"/>
                  </a:lnTo>
                  <a:lnTo>
                    <a:pt x="1633" y="468"/>
                  </a:lnTo>
                  <a:lnTo>
                    <a:pt x="1606" y="452"/>
                  </a:lnTo>
                  <a:lnTo>
                    <a:pt x="1581" y="450"/>
                  </a:lnTo>
                  <a:lnTo>
                    <a:pt x="1556" y="435"/>
                  </a:lnTo>
                  <a:lnTo>
                    <a:pt x="1532" y="426"/>
                  </a:lnTo>
                  <a:lnTo>
                    <a:pt x="1475" y="442"/>
                  </a:lnTo>
                  <a:lnTo>
                    <a:pt x="1484" y="418"/>
                  </a:lnTo>
                  <a:lnTo>
                    <a:pt x="1464" y="373"/>
                  </a:lnTo>
                  <a:lnTo>
                    <a:pt x="1439" y="380"/>
                  </a:lnTo>
                  <a:lnTo>
                    <a:pt x="1429" y="362"/>
                  </a:lnTo>
                  <a:lnTo>
                    <a:pt x="1370" y="341"/>
                  </a:lnTo>
                  <a:lnTo>
                    <a:pt x="1340" y="321"/>
                  </a:lnTo>
                  <a:lnTo>
                    <a:pt x="1310" y="318"/>
                  </a:lnTo>
                  <a:lnTo>
                    <a:pt x="1293" y="325"/>
                  </a:lnTo>
                  <a:lnTo>
                    <a:pt x="1277" y="361"/>
                  </a:lnTo>
                  <a:lnTo>
                    <a:pt x="1264" y="352"/>
                  </a:lnTo>
                  <a:lnTo>
                    <a:pt x="1280" y="298"/>
                  </a:lnTo>
                  <a:lnTo>
                    <a:pt x="1250" y="290"/>
                  </a:lnTo>
                  <a:lnTo>
                    <a:pt x="1225" y="291"/>
                  </a:lnTo>
                  <a:lnTo>
                    <a:pt x="1200" y="285"/>
                  </a:lnTo>
                  <a:lnTo>
                    <a:pt x="1180" y="296"/>
                  </a:lnTo>
                  <a:lnTo>
                    <a:pt x="1178" y="325"/>
                  </a:lnTo>
                  <a:lnTo>
                    <a:pt x="1171" y="358"/>
                  </a:lnTo>
                  <a:lnTo>
                    <a:pt x="1158" y="323"/>
                  </a:lnTo>
                  <a:lnTo>
                    <a:pt x="1128" y="335"/>
                  </a:lnTo>
                  <a:lnTo>
                    <a:pt x="1141" y="282"/>
                  </a:lnTo>
                  <a:lnTo>
                    <a:pt x="1200" y="227"/>
                  </a:lnTo>
                  <a:lnTo>
                    <a:pt x="1205" y="190"/>
                  </a:lnTo>
                  <a:lnTo>
                    <a:pt x="1175" y="183"/>
                  </a:lnTo>
                  <a:lnTo>
                    <a:pt x="1166" y="150"/>
                  </a:lnTo>
                  <a:lnTo>
                    <a:pt x="1148" y="115"/>
                  </a:lnTo>
                  <a:lnTo>
                    <a:pt x="1144" y="90"/>
                  </a:lnTo>
                  <a:lnTo>
                    <a:pt x="1121" y="71"/>
                  </a:lnTo>
                  <a:lnTo>
                    <a:pt x="1121" y="71"/>
                  </a:lnTo>
                  <a:lnTo>
                    <a:pt x="1081" y="123"/>
                  </a:lnTo>
                  <a:lnTo>
                    <a:pt x="1074" y="141"/>
                  </a:lnTo>
                  <a:lnTo>
                    <a:pt x="1051" y="160"/>
                  </a:lnTo>
                  <a:lnTo>
                    <a:pt x="1033" y="165"/>
                  </a:lnTo>
                  <a:lnTo>
                    <a:pt x="1018" y="162"/>
                  </a:lnTo>
                  <a:lnTo>
                    <a:pt x="1003" y="168"/>
                  </a:lnTo>
                  <a:lnTo>
                    <a:pt x="988" y="162"/>
                  </a:lnTo>
                  <a:lnTo>
                    <a:pt x="977" y="150"/>
                  </a:lnTo>
                  <a:lnTo>
                    <a:pt x="942" y="140"/>
                  </a:lnTo>
                  <a:lnTo>
                    <a:pt x="924" y="145"/>
                  </a:lnTo>
                  <a:lnTo>
                    <a:pt x="909" y="141"/>
                  </a:lnTo>
                  <a:lnTo>
                    <a:pt x="894" y="170"/>
                  </a:lnTo>
                  <a:lnTo>
                    <a:pt x="874" y="163"/>
                  </a:lnTo>
                  <a:lnTo>
                    <a:pt x="856" y="166"/>
                  </a:lnTo>
                  <a:lnTo>
                    <a:pt x="842" y="160"/>
                  </a:lnTo>
                  <a:lnTo>
                    <a:pt x="756" y="196"/>
                  </a:lnTo>
                  <a:lnTo>
                    <a:pt x="728" y="185"/>
                  </a:lnTo>
                  <a:lnTo>
                    <a:pt x="717" y="172"/>
                  </a:lnTo>
                  <a:lnTo>
                    <a:pt x="700" y="126"/>
                  </a:lnTo>
                  <a:lnTo>
                    <a:pt x="707" y="76"/>
                  </a:lnTo>
                  <a:lnTo>
                    <a:pt x="717" y="65"/>
                  </a:lnTo>
                  <a:lnTo>
                    <a:pt x="712" y="50"/>
                  </a:lnTo>
                  <a:lnTo>
                    <a:pt x="705" y="35"/>
                  </a:lnTo>
                  <a:lnTo>
                    <a:pt x="692" y="26"/>
                  </a:lnTo>
                  <a:lnTo>
                    <a:pt x="695" y="6"/>
                  </a:lnTo>
                  <a:lnTo>
                    <a:pt x="680" y="0"/>
                  </a:lnTo>
                  <a:lnTo>
                    <a:pt x="662" y="0"/>
                  </a:lnTo>
                  <a:lnTo>
                    <a:pt x="661" y="13"/>
                  </a:lnTo>
                  <a:lnTo>
                    <a:pt x="647" y="28"/>
                  </a:lnTo>
                  <a:lnTo>
                    <a:pt x="618" y="37"/>
                  </a:lnTo>
                  <a:lnTo>
                    <a:pt x="607" y="48"/>
                  </a:lnTo>
                  <a:lnTo>
                    <a:pt x="556" y="58"/>
                  </a:lnTo>
                  <a:lnTo>
                    <a:pt x="537" y="68"/>
                  </a:lnTo>
                  <a:lnTo>
                    <a:pt x="518" y="67"/>
                  </a:lnTo>
                  <a:lnTo>
                    <a:pt x="482" y="52"/>
                  </a:lnTo>
                  <a:lnTo>
                    <a:pt x="466" y="51"/>
                  </a:lnTo>
                  <a:lnTo>
                    <a:pt x="451" y="57"/>
                  </a:lnTo>
                  <a:lnTo>
                    <a:pt x="477" y="82"/>
                  </a:lnTo>
                  <a:lnTo>
                    <a:pt x="475" y="100"/>
                  </a:lnTo>
                  <a:lnTo>
                    <a:pt x="480" y="131"/>
                  </a:lnTo>
                  <a:lnTo>
                    <a:pt x="488" y="141"/>
                  </a:lnTo>
                  <a:lnTo>
                    <a:pt x="506" y="145"/>
                  </a:lnTo>
                  <a:lnTo>
                    <a:pt x="516" y="156"/>
                  </a:lnTo>
                  <a:lnTo>
                    <a:pt x="483" y="172"/>
                  </a:lnTo>
                  <a:lnTo>
                    <a:pt x="476" y="190"/>
                  </a:lnTo>
                  <a:lnTo>
                    <a:pt x="402" y="226"/>
                  </a:lnTo>
                  <a:lnTo>
                    <a:pt x="367" y="227"/>
                  </a:lnTo>
                  <a:lnTo>
                    <a:pt x="344" y="202"/>
                  </a:lnTo>
                  <a:lnTo>
                    <a:pt x="330" y="196"/>
                  </a:lnTo>
                  <a:lnTo>
                    <a:pt x="325" y="182"/>
                  </a:lnTo>
                  <a:lnTo>
                    <a:pt x="314" y="170"/>
                  </a:lnTo>
                  <a:lnTo>
                    <a:pt x="282" y="177"/>
                  </a:lnTo>
                  <a:lnTo>
                    <a:pt x="270" y="185"/>
                  </a:lnTo>
                  <a:lnTo>
                    <a:pt x="199" y="191"/>
                  </a:lnTo>
                  <a:lnTo>
                    <a:pt x="192" y="207"/>
                  </a:lnTo>
                  <a:lnTo>
                    <a:pt x="192" y="221"/>
                  </a:lnTo>
                  <a:lnTo>
                    <a:pt x="222" y="230"/>
                  </a:lnTo>
                  <a:lnTo>
                    <a:pt x="227" y="245"/>
                  </a:lnTo>
                  <a:lnTo>
                    <a:pt x="209" y="242"/>
                  </a:lnTo>
                  <a:lnTo>
                    <a:pt x="194" y="247"/>
                  </a:lnTo>
                  <a:lnTo>
                    <a:pt x="181" y="260"/>
                  </a:lnTo>
                  <a:lnTo>
                    <a:pt x="182" y="290"/>
                  </a:lnTo>
                  <a:lnTo>
                    <a:pt x="206" y="315"/>
                  </a:lnTo>
                  <a:lnTo>
                    <a:pt x="212" y="343"/>
                  </a:lnTo>
                  <a:lnTo>
                    <a:pt x="186" y="486"/>
                  </a:lnTo>
                  <a:lnTo>
                    <a:pt x="102" y="513"/>
                  </a:lnTo>
                  <a:lnTo>
                    <a:pt x="70" y="533"/>
                  </a:lnTo>
                  <a:lnTo>
                    <a:pt x="35" y="581"/>
                  </a:lnTo>
                  <a:lnTo>
                    <a:pt x="31" y="617"/>
                  </a:lnTo>
                  <a:lnTo>
                    <a:pt x="15" y="622"/>
                  </a:lnTo>
                  <a:lnTo>
                    <a:pt x="0" y="660"/>
                  </a:lnTo>
                  <a:lnTo>
                    <a:pt x="0" y="677"/>
                  </a:lnTo>
                  <a:lnTo>
                    <a:pt x="16" y="711"/>
                  </a:lnTo>
                  <a:lnTo>
                    <a:pt x="44" y="737"/>
                  </a:lnTo>
                  <a:lnTo>
                    <a:pt x="41" y="754"/>
                  </a:lnTo>
                  <a:lnTo>
                    <a:pt x="72" y="761"/>
                  </a:lnTo>
                  <a:lnTo>
                    <a:pt x="80" y="773"/>
                  </a:lnTo>
                  <a:lnTo>
                    <a:pt x="97" y="782"/>
                  </a:lnTo>
                  <a:lnTo>
                    <a:pt x="119" y="779"/>
                  </a:lnTo>
                  <a:lnTo>
                    <a:pt x="157" y="748"/>
                  </a:lnTo>
                  <a:lnTo>
                    <a:pt x="166" y="762"/>
                  </a:lnTo>
                  <a:lnTo>
                    <a:pt x="167" y="824"/>
                  </a:lnTo>
                  <a:lnTo>
                    <a:pt x="186" y="829"/>
                  </a:lnTo>
                  <a:lnTo>
                    <a:pt x="210" y="822"/>
                  </a:lnTo>
                  <a:lnTo>
                    <a:pt x="241" y="824"/>
                  </a:lnTo>
                  <a:lnTo>
                    <a:pt x="279" y="819"/>
                  </a:lnTo>
                  <a:lnTo>
                    <a:pt x="314" y="801"/>
                  </a:lnTo>
                  <a:lnTo>
                    <a:pt x="356" y="757"/>
                  </a:lnTo>
                  <a:lnTo>
                    <a:pt x="404" y="748"/>
                  </a:lnTo>
                  <a:lnTo>
                    <a:pt x="421" y="749"/>
                  </a:lnTo>
                  <a:lnTo>
                    <a:pt x="427" y="763"/>
                  </a:lnTo>
                  <a:lnTo>
                    <a:pt x="428" y="784"/>
                  </a:lnTo>
                  <a:lnTo>
                    <a:pt x="422" y="828"/>
                  </a:lnTo>
                  <a:lnTo>
                    <a:pt x="432" y="856"/>
                  </a:lnTo>
                  <a:lnTo>
                    <a:pt x="443" y="864"/>
                  </a:lnTo>
                  <a:lnTo>
                    <a:pt x="468" y="882"/>
                  </a:lnTo>
                  <a:lnTo>
                    <a:pt x="526" y="889"/>
                  </a:lnTo>
                  <a:lnTo>
                    <a:pt x="550" y="909"/>
                  </a:lnTo>
                  <a:lnTo>
                    <a:pt x="583" y="918"/>
                  </a:lnTo>
                  <a:lnTo>
                    <a:pt x="596" y="931"/>
                  </a:lnTo>
                  <a:lnTo>
                    <a:pt x="633" y="933"/>
                  </a:lnTo>
                  <a:lnTo>
                    <a:pt x="647" y="941"/>
                  </a:lnTo>
                  <a:lnTo>
                    <a:pt x="661" y="951"/>
                  </a:lnTo>
                  <a:lnTo>
                    <a:pt x="676" y="996"/>
                  </a:lnTo>
                  <a:lnTo>
                    <a:pt x="675" y="1013"/>
                  </a:lnTo>
                  <a:lnTo>
                    <a:pt x="668" y="1026"/>
                  </a:lnTo>
                  <a:lnTo>
                    <a:pt x="683" y="1071"/>
                  </a:lnTo>
                  <a:lnTo>
                    <a:pt x="758" y="1077"/>
                  </a:lnTo>
                  <a:lnTo>
                    <a:pt x="771" y="1083"/>
                  </a:lnTo>
                  <a:lnTo>
                    <a:pt x="767" y="1112"/>
                  </a:lnTo>
                  <a:lnTo>
                    <a:pt x="791" y="1137"/>
                  </a:lnTo>
                  <a:lnTo>
                    <a:pt x="803" y="1173"/>
                  </a:lnTo>
                  <a:lnTo>
                    <a:pt x="801" y="1218"/>
                  </a:lnTo>
                  <a:lnTo>
                    <a:pt x="791" y="1246"/>
                  </a:lnTo>
                  <a:lnTo>
                    <a:pt x="792" y="1263"/>
                  </a:lnTo>
                  <a:lnTo>
                    <a:pt x="785" y="1268"/>
                  </a:lnTo>
                  <a:lnTo>
                    <a:pt x="791" y="1299"/>
                  </a:lnTo>
                  <a:lnTo>
                    <a:pt x="788" y="1358"/>
                  </a:lnTo>
                  <a:lnTo>
                    <a:pt x="807" y="1371"/>
                  </a:lnTo>
                  <a:lnTo>
                    <a:pt x="827" y="1376"/>
                  </a:lnTo>
                  <a:lnTo>
                    <a:pt x="856" y="1374"/>
                  </a:lnTo>
                  <a:lnTo>
                    <a:pt x="878" y="1378"/>
                  </a:lnTo>
                  <a:lnTo>
                    <a:pt x="893" y="1389"/>
                  </a:lnTo>
                  <a:lnTo>
                    <a:pt x="903" y="1456"/>
                  </a:lnTo>
                  <a:lnTo>
                    <a:pt x="952" y="1466"/>
                  </a:lnTo>
                  <a:lnTo>
                    <a:pt x="954" y="1481"/>
                  </a:lnTo>
                  <a:lnTo>
                    <a:pt x="944" y="1547"/>
                  </a:lnTo>
                  <a:lnTo>
                    <a:pt x="958" y="1544"/>
                  </a:lnTo>
                  <a:lnTo>
                    <a:pt x="971" y="1549"/>
                  </a:lnTo>
                  <a:lnTo>
                    <a:pt x="978" y="1579"/>
                  </a:lnTo>
                  <a:lnTo>
                    <a:pt x="977" y="1619"/>
                  </a:lnTo>
                  <a:lnTo>
                    <a:pt x="946" y="1639"/>
                  </a:lnTo>
                  <a:lnTo>
                    <a:pt x="929" y="1643"/>
                  </a:lnTo>
                  <a:lnTo>
                    <a:pt x="878" y="1689"/>
                  </a:lnTo>
                  <a:lnTo>
                    <a:pt x="848" y="1728"/>
                  </a:lnTo>
                  <a:lnTo>
                    <a:pt x="796" y="1777"/>
                  </a:lnTo>
                  <a:lnTo>
                    <a:pt x="809" y="1778"/>
                  </a:lnTo>
                  <a:lnTo>
                    <a:pt x="822" y="1769"/>
                  </a:lnTo>
                  <a:lnTo>
                    <a:pt x="837" y="1776"/>
                  </a:lnTo>
                  <a:lnTo>
                    <a:pt x="872" y="1817"/>
                  </a:lnTo>
                  <a:lnTo>
                    <a:pt x="884" y="1808"/>
                  </a:lnTo>
                  <a:lnTo>
                    <a:pt x="901" y="1832"/>
                  </a:lnTo>
                  <a:lnTo>
                    <a:pt x="927" y="1841"/>
                  </a:lnTo>
                  <a:lnTo>
                    <a:pt x="933" y="1853"/>
                  </a:lnTo>
                  <a:lnTo>
                    <a:pt x="959" y="1867"/>
                  </a:lnTo>
                  <a:lnTo>
                    <a:pt x="964" y="1887"/>
                  </a:lnTo>
                  <a:lnTo>
                    <a:pt x="984" y="1909"/>
                  </a:lnTo>
                  <a:lnTo>
                    <a:pt x="969" y="1932"/>
                  </a:lnTo>
                  <a:lnTo>
                    <a:pt x="969" y="1957"/>
                  </a:lnTo>
                  <a:lnTo>
                    <a:pt x="971" y="19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93840" y="3977640"/>
              <a:ext cx="82440" cy="7992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0" y="197"/>
                  </a:moveTo>
                  <a:lnTo>
                    <a:pt x="3" y="175"/>
                  </a:lnTo>
                  <a:lnTo>
                    <a:pt x="9" y="142"/>
                  </a:lnTo>
                  <a:lnTo>
                    <a:pt x="23" y="19"/>
                  </a:lnTo>
                  <a:lnTo>
                    <a:pt x="33" y="8"/>
                  </a:lnTo>
                  <a:lnTo>
                    <a:pt x="46" y="9"/>
                  </a:lnTo>
                  <a:lnTo>
                    <a:pt x="59" y="0"/>
                  </a:lnTo>
                  <a:lnTo>
                    <a:pt x="74" y="7"/>
                  </a:lnTo>
                  <a:lnTo>
                    <a:pt x="109" y="48"/>
                  </a:lnTo>
                  <a:lnTo>
                    <a:pt x="121" y="39"/>
                  </a:lnTo>
                  <a:lnTo>
                    <a:pt x="138" y="63"/>
                  </a:lnTo>
                  <a:lnTo>
                    <a:pt x="164" y="72"/>
                  </a:lnTo>
                  <a:lnTo>
                    <a:pt x="170" y="84"/>
                  </a:lnTo>
                  <a:lnTo>
                    <a:pt x="196" y="98"/>
                  </a:lnTo>
                  <a:lnTo>
                    <a:pt x="201" y="118"/>
                  </a:lnTo>
                  <a:lnTo>
                    <a:pt x="221" y="140"/>
                  </a:lnTo>
                  <a:lnTo>
                    <a:pt x="206" y="163"/>
                  </a:lnTo>
                  <a:lnTo>
                    <a:pt x="206" y="188"/>
                  </a:lnTo>
                  <a:lnTo>
                    <a:pt x="208" y="190"/>
                  </a:lnTo>
                  <a:lnTo>
                    <a:pt x="200" y="209"/>
                  </a:lnTo>
                  <a:lnTo>
                    <a:pt x="159" y="237"/>
                  </a:lnTo>
                  <a:lnTo>
                    <a:pt x="86" y="238"/>
                  </a:lnTo>
                  <a:lnTo>
                    <a:pt x="61" y="230"/>
                  </a:lnTo>
                  <a:lnTo>
                    <a:pt x="49" y="217"/>
                  </a:lnTo>
                  <a:lnTo>
                    <a:pt x="20" y="217"/>
                  </a:lnTo>
                  <a:lnTo>
                    <a:pt x="0" y="197"/>
                  </a:lnTo>
                  <a:lnTo>
                    <a:pt x="0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21120" y="3797280"/>
              <a:ext cx="144000" cy="136800"/>
            </a:xfrm>
            <a:custGeom>
              <a:avLst/>
              <a:gdLst/>
              <a:ahLst/>
              <a:rect l="l" t="t" r="r" b="b"/>
              <a:pathLst>
                <a:path w="389" h="415">
                  <a:moveTo>
                    <a:pt x="379" y="323"/>
                  </a:moveTo>
                  <a:lnTo>
                    <a:pt x="389" y="257"/>
                  </a:lnTo>
                  <a:lnTo>
                    <a:pt x="387" y="242"/>
                  </a:lnTo>
                  <a:lnTo>
                    <a:pt x="338" y="232"/>
                  </a:lnTo>
                  <a:lnTo>
                    <a:pt x="328" y="165"/>
                  </a:lnTo>
                  <a:lnTo>
                    <a:pt x="313" y="154"/>
                  </a:lnTo>
                  <a:lnTo>
                    <a:pt x="291" y="150"/>
                  </a:lnTo>
                  <a:lnTo>
                    <a:pt x="262" y="152"/>
                  </a:lnTo>
                  <a:lnTo>
                    <a:pt x="242" y="147"/>
                  </a:lnTo>
                  <a:lnTo>
                    <a:pt x="223" y="134"/>
                  </a:lnTo>
                  <a:lnTo>
                    <a:pt x="226" y="75"/>
                  </a:lnTo>
                  <a:lnTo>
                    <a:pt x="220" y="44"/>
                  </a:lnTo>
                  <a:lnTo>
                    <a:pt x="200" y="18"/>
                  </a:lnTo>
                  <a:lnTo>
                    <a:pt x="185" y="5"/>
                  </a:lnTo>
                  <a:lnTo>
                    <a:pt x="171" y="0"/>
                  </a:lnTo>
                  <a:lnTo>
                    <a:pt x="127" y="0"/>
                  </a:lnTo>
                  <a:lnTo>
                    <a:pt x="40" y="25"/>
                  </a:lnTo>
                  <a:lnTo>
                    <a:pt x="20" y="65"/>
                  </a:lnTo>
                  <a:lnTo>
                    <a:pt x="13" y="83"/>
                  </a:lnTo>
                  <a:lnTo>
                    <a:pt x="13" y="117"/>
                  </a:lnTo>
                  <a:lnTo>
                    <a:pt x="1" y="154"/>
                  </a:lnTo>
                  <a:lnTo>
                    <a:pt x="0" y="154"/>
                  </a:lnTo>
                  <a:lnTo>
                    <a:pt x="18" y="164"/>
                  </a:lnTo>
                  <a:lnTo>
                    <a:pt x="27" y="180"/>
                  </a:lnTo>
                  <a:lnTo>
                    <a:pt x="78" y="222"/>
                  </a:lnTo>
                  <a:lnTo>
                    <a:pt x="87" y="237"/>
                  </a:lnTo>
                  <a:lnTo>
                    <a:pt x="147" y="250"/>
                  </a:lnTo>
                  <a:lnTo>
                    <a:pt x="220" y="297"/>
                  </a:lnTo>
                  <a:lnTo>
                    <a:pt x="229" y="308"/>
                  </a:lnTo>
                  <a:lnTo>
                    <a:pt x="229" y="327"/>
                  </a:lnTo>
                  <a:lnTo>
                    <a:pt x="211" y="354"/>
                  </a:lnTo>
                  <a:lnTo>
                    <a:pt x="198" y="394"/>
                  </a:lnTo>
                  <a:lnTo>
                    <a:pt x="248" y="403"/>
                  </a:lnTo>
                  <a:lnTo>
                    <a:pt x="262" y="413"/>
                  </a:lnTo>
                  <a:lnTo>
                    <a:pt x="283" y="415"/>
                  </a:lnTo>
                  <a:lnTo>
                    <a:pt x="316" y="409"/>
                  </a:lnTo>
                  <a:lnTo>
                    <a:pt x="363" y="374"/>
                  </a:lnTo>
                  <a:lnTo>
                    <a:pt x="373" y="355"/>
                  </a:lnTo>
                  <a:lnTo>
                    <a:pt x="379" y="3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9360" y="3638880"/>
              <a:ext cx="219600" cy="221040"/>
            </a:xfrm>
            <a:custGeom>
              <a:avLst/>
              <a:gdLst/>
              <a:ahLst/>
              <a:rect l="l" t="t" r="r" b="b"/>
              <a:pathLst>
                <a:path w="593" h="668">
                  <a:moveTo>
                    <a:pt x="0" y="74"/>
                  </a:moveTo>
                  <a:lnTo>
                    <a:pt x="31" y="76"/>
                  </a:lnTo>
                  <a:lnTo>
                    <a:pt x="69" y="71"/>
                  </a:lnTo>
                  <a:lnTo>
                    <a:pt x="104" y="53"/>
                  </a:lnTo>
                  <a:lnTo>
                    <a:pt x="146" y="9"/>
                  </a:lnTo>
                  <a:lnTo>
                    <a:pt x="194" y="0"/>
                  </a:lnTo>
                  <a:lnTo>
                    <a:pt x="211" y="1"/>
                  </a:lnTo>
                  <a:lnTo>
                    <a:pt x="217" y="15"/>
                  </a:lnTo>
                  <a:lnTo>
                    <a:pt x="218" y="36"/>
                  </a:lnTo>
                  <a:lnTo>
                    <a:pt x="212" y="80"/>
                  </a:lnTo>
                  <a:lnTo>
                    <a:pt x="222" y="108"/>
                  </a:lnTo>
                  <a:lnTo>
                    <a:pt x="233" y="116"/>
                  </a:lnTo>
                  <a:lnTo>
                    <a:pt x="258" y="134"/>
                  </a:lnTo>
                  <a:lnTo>
                    <a:pt x="316" y="141"/>
                  </a:lnTo>
                  <a:lnTo>
                    <a:pt x="340" y="161"/>
                  </a:lnTo>
                  <a:lnTo>
                    <a:pt x="373" y="170"/>
                  </a:lnTo>
                  <a:lnTo>
                    <a:pt x="386" y="183"/>
                  </a:lnTo>
                  <a:lnTo>
                    <a:pt x="423" y="185"/>
                  </a:lnTo>
                  <a:lnTo>
                    <a:pt x="437" y="193"/>
                  </a:lnTo>
                  <a:lnTo>
                    <a:pt x="451" y="203"/>
                  </a:lnTo>
                  <a:lnTo>
                    <a:pt x="466" y="248"/>
                  </a:lnTo>
                  <a:lnTo>
                    <a:pt x="465" y="265"/>
                  </a:lnTo>
                  <a:lnTo>
                    <a:pt x="458" y="278"/>
                  </a:lnTo>
                  <a:lnTo>
                    <a:pt x="473" y="323"/>
                  </a:lnTo>
                  <a:lnTo>
                    <a:pt x="548" y="329"/>
                  </a:lnTo>
                  <a:lnTo>
                    <a:pt x="561" y="335"/>
                  </a:lnTo>
                  <a:lnTo>
                    <a:pt x="557" y="364"/>
                  </a:lnTo>
                  <a:lnTo>
                    <a:pt x="581" y="389"/>
                  </a:lnTo>
                  <a:lnTo>
                    <a:pt x="593" y="425"/>
                  </a:lnTo>
                  <a:lnTo>
                    <a:pt x="591" y="470"/>
                  </a:lnTo>
                  <a:lnTo>
                    <a:pt x="581" y="498"/>
                  </a:lnTo>
                  <a:lnTo>
                    <a:pt x="582" y="515"/>
                  </a:lnTo>
                  <a:lnTo>
                    <a:pt x="575" y="520"/>
                  </a:lnTo>
                  <a:lnTo>
                    <a:pt x="555" y="494"/>
                  </a:lnTo>
                  <a:lnTo>
                    <a:pt x="540" y="481"/>
                  </a:lnTo>
                  <a:lnTo>
                    <a:pt x="526" y="476"/>
                  </a:lnTo>
                  <a:lnTo>
                    <a:pt x="482" y="476"/>
                  </a:lnTo>
                  <a:lnTo>
                    <a:pt x="395" y="501"/>
                  </a:lnTo>
                  <a:lnTo>
                    <a:pt x="375" y="541"/>
                  </a:lnTo>
                  <a:lnTo>
                    <a:pt x="368" y="559"/>
                  </a:lnTo>
                  <a:lnTo>
                    <a:pt x="368" y="593"/>
                  </a:lnTo>
                  <a:lnTo>
                    <a:pt x="356" y="630"/>
                  </a:lnTo>
                  <a:lnTo>
                    <a:pt x="355" y="630"/>
                  </a:lnTo>
                  <a:lnTo>
                    <a:pt x="328" y="620"/>
                  </a:lnTo>
                  <a:lnTo>
                    <a:pt x="297" y="618"/>
                  </a:lnTo>
                  <a:lnTo>
                    <a:pt x="286" y="628"/>
                  </a:lnTo>
                  <a:lnTo>
                    <a:pt x="282" y="641"/>
                  </a:lnTo>
                  <a:lnTo>
                    <a:pt x="267" y="638"/>
                  </a:lnTo>
                  <a:lnTo>
                    <a:pt x="256" y="629"/>
                  </a:lnTo>
                  <a:lnTo>
                    <a:pt x="216" y="624"/>
                  </a:lnTo>
                  <a:lnTo>
                    <a:pt x="192" y="609"/>
                  </a:lnTo>
                  <a:lnTo>
                    <a:pt x="145" y="665"/>
                  </a:lnTo>
                  <a:lnTo>
                    <a:pt x="125" y="668"/>
                  </a:lnTo>
                  <a:lnTo>
                    <a:pt x="110" y="666"/>
                  </a:lnTo>
                  <a:lnTo>
                    <a:pt x="85" y="568"/>
                  </a:lnTo>
                  <a:lnTo>
                    <a:pt x="74" y="560"/>
                  </a:lnTo>
                  <a:lnTo>
                    <a:pt x="72" y="545"/>
                  </a:lnTo>
                  <a:lnTo>
                    <a:pt x="61" y="531"/>
                  </a:lnTo>
                  <a:lnTo>
                    <a:pt x="71" y="516"/>
                  </a:lnTo>
                  <a:lnTo>
                    <a:pt x="67" y="485"/>
                  </a:lnTo>
                  <a:lnTo>
                    <a:pt x="45" y="464"/>
                  </a:lnTo>
                  <a:lnTo>
                    <a:pt x="39" y="428"/>
                  </a:lnTo>
                  <a:lnTo>
                    <a:pt x="17" y="406"/>
                  </a:lnTo>
                  <a:lnTo>
                    <a:pt x="14" y="393"/>
                  </a:lnTo>
                  <a:lnTo>
                    <a:pt x="42" y="351"/>
                  </a:lnTo>
                  <a:lnTo>
                    <a:pt x="37" y="336"/>
                  </a:lnTo>
                  <a:lnTo>
                    <a:pt x="25" y="329"/>
                  </a:lnTo>
                  <a:lnTo>
                    <a:pt x="22" y="313"/>
                  </a:lnTo>
                  <a:lnTo>
                    <a:pt x="32" y="285"/>
                  </a:lnTo>
                  <a:lnTo>
                    <a:pt x="26" y="271"/>
                  </a:lnTo>
                  <a:lnTo>
                    <a:pt x="29" y="255"/>
                  </a:lnTo>
                  <a:lnTo>
                    <a:pt x="37" y="243"/>
                  </a:lnTo>
                  <a:lnTo>
                    <a:pt x="35" y="180"/>
                  </a:lnTo>
                  <a:lnTo>
                    <a:pt x="37" y="158"/>
                  </a:lnTo>
                  <a:lnTo>
                    <a:pt x="45" y="145"/>
                  </a:lnTo>
                  <a:lnTo>
                    <a:pt x="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165440" y="3492000"/>
              <a:ext cx="240840" cy="293760"/>
            </a:xfrm>
            <a:custGeom>
              <a:avLst/>
              <a:gdLst/>
              <a:ahLst/>
              <a:rect l="l" t="t" r="r" b="b"/>
              <a:pathLst>
                <a:path w="643" h="886">
                  <a:moveTo>
                    <a:pt x="302" y="0"/>
                  </a:moveTo>
                  <a:lnTo>
                    <a:pt x="289" y="11"/>
                  </a:lnTo>
                  <a:lnTo>
                    <a:pt x="307" y="38"/>
                  </a:lnTo>
                  <a:lnTo>
                    <a:pt x="279" y="83"/>
                  </a:lnTo>
                  <a:lnTo>
                    <a:pt x="243" y="126"/>
                  </a:lnTo>
                  <a:lnTo>
                    <a:pt x="171" y="165"/>
                  </a:lnTo>
                  <a:lnTo>
                    <a:pt x="134" y="208"/>
                  </a:lnTo>
                  <a:lnTo>
                    <a:pt x="132" y="242"/>
                  </a:lnTo>
                  <a:lnTo>
                    <a:pt x="106" y="267"/>
                  </a:lnTo>
                  <a:lnTo>
                    <a:pt x="92" y="263"/>
                  </a:lnTo>
                  <a:lnTo>
                    <a:pt x="84" y="251"/>
                  </a:lnTo>
                  <a:lnTo>
                    <a:pt x="68" y="252"/>
                  </a:lnTo>
                  <a:lnTo>
                    <a:pt x="38" y="246"/>
                  </a:lnTo>
                  <a:lnTo>
                    <a:pt x="36" y="232"/>
                  </a:lnTo>
                  <a:lnTo>
                    <a:pt x="51" y="222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0" y="245"/>
                  </a:lnTo>
                  <a:lnTo>
                    <a:pt x="0" y="265"/>
                  </a:lnTo>
                  <a:lnTo>
                    <a:pt x="8" y="288"/>
                  </a:lnTo>
                  <a:lnTo>
                    <a:pt x="26" y="311"/>
                  </a:lnTo>
                  <a:lnTo>
                    <a:pt x="11" y="330"/>
                  </a:lnTo>
                  <a:lnTo>
                    <a:pt x="54" y="348"/>
                  </a:lnTo>
                  <a:lnTo>
                    <a:pt x="72" y="362"/>
                  </a:lnTo>
                  <a:lnTo>
                    <a:pt x="89" y="381"/>
                  </a:lnTo>
                  <a:lnTo>
                    <a:pt x="99" y="409"/>
                  </a:lnTo>
                  <a:lnTo>
                    <a:pt x="126" y="423"/>
                  </a:lnTo>
                  <a:lnTo>
                    <a:pt x="142" y="447"/>
                  </a:lnTo>
                  <a:lnTo>
                    <a:pt x="172" y="518"/>
                  </a:lnTo>
                  <a:lnTo>
                    <a:pt x="199" y="547"/>
                  </a:lnTo>
                  <a:lnTo>
                    <a:pt x="208" y="572"/>
                  </a:lnTo>
                  <a:lnTo>
                    <a:pt x="237" y="611"/>
                  </a:lnTo>
                  <a:lnTo>
                    <a:pt x="254" y="626"/>
                  </a:lnTo>
                  <a:lnTo>
                    <a:pt x="283" y="681"/>
                  </a:lnTo>
                  <a:lnTo>
                    <a:pt x="281" y="706"/>
                  </a:lnTo>
                  <a:lnTo>
                    <a:pt x="303" y="729"/>
                  </a:lnTo>
                  <a:lnTo>
                    <a:pt x="338" y="759"/>
                  </a:lnTo>
                  <a:lnTo>
                    <a:pt x="373" y="776"/>
                  </a:lnTo>
                  <a:lnTo>
                    <a:pt x="398" y="779"/>
                  </a:lnTo>
                  <a:lnTo>
                    <a:pt x="423" y="798"/>
                  </a:lnTo>
                  <a:lnTo>
                    <a:pt x="473" y="813"/>
                  </a:lnTo>
                  <a:lnTo>
                    <a:pt x="524" y="839"/>
                  </a:lnTo>
                  <a:lnTo>
                    <a:pt x="542" y="858"/>
                  </a:lnTo>
                  <a:lnTo>
                    <a:pt x="570" y="886"/>
                  </a:lnTo>
                  <a:lnTo>
                    <a:pt x="570" y="883"/>
                  </a:lnTo>
                  <a:lnTo>
                    <a:pt x="579" y="876"/>
                  </a:lnTo>
                  <a:lnTo>
                    <a:pt x="594" y="874"/>
                  </a:lnTo>
                  <a:lnTo>
                    <a:pt x="615" y="849"/>
                  </a:lnTo>
                  <a:lnTo>
                    <a:pt x="612" y="836"/>
                  </a:lnTo>
                  <a:lnTo>
                    <a:pt x="640" y="794"/>
                  </a:lnTo>
                  <a:lnTo>
                    <a:pt x="635" y="779"/>
                  </a:lnTo>
                  <a:lnTo>
                    <a:pt x="623" y="772"/>
                  </a:lnTo>
                  <a:lnTo>
                    <a:pt x="620" y="756"/>
                  </a:lnTo>
                  <a:lnTo>
                    <a:pt x="630" y="728"/>
                  </a:lnTo>
                  <a:lnTo>
                    <a:pt x="624" y="714"/>
                  </a:lnTo>
                  <a:lnTo>
                    <a:pt x="627" y="698"/>
                  </a:lnTo>
                  <a:lnTo>
                    <a:pt x="635" y="686"/>
                  </a:lnTo>
                  <a:lnTo>
                    <a:pt x="633" y="623"/>
                  </a:lnTo>
                  <a:lnTo>
                    <a:pt x="635" y="601"/>
                  </a:lnTo>
                  <a:lnTo>
                    <a:pt x="643" y="588"/>
                  </a:lnTo>
                  <a:lnTo>
                    <a:pt x="598" y="517"/>
                  </a:lnTo>
                  <a:lnTo>
                    <a:pt x="574" y="524"/>
                  </a:lnTo>
                  <a:lnTo>
                    <a:pt x="555" y="519"/>
                  </a:lnTo>
                  <a:lnTo>
                    <a:pt x="554" y="457"/>
                  </a:lnTo>
                  <a:lnTo>
                    <a:pt x="545" y="443"/>
                  </a:lnTo>
                  <a:lnTo>
                    <a:pt x="507" y="474"/>
                  </a:lnTo>
                  <a:lnTo>
                    <a:pt x="485" y="477"/>
                  </a:lnTo>
                  <a:lnTo>
                    <a:pt x="468" y="468"/>
                  </a:lnTo>
                  <a:lnTo>
                    <a:pt x="460" y="456"/>
                  </a:lnTo>
                  <a:lnTo>
                    <a:pt x="429" y="449"/>
                  </a:lnTo>
                  <a:lnTo>
                    <a:pt x="432" y="432"/>
                  </a:lnTo>
                  <a:lnTo>
                    <a:pt x="404" y="406"/>
                  </a:lnTo>
                  <a:lnTo>
                    <a:pt x="388" y="372"/>
                  </a:lnTo>
                  <a:lnTo>
                    <a:pt x="388" y="355"/>
                  </a:lnTo>
                  <a:lnTo>
                    <a:pt x="403" y="317"/>
                  </a:lnTo>
                  <a:lnTo>
                    <a:pt x="419" y="312"/>
                  </a:lnTo>
                  <a:lnTo>
                    <a:pt x="423" y="276"/>
                  </a:lnTo>
                  <a:lnTo>
                    <a:pt x="458" y="228"/>
                  </a:lnTo>
                  <a:lnTo>
                    <a:pt x="490" y="208"/>
                  </a:lnTo>
                  <a:lnTo>
                    <a:pt x="574" y="181"/>
                  </a:lnTo>
                  <a:lnTo>
                    <a:pt x="548" y="168"/>
                  </a:lnTo>
                  <a:lnTo>
                    <a:pt x="544" y="152"/>
                  </a:lnTo>
                  <a:lnTo>
                    <a:pt x="568" y="121"/>
                  </a:lnTo>
                  <a:lnTo>
                    <a:pt x="560" y="106"/>
                  </a:lnTo>
                  <a:lnTo>
                    <a:pt x="528" y="92"/>
                  </a:lnTo>
                  <a:lnTo>
                    <a:pt x="497" y="98"/>
                  </a:lnTo>
                  <a:lnTo>
                    <a:pt x="477" y="93"/>
                  </a:lnTo>
                  <a:lnTo>
                    <a:pt x="464" y="105"/>
                  </a:lnTo>
                  <a:lnTo>
                    <a:pt x="448" y="107"/>
                  </a:lnTo>
                  <a:lnTo>
                    <a:pt x="417" y="107"/>
                  </a:lnTo>
                  <a:lnTo>
                    <a:pt x="401" y="77"/>
                  </a:lnTo>
                  <a:lnTo>
                    <a:pt x="388" y="68"/>
                  </a:lnTo>
                  <a:lnTo>
                    <a:pt x="386" y="53"/>
                  </a:lnTo>
                  <a:lnTo>
                    <a:pt x="357" y="38"/>
                  </a:lnTo>
                  <a:lnTo>
                    <a:pt x="328" y="6"/>
                  </a:lnTo>
                  <a:lnTo>
                    <a:pt x="3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72280" y="3475080"/>
              <a:ext cx="107640" cy="106200"/>
            </a:xfrm>
            <a:custGeom>
              <a:avLst/>
              <a:gdLst/>
              <a:ahLst/>
              <a:rect l="l" t="t" r="r" b="b"/>
              <a:pathLst>
                <a:path w="290" h="314">
                  <a:moveTo>
                    <a:pt x="30" y="247"/>
                  </a:moveTo>
                  <a:lnTo>
                    <a:pt x="34" y="269"/>
                  </a:lnTo>
                  <a:lnTo>
                    <a:pt x="19" y="279"/>
                  </a:lnTo>
                  <a:lnTo>
                    <a:pt x="21" y="293"/>
                  </a:lnTo>
                  <a:lnTo>
                    <a:pt x="51" y="299"/>
                  </a:lnTo>
                  <a:lnTo>
                    <a:pt x="67" y="298"/>
                  </a:lnTo>
                  <a:lnTo>
                    <a:pt x="75" y="310"/>
                  </a:lnTo>
                  <a:lnTo>
                    <a:pt x="89" y="314"/>
                  </a:lnTo>
                  <a:lnTo>
                    <a:pt x="115" y="289"/>
                  </a:lnTo>
                  <a:lnTo>
                    <a:pt x="117" y="255"/>
                  </a:lnTo>
                  <a:lnTo>
                    <a:pt x="154" y="212"/>
                  </a:lnTo>
                  <a:lnTo>
                    <a:pt x="226" y="173"/>
                  </a:lnTo>
                  <a:lnTo>
                    <a:pt x="262" y="130"/>
                  </a:lnTo>
                  <a:lnTo>
                    <a:pt x="290" y="85"/>
                  </a:lnTo>
                  <a:lnTo>
                    <a:pt x="272" y="58"/>
                  </a:lnTo>
                  <a:lnTo>
                    <a:pt x="285" y="47"/>
                  </a:lnTo>
                  <a:lnTo>
                    <a:pt x="255" y="33"/>
                  </a:lnTo>
                  <a:lnTo>
                    <a:pt x="189" y="44"/>
                  </a:lnTo>
                  <a:lnTo>
                    <a:pt x="170" y="2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5" y="38"/>
                  </a:lnTo>
                  <a:lnTo>
                    <a:pt x="40" y="72"/>
                  </a:lnTo>
                  <a:lnTo>
                    <a:pt x="20" y="90"/>
                  </a:lnTo>
                  <a:lnTo>
                    <a:pt x="20" y="115"/>
                  </a:lnTo>
                  <a:lnTo>
                    <a:pt x="0" y="127"/>
                  </a:lnTo>
                  <a:lnTo>
                    <a:pt x="8" y="159"/>
                  </a:lnTo>
                  <a:lnTo>
                    <a:pt x="9" y="184"/>
                  </a:lnTo>
                  <a:lnTo>
                    <a:pt x="0" y="193"/>
                  </a:lnTo>
                  <a:lnTo>
                    <a:pt x="16" y="199"/>
                  </a:lnTo>
                  <a:lnTo>
                    <a:pt x="39" y="222"/>
                  </a:lnTo>
                  <a:lnTo>
                    <a:pt x="42" y="194"/>
                  </a:lnTo>
                  <a:lnTo>
                    <a:pt x="64" y="193"/>
                  </a:lnTo>
                  <a:lnTo>
                    <a:pt x="49" y="237"/>
                  </a:lnTo>
                  <a:lnTo>
                    <a:pt x="30" y="247"/>
                  </a:lnTo>
                  <a:lnTo>
                    <a:pt x="30" y="2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372800" y="4182120"/>
              <a:ext cx="9720" cy="23760"/>
            </a:xfrm>
            <a:custGeom>
              <a:avLst/>
              <a:gdLst/>
              <a:ahLst/>
              <a:rect l="l" t="t" r="r" b="b"/>
              <a:pathLst>
                <a:path w="30" h="78">
                  <a:moveTo>
                    <a:pt x="0" y="0"/>
                  </a:moveTo>
                  <a:lnTo>
                    <a:pt x="2" y="76"/>
                  </a:lnTo>
                  <a:lnTo>
                    <a:pt x="23" y="78"/>
                  </a:lnTo>
                  <a:lnTo>
                    <a:pt x="28" y="56"/>
                  </a:lnTo>
                  <a:lnTo>
                    <a:pt x="21" y="41"/>
                  </a:lnTo>
                  <a:lnTo>
                    <a:pt x="30" y="23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364520" y="3774960"/>
              <a:ext cx="104400" cy="601560"/>
            </a:xfrm>
            <a:custGeom>
              <a:avLst/>
              <a:gdLst/>
              <a:ahLst/>
              <a:rect l="l" t="t" r="r" b="b"/>
              <a:pathLst>
                <a:path w="285" h="1819">
                  <a:moveTo>
                    <a:pt x="70" y="1418"/>
                  </a:moveTo>
                  <a:lnTo>
                    <a:pt x="74" y="1446"/>
                  </a:lnTo>
                  <a:lnTo>
                    <a:pt x="71" y="1456"/>
                  </a:lnTo>
                  <a:lnTo>
                    <a:pt x="66" y="1449"/>
                  </a:lnTo>
                  <a:lnTo>
                    <a:pt x="60" y="1460"/>
                  </a:lnTo>
                  <a:lnTo>
                    <a:pt x="55" y="1460"/>
                  </a:lnTo>
                  <a:lnTo>
                    <a:pt x="57" y="1446"/>
                  </a:lnTo>
                  <a:lnTo>
                    <a:pt x="52" y="1436"/>
                  </a:lnTo>
                  <a:lnTo>
                    <a:pt x="36" y="1430"/>
                  </a:lnTo>
                  <a:lnTo>
                    <a:pt x="21" y="1435"/>
                  </a:lnTo>
                  <a:lnTo>
                    <a:pt x="31" y="1448"/>
                  </a:lnTo>
                  <a:lnTo>
                    <a:pt x="10" y="1470"/>
                  </a:lnTo>
                  <a:lnTo>
                    <a:pt x="12" y="1488"/>
                  </a:lnTo>
                  <a:lnTo>
                    <a:pt x="27" y="1473"/>
                  </a:lnTo>
                  <a:lnTo>
                    <a:pt x="46" y="1480"/>
                  </a:lnTo>
                  <a:lnTo>
                    <a:pt x="64" y="1476"/>
                  </a:lnTo>
                  <a:lnTo>
                    <a:pt x="55" y="1508"/>
                  </a:lnTo>
                  <a:lnTo>
                    <a:pt x="60" y="1555"/>
                  </a:lnTo>
                  <a:lnTo>
                    <a:pt x="41" y="1526"/>
                  </a:lnTo>
                  <a:lnTo>
                    <a:pt x="27" y="1533"/>
                  </a:lnTo>
                  <a:lnTo>
                    <a:pt x="29" y="1549"/>
                  </a:lnTo>
                  <a:lnTo>
                    <a:pt x="46" y="1593"/>
                  </a:lnTo>
                  <a:lnTo>
                    <a:pt x="41" y="1613"/>
                  </a:lnTo>
                  <a:lnTo>
                    <a:pt x="42" y="1633"/>
                  </a:lnTo>
                  <a:lnTo>
                    <a:pt x="60" y="1635"/>
                  </a:lnTo>
                  <a:lnTo>
                    <a:pt x="52" y="1648"/>
                  </a:lnTo>
                  <a:lnTo>
                    <a:pt x="59" y="1660"/>
                  </a:lnTo>
                  <a:lnTo>
                    <a:pt x="77" y="1646"/>
                  </a:lnTo>
                  <a:lnTo>
                    <a:pt x="76" y="1659"/>
                  </a:lnTo>
                  <a:lnTo>
                    <a:pt x="84" y="1675"/>
                  </a:lnTo>
                  <a:lnTo>
                    <a:pt x="72" y="1671"/>
                  </a:lnTo>
                  <a:lnTo>
                    <a:pt x="76" y="1710"/>
                  </a:lnTo>
                  <a:lnTo>
                    <a:pt x="90" y="1704"/>
                  </a:lnTo>
                  <a:lnTo>
                    <a:pt x="91" y="1688"/>
                  </a:lnTo>
                  <a:lnTo>
                    <a:pt x="102" y="1710"/>
                  </a:lnTo>
                  <a:lnTo>
                    <a:pt x="101" y="1728"/>
                  </a:lnTo>
                  <a:lnTo>
                    <a:pt x="79" y="1726"/>
                  </a:lnTo>
                  <a:lnTo>
                    <a:pt x="84" y="1751"/>
                  </a:lnTo>
                  <a:lnTo>
                    <a:pt x="101" y="1740"/>
                  </a:lnTo>
                  <a:lnTo>
                    <a:pt x="126" y="1735"/>
                  </a:lnTo>
                  <a:lnTo>
                    <a:pt x="119" y="1765"/>
                  </a:lnTo>
                  <a:lnTo>
                    <a:pt x="134" y="1766"/>
                  </a:lnTo>
                  <a:lnTo>
                    <a:pt x="136" y="1780"/>
                  </a:lnTo>
                  <a:lnTo>
                    <a:pt x="170" y="1803"/>
                  </a:lnTo>
                  <a:lnTo>
                    <a:pt x="196" y="1765"/>
                  </a:lnTo>
                  <a:lnTo>
                    <a:pt x="209" y="1768"/>
                  </a:lnTo>
                  <a:lnTo>
                    <a:pt x="204" y="1786"/>
                  </a:lnTo>
                  <a:lnTo>
                    <a:pt x="179" y="1800"/>
                  </a:lnTo>
                  <a:lnTo>
                    <a:pt x="187" y="1813"/>
                  </a:lnTo>
                  <a:lnTo>
                    <a:pt x="211" y="1819"/>
                  </a:lnTo>
                  <a:lnTo>
                    <a:pt x="221" y="1815"/>
                  </a:lnTo>
                  <a:lnTo>
                    <a:pt x="217" y="1764"/>
                  </a:lnTo>
                  <a:lnTo>
                    <a:pt x="240" y="1749"/>
                  </a:lnTo>
                  <a:lnTo>
                    <a:pt x="252" y="1748"/>
                  </a:lnTo>
                  <a:lnTo>
                    <a:pt x="252" y="1735"/>
                  </a:lnTo>
                  <a:lnTo>
                    <a:pt x="285" y="1736"/>
                  </a:lnTo>
                  <a:lnTo>
                    <a:pt x="285" y="1736"/>
                  </a:lnTo>
                  <a:lnTo>
                    <a:pt x="242" y="1728"/>
                  </a:lnTo>
                  <a:lnTo>
                    <a:pt x="186" y="1733"/>
                  </a:lnTo>
                  <a:lnTo>
                    <a:pt x="167" y="1728"/>
                  </a:lnTo>
                  <a:lnTo>
                    <a:pt x="150" y="1664"/>
                  </a:lnTo>
                  <a:lnTo>
                    <a:pt x="121" y="1671"/>
                  </a:lnTo>
                  <a:lnTo>
                    <a:pt x="114" y="1621"/>
                  </a:lnTo>
                  <a:lnTo>
                    <a:pt x="131" y="1565"/>
                  </a:lnTo>
                  <a:lnTo>
                    <a:pt x="132" y="1546"/>
                  </a:lnTo>
                  <a:lnTo>
                    <a:pt x="125" y="1516"/>
                  </a:lnTo>
                  <a:lnTo>
                    <a:pt x="142" y="1463"/>
                  </a:lnTo>
                  <a:lnTo>
                    <a:pt x="136" y="1384"/>
                  </a:lnTo>
                  <a:lnTo>
                    <a:pt x="125" y="1368"/>
                  </a:lnTo>
                  <a:lnTo>
                    <a:pt x="139" y="1368"/>
                  </a:lnTo>
                  <a:lnTo>
                    <a:pt x="132" y="1351"/>
                  </a:lnTo>
                  <a:lnTo>
                    <a:pt x="119" y="1349"/>
                  </a:lnTo>
                  <a:lnTo>
                    <a:pt x="115" y="1320"/>
                  </a:lnTo>
                  <a:lnTo>
                    <a:pt x="96" y="1258"/>
                  </a:lnTo>
                  <a:lnTo>
                    <a:pt x="106" y="1226"/>
                  </a:lnTo>
                  <a:lnTo>
                    <a:pt x="94" y="1200"/>
                  </a:lnTo>
                  <a:lnTo>
                    <a:pt x="94" y="1125"/>
                  </a:lnTo>
                  <a:lnTo>
                    <a:pt x="97" y="1089"/>
                  </a:lnTo>
                  <a:lnTo>
                    <a:pt x="109" y="1056"/>
                  </a:lnTo>
                  <a:lnTo>
                    <a:pt x="100" y="1024"/>
                  </a:lnTo>
                  <a:lnTo>
                    <a:pt x="96" y="968"/>
                  </a:lnTo>
                  <a:lnTo>
                    <a:pt x="97" y="954"/>
                  </a:lnTo>
                  <a:lnTo>
                    <a:pt x="119" y="929"/>
                  </a:lnTo>
                  <a:lnTo>
                    <a:pt x="110" y="889"/>
                  </a:lnTo>
                  <a:lnTo>
                    <a:pt x="119" y="875"/>
                  </a:lnTo>
                  <a:lnTo>
                    <a:pt x="131" y="820"/>
                  </a:lnTo>
                  <a:lnTo>
                    <a:pt x="101" y="735"/>
                  </a:lnTo>
                  <a:lnTo>
                    <a:pt x="100" y="718"/>
                  </a:lnTo>
                  <a:lnTo>
                    <a:pt x="91" y="704"/>
                  </a:lnTo>
                  <a:lnTo>
                    <a:pt x="91" y="688"/>
                  </a:lnTo>
                  <a:lnTo>
                    <a:pt x="110" y="629"/>
                  </a:lnTo>
                  <a:lnTo>
                    <a:pt x="109" y="597"/>
                  </a:lnTo>
                  <a:lnTo>
                    <a:pt x="119" y="539"/>
                  </a:lnTo>
                  <a:lnTo>
                    <a:pt x="137" y="509"/>
                  </a:lnTo>
                  <a:lnTo>
                    <a:pt x="146" y="479"/>
                  </a:lnTo>
                  <a:lnTo>
                    <a:pt x="169" y="453"/>
                  </a:lnTo>
                  <a:lnTo>
                    <a:pt x="154" y="382"/>
                  </a:lnTo>
                  <a:lnTo>
                    <a:pt x="157" y="368"/>
                  </a:lnTo>
                  <a:lnTo>
                    <a:pt x="155" y="350"/>
                  </a:lnTo>
                  <a:lnTo>
                    <a:pt x="167" y="339"/>
                  </a:lnTo>
                  <a:lnTo>
                    <a:pt x="205" y="319"/>
                  </a:lnTo>
                  <a:lnTo>
                    <a:pt x="211" y="307"/>
                  </a:lnTo>
                  <a:lnTo>
                    <a:pt x="216" y="273"/>
                  </a:lnTo>
                  <a:lnTo>
                    <a:pt x="210" y="259"/>
                  </a:lnTo>
                  <a:lnTo>
                    <a:pt x="190" y="262"/>
                  </a:lnTo>
                  <a:lnTo>
                    <a:pt x="175" y="260"/>
                  </a:lnTo>
                  <a:lnTo>
                    <a:pt x="150" y="162"/>
                  </a:lnTo>
                  <a:lnTo>
                    <a:pt x="139" y="154"/>
                  </a:lnTo>
                  <a:lnTo>
                    <a:pt x="137" y="139"/>
                  </a:lnTo>
                  <a:lnTo>
                    <a:pt x="126" y="125"/>
                  </a:lnTo>
                  <a:lnTo>
                    <a:pt x="136" y="110"/>
                  </a:lnTo>
                  <a:lnTo>
                    <a:pt x="132" y="79"/>
                  </a:lnTo>
                  <a:lnTo>
                    <a:pt x="110" y="58"/>
                  </a:lnTo>
                  <a:lnTo>
                    <a:pt x="104" y="22"/>
                  </a:lnTo>
                  <a:lnTo>
                    <a:pt x="82" y="0"/>
                  </a:lnTo>
                  <a:lnTo>
                    <a:pt x="61" y="25"/>
                  </a:lnTo>
                  <a:lnTo>
                    <a:pt x="46" y="27"/>
                  </a:lnTo>
                  <a:lnTo>
                    <a:pt x="37" y="34"/>
                  </a:lnTo>
                  <a:lnTo>
                    <a:pt x="37" y="37"/>
                  </a:lnTo>
                  <a:lnTo>
                    <a:pt x="51" y="63"/>
                  </a:lnTo>
                  <a:lnTo>
                    <a:pt x="66" y="123"/>
                  </a:lnTo>
                  <a:lnTo>
                    <a:pt x="65" y="149"/>
                  </a:lnTo>
                  <a:lnTo>
                    <a:pt x="71" y="198"/>
                  </a:lnTo>
                  <a:lnTo>
                    <a:pt x="66" y="249"/>
                  </a:lnTo>
                  <a:lnTo>
                    <a:pt x="57" y="274"/>
                  </a:lnTo>
                  <a:lnTo>
                    <a:pt x="59" y="350"/>
                  </a:lnTo>
                  <a:lnTo>
                    <a:pt x="66" y="395"/>
                  </a:lnTo>
                  <a:lnTo>
                    <a:pt x="57" y="413"/>
                  </a:lnTo>
                  <a:lnTo>
                    <a:pt x="66" y="443"/>
                  </a:lnTo>
                  <a:lnTo>
                    <a:pt x="54" y="477"/>
                  </a:lnTo>
                  <a:lnTo>
                    <a:pt x="57" y="502"/>
                  </a:lnTo>
                  <a:lnTo>
                    <a:pt x="37" y="578"/>
                  </a:lnTo>
                  <a:lnTo>
                    <a:pt x="46" y="595"/>
                  </a:lnTo>
                  <a:lnTo>
                    <a:pt x="54" y="628"/>
                  </a:lnTo>
                  <a:lnTo>
                    <a:pt x="41" y="642"/>
                  </a:lnTo>
                  <a:lnTo>
                    <a:pt x="40" y="667"/>
                  </a:lnTo>
                  <a:lnTo>
                    <a:pt x="54" y="737"/>
                  </a:lnTo>
                  <a:lnTo>
                    <a:pt x="64" y="754"/>
                  </a:lnTo>
                  <a:lnTo>
                    <a:pt x="52" y="788"/>
                  </a:lnTo>
                  <a:lnTo>
                    <a:pt x="59" y="813"/>
                  </a:lnTo>
                  <a:lnTo>
                    <a:pt x="51" y="830"/>
                  </a:lnTo>
                  <a:lnTo>
                    <a:pt x="51" y="854"/>
                  </a:lnTo>
                  <a:lnTo>
                    <a:pt x="31" y="906"/>
                  </a:lnTo>
                  <a:lnTo>
                    <a:pt x="25" y="958"/>
                  </a:lnTo>
                  <a:lnTo>
                    <a:pt x="16" y="966"/>
                  </a:lnTo>
                  <a:lnTo>
                    <a:pt x="19" y="991"/>
                  </a:lnTo>
                  <a:lnTo>
                    <a:pt x="4" y="993"/>
                  </a:lnTo>
                  <a:lnTo>
                    <a:pt x="0" y="1023"/>
                  </a:lnTo>
                  <a:lnTo>
                    <a:pt x="15" y="1043"/>
                  </a:lnTo>
                  <a:lnTo>
                    <a:pt x="30" y="1108"/>
                  </a:lnTo>
                  <a:lnTo>
                    <a:pt x="17" y="1135"/>
                  </a:lnTo>
                  <a:lnTo>
                    <a:pt x="22" y="1164"/>
                  </a:lnTo>
                  <a:lnTo>
                    <a:pt x="19" y="1186"/>
                  </a:lnTo>
                  <a:lnTo>
                    <a:pt x="25" y="1206"/>
                  </a:lnTo>
                  <a:lnTo>
                    <a:pt x="35" y="1221"/>
                  </a:lnTo>
                  <a:lnTo>
                    <a:pt x="51" y="1225"/>
                  </a:lnTo>
                  <a:lnTo>
                    <a:pt x="55" y="1208"/>
                  </a:lnTo>
                  <a:lnTo>
                    <a:pt x="74" y="1214"/>
                  </a:lnTo>
                  <a:lnTo>
                    <a:pt x="67" y="1233"/>
                  </a:lnTo>
                  <a:lnTo>
                    <a:pt x="79" y="1239"/>
                  </a:lnTo>
                  <a:lnTo>
                    <a:pt x="71" y="1248"/>
                  </a:lnTo>
                  <a:lnTo>
                    <a:pt x="76" y="1283"/>
                  </a:lnTo>
                  <a:lnTo>
                    <a:pt x="70" y="1304"/>
                  </a:lnTo>
                  <a:lnTo>
                    <a:pt x="79" y="1320"/>
                  </a:lnTo>
                  <a:lnTo>
                    <a:pt x="70" y="1341"/>
                  </a:lnTo>
                  <a:lnTo>
                    <a:pt x="77" y="1354"/>
                  </a:lnTo>
                  <a:lnTo>
                    <a:pt x="65" y="1368"/>
                  </a:lnTo>
                  <a:lnTo>
                    <a:pt x="71" y="1384"/>
                  </a:lnTo>
                  <a:lnTo>
                    <a:pt x="72" y="1399"/>
                  </a:lnTo>
                  <a:lnTo>
                    <a:pt x="70" y="14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99440" y="3840480"/>
              <a:ext cx="275760" cy="507960"/>
            </a:xfrm>
            <a:custGeom>
              <a:avLst/>
              <a:gdLst/>
              <a:ahLst/>
              <a:rect l="l" t="t" r="r" b="b"/>
              <a:pathLst>
                <a:path w="742" h="1533">
                  <a:moveTo>
                    <a:pt x="194" y="1533"/>
                  </a:moveTo>
                  <a:lnTo>
                    <a:pt x="151" y="1525"/>
                  </a:lnTo>
                  <a:lnTo>
                    <a:pt x="95" y="1530"/>
                  </a:lnTo>
                  <a:lnTo>
                    <a:pt x="76" y="1525"/>
                  </a:lnTo>
                  <a:lnTo>
                    <a:pt x="59" y="1461"/>
                  </a:lnTo>
                  <a:lnTo>
                    <a:pt x="30" y="1468"/>
                  </a:lnTo>
                  <a:lnTo>
                    <a:pt x="23" y="1418"/>
                  </a:lnTo>
                  <a:lnTo>
                    <a:pt x="40" y="1362"/>
                  </a:lnTo>
                  <a:lnTo>
                    <a:pt x="41" y="1343"/>
                  </a:lnTo>
                  <a:lnTo>
                    <a:pt x="34" y="1313"/>
                  </a:lnTo>
                  <a:lnTo>
                    <a:pt x="51" y="1260"/>
                  </a:lnTo>
                  <a:lnTo>
                    <a:pt x="45" y="1181"/>
                  </a:lnTo>
                  <a:lnTo>
                    <a:pt x="34" y="1165"/>
                  </a:lnTo>
                  <a:lnTo>
                    <a:pt x="48" y="1165"/>
                  </a:lnTo>
                  <a:lnTo>
                    <a:pt x="41" y="1148"/>
                  </a:lnTo>
                  <a:lnTo>
                    <a:pt x="28" y="1146"/>
                  </a:lnTo>
                  <a:lnTo>
                    <a:pt x="24" y="1117"/>
                  </a:lnTo>
                  <a:lnTo>
                    <a:pt x="5" y="1055"/>
                  </a:lnTo>
                  <a:lnTo>
                    <a:pt x="15" y="1023"/>
                  </a:lnTo>
                  <a:lnTo>
                    <a:pt x="3" y="997"/>
                  </a:lnTo>
                  <a:lnTo>
                    <a:pt x="3" y="922"/>
                  </a:lnTo>
                  <a:lnTo>
                    <a:pt x="6" y="886"/>
                  </a:lnTo>
                  <a:lnTo>
                    <a:pt x="18" y="853"/>
                  </a:lnTo>
                  <a:lnTo>
                    <a:pt x="9" y="821"/>
                  </a:lnTo>
                  <a:lnTo>
                    <a:pt x="5" y="765"/>
                  </a:lnTo>
                  <a:lnTo>
                    <a:pt x="6" y="751"/>
                  </a:lnTo>
                  <a:lnTo>
                    <a:pt x="28" y="726"/>
                  </a:lnTo>
                  <a:lnTo>
                    <a:pt x="19" y="686"/>
                  </a:lnTo>
                  <a:lnTo>
                    <a:pt x="28" y="672"/>
                  </a:lnTo>
                  <a:lnTo>
                    <a:pt x="40" y="617"/>
                  </a:lnTo>
                  <a:lnTo>
                    <a:pt x="10" y="532"/>
                  </a:lnTo>
                  <a:lnTo>
                    <a:pt x="9" y="515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19" y="426"/>
                  </a:lnTo>
                  <a:lnTo>
                    <a:pt x="18" y="394"/>
                  </a:lnTo>
                  <a:lnTo>
                    <a:pt x="28" y="336"/>
                  </a:lnTo>
                  <a:lnTo>
                    <a:pt x="46" y="306"/>
                  </a:lnTo>
                  <a:lnTo>
                    <a:pt x="55" y="276"/>
                  </a:lnTo>
                  <a:lnTo>
                    <a:pt x="78" y="250"/>
                  </a:lnTo>
                  <a:lnTo>
                    <a:pt x="63" y="179"/>
                  </a:lnTo>
                  <a:lnTo>
                    <a:pt x="66" y="165"/>
                  </a:lnTo>
                  <a:lnTo>
                    <a:pt x="64" y="147"/>
                  </a:lnTo>
                  <a:lnTo>
                    <a:pt x="76" y="136"/>
                  </a:lnTo>
                  <a:lnTo>
                    <a:pt x="114" y="116"/>
                  </a:lnTo>
                  <a:lnTo>
                    <a:pt x="120" y="104"/>
                  </a:lnTo>
                  <a:lnTo>
                    <a:pt x="125" y="70"/>
                  </a:lnTo>
                  <a:lnTo>
                    <a:pt x="119" y="56"/>
                  </a:lnTo>
                  <a:lnTo>
                    <a:pt x="166" y="0"/>
                  </a:lnTo>
                  <a:lnTo>
                    <a:pt x="190" y="15"/>
                  </a:lnTo>
                  <a:lnTo>
                    <a:pt x="230" y="20"/>
                  </a:lnTo>
                  <a:lnTo>
                    <a:pt x="241" y="29"/>
                  </a:lnTo>
                  <a:lnTo>
                    <a:pt x="256" y="32"/>
                  </a:lnTo>
                  <a:lnTo>
                    <a:pt x="260" y="19"/>
                  </a:lnTo>
                  <a:lnTo>
                    <a:pt x="271" y="9"/>
                  </a:lnTo>
                  <a:lnTo>
                    <a:pt x="302" y="11"/>
                  </a:lnTo>
                  <a:lnTo>
                    <a:pt x="329" y="21"/>
                  </a:lnTo>
                  <a:lnTo>
                    <a:pt x="347" y="31"/>
                  </a:lnTo>
                  <a:lnTo>
                    <a:pt x="356" y="47"/>
                  </a:lnTo>
                  <a:lnTo>
                    <a:pt x="407" y="89"/>
                  </a:lnTo>
                  <a:lnTo>
                    <a:pt x="416" y="104"/>
                  </a:lnTo>
                  <a:lnTo>
                    <a:pt x="476" y="117"/>
                  </a:lnTo>
                  <a:lnTo>
                    <a:pt x="549" y="164"/>
                  </a:lnTo>
                  <a:lnTo>
                    <a:pt x="558" y="175"/>
                  </a:lnTo>
                  <a:lnTo>
                    <a:pt x="558" y="194"/>
                  </a:lnTo>
                  <a:lnTo>
                    <a:pt x="540" y="221"/>
                  </a:lnTo>
                  <a:lnTo>
                    <a:pt x="527" y="261"/>
                  </a:lnTo>
                  <a:lnTo>
                    <a:pt x="577" y="270"/>
                  </a:lnTo>
                  <a:lnTo>
                    <a:pt x="591" y="280"/>
                  </a:lnTo>
                  <a:lnTo>
                    <a:pt x="612" y="282"/>
                  </a:lnTo>
                  <a:lnTo>
                    <a:pt x="645" y="276"/>
                  </a:lnTo>
                  <a:lnTo>
                    <a:pt x="692" y="241"/>
                  </a:lnTo>
                  <a:lnTo>
                    <a:pt x="702" y="222"/>
                  </a:lnTo>
                  <a:lnTo>
                    <a:pt x="708" y="190"/>
                  </a:lnTo>
                  <a:lnTo>
                    <a:pt x="722" y="187"/>
                  </a:lnTo>
                  <a:lnTo>
                    <a:pt x="735" y="192"/>
                  </a:lnTo>
                  <a:lnTo>
                    <a:pt x="742" y="222"/>
                  </a:lnTo>
                  <a:lnTo>
                    <a:pt x="741" y="262"/>
                  </a:lnTo>
                  <a:lnTo>
                    <a:pt x="710" y="282"/>
                  </a:lnTo>
                  <a:lnTo>
                    <a:pt x="693" y="286"/>
                  </a:lnTo>
                  <a:lnTo>
                    <a:pt x="642" y="332"/>
                  </a:lnTo>
                  <a:lnTo>
                    <a:pt x="612" y="371"/>
                  </a:lnTo>
                  <a:lnTo>
                    <a:pt x="560" y="420"/>
                  </a:lnTo>
                  <a:lnTo>
                    <a:pt x="550" y="431"/>
                  </a:lnTo>
                  <a:lnTo>
                    <a:pt x="536" y="554"/>
                  </a:lnTo>
                  <a:lnTo>
                    <a:pt x="530" y="587"/>
                  </a:lnTo>
                  <a:lnTo>
                    <a:pt x="527" y="609"/>
                  </a:lnTo>
                  <a:lnTo>
                    <a:pt x="527" y="609"/>
                  </a:lnTo>
                  <a:lnTo>
                    <a:pt x="519" y="624"/>
                  </a:lnTo>
                  <a:lnTo>
                    <a:pt x="527" y="641"/>
                  </a:lnTo>
                  <a:lnTo>
                    <a:pt x="560" y="657"/>
                  </a:lnTo>
                  <a:lnTo>
                    <a:pt x="573" y="675"/>
                  </a:lnTo>
                  <a:lnTo>
                    <a:pt x="563" y="700"/>
                  </a:lnTo>
                  <a:lnTo>
                    <a:pt x="572" y="721"/>
                  </a:lnTo>
                  <a:lnTo>
                    <a:pt x="590" y="725"/>
                  </a:lnTo>
                  <a:lnTo>
                    <a:pt x="592" y="751"/>
                  </a:lnTo>
                  <a:lnTo>
                    <a:pt x="560" y="796"/>
                  </a:lnTo>
                  <a:lnTo>
                    <a:pt x="554" y="816"/>
                  </a:lnTo>
                  <a:lnTo>
                    <a:pt x="510" y="837"/>
                  </a:lnTo>
                  <a:lnTo>
                    <a:pt x="437" y="853"/>
                  </a:lnTo>
                  <a:lnTo>
                    <a:pt x="379" y="858"/>
                  </a:lnTo>
                  <a:lnTo>
                    <a:pt x="367" y="846"/>
                  </a:lnTo>
                  <a:lnTo>
                    <a:pt x="365" y="866"/>
                  </a:lnTo>
                  <a:lnTo>
                    <a:pt x="379" y="883"/>
                  </a:lnTo>
                  <a:lnTo>
                    <a:pt x="362" y="926"/>
                  </a:lnTo>
                  <a:lnTo>
                    <a:pt x="371" y="938"/>
                  </a:lnTo>
                  <a:lnTo>
                    <a:pt x="367" y="955"/>
                  </a:lnTo>
                  <a:lnTo>
                    <a:pt x="342" y="967"/>
                  </a:lnTo>
                  <a:lnTo>
                    <a:pt x="311" y="967"/>
                  </a:lnTo>
                  <a:lnTo>
                    <a:pt x="271" y="948"/>
                  </a:lnTo>
                  <a:lnTo>
                    <a:pt x="259" y="961"/>
                  </a:lnTo>
                  <a:lnTo>
                    <a:pt x="266" y="986"/>
                  </a:lnTo>
                  <a:lnTo>
                    <a:pt x="269" y="1016"/>
                  </a:lnTo>
                  <a:lnTo>
                    <a:pt x="287" y="1028"/>
                  </a:lnTo>
                  <a:lnTo>
                    <a:pt x="316" y="1015"/>
                  </a:lnTo>
                  <a:lnTo>
                    <a:pt x="324" y="1038"/>
                  </a:lnTo>
                  <a:lnTo>
                    <a:pt x="320" y="1051"/>
                  </a:lnTo>
                  <a:lnTo>
                    <a:pt x="301" y="1051"/>
                  </a:lnTo>
                  <a:lnTo>
                    <a:pt x="289" y="1036"/>
                  </a:lnTo>
                  <a:lnTo>
                    <a:pt x="270" y="1053"/>
                  </a:lnTo>
                  <a:lnTo>
                    <a:pt x="295" y="1061"/>
                  </a:lnTo>
                  <a:lnTo>
                    <a:pt x="271" y="1078"/>
                  </a:lnTo>
                  <a:lnTo>
                    <a:pt x="264" y="1095"/>
                  </a:lnTo>
                  <a:lnTo>
                    <a:pt x="270" y="1137"/>
                  </a:lnTo>
                  <a:lnTo>
                    <a:pt x="256" y="1146"/>
                  </a:lnTo>
                  <a:lnTo>
                    <a:pt x="256" y="1162"/>
                  </a:lnTo>
                  <a:lnTo>
                    <a:pt x="235" y="1163"/>
                  </a:lnTo>
                  <a:lnTo>
                    <a:pt x="214" y="1177"/>
                  </a:lnTo>
                  <a:lnTo>
                    <a:pt x="202" y="1190"/>
                  </a:lnTo>
                  <a:lnTo>
                    <a:pt x="192" y="1216"/>
                  </a:lnTo>
                  <a:lnTo>
                    <a:pt x="197" y="1241"/>
                  </a:lnTo>
                  <a:lnTo>
                    <a:pt x="232" y="1272"/>
                  </a:lnTo>
                  <a:lnTo>
                    <a:pt x="259" y="1271"/>
                  </a:lnTo>
                  <a:lnTo>
                    <a:pt x="262" y="1288"/>
                  </a:lnTo>
                  <a:lnTo>
                    <a:pt x="259" y="1313"/>
                  </a:lnTo>
                  <a:lnTo>
                    <a:pt x="207" y="1366"/>
                  </a:lnTo>
                  <a:lnTo>
                    <a:pt x="202" y="1417"/>
                  </a:lnTo>
                  <a:lnTo>
                    <a:pt x="180" y="1426"/>
                  </a:lnTo>
                  <a:lnTo>
                    <a:pt x="166" y="1443"/>
                  </a:lnTo>
                  <a:lnTo>
                    <a:pt x="164" y="1470"/>
                  </a:lnTo>
                  <a:lnTo>
                    <a:pt x="180" y="1511"/>
                  </a:lnTo>
                  <a:lnTo>
                    <a:pt x="194" y="1533"/>
                  </a:lnTo>
                  <a:lnTo>
                    <a:pt x="194" y="15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69280" y="4355640"/>
              <a:ext cx="43200" cy="4860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18" y="13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5" y="50"/>
                  </a:lnTo>
                  <a:lnTo>
                    <a:pt x="79" y="89"/>
                  </a:lnTo>
                  <a:lnTo>
                    <a:pt x="95" y="96"/>
                  </a:lnTo>
                  <a:lnTo>
                    <a:pt x="114" y="95"/>
                  </a:lnTo>
                  <a:lnTo>
                    <a:pt x="111" y="107"/>
                  </a:lnTo>
                  <a:lnTo>
                    <a:pt x="78" y="114"/>
                  </a:lnTo>
                  <a:lnTo>
                    <a:pt x="54" y="127"/>
                  </a:lnTo>
                  <a:lnTo>
                    <a:pt x="30" y="129"/>
                  </a:lnTo>
                  <a:lnTo>
                    <a:pt x="36" y="150"/>
                  </a:lnTo>
                  <a:lnTo>
                    <a:pt x="16" y="139"/>
                  </a:lnTo>
                  <a:lnTo>
                    <a:pt x="18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02320" y="4354560"/>
              <a:ext cx="73800" cy="48600"/>
            </a:xfrm>
            <a:custGeom>
              <a:avLst/>
              <a:gdLst/>
              <a:ahLst/>
              <a:rect l="l" t="t" r="r" b="b"/>
              <a:pathLst>
                <a:path w="200" h="147">
                  <a:moveTo>
                    <a:pt x="182" y="3"/>
                  </a:moveTo>
                  <a:lnTo>
                    <a:pt x="200" y="142"/>
                  </a:lnTo>
                  <a:lnTo>
                    <a:pt x="198" y="142"/>
                  </a:lnTo>
                  <a:lnTo>
                    <a:pt x="181" y="147"/>
                  </a:lnTo>
                  <a:lnTo>
                    <a:pt x="165" y="140"/>
                  </a:lnTo>
                  <a:lnTo>
                    <a:pt x="157" y="123"/>
                  </a:lnTo>
                  <a:lnTo>
                    <a:pt x="152" y="142"/>
                  </a:lnTo>
                  <a:lnTo>
                    <a:pt x="132" y="135"/>
                  </a:lnTo>
                  <a:lnTo>
                    <a:pt x="115" y="112"/>
                  </a:lnTo>
                  <a:lnTo>
                    <a:pt x="112" y="99"/>
                  </a:lnTo>
                  <a:lnTo>
                    <a:pt x="90" y="92"/>
                  </a:lnTo>
                  <a:lnTo>
                    <a:pt x="72" y="84"/>
                  </a:lnTo>
                  <a:lnTo>
                    <a:pt x="54" y="85"/>
                  </a:lnTo>
                  <a:lnTo>
                    <a:pt x="50" y="74"/>
                  </a:lnTo>
                  <a:lnTo>
                    <a:pt x="32" y="64"/>
                  </a:lnTo>
                  <a:lnTo>
                    <a:pt x="40" y="49"/>
                  </a:lnTo>
                  <a:lnTo>
                    <a:pt x="25" y="47"/>
                  </a:lnTo>
                  <a:lnTo>
                    <a:pt x="7" y="35"/>
                  </a:lnTo>
                  <a:lnTo>
                    <a:pt x="0" y="23"/>
                  </a:lnTo>
                  <a:lnTo>
                    <a:pt x="122" y="84"/>
                  </a:lnTo>
                  <a:lnTo>
                    <a:pt x="134" y="58"/>
                  </a:lnTo>
                  <a:lnTo>
                    <a:pt x="141" y="83"/>
                  </a:lnTo>
                  <a:lnTo>
                    <a:pt x="152" y="85"/>
                  </a:lnTo>
                  <a:lnTo>
                    <a:pt x="146" y="60"/>
                  </a:lnTo>
                  <a:lnTo>
                    <a:pt x="166" y="47"/>
                  </a:lnTo>
                  <a:lnTo>
                    <a:pt x="164" y="39"/>
                  </a:lnTo>
                  <a:lnTo>
                    <a:pt x="141" y="48"/>
                  </a:lnTo>
                  <a:lnTo>
                    <a:pt x="134" y="40"/>
                  </a:lnTo>
                  <a:lnTo>
                    <a:pt x="134" y="15"/>
                  </a:lnTo>
                  <a:lnTo>
                    <a:pt x="149" y="14"/>
                  </a:lnTo>
                  <a:lnTo>
                    <a:pt x="155" y="2"/>
                  </a:lnTo>
                  <a:lnTo>
                    <a:pt x="166" y="4"/>
                  </a:lnTo>
                  <a:lnTo>
                    <a:pt x="177" y="0"/>
                  </a:lnTo>
                  <a:lnTo>
                    <a:pt x="182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306920" y="3177360"/>
              <a:ext cx="51480" cy="12600"/>
            </a:xfrm>
            <a:custGeom>
              <a:avLst/>
              <a:gdLst/>
              <a:ahLst/>
              <a:rect l="l" t="t" r="r" b="b"/>
              <a:pathLst>
                <a:path w="135" h="36">
                  <a:moveTo>
                    <a:pt x="130" y="23"/>
                  </a:moveTo>
                  <a:lnTo>
                    <a:pt x="39" y="26"/>
                  </a:lnTo>
                  <a:lnTo>
                    <a:pt x="30" y="36"/>
                  </a:lnTo>
                  <a:lnTo>
                    <a:pt x="0" y="23"/>
                  </a:lnTo>
                  <a:lnTo>
                    <a:pt x="15" y="10"/>
                  </a:lnTo>
                  <a:lnTo>
                    <a:pt x="60" y="16"/>
                  </a:lnTo>
                  <a:lnTo>
                    <a:pt x="85" y="1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5" y="10"/>
                  </a:lnTo>
                  <a:lnTo>
                    <a:pt x="133" y="23"/>
                  </a:lnTo>
                  <a:lnTo>
                    <a:pt x="13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78200" y="3177360"/>
              <a:ext cx="12240" cy="54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36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09160" y="3177360"/>
              <a:ext cx="6840" cy="25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0"/>
                  </a:lnTo>
                  <a:lnTo>
                    <a:pt x="7" y="7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39760" y="3177360"/>
              <a:ext cx="23760" cy="540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54440" y="3177360"/>
              <a:ext cx="23760" cy="15480"/>
            </a:xfrm>
            <a:custGeom>
              <a:avLst/>
              <a:gdLst/>
              <a:ahLst/>
              <a:rect l="l" t="t" r="r" b="b"/>
              <a:pathLst>
                <a:path w="58" h="44">
                  <a:moveTo>
                    <a:pt x="55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5" y="1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18" y="44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58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6600960" y="2962440"/>
            <a:ext cx="1173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54680" y="290196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561000" y="277344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05720" y="28368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61240" y="2895480"/>
            <a:ext cx="11736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99080" y="2836800"/>
            <a:ext cx="1191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03840" y="283680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811920" y="283680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451560" y="277164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546960" y="2901960"/>
            <a:ext cx="11736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49920" y="290196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64320" y="277344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770520" y="2773440"/>
            <a:ext cx="11772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73840" y="2774880"/>
            <a:ext cx="120600" cy="828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23080" y="270828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980400" y="2770200"/>
            <a:ext cx="1188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912000" y="283860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03920" y="2962440"/>
            <a:ext cx="11916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15160" y="295740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11840" y="2697120"/>
            <a:ext cx="120600" cy="842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621480" y="2703600"/>
            <a:ext cx="120600" cy="8388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12040" y="2711520"/>
            <a:ext cx="120600" cy="8244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7164360" y="3303720"/>
            <a:ext cx="396720" cy="415440"/>
            <a:chOff x="7164360" y="3303720"/>
            <a:chExt cx="396720" cy="415440"/>
          </a:xfrm>
        </p:grpSpPr>
        <p:sp>
          <p:nvSpPr>
            <p:cNvPr id="1324" name=""/>
            <p:cNvSpPr/>
            <p:nvPr/>
          </p:nvSpPr>
          <p:spPr>
            <a:xfrm>
              <a:off x="7263360" y="35323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668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3744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342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03680" y="359028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95680" y="34239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65880" y="3423960"/>
              <a:ext cx="781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04480" y="34239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360" y="33674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27360" y="347976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296480" y="347976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06560" y="336960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76760" y="3369600"/>
              <a:ext cx="7884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445880" y="336996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412040" y="33127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482240" y="3312720"/>
              <a:ext cx="7884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71080" y="342504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332480" y="3532320"/>
              <a:ext cx="7956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34280" y="364752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337880" y="3303720"/>
              <a:ext cx="7992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277400" y="3309480"/>
              <a:ext cx="80280" cy="7164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204320" y="3315960"/>
              <a:ext cx="80280" cy="71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>
            <a:off x="6395400" y="1542960"/>
            <a:ext cx="1590480" cy="459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Ka-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emiSerif"/>
              </a:rPr>
              <a:t>Spot/local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61200" y="4303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43280" y="414360"/>
            <a:ext cx="71532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KA BAND:  THE SPECTRUM FOR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88840" y="4487760"/>
            <a:ext cx="47674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Higher frequency b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  smaller be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mall spot beams permit spectral re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emiSerif"/>
              </a:rPr>
              <a:t>Spot locations can be customized to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F2CD-7CE8-4B54-8CF4-F2B40165FB14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RotisSemiSerif"/>
              </a:rPr>
              <a:t>CONCLUSION</a:t>
            </a:r>
            <a:endParaRPr b="1" lang="en-US" sz="28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he lines between video broadcasting, data broadcasting, and telephony are blurring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used as broadcast delivery mechanism can be the most efficient, cost effective means of delivering content to multiple geographic locations simultaneously.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atellites provide the perfect compliment to other delivery mechanisms for pushing a broadband signal to a remote locations. 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ost and quality of satellite services is constant to the end-user independent of service area.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20DD-C2CD-4C07-96E6-24CCA12452E7}" type="slidenum">
              <a:t>15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93680" y="439200"/>
            <a:ext cx="663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THE MARKET LEADER IN NETWORK TRANSPORT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5040" y="1630080"/>
            <a:ext cx="6621120" cy="400356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Video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Leading satellites for TV program deli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o cable syste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Six direct-to-home TV platform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World’s largest single source of satellite capacity and teleport services for special events coverage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-284400">
              <a:spcBef>
                <a:spcPts val="20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Telecom Servic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More than 70% of U.S. VSATs communicate over PanAmSat satellites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Carrier customers in 35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lvl="1" marL="664200" indent="-284400">
              <a:spcBef>
                <a:spcPts val="624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Internet service providers in nearly 50 countries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  <a:p>
            <a:pPr marL="2844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SemiSerif"/>
              </a:rPr>
              <a:t>PANAMSAT IS DEVELOPING NEW PRODUCTS FOR BOTH</a:t>
            </a:r>
            <a:r>
              <a:rPr b="0" lang="en-US" sz="2000" spc="-1" strike="noStrike">
                <a:solidFill>
                  <a:srgbClr val="000000"/>
                </a:solidFill>
                <a:latin typeface="RotisSemi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95" name=""/>
          <p:cNvSpPr/>
          <p:nvPr/>
        </p:nvSpPr>
        <p:spPr>
          <a:xfrm>
            <a:off x="415800" y="30448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4255-F339-4375-8628-F850908D12EB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CABLE NEIGHBORHOOD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97" name="(r)services_scr_14b" descr=""/>
          <p:cNvPicPr/>
          <p:nvPr/>
        </p:nvPicPr>
        <p:blipFill>
          <a:blip r:embed="rId1"/>
          <a:stretch/>
        </p:blipFill>
        <p:spPr>
          <a:xfrm>
            <a:off x="476280" y="843120"/>
            <a:ext cx="8325000" cy="6243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0480" y="2411280"/>
            <a:ext cx="1024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6080" y="3581280"/>
            <a:ext cx="68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1800" y="5506920"/>
            <a:ext cx="93168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1/1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8760" y="560232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3600" y="3030480"/>
            <a:ext cx="91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843F-820D-48DF-8E57-854271AD91E8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ORLDWIDE DTH PLATFORM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pic>
        <p:nvPicPr>
          <p:cNvPr id="104" name="(r)services_scr_16" descr=""/>
          <p:cNvPicPr/>
          <p:nvPr/>
        </p:nvPicPr>
        <p:blipFill>
          <a:blip r:embed="rId1"/>
          <a:stretch/>
        </p:blipFill>
        <p:spPr>
          <a:xfrm>
            <a:off x="533520" y="86832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2120" y="3351240"/>
            <a:ext cx="12470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CIFIC DIGITA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9120" y="38289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57680" y="3457440"/>
            <a:ext cx="17524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5200" y="5819760"/>
            <a:ext cx="1352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29560" y="4819680"/>
            <a:ext cx="1209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0440" y="3002040"/>
            <a:ext cx="200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Sky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DirecTV Latin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4400" y="3449520"/>
            <a:ext cx="103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Galaxy VIII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2960" y="4408560"/>
            <a:ext cx="11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10b59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MULTICHOI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   SA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2080" y="4875120"/>
            <a:ext cx="90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SansSerif ExtraBold"/>
              </a:rPr>
              <a:t>PAS-4/PAS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10600" y="5364000"/>
            <a:ext cx="11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88a00"/>
              </a:buClr>
              <a:buFont typeface="RotisSansSerif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TV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   (AUSTRAL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68640" y="58593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 ExtraBold"/>
              </a:rPr>
              <a:t>PAS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606F-CECC-4B69-A397-D9B631C39698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growth_temp" descr=""/>
          <p:cNvPicPr/>
          <p:nvPr/>
        </p:nvPicPr>
        <p:blipFill>
          <a:blip r:embed="rId1"/>
          <a:srcRect l="0" t="0" r="0" b="7408"/>
          <a:stretch/>
        </p:blipFill>
        <p:spPr>
          <a:xfrm>
            <a:off x="0" y="1447920"/>
            <a:ext cx="9144000" cy="4902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35000" y="363240"/>
            <a:ext cx="743760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W BROADCASTING AND BROADBAND SERVICES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2600" y="1593720"/>
            <a:ext cx="3870360" cy="84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PATH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gital video store and forwar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19" name=""/>
          <p:cNvSpPr/>
          <p:nvPr/>
        </p:nvSpPr>
        <p:spPr>
          <a:xfrm>
            <a:off x="1611360" y="2476440"/>
            <a:ext cx="3870360" cy="89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NET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Broadcast overlay to the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9400" y="3409920"/>
            <a:ext cx="3870360" cy="87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SPOT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Internet backbone access for Isp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06520" y="5162400"/>
            <a:ext cx="3565800" cy="86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02600" rIns="102600" tIns="51120" bIns="51120" anchor="t">
            <a:normAutofit/>
          </a:bodyPr>
          <a:p>
            <a:pPr marL="114480" indent="-114480"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Ka-Band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  <a:p>
            <a:pPr lvl="1" marL="343080" indent="-114480"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Last mile broadband transport</a:t>
            </a:r>
            <a:endParaRPr b="0" lang="en-US" sz="16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4330800"/>
            <a:ext cx="355284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rmAutofit/>
          </a:bodyPr>
          <a:p>
            <a:pPr marL="114480" indent="-114480">
              <a:lnSpc>
                <a:spcPct val="100000"/>
              </a:lnSpc>
              <a:spcBef>
                <a:spcPts val="15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Direc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SemiSerif"/>
              </a:rPr>
              <a:t>Transport for 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CFF8-0118-4CEB-98BA-19860E749BD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lide_light_greentop" descr=""/>
          <p:cNvPicPr/>
          <p:nvPr/>
        </p:nvPicPr>
        <p:blipFill>
          <a:blip r:embed="rId1"/>
          <a:srcRect l="10546" t="18422" r="9057" b="19623"/>
          <a:stretch/>
        </p:blipFill>
        <p:spPr>
          <a:xfrm>
            <a:off x="941400" y="1655640"/>
            <a:ext cx="7710480" cy="4602240"/>
          </a:xfrm>
          <a:prstGeom prst="rect">
            <a:avLst/>
          </a:prstGeom>
          <a:ln w="0">
            <a:noFill/>
          </a:ln>
        </p:spPr>
      </p:pic>
      <p:pic>
        <p:nvPicPr>
          <p:cNvPr id="124" name="whole%20new%20world" descr=""/>
          <p:cNvPicPr/>
          <p:nvPr/>
        </p:nvPicPr>
        <p:blipFill>
          <a:blip r:embed="rId2"/>
          <a:srcRect l="2968" t="18286" r="3421" b="5168"/>
          <a:stretch/>
        </p:blipFill>
        <p:spPr>
          <a:xfrm>
            <a:off x="1033560" y="1576440"/>
            <a:ext cx="6765840" cy="4147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49040" y="16272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3560" y="16891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RotisSansSerif ExtraBold"/>
              </a:rPr>
              <a:t>Store and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9760" y="1860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7720" y="4562640"/>
            <a:ext cx="7484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Time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ay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Pro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Manually intensive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Cost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Quality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Analog tape degradation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Digital file integ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 ExtraBold"/>
              </a:rPr>
              <a:t>Access: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Tape vaults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Indexed/ sear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ansSerif ExtraBol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8360" y="19573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ansSerif ExtraBold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856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tore-and-Forward MARKET DRIVERS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A327-862B-4C14-AB5D-5067A36D12B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anAmSat_031001" descr=""/>
          <p:cNvPicPr/>
          <p:nvPr/>
        </p:nvPicPr>
        <p:blipFill>
          <a:blip r:embed="rId1"/>
          <a:srcRect l="0" t="916" r="0" b="8452"/>
          <a:stretch/>
        </p:blipFill>
        <p:spPr>
          <a:xfrm>
            <a:off x="1201680" y="1555920"/>
            <a:ext cx="6915240" cy="4700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34640" y="363240"/>
            <a:ext cx="714564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SPOTPath:  STORE AND FORWARD SYSTEM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6726-7CA2-47F8-BEA5-9A6D32B6626E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4880" y="363240"/>
            <a:ext cx="7145280" cy="8557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RotisSemiSerif"/>
              </a:rPr>
              <a:t>WHERE ARE WE TODAY?</a:t>
            </a:r>
            <a:endParaRPr b="1" lang="en-US" sz="2400" spc="-1" strike="noStrike">
              <a:solidFill>
                <a:srgbClr val="cc0000"/>
              </a:solidFill>
              <a:latin typeface="RotisSemiSerif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5400" y="1847520"/>
            <a:ext cx="7283520" cy="4537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Test In Proces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Latin America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Beta Customers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Globo (Brazil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Nationale (Chile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VN (Venezuela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V Aztec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Televisa (Mexico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UNIVISION (Miami)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marL="343080" indent="-343080">
              <a:spcBef>
                <a:spcPts val="18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Initial Feedback Positive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  <a:p>
            <a:pPr lvl="1" marL="800280" indent="-343080">
              <a:spcBef>
                <a:spcPts val="561"/>
              </a:spcBef>
              <a:buClr>
                <a:srgbClr val="000000"/>
              </a:buClr>
              <a:buFont typeface="RotisSemi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SemiSerif"/>
              </a:rPr>
              <a:t>Customers see benefits of digital store-and-forward technology</a:t>
            </a:r>
            <a:endParaRPr b="0" lang="en-US" sz="1800" spc="-1" strike="noStrike">
              <a:solidFill>
                <a:srgbClr val="000000"/>
              </a:solidFill>
              <a:latin typeface="RotisSemi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7AAC-8773-41E2-BA9A-66761F1EAD72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1360" y="442440"/>
            <a:ext cx="7172280" cy="754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RotisSemiSerif"/>
              </a:rPr>
              <a:t>NET/36:  A BROADCAST OVERLAY TO THE INTERNET</a:t>
            </a:r>
            <a:endParaRPr b="1" lang="en-US" sz="2000" spc="-1" strike="noStrike">
              <a:solidFill>
                <a:srgbClr val="cc0000"/>
              </a:solidFill>
              <a:latin typeface="RotisSemiSerif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828800"/>
            <a:ext cx="3287520" cy="4305240"/>
            <a:chOff x="787320" y="1828800"/>
            <a:chExt cx="3287520" cy="4305240"/>
          </a:xfrm>
        </p:grpSpPr>
        <p:sp>
          <p:nvSpPr>
            <p:cNvPr id="137" name=""/>
            <p:cNvSpPr/>
            <p:nvPr/>
          </p:nvSpPr>
          <p:spPr>
            <a:xfrm>
              <a:off x="787320" y="25779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ub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33256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ay Per 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7320" y="40752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E-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7320" y="4824360"/>
              <a:ext cx="3287520" cy="560520"/>
            </a:xfrm>
            <a:prstGeom prst="rightArrow">
              <a:avLst>
                <a:gd name="adj1" fmla="val 50000"/>
                <a:gd name="adj2" fmla="val 14662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d In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7320" y="557208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novative Program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320" y="1828800"/>
              <a:ext cx="3287520" cy="561960"/>
            </a:xfrm>
            <a:prstGeom prst="rightArrow">
              <a:avLst>
                <a:gd name="adj1" fmla="val 50000"/>
                <a:gd name="adj2" fmla="val 1462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High Quality Strea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238640" y="2906640"/>
            <a:ext cx="4192560" cy="2625840"/>
            <a:chOff x="4238640" y="2906640"/>
            <a:chExt cx="4192560" cy="2625840"/>
          </a:xfrm>
        </p:grpSpPr>
        <p:pic>
          <p:nvPicPr>
            <p:cNvPr id="144" name="net-36%20(r)internet_scr_26d" descr=""/>
            <p:cNvPicPr/>
            <p:nvPr/>
          </p:nvPicPr>
          <p:blipFill>
            <a:blip r:embed="rId1"/>
            <a:srcRect l="0" t="9021" r="0" b="4529"/>
            <a:stretch/>
          </p:blipFill>
          <p:spPr>
            <a:xfrm flipH="1">
              <a:off x="4238640" y="2906640"/>
              <a:ext cx="4192560" cy="26258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grpSp>
          <p:nvGrpSpPr>
            <p:cNvPr id="145" name=""/>
            <p:cNvGrpSpPr/>
            <p:nvPr/>
          </p:nvGrpSpPr>
          <p:grpSpPr>
            <a:xfrm>
              <a:off x="7549560" y="3384360"/>
              <a:ext cx="587160" cy="1784160"/>
              <a:chOff x="7549560" y="3384360"/>
              <a:chExt cx="587160" cy="178416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7571160" y="3384360"/>
                <a:ext cx="226080" cy="136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571160" y="3521160"/>
                <a:ext cx="227520" cy="85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935840" y="3872160"/>
                <a:ext cx="17280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30440" y="3983040"/>
                <a:ext cx="195480" cy="1422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7549560" y="4370040"/>
                <a:ext cx="184320" cy="99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49560" y="4469760"/>
                <a:ext cx="247680" cy="159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7742880" y="4872240"/>
                <a:ext cx="374760" cy="148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42880" y="5021280"/>
                <a:ext cx="393840" cy="1472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803120" y="3446640"/>
              <a:ext cx="1191240" cy="764640"/>
              <a:chOff x="4803120" y="3446640"/>
              <a:chExt cx="1191240" cy="764640"/>
            </a:xfrm>
          </p:grpSpPr>
          <p:sp>
            <p:nvSpPr>
              <p:cNvPr id="155" name=""/>
              <p:cNvSpPr/>
              <p:nvPr/>
            </p:nvSpPr>
            <p:spPr>
              <a:xfrm>
                <a:off x="4803120" y="3971880"/>
                <a:ext cx="648360" cy="2394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39280" y="3776040"/>
                <a:ext cx="579960" cy="21528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53560" y="3643200"/>
                <a:ext cx="424800" cy="1573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1280" y="3527640"/>
                <a:ext cx="240480" cy="8820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19040" y="3446640"/>
                <a:ext cx="175320" cy="63720"/>
              </a:xfrm>
              <a:custGeom>
                <a:avLst/>
                <a:gdLst/>
                <a:ahLst/>
                <a:rect l="l" t="t" r="r" b="b"/>
                <a:pathLst>
                  <a:path w="1273" h="763">
                    <a:moveTo>
                      <a:pt x="0" y="0"/>
                    </a:moveTo>
                    <a:cubicBezTo>
                      <a:pt x="269" y="8"/>
                      <a:pt x="538" y="17"/>
                      <a:pt x="751" y="145"/>
                    </a:cubicBezTo>
                    <a:cubicBezTo>
                      <a:pt x="963" y="272"/>
                      <a:pt x="1118" y="517"/>
                      <a:pt x="1273" y="763"/>
                    </a:cubicBezTo>
                  </a:path>
                </a:pathLst>
              </a:custGeom>
              <a:noFill/>
              <a:ln w="57240">
                <a:solidFill>
                  <a:srgbClr val="a5ba26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96680" y="3313080"/>
              <a:ext cx="1055520" cy="1521360"/>
              <a:chOff x="6196680" y="3313080"/>
              <a:chExt cx="1055520" cy="1521360"/>
            </a:xfrm>
          </p:grpSpPr>
          <p:sp>
            <p:nvSpPr>
              <p:cNvPr id="161" name=""/>
              <p:cNvSpPr/>
              <p:nvPr/>
            </p:nvSpPr>
            <p:spPr>
              <a:xfrm>
                <a:off x="6196680" y="3313080"/>
                <a:ext cx="1023840" cy="1521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97400" y="3313440"/>
                <a:ext cx="965520" cy="9687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98840" y="3313800"/>
                <a:ext cx="1053360" cy="5198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99920" y="3313440"/>
                <a:ext cx="897120" cy="1054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clearpixel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68" name="clearpixel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191120" y="2104920"/>
            <a:ext cx="2869920" cy="688680"/>
            <a:chOff x="4191120" y="2104920"/>
            <a:chExt cx="2869920" cy="688680"/>
          </a:xfrm>
        </p:grpSpPr>
        <p:sp>
          <p:nvSpPr>
            <p:cNvPr id="170" name=""/>
            <p:cNvSpPr/>
            <p:nvPr/>
          </p:nvSpPr>
          <p:spPr>
            <a:xfrm>
              <a:off x="4191120" y="2163600"/>
              <a:ext cx="2869920" cy="63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hollylogo2" descr=""/>
            <p:cNvPicPr/>
            <p:nvPr/>
          </p:nvPicPr>
          <p:blipFill>
            <a:blip r:embed="rId6"/>
            <a:stretch/>
          </p:blipFill>
          <p:spPr>
            <a:xfrm>
              <a:off x="5165640" y="2361960"/>
              <a:ext cx="682560" cy="1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mn_logo" descr=""/>
            <p:cNvPicPr/>
            <p:nvPr/>
          </p:nvPicPr>
          <p:blipFill>
            <a:blip r:embed="rId7"/>
            <a:stretch/>
          </p:blipFill>
          <p:spPr>
            <a:xfrm>
              <a:off x="5952960" y="2304720"/>
              <a:ext cx="38124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newlogo" descr=""/>
            <p:cNvPicPr/>
            <p:nvPr/>
          </p:nvPicPr>
          <p:blipFill>
            <a:blip r:embed="rId8"/>
            <a:stretch/>
          </p:blipFill>
          <p:spPr>
            <a:xfrm>
              <a:off x="6370560" y="2409480"/>
              <a:ext cx="46692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9"/>
            <a:stretch/>
          </p:blipFill>
          <p:spPr>
            <a:xfrm>
              <a:off x="4786200" y="2539800"/>
              <a:ext cx="85428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0"/>
            <a:stretch/>
          </p:blipFill>
          <p:spPr>
            <a:xfrm>
              <a:off x="4776840" y="2620800"/>
              <a:ext cx="64620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a3" descr=""/>
            <p:cNvPicPr/>
            <p:nvPr/>
          </p:nvPicPr>
          <p:blipFill>
            <a:blip r:embed="rId11"/>
            <a:stretch/>
          </p:blipFill>
          <p:spPr>
            <a:xfrm>
              <a:off x="5616720" y="2536560"/>
              <a:ext cx="3142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57000" y="210492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Entertai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blue_dis_logo" descr=""/>
            <p:cNvPicPr/>
            <p:nvPr/>
          </p:nvPicPr>
          <p:blipFill>
            <a:blip r:embed="rId12"/>
            <a:stretch/>
          </p:blipFill>
          <p:spPr>
            <a:xfrm>
              <a:off x="4424400" y="2304720"/>
              <a:ext cx="615960" cy="14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clearpixel" descr=""/>
          <p:cNvPicPr/>
          <p:nvPr/>
        </p:nvPicPr>
        <p:blipFill>
          <a:blip r:embed="rId1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669000" y="1854360"/>
            <a:ext cx="2095560" cy="554040"/>
            <a:chOff x="6669000" y="1854360"/>
            <a:chExt cx="2095560" cy="554040"/>
          </a:xfrm>
        </p:grpSpPr>
        <p:sp>
          <p:nvSpPr>
            <p:cNvPr id="181" name=""/>
            <p:cNvSpPr/>
            <p:nvPr/>
          </p:nvSpPr>
          <p:spPr>
            <a:xfrm>
              <a:off x="6697440" y="1854360"/>
              <a:ext cx="2067120" cy="55404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6600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69000" y="194184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S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4"/>
            <a:stretch/>
          </p:blipFill>
          <p:spPr>
            <a:xfrm>
              <a:off x="7110360" y="2248200"/>
              <a:ext cx="1377720" cy="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h" descr=""/>
            <p:cNvPicPr/>
            <p:nvPr/>
          </p:nvPicPr>
          <p:blipFill>
            <a:blip r:embed="rId15"/>
            <a:stretch/>
          </p:blipFill>
          <p:spPr>
            <a:xfrm>
              <a:off x="7462800" y="1862280"/>
              <a:ext cx="618840" cy="26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851360" y="1434960"/>
            <a:ext cx="2286000" cy="609840"/>
            <a:chOff x="4851360" y="1434960"/>
            <a:chExt cx="2286000" cy="609840"/>
          </a:xfrm>
        </p:grpSpPr>
        <p:sp>
          <p:nvSpPr>
            <p:cNvPr id="186" name=""/>
            <p:cNvSpPr/>
            <p:nvPr/>
          </p:nvSpPr>
          <p:spPr>
            <a:xfrm>
              <a:off x="4851360" y="1434960"/>
              <a:ext cx="2286000" cy="6098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13360" y="1668600"/>
              <a:ext cx="11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Ne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logonew" descr=""/>
            <p:cNvPicPr/>
            <p:nvPr/>
          </p:nvPicPr>
          <p:blipFill>
            <a:blip r:embed="rId16"/>
            <a:stretch/>
          </p:blipFill>
          <p:spPr>
            <a:xfrm>
              <a:off x="5808600" y="1725480"/>
              <a:ext cx="49392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logo_hp" descr=""/>
            <p:cNvPicPr/>
            <p:nvPr/>
          </p:nvPicPr>
          <p:blipFill>
            <a:blip r:embed="rId17"/>
            <a:stretch/>
          </p:blipFill>
          <p:spPr>
            <a:xfrm>
              <a:off x="5918040" y="1450800"/>
              <a:ext cx="3826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bbclogo_bott" descr=""/>
            <p:cNvPicPr/>
            <p:nvPr/>
          </p:nvPicPr>
          <p:blipFill>
            <a:blip r:embed="rId18"/>
            <a:stretch/>
          </p:blipFill>
          <p:spPr>
            <a:xfrm>
              <a:off x="5575320" y="1581120"/>
              <a:ext cx="3031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vsked_logo" descr=""/>
            <p:cNvPicPr/>
            <p:nvPr/>
          </p:nvPicPr>
          <p:blipFill>
            <a:blip r:embed="rId19"/>
            <a:stretch/>
          </p:blipFill>
          <p:spPr>
            <a:xfrm>
              <a:off x="6429240" y="1628640"/>
              <a:ext cx="38916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90026.MW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0CB2-9A5A-48AF-AC4D-993E8295F7D0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14:56:59Z</dcterms:created>
  <dc:creator>PanAmSat</dc:creator>
  <dc:description/>
  <dc:language>en-US</dc:language>
  <cp:lastModifiedBy>INFOVIEW</cp:lastModifiedBy>
  <cp:lastPrinted>2001-04-24T19:28:31Z</cp:lastPrinted>
  <dcterms:modified xsi:type="dcterms:W3CDTF">2001-06-03T23:33:03Z</dcterms:modified>
  <cp:revision>94</cp:revision>
  <dc:subject/>
  <dc:title>PANAMSAT Ka-BAND SOLUTIONS  August 9, 2000  </dc:title>
</cp:coreProperties>
</file>