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8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2D37-4289-49CC-AA72-93D4CD9C6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40A-32BD-4B61-957E-23086CA46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BA3B-4B1A-4AEA-ADAA-1174D909A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21D5-1C3A-4746-905A-11D851FEC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AE38-C551-4FF9-8CE6-F75705B80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2906-6487-4BD1-A66A-905F94C38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97C0-7CB0-421E-A6C1-E201EF89C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B913-2E03-48E1-9AD9-217D02B8C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9109-8B53-40E5-9BB3-1B139BF84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1B408-5879-40CB-BD03-883A4EF0C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C3CF-C53A-4C0C-A595-C68ACAB31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72BA-883D-4EB1-A848-E8F126CB4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5400" y="6286680"/>
            <a:ext cx="1773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0852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35C7-BF09-4CFD-BA08-CC02AFDCB552}" type="slidenum"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13080" y="6362640"/>
            <a:ext cx="34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SemiSerif"/>
              </a:rPr>
              <a:t>PANAMSAT PROPRIETARY/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S%20Logo%20Black" descr=""/>
          <p:cNvPicPr/>
          <p:nvPr/>
        </p:nvPicPr>
        <p:blipFill>
          <a:blip r:embed="rId2"/>
          <a:stretch/>
        </p:blipFill>
        <p:spPr>
          <a:xfrm>
            <a:off x="271440" y="660240"/>
            <a:ext cx="1239840" cy="2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12574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7146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46040"/>
            <a:ext cx="914400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1066680" y="641160"/>
            <a:ext cx="1422360" cy="139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S%20Logo%20Black" descr=""/>
          <p:cNvPicPr/>
          <p:nvPr/>
        </p:nvPicPr>
        <p:blipFill>
          <a:blip r:embed="rId2"/>
          <a:stretch/>
        </p:blipFill>
        <p:spPr>
          <a:xfrm>
            <a:off x="6610320" y="5946840"/>
            <a:ext cx="1503360" cy="28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77040" y="5415120"/>
            <a:ext cx="2171520" cy="1110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4040"/>
            <a:ext cx="8888400" cy="5769000"/>
          </a:xfrm>
          <a:custGeom>
            <a:avLst/>
            <a:gdLst/>
            <a:ahLst/>
            <a:rect l="l" t="t" r="r" b="b"/>
            <a:pathLst>
              <a:path w="5599" h="3634">
                <a:moveTo>
                  <a:pt x="0" y="607"/>
                </a:moveTo>
                <a:lnTo>
                  <a:pt x="1299" y="614"/>
                </a:lnTo>
                <a:lnTo>
                  <a:pt x="1299" y="0"/>
                </a:lnTo>
                <a:lnTo>
                  <a:pt x="5598" y="0"/>
                </a:lnTo>
                <a:lnTo>
                  <a:pt x="5598" y="3633"/>
                </a:lnTo>
                <a:lnTo>
                  <a:pt x="416" y="3633"/>
                </a:lnTo>
                <a:lnTo>
                  <a:pt x="416" y="1973"/>
                </a:lnTo>
              </a:path>
            </a:pathLst>
          </a:custGeom>
          <a:noFill/>
          <a:ln cap="rnd" w="12600">
            <a:solidFill>
              <a:srgbClr val="f1e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040" y="3421080"/>
            <a:ext cx="264960" cy="264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52680" y="411120"/>
            <a:ext cx="6046560" cy="6046920"/>
          </a:xfrm>
          <a:prstGeom prst="ellipse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14800"/>
            <a:ext cx="147600" cy="2741760"/>
          </a:xfrm>
          <a:prstGeom prst="rect">
            <a:avLst/>
          </a:prstGeom>
          <a:solidFill>
            <a:srgbClr val="ffb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94600" y="0"/>
            <a:ext cx="147960" cy="2741760"/>
          </a:xfrm>
          <a:prstGeom prst="rect">
            <a:avLst/>
          </a:prstGeom>
          <a:solidFill>
            <a:srgbClr val="d9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0"/>
            <a:ext cx="4191120" cy="14112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4600" y="6715080"/>
            <a:ext cx="3346200" cy="14148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51200" y="1983960"/>
            <a:ext cx="5248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3716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18288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0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4160" y="1920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RotisSemiSerif"/>
              </a:rPr>
              <a:t>MULTIMEDIA VIA SATELLITE </a:t>
            </a:r>
            <a:br>
              <a:rPr sz="2600"/>
            </a:br>
            <a:br>
              <a:rPr sz="2600"/>
            </a:b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June 5, 2001</a:t>
            </a:r>
            <a:br>
              <a:rPr sz="2600"/>
            </a:br>
            <a:br>
              <a:rPr sz="2600"/>
            </a:br>
            <a:br>
              <a:rPr sz="2200"/>
            </a:br>
            <a:br>
              <a:rPr sz="2600"/>
            </a:b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21000" y="4465440"/>
            <a:ext cx="4238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Kalpak Gud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Vice President &amp;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Associate General Couns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350040" y="6278400"/>
            <a:ext cx="2793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34640" y="447480"/>
            <a:ext cx="7145640" cy="642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NETWORK ARCHITECTURE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6320" y="1255680"/>
          <a:ext cx="759132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255680"/>
                    <a:ext cx="759132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49E-D76F-4D08-A1D4-D628ADFE076D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Launching with premiere Broadband Last-Mile Partners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ET-36 footprint will grow in concert with broadband growth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Reaching over 35 million households by 2004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pic>
        <p:nvPicPr>
          <p:cNvPr id="197" name="qwest_logo" descr=""/>
          <p:cNvPicPr/>
          <p:nvPr/>
        </p:nvPicPr>
        <p:blipFill>
          <a:blip r:embed="rId1"/>
          <a:stretch/>
        </p:blipFill>
        <p:spPr>
          <a:xfrm>
            <a:off x="1467000" y="2176560"/>
            <a:ext cx="1244520" cy="6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963880" y="2773440"/>
          <a:ext cx="222876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773440"/>
                    <a:ext cx="222876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direcpc_logo" descr=""/>
          <p:cNvPicPr/>
          <p:nvPr/>
        </p:nvPicPr>
        <p:blipFill>
          <a:blip r:embed="rId4"/>
          <a:stretch/>
        </p:blipFill>
        <p:spPr>
          <a:xfrm>
            <a:off x="6348240" y="2325600"/>
            <a:ext cx="916200" cy="614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1760" y="51037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7400" y="4581360"/>
            <a:ext cx="74880" cy="685800"/>
          </a:xfrm>
          <a:custGeom>
            <a:avLst/>
            <a:gdLst/>
            <a:ahLst/>
            <a:rect l="l" t="t" r="r" b="b"/>
            <a:pathLst>
              <a:path w="6" h="66">
                <a:moveTo>
                  <a:pt x="6" y="0"/>
                </a:moveTo>
                <a:lnTo>
                  <a:pt x="0" y="0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7400" y="5267160"/>
            <a:ext cx="263520" cy="33192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0" y="0"/>
                </a:moveTo>
                <a:lnTo>
                  <a:pt x="24" y="0"/>
                </a:lnTo>
                <a:lnTo>
                  <a:pt x="36" y="0"/>
                </a:lnTo>
                <a:lnTo>
                  <a:pt x="54" y="0"/>
                </a:lnTo>
                <a:lnTo>
                  <a:pt x="78" y="0"/>
                </a:lnTo>
                <a:lnTo>
                  <a:pt x="90" y="0"/>
                </a:lnTo>
                <a:lnTo>
                  <a:pt x="108" y="0"/>
                </a:lnTo>
                <a:lnTo>
                  <a:pt x="132" y="0"/>
                </a:lnTo>
                <a:lnTo>
                  <a:pt x="144" y="0"/>
                </a:lnTo>
                <a:lnTo>
                  <a:pt x="162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4900680"/>
            <a:ext cx="87480" cy="366480"/>
          </a:xfrm>
          <a:custGeom>
            <a:avLst/>
            <a:gdLst/>
            <a:ahLst/>
            <a:rect l="l" t="t" r="r" b="b"/>
            <a:pathLst>
              <a:path w="7" h="39">
                <a:moveTo>
                  <a:pt x="7" y="0"/>
                </a:moveTo>
                <a:lnTo>
                  <a:pt x="1" y="0"/>
                </a:lnTo>
                <a:lnTo>
                  <a:pt x="0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5278320"/>
            <a:ext cx="368280" cy="32076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162" y="0"/>
                </a:moveTo>
                <a:lnTo>
                  <a:pt x="186" y="0"/>
                </a:lnTo>
                <a:lnTo>
                  <a:pt x="204" y="0"/>
                </a:lnTo>
                <a:lnTo>
                  <a:pt x="228" y="6"/>
                </a:lnTo>
                <a:lnTo>
                  <a:pt x="0" y="156"/>
                </a:lnTo>
                <a:lnTo>
                  <a:pt x="16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2640" y="5599080"/>
            <a:ext cx="695160" cy="666720"/>
          </a:xfrm>
          <a:custGeom>
            <a:avLst/>
            <a:gdLst/>
            <a:ahLst/>
            <a:rect l="l" t="t" r="r" b="b"/>
            <a:pathLst>
              <a:path w="432" h="324">
                <a:moveTo>
                  <a:pt x="432" y="150"/>
                </a:move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300" y="138"/>
                </a:lnTo>
                <a:lnTo>
                  <a:pt x="282" y="132"/>
                </a:lnTo>
                <a:lnTo>
                  <a:pt x="264" y="132"/>
                </a:lnTo>
                <a:lnTo>
                  <a:pt x="240" y="126"/>
                </a:lnTo>
                <a:lnTo>
                  <a:pt x="222" y="120"/>
                </a:lnTo>
                <a:lnTo>
                  <a:pt x="204" y="120"/>
                </a:lnTo>
                <a:lnTo>
                  <a:pt x="192" y="114"/>
                </a:lnTo>
                <a:lnTo>
                  <a:pt x="174" y="114"/>
                </a:lnTo>
                <a:lnTo>
                  <a:pt x="150" y="102"/>
                </a:lnTo>
                <a:lnTo>
                  <a:pt x="138" y="102"/>
                </a:lnTo>
                <a:lnTo>
                  <a:pt x="126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2" y="72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6" y="54"/>
                </a:lnTo>
                <a:lnTo>
                  <a:pt x="24" y="48"/>
                </a:lnTo>
                <a:lnTo>
                  <a:pt x="18" y="42"/>
                </a:lnTo>
                <a:lnTo>
                  <a:pt x="12" y="36"/>
                </a:lnTo>
                <a:lnTo>
                  <a:pt x="12" y="30"/>
                </a:lnTo>
                <a:lnTo>
                  <a:pt x="6" y="24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6" y="192"/>
                </a:lnTo>
                <a:lnTo>
                  <a:pt x="6" y="198"/>
                </a:lnTo>
                <a:lnTo>
                  <a:pt x="12" y="204"/>
                </a:lnTo>
                <a:lnTo>
                  <a:pt x="12" y="210"/>
                </a:lnTo>
                <a:lnTo>
                  <a:pt x="18" y="216"/>
                </a:lnTo>
                <a:lnTo>
                  <a:pt x="24" y="222"/>
                </a:lnTo>
                <a:lnTo>
                  <a:pt x="36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2" y="246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26" y="270"/>
                </a:lnTo>
                <a:lnTo>
                  <a:pt x="138" y="276"/>
                </a:lnTo>
                <a:lnTo>
                  <a:pt x="150" y="276"/>
                </a:lnTo>
                <a:lnTo>
                  <a:pt x="174" y="288"/>
                </a:lnTo>
                <a:lnTo>
                  <a:pt x="192" y="288"/>
                </a:lnTo>
                <a:lnTo>
                  <a:pt x="204" y="294"/>
                </a:lnTo>
                <a:lnTo>
                  <a:pt x="222" y="294"/>
                </a:lnTo>
                <a:lnTo>
                  <a:pt x="240" y="300"/>
                </a:lnTo>
                <a:lnTo>
                  <a:pt x="264" y="306"/>
                </a:lnTo>
                <a:lnTo>
                  <a:pt x="282" y="306"/>
                </a:lnTo>
                <a:lnTo>
                  <a:pt x="300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32" y="15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2640" y="5267160"/>
            <a:ext cx="1004760" cy="640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432" y="312"/>
                </a:moveTo>
                <a:lnTo>
                  <a:pt x="414" y="312"/>
                </a:lnTo>
                <a:lnTo>
                  <a:pt x="378" y="312"/>
                </a:lnTo>
                <a:lnTo>
                  <a:pt x="360" y="306"/>
                </a:lnTo>
                <a:lnTo>
                  <a:pt x="342" y="306"/>
                </a:lnTo>
                <a:lnTo>
                  <a:pt x="324" y="300"/>
                </a:lnTo>
                <a:lnTo>
                  <a:pt x="294" y="300"/>
                </a:lnTo>
                <a:lnTo>
                  <a:pt x="276" y="294"/>
                </a:lnTo>
                <a:lnTo>
                  <a:pt x="258" y="294"/>
                </a:lnTo>
                <a:lnTo>
                  <a:pt x="240" y="288"/>
                </a:lnTo>
                <a:lnTo>
                  <a:pt x="216" y="282"/>
                </a:lnTo>
                <a:lnTo>
                  <a:pt x="198" y="276"/>
                </a:lnTo>
                <a:lnTo>
                  <a:pt x="180" y="276"/>
                </a:lnTo>
                <a:lnTo>
                  <a:pt x="168" y="270"/>
                </a:lnTo>
                <a:lnTo>
                  <a:pt x="144" y="264"/>
                </a:lnTo>
                <a:lnTo>
                  <a:pt x="132" y="258"/>
                </a:lnTo>
                <a:lnTo>
                  <a:pt x="120" y="258"/>
                </a:lnTo>
                <a:lnTo>
                  <a:pt x="108" y="252"/>
                </a:lnTo>
                <a:lnTo>
                  <a:pt x="90" y="246"/>
                </a:lnTo>
                <a:lnTo>
                  <a:pt x="78" y="240"/>
                </a:lnTo>
                <a:lnTo>
                  <a:pt x="66" y="234"/>
                </a:lnTo>
                <a:lnTo>
                  <a:pt x="60" y="228"/>
                </a:lnTo>
                <a:lnTo>
                  <a:pt x="42" y="222"/>
                </a:lnTo>
                <a:lnTo>
                  <a:pt x="36" y="216"/>
                </a:lnTo>
                <a:lnTo>
                  <a:pt x="30" y="210"/>
                </a:lnTo>
                <a:lnTo>
                  <a:pt x="24" y="204"/>
                </a:lnTo>
                <a:lnTo>
                  <a:pt x="12" y="198"/>
                </a:lnTo>
                <a:lnTo>
                  <a:pt x="12" y="192"/>
                </a:lnTo>
                <a:lnTo>
                  <a:pt x="6" y="186"/>
                </a:lnTo>
                <a:lnTo>
                  <a:pt x="6" y="180"/>
                </a:lnTo>
                <a:lnTo>
                  <a:pt x="0" y="174"/>
                </a:lnTo>
                <a:lnTo>
                  <a:pt x="0" y="168"/>
                </a:lnTo>
                <a:lnTo>
                  <a:pt x="0" y="162"/>
                </a:lnTo>
                <a:lnTo>
                  <a:pt x="0" y="156"/>
                </a:lnTo>
                <a:lnTo>
                  <a:pt x="0" y="144"/>
                </a:lnTo>
                <a:lnTo>
                  <a:pt x="6" y="138"/>
                </a:lnTo>
                <a:lnTo>
                  <a:pt x="6" y="138"/>
                </a:lnTo>
                <a:lnTo>
                  <a:pt x="12" y="132"/>
                </a:lnTo>
                <a:lnTo>
                  <a:pt x="18" y="120"/>
                </a:lnTo>
                <a:lnTo>
                  <a:pt x="24" y="114"/>
                </a:lnTo>
                <a:lnTo>
                  <a:pt x="30" y="108"/>
                </a:lnTo>
                <a:lnTo>
                  <a:pt x="36" y="108"/>
                </a:lnTo>
                <a:lnTo>
                  <a:pt x="48" y="96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2" y="60"/>
                </a:lnTo>
                <a:lnTo>
                  <a:pt x="150" y="54"/>
                </a:lnTo>
                <a:lnTo>
                  <a:pt x="168" y="48"/>
                </a:lnTo>
                <a:lnTo>
                  <a:pt x="180" y="48"/>
                </a:lnTo>
                <a:lnTo>
                  <a:pt x="198" y="42"/>
                </a:lnTo>
                <a:lnTo>
                  <a:pt x="222" y="36"/>
                </a:lnTo>
                <a:lnTo>
                  <a:pt x="240" y="30"/>
                </a:lnTo>
                <a:lnTo>
                  <a:pt x="258" y="30"/>
                </a:lnTo>
                <a:lnTo>
                  <a:pt x="276" y="24"/>
                </a:lnTo>
                <a:lnTo>
                  <a:pt x="300" y="24"/>
                </a:lnTo>
                <a:lnTo>
                  <a:pt x="324" y="18"/>
                </a:lnTo>
                <a:lnTo>
                  <a:pt x="342" y="18"/>
                </a:lnTo>
                <a:lnTo>
                  <a:pt x="360" y="12"/>
                </a:lnTo>
                <a:lnTo>
                  <a:pt x="390" y="12"/>
                </a:lnTo>
                <a:lnTo>
                  <a:pt x="414" y="6"/>
                </a:lnTo>
                <a:lnTo>
                  <a:pt x="432" y="6"/>
                </a:lnTo>
                <a:lnTo>
                  <a:pt x="450" y="6"/>
                </a:lnTo>
                <a:lnTo>
                  <a:pt x="486" y="0"/>
                </a:lnTo>
                <a:lnTo>
                  <a:pt x="504" y="0"/>
                </a:lnTo>
                <a:lnTo>
                  <a:pt x="528" y="0"/>
                </a:lnTo>
                <a:lnTo>
                  <a:pt x="552" y="0"/>
                </a:lnTo>
                <a:lnTo>
                  <a:pt x="582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432" y="31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7800" y="5599080"/>
            <a:ext cx="1328760" cy="690480"/>
          </a:xfrm>
          <a:custGeom>
            <a:avLst/>
            <a:gdLst/>
            <a:ahLst/>
            <a:rect l="l" t="t" r="r" b="b"/>
            <a:pathLst>
              <a:path w="823" h="336">
                <a:moveTo>
                  <a:pt x="823" y="0"/>
                </a:moveTo>
                <a:lnTo>
                  <a:pt x="823" y="6"/>
                </a:lnTo>
                <a:lnTo>
                  <a:pt x="817" y="12"/>
                </a:lnTo>
                <a:lnTo>
                  <a:pt x="817" y="18"/>
                </a:lnTo>
                <a:lnTo>
                  <a:pt x="811" y="24"/>
                </a:lnTo>
                <a:lnTo>
                  <a:pt x="811" y="30"/>
                </a:lnTo>
                <a:lnTo>
                  <a:pt x="805" y="36"/>
                </a:lnTo>
                <a:lnTo>
                  <a:pt x="799" y="42"/>
                </a:lnTo>
                <a:lnTo>
                  <a:pt x="793" y="48"/>
                </a:lnTo>
                <a:lnTo>
                  <a:pt x="781" y="54"/>
                </a:lnTo>
                <a:lnTo>
                  <a:pt x="769" y="60"/>
                </a:lnTo>
                <a:lnTo>
                  <a:pt x="763" y="66"/>
                </a:lnTo>
                <a:lnTo>
                  <a:pt x="751" y="72"/>
                </a:lnTo>
                <a:lnTo>
                  <a:pt x="745" y="78"/>
                </a:lnTo>
                <a:lnTo>
                  <a:pt x="727" y="84"/>
                </a:lnTo>
                <a:lnTo>
                  <a:pt x="715" y="90"/>
                </a:lnTo>
                <a:lnTo>
                  <a:pt x="703" y="96"/>
                </a:lnTo>
                <a:lnTo>
                  <a:pt x="691" y="96"/>
                </a:lnTo>
                <a:lnTo>
                  <a:pt x="667" y="102"/>
                </a:lnTo>
                <a:lnTo>
                  <a:pt x="655" y="108"/>
                </a:lnTo>
                <a:lnTo>
                  <a:pt x="637" y="114"/>
                </a:lnTo>
                <a:lnTo>
                  <a:pt x="625" y="114"/>
                </a:lnTo>
                <a:lnTo>
                  <a:pt x="595" y="120"/>
                </a:lnTo>
                <a:lnTo>
                  <a:pt x="583" y="126"/>
                </a:lnTo>
                <a:lnTo>
                  <a:pt x="565" y="132"/>
                </a:lnTo>
                <a:lnTo>
                  <a:pt x="546" y="132"/>
                </a:lnTo>
                <a:lnTo>
                  <a:pt x="516" y="138"/>
                </a:lnTo>
                <a:lnTo>
                  <a:pt x="498" y="138"/>
                </a:lnTo>
                <a:lnTo>
                  <a:pt x="480" y="144"/>
                </a:lnTo>
                <a:lnTo>
                  <a:pt x="456" y="144"/>
                </a:lnTo>
                <a:lnTo>
                  <a:pt x="426" y="150"/>
                </a:lnTo>
                <a:lnTo>
                  <a:pt x="408" y="150"/>
                </a:lnTo>
                <a:lnTo>
                  <a:pt x="390" y="150"/>
                </a:lnTo>
                <a:lnTo>
                  <a:pt x="366" y="156"/>
                </a:lnTo>
                <a:lnTo>
                  <a:pt x="336" y="156"/>
                </a:lnTo>
                <a:lnTo>
                  <a:pt x="312" y="156"/>
                </a:lnTo>
                <a:lnTo>
                  <a:pt x="294" y="156"/>
                </a:lnTo>
                <a:lnTo>
                  <a:pt x="270" y="162"/>
                </a:lnTo>
                <a:lnTo>
                  <a:pt x="240" y="162"/>
                </a:lnTo>
                <a:lnTo>
                  <a:pt x="216" y="162"/>
                </a:lnTo>
                <a:lnTo>
                  <a:pt x="192" y="162"/>
                </a:lnTo>
                <a:lnTo>
                  <a:pt x="174" y="162"/>
                </a:lnTo>
                <a:lnTo>
                  <a:pt x="138" y="162"/>
                </a:lnTo>
                <a:lnTo>
                  <a:pt x="120" y="162"/>
                </a:lnTo>
                <a:lnTo>
                  <a:pt x="96" y="156"/>
                </a:lnTo>
                <a:lnTo>
                  <a:pt x="72" y="156"/>
                </a:lnTo>
                <a:lnTo>
                  <a:pt x="42" y="156"/>
                </a:lnTo>
                <a:lnTo>
                  <a:pt x="18" y="156"/>
                </a:lnTo>
                <a:lnTo>
                  <a:pt x="0" y="150"/>
                </a:lnTo>
                <a:lnTo>
                  <a:pt x="0" y="324"/>
                </a:lnTo>
                <a:lnTo>
                  <a:pt x="18" y="330"/>
                </a:lnTo>
                <a:lnTo>
                  <a:pt x="42" y="330"/>
                </a:lnTo>
                <a:lnTo>
                  <a:pt x="72" y="330"/>
                </a:lnTo>
                <a:lnTo>
                  <a:pt x="96" y="330"/>
                </a:lnTo>
                <a:lnTo>
                  <a:pt x="120" y="336"/>
                </a:lnTo>
                <a:lnTo>
                  <a:pt x="138" y="336"/>
                </a:lnTo>
                <a:lnTo>
                  <a:pt x="174" y="336"/>
                </a:lnTo>
                <a:lnTo>
                  <a:pt x="192" y="336"/>
                </a:lnTo>
                <a:lnTo>
                  <a:pt x="216" y="336"/>
                </a:lnTo>
                <a:lnTo>
                  <a:pt x="240" y="336"/>
                </a:lnTo>
                <a:lnTo>
                  <a:pt x="270" y="336"/>
                </a:lnTo>
                <a:lnTo>
                  <a:pt x="294" y="330"/>
                </a:lnTo>
                <a:lnTo>
                  <a:pt x="312" y="330"/>
                </a:lnTo>
                <a:lnTo>
                  <a:pt x="336" y="330"/>
                </a:lnTo>
                <a:lnTo>
                  <a:pt x="366" y="330"/>
                </a:lnTo>
                <a:lnTo>
                  <a:pt x="390" y="324"/>
                </a:lnTo>
                <a:lnTo>
                  <a:pt x="408" y="324"/>
                </a:lnTo>
                <a:lnTo>
                  <a:pt x="426" y="324"/>
                </a:lnTo>
                <a:lnTo>
                  <a:pt x="456" y="318"/>
                </a:lnTo>
                <a:lnTo>
                  <a:pt x="480" y="318"/>
                </a:lnTo>
                <a:lnTo>
                  <a:pt x="498" y="312"/>
                </a:lnTo>
                <a:lnTo>
                  <a:pt x="516" y="312"/>
                </a:lnTo>
                <a:lnTo>
                  <a:pt x="546" y="306"/>
                </a:lnTo>
                <a:lnTo>
                  <a:pt x="565" y="306"/>
                </a:lnTo>
                <a:lnTo>
                  <a:pt x="583" y="300"/>
                </a:lnTo>
                <a:lnTo>
                  <a:pt x="595" y="294"/>
                </a:lnTo>
                <a:lnTo>
                  <a:pt x="625" y="288"/>
                </a:lnTo>
                <a:lnTo>
                  <a:pt x="637" y="288"/>
                </a:lnTo>
                <a:lnTo>
                  <a:pt x="655" y="282"/>
                </a:lnTo>
                <a:lnTo>
                  <a:pt x="667" y="276"/>
                </a:lnTo>
                <a:lnTo>
                  <a:pt x="691" y="270"/>
                </a:lnTo>
                <a:lnTo>
                  <a:pt x="703" y="270"/>
                </a:lnTo>
                <a:lnTo>
                  <a:pt x="715" y="264"/>
                </a:lnTo>
                <a:lnTo>
                  <a:pt x="727" y="258"/>
                </a:lnTo>
                <a:lnTo>
                  <a:pt x="745" y="252"/>
                </a:lnTo>
                <a:lnTo>
                  <a:pt x="751" y="246"/>
                </a:lnTo>
                <a:lnTo>
                  <a:pt x="763" y="240"/>
                </a:lnTo>
                <a:lnTo>
                  <a:pt x="769" y="234"/>
                </a:lnTo>
                <a:lnTo>
                  <a:pt x="781" y="228"/>
                </a:lnTo>
                <a:lnTo>
                  <a:pt x="793" y="222"/>
                </a:lnTo>
                <a:lnTo>
                  <a:pt x="799" y="216"/>
                </a:lnTo>
                <a:lnTo>
                  <a:pt x="805" y="210"/>
                </a:lnTo>
                <a:lnTo>
                  <a:pt x="811" y="204"/>
                </a:lnTo>
                <a:lnTo>
                  <a:pt x="811" y="198"/>
                </a:lnTo>
                <a:lnTo>
                  <a:pt x="817" y="192"/>
                </a:lnTo>
                <a:lnTo>
                  <a:pt x="817" y="186"/>
                </a:lnTo>
                <a:lnTo>
                  <a:pt x="823" y="180"/>
                </a:lnTo>
                <a:lnTo>
                  <a:pt x="823" y="174"/>
                </a:lnTo>
                <a:lnTo>
                  <a:pt x="823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7800" y="5291280"/>
            <a:ext cx="1328760" cy="642960"/>
          </a:xfrm>
          <a:custGeom>
            <a:avLst/>
            <a:gdLst/>
            <a:ahLst/>
            <a:rect l="l" t="t" r="r" b="b"/>
            <a:pathLst>
              <a:path w="823" h="312">
                <a:moveTo>
                  <a:pt x="420" y="0"/>
                </a:moveTo>
                <a:lnTo>
                  <a:pt x="438" y="0"/>
                </a:lnTo>
                <a:lnTo>
                  <a:pt x="468" y="0"/>
                </a:lnTo>
                <a:lnTo>
                  <a:pt x="486" y="6"/>
                </a:lnTo>
                <a:lnTo>
                  <a:pt x="510" y="6"/>
                </a:lnTo>
                <a:lnTo>
                  <a:pt x="528" y="12"/>
                </a:lnTo>
                <a:lnTo>
                  <a:pt x="552" y="18"/>
                </a:lnTo>
                <a:lnTo>
                  <a:pt x="571" y="18"/>
                </a:lnTo>
                <a:lnTo>
                  <a:pt x="589" y="24"/>
                </a:lnTo>
                <a:lnTo>
                  <a:pt x="607" y="24"/>
                </a:lnTo>
                <a:lnTo>
                  <a:pt x="631" y="30"/>
                </a:lnTo>
                <a:lnTo>
                  <a:pt x="643" y="36"/>
                </a:lnTo>
                <a:lnTo>
                  <a:pt x="661" y="42"/>
                </a:lnTo>
                <a:lnTo>
                  <a:pt x="679" y="48"/>
                </a:lnTo>
                <a:lnTo>
                  <a:pt x="697" y="54"/>
                </a:lnTo>
                <a:lnTo>
                  <a:pt x="709" y="54"/>
                </a:lnTo>
                <a:lnTo>
                  <a:pt x="721" y="60"/>
                </a:lnTo>
                <a:lnTo>
                  <a:pt x="739" y="66"/>
                </a:lnTo>
                <a:lnTo>
                  <a:pt x="751" y="72"/>
                </a:lnTo>
                <a:lnTo>
                  <a:pt x="757" y="78"/>
                </a:lnTo>
                <a:lnTo>
                  <a:pt x="769" y="84"/>
                </a:lnTo>
                <a:lnTo>
                  <a:pt x="781" y="90"/>
                </a:lnTo>
                <a:lnTo>
                  <a:pt x="787" y="96"/>
                </a:lnTo>
                <a:lnTo>
                  <a:pt x="793" y="102"/>
                </a:lnTo>
                <a:lnTo>
                  <a:pt x="799" y="108"/>
                </a:lnTo>
                <a:lnTo>
                  <a:pt x="805" y="114"/>
                </a:lnTo>
                <a:lnTo>
                  <a:pt x="811" y="120"/>
                </a:lnTo>
                <a:lnTo>
                  <a:pt x="817" y="126"/>
                </a:lnTo>
                <a:lnTo>
                  <a:pt x="817" y="132"/>
                </a:lnTo>
                <a:lnTo>
                  <a:pt x="823" y="138"/>
                </a:lnTo>
                <a:lnTo>
                  <a:pt x="823" y="144"/>
                </a:lnTo>
                <a:lnTo>
                  <a:pt x="823" y="150"/>
                </a:lnTo>
                <a:lnTo>
                  <a:pt x="817" y="162"/>
                </a:lnTo>
                <a:lnTo>
                  <a:pt x="817" y="168"/>
                </a:lnTo>
                <a:lnTo>
                  <a:pt x="817" y="174"/>
                </a:lnTo>
                <a:lnTo>
                  <a:pt x="811" y="174"/>
                </a:lnTo>
                <a:lnTo>
                  <a:pt x="805" y="186"/>
                </a:lnTo>
                <a:lnTo>
                  <a:pt x="799" y="192"/>
                </a:lnTo>
                <a:lnTo>
                  <a:pt x="793" y="198"/>
                </a:lnTo>
                <a:lnTo>
                  <a:pt x="781" y="204"/>
                </a:lnTo>
                <a:lnTo>
                  <a:pt x="775" y="210"/>
                </a:lnTo>
                <a:lnTo>
                  <a:pt x="769" y="216"/>
                </a:lnTo>
                <a:lnTo>
                  <a:pt x="757" y="222"/>
                </a:lnTo>
                <a:lnTo>
                  <a:pt x="745" y="228"/>
                </a:lnTo>
                <a:lnTo>
                  <a:pt x="733" y="234"/>
                </a:lnTo>
                <a:lnTo>
                  <a:pt x="721" y="234"/>
                </a:lnTo>
                <a:lnTo>
                  <a:pt x="709" y="240"/>
                </a:lnTo>
                <a:lnTo>
                  <a:pt x="691" y="246"/>
                </a:lnTo>
                <a:lnTo>
                  <a:pt x="673" y="252"/>
                </a:lnTo>
                <a:lnTo>
                  <a:pt x="661" y="258"/>
                </a:lnTo>
                <a:lnTo>
                  <a:pt x="643" y="264"/>
                </a:lnTo>
                <a:lnTo>
                  <a:pt x="625" y="264"/>
                </a:lnTo>
                <a:lnTo>
                  <a:pt x="607" y="270"/>
                </a:lnTo>
                <a:lnTo>
                  <a:pt x="589" y="276"/>
                </a:lnTo>
                <a:lnTo>
                  <a:pt x="565" y="282"/>
                </a:lnTo>
                <a:lnTo>
                  <a:pt x="546" y="282"/>
                </a:lnTo>
                <a:lnTo>
                  <a:pt x="528" y="288"/>
                </a:lnTo>
                <a:lnTo>
                  <a:pt x="510" y="288"/>
                </a:lnTo>
                <a:lnTo>
                  <a:pt x="480" y="294"/>
                </a:lnTo>
                <a:lnTo>
                  <a:pt x="456" y="294"/>
                </a:lnTo>
                <a:lnTo>
                  <a:pt x="438" y="300"/>
                </a:lnTo>
                <a:lnTo>
                  <a:pt x="420" y="300"/>
                </a:lnTo>
                <a:lnTo>
                  <a:pt x="390" y="300"/>
                </a:lnTo>
                <a:lnTo>
                  <a:pt x="366" y="306"/>
                </a:lnTo>
                <a:lnTo>
                  <a:pt x="348" y="306"/>
                </a:lnTo>
                <a:lnTo>
                  <a:pt x="312" y="306"/>
                </a:lnTo>
                <a:lnTo>
                  <a:pt x="294" y="306"/>
                </a:lnTo>
                <a:lnTo>
                  <a:pt x="270" y="312"/>
                </a:lnTo>
                <a:lnTo>
                  <a:pt x="246" y="312"/>
                </a:lnTo>
                <a:lnTo>
                  <a:pt x="216" y="312"/>
                </a:lnTo>
                <a:lnTo>
                  <a:pt x="192" y="312"/>
                </a:lnTo>
                <a:lnTo>
                  <a:pt x="174" y="312"/>
                </a:lnTo>
                <a:lnTo>
                  <a:pt x="150" y="312"/>
                </a:lnTo>
                <a:lnTo>
                  <a:pt x="120" y="312"/>
                </a:lnTo>
                <a:lnTo>
                  <a:pt x="96" y="306"/>
                </a:lnTo>
                <a:lnTo>
                  <a:pt x="72" y="306"/>
                </a:lnTo>
                <a:lnTo>
                  <a:pt x="54" y="306"/>
                </a:lnTo>
                <a:lnTo>
                  <a:pt x="18" y="306"/>
                </a:lnTo>
                <a:lnTo>
                  <a:pt x="0" y="300"/>
                </a:lnTo>
                <a:lnTo>
                  <a:pt x="192" y="150"/>
                </a:lnTo>
                <a:lnTo>
                  <a:pt x="42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360" y="44816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92320" y="47894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21120" y="5019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8640" y="60181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8040" y="4159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0 (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6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2440" y="4148280"/>
            <a:ext cx="27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1 (est. 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11.8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57840" y="5132520"/>
            <a:ext cx="495360" cy="387360"/>
          </a:xfrm>
          <a:custGeom>
            <a:avLst/>
            <a:gdLst/>
            <a:ahLst/>
            <a:rect l="l" t="t" r="r" b="b"/>
            <a:pathLst>
              <a:path w="216" h="162">
                <a:moveTo>
                  <a:pt x="0" y="0"/>
                </a:moveTo>
                <a:lnTo>
                  <a:pt x="24" y="0"/>
                </a:lnTo>
                <a:lnTo>
                  <a:pt x="48" y="0"/>
                </a:lnTo>
                <a:lnTo>
                  <a:pt x="78" y="0"/>
                </a:lnTo>
                <a:lnTo>
                  <a:pt x="102" y="0"/>
                </a:lnTo>
                <a:lnTo>
                  <a:pt x="120" y="0"/>
                </a:lnTo>
                <a:lnTo>
                  <a:pt x="144" y="0"/>
                </a:lnTo>
                <a:lnTo>
                  <a:pt x="174" y="6"/>
                </a:lnTo>
                <a:lnTo>
                  <a:pt x="198" y="6"/>
                </a:lnTo>
                <a:lnTo>
                  <a:pt x="216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57840" y="5148360"/>
            <a:ext cx="1403640" cy="371520"/>
          </a:xfrm>
          <a:custGeom>
            <a:avLst/>
            <a:gdLst/>
            <a:ahLst/>
            <a:rect l="l" t="t" r="r" b="b"/>
            <a:pathLst>
              <a:path w="612" h="156">
                <a:moveTo>
                  <a:pt x="216" y="0"/>
                </a:moveTo>
                <a:lnTo>
                  <a:pt x="234" y="6"/>
                </a:lnTo>
                <a:lnTo>
                  <a:pt x="258" y="6"/>
                </a:lnTo>
                <a:lnTo>
                  <a:pt x="276" y="6"/>
                </a:lnTo>
                <a:lnTo>
                  <a:pt x="306" y="12"/>
                </a:lnTo>
                <a:lnTo>
                  <a:pt x="324" y="18"/>
                </a:lnTo>
                <a:lnTo>
                  <a:pt x="342" y="18"/>
                </a:lnTo>
                <a:lnTo>
                  <a:pt x="360" y="24"/>
                </a:lnTo>
                <a:lnTo>
                  <a:pt x="378" y="24"/>
                </a:lnTo>
                <a:lnTo>
                  <a:pt x="396" y="30"/>
                </a:lnTo>
                <a:lnTo>
                  <a:pt x="414" y="30"/>
                </a:lnTo>
                <a:lnTo>
                  <a:pt x="438" y="36"/>
                </a:lnTo>
                <a:lnTo>
                  <a:pt x="450" y="42"/>
                </a:lnTo>
                <a:lnTo>
                  <a:pt x="468" y="48"/>
                </a:lnTo>
                <a:lnTo>
                  <a:pt x="480" y="48"/>
                </a:lnTo>
                <a:lnTo>
                  <a:pt x="498" y="54"/>
                </a:lnTo>
                <a:lnTo>
                  <a:pt x="510" y="60"/>
                </a:lnTo>
                <a:lnTo>
                  <a:pt x="528" y="66"/>
                </a:lnTo>
                <a:lnTo>
                  <a:pt x="540" y="72"/>
                </a:lnTo>
                <a:lnTo>
                  <a:pt x="552" y="78"/>
                </a:lnTo>
                <a:lnTo>
                  <a:pt x="558" y="78"/>
                </a:lnTo>
                <a:lnTo>
                  <a:pt x="570" y="84"/>
                </a:lnTo>
                <a:lnTo>
                  <a:pt x="576" y="90"/>
                </a:lnTo>
                <a:lnTo>
                  <a:pt x="588" y="96"/>
                </a:lnTo>
                <a:lnTo>
                  <a:pt x="600" y="102"/>
                </a:lnTo>
                <a:lnTo>
                  <a:pt x="606" y="108"/>
                </a:lnTo>
                <a:lnTo>
                  <a:pt x="612" y="114"/>
                </a:lnTo>
                <a:lnTo>
                  <a:pt x="612" y="120"/>
                </a:lnTo>
                <a:lnTo>
                  <a:pt x="0" y="156"/>
                </a:lnTo>
                <a:lnTo>
                  <a:pt x="216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6840" y="5073480"/>
            <a:ext cx="163800" cy="18756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0"/>
                </a:moveTo>
                <a:lnTo>
                  <a:pt x="6" y="0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57840" y="5433840"/>
            <a:ext cx="1432080" cy="86040"/>
          </a:xfrm>
          <a:custGeom>
            <a:avLst/>
            <a:gdLst/>
            <a:ahLst/>
            <a:rect l="l" t="t" r="r" b="b"/>
            <a:pathLst>
              <a:path w="624" h="36">
                <a:moveTo>
                  <a:pt x="612" y="0"/>
                </a:moveTo>
                <a:lnTo>
                  <a:pt x="618" y="6"/>
                </a:lnTo>
                <a:lnTo>
                  <a:pt x="618" y="12"/>
                </a:lnTo>
                <a:lnTo>
                  <a:pt x="624" y="12"/>
                </a:lnTo>
                <a:lnTo>
                  <a:pt x="624" y="12"/>
                </a:lnTo>
                <a:lnTo>
                  <a:pt x="624" y="18"/>
                </a:lnTo>
                <a:lnTo>
                  <a:pt x="624" y="24"/>
                </a:lnTo>
                <a:lnTo>
                  <a:pt x="0" y="36"/>
                </a:lnTo>
                <a:lnTo>
                  <a:pt x="61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89920" y="5460840"/>
            <a:ext cx="193680" cy="324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4320" y="5519880"/>
            <a:ext cx="1800" cy="415800"/>
          </a:xfrm>
          <a:custGeom>
            <a:avLst/>
            <a:gdLst/>
            <a:ahLst/>
            <a:rect l="l" t="t" r="r" b="b"/>
            <a:pathLst>
              <a:path w="0" h="17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4320" y="5132520"/>
            <a:ext cx="1433520" cy="387360"/>
          </a:xfrm>
          <a:custGeom>
            <a:avLst/>
            <a:gdLst/>
            <a:ahLst/>
            <a:rect l="l" t="t" r="r" b="b"/>
            <a:pathLst>
              <a:path w="624" h="162">
                <a:moveTo>
                  <a:pt x="0" y="162"/>
                </a:moveTo>
                <a:lnTo>
                  <a:pt x="0" y="156"/>
                </a:lnTo>
                <a:lnTo>
                  <a:pt x="0" y="150"/>
                </a:lnTo>
                <a:lnTo>
                  <a:pt x="0" y="144"/>
                </a:lnTo>
                <a:lnTo>
                  <a:pt x="6" y="138"/>
                </a:lnTo>
                <a:lnTo>
                  <a:pt x="12" y="132"/>
                </a:lnTo>
                <a:lnTo>
                  <a:pt x="12" y="126"/>
                </a:lnTo>
                <a:lnTo>
                  <a:pt x="18" y="120"/>
                </a:lnTo>
                <a:lnTo>
                  <a:pt x="30" y="108"/>
                </a:lnTo>
                <a:lnTo>
                  <a:pt x="36" y="108"/>
                </a:lnTo>
                <a:lnTo>
                  <a:pt x="42" y="102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8" y="60"/>
                </a:lnTo>
                <a:lnTo>
                  <a:pt x="150" y="54"/>
                </a:lnTo>
                <a:lnTo>
                  <a:pt x="168" y="48"/>
                </a:lnTo>
                <a:lnTo>
                  <a:pt x="192" y="42"/>
                </a:lnTo>
                <a:lnTo>
                  <a:pt x="204" y="42"/>
                </a:lnTo>
                <a:lnTo>
                  <a:pt x="222" y="36"/>
                </a:lnTo>
                <a:lnTo>
                  <a:pt x="246" y="30"/>
                </a:lnTo>
                <a:lnTo>
                  <a:pt x="264" y="30"/>
                </a:lnTo>
                <a:lnTo>
                  <a:pt x="282" y="24"/>
                </a:lnTo>
                <a:lnTo>
                  <a:pt x="312" y="18"/>
                </a:lnTo>
                <a:lnTo>
                  <a:pt x="330" y="18"/>
                </a:lnTo>
                <a:lnTo>
                  <a:pt x="348" y="12"/>
                </a:lnTo>
                <a:lnTo>
                  <a:pt x="378" y="12"/>
                </a:lnTo>
                <a:lnTo>
                  <a:pt x="402" y="12"/>
                </a:lnTo>
                <a:lnTo>
                  <a:pt x="420" y="6"/>
                </a:lnTo>
                <a:lnTo>
                  <a:pt x="450" y="6"/>
                </a:lnTo>
                <a:lnTo>
                  <a:pt x="474" y="6"/>
                </a:lnTo>
                <a:lnTo>
                  <a:pt x="498" y="0"/>
                </a:lnTo>
                <a:lnTo>
                  <a:pt x="528" y="0"/>
                </a:lnTo>
                <a:lnTo>
                  <a:pt x="552" y="0"/>
                </a:lnTo>
                <a:lnTo>
                  <a:pt x="570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0" y="16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4320" y="5519880"/>
            <a:ext cx="2880000" cy="803160"/>
          </a:xfrm>
          <a:custGeom>
            <a:avLst/>
            <a:gdLst/>
            <a:ahLst/>
            <a:rect l="l" t="t" r="r" b="b"/>
            <a:pathLst>
              <a:path w="1254" h="336">
                <a:moveTo>
                  <a:pt x="1254" y="0"/>
                </a:moveTo>
                <a:lnTo>
                  <a:pt x="1254" y="6"/>
                </a:lnTo>
                <a:lnTo>
                  <a:pt x="1248" y="12"/>
                </a:lnTo>
                <a:lnTo>
                  <a:pt x="1248" y="18"/>
                </a:lnTo>
                <a:lnTo>
                  <a:pt x="1242" y="24"/>
                </a:lnTo>
                <a:lnTo>
                  <a:pt x="1242" y="30"/>
                </a:lnTo>
                <a:lnTo>
                  <a:pt x="1236" y="36"/>
                </a:lnTo>
                <a:lnTo>
                  <a:pt x="1230" y="42"/>
                </a:lnTo>
                <a:lnTo>
                  <a:pt x="1224" y="48"/>
                </a:lnTo>
                <a:lnTo>
                  <a:pt x="1212" y="54"/>
                </a:lnTo>
                <a:lnTo>
                  <a:pt x="1200" y="60"/>
                </a:lnTo>
                <a:lnTo>
                  <a:pt x="1194" y="66"/>
                </a:lnTo>
                <a:lnTo>
                  <a:pt x="1182" y="72"/>
                </a:lnTo>
                <a:lnTo>
                  <a:pt x="1170" y="78"/>
                </a:lnTo>
                <a:lnTo>
                  <a:pt x="1158" y="84"/>
                </a:lnTo>
                <a:lnTo>
                  <a:pt x="1146" y="90"/>
                </a:lnTo>
                <a:lnTo>
                  <a:pt x="1128" y="96"/>
                </a:lnTo>
                <a:lnTo>
                  <a:pt x="1110" y="102"/>
                </a:lnTo>
                <a:lnTo>
                  <a:pt x="1098" y="102"/>
                </a:lnTo>
                <a:lnTo>
                  <a:pt x="1074" y="114"/>
                </a:lnTo>
                <a:lnTo>
                  <a:pt x="1062" y="114"/>
                </a:lnTo>
                <a:lnTo>
                  <a:pt x="1044" y="120"/>
                </a:lnTo>
                <a:lnTo>
                  <a:pt x="1026" y="120"/>
                </a:lnTo>
                <a:lnTo>
                  <a:pt x="1002" y="126"/>
                </a:lnTo>
                <a:lnTo>
                  <a:pt x="984" y="132"/>
                </a:lnTo>
                <a:lnTo>
                  <a:pt x="966" y="132"/>
                </a:lnTo>
                <a:lnTo>
                  <a:pt x="942" y="138"/>
                </a:lnTo>
                <a:lnTo>
                  <a:pt x="918" y="144"/>
                </a:lnTo>
                <a:lnTo>
                  <a:pt x="900" y="144"/>
                </a:lnTo>
                <a:lnTo>
                  <a:pt x="870" y="150"/>
                </a:lnTo>
                <a:lnTo>
                  <a:pt x="852" y="150"/>
                </a:lnTo>
                <a:lnTo>
                  <a:pt x="828" y="150"/>
                </a:lnTo>
                <a:lnTo>
                  <a:pt x="810" y="156"/>
                </a:lnTo>
                <a:lnTo>
                  <a:pt x="780" y="156"/>
                </a:lnTo>
                <a:lnTo>
                  <a:pt x="756" y="156"/>
                </a:lnTo>
                <a:lnTo>
                  <a:pt x="732" y="156"/>
                </a:lnTo>
                <a:lnTo>
                  <a:pt x="702" y="162"/>
                </a:lnTo>
                <a:lnTo>
                  <a:pt x="678" y="162"/>
                </a:lnTo>
                <a:lnTo>
                  <a:pt x="660" y="162"/>
                </a:lnTo>
                <a:lnTo>
                  <a:pt x="624" y="162"/>
                </a:lnTo>
                <a:lnTo>
                  <a:pt x="606" y="162"/>
                </a:lnTo>
                <a:lnTo>
                  <a:pt x="582" y="162"/>
                </a:lnTo>
                <a:lnTo>
                  <a:pt x="558" y="162"/>
                </a:lnTo>
                <a:lnTo>
                  <a:pt x="528" y="156"/>
                </a:lnTo>
                <a:lnTo>
                  <a:pt x="504" y="156"/>
                </a:lnTo>
                <a:lnTo>
                  <a:pt x="486" y="156"/>
                </a:lnTo>
                <a:lnTo>
                  <a:pt x="450" y="156"/>
                </a:lnTo>
                <a:lnTo>
                  <a:pt x="432" y="150"/>
                </a:ln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294" y="138"/>
                </a:lnTo>
                <a:lnTo>
                  <a:pt x="276" y="132"/>
                </a:lnTo>
                <a:lnTo>
                  <a:pt x="258" y="132"/>
                </a:lnTo>
                <a:lnTo>
                  <a:pt x="228" y="126"/>
                </a:lnTo>
                <a:lnTo>
                  <a:pt x="216" y="120"/>
                </a:lnTo>
                <a:lnTo>
                  <a:pt x="198" y="114"/>
                </a:lnTo>
                <a:lnTo>
                  <a:pt x="180" y="114"/>
                </a:lnTo>
                <a:lnTo>
                  <a:pt x="162" y="108"/>
                </a:lnTo>
                <a:lnTo>
                  <a:pt x="144" y="102"/>
                </a:lnTo>
                <a:lnTo>
                  <a:pt x="132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8" y="78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0" y="54"/>
                </a:lnTo>
                <a:lnTo>
                  <a:pt x="24" y="48"/>
                </a:lnTo>
                <a:lnTo>
                  <a:pt x="18" y="42"/>
                </a:lnTo>
                <a:lnTo>
                  <a:pt x="12" y="30"/>
                </a:lnTo>
                <a:lnTo>
                  <a:pt x="6" y="24"/>
                </a:lnTo>
                <a:lnTo>
                  <a:pt x="6" y="24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92"/>
                </a:lnTo>
                <a:lnTo>
                  <a:pt x="6" y="198"/>
                </a:lnTo>
                <a:lnTo>
                  <a:pt x="6" y="198"/>
                </a:lnTo>
                <a:lnTo>
                  <a:pt x="12" y="204"/>
                </a:lnTo>
                <a:lnTo>
                  <a:pt x="18" y="216"/>
                </a:lnTo>
                <a:lnTo>
                  <a:pt x="24" y="222"/>
                </a:lnTo>
                <a:lnTo>
                  <a:pt x="30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8" y="252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32" y="270"/>
                </a:lnTo>
                <a:lnTo>
                  <a:pt x="144" y="276"/>
                </a:lnTo>
                <a:lnTo>
                  <a:pt x="162" y="282"/>
                </a:lnTo>
                <a:lnTo>
                  <a:pt x="180" y="288"/>
                </a:lnTo>
                <a:lnTo>
                  <a:pt x="198" y="288"/>
                </a:lnTo>
                <a:lnTo>
                  <a:pt x="216" y="294"/>
                </a:lnTo>
                <a:lnTo>
                  <a:pt x="228" y="300"/>
                </a:lnTo>
                <a:lnTo>
                  <a:pt x="258" y="306"/>
                </a:lnTo>
                <a:lnTo>
                  <a:pt x="276" y="306"/>
                </a:lnTo>
                <a:lnTo>
                  <a:pt x="294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50" y="330"/>
                </a:lnTo>
                <a:lnTo>
                  <a:pt x="486" y="330"/>
                </a:lnTo>
                <a:lnTo>
                  <a:pt x="504" y="330"/>
                </a:lnTo>
                <a:lnTo>
                  <a:pt x="528" y="330"/>
                </a:lnTo>
                <a:lnTo>
                  <a:pt x="558" y="336"/>
                </a:lnTo>
                <a:lnTo>
                  <a:pt x="582" y="336"/>
                </a:lnTo>
                <a:lnTo>
                  <a:pt x="606" y="336"/>
                </a:lnTo>
                <a:lnTo>
                  <a:pt x="624" y="336"/>
                </a:lnTo>
                <a:lnTo>
                  <a:pt x="660" y="336"/>
                </a:lnTo>
                <a:lnTo>
                  <a:pt x="678" y="336"/>
                </a:lnTo>
                <a:lnTo>
                  <a:pt x="702" y="336"/>
                </a:lnTo>
                <a:lnTo>
                  <a:pt x="732" y="330"/>
                </a:lnTo>
                <a:lnTo>
                  <a:pt x="756" y="330"/>
                </a:lnTo>
                <a:lnTo>
                  <a:pt x="780" y="330"/>
                </a:lnTo>
                <a:lnTo>
                  <a:pt x="810" y="330"/>
                </a:lnTo>
                <a:lnTo>
                  <a:pt x="828" y="324"/>
                </a:lnTo>
                <a:lnTo>
                  <a:pt x="852" y="324"/>
                </a:lnTo>
                <a:lnTo>
                  <a:pt x="870" y="324"/>
                </a:lnTo>
                <a:lnTo>
                  <a:pt x="900" y="318"/>
                </a:lnTo>
                <a:lnTo>
                  <a:pt x="918" y="318"/>
                </a:lnTo>
                <a:lnTo>
                  <a:pt x="942" y="312"/>
                </a:lnTo>
                <a:lnTo>
                  <a:pt x="966" y="306"/>
                </a:lnTo>
                <a:lnTo>
                  <a:pt x="984" y="306"/>
                </a:lnTo>
                <a:lnTo>
                  <a:pt x="1002" y="300"/>
                </a:lnTo>
                <a:lnTo>
                  <a:pt x="1026" y="294"/>
                </a:lnTo>
                <a:lnTo>
                  <a:pt x="1044" y="294"/>
                </a:lnTo>
                <a:lnTo>
                  <a:pt x="1062" y="288"/>
                </a:lnTo>
                <a:lnTo>
                  <a:pt x="1074" y="288"/>
                </a:lnTo>
                <a:lnTo>
                  <a:pt x="1098" y="276"/>
                </a:lnTo>
                <a:lnTo>
                  <a:pt x="1110" y="276"/>
                </a:lnTo>
                <a:lnTo>
                  <a:pt x="1128" y="270"/>
                </a:lnTo>
                <a:lnTo>
                  <a:pt x="1146" y="264"/>
                </a:lnTo>
                <a:lnTo>
                  <a:pt x="1158" y="258"/>
                </a:lnTo>
                <a:lnTo>
                  <a:pt x="1170" y="252"/>
                </a:lnTo>
                <a:lnTo>
                  <a:pt x="1182" y="246"/>
                </a:lnTo>
                <a:lnTo>
                  <a:pt x="1194" y="240"/>
                </a:lnTo>
                <a:lnTo>
                  <a:pt x="1200" y="234"/>
                </a:lnTo>
                <a:lnTo>
                  <a:pt x="1212" y="228"/>
                </a:lnTo>
                <a:lnTo>
                  <a:pt x="1224" y="222"/>
                </a:lnTo>
                <a:lnTo>
                  <a:pt x="1230" y="216"/>
                </a:lnTo>
                <a:lnTo>
                  <a:pt x="1236" y="210"/>
                </a:lnTo>
                <a:lnTo>
                  <a:pt x="1242" y="204"/>
                </a:lnTo>
                <a:lnTo>
                  <a:pt x="1242" y="198"/>
                </a:lnTo>
                <a:lnTo>
                  <a:pt x="1248" y="192"/>
                </a:lnTo>
                <a:lnTo>
                  <a:pt x="1248" y="186"/>
                </a:lnTo>
                <a:lnTo>
                  <a:pt x="1254" y="180"/>
                </a:lnTo>
                <a:lnTo>
                  <a:pt x="1254" y="174"/>
                </a:lnTo>
                <a:lnTo>
                  <a:pt x="1254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24320" y="5489640"/>
            <a:ext cx="2880000" cy="417600"/>
          </a:xfrm>
          <a:custGeom>
            <a:avLst/>
            <a:gdLst/>
            <a:ahLst/>
            <a:rect l="l" t="t" r="r" b="b"/>
            <a:pathLst>
              <a:path w="1254" h="174">
                <a:moveTo>
                  <a:pt x="1248" y="0"/>
                </a:moveTo>
                <a:lnTo>
                  <a:pt x="1254" y="6"/>
                </a:lnTo>
                <a:lnTo>
                  <a:pt x="1254" y="12"/>
                </a:lnTo>
                <a:lnTo>
                  <a:pt x="1254" y="18"/>
                </a:lnTo>
                <a:lnTo>
                  <a:pt x="1248" y="24"/>
                </a:lnTo>
                <a:lnTo>
                  <a:pt x="1248" y="30"/>
                </a:lnTo>
                <a:lnTo>
                  <a:pt x="1242" y="36"/>
                </a:lnTo>
                <a:lnTo>
                  <a:pt x="1236" y="42"/>
                </a:lnTo>
                <a:lnTo>
                  <a:pt x="1236" y="48"/>
                </a:lnTo>
                <a:lnTo>
                  <a:pt x="1230" y="54"/>
                </a:lnTo>
                <a:lnTo>
                  <a:pt x="1218" y="66"/>
                </a:lnTo>
                <a:lnTo>
                  <a:pt x="1212" y="66"/>
                </a:lnTo>
                <a:lnTo>
                  <a:pt x="1200" y="72"/>
                </a:lnTo>
                <a:lnTo>
                  <a:pt x="1194" y="78"/>
                </a:lnTo>
                <a:lnTo>
                  <a:pt x="1182" y="84"/>
                </a:lnTo>
                <a:lnTo>
                  <a:pt x="1170" y="90"/>
                </a:lnTo>
                <a:lnTo>
                  <a:pt x="1158" y="96"/>
                </a:lnTo>
                <a:lnTo>
                  <a:pt x="1146" y="102"/>
                </a:lnTo>
                <a:lnTo>
                  <a:pt x="1128" y="108"/>
                </a:lnTo>
                <a:lnTo>
                  <a:pt x="1110" y="114"/>
                </a:lnTo>
                <a:lnTo>
                  <a:pt x="1098" y="114"/>
                </a:lnTo>
                <a:lnTo>
                  <a:pt x="1086" y="120"/>
                </a:lnTo>
                <a:lnTo>
                  <a:pt x="1062" y="126"/>
                </a:lnTo>
                <a:lnTo>
                  <a:pt x="1044" y="132"/>
                </a:lnTo>
                <a:lnTo>
                  <a:pt x="1026" y="132"/>
                </a:lnTo>
                <a:lnTo>
                  <a:pt x="1014" y="138"/>
                </a:lnTo>
                <a:lnTo>
                  <a:pt x="984" y="144"/>
                </a:lnTo>
                <a:lnTo>
                  <a:pt x="966" y="144"/>
                </a:lnTo>
                <a:lnTo>
                  <a:pt x="948" y="150"/>
                </a:lnTo>
                <a:lnTo>
                  <a:pt x="918" y="156"/>
                </a:lnTo>
                <a:lnTo>
                  <a:pt x="900" y="156"/>
                </a:lnTo>
                <a:lnTo>
                  <a:pt x="882" y="156"/>
                </a:lnTo>
                <a:lnTo>
                  <a:pt x="858" y="162"/>
                </a:lnTo>
                <a:lnTo>
                  <a:pt x="828" y="162"/>
                </a:lnTo>
                <a:lnTo>
                  <a:pt x="810" y="168"/>
                </a:lnTo>
                <a:lnTo>
                  <a:pt x="786" y="168"/>
                </a:lnTo>
                <a:lnTo>
                  <a:pt x="768" y="168"/>
                </a:lnTo>
                <a:lnTo>
                  <a:pt x="732" y="168"/>
                </a:lnTo>
                <a:lnTo>
                  <a:pt x="714" y="168"/>
                </a:lnTo>
                <a:lnTo>
                  <a:pt x="690" y="174"/>
                </a:lnTo>
                <a:lnTo>
                  <a:pt x="672" y="174"/>
                </a:lnTo>
                <a:lnTo>
                  <a:pt x="636" y="174"/>
                </a:lnTo>
                <a:lnTo>
                  <a:pt x="612" y="174"/>
                </a:lnTo>
                <a:lnTo>
                  <a:pt x="594" y="174"/>
                </a:lnTo>
                <a:lnTo>
                  <a:pt x="570" y="174"/>
                </a:lnTo>
                <a:lnTo>
                  <a:pt x="540" y="168"/>
                </a:lnTo>
                <a:lnTo>
                  <a:pt x="516" y="168"/>
                </a:lnTo>
                <a:lnTo>
                  <a:pt x="498" y="168"/>
                </a:lnTo>
                <a:lnTo>
                  <a:pt x="474" y="168"/>
                </a:lnTo>
                <a:lnTo>
                  <a:pt x="444" y="168"/>
                </a:lnTo>
                <a:lnTo>
                  <a:pt x="420" y="162"/>
                </a:lnTo>
                <a:lnTo>
                  <a:pt x="402" y="162"/>
                </a:lnTo>
                <a:lnTo>
                  <a:pt x="378" y="162"/>
                </a:lnTo>
                <a:lnTo>
                  <a:pt x="348" y="156"/>
                </a:lnTo>
                <a:lnTo>
                  <a:pt x="330" y="156"/>
                </a:lnTo>
                <a:lnTo>
                  <a:pt x="312" y="150"/>
                </a:lnTo>
                <a:lnTo>
                  <a:pt x="282" y="144"/>
                </a:lnTo>
                <a:lnTo>
                  <a:pt x="264" y="144"/>
                </a:lnTo>
                <a:lnTo>
                  <a:pt x="246" y="138"/>
                </a:lnTo>
                <a:lnTo>
                  <a:pt x="228" y="138"/>
                </a:lnTo>
                <a:lnTo>
                  <a:pt x="204" y="132"/>
                </a:lnTo>
                <a:lnTo>
                  <a:pt x="192" y="126"/>
                </a:lnTo>
                <a:lnTo>
                  <a:pt x="174" y="126"/>
                </a:lnTo>
                <a:lnTo>
                  <a:pt x="162" y="120"/>
                </a:lnTo>
                <a:lnTo>
                  <a:pt x="138" y="114"/>
                </a:lnTo>
                <a:lnTo>
                  <a:pt x="126" y="108"/>
                </a:lnTo>
                <a:lnTo>
                  <a:pt x="114" y="102"/>
                </a:lnTo>
                <a:lnTo>
                  <a:pt x="102" y="96"/>
                </a:lnTo>
                <a:lnTo>
                  <a:pt x="84" y="90"/>
                </a:lnTo>
                <a:lnTo>
                  <a:pt x="72" y="84"/>
                </a:lnTo>
                <a:lnTo>
                  <a:pt x="60" y="84"/>
                </a:lnTo>
                <a:lnTo>
                  <a:pt x="54" y="78"/>
                </a:lnTo>
                <a:lnTo>
                  <a:pt x="42" y="66"/>
                </a:lnTo>
                <a:lnTo>
                  <a:pt x="30" y="66"/>
                </a:lnTo>
                <a:lnTo>
                  <a:pt x="24" y="60"/>
                </a:lnTo>
                <a:lnTo>
                  <a:pt x="18" y="54"/>
                </a:lnTo>
                <a:lnTo>
                  <a:pt x="12" y="42"/>
                </a:lnTo>
                <a:lnTo>
                  <a:pt x="6" y="36"/>
                </a:lnTo>
                <a:lnTo>
                  <a:pt x="6" y="36"/>
                </a:lnTo>
                <a:lnTo>
                  <a:pt x="0" y="30"/>
                </a:lnTo>
                <a:lnTo>
                  <a:pt x="0" y="18"/>
                </a:lnTo>
                <a:lnTo>
                  <a:pt x="0" y="12"/>
                </a:lnTo>
                <a:lnTo>
                  <a:pt x="624" y="12"/>
                </a:lnTo>
                <a:lnTo>
                  <a:pt x="1248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1000" y="639756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7032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0600" y="4830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76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3840" y="53420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4994280"/>
            <a:ext cx="96840" cy="122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1080" y="494496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5276880"/>
            <a:ext cx="96840" cy="1220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0800" y="522756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560920"/>
            <a:ext cx="96840" cy="12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9920" y="55101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842080"/>
            <a:ext cx="96840" cy="12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2720" y="5794200"/>
            <a:ext cx="115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Excite@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6127920"/>
            <a:ext cx="96840" cy="120600"/>
          </a:xfrm>
          <a:prstGeom prst="rect">
            <a:avLst/>
          </a:prstGeom>
          <a:solidFill>
            <a:srgbClr val="600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72160" y="6076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9800" y="4064040"/>
            <a:ext cx="8280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242" name="logqo" descr=""/>
          <p:cNvPicPr/>
          <p:nvPr/>
        </p:nvPicPr>
        <p:blipFill>
          <a:blip r:embed="rId5"/>
          <a:stretch/>
        </p:blipFill>
        <p:spPr>
          <a:xfrm>
            <a:off x="3832200" y="2179800"/>
            <a:ext cx="1952640" cy="26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1F04-4689-45FA-B671-EDED2C4AB451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859360" y="2100240"/>
            <a:ext cx="2311560" cy="1447920"/>
          </a:xfrm>
          <a:prstGeom prst="leftArrowCallout">
            <a:avLst>
              <a:gd name="adj1" fmla="val 15566"/>
              <a:gd name="adj2" fmla="val 22171"/>
              <a:gd name="adj3" fmla="val 41257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75480" y="230364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30,000+ 56kbps st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3520" y="4010040"/>
            <a:ext cx="2311200" cy="1447920"/>
          </a:xfrm>
          <a:prstGeom prst="leftArrowCallout">
            <a:avLst>
              <a:gd name="adj1" fmla="val 15566"/>
              <a:gd name="adj2" fmla="val 22171"/>
              <a:gd name="adj3" fmla="val 41250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27840" y="421308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25,000+ hours at 56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orth American Network Capacity and Reac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 capacity of 25,000 concurrent 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300kbps streams from the edge, today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concur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orage capacity of 23,900 hours of cont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at 300kbps from the edge, today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hour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1932-D713-4DD3-8DD1-43CB98CF4C8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57640" y="6515280"/>
            <a:ext cx="1064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080011.PASoverview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6120" y="316080"/>
            <a:ext cx="7286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8160" y="4494240"/>
            <a:ext cx="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0200" y="181080"/>
            <a:ext cx="6689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2960" y="662040"/>
            <a:ext cx="6669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320" y="582480"/>
            <a:ext cx="567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PANAMSAT INTERNET ACC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22760" y="3627360"/>
            <a:ext cx="2673360" cy="1682640"/>
            <a:chOff x="5522760" y="3627360"/>
            <a:chExt cx="2673360" cy="1682640"/>
          </a:xfrm>
        </p:grpSpPr>
        <p:sp>
          <p:nvSpPr>
            <p:cNvPr id="256" name=""/>
            <p:cNvSpPr/>
            <p:nvPr/>
          </p:nvSpPr>
          <p:spPr>
            <a:xfrm>
              <a:off x="5648760" y="4044240"/>
              <a:ext cx="237240" cy="646920"/>
            </a:xfrm>
            <a:custGeom>
              <a:avLst/>
              <a:gdLst/>
              <a:ahLst/>
              <a:rect l="l" t="t" r="r" b="b"/>
              <a:pathLst>
                <a:path w="182" h="546">
                  <a:moveTo>
                    <a:pt x="182" y="546"/>
                  </a:moveTo>
                  <a:lnTo>
                    <a:pt x="0" y="54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243e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7642440" y="4058640"/>
              <a:ext cx="40536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76920" y="4217400"/>
              <a:ext cx="1297440" cy="474120"/>
            </a:xfrm>
            <a:custGeom>
              <a:avLst/>
              <a:gdLst/>
              <a:ahLst/>
              <a:rect l="l" t="t" r="r" b="b"/>
              <a:pathLst>
                <a:path w="996" h="400">
                  <a:moveTo>
                    <a:pt x="850" y="0"/>
                  </a:moveTo>
                  <a:lnTo>
                    <a:pt x="0" y="48"/>
                  </a:lnTo>
                  <a:lnTo>
                    <a:pt x="996" y="400"/>
                  </a:lnTo>
                  <a:lnTo>
                    <a:pt x="85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54680" y="4260240"/>
              <a:ext cx="2151000" cy="1049760"/>
              <a:chOff x="5854680" y="4260240"/>
              <a:chExt cx="2151000" cy="10497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5854680" y="4260240"/>
                <a:ext cx="2151000" cy="1049760"/>
                <a:chOff x="5854680" y="4260240"/>
                <a:chExt cx="2151000" cy="1049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54680" y="4260240"/>
                  <a:ext cx="2151000" cy="104976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07400" y="4375080"/>
                  <a:ext cx="1613880" cy="79020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75600" y="4503960"/>
                  <a:ext cx="1075680" cy="531720"/>
                </a:xfrm>
                <a:prstGeom prst="ellipse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45240" y="4633200"/>
                  <a:ext cx="553320" cy="273240"/>
                </a:xfrm>
                <a:prstGeom prst="ellipse">
                  <a:avLst/>
                </a:prstGeom>
                <a:solidFill>
                  <a:srgbClr val="d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854680" y="4260240"/>
                <a:ext cx="2151000" cy="10497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60600" y="4447440"/>
              <a:ext cx="1787400" cy="847080"/>
            </a:xfrm>
            <a:custGeom>
              <a:avLst/>
              <a:gdLst/>
              <a:ahLst/>
              <a:rect l="l" t="t" r="r" b="b"/>
              <a:pathLst>
                <a:path w="1372" h="715">
                  <a:moveTo>
                    <a:pt x="48" y="12"/>
                  </a:moveTo>
                  <a:lnTo>
                    <a:pt x="692" y="12"/>
                  </a:lnTo>
                  <a:lnTo>
                    <a:pt x="704" y="0"/>
                  </a:lnTo>
                  <a:lnTo>
                    <a:pt x="716" y="24"/>
                  </a:lnTo>
                  <a:lnTo>
                    <a:pt x="753" y="24"/>
                  </a:lnTo>
                  <a:lnTo>
                    <a:pt x="789" y="48"/>
                  </a:lnTo>
                  <a:lnTo>
                    <a:pt x="825" y="48"/>
                  </a:lnTo>
                  <a:lnTo>
                    <a:pt x="777" y="97"/>
                  </a:lnTo>
                  <a:lnTo>
                    <a:pt x="801" y="85"/>
                  </a:lnTo>
                  <a:lnTo>
                    <a:pt x="813" y="97"/>
                  </a:lnTo>
                  <a:lnTo>
                    <a:pt x="862" y="85"/>
                  </a:lnTo>
                  <a:lnTo>
                    <a:pt x="862" y="97"/>
                  </a:lnTo>
                  <a:lnTo>
                    <a:pt x="874" y="85"/>
                  </a:lnTo>
                  <a:lnTo>
                    <a:pt x="886" y="97"/>
                  </a:lnTo>
                  <a:lnTo>
                    <a:pt x="935" y="97"/>
                  </a:lnTo>
                  <a:lnTo>
                    <a:pt x="935" y="97"/>
                  </a:lnTo>
                  <a:lnTo>
                    <a:pt x="947" y="97"/>
                  </a:lnTo>
                  <a:lnTo>
                    <a:pt x="959" y="97"/>
                  </a:lnTo>
                  <a:lnTo>
                    <a:pt x="959" y="109"/>
                  </a:lnTo>
                  <a:lnTo>
                    <a:pt x="959" y="109"/>
                  </a:lnTo>
                  <a:lnTo>
                    <a:pt x="959" y="121"/>
                  </a:lnTo>
                  <a:lnTo>
                    <a:pt x="898" y="121"/>
                  </a:lnTo>
                  <a:lnTo>
                    <a:pt x="874" y="157"/>
                  </a:lnTo>
                  <a:lnTo>
                    <a:pt x="886" y="145"/>
                  </a:lnTo>
                  <a:lnTo>
                    <a:pt x="874" y="206"/>
                  </a:lnTo>
                  <a:lnTo>
                    <a:pt x="874" y="242"/>
                  </a:lnTo>
                  <a:lnTo>
                    <a:pt x="886" y="254"/>
                  </a:lnTo>
                  <a:lnTo>
                    <a:pt x="886" y="254"/>
                  </a:lnTo>
                  <a:lnTo>
                    <a:pt x="910" y="242"/>
                  </a:lnTo>
                  <a:lnTo>
                    <a:pt x="910" y="182"/>
                  </a:lnTo>
                  <a:lnTo>
                    <a:pt x="910" y="145"/>
                  </a:lnTo>
                  <a:lnTo>
                    <a:pt x="935" y="145"/>
                  </a:lnTo>
                  <a:lnTo>
                    <a:pt x="935" y="121"/>
                  </a:lnTo>
                  <a:lnTo>
                    <a:pt x="971" y="133"/>
                  </a:lnTo>
                  <a:lnTo>
                    <a:pt x="983" y="170"/>
                  </a:lnTo>
                  <a:lnTo>
                    <a:pt x="971" y="194"/>
                  </a:lnTo>
                  <a:lnTo>
                    <a:pt x="983" y="182"/>
                  </a:lnTo>
                  <a:lnTo>
                    <a:pt x="1008" y="206"/>
                  </a:lnTo>
                  <a:lnTo>
                    <a:pt x="1008" y="206"/>
                  </a:lnTo>
                  <a:lnTo>
                    <a:pt x="983" y="254"/>
                  </a:lnTo>
                  <a:lnTo>
                    <a:pt x="971" y="254"/>
                  </a:lnTo>
                  <a:lnTo>
                    <a:pt x="995" y="254"/>
                  </a:lnTo>
                  <a:lnTo>
                    <a:pt x="1020" y="254"/>
                  </a:lnTo>
                  <a:lnTo>
                    <a:pt x="1093" y="218"/>
                  </a:lnTo>
                  <a:lnTo>
                    <a:pt x="1080" y="218"/>
                  </a:lnTo>
                  <a:lnTo>
                    <a:pt x="1080" y="206"/>
                  </a:lnTo>
                  <a:lnTo>
                    <a:pt x="1153" y="194"/>
                  </a:lnTo>
                  <a:lnTo>
                    <a:pt x="1153" y="170"/>
                  </a:lnTo>
                  <a:lnTo>
                    <a:pt x="1178" y="145"/>
                  </a:lnTo>
                  <a:lnTo>
                    <a:pt x="1250" y="145"/>
                  </a:lnTo>
                  <a:lnTo>
                    <a:pt x="1287" y="133"/>
                  </a:lnTo>
                  <a:lnTo>
                    <a:pt x="1311" y="73"/>
                  </a:lnTo>
                  <a:lnTo>
                    <a:pt x="1323" y="73"/>
                  </a:lnTo>
                  <a:lnTo>
                    <a:pt x="1335" y="73"/>
                  </a:lnTo>
                  <a:lnTo>
                    <a:pt x="1348" y="85"/>
                  </a:lnTo>
                  <a:lnTo>
                    <a:pt x="1348" y="121"/>
                  </a:lnTo>
                  <a:lnTo>
                    <a:pt x="1372" y="145"/>
                  </a:lnTo>
                  <a:lnTo>
                    <a:pt x="1360" y="145"/>
                  </a:lnTo>
                  <a:lnTo>
                    <a:pt x="1360" y="157"/>
                  </a:lnTo>
                  <a:lnTo>
                    <a:pt x="1360" y="157"/>
                  </a:lnTo>
                  <a:lnTo>
                    <a:pt x="1323" y="170"/>
                  </a:lnTo>
                  <a:lnTo>
                    <a:pt x="1323" y="170"/>
                  </a:lnTo>
                  <a:lnTo>
                    <a:pt x="1311" y="182"/>
                  </a:lnTo>
                  <a:lnTo>
                    <a:pt x="1287" y="194"/>
                  </a:lnTo>
                  <a:lnTo>
                    <a:pt x="1275" y="230"/>
                  </a:lnTo>
                  <a:lnTo>
                    <a:pt x="1287" y="254"/>
                  </a:lnTo>
                  <a:lnTo>
                    <a:pt x="1287" y="254"/>
                  </a:lnTo>
                  <a:lnTo>
                    <a:pt x="1287" y="242"/>
                  </a:lnTo>
                  <a:lnTo>
                    <a:pt x="1299" y="242"/>
                  </a:lnTo>
                  <a:lnTo>
                    <a:pt x="1299" y="254"/>
                  </a:lnTo>
                  <a:lnTo>
                    <a:pt x="1275" y="254"/>
                  </a:lnTo>
                  <a:lnTo>
                    <a:pt x="1263" y="254"/>
                  </a:lnTo>
                  <a:lnTo>
                    <a:pt x="1263" y="267"/>
                  </a:lnTo>
                  <a:lnTo>
                    <a:pt x="1226" y="267"/>
                  </a:lnTo>
                  <a:lnTo>
                    <a:pt x="1202" y="279"/>
                  </a:lnTo>
                  <a:lnTo>
                    <a:pt x="1190" y="327"/>
                  </a:lnTo>
                  <a:lnTo>
                    <a:pt x="1178" y="339"/>
                  </a:lnTo>
                  <a:lnTo>
                    <a:pt x="1165" y="315"/>
                  </a:lnTo>
                  <a:lnTo>
                    <a:pt x="1178" y="351"/>
                  </a:lnTo>
                  <a:lnTo>
                    <a:pt x="1153" y="388"/>
                  </a:lnTo>
                  <a:lnTo>
                    <a:pt x="1153" y="388"/>
                  </a:lnTo>
                  <a:lnTo>
                    <a:pt x="1165" y="364"/>
                  </a:lnTo>
                  <a:lnTo>
                    <a:pt x="1141" y="351"/>
                  </a:lnTo>
                  <a:lnTo>
                    <a:pt x="1153" y="315"/>
                  </a:lnTo>
                  <a:lnTo>
                    <a:pt x="1141" y="327"/>
                  </a:lnTo>
                  <a:lnTo>
                    <a:pt x="1141" y="351"/>
                  </a:lnTo>
                  <a:lnTo>
                    <a:pt x="1129" y="351"/>
                  </a:lnTo>
                  <a:lnTo>
                    <a:pt x="1141" y="364"/>
                  </a:lnTo>
                  <a:lnTo>
                    <a:pt x="1141" y="388"/>
                  </a:lnTo>
                  <a:lnTo>
                    <a:pt x="1165" y="424"/>
                  </a:lnTo>
                  <a:lnTo>
                    <a:pt x="1141" y="461"/>
                  </a:lnTo>
                  <a:lnTo>
                    <a:pt x="1080" y="485"/>
                  </a:lnTo>
                  <a:lnTo>
                    <a:pt x="1032" y="533"/>
                  </a:lnTo>
                  <a:lnTo>
                    <a:pt x="1020" y="558"/>
                  </a:lnTo>
                  <a:lnTo>
                    <a:pt x="1056" y="667"/>
                  </a:lnTo>
                  <a:lnTo>
                    <a:pt x="1056" y="703"/>
                  </a:lnTo>
                  <a:lnTo>
                    <a:pt x="1032" y="715"/>
                  </a:lnTo>
                  <a:lnTo>
                    <a:pt x="1020" y="691"/>
                  </a:lnTo>
                  <a:lnTo>
                    <a:pt x="1008" y="667"/>
                  </a:lnTo>
                  <a:lnTo>
                    <a:pt x="995" y="606"/>
                  </a:lnTo>
                  <a:lnTo>
                    <a:pt x="971" y="582"/>
                  </a:lnTo>
                  <a:lnTo>
                    <a:pt x="935" y="594"/>
                  </a:lnTo>
                  <a:lnTo>
                    <a:pt x="935" y="582"/>
                  </a:lnTo>
                  <a:lnTo>
                    <a:pt x="910" y="570"/>
                  </a:lnTo>
                  <a:lnTo>
                    <a:pt x="874" y="582"/>
                  </a:lnTo>
                  <a:lnTo>
                    <a:pt x="874" y="570"/>
                  </a:lnTo>
                  <a:lnTo>
                    <a:pt x="825" y="582"/>
                  </a:lnTo>
                  <a:lnTo>
                    <a:pt x="813" y="570"/>
                  </a:lnTo>
                  <a:lnTo>
                    <a:pt x="813" y="582"/>
                  </a:lnTo>
                  <a:lnTo>
                    <a:pt x="838" y="582"/>
                  </a:lnTo>
                  <a:lnTo>
                    <a:pt x="838" y="594"/>
                  </a:lnTo>
                  <a:lnTo>
                    <a:pt x="850" y="606"/>
                  </a:lnTo>
                  <a:lnTo>
                    <a:pt x="838" y="618"/>
                  </a:lnTo>
                  <a:lnTo>
                    <a:pt x="825" y="606"/>
                  </a:lnTo>
                  <a:lnTo>
                    <a:pt x="789" y="606"/>
                  </a:lnTo>
                  <a:lnTo>
                    <a:pt x="777" y="594"/>
                  </a:lnTo>
                  <a:lnTo>
                    <a:pt x="765" y="594"/>
                  </a:lnTo>
                  <a:lnTo>
                    <a:pt x="740" y="594"/>
                  </a:lnTo>
                  <a:lnTo>
                    <a:pt x="716" y="606"/>
                  </a:lnTo>
                  <a:lnTo>
                    <a:pt x="716" y="594"/>
                  </a:lnTo>
                  <a:lnTo>
                    <a:pt x="704" y="594"/>
                  </a:lnTo>
                  <a:lnTo>
                    <a:pt x="704" y="606"/>
                  </a:lnTo>
                  <a:lnTo>
                    <a:pt x="655" y="643"/>
                  </a:lnTo>
                  <a:lnTo>
                    <a:pt x="655" y="691"/>
                  </a:lnTo>
                  <a:lnTo>
                    <a:pt x="607" y="679"/>
                  </a:lnTo>
                  <a:lnTo>
                    <a:pt x="558" y="594"/>
                  </a:lnTo>
                  <a:lnTo>
                    <a:pt x="522" y="594"/>
                  </a:lnTo>
                  <a:lnTo>
                    <a:pt x="510" y="606"/>
                  </a:lnTo>
                  <a:lnTo>
                    <a:pt x="498" y="606"/>
                  </a:lnTo>
                  <a:lnTo>
                    <a:pt x="473" y="594"/>
                  </a:lnTo>
                  <a:lnTo>
                    <a:pt x="473" y="570"/>
                  </a:lnTo>
                  <a:lnTo>
                    <a:pt x="437" y="546"/>
                  </a:lnTo>
                  <a:lnTo>
                    <a:pt x="327" y="558"/>
                  </a:lnTo>
                  <a:lnTo>
                    <a:pt x="230" y="521"/>
                  </a:lnTo>
                  <a:lnTo>
                    <a:pt x="182" y="521"/>
                  </a:lnTo>
                  <a:lnTo>
                    <a:pt x="182" y="521"/>
                  </a:lnTo>
                  <a:lnTo>
                    <a:pt x="170" y="497"/>
                  </a:lnTo>
                  <a:lnTo>
                    <a:pt x="157" y="485"/>
                  </a:lnTo>
                  <a:lnTo>
                    <a:pt x="157" y="473"/>
                  </a:lnTo>
                  <a:lnTo>
                    <a:pt x="97" y="461"/>
                  </a:lnTo>
                  <a:lnTo>
                    <a:pt x="97" y="449"/>
                  </a:lnTo>
                  <a:lnTo>
                    <a:pt x="72" y="412"/>
                  </a:lnTo>
                  <a:lnTo>
                    <a:pt x="72" y="388"/>
                  </a:lnTo>
                  <a:lnTo>
                    <a:pt x="60" y="388"/>
                  </a:lnTo>
                  <a:lnTo>
                    <a:pt x="60" y="376"/>
                  </a:lnTo>
                  <a:lnTo>
                    <a:pt x="60" y="376"/>
                  </a:lnTo>
                  <a:lnTo>
                    <a:pt x="60" y="364"/>
                  </a:lnTo>
                  <a:lnTo>
                    <a:pt x="48" y="364"/>
                  </a:lnTo>
                  <a:lnTo>
                    <a:pt x="48" y="351"/>
                  </a:lnTo>
                  <a:lnTo>
                    <a:pt x="24" y="339"/>
                  </a:lnTo>
                  <a:lnTo>
                    <a:pt x="24" y="315"/>
                  </a:lnTo>
                  <a:lnTo>
                    <a:pt x="12" y="291"/>
                  </a:lnTo>
                  <a:lnTo>
                    <a:pt x="24" y="254"/>
                  </a:lnTo>
                  <a:lnTo>
                    <a:pt x="12" y="218"/>
                  </a:lnTo>
                  <a:lnTo>
                    <a:pt x="24" y="109"/>
                  </a:lnTo>
                  <a:lnTo>
                    <a:pt x="36" y="109"/>
                  </a:lnTo>
                  <a:lnTo>
                    <a:pt x="24" y="109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48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060600" y="4475880"/>
              <a:ext cx="379800" cy="344520"/>
              <a:chOff x="6060600" y="4475880"/>
              <a:chExt cx="379800" cy="344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392520" y="4489920"/>
                <a:ext cx="46800" cy="128880"/>
              </a:xfrm>
              <a:custGeom>
                <a:avLst/>
                <a:gdLst/>
                <a:ahLst/>
                <a:rect l="l" t="t" r="r" b="b"/>
                <a:pathLst>
                  <a:path w="36" h="109">
                    <a:moveTo>
                      <a:pt x="0" y="3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10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76080" y="4562280"/>
                <a:ext cx="172800" cy="215640"/>
              </a:xfrm>
              <a:custGeom>
                <a:avLst/>
                <a:gdLst/>
                <a:ahLst/>
                <a:rect l="l" t="t" r="r" b="b"/>
                <a:pathLst>
                  <a:path w="133" h="182">
                    <a:moveTo>
                      <a:pt x="0" y="73"/>
                    </a:moveTo>
                    <a:lnTo>
                      <a:pt x="0" y="182"/>
                    </a:lnTo>
                    <a:lnTo>
                      <a:pt x="133" y="182"/>
                    </a:lnTo>
                    <a:lnTo>
                      <a:pt x="133" y="73"/>
                    </a:lnTo>
                    <a:lnTo>
                      <a:pt x="6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49240" y="4648680"/>
                <a:ext cx="174600" cy="143280"/>
              </a:xfrm>
              <a:prstGeom prst="rect">
                <a:avLst/>
              </a:pr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4428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4428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8164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8164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07400" y="4633560"/>
                <a:ext cx="309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07400" y="4648680"/>
                <a:ext cx="3096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71120" y="4633560"/>
                <a:ext cx="4644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86960" y="4648680"/>
                <a:ext cx="1512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64720" y="4734000"/>
                <a:ext cx="3240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64720" y="4734000"/>
                <a:ext cx="1656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7112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3836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200" y="459072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0740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8696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60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442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6012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442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8164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974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8164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44280" y="4734000"/>
                <a:ext cx="63720" cy="2952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49" y="0"/>
                    </a:moveTo>
                    <a:lnTo>
                      <a:pt x="49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4280" y="4705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9" y="12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3836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07400" y="4677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228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0740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208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1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0208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86960" y="46486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112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12" y="49"/>
                    </a:moveTo>
                    <a:lnTo>
                      <a:pt x="36" y="49"/>
                    </a:lnTo>
                    <a:lnTo>
                      <a:pt x="36" y="3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0740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24" y="49"/>
                    </a:moveTo>
                    <a:lnTo>
                      <a:pt x="0" y="49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24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92520" y="4489920"/>
                <a:ext cx="30960" cy="128880"/>
              </a:xfrm>
              <a:custGeom>
                <a:avLst/>
                <a:gdLst/>
                <a:ahLst/>
                <a:rect l="l" t="t" r="r" b="b"/>
                <a:pathLst>
                  <a:path w="24" h="109">
                    <a:moveTo>
                      <a:pt x="0" y="0"/>
                    </a:moveTo>
                    <a:lnTo>
                      <a:pt x="24" y="0"/>
                    </a:lnTo>
                    <a:lnTo>
                      <a:pt x="24" y="109"/>
                    </a:lnTo>
                    <a:lnTo>
                      <a:pt x="0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3840" y="464868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49240" y="4648680"/>
                <a:ext cx="17460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61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4924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7608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76080" y="4562280"/>
                <a:ext cx="95040" cy="100440"/>
              </a:xfrm>
              <a:custGeom>
                <a:avLst/>
                <a:gdLst/>
                <a:ahLst/>
                <a:rect l="l" t="t" r="r" b="b"/>
                <a:pathLst>
                  <a:path w="73" h="85">
                    <a:moveTo>
                      <a:pt x="0" y="73"/>
                    </a:moveTo>
                    <a:lnTo>
                      <a:pt x="12" y="85"/>
                    </a:lnTo>
                    <a:lnTo>
                      <a:pt x="73" y="12"/>
                    </a:lnTo>
                    <a:lnTo>
                      <a:pt x="6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442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6012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6012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7560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49240" y="47199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85" y="12"/>
                    </a:moveTo>
                    <a:lnTo>
                      <a:pt x="85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76080" y="4663080"/>
                <a:ext cx="1080" cy="1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60600" y="4648680"/>
                <a:ext cx="15480" cy="12888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109"/>
                    </a:moveTo>
                    <a:lnTo>
                      <a:pt x="12" y="10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12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23840" y="46486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23840" y="46771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23840" y="4648680"/>
                <a:ext cx="154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2384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39320" y="4648680"/>
                <a:ext cx="3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39320" y="4648680"/>
                <a:ext cx="10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39320" y="4648680"/>
                <a:ext cx="1080" cy="5688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39320" y="4705560"/>
                <a:ext cx="108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33400" y="4648680"/>
                <a:ext cx="15480" cy="4248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36"/>
                    </a:moveTo>
                    <a:lnTo>
                      <a:pt x="12" y="3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33400" y="46915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33400" y="470556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334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12" y="49"/>
                    </a:moveTo>
                    <a:lnTo>
                      <a:pt x="12" y="4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12960" y="473400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44280" y="46915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8164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9748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164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1296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974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81640" y="474840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81640" y="47340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9748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28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2880" y="47484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228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1120" y="471996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86960" y="474840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lnTo>
                      <a:pt x="12" y="1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86960" y="471996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020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54200" y="471996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54200" y="4734000"/>
                <a:ext cx="16920" cy="29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2"/>
                    </a:move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92520" y="4475880"/>
                <a:ext cx="309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76080" y="4777920"/>
                <a:ext cx="17280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59760" y="4792320"/>
                <a:ext cx="637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072920" y="4921200"/>
              <a:ext cx="373680" cy="152640"/>
              <a:chOff x="7072920" y="4921200"/>
              <a:chExt cx="373680" cy="152640"/>
            </a:xfrm>
          </p:grpSpPr>
          <p:sp>
            <p:nvSpPr>
              <p:cNvPr id="421" name=""/>
              <p:cNvSpPr/>
              <p:nvPr/>
            </p:nvSpPr>
            <p:spPr>
              <a:xfrm>
                <a:off x="7219800" y="502668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31" h="103">
                    <a:moveTo>
                      <a:pt x="31" y="32"/>
                    </a:moveTo>
                    <a:lnTo>
                      <a:pt x="31" y="103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31" y="3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72920" y="4949640"/>
                <a:ext cx="286560" cy="108720"/>
              </a:xfrm>
              <a:custGeom>
                <a:avLst/>
                <a:gdLst/>
                <a:ahLst/>
                <a:rect l="l" t="t" r="r" b="b"/>
                <a:pathLst>
                  <a:path w="2637" h="1107">
                    <a:moveTo>
                      <a:pt x="2637" y="0"/>
                    </a:moveTo>
                    <a:lnTo>
                      <a:pt x="2637" y="1107"/>
                    </a:lnTo>
                    <a:lnTo>
                      <a:pt x="98" y="1107"/>
                    </a:lnTo>
                    <a:lnTo>
                      <a:pt x="98" y="902"/>
                    </a:lnTo>
                    <a:lnTo>
                      <a:pt x="48" y="888"/>
                    </a:lnTo>
                    <a:lnTo>
                      <a:pt x="48" y="750"/>
                    </a:lnTo>
                    <a:lnTo>
                      <a:pt x="0" y="729"/>
                    </a:lnTo>
                    <a:lnTo>
                      <a:pt x="26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6004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500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51040" y="50266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47080" y="502776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35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5" y="121"/>
                    </a:lnTo>
                    <a:lnTo>
                      <a:pt x="35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42040" y="50277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6" y="121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380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7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7" y="122"/>
                    </a:lnTo>
                    <a:lnTo>
                      <a:pt x="3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326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2916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6" y="143"/>
                    </a:lnTo>
                    <a:lnTo>
                      <a:pt x="4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2124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5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5" y="143"/>
                    </a:lnTo>
                    <a:lnTo>
                      <a:pt x="4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14760" y="50191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06840" y="5019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00360" y="5020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46" y="144"/>
                    </a:lnTo>
                    <a:lnTo>
                      <a:pt x="46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92800" y="502056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38600" y="50086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6720" y="5008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3760" y="50097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01880" y="5011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90360" y="501228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8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8" y="139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83000" y="5019120"/>
                <a:ext cx="276120" cy="33120"/>
              </a:xfrm>
              <a:custGeom>
                <a:avLst/>
                <a:gdLst/>
                <a:ahLst/>
                <a:rect l="l" t="t" r="r" b="b"/>
                <a:pathLst>
                  <a:path w="2534" h="337">
                    <a:moveTo>
                      <a:pt x="2534" y="185"/>
                    </a:moveTo>
                    <a:lnTo>
                      <a:pt x="2534" y="0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2534" y="1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7960" y="4982760"/>
                <a:ext cx="281160" cy="54360"/>
              </a:xfrm>
              <a:custGeom>
                <a:avLst/>
                <a:gdLst/>
                <a:ahLst/>
                <a:rect l="l" t="t" r="r" b="b"/>
                <a:pathLst>
                  <a:path w="2585" h="558">
                    <a:moveTo>
                      <a:pt x="2585" y="153"/>
                    </a:moveTo>
                    <a:lnTo>
                      <a:pt x="2585" y="0"/>
                    </a:lnTo>
                    <a:lnTo>
                      <a:pt x="0" y="490"/>
                    </a:lnTo>
                    <a:lnTo>
                      <a:pt x="0" y="558"/>
                    </a:lnTo>
                    <a:lnTo>
                      <a:pt x="2585" y="15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72920" y="4921200"/>
                <a:ext cx="286560" cy="100440"/>
              </a:xfrm>
              <a:custGeom>
                <a:avLst/>
                <a:gdLst/>
                <a:ahLst/>
                <a:rect l="l" t="t" r="r" b="b"/>
                <a:pathLst>
                  <a:path w="2637" h="1019">
                    <a:moveTo>
                      <a:pt x="2637" y="359"/>
                    </a:moveTo>
                    <a:lnTo>
                      <a:pt x="2637" y="0"/>
                    </a:lnTo>
                    <a:lnTo>
                      <a:pt x="0" y="888"/>
                    </a:lnTo>
                    <a:lnTo>
                      <a:pt x="0" y="1019"/>
                    </a:lnTo>
                    <a:lnTo>
                      <a:pt x="2637" y="359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59480" y="504432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596" h="146">
                    <a:moveTo>
                      <a:pt x="0" y="0"/>
                    </a:moveTo>
                    <a:lnTo>
                      <a:pt x="596" y="45"/>
                    </a:lnTo>
                    <a:lnTo>
                      <a:pt x="596" y="108"/>
                    </a:lnTo>
                    <a:lnTo>
                      <a:pt x="0" y="1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59480" y="4954320"/>
                <a:ext cx="87120" cy="95760"/>
              </a:xfrm>
              <a:custGeom>
                <a:avLst/>
                <a:gdLst/>
                <a:ahLst/>
                <a:rect l="l" t="t" r="r" b="b"/>
                <a:pathLst>
                  <a:path w="805" h="975">
                    <a:moveTo>
                      <a:pt x="0" y="0"/>
                    </a:moveTo>
                    <a:lnTo>
                      <a:pt x="805" y="511"/>
                    </a:lnTo>
                    <a:lnTo>
                      <a:pt x="706" y="511"/>
                    </a:lnTo>
                    <a:lnTo>
                      <a:pt x="706" y="691"/>
                    </a:lnTo>
                    <a:lnTo>
                      <a:pt x="741" y="711"/>
                    </a:lnTo>
                    <a:lnTo>
                      <a:pt x="706" y="710"/>
                    </a:lnTo>
                    <a:lnTo>
                      <a:pt x="705" y="946"/>
                    </a:lnTo>
                    <a:lnTo>
                      <a:pt x="614" y="975"/>
                    </a:lnTo>
                    <a:lnTo>
                      <a:pt x="0" y="9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59480" y="4921200"/>
                <a:ext cx="87120" cy="84240"/>
              </a:xfrm>
              <a:custGeom>
                <a:avLst/>
                <a:gdLst/>
                <a:ahLst/>
                <a:rect l="l" t="t" r="r" b="b"/>
                <a:pathLst>
                  <a:path w="805" h="845">
                    <a:moveTo>
                      <a:pt x="0" y="0"/>
                    </a:moveTo>
                    <a:lnTo>
                      <a:pt x="0" y="358"/>
                    </a:lnTo>
                    <a:lnTo>
                      <a:pt x="805" y="845"/>
                    </a:lnTo>
                    <a:lnTo>
                      <a:pt x="805" y="6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18160" y="50241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414200" y="50230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10240" y="50216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06280" y="502056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2680" y="50180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98720" y="5016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94400" y="50148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90800" y="50133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4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6840" y="50122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82880" y="50112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78920" y="50086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74960" y="500760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71360" y="500652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67400" y="50040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63440" y="50029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9480" y="500148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14200" y="4998960"/>
                <a:ext cx="8640" cy="1872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43"/>
                    </a:moveTo>
                    <a:lnTo>
                      <a:pt x="0" y="153"/>
                    </a:lnTo>
                    <a:lnTo>
                      <a:pt x="78" y="186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10240" y="499788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76" h="180">
                    <a:moveTo>
                      <a:pt x="0" y="42"/>
                    </a:moveTo>
                    <a:lnTo>
                      <a:pt x="0" y="149"/>
                    </a:lnTo>
                    <a:lnTo>
                      <a:pt x="76" y="180"/>
                    </a:lnTo>
                    <a:lnTo>
                      <a:pt x="7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06280" y="499572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7" h="188">
                    <a:moveTo>
                      <a:pt x="0" y="43"/>
                    </a:moveTo>
                    <a:lnTo>
                      <a:pt x="0" y="171"/>
                    </a:lnTo>
                    <a:lnTo>
                      <a:pt x="77" y="188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2680" y="499320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8" h="192">
                    <a:moveTo>
                      <a:pt x="0" y="43"/>
                    </a:moveTo>
                    <a:lnTo>
                      <a:pt x="0" y="173"/>
                    </a:lnTo>
                    <a:lnTo>
                      <a:pt x="78" y="192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98720" y="4991040"/>
                <a:ext cx="8640" cy="2196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94400" y="498852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90800" y="4987440"/>
                <a:ext cx="792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6840" y="49852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2880" y="49827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920" y="49802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4960" y="49780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0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1360" y="49770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67400" y="49744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63440" y="49719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59480" y="49694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59480" y="4982760"/>
                <a:ext cx="80640" cy="41040"/>
              </a:xfrm>
              <a:custGeom>
                <a:avLst/>
                <a:gdLst/>
                <a:ahLst/>
                <a:rect l="l" t="t" r="r" b="b"/>
                <a:pathLst>
                  <a:path w="746" h="429">
                    <a:moveTo>
                      <a:pt x="0" y="0"/>
                    </a:moveTo>
                    <a:lnTo>
                      <a:pt x="746" y="340"/>
                    </a:lnTo>
                    <a:lnTo>
                      <a:pt x="746" y="429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59480" y="5019120"/>
                <a:ext cx="76680" cy="28440"/>
              </a:xfrm>
              <a:custGeom>
                <a:avLst/>
                <a:gdLst/>
                <a:ahLst/>
                <a:rect l="l" t="t" r="r" b="b"/>
                <a:pathLst>
                  <a:path w="714" h="290">
                    <a:moveTo>
                      <a:pt x="0" y="0"/>
                    </a:moveTo>
                    <a:lnTo>
                      <a:pt x="714" y="188"/>
                    </a:lnTo>
                    <a:lnTo>
                      <a:pt x="714" y="290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75880" y="4956840"/>
                <a:ext cx="34920" cy="117000"/>
              </a:xfrm>
              <a:custGeom>
                <a:avLst/>
                <a:gdLst/>
                <a:ahLst/>
                <a:rect l="l" t="t" r="r" b="b"/>
                <a:pathLst>
                  <a:path w="319" h="1185">
                    <a:moveTo>
                      <a:pt x="319" y="102"/>
                    </a:moveTo>
                    <a:lnTo>
                      <a:pt x="147" y="0"/>
                    </a:lnTo>
                    <a:lnTo>
                      <a:pt x="126" y="0"/>
                    </a:lnTo>
                    <a:lnTo>
                      <a:pt x="91" y="5"/>
                    </a:lnTo>
                    <a:lnTo>
                      <a:pt x="32" y="65"/>
                    </a:lnTo>
                    <a:lnTo>
                      <a:pt x="0" y="46"/>
                    </a:lnTo>
                    <a:lnTo>
                      <a:pt x="0" y="1182"/>
                    </a:lnTo>
                    <a:lnTo>
                      <a:pt x="48" y="1134"/>
                    </a:lnTo>
                    <a:lnTo>
                      <a:pt x="87" y="1134"/>
                    </a:lnTo>
                    <a:lnTo>
                      <a:pt x="87" y="1185"/>
                    </a:lnTo>
                    <a:lnTo>
                      <a:pt x="128" y="1185"/>
                    </a:lnTo>
                    <a:lnTo>
                      <a:pt x="155" y="1159"/>
                    </a:lnTo>
                    <a:lnTo>
                      <a:pt x="155" y="157"/>
                    </a:lnTo>
                    <a:lnTo>
                      <a:pt x="31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73360" y="4961160"/>
                <a:ext cx="2520" cy="112320"/>
              </a:xfrm>
              <a:custGeom>
                <a:avLst/>
                <a:gdLst/>
                <a:ahLst/>
                <a:rect l="l" t="t" r="r" b="b"/>
                <a:pathLst>
                  <a:path w="27" h="1137">
                    <a:moveTo>
                      <a:pt x="27" y="0"/>
                    </a:moveTo>
                    <a:lnTo>
                      <a:pt x="27" y="1137"/>
                    </a:lnTo>
                    <a:lnTo>
                      <a:pt x="0" y="1137"/>
                    </a:lnTo>
                    <a:lnTo>
                      <a:pt x="0" y="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84880" y="4956840"/>
                <a:ext cx="3960" cy="117000"/>
              </a:xfrm>
              <a:custGeom>
                <a:avLst/>
                <a:gdLst/>
                <a:ahLst/>
                <a:rect l="l" t="t" r="r" b="b"/>
                <a:pathLst>
                  <a:path w="39" h="1185">
                    <a:moveTo>
                      <a:pt x="0" y="5"/>
                    </a:moveTo>
                    <a:lnTo>
                      <a:pt x="39" y="0"/>
                    </a:lnTo>
                    <a:lnTo>
                      <a:pt x="39" y="1185"/>
                    </a:lnTo>
                    <a:lnTo>
                      <a:pt x="0" y="118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79840" y="4960080"/>
                <a:ext cx="4680" cy="109800"/>
              </a:xfrm>
              <a:custGeom>
                <a:avLst/>
                <a:gdLst/>
                <a:ahLst/>
                <a:rect l="l" t="t" r="r" b="b"/>
                <a:pathLst>
                  <a:path w="55" h="1121">
                    <a:moveTo>
                      <a:pt x="0" y="1121"/>
                    </a:moveTo>
                    <a:lnTo>
                      <a:pt x="0" y="55"/>
                    </a:lnTo>
                    <a:lnTo>
                      <a:pt x="55" y="0"/>
                    </a:lnTo>
                    <a:lnTo>
                      <a:pt x="55" y="1121"/>
                    </a:lnTo>
                    <a:lnTo>
                      <a:pt x="0" y="1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64080" y="4923360"/>
                <a:ext cx="44280" cy="149040"/>
              </a:xfrm>
              <a:custGeom>
                <a:avLst/>
                <a:gdLst/>
                <a:ahLst/>
                <a:rect l="l" t="t" r="r" b="b"/>
                <a:pathLst>
                  <a:path w="406" h="1512">
                    <a:moveTo>
                      <a:pt x="406" y="129"/>
                    </a:moveTo>
                    <a:lnTo>
                      <a:pt x="187" y="0"/>
                    </a:lnTo>
                    <a:lnTo>
                      <a:pt x="161" y="0"/>
                    </a:lnTo>
                    <a:lnTo>
                      <a:pt x="117" y="6"/>
                    </a:lnTo>
                    <a:lnTo>
                      <a:pt x="40" y="81"/>
                    </a:lnTo>
                    <a:lnTo>
                      <a:pt x="0" y="58"/>
                    </a:lnTo>
                    <a:lnTo>
                      <a:pt x="0" y="1507"/>
                    </a:lnTo>
                    <a:lnTo>
                      <a:pt x="61" y="1447"/>
                    </a:lnTo>
                    <a:lnTo>
                      <a:pt x="112" y="1447"/>
                    </a:lnTo>
                    <a:lnTo>
                      <a:pt x="112" y="1512"/>
                    </a:lnTo>
                    <a:lnTo>
                      <a:pt x="163" y="1512"/>
                    </a:lnTo>
                    <a:lnTo>
                      <a:pt x="198" y="1478"/>
                    </a:lnTo>
                    <a:lnTo>
                      <a:pt x="198" y="198"/>
                    </a:lnTo>
                    <a:lnTo>
                      <a:pt x="406" y="1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61920" y="4929480"/>
                <a:ext cx="2160" cy="143280"/>
              </a:xfrm>
              <a:custGeom>
                <a:avLst/>
                <a:gdLst/>
                <a:ahLst/>
                <a:rect l="l" t="t" r="r" b="b"/>
                <a:pathLst>
                  <a:path w="33" h="1451">
                    <a:moveTo>
                      <a:pt x="33" y="0"/>
                    </a:moveTo>
                    <a:lnTo>
                      <a:pt x="33" y="1451"/>
                    </a:lnTo>
                    <a:lnTo>
                      <a:pt x="0" y="1451"/>
                    </a:lnTo>
                    <a:lnTo>
                      <a:pt x="0" y="1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77400" y="4923360"/>
                <a:ext cx="5040" cy="149040"/>
              </a:xfrm>
              <a:custGeom>
                <a:avLst/>
                <a:gdLst/>
                <a:ahLst/>
                <a:rect l="l" t="t" r="r" b="b"/>
                <a:pathLst>
                  <a:path w="49" h="1512">
                    <a:moveTo>
                      <a:pt x="0" y="6"/>
                    </a:moveTo>
                    <a:lnTo>
                      <a:pt x="49" y="0"/>
                    </a:lnTo>
                    <a:lnTo>
                      <a:pt x="49" y="1512"/>
                    </a:lnTo>
                    <a:lnTo>
                      <a:pt x="0" y="15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69480" y="4926960"/>
                <a:ext cx="7560" cy="142200"/>
              </a:xfrm>
              <a:custGeom>
                <a:avLst/>
                <a:gdLst/>
                <a:ahLst/>
                <a:rect l="l" t="t" r="r" b="b"/>
                <a:pathLst>
                  <a:path w="72" h="1428">
                    <a:moveTo>
                      <a:pt x="0" y="1428"/>
                    </a:moveTo>
                    <a:lnTo>
                      <a:pt x="0" y="69"/>
                    </a:lnTo>
                    <a:lnTo>
                      <a:pt x="72" y="0"/>
                    </a:lnTo>
                    <a:lnTo>
                      <a:pt x="72" y="142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20800" y="4978080"/>
                <a:ext cx="27360" cy="93240"/>
              </a:xfrm>
              <a:custGeom>
                <a:avLst/>
                <a:gdLst/>
                <a:ahLst/>
                <a:rect l="l" t="t" r="r" b="b"/>
                <a:pathLst>
                  <a:path w="254" h="952">
                    <a:moveTo>
                      <a:pt x="254" y="82"/>
                    </a:moveTo>
                    <a:lnTo>
                      <a:pt x="117" y="0"/>
                    </a:lnTo>
                    <a:lnTo>
                      <a:pt x="100" y="0"/>
                    </a:lnTo>
                    <a:lnTo>
                      <a:pt x="73" y="4"/>
                    </a:lnTo>
                    <a:lnTo>
                      <a:pt x="26" y="52"/>
                    </a:lnTo>
                    <a:lnTo>
                      <a:pt x="0" y="37"/>
                    </a:lnTo>
                    <a:lnTo>
                      <a:pt x="0" y="949"/>
                    </a:lnTo>
                    <a:lnTo>
                      <a:pt x="38" y="910"/>
                    </a:lnTo>
                    <a:lnTo>
                      <a:pt x="69" y="910"/>
                    </a:lnTo>
                    <a:lnTo>
                      <a:pt x="69" y="952"/>
                    </a:lnTo>
                    <a:lnTo>
                      <a:pt x="101" y="952"/>
                    </a:lnTo>
                    <a:lnTo>
                      <a:pt x="124" y="930"/>
                    </a:lnTo>
                    <a:lnTo>
                      <a:pt x="124" y="126"/>
                    </a:lnTo>
                    <a:lnTo>
                      <a:pt x="25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18640" y="4981320"/>
                <a:ext cx="2160" cy="89640"/>
              </a:xfrm>
              <a:custGeom>
                <a:avLst/>
                <a:gdLst/>
                <a:ahLst/>
                <a:rect l="l" t="t" r="r" b="b"/>
                <a:pathLst>
                  <a:path w="21" h="913">
                    <a:moveTo>
                      <a:pt x="21" y="0"/>
                    </a:moveTo>
                    <a:lnTo>
                      <a:pt x="21" y="913"/>
                    </a:lnTo>
                    <a:lnTo>
                      <a:pt x="0" y="913"/>
                    </a:lnTo>
                    <a:lnTo>
                      <a:pt x="0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27280" y="4978080"/>
                <a:ext cx="3960" cy="93240"/>
              </a:xfrm>
              <a:custGeom>
                <a:avLst/>
                <a:gdLst/>
                <a:ahLst/>
                <a:rect l="l" t="t" r="r" b="b"/>
                <a:pathLst>
                  <a:path w="32" h="950">
                    <a:moveTo>
                      <a:pt x="0" y="7"/>
                    </a:moveTo>
                    <a:lnTo>
                      <a:pt x="32" y="0"/>
                    </a:lnTo>
                    <a:lnTo>
                      <a:pt x="32" y="950"/>
                    </a:lnTo>
                    <a:lnTo>
                      <a:pt x="0" y="95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23680" y="4980240"/>
                <a:ext cx="3600" cy="88560"/>
              </a:xfrm>
              <a:custGeom>
                <a:avLst/>
                <a:gdLst/>
                <a:ahLst/>
                <a:rect l="l" t="t" r="r" b="b"/>
                <a:pathLst>
                  <a:path w="43" h="899">
                    <a:moveTo>
                      <a:pt x="0" y="899"/>
                    </a:moveTo>
                    <a:lnTo>
                      <a:pt x="0" y="41"/>
                    </a:lnTo>
                    <a:lnTo>
                      <a:pt x="43" y="0"/>
                    </a:lnTo>
                    <a:lnTo>
                      <a:pt x="43" y="899"/>
                    </a:lnTo>
                    <a:lnTo>
                      <a:pt x="0" y="8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3000" y="4992120"/>
                <a:ext cx="23400" cy="76680"/>
              </a:xfrm>
              <a:custGeom>
                <a:avLst/>
                <a:gdLst/>
                <a:ahLst/>
                <a:rect l="l" t="t" r="r" b="b"/>
                <a:pathLst>
                  <a:path w="222" h="777">
                    <a:moveTo>
                      <a:pt x="222" y="62"/>
                    </a:moveTo>
                    <a:lnTo>
                      <a:pt x="102" y="0"/>
                    </a:lnTo>
                    <a:lnTo>
                      <a:pt x="87" y="0"/>
                    </a:lnTo>
                    <a:lnTo>
                      <a:pt x="63" y="2"/>
                    </a:lnTo>
                    <a:lnTo>
                      <a:pt x="23" y="41"/>
                    </a:lnTo>
                    <a:lnTo>
                      <a:pt x="0" y="29"/>
                    </a:lnTo>
                    <a:lnTo>
                      <a:pt x="0" y="776"/>
                    </a:lnTo>
                    <a:lnTo>
                      <a:pt x="33" y="745"/>
                    </a:lnTo>
                    <a:lnTo>
                      <a:pt x="61" y="745"/>
                    </a:lnTo>
                    <a:lnTo>
                      <a:pt x="61" y="777"/>
                    </a:lnTo>
                    <a:lnTo>
                      <a:pt x="89" y="777"/>
                    </a:lnTo>
                    <a:lnTo>
                      <a:pt x="109" y="761"/>
                    </a:lnTo>
                    <a:lnTo>
                      <a:pt x="109" y="101"/>
                    </a:lnTo>
                    <a:lnTo>
                      <a:pt x="222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81920" y="4994640"/>
                <a:ext cx="1080" cy="74520"/>
              </a:xfrm>
              <a:custGeom>
                <a:avLst/>
                <a:gdLst/>
                <a:ahLst/>
                <a:rect l="l" t="t" r="r" b="b"/>
                <a:pathLst>
                  <a:path w="18" h="747">
                    <a:moveTo>
                      <a:pt x="18" y="0"/>
                    </a:moveTo>
                    <a:lnTo>
                      <a:pt x="18" y="747"/>
                    </a:lnTo>
                    <a:lnTo>
                      <a:pt x="0" y="747"/>
                    </a:lnTo>
                    <a:lnTo>
                      <a:pt x="0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89480" y="4992120"/>
                <a:ext cx="2520" cy="76680"/>
              </a:xfrm>
              <a:custGeom>
                <a:avLst/>
                <a:gdLst/>
                <a:ahLst/>
                <a:rect l="l" t="t" r="r" b="b"/>
                <a:pathLst>
                  <a:path w="27" h="779">
                    <a:moveTo>
                      <a:pt x="0" y="3"/>
                    </a:moveTo>
                    <a:lnTo>
                      <a:pt x="27" y="0"/>
                    </a:lnTo>
                    <a:lnTo>
                      <a:pt x="27" y="779"/>
                    </a:lnTo>
                    <a:lnTo>
                      <a:pt x="0" y="77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85880" y="4993200"/>
                <a:ext cx="3600" cy="73440"/>
              </a:xfrm>
              <a:custGeom>
                <a:avLst/>
                <a:gdLst/>
                <a:ahLst/>
                <a:rect l="l" t="t" r="r" b="b"/>
                <a:pathLst>
                  <a:path w="38" h="736">
                    <a:moveTo>
                      <a:pt x="0" y="736"/>
                    </a:moveTo>
                    <a:lnTo>
                      <a:pt x="0" y="39"/>
                    </a:lnTo>
                    <a:lnTo>
                      <a:pt x="38" y="0"/>
                    </a:lnTo>
                    <a:lnTo>
                      <a:pt x="38" y="736"/>
                    </a:lnTo>
                    <a:lnTo>
                      <a:pt x="0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310160" y="4245840"/>
              <a:ext cx="474120" cy="660600"/>
              <a:chOff x="7310160" y="4245840"/>
              <a:chExt cx="474120" cy="6606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7310160" y="4259880"/>
                <a:ext cx="474120" cy="64656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1640" y="4245840"/>
                <a:ext cx="62280" cy="864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48" y="73"/>
                    </a:moveTo>
                    <a:lnTo>
                      <a:pt x="48" y="0"/>
                    </a:lnTo>
                    <a:lnTo>
                      <a:pt x="0" y="36"/>
                    </a:lnTo>
                    <a:lnTo>
                      <a:pt x="24" y="24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233760" y="4504320"/>
              <a:ext cx="94680" cy="114840"/>
              <a:chOff x="6233760" y="4504320"/>
              <a:chExt cx="94680" cy="114840"/>
            </a:xfrm>
          </p:grpSpPr>
          <p:sp>
            <p:nvSpPr>
              <p:cNvPr id="500" name=""/>
              <p:cNvSpPr/>
              <p:nvPr/>
            </p:nvSpPr>
            <p:spPr>
              <a:xfrm>
                <a:off x="6297480" y="45043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297480" y="4518360"/>
                <a:ext cx="15480" cy="1080"/>
                <a:chOff x="6297480" y="4518360"/>
                <a:chExt cx="15480" cy="10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312960" y="4518360"/>
                <a:ext cx="360" cy="360"/>
                <a:chOff x="6312960" y="4518360"/>
                <a:chExt cx="360" cy="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297480" y="4518360"/>
                <a:ext cx="15480" cy="15120"/>
                <a:chOff x="6297480" y="4518360"/>
                <a:chExt cx="15480" cy="15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233760" y="4533840"/>
                <a:ext cx="1440" cy="1080"/>
                <a:chOff x="6233760" y="4533840"/>
                <a:chExt cx="1440" cy="10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297480" y="4518360"/>
                <a:ext cx="15480" cy="72000"/>
                <a:chOff x="6297480" y="4518360"/>
                <a:chExt cx="15480" cy="72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281640" y="4590720"/>
                <a:ext cx="1440" cy="1080"/>
                <a:chOff x="6281640" y="4590720"/>
                <a:chExt cx="1440" cy="10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264720" y="4576320"/>
                <a:ext cx="16560" cy="14040"/>
                <a:chOff x="6264720" y="4576320"/>
                <a:chExt cx="16560" cy="14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264720" y="4576320"/>
                  <a:ext cx="165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72280" y="4583520"/>
                  <a:ext cx="108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281640" y="4576320"/>
                <a:ext cx="360" cy="14040"/>
                <a:chOff x="6281640" y="4576320"/>
                <a:chExt cx="360" cy="140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281640" y="4590720"/>
                <a:ext cx="360" cy="360"/>
                <a:chOff x="6281640" y="4590720"/>
                <a:chExt cx="360" cy="3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264720" y="4590720"/>
                <a:ext cx="16560" cy="14040"/>
                <a:chOff x="6264720" y="4590720"/>
                <a:chExt cx="16560" cy="140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264720" y="4590720"/>
                <a:ext cx="16560" cy="28440"/>
                <a:chOff x="6264720" y="4590720"/>
                <a:chExt cx="16560" cy="28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312960" y="4533840"/>
                <a:ext cx="15480" cy="42480"/>
                <a:chOff x="6312960" y="4533840"/>
                <a:chExt cx="15480" cy="424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233760" y="4518360"/>
                <a:ext cx="79200" cy="57960"/>
                <a:chOff x="6233760" y="4518360"/>
                <a:chExt cx="79200" cy="579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233760" y="4518360"/>
                <a:ext cx="47880" cy="15120"/>
                <a:chOff x="6233760" y="4518360"/>
                <a:chExt cx="47880" cy="15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312960" y="4576320"/>
                <a:ext cx="15480" cy="1080"/>
                <a:chOff x="6312960" y="4576320"/>
                <a:chExt cx="15480" cy="10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233760" y="4533840"/>
                <a:ext cx="79200" cy="56880"/>
                <a:chOff x="6233760" y="4533840"/>
                <a:chExt cx="79200" cy="56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233760" y="4518360"/>
                <a:ext cx="63720" cy="29520"/>
                <a:chOff x="6233760" y="4518360"/>
                <a:chExt cx="63720" cy="295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5522760" y="3627360"/>
              <a:ext cx="2673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61280" y="3669840"/>
              <a:ext cx="69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RotisSemiSerif"/>
                </a:rPr>
                <a:t>Direc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98720" y="394344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03840" y="389988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RotisSemiSerif"/>
                </a:rPr>
                <a:t>Bandwidth for HNS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03320" y="1536840"/>
            <a:ext cx="376884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Backbone access for foreign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ervice in over 25 count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Up to 45 Mbps on forward 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 DV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hared access for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eployed in Latin Ame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irec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Forward path over PA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omestic fle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Over 10 transponders of capa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Introducing two-way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version in 2Q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38680" y="5402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20760" y="1488960"/>
            <a:ext cx="3940920" cy="2054520"/>
            <a:chOff x="4820760" y="1488960"/>
            <a:chExt cx="3940920" cy="2054520"/>
          </a:xfrm>
        </p:grpSpPr>
        <p:pic>
          <p:nvPicPr>
            <p:cNvPr id="577" name="dish" descr=""/>
            <p:cNvPicPr/>
            <p:nvPr/>
          </p:nvPicPr>
          <p:blipFill>
            <a:blip r:embed="rId2"/>
            <a:stretch/>
          </p:blipFill>
          <p:spPr>
            <a:xfrm>
              <a:off x="5397480" y="2160720"/>
              <a:ext cx="49860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sat" descr=""/>
            <p:cNvPicPr/>
            <p:nvPr/>
          </p:nvPicPr>
          <p:blipFill>
            <a:blip r:embed="rId3"/>
            <a:stretch/>
          </p:blipFill>
          <p:spPr>
            <a:xfrm>
              <a:off x="6211800" y="1488960"/>
              <a:ext cx="97812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icloud" descr=""/>
            <p:cNvPicPr/>
            <p:nvPr/>
          </p:nvPicPr>
          <p:blipFill>
            <a:blip r:embed="rId4"/>
            <a:stretch/>
          </p:blipFill>
          <p:spPr>
            <a:xfrm>
              <a:off x="6324480" y="2743200"/>
              <a:ext cx="78120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60880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dish2" descr=""/>
            <p:cNvPicPr/>
            <p:nvPr/>
          </p:nvPicPr>
          <p:blipFill>
            <a:blip r:embed="rId5"/>
            <a:stretch/>
          </p:blipFill>
          <p:spPr>
            <a:xfrm>
              <a:off x="7421400" y="2163600"/>
              <a:ext cx="4953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76772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92680" y="1833480"/>
              <a:ext cx="893880" cy="3952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88160" y="1860480"/>
              <a:ext cx="792000" cy="3492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964120" y="2968560"/>
              <a:ext cx="39240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Atlanta" descr=""/>
            <p:cNvPicPr/>
            <p:nvPr/>
          </p:nvPicPr>
          <p:blipFill>
            <a:blip r:embed="rId6"/>
            <a:stretch/>
          </p:blipFill>
          <p:spPr>
            <a:xfrm>
              <a:off x="5067360" y="2637000"/>
              <a:ext cx="106200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874200" y="1574640"/>
              <a:ext cx="152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Satel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07400" y="236376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Down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31920" y="236376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p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20760" y="324180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Tele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21160" y="326700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ISPs/Corpo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13520" y="2604960"/>
              <a:ext cx="120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.S.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AA013640" descr=""/>
            <p:cNvPicPr/>
            <p:nvPr/>
          </p:nvPicPr>
          <p:blipFill>
            <a:blip r:embed="rId7"/>
            <a:srcRect l="0" t="542" r="11512" b="10378"/>
            <a:stretch/>
          </p:blipFill>
          <p:spPr>
            <a:xfrm>
              <a:off x="7251840" y="2635200"/>
              <a:ext cx="100152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"/>
          <p:cNvSpPr/>
          <p:nvPr/>
        </p:nvSpPr>
        <p:spPr>
          <a:xfrm>
            <a:off x="4978440" y="1638360"/>
            <a:ext cx="105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RotisSemiSerif"/>
              </a:rPr>
              <a:t>SPOT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FE6E-7C83-4CDE-B85B-2EFC3A17CFFD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851040" y="2108160"/>
            <a:ext cx="1962000" cy="2331360"/>
            <a:chOff x="851040" y="2108160"/>
            <a:chExt cx="1962000" cy="2331360"/>
          </a:xfrm>
        </p:grpSpPr>
        <p:sp>
          <p:nvSpPr>
            <p:cNvPr id="596" name=""/>
            <p:cNvSpPr/>
            <p:nvPr/>
          </p:nvSpPr>
          <p:spPr>
            <a:xfrm>
              <a:off x="851040" y="2108160"/>
              <a:ext cx="1962000" cy="2319120"/>
            </a:xfrm>
            <a:custGeom>
              <a:avLst/>
              <a:gdLst/>
              <a:ahLst/>
              <a:rect l="l" t="t" r="r" b="b"/>
              <a:pathLst>
                <a:path w="4927" h="6996">
                  <a:moveTo>
                    <a:pt x="1952" y="4991"/>
                  </a:moveTo>
                  <a:lnTo>
                    <a:pt x="1960" y="5051"/>
                  </a:lnTo>
                  <a:lnTo>
                    <a:pt x="1967" y="5109"/>
                  </a:lnTo>
                  <a:lnTo>
                    <a:pt x="1977" y="5166"/>
                  </a:lnTo>
                  <a:lnTo>
                    <a:pt x="1987" y="5222"/>
                  </a:lnTo>
                  <a:lnTo>
                    <a:pt x="1999" y="5277"/>
                  </a:lnTo>
                  <a:lnTo>
                    <a:pt x="2011" y="5331"/>
                  </a:lnTo>
                  <a:lnTo>
                    <a:pt x="2024" y="5385"/>
                  </a:lnTo>
                  <a:lnTo>
                    <a:pt x="2039" y="5437"/>
                  </a:lnTo>
                  <a:lnTo>
                    <a:pt x="2054" y="5489"/>
                  </a:lnTo>
                  <a:lnTo>
                    <a:pt x="2070" y="5540"/>
                  </a:lnTo>
                  <a:lnTo>
                    <a:pt x="2087" y="5590"/>
                  </a:lnTo>
                  <a:lnTo>
                    <a:pt x="2106" y="5640"/>
                  </a:lnTo>
                  <a:lnTo>
                    <a:pt x="2125" y="5690"/>
                  </a:lnTo>
                  <a:lnTo>
                    <a:pt x="2145" y="5738"/>
                  </a:lnTo>
                  <a:lnTo>
                    <a:pt x="2166" y="5787"/>
                  </a:lnTo>
                  <a:lnTo>
                    <a:pt x="2189" y="5836"/>
                  </a:lnTo>
                  <a:lnTo>
                    <a:pt x="2212" y="5885"/>
                  </a:lnTo>
                  <a:lnTo>
                    <a:pt x="2236" y="5933"/>
                  </a:lnTo>
                  <a:lnTo>
                    <a:pt x="2262" y="5981"/>
                  </a:lnTo>
                  <a:lnTo>
                    <a:pt x="2288" y="6030"/>
                  </a:lnTo>
                  <a:lnTo>
                    <a:pt x="2316" y="6078"/>
                  </a:lnTo>
                  <a:lnTo>
                    <a:pt x="2343" y="6127"/>
                  </a:lnTo>
                  <a:lnTo>
                    <a:pt x="2373" y="6177"/>
                  </a:lnTo>
                  <a:lnTo>
                    <a:pt x="2403" y="6226"/>
                  </a:lnTo>
                  <a:lnTo>
                    <a:pt x="2435" y="6276"/>
                  </a:lnTo>
                  <a:lnTo>
                    <a:pt x="2451" y="6302"/>
                  </a:lnTo>
                  <a:lnTo>
                    <a:pt x="2467" y="6327"/>
                  </a:lnTo>
                  <a:lnTo>
                    <a:pt x="2485" y="6353"/>
                  </a:lnTo>
                  <a:lnTo>
                    <a:pt x="2501" y="6380"/>
                  </a:lnTo>
                  <a:lnTo>
                    <a:pt x="2518" y="6405"/>
                  </a:lnTo>
                  <a:lnTo>
                    <a:pt x="2536" y="6431"/>
                  </a:lnTo>
                  <a:lnTo>
                    <a:pt x="2555" y="6456"/>
                  </a:lnTo>
                  <a:lnTo>
                    <a:pt x="2572" y="6481"/>
                  </a:lnTo>
                  <a:lnTo>
                    <a:pt x="2590" y="6507"/>
                  </a:lnTo>
                  <a:lnTo>
                    <a:pt x="2608" y="6532"/>
                  </a:lnTo>
                  <a:lnTo>
                    <a:pt x="2627" y="6557"/>
                  </a:lnTo>
                  <a:lnTo>
                    <a:pt x="2646" y="6581"/>
                  </a:lnTo>
                  <a:lnTo>
                    <a:pt x="2664" y="6606"/>
                  </a:lnTo>
                  <a:lnTo>
                    <a:pt x="2684" y="6630"/>
                  </a:lnTo>
                  <a:lnTo>
                    <a:pt x="2703" y="6652"/>
                  </a:lnTo>
                  <a:lnTo>
                    <a:pt x="2723" y="6676"/>
                  </a:lnTo>
                  <a:lnTo>
                    <a:pt x="2743" y="6698"/>
                  </a:lnTo>
                  <a:lnTo>
                    <a:pt x="2763" y="6720"/>
                  </a:lnTo>
                  <a:lnTo>
                    <a:pt x="2783" y="6741"/>
                  </a:lnTo>
                  <a:lnTo>
                    <a:pt x="2804" y="6762"/>
                  </a:lnTo>
                  <a:lnTo>
                    <a:pt x="2824" y="6782"/>
                  </a:lnTo>
                  <a:lnTo>
                    <a:pt x="2846" y="6802"/>
                  </a:lnTo>
                  <a:lnTo>
                    <a:pt x="2867" y="6821"/>
                  </a:lnTo>
                  <a:lnTo>
                    <a:pt x="2887" y="6838"/>
                  </a:lnTo>
                  <a:lnTo>
                    <a:pt x="2908" y="6856"/>
                  </a:lnTo>
                  <a:lnTo>
                    <a:pt x="2931" y="6872"/>
                  </a:lnTo>
                  <a:lnTo>
                    <a:pt x="2952" y="6888"/>
                  </a:lnTo>
                  <a:lnTo>
                    <a:pt x="2973" y="6903"/>
                  </a:lnTo>
                  <a:lnTo>
                    <a:pt x="2996" y="6917"/>
                  </a:lnTo>
                  <a:lnTo>
                    <a:pt x="3017" y="6930"/>
                  </a:lnTo>
                  <a:lnTo>
                    <a:pt x="3039" y="6941"/>
                  </a:lnTo>
                  <a:lnTo>
                    <a:pt x="3062" y="6952"/>
                  </a:lnTo>
                  <a:lnTo>
                    <a:pt x="3084" y="6962"/>
                  </a:lnTo>
                  <a:lnTo>
                    <a:pt x="3107" y="6970"/>
                  </a:lnTo>
                  <a:lnTo>
                    <a:pt x="3129" y="6977"/>
                  </a:lnTo>
                  <a:lnTo>
                    <a:pt x="3152" y="6983"/>
                  </a:lnTo>
                  <a:lnTo>
                    <a:pt x="3169" y="6987"/>
                  </a:lnTo>
                  <a:lnTo>
                    <a:pt x="3188" y="6991"/>
                  </a:lnTo>
                  <a:lnTo>
                    <a:pt x="3205" y="6993"/>
                  </a:lnTo>
                  <a:lnTo>
                    <a:pt x="3223" y="6995"/>
                  </a:lnTo>
                  <a:lnTo>
                    <a:pt x="3240" y="6996"/>
                  </a:lnTo>
                  <a:lnTo>
                    <a:pt x="3259" y="6996"/>
                  </a:lnTo>
                  <a:lnTo>
                    <a:pt x="3277" y="6996"/>
                  </a:lnTo>
                  <a:lnTo>
                    <a:pt x="3294" y="6996"/>
                  </a:lnTo>
                  <a:lnTo>
                    <a:pt x="3313" y="6993"/>
                  </a:lnTo>
                  <a:lnTo>
                    <a:pt x="3330" y="6992"/>
                  </a:lnTo>
                  <a:lnTo>
                    <a:pt x="3348" y="6990"/>
                  </a:lnTo>
                  <a:lnTo>
                    <a:pt x="3367" y="6986"/>
                  </a:lnTo>
                  <a:lnTo>
                    <a:pt x="3384" y="6982"/>
                  </a:lnTo>
                  <a:lnTo>
                    <a:pt x="3403" y="6977"/>
                  </a:lnTo>
                  <a:lnTo>
                    <a:pt x="3420" y="6973"/>
                  </a:lnTo>
                  <a:lnTo>
                    <a:pt x="3439" y="6967"/>
                  </a:lnTo>
                  <a:lnTo>
                    <a:pt x="3456" y="6962"/>
                  </a:lnTo>
                  <a:lnTo>
                    <a:pt x="3474" y="6955"/>
                  </a:lnTo>
                  <a:lnTo>
                    <a:pt x="3493" y="6948"/>
                  </a:lnTo>
                  <a:lnTo>
                    <a:pt x="3510" y="6941"/>
                  </a:lnTo>
                  <a:lnTo>
                    <a:pt x="3528" y="6933"/>
                  </a:lnTo>
                  <a:lnTo>
                    <a:pt x="3545" y="6925"/>
                  </a:lnTo>
                  <a:lnTo>
                    <a:pt x="3564" y="6917"/>
                  </a:lnTo>
                  <a:lnTo>
                    <a:pt x="3581" y="6908"/>
                  </a:lnTo>
                  <a:lnTo>
                    <a:pt x="3599" y="6898"/>
                  </a:lnTo>
                  <a:lnTo>
                    <a:pt x="3616" y="6888"/>
                  </a:lnTo>
                  <a:lnTo>
                    <a:pt x="3634" y="6878"/>
                  </a:lnTo>
                  <a:lnTo>
                    <a:pt x="3651" y="6868"/>
                  </a:lnTo>
                  <a:lnTo>
                    <a:pt x="3668" y="6858"/>
                  </a:lnTo>
                  <a:lnTo>
                    <a:pt x="3685" y="6847"/>
                  </a:lnTo>
                  <a:lnTo>
                    <a:pt x="3703" y="6836"/>
                  </a:lnTo>
                  <a:lnTo>
                    <a:pt x="3719" y="6825"/>
                  </a:lnTo>
                  <a:lnTo>
                    <a:pt x="3736" y="6812"/>
                  </a:lnTo>
                  <a:lnTo>
                    <a:pt x="3753" y="6801"/>
                  </a:lnTo>
                  <a:lnTo>
                    <a:pt x="3770" y="6788"/>
                  </a:lnTo>
                  <a:lnTo>
                    <a:pt x="3786" y="6776"/>
                  </a:lnTo>
                  <a:lnTo>
                    <a:pt x="3820" y="6750"/>
                  </a:lnTo>
                  <a:lnTo>
                    <a:pt x="3854" y="6722"/>
                  </a:lnTo>
                  <a:lnTo>
                    <a:pt x="3886" y="6693"/>
                  </a:lnTo>
                  <a:lnTo>
                    <a:pt x="3919" y="6665"/>
                  </a:lnTo>
                  <a:lnTo>
                    <a:pt x="3950" y="6636"/>
                  </a:lnTo>
                  <a:lnTo>
                    <a:pt x="3981" y="6605"/>
                  </a:lnTo>
                  <a:lnTo>
                    <a:pt x="4012" y="6575"/>
                  </a:lnTo>
                  <a:lnTo>
                    <a:pt x="4042" y="6542"/>
                  </a:lnTo>
                  <a:lnTo>
                    <a:pt x="4072" y="6510"/>
                  </a:lnTo>
                  <a:lnTo>
                    <a:pt x="4102" y="6477"/>
                  </a:lnTo>
                  <a:lnTo>
                    <a:pt x="4132" y="6443"/>
                  </a:lnTo>
                  <a:lnTo>
                    <a:pt x="4161" y="6408"/>
                  </a:lnTo>
                  <a:lnTo>
                    <a:pt x="4190" y="6375"/>
                  </a:lnTo>
                  <a:lnTo>
                    <a:pt x="4218" y="6338"/>
                  </a:lnTo>
                  <a:lnTo>
                    <a:pt x="4247" y="6302"/>
                  </a:lnTo>
                  <a:lnTo>
                    <a:pt x="4275" y="6266"/>
                  </a:lnTo>
                  <a:lnTo>
                    <a:pt x="4303" y="6230"/>
                  </a:lnTo>
                  <a:lnTo>
                    <a:pt x="4331" y="6192"/>
                  </a:lnTo>
                  <a:lnTo>
                    <a:pt x="4358" y="6153"/>
                  </a:lnTo>
                  <a:lnTo>
                    <a:pt x="4386" y="6116"/>
                  </a:lnTo>
                  <a:lnTo>
                    <a:pt x="4413" y="6076"/>
                  </a:lnTo>
                  <a:lnTo>
                    <a:pt x="4441" y="6037"/>
                  </a:lnTo>
                  <a:lnTo>
                    <a:pt x="4463" y="6005"/>
                  </a:lnTo>
                  <a:lnTo>
                    <a:pt x="4486" y="5972"/>
                  </a:lnTo>
                  <a:lnTo>
                    <a:pt x="4507" y="5940"/>
                  </a:lnTo>
                  <a:lnTo>
                    <a:pt x="4529" y="5906"/>
                  </a:lnTo>
                  <a:lnTo>
                    <a:pt x="4552" y="5873"/>
                  </a:lnTo>
                  <a:lnTo>
                    <a:pt x="4573" y="5840"/>
                  </a:lnTo>
                  <a:lnTo>
                    <a:pt x="4594" y="5806"/>
                  </a:lnTo>
                  <a:lnTo>
                    <a:pt x="4616" y="5772"/>
                  </a:lnTo>
                  <a:lnTo>
                    <a:pt x="4636" y="5738"/>
                  </a:lnTo>
                  <a:lnTo>
                    <a:pt x="4657" y="5705"/>
                  </a:lnTo>
                  <a:lnTo>
                    <a:pt x="4677" y="5670"/>
                  </a:lnTo>
                  <a:lnTo>
                    <a:pt x="4696" y="5636"/>
                  </a:lnTo>
                  <a:lnTo>
                    <a:pt x="4714" y="5601"/>
                  </a:lnTo>
                  <a:lnTo>
                    <a:pt x="4733" y="5566"/>
                  </a:lnTo>
                  <a:lnTo>
                    <a:pt x="4751" y="5532"/>
                  </a:lnTo>
                  <a:lnTo>
                    <a:pt x="4768" y="5497"/>
                  </a:lnTo>
                  <a:lnTo>
                    <a:pt x="4784" y="5462"/>
                  </a:lnTo>
                  <a:lnTo>
                    <a:pt x="4801" y="5427"/>
                  </a:lnTo>
                  <a:lnTo>
                    <a:pt x="4816" y="5392"/>
                  </a:lnTo>
                  <a:lnTo>
                    <a:pt x="4831" y="5357"/>
                  </a:lnTo>
                  <a:lnTo>
                    <a:pt x="4843" y="5322"/>
                  </a:lnTo>
                  <a:lnTo>
                    <a:pt x="4856" y="5287"/>
                  </a:lnTo>
                  <a:lnTo>
                    <a:pt x="4868" y="5252"/>
                  </a:lnTo>
                  <a:lnTo>
                    <a:pt x="4878" y="5217"/>
                  </a:lnTo>
                  <a:lnTo>
                    <a:pt x="4888" y="5184"/>
                  </a:lnTo>
                  <a:lnTo>
                    <a:pt x="4897" y="5149"/>
                  </a:lnTo>
                  <a:lnTo>
                    <a:pt x="4904" y="5114"/>
                  </a:lnTo>
                  <a:lnTo>
                    <a:pt x="4912" y="5079"/>
                  </a:lnTo>
                  <a:lnTo>
                    <a:pt x="4917" y="5044"/>
                  </a:lnTo>
                  <a:lnTo>
                    <a:pt x="4922" y="5010"/>
                  </a:lnTo>
                  <a:lnTo>
                    <a:pt x="4924" y="4975"/>
                  </a:lnTo>
                  <a:lnTo>
                    <a:pt x="4925" y="4941"/>
                  </a:lnTo>
                  <a:lnTo>
                    <a:pt x="4927" y="4906"/>
                  </a:lnTo>
                  <a:lnTo>
                    <a:pt x="4925" y="4872"/>
                  </a:lnTo>
                  <a:lnTo>
                    <a:pt x="4923" y="4839"/>
                  </a:lnTo>
                  <a:lnTo>
                    <a:pt x="4920" y="4805"/>
                  </a:lnTo>
                  <a:lnTo>
                    <a:pt x="4915" y="4771"/>
                  </a:lnTo>
                  <a:lnTo>
                    <a:pt x="4908" y="4737"/>
                  </a:lnTo>
                  <a:lnTo>
                    <a:pt x="4903" y="4716"/>
                  </a:lnTo>
                  <a:lnTo>
                    <a:pt x="4898" y="4695"/>
                  </a:lnTo>
                  <a:lnTo>
                    <a:pt x="4892" y="4674"/>
                  </a:lnTo>
                  <a:lnTo>
                    <a:pt x="4884" y="4654"/>
                  </a:lnTo>
                  <a:lnTo>
                    <a:pt x="4878" y="4632"/>
                  </a:lnTo>
                  <a:lnTo>
                    <a:pt x="4869" y="4611"/>
                  </a:lnTo>
                  <a:lnTo>
                    <a:pt x="4862" y="4591"/>
                  </a:lnTo>
                  <a:lnTo>
                    <a:pt x="4852" y="4570"/>
                  </a:lnTo>
                  <a:lnTo>
                    <a:pt x="4843" y="4550"/>
                  </a:lnTo>
                  <a:lnTo>
                    <a:pt x="4833" y="4530"/>
                  </a:lnTo>
                  <a:lnTo>
                    <a:pt x="4822" y="4510"/>
                  </a:lnTo>
                  <a:lnTo>
                    <a:pt x="4812" y="4489"/>
                  </a:lnTo>
                  <a:lnTo>
                    <a:pt x="4801" y="4469"/>
                  </a:lnTo>
                  <a:lnTo>
                    <a:pt x="4788" y="4449"/>
                  </a:lnTo>
                  <a:lnTo>
                    <a:pt x="4776" y="4430"/>
                  </a:lnTo>
                  <a:lnTo>
                    <a:pt x="4763" y="4410"/>
                  </a:lnTo>
                  <a:lnTo>
                    <a:pt x="4751" y="4390"/>
                  </a:lnTo>
                  <a:lnTo>
                    <a:pt x="4737" y="4370"/>
                  </a:lnTo>
                  <a:lnTo>
                    <a:pt x="4723" y="4351"/>
                  </a:lnTo>
                  <a:lnTo>
                    <a:pt x="4709" y="4333"/>
                  </a:lnTo>
                  <a:lnTo>
                    <a:pt x="4694" y="4313"/>
                  </a:lnTo>
                  <a:lnTo>
                    <a:pt x="4679" y="4294"/>
                  </a:lnTo>
                  <a:lnTo>
                    <a:pt x="4664" y="4275"/>
                  </a:lnTo>
                  <a:lnTo>
                    <a:pt x="4649" y="4256"/>
                  </a:lnTo>
                  <a:lnTo>
                    <a:pt x="4633" y="4238"/>
                  </a:lnTo>
                  <a:lnTo>
                    <a:pt x="4617" y="4219"/>
                  </a:lnTo>
                  <a:lnTo>
                    <a:pt x="4601" y="4201"/>
                  </a:lnTo>
                  <a:lnTo>
                    <a:pt x="4584" y="4183"/>
                  </a:lnTo>
                  <a:lnTo>
                    <a:pt x="4568" y="4165"/>
                  </a:lnTo>
                  <a:lnTo>
                    <a:pt x="4551" y="4148"/>
                  </a:lnTo>
                  <a:lnTo>
                    <a:pt x="4533" y="4129"/>
                  </a:lnTo>
                  <a:lnTo>
                    <a:pt x="4517" y="4111"/>
                  </a:lnTo>
                  <a:lnTo>
                    <a:pt x="4500" y="4094"/>
                  </a:lnTo>
                  <a:lnTo>
                    <a:pt x="4481" y="4078"/>
                  </a:lnTo>
                  <a:lnTo>
                    <a:pt x="4463" y="4060"/>
                  </a:lnTo>
                  <a:lnTo>
                    <a:pt x="4446" y="4043"/>
                  </a:lnTo>
                  <a:lnTo>
                    <a:pt x="4427" y="4026"/>
                  </a:lnTo>
                  <a:lnTo>
                    <a:pt x="4410" y="4010"/>
                  </a:lnTo>
                  <a:lnTo>
                    <a:pt x="4381" y="3984"/>
                  </a:lnTo>
                  <a:lnTo>
                    <a:pt x="4353" y="3960"/>
                  </a:lnTo>
                  <a:lnTo>
                    <a:pt x="4325" y="3935"/>
                  </a:lnTo>
                  <a:lnTo>
                    <a:pt x="4296" y="3910"/>
                  </a:lnTo>
                  <a:lnTo>
                    <a:pt x="4267" y="3886"/>
                  </a:lnTo>
                  <a:lnTo>
                    <a:pt x="4238" y="3863"/>
                  </a:lnTo>
                  <a:lnTo>
                    <a:pt x="4210" y="3840"/>
                  </a:lnTo>
                  <a:lnTo>
                    <a:pt x="4181" y="3816"/>
                  </a:lnTo>
                  <a:lnTo>
                    <a:pt x="4152" y="3794"/>
                  </a:lnTo>
                  <a:lnTo>
                    <a:pt x="4124" y="3770"/>
                  </a:lnTo>
                  <a:lnTo>
                    <a:pt x="4095" y="3748"/>
                  </a:lnTo>
                  <a:lnTo>
                    <a:pt x="4066" y="3725"/>
                  </a:lnTo>
                  <a:lnTo>
                    <a:pt x="4037" y="3704"/>
                  </a:lnTo>
                  <a:lnTo>
                    <a:pt x="4010" y="3681"/>
                  </a:lnTo>
                  <a:lnTo>
                    <a:pt x="3982" y="3659"/>
                  </a:lnTo>
                  <a:lnTo>
                    <a:pt x="3954" y="3636"/>
                  </a:lnTo>
                  <a:lnTo>
                    <a:pt x="3927" y="3615"/>
                  </a:lnTo>
                  <a:lnTo>
                    <a:pt x="3900" y="3593"/>
                  </a:lnTo>
                  <a:lnTo>
                    <a:pt x="3874" y="3570"/>
                  </a:lnTo>
                  <a:lnTo>
                    <a:pt x="3847" y="3549"/>
                  </a:lnTo>
                  <a:lnTo>
                    <a:pt x="3821" y="3526"/>
                  </a:lnTo>
                  <a:lnTo>
                    <a:pt x="3796" y="3504"/>
                  </a:lnTo>
                  <a:lnTo>
                    <a:pt x="3771" y="3481"/>
                  </a:lnTo>
                  <a:lnTo>
                    <a:pt x="3748" y="3459"/>
                  </a:lnTo>
                  <a:lnTo>
                    <a:pt x="3723" y="3436"/>
                  </a:lnTo>
                  <a:lnTo>
                    <a:pt x="3700" y="3414"/>
                  </a:lnTo>
                  <a:lnTo>
                    <a:pt x="3678" y="3390"/>
                  </a:lnTo>
                  <a:lnTo>
                    <a:pt x="3655" y="3368"/>
                  </a:lnTo>
                  <a:lnTo>
                    <a:pt x="3634" y="3344"/>
                  </a:lnTo>
                  <a:lnTo>
                    <a:pt x="3614" y="3320"/>
                  </a:lnTo>
                  <a:lnTo>
                    <a:pt x="3594" y="3295"/>
                  </a:lnTo>
                  <a:lnTo>
                    <a:pt x="3575" y="3271"/>
                  </a:lnTo>
                  <a:lnTo>
                    <a:pt x="3556" y="3246"/>
                  </a:lnTo>
                  <a:lnTo>
                    <a:pt x="3539" y="3221"/>
                  </a:lnTo>
                  <a:lnTo>
                    <a:pt x="3523" y="3195"/>
                  </a:lnTo>
                  <a:lnTo>
                    <a:pt x="3506" y="3169"/>
                  </a:lnTo>
                  <a:lnTo>
                    <a:pt x="3491" y="3143"/>
                  </a:lnTo>
                  <a:lnTo>
                    <a:pt x="3478" y="3116"/>
                  </a:lnTo>
                  <a:lnTo>
                    <a:pt x="3465" y="3089"/>
                  </a:lnTo>
                  <a:lnTo>
                    <a:pt x="3454" y="3060"/>
                  </a:lnTo>
                  <a:lnTo>
                    <a:pt x="3443" y="3033"/>
                  </a:lnTo>
                  <a:lnTo>
                    <a:pt x="3433" y="3000"/>
                  </a:lnTo>
                  <a:lnTo>
                    <a:pt x="3423" y="2968"/>
                  </a:lnTo>
                  <a:lnTo>
                    <a:pt x="3415" y="2934"/>
                  </a:lnTo>
                  <a:lnTo>
                    <a:pt x="3408" y="2900"/>
                  </a:lnTo>
                  <a:lnTo>
                    <a:pt x="3403" y="2865"/>
                  </a:lnTo>
                  <a:lnTo>
                    <a:pt x="3398" y="2830"/>
                  </a:lnTo>
                  <a:lnTo>
                    <a:pt x="3394" y="2795"/>
                  </a:lnTo>
                  <a:lnTo>
                    <a:pt x="3391" y="2759"/>
                  </a:lnTo>
                  <a:lnTo>
                    <a:pt x="3389" y="2722"/>
                  </a:lnTo>
                  <a:lnTo>
                    <a:pt x="3389" y="2684"/>
                  </a:lnTo>
                  <a:lnTo>
                    <a:pt x="3389" y="2647"/>
                  </a:lnTo>
                  <a:lnTo>
                    <a:pt x="3389" y="2608"/>
                  </a:lnTo>
                  <a:lnTo>
                    <a:pt x="3390" y="2569"/>
                  </a:lnTo>
                  <a:lnTo>
                    <a:pt x="3393" y="2530"/>
                  </a:lnTo>
                  <a:lnTo>
                    <a:pt x="3395" y="2490"/>
                  </a:lnTo>
                  <a:lnTo>
                    <a:pt x="3399" y="2450"/>
                  </a:lnTo>
                  <a:lnTo>
                    <a:pt x="3403" y="2410"/>
                  </a:lnTo>
                  <a:lnTo>
                    <a:pt x="3408" y="2369"/>
                  </a:lnTo>
                  <a:lnTo>
                    <a:pt x="3413" y="2328"/>
                  </a:lnTo>
                  <a:lnTo>
                    <a:pt x="3418" y="2287"/>
                  </a:lnTo>
                  <a:lnTo>
                    <a:pt x="3423" y="2244"/>
                  </a:lnTo>
                  <a:lnTo>
                    <a:pt x="3429" y="2202"/>
                  </a:lnTo>
                  <a:lnTo>
                    <a:pt x="3435" y="2159"/>
                  </a:lnTo>
                  <a:lnTo>
                    <a:pt x="3441" y="2117"/>
                  </a:lnTo>
                  <a:lnTo>
                    <a:pt x="3449" y="2074"/>
                  </a:lnTo>
                  <a:lnTo>
                    <a:pt x="3455" y="2030"/>
                  </a:lnTo>
                  <a:lnTo>
                    <a:pt x="3461" y="1988"/>
                  </a:lnTo>
                  <a:lnTo>
                    <a:pt x="3469" y="1944"/>
                  </a:lnTo>
                  <a:lnTo>
                    <a:pt x="3475" y="1900"/>
                  </a:lnTo>
                  <a:lnTo>
                    <a:pt x="3483" y="1857"/>
                  </a:lnTo>
                  <a:lnTo>
                    <a:pt x="3489" y="1812"/>
                  </a:lnTo>
                  <a:lnTo>
                    <a:pt x="3495" y="1768"/>
                  </a:lnTo>
                  <a:lnTo>
                    <a:pt x="3501" y="1724"/>
                  </a:lnTo>
                  <a:lnTo>
                    <a:pt x="3506" y="1679"/>
                  </a:lnTo>
                  <a:lnTo>
                    <a:pt x="3513" y="1636"/>
                  </a:lnTo>
                  <a:lnTo>
                    <a:pt x="3518" y="1591"/>
                  </a:lnTo>
                  <a:lnTo>
                    <a:pt x="3523" y="1547"/>
                  </a:lnTo>
                  <a:lnTo>
                    <a:pt x="3526" y="1502"/>
                  </a:lnTo>
                  <a:lnTo>
                    <a:pt x="3530" y="1458"/>
                  </a:lnTo>
                  <a:lnTo>
                    <a:pt x="3534" y="1413"/>
                  </a:lnTo>
                  <a:lnTo>
                    <a:pt x="3536" y="1369"/>
                  </a:lnTo>
                  <a:lnTo>
                    <a:pt x="3538" y="1348"/>
                  </a:lnTo>
                  <a:lnTo>
                    <a:pt x="3539" y="1328"/>
                  </a:lnTo>
                  <a:lnTo>
                    <a:pt x="3539" y="1308"/>
                  </a:lnTo>
                  <a:lnTo>
                    <a:pt x="3540" y="1288"/>
                  </a:lnTo>
                  <a:lnTo>
                    <a:pt x="3540" y="1267"/>
                  </a:lnTo>
                  <a:lnTo>
                    <a:pt x="3540" y="1247"/>
                  </a:lnTo>
                  <a:lnTo>
                    <a:pt x="3540" y="1227"/>
                  </a:lnTo>
                  <a:lnTo>
                    <a:pt x="3540" y="1207"/>
                  </a:lnTo>
                  <a:lnTo>
                    <a:pt x="3540" y="1187"/>
                  </a:lnTo>
                  <a:lnTo>
                    <a:pt x="3539" y="1167"/>
                  </a:lnTo>
                  <a:lnTo>
                    <a:pt x="3539" y="1147"/>
                  </a:lnTo>
                  <a:lnTo>
                    <a:pt x="3538" y="1127"/>
                  </a:lnTo>
                  <a:lnTo>
                    <a:pt x="3536" y="1107"/>
                  </a:lnTo>
                  <a:lnTo>
                    <a:pt x="3535" y="1088"/>
                  </a:lnTo>
                  <a:lnTo>
                    <a:pt x="3534" y="1068"/>
                  </a:lnTo>
                  <a:lnTo>
                    <a:pt x="3533" y="1049"/>
                  </a:lnTo>
                  <a:lnTo>
                    <a:pt x="3530" y="1029"/>
                  </a:lnTo>
                  <a:lnTo>
                    <a:pt x="3529" y="1011"/>
                  </a:lnTo>
                  <a:lnTo>
                    <a:pt x="3526" y="992"/>
                  </a:lnTo>
                  <a:lnTo>
                    <a:pt x="3524" y="973"/>
                  </a:lnTo>
                  <a:lnTo>
                    <a:pt x="3520" y="953"/>
                  </a:lnTo>
                  <a:lnTo>
                    <a:pt x="3518" y="936"/>
                  </a:lnTo>
                  <a:lnTo>
                    <a:pt x="3514" y="917"/>
                  </a:lnTo>
                  <a:lnTo>
                    <a:pt x="3511" y="898"/>
                  </a:lnTo>
                  <a:lnTo>
                    <a:pt x="3508" y="881"/>
                  </a:lnTo>
                  <a:lnTo>
                    <a:pt x="3503" y="862"/>
                  </a:lnTo>
                  <a:lnTo>
                    <a:pt x="3499" y="844"/>
                  </a:lnTo>
                  <a:lnTo>
                    <a:pt x="3494" y="827"/>
                  </a:lnTo>
                  <a:lnTo>
                    <a:pt x="3489" y="809"/>
                  </a:lnTo>
                  <a:lnTo>
                    <a:pt x="3484" y="792"/>
                  </a:lnTo>
                  <a:lnTo>
                    <a:pt x="3479" y="774"/>
                  </a:lnTo>
                  <a:lnTo>
                    <a:pt x="3473" y="758"/>
                  </a:lnTo>
                  <a:lnTo>
                    <a:pt x="3468" y="742"/>
                  </a:lnTo>
                  <a:lnTo>
                    <a:pt x="3461" y="724"/>
                  </a:lnTo>
                  <a:lnTo>
                    <a:pt x="3454" y="709"/>
                  </a:lnTo>
                  <a:lnTo>
                    <a:pt x="3448" y="693"/>
                  </a:lnTo>
                  <a:lnTo>
                    <a:pt x="3440" y="677"/>
                  </a:lnTo>
                  <a:lnTo>
                    <a:pt x="3433" y="662"/>
                  </a:lnTo>
                  <a:lnTo>
                    <a:pt x="3415" y="629"/>
                  </a:lnTo>
                  <a:lnTo>
                    <a:pt x="3398" y="599"/>
                  </a:lnTo>
                  <a:lnTo>
                    <a:pt x="3378" y="569"/>
                  </a:lnTo>
                  <a:lnTo>
                    <a:pt x="3357" y="541"/>
                  </a:lnTo>
                  <a:lnTo>
                    <a:pt x="3334" y="513"/>
                  </a:lnTo>
                  <a:lnTo>
                    <a:pt x="3312" y="486"/>
                  </a:lnTo>
                  <a:lnTo>
                    <a:pt x="3287" y="461"/>
                  </a:lnTo>
                  <a:lnTo>
                    <a:pt x="3260" y="436"/>
                  </a:lnTo>
                  <a:lnTo>
                    <a:pt x="3234" y="412"/>
                  </a:lnTo>
                  <a:lnTo>
                    <a:pt x="3205" y="390"/>
                  </a:lnTo>
                  <a:lnTo>
                    <a:pt x="3177" y="367"/>
                  </a:lnTo>
                  <a:lnTo>
                    <a:pt x="3147" y="346"/>
                  </a:lnTo>
                  <a:lnTo>
                    <a:pt x="3115" y="326"/>
                  </a:lnTo>
                  <a:lnTo>
                    <a:pt x="3083" y="307"/>
                  </a:lnTo>
                  <a:lnTo>
                    <a:pt x="3050" y="288"/>
                  </a:lnTo>
                  <a:lnTo>
                    <a:pt x="3017" y="271"/>
                  </a:lnTo>
                  <a:lnTo>
                    <a:pt x="2983" y="253"/>
                  </a:lnTo>
                  <a:lnTo>
                    <a:pt x="2947" y="237"/>
                  </a:lnTo>
                  <a:lnTo>
                    <a:pt x="2912" y="222"/>
                  </a:lnTo>
                  <a:lnTo>
                    <a:pt x="2874" y="207"/>
                  </a:lnTo>
                  <a:lnTo>
                    <a:pt x="2837" y="193"/>
                  </a:lnTo>
                  <a:lnTo>
                    <a:pt x="2799" y="180"/>
                  </a:lnTo>
                  <a:lnTo>
                    <a:pt x="2761" y="167"/>
                  </a:lnTo>
                  <a:lnTo>
                    <a:pt x="2722" y="155"/>
                  </a:lnTo>
                  <a:lnTo>
                    <a:pt x="2683" y="143"/>
                  </a:lnTo>
                  <a:lnTo>
                    <a:pt x="2643" y="132"/>
                  </a:lnTo>
                  <a:lnTo>
                    <a:pt x="2602" y="121"/>
                  </a:lnTo>
                  <a:lnTo>
                    <a:pt x="2562" y="112"/>
                  </a:lnTo>
                  <a:lnTo>
                    <a:pt x="2521" y="102"/>
                  </a:lnTo>
                  <a:lnTo>
                    <a:pt x="2480" y="93"/>
                  </a:lnTo>
                  <a:lnTo>
                    <a:pt x="2438" y="85"/>
                  </a:lnTo>
                  <a:lnTo>
                    <a:pt x="2396" y="77"/>
                  </a:lnTo>
                  <a:lnTo>
                    <a:pt x="2355" y="70"/>
                  </a:lnTo>
                  <a:lnTo>
                    <a:pt x="2312" y="62"/>
                  </a:lnTo>
                  <a:lnTo>
                    <a:pt x="2270" y="56"/>
                  </a:lnTo>
                  <a:lnTo>
                    <a:pt x="2229" y="50"/>
                  </a:lnTo>
                  <a:lnTo>
                    <a:pt x="2186" y="43"/>
                  </a:lnTo>
                  <a:lnTo>
                    <a:pt x="2144" y="38"/>
                  </a:lnTo>
                  <a:lnTo>
                    <a:pt x="2092" y="31"/>
                  </a:lnTo>
                  <a:lnTo>
                    <a:pt x="2040" y="26"/>
                  </a:lnTo>
                  <a:lnTo>
                    <a:pt x="1989" y="20"/>
                  </a:lnTo>
                  <a:lnTo>
                    <a:pt x="1937" y="15"/>
                  </a:lnTo>
                  <a:lnTo>
                    <a:pt x="1886" y="11"/>
                  </a:lnTo>
                  <a:lnTo>
                    <a:pt x="1835" y="7"/>
                  </a:lnTo>
                  <a:lnTo>
                    <a:pt x="1785" y="5"/>
                  </a:lnTo>
                  <a:lnTo>
                    <a:pt x="1734" y="2"/>
                  </a:lnTo>
                  <a:lnTo>
                    <a:pt x="1684" y="0"/>
                  </a:lnTo>
                  <a:lnTo>
                    <a:pt x="1633" y="0"/>
                  </a:lnTo>
                  <a:lnTo>
                    <a:pt x="1583" y="0"/>
                  </a:lnTo>
                  <a:lnTo>
                    <a:pt x="1534" y="0"/>
                  </a:lnTo>
                  <a:lnTo>
                    <a:pt x="1484" y="2"/>
                  </a:lnTo>
                  <a:lnTo>
                    <a:pt x="1435" y="5"/>
                  </a:lnTo>
                  <a:lnTo>
                    <a:pt x="1385" y="7"/>
                  </a:lnTo>
                  <a:lnTo>
                    <a:pt x="1337" y="12"/>
                  </a:lnTo>
                  <a:lnTo>
                    <a:pt x="1289" y="17"/>
                  </a:lnTo>
                  <a:lnTo>
                    <a:pt x="1240" y="23"/>
                  </a:lnTo>
                  <a:lnTo>
                    <a:pt x="1193" y="31"/>
                  </a:lnTo>
                  <a:lnTo>
                    <a:pt x="1145" y="40"/>
                  </a:lnTo>
                  <a:lnTo>
                    <a:pt x="1098" y="48"/>
                  </a:lnTo>
                  <a:lnTo>
                    <a:pt x="1052" y="60"/>
                  </a:lnTo>
                  <a:lnTo>
                    <a:pt x="1006" y="72"/>
                  </a:lnTo>
                  <a:lnTo>
                    <a:pt x="959" y="85"/>
                  </a:lnTo>
                  <a:lnTo>
                    <a:pt x="913" y="98"/>
                  </a:lnTo>
                  <a:lnTo>
                    <a:pt x="868" y="115"/>
                  </a:lnTo>
                  <a:lnTo>
                    <a:pt x="824" y="131"/>
                  </a:lnTo>
                  <a:lnTo>
                    <a:pt x="796" y="142"/>
                  </a:lnTo>
                  <a:lnTo>
                    <a:pt x="768" y="155"/>
                  </a:lnTo>
                  <a:lnTo>
                    <a:pt x="741" y="166"/>
                  </a:lnTo>
                  <a:lnTo>
                    <a:pt x="715" y="180"/>
                  </a:lnTo>
                  <a:lnTo>
                    <a:pt x="687" y="192"/>
                  </a:lnTo>
                  <a:lnTo>
                    <a:pt x="661" y="206"/>
                  </a:lnTo>
                  <a:lnTo>
                    <a:pt x="635" y="221"/>
                  </a:lnTo>
                  <a:lnTo>
                    <a:pt x="608" y="236"/>
                  </a:lnTo>
                  <a:lnTo>
                    <a:pt x="582" y="251"/>
                  </a:lnTo>
                  <a:lnTo>
                    <a:pt x="557" y="267"/>
                  </a:lnTo>
                  <a:lnTo>
                    <a:pt x="532" y="283"/>
                  </a:lnTo>
                  <a:lnTo>
                    <a:pt x="507" y="300"/>
                  </a:lnTo>
                  <a:lnTo>
                    <a:pt x="483" y="318"/>
                  </a:lnTo>
                  <a:lnTo>
                    <a:pt x="458" y="336"/>
                  </a:lnTo>
                  <a:lnTo>
                    <a:pt x="435" y="355"/>
                  </a:lnTo>
                  <a:lnTo>
                    <a:pt x="412" y="373"/>
                  </a:lnTo>
                  <a:lnTo>
                    <a:pt x="390" y="393"/>
                  </a:lnTo>
                  <a:lnTo>
                    <a:pt x="367" y="413"/>
                  </a:lnTo>
                  <a:lnTo>
                    <a:pt x="345" y="435"/>
                  </a:lnTo>
                  <a:lnTo>
                    <a:pt x="324" y="456"/>
                  </a:lnTo>
                  <a:lnTo>
                    <a:pt x="304" y="477"/>
                  </a:lnTo>
                  <a:lnTo>
                    <a:pt x="284" y="499"/>
                  </a:lnTo>
                  <a:lnTo>
                    <a:pt x="264" y="523"/>
                  </a:lnTo>
                  <a:lnTo>
                    <a:pt x="244" y="546"/>
                  </a:lnTo>
                  <a:lnTo>
                    <a:pt x="225" y="571"/>
                  </a:lnTo>
                  <a:lnTo>
                    <a:pt x="207" y="594"/>
                  </a:lnTo>
                  <a:lnTo>
                    <a:pt x="190" y="621"/>
                  </a:lnTo>
                  <a:lnTo>
                    <a:pt x="179" y="638"/>
                  </a:lnTo>
                  <a:lnTo>
                    <a:pt x="166" y="657"/>
                  </a:lnTo>
                  <a:lnTo>
                    <a:pt x="155" y="676"/>
                  </a:lnTo>
                  <a:lnTo>
                    <a:pt x="144" y="694"/>
                  </a:lnTo>
                  <a:lnTo>
                    <a:pt x="134" y="713"/>
                  </a:lnTo>
                  <a:lnTo>
                    <a:pt x="124" y="733"/>
                  </a:lnTo>
                  <a:lnTo>
                    <a:pt x="114" y="753"/>
                  </a:lnTo>
                  <a:lnTo>
                    <a:pt x="104" y="773"/>
                  </a:lnTo>
                  <a:lnTo>
                    <a:pt x="95" y="793"/>
                  </a:lnTo>
                  <a:lnTo>
                    <a:pt x="86" y="813"/>
                  </a:lnTo>
                  <a:lnTo>
                    <a:pt x="77" y="833"/>
                  </a:lnTo>
                  <a:lnTo>
                    <a:pt x="69" y="853"/>
                  </a:lnTo>
                  <a:lnTo>
                    <a:pt x="61" y="874"/>
                  </a:lnTo>
                  <a:lnTo>
                    <a:pt x="54" y="894"/>
                  </a:lnTo>
                  <a:lnTo>
                    <a:pt x="47" y="916"/>
                  </a:lnTo>
                  <a:lnTo>
                    <a:pt x="41" y="937"/>
                  </a:lnTo>
                  <a:lnTo>
                    <a:pt x="35" y="957"/>
                  </a:lnTo>
                  <a:lnTo>
                    <a:pt x="30" y="978"/>
                  </a:lnTo>
                  <a:lnTo>
                    <a:pt x="25" y="999"/>
                  </a:lnTo>
                  <a:lnTo>
                    <a:pt x="20" y="1021"/>
                  </a:lnTo>
                  <a:lnTo>
                    <a:pt x="16" y="1042"/>
                  </a:lnTo>
                  <a:lnTo>
                    <a:pt x="12" y="1063"/>
                  </a:lnTo>
                  <a:lnTo>
                    <a:pt x="9" y="1084"/>
                  </a:lnTo>
                  <a:lnTo>
                    <a:pt x="6" y="1106"/>
                  </a:lnTo>
                  <a:lnTo>
                    <a:pt x="4" y="1127"/>
                  </a:lnTo>
                  <a:lnTo>
                    <a:pt x="2" y="1147"/>
                  </a:lnTo>
                  <a:lnTo>
                    <a:pt x="1" y="1168"/>
                  </a:lnTo>
                  <a:lnTo>
                    <a:pt x="0" y="1189"/>
                  </a:lnTo>
                  <a:lnTo>
                    <a:pt x="0" y="1211"/>
                  </a:lnTo>
                  <a:lnTo>
                    <a:pt x="0" y="1231"/>
                  </a:lnTo>
                  <a:lnTo>
                    <a:pt x="1" y="1252"/>
                  </a:lnTo>
                  <a:lnTo>
                    <a:pt x="2" y="1272"/>
                  </a:lnTo>
                  <a:lnTo>
                    <a:pt x="5" y="1293"/>
                  </a:lnTo>
                  <a:lnTo>
                    <a:pt x="7" y="1313"/>
                  </a:lnTo>
                  <a:lnTo>
                    <a:pt x="10" y="1333"/>
                  </a:lnTo>
                  <a:lnTo>
                    <a:pt x="14" y="1353"/>
                  </a:lnTo>
                  <a:lnTo>
                    <a:pt x="17" y="1373"/>
                  </a:lnTo>
                  <a:lnTo>
                    <a:pt x="22" y="1393"/>
                  </a:lnTo>
                  <a:lnTo>
                    <a:pt x="27" y="1412"/>
                  </a:lnTo>
                  <a:lnTo>
                    <a:pt x="34" y="1431"/>
                  </a:lnTo>
                  <a:lnTo>
                    <a:pt x="44" y="1459"/>
                  </a:lnTo>
                  <a:lnTo>
                    <a:pt x="55" y="1487"/>
                  </a:lnTo>
                  <a:lnTo>
                    <a:pt x="67" y="1513"/>
                  </a:lnTo>
                  <a:lnTo>
                    <a:pt x="81" y="1541"/>
                  </a:lnTo>
                  <a:lnTo>
                    <a:pt x="96" y="1566"/>
                  </a:lnTo>
                  <a:lnTo>
                    <a:pt x="111" y="1592"/>
                  </a:lnTo>
                  <a:lnTo>
                    <a:pt x="129" y="1617"/>
                  </a:lnTo>
                  <a:lnTo>
                    <a:pt x="146" y="1642"/>
                  </a:lnTo>
                  <a:lnTo>
                    <a:pt x="164" y="1667"/>
                  </a:lnTo>
                  <a:lnTo>
                    <a:pt x="184" y="1692"/>
                  </a:lnTo>
                  <a:lnTo>
                    <a:pt x="204" y="1716"/>
                  </a:lnTo>
                  <a:lnTo>
                    <a:pt x="224" y="1739"/>
                  </a:lnTo>
                  <a:lnTo>
                    <a:pt x="246" y="1763"/>
                  </a:lnTo>
                  <a:lnTo>
                    <a:pt x="267" y="1787"/>
                  </a:lnTo>
                  <a:lnTo>
                    <a:pt x="290" y="1810"/>
                  </a:lnTo>
                  <a:lnTo>
                    <a:pt x="312" y="1834"/>
                  </a:lnTo>
                  <a:lnTo>
                    <a:pt x="336" y="1857"/>
                  </a:lnTo>
                  <a:lnTo>
                    <a:pt x="360" y="1880"/>
                  </a:lnTo>
                  <a:lnTo>
                    <a:pt x="383" y="1903"/>
                  </a:lnTo>
                  <a:lnTo>
                    <a:pt x="407" y="1925"/>
                  </a:lnTo>
                  <a:lnTo>
                    <a:pt x="432" y="1949"/>
                  </a:lnTo>
                  <a:lnTo>
                    <a:pt x="456" y="1972"/>
                  </a:lnTo>
                  <a:lnTo>
                    <a:pt x="481" y="1995"/>
                  </a:lnTo>
                  <a:lnTo>
                    <a:pt x="505" y="2018"/>
                  </a:lnTo>
                  <a:lnTo>
                    <a:pt x="530" y="2042"/>
                  </a:lnTo>
                  <a:lnTo>
                    <a:pt x="553" y="2064"/>
                  </a:lnTo>
                  <a:lnTo>
                    <a:pt x="577" y="2088"/>
                  </a:lnTo>
                  <a:lnTo>
                    <a:pt x="601" y="2112"/>
                  </a:lnTo>
                  <a:lnTo>
                    <a:pt x="625" y="2135"/>
                  </a:lnTo>
                  <a:lnTo>
                    <a:pt x="647" y="2159"/>
                  </a:lnTo>
                  <a:lnTo>
                    <a:pt x="671" y="2183"/>
                  </a:lnTo>
                  <a:lnTo>
                    <a:pt x="692" y="2208"/>
                  </a:lnTo>
                  <a:lnTo>
                    <a:pt x="715" y="2232"/>
                  </a:lnTo>
                  <a:lnTo>
                    <a:pt x="736" y="2257"/>
                  </a:lnTo>
                  <a:lnTo>
                    <a:pt x="756" y="2283"/>
                  </a:lnTo>
                  <a:lnTo>
                    <a:pt x="776" y="2308"/>
                  </a:lnTo>
                  <a:lnTo>
                    <a:pt x="794" y="2334"/>
                  </a:lnTo>
                  <a:lnTo>
                    <a:pt x="813" y="2360"/>
                  </a:lnTo>
                  <a:lnTo>
                    <a:pt x="829" y="2388"/>
                  </a:lnTo>
                  <a:lnTo>
                    <a:pt x="846" y="2415"/>
                  </a:lnTo>
                  <a:lnTo>
                    <a:pt x="862" y="2443"/>
                  </a:lnTo>
                  <a:lnTo>
                    <a:pt x="876" y="2470"/>
                  </a:lnTo>
                  <a:lnTo>
                    <a:pt x="889" y="2500"/>
                  </a:lnTo>
                  <a:lnTo>
                    <a:pt x="902" y="2530"/>
                  </a:lnTo>
                  <a:lnTo>
                    <a:pt x="913" y="2562"/>
                  </a:lnTo>
                  <a:lnTo>
                    <a:pt x="923" y="2593"/>
                  </a:lnTo>
                  <a:lnTo>
                    <a:pt x="933" y="2624"/>
                  </a:lnTo>
                  <a:lnTo>
                    <a:pt x="942" y="2657"/>
                  </a:lnTo>
                  <a:lnTo>
                    <a:pt x="949" y="2689"/>
                  </a:lnTo>
                  <a:lnTo>
                    <a:pt x="956" y="2722"/>
                  </a:lnTo>
                  <a:lnTo>
                    <a:pt x="961" y="2755"/>
                  </a:lnTo>
                  <a:lnTo>
                    <a:pt x="966" y="2788"/>
                  </a:lnTo>
                  <a:lnTo>
                    <a:pt x="971" y="2822"/>
                  </a:lnTo>
                  <a:lnTo>
                    <a:pt x="974" y="2855"/>
                  </a:lnTo>
                  <a:lnTo>
                    <a:pt x="977" y="2890"/>
                  </a:lnTo>
                  <a:lnTo>
                    <a:pt x="979" y="2924"/>
                  </a:lnTo>
                  <a:lnTo>
                    <a:pt x="982" y="2959"/>
                  </a:lnTo>
                  <a:lnTo>
                    <a:pt x="983" y="2993"/>
                  </a:lnTo>
                  <a:lnTo>
                    <a:pt x="984" y="3028"/>
                  </a:lnTo>
                  <a:lnTo>
                    <a:pt x="984" y="3063"/>
                  </a:lnTo>
                  <a:lnTo>
                    <a:pt x="984" y="3098"/>
                  </a:lnTo>
                  <a:lnTo>
                    <a:pt x="984" y="3133"/>
                  </a:lnTo>
                  <a:lnTo>
                    <a:pt x="984" y="3168"/>
                  </a:lnTo>
                  <a:lnTo>
                    <a:pt x="984" y="3201"/>
                  </a:lnTo>
                  <a:lnTo>
                    <a:pt x="983" y="3236"/>
                  </a:lnTo>
                  <a:lnTo>
                    <a:pt x="982" y="3271"/>
                  </a:lnTo>
                  <a:lnTo>
                    <a:pt x="982" y="3305"/>
                  </a:lnTo>
                  <a:lnTo>
                    <a:pt x="981" y="3340"/>
                  </a:lnTo>
                  <a:lnTo>
                    <a:pt x="979" y="3374"/>
                  </a:lnTo>
                  <a:lnTo>
                    <a:pt x="979" y="3408"/>
                  </a:lnTo>
                  <a:lnTo>
                    <a:pt x="978" y="3441"/>
                  </a:lnTo>
                  <a:lnTo>
                    <a:pt x="978" y="3475"/>
                  </a:lnTo>
                  <a:lnTo>
                    <a:pt x="977" y="3508"/>
                  </a:lnTo>
                  <a:lnTo>
                    <a:pt x="977" y="3540"/>
                  </a:lnTo>
                  <a:lnTo>
                    <a:pt x="977" y="3573"/>
                  </a:lnTo>
                  <a:lnTo>
                    <a:pt x="978" y="3605"/>
                  </a:lnTo>
                  <a:lnTo>
                    <a:pt x="979" y="3636"/>
                  </a:lnTo>
                  <a:lnTo>
                    <a:pt x="981" y="3668"/>
                  </a:lnTo>
                  <a:lnTo>
                    <a:pt x="982" y="3699"/>
                  </a:lnTo>
                  <a:lnTo>
                    <a:pt x="984" y="3729"/>
                  </a:lnTo>
                  <a:lnTo>
                    <a:pt x="988" y="3758"/>
                  </a:lnTo>
                  <a:lnTo>
                    <a:pt x="992" y="3788"/>
                  </a:lnTo>
                  <a:lnTo>
                    <a:pt x="996" y="3815"/>
                  </a:lnTo>
                  <a:lnTo>
                    <a:pt x="1001" y="3844"/>
                  </a:lnTo>
                  <a:lnTo>
                    <a:pt x="1004" y="3864"/>
                  </a:lnTo>
                  <a:lnTo>
                    <a:pt x="1009" y="3885"/>
                  </a:lnTo>
                  <a:lnTo>
                    <a:pt x="1014" y="3905"/>
                  </a:lnTo>
                  <a:lnTo>
                    <a:pt x="1021" y="3924"/>
                  </a:lnTo>
                  <a:lnTo>
                    <a:pt x="1027" y="3944"/>
                  </a:lnTo>
                  <a:lnTo>
                    <a:pt x="1033" y="3963"/>
                  </a:lnTo>
                  <a:lnTo>
                    <a:pt x="1041" y="3983"/>
                  </a:lnTo>
                  <a:lnTo>
                    <a:pt x="1048" y="4001"/>
                  </a:lnTo>
                  <a:lnTo>
                    <a:pt x="1056" y="4020"/>
                  </a:lnTo>
                  <a:lnTo>
                    <a:pt x="1064" y="4039"/>
                  </a:lnTo>
                  <a:lnTo>
                    <a:pt x="1074" y="4058"/>
                  </a:lnTo>
                  <a:lnTo>
                    <a:pt x="1083" y="4076"/>
                  </a:lnTo>
                  <a:lnTo>
                    <a:pt x="1093" y="4094"/>
                  </a:lnTo>
                  <a:lnTo>
                    <a:pt x="1104" y="4113"/>
                  </a:lnTo>
                  <a:lnTo>
                    <a:pt x="1115" y="4131"/>
                  </a:lnTo>
                  <a:lnTo>
                    <a:pt x="1127" y="4150"/>
                  </a:lnTo>
                  <a:lnTo>
                    <a:pt x="1139" y="4169"/>
                  </a:lnTo>
                  <a:lnTo>
                    <a:pt x="1152" y="4188"/>
                  </a:lnTo>
                  <a:lnTo>
                    <a:pt x="1165" y="4206"/>
                  </a:lnTo>
                  <a:lnTo>
                    <a:pt x="1179" y="4226"/>
                  </a:lnTo>
                  <a:lnTo>
                    <a:pt x="1194" y="4245"/>
                  </a:lnTo>
                  <a:lnTo>
                    <a:pt x="1209" y="4265"/>
                  </a:lnTo>
                  <a:lnTo>
                    <a:pt x="1224" y="4285"/>
                  </a:lnTo>
                  <a:lnTo>
                    <a:pt x="1240" y="4305"/>
                  </a:lnTo>
                  <a:lnTo>
                    <a:pt x="1258" y="4325"/>
                  </a:lnTo>
                  <a:lnTo>
                    <a:pt x="1275" y="4346"/>
                  </a:lnTo>
                  <a:lnTo>
                    <a:pt x="1293" y="4368"/>
                  </a:lnTo>
                  <a:lnTo>
                    <a:pt x="1312" y="4389"/>
                  </a:lnTo>
                  <a:lnTo>
                    <a:pt x="1332" y="4411"/>
                  </a:lnTo>
                  <a:lnTo>
                    <a:pt x="1352" y="4434"/>
                  </a:lnTo>
                  <a:lnTo>
                    <a:pt x="1372" y="4457"/>
                  </a:lnTo>
                  <a:lnTo>
                    <a:pt x="1393" y="4481"/>
                  </a:lnTo>
                  <a:lnTo>
                    <a:pt x="1414" y="4505"/>
                  </a:lnTo>
                  <a:lnTo>
                    <a:pt x="1437" y="4530"/>
                  </a:lnTo>
                  <a:lnTo>
                    <a:pt x="1457" y="4551"/>
                  </a:lnTo>
                  <a:lnTo>
                    <a:pt x="1477" y="4572"/>
                  </a:lnTo>
                  <a:lnTo>
                    <a:pt x="1496" y="4595"/>
                  </a:lnTo>
                  <a:lnTo>
                    <a:pt x="1518" y="4617"/>
                  </a:lnTo>
                  <a:lnTo>
                    <a:pt x="1538" y="4639"/>
                  </a:lnTo>
                  <a:lnTo>
                    <a:pt x="1559" y="4661"/>
                  </a:lnTo>
                  <a:lnTo>
                    <a:pt x="1580" y="4684"/>
                  </a:lnTo>
                  <a:lnTo>
                    <a:pt x="1601" y="4706"/>
                  </a:lnTo>
                  <a:lnTo>
                    <a:pt x="1623" y="4727"/>
                  </a:lnTo>
                  <a:lnTo>
                    <a:pt x="1644" y="4750"/>
                  </a:lnTo>
                  <a:lnTo>
                    <a:pt x="1665" y="4771"/>
                  </a:lnTo>
                  <a:lnTo>
                    <a:pt x="1686" y="4791"/>
                  </a:lnTo>
                  <a:lnTo>
                    <a:pt x="1708" y="4812"/>
                  </a:lnTo>
                  <a:lnTo>
                    <a:pt x="1729" y="4831"/>
                  </a:lnTo>
                  <a:lnTo>
                    <a:pt x="1749" y="4850"/>
                  </a:lnTo>
                  <a:lnTo>
                    <a:pt x="1769" y="4869"/>
                  </a:lnTo>
                  <a:lnTo>
                    <a:pt x="1789" y="4886"/>
                  </a:lnTo>
                  <a:lnTo>
                    <a:pt x="1808" y="4902"/>
                  </a:lnTo>
                  <a:lnTo>
                    <a:pt x="1826" y="4917"/>
                  </a:lnTo>
                  <a:lnTo>
                    <a:pt x="1845" y="4931"/>
                  </a:lnTo>
                  <a:lnTo>
                    <a:pt x="1862" y="4944"/>
                  </a:lnTo>
                  <a:lnTo>
                    <a:pt x="1880" y="4956"/>
                  </a:lnTo>
                  <a:lnTo>
                    <a:pt x="1896" y="4966"/>
                  </a:lnTo>
                  <a:lnTo>
                    <a:pt x="1911" y="4975"/>
                  </a:lnTo>
                  <a:lnTo>
                    <a:pt x="1926" y="4981"/>
                  </a:lnTo>
                  <a:lnTo>
                    <a:pt x="1940" y="4987"/>
                  </a:lnTo>
                  <a:lnTo>
                    <a:pt x="1952" y="4991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985680" y="2158920"/>
              <a:ext cx="1760400" cy="2280600"/>
              <a:chOff x="985680" y="2158920"/>
              <a:chExt cx="1760400" cy="228060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985680" y="2158920"/>
                <a:ext cx="1753200" cy="2280600"/>
                <a:chOff x="985680" y="2158920"/>
                <a:chExt cx="1753200" cy="22806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6200" y="332676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72360" y="310788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895400" y="310392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13400" y="312480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34280" y="313560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943280" y="315144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962000" y="316260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84320" y="316656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98360" y="317268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0960" y="313956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694520" y="279720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762200" y="284436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07920" y="281340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639080" y="276048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662480" y="320652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012040" y="3419280"/>
                  <a:ext cx="72684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2017440" y="341820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902520" y="1542960"/>
            <a:ext cx="1812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Internation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541680" y="2082960"/>
            <a:ext cx="1805040" cy="2280600"/>
            <a:chOff x="3541680" y="2082960"/>
            <a:chExt cx="1805040" cy="2280600"/>
          </a:xfrm>
        </p:grpSpPr>
        <p:grpSp>
          <p:nvGrpSpPr>
            <p:cNvPr id="832" name=""/>
            <p:cNvGrpSpPr/>
            <p:nvPr/>
          </p:nvGrpSpPr>
          <p:grpSpPr>
            <a:xfrm>
              <a:off x="3541680" y="2082960"/>
              <a:ext cx="1760400" cy="2280600"/>
              <a:chOff x="3541680" y="2082960"/>
              <a:chExt cx="1760400" cy="22806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3541680" y="2082960"/>
                <a:ext cx="1752480" cy="2280600"/>
                <a:chOff x="3541680" y="2082960"/>
                <a:chExt cx="1752480" cy="2280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4642200" y="325080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428000" y="303192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451040" y="302796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469040" y="304884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490280" y="305964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498920" y="307548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518000" y="308664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539960" y="309060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554360" y="309672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386600" y="306360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50520" y="272124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318200" y="276840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363560" y="273744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195080" y="268452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218120" y="313056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567680" y="3343320"/>
                  <a:ext cx="72648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4573440" y="334224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675240" y="2457360"/>
              <a:ext cx="1056960" cy="729720"/>
            </a:xfrm>
            <a:custGeom>
              <a:avLst/>
              <a:gdLst/>
              <a:ahLst/>
              <a:rect l="l" t="t" r="r" b="b"/>
              <a:pathLst>
                <a:path w="2841" h="2201">
                  <a:moveTo>
                    <a:pt x="2485" y="0"/>
                  </a:moveTo>
                  <a:lnTo>
                    <a:pt x="2449" y="21"/>
                  </a:lnTo>
                  <a:lnTo>
                    <a:pt x="2410" y="40"/>
                  </a:lnTo>
                  <a:lnTo>
                    <a:pt x="2370" y="56"/>
                  </a:lnTo>
                  <a:lnTo>
                    <a:pt x="2327" y="70"/>
                  </a:lnTo>
                  <a:lnTo>
                    <a:pt x="2284" y="83"/>
                  </a:lnTo>
                  <a:lnTo>
                    <a:pt x="2237" y="93"/>
                  </a:lnTo>
                  <a:lnTo>
                    <a:pt x="2190" y="100"/>
                  </a:lnTo>
                  <a:lnTo>
                    <a:pt x="2141" y="108"/>
                  </a:lnTo>
                  <a:lnTo>
                    <a:pt x="2090" y="111"/>
                  </a:lnTo>
                  <a:lnTo>
                    <a:pt x="2039" y="115"/>
                  </a:lnTo>
                  <a:lnTo>
                    <a:pt x="1986" y="118"/>
                  </a:lnTo>
                  <a:lnTo>
                    <a:pt x="1931" y="119"/>
                  </a:lnTo>
                  <a:lnTo>
                    <a:pt x="1876" y="119"/>
                  </a:lnTo>
                  <a:lnTo>
                    <a:pt x="1821" y="118"/>
                  </a:lnTo>
                  <a:lnTo>
                    <a:pt x="1764" y="116"/>
                  </a:lnTo>
                  <a:lnTo>
                    <a:pt x="1707" y="114"/>
                  </a:lnTo>
                  <a:lnTo>
                    <a:pt x="1649" y="110"/>
                  </a:lnTo>
                  <a:lnTo>
                    <a:pt x="1590" y="108"/>
                  </a:lnTo>
                  <a:lnTo>
                    <a:pt x="1532" y="104"/>
                  </a:lnTo>
                  <a:lnTo>
                    <a:pt x="1472" y="100"/>
                  </a:lnTo>
                  <a:lnTo>
                    <a:pt x="1413" y="96"/>
                  </a:lnTo>
                  <a:lnTo>
                    <a:pt x="1353" y="93"/>
                  </a:lnTo>
                  <a:lnTo>
                    <a:pt x="1294" y="90"/>
                  </a:lnTo>
                  <a:lnTo>
                    <a:pt x="1234" y="88"/>
                  </a:lnTo>
                  <a:lnTo>
                    <a:pt x="1176" y="85"/>
                  </a:lnTo>
                  <a:lnTo>
                    <a:pt x="1117" y="84"/>
                  </a:lnTo>
                  <a:lnTo>
                    <a:pt x="1058" y="83"/>
                  </a:lnTo>
                  <a:lnTo>
                    <a:pt x="1001" y="83"/>
                  </a:lnTo>
                  <a:lnTo>
                    <a:pt x="943" y="84"/>
                  </a:lnTo>
                  <a:lnTo>
                    <a:pt x="886" y="86"/>
                  </a:lnTo>
                  <a:lnTo>
                    <a:pt x="831" y="90"/>
                  </a:lnTo>
                  <a:lnTo>
                    <a:pt x="776" y="96"/>
                  </a:lnTo>
                  <a:lnTo>
                    <a:pt x="722" y="103"/>
                  </a:lnTo>
                  <a:lnTo>
                    <a:pt x="668" y="111"/>
                  </a:lnTo>
                  <a:lnTo>
                    <a:pt x="617" y="123"/>
                  </a:lnTo>
                  <a:lnTo>
                    <a:pt x="567" y="135"/>
                  </a:lnTo>
                  <a:lnTo>
                    <a:pt x="519" y="150"/>
                  </a:lnTo>
                  <a:lnTo>
                    <a:pt x="471" y="166"/>
                  </a:lnTo>
                  <a:lnTo>
                    <a:pt x="425" y="186"/>
                  </a:lnTo>
                  <a:lnTo>
                    <a:pt x="381" y="208"/>
                  </a:lnTo>
                  <a:lnTo>
                    <a:pt x="339" y="233"/>
                  </a:lnTo>
                  <a:lnTo>
                    <a:pt x="299" y="260"/>
                  </a:lnTo>
                  <a:lnTo>
                    <a:pt x="261" y="291"/>
                  </a:lnTo>
                  <a:lnTo>
                    <a:pt x="250" y="300"/>
                  </a:lnTo>
                  <a:lnTo>
                    <a:pt x="240" y="310"/>
                  </a:lnTo>
                  <a:lnTo>
                    <a:pt x="230" y="319"/>
                  </a:lnTo>
                  <a:lnTo>
                    <a:pt x="220" y="329"/>
                  </a:lnTo>
                  <a:lnTo>
                    <a:pt x="210" y="340"/>
                  </a:lnTo>
                  <a:lnTo>
                    <a:pt x="200" y="350"/>
                  </a:lnTo>
                  <a:lnTo>
                    <a:pt x="190" y="361"/>
                  </a:lnTo>
                  <a:lnTo>
                    <a:pt x="181" y="371"/>
                  </a:lnTo>
                  <a:lnTo>
                    <a:pt x="173" y="383"/>
                  </a:lnTo>
                  <a:lnTo>
                    <a:pt x="164" y="394"/>
                  </a:lnTo>
                  <a:lnTo>
                    <a:pt x="155" y="405"/>
                  </a:lnTo>
                  <a:lnTo>
                    <a:pt x="146" y="418"/>
                  </a:lnTo>
                  <a:lnTo>
                    <a:pt x="138" y="429"/>
                  </a:lnTo>
                  <a:lnTo>
                    <a:pt x="130" y="441"/>
                  </a:lnTo>
                  <a:lnTo>
                    <a:pt x="121" y="453"/>
                  </a:lnTo>
                  <a:lnTo>
                    <a:pt x="114" y="465"/>
                  </a:lnTo>
                  <a:lnTo>
                    <a:pt x="106" y="478"/>
                  </a:lnTo>
                  <a:lnTo>
                    <a:pt x="100" y="490"/>
                  </a:lnTo>
                  <a:lnTo>
                    <a:pt x="93" y="504"/>
                  </a:lnTo>
                  <a:lnTo>
                    <a:pt x="86" y="516"/>
                  </a:lnTo>
                  <a:lnTo>
                    <a:pt x="80" y="529"/>
                  </a:lnTo>
                  <a:lnTo>
                    <a:pt x="74" y="543"/>
                  </a:lnTo>
                  <a:lnTo>
                    <a:pt x="68" y="55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0" y="595"/>
                  </a:lnTo>
                  <a:lnTo>
                    <a:pt x="45" y="609"/>
                  </a:lnTo>
                  <a:lnTo>
                    <a:pt x="41" y="623"/>
                  </a:lnTo>
                  <a:lnTo>
                    <a:pt x="36" y="636"/>
                  </a:lnTo>
                  <a:lnTo>
                    <a:pt x="31" y="650"/>
                  </a:lnTo>
                  <a:lnTo>
                    <a:pt x="28" y="664"/>
                  </a:lnTo>
                  <a:lnTo>
                    <a:pt x="24" y="678"/>
                  </a:lnTo>
                  <a:lnTo>
                    <a:pt x="20" y="691"/>
                  </a:lnTo>
                  <a:lnTo>
                    <a:pt x="18" y="705"/>
                  </a:lnTo>
                  <a:lnTo>
                    <a:pt x="15" y="720"/>
                  </a:lnTo>
                  <a:lnTo>
                    <a:pt x="11" y="734"/>
                  </a:lnTo>
                  <a:lnTo>
                    <a:pt x="9" y="747"/>
                  </a:lnTo>
                  <a:lnTo>
                    <a:pt x="8" y="761"/>
                  </a:lnTo>
                  <a:lnTo>
                    <a:pt x="5" y="775"/>
                  </a:lnTo>
                  <a:lnTo>
                    <a:pt x="4" y="790"/>
                  </a:lnTo>
                  <a:lnTo>
                    <a:pt x="3" y="804"/>
                  </a:lnTo>
                  <a:lnTo>
                    <a:pt x="1" y="817"/>
                  </a:lnTo>
                  <a:lnTo>
                    <a:pt x="1" y="831"/>
                  </a:lnTo>
                  <a:lnTo>
                    <a:pt x="0" y="855"/>
                  </a:lnTo>
                  <a:lnTo>
                    <a:pt x="0" y="877"/>
                  </a:lnTo>
                  <a:lnTo>
                    <a:pt x="1" y="901"/>
                  </a:lnTo>
                  <a:lnTo>
                    <a:pt x="4" y="924"/>
                  </a:lnTo>
                  <a:lnTo>
                    <a:pt x="6" y="946"/>
                  </a:lnTo>
                  <a:lnTo>
                    <a:pt x="10" y="969"/>
                  </a:lnTo>
                  <a:lnTo>
                    <a:pt x="14" y="992"/>
                  </a:lnTo>
                  <a:lnTo>
                    <a:pt x="19" y="1015"/>
                  </a:lnTo>
                  <a:lnTo>
                    <a:pt x="24" y="1037"/>
                  </a:lnTo>
                  <a:lnTo>
                    <a:pt x="30" y="1060"/>
                  </a:lnTo>
                  <a:lnTo>
                    <a:pt x="36" y="1082"/>
                  </a:lnTo>
                  <a:lnTo>
                    <a:pt x="44" y="1105"/>
                  </a:lnTo>
                  <a:lnTo>
                    <a:pt x="51" y="1127"/>
                  </a:lnTo>
                  <a:lnTo>
                    <a:pt x="60" y="1150"/>
                  </a:lnTo>
                  <a:lnTo>
                    <a:pt x="69" y="1171"/>
                  </a:lnTo>
                  <a:lnTo>
                    <a:pt x="78" y="1194"/>
                  </a:lnTo>
                  <a:lnTo>
                    <a:pt x="88" y="1216"/>
                  </a:lnTo>
                  <a:lnTo>
                    <a:pt x="99" y="1239"/>
                  </a:lnTo>
                  <a:lnTo>
                    <a:pt x="109" y="1261"/>
                  </a:lnTo>
                  <a:lnTo>
                    <a:pt x="120" y="1282"/>
                  </a:lnTo>
                  <a:lnTo>
                    <a:pt x="133" y="1305"/>
                  </a:lnTo>
                  <a:lnTo>
                    <a:pt x="144" y="1327"/>
                  </a:lnTo>
                  <a:lnTo>
                    <a:pt x="156" y="1349"/>
                  </a:lnTo>
                  <a:lnTo>
                    <a:pt x="169" y="1371"/>
                  </a:lnTo>
                  <a:lnTo>
                    <a:pt x="183" y="1394"/>
                  </a:lnTo>
                  <a:lnTo>
                    <a:pt x="196" y="1416"/>
                  </a:lnTo>
                  <a:lnTo>
                    <a:pt x="210" y="1437"/>
                  </a:lnTo>
                  <a:lnTo>
                    <a:pt x="224" y="1460"/>
                  </a:lnTo>
                  <a:lnTo>
                    <a:pt x="237" y="1482"/>
                  </a:lnTo>
                  <a:lnTo>
                    <a:pt x="252" y="1505"/>
                  </a:lnTo>
                  <a:lnTo>
                    <a:pt x="266" y="1526"/>
                  </a:lnTo>
                  <a:lnTo>
                    <a:pt x="281" y="1549"/>
                  </a:lnTo>
                  <a:lnTo>
                    <a:pt x="294" y="1567"/>
                  </a:lnTo>
                  <a:lnTo>
                    <a:pt x="306" y="1585"/>
                  </a:lnTo>
                  <a:lnTo>
                    <a:pt x="319" y="1604"/>
                  </a:lnTo>
                  <a:lnTo>
                    <a:pt x="331" y="1621"/>
                  </a:lnTo>
                  <a:lnTo>
                    <a:pt x="344" y="1640"/>
                  </a:lnTo>
                  <a:lnTo>
                    <a:pt x="356" y="1657"/>
                  </a:lnTo>
                  <a:lnTo>
                    <a:pt x="369" y="1676"/>
                  </a:lnTo>
                  <a:lnTo>
                    <a:pt x="382" y="1694"/>
                  </a:lnTo>
                  <a:lnTo>
                    <a:pt x="395" y="1712"/>
                  </a:lnTo>
                  <a:lnTo>
                    <a:pt x="409" y="1730"/>
                  </a:lnTo>
                  <a:lnTo>
                    <a:pt x="421" y="1747"/>
                  </a:lnTo>
                  <a:lnTo>
                    <a:pt x="435" y="1765"/>
                  </a:lnTo>
                  <a:lnTo>
                    <a:pt x="447" y="1782"/>
                  </a:lnTo>
                  <a:lnTo>
                    <a:pt x="461" y="1800"/>
                  </a:lnTo>
                  <a:lnTo>
                    <a:pt x="475" y="1816"/>
                  </a:lnTo>
                  <a:lnTo>
                    <a:pt x="489" y="1834"/>
                  </a:lnTo>
                  <a:lnTo>
                    <a:pt x="502" y="1850"/>
                  </a:lnTo>
                  <a:lnTo>
                    <a:pt x="516" y="1866"/>
                  </a:lnTo>
                  <a:lnTo>
                    <a:pt x="530" y="1882"/>
                  </a:lnTo>
                  <a:lnTo>
                    <a:pt x="544" y="1899"/>
                  </a:lnTo>
                  <a:lnTo>
                    <a:pt x="557" y="1915"/>
                  </a:lnTo>
                  <a:lnTo>
                    <a:pt x="571" y="1930"/>
                  </a:lnTo>
                  <a:lnTo>
                    <a:pt x="585" y="1945"/>
                  </a:lnTo>
                  <a:lnTo>
                    <a:pt x="598" y="1960"/>
                  </a:lnTo>
                  <a:lnTo>
                    <a:pt x="612" y="1975"/>
                  </a:lnTo>
                  <a:lnTo>
                    <a:pt x="627" y="1989"/>
                  </a:lnTo>
                  <a:lnTo>
                    <a:pt x="641" y="2002"/>
                  </a:lnTo>
                  <a:lnTo>
                    <a:pt x="655" y="2016"/>
                  </a:lnTo>
                  <a:lnTo>
                    <a:pt x="670" y="2029"/>
                  </a:lnTo>
                  <a:lnTo>
                    <a:pt x="683" y="2042"/>
                  </a:lnTo>
                  <a:lnTo>
                    <a:pt x="697" y="2055"/>
                  </a:lnTo>
                  <a:lnTo>
                    <a:pt x="712" y="2066"/>
                  </a:lnTo>
                  <a:lnTo>
                    <a:pt x="726" y="2077"/>
                  </a:lnTo>
                  <a:lnTo>
                    <a:pt x="741" y="2088"/>
                  </a:lnTo>
                  <a:lnTo>
                    <a:pt x="755" y="2100"/>
                  </a:lnTo>
                  <a:lnTo>
                    <a:pt x="770" y="2110"/>
                  </a:lnTo>
                  <a:lnTo>
                    <a:pt x="783" y="2120"/>
                  </a:lnTo>
                  <a:lnTo>
                    <a:pt x="798" y="2128"/>
                  </a:lnTo>
                  <a:lnTo>
                    <a:pt x="812" y="2137"/>
                  </a:lnTo>
                  <a:lnTo>
                    <a:pt x="827" y="2146"/>
                  </a:lnTo>
                  <a:lnTo>
                    <a:pt x="841" y="2153"/>
                  </a:lnTo>
                  <a:lnTo>
                    <a:pt x="856" y="2160"/>
                  </a:lnTo>
                  <a:lnTo>
                    <a:pt x="870" y="2167"/>
                  </a:lnTo>
                  <a:lnTo>
                    <a:pt x="885" y="2172"/>
                  </a:lnTo>
                  <a:lnTo>
                    <a:pt x="908" y="2181"/>
                  </a:lnTo>
                  <a:lnTo>
                    <a:pt x="931" y="2188"/>
                  </a:lnTo>
                  <a:lnTo>
                    <a:pt x="954" y="2193"/>
                  </a:lnTo>
                  <a:lnTo>
                    <a:pt x="978" y="2197"/>
                  </a:lnTo>
                  <a:lnTo>
                    <a:pt x="1001" y="2200"/>
                  </a:lnTo>
                  <a:lnTo>
                    <a:pt x="1024" y="2201"/>
                  </a:lnTo>
                  <a:lnTo>
                    <a:pt x="1048" y="2201"/>
                  </a:lnTo>
                  <a:lnTo>
                    <a:pt x="1071" y="2200"/>
                  </a:lnTo>
                  <a:lnTo>
                    <a:pt x="1094" y="2197"/>
                  </a:lnTo>
                  <a:lnTo>
                    <a:pt x="1118" y="2193"/>
                  </a:lnTo>
                  <a:lnTo>
                    <a:pt x="1142" y="2188"/>
                  </a:lnTo>
                  <a:lnTo>
                    <a:pt x="1164" y="2182"/>
                  </a:lnTo>
                  <a:lnTo>
                    <a:pt x="1188" y="2175"/>
                  </a:lnTo>
                  <a:lnTo>
                    <a:pt x="1212" y="2166"/>
                  </a:lnTo>
                  <a:lnTo>
                    <a:pt x="1236" y="2156"/>
                  </a:lnTo>
                  <a:lnTo>
                    <a:pt x="1259" y="2146"/>
                  </a:lnTo>
                  <a:lnTo>
                    <a:pt x="1283" y="2135"/>
                  </a:lnTo>
                  <a:lnTo>
                    <a:pt x="1307" y="2122"/>
                  </a:lnTo>
                  <a:lnTo>
                    <a:pt x="1330" y="2108"/>
                  </a:lnTo>
                  <a:lnTo>
                    <a:pt x="1354" y="2095"/>
                  </a:lnTo>
                  <a:lnTo>
                    <a:pt x="1378" y="2080"/>
                  </a:lnTo>
                  <a:lnTo>
                    <a:pt x="1402" y="2063"/>
                  </a:lnTo>
                  <a:lnTo>
                    <a:pt x="1425" y="2047"/>
                  </a:lnTo>
                  <a:lnTo>
                    <a:pt x="1450" y="2030"/>
                  </a:lnTo>
                  <a:lnTo>
                    <a:pt x="1474" y="2011"/>
                  </a:lnTo>
                  <a:lnTo>
                    <a:pt x="1498" y="1994"/>
                  </a:lnTo>
                  <a:lnTo>
                    <a:pt x="1523" y="1974"/>
                  </a:lnTo>
                  <a:lnTo>
                    <a:pt x="1547" y="1954"/>
                  </a:lnTo>
                  <a:lnTo>
                    <a:pt x="1572" y="1934"/>
                  </a:lnTo>
                  <a:lnTo>
                    <a:pt x="1597" y="1912"/>
                  </a:lnTo>
                  <a:lnTo>
                    <a:pt x="1622" y="1891"/>
                  </a:lnTo>
                  <a:lnTo>
                    <a:pt x="1647" y="1870"/>
                  </a:lnTo>
                  <a:lnTo>
                    <a:pt x="1672" y="1847"/>
                  </a:lnTo>
                  <a:lnTo>
                    <a:pt x="1697" y="1826"/>
                  </a:lnTo>
                  <a:lnTo>
                    <a:pt x="1721" y="1802"/>
                  </a:lnTo>
                  <a:lnTo>
                    <a:pt x="1746" y="1780"/>
                  </a:lnTo>
                  <a:lnTo>
                    <a:pt x="1773" y="1756"/>
                  </a:lnTo>
                  <a:lnTo>
                    <a:pt x="1798" y="1734"/>
                  </a:lnTo>
                  <a:lnTo>
                    <a:pt x="1824" y="1710"/>
                  </a:lnTo>
                  <a:lnTo>
                    <a:pt x="1850" y="1686"/>
                  </a:lnTo>
                  <a:lnTo>
                    <a:pt x="1875" y="1662"/>
                  </a:lnTo>
                  <a:lnTo>
                    <a:pt x="1901" y="1639"/>
                  </a:lnTo>
                  <a:lnTo>
                    <a:pt x="1929" y="1615"/>
                  </a:lnTo>
                  <a:lnTo>
                    <a:pt x="1955" y="1591"/>
                  </a:lnTo>
                  <a:lnTo>
                    <a:pt x="1998" y="1552"/>
                  </a:lnTo>
                  <a:lnTo>
                    <a:pt x="2040" y="1515"/>
                  </a:lnTo>
                  <a:lnTo>
                    <a:pt x="2083" y="1479"/>
                  </a:lnTo>
                  <a:lnTo>
                    <a:pt x="2125" y="1441"/>
                  </a:lnTo>
                  <a:lnTo>
                    <a:pt x="2169" y="1404"/>
                  </a:lnTo>
                  <a:lnTo>
                    <a:pt x="2211" y="1366"/>
                  </a:lnTo>
                  <a:lnTo>
                    <a:pt x="2252" y="1330"/>
                  </a:lnTo>
                  <a:lnTo>
                    <a:pt x="2295" y="1292"/>
                  </a:lnTo>
                  <a:lnTo>
                    <a:pt x="2336" y="1256"/>
                  </a:lnTo>
                  <a:lnTo>
                    <a:pt x="2376" y="1220"/>
                  </a:lnTo>
                  <a:lnTo>
                    <a:pt x="2416" y="1182"/>
                  </a:lnTo>
                  <a:lnTo>
                    <a:pt x="2455" y="1146"/>
                  </a:lnTo>
                  <a:lnTo>
                    <a:pt x="2492" y="1110"/>
                  </a:lnTo>
                  <a:lnTo>
                    <a:pt x="2528" y="1074"/>
                  </a:lnTo>
                  <a:lnTo>
                    <a:pt x="2563" y="1037"/>
                  </a:lnTo>
                  <a:lnTo>
                    <a:pt x="2596" y="1001"/>
                  </a:lnTo>
                  <a:lnTo>
                    <a:pt x="2628" y="965"/>
                  </a:lnTo>
                  <a:lnTo>
                    <a:pt x="2658" y="929"/>
                  </a:lnTo>
                  <a:lnTo>
                    <a:pt x="2687" y="891"/>
                  </a:lnTo>
                  <a:lnTo>
                    <a:pt x="2713" y="855"/>
                  </a:lnTo>
                  <a:lnTo>
                    <a:pt x="2737" y="819"/>
                  </a:lnTo>
                  <a:lnTo>
                    <a:pt x="2760" y="782"/>
                  </a:lnTo>
                  <a:lnTo>
                    <a:pt x="2780" y="746"/>
                  </a:lnTo>
                  <a:lnTo>
                    <a:pt x="2796" y="710"/>
                  </a:lnTo>
                  <a:lnTo>
                    <a:pt x="2811" y="674"/>
                  </a:lnTo>
                  <a:lnTo>
                    <a:pt x="2823" y="636"/>
                  </a:lnTo>
                  <a:lnTo>
                    <a:pt x="2832" y="600"/>
                  </a:lnTo>
                  <a:lnTo>
                    <a:pt x="2838" y="564"/>
                  </a:lnTo>
                  <a:lnTo>
                    <a:pt x="2841" y="526"/>
                  </a:lnTo>
                  <a:lnTo>
                    <a:pt x="2841" y="490"/>
                  </a:lnTo>
                  <a:lnTo>
                    <a:pt x="2837" y="453"/>
                  </a:lnTo>
                  <a:lnTo>
                    <a:pt x="2830" y="416"/>
                  </a:lnTo>
                  <a:lnTo>
                    <a:pt x="2818" y="379"/>
                  </a:lnTo>
                  <a:lnTo>
                    <a:pt x="2805" y="341"/>
                  </a:lnTo>
                  <a:lnTo>
                    <a:pt x="2786" y="304"/>
                  </a:lnTo>
                  <a:lnTo>
                    <a:pt x="2763" y="266"/>
                  </a:lnTo>
                  <a:lnTo>
                    <a:pt x="2737" y="229"/>
                  </a:lnTo>
                  <a:lnTo>
                    <a:pt x="2706" y="191"/>
                  </a:lnTo>
                  <a:lnTo>
                    <a:pt x="2671" y="153"/>
                  </a:lnTo>
                  <a:lnTo>
                    <a:pt x="2632" y="115"/>
                  </a:lnTo>
                  <a:lnTo>
                    <a:pt x="2587" y="76"/>
                  </a:lnTo>
                  <a:lnTo>
                    <a:pt x="2538" y="39"/>
                  </a:lnTo>
                  <a:lnTo>
                    <a:pt x="2485" y="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14680" y="3263760"/>
              <a:ext cx="932040" cy="1069560"/>
            </a:xfrm>
            <a:custGeom>
              <a:avLst/>
              <a:gdLst/>
              <a:ahLst/>
              <a:rect l="l" t="t" r="r" b="b"/>
              <a:pathLst>
                <a:path w="2506" h="3222">
                  <a:moveTo>
                    <a:pt x="116" y="450"/>
                  </a:moveTo>
                  <a:lnTo>
                    <a:pt x="92" y="505"/>
                  </a:lnTo>
                  <a:lnTo>
                    <a:pt x="72" y="562"/>
                  </a:lnTo>
                  <a:lnTo>
                    <a:pt x="55" y="618"/>
                  </a:lnTo>
                  <a:lnTo>
                    <a:pt x="41" y="675"/>
                  </a:lnTo>
                  <a:lnTo>
                    <a:pt x="29" y="732"/>
                  </a:lnTo>
                  <a:lnTo>
                    <a:pt x="17" y="789"/>
                  </a:lnTo>
                  <a:lnTo>
                    <a:pt x="10" y="847"/>
                  </a:lnTo>
                  <a:lnTo>
                    <a:pt x="5" y="904"/>
                  </a:lnTo>
                  <a:lnTo>
                    <a:pt x="1" y="962"/>
                  </a:lnTo>
                  <a:lnTo>
                    <a:pt x="0" y="1019"/>
                  </a:lnTo>
                  <a:lnTo>
                    <a:pt x="1" y="1076"/>
                  </a:lnTo>
                  <a:lnTo>
                    <a:pt x="4" y="1134"/>
                  </a:lnTo>
                  <a:lnTo>
                    <a:pt x="9" y="1191"/>
                  </a:lnTo>
                  <a:lnTo>
                    <a:pt x="15" y="1249"/>
                  </a:lnTo>
                  <a:lnTo>
                    <a:pt x="24" y="1306"/>
                  </a:lnTo>
                  <a:lnTo>
                    <a:pt x="34" y="1363"/>
                  </a:lnTo>
                  <a:lnTo>
                    <a:pt x="45" y="1419"/>
                  </a:lnTo>
                  <a:lnTo>
                    <a:pt x="59" y="1475"/>
                  </a:lnTo>
                  <a:lnTo>
                    <a:pt x="74" y="1531"/>
                  </a:lnTo>
                  <a:lnTo>
                    <a:pt x="81" y="1556"/>
                  </a:lnTo>
                  <a:lnTo>
                    <a:pt x="89" y="1581"/>
                  </a:lnTo>
                  <a:lnTo>
                    <a:pt x="97" y="1605"/>
                  </a:lnTo>
                  <a:lnTo>
                    <a:pt x="105" y="1630"/>
                  </a:lnTo>
                  <a:lnTo>
                    <a:pt x="114" y="1655"/>
                  </a:lnTo>
                  <a:lnTo>
                    <a:pt x="122" y="1679"/>
                  </a:lnTo>
                  <a:lnTo>
                    <a:pt x="132" y="1704"/>
                  </a:lnTo>
                  <a:lnTo>
                    <a:pt x="142" y="1728"/>
                  </a:lnTo>
                  <a:lnTo>
                    <a:pt x="152" y="1751"/>
                  </a:lnTo>
                  <a:lnTo>
                    <a:pt x="164" y="1775"/>
                  </a:lnTo>
                  <a:lnTo>
                    <a:pt x="175" y="1799"/>
                  </a:lnTo>
                  <a:lnTo>
                    <a:pt x="186" y="1821"/>
                  </a:lnTo>
                  <a:lnTo>
                    <a:pt x="199" y="1845"/>
                  </a:lnTo>
                  <a:lnTo>
                    <a:pt x="211" y="1868"/>
                  </a:lnTo>
                  <a:lnTo>
                    <a:pt x="225" y="1890"/>
                  </a:lnTo>
                  <a:lnTo>
                    <a:pt x="239" y="1913"/>
                  </a:lnTo>
                  <a:lnTo>
                    <a:pt x="252" y="1935"/>
                  </a:lnTo>
                  <a:lnTo>
                    <a:pt x="267" y="1956"/>
                  </a:lnTo>
                  <a:lnTo>
                    <a:pt x="284" y="1978"/>
                  </a:lnTo>
                  <a:lnTo>
                    <a:pt x="300" y="1999"/>
                  </a:lnTo>
                  <a:lnTo>
                    <a:pt x="316" y="2020"/>
                  </a:lnTo>
                  <a:lnTo>
                    <a:pt x="334" y="2040"/>
                  </a:lnTo>
                  <a:lnTo>
                    <a:pt x="350" y="2059"/>
                  </a:lnTo>
                  <a:lnTo>
                    <a:pt x="366" y="2075"/>
                  </a:lnTo>
                  <a:lnTo>
                    <a:pt x="382" y="2093"/>
                  </a:lnTo>
                  <a:lnTo>
                    <a:pt x="400" y="2110"/>
                  </a:lnTo>
                  <a:lnTo>
                    <a:pt x="416" y="2126"/>
                  </a:lnTo>
                  <a:lnTo>
                    <a:pt x="433" y="2144"/>
                  </a:lnTo>
                  <a:lnTo>
                    <a:pt x="451" y="2160"/>
                  </a:lnTo>
                  <a:lnTo>
                    <a:pt x="468" y="2176"/>
                  </a:lnTo>
                  <a:lnTo>
                    <a:pt x="486" y="2193"/>
                  </a:lnTo>
                  <a:lnTo>
                    <a:pt x="503" y="2209"/>
                  </a:lnTo>
                  <a:lnTo>
                    <a:pt x="521" y="2225"/>
                  </a:lnTo>
                  <a:lnTo>
                    <a:pt x="538" y="2241"/>
                  </a:lnTo>
                  <a:lnTo>
                    <a:pt x="556" y="2258"/>
                  </a:lnTo>
                  <a:lnTo>
                    <a:pt x="573" y="2274"/>
                  </a:lnTo>
                  <a:lnTo>
                    <a:pt x="590" y="2291"/>
                  </a:lnTo>
                  <a:lnTo>
                    <a:pt x="606" y="2307"/>
                  </a:lnTo>
                  <a:lnTo>
                    <a:pt x="622" y="2324"/>
                  </a:lnTo>
                  <a:lnTo>
                    <a:pt x="637" y="2341"/>
                  </a:lnTo>
                  <a:lnTo>
                    <a:pt x="652" y="2357"/>
                  </a:lnTo>
                  <a:lnTo>
                    <a:pt x="667" y="2375"/>
                  </a:lnTo>
                  <a:lnTo>
                    <a:pt x="681" y="2392"/>
                  </a:lnTo>
                  <a:lnTo>
                    <a:pt x="693" y="2410"/>
                  </a:lnTo>
                  <a:lnTo>
                    <a:pt x="706" y="2427"/>
                  </a:lnTo>
                  <a:lnTo>
                    <a:pt x="717" y="2445"/>
                  </a:lnTo>
                  <a:lnTo>
                    <a:pt x="728" y="2464"/>
                  </a:lnTo>
                  <a:lnTo>
                    <a:pt x="737" y="2482"/>
                  </a:lnTo>
                  <a:lnTo>
                    <a:pt x="746" y="2501"/>
                  </a:lnTo>
                  <a:lnTo>
                    <a:pt x="753" y="2520"/>
                  </a:lnTo>
                  <a:lnTo>
                    <a:pt x="760" y="2540"/>
                  </a:lnTo>
                  <a:lnTo>
                    <a:pt x="765" y="2559"/>
                  </a:lnTo>
                  <a:lnTo>
                    <a:pt x="769" y="2576"/>
                  </a:lnTo>
                  <a:lnTo>
                    <a:pt x="772" y="2596"/>
                  </a:lnTo>
                  <a:lnTo>
                    <a:pt x="774" y="2615"/>
                  </a:lnTo>
                  <a:lnTo>
                    <a:pt x="776" y="2634"/>
                  </a:lnTo>
                  <a:lnTo>
                    <a:pt x="777" y="2654"/>
                  </a:lnTo>
                  <a:lnTo>
                    <a:pt x="778" y="2674"/>
                  </a:lnTo>
                  <a:lnTo>
                    <a:pt x="778" y="2694"/>
                  </a:lnTo>
                  <a:lnTo>
                    <a:pt x="777" y="2712"/>
                  </a:lnTo>
                  <a:lnTo>
                    <a:pt x="777" y="2732"/>
                  </a:lnTo>
                  <a:lnTo>
                    <a:pt x="776" y="2752"/>
                  </a:lnTo>
                  <a:lnTo>
                    <a:pt x="774" y="2772"/>
                  </a:lnTo>
                  <a:lnTo>
                    <a:pt x="773" y="2792"/>
                  </a:lnTo>
                  <a:lnTo>
                    <a:pt x="771" y="2811"/>
                  </a:lnTo>
                  <a:lnTo>
                    <a:pt x="769" y="2831"/>
                  </a:lnTo>
                  <a:lnTo>
                    <a:pt x="768" y="2851"/>
                  </a:lnTo>
                  <a:lnTo>
                    <a:pt x="766" y="2870"/>
                  </a:lnTo>
                  <a:lnTo>
                    <a:pt x="765" y="2889"/>
                  </a:lnTo>
                  <a:lnTo>
                    <a:pt x="765" y="2907"/>
                  </a:lnTo>
                  <a:lnTo>
                    <a:pt x="763" y="2925"/>
                  </a:lnTo>
                  <a:lnTo>
                    <a:pt x="763" y="2944"/>
                  </a:lnTo>
                  <a:lnTo>
                    <a:pt x="763" y="2961"/>
                  </a:lnTo>
                  <a:lnTo>
                    <a:pt x="763" y="2977"/>
                  </a:lnTo>
                  <a:lnTo>
                    <a:pt x="765" y="2995"/>
                  </a:lnTo>
                  <a:lnTo>
                    <a:pt x="766" y="3011"/>
                  </a:lnTo>
                  <a:lnTo>
                    <a:pt x="768" y="3026"/>
                  </a:lnTo>
                  <a:lnTo>
                    <a:pt x="772" y="3041"/>
                  </a:lnTo>
                  <a:lnTo>
                    <a:pt x="776" y="3056"/>
                  </a:lnTo>
                  <a:lnTo>
                    <a:pt x="781" y="3070"/>
                  </a:lnTo>
                  <a:lnTo>
                    <a:pt x="784" y="3079"/>
                  </a:lnTo>
                  <a:lnTo>
                    <a:pt x="789" y="3087"/>
                  </a:lnTo>
                  <a:lnTo>
                    <a:pt x="793" y="3096"/>
                  </a:lnTo>
                  <a:lnTo>
                    <a:pt x="799" y="3105"/>
                  </a:lnTo>
                  <a:lnTo>
                    <a:pt x="804" y="3112"/>
                  </a:lnTo>
                  <a:lnTo>
                    <a:pt x="811" y="3120"/>
                  </a:lnTo>
                  <a:lnTo>
                    <a:pt x="817" y="3127"/>
                  </a:lnTo>
                  <a:lnTo>
                    <a:pt x="823" y="3134"/>
                  </a:lnTo>
                  <a:lnTo>
                    <a:pt x="831" y="3141"/>
                  </a:lnTo>
                  <a:lnTo>
                    <a:pt x="837" y="3147"/>
                  </a:lnTo>
                  <a:lnTo>
                    <a:pt x="844" y="3154"/>
                  </a:lnTo>
                  <a:lnTo>
                    <a:pt x="853" y="3159"/>
                  </a:lnTo>
                  <a:lnTo>
                    <a:pt x="861" y="3165"/>
                  </a:lnTo>
                  <a:lnTo>
                    <a:pt x="869" y="3170"/>
                  </a:lnTo>
                  <a:lnTo>
                    <a:pt x="878" y="3175"/>
                  </a:lnTo>
                  <a:lnTo>
                    <a:pt x="887" y="3180"/>
                  </a:lnTo>
                  <a:lnTo>
                    <a:pt x="897" y="3185"/>
                  </a:lnTo>
                  <a:lnTo>
                    <a:pt x="906" y="3189"/>
                  </a:lnTo>
                  <a:lnTo>
                    <a:pt x="916" y="3192"/>
                  </a:lnTo>
                  <a:lnTo>
                    <a:pt x="926" y="3196"/>
                  </a:lnTo>
                  <a:lnTo>
                    <a:pt x="936" y="3200"/>
                  </a:lnTo>
                  <a:lnTo>
                    <a:pt x="946" y="3204"/>
                  </a:lnTo>
                  <a:lnTo>
                    <a:pt x="956" y="3206"/>
                  </a:lnTo>
                  <a:lnTo>
                    <a:pt x="967" y="3209"/>
                  </a:lnTo>
                  <a:lnTo>
                    <a:pt x="977" y="3211"/>
                  </a:lnTo>
                  <a:lnTo>
                    <a:pt x="988" y="3214"/>
                  </a:lnTo>
                  <a:lnTo>
                    <a:pt x="999" y="3216"/>
                  </a:lnTo>
                  <a:lnTo>
                    <a:pt x="1021" y="3219"/>
                  </a:lnTo>
                  <a:lnTo>
                    <a:pt x="1043" y="3221"/>
                  </a:lnTo>
                  <a:lnTo>
                    <a:pt x="1067" y="3222"/>
                  </a:lnTo>
                  <a:lnTo>
                    <a:pt x="1089" y="3222"/>
                  </a:lnTo>
                  <a:lnTo>
                    <a:pt x="1113" y="3222"/>
                  </a:lnTo>
                  <a:lnTo>
                    <a:pt x="1137" y="3221"/>
                  </a:lnTo>
                  <a:lnTo>
                    <a:pt x="1160" y="3219"/>
                  </a:lnTo>
                  <a:lnTo>
                    <a:pt x="1184" y="3215"/>
                  </a:lnTo>
                  <a:lnTo>
                    <a:pt x="1208" y="3211"/>
                  </a:lnTo>
                  <a:lnTo>
                    <a:pt x="1233" y="3206"/>
                  </a:lnTo>
                  <a:lnTo>
                    <a:pt x="1257" y="3200"/>
                  </a:lnTo>
                  <a:lnTo>
                    <a:pt x="1280" y="3192"/>
                  </a:lnTo>
                  <a:lnTo>
                    <a:pt x="1305" y="3185"/>
                  </a:lnTo>
                  <a:lnTo>
                    <a:pt x="1329" y="3177"/>
                  </a:lnTo>
                  <a:lnTo>
                    <a:pt x="1353" y="3167"/>
                  </a:lnTo>
                  <a:lnTo>
                    <a:pt x="1378" y="3157"/>
                  </a:lnTo>
                  <a:lnTo>
                    <a:pt x="1402" y="3146"/>
                  </a:lnTo>
                  <a:lnTo>
                    <a:pt x="1425" y="3135"/>
                  </a:lnTo>
                  <a:lnTo>
                    <a:pt x="1448" y="3122"/>
                  </a:lnTo>
                  <a:lnTo>
                    <a:pt x="1472" y="3110"/>
                  </a:lnTo>
                  <a:lnTo>
                    <a:pt x="1494" y="3096"/>
                  </a:lnTo>
                  <a:lnTo>
                    <a:pt x="1517" y="3081"/>
                  </a:lnTo>
                  <a:lnTo>
                    <a:pt x="1539" y="3066"/>
                  </a:lnTo>
                  <a:lnTo>
                    <a:pt x="1560" y="3050"/>
                  </a:lnTo>
                  <a:lnTo>
                    <a:pt x="1581" y="3032"/>
                  </a:lnTo>
                  <a:lnTo>
                    <a:pt x="1603" y="3015"/>
                  </a:lnTo>
                  <a:lnTo>
                    <a:pt x="1623" y="2997"/>
                  </a:lnTo>
                  <a:lnTo>
                    <a:pt x="1641" y="2980"/>
                  </a:lnTo>
                  <a:lnTo>
                    <a:pt x="1659" y="2962"/>
                  </a:lnTo>
                  <a:lnTo>
                    <a:pt x="1676" y="2944"/>
                  </a:lnTo>
                  <a:lnTo>
                    <a:pt x="1693" y="2925"/>
                  </a:lnTo>
                  <a:lnTo>
                    <a:pt x="1710" y="2905"/>
                  </a:lnTo>
                  <a:lnTo>
                    <a:pt x="1725" y="2886"/>
                  </a:lnTo>
                  <a:lnTo>
                    <a:pt x="1741" y="2865"/>
                  </a:lnTo>
                  <a:lnTo>
                    <a:pt x="1756" y="2845"/>
                  </a:lnTo>
                  <a:lnTo>
                    <a:pt x="1771" y="2824"/>
                  </a:lnTo>
                  <a:lnTo>
                    <a:pt x="1786" y="2802"/>
                  </a:lnTo>
                  <a:lnTo>
                    <a:pt x="1800" y="2781"/>
                  </a:lnTo>
                  <a:lnTo>
                    <a:pt x="1814" y="2759"/>
                  </a:lnTo>
                  <a:lnTo>
                    <a:pt x="1828" y="2736"/>
                  </a:lnTo>
                  <a:lnTo>
                    <a:pt x="1841" y="2714"/>
                  </a:lnTo>
                  <a:lnTo>
                    <a:pt x="1854" y="2691"/>
                  </a:lnTo>
                  <a:lnTo>
                    <a:pt x="1866" y="2667"/>
                  </a:lnTo>
                  <a:lnTo>
                    <a:pt x="1879" y="2645"/>
                  </a:lnTo>
                  <a:lnTo>
                    <a:pt x="1890" y="2621"/>
                  </a:lnTo>
                  <a:lnTo>
                    <a:pt x="1903" y="2597"/>
                  </a:lnTo>
                  <a:lnTo>
                    <a:pt x="1914" y="2574"/>
                  </a:lnTo>
                  <a:lnTo>
                    <a:pt x="1925" y="2550"/>
                  </a:lnTo>
                  <a:lnTo>
                    <a:pt x="1935" y="2525"/>
                  </a:lnTo>
                  <a:lnTo>
                    <a:pt x="1946" y="2501"/>
                  </a:lnTo>
                  <a:lnTo>
                    <a:pt x="1956" y="2477"/>
                  </a:lnTo>
                  <a:lnTo>
                    <a:pt x="1966" y="2452"/>
                  </a:lnTo>
                  <a:lnTo>
                    <a:pt x="1976" y="2429"/>
                  </a:lnTo>
                  <a:lnTo>
                    <a:pt x="1986" y="2405"/>
                  </a:lnTo>
                  <a:lnTo>
                    <a:pt x="2007" y="2350"/>
                  </a:lnTo>
                  <a:lnTo>
                    <a:pt x="2029" y="2296"/>
                  </a:lnTo>
                  <a:lnTo>
                    <a:pt x="2047" y="2243"/>
                  </a:lnTo>
                  <a:lnTo>
                    <a:pt x="2067" y="2189"/>
                  </a:lnTo>
                  <a:lnTo>
                    <a:pt x="2085" y="2135"/>
                  </a:lnTo>
                  <a:lnTo>
                    <a:pt x="2102" y="2083"/>
                  </a:lnTo>
                  <a:lnTo>
                    <a:pt x="2120" y="2029"/>
                  </a:lnTo>
                  <a:lnTo>
                    <a:pt x="2137" y="1975"/>
                  </a:lnTo>
                  <a:lnTo>
                    <a:pt x="2154" y="1921"/>
                  </a:lnTo>
                  <a:lnTo>
                    <a:pt x="2169" y="1868"/>
                  </a:lnTo>
                  <a:lnTo>
                    <a:pt x="2185" y="1814"/>
                  </a:lnTo>
                  <a:lnTo>
                    <a:pt x="2200" y="1760"/>
                  </a:lnTo>
                  <a:lnTo>
                    <a:pt x="2215" y="1705"/>
                  </a:lnTo>
                  <a:lnTo>
                    <a:pt x="2230" y="1651"/>
                  </a:lnTo>
                  <a:lnTo>
                    <a:pt x="2245" y="1596"/>
                  </a:lnTo>
                  <a:lnTo>
                    <a:pt x="2260" y="1541"/>
                  </a:lnTo>
                  <a:lnTo>
                    <a:pt x="2275" y="1486"/>
                  </a:lnTo>
                  <a:lnTo>
                    <a:pt x="2290" y="1431"/>
                  </a:lnTo>
                  <a:lnTo>
                    <a:pt x="2305" y="1375"/>
                  </a:lnTo>
                  <a:lnTo>
                    <a:pt x="2320" y="1319"/>
                  </a:lnTo>
                  <a:lnTo>
                    <a:pt x="2336" y="1263"/>
                  </a:lnTo>
                  <a:lnTo>
                    <a:pt x="2351" y="1205"/>
                  </a:lnTo>
                  <a:lnTo>
                    <a:pt x="2368" y="1148"/>
                  </a:lnTo>
                  <a:lnTo>
                    <a:pt x="2385" y="1090"/>
                  </a:lnTo>
                  <a:lnTo>
                    <a:pt x="2402" y="1031"/>
                  </a:lnTo>
                  <a:lnTo>
                    <a:pt x="2406" y="1021"/>
                  </a:lnTo>
                  <a:lnTo>
                    <a:pt x="2408" y="1010"/>
                  </a:lnTo>
                  <a:lnTo>
                    <a:pt x="2412" y="999"/>
                  </a:lnTo>
                  <a:lnTo>
                    <a:pt x="2415" y="989"/>
                  </a:lnTo>
                  <a:lnTo>
                    <a:pt x="2418" y="978"/>
                  </a:lnTo>
                  <a:lnTo>
                    <a:pt x="2422" y="967"/>
                  </a:lnTo>
                  <a:lnTo>
                    <a:pt x="2425" y="957"/>
                  </a:lnTo>
                  <a:lnTo>
                    <a:pt x="2428" y="945"/>
                  </a:lnTo>
                  <a:lnTo>
                    <a:pt x="2432" y="934"/>
                  </a:lnTo>
                  <a:lnTo>
                    <a:pt x="2435" y="923"/>
                  </a:lnTo>
                  <a:lnTo>
                    <a:pt x="2438" y="913"/>
                  </a:lnTo>
                  <a:lnTo>
                    <a:pt x="2441" y="902"/>
                  </a:lnTo>
                  <a:lnTo>
                    <a:pt x="2445" y="890"/>
                  </a:lnTo>
                  <a:lnTo>
                    <a:pt x="2447" y="880"/>
                  </a:lnTo>
                  <a:lnTo>
                    <a:pt x="2451" y="869"/>
                  </a:lnTo>
                  <a:lnTo>
                    <a:pt x="2453" y="858"/>
                  </a:lnTo>
                  <a:lnTo>
                    <a:pt x="2457" y="848"/>
                  </a:lnTo>
                  <a:lnTo>
                    <a:pt x="2460" y="837"/>
                  </a:lnTo>
                  <a:lnTo>
                    <a:pt x="2463" y="825"/>
                  </a:lnTo>
                  <a:lnTo>
                    <a:pt x="2466" y="815"/>
                  </a:lnTo>
                  <a:lnTo>
                    <a:pt x="2468" y="804"/>
                  </a:lnTo>
                  <a:lnTo>
                    <a:pt x="2471" y="794"/>
                  </a:lnTo>
                  <a:lnTo>
                    <a:pt x="2473" y="783"/>
                  </a:lnTo>
                  <a:lnTo>
                    <a:pt x="2476" y="773"/>
                  </a:lnTo>
                  <a:lnTo>
                    <a:pt x="2478" y="762"/>
                  </a:lnTo>
                  <a:lnTo>
                    <a:pt x="2481" y="752"/>
                  </a:lnTo>
                  <a:lnTo>
                    <a:pt x="2483" y="742"/>
                  </a:lnTo>
                  <a:lnTo>
                    <a:pt x="2486" y="730"/>
                  </a:lnTo>
                  <a:lnTo>
                    <a:pt x="2488" y="720"/>
                  </a:lnTo>
                  <a:lnTo>
                    <a:pt x="2490" y="710"/>
                  </a:lnTo>
                  <a:lnTo>
                    <a:pt x="2492" y="699"/>
                  </a:lnTo>
                  <a:lnTo>
                    <a:pt x="2495" y="689"/>
                  </a:lnTo>
                  <a:lnTo>
                    <a:pt x="2496" y="679"/>
                  </a:lnTo>
                  <a:lnTo>
                    <a:pt x="2497" y="669"/>
                  </a:lnTo>
                  <a:lnTo>
                    <a:pt x="2498" y="659"/>
                  </a:lnTo>
                  <a:lnTo>
                    <a:pt x="2500" y="649"/>
                  </a:lnTo>
                  <a:lnTo>
                    <a:pt x="2501" y="639"/>
                  </a:lnTo>
                  <a:lnTo>
                    <a:pt x="2502" y="629"/>
                  </a:lnTo>
                  <a:lnTo>
                    <a:pt x="2503" y="619"/>
                  </a:lnTo>
                  <a:lnTo>
                    <a:pt x="2505" y="609"/>
                  </a:lnTo>
                  <a:lnTo>
                    <a:pt x="2505" y="600"/>
                  </a:lnTo>
                  <a:lnTo>
                    <a:pt x="2506" y="590"/>
                  </a:lnTo>
                  <a:lnTo>
                    <a:pt x="2506" y="580"/>
                  </a:lnTo>
                  <a:lnTo>
                    <a:pt x="2506" y="572"/>
                  </a:lnTo>
                  <a:lnTo>
                    <a:pt x="2506" y="562"/>
                  </a:lnTo>
                  <a:lnTo>
                    <a:pt x="2506" y="553"/>
                  </a:lnTo>
                  <a:lnTo>
                    <a:pt x="2506" y="543"/>
                  </a:lnTo>
                  <a:lnTo>
                    <a:pt x="2503" y="509"/>
                  </a:lnTo>
                  <a:lnTo>
                    <a:pt x="2498" y="475"/>
                  </a:lnTo>
                  <a:lnTo>
                    <a:pt x="2491" y="443"/>
                  </a:lnTo>
                  <a:lnTo>
                    <a:pt x="2481" y="413"/>
                  </a:lnTo>
                  <a:lnTo>
                    <a:pt x="2468" y="383"/>
                  </a:lnTo>
                  <a:lnTo>
                    <a:pt x="2455" y="354"/>
                  </a:lnTo>
                  <a:lnTo>
                    <a:pt x="2438" y="328"/>
                  </a:lnTo>
                  <a:lnTo>
                    <a:pt x="2420" y="302"/>
                  </a:lnTo>
                  <a:lnTo>
                    <a:pt x="2398" y="278"/>
                  </a:lnTo>
                  <a:lnTo>
                    <a:pt x="2376" y="254"/>
                  </a:lnTo>
                  <a:lnTo>
                    <a:pt x="2351" y="232"/>
                  </a:lnTo>
                  <a:lnTo>
                    <a:pt x="2325" y="210"/>
                  </a:lnTo>
                  <a:lnTo>
                    <a:pt x="2297" y="190"/>
                  </a:lnTo>
                  <a:lnTo>
                    <a:pt x="2267" y="172"/>
                  </a:lnTo>
                  <a:lnTo>
                    <a:pt x="2236" y="154"/>
                  </a:lnTo>
                  <a:lnTo>
                    <a:pt x="2204" y="138"/>
                  </a:lnTo>
                  <a:lnTo>
                    <a:pt x="2169" y="122"/>
                  </a:lnTo>
                  <a:lnTo>
                    <a:pt x="2134" y="108"/>
                  </a:lnTo>
                  <a:lnTo>
                    <a:pt x="2096" y="94"/>
                  </a:lnTo>
                  <a:lnTo>
                    <a:pt x="2059" y="82"/>
                  </a:lnTo>
                  <a:lnTo>
                    <a:pt x="2019" y="70"/>
                  </a:lnTo>
                  <a:lnTo>
                    <a:pt x="1979" y="59"/>
                  </a:lnTo>
                  <a:lnTo>
                    <a:pt x="1937" y="49"/>
                  </a:lnTo>
                  <a:lnTo>
                    <a:pt x="1895" y="40"/>
                  </a:lnTo>
                  <a:lnTo>
                    <a:pt x="1851" y="33"/>
                  </a:lnTo>
                  <a:lnTo>
                    <a:pt x="1808" y="27"/>
                  </a:lnTo>
                  <a:lnTo>
                    <a:pt x="1763" y="20"/>
                  </a:lnTo>
                  <a:lnTo>
                    <a:pt x="1718" y="15"/>
                  </a:lnTo>
                  <a:lnTo>
                    <a:pt x="1671" y="10"/>
                  </a:lnTo>
                  <a:lnTo>
                    <a:pt x="1625" y="7"/>
                  </a:lnTo>
                  <a:lnTo>
                    <a:pt x="1578" y="4"/>
                  </a:lnTo>
                  <a:lnTo>
                    <a:pt x="1530" y="3"/>
                  </a:lnTo>
                  <a:lnTo>
                    <a:pt x="1483" y="2"/>
                  </a:lnTo>
                  <a:lnTo>
                    <a:pt x="1434" y="0"/>
                  </a:lnTo>
                  <a:lnTo>
                    <a:pt x="1387" y="2"/>
                  </a:lnTo>
                  <a:lnTo>
                    <a:pt x="1338" y="2"/>
                  </a:lnTo>
                  <a:lnTo>
                    <a:pt x="1290" y="4"/>
                  </a:lnTo>
                  <a:lnTo>
                    <a:pt x="1242" y="7"/>
                  </a:lnTo>
                  <a:lnTo>
                    <a:pt x="1194" y="9"/>
                  </a:lnTo>
                  <a:lnTo>
                    <a:pt x="1146" y="13"/>
                  </a:lnTo>
                  <a:lnTo>
                    <a:pt x="1098" y="17"/>
                  </a:lnTo>
                  <a:lnTo>
                    <a:pt x="1052" y="22"/>
                  </a:lnTo>
                  <a:lnTo>
                    <a:pt x="1004" y="28"/>
                  </a:lnTo>
                  <a:lnTo>
                    <a:pt x="958" y="33"/>
                  </a:lnTo>
                  <a:lnTo>
                    <a:pt x="912" y="40"/>
                  </a:lnTo>
                  <a:lnTo>
                    <a:pt x="867" y="47"/>
                  </a:lnTo>
                  <a:lnTo>
                    <a:pt x="822" y="54"/>
                  </a:lnTo>
                  <a:lnTo>
                    <a:pt x="789" y="60"/>
                  </a:lnTo>
                  <a:lnTo>
                    <a:pt x="757" y="67"/>
                  </a:lnTo>
                  <a:lnTo>
                    <a:pt x="726" y="73"/>
                  </a:lnTo>
                  <a:lnTo>
                    <a:pt x="695" y="80"/>
                  </a:lnTo>
                  <a:lnTo>
                    <a:pt x="663" y="88"/>
                  </a:lnTo>
                  <a:lnTo>
                    <a:pt x="633" y="95"/>
                  </a:lnTo>
                  <a:lnTo>
                    <a:pt x="603" y="103"/>
                  </a:lnTo>
                  <a:lnTo>
                    <a:pt x="575" y="112"/>
                  </a:lnTo>
                  <a:lnTo>
                    <a:pt x="546" y="120"/>
                  </a:lnTo>
                  <a:lnTo>
                    <a:pt x="517" y="130"/>
                  </a:lnTo>
                  <a:lnTo>
                    <a:pt x="490" y="140"/>
                  </a:lnTo>
                  <a:lnTo>
                    <a:pt x="463" y="150"/>
                  </a:lnTo>
                  <a:lnTo>
                    <a:pt x="437" y="162"/>
                  </a:lnTo>
                  <a:lnTo>
                    <a:pt x="412" y="173"/>
                  </a:lnTo>
                  <a:lnTo>
                    <a:pt x="387" y="185"/>
                  </a:lnTo>
                  <a:lnTo>
                    <a:pt x="364" y="198"/>
                  </a:lnTo>
                  <a:lnTo>
                    <a:pt x="340" y="210"/>
                  </a:lnTo>
                  <a:lnTo>
                    <a:pt x="317" y="225"/>
                  </a:lnTo>
                  <a:lnTo>
                    <a:pt x="296" y="239"/>
                  </a:lnTo>
                  <a:lnTo>
                    <a:pt x="275" y="254"/>
                  </a:lnTo>
                  <a:lnTo>
                    <a:pt x="255" y="270"/>
                  </a:lnTo>
                  <a:lnTo>
                    <a:pt x="236" y="288"/>
                  </a:lnTo>
                  <a:lnTo>
                    <a:pt x="217" y="305"/>
                  </a:lnTo>
                  <a:lnTo>
                    <a:pt x="200" y="323"/>
                  </a:lnTo>
                  <a:lnTo>
                    <a:pt x="184" y="342"/>
                  </a:lnTo>
                  <a:lnTo>
                    <a:pt x="169" y="362"/>
                  </a:lnTo>
                  <a:lnTo>
                    <a:pt x="154" y="383"/>
                  </a:lnTo>
                  <a:lnTo>
                    <a:pt x="140" y="404"/>
                  </a:lnTo>
                  <a:lnTo>
                    <a:pt x="127" y="427"/>
                  </a:lnTo>
                  <a:lnTo>
                    <a:pt x="116" y="45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626280" y="1530360"/>
            <a:ext cx="170928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u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ontinent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278400" y="2130480"/>
            <a:ext cx="1762200" cy="2280960"/>
            <a:chOff x="6278400" y="2130480"/>
            <a:chExt cx="1762200" cy="2280960"/>
          </a:xfrm>
        </p:grpSpPr>
        <p:grpSp>
          <p:nvGrpSpPr>
            <p:cNvPr id="1069" name=""/>
            <p:cNvGrpSpPr/>
            <p:nvPr/>
          </p:nvGrpSpPr>
          <p:grpSpPr>
            <a:xfrm>
              <a:off x="6278400" y="2130480"/>
              <a:ext cx="1754280" cy="2280960"/>
              <a:chOff x="6278400" y="2130480"/>
              <a:chExt cx="1754280" cy="2280960"/>
            </a:xfrm>
          </p:grpSpPr>
          <p:sp>
            <p:nvSpPr>
              <p:cNvPr id="1070" name=""/>
              <p:cNvSpPr/>
              <p:nvPr/>
            </p:nvSpPr>
            <p:spPr>
              <a:xfrm>
                <a:off x="7380000" y="3298320"/>
                <a:ext cx="648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3079440"/>
                <a:ext cx="20880" cy="468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0" y="5"/>
                    </a:moveTo>
                    <a:lnTo>
                      <a:pt x="16" y="14"/>
                    </a:lnTo>
                    <a:lnTo>
                      <a:pt x="34" y="3"/>
                    </a:lnTo>
                    <a:lnTo>
                      <a:pt x="48" y="0"/>
                    </a:lnTo>
                    <a:lnTo>
                      <a:pt x="5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88840" y="307548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25" h="43">
                    <a:moveTo>
                      <a:pt x="0" y="0"/>
                    </a:moveTo>
                    <a:lnTo>
                      <a:pt x="25" y="17"/>
                    </a:lnTo>
                    <a:lnTo>
                      <a:pt x="21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206840" y="309636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35" h="37">
                    <a:moveTo>
                      <a:pt x="0" y="0"/>
                    </a:moveTo>
                    <a:lnTo>
                      <a:pt x="31" y="14"/>
                    </a:lnTo>
                    <a:lnTo>
                      <a:pt x="3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227720" y="3107520"/>
                <a:ext cx="648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36720" y="3123360"/>
                <a:ext cx="108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55440" y="3134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25" y="9"/>
                    </a:lnTo>
                    <a:lnTo>
                      <a:pt x="1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77760" y="3138480"/>
                <a:ext cx="6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92160" y="314424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14"/>
                    </a:moveTo>
                    <a:lnTo>
                      <a:pt x="13" y="0"/>
                    </a:lnTo>
                    <a:lnTo>
                      <a:pt x="4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124400" y="31111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57" y="0"/>
                    </a:moveTo>
                    <a:lnTo>
                      <a:pt x="52" y="8"/>
                    </a:lnTo>
                    <a:lnTo>
                      <a:pt x="48" y="14"/>
                    </a:lnTo>
                    <a:lnTo>
                      <a:pt x="42" y="18"/>
                    </a:lnTo>
                    <a:lnTo>
                      <a:pt x="34" y="24"/>
                    </a:lnTo>
                    <a:lnTo>
                      <a:pt x="23" y="28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87960" y="2769120"/>
                <a:ext cx="108720" cy="81360"/>
              </a:xfrm>
              <a:custGeom>
                <a:avLst/>
                <a:gdLst/>
                <a:ahLst/>
                <a:rect l="l" t="t" r="r" b="b"/>
                <a:pathLst>
                  <a:path w="292" h="246">
                    <a:moveTo>
                      <a:pt x="211" y="154"/>
                    </a:moveTo>
                    <a:lnTo>
                      <a:pt x="211" y="153"/>
                    </a:lnTo>
                    <a:lnTo>
                      <a:pt x="232" y="138"/>
                    </a:lnTo>
                    <a:lnTo>
                      <a:pt x="227" y="108"/>
                    </a:lnTo>
                    <a:lnTo>
                      <a:pt x="236" y="60"/>
                    </a:lnTo>
                    <a:lnTo>
                      <a:pt x="226" y="45"/>
                    </a:lnTo>
                    <a:lnTo>
                      <a:pt x="251" y="61"/>
                    </a:lnTo>
                    <a:lnTo>
                      <a:pt x="282" y="70"/>
                    </a:lnTo>
                    <a:lnTo>
                      <a:pt x="292" y="51"/>
                    </a:lnTo>
                    <a:lnTo>
                      <a:pt x="246" y="4"/>
                    </a:lnTo>
                    <a:lnTo>
                      <a:pt x="189" y="0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5" y="6"/>
                    </a:lnTo>
                    <a:lnTo>
                      <a:pt x="132" y="21"/>
                    </a:lnTo>
                    <a:lnTo>
                      <a:pt x="89" y="24"/>
                    </a:lnTo>
                    <a:lnTo>
                      <a:pt x="30" y="44"/>
                    </a:lnTo>
                    <a:lnTo>
                      <a:pt x="0" y="104"/>
                    </a:lnTo>
                    <a:lnTo>
                      <a:pt x="25" y="85"/>
                    </a:lnTo>
                    <a:lnTo>
                      <a:pt x="9" y="173"/>
                    </a:lnTo>
                    <a:lnTo>
                      <a:pt x="15" y="223"/>
                    </a:lnTo>
                    <a:lnTo>
                      <a:pt x="31" y="246"/>
                    </a:lnTo>
                    <a:lnTo>
                      <a:pt x="46" y="245"/>
                    </a:lnTo>
                    <a:lnTo>
                      <a:pt x="63" y="234"/>
                    </a:lnTo>
                    <a:lnTo>
                      <a:pt x="69" y="218"/>
                    </a:lnTo>
                    <a:lnTo>
                      <a:pt x="71" y="188"/>
                    </a:lnTo>
                    <a:lnTo>
                      <a:pt x="56" y="124"/>
                    </a:lnTo>
                    <a:lnTo>
                      <a:pt x="65" y="80"/>
                    </a:lnTo>
                    <a:lnTo>
                      <a:pt x="90" y="65"/>
                    </a:lnTo>
                    <a:lnTo>
                      <a:pt x="100" y="39"/>
                    </a:lnTo>
                    <a:lnTo>
                      <a:pt x="118" y="35"/>
                    </a:lnTo>
                    <a:lnTo>
                      <a:pt x="151" y="48"/>
                    </a:lnTo>
                    <a:lnTo>
                      <a:pt x="164" y="64"/>
                    </a:lnTo>
                    <a:lnTo>
                      <a:pt x="167" y="93"/>
                    </a:lnTo>
                    <a:lnTo>
                      <a:pt x="152" y="119"/>
                    </a:lnTo>
                    <a:lnTo>
                      <a:pt x="156" y="136"/>
                    </a:lnTo>
                    <a:lnTo>
                      <a:pt x="169" y="118"/>
                    </a:lnTo>
                    <a:lnTo>
                      <a:pt x="184" y="106"/>
                    </a:lnTo>
                    <a:lnTo>
                      <a:pt x="211" y="153"/>
                    </a:lnTo>
                    <a:lnTo>
                      <a:pt x="211" y="1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55640" y="2815920"/>
                <a:ext cx="59760" cy="3060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63" y="0"/>
                    </a:moveTo>
                    <a:lnTo>
                      <a:pt x="163" y="0"/>
                    </a:lnTo>
                    <a:lnTo>
                      <a:pt x="150" y="20"/>
                    </a:lnTo>
                    <a:lnTo>
                      <a:pt x="69" y="82"/>
                    </a:lnTo>
                    <a:lnTo>
                      <a:pt x="26" y="93"/>
                    </a:lnTo>
                    <a:lnTo>
                      <a:pt x="0" y="84"/>
                    </a:lnTo>
                    <a:lnTo>
                      <a:pt x="13" y="69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34" y="65"/>
                    </a:lnTo>
                    <a:lnTo>
                      <a:pt x="58" y="50"/>
                    </a:lnTo>
                    <a:lnTo>
                      <a:pt x="68" y="32"/>
                    </a:lnTo>
                    <a:lnTo>
                      <a:pt x="88" y="24"/>
                    </a:lnTo>
                    <a:lnTo>
                      <a:pt x="105" y="25"/>
                    </a:lnTo>
                    <a:lnTo>
                      <a:pt x="114" y="10"/>
                    </a:lnTo>
                    <a:lnTo>
                      <a:pt x="163" y="0"/>
                    </a:lnTo>
                    <a:lnTo>
                      <a:pt x="1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101360" y="2784960"/>
                <a:ext cx="46440" cy="2772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26" y="77"/>
                    </a:moveTo>
                    <a:lnTo>
                      <a:pt x="26" y="77"/>
                    </a:lnTo>
                    <a:lnTo>
                      <a:pt x="19" y="82"/>
                    </a:lnTo>
                    <a:lnTo>
                      <a:pt x="0" y="80"/>
                    </a:lnTo>
                    <a:lnTo>
                      <a:pt x="8" y="57"/>
                    </a:lnTo>
                    <a:lnTo>
                      <a:pt x="68" y="30"/>
                    </a:lnTo>
                    <a:lnTo>
                      <a:pt x="93" y="27"/>
                    </a:lnTo>
                    <a:lnTo>
                      <a:pt x="101" y="12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8" y="17"/>
                    </a:lnTo>
                    <a:lnTo>
                      <a:pt x="126" y="42"/>
                    </a:lnTo>
                    <a:lnTo>
                      <a:pt x="84" y="63"/>
                    </a:lnTo>
                    <a:lnTo>
                      <a:pt x="43" y="67"/>
                    </a:lnTo>
                    <a:lnTo>
                      <a:pt x="26" y="77"/>
                    </a:lnTo>
                    <a:lnTo>
                      <a:pt x="26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932520" y="2732400"/>
                <a:ext cx="97560" cy="41760"/>
              </a:xfrm>
              <a:custGeom>
                <a:avLst/>
                <a:gdLst/>
                <a:ahLst/>
                <a:rect l="l" t="t" r="r" b="b"/>
                <a:pathLst>
                  <a:path w="264" h="128">
                    <a:moveTo>
                      <a:pt x="72" y="53"/>
                    </a:moveTo>
                    <a:lnTo>
                      <a:pt x="72" y="53"/>
                    </a:lnTo>
                    <a:lnTo>
                      <a:pt x="96" y="31"/>
                    </a:lnTo>
                    <a:lnTo>
                      <a:pt x="119" y="16"/>
                    </a:lnTo>
                    <a:lnTo>
                      <a:pt x="127" y="0"/>
                    </a:lnTo>
                    <a:lnTo>
                      <a:pt x="154" y="8"/>
                    </a:lnTo>
                    <a:lnTo>
                      <a:pt x="181" y="6"/>
                    </a:lnTo>
                    <a:lnTo>
                      <a:pt x="195" y="28"/>
                    </a:lnTo>
                    <a:lnTo>
                      <a:pt x="212" y="45"/>
                    </a:lnTo>
                    <a:lnTo>
                      <a:pt x="237" y="41"/>
                    </a:lnTo>
                    <a:lnTo>
                      <a:pt x="239" y="58"/>
                    </a:lnTo>
                    <a:lnTo>
                      <a:pt x="251" y="68"/>
                    </a:lnTo>
                    <a:lnTo>
                      <a:pt x="251" y="8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45" y="111"/>
                    </a:lnTo>
                    <a:lnTo>
                      <a:pt x="244" y="98"/>
                    </a:lnTo>
                    <a:lnTo>
                      <a:pt x="216" y="106"/>
                    </a:lnTo>
                    <a:lnTo>
                      <a:pt x="189" y="121"/>
                    </a:lnTo>
                    <a:lnTo>
                      <a:pt x="165" y="124"/>
                    </a:lnTo>
                    <a:lnTo>
                      <a:pt x="150" y="104"/>
                    </a:lnTo>
                    <a:lnTo>
                      <a:pt x="126" y="111"/>
                    </a:lnTo>
                    <a:lnTo>
                      <a:pt x="125" y="94"/>
                    </a:lnTo>
                    <a:lnTo>
                      <a:pt x="146" y="76"/>
                    </a:lnTo>
                    <a:lnTo>
                      <a:pt x="129" y="78"/>
                    </a:lnTo>
                    <a:lnTo>
                      <a:pt x="106" y="99"/>
                    </a:lnTo>
                    <a:lnTo>
                      <a:pt x="56" y="128"/>
                    </a:lnTo>
                    <a:lnTo>
                      <a:pt x="40" y="108"/>
                    </a:lnTo>
                    <a:lnTo>
                      <a:pt x="16" y="122"/>
                    </a:lnTo>
                    <a:lnTo>
                      <a:pt x="0" y="122"/>
                    </a:lnTo>
                    <a:lnTo>
                      <a:pt x="51" y="71"/>
                    </a:lnTo>
                    <a:lnTo>
                      <a:pt x="72" y="53"/>
                    </a:lnTo>
                    <a:lnTo>
                      <a:pt x="72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955560" y="3178080"/>
                <a:ext cx="193320" cy="39600"/>
              </a:xfrm>
              <a:custGeom>
                <a:avLst/>
                <a:gdLst/>
                <a:ahLst/>
                <a:rect l="l" t="t" r="r" b="b"/>
                <a:pathLst>
                  <a:path w="521" h="118">
                    <a:moveTo>
                      <a:pt x="0" y="118"/>
                    </a:moveTo>
                    <a:lnTo>
                      <a:pt x="130" y="81"/>
                    </a:lnTo>
                    <a:lnTo>
                      <a:pt x="274" y="48"/>
                    </a:lnTo>
                    <a:lnTo>
                      <a:pt x="346" y="34"/>
                    </a:lnTo>
                    <a:lnTo>
                      <a:pt x="412" y="20"/>
                    </a:lnTo>
                    <a:lnTo>
                      <a:pt x="472" y="10"/>
                    </a:lnTo>
                    <a:lnTo>
                      <a:pt x="5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  <a:lnTo>
                      <a:pt x="89" y="2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05480" y="3391200"/>
                <a:ext cx="727200" cy="64944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7311240" y="3389760"/>
              <a:ext cx="729360" cy="650880"/>
            </a:xfrm>
            <a:custGeom>
              <a:avLst/>
              <a:gdLst/>
              <a:ahLst/>
              <a:rect l="l" t="t" r="r" b="b"/>
              <a:pathLst>
                <a:path w="1965" h="1959">
                  <a:moveTo>
                    <a:pt x="971" y="1959"/>
                  </a:moveTo>
                  <a:lnTo>
                    <a:pt x="989" y="1947"/>
                  </a:lnTo>
                  <a:lnTo>
                    <a:pt x="1008" y="1922"/>
                  </a:lnTo>
                  <a:lnTo>
                    <a:pt x="1018" y="1897"/>
                  </a:lnTo>
                  <a:lnTo>
                    <a:pt x="1083" y="1849"/>
                  </a:lnTo>
                  <a:lnTo>
                    <a:pt x="1141" y="1753"/>
                  </a:lnTo>
                  <a:lnTo>
                    <a:pt x="1163" y="1728"/>
                  </a:lnTo>
                  <a:lnTo>
                    <a:pt x="1194" y="1707"/>
                  </a:lnTo>
                  <a:lnTo>
                    <a:pt x="1210" y="1657"/>
                  </a:lnTo>
                  <a:lnTo>
                    <a:pt x="1213" y="1574"/>
                  </a:lnTo>
                  <a:lnTo>
                    <a:pt x="1302" y="1497"/>
                  </a:lnTo>
                  <a:lnTo>
                    <a:pt x="1353" y="1477"/>
                  </a:lnTo>
                  <a:lnTo>
                    <a:pt x="1369" y="1486"/>
                  </a:lnTo>
                  <a:lnTo>
                    <a:pt x="1392" y="1462"/>
                  </a:lnTo>
                  <a:lnTo>
                    <a:pt x="1413" y="1466"/>
                  </a:lnTo>
                  <a:lnTo>
                    <a:pt x="1409" y="1448"/>
                  </a:lnTo>
                  <a:lnTo>
                    <a:pt x="1439" y="1447"/>
                  </a:lnTo>
                  <a:lnTo>
                    <a:pt x="1462" y="1453"/>
                  </a:lnTo>
                  <a:lnTo>
                    <a:pt x="1532" y="1456"/>
                  </a:lnTo>
                  <a:lnTo>
                    <a:pt x="1534" y="1436"/>
                  </a:lnTo>
                  <a:lnTo>
                    <a:pt x="1585" y="1416"/>
                  </a:lnTo>
                  <a:lnTo>
                    <a:pt x="1588" y="1392"/>
                  </a:lnTo>
                  <a:lnTo>
                    <a:pt x="1599" y="1368"/>
                  </a:lnTo>
                  <a:lnTo>
                    <a:pt x="1626" y="1346"/>
                  </a:lnTo>
                  <a:lnTo>
                    <a:pt x="1636" y="1322"/>
                  </a:lnTo>
                  <a:lnTo>
                    <a:pt x="1664" y="1301"/>
                  </a:lnTo>
                  <a:lnTo>
                    <a:pt x="1679" y="1226"/>
                  </a:lnTo>
                  <a:lnTo>
                    <a:pt x="1699" y="1212"/>
                  </a:lnTo>
                  <a:lnTo>
                    <a:pt x="1708" y="1159"/>
                  </a:lnTo>
                  <a:lnTo>
                    <a:pt x="1719" y="1131"/>
                  </a:lnTo>
                  <a:lnTo>
                    <a:pt x="1719" y="1054"/>
                  </a:lnTo>
                  <a:lnTo>
                    <a:pt x="1733" y="998"/>
                  </a:lnTo>
                  <a:lnTo>
                    <a:pt x="1781" y="968"/>
                  </a:lnTo>
                  <a:lnTo>
                    <a:pt x="1839" y="896"/>
                  </a:lnTo>
                  <a:lnTo>
                    <a:pt x="1878" y="873"/>
                  </a:lnTo>
                  <a:lnTo>
                    <a:pt x="1893" y="854"/>
                  </a:lnTo>
                  <a:lnTo>
                    <a:pt x="1916" y="837"/>
                  </a:lnTo>
                  <a:lnTo>
                    <a:pt x="1959" y="772"/>
                  </a:lnTo>
                  <a:lnTo>
                    <a:pt x="1965" y="741"/>
                  </a:lnTo>
                  <a:lnTo>
                    <a:pt x="1961" y="714"/>
                  </a:lnTo>
                  <a:lnTo>
                    <a:pt x="1937" y="623"/>
                  </a:lnTo>
                  <a:lnTo>
                    <a:pt x="1910" y="610"/>
                  </a:lnTo>
                  <a:lnTo>
                    <a:pt x="1883" y="611"/>
                  </a:lnTo>
                  <a:lnTo>
                    <a:pt x="1858" y="602"/>
                  </a:lnTo>
                  <a:lnTo>
                    <a:pt x="1841" y="583"/>
                  </a:lnTo>
                  <a:lnTo>
                    <a:pt x="1816" y="568"/>
                  </a:lnTo>
                  <a:lnTo>
                    <a:pt x="1784" y="528"/>
                  </a:lnTo>
                  <a:lnTo>
                    <a:pt x="1709" y="470"/>
                  </a:lnTo>
                  <a:lnTo>
                    <a:pt x="1633" y="468"/>
                  </a:lnTo>
                  <a:lnTo>
                    <a:pt x="1606" y="452"/>
                  </a:lnTo>
                  <a:lnTo>
                    <a:pt x="1581" y="450"/>
                  </a:lnTo>
                  <a:lnTo>
                    <a:pt x="1556" y="435"/>
                  </a:lnTo>
                  <a:lnTo>
                    <a:pt x="1532" y="426"/>
                  </a:lnTo>
                  <a:lnTo>
                    <a:pt x="1475" y="442"/>
                  </a:lnTo>
                  <a:lnTo>
                    <a:pt x="1484" y="418"/>
                  </a:lnTo>
                  <a:lnTo>
                    <a:pt x="1464" y="373"/>
                  </a:lnTo>
                  <a:lnTo>
                    <a:pt x="1439" y="380"/>
                  </a:lnTo>
                  <a:lnTo>
                    <a:pt x="1429" y="362"/>
                  </a:lnTo>
                  <a:lnTo>
                    <a:pt x="1370" y="341"/>
                  </a:lnTo>
                  <a:lnTo>
                    <a:pt x="1340" y="321"/>
                  </a:lnTo>
                  <a:lnTo>
                    <a:pt x="1310" y="318"/>
                  </a:lnTo>
                  <a:lnTo>
                    <a:pt x="1293" y="325"/>
                  </a:lnTo>
                  <a:lnTo>
                    <a:pt x="1277" y="361"/>
                  </a:lnTo>
                  <a:lnTo>
                    <a:pt x="1264" y="352"/>
                  </a:lnTo>
                  <a:lnTo>
                    <a:pt x="1280" y="298"/>
                  </a:lnTo>
                  <a:lnTo>
                    <a:pt x="1250" y="290"/>
                  </a:lnTo>
                  <a:lnTo>
                    <a:pt x="1225" y="291"/>
                  </a:lnTo>
                  <a:lnTo>
                    <a:pt x="1200" y="285"/>
                  </a:lnTo>
                  <a:lnTo>
                    <a:pt x="1180" y="296"/>
                  </a:lnTo>
                  <a:lnTo>
                    <a:pt x="1178" y="325"/>
                  </a:lnTo>
                  <a:lnTo>
                    <a:pt x="1171" y="358"/>
                  </a:lnTo>
                  <a:lnTo>
                    <a:pt x="1158" y="323"/>
                  </a:lnTo>
                  <a:lnTo>
                    <a:pt x="1128" y="335"/>
                  </a:lnTo>
                  <a:lnTo>
                    <a:pt x="1141" y="282"/>
                  </a:lnTo>
                  <a:lnTo>
                    <a:pt x="1200" y="227"/>
                  </a:lnTo>
                  <a:lnTo>
                    <a:pt x="1205" y="190"/>
                  </a:lnTo>
                  <a:lnTo>
                    <a:pt x="1175" y="183"/>
                  </a:lnTo>
                  <a:lnTo>
                    <a:pt x="1166" y="150"/>
                  </a:lnTo>
                  <a:lnTo>
                    <a:pt x="1148" y="115"/>
                  </a:lnTo>
                  <a:lnTo>
                    <a:pt x="1144" y="90"/>
                  </a:lnTo>
                  <a:lnTo>
                    <a:pt x="1121" y="71"/>
                  </a:lnTo>
                  <a:lnTo>
                    <a:pt x="1121" y="71"/>
                  </a:lnTo>
                  <a:lnTo>
                    <a:pt x="1081" y="123"/>
                  </a:lnTo>
                  <a:lnTo>
                    <a:pt x="1074" y="141"/>
                  </a:lnTo>
                  <a:lnTo>
                    <a:pt x="1051" y="160"/>
                  </a:lnTo>
                  <a:lnTo>
                    <a:pt x="1033" y="165"/>
                  </a:lnTo>
                  <a:lnTo>
                    <a:pt x="1018" y="162"/>
                  </a:lnTo>
                  <a:lnTo>
                    <a:pt x="1003" y="168"/>
                  </a:lnTo>
                  <a:lnTo>
                    <a:pt x="988" y="162"/>
                  </a:lnTo>
                  <a:lnTo>
                    <a:pt x="977" y="150"/>
                  </a:lnTo>
                  <a:lnTo>
                    <a:pt x="942" y="140"/>
                  </a:lnTo>
                  <a:lnTo>
                    <a:pt x="924" y="145"/>
                  </a:lnTo>
                  <a:lnTo>
                    <a:pt x="909" y="141"/>
                  </a:lnTo>
                  <a:lnTo>
                    <a:pt x="894" y="170"/>
                  </a:lnTo>
                  <a:lnTo>
                    <a:pt x="874" y="163"/>
                  </a:lnTo>
                  <a:lnTo>
                    <a:pt x="856" y="166"/>
                  </a:lnTo>
                  <a:lnTo>
                    <a:pt x="842" y="160"/>
                  </a:lnTo>
                  <a:lnTo>
                    <a:pt x="756" y="196"/>
                  </a:lnTo>
                  <a:lnTo>
                    <a:pt x="728" y="185"/>
                  </a:lnTo>
                  <a:lnTo>
                    <a:pt x="717" y="172"/>
                  </a:lnTo>
                  <a:lnTo>
                    <a:pt x="700" y="126"/>
                  </a:lnTo>
                  <a:lnTo>
                    <a:pt x="707" y="76"/>
                  </a:lnTo>
                  <a:lnTo>
                    <a:pt x="717" y="65"/>
                  </a:lnTo>
                  <a:lnTo>
                    <a:pt x="712" y="50"/>
                  </a:lnTo>
                  <a:lnTo>
                    <a:pt x="705" y="35"/>
                  </a:lnTo>
                  <a:lnTo>
                    <a:pt x="692" y="26"/>
                  </a:lnTo>
                  <a:lnTo>
                    <a:pt x="695" y="6"/>
                  </a:lnTo>
                  <a:lnTo>
                    <a:pt x="680" y="0"/>
                  </a:lnTo>
                  <a:lnTo>
                    <a:pt x="662" y="0"/>
                  </a:lnTo>
                  <a:lnTo>
                    <a:pt x="661" y="13"/>
                  </a:lnTo>
                  <a:lnTo>
                    <a:pt x="647" y="28"/>
                  </a:lnTo>
                  <a:lnTo>
                    <a:pt x="618" y="37"/>
                  </a:lnTo>
                  <a:lnTo>
                    <a:pt x="607" y="48"/>
                  </a:lnTo>
                  <a:lnTo>
                    <a:pt x="556" y="58"/>
                  </a:lnTo>
                  <a:lnTo>
                    <a:pt x="537" y="68"/>
                  </a:lnTo>
                  <a:lnTo>
                    <a:pt x="518" y="67"/>
                  </a:lnTo>
                  <a:lnTo>
                    <a:pt x="482" y="52"/>
                  </a:lnTo>
                  <a:lnTo>
                    <a:pt x="466" y="51"/>
                  </a:lnTo>
                  <a:lnTo>
                    <a:pt x="451" y="57"/>
                  </a:lnTo>
                  <a:lnTo>
                    <a:pt x="477" y="82"/>
                  </a:lnTo>
                  <a:lnTo>
                    <a:pt x="475" y="100"/>
                  </a:lnTo>
                  <a:lnTo>
                    <a:pt x="480" y="131"/>
                  </a:lnTo>
                  <a:lnTo>
                    <a:pt x="488" y="141"/>
                  </a:lnTo>
                  <a:lnTo>
                    <a:pt x="506" y="145"/>
                  </a:lnTo>
                  <a:lnTo>
                    <a:pt x="516" y="156"/>
                  </a:lnTo>
                  <a:lnTo>
                    <a:pt x="483" y="172"/>
                  </a:lnTo>
                  <a:lnTo>
                    <a:pt x="476" y="190"/>
                  </a:lnTo>
                  <a:lnTo>
                    <a:pt x="402" y="226"/>
                  </a:lnTo>
                  <a:lnTo>
                    <a:pt x="367" y="227"/>
                  </a:lnTo>
                  <a:lnTo>
                    <a:pt x="344" y="202"/>
                  </a:lnTo>
                  <a:lnTo>
                    <a:pt x="330" y="196"/>
                  </a:lnTo>
                  <a:lnTo>
                    <a:pt x="325" y="182"/>
                  </a:lnTo>
                  <a:lnTo>
                    <a:pt x="314" y="170"/>
                  </a:lnTo>
                  <a:lnTo>
                    <a:pt x="282" y="177"/>
                  </a:lnTo>
                  <a:lnTo>
                    <a:pt x="270" y="185"/>
                  </a:lnTo>
                  <a:lnTo>
                    <a:pt x="199" y="191"/>
                  </a:lnTo>
                  <a:lnTo>
                    <a:pt x="192" y="207"/>
                  </a:lnTo>
                  <a:lnTo>
                    <a:pt x="192" y="221"/>
                  </a:lnTo>
                  <a:lnTo>
                    <a:pt x="222" y="230"/>
                  </a:lnTo>
                  <a:lnTo>
                    <a:pt x="227" y="245"/>
                  </a:lnTo>
                  <a:lnTo>
                    <a:pt x="209" y="242"/>
                  </a:lnTo>
                  <a:lnTo>
                    <a:pt x="194" y="247"/>
                  </a:lnTo>
                  <a:lnTo>
                    <a:pt x="181" y="260"/>
                  </a:lnTo>
                  <a:lnTo>
                    <a:pt x="182" y="290"/>
                  </a:lnTo>
                  <a:lnTo>
                    <a:pt x="206" y="315"/>
                  </a:lnTo>
                  <a:lnTo>
                    <a:pt x="212" y="343"/>
                  </a:lnTo>
                  <a:lnTo>
                    <a:pt x="186" y="486"/>
                  </a:lnTo>
                  <a:lnTo>
                    <a:pt x="102" y="513"/>
                  </a:lnTo>
                  <a:lnTo>
                    <a:pt x="70" y="533"/>
                  </a:lnTo>
                  <a:lnTo>
                    <a:pt x="35" y="581"/>
                  </a:lnTo>
                  <a:lnTo>
                    <a:pt x="31" y="617"/>
                  </a:lnTo>
                  <a:lnTo>
                    <a:pt x="15" y="622"/>
                  </a:lnTo>
                  <a:lnTo>
                    <a:pt x="0" y="660"/>
                  </a:lnTo>
                  <a:lnTo>
                    <a:pt x="0" y="677"/>
                  </a:lnTo>
                  <a:lnTo>
                    <a:pt x="16" y="711"/>
                  </a:lnTo>
                  <a:lnTo>
                    <a:pt x="44" y="737"/>
                  </a:lnTo>
                  <a:lnTo>
                    <a:pt x="41" y="754"/>
                  </a:lnTo>
                  <a:lnTo>
                    <a:pt x="72" y="761"/>
                  </a:lnTo>
                  <a:lnTo>
                    <a:pt x="80" y="773"/>
                  </a:lnTo>
                  <a:lnTo>
                    <a:pt x="97" y="782"/>
                  </a:lnTo>
                  <a:lnTo>
                    <a:pt x="119" y="779"/>
                  </a:lnTo>
                  <a:lnTo>
                    <a:pt x="157" y="748"/>
                  </a:lnTo>
                  <a:lnTo>
                    <a:pt x="166" y="762"/>
                  </a:lnTo>
                  <a:lnTo>
                    <a:pt x="167" y="824"/>
                  </a:lnTo>
                  <a:lnTo>
                    <a:pt x="186" y="829"/>
                  </a:lnTo>
                  <a:lnTo>
                    <a:pt x="210" y="822"/>
                  </a:lnTo>
                  <a:lnTo>
                    <a:pt x="241" y="824"/>
                  </a:lnTo>
                  <a:lnTo>
                    <a:pt x="279" y="819"/>
                  </a:lnTo>
                  <a:lnTo>
                    <a:pt x="314" y="801"/>
                  </a:lnTo>
                  <a:lnTo>
                    <a:pt x="356" y="757"/>
                  </a:lnTo>
                  <a:lnTo>
                    <a:pt x="404" y="748"/>
                  </a:lnTo>
                  <a:lnTo>
                    <a:pt x="421" y="749"/>
                  </a:lnTo>
                  <a:lnTo>
                    <a:pt x="427" y="763"/>
                  </a:lnTo>
                  <a:lnTo>
                    <a:pt x="428" y="784"/>
                  </a:lnTo>
                  <a:lnTo>
                    <a:pt x="422" y="828"/>
                  </a:lnTo>
                  <a:lnTo>
                    <a:pt x="432" y="856"/>
                  </a:lnTo>
                  <a:lnTo>
                    <a:pt x="443" y="864"/>
                  </a:lnTo>
                  <a:lnTo>
                    <a:pt x="468" y="882"/>
                  </a:lnTo>
                  <a:lnTo>
                    <a:pt x="526" y="889"/>
                  </a:lnTo>
                  <a:lnTo>
                    <a:pt x="550" y="909"/>
                  </a:lnTo>
                  <a:lnTo>
                    <a:pt x="583" y="918"/>
                  </a:lnTo>
                  <a:lnTo>
                    <a:pt x="596" y="931"/>
                  </a:lnTo>
                  <a:lnTo>
                    <a:pt x="633" y="933"/>
                  </a:lnTo>
                  <a:lnTo>
                    <a:pt x="647" y="941"/>
                  </a:lnTo>
                  <a:lnTo>
                    <a:pt x="661" y="951"/>
                  </a:lnTo>
                  <a:lnTo>
                    <a:pt x="676" y="996"/>
                  </a:lnTo>
                  <a:lnTo>
                    <a:pt x="675" y="1013"/>
                  </a:lnTo>
                  <a:lnTo>
                    <a:pt x="668" y="1026"/>
                  </a:lnTo>
                  <a:lnTo>
                    <a:pt x="683" y="1071"/>
                  </a:lnTo>
                  <a:lnTo>
                    <a:pt x="758" y="1077"/>
                  </a:lnTo>
                  <a:lnTo>
                    <a:pt x="771" y="1083"/>
                  </a:lnTo>
                  <a:lnTo>
                    <a:pt x="767" y="1112"/>
                  </a:lnTo>
                  <a:lnTo>
                    <a:pt x="791" y="1137"/>
                  </a:lnTo>
                  <a:lnTo>
                    <a:pt x="803" y="1173"/>
                  </a:lnTo>
                  <a:lnTo>
                    <a:pt x="801" y="1218"/>
                  </a:lnTo>
                  <a:lnTo>
                    <a:pt x="791" y="1246"/>
                  </a:lnTo>
                  <a:lnTo>
                    <a:pt x="792" y="1263"/>
                  </a:lnTo>
                  <a:lnTo>
                    <a:pt x="785" y="1268"/>
                  </a:lnTo>
                  <a:lnTo>
                    <a:pt x="791" y="1299"/>
                  </a:lnTo>
                  <a:lnTo>
                    <a:pt x="788" y="1358"/>
                  </a:lnTo>
                  <a:lnTo>
                    <a:pt x="807" y="1371"/>
                  </a:lnTo>
                  <a:lnTo>
                    <a:pt x="827" y="1376"/>
                  </a:lnTo>
                  <a:lnTo>
                    <a:pt x="856" y="1374"/>
                  </a:lnTo>
                  <a:lnTo>
                    <a:pt x="878" y="1378"/>
                  </a:lnTo>
                  <a:lnTo>
                    <a:pt x="893" y="1389"/>
                  </a:lnTo>
                  <a:lnTo>
                    <a:pt x="903" y="1456"/>
                  </a:lnTo>
                  <a:lnTo>
                    <a:pt x="952" y="1466"/>
                  </a:lnTo>
                  <a:lnTo>
                    <a:pt x="954" y="1481"/>
                  </a:lnTo>
                  <a:lnTo>
                    <a:pt x="944" y="1547"/>
                  </a:lnTo>
                  <a:lnTo>
                    <a:pt x="958" y="1544"/>
                  </a:lnTo>
                  <a:lnTo>
                    <a:pt x="971" y="1549"/>
                  </a:lnTo>
                  <a:lnTo>
                    <a:pt x="978" y="1579"/>
                  </a:lnTo>
                  <a:lnTo>
                    <a:pt x="977" y="1619"/>
                  </a:lnTo>
                  <a:lnTo>
                    <a:pt x="946" y="1639"/>
                  </a:lnTo>
                  <a:lnTo>
                    <a:pt x="929" y="1643"/>
                  </a:lnTo>
                  <a:lnTo>
                    <a:pt x="878" y="1689"/>
                  </a:lnTo>
                  <a:lnTo>
                    <a:pt x="848" y="1728"/>
                  </a:lnTo>
                  <a:lnTo>
                    <a:pt x="796" y="1777"/>
                  </a:lnTo>
                  <a:lnTo>
                    <a:pt x="809" y="1778"/>
                  </a:lnTo>
                  <a:lnTo>
                    <a:pt x="822" y="1769"/>
                  </a:lnTo>
                  <a:lnTo>
                    <a:pt x="837" y="1776"/>
                  </a:lnTo>
                  <a:lnTo>
                    <a:pt x="872" y="1817"/>
                  </a:lnTo>
                  <a:lnTo>
                    <a:pt x="884" y="1808"/>
                  </a:lnTo>
                  <a:lnTo>
                    <a:pt x="901" y="1832"/>
                  </a:lnTo>
                  <a:lnTo>
                    <a:pt x="927" y="1841"/>
                  </a:lnTo>
                  <a:lnTo>
                    <a:pt x="933" y="1853"/>
                  </a:lnTo>
                  <a:lnTo>
                    <a:pt x="959" y="1867"/>
                  </a:lnTo>
                  <a:lnTo>
                    <a:pt x="964" y="1887"/>
                  </a:lnTo>
                  <a:lnTo>
                    <a:pt x="984" y="1909"/>
                  </a:lnTo>
                  <a:lnTo>
                    <a:pt x="969" y="1932"/>
                  </a:lnTo>
                  <a:lnTo>
                    <a:pt x="969" y="1957"/>
                  </a:lnTo>
                  <a:lnTo>
                    <a:pt x="971" y="19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6600960" y="2962440"/>
            <a:ext cx="1173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54680" y="290196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61000" y="277344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05720" y="28368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61240" y="2895480"/>
            <a:ext cx="11736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99080" y="283680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03840" y="283680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11920" y="283680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451560" y="277164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546960" y="290196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49920" y="290196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64320" y="277344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70520" y="277344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73840" y="277488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23080" y="270828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980400" y="2770200"/>
            <a:ext cx="1188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912000" y="28386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03920" y="2962440"/>
            <a:ext cx="1191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15160" y="295740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11840" y="269712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21480" y="2703600"/>
            <a:ext cx="12060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12040" y="271152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164360" y="3303720"/>
            <a:ext cx="396720" cy="415440"/>
            <a:chOff x="7164360" y="3303720"/>
            <a:chExt cx="396720" cy="415440"/>
          </a:xfrm>
        </p:grpSpPr>
        <p:sp>
          <p:nvSpPr>
            <p:cNvPr id="1324" name=""/>
            <p:cNvSpPr/>
            <p:nvPr/>
          </p:nvSpPr>
          <p:spPr>
            <a:xfrm>
              <a:off x="7263360" y="35323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668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3744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342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03680" y="359028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956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65880" y="342396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04480" y="34239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360" y="33674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2736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296480" y="34797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06560" y="336960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7676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45880" y="336996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12040" y="33127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482240" y="33127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71080" y="34250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332480" y="3532320"/>
              <a:ext cx="7956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34280" y="36475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337880" y="330372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77400" y="330948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04320" y="331596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6395400" y="1542960"/>
            <a:ext cx="1590480" cy="459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a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Spot/loc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61200" y="4303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43280" y="414360"/>
            <a:ext cx="7153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KA BAND:  THE SPECTRUM FOR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88840" y="4487760"/>
            <a:ext cx="47674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Higher frequency b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  smaller be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mall spot beams permit spectral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pot locations can be customized to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CCDA-2914-4D4C-8EC3-2B83DDB9379A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RotisSemiSerif"/>
              </a:rPr>
              <a:t>CONCLUSION</a:t>
            </a:r>
            <a:endParaRPr b="1" lang="en-US" sz="28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e lines between video broadcasting, data broadcasting, and telephony are blurring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used as broadcast delivery mechanism can be the most efficient, cost effective means of delivering content to multiple geographic locations simultaneously.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provide the perfect compliment to other delivery mechanisms for pushing a broadband signal to a remote locations. 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ost and quality of satellite services is constant to the end-user independent of service area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ED26-DC22-4FEB-A21D-103EBB3C10C2}" type="slidenum">
              <a:t>15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439200"/>
            <a:ext cx="663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THE MARKET LEADER IN NETWORK TRANSPOR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5040" y="1630080"/>
            <a:ext cx="6621120" cy="40035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Video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Leading satellites for TV program deli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o cable syste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 direct-to-home TV platfor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World’s largest single source of satellite capacity and teleport services for special events coverag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elecom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More than 70% of U.S. VSATs communicate over PanAmSat satellites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arrier customers in 35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Internet service providers in nearly 50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SemiSerif"/>
              </a:rPr>
              <a:t>PANAMSAT IS DEVELOPING NEW PRODUCTS FOR BOTH</a:t>
            </a: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3044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6783-31C7-484E-AAA4-8C6950B869C2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CABLE NEIGHBORHOOD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97" name="(r)services_scr_14b" descr=""/>
          <p:cNvPicPr/>
          <p:nvPr/>
        </p:nvPicPr>
        <p:blipFill>
          <a:blip r:embed="rId1"/>
          <a:stretch/>
        </p:blipFill>
        <p:spPr>
          <a:xfrm>
            <a:off x="476280" y="843120"/>
            <a:ext cx="8325000" cy="6243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0480" y="2411280"/>
            <a:ext cx="1024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6080" y="3581280"/>
            <a:ext cx="68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1800" y="5506920"/>
            <a:ext cx="9316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1/1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8760" y="560232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3600" y="303048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F9B3-868C-4359-B3C7-7337CAF67D29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DTH PLATFORM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104" name="(r)services_scr_16" descr=""/>
          <p:cNvPicPr/>
          <p:nvPr/>
        </p:nvPicPr>
        <p:blipFill>
          <a:blip r:embed="rId1"/>
          <a:stretch/>
        </p:blipFill>
        <p:spPr>
          <a:xfrm>
            <a:off x="533520" y="86832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2120" y="3351240"/>
            <a:ext cx="12470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CIFIC DIGIT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9120" y="38289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7680" y="3457440"/>
            <a:ext cx="17524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5200" y="58197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29560" y="4819680"/>
            <a:ext cx="1209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0440" y="3002040"/>
            <a:ext cx="200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Sky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DirecTV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4400" y="3449520"/>
            <a:ext cx="10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II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2960" y="4408560"/>
            <a:ext cx="11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MULTICHOI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SA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2080" y="487512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4/PAS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10600" y="5364000"/>
            <a:ext cx="11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TV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  (AUSTRAL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8640" y="58593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CF82-0AA2-4BDE-950B-B23227D2285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rowth_temp" descr=""/>
          <p:cNvPicPr/>
          <p:nvPr/>
        </p:nvPicPr>
        <p:blipFill>
          <a:blip r:embed="rId1"/>
          <a:srcRect l="0" t="0" r="0" b="7408"/>
          <a:stretch/>
        </p:blipFill>
        <p:spPr>
          <a:xfrm>
            <a:off x="0" y="1447920"/>
            <a:ext cx="9144000" cy="4902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35000" y="363240"/>
            <a:ext cx="743760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W BROADCASTING AND BROADBAND SERVICES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2600" y="1593720"/>
            <a:ext cx="3870360" cy="84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PAT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gital video store and forwar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19" name=""/>
          <p:cNvSpPr/>
          <p:nvPr/>
        </p:nvSpPr>
        <p:spPr>
          <a:xfrm>
            <a:off x="1611360" y="2476440"/>
            <a:ext cx="387036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NET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Broadcast overlay to the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9400" y="3409920"/>
            <a:ext cx="3870360" cy="87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Internet backbone access for Isp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06520" y="5162400"/>
            <a:ext cx="3565800" cy="86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Ka-Ban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Last mile broadband transport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4330800"/>
            <a:ext cx="355284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rec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Transport for 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F6C3-BA62-4E31-922F-FF48D62EB1CF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lide_light_greentop" descr=""/>
          <p:cNvPicPr/>
          <p:nvPr/>
        </p:nvPicPr>
        <p:blipFill>
          <a:blip r:embed="rId1"/>
          <a:srcRect l="10546" t="18422" r="9057" b="19623"/>
          <a:stretch/>
        </p:blipFill>
        <p:spPr>
          <a:xfrm>
            <a:off x="941400" y="1655640"/>
            <a:ext cx="7710480" cy="4602240"/>
          </a:xfrm>
          <a:prstGeom prst="rect">
            <a:avLst/>
          </a:prstGeom>
          <a:ln w="0">
            <a:noFill/>
          </a:ln>
        </p:spPr>
      </p:pic>
      <p:pic>
        <p:nvPicPr>
          <p:cNvPr id="124" name="whole%20new%20world" descr=""/>
          <p:cNvPicPr/>
          <p:nvPr/>
        </p:nvPicPr>
        <p:blipFill>
          <a:blip r:embed="rId2"/>
          <a:srcRect l="2968" t="18286" r="3421" b="5168"/>
          <a:stretch/>
        </p:blipFill>
        <p:spPr>
          <a:xfrm>
            <a:off x="1033560" y="1576440"/>
            <a:ext cx="6765840" cy="4147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49040" y="16272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3560" y="16891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Store and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9760" y="1860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7720" y="4562640"/>
            <a:ext cx="7484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Time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ay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Pro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anually intensive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Cost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Quality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nalog tape degradation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igital file 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Ac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Tape vault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Indexed/ sear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8360" y="1957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856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tore-and-Forward MARKET DRIVER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864B-F4D0-49B4-AC2F-2158047924E3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anAmSat_031001" descr=""/>
          <p:cNvPicPr/>
          <p:nvPr/>
        </p:nvPicPr>
        <p:blipFill>
          <a:blip r:embed="rId1"/>
          <a:srcRect l="0" t="916" r="0" b="8452"/>
          <a:stretch/>
        </p:blipFill>
        <p:spPr>
          <a:xfrm>
            <a:off x="1201680" y="1555920"/>
            <a:ext cx="6915240" cy="4700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POTPath:  STORE AND FORWARD SYSTEM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F840-4323-48C4-A813-8B5CDB8D67A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488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HERE ARE WE TODAY?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Test In Proces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Latin America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Customer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Globo (Brazil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Nationale (Chile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VN (Venezuela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Aztec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elevis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UNIVISION (Miami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Initial Feedback Positive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Customers see benefits of digital store-and-forward technology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56C9-4C6C-4C14-ADF4-5EE43F7BFD5D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1360" y="442440"/>
            <a:ext cx="717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/36:  A BROADCAST OVERLAY TO THE INTERNE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828800"/>
            <a:ext cx="3287520" cy="4305240"/>
            <a:chOff x="787320" y="1828800"/>
            <a:chExt cx="3287520" cy="4305240"/>
          </a:xfrm>
        </p:grpSpPr>
        <p:sp>
          <p:nvSpPr>
            <p:cNvPr id="137" name=""/>
            <p:cNvSpPr/>
            <p:nvPr/>
          </p:nvSpPr>
          <p:spPr>
            <a:xfrm>
              <a:off x="787320" y="25779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ub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33256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ay Per 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7320" y="40752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-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7320" y="48243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d In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7320" y="55720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novative Program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320" y="18288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High Quality Strea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238640" y="2906640"/>
            <a:ext cx="4192560" cy="2625840"/>
            <a:chOff x="4238640" y="2906640"/>
            <a:chExt cx="4192560" cy="2625840"/>
          </a:xfrm>
        </p:grpSpPr>
        <p:pic>
          <p:nvPicPr>
            <p:cNvPr id="144" name="net-36%20(r)internet_scr_26d" descr=""/>
            <p:cNvPicPr/>
            <p:nvPr/>
          </p:nvPicPr>
          <p:blipFill>
            <a:blip r:embed="rId1"/>
            <a:srcRect l="0" t="9021" r="0" b="4529"/>
            <a:stretch/>
          </p:blipFill>
          <p:spPr>
            <a:xfrm flipH="1">
              <a:off x="4238640" y="2906640"/>
              <a:ext cx="4192560" cy="2625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7549560" y="3384360"/>
              <a:ext cx="587160" cy="1784160"/>
              <a:chOff x="7549560" y="3384360"/>
              <a:chExt cx="587160" cy="178416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7571160" y="3384360"/>
                <a:ext cx="226080" cy="136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71160" y="3521160"/>
                <a:ext cx="227520" cy="85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935840" y="3872160"/>
                <a:ext cx="17280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30440" y="3983040"/>
                <a:ext cx="195480" cy="1422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7549560" y="4370040"/>
                <a:ext cx="184320" cy="99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49560" y="4469760"/>
                <a:ext cx="247680" cy="159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7742880" y="4872240"/>
                <a:ext cx="374760" cy="148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42880" y="5021280"/>
                <a:ext cx="393840" cy="147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803120" y="3446640"/>
              <a:ext cx="1191240" cy="764640"/>
              <a:chOff x="4803120" y="3446640"/>
              <a:chExt cx="1191240" cy="764640"/>
            </a:xfrm>
          </p:grpSpPr>
          <p:sp>
            <p:nvSpPr>
              <p:cNvPr id="155" name=""/>
              <p:cNvSpPr/>
              <p:nvPr/>
            </p:nvSpPr>
            <p:spPr>
              <a:xfrm>
                <a:off x="4803120" y="3971880"/>
                <a:ext cx="648360" cy="2394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39280" y="3776040"/>
                <a:ext cx="579960" cy="21528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53560" y="3643200"/>
                <a:ext cx="424800" cy="1573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1280" y="3527640"/>
                <a:ext cx="240480" cy="882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19040" y="3446640"/>
                <a:ext cx="175320" cy="637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96680" y="3313080"/>
              <a:ext cx="1055520" cy="1521360"/>
              <a:chOff x="6196680" y="3313080"/>
              <a:chExt cx="1055520" cy="1521360"/>
            </a:xfrm>
          </p:grpSpPr>
          <p:sp>
            <p:nvSpPr>
              <p:cNvPr id="161" name=""/>
              <p:cNvSpPr/>
              <p:nvPr/>
            </p:nvSpPr>
            <p:spPr>
              <a:xfrm>
                <a:off x="6196680" y="3313080"/>
                <a:ext cx="1023840" cy="1521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97400" y="3313440"/>
                <a:ext cx="965520" cy="9687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98840" y="3313800"/>
                <a:ext cx="1053360" cy="5198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99920" y="3313440"/>
                <a:ext cx="89712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clearpixel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8" name="clearpixel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191120" y="2104920"/>
            <a:ext cx="2869920" cy="688680"/>
            <a:chOff x="4191120" y="2104920"/>
            <a:chExt cx="2869920" cy="688680"/>
          </a:xfrm>
        </p:grpSpPr>
        <p:sp>
          <p:nvSpPr>
            <p:cNvPr id="170" name=""/>
            <p:cNvSpPr/>
            <p:nvPr/>
          </p:nvSpPr>
          <p:spPr>
            <a:xfrm>
              <a:off x="4191120" y="2163600"/>
              <a:ext cx="2869920" cy="63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hollylogo2" descr=""/>
            <p:cNvPicPr/>
            <p:nvPr/>
          </p:nvPicPr>
          <p:blipFill>
            <a:blip r:embed="rId6"/>
            <a:stretch/>
          </p:blipFill>
          <p:spPr>
            <a:xfrm>
              <a:off x="5165640" y="2361960"/>
              <a:ext cx="68256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n_logo" descr=""/>
            <p:cNvPicPr/>
            <p:nvPr/>
          </p:nvPicPr>
          <p:blipFill>
            <a:blip r:embed="rId7"/>
            <a:stretch/>
          </p:blipFill>
          <p:spPr>
            <a:xfrm>
              <a:off x="5952960" y="2304720"/>
              <a:ext cx="38124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newlogo" descr=""/>
            <p:cNvPicPr/>
            <p:nvPr/>
          </p:nvPicPr>
          <p:blipFill>
            <a:blip r:embed="rId8"/>
            <a:stretch/>
          </p:blipFill>
          <p:spPr>
            <a:xfrm>
              <a:off x="6370560" y="2409480"/>
              <a:ext cx="46692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786200" y="2539800"/>
              <a:ext cx="85428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4776840" y="2620800"/>
              <a:ext cx="64620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a3" descr=""/>
            <p:cNvPicPr/>
            <p:nvPr/>
          </p:nvPicPr>
          <p:blipFill>
            <a:blip r:embed="rId11"/>
            <a:stretch/>
          </p:blipFill>
          <p:spPr>
            <a:xfrm>
              <a:off x="5616720" y="2536560"/>
              <a:ext cx="3142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57000" y="21049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Entertai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blue_dis_logo" descr=""/>
            <p:cNvPicPr/>
            <p:nvPr/>
          </p:nvPicPr>
          <p:blipFill>
            <a:blip r:embed="rId12"/>
            <a:stretch/>
          </p:blipFill>
          <p:spPr>
            <a:xfrm>
              <a:off x="4424400" y="2304720"/>
              <a:ext cx="615960" cy="14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clearpixel" descr=""/>
          <p:cNvPicPr/>
          <p:nvPr/>
        </p:nvPicPr>
        <p:blipFill>
          <a:blip r:embed="rId1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669000" y="1854360"/>
            <a:ext cx="2095560" cy="554040"/>
            <a:chOff x="6669000" y="1854360"/>
            <a:chExt cx="2095560" cy="554040"/>
          </a:xfrm>
        </p:grpSpPr>
        <p:sp>
          <p:nvSpPr>
            <p:cNvPr id="181" name=""/>
            <p:cNvSpPr/>
            <p:nvPr/>
          </p:nvSpPr>
          <p:spPr>
            <a:xfrm>
              <a:off x="6697440" y="1854360"/>
              <a:ext cx="2067120" cy="55404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66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69000" y="194184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S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4"/>
            <a:stretch/>
          </p:blipFill>
          <p:spPr>
            <a:xfrm>
              <a:off x="7110360" y="2248200"/>
              <a:ext cx="137772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h" descr=""/>
            <p:cNvPicPr/>
            <p:nvPr/>
          </p:nvPicPr>
          <p:blipFill>
            <a:blip r:embed="rId15"/>
            <a:stretch/>
          </p:blipFill>
          <p:spPr>
            <a:xfrm>
              <a:off x="7462800" y="1862280"/>
              <a:ext cx="618840" cy="2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851360" y="1434960"/>
            <a:ext cx="2286000" cy="609840"/>
            <a:chOff x="4851360" y="1434960"/>
            <a:chExt cx="2286000" cy="609840"/>
          </a:xfrm>
        </p:grpSpPr>
        <p:sp>
          <p:nvSpPr>
            <p:cNvPr id="186" name=""/>
            <p:cNvSpPr/>
            <p:nvPr/>
          </p:nvSpPr>
          <p:spPr>
            <a:xfrm>
              <a:off x="4851360" y="1434960"/>
              <a:ext cx="2286000" cy="6098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13360" y="1668600"/>
              <a:ext cx="11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logonew" descr=""/>
            <p:cNvPicPr/>
            <p:nvPr/>
          </p:nvPicPr>
          <p:blipFill>
            <a:blip r:embed="rId16"/>
            <a:stretch/>
          </p:blipFill>
          <p:spPr>
            <a:xfrm>
              <a:off x="5808600" y="1725480"/>
              <a:ext cx="493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logo_hp" descr=""/>
            <p:cNvPicPr/>
            <p:nvPr/>
          </p:nvPicPr>
          <p:blipFill>
            <a:blip r:embed="rId17"/>
            <a:stretch/>
          </p:blipFill>
          <p:spPr>
            <a:xfrm>
              <a:off x="5918040" y="1450800"/>
              <a:ext cx="3826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bbclogo_bott" descr=""/>
            <p:cNvPicPr/>
            <p:nvPr/>
          </p:nvPicPr>
          <p:blipFill>
            <a:blip r:embed="rId18"/>
            <a:stretch/>
          </p:blipFill>
          <p:spPr>
            <a:xfrm>
              <a:off x="5575320" y="1581120"/>
              <a:ext cx="3031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vsked_logo" descr=""/>
            <p:cNvPicPr/>
            <p:nvPr/>
          </p:nvPicPr>
          <p:blipFill>
            <a:blip r:embed="rId19"/>
            <a:stretch/>
          </p:blipFill>
          <p:spPr>
            <a:xfrm>
              <a:off x="6429240" y="1628640"/>
              <a:ext cx="38916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B203-01E2-4E0F-9F9F-DF0999C4A9CA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14:56:59Z</dcterms:created>
  <dc:creator>PanAmSat</dc:creator>
  <dc:description/>
  <dc:language>en-US</dc:language>
  <cp:lastModifiedBy>INFOVIEW</cp:lastModifiedBy>
  <cp:lastPrinted>2001-04-24T19:28:31Z</cp:lastPrinted>
  <dcterms:modified xsi:type="dcterms:W3CDTF">2001-06-03T23:33:03Z</dcterms:modified>
  <cp:revision>94</cp:revision>
  <dc:subject/>
  <dc:title>PANAMSAT Ka-BAND SOLUTIONS  August 9, 2000  </dc:title>
</cp:coreProperties>
</file>