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4525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1631-2C8F-4489-BDA0-B0A294F7E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28800"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upports many simultaneous high-speed users in a cel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928800"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ap-Ex and Op-Ex scale with spectral efficiency and coverag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28800"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PRS Example: 80 0.1 Erl voice subs/carrier versus 1 384 kbps data user … how would you price the data service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8D2F-7B91-4F31-A252-2E8629F67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B765-2C45-4E4D-B51F-77F20845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060E-B70B-49D6-BF2A-9FE1CD3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1CEC-1E12-4B33-BB32-6B8EA5B95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1F66-46ED-4B3F-89D1-7D3B37DC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3593-91E4-4773-8E1D-4966E0EF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F0AD-CF8E-45D4-A562-D7FCF7AB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E114-9829-4151-A351-9881E0A0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DB1F-03F7-4384-9996-568C6095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F905-4144-4224-BF96-F2F1CADE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5008-0B10-4C0D-9982-7FF14C7B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5AD3-C4A7-4556-8D5A-6B65929D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726240" y="6367320"/>
            <a:ext cx="23796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851200" y="665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8FF5-D93D-41D8-8606-04F26D85E386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6.wmf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460000" cy="24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echnologies for Wireless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Multimedia in the XXI Century</a:t>
            </a:r>
            <a:br>
              <a:rPr sz="4800"/>
            </a:br>
            <a:br>
              <a:rPr sz="48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orto Seguro, Brazil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5 June 2001</a:t>
            </a:r>
            <a:br>
              <a:rPr sz="4000"/>
            </a:b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oanne C. Wilson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rayComm, Inc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entral elements of the “right” solution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 market pric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-centric, open, IP architecture for content and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54320" y="5500800"/>
            <a:ext cx="6727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ll of the above are achievable tod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elecommuting" descr=""/>
          <p:cNvPicPr/>
          <p:nvPr/>
        </p:nvPicPr>
        <p:blipFill>
          <a:blip r:embed="rId1"/>
          <a:stretch/>
        </p:blipFill>
        <p:spPr>
          <a:xfrm>
            <a:off x="5105520" y="2143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4800600" y="3428640"/>
            <a:ext cx="99072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248520" y="342864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s Platfor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3276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590920"/>
            <a:ext cx="76176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352680" y="3581280"/>
            <a:ext cx="76212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00800" y="1828800"/>
            <a:ext cx="1139760" cy="1447920"/>
          </a:xfrm>
          <a:prstGeom prst="line">
            <a:avLst/>
          </a:prstGeom>
          <a:ln w="2556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400800" y="2722320"/>
            <a:ext cx="1068480" cy="554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276720"/>
            <a:ext cx="993600" cy="35856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276720"/>
            <a:ext cx="113976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2209680"/>
            <a:ext cx="1587600" cy="1952640"/>
            <a:chOff x="380880" y="2209680"/>
            <a:chExt cx="1587600" cy="1952640"/>
          </a:xfrm>
        </p:grpSpPr>
        <p:grpSp>
          <p:nvGrpSpPr>
            <p:cNvPr id="114" name=""/>
            <p:cNvGrpSpPr/>
            <p:nvPr/>
          </p:nvGrpSpPr>
          <p:grpSpPr>
            <a:xfrm>
              <a:off x="1143000" y="2574720"/>
              <a:ext cx="444240" cy="1587600"/>
              <a:chOff x="1143000" y="2574720"/>
              <a:chExt cx="444240" cy="1587600"/>
            </a:xfrm>
          </p:grpSpPr>
          <p:sp>
            <p:nvSpPr>
              <p:cNvPr id="115" name=""/>
              <p:cNvSpPr/>
              <p:nvPr/>
            </p:nvSpPr>
            <p:spPr>
              <a:xfrm>
                <a:off x="1371600" y="280332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7560" y="310824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47560" y="348912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1600" y="379404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18960" y="402264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3000" y="257472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523880" y="2574720"/>
              <a:ext cx="444600" cy="1587600"/>
              <a:chOff x="1523880" y="2574720"/>
              <a:chExt cx="444600" cy="1587600"/>
            </a:xfrm>
          </p:grpSpPr>
          <p:sp>
            <p:nvSpPr>
              <p:cNvPr id="122" name=""/>
              <p:cNvSpPr/>
              <p:nvPr/>
            </p:nvSpPr>
            <p:spPr>
              <a:xfrm>
                <a:off x="1752480" y="280332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8800" y="310824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28800" y="348912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379404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00200" y="402264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23880" y="257472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80880" y="2574720"/>
              <a:ext cx="444600" cy="1587600"/>
              <a:chOff x="380880" y="2574720"/>
              <a:chExt cx="444600" cy="1587600"/>
            </a:xfrm>
          </p:grpSpPr>
          <p:sp>
            <p:nvSpPr>
              <p:cNvPr id="129" name=""/>
              <p:cNvSpPr/>
              <p:nvPr/>
            </p:nvSpPr>
            <p:spPr>
              <a:xfrm>
                <a:off x="609480" y="280332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800" y="310824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5800" y="348912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9480" y="379404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7200" y="402264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880" y="257472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61760" y="2574720"/>
              <a:ext cx="444600" cy="1587600"/>
              <a:chOff x="761760" y="2574720"/>
              <a:chExt cx="444600" cy="1587600"/>
            </a:xfrm>
          </p:grpSpPr>
          <p:sp>
            <p:nvSpPr>
              <p:cNvPr id="136" name=""/>
              <p:cNvSpPr/>
              <p:nvPr/>
            </p:nvSpPr>
            <p:spPr>
              <a:xfrm>
                <a:off x="990360" y="280332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66680" y="310824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66680" y="348912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90360" y="379404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080" y="402264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1760" y="257472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30640" y="2209680"/>
              <a:ext cx="1215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Subscrib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397640" y="1276200"/>
            <a:ext cx="1365480" cy="67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4400" y="3413160"/>
            <a:ext cx="1362240" cy="676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9440" y="2268360"/>
            <a:ext cx="1361880" cy="6764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2960" y="4548240"/>
            <a:ext cx="1362240" cy="676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9240" y="2422440"/>
            <a:ext cx="498960" cy="2750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05000" y="3605040"/>
            <a:ext cx="941040" cy="275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94560" y="4672080"/>
            <a:ext cx="954000" cy="45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2600" y="1279440"/>
            <a:ext cx="1015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Content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2495520"/>
            <a:ext cx="0" cy="3203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440" y="5622840"/>
            <a:ext cx="240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ess &amp;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9640" y="5622840"/>
            <a:ext cx="1035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2362320"/>
            <a:ext cx="7621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Bas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048120"/>
            <a:ext cx="7621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Bas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886200"/>
            <a:ext cx="7621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Bas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7119600">
            <a:off x="2011320" y="2571840"/>
            <a:ext cx="533520" cy="304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14028600">
            <a:off x="2019240" y="3695760"/>
            <a:ext cx="533520" cy="304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51460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52960" y="3200400"/>
            <a:ext cx="609480" cy="2764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048120"/>
            <a:ext cx="9907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unnel Switch(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724280"/>
            <a:ext cx="1295280" cy="91440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724280"/>
            <a:ext cx="1600200" cy="9144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38800" y="4923000"/>
            <a:ext cx="647640" cy="459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TN/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5440" y="5029200"/>
            <a:ext cx="609840" cy="2764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 Featur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to end IP connectivity for end-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st choice of end-user terminals an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ervice and content base for wired and wireless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MusicDelivery" descr=""/>
          <p:cNvPicPr/>
          <p:nvPr/>
        </p:nvPicPr>
        <p:blipFill>
          <a:blip r:embed="rId1"/>
          <a:stretch/>
        </p:blipFill>
        <p:spPr>
          <a:xfrm>
            <a:off x="5181480" y="2143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 Features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P connectiv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s existing ISP provisioning, management and bill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P sessions backhauled via L2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Work%20Interactivity" descr=""/>
          <p:cNvPicPr/>
          <p:nvPr/>
        </p:nvPicPr>
        <p:blipFill>
          <a:blip r:embed="rId1"/>
          <a:stretch/>
        </p:blipFill>
        <p:spPr>
          <a:xfrm>
            <a:off x="5410080" y="1127160"/>
            <a:ext cx="3429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 Features 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separation of access and end-user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access and transport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 to multiple ISP’s, ASP’s, content and VPN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Video%20Delivery" descr=""/>
          <p:cNvPicPr/>
          <p:nvPr/>
        </p:nvPicPr>
        <p:blipFill>
          <a:blip r:embed="rId1"/>
          <a:stretch/>
        </p:blipFill>
        <p:spPr>
          <a:xfrm>
            <a:off x="457200" y="2143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adio Access Platfor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ed air interface for reliable and efficient packet data 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ivision Duplexed (T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s flexibility in band selection (key below 3 G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s flexibility in accommodating asym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per-user data rates &gt;1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 Card, USB, Ethernet end-user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383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adio Access Platform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rt” antennas using spatial processing maximize capacity and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Marin10" descr=""/>
          <p:cNvPicPr/>
          <p:nvPr/>
        </p:nvPicPr>
        <p:blipFill>
          <a:blip r:embed="rId1"/>
          <a:srcRect l="24221" t="0" r="0" b="0"/>
          <a:stretch/>
        </p:blipFill>
        <p:spPr>
          <a:xfrm>
            <a:off x="3886200" y="1371600"/>
            <a:ext cx="4952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adio Access Featur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tial processing + T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s flexibility in ban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unmatched coverage and spectral efficiency, 4 b/s/Hz or 40 Mbps/cell in 1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IP interface to wired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s network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operator broadest choice in wired network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network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Keys to Delivering Portable Broadband Multimedia Acces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14632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s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pacity Enabling High Speed, High-Quality Service for A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ive antenna technology (spectral efficienc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biquitous Coverage &amp; Mass Market Pr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/Open Architecture for Content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ireless DSL System Featur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19160" y="1615680"/>
            <a:ext cx="74390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 Bits/Sec./Hz/cell Spectral Efficiency Provides 400x capacity over 2G and 40x over 3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 Mbps to 40 Mbps User Data R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wered by IntelliCell Adaptive Smart Antenna Processing with Packet Swit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d to End Wireless IP Access and 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DMA/TDD Packet Air Interf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censed Spectrum Below 3 GH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V="1">
            <a:off x="2709720" y="3117600"/>
            <a:ext cx="2767320" cy="87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733920" y="3733920"/>
            <a:ext cx="2133360" cy="12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onvergence creates a huge opportunit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2500200"/>
            <a:ext cx="1981080" cy="1600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2066760"/>
            <a:ext cx="1955880" cy="158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1480" y="2514600"/>
            <a:ext cx="1981080" cy="1600200"/>
          </a:xfrm>
          <a:prstGeom prst="ellipse">
            <a:avLst/>
          </a:prstGeom>
          <a:solidFill>
            <a:srgbClr val="0076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97040" y="3822840"/>
            <a:ext cx="1281240" cy="977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10240"/>
            <a:ext cx="1009800" cy="817560"/>
          </a:xfrm>
          <a:prstGeom prst="ellipse">
            <a:avLst/>
          </a:prstGeom>
          <a:solidFill>
            <a:srgbClr val="0076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60600" y="2004840"/>
            <a:ext cx="6076800" cy="3692520"/>
            <a:chOff x="1560600" y="2004840"/>
            <a:chExt cx="6076800" cy="3692520"/>
          </a:xfrm>
        </p:grpSpPr>
        <p:sp>
          <p:nvSpPr>
            <p:cNvPr id="58" name=""/>
            <p:cNvSpPr/>
            <p:nvPr/>
          </p:nvSpPr>
          <p:spPr>
            <a:xfrm>
              <a:off x="1560600" y="2004840"/>
              <a:ext cx="0" cy="369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60600" y="5697360"/>
              <a:ext cx="6076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16200000">
            <a:off x="702720" y="3609000"/>
            <a:ext cx="136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Marke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9440" y="5029200"/>
            <a:ext cx="1809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200 Million S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9880" y="558000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4720" y="558000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9880" y="577692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1480" y="577548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37640" y="3429000"/>
            <a:ext cx="1809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300 Million S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4880" y="1600200"/>
            <a:ext cx="1523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1 Billion S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48520" y="4114800"/>
            <a:ext cx="115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17440" y="4952880"/>
            <a:ext cx="1000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9720" y="2895480"/>
            <a:ext cx="132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TERNET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600552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ITU, DL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1060560"/>
            <a:ext cx="85471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616120"/>
            <a:ext cx="995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reless DS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cri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40520" y="1143000"/>
            <a:ext cx="7906320" cy="5295960"/>
            <a:chOff x="740520" y="1143000"/>
            <a:chExt cx="7906320" cy="5295960"/>
          </a:xfrm>
        </p:grpSpPr>
        <p:grpSp>
          <p:nvGrpSpPr>
            <p:cNvPr id="189" name=""/>
            <p:cNvGrpSpPr/>
            <p:nvPr/>
          </p:nvGrpSpPr>
          <p:grpSpPr>
            <a:xfrm>
              <a:off x="797040" y="1978200"/>
              <a:ext cx="466560" cy="260640"/>
              <a:chOff x="797040" y="1978200"/>
              <a:chExt cx="466560" cy="260640"/>
            </a:xfrm>
          </p:grpSpPr>
          <p:sp>
            <p:nvSpPr>
              <p:cNvPr id="190" name=""/>
              <p:cNvSpPr/>
              <p:nvPr/>
            </p:nvSpPr>
            <p:spPr>
              <a:xfrm>
                <a:off x="822960" y="1978200"/>
                <a:ext cx="249840" cy="169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797040" y="2162160"/>
                <a:ext cx="308880" cy="76680"/>
                <a:chOff x="797040" y="2162160"/>
                <a:chExt cx="308880" cy="7668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flipV="1">
                  <a:off x="1071720" y="2162520"/>
                  <a:ext cx="34200" cy="75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831600" y="2162160"/>
                  <a:ext cx="240120" cy="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797040" y="2162880"/>
                  <a:ext cx="34200" cy="75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797040" y="2238120"/>
                  <a:ext cx="308880" cy="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837720" y="1992600"/>
                <a:ext cx="221040" cy="1389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59320" y="2180160"/>
                <a:ext cx="18396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38440" y="2197080"/>
                <a:ext cx="21348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8000" y="2217960"/>
                <a:ext cx="24660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80000" y="2154960"/>
                <a:ext cx="121320" cy="28440"/>
              </a:xfrm>
              <a:custGeom>
                <a:avLst/>
                <a:gdLst/>
                <a:ahLst/>
                <a:rect l="l" t="t" r="r" b="b"/>
                <a:pathLst>
                  <a:path w="140" h="33">
                    <a:moveTo>
                      <a:pt x="0" y="33"/>
                    </a:moveTo>
                    <a:cubicBezTo>
                      <a:pt x="30" y="17"/>
                      <a:pt x="61" y="2"/>
                      <a:pt x="84" y="1"/>
                    </a:cubicBezTo>
                    <a:cubicBezTo>
                      <a:pt x="107" y="0"/>
                      <a:pt x="131" y="21"/>
                      <a:pt x="140" y="25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200000">
                <a:off x="1208520" y="2144880"/>
                <a:ext cx="47880" cy="6228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57120" y="2106000"/>
                <a:ext cx="0" cy="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36280" y="2336760"/>
              <a:ext cx="150840" cy="247320"/>
              <a:chOff x="836280" y="2336760"/>
              <a:chExt cx="150840" cy="247320"/>
            </a:xfrm>
          </p:grpSpPr>
          <p:sp>
            <p:nvSpPr>
              <p:cNvPr id="204" name=""/>
              <p:cNvSpPr/>
              <p:nvPr/>
            </p:nvSpPr>
            <p:spPr>
              <a:xfrm>
                <a:off x="852480" y="2395440"/>
                <a:ext cx="114120" cy="171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400000">
                <a:off x="807840" y="2404800"/>
                <a:ext cx="207360" cy="1508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60480" y="2336760"/>
                <a:ext cx="0" cy="39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62120" y="2978280"/>
              <a:ext cx="262080" cy="247680"/>
              <a:chOff x="762120" y="2978280"/>
              <a:chExt cx="262080" cy="2476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762120" y="3164040"/>
                <a:ext cx="262080" cy="61920"/>
                <a:chOff x="762120" y="3164040"/>
                <a:chExt cx="262080" cy="6192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flipV="1">
                  <a:off x="995040" y="3164040"/>
                  <a:ext cx="29160" cy="61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791280" y="3164040"/>
                  <a:ext cx="203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62120" y="3164400"/>
                  <a:ext cx="29160" cy="61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762120" y="3225240"/>
                  <a:ext cx="262080" cy="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815040" y="3178440"/>
                <a:ext cx="15732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7400" y="3192480"/>
                <a:ext cx="18828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8400" y="3209040"/>
                <a:ext cx="20880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8400" y="3013920"/>
                <a:ext cx="212040" cy="13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5320" y="3025800"/>
                <a:ext cx="184680" cy="11304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75600" y="2978280"/>
                <a:ext cx="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740520" y="4221360"/>
              <a:ext cx="332280" cy="280800"/>
              <a:chOff x="740520" y="4221360"/>
              <a:chExt cx="332280" cy="280800"/>
            </a:xfrm>
          </p:grpSpPr>
          <p:sp>
            <p:nvSpPr>
              <p:cNvPr id="220" name=""/>
              <p:cNvSpPr/>
              <p:nvPr/>
            </p:nvSpPr>
            <p:spPr>
              <a:xfrm rot="20235000">
                <a:off x="765360" y="4268880"/>
                <a:ext cx="282600" cy="185760"/>
              </a:xfrm>
              <a:custGeom>
                <a:avLst/>
                <a:gdLst/>
                <a:ahLst/>
                <a:rect l="l" t="t" r="r" b="b"/>
                <a:pathLst>
                  <a:path w="576" h="325">
                    <a:moveTo>
                      <a:pt x="11" y="62"/>
                    </a:moveTo>
                    <a:cubicBezTo>
                      <a:pt x="22" y="42"/>
                      <a:pt x="283" y="0"/>
                      <a:pt x="375" y="40"/>
                    </a:cubicBezTo>
                    <a:cubicBezTo>
                      <a:pt x="467" y="80"/>
                      <a:pt x="576" y="285"/>
                      <a:pt x="565" y="305"/>
                    </a:cubicBezTo>
                    <a:cubicBezTo>
                      <a:pt x="554" y="325"/>
                      <a:pt x="403" y="201"/>
                      <a:pt x="307" y="161"/>
                    </a:cubicBezTo>
                    <a:cubicBezTo>
                      <a:pt x="211" y="121"/>
                      <a:pt x="0" y="82"/>
                      <a:pt x="11" y="6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22240" y="4281840"/>
                <a:ext cx="177840" cy="42480"/>
              </a:xfrm>
              <a:custGeom>
                <a:avLst/>
                <a:gdLst/>
                <a:ahLst/>
                <a:rect l="l" t="t" r="r" b="b"/>
                <a:pathLst>
                  <a:path w="445" h="123">
                    <a:moveTo>
                      <a:pt x="6" y="87"/>
                    </a:moveTo>
                    <a:cubicBezTo>
                      <a:pt x="80" y="43"/>
                      <a:pt x="155" y="0"/>
                      <a:pt x="228" y="3"/>
                    </a:cubicBezTo>
                    <a:cubicBezTo>
                      <a:pt x="301" y="6"/>
                      <a:pt x="445" y="91"/>
                      <a:pt x="444" y="105"/>
                    </a:cubicBezTo>
                    <a:cubicBezTo>
                      <a:pt x="443" y="119"/>
                      <a:pt x="296" y="84"/>
                      <a:pt x="222" y="87"/>
                    </a:cubicBezTo>
                    <a:cubicBezTo>
                      <a:pt x="148" y="90"/>
                      <a:pt x="39" y="117"/>
                      <a:pt x="0" y="123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04040" y="4268880"/>
                <a:ext cx="0" cy="4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062360" y="3676680"/>
              <a:ext cx="109440" cy="171000"/>
              <a:chOff x="1062360" y="3676680"/>
              <a:chExt cx="109440" cy="17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062360" y="3715560"/>
                <a:ext cx="109440" cy="1321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132120"/>
                  <a:gd name="textAreaBottom" fmla="*/ 127080 h 132120"/>
                </a:gdLst>
                <a:ahLst/>
                <a:rect l="textAreaLeft" t="textAreaTop" r="textAreaRight" b="textAreaBottom"/>
                <a:pathLst>
                  <a:path w="21600" h="26062">
                    <a:moveTo>
                      <a:pt x="3600" y="0"/>
                    </a:moveTo>
                    <a:arcTo wR="3600" hR="3600" stAng="16200000" swAng="-5400000"/>
                    <a:lnTo>
                      <a:pt x="0" y="22462"/>
                    </a:lnTo>
                    <a:arcTo wR="3600" hR="3600" stAng="10800000" swAng="-5400000"/>
                    <a:lnTo>
                      <a:pt x="18000" y="260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1081440" y="3792960"/>
                <a:ext cx="82440" cy="43200"/>
                <a:chOff x="1081440" y="3792960"/>
                <a:chExt cx="82440" cy="43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081440" y="3799440"/>
                  <a:ext cx="70920" cy="31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00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137240" y="3804480"/>
                  <a:ext cx="26640" cy="230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141920" y="3792960"/>
                  <a:ext cx="21240" cy="43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1073520" y="3676680"/>
                <a:ext cx="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051200" y="3381480"/>
              <a:ext cx="199800" cy="105840"/>
              <a:chOff x="1051200" y="3381480"/>
              <a:chExt cx="199800" cy="1058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51200" y="3421800"/>
                <a:ext cx="199800" cy="6552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79640" y="3474000"/>
                <a:ext cx="13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079640" y="3461040"/>
                <a:ext cx="13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32280" y="3381480"/>
                <a:ext cx="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78040" y="4500720"/>
              <a:ext cx="309600" cy="273960"/>
              <a:chOff x="878040" y="4500720"/>
              <a:chExt cx="309600" cy="273960"/>
            </a:xfrm>
          </p:grpSpPr>
          <p:sp>
            <p:nvSpPr>
              <p:cNvPr id="236" name=""/>
              <p:cNvSpPr/>
              <p:nvPr/>
            </p:nvSpPr>
            <p:spPr>
              <a:xfrm>
                <a:off x="878040" y="4560840"/>
                <a:ext cx="309600" cy="21384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05760" y="4582080"/>
                <a:ext cx="255960" cy="17280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28440" y="4678920"/>
                <a:ext cx="21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28440" y="4663440"/>
                <a:ext cx="21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45520" y="4500720"/>
                <a:ext cx="0" cy="6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286440" y="1733400"/>
              <a:ext cx="0" cy="4098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88120" y="1785960"/>
              <a:ext cx="0" cy="4046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327400" y="3219480"/>
              <a:ext cx="506520" cy="630360"/>
              <a:chOff x="2327400" y="3219480"/>
              <a:chExt cx="506520" cy="6303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27400" y="3560760"/>
                <a:ext cx="419040" cy="289080"/>
                <a:chOff x="2327400" y="3560760"/>
                <a:chExt cx="419040" cy="2890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27400" y="3560760"/>
                  <a:ext cx="419040" cy="289080"/>
                </a:xfrm>
                <a:prstGeom prst="cube">
                  <a:avLst>
                    <a:gd name="adj" fmla="val 25000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53320" y="3798720"/>
                  <a:ext cx="292680" cy="320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2353320" y="3656520"/>
                  <a:ext cx="285120" cy="124200"/>
                  <a:chOff x="2353320" y="3656520"/>
                  <a:chExt cx="285120" cy="12420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403000" y="3656520"/>
                    <a:ext cx="235440" cy="124200"/>
                    <a:chOff x="2403000" y="3656520"/>
                    <a:chExt cx="235440" cy="1242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40300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45268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50632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55636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60640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4" name=""/>
                  <p:cNvSpPr/>
                  <p:nvPr/>
                </p:nvSpPr>
                <p:spPr>
                  <a:xfrm>
                    <a:off x="2353320" y="3656520"/>
                    <a:ext cx="32040" cy="124200"/>
                  </a:xfrm>
                  <a:prstGeom prst="rect">
                    <a:avLst/>
                  </a:prstGeom>
                  <a:noFill/>
                  <a:ln w="108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>
                  <a:off x="2350080" y="3692160"/>
                  <a:ext cx="28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350080" y="3717000"/>
                  <a:ext cx="28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350080" y="3741840"/>
                  <a:ext cx="28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524320" y="3219480"/>
                <a:ext cx="309600" cy="338040"/>
                <a:chOff x="2524320" y="3219480"/>
                <a:chExt cx="309600" cy="33804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2551320" y="3225960"/>
                  <a:ext cx="261360" cy="331560"/>
                  <a:chOff x="2551320" y="3225960"/>
                  <a:chExt cx="261360" cy="3315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551320" y="3225960"/>
                    <a:ext cx="13140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2">
                        <a:moveTo>
                          <a:pt x="97" y="222"/>
                        </a:moveTo>
                        <a:cubicBezTo>
                          <a:pt x="103" y="213"/>
                          <a:pt x="110" y="205"/>
                          <a:pt x="97" y="186"/>
                        </a:cubicBezTo>
                        <a:cubicBezTo>
                          <a:pt x="84" y="167"/>
                          <a:pt x="32" y="139"/>
                          <a:pt x="16" y="108"/>
                        </a:cubicBezTo>
                        <a:cubicBezTo>
                          <a:pt x="0" y="77"/>
                          <a:pt x="0" y="38"/>
                          <a:pt x="1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660040" y="3226680"/>
                    <a:ext cx="15264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243">
                        <a:moveTo>
                          <a:pt x="0" y="243"/>
                        </a:moveTo>
                        <a:cubicBezTo>
                          <a:pt x="44" y="221"/>
                          <a:pt x="88" y="199"/>
                          <a:pt x="108" y="159"/>
                        </a:cubicBezTo>
                        <a:cubicBezTo>
                          <a:pt x="128" y="119"/>
                          <a:pt x="124" y="59"/>
                          <a:pt x="12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2524320" y="3219480"/>
                  <a:ext cx="66600" cy="1000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767320" y="3219480"/>
                  <a:ext cx="66600" cy="1000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2575080" y="4486320"/>
              <a:ext cx="480960" cy="420480"/>
              <a:chOff x="2575080" y="4486320"/>
              <a:chExt cx="480960" cy="420480"/>
            </a:xfrm>
          </p:grpSpPr>
          <p:sp>
            <p:nvSpPr>
              <p:cNvPr id="265" name=""/>
              <p:cNvSpPr/>
              <p:nvPr/>
            </p:nvSpPr>
            <p:spPr>
              <a:xfrm>
                <a:off x="2575080" y="4816440"/>
                <a:ext cx="382680" cy="90360"/>
              </a:xfrm>
              <a:prstGeom prst="cube">
                <a:avLst>
                  <a:gd name="adj" fmla="val 25000"/>
                </a:avLst>
              </a:prstGeom>
              <a:solidFill>
                <a:srgbClr val="ccccff"/>
              </a:solidFill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760840" y="4486320"/>
                <a:ext cx="295200" cy="322200"/>
                <a:chOff x="2760840" y="4486320"/>
                <a:chExt cx="295200" cy="322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2786040" y="4492800"/>
                  <a:ext cx="249120" cy="315720"/>
                  <a:chOff x="2786040" y="4492800"/>
                  <a:chExt cx="249120" cy="3157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786040" y="4492800"/>
                    <a:ext cx="12528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2">
                        <a:moveTo>
                          <a:pt x="97" y="222"/>
                        </a:moveTo>
                        <a:cubicBezTo>
                          <a:pt x="103" y="213"/>
                          <a:pt x="110" y="205"/>
                          <a:pt x="97" y="186"/>
                        </a:cubicBezTo>
                        <a:cubicBezTo>
                          <a:pt x="84" y="167"/>
                          <a:pt x="32" y="139"/>
                          <a:pt x="16" y="108"/>
                        </a:cubicBezTo>
                        <a:cubicBezTo>
                          <a:pt x="0" y="77"/>
                          <a:pt x="0" y="38"/>
                          <a:pt x="1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89720" y="4493520"/>
                    <a:ext cx="14544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243">
                        <a:moveTo>
                          <a:pt x="0" y="243"/>
                        </a:moveTo>
                        <a:cubicBezTo>
                          <a:pt x="44" y="221"/>
                          <a:pt x="88" y="199"/>
                          <a:pt x="108" y="159"/>
                        </a:cubicBezTo>
                        <a:cubicBezTo>
                          <a:pt x="128" y="119"/>
                          <a:pt x="124" y="59"/>
                          <a:pt x="12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2760840" y="4486320"/>
                  <a:ext cx="63360" cy="95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92680" y="4486320"/>
                  <a:ext cx="63360" cy="95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2592360" y="4849920"/>
                <a:ext cx="317520" cy="46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602080" y="2160720"/>
              <a:ext cx="393840" cy="429840"/>
              <a:chOff x="2602080" y="2160720"/>
              <a:chExt cx="393840" cy="429840"/>
            </a:xfrm>
          </p:grpSpPr>
          <p:sp>
            <p:nvSpPr>
              <p:cNvPr id="274" name=""/>
              <p:cNvSpPr/>
              <p:nvPr/>
            </p:nvSpPr>
            <p:spPr>
              <a:xfrm>
                <a:off x="2602080" y="2487240"/>
                <a:ext cx="393840" cy="1033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20800" y="2526480"/>
                <a:ext cx="335160" cy="4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2833560" y="2160720"/>
                <a:ext cx="135360" cy="322560"/>
                <a:chOff x="2833560" y="2160720"/>
                <a:chExt cx="135360" cy="32256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2905200" y="2276640"/>
                  <a:ext cx="0" cy="206640"/>
                </a:xfrm>
                <a:prstGeom prst="line">
                  <a:avLst/>
                </a:prstGeom>
                <a:ln w="90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33560" y="2263320"/>
                  <a:ext cx="135360" cy="7200"/>
                </a:xfrm>
                <a:prstGeom prst="ellipse">
                  <a:avLst/>
                </a:prstGeom>
                <a:solidFill>
                  <a:srgbClr val="ffffff"/>
                </a:solidFill>
                <a:ln w="7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836800" y="2192760"/>
                  <a:ext cx="0" cy="7020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891160" y="2160720"/>
                  <a:ext cx="0" cy="10548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918520" y="2197440"/>
                  <a:ext cx="0" cy="6984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959200" y="2187000"/>
                  <a:ext cx="0" cy="7884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1996560" y="1143000"/>
              <a:ext cx="1063080" cy="1427040"/>
              <a:chOff x="1996560" y="1143000"/>
              <a:chExt cx="1063080" cy="1427040"/>
            </a:xfrm>
          </p:grpSpPr>
          <p:sp>
            <p:nvSpPr>
              <p:cNvPr id="284" name=""/>
              <p:cNvSpPr/>
              <p:nvPr/>
            </p:nvSpPr>
            <p:spPr>
              <a:xfrm>
                <a:off x="2648160" y="2543040"/>
                <a:ext cx="52200" cy="27000"/>
              </a:xfrm>
              <a:prstGeom prst="ellipse">
                <a:avLst/>
              </a:prstGeom>
              <a:noFill/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680" y="1746000"/>
                <a:ext cx="303120" cy="8110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2033280" y="1757520"/>
                <a:ext cx="614520" cy="7999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30400" y="1143000"/>
                <a:ext cx="973440" cy="60948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96560" y="1265400"/>
                <a:ext cx="1063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re spatial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rocess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ystems expert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100160" y="2070000"/>
              <a:ext cx="1715760" cy="2546280"/>
              <a:chOff x="1100160" y="2070000"/>
              <a:chExt cx="1715760" cy="254628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1249560" y="4563720"/>
                <a:ext cx="1381320" cy="5256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44080" y="4335480"/>
                <a:ext cx="1424880" cy="16668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231920" y="3360960"/>
                <a:ext cx="1231560" cy="40392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1337760" y="3273120"/>
                <a:ext cx="1098720" cy="14904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00160" y="3070800"/>
                <a:ext cx="1319400" cy="14040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188000" y="2175480"/>
                <a:ext cx="1627920" cy="19296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75720" y="2070000"/>
                <a:ext cx="1063800" cy="3492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854440" y="2509920"/>
              <a:ext cx="996480" cy="2324880"/>
              <a:chOff x="2854440" y="2509920"/>
              <a:chExt cx="996480" cy="232488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2968920" y="4018680"/>
                <a:ext cx="882000" cy="81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54440" y="3597840"/>
                <a:ext cx="705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92400" y="2509920"/>
                <a:ext cx="714240" cy="54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970520" y="3976560"/>
              <a:ext cx="0" cy="43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494240" y="4362480"/>
              <a:ext cx="737280" cy="658440"/>
              <a:chOff x="4494240" y="4362480"/>
              <a:chExt cx="737280" cy="6584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64800" y="4362480"/>
                <a:ext cx="546840" cy="50076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94240" y="4564080"/>
                <a:ext cx="405720" cy="39528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41200" y="4626000"/>
                <a:ext cx="405720" cy="39492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50760" y="4413600"/>
                <a:ext cx="68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STN/DS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235840" y="3976560"/>
              <a:ext cx="546120" cy="947880"/>
              <a:chOff x="5235840" y="3976560"/>
              <a:chExt cx="546120" cy="947880"/>
            </a:xfrm>
          </p:grpSpPr>
          <p:sp>
            <p:nvSpPr>
              <p:cNvPr id="308" name=""/>
              <p:cNvSpPr/>
              <p:nvPr/>
            </p:nvSpPr>
            <p:spPr>
              <a:xfrm>
                <a:off x="5456520" y="3976560"/>
                <a:ext cx="0" cy="430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2680" y="4397400"/>
                <a:ext cx="404640" cy="3952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35840" y="4424400"/>
                <a:ext cx="546120" cy="500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26920" y="4502160"/>
                <a:ext cx="44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ab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89480" y="2922480"/>
              <a:ext cx="1084320" cy="1158840"/>
              <a:chOff x="3489480" y="2922480"/>
              <a:chExt cx="1084320" cy="1158840"/>
            </a:xfrm>
          </p:grpSpPr>
          <p:sp>
            <p:nvSpPr>
              <p:cNvPr id="313" name=""/>
              <p:cNvSpPr/>
              <p:nvPr/>
            </p:nvSpPr>
            <p:spPr>
              <a:xfrm>
                <a:off x="3948120" y="3432240"/>
                <a:ext cx="625680" cy="5349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630600" y="3598920"/>
                <a:ext cx="590760" cy="48240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33760" y="2922480"/>
                <a:ext cx="1040040" cy="104472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489480" y="3255840"/>
                <a:ext cx="819000" cy="7556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37800" y="325764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78840" y="3638520"/>
                <a:ext cx="8132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frame rel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TM etc.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73800" y="3413160"/>
              <a:ext cx="1285920" cy="577440"/>
              <a:chOff x="4573800" y="3413160"/>
              <a:chExt cx="1285920" cy="577440"/>
            </a:xfrm>
          </p:grpSpPr>
          <p:sp>
            <p:nvSpPr>
              <p:cNvPr id="320" name=""/>
              <p:cNvSpPr/>
              <p:nvPr/>
            </p:nvSpPr>
            <p:spPr>
              <a:xfrm>
                <a:off x="4573800" y="3554280"/>
                <a:ext cx="371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45320" y="3413160"/>
                <a:ext cx="547560" cy="264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45320" y="3483000"/>
                <a:ext cx="5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3240" y="3544920"/>
                <a:ext cx="5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45320" y="3606840"/>
                <a:ext cx="5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37240" y="3702240"/>
                <a:ext cx="11224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Tunnel swit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L2TP network 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24520" y="3440160"/>
                <a:ext cx="7632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332680" y="3510000"/>
                <a:ext cx="7776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24520" y="3571920"/>
                <a:ext cx="7632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32680" y="3633840"/>
                <a:ext cx="7776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597200" y="2214720"/>
              <a:ext cx="1063080" cy="1242720"/>
              <a:chOff x="4597200" y="2214720"/>
              <a:chExt cx="1063080" cy="1242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273640" y="3430440"/>
                <a:ext cx="54000" cy="27000"/>
              </a:xfrm>
              <a:prstGeom prst="ellipse">
                <a:avLst/>
              </a:prstGeom>
              <a:noFill/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330880" y="2639880"/>
                <a:ext cx="247680" cy="8128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4672080" y="2654280"/>
                <a:ext cx="611280" cy="7984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67400" y="2214720"/>
                <a:ext cx="911160" cy="43488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97200" y="2317680"/>
                <a:ext cx="106308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“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-DSL”  Mobil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olution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499360" y="3465360"/>
              <a:ext cx="165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9360" y="3616200"/>
              <a:ext cx="166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5491440" y="3000240"/>
              <a:ext cx="925200" cy="439920"/>
              <a:chOff x="5491440" y="3000240"/>
              <a:chExt cx="925200" cy="439920"/>
            </a:xfrm>
          </p:grpSpPr>
          <p:sp>
            <p:nvSpPr>
              <p:cNvPr id="339" name=""/>
              <p:cNvSpPr/>
              <p:nvPr/>
            </p:nvSpPr>
            <p:spPr>
              <a:xfrm>
                <a:off x="5491440" y="3440160"/>
                <a:ext cx="925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6408000" y="3000240"/>
                <a:ext cx="0" cy="43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6408720" y="3000240"/>
              <a:ext cx="70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491440" y="3641400"/>
              <a:ext cx="1620360" cy="439920"/>
              <a:chOff x="5491440" y="3641400"/>
              <a:chExt cx="1620360" cy="4399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491440" y="3641400"/>
                <a:ext cx="924840" cy="439920"/>
                <a:chOff x="5491440" y="3641400"/>
                <a:chExt cx="924840" cy="4399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491440" y="3641400"/>
                  <a:ext cx="9248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407640" y="3641760"/>
                  <a:ext cx="0" cy="439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407640" y="4072320"/>
                <a:ext cx="704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104240" y="2790720"/>
              <a:ext cx="1211760" cy="316080"/>
              <a:chOff x="7104240" y="2790720"/>
              <a:chExt cx="1211760" cy="316080"/>
            </a:xfrm>
          </p:grpSpPr>
          <p:sp>
            <p:nvSpPr>
              <p:cNvPr id="348" name=""/>
              <p:cNvSpPr/>
              <p:nvPr/>
            </p:nvSpPr>
            <p:spPr>
              <a:xfrm>
                <a:off x="7104240" y="2790720"/>
                <a:ext cx="211680" cy="31608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82520" y="2869560"/>
                <a:ext cx="933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tent provi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104240" y="3184560"/>
              <a:ext cx="923400" cy="315720"/>
              <a:chOff x="7104240" y="3184560"/>
              <a:chExt cx="923400" cy="315720"/>
            </a:xfrm>
          </p:grpSpPr>
          <p:sp>
            <p:nvSpPr>
              <p:cNvPr id="351" name=""/>
              <p:cNvSpPr/>
              <p:nvPr/>
            </p:nvSpPr>
            <p:spPr>
              <a:xfrm>
                <a:off x="7104240" y="3184560"/>
                <a:ext cx="211320" cy="31572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82160" y="3200760"/>
                <a:ext cx="64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nterpr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104240" y="3576600"/>
              <a:ext cx="1310400" cy="337320"/>
              <a:chOff x="7104240" y="3576600"/>
              <a:chExt cx="131040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7104240" y="3580560"/>
                <a:ext cx="211320" cy="31608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80360" y="357660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pplication serv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rovi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104240" y="3992400"/>
              <a:ext cx="623520" cy="334800"/>
              <a:chOff x="7104240" y="3992400"/>
              <a:chExt cx="623520" cy="334800"/>
            </a:xfrm>
          </p:grpSpPr>
          <p:sp>
            <p:nvSpPr>
              <p:cNvPr id="357" name=""/>
              <p:cNvSpPr/>
              <p:nvPr/>
            </p:nvSpPr>
            <p:spPr>
              <a:xfrm>
                <a:off x="7104240" y="4011480"/>
                <a:ext cx="211320" cy="31572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080" y="3992400"/>
                <a:ext cx="34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S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99360" y="3668760"/>
              <a:ext cx="1947240" cy="914400"/>
              <a:chOff x="5499360" y="3668760"/>
              <a:chExt cx="1947240" cy="914400"/>
            </a:xfrm>
          </p:grpSpPr>
          <p:sp>
            <p:nvSpPr>
              <p:cNvPr id="360" name=""/>
              <p:cNvSpPr/>
              <p:nvPr/>
            </p:nvSpPr>
            <p:spPr>
              <a:xfrm>
                <a:off x="5499360" y="3668760"/>
                <a:ext cx="60804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81120" y="3668760"/>
                <a:ext cx="0" cy="90576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81120" y="4556880"/>
                <a:ext cx="13654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37960" y="4275360"/>
                <a:ext cx="0" cy="30780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14480" y="4275360"/>
                <a:ext cx="1231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909760" y="3994200"/>
              <a:ext cx="386640" cy="243000"/>
              <a:chOff x="5909760" y="3994200"/>
              <a:chExt cx="386640" cy="243000"/>
            </a:xfrm>
          </p:grpSpPr>
          <p:sp>
            <p:nvSpPr>
              <p:cNvPr id="366" name=""/>
              <p:cNvSpPr/>
              <p:nvPr/>
            </p:nvSpPr>
            <p:spPr>
              <a:xfrm>
                <a:off x="5932080" y="3994200"/>
                <a:ext cx="281520" cy="201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09760" y="4021560"/>
                <a:ext cx="386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A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570360" y="4459320"/>
              <a:ext cx="386640" cy="240480"/>
              <a:chOff x="6570360" y="4459320"/>
              <a:chExt cx="386640" cy="240480"/>
            </a:xfrm>
          </p:grpSpPr>
          <p:sp>
            <p:nvSpPr>
              <p:cNvPr id="369" name=""/>
              <p:cNvSpPr/>
              <p:nvPr/>
            </p:nvSpPr>
            <p:spPr>
              <a:xfrm>
                <a:off x="6592320" y="4459320"/>
                <a:ext cx="282600" cy="201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70360" y="4484160"/>
                <a:ext cx="386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A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536160" y="1679760"/>
              <a:ext cx="842040" cy="1242720"/>
              <a:chOff x="6536160" y="1679760"/>
              <a:chExt cx="842040" cy="12427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7212240" y="2114280"/>
                <a:ext cx="147600" cy="7952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6548760" y="2119320"/>
                <a:ext cx="612720" cy="7984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43720" y="1679760"/>
                <a:ext cx="825480" cy="43488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53560" y="2895480"/>
                <a:ext cx="52200" cy="27000"/>
              </a:xfrm>
              <a:prstGeom prst="ellipse">
                <a:avLst/>
              </a:prstGeom>
              <a:noFill/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36160" y="1708200"/>
                <a:ext cx="8420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tandard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S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nfrastructur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051200" y="4694400"/>
              <a:ext cx="1057320" cy="714240"/>
              <a:chOff x="1051200" y="4694400"/>
              <a:chExt cx="1057320" cy="714240"/>
            </a:xfrm>
          </p:grpSpPr>
          <p:sp>
            <p:nvSpPr>
              <p:cNvPr id="378" name=""/>
              <p:cNvSpPr/>
              <p:nvPr/>
            </p:nvSpPr>
            <p:spPr>
              <a:xfrm>
                <a:off x="1057320" y="4694400"/>
                <a:ext cx="103320" cy="7272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51200" y="4738680"/>
                <a:ext cx="280800" cy="50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60640" y="4721400"/>
                <a:ext cx="654120" cy="1616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00320" y="4869000"/>
                <a:ext cx="808200" cy="53964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12640" y="4916520"/>
                <a:ext cx="6181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“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-DSL”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hips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1594080" y="5161320"/>
              <a:ext cx="221400" cy="221040"/>
              <a:chOff x="1594080" y="5161320"/>
              <a:chExt cx="221400" cy="2210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745280" y="5207760"/>
                <a:ext cx="70200" cy="138240"/>
                <a:chOff x="1745280" y="5207760"/>
                <a:chExt cx="70200" cy="13824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1745280" y="5207760"/>
                  <a:ext cx="70200" cy="13320"/>
                  <a:chOff x="1745280" y="5207760"/>
                  <a:chExt cx="70200" cy="133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1745280" y="52077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809720" y="520776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1745280" y="5222160"/>
                  <a:ext cx="70200" cy="13320"/>
                  <a:chOff x="1745280" y="5222160"/>
                  <a:chExt cx="70200" cy="133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1745280" y="52221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809720" y="522216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1745280" y="5239800"/>
                  <a:ext cx="70200" cy="13320"/>
                  <a:chOff x="1745280" y="5239800"/>
                  <a:chExt cx="70200" cy="133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1745280" y="523980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809720" y="523980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1745280" y="5260680"/>
                  <a:ext cx="70200" cy="12960"/>
                  <a:chOff x="1745280" y="5260680"/>
                  <a:chExt cx="70200" cy="129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745280" y="526068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809720" y="526068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1745280" y="5279400"/>
                  <a:ext cx="70200" cy="13320"/>
                  <a:chOff x="1745280" y="5279400"/>
                  <a:chExt cx="70200" cy="1332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1745280" y="527940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809720" y="527940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745280" y="5295960"/>
                  <a:ext cx="70200" cy="12960"/>
                  <a:chOff x="1745280" y="5295960"/>
                  <a:chExt cx="70200" cy="129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745280" y="52959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809720" y="52959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745280" y="5310360"/>
                  <a:ext cx="70200" cy="12960"/>
                  <a:chOff x="1745280" y="5310360"/>
                  <a:chExt cx="70200" cy="1296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1745280" y="53103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809720" y="53103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1745280" y="5322240"/>
                  <a:ext cx="70200" cy="13320"/>
                  <a:chOff x="1745280" y="5322240"/>
                  <a:chExt cx="70200" cy="1332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745280" y="532224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809720" y="532224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745280" y="5332680"/>
                  <a:ext cx="70200" cy="13320"/>
                  <a:chOff x="1745280" y="5332680"/>
                  <a:chExt cx="70200" cy="133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745280" y="533268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809720" y="533268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1638000" y="5161320"/>
                <a:ext cx="137520" cy="70200"/>
                <a:chOff x="1638000" y="5161320"/>
                <a:chExt cx="137520" cy="70200"/>
              </a:xfrm>
            </p:grpSpPr>
            <p:grpSp>
              <p:nvGrpSpPr>
                <p:cNvPr id="413" name=""/>
                <p:cNvGrpSpPr/>
                <p:nvPr/>
              </p:nvGrpSpPr>
              <p:grpSpPr>
                <a:xfrm>
                  <a:off x="1638000" y="5161320"/>
                  <a:ext cx="12960" cy="70200"/>
                  <a:chOff x="1638000" y="5161320"/>
                  <a:chExt cx="12960" cy="702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V="1">
                    <a:off x="163800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>
                    <a:off x="163800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1652400" y="5161320"/>
                  <a:ext cx="12960" cy="70200"/>
                  <a:chOff x="1652400" y="5161320"/>
                  <a:chExt cx="12960" cy="70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V="1">
                    <a:off x="165240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165240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1670040" y="5161320"/>
                  <a:ext cx="12960" cy="70200"/>
                  <a:chOff x="1670040" y="5161320"/>
                  <a:chExt cx="12960" cy="702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V="1">
                    <a:off x="167004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>
                    <a:off x="167004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1690560" y="5161320"/>
                  <a:ext cx="12960" cy="70200"/>
                  <a:chOff x="1690560" y="5161320"/>
                  <a:chExt cx="12960" cy="7020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V="1">
                    <a:off x="169056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169056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1709640" y="5161320"/>
                  <a:ext cx="12960" cy="70200"/>
                  <a:chOff x="1709640" y="5161320"/>
                  <a:chExt cx="12960" cy="702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V="1">
                    <a:off x="170964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V="1">
                    <a:off x="170964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1725840" y="5161320"/>
                  <a:ext cx="12960" cy="70200"/>
                  <a:chOff x="1725840" y="5161320"/>
                  <a:chExt cx="12960" cy="70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V="1">
                    <a:off x="172584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172584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1740600" y="5161320"/>
                  <a:ext cx="12960" cy="70200"/>
                  <a:chOff x="1740600" y="5161320"/>
                  <a:chExt cx="12960" cy="7020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V="1">
                    <a:off x="174060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174060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1752120" y="5161320"/>
                  <a:ext cx="12960" cy="70200"/>
                  <a:chOff x="1752120" y="5161320"/>
                  <a:chExt cx="12960" cy="702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V="1">
                    <a:off x="175212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175212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1762560" y="5161320"/>
                  <a:ext cx="12960" cy="70200"/>
                  <a:chOff x="1762560" y="5161320"/>
                  <a:chExt cx="12960" cy="702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V="1">
                    <a:off x="176256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176256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1642320" y="5312160"/>
                <a:ext cx="138240" cy="70200"/>
                <a:chOff x="1642320" y="5312160"/>
                <a:chExt cx="138240" cy="702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642320" y="5312160"/>
                  <a:ext cx="13320" cy="70200"/>
                  <a:chOff x="1642320" y="5312160"/>
                  <a:chExt cx="13320" cy="70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16423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6423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1656720" y="5312160"/>
                  <a:ext cx="13320" cy="70200"/>
                  <a:chOff x="1656720" y="5312160"/>
                  <a:chExt cx="13320" cy="7020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16567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6567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1674360" y="5312160"/>
                  <a:ext cx="13320" cy="70200"/>
                  <a:chOff x="1674360" y="5312160"/>
                  <a:chExt cx="13320" cy="7020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167436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167436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1695240" y="5312160"/>
                  <a:ext cx="13320" cy="70200"/>
                  <a:chOff x="1695240" y="5312160"/>
                  <a:chExt cx="13320" cy="702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169524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69524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1713960" y="5312160"/>
                  <a:ext cx="13320" cy="70200"/>
                  <a:chOff x="1713960" y="5312160"/>
                  <a:chExt cx="13320" cy="702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71396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71396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1730520" y="5312160"/>
                  <a:ext cx="13320" cy="70200"/>
                  <a:chOff x="1730520" y="5312160"/>
                  <a:chExt cx="13320" cy="702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17305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7305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1744920" y="5312160"/>
                  <a:ext cx="13320" cy="70200"/>
                  <a:chOff x="1744920" y="5312160"/>
                  <a:chExt cx="13320" cy="702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17449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17449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1756800" y="5312160"/>
                  <a:ext cx="13320" cy="70200"/>
                  <a:chOff x="1756800" y="5312160"/>
                  <a:chExt cx="13320" cy="702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175680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175680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1767240" y="5312160"/>
                  <a:ext cx="13320" cy="70200"/>
                  <a:chOff x="1767240" y="5312160"/>
                  <a:chExt cx="13320" cy="7020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176724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76724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1594080" y="5206320"/>
                <a:ext cx="69840" cy="137520"/>
                <a:chOff x="1594080" y="5206320"/>
                <a:chExt cx="69840" cy="13752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1594080" y="5206320"/>
                  <a:ext cx="69840" cy="12960"/>
                  <a:chOff x="1594080" y="5206320"/>
                  <a:chExt cx="69840" cy="129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H="1">
                    <a:off x="1601280" y="520632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1594080" y="520632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1594080" y="5220720"/>
                  <a:ext cx="69840" cy="12960"/>
                  <a:chOff x="1594080" y="5220720"/>
                  <a:chExt cx="69840" cy="12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flipH="1">
                    <a:off x="1601280" y="522072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1594080" y="522072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1594080" y="5238360"/>
                  <a:ext cx="69840" cy="12960"/>
                  <a:chOff x="1594080" y="5238360"/>
                  <a:chExt cx="69840" cy="129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H="1">
                    <a:off x="1601280" y="523836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1594080" y="52383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1594080" y="5258880"/>
                  <a:ext cx="69840" cy="12960"/>
                  <a:chOff x="1594080" y="5258880"/>
                  <a:chExt cx="69840" cy="129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>
                    <a:off x="1601280" y="525888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>
                    <a:off x="1594080" y="525888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1594080" y="5277960"/>
                  <a:ext cx="69840" cy="12960"/>
                  <a:chOff x="1594080" y="5277960"/>
                  <a:chExt cx="69840" cy="129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>
                    <a:off x="1601280" y="527796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1594080" y="52779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1594080" y="5294160"/>
                  <a:ext cx="69840" cy="12960"/>
                  <a:chOff x="1594080" y="5294160"/>
                  <a:chExt cx="69840" cy="129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>
                    <a:off x="1601280" y="529416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>
                    <a:off x="1594080" y="52941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1594080" y="5308920"/>
                  <a:ext cx="69840" cy="12960"/>
                  <a:chOff x="1594080" y="5308920"/>
                  <a:chExt cx="69840" cy="129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>
                    <a:off x="1601280" y="530892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1594080" y="530892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1594080" y="5320440"/>
                  <a:ext cx="69840" cy="12960"/>
                  <a:chOff x="1594080" y="5320440"/>
                  <a:chExt cx="69840" cy="1296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>
                    <a:off x="1601280" y="532044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1594080" y="532044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1594080" y="5330880"/>
                  <a:ext cx="69840" cy="12960"/>
                  <a:chOff x="1594080" y="5330880"/>
                  <a:chExt cx="69840" cy="12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>
                    <a:off x="1601280" y="533088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1594080" y="533088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6" name=""/>
              <p:cNvSpPr/>
              <p:nvPr/>
            </p:nvSpPr>
            <p:spPr>
              <a:xfrm>
                <a:off x="1630440" y="5200560"/>
                <a:ext cx="140760" cy="14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879480" y="597996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 radio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23000" y="597996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isting wi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roadband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43720" y="5979960"/>
              <a:ext cx="14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86200" y="3841920"/>
              <a:ext cx="81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ase Sta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28840" y="4888080"/>
              <a:ext cx="81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ase Stat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57640" y="2568600"/>
              <a:ext cx="8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ase Stat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7315200" y="4002120"/>
              <a:ext cx="1331640" cy="360000"/>
              <a:chOff x="7315200" y="4002120"/>
              <a:chExt cx="1331640" cy="360000"/>
            </a:xfrm>
          </p:grpSpPr>
          <p:sp>
            <p:nvSpPr>
              <p:cNvPr id="504" name=""/>
              <p:cNvSpPr/>
              <p:nvPr/>
            </p:nvSpPr>
            <p:spPr>
              <a:xfrm>
                <a:off x="7315200" y="4195800"/>
                <a:ext cx="582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7880400" y="4002120"/>
                <a:ext cx="766440" cy="360000"/>
                <a:chOff x="7880400" y="4002120"/>
                <a:chExt cx="766440" cy="3600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7880400" y="408996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42320" y="4002120"/>
                  <a:ext cx="228600" cy="193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144640" y="401940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136000" y="416052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268120" y="412524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959600" y="415152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356320" y="4002120"/>
                  <a:ext cx="228960" cy="193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417880" y="416916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980120" y="4082760"/>
                  <a:ext cx="584280" cy="21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ＭＳ Ｐゴシック"/>
                    </a:rPr>
                    <a:t>Interne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5" name=""/>
            <p:cNvSpPr/>
            <p:nvPr/>
          </p:nvSpPr>
          <p:spPr>
            <a:xfrm rot="16200600">
              <a:off x="1040400" y="3336480"/>
              <a:ext cx="175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W-DSL” Wireless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04920" y="304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ireless D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d to End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MT-2000 &amp; Wireless DSL compat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ce &amp;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e-per min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-per pac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084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P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mium DSL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10200" y="150192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T-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ireless 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60360" y="4478400"/>
            <a:ext cx="692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reless DSL protects Operators high value voice services by relieving network of extended duration high-speed data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MT-2000 &amp; Wireless DSL compat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62840" y="150192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T-2000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reless 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hone" descr=""/>
          <p:cNvPicPr/>
          <p:nvPr/>
        </p:nvPicPr>
        <p:blipFill>
          <a:blip r:embed="rId1"/>
          <a:stretch/>
        </p:blipFill>
        <p:spPr>
          <a:xfrm>
            <a:off x="1496880" y="2108160"/>
            <a:ext cx="1811520" cy="3027240"/>
          </a:xfrm>
          <a:prstGeom prst="rect">
            <a:avLst/>
          </a:prstGeom>
          <a:ln w="0">
            <a:noFill/>
          </a:ln>
        </p:spPr>
      </p:pic>
      <p:pic>
        <p:nvPicPr>
          <p:cNvPr id="525" name="sonypic" descr=""/>
          <p:cNvPicPr/>
          <p:nvPr/>
        </p:nvPicPr>
        <p:blipFill>
          <a:blip r:embed="rId2"/>
          <a:stretch/>
        </p:blipFill>
        <p:spPr>
          <a:xfrm>
            <a:off x="4508640" y="2111400"/>
            <a:ext cx="4062240" cy="30463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463760" y="5145120"/>
            <a:ext cx="69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reless DSL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not need to be backward compatible with 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Generation voic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tential market is h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ful solutions have to address all of the market’s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formance of the wire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lications of the wired network (the availability of the wireless link will foster new app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reedom of wir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llenge can be met with proven technologies in a Wireless DSL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Reward ...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762360" y="1735200"/>
            <a:ext cx="1774800" cy="1709640"/>
            <a:chOff x="3762360" y="1735200"/>
            <a:chExt cx="1774800" cy="1709640"/>
          </a:xfrm>
        </p:grpSpPr>
        <p:pic>
          <p:nvPicPr>
            <p:cNvPr id="531" name="desktopvaio" descr=""/>
            <p:cNvPicPr/>
            <p:nvPr/>
          </p:nvPicPr>
          <p:blipFill>
            <a:blip r:embed="rId1"/>
            <a:stretch/>
          </p:blipFill>
          <p:spPr>
            <a:xfrm>
              <a:off x="4103280" y="1735200"/>
              <a:ext cx="1365120" cy="134280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32" name=""/>
            <p:cNvSpPr/>
            <p:nvPr/>
          </p:nvSpPr>
          <p:spPr>
            <a:xfrm>
              <a:off x="3762360" y="3078000"/>
              <a:ext cx="1774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1 B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151680" y="3951360"/>
            <a:ext cx="1776240" cy="1977840"/>
            <a:chOff x="6151680" y="3951360"/>
            <a:chExt cx="1776240" cy="1977840"/>
          </a:xfrm>
        </p:grpSpPr>
        <p:pic>
          <p:nvPicPr>
            <p:cNvPr id="534" name="MOBITRON" descr=""/>
            <p:cNvPicPr/>
            <p:nvPr/>
          </p:nvPicPr>
          <p:blipFill>
            <a:blip r:embed="rId2"/>
            <a:stretch/>
          </p:blipFill>
          <p:spPr>
            <a:xfrm>
              <a:off x="6561360" y="3951360"/>
              <a:ext cx="1069920" cy="16124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35" name=""/>
            <p:cNvSpPr/>
            <p:nvPr/>
          </p:nvSpPr>
          <p:spPr>
            <a:xfrm>
              <a:off x="6151680" y="556236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275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810400" y="1600200"/>
            <a:ext cx="1776240" cy="1133280"/>
            <a:chOff x="5810400" y="1600200"/>
            <a:chExt cx="1776240" cy="1133280"/>
          </a:xfrm>
        </p:grpSpPr>
        <p:pic>
          <p:nvPicPr>
            <p:cNvPr id="537" name="dcr-pc10_th" descr=""/>
            <p:cNvPicPr/>
            <p:nvPr/>
          </p:nvPicPr>
          <p:blipFill>
            <a:blip r:embed="rId3"/>
            <a:stretch/>
          </p:blipFill>
          <p:spPr>
            <a:xfrm>
              <a:off x="6015240" y="1600200"/>
              <a:ext cx="956160" cy="7498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38" name=""/>
            <p:cNvSpPr/>
            <p:nvPr/>
          </p:nvSpPr>
          <p:spPr>
            <a:xfrm>
              <a:off x="5810400" y="236664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180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035600" y="4489560"/>
            <a:ext cx="1774800" cy="1530000"/>
            <a:chOff x="4035600" y="4489560"/>
            <a:chExt cx="1774800" cy="1530000"/>
          </a:xfrm>
        </p:grpSpPr>
        <p:pic>
          <p:nvPicPr>
            <p:cNvPr id="540" name="wm-fs595" descr=""/>
            <p:cNvPicPr/>
            <p:nvPr/>
          </p:nvPicPr>
          <p:blipFill>
            <a:blip r:embed="rId4"/>
            <a:stretch/>
          </p:blipFill>
          <p:spPr>
            <a:xfrm>
              <a:off x="4103640" y="4892040"/>
              <a:ext cx="1433520" cy="112752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41" name=""/>
            <p:cNvSpPr/>
            <p:nvPr/>
          </p:nvSpPr>
          <p:spPr>
            <a:xfrm>
              <a:off x="4035600" y="4489560"/>
              <a:ext cx="1774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65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083280" y="2271600"/>
            <a:ext cx="2526840" cy="1708200"/>
            <a:chOff x="6083280" y="2271600"/>
            <a:chExt cx="2526840" cy="1708200"/>
          </a:xfrm>
        </p:grpSpPr>
        <p:grpSp>
          <p:nvGrpSpPr>
            <p:cNvPr id="543" name=""/>
            <p:cNvGrpSpPr/>
            <p:nvPr/>
          </p:nvGrpSpPr>
          <p:grpSpPr>
            <a:xfrm>
              <a:off x="6083280" y="2271600"/>
              <a:ext cx="2526840" cy="1708200"/>
              <a:chOff x="6083280" y="2271600"/>
              <a:chExt cx="2526840" cy="1708200"/>
            </a:xfrm>
          </p:grpSpPr>
          <p:sp>
            <p:nvSpPr>
              <p:cNvPr id="544" name=""/>
              <p:cNvSpPr/>
              <p:nvPr/>
            </p:nvSpPr>
            <p:spPr>
              <a:xfrm>
                <a:off x="6083280" y="3612960"/>
                <a:ext cx="1775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Gill Sans"/>
                  </a:rPr>
                  <a:t>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Gill Sans"/>
                  </a:rPr>
                  <a:t>675 Mill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5" name="PS2" descr=""/>
              <p:cNvPicPr/>
              <p:nvPr/>
            </p:nvPicPr>
            <p:blipFill>
              <a:blip r:embed="rId5">
                <a:lum bright="18000"/>
              </a:blip>
              <a:stretch/>
            </p:blipFill>
            <p:spPr>
              <a:xfrm>
                <a:off x="6971040" y="2742120"/>
                <a:ext cx="1502640" cy="94212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pic>
            <p:nvPicPr>
              <p:cNvPr id="546" name="PlayStation" descr=""/>
              <p:cNvPicPr/>
              <p:nvPr/>
            </p:nvPicPr>
            <p:blipFill>
              <a:blip r:embed="rId6"/>
              <a:stretch/>
            </p:blipFill>
            <p:spPr>
              <a:xfrm>
                <a:off x="7995600" y="2271600"/>
                <a:ext cx="614520" cy="60624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</p:grpSp>
        <p:sp>
          <p:nvSpPr>
            <p:cNvPr id="547" name=""/>
            <p:cNvSpPr/>
            <p:nvPr/>
          </p:nvSpPr>
          <p:spPr>
            <a:xfrm>
              <a:off x="8034120" y="2725200"/>
              <a:ext cx="499320" cy="24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laySt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172040" y="2876400"/>
            <a:ext cx="2140920" cy="1676520"/>
            <a:chOff x="4172040" y="2876400"/>
            <a:chExt cx="2140920" cy="1676520"/>
          </a:xfrm>
        </p:grpSpPr>
        <p:pic>
          <p:nvPicPr>
            <p:cNvPr id="549" name="" descr=""/>
            <p:cNvPicPr/>
            <p:nvPr/>
          </p:nvPicPr>
          <p:blipFill>
            <a:blip r:embed="rId7"/>
            <a:stretch/>
          </p:blipFill>
          <p:spPr>
            <a:xfrm>
              <a:off x="5605200" y="2876400"/>
              <a:ext cx="7077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4172040" y="4085280"/>
              <a:ext cx="177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Many Mill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371600" y="2205000"/>
            <a:ext cx="2458800" cy="3223800"/>
            <a:chOff x="1371600" y="2205000"/>
            <a:chExt cx="2458800" cy="3223800"/>
          </a:xfrm>
        </p:grpSpPr>
        <p:pic>
          <p:nvPicPr>
            <p:cNvPr id="552" name="" descr=""/>
            <p:cNvPicPr/>
            <p:nvPr/>
          </p:nvPicPr>
          <p:blipFill>
            <a:blip r:embed="rId8"/>
            <a:stretch/>
          </p:blipFill>
          <p:spPr>
            <a:xfrm>
              <a:off x="1371600" y="2205000"/>
              <a:ext cx="2185560" cy="1275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553" name="pcmia" descr=""/>
            <p:cNvPicPr/>
            <p:nvPr/>
          </p:nvPicPr>
          <p:blipFill>
            <a:blip r:embed="rId9"/>
            <a:srcRect l="0" t="0" r="18189" b="0"/>
            <a:stretch/>
          </p:blipFill>
          <p:spPr>
            <a:xfrm>
              <a:off x="1439640" y="3548160"/>
              <a:ext cx="1820160" cy="1880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54" name=""/>
            <p:cNvSpPr/>
            <p:nvPr/>
          </p:nvSpPr>
          <p:spPr>
            <a:xfrm>
              <a:off x="2054160" y="395100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250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But not guaranteed succes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 standard” for performance is wired (dialup or LAN)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providers, ASP’s, application and content  providers will focus on the moderate-to-high bandwidth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ing of wireless must be competitive with wireline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equirements for realizing the opportunit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14440" y="1752480"/>
            <a:ext cx="458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aspects of wired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… per-user throughput … low cost … rich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aspects of wireless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to move … always on … ubiq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65320" y="3733920"/>
            <a:ext cx="9972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</p:pic>
      <p:grpSp>
        <p:nvGrpSpPr>
          <p:cNvPr id="77" name=""/>
          <p:cNvGrpSpPr/>
          <p:nvPr/>
        </p:nvGrpSpPr>
        <p:grpSpPr>
          <a:xfrm>
            <a:off x="609480" y="1878120"/>
            <a:ext cx="2311920" cy="2312280"/>
            <a:chOff x="609480" y="1878120"/>
            <a:chExt cx="2311920" cy="2312280"/>
          </a:xfrm>
        </p:grpSpPr>
        <p:grpSp>
          <p:nvGrpSpPr>
            <p:cNvPr id="78" name=""/>
            <p:cNvGrpSpPr/>
            <p:nvPr/>
          </p:nvGrpSpPr>
          <p:grpSpPr>
            <a:xfrm>
              <a:off x="609480" y="1878120"/>
              <a:ext cx="2311920" cy="2312280"/>
              <a:chOff x="609480" y="1878120"/>
              <a:chExt cx="2311920" cy="2312280"/>
            </a:xfrm>
          </p:grpSpPr>
          <p:pic>
            <p:nvPicPr>
              <p:cNvPr id="79" name="PS2" descr=""/>
              <p:cNvPicPr/>
              <p:nvPr/>
            </p:nvPicPr>
            <p:blipFill>
              <a:blip r:embed="rId2">
                <a:lum bright="18000"/>
              </a:blip>
              <a:stretch/>
            </p:blipFill>
            <p:spPr>
              <a:xfrm>
                <a:off x="609480" y="2647440"/>
                <a:ext cx="2120040" cy="154296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  <a:effectLst>
                <a:outerShdw dist="17819" dir="2700000" blurRad="0" rotWithShape="0">
                  <a:srgbClr val="000099"/>
                </a:outerShdw>
              </a:effectLst>
            </p:spPr>
          </p:pic>
          <p:pic>
            <p:nvPicPr>
              <p:cNvPr id="80" name="PlayStation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1878120"/>
                <a:ext cx="865800" cy="99252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  <a:effectLst>
                <a:outerShdw dist="17819" dir="2700000" blurRad="0" rotWithShape="0">
                  <a:srgbClr val="000099"/>
                </a:outerShdw>
              </a:effectLst>
            </p:spPr>
          </p:pic>
        </p:grpSp>
        <p:sp>
          <p:nvSpPr>
            <p:cNvPr id="81" name=""/>
            <p:cNvSpPr/>
            <p:nvPr/>
          </p:nvSpPr>
          <p:spPr>
            <a:xfrm>
              <a:off x="2109600" y="2620800"/>
              <a:ext cx="70524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laySt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equirements for realizing the opportunity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arriers to entry for service and content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…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arriers to entry for access op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…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MOBITRON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21428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216480" y="2646360"/>
            <a:ext cx="2775240" cy="162072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</p:pic>
      <p:pic>
        <p:nvPicPr>
          <p:cNvPr id="86" name="pcmia" descr=""/>
          <p:cNvPicPr/>
          <p:nvPr/>
        </p:nvPicPr>
        <p:blipFill>
          <a:blip r:embed="rId3"/>
          <a:srcRect l="0" t="0" r="18189" b="0"/>
          <a:stretch/>
        </p:blipFill>
        <p:spPr>
          <a:xfrm>
            <a:off x="5029200" y="4290840"/>
            <a:ext cx="1820880" cy="188136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raditional cellular system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parti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biquity and high-spe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support low bandwidth, intermittent subscri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not provide significant per-user throughput at low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 and complex net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suited to high mobility, low bandwidth applications with specialized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ixed Wireless Access systems (MMDS, …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s a different set of the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biquity, moderate-high per user bandwidth,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ither mobile nor p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require professional  installation of end-user equipment (not low c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1717560"/>
            <a:ext cx="46735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30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ixed Wireless Access systems (MMDS, …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moderate spectral efficiency, and limited capacity below 3 GH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suited as “local loop bypass”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67080" y="2095560"/>
            <a:ext cx="4743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entral elements of the “right” solution 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ive capacity to deliver high speed, high quality service to all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tral efficiency to enable economical operation in crowded bands below 3 GHz (portability requiremen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Remote%20Education" descr=""/>
          <p:cNvPicPr/>
          <p:nvPr/>
        </p:nvPicPr>
        <p:blipFill>
          <a:blip r:embed="rId1"/>
          <a:stretch/>
        </p:blipFill>
        <p:spPr>
          <a:xfrm>
            <a:off x="5105520" y="2457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9T22:28:58Z</dcterms:created>
  <dc:creator>SAM</dc:creator>
  <dc:description/>
  <dc:language>en-US</dc:language>
  <cp:lastModifiedBy>INFOVIEW</cp:lastModifiedBy>
  <cp:lastPrinted>1999-12-09T03:09:12Z</cp:lastPrinted>
  <dcterms:modified xsi:type="dcterms:W3CDTF">2001-06-05T13:54:12Z</dcterms:modified>
  <cp:revision>212</cp:revision>
  <dc:subject/>
  <dc:title>Handout Template</dc:title>
</cp:coreProperties>
</file>