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png" ContentType="image/png"/>
  <Override PartName="/ppt/media/image23.png" ContentType="image/png"/>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2.jpeg" ContentType="image/jpeg"/>
  <Override PartName="/ppt/media/image17.wmf" ContentType="image/x-wmf"/>
  <Override PartName="/ppt/media/image16.wmf" ContentType="image/x-wmf"/>
  <Override PartName="/ppt/media/image9.wmf" ContentType="image/x-wmf"/>
  <Override PartName="/ppt/media/image39.wmf" ContentType="image/x-wmf"/>
  <Override PartName="/ppt/media/image12.wmf" ContentType="image/x-wmf"/>
  <Override PartName="/ppt/media/image41.wmf" ContentType="image/x-wmf"/>
  <Override PartName="/ppt/media/image8.jpeg" ContentType="image/jpeg"/>
  <Override PartName="/ppt/media/image13.wmf" ContentType="image/x-wmf"/>
  <Override PartName="/ppt/media/image35.png" ContentType="image/png"/>
  <Override PartName="/ppt/media/image5.png" ContentType="image/png"/>
  <Override PartName="/ppt/media/image30.wmf" ContentType="image/x-wmf"/>
  <Override PartName="/ppt/media/image31.wmf" ContentType="image/x-wmf"/>
  <Override PartName="/ppt/media/image11.png" ContentType="image/png"/>
  <Override PartName="/ppt/media/image29.wmf" ContentType="image/x-wmf"/>
  <Override PartName="/ppt/media/image32.png" ContentType="image/png"/>
  <Override PartName="/ppt/media/image1.jpeg" ContentType="image/jpeg"/>
  <Override PartName="/ppt/media/image15.wmf" ContentType="image/x-wmf"/>
  <Override PartName="/ppt/media/image34.png" ContentType="image/png"/>
  <Override PartName="/ppt/media/image42.png" ContentType="image/png"/>
  <Override PartName="/ppt/media/image7.png" ContentType="image/png"/>
  <Override PartName="/ppt/media/image40.wmf" ContentType="image/x-wmf"/>
  <Override PartName="/ppt/media/image37.png" ContentType="image/png"/>
  <Override PartName="/ppt/media/image10.wmf" ContentType="image/x-wmf"/>
  <Override PartName="/ppt/media/image38.wmf" ContentType="image/x-wmf"/>
  <Override PartName="/ppt/media/image4.jpeg" ContentType="image/jpeg"/>
  <Override PartName="/ppt/media/image25.png" ContentType="image/png"/>
  <Override PartName="/ppt/media/image36.png" ContentType="image/png"/>
  <Override PartName="/ppt/media/image6.png" ContentType="image/png"/>
  <Override PartName="/ppt/media/image14.wmf" ContentType="image/x-wmf"/>
  <Override PartName="/ppt/media/image33.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Click to move the slide</a:t>
            </a:r>
            <a:endParaRPr b="1" lang="en-US" sz="3600" spc="-1" strike="noStrike">
              <a:solidFill>
                <a:srgbClr val="ff9900"/>
              </a:solidFill>
              <a:latin typeface="Verdana"/>
            </a:endParaRPr>
          </a:p>
        </p:txBody>
      </p:sp>
      <p:sp>
        <p:nvSpPr>
          <p:cNvPr id="48"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DE01-5C66-4B9E-99F4-AEDE2219E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81160" y="696960"/>
            <a:ext cx="4649760" cy="3487680"/>
          </a:xfrm>
          <a:prstGeom prst="rect">
            <a:avLst/>
          </a:prstGeom>
          <a:ln w="0">
            <a:noFill/>
          </a:ln>
        </p:spPr>
      </p:sp>
      <p:sp>
        <p:nvSpPr>
          <p:cNvPr id="139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A interatividade é uma caracteristica do nosso tempo, novas tecnologias vêm possibilindo a introdução de  um novo modelo comportamental, onde não existe fronteira entre o  relacionamento  pessoal e o relacionamento profissional.  Cada vez mais se valoriza a informaçào e o relacionamento pessoal. Prestadoras de serviços, em todos os segmentos, terão que se ajustar a essa nova tendências e a novos requisitos , evoluindo a sua forma de prestação e o seu portfolio de serviços. A esse movimento chamamos de Convergência de Serviço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81160" y="696960"/>
            <a:ext cx="4649760" cy="3487680"/>
          </a:xfrm>
          <a:prstGeom prst="rect">
            <a:avLst/>
          </a:prstGeom>
          <a:ln w="0">
            <a:noFill/>
          </a:ln>
        </p:spPr>
      </p:sp>
      <p:sp>
        <p:nvSpPr>
          <p:cNvPr id="1413"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Numa segunda camada temos todos os serviços I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81160" y="696960"/>
            <a:ext cx="4649760" cy="3487680"/>
          </a:xfrm>
          <a:prstGeom prst="rect">
            <a:avLst/>
          </a:prstGeom>
          <a:ln w="0">
            <a:noFill/>
          </a:ln>
        </p:spPr>
      </p:sp>
      <p:sp>
        <p:nvSpPr>
          <p:cNvPr id="141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acesso discado</a:t>
            </a:r>
            <a:endParaRPr b="0" lang="en-US" sz="1200" spc="-1" strike="noStrike">
              <a:solidFill>
                <a:srgbClr val="000000"/>
              </a:solidFill>
              <a:latin typeface="Times New Roman"/>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 </a:t>
            </a:r>
            <a:r>
              <a:rPr b="1" lang="en-US" sz="1200" spc="-1" strike="noStrike">
                <a:solidFill>
                  <a:srgbClr val="ff9900"/>
                </a:solidFill>
                <a:latin typeface="Verdana"/>
              </a:rPr>
              <a:t>corporativo</a:t>
            </a:r>
            <a:endParaRPr b="0" lang="en-US" sz="1200" spc="-1" strike="noStrike">
              <a:solidFill>
                <a:srgbClr val="000000"/>
              </a:solidFill>
              <a:latin typeface="Times New Roman"/>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 </a:t>
            </a:r>
            <a:r>
              <a:rPr b="1" lang="en-US" sz="1200" spc="-1" strike="noStrike">
                <a:solidFill>
                  <a:srgbClr val="ff9900"/>
                </a:solidFill>
                <a:latin typeface="Verdana"/>
              </a:rPr>
              <a:t>wholesale (provedore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acesso dedicado</a:t>
            </a:r>
            <a:endParaRPr b="0" lang="en-US" sz="1200" spc="-1" strike="noStrike">
              <a:solidFill>
                <a:srgbClr val="000000"/>
              </a:solidFill>
              <a:latin typeface="Times New Roman"/>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 </a:t>
            </a:r>
            <a:r>
              <a:rPr b="1" lang="en-US" sz="1200" spc="-1" strike="noStrike">
                <a:solidFill>
                  <a:srgbClr val="ff9900"/>
                </a:solidFill>
                <a:latin typeface="Verdana"/>
              </a:rPr>
              <a:t>corporativo</a:t>
            </a:r>
            <a:endParaRPr b="0" lang="en-US" sz="1200" spc="-1" strike="noStrike">
              <a:solidFill>
                <a:srgbClr val="000000"/>
              </a:solidFill>
              <a:latin typeface="Times New Roman"/>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 </a:t>
            </a:r>
            <a:r>
              <a:rPr b="1" lang="en-US" sz="1200" spc="-1" strike="noStrike">
                <a:solidFill>
                  <a:srgbClr val="ff9900"/>
                </a:solidFill>
                <a:latin typeface="Verdana"/>
              </a:rPr>
              <a:t>on demand</a:t>
            </a:r>
            <a:endParaRPr b="0" lang="en-US" sz="1200" spc="-1" strike="noStrike">
              <a:solidFill>
                <a:srgbClr val="000000"/>
              </a:solidFill>
              <a:latin typeface="Times New Roman"/>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 </a:t>
            </a:r>
            <a:r>
              <a:rPr b="1" lang="en-US" sz="1200" spc="-1" strike="noStrike">
                <a:solidFill>
                  <a:srgbClr val="ff9900"/>
                </a:solidFill>
                <a:latin typeface="Verdana"/>
              </a:rPr>
              <a:t>burstable</a:t>
            </a:r>
            <a:endParaRPr b="0" lang="en-US" sz="1200" spc="-1" strike="noStrike">
              <a:solidFill>
                <a:srgbClr val="000000"/>
              </a:solidFill>
              <a:latin typeface="Times New Roman"/>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81160" y="696960"/>
            <a:ext cx="4649760" cy="3487680"/>
          </a:xfrm>
          <a:prstGeom prst="rect">
            <a:avLst/>
          </a:prstGeom>
          <a:ln w="0">
            <a:noFill/>
          </a:ln>
        </p:spPr>
      </p:sp>
      <p:sp>
        <p:nvSpPr>
          <p:cNvPr id="1417"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Servicos hos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Collocation , Serviços de gerencia de rede servidores e aplicações, suporte a missões criticas - Digex um diferncial da Generation 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971880" y="883116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33B5-EBC4-4C06-B7A0-9637081F4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0" y="883116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97188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1752480" y="851040"/>
            <a:ext cx="3391200" cy="2543040"/>
          </a:xfrm>
          <a:prstGeom prst="rect">
            <a:avLst/>
          </a:prstGeom>
          <a:ln w="0">
            <a:noFill/>
          </a:ln>
        </p:spPr>
      </p:sp>
      <p:sp>
        <p:nvSpPr>
          <p:cNvPr id="1423" name="PlaceHolder 2"/>
          <p:cNvSpPr>
            <a:spLocks noGrp="1"/>
          </p:cNvSpPr>
          <p:nvPr>
            <p:ph type="body"/>
          </p:nvPr>
        </p:nvSpPr>
        <p:spPr>
          <a:xfrm>
            <a:off x="934560" y="3794040"/>
            <a:ext cx="5140440" cy="4805280"/>
          </a:xfrm>
          <a:prstGeom prst="rect">
            <a:avLst/>
          </a:prstGeom>
          <a:noFill/>
          <a:ln w="0">
            <a:noFill/>
          </a:ln>
        </p:spPr>
        <p:txBody>
          <a:bodyPr lIns="90000" rIns="90000" tIns="45000" bIns="45000" anchor="t">
            <a:noAutofit/>
          </a:bodyPr>
          <a:p>
            <a:pPr marL="325440" indent="0">
              <a:lnSpc>
                <a:spcPct val="100000"/>
              </a:lnSpc>
              <a:spcBef>
                <a:spcPts val="45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9900"/>
                </a:solidFill>
                <a:latin typeface="Verdana"/>
              </a:rPr>
              <a:t>Os usuários compartilham uma rede de conexão que opera no mesmo padrão de qualidade e confiabilidade utilizado pelas redes privadas</a:t>
            </a:r>
            <a:endParaRPr b="0" lang="en-US" sz="1200" spc="-1" strike="noStrike">
              <a:solidFill>
                <a:srgbClr val="000000"/>
              </a:solidFill>
              <a:latin typeface="Times New Roman"/>
            </a:endParaRPr>
          </a:p>
          <a:p>
            <a:pPr marL="325440" indent="0">
              <a:lnSpc>
                <a:spcPct val="100000"/>
              </a:lnSpc>
              <a:spcBef>
                <a:spcPts val="264"/>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ahoma"/>
              </a:rPr>
              <a:t>Access VPN</a:t>
            </a:r>
            <a:endParaRPr b="0" lang="en-US" sz="1400" spc="-1" strike="noStrike">
              <a:solidFill>
                <a:srgbClr val="000000"/>
              </a:solidFill>
              <a:latin typeface="Times New Roman"/>
            </a:endParaRPr>
          </a:p>
          <a:p>
            <a:pPr lvl="1" marL="635040" indent="0">
              <a:lnSpc>
                <a:spcPct val="100000"/>
              </a:lnSpc>
              <a:spcBef>
                <a:spcPts val="3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Tahoma"/>
              </a:rPr>
              <a:t>Enterprise access</a:t>
            </a:r>
            <a:endParaRPr b="0" lang="en-US" sz="1600" spc="-1" strike="noStrike">
              <a:solidFill>
                <a:srgbClr val="000000"/>
              </a:solidFill>
              <a:latin typeface="Times New Roman"/>
            </a:endParaRPr>
          </a:p>
          <a:p>
            <a:pPr lvl="1" marL="635040" indent="0">
              <a:lnSpc>
                <a:spcPct val="100000"/>
              </a:lnSpc>
              <a:spcBef>
                <a:spcPts val="3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Tahoma"/>
              </a:rPr>
              <a:t>Wholesale</a:t>
            </a:r>
            <a:endParaRPr b="0" lang="en-US" sz="1600" spc="-1" strike="noStrike">
              <a:solidFill>
                <a:srgbClr val="000000"/>
              </a:solidFill>
              <a:latin typeface="Times New Roman"/>
            </a:endParaRPr>
          </a:p>
          <a:p>
            <a:pPr marL="325440" indent="0">
              <a:lnSpc>
                <a:spcPct val="100000"/>
              </a:lnSpc>
              <a:spcBef>
                <a:spcPts val="264"/>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ahoma"/>
              </a:rPr>
              <a:t>Intranet VPN</a:t>
            </a:r>
            <a:endParaRPr b="0" lang="en-US" sz="1400" spc="-1" strike="noStrike">
              <a:solidFill>
                <a:srgbClr val="000000"/>
              </a:solidFill>
              <a:latin typeface="Times New Roman"/>
            </a:endParaRPr>
          </a:p>
          <a:p>
            <a:pPr lvl="1" marL="635040" indent="0">
              <a:lnSpc>
                <a:spcPct val="100000"/>
              </a:lnSpc>
              <a:spcBef>
                <a:spcPts val="3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Tahoma"/>
              </a:rPr>
              <a:t>Branch offices</a:t>
            </a:r>
            <a:endParaRPr b="0" lang="en-US" sz="1600" spc="-1" strike="noStrike">
              <a:solidFill>
                <a:srgbClr val="000000"/>
              </a:solidFill>
              <a:latin typeface="Times New Roman"/>
            </a:endParaRPr>
          </a:p>
          <a:p>
            <a:pPr lvl="1" marL="635040" indent="0">
              <a:lnSpc>
                <a:spcPct val="100000"/>
              </a:lnSpc>
              <a:spcBef>
                <a:spcPts val="3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Tahoma"/>
              </a:rPr>
              <a:t>Call centers</a:t>
            </a:r>
            <a:endParaRPr b="0" lang="en-US" sz="1600" spc="-1" strike="noStrike">
              <a:solidFill>
                <a:srgbClr val="000000"/>
              </a:solidFill>
              <a:latin typeface="Times New Roman"/>
            </a:endParaRPr>
          </a:p>
          <a:p>
            <a:pPr marL="325440" indent="0">
              <a:lnSpc>
                <a:spcPct val="100000"/>
              </a:lnSpc>
              <a:spcBef>
                <a:spcPts val="264"/>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Tahoma"/>
              </a:rPr>
              <a:t>Extranet VPN</a:t>
            </a:r>
            <a:endParaRPr b="0" lang="en-US" sz="1400" spc="-1" strike="noStrike">
              <a:solidFill>
                <a:srgbClr val="000000"/>
              </a:solidFill>
              <a:latin typeface="Times New Roman"/>
            </a:endParaRPr>
          </a:p>
          <a:p>
            <a:pPr lvl="1" marL="635040" indent="0">
              <a:lnSpc>
                <a:spcPct val="100000"/>
              </a:lnSpc>
              <a:spcBef>
                <a:spcPts val="3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Tahoma"/>
              </a:rPr>
              <a:t>Business-to-business</a:t>
            </a:r>
            <a:endParaRPr b="0" lang="en-US" sz="1600" spc="-1" strike="noStrike">
              <a:solidFill>
                <a:srgbClr val="000000"/>
              </a:solidFill>
              <a:latin typeface="Times New Roman"/>
            </a:endParaRPr>
          </a:p>
          <a:p>
            <a:pPr lvl="1" marL="635040" indent="0">
              <a:lnSpc>
                <a:spcPct val="100000"/>
              </a:lnSpc>
              <a:spcBef>
                <a:spcPts val="3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Tahoma"/>
              </a:rPr>
              <a:t>Industry groups</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81160" y="696960"/>
            <a:ext cx="4649760" cy="3487680"/>
          </a:xfrm>
          <a:prstGeom prst="rect">
            <a:avLst/>
          </a:prstGeom>
          <a:ln w="0">
            <a:noFill/>
          </a:ln>
        </p:spPr>
      </p:sp>
      <p:sp>
        <p:nvSpPr>
          <p:cNvPr id="142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Plataforma de serviços permite que novos produtos/serviços sejam rapidamente implementados a partir de serviços elementares já  existent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81160" y="696960"/>
            <a:ext cx="4649760" cy="3487680"/>
          </a:xfrm>
          <a:prstGeom prst="rect">
            <a:avLst/>
          </a:prstGeom>
          <a:ln w="0">
            <a:noFill/>
          </a:ln>
        </p:spPr>
      </p:sp>
      <p:sp>
        <p:nvSpPr>
          <p:cNvPr id="1427"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Firewall Gerenciado</a:t>
            </a:r>
            <a:endParaRPr b="0" lang="en-US" sz="1200" spc="-1" strike="noStrike">
              <a:solidFill>
                <a:srgbClr val="000000"/>
              </a:solidFill>
              <a:latin typeface="Times New Roman"/>
            </a:endParaRPr>
          </a:p>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 </a:t>
            </a:r>
            <a:r>
              <a:rPr b="1" lang="pt-BR" sz="1200" spc="-1" strike="noStrike">
                <a:solidFill>
                  <a:srgbClr val="000000"/>
                </a:solidFill>
                <a:latin typeface="Tahoma"/>
              </a:rPr>
              <a:t>Firewall de Alta Disponibilidade</a:t>
            </a:r>
            <a:endParaRPr b="0" lang="en-US" sz="1200" spc="-1" strike="noStrike">
              <a:solidFill>
                <a:srgbClr val="000000"/>
              </a:solidFill>
              <a:latin typeface="Times New Roman"/>
            </a:endParaRPr>
          </a:p>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 </a:t>
            </a:r>
            <a:r>
              <a:rPr b="1" lang="pt-BR" sz="1200" spc="-1" strike="noStrike">
                <a:solidFill>
                  <a:srgbClr val="000000"/>
                </a:solidFill>
                <a:latin typeface="Tahoma"/>
              </a:rPr>
              <a:t>Detecção de Invasão e Resposta</a:t>
            </a:r>
            <a:endParaRPr b="0" lang="en-US" sz="1200" spc="-1" strike="noStrike">
              <a:solidFill>
                <a:srgbClr val="000000"/>
              </a:solidFill>
              <a:latin typeface="Times New Roman"/>
            </a:endParaRPr>
          </a:p>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 </a:t>
            </a:r>
            <a:r>
              <a:rPr b="1" lang="pt-BR" sz="1200" spc="-1" strike="noStrike">
                <a:solidFill>
                  <a:srgbClr val="000000"/>
                </a:solidFill>
                <a:latin typeface="Tahoma"/>
              </a:rPr>
              <a:t>VPN Site-to-Site e User-to-Site</a:t>
            </a:r>
            <a:endParaRPr b="0" lang="en-US" sz="1200" spc="-1" strike="noStrike">
              <a:solidFill>
                <a:srgbClr val="000000"/>
              </a:solidFill>
              <a:latin typeface="Times New Roman"/>
            </a:endParaRPr>
          </a:p>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 </a:t>
            </a:r>
            <a:r>
              <a:rPr b="1" lang="pt-BR" sz="1200" spc="-1" strike="noStrike">
                <a:solidFill>
                  <a:srgbClr val="000000"/>
                </a:solidFill>
                <a:latin typeface="Tahoma"/>
              </a:rPr>
              <a:t>Antivírus</a:t>
            </a:r>
            <a:endParaRPr b="0" lang="en-US" sz="1200" spc="-1" strike="noStrike">
              <a:solidFill>
                <a:srgbClr val="000000"/>
              </a:solidFill>
              <a:latin typeface="Times New Roman"/>
            </a:endParaRPr>
          </a:p>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 </a:t>
            </a:r>
            <a:r>
              <a:rPr b="1" lang="pt-BR" sz="1200" spc="-1" strike="noStrike">
                <a:solidFill>
                  <a:srgbClr val="000000"/>
                </a:solidFill>
                <a:latin typeface="Tahoma"/>
              </a:rPr>
              <a:t>Bloqueio de Sites Web</a:t>
            </a:r>
            <a:endParaRPr b="0" lang="en-US" sz="1200" spc="-1" strike="noStrike">
              <a:solidFill>
                <a:srgbClr val="000000"/>
              </a:solidFill>
              <a:latin typeface="Times New Roman"/>
            </a:endParaRPr>
          </a:p>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 </a:t>
            </a:r>
            <a:r>
              <a:rPr b="1" lang="pt-BR" sz="1200" spc="-1" strike="noStrike">
                <a:solidFill>
                  <a:srgbClr val="000000"/>
                </a:solidFill>
                <a:latin typeface="Tahoma"/>
              </a:rPr>
              <a:t>Autenticação Forte</a:t>
            </a:r>
            <a:endParaRPr b="0" lang="en-US" sz="1200" spc="-1" strike="noStrike">
              <a:solidFill>
                <a:srgbClr val="000000"/>
              </a:solidFill>
              <a:latin typeface="Times New Roman"/>
            </a:endParaRPr>
          </a:p>
          <a:p>
            <a:pPr>
              <a:lnSpc>
                <a:spcPct val="15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ahoma"/>
              </a:rPr>
              <a:t> </a:t>
            </a:r>
            <a:r>
              <a:rPr b="1" lang="pt-BR" sz="1200" spc="-1" strike="noStrike">
                <a:solidFill>
                  <a:srgbClr val="000000"/>
                </a:solidFill>
                <a:latin typeface="Tahoma"/>
              </a:rPr>
              <a:t>Varredura de Rede e Sistema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81160" y="696960"/>
            <a:ext cx="4649760" cy="3487680"/>
          </a:xfrm>
          <a:prstGeom prst="rect">
            <a:avLst/>
          </a:prstGeom>
          <a:ln w="0">
            <a:noFill/>
          </a:ln>
        </p:spPr>
      </p:sp>
      <p:sp>
        <p:nvSpPr>
          <p:cNvPr id="1429"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oIP residencia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P trunk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Corporate VoIP</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Remote PBX</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e-Call services</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ternet call waiting</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Virtual second line</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conference call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81160" y="696960"/>
            <a:ext cx="4649760" cy="3487680"/>
          </a:xfrm>
          <a:prstGeom prst="rect">
            <a:avLst/>
          </a:prstGeom>
          <a:ln w="0">
            <a:noFill/>
          </a:ln>
        </p:spPr>
      </p:sp>
      <p:sp>
        <p:nvSpPr>
          <p:cNvPr id="1431"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licações Multimidia e Usuarios uma combinação perigosa/ explosiva  Uso de tecnologias poderosas como QoS e CDN que possibilitam a oferta de serviços multimidia com confiabilidade e de forma otimizada -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81160" y="696960"/>
            <a:ext cx="4649760" cy="3487680"/>
          </a:xfrm>
          <a:prstGeom prst="rect">
            <a:avLst/>
          </a:prstGeom>
          <a:ln w="0">
            <a:noFill/>
          </a:ln>
        </p:spPr>
      </p:sp>
      <p:sp>
        <p:nvSpPr>
          <p:cNvPr id="1397"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A necessidade de criar uma convergência de serviços vai obrigar aos provedores entenderem as Novas Tendênc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Os elementos em que se baseiam as leis do universo tempo,espaço e massa estão sendo percebidos de uma forma diferente, de uma forma virtual. Eles podem ser definidos por três ico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Velocidade (tempo): onde o ambiente de negócios muda em tempo real com tanta rapidez que fica difícil definir um foco de atuaç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Conectividade (espaço):  tudo está se conectando eletronicamente - produtos,pessoas e empresas a ponto de tornar vagas as fronteir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E Intangibilidade:   todos os produtos /servicos possuem valor econômico tangível e intangível e nesse novo ambiente o intangivel cresce mais rapidamente, apoiado por informações e relacionamentos.</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81160" y="696960"/>
            <a:ext cx="4649760" cy="3487680"/>
          </a:xfrm>
          <a:prstGeom prst="rect">
            <a:avLst/>
          </a:prstGeom>
          <a:ln w="0">
            <a:noFill/>
          </a:ln>
        </p:spPr>
      </p:sp>
      <p:sp>
        <p:nvSpPr>
          <p:cNvPr id="1433"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ing Content to the Edge-  Leve o Conteúdo  para perto do Usuário antes de sua distribuição</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403280" y="1063800"/>
            <a:ext cx="3951360" cy="2963520"/>
          </a:xfrm>
          <a:prstGeom prst="rect">
            <a:avLst/>
          </a:prstGeom>
          <a:ln w="0">
            <a:noFill/>
          </a:ln>
        </p:spPr>
      </p:sp>
      <p:sp>
        <p:nvSpPr>
          <p:cNvPr id="143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qui vems  como a tecnologia de distruicão de conteúdo é suportada e disponibilizad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81160" y="696960"/>
            <a:ext cx="4649760" cy="3487680"/>
          </a:xfrm>
          <a:prstGeom prst="rect">
            <a:avLst/>
          </a:prstGeom>
          <a:ln w="0">
            <a:noFill/>
          </a:ln>
        </p:spPr>
      </p:sp>
      <p:sp>
        <p:nvSpPr>
          <p:cNvPr id="1437"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b Center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Foco em Pequenas e Médias Empresa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lução entregue pela rede sem  investimento por parte do usuário</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ê muitas facilidades para pequenas empresa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M Cent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co em Grandes Empresa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ção entregue pela rede com  investimento por parte do usuário</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ê sofisticadas e customizadas facilidades</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3971880" y="883116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512C-9BFF-46A1-9528-8CB789806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883116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97188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846000" y="250920"/>
            <a:ext cx="5427720" cy="4070160"/>
          </a:xfrm>
          <a:prstGeom prst="rect">
            <a:avLst/>
          </a:prstGeom>
          <a:ln w="0">
            <a:noFill/>
          </a:ln>
        </p:spPr>
      </p:sp>
      <p:sp>
        <p:nvSpPr>
          <p:cNvPr id="1443" name="PlaceHolder 2"/>
          <p:cNvSpPr>
            <a:spLocks noGrp="1"/>
          </p:cNvSpPr>
          <p:nvPr>
            <p:ph type="body"/>
          </p:nvPr>
        </p:nvSpPr>
        <p:spPr>
          <a:xfrm>
            <a:off x="407880" y="4470480"/>
            <a:ext cx="6166080" cy="43416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emplos ; Click e fale comig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3971880" y="883116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CB8F-34FE-41A3-9E00-659A4A202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883116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97188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846000" y="250920"/>
            <a:ext cx="5427720" cy="4070160"/>
          </a:xfrm>
          <a:prstGeom prst="rect">
            <a:avLst/>
          </a:prstGeom>
          <a:ln w="0">
            <a:noFill/>
          </a:ln>
        </p:spPr>
      </p:sp>
      <p:sp>
        <p:nvSpPr>
          <p:cNvPr id="1449" name="PlaceHolder 2"/>
          <p:cNvSpPr>
            <a:spLocks noGrp="1"/>
          </p:cNvSpPr>
          <p:nvPr>
            <p:ph type="body"/>
          </p:nvPr>
        </p:nvSpPr>
        <p:spPr>
          <a:xfrm>
            <a:off x="407880" y="4470480"/>
            <a:ext cx="6166080" cy="4341600"/>
          </a:xfrm>
          <a:prstGeom prst="rect">
            <a:avLst/>
          </a:prstGeom>
          <a:noFill/>
          <a:ln w="0">
            <a:noFill/>
          </a:ln>
        </p:spPr>
        <p:txBody>
          <a:bodyPr lIns="90000" rIns="90000" tIns="45000" bIns="450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qui o Customer service pode tirar dúvidas dos clientes  tendo a mesma tela</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81160" y="696960"/>
            <a:ext cx="4649760" cy="3487680"/>
          </a:xfrm>
          <a:prstGeom prst="rect">
            <a:avLst/>
          </a:prstGeom>
          <a:ln w="0">
            <a:noFill/>
          </a:ln>
        </p:spPr>
      </p:sp>
      <p:sp>
        <p:nvSpPr>
          <p:cNvPr id="1399"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Novos requisitos são exigidos:</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 </a:t>
            </a:r>
            <a:r>
              <a:rPr b="1" lang="pt-BR" sz="1200" spc="-1" strike="noStrike">
                <a:solidFill>
                  <a:srgbClr val="ff9900"/>
                </a:solidFill>
                <a:latin typeface="Verdana"/>
              </a:rPr>
              <a:t>Acesso a qualquer hora,</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 </a:t>
            </a:r>
            <a:r>
              <a:rPr b="1" lang="pt-BR" sz="1200" spc="-1" strike="noStrike">
                <a:solidFill>
                  <a:srgbClr val="ff9900"/>
                </a:solidFill>
                <a:latin typeface="Verdana"/>
              </a:rPr>
              <a:t>Em qualquer lu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 </a:t>
            </a:r>
            <a:r>
              <a:rPr b="1" lang="pt-BR" sz="1200" spc="-1" strike="noStrike">
                <a:solidFill>
                  <a:srgbClr val="ff9900"/>
                </a:solidFill>
                <a:latin typeface="Verdana"/>
              </a:rPr>
              <a:t>Operação em tempo real Interação com o Cliente e Aplicações,</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 </a:t>
            </a:r>
            <a:r>
              <a:rPr b="1" lang="pt-BR" sz="1200" spc="-1" strike="noStrike">
                <a:solidFill>
                  <a:srgbClr val="ff9900"/>
                </a:solidFill>
                <a:latin typeface="Verdana"/>
              </a:rPr>
              <a:t>Aprendizado/ previsão isto é: serviços inteligentes, por exemplo você compra um carro de nova geração que aprende o seu jeito de dirigir, se alguém tenta dirigir teu carro ou mesmo você não está bem, ele deixa de funcionar ( ……….) . Mas existem outros benefícios como com o conhencimento da sua forma de dirigir ele pode fazer ajustes de forma que o seu carro possa consumir menos combustível. Há também aquele exemplo quando  o air bag é acionado  imediatamento um sinal é enviado a uma central de atendimento que faz uma ligaçãopara o seu celular e se não houver resposta é  enviada ajuda ao local que você se encontra. </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Customização</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Auto atualização /configuração Exemplo seria um micronda inteligente que de tempos em tempos poderia ser atualizado com novas funcionalidades a ser conectado à red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81160" y="696960"/>
            <a:ext cx="4649760" cy="3487680"/>
          </a:xfrm>
          <a:prstGeom prst="rect">
            <a:avLst/>
          </a:prstGeom>
          <a:ln w="0">
            <a:noFill/>
          </a:ln>
        </p:spPr>
      </p:sp>
      <p:sp>
        <p:nvSpPr>
          <p:cNvPr id="1451"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duas camadsas são o sistema de irrigação de toda essa arquitetura sem elas não há vida sem elas nõ há evolução</a:t>
            </a:r>
            <a:endParaRPr b="0" lang="en-US" sz="2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81160" y="696960"/>
            <a:ext cx="4649760" cy="3487680"/>
          </a:xfrm>
          <a:prstGeom prst="rect">
            <a:avLst/>
          </a:prstGeom>
          <a:ln w="0">
            <a:noFill/>
          </a:ln>
        </p:spPr>
      </p:sp>
      <p:sp>
        <p:nvSpPr>
          <p:cNvPr id="1453"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000" spc="-1" strike="noStrike">
                <a:solidFill>
                  <a:srgbClr val="000000"/>
                </a:solidFill>
                <a:latin typeface="Times New Roman"/>
              </a:rPr>
              <a:t>Plataforma de Desenvolvimento   uma arquitetura que permite diversas parcerias, arquietura que suporta diferentes aplicações - </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947880" y="619200"/>
            <a:ext cx="4647960" cy="3486240"/>
          </a:xfrm>
          <a:prstGeom prst="rect">
            <a:avLst/>
          </a:prstGeom>
          <a:ln w="0">
            <a:noFill/>
          </a:ln>
        </p:spPr>
      </p:sp>
      <p:sp>
        <p:nvSpPr>
          <p:cNvPr id="145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 Operacional - Uma arquitetura que suporta uma integração entre todas as camadas da rede</a:t>
            </a:r>
            <a:endParaRPr b="0" lang="en-US" sz="2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81160" y="696960"/>
            <a:ext cx="4649760" cy="3487680"/>
          </a:xfrm>
          <a:prstGeom prst="rect">
            <a:avLst/>
          </a:prstGeom>
          <a:ln w="0">
            <a:noFill/>
          </a:ln>
        </p:spPr>
      </p:sp>
      <p:sp>
        <p:nvSpPr>
          <p:cNvPr id="1457"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r>
              <a:rPr b="1" lang="en-US" sz="1400" spc="-1" strike="noStrike">
                <a:solidFill>
                  <a:srgbClr val="000000"/>
                </a:solidFill>
                <a:latin typeface="Tahoma"/>
              </a:rPr>
              <a:t>Consulta via web para Clientes e Usuários internos : Status de Pedidos, Relatórios de Falhas e Interupções, Revisão de Faturas e outros.</a:t>
            </a:r>
            <a:endParaRPr b="0" lang="en-US" sz="1400" spc="-1" strike="noStrike">
              <a:solidFill>
                <a:srgbClr val="000000"/>
              </a:solidFill>
              <a:latin typeface="Times New Roman"/>
            </a:endParaRPr>
          </a:p>
          <a:p>
            <a:pPr>
              <a:lnSpc>
                <a:spcPct val="120000"/>
              </a:lnSpc>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mbiente Seguro, Aplicações Monitoradas e Medidas de Performance</a:t>
            </a:r>
            <a:endParaRPr b="0" lang="en-US" sz="1400" spc="-1" strike="noStrike">
              <a:solidFill>
                <a:srgbClr val="000000"/>
              </a:solidFill>
              <a:latin typeface="Times New Roman"/>
            </a:endParaRPr>
          </a:p>
          <a:p>
            <a:pPr>
              <a:lnSpc>
                <a:spcPct val="190000"/>
              </a:lnSpc>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plicações de Provisionamento </a:t>
            </a:r>
            <a:endParaRPr b="0" lang="en-US" sz="1400" spc="-1" strike="noStrike">
              <a:solidFill>
                <a:srgbClr val="000000"/>
              </a:solidFill>
              <a:latin typeface="Times New Roman"/>
            </a:endParaRPr>
          </a:p>
          <a:p>
            <a:pPr>
              <a:lnSpc>
                <a:spcPct val="190000"/>
              </a:lnSpc>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plicações de Cobrança</a:t>
            </a:r>
            <a:endParaRPr b="0" lang="en-US" sz="1400" spc="-1" strike="noStrike">
              <a:solidFill>
                <a:srgbClr val="000000"/>
              </a:solidFill>
              <a:latin typeface="Times New Roman"/>
            </a:endParaRPr>
          </a:p>
          <a:p>
            <a:pPr>
              <a:lnSpc>
                <a:spcPct val="120000"/>
              </a:lnSpc>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terface com Customer Service, NOC e Sistemas Legados </a:t>
            </a:r>
            <a:endParaRPr b="0" lang="en-US" sz="1400" spc="-1" strike="noStrike">
              <a:solidFill>
                <a:srgbClr val="000000"/>
              </a:solidFill>
              <a:latin typeface="Times New Roman"/>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a:p>
            <a:pPr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81160" y="696960"/>
            <a:ext cx="4649760" cy="3487680"/>
          </a:xfrm>
          <a:prstGeom prst="rect">
            <a:avLst/>
          </a:prstGeom>
          <a:ln w="0">
            <a:noFill/>
          </a:ln>
        </p:spPr>
      </p:sp>
      <p:sp>
        <p:nvSpPr>
          <p:cNvPr id="1459"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 WorldCom desenvolveu uma  Arquitetura  de Serviços denominada Generation D,  para uma nova geração de serviços. Uma arquitetura aberta que permitirá  enfrentar todos os desafios aqui apontados. Eu gostaria de terminar essa apresentação como uma frase que eu li  sobre aTeoria da evolução digital.</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Estar capacidado para lidar com tecnologia e com serviços não garante que uma compania está capacitada para evoluir na era digital</a:t>
            </a:r>
            <a:endParaRPr b="0" lang="en-US" sz="1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81160" y="696960"/>
            <a:ext cx="4649760" cy="3487680"/>
          </a:xfrm>
          <a:prstGeom prst="rect">
            <a:avLst/>
          </a:prstGeom>
          <a:ln w="0">
            <a:noFill/>
          </a:ln>
        </p:spPr>
      </p:sp>
      <p:sp>
        <p:nvSpPr>
          <p:cNvPr id="14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A necessidade de criar uma convergência de serviços vai obrigar aos provedores entenderem as Novas Tendênc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Os elementos em que se baseiam as leis do universo tempo,espaço e massa estão sendo percebidos de uma forma diferente, de uma forma virtual. Eles podem ser definidos por três ico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Velocidade (tempo): onde o ambiente de negócios muda em tempo real com tanta rapidez que fica difícil definir um foco de atuaç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Conectividade (espaço):  tudo está se conectando eletronicamente - produtos,pessoas e empresas a ponto de tornar vagas as fronteir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E Intangibilidade:   todos os produtos /servicos possuem valor econômico tangível e intangível e nesse novo ambiente o intangivel cresce mais rapidamente, apoiado por informações e relacionamentos.</a:t>
            </a:r>
            <a:br>
              <a:rPr sz="1200"/>
            </a:b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81160" y="696960"/>
            <a:ext cx="4649760" cy="3487680"/>
          </a:xfrm>
          <a:prstGeom prst="rect">
            <a:avLst/>
          </a:prstGeom>
          <a:ln w="0">
            <a:noFill/>
          </a:ln>
        </p:spPr>
      </p:sp>
      <p:sp>
        <p:nvSpPr>
          <p:cNvPr id="1401"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É um novo conceito de prestação de serviços não há como implementá-lo sem que desafios sejam venci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Prestadores de Serviços devem se</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Mover rapidamente na cadeia de valores dos serviços</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Oferecendo soluções fim a fim , de forma rápida,  único e completa</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Mover rapidamente na cadeia de valores dos serviços</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Oferecendo serviços Integrados e Gerenciáveis</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Desenvolvendo Parcerias</a:t>
            </a:r>
            <a:endParaRPr b="0" lang="en-US" sz="1200" spc="-1" strike="noStrike">
              <a:solidFill>
                <a:srgbClr val="000000"/>
              </a:solidFill>
              <a:latin typeface="Times New Roman"/>
            </a:endParaRPr>
          </a:p>
          <a:p>
            <a:pPr>
              <a:lnSpc>
                <a:spcPct val="100000"/>
              </a:lnSpc>
              <a:spcBef>
                <a:spcPts val="451"/>
              </a:spcBef>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9900"/>
                </a:solidFill>
                <a:latin typeface="Verdana"/>
              </a:rPr>
              <a:t>Criando uma Alcance Global para os seus client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81160" y="696960"/>
            <a:ext cx="4649760" cy="3487680"/>
          </a:xfrm>
          <a:prstGeom prst="rect">
            <a:avLst/>
          </a:prstGeom>
          <a:ln w="0">
            <a:noFill/>
          </a:ln>
        </p:spPr>
      </p:sp>
      <p:sp>
        <p:nvSpPr>
          <p:cNvPr id="1403"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A WorldCom desenvolveu uma  Arquitetura  de Serviços denominada Generation D,  para uma nova geração de serviços. Uma arquitetura que permiti enfrentar todos os desafios aqui apontados - desenvolvimento rápido de serviços  de maneira integrada . Uma arquitetura construida em  camadas iniciando na rede até o teminal do usuário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81160" y="696960"/>
            <a:ext cx="4649760" cy="3487680"/>
          </a:xfrm>
          <a:prstGeom prst="rect">
            <a:avLst/>
          </a:prstGeom>
          <a:ln w="0">
            <a:noFill/>
          </a:ln>
        </p:spPr>
      </p:sp>
      <p:sp>
        <p:nvSpPr>
          <p:cNvPr id="140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Para explicar a Arqitetura concebida pela WorldCom precisamos primeiramente traçar um paralelo com a Arquitetura de um PC . Uma arquitetura de concepção aberta. A Rede de Serviços Basicos da Generation D é comparavel ao Hardware de um PC (ela vai evoluindo tecnologicamente e ampliando a sua capacidade suportanto as Plataformas de Serviços e suas aplicacões). A Plataforma de serviços operam como um Sistema operacional, de concepção aberta que permite  a interface de Aplicações não proprietárias (diferentes fornecedores de aplicações podem utilizar essa Plataforma para oferecer os seus aplicativ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Com esse paralelo em mente podemos visualizar mais claramente a Arquitetura do Generation 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81160" y="696960"/>
            <a:ext cx="4649760" cy="3487680"/>
          </a:xfrm>
          <a:prstGeom prst="rect">
            <a:avLst/>
          </a:prstGeom>
          <a:ln w="0">
            <a:noFill/>
          </a:ln>
        </p:spPr>
      </p:sp>
      <p:sp>
        <p:nvSpPr>
          <p:cNvPr id="1407"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Vamos iniciar mostrando a camada de Re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81160" y="696960"/>
            <a:ext cx="4649760" cy="3487680"/>
          </a:xfrm>
          <a:prstGeom prst="rect">
            <a:avLst/>
          </a:prstGeom>
          <a:ln w="0">
            <a:noFill/>
          </a:ln>
        </p:spPr>
      </p:sp>
      <p:sp>
        <p:nvSpPr>
          <p:cNvPr id="1409"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No primeiro nível temos a camada de conexão com o usuario onde a arquitetura de rede é capaz de interagir com qualquer tipo de usuário (faixa larga ou estreita , fixa ou móvel) Na camada de edge os equipamentos são especificados para operarem como gateways permitindo que diferentes serviços interajam entre si. Em seguida temos a camada referente a comutação do trafego, a rede IP/ATM/FR e finalmente o núcleo otico de supor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81160" y="696960"/>
            <a:ext cx="4649760" cy="3487680"/>
          </a:xfrm>
          <a:prstGeom prst="rect">
            <a:avLst/>
          </a:prstGeom>
          <a:ln w="0">
            <a:noFill/>
          </a:ln>
        </p:spPr>
      </p:sp>
      <p:sp>
        <p:nvSpPr>
          <p:cNvPr id="1411"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Verdana"/>
              </a:rPr>
              <a:t>A arquitetura da rede evolui concentrando suas funcionalidades em duas  camadas significando menores custos, menos complexidade e mais agilida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258D-E0D4-44DD-8CDB-8A29AA30B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30" name="PlaceHolder 2"/>
          <p:cNvSpPr>
            <a:spLocks noGrp="1"/>
          </p:cNvSpPr>
          <p:nvPr>
            <p:ph/>
          </p:nvPr>
        </p:nvSpPr>
        <p:spPr>
          <a:xfrm>
            <a:off x="685800" y="53352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685800" y="2683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D3E4F-2EA4-4462-A2F7-2404B81B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33" name="PlaceHolder 2"/>
          <p:cNvSpPr>
            <a:spLocks noGrp="1"/>
          </p:cNvSpPr>
          <p:nvPr>
            <p:ph/>
          </p:nvPr>
        </p:nvSpPr>
        <p:spPr>
          <a:xfrm>
            <a:off x="685800" y="5335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4668480" y="5335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4"/>
          <p:cNvSpPr>
            <a:spLocks noGrp="1"/>
          </p:cNvSpPr>
          <p:nvPr>
            <p:ph/>
          </p:nvPr>
        </p:nvSpPr>
        <p:spPr>
          <a:xfrm>
            <a:off x="685800" y="2683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5"/>
          <p:cNvSpPr>
            <a:spLocks noGrp="1"/>
          </p:cNvSpPr>
          <p:nvPr>
            <p:ph/>
          </p:nvPr>
        </p:nvSpPr>
        <p:spPr>
          <a:xfrm>
            <a:off x="4668480" y="2683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CAE1E-72E7-473C-AFB6-3061CBC92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38" name="PlaceHolder 2"/>
          <p:cNvSpPr>
            <a:spLocks noGrp="1"/>
          </p:cNvSpPr>
          <p:nvPr>
            <p:ph/>
          </p:nvPr>
        </p:nvSpPr>
        <p:spPr>
          <a:xfrm>
            <a:off x="685800" y="5335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3313800" y="5335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4"/>
          <p:cNvSpPr>
            <a:spLocks noGrp="1"/>
          </p:cNvSpPr>
          <p:nvPr>
            <p:ph/>
          </p:nvPr>
        </p:nvSpPr>
        <p:spPr>
          <a:xfrm>
            <a:off x="5941440" y="53352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5"/>
          <p:cNvSpPr>
            <a:spLocks noGrp="1"/>
          </p:cNvSpPr>
          <p:nvPr>
            <p:ph/>
          </p:nvPr>
        </p:nvSpPr>
        <p:spPr>
          <a:xfrm>
            <a:off x="685800" y="2683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6"/>
          <p:cNvSpPr>
            <a:spLocks noGrp="1"/>
          </p:cNvSpPr>
          <p:nvPr>
            <p:ph/>
          </p:nvPr>
        </p:nvSpPr>
        <p:spPr>
          <a:xfrm>
            <a:off x="3313800" y="2683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7"/>
          <p:cNvSpPr>
            <a:spLocks noGrp="1"/>
          </p:cNvSpPr>
          <p:nvPr>
            <p:ph/>
          </p:nvPr>
        </p:nvSpPr>
        <p:spPr>
          <a:xfrm>
            <a:off x="5941440" y="2683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B3B21-FFD3-430E-A5EA-6E98239B7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9" name="PlaceHolder 2"/>
          <p:cNvSpPr>
            <a:spLocks noGrp="1"/>
          </p:cNvSpPr>
          <p:nvPr>
            <p:ph type="subTitle"/>
          </p:nvPr>
        </p:nvSpPr>
        <p:spPr>
          <a:xfrm>
            <a:off x="685800" y="53352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87D07-18D5-4F9E-A371-73D7172CF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11" name="PlaceHolder 2"/>
          <p:cNvSpPr>
            <a:spLocks noGrp="1"/>
          </p:cNvSpPr>
          <p:nvPr>
            <p:ph/>
          </p:nvPr>
        </p:nvSpPr>
        <p:spPr>
          <a:xfrm>
            <a:off x="685800" y="53352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D3D04-E7CA-449A-A186-7C76E1C1C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13" name="PlaceHolder 2"/>
          <p:cNvSpPr>
            <a:spLocks noGrp="1"/>
          </p:cNvSpPr>
          <p:nvPr>
            <p:ph/>
          </p:nvPr>
        </p:nvSpPr>
        <p:spPr>
          <a:xfrm>
            <a:off x="685800" y="5335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3"/>
          <p:cNvSpPr>
            <a:spLocks noGrp="1"/>
          </p:cNvSpPr>
          <p:nvPr>
            <p:ph/>
          </p:nvPr>
        </p:nvSpPr>
        <p:spPr>
          <a:xfrm>
            <a:off x="4668480" y="5335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C13C9-A81C-4214-B06D-D95D240F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E42DD-D6EC-40C6-97A2-E1A21626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405CA-ECEC-4E67-8576-AE6FAB24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18" name="PlaceHolder 2"/>
          <p:cNvSpPr>
            <a:spLocks noGrp="1"/>
          </p:cNvSpPr>
          <p:nvPr>
            <p:ph/>
          </p:nvPr>
        </p:nvSpPr>
        <p:spPr>
          <a:xfrm>
            <a:off x="685800" y="5335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68480" y="5335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685800" y="2683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D9FB6-34CE-4AF4-A116-6B8E4D8D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22" name="PlaceHolder 2"/>
          <p:cNvSpPr>
            <a:spLocks noGrp="1"/>
          </p:cNvSpPr>
          <p:nvPr>
            <p:ph/>
          </p:nvPr>
        </p:nvSpPr>
        <p:spPr>
          <a:xfrm>
            <a:off x="685800" y="53352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68480" y="5335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4668480" y="2683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459A-035C-4278-9F66-86E02E33B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Verdana"/>
            </a:endParaRPr>
          </a:p>
        </p:txBody>
      </p:sp>
      <p:sp>
        <p:nvSpPr>
          <p:cNvPr id="26" name="PlaceHolder 2"/>
          <p:cNvSpPr>
            <a:spLocks noGrp="1"/>
          </p:cNvSpPr>
          <p:nvPr>
            <p:ph/>
          </p:nvPr>
        </p:nvSpPr>
        <p:spPr>
          <a:xfrm>
            <a:off x="685800" y="5335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4668480" y="53352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685800" y="2683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02BD-6C4B-4DFA-B2A4-0A83D7FC1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nternet%20pag08foto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5335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AF17-2A80-4FDC-A093-E15BF1D79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beça_interior%20(2)" descr=""/>
          <p:cNvPicPr/>
          <p:nvPr/>
        </p:nvPicPr>
        <p:blipFill>
          <a:blip r:embed="rId3"/>
          <a:stretch/>
        </p:blipFill>
        <p:spPr>
          <a:xfrm>
            <a:off x="0" y="0"/>
            <a:ext cx="9144000" cy="990720"/>
          </a:xfrm>
          <a:prstGeom prst="rect">
            <a:avLst/>
          </a:prstGeom>
          <a:ln w="0">
            <a:noFill/>
          </a:ln>
        </p:spPr>
      </p:pic>
      <p:pic>
        <p:nvPicPr>
          <p:cNvPr id="6" name="internet1%20new" descr=""/>
          <p:cNvPicPr/>
          <p:nvPr/>
        </p:nvPicPr>
        <p:blipFill>
          <a:blip r:embed="rId4"/>
          <a:stretch/>
        </p:blipFill>
        <p:spPr>
          <a:xfrm>
            <a:off x="6477120" y="95400"/>
            <a:ext cx="1371600" cy="76176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Click to edit the title text format</a:t>
            </a:r>
            <a:endParaRPr b="1" lang="en-US" sz="3600" spc="-1" strike="noStrike">
              <a:solidFill>
                <a:srgbClr val="ff99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2.wmf"/><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4.png"/><Relationship Id="rId9" Type="http://schemas.openxmlformats.org/officeDocument/2006/relationships/image" Target="../media/image26.wmf"/><Relationship Id="rId10" Type="http://schemas.openxmlformats.org/officeDocument/2006/relationships/image" Target="../media/image27.wmf"/><Relationship Id="rId11" Type="http://schemas.openxmlformats.org/officeDocument/2006/relationships/image" Target="../media/image28.wmf"/><Relationship Id="rId12" Type="http://schemas.openxmlformats.org/officeDocument/2006/relationships/image" Target="../media/image29.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9.wmf"/><Relationship Id="rId16" Type="http://schemas.openxmlformats.org/officeDocument/2006/relationships/image" Target="../media/image28.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29.wmf"/><Relationship Id="rId2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image" Target="../media/image10.wmf"/><Relationship Id="rId6" Type="http://schemas.openxmlformats.org/officeDocument/2006/relationships/slideLayout" Target="../slideLayouts/slideLayout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FOTO_OPCAO2" descr=""/>
          <p:cNvPicPr/>
          <p:nvPr/>
        </p:nvPicPr>
        <p:blipFill>
          <a:blip r:embed="rId1"/>
          <a:stretch/>
        </p:blipFill>
        <p:spPr>
          <a:xfrm>
            <a:off x="3879720" y="0"/>
            <a:ext cx="5257800" cy="6858000"/>
          </a:xfrm>
          <a:prstGeom prst="rect">
            <a:avLst/>
          </a:prstGeom>
          <a:ln w="0">
            <a:noFill/>
          </a:ln>
        </p:spPr>
      </p:pic>
      <p:sp>
        <p:nvSpPr>
          <p:cNvPr id="52" name=""/>
          <p:cNvSpPr/>
          <p:nvPr/>
        </p:nvSpPr>
        <p:spPr>
          <a:xfrm>
            <a:off x="298440" y="1523880"/>
            <a:ext cx="33526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Interactive</a:t>
            </a:r>
            <a:br>
              <a:rPr sz="3200"/>
            </a:br>
            <a:r>
              <a:rPr b="1" lang="en-US" sz="3200" spc="-1" strike="noStrike">
                <a:solidFill>
                  <a:srgbClr val="000066"/>
                </a:solidFill>
                <a:latin typeface="Tahoma"/>
              </a:rPr>
              <a:t>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red%20gen%20d" descr=""/>
          <p:cNvPicPr/>
          <p:nvPr/>
        </p:nvPicPr>
        <p:blipFill>
          <a:blip r:embed="rId1"/>
          <a:stretch/>
        </p:blipFill>
        <p:spPr>
          <a:xfrm>
            <a:off x="762120" y="4038480"/>
            <a:ext cx="1828800" cy="771480"/>
          </a:xfrm>
          <a:prstGeom prst="rect">
            <a:avLst/>
          </a:prstGeom>
          <a:ln w="0">
            <a:noFill/>
          </a:ln>
        </p:spPr>
      </p:pic>
      <p:grpSp>
        <p:nvGrpSpPr>
          <p:cNvPr id="264" name=""/>
          <p:cNvGrpSpPr/>
          <p:nvPr/>
        </p:nvGrpSpPr>
        <p:grpSpPr>
          <a:xfrm>
            <a:off x="838080" y="2057400"/>
            <a:ext cx="1676520" cy="1904760"/>
            <a:chOff x="838080" y="2057400"/>
            <a:chExt cx="1676520" cy="1904760"/>
          </a:xfrm>
        </p:grpSpPr>
        <p:sp>
          <p:nvSpPr>
            <p:cNvPr id="265"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6" name="coolguy" descr=""/>
            <p:cNvPicPr/>
            <p:nvPr/>
          </p:nvPicPr>
          <p:blipFill>
            <a:blip r:embed="rId2"/>
            <a:srcRect l="9083" t="0" r="13635" b="0"/>
            <a:stretch/>
          </p:blipFill>
          <p:spPr>
            <a:xfrm>
              <a:off x="1015920" y="2480760"/>
              <a:ext cx="1295280" cy="1309320"/>
            </a:xfrm>
            <a:prstGeom prst="rect">
              <a:avLst/>
            </a:prstGeom>
            <a:ln w="0">
              <a:noFill/>
            </a:ln>
          </p:spPr>
        </p:pic>
        <p:pic>
          <p:nvPicPr>
            <p:cNvPr id="267" name="logo" descr=""/>
            <p:cNvPicPr/>
            <p:nvPr/>
          </p:nvPicPr>
          <p:blipFill>
            <a:blip r:embed="rId3"/>
            <a:stretch/>
          </p:blipFill>
          <p:spPr>
            <a:xfrm>
              <a:off x="965160" y="2176200"/>
              <a:ext cx="1428840" cy="277560"/>
            </a:xfrm>
            <a:prstGeom prst="rect">
              <a:avLst/>
            </a:prstGeom>
            <a:ln w="0">
              <a:noFill/>
            </a:ln>
          </p:spPr>
        </p:pic>
      </p:grpSp>
      <p:sp>
        <p:nvSpPr>
          <p:cNvPr id="268" name=""/>
          <p:cNvSpPr/>
          <p:nvPr/>
        </p:nvSpPr>
        <p:spPr>
          <a:xfrm>
            <a:off x="4114800" y="1600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ices</a:t>
            </a:r>
            <a:endParaRPr b="0" lang="en-US" sz="2400" spc="-1" strike="noStrike">
              <a:solidFill>
                <a:srgbClr val="000000"/>
              </a:solidFill>
              <a:latin typeface="Times New Roman"/>
            </a:endParaRPr>
          </a:p>
        </p:txBody>
      </p:sp>
      <p:sp>
        <p:nvSpPr>
          <p:cNvPr id="269" name=""/>
          <p:cNvSpPr/>
          <p:nvPr/>
        </p:nvSpPr>
        <p:spPr>
          <a:xfrm>
            <a:off x="4114800" y="243828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Applications/Services</a:t>
            </a:r>
            <a:endParaRPr b="0" lang="en-US" sz="2400" spc="-1" strike="noStrike">
              <a:solidFill>
                <a:srgbClr val="000000"/>
              </a:solidFill>
              <a:latin typeface="Times New Roman"/>
            </a:endParaRPr>
          </a:p>
        </p:txBody>
      </p:sp>
      <p:sp>
        <p:nvSpPr>
          <p:cNvPr id="270" name=""/>
          <p:cNvSpPr/>
          <p:nvPr/>
        </p:nvSpPr>
        <p:spPr>
          <a:xfrm>
            <a:off x="4114800" y="3276720"/>
            <a:ext cx="3429000" cy="761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Service Platform</a:t>
            </a:r>
            <a:endParaRPr b="0" lang="en-US" sz="2400" spc="-1" strike="noStrike">
              <a:solidFill>
                <a:srgbClr val="000000"/>
              </a:solidFill>
              <a:latin typeface="Times New Roman"/>
            </a:endParaRPr>
          </a:p>
        </p:txBody>
      </p:sp>
      <p:sp>
        <p:nvSpPr>
          <p:cNvPr id="271" name=""/>
          <p:cNvSpPr/>
          <p:nvPr/>
        </p:nvSpPr>
        <p:spPr>
          <a:xfrm>
            <a:off x="4114800" y="411480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sic IP Services</a:t>
            </a:r>
            <a:endParaRPr b="0" lang="en-US" sz="2400" spc="-1" strike="noStrike">
              <a:solidFill>
                <a:srgbClr val="000000"/>
              </a:solidFill>
              <a:latin typeface="Times New Roman"/>
            </a:endParaRPr>
          </a:p>
        </p:txBody>
      </p:sp>
      <p:sp>
        <p:nvSpPr>
          <p:cNvPr id="272" name=""/>
          <p:cNvSpPr/>
          <p:nvPr/>
        </p:nvSpPr>
        <p:spPr>
          <a:xfrm>
            <a:off x="4114800" y="5029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a:t>
            </a:r>
            <a:endParaRPr b="0" lang="en-US" sz="2400" spc="-1" strike="noStrike">
              <a:solidFill>
                <a:srgbClr val="000000"/>
              </a:solidFill>
              <a:latin typeface="Times New Roman"/>
            </a:endParaRPr>
          </a:p>
        </p:txBody>
      </p:sp>
      <p:sp>
        <p:nvSpPr>
          <p:cNvPr id="273" name=""/>
          <p:cNvSpPr/>
          <p:nvPr/>
        </p:nvSpPr>
        <p:spPr>
          <a:xfrm>
            <a:off x="762012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6200000">
            <a:off x="6190200" y="3504600"/>
            <a:ext cx="37728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 Oper. Systems</a:t>
            </a:r>
            <a:endParaRPr b="0" lang="en-US" sz="2400" spc="-1" strike="noStrike">
              <a:solidFill>
                <a:srgbClr val="000000"/>
              </a:solidFill>
              <a:latin typeface="Times New Roman"/>
            </a:endParaRPr>
          </a:p>
        </p:txBody>
      </p:sp>
      <p:sp>
        <p:nvSpPr>
          <p:cNvPr id="275" name=""/>
          <p:cNvSpPr/>
          <p:nvPr/>
        </p:nvSpPr>
        <p:spPr>
          <a:xfrm>
            <a:off x="312408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16200000">
            <a:off x="1677960" y="3499560"/>
            <a:ext cx="365076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elopment Platform</a:t>
            </a:r>
            <a:endParaRPr b="0" lang="en-US" sz="2400" spc="-1" strike="noStrike">
              <a:solidFill>
                <a:srgbClr val="000000"/>
              </a:solidFill>
              <a:latin typeface="Times New Roman"/>
            </a:endParaRPr>
          </a:p>
        </p:txBody>
      </p:sp>
      <p:sp>
        <p:nvSpPr>
          <p:cNvPr id="277"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27160" y="152280"/>
            <a:ext cx="448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Internet Access Services</a:t>
            </a:r>
            <a:endParaRPr b="0" lang="en-US" sz="2800" spc="-1" strike="noStrike">
              <a:solidFill>
                <a:srgbClr val="000000"/>
              </a:solidFill>
              <a:latin typeface="Times New Roman"/>
            </a:endParaRPr>
          </a:p>
        </p:txBody>
      </p:sp>
      <p:sp>
        <p:nvSpPr>
          <p:cNvPr id="279" name=""/>
          <p:cNvSpPr/>
          <p:nvPr/>
        </p:nvSpPr>
        <p:spPr>
          <a:xfrm>
            <a:off x="1972080" y="2057400"/>
            <a:ext cx="32450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al access</a:t>
            </a:r>
            <a:endParaRPr b="0" lang="en-US" sz="2400" spc="-1" strike="noStrike">
              <a:solidFill>
                <a:srgbClr val="000000"/>
              </a:solidFill>
              <a:latin typeface="Times New Roman"/>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rporate</a:t>
            </a:r>
            <a:endParaRPr b="0" lang="en-US" sz="2400" spc="-1" strike="noStrike">
              <a:solidFill>
                <a:srgbClr val="000000"/>
              </a:solidFill>
              <a:latin typeface="Times New Roman"/>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holesale (IS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dicated access</a:t>
            </a:r>
            <a:endParaRPr b="0" lang="en-US" sz="2400" spc="-1" strike="noStrike">
              <a:solidFill>
                <a:srgbClr val="000000"/>
              </a:solidFill>
              <a:latin typeface="Times New Roman"/>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rporate</a:t>
            </a:r>
            <a:endParaRPr b="0" lang="en-US" sz="2400" spc="-1" strike="noStrike">
              <a:solidFill>
                <a:srgbClr val="000000"/>
              </a:solidFill>
              <a:latin typeface="Times New Roman"/>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n demand</a:t>
            </a:r>
            <a:endParaRPr b="0" lang="en-US" sz="2400" spc="-1" strike="noStrike">
              <a:solidFill>
                <a:srgbClr val="000000"/>
              </a:solidFill>
              <a:latin typeface="Times New Roman"/>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urs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572000" y="2362320"/>
            <a:ext cx="2743200" cy="2438280"/>
            <a:chOff x="4572000" y="2362320"/>
            <a:chExt cx="2743200" cy="2438280"/>
          </a:xfrm>
        </p:grpSpPr>
        <p:sp>
          <p:nvSpPr>
            <p:cNvPr id="281" name=""/>
            <p:cNvSpPr/>
            <p:nvPr/>
          </p:nvSpPr>
          <p:spPr>
            <a:xfrm>
              <a:off x="4572000" y="2362320"/>
              <a:ext cx="2743200" cy="2438280"/>
            </a:xfrm>
            <a:prstGeom prst="rect">
              <a:avLst/>
            </a:prstGeom>
            <a:gradFill rotWithShape="0">
              <a:gsLst>
                <a:gs pos="0">
                  <a:srgbClr val="fefefe"/>
                </a:gs>
                <a:gs pos="100000">
                  <a:srgbClr val="3870a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5259600" y="2362320"/>
              <a:ext cx="1366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GEX</a:t>
              </a:r>
              <a:endParaRPr b="0" lang="en-US" sz="3000" spc="-1" strike="noStrike">
                <a:solidFill>
                  <a:srgbClr val="000000"/>
                </a:solidFill>
                <a:latin typeface="Times New Roman"/>
              </a:endParaRPr>
            </a:p>
          </p:txBody>
        </p:sp>
      </p:grpSp>
      <p:grpSp>
        <p:nvGrpSpPr>
          <p:cNvPr id="283" name=""/>
          <p:cNvGrpSpPr/>
          <p:nvPr/>
        </p:nvGrpSpPr>
        <p:grpSpPr>
          <a:xfrm>
            <a:off x="4572000" y="3962520"/>
            <a:ext cx="2743200" cy="1601640"/>
            <a:chOff x="4572000" y="3962520"/>
            <a:chExt cx="2743200" cy="1601640"/>
          </a:xfrm>
        </p:grpSpPr>
        <p:sp>
          <p:nvSpPr>
            <p:cNvPr id="284" name=""/>
            <p:cNvSpPr/>
            <p:nvPr/>
          </p:nvSpPr>
          <p:spPr>
            <a:xfrm>
              <a:off x="4572000" y="3962520"/>
              <a:ext cx="2743200" cy="1600200"/>
            </a:xfrm>
            <a:prstGeom prst="rect">
              <a:avLst/>
            </a:prstGeom>
            <a:gradFill rotWithShape="0">
              <a:gsLst>
                <a:gs pos="0">
                  <a:srgbClr val="fefefe"/>
                </a:gs>
                <a:gs pos="100000">
                  <a:srgbClr val="d6910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726080" y="5013360"/>
              <a:ext cx="2509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ORLDCOM</a:t>
              </a:r>
              <a:endParaRPr b="0" lang="en-US" sz="3000" spc="-1" strike="noStrike">
                <a:solidFill>
                  <a:srgbClr val="000000"/>
                </a:solidFill>
                <a:latin typeface="Times New Roman"/>
              </a:endParaRPr>
            </a:p>
          </p:txBody>
        </p:sp>
      </p:grpSp>
      <p:grpSp>
        <p:nvGrpSpPr>
          <p:cNvPr id="286" name=""/>
          <p:cNvGrpSpPr/>
          <p:nvPr/>
        </p:nvGrpSpPr>
        <p:grpSpPr>
          <a:xfrm>
            <a:off x="4572000" y="2362320"/>
            <a:ext cx="2743200" cy="3200400"/>
            <a:chOff x="4572000" y="2362320"/>
            <a:chExt cx="2743200" cy="3200400"/>
          </a:xfrm>
        </p:grpSpPr>
        <p:sp>
          <p:nvSpPr>
            <p:cNvPr id="287" name=""/>
            <p:cNvSpPr/>
            <p:nvPr/>
          </p:nvSpPr>
          <p:spPr>
            <a:xfrm>
              <a:off x="4572000" y="2362320"/>
              <a:ext cx="2743200" cy="2438280"/>
            </a:xfrm>
            <a:prstGeom prst="rect">
              <a:avLst/>
            </a:prstGeom>
            <a:solidFill>
              <a:srgbClr val="387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572000" y="3962520"/>
              <a:ext cx="2743200" cy="1600200"/>
            </a:xfrm>
            <a:prstGeom prst="rect">
              <a:avLst/>
            </a:prstGeom>
            <a:solidFill>
              <a:srgbClr val="d6910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4572000" y="3200400"/>
              <a:ext cx="2743200" cy="1295640"/>
            </a:xfrm>
            <a:prstGeom prst="rect">
              <a:avLst/>
            </a:prstGeom>
            <a:gradFill rotWithShape="0">
              <a:gsLst>
                <a:gs pos="0">
                  <a:srgbClr val="3870a8"/>
                </a:gs>
                <a:gs pos="100000">
                  <a:srgbClr val="1d8f6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572000" y="4496040"/>
              <a:ext cx="2743200" cy="838080"/>
            </a:xfrm>
            <a:prstGeom prst="rect">
              <a:avLst/>
            </a:prstGeom>
            <a:gradFill rotWithShape="0">
              <a:gsLst>
                <a:gs pos="0">
                  <a:srgbClr val="1d8f64"/>
                </a:gs>
                <a:gs pos="100000">
                  <a:srgbClr val="d6910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 name=""/>
          <p:cNvSpPr/>
          <p:nvPr/>
        </p:nvSpPr>
        <p:spPr>
          <a:xfrm>
            <a:off x="5259600" y="2362320"/>
            <a:ext cx="1366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GEX</a:t>
            </a:r>
            <a:endParaRPr b="0" lang="en-US" sz="3000" spc="-1" strike="noStrike">
              <a:solidFill>
                <a:srgbClr val="000000"/>
              </a:solidFill>
              <a:latin typeface="Times New Roman"/>
            </a:endParaRPr>
          </a:p>
        </p:txBody>
      </p:sp>
      <p:sp>
        <p:nvSpPr>
          <p:cNvPr id="292" name=""/>
          <p:cNvSpPr/>
          <p:nvPr/>
        </p:nvSpPr>
        <p:spPr>
          <a:xfrm>
            <a:off x="4725000" y="5087880"/>
            <a:ext cx="25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COM/Embratel</a:t>
            </a:r>
            <a:endParaRPr b="0" lang="en-US" sz="2400" spc="-1" strike="noStrike">
              <a:solidFill>
                <a:srgbClr val="000000"/>
              </a:solidFill>
              <a:latin typeface="Times New Roman"/>
            </a:endParaRPr>
          </a:p>
        </p:txBody>
      </p:sp>
      <p:grpSp>
        <p:nvGrpSpPr>
          <p:cNvPr id="293" name=""/>
          <p:cNvGrpSpPr/>
          <p:nvPr/>
        </p:nvGrpSpPr>
        <p:grpSpPr>
          <a:xfrm>
            <a:off x="2133720" y="2057400"/>
            <a:ext cx="2493720" cy="3598200"/>
            <a:chOff x="2133720" y="2057400"/>
            <a:chExt cx="2493720" cy="3598200"/>
          </a:xfrm>
        </p:grpSpPr>
        <p:sp>
          <p:nvSpPr>
            <p:cNvPr id="294" name=""/>
            <p:cNvSpPr/>
            <p:nvPr/>
          </p:nvSpPr>
          <p:spPr>
            <a:xfrm>
              <a:off x="2133720" y="2057400"/>
              <a:ext cx="2493720" cy="638280"/>
            </a:xfrm>
            <a:prstGeom prst="ellipse">
              <a:avLst/>
            </a:prstGeom>
            <a:gradFill rotWithShape="0">
              <a:gsLst>
                <a:gs pos="0">
                  <a:srgbClr val="fefefe"/>
                </a:gs>
                <a:gs pos="100000">
                  <a:srgbClr val="b2b2b2"/>
                </a:gs>
              </a:gsLst>
              <a:path path="rect">
                <a:fillToRect l="50000" t="50000" r="50000" b="50000"/>
              </a:path>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62480" y="2117880"/>
              <a:ext cx="1625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STING</a:t>
              </a:r>
              <a:endParaRPr b="0" lang="en-US" sz="2500" spc="-1" strike="noStrike">
                <a:solidFill>
                  <a:srgbClr val="000000"/>
                </a:solidFill>
                <a:latin typeface="Times New Roman"/>
              </a:endParaRPr>
            </a:p>
          </p:txBody>
        </p:sp>
        <p:grpSp>
          <p:nvGrpSpPr>
            <p:cNvPr id="296" name=""/>
            <p:cNvGrpSpPr/>
            <p:nvPr/>
          </p:nvGrpSpPr>
          <p:grpSpPr>
            <a:xfrm>
              <a:off x="2138040" y="2435040"/>
              <a:ext cx="2484000" cy="3220560"/>
              <a:chOff x="2138040" y="2435040"/>
              <a:chExt cx="2484000" cy="3220560"/>
            </a:xfrm>
          </p:grpSpPr>
          <p:sp>
            <p:nvSpPr>
              <p:cNvPr id="297" name=""/>
              <p:cNvSpPr/>
              <p:nvPr/>
            </p:nvSpPr>
            <p:spPr>
              <a:xfrm rot="16200000">
                <a:off x="2922840" y="3187800"/>
                <a:ext cx="914040" cy="2484000"/>
              </a:xfrm>
              <a:prstGeom prst="flowChartOnlineStorage">
                <a:avLst/>
              </a:prstGeom>
              <a:gradFill rotWithShape="0">
                <a:gsLst>
                  <a:gs pos="0">
                    <a:srgbClr val="000000"/>
                  </a:gs>
                  <a:gs pos="50000">
                    <a:srgbClr val="828282"/>
                  </a:gs>
                  <a:gs pos="100000">
                    <a:srgbClr val="000000"/>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6200000">
                <a:off x="2922840" y="2419560"/>
                <a:ext cx="914040" cy="2484000"/>
              </a:xfrm>
              <a:prstGeom prst="flowChartOnlineStorage">
                <a:avLst/>
              </a:prstGeom>
              <a:gradFill rotWithShape="0">
                <a:gsLst>
                  <a:gs pos="0">
                    <a:srgbClr val="000000"/>
                  </a:gs>
                  <a:gs pos="50000">
                    <a:srgbClr val="828282"/>
                  </a:gs>
                  <a:gs pos="100000">
                    <a:srgbClr val="000000"/>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6200000">
                <a:off x="2922840" y="3956400"/>
                <a:ext cx="914040" cy="2484000"/>
              </a:xfrm>
              <a:prstGeom prst="flowChartOnlineStorage">
                <a:avLst/>
              </a:prstGeom>
              <a:gradFill rotWithShape="0">
                <a:gsLst>
                  <a:gs pos="0">
                    <a:srgbClr val="000000"/>
                  </a:gs>
                  <a:gs pos="50000">
                    <a:srgbClr val="828282"/>
                  </a:gs>
                  <a:gs pos="100000">
                    <a:srgbClr val="000000"/>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00000">
                <a:off x="2922840" y="1649880"/>
                <a:ext cx="914040" cy="2484000"/>
              </a:xfrm>
              <a:prstGeom prst="flowChartOnlineStorage">
                <a:avLst/>
              </a:prstGeom>
              <a:gradFill rotWithShape="0">
                <a:gsLst>
                  <a:gs pos="0">
                    <a:srgbClr val="000000"/>
                  </a:gs>
                  <a:gs pos="50000">
                    <a:srgbClr val="828282"/>
                  </a:gs>
                  <a:gs pos="100000">
                    <a:srgbClr val="000000"/>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2824560" y="2759040"/>
              <a:ext cx="11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a:t>
              </a:r>
              <a:endParaRPr b="0" lang="en-US" sz="2000" spc="-1" strike="noStrike">
                <a:solidFill>
                  <a:srgbClr val="000000"/>
                </a:solidFill>
                <a:latin typeface="Times New Roman"/>
              </a:endParaRPr>
            </a:p>
          </p:txBody>
        </p:sp>
        <p:sp>
          <p:nvSpPr>
            <p:cNvPr id="302" name=""/>
            <p:cNvSpPr/>
            <p:nvPr/>
          </p:nvSpPr>
          <p:spPr>
            <a:xfrm>
              <a:off x="2746800" y="3537000"/>
              <a:ext cx="128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d</a:t>
              </a:r>
              <a:endParaRPr b="0" lang="en-US" sz="2000" spc="-1" strike="noStrike">
                <a:solidFill>
                  <a:srgbClr val="000000"/>
                </a:solidFill>
                <a:latin typeface="Times New Roman"/>
              </a:endParaRPr>
            </a:p>
          </p:txBody>
        </p:sp>
        <p:sp>
          <p:nvSpPr>
            <p:cNvPr id="303" name=""/>
            <p:cNvSpPr/>
            <p:nvPr/>
          </p:nvSpPr>
          <p:spPr>
            <a:xfrm>
              <a:off x="2225160" y="431640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dicated/Shared</a:t>
              </a:r>
              <a:endParaRPr b="0" lang="en-US" sz="2000" spc="-1" strike="noStrike">
                <a:solidFill>
                  <a:srgbClr val="000000"/>
                </a:solidFill>
                <a:latin typeface="Times New Roman"/>
              </a:endParaRPr>
            </a:p>
          </p:txBody>
        </p:sp>
        <p:sp>
          <p:nvSpPr>
            <p:cNvPr id="304" name=""/>
            <p:cNvSpPr/>
            <p:nvPr/>
          </p:nvSpPr>
          <p:spPr>
            <a:xfrm>
              <a:off x="2598480" y="507708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location</a:t>
              </a:r>
              <a:endParaRPr b="0" lang="en-US" sz="2000" spc="-1" strike="noStrike">
                <a:solidFill>
                  <a:srgbClr val="000000"/>
                </a:solidFill>
                <a:latin typeface="Times New Roman"/>
              </a:endParaRPr>
            </a:p>
          </p:txBody>
        </p:sp>
      </p:grpSp>
      <p:grpSp>
        <p:nvGrpSpPr>
          <p:cNvPr id="305" name=""/>
          <p:cNvGrpSpPr/>
          <p:nvPr/>
        </p:nvGrpSpPr>
        <p:grpSpPr>
          <a:xfrm>
            <a:off x="2133720" y="2438280"/>
            <a:ext cx="2484360" cy="2450880"/>
            <a:chOff x="2133720" y="2438280"/>
            <a:chExt cx="2484360" cy="2450880"/>
          </a:xfrm>
        </p:grpSpPr>
        <p:sp>
          <p:nvSpPr>
            <p:cNvPr id="306" name=""/>
            <p:cNvSpPr/>
            <p:nvPr/>
          </p:nvSpPr>
          <p:spPr>
            <a:xfrm rot="16200000">
              <a:off x="2918520" y="3189600"/>
              <a:ext cx="914400" cy="2484360"/>
            </a:xfrm>
            <a:prstGeom prst="flowChartOnlineStorage">
              <a:avLst/>
            </a:prstGeom>
            <a:gradFill rotWithShape="0">
              <a:gsLst>
                <a:gs pos="0">
                  <a:srgbClr val="0a141e"/>
                </a:gs>
                <a:gs pos="50000">
                  <a:srgbClr val="3870a8"/>
                </a:gs>
                <a:gs pos="100000">
                  <a:srgbClr val="0a141e"/>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16200000">
              <a:off x="2918520" y="2422800"/>
              <a:ext cx="914400" cy="2484360"/>
            </a:xfrm>
            <a:prstGeom prst="flowChartOnlineStorage">
              <a:avLst/>
            </a:prstGeom>
            <a:gradFill rotWithShape="0">
              <a:gsLst>
                <a:gs pos="0">
                  <a:srgbClr val="0a141e"/>
                </a:gs>
                <a:gs pos="50000">
                  <a:srgbClr val="3870a8"/>
                </a:gs>
                <a:gs pos="100000">
                  <a:srgbClr val="0a141e"/>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rot="16200000">
              <a:off x="2918520" y="1653120"/>
              <a:ext cx="914400" cy="2484360"/>
            </a:xfrm>
            <a:prstGeom prst="flowChartOnlineStorage">
              <a:avLst/>
            </a:prstGeom>
            <a:gradFill rotWithShape="0">
              <a:gsLst>
                <a:gs pos="0">
                  <a:srgbClr val="0a141e"/>
                </a:gs>
                <a:gs pos="50000">
                  <a:srgbClr val="3870a8"/>
                </a:gs>
                <a:gs pos="100000">
                  <a:srgbClr val="0a141e"/>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810880" y="2761920"/>
              <a:ext cx="11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a:t>
              </a:r>
              <a:endParaRPr b="0" lang="en-US" sz="2000" spc="-1" strike="noStrike">
                <a:solidFill>
                  <a:srgbClr val="000000"/>
                </a:solidFill>
                <a:latin typeface="Times New Roman"/>
              </a:endParaRPr>
            </a:p>
          </p:txBody>
        </p:sp>
        <p:sp>
          <p:nvSpPr>
            <p:cNvPr id="310" name=""/>
            <p:cNvSpPr/>
            <p:nvPr/>
          </p:nvSpPr>
          <p:spPr>
            <a:xfrm>
              <a:off x="2732760" y="3539880"/>
              <a:ext cx="128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d</a:t>
              </a:r>
              <a:endParaRPr b="0" lang="en-US" sz="2000" spc="-1" strike="noStrike">
                <a:solidFill>
                  <a:srgbClr val="000000"/>
                </a:solidFill>
                <a:latin typeface="Times New Roman"/>
              </a:endParaRPr>
            </a:p>
          </p:txBody>
        </p:sp>
        <p:sp>
          <p:nvSpPr>
            <p:cNvPr id="311" name=""/>
            <p:cNvSpPr/>
            <p:nvPr/>
          </p:nvSpPr>
          <p:spPr>
            <a:xfrm>
              <a:off x="2211480" y="431928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dicated/Shared</a:t>
              </a:r>
              <a:endParaRPr b="0" lang="en-US" sz="2000" spc="-1" strike="noStrike">
                <a:solidFill>
                  <a:srgbClr val="000000"/>
                </a:solidFill>
                <a:latin typeface="Times New Roman"/>
              </a:endParaRPr>
            </a:p>
          </p:txBody>
        </p:sp>
      </p:grpSp>
      <p:grpSp>
        <p:nvGrpSpPr>
          <p:cNvPr id="312" name=""/>
          <p:cNvGrpSpPr/>
          <p:nvPr/>
        </p:nvGrpSpPr>
        <p:grpSpPr>
          <a:xfrm>
            <a:off x="2133720" y="3962520"/>
            <a:ext cx="2485800" cy="1685880"/>
            <a:chOff x="2133720" y="3962520"/>
            <a:chExt cx="2485800" cy="1685880"/>
          </a:xfrm>
        </p:grpSpPr>
        <p:sp>
          <p:nvSpPr>
            <p:cNvPr id="313" name=""/>
            <p:cNvSpPr/>
            <p:nvPr/>
          </p:nvSpPr>
          <p:spPr>
            <a:xfrm rot="16200000">
              <a:off x="2918520" y="3177360"/>
              <a:ext cx="914400" cy="2484360"/>
            </a:xfrm>
            <a:prstGeom prst="flowChartOnlineStorage">
              <a:avLst/>
            </a:prstGeom>
            <a:gradFill rotWithShape="0">
              <a:gsLst>
                <a:gs pos="0">
                  <a:srgbClr val="412c01"/>
                </a:gs>
                <a:gs pos="50000">
                  <a:srgbClr val="d69106"/>
                </a:gs>
                <a:gs pos="100000">
                  <a:srgbClr val="412c01"/>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rot="16200000">
              <a:off x="2919960" y="3948840"/>
              <a:ext cx="914400" cy="2484360"/>
            </a:xfrm>
            <a:prstGeom prst="flowChartOnlineStorage">
              <a:avLst/>
            </a:prstGeom>
            <a:gradFill rotWithShape="0">
              <a:gsLst>
                <a:gs pos="0">
                  <a:srgbClr val="412c01"/>
                </a:gs>
                <a:gs pos="50000">
                  <a:srgbClr val="d69106"/>
                </a:gs>
                <a:gs pos="100000">
                  <a:srgbClr val="412c01"/>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15800" y="430848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dicated/Shared</a:t>
              </a:r>
              <a:endParaRPr b="0" lang="en-US" sz="2000" spc="-1" strike="noStrike">
                <a:solidFill>
                  <a:srgbClr val="000000"/>
                </a:solidFill>
                <a:latin typeface="Times New Roman"/>
              </a:endParaRPr>
            </a:p>
          </p:txBody>
        </p:sp>
        <p:sp>
          <p:nvSpPr>
            <p:cNvPr id="316" name=""/>
            <p:cNvSpPr/>
            <p:nvPr/>
          </p:nvSpPr>
          <p:spPr>
            <a:xfrm>
              <a:off x="2589120" y="506880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location</a:t>
              </a:r>
              <a:endParaRPr b="0" lang="en-US" sz="2000" spc="-1" strike="noStrike">
                <a:solidFill>
                  <a:srgbClr val="000000"/>
                </a:solidFill>
                <a:latin typeface="Times New Roman"/>
              </a:endParaRPr>
            </a:p>
          </p:txBody>
        </p:sp>
      </p:grpSp>
      <p:grpSp>
        <p:nvGrpSpPr>
          <p:cNvPr id="317" name=""/>
          <p:cNvGrpSpPr/>
          <p:nvPr/>
        </p:nvGrpSpPr>
        <p:grpSpPr>
          <a:xfrm>
            <a:off x="2133720" y="2438280"/>
            <a:ext cx="2484360" cy="3220920"/>
            <a:chOff x="2133720" y="2438280"/>
            <a:chExt cx="2484360" cy="3220920"/>
          </a:xfrm>
        </p:grpSpPr>
        <p:sp>
          <p:nvSpPr>
            <p:cNvPr id="318" name=""/>
            <p:cNvSpPr/>
            <p:nvPr/>
          </p:nvSpPr>
          <p:spPr>
            <a:xfrm rot="16200000">
              <a:off x="2918520" y="3191400"/>
              <a:ext cx="914400" cy="2484360"/>
            </a:xfrm>
            <a:prstGeom prst="flowChartOnlineStorage">
              <a:avLst/>
            </a:prstGeom>
            <a:gradFill rotWithShape="0">
              <a:gsLst>
                <a:gs pos="0">
                  <a:srgbClr val="082b1e"/>
                </a:gs>
                <a:gs pos="50000">
                  <a:srgbClr val="1d8f64"/>
                </a:gs>
                <a:gs pos="100000">
                  <a:srgbClr val="082b1e"/>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918520" y="2423160"/>
              <a:ext cx="914400" cy="2484360"/>
            </a:xfrm>
            <a:prstGeom prst="flowChartOnlineStorage">
              <a:avLst/>
            </a:prstGeom>
            <a:gradFill rotWithShape="0">
              <a:gsLst>
                <a:gs pos="0">
                  <a:srgbClr val="0a141e"/>
                </a:gs>
                <a:gs pos="50000">
                  <a:srgbClr val="3870a8"/>
                </a:gs>
                <a:gs pos="100000">
                  <a:srgbClr val="0a141e"/>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16200000">
              <a:off x="2918520" y="3959640"/>
              <a:ext cx="914400" cy="2484360"/>
            </a:xfrm>
            <a:prstGeom prst="flowChartOnlineStorage">
              <a:avLst/>
            </a:prstGeom>
            <a:gradFill rotWithShape="0">
              <a:gsLst>
                <a:gs pos="0">
                  <a:srgbClr val="412c01"/>
                </a:gs>
                <a:gs pos="50000">
                  <a:srgbClr val="d69106"/>
                </a:gs>
                <a:gs pos="100000">
                  <a:srgbClr val="412c01"/>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6200000">
              <a:off x="2918520" y="1653120"/>
              <a:ext cx="914400" cy="2484360"/>
            </a:xfrm>
            <a:prstGeom prst="flowChartOnlineStorage">
              <a:avLst/>
            </a:prstGeom>
            <a:gradFill rotWithShape="0">
              <a:gsLst>
                <a:gs pos="0">
                  <a:srgbClr val="0a141e"/>
                </a:gs>
                <a:gs pos="50000">
                  <a:srgbClr val="3870a8"/>
                </a:gs>
                <a:gs pos="100000">
                  <a:srgbClr val="0a141e"/>
                </a:gs>
              </a:gsLst>
              <a:lin ang="108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810520" y="2762280"/>
              <a:ext cx="11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a:t>
              </a:r>
              <a:endParaRPr b="0" lang="en-US" sz="2000" spc="-1" strike="noStrike">
                <a:solidFill>
                  <a:srgbClr val="000000"/>
                </a:solidFill>
                <a:latin typeface="Times New Roman"/>
              </a:endParaRPr>
            </a:p>
          </p:txBody>
        </p:sp>
        <p:sp>
          <p:nvSpPr>
            <p:cNvPr id="323" name=""/>
            <p:cNvSpPr/>
            <p:nvPr/>
          </p:nvSpPr>
          <p:spPr>
            <a:xfrm>
              <a:off x="2732760" y="3539880"/>
              <a:ext cx="128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d</a:t>
              </a:r>
              <a:endParaRPr b="0" lang="en-US" sz="2000" spc="-1" strike="noStrike">
                <a:solidFill>
                  <a:srgbClr val="000000"/>
                </a:solidFill>
                <a:latin typeface="Times New Roman"/>
              </a:endParaRPr>
            </a:p>
          </p:txBody>
        </p:sp>
        <p:sp>
          <p:nvSpPr>
            <p:cNvPr id="324" name=""/>
            <p:cNvSpPr/>
            <p:nvPr/>
          </p:nvSpPr>
          <p:spPr>
            <a:xfrm>
              <a:off x="2211120" y="431964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dicated/Shared</a:t>
              </a:r>
              <a:endParaRPr b="0" lang="en-US" sz="2000" spc="-1" strike="noStrike">
                <a:solidFill>
                  <a:srgbClr val="000000"/>
                </a:solidFill>
                <a:latin typeface="Times New Roman"/>
              </a:endParaRPr>
            </a:p>
          </p:txBody>
        </p:sp>
        <p:sp>
          <p:nvSpPr>
            <p:cNvPr id="325" name=""/>
            <p:cNvSpPr/>
            <p:nvPr/>
          </p:nvSpPr>
          <p:spPr>
            <a:xfrm>
              <a:off x="2584800" y="507996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llocation</a:t>
              </a:r>
              <a:endParaRPr b="0" lang="en-US" sz="2000" spc="-1" strike="noStrike">
                <a:solidFill>
                  <a:srgbClr val="000000"/>
                </a:solidFill>
                <a:latin typeface="Times New Roman"/>
              </a:endParaRPr>
            </a:p>
          </p:txBody>
        </p:sp>
      </p:grpSp>
      <p:sp>
        <p:nvSpPr>
          <p:cNvPr id="326" name=""/>
          <p:cNvSpPr/>
          <p:nvPr/>
        </p:nvSpPr>
        <p:spPr>
          <a:xfrm>
            <a:off x="5105520" y="2992320"/>
            <a:ext cx="485640" cy="1887480"/>
          </a:xfrm>
          <a:prstGeom prst="upArrow">
            <a:avLst>
              <a:gd name="adj1" fmla="val 50000"/>
              <a:gd name="adj2" fmla="val 97165"/>
            </a:avLst>
          </a:prstGeom>
          <a:gradFill rotWithShape="0">
            <a:gsLst>
              <a:gs pos="0">
                <a:srgbClr val="3333cc"/>
              </a:gs>
              <a:gs pos="100000">
                <a:srgbClr val="cc990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flipV="1">
            <a:off x="6296040" y="2991600"/>
            <a:ext cx="485640" cy="1887480"/>
          </a:xfrm>
          <a:prstGeom prst="upArrow">
            <a:avLst>
              <a:gd name="adj1" fmla="val 50000"/>
              <a:gd name="adj2" fmla="val 97165"/>
            </a:avLst>
          </a:prstGeom>
          <a:gradFill rotWithShape="0">
            <a:gsLst>
              <a:gs pos="0">
                <a:srgbClr val="3333cc"/>
              </a:gs>
              <a:gs pos="100000">
                <a:srgbClr val="cc9900"/>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207360" y="152280"/>
            <a:ext cx="310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Hosting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7070760" y="3483000"/>
            <a:ext cx="1396800" cy="65736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30" name=""/>
          <p:cNvSpPr/>
          <p:nvPr/>
        </p:nvSpPr>
        <p:spPr>
          <a:xfrm>
            <a:off x="6114960" y="3971880"/>
            <a:ext cx="1276560" cy="54288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31" name=""/>
          <p:cNvSpPr/>
          <p:nvPr/>
        </p:nvSpPr>
        <p:spPr>
          <a:xfrm>
            <a:off x="5019840" y="4219560"/>
            <a:ext cx="1276200" cy="61920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32" name=""/>
          <p:cNvSpPr/>
          <p:nvPr/>
        </p:nvSpPr>
        <p:spPr>
          <a:xfrm>
            <a:off x="3657600" y="3886200"/>
            <a:ext cx="1371600" cy="59040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pic>
        <p:nvPicPr>
          <p:cNvPr id="333" name="" descr=""/>
          <p:cNvPicPr/>
          <p:nvPr/>
        </p:nvPicPr>
        <p:blipFill>
          <a:blip r:embed="rId1"/>
          <a:stretch/>
        </p:blipFill>
        <p:spPr>
          <a:xfrm>
            <a:off x="5324400" y="3514680"/>
            <a:ext cx="581040" cy="762120"/>
          </a:xfrm>
          <a:prstGeom prst="rect">
            <a:avLst/>
          </a:prstGeom>
          <a:ln w="0">
            <a:noFill/>
          </a:ln>
        </p:spPr>
      </p:pic>
      <p:pic>
        <p:nvPicPr>
          <p:cNvPr id="334" name="" descr=""/>
          <p:cNvPicPr/>
          <p:nvPr/>
        </p:nvPicPr>
        <p:blipFill>
          <a:blip r:embed="rId2"/>
          <a:stretch/>
        </p:blipFill>
        <p:spPr>
          <a:xfrm>
            <a:off x="3914640" y="2556000"/>
            <a:ext cx="733680" cy="1125360"/>
          </a:xfrm>
          <a:prstGeom prst="rect">
            <a:avLst/>
          </a:prstGeom>
          <a:ln w="0">
            <a:noFill/>
          </a:ln>
        </p:spPr>
      </p:pic>
      <p:pic>
        <p:nvPicPr>
          <p:cNvPr id="335" name="" descr=""/>
          <p:cNvPicPr/>
          <p:nvPr/>
        </p:nvPicPr>
        <p:blipFill>
          <a:blip r:embed="rId3"/>
          <a:stretch/>
        </p:blipFill>
        <p:spPr>
          <a:xfrm>
            <a:off x="7209000" y="2687760"/>
            <a:ext cx="1123920" cy="744480"/>
          </a:xfrm>
          <a:prstGeom prst="rect">
            <a:avLst/>
          </a:prstGeom>
          <a:ln w="0">
            <a:noFill/>
          </a:ln>
        </p:spPr>
      </p:pic>
      <p:pic>
        <p:nvPicPr>
          <p:cNvPr id="336" name="" descr=""/>
          <p:cNvPicPr/>
          <p:nvPr/>
        </p:nvPicPr>
        <p:blipFill>
          <a:blip r:embed="rId4"/>
          <a:stretch/>
        </p:blipFill>
        <p:spPr>
          <a:xfrm>
            <a:off x="5059440" y="1998720"/>
            <a:ext cx="1900080" cy="1149120"/>
          </a:xfrm>
          <a:prstGeom prst="rect">
            <a:avLst/>
          </a:prstGeom>
          <a:ln w="0">
            <a:noFill/>
          </a:ln>
        </p:spPr>
      </p:pic>
      <p:sp>
        <p:nvSpPr>
          <p:cNvPr id="337" name=""/>
          <p:cNvSpPr/>
          <p:nvPr/>
        </p:nvSpPr>
        <p:spPr>
          <a:xfrm>
            <a:off x="247680" y="5116680"/>
            <a:ext cx="8642160" cy="149508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Verdana"/>
              </a:rPr>
              <a:t>The customers share a network that operates in the  same level of reliability provided by the</a:t>
            </a:r>
            <a:endParaRPr b="0" lang="en-US" sz="2400" spc="-1" strike="noStrike">
              <a:solidFill>
                <a:srgbClr val="000000"/>
              </a:solidFill>
              <a:latin typeface="Times New Roman"/>
            </a:endParaRPr>
          </a:p>
          <a:p>
            <a:pPr marL="325440" indent="-325440" algn="ctr">
              <a:lnSpc>
                <a:spcPct val="7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Verdana"/>
              </a:rPr>
              <a:t>private networks</a:t>
            </a:r>
            <a:endParaRPr b="0" lang="en-US" sz="2400" spc="-1" strike="noStrike">
              <a:solidFill>
                <a:srgbClr val="000000"/>
              </a:solidFill>
              <a:latin typeface="Times New Roman"/>
            </a:endParaRPr>
          </a:p>
        </p:txBody>
      </p:sp>
      <p:grpSp>
        <p:nvGrpSpPr>
          <p:cNvPr id="338" name=""/>
          <p:cNvGrpSpPr/>
          <p:nvPr/>
        </p:nvGrpSpPr>
        <p:grpSpPr>
          <a:xfrm>
            <a:off x="6102000" y="2849400"/>
            <a:ext cx="758520" cy="855360"/>
            <a:chOff x="6102000" y="2849400"/>
            <a:chExt cx="758520" cy="855360"/>
          </a:xfrm>
        </p:grpSpPr>
        <p:sp>
          <p:nvSpPr>
            <p:cNvPr id="339" name=""/>
            <p:cNvSpPr/>
            <p:nvPr/>
          </p:nvSpPr>
          <p:spPr>
            <a:xfrm flipH="1" flipV="1">
              <a:off x="6110640" y="2849400"/>
              <a:ext cx="749880" cy="855360"/>
            </a:xfrm>
            <a:prstGeom prst="line">
              <a:avLst/>
            </a:prstGeom>
            <a:ln w="33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0" name=""/>
            <p:cNvSpPr/>
            <p:nvPr/>
          </p:nvSpPr>
          <p:spPr>
            <a:xfrm flipH="1" flipV="1">
              <a:off x="6102000" y="2849400"/>
              <a:ext cx="751320" cy="855360"/>
            </a:xfrm>
            <a:prstGeom prst="line">
              <a:avLst/>
            </a:prstGeom>
            <a:ln w="33480">
              <a:solidFill>
                <a:srgbClr val="cf0e3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41" name=""/>
          <p:cNvGrpSpPr/>
          <p:nvPr/>
        </p:nvGrpSpPr>
        <p:grpSpPr>
          <a:xfrm>
            <a:off x="4691160" y="2811600"/>
            <a:ext cx="1223640" cy="352080"/>
            <a:chOff x="4691160" y="2811600"/>
            <a:chExt cx="1223640" cy="352080"/>
          </a:xfrm>
        </p:grpSpPr>
        <p:sp>
          <p:nvSpPr>
            <p:cNvPr id="342" name=""/>
            <p:cNvSpPr/>
            <p:nvPr/>
          </p:nvSpPr>
          <p:spPr>
            <a:xfrm flipV="1">
              <a:off x="4698360" y="2811600"/>
              <a:ext cx="1216440" cy="352080"/>
            </a:xfrm>
            <a:prstGeom prst="line">
              <a:avLst/>
            </a:prstGeom>
            <a:ln w="33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3" name=""/>
            <p:cNvSpPr/>
            <p:nvPr/>
          </p:nvSpPr>
          <p:spPr>
            <a:xfrm flipV="1">
              <a:off x="4691160" y="2811600"/>
              <a:ext cx="1216440" cy="352080"/>
            </a:xfrm>
            <a:prstGeom prst="line">
              <a:avLst/>
            </a:prstGeom>
            <a:ln w="33480">
              <a:solidFill>
                <a:srgbClr val="cf0e3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44" name=""/>
          <p:cNvGrpSpPr/>
          <p:nvPr/>
        </p:nvGrpSpPr>
        <p:grpSpPr>
          <a:xfrm>
            <a:off x="5538960" y="2879280"/>
            <a:ext cx="420120" cy="804600"/>
            <a:chOff x="5538960" y="2879280"/>
            <a:chExt cx="420120" cy="804600"/>
          </a:xfrm>
        </p:grpSpPr>
        <p:sp>
          <p:nvSpPr>
            <p:cNvPr id="345" name=""/>
            <p:cNvSpPr/>
            <p:nvPr/>
          </p:nvSpPr>
          <p:spPr>
            <a:xfrm flipV="1">
              <a:off x="5553000" y="2879280"/>
              <a:ext cx="406080" cy="804600"/>
            </a:xfrm>
            <a:prstGeom prst="line">
              <a:avLst/>
            </a:prstGeom>
            <a:ln w="33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6" name=""/>
            <p:cNvSpPr/>
            <p:nvPr/>
          </p:nvSpPr>
          <p:spPr>
            <a:xfrm flipV="1">
              <a:off x="5538960" y="2879280"/>
              <a:ext cx="412920" cy="804600"/>
            </a:xfrm>
            <a:prstGeom prst="line">
              <a:avLst/>
            </a:prstGeom>
            <a:ln w="33480">
              <a:solidFill>
                <a:srgbClr val="cf0e3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47" name=""/>
          <p:cNvGrpSpPr/>
          <p:nvPr/>
        </p:nvGrpSpPr>
        <p:grpSpPr>
          <a:xfrm>
            <a:off x="6313320" y="2865600"/>
            <a:ext cx="1147680" cy="360000"/>
            <a:chOff x="6313320" y="2865600"/>
            <a:chExt cx="1147680" cy="360000"/>
          </a:xfrm>
        </p:grpSpPr>
        <p:sp>
          <p:nvSpPr>
            <p:cNvPr id="348" name=""/>
            <p:cNvSpPr/>
            <p:nvPr/>
          </p:nvSpPr>
          <p:spPr>
            <a:xfrm flipH="1" flipV="1">
              <a:off x="6320520" y="2865600"/>
              <a:ext cx="1140480" cy="360000"/>
            </a:xfrm>
            <a:prstGeom prst="line">
              <a:avLst/>
            </a:prstGeom>
            <a:ln w="33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9" name=""/>
            <p:cNvSpPr/>
            <p:nvPr/>
          </p:nvSpPr>
          <p:spPr>
            <a:xfrm flipH="1" flipV="1">
              <a:off x="6313320" y="2865600"/>
              <a:ext cx="1140480" cy="360000"/>
            </a:xfrm>
            <a:prstGeom prst="line">
              <a:avLst/>
            </a:prstGeom>
            <a:ln w="33480">
              <a:solidFill>
                <a:srgbClr val="cf0e3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50" name=""/>
          <p:cNvSpPr/>
          <p:nvPr/>
        </p:nvSpPr>
        <p:spPr>
          <a:xfrm>
            <a:off x="5246640" y="2143080"/>
            <a:ext cx="1554120" cy="5032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1" name=""/>
          <p:cNvSpPr/>
          <p:nvPr/>
        </p:nvSpPr>
        <p:spPr>
          <a:xfrm>
            <a:off x="5294520" y="2181240"/>
            <a:ext cx="1441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Tahoma"/>
              </a:rPr>
              <a:t>Service Provider</a:t>
            </a:r>
            <a:endParaRPr b="0" lang="en-US" sz="1400" spc="-1" strike="noStrike">
              <a:solidFill>
                <a:srgbClr val="000000"/>
              </a:solidFill>
              <a:latin typeface="Times New Roman"/>
            </a:endParaRPr>
          </a:p>
        </p:txBody>
      </p:sp>
      <p:sp>
        <p:nvSpPr>
          <p:cNvPr id="352" name=""/>
          <p:cNvSpPr/>
          <p:nvPr/>
        </p:nvSpPr>
        <p:spPr>
          <a:xfrm>
            <a:off x="5289840" y="2398680"/>
            <a:ext cx="1450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Tahoma"/>
              </a:rPr>
              <a:t>Shared Network</a:t>
            </a:r>
            <a:endParaRPr b="0" lang="en-US" sz="1400" spc="-1" strike="noStrike">
              <a:solidFill>
                <a:srgbClr val="000000"/>
              </a:solidFill>
              <a:latin typeface="Times New Roman"/>
            </a:endParaRPr>
          </a:p>
        </p:txBody>
      </p:sp>
      <p:grpSp>
        <p:nvGrpSpPr>
          <p:cNvPr id="353" name=""/>
          <p:cNvGrpSpPr/>
          <p:nvPr/>
        </p:nvGrpSpPr>
        <p:grpSpPr>
          <a:xfrm>
            <a:off x="6442200" y="3419640"/>
            <a:ext cx="661680" cy="813960"/>
            <a:chOff x="6442200" y="3419640"/>
            <a:chExt cx="661680" cy="813960"/>
          </a:xfrm>
        </p:grpSpPr>
        <p:sp>
          <p:nvSpPr>
            <p:cNvPr id="354" name=""/>
            <p:cNvSpPr/>
            <p:nvPr/>
          </p:nvSpPr>
          <p:spPr>
            <a:xfrm>
              <a:off x="6898320" y="3789000"/>
              <a:ext cx="57240" cy="46440"/>
            </a:xfrm>
            <a:custGeom>
              <a:avLst/>
              <a:gdLst/>
              <a:ahLst/>
              <a:rect l="l" t="t" r="r" b="b"/>
              <a:pathLst>
                <a:path w="128" h="105">
                  <a:moveTo>
                    <a:pt x="69" y="0"/>
                  </a:moveTo>
                  <a:lnTo>
                    <a:pt x="128" y="27"/>
                  </a:lnTo>
                  <a:lnTo>
                    <a:pt x="43" y="105"/>
                  </a:lnTo>
                  <a:lnTo>
                    <a:pt x="0" y="88"/>
                  </a:lnTo>
                  <a:lnTo>
                    <a:pt x="69"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5" name=""/>
            <p:cNvSpPr/>
            <p:nvPr/>
          </p:nvSpPr>
          <p:spPr>
            <a:xfrm>
              <a:off x="6898320" y="3789000"/>
              <a:ext cx="57240" cy="46440"/>
            </a:xfrm>
            <a:custGeom>
              <a:avLst/>
              <a:gdLst/>
              <a:ahLst/>
              <a:rect l="l" t="t" r="r" b="b"/>
              <a:pathLst>
                <a:path w="128" h="105">
                  <a:moveTo>
                    <a:pt x="69" y="0"/>
                  </a:moveTo>
                  <a:lnTo>
                    <a:pt x="128" y="27"/>
                  </a:lnTo>
                  <a:lnTo>
                    <a:pt x="43" y="105"/>
                  </a:lnTo>
                  <a:lnTo>
                    <a:pt x="0" y="88"/>
                  </a:lnTo>
                  <a:lnTo>
                    <a:pt x="69" y="0"/>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6" name=""/>
            <p:cNvSpPr/>
            <p:nvPr/>
          </p:nvSpPr>
          <p:spPr>
            <a:xfrm>
              <a:off x="6898320" y="3776760"/>
              <a:ext cx="46440" cy="59040"/>
            </a:xfrm>
            <a:custGeom>
              <a:avLst/>
              <a:gdLst/>
              <a:ahLst/>
              <a:rect l="l" t="t" r="r" b="b"/>
              <a:pathLst>
                <a:path w="102" h="131">
                  <a:moveTo>
                    <a:pt x="60" y="0"/>
                  </a:moveTo>
                  <a:lnTo>
                    <a:pt x="102" y="44"/>
                  </a:lnTo>
                  <a:lnTo>
                    <a:pt x="17" y="131"/>
                  </a:lnTo>
                  <a:lnTo>
                    <a:pt x="0" y="88"/>
                  </a:lnTo>
                  <a:lnTo>
                    <a:pt x="60" y="0"/>
                  </a:lnTo>
                  <a:close/>
                </a:path>
              </a:pathLst>
            </a:custGeom>
            <a:no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7" name=""/>
            <p:cNvSpPr/>
            <p:nvPr/>
          </p:nvSpPr>
          <p:spPr>
            <a:xfrm>
              <a:off x="6452640" y="3430440"/>
              <a:ext cx="503280" cy="803160"/>
            </a:xfrm>
            <a:custGeom>
              <a:avLst/>
              <a:gdLst/>
              <a:ahLst/>
              <a:rect l="l" t="t" r="r" b="b"/>
              <a:pathLst>
                <a:path w="1130" h="1799">
                  <a:moveTo>
                    <a:pt x="1130" y="79"/>
                  </a:moveTo>
                  <a:lnTo>
                    <a:pt x="1054" y="17"/>
                  </a:lnTo>
                  <a:lnTo>
                    <a:pt x="959" y="0"/>
                  </a:lnTo>
                  <a:lnTo>
                    <a:pt x="915" y="0"/>
                  </a:lnTo>
                  <a:lnTo>
                    <a:pt x="872" y="9"/>
                  </a:lnTo>
                  <a:lnTo>
                    <a:pt x="837" y="44"/>
                  </a:lnTo>
                  <a:lnTo>
                    <a:pt x="794" y="105"/>
                  </a:lnTo>
                  <a:lnTo>
                    <a:pt x="734" y="184"/>
                  </a:lnTo>
                  <a:lnTo>
                    <a:pt x="725" y="219"/>
                  </a:lnTo>
                  <a:lnTo>
                    <a:pt x="760" y="236"/>
                  </a:lnTo>
                  <a:lnTo>
                    <a:pt x="812" y="262"/>
                  </a:lnTo>
                  <a:lnTo>
                    <a:pt x="742" y="297"/>
                  </a:lnTo>
                  <a:lnTo>
                    <a:pt x="716" y="324"/>
                  </a:lnTo>
                  <a:lnTo>
                    <a:pt x="561" y="506"/>
                  </a:lnTo>
                  <a:lnTo>
                    <a:pt x="535" y="550"/>
                  </a:lnTo>
                  <a:lnTo>
                    <a:pt x="535" y="585"/>
                  </a:lnTo>
                  <a:lnTo>
                    <a:pt x="587" y="628"/>
                  </a:lnTo>
                  <a:lnTo>
                    <a:pt x="346" y="1040"/>
                  </a:lnTo>
                  <a:lnTo>
                    <a:pt x="320" y="1092"/>
                  </a:lnTo>
                  <a:lnTo>
                    <a:pt x="320" y="1118"/>
                  </a:lnTo>
                  <a:lnTo>
                    <a:pt x="457" y="1179"/>
                  </a:lnTo>
                  <a:lnTo>
                    <a:pt x="431" y="1171"/>
                  </a:lnTo>
                  <a:lnTo>
                    <a:pt x="354" y="1188"/>
                  </a:lnTo>
                  <a:lnTo>
                    <a:pt x="190" y="1223"/>
                  </a:lnTo>
                  <a:lnTo>
                    <a:pt x="121" y="1206"/>
                  </a:lnTo>
                  <a:lnTo>
                    <a:pt x="52" y="1214"/>
                  </a:lnTo>
                  <a:lnTo>
                    <a:pt x="0" y="1258"/>
                  </a:lnTo>
                  <a:lnTo>
                    <a:pt x="8" y="1284"/>
                  </a:lnTo>
                  <a:lnTo>
                    <a:pt x="60" y="1284"/>
                  </a:lnTo>
                  <a:lnTo>
                    <a:pt x="52" y="1414"/>
                  </a:lnTo>
                  <a:lnTo>
                    <a:pt x="86" y="1502"/>
                  </a:lnTo>
                  <a:lnTo>
                    <a:pt x="129" y="1484"/>
                  </a:lnTo>
                  <a:lnTo>
                    <a:pt x="147" y="1406"/>
                  </a:lnTo>
                  <a:lnTo>
                    <a:pt x="173" y="1344"/>
                  </a:lnTo>
                  <a:lnTo>
                    <a:pt x="259" y="1319"/>
                  </a:lnTo>
                  <a:lnTo>
                    <a:pt x="346" y="1319"/>
                  </a:lnTo>
                  <a:lnTo>
                    <a:pt x="405" y="1311"/>
                  </a:lnTo>
                  <a:lnTo>
                    <a:pt x="665" y="1284"/>
                  </a:lnTo>
                  <a:lnTo>
                    <a:pt x="630" y="1353"/>
                  </a:lnTo>
                  <a:lnTo>
                    <a:pt x="621" y="1432"/>
                  </a:lnTo>
                  <a:lnTo>
                    <a:pt x="604" y="1607"/>
                  </a:lnTo>
                  <a:lnTo>
                    <a:pt x="561" y="1668"/>
                  </a:lnTo>
                  <a:lnTo>
                    <a:pt x="543" y="1729"/>
                  </a:lnTo>
                  <a:lnTo>
                    <a:pt x="569" y="1799"/>
                  </a:lnTo>
                  <a:lnTo>
                    <a:pt x="595" y="1799"/>
                  </a:lnTo>
                  <a:lnTo>
                    <a:pt x="613" y="1755"/>
                  </a:lnTo>
                  <a:lnTo>
                    <a:pt x="725" y="1799"/>
                  </a:lnTo>
                  <a:lnTo>
                    <a:pt x="829" y="1799"/>
                  </a:lnTo>
                  <a:lnTo>
                    <a:pt x="820" y="1747"/>
                  </a:lnTo>
                  <a:lnTo>
                    <a:pt x="751" y="1703"/>
                  </a:lnTo>
                  <a:lnTo>
                    <a:pt x="708" y="1659"/>
                  </a:lnTo>
                  <a:lnTo>
                    <a:pt x="716" y="1572"/>
                  </a:lnTo>
                  <a:lnTo>
                    <a:pt x="768" y="1371"/>
                  </a:lnTo>
                  <a:lnTo>
                    <a:pt x="812" y="1284"/>
                  </a:lnTo>
                  <a:lnTo>
                    <a:pt x="812" y="1249"/>
                  </a:lnTo>
                  <a:lnTo>
                    <a:pt x="846" y="1232"/>
                  </a:lnTo>
                  <a:lnTo>
                    <a:pt x="881" y="1214"/>
                  </a:lnTo>
                  <a:lnTo>
                    <a:pt x="820" y="821"/>
                  </a:lnTo>
                  <a:lnTo>
                    <a:pt x="837" y="733"/>
                  </a:lnTo>
                  <a:lnTo>
                    <a:pt x="1002" y="865"/>
                  </a:lnTo>
                  <a:lnTo>
                    <a:pt x="1019" y="847"/>
                  </a:lnTo>
                  <a:lnTo>
                    <a:pt x="1036" y="873"/>
                  </a:lnTo>
                  <a:lnTo>
                    <a:pt x="1054" y="882"/>
                  </a:lnTo>
                  <a:lnTo>
                    <a:pt x="1104" y="882"/>
                  </a:lnTo>
                  <a:lnTo>
                    <a:pt x="1113" y="856"/>
                  </a:lnTo>
                  <a:lnTo>
                    <a:pt x="1113" y="830"/>
                  </a:lnTo>
                  <a:lnTo>
                    <a:pt x="1062" y="795"/>
                  </a:lnTo>
                  <a:lnTo>
                    <a:pt x="1071" y="777"/>
                  </a:lnTo>
                  <a:lnTo>
                    <a:pt x="933" y="672"/>
                  </a:lnTo>
                  <a:lnTo>
                    <a:pt x="872" y="620"/>
                  </a:lnTo>
                  <a:lnTo>
                    <a:pt x="898" y="576"/>
                  </a:lnTo>
                  <a:lnTo>
                    <a:pt x="924" y="559"/>
                  </a:lnTo>
                  <a:lnTo>
                    <a:pt x="933" y="524"/>
                  </a:lnTo>
                  <a:lnTo>
                    <a:pt x="933" y="480"/>
                  </a:lnTo>
                  <a:lnTo>
                    <a:pt x="924" y="420"/>
                  </a:lnTo>
                  <a:lnTo>
                    <a:pt x="924" y="341"/>
                  </a:lnTo>
                  <a:lnTo>
                    <a:pt x="941" y="315"/>
                  </a:lnTo>
                  <a:lnTo>
                    <a:pt x="959" y="289"/>
                  </a:lnTo>
                  <a:lnTo>
                    <a:pt x="1036" y="306"/>
                  </a:lnTo>
                  <a:lnTo>
                    <a:pt x="1054" y="289"/>
                  </a:lnTo>
                  <a:lnTo>
                    <a:pt x="1062" y="254"/>
                  </a:lnTo>
                  <a:lnTo>
                    <a:pt x="1071" y="219"/>
                  </a:lnTo>
                  <a:lnTo>
                    <a:pt x="1096" y="210"/>
                  </a:lnTo>
                  <a:lnTo>
                    <a:pt x="1088" y="140"/>
                  </a:lnTo>
                  <a:lnTo>
                    <a:pt x="1088" y="105"/>
                  </a:lnTo>
                  <a:lnTo>
                    <a:pt x="1130" y="79"/>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8" name=""/>
            <p:cNvSpPr/>
            <p:nvPr/>
          </p:nvSpPr>
          <p:spPr>
            <a:xfrm>
              <a:off x="6452640" y="3430440"/>
              <a:ext cx="503280" cy="803160"/>
            </a:xfrm>
            <a:custGeom>
              <a:avLst/>
              <a:gdLst/>
              <a:ahLst/>
              <a:rect l="l" t="t" r="r" b="b"/>
              <a:pathLst>
                <a:path w="1130" h="1799">
                  <a:moveTo>
                    <a:pt x="1130" y="79"/>
                  </a:moveTo>
                  <a:lnTo>
                    <a:pt x="1054" y="17"/>
                  </a:lnTo>
                  <a:lnTo>
                    <a:pt x="959" y="0"/>
                  </a:lnTo>
                  <a:lnTo>
                    <a:pt x="915" y="0"/>
                  </a:lnTo>
                  <a:lnTo>
                    <a:pt x="872" y="9"/>
                  </a:lnTo>
                  <a:lnTo>
                    <a:pt x="837" y="44"/>
                  </a:lnTo>
                  <a:lnTo>
                    <a:pt x="794" y="105"/>
                  </a:lnTo>
                  <a:lnTo>
                    <a:pt x="734" y="184"/>
                  </a:lnTo>
                  <a:lnTo>
                    <a:pt x="725" y="219"/>
                  </a:lnTo>
                  <a:lnTo>
                    <a:pt x="760" y="236"/>
                  </a:lnTo>
                  <a:lnTo>
                    <a:pt x="812" y="262"/>
                  </a:lnTo>
                  <a:lnTo>
                    <a:pt x="742" y="297"/>
                  </a:lnTo>
                  <a:lnTo>
                    <a:pt x="716" y="324"/>
                  </a:lnTo>
                  <a:lnTo>
                    <a:pt x="561" y="506"/>
                  </a:lnTo>
                  <a:lnTo>
                    <a:pt x="535" y="550"/>
                  </a:lnTo>
                  <a:lnTo>
                    <a:pt x="535" y="585"/>
                  </a:lnTo>
                  <a:lnTo>
                    <a:pt x="587" y="628"/>
                  </a:lnTo>
                  <a:lnTo>
                    <a:pt x="346" y="1040"/>
                  </a:lnTo>
                  <a:lnTo>
                    <a:pt x="320" y="1092"/>
                  </a:lnTo>
                  <a:lnTo>
                    <a:pt x="320" y="1118"/>
                  </a:lnTo>
                  <a:lnTo>
                    <a:pt x="457" y="1179"/>
                  </a:lnTo>
                  <a:lnTo>
                    <a:pt x="431" y="1171"/>
                  </a:lnTo>
                  <a:lnTo>
                    <a:pt x="354" y="1188"/>
                  </a:lnTo>
                  <a:lnTo>
                    <a:pt x="190" y="1223"/>
                  </a:lnTo>
                  <a:lnTo>
                    <a:pt x="121" y="1206"/>
                  </a:lnTo>
                  <a:lnTo>
                    <a:pt x="52" y="1214"/>
                  </a:lnTo>
                  <a:lnTo>
                    <a:pt x="0" y="1258"/>
                  </a:lnTo>
                  <a:lnTo>
                    <a:pt x="8" y="1284"/>
                  </a:lnTo>
                  <a:lnTo>
                    <a:pt x="60" y="1284"/>
                  </a:lnTo>
                  <a:lnTo>
                    <a:pt x="52" y="1414"/>
                  </a:lnTo>
                  <a:lnTo>
                    <a:pt x="86" y="1502"/>
                  </a:lnTo>
                  <a:lnTo>
                    <a:pt x="129" y="1484"/>
                  </a:lnTo>
                  <a:lnTo>
                    <a:pt x="147" y="1406"/>
                  </a:lnTo>
                  <a:lnTo>
                    <a:pt x="173" y="1344"/>
                  </a:lnTo>
                  <a:lnTo>
                    <a:pt x="259" y="1319"/>
                  </a:lnTo>
                  <a:lnTo>
                    <a:pt x="346" y="1319"/>
                  </a:lnTo>
                  <a:lnTo>
                    <a:pt x="405" y="1311"/>
                  </a:lnTo>
                  <a:lnTo>
                    <a:pt x="665" y="1284"/>
                  </a:lnTo>
                  <a:lnTo>
                    <a:pt x="630" y="1353"/>
                  </a:lnTo>
                  <a:lnTo>
                    <a:pt x="621" y="1432"/>
                  </a:lnTo>
                  <a:lnTo>
                    <a:pt x="604" y="1607"/>
                  </a:lnTo>
                  <a:lnTo>
                    <a:pt x="561" y="1668"/>
                  </a:lnTo>
                  <a:lnTo>
                    <a:pt x="543" y="1729"/>
                  </a:lnTo>
                  <a:lnTo>
                    <a:pt x="569" y="1799"/>
                  </a:lnTo>
                  <a:lnTo>
                    <a:pt x="595" y="1799"/>
                  </a:lnTo>
                  <a:lnTo>
                    <a:pt x="613" y="1755"/>
                  </a:lnTo>
                  <a:lnTo>
                    <a:pt x="725" y="1799"/>
                  </a:lnTo>
                  <a:lnTo>
                    <a:pt x="829" y="1799"/>
                  </a:lnTo>
                  <a:lnTo>
                    <a:pt x="820" y="1747"/>
                  </a:lnTo>
                  <a:lnTo>
                    <a:pt x="751" y="1703"/>
                  </a:lnTo>
                  <a:lnTo>
                    <a:pt x="708" y="1659"/>
                  </a:lnTo>
                  <a:lnTo>
                    <a:pt x="716" y="1572"/>
                  </a:lnTo>
                  <a:lnTo>
                    <a:pt x="768" y="1371"/>
                  </a:lnTo>
                  <a:lnTo>
                    <a:pt x="812" y="1284"/>
                  </a:lnTo>
                  <a:lnTo>
                    <a:pt x="812" y="1249"/>
                  </a:lnTo>
                  <a:lnTo>
                    <a:pt x="846" y="1232"/>
                  </a:lnTo>
                  <a:lnTo>
                    <a:pt x="881" y="1214"/>
                  </a:lnTo>
                  <a:lnTo>
                    <a:pt x="820" y="821"/>
                  </a:lnTo>
                  <a:lnTo>
                    <a:pt x="837" y="733"/>
                  </a:lnTo>
                  <a:lnTo>
                    <a:pt x="1002" y="865"/>
                  </a:lnTo>
                  <a:lnTo>
                    <a:pt x="1019" y="847"/>
                  </a:lnTo>
                  <a:lnTo>
                    <a:pt x="1036" y="873"/>
                  </a:lnTo>
                  <a:lnTo>
                    <a:pt x="1054" y="882"/>
                  </a:lnTo>
                  <a:lnTo>
                    <a:pt x="1104" y="882"/>
                  </a:lnTo>
                  <a:lnTo>
                    <a:pt x="1113" y="856"/>
                  </a:lnTo>
                  <a:lnTo>
                    <a:pt x="1113" y="830"/>
                  </a:lnTo>
                  <a:lnTo>
                    <a:pt x="1062" y="795"/>
                  </a:lnTo>
                  <a:lnTo>
                    <a:pt x="1071" y="777"/>
                  </a:lnTo>
                  <a:lnTo>
                    <a:pt x="933" y="672"/>
                  </a:lnTo>
                  <a:lnTo>
                    <a:pt x="872" y="620"/>
                  </a:lnTo>
                  <a:lnTo>
                    <a:pt x="898" y="576"/>
                  </a:lnTo>
                  <a:lnTo>
                    <a:pt x="924" y="559"/>
                  </a:lnTo>
                  <a:lnTo>
                    <a:pt x="933" y="524"/>
                  </a:lnTo>
                  <a:lnTo>
                    <a:pt x="933" y="480"/>
                  </a:lnTo>
                  <a:lnTo>
                    <a:pt x="924" y="420"/>
                  </a:lnTo>
                  <a:lnTo>
                    <a:pt x="924" y="341"/>
                  </a:lnTo>
                  <a:lnTo>
                    <a:pt x="941" y="315"/>
                  </a:lnTo>
                  <a:lnTo>
                    <a:pt x="959" y="289"/>
                  </a:lnTo>
                  <a:lnTo>
                    <a:pt x="1036" y="306"/>
                  </a:lnTo>
                  <a:lnTo>
                    <a:pt x="1054" y="289"/>
                  </a:lnTo>
                  <a:lnTo>
                    <a:pt x="1062" y="254"/>
                  </a:lnTo>
                  <a:lnTo>
                    <a:pt x="1071" y="219"/>
                  </a:lnTo>
                  <a:lnTo>
                    <a:pt x="1096" y="210"/>
                  </a:lnTo>
                  <a:lnTo>
                    <a:pt x="1088" y="140"/>
                  </a:lnTo>
                  <a:lnTo>
                    <a:pt x="1088" y="105"/>
                  </a:lnTo>
                  <a:lnTo>
                    <a:pt x="1130" y="79"/>
                  </a:lnTo>
                  <a:close/>
                </a:path>
              </a:pathLst>
            </a:custGeom>
            <a:solidFill>
              <a:srgbClr val="000000"/>
            </a:solid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59" name=""/>
            <p:cNvSpPr/>
            <p:nvPr/>
          </p:nvSpPr>
          <p:spPr>
            <a:xfrm>
              <a:off x="6868440" y="3789000"/>
              <a:ext cx="235440" cy="217800"/>
            </a:xfrm>
            <a:custGeom>
              <a:avLst/>
              <a:gdLst/>
              <a:ahLst/>
              <a:rect l="l" t="t" r="r" b="b"/>
              <a:pathLst>
                <a:path w="526" h="490">
                  <a:moveTo>
                    <a:pt x="86" y="88"/>
                  </a:moveTo>
                  <a:lnTo>
                    <a:pt x="77" y="123"/>
                  </a:lnTo>
                  <a:lnTo>
                    <a:pt x="95" y="158"/>
                  </a:lnTo>
                  <a:lnTo>
                    <a:pt x="8" y="210"/>
                  </a:lnTo>
                  <a:lnTo>
                    <a:pt x="0" y="237"/>
                  </a:lnTo>
                  <a:lnTo>
                    <a:pt x="138" y="481"/>
                  </a:lnTo>
                  <a:lnTo>
                    <a:pt x="163" y="490"/>
                  </a:lnTo>
                  <a:lnTo>
                    <a:pt x="526" y="298"/>
                  </a:lnTo>
                  <a:lnTo>
                    <a:pt x="526" y="280"/>
                  </a:lnTo>
                  <a:lnTo>
                    <a:pt x="396" y="18"/>
                  </a:lnTo>
                  <a:lnTo>
                    <a:pt x="362" y="0"/>
                  </a:lnTo>
                  <a:lnTo>
                    <a:pt x="275" y="53"/>
                  </a:lnTo>
                  <a:lnTo>
                    <a:pt x="241" y="18"/>
                  </a:lnTo>
                  <a:lnTo>
                    <a:pt x="206" y="9"/>
                  </a:lnTo>
                  <a:lnTo>
                    <a:pt x="86" y="88"/>
                  </a:lnTo>
                  <a:lnTo>
                    <a:pt x="86" y="88"/>
                  </a:lnTo>
                  <a:lnTo>
                    <a:pt x="129" y="88"/>
                  </a:lnTo>
                  <a:lnTo>
                    <a:pt x="121" y="97"/>
                  </a:lnTo>
                  <a:lnTo>
                    <a:pt x="121" y="123"/>
                  </a:lnTo>
                  <a:lnTo>
                    <a:pt x="129" y="140"/>
                  </a:lnTo>
                  <a:lnTo>
                    <a:pt x="249" y="70"/>
                  </a:lnTo>
                  <a:lnTo>
                    <a:pt x="232" y="44"/>
                  </a:lnTo>
                  <a:lnTo>
                    <a:pt x="206" y="44"/>
                  </a:lnTo>
                  <a:lnTo>
                    <a:pt x="129" y="88"/>
                  </a:lnTo>
                  <a:lnTo>
                    <a:pt x="86" y="88"/>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0" name=""/>
            <p:cNvSpPr/>
            <p:nvPr/>
          </p:nvSpPr>
          <p:spPr>
            <a:xfrm>
              <a:off x="6868440" y="3789000"/>
              <a:ext cx="235440" cy="217800"/>
            </a:xfrm>
            <a:custGeom>
              <a:avLst/>
              <a:gdLst/>
              <a:ahLst/>
              <a:rect l="l" t="t" r="r" b="b"/>
              <a:pathLst>
                <a:path w="526" h="490">
                  <a:moveTo>
                    <a:pt x="86" y="88"/>
                  </a:moveTo>
                  <a:lnTo>
                    <a:pt x="77" y="123"/>
                  </a:lnTo>
                  <a:lnTo>
                    <a:pt x="95" y="158"/>
                  </a:lnTo>
                  <a:lnTo>
                    <a:pt x="8" y="210"/>
                  </a:lnTo>
                  <a:lnTo>
                    <a:pt x="0" y="237"/>
                  </a:lnTo>
                  <a:lnTo>
                    <a:pt x="138" y="481"/>
                  </a:lnTo>
                  <a:lnTo>
                    <a:pt x="163" y="490"/>
                  </a:lnTo>
                  <a:lnTo>
                    <a:pt x="526" y="298"/>
                  </a:lnTo>
                  <a:lnTo>
                    <a:pt x="526" y="280"/>
                  </a:lnTo>
                  <a:lnTo>
                    <a:pt x="396" y="18"/>
                  </a:lnTo>
                  <a:lnTo>
                    <a:pt x="362" y="0"/>
                  </a:lnTo>
                  <a:lnTo>
                    <a:pt x="275" y="53"/>
                  </a:lnTo>
                  <a:lnTo>
                    <a:pt x="241" y="18"/>
                  </a:lnTo>
                  <a:lnTo>
                    <a:pt x="206" y="9"/>
                  </a:lnTo>
                  <a:lnTo>
                    <a:pt x="86" y="88"/>
                  </a:lnTo>
                  <a:lnTo>
                    <a:pt x="129" y="88"/>
                  </a:lnTo>
                  <a:lnTo>
                    <a:pt x="121" y="97"/>
                  </a:lnTo>
                  <a:lnTo>
                    <a:pt x="121" y="123"/>
                  </a:lnTo>
                  <a:lnTo>
                    <a:pt x="129" y="140"/>
                  </a:lnTo>
                  <a:lnTo>
                    <a:pt x="249" y="70"/>
                  </a:lnTo>
                  <a:lnTo>
                    <a:pt x="232" y="44"/>
                  </a:lnTo>
                  <a:lnTo>
                    <a:pt x="206" y="44"/>
                  </a:lnTo>
                  <a:lnTo>
                    <a:pt x="129" y="88"/>
                  </a:lnTo>
                  <a:lnTo>
                    <a:pt x="86" y="88"/>
                  </a:lnTo>
                  <a:close/>
                </a:path>
              </a:pathLst>
            </a:custGeom>
            <a:solidFill>
              <a:srgbClr val="000000"/>
            </a:solid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1" name=""/>
            <p:cNvSpPr/>
            <p:nvPr/>
          </p:nvSpPr>
          <p:spPr>
            <a:xfrm>
              <a:off x="6868440" y="3789000"/>
              <a:ext cx="235440" cy="217800"/>
            </a:xfrm>
            <a:custGeom>
              <a:avLst/>
              <a:gdLst/>
              <a:ahLst/>
              <a:rect l="l" t="t" r="r" b="b"/>
              <a:pathLst>
                <a:path w="526" h="490">
                  <a:moveTo>
                    <a:pt x="95" y="158"/>
                  </a:moveTo>
                  <a:lnTo>
                    <a:pt x="8" y="210"/>
                  </a:lnTo>
                  <a:lnTo>
                    <a:pt x="0" y="237"/>
                  </a:lnTo>
                  <a:lnTo>
                    <a:pt x="138" y="481"/>
                  </a:lnTo>
                  <a:lnTo>
                    <a:pt x="163" y="490"/>
                  </a:lnTo>
                  <a:lnTo>
                    <a:pt x="526" y="298"/>
                  </a:lnTo>
                  <a:lnTo>
                    <a:pt x="526" y="280"/>
                  </a:lnTo>
                  <a:lnTo>
                    <a:pt x="396" y="18"/>
                  </a:lnTo>
                  <a:lnTo>
                    <a:pt x="362" y="0"/>
                  </a:lnTo>
                  <a:lnTo>
                    <a:pt x="275" y="53"/>
                  </a:lnTo>
                  <a:lnTo>
                    <a:pt x="241" y="18"/>
                  </a:lnTo>
                  <a:lnTo>
                    <a:pt x="206" y="9"/>
                  </a:lnTo>
                  <a:lnTo>
                    <a:pt x="86" y="88"/>
                  </a:lnTo>
                  <a:lnTo>
                    <a:pt x="77" y="123"/>
                  </a:lnTo>
                  <a:lnTo>
                    <a:pt x="95" y="158"/>
                  </a:lnTo>
                  <a:close/>
                </a:path>
              </a:pathLst>
            </a:custGeom>
            <a:no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2" name=""/>
            <p:cNvSpPr/>
            <p:nvPr/>
          </p:nvSpPr>
          <p:spPr>
            <a:xfrm>
              <a:off x="6922080" y="3809160"/>
              <a:ext cx="56880" cy="42480"/>
            </a:xfrm>
            <a:custGeom>
              <a:avLst/>
              <a:gdLst/>
              <a:ahLst/>
              <a:rect l="l" t="t" r="r" b="b"/>
              <a:pathLst>
                <a:path w="128" h="96">
                  <a:moveTo>
                    <a:pt x="8" y="96"/>
                  </a:moveTo>
                  <a:lnTo>
                    <a:pt x="128" y="26"/>
                  </a:lnTo>
                  <a:lnTo>
                    <a:pt x="111" y="0"/>
                  </a:lnTo>
                  <a:lnTo>
                    <a:pt x="85" y="0"/>
                  </a:lnTo>
                  <a:lnTo>
                    <a:pt x="0" y="53"/>
                  </a:lnTo>
                  <a:lnTo>
                    <a:pt x="0" y="79"/>
                  </a:lnTo>
                  <a:lnTo>
                    <a:pt x="8" y="96"/>
                  </a:lnTo>
                  <a:close/>
                </a:path>
              </a:pathLst>
            </a:custGeom>
            <a:no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3" name=""/>
            <p:cNvSpPr/>
            <p:nvPr/>
          </p:nvSpPr>
          <p:spPr>
            <a:xfrm>
              <a:off x="6918120" y="3796560"/>
              <a:ext cx="42840" cy="35280"/>
            </a:xfrm>
            <a:custGeom>
              <a:avLst/>
              <a:gdLst/>
              <a:ahLst/>
              <a:rect l="l" t="t" r="r" b="b"/>
              <a:pathLst>
                <a:path w="94" h="79">
                  <a:moveTo>
                    <a:pt x="85" y="9"/>
                  </a:moveTo>
                  <a:lnTo>
                    <a:pt x="43" y="0"/>
                  </a:lnTo>
                  <a:lnTo>
                    <a:pt x="17" y="35"/>
                  </a:lnTo>
                  <a:lnTo>
                    <a:pt x="0" y="61"/>
                  </a:lnTo>
                  <a:lnTo>
                    <a:pt x="17" y="79"/>
                  </a:lnTo>
                  <a:lnTo>
                    <a:pt x="43" y="79"/>
                  </a:lnTo>
                  <a:lnTo>
                    <a:pt x="68" y="70"/>
                  </a:lnTo>
                  <a:lnTo>
                    <a:pt x="85" y="52"/>
                  </a:lnTo>
                  <a:lnTo>
                    <a:pt x="94" y="35"/>
                  </a:lnTo>
                  <a:lnTo>
                    <a:pt x="85" y="9"/>
                  </a:lnTo>
                  <a:close/>
                </a:path>
              </a:pathLst>
            </a:custGeom>
            <a:solidFill>
              <a:srgbClr val="000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4" name=""/>
            <p:cNvSpPr/>
            <p:nvPr/>
          </p:nvSpPr>
          <p:spPr>
            <a:xfrm>
              <a:off x="6918120" y="3796560"/>
              <a:ext cx="42840" cy="35280"/>
            </a:xfrm>
            <a:custGeom>
              <a:avLst/>
              <a:gdLst/>
              <a:ahLst/>
              <a:rect l="l" t="t" r="r" b="b"/>
              <a:pathLst>
                <a:path w="94" h="79">
                  <a:moveTo>
                    <a:pt x="85" y="9"/>
                  </a:moveTo>
                  <a:lnTo>
                    <a:pt x="43" y="0"/>
                  </a:lnTo>
                  <a:lnTo>
                    <a:pt x="17" y="35"/>
                  </a:lnTo>
                  <a:lnTo>
                    <a:pt x="0" y="61"/>
                  </a:lnTo>
                  <a:lnTo>
                    <a:pt x="17" y="79"/>
                  </a:lnTo>
                  <a:lnTo>
                    <a:pt x="43" y="79"/>
                  </a:lnTo>
                  <a:lnTo>
                    <a:pt x="68" y="70"/>
                  </a:lnTo>
                  <a:lnTo>
                    <a:pt x="85" y="52"/>
                  </a:lnTo>
                  <a:lnTo>
                    <a:pt x="94" y="35"/>
                  </a:lnTo>
                  <a:lnTo>
                    <a:pt x="85" y="9"/>
                  </a:lnTo>
                  <a:close/>
                </a:path>
              </a:pathLst>
            </a:custGeom>
            <a:solidFill>
              <a:srgbClr val="000000"/>
            </a:solid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5" name=""/>
            <p:cNvSpPr/>
            <p:nvPr/>
          </p:nvSpPr>
          <p:spPr>
            <a:xfrm>
              <a:off x="6889680" y="3778560"/>
              <a:ext cx="57240" cy="46080"/>
            </a:xfrm>
            <a:custGeom>
              <a:avLst/>
              <a:gdLst/>
              <a:ahLst/>
              <a:rect l="l" t="t" r="r" b="b"/>
              <a:pathLst>
                <a:path w="129" h="105">
                  <a:moveTo>
                    <a:pt x="69" y="0"/>
                  </a:moveTo>
                  <a:lnTo>
                    <a:pt x="129" y="27"/>
                  </a:lnTo>
                  <a:lnTo>
                    <a:pt x="43" y="105"/>
                  </a:lnTo>
                  <a:lnTo>
                    <a:pt x="0" y="88"/>
                  </a:lnTo>
                  <a:lnTo>
                    <a:pt x="69"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6" name=""/>
            <p:cNvSpPr/>
            <p:nvPr/>
          </p:nvSpPr>
          <p:spPr>
            <a:xfrm>
              <a:off x="6889680" y="3778560"/>
              <a:ext cx="57240" cy="46080"/>
            </a:xfrm>
            <a:custGeom>
              <a:avLst/>
              <a:gdLst/>
              <a:ahLst/>
              <a:rect l="l" t="t" r="r" b="b"/>
              <a:pathLst>
                <a:path w="129" h="105">
                  <a:moveTo>
                    <a:pt x="69" y="0"/>
                  </a:moveTo>
                  <a:lnTo>
                    <a:pt x="129" y="27"/>
                  </a:lnTo>
                  <a:lnTo>
                    <a:pt x="43" y="105"/>
                  </a:lnTo>
                  <a:lnTo>
                    <a:pt x="0" y="88"/>
                  </a:lnTo>
                  <a:lnTo>
                    <a:pt x="69"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7" name=""/>
            <p:cNvSpPr/>
            <p:nvPr/>
          </p:nvSpPr>
          <p:spPr>
            <a:xfrm>
              <a:off x="6889680" y="3765960"/>
              <a:ext cx="44640" cy="58680"/>
            </a:xfrm>
            <a:custGeom>
              <a:avLst/>
              <a:gdLst/>
              <a:ahLst/>
              <a:rect l="l" t="t" r="r" b="b"/>
              <a:pathLst>
                <a:path w="103" h="131">
                  <a:moveTo>
                    <a:pt x="61" y="0"/>
                  </a:moveTo>
                  <a:lnTo>
                    <a:pt x="103" y="44"/>
                  </a:lnTo>
                  <a:lnTo>
                    <a:pt x="17" y="131"/>
                  </a:lnTo>
                  <a:lnTo>
                    <a:pt x="0" y="88"/>
                  </a:lnTo>
                  <a:lnTo>
                    <a:pt x="61" y="0"/>
                  </a:lnTo>
                  <a:close/>
                </a:path>
              </a:pathLst>
            </a:custGeom>
            <a:noFill/>
            <a:ln w="324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8" name=""/>
            <p:cNvSpPr/>
            <p:nvPr/>
          </p:nvSpPr>
          <p:spPr>
            <a:xfrm>
              <a:off x="6442200" y="3419640"/>
              <a:ext cx="504720" cy="803520"/>
            </a:xfrm>
            <a:custGeom>
              <a:avLst/>
              <a:gdLst/>
              <a:ahLst/>
              <a:rect l="l" t="t" r="r" b="b"/>
              <a:pathLst>
                <a:path w="1131" h="1799">
                  <a:moveTo>
                    <a:pt x="1131" y="79"/>
                  </a:moveTo>
                  <a:lnTo>
                    <a:pt x="1054" y="17"/>
                  </a:lnTo>
                  <a:lnTo>
                    <a:pt x="959" y="0"/>
                  </a:lnTo>
                  <a:lnTo>
                    <a:pt x="916" y="0"/>
                  </a:lnTo>
                  <a:lnTo>
                    <a:pt x="872" y="9"/>
                  </a:lnTo>
                  <a:lnTo>
                    <a:pt x="838" y="44"/>
                  </a:lnTo>
                  <a:lnTo>
                    <a:pt x="795" y="105"/>
                  </a:lnTo>
                  <a:lnTo>
                    <a:pt x="734" y="184"/>
                  </a:lnTo>
                  <a:lnTo>
                    <a:pt x="725" y="219"/>
                  </a:lnTo>
                  <a:lnTo>
                    <a:pt x="760" y="236"/>
                  </a:lnTo>
                  <a:lnTo>
                    <a:pt x="812" y="262"/>
                  </a:lnTo>
                  <a:lnTo>
                    <a:pt x="743" y="297"/>
                  </a:lnTo>
                  <a:lnTo>
                    <a:pt x="717" y="324"/>
                  </a:lnTo>
                  <a:lnTo>
                    <a:pt x="561" y="506"/>
                  </a:lnTo>
                  <a:lnTo>
                    <a:pt x="535" y="550"/>
                  </a:lnTo>
                  <a:lnTo>
                    <a:pt x="535" y="585"/>
                  </a:lnTo>
                  <a:lnTo>
                    <a:pt x="587" y="629"/>
                  </a:lnTo>
                  <a:lnTo>
                    <a:pt x="346" y="1040"/>
                  </a:lnTo>
                  <a:lnTo>
                    <a:pt x="320" y="1092"/>
                  </a:lnTo>
                  <a:lnTo>
                    <a:pt x="320" y="1118"/>
                  </a:lnTo>
                  <a:lnTo>
                    <a:pt x="457" y="1179"/>
                  </a:lnTo>
                  <a:lnTo>
                    <a:pt x="431" y="1171"/>
                  </a:lnTo>
                  <a:lnTo>
                    <a:pt x="355" y="1188"/>
                  </a:lnTo>
                  <a:lnTo>
                    <a:pt x="190" y="1223"/>
                  </a:lnTo>
                  <a:lnTo>
                    <a:pt x="121" y="1206"/>
                  </a:lnTo>
                  <a:lnTo>
                    <a:pt x="52" y="1214"/>
                  </a:lnTo>
                  <a:lnTo>
                    <a:pt x="0" y="1258"/>
                  </a:lnTo>
                  <a:lnTo>
                    <a:pt x="9" y="1284"/>
                  </a:lnTo>
                  <a:lnTo>
                    <a:pt x="61" y="1284"/>
                  </a:lnTo>
                  <a:lnTo>
                    <a:pt x="52" y="1414"/>
                  </a:lnTo>
                  <a:lnTo>
                    <a:pt x="86" y="1502"/>
                  </a:lnTo>
                  <a:lnTo>
                    <a:pt x="130" y="1484"/>
                  </a:lnTo>
                  <a:lnTo>
                    <a:pt x="147" y="1406"/>
                  </a:lnTo>
                  <a:lnTo>
                    <a:pt x="173" y="1345"/>
                  </a:lnTo>
                  <a:lnTo>
                    <a:pt x="259" y="1319"/>
                  </a:lnTo>
                  <a:lnTo>
                    <a:pt x="346" y="1319"/>
                  </a:lnTo>
                  <a:lnTo>
                    <a:pt x="405" y="1311"/>
                  </a:lnTo>
                  <a:lnTo>
                    <a:pt x="665" y="1284"/>
                  </a:lnTo>
                  <a:lnTo>
                    <a:pt x="630" y="1353"/>
                  </a:lnTo>
                  <a:lnTo>
                    <a:pt x="622" y="1432"/>
                  </a:lnTo>
                  <a:lnTo>
                    <a:pt x="604" y="1607"/>
                  </a:lnTo>
                  <a:lnTo>
                    <a:pt x="561" y="1668"/>
                  </a:lnTo>
                  <a:lnTo>
                    <a:pt x="544" y="1729"/>
                  </a:lnTo>
                  <a:lnTo>
                    <a:pt x="570" y="1799"/>
                  </a:lnTo>
                  <a:lnTo>
                    <a:pt x="596" y="1799"/>
                  </a:lnTo>
                  <a:lnTo>
                    <a:pt x="613" y="1756"/>
                  </a:lnTo>
                  <a:lnTo>
                    <a:pt x="725" y="1799"/>
                  </a:lnTo>
                  <a:lnTo>
                    <a:pt x="829" y="1799"/>
                  </a:lnTo>
                  <a:lnTo>
                    <a:pt x="820" y="1747"/>
                  </a:lnTo>
                  <a:lnTo>
                    <a:pt x="751" y="1703"/>
                  </a:lnTo>
                  <a:lnTo>
                    <a:pt x="708" y="1659"/>
                  </a:lnTo>
                  <a:lnTo>
                    <a:pt x="717" y="1572"/>
                  </a:lnTo>
                  <a:lnTo>
                    <a:pt x="769" y="1371"/>
                  </a:lnTo>
                  <a:lnTo>
                    <a:pt x="812" y="1284"/>
                  </a:lnTo>
                  <a:lnTo>
                    <a:pt x="812" y="1249"/>
                  </a:lnTo>
                  <a:lnTo>
                    <a:pt x="846" y="1232"/>
                  </a:lnTo>
                  <a:lnTo>
                    <a:pt x="881" y="1214"/>
                  </a:lnTo>
                  <a:lnTo>
                    <a:pt x="820" y="821"/>
                  </a:lnTo>
                  <a:lnTo>
                    <a:pt x="838" y="733"/>
                  </a:lnTo>
                  <a:lnTo>
                    <a:pt x="1002" y="865"/>
                  </a:lnTo>
                  <a:lnTo>
                    <a:pt x="1019" y="847"/>
                  </a:lnTo>
                  <a:lnTo>
                    <a:pt x="1037" y="873"/>
                  </a:lnTo>
                  <a:lnTo>
                    <a:pt x="1054" y="882"/>
                  </a:lnTo>
                  <a:lnTo>
                    <a:pt x="1105" y="882"/>
                  </a:lnTo>
                  <a:lnTo>
                    <a:pt x="1113" y="856"/>
                  </a:lnTo>
                  <a:lnTo>
                    <a:pt x="1113" y="830"/>
                  </a:lnTo>
                  <a:lnTo>
                    <a:pt x="1063" y="795"/>
                  </a:lnTo>
                  <a:lnTo>
                    <a:pt x="1071" y="777"/>
                  </a:lnTo>
                  <a:lnTo>
                    <a:pt x="933" y="672"/>
                  </a:lnTo>
                  <a:lnTo>
                    <a:pt x="872" y="620"/>
                  </a:lnTo>
                  <a:lnTo>
                    <a:pt x="898" y="576"/>
                  </a:lnTo>
                  <a:lnTo>
                    <a:pt x="924" y="559"/>
                  </a:lnTo>
                  <a:lnTo>
                    <a:pt x="933" y="524"/>
                  </a:lnTo>
                  <a:lnTo>
                    <a:pt x="933" y="480"/>
                  </a:lnTo>
                  <a:lnTo>
                    <a:pt x="924" y="420"/>
                  </a:lnTo>
                  <a:lnTo>
                    <a:pt x="924" y="341"/>
                  </a:lnTo>
                  <a:lnTo>
                    <a:pt x="942" y="315"/>
                  </a:lnTo>
                  <a:lnTo>
                    <a:pt x="959" y="289"/>
                  </a:lnTo>
                  <a:lnTo>
                    <a:pt x="1037" y="306"/>
                  </a:lnTo>
                  <a:lnTo>
                    <a:pt x="1054" y="289"/>
                  </a:lnTo>
                  <a:lnTo>
                    <a:pt x="1063" y="254"/>
                  </a:lnTo>
                  <a:lnTo>
                    <a:pt x="1071" y="219"/>
                  </a:lnTo>
                  <a:lnTo>
                    <a:pt x="1096" y="210"/>
                  </a:lnTo>
                  <a:lnTo>
                    <a:pt x="1089" y="140"/>
                  </a:lnTo>
                  <a:lnTo>
                    <a:pt x="1089" y="105"/>
                  </a:lnTo>
                  <a:lnTo>
                    <a:pt x="1131" y="79"/>
                  </a:lnTo>
                  <a:close/>
                </a:path>
              </a:pathLst>
            </a:custGeom>
            <a:solidFill>
              <a:srgbClr val="ffd255"/>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69" name=""/>
            <p:cNvSpPr/>
            <p:nvPr/>
          </p:nvSpPr>
          <p:spPr>
            <a:xfrm>
              <a:off x="6442200" y="3419640"/>
              <a:ext cx="504720" cy="803520"/>
            </a:xfrm>
            <a:custGeom>
              <a:avLst/>
              <a:gdLst/>
              <a:ahLst/>
              <a:rect l="l" t="t" r="r" b="b"/>
              <a:pathLst>
                <a:path w="1131" h="1799">
                  <a:moveTo>
                    <a:pt x="1131" y="79"/>
                  </a:moveTo>
                  <a:lnTo>
                    <a:pt x="1054" y="17"/>
                  </a:lnTo>
                  <a:lnTo>
                    <a:pt x="959" y="0"/>
                  </a:lnTo>
                  <a:lnTo>
                    <a:pt x="916" y="0"/>
                  </a:lnTo>
                  <a:lnTo>
                    <a:pt x="872" y="9"/>
                  </a:lnTo>
                  <a:lnTo>
                    <a:pt x="838" y="44"/>
                  </a:lnTo>
                  <a:lnTo>
                    <a:pt x="795" y="105"/>
                  </a:lnTo>
                  <a:lnTo>
                    <a:pt x="734" y="184"/>
                  </a:lnTo>
                  <a:lnTo>
                    <a:pt x="725" y="219"/>
                  </a:lnTo>
                  <a:lnTo>
                    <a:pt x="760" y="236"/>
                  </a:lnTo>
                  <a:lnTo>
                    <a:pt x="812" y="262"/>
                  </a:lnTo>
                  <a:lnTo>
                    <a:pt x="743" y="297"/>
                  </a:lnTo>
                  <a:lnTo>
                    <a:pt x="717" y="324"/>
                  </a:lnTo>
                  <a:lnTo>
                    <a:pt x="561" y="506"/>
                  </a:lnTo>
                  <a:lnTo>
                    <a:pt x="535" y="550"/>
                  </a:lnTo>
                  <a:lnTo>
                    <a:pt x="535" y="585"/>
                  </a:lnTo>
                  <a:lnTo>
                    <a:pt x="587" y="629"/>
                  </a:lnTo>
                  <a:lnTo>
                    <a:pt x="346" y="1040"/>
                  </a:lnTo>
                  <a:lnTo>
                    <a:pt x="320" y="1092"/>
                  </a:lnTo>
                  <a:lnTo>
                    <a:pt x="320" y="1118"/>
                  </a:lnTo>
                  <a:lnTo>
                    <a:pt x="457" y="1179"/>
                  </a:lnTo>
                  <a:lnTo>
                    <a:pt x="431" y="1171"/>
                  </a:lnTo>
                  <a:lnTo>
                    <a:pt x="355" y="1188"/>
                  </a:lnTo>
                  <a:lnTo>
                    <a:pt x="190" y="1223"/>
                  </a:lnTo>
                  <a:lnTo>
                    <a:pt x="121" y="1206"/>
                  </a:lnTo>
                  <a:lnTo>
                    <a:pt x="52" y="1214"/>
                  </a:lnTo>
                  <a:lnTo>
                    <a:pt x="0" y="1258"/>
                  </a:lnTo>
                  <a:lnTo>
                    <a:pt x="9" y="1284"/>
                  </a:lnTo>
                  <a:lnTo>
                    <a:pt x="61" y="1284"/>
                  </a:lnTo>
                  <a:lnTo>
                    <a:pt x="52" y="1414"/>
                  </a:lnTo>
                  <a:lnTo>
                    <a:pt x="86" y="1502"/>
                  </a:lnTo>
                  <a:lnTo>
                    <a:pt x="130" y="1484"/>
                  </a:lnTo>
                  <a:lnTo>
                    <a:pt x="147" y="1406"/>
                  </a:lnTo>
                  <a:lnTo>
                    <a:pt x="173" y="1345"/>
                  </a:lnTo>
                  <a:lnTo>
                    <a:pt x="259" y="1319"/>
                  </a:lnTo>
                  <a:lnTo>
                    <a:pt x="346" y="1319"/>
                  </a:lnTo>
                  <a:lnTo>
                    <a:pt x="405" y="1311"/>
                  </a:lnTo>
                  <a:lnTo>
                    <a:pt x="665" y="1284"/>
                  </a:lnTo>
                  <a:lnTo>
                    <a:pt x="630" y="1353"/>
                  </a:lnTo>
                  <a:lnTo>
                    <a:pt x="622" y="1432"/>
                  </a:lnTo>
                  <a:lnTo>
                    <a:pt x="604" y="1607"/>
                  </a:lnTo>
                  <a:lnTo>
                    <a:pt x="561" y="1668"/>
                  </a:lnTo>
                  <a:lnTo>
                    <a:pt x="544" y="1729"/>
                  </a:lnTo>
                  <a:lnTo>
                    <a:pt x="570" y="1799"/>
                  </a:lnTo>
                  <a:lnTo>
                    <a:pt x="596" y="1799"/>
                  </a:lnTo>
                  <a:lnTo>
                    <a:pt x="613" y="1756"/>
                  </a:lnTo>
                  <a:lnTo>
                    <a:pt x="725" y="1799"/>
                  </a:lnTo>
                  <a:lnTo>
                    <a:pt x="829" y="1799"/>
                  </a:lnTo>
                  <a:lnTo>
                    <a:pt x="820" y="1747"/>
                  </a:lnTo>
                  <a:lnTo>
                    <a:pt x="751" y="1703"/>
                  </a:lnTo>
                  <a:lnTo>
                    <a:pt x="708" y="1659"/>
                  </a:lnTo>
                  <a:lnTo>
                    <a:pt x="717" y="1572"/>
                  </a:lnTo>
                  <a:lnTo>
                    <a:pt x="769" y="1371"/>
                  </a:lnTo>
                  <a:lnTo>
                    <a:pt x="812" y="1284"/>
                  </a:lnTo>
                  <a:lnTo>
                    <a:pt x="812" y="1249"/>
                  </a:lnTo>
                  <a:lnTo>
                    <a:pt x="846" y="1232"/>
                  </a:lnTo>
                  <a:lnTo>
                    <a:pt x="881" y="1214"/>
                  </a:lnTo>
                  <a:lnTo>
                    <a:pt x="820" y="821"/>
                  </a:lnTo>
                  <a:lnTo>
                    <a:pt x="838" y="733"/>
                  </a:lnTo>
                  <a:lnTo>
                    <a:pt x="1002" y="865"/>
                  </a:lnTo>
                  <a:lnTo>
                    <a:pt x="1019" y="847"/>
                  </a:lnTo>
                  <a:lnTo>
                    <a:pt x="1037" y="873"/>
                  </a:lnTo>
                  <a:lnTo>
                    <a:pt x="1054" y="882"/>
                  </a:lnTo>
                  <a:lnTo>
                    <a:pt x="1105" y="882"/>
                  </a:lnTo>
                  <a:lnTo>
                    <a:pt x="1113" y="856"/>
                  </a:lnTo>
                  <a:lnTo>
                    <a:pt x="1113" y="830"/>
                  </a:lnTo>
                  <a:lnTo>
                    <a:pt x="1063" y="795"/>
                  </a:lnTo>
                  <a:lnTo>
                    <a:pt x="1071" y="777"/>
                  </a:lnTo>
                  <a:lnTo>
                    <a:pt x="933" y="672"/>
                  </a:lnTo>
                  <a:lnTo>
                    <a:pt x="872" y="620"/>
                  </a:lnTo>
                  <a:lnTo>
                    <a:pt x="898" y="576"/>
                  </a:lnTo>
                  <a:lnTo>
                    <a:pt x="924" y="559"/>
                  </a:lnTo>
                  <a:lnTo>
                    <a:pt x="933" y="524"/>
                  </a:lnTo>
                  <a:lnTo>
                    <a:pt x="933" y="480"/>
                  </a:lnTo>
                  <a:lnTo>
                    <a:pt x="924" y="420"/>
                  </a:lnTo>
                  <a:lnTo>
                    <a:pt x="924" y="341"/>
                  </a:lnTo>
                  <a:lnTo>
                    <a:pt x="942" y="315"/>
                  </a:lnTo>
                  <a:lnTo>
                    <a:pt x="959" y="289"/>
                  </a:lnTo>
                  <a:lnTo>
                    <a:pt x="1037" y="306"/>
                  </a:lnTo>
                  <a:lnTo>
                    <a:pt x="1054" y="289"/>
                  </a:lnTo>
                  <a:lnTo>
                    <a:pt x="1063" y="254"/>
                  </a:lnTo>
                  <a:lnTo>
                    <a:pt x="1071" y="219"/>
                  </a:lnTo>
                  <a:lnTo>
                    <a:pt x="1096" y="210"/>
                  </a:lnTo>
                  <a:lnTo>
                    <a:pt x="1089" y="140"/>
                  </a:lnTo>
                  <a:lnTo>
                    <a:pt x="1089" y="105"/>
                  </a:lnTo>
                  <a:lnTo>
                    <a:pt x="1131" y="79"/>
                  </a:lnTo>
                  <a:close/>
                </a:path>
              </a:pathLst>
            </a:custGeom>
            <a:solidFill>
              <a:srgbClr val="ffd255"/>
            </a:solid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0" name=""/>
            <p:cNvSpPr/>
            <p:nvPr/>
          </p:nvSpPr>
          <p:spPr>
            <a:xfrm>
              <a:off x="6857640" y="3778560"/>
              <a:ext cx="235440" cy="217800"/>
            </a:xfrm>
            <a:custGeom>
              <a:avLst/>
              <a:gdLst/>
              <a:ahLst/>
              <a:rect l="l" t="t" r="r" b="b"/>
              <a:pathLst>
                <a:path w="526" h="490">
                  <a:moveTo>
                    <a:pt x="86" y="88"/>
                  </a:moveTo>
                  <a:lnTo>
                    <a:pt x="78" y="123"/>
                  </a:lnTo>
                  <a:lnTo>
                    <a:pt x="95" y="158"/>
                  </a:lnTo>
                  <a:lnTo>
                    <a:pt x="9" y="210"/>
                  </a:lnTo>
                  <a:lnTo>
                    <a:pt x="0" y="237"/>
                  </a:lnTo>
                  <a:lnTo>
                    <a:pt x="138" y="481"/>
                  </a:lnTo>
                  <a:lnTo>
                    <a:pt x="163" y="490"/>
                  </a:lnTo>
                  <a:lnTo>
                    <a:pt x="526" y="298"/>
                  </a:lnTo>
                  <a:lnTo>
                    <a:pt x="526" y="280"/>
                  </a:lnTo>
                  <a:lnTo>
                    <a:pt x="397" y="18"/>
                  </a:lnTo>
                  <a:lnTo>
                    <a:pt x="362" y="0"/>
                  </a:lnTo>
                  <a:lnTo>
                    <a:pt x="276" y="53"/>
                  </a:lnTo>
                  <a:lnTo>
                    <a:pt x="241" y="18"/>
                  </a:lnTo>
                  <a:lnTo>
                    <a:pt x="206" y="9"/>
                  </a:lnTo>
                  <a:lnTo>
                    <a:pt x="86" y="88"/>
                  </a:lnTo>
                  <a:lnTo>
                    <a:pt x="86" y="88"/>
                  </a:lnTo>
                  <a:lnTo>
                    <a:pt x="130" y="88"/>
                  </a:lnTo>
                  <a:lnTo>
                    <a:pt x="121" y="97"/>
                  </a:lnTo>
                  <a:lnTo>
                    <a:pt x="121" y="123"/>
                  </a:lnTo>
                  <a:lnTo>
                    <a:pt x="130" y="140"/>
                  </a:lnTo>
                  <a:lnTo>
                    <a:pt x="250" y="70"/>
                  </a:lnTo>
                  <a:lnTo>
                    <a:pt x="232" y="44"/>
                  </a:lnTo>
                  <a:lnTo>
                    <a:pt x="206" y="44"/>
                  </a:lnTo>
                  <a:lnTo>
                    <a:pt x="130" y="88"/>
                  </a:lnTo>
                  <a:lnTo>
                    <a:pt x="86" y="88"/>
                  </a:lnTo>
                  <a:close/>
                </a:path>
              </a:pathLst>
            </a:custGeom>
            <a:solidFill>
              <a:srgbClr val="9db4b7"/>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1" name=""/>
            <p:cNvSpPr/>
            <p:nvPr/>
          </p:nvSpPr>
          <p:spPr>
            <a:xfrm>
              <a:off x="6857640" y="3778560"/>
              <a:ext cx="235440" cy="217800"/>
            </a:xfrm>
            <a:custGeom>
              <a:avLst/>
              <a:gdLst/>
              <a:ahLst/>
              <a:rect l="l" t="t" r="r" b="b"/>
              <a:pathLst>
                <a:path w="526" h="490">
                  <a:moveTo>
                    <a:pt x="86" y="88"/>
                  </a:moveTo>
                  <a:lnTo>
                    <a:pt x="78" y="123"/>
                  </a:lnTo>
                  <a:lnTo>
                    <a:pt x="95" y="158"/>
                  </a:lnTo>
                  <a:lnTo>
                    <a:pt x="9" y="210"/>
                  </a:lnTo>
                  <a:lnTo>
                    <a:pt x="0" y="237"/>
                  </a:lnTo>
                  <a:lnTo>
                    <a:pt x="138" y="481"/>
                  </a:lnTo>
                  <a:lnTo>
                    <a:pt x="163" y="490"/>
                  </a:lnTo>
                  <a:lnTo>
                    <a:pt x="526" y="298"/>
                  </a:lnTo>
                  <a:lnTo>
                    <a:pt x="526" y="280"/>
                  </a:lnTo>
                  <a:lnTo>
                    <a:pt x="397" y="18"/>
                  </a:lnTo>
                  <a:lnTo>
                    <a:pt x="362" y="0"/>
                  </a:lnTo>
                  <a:lnTo>
                    <a:pt x="276" y="53"/>
                  </a:lnTo>
                  <a:lnTo>
                    <a:pt x="241" y="18"/>
                  </a:lnTo>
                  <a:lnTo>
                    <a:pt x="206" y="9"/>
                  </a:lnTo>
                  <a:lnTo>
                    <a:pt x="86" y="88"/>
                  </a:lnTo>
                  <a:lnTo>
                    <a:pt x="130" y="88"/>
                  </a:lnTo>
                  <a:lnTo>
                    <a:pt x="121" y="97"/>
                  </a:lnTo>
                  <a:lnTo>
                    <a:pt x="121" y="123"/>
                  </a:lnTo>
                  <a:lnTo>
                    <a:pt x="130" y="140"/>
                  </a:lnTo>
                  <a:lnTo>
                    <a:pt x="250" y="70"/>
                  </a:lnTo>
                  <a:lnTo>
                    <a:pt x="232" y="44"/>
                  </a:lnTo>
                  <a:lnTo>
                    <a:pt x="206" y="44"/>
                  </a:lnTo>
                  <a:lnTo>
                    <a:pt x="130" y="88"/>
                  </a:lnTo>
                  <a:lnTo>
                    <a:pt x="86" y="88"/>
                  </a:lnTo>
                  <a:close/>
                </a:path>
              </a:pathLst>
            </a:custGeom>
            <a:solidFill>
              <a:srgbClr val="9db4b7"/>
            </a:solidFill>
            <a:ln w="3240">
              <a:solidFill>
                <a:srgbClr val="9db4b7"/>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2" name=""/>
            <p:cNvSpPr/>
            <p:nvPr/>
          </p:nvSpPr>
          <p:spPr>
            <a:xfrm>
              <a:off x="6857640" y="3778560"/>
              <a:ext cx="235440" cy="217800"/>
            </a:xfrm>
            <a:custGeom>
              <a:avLst/>
              <a:gdLst/>
              <a:ahLst/>
              <a:rect l="l" t="t" r="r" b="b"/>
              <a:pathLst>
                <a:path w="526" h="490">
                  <a:moveTo>
                    <a:pt x="95" y="158"/>
                  </a:moveTo>
                  <a:lnTo>
                    <a:pt x="9" y="210"/>
                  </a:lnTo>
                  <a:lnTo>
                    <a:pt x="0" y="237"/>
                  </a:lnTo>
                  <a:lnTo>
                    <a:pt x="138" y="481"/>
                  </a:lnTo>
                  <a:lnTo>
                    <a:pt x="163" y="490"/>
                  </a:lnTo>
                  <a:lnTo>
                    <a:pt x="526" y="298"/>
                  </a:lnTo>
                  <a:lnTo>
                    <a:pt x="526" y="280"/>
                  </a:lnTo>
                  <a:lnTo>
                    <a:pt x="397" y="18"/>
                  </a:lnTo>
                  <a:lnTo>
                    <a:pt x="362" y="0"/>
                  </a:lnTo>
                  <a:lnTo>
                    <a:pt x="276" y="53"/>
                  </a:lnTo>
                  <a:lnTo>
                    <a:pt x="241" y="18"/>
                  </a:lnTo>
                  <a:lnTo>
                    <a:pt x="206" y="9"/>
                  </a:lnTo>
                  <a:lnTo>
                    <a:pt x="86" y="88"/>
                  </a:lnTo>
                  <a:lnTo>
                    <a:pt x="78" y="123"/>
                  </a:lnTo>
                  <a:lnTo>
                    <a:pt x="95" y="158"/>
                  </a:lnTo>
                  <a:close/>
                </a:path>
              </a:pathLst>
            </a:custGeom>
            <a:no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3" name=""/>
            <p:cNvSpPr/>
            <p:nvPr/>
          </p:nvSpPr>
          <p:spPr>
            <a:xfrm>
              <a:off x="6910920" y="3798000"/>
              <a:ext cx="59040" cy="42840"/>
            </a:xfrm>
            <a:custGeom>
              <a:avLst/>
              <a:gdLst/>
              <a:ahLst/>
              <a:rect l="l" t="t" r="r" b="b"/>
              <a:pathLst>
                <a:path w="129" h="96">
                  <a:moveTo>
                    <a:pt x="9" y="96"/>
                  </a:moveTo>
                  <a:lnTo>
                    <a:pt x="129" y="26"/>
                  </a:lnTo>
                  <a:lnTo>
                    <a:pt x="111" y="0"/>
                  </a:lnTo>
                  <a:lnTo>
                    <a:pt x="85" y="0"/>
                  </a:lnTo>
                  <a:lnTo>
                    <a:pt x="0" y="53"/>
                  </a:lnTo>
                  <a:lnTo>
                    <a:pt x="0" y="79"/>
                  </a:lnTo>
                  <a:lnTo>
                    <a:pt x="9" y="96"/>
                  </a:lnTo>
                  <a:close/>
                </a:path>
              </a:pathLst>
            </a:custGeom>
            <a:no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4" name=""/>
            <p:cNvSpPr/>
            <p:nvPr/>
          </p:nvSpPr>
          <p:spPr>
            <a:xfrm>
              <a:off x="6907680" y="3785400"/>
              <a:ext cx="42480" cy="35280"/>
            </a:xfrm>
            <a:custGeom>
              <a:avLst/>
              <a:gdLst/>
              <a:ahLst/>
              <a:rect l="l" t="t" r="r" b="b"/>
              <a:pathLst>
                <a:path w="94" h="79">
                  <a:moveTo>
                    <a:pt x="86" y="9"/>
                  </a:moveTo>
                  <a:lnTo>
                    <a:pt x="44" y="0"/>
                  </a:lnTo>
                  <a:lnTo>
                    <a:pt x="18" y="35"/>
                  </a:lnTo>
                  <a:lnTo>
                    <a:pt x="0" y="61"/>
                  </a:lnTo>
                  <a:lnTo>
                    <a:pt x="18" y="79"/>
                  </a:lnTo>
                  <a:lnTo>
                    <a:pt x="44" y="79"/>
                  </a:lnTo>
                  <a:lnTo>
                    <a:pt x="68" y="70"/>
                  </a:lnTo>
                  <a:lnTo>
                    <a:pt x="86" y="52"/>
                  </a:lnTo>
                  <a:lnTo>
                    <a:pt x="94" y="35"/>
                  </a:lnTo>
                  <a:lnTo>
                    <a:pt x="86" y="9"/>
                  </a:lnTo>
                  <a:close/>
                </a:path>
              </a:pathLst>
            </a:custGeom>
            <a:solidFill>
              <a:srgbClr val="ffd255"/>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375" name=""/>
            <p:cNvSpPr/>
            <p:nvPr/>
          </p:nvSpPr>
          <p:spPr>
            <a:xfrm>
              <a:off x="6907680" y="3785400"/>
              <a:ext cx="42480" cy="35280"/>
            </a:xfrm>
            <a:custGeom>
              <a:avLst/>
              <a:gdLst/>
              <a:ahLst/>
              <a:rect l="l" t="t" r="r" b="b"/>
              <a:pathLst>
                <a:path w="94" h="79">
                  <a:moveTo>
                    <a:pt x="86" y="9"/>
                  </a:moveTo>
                  <a:lnTo>
                    <a:pt x="44" y="0"/>
                  </a:lnTo>
                  <a:lnTo>
                    <a:pt x="18" y="35"/>
                  </a:lnTo>
                  <a:lnTo>
                    <a:pt x="0" y="61"/>
                  </a:lnTo>
                  <a:lnTo>
                    <a:pt x="18" y="79"/>
                  </a:lnTo>
                  <a:lnTo>
                    <a:pt x="44" y="79"/>
                  </a:lnTo>
                  <a:lnTo>
                    <a:pt x="68" y="70"/>
                  </a:lnTo>
                  <a:lnTo>
                    <a:pt x="86" y="52"/>
                  </a:lnTo>
                  <a:lnTo>
                    <a:pt x="94" y="35"/>
                  </a:lnTo>
                  <a:lnTo>
                    <a:pt x="86" y="9"/>
                  </a:lnTo>
                  <a:close/>
                </a:path>
              </a:pathLst>
            </a:custGeom>
            <a:solidFill>
              <a:srgbClr val="ffd255"/>
            </a:solidFill>
            <a:ln w="324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376" name="PlaceHolder 1"/>
          <p:cNvSpPr>
            <a:spLocks noGrp="1"/>
          </p:cNvSpPr>
          <p:nvPr>
            <p:ph/>
          </p:nvPr>
        </p:nvSpPr>
        <p:spPr>
          <a:xfrm>
            <a:off x="209520" y="1633320"/>
            <a:ext cx="4278240" cy="3421080"/>
          </a:xfrm>
          <a:prstGeom prst="rect">
            <a:avLst/>
          </a:prstGeom>
          <a:noFill/>
          <a:ln w="0">
            <a:noFill/>
          </a:ln>
        </p:spPr>
        <p:txBody>
          <a:bodyPr lIns="90000" rIns="90000" tIns="46800" bIns="46800" anchor="t">
            <a:normAutofit/>
          </a:bodyPr>
          <a:p>
            <a:pPr marL="289080" indent="-289080">
              <a:lnSpc>
                <a:spcPct val="100000"/>
              </a:lnSpc>
              <a:spcBef>
                <a:spcPts val="374"/>
              </a:spcBef>
              <a:buClr>
                <a:srgbClr val="ff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Access VPN</a:t>
            </a:r>
            <a:endParaRPr b="0" lang="en-US" sz="2000" spc="-1" strike="noStrike">
              <a:solidFill>
                <a:srgbClr val="000000"/>
              </a:solidFill>
              <a:latin typeface="Verdana"/>
            </a:endParaRPr>
          </a:p>
          <a:p>
            <a:pPr lvl="1" marL="403200" indent="0">
              <a:lnSpc>
                <a:spcPct val="10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Enterprise access</a:t>
            </a:r>
            <a:endParaRPr b="0" lang="en-US" sz="2000" spc="-1" strike="noStrike">
              <a:solidFill>
                <a:srgbClr val="000000"/>
              </a:solidFill>
              <a:latin typeface="Verdana"/>
            </a:endParaRPr>
          </a:p>
          <a:p>
            <a:pPr lvl="1" marL="403200" indent="0">
              <a:lnSpc>
                <a:spcPct val="10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Wholesale</a:t>
            </a:r>
            <a:endParaRPr b="0" lang="en-US" sz="2000" spc="-1" strike="noStrike">
              <a:solidFill>
                <a:srgbClr val="000000"/>
              </a:solidFill>
              <a:latin typeface="Verdana"/>
            </a:endParaRPr>
          </a:p>
          <a:p>
            <a:pPr marL="289080" indent="-289080">
              <a:lnSpc>
                <a:spcPct val="100000"/>
              </a:lnSpc>
              <a:spcBef>
                <a:spcPts val="374"/>
              </a:spcBef>
              <a:buClr>
                <a:srgbClr val="ff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Intranet VPN</a:t>
            </a:r>
            <a:endParaRPr b="0" lang="en-US" sz="2000" spc="-1" strike="noStrike">
              <a:solidFill>
                <a:srgbClr val="000000"/>
              </a:solidFill>
              <a:latin typeface="Verdana"/>
            </a:endParaRPr>
          </a:p>
          <a:p>
            <a:pPr lvl="1" marL="403200" indent="0">
              <a:lnSpc>
                <a:spcPct val="10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Branch offices</a:t>
            </a:r>
            <a:endParaRPr b="0" lang="en-US" sz="2000" spc="-1" strike="noStrike">
              <a:solidFill>
                <a:srgbClr val="000000"/>
              </a:solidFill>
              <a:latin typeface="Verdana"/>
            </a:endParaRPr>
          </a:p>
          <a:p>
            <a:pPr lvl="1" marL="403200" indent="0">
              <a:lnSpc>
                <a:spcPct val="10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Call centers</a:t>
            </a:r>
            <a:endParaRPr b="0" lang="en-US" sz="2000" spc="-1" strike="noStrike">
              <a:solidFill>
                <a:srgbClr val="000000"/>
              </a:solidFill>
              <a:latin typeface="Verdana"/>
            </a:endParaRPr>
          </a:p>
          <a:p>
            <a:pPr marL="289080" indent="-289080">
              <a:lnSpc>
                <a:spcPct val="100000"/>
              </a:lnSpc>
              <a:spcBef>
                <a:spcPts val="374"/>
              </a:spcBef>
              <a:buClr>
                <a:srgbClr val="ff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Extranet VPN</a:t>
            </a:r>
            <a:endParaRPr b="0" lang="en-US" sz="2000" spc="-1" strike="noStrike">
              <a:solidFill>
                <a:srgbClr val="000000"/>
              </a:solidFill>
              <a:latin typeface="Verdana"/>
            </a:endParaRPr>
          </a:p>
          <a:p>
            <a:pPr lvl="1" marL="403200" indent="0">
              <a:lnSpc>
                <a:spcPct val="10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Business-to-business</a:t>
            </a:r>
            <a:endParaRPr b="0" lang="en-US" sz="2000" spc="-1" strike="noStrike">
              <a:solidFill>
                <a:srgbClr val="000000"/>
              </a:solidFill>
              <a:latin typeface="Verdana"/>
            </a:endParaRPr>
          </a:p>
          <a:p>
            <a:pPr lvl="1" marL="403200" indent="0">
              <a:lnSpc>
                <a:spcPct val="10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Tahoma"/>
              </a:rPr>
              <a:t>Industry groups</a:t>
            </a:r>
            <a:endParaRPr b="0" lang="en-US" sz="2000" spc="-1" strike="noStrike">
              <a:solidFill>
                <a:srgbClr val="000000"/>
              </a:solidFill>
              <a:latin typeface="Verdana"/>
            </a:endParaRPr>
          </a:p>
        </p:txBody>
      </p:sp>
      <p:pic>
        <p:nvPicPr>
          <p:cNvPr id="377" name="" descr=""/>
          <p:cNvPicPr/>
          <p:nvPr/>
        </p:nvPicPr>
        <p:blipFill>
          <a:blip r:embed="rId5"/>
          <a:stretch/>
        </p:blipFill>
        <p:spPr>
          <a:xfrm>
            <a:off x="5681520" y="2620800"/>
            <a:ext cx="782640" cy="473400"/>
          </a:xfrm>
          <a:prstGeom prst="rect">
            <a:avLst/>
          </a:prstGeom>
          <a:ln w="0">
            <a:noFill/>
          </a:ln>
        </p:spPr>
      </p:pic>
      <p:sp>
        <p:nvSpPr>
          <p:cNvPr id="378" name=""/>
          <p:cNvSpPr/>
          <p:nvPr/>
        </p:nvSpPr>
        <p:spPr>
          <a:xfrm>
            <a:off x="5847480" y="2727360"/>
            <a:ext cx="47916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Tahoma"/>
              </a:rPr>
              <a:t>VPN</a:t>
            </a:r>
            <a:endParaRPr b="0" lang="en-US" sz="1800" spc="-1" strike="noStrike">
              <a:solidFill>
                <a:srgbClr val="000000"/>
              </a:solidFill>
              <a:latin typeface="Times New Roman"/>
            </a:endParaRPr>
          </a:p>
        </p:txBody>
      </p:sp>
      <p:pic>
        <p:nvPicPr>
          <p:cNvPr id="379" name="EndUser%20Female" descr=""/>
          <p:cNvPicPr/>
          <p:nvPr/>
        </p:nvPicPr>
        <p:blipFill>
          <a:blip r:embed="rId6"/>
          <a:stretch/>
        </p:blipFill>
        <p:spPr>
          <a:xfrm>
            <a:off x="7404120" y="3048120"/>
            <a:ext cx="547560" cy="868320"/>
          </a:xfrm>
          <a:prstGeom prst="rect">
            <a:avLst/>
          </a:prstGeom>
          <a:ln w="0">
            <a:noFill/>
          </a:ln>
          <a:effectLst>
            <a:outerShdw dist="17819" dir="2700000" blurRad="0" rotWithShape="0">
              <a:srgbClr val="808080"/>
            </a:outerShdw>
          </a:effectLst>
        </p:spPr>
      </p:pic>
      <p:pic>
        <p:nvPicPr>
          <p:cNvPr id="380" name="EndUser" descr=""/>
          <p:cNvPicPr/>
          <p:nvPr/>
        </p:nvPicPr>
        <p:blipFill>
          <a:blip r:embed="rId7"/>
          <a:stretch/>
        </p:blipFill>
        <p:spPr>
          <a:xfrm>
            <a:off x="4038480" y="3352680"/>
            <a:ext cx="622440" cy="889200"/>
          </a:xfrm>
          <a:prstGeom prst="rect">
            <a:avLst/>
          </a:prstGeom>
          <a:ln w="0">
            <a:noFill/>
          </a:ln>
        </p:spPr>
      </p:pic>
      <p:pic>
        <p:nvPicPr>
          <p:cNvPr id="381" name="EndUserLeft" descr=""/>
          <p:cNvPicPr/>
          <p:nvPr/>
        </p:nvPicPr>
        <p:blipFill>
          <a:blip r:embed="rId8"/>
          <a:stretch/>
        </p:blipFill>
        <p:spPr>
          <a:xfrm>
            <a:off x="5372280" y="3848040"/>
            <a:ext cx="556920" cy="776520"/>
          </a:xfrm>
          <a:prstGeom prst="rect">
            <a:avLst/>
          </a:prstGeom>
          <a:ln w="0">
            <a:noFill/>
          </a:ln>
        </p:spPr>
      </p:pic>
      <p:sp>
        <p:nvSpPr>
          <p:cNvPr id="382" name=""/>
          <p:cNvSpPr/>
          <p:nvPr/>
        </p:nvSpPr>
        <p:spPr>
          <a:xfrm>
            <a:off x="7070760" y="2048040"/>
            <a:ext cx="1762200" cy="426600"/>
          </a:xfrm>
          <a:prstGeom prst="wedgeRectCallout">
            <a:avLst>
              <a:gd name="adj1" fmla="val -80615"/>
              <a:gd name="adj2" fmla="val 110620"/>
            </a:avLst>
          </a:prstGeom>
          <a:gradFill rotWithShape="0">
            <a:gsLst>
              <a:gs pos="0">
                <a:srgbClr val="ffcc00"/>
              </a:gs>
              <a:gs pos="50000">
                <a:srgbClr val="ccccff"/>
              </a:gs>
              <a:gs pos="100000">
                <a:srgbClr val="ffcc00"/>
              </a:gs>
            </a:gsLst>
            <a:lin ang="13500000"/>
          </a:gradFill>
          <a:ln w="6480">
            <a:solidFill>
              <a:srgbClr val="ffcc00"/>
            </a:solidFill>
            <a:miter/>
          </a:ln>
          <a:effectLst>
            <a:outerShdw dist="17819" dir="2700000" blurRad="0" rotWithShape="0">
              <a:srgbClr val="80808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ternet, IP, IPse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 ATM, MPLS</a:t>
            </a:r>
            <a:endParaRPr b="0" lang="en-US" sz="1400" spc="-1" strike="noStrike">
              <a:solidFill>
                <a:srgbClr val="000000"/>
              </a:solidFill>
              <a:latin typeface="Times New Roman"/>
            </a:endParaRPr>
          </a:p>
        </p:txBody>
      </p:sp>
      <p:sp>
        <p:nvSpPr>
          <p:cNvPr id="383" name=""/>
          <p:cNvSpPr/>
          <p:nvPr/>
        </p:nvSpPr>
        <p:spPr>
          <a:xfrm>
            <a:off x="241920" y="152280"/>
            <a:ext cx="291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IP VPN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red%20gen%20d" descr=""/>
          <p:cNvPicPr/>
          <p:nvPr/>
        </p:nvPicPr>
        <p:blipFill>
          <a:blip r:embed="rId1"/>
          <a:stretch/>
        </p:blipFill>
        <p:spPr>
          <a:xfrm>
            <a:off x="762120" y="4038480"/>
            <a:ext cx="1828800" cy="771480"/>
          </a:xfrm>
          <a:prstGeom prst="rect">
            <a:avLst/>
          </a:prstGeom>
          <a:ln w="0">
            <a:noFill/>
          </a:ln>
        </p:spPr>
      </p:pic>
      <p:grpSp>
        <p:nvGrpSpPr>
          <p:cNvPr id="385" name=""/>
          <p:cNvGrpSpPr/>
          <p:nvPr/>
        </p:nvGrpSpPr>
        <p:grpSpPr>
          <a:xfrm>
            <a:off x="838080" y="2057400"/>
            <a:ext cx="1676520" cy="1904760"/>
            <a:chOff x="838080" y="2057400"/>
            <a:chExt cx="1676520" cy="1904760"/>
          </a:xfrm>
        </p:grpSpPr>
        <p:sp>
          <p:nvSpPr>
            <p:cNvPr id="386"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7" name="coolguy" descr=""/>
            <p:cNvPicPr/>
            <p:nvPr/>
          </p:nvPicPr>
          <p:blipFill>
            <a:blip r:embed="rId2"/>
            <a:srcRect l="9083" t="0" r="13635" b="0"/>
            <a:stretch/>
          </p:blipFill>
          <p:spPr>
            <a:xfrm>
              <a:off x="1015920" y="2480760"/>
              <a:ext cx="1295280" cy="1309320"/>
            </a:xfrm>
            <a:prstGeom prst="rect">
              <a:avLst/>
            </a:prstGeom>
            <a:ln w="0">
              <a:noFill/>
            </a:ln>
          </p:spPr>
        </p:pic>
        <p:pic>
          <p:nvPicPr>
            <p:cNvPr id="388" name="logo" descr=""/>
            <p:cNvPicPr/>
            <p:nvPr/>
          </p:nvPicPr>
          <p:blipFill>
            <a:blip r:embed="rId3"/>
            <a:stretch/>
          </p:blipFill>
          <p:spPr>
            <a:xfrm>
              <a:off x="965160" y="2176200"/>
              <a:ext cx="1428840" cy="277560"/>
            </a:xfrm>
            <a:prstGeom prst="rect">
              <a:avLst/>
            </a:prstGeom>
            <a:ln w="0">
              <a:noFill/>
            </a:ln>
          </p:spPr>
        </p:pic>
      </p:grpSp>
      <p:sp>
        <p:nvSpPr>
          <p:cNvPr id="389" name=""/>
          <p:cNvSpPr/>
          <p:nvPr/>
        </p:nvSpPr>
        <p:spPr>
          <a:xfrm>
            <a:off x="4114800" y="1600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ices</a:t>
            </a:r>
            <a:endParaRPr b="0" lang="en-US" sz="2400" spc="-1" strike="noStrike">
              <a:solidFill>
                <a:srgbClr val="000000"/>
              </a:solidFill>
              <a:latin typeface="Times New Roman"/>
            </a:endParaRPr>
          </a:p>
        </p:txBody>
      </p:sp>
      <p:sp>
        <p:nvSpPr>
          <p:cNvPr id="390" name=""/>
          <p:cNvSpPr/>
          <p:nvPr/>
        </p:nvSpPr>
        <p:spPr>
          <a:xfrm>
            <a:off x="4114800" y="243828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Applications/Services</a:t>
            </a:r>
            <a:endParaRPr b="0" lang="en-US" sz="2400" spc="-1" strike="noStrike">
              <a:solidFill>
                <a:srgbClr val="000000"/>
              </a:solidFill>
              <a:latin typeface="Times New Roman"/>
            </a:endParaRPr>
          </a:p>
        </p:txBody>
      </p:sp>
      <p:sp>
        <p:nvSpPr>
          <p:cNvPr id="391" name=""/>
          <p:cNvSpPr/>
          <p:nvPr/>
        </p:nvSpPr>
        <p:spPr>
          <a:xfrm>
            <a:off x="4114800" y="3276720"/>
            <a:ext cx="3429000" cy="76176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ice Platform</a:t>
            </a:r>
            <a:endParaRPr b="0" lang="en-US" sz="2400" spc="-1" strike="noStrike">
              <a:solidFill>
                <a:srgbClr val="000000"/>
              </a:solidFill>
              <a:latin typeface="Times New Roman"/>
            </a:endParaRPr>
          </a:p>
        </p:txBody>
      </p:sp>
      <p:sp>
        <p:nvSpPr>
          <p:cNvPr id="392" name=""/>
          <p:cNvSpPr/>
          <p:nvPr/>
        </p:nvSpPr>
        <p:spPr>
          <a:xfrm>
            <a:off x="4114800" y="41148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Basic IP Services</a:t>
            </a:r>
            <a:endParaRPr b="0" lang="en-US" sz="2400" spc="-1" strike="noStrike">
              <a:solidFill>
                <a:srgbClr val="000000"/>
              </a:solidFill>
              <a:latin typeface="Times New Roman"/>
            </a:endParaRPr>
          </a:p>
        </p:txBody>
      </p:sp>
      <p:sp>
        <p:nvSpPr>
          <p:cNvPr id="393" name=""/>
          <p:cNvSpPr/>
          <p:nvPr/>
        </p:nvSpPr>
        <p:spPr>
          <a:xfrm>
            <a:off x="4114800" y="5029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a:t>
            </a:r>
            <a:endParaRPr b="0" lang="en-US" sz="2400" spc="-1" strike="noStrike">
              <a:solidFill>
                <a:srgbClr val="000000"/>
              </a:solidFill>
              <a:latin typeface="Times New Roman"/>
            </a:endParaRPr>
          </a:p>
        </p:txBody>
      </p:sp>
      <p:sp>
        <p:nvSpPr>
          <p:cNvPr id="394" name=""/>
          <p:cNvSpPr/>
          <p:nvPr/>
        </p:nvSpPr>
        <p:spPr>
          <a:xfrm>
            <a:off x="762012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6200000">
            <a:off x="6190200" y="3504600"/>
            <a:ext cx="37728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 Oper. Systems</a:t>
            </a:r>
            <a:endParaRPr b="0" lang="en-US" sz="2400" spc="-1" strike="noStrike">
              <a:solidFill>
                <a:srgbClr val="000000"/>
              </a:solidFill>
              <a:latin typeface="Times New Roman"/>
            </a:endParaRPr>
          </a:p>
        </p:txBody>
      </p:sp>
      <p:sp>
        <p:nvSpPr>
          <p:cNvPr id="396" name=""/>
          <p:cNvSpPr/>
          <p:nvPr/>
        </p:nvSpPr>
        <p:spPr>
          <a:xfrm>
            <a:off x="312408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16200000">
            <a:off x="1677960" y="3499560"/>
            <a:ext cx="365076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elopment Platform</a:t>
            </a:r>
            <a:endParaRPr b="0" lang="en-US" sz="2400" spc="-1" strike="noStrike">
              <a:solidFill>
                <a:srgbClr val="000000"/>
              </a:solidFill>
              <a:latin typeface="Times New Roman"/>
            </a:endParaRPr>
          </a:p>
        </p:txBody>
      </p:sp>
      <p:sp>
        <p:nvSpPr>
          <p:cNvPr id="398"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2819520" y="1371600"/>
            <a:ext cx="5986440" cy="4343400"/>
            <a:chOff x="2819520" y="1371600"/>
            <a:chExt cx="5986440" cy="4343400"/>
          </a:xfrm>
        </p:grpSpPr>
        <p:grpSp>
          <p:nvGrpSpPr>
            <p:cNvPr id="400" name=""/>
            <p:cNvGrpSpPr/>
            <p:nvPr/>
          </p:nvGrpSpPr>
          <p:grpSpPr>
            <a:xfrm>
              <a:off x="2819520" y="1371600"/>
              <a:ext cx="5986440" cy="4343400"/>
              <a:chOff x="2819520" y="1371600"/>
              <a:chExt cx="5986440" cy="4343400"/>
            </a:xfrm>
          </p:grpSpPr>
          <p:sp>
            <p:nvSpPr>
              <p:cNvPr id="401" name=""/>
              <p:cNvSpPr/>
              <p:nvPr/>
            </p:nvSpPr>
            <p:spPr>
              <a:xfrm>
                <a:off x="8721000" y="2242080"/>
                <a:ext cx="84600" cy="172440"/>
              </a:xfrm>
              <a:custGeom>
                <a:avLst/>
                <a:gdLst/>
                <a:ahLst/>
                <a:rect l="l" t="t" r="r" b="b"/>
                <a:pathLst>
                  <a:path w="227" h="604">
                    <a:moveTo>
                      <a:pt x="21" y="0"/>
                    </a:moveTo>
                    <a:lnTo>
                      <a:pt x="48" y="53"/>
                    </a:lnTo>
                    <a:lnTo>
                      <a:pt x="73" y="105"/>
                    </a:lnTo>
                    <a:lnTo>
                      <a:pt x="98" y="158"/>
                    </a:lnTo>
                    <a:lnTo>
                      <a:pt x="124" y="211"/>
                    </a:lnTo>
                    <a:lnTo>
                      <a:pt x="149" y="264"/>
                    </a:lnTo>
                    <a:lnTo>
                      <a:pt x="176" y="317"/>
                    </a:lnTo>
                    <a:lnTo>
                      <a:pt x="201" y="370"/>
                    </a:lnTo>
                    <a:lnTo>
                      <a:pt x="227" y="423"/>
                    </a:lnTo>
                    <a:lnTo>
                      <a:pt x="225" y="446"/>
                    </a:lnTo>
                    <a:lnTo>
                      <a:pt x="222" y="469"/>
                    </a:lnTo>
                    <a:lnTo>
                      <a:pt x="219" y="491"/>
                    </a:lnTo>
                    <a:lnTo>
                      <a:pt x="217" y="514"/>
                    </a:lnTo>
                    <a:lnTo>
                      <a:pt x="214" y="536"/>
                    </a:lnTo>
                    <a:lnTo>
                      <a:pt x="211" y="560"/>
                    </a:lnTo>
                    <a:lnTo>
                      <a:pt x="209" y="582"/>
                    </a:lnTo>
                    <a:lnTo>
                      <a:pt x="206" y="604"/>
                    </a:lnTo>
                    <a:lnTo>
                      <a:pt x="180" y="551"/>
                    </a:lnTo>
                    <a:lnTo>
                      <a:pt x="153" y="498"/>
                    </a:lnTo>
                    <a:lnTo>
                      <a:pt x="128" y="445"/>
                    </a:lnTo>
                    <a:lnTo>
                      <a:pt x="102" y="392"/>
                    </a:lnTo>
                    <a:lnTo>
                      <a:pt x="77" y="339"/>
                    </a:lnTo>
                    <a:lnTo>
                      <a:pt x="52" y="286"/>
                    </a:lnTo>
                    <a:lnTo>
                      <a:pt x="25" y="234"/>
                    </a:lnTo>
                    <a:lnTo>
                      <a:pt x="0" y="181"/>
                    </a:lnTo>
                    <a:lnTo>
                      <a:pt x="3" y="158"/>
                    </a:lnTo>
                    <a:lnTo>
                      <a:pt x="5" y="136"/>
                    </a:lnTo>
                    <a:lnTo>
                      <a:pt x="8" y="114"/>
                    </a:lnTo>
                    <a:lnTo>
                      <a:pt x="11" y="91"/>
                    </a:lnTo>
                    <a:lnTo>
                      <a:pt x="13" y="69"/>
                    </a:lnTo>
                    <a:lnTo>
                      <a:pt x="16" y="45"/>
                    </a:lnTo>
                    <a:lnTo>
                      <a:pt x="19"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713440" y="2293200"/>
                <a:ext cx="84600" cy="172800"/>
              </a:xfrm>
              <a:custGeom>
                <a:avLst/>
                <a:gdLst/>
                <a:ahLst/>
                <a:rect l="l" t="t" r="r" b="b"/>
                <a:pathLst>
                  <a:path w="227" h="604">
                    <a:moveTo>
                      <a:pt x="21" y="0"/>
                    </a:moveTo>
                    <a:lnTo>
                      <a:pt x="46" y="53"/>
                    </a:lnTo>
                    <a:lnTo>
                      <a:pt x="73" y="105"/>
                    </a:lnTo>
                    <a:lnTo>
                      <a:pt x="98" y="158"/>
                    </a:lnTo>
                    <a:lnTo>
                      <a:pt x="123" y="211"/>
                    </a:lnTo>
                    <a:lnTo>
                      <a:pt x="149" y="264"/>
                    </a:lnTo>
                    <a:lnTo>
                      <a:pt x="174" y="317"/>
                    </a:lnTo>
                    <a:lnTo>
                      <a:pt x="201" y="370"/>
                    </a:lnTo>
                    <a:lnTo>
                      <a:pt x="227" y="423"/>
                    </a:lnTo>
                    <a:lnTo>
                      <a:pt x="224" y="446"/>
                    </a:lnTo>
                    <a:lnTo>
                      <a:pt x="222" y="469"/>
                    </a:lnTo>
                    <a:lnTo>
                      <a:pt x="219" y="492"/>
                    </a:lnTo>
                    <a:lnTo>
                      <a:pt x="216" y="514"/>
                    </a:lnTo>
                    <a:lnTo>
                      <a:pt x="214" y="536"/>
                    </a:lnTo>
                    <a:lnTo>
                      <a:pt x="211" y="560"/>
                    </a:lnTo>
                    <a:lnTo>
                      <a:pt x="208" y="582"/>
                    </a:lnTo>
                    <a:lnTo>
                      <a:pt x="206" y="604"/>
                    </a:lnTo>
                    <a:lnTo>
                      <a:pt x="179" y="551"/>
                    </a:lnTo>
                    <a:lnTo>
                      <a:pt x="153" y="498"/>
                    </a:lnTo>
                    <a:lnTo>
                      <a:pt x="127" y="445"/>
                    </a:lnTo>
                    <a:lnTo>
                      <a:pt x="102" y="392"/>
                    </a:lnTo>
                    <a:lnTo>
                      <a:pt x="77" y="338"/>
                    </a:lnTo>
                    <a:lnTo>
                      <a:pt x="50" y="285"/>
                    </a:lnTo>
                    <a:lnTo>
                      <a:pt x="25" y="233"/>
                    </a:lnTo>
                    <a:lnTo>
                      <a:pt x="0" y="181"/>
                    </a:lnTo>
                    <a:lnTo>
                      <a:pt x="2" y="157"/>
                    </a:lnTo>
                    <a:lnTo>
                      <a:pt x="5" y="135"/>
                    </a:lnTo>
                    <a:lnTo>
                      <a:pt x="8" y="113"/>
                    </a:lnTo>
                    <a:lnTo>
                      <a:pt x="10" y="91"/>
                    </a:lnTo>
                    <a:lnTo>
                      <a:pt x="13" y="67"/>
                    </a:lnTo>
                    <a:lnTo>
                      <a:pt x="16" y="45"/>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8704440" y="2344680"/>
                <a:ext cx="84600" cy="172800"/>
              </a:xfrm>
              <a:custGeom>
                <a:avLst/>
                <a:gdLst/>
                <a:ahLst/>
                <a:rect l="l" t="t" r="r" b="b"/>
                <a:pathLst>
                  <a:path w="228" h="605">
                    <a:moveTo>
                      <a:pt x="22" y="0"/>
                    </a:moveTo>
                    <a:lnTo>
                      <a:pt x="47" y="52"/>
                    </a:lnTo>
                    <a:lnTo>
                      <a:pt x="72" y="104"/>
                    </a:lnTo>
                    <a:lnTo>
                      <a:pt x="99" y="157"/>
                    </a:lnTo>
                    <a:lnTo>
                      <a:pt x="124" y="211"/>
                    </a:lnTo>
                    <a:lnTo>
                      <a:pt x="149" y="264"/>
                    </a:lnTo>
                    <a:lnTo>
                      <a:pt x="175" y="317"/>
                    </a:lnTo>
                    <a:lnTo>
                      <a:pt x="201" y="370"/>
                    </a:lnTo>
                    <a:lnTo>
                      <a:pt x="228" y="423"/>
                    </a:lnTo>
                    <a:lnTo>
                      <a:pt x="225" y="445"/>
                    </a:lnTo>
                    <a:lnTo>
                      <a:pt x="222" y="469"/>
                    </a:lnTo>
                    <a:lnTo>
                      <a:pt x="220" y="491"/>
                    </a:lnTo>
                    <a:lnTo>
                      <a:pt x="217" y="514"/>
                    </a:lnTo>
                    <a:lnTo>
                      <a:pt x="214" y="537"/>
                    </a:lnTo>
                    <a:lnTo>
                      <a:pt x="212" y="560"/>
                    </a:lnTo>
                    <a:lnTo>
                      <a:pt x="208" y="583"/>
                    </a:lnTo>
                    <a:lnTo>
                      <a:pt x="205" y="605"/>
                    </a:lnTo>
                    <a:lnTo>
                      <a:pt x="179" y="551"/>
                    </a:lnTo>
                    <a:lnTo>
                      <a:pt x="154" y="498"/>
                    </a:lnTo>
                    <a:lnTo>
                      <a:pt x="128" y="445"/>
                    </a:lnTo>
                    <a:lnTo>
                      <a:pt x="103" y="392"/>
                    </a:lnTo>
                    <a:lnTo>
                      <a:pt x="76" y="338"/>
                    </a:lnTo>
                    <a:lnTo>
                      <a:pt x="51" y="285"/>
                    </a:lnTo>
                    <a:lnTo>
                      <a:pt x="26" y="232"/>
                    </a:lnTo>
                    <a:lnTo>
                      <a:pt x="0" y="179"/>
                    </a:lnTo>
                    <a:lnTo>
                      <a:pt x="3" y="157"/>
                    </a:lnTo>
                    <a:lnTo>
                      <a:pt x="6" y="134"/>
                    </a:lnTo>
                    <a:lnTo>
                      <a:pt x="8" y="112"/>
                    </a:lnTo>
                    <a:lnTo>
                      <a:pt x="11" y="89"/>
                    </a:lnTo>
                    <a:lnTo>
                      <a:pt x="14" y="67"/>
                    </a:lnTo>
                    <a:lnTo>
                      <a:pt x="16" y="44"/>
                    </a:lnTo>
                    <a:lnTo>
                      <a:pt x="19" y="22"/>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8696880" y="2396160"/>
                <a:ext cx="84600" cy="173880"/>
              </a:xfrm>
              <a:custGeom>
                <a:avLst/>
                <a:gdLst/>
                <a:ahLst/>
                <a:rect l="l" t="t" r="r" b="b"/>
                <a:pathLst>
                  <a:path w="226" h="607">
                    <a:moveTo>
                      <a:pt x="21" y="0"/>
                    </a:moveTo>
                    <a:lnTo>
                      <a:pt x="47" y="53"/>
                    </a:lnTo>
                    <a:lnTo>
                      <a:pt x="72" y="106"/>
                    </a:lnTo>
                    <a:lnTo>
                      <a:pt x="97" y="159"/>
                    </a:lnTo>
                    <a:lnTo>
                      <a:pt x="124" y="213"/>
                    </a:lnTo>
                    <a:lnTo>
                      <a:pt x="149" y="266"/>
                    </a:lnTo>
                    <a:lnTo>
                      <a:pt x="175" y="319"/>
                    </a:lnTo>
                    <a:lnTo>
                      <a:pt x="200" y="372"/>
                    </a:lnTo>
                    <a:lnTo>
                      <a:pt x="226" y="426"/>
                    </a:lnTo>
                    <a:lnTo>
                      <a:pt x="224" y="448"/>
                    </a:lnTo>
                    <a:lnTo>
                      <a:pt x="221" y="472"/>
                    </a:lnTo>
                    <a:lnTo>
                      <a:pt x="218" y="494"/>
                    </a:lnTo>
                    <a:lnTo>
                      <a:pt x="216" y="517"/>
                    </a:lnTo>
                    <a:lnTo>
                      <a:pt x="213" y="539"/>
                    </a:lnTo>
                    <a:lnTo>
                      <a:pt x="210" y="562"/>
                    </a:lnTo>
                    <a:lnTo>
                      <a:pt x="208" y="585"/>
                    </a:lnTo>
                    <a:lnTo>
                      <a:pt x="205" y="607"/>
                    </a:lnTo>
                    <a:lnTo>
                      <a:pt x="179" y="553"/>
                    </a:lnTo>
                    <a:lnTo>
                      <a:pt x="153" y="500"/>
                    </a:lnTo>
                    <a:lnTo>
                      <a:pt x="128" y="446"/>
                    </a:lnTo>
                    <a:lnTo>
                      <a:pt x="102" y="393"/>
                    </a:lnTo>
                    <a:lnTo>
                      <a:pt x="76" y="340"/>
                    </a:lnTo>
                    <a:lnTo>
                      <a:pt x="51" y="287"/>
                    </a:lnTo>
                    <a:lnTo>
                      <a:pt x="26" y="233"/>
                    </a:lnTo>
                    <a:lnTo>
                      <a:pt x="0" y="180"/>
                    </a:lnTo>
                    <a:lnTo>
                      <a:pt x="3" y="158"/>
                    </a:lnTo>
                    <a:lnTo>
                      <a:pt x="5" y="136"/>
                    </a:lnTo>
                    <a:lnTo>
                      <a:pt x="8" y="113"/>
                    </a:lnTo>
                    <a:lnTo>
                      <a:pt x="11" y="91"/>
                    </a:lnTo>
                    <a:lnTo>
                      <a:pt x="13" y="69"/>
                    </a:lnTo>
                    <a:lnTo>
                      <a:pt x="16" y="46"/>
                    </a:lnTo>
                    <a:lnTo>
                      <a:pt x="19" y="24"/>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689320" y="2447640"/>
                <a:ext cx="84600" cy="173880"/>
              </a:xfrm>
              <a:custGeom>
                <a:avLst/>
                <a:gdLst/>
                <a:ahLst/>
                <a:rect l="l" t="t" r="r" b="b"/>
                <a:pathLst>
                  <a:path w="227" h="608">
                    <a:moveTo>
                      <a:pt x="22" y="0"/>
                    </a:moveTo>
                    <a:lnTo>
                      <a:pt x="48" y="53"/>
                    </a:lnTo>
                    <a:lnTo>
                      <a:pt x="73" y="107"/>
                    </a:lnTo>
                    <a:lnTo>
                      <a:pt x="98" y="160"/>
                    </a:lnTo>
                    <a:lnTo>
                      <a:pt x="124" y="213"/>
                    </a:lnTo>
                    <a:lnTo>
                      <a:pt x="150" y="266"/>
                    </a:lnTo>
                    <a:lnTo>
                      <a:pt x="175" y="320"/>
                    </a:lnTo>
                    <a:lnTo>
                      <a:pt x="201" y="373"/>
                    </a:lnTo>
                    <a:lnTo>
                      <a:pt x="227" y="427"/>
                    </a:lnTo>
                    <a:lnTo>
                      <a:pt x="224" y="449"/>
                    </a:lnTo>
                    <a:lnTo>
                      <a:pt x="222" y="473"/>
                    </a:lnTo>
                    <a:lnTo>
                      <a:pt x="219" y="495"/>
                    </a:lnTo>
                    <a:lnTo>
                      <a:pt x="216" y="518"/>
                    </a:lnTo>
                    <a:lnTo>
                      <a:pt x="214" y="540"/>
                    </a:lnTo>
                    <a:lnTo>
                      <a:pt x="211" y="563"/>
                    </a:lnTo>
                    <a:lnTo>
                      <a:pt x="208" y="585"/>
                    </a:lnTo>
                    <a:lnTo>
                      <a:pt x="206" y="608"/>
                    </a:lnTo>
                    <a:lnTo>
                      <a:pt x="180" y="554"/>
                    </a:lnTo>
                    <a:lnTo>
                      <a:pt x="154" y="501"/>
                    </a:lnTo>
                    <a:lnTo>
                      <a:pt x="129" y="448"/>
                    </a:lnTo>
                    <a:lnTo>
                      <a:pt x="102" y="395"/>
                    </a:lnTo>
                    <a:lnTo>
                      <a:pt x="77" y="341"/>
                    </a:lnTo>
                    <a:lnTo>
                      <a:pt x="52" y="288"/>
                    </a:lnTo>
                    <a:lnTo>
                      <a:pt x="26" y="235"/>
                    </a:lnTo>
                    <a:lnTo>
                      <a:pt x="0" y="181"/>
                    </a:lnTo>
                    <a:lnTo>
                      <a:pt x="3" y="159"/>
                    </a:lnTo>
                    <a:lnTo>
                      <a:pt x="6" y="137"/>
                    </a:lnTo>
                    <a:lnTo>
                      <a:pt x="9" y="114"/>
                    </a:lnTo>
                    <a:lnTo>
                      <a:pt x="11" y="91"/>
                    </a:lnTo>
                    <a:lnTo>
                      <a:pt x="14" y="69"/>
                    </a:lnTo>
                    <a:lnTo>
                      <a:pt x="17" y="46"/>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8681760" y="2498760"/>
                <a:ext cx="83520" cy="173880"/>
              </a:xfrm>
              <a:custGeom>
                <a:avLst/>
                <a:gdLst/>
                <a:ahLst/>
                <a:rect l="l" t="t" r="r" b="b"/>
                <a:pathLst>
                  <a:path w="227" h="608">
                    <a:moveTo>
                      <a:pt x="21" y="0"/>
                    </a:moveTo>
                    <a:lnTo>
                      <a:pt x="47" y="54"/>
                    </a:lnTo>
                    <a:lnTo>
                      <a:pt x="73" y="107"/>
                    </a:lnTo>
                    <a:lnTo>
                      <a:pt x="98" y="160"/>
                    </a:lnTo>
                    <a:lnTo>
                      <a:pt x="123" y="214"/>
                    </a:lnTo>
                    <a:lnTo>
                      <a:pt x="150" y="267"/>
                    </a:lnTo>
                    <a:lnTo>
                      <a:pt x="175" y="320"/>
                    </a:lnTo>
                    <a:lnTo>
                      <a:pt x="201" y="373"/>
                    </a:lnTo>
                    <a:lnTo>
                      <a:pt x="227" y="427"/>
                    </a:lnTo>
                    <a:lnTo>
                      <a:pt x="224" y="449"/>
                    </a:lnTo>
                    <a:lnTo>
                      <a:pt x="221" y="471"/>
                    </a:lnTo>
                    <a:lnTo>
                      <a:pt x="219" y="495"/>
                    </a:lnTo>
                    <a:lnTo>
                      <a:pt x="216" y="517"/>
                    </a:lnTo>
                    <a:lnTo>
                      <a:pt x="213" y="540"/>
                    </a:lnTo>
                    <a:lnTo>
                      <a:pt x="211" y="564"/>
                    </a:lnTo>
                    <a:lnTo>
                      <a:pt x="208" y="586"/>
                    </a:lnTo>
                    <a:lnTo>
                      <a:pt x="205" y="608"/>
                    </a:lnTo>
                    <a:lnTo>
                      <a:pt x="179" y="555"/>
                    </a:lnTo>
                    <a:lnTo>
                      <a:pt x="154" y="501"/>
                    </a:lnTo>
                    <a:lnTo>
                      <a:pt x="127" y="448"/>
                    </a:lnTo>
                    <a:lnTo>
                      <a:pt x="102" y="394"/>
                    </a:lnTo>
                    <a:lnTo>
                      <a:pt x="77" y="341"/>
                    </a:lnTo>
                    <a:lnTo>
                      <a:pt x="51" y="287"/>
                    </a:lnTo>
                    <a:lnTo>
                      <a:pt x="26" y="234"/>
                    </a:lnTo>
                    <a:lnTo>
                      <a:pt x="0" y="181"/>
                    </a:lnTo>
                    <a:lnTo>
                      <a:pt x="2" y="159"/>
                    </a:lnTo>
                    <a:lnTo>
                      <a:pt x="5" y="137"/>
                    </a:lnTo>
                    <a:lnTo>
                      <a:pt x="7" y="114"/>
                    </a:lnTo>
                    <a:lnTo>
                      <a:pt x="10" y="91"/>
                    </a:lnTo>
                    <a:lnTo>
                      <a:pt x="13" y="69"/>
                    </a:lnTo>
                    <a:lnTo>
                      <a:pt x="15" y="47"/>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8672760" y="2552040"/>
                <a:ext cx="84960" cy="172440"/>
              </a:xfrm>
              <a:custGeom>
                <a:avLst/>
                <a:gdLst/>
                <a:ahLst/>
                <a:rect l="l" t="t" r="r" b="b"/>
                <a:pathLst>
                  <a:path w="227" h="609">
                    <a:moveTo>
                      <a:pt x="22" y="0"/>
                    </a:moveTo>
                    <a:lnTo>
                      <a:pt x="48" y="53"/>
                    </a:lnTo>
                    <a:lnTo>
                      <a:pt x="73" y="106"/>
                    </a:lnTo>
                    <a:lnTo>
                      <a:pt x="99" y="160"/>
                    </a:lnTo>
                    <a:lnTo>
                      <a:pt x="124" y="213"/>
                    </a:lnTo>
                    <a:lnTo>
                      <a:pt x="149" y="267"/>
                    </a:lnTo>
                    <a:lnTo>
                      <a:pt x="176" y="320"/>
                    </a:lnTo>
                    <a:lnTo>
                      <a:pt x="201" y="374"/>
                    </a:lnTo>
                    <a:lnTo>
                      <a:pt x="227" y="427"/>
                    </a:lnTo>
                    <a:lnTo>
                      <a:pt x="225" y="450"/>
                    </a:lnTo>
                    <a:lnTo>
                      <a:pt x="222" y="474"/>
                    </a:lnTo>
                    <a:lnTo>
                      <a:pt x="219" y="496"/>
                    </a:lnTo>
                    <a:lnTo>
                      <a:pt x="217" y="519"/>
                    </a:lnTo>
                    <a:lnTo>
                      <a:pt x="214" y="541"/>
                    </a:lnTo>
                    <a:lnTo>
                      <a:pt x="211" y="565"/>
                    </a:lnTo>
                    <a:lnTo>
                      <a:pt x="209" y="587"/>
                    </a:lnTo>
                    <a:lnTo>
                      <a:pt x="206" y="609"/>
                    </a:lnTo>
                    <a:lnTo>
                      <a:pt x="180" y="555"/>
                    </a:lnTo>
                    <a:lnTo>
                      <a:pt x="153" y="502"/>
                    </a:lnTo>
                    <a:lnTo>
                      <a:pt x="128" y="448"/>
                    </a:lnTo>
                    <a:lnTo>
                      <a:pt x="103" y="394"/>
                    </a:lnTo>
                    <a:lnTo>
                      <a:pt x="77" y="341"/>
                    </a:lnTo>
                    <a:lnTo>
                      <a:pt x="52" y="287"/>
                    </a:lnTo>
                    <a:lnTo>
                      <a:pt x="26" y="233"/>
                    </a:lnTo>
                    <a:lnTo>
                      <a:pt x="0" y="180"/>
                    </a:lnTo>
                    <a:lnTo>
                      <a:pt x="3" y="157"/>
                    </a:lnTo>
                    <a:lnTo>
                      <a:pt x="6" y="135"/>
                    </a:lnTo>
                    <a:lnTo>
                      <a:pt x="8" y="113"/>
                    </a:lnTo>
                    <a:lnTo>
                      <a:pt x="11" y="90"/>
                    </a:lnTo>
                    <a:lnTo>
                      <a:pt x="14" y="68"/>
                    </a:lnTo>
                    <a:lnTo>
                      <a:pt x="16" y="44"/>
                    </a:lnTo>
                    <a:lnTo>
                      <a:pt x="19" y="22"/>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8665200" y="2603160"/>
                <a:ext cx="83520" cy="173880"/>
              </a:xfrm>
              <a:custGeom>
                <a:avLst/>
                <a:gdLst/>
                <a:ahLst/>
                <a:rect l="l" t="t" r="r" b="b"/>
                <a:pathLst>
                  <a:path w="227" h="610">
                    <a:moveTo>
                      <a:pt x="21" y="0"/>
                    </a:moveTo>
                    <a:lnTo>
                      <a:pt x="47" y="53"/>
                    </a:lnTo>
                    <a:lnTo>
                      <a:pt x="73" y="107"/>
                    </a:lnTo>
                    <a:lnTo>
                      <a:pt x="98" y="161"/>
                    </a:lnTo>
                    <a:lnTo>
                      <a:pt x="124" y="214"/>
                    </a:lnTo>
                    <a:lnTo>
                      <a:pt x="149" y="268"/>
                    </a:lnTo>
                    <a:lnTo>
                      <a:pt x="174" y="322"/>
                    </a:lnTo>
                    <a:lnTo>
                      <a:pt x="201" y="375"/>
                    </a:lnTo>
                    <a:lnTo>
                      <a:pt x="227" y="429"/>
                    </a:lnTo>
                    <a:lnTo>
                      <a:pt x="224" y="453"/>
                    </a:lnTo>
                    <a:lnTo>
                      <a:pt x="222" y="475"/>
                    </a:lnTo>
                    <a:lnTo>
                      <a:pt x="219" y="498"/>
                    </a:lnTo>
                    <a:lnTo>
                      <a:pt x="216" y="520"/>
                    </a:lnTo>
                    <a:lnTo>
                      <a:pt x="214" y="542"/>
                    </a:lnTo>
                    <a:lnTo>
                      <a:pt x="211" y="566"/>
                    </a:lnTo>
                    <a:lnTo>
                      <a:pt x="208" y="588"/>
                    </a:lnTo>
                    <a:lnTo>
                      <a:pt x="206" y="610"/>
                    </a:lnTo>
                    <a:lnTo>
                      <a:pt x="179" y="556"/>
                    </a:lnTo>
                    <a:lnTo>
                      <a:pt x="153" y="502"/>
                    </a:lnTo>
                    <a:lnTo>
                      <a:pt x="128" y="449"/>
                    </a:lnTo>
                    <a:lnTo>
                      <a:pt x="102" y="395"/>
                    </a:lnTo>
                    <a:lnTo>
                      <a:pt x="77" y="341"/>
                    </a:lnTo>
                    <a:lnTo>
                      <a:pt x="51" y="286"/>
                    </a:lnTo>
                    <a:lnTo>
                      <a:pt x="25" y="233"/>
                    </a:lnTo>
                    <a:lnTo>
                      <a:pt x="0" y="179"/>
                    </a:lnTo>
                    <a:lnTo>
                      <a:pt x="3" y="157"/>
                    </a:lnTo>
                    <a:lnTo>
                      <a:pt x="5" y="135"/>
                    </a:lnTo>
                    <a:lnTo>
                      <a:pt x="8" y="113"/>
                    </a:lnTo>
                    <a:lnTo>
                      <a:pt x="11" y="91"/>
                    </a:lnTo>
                    <a:lnTo>
                      <a:pt x="13" y="67"/>
                    </a:lnTo>
                    <a:lnTo>
                      <a:pt x="16" y="45"/>
                    </a:lnTo>
                    <a:lnTo>
                      <a:pt x="19"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656560" y="2653200"/>
                <a:ext cx="84600" cy="175320"/>
              </a:xfrm>
              <a:custGeom>
                <a:avLst/>
                <a:gdLst/>
                <a:ahLst/>
                <a:rect l="l" t="t" r="r" b="b"/>
                <a:pathLst>
                  <a:path w="227" h="613">
                    <a:moveTo>
                      <a:pt x="21" y="0"/>
                    </a:moveTo>
                    <a:lnTo>
                      <a:pt x="46" y="54"/>
                    </a:lnTo>
                    <a:lnTo>
                      <a:pt x="72" y="107"/>
                    </a:lnTo>
                    <a:lnTo>
                      <a:pt x="98" y="162"/>
                    </a:lnTo>
                    <a:lnTo>
                      <a:pt x="123" y="216"/>
                    </a:lnTo>
                    <a:lnTo>
                      <a:pt x="149" y="270"/>
                    </a:lnTo>
                    <a:lnTo>
                      <a:pt x="174" y="323"/>
                    </a:lnTo>
                    <a:lnTo>
                      <a:pt x="200" y="377"/>
                    </a:lnTo>
                    <a:lnTo>
                      <a:pt x="227" y="431"/>
                    </a:lnTo>
                    <a:lnTo>
                      <a:pt x="224" y="455"/>
                    </a:lnTo>
                    <a:lnTo>
                      <a:pt x="221" y="477"/>
                    </a:lnTo>
                    <a:lnTo>
                      <a:pt x="219" y="500"/>
                    </a:lnTo>
                    <a:lnTo>
                      <a:pt x="216" y="522"/>
                    </a:lnTo>
                    <a:lnTo>
                      <a:pt x="212" y="546"/>
                    </a:lnTo>
                    <a:lnTo>
                      <a:pt x="210" y="568"/>
                    </a:lnTo>
                    <a:lnTo>
                      <a:pt x="207" y="591"/>
                    </a:lnTo>
                    <a:lnTo>
                      <a:pt x="204" y="613"/>
                    </a:lnTo>
                    <a:lnTo>
                      <a:pt x="178" y="559"/>
                    </a:lnTo>
                    <a:lnTo>
                      <a:pt x="153" y="506"/>
                    </a:lnTo>
                    <a:lnTo>
                      <a:pt x="127" y="452"/>
                    </a:lnTo>
                    <a:lnTo>
                      <a:pt x="102" y="398"/>
                    </a:lnTo>
                    <a:lnTo>
                      <a:pt x="76" y="345"/>
                    </a:lnTo>
                    <a:lnTo>
                      <a:pt x="50" y="291"/>
                    </a:lnTo>
                    <a:lnTo>
                      <a:pt x="25" y="237"/>
                    </a:lnTo>
                    <a:lnTo>
                      <a:pt x="0" y="182"/>
                    </a:lnTo>
                    <a:lnTo>
                      <a:pt x="2" y="160"/>
                    </a:lnTo>
                    <a:lnTo>
                      <a:pt x="5" y="137"/>
                    </a:lnTo>
                    <a:lnTo>
                      <a:pt x="8" y="115"/>
                    </a:lnTo>
                    <a:lnTo>
                      <a:pt x="10" y="91"/>
                    </a:lnTo>
                    <a:lnTo>
                      <a:pt x="13" y="69"/>
                    </a:lnTo>
                    <a:lnTo>
                      <a:pt x="16" y="46"/>
                    </a:lnTo>
                    <a:lnTo>
                      <a:pt x="18" y="24"/>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649000" y="2706120"/>
                <a:ext cx="84600" cy="173880"/>
              </a:xfrm>
              <a:custGeom>
                <a:avLst/>
                <a:gdLst/>
                <a:ahLst/>
                <a:rect l="l" t="t" r="r" b="b"/>
                <a:pathLst>
                  <a:path w="226" h="613">
                    <a:moveTo>
                      <a:pt x="22" y="0"/>
                    </a:moveTo>
                    <a:lnTo>
                      <a:pt x="47" y="55"/>
                    </a:lnTo>
                    <a:lnTo>
                      <a:pt x="72" y="109"/>
                    </a:lnTo>
                    <a:lnTo>
                      <a:pt x="98" y="163"/>
                    </a:lnTo>
                    <a:lnTo>
                      <a:pt x="124" y="216"/>
                    </a:lnTo>
                    <a:lnTo>
                      <a:pt x="149" y="270"/>
                    </a:lnTo>
                    <a:lnTo>
                      <a:pt x="175" y="324"/>
                    </a:lnTo>
                    <a:lnTo>
                      <a:pt x="200" y="377"/>
                    </a:lnTo>
                    <a:lnTo>
                      <a:pt x="226" y="431"/>
                    </a:lnTo>
                    <a:lnTo>
                      <a:pt x="224" y="455"/>
                    </a:lnTo>
                    <a:lnTo>
                      <a:pt x="221" y="477"/>
                    </a:lnTo>
                    <a:lnTo>
                      <a:pt x="218" y="500"/>
                    </a:lnTo>
                    <a:lnTo>
                      <a:pt x="216" y="522"/>
                    </a:lnTo>
                    <a:lnTo>
                      <a:pt x="213" y="546"/>
                    </a:lnTo>
                    <a:lnTo>
                      <a:pt x="210" y="568"/>
                    </a:lnTo>
                    <a:lnTo>
                      <a:pt x="208" y="590"/>
                    </a:lnTo>
                    <a:lnTo>
                      <a:pt x="205" y="613"/>
                    </a:lnTo>
                    <a:lnTo>
                      <a:pt x="179" y="559"/>
                    </a:lnTo>
                    <a:lnTo>
                      <a:pt x="153" y="505"/>
                    </a:lnTo>
                    <a:lnTo>
                      <a:pt x="128" y="451"/>
                    </a:lnTo>
                    <a:lnTo>
                      <a:pt x="101" y="397"/>
                    </a:lnTo>
                    <a:lnTo>
                      <a:pt x="76" y="343"/>
                    </a:lnTo>
                    <a:lnTo>
                      <a:pt x="50" y="289"/>
                    </a:lnTo>
                    <a:lnTo>
                      <a:pt x="25" y="234"/>
                    </a:lnTo>
                    <a:lnTo>
                      <a:pt x="0" y="181"/>
                    </a:lnTo>
                    <a:lnTo>
                      <a:pt x="3" y="159"/>
                    </a:lnTo>
                    <a:lnTo>
                      <a:pt x="6" y="137"/>
                    </a:lnTo>
                    <a:lnTo>
                      <a:pt x="8" y="114"/>
                    </a:lnTo>
                    <a:lnTo>
                      <a:pt x="11" y="92"/>
                    </a:lnTo>
                    <a:lnTo>
                      <a:pt x="14" y="69"/>
                    </a:lnTo>
                    <a:lnTo>
                      <a:pt x="16" y="46"/>
                    </a:lnTo>
                    <a:lnTo>
                      <a:pt x="19" y="24"/>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641800" y="2757240"/>
                <a:ext cx="83520" cy="175320"/>
              </a:xfrm>
              <a:custGeom>
                <a:avLst/>
                <a:gdLst/>
                <a:ahLst/>
                <a:rect l="l" t="t" r="r" b="b"/>
                <a:pathLst>
                  <a:path w="227" h="613">
                    <a:moveTo>
                      <a:pt x="22" y="0"/>
                    </a:moveTo>
                    <a:lnTo>
                      <a:pt x="47" y="53"/>
                    </a:lnTo>
                    <a:lnTo>
                      <a:pt x="72" y="108"/>
                    </a:lnTo>
                    <a:lnTo>
                      <a:pt x="98" y="162"/>
                    </a:lnTo>
                    <a:lnTo>
                      <a:pt x="123" y="216"/>
                    </a:lnTo>
                    <a:lnTo>
                      <a:pt x="150" y="270"/>
                    </a:lnTo>
                    <a:lnTo>
                      <a:pt x="175" y="324"/>
                    </a:lnTo>
                    <a:lnTo>
                      <a:pt x="201" y="378"/>
                    </a:lnTo>
                    <a:lnTo>
                      <a:pt x="227" y="432"/>
                    </a:lnTo>
                    <a:lnTo>
                      <a:pt x="224" y="455"/>
                    </a:lnTo>
                    <a:lnTo>
                      <a:pt x="222" y="478"/>
                    </a:lnTo>
                    <a:lnTo>
                      <a:pt x="219" y="500"/>
                    </a:lnTo>
                    <a:lnTo>
                      <a:pt x="216" y="524"/>
                    </a:lnTo>
                    <a:lnTo>
                      <a:pt x="213" y="546"/>
                    </a:lnTo>
                    <a:lnTo>
                      <a:pt x="211" y="568"/>
                    </a:lnTo>
                    <a:lnTo>
                      <a:pt x="208" y="591"/>
                    </a:lnTo>
                    <a:lnTo>
                      <a:pt x="206" y="613"/>
                    </a:lnTo>
                    <a:lnTo>
                      <a:pt x="180" y="559"/>
                    </a:lnTo>
                    <a:lnTo>
                      <a:pt x="154" y="505"/>
                    </a:lnTo>
                    <a:lnTo>
                      <a:pt x="127" y="451"/>
                    </a:lnTo>
                    <a:lnTo>
                      <a:pt x="102" y="397"/>
                    </a:lnTo>
                    <a:lnTo>
                      <a:pt x="76" y="343"/>
                    </a:lnTo>
                    <a:lnTo>
                      <a:pt x="51" y="288"/>
                    </a:lnTo>
                    <a:lnTo>
                      <a:pt x="26" y="236"/>
                    </a:lnTo>
                    <a:lnTo>
                      <a:pt x="0" y="181"/>
                    </a:lnTo>
                    <a:lnTo>
                      <a:pt x="3" y="159"/>
                    </a:lnTo>
                    <a:lnTo>
                      <a:pt x="6" y="136"/>
                    </a:lnTo>
                    <a:lnTo>
                      <a:pt x="9" y="114"/>
                    </a:lnTo>
                    <a:lnTo>
                      <a:pt x="12" y="92"/>
                    </a:lnTo>
                    <a:lnTo>
                      <a:pt x="14" y="68"/>
                    </a:lnTo>
                    <a:lnTo>
                      <a:pt x="17" y="46"/>
                    </a:lnTo>
                    <a:lnTo>
                      <a:pt x="20"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632440" y="2808720"/>
                <a:ext cx="84960" cy="175680"/>
              </a:xfrm>
              <a:custGeom>
                <a:avLst/>
                <a:gdLst/>
                <a:ahLst/>
                <a:rect l="l" t="t" r="r" b="b"/>
                <a:pathLst>
                  <a:path w="227" h="613">
                    <a:moveTo>
                      <a:pt x="21" y="0"/>
                    </a:moveTo>
                    <a:lnTo>
                      <a:pt x="47" y="55"/>
                    </a:lnTo>
                    <a:lnTo>
                      <a:pt x="72" y="107"/>
                    </a:lnTo>
                    <a:lnTo>
                      <a:pt x="97" y="162"/>
                    </a:lnTo>
                    <a:lnTo>
                      <a:pt x="123" y="216"/>
                    </a:lnTo>
                    <a:lnTo>
                      <a:pt x="148" y="270"/>
                    </a:lnTo>
                    <a:lnTo>
                      <a:pt x="175" y="324"/>
                    </a:lnTo>
                    <a:lnTo>
                      <a:pt x="201" y="378"/>
                    </a:lnTo>
                    <a:lnTo>
                      <a:pt x="227" y="432"/>
                    </a:lnTo>
                    <a:lnTo>
                      <a:pt x="224" y="455"/>
                    </a:lnTo>
                    <a:lnTo>
                      <a:pt x="221" y="478"/>
                    </a:lnTo>
                    <a:lnTo>
                      <a:pt x="219" y="500"/>
                    </a:lnTo>
                    <a:lnTo>
                      <a:pt x="216" y="524"/>
                    </a:lnTo>
                    <a:lnTo>
                      <a:pt x="213" y="546"/>
                    </a:lnTo>
                    <a:lnTo>
                      <a:pt x="210" y="569"/>
                    </a:lnTo>
                    <a:lnTo>
                      <a:pt x="208" y="591"/>
                    </a:lnTo>
                    <a:lnTo>
                      <a:pt x="205" y="613"/>
                    </a:lnTo>
                    <a:lnTo>
                      <a:pt x="179" y="559"/>
                    </a:lnTo>
                    <a:lnTo>
                      <a:pt x="154" y="505"/>
                    </a:lnTo>
                    <a:lnTo>
                      <a:pt x="127" y="451"/>
                    </a:lnTo>
                    <a:lnTo>
                      <a:pt x="101" y="397"/>
                    </a:lnTo>
                    <a:lnTo>
                      <a:pt x="76" y="343"/>
                    </a:lnTo>
                    <a:lnTo>
                      <a:pt x="51" y="288"/>
                    </a:lnTo>
                    <a:lnTo>
                      <a:pt x="25" y="234"/>
                    </a:lnTo>
                    <a:lnTo>
                      <a:pt x="0" y="180"/>
                    </a:lnTo>
                    <a:lnTo>
                      <a:pt x="2" y="158"/>
                    </a:lnTo>
                    <a:lnTo>
                      <a:pt x="5" y="136"/>
                    </a:lnTo>
                    <a:lnTo>
                      <a:pt x="8" y="114"/>
                    </a:lnTo>
                    <a:lnTo>
                      <a:pt x="10" y="90"/>
                    </a:lnTo>
                    <a:lnTo>
                      <a:pt x="13" y="68"/>
                    </a:lnTo>
                    <a:lnTo>
                      <a:pt x="16" y="46"/>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625240" y="2859840"/>
                <a:ext cx="83520" cy="175680"/>
              </a:xfrm>
              <a:custGeom>
                <a:avLst/>
                <a:gdLst/>
                <a:ahLst/>
                <a:rect l="l" t="t" r="r" b="b"/>
                <a:pathLst>
                  <a:path w="226" h="616">
                    <a:moveTo>
                      <a:pt x="21" y="0"/>
                    </a:moveTo>
                    <a:lnTo>
                      <a:pt x="46" y="54"/>
                    </a:lnTo>
                    <a:lnTo>
                      <a:pt x="72" y="108"/>
                    </a:lnTo>
                    <a:lnTo>
                      <a:pt x="97" y="163"/>
                    </a:lnTo>
                    <a:lnTo>
                      <a:pt x="122" y="217"/>
                    </a:lnTo>
                    <a:lnTo>
                      <a:pt x="148" y="271"/>
                    </a:lnTo>
                    <a:lnTo>
                      <a:pt x="175" y="325"/>
                    </a:lnTo>
                    <a:lnTo>
                      <a:pt x="200" y="379"/>
                    </a:lnTo>
                    <a:lnTo>
                      <a:pt x="226" y="433"/>
                    </a:lnTo>
                    <a:lnTo>
                      <a:pt x="224" y="457"/>
                    </a:lnTo>
                    <a:lnTo>
                      <a:pt x="221" y="480"/>
                    </a:lnTo>
                    <a:lnTo>
                      <a:pt x="218" y="502"/>
                    </a:lnTo>
                    <a:lnTo>
                      <a:pt x="215" y="526"/>
                    </a:lnTo>
                    <a:lnTo>
                      <a:pt x="213" y="548"/>
                    </a:lnTo>
                    <a:lnTo>
                      <a:pt x="210" y="571"/>
                    </a:lnTo>
                    <a:lnTo>
                      <a:pt x="207" y="593"/>
                    </a:lnTo>
                    <a:lnTo>
                      <a:pt x="205" y="616"/>
                    </a:lnTo>
                    <a:lnTo>
                      <a:pt x="179" y="561"/>
                    </a:lnTo>
                    <a:lnTo>
                      <a:pt x="152" y="507"/>
                    </a:lnTo>
                    <a:lnTo>
                      <a:pt x="127" y="452"/>
                    </a:lnTo>
                    <a:lnTo>
                      <a:pt x="101" y="398"/>
                    </a:lnTo>
                    <a:lnTo>
                      <a:pt x="76" y="344"/>
                    </a:lnTo>
                    <a:lnTo>
                      <a:pt x="51" y="289"/>
                    </a:lnTo>
                    <a:lnTo>
                      <a:pt x="24" y="234"/>
                    </a:lnTo>
                    <a:lnTo>
                      <a:pt x="0" y="180"/>
                    </a:lnTo>
                    <a:lnTo>
                      <a:pt x="2" y="159"/>
                    </a:lnTo>
                    <a:lnTo>
                      <a:pt x="5" y="135"/>
                    </a:lnTo>
                    <a:lnTo>
                      <a:pt x="7" y="113"/>
                    </a:lnTo>
                    <a:lnTo>
                      <a:pt x="10" y="91"/>
                    </a:lnTo>
                    <a:lnTo>
                      <a:pt x="13" y="69"/>
                    </a:lnTo>
                    <a:lnTo>
                      <a:pt x="15" y="46"/>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616240" y="2911320"/>
                <a:ext cx="84600" cy="176760"/>
              </a:xfrm>
              <a:custGeom>
                <a:avLst/>
                <a:gdLst/>
                <a:ahLst/>
                <a:rect l="l" t="t" r="r" b="b"/>
                <a:pathLst>
                  <a:path w="227" h="618">
                    <a:moveTo>
                      <a:pt x="22" y="0"/>
                    </a:moveTo>
                    <a:lnTo>
                      <a:pt x="46" y="54"/>
                    </a:lnTo>
                    <a:lnTo>
                      <a:pt x="73" y="109"/>
                    </a:lnTo>
                    <a:lnTo>
                      <a:pt x="98" y="164"/>
                    </a:lnTo>
                    <a:lnTo>
                      <a:pt x="123" y="218"/>
                    </a:lnTo>
                    <a:lnTo>
                      <a:pt x="149" y="272"/>
                    </a:lnTo>
                    <a:lnTo>
                      <a:pt x="174" y="327"/>
                    </a:lnTo>
                    <a:lnTo>
                      <a:pt x="201" y="381"/>
                    </a:lnTo>
                    <a:lnTo>
                      <a:pt x="227" y="436"/>
                    </a:lnTo>
                    <a:lnTo>
                      <a:pt x="224" y="459"/>
                    </a:lnTo>
                    <a:lnTo>
                      <a:pt x="221" y="481"/>
                    </a:lnTo>
                    <a:lnTo>
                      <a:pt x="219" y="504"/>
                    </a:lnTo>
                    <a:lnTo>
                      <a:pt x="216" y="527"/>
                    </a:lnTo>
                    <a:lnTo>
                      <a:pt x="213" y="550"/>
                    </a:lnTo>
                    <a:lnTo>
                      <a:pt x="211" y="572"/>
                    </a:lnTo>
                    <a:lnTo>
                      <a:pt x="208" y="596"/>
                    </a:lnTo>
                    <a:lnTo>
                      <a:pt x="205" y="618"/>
                    </a:lnTo>
                    <a:lnTo>
                      <a:pt x="179" y="562"/>
                    </a:lnTo>
                    <a:lnTo>
                      <a:pt x="153" y="508"/>
                    </a:lnTo>
                    <a:lnTo>
                      <a:pt x="127" y="454"/>
                    </a:lnTo>
                    <a:lnTo>
                      <a:pt x="102" y="399"/>
                    </a:lnTo>
                    <a:lnTo>
                      <a:pt x="76" y="344"/>
                    </a:lnTo>
                    <a:lnTo>
                      <a:pt x="50" y="290"/>
                    </a:lnTo>
                    <a:lnTo>
                      <a:pt x="25" y="236"/>
                    </a:lnTo>
                    <a:lnTo>
                      <a:pt x="0" y="182"/>
                    </a:lnTo>
                    <a:lnTo>
                      <a:pt x="3" y="159"/>
                    </a:lnTo>
                    <a:lnTo>
                      <a:pt x="5" y="136"/>
                    </a:lnTo>
                    <a:lnTo>
                      <a:pt x="8" y="114"/>
                    </a:lnTo>
                    <a:lnTo>
                      <a:pt x="11" y="91"/>
                    </a:lnTo>
                    <a:lnTo>
                      <a:pt x="13" y="69"/>
                    </a:lnTo>
                    <a:lnTo>
                      <a:pt x="16"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608680" y="2964240"/>
                <a:ext cx="84600" cy="175320"/>
              </a:xfrm>
              <a:custGeom>
                <a:avLst/>
                <a:gdLst/>
                <a:ahLst/>
                <a:rect l="l" t="t" r="r" b="b"/>
                <a:pathLst>
                  <a:path w="226" h="617">
                    <a:moveTo>
                      <a:pt x="21" y="0"/>
                    </a:moveTo>
                    <a:lnTo>
                      <a:pt x="46" y="54"/>
                    </a:lnTo>
                    <a:lnTo>
                      <a:pt x="71" y="108"/>
                    </a:lnTo>
                    <a:lnTo>
                      <a:pt x="97" y="162"/>
                    </a:lnTo>
                    <a:lnTo>
                      <a:pt x="123" y="217"/>
                    </a:lnTo>
                    <a:lnTo>
                      <a:pt x="148" y="272"/>
                    </a:lnTo>
                    <a:lnTo>
                      <a:pt x="174" y="326"/>
                    </a:lnTo>
                    <a:lnTo>
                      <a:pt x="200" y="380"/>
                    </a:lnTo>
                    <a:lnTo>
                      <a:pt x="226" y="436"/>
                    </a:lnTo>
                    <a:lnTo>
                      <a:pt x="224" y="459"/>
                    </a:lnTo>
                    <a:lnTo>
                      <a:pt x="221" y="481"/>
                    </a:lnTo>
                    <a:lnTo>
                      <a:pt x="218" y="505"/>
                    </a:lnTo>
                    <a:lnTo>
                      <a:pt x="215" y="527"/>
                    </a:lnTo>
                    <a:lnTo>
                      <a:pt x="212" y="549"/>
                    </a:lnTo>
                    <a:lnTo>
                      <a:pt x="209" y="572"/>
                    </a:lnTo>
                    <a:lnTo>
                      <a:pt x="207" y="595"/>
                    </a:lnTo>
                    <a:lnTo>
                      <a:pt x="204" y="617"/>
                    </a:lnTo>
                    <a:lnTo>
                      <a:pt x="178" y="563"/>
                    </a:lnTo>
                    <a:lnTo>
                      <a:pt x="152" y="507"/>
                    </a:lnTo>
                    <a:lnTo>
                      <a:pt x="127" y="453"/>
                    </a:lnTo>
                    <a:lnTo>
                      <a:pt x="101" y="399"/>
                    </a:lnTo>
                    <a:lnTo>
                      <a:pt x="75" y="343"/>
                    </a:lnTo>
                    <a:lnTo>
                      <a:pt x="50" y="289"/>
                    </a:lnTo>
                    <a:lnTo>
                      <a:pt x="25" y="235"/>
                    </a:lnTo>
                    <a:lnTo>
                      <a:pt x="0" y="181"/>
                    </a:lnTo>
                    <a:lnTo>
                      <a:pt x="3" y="159"/>
                    </a:lnTo>
                    <a:lnTo>
                      <a:pt x="5" y="135"/>
                    </a:lnTo>
                    <a:lnTo>
                      <a:pt x="8" y="113"/>
                    </a:lnTo>
                    <a:lnTo>
                      <a:pt x="10" y="91"/>
                    </a:lnTo>
                    <a:lnTo>
                      <a:pt x="13" y="68"/>
                    </a:lnTo>
                    <a:lnTo>
                      <a:pt x="16" y="46"/>
                    </a:lnTo>
                    <a:lnTo>
                      <a:pt x="19" y="22"/>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601480" y="3015720"/>
                <a:ext cx="83520" cy="175320"/>
              </a:xfrm>
              <a:custGeom>
                <a:avLst/>
                <a:gdLst/>
                <a:ahLst/>
                <a:rect l="l" t="t" r="r" b="b"/>
                <a:pathLst>
                  <a:path w="225" h="618">
                    <a:moveTo>
                      <a:pt x="21" y="0"/>
                    </a:moveTo>
                    <a:lnTo>
                      <a:pt x="46" y="54"/>
                    </a:lnTo>
                    <a:lnTo>
                      <a:pt x="71" y="108"/>
                    </a:lnTo>
                    <a:lnTo>
                      <a:pt x="96" y="162"/>
                    </a:lnTo>
                    <a:lnTo>
                      <a:pt x="122" y="218"/>
                    </a:lnTo>
                    <a:lnTo>
                      <a:pt x="148" y="272"/>
                    </a:lnTo>
                    <a:lnTo>
                      <a:pt x="173" y="326"/>
                    </a:lnTo>
                    <a:lnTo>
                      <a:pt x="199" y="382"/>
                    </a:lnTo>
                    <a:lnTo>
                      <a:pt x="225" y="436"/>
                    </a:lnTo>
                    <a:lnTo>
                      <a:pt x="222" y="459"/>
                    </a:lnTo>
                    <a:lnTo>
                      <a:pt x="220" y="481"/>
                    </a:lnTo>
                    <a:lnTo>
                      <a:pt x="217" y="505"/>
                    </a:lnTo>
                    <a:lnTo>
                      <a:pt x="214" y="528"/>
                    </a:lnTo>
                    <a:lnTo>
                      <a:pt x="212" y="550"/>
                    </a:lnTo>
                    <a:lnTo>
                      <a:pt x="209" y="574"/>
                    </a:lnTo>
                    <a:lnTo>
                      <a:pt x="206" y="596"/>
                    </a:lnTo>
                    <a:lnTo>
                      <a:pt x="204" y="618"/>
                    </a:lnTo>
                    <a:lnTo>
                      <a:pt x="178" y="562"/>
                    </a:lnTo>
                    <a:lnTo>
                      <a:pt x="152" y="508"/>
                    </a:lnTo>
                    <a:lnTo>
                      <a:pt x="126" y="454"/>
                    </a:lnTo>
                    <a:lnTo>
                      <a:pt x="100" y="399"/>
                    </a:lnTo>
                    <a:lnTo>
                      <a:pt x="75" y="345"/>
                    </a:lnTo>
                    <a:lnTo>
                      <a:pt x="49" y="290"/>
                    </a:lnTo>
                    <a:lnTo>
                      <a:pt x="24" y="235"/>
                    </a:lnTo>
                    <a:lnTo>
                      <a:pt x="0" y="181"/>
                    </a:lnTo>
                    <a:lnTo>
                      <a:pt x="2" y="159"/>
                    </a:lnTo>
                    <a:lnTo>
                      <a:pt x="5" y="137"/>
                    </a:lnTo>
                    <a:lnTo>
                      <a:pt x="7" y="113"/>
                    </a:lnTo>
                    <a:lnTo>
                      <a:pt x="10" y="91"/>
                    </a:lnTo>
                    <a:lnTo>
                      <a:pt x="13" y="69"/>
                    </a:lnTo>
                    <a:lnTo>
                      <a:pt x="15" y="45"/>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592120" y="3067200"/>
                <a:ext cx="84960" cy="176400"/>
              </a:xfrm>
              <a:custGeom>
                <a:avLst/>
                <a:gdLst/>
                <a:ahLst/>
                <a:rect l="l" t="t" r="r" b="b"/>
                <a:pathLst>
                  <a:path w="227" h="620">
                    <a:moveTo>
                      <a:pt x="23" y="0"/>
                    </a:moveTo>
                    <a:lnTo>
                      <a:pt x="47" y="54"/>
                    </a:lnTo>
                    <a:lnTo>
                      <a:pt x="72" y="109"/>
                    </a:lnTo>
                    <a:lnTo>
                      <a:pt x="98" y="164"/>
                    </a:lnTo>
                    <a:lnTo>
                      <a:pt x="123" y="218"/>
                    </a:lnTo>
                    <a:lnTo>
                      <a:pt x="149" y="273"/>
                    </a:lnTo>
                    <a:lnTo>
                      <a:pt x="175" y="327"/>
                    </a:lnTo>
                    <a:lnTo>
                      <a:pt x="201" y="381"/>
                    </a:lnTo>
                    <a:lnTo>
                      <a:pt x="227" y="437"/>
                    </a:lnTo>
                    <a:lnTo>
                      <a:pt x="224" y="460"/>
                    </a:lnTo>
                    <a:lnTo>
                      <a:pt x="221" y="482"/>
                    </a:lnTo>
                    <a:lnTo>
                      <a:pt x="219" y="506"/>
                    </a:lnTo>
                    <a:lnTo>
                      <a:pt x="216" y="529"/>
                    </a:lnTo>
                    <a:lnTo>
                      <a:pt x="213" y="551"/>
                    </a:lnTo>
                    <a:lnTo>
                      <a:pt x="211" y="575"/>
                    </a:lnTo>
                    <a:lnTo>
                      <a:pt x="208" y="597"/>
                    </a:lnTo>
                    <a:lnTo>
                      <a:pt x="205" y="620"/>
                    </a:lnTo>
                    <a:lnTo>
                      <a:pt x="179" y="565"/>
                    </a:lnTo>
                    <a:lnTo>
                      <a:pt x="154" y="510"/>
                    </a:lnTo>
                    <a:lnTo>
                      <a:pt x="127" y="454"/>
                    </a:lnTo>
                    <a:lnTo>
                      <a:pt x="102" y="400"/>
                    </a:lnTo>
                    <a:lnTo>
                      <a:pt x="76" y="345"/>
                    </a:lnTo>
                    <a:lnTo>
                      <a:pt x="51" y="290"/>
                    </a:lnTo>
                    <a:lnTo>
                      <a:pt x="26" y="236"/>
                    </a:lnTo>
                    <a:lnTo>
                      <a:pt x="0" y="182"/>
                    </a:lnTo>
                    <a:lnTo>
                      <a:pt x="3" y="159"/>
                    </a:lnTo>
                    <a:lnTo>
                      <a:pt x="5" y="137"/>
                    </a:lnTo>
                    <a:lnTo>
                      <a:pt x="9" y="113"/>
                    </a:lnTo>
                    <a:lnTo>
                      <a:pt x="12" y="91"/>
                    </a:lnTo>
                    <a:lnTo>
                      <a:pt x="14" y="68"/>
                    </a:lnTo>
                    <a:lnTo>
                      <a:pt x="17" y="45"/>
                    </a:lnTo>
                    <a:lnTo>
                      <a:pt x="20" y="23"/>
                    </a:lnTo>
                    <a:lnTo>
                      <a:pt x="23"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84920" y="3118320"/>
                <a:ext cx="84960" cy="176760"/>
              </a:xfrm>
              <a:custGeom>
                <a:avLst/>
                <a:gdLst/>
                <a:ahLst/>
                <a:rect l="l" t="t" r="r" b="b"/>
                <a:pathLst>
                  <a:path w="226" h="620">
                    <a:moveTo>
                      <a:pt x="21" y="0"/>
                    </a:moveTo>
                    <a:lnTo>
                      <a:pt x="47" y="54"/>
                    </a:lnTo>
                    <a:lnTo>
                      <a:pt x="72" y="108"/>
                    </a:lnTo>
                    <a:lnTo>
                      <a:pt x="97" y="163"/>
                    </a:lnTo>
                    <a:lnTo>
                      <a:pt x="123" y="218"/>
                    </a:lnTo>
                    <a:lnTo>
                      <a:pt x="148" y="272"/>
                    </a:lnTo>
                    <a:lnTo>
                      <a:pt x="175" y="328"/>
                    </a:lnTo>
                    <a:lnTo>
                      <a:pt x="200" y="383"/>
                    </a:lnTo>
                    <a:lnTo>
                      <a:pt x="226" y="438"/>
                    </a:lnTo>
                    <a:lnTo>
                      <a:pt x="224" y="460"/>
                    </a:lnTo>
                    <a:lnTo>
                      <a:pt x="221" y="484"/>
                    </a:lnTo>
                    <a:lnTo>
                      <a:pt x="218" y="506"/>
                    </a:lnTo>
                    <a:lnTo>
                      <a:pt x="216" y="529"/>
                    </a:lnTo>
                    <a:lnTo>
                      <a:pt x="213" y="552"/>
                    </a:lnTo>
                    <a:lnTo>
                      <a:pt x="210" y="575"/>
                    </a:lnTo>
                    <a:lnTo>
                      <a:pt x="208" y="597"/>
                    </a:lnTo>
                    <a:lnTo>
                      <a:pt x="205" y="620"/>
                    </a:lnTo>
                    <a:lnTo>
                      <a:pt x="179" y="565"/>
                    </a:lnTo>
                    <a:lnTo>
                      <a:pt x="152" y="510"/>
                    </a:lnTo>
                    <a:lnTo>
                      <a:pt x="127" y="456"/>
                    </a:lnTo>
                    <a:lnTo>
                      <a:pt x="101" y="400"/>
                    </a:lnTo>
                    <a:lnTo>
                      <a:pt x="76" y="345"/>
                    </a:lnTo>
                    <a:lnTo>
                      <a:pt x="51" y="291"/>
                    </a:lnTo>
                    <a:lnTo>
                      <a:pt x="25" y="235"/>
                    </a:lnTo>
                    <a:lnTo>
                      <a:pt x="0" y="181"/>
                    </a:lnTo>
                    <a:lnTo>
                      <a:pt x="2" y="159"/>
                    </a:lnTo>
                    <a:lnTo>
                      <a:pt x="5" y="135"/>
                    </a:lnTo>
                    <a:lnTo>
                      <a:pt x="8" y="113"/>
                    </a:lnTo>
                    <a:lnTo>
                      <a:pt x="10" y="90"/>
                    </a:lnTo>
                    <a:lnTo>
                      <a:pt x="13" y="68"/>
                    </a:lnTo>
                    <a:lnTo>
                      <a:pt x="16" y="44"/>
                    </a:lnTo>
                    <a:lnTo>
                      <a:pt x="18" y="22"/>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577360" y="3171240"/>
                <a:ext cx="83520" cy="176760"/>
              </a:xfrm>
              <a:custGeom>
                <a:avLst/>
                <a:gdLst/>
                <a:ahLst/>
                <a:rect l="l" t="t" r="r" b="b"/>
                <a:pathLst>
                  <a:path w="227" h="620">
                    <a:moveTo>
                      <a:pt x="22" y="0"/>
                    </a:moveTo>
                    <a:lnTo>
                      <a:pt x="47" y="54"/>
                    </a:lnTo>
                    <a:lnTo>
                      <a:pt x="73" y="110"/>
                    </a:lnTo>
                    <a:lnTo>
                      <a:pt x="98" y="164"/>
                    </a:lnTo>
                    <a:lnTo>
                      <a:pt x="123" y="219"/>
                    </a:lnTo>
                    <a:lnTo>
                      <a:pt x="149" y="275"/>
                    </a:lnTo>
                    <a:lnTo>
                      <a:pt x="174" y="329"/>
                    </a:lnTo>
                    <a:lnTo>
                      <a:pt x="201" y="384"/>
                    </a:lnTo>
                    <a:lnTo>
                      <a:pt x="227" y="439"/>
                    </a:lnTo>
                    <a:lnTo>
                      <a:pt x="224" y="462"/>
                    </a:lnTo>
                    <a:lnTo>
                      <a:pt x="222" y="485"/>
                    </a:lnTo>
                    <a:lnTo>
                      <a:pt x="219" y="507"/>
                    </a:lnTo>
                    <a:lnTo>
                      <a:pt x="216" y="531"/>
                    </a:lnTo>
                    <a:lnTo>
                      <a:pt x="213" y="553"/>
                    </a:lnTo>
                    <a:lnTo>
                      <a:pt x="211" y="576"/>
                    </a:lnTo>
                    <a:lnTo>
                      <a:pt x="208" y="598"/>
                    </a:lnTo>
                    <a:lnTo>
                      <a:pt x="205" y="620"/>
                    </a:lnTo>
                    <a:lnTo>
                      <a:pt x="180" y="566"/>
                    </a:lnTo>
                    <a:lnTo>
                      <a:pt x="153" y="511"/>
                    </a:lnTo>
                    <a:lnTo>
                      <a:pt x="127" y="455"/>
                    </a:lnTo>
                    <a:lnTo>
                      <a:pt x="102" y="400"/>
                    </a:lnTo>
                    <a:lnTo>
                      <a:pt x="77" y="346"/>
                    </a:lnTo>
                    <a:lnTo>
                      <a:pt x="50" y="291"/>
                    </a:lnTo>
                    <a:lnTo>
                      <a:pt x="25" y="236"/>
                    </a:lnTo>
                    <a:lnTo>
                      <a:pt x="0" y="181"/>
                    </a:lnTo>
                    <a:lnTo>
                      <a:pt x="3" y="159"/>
                    </a:lnTo>
                    <a:lnTo>
                      <a:pt x="6" y="135"/>
                    </a:lnTo>
                    <a:lnTo>
                      <a:pt x="8" y="113"/>
                    </a:lnTo>
                    <a:lnTo>
                      <a:pt x="11" y="90"/>
                    </a:lnTo>
                    <a:lnTo>
                      <a:pt x="14" y="68"/>
                    </a:lnTo>
                    <a:lnTo>
                      <a:pt x="16" y="46"/>
                    </a:lnTo>
                    <a:lnTo>
                      <a:pt x="19" y="22"/>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568360" y="3222360"/>
                <a:ext cx="84600" cy="176760"/>
              </a:xfrm>
              <a:custGeom>
                <a:avLst/>
                <a:gdLst/>
                <a:ahLst/>
                <a:rect l="l" t="t" r="r" b="b"/>
                <a:pathLst>
                  <a:path w="226" h="622">
                    <a:moveTo>
                      <a:pt x="21" y="0"/>
                    </a:moveTo>
                    <a:lnTo>
                      <a:pt x="46" y="55"/>
                    </a:lnTo>
                    <a:lnTo>
                      <a:pt x="71" y="110"/>
                    </a:lnTo>
                    <a:lnTo>
                      <a:pt x="98" y="165"/>
                    </a:lnTo>
                    <a:lnTo>
                      <a:pt x="123" y="219"/>
                    </a:lnTo>
                    <a:lnTo>
                      <a:pt x="148" y="274"/>
                    </a:lnTo>
                    <a:lnTo>
                      <a:pt x="174" y="330"/>
                    </a:lnTo>
                    <a:lnTo>
                      <a:pt x="201" y="385"/>
                    </a:lnTo>
                    <a:lnTo>
                      <a:pt x="226" y="439"/>
                    </a:lnTo>
                    <a:lnTo>
                      <a:pt x="224" y="463"/>
                    </a:lnTo>
                    <a:lnTo>
                      <a:pt x="221" y="486"/>
                    </a:lnTo>
                    <a:lnTo>
                      <a:pt x="218" y="508"/>
                    </a:lnTo>
                    <a:lnTo>
                      <a:pt x="216" y="532"/>
                    </a:lnTo>
                    <a:lnTo>
                      <a:pt x="213" y="554"/>
                    </a:lnTo>
                    <a:lnTo>
                      <a:pt x="210" y="577"/>
                    </a:lnTo>
                    <a:lnTo>
                      <a:pt x="208" y="599"/>
                    </a:lnTo>
                    <a:lnTo>
                      <a:pt x="205" y="622"/>
                    </a:lnTo>
                    <a:lnTo>
                      <a:pt x="178" y="567"/>
                    </a:lnTo>
                    <a:lnTo>
                      <a:pt x="152" y="512"/>
                    </a:lnTo>
                    <a:lnTo>
                      <a:pt x="127" y="457"/>
                    </a:lnTo>
                    <a:lnTo>
                      <a:pt x="101" y="401"/>
                    </a:lnTo>
                    <a:lnTo>
                      <a:pt x="76" y="346"/>
                    </a:lnTo>
                    <a:lnTo>
                      <a:pt x="50" y="292"/>
                    </a:lnTo>
                    <a:lnTo>
                      <a:pt x="25" y="236"/>
                    </a:lnTo>
                    <a:lnTo>
                      <a:pt x="0" y="181"/>
                    </a:lnTo>
                    <a:lnTo>
                      <a:pt x="3" y="159"/>
                    </a:lnTo>
                    <a:lnTo>
                      <a:pt x="5" y="137"/>
                    </a:lnTo>
                    <a:lnTo>
                      <a:pt x="8" y="113"/>
                    </a:lnTo>
                    <a:lnTo>
                      <a:pt x="11" y="91"/>
                    </a:lnTo>
                    <a:lnTo>
                      <a:pt x="13" y="69"/>
                    </a:lnTo>
                    <a:lnTo>
                      <a:pt x="16" y="46"/>
                    </a:lnTo>
                    <a:lnTo>
                      <a:pt x="19"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561160" y="3273840"/>
                <a:ext cx="83520" cy="178200"/>
              </a:xfrm>
              <a:custGeom>
                <a:avLst/>
                <a:gdLst/>
                <a:ahLst/>
                <a:rect l="l" t="t" r="r" b="b"/>
                <a:pathLst>
                  <a:path w="226" h="623">
                    <a:moveTo>
                      <a:pt x="21" y="0"/>
                    </a:moveTo>
                    <a:lnTo>
                      <a:pt x="46" y="55"/>
                    </a:lnTo>
                    <a:lnTo>
                      <a:pt x="71" y="111"/>
                    </a:lnTo>
                    <a:lnTo>
                      <a:pt x="97" y="165"/>
                    </a:lnTo>
                    <a:lnTo>
                      <a:pt x="122" y="220"/>
                    </a:lnTo>
                    <a:lnTo>
                      <a:pt x="148" y="276"/>
                    </a:lnTo>
                    <a:lnTo>
                      <a:pt x="173" y="331"/>
                    </a:lnTo>
                    <a:lnTo>
                      <a:pt x="199" y="386"/>
                    </a:lnTo>
                    <a:lnTo>
                      <a:pt x="226" y="441"/>
                    </a:lnTo>
                    <a:lnTo>
                      <a:pt x="223" y="464"/>
                    </a:lnTo>
                    <a:lnTo>
                      <a:pt x="221" y="486"/>
                    </a:lnTo>
                    <a:lnTo>
                      <a:pt x="217" y="510"/>
                    </a:lnTo>
                    <a:lnTo>
                      <a:pt x="214" y="532"/>
                    </a:lnTo>
                    <a:lnTo>
                      <a:pt x="212" y="555"/>
                    </a:lnTo>
                    <a:lnTo>
                      <a:pt x="209" y="577"/>
                    </a:lnTo>
                    <a:lnTo>
                      <a:pt x="206" y="601"/>
                    </a:lnTo>
                    <a:lnTo>
                      <a:pt x="204" y="623"/>
                    </a:lnTo>
                    <a:lnTo>
                      <a:pt x="178" y="567"/>
                    </a:lnTo>
                    <a:lnTo>
                      <a:pt x="152" y="512"/>
                    </a:lnTo>
                    <a:lnTo>
                      <a:pt x="126" y="457"/>
                    </a:lnTo>
                    <a:lnTo>
                      <a:pt x="101" y="402"/>
                    </a:lnTo>
                    <a:lnTo>
                      <a:pt x="75" y="347"/>
                    </a:lnTo>
                    <a:lnTo>
                      <a:pt x="50" y="292"/>
                    </a:lnTo>
                    <a:lnTo>
                      <a:pt x="25" y="236"/>
                    </a:lnTo>
                    <a:lnTo>
                      <a:pt x="0" y="182"/>
                    </a:lnTo>
                    <a:lnTo>
                      <a:pt x="2" y="159"/>
                    </a:lnTo>
                    <a:lnTo>
                      <a:pt x="5" y="137"/>
                    </a:lnTo>
                    <a:lnTo>
                      <a:pt x="8" y="114"/>
                    </a:lnTo>
                    <a:lnTo>
                      <a:pt x="10" y="91"/>
                    </a:lnTo>
                    <a:lnTo>
                      <a:pt x="13" y="69"/>
                    </a:lnTo>
                    <a:lnTo>
                      <a:pt x="16" y="47"/>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551800" y="3325320"/>
                <a:ext cx="84960" cy="178200"/>
              </a:xfrm>
              <a:custGeom>
                <a:avLst/>
                <a:gdLst/>
                <a:ahLst/>
                <a:rect l="l" t="t" r="r" b="b"/>
                <a:pathLst>
                  <a:path w="226" h="623">
                    <a:moveTo>
                      <a:pt x="22" y="0"/>
                    </a:moveTo>
                    <a:lnTo>
                      <a:pt x="47" y="54"/>
                    </a:lnTo>
                    <a:lnTo>
                      <a:pt x="72" y="110"/>
                    </a:lnTo>
                    <a:lnTo>
                      <a:pt x="97" y="165"/>
                    </a:lnTo>
                    <a:lnTo>
                      <a:pt x="123" y="220"/>
                    </a:lnTo>
                    <a:lnTo>
                      <a:pt x="148" y="275"/>
                    </a:lnTo>
                    <a:lnTo>
                      <a:pt x="174" y="330"/>
                    </a:lnTo>
                    <a:lnTo>
                      <a:pt x="200" y="385"/>
                    </a:lnTo>
                    <a:lnTo>
                      <a:pt x="226" y="441"/>
                    </a:lnTo>
                    <a:lnTo>
                      <a:pt x="223" y="464"/>
                    </a:lnTo>
                    <a:lnTo>
                      <a:pt x="220" y="486"/>
                    </a:lnTo>
                    <a:lnTo>
                      <a:pt x="218" y="510"/>
                    </a:lnTo>
                    <a:lnTo>
                      <a:pt x="215" y="533"/>
                    </a:lnTo>
                    <a:lnTo>
                      <a:pt x="212" y="555"/>
                    </a:lnTo>
                    <a:lnTo>
                      <a:pt x="210" y="577"/>
                    </a:lnTo>
                    <a:lnTo>
                      <a:pt x="207" y="601"/>
                    </a:lnTo>
                    <a:lnTo>
                      <a:pt x="204" y="623"/>
                    </a:lnTo>
                    <a:lnTo>
                      <a:pt x="178" y="568"/>
                    </a:lnTo>
                    <a:lnTo>
                      <a:pt x="153" y="512"/>
                    </a:lnTo>
                    <a:lnTo>
                      <a:pt x="127" y="457"/>
                    </a:lnTo>
                    <a:lnTo>
                      <a:pt x="101" y="403"/>
                    </a:lnTo>
                    <a:lnTo>
                      <a:pt x="75" y="347"/>
                    </a:lnTo>
                    <a:lnTo>
                      <a:pt x="50" y="292"/>
                    </a:lnTo>
                    <a:lnTo>
                      <a:pt x="25" y="236"/>
                    </a:lnTo>
                    <a:lnTo>
                      <a:pt x="0" y="181"/>
                    </a:lnTo>
                    <a:lnTo>
                      <a:pt x="3" y="159"/>
                    </a:lnTo>
                    <a:lnTo>
                      <a:pt x="6" y="136"/>
                    </a:lnTo>
                    <a:lnTo>
                      <a:pt x="8" y="113"/>
                    </a:lnTo>
                    <a:lnTo>
                      <a:pt x="11" y="91"/>
                    </a:lnTo>
                    <a:lnTo>
                      <a:pt x="14" y="68"/>
                    </a:lnTo>
                    <a:lnTo>
                      <a:pt x="16" y="46"/>
                    </a:lnTo>
                    <a:lnTo>
                      <a:pt x="19" y="22"/>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544600" y="3378240"/>
                <a:ext cx="84960" cy="178200"/>
              </a:xfrm>
              <a:custGeom>
                <a:avLst/>
                <a:gdLst/>
                <a:ahLst/>
                <a:rect l="l" t="t" r="r" b="b"/>
                <a:pathLst>
                  <a:path w="226" h="625">
                    <a:moveTo>
                      <a:pt x="22" y="0"/>
                    </a:moveTo>
                    <a:lnTo>
                      <a:pt x="47" y="55"/>
                    </a:lnTo>
                    <a:lnTo>
                      <a:pt x="72" y="111"/>
                    </a:lnTo>
                    <a:lnTo>
                      <a:pt x="97" y="166"/>
                    </a:lnTo>
                    <a:lnTo>
                      <a:pt x="123" y="222"/>
                    </a:lnTo>
                    <a:lnTo>
                      <a:pt x="149" y="276"/>
                    </a:lnTo>
                    <a:lnTo>
                      <a:pt x="175" y="331"/>
                    </a:lnTo>
                    <a:lnTo>
                      <a:pt x="200" y="387"/>
                    </a:lnTo>
                    <a:lnTo>
                      <a:pt x="226" y="442"/>
                    </a:lnTo>
                    <a:lnTo>
                      <a:pt x="224" y="465"/>
                    </a:lnTo>
                    <a:lnTo>
                      <a:pt x="221" y="489"/>
                    </a:lnTo>
                    <a:lnTo>
                      <a:pt x="218" y="511"/>
                    </a:lnTo>
                    <a:lnTo>
                      <a:pt x="215" y="534"/>
                    </a:lnTo>
                    <a:lnTo>
                      <a:pt x="213" y="558"/>
                    </a:lnTo>
                    <a:lnTo>
                      <a:pt x="210" y="580"/>
                    </a:lnTo>
                    <a:lnTo>
                      <a:pt x="207" y="603"/>
                    </a:lnTo>
                    <a:lnTo>
                      <a:pt x="205" y="625"/>
                    </a:lnTo>
                    <a:lnTo>
                      <a:pt x="179" y="570"/>
                    </a:lnTo>
                    <a:lnTo>
                      <a:pt x="153" y="513"/>
                    </a:lnTo>
                    <a:lnTo>
                      <a:pt x="127" y="458"/>
                    </a:lnTo>
                    <a:lnTo>
                      <a:pt x="101" y="403"/>
                    </a:lnTo>
                    <a:lnTo>
                      <a:pt x="76" y="347"/>
                    </a:lnTo>
                    <a:lnTo>
                      <a:pt x="51" y="291"/>
                    </a:lnTo>
                    <a:lnTo>
                      <a:pt x="26" y="235"/>
                    </a:lnTo>
                    <a:lnTo>
                      <a:pt x="0" y="180"/>
                    </a:lnTo>
                    <a:lnTo>
                      <a:pt x="3" y="158"/>
                    </a:lnTo>
                    <a:lnTo>
                      <a:pt x="5" y="135"/>
                    </a:lnTo>
                    <a:lnTo>
                      <a:pt x="8" y="113"/>
                    </a:lnTo>
                    <a:lnTo>
                      <a:pt x="12" y="91"/>
                    </a:lnTo>
                    <a:lnTo>
                      <a:pt x="14" y="68"/>
                    </a:lnTo>
                    <a:lnTo>
                      <a:pt x="17" y="46"/>
                    </a:lnTo>
                    <a:lnTo>
                      <a:pt x="20"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537040" y="3429720"/>
                <a:ext cx="83520" cy="178200"/>
              </a:xfrm>
              <a:custGeom>
                <a:avLst/>
                <a:gdLst/>
                <a:ahLst/>
                <a:rect l="l" t="t" r="r" b="b"/>
                <a:pathLst>
                  <a:path w="226" h="628">
                    <a:moveTo>
                      <a:pt x="21" y="0"/>
                    </a:moveTo>
                    <a:lnTo>
                      <a:pt x="47" y="55"/>
                    </a:lnTo>
                    <a:lnTo>
                      <a:pt x="72" y="111"/>
                    </a:lnTo>
                    <a:lnTo>
                      <a:pt x="97" y="167"/>
                    </a:lnTo>
                    <a:lnTo>
                      <a:pt x="122" y="223"/>
                    </a:lnTo>
                    <a:lnTo>
                      <a:pt x="148" y="278"/>
                    </a:lnTo>
                    <a:lnTo>
                      <a:pt x="174" y="333"/>
                    </a:lnTo>
                    <a:lnTo>
                      <a:pt x="200" y="390"/>
                    </a:lnTo>
                    <a:lnTo>
                      <a:pt x="226" y="445"/>
                    </a:lnTo>
                    <a:lnTo>
                      <a:pt x="223" y="468"/>
                    </a:lnTo>
                    <a:lnTo>
                      <a:pt x="220" y="491"/>
                    </a:lnTo>
                    <a:lnTo>
                      <a:pt x="218" y="513"/>
                    </a:lnTo>
                    <a:lnTo>
                      <a:pt x="215" y="536"/>
                    </a:lnTo>
                    <a:lnTo>
                      <a:pt x="212" y="559"/>
                    </a:lnTo>
                    <a:lnTo>
                      <a:pt x="210" y="582"/>
                    </a:lnTo>
                    <a:lnTo>
                      <a:pt x="207" y="604"/>
                    </a:lnTo>
                    <a:lnTo>
                      <a:pt x="204" y="628"/>
                    </a:lnTo>
                    <a:lnTo>
                      <a:pt x="178" y="571"/>
                    </a:lnTo>
                    <a:lnTo>
                      <a:pt x="152" y="516"/>
                    </a:lnTo>
                    <a:lnTo>
                      <a:pt x="126" y="460"/>
                    </a:lnTo>
                    <a:lnTo>
                      <a:pt x="101" y="405"/>
                    </a:lnTo>
                    <a:lnTo>
                      <a:pt x="76" y="349"/>
                    </a:lnTo>
                    <a:lnTo>
                      <a:pt x="50" y="294"/>
                    </a:lnTo>
                    <a:lnTo>
                      <a:pt x="24" y="239"/>
                    </a:lnTo>
                    <a:lnTo>
                      <a:pt x="0" y="182"/>
                    </a:lnTo>
                    <a:lnTo>
                      <a:pt x="2" y="160"/>
                    </a:lnTo>
                    <a:lnTo>
                      <a:pt x="5" y="138"/>
                    </a:lnTo>
                    <a:lnTo>
                      <a:pt x="8" y="114"/>
                    </a:lnTo>
                    <a:lnTo>
                      <a:pt x="10" y="92"/>
                    </a:lnTo>
                    <a:lnTo>
                      <a:pt x="13" y="69"/>
                    </a:lnTo>
                    <a:lnTo>
                      <a:pt x="16" y="45"/>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528400" y="3480840"/>
                <a:ext cx="84600" cy="179640"/>
              </a:xfrm>
              <a:custGeom>
                <a:avLst/>
                <a:gdLst/>
                <a:ahLst/>
                <a:rect l="l" t="t" r="r" b="b"/>
                <a:pathLst>
                  <a:path w="226" h="628">
                    <a:moveTo>
                      <a:pt x="22" y="0"/>
                    </a:moveTo>
                    <a:lnTo>
                      <a:pt x="46" y="57"/>
                    </a:lnTo>
                    <a:lnTo>
                      <a:pt x="72" y="112"/>
                    </a:lnTo>
                    <a:lnTo>
                      <a:pt x="98" y="167"/>
                    </a:lnTo>
                    <a:lnTo>
                      <a:pt x="123" y="223"/>
                    </a:lnTo>
                    <a:lnTo>
                      <a:pt x="148" y="278"/>
                    </a:lnTo>
                    <a:lnTo>
                      <a:pt x="174" y="334"/>
                    </a:lnTo>
                    <a:lnTo>
                      <a:pt x="200" y="389"/>
                    </a:lnTo>
                    <a:lnTo>
                      <a:pt x="226" y="446"/>
                    </a:lnTo>
                    <a:lnTo>
                      <a:pt x="224" y="469"/>
                    </a:lnTo>
                    <a:lnTo>
                      <a:pt x="221" y="491"/>
                    </a:lnTo>
                    <a:lnTo>
                      <a:pt x="218" y="514"/>
                    </a:lnTo>
                    <a:lnTo>
                      <a:pt x="215" y="537"/>
                    </a:lnTo>
                    <a:lnTo>
                      <a:pt x="213" y="560"/>
                    </a:lnTo>
                    <a:lnTo>
                      <a:pt x="210" y="582"/>
                    </a:lnTo>
                    <a:lnTo>
                      <a:pt x="207" y="604"/>
                    </a:lnTo>
                    <a:lnTo>
                      <a:pt x="205" y="628"/>
                    </a:lnTo>
                    <a:lnTo>
                      <a:pt x="178" y="571"/>
                    </a:lnTo>
                    <a:lnTo>
                      <a:pt x="152" y="516"/>
                    </a:lnTo>
                    <a:lnTo>
                      <a:pt x="127" y="460"/>
                    </a:lnTo>
                    <a:lnTo>
                      <a:pt x="101" y="405"/>
                    </a:lnTo>
                    <a:lnTo>
                      <a:pt x="76" y="350"/>
                    </a:lnTo>
                    <a:lnTo>
                      <a:pt x="50" y="294"/>
                    </a:lnTo>
                    <a:lnTo>
                      <a:pt x="25" y="239"/>
                    </a:lnTo>
                    <a:lnTo>
                      <a:pt x="0" y="183"/>
                    </a:lnTo>
                    <a:lnTo>
                      <a:pt x="3" y="160"/>
                    </a:lnTo>
                    <a:lnTo>
                      <a:pt x="5" y="138"/>
                    </a:lnTo>
                    <a:lnTo>
                      <a:pt x="8" y="116"/>
                    </a:lnTo>
                    <a:lnTo>
                      <a:pt x="11" y="92"/>
                    </a:lnTo>
                    <a:lnTo>
                      <a:pt x="13" y="69"/>
                    </a:lnTo>
                    <a:lnTo>
                      <a:pt x="16"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520840" y="3533760"/>
                <a:ext cx="83520" cy="178200"/>
              </a:xfrm>
              <a:custGeom>
                <a:avLst/>
                <a:gdLst/>
                <a:ahLst/>
                <a:rect l="l" t="t" r="r" b="b"/>
                <a:pathLst>
                  <a:path w="226" h="627">
                    <a:moveTo>
                      <a:pt x="21" y="0"/>
                    </a:moveTo>
                    <a:lnTo>
                      <a:pt x="46" y="56"/>
                    </a:lnTo>
                    <a:lnTo>
                      <a:pt x="71" y="111"/>
                    </a:lnTo>
                    <a:lnTo>
                      <a:pt x="97" y="167"/>
                    </a:lnTo>
                    <a:lnTo>
                      <a:pt x="122" y="222"/>
                    </a:lnTo>
                    <a:lnTo>
                      <a:pt x="148" y="277"/>
                    </a:lnTo>
                    <a:lnTo>
                      <a:pt x="173" y="333"/>
                    </a:lnTo>
                    <a:lnTo>
                      <a:pt x="199" y="388"/>
                    </a:lnTo>
                    <a:lnTo>
                      <a:pt x="226" y="445"/>
                    </a:lnTo>
                    <a:lnTo>
                      <a:pt x="223" y="467"/>
                    </a:lnTo>
                    <a:lnTo>
                      <a:pt x="220" y="490"/>
                    </a:lnTo>
                    <a:lnTo>
                      <a:pt x="218" y="514"/>
                    </a:lnTo>
                    <a:lnTo>
                      <a:pt x="215" y="536"/>
                    </a:lnTo>
                    <a:lnTo>
                      <a:pt x="212" y="558"/>
                    </a:lnTo>
                    <a:lnTo>
                      <a:pt x="210" y="581"/>
                    </a:lnTo>
                    <a:lnTo>
                      <a:pt x="207" y="604"/>
                    </a:lnTo>
                    <a:lnTo>
                      <a:pt x="204" y="627"/>
                    </a:lnTo>
                    <a:lnTo>
                      <a:pt x="178" y="570"/>
                    </a:lnTo>
                    <a:lnTo>
                      <a:pt x="152" y="515"/>
                    </a:lnTo>
                    <a:lnTo>
                      <a:pt x="126" y="460"/>
                    </a:lnTo>
                    <a:lnTo>
                      <a:pt x="101" y="404"/>
                    </a:lnTo>
                    <a:lnTo>
                      <a:pt x="76" y="349"/>
                    </a:lnTo>
                    <a:lnTo>
                      <a:pt x="49" y="293"/>
                    </a:lnTo>
                    <a:lnTo>
                      <a:pt x="25" y="237"/>
                    </a:lnTo>
                    <a:lnTo>
                      <a:pt x="0" y="181"/>
                    </a:lnTo>
                    <a:lnTo>
                      <a:pt x="2" y="159"/>
                    </a:lnTo>
                    <a:lnTo>
                      <a:pt x="5" y="136"/>
                    </a:lnTo>
                    <a:lnTo>
                      <a:pt x="8" y="114"/>
                    </a:lnTo>
                    <a:lnTo>
                      <a:pt x="10" y="91"/>
                    </a:lnTo>
                    <a:lnTo>
                      <a:pt x="13" y="68"/>
                    </a:lnTo>
                    <a:lnTo>
                      <a:pt x="16" y="46"/>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511840" y="3584880"/>
                <a:ext cx="84960" cy="178560"/>
              </a:xfrm>
              <a:custGeom>
                <a:avLst/>
                <a:gdLst/>
                <a:ahLst/>
                <a:rect l="l" t="t" r="r" b="b"/>
                <a:pathLst>
                  <a:path w="226" h="628">
                    <a:moveTo>
                      <a:pt x="22" y="0"/>
                    </a:moveTo>
                    <a:lnTo>
                      <a:pt x="47" y="56"/>
                    </a:lnTo>
                    <a:lnTo>
                      <a:pt x="71" y="112"/>
                    </a:lnTo>
                    <a:lnTo>
                      <a:pt x="98" y="168"/>
                    </a:lnTo>
                    <a:lnTo>
                      <a:pt x="123" y="223"/>
                    </a:lnTo>
                    <a:lnTo>
                      <a:pt x="148" y="279"/>
                    </a:lnTo>
                    <a:lnTo>
                      <a:pt x="174" y="334"/>
                    </a:lnTo>
                    <a:lnTo>
                      <a:pt x="200" y="389"/>
                    </a:lnTo>
                    <a:lnTo>
                      <a:pt x="226" y="446"/>
                    </a:lnTo>
                    <a:lnTo>
                      <a:pt x="224" y="468"/>
                    </a:lnTo>
                    <a:lnTo>
                      <a:pt x="220" y="491"/>
                    </a:lnTo>
                    <a:lnTo>
                      <a:pt x="217" y="515"/>
                    </a:lnTo>
                    <a:lnTo>
                      <a:pt x="215" y="537"/>
                    </a:lnTo>
                    <a:lnTo>
                      <a:pt x="212" y="560"/>
                    </a:lnTo>
                    <a:lnTo>
                      <a:pt x="209" y="584"/>
                    </a:lnTo>
                    <a:lnTo>
                      <a:pt x="207" y="606"/>
                    </a:lnTo>
                    <a:lnTo>
                      <a:pt x="204" y="628"/>
                    </a:lnTo>
                    <a:lnTo>
                      <a:pt x="178" y="573"/>
                    </a:lnTo>
                    <a:lnTo>
                      <a:pt x="152" y="516"/>
                    </a:lnTo>
                    <a:lnTo>
                      <a:pt x="127" y="461"/>
                    </a:lnTo>
                    <a:lnTo>
                      <a:pt x="102" y="404"/>
                    </a:lnTo>
                    <a:lnTo>
                      <a:pt x="75" y="349"/>
                    </a:lnTo>
                    <a:lnTo>
                      <a:pt x="50" y="293"/>
                    </a:lnTo>
                    <a:lnTo>
                      <a:pt x="25" y="237"/>
                    </a:lnTo>
                    <a:lnTo>
                      <a:pt x="0" y="181"/>
                    </a:lnTo>
                    <a:lnTo>
                      <a:pt x="3" y="159"/>
                    </a:lnTo>
                    <a:lnTo>
                      <a:pt x="6" y="137"/>
                    </a:lnTo>
                    <a:lnTo>
                      <a:pt x="8" y="114"/>
                    </a:lnTo>
                    <a:lnTo>
                      <a:pt x="11" y="91"/>
                    </a:lnTo>
                    <a:lnTo>
                      <a:pt x="14" y="69"/>
                    </a:lnTo>
                    <a:lnTo>
                      <a:pt x="16" y="46"/>
                    </a:lnTo>
                    <a:lnTo>
                      <a:pt x="19" y="24"/>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504280" y="3636360"/>
                <a:ext cx="84960" cy="179640"/>
              </a:xfrm>
              <a:custGeom>
                <a:avLst/>
                <a:gdLst/>
                <a:ahLst/>
                <a:rect l="l" t="t" r="r" b="b"/>
                <a:pathLst>
                  <a:path w="225" h="631">
                    <a:moveTo>
                      <a:pt x="21" y="0"/>
                    </a:moveTo>
                    <a:lnTo>
                      <a:pt x="46" y="56"/>
                    </a:lnTo>
                    <a:lnTo>
                      <a:pt x="71" y="112"/>
                    </a:lnTo>
                    <a:lnTo>
                      <a:pt x="96" y="168"/>
                    </a:lnTo>
                    <a:lnTo>
                      <a:pt x="123" y="223"/>
                    </a:lnTo>
                    <a:lnTo>
                      <a:pt x="148" y="280"/>
                    </a:lnTo>
                    <a:lnTo>
                      <a:pt x="173" y="335"/>
                    </a:lnTo>
                    <a:lnTo>
                      <a:pt x="199" y="392"/>
                    </a:lnTo>
                    <a:lnTo>
                      <a:pt x="225" y="447"/>
                    </a:lnTo>
                    <a:lnTo>
                      <a:pt x="222" y="470"/>
                    </a:lnTo>
                    <a:lnTo>
                      <a:pt x="220" y="494"/>
                    </a:lnTo>
                    <a:lnTo>
                      <a:pt x="217" y="517"/>
                    </a:lnTo>
                    <a:lnTo>
                      <a:pt x="214" y="539"/>
                    </a:lnTo>
                    <a:lnTo>
                      <a:pt x="211" y="563"/>
                    </a:lnTo>
                    <a:lnTo>
                      <a:pt x="209" y="585"/>
                    </a:lnTo>
                    <a:lnTo>
                      <a:pt x="206" y="608"/>
                    </a:lnTo>
                    <a:lnTo>
                      <a:pt x="203" y="631"/>
                    </a:lnTo>
                    <a:lnTo>
                      <a:pt x="178" y="575"/>
                    </a:lnTo>
                    <a:lnTo>
                      <a:pt x="152" y="518"/>
                    </a:lnTo>
                    <a:lnTo>
                      <a:pt x="126" y="462"/>
                    </a:lnTo>
                    <a:lnTo>
                      <a:pt x="100" y="406"/>
                    </a:lnTo>
                    <a:lnTo>
                      <a:pt x="75" y="350"/>
                    </a:lnTo>
                    <a:lnTo>
                      <a:pt x="50" y="294"/>
                    </a:lnTo>
                    <a:lnTo>
                      <a:pt x="25" y="238"/>
                    </a:lnTo>
                    <a:lnTo>
                      <a:pt x="0" y="182"/>
                    </a:lnTo>
                    <a:lnTo>
                      <a:pt x="3" y="159"/>
                    </a:lnTo>
                    <a:lnTo>
                      <a:pt x="5" y="137"/>
                    </a:lnTo>
                    <a:lnTo>
                      <a:pt x="8" y="114"/>
                    </a:lnTo>
                    <a:lnTo>
                      <a:pt x="11" y="91"/>
                    </a:lnTo>
                    <a:lnTo>
                      <a:pt x="13" y="68"/>
                    </a:lnTo>
                    <a:lnTo>
                      <a:pt x="16" y="46"/>
                    </a:lnTo>
                    <a:lnTo>
                      <a:pt x="19" y="24"/>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496720" y="3687840"/>
                <a:ext cx="83520" cy="179640"/>
              </a:xfrm>
              <a:custGeom>
                <a:avLst/>
                <a:gdLst/>
                <a:ahLst/>
                <a:rect l="l" t="t" r="r" b="b"/>
                <a:pathLst>
                  <a:path w="226" h="629">
                    <a:moveTo>
                      <a:pt x="23" y="0"/>
                    </a:moveTo>
                    <a:lnTo>
                      <a:pt x="48" y="56"/>
                    </a:lnTo>
                    <a:lnTo>
                      <a:pt x="73" y="112"/>
                    </a:lnTo>
                    <a:lnTo>
                      <a:pt x="98" y="168"/>
                    </a:lnTo>
                    <a:lnTo>
                      <a:pt x="123" y="224"/>
                    </a:lnTo>
                    <a:lnTo>
                      <a:pt x="149" y="280"/>
                    </a:lnTo>
                    <a:lnTo>
                      <a:pt x="175" y="336"/>
                    </a:lnTo>
                    <a:lnTo>
                      <a:pt x="201" y="393"/>
                    </a:lnTo>
                    <a:lnTo>
                      <a:pt x="226" y="449"/>
                    </a:lnTo>
                    <a:lnTo>
                      <a:pt x="224" y="472"/>
                    </a:lnTo>
                    <a:lnTo>
                      <a:pt x="221" y="495"/>
                    </a:lnTo>
                    <a:lnTo>
                      <a:pt x="218" y="517"/>
                    </a:lnTo>
                    <a:lnTo>
                      <a:pt x="216" y="541"/>
                    </a:lnTo>
                    <a:lnTo>
                      <a:pt x="213" y="563"/>
                    </a:lnTo>
                    <a:lnTo>
                      <a:pt x="210" y="585"/>
                    </a:lnTo>
                    <a:lnTo>
                      <a:pt x="208" y="607"/>
                    </a:lnTo>
                    <a:lnTo>
                      <a:pt x="205" y="629"/>
                    </a:lnTo>
                    <a:lnTo>
                      <a:pt x="179" y="574"/>
                    </a:lnTo>
                    <a:lnTo>
                      <a:pt x="153" y="519"/>
                    </a:lnTo>
                    <a:lnTo>
                      <a:pt x="127" y="462"/>
                    </a:lnTo>
                    <a:lnTo>
                      <a:pt x="102" y="407"/>
                    </a:lnTo>
                    <a:lnTo>
                      <a:pt x="76" y="350"/>
                    </a:lnTo>
                    <a:lnTo>
                      <a:pt x="51" y="295"/>
                    </a:lnTo>
                    <a:lnTo>
                      <a:pt x="26" y="238"/>
                    </a:lnTo>
                    <a:lnTo>
                      <a:pt x="0" y="183"/>
                    </a:lnTo>
                    <a:lnTo>
                      <a:pt x="3" y="160"/>
                    </a:lnTo>
                    <a:lnTo>
                      <a:pt x="6" y="137"/>
                    </a:lnTo>
                    <a:lnTo>
                      <a:pt x="8" y="115"/>
                    </a:lnTo>
                    <a:lnTo>
                      <a:pt x="11" y="92"/>
                    </a:lnTo>
                    <a:lnTo>
                      <a:pt x="14" y="69"/>
                    </a:lnTo>
                    <a:lnTo>
                      <a:pt x="17" y="46"/>
                    </a:lnTo>
                    <a:lnTo>
                      <a:pt x="20" y="23"/>
                    </a:lnTo>
                    <a:lnTo>
                      <a:pt x="23"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488080" y="3740760"/>
                <a:ext cx="84600" cy="179640"/>
              </a:xfrm>
              <a:custGeom>
                <a:avLst/>
                <a:gdLst/>
                <a:ahLst/>
                <a:rect l="l" t="t" r="r" b="b"/>
                <a:pathLst>
                  <a:path w="226" h="631">
                    <a:moveTo>
                      <a:pt x="21" y="0"/>
                    </a:moveTo>
                    <a:lnTo>
                      <a:pt x="47" y="55"/>
                    </a:lnTo>
                    <a:lnTo>
                      <a:pt x="72" y="112"/>
                    </a:lnTo>
                    <a:lnTo>
                      <a:pt x="97" y="167"/>
                    </a:lnTo>
                    <a:lnTo>
                      <a:pt x="123" y="224"/>
                    </a:lnTo>
                    <a:lnTo>
                      <a:pt x="148" y="279"/>
                    </a:lnTo>
                    <a:lnTo>
                      <a:pt x="174" y="336"/>
                    </a:lnTo>
                    <a:lnTo>
                      <a:pt x="200" y="391"/>
                    </a:lnTo>
                    <a:lnTo>
                      <a:pt x="226" y="446"/>
                    </a:lnTo>
                    <a:lnTo>
                      <a:pt x="223" y="470"/>
                    </a:lnTo>
                    <a:lnTo>
                      <a:pt x="221" y="493"/>
                    </a:lnTo>
                    <a:lnTo>
                      <a:pt x="218" y="517"/>
                    </a:lnTo>
                    <a:lnTo>
                      <a:pt x="215" y="540"/>
                    </a:lnTo>
                    <a:lnTo>
                      <a:pt x="212" y="563"/>
                    </a:lnTo>
                    <a:lnTo>
                      <a:pt x="210" y="586"/>
                    </a:lnTo>
                    <a:lnTo>
                      <a:pt x="207" y="609"/>
                    </a:lnTo>
                    <a:lnTo>
                      <a:pt x="204" y="631"/>
                    </a:lnTo>
                    <a:lnTo>
                      <a:pt x="179" y="574"/>
                    </a:lnTo>
                    <a:lnTo>
                      <a:pt x="152" y="518"/>
                    </a:lnTo>
                    <a:lnTo>
                      <a:pt x="126" y="462"/>
                    </a:lnTo>
                    <a:lnTo>
                      <a:pt x="101" y="406"/>
                    </a:lnTo>
                    <a:lnTo>
                      <a:pt x="76" y="349"/>
                    </a:lnTo>
                    <a:lnTo>
                      <a:pt x="51" y="293"/>
                    </a:lnTo>
                    <a:lnTo>
                      <a:pt x="25" y="237"/>
                    </a:lnTo>
                    <a:lnTo>
                      <a:pt x="0" y="181"/>
                    </a:lnTo>
                    <a:lnTo>
                      <a:pt x="3" y="158"/>
                    </a:lnTo>
                    <a:lnTo>
                      <a:pt x="5" y="136"/>
                    </a:lnTo>
                    <a:lnTo>
                      <a:pt x="8" y="113"/>
                    </a:lnTo>
                    <a:lnTo>
                      <a:pt x="11" y="91"/>
                    </a:lnTo>
                    <a:lnTo>
                      <a:pt x="13" y="69"/>
                    </a:lnTo>
                    <a:lnTo>
                      <a:pt x="16" y="45"/>
                    </a:lnTo>
                    <a:lnTo>
                      <a:pt x="19"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8480520" y="3792240"/>
                <a:ext cx="83520" cy="181080"/>
              </a:xfrm>
              <a:custGeom>
                <a:avLst/>
                <a:gdLst/>
                <a:ahLst/>
                <a:rect l="l" t="t" r="r" b="b"/>
                <a:pathLst>
                  <a:path w="225" h="634">
                    <a:moveTo>
                      <a:pt x="21" y="0"/>
                    </a:moveTo>
                    <a:lnTo>
                      <a:pt x="46" y="56"/>
                    </a:lnTo>
                    <a:lnTo>
                      <a:pt x="72" y="112"/>
                    </a:lnTo>
                    <a:lnTo>
                      <a:pt x="97" y="168"/>
                    </a:lnTo>
                    <a:lnTo>
                      <a:pt x="122" y="225"/>
                    </a:lnTo>
                    <a:lnTo>
                      <a:pt x="147" y="281"/>
                    </a:lnTo>
                    <a:lnTo>
                      <a:pt x="173" y="337"/>
                    </a:lnTo>
                    <a:lnTo>
                      <a:pt x="200" y="393"/>
                    </a:lnTo>
                    <a:lnTo>
                      <a:pt x="225" y="450"/>
                    </a:lnTo>
                    <a:lnTo>
                      <a:pt x="223" y="473"/>
                    </a:lnTo>
                    <a:lnTo>
                      <a:pt x="220" y="497"/>
                    </a:lnTo>
                    <a:lnTo>
                      <a:pt x="217" y="519"/>
                    </a:lnTo>
                    <a:lnTo>
                      <a:pt x="215" y="542"/>
                    </a:lnTo>
                    <a:lnTo>
                      <a:pt x="212" y="566"/>
                    </a:lnTo>
                    <a:lnTo>
                      <a:pt x="209" y="588"/>
                    </a:lnTo>
                    <a:lnTo>
                      <a:pt x="207" y="611"/>
                    </a:lnTo>
                    <a:lnTo>
                      <a:pt x="204" y="634"/>
                    </a:lnTo>
                    <a:lnTo>
                      <a:pt x="177" y="577"/>
                    </a:lnTo>
                    <a:lnTo>
                      <a:pt x="151" y="520"/>
                    </a:lnTo>
                    <a:lnTo>
                      <a:pt x="126" y="464"/>
                    </a:lnTo>
                    <a:lnTo>
                      <a:pt x="101" y="407"/>
                    </a:lnTo>
                    <a:lnTo>
                      <a:pt x="75" y="352"/>
                    </a:lnTo>
                    <a:lnTo>
                      <a:pt x="49" y="295"/>
                    </a:lnTo>
                    <a:lnTo>
                      <a:pt x="24" y="238"/>
                    </a:lnTo>
                    <a:lnTo>
                      <a:pt x="0" y="182"/>
                    </a:lnTo>
                    <a:lnTo>
                      <a:pt x="2" y="160"/>
                    </a:lnTo>
                    <a:lnTo>
                      <a:pt x="5" y="137"/>
                    </a:lnTo>
                    <a:lnTo>
                      <a:pt x="8" y="114"/>
                    </a:lnTo>
                    <a:lnTo>
                      <a:pt x="10" y="92"/>
                    </a:lnTo>
                    <a:lnTo>
                      <a:pt x="13" y="68"/>
                    </a:lnTo>
                    <a:lnTo>
                      <a:pt x="16" y="45"/>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471520" y="3844800"/>
                <a:ext cx="84960" cy="179640"/>
              </a:xfrm>
              <a:custGeom>
                <a:avLst/>
                <a:gdLst/>
                <a:ahLst/>
                <a:rect l="l" t="t" r="r" b="b"/>
                <a:pathLst>
                  <a:path w="226" h="634">
                    <a:moveTo>
                      <a:pt x="22" y="0"/>
                    </a:moveTo>
                    <a:lnTo>
                      <a:pt x="46" y="56"/>
                    </a:lnTo>
                    <a:lnTo>
                      <a:pt x="71" y="113"/>
                    </a:lnTo>
                    <a:lnTo>
                      <a:pt x="97" y="170"/>
                    </a:lnTo>
                    <a:lnTo>
                      <a:pt x="123" y="225"/>
                    </a:lnTo>
                    <a:lnTo>
                      <a:pt x="148" y="282"/>
                    </a:lnTo>
                    <a:lnTo>
                      <a:pt x="173" y="338"/>
                    </a:lnTo>
                    <a:lnTo>
                      <a:pt x="199" y="395"/>
                    </a:lnTo>
                    <a:lnTo>
                      <a:pt x="226" y="452"/>
                    </a:lnTo>
                    <a:lnTo>
                      <a:pt x="223" y="475"/>
                    </a:lnTo>
                    <a:lnTo>
                      <a:pt x="220" y="497"/>
                    </a:lnTo>
                    <a:lnTo>
                      <a:pt x="218" y="520"/>
                    </a:lnTo>
                    <a:lnTo>
                      <a:pt x="215" y="543"/>
                    </a:lnTo>
                    <a:lnTo>
                      <a:pt x="212" y="566"/>
                    </a:lnTo>
                    <a:lnTo>
                      <a:pt x="210" y="588"/>
                    </a:lnTo>
                    <a:lnTo>
                      <a:pt x="207" y="610"/>
                    </a:lnTo>
                    <a:lnTo>
                      <a:pt x="203" y="634"/>
                    </a:lnTo>
                    <a:lnTo>
                      <a:pt x="178" y="577"/>
                    </a:lnTo>
                    <a:lnTo>
                      <a:pt x="152" y="520"/>
                    </a:lnTo>
                    <a:lnTo>
                      <a:pt x="127" y="464"/>
                    </a:lnTo>
                    <a:lnTo>
                      <a:pt x="101" y="407"/>
                    </a:lnTo>
                    <a:lnTo>
                      <a:pt x="75" y="351"/>
                    </a:lnTo>
                    <a:lnTo>
                      <a:pt x="50" y="294"/>
                    </a:lnTo>
                    <a:lnTo>
                      <a:pt x="25" y="237"/>
                    </a:lnTo>
                    <a:lnTo>
                      <a:pt x="0" y="182"/>
                    </a:lnTo>
                    <a:lnTo>
                      <a:pt x="3" y="159"/>
                    </a:lnTo>
                    <a:lnTo>
                      <a:pt x="5" y="136"/>
                    </a:lnTo>
                    <a:lnTo>
                      <a:pt x="8" y="114"/>
                    </a:lnTo>
                    <a:lnTo>
                      <a:pt x="11" y="92"/>
                    </a:lnTo>
                    <a:lnTo>
                      <a:pt x="13" y="69"/>
                    </a:lnTo>
                    <a:lnTo>
                      <a:pt x="16"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463960" y="3896280"/>
                <a:ext cx="83520" cy="181080"/>
              </a:xfrm>
              <a:custGeom>
                <a:avLst/>
                <a:gdLst/>
                <a:ahLst/>
                <a:rect l="l" t="t" r="r" b="b"/>
                <a:pathLst>
                  <a:path w="224" h="635">
                    <a:moveTo>
                      <a:pt x="21" y="0"/>
                    </a:moveTo>
                    <a:lnTo>
                      <a:pt x="46" y="55"/>
                    </a:lnTo>
                    <a:lnTo>
                      <a:pt x="71" y="112"/>
                    </a:lnTo>
                    <a:lnTo>
                      <a:pt x="96" y="169"/>
                    </a:lnTo>
                    <a:lnTo>
                      <a:pt x="122" y="225"/>
                    </a:lnTo>
                    <a:lnTo>
                      <a:pt x="148" y="282"/>
                    </a:lnTo>
                    <a:lnTo>
                      <a:pt x="173" y="338"/>
                    </a:lnTo>
                    <a:lnTo>
                      <a:pt x="199" y="395"/>
                    </a:lnTo>
                    <a:lnTo>
                      <a:pt x="224" y="452"/>
                    </a:lnTo>
                    <a:lnTo>
                      <a:pt x="222" y="475"/>
                    </a:lnTo>
                    <a:lnTo>
                      <a:pt x="219" y="497"/>
                    </a:lnTo>
                    <a:lnTo>
                      <a:pt x="216" y="521"/>
                    </a:lnTo>
                    <a:lnTo>
                      <a:pt x="214" y="544"/>
                    </a:lnTo>
                    <a:lnTo>
                      <a:pt x="211" y="566"/>
                    </a:lnTo>
                    <a:lnTo>
                      <a:pt x="208" y="590"/>
                    </a:lnTo>
                    <a:lnTo>
                      <a:pt x="206" y="612"/>
                    </a:lnTo>
                    <a:lnTo>
                      <a:pt x="203" y="635"/>
                    </a:lnTo>
                    <a:lnTo>
                      <a:pt x="177" y="578"/>
                    </a:lnTo>
                    <a:lnTo>
                      <a:pt x="151" y="522"/>
                    </a:lnTo>
                    <a:lnTo>
                      <a:pt x="126" y="464"/>
                    </a:lnTo>
                    <a:lnTo>
                      <a:pt x="101" y="409"/>
                    </a:lnTo>
                    <a:lnTo>
                      <a:pt x="74" y="352"/>
                    </a:lnTo>
                    <a:lnTo>
                      <a:pt x="49" y="295"/>
                    </a:lnTo>
                    <a:lnTo>
                      <a:pt x="24" y="239"/>
                    </a:lnTo>
                    <a:lnTo>
                      <a:pt x="0" y="182"/>
                    </a:lnTo>
                    <a:lnTo>
                      <a:pt x="2" y="160"/>
                    </a:lnTo>
                    <a:lnTo>
                      <a:pt x="5" y="137"/>
                    </a:lnTo>
                    <a:lnTo>
                      <a:pt x="8" y="114"/>
                    </a:lnTo>
                    <a:lnTo>
                      <a:pt x="10" y="91"/>
                    </a:lnTo>
                    <a:lnTo>
                      <a:pt x="13" y="69"/>
                    </a:lnTo>
                    <a:lnTo>
                      <a:pt x="16" y="45"/>
                    </a:lnTo>
                    <a:lnTo>
                      <a:pt x="18" y="22"/>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456400" y="3947400"/>
                <a:ext cx="83520" cy="182520"/>
              </a:xfrm>
              <a:custGeom>
                <a:avLst/>
                <a:gdLst/>
                <a:ahLst/>
                <a:rect l="l" t="t" r="r" b="b"/>
                <a:pathLst>
                  <a:path w="225" h="637">
                    <a:moveTo>
                      <a:pt x="22" y="0"/>
                    </a:moveTo>
                    <a:lnTo>
                      <a:pt x="46" y="57"/>
                    </a:lnTo>
                    <a:lnTo>
                      <a:pt x="71" y="113"/>
                    </a:lnTo>
                    <a:lnTo>
                      <a:pt x="96" y="170"/>
                    </a:lnTo>
                    <a:lnTo>
                      <a:pt x="123" y="227"/>
                    </a:lnTo>
                    <a:lnTo>
                      <a:pt x="148" y="282"/>
                    </a:lnTo>
                    <a:lnTo>
                      <a:pt x="173" y="340"/>
                    </a:lnTo>
                    <a:lnTo>
                      <a:pt x="199" y="396"/>
                    </a:lnTo>
                    <a:lnTo>
                      <a:pt x="225" y="453"/>
                    </a:lnTo>
                    <a:lnTo>
                      <a:pt x="222" y="475"/>
                    </a:lnTo>
                    <a:lnTo>
                      <a:pt x="219" y="499"/>
                    </a:lnTo>
                    <a:lnTo>
                      <a:pt x="217" y="522"/>
                    </a:lnTo>
                    <a:lnTo>
                      <a:pt x="214" y="545"/>
                    </a:lnTo>
                    <a:lnTo>
                      <a:pt x="211" y="568"/>
                    </a:lnTo>
                    <a:lnTo>
                      <a:pt x="209" y="591"/>
                    </a:lnTo>
                    <a:lnTo>
                      <a:pt x="206" y="613"/>
                    </a:lnTo>
                    <a:lnTo>
                      <a:pt x="203" y="637"/>
                    </a:lnTo>
                    <a:lnTo>
                      <a:pt x="178" y="580"/>
                    </a:lnTo>
                    <a:lnTo>
                      <a:pt x="152" y="523"/>
                    </a:lnTo>
                    <a:lnTo>
                      <a:pt x="126" y="467"/>
                    </a:lnTo>
                    <a:lnTo>
                      <a:pt x="100" y="410"/>
                    </a:lnTo>
                    <a:lnTo>
                      <a:pt x="75" y="352"/>
                    </a:lnTo>
                    <a:lnTo>
                      <a:pt x="50" y="296"/>
                    </a:lnTo>
                    <a:lnTo>
                      <a:pt x="25" y="239"/>
                    </a:lnTo>
                    <a:lnTo>
                      <a:pt x="0" y="182"/>
                    </a:lnTo>
                    <a:lnTo>
                      <a:pt x="3" y="160"/>
                    </a:lnTo>
                    <a:lnTo>
                      <a:pt x="5" y="138"/>
                    </a:lnTo>
                    <a:lnTo>
                      <a:pt x="8" y="115"/>
                    </a:lnTo>
                    <a:lnTo>
                      <a:pt x="11" y="92"/>
                    </a:lnTo>
                    <a:lnTo>
                      <a:pt x="13" y="69"/>
                    </a:lnTo>
                    <a:lnTo>
                      <a:pt x="16" y="46"/>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447760" y="4000680"/>
                <a:ext cx="84600" cy="181080"/>
              </a:xfrm>
              <a:custGeom>
                <a:avLst/>
                <a:gdLst/>
                <a:ahLst/>
                <a:rect l="l" t="t" r="r" b="b"/>
                <a:pathLst>
                  <a:path w="225" h="638">
                    <a:moveTo>
                      <a:pt x="22" y="0"/>
                    </a:moveTo>
                    <a:lnTo>
                      <a:pt x="47" y="57"/>
                    </a:lnTo>
                    <a:lnTo>
                      <a:pt x="72" y="114"/>
                    </a:lnTo>
                    <a:lnTo>
                      <a:pt x="97" y="170"/>
                    </a:lnTo>
                    <a:lnTo>
                      <a:pt x="122" y="228"/>
                    </a:lnTo>
                    <a:lnTo>
                      <a:pt x="148" y="285"/>
                    </a:lnTo>
                    <a:lnTo>
                      <a:pt x="174" y="341"/>
                    </a:lnTo>
                    <a:lnTo>
                      <a:pt x="200" y="398"/>
                    </a:lnTo>
                    <a:lnTo>
                      <a:pt x="225" y="455"/>
                    </a:lnTo>
                    <a:lnTo>
                      <a:pt x="223" y="477"/>
                    </a:lnTo>
                    <a:lnTo>
                      <a:pt x="220" y="500"/>
                    </a:lnTo>
                    <a:lnTo>
                      <a:pt x="217" y="523"/>
                    </a:lnTo>
                    <a:lnTo>
                      <a:pt x="215" y="546"/>
                    </a:lnTo>
                    <a:lnTo>
                      <a:pt x="212" y="569"/>
                    </a:lnTo>
                    <a:lnTo>
                      <a:pt x="209" y="592"/>
                    </a:lnTo>
                    <a:lnTo>
                      <a:pt x="206" y="615"/>
                    </a:lnTo>
                    <a:lnTo>
                      <a:pt x="204" y="638"/>
                    </a:lnTo>
                    <a:lnTo>
                      <a:pt x="178" y="580"/>
                    </a:lnTo>
                    <a:lnTo>
                      <a:pt x="152" y="523"/>
                    </a:lnTo>
                    <a:lnTo>
                      <a:pt x="126" y="467"/>
                    </a:lnTo>
                    <a:lnTo>
                      <a:pt x="101" y="410"/>
                    </a:lnTo>
                    <a:lnTo>
                      <a:pt x="75" y="354"/>
                    </a:lnTo>
                    <a:lnTo>
                      <a:pt x="50" y="297"/>
                    </a:lnTo>
                    <a:lnTo>
                      <a:pt x="25" y="240"/>
                    </a:lnTo>
                    <a:lnTo>
                      <a:pt x="0" y="184"/>
                    </a:lnTo>
                    <a:lnTo>
                      <a:pt x="2" y="160"/>
                    </a:lnTo>
                    <a:lnTo>
                      <a:pt x="5" y="138"/>
                    </a:lnTo>
                    <a:lnTo>
                      <a:pt x="8" y="115"/>
                    </a:lnTo>
                    <a:lnTo>
                      <a:pt x="10" y="93"/>
                    </a:lnTo>
                    <a:lnTo>
                      <a:pt x="13" y="69"/>
                    </a:lnTo>
                    <a:lnTo>
                      <a:pt x="16" y="47"/>
                    </a:lnTo>
                    <a:lnTo>
                      <a:pt x="19" y="24"/>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440200" y="4053240"/>
                <a:ext cx="83160" cy="181080"/>
              </a:xfrm>
              <a:custGeom>
                <a:avLst/>
                <a:gdLst/>
                <a:ahLst/>
                <a:rect l="l" t="t" r="r" b="b"/>
                <a:pathLst>
                  <a:path w="226" h="636">
                    <a:moveTo>
                      <a:pt x="22" y="0"/>
                    </a:moveTo>
                    <a:lnTo>
                      <a:pt x="47" y="56"/>
                    </a:lnTo>
                    <a:lnTo>
                      <a:pt x="72" y="113"/>
                    </a:lnTo>
                    <a:lnTo>
                      <a:pt x="97" y="170"/>
                    </a:lnTo>
                    <a:lnTo>
                      <a:pt x="123" y="226"/>
                    </a:lnTo>
                    <a:lnTo>
                      <a:pt x="148" y="283"/>
                    </a:lnTo>
                    <a:lnTo>
                      <a:pt x="174" y="339"/>
                    </a:lnTo>
                    <a:lnTo>
                      <a:pt x="200" y="396"/>
                    </a:lnTo>
                    <a:lnTo>
                      <a:pt x="226" y="454"/>
                    </a:lnTo>
                    <a:lnTo>
                      <a:pt x="223" y="476"/>
                    </a:lnTo>
                    <a:lnTo>
                      <a:pt x="220" y="499"/>
                    </a:lnTo>
                    <a:lnTo>
                      <a:pt x="218" y="523"/>
                    </a:lnTo>
                    <a:lnTo>
                      <a:pt x="215" y="545"/>
                    </a:lnTo>
                    <a:lnTo>
                      <a:pt x="212" y="568"/>
                    </a:lnTo>
                    <a:lnTo>
                      <a:pt x="210" y="592"/>
                    </a:lnTo>
                    <a:lnTo>
                      <a:pt x="207" y="614"/>
                    </a:lnTo>
                    <a:lnTo>
                      <a:pt x="204" y="636"/>
                    </a:lnTo>
                    <a:lnTo>
                      <a:pt x="178" y="579"/>
                    </a:lnTo>
                    <a:lnTo>
                      <a:pt x="152" y="523"/>
                    </a:lnTo>
                    <a:lnTo>
                      <a:pt x="126" y="466"/>
                    </a:lnTo>
                    <a:lnTo>
                      <a:pt x="101" y="408"/>
                    </a:lnTo>
                    <a:lnTo>
                      <a:pt x="76" y="352"/>
                    </a:lnTo>
                    <a:lnTo>
                      <a:pt x="51" y="295"/>
                    </a:lnTo>
                    <a:lnTo>
                      <a:pt x="25" y="239"/>
                    </a:lnTo>
                    <a:lnTo>
                      <a:pt x="0" y="182"/>
                    </a:lnTo>
                    <a:lnTo>
                      <a:pt x="3" y="160"/>
                    </a:lnTo>
                    <a:lnTo>
                      <a:pt x="5" y="136"/>
                    </a:lnTo>
                    <a:lnTo>
                      <a:pt x="8" y="114"/>
                    </a:lnTo>
                    <a:lnTo>
                      <a:pt x="11" y="91"/>
                    </a:lnTo>
                    <a:lnTo>
                      <a:pt x="14" y="69"/>
                    </a:lnTo>
                    <a:lnTo>
                      <a:pt x="16" y="45"/>
                    </a:lnTo>
                    <a:lnTo>
                      <a:pt x="19" y="22"/>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32640" y="4104720"/>
                <a:ext cx="83520" cy="182520"/>
              </a:xfrm>
              <a:custGeom>
                <a:avLst/>
                <a:gdLst/>
                <a:ahLst/>
                <a:rect l="l" t="t" r="r" b="b"/>
                <a:pathLst>
                  <a:path w="225" h="638">
                    <a:moveTo>
                      <a:pt x="21" y="0"/>
                    </a:moveTo>
                    <a:lnTo>
                      <a:pt x="46" y="57"/>
                    </a:lnTo>
                    <a:lnTo>
                      <a:pt x="72" y="113"/>
                    </a:lnTo>
                    <a:lnTo>
                      <a:pt x="97" y="170"/>
                    </a:lnTo>
                    <a:lnTo>
                      <a:pt x="122" y="226"/>
                    </a:lnTo>
                    <a:lnTo>
                      <a:pt x="147" y="284"/>
                    </a:lnTo>
                    <a:lnTo>
                      <a:pt x="173" y="341"/>
                    </a:lnTo>
                    <a:lnTo>
                      <a:pt x="199" y="397"/>
                    </a:lnTo>
                    <a:lnTo>
                      <a:pt x="225" y="454"/>
                    </a:lnTo>
                    <a:lnTo>
                      <a:pt x="222" y="477"/>
                    </a:lnTo>
                    <a:lnTo>
                      <a:pt x="220" y="501"/>
                    </a:lnTo>
                    <a:lnTo>
                      <a:pt x="217" y="524"/>
                    </a:lnTo>
                    <a:lnTo>
                      <a:pt x="214" y="548"/>
                    </a:lnTo>
                    <a:lnTo>
                      <a:pt x="212" y="570"/>
                    </a:lnTo>
                    <a:lnTo>
                      <a:pt x="209" y="593"/>
                    </a:lnTo>
                    <a:lnTo>
                      <a:pt x="206" y="615"/>
                    </a:lnTo>
                    <a:lnTo>
                      <a:pt x="204" y="638"/>
                    </a:lnTo>
                    <a:lnTo>
                      <a:pt x="177" y="581"/>
                    </a:lnTo>
                    <a:lnTo>
                      <a:pt x="151" y="524"/>
                    </a:lnTo>
                    <a:lnTo>
                      <a:pt x="126" y="468"/>
                    </a:lnTo>
                    <a:lnTo>
                      <a:pt x="100" y="410"/>
                    </a:lnTo>
                    <a:lnTo>
                      <a:pt x="75" y="353"/>
                    </a:lnTo>
                    <a:lnTo>
                      <a:pt x="49" y="297"/>
                    </a:lnTo>
                    <a:lnTo>
                      <a:pt x="24" y="239"/>
                    </a:lnTo>
                    <a:lnTo>
                      <a:pt x="0" y="182"/>
                    </a:lnTo>
                    <a:lnTo>
                      <a:pt x="2" y="160"/>
                    </a:lnTo>
                    <a:lnTo>
                      <a:pt x="5" y="138"/>
                    </a:lnTo>
                    <a:lnTo>
                      <a:pt x="8" y="114"/>
                    </a:lnTo>
                    <a:lnTo>
                      <a:pt x="10" y="92"/>
                    </a:lnTo>
                    <a:lnTo>
                      <a:pt x="13" y="69"/>
                    </a:lnTo>
                    <a:lnTo>
                      <a:pt x="16" y="45"/>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423640" y="4156200"/>
                <a:ext cx="83520" cy="182520"/>
              </a:xfrm>
              <a:custGeom>
                <a:avLst/>
                <a:gdLst/>
                <a:ahLst/>
                <a:rect l="l" t="t" r="r" b="b"/>
                <a:pathLst>
                  <a:path w="226" h="640">
                    <a:moveTo>
                      <a:pt x="22" y="0"/>
                    </a:moveTo>
                    <a:lnTo>
                      <a:pt x="46" y="57"/>
                    </a:lnTo>
                    <a:lnTo>
                      <a:pt x="71" y="115"/>
                    </a:lnTo>
                    <a:lnTo>
                      <a:pt x="97" y="171"/>
                    </a:lnTo>
                    <a:lnTo>
                      <a:pt x="122" y="228"/>
                    </a:lnTo>
                    <a:lnTo>
                      <a:pt x="148" y="286"/>
                    </a:lnTo>
                    <a:lnTo>
                      <a:pt x="173" y="342"/>
                    </a:lnTo>
                    <a:lnTo>
                      <a:pt x="199" y="399"/>
                    </a:lnTo>
                    <a:lnTo>
                      <a:pt x="226" y="456"/>
                    </a:lnTo>
                    <a:lnTo>
                      <a:pt x="223" y="479"/>
                    </a:lnTo>
                    <a:lnTo>
                      <a:pt x="220" y="502"/>
                    </a:lnTo>
                    <a:lnTo>
                      <a:pt x="217" y="526"/>
                    </a:lnTo>
                    <a:lnTo>
                      <a:pt x="215" y="548"/>
                    </a:lnTo>
                    <a:lnTo>
                      <a:pt x="212" y="571"/>
                    </a:lnTo>
                    <a:lnTo>
                      <a:pt x="208" y="595"/>
                    </a:lnTo>
                    <a:lnTo>
                      <a:pt x="206" y="618"/>
                    </a:lnTo>
                    <a:lnTo>
                      <a:pt x="203" y="640"/>
                    </a:lnTo>
                    <a:lnTo>
                      <a:pt x="177" y="582"/>
                    </a:lnTo>
                    <a:lnTo>
                      <a:pt x="152" y="526"/>
                    </a:lnTo>
                    <a:lnTo>
                      <a:pt x="126" y="468"/>
                    </a:lnTo>
                    <a:lnTo>
                      <a:pt x="101" y="411"/>
                    </a:lnTo>
                    <a:lnTo>
                      <a:pt x="75" y="353"/>
                    </a:lnTo>
                    <a:lnTo>
                      <a:pt x="50" y="297"/>
                    </a:lnTo>
                    <a:lnTo>
                      <a:pt x="25" y="239"/>
                    </a:lnTo>
                    <a:lnTo>
                      <a:pt x="0" y="182"/>
                    </a:lnTo>
                    <a:lnTo>
                      <a:pt x="3" y="159"/>
                    </a:lnTo>
                    <a:lnTo>
                      <a:pt x="5" y="137"/>
                    </a:lnTo>
                    <a:lnTo>
                      <a:pt x="8" y="115"/>
                    </a:lnTo>
                    <a:lnTo>
                      <a:pt x="11" y="91"/>
                    </a:lnTo>
                    <a:lnTo>
                      <a:pt x="13" y="69"/>
                    </a:lnTo>
                    <a:lnTo>
                      <a:pt x="16" y="46"/>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15000" y="4208760"/>
                <a:ext cx="84600" cy="182520"/>
              </a:xfrm>
              <a:custGeom>
                <a:avLst/>
                <a:gdLst/>
                <a:ahLst/>
                <a:rect l="l" t="t" r="r" b="b"/>
                <a:pathLst>
                  <a:path w="225" h="642">
                    <a:moveTo>
                      <a:pt x="22" y="0"/>
                    </a:moveTo>
                    <a:lnTo>
                      <a:pt x="47" y="57"/>
                    </a:lnTo>
                    <a:lnTo>
                      <a:pt x="72" y="115"/>
                    </a:lnTo>
                    <a:lnTo>
                      <a:pt x="97" y="171"/>
                    </a:lnTo>
                    <a:lnTo>
                      <a:pt x="123" y="229"/>
                    </a:lnTo>
                    <a:lnTo>
                      <a:pt x="148" y="286"/>
                    </a:lnTo>
                    <a:lnTo>
                      <a:pt x="174" y="344"/>
                    </a:lnTo>
                    <a:lnTo>
                      <a:pt x="199" y="400"/>
                    </a:lnTo>
                    <a:lnTo>
                      <a:pt x="225" y="458"/>
                    </a:lnTo>
                    <a:lnTo>
                      <a:pt x="222" y="482"/>
                    </a:lnTo>
                    <a:lnTo>
                      <a:pt x="220" y="505"/>
                    </a:lnTo>
                    <a:lnTo>
                      <a:pt x="217" y="527"/>
                    </a:lnTo>
                    <a:lnTo>
                      <a:pt x="214" y="550"/>
                    </a:lnTo>
                    <a:lnTo>
                      <a:pt x="211" y="574"/>
                    </a:lnTo>
                    <a:lnTo>
                      <a:pt x="209" y="596"/>
                    </a:lnTo>
                    <a:lnTo>
                      <a:pt x="206" y="619"/>
                    </a:lnTo>
                    <a:lnTo>
                      <a:pt x="203" y="642"/>
                    </a:lnTo>
                    <a:lnTo>
                      <a:pt x="178" y="585"/>
                    </a:lnTo>
                    <a:lnTo>
                      <a:pt x="152" y="527"/>
                    </a:lnTo>
                    <a:lnTo>
                      <a:pt x="127" y="470"/>
                    </a:lnTo>
                    <a:lnTo>
                      <a:pt x="100" y="413"/>
                    </a:lnTo>
                    <a:lnTo>
                      <a:pt x="75" y="356"/>
                    </a:lnTo>
                    <a:lnTo>
                      <a:pt x="50" y="298"/>
                    </a:lnTo>
                    <a:lnTo>
                      <a:pt x="25" y="242"/>
                    </a:lnTo>
                    <a:lnTo>
                      <a:pt x="0" y="184"/>
                    </a:lnTo>
                    <a:lnTo>
                      <a:pt x="3" y="161"/>
                    </a:lnTo>
                    <a:lnTo>
                      <a:pt x="6" y="138"/>
                    </a:lnTo>
                    <a:lnTo>
                      <a:pt x="9" y="116"/>
                    </a:lnTo>
                    <a:lnTo>
                      <a:pt x="11" y="93"/>
                    </a:lnTo>
                    <a:lnTo>
                      <a:pt x="14" y="69"/>
                    </a:lnTo>
                    <a:lnTo>
                      <a:pt x="17" y="47"/>
                    </a:lnTo>
                    <a:lnTo>
                      <a:pt x="19" y="24"/>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407440" y="4261680"/>
                <a:ext cx="83160" cy="182520"/>
              </a:xfrm>
              <a:custGeom>
                <a:avLst/>
                <a:gdLst/>
                <a:ahLst/>
                <a:rect l="l" t="t" r="r" b="b"/>
                <a:pathLst>
                  <a:path w="225" h="642">
                    <a:moveTo>
                      <a:pt x="22" y="0"/>
                    </a:moveTo>
                    <a:lnTo>
                      <a:pt x="47" y="58"/>
                    </a:lnTo>
                    <a:lnTo>
                      <a:pt x="72" y="114"/>
                    </a:lnTo>
                    <a:lnTo>
                      <a:pt x="97" y="172"/>
                    </a:lnTo>
                    <a:lnTo>
                      <a:pt x="122" y="229"/>
                    </a:lnTo>
                    <a:lnTo>
                      <a:pt x="149" y="286"/>
                    </a:lnTo>
                    <a:lnTo>
                      <a:pt x="174" y="343"/>
                    </a:lnTo>
                    <a:lnTo>
                      <a:pt x="200" y="401"/>
                    </a:lnTo>
                    <a:lnTo>
                      <a:pt x="225" y="458"/>
                    </a:lnTo>
                    <a:lnTo>
                      <a:pt x="223" y="481"/>
                    </a:lnTo>
                    <a:lnTo>
                      <a:pt x="220" y="504"/>
                    </a:lnTo>
                    <a:lnTo>
                      <a:pt x="217" y="528"/>
                    </a:lnTo>
                    <a:lnTo>
                      <a:pt x="214" y="551"/>
                    </a:lnTo>
                    <a:lnTo>
                      <a:pt x="212" y="575"/>
                    </a:lnTo>
                    <a:lnTo>
                      <a:pt x="209" y="597"/>
                    </a:lnTo>
                    <a:lnTo>
                      <a:pt x="206" y="620"/>
                    </a:lnTo>
                    <a:lnTo>
                      <a:pt x="204" y="642"/>
                    </a:lnTo>
                    <a:lnTo>
                      <a:pt x="178" y="584"/>
                    </a:lnTo>
                    <a:lnTo>
                      <a:pt x="152" y="528"/>
                    </a:lnTo>
                    <a:lnTo>
                      <a:pt x="126" y="470"/>
                    </a:lnTo>
                    <a:lnTo>
                      <a:pt x="101" y="412"/>
                    </a:lnTo>
                    <a:lnTo>
                      <a:pt x="76" y="355"/>
                    </a:lnTo>
                    <a:lnTo>
                      <a:pt x="50" y="298"/>
                    </a:lnTo>
                    <a:lnTo>
                      <a:pt x="26" y="241"/>
                    </a:lnTo>
                    <a:lnTo>
                      <a:pt x="0" y="183"/>
                    </a:lnTo>
                    <a:lnTo>
                      <a:pt x="4" y="161"/>
                    </a:lnTo>
                    <a:lnTo>
                      <a:pt x="6" y="138"/>
                    </a:lnTo>
                    <a:lnTo>
                      <a:pt x="9" y="115"/>
                    </a:lnTo>
                    <a:lnTo>
                      <a:pt x="12" y="92"/>
                    </a:lnTo>
                    <a:lnTo>
                      <a:pt x="14" y="69"/>
                    </a:lnTo>
                    <a:lnTo>
                      <a:pt x="17" y="45"/>
                    </a:lnTo>
                    <a:lnTo>
                      <a:pt x="20"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399520" y="4313160"/>
                <a:ext cx="83520" cy="183960"/>
              </a:xfrm>
              <a:custGeom>
                <a:avLst/>
                <a:gdLst/>
                <a:ahLst/>
                <a:rect l="l" t="t" r="r" b="b"/>
                <a:pathLst>
                  <a:path w="226" h="643">
                    <a:moveTo>
                      <a:pt x="22" y="0"/>
                    </a:moveTo>
                    <a:lnTo>
                      <a:pt x="48" y="58"/>
                    </a:lnTo>
                    <a:lnTo>
                      <a:pt x="72" y="115"/>
                    </a:lnTo>
                    <a:lnTo>
                      <a:pt x="98" y="172"/>
                    </a:lnTo>
                    <a:lnTo>
                      <a:pt x="123" y="229"/>
                    </a:lnTo>
                    <a:lnTo>
                      <a:pt x="148" y="287"/>
                    </a:lnTo>
                    <a:lnTo>
                      <a:pt x="174" y="345"/>
                    </a:lnTo>
                    <a:lnTo>
                      <a:pt x="200" y="401"/>
                    </a:lnTo>
                    <a:lnTo>
                      <a:pt x="226" y="459"/>
                    </a:lnTo>
                    <a:lnTo>
                      <a:pt x="223" y="483"/>
                    </a:lnTo>
                    <a:lnTo>
                      <a:pt x="220" y="506"/>
                    </a:lnTo>
                    <a:lnTo>
                      <a:pt x="218" y="528"/>
                    </a:lnTo>
                    <a:lnTo>
                      <a:pt x="215" y="552"/>
                    </a:lnTo>
                    <a:lnTo>
                      <a:pt x="212" y="575"/>
                    </a:lnTo>
                    <a:lnTo>
                      <a:pt x="209" y="597"/>
                    </a:lnTo>
                    <a:lnTo>
                      <a:pt x="207" y="620"/>
                    </a:lnTo>
                    <a:lnTo>
                      <a:pt x="204" y="643"/>
                    </a:lnTo>
                    <a:lnTo>
                      <a:pt x="178" y="585"/>
                    </a:lnTo>
                    <a:lnTo>
                      <a:pt x="153" y="528"/>
                    </a:lnTo>
                    <a:lnTo>
                      <a:pt x="126" y="470"/>
                    </a:lnTo>
                    <a:lnTo>
                      <a:pt x="101" y="412"/>
                    </a:lnTo>
                    <a:lnTo>
                      <a:pt x="76" y="356"/>
                    </a:lnTo>
                    <a:lnTo>
                      <a:pt x="51" y="298"/>
                    </a:lnTo>
                    <a:lnTo>
                      <a:pt x="26" y="240"/>
                    </a:lnTo>
                    <a:lnTo>
                      <a:pt x="0" y="183"/>
                    </a:lnTo>
                    <a:lnTo>
                      <a:pt x="3" y="160"/>
                    </a:lnTo>
                    <a:lnTo>
                      <a:pt x="6" y="138"/>
                    </a:lnTo>
                    <a:lnTo>
                      <a:pt x="8" y="115"/>
                    </a:lnTo>
                    <a:lnTo>
                      <a:pt x="11" y="92"/>
                    </a:lnTo>
                    <a:lnTo>
                      <a:pt x="14" y="69"/>
                    </a:lnTo>
                    <a:lnTo>
                      <a:pt x="16"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390880" y="4365720"/>
                <a:ext cx="83520" cy="183960"/>
              </a:xfrm>
              <a:custGeom>
                <a:avLst/>
                <a:gdLst/>
                <a:ahLst/>
                <a:rect l="l" t="t" r="r" b="b"/>
                <a:pathLst>
                  <a:path w="225" h="644">
                    <a:moveTo>
                      <a:pt x="21" y="0"/>
                    </a:moveTo>
                    <a:lnTo>
                      <a:pt x="47" y="57"/>
                    </a:lnTo>
                    <a:lnTo>
                      <a:pt x="72" y="115"/>
                    </a:lnTo>
                    <a:lnTo>
                      <a:pt x="97" y="173"/>
                    </a:lnTo>
                    <a:lnTo>
                      <a:pt x="122" y="229"/>
                    </a:lnTo>
                    <a:lnTo>
                      <a:pt x="147" y="287"/>
                    </a:lnTo>
                    <a:lnTo>
                      <a:pt x="174" y="345"/>
                    </a:lnTo>
                    <a:lnTo>
                      <a:pt x="199" y="402"/>
                    </a:lnTo>
                    <a:lnTo>
                      <a:pt x="225" y="460"/>
                    </a:lnTo>
                    <a:lnTo>
                      <a:pt x="222" y="483"/>
                    </a:lnTo>
                    <a:lnTo>
                      <a:pt x="220" y="506"/>
                    </a:lnTo>
                    <a:lnTo>
                      <a:pt x="217" y="530"/>
                    </a:lnTo>
                    <a:lnTo>
                      <a:pt x="214" y="553"/>
                    </a:lnTo>
                    <a:lnTo>
                      <a:pt x="212" y="575"/>
                    </a:lnTo>
                    <a:lnTo>
                      <a:pt x="209" y="599"/>
                    </a:lnTo>
                    <a:lnTo>
                      <a:pt x="206" y="622"/>
                    </a:lnTo>
                    <a:lnTo>
                      <a:pt x="203" y="644"/>
                    </a:lnTo>
                    <a:lnTo>
                      <a:pt x="178" y="586"/>
                    </a:lnTo>
                    <a:lnTo>
                      <a:pt x="151" y="529"/>
                    </a:lnTo>
                    <a:lnTo>
                      <a:pt x="126" y="471"/>
                    </a:lnTo>
                    <a:lnTo>
                      <a:pt x="100" y="413"/>
                    </a:lnTo>
                    <a:lnTo>
                      <a:pt x="75" y="356"/>
                    </a:lnTo>
                    <a:lnTo>
                      <a:pt x="50" y="298"/>
                    </a:lnTo>
                    <a:lnTo>
                      <a:pt x="24" y="241"/>
                    </a:lnTo>
                    <a:lnTo>
                      <a:pt x="0" y="183"/>
                    </a:lnTo>
                    <a:lnTo>
                      <a:pt x="2" y="160"/>
                    </a:lnTo>
                    <a:lnTo>
                      <a:pt x="5" y="137"/>
                    </a:lnTo>
                    <a:lnTo>
                      <a:pt x="8" y="115"/>
                    </a:lnTo>
                    <a:lnTo>
                      <a:pt x="10" y="93"/>
                    </a:lnTo>
                    <a:lnTo>
                      <a:pt x="13" y="69"/>
                    </a:lnTo>
                    <a:lnTo>
                      <a:pt x="16" y="46"/>
                    </a:lnTo>
                    <a:lnTo>
                      <a:pt x="18" y="24"/>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383320" y="4417200"/>
                <a:ext cx="83520" cy="185400"/>
              </a:xfrm>
              <a:custGeom>
                <a:avLst/>
                <a:gdLst/>
                <a:ahLst/>
                <a:rect l="l" t="t" r="r" b="b"/>
                <a:pathLst>
                  <a:path w="225" h="646">
                    <a:moveTo>
                      <a:pt x="22" y="0"/>
                    </a:moveTo>
                    <a:lnTo>
                      <a:pt x="46" y="58"/>
                    </a:lnTo>
                    <a:lnTo>
                      <a:pt x="72" y="115"/>
                    </a:lnTo>
                    <a:lnTo>
                      <a:pt x="97" y="173"/>
                    </a:lnTo>
                    <a:lnTo>
                      <a:pt x="122" y="230"/>
                    </a:lnTo>
                    <a:lnTo>
                      <a:pt x="148" y="288"/>
                    </a:lnTo>
                    <a:lnTo>
                      <a:pt x="173" y="346"/>
                    </a:lnTo>
                    <a:lnTo>
                      <a:pt x="200" y="403"/>
                    </a:lnTo>
                    <a:lnTo>
                      <a:pt x="225" y="461"/>
                    </a:lnTo>
                    <a:lnTo>
                      <a:pt x="223" y="485"/>
                    </a:lnTo>
                    <a:lnTo>
                      <a:pt x="220" y="508"/>
                    </a:lnTo>
                    <a:lnTo>
                      <a:pt x="217" y="531"/>
                    </a:lnTo>
                    <a:lnTo>
                      <a:pt x="215" y="555"/>
                    </a:lnTo>
                    <a:lnTo>
                      <a:pt x="212" y="577"/>
                    </a:lnTo>
                    <a:lnTo>
                      <a:pt x="209" y="600"/>
                    </a:lnTo>
                    <a:lnTo>
                      <a:pt x="206" y="624"/>
                    </a:lnTo>
                    <a:lnTo>
                      <a:pt x="204" y="646"/>
                    </a:lnTo>
                    <a:lnTo>
                      <a:pt x="177" y="588"/>
                    </a:lnTo>
                    <a:lnTo>
                      <a:pt x="152" y="530"/>
                    </a:lnTo>
                    <a:lnTo>
                      <a:pt x="126" y="472"/>
                    </a:lnTo>
                    <a:lnTo>
                      <a:pt x="101" y="414"/>
                    </a:lnTo>
                    <a:lnTo>
                      <a:pt x="76" y="357"/>
                    </a:lnTo>
                    <a:lnTo>
                      <a:pt x="50" y="299"/>
                    </a:lnTo>
                    <a:lnTo>
                      <a:pt x="25" y="241"/>
                    </a:lnTo>
                    <a:lnTo>
                      <a:pt x="0" y="183"/>
                    </a:lnTo>
                    <a:lnTo>
                      <a:pt x="3" y="161"/>
                    </a:lnTo>
                    <a:lnTo>
                      <a:pt x="5" y="138"/>
                    </a:lnTo>
                    <a:lnTo>
                      <a:pt x="8" y="115"/>
                    </a:lnTo>
                    <a:lnTo>
                      <a:pt x="11" y="92"/>
                    </a:lnTo>
                    <a:lnTo>
                      <a:pt x="14" y="69"/>
                    </a:lnTo>
                    <a:lnTo>
                      <a:pt x="16" y="45"/>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374680" y="4470120"/>
                <a:ext cx="84600" cy="185760"/>
              </a:xfrm>
              <a:custGeom>
                <a:avLst/>
                <a:gdLst/>
                <a:ahLst/>
                <a:rect l="l" t="t" r="r" b="b"/>
                <a:pathLst>
                  <a:path w="226" h="649">
                    <a:moveTo>
                      <a:pt x="22" y="0"/>
                    </a:moveTo>
                    <a:lnTo>
                      <a:pt x="47" y="58"/>
                    </a:lnTo>
                    <a:lnTo>
                      <a:pt x="72" y="116"/>
                    </a:lnTo>
                    <a:lnTo>
                      <a:pt x="98" y="174"/>
                    </a:lnTo>
                    <a:lnTo>
                      <a:pt x="123" y="231"/>
                    </a:lnTo>
                    <a:lnTo>
                      <a:pt x="148" y="289"/>
                    </a:lnTo>
                    <a:lnTo>
                      <a:pt x="174" y="347"/>
                    </a:lnTo>
                    <a:lnTo>
                      <a:pt x="199" y="405"/>
                    </a:lnTo>
                    <a:lnTo>
                      <a:pt x="226" y="463"/>
                    </a:lnTo>
                    <a:lnTo>
                      <a:pt x="223" y="486"/>
                    </a:lnTo>
                    <a:lnTo>
                      <a:pt x="220" y="510"/>
                    </a:lnTo>
                    <a:lnTo>
                      <a:pt x="218" y="533"/>
                    </a:lnTo>
                    <a:lnTo>
                      <a:pt x="215" y="556"/>
                    </a:lnTo>
                    <a:lnTo>
                      <a:pt x="211" y="580"/>
                    </a:lnTo>
                    <a:lnTo>
                      <a:pt x="208" y="602"/>
                    </a:lnTo>
                    <a:lnTo>
                      <a:pt x="206" y="625"/>
                    </a:lnTo>
                    <a:lnTo>
                      <a:pt x="203" y="649"/>
                    </a:lnTo>
                    <a:lnTo>
                      <a:pt x="177" y="591"/>
                    </a:lnTo>
                    <a:lnTo>
                      <a:pt x="152" y="532"/>
                    </a:lnTo>
                    <a:lnTo>
                      <a:pt x="126" y="474"/>
                    </a:lnTo>
                    <a:lnTo>
                      <a:pt x="101" y="416"/>
                    </a:lnTo>
                    <a:lnTo>
                      <a:pt x="75" y="358"/>
                    </a:lnTo>
                    <a:lnTo>
                      <a:pt x="50" y="300"/>
                    </a:lnTo>
                    <a:lnTo>
                      <a:pt x="25" y="243"/>
                    </a:lnTo>
                    <a:lnTo>
                      <a:pt x="0" y="185"/>
                    </a:lnTo>
                    <a:lnTo>
                      <a:pt x="3" y="161"/>
                    </a:lnTo>
                    <a:lnTo>
                      <a:pt x="6" y="139"/>
                    </a:lnTo>
                    <a:lnTo>
                      <a:pt x="8" y="116"/>
                    </a:lnTo>
                    <a:lnTo>
                      <a:pt x="11" y="94"/>
                    </a:lnTo>
                    <a:lnTo>
                      <a:pt x="14" y="70"/>
                    </a:lnTo>
                    <a:lnTo>
                      <a:pt x="17"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366760" y="4522680"/>
                <a:ext cx="83520" cy="185760"/>
              </a:xfrm>
              <a:custGeom>
                <a:avLst/>
                <a:gdLst/>
                <a:ahLst/>
                <a:rect l="l" t="t" r="r" b="b"/>
                <a:pathLst>
                  <a:path w="224" h="648">
                    <a:moveTo>
                      <a:pt x="21" y="0"/>
                    </a:moveTo>
                    <a:lnTo>
                      <a:pt x="46" y="58"/>
                    </a:lnTo>
                    <a:lnTo>
                      <a:pt x="71" y="115"/>
                    </a:lnTo>
                    <a:lnTo>
                      <a:pt x="96" y="173"/>
                    </a:lnTo>
                    <a:lnTo>
                      <a:pt x="122" y="231"/>
                    </a:lnTo>
                    <a:lnTo>
                      <a:pt x="147" y="289"/>
                    </a:lnTo>
                    <a:lnTo>
                      <a:pt x="173" y="347"/>
                    </a:lnTo>
                    <a:lnTo>
                      <a:pt x="198" y="406"/>
                    </a:lnTo>
                    <a:lnTo>
                      <a:pt x="224" y="464"/>
                    </a:lnTo>
                    <a:lnTo>
                      <a:pt x="221" y="487"/>
                    </a:lnTo>
                    <a:lnTo>
                      <a:pt x="219" y="509"/>
                    </a:lnTo>
                    <a:lnTo>
                      <a:pt x="216" y="533"/>
                    </a:lnTo>
                    <a:lnTo>
                      <a:pt x="213" y="556"/>
                    </a:lnTo>
                    <a:lnTo>
                      <a:pt x="210" y="579"/>
                    </a:lnTo>
                    <a:lnTo>
                      <a:pt x="208" y="602"/>
                    </a:lnTo>
                    <a:lnTo>
                      <a:pt x="205" y="625"/>
                    </a:lnTo>
                    <a:lnTo>
                      <a:pt x="202" y="648"/>
                    </a:lnTo>
                    <a:lnTo>
                      <a:pt x="177" y="589"/>
                    </a:lnTo>
                    <a:lnTo>
                      <a:pt x="151" y="531"/>
                    </a:lnTo>
                    <a:lnTo>
                      <a:pt x="126" y="474"/>
                    </a:lnTo>
                    <a:lnTo>
                      <a:pt x="99" y="416"/>
                    </a:lnTo>
                    <a:lnTo>
                      <a:pt x="74" y="358"/>
                    </a:lnTo>
                    <a:lnTo>
                      <a:pt x="49" y="300"/>
                    </a:lnTo>
                    <a:lnTo>
                      <a:pt x="24" y="242"/>
                    </a:lnTo>
                    <a:lnTo>
                      <a:pt x="0" y="184"/>
                    </a:lnTo>
                    <a:lnTo>
                      <a:pt x="2" y="161"/>
                    </a:lnTo>
                    <a:lnTo>
                      <a:pt x="5" y="139"/>
                    </a:lnTo>
                    <a:lnTo>
                      <a:pt x="8" y="115"/>
                    </a:lnTo>
                    <a:lnTo>
                      <a:pt x="11" y="92"/>
                    </a:lnTo>
                    <a:lnTo>
                      <a:pt x="13" y="69"/>
                    </a:lnTo>
                    <a:lnTo>
                      <a:pt x="16" y="46"/>
                    </a:lnTo>
                    <a:lnTo>
                      <a:pt x="19"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358120" y="4575960"/>
                <a:ext cx="84600" cy="185400"/>
              </a:xfrm>
              <a:custGeom>
                <a:avLst/>
                <a:gdLst/>
                <a:ahLst/>
                <a:rect l="l" t="t" r="r" b="b"/>
                <a:pathLst>
                  <a:path w="225" h="649">
                    <a:moveTo>
                      <a:pt x="23" y="0"/>
                    </a:moveTo>
                    <a:lnTo>
                      <a:pt x="47" y="58"/>
                    </a:lnTo>
                    <a:lnTo>
                      <a:pt x="72" y="116"/>
                    </a:lnTo>
                    <a:lnTo>
                      <a:pt x="97" y="174"/>
                    </a:lnTo>
                    <a:lnTo>
                      <a:pt x="122" y="232"/>
                    </a:lnTo>
                    <a:lnTo>
                      <a:pt x="149" y="290"/>
                    </a:lnTo>
                    <a:lnTo>
                      <a:pt x="174" y="347"/>
                    </a:lnTo>
                    <a:lnTo>
                      <a:pt x="200" y="405"/>
                    </a:lnTo>
                    <a:lnTo>
                      <a:pt x="225" y="464"/>
                    </a:lnTo>
                    <a:lnTo>
                      <a:pt x="223" y="488"/>
                    </a:lnTo>
                    <a:lnTo>
                      <a:pt x="220" y="510"/>
                    </a:lnTo>
                    <a:lnTo>
                      <a:pt x="217" y="533"/>
                    </a:lnTo>
                    <a:lnTo>
                      <a:pt x="214" y="557"/>
                    </a:lnTo>
                    <a:lnTo>
                      <a:pt x="212" y="580"/>
                    </a:lnTo>
                    <a:lnTo>
                      <a:pt x="209" y="604"/>
                    </a:lnTo>
                    <a:lnTo>
                      <a:pt x="206" y="626"/>
                    </a:lnTo>
                    <a:lnTo>
                      <a:pt x="204" y="649"/>
                    </a:lnTo>
                    <a:lnTo>
                      <a:pt x="178" y="590"/>
                    </a:lnTo>
                    <a:lnTo>
                      <a:pt x="152" y="532"/>
                    </a:lnTo>
                    <a:lnTo>
                      <a:pt x="126" y="474"/>
                    </a:lnTo>
                    <a:lnTo>
                      <a:pt x="101" y="415"/>
                    </a:lnTo>
                    <a:lnTo>
                      <a:pt x="76" y="357"/>
                    </a:lnTo>
                    <a:lnTo>
                      <a:pt x="51" y="299"/>
                    </a:lnTo>
                    <a:lnTo>
                      <a:pt x="26" y="242"/>
                    </a:lnTo>
                    <a:lnTo>
                      <a:pt x="0" y="184"/>
                    </a:lnTo>
                    <a:lnTo>
                      <a:pt x="3" y="162"/>
                    </a:lnTo>
                    <a:lnTo>
                      <a:pt x="5" y="138"/>
                    </a:lnTo>
                    <a:lnTo>
                      <a:pt x="9" y="115"/>
                    </a:lnTo>
                    <a:lnTo>
                      <a:pt x="12" y="93"/>
                    </a:lnTo>
                    <a:lnTo>
                      <a:pt x="15" y="69"/>
                    </a:lnTo>
                    <a:lnTo>
                      <a:pt x="17" y="46"/>
                    </a:lnTo>
                    <a:lnTo>
                      <a:pt x="20" y="24"/>
                    </a:lnTo>
                    <a:lnTo>
                      <a:pt x="23"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350560" y="4628520"/>
                <a:ext cx="83520" cy="183960"/>
              </a:xfrm>
              <a:custGeom>
                <a:avLst/>
                <a:gdLst/>
                <a:ahLst/>
                <a:rect l="l" t="t" r="r" b="b"/>
                <a:pathLst>
                  <a:path w="225" h="648">
                    <a:moveTo>
                      <a:pt x="21" y="0"/>
                    </a:moveTo>
                    <a:lnTo>
                      <a:pt x="47" y="58"/>
                    </a:lnTo>
                    <a:lnTo>
                      <a:pt x="72" y="115"/>
                    </a:lnTo>
                    <a:lnTo>
                      <a:pt x="97" y="173"/>
                    </a:lnTo>
                    <a:lnTo>
                      <a:pt x="122" y="231"/>
                    </a:lnTo>
                    <a:lnTo>
                      <a:pt x="147" y="290"/>
                    </a:lnTo>
                    <a:lnTo>
                      <a:pt x="173" y="348"/>
                    </a:lnTo>
                    <a:lnTo>
                      <a:pt x="199" y="406"/>
                    </a:lnTo>
                    <a:lnTo>
                      <a:pt x="225" y="465"/>
                    </a:lnTo>
                    <a:lnTo>
                      <a:pt x="222" y="488"/>
                    </a:lnTo>
                    <a:lnTo>
                      <a:pt x="219" y="511"/>
                    </a:lnTo>
                    <a:lnTo>
                      <a:pt x="216" y="534"/>
                    </a:lnTo>
                    <a:lnTo>
                      <a:pt x="214" y="557"/>
                    </a:lnTo>
                    <a:lnTo>
                      <a:pt x="211" y="580"/>
                    </a:lnTo>
                    <a:lnTo>
                      <a:pt x="208" y="603"/>
                    </a:lnTo>
                    <a:lnTo>
                      <a:pt x="206" y="625"/>
                    </a:lnTo>
                    <a:lnTo>
                      <a:pt x="203" y="648"/>
                    </a:lnTo>
                    <a:lnTo>
                      <a:pt x="177" y="589"/>
                    </a:lnTo>
                    <a:lnTo>
                      <a:pt x="151" y="532"/>
                    </a:lnTo>
                    <a:lnTo>
                      <a:pt x="125" y="472"/>
                    </a:lnTo>
                    <a:lnTo>
                      <a:pt x="100" y="415"/>
                    </a:lnTo>
                    <a:lnTo>
                      <a:pt x="75" y="357"/>
                    </a:lnTo>
                    <a:lnTo>
                      <a:pt x="50" y="299"/>
                    </a:lnTo>
                    <a:lnTo>
                      <a:pt x="24" y="241"/>
                    </a:lnTo>
                    <a:lnTo>
                      <a:pt x="0" y="183"/>
                    </a:lnTo>
                    <a:lnTo>
                      <a:pt x="2" y="160"/>
                    </a:lnTo>
                    <a:lnTo>
                      <a:pt x="5" y="136"/>
                    </a:lnTo>
                    <a:lnTo>
                      <a:pt x="8" y="114"/>
                    </a:lnTo>
                    <a:lnTo>
                      <a:pt x="10" y="91"/>
                    </a:lnTo>
                    <a:lnTo>
                      <a:pt x="13" y="69"/>
                    </a:lnTo>
                    <a:lnTo>
                      <a:pt x="16" y="47"/>
                    </a:lnTo>
                    <a:lnTo>
                      <a:pt x="18" y="23"/>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343000" y="4680000"/>
                <a:ext cx="83520" cy="185400"/>
              </a:xfrm>
              <a:custGeom>
                <a:avLst/>
                <a:gdLst/>
                <a:ahLst/>
                <a:rect l="l" t="t" r="r" b="b"/>
                <a:pathLst>
                  <a:path w="225" h="651">
                    <a:moveTo>
                      <a:pt x="22" y="0"/>
                    </a:moveTo>
                    <a:lnTo>
                      <a:pt x="46" y="58"/>
                    </a:lnTo>
                    <a:lnTo>
                      <a:pt x="72" y="116"/>
                    </a:lnTo>
                    <a:lnTo>
                      <a:pt x="97" y="174"/>
                    </a:lnTo>
                    <a:lnTo>
                      <a:pt x="122" y="232"/>
                    </a:lnTo>
                    <a:lnTo>
                      <a:pt x="147" y="289"/>
                    </a:lnTo>
                    <a:lnTo>
                      <a:pt x="173" y="349"/>
                    </a:lnTo>
                    <a:lnTo>
                      <a:pt x="199" y="406"/>
                    </a:lnTo>
                    <a:lnTo>
                      <a:pt x="225" y="465"/>
                    </a:lnTo>
                    <a:lnTo>
                      <a:pt x="222" y="489"/>
                    </a:lnTo>
                    <a:lnTo>
                      <a:pt x="219" y="512"/>
                    </a:lnTo>
                    <a:lnTo>
                      <a:pt x="217" y="536"/>
                    </a:lnTo>
                    <a:lnTo>
                      <a:pt x="214" y="559"/>
                    </a:lnTo>
                    <a:lnTo>
                      <a:pt x="211" y="581"/>
                    </a:lnTo>
                    <a:lnTo>
                      <a:pt x="209" y="605"/>
                    </a:lnTo>
                    <a:lnTo>
                      <a:pt x="206" y="628"/>
                    </a:lnTo>
                    <a:lnTo>
                      <a:pt x="203" y="651"/>
                    </a:lnTo>
                    <a:lnTo>
                      <a:pt x="178" y="592"/>
                    </a:lnTo>
                    <a:lnTo>
                      <a:pt x="151" y="533"/>
                    </a:lnTo>
                    <a:lnTo>
                      <a:pt x="126" y="475"/>
                    </a:lnTo>
                    <a:lnTo>
                      <a:pt x="100" y="416"/>
                    </a:lnTo>
                    <a:lnTo>
                      <a:pt x="75" y="358"/>
                    </a:lnTo>
                    <a:lnTo>
                      <a:pt x="50" y="301"/>
                    </a:lnTo>
                    <a:lnTo>
                      <a:pt x="24" y="241"/>
                    </a:lnTo>
                    <a:lnTo>
                      <a:pt x="0" y="184"/>
                    </a:lnTo>
                    <a:lnTo>
                      <a:pt x="2" y="161"/>
                    </a:lnTo>
                    <a:lnTo>
                      <a:pt x="5" y="138"/>
                    </a:lnTo>
                    <a:lnTo>
                      <a:pt x="8" y="115"/>
                    </a:lnTo>
                    <a:lnTo>
                      <a:pt x="11" y="92"/>
                    </a:lnTo>
                    <a:lnTo>
                      <a:pt x="13" y="69"/>
                    </a:lnTo>
                    <a:lnTo>
                      <a:pt x="16" y="46"/>
                    </a:lnTo>
                    <a:lnTo>
                      <a:pt x="19" y="22"/>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334000" y="4732920"/>
                <a:ext cx="83520" cy="185400"/>
              </a:xfrm>
              <a:custGeom>
                <a:avLst/>
                <a:gdLst/>
                <a:ahLst/>
                <a:rect l="l" t="t" r="r" b="b"/>
                <a:pathLst>
                  <a:path w="225" h="652">
                    <a:moveTo>
                      <a:pt x="22" y="0"/>
                    </a:moveTo>
                    <a:lnTo>
                      <a:pt x="46" y="57"/>
                    </a:lnTo>
                    <a:lnTo>
                      <a:pt x="72" y="117"/>
                    </a:lnTo>
                    <a:lnTo>
                      <a:pt x="97" y="174"/>
                    </a:lnTo>
                    <a:lnTo>
                      <a:pt x="122" y="232"/>
                    </a:lnTo>
                    <a:lnTo>
                      <a:pt x="148" y="291"/>
                    </a:lnTo>
                    <a:lnTo>
                      <a:pt x="173" y="349"/>
                    </a:lnTo>
                    <a:lnTo>
                      <a:pt x="200" y="408"/>
                    </a:lnTo>
                    <a:lnTo>
                      <a:pt x="225" y="467"/>
                    </a:lnTo>
                    <a:lnTo>
                      <a:pt x="222" y="489"/>
                    </a:lnTo>
                    <a:lnTo>
                      <a:pt x="220" y="513"/>
                    </a:lnTo>
                    <a:lnTo>
                      <a:pt x="217" y="536"/>
                    </a:lnTo>
                    <a:lnTo>
                      <a:pt x="214" y="560"/>
                    </a:lnTo>
                    <a:lnTo>
                      <a:pt x="212" y="583"/>
                    </a:lnTo>
                    <a:lnTo>
                      <a:pt x="209" y="606"/>
                    </a:lnTo>
                    <a:lnTo>
                      <a:pt x="206" y="629"/>
                    </a:lnTo>
                    <a:lnTo>
                      <a:pt x="203" y="652"/>
                    </a:lnTo>
                    <a:lnTo>
                      <a:pt x="177" y="593"/>
                    </a:lnTo>
                    <a:lnTo>
                      <a:pt x="151" y="534"/>
                    </a:lnTo>
                    <a:lnTo>
                      <a:pt x="126" y="476"/>
                    </a:lnTo>
                    <a:lnTo>
                      <a:pt x="101" y="417"/>
                    </a:lnTo>
                    <a:lnTo>
                      <a:pt x="76" y="359"/>
                    </a:lnTo>
                    <a:lnTo>
                      <a:pt x="50" y="300"/>
                    </a:lnTo>
                    <a:lnTo>
                      <a:pt x="25" y="242"/>
                    </a:lnTo>
                    <a:lnTo>
                      <a:pt x="0" y="183"/>
                    </a:lnTo>
                    <a:lnTo>
                      <a:pt x="3" y="161"/>
                    </a:lnTo>
                    <a:lnTo>
                      <a:pt x="5" y="137"/>
                    </a:lnTo>
                    <a:lnTo>
                      <a:pt x="8" y="115"/>
                    </a:lnTo>
                    <a:lnTo>
                      <a:pt x="11" y="92"/>
                    </a:lnTo>
                    <a:lnTo>
                      <a:pt x="14" y="69"/>
                    </a:lnTo>
                    <a:lnTo>
                      <a:pt x="16" y="45"/>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25000" y="4785480"/>
                <a:ext cx="84600" cy="186840"/>
              </a:xfrm>
              <a:custGeom>
                <a:avLst/>
                <a:gdLst/>
                <a:ahLst/>
                <a:rect l="l" t="t" r="r" b="b"/>
                <a:pathLst>
                  <a:path w="225" h="655">
                    <a:moveTo>
                      <a:pt x="22" y="0"/>
                    </a:moveTo>
                    <a:lnTo>
                      <a:pt x="47" y="59"/>
                    </a:lnTo>
                    <a:lnTo>
                      <a:pt x="72" y="117"/>
                    </a:lnTo>
                    <a:lnTo>
                      <a:pt x="98" y="176"/>
                    </a:lnTo>
                    <a:lnTo>
                      <a:pt x="123" y="234"/>
                    </a:lnTo>
                    <a:lnTo>
                      <a:pt x="148" y="293"/>
                    </a:lnTo>
                    <a:lnTo>
                      <a:pt x="173" y="351"/>
                    </a:lnTo>
                    <a:lnTo>
                      <a:pt x="199" y="410"/>
                    </a:lnTo>
                    <a:lnTo>
                      <a:pt x="225" y="469"/>
                    </a:lnTo>
                    <a:lnTo>
                      <a:pt x="223" y="492"/>
                    </a:lnTo>
                    <a:lnTo>
                      <a:pt x="220" y="516"/>
                    </a:lnTo>
                    <a:lnTo>
                      <a:pt x="216" y="539"/>
                    </a:lnTo>
                    <a:lnTo>
                      <a:pt x="213" y="563"/>
                    </a:lnTo>
                    <a:lnTo>
                      <a:pt x="211" y="586"/>
                    </a:lnTo>
                    <a:lnTo>
                      <a:pt x="208" y="609"/>
                    </a:lnTo>
                    <a:lnTo>
                      <a:pt x="205" y="631"/>
                    </a:lnTo>
                    <a:lnTo>
                      <a:pt x="203" y="655"/>
                    </a:lnTo>
                    <a:lnTo>
                      <a:pt x="177" y="596"/>
                    </a:lnTo>
                    <a:lnTo>
                      <a:pt x="151" y="537"/>
                    </a:lnTo>
                    <a:lnTo>
                      <a:pt x="126" y="478"/>
                    </a:lnTo>
                    <a:lnTo>
                      <a:pt x="101" y="420"/>
                    </a:lnTo>
                    <a:lnTo>
                      <a:pt x="75" y="361"/>
                    </a:lnTo>
                    <a:lnTo>
                      <a:pt x="50" y="303"/>
                    </a:lnTo>
                    <a:lnTo>
                      <a:pt x="25" y="244"/>
                    </a:lnTo>
                    <a:lnTo>
                      <a:pt x="0" y="186"/>
                    </a:lnTo>
                    <a:lnTo>
                      <a:pt x="3" y="162"/>
                    </a:lnTo>
                    <a:lnTo>
                      <a:pt x="6" y="139"/>
                    </a:lnTo>
                    <a:lnTo>
                      <a:pt x="8" y="117"/>
                    </a:lnTo>
                    <a:lnTo>
                      <a:pt x="11" y="94"/>
                    </a:lnTo>
                    <a:lnTo>
                      <a:pt x="14" y="70"/>
                    </a:lnTo>
                    <a:lnTo>
                      <a:pt x="17"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317800" y="4838400"/>
                <a:ext cx="83520" cy="186840"/>
              </a:xfrm>
              <a:custGeom>
                <a:avLst/>
                <a:gdLst/>
                <a:ahLst/>
                <a:rect l="l" t="t" r="r" b="b"/>
                <a:pathLst>
                  <a:path w="224" h="655">
                    <a:moveTo>
                      <a:pt x="21" y="0"/>
                    </a:moveTo>
                    <a:lnTo>
                      <a:pt x="46" y="58"/>
                    </a:lnTo>
                    <a:lnTo>
                      <a:pt x="71" y="117"/>
                    </a:lnTo>
                    <a:lnTo>
                      <a:pt x="96" y="175"/>
                    </a:lnTo>
                    <a:lnTo>
                      <a:pt x="122" y="234"/>
                    </a:lnTo>
                    <a:lnTo>
                      <a:pt x="147" y="292"/>
                    </a:lnTo>
                    <a:lnTo>
                      <a:pt x="172" y="351"/>
                    </a:lnTo>
                    <a:lnTo>
                      <a:pt x="198" y="410"/>
                    </a:lnTo>
                    <a:lnTo>
                      <a:pt x="224" y="469"/>
                    </a:lnTo>
                    <a:lnTo>
                      <a:pt x="221" y="492"/>
                    </a:lnTo>
                    <a:lnTo>
                      <a:pt x="218" y="516"/>
                    </a:lnTo>
                    <a:lnTo>
                      <a:pt x="215" y="539"/>
                    </a:lnTo>
                    <a:lnTo>
                      <a:pt x="213" y="561"/>
                    </a:lnTo>
                    <a:lnTo>
                      <a:pt x="210" y="585"/>
                    </a:lnTo>
                    <a:lnTo>
                      <a:pt x="207" y="608"/>
                    </a:lnTo>
                    <a:lnTo>
                      <a:pt x="205" y="631"/>
                    </a:lnTo>
                    <a:lnTo>
                      <a:pt x="202" y="655"/>
                    </a:lnTo>
                    <a:lnTo>
                      <a:pt x="176" y="596"/>
                    </a:lnTo>
                    <a:lnTo>
                      <a:pt x="151" y="537"/>
                    </a:lnTo>
                    <a:lnTo>
                      <a:pt x="125" y="477"/>
                    </a:lnTo>
                    <a:lnTo>
                      <a:pt x="99" y="418"/>
                    </a:lnTo>
                    <a:lnTo>
                      <a:pt x="74" y="361"/>
                    </a:lnTo>
                    <a:lnTo>
                      <a:pt x="49" y="301"/>
                    </a:lnTo>
                    <a:lnTo>
                      <a:pt x="24" y="242"/>
                    </a:lnTo>
                    <a:lnTo>
                      <a:pt x="0" y="183"/>
                    </a:lnTo>
                    <a:lnTo>
                      <a:pt x="2" y="161"/>
                    </a:lnTo>
                    <a:lnTo>
                      <a:pt x="5" y="138"/>
                    </a:lnTo>
                    <a:lnTo>
                      <a:pt x="8" y="116"/>
                    </a:lnTo>
                    <a:lnTo>
                      <a:pt x="10" y="92"/>
                    </a:lnTo>
                    <a:lnTo>
                      <a:pt x="13" y="69"/>
                    </a:lnTo>
                    <a:lnTo>
                      <a:pt x="16" y="45"/>
                    </a:lnTo>
                    <a:lnTo>
                      <a:pt x="19" y="22"/>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310240" y="4889880"/>
                <a:ext cx="83520" cy="186480"/>
              </a:xfrm>
              <a:custGeom>
                <a:avLst/>
                <a:gdLst/>
                <a:ahLst/>
                <a:rect l="l" t="t" r="r" b="b"/>
                <a:pathLst>
                  <a:path w="225" h="655">
                    <a:moveTo>
                      <a:pt x="23" y="0"/>
                    </a:moveTo>
                    <a:lnTo>
                      <a:pt x="47" y="59"/>
                    </a:lnTo>
                    <a:lnTo>
                      <a:pt x="72" y="118"/>
                    </a:lnTo>
                    <a:lnTo>
                      <a:pt x="97" y="178"/>
                    </a:lnTo>
                    <a:lnTo>
                      <a:pt x="122" y="235"/>
                    </a:lnTo>
                    <a:lnTo>
                      <a:pt x="148" y="294"/>
                    </a:lnTo>
                    <a:lnTo>
                      <a:pt x="174" y="354"/>
                    </a:lnTo>
                    <a:lnTo>
                      <a:pt x="199" y="413"/>
                    </a:lnTo>
                    <a:lnTo>
                      <a:pt x="225" y="472"/>
                    </a:lnTo>
                    <a:lnTo>
                      <a:pt x="222" y="494"/>
                    </a:lnTo>
                    <a:lnTo>
                      <a:pt x="219" y="517"/>
                    </a:lnTo>
                    <a:lnTo>
                      <a:pt x="217" y="541"/>
                    </a:lnTo>
                    <a:lnTo>
                      <a:pt x="214" y="564"/>
                    </a:lnTo>
                    <a:lnTo>
                      <a:pt x="211" y="587"/>
                    </a:lnTo>
                    <a:lnTo>
                      <a:pt x="208" y="610"/>
                    </a:lnTo>
                    <a:lnTo>
                      <a:pt x="206" y="633"/>
                    </a:lnTo>
                    <a:lnTo>
                      <a:pt x="203" y="655"/>
                    </a:lnTo>
                    <a:lnTo>
                      <a:pt x="177" y="597"/>
                    </a:lnTo>
                    <a:lnTo>
                      <a:pt x="152" y="538"/>
                    </a:lnTo>
                    <a:lnTo>
                      <a:pt x="126" y="479"/>
                    </a:lnTo>
                    <a:lnTo>
                      <a:pt x="100" y="420"/>
                    </a:lnTo>
                    <a:lnTo>
                      <a:pt x="75" y="361"/>
                    </a:lnTo>
                    <a:lnTo>
                      <a:pt x="50" y="303"/>
                    </a:lnTo>
                    <a:lnTo>
                      <a:pt x="26" y="244"/>
                    </a:lnTo>
                    <a:lnTo>
                      <a:pt x="0" y="185"/>
                    </a:lnTo>
                    <a:lnTo>
                      <a:pt x="3" y="163"/>
                    </a:lnTo>
                    <a:lnTo>
                      <a:pt x="5" y="141"/>
                    </a:lnTo>
                    <a:lnTo>
                      <a:pt x="8" y="117"/>
                    </a:lnTo>
                    <a:lnTo>
                      <a:pt x="12" y="94"/>
                    </a:lnTo>
                    <a:lnTo>
                      <a:pt x="14" y="70"/>
                    </a:lnTo>
                    <a:lnTo>
                      <a:pt x="17" y="47"/>
                    </a:lnTo>
                    <a:lnTo>
                      <a:pt x="20" y="24"/>
                    </a:lnTo>
                    <a:lnTo>
                      <a:pt x="23"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301240" y="4942440"/>
                <a:ext cx="83520" cy="188280"/>
              </a:xfrm>
              <a:custGeom>
                <a:avLst/>
                <a:gdLst/>
                <a:ahLst/>
                <a:rect l="l" t="t" r="r" b="b"/>
                <a:pathLst>
                  <a:path w="225" h="656">
                    <a:moveTo>
                      <a:pt x="22" y="0"/>
                    </a:moveTo>
                    <a:lnTo>
                      <a:pt x="48" y="59"/>
                    </a:lnTo>
                    <a:lnTo>
                      <a:pt x="72" y="118"/>
                    </a:lnTo>
                    <a:lnTo>
                      <a:pt x="97" y="176"/>
                    </a:lnTo>
                    <a:lnTo>
                      <a:pt x="122" y="235"/>
                    </a:lnTo>
                    <a:lnTo>
                      <a:pt x="148" y="294"/>
                    </a:lnTo>
                    <a:lnTo>
                      <a:pt x="174" y="353"/>
                    </a:lnTo>
                    <a:lnTo>
                      <a:pt x="199" y="412"/>
                    </a:lnTo>
                    <a:lnTo>
                      <a:pt x="225" y="470"/>
                    </a:lnTo>
                    <a:lnTo>
                      <a:pt x="222" y="495"/>
                    </a:lnTo>
                    <a:lnTo>
                      <a:pt x="220" y="518"/>
                    </a:lnTo>
                    <a:lnTo>
                      <a:pt x="217" y="542"/>
                    </a:lnTo>
                    <a:lnTo>
                      <a:pt x="214" y="564"/>
                    </a:lnTo>
                    <a:lnTo>
                      <a:pt x="211" y="587"/>
                    </a:lnTo>
                    <a:lnTo>
                      <a:pt x="209" y="610"/>
                    </a:lnTo>
                    <a:lnTo>
                      <a:pt x="206" y="634"/>
                    </a:lnTo>
                    <a:lnTo>
                      <a:pt x="203" y="656"/>
                    </a:lnTo>
                    <a:lnTo>
                      <a:pt x="178" y="597"/>
                    </a:lnTo>
                    <a:lnTo>
                      <a:pt x="151" y="538"/>
                    </a:lnTo>
                    <a:lnTo>
                      <a:pt x="126" y="480"/>
                    </a:lnTo>
                    <a:lnTo>
                      <a:pt x="101" y="421"/>
                    </a:lnTo>
                    <a:lnTo>
                      <a:pt x="75" y="362"/>
                    </a:lnTo>
                    <a:lnTo>
                      <a:pt x="51" y="303"/>
                    </a:lnTo>
                    <a:lnTo>
                      <a:pt x="25" y="245"/>
                    </a:lnTo>
                    <a:lnTo>
                      <a:pt x="0" y="186"/>
                    </a:lnTo>
                    <a:lnTo>
                      <a:pt x="3" y="162"/>
                    </a:lnTo>
                    <a:lnTo>
                      <a:pt x="5" y="139"/>
                    </a:lnTo>
                    <a:lnTo>
                      <a:pt x="8" y="117"/>
                    </a:lnTo>
                    <a:lnTo>
                      <a:pt x="11" y="93"/>
                    </a:lnTo>
                    <a:lnTo>
                      <a:pt x="14" y="70"/>
                    </a:lnTo>
                    <a:lnTo>
                      <a:pt x="16"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293680" y="4996800"/>
                <a:ext cx="83520" cy="186480"/>
              </a:xfrm>
              <a:custGeom>
                <a:avLst/>
                <a:gdLst/>
                <a:ahLst/>
                <a:rect l="l" t="t" r="r" b="b"/>
                <a:pathLst>
                  <a:path w="225" h="656">
                    <a:moveTo>
                      <a:pt x="22" y="0"/>
                    </a:moveTo>
                    <a:lnTo>
                      <a:pt x="47" y="59"/>
                    </a:lnTo>
                    <a:lnTo>
                      <a:pt x="73" y="117"/>
                    </a:lnTo>
                    <a:lnTo>
                      <a:pt x="97" y="176"/>
                    </a:lnTo>
                    <a:lnTo>
                      <a:pt x="123" y="235"/>
                    </a:lnTo>
                    <a:lnTo>
                      <a:pt x="148" y="294"/>
                    </a:lnTo>
                    <a:lnTo>
                      <a:pt x="173" y="352"/>
                    </a:lnTo>
                    <a:lnTo>
                      <a:pt x="200" y="411"/>
                    </a:lnTo>
                    <a:lnTo>
                      <a:pt x="225" y="470"/>
                    </a:lnTo>
                    <a:lnTo>
                      <a:pt x="222" y="495"/>
                    </a:lnTo>
                    <a:lnTo>
                      <a:pt x="220" y="518"/>
                    </a:lnTo>
                    <a:lnTo>
                      <a:pt x="217" y="541"/>
                    </a:lnTo>
                    <a:lnTo>
                      <a:pt x="214" y="564"/>
                    </a:lnTo>
                    <a:lnTo>
                      <a:pt x="211" y="587"/>
                    </a:lnTo>
                    <a:lnTo>
                      <a:pt x="209" y="610"/>
                    </a:lnTo>
                    <a:lnTo>
                      <a:pt x="206" y="634"/>
                    </a:lnTo>
                    <a:lnTo>
                      <a:pt x="203" y="656"/>
                    </a:lnTo>
                    <a:lnTo>
                      <a:pt x="177" y="597"/>
                    </a:lnTo>
                    <a:lnTo>
                      <a:pt x="151" y="538"/>
                    </a:lnTo>
                    <a:lnTo>
                      <a:pt x="126" y="479"/>
                    </a:lnTo>
                    <a:lnTo>
                      <a:pt x="101" y="420"/>
                    </a:lnTo>
                    <a:lnTo>
                      <a:pt x="76" y="360"/>
                    </a:lnTo>
                    <a:lnTo>
                      <a:pt x="50" y="301"/>
                    </a:lnTo>
                    <a:lnTo>
                      <a:pt x="25" y="242"/>
                    </a:lnTo>
                    <a:lnTo>
                      <a:pt x="0" y="183"/>
                    </a:lnTo>
                    <a:lnTo>
                      <a:pt x="3" y="161"/>
                    </a:lnTo>
                    <a:lnTo>
                      <a:pt x="6" y="138"/>
                    </a:lnTo>
                    <a:lnTo>
                      <a:pt x="8" y="115"/>
                    </a:lnTo>
                    <a:lnTo>
                      <a:pt x="11" y="92"/>
                    </a:lnTo>
                    <a:lnTo>
                      <a:pt x="14" y="69"/>
                    </a:lnTo>
                    <a:lnTo>
                      <a:pt x="17" y="45"/>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285040" y="5047920"/>
                <a:ext cx="83520" cy="188280"/>
              </a:xfrm>
              <a:custGeom>
                <a:avLst/>
                <a:gdLst/>
                <a:ahLst/>
                <a:rect l="l" t="t" r="r" b="b"/>
                <a:pathLst>
                  <a:path w="224" h="659">
                    <a:moveTo>
                      <a:pt x="21" y="0"/>
                    </a:moveTo>
                    <a:lnTo>
                      <a:pt x="46" y="59"/>
                    </a:lnTo>
                    <a:lnTo>
                      <a:pt x="71" y="118"/>
                    </a:lnTo>
                    <a:lnTo>
                      <a:pt x="97" y="177"/>
                    </a:lnTo>
                    <a:lnTo>
                      <a:pt x="122" y="237"/>
                    </a:lnTo>
                    <a:lnTo>
                      <a:pt x="147" y="296"/>
                    </a:lnTo>
                    <a:lnTo>
                      <a:pt x="172" y="355"/>
                    </a:lnTo>
                    <a:lnTo>
                      <a:pt x="198" y="414"/>
                    </a:lnTo>
                    <a:lnTo>
                      <a:pt x="224" y="473"/>
                    </a:lnTo>
                    <a:lnTo>
                      <a:pt x="222" y="498"/>
                    </a:lnTo>
                    <a:lnTo>
                      <a:pt x="219" y="521"/>
                    </a:lnTo>
                    <a:lnTo>
                      <a:pt x="216" y="543"/>
                    </a:lnTo>
                    <a:lnTo>
                      <a:pt x="213" y="566"/>
                    </a:lnTo>
                    <a:lnTo>
                      <a:pt x="211" y="590"/>
                    </a:lnTo>
                    <a:lnTo>
                      <a:pt x="208" y="613"/>
                    </a:lnTo>
                    <a:lnTo>
                      <a:pt x="205" y="637"/>
                    </a:lnTo>
                    <a:lnTo>
                      <a:pt x="203" y="659"/>
                    </a:lnTo>
                    <a:lnTo>
                      <a:pt x="176" y="600"/>
                    </a:lnTo>
                    <a:lnTo>
                      <a:pt x="150" y="541"/>
                    </a:lnTo>
                    <a:lnTo>
                      <a:pt x="125" y="482"/>
                    </a:lnTo>
                    <a:lnTo>
                      <a:pt x="100" y="422"/>
                    </a:lnTo>
                    <a:lnTo>
                      <a:pt x="74" y="362"/>
                    </a:lnTo>
                    <a:lnTo>
                      <a:pt x="49" y="303"/>
                    </a:lnTo>
                    <a:lnTo>
                      <a:pt x="24" y="244"/>
                    </a:lnTo>
                    <a:lnTo>
                      <a:pt x="0" y="186"/>
                    </a:lnTo>
                    <a:lnTo>
                      <a:pt x="2" y="163"/>
                    </a:lnTo>
                    <a:lnTo>
                      <a:pt x="5" y="139"/>
                    </a:lnTo>
                    <a:lnTo>
                      <a:pt x="8" y="117"/>
                    </a:lnTo>
                    <a:lnTo>
                      <a:pt x="10" y="94"/>
                    </a:lnTo>
                    <a:lnTo>
                      <a:pt x="13" y="70"/>
                    </a:lnTo>
                    <a:lnTo>
                      <a:pt x="16" y="47"/>
                    </a:lnTo>
                    <a:lnTo>
                      <a:pt x="19" y="24"/>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277480" y="5100840"/>
                <a:ext cx="83520" cy="188280"/>
              </a:xfrm>
              <a:custGeom>
                <a:avLst/>
                <a:gdLst/>
                <a:ahLst/>
                <a:rect l="l" t="t" r="r" b="b"/>
                <a:pathLst>
                  <a:path w="225" h="659">
                    <a:moveTo>
                      <a:pt x="22" y="0"/>
                    </a:moveTo>
                    <a:lnTo>
                      <a:pt x="46" y="58"/>
                    </a:lnTo>
                    <a:lnTo>
                      <a:pt x="71" y="117"/>
                    </a:lnTo>
                    <a:lnTo>
                      <a:pt x="96" y="176"/>
                    </a:lnTo>
                    <a:lnTo>
                      <a:pt x="122" y="236"/>
                    </a:lnTo>
                    <a:lnTo>
                      <a:pt x="147" y="296"/>
                    </a:lnTo>
                    <a:lnTo>
                      <a:pt x="172" y="355"/>
                    </a:lnTo>
                    <a:lnTo>
                      <a:pt x="198" y="414"/>
                    </a:lnTo>
                    <a:lnTo>
                      <a:pt x="225" y="473"/>
                    </a:lnTo>
                    <a:lnTo>
                      <a:pt x="221" y="497"/>
                    </a:lnTo>
                    <a:lnTo>
                      <a:pt x="218" y="521"/>
                    </a:lnTo>
                    <a:lnTo>
                      <a:pt x="215" y="543"/>
                    </a:lnTo>
                    <a:lnTo>
                      <a:pt x="212" y="566"/>
                    </a:lnTo>
                    <a:lnTo>
                      <a:pt x="210" y="590"/>
                    </a:lnTo>
                    <a:lnTo>
                      <a:pt x="207" y="613"/>
                    </a:lnTo>
                    <a:lnTo>
                      <a:pt x="204" y="636"/>
                    </a:lnTo>
                    <a:lnTo>
                      <a:pt x="202" y="659"/>
                    </a:lnTo>
                    <a:lnTo>
                      <a:pt x="176" y="600"/>
                    </a:lnTo>
                    <a:lnTo>
                      <a:pt x="151" y="540"/>
                    </a:lnTo>
                    <a:lnTo>
                      <a:pt x="125" y="481"/>
                    </a:lnTo>
                    <a:lnTo>
                      <a:pt x="100" y="421"/>
                    </a:lnTo>
                    <a:lnTo>
                      <a:pt x="74" y="362"/>
                    </a:lnTo>
                    <a:lnTo>
                      <a:pt x="49" y="303"/>
                    </a:lnTo>
                    <a:lnTo>
                      <a:pt x="24" y="244"/>
                    </a:lnTo>
                    <a:lnTo>
                      <a:pt x="0" y="185"/>
                    </a:lnTo>
                    <a:lnTo>
                      <a:pt x="2" y="161"/>
                    </a:lnTo>
                    <a:lnTo>
                      <a:pt x="5" y="138"/>
                    </a:lnTo>
                    <a:lnTo>
                      <a:pt x="8" y="116"/>
                    </a:lnTo>
                    <a:lnTo>
                      <a:pt x="11" y="92"/>
                    </a:lnTo>
                    <a:lnTo>
                      <a:pt x="13" y="69"/>
                    </a:lnTo>
                    <a:lnTo>
                      <a:pt x="16" y="46"/>
                    </a:lnTo>
                    <a:lnTo>
                      <a:pt x="19" y="22"/>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268480" y="5153760"/>
                <a:ext cx="83520" cy="188280"/>
              </a:xfrm>
              <a:custGeom>
                <a:avLst/>
                <a:gdLst/>
                <a:ahLst/>
                <a:rect l="l" t="t" r="r" b="b"/>
                <a:pathLst>
                  <a:path w="224" h="660">
                    <a:moveTo>
                      <a:pt x="22" y="0"/>
                    </a:moveTo>
                    <a:lnTo>
                      <a:pt x="46" y="59"/>
                    </a:lnTo>
                    <a:lnTo>
                      <a:pt x="71" y="118"/>
                    </a:lnTo>
                    <a:lnTo>
                      <a:pt x="96" y="177"/>
                    </a:lnTo>
                    <a:lnTo>
                      <a:pt x="122" y="236"/>
                    </a:lnTo>
                    <a:lnTo>
                      <a:pt x="147" y="296"/>
                    </a:lnTo>
                    <a:lnTo>
                      <a:pt x="173" y="355"/>
                    </a:lnTo>
                    <a:lnTo>
                      <a:pt x="198" y="415"/>
                    </a:lnTo>
                    <a:lnTo>
                      <a:pt x="224" y="474"/>
                    </a:lnTo>
                    <a:lnTo>
                      <a:pt x="221" y="498"/>
                    </a:lnTo>
                    <a:lnTo>
                      <a:pt x="218" y="522"/>
                    </a:lnTo>
                    <a:lnTo>
                      <a:pt x="215" y="544"/>
                    </a:lnTo>
                    <a:lnTo>
                      <a:pt x="213" y="567"/>
                    </a:lnTo>
                    <a:lnTo>
                      <a:pt x="210" y="591"/>
                    </a:lnTo>
                    <a:lnTo>
                      <a:pt x="207" y="614"/>
                    </a:lnTo>
                    <a:lnTo>
                      <a:pt x="204" y="637"/>
                    </a:lnTo>
                    <a:lnTo>
                      <a:pt x="202" y="660"/>
                    </a:lnTo>
                    <a:lnTo>
                      <a:pt x="176" y="600"/>
                    </a:lnTo>
                    <a:lnTo>
                      <a:pt x="151" y="541"/>
                    </a:lnTo>
                    <a:lnTo>
                      <a:pt x="125" y="481"/>
                    </a:lnTo>
                    <a:lnTo>
                      <a:pt x="99" y="422"/>
                    </a:lnTo>
                    <a:lnTo>
                      <a:pt x="74" y="363"/>
                    </a:lnTo>
                    <a:lnTo>
                      <a:pt x="49" y="303"/>
                    </a:lnTo>
                    <a:lnTo>
                      <a:pt x="25" y="243"/>
                    </a:lnTo>
                    <a:lnTo>
                      <a:pt x="0" y="184"/>
                    </a:lnTo>
                    <a:lnTo>
                      <a:pt x="3" y="162"/>
                    </a:lnTo>
                    <a:lnTo>
                      <a:pt x="5" y="139"/>
                    </a:lnTo>
                    <a:lnTo>
                      <a:pt x="8" y="115"/>
                    </a:lnTo>
                    <a:lnTo>
                      <a:pt x="11" y="93"/>
                    </a:lnTo>
                    <a:lnTo>
                      <a:pt x="13" y="70"/>
                    </a:lnTo>
                    <a:lnTo>
                      <a:pt x="16" y="46"/>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260920" y="5206680"/>
                <a:ext cx="83520" cy="188280"/>
              </a:xfrm>
              <a:custGeom>
                <a:avLst/>
                <a:gdLst/>
                <a:ahLst/>
                <a:rect l="l" t="t" r="r" b="b"/>
                <a:pathLst>
                  <a:path w="225" h="661">
                    <a:moveTo>
                      <a:pt x="23" y="0"/>
                    </a:moveTo>
                    <a:lnTo>
                      <a:pt x="48" y="59"/>
                    </a:lnTo>
                    <a:lnTo>
                      <a:pt x="72" y="119"/>
                    </a:lnTo>
                    <a:lnTo>
                      <a:pt x="97" y="179"/>
                    </a:lnTo>
                    <a:lnTo>
                      <a:pt x="122" y="238"/>
                    </a:lnTo>
                    <a:lnTo>
                      <a:pt x="148" y="297"/>
                    </a:lnTo>
                    <a:lnTo>
                      <a:pt x="174" y="357"/>
                    </a:lnTo>
                    <a:lnTo>
                      <a:pt x="199" y="416"/>
                    </a:lnTo>
                    <a:lnTo>
                      <a:pt x="225" y="476"/>
                    </a:lnTo>
                    <a:lnTo>
                      <a:pt x="222" y="500"/>
                    </a:lnTo>
                    <a:lnTo>
                      <a:pt x="219" y="524"/>
                    </a:lnTo>
                    <a:lnTo>
                      <a:pt x="216" y="546"/>
                    </a:lnTo>
                    <a:lnTo>
                      <a:pt x="214" y="569"/>
                    </a:lnTo>
                    <a:lnTo>
                      <a:pt x="211" y="592"/>
                    </a:lnTo>
                    <a:lnTo>
                      <a:pt x="208" y="616"/>
                    </a:lnTo>
                    <a:lnTo>
                      <a:pt x="206" y="639"/>
                    </a:lnTo>
                    <a:lnTo>
                      <a:pt x="203" y="661"/>
                    </a:lnTo>
                    <a:lnTo>
                      <a:pt x="177" y="602"/>
                    </a:lnTo>
                    <a:lnTo>
                      <a:pt x="152" y="542"/>
                    </a:lnTo>
                    <a:lnTo>
                      <a:pt x="126" y="483"/>
                    </a:lnTo>
                    <a:lnTo>
                      <a:pt x="100" y="424"/>
                    </a:lnTo>
                    <a:lnTo>
                      <a:pt x="75" y="363"/>
                    </a:lnTo>
                    <a:lnTo>
                      <a:pt x="50" y="304"/>
                    </a:lnTo>
                    <a:lnTo>
                      <a:pt x="26" y="245"/>
                    </a:lnTo>
                    <a:lnTo>
                      <a:pt x="0" y="186"/>
                    </a:lnTo>
                    <a:lnTo>
                      <a:pt x="3" y="163"/>
                    </a:lnTo>
                    <a:lnTo>
                      <a:pt x="5" y="139"/>
                    </a:lnTo>
                    <a:lnTo>
                      <a:pt x="8" y="117"/>
                    </a:lnTo>
                    <a:lnTo>
                      <a:pt x="11" y="94"/>
                    </a:lnTo>
                    <a:lnTo>
                      <a:pt x="14" y="71"/>
                    </a:lnTo>
                    <a:lnTo>
                      <a:pt x="16" y="47"/>
                    </a:lnTo>
                    <a:lnTo>
                      <a:pt x="20" y="24"/>
                    </a:lnTo>
                    <a:lnTo>
                      <a:pt x="23"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251920" y="5259600"/>
                <a:ext cx="83520" cy="189360"/>
              </a:xfrm>
              <a:custGeom>
                <a:avLst/>
                <a:gdLst/>
                <a:ahLst/>
                <a:rect l="l" t="t" r="r" b="b"/>
                <a:pathLst>
                  <a:path w="225" h="661">
                    <a:moveTo>
                      <a:pt x="22" y="0"/>
                    </a:moveTo>
                    <a:lnTo>
                      <a:pt x="48" y="59"/>
                    </a:lnTo>
                    <a:lnTo>
                      <a:pt x="72" y="118"/>
                    </a:lnTo>
                    <a:lnTo>
                      <a:pt x="97" y="177"/>
                    </a:lnTo>
                    <a:lnTo>
                      <a:pt x="122" y="238"/>
                    </a:lnTo>
                    <a:lnTo>
                      <a:pt x="148" y="297"/>
                    </a:lnTo>
                    <a:lnTo>
                      <a:pt x="174" y="356"/>
                    </a:lnTo>
                    <a:lnTo>
                      <a:pt x="199" y="416"/>
                    </a:lnTo>
                    <a:lnTo>
                      <a:pt x="225" y="475"/>
                    </a:lnTo>
                    <a:lnTo>
                      <a:pt x="222" y="500"/>
                    </a:lnTo>
                    <a:lnTo>
                      <a:pt x="219" y="523"/>
                    </a:lnTo>
                    <a:lnTo>
                      <a:pt x="217" y="547"/>
                    </a:lnTo>
                    <a:lnTo>
                      <a:pt x="214" y="570"/>
                    </a:lnTo>
                    <a:lnTo>
                      <a:pt x="211" y="594"/>
                    </a:lnTo>
                    <a:lnTo>
                      <a:pt x="208" y="616"/>
                    </a:lnTo>
                    <a:lnTo>
                      <a:pt x="206" y="639"/>
                    </a:lnTo>
                    <a:lnTo>
                      <a:pt x="203" y="661"/>
                    </a:lnTo>
                    <a:lnTo>
                      <a:pt x="177" y="602"/>
                    </a:lnTo>
                    <a:lnTo>
                      <a:pt x="151" y="542"/>
                    </a:lnTo>
                    <a:lnTo>
                      <a:pt x="126" y="483"/>
                    </a:lnTo>
                    <a:lnTo>
                      <a:pt x="100" y="422"/>
                    </a:lnTo>
                    <a:lnTo>
                      <a:pt x="75" y="363"/>
                    </a:lnTo>
                    <a:lnTo>
                      <a:pt x="51" y="304"/>
                    </a:lnTo>
                    <a:lnTo>
                      <a:pt x="25" y="244"/>
                    </a:lnTo>
                    <a:lnTo>
                      <a:pt x="0" y="185"/>
                    </a:lnTo>
                    <a:lnTo>
                      <a:pt x="3" y="161"/>
                    </a:lnTo>
                    <a:lnTo>
                      <a:pt x="6" y="139"/>
                    </a:lnTo>
                    <a:lnTo>
                      <a:pt x="8" y="116"/>
                    </a:lnTo>
                    <a:lnTo>
                      <a:pt x="11" y="93"/>
                    </a:lnTo>
                    <a:lnTo>
                      <a:pt x="14" y="70"/>
                    </a:lnTo>
                    <a:lnTo>
                      <a:pt x="17" y="47"/>
                    </a:lnTo>
                    <a:lnTo>
                      <a:pt x="19" y="24"/>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244720" y="5312160"/>
                <a:ext cx="83520" cy="189720"/>
              </a:xfrm>
              <a:custGeom>
                <a:avLst/>
                <a:gdLst/>
                <a:ahLst/>
                <a:rect l="l" t="t" r="r" b="b"/>
                <a:pathLst>
                  <a:path w="225" h="662">
                    <a:moveTo>
                      <a:pt x="22" y="0"/>
                    </a:moveTo>
                    <a:lnTo>
                      <a:pt x="47" y="59"/>
                    </a:lnTo>
                    <a:lnTo>
                      <a:pt x="73" y="119"/>
                    </a:lnTo>
                    <a:lnTo>
                      <a:pt x="97" y="178"/>
                    </a:lnTo>
                    <a:lnTo>
                      <a:pt x="122" y="237"/>
                    </a:lnTo>
                    <a:lnTo>
                      <a:pt x="148" y="298"/>
                    </a:lnTo>
                    <a:lnTo>
                      <a:pt x="173" y="357"/>
                    </a:lnTo>
                    <a:lnTo>
                      <a:pt x="199" y="417"/>
                    </a:lnTo>
                    <a:lnTo>
                      <a:pt x="225" y="476"/>
                    </a:lnTo>
                    <a:lnTo>
                      <a:pt x="222" y="501"/>
                    </a:lnTo>
                    <a:lnTo>
                      <a:pt x="219" y="524"/>
                    </a:lnTo>
                    <a:lnTo>
                      <a:pt x="217" y="548"/>
                    </a:lnTo>
                    <a:lnTo>
                      <a:pt x="214" y="571"/>
                    </a:lnTo>
                    <a:lnTo>
                      <a:pt x="211" y="594"/>
                    </a:lnTo>
                    <a:lnTo>
                      <a:pt x="208" y="617"/>
                    </a:lnTo>
                    <a:lnTo>
                      <a:pt x="206" y="640"/>
                    </a:lnTo>
                    <a:lnTo>
                      <a:pt x="203" y="662"/>
                    </a:lnTo>
                    <a:lnTo>
                      <a:pt x="176" y="603"/>
                    </a:lnTo>
                    <a:lnTo>
                      <a:pt x="151" y="543"/>
                    </a:lnTo>
                    <a:lnTo>
                      <a:pt x="126" y="484"/>
                    </a:lnTo>
                    <a:lnTo>
                      <a:pt x="101" y="423"/>
                    </a:lnTo>
                    <a:lnTo>
                      <a:pt x="76" y="364"/>
                    </a:lnTo>
                    <a:lnTo>
                      <a:pt x="50" y="304"/>
                    </a:lnTo>
                    <a:lnTo>
                      <a:pt x="25" y="245"/>
                    </a:lnTo>
                    <a:lnTo>
                      <a:pt x="0" y="185"/>
                    </a:lnTo>
                    <a:lnTo>
                      <a:pt x="3" y="162"/>
                    </a:lnTo>
                    <a:lnTo>
                      <a:pt x="6" y="139"/>
                    </a:lnTo>
                    <a:lnTo>
                      <a:pt x="9" y="116"/>
                    </a:lnTo>
                    <a:lnTo>
                      <a:pt x="11" y="93"/>
                    </a:lnTo>
                    <a:lnTo>
                      <a:pt x="14" y="70"/>
                    </a:lnTo>
                    <a:lnTo>
                      <a:pt x="17" y="47"/>
                    </a:lnTo>
                    <a:lnTo>
                      <a:pt x="19" y="23"/>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8235360" y="5365080"/>
                <a:ext cx="83520" cy="189720"/>
              </a:xfrm>
              <a:custGeom>
                <a:avLst/>
                <a:gdLst/>
                <a:ahLst/>
                <a:rect l="l" t="t" r="r" b="b"/>
                <a:pathLst>
                  <a:path w="224" h="664">
                    <a:moveTo>
                      <a:pt x="21" y="0"/>
                    </a:moveTo>
                    <a:lnTo>
                      <a:pt x="46" y="60"/>
                    </a:lnTo>
                    <a:lnTo>
                      <a:pt x="71" y="119"/>
                    </a:lnTo>
                    <a:lnTo>
                      <a:pt x="97" y="179"/>
                    </a:lnTo>
                    <a:lnTo>
                      <a:pt x="122" y="238"/>
                    </a:lnTo>
                    <a:lnTo>
                      <a:pt x="147" y="299"/>
                    </a:lnTo>
                    <a:lnTo>
                      <a:pt x="172" y="358"/>
                    </a:lnTo>
                    <a:lnTo>
                      <a:pt x="197" y="418"/>
                    </a:lnTo>
                    <a:lnTo>
                      <a:pt x="224" y="477"/>
                    </a:lnTo>
                    <a:lnTo>
                      <a:pt x="221" y="502"/>
                    </a:lnTo>
                    <a:lnTo>
                      <a:pt x="219" y="525"/>
                    </a:lnTo>
                    <a:lnTo>
                      <a:pt x="216" y="549"/>
                    </a:lnTo>
                    <a:lnTo>
                      <a:pt x="213" y="572"/>
                    </a:lnTo>
                    <a:lnTo>
                      <a:pt x="210" y="595"/>
                    </a:lnTo>
                    <a:lnTo>
                      <a:pt x="207" y="619"/>
                    </a:lnTo>
                    <a:lnTo>
                      <a:pt x="204" y="642"/>
                    </a:lnTo>
                    <a:lnTo>
                      <a:pt x="201" y="664"/>
                    </a:lnTo>
                    <a:lnTo>
                      <a:pt x="176" y="604"/>
                    </a:lnTo>
                    <a:lnTo>
                      <a:pt x="150" y="545"/>
                    </a:lnTo>
                    <a:lnTo>
                      <a:pt x="125" y="485"/>
                    </a:lnTo>
                    <a:lnTo>
                      <a:pt x="100" y="424"/>
                    </a:lnTo>
                    <a:lnTo>
                      <a:pt x="74" y="365"/>
                    </a:lnTo>
                    <a:lnTo>
                      <a:pt x="49" y="305"/>
                    </a:lnTo>
                    <a:lnTo>
                      <a:pt x="24" y="244"/>
                    </a:lnTo>
                    <a:lnTo>
                      <a:pt x="0" y="185"/>
                    </a:lnTo>
                    <a:lnTo>
                      <a:pt x="2" y="162"/>
                    </a:lnTo>
                    <a:lnTo>
                      <a:pt x="5" y="140"/>
                    </a:lnTo>
                    <a:lnTo>
                      <a:pt x="8" y="116"/>
                    </a:lnTo>
                    <a:lnTo>
                      <a:pt x="10" y="93"/>
                    </a:lnTo>
                    <a:lnTo>
                      <a:pt x="13" y="70"/>
                    </a:lnTo>
                    <a:lnTo>
                      <a:pt x="16" y="46"/>
                    </a:lnTo>
                    <a:lnTo>
                      <a:pt x="19" y="24"/>
                    </a:lnTo>
                    <a:lnTo>
                      <a:pt x="21"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228160" y="5417640"/>
                <a:ext cx="83520" cy="189720"/>
              </a:xfrm>
              <a:custGeom>
                <a:avLst/>
                <a:gdLst/>
                <a:ahLst/>
                <a:rect l="l" t="t" r="r" b="b"/>
                <a:pathLst>
                  <a:path w="223" h="665">
                    <a:moveTo>
                      <a:pt x="22" y="0"/>
                    </a:moveTo>
                    <a:lnTo>
                      <a:pt x="46" y="59"/>
                    </a:lnTo>
                    <a:lnTo>
                      <a:pt x="71" y="120"/>
                    </a:lnTo>
                    <a:lnTo>
                      <a:pt x="96" y="180"/>
                    </a:lnTo>
                    <a:lnTo>
                      <a:pt x="122" y="239"/>
                    </a:lnTo>
                    <a:lnTo>
                      <a:pt x="147" y="300"/>
                    </a:lnTo>
                    <a:lnTo>
                      <a:pt x="172" y="360"/>
                    </a:lnTo>
                    <a:lnTo>
                      <a:pt x="198" y="419"/>
                    </a:lnTo>
                    <a:lnTo>
                      <a:pt x="223" y="479"/>
                    </a:lnTo>
                    <a:lnTo>
                      <a:pt x="220" y="504"/>
                    </a:lnTo>
                    <a:lnTo>
                      <a:pt x="218" y="527"/>
                    </a:lnTo>
                    <a:lnTo>
                      <a:pt x="215" y="551"/>
                    </a:lnTo>
                    <a:lnTo>
                      <a:pt x="212" y="574"/>
                    </a:lnTo>
                    <a:lnTo>
                      <a:pt x="209" y="597"/>
                    </a:lnTo>
                    <a:lnTo>
                      <a:pt x="207" y="620"/>
                    </a:lnTo>
                    <a:lnTo>
                      <a:pt x="204" y="643"/>
                    </a:lnTo>
                    <a:lnTo>
                      <a:pt x="201" y="665"/>
                    </a:lnTo>
                    <a:lnTo>
                      <a:pt x="176" y="606"/>
                    </a:lnTo>
                    <a:lnTo>
                      <a:pt x="150" y="546"/>
                    </a:lnTo>
                    <a:lnTo>
                      <a:pt x="125" y="485"/>
                    </a:lnTo>
                    <a:lnTo>
                      <a:pt x="99" y="425"/>
                    </a:lnTo>
                    <a:lnTo>
                      <a:pt x="74" y="366"/>
                    </a:lnTo>
                    <a:lnTo>
                      <a:pt x="49" y="306"/>
                    </a:lnTo>
                    <a:lnTo>
                      <a:pt x="24" y="245"/>
                    </a:lnTo>
                    <a:lnTo>
                      <a:pt x="0" y="185"/>
                    </a:lnTo>
                    <a:lnTo>
                      <a:pt x="2" y="163"/>
                    </a:lnTo>
                    <a:lnTo>
                      <a:pt x="5" y="139"/>
                    </a:lnTo>
                    <a:lnTo>
                      <a:pt x="8" y="117"/>
                    </a:lnTo>
                    <a:lnTo>
                      <a:pt x="11" y="94"/>
                    </a:lnTo>
                    <a:lnTo>
                      <a:pt x="13" y="71"/>
                    </a:lnTo>
                    <a:lnTo>
                      <a:pt x="16" y="47"/>
                    </a:lnTo>
                    <a:lnTo>
                      <a:pt x="19" y="24"/>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219160" y="5470920"/>
                <a:ext cx="83520" cy="190800"/>
              </a:xfrm>
              <a:custGeom>
                <a:avLst/>
                <a:gdLst/>
                <a:ahLst/>
                <a:rect l="l" t="t" r="r" b="b"/>
                <a:pathLst>
                  <a:path w="224" h="667">
                    <a:moveTo>
                      <a:pt x="23" y="0"/>
                    </a:moveTo>
                    <a:lnTo>
                      <a:pt x="47" y="60"/>
                    </a:lnTo>
                    <a:lnTo>
                      <a:pt x="72" y="121"/>
                    </a:lnTo>
                    <a:lnTo>
                      <a:pt x="97" y="181"/>
                    </a:lnTo>
                    <a:lnTo>
                      <a:pt x="122" y="240"/>
                    </a:lnTo>
                    <a:lnTo>
                      <a:pt x="148" y="300"/>
                    </a:lnTo>
                    <a:lnTo>
                      <a:pt x="173" y="361"/>
                    </a:lnTo>
                    <a:lnTo>
                      <a:pt x="199" y="421"/>
                    </a:lnTo>
                    <a:lnTo>
                      <a:pt x="224" y="480"/>
                    </a:lnTo>
                    <a:lnTo>
                      <a:pt x="221" y="505"/>
                    </a:lnTo>
                    <a:lnTo>
                      <a:pt x="219" y="528"/>
                    </a:lnTo>
                    <a:lnTo>
                      <a:pt x="216" y="551"/>
                    </a:lnTo>
                    <a:lnTo>
                      <a:pt x="213" y="575"/>
                    </a:lnTo>
                    <a:lnTo>
                      <a:pt x="210" y="598"/>
                    </a:lnTo>
                    <a:lnTo>
                      <a:pt x="208" y="622"/>
                    </a:lnTo>
                    <a:lnTo>
                      <a:pt x="205" y="645"/>
                    </a:lnTo>
                    <a:lnTo>
                      <a:pt x="202" y="667"/>
                    </a:lnTo>
                    <a:lnTo>
                      <a:pt x="177" y="607"/>
                    </a:lnTo>
                    <a:lnTo>
                      <a:pt x="151" y="547"/>
                    </a:lnTo>
                    <a:lnTo>
                      <a:pt x="125" y="486"/>
                    </a:lnTo>
                    <a:lnTo>
                      <a:pt x="100" y="427"/>
                    </a:lnTo>
                    <a:lnTo>
                      <a:pt x="75" y="367"/>
                    </a:lnTo>
                    <a:lnTo>
                      <a:pt x="50" y="307"/>
                    </a:lnTo>
                    <a:lnTo>
                      <a:pt x="25" y="246"/>
                    </a:lnTo>
                    <a:lnTo>
                      <a:pt x="0" y="187"/>
                    </a:lnTo>
                    <a:lnTo>
                      <a:pt x="3" y="164"/>
                    </a:lnTo>
                    <a:lnTo>
                      <a:pt x="6" y="140"/>
                    </a:lnTo>
                    <a:lnTo>
                      <a:pt x="9" y="117"/>
                    </a:lnTo>
                    <a:lnTo>
                      <a:pt x="12" y="94"/>
                    </a:lnTo>
                    <a:lnTo>
                      <a:pt x="14" y="70"/>
                    </a:lnTo>
                    <a:lnTo>
                      <a:pt x="17" y="47"/>
                    </a:lnTo>
                    <a:lnTo>
                      <a:pt x="20" y="23"/>
                    </a:lnTo>
                    <a:lnTo>
                      <a:pt x="23"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8211960" y="5524920"/>
                <a:ext cx="83520" cy="189720"/>
              </a:xfrm>
              <a:custGeom>
                <a:avLst/>
                <a:gdLst/>
                <a:ahLst/>
                <a:rect l="l" t="t" r="r" b="b"/>
                <a:pathLst>
                  <a:path w="224" h="666">
                    <a:moveTo>
                      <a:pt x="22" y="0"/>
                    </a:moveTo>
                    <a:lnTo>
                      <a:pt x="47" y="59"/>
                    </a:lnTo>
                    <a:lnTo>
                      <a:pt x="72" y="120"/>
                    </a:lnTo>
                    <a:lnTo>
                      <a:pt x="97" y="180"/>
                    </a:lnTo>
                    <a:lnTo>
                      <a:pt x="122" y="240"/>
                    </a:lnTo>
                    <a:lnTo>
                      <a:pt x="147" y="299"/>
                    </a:lnTo>
                    <a:lnTo>
                      <a:pt x="173" y="360"/>
                    </a:lnTo>
                    <a:lnTo>
                      <a:pt x="199" y="420"/>
                    </a:lnTo>
                    <a:lnTo>
                      <a:pt x="224" y="480"/>
                    </a:lnTo>
                    <a:lnTo>
                      <a:pt x="221" y="505"/>
                    </a:lnTo>
                    <a:lnTo>
                      <a:pt x="219" y="528"/>
                    </a:lnTo>
                    <a:lnTo>
                      <a:pt x="216" y="552"/>
                    </a:lnTo>
                    <a:lnTo>
                      <a:pt x="213" y="575"/>
                    </a:lnTo>
                    <a:lnTo>
                      <a:pt x="210" y="598"/>
                    </a:lnTo>
                    <a:lnTo>
                      <a:pt x="208" y="621"/>
                    </a:lnTo>
                    <a:lnTo>
                      <a:pt x="205" y="644"/>
                    </a:lnTo>
                    <a:lnTo>
                      <a:pt x="202" y="666"/>
                    </a:lnTo>
                    <a:lnTo>
                      <a:pt x="177" y="607"/>
                    </a:lnTo>
                    <a:lnTo>
                      <a:pt x="151" y="547"/>
                    </a:lnTo>
                    <a:lnTo>
                      <a:pt x="125" y="486"/>
                    </a:lnTo>
                    <a:lnTo>
                      <a:pt x="100" y="427"/>
                    </a:lnTo>
                    <a:lnTo>
                      <a:pt x="75" y="367"/>
                    </a:lnTo>
                    <a:lnTo>
                      <a:pt x="50" y="307"/>
                    </a:lnTo>
                    <a:lnTo>
                      <a:pt x="25" y="246"/>
                    </a:lnTo>
                    <a:lnTo>
                      <a:pt x="0" y="186"/>
                    </a:lnTo>
                    <a:lnTo>
                      <a:pt x="2" y="163"/>
                    </a:lnTo>
                    <a:lnTo>
                      <a:pt x="5" y="140"/>
                    </a:lnTo>
                    <a:lnTo>
                      <a:pt x="8" y="117"/>
                    </a:lnTo>
                    <a:lnTo>
                      <a:pt x="11" y="94"/>
                    </a:lnTo>
                    <a:lnTo>
                      <a:pt x="13" y="70"/>
                    </a:lnTo>
                    <a:lnTo>
                      <a:pt x="16" y="47"/>
                    </a:lnTo>
                    <a:lnTo>
                      <a:pt x="19" y="24"/>
                    </a:lnTo>
                    <a:lnTo>
                      <a:pt x="22" y="0"/>
                    </a:lnTo>
                    <a:close/>
                  </a:path>
                </a:pathLst>
              </a:custGeom>
              <a:solidFill>
                <a:srgbClr val="3775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211960" y="2242080"/>
                <a:ext cx="594000" cy="3472560"/>
              </a:xfrm>
              <a:custGeom>
                <a:avLst/>
                <a:gdLst/>
                <a:ahLst/>
                <a:rect l="l" t="t" r="r" b="b"/>
                <a:pathLst>
                  <a:path w="1594" h="12165">
                    <a:moveTo>
                      <a:pt x="1388" y="0"/>
                    </a:moveTo>
                    <a:lnTo>
                      <a:pt x="1415" y="53"/>
                    </a:lnTo>
                    <a:lnTo>
                      <a:pt x="1440" y="105"/>
                    </a:lnTo>
                    <a:lnTo>
                      <a:pt x="1465" y="158"/>
                    </a:lnTo>
                    <a:lnTo>
                      <a:pt x="1491" y="211"/>
                    </a:lnTo>
                    <a:lnTo>
                      <a:pt x="1516" y="264"/>
                    </a:lnTo>
                    <a:lnTo>
                      <a:pt x="1543" y="317"/>
                    </a:lnTo>
                    <a:lnTo>
                      <a:pt x="1568" y="370"/>
                    </a:lnTo>
                    <a:lnTo>
                      <a:pt x="1594" y="423"/>
                    </a:lnTo>
                    <a:lnTo>
                      <a:pt x="1592" y="446"/>
                    </a:lnTo>
                    <a:lnTo>
                      <a:pt x="1589" y="469"/>
                    </a:lnTo>
                    <a:lnTo>
                      <a:pt x="1586" y="491"/>
                    </a:lnTo>
                    <a:lnTo>
                      <a:pt x="1584" y="514"/>
                    </a:lnTo>
                    <a:lnTo>
                      <a:pt x="1581" y="536"/>
                    </a:lnTo>
                    <a:lnTo>
                      <a:pt x="1578" y="560"/>
                    </a:lnTo>
                    <a:lnTo>
                      <a:pt x="1576" y="582"/>
                    </a:lnTo>
                    <a:lnTo>
                      <a:pt x="1573" y="604"/>
                    </a:lnTo>
                    <a:lnTo>
                      <a:pt x="1570" y="627"/>
                    </a:lnTo>
                    <a:lnTo>
                      <a:pt x="1568" y="650"/>
                    </a:lnTo>
                    <a:lnTo>
                      <a:pt x="1565" y="673"/>
                    </a:lnTo>
                    <a:lnTo>
                      <a:pt x="1562" y="695"/>
                    </a:lnTo>
                    <a:lnTo>
                      <a:pt x="1560" y="717"/>
                    </a:lnTo>
                    <a:lnTo>
                      <a:pt x="1557" y="741"/>
                    </a:lnTo>
                    <a:lnTo>
                      <a:pt x="1554" y="763"/>
                    </a:lnTo>
                    <a:lnTo>
                      <a:pt x="1552" y="785"/>
                    </a:lnTo>
                    <a:lnTo>
                      <a:pt x="1549" y="807"/>
                    </a:lnTo>
                    <a:lnTo>
                      <a:pt x="1546" y="831"/>
                    </a:lnTo>
                    <a:lnTo>
                      <a:pt x="1544" y="853"/>
                    </a:lnTo>
                    <a:lnTo>
                      <a:pt x="1541" y="876"/>
                    </a:lnTo>
                    <a:lnTo>
                      <a:pt x="1538" y="899"/>
                    </a:lnTo>
                    <a:lnTo>
                      <a:pt x="1536" y="922"/>
                    </a:lnTo>
                    <a:lnTo>
                      <a:pt x="1532" y="945"/>
                    </a:lnTo>
                    <a:lnTo>
                      <a:pt x="1529" y="967"/>
                    </a:lnTo>
                    <a:lnTo>
                      <a:pt x="1527" y="989"/>
                    </a:lnTo>
                    <a:lnTo>
                      <a:pt x="1524" y="1013"/>
                    </a:lnTo>
                    <a:lnTo>
                      <a:pt x="1521" y="1035"/>
                    </a:lnTo>
                    <a:lnTo>
                      <a:pt x="1519" y="1058"/>
                    </a:lnTo>
                    <a:lnTo>
                      <a:pt x="1516" y="1080"/>
                    </a:lnTo>
                    <a:lnTo>
                      <a:pt x="1513" y="1103"/>
                    </a:lnTo>
                    <a:lnTo>
                      <a:pt x="1511" y="1126"/>
                    </a:lnTo>
                    <a:lnTo>
                      <a:pt x="1508" y="1148"/>
                    </a:lnTo>
                    <a:lnTo>
                      <a:pt x="1505" y="1170"/>
                    </a:lnTo>
                    <a:lnTo>
                      <a:pt x="1503" y="1194"/>
                    </a:lnTo>
                    <a:lnTo>
                      <a:pt x="1500" y="1216"/>
                    </a:lnTo>
                    <a:lnTo>
                      <a:pt x="1497" y="1239"/>
                    </a:lnTo>
                    <a:lnTo>
                      <a:pt x="1495" y="1261"/>
                    </a:lnTo>
                    <a:lnTo>
                      <a:pt x="1492" y="1284"/>
                    </a:lnTo>
                    <a:lnTo>
                      <a:pt x="1489" y="1306"/>
                    </a:lnTo>
                    <a:lnTo>
                      <a:pt x="1487" y="1329"/>
                    </a:lnTo>
                    <a:lnTo>
                      <a:pt x="1484" y="1351"/>
                    </a:lnTo>
                    <a:lnTo>
                      <a:pt x="1481" y="1373"/>
                    </a:lnTo>
                    <a:lnTo>
                      <a:pt x="1479" y="1397"/>
                    </a:lnTo>
                    <a:lnTo>
                      <a:pt x="1476" y="1419"/>
                    </a:lnTo>
                    <a:lnTo>
                      <a:pt x="1473" y="1442"/>
                    </a:lnTo>
                    <a:lnTo>
                      <a:pt x="1471" y="1466"/>
                    </a:lnTo>
                    <a:lnTo>
                      <a:pt x="1468" y="1488"/>
                    </a:lnTo>
                    <a:lnTo>
                      <a:pt x="1465" y="1510"/>
                    </a:lnTo>
                    <a:lnTo>
                      <a:pt x="1463" y="1533"/>
                    </a:lnTo>
                    <a:lnTo>
                      <a:pt x="1460" y="1557"/>
                    </a:lnTo>
                    <a:lnTo>
                      <a:pt x="1457" y="1579"/>
                    </a:lnTo>
                    <a:lnTo>
                      <a:pt x="1455" y="1602"/>
                    </a:lnTo>
                    <a:lnTo>
                      <a:pt x="1452" y="1624"/>
                    </a:lnTo>
                    <a:lnTo>
                      <a:pt x="1449" y="1648"/>
                    </a:lnTo>
                    <a:lnTo>
                      <a:pt x="1447" y="1670"/>
                    </a:lnTo>
                    <a:lnTo>
                      <a:pt x="1444" y="1692"/>
                    </a:lnTo>
                    <a:lnTo>
                      <a:pt x="1441" y="1716"/>
                    </a:lnTo>
                    <a:lnTo>
                      <a:pt x="1439" y="1738"/>
                    </a:lnTo>
                    <a:lnTo>
                      <a:pt x="1436" y="1761"/>
                    </a:lnTo>
                    <a:lnTo>
                      <a:pt x="1433" y="1783"/>
                    </a:lnTo>
                    <a:lnTo>
                      <a:pt x="1431" y="1805"/>
                    </a:lnTo>
                    <a:lnTo>
                      <a:pt x="1428" y="1829"/>
                    </a:lnTo>
                    <a:lnTo>
                      <a:pt x="1425" y="1851"/>
                    </a:lnTo>
                    <a:lnTo>
                      <a:pt x="1423" y="1873"/>
                    </a:lnTo>
                    <a:lnTo>
                      <a:pt x="1420" y="1897"/>
                    </a:lnTo>
                    <a:lnTo>
                      <a:pt x="1417" y="1919"/>
                    </a:lnTo>
                    <a:lnTo>
                      <a:pt x="1415" y="1942"/>
                    </a:lnTo>
                    <a:lnTo>
                      <a:pt x="1412" y="1964"/>
                    </a:lnTo>
                    <a:lnTo>
                      <a:pt x="1408" y="1988"/>
                    </a:lnTo>
                    <a:lnTo>
                      <a:pt x="1406" y="2010"/>
                    </a:lnTo>
                    <a:lnTo>
                      <a:pt x="1403" y="2033"/>
                    </a:lnTo>
                    <a:lnTo>
                      <a:pt x="1400" y="2055"/>
                    </a:lnTo>
                    <a:lnTo>
                      <a:pt x="1398" y="2079"/>
                    </a:lnTo>
                    <a:lnTo>
                      <a:pt x="1395" y="2101"/>
                    </a:lnTo>
                    <a:lnTo>
                      <a:pt x="1392" y="2124"/>
                    </a:lnTo>
                    <a:lnTo>
                      <a:pt x="1390" y="2146"/>
                    </a:lnTo>
                    <a:lnTo>
                      <a:pt x="1387" y="2170"/>
                    </a:lnTo>
                    <a:lnTo>
                      <a:pt x="1384" y="2192"/>
                    </a:lnTo>
                    <a:lnTo>
                      <a:pt x="1382" y="2214"/>
                    </a:lnTo>
                    <a:lnTo>
                      <a:pt x="1379" y="2237"/>
                    </a:lnTo>
                    <a:lnTo>
                      <a:pt x="1376" y="2260"/>
                    </a:lnTo>
                    <a:lnTo>
                      <a:pt x="1374" y="2283"/>
                    </a:lnTo>
                    <a:lnTo>
                      <a:pt x="1371" y="2305"/>
                    </a:lnTo>
                    <a:lnTo>
                      <a:pt x="1368" y="2329"/>
                    </a:lnTo>
                    <a:lnTo>
                      <a:pt x="1365" y="2351"/>
                    </a:lnTo>
                    <a:lnTo>
                      <a:pt x="1363" y="2373"/>
                    </a:lnTo>
                    <a:lnTo>
                      <a:pt x="1360" y="2396"/>
                    </a:lnTo>
                    <a:lnTo>
                      <a:pt x="1358" y="2418"/>
                    </a:lnTo>
                    <a:lnTo>
                      <a:pt x="1355" y="2441"/>
                    </a:lnTo>
                    <a:lnTo>
                      <a:pt x="1352" y="2464"/>
                    </a:lnTo>
                    <a:lnTo>
                      <a:pt x="1350" y="2486"/>
                    </a:lnTo>
                    <a:lnTo>
                      <a:pt x="1347" y="2510"/>
                    </a:lnTo>
                    <a:lnTo>
                      <a:pt x="1344" y="2532"/>
                    </a:lnTo>
                    <a:lnTo>
                      <a:pt x="1341" y="2555"/>
                    </a:lnTo>
                    <a:lnTo>
                      <a:pt x="1339" y="2577"/>
                    </a:lnTo>
                    <a:lnTo>
                      <a:pt x="1336" y="2599"/>
                    </a:lnTo>
                    <a:lnTo>
                      <a:pt x="1334" y="2623"/>
                    </a:lnTo>
                    <a:lnTo>
                      <a:pt x="1331" y="2646"/>
                    </a:lnTo>
                    <a:lnTo>
                      <a:pt x="1328" y="2668"/>
                    </a:lnTo>
                    <a:lnTo>
                      <a:pt x="1325" y="2692"/>
                    </a:lnTo>
                    <a:lnTo>
                      <a:pt x="1323" y="2714"/>
                    </a:lnTo>
                    <a:lnTo>
                      <a:pt x="1320" y="2737"/>
                    </a:lnTo>
                    <a:lnTo>
                      <a:pt x="1317" y="2759"/>
                    </a:lnTo>
                    <a:lnTo>
                      <a:pt x="1315" y="2782"/>
                    </a:lnTo>
                    <a:lnTo>
                      <a:pt x="1312" y="2805"/>
                    </a:lnTo>
                    <a:lnTo>
                      <a:pt x="1309" y="2827"/>
                    </a:lnTo>
                    <a:lnTo>
                      <a:pt x="1307" y="2850"/>
                    </a:lnTo>
                    <a:lnTo>
                      <a:pt x="1304" y="2873"/>
                    </a:lnTo>
                    <a:lnTo>
                      <a:pt x="1301" y="2896"/>
                    </a:lnTo>
                    <a:lnTo>
                      <a:pt x="1299" y="2918"/>
                    </a:lnTo>
                    <a:lnTo>
                      <a:pt x="1296" y="2942"/>
                    </a:lnTo>
                    <a:lnTo>
                      <a:pt x="1293" y="2964"/>
                    </a:lnTo>
                    <a:lnTo>
                      <a:pt x="1291" y="2987"/>
                    </a:lnTo>
                    <a:lnTo>
                      <a:pt x="1288" y="3009"/>
                    </a:lnTo>
                    <a:lnTo>
                      <a:pt x="1285" y="3033"/>
                    </a:lnTo>
                    <a:lnTo>
                      <a:pt x="1282" y="3055"/>
                    </a:lnTo>
                    <a:lnTo>
                      <a:pt x="1279" y="3077"/>
                    </a:lnTo>
                    <a:lnTo>
                      <a:pt x="1276" y="3100"/>
                    </a:lnTo>
                    <a:lnTo>
                      <a:pt x="1274" y="3123"/>
                    </a:lnTo>
                    <a:lnTo>
                      <a:pt x="1271" y="3145"/>
                    </a:lnTo>
                    <a:lnTo>
                      <a:pt x="1268" y="3168"/>
                    </a:lnTo>
                    <a:lnTo>
                      <a:pt x="1266" y="3190"/>
                    </a:lnTo>
                    <a:lnTo>
                      <a:pt x="1263" y="3214"/>
                    </a:lnTo>
                    <a:lnTo>
                      <a:pt x="1260" y="3237"/>
                    </a:lnTo>
                    <a:lnTo>
                      <a:pt x="1258" y="3259"/>
                    </a:lnTo>
                    <a:lnTo>
                      <a:pt x="1255" y="3283"/>
                    </a:lnTo>
                    <a:lnTo>
                      <a:pt x="1252" y="3305"/>
                    </a:lnTo>
                    <a:lnTo>
                      <a:pt x="1250" y="3327"/>
                    </a:lnTo>
                    <a:lnTo>
                      <a:pt x="1247" y="3350"/>
                    </a:lnTo>
                    <a:lnTo>
                      <a:pt x="1244" y="3372"/>
                    </a:lnTo>
                    <a:lnTo>
                      <a:pt x="1242" y="3396"/>
                    </a:lnTo>
                    <a:lnTo>
                      <a:pt x="1239" y="3419"/>
                    </a:lnTo>
                    <a:lnTo>
                      <a:pt x="1236" y="3441"/>
                    </a:lnTo>
                    <a:lnTo>
                      <a:pt x="1234" y="3465"/>
                    </a:lnTo>
                    <a:lnTo>
                      <a:pt x="1231" y="3487"/>
                    </a:lnTo>
                    <a:lnTo>
                      <a:pt x="1228" y="3510"/>
                    </a:lnTo>
                    <a:lnTo>
                      <a:pt x="1226" y="3532"/>
                    </a:lnTo>
                    <a:lnTo>
                      <a:pt x="1223" y="3556"/>
                    </a:lnTo>
                    <a:lnTo>
                      <a:pt x="1220" y="3578"/>
                    </a:lnTo>
                    <a:lnTo>
                      <a:pt x="1218" y="3601"/>
                    </a:lnTo>
                    <a:lnTo>
                      <a:pt x="1215" y="3624"/>
                    </a:lnTo>
                    <a:lnTo>
                      <a:pt x="1212" y="3647"/>
                    </a:lnTo>
                    <a:lnTo>
                      <a:pt x="1210" y="3669"/>
                    </a:lnTo>
                    <a:lnTo>
                      <a:pt x="1207" y="3692"/>
                    </a:lnTo>
                    <a:lnTo>
                      <a:pt x="1204" y="3715"/>
                    </a:lnTo>
                    <a:lnTo>
                      <a:pt x="1202" y="3738"/>
                    </a:lnTo>
                    <a:lnTo>
                      <a:pt x="1199" y="3760"/>
                    </a:lnTo>
                    <a:lnTo>
                      <a:pt x="1196" y="3784"/>
                    </a:lnTo>
                    <a:lnTo>
                      <a:pt x="1193" y="3806"/>
                    </a:lnTo>
                    <a:lnTo>
                      <a:pt x="1191" y="3829"/>
                    </a:lnTo>
                    <a:lnTo>
                      <a:pt x="1188" y="3851"/>
                    </a:lnTo>
                    <a:lnTo>
                      <a:pt x="1185" y="3873"/>
                    </a:lnTo>
                    <a:lnTo>
                      <a:pt x="1183" y="3897"/>
                    </a:lnTo>
                    <a:lnTo>
                      <a:pt x="1180" y="3920"/>
                    </a:lnTo>
                    <a:lnTo>
                      <a:pt x="1177" y="3942"/>
                    </a:lnTo>
                    <a:lnTo>
                      <a:pt x="1175" y="3966"/>
                    </a:lnTo>
                    <a:lnTo>
                      <a:pt x="1172" y="3988"/>
                    </a:lnTo>
                    <a:lnTo>
                      <a:pt x="1169" y="4011"/>
                    </a:lnTo>
                    <a:lnTo>
                      <a:pt x="1167" y="4033"/>
                    </a:lnTo>
                    <a:lnTo>
                      <a:pt x="1164" y="4056"/>
                    </a:lnTo>
                    <a:lnTo>
                      <a:pt x="1161" y="4079"/>
                    </a:lnTo>
                    <a:lnTo>
                      <a:pt x="1159" y="4101"/>
                    </a:lnTo>
                    <a:lnTo>
                      <a:pt x="1155" y="4125"/>
                    </a:lnTo>
                    <a:lnTo>
                      <a:pt x="1152" y="4147"/>
                    </a:lnTo>
                    <a:lnTo>
                      <a:pt x="1150" y="4170"/>
                    </a:lnTo>
                    <a:lnTo>
                      <a:pt x="1147" y="4192"/>
                    </a:lnTo>
                    <a:lnTo>
                      <a:pt x="1144" y="4216"/>
                    </a:lnTo>
                    <a:lnTo>
                      <a:pt x="1142" y="4238"/>
                    </a:lnTo>
                    <a:lnTo>
                      <a:pt x="1139" y="4261"/>
                    </a:lnTo>
                    <a:lnTo>
                      <a:pt x="1136" y="4283"/>
                    </a:lnTo>
                    <a:lnTo>
                      <a:pt x="1134" y="4307"/>
                    </a:lnTo>
                    <a:lnTo>
                      <a:pt x="1131" y="4330"/>
                    </a:lnTo>
                    <a:lnTo>
                      <a:pt x="1128" y="4352"/>
                    </a:lnTo>
                    <a:lnTo>
                      <a:pt x="1126" y="4374"/>
                    </a:lnTo>
                    <a:lnTo>
                      <a:pt x="1123" y="4398"/>
                    </a:lnTo>
                    <a:lnTo>
                      <a:pt x="1120" y="4420"/>
                    </a:lnTo>
                    <a:lnTo>
                      <a:pt x="1118" y="4443"/>
                    </a:lnTo>
                    <a:lnTo>
                      <a:pt x="1115" y="4467"/>
                    </a:lnTo>
                    <a:lnTo>
                      <a:pt x="1112" y="4489"/>
                    </a:lnTo>
                    <a:lnTo>
                      <a:pt x="1109" y="4512"/>
                    </a:lnTo>
                    <a:lnTo>
                      <a:pt x="1107" y="4536"/>
                    </a:lnTo>
                    <a:lnTo>
                      <a:pt x="1104" y="4558"/>
                    </a:lnTo>
                    <a:lnTo>
                      <a:pt x="1101" y="4581"/>
                    </a:lnTo>
                    <a:lnTo>
                      <a:pt x="1099" y="4603"/>
                    </a:lnTo>
                    <a:lnTo>
                      <a:pt x="1096" y="4626"/>
                    </a:lnTo>
                    <a:lnTo>
                      <a:pt x="1093" y="4649"/>
                    </a:lnTo>
                    <a:lnTo>
                      <a:pt x="1091" y="4671"/>
                    </a:lnTo>
                    <a:lnTo>
                      <a:pt x="1088" y="4694"/>
                    </a:lnTo>
                    <a:lnTo>
                      <a:pt x="1085" y="4717"/>
                    </a:lnTo>
                    <a:lnTo>
                      <a:pt x="1083" y="4740"/>
                    </a:lnTo>
                    <a:lnTo>
                      <a:pt x="1080" y="4762"/>
                    </a:lnTo>
                    <a:lnTo>
                      <a:pt x="1077" y="4786"/>
                    </a:lnTo>
                    <a:lnTo>
                      <a:pt x="1075" y="4809"/>
                    </a:lnTo>
                    <a:lnTo>
                      <a:pt x="1072" y="4831"/>
                    </a:lnTo>
                    <a:lnTo>
                      <a:pt x="1069" y="4854"/>
                    </a:lnTo>
                    <a:lnTo>
                      <a:pt x="1066" y="4877"/>
                    </a:lnTo>
                    <a:lnTo>
                      <a:pt x="1064" y="4900"/>
                    </a:lnTo>
                    <a:lnTo>
                      <a:pt x="1061" y="4922"/>
                    </a:lnTo>
                    <a:lnTo>
                      <a:pt x="1058" y="4944"/>
                    </a:lnTo>
                    <a:lnTo>
                      <a:pt x="1056" y="4968"/>
                    </a:lnTo>
                    <a:lnTo>
                      <a:pt x="1053" y="4990"/>
                    </a:lnTo>
                    <a:lnTo>
                      <a:pt x="1050" y="5013"/>
                    </a:lnTo>
                    <a:lnTo>
                      <a:pt x="1048" y="5037"/>
                    </a:lnTo>
                    <a:lnTo>
                      <a:pt x="1045" y="5059"/>
                    </a:lnTo>
                    <a:lnTo>
                      <a:pt x="1042" y="5081"/>
                    </a:lnTo>
                    <a:lnTo>
                      <a:pt x="1040" y="5104"/>
                    </a:lnTo>
                    <a:lnTo>
                      <a:pt x="1037" y="5127"/>
                    </a:lnTo>
                    <a:lnTo>
                      <a:pt x="1034" y="5150"/>
                    </a:lnTo>
                    <a:lnTo>
                      <a:pt x="1032" y="5172"/>
                    </a:lnTo>
                    <a:lnTo>
                      <a:pt x="1028" y="5195"/>
                    </a:lnTo>
                    <a:lnTo>
                      <a:pt x="1025" y="5219"/>
                    </a:lnTo>
                    <a:lnTo>
                      <a:pt x="1023" y="5241"/>
                    </a:lnTo>
                    <a:lnTo>
                      <a:pt x="1020" y="5264"/>
                    </a:lnTo>
                    <a:lnTo>
                      <a:pt x="1017" y="5288"/>
                    </a:lnTo>
                    <a:lnTo>
                      <a:pt x="1015" y="5310"/>
                    </a:lnTo>
                    <a:lnTo>
                      <a:pt x="1012" y="5332"/>
                    </a:lnTo>
                    <a:lnTo>
                      <a:pt x="1009" y="5355"/>
                    </a:lnTo>
                    <a:lnTo>
                      <a:pt x="1007" y="5379"/>
                    </a:lnTo>
                    <a:lnTo>
                      <a:pt x="1004" y="5402"/>
                    </a:lnTo>
                    <a:lnTo>
                      <a:pt x="1001" y="5424"/>
                    </a:lnTo>
                    <a:lnTo>
                      <a:pt x="998" y="5448"/>
                    </a:lnTo>
                    <a:lnTo>
                      <a:pt x="996" y="5470"/>
                    </a:lnTo>
                    <a:lnTo>
                      <a:pt x="993" y="5493"/>
                    </a:lnTo>
                    <a:lnTo>
                      <a:pt x="990" y="5516"/>
                    </a:lnTo>
                    <a:lnTo>
                      <a:pt x="988" y="5539"/>
                    </a:lnTo>
                    <a:lnTo>
                      <a:pt x="985" y="5562"/>
                    </a:lnTo>
                    <a:lnTo>
                      <a:pt x="982" y="5584"/>
                    </a:lnTo>
                    <a:lnTo>
                      <a:pt x="980" y="5608"/>
                    </a:lnTo>
                    <a:lnTo>
                      <a:pt x="977" y="5630"/>
                    </a:lnTo>
                    <a:lnTo>
                      <a:pt x="974" y="5652"/>
                    </a:lnTo>
                    <a:lnTo>
                      <a:pt x="972" y="5674"/>
                    </a:lnTo>
                    <a:lnTo>
                      <a:pt x="969" y="5696"/>
                    </a:lnTo>
                    <a:lnTo>
                      <a:pt x="966" y="5720"/>
                    </a:lnTo>
                    <a:lnTo>
                      <a:pt x="964" y="5743"/>
                    </a:lnTo>
                    <a:lnTo>
                      <a:pt x="961" y="5767"/>
                    </a:lnTo>
                    <a:lnTo>
                      <a:pt x="958" y="5790"/>
                    </a:lnTo>
                    <a:lnTo>
                      <a:pt x="955" y="5813"/>
                    </a:lnTo>
                    <a:lnTo>
                      <a:pt x="953" y="5836"/>
                    </a:lnTo>
                    <a:lnTo>
                      <a:pt x="950" y="5859"/>
                    </a:lnTo>
                    <a:lnTo>
                      <a:pt x="947" y="5881"/>
                    </a:lnTo>
                    <a:lnTo>
                      <a:pt x="945" y="5904"/>
                    </a:lnTo>
                    <a:lnTo>
                      <a:pt x="942" y="5928"/>
                    </a:lnTo>
                    <a:lnTo>
                      <a:pt x="939" y="5950"/>
                    </a:lnTo>
                    <a:lnTo>
                      <a:pt x="937" y="5973"/>
                    </a:lnTo>
                    <a:lnTo>
                      <a:pt x="934" y="5997"/>
                    </a:lnTo>
                    <a:lnTo>
                      <a:pt x="931" y="6019"/>
                    </a:lnTo>
                    <a:lnTo>
                      <a:pt x="929" y="6042"/>
                    </a:lnTo>
                    <a:lnTo>
                      <a:pt x="926" y="6065"/>
                    </a:lnTo>
                    <a:lnTo>
                      <a:pt x="923" y="6088"/>
                    </a:lnTo>
                    <a:lnTo>
                      <a:pt x="920" y="6110"/>
                    </a:lnTo>
                    <a:lnTo>
                      <a:pt x="918" y="6133"/>
                    </a:lnTo>
                    <a:lnTo>
                      <a:pt x="915" y="6156"/>
                    </a:lnTo>
                    <a:lnTo>
                      <a:pt x="912" y="6179"/>
                    </a:lnTo>
                    <a:lnTo>
                      <a:pt x="910" y="6201"/>
                    </a:lnTo>
                    <a:lnTo>
                      <a:pt x="907" y="6223"/>
                    </a:lnTo>
                    <a:lnTo>
                      <a:pt x="903" y="6247"/>
                    </a:lnTo>
                    <a:lnTo>
                      <a:pt x="901" y="6270"/>
                    </a:lnTo>
                    <a:lnTo>
                      <a:pt x="898" y="6292"/>
                    </a:lnTo>
                    <a:lnTo>
                      <a:pt x="895" y="6316"/>
                    </a:lnTo>
                    <a:lnTo>
                      <a:pt x="893" y="6339"/>
                    </a:lnTo>
                    <a:lnTo>
                      <a:pt x="890" y="6361"/>
                    </a:lnTo>
                    <a:lnTo>
                      <a:pt x="887" y="6385"/>
                    </a:lnTo>
                    <a:lnTo>
                      <a:pt x="885" y="6407"/>
                    </a:lnTo>
                    <a:lnTo>
                      <a:pt x="882" y="6430"/>
                    </a:lnTo>
                    <a:lnTo>
                      <a:pt x="879" y="6452"/>
                    </a:lnTo>
                    <a:lnTo>
                      <a:pt x="876" y="6476"/>
                    </a:lnTo>
                    <a:lnTo>
                      <a:pt x="874" y="6499"/>
                    </a:lnTo>
                    <a:lnTo>
                      <a:pt x="871" y="6522"/>
                    </a:lnTo>
                    <a:lnTo>
                      <a:pt x="868" y="6545"/>
                    </a:lnTo>
                    <a:lnTo>
                      <a:pt x="866" y="6568"/>
                    </a:lnTo>
                    <a:lnTo>
                      <a:pt x="863" y="6590"/>
                    </a:lnTo>
                    <a:lnTo>
                      <a:pt x="860" y="6614"/>
                    </a:lnTo>
                    <a:lnTo>
                      <a:pt x="858" y="6636"/>
                    </a:lnTo>
                    <a:lnTo>
                      <a:pt x="855" y="6659"/>
                    </a:lnTo>
                    <a:lnTo>
                      <a:pt x="852" y="6682"/>
                    </a:lnTo>
                    <a:lnTo>
                      <a:pt x="850" y="6705"/>
                    </a:lnTo>
                    <a:lnTo>
                      <a:pt x="847" y="6728"/>
                    </a:lnTo>
                    <a:lnTo>
                      <a:pt x="844" y="6751"/>
                    </a:lnTo>
                    <a:lnTo>
                      <a:pt x="841" y="6774"/>
                    </a:lnTo>
                    <a:lnTo>
                      <a:pt x="839" y="6797"/>
                    </a:lnTo>
                    <a:lnTo>
                      <a:pt x="836" y="6819"/>
                    </a:lnTo>
                    <a:lnTo>
                      <a:pt x="833" y="6842"/>
                    </a:lnTo>
                    <a:lnTo>
                      <a:pt x="831" y="6866"/>
                    </a:lnTo>
                    <a:lnTo>
                      <a:pt x="828" y="6888"/>
                    </a:lnTo>
                    <a:lnTo>
                      <a:pt x="825" y="6911"/>
                    </a:lnTo>
                    <a:lnTo>
                      <a:pt x="823" y="6935"/>
                    </a:lnTo>
                    <a:lnTo>
                      <a:pt x="820" y="6957"/>
                    </a:lnTo>
                    <a:lnTo>
                      <a:pt x="817" y="6979"/>
                    </a:lnTo>
                    <a:lnTo>
                      <a:pt x="814" y="7002"/>
                    </a:lnTo>
                    <a:lnTo>
                      <a:pt x="812" y="7026"/>
                    </a:lnTo>
                    <a:lnTo>
                      <a:pt x="809" y="7049"/>
                    </a:lnTo>
                    <a:lnTo>
                      <a:pt x="806" y="7073"/>
                    </a:lnTo>
                    <a:lnTo>
                      <a:pt x="804" y="7095"/>
                    </a:lnTo>
                    <a:lnTo>
                      <a:pt x="801" y="7118"/>
                    </a:lnTo>
                    <a:lnTo>
                      <a:pt x="798" y="7140"/>
                    </a:lnTo>
                    <a:lnTo>
                      <a:pt x="796" y="7163"/>
                    </a:lnTo>
                    <a:lnTo>
                      <a:pt x="793" y="7186"/>
                    </a:lnTo>
                    <a:lnTo>
                      <a:pt x="790" y="7209"/>
                    </a:lnTo>
                    <a:lnTo>
                      <a:pt x="787" y="7233"/>
                    </a:lnTo>
                    <a:lnTo>
                      <a:pt x="785" y="7255"/>
                    </a:lnTo>
                    <a:lnTo>
                      <a:pt x="782" y="7278"/>
                    </a:lnTo>
                    <a:lnTo>
                      <a:pt x="778" y="7302"/>
                    </a:lnTo>
                    <a:lnTo>
                      <a:pt x="776" y="7325"/>
                    </a:lnTo>
                    <a:lnTo>
                      <a:pt x="773" y="7347"/>
                    </a:lnTo>
                    <a:lnTo>
                      <a:pt x="770" y="7371"/>
                    </a:lnTo>
                    <a:lnTo>
                      <a:pt x="768" y="7394"/>
                    </a:lnTo>
                    <a:lnTo>
                      <a:pt x="765" y="7416"/>
                    </a:lnTo>
                    <a:lnTo>
                      <a:pt x="762" y="7439"/>
                    </a:lnTo>
                    <a:lnTo>
                      <a:pt x="759" y="7463"/>
                    </a:lnTo>
                    <a:lnTo>
                      <a:pt x="757" y="7485"/>
                    </a:lnTo>
                    <a:lnTo>
                      <a:pt x="754" y="7508"/>
                    </a:lnTo>
                    <a:lnTo>
                      <a:pt x="751" y="7531"/>
                    </a:lnTo>
                    <a:lnTo>
                      <a:pt x="749" y="7554"/>
                    </a:lnTo>
                    <a:lnTo>
                      <a:pt x="746" y="7577"/>
                    </a:lnTo>
                    <a:lnTo>
                      <a:pt x="743" y="7601"/>
                    </a:lnTo>
                    <a:lnTo>
                      <a:pt x="740" y="7624"/>
                    </a:lnTo>
                    <a:lnTo>
                      <a:pt x="738" y="7648"/>
                    </a:lnTo>
                    <a:lnTo>
                      <a:pt x="735" y="7670"/>
                    </a:lnTo>
                    <a:lnTo>
                      <a:pt x="732" y="7693"/>
                    </a:lnTo>
                    <a:lnTo>
                      <a:pt x="730" y="7715"/>
                    </a:lnTo>
                    <a:lnTo>
                      <a:pt x="727" y="7739"/>
                    </a:lnTo>
                    <a:lnTo>
                      <a:pt x="724" y="7762"/>
                    </a:lnTo>
                    <a:lnTo>
                      <a:pt x="722" y="7784"/>
                    </a:lnTo>
                    <a:lnTo>
                      <a:pt x="719" y="7808"/>
                    </a:lnTo>
                    <a:lnTo>
                      <a:pt x="716" y="7831"/>
                    </a:lnTo>
                    <a:lnTo>
                      <a:pt x="713" y="7853"/>
                    </a:lnTo>
                    <a:lnTo>
                      <a:pt x="711" y="7876"/>
                    </a:lnTo>
                    <a:lnTo>
                      <a:pt x="708" y="7899"/>
                    </a:lnTo>
                    <a:lnTo>
                      <a:pt x="705" y="7922"/>
                    </a:lnTo>
                    <a:lnTo>
                      <a:pt x="703" y="7945"/>
                    </a:lnTo>
                    <a:lnTo>
                      <a:pt x="700" y="7969"/>
                    </a:lnTo>
                    <a:lnTo>
                      <a:pt x="697" y="7992"/>
                    </a:lnTo>
                    <a:lnTo>
                      <a:pt x="695" y="8014"/>
                    </a:lnTo>
                    <a:lnTo>
                      <a:pt x="692" y="8038"/>
                    </a:lnTo>
                    <a:lnTo>
                      <a:pt x="689" y="8061"/>
                    </a:lnTo>
                    <a:lnTo>
                      <a:pt x="686" y="8083"/>
                    </a:lnTo>
                    <a:lnTo>
                      <a:pt x="684" y="8107"/>
                    </a:lnTo>
                    <a:lnTo>
                      <a:pt x="681" y="8130"/>
                    </a:lnTo>
                    <a:lnTo>
                      <a:pt x="678" y="8153"/>
                    </a:lnTo>
                    <a:lnTo>
                      <a:pt x="676" y="8177"/>
                    </a:lnTo>
                    <a:lnTo>
                      <a:pt x="673" y="8199"/>
                    </a:lnTo>
                    <a:lnTo>
                      <a:pt x="670" y="8222"/>
                    </a:lnTo>
                    <a:lnTo>
                      <a:pt x="667" y="8246"/>
                    </a:lnTo>
                    <a:lnTo>
                      <a:pt x="665" y="8268"/>
                    </a:lnTo>
                    <a:lnTo>
                      <a:pt x="662" y="8291"/>
                    </a:lnTo>
                    <a:lnTo>
                      <a:pt x="659" y="8315"/>
                    </a:lnTo>
                    <a:lnTo>
                      <a:pt x="657" y="8338"/>
                    </a:lnTo>
                    <a:lnTo>
                      <a:pt x="654" y="8361"/>
                    </a:lnTo>
                    <a:lnTo>
                      <a:pt x="650" y="8385"/>
                    </a:lnTo>
                    <a:lnTo>
                      <a:pt x="647" y="8407"/>
                    </a:lnTo>
                    <a:lnTo>
                      <a:pt x="645" y="8430"/>
                    </a:lnTo>
                    <a:lnTo>
                      <a:pt x="642" y="8454"/>
                    </a:lnTo>
                    <a:lnTo>
                      <a:pt x="639" y="8477"/>
                    </a:lnTo>
                    <a:lnTo>
                      <a:pt x="637" y="8499"/>
                    </a:lnTo>
                    <a:lnTo>
                      <a:pt x="634" y="8523"/>
                    </a:lnTo>
                    <a:lnTo>
                      <a:pt x="631" y="8546"/>
                    </a:lnTo>
                    <a:lnTo>
                      <a:pt x="628" y="8569"/>
                    </a:lnTo>
                    <a:lnTo>
                      <a:pt x="626" y="8592"/>
                    </a:lnTo>
                    <a:lnTo>
                      <a:pt x="623" y="8615"/>
                    </a:lnTo>
                    <a:lnTo>
                      <a:pt x="620" y="8638"/>
                    </a:lnTo>
                    <a:lnTo>
                      <a:pt x="618" y="8662"/>
                    </a:lnTo>
                    <a:lnTo>
                      <a:pt x="615" y="8684"/>
                    </a:lnTo>
                    <a:lnTo>
                      <a:pt x="612" y="8707"/>
                    </a:lnTo>
                    <a:lnTo>
                      <a:pt x="609" y="8731"/>
                    </a:lnTo>
                    <a:lnTo>
                      <a:pt x="607" y="8754"/>
                    </a:lnTo>
                    <a:lnTo>
                      <a:pt x="604" y="8778"/>
                    </a:lnTo>
                    <a:lnTo>
                      <a:pt x="601" y="8800"/>
                    </a:lnTo>
                    <a:lnTo>
                      <a:pt x="599" y="8823"/>
                    </a:lnTo>
                    <a:lnTo>
                      <a:pt x="596" y="8846"/>
                    </a:lnTo>
                    <a:lnTo>
                      <a:pt x="593" y="8869"/>
                    </a:lnTo>
                    <a:lnTo>
                      <a:pt x="590" y="8892"/>
                    </a:lnTo>
                    <a:lnTo>
                      <a:pt x="588" y="8915"/>
                    </a:lnTo>
                    <a:lnTo>
                      <a:pt x="585" y="8938"/>
                    </a:lnTo>
                    <a:lnTo>
                      <a:pt x="582" y="8961"/>
                    </a:lnTo>
                    <a:lnTo>
                      <a:pt x="580" y="8983"/>
                    </a:lnTo>
                    <a:lnTo>
                      <a:pt x="577" y="9006"/>
                    </a:lnTo>
                    <a:lnTo>
                      <a:pt x="574" y="9030"/>
                    </a:lnTo>
                    <a:lnTo>
                      <a:pt x="571" y="9053"/>
                    </a:lnTo>
                    <a:lnTo>
                      <a:pt x="569" y="9077"/>
                    </a:lnTo>
                    <a:lnTo>
                      <a:pt x="566" y="9100"/>
                    </a:lnTo>
                    <a:lnTo>
                      <a:pt x="563" y="9122"/>
                    </a:lnTo>
                    <a:lnTo>
                      <a:pt x="561" y="9146"/>
                    </a:lnTo>
                    <a:lnTo>
                      <a:pt x="558" y="9169"/>
                    </a:lnTo>
                    <a:lnTo>
                      <a:pt x="555" y="9192"/>
                    </a:lnTo>
                    <a:lnTo>
                      <a:pt x="552" y="9214"/>
                    </a:lnTo>
                    <a:lnTo>
                      <a:pt x="550" y="9238"/>
                    </a:lnTo>
                    <a:lnTo>
                      <a:pt x="547" y="9261"/>
                    </a:lnTo>
                    <a:lnTo>
                      <a:pt x="544" y="9285"/>
                    </a:lnTo>
                    <a:lnTo>
                      <a:pt x="542" y="9308"/>
                    </a:lnTo>
                    <a:lnTo>
                      <a:pt x="539" y="9331"/>
                    </a:lnTo>
                    <a:lnTo>
                      <a:pt x="536" y="9354"/>
                    </a:lnTo>
                    <a:lnTo>
                      <a:pt x="533" y="9377"/>
                    </a:lnTo>
                    <a:lnTo>
                      <a:pt x="531" y="9400"/>
                    </a:lnTo>
                    <a:lnTo>
                      <a:pt x="528" y="9424"/>
                    </a:lnTo>
                    <a:lnTo>
                      <a:pt x="524" y="9447"/>
                    </a:lnTo>
                    <a:lnTo>
                      <a:pt x="521" y="9471"/>
                    </a:lnTo>
                    <a:lnTo>
                      <a:pt x="519" y="9494"/>
                    </a:lnTo>
                    <a:lnTo>
                      <a:pt x="516" y="9517"/>
                    </a:lnTo>
                    <a:lnTo>
                      <a:pt x="513" y="9539"/>
                    </a:lnTo>
                    <a:lnTo>
                      <a:pt x="511" y="9563"/>
                    </a:lnTo>
                    <a:lnTo>
                      <a:pt x="508" y="9586"/>
                    </a:lnTo>
                    <a:lnTo>
                      <a:pt x="505" y="9610"/>
                    </a:lnTo>
                    <a:lnTo>
                      <a:pt x="502" y="9633"/>
                    </a:lnTo>
                    <a:lnTo>
                      <a:pt x="500" y="9655"/>
                    </a:lnTo>
                    <a:lnTo>
                      <a:pt x="497" y="9679"/>
                    </a:lnTo>
                    <a:lnTo>
                      <a:pt x="494" y="9702"/>
                    </a:lnTo>
                    <a:lnTo>
                      <a:pt x="492" y="9725"/>
                    </a:lnTo>
                    <a:lnTo>
                      <a:pt x="489" y="9749"/>
                    </a:lnTo>
                    <a:lnTo>
                      <a:pt x="486" y="9771"/>
                    </a:lnTo>
                    <a:lnTo>
                      <a:pt x="483" y="9794"/>
                    </a:lnTo>
                    <a:lnTo>
                      <a:pt x="481" y="9818"/>
                    </a:lnTo>
                    <a:lnTo>
                      <a:pt x="478" y="9841"/>
                    </a:lnTo>
                    <a:lnTo>
                      <a:pt x="475" y="9864"/>
                    </a:lnTo>
                    <a:lnTo>
                      <a:pt x="472" y="9887"/>
                    </a:lnTo>
                    <a:lnTo>
                      <a:pt x="470" y="9910"/>
                    </a:lnTo>
                    <a:lnTo>
                      <a:pt x="467" y="9932"/>
                    </a:lnTo>
                    <a:lnTo>
                      <a:pt x="464" y="9957"/>
                    </a:lnTo>
                    <a:lnTo>
                      <a:pt x="462" y="9980"/>
                    </a:lnTo>
                    <a:lnTo>
                      <a:pt x="459" y="10004"/>
                    </a:lnTo>
                    <a:lnTo>
                      <a:pt x="456" y="10026"/>
                    </a:lnTo>
                    <a:lnTo>
                      <a:pt x="453" y="10049"/>
                    </a:lnTo>
                    <a:lnTo>
                      <a:pt x="451" y="10072"/>
                    </a:lnTo>
                    <a:lnTo>
                      <a:pt x="448" y="10096"/>
                    </a:lnTo>
                    <a:lnTo>
                      <a:pt x="445" y="10118"/>
                    </a:lnTo>
                    <a:lnTo>
                      <a:pt x="442" y="10143"/>
                    </a:lnTo>
                    <a:lnTo>
                      <a:pt x="440" y="10166"/>
                    </a:lnTo>
                    <a:lnTo>
                      <a:pt x="437" y="10189"/>
                    </a:lnTo>
                    <a:lnTo>
                      <a:pt x="434" y="10212"/>
                    </a:lnTo>
                    <a:lnTo>
                      <a:pt x="431" y="10235"/>
                    </a:lnTo>
                    <a:lnTo>
                      <a:pt x="429" y="10258"/>
                    </a:lnTo>
                    <a:lnTo>
                      <a:pt x="426" y="10282"/>
                    </a:lnTo>
                    <a:lnTo>
                      <a:pt x="423" y="10304"/>
                    </a:lnTo>
                    <a:lnTo>
                      <a:pt x="421" y="10329"/>
                    </a:lnTo>
                    <a:lnTo>
                      <a:pt x="418" y="10352"/>
                    </a:lnTo>
                    <a:lnTo>
                      <a:pt x="415" y="10374"/>
                    </a:lnTo>
                    <a:lnTo>
                      <a:pt x="412" y="10397"/>
                    </a:lnTo>
                    <a:lnTo>
                      <a:pt x="410" y="10421"/>
                    </a:lnTo>
                    <a:lnTo>
                      <a:pt x="407" y="10444"/>
                    </a:lnTo>
                    <a:lnTo>
                      <a:pt x="404" y="10468"/>
                    </a:lnTo>
                    <a:lnTo>
                      <a:pt x="402" y="10490"/>
                    </a:lnTo>
                    <a:lnTo>
                      <a:pt x="398" y="10514"/>
                    </a:lnTo>
                    <a:lnTo>
                      <a:pt x="395" y="10538"/>
                    </a:lnTo>
                    <a:lnTo>
                      <a:pt x="392" y="10560"/>
                    </a:lnTo>
                    <a:lnTo>
                      <a:pt x="389" y="10583"/>
                    </a:lnTo>
                    <a:lnTo>
                      <a:pt x="387" y="10607"/>
                    </a:lnTo>
                    <a:lnTo>
                      <a:pt x="384" y="10630"/>
                    </a:lnTo>
                    <a:lnTo>
                      <a:pt x="381" y="10653"/>
                    </a:lnTo>
                    <a:lnTo>
                      <a:pt x="379" y="10676"/>
                    </a:lnTo>
                    <a:lnTo>
                      <a:pt x="376" y="10700"/>
                    </a:lnTo>
                    <a:lnTo>
                      <a:pt x="373" y="10724"/>
                    </a:lnTo>
                    <a:lnTo>
                      <a:pt x="370" y="10746"/>
                    </a:lnTo>
                    <a:lnTo>
                      <a:pt x="368" y="10769"/>
                    </a:lnTo>
                    <a:lnTo>
                      <a:pt x="365" y="10793"/>
                    </a:lnTo>
                    <a:lnTo>
                      <a:pt x="362" y="10816"/>
                    </a:lnTo>
                    <a:lnTo>
                      <a:pt x="359" y="10839"/>
                    </a:lnTo>
                    <a:lnTo>
                      <a:pt x="357" y="10862"/>
                    </a:lnTo>
                    <a:lnTo>
                      <a:pt x="354" y="10886"/>
                    </a:lnTo>
                    <a:lnTo>
                      <a:pt x="351" y="10910"/>
                    </a:lnTo>
                    <a:lnTo>
                      <a:pt x="348" y="10932"/>
                    </a:lnTo>
                    <a:lnTo>
                      <a:pt x="346" y="10955"/>
                    </a:lnTo>
                    <a:lnTo>
                      <a:pt x="343" y="10978"/>
                    </a:lnTo>
                    <a:lnTo>
                      <a:pt x="340" y="11002"/>
                    </a:lnTo>
                    <a:lnTo>
                      <a:pt x="338" y="11025"/>
                    </a:lnTo>
                    <a:lnTo>
                      <a:pt x="335" y="11047"/>
                    </a:lnTo>
                    <a:lnTo>
                      <a:pt x="332" y="11072"/>
                    </a:lnTo>
                    <a:lnTo>
                      <a:pt x="329" y="11095"/>
                    </a:lnTo>
                    <a:lnTo>
                      <a:pt x="327" y="11119"/>
                    </a:lnTo>
                    <a:lnTo>
                      <a:pt x="324" y="11142"/>
                    </a:lnTo>
                    <a:lnTo>
                      <a:pt x="321" y="11166"/>
                    </a:lnTo>
                    <a:lnTo>
                      <a:pt x="318" y="11188"/>
                    </a:lnTo>
                    <a:lnTo>
                      <a:pt x="316" y="11211"/>
                    </a:lnTo>
                    <a:lnTo>
                      <a:pt x="313" y="11233"/>
                    </a:lnTo>
                    <a:lnTo>
                      <a:pt x="310" y="11258"/>
                    </a:lnTo>
                    <a:lnTo>
                      <a:pt x="307" y="11281"/>
                    </a:lnTo>
                    <a:lnTo>
                      <a:pt x="305" y="11305"/>
                    </a:lnTo>
                    <a:lnTo>
                      <a:pt x="302" y="11328"/>
                    </a:lnTo>
                    <a:lnTo>
                      <a:pt x="299" y="11351"/>
                    </a:lnTo>
                    <a:lnTo>
                      <a:pt x="296" y="11374"/>
                    </a:lnTo>
                    <a:lnTo>
                      <a:pt x="294" y="11397"/>
                    </a:lnTo>
                    <a:lnTo>
                      <a:pt x="291" y="11419"/>
                    </a:lnTo>
                    <a:lnTo>
                      <a:pt x="288" y="11444"/>
                    </a:lnTo>
                    <a:lnTo>
                      <a:pt x="286" y="11467"/>
                    </a:lnTo>
                    <a:lnTo>
                      <a:pt x="283" y="11491"/>
                    </a:lnTo>
                    <a:lnTo>
                      <a:pt x="280" y="11514"/>
                    </a:lnTo>
                    <a:lnTo>
                      <a:pt x="277" y="11537"/>
                    </a:lnTo>
                    <a:lnTo>
                      <a:pt x="274" y="11561"/>
                    </a:lnTo>
                    <a:lnTo>
                      <a:pt x="271" y="11584"/>
                    </a:lnTo>
                    <a:lnTo>
                      <a:pt x="268" y="11606"/>
                    </a:lnTo>
                    <a:lnTo>
                      <a:pt x="265" y="11631"/>
                    </a:lnTo>
                    <a:lnTo>
                      <a:pt x="263" y="11654"/>
                    </a:lnTo>
                    <a:lnTo>
                      <a:pt x="260" y="11678"/>
                    </a:lnTo>
                    <a:lnTo>
                      <a:pt x="257" y="11701"/>
                    </a:lnTo>
                    <a:lnTo>
                      <a:pt x="254" y="11724"/>
                    </a:lnTo>
                    <a:lnTo>
                      <a:pt x="252" y="11747"/>
                    </a:lnTo>
                    <a:lnTo>
                      <a:pt x="249" y="11770"/>
                    </a:lnTo>
                    <a:lnTo>
                      <a:pt x="246" y="11792"/>
                    </a:lnTo>
                    <a:lnTo>
                      <a:pt x="243" y="11817"/>
                    </a:lnTo>
                    <a:lnTo>
                      <a:pt x="241" y="11840"/>
                    </a:lnTo>
                    <a:lnTo>
                      <a:pt x="238" y="11863"/>
                    </a:lnTo>
                    <a:lnTo>
                      <a:pt x="235" y="11887"/>
                    </a:lnTo>
                    <a:lnTo>
                      <a:pt x="232" y="11910"/>
                    </a:lnTo>
                    <a:lnTo>
                      <a:pt x="230" y="11934"/>
                    </a:lnTo>
                    <a:lnTo>
                      <a:pt x="227" y="11957"/>
                    </a:lnTo>
                    <a:lnTo>
                      <a:pt x="224" y="11979"/>
                    </a:lnTo>
                    <a:lnTo>
                      <a:pt x="221" y="12004"/>
                    </a:lnTo>
                    <a:lnTo>
                      <a:pt x="219" y="12027"/>
                    </a:lnTo>
                    <a:lnTo>
                      <a:pt x="216" y="12051"/>
                    </a:lnTo>
                    <a:lnTo>
                      <a:pt x="213" y="12074"/>
                    </a:lnTo>
                    <a:lnTo>
                      <a:pt x="210" y="12097"/>
                    </a:lnTo>
                    <a:lnTo>
                      <a:pt x="208" y="12120"/>
                    </a:lnTo>
                    <a:lnTo>
                      <a:pt x="205" y="12143"/>
                    </a:lnTo>
                    <a:lnTo>
                      <a:pt x="202" y="12165"/>
                    </a:lnTo>
                    <a:lnTo>
                      <a:pt x="177" y="12106"/>
                    </a:lnTo>
                    <a:lnTo>
                      <a:pt x="151" y="12046"/>
                    </a:lnTo>
                    <a:lnTo>
                      <a:pt x="125" y="11985"/>
                    </a:lnTo>
                    <a:lnTo>
                      <a:pt x="100" y="11926"/>
                    </a:lnTo>
                    <a:lnTo>
                      <a:pt x="75" y="11866"/>
                    </a:lnTo>
                    <a:lnTo>
                      <a:pt x="50" y="11806"/>
                    </a:lnTo>
                    <a:lnTo>
                      <a:pt x="25" y="11745"/>
                    </a:lnTo>
                    <a:lnTo>
                      <a:pt x="0" y="11685"/>
                    </a:lnTo>
                    <a:lnTo>
                      <a:pt x="2" y="11662"/>
                    </a:lnTo>
                    <a:lnTo>
                      <a:pt x="5" y="11639"/>
                    </a:lnTo>
                    <a:lnTo>
                      <a:pt x="8" y="11616"/>
                    </a:lnTo>
                    <a:lnTo>
                      <a:pt x="11" y="11593"/>
                    </a:lnTo>
                    <a:lnTo>
                      <a:pt x="13" y="11569"/>
                    </a:lnTo>
                    <a:lnTo>
                      <a:pt x="16" y="11546"/>
                    </a:lnTo>
                    <a:lnTo>
                      <a:pt x="19" y="11523"/>
                    </a:lnTo>
                    <a:lnTo>
                      <a:pt x="22" y="11499"/>
                    </a:lnTo>
                    <a:lnTo>
                      <a:pt x="25" y="11476"/>
                    </a:lnTo>
                    <a:lnTo>
                      <a:pt x="28" y="11452"/>
                    </a:lnTo>
                    <a:lnTo>
                      <a:pt x="31" y="11429"/>
                    </a:lnTo>
                    <a:lnTo>
                      <a:pt x="34" y="11406"/>
                    </a:lnTo>
                    <a:lnTo>
                      <a:pt x="36" y="11382"/>
                    </a:lnTo>
                    <a:lnTo>
                      <a:pt x="39" y="11359"/>
                    </a:lnTo>
                    <a:lnTo>
                      <a:pt x="42" y="11335"/>
                    </a:lnTo>
                    <a:lnTo>
                      <a:pt x="45" y="11312"/>
                    </a:lnTo>
                    <a:lnTo>
                      <a:pt x="47" y="11290"/>
                    </a:lnTo>
                    <a:lnTo>
                      <a:pt x="50" y="11266"/>
                    </a:lnTo>
                    <a:lnTo>
                      <a:pt x="53" y="11244"/>
                    </a:lnTo>
                    <a:lnTo>
                      <a:pt x="56" y="11221"/>
                    </a:lnTo>
                    <a:lnTo>
                      <a:pt x="58" y="11198"/>
                    </a:lnTo>
                    <a:lnTo>
                      <a:pt x="61" y="11174"/>
                    </a:lnTo>
                    <a:lnTo>
                      <a:pt x="64" y="11151"/>
                    </a:lnTo>
                    <a:lnTo>
                      <a:pt x="67" y="11127"/>
                    </a:lnTo>
                    <a:lnTo>
                      <a:pt x="69" y="11104"/>
                    </a:lnTo>
                    <a:lnTo>
                      <a:pt x="72" y="11082"/>
                    </a:lnTo>
                    <a:lnTo>
                      <a:pt x="75" y="11058"/>
                    </a:lnTo>
                    <a:lnTo>
                      <a:pt x="77" y="11035"/>
                    </a:lnTo>
                    <a:lnTo>
                      <a:pt x="80" y="11012"/>
                    </a:lnTo>
                    <a:lnTo>
                      <a:pt x="83" y="10988"/>
                    </a:lnTo>
                    <a:lnTo>
                      <a:pt x="86" y="10966"/>
                    </a:lnTo>
                    <a:lnTo>
                      <a:pt x="88" y="10942"/>
                    </a:lnTo>
                    <a:lnTo>
                      <a:pt x="91" y="10919"/>
                    </a:lnTo>
                    <a:lnTo>
                      <a:pt x="94" y="10896"/>
                    </a:lnTo>
                    <a:lnTo>
                      <a:pt x="97" y="10873"/>
                    </a:lnTo>
                    <a:lnTo>
                      <a:pt x="99" y="10850"/>
                    </a:lnTo>
                    <a:lnTo>
                      <a:pt x="102" y="10827"/>
                    </a:lnTo>
                    <a:lnTo>
                      <a:pt x="105" y="10804"/>
                    </a:lnTo>
                    <a:lnTo>
                      <a:pt x="107" y="10780"/>
                    </a:lnTo>
                    <a:lnTo>
                      <a:pt x="110" y="10757"/>
                    </a:lnTo>
                    <a:lnTo>
                      <a:pt x="113" y="10733"/>
                    </a:lnTo>
                    <a:lnTo>
                      <a:pt x="116" y="10711"/>
                    </a:lnTo>
                    <a:lnTo>
                      <a:pt x="118" y="10688"/>
                    </a:lnTo>
                    <a:lnTo>
                      <a:pt x="121" y="10665"/>
                    </a:lnTo>
                    <a:lnTo>
                      <a:pt x="124" y="10642"/>
                    </a:lnTo>
                    <a:lnTo>
                      <a:pt x="127" y="10619"/>
                    </a:lnTo>
                    <a:lnTo>
                      <a:pt x="129" y="10596"/>
                    </a:lnTo>
                    <a:lnTo>
                      <a:pt x="132" y="10572"/>
                    </a:lnTo>
                    <a:lnTo>
                      <a:pt x="135" y="10549"/>
                    </a:lnTo>
                    <a:lnTo>
                      <a:pt x="137" y="10525"/>
                    </a:lnTo>
                    <a:lnTo>
                      <a:pt x="140" y="10503"/>
                    </a:lnTo>
                    <a:lnTo>
                      <a:pt x="143" y="10480"/>
                    </a:lnTo>
                    <a:lnTo>
                      <a:pt x="146" y="10457"/>
                    </a:lnTo>
                    <a:lnTo>
                      <a:pt x="148" y="10433"/>
                    </a:lnTo>
                    <a:lnTo>
                      <a:pt x="152" y="10410"/>
                    </a:lnTo>
                    <a:lnTo>
                      <a:pt x="155" y="10386"/>
                    </a:lnTo>
                    <a:lnTo>
                      <a:pt x="158" y="10364"/>
                    </a:lnTo>
                    <a:lnTo>
                      <a:pt x="160" y="10341"/>
                    </a:lnTo>
                    <a:lnTo>
                      <a:pt x="163" y="10317"/>
                    </a:lnTo>
                    <a:lnTo>
                      <a:pt x="166" y="10295"/>
                    </a:lnTo>
                    <a:lnTo>
                      <a:pt x="168" y="10272"/>
                    </a:lnTo>
                    <a:lnTo>
                      <a:pt x="171" y="10248"/>
                    </a:lnTo>
                    <a:lnTo>
                      <a:pt x="174" y="10225"/>
                    </a:lnTo>
                    <a:lnTo>
                      <a:pt x="177" y="10202"/>
                    </a:lnTo>
                    <a:lnTo>
                      <a:pt x="179" y="10178"/>
                    </a:lnTo>
                    <a:lnTo>
                      <a:pt x="182" y="10155"/>
                    </a:lnTo>
                    <a:lnTo>
                      <a:pt x="185" y="10133"/>
                    </a:lnTo>
                    <a:lnTo>
                      <a:pt x="188" y="10109"/>
                    </a:lnTo>
                    <a:lnTo>
                      <a:pt x="190" y="10086"/>
                    </a:lnTo>
                    <a:lnTo>
                      <a:pt x="193" y="10063"/>
                    </a:lnTo>
                    <a:lnTo>
                      <a:pt x="196" y="10039"/>
                    </a:lnTo>
                    <a:lnTo>
                      <a:pt x="199" y="10017"/>
                    </a:lnTo>
                    <a:lnTo>
                      <a:pt x="201" y="9994"/>
                    </a:lnTo>
                    <a:lnTo>
                      <a:pt x="204" y="9970"/>
                    </a:lnTo>
                    <a:lnTo>
                      <a:pt x="207" y="9948"/>
                    </a:lnTo>
                    <a:lnTo>
                      <a:pt x="209" y="9925"/>
                    </a:lnTo>
                    <a:lnTo>
                      <a:pt x="212" y="9901"/>
                    </a:lnTo>
                    <a:lnTo>
                      <a:pt x="215" y="9878"/>
                    </a:lnTo>
                    <a:lnTo>
                      <a:pt x="218" y="9855"/>
                    </a:lnTo>
                    <a:lnTo>
                      <a:pt x="220" y="9831"/>
                    </a:lnTo>
                    <a:lnTo>
                      <a:pt x="223" y="9809"/>
                    </a:lnTo>
                    <a:lnTo>
                      <a:pt x="226" y="9786"/>
                    </a:lnTo>
                    <a:lnTo>
                      <a:pt x="228" y="9763"/>
                    </a:lnTo>
                    <a:lnTo>
                      <a:pt x="231" y="9740"/>
                    </a:lnTo>
                    <a:lnTo>
                      <a:pt x="234" y="9717"/>
                    </a:lnTo>
                    <a:lnTo>
                      <a:pt x="237" y="9693"/>
                    </a:lnTo>
                    <a:lnTo>
                      <a:pt x="239" y="9671"/>
                    </a:lnTo>
                    <a:lnTo>
                      <a:pt x="242" y="9648"/>
                    </a:lnTo>
                    <a:lnTo>
                      <a:pt x="245" y="9624"/>
                    </a:lnTo>
                    <a:lnTo>
                      <a:pt x="247" y="9601"/>
                    </a:lnTo>
                    <a:lnTo>
                      <a:pt x="250" y="9579"/>
                    </a:lnTo>
                    <a:lnTo>
                      <a:pt x="253" y="9555"/>
                    </a:lnTo>
                    <a:lnTo>
                      <a:pt x="256" y="9532"/>
                    </a:lnTo>
                    <a:lnTo>
                      <a:pt x="258" y="9509"/>
                    </a:lnTo>
                    <a:lnTo>
                      <a:pt x="261" y="9485"/>
                    </a:lnTo>
                    <a:lnTo>
                      <a:pt x="264" y="9462"/>
                    </a:lnTo>
                    <a:lnTo>
                      <a:pt x="267" y="9440"/>
                    </a:lnTo>
                    <a:lnTo>
                      <a:pt x="269" y="9418"/>
                    </a:lnTo>
                    <a:lnTo>
                      <a:pt x="272" y="9394"/>
                    </a:lnTo>
                    <a:lnTo>
                      <a:pt x="276" y="9371"/>
                    </a:lnTo>
                    <a:lnTo>
                      <a:pt x="278" y="9347"/>
                    </a:lnTo>
                    <a:lnTo>
                      <a:pt x="281" y="9324"/>
                    </a:lnTo>
                    <a:lnTo>
                      <a:pt x="284" y="9301"/>
                    </a:lnTo>
                    <a:lnTo>
                      <a:pt x="287" y="9277"/>
                    </a:lnTo>
                    <a:lnTo>
                      <a:pt x="289" y="9255"/>
                    </a:lnTo>
                    <a:lnTo>
                      <a:pt x="292" y="9232"/>
                    </a:lnTo>
                    <a:lnTo>
                      <a:pt x="295" y="9210"/>
                    </a:lnTo>
                    <a:lnTo>
                      <a:pt x="297" y="9186"/>
                    </a:lnTo>
                    <a:lnTo>
                      <a:pt x="300" y="9163"/>
                    </a:lnTo>
                    <a:lnTo>
                      <a:pt x="303" y="9139"/>
                    </a:lnTo>
                    <a:lnTo>
                      <a:pt x="306" y="9116"/>
                    </a:lnTo>
                    <a:lnTo>
                      <a:pt x="308" y="9094"/>
                    </a:lnTo>
                    <a:lnTo>
                      <a:pt x="311" y="9070"/>
                    </a:lnTo>
                    <a:lnTo>
                      <a:pt x="314" y="9047"/>
                    </a:lnTo>
                    <a:lnTo>
                      <a:pt x="316" y="9025"/>
                    </a:lnTo>
                    <a:lnTo>
                      <a:pt x="319" y="9002"/>
                    </a:lnTo>
                    <a:lnTo>
                      <a:pt x="322" y="8978"/>
                    </a:lnTo>
                    <a:lnTo>
                      <a:pt x="325" y="8955"/>
                    </a:lnTo>
                    <a:lnTo>
                      <a:pt x="327" y="8931"/>
                    </a:lnTo>
                    <a:lnTo>
                      <a:pt x="330" y="8908"/>
                    </a:lnTo>
                    <a:lnTo>
                      <a:pt x="333" y="8886"/>
                    </a:lnTo>
                    <a:lnTo>
                      <a:pt x="335" y="8862"/>
                    </a:lnTo>
                    <a:lnTo>
                      <a:pt x="338" y="8840"/>
                    </a:lnTo>
                    <a:lnTo>
                      <a:pt x="341" y="8817"/>
                    </a:lnTo>
                    <a:lnTo>
                      <a:pt x="344" y="8794"/>
                    </a:lnTo>
                    <a:lnTo>
                      <a:pt x="346" y="8770"/>
                    </a:lnTo>
                    <a:lnTo>
                      <a:pt x="349" y="8748"/>
                    </a:lnTo>
                    <a:lnTo>
                      <a:pt x="352" y="8725"/>
                    </a:lnTo>
                    <a:lnTo>
                      <a:pt x="354" y="8702"/>
                    </a:lnTo>
                    <a:lnTo>
                      <a:pt x="357" y="8679"/>
                    </a:lnTo>
                    <a:lnTo>
                      <a:pt x="360" y="8656"/>
                    </a:lnTo>
                    <a:lnTo>
                      <a:pt x="363" y="8633"/>
                    </a:lnTo>
                    <a:lnTo>
                      <a:pt x="365" y="8610"/>
                    </a:lnTo>
                    <a:lnTo>
                      <a:pt x="368" y="8587"/>
                    </a:lnTo>
                    <a:lnTo>
                      <a:pt x="371" y="8563"/>
                    </a:lnTo>
                    <a:lnTo>
                      <a:pt x="374" y="8541"/>
                    </a:lnTo>
                    <a:lnTo>
                      <a:pt x="376" y="8518"/>
                    </a:lnTo>
                    <a:lnTo>
                      <a:pt x="379" y="8494"/>
                    </a:lnTo>
                    <a:lnTo>
                      <a:pt x="382" y="8472"/>
                    </a:lnTo>
                    <a:lnTo>
                      <a:pt x="384" y="8449"/>
                    </a:lnTo>
                    <a:lnTo>
                      <a:pt x="387" y="8427"/>
                    </a:lnTo>
                    <a:lnTo>
                      <a:pt x="390" y="8405"/>
                    </a:lnTo>
                    <a:lnTo>
                      <a:pt x="392" y="8381"/>
                    </a:lnTo>
                    <a:lnTo>
                      <a:pt x="395" y="8358"/>
                    </a:lnTo>
                    <a:lnTo>
                      <a:pt x="398" y="8336"/>
                    </a:lnTo>
                    <a:lnTo>
                      <a:pt x="400" y="8312"/>
                    </a:lnTo>
                    <a:lnTo>
                      <a:pt x="404" y="8289"/>
                    </a:lnTo>
                    <a:lnTo>
                      <a:pt x="407" y="8267"/>
                    </a:lnTo>
                    <a:lnTo>
                      <a:pt x="410" y="8243"/>
                    </a:lnTo>
                    <a:lnTo>
                      <a:pt x="412" y="8220"/>
                    </a:lnTo>
                    <a:lnTo>
                      <a:pt x="415" y="8198"/>
                    </a:lnTo>
                    <a:lnTo>
                      <a:pt x="418" y="8174"/>
                    </a:lnTo>
                    <a:lnTo>
                      <a:pt x="420" y="8151"/>
                    </a:lnTo>
                    <a:lnTo>
                      <a:pt x="423" y="8129"/>
                    </a:lnTo>
                    <a:lnTo>
                      <a:pt x="426" y="8105"/>
                    </a:lnTo>
                    <a:lnTo>
                      <a:pt x="429" y="8082"/>
                    </a:lnTo>
                    <a:lnTo>
                      <a:pt x="431" y="8059"/>
                    </a:lnTo>
                    <a:lnTo>
                      <a:pt x="434" y="8036"/>
                    </a:lnTo>
                    <a:lnTo>
                      <a:pt x="437" y="8013"/>
                    </a:lnTo>
                    <a:lnTo>
                      <a:pt x="439" y="7990"/>
                    </a:lnTo>
                    <a:lnTo>
                      <a:pt x="442" y="7966"/>
                    </a:lnTo>
                    <a:lnTo>
                      <a:pt x="445" y="7944"/>
                    </a:lnTo>
                    <a:lnTo>
                      <a:pt x="447" y="7921"/>
                    </a:lnTo>
                    <a:lnTo>
                      <a:pt x="450" y="7899"/>
                    </a:lnTo>
                    <a:lnTo>
                      <a:pt x="453" y="7875"/>
                    </a:lnTo>
                    <a:lnTo>
                      <a:pt x="456" y="7852"/>
                    </a:lnTo>
                    <a:lnTo>
                      <a:pt x="458" y="7828"/>
                    </a:lnTo>
                    <a:lnTo>
                      <a:pt x="461" y="7805"/>
                    </a:lnTo>
                    <a:lnTo>
                      <a:pt x="464" y="7783"/>
                    </a:lnTo>
                    <a:lnTo>
                      <a:pt x="466" y="7760"/>
                    </a:lnTo>
                    <a:lnTo>
                      <a:pt x="469" y="7737"/>
                    </a:lnTo>
                    <a:lnTo>
                      <a:pt x="472" y="7714"/>
                    </a:lnTo>
                    <a:lnTo>
                      <a:pt x="475" y="7691"/>
                    </a:lnTo>
                    <a:lnTo>
                      <a:pt x="477" y="7667"/>
                    </a:lnTo>
                    <a:lnTo>
                      <a:pt x="480" y="7645"/>
                    </a:lnTo>
                    <a:lnTo>
                      <a:pt x="483" y="7622"/>
                    </a:lnTo>
                    <a:lnTo>
                      <a:pt x="485" y="7599"/>
                    </a:lnTo>
                    <a:lnTo>
                      <a:pt x="488" y="7576"/>
                    </a:lnTo>
                    <a:lnTo>
                      <a:pt x="491" y="7554"/>
                    </a:lnTo>
                    <a:lnTo>
                      <a:pt x="493" y="7532"/>
                    </a:lnTo>
                    <a:lnTo>
                      <a:pt x="496" y="7508"/>
                    </a:lnTo>
                    <a:lnTo>
                      <a:pt x="499" y="7485"/>
                    </a:lnTo>
                    <a:lnTo>
                      <a:pt x="501" y="7463"/>
                    </a:lnTo>
                    <a:lnTo>
                      <a:pt x="504" y="7439"/>
                    </a:lnTo>
                    <a:lnTo>
                      <a:pt x="507" y="7416"/>
                    </a:lnTo>
                    <a:lnTo>
                      <a:pt x="510" y="7394"/>
                    </a:lnTo>
                    <a:lnTo>
                      <a:pt x="512" y="7371"/>
                    </a:lnTo>
                    <a:lnTo>
                      <a:pt x="515" y="7348"/>
                    </a:lnTo>
                    <a:lnTo>
                      <a:pt x="518" y="7325"/>
                    </a:lnTo>
                    <a:lnTo>
                      <a:pt x="520" y="7303"/>
                    </a:lnTo>
                    <a:lnTo>
                      <a:pt x="523" y="7279"/>
                    </a:lnTo>
                    <a:lnTo>
                      <a:pt x="526" y="7256"/>
                    </a:lnTo>
                    <a:lnTo>
                      <a:pt x="530" y="7234"/>
                    </a:lnTo>
                    <a:lnTo>
                      <a:pt x="532" y="7211"/>
                    </a:lnTo>
                    <a:lnTo>
                      <a:pt x="535" y="7188"/>
                    </a:lnTo>
                    <a:lnTo>
                      <a:pt x="538" y="7165"/>
                    </a:lnTo>
                    <a:lnTo>
                      <a:pt x="540" y="7142"/>
                    </a:lnTo>
                    <a:lnTo>
                      <a:pt x="543" y="7118"/>
                    </a:lnTo>
                    <a:lnTo>
                      <a:pt x="546" y="7096"/>
                    </a:lnTo>
                    <a:lnTo>
                      <a:pt x="548" y="7073"/>
                    </a:lnTo>
                    <a:lnTo>
                      <a:pt x="551" y="7050"/>
                    </a:lnTo>
                    <a:lnTo>
                      <a:pt x="554" y="7027"/>
                    </a:lnTo>
                    <a:lnTo>
                      <a:pt x="557" y="7005"/>
                    </a:lnTo>
                    <a:lnTo>
                      <a:pt x="559" y="6982"/>
                    </a:lnTo>
                    <a:lnTo>
                      <a:pt x="562" y="6958"/>
                    </a:lnTo>
                    <a:lnTo>
                      <a:pt x="565" y="6936"/>
                    </a:lnTo>
                    <a:lnTo>
                      <a:pt x="567" y="6913"/>
                    </a:lnTo>
                    <a:lnTo>
                      <a:pt x="570" y="6889"/>
                    </a:lnTo>
                    <a:lnTo>
                      <a:pt x="573" y="6866"/>
                    </a:lnTo>
                    <a:lnTo>
                      <a:pt x="575" y="6844"/>
                    </a:lnTo>
                    <a:lnTo>
                      <a:pt x="578" y="6822"/>
                    </a:lnTo>
                    <a:lnTo>
                      <a:pt x="581" y="6798"/>
                    </a:lnTo>
                    <a:lnTo>
                      <a:pt x="583" y="6776"/>
                    </a:lnTo>
                    <a:lnTo>
                      <a:pt x="586" y="6753"/>
                    </a:lnTo>
                    <a:lnTo>
                      <a:pt x="589" y="6730"/>
                    </a:lnTo>
                    <a:lnTo>
                      <a:pt x="592" y="6707"/>
                    </a:lnTo>
                    <a:lnTo>
                      <a:pt x="594" y="6685"/>
                    </a:lnTo>
                    <a:lnTo>
                      <a:pt x="597" y="6663"/>
                    </a:lnTo>
                    <a:lnTo>
                      <a:pt x="600" y="6639"/>
                    </a:lnTo>
                    <a:lnTo>
                      <a:pt x="602" y="6617"/>
                    </a:lnTo>
                    <a:lnTo>
                      <a:pt x="605" y="6594"/>
                    </a:lnTo>
                    <a:lnTo>
                      <a:pt x="608" y="6570"/>
                    </a:lnTo>
                    <a:lnTo>
                      <a:pt x="610" y="6548"/>
                    </a:lnTo>
                    <a:lnTo>
                      <a:pt x="613" y="6525"/>
                    </a:lnTo>
                    <a:lnTo>
                      <a:pt x="616" y="6503"/>
                    </a:lnTo>
                    <a:lnTo>
                      <a:pt x="618" y="6479"/>
                    </a:lnTo>
                    <a:lnTo>
                      <a:pt x="621" y="6457"/>
                    </a:lnTo>
                    <a:lnTo>
                      <a:pt x="624" y="6434"/>
                    </a:lnTo>
                    <a:lnTo>
                      <a:pt x="627" y="6412"/>
                    </a:lnTo>
                    <a:lnTo>
                      <a:pt x="629" y="6388"/>
                    </a:lnTo>
                    <a:lnTo>
                      <a:pt x="632" y="6365"/>
                    </a:lnTo>
                    <a:lnTo>
                      <a:pt x="635" y="6343"/>
                    </a:lnTo>
                    <a:lnTo>
                      <a:pt x="637" y="6319"/>
                    </a:lnTo>
                    <a:lnTo>
                      <a:pt x="640" y="6297"/>
                    </a:lnTo>
                    <a:lnTo>
                      <a:pt x="643" y="6274"/>
                    </a:lnTo>
                    <a:lnTo>
                      <a:pt x="645" y="6252"/>
                    </a:lnTo>
                    <a:lnTo>
                      <a:pt x="648" y="6228"/>
                    </a:lnTo>
                    <a:lnTo>
                      <a:pt x="651" y="6206"/>
                    </a:lnTo>
                    <a:lnTo>
                      <a:pt x="654" y="6183"/>
                    </a:lnTo>
                    <a:lnTo>
                      <a:pt x="657" y="6159"/>
                    </a:lnTo>
                    <a:lnTo>
                      <a:pt x="660" y="6137"/>
                    </a:lnTo>
                    <a:lnTo>
                      <a:pt x="662" y="6115"/>
                    </a:lnTo>
                    <a:lnTo>
                      <a:pt x="665" y="6092"/>
                    </a:lnTo>
                    <a:lnTo>
                      <a:pt x="668" y="6069"/>
                    </a:lnTo>
                    <a:lnTo>
                      <a:pt x="670" y="6046"/>
                    </a:lnTo>
                    <a:lnTo>
                      <a:pt x="673" y="6023"/>
                    </a:lnTo>
                    <a:lnTo>
                      <a:pt x="676" y="6000"/>
                    </a:lnTo>
                    <a:lnTo>
                      <a:pt x="679" y="5977"/>
                    </a:lnTo>
                    <a:lnTo>
                      <a:pt x="681" y="5955"/>
                    </a:lnTo>
                    <a:lnTo>
                      <a:pt x="684" y="5932"/>
                    </a:lnTo>
                    <a:lnTo>
                      <a:pt x="687" y="5909"/>
                    </a:lnTo>
                    <a:lnTo>
                      <a:pt x="689" y="5886"/>
                    </a:lnTo>
                    <a:lnTo>
                      <a:pt x="692" y="5864"/>
                    </a:lnTo>
                    <a:lnTo>
                      <a:pt x="695" y="5840"/>
                    </a:lnTo>
                    <a:lnTo>
                      <a:pt x="697" y="5817"/>
                    </a:lnTo>
                    <a:lnTo>
                      <a:pt x="700" y="5795"/>
                    </a:lnTo>
                    <a:lnTo>
                      <a:pt x="703" y="5772"/>
                    </a:lnTo>
                    <a:lnTo>
                      <a:pt x="705" y="5749"/>
                    </a:lnTo>
                    <a:lnTo>
                      <a:pt x="708" y="5727"/>
                    </a:lnTo>
                    <a:lnTo>
                      <a:pt x="711" y="5705"/>
                    </a:lnTo>
                    <a:lnTo>
                      <a:pt x="713" y="5682"/>
                    </a:lnTo>
                    <a:lnTo>
                      <a:pt x="716" y="5660"/>
                    </a:lnTo>
                    <a:lnTo>
                      <a:pt x="719" y="5636"/>
                    </a:lnTo>
                    <a:lnTo>
                      <a:pt x="722" y="5613"/>
                    </a:lnTo>
                    <a:lnTo>
                      <a:pt x="724" y="5591"/>
                    </a:lnTo>
                    <a:lnTo>
                      <a:pt x="727" y="5568"/>
                    </a:lnTo>
                    <a:lnTo>
                      <a:pt x="730" y="5545"/>
                    </a:lnTo>
                    <a:lnTo>
                      <a:pt x="732" y="5523"/>
                    </a:lnTo>
                    <a:lnTo>
                      <a:pt x="735" y="5499"/>
                    </a:lnTo>
                    <a:lnTo>
                      <a:pt x="738" y="5476"/>
                    </a:lnTo>
                    <a:lnTo>
                      <a:pt x="740" y="5454"/>
                    </a:lnTo>
                    <a:lnTo>
                      <a:pt x="743" y="5431"/>
                    </a:lnTo>
                    <a:lnTo>
                      <a:pt x="746" y="5408"/>
                    </a:lnTo>
                    <a:lnTo>
                      <a:pt x="748" y="5386"/>
                    </a:lnTo>
                    <a:lnTo>
                      <a:pt x="751" y="5363"/>
                    </a:lnTo>
                    <a:lnTo>
                      <a:pt x="754" y="5341"/>
                    </a:lnTo>
                    <a:lnTo>
                      <a:pt x="756" y="5319"/>
                    </a:lnTo>
                    <a:lnTo>
                      <a:pt x="759" y="5295"/>
                    </a:lnTo>
                    <a:lnTo>
                      <a:pt x="762" y="5273"/>
                    </a:lnTo>
                    <a:lnTo>
                      <a:pt x="764" y="5250"/>
                    </a:lnTo>
                    <a:lnTo>
                      <a:pt x="767" y="5227"/>
                    </a:lnTo>
                    <a:lnTo>
                      <a:pt x="770" y="5204"/>
                    </a:lnTo>
                    <a:lnTo>
                      <a:pt x="772" y="5182"/>
                    </a:lnTo>
                    <a:lnTo>
                      <a:pt x="775" y="5159"/>
                    </a:lnTo>
                    <a:lnTo>
                      <a:pt x="778" y="5136"/>
                    </a:lnTo>
                    <a:lnTo>
                      <a:pt x="781" y="5113"/>
                    </a:lnTo>
                    <a:lnTo>
                      <a:pt x="784" y="5090"/>
                    </a:lnTo>
                    <a:lnTo>
                      <a:pt x="787" y="5067"/>
                    </a:lnTo>
                    <a:lnTo>
                      <a:pt x="790" y="5044"/>
                    </a:lnTo>
                    <a:lnTo>
                      <a:pt x="792" y="5022"/>
                    </a:lnTo>
                    <a:lnTo>
                      <a:pt x="795" y="4999"/>
                    </a:lnTo>
                    <a:lnTo>
                      <a:pt x="798" y="4976"/>
                    </a:lnTo>
                    <a:lnTo>
                      <a:pt x="800" y="4953"/>
                    </a:lnTo>
                    <a:lnTo>
                      <a:pt x="803" y="4931"/>
                    </a:lnTo>
                    <a:lnTo>
                      <a:pt x="806" y="4909"/>
                    </a:lnTo>
                    <a:lnTo>
                      <a:pt x="808" y="4885"/>
                    </a:lnTo>
                    <a:lnTo>
                      <a:pt x="811" y="4863"/>
                    </a:lnTo>
                    <a:lnTo>
                      <a:pt x="814" y="4841"/>
                    </a:lnTo>
                    <a:lnTo>
                      <a:pt x="816" y="4818"/>
                    </a:lnTo>
                    <a:lnTo>
                      <a:pt x="819" y="4795"/>
                    </a:lnTo>
                    <a:lnTo>
                      <a:pt x="822" y="4773"/>
                    </a:lnTo>
                    <a:lnTo>
                      <a:pt x="824" y="4750"/>
                    </a:lnTo>
                    <a:lnTo>
                      <a:pt x="827" y="4728"/>
                    </a:lnTo>
                    <a:lnTo>
                      <a:pt x="830" y="4704"/>
                    </a:lnTo>
                    <a:lnTo>
                      <a:pt x="832" y="4682"/>
                    </a:lnTo>
                    <a:lnTo>
                      <a:pt x="835" y="4659"/>
                    </a:lnTo>
                    <a:lnTo>
                      <a:pt x="838" y="4637"/>
                    </a:lnTo>
                    <a:lnTo>
                      <a:pt x="840" y="4614"/>
                    </a:lnTo>
                    <a:lnTo>
                      <a:pt x="843" y="4591"/>
                    </a:lnTo>
                    <a:lnTo>
                      <a:pt x="846" y="4569"/>
                    </a:lnTo>
                    <a:lnTo>
                      <a:pt x="848" y="4546"/>
                    </a:lnTo>
                    <a:lnTo>
                      <a:pt x="851" y="4523"/>
                    </a:lnTo>
                    <a:lnTo>
                      <a:pt x="854" y="4500"/>
                    </a:lnTo>
                    <a:lnTo>
                      <a:pt x="856" y="4478"/>
                    </a:lnTo>
                    <a:lnTo>
                      <a:pt x="859" y="4456"/>
                    </a:lnTo>
                    <a:lnTo>
                      <a:pt x="862" y="4432"/>
                    </a:lnTo>
                    <a:lnTo>
                      <a:pt x="864" y="4409"/>
                    </a:lnTo>
                    <a:lnTo>
                      <a:pt x="867" y="4387"/>
                    </a:lnTo>
                    <a:lnTo>
                      <a:pt x="870" y="4363"/>
                    </a:lnTo>
                    <a:lnTo>
                      <a:pt x="873" y="4340"/>
                    </a:lnTo>
                    <a:lnTo>
                      <a:pt x="875" y="4318"/>
                    </a:lnTo>
                    <a:lnTo>
                      <a:pt x="878" y="4296"/>
                    </a:lnTo>
                    <a:lnTo>
                      <a:pt x="881" y="4272"/>
                    </a:lnTo>
                    <a:lnTo>
                      <a:pt x="883" y="4250"/>
                    </a:lnTo>
                    <a:lnTo>
                      <a:pt x="886" y="4227"/>
                    </a:lnTo>
                    <a:lnTo>
                      <a:pt x="889" y="4203"/>
                    </a:lnTo>
                    <a:lnTo>
                      <a:pt x="891" y="4181"/>
                    </a:lnTo>
                    <a:lnTo>
                      <a:pt x="894" y="4158"/>
                    </a:lnTo>
                    <a:lnTo>
                      <a:pt x="897" y="4136"/>
                    </a:lnTo>
                    <a:lnTo>
                      <a:pt x="899" y="4113"/>
                    </a:lnTo>
                    <a:lnTo>
                      <a:pt x="902" y="4091"/>
                    </a:lnTo>
                    <a:lnTo>
                      <a:pt x="906" y="4069"/>
                    </a:lnTo>
                    <a:lnTo>
                      <a:pt x="908" y="4046"/>
                    </a:lnTo>
                    <a:lnTo>
                      <a:pt x="911" y="4024"/>
                    </a:lnTo>
                    <a:lnTo>
                      <a:pt x="914" y="4001"/>
                    </a:lnTo>
                    <a:lnTo>
                      <a:pt x="916" y="3978"/>
                    </a:lnTo>
                    <a:lnTo>
                      <a:pt x="919" y="3956"/>
                    </a:lnTo>
                    <a:lnTo>
                      <a:pt x="922" y="3933"/>
                    </a:lnTo>
                    <a:lnTo>
                      <a:pt x="924" y="3910"/>
                    </a:lnTo>
                    <a:lnTo>
                      <a:pt x="927" y="3888"/>
                    </a:lnTo>
                    <a:lnTo>
                      <a:pt x="930" y="3865"/>
                    </a:lnTo>
                    <a:lnTo>
                      <a:pt x="932" y="3843"/>
                    </a:lnTo>
                    <a:lnTo>
                      <a:pt x="935" y="3819"/>
                    </a:lnTo>
                    <a:lnTo>
                      <a:pt x="938" y="3797"/>
                    </a:lnTo>
                    <a:lnTo>
                      <a:pt x="940" y="3774"/>
                    </a:lnTo>
                    <a:lnTo>
                      <a:pt x="943" y="3752"/>
                    </a:lnTo>
                    <a:lnTo>
                      <a:pt x="946" y="3729"/>
                    </a:lnTo>
                    <a:lnTo>
                      <a:pt x="948" y="3706"/>
                    </a:lnTo>
                    <a:lnTo>
                      <a:pt x="951" y="3684"/>
                    </a:lnTo>
                    <a:lnTo>
                      <a:pt x="954" y="3662"/>
                    </a:lnTo>
                    <a:lnTo>
                      <a:pt x="956" y="3638"/>
                    </a:lnTo>
                    <a:lnTo>
                      <a:pt x="959" y="3615"/>
                    </a:lnTo>
                    <a:lnTo>
                      <a:pt x="962" y="3593"/>
                    </a:lnTo>
                    <a:lnTo>
                      <a:pt x="964" y="3571"/>
                    </a:lnTo>
                    <a:lnTo>
                      <a:pt x="967" y="3547"/>
                    </a:lnTo>
                    <a:lnTo>
                      <a:pt x="970" y="3525"/>
                    </a:lnTo>
                    <a:lnTo>
                      <a:pt x="972" y="3503"/>
                    </a:lnTo>
                    <a:lnTo>
                      <a:pt x="975" y="3480"/>
                    </a:lnTo>
                    <a:lnTo>
                      <a:pt x="978" y="3457"/>
                    </a:lnTo>
                    <a:lnTo>
                      <a:pt x="980" y="3434"/>
                    </a:lnTo>
                    <a:lnTo>
                      <a:pt x="983" y="3412"/>
                    </a:lnTo>
                    <a:lnTo>
                      <a:pt x="986" y="3388"/>
                    </a:lnTo>
                    <a:lnTo>
                      <a:pt x="988" y="3366"/>
                    </a:lnTo>
                    <a:lnTo>
                      <a:pt x="991" y="3343"/>
                    </a:lnTo>
                    <a:lnTo>
                      <a:pt x="994" y="3321"/>
                    </a:lnTo>
                    <a:lnTo>
                      <a:pt x="996" y="3299"/>
                    </a:lnTo>
                    <a:lnTo>
                      <a:pt x="999" y="3275"/>
                    </a:lnTo>
                    <a:lnTo>
                      <a:pt x="1002" y="3253"/>
                    </a:lnTo>
                    <a:lnTo>
                      <a:pt x="1004" y="3231"/>
                    </a:lnTo>
                    <a:lnTo>
                      <a:pt x="1007" y="3207"/>
                    </a:lnTo>
                    <a:lnTo>
                      <a:pt x="1010" y="3185"/>
                    </a:lnTo>
                    <a:lnTo>
                      <a:pt x="1012" y="3162"/>
                    </a:lnTo>
                    <a:lnTo>
                      <a:pt x="1015" y="3140"/>
                    </a:lnTo>
                    <a:lnTo>
                      <a:pt x="1018" y="3116"/>
                    </a:lnTo>
                    <a:lnTo>
                      <a:pt x="1020" y="3094"/>
                    </a:lnTo>
                    <a:lnTo>
                      <a:pt x="1023" y="3072"/>
                    </a:lnTo>
                    <a:lnTo>
                      <a:pt x="1026" y="3049"/>
                    </a:lnTo>
                    <a:lnTo>
                      <a:pt x="1028" y="3027"/>
                    </a:lnTo>
                    <a:lnTo>
                      <a:pt x="1032" y="3003"/>
                    </a:lnTo>
                    <a:lnTo>
                      <a:pt x="1035" y="2981"/>
                    </a:lnTo>
                    <a:lnTo>
                      <a:pt x="1037" y="2958"/>
                    </a:lnTo>
                    <a:lnTo>
                      <a:pt x="1040" y="2935"/>
                    </a:lnTo>
                    <a:lnTo>
                      <a:pt x="1043" y="2913"/>
                    </a:lnTo>
                    <a:lnTo>
                      <a:pt x="1046" y="2890"/>
                    </a:lnTo>
                    <a:lnTo>
                      <a:pt x="1048" y="2868"/>
                    </a:lnTo>
                    <a:lnTo>
                      <a:pt x="1051" y="2846"/>
                    </a:lnTo>
                    <a:lnTo>
                      <a:pt x="1053" y="2822"/>
                    </a:lnTo>
                    <a:lnTo>
                      <a:pt x="1056" y="2800"/>
                    </a:lnTo>
                    <a:lnTo>
                      <a:pt x="1059" y="2778"/>
                    </a:lnTo>
                    <a:lnTo>
                      <a:pt x="1061" y="2754"/>
                    </a:lnTo>
                    <a:lnTo>
                      <a:pt x="1064" y="2732"/>
                    </a:lnTo>
                    <a:lnTo>
                      <a:pt x="1067" y="2709"/>
                    </a:lnTo>
                    <a:lnTo>
                      <a:pt x="1070" y="2687"/>
                    </a:lnTo>
                    <a:lnTo>
                      <a:pt x="1072" y="2663"/>
                    </a:lnTo>
                    <a:lnTo>
                      <a:pt x="1075" y="2641"/>
                    </a:lnTo>
                    <a:lnTo>
                      <a:pt x="1077" y="2619"/>
                    </a:lnTo>
                    <a:lnTo>
                      <a:pt x="1080" y="2596"/>
                    </a:lnTo>
                    <a:lnTo>
                      <a:pt x="1083" y="2574"/>
                    </a:lnTo>
                    <a:lnTo>
                      <a:pt x="1086" y="2550"/>
                    </a:lnTo>
                    <a:lnTo>
                      <a:pt x="1088" y="2528"/>
                    </a:lnTo>
                    <a:lnTo>
                      <a:pt x="1091" y="2505"/>
                    </a:lnTo>
                    <a:lnTo>
                      <a:pt x="1093" y="2482"/>
                    </a:lnTo>
                    <a:lnTo>
                      <a:pt x="1096" y="2460"/>
                    </a:lnTo>
                    <a:lnTo>
                      <a:pt x="1099" y="2437"/>
                    </a:lnTo>
                    <a:lnTo>
                      <a:pt x="1101" y="2415"/>
                    </a:lnTo>
                    <a:lnTo>
                      <a:pt x="1104" y="2393"/>
                    </a:lnTo>
                    <a:lnTo>
                      <a:pt x="1107" y="2369"/>
                    </a:lnTo>
                    <a:lnTo>
                      <a:pt x="1110" y="2346"/>
                    </a:lnTo>
                    <a:lnTo>
                      <a:pt x="1112" y="2325"/>
                    </a:lnTo>
                    <a:lnTo>
                      <a:pt x="1115" y="2301"/>
                    </a:lnTo>
                    <a:lnTo>
                      <a:pt x="1117" y="2279"/>
                    </a:lnTo>
                    <a:lnTo>
                      <a:pt x="1120" y="2257"/>
                    </a:lnTo>
                    <a:lnTo>
                      <a:pt x="1123" y="2235"/>
                    </a:lnTo>
                    <a:lnTo>
                      <a:pt x="1125" y="2212"/>
                    </a:lnTo>
                    <a:lnTo>
                      <a:pt x="1128" y="2189"/>
                    </a:lnTo>
                    <a:lnTo>
                      <a:pt x="1131" y="2166"/>
                    </a:lnTo>
                    <a:lnTo>
                      <a:pt x="1133" y="2144"/>
                    </a:lnTo>
                    <a:lnTo>
                      <a:pt x="1136" y="2122"/>
                    </a:lnTo>
                    <a:lnTo>
                      <a:pt x="1139" y="2100"/>
                    </a:lnTo>
                    <a:lnTo>
                      <a:pt x="1141" y="2076"/>
                    </a:lnTo>
                    <a:lnTo>
                      <a:pt x="1144" y="2054"/>
                    </a:lnTo>
                    <a:lnTo>
                      <a:pt x="1147" y="2032"/>
                    </a:lnTo>
                    <a:lnTo>
                      <a:pt x="1149" y="2009"/>
                    </a:lnTo>
                    <a:lnTo>
                      <a:pt x="1152" y="1986"/>
                    </a:lnTo>
                    <a:lnTo>
                      <a:pt x="1155" y="1964"/>
                    </a:lnTo>
                    <a:lnTo>
                      <a:pt x="1158" y="1941"/>
                    </a:lnTo>
                    <a:lnTo>
                      <a:pt x="1161" y="1919"/>
                    </a:lnTo>
                    <a:lnTo>
                      <a:pt x="1164" y="1897"/>
                    </a:lnTo>
                    <a:lnTo>
                      <a:pt x="1166" y="1873"/>
                    </a:lnTo>
                    <a:lnTo>
                      <a:pt x="1169" y="1851"/>
                    </a:lnTo>
                    <a:lnTo>
                      <a:pt x="1172" y="1828"/>
                    </a:lnTo>
                    <a:lnTo>
                      <a:pt x="1174" y="1805"/>
                    </a:lnTo>
                    <a:lnTo>
                      <a:pt x="1177" y="1783"/>
                    </a:lnTo>
                    <a:lnTo>
                      <a:pt x="1180" y="1761"/>
                    </a:lnTo>
                    <a:lnTo>
                      <a:pt x="1182" y="1738"/>
                    </a:lnTo>
                    <a:lnTo>
                      <a:pt x="1185" y="1716"/>
                    </a:lnTo>
                    <a:lnTo>
                      <a:pt x="1188" y="1693"/>
                    </a:lnTo>
                    <a:lnTo>
                      <a:pt x="1190" y="1670"/>
                    </a:lnTo>
                    <a:lnTo>
                      <a:pt x="1193" y="1648"/>
                    </a:lnTo>
                    <a:lnTo>
                      <a:pt x="1196" y="1624"/>
                    </a:lnTo>
                    <a:lnTo>
                      <a:pt x="1198" y="1602"/>
                    </a:lnTo>
                    <a:lnTo>
                      <a:pt x="1201" y="1579"/>
                    </a:lnTo>
                    <a:lnTo>
                      <a:pt x="1204" y="1557"/>
                    </a:lnTo>
                    <a:lnTo>
                      <a:pt x="1206" y="1533"/>
                    </a:lnTo>
                    <a:lnTo>
                      <a:pt x="1209" y="1511"/>
                    </a:lnTo>
                    <a:lnTo>
                      <a:pt x="1212" y="1488"/>
                    </a:lnTo>
                    <a:lnTo>
                      <a:pt x="1214" y="1466"/>
                    </a:lnTo>
                    <a:lnTo>
                      <a:pt x="1217" y="1442"/>
                    </a:lnTo>
                    <a:lnTo>
                      <a:pt x="1220" y="1420"/>
                    </a:lnTo>
                    <a:lnTo>
                      <a:pt x="1222" y="1398"/>
                    </a:lnTo>
                    <a:lnTo>
                      <a:pt x="1225" y="1376"/>
                    </a:lnTo>
                    <a:lnTo>
                      <a:pt x="1228" y="1354"/>
                    </a:lnTo>
                    <a:lnTo>
                      <a:pt x="1230" y="1330"/>
                    </a:lnTo>
                    <a:lnTo>
                      <a:pt x="1233" y="1308"/>
                    </a:lnTo>
                    <a:lnTo>
                      <a:pt x="1236" y="1286"/>
                    </a:lnTo>
                    <a:lnTo>
                      <a:pt x="1238" y="1263"/>
                    </a:lnTo>
                    <a:lnTo>
                      <a:pt x="1241" y="1240"/>
                    </a:lnTo>
                    <a:lnTo>
                      <a:pt x="1244" y="1218"/>
                    </a:lnTo>
                    <a:lnTo>
                      <a:pt x="1246" y="1196"/>
                    </a:lnTo>
                    <a:lnTo>
                      <a:pt x="1249" y="1173"/>
                    </a:lnTo>
                    <a:lnTo>
                      <a:pt x="1252" y="1151"/>
                    </a:lnTo>
                    <a:lnTo>
                      <a:pt x="1254" y="1127"/>
                    </a:lnTo>
                    <a:lnTo>
                      <a:pt x="1257" y="1105"/>
                    </a:lnTo>
                    <a:lnTo>
                      <a:pt x="1260" y="1083"/>
                    </a:lnTo>
                    <a:lnTo>
                      <a:pt x="1262" y="1061"/>
                    </a:lnTo>
                    <a:lnTo>
                      <a:pt x="1265" y="1039"/>
                    </a:lnTo>
                    <a:lnTo>
                      <a:pt x="1267" y="1016"/>
                    </a:lnTo>
                    <a:lnTo>
                      <a:pt x="1270" y="993"/>
                    </a:lnTo>
                    <a:lnTo>
                      <a:pt x="1273" y="971"/>
                    </a:lnTo>
                    <a:lnTo>
                      <a:pt x="1275" y="949"/>
                    </a:lnTo>
                    <a:lnTo>
                      <a:pt x="1278" y="925"/>
                    </a:lnTo>
                    <a:lnTo>
                      <a:pt x="1281" y="902"/>
                    </a:lnTo>
                    <a:lnTo>
                      <a:pt x="1284" y="880"/>
                    </a:lnTo>
                    <a:lnTo>
                      <a:pt x="1287" y="858"/>
                    </a:lnTo>
                    <a:lnTo>
                      <a:pt x="1290" y="835"/>
                    </a:lnTo>
                    <a:lnTo>
                      <a:pt x="1292" y="812"/>
                    </a:lnTo>
                    <a:lnTo>
                      <a:pt x="1295" y="790"/>
                    </a:lnTo>
                    <a:lnTo>
                      <a:pt x="1298" y="767"/>
                    </a:lnTo>
                    <a:lnTo>
                      <a:pt x="1300" y="744"/>
                    </a:lnTo>
                    <a:lnTo>
                      <a:pt x="1303" y="721"/>
                    </a:lnTo>
                    <a:lnTo>
                      <a:pt x="1306" y="699"/>
                    </a:lnTo>
                    <a:lnTo>
                      <a:pt x="1308" y="677"/>
                    </a:lnTo>
                    <a:lnTo>
                      <a:pt x="1311" y="654"/>
                    </a:lnTo>
                    <a:lnTo>
                      <a:pt x="1314" y="632"/>
                    </a:lnTo>
                    <a:lnTo>
                      <a:pt x="1316" y="610"/>
                    </a:lnTo>
                    <a:lnTo>
                      <a:pt x="1319" y="587"/>
                    </a:lnTo>
                    <a:lnTo>
                      <a:pt x="1322" y="565"/>
                    </a:lnTo>
                    <a:lnTo>
                      <a:pt x="1324" y="541"/>
                    </a:lnTo>
                    <a:lnTo>
                      <a:pt x="1327" y="519"/>
                    </a:lnTo>
                    <a:lnTo>
                      <a:pt x="1330" y="496"/>
                    </a:lnTo>
                    <a:lnTo>
                      <a:pt x="1332" y="474"/>
                    </a:lnTo>
                    <a:lnTo>
                      <a:pt x="1335" y="451"/>
                    </a:lnTo>
                    <a:lnTo>
                      <a:pt x="1338" y="429"/>
                    </a:lnTo>
                    <a:lnTo>
                      <a:pt x="1340" y="406"/>
                    </a:lnTo>
                    <a:lnTo>
                      <a:pt x="1343" y="384"/>
                    </a:lnTo>
                    <a:lnTo>
                      <a:pt x="1346" y="362"/>
                    </a:lnTo>
                    <a:lnTo>
                      <a:pt x="1348" y="338"/>
                    </a:lnTo>
                    <a:lnTo>
                      <a:pt x="1351" y="316"/>
                    </a:lnTo>
                    <a:lnTo>
                      <a:pt x="1354" y="294"/>
                    </a:lnTo>
                    <a:lnTo>
                      <a:pt x="1356" y="272"/>
                    </a:lnTo>
                    <a:lnTo>
                      <a:pt x="1359" y="248"/>
                    </a:lnTo>
                    <a:lnTo>
                      <a:pt x="1362" y="226"/>
                    </a:lnTo>
                    <a:lnTo>
                      <a:pt x="1364" y="204"/>
                    </a:lnTo>
                    <a:lnTo>
                      <a:pt x="1367" y="181"/>
                    </a:lnTo>
                    <a:lnTo>
                      <a:pt x="1370" y="158"/>
                    </a:lnTo>
                    <a:lnTo>
                      <a:pt x="1372" y="136"/>
                    </a:lnTo>
                    <a:lnTo>
                      <a:pt x="1375" y="114"/>
                    </a:lnTo>
                    <a:lnTo>
                      <a:pt x="1378" y="91"/>
                    </a:lnTo>
                    <a:lnTo>
                      <a:pt x="1380" y="69"/>
                    </a:lnTo>
                    <a:lnTo>
                      <a:pt x="1383" y="45"/>
                    </a:lnTo>
                    <a:lnTo>
                      <a:pt x="1386" y="23"/>
                    </a:lnTo>
                    <a:lnTo>
                      <a:pt x="138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101440" y="5545080"/>
                <a:ext cx="184680" cy="169920"/>
              </a:xfrm>
              <a:custGeom>
                <a:avLst/>
                <a:gdLst/>
                <a:ahLst/>
                <a:rect l="l" t="t" r="r" b="b"/>
                <a:pathLst>
                  <a:path w="495" h="596">
                    <a:moveTo>
                      <a:pt x="293" y="116"/>
                    </a:moveTo>
                    <a:lnTo>
                      <a:pt x="318" y="176"/>
                    </a:lnTo>
                    <a:lnTo>
                      <a:pt x="343" y="237"/>
                    </a:lnTo>
                    <a:lnTo>
                      <a:pt x="368" y="297"/>
                    </a:lnTo>
                    <a:lnTo>
                      <a:pt x="393" y="357"/>
                    </a:lnTo>
                    <a:lnTo>
                      <a:pt x="418" y="416"/>
                    </a:lnTo>
                    <a:lnTo>
                      <a:pt x="444" y="477"/>
                    </a:lnTo>
                    <a:lnTo>
                      <a:pt x="470" y="537"/>
                    </a:lnTo>
                    <a:lnTo>
                      <a:pt x="495" y="596"/>
                    </a:lnTo>
                    <a:lnTo>
                      <a:pt x="458" y="581"/>
                    </a:lnTo>
                    <a:lnTo>
                      <a:pt x="420" y="567"/>
                    </a:lnTo>
                    <a:lnTo>
                      <a:pt x="383" y="552"/>
                    </a:lnTo>
                    <a:lnTo>
                      <a:pt x="347" y="537"/>
                    </a:lnTo>
                    <a:lnTo>
                      <a:pt x="309" y="522"/>
                    </a:lnTo>
                    <a:lnTo>
                      <a:pt x="273" y="507"/>
                    </a:lnTo>
                    <a:lnTo>
                      <a:pt x="236" y="493"/>
                    </a:lnTo>
                    <a:lnTo>
                      <a:pt x="200" y="478"/>
                    </a:lnTo>
                    <a:lnTo>
                      <a:pt x="175" y="419"/>
                    </a:lnTo>
                    <a:lnTo>
                      <a:pt x="150" y="359"/>
                    </a:lnTo>
                    <a:lnTo>
                      <a:pt x="125" y="299"/>
                    </a:lnTo>
                    <a:lnTo>
                      <a:pt x="100" y="239"/>
                    </a:lnTo>
                    <a:lnTo>
                      <a:pt x="75" y="180"/>
                    </a:lnTo>
                    <a:lnTo>
                      <a:pt x="50" y="120"/>
                    </a:lnTo>
                    <a:lnTo>
                      <a:pt x="25" y="59"/>
                    </a:lnTo>
                    <a:lnTo>
                      <a:pt x="0" y="0"/>
                    </a:lnTo>
                    <a:lnTo>
                      <a:pt x="37" y="14"/>
                    </a:lnTo>
                    <a:lnTo>
                      <a:pt x="74" y="29"/>
                    </a:lnTo>
                    <a:lnTo>
                      <a:pt x="110" y="43"/>
                    </a:lnTo>
                    <a:lnTo>
                      <a:pt x="147" y="58"/>
                    </a:lnTo>
                    <a:lnTo>
                      <a:pt x="183" y="73"/>
                    </a:lnTo>
                    <a:lnTo>
                      <a:pt x="220" y="88"/>
                    </a:lnTo>
                    <a:lnTo>
                      <a:pt x="256" y="101"/>
                    </a:lnTo>
                    <a:lnTo>
                      <a:pt x="293" y="11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993800" y="5511960"/>
                <a:ext cx="181800" cy="168480"/>
              </a:xfrm>
              <a:custGeom>
                <a:avLst/>
                <a:gdLst/>
                <a:ahLst/>
                <a:rect l="l" t="t" r="r" b="b"/>
                <a:pathLst>
                  <a:path w="489" h="593">
                    <a:moveTo>
                      <a:pt x="289" y="115"/>
                    </a:moveTo>
                    <a:lnTo>
                      <a:pt x="314" y="174"/>
                    </a:lnTo>
                    <a:lnTo>
                      <a:pt x="339" y="235"/>
                    </a:lnTo>
                    <a:lnTo>
                      <a:pt x="364" y="295"/>
                    </a:lnTo>
                    <a:lnTo>
                      <a:pt x="389" y="354"/>
                    </a:lnTo>
                    <a:lnTo>
                      <a:pt x="414" y="414"/>
                    </a:lnTo>
                    <a:lnTo>
                      <a:pt x="439" y="474"/>
                    </a:lnTo>
                    <a:lnTo>
                      <a:pt x="464" y="534"/>
                    </a:lnTo>
                    <a:lnTo>
                      <a:pt x="489" y="593"/>
                    </a:lnTo>
                    <a:lnTo>
                      <a:pt x="452" y="578"/>
                    </a:lnTo>
                    <a:lnTo>
                      <a:pt x="416" y="563"/>
                    </a:lnTo>
                    <a:lnTo>
                      <a:pt x="379" y="549"/>
                    </a:lnTo>
                    <a:lnTo>
                      <a:pt x="342" y="534"/>
                    </a:lnTo>
                    <a:lnTo>
                      <a:pt x="306" y="519"/>
                    </a:lnTo>
                    <a:lnTo>
                      <a:pt x="270" y="504"/>
                    </a:lnTo>
                    <a:lnTo>
                      <a:pt x="233" y="490"/>
                    </a:lnTo>
                    <a:lnTo>
                      <a:pt x="196" y="475"/>
                    </a:lnTo>
                    <a:lnTo>
                      <a:pt x="171" y="416"/>
                    </a:lnTo>
                    <a:lnTo>
                      <a:pt x="147" y="357"/>
                    </a:lnTo>
                    <a:lnTo>
                      <a:pt x="122" y="296"/>
                    </a:lnTo>
                    <a:lnTo>
                      <a:pt x="97" y="237"/>
                    </a:lnTo>
                    <a:lnTo>
                      <a:pt x="73" y="178"/>
                    </a:lnTo>
                    <a:lnTo>
                      <a:pt x="48" y="119"/>
                    </a:lnTo>
                    <a:lnTo>
                      <a:pt x="24" y="59"/>
                    </a:lnTo>
                    <a:lnTo>
                      <a:pt x="0" y="0"/>
                    </a:lnTo>
                    <a:lnTo>
                      <a:pt x="35" y="14"/>
                    </a:lnTo>
                    <a:lnTo>
                      <a:pt x="71" y="28"/>
                    </a:lnTo>
                    <a:lnTo>
                      <a:pt x="107" y="43"/>
                    </a:lnTo>
                    <a:lnTo>
                      <a:pt x="143" y="56"/>
                    </a:lnTo>
                    <a:lnTo>
                      <a:pt x="179" y="71"/>
                    </a:lnTo>
                    <a:lnTo>
                      <a:pt x="215" y="86"/>
                    </a:lnTo>
                    <a:lnTo>
                      <a:pt x="253" y="101"/>
                    </a:lnTo>
                    <a:lnTo>
                      <a:pt x="289" y="115"/>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886520" y="5479200"/>
                <a:ext cx="180360" cy="168120"/>
              </a:xfrm>
              <a:custGeom>
                <a:avLst/>
                <a:gdLst/>
                <a:ahLst/>
                <a:rect l="l" t="t" r="r" b="b"/>
                <a:pathLst>
                  <a:path w="483" h="590">
                    <a:moveTo>
                      <a:pt x="287" y="115"/>
                    </a:moveTo>
                    <a:lnTo>
                      <a:pt x="311" y="174"/>
                    </a:lnTo>
                    <a:lnTo>
                      <a:pt x="335" y="234"/>
                    </a:lnTo>
                    <a:lnTo>
                      <a:pt x="360" y="293"/>
                    </a:lnTo>
                    <a:lnTo>
                      <a:pt x="384" y="352"/>
                    </a:lnTo>
                    <a:lnTo>
                      <a:pt x="409" y="411"/>
                    </a:lnTo>
                    <a:lnTo>
                      <a:pt x="434" y="472"/>
                    </a:lnTo>
                    <a:lnTo>
                      <a:pt x="458" y="531"/>
                    </a:lnTo>
                    <a:lnTo>
                      <a:pt x="483" y="590"/>
                    </a:lnTo>
                    <a:lnTo>
                      <a:pt x="448" y="575"/>
                    </a:lnTo>
                    <a:lnTo>
                      <a:pt x="413" y="560"/>
                    </a:lnTo>
                    <a:lnTo>
                      <a:pt x="376" y="547"/>
                    </a:lnTo>
                    <a:lnTo>
                      <a:pt x="341" y="532"/>
                    </a:lnTo>
                    <a:lnTo>
                      <a:pt x="305" y="517"/>
                    </a:lnTo>
                    <a:lnTo>
                      <a:pt x="270" y="502"/>
                    </a:lnTo>
                    <a:lnTo>
                      <a:pt x="234" y="488"/>
                    </a:lnTo>
                    <a:lnTo>
                      <a:pt x="198" y="474"/>
                    </a:lnTo>
                    <a:lnTo>
                      <a:pt x="173" y="415"/>
                    </a:lnTo>
                    <a:lnTo>
                      <a:pt x="149" y="356"/>
                    </a:lnTo>
                    <a:lnTo>
                      <a:pt x="123" y="297"/>
                    </a:lnTo>
                    <a:lnTo>
                      <a:pt x="99" y="238"/>
                    </a:lnTo>
                    <a:lnTo>
                      <a:pt x="74" y="179"/>
                    </a:lnTo>
                    <a:lnTo>
                      <a:pt x="50" y="120"/>
                    </a:lnTo>
                    <a:lnTo>
                      <a:pt x="25" y="59"/>
                    </a:lnTo>
                    <a:lnTo>
                      <a:pt x="0" y="0"/>
                    </a:lnTo>
                    <a:lnTo>
                      <a:pt x="37" y="15"/>
                    </a:lnTo>
                    <a:lnTo>
                      <a:pt x="72" y="28"/>
                    </a:lnTo>
                    <a:lnTo>
                      <a:pt x="108" y="43"/>
                    </a:lnTo>
                    <a:lnTo>
                      <a:pt x="144" y="58"/>
                    </a:lnTo>
                    <a:lnTo>
                      <a:pt x="180" y="72"/>
                    </a:lnTo>
                    <a:lnTo>
                      <a:pt x="215" y="86"/>
                    </a:lnTo>
                    <a:lnTo>
                      <a:pt x="251" y="100"/>
                    </a:lnTo>
                    <a:lnTo>
                      <a:pt x="287" y="115"/>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781760" y="5446440"/>
                <a:ext cx="178920" cy="168120"/>
              </a:xfrm>
              <a:custGeom>
                <a:avLst/>
                <a:gdLst/>
                <a:ahLst/>
                <a:rect l="l" t="t" r="r" b="b"/>
                <a:pathLst>
                  <a:path w="480" h="586">
                    <a:moveTo>
                      <a:pt x="282" y="112"/>
                    </a:moveTo>
                    <a:lnTo>
                      <a:pt x="307" y="171"/>
                    </a:lnTo>
                    <a:lnTo>
                      <a:pt x="332" y="232"/>
                    </a:lnTo>
                    <a:lnTo>
                      <a:pt x="356" y="291"/>
                    </a:lnTo>
                    <a:lnTo>
                      <a:pt x="381" y="350"/>
                    </a:lnTo>
                    <a:lnTo>
                      <a:pt x="405" y="409"/>
                    </a:lnTo>
                    <a:lnTo>
                      <a:pt x="431" y="468"/>
                    </a:lnTo>
                    <a:lnTo>
                      <a:pt x="455" y="527"/>
                    </a:lnTo>
                    <a:lnTo>
                      <a:pt x="480" y="586"/>
                    </a:lnTo>
                    <a:lnTo>
                      <a:pt x="444" y="571"/>
                    </a:lnTo>
                    <a:lnTo>
                      <a:pt x="407" y="556"/>
                    </a:lnTo>
                    <a:lnTo>
                      <a:pt x="371" y="542"/>
                    </a:lnTo>
                    <a:lnTo>
                      <a:pt x="335" y="527"/>
                    </a:lnTo>
                    <a:lnTo>
                      <a:pt x="300" y="512"/>
                    </a:lnTo>
                    <a:lnTo>
                      <a:pt x="263" y="497"/>
                    </a:lnTo>
                    <a:lnTo>
                      <a:pt x="228" y="484"/>
                    </a:lnTo>
                    <a:lnTo>
                      <a:pt x="193" y="469"/>
                    </a:lnTo>
                    <a:lnTo>
                      <a:pt x="169" y="411"/>
                    </a:lnTo>
                    <a:lnTo>
                      <a:pt x="144" y="352"/>
                    </a:lnTo>
                    <a:lnTo>
                      <a:pt x="120" y="293"/>
                    </a:lnTo>
                    <a:lnTo>
                      <a:pt x="96" y="235"/>
                    </a:lnTo>
                    <a:lnTo>
                      <a:pt x="72" y="176"/>
                    </a:lnTo>
                    <a:lnTo>
                      <a:pt x="48" y="117"/>
                    </a:lnTo>
                    <a:lnTo>
                      <a:pt x="24" y="59"/>
                    </a:lnTo>
                    <a:lnTo>
                      <a:pt x="0" y="0"/>
                    </a:lnTo>
                    <a:lnTo>
                      <a:pt x="35" y="14"/>
                    </a:lnTo>
                    <a:lnTo>
                      <a:pt x="71" y="27"/>
                    </a:lnTo>
                    <a:lnTo>
                      <a:pt x="105" y="42"/>
                    </a:lnTo>
                    <a:lnTo>
                      <a:pt x="140" y="55"/>
                    </a:lnTo>
                    <a:lnTo>
                      <a:pt x="177" y="70"/>
                    </a:lnTo>
                    <a:lnTo>
                      <a:pt x="212" y="84"/>
                    </a:lnTo>
                    <a:lnTo>
                      <a:pt x="247" y="99"/>
                    </a:lnTo>
                    <a:lnTo>
                      <a:pt x="282" y="11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675920" y="5415120"/>
                <a:ext cx="177480" cy="165240"/>
              </a:xfrm>
              <a:custGeom>
                <a:avLst/>
                <a:gdLst/>
                <a:ahLst/>
                <a:rect l="l" t="t" r="r" b="b"/>
                <a:pathLst>
                  <a:path w="475" h="581">
                    <a:moveTo>
                      <a:pt x="282" y="112"/>
                    </a:moveTo>
                    <a:lnTo>
                      <a:pt x="306" y="171"/>
                    </a:lnTo>
                    <a:lnTo>
                      <a:pt x="330" y="229"/>
                    </a:lnTo>
                    <a:lnTo>
                      <a:pt x="354" y="288"/>
                    </a:lnTo>
                    <a:lnTo>
                      <a:pt x="378" y="347"/>
                    </a:lnTo>
                    <a:lnTo>
                      <a:pt x="402" y="405"/>
                    </a:lnTo>
                    <a:lnTo>
                      <a:pt x="426" y="464"/>
                    </a:lnTo>
                    <a:lnTo>
                      <a:pt x="451" y="523"/>
                    </a:lnTo>
                    <a:lnTo>
                      <a:pt x="475" y="581"/>
                    </a:lnTo>
                    <a:lnTo>
                      <a:pt x="438" y="566"/>
                    </a:lnTo>
                    <a:lnTo>
                      <a:pt x="403" y="553"/>
                    </a:lnTo>
                    <a:lnTo>
                      <a:pt x="368" y="538"/>
                    </a:lnTo>
                    <a:lnTo>
                      <a:pt x="333" y="524"/>
                    </a:lnTo>
                    <a:lnTo>
                      <a:pt x="297" y="510"/>
                    </a:lnTo>
                    <a:lnTo>
                      <a:pt x="262" y="495"/>
                    </a:lnTo>
                    <a:lnTo>
                      <a:pt x="228" y="481"/>
                    </a:lnTo>
                    <a:lnTo>
                      <a:pt x="192" y="467"/>
                    </a:lnTo>
                    <a:lnTo>
                      <a:pt x="167" y="409"/>
                    </a:lnTo>
                    <a:lnTo>
                      <a:pt x="143" y="351"/>
                    </a:lnTo>
                    <a:lnTo>
                      <a:pt x="119" y="292"/>
                    </a:lnTo>
                    <a:lnTo>
                      <a:pt x="95" y="234"/>
                    </a:lnTo>
                    <a:lnTo>
                      <a:pt x="72" y="175"/>
                    </a:lnTo>
                    <a:lnTo>
                      <a:pt x="47" y="117"/>
                    </a:lnTo>
                    <a:lnTo>
                      <a:pt x="24" y="58"/>
                    </a:lnTo>
                    <a:lnTo>
                      <a:pt x="0" y="0"/>
                    </a:lnTo>
                    <a:lnTo>
                      <a:pt x="35" y="14"/>
                    </a:lnTo>
                    <a:lnTo>
                      <a:pt x="71" y="27"/>
                    </a:lnTo>
                    <a:lnTo>
                      <a:pt x="105" y="42"/>
                    </a:lnTo>
                    <a:lnTo>
                      <a:pt x="140" y="55"/>
                    </a:lnTo>
                    <a:lnTo>
                      <a:pt x="175" y="69"/>
                    </a:lnTo>
                    <a:lnTo>
                      <a:pt x="211" y="84"/>
                    </a:lnTo>
                    <a:lnTo>
                      <a:pt x="247" y="97"/>
                    </a:lnTo>
                    <a:lnTo>
                      <a:pt x="282" y="11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571520" y="5383800"/>
                <a:ext cx="175680" cy="163800"/>
              </a:xfrm>
              <a:custGeom>
                <a:avLst/>
                <a:gdLst/>
                <a:ahLst/>
                <a:rect l="l" t="t" r="r" b="b"/>
                <a:pathLst>
                  <a:path w="471" h="578">
                    <a:moveTo>
                      <a:pt x="279" y="111"/>
                    </a:moveTo>
                    <a:lnTo>
                      <a:pt x="303" y="169"/>
                    </a:lnTo>
                    <a:lnTo>
                      <a:pt x="326" y="228"/>
                    </a:lnTo>
                    <a:lnTo>
                      <a:pt x="351" y="286"/>
                    </a:lnTo>
                    <a:lnTo>
                      <a:pt x="374" y="345"/>
                    </a:lnTo>
                    <a:lnTo>
                      <a:pt x="398" y="403"/>
                    </a:lnTo>
                    <a:lnTo>
                      <a:pt x="422" y="462"/>
                    </a:lnTo>
                    <a:lnTo>
                      <a:pt x="446" y="520"/>
                    </a:lnTo>
                    <a:lnTo>
                      <a:pt x="471" y="578"/>
                    </a:lnTo>
                    <a:lnTo>
                      <a:pt x="436" y="564"/>
                    </a:lnTo>
                    <a:lnTo>
                      <a:pt x="401" y="549"/>
                    </a:lnTo>
                    <a:lnTo>
                      <a:pt x="367" y="536"/>
                    </a:lnTo>
                    <a:lnTo>
                      <a:pt x="331" y="521"/>
                    </a:lnTo>
                    <a:lnTo>
                      <a:pt x="296" y="507"/>
                    </a:lnTo>
                    <a:lnTo>
                      <a:pt x="261" y="493"/>
                    </a:lnTo>
                    <a:lnTo>
                      <a:pt x="226" y="479"/>
                    </a:lnTo>
                    <a:lnTo>
                      <a:pt x="191" y="464"/>
                    </a:lnTo>
                    <a:lnTo>
                      <a:pt x="166" y="407"/>
                    </a:lnTo>
                    <a:lnTo>
                      <a:pt x="142" y="349"/>
                    </a:lnTo>
                    <a:lnTo>
                      <a:pt x="118" y="291"/>
                    </a:lnTo>
                    <a:lnTo>
                      <a:pt x="94" y="232"/>
                    </a:lnTo>
                    <a:lnTo>
                      <a:pt x="71" y="174"/>
                    </a:lnTo>
                    <a:lnTo>
                      <a:pt x="47" y="116"/>
                    </a:lnTo>
                    <a:lnTo>
                      <a:pt x="24" y="58"/>
                    </a:lnTo>
                    <a:lnTo>
                      <a:pt x="0" y="0"/>
                    </a:lnTo>
                    <a:lnTo>
                      <a:pt x="35" y="14"/>
                    </a:lnTo>
                    <a:lnTo>
                      <a:pt x="69" y="29"/>
                    </a:lnTo>
                    <a:lnTo>
                      <a:pt x="105" y="42"/>
                    </a:lnTo>
                    <a:lnTo>
                      <a:pt x="139" y="56"/>
                    </a:lnTo>
                    <a:lnTo>
                      <a:pt x="174" y="69"/>
                    </a:lnTo>
                    <a:lnTo>
                      <a:pt x="208" y="84"/>
                    </a:lnTo>
                    <a:lnTo>
                      <a:pt x="244" y="98"/>
                    </a:lnTo>
                    <a:lnTo>
                      <a:pt x="279" y="11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470000" y="5352480"/>
                <a:ext cx="173160" cy="163800"/>
              </a:xfrm>
              <a:custGeom>
                <a:avLst/>
                <a:gdLst/>
                <a:ahLst/>
                <a:rect l="l" t="t" r="r" b="b"/>
                <a:pathLst>
                  <a:path w="465" h="573">
                    <a:moveTo>
                      <a:pt x="274" y="109"/>
                    </a:moveTo>
                    <a:lnTo>
                      <a:pt x="298" y="167"/>
                    </a:lnTo>
                    <a:lnTo>
                      <a:pt x="321" y="225"/>
                    </a:lnTo>
                    <a:lnTo>
                      <a:pt x="345" y="283"/>
                    </a:lnTo>
                    <a:lnTo>
                      <a:pt x="368" y="341"/>
                    </a:lnTo>
                    <a:lnTo>
                      <a:pt x="392" y="400"/>
                    </a:lnTo>
                    <a:lnTo>
                      <a:pt x="416" y="458"/>
                    </a:lnTo>
                    <a:lnTo>
                      <a:pt x="440" y="516"/>
                    </a:lnTo>
                    <a:lnTo>
                      <a:pt x="465" y="573"/>
                    </a:lnTo>
                    <a:lnTo>
                      <a:pt x="430" y="560"/>
                    </a:lnTo>
                    <a:lnTo>
                      <a:pt x="396" y="545"/>
                    </a:lnTo>
                    <a:lnTo>
                      <a:pt x="360" y="532"/>
                    </a:lnTo>
                    <a:lnTo>
                      <a:pt x="325" y="517"/>
                    </a:lnTo>
                    <a:lnTo>
                      <a:pt x="291" y="503"/>
                    </a:lnTo>
                    <a:lnTo>
                      <a:pt x="257" y="490"/>
                    </a:lnTo>
                    <a:lnTo>
                      <a:pt x="221" y="475"/>
                    </a:lnTo>
                    <a:lnTo>
                      <a:pt x="187" y="461"/>
                    </a:lnTo>
                    <a:lnTo>
                      <a:pt x="164" y="403"/>
                    </a:lnTo>
                    <a:lnTo>
                      <a:pt x="140" y="346"/>
                    </a:lnTo>
                    <a:lnTo>
                      <a:pt x="116" y="288"/>
                    </a:lnTo>
                    <a:lnTo>
                      <a:pt x="93" y="230"/>
                    </a:lnTo>
                    <a:lnTo>
                      <a:pt x="69" y="173"/>
                    </a:lnTo>
                    <a:lnTo>
                      <a:pt x="46" y="115"/>
                    </a:lnTo>
                    <a:lnTo>
                      <a:pt x="23" y="58"/>
                    </a:lnTo>
                    <a:lnTo>
                      <a:pt x="0" y="0"/>
                    </a:lnTo>
                    <a:lnTo>
                      <a:pt x="34" y="13"/>
                    </a:lnTo>
                    <a:lnTo>
                      <a:pt x="68" y="27"/>
                    </a:lnTo>
                    <a:lnTo>
                      <a:pt x="102" y="42"/>
                    </a:lnTo>
                    <a:lnTo>
                      <a:pt x="137" y="55"/>
                    </a:lnTo>
                    <a:lnTo>
                      <a:pt x="171" y="69"/>
                    </a:lnTo>
                    <a:lnTo>
                      <a:pt x="205" y="82"/>
                    </a:lnTo>
                    <a:lnTo>
                      <a:pt x="239" y="96"/>
                    </a:lnTo>
                    <a:lnTo>
                      <a:pt x="274" y="10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368480" y="5320800"/>
                <a:ext cx="171360" cy="162360"/>
              </a:xfrm>
              <a:custGeom>
                <a:avLst/>
                <a:gdLst/>
                <a:ahLst/>
                <a:rect l="l" t="t" r="r" b="b"/>
                <a:pathLst>
                  <a:path w="461" h="570">
                    <a:moveTo>
                      <a:pt x="274" y="109"/>
                    </a:moveTo>
                    <a:lnTo>
                      <a:pt x="297" y="167"/>
                    </a:lnTo>
                    <a:lnTo>
                      <a:pt x="320" y="224"/>
                    </a:lnTo>
                    <a:lnTo>
                      <a:pt x="343" y="282"/>
                    </a:lnTo>
                    <a:lnTo>
                      <a:pt x="367" y="339"/>
                    </a:lnTo>
                    <a:lnTo>
                      <a:pt x="390" y="397"/>
                    </a:lnTo>
                    <a:lnTo>
                      <a:pt x="414" y="455"/>
                    </a:lnTo>
                    <a:lnTo>
                      <a:pt x="438" y="512"/>
                    </a:lnTo>
                    <a:lnTo>
                      <a:pt x="461" y="570"/>
                    </a:lnTo>
                    <a:lnTo>
                      <a:pt x="427" y="556"/>
                    </a:lnTo>
                    <a:lnTo>
                      <a:pt x="391" y="542"/>
                    </a:lnTo>
                    <a:lnTo>
                      <a:pt x="357" y="528"/>
                    </a:lnTo>
                    <a:lnTo>
                      <a:pt x="322" y="514"/>
                    </a:lnTo>
                    <a:lnTo>
                      <a:pt x="288" y="500"/>
                    </a:lnTo>
                    <a:lnTo>
                      <a:pt x="252" y="485"/>
                    </a:lnTo>
                    <a:lnTo>
                      <a:pt x="218" y="472"/>
                    </a:lnTo>
                    <a:lnTo>
                      <a:pt x="184" y="458"/>
                    </a:lnTo>
                    <a:lnTo>
                      <a:pt x="161" y="400"/>
                    </a:lnTo>
                    <a:lnTo>
                      <a:pt x="137" y="344"/>
                    </a:lnTo>
                    <a:lnTo>
                      <a:pt x="114" y="286"/>
                    </a:lnTo>
                    <a:lnTo>
                      <a:pt x="92" y="229"/>
                    </a:lnTo>
                    <a:lnTo>
                      <a:pt x="69" y="172"/>
                    </a:lnTo>
                    <a:lnTo>
                      <a:pt x="46" y="115"/>
                    </a:lnTo>
                    <a:lnTo>
                      <a:pt x="24" y="57"/>
                    </a:lnTo>
                    <a:lnTo>
                      <a:pt x="0" y="0"/>
                    </a:lnTo>
                    <a:lnTo>
                      <a:pt x="35" y="14"/>
                    </a:lnTo>
                    <a:lnTo>
                      <a:pt x="68" y="27"/>
                    </a:lnTo>
                    <a:lnTo>
                      <a:pt x="102" y="41"/>
                    </a:lnTo>
                    <a:lnTo>
                      <a:pt x="136" y="55"/>
                    </a:lnTo>
                    <a:lnTo>
                      <a:pt x="170" y="68"/>
                    </a:lnTo>
                    <a:lnTo>
                      <a:pt x="204" y="82"/>
                    </a:lnTo>
                    <a:lnTo>
                      <a:pt x="239" y="95"/>
                    </a:lnTo>
                    <a:lnTo>
                      <a:pt x="274" y="10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265520" y="5289120"/>
                <a:ext cx="169920" cy="162720"/>
              </a:xfrm>
              <a:custGeom>
                <a:avLst/>
                <a:gdLst/>
                <a:ahLst/>
                <a:rect l="l" t="t" r="r" b="b"/>
                <a:pathLst>
                  <a:path w="457" h="567">
                    <a:moveTo>
                      <a:pt x="273" y="109"/>
                    </a:moveTo>
                    <a:lnTo>
                      <a:pt x="297" y="166"/>
                    </a:lnTo>
                    <a:lnTo>
                      <a:pt x="319" y="224"/>
                    </a:lnTo>
                    <a:lnTo>
                      <a:pt x="342" y="281"/>
                    </a:lnTo>
                    <a:lnTo>
                      <a:pt x="365" y="338"/>
                    </a:lnTo>
                    <a:lnTo>
                      <a:pt x="387" y="395"/>
                    </a:lnTo>
                    <a:lnTo>
                      <a:pt x="410" y="453"/>
                    </a:lnTo>
                    <a:lnTo>
                      <a:pt x="434" y="509"/>
                    </a:lnTo>
                    <a:lnTo>
                      <a:pt x="457" y="567"/>
                    </a:lnTo>
                    <a:lnTo>
                      <a:pt x="423" y="553"/>
                    </a:lnTo>
                    <a:lnTo>
                      <a:pt x="388" y="539"/>
                    </a:lnTo>
                    <a:lnTo>
                      <a:pt x="355" y="525"/>
                    </a:lnTo>
                    <a:lnTo>
                      <a:pt x="321" y="512"/>
                    </a:lnTo>
                    <a:lnTo>
                      <a:pt x="286" y="498"/>
                    </a:lnTo>
                    <a:lnTo>
                      <a:pt x="253" y="485"/>
                    </a:lnTo>
                    <a:lnTo>
                      <a:pt x="219" y="470"/>
                    </a:lnTo>
                    <a:lnTo>
                      <a:pt x="186" y="457"/>
                    </a:lnTo>
                    <a:lnTo>
                      <a:pt x="161" y="400"/>
                    </a:lnTo>
                    <a:lnTo>
                      <a:pt x="138" y="343"/>
                    </a:lnTo>
                    <a:lnTo>
                      <a:pt x="115" y="285"/>
                    </a:lnTo>
                    <a:lnTo>
                      <a:pt x="92" y="229"/>
                    </a:lnTo>
                    <a:lnTo>
                      <a:pt x="69" y="171"/>
                    </a:lnTo>
                    <a:lnTo>
                      <a:pt x="46" y="114"/>
                    </a:lnTo>
                    <a:lnTo>
                      <a:pt x="23" y="58"/>
                    </a:lnTo>
                    <a:lnTo>
                      <a:pt x="0" y="0"/>
                    </a:lnTo>
                    <a:lnTo>
                      <a:pt x="34" y="13"/>
                    </a:lnTo>
                    <a:lnTo>
                      <a:pt x="68" y="27"/>
                    </a:lnTo>
                    <a:lnTo>
                      <a:pt x="102" y="40"/>
                    </a:lnTo>
                    <a:lnTo>
                      <a:pt x="136" y="54"/>
                    </a:lnTo>
                    <a:lnTo>
                      <a:pt x="171" y="68"/>
                    </a:lnTo>
                    <a:lnTo>
                      <a:pt x="205" y="81"/>
                    </a:lnTo>
                    <a:lnTo>
                      <a:pt x="239" y="96"/>
                    </a:lnTo>
                    <a:lnTo>
                      <a:pt x="273" y="10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165440" y="5259600"/>
                <a:ext cx="169560" cy="160920"/>
              </a:xfrm>
              <a:custGeom>
                <a:avLst/>
                <a:gdLst/>
                <a:ahLst/>
                <a:rect l="l" t="t" r="r" b="b"/>
                <a:pathLst>
                  <a:path w="454" h="563">
                    <a:moveTo>
                      <a:pt x="268" y="106"/>
                    </a:moveTo>
                    <a:lnTo>
                      <a:pt x="291" y="164"/>
                    </a:lnTo>
                    <a:lnTo>
                      <a:pt x="314" y="220"/>
                    </a:lnTo>
                    <a:lnTo>
                      <a:pt x="337" y="277"/>
                    </a:lnTo>
                    <a:lnTo>
                      <a:pt x="360" y="335"/>
                    </a:lnTo>
                    <a:lnTo>
                      <a:pt x="383" y="391"/>
                    </a:lnTo>
                    <a:lnTo>
                      <a:pt x="406" y="449"/>
                    </a:lnTo>
                    <a:lnTo>
                      <a:pt x="429" y="506"/>
                    </a:lnTo>
                    <a:lnTo>
                      <a:pt x="454" y="563"/>
                    </a:lnTo>
                    <a:lnTo>
                      <a:pt x="419" y="549"/>
                    </a:lnTo>
                    <a:lnTo>
                      <a:pt x="385" y="535"/>
                    </a:lnTo>
                    <a:lnTo>
                      <a:pt x="351" y="522"/>
                    </a:lnTo>
                    <a:lnTo>
                      <a:pt x="318" y="508"/>
                    </a:lnTo>
                    <a:lnTo>
                      <a:pt x="283" y="495"/>
                    </a:lnTo>
                    <a:lnTo>
                      <a:pt x="249" y="481"/>
                    </a:lnTo>
                    <a:lnTo>
                      <a:pt x="216" y="467"/>
                    </a:lnTo>
                    <a:lnTo>
                      <a:pt x="183" y="453"/>
                    </a:lnTo>
                    <a:lnTo>
                      <a:pt x="158" y="396"/>
                    </a:lnTo>
                    <a:lnTo>
                      <a:pt x="135" y="340"/>
                    </a:lnTo>
                    <a:lnTo>
                      <a:pt x="113" y="283"/>
                    </a:lnTo>
                    <a:lnTo>
                      <a:pt x="90" y="226"/>
                    </a:lnTo>
                    <a:lnTo>
                      <a:pt x="68" y="170"/>
                    </a:lnTo>
                    <a:lnTo>
                      <a:pt x="44" y="113"/>
                    </a:lnTo>
                    <a:lnTo>
                      <a:pt x="22" y="55"/>
                    </a:lnTo>
                    <a:lnTo>
                      <a:pt x="0" y="0"/>
                    </a:lnTo>
                    <a:lnTo>
                      <a:pt x="33" y="12"/>
                    </a:lnTo>
                    <a:lnTo>
                      <a:pt x="67" y="26"/>
                    </a:lnTo>
                    <a:lnTo>
                      <a:pt x="100" y="39"/>
                    </a:lnTo>
                    <a:lnTo>
                      <a:pt x="134" y="53"/>
                    </a:lnTo>
                    <a:lnTo>
                      <a:pt x="167" y="66"/>
                    </a:lnTo>
                    <a:lnTo>
                      <a:pt x="201" y="80"/>
                    </a:lnTo>
                    <a:lnTo>
                      <a:pt x="235" y="94"/>
                    </a:lnTo>
                    <a:lnTo>
                      <a:pt x="268" y="10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067160" y="5229360"/>
                <a:ext cx="166680" cy="159840"/>
              </a:xfrm>
              <a:custGeom>
                <a:avLst/>
                <a:gdLst/>
                <a:ahLst/>
                <a:rect l="l" t="t" r="r" b="b"/>
                <a:pathLst>
                  <a:path w="447" h="559">
                    <a:moveTo>
                      <a:pt x="264" y="106"/>
                    </a:moveTo>
                    <a:lnTo>
                      <a:pt x="286" y="161"/>
                    </a:lnTo>
                    <a:lnTo>
                      <a:pt x="308" y="219"/>
                    </a:lnTo>
                    <a:lnTo>
                      <a:pt x="332" y="276"/>
                    </a:lnTo>
                    <a:lnTo>
                      <a:pt x="354" y="332"/>
                    </a:lnTo>
                    <a:lnTo>
                      <a:pt x="377" y="389"/>
                    </a:lnTo>
                    <a:lnTo>
                      <a:pt x="399" y="446"/>
                    </a:lnTo>
                    <a:lnTo>
                      <a:pt x="422" y="502"/>
                    </a:lnTo>
                    <a:lnTo>
                      <a:pt x="447" y="559"/>
                    </a:lnTo>
                    <a:lnTo>
                      <a:pt x="412" y="545"/>
                    </a:lnTo>
                    <a:lnTo>
                      <a:pt x="379" y="532"/>
                    </a:lnTo>
                    <a:lnTo>
                      <a:pt x="346" y="518"/>
                    </a:lnTo>
                    <a:lnTo>
                      <a:pt x="312" y="505"/>
                    </a:lnTo>
                    <a:lnTo>
                      <a:pt x="278" y="491"/>
                    </a:lnTo>
                    <a:lnTo>
                      <a:pt x="246" y="478"/>
                    </a:lnTo>
                    <a:lnTo>
                      <a:pt x="213" y="464"/>
                    </a:lnTo>
                    <a:lnTo>
                      <a:pt x="179" y="451"/>
                    </a:lnTo>
                    <a:lnTo>
                      <a:pt x="156" y="395"/>
                    </a:lnTo>
                    <a:lnTo>
                      <a:pt x="133" y="339"/>
                    </a:lnTo>
                    <a:lnTo>
                      <a:pt x="111" y="282"/>
                    </a:lnTo>
                    <a:lnTo>
                      <a:pt x="89" y="225"/>
                    </a:lnTo>
                    <a:lnTo>
                      <a:pt x="67" y="169"/>
                    </a:lnTo>
                    <a:lnTo>
                      <a:pt x="44" y="112"/>
                    </a:lnTo>
                    <a:lnTo>
                      <a:pt x="22" y="56"/>
                    </a:lnTo>
                    <a:lnTo>
                      <a:pt x="0" y="0"/>
                    </a:lnTo>
                    <a:lnTo>
                      <a:pt x="32" y="12"/>
                    </a:lnTo>
                    <a:lnTo>
                      <a:pt x="66" y="26"/>
                    </a:lnTo>
                    <a:lnTo>
                      <a:pt x="99" y="40"/>
                    </a:lnTo>
                    <a:lnTo>
                      <a:pt x="131" y="53"/>
                    </a:lnTo>
                    <a:lnTo>
                      <a:pt x="164" y="65"/>
                    </a:lnTo>
                    <a:lnTo>
                      <a:pt x="198" y="79"/>
                    </a:lnTo>
                    <a:lnTo>
                      <a:pt x="231" y="92"/>
                    </a:lnTo>
                    <a:lnTo>
                      <a:pt x="264" y="10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968520" y="5199480"/>
                <a:ext cx="165240" cy="158040"/>
              </a:xfrm>
              <a:custGeom>
                <a:avLst/>
                <a:gdLst/>
                <a:ahLst/>
                <a:rect l="l" t="t" r="r" b="b"/>
                <a:pathLst>
                  <a:path w="443" h="557">
                    <a:moveTo>
                      <a:pt x="264" y="106"/>
                    </a:moveTo>
                    <a:lnTo>
                      <a:pt x="286" y="162"/>
                    </a:lnTo>
                    <a:lnTo>
                      <a:pt x="308" y="218"/>
                    </a:lnTo>
                    <a:lnTo>
                      <a:pt x="331" y="275"/>
                    </a:lnTo>
                    <a:lnTo>
                      <a:pt x="353" y="331"/>
                    </a:lnTo>
                    <a:lnTo>
                      <a:pt x="375" y="388"/>
                    </a:lnTo>
                    <a:lnTo>
                      <a:pt x="397" y="445"/>
                    </a:lnTo>
                    <a:lnTo>
                      <a:pt x="420" y="501"/>
                    </a:lnTo>
                    <a:lnTo>
                      <a:pt x="443" y="557"/>
                    </a:lnTo>
                    <a:lnTo>
                      <a:pt x="409" y="543"/>
                    </a:lnTo>
                    <a:lnTo>
                      <a:pt x="376" y="530"/>
                    </a:lnTo>
                    <a:lnTo>
                      <a:pt x="343" y="516"/>
                    </a:lnTo>
                    <a:lnTo>
                      <a:pt x="309" y="503"/>
                    </a:lnTo>
                    <a:lnTo>
                      <a:pt x="276" y="489"/>
                    </a:lnTo>
                    <a:lnTo>
                      <a:pt x="243" y="475"/>
                    </a:lnTo>
                    <a:lnTo>
                      <a:pt x="210" y="462"/>
                    </a:lnTo>
                    <a:lnTo>
                      <a:pt x="176" y="448"/>
                    </a:lnTo>
                    <a:lnTo>
                      <a:pt x="154" y="393"/>
                    </a:lnTo>
                    <a:lnTo>
                      <a:pt x="132" y="338"/>
                    </a:lnTo>
                    <a:lnTo>
                      <a:pt x="110" y="281"/>
                    </a:lnTo>
                    <a:lnTo>
                      <a:pt x="88" y="224"/>
                    </a:lnTo>
                    <a:lnTo>
                      <a:pt x="66" y="169"/>
                    </a:lnTo>
                    <a:lnTo>
                      <a:pt x="44" y="112"/>
                    </a:lnTo>
                    <a:lnTo>
                      <a:pt x="22" y="57"/>
                    </a:lnTo>
                    <a:lnTo>
                      <a:pt x="0" y="0"/>
                    </a:lnTo>
                    <a:lnTo>
                      <a:pt x="32" y="14"/>
                    </a:lnTo>
                    <a:lnTo>
                      <a:pt x="65" y="26"/>
                    </a:lnTo>
                    <a:lnTo>
                      <a:pt x="99" y="40"/>
                    </a:lnTo>
                    <a:lnTo>
                      <a:pt x="131" y="53"/>
                    </a:lnTo>
                    <a:lnTo>
                      <a:pt x="164" y="66"/>
                    </a:lnTo>
                    <a:lnTo>
                      <a:pt x="197" y="79"/>
                    </a:lnTo>
                    <a:lnTo>
                      <a:pt x="231" y="93"/>
                    </a:lnTo>
                    <a:lnTo>
                      <a:pt x="264" y="10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870240" y="5169600"/>
                <a:ext cx="163800" cy="156960"/>
              </a:xfrm>
              <a:custGeom>
                <a:avLst/>
                <a:gdLst/>
                <a:ahLst/>
                <a:rect l="l" t="t" r="r" b="b"/>
                <a:pathLst>
                  <a:path w="440" h="552">
                    <a:moveTo>
                      <a:pt x="264" y="104"/>
                    </a:moveTo>
                    <a:lnTo>
                      <a:pt x="286" y="161"/>
                    </a:lnTo>
                    <a:lnTo>
                      <a:pt x="308" y="216"/>
                    </a:lnTo>
                    <a:lnTo>
                      <a:pt x="330" y="273"/>
                    </a:lnTo>
                    <a:lnTo>
                      <a:pt x="352" y="328"/>
                    </a:lnTo>
                    <a:lnTo>
                      <a:pt x="374" y="385"/>
                    </a:lnTo>
                    <a:lnTo>
                      <a:pt x="396" y="442"/>
                    </a:lnTo>
                    <a:lnTo>
                      <a:pt x="418" y="497"/>
                    </a:lnTo>
                    <a:lnTo>
                      <a:pt x="440" y="552"/>
                    </a:lnTo>
                    <a:lnTo>
                      <a:pt x="407" y="540"/>
                    </a:lnTo>
                    <a:lnTo>
                      <a:pt x="374" y="526"/>
                    </a:lnTo>
                    <a:lnTo>
                      <a:pt x="342" y="513"/>
                    </a:lnTo>
                    <a:lnTo>
                      <a:pt x="308" y="499"/>
                    </a:lnTo>
                    <a:lnTo>
                      <a:pt x="276" y="486"/>
                    </a:lnTo>
                    <a:lnTo>
                      <a:pt x="243" y="472"/>
                    </a:lnTo>
                    <a:lnTo>
                      <a:pt x="210" y="460"/>
                    </a:lnTo>
                    <a:lnTo>
                      <a:pt x="177" y="446"/>
                    </a:lnTo>
                    <a:lnTo>
                      <a:pt x="155" y="391"/>
                    </a:lnTo>
                    <a:lnTo>
                      <a:pt x="133" y="334"/>
                    </a:lnTo>
                    <a:lnTo>
                      <a:pt x="111" y="279"/>
                    </a:lnTo>
                    <a:lnTo>
                      <a:pt x="89" y="222"/>
                    </a:lnTo>
                    <a:lnTo>
                      <a:pt x="66" y="167"/>
                    </a:lnTo>
                    <a:lnTo>
                      <a:pt x="44" y="112"/>
                    </a:lnTo>
                    <a:lnTo>
                      <a:pt x="22" y="55"/>
                    </a:lnTo>
                    <a:lnTo>
                      <a:pt x="0" y="0"/>
                    </a:lnTo>
                    <a:lnTo>
                      <a:pt x="33" y="13"/>
                    </a:lnTo>
                    <a:lnTo>
                      <a:pt x="66" y="25"/>
                    </a:lnTo>
                    <a:lnTo>
                      <a:pt x="99" y="39"/>
                    </a:lnTo>
                    <a:lnTo>
                      <a:pt x="132" y="51"/>
                    </a:lnTo>
                    <a:lnTo>
                      <a:pt x="165" y="65"/>
                    </a:lnTo>
                    <a:lnTo>
                      <a:pt x="197" y="78"/>
                    </a:lnTo>
                    <a:lnTo>
                      <a:pt x="231" y="91"/>
                    </a:lnTo>
                    <a:lnTo>
                      <a:pt x="264" y="104"/>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773040" y="5139360"/>
                <a:ext cx="163800" cy="156960"/>
              </a:xfrm>
              <a:custGeom>
                <a:avLst/>
                <a:gdLst/>
                <a:ahLst/>
                <a:rect l="l" t="t" r="r" b="b"/>
                <a:pathLst>
                  <a:path w="436" h="550">
                    <a:moveTo>
                      <a:pt x="259" y="104"/>
                    </a:moveTo>
                    <a:lnTo>
                      <a:pt x="281" y="159"/>
                    </a:lnTo>
                    <a:lnTo>
                      <a:pt x="303" y="216"/>
                    </a:lnTo>
                    <a:lnTo>
                      <a:pt x="325" y="271"/>
                    </a:lnTo>
                    <a:lnTo>
                      <a:pt x="348" y="326"/>
                    </a:lnTo>
                    <a:lnTo>
                      <a:pt x="370" y="383"/>
                    </a:lnTo>
                    <a:lnTo>
                      <a:pt x="392" y="438"/>
                    </a:lnTo>
                    <a:lnTo>
                      <a:pt x="414" y="495"/>
                    </a:lnTo>
                    <a:lnTo>
                      <a:pt x="436" y="550"/>
                    </a:lnTo>
                    <a:lnTo>
                      <a:pt x="404" y="537"/>
                    </a:lnTo>
                    <a:lnTo>
                      <a:pt x="372" y="523"/>
                    </a:lnTo>
                    <a:lnTo>
                      <a:pt x="338" y="511"/>
                    </a:lnTo>
                    <a:lnTo>
                      <a:pt x="306" y="498"/>
                    </a:lnTo>
                    <a:lnTo>
                      <a:pt x="273" y="484"/>
                    </a:lnTo>
                    <a:lnTo>
                      <a:pt x="241" y="472"/>
                    </a:lnTo>
                    <a:lnTo>
                      <a:pt x="207" y="458"/>
                    </a:lnTo>
                    <a:lnTo>
                      <a:pt x="174" y="445"/>
                    </a:lnTo>
                    <a:lnTo>
                      <a:pt x="152" y="389"/>
                    </a:lnTo>
                    <a:lnTo>
                      <a:pt x="130" y="334"/>
                    </a:lnTo>
                    <a:lnTo>
                      <a:pt x="108" y="278"/>
                    </a:lnTo>
                    <a:lnTo>
                      <a:pt x="86" y="222"/>
                    </a:lnTo>
                    <a:lnTo>
                      <a:pt x="64" y="166"/>
                    </a:lnTo>
                    <a:lnTo>
                      <a:pt x="42" y="111"/>
                    </a:lnTo>
                    <a:lnTo>
                      <a:pt x="21" y="56"/>
                    </a:lnTo>
                    <a:lnTo>
                      <a:pt x="0" y="0"/>
                    </a:lnTo>
                    <a:lnTo>
                      <a:pt x="31" y="13"/>
                    </a:lnTo>
                    <a:lnTo>
                      <a:pt x="63" y="26"/>
                    </a:lnTo>
                    <a:lnTo>
                      <a:pt x="97" y="38"/>
                    </a:lnTo>
                    <a:lnTo>
                      <a:pt x="129" y="52"/>
                    </a:lnTo>
                    <a:lnTo>
                      <a:pt x="161" y="64"/>
                    </a:lnTo>
                    <a:lnTo>
                      <a:pt x="193" y="78"/>
                    </a:lnTo>
                    <a:lnTo>
                      <a:pt x="227" y="91"/>
                    </a:lnTo>
                    <a:lnTo>
                      <a:pt x="259" y="104"/>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678720" y="5110920"/>
                <a:ext cx="159480" cy="155520"/>
              </a:xfrm>
              <a:custGeom>
                <a:avLst/>
                <a:gdLst/>
                <a:ahLst/>
                <a:rect l="l" t="t" r="r" b="b"/>
                <a:pathLst>
                  <a:path w="429" h="547">
                    <a:moveTo>
                      <a:pt x="255" y="102"/>
                    </a:moveTo>
                    <a:lnTo>
                      <a:pt x="276" y="158"/>
                    </a:lnTo>
                    <a:lnTo>
                      <a:pt x="297" y="213"/>
                    </a:lnTo>
                    <a:lnTo>
                      <a:pt x="319" y="268"/>
                    </a:lnTo>
                    <a:lnTo>
                      <a:pt x="341" y="324"/>
                    </a:lnTo>
                    <a:lnTo>
                      <a:pt x="363" y="380"/>
                    </a:lnTo>
                    <a:lnTo>
                      <a:pt x="385" y="436"/>
                    </a:lnTo>
                    <a:lnTo>
                      <a:pt x="407" y="491"/>
                    </a:lnTo>
                    <a:lnTo>
                      <a:pt x="429" y="547"/>
                    </a:lnTo>
                    <a:lnTo>
                      <a:pt x="397" y="533"/>
                    </a:lnTo>
                    <a:lnTo>
                      <a:pt x="365" y="521"/>
                    </a:lnTo>
                    <a:lnTo>
                      <a:pt x="331" y="507"/>
                    </a:lnTo>
                    <a:lnTo>
                      <a:pt x="299" y="494"/>
                    </a:lnTo>
                    <a:lnTo>
                      <a:pt x="268" y="481"/>
                    </a:lnTo>
                    <a:lnTo>
                      <a:pt x="236" y="468"/>
                    </a:lnTo>
                    <a:lnTo>
                      <a:pt x="203" y="456"/>
                    </a:lnTo>
                    <a:lnTo>
                      <a:pt x="171" y="442"/>
                    </a:lnTo>
                    <a:lnTo>
                      <a:pt x="149" y="387"/>
                    </a:lnTo>
                    <a:lnTo>
                      <a:pt x="128" y="331"/>
                    </a:lnTo>
                    <a:lnTo>
                      <a:pt x="106" y="277"/>
                    </a:lnTo>
                    <a:lnTo>
                      <a:pt x="84" y="222"/>
                    </a:lnTo>
                    <a:lnTo>
                      <a:pt x="63" y="166"/>
                    </a:lnTo>
                    <a:lnTo>
                      <a:pt x="42" y="111"/>
                    </a:lnTo>
                    <a:lnTo>
                      <a:pt x="21" y="55"/>
                    </a:lnTo>
                    <a:lnTo>
                      <a:pt x="0" y="0"/>
                    </a:lnTo>
                    <a:lnTo>
                      <a:pt x="31" y="14"/>
                    </a:lnTo>
                    <a:lnTo>
                      <a:pt x="63" y="26"/>
                    </a:lnTo>
                    <a:lnTo>
                      <a:pt x="95" y="38"/>
                    </a:lnTo>
                    <a:lnTo>
                      <a:pt x="128" y="52"/>
                    </a:lnTo>
                    <a:lnTo>
                      <a:pt x="159" y="64"/>
                    </a:lnTo>
                    <a:lnTo>
                      <a:pt x="191" y="76"/>
                    </a:lnTo>
                    <a:lnTo>
                      <a:pt x="222" y="90"/>
                    </a:lnTo>
                    <a:lnTo>
                      <a:pt x="255" y="10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583320" y="5082480"/>
                <a:ext cx="159480" cy="153720"/>
              </a:xfrm>
              <a:custGeom>
                <a:avLst/>
                <a:gdLst/>
                <a:ahLst/>
                <a:rect l="l" t="t" r="r" b="b"/>
                <a:pathLst>
                  <a:path w="426" h="543">
                    <a:moveTo>
                      <a:pt x="255" y="101"/>
                    </a:moveTo>
                    <a:lnTo>
                      <a:pt x="276" y="156"/>
                    </a:lnTo>
                    <a:lnTo>
                      <a:pt x="297" y="212"/>
                    </a:lnTo>
                    <a:lnTo>
                      <a:pt x="318" y="267"/>
                    </a:lnTo>
                    <a:lnTo>
                      <a:pt x="339" y="323"/>
                    </a:lnTo>
                    <a:lnTo>
                      <a:pt x="361" y="378"/>
                    </a:lnTo>
                    <a:lnTo>
                      <a:pt x="383" y="432"/>
                    </a:lnTo>
                    <a:lnTo>
                      <a:pt x="404" y="488"/>
                    </a:lnTo>
                    <a:lnTo>
                      <a:pt x="426" y="543"/>
                    </a:lnTo>
                    <a:lnTo>
                      <a:pt x="394" y="529"/>
                    </a:lnTo>
                    <a:lnTo>
                      <a:pt x="362" y="517"/>
                    </a:lnTo>
                    <a:lnTo>
                      <a:pt x="329" y="504"/>
                    </a:lnTo>
                    <a:lnTo>
                      <a:pt x="297" y="491"/>
                    </a:lnTo>
                    <a:lnTo>
                      <a:pt x="265" y="478"/>
                    </a:lnTo>
                    <a:lnTo>
                      <a:pt x="233" y="464"/>
                    </a:lnTo>
                    <a:lnTo>
                      <a:pt x="200" y="452"/>
                    </a:lnTo>
                    <a:lnTo>
                      <a:pt x="168" y="438"/>
                    </a:lnTo>
                    <a:lnTo>
                      <a:pt x="147" y="384"/>
                    </a:lnTo>
                    <a:lnTo>
                      <a:pt x="126" y="329"/>
                    </a:lnTo>
                    <a:lnTo>
                      <a:pt x="105" y="275"/>
                    </a:lnTo>
                    <a:lnTo>
                      <a:pt x="83" y="219"/>
                    </a:lnTo>
                    <a:lnTo>
                      <a:pt x="62" y="164"/>
                    </a:lnTo>
                    <a:lnTo>
                      <a:pt x="41" y="110"/>
                    </a:lnTo>
                    <a:lnTo>
                      <a:pt x="20" y="54"/>
                    </a:lnTo>
                    <a:lnTo>
                      <a:pt x="0" y="0"/>
                    </a:lnTo>
                    <a:lnTo>
                      <a:pt x="31" y="12"/>
                    </a:lnTo>
                    <a:lnTo>
                      <a:pt x="62" y="25"/>
                    </a:lnTo>
                    <a:lnTo>
                      <a:pt x="94" y="37"/>
                    </a:lnTo>
                    <a:lnTo>
                      <a:pt x="126" y="51"/>
                    </a:lnTo>
                    <a:lnTo>
                      <a:pt x="158" y="63"/>
                    </a:lnTo>
                    <a:lnTo>
                      <a:pt x="190" y="75"/>
                    </a:lnTo>
                    <a:lnTo>
                      <a:pt x="222" y="89"/>
                    </a:lnTo>
                    <a:lnTo>
                      <a:pt x="255" y="10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489360" y="5052240"/>
                <a:ext cx="156600" cy="154080"/>
              </a:xfrm>
              <a:custGeom>
                <a:avLst/>
                <a:gdLst/>
                <a:ahLst/>
                <a:rect l="l" t="t" r="r" b="b"/>
                <a:pathLst>
                  <a:path w="420" h="539">
                    <a:moveTo>
                      <a:pt x="252" y="101"/>
                    </a:moveTo>
                    <a:lnTo>
                      <a:pt x="272" y="155"/>
                    </a:lnTo>
                    <a:lnTo>
                      <a:pt x="293" y="211"/>
                    </a:lnTo>
                    <a:lnTo>
                      <a:pt x="314" y="265"/>
                    </a:lnTo>
                    <a:lnTo>
                      <a:pt x="335" y="320"/>
                    </a:lnTo>
                    <a:lnTo>
                      <a:pt x="357" y="376"/>
                    </a:lnTo>
                    <a:lnTo>
                      <a:pt x="378" y="430"/>
                    </a:lnTo>
                    <a:lnTo>
                      <a:pt x="399" y="485"/>
                    </a:lnTo>
                    <a:lnTo>
                      <a:pt x="420" y="539"/>
                    </a:lnTo>
                    <a:lnTo>
                      <a:pt x="389" y="527"/>
                    </a:lnTo>
                    <a:lnTo>
                      <a:pt x="357" y="514"/>
                    </a:lnTo>
                    <a:lnTo>
                      <a:pt x="325" y="501"/>
                    </a:lnTo>
                    <a:lnTo>
                      <a:pt x="293" y="488"/>
                    </a:lnTo>
                    <a:lnTo>
                      <a:pt x="262" y="475"/>
                    </a:lnTo>
                    <a:lnTo>
                      <a:pt x="230" y="462"/>
                    </a:lnTo>
                    <a:lnTo>
                      <a:pt x="198" y="449"/>
                    </a:lnTo>
                    <a:lnTo>
                      <a:pt x="167" y="437"/>
                    </a:lnTo>
                    <a:lnTo>
                      <a:pt x="146" y="383"/>
                    </a:lnTo>
                    <a:lnTo>
                      <a:pt x="125" y="328"/>
                    </a:lnTo>
                    <a:lnTo>
                      <a:pt x="104" y="273"/>
                    </a:lnTo>
                    <a:lnTo>
                      <a:pt x="83" y="219"/>
                    </a:lnTo>
                    <a:lnTo>
                      <a:pt x="62" y="164"/>
                    </a:lnTo>
                    <a:lnTo>
                      <a:pt x="41" y="110"/>
                    </a:lnTo>
                    <a:lnTo>
                      <a:pt x="20" y="54"/>
                    </a:lnTo>
                    <a:lnTo>
                      <a:pt x="0" y="0"/>
                    </a:lnTo>
                    <a:lnTo>
                      <a:pt x="31" y="13"/>
                    </a:lnTo>
                    <a:lnTo>
                      <a:pt x="62" y="25"/>
                    </a:lnTo>
                    <a:lnTo>
                      <a:pt x="93" y="38"/>
                    </a:lnTo>
                    <a:lnTo>
                      <a:pt x="126" y="51"/>
                    </a:lnTo>
                    <a:lnTo>
                      <a:pt x="157" y="63"/>
                    </a:lnTo>
                    <a:lnTo>
                      <a:pt x="188" y="75"/>
                    </a:lnTo>
                    <a:lnTo>
                      <a:pt x="219" y="88"/>
                    </a:lnTo>
                    <a:lnTo>
                      <a:pt x="252" y="10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393960" y="5023800"/>
                <a:ext cx="158040" cy="154080"/>
              </a:xfrm>
              <a:custGeom>
                <a:avLst/>
                <a:gdLst/>
                <a:ahLst/>
                <a:rect l="l" t="t" r="r" b="b"/>
                <a:pathLst>
                  <a:path w="421" h="538">
                    <a:moveTo>
                      <a:pt x="254" y="101"/>
                    </a:moveTo>
                    <a:lnTo>
                      <a:pt x="274" y="155"/>
                    </a:lnTo>
                    <a:lnTo>
                      <a:pt x="295" y="211"/>
                    </a:lnTo>
                    <a:lnTo>
                      <a:pt x="316" y="265"/>
                    </a:lnTo>
                    <a:lnTo>
                      <a:pt x="337" y="320"/>
                    </a:lnTo>
                    <a:lnTo>
                      <a:pt x="358" y="374"/>
                    </a:lnTo>
                    <a:lnTo>
                      <a:pt x="379" y="429"/>
                    </a:lnTo>
                    <a:lnTo>
                      <a:pt x="400" y="484"/>
                    </a:lnTo>
                    <a:lnTo>
                      <a:pt x="421" y="538"/>
                    </a:lnTo>
                    <a:lnTo>
                      <a:pt x="389" y="525"/>
                    </a:lnTo>
                    <a:lnTo>
                      <a:pt x="358" y="512"/>
                    </a:lnTo>
                    <a:lnTo>
                      <a:pt x="326" y="500"/>
                    </a:lnTo>
                    <a:lnTo>
                      <a:pt x="295" y="486"/>
                    </a:lnTo>
                    <a:lnTo>
                      <a:pt x="263" y="474"/>
                    </a:lnTo>
                    <a:lnTo>
                      <a:pt x="232" y="462"/>
                    </a:lnTo>
                    <a:lnTo>
                      <a:pt x="200" y="448"/>
                    </a:lnTo>
                    <a:lnTo>
                      <a:pt x="169" y="436"/>
                    </a:lnTo>
                    <a:lnTo>
                      <a:pt x="147" y="382"/>
                    </a:lnTo>
                    <a:lnTo>
                      <a:pt x="126" y="328"/>
                    </a:lnTo>
                    <a:lnTo>
                      <a:pt x="105" y="272"/>
                    </a:lnTo>
                    <a:lnTo>
                      <a:pt x="83" y="218"/>
                    </a:lnTo>
                    <a:lnTo>
                      <a:pt x="62" y="164"/>
                    </a:lnTo>
                    <a:lnTo>
                      <a:pt x="42" y="109"/>
                    </a:lnTo>
                    <a:lnTo>
                      <a:pt x="21" y="54"/>
                    </a:lnTo>
                    <a:lnTo>
                      <a:pt x="0" y="0"/>
                    </a:lnTo>
                    <a:lnTo>
                      <a:pt x="31" y="13"/>
                    </a:lnTo>
                    <a:lnTo>
                      <a:pt x="63" y="25"/>
                    </a:lnTo>
                    <a:lnTo>
                      <a:pt x="94" y="38"/>
                    </a:lnTo>
                    <a:lnTo>
                      <a:pt x="126" y="51"/>
                    </a:lnTo>
                    <a:lnTo>
                      <a:pt x="158" y="63"/>
                    </a:lnTo>
                    <a:lnTo>
                      <a:pt x="189" y="75"/>
                    </a:lnTo>
                    <a:lnTo>
                      <a:pt x="221" y="89"/>
                    </a:lnTo>
                    <a:lnTo>
                      <a:pt x="254" y="10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02880" y="4996800"/>
                <a:ext cx="154800" cy="150840"/>
              </a:xfrm>
              <a:custGeom>
                <a:avLst/>
                <a:gdLst/>
                <a:ahLst/>
                <a:rect l="l" t="t" r="r" b="b"/>
                <a:pathLst>
                  <a:path w="415" h="534">
                    <a:moveTo>
                      <a:pt x="246" y="98"/>
                    </a:moveTo>
                    <a:lnTo>
                      <a:pt x="267" y="152"/>
                    </a:lnTo>
                    <a:lnTo>
                      <a:pt x="288" y="207"/>
                    </a:lnTo>
                    <a:lnTo>
                      <a:pt x="308" y="262"/>
                    </a:lnTo>
                    <a:lnTo>
                      <a:pt x="329" y="316"/>
                    </a:lnTo>
                    <a:lnTo>
                      <a:pt x="351" y="370"/>
                    </a:lnTo>
                    <a:lnTo>
                      <a:pt x="372" y="426"/>
                    </a:lnTo>
                    <a:lnTo>
                      <a:pt x="393" y="480"/>
                    </a:lnTo>
                    <a:lnTo>
                      <a:pt x="415" y="534"/>
                    </a:lnTo>
                    <a:lnTo>
                      <a:pt x="383" y="522"/>
                    </a:lnTo>
                    <a:lnTo>
                      <a:pt x="352" y="508"/>
                    </a:lnTo>
                    <a:lnTo>
                      <a:pt x="320" y="496"/>
                    </a:lnTo>
                    <a:lnTo>
                      <a:pt x="289" y="484"/>
                    </a:lnTo>
                    <a:lnTo>
                      <a:pt x="258" y="470"/>
                    </a:lnTo>
                    <a:lnTo>
                      <a:pt x="227" y="458"/>
                    </a:lnTo>
                    <a:lnTo>
                      <a:pt x="195" y="445"/>
                    </a:lnTo>
                    <a:lnTo>
                      <a:pt x="164" y="433"/>
                    </a:lnTo>
                    <a:lnTo>
                      <a:pt x="143" y="379"/>
                    </a:lnTo>
                    <a:lnTo>
                      <a:pt x="123" y="325"/>
                    </a:lnTo>
                    <a:lnTo>
                      <a:pt x="102" y="271"/>
                    </a:lnTo>
                    <a:lnTo>
                      <a:pt x="81" y="216"/>
                    </a:lnTo>
                    <a:lnTo>
                      <a:pt x="61" y="162"/>
                    </a:lnTo>
                    <a:lnTo>
                      <a:pt x="40" y="108"/>
                    </a:lnTo>
                    <a:lnTo>
                      <a:pt x="20" y="54"/>
                    </a:lnTo>
                    <a:lnTo>
                      <a:pt x="0" y="0"/>
                    </a:lnTo>
                    <a:lnTo>
                      <a:pt x="31" y="12"/>
                    </a:lnTo>
                    <a:lnTo>
                      <a:pt x="61" y="24"/>
                    </a:lnTo>
                    <a:lnTo>
                      <a:pt x="92" y="37"/>
                    </a:lnTo>
                    <a:lnTo>
                      <a:pt x="123" y="49"/>
                    </a:lnTo>
                    <a:lnTo>
                      <a:pt x="154" y="61"/>
                    </a:lnTo>
                    <a:lnTo>
                      <a:pt x="184" y="74"/>
                    </a:lnTo>
                    <a:lnTo>
                      <a:pt x="215" y="86"/>
                    </a:lnTo>
                    <a:lnTo>
                      <a:pt x="246" y="98"/>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210000" y="4968000"/>
                <a:ext cx="153720" cy="151200"/>
              </a:xfrm>
              <a:custGeom>
                <a:avLst/>
                <a:gdLst/>
                <a:ahLst/>
                <a:rect l="l" t="t" r="r" b="b"/>
                <a:pathLst>
                  <a:path w="412" h="532">
                    <a:moveTo>
                      <a:pt x="248" y="99"/>
                    </a:moveTo>
                    <a:lnTo>
                      <a:pt x="268" y="153"/>
                    </a:lnTo>
                    <a:lnTo>
                      <a:pt x="288" y="207"/>
                    </a:lnTo>
                    <a:lnTo>
                      <a:pt x="309" y="261"/>
                    </a:lnTo>
                    <a:lnTo>
                      <a:pt x="329" y="315"/>
                    </a:lnTo>
                    <a:lnTo>
                      <a:pt x="350" y="370"/>
                    </a:lnTo>
                    <a:lnTo>
                      <a:pt x="371" y="424"/>
                    </a:lnTo>
                    <a:lnTo>
                      <a:pt x="391" y="478"/>
                    </a:lnTo>
                    <a:lnTo>
                      <a:pt x="412" y="532"/>
                    </a:lnTo>
                    <a:lnTo>
                      <a:pt x="382" y="520"/>
                    </a:lnTo>
                    <a:lnTo>
                      <a:pt x="351" y="506"/>
                    </a:lnTo>
                    <a:lnTo>
                      <a:pt x="319" y="494"/>
                    </a:lnTo>
                    <a:lnTo>
                      <a:pt x="288" y="482"/>
                    </a:lnTo>
                    <a:lnTo>
                      <a:pt x="258" y="469"/>
                    </a:lnTo>
                    <a:lnTo>
                      <a:pt x="227" y="457"/>
                    </a:lnTo>
                    <a:lnTo>
                      <a:pt x="195" y="445"/>
                    </a:lnTo>
                    <a:lnTo>
                      <a:pt x="165" y="431"/>
                    </a:lnTo>
                    <a:lnTo>
                      <a:pt x="144" y="378"/>
                    </a:lnTo>
                    <a:lnTo>
                      <a:pt x="123" y="324"/>
                    </a:lnTo>
                    <a:lnTo>
                      <a:pt x="103" y="270"/>
                    </a:lnTo>
                    <a:lnTo>
                      <a:pt x="81" y="216"/>
                    </a:lnTo>
                    <a:lnTo>
                      <a:pt x="61" y="162"/>
                    </a:lnTo>
                    <a:lnTo>
                      <a:pt x="41" y="109"/>
                    </a:lnTo>
                    <a:lnTo>
                      <a:pt x="21" y="54"/>
                    </a:lnTo>
                    <a:lnTo>
                      <a:pt x="0" y="0"/>
                    </a:lnTo>
                    <a:lnTo>
                      <a:pt x="31" y="13"/>
                    </a:lnTo>
                    <a:lnTo>
                      <a:pt x="62" y="25"/>
                    </a:lnTo>
                    <a:lnTo>
                      <a:pt x="92" y="37"/>
                    </a:lnTo>
                    <a:lnTo>
                      <a:pt x="124" y="50"/>
                    </a:lnTo>
                    <a:lnTo>
                      <a:pt x="155" y="62"/>
                    </a:lnTo>
                    <a:lnTo>
                      <a:pt x="185" y="74"/>
                    </a:lnTo>
                    <a:lnTo>
                      <a:pt x="216" y="86"/>
                    </a:lnTo>
                    <a:lnTo>
                      <a:pt x="248" y="9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118920" y="4941360"/>
                <a:ext cx="152280" cy="149760"/>
              </a:xfrm>
              <a:custGeom>
                <a:avLst/>
                <a:gdLst/>
                <a:ahLst/>
                <a:rect l="l" t="t" r="r" b="b"/>
                <a:pathLst>
                  <a:path w="408" h="527">
                    <a:moveTo>
                      <a:pt x="243" y="96"/>
                    </a:moveTo>
                    <a:lnTo>
                      <a:pt x="264" y="150"/>
                    </a:lnTo>
                    <a:lnTo>
                      <a:pt x="284" y="205"/>
                    </a:lnTo>
                    <a:lnTo>
                      <a:pt x="304" y="258"/>
                    </a:lnTo>
                    <a:lnTo>
                      <a:pt x="324" y="312"/>
                    </a:lnTo>
                    <a:lnTo>
                      <a:pt x="346" y="366"/>
                    </a:lnTo>
                    <a:lnTo>
                      <a:pt x="366" y="420"/>
                    </a:lnTo>
                    <a:lnTo>
                      <a:pt x="387" y="474"/>
                    </a:lnTo>
                    <a:lnTo>
                      <a:pt x="408" y="527"/>
                    </a:lnTo>
                    <a:lnTo>
                      <a:pt x="377" y="515"/>
                    </a:lnTo>
                    <a:lnTo>
                      <a:pt x="346" y="503"/>
                    </a:lnTo>
                    <a:lnTo>
                      <a:pt x="314" y="490"/>
                    </a:lnTo>
                    <a:lnTo>
                      <a:pt x="283" y="477"/>
                    </a:lnTo>
                    <a:lnTo>
                      <a:pt x="252" y="464"/>
                    </a:lnTo>
                    <a:lnTo>
                      <a:pt x="222" y="452"/>
                    </a:lnTo>
                    <a:lnTo>
                      <a:pt x="190" y="440"/>
                    </a:lnTo>
                    <a:lnTo>
                      <a:pt x="160" y="427"/>
                    </a:lnTo>
                    <a:lnTo>
                      <a:pt x="140" y="375"/>
                    </a:lnTo>
                    <a:lnTo>
                      <a:pt x="121" y="320"/>
                    </a:lnTo>
                    <a:lnTo>
                      <a:pt x="101" y="267"/>
                    </a:lnTo>
                    <a:lnTo>
                      <a:pt x="80" y="213"/>
                    </a:lnTo>
                    <a:lnTo>
                      <a:pt x="60" y="160"/>
                    </a:lnTo>
                    <a:lnTo>
                      <a:pt x="40" y="106"/>
                    </a:lnTo>
                    <a:lnTo>
                      <a:pt x="20" y="53"/>
                    </a:lnTo>
                    <a:lnTo>
                      <a:pt x="0" y="0"/>
                    </a:lnTo>
                    <a:lnTo>
                      <a:pt x="30" y="11"/>
                    </a:lnTo>
                    <a:lnTo>
                      <a:pt x="60" y="24"/>
                    </a:lnTo>
                    <a:lnTo>
                      <a:pt x="92" y="36"/>
                    </a:lnTo>
                    <a:lnTo>
                      <a:pt x="122" y="48"/>
                    </a:lnTo>
                    <a:lnTo>
                      <a:pt x="152" y="61"/>
                    </a:lnTo>
                    <a:lnTo>
                      <a:pt x="182" y="73"/>
                    </a:lnTo>
                    <a:lnTo>
                      <a:pt x="213" y="84"/>
                    </a:lnTo>
                    <a:lnTo>
                      <a:pt x="243" y="9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29640" y="4912560"/>
                <a:ext cx="149040" cy="149760"/>
              </a:xfrm>
              <a:custGeom>
                <a:avLst/>
                <a:gdLst/>
                <a:ahLst/>
                <a:rect l="l" t="t" r="r" b="b"/>
                <a:pathLst>
                  <a:path w="401" h="524">
                    <a:moveTo>
                      <a:pt x="241" y="97"/>
                    </a:moveTo>
                    <a:lnTo>
                      <a:pt x="261" y="150"/>
                    </a:lnTo>
                    <a:lnTo>
                      <a:pt x="281" y="203"/>
                    </a:lnTo>
                    <a:lnTo>
                      <a:pt x="301" y="257"/>
                    </a:lnTo>
                    <a:lnTo>
                      <a:pt x="321" y="310"/>
                    </a:lnTo>
                    <a:lnTo>
                      <a:pt x="342" y="364"/>
                    </a:lnTo>
                    <a:lnTo>
                      <a:pt x="362" y="417"/>
                    </a:lnTo>
                    <a:lnTo>
                      <a:pt x="381" y="472"/>
                    </a:lnTo>
                    <a:lnTo>
                      <a:pt x="401" y="524"/>
                    </a:lnTo>
                    <a:lnTo>
                      <a:pt x="371" y="512"/>
                    </a:lnTo>
                    <a:lnTo>
                      <a:pt x="341" y="500"/>
                    </a:lnTo>
                    <a:lnTo>
                      <a:pt x="310" y="488"/>
                    </a:lnTo>
                    <a:lnTo>
                      <a:pt x="280" y="475"/>
                    </a:lnTo>
                    <a:lnTo>
                      <a:pt x="250" y="463"/>
                    </a:lnTo>
                    <a:lnTo>
                      <a:pt x="219" y="451"/>
                    </a:lnTo>
                    <a:lnTo>
                      <a:pt x="188" y="438"/>
                    </a:lnTo>
                    <a:lnTo>
                      <a:pt x="158" y="426"/>
                    </a:lnTo>
                    <a:lnTo>
                      <a:pt x="138" y="373"/>
                    </a:lnTo>
                    <a:lnTo>
                      <a:pt x="119" y="320"/>
                    </a:lnTo>
                    <a:lnTo>
                      <a:pt x="99" y="267"/>
                    </a:lnTo>
                    <a:lnTo>
                      <a:pt x="79" y="213"/>
                    </a:lnTo>
                    <a:lnTo>
                      <a:pt x="59" y="160"/>
                    </a:lnTo>
                    <a:lnTo>
                      <a:pt x="39" y="106"/>
                    </a:lnTo>
                    <a:lnTo>
                      <a:pt x="19" y="53"/>
                    </a:lnTo>
                    <a:lnTo>
                      <a:pt x="0" y="0"/>
                    </a:lnTo>
                    <a:lnTo>
                      <a:pt x="30" y="12"/>
                    </a:lnTo>
                    <a:lnTo>
                      <a:pt x="60" y="25"/>
                    </a:lnTo>
                    <a:lnTo>
                      <a:pt x="91" y="36"/>
                    </a:lnTo>
                    <a:lnTo>
                      <a:pt x="121" y="48"/>
                    </a:lnTo>
                    <a:lnTo>
                      <a:pt x="151" y="60"/>
                    </a:lnTo>
                    <a:lnTo>
                      <a:pt x="181" y="73"/>
                    </a:lnTo>
                    <a:lnTo>
                      <a:pt x="212" y="85"/>
                    </a:lnTo>
                    <a:lnTo>
                      <a:pt x="241" y="97"/>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940000" y="4885560"/>
                <a:ext cx="149040" cy="147960"/>
              </a:xfrm>
              <a:custGeom>
                <a:avLst/>
                <a:gdLst/>
                <a:ahLst/>
                <a:rect l="l" t="t" r="r" b="b"/>
                <a:pathLst>
                  <a:path w="400" h="522">
                    <a:moveTo>
                      <a:pt x="242" y="96"/>
                    </a:moveTo>
                    <a:lnTo>
                      <a:pt x="261" y="149"/>
                    </a:lnTo>
                    <a:lnTo>
                      <a:pt x="281" y="202"/>
                    </a:lnTo>
                    <a:lnTo>
                      <a:pt x="301" y="256"/>
                    </a:lnTo>
                    <a:lnTo>
                      <a:pt x="321" y="309"/>
                    </a:lnTo>
                    <a:lnTo>
                      <a:pt x="341" y="363"/>
                    </a:lnTo>
                    <a:lnTo>
                      <a:pt x="361" y="416"/>
                    </a:lnTo>
                    <a:lnTo>
                      <a:pt x="380" y="469"/>
                    </a:lnTo>
                    <a:lnTo>
                      <a:pt x="400" y="522"/>
                    </a:lnTo>
                    <a:lnTo>
                      <a:pt x="370" y="510"/>
                    </a:lnTo>
                    <a:lnTo>
                      <a:pt x="340" y="497"/>
                    </a:lnTo>
                    <a:lnTo>
                      <a:pt x="309" y="485"/>
                    </a:lnTo>
                    <a:lnTo>
                      <a:pt x="279" y="473"/>
                    </a:lnTo>
                    <a:lnTo>
                      <a:pt x="249" y="460"/>
                    </a:lnTo>
                    <a:lnTo>
                      <a:pt x="219" y="448"/>
                    </a:lnTo>
                    <a:lnTo>
                      <a:pt x="188" y="436"/>
                    </a:lnTo>
                    <a:lnTo>
                      <a:pt x="159" y="423"/>
                    </a:lnTo>
                    <a:lnTo>
                      <a:pt x="138" y="372"/>
                    </a:lnTo>
                    <a:lnTo>
                      <a:pt x="119" y="319"/>
                    </a:lnTo>
                    <a:lnTo>
                      <a:pt x="99" y="266"/>
                    </a:lnTo>
                    <a:lnTo>
                      <a:pt x="79" y="213"/>
                    </a:lnTo>
                    <a:lnTo>
                      <a:pt x="59" y="160"/>
                    </a:lnTo>
                    <a:lnTo>
                      <a:pt x="39" y="106"/>
                    </a:lnTo>
                    <a:lnTo>
                      <a:pt x="20" y="53"/>
                    </a:lnTo>
                    <a:lnTo>
                      <a:pt x="0" y="0"/>
                    </a:lnTo>
                    <a:lnTo>
                      <a:pt x="30" y="12"/>
                    </a:lnTo>
                    <a:lnTo>
                      <a:pt x="59" y="23"/>
                    </a:lnTo>
                    <a:lnTo>
                      <a:pt x="90" y="36"/>
                    </a:lnTo>
                    <a:lnTo>
                      <a:pt x="120" y="48"/>
                    </a:lnTo>
                    <a:lnTo>
                      <a:pt x="150" y="60"/>
                    </a:lnTo>
                    <a:lnTo>
                      <a:pt x="180" y="71"/>
                    </a:lnTo>
                    <a:lnTo>
                      <a:pt x="211" y="84"/>
                    </a:lnTo>
                    <a:lnTo>
                      <a:pt x="242" y="9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850720" y="4858560"/>
                <a:ext cx="147240" cy="147960"/>
              </a:xfrm>
              <a:custGeom>
                <a:avLst/>
                <a:gdLst/>
                <a:ahLst/>
                <a:rect l="l" t="t" r="r" b="b"/>
                <a:pathLst>
                  <a:path w="398" h="518">
                    <a:moveTo>
                      <a:pt x="239" y="95"/>
                    </a:moveTo>
                    <a:lnTo>
                      <a:pt x="259" y="148"/>
                    </a:lnTo>
                    <a:lnTo>
                      <a:pt x="278" y="201"/>
                    </a:lnTo>
                    <a:lnTo>
                      <a:pt x="298" y="255"/>
                    </a:lnTo>
                    <a:lnTo>
                      <a:pt x="318" y="308"/>
                    </a:lnTo>
                    <a:lnTo>
                      <a:pt x="338" y="361"/>
                    </a:lnTo>
                    <a:lnTo>
                      <a:pt x="358" y="414"/>
                    </a:lnTo>
                    <a:lnTo>
                      <a:pt x="377" y="467"/>
                    </a:lnTo>
                    <a:lnTo>
                      <a:pt x="398" y="518"/>
                    </a:lnTo>
                    <a:lnTo>
                      <a:pt x="368" y="507"/>
                    </a:lnTo>
                    <a:lnTo>
                      <a:pt x="338" y="495"/>
                    </a:lnTo>
                    <a:lnTo>
                      <a:pt x="309" y="483"/>
                    </a:lnTo>
                    <a:lnTo>
                      <a:pt x="278" y="470"/>
                    </a:lnTo>
                    <a:lnTo>
                      <a:pt x="248" y="458"/>
                    </a:lnTo>
                    <a:lnTo>
                      <a:pt x="219" y="447"/>
                    </a:lnTo>
                    <a:lnTo>
                      <a:pt x="189" y="435"/>
                    </a:lnTo>
                    <a:lnTo>
                      <a:pt x="158" y="422"/>
                    </a:lnTo>
                    <a:lnTo>
                      <a:pt x="138" y="370"/>
                    </a:lnTo>
                    <a:lnTo>
                      <a:pt x="118" y="317"/>
                    </a:lnTo>
                    <a:lnTo>
                      <a:pt x="98" y="265"/>
                    </a:lnTo>
                    <a:lnTo>
                      <a:pt x="79" y="212"/>
                    </a:lnTo>
                    <a:lnTo>
                      <a:pt x="59" y="159"/>
                    </a:lnTo>
                    <a:lnTo>
                      <a:pt x="39" y="106"/>
                    </a:lnTo>
                    <a:lnTo>
                      <a:pt x="19" y="53"/>
                    </a:lnTo>
                    <a:lnTo>
                      <a:pt x="0" y="0"/>
                    </a:lnTo>
                    <a:lnTo>
                      <a:pt x="30" y="11"/>
                    </a:lnTo>
                    <a:lnTo>
                      <a:pt x="60" y="24"/>
                    </a:lnTo>
                    <a:lnTo>
                      <a:pt x="90" y="36"/>
                    </a:lnTo>
                    <a:lnTo>
                      <a:pt x="120" y="47"/>
                    </a:lnTo>
                    <a:lnTo>
                      <a:pt x="149" y="59"/>
                    </a:lnTo>
                    <a:lnTo>
                      <a:pt x="180" y="72"/>
                    </a:lnTo>
                    <a:lnTo>
                      <a:pt x="209" y="83"/>
                    </a:lnTo>
                    <a:lnTo>
                      <a:pt x="239" y="95"/>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762520" y="4831200"/>
                <a:ext cx="146160" cy="146880"/>
              </a:xfrm>
              <a:custGeom>
                <a:avLst/>
                <a:gdLst/>
                <a:ahLst/>
                <a:rect l="l" t="t" r="r" b="b"/>
                <a:pathLst>
                  <a:path w="392" h="515">
                    <a:moveTo>
                      <a:pt x="234" y="93"/>
                    </a:moveTo>
                    <a:lnTo>
                      <a:pt x="253" y="146"/>
                    </a:lnTo>
                    <a:lnTo>
                      <a:pt x="273" y="199"/>
                    </a:lnTo>
                    <a:lnTo>
                      <a:pt x="293" y="252"/>
                    </a:lnTo>
                    <a:lnTo>
                      <a:pt x="313" y="305"/>
                    </a:lnTo>
                    <a:lnTo>
                      <a:pt x="332" y="358"/>
                    </a:lnTo>
                    <a:lnTo>
                      <a:pt x="352" y="410"/>
                    </a:lnTo>
                    <a:lnTo>
                      <a:pt x="372" y="463"/>
                    </a:lnTo>
                    <a:lnTo>
                      <a:pt x="392" y="515"/>
                    </a:lnTo>
                    <a:lnTo>
                      <a:pt x="362" y="503"/>
                    </a:lnTo>
                    <a:lnTo>
                      <a:pt x="332" y="491"/>
                    </a:lnTo>
                    <a:lnTo>
                      <a:pt x="303" y="480"/>
                    </a:lnTo>
                    <a:lnTo>
                      <a:pt x="272" y="467"/>
                    </a:lnTo>
                    <a:lnTo>
                      <a:pt x="243" y="455"/>
                    </a:lnTo>
                    <a:lnTo>
                      <a:pt x="213" y="443"/>
                    </a:lnTo>
                    <a:lnTo>
                      <a:pt x="184" y="431"/>
                    </a:lnTo>
                    <a:lnTo>
                      <a:pt x="153" y="419"/>
                    </a:lnTo>
                    <a:lnTo>
                      <a:pt x="134" y="367"/>
                    </a:lnTo>
                    <a:lnTo>
                      <a:pt x="115" y="315"/>
                    </a:lnTo>
                    <a:lnTo>
                      <a:pt x="95" y="262"/>
                    </a:lnTo>
                    <a:lnTo>
                      <a:pt x="76" y="209"/>
                    </a:lnTo>
                    <a:lnTo>
                      <a:pt x="57" y="157"/>
                    </a:lnTo>
                    <a:lnTo>
                      <a:pt x="39" y="104"/>
                    </a:lnTo>
                    <a:lnTo>
                      <a:pt x="19" y="51"/>
                    </a:lnTo>
                    <a:lnTo>
                      <a:pt x="0" y="0"/>
                    </a:lnTo>
                    <a:lnTo>
                      <a:pt x="29" y="11"/>
                    </a:lnTo>
                    <a:lnTo>
                      <a:pt x="59" y="23"/>
                    </a:lnTo>
                    <a:lnTo>
                      <a:pt x="88" y="34"/>
                    </a:lnTo>
                    <a:lnTo>
                      <a:pt x="117" y="46"/>
                    </a:lnTo>
                    <a:lnTo>
                      <a:pt x="146" y="58"/>
                    </a:lnTo>
                    <a:lnTo>
                      <a:pt x="176" y="70"/>
                    </a:lnTo>
                    <a:lnTo>
                      <a:pt x="205" y="81"/>
                    </a:lnTo>
                    <a:lnTo>
                      <a:pt x="234" y="93"/>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76120" y="4805640"/>
                <a:ext cx="144360" cy="145080"/>
              </a:xfrm>
              <a:custGeom>
                <a:avLst/>
                <a:gdLst/>
                <a:ahLst/>
                <a:rect l="l" t="t" r="r" b="b"/>
                <a:pathLst>
                  <a:path w="387" h="513">
                    <a:moveTo>
                      <a:pt x="234" y="94"/>
                    </a:moveTo>
                    <a:lnTo>
                      <a:pt x="253" y="145"/>
                    </a:lnTo>
                    <a:lnTo>
                      <a:pt x="273" y="198"/>
                    </a:lnTo>
                    <a:lnTo>
                      <a:pt x="291" y="251"/>
                    </a:lnTo>
                    <a:lnTo>
                      <a:pt x="310" y="303"/>
                    </a:lnTo>
                    <a:lnTo>
                      <a:pt x="329" y="356"/>
                    </a:lnTo>
                    <a:lnTo>
                      <a:pt x="349" y="409"/>
                    </a:lnTo>
                    <a:lnTo>
                      <a:pt x="368" y="461"/>
                    </a:lnTo>
                    <a:lnTo>
                      <a:pt x="387" y="513"/>
                    </a:lnTo>
                    <a:lnTo>
                      <a:pt x="358" y="501"/>
                    </a:lnTo>
                    <a:lnTo>
                      <a:pt x="329" y="489"/>
                    </a:lnTo>
                    <a:lnTo>
                      <a:pt x="300" y="478"/>
                    </a:lnTo>
                    <a:lnTo>
                      <a:pt x="271" y="465"/>
                    </a:lnTo>
                    <a:lnTo>
                      <a:pt x="241" y="453"/>
                    </a:lnTo>
                    <a:lnTo>
                      <a:pt x="212" y="442"/>
                    </a:lnTo>
                    <a:lnTo>
                      <a:pt x="183" y="430"/>
                    </a:lnTo>
                    <a:lnTo>
                      <a:pt x="154" y="417"/>
                    </a:lnTo>
                    <a:lnTo>
                      <a:pt x="134" y="366"/>
                    </a:lnTo>
                    <a:lnTo>
                      <a:pt x="114" y="314"/>
                    </a:lnTo>
                    <a:lnTo>
                      <a:pt x="95" y="261"/>
                    </a:lnTo>
                    <a:lnTo>
                      <a:pt x="76" y="209"/>
                    </a:lnTo>
                    <a:lnTo>
                      <a:pt x="57" y="156"/>
                    </a:lnTo>
                    <a:lnTo>
                      <a:pt x="38" y="105"/>
                    </a:lnTo>
                    <a:lnTo>
                      <a:pt x="20" y="52"/>
                    </a:lnTo>
                    <a:lnTo>
                      <a:pt x="0" y="0"/>
                    </a:lnTo>
                    <a:lnTo>
                      <a:pt x="30" y="11"/>
                    </a:lnTo>
                    <a:lnTo>
                      <a:pt x="59" y="24"/>
                    </a:lnTo>
                    <a:lnTo>
                      <a:pt x="88" y="35"/>
                    </a:lnTo>
                    <a:lnTo>
                      <a:pt x="117" y="47"/>
                    </a:lnTo>
                    <a:lnTo>
                      <a:pt x="147" y="58"/>
                    </a:lnTo>
                    <a:lnTo>
                      <a:pt x="176" y="70"/>
                    </a:lnTo>
                    <a:lnTo>
                      <a:pt x="205" y="81"/>
                    </a:lnTo>
                    <a:lnTo>
                      <a:pt x="234" y="94"/>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589360" y="4778280"/>
                <a:ext cx="142920" cy="145440"/>
              </a:xfrm>
              <a:custGeom>
                <a:avLst/>
                <a:gdLst/>
                <a:ahLst/>
                <a:rect l="l" t="t" r="r" b="b"/>
                <a:pathLst>
                  <a:path w="386" h="509">
                    <a:moveTo>
                      <a:pt x="232" y="92"/>
                    </a:moveTo>
                    <a:lnTo>
                      <a:pt x="252" y="144"/>
                    </a:lnTo>
                    <a:lnTo>
                      <a:pt x="270" y="197"/>
                    </a:lnTo>
                    <a:lnTo>
                      <a:pt x="289" y="248"/>
                    </a:lnTo>
                    <a:lnTo>
                      <a:pt x="308" y="301"/>
                    </a:lnTo>
                    <a:lnTo>
                      <a:pt x="327" y="353"/>
                    </a:lnTo>
                    <a:lnTo>
                      <a:pt x="346" y="406"/>
                    </a:lnTo>
                    <a:lnTo>
                      <a:pt x="366" y="458"/>
                    </a:lnTo>
                    <a:lnTo>
                      <a:pt x="386" y="509"/>
                    </a:lnTo>
                    <a:lnTo>
                      <a:pt x="356" y="498"/>
                    </a:lnTo>
                    <a:lnTo>
                      <a:pt x="327" y="486"/>
                    </a:lnTo>
                    <a:lnTo>
                      <a:pt x="298" y="475"/>
                    </a:lnTo>
                    <a:lnTo>
                      <a:pt x="269" y="463"/>
                    </a:lnTo>
                    <a:lnTo>
                      <a:pt x="239" y="450"/>
                    </a:lnTo>
                    <a:lnTo>
                      <a:pt x="210" y="439"/>
                    </a:lnTo>
                    <a:lnTo>
                      <a:pt x="181" y="427"/>
                    </a:lnTo>
                    <a:lnTo>
                      <a:pt x="152" y="415"/>
                    </a:lnTo>
                    <a:lnTo>
                      <a:pt x="133" y="363"/>
                    </a:lnTo>
                    <a:lnTo>
                      <a:pt x="113" y="311"/>
                    </a:lnTo>
                    <a:lnTo>
                      <a:pt x="94" y="260"/>
                    </a:lnTo>
                    <a:lnTo>
                      <a:pt x="75" y="208"/>
                    </a:lnTo>
                    <a:lnTo>
                      <a:pt x="56" y="156"/>
                    </a:lnTo>
                    <a:lnTo>
                      <a:pt x="37" y="103"/>
                    </a:lnTo>
                    <a:lnTo>
                      <a:pt x="19" y="52"/>
                    </a:lnTo>
                    <a:lnTo>
                      <a:pt x="0" y="0"/>
                    </a:lnTo>
                    <a:lnTo>
                      <a:pt x="29" y="11"/>
                    </a:lnTo>
                    <a:lnTo>
                      <a:pt x="58" y="23"/>
                    </a:lnTo>
                    <a:lnTo>
                      <a:pt x="87" y="34"/>
                    </a:lnTo>
                    <a:lnTo>
                      <a:pt x="116" y="45"/>
                    </a:lnTo>
                    <a:lnTo>
                      <a:pt x="145" y="58"/>
                    </a:lnTo>
                    <a:lnTo>
                      <a:pt x="174" y="69"/>
                    </a:lnTo>
                    <a:lnTo>
                      <a:pt x="203" y="80"/>
                    </a:lnTo>
                    <a:lnTo>
                      <a:pt x="232" y="9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502600" y="4752720"/>
                <a:ext cx="143280" cy="144360"/>
              </a:xfrm>
              <a:custGeom>
                <a:avLst/>
                <a:gdLst/>
                <a:ahLst/>
                <a:rect l="l" t="t" r="r" b="b"/>
                <a:pathLst>
                  <a:path w="382" h="507">
                    <a:moveTo>
                      <a:pt x="230" y="92"/>
                    </a:moveTo>
                    <a:lnTo>
                      <a:pt x="249" y="144"/>
                    </a:lnTo>
                    <a:lnTo>
                      <a:pt x="267" y="195"/>
                    </a:lnTo>
                    <a:lnTo>
                      <a:pt x="286" y="248"/>
                    </a:lnTo>
                    <a:lnTo>
                      <a:pt x="305" y="300"/>
                    </a:lnTo>
                    <a:lnTo>
                      <a:pt x="324" y="352"/>
                    </a:lnTo>
                    <a:lnTo>
                      <a:pt x="343" y="403"/>
                    </a:lnTo>
                    <a:lnTo>
                      <a:pt x="363" y="455"/>
                    </a:lnTo>
                    <a:lnTo>
                      <a:pt x="382" y="507"/>
                    </a:lnTo>
                    <a:lnTo>
                      <a:pt x="353" y="496"/>
                    </a:lnTo>
                    <a:lnTo>
                      <a:pt x="324" y="483"/>
                    </a:lnTo>
                    <a:lnTo>
                      <a:pt x="295" y="472"/>
                    </a:lnTo>
                    <a:lnTo>
                      <a:pt x="267" y="460"/>
                    </a:lnTo>
                    <a:lnTo>
                      <a:pt x="238" y="449"/>
                    </a:lnTo>
                    <a:lnTo>
                      <a:pt x="209" y="436"/>
                    </a:lnTo>
                    <a:lnTo>
                      <a:pt x="181" y="425"/>
                    </a:lnTo>
                    <a:lnTo>
                      <a:pt x="152" y="413"/>
                    </a:lnTo>
                    <a:lnTo>
                      <a:pt x="133" y="363"/>
                    </a:lnTo>
                    <a:lnTo>
                      <a:pt x="114" y="311"/>
                    </a:lnTo>
                    <a:lnTo>
                      <a:pt x="94" y="259"/>
                    </a:lnTo>
                    <a:lnTo>
                      <a:pt x="75" y="208"/>
                    </a:lnTo>
                    <a:lnTo>
                      <a:pt x="56" y="156"/>
                    </a:lnTo>
                    <a:lnTo>
                      <a:pt x="38" y="104"/>
                    </a:lnTo>
                    <a:lnTo>
                      <a:pt x="19" y="51"/>
                    </a:lnTo>
                    <a:lnTo>
                      <a:pt x="0" y="0"/>
                    </a:lnTo>
                    <a:lnTo>
                      <a:pt x="29" y="12"/>
                    </a:lnTo>
                    <a:lnTo>
                      <a:pt x="57" y="23"/>
                    </a:lnTo>
                    <a:lnTo>
                      <a:pt x="86" y="34"/>
                    </a:lnTo>
                    <a:lnTo>
                      <a:pt x="115" y="46"/>
                    </a:lnTo>
                    <a:lnTo>
                      <a:pt x="144" y="57"/>
                    </a:lnTo>
                    <a:lnTo>
                      <a:pt x="172" y="68"/>
                    </a:lnTo>
                    <a:lnTo>
                      <a:pt x="201" y="81"/>
                    </a:lnTo>
                    <a:lnTo>
                      <a:pt x="230" y="9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417640" y="4725720"/>
                <a:ext cx="141480" cy="144000"/>
              </a:xfrm>
              <a:custGeom>
                <a:avLst/>
                <a:gdLst/>
                <a:ahLst/>
                <a:rect l="l" t="t" r="r" b="b"/>
                <a:pathLst>
                  <a:path w="380" h="505">
                    <a:moveTo>
                      <a:pt x="228" y="92"/>
                    </a:moveTo>
                    <a:lnTo>
                      <a:pt x="247" y="143"/>
                    </a:lnTo>
                    <a:lnTo>
                      <a:pt x="266" y="196"/>
                    </a:lnTo>
                    <a:lnTo>
                      <a:pt x="284" y="248"/>
                    </a:lnTo>
                    <a:lnTo>
                      <a:pt x="303" y="300"/>
                    </a:lnTo>
                    <a:lnTo>
                      <a:pt x="322" y="351"/>
                    </a:lnTo>
                    <a:lnTo>
                      <a:pt x="342" y="403"/>
                    </a:lnTo>
                    <a:lnTo>
                      <a:pt x="361" y="455"/>
                    </a:lnTo>
                    <a:lnTo>
                      <a:pt x="380" y="505"/>
                    </a:lnTo>
                    <a:lnTo>
                      <a:pt x="351" y="494"/>
                    </a:lnTo>
                    <a:lnTo>
                      <a:pt x="321" y="483"/>
                    </a:lnTo>
                    <a:lnTo>
                      <a:pt x="293" y="471"/>
                    </a:lnTo>
                    <a:lnTo>
                      <a:pt x="264" y="460"/>
                    </a:lnTo>
                    <a:lnTo>
                      <a:pt x="235" y="447"/>
                    </a:lnTo>
                    <a:lnTo>
                      <a:pt x="207" y="436"/>
                    </a:lnTo>
                    <a:lnTo>
                      <a:pt x="177" y="424"/>
                    </a:lnTo>
                    <a:lnTo>
                      <a:pt x="149" y="413"/>
                    </a:lnTo>
                    <a:lnTo>
                      <a:pt x="130" y="361"/>
                    </a:lnTo>
                    <a:lnTo>
                      <a:pt x="111" y="309"/>
                    </a:lnTo>
                    <a:lnTo>
                      <a:pt x="92" y="259"/>
                    </a:lnTo>
                    <a:lnTo>
                      <a:pt x="73" y="207"/>
                    </a:lnTo>
                    <a:lnTo>
                      <a:pt x="55" y="156"/>
                    </a:lnTo>
                    <a:lnTo>
                      <a:pt x="36" y="104"/>
                    </a:lnTo>
                    <a:lnTo>
                      <a:pt x="18" y="52"/>
                    </a:lnTo>
                    <a:lnTo>
                      <a:pt x="0" y="0"/>
                    </a:lnTo>
                    <a:lnTo>
                      <a:pt x="28" y="13"/>
                    </a:lnTo>
                    <a:lnTo>
                      <a:pt x="56" y="24"/>
                    </a:lnTo>
                    <a:lnTo>
                      <a:pt x="86" y="35"/>
                    </a:lnTo>
                    <a:lnTo>
                      <a:pt x="114" y="46"/>
                    </a:lnTo>
                    <a:lnTo>
                      <a:pt x="142" y="57"/>
                    </a:lnTo>
                    <a:lnTo>
                      <a:pt x="171" y="69"/>
                    </a:lnTo>
                    <a:lnTo>
                      <a:pt x="199" y="80"/>
                    </a:lnTo>
                    <a:lnTo>
                      <a:pt x="228" y="9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334120" y="4701600"/>
                <a:ext cx="140040" cy="142560"/>
              </a:xfrm>
              <a:custGeom>
                <a:avLst/>
                <a:gdLst/>
                <a:ahLst/>
                <a:rect l="l" t="t" r="r" b="b"/>
                <a:pathLst>
                  <a:path w="375" h="502">
                    <a:moveTo>
                      <a:pt x="226" y="89"/>
                    </a:moveTo>
                    <a:lnTo>
                      <a:pt x="244" y="141"/>
                    </a:lnTo>
                    <a:lnTo>
                      <a:pt x="262" y="193"/>
                    </a:lnTo>
                    <a:lnTo>
                      <a:pt x="281" y="245"/>
                    </a:lnTo>
                    <a:lnTo>
                      <a:pt x="299" y="296"/>
                    </a:lnTo>
                    <a:lnTo>
                      <a:pt x="318" y="348"/>
                    </a:lnTo>
                    <a:lnTo>
                      <a:pt x="337" y="398"/>
                    </a:lnTo>
                    <a:lnTo>
                      <a:pt x="356" y="450"/>
                    </a:lnTo>
                    <a:lnTo>
                      <a:pt x="375" y="502"/>
                    </a:lnTo>
                    <a:lnTo>
                      <a:pt x="347" y="489"/>
                    </a:lnTo>
                    <a:lnTo>
                      <a:pt x="318" y="478"/>
                    </a:lnTo>
                    <a:lnTo>
                      <a:pt x="289" y="467"/>
                    </a:lnTo>
                    <a:lnTo>
                      <a:pt x="261" y="455"/>
                    </a:lnTo>
                    <a:lnTo>
                      <a:pt x="233" y="444"/>
                    </a:lnTo>
                    <a:lnTo>
                      <a:pt x="204" y="433"/>
                    </a:lnTo>
                    <a:lnTo>
                      <a:pt x="176" y="421"/>
                    </a:lnTo>
                    <a:lnTo>
                      <a:pt x="147" y="409"/>
                    </a:lnTo>
                    <a:lnTo>
                      <a:pt x="128" y="359"/>
                    </a:lnTo>
                    <a:lnTo>
                      <a:pt x="110" y="307"/>
                    </a:lnTo>
                    <a:lnTo>
                      <a:pt x="91" y="256"/>
                    </a:lnTo>
                    <a:lnTo>
                      <a:pt x="73" y="205"/>
                    </a:lnTo>
                    <a:lnTo>
                      <a:pt x="55" y="153"/>
                    </a:lnTo>
                    <a:lnTo>
                      <a:pt x="36" y="103"/>
                    </a:lnTo>
                    <a:lnTo>
                      <a:pt x="18" y="51"/>
                    </a:lnTo>
                    <a:lnTo>
                      <a:pt x="0" y="0"/>
                    </a:lnTo>
                    <a:lnTo>
                      <a:pt x="27" y="11"/>
                    </a:lnTo>
                    <a:lnTo>
                      <a:pt x="57" y="22"/>
                    </a:lnTo>
                    <a:lnTo>
                      <a:pt x="85" y="34"/>
                    </a:lnTo>
                    <a:lnTo>
                      <a:pt x="113" y="45"/>
                    </a:lnTo>
                    <a:lnTo>
                      <a:pt x="141" y="56"/>
                    </a:lnTo>
                    <a:lnTo>
                      <a:pt x="169" y="67"/>
                    </a:lnTo>
                    <a:lnTo>
                      <a:pt x="198" y="78"/>
                    </a:lnTo>
                    <a:lnTo>
                      <a:pt x="226" y="8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249160" y="4675680"/>
                <a:ext cx="140040" cy="141120"/>
              </a:xfrm>
              <a:custGeom>
                <a:avLst/>
                <a:gdLst/>
                <a:ahLst/>
                <a:rect l="l" t="t" r="r" b="b"/>
                <a:pathLst>
                  <a:path w="373" h="499">
                    <a:moveTo>
                      <a:pt x="226" y="90"/>
                    </a:moveTo>
                    <a:lnTo>
                      <a:pt x="244" y="141"/>
                    </a:lnTo>
                    <a:lnTo>
                      <a:pt x="262" y="193"/>
                    </a:lnTo>
                    <a:lnTo>
                      <a:pt x="281" y="243"/>
                    </a:lnTo>
                    <a:lnTo>
                      <a:pt x="299" y="295"/>
                    </a:lnTo>
                    <a:lnTo>
                      <a:pt x="317" y="346"/>
                    </a:lnTo>
                    <a:lnTo>
                      <a:pt x="336" y="397"/>
                    </a:lnTo>
                    <a:lnTo>
                      <a:pt x="354" y="449"/>
                    </a:lnTo>
                    <a:lnTo>
                      <a:pt x="373" y="499"/>
                    </a:lnTo>
                    <a:lnTo>
                      <a:pt x="345" y="488"/>
                    </a:lnTo>
                    <a:lnTo>
                      <a:pt x="317" y="476"/>
                    </a:lnTo>
                    <a:lnTo>
                      <a:pt x="289" y="465"/>
                    </a:lnTo>
                    <a:lnTo>
                      <a:pt x="260" y="454"/>
                    </a:lnTo>
                    <a:lnTo>
                      <a:pt x="232" y="442"/>
                    </a:lnTo>
                    <a:lnTo>
                      <a:pt x="204" y="431"/>
                    </a:lnTo>
                    <a:lnTo>
                      <a:pt x="175" y="419"/>
                    </a:lnTo>
                    <a:lnTo>
                      <a:pt x="146" y="407"/>
                    </a:lnTo>
                    <a:lnTo>
                      <a:pt x="128" y="357"/>
                    </a:lnTo>
                    <a:lnTo>
                      <a:pt x="109" y="306"/>
                    </a:lnTo>
                    <a:lnTo>
                      <a:pt x="91" y="256"/>
                    </a:lnTo>
                    <a:lnTo>
                      <a:pt x="73" y="204"/>
                    </a:lnTo>
                    <a:lnTo>
                      <a:pt x="55" y="154"/>
                    </a:lnTo>
                    <a:lnTo>
                      <a:pt x="37" y="102"/>
                    </a:lnTo>
                    <a:lnTo>
                      <a:pt x="18" y="51"/>
                    </a:lnTo>
                    <a:lnTo>
                      <a:pt x="0" y="0"/>
                    </a:lnTo>
                    <a:lnTo>
                      <a:pt x="29" y="11"/>
                    </a:lnTo>
                    <a:lnTo>
                      <a:pt x="57" y="22"/>
                    </a:lnTo>
                    <a:lnTo>
                      <a:pt x="85" y="34"/>
                    </a:lnTo>
                    <a:lnTo>
                      <a:pt x="112" y="45"/>
                    </a:lnTo>
                    <a:lnTo>
                      <a:pt x="140" y="56"/>
                    </a:lnTo>
                    <a:lnTo>
                      <a:pt x="169" y="67"/>
                    </a:lnTo>
                    <a:lnTo>
                      <a:pt x="197" y="78"/>
                    </a:lnTo>
                    <a:lnTo>
                      <a:pt x="226" y="90"/>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165640" y="4650120"/>
                <a:ext cx="138600" cy="141120"/>
              </a:xfrm>
              <a:custGeom>
                <a:avLst/>
                <a:gdLst/>
                <a:ahLst/>
                <a:rect l="l" t="t" r="r" b="b"/>
                <a:pathLst>
                  <a:path w="369" h="496">
                    <a:moveTo>
                      <a:pt x="223" y="89"/>
                    </a:moveTo>
                    <a:lnTo>
                      <a:pt x="241" y="140"/>
                    </a:lnTo>
                    <a:lnTo>
                      <a:pt x="260" y="191"/>
                    </a:lnTo>
                    <a:lnTo>
                      <a:pt x="278" y="243"/>
                    </a:lnTo>
                    <a:lnTo>
                      <a:pt x="296" y="293"/>
                    </a:lnTo>
                    <a:lnTo>
                      <a:pt x="314" y="345"/>
                    </a:lnTo>
                    <a:lnTo>
                      <a:pt x="332" y="395"/>
                    </a:lnTo>
                    <a:lnTo>
                      <a:pt x="351" y="446"/>
                    </a:lnTo>
                    <a:lnTo>
                      <a:pt x="369" y="496"/>
                    </a:lnTo>
                    <a:lnTo>
                      <a:pt x="341" y="485"/>
                    </a:lnTo>
                    <a:lnTo>
                      <a:pt x="314" y="474"/>
                    </a:lnTo>
                    <a:lnTo>
                      <a:pt x="286" y="463"/>
                    </a:lnTo>
                    <a:lnTo>
                      <a:pt x="258" y="452"/>
                    </a:lnTo>
                    <a:lnTo>
                      <a:pt x="230" y="440"/>
                    </a:lnTo>
                    <a:lnTo>
                      <a:pt x="202" y="428"/>
                    </a:lnTo>
                    <a:lnTo>
                      <a:pt x="174" y="417"/>
                    </a:lnTo>
                    <a:lnTo>
                      <a:pt x="146" y="406"/>
                    </a:lnTo>
                    <a:lnTo>
                      <a:pt x="128" y="356"/>
                    </a:lnTo>
                    <a:lnTo>
                      <a:pt x="108" y="305"/>
                    </a:lnTo>
                    <a:lnTo>
                      <a:pt x="90" y="255"/>
                    </a:lnTo>
                    <a:lnTo>
                      <a:pt x="72" y="203"/>
                    </a:lnTo>
                    <a:lnTo>
                      <a:pt x="54" y="153"/>
                    </a:lnTo>
                    <a:lnTo>
                      <a:pt x="36" y="102"/>
                    </a:lnTo>
                    <a:lnTo>
                      <a:pt x="19" y="52"/>
                    </a:lnTo>
                    <a:lnTo>
                      <a:pt x="0" y="0"/>
                    </a:lnTo>
                    <a:lnTo>
                      <a:pt x="28" y="11"/>
                    </a:lnTo>
                    <a:lnTo>
                      <a:pt x="56" y="22"/>
                    </a:lnTo>
                    <a:lnTo>
                      <a:pt x="84" y="33"/>
                    </a:lnTo>
                    <a:lnTo>
                      <a:pt x="111" y="44"/>
                    </a:lnTo>
                    <a:lnTo>
                      <a:pt x="140" y="55"/>
                    </a:lnTo>
                    <a:lnTo>
                      <a:pt x="168" y="67"/>
                    </a:lnTo>
                    <a:lnTo>
                      <a:pt x="195" y="78"/>
                    </a:lnTo>
                    <a:lnTo>
                      <a:pt x="223" y="8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083200" y="4624560"/>
                <a:ext cx="137160" cy="141120"/>
              </a:xfrm>
              <a:custGeom>
                <a:avLst/>
                <a:gdLst/>
                <a:ahLst/>
                <a:rect l="l" t="t" r="r" b="b"/>
                <a:pathLst>
                  <a:path w="366" h="493">
                    <a:moveTo>
                      <a:pt x="220" y="87"/>
                    </a:moveTo>
                    <a:lnTo>
                      <a:pt x="239" y="139"/>
                    </a:lnTo>
                    <a:lnTo>
                      <a:pt x="256" y="189"/>
                    </a:lnTo>
                    <a:lnTo>
                      <a:pt x="274" y="240"/>
                    </a:lnTo>
                    <a:lnTo>
                      <a:pt x="292" y="290"/>
                    </a:lnTo>
                    <a:lnTo>
                      <a:pt x="310" y="342"/>
                    </a:lnTo>
                    <a:lnTo>
                      <a:pt x="328" y="392"/>
                    </a:lnTo>
                    <a:lnTo>
                      <a:pt x="348" y="443"/>
                    </a:lnTo>
                    <a:lnTo>
                      <a:pt x="366" y="493"/>
                    </a:lnTo>
                    <a:lnTo>
                      <a:pt x="337" y="482"/>
                    </a:lnTo>
                    <a:lnTo>
                      <a:pt x="309" y="470"/>
                    </a:lnTo>
                    <a:lnTo>
                      <a:pt x="281" y="459"/>
                    </a:lnTo>
                    <a:lnTo>
                      <a:pt x="253" y="448"/>
                    </a:lnTo>
                    <a:lnTo>
                      <a:pt x="225" y="437"/>
                    </a:lnTo>
                    <a:lnTo>
                      <a:pt x="197" y="426"/>
                    </a:lnTo>
                    <a:lnTo>
                      <a:pt x="169" y="413"/>
                    </a:lnTo>
                    <a:lnTo>
                      <a:pt x="141" y="402"/>
                    </a:lnTo>
                    <a:lnTo>
                      <a:pt x="124" y="352"/>
                    </a:lnTo>
                    <a:lnTo>
                      <a:pt x="106" y="302"/>
                    </a:lnTo>
                    <a:lnTo>
                      <a:pt x="88" y="252"/>
                    </a:lnTo>
                    <a:lnTo>
                      <a:pt x="70" y="202"/>
                    </a:lnTo>
                    <a:lnTo>
                      <a:pt x="52" y="151"/>
                    </a:lnTo>
                    <a:lnTo>
                      <a:pt x="35" y="101"/>
                    </a:lnTo>
                    <a:lnTo>
                      <a:pt x="17" y="50"/>
                    </a:lnTo>
                    <a:lnTo>
                      <a:pt x="0" y="0"/>
                    </a:lnTo>
                    <a:lnTo>
                      <a:pt x="27" y="11"/>
                    </a:lnTo>
                    <a:lnTo>
                      <a:pt x="54" y="22"/>
                    </a:lnTo>
                    <a:lnTo>
                      <a:pt x="82" y="32"/>
                    </a:lnTo>
                    <a:lnTo>
                      <a:pt x="110" y="43"/>
                    </a:lnTo>
                    <a:lnTo>
                      <a:pt x="137" y="54"/>
                    </a:lnTo>
                    <a:lnTo>
                      <a:pt x="165" y="65"/>
                    </a:lnTo>
                    <a:lnTo>
                      <a:pt x="192" y="76"/>
                    </a:lnTo>
                    <a:lnTo>
                      <a:pt x="220" y="87"/>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001480" y="4600080"/>
                <a:ext cx="135720" cy="139680"/>
              </a:xfrm>
              <a:custGeom>
                <a:avLst/>
                <a:gdLst/>
                <a:ahLst/>
                <a:rect l="l" t="t" r="r" b="b"/>
                <a:pathLst>
                  <a:path w="362" h="491">
                    <a:moveTo>
                      <a:pt x="221" y="89"/>
                    </a:moveTo>
                    <a:lnTo>
                      <a:pt x="238" y="139"/>
                    </a:lnTo>
                    <a:lnTo>
                      <a:pt x="256" y="190"/>
                    </a:lnTo>
                    <a:lnTo>
                      <a:pt x="273" y="240"/>
                    </a:lnTo>
                    <a:lnTo>
                      <a:pt x="291" y="291"/>
                    </a:lnTo>
                    <a:lnTo>
                      <a:pt x="309" y="341"/>
                    </a:lnTo>
                    <a:lnTo>
                      <a:pt x="327" y="391"/>
                    </a:lnTo>
                    <a:lnTo>
                      <a:pt x="345" y="441"/>
                    </a:lnTo>
                    <a:lnTo>
                      <a:pt x="362" y="491"/>
                    </a:lnTo>
                    <a:lnTo>
                      <a:pt x="335" y="480"/>
                    </a:lnTo>
                    <a:lnTo>
                      <a:pt x="307" y="469"/>
                    </a:lnTo>
                    <a:lnTo>
                      <a:pt x="279" y="458"/>
                    </a:lnTo>
                    <a:lnTo>
                      <a:pt x="252" y="447"/>
                    </a:lnTo>
                    <a:lnTo>
                      <a:pt x="224" y="436"/>
                    </a:lnTo>
                    <a:lnTo>
                      <a:pt x="197" y="425"/>
                    </a:lnTo>
                    <a:lnTo>
                      <a:pt x="169" y="414"/>
                    </a:lnTo>
                    <a:lnTo>
                      <a:pt x="141" y="403"/>
                    </a:lnTo>
                    <a:lnTo>
                      <a:pt x="124" y="352"/>
                    </a:lnTo>
                    <a:lnTo>
                      <a:pt x="106" y="302"/>
                    </a:lnTo>
                    <a:lnTo>
                      <a:pt x="89" y="252"/>
                    </a:lnTo>
                    <a:lnTo>
                      <a:pt x="71" y="202"/>
                    </a:lnTo>
                    <a:lnTo>
                      <a:pt x="53" y="151"/>
                    </a:lnTo>
                    <a:lnTo>
                      <a:pt x="35" y="101"/>
                    </a:lnTo>
                    <a:lnTo>
                      <a:pt x="17" y="51"/>
                    </a:lnTo>
                    <a:lnTo>
                      <a:pt x="0" y="0"/>
                    </a:lnTo>
                    <a:lnTo>
                      <a:pt x="27" y="11"/>
                    </a:lnTo>
                    <a:lnTo>
                      <a:pt x="54" y="22"/>
                    </a:lnTo>
                    <a:lnTo>
                      <a:pt x="83" y="33"/>
                    </a:lnTo>
                    <a:lnTo>
                      <a:pt x="110" y="44"/>
                    </a:lnTo>
                    <a:lnTo>
                      <a:pt x="137" y="55"/>
                    </a:lnTo>
                    <a:lnTo>
                      <a:pt x="164" y="67"/>
                    </a:lnTo>
                    <a:lnTo>
                      <a:pt x="193" y="78"/>
                    </a:lnTo>
                    <a:lnTo>
                      <a:pt x="221" y="8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920480" y="4574160"/>
                <a:ext cx="134280" cy="139680"/>
              </a:xfrm>
              <a:custGeom>
                <a:avLst/>
                <a:gdLst/>
                <a:ahLst/>
                <a:rect l="l" t="t" r="r" b="b"/>
                <a:pathLst>
                  <a:path w="359" h="489">
                    <a:moveTo>
                      <a:pt x="218" y="86"/>
                    </a:moveTo>
                    <a:lnTo>
                      <a:pt x="235" y="137"/>
                    </a:lnTo>
                    <a:lnTo>
                      <a:pt x="253" y="187"/>
                    </a:lnTo>
                    <a:lnTo>
                      <a:pt x="271" y="237"/>
                    </a:lnTo>
                    <a:lnTo>
                      <a:pt x="289" y="288"/>
                    </a:lnTo>
                    <a:lnTo>
                      <a:pt x="307" y="338"/>
                    </a:lnTo>
                    <a:lnTo>
                      <a:pt x="324" y="388"/>
                    </a:lnTo>
                    <a:lnTo>
                      <a:pt x="342" y="438"/>
                    </a:lnTo>
                    <a:lnTo>
                      <a:pt x="359" y="489"/>
                    </a:lnTo>
                    <a:lnTo>
                      <a:pt x="333" y="477"/>
                    </a:lnTo>
                    <a:lnTo>
                      <a:pt x="306" y="466"/>
                    </a:lnTo>
                    <a:lnTo>
                      <a:pt x="279" y="455"/>
                    </a:lnTo>
                    <a:lnTo>
                      <a:pt x="250" y="444"/>
                    </a:lnTo>
                    <a:lnTo>
                      <a:pt x="223" y="433"/>
                    </a:lnTo>
                    <a:lnTo>
                      <a:pt x="196" y="422"/>
                    </a:lnTo>
                    <a:lnTo>
                      <a:pt x="169" y="411"/>
                    </a:lnTo>
                    <a:lnTo>
                      <a:pt x="140" y="400"/>
                    </a:lnTo>
                    <a:lnTo>
                      <a:pt x="123" y="349"/>
                    </a:lnTo>
                    <a:lnTo>
                      <a:pt x="105" y="300"/>
                    </a:lnTo>
                    <a:lnTo>
                      <a:pt x="88" y="250"/>
                    </a:lnTo>
                    <a:lnTo>
                      <a:pt x="70" y="201"/>
                    </a:lnTo>
                    <a:lnTo>
                      <a:pt x="53" y="150"/>
                    </a:lnTo>
                    <a:lnTo>
                      <a:pt x="35" y="100"/>
                    </a:lnTo>
                    <a:lnTo>
                      <a:pt x="17" y="50"/>
                    </a:lnTo>
                    <a:lnTo>
                      <a:pt x="0" y="0"/>
                    </a:lnTo>
                    <a:lnTo>
                      <a:pt x="28" y="11"/>
                    </a:lnTo>
                    <a:lnTo>
                      <a:pt x="55" y="21"/>
                    </a:lnTo>
                    <a:lnTo>
                      <a:pt x="82" y="32"/>
                    </a:lnTo>
                    <a:lnTo>
                      <a:pt x="109" y="43"/>
                    </a:lnTo>
                    <a:lnTo>
                      <a:pt x="136" y="54"/>
                    </a:lnTo>
                    <a:lnTo>
                      <a:pt x="164" y="65"/>
                    </a:lnTo>
                    <a:lnTo>
                      <a:pt x="191" y="75"/>
                    </a:lnTo>
                    <a:lnTo>
                      <a:pt x="218" y="8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839840" y="4550040"/>
                <a:ext cx="132840" cy="138240"/>
              </a:xfrm>
              <a:custGeom>
                <a:avLst/>
                <a:gdLst/>
                <a:ahLst/>
                <a:rect l="l" t="t" r="r" b="b"/>
                <a:pathLst>
                  <a:path w="354" h="486">
                    <a:moveTo>
                      <a:pt x="214" y="86"/>
                    </a:moveTo>
                    <a:lnTo>
                      <a:pt x="231" y="136"/>
                    </a:lnTo>
                    <a:lnTo>
                      <a:pt x="249" y="186"/>
                    </a:lnTo>
                    <a:lnTo>
                      <a:pt x="267" y="236"/>
                    </a:lnTo>
                    <a:lnTo>
                      <a:pt x="284" y="287"/>
                    </a:lnTo>
                    <a:lnTo>
                      <a:pt x="302" y="336"/>
                    </a:lnTo>
                    <a:lnTo>
                      <a:pt x="319" y="386"/>
                    </a:lnTo>
                    <a:lnTo>
                      <a:pt x="337" y="435"/>
                    </a:lnTo>
                    <a:lnTo>
                      <a:pt x="354" y="486"/>
                    </a:lnTo>
                    <a:lnTo>
                      <a:pt x="327" y="475"/>
                    </a:lnTo>
                    <a:lnTo>
                      <a:pt x="300" y="464"/>
                    </a:lnTo>
                    <a:lnTo>
                      <a:pt x="273" y="453"/>
                    </a:lnTo>
                    <a:lnTo>
                      <a:pt x="246" y="442"/>
                    </a:lnTo>
                    <a:lnTo>
                      <a:pt x="218" y="431"/>
                    </a:lnTo>
                    <a:lnTo>
                      <a:pt x="191" y="419"/>
                    </a:lnTo>
                    <a:lnTo>
                      <a:pt x="164" y="408"/>
                    </a:lnTo>
                    <a:lnTo>
                      <a:pt x="137" y="397"/>
                    </a:lnTo>
                    <a:lnTo>
                      <a:pt x="120" y="348"/>
                    </a:lnTo>
                    <a:lnTo>
                      <a:pt x="102" y="299"/>
                    </a:lnTo>
                    <a:lnTo>
                      <a:pt x="85" y="248"/>
                    </a:lnTo>
                    <a:lnTo>
                      <a:pt x="68" y="199"/>
                    </a:lnTo>
                    <a:lnTo>
                      <a:pt x="51" y="150"/>
                    </a:lnTo>
                    <a:lnTo>
                      <a:pt x="34" y="99"/>
                    </a:lnTo>
                    <a:lnTo>
                      <a:pt x="17" y="50"/>
                    </a:lnTo>
                    <a:lnTo>
                      <a:pt x="0" y="0"/>
                    </a:lnTo>
                    <a:lnTo>
                      <a:pt x="27" y="11"/>
                    </a:lnTo>
                    <a:lnTo>
                      <a:pt x="54" y="22"/>
                    </a:lnTo>
                    <a:lnTo>
                      <a:pt x="81" y="32"/>
                    </a:lnTo>
                    <a:lnTo>
                      <a:pt x="107" y="43"/>
                    </a:lnTo>
                    <a:lnTo>
                      <a:pt x="135" y="54"/>
                    </a:lnTo>
                    <a:lnTo>
                      <a:pt x="161" y="64"/>
                    </a:lnTo>
                    <a:lnTo>
                      <a:pt x="188" y="75"/>
                    </a:lnTo>
                    <a:lnTo>
                      <a:pt x="214" y="8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759560" y="4525560"/>
                <a:ext cx="131040" cy="138240"/>
              </a:xfrm>
              <a:custGeom>
                <a:avLst/>
                <a:gdLst/>
                <a:ahLst/>
                <a:rect l="l" t="t" r="r" b="b"/>
                <a:pathLst>
                  <a:path w="353" h="483">
                    <a:moveTo>
                      <a:pt x="216" y="86"/>
                    </a:moveTo>
                    <a:lnTo>
                      <a:pt x="233" y="136"/>
                    </a:lnTo>
                    <a:lnTo>
                      <a:pt x="250" y="185"/>
                    </a:lnTo>
                    <a:lnTo>
                      <a:pt x="267" y="236"/>
                    </a:lnTo>
                    <a:lnTo>
                      <a:pt x="284" y="285"/>
                    </a:lnTo>
                    <a:lnTo>
                      <a:pt x="301" y="334"/>
                    </a:lnTo>
                    <a:lnTo>
                      <a:pt x="318" y="385"/>
                    </a:lnTo>
                    <a:lnTo>
                      <a:pt x="336" y="434"/>
                    </a:lnTo>
                    <a:lnTo>
                      <a:pt x="353" y="483"/>
                    </a:lnTo>
                    <a:lnTo>
                      <a:pt x="327" y="472"/>
                    </a:lnTo>
                    <a:lnTo>
                      <a:pt x="299" y="461"/>
                    </a:lnTo>
                    <a:lnTo>
                      <a:pt x="272" y="450"/>
                    </a:lnTo>
                    <a:lnTo>
                      <a:pt x="246" y="440"/>
                    </a:lnTo>
                    <a:lnTo>
                      <a:pt x="219" y="429"/>
                    </a:lnTo>
                    <a:lnTo>
                      <a:pt x="191" y="418"/>
                    </a:lnTo>
                    <a:lnTo>
                      <a:pt x="165" y="407"/>
                    </a:lnTo>
                    <a:lnTo>
                      <a:pt x="139" y="396"/>
                    </a:lnTo>
                    <a:lnTo>
                      <a:pt x="121" y="347"/>
                    </a:lnTo>
                    <a:lnTo>
                      <a:pt x="104" y="297"/>
                    </a:lnTo>
                    <a:lnTo>
                      <a:pt x="86" y="248"/>
                    </a:lnTo>
                    <a:lnTo>
                      <a:pt x="68" y="198"/>
                    </a:lnTo>
                    <a:lnTo>
                      <a:pt x="51" y="148"/>
                    </a:lnTo>
                    <a:lnTo>
                      <a:pt x="34" y="99"/>
                    </a:lnTo>
                    <a:lnTo>
                      <a:pt x="17" y="50"/>
                    </a:lnTo>
                    <a:lnTo>
                      <a:pt x="0" y="0"/>
                    </a:lnTo>
                    <a:lnTo>
                      <a:pt x="26" y="11"/>
                    </a:lnTo>
                    <a:lnTo>
                      <a:pt x="53" y="20"/>
                    </a:lnTo>
                    <a:lnTo>
                      <a:pt x="80" y="32"/>
                    </a:lnTo>
                    <a:lnTo>
                      <a:pt x="107" y="43"/>
                    </a:lnTo>
                    <a:lnTo>
                      <a:pt x="134" y="54"/>
                    </a:lnTo>
                    <a:lnTo>
                      <a:pt x="161" y="64"/>
                    </a:lnTo>
                    <a:lnTo>
                      <a:pt x="188" y="75"/>
                    </a:lnTo>
                    <a:lnTo>
                      <a:pt x="216" y="8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680360" y="4501440"/>
                <a:ext cx="131400" cy="137160"/>
              </a:xfrm>
              <a:custGeom>
                <a:avLst/>
                <a:gdLst/>
                <a:ahLst/>
                <a:rect l="l" t="t" r="r" b="b"/>
                <a:pathLst>
                  <a:path w="351" h="480">
                    <a:moveTo>
                      <a:pt x="212" y="84"/>
                    </a:moveTo>
                    <a:lnTo>
                      <a:pt x="229" y="134"/>
                    </a:lnTo>
                    <a:lnTo>
                      <a:pt x="246" y="183"/>
                    </a:lnTo>
                    <a:lnTo>
                      <a:pt x="263" y="232"/>
                    </a:lnTo>
                    <a:lnTo>
                      <a:pt x="280" y="282"/>
                    </a:lnTo>
                    <a:lnTo>
                      <a:pt x="298" y="332"/>
                    </a:lnTo>
                    <a:lnTo>
                      <a:pt x="316" y="381"/>
                    </a:lnTo>
                    <a:lnTo>
                      <a:pt x="333" y="431"/>
                    </a:lnTo>
                    <a:lnTo>
                      <a:pt x="351" y="480"/>
                    </a:lnTo>
                    <a:lnTo>
                      <a:pt x="324" y="469"/>
                    </a:lnTo>
                    <a:lnTo>
                      <a:pt x="297" y="458"/>
                    </a:lnTo>
                    <a:lnTo>
                      <a:pt x="269" y="448"/>
                    </a:lnTo>
                    <a:lnTo>
                      <a:pt x="243" y="437"/>
                    </a:lnTo>
                    <a:lnTo>
                      <a:pt x="216" y="426"/>
                    </a:lnTo>
                    <a:lnTo>
                      <a:pt x="190" y="415"/>
                    </a:lnTo>
                    <a:lnTo>
                      <a:pt x="163" y="405"/>
                    </a:lnTo>
                    <a:lnTo>
                      <a:pt x="136" y="394"/>
                    </a:lnTo>
                    <a:lnTo>
                      <a:pt x="119" y="345"/>
                    </a:lnTo>
                    <a:lnTo>
                      <a:pt x="102" y="295"/>
                    </a:lnTo>
                    <a:lnTo>
                      <a:pt x="85" y="246"/>
                    </a:lnTo>
                    <a:lnTo>
                      <a:pt x="68" y="197"/>
                    </a:lnTo>
                    <a:lnTo>
                      <a:pt x="51" y="148"/>
                    </a:lnTo>
                    <a:lnTo>
                      <a:pt x="33" y="98"/>
                    </a:lnTo>
                    <a:lnTo>
                      <a:pt x="17" y="49"/>
                    </a:lnTo>
                    <a:lnTo>
                      <a:pt x="0" y="0"/>
                    </a:lnTo>
                    <a:lnTo>
                      <a:pt x="26" y="10"/>
                    </a:lnTo>
                    <a:lnTo>
                      <a:pt x="54" y="21"/>
                    </a:lnTo>
                    <a:lnTo>
                      <a:pt x="80" y="31"/>
                    </a:lnTo>
                    <a:lnTo>
                      <a:pt x="106" y="42"/>
                    </a:lnTo>
                    <a:lnTo>
                      <a:pt x="132" y="53"/>
                    </a:lnTo>
                    <a:lnTo>
                      <a:pt x="158" y="63"/>
                    </a:lnTo>
                    <a:lnTo>
                      <a:pt x="186" y="74"/>
                    </a:lnTo>
                    <a:lnTo>
                      <a:pt x="212" y="84"/>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601520" y="4476960"/>
                <a:ext cx="129600" cy="137160"/>
              </a:xfrm>
              <a:custGeom>
                <a:avLst/>
                <a:gdLst/>
                <a:ahLst/>
                <a:rect l="l" t="t" r="r" b="b"/>
                <a:pathLst>
                  <a:path w="347" h="479">
                    <a:moveTo>
                      <a:pt x="211" y="85"/>
                    </a:moveTo>
                    <a:lnTo>
                      <a:pt x="228" y="134"/>
                    </a:lnTo>
                    <a:lnTo>
                      <a:pt x="244" y="183"/>
                    </a:lnTo>
                    <a:lnTo>
                      <a:pt x="262" y="233"/>
                    </a:lnTo>
                    <a:lnTo>
                      <a:pt x="279" y="282"/>
                    </a:lnTo>
                    <a:lnTo>
                      <a:pt x="296" y="331"/>
                    </a:lnTo>
                    <a:lnTo>
                      <a:pt x="313" y="380"/>
                    </a:lnTo>
                    <a:lnTo>
                      <a:pt x="330" y="430"/>
                    </a:lnTo>
                    <a:lnTo>
                      <a:pt x="347" y="479"/>
                    </a:lnTo>
                    <a:lnTo>
                      <a:pt x="320" y="468"/>
                    </a:lnTo>
                    <a:lnTo>
                      <a:pt x="294" y="457"/>
                    </a:lnTo>
                    <a:lnTo>
                      <a:pt x="267" y="446"/>
                    </a:lnTo>
                    <a:lnTo>
                      <a:pt x="240" y="436"/>
                    </a:lnTo>
                    <a:lnTo>
                      <a:pt x="213" y="425"/>
                    </a:lnTo>
                    <a:lnTo>
                      <a:pt x="187" y="414"/>
                    </a:lnTo>
                    <a:lnTo>
                      <a:pt x="161" y="402"/>
                    </a:lnTo>
                    <a:lnTo>
                      <a:pt x="135" y="393"/>
                    </a:lnTo>
                    <a:lnTo>
                      <a:pt x="117" y="343"/>
                    </a:lnTo>
                    <a:lnTo>
                      <a:pt x="100" y="294"/>
                    </a:lnTo>
                    <a:lnTo>
                      <a:pt x="83" y="246"/>
                    </a:lnTo>
                    <a:lnTo>
                      <a:pt x="66" y="197"/>
                    </a:lnTo>
                    <a:lnTo>
                      <a:pt x="50" y="148"/>
                    </a:lnTo>
                    <a:lnTo>
                      <a:pt x="33" y="98"/>
                    </a:lnTo>
                    <a:lnTo>
                      <a:pt x="17" y="49"/>
                    </a:lnTo>
                    <a:lnTo>
                      <a:pt x="0" y="0"/>
                    </a:lnTo>
                    <a:lnTo>
                      <a:pt x="26" y="11"/>
                    </a:lnTo>
                    <a:lnTo>
                      <a:pt x="52" y="21"/>
                    </a:lnTo>
                    <a:lnTo>
                      <a:pt x="78" y="32"/>
                    </a:lnTo>
                    <a:lnTo>
                      <a:pt x="104" y="42"/>
                    </a:lnTo>
                    <a:lnTo>
                      <a:pt x="131" y="53"/>
                    </a:lnTo>
                    <a:lnTo>
                      <a:pt x="158" y="63"/>
                    </a:lnTo>
                    <a:lnTo>
                      <a:pt x="184" y="74"/>
                    </a:lnTo>
                    <a:lnTo>
                      <a:pt x="211" y="85"/>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523400" y="4452840"/>
                <a:ext cx="128520" cy="137160"/>
              </a:xfrm>
              <a:custGeom>
                <a:avLst/>
                <a:gdLst/>
                <a:ahLst/>
                <a:rect l="l" t="t" r="r" b="b"/>
                <a:pathLst>
                  <a:path w="345" h="477">
                    <a:moveTo>
                      <a:pt x="210" y="84"/>
                    </a:moveTo>
                    <a:lnTo>
                      <a:pt x="227" y="133"/>
                    </a:lnTo>
                    <a:lnTo>
                      <a:pt x="243" y="182"/>
                    </a:lnTo>
                    <a:lnTo>
                      <a:pt x="260" y="232"/>
                    </a:lnTo>
                    <a:lnTo>
                      <a:pt x="276" y="281"/>
                    </a:lnTo>
                    <a:lnTo>
                      <a:pt x="293" y="330"/>
                    </a:lnTo>
                    <a:lnTo>
                      <a:pt x="310" y="378"/>
                    </a:lnTo>
                    <a:lnTo>
                      <a:pt x="327" y="427"/>
                    </a:lnTo>
                    <a:lnTo>
                      <a:pt x="345" y="477"/>
                    </a:lnTo>
                    <a:lnTo>
                      <a:pt x="317" y="466"/>
                    </a:lnTo>
                    <a:lnTo>
                      <a:pt x="291" y="454"/>
                    </a:lnTo>
                    <a:lnTo>
                      <a:pt x="264" y="445"/>
                    </a:lnTo>
                    <a:lnTo>
                      <a:pt x="238" y="434"/>
                    </a:lnTo>
                    <a:lnTo>
                      <a:pt x="212" y="422"/>
                    </a:lnTo>
                    <a:lnTo>
                      <a:pt x="185" y="413"/>
                    </a:lnTo>
                    <a:lnTo>
                      <a:pt x="159" y="401"/>
                    </a:lnTo>
                    <a:lnTo>
                      <a:pt x="133" y="390"/>
                    </a:lnTo>
                    <a:lnTo>
                      <a:pt x="116" y="342"/>
                    </a:lnTo>
                    <a:lnTo>
                      <a:pt x="99" y="293"/>
                    </a:lnTo>
                    <a:lnTo>
                      <a:pt x="82" y="245"/>
                    </a:lnTo>
                    <a:lnTo>
                      <a:pt x="65" y="196"/>
                    </a:lnTo>
                    <a:lnTo>
                      <a:pt x="48" y="148"/>
                    </a:lnTo>
                    <a:lnTo>
                      <a:pt x="32" y="99"/>
                    </a:lnTo>
                    <a:lnTo>
                      <a:pt x="16" y="49"/>
                    </a:lnTo>
                    <a:lnTo>
                      <a:pt x="0" y="0"/>
                    </a:lnTo>
                    <a:lnTo>
                      <a:pt x="26" y="11"/>
                    </a:lnTo>
                    <a:lnTo>
                      <a:pt x="51" y="21"/>
                    </a:lnTo>
                    <a:lnTo>
                      <a:pt x="78" y="32"/>
                    </a:lnTo>
                    <a:lnTo>
                      <a:pt x="104" y="42"/>
                    </a:lnTo>
                    <a:lnTo>
                      <a:pt x="130" y="53"/>
                    </a:lnTo>
                    <a:lnTo>
                      <a:pt x="156" y="63"/>
                    </a:lnTo>
                    <a:lnTo>
                      <a:pt x="183" y="74"/>
                    </a:lnTo>
                    <a:lnTo>
                      <a:pt x="210" y="84"/>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446000" y="4430160"/>
                <a:ext cx="126720" cy="133920"/>
              </a:xfrm>
              <a:custGeom>
                <a:avLst/>
                <a:gdLst/>
                <a:ahLst/>
                <a:rect l="l" t="t" r="r" b="b"/>
                <a:pathLst>
                  <a:path w="342" h="471">
                    <a:moveTo>
                      <a:pt x="209" y="81"/>
                    </a:moveTo>
                    <a:lnTo>
                      <a:pt x="225" y="130"/>
                    </a:lnTo>
                    <a:lnTo>
                      <a:pt x="241" y="180"/>
                    </a:lnTo>
                    <a:lnTo>
                      <a:pt x="257" y="229"/>
                    </a:lnTo>
                    <a:lnTo>
                      <a:pt x="274" y="277"/>
                    </a:lnTo>
                    <a:lnTo>
                      <a:pt x="291" y="326"/>
                    </a:lnTo>
                    <a:lnTo>
                      <a:pt x="308" y="374"/>
                    </a:lnTo>
                    <a:lnTo>
                      <a:pt x="325" y="423"/>
                    </a:lnTo>
                    <a:lnTo>
                      <a:pt x="342" y="471"/>
                    </a:lnTo>
                    <a:lnTo>
                      <a:pt x="316" y="462"/>
                    </a:lnTo>
                    <a:lnTo>
                      <a:pt x="290" y="450"/>
                    </a:lnTo>
                    <a:lnTo>
                      <a:pt x="263" y="441"/>
                    </a:lnTo>
                    <a:lnTo>
                      <a:pt x="237" y="430"/>
                    </a:lnTo>
                    <a:lnTo>
                      <a:pt x="211" y="420"/>
                    </a:lnTo>
                    <a:lnTo>
                      <a:pt x="186" y="409"/>
                    </a:lnTo>
                    <a:lnTo>
                      <a:pt x="159" y="398"/>
                    </a:lnTo>
                    <a:lnTo>
                      <a:pt x="133" y="388"/>
                    </a:lnTo>
                    <a:lnTo>
                      <a:pt x="116" y="340"/>
                    </a:lnTo>
                    <a:lnTo>
                      <a:pt x="99" y="290"/>
                    </a:lnTo>
                    <a:lnTo>
                      <a:pt x="82" y="242"/>
                    </a:lnTo>
                    <a:lnTo>
                      <a:pt x="66" y="193"/>
                    </a:lnTo>
                    <a:lnTo>
                      <a:pt x="49" y="145"/>
                    </a:lnTo>
                    <a:lnTo>
                      <a:pt x="32" y="97"/>
                    </a:lnTo>
                    <a:lnTo>
                      <a:pt x="16" y="48"/>
                    </a:lnTo>
                    <a:lnTo>
                      <a:pt x="0" y="0"/>
                    </a:lnTo>
                    <a:lnTo>
                      <a:pt x="26" y="10"/>
                    </a:lnTo>
                    <a:lnTo>
                      <a:pt x="52" y="21"/>
                    </a:lnTo>
                    <a:lnTo>
                      <a:pt x="78" y="31"/>
                    </a:lnTo>
                    <a:lnTo>
                      <a:pt x="104" y="41"/>
                    </a:lnTo>
                    <a:lnTo>
                      <a:pt x="130" y="52"/>
                    </a:lnTo>
                    <a:lnTo>
                      <a:pt x="156" y="62"/>
                    </a:lnTo>
                    <a:lnTo>
                      <a:pt x="183" y="71"/>
                    </a:lnTo>
                    <a:lnTo>
                      <a:pt x="209" y="8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368600" y="4407120"/>
                <a:ext cx="126720" cy="134280"/>
              </a:xfrm>
              <a:custGeom>
                <a:avLst/>
                <a:gdLst/>
                <a:ahLst/>
                <a:rect l="l" t="t" r="r" b="b"/>
                <a:pathLst>
                  <a:path w="338" h="471">
                    <a:moveTo>
                      <a:pt x="205" y="83"/>
                    </a:moveTo>
                    <a:lnTo>
                      <a:pt x="221" y="131"/>
                    </a:lnTo>
                    <a:lnTo>
                      <a:pt x="237" y="180"/>
                    </a:lnTo>
                    <a:lnTo>
                      <a:pt x="254" y="228"/>
                    </a:lnTo>
                    <a:lnTo>
                      <a:pt x="271" y="276"/>
                    </a:lnTo>
                    <a:lnTo>
                      <a:pt x="287" y="325"/>
                    </a:lnTo>
                    <a:lnTo>
                      <a:pt x="304" y="373"/>
                    </a:lnTo>
                    <a:lnTo>
                      <a:pt x="321" y="423"/>
                    </a:lnTo>
                    <a:lnTo>
                      <a:pt x="338" y="471"/>
                    </a:lnTo>
                    <a:lnTo>
                      <a:pt x="312" y="460"/>
                    </a:lnTo>
                    <a:lnTo>
                      <a:pt x="286" y="450"/>
                    </a:lnTo>
                    <a:lnTo>
                      <a:pt x="261" y="439"/>
                    </a:lnTo>
                    <a:lnTo>
                      <a:pt x="234" y="429"/>
                    </a:lnTo>
                    <a:lnTo>
                      <a:pt x="208" y="418"/>
                    </a:lnTo>
                    <a:lnTo>
                      <a:pt x="182" y="408"/>
                    </a:lnTo>
                    <a:lnTo>
                      <a:pt x="157" y="397"/>
                    </a:lnTo>
                    <a:lnTo>
                      <a:pt x="132" y="387"/>
                    </a:lnTo>
                    <a:lnTo>
                      <a:pt x="115" y="339"/>
                    </a:lnTo>
                    <a:lnTo>
                      <a:pt x="98" y="290"/>
                    </a:lnTo>
                    <a:lnTo>
                      <a:pt x="81" y="242"/>
                    </a:lnTo>
                    <a:lnTo>
                      <a:pt x="65" y="194"/>
                    </a:lnTo>
                    <a:lnTo>
                      <a:pt x="48" y="146"/>
                    </a:lnTo>
                    <a:lnTo>
                      <a:pt x="32" y="98"/>
                    </a:lnTo>
                    <a:lnTo>
                      <a:pt x="16" y="50"/>
                    </a:lnTo>
                    <a:lnTo>
                      <a:pt x="0" y="0"/>
                    </a:lnTo>
                    <a:lnTo>
                      <a:pt x="26" y="12"/>
                    </a:lnTo>
                    <a:lnTo>
                      <a:pt x="51" y="21"/>
                    </a:lnTo>
                    <a:lnTo>
                      <a:pt x="77" y="31"/>
                    </a:lnTo>
                    <a:lnTo>
                      <a:pt x="102" y="42"/>
                    </a:lnTo>
                    <a:lnTo>
                      <a:pt x="128" y="52"/>
                    </a:lnTo>
                    <a:lnTo>
                      <a:pt x="154" y="62"/>
                    </a:lnTo>
                    <a:lnTo>
                      <a:pt x="179" y="73"/>
                    </a:lnTo>
                    <a:lnTo>
                      <a:pt x="205" y="83"/>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292280" y="4383000"/>
                <a:ext cx="124920" cy="134280"/>
              </a:xfrm>
              <a:custGeom>
                <a:avLst/>
                <a:gdLst/>
                <a:ahLst/>
                <a:rect l="l" t="t" r="r" b="b"/>
                <a:pathLst>
                  <a:path w="336" h="468">
                    <a:moveTo>
                      <a:pt x="204" y="81"/>
                    </a:moveTo>
                    <a:lnTo>
                      <a:pt x="220" y="131"/>
                    </a:lnTo>
                    <a:lnTo>
                      <a:pt x="236" y="179"/>
                    </a:lnTo>
                    <a:lnTo>
                      <a:pt x="252" y="227"/>
                    </a:lnTo>
                    <a:lnTo>
                      <a:pt x="269" y="275"/>
                    </a:lnTo>
                    <a:lnTo>
                      <a:pt x="285" y="323"/>
                    </a:lnTo>
                    <a:lnTo>
                      <a:pt x="302" y="371"/>
                    </a:lnTo>
                    <a:lnTo>
                      <a:pt x="319" y="420"/>
                    </a:lnTo>
                    <a:lnTo>
                      <a:pt x="336" y="468"/>
                    </a:lnTo>
                    <a:lnTo>
                      <a:pt x="309" y="457"/>
                    </a:lnTo>
                    <a:lnTo>
                      <a:pt x="283" y="447"/>
                    </a:lnTo>
                    <a:lnTo>
                      <a:pt x="257" y="436"/>
                    </a:lnTo>
                    <a:lnTo>
                      <a:pt x="231" y="426"/>
                    </a:lnTo>
                    <a:lnTo>
                      <a:pt x="206" y="415"/>
                    </a:lnTo>
                    <a:lnTo>
                      <a:pt x="179" y="405"/>
                    </a:lnTo>
                    <a:lnTo>
                      <a:pt x="154" y="394"/>
                    </a:lnTo>
                    <a:lnTo>
                      <a:pt x="128" y="384"/>
                    </a:lnTo>
                    <a:lnTo>
                      <a:pt x="112" y="336"/>
                    </a:lnTo>
                    <a:lnTo>
                      <a:pt x="96" y="288"/>
                    </a:lnTo>
                    <a:lnTo>
                      <a:pt x="80" y="240"/>
                    </a:lnTo>
                    <a:lnTo>
                      <a:pt x="63" y="192"/>
                    </a:lnTo>
                    <a:lnTo>
                      <a:pt x="47" y="144"/>
                    </a:lnTo>
                    <a:lnTo>
                      <a:pt x="32" y="96"/>
                    </a:lnTo>
                    <a:lnTo>
                      <a:pt x="16" y="48"/>
                    </a:lnTo>
                    <a:lnTo>
                      <a:pt x="0" y="0"/>
                    </a:lnTo>
                    <a:lnTo>
                      <a:pt x="25" y="10"/>
                    </a:lnTo>
                    <a:lnTo>
                      <a:pt x="50" y="21"/>
                    </a:lnTo>
                    <a:lnTo>
                      <a:pt x="76" y="31"/>
                    </a:lnTo>
                    <a:lnTo>
                      <a:pt x="102" y="41"/>
                    </a:lnTo>
                    <a:lnTo>
                      <a:pt x="127" y="51"/>
                    </a:lnTo>
                    <a:lnTo>
                      <a:pt x="153" y="62"/>
                    </a:lnTo>
                    <a:lnTo>
                      <a:pt x="178" y="72"/>
                    </a:lnTo>
                    <a:lnTo>
                      <a:pt x="204" y="8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17400" y="4360320"/>
                <a:ext cx="123840" cy="132480"/>
              </a:xfrm>
              <a:custGeom>
                <a:avLst/>
                <a:gdLst/>
                <a:ahLst/>
                <a:rect l="l" t="t" r="r" b="b"/>
                <a:pathLst>
                  <a:path w="331" h="464">
                    <a:moveTo>
                      <a:pt x="203" y="80"/>
                    </a:moveTo>
                    <a:lnTo>
                      <a:pt x="219" y="128"/>
                    </a:lnTo>
                    <a:lnTo>
                      <a:pt x="235" y="176"/>
                    </a:lnTo>
                    <a:lnTo>
                      <a:pt x="250" y="224"/>
                    </a:lnTo>
                    <a:lnTo>
                      <a:pt x="266" y="272"/>
                    </a:lnTo>
                    <a:lnTo>
                      <a:pt x="283" y="320"/>
                    </a:lnTo>
                    <a:lnTo>
                      <a:pt x="299" y="368"/>
                    </a:lnTo>
                    <a:lnTo>
                      <a:pt x="315" y="416"/>
                    </a:lnTo>
                    <a:lnTo>
                      <a:pt x="331" y="464"/>
                    </a:lnTo>
                    <a:lnTo>
                      <a:pt x="306" y="453"/>
                    </a:lnTo>
                    <a:lnTo>
                      <a:pt x="280" y="443"/>
                    </a:lnTo>
                    <a:lnTo>
                      <a:pt x="254" y="434"/>
                    </a:lnTo>
                    <a:lnTo>
                      <a:pt x="229" y="422"/>
                    </a:lnTo>
                    <a:lnTo>
                      <a:pt x="203" y="413"/>
                    </a:lnTo>
                    <a:lnTo>
                      <a:pt x="178" y="402"/>
                    </a:lnTo>
                    <a:lnTo>
                      <a:pt x="153" y="392"/>
                    </a:lnTo>
                    <a:lnTo>
                      <a:pt x="127" y="382"/>
                    </a:lnTo>
                    <a:lnTo>
                      <a:pt x="111" y="334"/>
                    </a:lnTo>
                    <a:lnTo>
                      <a:pt x="95" y="286"/>
                    </a:lnTo>
                    <a:lnTo>
                      <a:pt x="80" y="239"/>
                    </a:lnTo>
                    <a:lnTo>
                      <a:pt x="64" y="191"/>
                    </a:lnTo>
                    <a:lnTo>
                      <a:pt x="48" y="143"/>
                    </a:lnTo>
                    <a:lnTo>
                      <a:pt x="32" y="95"/>
                    </a:lnTo>
                    <a:lnTo>
                      <a:pt x="17" y="47"/>
                    </a:lnTo>
                    <a:lnTo>
                      <a:pt x="0" y="0"/>
                    </a:lnTo>
                    <a:lnTo>
                      <a:pt x="26" y="10"/>
                    </a:lnTo>
                    <a:lnTo>
                      <a:pt x="51" y="20"/>
                    </a:lnTo>
                    <a:lnTo>
                      <a:pt x="76" y="30"/>
                    </a:lnTo>
                    <a:lnTo>
                      <a:pt x="101" y="40"/>
                    </a:lnTo>
                    <a:lnTo>
                      <a:pt x="126" y="51"/>
                    </a:lnTo>
                    <a:lnTo>
                      <a:pt x="152" y="61"/>
                    </a:lnTo>
                    <a:lnTo>
                      <a:pt x="178" y="70"/>
                    </a:lnTo>
                    <a:lnTo>
                      <a:pt x="203" y="80"/>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141800" y="4337280"/>
                <a:ext cx="123840" cy="132480"/>
              </a:xfrm>
              <a:custGeom>
                <a:avLst/>
                <a:gdLst/>
                <a:ahLst/>
                <a:rect l="l" t="t" r="r" b="b"/>
                <a:pathLst>
                  <a:path w="329" h="463">
                    <a:moveTo>
                      <a:pt x="202" y="81"/>
                    </a:moveTo>
                    <a:lnTo>
                      <a:pt x="219" y="128"/>
                    </a:lnTo>
                    <a:lnTo>
                      <a:pt x="234" y="176"/>
                    </a:lnTo>
                    <a:lnTo>
                      <a:pt x="250" y="224"/>
                    </a:lnTo>
                    <a:lnTo>
                      <a:pt x="266" y="272"/>
                    </a:lnTo>
                    <a:lnTo>
                      <a:pt x="282" y="320"/>
                    </a:lnTo>
                    <a:lnTo>
                      <a:pt x="297" y="367"/>
                    </a:lnTo>
                    <a:lnTo>
                      <a:pt x="313" y="415"/>
                    </a:lnTo>
                    <a:lnTo>
                      <a:pt x="329" y="463"/>
                    </a:lnTo>
                    <a:lnTo>
                      <a:pt x="304" y="452"/>
                    </a:lnTo>
                    <a:lnTo>
                      <a:pt x="279" y="442"/>
                    </a:lnTo>
                    <a:lnTo>
                      <a:pt x="254" y="432"/>
                    </a:lnTo>
                    <a:lnTo>
                      <a:pt x="229" y="421"/>
                    </a:lnTo>
                    <a:lnTo>
                      <a:pt x="203" y="411"/>
                    </a:lnTo>
                    <a:lnTo>
                      <a:pt x="178" y="401"/>
                    </a:lnTo>
                    <a:lnTo>
                      <a:pt x="153" y="391"/>
                    </a:lnTo>
                    <a:lnTo>
                      <a:pt x="129" y="380"/>
                    </a:lnTo>
                    <a:lnTo>
                      <a:pt x="112" y="334"/>
                    </a:lnTo>
                    <a:lnTo>
                      <a:pt x="96" y="286"/>
                    </a:lnTo>
                    <a:lnTo>
                      <a:pt x="79" y="238"/>
                    </a:lnTo>
                    <a:lnTo>
                      <a:pt x="63" y="191"/>
                    </a:lnTo>
                    <a:lnTo>
                      <a:pt x="47" y="143"/>
                    </a:lnTo>
                    <a:lnTo>
                      <a:pt x="32" y="95"/>
                    </a:lnTo>
                    <a:lnTo>
                      <a:pt x="16" y="47"/>
                    </a:lnTo>
                    <a:lnTo>
                      <a:pt x="0" y="0"/>
                    </a:lnTo>
                    <a:lnTo>
                      <a:pt x="25" y="10"/>
                    </a:lnTo>
                    <a:lnTo>
                      <a:pt x="50" y="20"/>
                    </a:lnTo>
                    <a:lnTo>
                      <a:pt x="75" y="30"/>
                    </a:lnTo>
                    <a:lnTo>
                      <a:pt x="101" y="41"/>
                    </a:lnTo>
                    <a:lnTo>
                      <a:pt x="126" y="50"/>
                    </a:lnTo>
                    <a:lnTo>
                      <a:pt x="151" y="60"/>
                    </a:lnTo>
                    <a:lnTo>
                      <a:pt x="177" y="70"/>
                    </a:lnTo>
                    <a:lnTo>
                      <a:pt x="202" y="8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068360" y="4314600"/>
                <a:ext cx="120960" cy="131040"/>
              </a:xfrm>
              <a:custGeom>
                <a:avLst/>
                <a:gdLst/>
                <a:ahLst/>
                <a:rect l="l" t="t" r="r" b="b"/>
                <a:pathLst>
                  <a:path w="328" h="460">
                    <a:moveTo>
                      <a:pt x="199" y="80"/>
                    </a:moveTo>
                    <a:lnTo>
                      <a:pt x="215" y="127"/>
                    </a:lnTo>
                    <a:lnTo>
                      <a:pt x="231" y="175"/>
                    </a:lnTo>
                    <a:lnTo>
                      <a:pt x="246" y="223"/>
                    </a:lnTo>
                    <a:lnTo>
                      <a:pt x="262" y="271"/>
                    </a:lnTo>
                    <a:lnTo>
                      <a:pt x="278" y="318"/>
                    </a:lnTo>
                    <a:lnTo>
                      <a:pt x="295" y="366"/>
                    </a:lnTo>
                    <a:lnTo>
                      <a:pt x="311" y="414"/>
                    </a:lnTo>
                    <a:lnTo>
                      <a:pt x="328" y="460"/>
                    </a:lnTo>
                    <a:lnTo>
                      <a:pt x="302" y="451"/>
                    </a:lnTo>
                    <a:lnTo>
                      <a:pt x="276" y="441"/>
                    </a:lnTo>
                    <a:lnTo>
                      <a:pt x="251" y="430"/>
                    </a:lnTo>
                    <a:lnTo>
                      <a:pt x="226" y="420"/>
                    </a:lnTo>
                    <a:lnTo>
                      <a:pt x="201" y="410"/>
                    </a:lnTo>
                    <a:lnTo>
                      <a:pt x="177" y="400"/>
                    </a:lnTo>
                    <a:lnTo>
                      <a:pt x="151" y="389"/>
                    </a:lnTo>
                    <a:lnTo>
                      <a:pt x="126" y="379"/>
                    </a:lnTo>
                    <a:lnTo>
                      <a:pt x="110" y="332"/>
                    </a:lnTo>
                    <a:lnTo>
                      <a:pt x="94" y="284"/>
                    </a:lnTo>
                    <a:lnTo>
                      <a:pt x="79" y="238"/>
                    </a:lnTo>
                    <a:lnTo>
                      <a:pt x="63" y="190"/>
                    </a:lnTo>
                    <a:lnTo>
                      <a:pt x="48" y="143"/>
                    </a:lnTo>
                    <a:lnTo>
                      <a:pt x="31" y="95"/>
                    </a:lnTo>
                    <a:lnTo>
                      <a:pt x="16" y="48"/>
                    </a:lnTo>
                    <a:lnTo>
                      <a:pt x="0" y="0"/>
                    </a:lnTo>
                    <a:lnTo>
                      <a:pt x="25" y="11"/>
                    </a:lnTo>
                    <a:lnTo>
                      <a:pt x="50" y="21"/>
                    </a:lnTo>
                    <a:lnTo>
                      <a:pt x="75" y="31"/>
                    </a:lnTo>
                    <a:lnTo>
                      <a:pt x="100" y="41"/>
                    </a:lnTo>
                    <a:lnTo>
                      <a:pt x="124" y="50"/>
                    </a:lnTo>
                    <a:lnTo>
                      <a:pt x="149" y="60"/>
                    </a:lnTo>
                    <a:lnTo>
                      <a:pt x="174" y="70"/>
                    </a:lnTo>
                    <a:lnTo>
                      <a:pt x="199" y="80"/>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993840" y="4291560"/>
                <a:ext cx="120600" cy="131400"/>
              </a:xfrm>
              <a:custGeom>
                <a:avLst/>
                <a:gdLst/>
                <a:ahLst/>
                <a:rect l="l" t="t" r="r" b="b"/>
                <a:pathLst>
                  <a:path w="325" h="458">
                    <a:moveTo>
                      <a:pt x="199" y="79"/>
                    </a:moveTo>
                    <a:lnTo>
                      <a:pt x="215" y="127"/>
                    </a:lnTo>
                    <a:lnTo>
                      <a:pt x="230" y="174"/>
                    </a:lnTo>
                    <a:lnTo>
                      <a:pt x="247" y="222"/>
                    </a:lnTo>
                    <a:lnTo>
                      <a:pt x="262" y="269"/>
                    </a:lnTo>
                    <a:lnTo>
                      <a:pt x="278" y="317"/>
                    </a:lnTo>
                    <a:lnTo>
                      <a:pt x="293" y="363"/>
                    </a:lnTo>
                    <a:lnTo>
                      <a:pt x="309" y="411"/>
                    </a:lnTo>
                    <a:lnTo>
                      <a:pt x="325" y="458"/>
                    </a:lnTo>
                    <a:lnTo>
                      <a:pt x="300" y="448"/>
                    </a:lnTo>
                    <a:lnTo>
                      <a:pt x="275" y="438"/>
                    </a:lnTo>
                    <a:lnTo>
                      <a:pt x="250" y="429"/>
                    </a:lnTo>
                    <a:lnTo>
                      <a:pt x="225" y="417"/>
                    </a:lnTo>
                    <a:lnTo>
                      <a:pt x="200" y="408"/>
                    </a:lnTo>
                    <a:lnTo>
                      <a:pt x="175" y="398"/>
                    </a:lnTo>
                    <a:lnTo>
                      <a:pt x="151" y="388"/>
                    </a:lnTo>
                    <a:lnTo>
                      <a:pt x="126" y="378"/>
                    </a:lnTo>
                    <a:lnTo>
                      <a:pt x="109" y="330"/>
                    </a:lnTo>
                    <a:lnTo>
                      <a:pt x="94" y="283"/>
                    </a:lnTo>
                    <a:lnTo>
                      <a:pt x="78" y="237"/>
                    </a:lnTo>
                    <a:lnTo>
                      <a:pt x="62" y="189"/>
                    </a:lnTo>
                    <a:lnTo>
                      <a:pt x="47" y="142"/>
                    </a:lnTo>
                    <a:lnTo>
                      <a:pt x="31" y="95"/>
                    </a:lnTo>
                    <a:lnTo>
                      <a:pt x="16" y="47"/>
                    </a:lnTo>
                    <a:lnTo>
                      <a:pt x="0" y="0"/>
                    </a:lnTo>
                    <a:lnTo>
                      <a:pt x="25" y="10"/>
                    </a:lnTo>
                    <a:lnTo>
                      <a:pt x="50" y="20"/>
                    </a:lnTo>
                    <a:lnTo>
                      <a:pt x="74" y="30"/>
                    </a:lnTo>
                    <a:lnTo>
                      <a:pt x="99" y="40"/>
                    </a:lnTo>
                    <a:lnTo>
                      <a:pt x="125" y="49"/>
                    </a:lnTo>
                    <a:lnTo>
                      <a:pt x="149" y="59"/>
                    </a:lnTo>
                    <a:lnTo>
                      <a:pt x="174" y="69"/>
                    </a:lnTo>
                    <a:lnTo>
                      <a:pt x="199" y="7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920760" y="4270320"/>
                <a:ext cx="119160" cy="129600"/>
              </a:xfrm>
              <a:custGeom>
                <a:avLst/>
                <a:gdLst/>
                <a:ahLst/>
                <a:rect l="l" t="t" r="r" b="b"/>
                <a:pathLst>
                  <a:path w="321" h="455">
                    <a:moveTo>
                      <a:pt x="195" y="77"/>
                    </a:moveTo>
                    <a:lnTo>
                      <a:pt x="211" y="124"/>
                    </a:lnTo>
                    <a:lnTo>
                      <a:pt x="226" y="172"/>
                    </a:lnTo>
                    <a:lnTo>
                      <a:pt x="242" y="219"/>
                    </a:lnTo>
                    <a:lnTo>
                      <a:pt x="257" y="266"/>
                    </a:lnTo>
                    <a:lnTo>
                      <a:pt x="273" y="314"/>
                    </a:lnTo>
                    <a:lnTo>
                      <a:pt x="289" y="360"/>
                    </a:lnTo>
                    <a:lnTo>
                      <a:pt x="304" y="407"/>
                    </a:lnTo>
                    <a:lnTo>
                      <a:pt x="321" y="455"/>
                    </a:lnTo>
                    <a:lnTo>
                      <a:pt x="296" y="445"/>
                    </a:lnTo>
                    <a:lnTo>
                      <a:pt x="271" y="434"/>
                    </a:lnTo>
                    <a:lnTo>
                      <a:pt x="247" y="424"/>
                    </a:lnTo>
                    <a:lnTo>
                      <a:pt x="222" y="414"/>
                    </a:lnTo>
                    <a:lnTo>
                      <a:pt x="198" y="405"/>
                    </a:lnTo>
                    <a:lnTo>
                      <a:pt x="172" y="395"/>
                    </a:lnTo>
                    <a:lnTo>
                      <a:pt x="147" y="385"/>
                    </a:lnTo>
                    <a:lnTo>
                      <a:pt x="123" y="375"/>
                    </a:lnTo>
                    <a:lnTo>
                      <a:pt x="107" y="327"/>
                    </a:lnTo>
                    <a:lnTo>
                      <a:pt x="92" y="280"/>
                    </a:lnTo>
                    <a:lnTo>
                      <a:pt x="77" y="234"/>
                    </a:lnTo>
                    <a:lnTo>
                      <a:pt x="61" y="187"/>
                    </a:lnTo>
                    <a:lnTo>
                      <a:pt x="45" y="140"/>
                    </a:lnTo>
                    <a:lnTo>
                      <a:pt x="30" y="93"/>
                    </a:lnTo>
                    <a:lnTo>
                      <a:pt x="15" y="46"/>
                    </a:lnTo>
                    <a:lnTo>
                      <a:pt x="0" y="0"/>
                    </a:lnTo>
                    <a:lnTo>
                      <a:pt x="24" y="10"/>
                    </a:lnTo>
                    <a:lnTo>
                      <a:pt x="48" y="19"/>
                    </a:lnTo>
                    <a:lnTo>
                      <a:pt x="73" y="28"/>
                    </a:lnTo>
                    <a:lnTo>
                      <a:pt x="98" y="38"/>
                    </a:lnTo>
                    <a:lnTo>
                      <a:pt x="122" y="48"/>
                    </a:lnTo>
                    <a:lnTo>
                      <a:pt x="146" y="58"/>
                    </a:lnTo>
                    <a:lnTo>
                      <a:pt x="170" y="67"/>
                    </a:lnTo>
                    <a:lnTo>
                      <a:pt x="195" y="77"/>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847680" y="4247280"/>
                <a:ext cx="119160" cy="129960"/>
              </a:xfrm>
              <a:custGeom>
                <a:avLst/>
                <a:gdLst/>
                <a:ahLst/>
                <a:rect l="l" t="t" r="r" b="b"/>
                <a:pathLst>
                  <a:path w="319" h="454">
                    <a:moveTo>
                      <a:pt x="196" y="79"/>
                    </a:moveTo>
                    <a:lnTo>
                      <a:pt x="211" y="125"/>
                    </a:lnTo>
                    <a:lnTo>
                      <a:pt x="226" y="172"/>
                    </a:lnTo>
                    <a:lnTo>
                      <a:pt x="241" y="219"/>
                    </a:lnTo>
                    <a:lnTo>
                      <a:pt x="257" y="266"/>
                    </a:lnTo>
                    <a:lnTo>
                      <a:pt x="273" y="313"/>
                    </a:lnTo>
                    <a:lnTo>
                      <a:pt x="288" y="359"/>
                    </a:lnTo>
                    <a:lnTo>
                      <a:pt x="303" y="406"/>
                    </a:lnTo>
                    <a:lnTo>
                      <a:pt x="319" y="454"/>
                    </a:lnTo>
                    <a:lnTo>
                      <a:pt x="294" y="444"/>
                    </a:lnTo>
                    <a:lnTo>
                      <a:pt x="270" y="433"/>
                    </a:lnTo>
                    <a:lnTo>
                      <a:pt x="245" y="423"/>
                    </a:lnTo>
                    <a:lnTo>
                      <a:pt x="220" y="413"/>
                    </a:lnTo>
                    <a:lnTo>
                      <a:pt x="196" y="404"/>
                    </a:lnTo>
                    <a:lnTo>
                      <a:pt x="172" y="394"/>
                    </a:lnTo>
                    <a:lnTo>
                      <a:pt x="147" y="384"/>
                    </a:lnTo>
                    <a:lnTo>
                      <a:pt x="122" y="374"/>
                    </a:lnTo>
                    <a:lnTo>
                      <a:pt x="107" y="327"/>
                    </a:lnTo>
                    <a:lnTo>
                      <a:pt x="91" y="281"/>
                    </a:lnTo>
                    <a:lnTo>
                      <a:pt x="76" y="234"/>
                    </a:lnTo>
                    <a:lnTo>
                      <a:pt x="61" y="187"/>
                    </a:lnTo>
                    <a:lnTo>
                      <a:pt x="46" y="140"/>
                    </a:lnTo>
                    <a:lnTo>
                      <a:pt x="31" y="93"/>
                    </a:lnTo>
                    <a:lnTo>
                      <a:pt x="15" y="47"/>
                    </a:lnTo>
                    <a:lnTo>
                      <a:pt x="0" y="0"/>
                    </a:lnTo>
                    <a:lnTo>
                      <a:pt x="24" y="10"/>
                    </a:lnTo>
                    <a:lnTo>
                      <a:pt x="49" y="20"/>
                    </a:lnTo>
                    <a:lnTo>
                      <a:pt x="73" y="29"/>
                    </a:lnTo>
                    <a:lnTo>
                      <a:pt x="97" y="39"/>
                    </a:lnTo>
                    <a:lnTo>
                      <a:pt x="122" y="49"/>
                    </a:lnTo>
                    <a:lnTo>
                      <a:pt x="147" y="59"/>
                    </a:lnTo>
                    <a:lnTo>
                      <a:pt x="171" y="69"/>
                    </a:lnTo>
                    <a:lnTo>
                      <a:pt x="196" y="7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775680" y="4226040"/>
                <a:ext cx="118080" cy="128160"/>
              </a:xfrm>
              <a:custGeom>
                <a:avLst/>
                <a:gdLst/>
                <a:ahLst/>
                <a:rect l="l" t="t" r="r" b="b"/>
                <a:pathLst>
                  <a:path w="315" h="450">
                    <a:moveTo>
                      <a:pt x="193" y="76"/>
                    </a:moveTo>
                    <a:lnTo>
                      <a:pt x="208" y="123"/>
                    </a:lnTo>
                    <a:lnTo>
                      <a:pt x="224" y="169"/>
                    </a:lnTo>
                    <a:lnTo>
                      <a:pt x="239" y="216"/>
                    </a:lnTo>
                    <a:lnTo>
                      <a:pt x="254" y="263"/>
                    </a:lnTo>
                    <a:lnTo>
                      <a:pt x="269" y="310"/>
                    </a:lnTo>
                    <a:lnTo>
                      <a:pt x="284" y="357"/>
                    </a:lnTo>
                    <a:lnTo>
                      <a:pt x="300" y="403"/>
                    </a:lnTo>
                    <a:lnTo>
                      <a:pt x="315" y="450"/>
                    </a:lnTo>
                    <a:lnTo>
                      <a:pt x="291" y="440"/>
                    </a:lnTo>
                    <a:lnTo>
                      <a:pt x="267" y="430"/>
                    </a:lnTo>
                    <a:lnTo>
                      <a:pt x="243" y="421"/>
                    </a:lnTo>
                    <a:lnTo>
                      <a:pt x="218" y="411"/>
                    </a:lnTo>
                    <a:lnTo>
                      <a:pt x="194" y="401"/>
                    </a:lnTo>
                    <a:lnTo>
                      <a:pt x="169" y="391"/>
                    </a:lnTo>
                    <a:lnTo>
                      <a:pt x="145" y="381"/>
                    </a:lnTo>
                    <a:lnTo>
                      <a:pt x="121" y="371"/>
                    </a:lnTo>
                    <a:lnTo>
                      <a:pt x="105" y="325"/>
                    </a:lnTo>
                    <a:lnTo>
                      <a:pt x="90" y="278"/>
                    </a:lnTo>
                    <a:lnTo>
                      <a:pt x="75" y="232"/>
                    </a:lnTo>
                    <a:lnTo>
                      <a:pt x="59" y="185"/>
                    </a:lnTo>
                    <a:lnTo>
                      <a:pt x="44" y="139"/>
                    </a:lnTo>
                    <a:lnTo>
                      <a:pt x="29" y="92"/>
                    </a:lnTo>
                    <a:lnTo>
                      <a:pt x="15" y="46"/>
                    </a:lnTo>
                    <a:lnTo>
                      <a:pt x="0" y="0"/>
                    </a:lnTo>
                    <a:lnTo>
                      <a:pt x="24" y="9"/>
                    </a:lnTo>
                    <a:lnTo>
                      <a:pt x="48" y="18"/>
                    </a:lnTo>
                    <a:lnTo>
                      <a:pt x="72" y="28"/>
                    </a:lnTo>
                    <a:lnTo>
                      <a:pt x="96" y="38"/>
                    </a:lnTo>
                    <a:lnTo>
                      <a:pt x="120" y="48"/>
                    </a:lnTo>
                    <a:lnTo>
                      <a:pt x="144" y="57"/>
                    </a:lnTo>
                    <a:lnTo>
                      <a:pt x="168" y="67"/>
                    </a:lnTo>
                    <a:lnTo>
                      <a:pt x="193" y="7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702600" y="4203360"/>
                <a:ext cx="117720" cy="128160"/>
              </a:xfrm>
              <a:custGeom>
                <a:avLst/>
                <a:gdLst/>
                <a:ahLst/>
                <a:rect l="l" t="t" r="r" b="b"/>
                <a:pathLst>
                  <a:path w="315" h="449">
                    <a:moveTo>
                      <a:pt x="194" y="78"/>
                    </a:moveTo>
                    <a:lnTo>
                      <a:pt x="209" y="124"/>
                    </a:lnTo>
                    <a:lnTo>
                      <a:pt x="223" y="170"/>
                    </a:lnTo>
                    <a:lnTo>
                      <a:pt x="238" y="217"/>
                    </a:lnTo>
                    <a:lnTo>
                      <a:pt x="253" y="263"/>
                    </a:lnTo>
                    <a:lnTo>
                      <a:pt x="269" y="310"/>
                    </a:lnTo>
                    <a:lnTo>
                      <a:pt x="284" y="356"/>
                    </a:lnTo>
                    <a:lnTo>
                      <a:pt x="299" y="403"/>
                    </a:lnTo>
                    <a:lnTo>
                      <a:pt x="315" y="449"/>
                    </a:lnTo>
                    <a:lnTo>
                      <a:pt x="290" y="439"/>
                    </a:lnTo>
                    <a:lnTo>
                      <a:pt x="266" y="430"/>
                    </a:lnTo>
                    <a:lnTo>
                      <a:pt x="241" y="420"/>
                    </a:lnTo>
                    <a:lnTo>
                      <a:pt x="217" y="410"/>
                    </a:lnTo>
                    <a:lnTo>
                      <a:pt x="193" y="400"/>
                    </a:lnTo>
                    <a:lnTo>
                      <a:pt x="169" y="390"/>
                    </a:lnTo>
                    <a:lnTo>
                      <a:pt x="146" y="380"/>
                    </a:lnTo>
                    <a:lnTo>
                      <a:pt x="121" y="371"/>
                    </a:lnTo>
                    <a:lnTo>
                      <a:pt x="106" y="325"/>
                    </a:lnTo>
                    <a:lnTo>
                      <a:pt x="91" y="278"/>
                    </a:lnTo>
                    <a:lnTo>
                      <a:pt x="76" y="233"/>
                    </a:lnTo>
                    <a:lnTo>
                      <a:pt x="61" y="186"/>
                    </a:lnTo>
                    <a:lnTo>
                      <a:pt x="46" y="139"/>
                    </a:lnTo>
                    <a:lnTo>
                      <a:pt x="31" y="94"/>
                    </a:lnTo>
                    <a:lnTo>
                      <a:pt x="16" y="47"/>
                    </a:lnTo>
                    <a:lnTo>
                      <a:pt x="0" y="0"/>
                    </a:lnTo>
                    <a:lnTo>
                      <a:pt x="25" y="10"/>
                    </a:lnTo>
                    <a:lnTo>
                      <a:pt x="49" y="20"/>
                    </a:lnTo>
                    <a:lnTo>
                      <a:pt x="73" y="30"/>
                    </a:lnTo>
                    <a:lnTo>
                      <a:pt x="97" y="39"/>
                    </a:lnTo>
                    <a:lnTo>
                      <a:pt x="121" y="48"/>
                    </a:lnTo>
                    <a:lnTo>
                      <a:pt x="146" y="58"/>
                    </a:lnTo>
                    <a:lnTo>
                      <a:pt x="170" y="68"/>
                    </a:lnTo>
                    <a:lnTo>
                      <a:pt x="194" y="78"/>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632760" y="4181760"/>
                <a:ext cx="116280" cy="128160"/>
              </a:xfrm>
              <a:custGeom>
                <a:avLst/>
                <a:gdLst/>
                <a:ahLst/>
                <a:rect l="l" t="t" r="r" b="b"/>
                <a:pathLst>
                  <a:path w="311" h="446">
                    <a:moveTo>
                      <a:pt x="190" y="75"/>
                    </a:moveTo>
                    <a:lnTo>
                      <a:pt x="206" y="122"/>
                    </a:lnTo>
                    <a:lnTo>
                      <a:pt x="221" y="169"/>
                    </a:lnTo>
                    <a:lnTo>
                      <a:pt x="236" y="214"/>
                    </a:lnTo>
                    <a:lnTo>
                      <a:pt x="251" y="261"/>
                    </a:lnTo>
                    <a:lnTo>
                      <a:pt x="266" y="308"/>
                    </a:lnTo>
                    <a:lnTo>
                      <a:pt x="281" y="353"/>
                    </a:lnTo>
                    <a:lnTo>
                      <a:pt x="296" y="400"/>
                    </a:lnTo>
                    <a:lnTo>
                      <a:pt x="311" y="446"/>
                    </a:lnTo>
                    <a:lnTo>
                      <a:pt x="287" y="436"/>
                    </a:lnTo>
                    <a:lnTo>
                      <a:pt x="263" y="426"/>
                    </a:lnTo>
                    <a:lnTo>
                      <a:pt x="239" y="416"/>
                    </a:lnTo>
                    <a:lnTo>
                      <a:pt x="215" y="407"/>
                    </a:lnTo>
                    <a:lnTo>
                      <a:pt x="191" y="398"/>
                    </a:lnTo>
                    <a:lnTo>
                      <a:pt x="167" y="388"/>
                    </a:lnTo>
                    <a:lnTo>
                      <a:pt x="143" y="378"/>
                    </a:lnTo>
                    <a:lnTo>
                      <a:pt x="119" y="368"/>
                    </a:lnTo>
                    <a:lnTo>
                      <a:pt x="104" y="322"/>
                    </a:lnTo>
                    <a:lnTo>
                      <a:pt x="90" y="276"/>
                    </a:lnTo>
                    <a:lnTo>
                      <a:pt x="75" y="230"/>
                    </a:lnTo>
                    <a:lnTo>
                      <a:pt x="59" y="185"/>
                    </a:lnTo>
                    <a:lnTo>
                      <a:pt x="45" y="138"/>
                    </a:lnTo>
                    <a:lnTo>
                      <a:pt x="30" y="92"/>
                    </a:lnTo>
                    <a:lnTo>
                      <a:pt x="15" y="45"/>
                    </a:lnTo>
                    <a:lnTo>
                      <a:pt x="0" y="0"/>
                    </a:lnTo>
                    <a:lnTo>
                      <a:pt x="24" y="10"/>
                    </a:lnTo>
                    <a:lnTo>
                      <a:pt x="48" y="18"/>
                    </a:lnTo>
                    <a:lnTo>
                      <a:pt x="73" y="28"/>
                    </a:lnTo>
                    <a:lnTo>
                      <a:pt x="96" y="38"/>
                    </a:lnTo>
                    <a:lnTo>
                      <a:pt x="120" y="47"/>
                    </a:lnTo>
                    <a:lnTo>
                      <a:pt x="143" y="57"/>
                    </a:lnTo>
                    <a:lnTo>
                      <a:pt x="167" y="66"/>
                    </a:lnTo>
                    <a:lnTo>
                      <a:pt x="190" y="75"/>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562560" y="4160160"/>
                <a:ext cx="113040" cy="127080"/>
              </a:xfrm>
              <a:custGeom>
                <a:avLst/>
                <a:gdLst/>
                <a:ahLst/>
                <a:rect l="l" t="t" r="r" b="b"/>
                <a:pathLst>
                  <a:path w="308" h="444">
                    <a:moveTo>
                      <a:pt x="189" y="76"/>
                    </a:moveTo>
                    <a:lnTo>
                      <a:pt x="204" y="121"/>
                    </a:lnTo>
                    <a:lnTo>
                      <a:pt x="219" y="168"/>
                    </a:lnTo>
                    <a:lnTo>
                      <a:pt x="234" y="214"/>
                    </a:lnTo>
                    <a:lnTo>
                      <a:pt x="248" y="261"/>
                    </a:lnTo>
                    <a:lnTo>
                      <a:pt x="264" y="306"/>
                    </a:lnTo>
                    <a:lnTo>
                      <a:pt x="279" y="352"/>
                    </a:lnTo>
                    <a:lnTo>
                      <a:pt x="293" y="398"/>
                    </a:lnTo>
                    <a:lnTo>
                      <a:pt x="308" y="444"/>
                    </a:lnTo>
                    <a:lnTo>
                      <a:pt x="285" y="434"/>
                    </a:lnTo>
                    <a:lnTo>
                      <a:pt x="260" y="424"/>
                    </a:lnTo>
                    <a:lnTo>
                      <a:pt x="236" y="414"/>
                    </a:lnTo>
                    <a:lnTo>
                      <a:pt x="213" y="406"/>
                    </a:lnTo>
                    <a:lnTo>
                      <a:pt x="189" y="396"/>
                    </a:lnTo>
                    <a:lnTo>
                      <a:pt x="165" y="386"/>
                    </a:lnTo>
                    <a:lnTo>
                      <a:pt x="142" y="376"/>
                    </a:lnTo>
                    <a:lnTo>
                      <a:pt x="117" y="366"/>
                    </a:lnTo>
                    <a:lnTo>
                      <a:pt x="103" y="321"/>
                    </a:lnTo>
                    <a:lnTo>
                      <a:pt x="88" y="275"/>
                    </a:lnTo>
                    <a:lnTo>
                      <a:pt x="74" y="230"/>
                    </a:lnTo>
                    <a:lnTo>
                      <a:pt x="59" y="184"/>
                    </a:lnTo>
                    <a:lnTo>
                      <a:pt x="44" y="137"/>
                    </a:lnTo>
                    <a:lnTo>
                      <a:pt x="30" y="92"/>
                    </a:lnTo>
                    <a:lnTo>
                      <a:pt x="15" y="46"/>
                    </a:lnTo>
                    <a:lnTo>
                      <a:pt x="0" y="0"/>
                    </a:lnTo>
                    <a:lnTo>
                      <a:pt x="24" y="9"/>
                    </a:lnTo>
                    <a:lnTo>
                      <a:pt x="48" y="19"/>
                    </a:lnTo>
                    <a:lnTo>
                      <a:pt x="71" y="28"/>
                    </a:lnTo>
                    <a:lnTo>
                      <a:pt x="95" y="38"/>
                    </a:lnTo>
                    <a:lnTo>
                      <a:pt x="118" y="48"/>
                    </a:lnTo>
                    <a:lnTo>
                      <a:pt x="142" y="57"/>
                    </a:lnTo>
                    <a:lnTo>
                      <a:pt x="166" y="66"/>
                    </a:lnTo>
                    <a:lnTo>
                      <a:pt x="189" y="76"/>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492360" y="4138920"/>
                <a:ext cx="113040" cy="125280"/>
              </a:xfrm>
              <a:custGeom>
                <a:avLst/>
                <a:gdLst/>
                <a:ahLst/>
                <a:rect l="l" t="t" r="r" b="b"/>
                <a:pathLst>
                  <a:path w="304" h="440">
                    <a:moveTo>
                      <a:pt x="187" y="74"/>
                    </a:moveTo>
                    <a:lnTo>
                      <a:pt x="202" y="120"/>
                    </a:lnTo>
                    <a:lnTo>
                      <a:pt x="217" y="166"/>
                    </a:lnTo>
                    <a:lnTo>
                      <a:pt x="231" y="211"/>
                    </a:lnTo>
                    <a:lnTo>
                      <a:pt x="246" y="258"/>
                    </a:lnTo>
                    <a:lnTo>
                      <a:pt x="261" y="304"/>
                    </a:lnTo>
                    <a:lnTo>
                      <a:pt x="275" y="349"/>
                    </a:lnTo>
                    <a:lnTo>
                      <a:pt x="290" y="395"/>
                    </a:lnTo>
                    <a:lnTo>
                      <a:pt x="304" y="440"/>
                    </a:lnTo>
                    <a:lnTo>
                      <a:pt x="281" y="432"/>
                    </a:lnTo>
                    <a:lnTo>
                      <a:pt x="257" y="422"/>
                    </a:lnTo>
                    <a:lnTo>
                      <a:pt x="234" y="412"/>
                    </a:lnTo>
                    <a:lnTo>
                      <a:pt x="210" y="402"/>
                    </a:lnTo>
                    <a:lnTo>
                      <a:pt x="186" y="394"/>
                    </a:lnTo>
                    <a:lnTo>
                      <a:pt x="162" y="384"/>
                    </a:lnTo>
                    <a:lnTo>
                      <a:pt x="138" y="374"/>
                    </a:lnTo>
                    <a:lnTo>
                      <a:pt x="114" y="364"/>
                    </a:lnTo>
                    <a:lnTo>
                      <a:pt x="100" y="319"/>
                    </a:lnTo>
                    <a:lnTo>
                      <a:pt x="86" y="273"/>
                    </a:lnTo>
                    <a:lnTo>
                      <a:pt x="72" y="227"/>
                    </a:lnTo>
                    <a:lnTo>
                      <a:pt x="56" y="182"/>
                    </a:lnTo>
                    <a:lnTo>
                      <a:pt x="42" y="136"/>
                    </a:lnTo>
                    <a:lnTo>
                      <a:pt x="28" y="91"/>
                    </a:lnTo>
                    <a:lnTo>
                      <a:pt x="14" y="45"/>
                    </a:lnTo>
                    <a:lnTo>
                      <a:pt x="0" y="0"/>
                    </a:lnTo>
                    <a:lnTo>
                      <a:pt x="23" y="8"/>
                    </a:lnTo>
                    <a:lnTo>
                      <a:pt x="46" y="18"/>
                    </a:lnTo>
                    <a:lnTo>
                      <a:pt x="69" y="27"/>
                    </a:lnTo>
                    <a:lnTo>
                      <a:pt x="93" y="37"/>
                    </a:lnTo>
                    <a:lnTo>
                      <a:pt x="117" y="47"/>
                    </a:lnTo>
                    <a:lnTo>
                      <a:pt x="140" y="55"/>
                    </a:lnTo>
                    <a:lnTo>
                      <a:pt x="163" y="65"/>
                    </a:lnTo>
                    <a:lnTo>
                      <a:pt x="187" y="74"/>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422160" y="4117680"/>
                <a:ext cx="111960" cy="125280"/>
              </a:xfrm>
              <a:custGeom>
                <a:avLst/>
                <a:gdLst/>
                <a:ahLst/>
                <a:rect l="l" t="t" r="r" b="b"/>
                <a:pathLst>
                  <a:path w="301" h="439">
                    <a:moveTo>
                      <a:pt x="187" y="75"/>
                    </a:moveTo>
                    <a:lnTo>
                      <a:pt x="201" y="120"/>
                    </a:lnTo>
                    <a:lnTo>
                      <a:pt x="215" y="166"/>
                    </a:lnTo>
                    <a:lnTo>
                      <a:pt x="229" y="211"/>
                    </a:lnTo>
                    <a:lnTo>
                      <a:pt x="243" y="257"/>
                    </a:lnTo>
                    <a:lnTo>
                      <a:pt x="259" y="302"/>
                    </a:lnTo>
                    <a:lnTo>
                      <a:pt x="273" y="348"/>
                    </a:lnTo>
                    <a:lnTo>
                      <a:pt x="287" y="394"/>
                    </a:lnTo>
                    <a:lnTo>
                      <a:pt x="301" y="439"/>
                    </a:lnTo>
                    <a:lnTo>
                      <a:pt x="278" y="429"/>
                    </a:lnTo>
                    <a:lnTo>
                      <a:pt x="254" y="421"/>
                    </a:lnTo>
                    <a:lnTo>
                      <a:pt x="231" y="411"/>
                    </a:lnTo>
                    <a:lnTo>
                      <a:pt x="208" y="401"/>
                    </a:lnTo>
                    <a:lnTo>
                      <a:pt x="185" y="392"/>
                    </a:lnTo>
                    <a:lnTo>
                      <a:pt x="162" y="382"/>
                    </a:lnTo>
                    <a:lnTo>
                      <a:pt x="140" y="374"/>
                    </a:lnTo>
                    <a:lnTo>
                      <a:pt x="116" y="364"/>
                    </a:lnTo>
                    <a:lnTo>
                      <a:pt x="101" y="318"/>
                    </a:lnTo>
                    <a:lnTo>
                      <a:pt x="87" y="273"/>
                    </a:lnTo>
                    <a:lnTo>
                      <a:pt x="72" y="227"/>
                    </a:lnTo>
                    <a:lnTo>
                      <a:pt x="58" y="182"/>
                    </a:lnTo>
                    <a:lnTo>
                      <a:pt x="43" y="136"/>
                    </a:lnTo>
                    <a:lnTo>
                      <a:pt x="29" y="91"/>
                    </a:lnTo>
                    <a:lnTo>
                      <a:pt x="15" y="45"/>
                    </a:lnTo>
                    <a:lnTo>
                      <a:pt x="0" y="0"/>
                    </a:lnTo>
                    <a:lnTo>
                      <a:pt x="24" y="10"/>
                    </a:lnTo>
                    <a:lnTo>
                      <a:pt x="47" y="18"/>
                    </a:lnTo>
                    <a:lnTo>
                      <a:pt x="70" y="28"/>
                    </a:lnTo>
                    <a:lnTo>
                      <a:pt x="93" y="37"/>
                    </a:lnTo>
                    <a:lnTo>
                      <a:pt x="116" y="46"/>
                    </a:lnTo>
                    <a:lnTo>
                      <a:pt x="140" y="56"/>
                    </a:lnTo>
                    <a:lnTo>
                      <a:pt x="163" y="65"/>
                    </a:lnTo>
                    <a:lnTo>
                      <a:pt x="187" y="75"/>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353400" y="4097520"/>
                <a:ext cx="111960" cy="124200"/>
              </a:xfrm>
              <a:custGeom>
                <a:avLst/>
                <a:gdLst/>
                <a:ahLst/>
                <a:rect l="l" t="t" r="r" b="b"/>
                <a:pathLst>
                  <a:path w="301" h="438">
                    <a:moveTo>
                      <a:pt x="185" y="74"/>
                    </a:moveTo>
                    <a:lnTo>
                      <a:pt x="200" y="119"/>
                    </a:lnTo>
                    <a:lnTo>
                      <a:pt x="214" y="165"/>
                    </a:lnTo>
                    <a:lnTo>
                      <a:pt x="228" y="210"/>
                    </a:lnTo>
                    <a:lnTo>
                      <a:pt x="243" y="256"/>
                    </a:lnTo>
                    <a:lnTo>
                      <a:pt x="257" y="301"/>
                    </a:lnTo>
                    <a:lnTo>
                      <a:pt x="272" y="347"/>
                    </a:lnTo>
                    <a:lnTo>
                      <a:pt x="286" y="392"/>
                    </a:lnTo>
                    <a:lnTo>
                      <a:pt x="301" y="438"/>
                    </a:lnTo>
                    <a:lnTo>
                      <a:pt x="278" y="428"/>
                    </a:lnTo>
                    <a:lnTo>
                      <a:pt x="255" y="420"/>
                    </a:lnTo>
                    <a:lnTo>
                      <a:pt x="231" y="410"/>
                    </a:lnTo>
                    <a:lnTo>
                      <a:pt x="208" y="400"/>
                    </a:lnTo>
                    <a:lnTo>
                      <a:pt x="184" y="391"/>
                    </a:lnTo>
                    <a:lnTo>
                      <a:pt x="161" y="381"/>
                    </a:lnTo>
                    <a:lnTo>
                      <a:pt x="138" y="372"/>
                    </a:lnTo>
                    <a:lnTo>
                      <a:pt x="114" y="363"/>
                    </a:lnTo>
                    <a:lnTo>
                      <a:pt x="100" y="317"/>
                    </a:lnTo>
                    <a:lnTo>
                      <a:pt x="85" y="272"/>
                    </a:lnTo>
                    <a:lnTo>
                      <a:pt x="71" y="226"/>
                    </a:lnTo>
                    <a:lnTo>
                      <a:pt x="56" y="181"/>
                    </a:lnTo>
                    <a:lnTo>
                      <a:pt x="42" y="136"/>
                    </a:lnTo>
                    <a:lnTo>
                      <a:pt x="28" y="91"/>
                    </a:lnTo>
                    <a:lnTo>
                      <a:pt x="14" y="45"/>
                    </a:lnTo>
                    <a:lnTo>
                      <a:pt x="0" y="0"/>
                    </a:lnTo>
                    <a:lnTo>
                      <a:pt x="23" y="10"/>
                    </a:lnTo>
                    <a:lnTo>
                      <a:pt x="45" y="18"/>
                    </a:lnTo>
                    <a:lnTo>
                      <a:pt x="69" y="28"/>
                    </a:lnTo>
                    <a:lnTo>
                      <a:pt x="92" y="37"/>
                    </a:lnTo>
                    <a:lnTo>
                      <a:pt x="115" y="47"/>
                    </a:lnTo>
                    <a:lnTo>
                      <a:pt x="139" y="55"/>
                    </a:lnTo>
                    <a:lnTo>
                      <a:pt x="162" y="65"/>
                    </a:lnTo>
                    <a:lnTo>
                      <a:pt x="185" y="74"/>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284640" y="4075920"/>
                <a:ext cx="110520" cy="124200"/>
              </a:xfrm>
              <a:custGeom>
                <a:avLst/>
                <a:gdLst/>
                <a:ahLst/>
                <a:rect l="l" t="t" r="r" b="b"/>
                <a:pathLst>
                  <a:path w="298" h="436">
                    <a:moveTo>
                      <a:pt x="184" y="73"/>
                    </a:moveTo>
                    <a:lnTo>
                      <a:pt x="198" y="118"/>
                    </a:lnTo>
                    <a:lnTo>
                      <a:pt x="212" y="164"/>
                    </a:lnTo>
                    <a:lnTo>
                      <a:pt x="226" y="209"/>
                    </a:lnTo>
                    <a:lnTo>
                      <a:pt x="240" y="254"/>
                    </a:lnTo>
                    <a:lnTo>
                      <a:pt x="255" y="299"/>
                    </a:lnTo>
                    <a:lnTo>
                      <a:pt x="269" y="345"/>
                    </a:lnTo>
                    <a:lnTo>
                      <a:pt x="284" y="390"/>
                    </a:lnTo>
                    <a:lnTo>
                      <a:pt x="298" y="436"/>
                    </a:lnTo>
                    <a:lnTo>
                      <a:pt x="275" y="426"/>
                    </a:lnTo>
                    <a:lnTo>
                      <a:pt x="252" y="416"/>
                    </a:lnTo>
                    <a:lnTo>
                      <a:pt x="229" y="408"/>
                    </a:lnTo>
                    <a:lnTo>
                      <a:pt x="206" y="398"/>
                    </a:lnTo>
                    <a:lnTo>
                      <a:pt x="183" y="389"/>
                    </a:lnTo>
                    <a:lnTo>
                      <a:pt x="160" y="379"/>
                    </a:lnTo>
                    <a:lnTo>
                      <a:pt x="137" y="371"/>
                    </a:lnTo>
                    <a:lnTo>
                      <a:pt x="113" y="361"/>
                    </a:lnTo>
                    <a:lnTo>
                      <a:pt x="99" y="315"/>
                    </a:lnTo>
                    <a:lnTo>
                      <a:pt x="85" y="271"/>
                    </a:lnTo>
                    <a:lnTo>
                      <a:pt x="70" y="225"/>
                    </a:lnTo>
                    <a:lnTo>
                      <a:pt x="56" y="180"/>
                    </a:lnTo>
                    <a:lnTo>
                      <a:pt x="42" y="136"/>
                    </a:lnTo>
                    <a:lnTo>
                      <a:pt x="28" y="90"/>
                    </a:lnTo>
                    <a:lnTo>
                      <a:pt x="14" y="44"/>
                    </a:lnTo>
                    <a:lnTo>
                      <a:pt x="0" y="0"/>
                    </a:lnTo>
                    <a:lnTo>
                      <a:pt x="22" y="9"/>
                    </a:lnTo>
                    <a:lnTo>
                      <a:pt x="45" y="19"/>
                    </a:lnTo>
                    <a:lnTo>
                      <a:pt x="68" y="27"/>
                    </a:lnTo>
                    <a:lnTo>
                      <a:pt x="91" y="37"/>
                    </a:lnTo>
                    <a:lnTo>
                      <a:pt x="114" y="46"/>
                    </a:lnTo>
                    <a:lnTo>
                      <a:pt x="138" y="54"/>
                    </a:lnTo>
                    <a:lnTo>
                      <a:pt x="161" y="64"/>
                    </a:lnTo>
                    <a:lnTo>
                      <a:pt x="184" y="73"/>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216240" y="4056120"/>
                <a:ext cx="110160" cy="122760"/>
              </a:xfrm>
              <a:custGeom>
                <a:avLst/>
                <a:gdLst/>
                <a:ahLst/>
                <a:rect l="l" t="t" r="r" b="b"/>
                <a:pathLst>
                  <a:path w="295" h="433">
                    <a:moveTo>
                      <a:pt x="182" y="72"/>
                    </a:moveTo>
                    <a:lnTo>
                      <a:pt x="196" y="116"/>
                    </a:lnTo>
                    <a:lnTo>
                      <a:pt x="210" y="162"/>
                    </a:lnTo>
                    <a:lnTo>
                      <a:pt x="224" y="208"/>
                    </a:lnTo>
                    <a:lnTo>
                      <a:pt x="238" y="252"/>
                    </a:lnTo>
                    <a:lnTo>
                      <a:pt x="252" y="297"/>
                    </a:lnTo>
                    <a:lnTo>
                      <a:pt x="267" y="343"/>
                    </a:lnTo>
                    <a:lnTo>
                      <a:pt x="281" y="387"/>
                    </a:lnTo>
                    <a:lnTo>
                      <a:pt x="295" y="433"/>
                    </a:lnTo>
                    <a:lnTo>
                      <a:pt x="272" y="423"/>
                    </a:lnTo>
                    <a:lnTo>
                      <a:pt x="249" y="414"/>
                    </a:lnTo>
                    <a:lnTo>
                      <a:pt x="227" y="405"/>
                    </a:lnTo>
                    <a:lnTo>
                      <a:pt x="204" y="396"/>
                    </a:lnTo>
                    <a:lnTo>
                      <a:pt x="181" y="386"/>
                    </a:lnTo>
                    <a:lnTo>
                      <a:pt x="157" y="377"/>
                    </a:lnTo>
                    <a:lnTo>
                      <a:pt x="134" y="368"/>
                    </a:lnTo>
                    <a:lnTo>
                      <a:pt x="111" y="359"/>
                    </a:lnTo>
                    <a:lnTo>
                      <a:pt x="97" y="313"/>
                    </a:lnTo>
                    <a:lnTo>
                      <a:pt x="83" y="269"/>
                    </a:lnTo>
                    <a:lnTo>
                      <a:pt x="69" y="224"/>
                    </a:lnTo>
                    <a:lnTo>
                      <a:pt x="55" y="179"/>
                    </a:lnTo>
                    <a:lnTo>
                      <a:pt x="40" y="134"/>
                    </a:lnTo>
                    <a:lnTo>
                      <a:pt x="26" y="89"/>
                    </a:lnTo>
                    <a:lnTo>
                      <a:pt x="13" y="44"/>
                    </a:lnTo>
                    <a:lnTo>
                      <a:pt x="0" y="0"/>
                    </a:lnTo>
                    <a:lnTo>
                      <a:pt x="22" y="8"/>
                    </a:lnTo>
                    <a:lnTo>
                      <a:pt x="44" y="17"/>
                    </a:lnTo>
                    <a:lnTo>
                      <a:pt x="68" y="27"/>
                    </a:lnTo>
                    <a:lnTo>
                      <a:pt x="90" y="35"/>
                    </a:lnTo>
                    <a:lnTo>
                      <a:pt x="112" y="45"/>
                    </a:lnTo>
                    <a:lnTo>
                      <a:pt x="135" y="54"/>
                    </a:lnTo>
                    <a:lnTo>
                      <a:pt x="158" y="62"/>
                    </a:lnTo>
                    <a:lnTo>
                      <a:pt x="182" y="7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148920" y="4034520"/>
                <a:ext cx="108720" cy="122760"/>
              </a:xfrm>
              <a:custGeom>
                <a:avLst/>
                <a:gdLst/>
                <a:ahLst/>
                <a:rect l="l" t="t" r="r" b="b"/>
                <a:pathLst>
                  <a:path w="293" h="432">
                    <a:moveTo>
                      <a:pt x="182" y="73"/>
                    </a:moveTo>
                    <a:lnTo>
                      <a:pt x="195" y="117"/>
                    </a:lnTo>
                    <a:lnTo>
                      <a:pt x="208" y="162"/>
                    </a:lnTo>
                    <a:lnTo>
                      <a:pt x="222" y="207"/>
                    </a:lnTo>
                    <a:lnTo>
                      <a:pt x="237" y="252"/>
                    </a:lnTo>
                    <a:lnTo>
                      <a:pt x="251" y="297"/>
                    </a:lnTo>
                    <a:lnTo>
                      <a:pt x="265" y="342"/>
                    </a:lnTo>
                    <a:lnTo>
                      <a:pt x="279" y="386"/>
                    </a:lnTo>
                    <a:lnTo>
                      <a:pt x="293" y="432"/>
                    </a:lnTo>
                    <a:lnTo>
                      <a:pt x="270" y="422"/>
                    </a:lnTo>
                    <a:lnTo>
                      <a:pt x="248" y="414"/>
                    </a:lnTo>
                    <a:lnTo>
                      <a:pt x="224" y="404"/>
                    </a:lnTo>
                    <a:lnTo>
                      <a:pt x="202" y="395"/>
                    </a:lnTo>
                    <a:lnTo>
                      <a:pt x="179" y="385"/>
                    </a:lnTo>
                    <a:lnTo>
                      <a:pt x="157" y="377"/>
                    </a:lnTo>
                    <a:lnTo>
                      <a:pt x="134" y="367"/>
                    </a:lnTo>
                    <a:lnTo>
                      <a:pt x="112" y="358"/>
                    </a:lnTo>
                    <a:lnTo>
                      <a:pt x="97" y="313"/>
                    </a:lnTo>
                    <a:lnTo>
                      <a:pt x="83" y="268"/>
                    </a:lnTo>
                    <a:lnTo>
                      <a:pt x="70" y="224"/>
                    </a:lnTo>
                    <a:lnTo>
                      <a:pt x="56" y="178"/>
                    </a:lnTo>
                    <a:lnTo>
                      <a:pt x="42" y="134"/>
                    </a:lnTo>
                    <a:lnTo>
                      <a:pt x="28" y="90"/>
                    </a:lnTo>
                    <a:lnTo>
                      <a:pt x="14" y="44"/>
                    </a:lnTo>
                    <a:lnTo>
                      <a:pt x="0" y="0"/>
                    </a:lnTo>
                    <a:lnTo>
                      <a:pt x="23" y="9"/>
                    </a:lnTo>
                    <a:lnTo>
                      <a:pt x="45" y="18"/>
                    </a:lnTo>
                    <a:lnTo>
                      <a:pt x="68" y="27"/>
                    </a:lnTo>
                    <a:lnTo>
                      <a:pt x="90" y="36"/>
                    </a:lnTo>
                    <a:lnTo>
                      <a:pt x="114" y="45"/>
                    </a:lnTo>
                    <a:lnTo>
                      <a:pt x="137" y="54"/>
                    </a:lnTo>
                    <a:lnTo>
                      <a:pt x="159" y="63"/>
                    </a:lnTo>
                    <a:lnTo>
                      <a:pt x="182" y="73"/>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81960" y="4014720"/>
                <a:ext cx="108720" cy="122400"/>
              </a:xfrm>
              <a:custGeom>
                <a:avLst/>
                <a:gdLst/>
                <a:ahLst/>
                <a:rect l="l" t="t" r="r" b="b"/>
                <a:pathLst>
                  <a:path w="291" h="429">
                    <a:moveTo>
                      <a:pt x="179" y="71"/>
                    </a:moveTo>
                    <a:lnTo>
                      <a:pt x="193" y="115"/>
                    </a:lnTo>
                    <a:lnTo>
                      <a:pt x="207" y="161"/>
                    </a:lnTo>
                    <a:lnTo>
                      <a:pt x="221" y="205"/>
                    </a:lnTo>
                    <a:lnTo>
                      <a:pt x="235" y="249"/>
                    </a:lnTo>
                    <a:lnTo>
                      <a:pt x="249" y="295"/>
                    </a:lnTo>
                    <a:lnTo>
                      <a:pt x="262" y="339"/>
                    </a:lnTo>
                    <a:lnTo>
                      <a:pt x="276" y="384"/>
                    </a:lnTo>
                    <a:lnTo>
                      <a:pt x="291" y="429"/>
                    </a:lnTo>
                    <a:lnTo>
                      <a:pt x="268" y="419"/>
                    </a:lnTo>
                    <a:lnTo>
                      <a:pt x="246" y="411"/>
                    </a:lnTo>
                    <a:lnTo>
                      <a:pt x="223" y="401"/>
                    </a:lnTo>
                    <a:lnTo>
                      <a:pt x="201" y="392"/>
                    </a:lnTo>
                    <a:lnTo>
                      <a:pt x="179" y="384"/>
                    </a:lnTo>
                    <a:lnTo>
                      <a:pt x="155" y="374"/>
                    </a:lnTo>
                    <a:lnTo>
                      <a:pt x="133" y="365"/>
                    </a:lnTo>
                    <a:lnTo>
                      <a:pt x="111" y="355"/>
                    </a:lnTo>
                    <a:lnTo>
                      <a:pt x="97" y="311"/>
                    </a:lnTo>
                    <a:lnTo>
                      <a:pt x="83" y="267"/>
                    </a:lnTo>
                    <a:lnTo>
                      <a:pt x="69" y="222"/>
                    </a:lnTo>
                    <a:lnTo>
                      <a:pt x="56" y="178"/>
                    </a:lnTo>
                    <a:lnTo>
                      <a:pt x="42" y="134"/>
                    </a:lnTo>
                    <a:lnTo>
                      <a:pt x="28" y="89"/>
                    </a:lnTo>
                    <a:lnTo>
                      <a:pt x="14" y="44"/>
                    </a:lnTo>
                    <a:lnTo>
                      <a:pt x="0" y="0"/>
                    </a:lnTo>
                    <a:lnTo>
                      <a:pt x="22" y="8"/>
                    </a:lnTo>
                    <a:lnTo>
                      <a:pt x="45" y="17"/>
                    </a:lnTo>
                    <a:lnTo>
                      <a:pt x="67" y="27"/>
                    </a:lnTo>
                    <a:lnTo>
                      <a:pt x="89" y="35"/>
                    </a:lnTo>
                    <a:lnTo>
                      <a:pt x="112" y="44"/>
                    </a:lnTo>
                    <a:lnTo>
                      <a:pt x="134" y="52"/>
                    </a:lnTo>
                    <a:lnTo>
                      <a:pt x="156" y="62"/>
                    </a:lnTo>
                    <a:lnTo>
                      <a:pt x="179" y="7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014640" y="3993120"/>
                <a:ext cx="108720" cy="122760"/>
              </a:xfrm>
              <a:custGeom>
                <a:avLst/>
                <a:gdLst/>
                <a:ahLst/>
                <a:rect l="l" t="t" r="r" b="b"/>
                <a:pathLst>
                  <a:path w="289" h="427">
                    <a:moveTo>
                      <a:pt x="178" y="72"/>
                    </a:moveTo>
                    <a:lnTo>
                      <a:pt x="192" y="116"/>
                    </a:lnTo>
                    <a:lnTo>
                      <a:pt x="206" y="161"/>
                    </a:lnTo>
                    <a:lnTo>
                      <a:pt x="220" y="206"/>
                    </a:lnTo>
                    <a:lnTo>
                      <a:pt x="234" y="250"/>
                    </a:lnTo>
                    <a:lnTo>
                      <a:pt x="247" y="294"/>
                    </a:lnTo>
                    <a:lnTo>
                      <a:pt x="261" y="339"/>
                    </a:lnTo>
                    <a:lnTo>
                      <a:pt x="275" y="383"/>
                    </a:lnTo>
                    <a:lnTo>
                      <a:pt x="289" y="427"/>
                    </a:lnTo>
                    <a:lnTo>
                      <a:pt x="266" y="419"/>
                    </a:lnTo>
                    <a:lnTo>
                      <a:pt x="244" y="409"/>
                    </a:lnTo>
                    <a:lnTo>
                      <a:pt x="222" y="400"/>
                    </a:lnTo>
                    <a:lnTo>
                      <a:pt x="199" y="392"/>
                    </a:lnTo>
                    <a:lnTo>
                      <a:pt x="176" y="382"/>
                    </a:lnTo>
                    <a:lnTo>
                      <a:pt x="154" y="373"/>
                    </a:lnTo>
                    <a:lnTo>
                      <a:pt x="132" y="364"/>
                    </a:lnTo>
                    <a:lnTo>
                      <a:pt x="111" y="356"/>
                    </a:lnTo>
                    <a:lnTo>
                      <a:pt x="97" y="312"/>
                    </a:lnTo>
                    <a:lnTo>
                      <a:pt x="82" y="267"/>
                    </a:lnTo>
                    <a:lnTo>
                      <a:pt x="68" y="223"/>
                    </a:lnTo>
                    <a:lnTo>
                      <a:pt x="55" y="179"/>
                    </a:lnTo>
                    <a:lnTo>
                      <a:pt x="41" y="134"/>
                    </a:lnTo>
                    <a:lnTo>
                      <a:pt x="28" y="89"/>
                    </a:lnTo>
                    <a:lnTo>
                      <a:pt x="14" y="44"/>
                    </a:lnTo>
                    <a:lnTo>
                      <a:pt x="0" y="0"/>
                    </a:lnTo>
                    <a:lnTo>
                      <a:pt x="23" y="10"/>
                    </a:lnTo>
                    <a:lnTo>
                      <a:pt x="45" y="19"/>
                    </a:lnTo>
                    <a:lnTo>
                      <a:pt x="67" y="27"/>
                    </a:lnTo>
                    <a:lnTo>
                      <a:pt x="90" y="36"/>
                    </a:lnTo>
                    <a:lnTo>
                      <a:pt x="112" y="46"/>
                    </a:lnTo>
                    <a:lnTo>
                      <a:pt x="135" y="54"/>
                    </a:lnTo>
                    <a:lnTo>
                      <a:pt x="156" y="63"/>
                    </a:lnTo>
                    <a:lnTo>
                      <a:pt x="178" y="72"/>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49120" y="3973320"/>
                <a:ext cx="107280" cy="122400"/>
              </a:xfrm>
              <a:custGeom>
                <a:avLst/>
                <a:gdLst/>
                <a:ahLst/>
                <a:rect l="l" t="t" r="r" b="b"/>
                <a:pathLst>
                  <a:path w="288" h="426">
                    <a:moveTo>
                      <a:pt x="177" y="70"/>
                    </a:moveTo>
                    <a:lnTo>
                      <a:pt x="191" y="114"/>
                    </a:lnTo>
                    <a:lnTo>
                      <a:pt x="205" y="159"/>
                    </a:lnTo>
                    <a:lnTo>
                      <a:pt x="218" y="204"/>
                    </a:lnTo>
                    <a:lnTo>
                      <a:pt x="232" y="249"/>
                    </a:lnTo>
                    <a:lnTo>
                      <a:pt x="245" y="293"/>
                    </a:lnTo>
                    <a:lnTo>
                      <a:pt x="259" y="337"/>
                    </a:lnTo>
                    <a:lnTo>
                      <a:pt x="274" y="382"/>
                    </a:lnTo>
                    <a:lnTo>
                      <a:pt x="288" y="426"/>
                    </a:lnTo>
                    <a:lnTo>
                      <a:pt x="265" y="416"/>
                    </a:lnTo>
                    <a:lnTo>
                      <a:pt x="242" y="407"/>
                    </a:lnTo>
                    <a:lnTo>
                      <a:pt x="220" y="399"/>
                    </a:lnTo>
                    <a:lnTo>
                      <a:pt x="198" y="389"/>
                    </a:lnTo>
                    <a:lnTo>
                      <a:pt x="176" y="380"/>
                    </a:lnTo>
                    <a:lnTo>
                      <a:pt x="154" y="372"/>
                    </a:lnTo>
                    <a:lnTo>
                      <a:pt x="131" y="362"/>
                    </a:lnTo>
                    <a:lnTo>
                      <a:pt x="108" y="353"/>
                    </a:lnTo>
                    <a:lnTo>
                      <a:pt x="95" y="309"/>
                    </a:lnTo>
                    <a:lnTo>
                      <a:pt x="81" y="265"/>
                    </a:lnTo>
                    <a:lnTo>
                      <a:pt x="67" y="220"/>
                    </a:lnTo>
                    <a:lnTo>
                      <a:pt x="54" y="176"/>
                    </a:lnTo>
                    <a:lnTo>
                      <a:pt x="41" y="133"/>
                    </a:lnTo>
                    <a:lnTo>
                      <a:pt x="27" y="89"/>
                    </a:lnTo>
                    <a:lnTo>
                      <a:pt x="14" y="44"/>
                    </a:lnTo>
                    <a:lnTo>
                      <a:pt x="0" y="0"/>
                    </a:lnTo>
                    <a:lnTo>
                      <a:pt x="22" y="9"/>
                    </a:lnTo>
                    <a:lnTo>
                      <a:pt x="44" y="17"/>
                    </a:lnTo>
                    <a:lnTo>
                      <a:pt x="66" y="26"/>
                    </a:lnTo>
                    <a:lnTo>
                      <a:pt x="88" y="36"/>
                    </a:lnTo>
                    <a:lnTo>
                      <a:pt x="110" y="44"/>
                    </a:lnTo>
                    <a:lnTo>
                      <a:pt x="132" y="53"/>
                    </a:lnTo>
                    <a:lnTo>
                      <a:pt x="155" y="62"/>
                    </a:lnTo>
                    <a:lnTo>
                      <a:pt x="177" y="70"/>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883240" y="3953520"/>
                <a:ext cx="105840" cy="121320"/>
              </a:xfrm>
              <a:custGeom>
                <a:avLst/>
                <a:gdLst/>
                <a:ahLst/>
                <a:rect l="l" t="t" r="r" b="b"/>
                <a:pathLst>
                  <a:path w="284" h="423">
                    <a:moveTo>
                      <a:pt x="176" y="70"/>
                    </a:moveTo>
                    <a:lnTo>
                      <a:pt x="190" y="114"/>
                    </a:lnTo>
                    <a:lnTo>
                      <a:pt x="203" y="159"/>
                    </a:lnTo>
                    <a:lnTo>
                      <a:pt x="217" y="203"/>
                    </a:lnTo>
                    <a:lnTo>
                      <a:pt x="230" y="246"/>
                    </a:lnTo>
                    <a:lnTo>
                      <a:pt x="243" y="290"/>
                    </a:lnTo>
                    <a:lnTo>
                      <a:pt x="257" y="335"/>
                    </a:lnTo>
                    <a:lnTo>
                      <a:pt x="271" y="379"/>
                    </a:lnTo>
                    <a:lnTo>
                      <a:pt x="284" y="423"/>
                    </a:lnTo>
                    <a:lnTo>
                      <a:pt x="262" y="415"/>
                    </a:lnTo>
                    <a:lnTo>
                      <a:pt x="240" y="405"/>
                    </a:lnTo>
                    <a:lnTo>
                      <a:pt x="218" y="396"/>
                    </a:lnTo>
                    <a:lnTo>
                      <a:pt x="196" y="388"/>
                    </a:lnTo>
                    <a:lnTo>
                      <a:pt x="173" y="378"/>
                    </a:lnTo>
                    <a:lnTo>
                      <a:pt x="151" y="369"/>
                    </a:lnTo>
                    <a:lnTo>
                      <a:pt x="130" y="360"/>
                    </a:lnTo>
                    <a:lnTo>
                      <a:pt x="108" y="352"/>
                    </a:lnTo>
                    <a:lnTo>
                      <a:pt x="94" y="308"/>
                    </a:lnTo>
                    <a:lnTo>
                      <a:pt x="81" y="263"/>
                    </a:lnTo>
                    <a:lnTo>
                      <a:pt x="67" y="220"/>
                    </a:lnTo>
                    <a:lnTo>
                      <a:pt x="53" y="176"/>
                    </a:lnTo>
                    <a:lnTo>
                      <a:pt x="40" y="132"/>
                    </a:lnTo>
                    <a:lnTo>
                      <a:pt x="27" y="87"/>
                    </a:lnTo>
                    <a:lnTo>
                      <a:pt x="14" y="44"/>
                    </a:lnTo>
                    <a:lnTo>
                      <a:pt x="0" y="0"/>
                    </a:lnTo>
                    <a:lnTo>
                      <a:pt x="22" y="8"/>
                    </a:lnTo>
                    <a:lnTo>
                      <a:pt x="44" y="17"/>
                    </a:lnTo>
                    <a:lnTo>
                      <a:pt x="67" y="26"/>
                    </a:lnTo>
                    <a:lnTo>
                      <a:pt x="89" y="35"/>
                    </a:lnTo>
                    <a:lnTo>
                      <a:pt x="110" y="44"/>
                    </a:lnTo>
                    <a:lnTo>
                      <a:pt x="132" y="53"/>
                    </a:lnTo>
                    <a:lnTo>
                      <a:pt x="154" y="61"/>
                    </a:lnTo>
                    <a:lnTo>
                      <a:pt x="176" y="70"/>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819520" y="3934800"/>
                <a:ext cx="104040" cy="119520"/>
              </a:xfrm>
              <a:custGeom>
                <a:avLst/>
                <a:gdLst/>
                <a:ahLst/>
                <a:rect l="l" t="t" r="r" b="b"/>
                <a:pathLst>
                  <a:path w="281" h="421">
                    <a:moveTo>
                      <a:pt x="173" y="69"/>
                    </a:moveTo>
                    <a:lnTo>
                      <a:pt x="187" y="113"/>
                    </a:lnTo>
                    <a:lnTo>
                      <a:pt x="200" y="156"/>
                    </a:lnTo>
                    <a:lnTo>
                      <a:pt x="213" y="201"/>
                    </a:lnTo>
                    <a:lnTo>
                      <a:pt x="226" y="245"/>
                    </a:lnTo>
                    <a:lnTo>
                      <a:pt x="240" y="289"/>
                    </a:lnTo>
                    <a:lnTo>
                      <a:pt x="254" y="332"/>
                    </a:lnTo>
                    <a:lnTo>
                      <a:pt x="267" y="377"/>
                    </a:lnTo>
                    <a:lnTo>
                      <a:pt x="281" y="421"/>
                    </a:lnTo>
                    <a:lnTo>
                      <a:pt x="259" y="412"/>
                    </a:lnTo>
                    <a:lnTo>
                      <a:pt x="237" y="402"/>
                    </a:lnTo>
                    <a:lnTo>
                      <a:pt x="215" y="394"/>
                    </a:lnTo>
                    <a:lnTo>
                      <a:pt x="193" y="385"/>
                    </a:lnTo>
                    <a:lnTo>
                      <a:pt x="171" y="377"/>
                    </a:lnTo>
                    <a:lnTo>
                      <a:pt x="150" y="368"/>
                    </a:lnTo>
                    <a:lnTo>
                      <a:pt x="129" y="358"/>
                    </a:lnTo>
                    <a:lnTo>
                      <a:pt x="106" y="349"/>
                    </a:lnTo>
                    <a:lnTo>
                      <a:pt x="92" y="306"/>
                    </a:lnTo>
                    <a:lnTo>
                      <a:pt x="79" y="262"/>
                    </a:lnTo>
                    <a:lnTo>
                      <a:pt x="65" y="219"/>
                    </a:lnTo>
                    <a:lnTo>
                      <a:pt x="52" y="175"/>
                    </a:lnTo>
                    <a:lnTo>
                      <a:pt x="39" y="130"/>
                    </a:lnTo>
                    <a:lnTo>
                      <a:pt x="26" y="87"/>
                    </a:lnTo>
                    <a:lnTo>
                      <a:pt x="13" y="43"/>
                    </a:lnTo>
                    <a:lnTo>
                      <a:pt x="0" y="0"/>
                    </a:lnTo>
                    <a:lnTo>
                      <a:pt x="21" y="8"/>
                    </a:lnTo>
                    <a:lnTo>
                      <a:pt x="42" y="17"/>
                    </a:lnTo>
                    <a:lnTo>
                      <a:pt x="64" y="26"/>
                    </a:lnTo>
                    <a:lnTo>
                      <a:pt x="86" y="34"/>
                    </a:lnTo>
                    <a:lnTo>
                      <a:pt x="107" y="43"/>
                    </a:lnTo>
                    <a:lnTo>
                      <a:pt x="130" y="52"/>
                    </a:lnTo>
                    <a:lnTo>
                      <a:pt x="152" y="60"/>
                    </a:lnTo>
                    <a:lnTo>
                      <a:pt x="173" y="69"/>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819520" y="3934800"/>
                <a:ext cx="5466600" cy="1779840"/>
              </a:xfrm>
              <a:custGeom>
                <a:avLst/>
                <a:gdLst/>
                <a:ahLst/>
                <a:rect l="l" t="t" r="r" b="b"/>
                <a:pathLst>
                  <a:path w="14652" h="6237">
                    <a:moveTo>
                      <a:pt x="14450" y="5757"/>
                    </a:moveTo>
                    <a:lnTo>
                      <a:pt x="14475" y="5817"/>
                    </a:lnTo>
                    <a:lnTo>
                      <a:pt x="14500" y="5878"/>
                    </a:lnTo>
                    <a:lnTo>
                      <a:pt x="14525" y="5938"/>
                    </a:lnTo>
                    <a:lnTo>
                      <a:pt x="14550" y="5998"/>
                    </a:lnTo>
                    <a:lnTo>
                      <a:pt x="14575" y="6057"/>
                    </a:lnTo>
                    <a:lnTo>
                      <a:pt x="14601" y="6118"/>
                    </a:lnTo>
                    <a:lnTo>
                      <a:pt x="14627" y="6178"/>
                    </a:lnTo>
                    <a:lnTo>
                      <a:pt x="14652" y="6237"/>
                    </a:lnTo>
                    <a:lnTo>
                      <a:pt x="14615" y="6222"/>
                    </a:lnTo>
                    <a:lnTo>
                      <a:pt x="14577" y="6208"/>
                    </a:lnTo>
                    <a:lnTo>
                      <a:pt x="14540" y="6193"/>
                    </a:lnTo>
                    <a:lnTo>
                      <a:pt x="14504" y="6178"/>
                    </a:lnTo>
                    <a:lnTo>
                      <a:pt x="14466" y="6163"/>
                    </a:lnTo>
                    <a:lnTo>
                      <a:pt x="14430" y="6148"/>
                    </a:lnTo>
                    <a:lnTo>
                      <a:pt x="14393" y="6134"/>
                    </a:lnTo>
                    <a:lnTo>
                      <a:pt x="14357" y="6119"/>
                    </a:lnTo>
                    <a:lnTo>
                      <a:pt x="14320" y="6104"/>
                    </a:lnTo>
                    <a:lnTo>
                      <a:pt x="14284" y="6089"/>
                    </a:lnTo>
                    <a:lnTo>
                      <a:pt x="14247" y="6075"/>
                    </a:lnTo>
                    <a:lnTo>
                      <a:pt x="14210" y="6060"/>
                    </a:lnTo>
                    <a:lnTo>
                      <a:pt x="14174" y="6045"/>
                    </a:lnTo>
                    <a:lnTo>
                      <a:pt x="14138" y="6030"/>
                    </a:lnTo>
                    <a:lnTo>
                      <a:pt x="14101" y="6016"/>
                    </a:lnTo>
                    <a:lnTo>
                      <a:pt x="14064" y="6001"/>
                    </a:lnTo>
                    <a:lnTo>
                      <a:pt x="14029" y="5986"/>
                    </a:lnTo>
                    <a:lnTo>
                      <a:pt x="13994" y="5971"/>
                    </a:lnTo>
                    <a:lnTo>
                      <a:pt x="13957" y="5958"/>
                    </a:lnTo>
                    <a:lnTo>
                      <a:pt x="13922" y="5943"/>
                    </a:lnTo>
                    <a:lnTo>
                      <a:pt x="13886" y="5928"/>
                    </a:lnTo>
                    <a:lnTo>
                      <a:pt x="13851" y="5913"/>
                    </a:lnTo>
                    <a:lnTo>
                      <a:pt x="13815" y="5899"/>
                    </a:lnTo>
                    <a:lnTo>
                      <a:pt x="13779" y="5885"/>
                    </a:lnTo>
                    <a:lnTo>
                      <a:pt x="13743" y="5870"/>
                    </a:lnTo>
                    <a:lnTo>
                      <a:pt x="13706" y="5855"/>
                    </a:lnTo>
                    <a:lnTo>
                      <a:pt x="13670" y="5841"/>
                    </a:lnTo>
                    <a:lnTo>
                      <a:pt x="13634" y="5826"/>
                    </a:lnTo>
                    <a:lnTo>
                      <a:pt x="13599" y="5811"/>
                    </a:lnTo>
                    <a:lnTo>
                      <a:pt x="13562" y="5796"/>
                    </a:lnTo>
                    <a:lnTo>
                      <a:pt x="13527" y="5783"/>
                    </a:lnTo>
                    <a:lnTo>
                      <a:pt x="13492" y="5768"/>
                    </a:lnTo>
                    <a:lnTo>
                      <a:pt x="13455" y="5753"/>
                    </a:lnTo>
                    <a:lnTo>
                      <a:pt x="13420" y="5740"/>
                    </a:lnTo>
                    <a:lnTo>
                      <a:pt x="13385" y="5725"/>
                    </a:lnTo>
                    <a:lnTo>
                      <a:pt x="13350" y="5711"/>
                    </a:lnTo>
                    <a:lnTo>
                      <a:pt x="13314" y="5697"/>
                    </a:lnTo>
                    <a:lnTo>
                      <a:pt x="13279" y="5682"/>
                    </a:lnTo>
                    <a:lnTo>
                      <a:pt x="13245" y="5668"/>
                    </a:lnTo>
                    <a:lnTo>
                      <a:pt x="13209" y="5654"/>
                    </a:lnTo>
                    <a:lnTo>
                      <a:pt x="13174" y="5640"/>
                    </a:lnTo>
                    <a:lnTo>
                      <a:pt x="13139" y="5625"/>
                    </a:lnTo>
                    <a:lnTo>
                      <a:pt x="13105" y="5612"/>
                    </a:lnTo>
                    <a:lnTo>
                      <a:pt x="13069" y="5597"/>
                    </a:lnTo>
                    <a:lnTo>
                      <a:pt x="13034" y="5583"/>
                    </a:lnTo>
                    <a:lnTo>
                      <a:pt x="12999" y="5569"/>
                    </a:lnTo>
                    <a:lnTo>
                      <a:pt x="12964" y="5555"/>
                    </a:lnTo>
                    <a:lnTo>
                      <a:pt x="12929" y="5540"/>
                    </a:lnTo>
                    <a:lnTo>
                      <a:pt x="12894" y="5527"/>
                    </a:lnTo>
                    <a:lnTo>
                      <a:pt x="12860" y="5512"/>
                    </a:lnTo>
                    <a:lnTo>
                      <a:pt x="12824" y="5499"/>
                    </a:lnTo>
                    <a:lnTo>
                      <a:pt x="12789" y="5484"/>
                    </a:lnTo>
                    <a:lnTo>
                      <a:pt x="12755" y="5470"/>
                    </a:lnTo>
                    <a:lnTo>
                      <a:pt x="12721" y="5457"/>
                    </a:lnTo>
                    <a:lnTo>
                      <a:pt x="12685" y="5442"/>
                    </a:lnTo>
                    <a:lnTo>
                      <a:pt x="12651" y="5428"/>
                    </a:lnTo>
                    <a:lnTo>
                      <a:pt x="12617" y="5414"/>
                    </a:lnTo>
                    <a:lnTo>
                      <a:pt x="12581" y="5400"/>
                    </a:lnTo>
                    <a:lnTo>
                      <a:pt x="12547" y="5386"/>
                    </a:lnTo>
                    <a:lnTo>
                      <a:pt x="12512" y="5372"/>
                    </a:lnTo>
                    <a:lnTo>
                      <a:pt x="12478" y="5358"/>
                    </a:lnTo>
                    <a:lnTo>
                      <a:pt x="12442" y="5343"/>
                    </a:lnTo>
                    <a:lnTo>
                      <a:pt x="12408" y="5330"/>
                    </a:lnTo>
                    <a:lnTo>
                      <a:pt x="12374" y="5316"/>
                    </a:lnTo>
                    <a:lnTo>
                      <a:pt x="12340" y="5302"/>
                    </a:lnTo>
                    <a:lnTo>
                      <a:pt x="12305" y="5288"/>
                    </a:lnTo>
                    <a:lnTo>
                      <a:pt x="12272" y="5274"/>
                    </a:lnTo>
                    <a:lnTo>
                      <a:pt x="12238" y="5261"/>
                    </a:lnTo>
                    <a:lnTo>
                      <a:pt x="12203" y="5247"/>
                    </a:lnTo>
                    <a:lnTo>
                      <a:pt x="12170" y="5234"/>
                    </a:lnTo>
                    <a:lnTo>
                      <a:pt x="12136" y="5219"/>
                    </a:lnTo>
                    <a:lnTo>
                      <a:pt x="12103" y="5206"/>
                    </a:lnTo>
                    <a:lnTo>
                      <a:pt x="12068" y="5192"/>
                    </a:lnTo>
                    <a:lnTo>
                      <a:pt x="12034" y="5178"/>
                    </a:lnTo>
                    <a:lnTo>
                      <a:pt x="12000" y="5165"/>
                    </a:lnTo>
                    <a:lnTo>
                      <a:pt x="11967" y="5151"/>
                    </a:lnTo>
                    <a:lnTo>
                      <a:pt x="11932" y="5138"/>
                    </a:lnTo>
                    <a:lnTo>
                      <a:pt x="11898" y="5124"/>
                    </a:lnTo>
                    <a:lnTo>
                      <a:pt x="11865" y="5110"/>
                    </a:lnTo>
                    <a:lnTo>
                      <a:pt x="11832" y="5096"/>
                    </a:lnTo>
                    <a:lnTo>
                      <a:pt x="11797" y="5082"/>
                    </a:lnTo>
                    <a:lnTo>
                      <a:pt x="11764" y="5069"/>
                    </a:lnTo>
                    <a:lnTo>
                      <a:pt x="11731" y="5055"/>
                    </a:lnTo>
                    <a:lnTo>
                      <a:pt x="11697" y="5042"/>
                    </a:lnTo>
                    <a:lnTo>
                      <a:pt x="11663" y="5028"/>
                    </a:lnTo>
                    <a:lnTo>
                      <a:pt x="11631" y="5015"/>
                    </a:lnTo>
                    <a:lnTo>
                      <a:pt x="11598" y="5001"/>
                    </a:lnTo>
                    <a:lnTo>
                      <a:pt x="11564" y="4988"/>
                    </a:lnTo>
                    <a:lnTo>
                      <a:pt x="11530" y="4974"/>
                    </a:lnTo>
                    <a:lnTo>
                      <a:pt x="11497" y="4961"/>
                    </a:lnTo>
                    <a:lnTo>
                      <a:pt x="11464" y="4947"/>
                    </a:lnTo>
                    <a:lnTo>
                      <a:pt x="11430" y="4934"/>
                    </a:lnTo>
                    <a:lnTo>
                      <a:pt x="11397" y="4920"/>
                    </a:lnTo>
                    <a:lnTo>
                      <a:pt x="11364" y="4906"/>
                    </a:lnTo>
                    <a:lnTo>
                      <a:pt x="11331" y="4893"/>
                    </a:lnTo>
                    <a:lnTo>
                      <a:pt x="11297" y="4879"/>
                    </a:lnTo>
                    <a:lnTo>
                      <a:pt x="11264" y="4867"/>
                    </a:lnTo>
                    <a:lnTo>
                      <a:pt x="11231" y="4853"/>
                    </a:lnTo>
                    <a:lnTo>
                      <a:pt x="11199" y="4840"/>
                    </a:lnTo>
                    <a:lnTo>
                      <a:pt x="11165" y="4826"/>
                    </a:lnTo>
                    <a:lnTo>
                      <a:pt x="11133" y="4813"/>
                    </a:lnTo>
                    <a:lnTo>
                      <a:pt x="11100" y="4799"/>
                    </a:lnTo>
                    <a:lnTo>
                      <a:pt x="11067" y="4787"/>
                    </a:lnTo>
                    <a:lnTo>
                      <a:pt x="11034" y="4773"/>
                    </a:lnTo>
                    <a:lnTo>
                      <a:pt x="11002" y="4760"/>
                    </a:lnTo>
                    <a:lnTo>
                      <a:pt x="10970" y="4746"/>
                    </a:lnTo>
                    <a:lnTo>
                      <a:pt x="10936" y="4734"/>
                    </a:lnTo>
                    <a:lnTo>
                      <a:pt x="10904" y="4721"/>
                    </a:lnTo>
                    <a:lnTo>
                      <a:pt x="10871" y="4707"/>
                    </a:lnTo>
                    <a:lnTo>
                      <a:pt x="10839" y="4695"/>
                    </a:lnTo>
                    <a:lnTo>
                      <a:pt x="10805" y="4681"/>
                    </a:lnTo>
                    <a:lnTo>
                      <a:pt x="10772" y="4668"/>
                    </a:lnTo>
                    <a:lnTo>
                      <a:pt x="10740" y="4654"/>
                    </a:lnTo>
                    <a:lnTo>
                      <a:pt x="10708" y="4642"/>
                    </a:lnTo>
                    <a:lnTo>
                      <a:pt x="10674" y="4628"/>
                    </a:lnTo>
                    <a:lnTo>
                      <a:pt x="10642" y="4615"/>
                    </a:lnTo>
                    <a:lnTo>
                      <a:pt x="10611" y="4602"/>
                    </a:lnTo>
                    <a:lnTo>
                      <a:pt x="10579" y="4589"/>
                    </a:lnTo>
                    <a:lnTo>
                      <a:pt x="10546" y="4577"/>
                    </a:lnTo>
                    <a:lnTo>
                      <a:pt x="10514" y="4563"/>
                    </a:lnTo>
                    <a:lnTo>
                      <a:pt x="10482" y="4549"/>
                    </a:lnTo>
                    <a:lnTo>
                      <a:pt x="10450" y="4537"/>
                    </a:lnTo>
                    <a:lnTo>
                      <a:pt x="10417" y="4524"/>
                    </a:lnTo>
                    <a:lnTo>
                      <a:pt x="10385" y="4511"/>
                    </a:lnTo>
                    <a:lnTo>
                      <a:pt x="10353" y="4498"/>
                    </a:lnTo>
                    <a:lnTo>
                      <a:pt x="10321" y="4484"/>
                    </a:lnTo>
                    <a:lnTo>
                      <a:pt x="10288" y="4472"/>
                    </a:lnTo>
                    <a:lnTo>
                      <a:pt x="10256" y="4458"/>
                    </a:lnTo>
                    <a:lnTo>
                      <a:pt x="10225" y="4446"/>
                    </a:lnTo>
                    <a:lnTo>
                      <a:pt x="10193" y="4433"/>
                    </a:lnTo>
                    <a:lnTo>
                      <a:pt x="10161" y="4420"/>
                    </a:lnTo>
                    <a:lnTo>
                      <a:pt x="10129" y="4407"/>
                    </a:lnTo>
                    <a:lnTo>
                      <a:pt x="10098" y="4394"/>
                    </a:lnTo>
                    <a:lnTo>
                      <a:pt x="10066" y="4381"/>
                    </a:lnTo>
                    <a:lnTo>
                      <a:pt x="10034" y="4368"/>
                    </a:lnTo>
                    <a:lnTo>
                      <a:pt x="10003" y="4356"/>
                    </a:lnTo>
                    <a:lnTo>
                      <a:pt x="9971" y="4343"/>
                    </a:lnTo>
                    <a:lnTo>
                      <a:pt x="9940" y="4330"/>
                    </a:lnTo>
                    <a:lnTo>
                      <a:pt x="9908" y="4318"/>
                    </a:lnTo>
                    <a:lnTo>
                      <a:pt x="9877" y="4304"/>
                    </a:lnTo>
                    <a:lnTo>
                      <a:pt x="9845" y="4292"/>
                    </a:lnTo>
                    <a:lnTo>
                      <a:pt x="9814" y="4280"/>
                    </a:lnTo>
                    <a:lnTo>
                      <a:pt x="9782" y="4266"/>
                    </a:lnTo>
                    <a:lnTo>
                      <a:pt x="9751" y="4254"/>
                    </a:lnTo>
                    <a:lnTo>
                      <a:pt x="9719" y="4242"/>
                    </a:lnTo>
                    <a:lnTo>
                      <a:pt x="9688" y="4228"/>
                    </a:lnTo>
                    <a:lnTo>
                      <a:pt x="9656" y="4216"/>
                    </a:lnTo>
                    <a:lnTo>
                      <a:pt x="9625" y="4204"/>
                    </a:lnTo>
                    <a:lnTo>
                      <a:pt x="9594" y="4190"/>
                    </a:lnTo>
                    <a:lnTo>
                      <a:pt x="9563" y="4178"/>
                    </a:lnTo>
                    <a:lnTo>
                      <a:pt x="9531" y="4165"/>
                    </a:lnTo>
                    <a:lnTo>
                      <a:pt x="9500" y="4153"/>
                    </a:lnTo>
                    <a:lnTo>
                      <a:pt x="9470" y="4141"/>
                    </a:lnTo>
                    <a:lnTo>
                      <a:pt x="9439" y="4127"/>
                    </a:lnTo>
                    <a:lnTo>
                      <a:pt x="9407" y="4115"/>
                    </a:lnTo>
                    <a:lnTo>
                      <a:pt x="9376" y="4103"/>
                    </a:lnTo>
                    <a:lnTo>
                      <a:pt x="9346" y="4090"/>
                    </a:lnTo>
                    <a:lnTo>
                      <a:pt x="9315" y="4078"/>
                    </a:lnTo>
                    <a:lnTo>
                      <a:pt x="9283" y="4066"/>
                    </a:lnTo>
                    <a:lnTo>
                      <a:pt x="9253" y="4052"/>
                    </a:lnTo>
                    <a:lnTo>
                      <a:pt x="9222" y="4040"/>
                    </a:lnTo>
                    <a:lnTo>
                      <a:pt x="9191" y="4028"/>
                    </a:lnTo>
                    <a:lnTo>
                      <a:pt x="9159" y="4015"/>
                    </a:lnTo>
                    <a:lnTo>
                      <a:pt x="9128" y="4002"/>
                    </a:lnTo>
                    <a:lnTo>
                      <a:pt x="9097" y="3989"/>
                    </a:lnTo>
                    <a:lnTo>
                      <a:pt x="9067" y="3977"/>
                    </a:lnTo>
                    <a:lnTo>
                      <a:pt x="9035" y="3965"/>
                    </a:lnTo>
                    <a:lnTo>
                      <a:pt x="9005" y="3952"/>
                    </a:lnTo>
                    <a:lnTo>
                      <a:pt x="8975" y="3940"/>
                    </a:lnTo>
                    <a:lnTo>
                      <a:pt x="8945" y="3928"/>
                    </a:lnTo>
                    <a:lnTo>
                      <a:pt x="8914" y="3916"/>
                    </a:lnTo>
                    <a:lnTo>
                      <a:pt x="8884" y="3903"/>
                    </a:lnTo>
                    <a:lnTo>
                      <a:pt x="8854" y="3891"/>
                    </a:lnTo>
                    <a:lnTo>
                      <a:pt x="8823" y="3879"/>
                    </a:lnTo>
                    <a:lnTo>
                      <a:pt x="8792" y="3866"/>
                    </a:lnTo>
                    <a:lnTo>
                      <a:pt x="8762" y="3854"/>
                    </a:lnTo>
                    <a:lnTo>
                      <a:pt x="8732" y="3842"/>
                    </a:lnTo>
                    <a:lnTo>
                      <a:pt x="8702" y="3829"/>
                    </a:lnTo>
                    <a:lnTo>
                      <a:pt x="8671" y="3817"/>
                    </a:lnTo>
                    <a:lnTo>
                      <a:pt x="8641" y="3805"/>
                    </a:lnTo>
                    <a:lnTo>
                      <a:pt x="8611" y="3792"/>
                    </a:lnTo>
                    <a:lnTo>
                      <a:pt x="8581" y="3780"/>
                    </a:lnTo>
                    <a:lnTo>
                      <a:pt x="8550" y="3768"/>
                    </a:lnTo>
                    <a:lnTo>
                      <a:pt x="8521" y="3755"/>
                    </a:lnTo>
                    <a:lnTo>
                      <a:pt x="8491" y="3744"/>
                    </a:lnTo>
                    <a:lnTo>
                      <a:pt x="8461" y="3732"/>
                    </a:lnTo>
                    <a:lnTo>
                      <a:pt x="8432" y="3720"/>
                    </a:lnTo>
                    <a:lnTo>
                      <a:pt x="8401" y="3707"/>
                    </a:lnTo>
                    <a:lnTo>
                      <a:pt x="8371" y="3695"/>
                    </a:lnTo>
                    <a:lnTo>
                      <a:pt x="8342" y="3684"/>
                    </a:lnTo>
                    <a:lnTo>
                      <a:pt x="8312" y="3672"/>
                    </a:lnTo>
                    <a:lnTo>
                      <a:pt x="8281" y="3659"/>
                    </a:lnTo>
                    <a:lnTo>
                      <a:pt x="8251" y="3647"/>
                    </a:lnTo>
                    <a:lnTo>
                      <a:pt x="8221" y="3635"/>
                    </a:lnTo>
                    <a:lnTo>
                      <a:pt x="8192" y="3624"/>
                    </a:lnTo>
                    <a:lnTo>
                      <a:pt x="8161" y="3611"/>
                    </a:lnTo>
                    <a:lnTo>
                      <a:pt x="8132" y="3599"/>
                    </a:lnTo>
                    <a:lnTo>
                      <a:pt x="8102" y="3587"/>
                    </a:lnTo>
                    <a:lnTo>
                      <a:pt x="8073" y="3575"/>
                    </a:lnTo>
                    <a:lnTo>
                      <a:pt x="8042" y="3563"/>
                    </a:lnTo>
                    <a:lnTo>
                      <a:pt x="8013" y="3551"/>
                    </a:lnTo>
                    <a:lnTo>
                      <a:pt x="7984" y="3539"/>
                    </a:lnTo>
                    <a:lnTo>
                      <a:pt x="7955" y="3528"/>
                    </a:lnTo>
                    <a:lnTo>
                      <a:pt x="7926" y="3515"/>
                    </a:lnTo>
                    <a:lnTo>
                      <a:pt x="7896" y="3503"/>
                    </a:lnTo>
                    <a:lnTo>
                      <a:pt x="7867" y="3492"/>
                    </a:lnTo>
                    <a:lnTo>
                      <a:pt x="7838" y="3480"/>
                    </a:lnTo>
                    <a:lnTo>
                      <a:pt x="7809" y="3467"/>
                    </a:lnTo>
                    <a:lnTo>
                      <a:pt x="7779" y="3456"/>
                    </a:lnTo>
                    <a:lnTo>
                      <a:pt x="7750" y="3444"/>
                    </a:lnTo>
                    <a:lnTo>
                      <a:pt x="7721" y="3433"/>
                    </a:lnTo>
                    <a:lnTo>
                      <a:pt x="7692" y="3421"/>
                    </a:lnTo>
                    <a:lnTo>
                      <a:pt x="7662" y="3408"/>
                    </a:lnTo>
                    <a:lnTo>
                      <a:pt x="7633" y="3397"/>
                    </a:lnTo>
                    <a:lnTo>
                      <a:pt x="7604" y="3385"/>
                    </a:lnTo>
                    <a:lnTo>
                      <a:pt x="7575" y="3373"/>
                    </a:lnTo>
                    <a:lnTo>
                      <a:pt x="7546" y="3362"/>
                    </a:lnTo>
                    <a:lnTo>
                      <a:pt x="7517" y="3349"/>
                    </a:lnTo>
                    <a:lnTo>
                      <a:pt x="7488" y="3338"/>
                    </a:lnTo>
                    <a:lnTo>
                      <a:pt x="7460" y="3326"/>
                    </a:lnTo>
                    <a:lnTo>
                      <a:pt x="7431" y="3315"/>
                    </a:lnTo>
                    <a:lnTo>
                      <a:pt x="7402" y="3302"/>
                    </a:lnTo>
                    <a:lnTo>
                      <a:pt x="7374" y="3291"/>
                    </a:lnTo>
                    <a:lnTo>
                      <a:pt x="7345" y="3279"/>
                    </a:lnTo>
                    <a:lnTo>
                      <a:pt x="7316" y="3268"/>
                    </a:lnTo>
                    <a:lnTo>
                      <a:pt x="7286" y="3257"/>
                    </a:lnTo>
                    <a:lnTo>
                      <a:pt x="7258" y="3245"/>
                    </a:lnTo>
                    <a:lnTo>
                      <a:pt x="7229" y="3234"/>
                    </a:lnTo>
                    <a:lnTo>
                      <a:pt x="7200" y="3221"/>
                    </a:lnTo>
                    <a:lnTo>
                      <a:pt x="7172" y="3210"/>
                    </a:lnTo>
                    <a:lnTo>
                      <a:pt x="7142" y="3198"/>
                    </a:lnTo>
                    <a:lnTo>
                      <a:pt x="7114" y="3187"/>
                    </a:lnTo>
                    <a:lnTo>
                      <a:pt x="7086" y="3174"/>
                    </a:lnTo>
                    <a:lnTo>
                      <a:pt x="7057" y="3163"/>
                    </a:lnTo>
                    <a:lnTo>
                      <a:pt x="7028" y="3152"/>
                    </a:lnTo>
                    <a:lnTo>
                      <a:pt x="7000" y="3140"/>
                    </a:lnTo>
                    <a:lnTo>
                      <a:pt x="6972" y="3129"/>
                    </a:lnTo>
                    <a:lnTo>
                      <a:pt x="6943" y="3118"/>
                    </a:lnTo>
                    <a:lnTo>
                      <a:pt x="6915" y="3106"/>
                    </a:lnTo>
                    <a:lnTo>
                      <a:pt x="6886" y="3094"/>
                    </a:lnTo>
                    <a:lnTo>
                      <a:pt x="6858" y="3083"/>
                    </a:lnTo>
                    <a:lnTo>
                      <a:pt x="6830" y="3071"/>
                    </a:lnTo>
                    <a:lnTo>
                      <a:pt x="6802" y="3060"/>
                    </a:lnTo>
                    <a:lnTo>
                      <a:pt x="6773" y="3049"/>
                    </a:lnTo>
                    <a:lnTo>
                      <a:pt x="6745" y="3037"/>
                    </a:lnTo>
                    <a:lnTo>
                      <a:pt x="6717" y="3026"/>
                    </a:lnTo>
                    <a:lnTo>
                      <a:pt x="6688" y="3014"/>
                    </a:lnTo>
                    <a:lnTo>
                      <a:pt x="6659" y="3002"/>
                    </a:lnTo>
                    <a:lnTo>
                      <a:pt x="6631" y="2991"/>
                    </a:lnTo>
                    <a:lnTo>
                      <a:pt x="6604" y="2980"/>
                    </a:lnTo>
                    <a:lnTo>
                      <a:pt x="6576" y="2969"/>
                    </a:lnTo>
                    <a:lnTo>
                      <a:pt x="6548" y="2958"/>
                    </a:lnTo>
                    <a:lnTo>
                      <a:pt x="6520" y="2946"/>
                    </a:lnTo>
                    <a:lnTo>
                      <a:pt x="6492" y="2934"/>
                    </a:lnTo>
                    <a:lnTo>
                      <a:pt x="6464" y="2923"/>
                    </a:lnTo>
                    <a:lnTo>
                      <a:pt x="6436" y="2912"/>
                    </a:lnTo>
                    <a:lnTo>
                      <a:pt x="6407" y="2901"/>
                    </a:lnTo>
                    <a:lnTo>
                      <a:pt x="6379" y="2889"/>
                    </a:lnTo>
                    <a:lnTo>
                      <a:pt x="6351" y="2878"/>
                    </a:lnTo>
                    <a:lnTo>
                      <a:pt x="6323" y="2867"/>
                    </a:lnTo>
                    <a:lnTo>
                      <a:pt x="6295" y="2856"/>
                    </a:lnTo>
                    <a:lnTo>
                      <a:pt x="6267" y="2845"/>
                    </a:lnTo>
                    <a:lnTo>
                      <a:pt x="6239" y="2832"/>
                    </a:lnTo>
                    <a:lnTo>
                      <a:pt x="6211" y="2821"/>
                    </a:lnTo>
                    <a:lnTo>
                      <a:pt x="6184" y="2810"/>
                    </a:lnTo>
                    <a:lnTo>
                      <a:pt x="6156" y="2799"/>
                    </a:lnTo>
                    <a:lnTo>
                      <a:pt x="6128" y="2788"/>
                    </a:lnTo>
                    <a:lnTo>
                      <a:pt x="6101" y="2777"/>
                    </a:lnTo>
                    <a:lnTo>
                      <a:pt x="6073" y="2766"/>
                    </a:lnTo>
                    <a:lnTo>
                      <a:pt x="6046" y="2755"/>
                    </a:lnTo>
                    <a:lnTo>
                      <a:pt x="6018" y="2744"/>
                    </a:lnTo>
                    <a:lnTo>
                      <a:pt x="5990" y="2733"/>
                    </a:lnTo>
                    <a:lnTo>
                      <a:pt x="5964" y="2721"/>
                    </a:lnTo>
                    <a:lnTo>
                      <a:pt x="5937" y="2710"/>
                    </a:lnTo>
                    <a:lnTo>
                      <a:pt x="5910" y="2699"/>
                    </a:lnTo>
                    <a:lnTo>
                      <a:pt x="5881" y="2688"/>
                    </a:lnTo>
                    <a:lnTo>
                      <a:pt x="5854" y="2677"/>
                    </a:lnTo>
                    <a:lnTo>
                      <a:pt x="5827" y="2666"/>
                    </a:lnTo>
                    <a:lnTo>
                      <a:pt x="5800" y="2655"/>
                    </a:lnTo>
                    <a:lnTo>
                      <a:pt x="5771" y="2644"/>
                    </a:lnTo>
                    <a:lnTo>
                      <a:pt x="5744" y="2633"/>
                    </a:lnTo>
                    <a:lnTo>
                      <a:pt x="5717" y="2622"/>
                    </a:lnTo>
                    <a:lnTo>
                      <a:pt x="5690" y="2611"/>
                    </a:lnTo>
                    <a:lnTo>
                      <a:pt x="5663" y="2600"/>
                    </a:lnTo>
                    <a:lnTo>
                      <a:pt x="5635" y="2589"/>
                    </a:lnTo>
                    <a:lnTo>
                      <a:pt x="5608" y="2577"/>
                    </a:lnTo>
                    <a:lnTo>
                      <a:pt x="5581" y="2566"/>
                    </a:lnTo>
                    <a:lnTo>
                      <a:pt x="5554" y="2555"/>
                    </a:lnTo>
                    <a:lnTo>
                      <a:pt x="5528" y="2544"/>
                    </a:lnTo>
                    <a:lnTo>
                      <a:pt x="5500" y="2533"/>
                    </a:lnTo>
                    <a:lnTo>
                      <a:pt x="5473" y="2522"/>
                    </a:lnTo>
                    <a:lnTo>
                      <a:pt x="5447" y="2512"/>
                    </a:lnTo>
                    <a:lnTo>
                      <a:pt x="5420" y="2501"/>
                    </a:lnTo>
                    <a:lnTo>
                      <a:pt x="5392" y="2490"/>
                    </a:lnTo>
                    <a:lnTo>
                      <a:pt x="5366" y="2479"/>
                    </a:lnTo>
                    <a:lnTo>
                      <a:pt x="5340" y="2468"/>
                    </a:lnTo>
                    <a:lnTo>
                      <a:pt x="5313" y="2457"/>
                    </a:lnTo>
                    <a:lnTo>
                      <a:pt x="5286" y="2446"/>
                    </a:lnTo>
                    <a:lnTo>
                      <a:pt x="5258" y="2436"/>
                    </a:lnTo>
                    <a:lnTo>
                      <a:pt x="5232" y="2425"/>
                    </a:lnTo>
                    <a:lnTo>
                      <a:pt x="5205" y="2414"/>
                    </a:lnTo>
                    <a:lnTo>
                      <a:pt x="5179" y="2403"/>
                    </a:lnTo>
                    <a:lnTo>
                      <a:pt x="5152" y="2393"/>
                    </a:lnTo>
                    <a:lnTo>
                      <a:pt x="5125" y="2382"/>
                    </a:lnTo>
                    <a:lnTo>
                      <a:pt x="5098" y="2371"/>
                    </a:lnTo>
                    <a:lnTo>
                      <a:pt x="5072" y="2360"/>
                    </a:lnTo>
                    <a:lnTo>
                      <a:pt x="5045" y="2349"/>
                    </a:lnTo>
                    <a:lnTo>
                      <a:pt x="5018" y="2339"/>
                    </a:lnTo>
                    <a:lnTo>
                      <a:pt x="4991" y="2328"/>
                    </a:lnTo>
                    <a:lnTo>
                      <a:pt x="4965" y="2317"/>
                    </a:lnTo>
                    <a:lnTo>
                      <a:pt x="4939" y="2305"/>
                    </a:lnTo>
                    <a:lnTo>
                      <a:pt x="4913" y="2296"/>
                    </a:lnTo>
                    <a:lnTo>
                      <a:pt x="4885" y="2285"/>
                    </a:lnTo>
                    <a:lnTo>
                      <a:pt x="4859" y="2273"/>
                    </a:lnTo>
                    <a:lnTo>
                      <a:pt x="4832" y="2264"/>
                    </a:lnTo>
                    <a:lnTo>
                      <a:pt x="4806" y="2253"/>
                    </a:lnTo>
                    <a:lnTo>
                      <a:pt x="4780" y="2241"/>
                    </a:lnTo>
                    <a:lnTo>
                      <a:pt x="4753" y="2232"/>
                    </a:lnTo>
                    <a:lnTo>
                      <a:pt x="4727" y="2220"/>
                    </a:lnTo>
                    <a:lnTo>
                      <a:pt x="4701" y="2209"/>
                    </a:lnTo>
                    <a:lnTo>
                      <a:pt x="4675" y="2200"/>
                    </a:lnTo>
                    <a:lnTo>
                      <a:pt x="4649" y="2188"/>
                    </a:lnTo>
                    <a:lnTo>
                      <a:pt x="4622" y="2179"/>
                    </a:lnTo>
                    <a:lnTo>
                      <a:pt x="4596" y="2168"/>
                    </a:lnTo>
                    <a:lnTo>
                      <a:pt x="4570" y="2158"/>
                    </a:lnTo>
                    <a:lnTo>
                      <a:pt x="4545" y="2147"/>
                    </a:lnTo>
                    <a:lnTo>
                      <a:pt x="4518" y="2136"/>
                    </a:lnTo>
                    <a:lnTo>
                      <a:pt x="4492" y="2126"/>
                    </a:lnTo>
                    <a:lnTo>
                      <a:pt x="4466" y="2115"/>
                    </a:lnTo>
                    <a:lnTo>
                      <a:pt x="4440" y="2105"/>
                    </a:lnTo>
                    <a:lnTo>
                      <a:pt x="4415" y="2094"/>
                    </a:lnTo>
                    <a:lnTo>
                      <a:pt x="4388" y="2084"/>
                    </a:lnTo>
                    <a:lnTo>
                      <a:pt x="4362" y="2073"/>
                    </a:lnTo>
                    <a:lnTo>
                      <a:pt x="4336" y="2063"/>
                    </a:lnTo>
                    <a:lnTo>
                      <a:pt x="4311" y="2052"/>
                    </a:lnTo>
                    <a:lnTo>
                      <a:pt x="4286" y="2042"/>
                    </a:lnTo>
                    <a:lnTo>
                      <a:pt x="4259" y="2031"/>
                    </a:lnTo>
                    <a:lnTo>
                      <a:pt x="4233" y="2021"/>
                    </a:lnTo>
                    <a:lnTo>
                      <a:pt x="4207" y="2010"/>
                    </a:lnTo>
                    <a:lnTo>
                      <a:pt x="4181" y="2000"/>
                    </a:lnTo>
                    <a:lnTo>
                      <a:pt x="4156" y="1989"/>
                    </a:lnTo>
                    <a:lnTo>
                      <a:pt x="4129" y="1979"/>
                    </a:lnTo>
                    <a:lnTo>
                      <a:pt x="4104" y="1968"/>
                    </a:lnTo>
                    <a:lnTo>
                      <a:pt x="4078" y="1958"/>
                    </a:lnTo>
                    <a:lnTo>
                      <a:pt x="4053" y="1947"/>
                    </a:lnTo>
                    <a:lnTo>
                      <a:pt x="4027" y="1937"/>
                    </a:lnTo>
                    <a:lnTo>
                      <a:pt x="4001" y="1928"/>
                    </a:lnTo>
                    <a:lnTo>
                      <a:pt x="3976" y="1916"/>
                    </a:lnTo>
                    <a:lnTo>
                      <a:pt x="3950" y="1907"/>
                    </a:lnTo>
                    <a:lnTo>
                      <a:pt x="3925" y="1896"/>
                    </a:lnTo>
                    <a:lnTo>
                      <a:pt x="3900" y="1886"/>
                    </a:lnTo>
                    <a:lnTo>
                      <a:pt x="3874" y="1876"/>
                    </a:lnTo>
                    <a:lnTo>
                      <a:pt x="3849" y="1865"/>
                    </a:lnTo>
                    <a:lnTo>
                      <a:pt x="3824" y="1855"/>
                    </a:lnTo>
                    <a:lnTo>
                      <a:pt x="3799" y="1845"/>
                    </a:lnTo>
                    <a:lnTo>
                      <a:pt x="3774" y="1834"/>
                    </a:lnTo>
                    <a:lnTo>
                      <a:pt x="3748" y="1824"/>
                    </a:lnTo>
                    <a:lnTo>
                      <a:pt x="3723" y="1814"/>
                    </a:lnTo>
                    <a:lnTo>
                      <a:pt x="3698" y="1804"/>
                    </a:lnTo>
                    <a:lnTo>
                      <a:pt x="3674" y="1793"/>
                    </a:lnTo>
                    <a:lnTo>
                      <a:pt x="3648" y="1784"/>
                    </a:lnTo>
                    <a:lnTo>
                      <a:pt x="3622" y="1774"/>
                    </a:lnTo>
                    <a:lnTo>
                      <a:pt x="3597" y="1763"/>
                    </a:lnTo>
                    <a:lnTo>
                      <a:pt x="3572" y="1753"/>
                    </a:lnTo>
                    <a:lnTo>
                      <a:pt x="3547" y="1743"/>
                    </a:lnTo>
                    <a:lnTo>
                      <a:pt x="3523" y="1733"/>
                    </a:lnTo>
                    <a:lnTo>
                      <a:pt x="3497" y="1722"/>
                    </a:lnTo>
                    <a:lnTo>
                      <a:pt x="3472" y="1712"/>
                    </a:lnTo>
                    <a:lnTo>
                      <a:pt x="3447" y="1702"/>
                    </a:lnTo>
                    <a:lnTo>
                      <a:pt x="3422" y="1692"/>
                    </a:lnTo>
                    <a:lnTo>
                      <a:pt x="3397" y="1683"/>
                    </a:lnTo>
                    <a:lnTo>
                      <a:pt x="3372" y="1671"/>
                    </a:lnTo>
                    <a:lnTo>
                      <a:pt x="3347" y="1662"/>
                    </a:lnTo>
                    <a:lnTo>
                      <a:pt x="3322" y="1652"/>
                    </a:lnTo>
                    <a:lnTo>
                      <a:pt x="3298" y="1642"/>
                    </a:lnTo>
                    <a:lnTo>
                      <a:pt x="3273" y="1632"/>
                    </a:lnTo>
                    <a:lnTo>
                      <a:pt x="3248" y="1622"/>
                    </a:lnTo>
                    <a:lnTo>
                      <a:pt x="3223" y="1611"/>
                    </a:lnTo>
                    <a:lnTo>
                      <a:pt x="3199" y="1601"/>
                    </a:lnTo>
                    <a:lnTo>
                      <a:pt x="3174" y="1591"/>
                    </a:lnTo>
                    <a:lnTo>
                      <a:pt x="3150" y="1582"/>
                    </a:lnTo>
                    <a:lnTo>
                      <a:pt x="3124" y="1572"/>
                    </a:lnTo>
                    <a:lnTo>
                      <a:pt x="3099" y="1562"/>
                    </a:lnTo>
                    <a:lnTo>
                      <a:pt x="3075" y="1552"/>
                    </a:lnTo>
                    <a:lnTo>
                      <a:pt x="3050" y="1542"/>
                    </a:lnTo>
                    <a:lnTo>
                      <a:pt x="3026" y="1531"/>
                    </a:lnTo>
                    <a:lnTo>
                      <a:pt x="3001" y="1521"/>
                    </a:lnTo>
                    <a:lnTo>
                      <a:pt x="2976" y="1511"/>
                    </a:lnTo>
                    <a:lnTo>
                      <a:pt x="2952" y="1502"/>
                    </a:lnTo>
                    <a:lnTo>
                      <a:pt x="2928" y="1492"/>
                    </a:lnTo>
                    <a:lnTo>
                      <a:pt x="2903" y="1482"/>
                    </a:lnTo>
                    <a:lnTo>
                      <a:pt x="2878" y="1472"/>
                    </a:lnTo>
                    <a:lnTo>
                      <a:pt x="2854" y="1462"/>
                    </a:lnTo>
                    <a:lnTo>
                      <a:pt x="2830" y="1452"/>
                    </a:lnTo>
                    <a:lnTo>
                      <a:pt x="2806" y="1443"/>
                    </a:lnTo>
                    <a:lnTo>
                      <a:pt x="2781" y="1433"/>
                    </a:lnTo>
                    <a:lnTo>
                      <a:pt x="2757" y="1423"/>
                    </a:lnTo>
                    <a:lnTo>
                      <a:pt x="2732" y="1413"/>
                    </a:lnTo>
                    <a:lnTo>
                      <a:pt x="2708" y="1403"/>
                    </a:lnTo>
                    <a:lnTo>
                      <a:pt x="2684" y="1393"/>
                    </a:lnTo>
                    <a:lnTo>
                      <a:pt x="2659" y="1383"/>
                    </a:lnTo>
                    <a:lnTo>
                      <a:pt x="2635" y="1374"/>
                    </a:lnTo>
                    <a:lnTo>
                      <a:pt x="2610" y="1364"/>
                    </a:lnTo>
                    <a:lnTo>
                      <a:pt x="2586" y="1354"/>
                    </a:lnTo>
                    <a:lnTo>
                      <a:pt x="2562" y="1344"/>
                    </a:lnTo>
                    <a:lnTo>
                      <a:pt x="2538" y="1334"/>
                    </a:lnTo>
                    <a:lnTo>
                      <a:pt x="2515" y="1324"/>
                    </a:lnTo>
                    <a:lnTo>
                      <a:pt x="2490" y="1315"/>
                    </a:lnTo>
                    <a:lnTo>
                      <a:pt x="2466" y="1305"/>
                    </a:lnTo>
                    <a:lnTo>
                      <a:pt x="2442" y="1295"/>
                    </a:lnTo>
                    <a:lnTo>
                      <a:pt x="2418" y="1285"/>
                    </a:lnTo>
                    <a:lnTo>
                      <a:pt x="2394" y="1276"/>
                    </a:lnTo>
                    <a:lnTo>
                      <a:pt x="2370" y="1267"/>
                    </a:lnTo>
                    <a:lnTo>
                      <a:pt x="2346" y="1257"/>
                    </a:lnTo>
                    <a:lnTo>
                      <a:pt x="2322" y="1247"/>
                    </a:lnTo>
                    <a:lnTo>
                      <a:pt x="2298" y="1237"/>
                    </a:lnTo>
                    <a:lnTo>
                      <a:pt x="2275" y="1227"/>
                    </a:lnTo>
                    <a:lnTo>
                      <a:pt x="2250" y="1217"/>
                    </a:lnTo>
                    <a:lnTo>
                      <a:pt x="2226" y="1207"/>
                    </a:lnTo>
                    <a:lnTo>
                      <a:pt x="2203" y="1199"/>
                    </a:lnTo>
                    <a:lnTo>
                      <a:pt x="2179" y="1189"/>
                    </a:lnTo>
                    <a:lnTo>
                      <a:pt x="2155" y="1179"/>
                    </a:lnTo>
                    <a:lnTo>
                      <a:pt x="2132" y="1169"/>
                    </a:lnTo>
                    <a:lnTo>
                      <a:pt x="2107" y="1159"/>
                    </a:lnTo>
                    <a:lnTo>
                      <a:pt x="2084" y="1151"/>
                    </a:lnTo>
                    <a:lnTo>
                      <a:pt x="2060" y="1141"/>
                    </a:lnTo>
                    <a:lnTo>
                      <a:pt x="2037" y="1131"/>
                    </a:lnTo>
                    <a:lnTo>
                      <a:pt x="2013" y="1121"/>
                    </a:lnTo>
                    <a:lnTo>
                      <a:pt x="1989" y="1113"/>
                    </a:lnTo>
                    <a:lnTo>
                      <a:pt x="1965" y="1103"/>
                    </a:lnTo>
                    <a:lnTo>
                      <a:pt x="1941" y="1093"/>
                    </a:lnTo>
                    <a:lnTo>
                      <a:pt x="1917" y="1083"/>
                    </a:lnTo>
                    <a:lnTo>
                      <a:pt x="1894" y="1073"/>
                    </a:lnTo>
                    <a:lnTo>
                      <a:pt x="1870" y="1065"/>
                    </a:lnTo>
                    <a:lnTo>
                      <a:pt x="1847" y="1055"/>
                    </a:lnTo>
                    <a:lnTo>
                      <a:pt x="1824" y="1045"/>
                    </a:lnTo>
                    <a:lnTo>
                      <a:pt x="1801" y="1036"/>
                    </a:lnTo>
                    <a:lnTo>
                      <a:pt x="1778" y="1026"/>
                    </a:lnTo>
                    <a:lnTo>
                      <a:pt x="1756" y="1018"/>
                    </a:lnTo>
                    <a:lnTo>
                      <a:pt x="1732" y="1008"/>
                    </a:lnTo>
                    <a:lnTo>
                      <a:pt x="1709" y="998"/>
                    </a:lnTo>
                    <a:lnTo>
                      <a:pt x="1686" y="990"/>
                    </a:lnTo>
                    <a:lnTo>
                      <a:pt x="1662" y="980"/>
                    </a:lnTo>
                    <a:lnTo>
                      <a:pt x="1639" y="970"/>
                    </a:lnTo>
                    <a:lnTo>
                      <a:pt x="1615" y="961"/>
                    </a:lnTo>
                    <a:lnTo>
                      <a:pt x="1592" y="951"/>
                    </a:lnTo>
                    <a:lnTo>
                      <a:pt x="1569" y="942"/>
                    </a:lnTo>
                    <a:lnTo>
                      <a:pt x="1545" y="933"/>
                    </a:lnTo>
                    <a:lnTo>
                      <a:pt x="1522" y="923"/>
                    </a:lnTo>
                    <a:lnTo>
                      <a:pt x="1499" y="913"/>
                    </a:lnTo>
                    <a:lnTo>
                      <a:pt x="1476" y="905"/>
                    </a:lnTo>
                    <a:lnTo>
                      <a:pt x="1453" y="895"/>
                    </a:lnTo>
                    <a:lnTo>
                      <a:pt x="1430" y="886"/>
                    </a:lnTo>
                    <a:lnTo>
                      <a:pt x="1407" y="876"/>
                    </a:lnTo>
                    <a:lnTo>
                      <a:pt x="1384" y="868"/>
                    </a:lnTo>
                    <a:lnTo>
                      <a:pt x="1360" y="858"/>
                    </a:lnTo>
                    <a:lnTo>
                      <a:pt x="1337" y="848"/>
                    </a:lnTo>
                    <a:lnTo>
                      <a:pt x="1314" y="839"/>
                    </a:lnTo>
                    <a:lnTo>
                      <a:pt x="1292" y="830"/>
                    </a:lnTo>
                    <a:lnTo>
                      <a:pt x="1269" y="821"/>
                    </a:lnTo>
                    <a:lnTo>
                      <a:pt x="1246" y="811"/>
                    </a:lnTo>
                    <a:lnTo>
                      <a:pt x="1222" y="802"/>
                    </a:lnTo>
                    <a:lnTo>
                      <a:pt x="1199" y="793"/>
                    </a:lnTo>
                    <a:lnTo>
                      <a:pt x="1176" y="784"/>
                    </a:lnTo>
                    <a:lnTo>
                      <a:pt x="1153" y="774"/>
                    </a:lnTo>
                    <a:lnTo>
                      <a:pt x="1131" y="766"/>
                    </a:lnTo>
                    <a:lnTo>
                      <a:pt x="1107" y="756"/>
                    </a:lnTo>
                    <a:lnTo>
                      <a:pt x="1085" y="747"/>
                    </a:lnTo>
                    <a:lnTo>
                      <a:pt x="1062" y="737"/>
                    </a:lnTo>
                    <a:lnTo>
                      <a:pt x="1040" y="729"/>
                    </a:lnTo>
                    <a:lnTo>
                      <a:pt x="1017" y="719"/>
                    </a:lnTo>
                    <a:lnTo>
                      <a:pt x="995" y="710"/>
                    </a:lnTo>
                    <a:lnTo>
                      <a:pt x="972" y="700"/>
                    </a:lnTo>
                    <a:lnTo>
                      <a:pt x="950" y="692"/>
                    </a:lnTo>
                    <a:lnTo>
                      <a:pt x="927" y="682"/>
                    </a:lnTo>
                    <a:lnTo>
                      <a:pt x="905" y="673"/>
                    </a:lnTo>
                    <a:lnTo>
                      <a:pt x="883" y="665"/>
                    </a:lnTo>
                    <a:lnTo>
                      <a:pt x="859" y="655"/>
                    </a:lnTo>
                    <a:lnTo>
                      <a:pt x="837" y="646"/>
                    </a:lnTo>
                    <a:lnTo>
                      <a:pt x="815" y="636"/>
                    </a:lnTo>
                    <a:lnTo>
                      <a:pt x="792" y="628"/>
                    </a:lnTo>
                    <a:lnTo>
                      <a:pt x="770" y="618"/>
                    </a:lnTo>
                    <a:lnTo>
                      <a:pt x="748" y="609"/>
                    </a:lnTo>
                    <a:lnTo>
                      <a:pt x="725" y="601"/>
                    </a:lnTo>
                    <a:lnTo>
                      <a:pt x="702" y="591"/>
                    </a:lnTo>
                    <a:lnTo>
                      <a:pt x="680" y="582"/>
                    </a:lnTo>
                    <a:lnTo>
                      <a:pt x="658" y="573"/>
                    </a:lnTo>
                    <a:lnTo>
                      <a:pt x="637" y="565"/>
                    </a:lnTo>
                    <a:lnTo>
                      <a:pt x="614" y="555"/>
                    </a:lnTo>
                    <a:lnTo>
                      <a:pt x="591" y="546"/>
                    </a:lnTo>
                    <a:lnTo>
                      <a:pt x="569" y="538"/>
                    </a:lnTo>
                    <a:lnTo>
                      <a:pt x="547" y="528"/>
                    </a:lnTo>
                    <a:lnTo>
                      <a:pt x="525" y="519"/>
                    </a:lnTo>
                    <a:lnTo>
                      <a:pt x="503" y="511"/>
                    </a:lnTo>
                    <a:lnTo>
                      <a:pt x="480" y="501"/>
                    </a:lnTo>
                    <a:lnTo>
                      <a:pt x="457" y="492"/>
                    </a:lnTo>
                    <a:lnTo>
                      <a:pt x="435" y="484"/>
                    </a:lnTo>
                    <a:lnTo>
                      <a:pt x="413" y="474"/>
                    </a:lnTo>
                    <a:lnTo>
                      <a:pt x="391" y="465"/>
                    </a:lnTo>
                    <a:lnTo>
                      <a:pt x="369" y="457"/>
                    </a:lnTo>
                    <a:lnTo>
                      <a:pt x="346" y="447"/>
                    </a:lnTo>
                    <a:lnTo>
                      <a:pt x="324" y="438"/>
                    </a:lnTo>
                    <a:lnTo>
                      <a:pt x="303" y="429"/>
                    </a:lnTo>
                    <a:lnTo>
                      <a:pt x="281" y="421"/>
                    </a:lnTo>
                    <a:lnTo>
                      <a:pt x="259" y="412"/>
                    </a:lnTo>
                    <a:lnTo>
                      <a:pt x="237" y="402"/>
                    </a:lnTo>
                    <a:lnTo>
                      <a:pt x="215" y="394"/>
                    </a:lnTo>
                    <a:lnTo>
                      <a:pt x="193" y="385"/>
                    </a:lnTo>
                    <a:lnTo>
                      <a:pt x="171" y="377"/>
                    </a:lnTo>
                    <a:lnTo>
                      <a:pt x="150" y="368"/>
                    </a:lnTo>
                    <a:lnTo>
                      <a:pt x="129" y="358"/>
                    </a:lnTo>
                    <a:lnTo>
                      <a:pt x="106" y="349"/>
                    </a:lnTo>
                    <a:lnTo>
                      <a:pt x="92" y="306"/>
                    </a:lnTo>
                    <a:lnTo>
                      <a:pt x="79" y="262"/>
                    </a:lnTo>
                    <a:lnTo>
                      <a:pt x="65" y="219"/>
                    </a:lnTo>
                    <a:lnTo>
                      <a:pt x="52" y="175"/>
                    </a:lnTo>
                    <a:lnTo>
                      <a:pt x="39" y="130"/>
                    </a:lnTo>
                    <a:lnTo>
                      <a:pt x="26" y="87"/>
                    </a:lnTo>
                    <a:lnTo>
                      <a:pt x="13" y="43"/>
                    </a:lnTo>
                    <a:lnTo>
                      <a:pt x="0" y="0"/>
                    </a:lnTo>
                    <a:lnTo>
                      <a:pt x="21" y="8"/>
                    </a:lnTo>
                    <a:lnTo>
                      <a:pt x="42" y="17"/>
                    </a:lnTo>
                    <a:lnTo>
                      <a:pt x="64" y="26"/>
                    </a:lnTo>
                    <a:lnTo>
                      <a:pt x="86" y="34"/>
                    </a:lnTo>
                    <a:lnTo>
                      <a:pt x="107" y="43"/>
                    </a:lnTo>
                    <a:lnTo>
                      <a:pt x="130" y="52"/>
                    </a:lnTo>
                    <a:lnTo>
                      <a:pt x="152" y="60"/>
                    </a:lnTo>
                    <a:lnTo>
                      <a:pt x="173" y="69"/>
                    </a:lnTo>
                    <a:lnTo>
                      <a:pt x="195" y="77"/>
                    </a:lnTo>
                    <a:lnTo>
                      <a:pt x="217" y="86"/>
                    </a:lnTo>
                    <a:lnTo>
                      <a:pt x="240" y="95"/>
                    </a:lnTo>
                    <a:lnTo>
                      <a:pt x="262" y="104"/>
                    </a:lnTo>
                    <a:lnTo>
                      <a:pt x="283" y="113"/>
                    </a:lnTo>
                    <a:lnTo>
                      <a:pt x="305" y="122"/>
                    </a:lnTo>
                    <a:lnTo>
                      <a:pt x="327" y="130"/>
                    </a:lnTo>
                    <a:lnTo>
                      <a:pt x="349" y="139"/>
                    </a:lnTo>
                    <a:lnTo>
                      <a:pt x="371" y="148"/>
                    </a:lnTo>
                    <a:lnTo>
                      <a:pt x="393" y="156"/>
                    </a:lnTo>
                    <a:lnTo>
                      <a:pt x="415" y="165"/>
                    </a:lnTo>
                    <a:lnTo>
                      <a:pt x="437" y="175"/>
                    </a:lnTo>
                    <a:lnTo>
                      <a:pt x="459" y="183"/>
                    </a:lnTo>
                    <a:lnTo>
                      <a:pt x="481" y="192"/>
                    </a:lnTo>
                    <a:lnTo>
                      <a:pt x="504" y="201"/>
                    </a:lnTo>
                    <a:lnTo>
                      <a:pt x="526" y="209"/>
                    </a:lnTo>
                    <a:lnTo>
                      <a:pt x="549" y="219"/>
                    </a:lnTo>
                    <a:lnTo>
                      <a:pt x="571" y="228"/>
                    </a:lnTo>
                    <a:lnTo>
                      <a:pt x="593" y="236"/>
                    </a:lnTo>
                    <a:lnTo>
                      <a:pt x="616" y="245"/>
                    </a:lnTo>
                    <a:lnTo>
                      <a:pt x="638" y="255"/>
                    </a:lnTo>
                    <a:lnTo>
                      <a:pt x="661" y="263"/>
                    </a:lnTo>
                    <a:lnTo>
                      <a:pt x="682" y="272"/>
                    </a:lnTo>
                    <a:lnTo>
                      <a:pt x="704" y="281"/>
                    </a:lnTo>
                    <a:lnTo>
                      <a:pt x="726" y="289"/>
                    </a:lnTo>
                    <a:lnTo>
                      <a:pt x="749" y="298"/>
                    </a:lnTo>
                    <a:lnTo>
                      <a:pt x="771" y="308"/>
                    </a:lnTo>
                    <a:lnTo>
                      <a:pt x="793" y="316"/>
                    </a:lnTo>
                    <a:lnTo>
                      <a:pt x="816" y="325"/>
                    </a:lnTo>
                    <a:lnTo>
                      <a:pt x="838" y="333"/>
                    </a:lnTo>
                    <a:lnTo>
                      <a:pt x="860" y="343"/>
                    </a:lnTo>
                    <a:lnTo>
                      <a:pt x="883" y="352"/>
                    </a:lnTo>
                    <a:lnTo>
                      <a:pt x="906" y="361"/>
                    </a:lnTo>
                    <a:lnTo>
                      <a:pt x="928" y="370"/>
                    </a:lnTo>
                    <a:lnTo>
                      <a:pt x="951" y="379"/>
                    </a:lnTo>
                    <a:lnTo>
                      <a:pt x="973" y="388"/>
                    </a:lnTo>
                    <a:lnTo>
                      <a:pt x="997" y="397"/>
                    </a:lnTo>
                    <a:lnTo>
                      <a:pt x="1020" y="406"/>
                    </a:lnTo>
                    <a:lnTo>
                      <a:pt x="1042" y="415"/>
                    </a:lnTo>
                    <a:lnTo>
                      <a:pt x="1065" y="425"/>
                    </a:lnTo>
                    <a:lnTo>
                      <a:pt x="1087" y="433"/>
                    </a:lnTo>
                    <a:lnTo>
                      <a:pt x="1109" y="442"/>
                    </a:lnTo>
                    <a:lnTo>
                      <a:pt x="1133" y="452"/>
                    </a:lnTo>
                    <a:lnTo>
                      <a:pt x="1155" y="460"/>
                    </a:lnTo>
                    <a:lnTo>
                      <a:pt x="1177" y="470"/>
                    </a:lnTo>
                    <a:lnTo>
                      <a:pt x="1200" y="479"/>
                    </a:lnTo>
                    <a:lnTo>
                      <a:pt x="1223" y="487"/>
                    </a:lnTo>
                    <a:lnTo>
                      <a:pt x="1247" y="497"/>
                    </a:lnTo>
                    <a:lnTo>
                      <a:pt x="1269" y="506"/>
                    </a:lnTo>
                    <a:lnTo>
                      <a:pt x="1292" y="516"/>
                    </a:lnTo>
                    <a:lnTo>
                      <a:pt x="1315" y="524"/>
                    </a:lnTo>
                    <a:lnTo>
                      <a:pt x="1338" y="534"/>
                    </a:lnTo>
                    <a:lnTo>
                      <a:pt x="1361" y="543"/>
                    </a:lnTo>
                    <a:lnTo>
                      <a:pt x="1385" y="551"/>
                    </a:lnTo>
                    <a:lnTo>
                      <a:pt x="1408" y="561"/>
                    </a:lnTo>
                    <a:lnTo>
                      <a:pt x="1431" y="570"/>
                    </a:lnTo>
                    <a:lnTo>
                      <a:pt x="1454" y="580"/>
                    </a:lnTo>
                    <a:lnTo>
                      <a:pt x="1476" y="588"/>
                    </a:lnTo>
                    <a:lnTo>
                      <a:pt x="1500" y="598"/>
                    </a:lnTo>
                    <a:lnTo>
                      <a:pt x="1523" y="607"/>
                    </a:lnTo>
                    <a:lnTo>
                      <a:pt x="1546" y="617"/>
                    </a:lnTo>
                    <a:lnTo>
                      <a:pt x="1570" y="625"/>
                    </a:lnTo>
                    <a:lnTo>
                      <a:pt x="1593" y="635"/>
                    </a:lnTo>
                    <a:lnTo>
                      <a:pt x="1616" y="644"/>
                    </a:lnTo>
                    <a:lnTo>
                      <a:pt x="1640" y="654"/>
                    </a:lnTo>
                    <a:lnTo>
                      <a:pt x="1663" y="662"/>
                    </a:lnTo>
                    <a:lnTo>
                      <a:pt x="1686" y="672"/>
                    </a:lnTo>
                    <a:lnTo>
                      <a:pt x="1709" y="681"/>
                    </a:lnTo>
                    <a:lnTo>
                      <a:pt x="1732" y="690"/>
                    </a:lnTo>
                    <a:lnTo>
                      <a:pt x="1756" y="700"/>
                    </a:lnTo>
                    <a:lnTo>
                      <a:pt x="1779" y="709"/>
                    </a:lnTo>
                    <a:lnTo>
                      <a:pt x="1803" y="719"/>
                    </a:lnTo>
                    <a:lnTo>
                      <a:pt x="1826" y="727"/>
                    </a:lnTo>
                    <a:lnTo>
                      <a:pt x="1849" y="737"/>
                    </a:lnTo>
                    <a:lnTo>
                      <a:pt x="1872" y="746"/>
                    </a:lnTo>
                    <a:lnTo>
                      <a:pt x="1896" y="756"/>
                    </a:lnTo>
                    <a:lnTo>
                      <a:pt x="1920" y="766"/>
                    </a:lnTo>
                    <a:lnTo>
                      <a:pt x="1943" y="774"/>
                    </a:lnTo>
                    <a:lnTo>
                      <a:pt x="1966" y="784"/>
                    </a:lnTo>
                    <a:lnTo>
                      <a:pt x="1990" y="793"/>
                    </a:lnTo>
                    <a:lnTo>
                      <a:pt x="2014" y="802"/>
                    </a:lnTo>
                    <a:lnTo>
                      <a:pt x="2038" y="812"/>
                    </a:lnTo>
                    <a:lnTo>
                      <a:pt x="2061" y="821"/>
                    </a:lnTo>
                    <a:lnTo>
                      <a:pt x="2085" y="831"/>
                    </a:lnTo>
                    <a:lnTo>
                      <a:pt x="2108" y="841"/>
                    </a:lnTo>
                    <a:lnTo>
                      <a:pt x="2132" y="850"/>
                    </a:lnTo>
                    <a:lnTo>
                      <a:pt x="2156" y="859"/>
                    </a:lnTo>
                    <a:lnTo>
                      <a:pt x="2179" y="869"/>
                    </a:lnTo>
                    <a:lnTo>
                      <a:pt x="2203" y="879"/>
                    </a:lnTo>
                    <a:lnTo>
                      <a:pt x="2227" y="887"/>
                    </a:lnTo>
                    <a:lnTo>
                      <a:pt x="2252" y="897"/>
                    </a:lnTo>
                    <a:lnTo>
                      <a:pt x="2275" y="907"/>
                    </a:lnTo>
                    <a:lnTo>
                      <a:pt x="2299" y="916"/>
                    </a:lnTo>
                    <a:lnTo>
                      <a:pt x="2322" y="926"/>
                    </a:lnTo>
                    <a:lnTo>
                      <a:pt x="2346" y="935"/>
                    </a:lnTo>
                    <a:lnTo>
                      <a:pt x="2369" y="944"/>
                    </a:lnTo>
                    <a:lnTo>
                      <a:pt x="2394" y="954"/>
                    </a:lnTo>
                    <a:lnTo>
                      <a:pt x="2418" y="964"/>
                    </a:lnTo>
                    <a:lnTo>
                      <a:pt x="2442" y="974"/>
                    </a:lnTo>
                    <a:lnTo>
                      <a:pt x="2466" y="983"/>
                    </a:lnTo>
                    <a:lnTo>
                      <a:pt x="2490" y="992"/>
                    </a:lnTo>
                    <a:lnTo>
                      <a:pt x="2515" y="1002"/>
                    </a:lnTo>
                    <a:lnTo>
                      <a:pt x="2539" y="1012"/>
                    </a:lnTo>
                    <a:lnTo>
                      <a:pt x="2563" y="1022"/>
                    </a:lnTo>
                    <a:lnTo>
                      <a:pt x="2587" y="1031"/>
                    </a:lnTo>
                    <a:lnTo>
                      <a:pt x="2611" y="1040"/>
                    </a:lnTo>
                    <a:lnTo>
                      <a:pt x="2635" y="1050"/>
                    </a:lnTo>
                    <a:lnTo>
                      <a:pt x="2659" y="1060"/>
                    </a:lnTo>
                    <a:lnTo>
                      <a:pt x="2683" y="1070"/>
                    </a:lnTo>
                    <a:lnTo>
                      <a:pt x="2707" y="1079"/>
                    </a:lnTo>
                    <a:lnTo>
                      <a:pt x="2731" y="1089"/>
                    </a:lnTo>
                    <a:lnTo>
                      <a:pt x="2756" y="1098"/>
                    </a:lnTo>
                    <a:lnTo>
                      <a:pt x="2780" y="1108"/>
                    </a:lnTo>
                    <a:lnTo>
                      <a:pt x="2805" y="1118"/>
                    </a:lnTo>
                    <a:lnTo>
                      <a:pt x="2829" y="1127"/>
                    </a:lnTo>
                    <a:lnTo>
                      <a:pt x="2853" y="1137"/>
                    </a:lnTo>
                    <a:lnTo>
                      <a:pt x="2878" y="1147"/>
                    </a:lnTo>
                    <a:lnTo>
                      <a:pt x="2903" y="1157"/>
                    </a:lnTo>
                    <a:lnTo>
                      <a:pt x="2927" y="1167"/>
                    </a:lnTo>
                    <a:lnTo>
                      <a:pt x="2952" y="1177"/>
                    </a:lnTo>
                    <a:lnTo>
                      <a:pt x="2976" y="1187"/>
                    </a:lnTo>
                    <a:lnTo>
                      <a:pt x="3000" y="1196"/>
                    </a:lnTo>
                    <a:lnTo>
                      <a:pt x="3025" y="1205"/>
                    </a:lnTo>
                    <a:lnTo>
                      <a:pt x="3050" y="1215"/>
                    </a:lnTo>
                    <a:lnTo>
                      <a:pt x="3074" y="1225"/>
                    </a:lnTo>
                    <a:lnTo>
                      <a:pt x="3098" y="1235"/>
                    </a:lnTo>
                    <a:lnTo>
                      <a:pt x="3122" y="1244"/>
                    </a:lnTo>
                    <a:lnTo>
                      <a:pt x="3147" y="1254"/>
                    </a:lnTo>
                    <a:lnTo>
                      <a:pt x="3172" y="1264"/>
                    </a:lnTo>
                    <a:lnTo>
                      <a:pt x="3197" y="1274"/>
                    </a:lnTo>
                    <a:lnTo>
                      <a:pt x="3221" y="1284"/>
                    </a:lnTo>
                    <a:lnTo>
                      <a:pt x="3246" y="1294"/>
                    </a:lnTo>
                    <a:lnTo>
                      <a:pt x="3272" y="1303"/>
                    </a:lnTo>
                    <a:lnTo>
                      <a:pt x="3296" y="1313"/>
                    </a:lnTo>
                    <a:lnTo>
                      <a:pt x="3321" y="1323"/>
                    </a:lnTo>
                    <a:lnTo>
                      <a:pt x="3346" y="1333"/>
                    </a:lnTo>
                    <a:lnTo>
                      <a:pt x="3371" y="1344"/>
                    </a:lnTo>
                    <a:lnTo>
                      <a:pt x="3396" y="1354"/>
                    </a:lnTo>
                    <a:lnTo>
                      <a:pt x="3421" y="1364"/>
                    </a:lnTo>
                    <a:lnTo>
                      <a:pt x="3446" y="1374"/>
                    </a:lnTo>
                    <a:lnTo>
                      <a:pt x="3470" y="1383"/>
                    </a:lnTo>
                    <a:lnTo>
                      <a:pt x="3495" y="1393"/>
                    </a:lnTo>
                    <a:lnTo>
                      <a:pt x="3520" y="1403"/>
                    </a:lnTo>
                    <a:lnTo>
                      <a:pt x="3545" y="1413"/>
                    </a:lnTo>
                    <a:lnTo>
                      <a:pt x="3570" y="1423"/>
                    </a:lnTo>
                    <a:lnTo>
                      <a:pt x="3595" y="1433"/>
                    </a:lnTo>
                    <a:lnTo>
                      <a:pt x="3620" y="1443"/>
                    </a:lnTo>
                    <a:lnTo>
                      <a:pt x="3646" y="1454"/>
                    </a:lnTo>
                    <a:lnTo>
                      <a:pt x="3671" y="1463"/>
                    </a:lnTo>
                    <a:lnTo>
                      <a:pt x="3696" y="1473"/>
                    </a:lnTo>
                    <a:lnTo>
                      <a:pt x="3722" y="1483"/>
                    </a:lnTo>
                    <a:lnTo>
                      <a:pt x="3747" y="1494"/>
                    </a:lnTo>
                    <a:lnTo>
                      <a:pt x="3773" y="1504"/>
                    </a:lnTo>
                    <a:lnTo>
                      <a:pt x="3798" y="1514"/>
                    </a:lnTo>
                    <a:lnTo>
                      <a:pt x="3823" y="1524"/>
                    </a:lnTo>
                    <a:lnTo>
                      <a:pt x="3848" y="1534"/>
                    </a:lnTo>
                    <a:lnTo>
                      <a:pt x="3873" y="1545"/>
                    </a:lnTo>
                    <a:lnTo>
                      <a:pt x="3899" y="1555"/>
                    </a:lnTo>
                    <a:lnTo>
                      <a:pt x="3925" y="1564"/>
                    </a:lnTo>
                    <a:lnTo>
                      <a:pt x="3950" y="1574"/>
                    </a:lnTo>
                    <a:lnTo>
                      <a:pt x="3975" y="1584"/>
                    </a:lnTo>
                    <a:lnTo>
                      <a:pt x="4000" y="1595"/>
                    </a:lnTo>
                    <a:lnTo>
                      <a:pt x="4026" y="1605"/>
                    </a:lnTo>
                    <a:lnTo>
                      <a:pt x="4052" y="1615"/>
                    </a:lnTo>
                    <a:lnTo>
                      <a:pt x="4077" y="1625"/>
                    </a:lnTo>
                    <a:lnTo>
                      <a:pt x="4103" y="1636"/>
                    </a:lnTo>
                    <a:lnTo>
                      <a:pt x="4128" y="1646"/>
                    </a:lnTo>
                    <a:lnTo>
                      <a:pt x="4154" y="1655"/>
                    </a:lnTo>
                    <a:lnTo>
                      <a:pt x="4180" y="1667"/>
                    </a:lnTo>
                    <a:lnTo>
                      <a:pt x="4205" y="1676"/>
                    </a:lnTo>
                    <a:lnTo>
                      <a:pt x="4231" y="1686"/>
                    </a:lnTo>
                    <a:lnTo>
                      <a:pt x="4256" y="1697"/>
                    </a:lnTo>
                    <a:lnTo>
                      <a:pt x="4282" y="1707"/>
                    </a:lnTo>
                    <a:lnTo>
                      <a:pt x="4308" y="1717"/>
                    </a:lnTo>
                    <a:lnTo>
                      <a:pt x="4333" y="1728"/>
                    </a:lnTo>
                    <a:lnTo>
                      <a:pt x="4359" y="1738"/>
                    </a:lnTo>
                    <a:lnTo>
                      <a:pt x="4385" y="1748"/>
                    </a:lnTo>
                    <a:lnTo>
                      <a:pt x="4411" y="1759"/>
                    </a:lnTo>
                    <a:lnTo>
                      <a:pt x="4437" y="1769"/>
                    </a:lnTo>
                    <a:lnTo>
                      <a:pt x="4463" y="1779"/>
                    </a:lnTo>
                    <a:lnTo>
                      <a:pt x="4489" y="1790"/>
                    </a:lnTo>
                    <a:lnTo>
                      <a:pt x="4515" y="1800"/>
                    </a:lnTo>
                    <a:lnTo>
                      <a:pt x="4542" y="1809"/>
                    </a:lnTo>
                    <a:lnTo>
                      <a:pt x="4568" y="1819"/>
                    </a:lnTo>
                    <a:lnTo>
                      <a:pt x="4594" y="1830"/>
                    </a:lnTo>
                    <a:lnTo>
                      <a:pt x="4619" y="1840"/>
                    </a:lnTo>
                    <a:lnTo>
                      <a:pt x="4646" y="1851"/>
                    </a:lnTo>
                    <a:lnTo>
                      <a:pt x="4672" y="1861"/>
                    </a:lnTo>
                    <a:lnTo>
                      <a:pt x="4698" y="1872"/>
                    </a:lnTo>
                    <a:lnTo>
                      <a:pt x="4724" y="1882"/>
                    </a:lnTo>
                    <a:lnTo>
                      <a:pt x="4751" y="1893"/>
                    </a:lnTo>
                    <a:lnTo>
                      <a:pt x="4778" y="1903"/>
                    </a:lnTo>
                    <a:lnTo>
                      <a:pt x="4804" y="1914"/>
                    </a:lnTo>
                    <a:lnTo>
                      <a:pt x="4830" y="1924"/>
                    </a:lnTo>
                    <a:lnTo>
                      <a:pt x="4856" y="1935"/>
                    </a:lnTo>
                    <a:lnTo>
                      <a:pt x="4882" y="1945"/>
                    </a:lnTo>
                    <a:lnTo>
                      <a:pt x="4909" y="1956"/>
                    </a:lnTo>
                    <a:lnTo>
                      <a:pt x="4936" y="1966"/>
                    </a:lnTo>
                    <a:lnTo>
                      <a:pt x="4962" y="1977"/>
                    </a:lnTo>
                    <a:lnTo>
                      <a:pt x="4989" y="1988"/>
                    </a:lnTo>
                    <a:lnTo>
                      <a:pt x="5015" y="1998"/>
                    </a:lnTo>
                    <a:lnTo>
                      <a:pt x="5043" y="2009"/>
                    </a:lnTo>
                    <a:lnTo>
                      <a:pt x="5069" y="2019"/>
                    </a:lnTo>
                    <a:lnTo>
                      <a:pt x="5095" y="2030"/>
                    </a:lnTo>
                    <a:lnTo>
                      <a:pt x="5121" y="2041"/>
                    </a:lnTo>
                    <a:lnTo>
                      <a:pt x="5147" y="2051"/>
                    </a:lnTo>
                    <a:lnTo>
                      <a:pt x="5175" y="2062"/>
                    </a:lnTo>
                    <a:lnTo>
                      <a:pt x="5201" y="2072"/>
                    </a:lnTo>
                    <a:lnTo>
                      <a:pt x="5227" y="2083"/>
                    </a:lnTo>
                    <a:lnTo>
                      <a:pt x="5254" y="2092"/>
                    </a:lnTo>
                    <a:lnTo>
                      <a:pt x="5281" y="2104"/>
                    </a:lnTo>
                    <a:lnTo>
                      <a:pt x="5308" y="2115"/>
                    </a:lnTo>
                    <a:lnTo>
                      <a:pt x="5335" y="2126"/>
                    </a:lnTo>
                    <a:lnTo>
                      <a:pt x="5362" y="2136"/>
                    </a:lnTo>
                    <a:lnTo>
                      <a:pt x="5389" y="2147"/>
                    </a:lnTo>
                    <a:lnTo>
                      <a:pt x="5417" y="2158"/>
                    </a:lnTo>
                    <a:lnTo>
                      <a:pt x="5444" y="2169"/>
                    </a:lnTo>
                    <a:lnTo>
                      <a:pt x="5471" y="2180"/>
                    </a:lnTo>
                    <a:lnTo>
                      <a:pt x="5498" y="2190"/>
                    </a:lnTo>
                    <a:lnTo>
                      <a:pt x="5524" y="2201"/>
                    </a:lnTo>
                    <a:lnTo>
                      <a:pt x="5552" y="2212"/>
                    </a:lnTo>
                    <a:lnTo>
                      <a:pt x="5578" y="2222"/>
                    </a:lnTo>
                    <a:lnTo>
                      <a:pt x="5605" y="2233"/>
                    </a:lnTo>
                    <a:lnTo>
                      <a:pt x="5631" y="2244"/>
                    </a:lnTo>
                    <a:lnTo>
                      <a:pt x="5659" y="2255"/>
                    </a:lnTo>
                    <a:lnTo>
                      <a:pt x="5686" y="2265"/>
                    </a:lnTo>
                    <a:lnTo>
                      <a:pt x="5713" y="2276"/>
                    </a:lnTo>
                    <a:lnTo>
                      <a:pt x="5740" y="2287"/>
                    </a:lnTo>
                    <a:lnTo>
                      <a:pt x="5767" y="2298"/>
                    </a:lnTo>
                    <a:lnTo>
                      <a:pt x="5795" y="2309"/>
                    </a:lnTo>
                    <a:lnTo>
                      <a:pt x="5822" y="2319"/>
                    </a:lnTo>
                    <a:lnTo>
                      <a:pt x="5849" y="2330"/>
                    </a:lnTo>
                    <a:lnTo>
                      <a:pt x="5876" y="2341"/>
                    </a:lnTo>
                    <a:lnTo>
                      <a:pt x="5903" y="2352"/>
                    </a:lnTo>
                    <a:lnTo>
                      <a:pt x="5932" y="2363"/>
                    </a:lnTo>
                    <a:lnTo>
                      <a:pt x="5959" y="2374"/>
                    </a:lnTo>
                    <a:lnTo>
                      <a:pt x="5986" y="2385"/>
                    </a:lnTo>
                    <a:lnTo>
                      <a:pt x="6013" y="2397"/>
                    </a:lnTo>
                    <a:lnTo>
                      <a:pt x="6042" y="2408"/>
                    </a:lnTo>
                    <a:lnTo>
                      <a:pt x="6070" y="2419"/>
                    </a:lnTo>
                    <a:lnTo>
                      <a:pt x="6097" y="2430"/>
                    </a:lnTo>
                    <a:lnTo>
                      <a:pt x="6124" y="2441"/>
                    </a:lnTo>
                    <a:lnTo>
                      <a:pt x="6152" y="2451"/>
                    </a:lnTo>
                    <a:lnTo>
                      <a:pt x="6180" y="2462"/>
                    </a:lnTo>
                    <a:lnTo>
                      <a:pt x="6207" y="2473"/>
                    </a:lnTo>
                    <a:lnTo>
                      <a:pt x="6235" y="2484"/>
                    </a:lnTo>
                    <a:lnTo>
                      <a:pt x="6262" y="2495"/>
                    </a:lnTo>
                    <a:lnTo>
                      <a:pt x="6290" y="2506"/>
                    </a:lnTo>
                    <a:lnTo>
                      <a:pt x="6318" y="2517"/>
                    </a:lnTo>
                    <a:lnTo>
                      <a:pt x="6346" y="2528"/>
                    </a:lnTo>
                    <a:lnTo>
                      <a:pt x="6374" y="2539"/>
                    </a:lnTo>
                    <a:lnTo>
                      <a:pt x="6401" y="2550"/>
                    </a:lnTo>
                    <a:lnTo>
                      <a:pt x="6430" y="2561"/>
                    </a:lnTo>
                    <a:lnTo>
                      <a:pt x="6458" y="2573"/>
                    </a:lnTo>
                    <a:lnTo>
                      <a:pt x="6485" y="2584"/>
                    </a:lnTo>
                    <a:lnTo>
                      <a:pt x="6513" y="2595"/>
                    </a:lnTo>
                    <a:lnTo>
                      <a:pt x="6542" y="2606"/>
                    </a:lnTo>
                    <a:lnTo>
                      <a:pt x="6570" y="2617"/>
                    </a:lnTo>
                    <a:lnTo>
                      <a:pt x="6598" y="2629"/>
                    </a:lnTo>
                    <a:lnTo>
                      <a:pt x="6625" y="2640"/>
                    </a:lnTo>
                    <a:lnTo>
                      <a:pt x="6653" y="2651"/>
                    </a:lnTo>
                    <a:lnTo>
                      <a:pt x="6682" y="2662"/>
                    </a:lnTo>
                    <a:lnTo>
                      <a:pt x="6710" y="2673"/>
                    </a:lnTo>
                    <a:lnTo>
                      <a:pt x="6739" y="2685"/>
                    </a:lnTo>
                    <a:lnTo>
                      <a:pt x="6766" y="2696"/>
                    </a:lnTo>
                    <a:lnTo>
                      <a:pt x="6796" y="2707"/>
                    </a:lnTo>
                    <a:lnTo>
                      <a:pt x="6824" y="2719"/>
                    </a:lnTo>
                    <a:lnTo>
                      <a:pt x="6852" y="2730"/>
                    </a:lnTo>
                    <a:lnTo>
                      <a:pt x="6880" y="2741"/>
                    </a:lnTo>
                    <a:lnTo>
                      <a:pt x="6908" y="2752"/>
                    </a:lnTo>
                    <a:lnTo>
                      <a:pt x="6937" y="2763"/>
                    </a:lnTo>
                    <a:lnTo>
                      <a:pt x="6965" y="2774"/>
                    </a:lnTo>
                    <a:lnTo>
                      <a:pt x="6993" y="2787"/>
                    </a:lnTo>
                    <a:lnTo>
                      <a:pt x="7021" y="2798"/>
                    </a:lnTo>
                    <a:lnTo>
                      <a:pt x="7051" y="2809"/>
                    </a:lnTo>
                    <a:lnTo>
                      <a:pt x="7079" y="2820"/>
                    </a:lnTo>
                    <a:lnTo>
                      <a:pt x="7107" y="2831"/>
                    </a:lnTo>
                    <a:lnTo>
                      <a:pt x="7136" y="2843"/>
                    </a:lnTo>
                    <a:lnTo>
                      <a:pt x="7164" y="2854"/>
                    </a:lnTo>
                    <a:lnTo>
                      <a:pt x="7193" y="2866"/>
                    </a:lnTo>
                    <a:lnTo>
                      <a:pt x="7222" y="2878"/>
                    </a:lnTo>
                    <a:lnTo>
                      <a:pt x="7250" y="2889"/>
                    </a:lnTo>
                    <a:lnTo>
                      <a:pt x="7279" y="2900"/>
                    </a:lnTo>
                    <a:lnTo>
                      <a:pt x="7308" y="2912"/>
                    </a:lnTo>
                    <a:lnTo>
                      <a:pt x="7337" y="2923"/>
                    </a:lnTo>
                    <a:lnTo>
                      <a:pt x="7365" y="2934"/>
                    </a:lnTo>
                    <a:lnTo>
                      <a:pt x="7394" y="2947"/>
                    </a:lnTo>
                    <a:lnTo>
                      <a:pt x="7423" y="2958"/>
                    </a:lnTo>
                    <a:lnTo>
                      <a:pt x="7452" y="2969"/>
                    </a:lnTo>
                    <a:lnTo>
                      <a:pt x="7481" y="2981"/>
                    </a:lnTo>
                    <a:lnTo>
                      <a:pt x="7510" y="2992"/>
                    </a:lnTo>
                    <a:lnTo>
                      <a:pt x="7539" y="3003"/>
                    </a:lnTo>
                    <a:lnTo>
                      <a:pt x="7568" y="3016"/>
                    </a:lnTo>
                    <a:lnTo>
                      <a:pt x="7597" y="3027"/>
                    </a:lnTo>
                    <a:lnTo>
                      <a:pt x="7626" y="3038"/>
                    </a:lnTo>
                    <a:lnTo>
                      <a:pt x="7655" y="3050"/>
                    </a:lnTo>
                    <a:lnTo>
                      <a:pt x="7685" y="3061"/>
                    </a:lnTo>
                    <a:lnTo>
                      <a:pt x="7714" y="3074"/>
                    </a:lnTo>
                    <a:lnTo>
                      <a:pt x="7743" y="3085"/>
                    </a:lnTo>
                    <a:lnTo>
                      <a:pt x="7772" y="3097"/>
                    </a:lnTo>
                    <a:lnTo>
                      <a:pt x="7802" y="3108"/>
                    </a:lnTo>
                    <a:lnTo>
                      <a:pt x="7831" y="3120"/>
                    </a:lnTo>
                    <a:lnTo>
                      <a:pt x="7860" y="3131"/>
                    </a:lnTo>
                    <a:lnTo>
                      <a:pt x="7889" y="3144"/>
                    </a:lnTo>
                    <a:lnTo>
                      <a:pt x="7918" y="3155"/>
                    </a:lnTo>
                    <a:lnTo>
                      <a:pt x="7948" y="3167"/>
                    </a:lnTo>
                    <a:lnTo>
                      <a:pt x="7977" y="3178"/>
                    </a:lnTo>
                    <a:lnTo>
                      <a:pt x="8006" y="3190"/>
                    </a:lnTo>
                    <a:lnTo>
                      <a:pt x="8035" y="3202"/>
                    </a:lnTo>
                    <a:lnTo>
                      <a:pt x="8065" y="3214"/>
                    </a:lnTo>
                    <a:lnTo>
                      <a:pt x="8094" y="3225"/>
                    </a:lnTo>
                    <a:lnTo>
                      <a:pt x="8123" y="3237"/>
                    </a:lnTo>
                    <a:lnTo>
                      <a:pt x="8153" y="3248"/>
                    </a:lnTo>
                    <a:lnTo>
                      <a:pt x="8183" y="3261"/>
                    </a:lnTo>
                    <a:lnTo>
                      <a:pt x="8213" y="3273"/>
                    </a:lnTo>
                    <a:lnTo>
                      <a:pt x="8243" y="3284"/>
                    </a:lnTo>
                    <a:lnTo>
                      <a:pt x="8272" y="3296"/>
                    </a:lnTo>
                    <a:lnTo>
                      <a:pt x="8303" y="3309"/>
                    </a:lnTo>
                    <a:lnTo>
                      <a:pt x="8332" y="3320"/>
                    </a:lnTo>
                    <a:lnTo>
                      <a:pt x="8362" y="3332"/>
                    </a:lnTo>
                    <a:lnTo>
                      <a:pt x="8392" y="3344"/>
                    </a:lnTo>
                    <a:lnTo>
                      <a:pt x="8421" y="3355"/>
                    </a:lnTo>
                    <a:lnTo>
                      <a:pt x="8452" y="3368"/>
                    </a:lnTo>
                    <a:lnTo>
                      <a:pt x="8482" y="3380"/>
                    </a:lnTo>
                    <a:lnTo>
                      <a:pt x="8512" y="3392"/>
                    </a:lnTo>
                    <a:lnTo>
                      <a:pt x="8542" y="3403"/>
                    </a:lnTo>
                    <a:lnTo>
                      <a:pt x="8573" y="3416"/>
                    </a:lnTo>
                    <a:lnTo>
                      <a:pt x="8604" y="3428"/>
                    </a:lnTo>
                    <a:lnTo>
                      <a:pt x="8634" y="3440"/>
                    </a:lnTo>
                    <a:lnTo>
                      <a:pt x="8664" y="3453"/>
                    </a:lnTo>
                    <a:lnTo>
                      <a:pt x="8695" y="3464"/>
                    </a:lnTo>
                    <a:lnTo>
                      <a:pt x="8725" y="3476"/>
                    </a:lnTo>
                    <a:lnTo>
                      <a:pt x="8755" y="3488"/>
                    </a:lnTo>
                    <a:lnTo>
                      <a:pt x="8785" y="3501"/>
                    </a:lnTo>
                    <a:lnTo>
                      <a:pt x="8816" y="3513"/>
                    </a:lnTo>
                    <a:lnTo>
                      <a:pt x="8845" y="3525"/>
                    </a:lnTo>
                    <a:lnTo>
                      <a:pt x="8875" y="3536"/>
                    </a:lnTo>
                    <a:lnTo>
                      <a:pt x="8905" y="3549"/>
                    </a:lnTo>
                    <a:lnTo>
                      <a:pt x="8937" y="3561"/>
                    </a:lnTo>
                    <a:lnTo>
                      <a:pt x="8967" y="3573"/>
                    </a:lnTo>
                    <a:lnTo>
                      <a:pt x="8997" y="3586"/>
                    </a:lnTo>
                    <a:lnTo>
                      <a:pt x="9027" y="3598"/>
                    </a:lnTo>
                    <a:lnTo>
                      <a:pt x="9058" y="3609"/>
                    </a:lnTo>
                    <a:lnTo>
                      <a:pt x="9088" y="3621"/>
                    </a:lnTo>
                    <a:lnTo>
                      <a:pt x="9119" y="3634"/>
                    </a:lnTo>
                    <a:lnTo>
                      <a:pt x="9150" y="3646"/>
                    </a:lnTo>
                    <a:lnTo>
                      <a:pt x="9180" y="3658"/>
                    </a:lnTo>
                    <a:lnTo>
                      <a:pt x="9212" y="3671"/>
                    </a:lnTo>
                    <a:lnTo>
                      <a:pt x="9243" y="3683"/>
                    </a:lnTo>
                    <a:lnTo>
                      <a:pt x="9273" y="3695"/>
                    </a:lnTo>
                    <a:lnTo>
                      <a:pt x="9304" y="3707"/>
                    </a:lnTo>
                    <a:lnTo>
                      <a:pt x="9336" y="3720"/>
                    </a:lnTo>
                    <a:lnTo>
                      <a:pt x="9367" y="3732"/>
                    </a:lnTo>
                    <a:lnTo>
                      <a:pt x="9397" y="3744"/>
                    </a:lnTo>
                    <a:lnTo>
                      <a:pt x="9428" y="3757"/>
                    </a:lnTo>
                    <a:lnTo>
                      <a:pt x="9459" y="3769"/>
                    </a:lnTo>
                    <a:lnTo>
                      <a:pt x="9490" y="3781"/>
                    </a:lnTo>
                    <a:lnTo>
                      <a:pt x="9520" y="3794"/>
                    </a:lnTo>
                    <a:lnTo>
                      <a:pt x="9551" y="3806"/>
                    </a:lnTo>
                    <a:lnTo>
                      <a:pt x="9582" y="3818"/>
                    </a:lnTo>
                    <a:lnTo>
                      <a:pt x="9613" y="3831"/>
                    </a:lnTo>
                    <a:lnTo>
                      <a:pt x="9645" y="3843"/>
                    </a:lnTo>
                    <a:lnTo>
                      <a:pt x="9676" y="3856"/>
                    </a:lnTo>
                    <a:lnTo>
                      <a:pt x="9708" y="3869"/>
                    </a:lnTo>
                    <a:lnTo>
                      <a:pt x="9740" y="3881"/>
                    </a:lnTo>
                    <a:lnTo>
                      <a:pt x="9771" y="3893"/>
                    </a:lnTo>
                    <a:lnTo>
                      <a:pt x="9803" y="3907"/>
                    </a:lnTo>
                    <a:lnTo>
                      <a:pt x="9836" y="3919"/>
                    </a:lnTo>
                    <a:lnTo>
                      <a:pt x="9867" y="3932"/>
                    </a:lnTo>
                    <a:lnTo>
                      <a:pt x="9898" y="3944"/>
                    </a:lnTo>
                    <a:lnTo>
                      <a:pt x="9929" y="3957"/>
                    </a:lnTo>
                    <a:lnTo>
                      <a:pt x="9962" y="3970"/>
                    </a:lnTo>
                    <a:lnTo>
                      <a:pt x="9993" y="3982"/>
                    </a:lnTo>
                    <a:lnTo>
                      <a:pt x="10024" y="3994"/>
                    </a:lnTo>
                    <a:lnTo>
                      <a:pt x="10055" y="4007"/>
                    </a:lnTo>
                    <a:lnTo>
                      <a:pt x="10088" y="4020"/>
                    </a:lnTo>
                    <a:lnTo>
                      <a:pt x="10119" y="4032"/>
                    </a:lnTo>
                    <a:lnTo>
                      <a:pt x="10150" y="4045"/>
                    </a:lnTo>
                    <a:lnTo>
                      <a:pt x="10182" y="4057"/>
                    </a:lnTo>
                    <a:lnTo>
                      <a:pt x="10214" y="4071"/>
                    </a:lnTo>
                    <a:lnTo>
                      <a:pt x="10246" y="4083"/>
                    </a:lnTo>
                    <a:lnTo>
                      <a:pt x="10278" y="4095"/>
                    </a:lnTo>
                    <a:lnTo>
                      <a:pt x="10310" y="4109"/>
                    </a:lnTo>
                    <a:lnTo>
                      <a:pt x="10343" y="4121"/>
                    </a:lnTo>
                    <a:lnTo>
                      <a:pt x="10374" y="4135"/>
                    </a:lnTo>
                    <a:lnTo>
                      <a:pt x="10406" y="4147"/>
                    </a:lnTo>
                    <a:lnTo>
                      <a:pt x="10438" y="4159"/>
                    </a:lnTo>
                    <a:lnTo>
                      <a:pt x="10471" y="4173"/>
                    </a:lnTo>
                    <a:lnTo>
                      <a:pt x="10502" y="4185"/>
                    </a:lnTo>
                    <a:lnTo>
                      <a:pt x="10534" y="4197"/>
                    </a:lnTo>
                    <a:lnTo>
                      <a:pt x="10565" y="4211"/>
                    </a:lnTo>
                    <a:lnTo>
                      <a:pt x="10598" y="4223"/>
                    </a:lnTo>
                    <a:lnTo>
                      <a:pt x="10629" y="4236"/>
                    </a:lnTo>
                    <a:lnTo>
                      <a:pt x="10661" y="4249"/>
                    </a:lnTo>
                    <a:lnTo>
                      <a:pt x="10695" y="4261"/>
                    </a:lnTo>
                    <a:lnTo>
                      <a:pt x="10727" y="4275"/>
                    </a:lnTo>
                    <a:lnTo>
                      <a:pt x="10759" y="4287"/>
                    </a:lnTo>
                    <a:lnTo>
                      <a:pt x="10791" y="4301"/>
                    </a:lnTo>
                    <a:lnTo>
                      <a:pt x="10825" y="4314"/>
                    </a:lnTo>
                    <a:lnTo>
                      <a:pt x="10857" y="4327"/>
                    </a:lnTo>
                    <a:lnTo>
                      <a:pt x="10890" y="4340"/>
                    </a:lnTo>
                    <a:lnTo>
                      <a:pt x="10923" y="4352"/>
                    </a:lnTo>
                    <a:lnTo>
                      <a:pt x="10956" y="4366"/>
                    </a:lnTo>
                    <a:lnTo>
                      <a:pt x="10989" y="4378"/>
                    </a:lnTo>
                    <a:lnTo>
                      <a:pt x="11022" y="4392"/>
                    </a:lnTo>
                    <a:lnTo>
                      <a:pt x="11054" y="4405"/>
                    </a:lnTo>
                    <a:lnTo>
                      <a:pt x="11088" y="4418"/>
                    </a:lnTo>
                    <a:lnTo>
                      <a:pt x="11121" y="4431"/>
                    </a:lnTo>
                    <a:lnTo>
                      <a:pt x="11153" y="4445"/>
                    </a:lnTo>
                    <a:lnTo>
                      <a:pt x="11186" y="4457"/>
                    </a:lnTo>
                    <a:lnTo>
                      <a:pt x="11220" y="4471"/>
                    </a:lnTo>
                    <a:lnTo>
                      <a:pt x="11252" y="4484"/>
                    </a:lnTo>
                    <a:lnTo>
                      <a:pt x="11285" y="4497"/>
                    </a:lnTo>
                    <a:lnTo>
                      <a:pt x="11318" y="4510"/>
                    </a:lnTo>
                    <a:lnTo>
                      <a:pt x="11352" y="4524"/>
                    </a:lnTo>
                    <a:lnTo>
                      <a:pt x="11385" y="4537"/>
                    </a:lnTo>
                    <a:lnTo>
                      <a:pt x="11417" y="4549"/>
                    </a:lnTo>
                    <a:lnTo>
                      <a:pt x="11451" y="4563"/>
                    </a:lnTo>
                    <a:lnTo>
                      <a:pt x="11484" y="4577"/>
                    </a:lnTo>
                    <a:lnTo>
                      <a:pt x="11516" y="4590"/>
                    </a:lnTo>
                    <a:lnTo>
                      <a:pt x="11549" y="4602"/>
                    </a:lnTo>
                    <a:lnTo>
                      <a:pt x="11583" y="4616"/>
                    </a:lnTo>
                    <a:lnTo>
                      <a:pt x="11616" y="4629"/>
                    </a:lnTo>
                    <a:lnTo>
                      <a:pt x="11649" y="4643"/>
                    </a:lnTo>
                    <a:lnTo>
                      <a:pt x="11682" y="4655"/>
                    </a:lnTo>
                    <a:lnTo>
                      <a:pt x="11716" y="4669"/>
                    </a:lnTo>
                    <a:lnTo>
                      <a:pt x="11749" y="4682"/>
                    </a:lnTo>
                    <a:lnTo>
                      <a:pt x="11783" y="4696"/>
                    </a:lnTo>
                    <a:lnTo>
                      <a:pt x="11816" y="4709"/>
                    </a:lnTo>
                    <a:lnTo>
                      <a:pt x="11850" y="4723"/>
                    </a:lnTo>
                    <a:lnTo>
                      <a:pt x="11884" y="4737"/>
                    </a:lnTo>
                    <a:lnTo>
                      <a:pt x="11917" y="4749"/>
                    </a:lnTo>
                    <a:lnTo>
                      <a:pt x="11951" y="4762"/>
                    </a:lnTo>
                    <a:lnTo>
                      <a:pt x="11985" y="4776"/>
                    </a:lnTo>
                    <a:lnTo>
                      <a:pt x="12019" y="4789"/>
                    </a:lnTo>
                    <a:lnTo>
                      <a:pt x="12053" y="4803"/>
                    </a:lnTo>
                    <a:lnTo>
                      <a:pt x="12088" y="4817"/>
                    </a:lnTo>
                    <a:lnTo>
                      <a:pt x="12122" y="4830"/>
                    </a:lnTo>
                    <a:lnTo>
                      <a:pt x="12156" y="4845"/>
                    </a:lnTo>
                    <a:lnTo>
                      <a:pt x="12190" y="4858"/>
                    </a:lnTo>
                    <a:lnTo>
                      <a:pt x="12225" y="4872"/>
                    </a:lnTo>
                    <a:lnTo>
                      <a:pt x="12258" y="4885"/>
                    </a:lnTo>
                    <a:lnTo>
                      <a:pt x="12292" y="4899"/>
                    </a:lnTo>
                    <a:lnTo>
                      <a:pt x="12326" y="4913"/>
                    </a:lnTo>
                    <a:lnTo>
                      <a:pt x="12360" y="4926"/>
                    </a:lnTo>
                    <a:lnTo>
                      <a:pt x="12394" y="4940"/>
                    </a:lnTo>
                    <a:lnTo>
                      <a:pt x="12429" y="4953"/>
                    </a:lnTo>
                    <a:lnTo>
                      <a:pt x="12464" y="4967"/>
                    </a:lnTo>
                    <a:lnTo>
                      <a:pt x="12498" y="4980"/>
                    </a:lnTo>
                    <a:lnTo>
                      <a:pt x="12532" y="4994"/>
                    </a:lnTo>
                    <a:lnTo>
                      <a:pt x="12566" y="5009"/>
                    </a:lnTo>
                    <a:lnTo>
                      <a:pt x="12601" y="5022"/>
                    </a:lnTo>
                    <a:lnTo>
                      <a:pt x="12635" y="5036"/>
                    </a:lnTo>
                    <a:lnTo>
                      <a:pt x="12669" y="5049"/>
                    </a:lnTo>
                    <a:lnTo>
                      <a:pt x="12703" y="5063"/>
                    </a:lnTo>
                    <a:lnTo>
                      <a:pt x="12738" y="5076"/>
                    </a:lnTo>
                    <a:lnTo>
                      <a:pt x="12773" y="5090"/>
                    </a:lnTo>
                    <a:lnTo>
                      <a:pt x="12807" y="5105"/>
                    </a:lnTo>
                    <a:lnTo>
                      <a:pt x="12843" y="5118"/>
                    </a:lnTo>
                    <a:lnTo>
                      <a:pt x="12877" y="5132"/>
                    </a:lnTo>
                    <a:lnTo>
                      <a:pt x="12912" y="5145"/>
                    </a:lnTo>
                    <a:lnTo>
                      <a:pt x="12946" y="5160"/>
                    </a:lnTo>
                    <a:lnTo>
                      <a:pt x="12982" y="5174"/>
                    </a:lnTo>
                    <a:lnTo>
                      <a:pt x="13017" y="5187"/>
                    </a:lnTo>
                    <a:lnTo>
                      <a:pt x="13052" y="5201"/>
                    </a:lnTo>
                    <a:lnTo>
                      <a:pt x="13088" y="5214"/>
                    </a:lnTo>
                    <a:lnTo>
                      <a:pt x="13122" y="5229"/>
                    </a:lnTo>
                    <a:lnTo>
                      <a:pt x="13157" y="5242"/>
                    </a:lnTo>
                    <a:lnTo>
                      <a:pt x="13192" y="5256"/>
                    </a:lnTo>
                    <a:lnTo>
                      <a:pt x="13228" y="5271"/>
                    </a:lnTo>
                    <a:lnTo>
                      <a:pt x="13264" y="5284"/>
                    </a:lnTo>
                    <a:lnTo>
                      <a:pt x="13299" y="5299"/>
                    </a:lnTo>
                    <a:lnTo>
                      <a:pt x="13334" y="5313"/>
                    </a:lnTo>
                    <a:lnTo>
                      <a:pt x="13370" y="5326"/>
                    </a:lnTo>
                    <a:lnTo>
                      <a:pt x="13404" y="5341"/>
                    </a:lnTo>
                    <a:lnTo>
                      <a:pt x="13439" y="5354"/>
                    </a:lnTo>
                    <a:lnTo>
                      <a:pt x="13476" y="5369"/>
                    </a:lnTo>
                    <a:lnTo>
                      <a:pt x="13511" y="5383"/>
                    </a:lnTo>
                    <a:lnTo>
                      <a:pt x="13546" y="5398"/>
                    </a:lnTo>
                    <a:lnTo>
                      <a:pt x="13581" y="5411"/>
                    </a:lnTo>
                    <a:lnTo>
                      <a:pt x="13618" y="5426"/>
                    </a:lnTo>
                    <a:lnTo>
                      <a:pt x="13653" y="5439"/>
                    </a:lnTo>
                    <a:lnTo>
                      <a:pt x="13689" y="5454"/>
                    </a:lnTo>
                    <a:lnTo>
                      <a:pt x="13725" y="5469"/>
                    </a:lnTo>
                    <a:lnTo>
                      <a:pt x="13761" y="5483"/>
                    </a:lnTo>
                    <a:lnTo>
                      <a:pt x="13796" y="5497"/>
                    </a:lnTo>
                    <a:lnTo>
                      <a:pt x="13832" y="5511"/>
                    </a:lnTo>
                    <a:lnTo>
                      <a:pt x="13868" y="5526"/>
                    </a:lnTo>
                    <a:lnTo>
                      <a:pt x="13903" y="5540"/>
                    </a:lnTo>
                    <a:lnTo>
                      <a:pt x="13939" y="5554"/>
                    </a:lnTo>
                    <a:lnTo>
                      <a:pt x="13975" y="5569"/>
                    </a:lnTo>
                    <a:lnTo>
                      <a:pt x="14011" y="5582"/>
                    </a:lnTo>
                    <a:lnTo>
                      <a:pt x="14047" y="5597"/>
                    </a:lnTo>
                    <a:lnTo>
                      <a:pt x="14083" y="5612"/>
                    </a:lnTo>
                    <a:lnTo>
                      <a:pt x="14121" y="5627"/>
                    </a:lnTo>
                    <a:lnTo>
                      <a:pt x="14157" y="5641"/>
                    </a:lnTo>
                    <a:lnTo>
                      <a:pt x="14194" y="5655"/>
                    </a:lnTo>
                    <a:lnTo>
                      <a:pt x="14231" y="5670"/>
                    </a:lnTo>
                    <a:lnTo>
                      <a:pt x="14267" y="5684"/>
                    </a:lnTo>
                    <a:lnTo>
                      <a:pt x="14304" y="5699"/>
                    </a:lnTo>
                    <a:lnTo>
                      <a:pt x="14340" y="5714"/>
                    </a:lnTo>
                    <a:lnTo>
                      <a:pt x="14377" y="5729"/>
                    </a:lnTo>
                    <a:lnTo>
                      <a:pt x="14413" y="5742"/>
                    </a:lnTo>
                    <a:lnTo>
                      <a:pt x="14450" y="5757"/>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819520" y="1371600"/>
                <a:ext cx="5910120" cy="4205880"/>
              </a:xfrm>
              <a:custGeom>
                <a:avLst/>
                <a:gdLst/>
                <a:ahLst/>
                <a:rect l="l" t="t" r="r" b="b"/>
                <a:pathLst>
                  <a:path w="15838" h="14737">
                    <a:moveTo>
                      <a:pt x="1268" y="0"/>
                    </a:moveTo>
                    <a:lnTo>
                      <a:pt x="1629" y="76"/>
                    </a:lnTo>
                    <a:lnTo>
                      <a:pt x="1992" y="153"/>
                    </a:lnTo>
                    <a:lnTo>
                      <a:pt x="2361" y="229"/>
                    </a:lnTo>
                    <a:lnTo>
                      <a:pt x="2732" y="308"/>
                    </a:lnTo>
                    <a:lnTo>
                      <a:pt x="3108" y="387"/>
                    </a:lnTo>
                    <a:lnTo>
                      <a:pt x="3486" y="465"/>
                    </a:lnTo>
                    <a:lnTo>
                      <a:pt x="3869" y="545"/>
                    </a:lnTo>
                    <a:lnTo>
                      <a:pt x="4255" y="627"/>
                    </a:lnTo>
                    <a:lnTo>
                      <a:pt x="4662" y="712"/>
                    </a:lnTo>
                    <a:lnTo>
                      <a:pt x="5071" y="798"/>
                    </a:lnTo>
                    <a:lnTo>
                      <a:pt x="5486" y="884"/>
                    </a:lnTo>
                    <a:lnTo>
                      <a:pt x="5906" y="973"/>
                    </a:lnTo>
                    <a:lnTo>
                      <a:pt x="6329" y="1061"/>
                    </a:lnTo>
                    <a:lnTo>
                      <a:pt x="6756" y="1150"/>
                    </a:lnTo>
                    <a:lnTo>
                      <a:pt x="7189" y="1241"/>
                    </a:lnTo>
                    <a:lnTo>
                      <a:pt x="7625" y="1332"/>
                    </a:lnTo>
                    <a:lnTo>
                      <a:pt x="8085" y="1428"/>
                    </a:lnTo>
                    <a:lnTo>
                      <a:pt x="8549" y="1525"/>
                    </a:lnTo>
                    <a:lnTo>
                      <a:pt x="9019" y="1624"/>
                    </a:lnTo>
                    <a:lnTo>
                      <a:pt x="9494" y="1723"/>
                    </a:lnTo>
                    <a:lnTo>
                      <a:pt x="9975" y="1824"/>
                    </a:lnTo>
                    <a:lnTo>
                      <a:pt x="10460" y="1925"/>
                    </a:lnTo>
                    <a:lnTo>
                      <a:pt x="10951" y="2029"/>
                    </a:lnTo>
                    <a:lnTo>
                      <a:pt x="11446" y="2132"/>
                    </a:lnTo>
                    <a:lnTo>
                      <a:pt x="11972" y="2243"/>
                    </a:lnTo>
                    <a:lnTo>
                      <a:pt x="12504" y="2354"/>
                    </a:lnTo>
                    <a:lnTo>
                      <a:pt x="13042" y="2467"/>
                    </a:lnTo>
                    <a:lnTo>
                      <a:pt x="13587" y="2581"/>
                    </a:lnTo>
                    <a:lnTo>
                      <a:pt x="14140" y="2697"/>
                    </a:lnTo>
                    <a:lnTo>
                      <a:pt x="14699" y="2814"/>
                    </a:lnTo>
                    <a:lnTo>
                      <a:pt x="15265" y="2932"/>
                    </a:lnTo>
                    <a:lnTo>
                      <a:pt x="15838" y="3052"/>
                    </a:lnTo>
                    <a:lnTo>
                      <a:pt x="15796" y="3414"/>
                    </a:lnTo>
                    <a:lnTo>
                      <a:pt x="15753" y="3774"/>
                    </a:lnTo>
                    <a:lnTo>
                      <a:pt x="15709" y="4136"/>
                    </a:lnTo>
                    <a:lnTo>
                      <a:pt x="15667" y="4498"/>
                    </a:lnTo>
                    <a:lnTo>
                      <a:pt x="15624" y="4859"/>
                    </a:lnTo>
                    <a:lnTo>
                      <a:pt x="15581" y="5221"/>
                    </a:lnTo>
                    <a:lnTo>
                      <a:pt x="15538" y="5582"/>
                    </a:lnTo>
                    <a:lnTo>
                      <a:pt x="15495" y="5943"/>
                    </a:lnTo>
                    <a:lnTo>
                      <a:pt x="15452" y="6306"/>
                    </a:lnTo>
                    <a:lnTo>
                      <a:pt x="15409" y="6668"/>
                    </a:lnTo>
                    <a:lnTo>
                      <a:pt x="15366" y="7031"/>
                    </a:lnTo>
                    <a:lnTo>
                      <a:pt x="15322" y="7394"/>
                    </a:lnTo>
                    <a:lnTo>
                      <a:pt x="15280" y="7758"/>
                    </a:lnTo>
                    <a:lnTo>
                      <a:pt x="15237" y="8121"/>
                    </a:lnTo>
                    <a:lnTo>
                      <a:pt x="15193" y="8484"/>
                    </a:lnTo>
                    <a:lnTo>
                      <a:pt x="15150" y="8847"/>
                    </a:lnTo>
                    <a:lnTo>
                      <a:pt x="15107" y="9211"/>
                    </a:lnTo>
                    <a:lnTo>
                      <a:pt x="15063" y="9577"/>
                    </a:lnTo>
                    <a:lnTo>
                      <a:pt x="15020" y="9942"/>
                    </a:lnTo>
                    <a:lnTo>
                      <a:pt x="14976" y="10309"/>
                    </a:lnTo>
                    <a:lnTo>
                      <a:pt x="14932" y="10676"/>
                    </a:lnTo>
                    <a:lnTo>
                      <a:pt x="14889" y="11043"/>
                    </a:lnTo>
                    <a:lnTo>
                      <a:pt x="14845" y="11410"/>
                    </a:lnTo>
                    <a:lnTo>
                      <a:pt x="14802" y="11778"/>
                    </a:lnTo>
                    <a:lnTo>
                      <a:pt x="14758" y="12147"/>
                    </a:lnTo>
                    <a:lnTo>
                      <a:pt x="14714" y="12516"/>
                    </a:lnTo>
                    <a:lnTo>
                      <a:pt x="14670" y="12886"/>
                    </a:lnTo>
                    <a:lnTo>
                      <a:pt x="14626" y="13255"/>
                    </a:lnTo>
                    <a:lnTo>
                      <a:pt x="14582" y="13625"/>
                    </a:lnTo>
                    <a:lnTo>
                      <a:pt x="14538" y="13996"/>
                    </a:lnTo>
                    <a:lnTo>
                      <a:pt x="14494" y="14366"/>
                    </a:lnTo>
                    <a:lnTo>
                      <a:pt x="14450" y="14737"/>
                    </a:lnTo>
                    <a:lnTo>
                      <a:pt x="13881" y="14511"/>
                    </a:lnTo>
                    <a:lnTo>
                      <a:pt x="13318" y="14286"/>
                    </a:lnTo>
                    <a:lnTo>
                      <a:pt x="12763" y="14066"/>
                    </a:lnTo>
                    <a:lnTo>
                      <a:pt x="12215" y="13847"/>
                    </a:lnTo>
                    <a:lnTo>
                      <a:pt x="11672" y="13632"/>
                    </a:lnTo>
                    <a:lnTo>
                      <a:pt x="11137" y="13419"/>
                    </a:lnTo>
                    <a:lnTo>
                      <a:pt x="10608" y="13207"/>
                    </a:lnTo>
                    <a:lnTo>
                      <a:pt x="10086" y="12999"/>
                    </a:lnTo>
                    <a:lnTo>
                      <a:pt x="9593" y="12802"/>
                    </a:lnTo>
                    <a:lnTo>
                      <a:pt x="9105" y="12607"/>
                    </a:lnTo>
                    <a:lnTo>
                      <a:pt x="8623" y="12415"/>
                    </a:lnTo>
                    <a:lnTo>
                      <a:pt x="8146" y="12226"/>
                    </a:lnTo>
                    <a:lnTo>
                      <a:pt x="7675" y="12038"/>
                    </a:lnTo>
                    <a:lnTo>
                      <a:pt x="7208" y="11852"/>
                    </a:lnTo>
                    <a:lnTo>
                      <a:pt x="6746" y="11668"/>
                    </a:lnTo>
                    <a:lnTo>
                      <a:pt x="6290" y="11486"/>
                    </a:lnTo>
                    <a:lnTo>
                      <a:pt x="5857" y="11314"/>
                    </a:lnTo>
                    <a:lnTo>
                      <a:pt x="5429" y="11143"/>
                    </a:lnTo>
                    <a:lnTo>
                      <a:pt x="5004" y="10974"/>
                    </a:lnTo>
                    <a:lnTo>
                      <a:pt x="4585" y="10807"/>
                    </a:lnTo>
                    <a:lnTo>
                      <a:pt x="4170" y="10642"/>
                    </a:lnTo>
                    <a:lnTo>
                      <a:pt x="3759" y="10478"/>
                    </a:lnTo>
                    <a:lnTo>
                      <a:pt x="3353" y="10317"/>
                    </a:lnTo>
                    <a:lnTo>
                      <a:pt x="2952" y="10157"/>
                    </a:lnTo>
                    <a:lnTo>
                      <a:pt x="2570" y="10004"/>
                    </a:lnTo>
                    <a:lnTo>
                      <a:pt x="2191" y="9853"/>
                    </a:lnTo>
                    <a:lnTo>
                      <a:pt x="1816" y="9704"/>
                    </a:lnTo>
                    <a:lnTo>
                      <a:pt x="1445" y="9556"/>
                    </a:lnTo>
                    <a:lnTo>
                      <a:pt x="1078" y="9409"/>
                    </a:lnTo>
                    <a:lnTo>
                      <a:pt x="714" y="9265"/>
                    </a:lnTo>
                    <a:lnTo>
                      <a:pt x="355" y="9121"/>
                    </a:lnTo>
                    <a:lnTo>
                      <a:pt x="0" y="8980"/>
                    </a:lnTo>
                    <a:lnTo>
                      <a:pt x="39" y="8697"/>
                    </a:lnTo>
                    <a:lnTo>
                      <a:pt x="79" y="8414"/>
                    </a:lnTo>
                    <a:lnTo>
                      <a:pt x="120" y="8132"/>
                    </a:lnTo>
                    <a:lnTo>
                      <a:pt x="159" y="7849"/>
                    </a:lnTo>
                    <a:lnTo>
                      <a:pt x="199" y="7566"/>
                    </a:lnTo>
                    <a:lnTo>
                      <a:pt x="239" y="7282"/>
                    </a:lnTo>
                    <a:lnTo>
                      <a:pt x="279" y="7001"/>
                    </a:lnTo>
                    <a:lnTo>
                      <a:pt x="318" y="6717"/>
                    </a:lnTo>
                    <a:lnTo>
                      <a:pt x="358" y="6435"/>
                    </a:lnTo>
                    <a:lnTo>
                      <a:pt x="398" y="6154"/>
                    </a:lnTo>
                    <a:lnTo>
                      <a:pt x="438" y="5870"/>
                    </a:lnTo>
                    <a:lnTo>
                      <a:pt x="477" y="5589"/>
                    </a:lnTo>
                    <a:lnTo>
                      <a:pt x="518" y="5307"/>
                    </a:lnTo>
                    <a:lnTo>
                      <a:pt x="557" y="5025"/>
                    </a:lnTo>
                    <a:lnTo>
                      <a:pt x="597" y="4743"/>
                    </a:lnTo>
                    <a:lnTo>
                      <a:pt x="637" y="4461"/>
                    </a:lnTo>
                    <a:lnTo>
                      <a:pt x="676" y="4180"/>
                    </a:lnTo>
                    <a:lnTo>
                      <a:pt x="716" y="3901"/>
                    </a:lnTo>
                    <a:lnTo>
                      <a:pt x="756" y="3620"/>
                    </a:lnTo>
                    <a:lnTo>
                      <a:pt x="796" y="3341"/>
                    </a:lnTo>
                    <a:lnTo>
                      <a:pt x="835" y="3061"/>
                    </a:lnTo>
                    <a:lnTo>
                      <a:pt x="875" y="2782"/>
                    </a:lnTo>
                    <a:lnTo>
                      <a:pt x="915" y="2503"/>
                    </a:lnTo>
                    <a:lnTo>
                      <a:pt x="954" y="2223"/>
                    </a:lnTo>
                    <a:lnTo>
                      <a:pt x="994" y="1945"/>
                    </a:lnTo>
                    <a:lnTo>
                      <a:pt x="1033" y="1666"/>
                    </a:lnTo>
                    <a:lnTo>
                      <a:pt x="1072" y="1387"/>
                    </a:lnTo>
                    <a:lnTo>
                      <a:pt x="1111" y="1110"/>
                    </a:lnTo>
                    <a:lnTo>
                      <a:pt x="1150" y="832"/>
                    </a:lnTo>
                    <a:lnTo>
                      <a:pt x="1189" y="555"/>
                    </a:lnTo>
                    <a:lnTo>
                      <a:pt x="1228" y="277"/>
                    </a:lnTo>
                    <a:lnTo>
                      <a:pt x="1268" y="0"/>
                    </a:lnTo>
                    <a:close/>
                  </a:path>
                </a:pathLst>
              </a:custGeom>
              <a:solidFill>
                <a:srgbClr val="218d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19520" y="1371600"/>
                <a:ext cx="5910120" cy="4205880"/>
              </a:xfrm>
              <a:custGeom>
                <a:avLst/>
                <a:gdLst/>
                <a:ahLst/>
                <a:rect l="l" t="t" r="r" b="b"/>
                <a:pathLst>
                  <a:path w="15838" h="14737">
                    <a:moveTo>
                      <a:pt x="1268" y="0"/>
                    </a:moveTo>
                    <a:lnTo>
                      <a:pt x="1629" y="76"/>
                    </a:lnTo>
                    <a:lnTo>
                      <a:pt x="1992" y="153"/>
                    </a:lnTo>
                    <a:lnTo>
                      <a:pt x="2361" y="229"/>
                    </a:lnTo>
                    <a:lnTo>
                      <a:pt x="2732" y="308"/>
                    </a:lnTo>
                    <a:lnTo>
                      <a:pt x="3108" y="387"/>
                    </a:lnTo>
                    <a:lnTo>
                      <a:pt x="3486" y="465"/>
                    </a:lnTo>
                    <a:lnTo>
                      <a:pt x="3869" y="545"/>
                    </a:lnTo>
                    <a:lnTo>
                      <a:pt x="4255" y="627"/>
                    </a:lnTo>
                    <a:lnTo>
                      <a:pt x="4662" y="712"/>
                    </a:lnTo>
                    <a:lnTo>
                      <a:pt x="5071" y="798"/>
                    </a:lnTo>
                    <a:lnTo>
                      <a:pt x="5486" y="884"/>
                    </a:lnTo>
                    <a:lnTo>
                      <a:pt x="5906" y="973"/>
                    </a:lnTo>
                    <a:lnTo>
                      <a:pt x="6329" y="1061"/>
                    </a:lnTo>
                    <a:lnTo>
                      <a:pt x="6756" y="1150"/>
                    </a:lnTo>
                    <a:lnTo>
                      <a:pt x="7189" y="1241"/>
                    </a:lnTo>
                    <a:lnTo>
                      <a:pt x="7625" y="1332"/>
                    </a:lnTo>
                    <a:lnTo>
                      <a:pt x="8085" y="1428"/>
                    </a:lnTo>
                    <a:lnTo>
                      <a:pt x="8549" y="1525"/>
                    </a:lnTo>
                    <a:lnTo>
                      <a:pt x="9019" y="1624"/>
                    </a:lnTo>
                    <a:lnTo>
                      <a:pt x="9494" y="1723"/>
                    </a:lnTo>
                    <a:lnTo>
                      <a:pt x="9975" y="1824"/>
                    </a:lnTo>
                    <a:lnTo>
                      <a:pt x="10460" y="1925"/>
                    </a:lnTo>
                    <a:lnTo>
                      <a:pt x="10951" y="2029"/>
                    </a:lnTo>
                    <a:lnTo>
                      <a:pt x="11446" y="2132"/>
                    </a:lnTo>
                    <a:lnTo>
                      <a:pt x="11972" y="2243"/>
                    </a:lnTo>
                    <a:lnTo>
                      <a:pt x="12504" y="2354"/>
                    </a:lnTo>
                    <a:lnTo>
                      <a:pt x="13042" y="2467"/>
                    </a:lnTo>
                    <a:lnTo>
                      <a:pt x="13587" y="2581"/>
                    </a:lnTo>
                    <a:lnTo>
                      <a:pt x="14140" y="2697"/>
                    </a:lnTo>
                    <a:lnTo>
                      <a:pt x="14699" y="2814"/>
                    </a:lnTo>
                    <a:lnTo>
                      <a:pt x="15265" y="2932"/>
                    </a:lnTo>
                    <a:lnTo>
                      <a:pt x="15838" y="3052"/>
                    </a:lnTo>
                    <a:lnTo>
                      <a:pt x="15796" y="3414"/>
                    </a:lnTo>
                    <a:lnTo>
                      <a:pt x="15753" y="3774"/>
                    </a:lnTo>
                    <a:lnTo>
                      <a:pt x="15709" y="4136"/>
                    </a:lnTo>
                    <a:lnTo>
                      <a:pt x="15667" y="4498"/>
                    </a:lnTo>
                    <a:lnTo>
                      <a:pt x="15624" y="4859"/>
                    </a:lnTo>
                    <a:lnTo>
                      <a:pt x="15581" y="5221"/>
                    </a:lnTo>
                    <a:lnTo>
                      <a:pt x="15538" y="5582"/>
                    </a:lnTo>
                    <a:lnTo>
                      <a:pt x="15495" y="5943"/>
                    </a:lnTo>
                    <a:lnTo>
                      <a:pt x="15452" y="6306"/>
                    </a:lnTo>
                    <a:lnTo>
                      <a:pt x="15409" y="6668"/>
                    </a:lnTo>
                    <a:lnTo>
                      <a:pt x="15366" y="7031"/>
                    </a:lnTo>
                    <a:lnTo>
                      <a:pt x="15322" y="7394"/>
                    </a:lnTo>
                    <a:lnTo>
                      <a:pt x="15280" y="7758"/>
                    </a:lnTo>
                    <a:lnTo>
                      <a:pt x="15237" y="8121"/>
                    </a:lnTo>
                    <a:lnTo>
                      <a:pt x="15193" y="8484"/>
                    </a:lnTo>
                    <a:lnTo>
                      <a:pt x="15150" y="8847"/>
                    </a:lnTo>
                    <a:lnTo>
                      <a:pt x="15107" y="9211"/>
                    </a:lnTo>
                    <a:lnTo>
                      <a:pt x="15063" y="9577"/>
                    </a:lnTo>
                    <a:lnTo>
                      <a:pt x="15020" y="9942"/>
                    </a:lnTo>
                    <a:lnTo>
                      <a:pt x="14976" y="10309"/>
                    </a:lnTo>
                    <a:lnTo>
                      <a:pt x="14932" y="10676"/>
                    </a:lnTo>
                    <a:lnTo>
                      <a:pt x="14889" y="11043"/>
                    </a:lnTo>
                    <a:lnTo>
                      <a:pt x="14845" y="11410"/>
                    </a:lnTo>
                    <a:lnTo>
                      <a:pt x="14802" y="11778"/>
                    </a:lnTo>
                    <a:lnTo>
                      <a:pt x="14758" y="12147"/>
                    </a:lnTo>
                    <a:lnTo>
                      <a:pt x="14714" y="12516"/>
                    </a:lnTo>
                    <a:lnTo>
                      <a:pt x="14670" y="12886"/>
                    </a:lnTo>
                    <a:lnTo>
                      <a:pt x="14626" y="13255"/>
                    </a:lnTo>
                    <a:lnTo>
                      <a:pt x="14582" y="13625"/>
                    </a:lnTo>
                    <a:lnTo>
                      <a:pt x="14538" y="13996"/>
                    </a:lnTo>
                    <a:lnTo>
                      <a:pt x="14494" y="14366"/>
                    </a:lnTo>
                    <a:lnTo>
                      <a:pt x="14450" y="14737"/>
                    </a:lnTo>
                    <a:lnTo>
                      <a:pt x="13881" y="14511"/>
                    </a:lnTo>
                    <a:lnTo>
                      <a:pt x="13318" y="14286"/>
                    </a:lnTo>
                    <a:lnTo>
                      <a:pt x="12763" y="14066"/>
                    </a:lnTo>
                    <a:lnTo>
                      <a:pt x="12215" y="13847"/>
                    </a:lnTo>
                    <a:lnTo>
                      <a:pt x="11672" y="13632"/>
                    </a:lnTo>
                    <a:lnTo>
                      <a:pt x="11137" y="13419"/>
                    </a:lnTo>
                    <a:lnTo>
                      <a:pt x="10608" y="13207"/>
                    </a:lnTo>
                    <a:lnTo>
                      <a:pt x="10086" y="12999"/>
                    </a:lnTo>
                    <a:lnTo>
                      <a:pt x="9593" y="12802"/>
                    </a:lnTo>
                    <a:lnTo>
                      <a:pt x="9105" y="12607"/>
                    </a:lnTo>
                    <a:lnTo>
                      <a:pt x="8623" y="12415"/>
                    </a:lnTo>
                    <a:lnTo>
                      <a:pt x="8146" y="12226"/>
                    </a:lnTo>
                    <a:lnTo>
                      <a:pt x="7675" y="12038"/>
                    </a:lnTo>
                    <a:lnTo>
                      <a:pt x="7208" y="11852"/>
                    </a:lnTo>
                    <a:lnTo>
                      <a:pt x="6746" y="11668"/>
                    </a:lnTo>
                    <a:lnTo>
                      <a:pt x="6290" y="11486"/>
                    </a:lnTo>
                    <a:lnTo>
                      <a:pt x="5857" y="11314"/>
                    </a:lnTo>
                    <a:lnTo>
                      <a:pt x="5429" y="11143"/>
                    </a:lnTo>
                    <a:lnTo>
                      <a:pt x="5004" y="10974"/>
                    </a:lnTo>
                    <a:lnTo>
                      <a:pt x="4585" y="10807"/>
                    </a:lnTo>
                    <a:lnTo>
                      <a:pt x="4170" y="10642"/>
                    </a:lnTo>
                    <a:lnTo>
                      <a:pt x="3759" y="10478"/>
                    </a:lnTo>
                    <a:lnTo>
                      <a:pt x="3353" y="10317"/>
                    </a:lnTo>
                    <a:lnTo>
                      <a:pt x="2952" y="10157"/>
                    </a:lnTo>
                    <a:lnTo>
                      <a:pt x="2570" y="10004"/>
                    </a:lnTo>
                    <a:lnTo>
                      <a:pt x="2191" y="9853"/>
                    </a:lnTo>
                    <a:lnTo>
                      <a:pt x="1816" y="9704"/>
                    </a:lnTo>
                    <a:lnTo>
                      <a:pt x="1445" y="9556"/>
                    </a:lnTo>
                    <a:lnTo>
                      <a:pt x="1078" y="9409"/>
                    </a:lnTo>
                    <a:lnTo>
                      <a:pt x="714" y="9265"/>
                    </a:lnTo>
                    <a:lnTo>
                      <a:pt x="355" y="9121"/>
                    </a:lnTo>
                    <a:lnTo>
                      <a:pt x="0" y="8980"/>
                    </a:lnTo>
                    <a:lnTo>
                      <a:pt x="39" y="8697"/>
                    </a:lnTo>
                    <a:lnTo>
                      <a:pt x="79" y="8414"/>
                    </a:lnTo>
                    <a:lnTo>
                      <a:pt x="120" y="8132"/>
                    </a:lnTo>
                    <a:lnTo>
                      <a:pt x="159" y="7849"/>
                    </a:lnTo>
                    <a:lnTo>
                      <a:pt x="199" y="7566"/>
                    </a:lnTo>
                    <a:lnTo>
                      <a:pt x="239" y="7282"/>
                    </a:lnTo>
                    <a:lnTo>
                      <a:pt x="279" y="7001"/>
                    </a:lnTo>
                    <a:lnTo>
                      <a:pt x="318" y="6717"/>
                    </a:lnTo>
                    <a:lnTo>
                      <a:pt x="358" y="6435"/>
                    </a:lnTo>
                    <a:lnTo>
                      <a:pt x="398" y="6154"/>
                    </a:lnTo>
                    <a:lnTo>
                      <a:pt x="438" y="5870"/>
                    </a:lnTo>
                    <a:lnTo>
                      <a:pt x="477" y="5589"/>
                    </a:lnTo>
                    <a:lnTo>
                      <a:pt x="518" y="5307"/>
                    </a:lnTo>
                    <a:lnTo>
                      <a:pt x="557" y="5025"/>
                    </a:lnTo>
                    <a:lnTo>
                      <a:pt x="597" y="4743"/>
                    </a:lnTo>
                    <a:lnTo>
                      <a:pt x="637" y="4461"/>
                    </a:lnTo>
                    <a:lnTo>
                      <a:pt x="676" y="4180"/>
                    </a:lnTo>
                    <a:lnTo>
                      <a:pt x="716" y="3901"/>
                    </a:lnTo>
                    <a:lnTo>
                      <a:pt x="756" y="3620"/>
                    </a:lnTo>
                    <a:lnTo>
                      <a:pt x="796" y="3341"/>
                    </a:lnTo>
                    <a:lnTo>
                      <a:pt x="835" y="3061"/>
                    </a:lnTo>
                    <a:lnTo>
                      <a:pt x="875" y="2782"/>
                    </a:lnTo>
                    <a:lnTo>
                      <a:pt x="915" y="2503"/>
                    </a:lnTo>
                    <a:lnTo>
                      <a:pt x="954" y="2223"/>
                    </a:lnTo>
                    <a:lnTo>
                      <a:pt x="994" y="1945"/>
                    </a:lnTo>
                    <a:lnTo>
                      <a:pt x="1033" y="1666"/>
                    </a:lnTo>
                    <a:lnTo>
                      <a:pt x="1072" y="1387"/>
                    </a:lnTo>
                    <a:lnTo>
                      <a:pt x="1111" y="1110"/>
                    </a:lnTo>
                    <a:lnTo>
                      <a:pt x="1150" y="832"/>
                    </a:lnTo>
                    <a:lnTo>
                      <a:pt x="1189" y="555"/>
                    </a:lnTo>
                    <a:lnTo>
                      <a:pt x="1228" y="277"/>
                    </a:lnTo>
                    <a:lnTo>
                      <a:pt x="126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105720" y="1595520"/>
                <a:ext cx="617760" cy="1869840"/>
              </a:xfrm>
              <a:custGeom>
                <a:avLst/>
                <a:gdLst/>
                <a:ahLst/>
                <a:rect l="l" t="t" r="r" b="b"/>
                <a:pathLst>
                  <a:path w="1656" h="6548">
                    <a:moveTo>
                      <a:pt x="884" y="0"/>
                    </a:moveTo>
                    <a:lnTo>
                      <a:pt x="980" y="21"/>
                    </a:lnTo>
                    <a:lnTo>
                      <a:pt x="1075" y="43"/>
                    </a:lnTo>
                    <a:lnTo>
                      <a:pt x="1172" y="65"/>
                    </a:lnTo>
                    <a:lnTo>
                      <a:pt x="1268" y="86"/>
                    </a:lnTo>
                    <a:lnTo>
                      <a:pt x="1365" y="108"/>
                    </a:lnTo>
                    <a:lnTo>
                      <a:pt x="1461" y="131"/>
                    </a:lnTo>
                    <a:lnTo>
                      <a:pt x="1558" y="152"/>
                    </a:lnTo>
                    <a:lnTo>
                      <a:pt x="1656" y="174"/>
                    </a:lnTo>
                    <a:lnTo>
                      <a:pt x="1629" y="371"/>
                    </a:lnTo>
                    <a:lnTo>
                      <a:pt x="1600" y="569"/>
                    </a:lnTo>
                    <a:lnTo>
                      <a:pt x="1572" y="766"/>
                    </a:lnTo>
                    <a:lnTo>
                      <a:pt x="1544" y="964"/>
                    </a:lnTo>
                    <a:lnTo>
                      <a:pt x="1516" y="1161"/>
                    </a:lnTo>
                    <a:lnTo>
                      <a:pt x="1489" y="1359"/>
                    </a:lnTo>
                    <a:lnTo>
                      <a:pt x="1460" y="1557"/>
                    </a:lnTo>
                    <a:lnTo>
                      <a:pt x="1432" y="1757"/>
                    </a:lnTo>
                    <a:lnTo>
                      <a:pt x="1405" y="1955"/>
                    </a:lnTo>
                    <a:lnTo>
                      <a:pt x="1377" y="2153"/>
                    </a:lnTo>
                    <a:lnTo>
                      <a:pt x="1349" y="2351"/>
                    </a:lnTo>
                    <a:lnTo>
                      <a:pt x="1322" y="2551"/>
                    </a:lnTo>
                    <a:lnTo>
                      <a:pt x="1295" y="2749"/>
                    </a:lnTo>
                    <a:lnTo>
                      <a:pt x="1267" y="2948"/>
                    </a:lnTo>
                    <a:lnTo>
                      <a:pt x="1240" y="3148"/>
                    </a:lnTo>
                    <a:lnTo>
                      <a:pt x="1211" y="3346"/>
                    </a:lnTo>
                    <a:lnTo>
                      <a:pt x="1184" y="3545"/>
                    </a:lnTo>
                    <a:lnTo>
                      <a:pt x="1156" y="3745"/>
                    </a:lnTo>
                    <a:lnTo>
                      <a:pt x="1128" y="3945"/>
                    </a:lnTo>
                    <a:lnTo>
                      <a:pt x="1099" y="4145"/>
                    </a:lnTo>
                    <a:lnTo>
                      <a:pt x="1071" y="4344"/>
                    </a:lnTo>
                    <a:lnTo>
                      <a:pt x="1043" y="4545"/>
                    </a:lnTo>
                    <a:lnTo>
                      <a:pt x="1015" y="4744"/>
                    </a:lnTo>
                    <a:lnTo>
                      <a:pt x="988" y="4944"/>
                    </a:lnTo>
                    <a:lnTo>
                      <a:pt x="959" y="5144"/>
                    </a:lnTo>
                    <a:lnTo>
                      <a:pt x="932" y="5344"/>
                    </a:lnTo>
                    <a:lnTo>
                      <a:pt x="904" y="5544"/>
                    </a:lnTo>
                    <a:lnTo>
                      <a:pt x="876" y="5745"/>
                    </a:lnTo>
                    <a:lnTo>
                      <a:pt x="848" y="5946"/>
                    </a:lnTo>
                    <a:lnTo>
                      <a:pt x="820" y="6146"/>
                    </a:lnTo>
                    <a:lnTo>
                      <a:pt x="793" y="6347"/>
                    </a:lnTo>
                    <a:lnTo>
                      <a:pt x="765" y="6548"/>
                    </a:lnTo>
                    <a:lnTo>
                      <a:pt x="667" y="6514"/>
                    </a:lnTo>
                    <a:lnTo>
                      <a:pt x="570" y="6480"/>
                    </a:lnTo>
                    <a:lnTo>
                      <a:pt x="475" y="6447"/>
                    </a:lnTo>
                    <a:lnTo>
                      <a:pt x="379" y="6412"/>
                    </a:lnTo>
                    <a:lnTo>
                      <a:pt x="283" y="6379"/>
                    </a:lnTo>
                    <a:lnTo>
                      <a:pt x="188" y="6346"/>
                    </a:lnTo>
                    <a:lnTo>
                      <a:pt x="93" y="6312"/>
                    </a:lnTo>
                    <a:lnTo>
                      <a:pt x="0" y="6278"/>
                    </a:lnTo>
                    <a:lnTo>
                      <a:pt x="27" y="6081"/>
                    </a:lnTo>
                    <a:lnTo>
                      <a:pt x="55" y="5884"/>
                    </a:lnTo>
                    <a:lnTo>
                      <a:pt x="82" y="5686"/>
                    </a:lnTo>
                    <a:lnTo>
                      <a:pt x="111" y="5489"/>
                    </a:lnTo>
                    <a:lnTo>
                      <a:pt x="139" y="5291"/>
                    </a:lnTo>
                    <a:lnTo>
                      <a:pt x="167" y="5094"/>
                    </a:lnTo>
                    <a:lnTo>
                      <a:pt x="194" y="4897"/>
                    </a:lnTo>
                    <a:lnTo>
                      <a:pt x="223" y="4700"/>
                    </a:lnTo>
                    <a:lnTo>
                      <a:pt x="250" y="4503"/>
                    </a:lnTo>
                    <a:lnTo>
                      <a:pt x="278" y="4306"/>
                    </a:lnTo>
                    <a:lnTo>
                      <a:pt x="305" y="4109"/>
                    </a:lnTo>
                    <a:lnTo>
                      <a:pt x="333" y="3912"/>
                    </a:lnTo>
                    <a:lnTo>
                      <a:pt x="361" y="3715"/>
                    </a:lnTo>
                    <a:lnTo>
                      <a:pt x="389" y="3518"/>
                    </a:lnTo>
                    <a:lnTo>
                      <a:pt x="417" y="3322"/>
                    </a:lnTo>
                    <a:lnTo>
                      <a:pt x="444" y="3126"/>
                    </a:lnTo>
                    <a:lnTo>
                      <a:pt x="472" y="2930"/>
                    </a:lnTo>
                    <a:lnTo>
                      <a:pt x="500" y="2734"/>
                    </a:lnTo>
                    <a:lnTo>
                      <a:pt x="527" y="2538"/>
                    </a:lnTo>
                    <a:lnTo>
                      <a:pt x="554" y="2343"/>
                    </a:lnTo>
                    <a:lnTo>
                      <a:pt x="581" y="2147"/>
                    </a:lnTo>
                    <a:lnTo>
                      <a:pt x="610" y="1951"/>
                    </a:lnTo>
                    <a:lnTo>
                      <a:pt x="637" y="1755"/>
                    </a:lnTo>
                    <a:lnTo>
                      <a:pt x="664" y="1560"/>
                    </a:lnTo>
                    <a:lnTo>
                      <a:pt x="691" y="1364"/>
                    </a:lnTo>
                    <a:lnTo>
                      <a:pt x="718" y="1170"/>
                    </a:lnTo>
                    <a:lnTo>
                      <a:pt x="747" y="974"/>
                    </a:lnTo>
                    <a:lnTo>
                      <a:pt x="774" y="779"/>
                    </a:lnTo>
                    <a:lnTo>
                      <a:pt x="801" y="585"/>
                    </a:lnTo>
                    <a:lnTo>
                      <a:pt x="829" y="389"/>
                    </a:lnTo>
                    <a:lnTo>
                      <a:pt x="857" y="195"/>
                    </a:lnTo>
                    <a:lnTo>
                      <a:pt x="884"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434040" y="1584000"/>
                <a:ext cx="305640" cy="73800"/>
              </a:xfrm>
              <a:custGeom>
                <a:avLst/>
                <a:gdLst/>
                <a:ahLst/>
                <a:rect l="l" t="t" r="r" b="b"/>
                <a:pathLst>
                  <a:path w="819" h="259">
                    <a:moveTo>
                      <a:pt x="813" y="223"/>
                    </a:moveTo>
                    <a:lnTo>
                      <a:pt x="785" y="174"/>
                    </a:lnTo>
                    <a:lnTo>
                      <a:pt x="687" y="152"/>
                    </a:lnTo>
                    <a:lnTo>
                      <a:pt x="589" y="130"/>
                    </a:lnTo>
                    <a:lnTo>
                      <a:pt x="493" y="107"/>
                    </a:lnTo>
                    <a:lnTo>
                      <a:pt x="396" y="86"/>
                    </a:lnTo>
                    <a:lnTo>
                      <a:pt x="300" y="64"/>
                    </a:lnTo>
                    <a:lnTo>
                      <a:pt x="204" y="42"/>
                    </a:lnTo>
                    <a:lnTo>
                      <a:pt x="108" y="21"/>
                    </a:lnTo>
                    <a:lnTo>
                      <a:pt x="12" y="0"/>
                    </a:lnTo>
                    <a:lnTo>
                      <a:pt x="0" y="85"/>
                    </a:lnTo>
                    <a:lnTo>
                      <a:pt x="95" y="106"/>
                    </a:lnTo>
                    <a:lnTo>
                      <a:pt x="191" y="128"/>
                    </a:lnTo>
                    <a:lnTo>
                      <a:pt x="287" y="149"/>
                    </a:lnTo>
                    <a:lnTo>
                      <a:pt x="384" y="171"/>
                    </a:lnTo>
                    <a:lnTo>
                      <a:pt x="480" y="192"/>
                    </a:lnTo>
                    <a:lnTo>
                      <a:pt x="577" y="214"/>
                    </a:lnTo>
                    <a:lnTo>
                      <a:pt x="674" y="237"/>
                    </a:lnTo>
                    <a:lnTo>
                      <a:pt x="772" y="259"/>
                    </a:lnTo>
                    <a:lnTo>
                      <a:pt x="744" y="208"/>
                    </a:lnTo>
                    <a:lnTo>
                      <a:pt x="813" y="223"/>
                    </a:lnTo>
                    <a:lnTo>
                      <a:pt x="819" y="181"/>
                    </a:lnTo>
                    <a:lnTo>
                      <a:pt x="785" y="174"/>
                    </a:lnTo>
                    <a:lnTo>
                      <a:pt x="813" y="223"/>
                    </a:lnTo>
                    <a:close/>
                  </a:path>
                </a:pathLst>
              </a:custGeom>
              <a:solidFill>
                <a:srgbClr val="1f1a1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35" name=""/>
              <p:cNvSpPr/>
              <p:nvPr/>
            </p:nvSpPr>
            <p:spPr>
              <a:xfrm>
                <a:off x="3628440" y="1644120"/>
                <a:ext cx="108720" cy="455400"/>
              </a:xfrm>
              <a:custGeom>
                <a:avLst/>
                <a:gdLst/>
                <a:ahLst/>
                <a:rect l="l" t="t" r="r" b="b"/>
                <a:pathLst>
                  <a:path w="293" h="1598">
                    <a:moveTo>
                      <a:pt x="69" y="1598"/>
                    </a:moveTo>
                    <a:lnTo>
                      <a:pt x="69" y="1598"/>
                    </a:lnTo>
                    <a:lnTo>
                      <a:pt x="98" y="1399"/>
                    </a:lnTo>
                    <a:lnTo>
                      <a:pt x="125" y="1200"/>
                    </a:lnTo>
                    <a:lnTo>
                      <a:pt x="153" y="1002"/>
                    </a:lnTo>
                    <a:lnTo>
                      <a:pt x="181" y="805"/>
                    </a:lnTo>
                    <a:lnTo>
                      <a:pt x="210" y="607"/>
                    </a:lnTo>
                    <a:lnTo>
                      <a:pt x="238" y="409"/>
                    </a:lnTo>
                    <a:lnTo>
                      <a:pt x="265" y="212"/>
                    </a:lnTo>
                    <a:lnTo>
                      <a:pt x="293" y="15"/>
                    </a:lnTo>
                    <a:lnTo>
                      <a:pt x="224" y="0"/>
                    </a:lnTo>
                    <a:lnTo>
                      <a:pt x="195" y="197"/>
                    </a:lnTo>
                    <a:lnTo>
                      <a:pt x="167" y="395"/>
                    </a:lnTo>
                    <a:lnTo>
                      <a:pt x="139" y="592"/>
                    </a:lnTo>
                    <a:lnTo>
                      <a:pt x="112" y="791"/>
                    </a:lnTo>
                    <a:lnTo>
                      <a:pt x="84" y="988"/>
                    </a:lnTo>
                    <a:lnTo>
                      <a:pt x="55" y="1186"/>
                    </a:lnTo>
                    <a:lnTo>
                      <a:pt x="27" y="1385"/>
                    </a:lnTo>
                    <a:lnTo>
                      <a:pt x="0" y="1583"/>
                    </a:lnTo>
                    <a:lnTo>
                      <a:pt x="0" y="1583"/>
                    </a:lnTo>
                    <a:lnTo>
                      <a:pt x="69" y="15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546000" y="2095200"/>
                <a:ext cx="107280" cy="457920"/>
              </a:xfrm>
              <a:custGeom>
                <a:avLst/>
                <a:gdLst/>
                <a:ahLst/>
                <a:rect l="l" t="t" r="r" b="b"/>
                <a:pathLst>
                  <a:path w="290" h="1604">
                    <a:moveTo>
                      <a:pt x="70" y="1604"/>
                    </a:moveTo>
                    <a:lnTo>
                      <a:pt x="70" y="1604"/>
                    </a:lnTo>
                    <a:lnTo>
                      <a:pt x="98" y="1406"/>
                    </a:lnTo>
                    <a:lnTo>
                      <a:pt x="125" y="1207"/>
                    </a:lnTo>
                    <a:lnTo>
                      <a:pt x="152" y="1007"/>
                    </a:lnTo>
                    <a:lnTo>
                      <a:pt x="181" y="809"/>
                    </a:lnTo>
                    <a:lnTo>
                      <a:pt x="208" y="610"/>
                    </a:lnTo>
                    <a:lnTo>
                      <a:pt x="235" y="411"/>
                    </a:lnTo>
                    <a:lnTo>
                      <a:pt x="262" y="212"/>
                    </a:lnTo>
                    <a:lnTo>
                      <a:pt x="290" y="15"/>
                    </a:lnTo>
                    <a:lnTo>
                      <a:pt x="221" y="0"/>
                    </a:lnTo>
                    <a:lnTo>
                      <a:pt x="193" y="199"/>
                    </a:lnTo>
                    <a:lnTo>
                      <a:pt x="165" y="397"/>
                    </a:lnTo>
                    <a:lnTo>
                      <a:pt x="137" y="596"/>
                    </a:lnTo>
                    <a:lnTo>
                      <a:pt x="110" y="794"/>
                    </a:lnTo>
                    <a:lnTo>
                      <a:pt x="83" y="994"/>
                    </a:lnTo>
                    <a:lnTo>
                      <a:pt x="56" y="1192"/>
                    </a:lnTo>
                    <a:lnTo>
                      <a:pt x="27" y="1391"/>
                    </a:lnTo>
                    <a:lnTo>
                      <a:pt x="0" y="1589"/>
                    </a:lnTo>
                    <a:lnTo>
                      <a:pt x="0" y="1589"/>
                    </a:lnTo>
                    <a:lnTo>
                      <a:pt x="70" y="160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462480" y="2548800"/>
                <a:ext cx="108720" cy="460800"/>
              </a:xfrm>
              <a:custGeom>
                <a:avLst/>
                <a:gdLst/>
                <a:ahLst/>
                <a:rect l="l" t="t" r="r" b="b"/>
                <a:pathLst>
                  <a:path w="295" h="1613">
                    <a:moveTo>
                      <a:pt x="70" y="1613"/>
                    </a:moveTo>
                    <a:lnTo>
                      <a:pt x="70" y="1613"/>
                    </a:lnTo>
                    <a:lnTo>
                      <a:pt x="98" y="1414"/>
                    </a:lnTo>
                    <a:lnTo>
                      <a:pt x="126" y="1213"/>
                    </a:lnTo>
                    <a:lnTo>
                      <a:pt x="155" y="1014"/>
                    </a:lnTo>
                    <a:lnTo>
                      <a:pt x="183" y="814"/>
                    </a:lnTo>
                    <a:lnTo>
                      <a:pt x="210" y="613"/>
                    </a:lnTo>
                    <a:lnTo>
                      <a:pt x="238" y="414"/>
                    </a:lnTo>
                    <a:lnTo>
                      <a:pt x="266" y="215"/>
                    </a:lnTo>
                    <a:lnTo>
                      <a:pt x="295" y="15"/>
                    </a:lnTo>
                    <a:lnTo>
                      <a:pt x="225" y="0"/>
                    </a:lnTo>
                    <a:lnTo>
                      <a:pt x="197" y="200"/>
                    </a:lnTo>
                    <a:lnTo>
                      <a:pt x="169" y="399"/>
                    </a:lnTo>
                    <a:lnTo>
                      <a:pt x="140" y="600"/>
                    </a:lnTo>
                    <a:lnTo>
                      <a:pt x="112" y="799"/>
                    </a:lnTo>
                    <a:lnTo>
                      <a:pt x="84" y="999"/>
                    </a:lnTo>
                    <a:lnTo>
                      <a:pt x="56" y="1199"/>
                    </a:lnTo>
                    <a:lnTo>
                      <a:pt x="28" y="1399"/>
                    </a:lnTo>
                    <a:lnTo>
                      <a:pt x="0" y="1598"/>
                    </a:lnTo>
                    <a:lnTo>
                      <a:pt x="0" y="1598"/>
                    </a:lnTo>
                    <a:lnTo>
                      <a:pt x="70" y="16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78960" y="3005640"/>
                <a:ext cx="108720" cy="474840"/>
              </a:xfrm>
              <a:custGeom>
                <a:avLst/>
                <a:gdLst/>
                <a:ahLst/>
                <a:rect l="l" t="t" r="r" b="b"/>
                <a:pathLst>
                  <a:path w="292" h="1667">
                    <a:moveTo>
                      <a:pt x="25" y="1653"/>
                    </a:moveTo>
                    <a:lnTo>
                      <a:pt x="70" y="1619"/>
                    </a:lnTo>
                    <a:lnTo>
                      <a:pt x="97" y="1418"/>
                    </a:lnTo>
                    <a:lnTo>
                      <a:pt x="126" y="1218"/>
                    </a:lnTo>
                    <a:lnTo>
                      <a:pt x="153" y="1017"/>
                    </a:lnTo>
                    <a:lnTo>
                      <a:pt x="181" y="816"/>
                    </a:lnTo>
                    <a:lnTo>
                      <a:pt x="209" y="616"/>
                    </a:lnTo>
                    <a:lnTo>
                      <a:pt x="236" y="415"/>
                    </a:lnTo>
                    <a:lnTo>
                      <a:pt x="265" y="214"/>
                    </a:lnTo>
                    <a:lnTo>
                      <a:pt x="292" y="15"/>
                    </a:lnTo>
                    <a:lnTo>
                      <a:pt x="222" y="0"/>
                    </a:lnTo>
                    <a:lnTo>
                      <a:pt x="194" y="201"/>
                    </a:lnTo>
                    <a:lnTo>
                      <a:pt x="167" y="402"/>
                    </a:lnTo>
                    <a:lnTo>
                      <a:pt x="139" y="602"/>
                    </a:lnTo>
                    <a:lnTo>
                      <a:pt x="111" y="803"/>
                    </a:lnTo>
                    <a:lnTo>
                      <a:pt x="83" y="1003"/>
                    </a:lnTo>
                    <a:lnTo>
                      <a:pt x="55" y="1204"/>
                    </a:lnTo>
                    <a:lnTo>
                      <a:pt x="28" y="1405"/>
                    </a:lnTo>
                    <a:lnTo>
                      <a:pt x="0" y="1604"/>
                    </a:lnTo>
                    <a:lnTo>
                      <a:pt x="45" y="1570"/>
                    </a:lnTo>
                    <a:lnTo>
                      <a:pt x="25" y="1653"/>
                    </a:lnTo>
                    <a:lnTo>
                      <a:pt x="63" y="1667"/>
                    </a:lnTo>
                    <a:lnTo>
                      <a:pt x="70" y="1619"/>
                    </a:lnTo>
                    <a:lnTo>
                      <a:pt x="25" y="16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090960" y="3376440"/>
                <a:ext cx="304560" cy="99720"/>
              </a:xfrm>
              <a:custGeom>
                <a:avLst/>
                <a:gdLst/>
                <a:ahLst/>
                <a:rect l="l" t="t" r="r" b="b"/>
                <a:pathLst>
                  <a:path w="816" h="352">
                    <a:moveTo>
                      <a:pt x="5" y="35"/>
                    </a:moveTo>
                    <a:lnTo>
                      <a:pt x="31" y="83"/>
                    </a:lnTo>
                    <a:lnTo>
                      <a:pt x="124" y="116"/>
                    </a:lnTo>
                    <a:lnTo>
                      <a:pt x="219" y="151"/>
                    </a:lnTo>
                    <a:lnTo>
                      <a:pt x="315" y="184"/>
                    </a:lnTo>
                    <a:lnTo>
                      <a:pt x="410" y="217"/>
                    </a:lnTo>
                    <a:lnTo>
                      <a:pt x="505" y="251"/>
                    </a:lnTo>
                    <a:lnTo>
                      <a:pt x="602" y="285"/>
                    </a:lnTo>
                    <a:lnTo>
                      <a:pt x="699" y="318"/>
                    </a:lnTo>
                    <a:lnTo>
                      <a:pt x="796" y="352"/>
                    </a:lnTo>
                    <a:lnTo>
                      <a:pt x="816" y="269"/>
                    </a:lnTo>
                    <a:lnTo>
                      <a:pt x="718" y="235"/>
                    </a:lnTo>
                    <a:lnTo>
                      <a:pt x="621" y="201"/>
                    </a:lnTo>
                    <a:lnTo>
                      <a:pt x="526" y="168"/>
                    </a:lnTo>
                    <a:lnTo>
                      <a:pt x="430" y="133"/>
                    </a:lnTo>
                    <a:lnTo>
                      <a:pt x="334" y="100"/>
                    </a:lnTo>
                    <a:lnTo>
                      <a:pt x="239" y="67"/>
                    </a:lnTo>
                    <a:lnTo>
                      <a:pt x="145" y="34"/>
                    </a:lnTo>
                    <a:lnTo>
                      <a:pt x="50" y="0"/>
                    </a:lnTo>
                    <a:lnTo>
                      <a:pt x="75" y="48"/>
                    </a:lnTo>
                    <a:lnTo>
                      <a:pt x="5" y="35"/>
                    </a:lnTo>
                    <a:lnTo>
                      <a:pt x="0" y="72"/>
                    </a:lnTo>
                    <a:lnTo>
                      <a:pt x="31" y="83"/>
                    </a:lnTo>
                    <a:lnTo>
                      <a:pt x="5"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093840" y="2935800"/>
                <a:ext cx="108720" cy="453600"/>
              </a:xfrm>
              <a:custGeom>
                <a:avLst/>
                <a:gdLst/>
                <a:ahLst/>
                <a:rect l="l" t="t" r="r" b="b"/>
                <a:pathLst>
                  <a:path w="293" h="1592">
                    <a:moveTo>
                      <a:pt x="223" y="0"/>
                    </a:moveTo>
                    <a:lnTo>
                      <a:pt x="223" y="0"/>
                    </a:lnTo>
                    <a:lnTo>
                      <a:pt x="196" y="196"/>
                    </a:lnTo>
                    <a:lnTo>
                      <a:pt x="168" y="393"/>
                    </a:lnTo>
                    <a:lnTo>
                      <a:pt x="140" y="592"/>
                    </a:lnTo>
                    <a:lnTo>
                      <a:pt x="112" y="789"/>
                    </a:lnTo>
                    <a:lnTo>
                      <a:pt x="84" y="986"/>
                    </a:lnTo>
                    <a:lnTo>
                      <a:pt x="56" y="1184"/>
                    </a:lnTo>
                    <a:lnTo>
                      <a:pt x="28" y="1381"/>
                    </a:lnTo>
                    <a:lnTo>
                      <a:pt x="0" y="1579"/>
                    </a:lnTo>
                    <a:lnTo>
                      <a:pt x="70" y="1592"/>
                    </a:lnTo>
                    <a:lnTo>
                      <a:pt x="98" y="1395"/>
                    </a:lnTo>
                    <a:lnTo>
                      <a:pt x="126" y="1198"/>
                    </a:lnTo>
                    <a:lnTo>
                      <a:pt x="154" y="1000"/>
                    </a:lnTo>
                    <a:lnTo>
                      <a:pt x="182" y="803"/>
                    </a:lnTo>
                    <a:lnTo>
                      <a:pt x="210" y="605"/>
                    </a:lnTo>
                    <a:lnTo>
                      <a:pt x="237" y="408"/>
                    </a:lnTo>
                    <a:lnTo>
                      <a:pt x="266" y="211"/>
                    </a:lnTo>
                    <a:lnTo>
                      <a:pt x="293" y="14"/>
                    </a:lnTo>
                    <a:lnTo>
                      <a:pt x="293" y="14"/>
                    </a:lnTo>
                    <a:lnTo>
                      <a:pt x="2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175920" y="2486160"/>
                <a:ext cx="108720" cy="453600"/>
              </a:xfrm>
              <a:custGeom>
                <a:avLst/>
                <a:gdLst/>
                <a:ahLst/>
                <a:rect l="l" t="t" r="r" b="b"/>
                <a:pathLst>
                  <a:path w="293" h="1589">
                    <a:moveTo>
                      <a:pt x="222" y="0"/>
                    </a:moveTo>
                    <a:lnTo>
                      <a:pt x="222" y="0"/>
                    </a:lnTo>
                    <a:lnTo>
                      <a:pt x="195" y="197"/>
                    </a:lnTo>
                    <a:lnTo>
                      <a:pt x="167" y="393"/>
                    </a:lnTo>
                    <a:lnTo>
                      <a:pt x="139" y="590"/>
                    </a:lnTo>
                    <a:lnTo>
                      <a:pt x="111" y="787"/>
                    </a:lnTo>
                    <a:lnTo>
                      <a:pt x="83" y="984"/>
                    </a:lnTo>
                    <a:lnTo>
                      <a:pt x="56" y="1181"/>
                    </a:lnTo>
                    <a:lnTo>
                      <a:pt x="27" y="1378"/>
                    </a:lnTo>
                    <a:lnTo>
                      <a:pt x="0" y="1575"/>
                    </a:lnTo>
                    <a:lnTo>
                      <a:pt x="70" y="1589"/>
                    </a:lnTo>
                    <a:lnTo>
                      <a:pt x="98" y="1392"/>
                    </a:lnTo>
                    <a:lnTo>
                      <a:pt x="125" y="1195"/>
                    </a:lnTo>
                    <a:lnTo>
                      <a:pt x="153" y="998"/>
                    </a:lnTo>
                    <a:lnTo>
                      <a:pt x="181" y="801"/>
                    </a:lnTo>
                    <a:lnTo>
                      <a:pt x="209" y="605"/>
                    </a:lnTo>
                    <a:lnTo>
                      <a:pt x="237" y="408"/>
                    </a:lnTo>
                    <a:lnTo>
                      <a:pt x="264" y="212"/>
                    </a:lnTo>
                    <a:lnTo>
                      <a:pt x="293" y="15"/>
                    </a:lnTo>
                    <a:lnTo>
                      <a:pt x="293" y="15"/>
                    </a:lnTo>
                    <a:lnTo>
                      <a:pt x="22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259440" y="2039400"/>
                <a:ext cx="107280" cy="450720"/>
              </a:xfrm>
              <a:custGeom>
                <a:avLst/>
                <a:gdLst/>
                <a:ahLst/>
                <a:rect l="l" t="t" r="r" b="b"/>
                <a:pathLst>
                  <a:path w="289" h="1581">
                    <a:moveTo>
                      <a:pt x="220" y="0"/>
                    </a:moveTo>
                    <a:lnTo>
                      <a:pt x="220" y="0"/>
                    </a:lnTo>
                    <a:lnTo>
                      <a:pt x="193" y="196"/>
                    </a:lnTo>
                    <a:lnTo>
                      <a:pt x="165" y="392"/>
                    </a:lnTo>
                    <a:lnTo>
                      <a:pt x="138" y="588"/>
                    </a:lnTo>
                    <a:lnTo>
                      <a:pt x="111" y="783"/>
                    </a:lnTo>
                    <a:lnTo>
                      <a:pt x="83" y="979"/>
                    </a:lnTo>
                    <a:lnTo>
                      <a:pt x="55" y="1175"/>
                    </a:lnTo>
                    <a:lnTo>
                      <a:pt x="28" y="1370"/>
                    </a:lnTo>
                    <a:lnTo>
                      <a:pt x="0" y="1566"/>
                    </a:lnTo>
                    <a:lnTo>
                      <a:pt x="71" y="1581"/>
                    </a:lnTo>
                    <a:lnTo>
                      <a:pt x="98" y="1385"/>
                    </a:lnTo>
                    <a:lnTo>
                      <a:pt x="126" y="1189"/>
                    </a:lnTo>
                    <a:lnTo>
                      <a:pt x="153" y="994"/>
                    </a:lnTo>
                    <a:lnTo>
                      <a:pt x="180" y="798"/>
                    </a:lnTo>
                    <a:lnTo>
                      <a:pt x="208" y="602"/>
                    </a:lnTo>
                    <a:lnTo>
                      <a:pt x="235" y="407"/>
                    </a:lnTo>
                    <a:lnTo>
                      <a:pt x="262" y="211"/>
                    </a:lnTo>
                    <a:lnTo>
                      <a:pt x="289" y="15"/>
                    </a:lnTo>
                    <a:lnTo>
                      <a:pt x="289" y="15"/>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341520" y="1581120"/>
                <a:ext cx="107280" cy="462240"/>
              </a:xfrm>
              <a:custGeom>
                <a:avLst/>
                <a:gdLst/>
                <a:ahLst/>
                <a:rect l="l" t="t" r="r" b="b"/>
                <a:pathLst>
                  <a:path w="290" h="1617">
                    <a:moveTo>
                      <a:pt x="261" y="8"/>
                    </a:moveTo>
                    <a:lnTo>
                      <a:pt x="219" y="43"/>
                    </a:lnTo>
                    <a:lnTo>
                      <a:pt x="192" y="237"/>
                    </a:lnTo>
                    <a:lnTo>
                      <a:pt x="165" y="432"/>
                    </a:lnTo>
                    <a:lnTo>
                      <a:pt x="138" y="627"/>
                    </a:lnTo>
                    <a:lnTo>
                      <a:pt x="110" y="822"/>
                    </a:lnTo>
                    <a:lnTo>
                      <a:pt x="82" y="1016"/>
                    </a:lnTo>
                    <a:lnTo>
                      <a:pt x="55" y="1212"/>
                    </a:lnTo>
                    <a:lnTo>
                      <a:pt x="27" y="1407"/>
                    </a:lnTo>
                    <a:lnTo>
                      <a:pt x="0" y="1602"/>
                    </a:lnTo>
                    <a:lnTo>
                      <a:pt x="69" y="1617"/>
                    </a:lnTo>
                    <a:lnTo>
                      <a:pt x="98" y="1421"/>
                    </a:lnTo>
                    <a:lnTo>
                      <a:pt x="125" y="1226"/>
                    </a:lnTo>
                    <a:lnTo>
                      <a:pt x="152" y="1031"/>
                    </a:lnTo>
                    <a:lnTo>
                      <a:pt x="180" y="837"/>
                    </a:lnTo>
                    <a:lnTo>
                      <a:pt x="207" y="641"/>
                    </a:lnTo>
                    <a:lnTo>
                      <a:pt x="235" y="447"/>
                    </a:lnTo>
                    <a:lnTo>
                      <a:pt x="263" y="252"/>
                    </a:lnTo>
                    <a:lnTo>
                      <a:pt x="290" y="58"/>
                    </a:lnTo>
                    <a:lnTo>
                      <a:pt x="249" y="93"/>
                    </a:lnTo>
                    <a:lnTo>
                      <a:pt x="261" y="8"/>
                    </a:lnTo>
                    <a:lnTo>
                      <a:pt x="226" y="0"/>
                    </a:lnTo>
                    <a:lnTo>
                      <a:pt x="219" y="43"/>
                    </a:lnTo>
                    <a:lnTo>
                      <a:pt x="261" y="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393720" y="1526760"/>
                <a:ext cx="350640" cy="182520"/>
              </a:xfrm>
              <a:custGeom>
                <a:avLst/>
                <a:gdLst/>
                <a:ahLst/>
                <a:rect l="l" t="t" r="r" b="b"/>
                <a:pathLst>
                  <a:path w="941" h="640">
                    <a:moveTo>
                      <a:pt x="0" y="0"/>
                    </a:moveTo>
                    <a:lnTo>
                      <a:pt x="20" y="58"/>
                    </a:lnTo>
                    <a:lnTo>
                      <a:pt x="41" y="116"/>
                    </a:lnTo>
                    <a:lnTo>
                      <a:pt x="62" y="173"/>
                    </a:lnTo>
                    <a:lnTo>
                      <a:pt x="83" y="231"/>
                    </a:lnTo>
                    <a:lnTo>
                      <a:pt x="104" y="289"/>
                    </a:lnTo>
                    <a:lnTo>
                      <a:pt x="126" y="347"/>
                    </a:lnTo>
                    <a:lnTo>
                      <a:pt x="147" y="406"/>
                    </a:lnTo>
                    <a:lnTo>
                      <a:pt x="168" y="464"/>
                    </a:lnTo>
                    <a:lnTo>
                      <a:pt x="264" y="486"/>
                    </a:lnTo>
                    <a:lnTo>
                      <a:pt x="360" y="507"/>
                    </a:lnTo>
                    <a:lnTo>
                      <a:pt x="455" y="529"/>
                    </a:lnTo>
                    <a:lnTo>
                      <a:pt x="552" y="551"/>
                    </a:lnTo>
                    <a:lnTo>
                      <a:pt x="649" y="574"/>
                    </a:lnTo>
                    <a:lnTo>
                      <a:pt x="746" y="596"/>
                    </a:lnTo>
                    <a:lnTo>
                      <a:pt x="844" y="618"/>
                    </a:lnTo>
                    <a:lnTo>
                      <a:pt x="941" y="640"/>
                    </a:lnTo>
                    <a:lnTo>
                      <a:pt x="919" y="581"/>
                    </a:lnTo>
                    <a:lnTo>
                      <a:pt x="897" y="522"/>
                    </a:lnTo>
                    <a:lnTo>
                      <a:pt x="876" y="463"/>
                    </a:lnTo>
                    <a:lnTo>
                      <a:pt x="854" y="404"/>
                    </a:lnTo>
                    <a:lnTo>
                      <a:pt x="831" y="345"/>
                    </a:lnTo>
                    <a:lnTo>
                      <a:pt x="809" y="285"/>
                    </a:lnTo>
                    <a:lnTo>
                      <a:pt x="788" y="228"/>
                    </a:lnTo>
                    <a:lnTo>
                      <a:pt x="766" y="169"/>
                    </a:lnTo>
                    <a:lnTo>
                      <a:pt x="669" y="146"/>
                    </a:lnTo>
                    <a:lnTo>
                      <a:pt x="572" y="125"/>
                    </a:lnTo>
                    <a:lnTo>
                      <a:pt x="477" y="105"/>
                    </a:lnTo>
                    <a:lnTo>
                      <a:pt x="381" y="84"/>
                    </a:lnTo>
                    <a:lnTo>
                      <a:pt x="285" y="63"/>
                    </a:lnTo>
                    <a:lnTo>
                      <a:pt x="189" y="42"/>
                    </a:lnTo>
                    <a:lnTo>
                      <a:pt x="95" y="21"/>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393720" y="1526760"/>
                <a:ext cx="350640" cy="182520"/>
              </a:xfrm>
              <a:custGeom>
                <a:avLst/>
                <a:gdLst/>
                <a:ahLst/>
                <a:rect l="l" t="t" r="r" b="b"/>
                <a:pathLst>
                  <a:path w="941" h="640">
                    <a:moveTo>
                      <a:pt x="0" y="0"/>
                    </a:moveTo>
                    <a:lnTo>
                      <a:pt x="20" y="58"/>
                    </a:lnTo>
                    <a:lnTo>
                      <a:pt x="41" y="116"/>
                    </a:lnTo>
                    <a:lnTo>
                      <a:pt x="62" y="173"/>
                    </a:lnTo>
                    <a:lnTo>
                      <a:pt x="83" y="231"/>
                    </a:lnTo>
                    <a:lnTo>
                      <a:pt x="104" y="289"/>
                    </a:lnTo>
                    <a:lnTo>
                      <a:pt x="126" y="347"/>
                    </a:lnTo>
                    <a:lnTo>
                      <a:pt x="147" y="406"/>
                    </a:lnTo>
                    <a:lnTo>
                      <a:pt x="168" y="464"/>
                    </a:lnTo>
                    <a:lnTo>
                      <a:pt x="264" y="486"/>
                    </a:lnTo>
                    <a:lnTo>
                      <a:pt x="360" y="507"/>
                    </a:lnTo>
                    <a:lnTo>
                      <a:pt x="455" y="529"/>
                    </a:lnTo>
                    <a:lnTo>
                      <a:pt x="552" y="551"/>
                    </a:lnTo>
                    <a:lnTo>
                      <a:pt x="649" y="574"/>
                    </a:lnTo>
                    <a:lnTo>
                      <a:pt x="746" y="596"/>
                    </a:lnTo>
                    <a:lnTo>
                      <a:pt x="844" y="618"/>
                    </a:lnTo>
                    <a:lnTo>
                      <a:pt x="941" y="640"/>
                    </a:lnTo>
                    <a:lnTo>
                      <a:pt x="919" y="581"/>
                    </a:lnTo>
                    <a:lnTo>
                      <a:pt x="897" y="522"/>
                    </a:lnTo>
                    <a:lnTo>
                      <a:pt x="876" y="463"/>
                    </a:lnTo>
                    <a:lnTo>
                      <a:pt x="854" y="404"/>
                    </a:lnTo>
                    <a:lnTo>
                      <a:pt x="831" y="345"/>
                    </a:lnTo>
                    <a:lnTo>
                      <a:pt x="809" y="285"/>
                    </a:lnTo>
                    <a:lnTo>
                      <a:pt x="788" y="228"/>
                    </a:lnTo>
                    <a:lnTo>
                      <a:pt x="766" y="169"/>
                    </a:lnTo>
                    <a:lnTo>
                      <a:pt x="669" y="146"/>
                    </a:lnTo>
                    <a:lnTo>
                      <a:pt x="572" y="125"/>
                    </a:lnTo>
                    <a:lnTo>
                      <a:pt x="477" y="105"/>
                    </a:lnTo>
                    <a:lnTo>
                      <a:pt x="381" y="84"/>
                    </a:lnTo>
                    <a:lnTo>
                      <a:pt x="285" y="63"/>
                    </a:lnTo>
                    <a:lnTo>
                      <a:pt x="189" y="42"/>
                    </a:lnTo>
                    <a:lnTo>
                      <a:pt x="95" y="21"/>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063960" y="1526760"/>
                <a:ext cx="392040" cy="1929600"/>
              </a:xfrm>
              <a:custGeom>
                <a:avLst/>
                <a:gdLst/>
                <a:ahLst/>
                <a:rect l="l" t="t" r="r" b="b"/>
                <a:pathLst>
                  <a:path w="1051" h="6757">
                    <a:moveTo>
                      <a:pt x="0" y="6256"/>
                    </a:moveTo>
                    <a:lnTo>
                      <a:pt x="20" y="6318"/>
                    </a:lnTo>
                    <a:lnTo>
                      <a:pt x="40" y="6380"/>
                    </a:lnTo>
                    <a:lnTo>
                      <a:pt x="61" y="6443"/>
                    </a:lnTo>
                    <a:lnTo>
                      <a:pt x="81" y="6505"/>
                    </a:lnTo>
                    <a:lnTo>
                      <a:pt x="103" y="6567"/>
                    </a:lnTo>
                    <a:lnTo>
                      <a:pt x="123" y="6630"/>
                    </a:lnTo>
                    <a:lnTo>
                      <a:pt x="144" y="6693"/>
                    </a:lnTo>
                    <a:lnTo>
                      <a:pt x="164" y="6757"/>
                    </a:lnTo>
                    <a:lnTo>
                      <a:pt x="192" y="6558"/>
                    </a:lnTo>
                    <a:lnTo>
                      <a:pt x="221" y="6360"/>
                    </a:lnTo>
                    <a:lnTo>
                      <a:pt x="249" y="6162"/>
                    </a:lnTo>
                    <a:lnTo>
                      <a:pt x="277" y="5964"/>
                    </a:lnTo>
                    <a:lnTo>
                      <a:pt x="304" y="5766"/>
                    </a:lnTo>
                    <a:lnTo>
                      <a:pt x="332" y="5569"/>
                    </a:lnTo>
                    <a:lnTo>
                      <a:pt x="360" y="5371"/>
                    </a:lnTo>
                    <a:lnTo>
                      <a:pt x="388" y="5174"/>
                    </a:lnTo>
                    <a:lnTo>
                      <a:pt x="415" y="4975"/>
                    </a:lnTo>
                    <a:lnTo>
                      <a:pt x="443" y="4778"/>
                    </a:lnTo>
                    <a:lnTo>
                      <a:pt x="471" y="4580"/>
                    </a:lnTo>
                    <a:lnTo>
                      <a:pt x="499" y="4383"/>
                    </a:lnTo>
                    <a:lnTo>
                      <a:pt x="527" y="4186"/>
                    </a:lnTo>
                    <a:lnTo>
                      <a:pt x="554" y="3988"/>
                    </a:lnTo>
                    <a:lnTo>
                      <a:pt x="582" y="3791"/>
                    </a:lnTo>
                    <a:lnTo>
                      <a:pt x="610" y="3594"/>
                    </a:lnTo>
                    <a:lnTo>
                      <a:pt x="638" y="3399"/>
                    </a:lnTo>
                    <a:lnTo>
                      <a:pt x="665" y="3202"/>
                    </a:lnTo>
                    <a:lnTo>
                      <a:pt x="692" y="3006"/>
                    </a:lnTo>
                    <a:lnTo>
                      <a:pt x="721" y="2809"/>
                    </a:lnTo>
                    <a:lnTo>
                      <a:pt x="748" y="2613"/>
                    </a:lnTo>
                    <a:lnTo>
                      <a:pt x="775" y="2416"/>
                    </a:lnTo>
                    <a:lnTo>
                      <a:pt x="802" y="2221"/>
                    </a:lnTo>
                    <a:lnTo>
                      <a:pt x="829" y="2025"/>
                    </a:lnTo>
                    <a:lnTo>
                      <a:pt x="858" y="1829"/>
                    </a:lnTo>
                    <a:lnTo>
                      <a:pt x="885" y="1633"/>
                    </a:lnTo>
                    <a:lnTo>
                      <a:pt x="913" y="1439"/>
                    </a:lnTo>
                    <a:lnTo>
                      <a:pt x="940" y="1243"/>
                    </a:lnTo>
                    <a:lnTo>
                      <a:pt x="969" y="1049"/>
                    </a:lnTo>
                    <a:lnTo>
                      <a:pt x="996" y="854"/>
                    </a:lnTo>
                    <a:lnTo>
                      <a:pt x="1024" y="658"/>
                    </a:lnTo>
                    <a:lnTo>
                      <a:pt x="1051" y="464"/>
                    </a:lnTo>
                    <a:lnTo>
                      <a:pt x="1030" y="406"/>
                    </a:lnTo>
                    <a:lnTo>
                      <a:pt x="1009" y="347"/>
                    </a:lnTo>
                    <a:lnTo>
                      <a:pt x="987" y="289"/>
                    </a:lnTo>
                    <a:lnTo>
                      <a:pt x="966" y="231"/>
                    </a:lnTo>
                    <a:lnTo>
                      <a:pt x="945" y="173"/>
                    </a:lnTo>
                    <a:lnTo>
                      <a:pt x="924" y="116"/>
                    </a:lnTo>
                    <a:lnTo>
                      <a:pt x="903" y="58"/>
                    </a:lnTo>
                    <a:lnTo>
                      <a:pt x="883" y="0"/>
                    </a:lnTo>
                    <a:lnTo>
                      <a:pt x="856" y="193"/>
                    </a:lnTo>
                    <a:lnTo>
                      <a:pt x="828" y="388"/>
                    </a:lnTo>
                    <a:lnTo>
                      <a:pt x="800" y="581"/>
                    </a:lnTo>
                    <a:lnTo>
                      <a:pt x="773" y="775"/>
                    </a:lnTo>
                    <a:lnTo>
                      <a:pt x="746" y="969"/>
                    </a:lnTo>
                    <a:lnTo>
                      <a:pt x="718" y="1163"/>
                    </a:lnTo>
                    <a:lnTo>
                      <a:pt x="690" y="1358"/>
                    </a:lnTo>
                    <a:lnTo>
                      <a:pt x="663" y="1551"/>
                    </a:lnTo>
                    <a:lnTo>
                      <a:pt x="636" y="1747"/>
                    </a:lnTo>
                    <a:lnTo>
                      <a:pt x="609" y="1941"/>
                    </a:lnTo>
                    <a:lnTo>
                      <a:pt x="581" y="2137"/>
                    </a:lnTo>
                    <a:lnTo>
                      <a:pt x="554" y="2333"/>
                    </a:lnTo>
                    <a:lnTo>
                      <a:pt x="526" y="2527"/>
                    </a:lnTo>
                    <a:lnTo>
                      <a:pt x="499" y="2723"/>
                    </a:lnTo>
                    <a:lnTo>
                      <a:pt x="472" y="2917"/>
                    </a:lnTo>
                    <a:lnTo>
                      <a:pt x="444" y="3112"/>
                    </a:lnTo>
                    <a:lnTo>
                      <a:pt x="416" y="3307"/>
                    </a:lnTo>
                    <a:lnTo>
                      <a:pt x="389" y="3503"/>
                    </a:lnTo>
                    <a:lnTo>
                      <a:pt x="361" y="3699"/>
                    </a:lnTo>
                    <a:lnTo>
                      <a:pt x="332" y="3896"/>
                    </a:lnTo>
                    <a:lnTo>
                      <a:pt x="305" y="4092"/>
                    </a:lnTo>
                    <a:lnTo>
                      <a:pt x="277" y="4287"/>
                    </a:lnTo>
                    <a:lnTo>
                      <a:pt x="250" y="4484"/>
                    </a:lnTo>
                    <a:lnTo>
                      <a:pt x="223" y="4680"/>
                    </a:lnTo>
                    <a:lnTo>
                      <a:pt x="194" y="4877"/>
                    </a:lnTo>
                    <a:lnTo>
                      <a:pt x="167" y="5074"/>
                    </a:lnTo>
                    <a:lnTo>
                      <a:pt x="139" y="5271"/>
                    </a:lnTo>
                    <a:lnTo>
                      <a:pt x="111" y="5468"/>
                    </a:lnTo>
                    <a:lnTo>
                      <a:pt x="84" y="5665"/>
                    </a:lnTo>
                    <a:lnTo>
                      <a:pt x="55" y="5862"/>
                    </a:lnTo>
                    <a:lnTo>
                      <a:pt x="27" y="6059"/>
                    </a:lnTo>
                    <a:lnTo>
                      <a:pt x="0" y="6256"/>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63960" y="1526760"/>
                <a:ext cx="392040" cy="1929600"/>
              </a:xfrm>
              <a:custGeom>
                <a:avLst/>
                <a:gdLst/>
                <a:ahLst/>
                <a:rect l="l" t="t" r="r" b="b"/>
                <a:pathLst>
                  <a:path w="1051" h="6757">
                    <a:moveTo>
                      <a:pt x="0" y="6256"/>
                    </a:moveTo>
                    <a:lnTo>
                      <a:pt x="20" y="6318"/>
                    </a:lnTo>
                    <a:lnTo>
                      <a:pt x="40" y="6380"/>
                    </a:lnTo>
                    <a:lnTo>
                      <a:pt x="61" y="6443"/>
                    </a:lnTo>
                    <a:lnTo>
                      <a:pt x="81" y="6505"/>
                    </a:lnTo>
                    <a:lnTo>
                      <a:pt x="103" y="6567"/>
                    </a:lnTo>
                    <a:lnTo>
                      <a:pt x="123" y="6630"/>
                    </a:lnTo>
                    <a:lnTo>
                      <a:pt x="144" y="6693"/>
                    </a:lnTo>
                    <a:lnTo>
                      <a:pt x="164" y="6757"/>
                    </a:lnTo>
                    <a:lnTo>
                      <a:pt x="192" y="6558"/>
                    </a:lnTo>
                    <a:lnTo>
                      <a:pt x="221" y="6360"/>
                    </a:lnTo>
                    <a:lnTo>
                      <a:pt x="249" y="6162"/>
                    </a:lnTo>
                    <a:lnTo>
                      <a:pt x="277" y="5964"/>
                    </a:lnTo>
                    <a:lnTo>
                      <a:pt x="304" y="5766"/>
                    </a:lnTo>
                    <a:lnTo>
                      <a:pt x="332" y="5569"/>
                    </a:lnTo>
                    <a:lnTo>
                      <a:pt x="360" y="5371"/>
                    </a:lnTo>
                    <a:lnTo>
                      <a:pt x="388" y="5174"/>
                    </a:lnTo>
                    <a:lnTo>
                      <a:pt x="415" y="4975"/>
                    </a:lnTo>
                    <a:lnTo>
                      <a:pt x="443" y="4778"/>
                    </a:lnTo>
                    <a:lnTo>
                      <a:pt x="471" y="4580"/>
                    </a:lnTo>
                    <a:lnTo>
                      <a:pt x="499" y="4383"/>
                    </a:lnTo>
                    <a:lnTo>
                      <a:pt x="527" y="4186"/>
                    </a:lnTo>
                    <a:lnTo>
                      <a:pt x="554" y="3988"/>
                    </a:lnTo>
                    <a:lnTo>
                      <a:pt x="582" y="3791"/>
                    </a:lnTo>
                    <a:lnTo>
                      <a:pt x="610" y="3594"/>
                    </a:lnTo>
                    <a:lnTo>
                      <a:pt x="638" y="3399"/>
                    </a:lnTo>
                    <a:lnTo>
                      <a:pt x="665" y="3202"/>
                    </a:lnTo>
                    <a:lnTo>
                      <a:pt x="692" y="3006"/>
                    </a:lnTo>
                    <a:lnTo>
                      <a:pt x="721" y="2809"/>
                    </a:lnTo>
                    <a:lnTo>
                      <a:pt x="748" y="2613"/>
                    </a:lnTo>
                    <a:lnTo>
                      <a:pt x="775" y="2416"/>
                    </a:lnTo>
                    <a:lnTo>
                      <a:pt x="802" y="2221"/>
                    </a:lnTo>
                    <a:lnTo>
                      <a:pt x="829" y="2025"/>
                    </a:lnTo>
                    <a:lnTo>
                      <a:pt x="858" y="1829"/>
                    </a:lnTo>
                    <a:lnTo>
                      <a:pt x="885" y="1633"/>
                    </a:lnTo>
                    <a:lnTo>
                      <a:pt x="913" y="1439"/>
                    </a:lnTo>
                    <a:lnTo>
                      <a:pt x="940" y="1243"/>
                    </a:lnTo>
                    <a:lnTo>
                      <a:pt x="969" y="1049"/>
                    </a:lnTo>
                    <a:lnTo>
                      <a:pt x="996" y="854"/>
                    </a:lnTo>
                    <a:lnTo>
                      <a:pt x="1024" y="658"/>
                    </a:lnTo>
                    <a:lnTo>
                      <a:pt x="1051" y="464"/>
                    </a:lnTo>
                    <a:lnTo>
                      <a:pt x="1030" y="406"/>
                    </a:lnTo>
                    <a:lnTo>
                      <a:pt x="1009" y="347"/>
                    </a:lnTo>
                    <a:lnTo>
                      <a:pt x="987" y="289"/>
                    </a:lnTo>
                    <a:lnTo>
                      <a:pt x="966" y="231"/>
                    </a:lnTo>
                    <a:lnTo>
                      <a:pt x="945" y="173"/>
                    </a:lnTo>
                    <a:lnTo>
                      <a:pt x="924" y="116"/>
                    </a:lnTo>
                    <a:lnTo>
                      <a:pt x="903" y="58"/>
                    </a:lnTo>
                    <a:lnTo>
                      <a:pt x="883" y="0"/>
                    </a:lnTo>
                    <a:lnTo>
                      <a:pt x="856" y="193"/>
                    </a:lnTo>
                    <a:lnTo>
                      <a:pt x="828" y="388"/>
                    </a:lnTo>
                    <a:lnTo>
                      <a:pt x="800" y="581"/>
                    </a:lnTo>
                    <a:lnTo>
                      <a:pt x="773" y="775"/>
                    </a:lnTo>
                    <a:lnTo>
                      <a:pt x="746" y="969"/>
                    </a:lnTo>
                    <a:lnTo>
                      <a:pt x="718" y="1163"/>
                    </a:lnTo>
                    <a:lnTo>
                      <a:pt x="690" y="1358"/>
                    </a:lnTo>
                    <a:lnTo>
                      <a:pt x="663" y="1551"/>
                    </a:lnTo>
                    <a:lnTo>
                      <a:pt x="636" y="1747"/>
                    </a:lnTo>
                    <a:lnTo>
                      <a:pt x="609" y="1941"/>
                    </a:lnTo>
                    <a:lnTo>
                      <a:pt x="581" y="2137"/>
                    </a:lnTo>
                    <a:lnTo>
                      <a:pt x="554" y="2333"/>
                    </a:lnTo>
                    <a:lnTo>
                      <a:pt x="526" y="2527"/>
                    </a:lnTo>
                    <a:lnTo>
                      <a:pt x="499" y="2723"/>
                    </a:lnTo>
                    <a:lnTo>
                      <a:pt x="472" y="2917"/>
                    </a:lnTo>
                    <a:lnTo>
                      <a:pt x="444" y="3112"/>
                    </a:lnTo>
                    <a:lnTo>
                      <a:pt x="416" y="3307"/>
                    </a:lnTo>
                    <a:lnTo>
                      <a:pt x="389" y="3503"/>
                    </a:lnTo>
                    <a:lnTo>
                      <a:pt x="361" y="3699"/>
                    </a:lnTo>
                    <a:lnTo>
                      <a:pt x="332" y="3896"/>
                    </a:lnTo>
                    <a:lnTo>
                      <a:pt x="305" y="4092"/>
                    </a:lnTo>
                    <a:lnTo>
                      <a:pt x="277" y="4287"/>
                    </a:lnTo>
                    <a:lnTo>
                      <a:pt x="250" y="4484"/>
                    </a:lnTo>
                    <a:lnTo>
                      <a:pt x="223" y="4680"/>
                    </a:lnTo>
                    <a:lnTo>
                      <a:pt x="194" y="4877"/>
                    </a:lnTo>
                    <a:lnTo>
                      <a:pt x="167" y="5074"/>
                    </a:lnTo>
                    <a:lnTo>
                      <a:pt x="139" y="5271"/>
                    </a:lnTo>
                    <a:lnTo>
                      <a:pt x="111" y="5468"/>
                    </a:lnTo>
                    <a:lnTo>
                      <a:pt x="84" y="5665"/>
                    </a:lnTo>
                    <a:lnTo>
                      <a:pt x="55" y="5862"/>
                    </a:lnTo>
                    <a:lnTo>
                      <a:pt x="27" y="6059"/>
                    </a:lnTo>
                    <a:lnTo>
                      <a:pt x="0" y="6256"/>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390840" y="1505520"/>
                <a:ext cx="426960" cy="2126880"/>
              </a:xfrm>
              <a:custGeom>
                <a:avLst/>
                <a:gdLst/>
                <a:ahLst/>
                <a:rect l="l" t="t" r="r" b="b"/>
                <a:pathLst>
                  <a:path w="1145" h="7450">
                    <a:moveTo>
                      <a:pt x="968" y="0"/>
                    </a:moveTo>
                    <a:lnTo>
                      <a:pt x="991" y="59"/>
                    </a:lnTo>
                    <a:lnTo>
                      <a:pt x="1013" y="117"/>
                    </a:lnTo>
                    <a:lnTo>
                      <a:pt x="1034" y="176"/>
                    </a:lnTo>
                    <a:lnTo>
                      <a:pt x="1056" y="235"/>
                    </a:lnTo>
                    <a:lnTo>
                      <a:pt x="1078" y="295"/>
                    </a:lnTo>
                    <a:lnTo>
                      <a:pt x="1101" y="354"/>
                    </a:lnTo>
                    <a:lnTo>
                      <a:pt x="1123" y="411"/>
                    </a:lnTo>
                    <a:lnTo>
                      <a:pt x="1145" y="471"/>
                    </a:lnTo>
                    <a:lnTo>
                      <a:pt x="1115" y="687"/>
                    </a:lnTo>
                    <a:lnTo>
                      <a:pt x="1084" y="903"/>
                    </a:lnTo>
                    <a:lnTo>
                      <a:pt x="1054" y="1119"/>
                    </a:lnTo>
                    <a:lnTo>
                      <a:pt x="1024" y="1336"/>
                    </a:lnTo>
                    <a:lnTo>
                      <a:pt x="994" y="1553"/>
                    </a:lnTo>
                    <a:lnTo>
                      <a:pt x="963" y="1769"/>
                    </a:lnTo>
                    <a:lnTo>
                      <a:pt x="933" y="1986"/>
                    </a:lnTo>
                    <a:lnTo>
                      <a:pt x="903" y="2202"/>
                    </a:lnTo>
                    <a:lnTo>
                      <a:pt x="873" y="2420"/>
                    </a:lnTo>
                    <a:lnTo>
                      <a:pt x="842" y="2637"/>
                    </a:lnTo>
                    <a:lnTo>
                      <a:pt x="812" y="2855"/>
                    </a:lnTo>
                    <a:lnTo>
                      <a:pt x="782" y="3073"/>
                    </a:lnTo>
                    <a:lnTo>
                      <a:pt x="752" y="3289"/>
                    </a:lnTo>
                    <a:lnTo>
                      <a:pt x="722" y="3507"/>
                    </a:lnTo>
                    <a:lnTo>
                      <a:pt x="691" y="3725"/>
                    </a:lnTo>
                    <a:lnTo>
                      <a:pt x="661" y="3943"/>
                    </a:lnTo>
                    <a:lnTo>
                      <a:pt x="630" y="4161"/>
                    </a:lnTo>
                    <a:lnTo>
                      <a:pt x="600" y="4380"/>
                    </a:lnTo>
                    <a:lnTo>
                      <a:pt x="568" y="4598"/>
                    </a:lnTo>
                    <a:lnTo>
                      <a:pt x="538" y="4817"/>
                    </a:lnTo>
                    <a:lnTo>
                      <a:pt x="507" y="5036"/>
                    </a:lnTo>
                    <a:lnTo>
                      <a:pt x="477" y="5255"/>
                    </a:lnTo>
                    <a:lnTo>
                      <a:pt x="446" y="5473"/>
                    </a:lnTo>
                    <a:lnTo>
                      <a:pt x="416" y="5692"/>
                    </a:lnTo>
                    <a:lnTo>
                      <a:pt x="386" y="5911"/>
                    </a:lnTo>
                    <a:lnTo>
                      <a:pt x="356" y="6132"/>
                    </a:lnTo>
                    <a:lnTo>
                      <a:pt x="324" y="6351"/>
                    </a:lnTo>
                    <a:lnTo>
                      <a:pt x="294" y="6570"/>
                    </a:lnTo>
                    <a:lnTo>
                      <a:pt x="264" y="6790"/>
                    </a:lnTo>
                    <a:lnTo>
                      <a:pt x="233" y="7009"/>
                    </a:lnTo>
                    <a:lnTo>
                      <a:pt x="202" y="7230"/>
                    </a:lnTo>
                    <a:lnTo>
                      <a:pt x="171" y="7450"/>
                    </a:lnTo>
                    <a:lnTo>
                      <a:pt x="149" y="7385"/>
                    </a:lnTo>
                    <a:lnTo>
                      <a:pt x="128" y="7321"/>
                    </a:lnTo>
                    <a:lnTo>
                      <a:pt x="106" y="7257"/>
                    </a:lnTo>
                    <a:lnTo>
                      <a:pt x="84" y="7193"/>
                    </a:lnTo>
                    <a:lnTo>
                      <a:pt x="62" y="7129"/>
                    </a:lnTo>
                    <a:lnTo>
                      <a:pt x="41" y="7065"/>
                    </a:lnTo>
                    <a:lnTo>
                      <a:pt x="20" y="7001"/>
                    </a:lnTo>
                    <a:lnTo>
                      <a:pt x="0" y="6937"/>
                    </a:lnTo>
                    <a:lnTo>
                      <a:pt x="30" y="6718"/>
                    </a:lnTo>
                    <a:lnTo>
                      <a:pt x="60" y="6500"/>
                    </a:lnTo>
                    <a:lnTo>
                      <a:pt x="91" y="6281"/>
                    </a:lnTo>
                    <a:lnTo>
                      <a:pt x="121" y="6063"/>
                    </a:lnTo>
                    <a:lnTo>
                      <a:pt x="151" y="5844"/>
                    </a:lnTo>
                    <a:lnTo>
                      <a:pt x="181" y="5626"/>
                    </a:lnTo>
                    <a:lnTo>
                      <a:pt x="211" y="5408"/>
                    </a:lnTo>
                    <a:lnTo>
                      <a:pt x="242" y="5189"/>
                    </a:lnTo>
                    <a:lnTo>
                      <a:pt x="272" y="4971"/>
                    </a:lnTo>
                    <a:lnTo>
                      <a:pt x="303" y="4754"/>
                    </a:lnTo>
                    <a:lnTo>
                      <a:pt x="333" y="4536"/>
                    </a:lnTo>
                    <a:lnTo>
                      <a:pt x="364" y="4318"/>
                    </a:lnTo>
                    <a:lnTo>
                      <a:pt x="395" y="4101"/>
                    </a:lnTo>
                    <a:lnTo>
                      <a:pt x="425" y="3884"/>
                    </a:lnTo>
                    <a:lnTo>
                      <a:pt x="455" y="3666"/>
                    </a:lnTo>
                    <a:lnTo>
                      <a:pt x="486" y="3449"/>
                    </a:lnTo>
                    <a:lnTo>
                      <a:pt x="516" y="3233"/>
                    </a:lnTo>
                    <a:lnTo>
                      <a:pt x="546" y="3016"/>
                    </a:lnTo>
                    <a:lnTo>
                      <a:pt x="576" y="2800"/>
                    </a:lnTo>
                    <a:lnTo>
                      <a:pt x="607" y="2584"/>
                    </a:lnTo>
                    <a:lnTo>
                      <a:pt x="637" y="2367"/>
                    </a:lnTo>
                    <a:lnTo>
                      <a:pt x="667" y="2151"/>
                    </a:lnTo>
                    <a:lnTo>
                      <a:pt x="697" y="1935"/>
                    </a:lnTo>
                    <a:lnTo>
                      <a:pt x="728" y="1720"/>
                    </a:lnTo>
                    <a:lnTo>
                      <a:pt x="758" y="1505"/>
                    </a:lnTo>
                    <a:lnTo>
                      <a:pt x="788" y="1289"/>
                    </a:lnTo>
                    <a:lnTo>
                      <a:pt x="817" y="1075"/>
                    </a:lnTo>
                    <a:lnTo>
                      <a:pt x="848" y="860"/>
                    </a:lnTo>
                    <a:lnTo>
                      <a:pt x="878" y="644"/>
                    </a:lnTo>
                    <a:lnTo>
                      <a:pt x="908" y="430"/>
                    </a:lnTo>
                    <a:lnTo>
                      <a:pt x="938" y="215"/>
                    </a:lnTo>
                    <a:lnTo>
                      <a:pt x="968"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90840" y="1505520"/>
                <a:ext cx="426960" cy="2126880"/>
              </a:xfrm>
              <a:custGeom>
                <a:avLst/>
                <a:gdLst/>
                <a:ahLst/>
                <a:rect l="l" t="t" r="r" b="b"/>
                <a:pathLst>
                  <a:path w="1145" h="7450">
                    <a:moveTo>
                      <a:pt x="968" y="0"/>
                    </a:moveTo>
                    <a:lnTo>
                      <a:pt x="991" y="59"/>
                    </a:lnTo>
                    <a:lnTo>
                      <a:pt x="1013" y="117"/>
                    </a:lnTo>
                    <a:lnTo>
                      <a:pt x="1034" y="176"/>
                    </a:lnTo>
                    <a:lnTo>
                      <a:pt x="1056" y="235"/>
                    </a:lnTo>
                    <a:lnTo>
                      <a:pt x="1078" y="295"/>
                    </a:lnTo>
                    <a:lnTo>
                      <a:pt x="1101" y="354"/>
                    </a:lnTo>
                    <a:lnTo>
                      <a:pt x="1123" y="411"/>
                    </a:lnTo>
                    <a:lnTo>
                      <a:pt x="1145" y="471"/>
                    </a:lnTo>
                    <a:lnTo>
                      <a:pt x="1115" y="687"/>
                    </a:lnTo>
                    <a:lnTo>
                      <a:pt x="1084" y="903"/>
                    </a:lnTo>
                    <a:lnTo>
                      <a:pt x="1054" y="1119"/>
                    </a:lnTo>
                    <a:lnTo>
                      <a:pt x="1024" y="1336"/>
                    </a:lnTo>
                    <a:lnTo>
                      <a:pt x="994" y="1553"/>
                    </a:lnTo>
                    <a:lnTo>
                      <a:pt x="963" y="1769"/>
                    </a:lnTo>
                    <a:lnTo>
                      <a:pt x="933" y="1986"/>
                    </a:lnTo>
                    <a:lnTo>
                      <a:pt x="903" y="2202"/>
                    </a:lnTo>
                    <a:lnTo>
                      <a:pt x="873" y="2420"/>
                    </a:lnTo>
                    <a:lnTo>
                      <a:pt x="842" y="2637"/>
                    </a:lnTo>
                    <a:lnTo>
                      <a:pt x="812" y="2855"/>
                    </a:lnTo>
                    <a:lnTo>
                      <a:pt x="782" y="3073"/>
                    </a:lnTo>
                    <a:lnTo>
                      <a:pt x="752" y="3289"/>
                    </a:lnTo>
                    <a:lnTo>
                      <a:pt x="722" y="3507"/>
                    </a:lnTo>
                    <a:lnTo>
                      <a:pt x="691" y="3725"/>
                    </a:lnTo>
                    <a:lnTo>
                      <a:pt x="661" y="3943"/>
                    </a:lnTo>
                    <a:lnTo>
                      <a:pt x="630" y="4161"/>
                    </a:lnTo>
                    <a:lnTo>
                      <a:pt x="600" y="4380"/>
                    </a:lnTo>
                    <a:lnTo>
                      <a:pt x="568" y="4598"/>
                    </a:lnTo>
                    <a:lnTo>
                      <a:pt x="538" y="4817"/>
                    </a:lnTo>
                    <a:lnTo>
                      <a:pt x="507" y="5036"/>
                    </a:lnTo>
                    <a:lnTo>
                      <a:pt x="477" y="5255"/>
                    </a:lnTo>
                    <a:lnTo>
                      <a:pt x="446" y="5473"/>
                    </a:lnTo>
                    <a:lnTo>
                      <a:pt x="416" y="5692"/>
                    </a:lnTo>
                    <a:lnTo>
                      <a:pt x="386" y="5911"/>
                    </a:lnTo>
                    <a:lnTo>
                      <a:pt x="356" y="6132"/>
                    </a:lnTo>
                    <a:lnTo>
                      <a:pt x="324" y="6351"/>
                    </a:lnTo>
                    <a:lnTo>
                      <a:pt x="294" y="6570"/>
                    </a:lnTo>
                    <a:lnTo>
                      <a:pt x="264" y="6790"/>
                    </a:lnTo>
                    <a:lnTo>
                      <a:pt x="233" y="7009"/>
                    </a:lnTo>
                    <a:lnTo>
                      <a:pt x="202" y="7230"/>
                    </a:lnTo>
                    <a:lnTo>
                      <a:pt x="171" y="7450"/>
                    </a:lnTo>
                    <a:lnTo>
                      <a:pt x="149" y="7385"/>
                    </a:lnTo>
                    <a:lnTo>
                      <a:pt x="128" y="7321"/>
                    </a:lnTo>
                    <a:lnTo>
                      <a:pt x="106" y="7257"/>
                    </a:lnTo>
                    <a:lnTo>
                      <a:pt x="84" y="7193"/>
                    </a:lnTo>
                    <a:lnTo>
                      <a:pt x="62" y="7129"/>
                    </a:lnTo>
                    <a:lnTo>
                      <a:pt x="41" y="7065"/>
                    </a:lnTo>
                    <a:lnTo>
                      <a:pt x="20" y="7001"/>
                    </a:lnTo>
                    <a:lnTo>
                      <a:pt x="0" y="6937"/>
                    </a:lnTo>
                    <a:lnTo>
                      <a:pt x="30" y="6718"/>
                    </a:lnTo>
                    <a:lnTo>
                      <a:pt x="60" y="6500"/>
                    </a:lnTo>
                    <a:lnTo>
                      <a:pt x="91" y="6281"/>
                    </a:lnTo>
                    <a:lnTo>
                      <a:pt x="121" y="6063"/>
                    </a:lnTo>
                    <a:lnTo>
                      <a:pt x="151" y="5844"/>
                    </a:lnTo>
                    <a:lnTo>
                      <a:pt x="181" y="5626"/>
                    </a:lnTo>
                    <a:lnTo>
                      <a:pt x="211" y="5408"/>
                    </a:lnTo>
                    <a:lnTo>
                      <a:pt x="242" y="5189"/>
                    </a:lnTo>
                    <a:lnTo>
                      <a:pt x="272" y="4971"/>
                    </a:lnTo>
                    <a:lnTo>
                      <a:pt x="303" y="4754"/>
                    </a:lnTo>
                    <a:lnTo>
                      <a:pt x="333" y="4536"/>
                    </a:lnTo>
                    <a:lnTo>
                      <a:pt x="364" y="4318"/>
                    </a:lnTo>
                    <a:lnTo>
                      <a:pt x="395" y="4101"/>
                    </a:lnTo>
                    <a:lnTo>
                      <a:pt x="425" y="3884"/>
                    </a:lnTo>
                    <a:lnTo>
                      <a:pt x="455" y="3666"/>
                    </a:lnTo>
                    <a:lnTo>
                      <a:pt x="486" y="3449"/>
                    </a:lnTo>
                    <a:lnTo>
                      <a:pt x="516" y="3233"/>
                    </a:lnTo>
                    <a:lnTo>
                      <a:pt x="546" y="3016"/>
                    </a:lnTo>
                    <a:lnTo>
                      <a:pt x="576" y="2800"/>
                    </a:lnTo>
                    <a:lnTo>
                      <a:pt x="607" y="2584"/>
                    </a:lnTo>
                    <a:lnTo>
                      <a:pt x="637" y="2367"/>
                    </a:lnTo>
                    <a:lnTo>
                      <a:pt x="667" y="2151"/>
                    </a:lnTo>
                    <a:lnTo>
                      <a:pt x="697" y="1935"/>
                    </a:lnTo>
                    <a:lnTo>
                      <a:pt x="728" y="1720"/>
                    </a:lnTo>
                    <a:lnTo>
                      <a:pt x="758" y="1505"/>
                    </a:lnTo>
                    <a:lnTo>
                      <a:pt x="788" y="1289"/>
                    </a:lnTo>
                    <a:lnTo>
                      <a:pt x="817" y="1075"/>
                    </a:lnTo>
                    <a:lnTo>
                      <a:pt x="848" y="860"/>
                    </a:lnTo>
                    <a:lnTo>
                      <a:pt x="878" y="644"/>
                    </a:lnTo>
                    <a:lnTo>
                      <a:pt x="908" y="430"/>
                    </a:lnTo>
                    <a:lnTo>
                      <a:pt x="938" y="215"/>
                    </a:lnTo>
                    <a:lnTo>
                      <a:pt x="96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993760" y="3378240"/>
                <a:ext cx="461160" cy="253800"/>
              </a:xfrm>
              <a:custGeom>
                <a:avLst/>
                <a:gdLst/>
                <a:ahLst/>
                <a:rect l="l" t="t" r="r" b="b"/>
                <a:pathLst>
                  <a:path w="1235" h="890">
                    <a:moveTo>
                      <a:pt x="1064" y="377"/>
                    </a:moveTo>
                    <a:lnTo>
                      <a:pt x="1084" y="441"/>
                    </a:lnTo>
                    <a:lnTo>
                      <a:pt x="1105" y="505"/>
                    </a:lnTo>
                    <a:lnTo>
                      <a:pt x="1126" y="569"/>
                    </a:lnTo>
                    <a:lnTo>
                      <a:pt x="1148" y="633"/>
                    </a:lnTo>
                    <a:lnTo>
                      <a:pt x="1170" y="697"/>
                    </a:lnTo>
                    <a:lnTo>
                      <a:pt x="1192" y="761"/>
                    </a:lnTo>
                    <a:lnTo>
                      <a:pt x="1213" y="825"/>
                    </a:lnTo>
                    <a:lnTo>
                      <a:pt x="1235" y="890"/>
                    </a:lnTo>
                    <a:lnTo>
                      <a:pt x="1099" y="841"/>
                    </a:lnTo>
                    <a:lnTo>
                      <a:pt x="964" y="792"/>
                    </a:lnTo>
                    <a:lnTo>
                      <a:pt x="829" y="742"/>
                    </a:lnTo>
                    <a:lnTo>
                      <a:pt x="695" y="694"/>
                    </a:lnTo>
                    <a:lnTo>
                      <a:pt x="562" y="645"/>
                    </a:lnTo>
                    <a:lnTo>
                      <a:pt x="429" y="597"/>
                    </a:lnTo>
                    <a:lnTo>
                      <a:pt x="296" y="549"/>
                    </a:lnTo>
                    <a:lnTo>
                      <a:pt x="164" y="501"/>
                    </a:lnTo>
                    <a:lnTo>
                      <a:pt x="143" y="438"/>
                    </a:lnTo>
                    <a:lnTo>
                      <a:pt x="122" y="375"/>
                    </a:lnTo>
                    <a:lnTo>
                      <a:pt x="102" y="313"/>
                    </a:lnTo>
                    <a:lnTo>
                      <a:pt x="82" y="250"/>
                    </a:lnTo>
                    <a:lnTo>
                      <a:pt x="61" y="187"/>
                    </a:lnTo>
                    <a:lnTo>
                      <a:pt x="41" y="126"/>
                    </a:lnTo>
                    <a:lnTo>
                      <a:pt x="21" y="63"/>
                    </a:lnTo>
                    <a:lnTo>
                      <a:pt x="0" y="0"/>
                    </a:lnTo>
                    <a:lnTo>
                      <a:pt x="131" y="47"/>
                    </a:lnTo>
                    <a:lnTo>
                      <a:pt x="262" y="92"/>
                    </a:lnTo>
                    <a:lnTo>
                      <a:pt x="394" y="139"/>
                    </a:lnTo>
                    <a:lnTo>
                      <a:pt x="527" y="187"/>
                    </a:lnTo>
                    <a:lnTo>
                      <a:pt x="660" y="234"/>
                    </a:lnTo>
                    <a:lnTo>
                      <a:pt x="794" y="281"/>
                    </a:lnTo>
                    <a:lnTo>
                      <a:pt x="929" y="329"/>
                    </a:lnTo>
                    <a:lnTo>
                      <a:pt x="1064" y="3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993760" y="3378240"/>
                <a:ext cx="461160" cy="253800"/>
              </a:xfrm>
              <a:custGeom>
                <a:avLst/>
                <a:gdLst/>
                <a:ahLst/>
                <a:rect l="l" t="t" r="r" b="b"/>
                <a:pathLst>
                  <a:path w="1235" h="890">
                    <a:moveTo>
                      <a:pt x="1064" y="377"/>
                    </a:moveTo>
                    <a:lnTo>
                      <a:pt x="1084" y="441"/>
                    </a:lnTo>
                    <a:lnTo>
                      <a:pt x="1105" y="505"/>
                    </a:lnTo>
                    <a:lnTo>
                      <a:pt x="1126" y="569"/>
                    </a:lnTo>
                    <a:lnTo>
                      <a:pt x="1148" y="633"/>
                    </a:lnTo>
                    <a:lnTo>
                      <a:pt x="1170" y="697"/>
                    </a:lnTo>
                    <a:lnTo>
                      <a:pt x="1192" y="761"/>
                    </a:lnTo>
                    <a:lnTo>
                      <a:pt x="1213" y="825"/>
                    </a:lnTo>
                    <a:lnTo>
                      <a:pt x="1235" y="890"/>
                    </a:lnTo>
                    <a:lnTo>
                      <a:pt x="1099" y="841"/>
                    </a:lnTo>
                    <a:lnTo>
                      <a:pt x="964" y="792"/>
                    </a:lnTo>
                    <a:lnTo>
                      <a:pt x="829" y="742"/>
                    </a:lnTo>
                    <a:lnTo>
                      <a:pt x="695" y="694"/>
                    </a:lnTo>
                    <a:lnTo>
                      <a:pt x="562" y="645"/>
                    </a:lnTo>
                    <a:lnTo>
                      <a:pt x="429" y="597"/>
                    </a:lnTo>
                    <a:lnTo>
                      <a:pt x="296" y="549"/>
                    </a:lnTo>
                    <a:lnTo>
                      <a:pt x="164" y="501"/>
                    </a:lnTo>
                    <a:lnTo>
                      <a:pt x="143" y="438"/>
                    </a:lnTo>
                    <a:lnTo>
                      <a:pt x="122" y="375"/>
                    </a:lnTo>
                    <a:lnTo>
                      <a:pt x="102" y="313"/>
                    </a:lnTo>
                    <a:lnTo>
                      <a:pt x="82" y="250"/>
                    </a:lnTo>
                    <a:lnTo>
                      <a:pt x="61" y="187"/>
                    </a:lnTo>
                    <a:lnTo>
                      <a:pt x="41" y="126"/>
                    </a:lnTo>
                    <a:lnTo>
                      <a:pt x="21" y="63"/>
                    </a:lnTo>
                    <a:lnTo>
                      <a:pt x="0" y="0"/>
                    </a:lnTo>
                    <a:lnTo>
                      <a:pt x="131" y="47"/>
                    </a:lnTo>
                    <a:lnTo>
                      <a:pt x="262" y="92"/>
                    </a:lnTo>
                    <a:lnTo>
                      <a:pt x="394" y="139"/>
                    </a:lnTo>
                    <a:lnTo>
                      <a:pt x="527" y="187"/>
                    </a:lnTo>
                    <a:lnTo>
                      <a:pt x="660" y="234"/>
                    </a:lnTo>
                    <a:lnTo>
                      <a:pt x="794" y="281"/>
                    </a:lnTo>
                    <a:lnTo>
                      <a:pt x="929" y="329"/>
                    </a:lnTo>
                    <a:lnTo>
                      <a:pt x="1064" y="377"/>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93760" y="1439640"/>
                <a:ext cx="758160" cy="2045520"/>
              </a:xfrm>
              <a:custGeom>
                <a:avLst/>
                <a:gdLst/>
                <a:ahLst/>
                <a:rect l="l" t="t" r="r" b="b"/>
                <a:pathLst>
                  <a:path w="2032" h="7166">
                    <a:moveTo>
                      <a:pt x="960" y="0"/>
                    </a:moveTo>
                    <a:lnTo>
                      <a:pt x="1092" y="27"/>
                    </a:lnTo>
                    <a:lnTo>
                      <a:pt x="1225" y="56"/>
                    </a:lnTo>
                    <a:lnTo>
                      <a:pt x="1358" y="85"/>
                    </a:lnTo>
                    <a:lnTo>
                      <a:pt x="1492" y="114"/>
                    </a:lnTo>
                    <a:lnTo>
                      <a:pt x="1626" y="142"/>
                    </a:lnTo>
                    <a:lnTo>
                      <a:pt x="1761" y="171"/>
                    </a:lnTo>
                    <a:lnTo>
                      <a:pt x="1897" y="200"/>
                    </a:lnTo>
                    <a:lnTo>
                      <a:pt x="2032" y="229"/>
                    </a:lnTo>
                    <a:lnTo>
                      <a:pt x="2002" y="444"/>
                    </a:lnTo>
                    <a:lnTo>
                      <a:pt x="1972" y="659"/>
                    </a:lnTo>
                    <a:lnTo>
                      <a:pt x="1942" y="873"/>
                    </a:lnTo>
                    <a:lnTo>
                      <a:pt x="1912" y="1089"/>
                    </a:lnTo>
                    <a:lnTo>
                      <a:pt x="1881" y="1304"/>
                    </a:lnTo>
                    <a:lnTo>
                      <a:pt x="1852" y="1518"/>
                    </a:lnTo>
                    <a:lnTo>
                      <a:pt x="1822" y="1734"/>
                    </a:lnTo>
                    <a:lnTo>
                      <a:pt x="1792" y="1949"/>
                    </a:lnTo>
                    <a:lnTo>
                      <a:pt x="1761" y="2164"/>
                    </a:lnTo>
                    <a:lnTo>
                      <a:pt x="1731" y="2380"/>
                    </a:lnTo>
                    <a:lnTo>
                      <a:pt x="1701" y="2596"/>
                    </a:lnTo>
                    <a:lnTo>
                      <a:pt x="1671" y="2813"/>
                    </a:lnTo>
                    <a:lnTo>
                      <a:pt x="1640" y="3029"/>
                    </a:lnTo>
                    <a:lnTo>
                      <a:pt x="1610" y="3245"/>
                    </a:lnTo>
                    <a:lnTo>
                      <a:pt x="1580" y="3462"/>
                    </a:lnTo>
                    <a:lnTo>
                      <a:pt x="1550" y="3678"/>
                    </a:lnTo>
                    <a:lnTo>
                      <a:pt x="1519" y="3895"/>
                    </a:lnTo>
                    <a:lnTo>
                      <a:pt x="1489" y="4113"/>
                    </a:lnTo>
                    <a:lnTo>
                      <a:pt x="1459" y="4330"/>
                    </a:lnTo>
                    <a:lnTo>
                      <a:pt x="1428" y="4547"/>
                    </a:lnTo>
                    <a:lnTo>
                      <a:pt x="1397" y="4765"/>
                    </a:lnTo>
                    <a:lnTo>
                      <a:pt x="1367" y="4983"/>
                    </a:lnTo>
                    <a:lnTo>
                      <a:pt x="1336" y="5200"/>
                    </a:lnTo>
                    <a:lnTo>
                      <a:pt x="1306" y="5418"/>
                    </a:lnTo>
                    <a:lnTo>
                      <a:pt x="1275" y="5637"/>
                    </a:lnTo>
                    <a:lnTo>
                      <a:pt x="1245" y="5855"/>
                    </a:lnTo>
                    <a:lnTo>
                      <a:pt x="1215" y="6073"/>
                    </a:lnTo>
                    <a:lnTo>
                      <a:pt x="1185" y="6292"/>
                    </a:lnTo>
                    <a:lnTo>
                      <a:pt x="1155" y="6510"/>
                    </a:lnTo>
                    <a:lnTo>
                      <a:pt x="1124" y="6729"/>
                    </a:lnTo>
                    <a:lnTo>
                      <a:pt x="1094" y="6947"/>
                    </a:lnTo>
                    <a:lnTo>
                      <a:pt x="1064" y="7166"/>
                    </a:lnTo>
                    <a:lnTo>
                      <a:pt x="929" y="7118"/>
                    </a:lnTo>
                    <a:lnTo>
                      <a:pt x="794" y="7070"/>
                    </a:lnTo>
                    <a:lnTo>
                      <a:pt x="660" y="7023"/>
                    </a:lnTo>
                    <a:lnTo>
                      <a:pt x="527" y="6976"/>
                    </a:lnTo>
                    <a:lnTo>
                      <a:pt x="394" y="6928"/>
                    </a:lnTo>
                    <a:lnTo>
                      <a:pt x="262" y="6881"/>
                    </a:lnTo>
                    <a:lnTo>
                      <a:pt x="131" y="6836"/>
                    </a:lnTo>
                    <a:lnTo>
                      <a:pt x="0" y="6789"/>
                    </a:lnTo>
                    <a:lnTo>
                      <a:pt x="31" y="6576"/>
                    </a:lnTo>
                    <a:lnTo>
                      <a:pt x="61" y="6362"/>
                    </a:lnTo>
                    <a:lnTo>
                      <a:pt x="91" y="6148"/>
                    </a:lnTo>
                    <a:lnTo>
                      <a:pt x="121" y="5934"/>
                    </a:lnTo>
                    <a:lnTo>
                      <a:pt x="151" y="5719"/>
                    </a:lnTo>
                    <a:lnTo>
                      <a:pt x="181" y="5506"/>
                    </a:lnTo>
                    <a:lnTo>
                      <a:pt x="211" y="5292"/>
                    </a:lnTo>
                    <a:lnTo>
                      <a:pt x="241" y="5079"/>
                    </a:lnTo>
                    <a:lnTo>
                      <a:pt x="272" y="4865"/>
                    </a:lnTo>
                    <a:lnTo>
                      <a:pt x="302" y="4652"/>
                    </a:lnTo>
                    <a:lnTo>
                      <a:pt x="331" y="4439"/>
                    </a:lnTo>
                    <a:lnTo>
                      <a:pt x="361" y="4226"/>
                    </a:lnTo>
                    <a:lnTo>
                      <a:pt x="391" y="4013"/>
                    </a:lnTo>
                    <a:lnTo>
                      <a:pt x="422" y="3800"/>
                    </a:lnTo>
                    <a:lnTo>
                      <a:pt x="452" y="3587"/>
                    </a:lnTo>
                    <a:lnTo>
                      <a:pt x="482" y="3376"/>
                    </a:lnTo>
                    <a:lnTo>
                      <a:pt x="512" y="3164"/>
                    </a:lnTo>
                    <a:lnTo>
                      <a:pt x="543" y="2952"/>
                    </a:lnTo>
                    <a:lnTo>
                      <a:pt x="573" y="2740"/>
                    </a:lnTo>
                    <a:lnTo>
                      <a:pt x="602" y="2529"/>
                    </a:lnTo>
                    <a:lnTo>
                      <a:pt x="632" y="2317"/>
                    </a:lnTo>
                    <a:lnTo>
                      <a:pt x="663" y="2105"/>
                    </a:lnTo>
                    <a:lnTo>
                      <a:pt x="692" y="1894"/>
                    </a:lnTo>
                    <a:lnTo>
                      <a:pt x="722" y="1683"/>
                    </a:lnTo>
                    <a:lnTo>
                      <a:pt x="751" y="1473"/>
                    </a:lnTo>
                    <a:lnTo>
                      <a:pt x="782" y="1262"/>
                    </a:lnTo>
                    <a:lnTo>
                      <a:pt x="812" y="1052"/>
                    </a:lnTo>
                    <a:lnTo>
                      <a:pt x="841" y="841"/>
                    </a:lnTo>
                    <a:lnTo>
                      <a:pt x="871" y="631"/>
                    </a:lnTo>
                    <a:lnTo>
                      <a:pt x="902" y="420"/>
                    </a:lnTo>
                    <a:lnTo>
                      <a:pt x="931" y="210"/>
                    </a:lnTo>
                    <a:lnTo>
                      <a:pt x="960" y="0"/>
                    </a:lnTo>
                    <a:close/>
                    <a:moveTo>
                      <a:pt x="1072" y="307"/>
                    </a:moveTo>
                    <a:lnTo>
                      <a:pt x="1167" y="328"/>
                    </a:lnTo>
                    <a:lnTo>
                      <a:pt x="1261" y="349"/>
                    </a:lnTo>
                    <a:lnTo>
                      <a:pt x="1357" y="370"/>
                    </a:lnTo>
                    <a:lnTo>
                      <a:pt x="1453" y="391"/>
                    </a:lnTo>
                    <a:lnTo>
                      <a:pt x="1549" y="412"/>
                    </a:lnTo>
                    <a:lnTo>
                      <a:pt x="1644" y="432"/>
                    </a:lnTo>
                    <a:lnTo>
                      <a:pt x="1741" y="453"/>
                    </a:lnTo>
                    <a:lnTo>
                      <a:pt x="1838" y="476"/>
                    </a:lnTo>
                    <a:lnTo>
                      <a:pt x="1811" y="671"/>
                    </a:lnTo>
                    <a:lnTo>
                      <a:pt x="1782" y="868"/>
                    </a:lnTo>
                    <a:lnTo>
                      <a:pt x="1754" y="1065"/>
                    </a:lnTo>
                    <a:lnTo>
                      <a:pt x="1727" y="1262"/>
                    </a:lnTo>
                    <a:lnTo>
                      <a:pt x="1699" y="1459"/>
                    </a:lnTo>
                    <a:lnTo>
                      <a:pt x="1672" y="1657"/>
                    </a:lnTo>
                    <a:lnTo>
                      <a:pt x="1643" y="1854"/>
                    </a:lnTo>
                    <a:lnTo>
                      <a:pt x="1616" y="2051"/>
                    </a:lnTo>
                    <a:lnTo>
                      <a:pt x="1589" y="2249"/>
                    </a:lnTo>
                    <a:lnTo>
                      <a:pt x="1561" y="2447"/>
                    </a:lnTo>
                    <a:lnTo>
                      <a:pt x="1534" y="2646"/>
                    </a:lnTo>
                    <a:lnTo>
                      <a:pt x="1506" y="2844"/>
                    </a:lnTo>
                    <a:lnTo>
                      <a:pt x="1478" y="3042"/>
                    </a:lnTo>
                    <a:lnTo>
                      <a:pt x="1451" y="3240"/>
                    </a:lnTo>
                    <a:lnTo>
                      <a:pt x="1423" y="3438"/>
                    </a:lnTo>
                    <a:lnTo>
                      <a:pt x="1394" y="3637"/>
                    </a:lnTo>
                    <a:lnTo>
                      <a:pt x="1366" y="3835"/>
                    </a:lnTo>
                    <a:lnTo>
                      <a:pt x="1338" y="4034"/>
                    </a:lnTo>
                    <a:lnTo>
                      <a:pt x="1311" y="4232"/>
                    </a:lnTo>
                    <a:lnTo>
                      <a:pt x="1283" y="4432"/>
                    </a:lnTo>
                    <a:lnTo>
                      <a:pt x="1254" y="4630"/>
                    </a:lnTo>
                    <a:lnTo>
                      <a:pt x="1227" y="4829"/>
                    </a:lnTo>
                    <a:lnTo>
                      <a:pt x="1200" y="5029"/>
                    </a:lnTo>
                    <a:lnTo>
                      <a:pt x="1172" y="5227"/>
                    </a:lnTo>
                    <a:lnTo>
                      <a:pt x="1144" y="5428"/>
                    </a:lnTo>
                    <a:lnTo>
                      <a:pt x="1116" y="5627"/>
                    </a:lnTo>
                    <a:lnTo>
                      <a:pt x="1088" y="5826"/>
                    </a:lnTo>
                    <a:lnTo>
                      <a:pt x="1061" y="6027"/>
                    </a:lnTo>
                    <a:lnTo>
                      <a:pt x="1033" y="6227"/>
                    </a:lnTo>
                    <a:lnTo>
                      <a:pt x="1004" y="6427"/>
                    </a:lnTo>
                    <a:lnTo>
                      <a:pt x="976" y="6627"/>
                    </a:lnTo>
                    <a:lnTo>
                      <a:pt x="948" y="6827"/>
                    </a:lnTo>
                    <a:lnTo>
                      <a:pt x="852" y="6793"/>
                    </a:lnTo>
                    <a:lnTo>
                      <a:pt x="756" y="6760"/>
                    </a:lnTo>
                    <a:lnTo>
                      <a:pt x="661" y="6726"/>
                    </a:lnTo>
                    <a:lnTo>
                      <a:pt x="566" y="6693"/>
                    </a:lnTo>
                    <a:lnTo>
                      <a:pt x="471" y="6661"/>
                    </a:lnTo>
                    <a:lnTo>
                      <a:pt x="376" y="6628"/>
                    </a:lnTo>
                    <a:lnTo>
                      <a:pt x="283" y="6596"/>
                    </a:lnTo>
                    <a:lnTo>
                      <a:pt x="189" y="6563"/>
                    </a:lnTo>
                    <a:lnTo>
                      <a:pt x="216" y="6366"/>
                    </a:lnTo>
                    <a:lnTo>
                      <a:pt x="244" y="6169"/>
                    </a:lnTo>
                    <a:lnTo>
                      <a:pt x="273" y="5972"/>
                    </a:lnTo>
                    <a:lnTo>
                      <a:pt x="300" y="5775"/>
                    </a:lnTo>
                    <a:lnTo>
                      <a:pt x="328" y="5578"/>
                    </a:lnTo>
                    <a:lnTo>
                      <a:pt x="356" y="5381"/>
                    </a:lnTo>
                    <a:lnTo>
                      <a:pt x="383" y="5184"/>
                    </a:lnTo>
                    <a:lnTo>
                      <a:pt x="412" y="4987"/>
                    </a:lnTo>
                    <a:lnTo>
                      <a:pt x="439" y="4791"/>
                    </a:lnTo>
                    <a:lnTo>
                      <a:pt x="466" y="4594"/>
                    </a:lnTo>
                    <a:lnTo>
                      <a:pt x="494" y="4399"/>
                    </a:lnTo>
                    <a:lnTo>
                      <a:pt x="521" y="4203"/>
                    </a:lnTo>
                    <a:lnTo>
                      <a:pt x="550" y="4006"/>
                    </a:lnTo>
                    <a:lnTo>
                      <a:pt x="578" y="3810"/>
                    </a:lnTo>
                    <a:lnTo>
                      <a:pt x="605" y="3614"/>
                    </a:lnTo>
                    <a:lnTo>
                      <a:pt x="633" y="3419"/>
                    </a:lnTo>
                    <a:lnTo>
                      <a:pt x="661" y="3224"/>
                    </a:lnTo>
                    <a:lnTo>
                      <a:pt x="688" y="3030"/>
                    </a:lnTo>
                    <a:lnTo>
                      <a:pt x="715" y="2834"/>
                    </a:lnTo>
                    <a:lnTo>
                      <a:pt x="743" y="2640"/>
                    </a:lnTo>
                    <a:lnTo>
                      <a:pt x="770" y="2444"/>
                    </a:lnTo>
                    <a:lnTo>
                      <a:pt x="798" y="2248"/>
                    </a:lnTo>
                    <a:lnTo>
                      <a:pt x="825" y="2054"/>
                    </a:lnTo>
                    <a:lnTo>
                      <a:pt x="852" y="1858"/>
                    </a:lnTo>
                    <a:lnTo>
                      <a:pt x="879" y="1665"/>
                    </a:lnTo>
                    <a:lnTo>
                      <a:pt x="907" y="1470"/>
                    </a:lnTo>
                    <a:lnTo>
                      <a:pt x="935" y="1276"/>
                    </a:lnTo>
                    <a:lnTo>
                      <a:pt x="962" y="1082"/>
                    </a:lnTo>
                    <a:lnTo>
                      <a:pt x="989" y="888"/>
                    </a:lnTo>
                    <a:lnTo>
                      <a:pt x="1017" y="695"/>
                    </a:lnTo>
                    <a:lnTo>
                      <a:pt x="1045" y="500"/>
                    </a:lnTo>
                    <a:lnTo>
                      <a:pt x="1072" y="307"/>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993760" y="1439640"/>
                <a:ext cx="758160" cy="2045520"/>
              </a:xfrm>
              <a:custGeom>
                <a:avLst/>
                <a:gdLst/>
                <a:ahLst/>
                <a:rect l="l" t="t" r="r" b="b"/>
                <a:pathLst>
                  <a:path w="2032" h="7166">
                    <a:moveTo>
                      <a:pt x="960" y="0"/>
                    </a:moveTo>
                    <a:lnTo>
                      <a:pt x="1092" y="27"/>
                    </a:lnTo>
                    <a:lnTo>
                      <a:pt x="1225" y="56"/>
                    </a:lnTo>
                    <a:lnTo>
                      <a:pt x="1358" y="85"/>
                    </a:lnTo>
                    <a:lnTo>
                      <a:pt x="1492" y="114"/>
                    </a:lnTo>
                    <a:lnTo>
                      <a:pt x="1626" y="142"/>
                    </a:lnTo>
                    <a:lnTo>
                      <a:pt x="1761" y="171"/>
                    </a:lnTo>
                    <a:lnTo>
                      <a:pt x="1897" y="200"/>
                    </a:lnTo>
                    <a:lnTo>
                      <a:pt x="2032" y="229"/>
                    </a:lnTo>
                    <a:lnTo>
                      <a:pt x="2002" y="444"/>
                    </a:lnTo>
                    <a:lnTo>
                      <a:pt x="1972" y="659"/>
                    </a:lnTo>
                    <a:lnTo>
                      <a:pt x="1942" y="873"/>
                    </a:lnTo>
                    <a:lnTo>
                      <a:pt x="1912" y="1089"/>
                    </a:lnTo>
                    <a:lnTo>
                      <a:pt x="1881" y="1304"/>
                    </a:lnTo>
                    <a:lnTo>
                      <a:pt x="1852" y="1518"/>
                    </a:lnTo>
                    <a:lnTo>
                      <a:pt x="1822" y="1734"/>
                    </a:lnTo>
                    <a:lnTo>
                      <a:pt x="1792" y="1949"/>
                    </a:lnTo>
                    <a:lnTo>
                      <a:pt x="1761" y="2164"/>
                    </a:lnTo>
                    <a:lnTo>
                      <a:pt x="1731" y="2380"/>
                    </a:lnTo>
                    <a:lnTo>
                      <a:pt x="1701" y="2596"/>
                    </a:lnTo>
                    <a:lnTo>
                      <a:pt x="1671" y="2813"/>
                    </a:lnTo>
                    <a:lnTo>
                      <a:pt x="1640" y="3029"/>
                    </a:lnTo>
                    <a:lnTo>
                      <a:pt x="1610" y="3245"/>
                    </a:lnTo>
                    <a:lnTo>
                      <a:pt x="1580" y="3462"/>
                    </a:lnTo>
                    <a:lnTo>
                      <a:pt x="1550" y="3678"/>
                    </a:lnTo>
                    <a:lnTo>
                      <a:pt x="1519" y="3895"/>
                    </a:lnTo>
                    <a:lnTo>
                      <a:pt x="1489" y="4113"/>
                    </a:lnTo>
                    <a:lnTo>
                      <a:pt x="1459" y="4330"/>
                    </a:lnTo>
                    <a:lnTo>
                      <a:pt x="1428" y="4547"/>
                    </a:lnTo>
                    <a:lnTo>
                      <a:pt x="1397" y="4765"/>
                    </a:lnTo>
                    <a:lnTo>
                      <a:pt x="1367" y="4983"/>
                    </a:lnTo>
                    <a:lnTo>
                      <a:pt x="1336" y="5200"/>
                    </a:lnTo>
                    <a:lnTo>
                      <a:pt x="1306" y="5418"/>
                    </a:lnTo>
                    <a:lnTo>
                      <a:pt x="1275" y="5637"/>
                    </a:lnTo>
                    <a:lnTo>
                      <a:pt x="1245" y="5855"/>
                    </a:lnTo>
                    <a:lnTo>
                      <a:pt x="1215" y="6073"/>
                    </a:lnTo>
                    <a:lnTo>
                      <a:pt x="1185" y="6292"/>
                    </a:lnTo>
                    <a:lnTo>
                      <a:pt x="1155" y="6510"/>
                    </a:lnTo>
                    <a:lnTo>
                      <a:pt x="1124" y="6729"/>
                    </a:lnTo>
                    <a:lnTo>
                      <a:pt x="1094" y="6947"/>
                    </a:lnTo>
                    <a:lnTo>
                      <a:pt x="1064" y="7166"/>
                    </a:lnTo>
                    <a:lnTo>
                      <a:pt x="929" y="7118"/>
                    </a:lnTo>
                    <a:lnTo>
                      <a:pt x="794" y="7070"/>
                    </a:lnTo>
                    <a:lnTo>
                      <a:pt x="660" y="7023"/>
                    </a:lnTo>
                    <a:lnTo>
                      <a:pt x="527" y="6976"/>
                    </a:lnTo>
                    <a:lnTo>
                      <a:pt x="394" y="6928"/>
                    </a:lnTo>
                    <a:lnTo>
                      <a:pt x="262" y="6881"/>
                    </a:lnTo>
                    <a:lnTo>
                      <a:pt x="131" y="6836"/>
                    </a:lnTo>
                    <a:lnTo>
                      <a:pt x="0" y="6789"/>
                    </a:lnTo>
                    <a:lnTo>
                      <a:pt x="31" y="6576"/>
                    </a:lnTo>
                    <a:lnTo>
                      <a:pt x="61" y="6362"/>
                    </a:lnTo>
                    <a:lnTo>
                      <a:pt x="91" y="6148"/>
                    </a:lnTo>
                    <a:lnTo>
                      <a:pt x="121" y="5934"/>
                    </a:lnTo>
                    <a:lnTo>
                      <a:pt x="151" y="5719"/>
                    </a:lnTo>
                    <a:lnTo>
                      <a:pt x="181" y="5506"/>
                    </a:lnTo>
                    <a:lnTo>
                      <a:pt x="211" y="5292"/>
                    </a:lnTo>
                    <a:lnTo>
                      <a:pt x="241" y="5079"/>
                    </a:lnTo>
                    <a:lnTo>
                      <a:pt x="272" y="4865"/>
                    </a:lnTo>
                    <a:lnTo>
                      <a:pt x="302" y="4652"/>
                    </a:lnTo>
                    <a:lnTo>
                      <a:pt x="331" y="4439"/>
                    </a:lnTo>
                    <a:lnTo>
                      <a:pt x="361" y="4226"/>
                    </a:lnTo>
                    <a:lnTo>
                      <a:pt x="391" y="4013"/>
                    </a:lnTo>
                    <a:lnTo>
                      <a:pt x="422" y="3800"/>
                    </a:lnTo>
                    <a:lnTo>
                      <a:pt x="452" y="3587"/>
                    </a:lnTo>
                    <a:lnTo>
                      <a:pt x="482" y="3376"/>
                    </a:lnTo>
                    <a:lnTo>
                      <a:pt x="512" y="3164"/>
                    </a:lnTo>
                    <a:lnTo>
                      <a:pt x="543" y="2952"/>
                    </a:lnTo>
                    <a:lnTo>
                      <a:pt x="573" y="2740"/>
                    </a:lnTo>
                    <a:lnTo>
                      <a:pt x="602" y="2529"/>
                    </a:lnTo>
                    <a:lnTo>
                      <a:pt x="632" y="2317"/>
                    </a:lnTo>
                    <a:lnTo>
                      <a:pt x="663" y="2105"/>
                    </a:lnTo>
                    <a:lnTo>
                      <a:pt x="692" y="1894"/>
                    </a:lnTo>
                    <a:lnTo>
                      <a:pt x="722" y="1683"/>
                    </a:lnTo>
                    <a:lnTo>
                      <a:pt x="751" y="1473"/>
                    </a:lnTo>
                    <a:lnTo>
                      <a:pt x="782" y="1262"/>
                    </a:lnTo>
                    <a:lnTo>
                      <a:pt x="812" y="1052"/>
                    </a:lnTo>
                    <a:lnTo>
                      <a:pt x="841" y="841"/>
                    </a:lnTo>
                    <a:lnTo>
                      <a:pt x="871" y="631"/>
                    </a:lnTo>
                    <a:lnTo>
                      <a:pt x="902" y="420"/>
                    </a:lnTo>
                    <a:lnTo>
                      <a:pt x="931" y="210"/>
                    </a:lnTo>
                    <a:lnTo>
                      <a:pt x="96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063960" y="1526760"/>
                <a:ext cx="614880" cy="1861200"/>
              </a:xfrm>
              <a:custGeom>
                <a:avLst/>
                <a:gdLst/>
                <a:ahLst/>
                <a:rect l="l" t="t" r="r" b="b"/>
                <a:pathLst>
                  <a:path w="1649" h="6520">
                    <a:moveTo>
                      <a:pt x="883" y="0"/>
                    </a:moveTo>
                    <a:lnTo>
                      <a:pt x="978" y="21"/>
                    </a:lnTo>
                    <a:lnTo>
                      <a:pt x="1072" y="42"/>
                    </a:lnTo>
                    <a:lnTo>
                      <a:pt x="1168" y="63"/>
                    </a:lnTo>
                    <a:lnTo>
                      <a:pt x="1264" y="84"/>
                    </a:lnTo>
                    <a:lnTo>
                      <a:pt x="1360" y="105"/>
                    </a:lnTo>
                    <a:lnTo>
                      <a:pt x="1455" y="125"/>
                    </a:lnTo>
                    <a:lnTo>
                      <a:pt x="1552" y="146"/>
                    </a:lnTo>
                    <a:lnTo>
                      <a:pt x="1649" y="169"/>
                    </a:lnTo>
                    <a:lnTo>
                      <a:pt x="1622" y="364"/>
                    </a:lnTo>
                    <a:lnTo>
                      <a:pt x="1593" y="561"/>
                    </a:lnTo>
                    <a:lnTo>
                      <a:pt x="1565" y="758"/>
                    </a:lnTo>
                    <a:lnTo>
                      <a:pt x="1538" y="955"/>
                    </a:lnTo>
                    <a:lnTo>
                      <a:pt x="1510" y="1152"/>
                    </a:lnTo>
                    <a:lnTo>
                      <a:pt x="1483" y="1350"/>
                    </a:lnTo>
                    <a:lnTo>
                      <a:pt x="1454" y="1547"/>
                    </a:lnTo>
                    <a:lnTo>
                      <a:pt x="1427" y="1744"/>
                    </a:lnTo>
                    <a:lnTo>
                      <a:pt x="1400" y="1942"/>
                    </a:lnTo>
                    <a:lnTo>
                      <a:pt x="1372" y="2140"/>
                    </a:lnTo>
                    <a:lnTo>
                      <a:pt x="1345" y="2339"/>
                    </a:lnTo>
                    <a:lnTo>
                      <a:pt x="1317" y="2537"/>
                    </a:lnTo>
                    <a:lnTo>
                      <a:pt x="1289" y="2735"/>
                    </a:lnTo>
                    <a:lnTo>
                      <a:pt x="1262" y="2933"/>
                    </a:lnTo>
                    <a:lnTo>
                      <a:pt x="1234" y="3131"/>
                    </a:lnTo>
                    <a:lnTo>
                      <a:pt x="1205" y="3330"/>
                    </a:lnTo>
                    <a:lnTo>
                      <a:pt x="1177" y="3528"/>
                    </a:lnTo>
                    <a:lnTo>
                      <a:pt x="1149" y="3727"/>
                    </a:lnTo>
                    <a:lnTo>
                      <a:pt x="1122" y="3925"/>
                    </a:lnTo>
                    <a:lnTo>
                      <a:pt x="1094" y="4125"/>
                    </a:lnTo>
                    <a:lnTo>
                      <a:pt x="1065" y="4323"/>
                    </a:lnTo>
                    <a:lnTo>
                      <a:pt x="1038" y="4522"/>
                    </a:lnTo>
                    <a:lnTo>
                      <a:pt x="1011" y="4722"/>
                    </a:lnTo>
                    <a:lnTo>
                      <a:pt x="983" y="4920"/>
                    </a:lnTo>
                    <a:lnTo>
                      <a:pt x="955" y="5121"/>
                    </a:lnTo>
                    <a:lnTo>
                      <a:pt x="927" y="5320"/>
                    </a:lnTo>
                    <a:lnTo>
                      <a:pt x="899" y="5519"/>
                    </a:lnTo>
                    <a:lnTo>
                      <a:pt x="872" y="5720"/>
                    </a:lnTo>
                    <a:lnTo>
                      <a:pt x="844" y="5920"/>
                    </a:lnTo>
                    <a:lnTo>
                      <a:pt x="815" y="6120"/>
                    </a:lnTo>
                    <a:lnTo>
                      <a:pt x="787" y="6320"/>
                    </a:lnTo>
                    <a:lnTo>
                      <a:pt x="759" y="6520"/>
                    </a:lnTo>
                    <a:lnTo>
                      <a:pt x="663" y="6486"/>
                    </a:lnTo>
                    <a:lnTo>
                      <a:pt x="567" y="6453"/>
                    </a:lnTo>
                    <a:lnTo>
                      <a:pt x="472" y="6419"/>
                    </a:lnTo>
                    <a:lnTo>
                      <a:pt x="377" y="6386"/>
                    </a:lnTo>
                    <a:lnTo>
                      <a:pt x="282" y="6354"/>
                    </a:lnTo>
                    <a:lnTo>
                      <a:pt x="187" y="6321"/>
                    </a:lnTo>
                    <a:lnTo>
                      <a:pt x="94" y="6289"/>
                    </a:lnTo>
                    <a:lnTo>
                      <a:pt x="0" y="6256"/>
                    </a:lnTo>
                    <a:lnTo>
                      <a:pt x="27" y="6059"/>
                    </a:lnTo>
                    <a:lnTo>
                      <a:pt x="55" y="5862"/>
                    </a:lnTo>
                    <a:lnTo>
                      <a:pt x="84" y="5665"/>
                    </a:lnTo>
                    <a:lnTo>
                      <a:pt x="111" y="5468"/>
                    </a:lnTo>
                    <a:lnTo>
                      <a:pt x="139" y="5271"/>
                    </a:lnTo>
                    <a:lnTo>
                      <a:pt x="167" y="5074"/>
                    </a:lnTo>
                    <a:lnTo>
                      <a:pt x="194" y="4877"/>
                    </a:lnTo>
                    <a:lnTo>
                      <a:pt x="223" y="4680"/>
                    </a:lnTo>
                    <a:lnTo>
                      <a:pt x="250" y="4484"/>
                    </a:lnTo>
                    <a:lnTo>
                      <a:pt x="277" y="4287"/>
                    </a:lnTo>
                    <a:lnTo>
                      <a:pt x="305" y="4092"/>
                    </a:lnTo>
                    <a:lnTo>
                      <a:pt x="332" y="3896"/>
                    </a:lnTo>
                    <a:lnTo>
                      <a:pt x="361" y="3699"/>
                    </a:lnTo>
                    <a:lnTo>
                      <a:pt x="389" y="3503"/>
                    </a:lnTo>
                    <a:lnTo>
                      <a:pt x="416" y="3307"/>
                    </a:lnTo>
                    <a:lnTo>
                      <a:pt x="444" y="3112"/>
                    </a:lnTo>
                    <a:lnTo>
                      <a:pt x="472" y="2917"/>
                    </a:lnTo>
                    <a:lnTo>
                      <a:pt x="499" y="2723"/>
                    </a:lnTo>
                    <a:lnTo>
                      <a:pt x="526" y="2527"/>
                    </a:lnTo>
                    <a:lnTo>
                      <a:pt x="554" y="2333"/>
                    </a:lnTo>
                    <a:lnTo>
                      <a:pt x="581" y="2137"/>
                    </a:lnTo>
                    <a:lnTo>
                      <a:pt x="609" y="1941"/>
                    </a:lnTo>
                    <a:lnTo>
                      <a:pt x="636" y="1747"/>
                    </a:lnTo>
                    <a:lnTo>
                      <a:pt x="663" y="1551"/>
                    </a:lnTo>
                    <a:lnTo>
                      <a:pt x="690" y="1358"/>
                    </a:lnTo>
                    <a:lnTo>
                      <a:pt x="718" y="1163"/>
                    </a:lnTo>
                    <a:lnTo>
                      <a:pt x="746" y="969"/>
                    </a:lnTo>
                    <a:lnTo>
                      <a:pt x="773" y="775"/>
                    </a:lnTo>
                    <a:lnTo>
                      <a:pt x="800" y="581"/>
                    </a:lnTo>
                    <a:lnTo>
                      <a:pt x="828" y="388"/>
                    </a:lnTo>
                    <a:lnTo>
                      <a:pt x="856" y="193"/>
                    </a:lnTo>
                    <a:lnTo>
                      <a:pt x="88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635640" y="1686600"/>
                <a:ext cx="638640" cy="1925280"/>
              </a:xfrm>
              <a:custGeom>
                <a:avLst/>
                <a:gdLst/>
                <a:ahLst/>
                <a:rect l="l" t="t" r="r" b="b"/>
                <a:pathLst>
                  <a:path w="1714" h="6745">
                    <a:moveTo>
                      <a:pt x="897" y="0"/>
                    </a:moveTo>
                    <a:lnTo>
                      <a:pt x="998" y="24"/>
                    </a:lnTo>
                    <a:lnTo>
                      <a:pt x="1100" y="46"/>
                    </a:lnTo>
                    <a:lnTo>
                      <a:pt x="1201" y="69"/>
                    </a:lnTo>
                    <a:lnTo>
                      <a:pt x="1303" y="93"/>
                    </a:lnTo>
                    <a:lnTo>
                      <a:pt x="1405" y="115"/>
                    </a:lnTo>
                    <a:lnTo>
                      <a:pt x="1508" y="138"/>
                    </a:lnTo>
                    <a:lnTo>
                      <a:pt x="1611" y="161"/>
                    </a:lnTo>
                    <a:lnTo>
                      <a:pt x="1714" y="184"/>
                    </a:lnTo>
                    <a:lnTo>
                      <a:pt x="1685" y="388"/>
                    </a:lnTo>
                    <a:lnTo>
                      <a:pt x="1657" y="591"/>
                    </a:lnTo>
                    <a:lnTo>
                      <a:pt x="1628" y="794"/>
                    </a:lnTo>
                    <a:lnTo>
                      <a:pt x="1600" y="997"/>
                    </a:lnTo>
                    <a:lnTo>
                      <a:pt x="1571" y="1202"/>
                    </a:lnTo>
                    <a:lnTo>
                      <a:pt x="1543" y="1405"/>
                    </a:lnTo>
                    <a:lnTo>
                      <a:pt x="1515" y="1609"/>
                    </a:lnTo>
                    <a:lnTo>
                      <a:pt x="1488" y="1813"/>
                    </a:lnTo>
                    <a:lnTo>
                      <a:pt x="1460" y="2016"/>
                    </a:lnTo>
                    <a:lnTo>
                      <a:pt x="1431" y="2221"/>
                    </a:lnTo>
                    <a:lnTo>
                      <a:pt x="1404" y="2425"/>
                    </a:lnTo>
                    <a:lnTo>
                      <a:pt x="1376" y="2631"/>
                    </a:lnTo>
                    <a:lnTo>
                      <a:pt x="1348" y="2835"/>
                    </a:lnTo>
                    <a:lnTo>
                      <a:pt x="1319" y="3039"/>
                    </a:lnTo>
                    <a:lnTo>
                      <a:pt x="1291" y="3244"/>
                    </a:lnTo>
                    <a:lnTo>
                      <a:pt x="1263" y="3449"/>
                    </a:lnTo>
                    <a:lnTo>
                      <a:pt x="1235" y="3654"/>
                    </a:lnTo>
                    <a:lnTo>
                      <a:pt x="1207" y="3859"/>
                    </a:lnTo>
                    <a:lnTo>
                      <a:pt x="1178" y="4065"/>
                    </a:lnTo>
                    <a:lnTo>
                      <a:pt x="1150" y="4270"/>
                    </a:lnTo>
                    <a:lnTo>
                      <a:pt x="1121" y="4476"/>
                    </a:lnTo>
                    <a:lnTo>
                      <a:pt x="1093" y="4681"/>
                    </a:lnTo>
                    <a:lnTo>
                      <a:pt x="1064" y="4887"/>
                    </a:lnTo>
                    <a:lnTo>
                      <a:pt x="1037" y="5093"/>
                    </a:lnTo>
                    <a:lnTo>
                      <a:pt x="1009" y="5298"/>
                    </a:lnTo>
                    <a:lnTo>
                      <a:pt x="981" y="5505"/>
                    </a:lnTo>
                    <a:lnTo>
                      <a:pt x="953" y="5712"/>
                    </a:lnTo>
                    <a:lnTo>
                      <a:pt x="923" y="5919"/>
                    </a:lnTo>
                    <a:lnTo>
                      <a:pt x="895" y="6124"/>
                    </a:lnTo>
                    <a:lnTo>
                      <a:pt x="867" y="6331"/>
                    </a:lnTo>
                    <a:lnTo>
                      <a:pt x="839" y="6538"/>
                    </a:lnTo>
                    <a:lnTo>
                      <a:pt x="810" y="6745"/>
                    </a:lnTo>
                    <a:lnTo>
                      <a:pt x="709" y="6708"/>
                    </a:lnTo>
                    <a:lnTo>
                      <a:pt x="607" y="6672"/>
                    </a:lnTo>
                    <a:lnTo>
                      <a:pt x="505" y="6636"/>
                    </a:lnTo>
                    <a:lnTo>
                      <a:pt x="404" y="6601"/>
                    </a:lnTo>
                    <a:lnTo>
                      <a:pt x="302" y="6565"/>
                    </a:lnTo>
                    <a:lnTo>
                      <a:pt x="202" y="6529"/>
                    </a:lnTo>
                    <a:lnTo>
                      <a:pt x="101" y="6495"/>
                    </a:lnTo>
                    <a:lnTo>
                      <a:pt x="0" y="6459"/>
                    </a:lnTo>
                    <a:lnTo>
                      <a:pt x="28" y="6256"/>
                    </a:lnTo>
                    <a:lnTo>
                      <a:pt x="57" y="6053"/>
                    </a:lnTo>
                    <a:lnTo>
                      <a:pt x="86" y="5850"/>
                    </a:lnTo>
                    <a:lnTo>
                      <a:pt x="114" y="5645"/>
                    </a:lnTo>
                    <a:lnTo>
                      <a:pt x="142" y="5442"/>
                    </a:lnTo>
                    <a:lnTo>
                      <a:pt x="170" y="5239"/>
                    </a:lnTo>
                    <a:lnTo>
                      <a:pt x="199" y="5036"/>
                    </a:lnTo>
                    <a:lnTo>
                      <a:pt x="227" y="4833"/>
                    </a:lnTo>
                    <a:lnTo>
                      <a:pt x="255" y="4631"/>
                    </a:lnTo>
                    <a:lnTo>
                      <a:pt x="282" y="4428"/>
                    </a:lnTo>
                    <a:lnTo>
                      <a:pt x="310" y="4226"/>
                    </a:lnTo>
                    <a:lnTo>
                      <a:pt x="339" y="4024"/>
                    </a:lnTo>
                    <a:lnTo>
                      <a:pt x="368" y="3821"/>
                    </a:lnTo>
                    <a:lnTo>
                      <a:pt x="396" y="3619"/>
                    </a:lnTo>
                    <a:lnTo>
                      <a:pt x="424" y="3417"/>
                    </a:lnTo>
                    <a:lnTo>
                      <a:pt x="453" y="3214"/>
                    </a:lnTo>
                    <a:lnTo>
                      <a:pt x="480" y="3014"/>
                    </a:lnTo>
                    <a:lnTo>
                      <a:pt x="508" y="2813"/>
                    </a:lnTo>
                    <a:lnTo>
                      <a:pt x="536" y="2611"/>
                    </a:lnTo>
                    <a:lnTo>
                      <a:pt x="563" y="2410"/>
                    </a:lnTo>
                    <a:lnTo>
                      <a:pt x="592" y="2209"/>
                    </a:lnTo>
                    <a:lnTo>
                      <a:pt x="619" y="2008"/>
                    </a:lnTo>
                    <a:lnTo>
                      <a:pt x="647" y="1806"/>
                    </a:lnTo>
                    <a:lnTo>
                      <a:pt x="675" y="1605"/>
                    </a:lnTo>
                    <a:lnTo>
                      <a:pt x="703" y="1405"/>
                    </a:lnTo>
                    <a:lnTo>
                      <a:pt x="731" y="1204"/>
                    </a:lnTo>
                    <a:lnTo>
                      <a:pt x="759" y="1003"/>
                    </a:lnTo>
                    <a:lnTo>
                      <a:pt x="786" y="803"/>
                    </a:lnTo>
                    <a:lnTo>
                      <a:pt x="814" y="602"/>
                    </a:lnTo>
                    <a:lnTo>
                      <a:pt x="842" y="401"/>
                    </a:lnTo>
                    <a:lnTo>
                      <a:pt x="870" y="201"/>
                    </a:lnTo>
                    <a:lnTo>
                      <a:pt x="897"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968280" y="1675440"/>
                <a:ext cx="320760" cy="76680"/>
              </a:xfrm>
              <a:custGeom>
                <a:avLst/>
                <a:gdLst/>
                <a:ahLst/>
                <a:rect l="l" t="t" r="r" b="b"/>
                <a:pathLst>
                  <a:path w="863" h="270">
                    <a:moveTo>
                      <a:pt x="858" y="234"/>
                    </a:moveTo>
                    <a:lnTo>
                      <a:pt x="829" y="185"/>
                    </a:lnTo>
                    <a:lnTo>
                      <a:pt x="726" y="161"/>
                    </a:lnTo>
                    <a:lnTo>
                      <a:pt x="623" y="138"/>
                    </a:lnTo>
                    <a:lnTo>
                      <a:pt x="520" y="116"/>
                    </a:lnTo>
                    <a:lnTo>
                      <a:pt x="418" y="92"/>
                    </a:lnTo>
                    <a:lnTo>
                      <a:pt x="317" y="69"/>
                    </a:lnTo>
                    <a:lnTo>
                      <a:pt x="215" y="47"/>
                    </a:lnTo>
                    <a:lnTo>
                      <a:pt x="113" y="23"/>
                    </a:lnTo>
                    <a:lnTo>
                      <a:pt x="12" y="0"/>
                    </a:lnTo>
                    <a:lnTo>
                      <a:pt x="0" y="86"/>
                    </a:lnTo>
                    <a:lnTo>
                      <a:pt x="101" y="108"/>
                    </a:lnTo>
                    <a:lnTo>
                      <a:pt x="202" y="132"/>
                    </a:lnTo>
                    <a:lnTo>
                      <a:pt x="303" y="154"/>
                    </a:lnTo>
                    <a:lnTo>
                      <a:pt x="405" y="177"/>
                    </a:lnTo>
                    <a:lnTo>
                      <a:pt x="508" y="201"/>
                    </a:lnTo>
                    <a:lnTo>
                      <a:pt x="610" y="223"/>
                    </a:lnTo>
                    <a:lnTo>
                      <a:pt x="713" y="246"/>
                    </a:lnTo>
                    <a:lnTo>
                      <a:pt x="816" y="270"/>
                    </a:lnTo>
                    <a:lnTo>
                      <a:pt x="787" y="219"/>
                    </a:lnTo>
                    <a:lnTo>
                      <a:pt x="858" y="234"/>
                    </a:lnTo>
                    <a:lnTo>
                      <a:pt x="863" y="192"/>
                    </a:lnTo>
                    <a:lnTo>
                      <a:pt x="829" y="185"/>
                    </a:lnTo>
                    <a:lnTo>
                      <a:pt x="858" y="234"/>
                    </a:lnTo>
                    <a:close/>
                  </a:path>
                </a:pathLst>
              </a:custGeom>
              <a:solidFill>
                <a:srgbClr val="1f1a17"/>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7" name=""/>
              <p:cNvSpPr/>
              <p:nvPr/>
            </p:nvSpPr>
            <p:spPr>
              <a:xfrm>
                <a:off x="4177440" y="1738080"/>
                <a:ext cx="110520" cy="468000"/>
              </a:xfrm>
              <a:custGeom>
                <a:avLst/>
                <a:gdLst/>
                <a:ahLst/>
                <a:rect l="l" t="t" r="r" b="b"/>
                <a:pathLst>
                  <a:path w="296" h="1644">
                    <a:moveTo>
                      <a:pt x="69" y="1644"/>
                    </a:moveTo>
                    <a:lnTo>
                      <a:pt x="69" y="1644"/>
                    </a:lnTo>
                    <a:lnTo>
                      <a:pt x="97" y="1440"/>
                    </a:lnTo>
                    <a:lnTo>
                      <a:pt x="126" y="1236"/>
                    </a:lnTo>
                    <a:lnTo>
                      <a:pt x="154" y="1032"/>
                    </a:lnTo>
                    <a:lnTo>
                      <a:pt x="182" y="829"/>
                    </a:lnTo>
                    <a:lnTo>
                      <a:pt x="210" y="626"/>
                    </a:lnTo>
                    <a:lnTo>
                      <a:pt x="238" y="422"/>
                    </a:lnTo>
                    <a:lnTo>
                      <a:pt x="267" y="218"/>
                    </a:lnTo>
                    <a:lnTo>
                      <a:pt x="296" y="15"/>
                    </a:lnTo>
                    <a:lnTo>
                      <a:pt x="225" y="0"/>
                    </a:lnTo>
                    <a:lnTo>
                      <a:pt x="197" y="205"/>
                    </a:lnTo>
                    <a:lnTo>
                      <a:pt x="169" y="408"/>
                    </a:lnTo>
                    <a:lnTo>
                      <a:pt x="141" y="611"/>
                    </a:lnTo>
                    <a:lnTo>
                      <a:pt x="112" y="814"/>
                    </a:lnTo>
                    <a:lnTo>
                      <a:pt x="83" y="1018"/>
                    </a:lnTo>
                    <a:lnTo>
                      <a:pt x="55" y="1221"/>
                    </a:lnTo>
                    <a:lnTo>
                      <a:pt x="27" y="1426"/>
                    </a:lnTo>
                    <a:lnTo>
                      <a:pt x="0" y="1630"/>
                    </a:lnTo>
                    <a:lnTo>
                      <a:pt x="0" y="1630"/>
                    </a:lnTo>
                    <a:lnTo>
                      <a:pt x="69" y="16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093560" y="2203560"/>
                <a:ext cx="108720" cy="469080"/>
              </a:xfrm>
              <a:custGeom>
                <a:avLst/>
                <a:gdLst/>
                <a:ahLst/>
                <a:rect l="l" t="t" r="r" b="b"/>
                <a:pathLst>
                  <a:path w="293" h="1649">
                    <a:moveTo>
                      <a:pt x="69" y="1649"/>
                    </a:moveTo>
                    <a:lnTo>
                      <a:pt x="69" y="1649"/>
                    </a:lnTo>
                    <a:lnTo>
                      <a:pt x="98" y="1445"/>
                    </a:lnTo>
                    <a:lnTo>
                      <a:pt x="126" y="1241"/>
                    </a:lnTo>
                    <a:lnTo>
                      <a:pt x="154" y="1036"/>
                    </a:lnTo>
                    <a:lnTo>
                      <a:pt x="182" y="831"/>
                    </a:lnTo>
                    <a:lnTo>
                      <a:pt x="209" y="627"/>
                    </a:lnTo>
                    <a:lnTo>
                      <a:pt x="238" y="422"/>
                    </a:lnTo>
                    <a:lnTo>
                      <a:pt x="266" y="218"/>
                    </a:lnTo>
                    <a:lnTo>
                      <a:pt x="293" y="14"/>
                    </a:lnTo>
                    <a:lnTo>
                      <a:pt x="224" y="0"/>
                    </a:lnTo>
                    <a:lnTo>
                      <a:pt x="195" y="204"/>
                    </a:lnTo>
                    <a:lnTo>
                      <a:pt x="168" y="409"/>
                    </a:lnTo>
                    <a:lnTo>
                      <a:pt x="140" y="613"/>
                    </a:lnTo>
                    <a:lnTo>
                      <a:pt x="112" y="817"/>
                    </a:lnTo>
                    <a:lnTo>
                      <a:pt x="83" y="1022"/>
                    </a:lnTo>
                    <a:lnTo>
                      <a:pt x="55" y="1226"/>
                    </a:lnTo>
                    <a:lnTo>
                      <a:pt x="28" y="1432"/>
                    </a:lnTo>
                    <a:lnTo>
                      <a:pt x="0" y="1636"/>
                    </a:lnTo>
                    <a:lnTo>
                      <a:pt x="0" y="1636"/>
                    </a:lnTo>
                    <a:lnTo>
                      <a:pt x="69" y="164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008600" y="2670480"/>
                <a:ext cx="110160" cy="471960"/>
              </a:xfrm>
              <a:custGeom>
                <a:avLst/>
                <a:gdLst/>
                <a:ahLst/>
                <a:rect l="l" t="t" r="r" b="b"/>
                <a:pathLst>
                  <a:path w="296" h="1658">
                    <a:moveTo>
                      <a:pt x="69" y="1658"/>
                    </a:moveTo>
                    <a:lnTo>
                      <a:pt x="69" y="1658"/>
                    </a:lnTo>
                    <a:lnTo>
                      <a:pt x="98" y="1452"/>
                    </a:lnTo>
                    <a:lnTo>
                      <a:pt x="126" y="1247"/>
                    </a:lnTo>
                    <a:lnTo>
                      <a:pt x="154" y="1041"/>
                    </a:lnTo>
                    <a:lnTo>
                      <a:pt x="182" y="836"/>
                    </a:lnTo>
                    <a:lnTo>
                      <a:pt x="212" y="630"/>
                    </a:lnTo>
                    <a:lnTo>
                      <a:pt x="240" y="425"/>
                    </a:lnTo>
                    <a:lnTo>
                      <a:pt x="268" y="219"/>
                    </a:lnTo>
                    <a:lnTo>
                      <a:pt x="296" y="13"/>
                    </a:lnTo>
                    <a:lnTo>
                      <a:pt x="227" y="0"/>
                    </a:lnTo>
                    <a:lnTo>
                      <a:pt x="199" y="205"/>
                    </a:lnTo>
                    <a:lnTo>
                      <a:pt x="169" y="410"/>
                    </a:lnTo>
                    <a:lnTo>
                      <a:pt x="141" y="615"/>
                    </a:lnTo>
                    <a:lnTo>
                      <a:pt x="113" y="821"/>
                    </a:lnTo>
                    <a:lnTo>
                      <a:pt x="85" y="1027"/>
                    </a:lnTo>
                    <a:lnTo>
                      <a:pt x="56" y="1232"/>
                    </a:lnTo>
                    <a:lnTo>
                      <a:pt x="28" y="1438"/>
                    </a:lnTo>
                    <a:lnTo>
                      <a:pt x="0" y="1643"/>
                    </a:lnTo>
                    <a:lnTo>
                      <a:pt x="0" y="1643"/>
                    </a:lnTo>
                    <a:lnTo>
                      <a:pt x="69" y="16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925080" y="3138480"/>
                <a:ext cx="110160" cy="489600"/>
              </a:xfrm>
              <a:custGeom>
                <a:avLst/>
                <a:gdLst/>
                <a:ahLst/>
                <a:rect l="l" t="t" r="r" b="b"/>
                <a:pathLst>
                  <a:path w="296" h="1714">
                    <a:moveTo>
                      <a:pt x="26" y="1701"/>
                    </a:moveTo>
                    <a:lnTo>
                      <a:pt x="71" y="1666"/>
                    </a:lnTo>
                    <a:lnTo>
                      <a:pt x="99" y="1460"/>
                    </a:lnTo>
                    <a:lnTo>
                      <a:pt x="127" y="1253"/>
                    </a:lnTo>
                    <a:lnTo>
                      <a:pt x="155" y="1047"/>
                    </a:lnTo>
                    <a:lnTo>
                      <a:pt x="184" y="840"/>
                    </a:lnTo>
                    <a:lnTo>
                      <a:pt x="212" y="634"/>
                    </a:lnTo>
                    <a:lnTo>
                      <a:pt x="240" y="427"/>
                    </a:lnTo>
                    <a:lnTo>
                      <a:pt x="268" y="221"/>
                    </a:lnTo>
                    <a:lnTo>
                      <a:pt x="296" y="15"/>
                    </a:lnTo>
                    <a:lnTo>
                      <a:pt x="227" y="0"/>
                    </a:lnTo>
                    <a:lnTo>
                      <a:pt x="199" y="207"/>
                    </a:lnTo>
                    <a:lnTo>
                      <a:pt x="170" y="413"/>
                    </a:lnTo>
                    <a:lnTo>
                      <a:pt x="142" y="619"/>
                    </a:lnTo>
                    <a:lnTo>
                      <a:pt x="114" y="826"/>
                    </a:lnTo>
                    <a:lnTo>
                      <a:pt x="86" y="1033"/>
                    </a:lnTo>
                    <a:lnTo>
                      <a:pt x="57" y="1239"/>
                    </a:lnTo>
                    <a:lnTo>
                      <a:pt x="28" y="1445"/>
                    </a:lnTo>
                    <a:lnTo>
                      <a:pt x="0" y="1652"/>
                    </a:lnTo>
                    <a:lnTo>
                      <a:pt x="46" y="1618"/>
                    </a:lnTo>
                    <a:lnTo>
                      <a:pt x="26" y="1701"/>
                    </a:lnTo>
                    <a:lnTo>
                      <a:pt x="64" y="1714"/>
                    </a:lnTo>
                    <a:lnTo>
                      <a:pt x="71" y="1666"/>
                    </a:lnTo>
                    <a:lnTo>
                      <a:pt x="26" y="170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620880" y="3519360"/>
                <a:ext cx="320760" cy="105840"/>
              </a:xfrm>
              <a:custGeom>
                <a:avLst/>
                <a:gdLst/>
                <a:ahLst/>
                <a:rect l="l" t="t" r="r" b="b"/>
                <a:pathLst>
                  <a:path w="861" h="369">
                    <a:moveTo>
                      <a:pt x="5" y="35"/>
                    </a:moveTo>
                    <a:lnTo>
                      <a:pt x="31" y="84"/>
                    </a:lnTo>
                    <a:lnTo>
                      <a:pt x="131" y="120"/>
                    </a:lnTo>
                    <a:lnTo>
                      <a:pt x="232" y="154"/>
                    </a:lnTo>
                    <a:lnTo>
                      <a:pt x="332" y="190"/>
                    </a:lnTo>
                    <a:lnTo>
                      <a:pt x="434" y="225"/>
                    </a:lnTo>
                    <a:lnTo>
                      <a:pt x="536" y="261"/>
                    </a:lnTo>
                    <a:lnTo>
                      <a:pt x="637" y="297"/>
                    </a:lnTo>
                    <a:lnTo>
                      <a:pt x="739" y="332"/>
                    </a:lnTo>
                    <a:lnTo>
                      <a:pt x="841" y="369"/>
                    </a:lnTo>
                    <a:lnTo>
                      <a:pt x="861" y="286"/>
                    </a:lnTo>
                    <a:lnTo>
                      <a:pt x="759" y="250"/>
                    </a:lnTo>
                    <a:lnTo>
                      <a:pt x="657" y="214"/>
                    </a:lnTo>
                    <a:lnTo>
                      <a:pt x="555" y="179"/>
                    </a:lnTo>
                    <a:lnTo>
                      <a:pt x="453" y="142"/>
                    </a:lnTo>
                    <a:lnTo>
                      <a:pt x="352" y="106"/>
                    </a:lnTo>
                    <a:lnTo>
                      <a:pt x="252" y="72"/>
                    </a:lnTo>
                    <a:lnTo>
                      <a:pt x="151" y="36"/>
                    </a:lnTo>
                    <a:lnTo>
                      <a:pt x="50" y="0"/>
                    </a:lnTo>
                    <a:lnTo>
                      <a:pt x="75" y="49"/>
                    </a:lnTo>
                    <a:lnTo>
                      <a:pt x="5" y="35"/>
                    </a:lnTo>
                    <a:lnTo>
                      <a:pt x="0" y="73"/>
                    </a:lnTo>
                    <a:lnTo>
                      <a:pt x="31" y="84"/>
                    </a:lnTo>
                    <a:lnTo>
                      <a:pt x="5"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22320" y="3065400"/>
                <a:ext cx="110160" cy="468360"/>
              </a:xfrm>
              <a:custGeom>
                <a:avLst/>
                <a:gdLst/>
                <a:ahLst/>
                <a:rect l="l" t="t" r="r" b="b"/>
                <a:pathLst>
                  <a:path w="297" h="1639">
                    <a:moveTo>
                      <a:pt x="227" y="0"/>
                    </a:moveTo>
                    <a:lnTo>
                      <a:pt x="227" y="0"/>
                    </a:lnTo>
                    <a:lnTo>
                      <a:pt x="198" y="203"/>
                    </a:lnTo>
                    <a:lnTo>
                      <a:pt x="170" y="406"/>
                    </a:lnTo>
                    <a:lnTo>
                      <a:pt x="142" y="609"/>
                    </a:lnTo>
                    <a:lnTo>
                      <a:pt x="114" y="812"/>
                    </a:lnTo>
                    <a:lnTo>
                      <a:pt x="85" y="1015"/>
                    </a:lnTo>
                    <a:lnTo>
                      <a:pt x="57" y="1218"/>
                    </a:lnTo>
                    <a:lnTo>
                      <a:pt x="29" y="1421"/>
                    </a:lnTo>
                    <a:lnTo>
                      <a:pt x="0" y="1625"/>
                    </a:lnTo>
                    <a:lnTo>
                      <a:pt x="70" y="1639"/>
                    </a:lnTo>
                    <a:lnTo>
                      <a:pt x="98" y="1436"/>
                    </a:lnTo>
                    <a:lnTo>
                      <a:pt x="127" y="1233"/>
                    </a:lnTo>
                    <a:lnTo>
                      <a:pt x="156" y="1030"/>
                    </a:lnTo>
                    <a:lnTo>
                      <a:pt x="184" y="826"/>
                    </a:lnTo>
                    <a:lnTo>
                      <a:pt x="212" y="623"/>
                    </a:lnTo>
                    <a:lnTo>
                      <a:pt x="241" y="419"/>
                    </a:lnTo>
                    <a:lnTo>
                      <a:pt x="269" y="216"/>
                    </a:lnTo>
                    <a:lnTo>
                      <a:pt x="297" y="13"/>
                    </a:lnTo>
                    <a:lnTo>
                      <a:pt x="297" y="13"/>
                    </a:lnTo>
                    <a:lnTo>
                      <a:pt x="2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07280" y="2603160"/>
                <a:ext cx="108720" cy="465120"/>
              </a:xfrm>
              <a:custGeom>
                <a:avLst/>
                <a:gdLst/>
                <a:ahLst/>
                <a:rect l="l" t="t" r="r" b="b"/>
                <a:pathLst>
                  <a:path w="295" h="1632">
                    <a:moveTo>
                      <a:pt x="225" y="0"/>
                    </a:moveTo>
                    <a:lnTo>
                      <a:pt x="225" y="0"/>
                    </a:lnTo>
                    <a:lnTo>
                      <a:pt x="197" y="202"/>
                    </a:lnTo>
                    <a:lnTo>
                      <a:pt x="169" y="404"/>
                    </a:lnTo>
                    <a:lnTo>
                      <a:pt x="141" y="606"/>
                    </a:lnTo>
                    <a:lnTo>
                      <a:pt x="112" y="809"/>
                    </a:lnTo>
                    <a:lnTo>
                      <a:pt x="84" y="1011"/>
                    </a:lnTo>
                    <a:lnTo>
                      <a:pt x="56" y="1214"/>
                    </a:lnTo>
                    <a:lnTo>
                      <a:pt x="28" y="1416"/>
                    </a:lnTo>
                    <a:lnTo>
                      <a:pt x="0" y="1619"/>
                    </a:lnTo>
                    <a:lnTo>
                      <a:pt x="70" y="1632"/>
                    </a:lnTo>
                    <a:lnTo>
                      <a:pt x="97" y="1430"/>
                    </a:lnTo>
                    <a:lnTo>
                      <a:pt x="126" y="1227"/>
                    </a:lnTo>
                    <a:lnTo>
                      <a:pt x="154" y="1025"/>
                    </a:lnTo>
                    <a:lnTo>
                      <a:pt x="182" y="822"/>
                    </a:lnTo>
                    <a:lnTo>
                      <a:pt x="210" y="620"/>
                    </a:lnTo>
                    <a:lnTo>
                      <a:pt x="238" y="419"/>
                    </a:lnTo>
                    <a:lnTo>
                      <a:pt x="267" y="215"/>
                    </a:lnTo>
                    <a:lnTo>
                      <a:pt x="295" y="14"/>
                    </a:lnTo>
                    <a:lnTo>
                      <a:pt x="295" y="14"/>
                    </a:lnTo>
                    <a:lnTo>
                      <a:pt x="22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90800" y="2143440"/>
                <a:ext cx="108720" cy="464040"/>
              </a:xfrm>
              <a:custGeom>
                <a:avLst/>
                <a:gdLst/>
                <a:ahLst/>
                <a:rect l="l" t="t" r="r" b="b"/>
                <a:pathLst>
                  <a:path w="293" h="1624">
                    <a:moveTo>
                      <a:pt x="223" y="0"/>
                    </a:moveTo>
                    <a:lnTo>
                      <a:pt x="223" y="0"/>
                    </a:lnTo>
                    <a:lnTo>
                      <a:pt x="195" y="201"/>
                    </a:lnTo>
                    <a:lnTo>
                      <a:pt x="168" y="402"/>
                    </a:lnTo>
                    <a:lnTo>
                      <a:pt x="139" y="603"/>
                    </a:lnTo>
                    <a:lnTo>
                      <a:pt x="111" y="805"/>
                    </a:lnTo>
                    <a:lnTo>
                      <a:pt x="84" y="1006"/>
                    </a:lnTo>
                    <a:lnTo>
                      <a:pt x="56" y="1208"/>
                    </a:lnTo>
                    <a:lnTo>
                      <a:pt x="29" y="1408"/>
                    </a:lnTo>
                    <a:lnTo>
                      <a:pt x="0" y="1610"/>
                    </a:lnTo>
                    <a:lnTo>
                      <a:pt x="70" y="1624"/>
                    </a:lnTo>
                    <a:lnTo>
                      <a:pt x="98" y="1423"/>
                    </a:lnTo>
                    <a:lnTo>
                      <a:pt x="126" y="1221"/>
                    </a:lnTo>
                    <a:lnTo>
                      <a:pt x="154" y="1020"/>
                    </a:lnTo>
                    <a:lnTo>
                      <a:pt x="182" y="819"/>
                    </a:lnTo>
                    <a:lnTo>
                      <a:pt x="209" y="618"/>
                    </a:lnTo>
                    <a:lnTo>
                      <a:pt x="237" y="416"/>
                    </a:lnTo>
                    <a:lnTo>
                      <a:pt x="265" y="215"/>
                    </a:lnTo>
                    <a:lnTo>
                      <a:pt x="293" y="14"/>
                    </a:lnTo>
                    <a:lnTo>
                      <a:pt x="293" y="14"/>
                    </a:lnTo>
                    <a:lnTo>
                      <a:pt x="2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74320" y="1672560"/>
                <a:ext cx="108720" cy="475200"/>
              </a:xfrm>
              <a:custGeom>
                <a:avLst/>
                <a:gdLst/>
                <a:ahLst/>
                <a:rect l="l" t="t" r="r" b="b"/>
                <a:pathLst>
                  <a:path w="292" h="1662">
                    <a:moveTo>
                      <a:pt x="263" y="7"/>
                    </a:moveTo>
                    <a:lnTo>
                      <a:pt x="222" y="43"/>
                    </a:lnTo>
                    <a:lnTo>
                      <a:pt x="195" y="243"/>
                    </a:lnTo>
                    <a:lnTo>
                      <a:pt x="166" y="444"/>
                    </a:lnTo>
                    <a:lnTo>
                      <a:pt x="139" y="645"/>
                    </a:lnTo>
                    <a:lnTo>
                      <a:pt x="111" y="845"/>
                    </a:lnTo>
                    <a:lnTo>
                      <a:pt x="84" y="1046"/>
                    </a:lnTo>
                    <a:lnTo>
                      <a:pt x="56" y="1247"/>
                    </a:lnTo>
                    <a:lnTo>
                      <a:pt x="28" y="1447"/>
                    </a:lnTo>
                    <a:lnTo>
                      <a:pt x="0" y="1648"/>
                    </a:lnTo>
                    <a:lnTo>
                      <a:pt x="70" y="1662"/>
                    </a:lnTo>
                    <a:lnTo>
                      <a:pt x="98" y="1461"/>
                    </a:lnTo>
                    <a:lnTo>
                      <a:pt x="126" y="1260"/>
                    </a:lnTo>
                    <a:lnTo>
                      <a:pt x="153" y="1060"/>
                    </a:lnTo>
                    <a:lnTo>
                      <a:pt x="182" y="859"/>
                    </a:lnTo>
                    <a:lnTo>
                      <a:pt x="209" y="658"/>
                    </a:lnTo>
                    <a:lnTo>
                      <a:pt x="237" y="458"/>
                    </a:lnTo>
                    <a:lnTo>
                      <a:pt x="264" y="258"/>
                    </a:lnTo>
                    <a:lnTo>
                      <a:pt x="292" y="58"/>
                    </a:lnTo>
                    <a:lnTo>
                      <a:pt x="251" y="93"/>
                    </a:lnTo>
                    <a:lnTo>
                      <a:pt x="263" y="7"/>
                    </a:lnTo>
                    <a:lnTo>
                      <a:pt x="228" y="0"/>
                    </a:lnTo>
                    <a:lnTo>
                      <a:pt x="222" y="43"/>
                    </a:lnTo>
                    <a:lnTo>
                      <a:pt x="263"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925080" y="1616760"/>
                <a:ext cx="373320" cy="189720"/>
              </a:xfrm>
              <a:custGeom>
                <a:avLst/>
                <a:gdLst/>
                <a:ahLst/>
                <a:rect l="l" t="t" r="r" b="b"/>
                <a:pathLst>
                  <a:path w="1000" h="665">
                    <a:moveTo>
                      <a:pt x="0" y="0"/>
                    </a:moveTo>
                    <a:lnTo>
                      <a:pt x="22" y="59"/>
                    </a:lnTo>
                    <a:lnTo>
                      <a:pt x="46" y="119"/>
                    </a:lnTo>
                    <a:lnTo>
                      <a:pt x="68" y="178"/>
                    </a:lnTo>
                    <a:lnTo>
                      <a:pt x="90" y="238"/>
                    </a:lnTo>
                    <a:lnTo>
                      <a:pt x="113" y="297"/>
                    </a:lnTo>
                    <a:lnTo>
                      <a:pt x="135" y="358"/>
                    </a:lnTo>
                    <a:lnTo>
                      <a:pt x="158" y="418"/>
                    </a:lnTo>
                    <a:lnTo>
                      <a:pt x="181" y="478"/>
                    </a:lnTo>
                    <a:lnTo>
                      <a:pt x="282" y="502"/>
                    </a:lnTo>
                    <a:lnTo>
                      <a:pt x="383" y="524"/>
                    </a:lnTo>
                    <a:lnTo>
                      <a:pt x="485" y="547"/>
                    </a:lnTo>
                    <a:lnTo>
                      <a:pt x="588" y="571"/>
                    </a:lnTo>
                    <a:lnTo>
                      <a:pt x="691" y="594"/>
                    </a:lnTo>
                    <a:lnTo>
                      <a:pt x="793" y="617"/>
                    </a:lnTo>
                    <a:lnTo>
                      <a:pt x="896" y="641"/>
                    </a:lnTo>
                    <a:lnTo>
                      <a:pt x="1000" y="665"/>
                    </a:lnTo>
                    <a:lnTo>
                      <a:pt x="976" y="604"/>
                    </a:lnTo>
                    <a:lnTo>
                      <a:pt x="952" y="542"/>
                    </a:lnTo>
                    <a:lnTo>
                      <a:pt x="928" y="482"/>
                    </a:lnTo>
                    <a:lnTo>
                      <a:pt x="903" y="421"/>
                    </a:lnTo>
                    <a:lnTo>
                      <a:pt x="880" y="360"/>
                    </a:lnTo>
                    <a:lnTo>
                      <a:pt x="856" y="299"/>
                    </a:lnTo>
                    <a:lnTo>
                      <a:pt x="833" y="238"/>
                    </a:lnTo>
                    <a:lnTo>
                      <a:pt x="810" y="178"/>
                    </a:lnTo>
                    <a:lnTo>
                      <a:pt x="707" y="155"/>
                    </a:lnTo>
                    <a:lnTo>
                      <a:pt x="605" y="132"/>
                    </a:lnTo>
                    <a:lnTo>
                      <a:pt x="503" y="110"/>
                    </a:lnTo>
                    <a:lnTo>
                      <a:pt x="402" y="88"/>
                    </a:lnTo>
                    <a:lnTo>
                      <a:pt x="302" y="66"/>
                    </a:lnTo>
                    <a:lnTo>
                      <a:pt x="201" y="44"/>
                    </a:lnTo>
                    <a:lnTo>
                      <a:pt x="100" y="22"/>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925080" y="1616760"/>
                <a:ext cx="373320" cy="189720"/>
              </a:xfrm>
              <a:custGeom>
                <a:avLst/>
                <a:gdLst/>
                <a:ahLst/>
                <a:rect l="l" t="t" r="r" b="b"/>
                <a:pathLst>
                  <a:path w="1000" h="665">
                    <a:moveTo>
                      <a:pt x="0" y="0"/>
                    </a:moveTo>
                    <a:lnTo>
                      <a:pt x="22" y="59"/>
                    </a:lnTo>
                    <a:lnTo>
                      <a:pt x="46" y="119"/>
                    </a:lnTo>
                    <a:lnTo>
                      <a:pt x="68" y="178"/>
                    </a:lnTo>
                    <a:lnTo>
                      <a:pt x="90" y="238"/>
                    </a:lnTo>
                    <a:lnTo>
                      <a:pt x="113" y="297"/>
                    </a:lnTo>
                    <a:lnTo>
                      <a:pt x="135" y="358"/>
                    </a:lnTo>
                    <a:lnTo>
                      <a:pt x="158" y="418"/>
                    </a:lnTo>
                    <a:lnTo>
                      <a:pt x="181" y="478"/>
                    </a:lnTo>
                    <a:lnTo>
                      <a:pt x="282" y="502"/>
                    </a:lnTo>
                    <a:lnTo>
                      <a:pt x="383" y="524"/>
                    </a:lnTo>
                    <a:lnTo>
                      <a:pt x="485" y="547"/>
                    </a:lnTo>
                    <a:lnTo>
                      <a:pt x="588" y="571"/>
                    </a:lnTo>
                    <a:lnTo>
                      <a:pt x="691" y="594"/>
                    </a:lnTo>
                    <a:lnTo>
                      <a:pt x="793" y="617"/>
                    </a:lnTo>
                    <a:lnTo>
                      <a:pt x="896" y="641"/>
                    </a:lnTo>
                    <a:lnTo>
                      <a:pt x="1000" y="665"/>
                    </a:lnTo>
                    <a:lnTo>
                      <a:pt x="976" y="604"/>
                    </a:lnTo>
                    <a:lnTo>
                      <a:pt x="952" y="542"/>
                    </a:lnTo>
                    <a:lnTo>
                      <a:pt x="928" y="482"/>
                    </a:lnTo>
                    <a:lnTo>
                      <a:pt x="903" y="421"/>
                    </a:lnTo>
                    <a:lnTo>
                      <a:pt x="880" y="360"/>
                    </a:lnTo>
                    <a:lnTo>
                      <a:pt x="856" y="299"/>
                    </a:lnTo>
                    <a:lnTo>
                      <a:pt x="833" y="238"/>
                    </a:lnTo>
                    <a:lnTo>
                      <a:pt x="810" y="178"/>
                    </a:lnTo>
                    <a:lnTo>
                      <a:pt x="707" y="155"/>
                    </a:lnTo>
                    <a:lnTo>
                      <a:pt x="605" y="132"/>
                    </a:lnTo>
                    <a:lnTo>
                      <a:pt x="503" y="110"/>
                    </a:lnTo>
                    <a:lnTo>
                      <a:pt x="402" y="88"/>
                    </a:lnTo>
                    <a:lnTo>
                      <a:pt x="302" y="66"/>
                    </a:lnTo>
                    <a:lnTo>
                      <a:pt x="201" y="44"/>
                    </a:lnTo>
                    <a:lnTo>
                      <a:pt x="100" y="22"/>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90640" y="1616760"/>
                <a:ext cx="401760" cy="1983960"/>
              </a:xfrm>
              <a:custGeom>
                <a:avLst/>
                <a:gdLst/>
                <a:ahLst/>
                <a:rect l="l" t="t" r="r" b="b"/>
                <a:pathLst>
                  <a:path w="1076" h="6952">
                    <a:moveTo>
                      <a:pt x="0" y="6434"/>
                    </a:moveTo>
                    <a:lnTo>
                      <a:pt x="22" y="6499"/>
                    </a:lnTo>
                    <a:lnTo>
                      <a:pt x="44" y="6563"/>
                    </a:lnTo>
                    <a:lnTo>
                      <a:pt x="66" y="6627"/>
                    </a:lnTo>
                    <a:lnTo>
                      <a:pt x="88" y="6692"/>
                    </a:lnTo>
                    <a:lnTo>
                      <a:pt x="110" y="6757"/>
                    </a:lnTo>
                    <a:lnTo>
                      <a:pt x="132" y="6821"/>
                    </a:lnTo>
                    <a:lnTo>
                      <a:pt x="155" y="6887"/>
                    </a:lnTo>
                    <a:lnTo>
                      <a:pt x="178" y="6952"/>
                    </a:lnTo>
                    <a:lnTo>
                      <a:pt x="206" y="6748"/>
                    </a:lnTo>
                    <a:lnTo>
                      <a:pt x="235" y="6543"/>
                    </a:lnTo>
                    <a:lnTo>
                      <a:pt x="263" y="6340"/>
                    </a:lnTo>
                    <a:lnTo>
                      <a:pt x="291" y="6136"/>
                    </a:lnTo>
                    <a:lnTo>
                      <a:pt x="320" y="5931"/>
                    </a:lnTo>
                    <a:lnTo>
                      <a:pt x="348" y="5728"/>
                    </a:lnTo>
                    <a:lnTo>
                      <a:pt x="377" y="5525"/>
                    </a:lnTo>
                    <a:lnTo>
                      <a:pt x="405" y="5322"/>
                    </a:lnTo>
                    <a:lnTo>
                      <a:pt x="432" y="5119"/>
                    </a:lnTo>
                    <a:lnTo>
                      <a:pt x="461" y="4916"/>
                    </a:lnTo>
                    <a:lnTo>
                      <a:pt x="489" y="4713"/>
                    </a:lnTo>
                    <a:lnTo>
                      <a:pt x="517" y="4511"/>
                    </a:lnTo>
                    <a:lnTo>
                      <a:pt x="544" y="4308"/>
                    </a:lnTo>
                    <a:lnTo>
                      <a:pt x="573" y="4105"/>
                    </a:lnTo>
                    <a:lnTo>
                      <a:pt x="601" y="3902"/>
                    </a:lnTo>
                    <a:lnTo>
                      <a:pt x="629" y="3700"/>
                    </a:lnTo>
                    <a:lnTo>
                      <a:pt x="657" y="3498"/>
                    </a:lnTo>
                    <a:lnTo>
                      <a:pt x="685" y="3296"/>
                    </a:lnTo>
                    <a:lnTo>
                      <a:pt x="714" y="3094"/>
                    </a:lnTo>
                    <a:lnTo>
                      <a:pt x="741" y="2892"/>
                    </a:lnTo>
                    <a:lnTo>
                      <a:pt x="769" y="2690"/>
                    </a:lnTo>
                    <a:lnTo>
                      <a:pt x="796" y="2489"/>
                    </a:lnTo>
                    <a:lnTo>
                      <a:pt x="825" y="2287"/>
                    </a:lnTo>
                    <a:lnTo>
                      <a:pt x="852" y="2086"/>
                    </a:lnTo>
                    <a:lnTo>
                      <a:pt x="880" y="1884"/>
                    </a:lnTo>
                    <a:lnTo>
                      <a:pt x="908" y="1682"/>
                    </a:lnTo>
                    <a:lnTo>
                      <a:pt x="936" y="1482"/>
                    </a:lnTo>
                    <a:lnTo>
                      <a:pt x="965" y="1281"/>
                    </a:lnTo>
                    <a:lnTo>
                      <a:pt x="993" y="1080"/>
                    </a:lnTo>
                    <a:lnTo>
                      <a:pt x="1020" y="880"/>
                    </a:lnTo>
                    <a:lnTo>
                      <a:pt x="1048" y="679"/>
                    </a:lnTo>
                    <a:lnTo>
                      <a:pt x="1076" y="478"/>
                    </a:lnTo>
                    <a:lnTo>
                      <a:pt x="1053" y="418"/>
                    </a:lnTo>
                    <a:lnTo>
                      <a:pt x="1030" y="358"/>
                    </a:lnTo>
                    <a:lnTo>
                      <a:pt x="1008" y="297"/>
                    </a:lnTo>
                    <a:lnTo>
                      <a:pt x="985" y="238"/>
                    </a:lnTo>
                    <a:lnTo>
                      <a:pt x="963" y="178"/>
                    </a:lnTo>
                    <a:lnTo>
                      <a:pt x="941" y="119"/>
                    </a:lnTo>
                    <a:lnTo>
                      <a:pt x="917" y="59"/>
                    </a:lnTo>
                    <a:lnTo>
                      <a:pt x="895" y="0"/>
                    </a:lnTo>
                    <a:lnTo>
                      <a:pt x="868" y="199"/>
                    </a:lnTo>
                    <a:lnTo>
                      <a:pt x="840" y="398"/>
                    </a:lnTo>
                    <a:lnTo>
                      <a:pt x="811" y="598"/>
                    </a:lnTo>
                    <a:lnTo>
                      <a:pt x="783" y="797"/>
                    </a:lnTo>
                    <a:lnTo>
                      <a:pt x="756" y="997"/>
                    </a:lnTo>
                    <a:lnTo>
                      <a:pt x="728" y="1197"/>
                    </a:lnTo>
                    <a:lnTo>
                      <a:pt x="701" y="1397"/>
                    </a:lnTo>
                    <a:lnTo>
                      <a:pt x="672" y="1596"/>
                    </a:lnTo>
                    <a:lnTo>
                      <a:pt x="644" y="1797"/>
                    </a:lnTo>
                    <a:lnTo>
                      <a:pt x="617" y="1997"/>
                    </a:lnTo>
                    <a:lnTo>
                      <a:pt x="589" y="2198"/>
                    </a:lnTo>
                    <a:lnTo>
                      <a:pt x="561" y="2399"/>
                    </a:lnTo>
                    <a:lnTo>
                      <a:pt x="533" y="2599"/>
                    </a:lnTo>
                    <a:lnTo>
                      <a:pt x="506" y="2800"/>
                    </a:lnTo>
                    <a:lnTo>
                      <a:pt x="478" y="3001"/>
                    </a:lnTo>
                    <a:lnTo>
                      <a:pt x="450" y="3201"/>
                    </a:lnTo>
                    <a:lnTo>
                      <a:pt x="421" y="3403"/>
                    </a:lnTo>
                    <a:lnTo>
                      <a:pt x="394" y="3604"/>
                    </a:lnTo>
                    <a:lnTo>
                      <a:pt x="366" y="3806"/>
                    </a:lnTo>
                    <a:lnTo>
                      <a:pt x="338" y="4008"/>
                    </a:lnTo>
                    <a:lnTo>
                      <a:pt x="311" y="4208"/>
                    </a:lnTo>
                    <a:lnTo>
                      <a:pt x="282" y="4410"/>
                    </a:lnTo>
                    <a:lnTo>
                      <a:pt x="254" y="4612"/>
                    </a:lnTo>
                    <a:lnTo>
                      <a:pt x="226" y="4814"/>
                    </a:lnTo>
                    <a:lnTo>
                      <a:pt x="198" y="5017"/>
                    </a:lnTo>
                    <a:lnTo>
                      <a:pt x="169" y="5219"/>
                    </a:lnTo>
                    <a:lnTo>
                      <a:pt x="141" y="5422"/>
                    </a:lnTo>
                    <a:lnTo>
                      <a:pt x="113" y="5624"/>
                    </a:lnTo>
                    <a:lnTo>
                      <a:pt x="85" y="5827"/>
                    </a:lnTo>
                    <a:lnTo>
                      <a:pt x="56" y="6029"/>
                    </a:lnTo>
                    <a:lnTo>
                      <a:pt x="28" y="6232"/>
                    </a:lnTo>
                    <a:lnTo>
                      <a:pt x="0" y="6434"/>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90640" y="1616760"/>
                <a:ext cx="401760" cy="1983960"/>
              </a:xfrm>
              <a:custGeom>
                <a:avLst/>
                <a:gdLst/>
                <a:ahLst/>
                <a:rect l="l" t="t" r="r" b="b"/>
                <a:pathLst>
                  <a:path w="1076" h="6952">
                    <a:moveTo>
                      <a:pt x="0" y="6434"/>
                    </a:moveTo>
                    <a:lnTo>
                      <a:pt x="22" y="6499"/>
                    </a:lnTo>
                    <a:lnTo>
                      <a:pt x="44" y="6563"/>
                    </a:lnTo>
                    <a:lnTo>
                      <a:pt x="66" y="6627"/>
                    </a:lnTo>
                    <a:lnTo>
                      <a:pt x="88" y="6692"/>
                    </a:lnTo>
                    <a:lnTo>
                      <a:pt x="110" y="6757"/>
                    </a:lnTo>
                    <a:lnTo>
                      <a:pt x="132" y="6821"/>
                    </a:lnTo>
                    <a:lnTo>
                      <a:pt x="155" y="6887"/>
                    </a:lnTo>
                    <a:lnTo>
                      <a:pt x="178" y="6952"/>
                    </a:lnTo>
                    <a:lnTo>
                      <a:pt x="206" y="6748"/>
                    </a:lnTo>
                    <a:lnTo>
                      <a:pt x="235" y="6543"/>
                    </a:lnTo>
                    <a:lnTo>
                      <a:pt x="263" y="6340"/>
                    </a:lnTo>
                    <a:lnTo>
                      <a:pt x="291" y="6136"/>
                    </a:lnTo>
                    <a:lnTo>
                      <a:pt x="320" y="5931"/>
                    </a:lnTo>
                    <a:lnTo>
                      <a:pt x="348" y="5728"/>
                    </a:lnTo>
                    <a:lnTo>
                      <a:pt x="377" y="5525"/>
                    </a:lnTo>
                    <a:lnTo>
                      <a:pt x="405" y="5322"/>
                    </a:lnTo>
                    <a:lnTo>
                      <a:pt x="432" y="5119"/>
                    </a:lnTo>
                    <a:lnTo>
                      <a:pt x="461" y="4916"/>
                    </a:lnTo>
                    <a:lnTo>
                      <a:pt x="489" y="4713"/>
                    </a:lnTo>
                    <a:lnTo>
                      <a:pt x="517" y="4511"/>
                    </a:lnTo>
                    <a:lnTo>
                      <a:pt x="544" y="4308"/>
                    </a:lnTo>
                    <a:lnTo>
                      <a:pt x="573" y="4105"/>
                    </a:lnTo>
                    <a:lnTo>
                      <a:pt x="601" y="3902"/>
                    </a:lnTo>
                    <a:lnTo>
                      <a:pt x="629" y="3700"/>
                    </a:lnTo>
                    <a:lnTo>
                      <a:pt x="657" y="3498"/>
                    </a:lnTo>
                    <a:lnTo>
                      <a:pt x="685" y="3296"/>
                    </a:lnTo>
                    <a:lnTo>
                      <a:pt x="714" y="3094"/>
                    </a:lnTo>
                    <a:lnTo>
                      <a:pt x="741" y="2892"/>
                    </a:lnTo>
                    <a:lnTo>
                      <a:pt x="769" y="2690"/>
                    </a:lnTo>
                    <a:lnTo>
                      <a:pt x="796" y="2489"/>
                    </a:lnTo>
                    <a:lnTo>
                      <a:pt x="825" y="2287"/>
                    </a:lnTo>
                    <a:lnTo>
                      <a:pt x="852" y="2086"/>
                    </a:lnTo>
                    <a:lnTo>
                      <a:pt x="880" y="1884"/>
                    </a:lnTo>
                    <a:lnTo>
                      <a:pt x="908" y="1682"/>
                    </a:lnTo>
                    <a:lnTo>
                      <a:pt x="936" y="1482"/>
                    </a:lnTo>
                    <a:lnTo>
                      <a:pt x="965" y="1281"/>
                    </a:lnTo>
                    <a:lnTo>
                      <a:pt x="993" y="1080"/>
                    </a:lnTo>
                    <a:lnTo>
                      <a:pt x="1020" y="880"/>
                    </a:lnTo>
                    <a:lnTo>
                      <a:pt x="1048" y="679"/>
                    </a:lnTo>
                    <a:lnTo>
                      <a:pt x="1076" y="478"/>
                    </a:lnTo>
                    <a:lnTo>
                      <a:pt x="1053" y="418"/>
                    </a:lnTo>
                    <a:lnTo>
                      <a:pt x="1030" y="358"/>
                    </a:lnTo>
                    <a:lnTo>
                      <a:pt x="1008" y="297"/>
                    </a:lnTo>
                    <a:lnTo>
                      <a:pt x="985" y="238"/>
                    </a:lnTo>
                    <a:lnTo>
                      <a:pt x="963" y="178"/>
                    </a:lnTo>
                    <a:lnTo>
                      <a:pt x="941" y="119"/>
                    </a:lnTo>
                    <a:lnTo>
                      <a:pt x="917" y="59"/>
                    </a:lnTo>
                    <a:lnTo>
                      <a:pt x="895" y="0"/>
                    </a:lnTo>
                    <a:lnTo>
                      <a:pt x="868" y="199"/>
                    </a:lnTo>
                    <a:lnTo>
                      <a:pt x="840" y="398"/>
                    </a:lnTo>
                    <a:lnTo>
                      <a:pt x="811" y="598"/>
                    </a:lnTo>
                    <a:lnTo>
                      <a:pt x="783" y="797"/>
                    </a:lnTo>
                    <a:lnTo>
                      <a:pt x="756" y="997"/>
                    </a:lnTo>
                    <a:lnTo>
                      <a:pt x="728" y="1197"/>
                    </a:lnTo>
                    <a:lnTo>
                      <a:pt x="701" y="1397"/>
                    </a:lnTo>
                    <a:lnTo>
                      <a:pt x="672" y="1596"/>
                    </a:lnTo>
                    <a:lnTo>
                      <a:pt x="644" y="1797"/>
                    </a:lnTo>
                    <a:lnTo>
                      <a:pt x="617" y="1997"/>
                    </a:lnTo>
                    <a:lnTo>
                      <a:pt x="589" y="2198"/>
                    </a:lnTo>
                    <a:lnTo>
                      <a:pt x="561" y="2399"/>
                    </a:lnTo>
                    <a:lnTo>
                      <a:pt x="533" y="2599"/>
                    </a:lnTo>
                    <a:lnTo>
                      <a:pt x="506" y="2800"/>
                    </a:lnTo>
                    <a:lnTo>
                      <a:pt x="478" y="3001"/>
                    </a:lnTo>
                    <a:lnTo>
                      <a:pt x="450" y="3201"/>
                    </a:lnTo>
                    <a:lnTo>
                      <a:pt x="421" y="3403"/>
                    </a:lnTo>
                    <a:lnTo>
                      <a:pt x="394" y="3604"/>
                    </a:lnTo>
                    <a:lnTo>
                      <a:pt x="366" y="3806"/>
                    </a:lnTo>
                    <a:lnTo>
                      <a:pt x="338" y="4008"/>
                    </a:lnTo>
                    <a:lnTo>
                      <a:pt x="311" y="4208"/>
                    </a:lnTo>
                    <a:lnTo>
                      <a:pt x="282" y="4410"/>
                    </a:lnTo>
                    <a:lnTo>
                      <a:pt x="254" y="4612"/>
                    </a:lnTo>
                    <a:lnTo>
                      <a:pt x="226" y="4814"/>
                    </a:lnTo>
                    <a:lnTo>
                      <a:pt x="198" y="5017"/>
                    </a:lnTo>
                    <a:lnTo>
                      <a:pt x="169" y="5219"/>
                    </a:lnTo>
                    <a:lnTo>
                      <a:pt x="141" y="5422"/>
                    </a:lnTo>
                    <a:lnTo>
                      <a:pt x="113" y="5624"/>
                    </a:lnTo>
                    <a:lnTo>
                      <a:pt x="85" y="5827"/>
                    </a:lnTo>
                    <a:lnTo>
                      <a:pt x="56" y="6029"/>
                    </a:lnTo>
                    <a:lnTo>
                      <a:pt x="28" y="6232"/>
                    </a:lnTo>
                    <a:lnTo>
                      <a:pt x="0" y="6434"/>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936960" y="1595520"/>
                <a:ext cx="437040" cy="2189520"/>
              </a:xfrm>
              <a:custGeom>
                <a:avLst/>
                <a:gdLst/>
                <a:ahLst/>
                <a:rect l="l" t="t" r="r" b="b"/>
                <a:pathLst>
                  <a:path w="1173" h="7673">
                    <a:moveTo>
                      <a:pt x="982" y="0"/>
                    </a:moveTo>
                    <a:lnTo>
                      <a:pt x="1006" y="62"/>
                    </a:lnTo>
                    <a:lnTo>
                      <a:pt x="1030" y="124"/>
                    </a:lnTo>
                    <a:lnTo>
                      <a:pt x="1054" y="184"/>
                    </a:lnTo>
                    <a:lnTo>
                      <a:pt x="1077" y="245"/>
                    </a:lnTo>
                    <a:lnTo>
                      <a:pt x="1101" y="306"/>
                    </a:lnTo>
                    <a:lnTo>
                      <a:pt x="1125" y="367"/>
                    </a:lnTo>
                    <a:lnTo>
                      <a:pt x="1150" y="428"/>
                    </a:lnTo>
                    <a:lnTo>
                      <a:pt x="1173" y="488"/>
                    </a:lnTo>
                    <a:lnTo>
                      <a:pt x="1142" y="711"/>
                    </a:lnTo>
                    <a:lnTo>
                      <a:pt x="1111" y="934"/>
                    </a:lnTo>
                    <a:lnTo>
                      <a:pt x="1081" y="1156"/>
                    </a:lnTo>
                    <a:lnTo>
                      <a:pt x="1051" y="1379"/>
                    </a:lnTo>
                    <a:lnTo>
                      <a:pt x="1019" y="1602"/>
                    </a:lnTo>
                    <a:lnTo>
                      <a:pt x="989" y="1825"/>
                    </a:lnTo>
                    <a:lnTo>
                      <a:pt x="959" y="2049"/>
                    </a:lnTo>
                    <a:lnTo>
                      <a:pt x="928" y="2272"/>
                    </a:lnTo>
                    <a:lnTo>
                      <a:pt x="898" y="2496"/>
                    </a:lnTo>
                    <a:lnTo>
                      <a:pt x="867" y="2718"/>
                    </a:lnTo>
                    <a:lnTo>
                      <a:pt x="836" y="2942"/>
                    </a:lnTo>
                    <a:lnTo>
                      <a:pt x="806" y="3166"/>
                    </a:lnTo>
                    <a:lnTo>
                      <a:pt x="775" y="3390"/>
                    </a:lnTo>
                    <a:lnTo>
                      <a:pt x="744" y="3613"/>
                    </a:lnTo>
                    <a:lnTo>
                      <a:pt x="713" y="3837"/>
                    </a:lnTo>
                    <a:lnTo>
                      <a:pt x="683" y="4061"/>
                    </a:lnTo>
                    <a:lnTo>
                      <a:pt x="652" y="4287"/>
                    </a:lnTo>
                    <a:lnTo>
                      <a:pt x="620" y="4512"/>
                    </a:lnTo>
                    <a:lnTo>
                      <a:pt x="589" y="4737"/>
                    </a:lnTo>
                    <a:lnTo>
                      <a:pt x="559" y="4962"/>
                    </a:lnTo>
                    <a:lnTo>
                      <a:pt x="528" y="5188"/>
                    </a:lnTo>
                    <a:lnTo>
                      <a:pt x="497" y="5413"/>
                    </a:lnTo>
                    <a:lnTo>
                      <a:pt x="466" y="5638"/>
                    </a:lnTo>
                    <a:lnTo>
                      <a:pt x="435" y="5863"/>
                    </a:lnTo>
                    <a:lnTo>
                      <a:pt x="405" y="6089"/>
                    </a:lnTo>
                    <a:lnTo>
                      <a:pt x="373" y="6315"/>
                    </a:lnTo>
                    <a:lnTo>
                      <a:pt x="342" y="6540"/>
                    </a:lnTo>
                    <a:lnTo>
                      <a:pt x="311" y="6767"/>
                    </a:lnTo>
                    <a:lnTo>
                      <a:pt x="280" y="6993"/>
                    </a:lnTo>
                    <a:lnTo>
                      <a:pt x="248" y="7220"/>
                    </a:lnTo>
                    <a:lnTo>
                      <a:pt x="218" y="7446"/>
                    </a:lnTo>
                    <a:lnTo>
                      <a:pt x="187" y="7673"/>
                    </a:lnTo>
                    <a:lnTo>
                      <a:pt x="163" y="7605"/>
                    </a:lnTo>
                    <a:lnTo>
                      <a:pt x="140" y="7539"/>
                    </a:lnTo>
                    <a:lnTo>
                      <a:pt x="116" y="7472"/>
                    </a:lnTo>
                    <a:lnTo>
                      <a:pt x="93" y="7406"/>
                    </a:lnTo>
                    <a:lnTo>
                      <a:pt x="70" y="7339"/>
                    </a:lnTo>
                    <a:lnTo>
                      <a:pt x="47" y="7273"/>
                    </a:lnTo>
                    <a:lnTo>
                      <a:pt x="24" y="7206"/>
                    </a:lnTo>
                    <a:lnTo>
                      <a:pt x="0" y="7140"/>
                    </a:lnTo>
                    <a:lnTo>
                      <a:pt x="32" y="6915"/>
                    </a:lnTo>
                    <a:lnTo>
                      <a:pt x="62" y="6689"/>
                    </a:lnTo>
                    <a:lnTo>
                      <a:pt x="93" y="6464"/>
                    </a:lnTo>
                    <a:lnTo>
                      <a:pt x="123" y="6239"/>
                    </a:lnTo>
                    <a:lnTo>
                      <a:pt x="155" y="6015"/>
                    </a:lnTo>
                    <a:lnTo>
                      <a:pt x="185" y="5790"/>
                    </a:lnTo>
                    <a:lnTo>
                      <a:pt x="216" y="5564"/>
                    </a:lnTo>
                    <a:lnTo>
                      <a:pt x="247" y="5340"/>
                    </a:lnTo>
                    <a:lnTo>
                      <a:pt x="278" y="5116"/>
                    </a:lnTo>
                    <a:lnTo>
                      <a:pt x="308" y="4892"/>
                    </a:lnTo>
                    <a:lnTo>
                      <a:pt x="339" y="4669"/>
                    </a:lnTo>
                    <a:lnTo>
                      <a:pt x="370" y="4445"/>
                    </a:lnTo>
                    <a:lnTo>
                      <a:pt x="401" y="4221"/>
                    </a:lnTo>
                    <a:lnTo>
                      <a:pt x="432" y="3999"/>
                    </a:lnTo>
                    <a:lnTo>
                      <a:pt x="462" y="3775"/>
                    </a:lnTo>
                    <a:lnTo>
                      <a:pt x="493" y="3552"/>
                    </a:lnTo>
                    <a:lnTo>
                      <a:pt x="524" y="3329"/>
                    </a:lnTo>
                    <a:lnTo>
                      <a:pt x="555" y="3105"/>
                    </a:lnTo>
                    <a:lnTo>
                      <a:pt x="585" y="2882"/>
                    </a:lnTo>
                    <a:lnTo>
                      <a:pt x="615" y="2661"/>
                    </a:lnTo>
                    <a:lnTo>
                      <a:pt x="646" y="2438"/>
                    </a:lnTo>
                    <a:lnTo>
                      <a:pt x="676" y="2215"/>
                    </a:lnTo>
                    <a:lnTo>
                      <a:pt x="706" y="1993"/>
                    </a:lnTo>
                    <a:lnTo>
                      <a:pt x="737" y="1771"/>
                    </a:lnTo>
                    <a:lnTo>
                      <a:pt x="767" y="1550"/>
                    </a:lnTo>
                    <a:lnTo>
                      <a:pt x="798" y="1329"/>
                    </a:lnTo>
                    <a:lnTo>
                      <a:pt x="829" y="1107"/>
                    </a:lnTo>
                    <a:lnTo>
                      <a:pt x="859" y="886"/>
                    </a:lnTo>
                    <a:lnTo>
                      <a:pt x="890" y="664"/>
                    </a:lnTo>
                    <a:lnTo>
                      <a:pt x="921" y="444"/>
                    </a:lnTo>
                    <a:lnTo>
                      <a:pt x="951" y="222"/>
                    </a:lnTo>
                    <a:lnTo>
                      <a:pt x="982"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936960" y="1595520"/>
                <a:ext cx="437040" cy="2189520"/>
              </a:xfrm>
              <a:custGeom>
                <a:avLst/>
                <a:gdLst/>
                <a:ahLst/>
                <a:rect l="l" t="t" r="r" b="b"/>
                <a:pathLst>
                  <a:path w="1173" h="7673">
                    <a:moveTo>
                      <a:pt x="982" y="0"/>
                    </a:moveTo>
                    <a:lnTo>
                      <a:pt x="1006" y="62"/>
                    </a:lnTo>
                    <a:lnTo>
                      <a:pt x="1030" y="124"/>
                    </a:lnTo>
                    <a:lnTo>
                      <a:pt x="1054" y="184"/>
                    </a:lnTo>
                    <a:lnTo>
                      <a:pt x="1077" y="245"/>
                    </a:lnTo>
                    <a:lnTo>
                      <a:pt x="1101" y="306"/>
                    </a:lnTo>
                    <a:lnTo>
                      <a:pt x="1125" y="367"/>
                    </a:lnTo>
                    <a:lnTo>
                      <a:pt x="1150" y="428"/>
                    </a:lnTo>
                    <a:lnTo>
                      <a:pt x="1173" y="488"/>
                    </a:lnTo>
                    <a:lnTo>
                      <a:pt x="1142" y="711"/>
                    </a:lnTo>
                    <a:lnTo>
                      <a:pt x="1111" y="934"/>
                    </a:lnTo>
                    <a:lnTo>
                      <a:pt x="1081" y="1156"/>
                    </a:lnTo>
                    <a:lnTo>
                      <a:pt x="1051" y="1379"/>
                    </a:lnTo>
                    <a:lnTo>
                      <a:pt x="1019" y="1602"/>
                    </a:lnTo>
                    <a:lnTo>
                      <a:pt x="989" y="1825"/>
                    </a:lnTo>
                    <a:lnTo>
                      <a:pt x="959" y="2049"/>
                    </a:lnTo>
                    <a:lnTo>
                      <a:pt x="928" y="2272"/>
                    </a:lnTo>
                    <a:lnTo>
                      <a:pt x="898" y="2496"/>
                    </a:lnTo>
                    <a:lnTo>
                      <a:pt x="867" y="2718"/>
                    </a:lnTo>
                    <a:lnTo>
                      <a:pt x="836" y="2942"/>
                    </a:lnTo>
                    <a:lnTo>
                      <a:pt x="806" y="3166"/>
                    </a:lnTo>
                    <a:lnTo>
                      <a:pt x="775" y="3390"/>
                    </a:lnTo>
                    <a:lnTo>
                      <a:pt x="744" y="3613"/>
                    </a:lnTo>
                    <a:lnTo>
                      <a:pt x="713" y="3837"/>
                    </a:lnTo>
                    <a:lnTo>
                      <a:pt x="683" y="4061"/>
                    </a:lnTo>
                    <a:lnTo>
                      <a:pt x="652" y="4287"/>
                    </a:lnTo>
                    <a:lnTo>
                      <a:pt x="620" y="4512"/>
                    </a:lnTo>
                    <a:lnTo>
                      <a:pt x="589" y="4737"/>
                    </a:lnTo>
                    <a:lnTo>
                      <a:pt x="559" y="4962"/>
                    </a:lnTo>
                    <a:lnTo>
                      <a:pt x="528" y="5188"/>
                    </a:lnTo>
                    <a:lnTo>
                      <a:pt x="497" y="5413"/>
                    </a:lnTo>
                    <a:lnTo>
                      <a:pt x="466" y="5638"/>
                    </a:lnTo>
                    <a:lnTo>
                      <a:pt x="435" y="5863"/>
                    </a:lnTo>
                    <a:lnTo>
                      <a:pt x="405" y="6089"/>
                    </a:lnTo>
                    <a:lnTo>
                      <a:pt x="373" y="6315"/>
                    </a:lnTo>
                    <a:lnTo>
                      <a:pt x="342" y="6540"/>
                    </a:lnTo>
                    <a:lnTo>
                      <a:pt x="311" y="6767"/>
                    </a:lnTo>
                    <a:lnTo>
                      <a:pt x="280" y="6993"/>
                    </a:lnTo>
                    <a:lnTo>
                      <a:pt x="248" y="7220"/>
                    </a:lnTo>
                    <a:lnTo>
                      <a:pt x="218" y="7446"/>
                    </a:lnTo>
                    <a:lnTo>
                      <a:pt x="187" y="7673"/>
                    </a:lnTo>
                    <a:lnTo>
                      <a:pt x="163" y="7605"/>
                    </a:lnTo>
                    <a:lnTo>
                      <a:pt x="140" y="7539"/>
                    </a:lnTo>
                    <a:lnTo>
                      <a:pt x="116" y="7472"/>
                    </a:lnTo>
                    <a:lnTo>
                      <a:pt x="93" y="7406"/>
                    </a:lnTo>
                    <a:lnTo>
                      <a:pt x="70" y="7339"/>
                    </a:lnTo>
                    <a:lnTo>
                      <a:pt x="47" y="7273"/>
                    </a:lnTo>
                    <a:lnTo>
                      <a:pt x="24" y="7206"/>
                    </a:lnTo>
                    <a:lnTo>
                      <a:pt x="0" y="7140"/>
                    </a:lnTo>
                    <a:lnTo>
                      <a:pt x="32" y="6915"/>
                    </a:lnTo>
                    <a:lnTo>
                      <a:pt x="62" y="6689"/>
                    </a:lnTo>
                    <a:lnTo>
                      <a:pt x="93" y="6464"/>
                    </a:lnTo>
                    <a:lnTo>
                      <a:pt x="123" y="6239"/>
                    </a:lnTo>
                    <a:lnTo>
                      <a:pt x="155" y="6015"/>
                    </a:lnTo>
                    <a:lnTo>
                      <a:pt x="185" y="5790"/>
                    </a:lnTo>
                    <a:lnTo>
                      <a:pt x="216" y="5564"/>
                    </a:lnTo>
                    <a:lnTo>
                      <a:pt x="247" y="5340"/>
                    </a:lnTo>
                    <a:lnTo>
                      <a:pt x="278" y="5116"/>
                    </a:lnTo>
                    <a:lnTo>
                      <a:pt x="308" y="4892"/>
                    </a:lnTo>
                    <a:lnTo>
                      <a:pt x="339" y="4669"/>
                    </a:lnTo>
                    <a:lnTo>
                      <a:pt x="370" y="4445"/>
                    </a:lnTo>
                    <a:lnTo>
                      <a:pt x="401" y="4221"/>
                    </a:lnTo>
                    <a:lnTo>
                      <a:pt x="432" y="3999"/>
                    </a:lnTo>
                    <a:lnTo>
                      <a:pt x="462" y="3775"/>
                    </a:lnTo>
                    <a:lnTo>
                      <a:pt x="493" y="3552"/>
                    </a:lnTo>
                    <a:lnTo>
                      <a:pt x="524" y="3329"/>
                    </a:lnTo>
                    <a:lnTo>
                      <a:pt x="555" y="3105"/>
                    </a:lnTo>
                    <a:lnTo>
                      <a:pt x="585" y="2882"/>
                    </a:lnTo>
                    <a:lnTo>
                      <a:pt x="615" y="2661"/>
                    </a:lnTo>
                    <a:lnTo>
                      <a:pt x="646" y="2438"/>
                    </a:lnTo>
                    <a:lnTo>
                      <a:pt x="676" y="2215"/>
                    </a:lnTo>
                    <a:lnTo>
                      <a:pt x="706" y="1993"/>
                    </a:lnTo>
                    <a:lnTo>
                      <a:pt x="737" y="1771"/>
                    </a:lnTo>
                    <a:lnTo>
                      <a:pt x="767" y="1550"/>
                    </a:lnTo>
                    <a:lnTo>
                      <a:pt x="798" y="1329"/>
                    </a:lnTo>
                    <a:lnTo>
                      <a:pt x="829" y="1107"/>
                    </a:lnTo>
                    <a:lnTo>
                      <a:pt x="859" y="886"/>
                    </a:lnTo>
                    <a:lnTo>
                      <a:pt x="890" y="664"/>
                    </a:lnTo>
                    <a:lnTo>
                      <a:pt x="921" y="444"/>
                    </a:lnTo>
                    <a:lnTo>
                      <a:pt x="951" y="222"/>
                    </a:lnTo>
                    <a:lnTo>
                      <a:pt x="982"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516120" y="3519360"/>
                <a:ext cx="489240" cy="265680"/>
              </a:xfrm>
              <a:custGeom>
                <a:avLst/>
                <a:gdLst/>
                <a:ahLst/>
                <a:rect l="l" t="t" r="r" b="b"/>
                <a:pathLst>
                  <a:path w="1314" h="932">
                    <a:moveTo>
                      <a:pt x="1127" y="399"/>
                    </a:moveTo>
                    <a:lnTo>
                      <a:pt x="1151" y="465"/>
                    </a:lnTo>
                    <a:lnTo>
                      <a:pt x="1174" y="532"/>
                    </a:lnTo>
                    <a:lnTo>
                      <a:pt x="1197" y="598"/>
                    </a:lnTo>
                    <a:lnTo>
                      <a:pt x="1220" y="665"/>
                    </a:lnTo>
                    <a:lnTo>
                      <a:pt x="1243" y="731"/>
                    </a:lnTo>
                    <a:lnTo>
                      <a:pt x="1267" y="798"/>
                    </a:lnTo>
                    <a:lnTo>
                      <a:pt x="1290" y="864"/>
                    </a:lnTo>
                    <a:lnTo>
                      <a:pt x="1314" y="932"/>
                    </a:lnTo>
                    <a:lnTo>
                      <a:pt x="1170" y="879"/>
                    </a:lnTo>
                    <a:lnTo>
                      <a:pt x="1027" y="827"/>
                    </a:lnTo>
                    <a:lnTo>
                      <a:pt x="883" y="774"/>
                    </a:lnTo>
                    <a:lnTo>
                      <a:pt x="741" y="723"/>
                    </a:lnTo>
                    <a:lnTo>
                      <a:pt x="600" y="671"/>
                    </a:lnTo>
                    <a:lnTo>
                      <a:pt x="458" y="621"/>
                    </a:lnTo>
                    <a:lnTo>
                      <a:pt x="318" y="569"/>
                    </a:lnTo>
                    <a:lnTo>
                      <a:pt x="178" y="518"/>
                    </a:lnTo>
                    <a:lnTo>
                      <a:pt x="156" y="453"/>
                    </a:lnTo>
                    <a:lnTo>
                      <a:pt x="134" y="389"/>
                    </a:lnTo>
                    <a:lnTo>
                      <a:pt x="111" y="324"/>
                    </a:lnTo>
                    <a:lnTo>
                      <a:pt x="89" y="259"/>
                    </a:lnTo>
                    <a:lnTo>
                      <a:pt x="67" y="195"/>
                    </a:lnTo>
                    <a:lnTo>
                      <a:pt x="45" y="129"/>
                    </a:lnTo>
                    <a:lnTo>
                      <a:pt x="23" y="65"/>
                    </a:lnTo>
                    <a:lnTo>
                      <a:pt x="0" y="0"/>
                    </a:lnTo>
                    <a:lnTo>
                      <a:pt x="139" y="49"/>
                    </a:lnTo>
                    <a:lnTo>
                      <a:pt x="278" y="99"/>
                    </a:lnTo>
                    <a:lnTo>
                      <a:pt x="418" y="148"/>
                    </a:lnTo>
                    <a:lnTo>
                      <a:pt x="558" y="197"/>
                    </a:lnTo>
                    <a:lnTo>
                      <a:pt x="700" y="248"/>
                    </a:lnTo>
                    <a:lnTo>
                      <a:pt x="841" y="298"/>
                    </a:lnTo>
                    <a:lnTo>
                      <a:pt x="984" y="348"/>
                    </a:lnTo>
                    <a:lnTo>
                      <a:pt x="1127" y="39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516120" y="3519360"/>
                <a:ext cx="489240" cy="265680"/>
              </a:xfrm>
              <a:custGeom>
                <a:avLst/>
                <a:gdLst/>
                <a:ahLst/>
                <a:rect l="l" t="t" r="r" b="b"/>
                <a:pathLst>
                  <a:path w="1314" h="932">
                    <a:moveTo>
                      <a:pt x="1127" y="399"/>
                    </a:moveTo>
                    <a:lnTo>
                      <a:pt x="1151" y="465"/>
                    </a:lnTo>
                    <a:lnTo>
                      <a:pt x="1174" y="532"/>
                    </a:lnTo>
                    <a:lnTo>
                      <a:pt x="1197" y="598"/>
                    </a:lnTo>
                    <a:lnTo>
                      <a:pt x="1220" y="665"/>
                    </a:lnTo>
                    <a:lnTo>
                      <a:pt x="1243" y="731"/>
                    </a:lnTo>
                    <a:lnTo>
                      <a:pt x="1267" y="798"/>
                    </a:lnTo>
                    <a:lnTo>
                      <a:pt x="1290" y="864"/>
                    </a:lnTo>
                    <a:lnTo>
                      <a:pt x="1314" y="932"/>
                    </a:lnTo>
                    <a:lnTo>
                      <a:pt x="1170" y="879"/>
                    </a:lnTo>
                    <a:lnTo>
                      <a:pt x="1027" y="827"/>
                    </a:lnTo>
                    <a:lnTo>
                      <a:pt x="883" y="774"/>
                    </a:lnTo>
                    <a:lnTo>
                      <a:pt x="741" y="723"/>
                    </a:lnTo>
                    <a:lnTo>
                      <a:pt x="600" y="671"/>
                    </a:lnTo>
                    <a:lnTo>
                      <a:pt x="458" y="621"/>
                    </a:lnTo>
                    <a:lnTo>
                      <a:pt x="318" y="569"/>
                    </a:lnTo>
                    <a:lnTo>
                      <a:pt x="178" y="518"/>
                    </a:lnTo>
                    <a:lnTo>
                      <a:pt x="156" y="453"/>
                    </a:lnTo>
                    <a:lnTo>
                      <a:pt x="134" y="389"/>
                    </a:lnTo>
                    <a:lnTo>
                      <a:pt x="111" y="324"/>
                    </a:lnTo>
                    <a:lnTo>
                      <a:pt x="89" y="259"/>
                    </a:lnTo>
                    <a:lnTo>
                      <a:pt x="67" y="195"/>
                    </a:lnTo>
                    <a:lnTo>
                      <a:pt x="45" y="129"/>
                    </a:lnTo>
                    <a:lnTo>
                      <a:pt x="23" y="65"/>
                    </a:lnTo>
                    <a:lnTo>
                      <a:pt x="0" y="0"/>
                    </a:lnTo>
                    <a:lnTo>
                      <a:pt x="139" y="49"/>
                    </a:lnTo>
                    <a:lnTo>
                      <a:pt x="278" y="99"/>
                    </a:lnTo>
                    <a:lnTo>
                      <a:pt x="418" y="148"/>
                    </a:lnTo>
                    <a:lnTo>
                      <a:pt x="558" y="197"/>
                    </a:lnTo>
                    <a:lnTo>
                      <a:pt x="700" y="248"/>
                    </a:lnTo>
                    <a:lnTo>
                      <a:pt x="841" y="298"/>
                    </a:lnTo>
                    <a:lnTo>
                      <a:pt x="984" y="348"/>
                    </a:lnTo>
                    <a:lnTo>
                      <a:pt x="1127" y="399"/>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516120" y="1525320"/>
                <a:ext cx="786240" cy="2107800"/>
              </a:xfrm>
              <a:custGeom>
                <a:avLst/>
                <a:gdLst/>
                <a:ahLst/>
                <a:rect l="l" t="t" r="r" b="b"/>
                <a:pathLst>
                  <a:path w="2109" h="7382">
                    <a:moveTo>
                      <a:pt x="973" y="0"/>
                    </a:moveTo>
                    <a:lnTo>
                      <a:pt x="1113" y="29"/>
                    </a:lnTo>
                    <a:lnTo>
                      <a:pt x="1253" y="60"/>
                    </a:lnTo>
                    <a:lnTo>
                      <a:pt x="1395" y="90"/>
                    </a:lnTo>
                    <a:lnTo>
                      <a:pt x="1537" y="121"/>
                    </a:lnTo>
                    <a:lnTo>
                      <a:pt x="1679" y="150"/>
                    </a:lnTo>
                    <a:lnTo>
                      <a:pt x="1822" y="181"/>
                    </a:lnTo>
                    <a:lnTo>
                      <a:pt x="1965" y="212"/>
                    </a:lnTo>
                    <a:lnTo>
                      <a:pt x="2109" y="242"/>
                    </a:lnTo>
                    <a:lnTo>
                      <a:pt x="2078" y="464"/>
                    </a:lnTo>
                    <a:lnTo>
                      <a:pt x="2048" y="686"/>
                    </a:lnTo>
                    <a:lnTo>
                      <a:pt x="2017" y="906"/>
                    </a:lnTo>
                    <a:lnTo>
                      <a:pt x="1986" y="1128"/>
                    </a:lnTo>
                    <a:lnTo>
                      <a:pt x="1956" y="1349"/>
                    </a:lnTo>
                    <a:lnTo>
                      <a:pt x="1925" y="1571"/>
                    </a:lnTo>
                    <a:lnTo>
                      <a:pt x="1894" y="1792"/>
                    </a:lnTo>
                    <a:lnTo>
                      <a:pt x="1864" y="2013"/>
                    </a:lnTo>
                    <a:lnTo>
                      <a:pt x="1833" y="2235"/>
                    </a:lnTo>
                    <a:lnTo>
                      <a:pt x="1803" y="2457"/>
                    </a:lnTo>
                    <a:lnTo>
                      <a:pt x="1773" y="2680"/>
                    </a:lnTo>
                    <a:lnTo>
                      <a:pt x="1742" y="2903"/>
                    </a:lnTo>
                    <a:lnTo>
                      <a:pt x="1712" y="3124"/>
                    </a:lnTo>
                    <a:lnTo>
                      <a:pt x="1682" y="3347"/>
                    </a:lnTo>
                    <a:lnTo>
                      <a:pt x="1651" y="3571"/>
                    </a:lnTo>
                    <a:lnTo>
                      <a:pt x="1620" y="3794"/>
                    </a:lnTo>
                    <a:lnTo>
                      <a:pt x="1589" y="4017"/>
                    </a:lnTo>
                    <a:lnTo>
                      <a:pt x="1559" y="4241"/>
                    </a:lnTo>
                    <a:lnTo>
                      <a:pt x="1528" y="4463"/>
                    </a:lnTo>
                    <a:lnTo>
                      <a:pt x="1497" y="4687"/>
                    </a:lnTo>
                    <a:lnTo>
                      <a:pt x="1466" y="4911"/>
                    </a:lnTo>
                    <a:lnTo>
                      <a:pt x="1435" y="5134"/>
                    </a:lnTo>
                    <a:lnTo>
                      <a:pt x="1405" y="5358"/>
                    </a:lnTo>
                    <a:lnTo>
                      <a:pt x="1374" y="5582"/>
                    </a:lnTo>
                    <a:lnTo>
                      <a:pt x="1343" y="5806"/>
                    </a:lnTo>
                    <a:lnTo>
                      <a:pt x="1312" y="6032"/>
                    </a:lnTo>
                    <a:lnTo>
                      <a:pt x="1282" y="6257"/>
                    </a:lnTo>
                    <a:lnTo>
                      <a:pt x="1250" y="6481"/>
                    </a:lnTo>
                    <a:lnTo>
                      <a:pt x="1220" y="6706"/>
                    </a:lnTo>
                    <a:lnTo>
                      <a:pt x="1189" y="6931"/>
                    </a:lnTo>
                    <a:lnTo>
                      <a:pt x="1159" y="7157"/>
                    </a:lnTo>
                    <a:lnTo>
                      <a:pt x="1127" y="7382"/>
                    </a:lnTo>
                    <a:lnTo>
                      <a:pt x="984" y="7331"/>
                    </a:lnTo>
                    <a:lnTo>
                      <a:pt x="841" y="7281"/>
                    </a:lnTo>
                    <a:lnTo>
                      <a:pt x="700" y="7231"/>
                    </a:lnTo>
                    <a:lnTo>
                      <a:pt x="558" y="7180"/>
                    </a:lnTo>
                    <a:lnTo>
                      <a:pt x="418" y="7131"/>
                    </a:lnTo>
                    <a:lnTo>
                      <a:pt x="278" y="7082"/>
                    </a:lnTo>
                    <a:lnTo>
                      <a:pt x="139" y="7032"/>
                    </a:lnTo>
                    <a:lnTo>
                      <a:pt x="0" y="6983"/>
                    </a:lnTo>
                    <a:lnTo>
                      <a:pt x="31" y="6763"/>
                    </a:lnTo>
                    <a:lnTo>
                      <a:pt x="62" y="6544"/>
                    </a:lnTo>
                    <a:lnTo>
                      <a:pt x="92" y="6323"/>
                    </a:lnTo>
                    <a:lnTo>
                      <a:pt x="122" y="6103"/>
                    </a:lnTo>
                    <a:lnTo>
                      <a:pt x="153" y="5883"/>
                    </a:lnTo>
                    <a:lnTo>
                      <a:pt x="184" y="5662"/>
                    </a:lnTo>
                    <a:lnTo>
                      <a:pt x="214" y="5443"/>
                    </a:lnTo>
                    <a:lnTo>
                      <a:pt x="244" y="5223"/>
                    </a:lnTo>
                    <a:lnTo>
                      <a:pt x="275" y="5004"/>
                    </a:lnTo>
                    <a:lnTo>
                      <a:pt x="306" y="4785"/>
                    </a:lnTo>
                    <a:lnTo>
                      <a:pt x="336" y="4566"/>
                    </a:lnTo>
                    <a:lnTo>
                      <a:pt x="367" y="4348"/>
                    </a:lnTo>
                    <a:lnTo>
                      <a:pt x="398" y="4129"/>
                    </a:lnTo>
                    <a:lnTo>
                      <a:pt x="428" y="3909"/>
                    </a:lnTo>
                    <a:lnTo>
                      <a:pt x="459" y="3692"/>
                    </a:lnTo>
                    <a:lnTo>
                      <a:pt x="489" y="3472"/>
                    </a:lnTo>
                    <a:lnTo>
                      <a:pt x="520" y="3255"/>
                    </a:lnTo>
                    <a:lnTo>
                      <a:pt x="550" y="3037"/>
                    </a:lnTo>
                    <a:lnTo>
                      <a:pt x="580" y="2819"/>
                    </a:lnTo>
                    <a:lnTo>
                      <a:pt x="610" y="2601"/>
                    </a:lnTo>
                    <a:lnTo>
                      <a:pt x="641" y="2383"/>
                    </a:lnTo>
                    <a:lnTo>
                      <a:pt x="671" y="2166"/>
                    </a:lnTo>
                    <a:lnTo>
                      <a:pt x="701" y="1949"/>
                    </a:lnTo>
                    <a:lnTo>
                      <a:pt x="731" y="1731"/>
                    </a:lnTo>
                    <a:lnTo>
                      <a:pt x="760" y="1515"/>
                    </a:lnTo>
                    <a:lnTo>
                      <a:pt x="791" y="1299"/>
                    </a:lnTo>
                    <a:lnTo>
                      <a:pt x="821" y="1082"/>
                    </a:lnTo>
                    <a:lnTo>
                      <a:pt x="851" y="865"/>
                    </a:lnTo>
                    <a:lnTo>
                      <a:pt x="881" y="649"/>
                    </a:lnTo>
                    <a:lnTo>
                      <a:pt x="913" y="432"/>
                    </a:lnTo>
                    <a:lnTo>
                      <a:pt x="943" y="217"/>
                    </a:lnTo>
                    <a:lnTo>
                      <a:pt x="973" y="0"/>
                    </a:lnTo>
                    <a:close/>
                    <a:moveTo>
                      <a:pt x="1094" y="318"/>
                    </a:moveTo>
                    <a:lnTo>
                      <a:pt x="1194" y="340"/>
                    </a:lnTo>
                    <a:lnTo>
                      <a:pt x="1295" y="362"/>
                    </a:lnTo>
                    <a:lnTo>
                      <a:pt x="1396" y="384"/>
                    </a:lnTo>
                    <a:lnTo>
                      <a:pt x="1496" y="406"/>
                    </a:lnTo>
                    <a:lnTo>
                      <a:pt x="1597" y="428"/>
                    </a:lnTo>
                    <a:lnTo>
                      <a:pt x="1699" y="450"/>
                    </a:lnTo>
                    <a:lnTo>
                      <a:pt x="1801" y="473"/>
                    </a:lnTo>
                    <a:lnTo>
                      <a:pt x="1904" y="496"/>
                    </a:lnTo>
                    <a:lnTo>
                      <a:pt x="1876" y="698"/>
                    </a:lnTo>
                    <a:lnTo>
                      <a:pt x="1848" y="900"/>
                    </a:lnTo>
                    <a:lnTo>
                      <a:pt x="1820" y="1103"/>
                    </a:lnTo>
                    <a:lnTo>
                      <a:pt x="1793" y="1306"/>
                    </a:lnTo>
                    <a:lnTo>
                      <a:pt x="1764" y="1509"/>
                    </a:lnTo>
                    <a:lnTo>
                      <a:pt x="1737" y="1711"/>
                    </a:lnTo>
                    <a:lnTo>
                      <a:pt x="1709" y="1914"/>
                    </a:lnTo>
                    <a:lnTo>
                      <a:pt x="1681" y="2118"/>
                    </a:lnTo>
                    <a:lnTo>
                      <a:pt x="1653" y="2322"/>
                    </a:lnTo>
                    <a:lnTo>
                      <a:pt x="1625" y="2526"/>
                    </a:lnTo>
                    <a:lnTo>
                      <a:pt x="1597" y="2729"/>
                    </a:lnTo>
                    <a:lnTo>
                      <a:pt x="1569" y="2933"/>
                    </a:lnTo>
                    <a:lnTo>
                      <a:pt x="1542" y="3136"/>
                    </a:lnTo>
                    <a:lnTo>
                      <a:pt x="1513" y="3341"/>
                    </a:lnTo>
                    <a:lnTo>
                      <a:pt x="1485" y="3544"/>
                    </a:lnTo>
                    <a:lnTo>
                      <a:pt x="1457" y="3748"/>
                    </a:lnTo>
                    <a:lnTo>
                      <a:pt x="1429" y="3953"/>
                    </a:lnTo>
                    <a:lnTo>
                      <a:pt x="1401" y="4157"/>
                    </a:lnTo>
                    <a:lnTo>
                      <a:pt x="1372" y="4361"/>
                    </a:lnTo>
                    <a:lnTo>
                      <a:pt x="1344" y="4567"/>
                    </a:lnTo>
                    <a:lnTo>
                      <a:pt x="1316" y="4771"/>
                    </a:lnTo>
                    <a:lnTo>
                      <a:pt x="1288" y="4975"/>
                    </a:lnTo>
                    <a:lnTo>
                      <a:pt x="1259" y="5181"/>
                    </a:lnTo>
                    <a:lnTo>
                      <a:pt x="1231" y="5385"/>
                    </a:lnTo>
                    <a:lnTo>
                      <a:pt x="1203" y="5591"/>
                    </a:lnTo>
                    <a:lnTo>
                      <a:pt x="1174" y="5796"/>
                    </a:lnTo>
                    <a:lnTo>
                      <a:pt x="1146" y="6002"/>
                    </a:lnTo>
                    <a:lnTo>
                      <a:pt x="1117" y="6208"/>
                    </a:lnTo>
                    <a:lnTo>
                      <a:pt x="1089" y="6413"/>
                    </a:lnTo>
                    <a:lnTo>
                      <a:pt x="1060" y="6619"/>
                    </a:lnTo>
                    <a:lnTo>
                      <a:pt x="1032" y="6826"/>
                    </a:lnTo>
                    <a:lnTo>
                      <a:pt x="1003" y="7031"/>
                    </a:lnTo>
                    <a:lnTo>
                      <a:pt x="902" y="6995"/>
                    </a:lnTo>
                    <a:lnTo>
                      <a:pt x="801" y="6961"/>
                    </a:lnTo>
                    <a:lnTo>
                      <a:pt x="700" y="6925"/>
                    </a:lnTo>
                    <a:lnTo>
                      <a:pt x="599" y="6890"/>
                    </a:lnTo>
                    <a:lnTo>
                      <a:pt x="499" y="6855"/>
                    </a:lnTo>
                    <a:lnTo>
                      <a:pt x="399" y="6821"/>
                    </a:lnTo>
                    <a:lnTo>
                      <a:pt x="299" y="6786"/>
                    </a:lnTo>
                    <a:lnTo>
                      <a:pt x="199" y="6752"/>
                    </a:lnTo>
                    <a:lnTo>
                      <a:pt x="227" y="6550"/>
                    </a:lnTo>
                    <a:lnTo>
                      <a:pt x="255" y="6347"/>
                    </a:lnTo>
                    <a:lnTo>
                      <a:pt x="284" y="6145"/>
                    </a:lnTo>
                    <a:lnTo>
                      <a:pt x="312" y="5942"/>
                    </a:lnTo>
                    <a:lnTo>
                      <a:pt x="340" y="5740"/>
                    </a:lnTo>
                    <a:lnTo>
                      <a:pt x="368" y="5537"/>
                    </a:lnTo>
                    <a:lnTo>
                      <a:pt x="397" y="5335"/>
                    </a:lnTo>
                    <a:lnTo>
                      <a:pt x="425" y="5132"/>
                    </a:lnTo>
                    <a:lnTo>
                      <a:pt x="453" y="4930"/>
                    </a:lnTo>
                    <a:lnTo>
                      <a:pt x="481" y="4728"/>
                    </a:lnTo>
                    <a:lnTo>
                      <a:pt x="510" y="4526"/>
                    </a:lnTo>
                    <a:lnTo>
                      <a:pt x="537" y="4326"/>
                    </a:lnTo>
                    <a:lnTo>
                      <a:pt x="565" y="4124"/>
                    </a:lnTo>
                    <a:lnTo>
                      <a:pt x="593" y="3922"/>
                    </a:lnTo>
                    <a:lnTo>
                      <a:pt x="620" y="3721"/>
                    </a:lnTo>
                    <a:lnTo>
                      <a:pt x="649" y="3519"/>
                    </a:lnTo>
                    <a:lnTo>
                      <a:pt x="677" y="3319"/>
                    </a:lnTo>
                    <a:lnTo>
                      <a:pt x="705" y="3118"/>
                    </a:lnTo>
                    <a:lnTo>
                      <a:pt x="732" y="2917"/>
                    </a:lnTo>
                    <a:lnTo>
                      <a:pt x="760" y="2717"/>
                    </a:lnTo>
                    <a:lnTo>
                      <a:pt x="788" y="2516"/>
                    </a:lnTo>
                    <a:lnTo>
                      <a:pt x="816" y="2315"/>
                    </a:lnTo>
                    <a:lnTo>
                      <a:pt x="843" y="2115"/>
                    </a:lnTo>
                    <a:lnTo>
                      <a:pt x="871" y="1914"/>
                    </a:lnTo>
                    <a:lnTo>
                      <a:pt x="900" y="1715"/>
                    </a:lnTo>
                    <a:lnTo>
                      <a:pt x="927" y="1515"/>
                    </a:lnTo>
                    <a:lnTo>
                      <a:pt x="955" y="1315"/>
                    </a:lnTo>
                    <a:lnTo>
                      <a:pt x="982" y="1115"/>
                    </a:lnTo>
                    <a:lnTo>
                      <a:pt x="1010" y="916"/>
                    </a:lnTo>
                    <a:lnTo>
                      <a:pt x="1039" y="716"/>
                    </a:lnTo>
                    <a:lnTo>
                      <a:pt x="1067" y="517"/>
                    </a:lnTo>
                    <a:lnTo>
                      <a:pt x="1094" y="318"/>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516120" y="1525320"/>
                <a:ext cx="786240" cy="2107800"/>
              </a:xfrm>
              <a:custGeom>
                <a:avLst/>
                <a:gdLst/>
                <a:ahLst/>
                <a:rect l="l" t="t" r="r" b="b"/>
                <a:pathLst>
                  <a:path w="2109" h="7382">
                    <a:moveTo>
                      <a:pt x="973" y="0"/>
                    </a:moveTo>
                    <a:lnTo>
                      <a:pt x="1113" y="29"/>
                    </a:lnTo>
                    <a:lnTo>
                      <a:pt x="1253" y="60"/>
                    </a:lnTo>
                    <a:lnTo>
                      <a:pt x="1395" y="90"/>
                    </a:lnTo>
                    <a:lnTo>
                      <a:pt x="1537" y="121"/>
                    </a:lnTo>
                    <a:lnTo>
                      <a:pt x="1679" y="150"/>
                    </a:lnTo>
                    <a:lnTo>
                      <a:pt x="1822" y="181"/>
                    </a:lnTo>
                    <a:lnTo>
                      <a:pt x="1965" y="212"/>
                    </a:lnTo>
                    <a:lnTo>
                      <a:pt x="2109" y="242"/>
                    </a:lnTo>
                    <a:lnTo>
                      <a:pt x="2078" y="464"/>
                    </a:lnTo>
                    <a:lnTo>
                      <a:pt x="2048" y="686"/>
                    </a:lnTo>
                    <a:lnTo>
                      <a:pt x="2017" y="906"/>
                    </a:lnTo>
                    <a:lnTo>
                      <a:pt x="1986" y="1128"/>
                    </a:lnTo>
                    <a:lnTo>
                      <a:pt x="1956" y="1349"/>
                    </a:lnTo>
                    <a:lnTo>
                      <a:pt x="1925" y="1571"/>
                    </a:lnTo>
                    <a:lnTo>
                      <a:pt x="1894" y="1792"/>
                    </a:lnTo>
                    <a:lnTo>
                      <a:pt x="1864" y="2013"/>
                    </a:lnTo>
                    <a:lnTo>
                      <a:pt x="1833" y="2235"/>
                    </a:lnTo>
                    <a:lnTo>
                      <a:pt x="1803" y="2457"/>
                    </a:lnTo>
                    <a:lnTo>
                      <a:pt x="1773" y="2680"/>
                    </a:lnTo>
                    <a:lnTo>
                      <a:pt x="1742" y="2903"/>
                    </a:lnTo>
                    <a:lnTo>
                      <a:pt x="1712" y="3124"/>
                    </a:lnTo>
                    <a:lnTo>
                      <a:pt x="1682" y="3347"/>
                    </a:lnTo>
                    <a:lnTo>
                      <a:pt x="1651" y="3571"/>
                    </a:lnTo>
                    <a:lnTo>
                      <a:pt x="1620" y="3794"/>
                    </a:lnTo>
                    <a:lnTo>
                      <a:pt x="1589" y="4017"/>
                    </a:lnTo>
                    <a:lnTo>
                      <a:pt x="1559" y="4241"/>
                    </a:lnTo>
                    <a:lnTo>
                      <a:pt x="1528" y="4463"/>
                    </a:lnTo>
                    <a:lnTo>
                      <a:pt x="1497" y="4687"/>
                    </a:lnTo>
                    <a:lnTo>
                      <a:pt x="1466" y="4911"/>
                    </a:lnTo>
                    <a:lnTo>
                      <a:pt x="1435" y="5134"/>
                    </a:lnTo>
                    <a:lnTo>
                      <a:pt x="1405" y="5358"/>
                    </a:lnTo>
                    <a:lnTo>
                      <a:pt x="1374" y="5582"/>
                    </a:lnTo>
                    <a:lnTo>
                      <a:pt x="1343" y="5806"/>
                    </a:lnTo>
                    <a:lnTo>
                      <a:pt x="1312" y="6032"/>
                    </a:lnTo>
                    <a:lnTo>
                      <a:pt x="1282" y="6257"/>
                    </a:lnTo>
                    <a:lnTo>
                      <a:pt x="1250" y="6481"/>
                    </a:lnTo>
                    <a:lnTo>
                      <a:pt x="1220" y="6706"/>
                    </a:lnTo>
                    <a:lnTo>
                      <a:pt x="1189" y="6931"/>
                    </a:lnTo>
                    <a:lnTo>
                      <a:pt x="1159" y="7157"/>
                    </a:lnTo>
                    <a:lnTo>
                      <a:pt x="1127" y="7382"/>
                    </a:lnTo>
                    <a:lnTo>
                      <a:pt x="984" y="7331"/>
                    </a:lnTo>
                    <a:lnTo>
                      <a:pt x="841" y="7281"/>
                    </a:lnTo>
                    <a:lnTo>
                      <a:pt x="700" y="7231"/>
                    </a:lnTo>
                    <a:lnTo>
                      <a:pt x="558" y="7180"/>
                    </a:lnTo>
                    <a:lnTo>
                      <a:pt x="418" y="7131"/>
                    </a:lnTo>
                    <a:lnTo>
                      <a:pt x="278" y="7082"/>
                    </a:lnTo>
                    <a:lnTo>
                      <a:pt x="139" y="7032"/>
                    </a:lnTo>
                    <a:lnTo>
                      <a:pt x="0" y="6983"/>
                    </a:lnTo>
                    <a:lnTo>
                      <a:pt x="31" y="6763"/>
                    </a:lnTo>
                    <a:lnTo>
                      <a:pt x="62" y="6544"/>
                    </a:lnTo>
                    <a:lnTo>
                      <a:pt x="92" y="6323"/>
                    </a:lnTo>
                    <a:lnTo>
                      <a:pt x="122" y="6103"/>
                    </a:lnTo>
                    <a:lnTo>
                      <a:pt x="153" y="5883"/>
                    </a:lnTo>
                    <a:lnTo>
                      <a:pt x="184" y="5662"/>
                    </a:lnTo>
                    <a:lnTo>
                      <a:pt x="214" y="5443"/>
                    </a:lnTo>
                    <a:lnTo>
                      <a:pt x="244" y="5223"/>
                    </a:lnTo>
                    <a:lnTo>
                      <a:pt x="275" y="5004"/>
                    </a:lnTo>
                    <a:lnTo>
                      <a:pt x="306" y="4785"/>
                    </a:lnTo>
                    <a:lnTo>
                      <a:pt x="336" y="4566"/>
                    </a:lnTo>
                    <a:lnTo>
                      <a:pt x="367" y="4348"/>
                    </a:lnTo>
                    <a:lnTo>
                      <a:pt x="398" y="4129"/>
                    </a:lnTo>
                    <a:lnTo>
                      <a:pt x="428" y="3909"/>
                    </a:lnTo>
                    <a:lnTo>
                      <a:pt x="459" y="3692"/>
                    </a:lnTo>
                    <a:lnTo>
                      <a:pt x="489" y="3472"/>
                    </a:lnTo>
                    <a:lnTo>
                      <a:pt x="520" y="3255"/>
                    </a:lnTo>
                    <a:lnTo>
                      <a:pt x="550" y="3037"/>
                    </a:lnTo>
                    <a:lnTo>
                      <a:pt x="580" y="2819"/>
                    </a:lnTo>
                    <a:lnTo>
                      <a:pt x="610" y="2601"/>
                    </a:lnTo>
                    <a:lnTo>
                      <a:pt x="641" y="2383"/>
                    </a:lnTo>
                    <a:lnTo>
                      <a:pt x="671" y="2166"/>
                    </a:lnTo>
                    <a:lnTo>
                      <a:pt x="701" y="1949"/>
                    </a:lnTo>
                    <a:lnTo>
                      <a:pt x="731" y="1731"/>
                    </a:lnTo>
                    <a:lnTo>
                      <a:pt x="760" y="1515"/>
                    </a:lnTo>
                    <a:lnTo>
                      <a:pt x="791" y="1299"/>
                    </a:lnTo>
                    <a:lnTo>
                      <a:pt x="821" y="1082"/>
                    </a:lnTo>
                    <a:lnTo>
                      <a:pt x="851" y="865"/>
                    </a:lnTo>
                    <a:lnTo>
                      <a:pt x="881" y="649"/>
                    </a:lnTo>
                    <a:lnTo>
                      <a:pt x="913" y="432"/>
                    </a:lnTo>
                    <a:lnTo>
                      <a:pt x="943" y="217"/>
                    </a:lnTo>
                    <a:lnTo>
                      <a:pt x="97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590640" y="1616760"/>
                <a:ext cx="635760" cy="1915200"/>
              </a:xfrm>
              <a:custGeom>
                <a:avLst/>
                <a:gdLst/>
                <a:ahLst/>
                <a:rect l="l" t="t" r="r" b="b"/>
                <a:pathLst>
                  <a:path w="1705" h="6713">
                    <a:moveTo>
                      <a:pt x="895" y="0"/>
                    </a:moveTo>
                    <a:lnTo>
                      <a:pt x="995" y="22"/>
                    </a:lnTo>
                    <a:lnTo>
                      <a:pt x="1096" y="44"/>
                    </a:lnTo>
                    <a:lnTo>
                      <a:pt x="1197" y="66"/>
                    </a:lnTo>
                    <a:lnTo>
                      <a:pt x="1297" y="88"/>
                    </a:lnTo>
                    <a:lnTo>
                      <a:pt x="1398" y="110"/>
                    </a:lnTo>
                    <a:lnTo>
                      <a:pt x="1500" y="132"/>
                    </a:lnTo>
                    <a:lnTo>
                      <a:pt x="1602" y="155"/>
                    </a:lnTo>
                    <a:lnTo>
                      <a:pt x="1705" y="178"/>
                    </a:lnTo>
                    <a:lnTo>
                      <a:pt x="1677" y="380"/>
                    </a:lnTo>
                    <a:lnTo>
                      <a:pt x="1649" y="582"/>
                    </a:lnTo>
                    <a:lnTo>
                      <a:pt x="1621" y="785"/>
                    </a:lnTo>
                    <a:lnTo>
                      <a:pt x="1594" y="988"/>
                    </a:lnTo>
                    <a:lnTo>
                      <a:pt x="1565" y="1191"/>
                    </a:lnTo>
                    <a:lnTo>
                      <a:pt x="1538" y="1393"/>
                    </a:lnTo>
                    <a:lnTo>
                      <a:pt x="1510" y="1596"/>
                    </a:lnTo>
                    <a:lnTo>
                      <a:pt x="1482" y="1800"/>
                    </a:lnTo>
                    <a:lnTo>
                      <a:pt x="1454" y="2004"/>
                    </a:lnTo>
                    <a:lnTo>
                      <a:pt x="1426" y="2208"/>
                    </a:lnTo>
                    <a:lnTo>
                      <a:pt x="1398" y="2411"/>
                    </a:lnTo>
                    <a:lnTo>
                      <a:pt x="1370" y="2615"/>
                    </a:lnTo>
                    <a:lnTo>
                      <a:pt x="1343" y="2818"/>
                    </a:lnTo>
                    <a:lnTo>
                      <a:pt x="1314" y="3023"/>
                    </a:lnTo>
                    <a:lnTo>
                      <a:pt x="1286" y="3226"/>
                    </a:lnTo>
                    <a:lnTo>
                      <a:pt x="1258" y="3430"/>
                    </a:lnTo>
                    <a:lnTo>
                      <a:pt x="1230" y="3635"/>
                    </a:lnTo>
                    <a:lnTo>
                      <a:pt x="1202" y="3839"/>
                    </a:lnTo>
                    <a:lnTo>
                      <a:pt x="1173" y="4043"/>
                    </a:lnTo>
                    <a:lnTo>
                      <a:pt x="1145" y="4249"/>
                    </a:lnTo>
                    <a:lnTo>
                      <a:pt x="1117" y="4453"/>
                    </a:lnTo>
                    <a:lnTo>
                      <a:pt x="1089" y="4657"/>
                    </a:lnTo>
                    <a:lnTo>
                      <a:pt x="1060" y="4863"/>
                    </a:lnTo>
                    <a:lnTo>
                      <a:pt x="1032" y="5067"/>
                    </a:lnTo>
                    <a:lnTo>
                      <a:pt x="1004" y="5273"/>
                    </a:lnTo>
                    <a:lnTo>
                      <a:pt x="975" y="5478"/>
                    </a:lnTo>
                    <a:lnTo>
                      <a:pt x="947" y="5684"/>
                    </a:lnTo>
                    <a:lnTo>
                      <a:pt x="918" y="5890"/>
                    </a:lnTo>
                    <a:lnTo>
                      <a:pt x="890" y="6095"/>
                    </a:lnTo>
                    <a:lnTo>
                      <a:pt x="861" y="6301"/>
                    </a:lnTo>
                    <a:lnTo>
                      <a:pt x="833" y="6508"/>
                    </a:lnTo>
                    <a:lnTo>
                      <a:pt x="804" y="6713"/>
                    </a:lnTo>
                    <a:lnTo>
                      <a:pt x="703" y="6677"/>
                    </a:lnTo>
                    <a:lnTo>
                      <a:pt x="602" y="6643"/>
                    </a:lnTo>
                    <a:lnTo>
                      <a:pt x="501" y="6607"/>
                    </a:lnTo>
                    <a:lnTo>
                      <a:pt x="400" y="6572"/>
                    </a:lnTo>
                    <a:lnTo>
                      <a:pt x="300" y="6537"/>
                    </a:lnTo>
                    <a:lnTo>
                      <a:pt x="200" y="6503"/>
                    </a:lnTo>
                    <a:lnTo>
                      <a:pt x="100" y="6468"/>
                    </a:lnTo>
                    <a:lnTo>
                      <a:pt x="0" y="6434"/>
                    </a:lnTo>
                    <a:lnTo>
                      <a:pt x="28" y="6232"/>
                    </a:lnTo>
                    <a:lnTo>
                      <a:pt x="56" y="6029"/>
                    </a:lnTo>
                    <a:lnTo>
                      <a:pt x="85" y="5827"/>
                    </a:lnTo>
                    <a:lnTo>
                      <a:pt x="113" y="5624"/>
                    </a:lnTo>
                    <a:lnTo>
                      <a:pt x="141" y="5422"/>
                    </a:lnTo>
                    <a:lnTo>
                      <a:pt x="169" y="5219"/>
                    </a:lnTo>
                    <a:lnTo>
                      <a:pt x="198" y="5017"/>
                    </a:lnTo>
                    <a:lnTo>
                      <a:pt x="226" y="4814"/>
                    </a:lnTo>
                    <a:lnTo>
                      <a:pt x="254" y="4612"/>
                    </a:lnTo>
                    <a:lnTo>
                      <a:pt x="282" y="4410"/>
                    </a:lnTo>
                    <a:lnTo>
                      <a:pt x="311" y="4208"/>
                    </a:lnTo>
                    <a:lnTo>
                      <a:pt x="338" y="4008"/>
                    </a:lnTo>
                    <a:lnTo>
                      <a:pt x="366" y="3806"/>
                    </a:lnTo>
                    <a:lnTo>
                      <a:pt x="394" y="3604"/>
                    </a:lnTo>
                    <a:lnTo>
                      <a:pt x="421" y="3403"/>
                    </a:lnTo>
                    <a:lnTo>
                      <a:pt x="450" y="3201"/>
                    </a:lnTo>
                    <a:lnTo>
                      <a:pt x="478" y="3001"/>
                    </a:lnTo>
                    <a:lnTo>
                      <a:pt x="506" y="2800"/>
                    </a:lnTo>
                    <a:lnTo>
                      <a:pt x="533" y="2599"/>
                    </a:lnTo>
                    <a:lnTo>
                      <a:pt x="561" y="2399"/>
                    </a:lnTo>
                    <a:lnTo>
                      <a:pt x="589" y="2198"/>
                    </a:lnTo>
                    <a:lnTo>
                      <a:pt x="617" y="1997"/>
                    </a:lnTo>
                    <a:lnTo>
                      <a:pt x="644" y="1797"/>
                    </a:lnTo>
                    <a:lnTo>
                      <a:pt x="672" y="1596"/>
                    </a:lnTo>
                    <a:lnTo>
                      <a:pt x="701" y="1397"/>
                    </a:lnTo>
                    <a:lnTo>
                      <a:pt x="728" y="1197"/>
                    </a:lnTo>
                    <a:lnTo>
                      <a:pt x="756" y="997"/>
                    </a:lnTo>
                    <a:lnTo>
                      <a:pt x="783" y="797"/>
                    </a:lnTo>
                    <a:lnTo>
                      <a:pt x="811" y="598"/>
                    </a:lnTo>
                    <a:lnTo>
                      <a:pt x="840" y="398"/>
                    </a:lnTo>
                    <a:lnTo>
                      <a:pt x="868" y="199"/>
                    </a:lnTo>
                    <a:lnTo>
                      <a:pt x="895"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6880" y="1785240"/>
                <a:ext cx="659520" cy="1983600"/>
              </a:xfrm>
              <a:custGeom>
                <a:avLst/>
                <a:gdLst/>
                <a:ahLst/>
                <a:rect l="l" t="t" r="r" b="b"/>
                <a:pathLst>
                  <a:path w="1768" h="6950">
                    <a:moveTo>
                      <a:pt x="906" y="0"/>
                    </a:moveTo>
                    <a:lnTo>
                      <a:pt x="1013" y="24"/>
                    </a:lnTo>
                    <a:lnTo>
                      <a:pt x="1119" y="47"/>
                    </a:lnTo>
                    <a:lnTo>
                      <a:pt x="1226" y="72"/>
                    </a:lnTo>
                    <a:lnTo>
                      <a:pt x="1334" y="95"/>
                    </a:lnTo>
                    <a:lnTo>
                      <a:pt x="1441" y="120"/>
                    </a:lnTo>
                    <a:lnTo>
                      <a:pt x="1549" y="144"/>
                    </a:lnTo>
                    <a:lnTo>
                      <a:pt x="1658" y="169"/>
                    </a:lnTo>
                    <a:lnTo>
                      <a:pt x="1768" y="192"/>
                    </a:lnTo>
                    <a:lnTo>
                      <a:pt x="1740" y="403"/>
                    </a:lnTo>
                    <a:lnTo>
                      <a:pt x="1712" y="612"/>
                    </a:lnTo>
                    <a:lnTo>
                      <a:pt x="1682" y="821"/>
                    </a:lnTo>
                    <a:lnTo>
                      <a:pt x="1654" y="1030"/>
                    </a:lnTo>
                    <a:lnTo>
                      <a:pt x="1625" y="1240"/>
                    </a:lnTo>
                    <a:lnTo>
                      <a:pt x="1597" y="1450"/>
                    </a:lnTo>
                    <a:lnTo>
                      <a:pt x="1568" y="1661"/>
                    </a:lnTo>
                    <a:lnTo>
                      <a:pt x="1540" y="1871"/>
                    </a:lnTo>
                    <a:lnTo>
                      <a:pt x="1512" y="2080"/>
                    </a:lnTo>
                    <a:lnTo>
                      <a:pt x="1484" y="2291"/>
                    </a:lnTo>
                    <a:lnTo>
                      <a:pt x="1455" y="2501"/>
                    </a:lnTo>
                    <a:lnTo>
                      <a:pt x="1427" y="2713"/>
                    </a:lnTo>
                    <a:lnTo>
                      <a:pt x="1399" y="2924"/>
                    </a:lnTo>
                    <a:lnTo>
                      <a:pt x="1371" y="3134"/>
                    </a:lnTo>
                    <a:lnTo>
                      <a:pt x="1343" y="3345"/>
                    </a:lnTo>
                    <a:lnTo>
                      <a:pt x="1313" y="3555"/>
                    </a:lnTo>
                    <a:lnTo>
                      <a:pt x="1285" y="3767"/>
                    </a:lnTo>
                    <a:lnTo>
                      <a:pt x="1256" y="3979"/>
                    </a:lnTo>
                    <a:lnTo>
                      <a:pt x="1228" y="4189"/>
                    </a:lnTo>
                    <a:lnTo>
                      <a:pt x="1198" y="4401"/>
                    </a:lnTo>
                    <a:lnTo>
                      <a:pt x="1169" y="4613"/>
                    </a:lnTo>
                    <a:lnTo>
                      <a:pt x="1141" y="4824"/>
                    </a:lnTo>
                    <a:lnTo>
                      <a:pt x="1112" y="5036"/>
                    </a:lnTo>
                    <a:lnTo>
                      <a:pt x="1084" y="5248"/>
                    </a:lnTo>
                    <a:lnTo>
                      <a:pt x="1055" y="5461"/>
                    </a:lnTo>
                    <a:lnTo>
                      <a:pt x="1026" y="5672"/>
                    </a:lnTo>
                    <a:lnTo>
                      <a:pt x="998" y="5885"/>
                    </a:lnTo>
                    <a:lnTo>
                      <a:pt x="969" y="6098"/>
                    </a:lnTo>
                    <a:lnTo>
                      <a:pt x="940" y="6311"/>
                    </a:lnTo>
                    <a:lnTo>
                      <a:pt x="912" y="6524"/>
                    </a:lnTo>
                    <a:lnTo>
                      <a:pt x="884" y="6737"/>
                    </a:lnTo>
                    <a:lnTo>
                      <a:pt x="855" y="6950"/>
                    </a:lnTo>
                    <a:lnTo>
                      <a:pt x="746" y="6912"/>
                    </a:lnTo>
                    <a:lnTo>
                      <a:pt x="638" y="6874"/>
                    </a:lnTo>
                    <a:lnTo>
                      <a:pt x="530" y="6836"/>
                    </a:lnTo>
                    <a:lnTo>
                      <a:pt x="423" y="6797"/>
                    </a:lnTo>
                    <a:lnTo>
                      <a:pt x="316" y="6761"/>
                    </a:lnTo>
                    <a:lnTo>
                      <a:pt x="211" y="6722"/>
                    </a:lnTo>
                    <a:lnTo>
                      <a:pt x="105" y="6684"/>
                    </a:lnTo>
                    <a:lnTo>
                      <a:pt x="0" y="6647"/>
                    </a:lnTo>
                    <a:lnTo>
                      <a:pt x="28" y="6438"/>
                    </a:lnTo>
                    <a:lnTo>
                      <a:pt x="56" y="6229"/>
                    </a:lnTo>
                    <a:lnTo>
                      <a:pt x="85" y="6019"/>
                    </a:lnTo>
                    <a:lnTo>
                      <a:pt x="114" y="5810"/>
                    </a:lnTo>
                    <a:lnTo>
                      <a:pt x="142" y="5601"/>
                    </a:lnTo>
                    <a:lnTo>
                      <a:pt x="170" y="5392"/>
                    </a:lnTo>
                    <a:lnTo>
                      <a:pt x="199" y="5182"/>
                    </a:lnTo>
                    <a:lnTo>
                      <a:pt x="227" y="4973"/>
                    </a:lnTo>
                    <a:lnTo>
                      <a:pt x="255" y="4765"/>
                    </a:lnTo>
                    <a:lnTo>
                      <a:pt x="283" y="4557"/>
                    </a:lnTo>
                    <a:lnTo>
                      <a:pt x="311" y="4348"/>
                    </a:lnTo>
                    <a:lnTo>
                      <a:pt x="341" y="4140"/>
                    </a:lnTo>
                    <a:lnTo>
                      <a:pt x="369" y="3932"/>
                    </a:lnTo>
                    <a:lnTo>
                      <a:pt x="397" y="3724"/>
                    </a:lnTo>
                    <a:lnTo>
                      <a:pt x="426" y="3516"/>
                    </a:lnTo>
                    <a:lnTo>
                      <a:pt x="455" y="3308"/>
                    </a:lnTo>
                    <a:lnTo>
                      <a:pt x="483" y="3100"/>
                    </a:lnTo>
                    <a:lnTo>
                      <a:pt x="511" y="2893"/>
                    </a:lnTo>
                    <a:lnTo>
                      <a:pt x="539" y="2686"/>
                    </a:lnTo>
                    <a:lnTo>
                      <a:pt x="567" y="2478"/>
                    </a:lnTo>
                    <a:lnTo>
                      <a:pt x="595" y="2271"/>
                    </a:lnTo>
                    <a:lnTo>
                      <a:pt x="623" y="2063"/>
                    </a:lnTo>
                    <a:lnTo>
                      <a:pt x="651" y="1856"/>
                    </a:lnTo>
                    <a:lnTo>
                      <a:pt x="679" y="1650"/>
                    </a:lnTo>
                    <a:lnTo>
                      <a:pt x="708" y="1443"/>
                    </a:lnTo>
                    <a:lnTo>
                      <a:pt x="736" y="1236"/>
                    </a:lnTo>
                    <a:lnTo>
                      <a:pt x="764" y="1029"/>
                    </a:lnTo>
                    <a:lnTo>
                      <a:pt x="792" y="824"/>
                    </a:lnTo>
                    <a:lnTo>
                      <a:pt x="821" y="617"/>
                    </a:lnTo>
                    <a:lnTo>
                      <a:pt x="850" y="411"/>
                    </a:lnTo>
                    <a:lnTo>
                      <a:pt x="878" y="206"/>
                    </a:lnTo>
                    <a:lnTo>
                      <a:pt x="906"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32760" y="1772280"/>
                <a:ext cx="338760" cy="79920"/>
              </a:xfrm>
              <a:custGeom>
                <a:avLst/>
                <a:gdLst/>
                <a:ahLst/>
                <a:rect l="l" t="t" r="r" b="b"/>
                <a:pathLst>
                  <a:path w="908" h="278">
                    <a:moveTo>
                      <a:pt x="903" y="243"/>
                    </a:moveTo>
                    <a:lnTo>
                      <a:pt x="875" y="193"/>
                    </a:lnTo>
                    <a:lnTo>
                      <a:pt x="765" y="169"/>
                    </a:lnTo>
                    <a:lnTo>
                      <a:pt x="656" y="144"/>
                    </a:lnTo>
                    <a:lnTo>
                      <a:pt x="547" y="121"/>
                    </a:lnTo>
                    <a:lnTo>
                      <a:pt x="440" y="96"/>
                    </a:lnTo>
                    <a:lnTo>
                      <a:pt x="333" y="71"/>
                    </a:lnTo>
                    <a:lnTo>
                      <a:pt x="226" y="48"/>
                    </a:lnTo>
                    <a:lnTo>
                      <a:pt x="119" y="25"/>
                    </a:lnTo>
                    <a:lnTo>
                      <a:pt x="13" y="0"/>
                    </a:lnTo>
                    <a:lnTo>
                      <a:pt x="0" y="85"/>
                    </a:lnTo>
                    <a:lnTo>
                      <a:pt x="106" y="110"/>
                    </a:lnTo>
                    <a:lnTo>
                      <a:pt x="213" y="133"/>
                    </a:lnTo>
                    <a:lnTo>
                      <a:pt x="320" y="158"/>
                    </a:lnTo>
                    <a:lnTo>
                      <a:pt x="426" y="181"/>
                    </a:lnTo>
                    <a:lnTo>
                      <a:pt x="534" y="206"/>
                    </a:lnTo>
                    <a:lnTo>
                      <a:pt x="643" y="229"/>
                    </a:lnTo>
                    <a:lnTo>
                      <a:pt x="752" y="254"/>
                    </a:lnTo>
                    <a:lnTo>
                      <a:pt x="862" y="278"/>
                    </a:lnTo>
                    <a:lnTo>
                      <a:pt x="833" y="229"/>
                    </a:lnTo>
                    <a:lnTo>
                      <a:pt x="903" y="243"/>
                    </a:lnTo>
                    <a:lnTo>
                      <a:pt x="908" y="201"/>
                    </a:lnTo>
                    <a:lnTo>
                      <a:pt x="875" y="193"/>
                    </a:lnTo>
                    <a:lnTo>
                      <a:pt x="903" y="243"/>
                    </a:lnTo>
                    <a:close/>
                  </a:path>
                </a:pathLst>
              </a:custGeom>
              <a:solidFill>
                <a:srgbClr val="1f1a17"/>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79" name=""/>
              <p:cNvSpPr/>
              <p:nvPr/>
            </p:nvSpPr>
            <p:spPr>
              <a:xfrm>
                <a:off x="4758120" y="1838160"/>
                <a:ext cx="111600" cy="482040"/>
              </a:xfrm>
              <a:custGeom>
                <a:avLst/>
                <a:gdLst/>
                <a:ahLst/>
                <a:rect l="l" t="t" r="r" b="b"/>
                <a:pathLst>
                  <a:path w="298" h="1691">
                    <a:moveTo>
                      <a:pt x="69" y="1691"/>
                    </a:moveTo>
                    <a:lnTo>
                      <a:pt x="69" y="1691"/>
                    </a:lnTo>
                    <a:lnTo>
                      <a:pt x="99" y="1481"/>
                    </a:lnTo>
                    <a:lnTo>
                      <a:pt x="127" y="1270"/>
                    </a:lnTo>
                    <a:lnTo>
                      <a:pt x="155" y="1061"/>
                    </a:lnTo>
                    <a:lnTo>
                      <a:pt x="184" y="852"/>
                    </a:lnTo>
                    <a:lnTo>
                      <a:pt x="213" y="643"/>
                    </a:lnTo>
                    <a:lnTo>
                      <a:pt x="241" y="432"/>
                    </a:lnTo>
                    <a:lnTo>
                      <a:pt x="270" y="223"/>
                    </a:lnTo>
                    <a:lnTo>
                      <a:pt x="298" y="14"/>
                    </a:lnTo>
                    <a:lnTo>
                      <a:pt x="228" y="0"/>
                    </a:lnTo>
                    <a:lnTo>
                      <a:pt x="199" y="209"/>
                    </a:lnTo>
                    <a:lnTo>
                      <a:pt x="171" y="419"/>
                    </a:lnTo>
                    <a:lnTo>
                      <a:pt x="142" y="628"/>
                    </a:lnTo>
                    <a:lnTo>
                      <a:pt x="114" y="837"/>
                    </a:lnTo>
                    <a:lnTo>
                      <a:pt x="86" y="1048"/>
                    </a:lnTo>
                    <a:lnTo>
                      <a:pt x="56" y="1257"/>
                    </a:lnTo>
                    <a:lnTo>
                      <a:pt x="28" y="1467"/>
                    </a:lnTo>
                    <a:lnTo>
                      <a:pt x="0" y="1678"/>
                    </a:lnTo>
                    <a:lnTo>
                      <a:pt x="0" y="1678"/>
                    </a:lnTo>
                    <a:lnTo>
                      <a:pt x="69" y="16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674600" y="2316240"/>
                <a:ext cx="108720" cy="484920"/>
              </a:xfrm>
              <a:custGeom>
                <a:avLst/>
                <a:gdLst/>
                <a:ahLst/>
                <a:rect l="l" t="t" r="r" b="b"/>
                <a:pathLst>
                  <a:path w="295" h="1699">
                    <a:moveTo>
                      <a:pt x="70" y="1699"/>
                    </a:moveTo>
                    <a:lnTo>
                      <a:pt x="70" y="1699"/>
                    </a:lnTo>
                    <a:lnTo>
                      <a:pt x="98" y="1488"/>
                    </a:lnTo>
                    <a:lnTo>
                      <a:pt x="127" y="1278"/>
                    </a:lnTo>
                    <a:lnTo>
                      <a:pt x="155" y="1066"/>
                    </a:lnTo>
                    <a:lnTo>
                      <a:pt x="184" y="855"/>
                    </a:lnTo>
                    <a:lnTo>
                      <a:pt x="212" y="645"/>
                    </a:lnTo>
                    <a:lnTo>
                      <a:pt x="239" y="434"/>
                    </a:lnTo>
                    <a:lnTo>
                      <a:pt x="267" y="224"/>
                    </a:lnTo>
                    <a:lnTo>
                      <a:pt x="295" y="13"/>
                    </a:lnTo>
                    <a:lnTo>
                      <a:pt x="226" y="0"/>
                    </a:lnTo>
                    <a:lnTo>
                      <a:pt x="198" y="210"/>
                    </a:lnTo>
                    <a:lnTo>
                      <a:pt x="169" y="421"/>
                    </a:lnTo>
                    <a:lnTo>
                      <a:pt x="141" y="631"/>
                    </a:lnTo>
                    <a:lnTo>
                      <a:pt x="113" y="842"/>
                    </a:lnTo>
                    <a:lnTo>
                      <a:pt x="85" y="1052"/>
                    </a:lnTo>
                    <a:lnTo>
                      <a:pt x="57" y="1263"/>
                    </a:lnTo>
                    <a:lnTo>
                      <a:pt x="28" y="1473"/>
                    </a:lnTo>
                    <a:lnTo>
                      <a:pt x="0" y="1684"/>
                    </a:lnTo>
                    <a:lnTo>
                      <a:pt x="0" y="1684"/>
                    </a:lnTo>
                    <a:lnTo>
                      <a:pt x="70" y="169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587840" y="2797200"/>
                <a:ext cx="111960" cy="487800"/>
              </a:xfrm>
              <a:custGeom>
                <a:avLst/>
                <a:gdLst/>
                <a:ahLst/>
                <a:rect l="l" t="t" r="r" b="b"/>
                <a:pathLst>
                  <a:path w="301" h="1707">
                    <a:moveTo>
                      <a:pt x="71" y="1707"/>
                    </a:moveTo>
                    <a:lnTo>
                      <a:pt x="71" y="1707"/>
                    </a:lnTo>
                    <a:lnTo>
                      <a:pt x="99" y="1495"/>
                    </a:lnTo>
                    <a:lnTo>
                      <a:pt x="127" y="1284"/>
                    </a:lnTo>
                    <a:lnTo>
                      <a:pt x="156" y="1072"/>
                    </a:lnTo>
                    <a:lnTo>
                      <a:pt x="186" y="860"/>
                    </a:lnTo>
                    <a:lnTo>
                      <a:pt x="214" y="648"/>
                    </a:lnTo>
                    <a:lnTo>
                      <a:pt x="243" y="437"/>
                    </a:lnTo>
                    <a:lnTo>
                      <a:pt x="271" y="226"/>
                    </a:lnTo>
                    <a:lnTo>
                      <a:pt x="301" y="15"/>
                    </a:lnTo>
                    <a:lnTo>
                      <a:pt x="231" y="0"/>
                    </a:lnTo>
                    <a:lnTo>
                      <a:pt x="202" y="211"/>
                    </a:lnTo>
                    <a:lnTo>
                      <a:pt x="173" y="423"/>
                    </a:lnTo>
                    <a:lnTo>
                      <a:pt x="144" y="635"/>
                    </a:lnTo>
                    <a:lnTo>
                      <a:pt x="115" y="845"/>
                    </a:lnTo>
                    <a:lnTo>
                      <a:pt x="87" y="1058"/>
                    </a:lnTo>
                    <a:lnTo>
                      <a:pt x="58" y="1270"/>
                    </a:lnTo>
                    <a:lnTo>
                      <a:pt x="29" y="1482"/>
                    </a:lnTo>
                    <a:lnTo>
                      <a:pt x="0" y="1694"/>
                    </a:lnTo>
                    <a:lnTo>
                      <a:pt x="0" y="1694"/>
                    </a:lnTo>
                    <a:lnTo>
                      <a:pt x="71" y="17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502880" y="3281040"/>
                <a:ext cx="110160" cy="503640"/>
              </a:xfrm>
              <a:custGeom>
                <a:avLst/>
                <a:gdLst/>
                <a:ahLst/>
                <a:rect l="l" t="t" r="r" b="b"/>
                <a:pathLst>
                  <a:path w="299" h="1763">
                    <a:moveTo>
                      <a:pt x="26" y="1750"/>
                    </a:moveTo>
                    <a:lnTo>
                      <a:pt x="70" y="1715"/>
                    </a:lnTo>
                    <a:lnTo>
                      <a:pt x="98" y="1503"/>
                    </a:lnTo>
                    <a:lnTo>
                      <a:pt x="127" y="1290"/>
                    </a:lnTo>
                    <a:lnTo>
                      <a:pt x="156" y="1077"/>
                    </a:lnTo>
                    <a:lnTo>
                      <a:pt x="184" y="864"/>
                    </a:lnTo>
                    <a:lnTo>
                      <a:pt x="213" y="651"/>
                    </a:lnTo>
                    <a:lnTo>
                      <a:pt x="241" y="438"/>
                    </a:lnTo>
                    <a:lnTo>
                      <a:pt x="270" y="225"/>
                    </a:lnTo>
                    <a:lnTo>
                      <a:pt x="299" y="13"/>
                    </a:lnTo>
                    <a:lnTo>
                      <a:pt x="228" y="0"/>
                    </a:lnTo>
                    <a:lnTo>
                      <a:pt x="200" y="211"/>
                    </a:lnTo>
                    <a:lnTo>
                      <a:pt x="172" y="424"/>
                    </a:lnTo>
                    <a:lnTo>
                      <a:pt x="143" y="637"/>
                    </a:lnTo>
                    <a:lnTo>
                      <a:pt x="114" y="850"/>
                    </a:lnTo>
                    <a:lnTo>
                      <a:pt x="85" y="1063"/>
                    </a:lnTo>
                    <a:lnTo>
                      <a:pt x="57" y="1276"/>
                    </a:lnTo>
                    <a:lnTo>
                      <a:pt x="29" y="1489"/>
                    </a:lnTo>
                    <a:lnTo>
                      <a:pt x="0" y="1702"/>
                    </a:lnTo>
                    <a:lnTo>
                      <a:pt x="45" y="1667"/>
                    </a:lnTo>
                    <a:lnTo>
                      <a:pt x="26" y="1750"/>
                    </a:lnTo>
                    <a:lnTo>
                      <a:pt x="64" y="1763"/>
                    </a:lnTo>
                    <a:lnTo>
                      <a:pt x="70" y="1715"/>
                    </a:lnTo>
                    <a:lnTo>
                      <a:pt x="26" y="17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182120" y="3670920"/>
                <a:ext cx="336960" cy="109440"/>
              </a:xfrm>
              <a:custGeom>
                <a:avLst/>
                <a:gdLst/>
                <a:ahLst/>
                <a:rect l="l" t="t" r="r" b="b"/>
                <a:pathLst>
                  <a:path w="905" h="387">
                    <a:moveTo>
                      <a:pt x="5" y="35"/>
                    </a:moveTo>
                    <a:lnTo>
                      <a:pt x="30" y="84"/>
                    </a:lnTo>
                    <a:lnTo>
                      <a:pt x="135" y="121"/>
                    </a:lnTo>
                    <a:lnTo>
                      <a:pt x="241" y="159"/>
                    </a:lnTo>
                    <a:lnTo>
                      <a:pt x="346" y="196"/>
                    </a:lnTo>
                    <a:lnTo>
                      <a:pt x="453" y="234"/>
                    </a:lnTo>
                    <a:lnTo>
                      <a:pt x="560" y="272"/>
                    </a:lnTo>
                    <a:lnTo>
                      <a:pt x="668" y="311"/>
                    </a:lnTo>
                    <a:lnTo>
                      <a:pt x="776" y="349"/>
                    </a:lnTo>
                    <a:lnTo>
                      <a:pt x="886" y="387"/>
                    </a:lnTo>
                    <a:lnTo>
                      <a:pt x="905" y="304"/>
                    </a:lnTo>
                    <a:lnTo>
                      <a:pt x="796" y="266"/>
                    </a:lnTo>
                    <a:lnTo>
                      <a:pt x="688" y="227"/>
                    </a:lnTo>
                    <a:lnTo>
                      <a:pt x="580" y="189"/>
                    </a:lnTo>
                    <a:lnTo>
                      <a:pt x="472" y="152"/>
                    </a:lnTo>
                    <a:lnTo>
                      <a:pt x="367" y="114"/>
                    </a:lnTo>
                    <a:lnTo>
                      <a:pt x="261" y="76"/>
                    </a:lnTo>
                    <a:lnTo>
                      <a:pt x="155" y="39"/>
                    </a:lnTo>
                    <a:lnTo>
                      <a:pt x="50" y="0"/>
                    </a:lnTo>
                    <a:lnTo>
                      <a:pt x="75" y="50"/>
                    </a:lnTo>
                    <a:lnTo>
                      <a:pt x="5" y="35"/>
                    </a:lnTo>
                    <a:lnTo>
                      <a:pt x="0" y="73"/>
                    </a:lnTo>
                    <a:lnTo>
                      <a:pt x="30" y="84"/>
                    </a:lnTo>
                    <a:lnTo>
                      <a:pt x="5"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183200" y="3202560"/>
                <a:ext cx="110160" cy="482400"/>
              </a:xfrm>
              <a:custGeom>
                <a:avLst/>
                <a:gdLst/>
                <a:ahLst/>
                <a:rect l="l" t="t" r="r" b="b"/>
                <a:pathLst>
                  <a:path w="297" h="1688">
                    <a:moveTo>
                      <a:pt x="226" y="0"/>
                    </a:moveTo>
                    <a:lnTo>
                      <a:pt x="226" y="0"/>
                    </a:lnTo>
                    <a:lnTo>
                      <a:pt x="198" y="208"/>
                    </a:lnTo>
                    <a:lnTo>
                      <a:pt x="170" y="417"/>
                    </a:lnTo>
                    <a:lnTo>
                      <a:pt x="142" y="627"/>
                    </a:lnTo>
                    <a:lnTo>
                      <a:pt x="114" y="836"/>
                    </a:lnTo>
                    <a:lnTo>
                      <a:pt x="85" y="1045"/>
                    </a:lnTo>
                    <a:lnTo>
                      <a:pt x="56" y="1254"/>
                    </a:lnTo>
                    <a:lnTo>
                      <a:pt x="28" y="1464"/>
                    </a:lnTo>
                    <a:lnTo>
                      <a:pt x="0" y="1673"/>
                    </a:lnTo>
                    <a:lnTo>
                      <a:pt x="70" y="1688"/>
                    </a:lnTo>
                    <a:lnTo>
                      <a:pt x="98" y="1478"/>
                    </a:lnTo>
                    <a:lnTo>
                      <a:pt x="127" y="1268"/>
                    </a:lnTo>
                    <a:lnTo>
                      <a:pt x="155" y="1059"/>
                    </a:lnTo>
                    <a:lnTo>
                      <a:pt x="183" y="849"/>
                    </a:lnTo>
                    <a:lnTo>
                      <a:pt x="211" y="640"/>
                    </a:lnTo>
                    <a:lnTo>
                      <a:pt x="241" y="431"/>
                    </a:lnTo>
                    <a:lnTo>
                      <a:pt x="269" y="223"/>
                    </a:lnTo>
                    <a:lnTo>
                      <a:pt x="297" y="14"/>
                    </a:lnTo>
                    <a:lnTo>
                      <a:pt x="297" y="14"/>
                    </a:lnTo>
                    <a:lnTo>
                      <a:pt x="2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268160" y="2727360"/>
                <a:ext cx="110520" cy="479520"/>
              </a:xfrm>
              <a:custGeom>
                <a:avLst/>
                <a:gdLst/>
                <a:ahLst/>
                <a:rect l="l" t="t" r="r" b="b"/>
                <a:pathLst>
                  <a:path w="299" h="1681">
                    <a:moveTo>
                      <a:pt x="228" y="0"/>
                    </a:moveTo>
                    <a:lnTo>
                      <a:pt x="228" y="0"/>
                    </a:lnTo>
                    <a:lnTo>
                      <a:pt x="200" y="208"/>
                    </a:lnTo>
                    <a:lnTo>
                      <a:pt x="172" y="416"/>
                    </a:lnTo>
                    <a:lnTo>
                      <a:pt x="143" y="624"/>
                    </a:lnTo>
                    <a:lnTo>
                      <a:pt x="114" y="832"/>
                    </a:lnTo>
                    <a:lnTo>
                      <a:pt x="86" y="1042"/>
                    </a:lnTo>
                    <a:lnTo>
                      <a:pt x="57" y="1250"/>
                    </a:lnTo>
                    <a:lnTo>
                      <a:pt x="29" y="1458"/>
                    </a:lnTo>
                    <a:lnTo>
                      <a:pt x="0" y="1667"/>
                    </a:lnTo>
                    <a:lnTo>
                      <a:pt x="71" y="1681"/>
                    </a:lnTo>
                    <a:lnTo>
                      <a:pt x="99" y="1473"/>
                    </a:lnTo>
                    <a:lnTo>
                      <a:pt x="127" y="1265"/>
                    </a:lnTo>
                    <a:lnTo>
                      <a:pt x="156" y="1055"/>
                    </a:lnTo>
                    <a:lnTo>
                      <a:pt x="184" y="847"/>
                    </a:lnTo>
                    <a:lnTo>
                      <a:pt x="213" y="639"/>
                    </a:lnTo>
                    <a:lnTo>
                      <a:pt x="241" y="431"/>
                    </a:lnTo>
                    <a:lnTo>
                      <a:pt x="270" y="222"/>
                    </a:lnTo>
                    <a:lnTo>
                      <a:pt x="299" y="15"/>
                    </a:lnTo>
                    <a:lnTo>
                      <a:pt x="299" y="15"/>
                    </a:lnTo>
                    <a:lnTo>
                      <a:pt x="22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353480" y="2253600"/>
                <a:ext cx="108720" cy="477720"/>
              </a:xfrm>
              <a:custGeom>
                <a:avLst/>
                <a:gdLst/>
                <a:ahLst/>
                <a:rect l="l" t="t" r="r" b="b"/>
                <a:pathLst>
                  <a:path w="296" h="1673">
                    <a:moveTo>
                      <a:pt x="225" y="0"/>
                    </a:moveTo>
                    <a:lnTo>
                      <a:pt x="225" y="0"/>
                    </a:lnTo>
                    <a:lnTo>
                      <a:pt x="197" y="207"/>
                    </a:lnTo>
                    <a:lnTo>
                      <a:pt x="170" y="415"/>
                    </a:lnTo>
                    <a:lnTo>
                      <a:pt x="141" y="622"/>
                    </a:lnTo>
                    <a:lnTo>
                      <a:pt x="113" y="829"/>
                    </a:lnTo>
                    <a:lnTo>
                      <a:pt x="85" y="1037"/>
                    </a:lnTo>
                    <a:lnTo>
                      <a:pt x="57" y="1244"/>
                    </a:lnTo>
                    <a:lnTo>
                      <a:pt x="28" y="1452"/>
                    </a:lnTo>
                    <a:lnTo>
                      <a:pt x="0" y="1658"/>
                    </a:lnTo>
                    <a:lnTo>
                      <a:pt x="71" y="1673"/>
                    </a:lnTo>
                    <a:lnTo>
                      <a:pt x="99" y="1465"/>
                    </a:lnTo>
                    <a:lnTo>
                      <a:pt x="126" y="1258"/>
                    </a:lnTo>
                    <a:lnTo>
                      <a:pt x="154" y="1050"/>
                    </a:lnTo>
                    <a:lnTo>
                      <a:pt x="183" y="843"/>
                    </a:lnTo>
                    <a:lnTo>
                      <a:pt x="211" y="635"/>
                    </a:lnTo>
                    <a:lnTo>
                      <a:pt x="239" y="429"/>
                    </a:lnTo>
                    <a:lnTo>
                      <a:pt x="267" y="222"/>
                    </a:lnTo>
                    <a:lnTo>
                      <a:pt x="296" y="14"/>
                    </a:lnTo>
                    <a:lnTo>
                      <a:pt x="296" y="14"/>
                    </a:lnTo>
                    <a:lnTo>
                      <a:pt x="22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437360" y="1771200"/>
                <a:ext cx="110160" cy="486360"/>
              </a:xfrm>
              <a:custGeom>
                <a:avLst/>
                <a:gdLst/>
                <a:ahLst/>
                <a:rect l="l" t="t" r="r" b="b"/>
                <a:pathLst>
                  <a:path w="297" h="1706">
                    <a:moveTo>
                      <a:pt x="269" y="7"/>
                    </a:moveTo>
                    <a:lnTo>
                      <a:pt x="227" y="43"/>
                    </a:lnTo>
                    <a:lnTo>
                      <a:pt x="199" y="248"/>
                    </a:lnTo>
                    <a:lnTo>
                      <a:pt x="170" y="454"/>
                    </a:lnTo>
                    <a:lnTo>
                      <a:pt x="142" y="659"/>
                    </a:lnTo>
                    <a:lnTo>
                      <a:pt x="114" y="866"/>
                    </a:lnTo>
                    <a:lnTo>
                      <a:pt x="86" y="1072"/>
                    </a:lnTo>
                    <a:lnTo>
                      <a:pt x="56" y="1279"/>
                    </a:lnTo>
                    <a:lnTo>
                      <a:pt x="28" y="1485"/>
                    </a:lnTo>
                    <a:lnTo>
                      <a:pt x="0" y="1692"/>
                    </a:lnTo>
                    <a:lnTo>
                      <a:pt x="71" y="1706"/>
                    </a:lnTo>
                    <a:lnTo>
                      <a:pt x="99" y="1500"/>
                    </a:lnTo>
                    <a:lnTo>
                      <a:pt x="127" y="1293"/>
                    </a:lnTo>
                    <a:lnTo>
                      <a:pt x="155" y="1087"/>
                    </a:lnTo>
                    <a:lnTo>
                      <a:pt x="183" y="880"/>
                    </a:lnTo>
                    <a:lnTo>
                      <a:pt x="212" y="674"/>
                    </a:lnTo>
                    <a:lnTo>
                      <a:pt x="241" y="469"/>
                    </a:lnTo>
                    <a:lnTo>
                      <a:pt x="269" y="263"/>
                    </a:lnTo>
                    <a:lnTo>
                      <a:pt x="297" y="56"/>
                    </a:lnTo>
                    <a:lnTo>
                      <a:pt x="256" y="92"/>
                    </a:lnTo>
                    <a:lnTo>
                      <a:pt x="269" y="7"/>
                    </a:lnTo>
                    <a:lnTo>
                      <a:pt x="233" y="0"/>
                    </a:lnTo>
                    <a:lnTo>
                      <a:pt x="227" y="43"/>
                    </a:lnTo>
                    <a:lnTo>
                      <a:pt x="269"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484880" y="1711080"/>
                <a:ext cx="395280" cy="196920"/>
              </a:xfrm>
              <a:custGeom>
                <a:avLst/>
                <a:gdLst/>
                <a:ahLst/>
                <a:rect l="l" t="t" r="r" b="b"/>
                <a:pathLst>
                  <a:path w="1058" h="691">
                    <a:moveTo>
                      <a:pt x="0" y="0"/>
                    </a:moveTo>
                    <a:lnTo>
                      <a:pt x="24" y="61"/>
                    </a:lnTo>
                    <a:lnTo>
                      <a:pt x="48" y="123"/>
                    </a:lnTo>
                    <a:lnTo>
                      <a:pt x="73" y="184"/>
                    </a:lnTo>
                    <a:lnTo>
                      <a:pt x="97" y="246"/>
                    </a:lnTo>
                    <a:lnTo>
                      <a:pt x="121" y="307"/>
                    </a:lnTo>
                    <a:lnTo>
                      <a:pt x="145" y="370"/>
                    </a:lnTo>
                    <a:lnTo>
                      <a:pt x="169" y="432"/>
                    </a:lnTo>
                    <a:lnTo>
                      <a:pt x="194" y="493"/>
                    </a:lnTo>
                    <a:lnTo>
                      <a:pt x="300" y="518"/>
                    </a:lnTo>
                    <a:lnTo>
                      <a:pt x="408" y="541"/>
                    </a:lnTo>
                    <a:lnTo>
                      <a:pt x="515" y="566"/>
                    </a:lnTo>
                    <a:lnTo>
                      <a:pt x="624" y="591"/>
                    </a:lnTo>
                    <a:lnTo>
                      <a:pt x="732" y="616"/>
                    </a:lnTo>
                    <a:lnTo>
                      <a:pt x="841" y="641"/>
                    </a:lnTo>
                    <a:lnTo>
                      <a:pt x="950" y="666"/>
                    </a:lnTo>
                    <a:lnTo>
                      <a:pt x="1058" y="691"/>
                    </a:lnTo>
                    <a:lnTo>
                      <a:pt x="1033" y="629"/>
                    </a:lnTo>
                    <a:lnTo>
                      <a:pt x="1008" y="565"/>
                    </a:lnTo>
                    <a:lnTo>
                      <a:pt x="983" y="502"/>
                    </a:lnTo>
                    <a:lnTo>
                      <a:pt x="958" y="438"/>
                    </a:lnTo>
                    <a:lnTo>
                      <a:pt x="932" y="375"/>
                    </a:lnTo>
                    <a:lnTo>
                      <a:pt x="907" y="312"/>
                    </a:lnTo>
                    <a:lnTo>
                      <a:pt x="882" y="250"/>
                    </a:lnTo>
                    <a:lnTo>
                      <a:pt x="857" y="187"/>
                    </a:lnTo>
                    <a:lnTo>
                      <a:pt x="748" y="163"/>
                    </a:lnTo>
                    <a:lnTo>
                      <a:pt x="640" y="139"/>
                    </a:lnTo>
                    <a:lnTo>
                      <a:pt x="532" y="115"/>
                    </a:lnTo>
                    <a:lnTo>
                      <a:pt x="425" y="92"/>
                    </a:lnTo>
                    <a:lnTo>
                      <a:pt x="319" y="69"/>
                    </a:lnTo>
                    <a:lnTo>
                      <a:pt x="212" y="45"/>
                    </a:lnTo>
                    <a:lnTo>
                      <a:pt x="106" y="23"/>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484880" y="1711080"/>
                <a:ext cx="395280" cy="196920"/>
              </a:xfrm>
              <a:custGeom>
                <a:avLst/>
                <a:gdLst/>
                <a:ahLst/>
                <a:rect l="l" t="t" r="r" b="b"/>
                <a:pathLst>
                  <a:path w="1058" h="691">
                    <a:moveTo>
                      <a:pt x="0" y="0"/>
                    </a:moveTo>
                    <a:lnTo>
                      <a:pt x="24" y="61"/>
                    </a:lnTo>
                    <a:lnTo>
                      <a:pt x="48" y="123"/>
                    </a:lnTo>
                    <a:lnTo>
                      <a:pt x="73" y="184"/>
                    </a:lnTo>
                    <a:lnTo>
                      <a:pt x="97" y="246"/>
                    </a:lnTo>
                    <a:lnTo>
                      <a:pt x="121" y="307"/>
                    </a:lnTo>
                    <a:lnTo>
                      <a:pt x="145" y="370"/>
                    </a:lnTo>
                    <a:lnTo>
                      <a:pt x="169" y="432"/>
                    </a:lnTo>
                    <a:lnTo>
                      <a:pt x="194" y="493"/>
                    </a:lnTo>
                    <a:lnTo>
                      <a:pt x="300" y="518"/>
                    </a:lnTo>
                    <a:lnTo>
                      <a:pt x="408" y="541"/>
                    </a:lnTo>
                    <a:lnTo>
                      <a:pt x="515" y="566"/>
                    </a:lnTo>
                    <a:lnTo>
                      <a:pt x="624" y="591"/>
                    </a:lnTo>
                    <a:lnTo>
                      <a:pt x="732" y="616"/>
                    </a:lnTo>
                    <a:lnTo>
                      <a:pt x="841" y="641"/>
                    </a:lnTo>
                    <a:lnTo>
                      <a:pt x="950" y="666"/>
                    </a:lnTo>
                    <a:lnTo>
                      <a:pt x="1058" y="691"/>
                    </a:lnTo>
                    <a:lnTo>
                      <a:pt x="1033" y="629"/>
                    </a:lnTo>
                    <a:lnTo>
                      <a:pt x="1008" y="565"/>
                    </a:lnTo>
                    <a:lnTo>
                      <a:pt x="983" y="502"/>
                    </a:lnTo>
                    <a:lnTo>
                      <a:pt x="958" y="438"/>
                    </a:lnTo>
                    <a:lnTo>
                      <a:pt x="932" y="375"/>
                    </a:lnTo>
                    <a:lnTo>
                      <a:pt x="907" y="312"/>
                    </a:lnTo>
                    <a:lnTo>
                      <a:pt x="882" y="250"/>
                    </a:lnTo>
                    <a:lnTo>
                      <a:pt x="857" y="187"/>
                    </a:lnTo>
                    <a:lnTo>
                      <a:pt x="748" y="163"/>
                    </a:lnTo>
                    <a:lnTo>
                      <a:pt x="640" y="139"/>
                    </a:lnTo>
                    <a:lnTo>
                      <a:pt x="532" y="115"/>
                    </a:lnTo>
                    <a:lnTo>
                      <a:pt x="425" y="92"/>
                    </a:lnTo>
                    <a:lnTo>
                      <a:pt x="319" y="69"/>
                    </a:lnTo>
                    <a:lnTo>
                      <a:pt x="212" y="45"/>
                    </a:lnTo>
                    <a:lnTo>
                      <a:pt x="106" y="23"/>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147560" y="1711080"/>
                <a:ext cx="410400" cy="2043720"/>
              </a:xfrm>
              <a:custGeom>
                <a:avLst/>
                <a:gdLst/>
                <a:ahLst/>
                <a:rect l="l" t="t" r="r" b="b"/>
                <a:pathLst>
                  <a:path w="1098" h="7159">
                    <a:moveTo>
                      <a:pt x="0" y="6622"/>
                    </a:moveTo>
                    <a:lnTo>
                      <a:pt x="23" y="6689"/>
                    </a:lnTo>
                    <a:lnTo>
                      <a:pt x="47" y="6755"/>
                    </a:lnTo>
                    <a:lnTo>
                      <a:pt x="71" y="6823"/>
                    </a:lnTo>
                    <a:lnTo>
                      <a:pt x="95" y="6889"/>
                    </a:lnTo>
                    <a:lnTo>
                      <a:pt x="119" y="6957"/>
                    </a:lnTo>
                    <a:lnTo>
                      <a:pt x="142" y="7023"/>
                    </a:lnTo>
                    <a:lnTo>
                      <a:pt x="166" y="7091"/>
                    </a:lnTo>
                    <a:lnTo>
                      <a:pt x="190" y="7159"/>
                    </a:lnTo>
                    <a:lnTo>
                      <a:pt x="219" y="6948"/>
                    </a:lnTo>
                    <a:lnTo>
                      <a:pt x="247" y="6739"/>
                    </a:lnTo>
                    <a:lnTo>
                      <a:pt x="276" y="6529"/>
                    </a:lnTo>
                    <a:lnTo>
                      <a:pt x="304" y="6319"/>
                    </a:lnTo>
                    <a:lnTo>
                      <a:pt x="334" y="6109"/>
                    </a:lnTo>
                    <a:lnTo>
                      <a:pt x="362" y="5900"/>
                    </a:lnTo>
                    <a:lnTo>
                      <a:pt x="391" y="5690"/>
                    </a:lnTo>
                    <a:lnTo>
                      <a:pt x="419" y="5481"/>
                    </a:lnTo>
                    <a:lnTo>
                      <a:pt x="447" y="5272"/>
                    </a:lnTo>
                    <a:lnTo>
                      <a:pt x="476" y="5063"/>
                    </a:lnTo>
                    <a:lnTo>
                      <a:pt x="505" y="4853"/>
                    </a:lnTo>
                    <a:lnTo>
                      <a:pt x="533" y="4644"/>
                    </a:lnTo>
                    <a:lnTo>
                      <a:pt x="561" y="4436"/>
                    </a:lnTo>
                    <a:lnTo>
                      <a:pt x="591" y="4227"/>
                    </a:lnTo>
                    <a:lnTo>
                      <a:pt x="619" y="4017"/>
                    </a:lnTo>
                    <a:lnTo>
                      <a:pt x="647" y="3809"/>
                    </a:lnTo>
                    <a:lnTo>
                      <a:pt x="675" y="3603"/>
                    </a:lnTo>
                    <a:lnTo>
                      <a:pt x="703" y="3395"/>
                    </a:lnTo>
                    <a:lnTo>
                      <a:pt x="732" y="3187"/>
                    </a:lnTo>
                    <a:lnTo>
                      <a:pt x="760" y="2979"/>
                    </a:lnTo>
                    <a:lnTo>
                      <a:pt x="788" y="2772"/>
                    </a:lnTo>
                    <a:lnTo>
                      <a:pt x="816" y="2564"/>
                    </a:lnTo>
                    <a:lnTo>
                      <a:pt x="844" y="2356"/>
                    </a:lnTo>
                    <a:lnTo>
                      <a:pt x="872" y="2149"/>
                    </a:lnTo>
                    <a:lnTo>
                      <a:pt x="900" y="1941"/>
                    </a:lnTo>
                    <a:lnTo>
                      <a:pt x="929" y="1734"/>
                    </a:lnTo>
                    <a:lnTo>
                      <a:pt x="957" y="1526"/>
                    </a:lnTo>
                    <a:lnTo>
                      <a:pt x="986" y="1319"/>
                    </a:lnTo>
                    <a:lnTo>
                      <a:pt x="1014" y="1112"/>
                    </a:lnTo>
                    <a:lnTo>
                      <a:pt x="1042" y="906"/>
                    </a:lnTo>
                    <a:lnTo>
                      <a:pt x="1070" y="700"/>
                    </a:lnTo>
                    <a:lnTo>
                      <a:pt x="1098" y="493"/>
                    </a:lnTo>
                    <a:lnTo>
                      <a:pt x="1073" y="432"/>
                    </a:lnTo>
                    <a:lnTo>
                      <a:pt x="1049" y="370"/>
                    </a:lnTo>
                    <a:lnTo>
                      <a:pt x="1025" y="307"/>
                    </a:lnTo>
                    <a:lnTo>
                      <a:pt x="1001" y="246"/>
                    </a:lnTo>
                    <a:lnTo>
                      <a:pt x="977" y="184"/>
                    </a:lnTo>
                    <a:lnTo>
                      <a:pt x="952" y="123"/>
                    </a:lnTo>
                    <a:lnTo>
                      <a:pt x="928" y="61"/>
                    </a:lnTo>
                    <a:lnTo>
                      <a:pt x="904" y="0"/>
                    </a:lnTo>
                    <a:lnTo>
                      <a:pt x="876" y="204"/>
                    </a:lnTo>
                    <a:lnTo>
                      <a:pt x="848" y="410"/>
                    </a:lnTo>
                    <a:lnTo>
                      <a:pt x="820" y="615"/>
                    </a:lnTo>
                    <a:lnTo>
                      <a:pt x="792" y="819"/>
                    </a:lnTo>
                    <a:lnTo>
                      <a:pt x="764" y="1025"/>
                    </a:lnTo>
                    <a:lnTo>
                      <a:pt x="736" y="1231"/>
                    </a:lnTo>
                    <a:lnTo>
                      <a:pt x="708" y="1436"/>
                    </a:lnTo>
                    <a:lnTo>
                      <a:pt x="679" y="1642"/>
                    </a:lnTo>
                    <a:lnTo>
                      <a:pt x="651" y="1849"/>
                    </a:lnTo>
                    <a:lnTo>
                      <a:pt x="623" y="2054"/>
                    </a:lnTo>
                    <a:lnTo>
                      <a:pt x="595" y="2261"/>
                    </a:lnTo>
                    <a:lnTo>
                      <a:pt x="566" y="2468"/>
                    </a:lnTo>
                    <a:lnTo>
                      <a:pt x="538" y="2675"/>
                    </a:lnTo>
                    <a:lnTo>
                      <a:pt x="510" y="2881"/>
                    </a:lnTo>
                    <a:lnTo>
                      <a:pt x="482" y="3088"/>
                    </a:lnTo>
                    <a:lnTo>
                      <a:pt x="453" y="3295"/>
                    </a:lnTo>
                    <a:lnTo>
                      <a:pt x="425" y="3502"/>
                    </a:lnTo>
                    <a:lnTo>
                      <a:pt x="396" y="3710"/>
                    </a:lnTo>
                    <a:lnTo>
                      <a:pt x="368" y="3917"/>
                    </a:lnTo>
                    <a:lnTo>
                      <a:pt x="340" y="4125"/>
                    </a:lnTo>
                    <a:lnTo>
                      <a:pt x="311" y="4331"/>
                    </a:lnTo>
                    <a:lnTo>
                      <a:pt x="283" y="4539"/>
                    </a:lnTo>
                    <a:lnTo>
                      <a:pt x="255" y="4747"/>
                    </a:lnTo>
                    <a:lnTo>
                      <a:pt x="227" y="4954"/>
                    </a:lnTo>
                    <a:lnTo>
                      <a:pt x="197" y="5162"/>
                    </a:lnTo>
                    <a:lnTo>
                      <a:pt x="169" y="5372"/>
                    </a:lnTo>
                    <a:lnTo>
                      <a:pt x="141" y="5580"/>
                    </a:lnTo>
                    <a:lnTo>
                      <a:pt x="113" y="5788"/>
                    </a:lnTo>
                    <a:lnTo>
                      <a:pt x="85" y="5996"/>
                    </a:lnTo>
                    <a:lnTo>
                      <a:pt x="56" y="6205"/>
                    </a:lnTo>
                    <a:lnTo>
                      <a:pt x="28" y="6414"/>
                    </a:lnTo>
                    <a:lnTo>
                      <a:pt x="0" y="6622"/>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47560" y="1711080"/>
                <a:ext cx="410400" cy="2043720"/>
              </a:xfrm>
              <a:custGeom>
                <a:avLst/>
                <a:gdLst/>
                <a:ahLst/>
                <a:rect l="l" t="t" r="r" b="b"/>
                <a:pathLst>
                  <a:path w="1098" h="7159">
                    <a:moveTo>
                      <a:pt x="0" y="6622"/>
                    </a:moveTo>
                    <a:lnTo>
                      <a:pt x="23" y="6689"/>
                    </a:lnTo>
                    <a:lnTo>
                      <a:pt x="47" y="6755"/>
                    </a:lnTo>
                    <a:lnTo>
                      <a:pt x="71" y="6823"/>
                    </a:lnTo>
                    <a:lnTo>
                      <a:pt x="95" y="6889"/>
                    </a:lnTo>
                    <a:lnTo>
                      <a:pt x="119" y="6957"/>
                    </a:lnTo>
                    <a:lnTo>
                      <a:pt x="142" y="7023"/>
                    </a:lnTo>
                    <a:lnTo>
                      <a:pt x="166" y="7091"/>
                    </a:lnTo>
                    <a:lnTo>
                      <a:pt x="190" y="7159"/>
                    </a:lnTo>
                    <a:lnTo>
                      <a:pt x="219" y="6948"/>
                    </a:lnTo>
                    <a:lnTo>
                      <a:pt x="247" y="6739"/>
                    </a:lnTo>
                    <a:lnTo>
                      <a:pt x="276" y="6529"/>
                    </a:lnTo>
                    <a:lnTo>
                      <a:pt x="304" y="6319"/>
                    </a:lnTo>
                    <a:lnTo>
                      <a:pt x="334" y="6109"/>
                    </a:lnTo>
                    <a:lnTo>
                      <a:pt x="362" y="5900"/>
                    </a:lnTo>
                    <a:lnTo>
                      <a:pt x="391" y="5690"/>
                    </a:lnTo>
                    <a:lnTo>
                      <a:pt x="419" y="5481"/>
                    </a:lnTo>
                    <a:lnTo>
                      <a:pt x="447" y="5272"/>
                    </a:lnTo>
                    <a:lnTo>
                      <a:pt x="476" y="5063"/>
                    </a:lnTo>
                    <a:lnTo>
                      <a:pt x="505" y="4853"/>
                    </a:lnTo>
                    <a:lnTo>
                      <a:pt x="533" y="4644"/>
                    </a:lnTo>
                    <a:lnTo>
                      <a:pt x="561" y="4436"/>
                    </a:lnTo>
                    <a:lnTo>
                      <a:pt x="591" y="4227"/>
                    </a:lnTo>
                    <a:lnTo>
                      <a:pt x="619" y="4017"/>
                    </a:lnTo>
                    <a:lnTo>
                      <a:pt x="647" y="3809"/>
                    </a:lnTo>
                    <a:lnTo>
                      <a:pt x="675" y="3603"/>
                    </a:lnTo>
                    <a:lnTo>
                      <a:pt x="703" y="3395"/>
                    </a:lnTo>
                    <a:lnTo>
                      <a:pt x="732" y="3187"/>
                    </a:lnTo>
                    <a:lnTo>
                      <a:pt x="760" y="2979"/>
                    </a:lnTo>
                    <a:lnTo>
                      <a:pt x="788" y="2772"/>
                    </a:lnTo>
                    <a:lnTo>
                      <a:pt x="816" y="2564"/>
                    </a:lnTo>
                    <a:lnTo>
                      <a:pt x="844" y="2356"/>
                    </a:lnTo>
                    <a:lnTo>
                      <a:pt x="872" y="2149"/>
                    </a:lnTo>
                    <a:lnTo>
                      <a:pt x="900" y="1941"/>
                    </a:lnTo>
                    <a:lnTo>
                      <a:pt x="929" y="1734"/>
                    </a:lnTo>
                    <a:lnTo>
                      <a:pt x="957" y="1526"/>
                    </a:lnTo>
                    <a:lnTo>
                      <a:pt x="986" y="1319"/>
                    </a:lnTo>
                    <a:lnTo>
                      <a:pt x="1014" y="1112"/>
                    </a:lnTo>
                    <a:lnTo>
                      <a:pt x="1042" y="906"/>
                    </a:lnTo>
                    <a:lnTo>
                      <a:pt x="1070" y="700"/>
                    </a:lnTo>
                    <a:lnTo>
                      <a:pt x="1098" y="493"/>
                    </a:lnTo>
                    <a:lnTo>
                      <a:pt x="1073" y="432"/>
                    </a:lnTo>
                    <a:lnTo>
                      <a:pt x="1049" y="370"/>
                    </a:lnTo>
                    <a:lnTo>
                      <a:pt x="1025" y="307"/>
                    </a:lnTo>
                    <a:lnTo>
                      <a:pt x="1001" y="246"/>
                    </a:lnTo>
                    <a:lnTo>
                      <a:pt x="977" y="184"/>
                    </a:lnTo>
                    <a:lnTo>
                      <a:pt x="952" y="123"/>
                    </a:lnTo>
                    <a:lnTo>
                      <a:pt x="928" y="61"/>
                    </a:lnTo>
                    <a:lnTo>
                      <a:pt x="904" y="0"/>
                    </a:lnTo>
                    <a:lnTo>
                      <a:pt x="876" y="204"/>
                    </a:lnTo>
                    <a:lnTo>
                      <a:pt x="848" y="410"/>
                    </a:lnTo>
                    <a:lnTo>
                      <a:pt x="820" y="615"/>
                    </a:lnTo>
                    <a:lnTo>
                      <a:pt x="792" y="819"/>
                    </a:lnTo>
                    <a:lnTo>
                      <a:pt x="764" y="1025"/>
                    </a:lnTo>
                    <a:lnTo>
                      <a:pt x="736" y="1231"/>
                    </a:lnTo>
                    <a:lnTo>
                      <a:pt x="708" y="1436"/>
                    </a:lnTo>
                    <a:lnTo>
                      <a:pt x="679" y="1642"/>
                    </a:lnTo>
                    <a:lnTo>
                      <a:pt x="651" y="1849"/>
                    </a:lnTo>
                    <a:lnTo>
                      <a:pt x="623" y="2054"/>
                    </a:lnTo>
                    <a:lnTo>
                      <a:pt x="595" y="2261"/>
                    </a:lnTo>
                    <a:lnTo>
                      <a:pt x="566" y="2468"/>
                    </a:lnTo>
                    <a:lnTo>
                      <a:pt x="538" y="2675"/>
                    </a:lnTo>
                    <a:lnTo>
                      <a:pt x="510" y="2881"/>
                    </a:lnTo>
                    <a:lnTo>
                      <a:pt x="482" y="3088"/>
                    </a:lnTo>
                    <a:lnTo>
                      <a:pt x="453" y="3295"/>
                    </a:lnTo>
                    <a:lnTo>
                      <a:pt x="425" y="3502"/>
                    </a:lnTo>
                    <a:lnTo>
                      <a:pt x="396" y="3710"/>
                    </a:lnTo>
                    <a:lnTo>
                      <a:pt x="368" y="3917"/>
                    </a:lnTo>
                    <a:lnTo>
                      <a:pt x="340" y="4125"/>
                    </a:lnTo>
                    <a:lnTo>
                      <a:pt x="311" y="4331"/>
                    </a:lnTo>
                    <a:lnTo>
                      <a:pt x="283" y="4539"/>
                    </a:lnTo>
                    <a:lnTo>
                      <a:pt x="255" y="4747"/>
                    </a:lnTo>
                    <a:lnTo>
                      <a:pt x="227" y="4954"/>
                    </a:lnTo>
                    <a:lnTo>
                      <a:pt x="197" y="5162"/>
                    </a:lnTo>
                    <a:lnTo>
                      <a:pt x="169" y="5372"/>
                    </a:lnTo>
                    <a:lnTo>
                      <a:pt x="141" y="5580"/>
                    </a:lnTo>
                    <a:lnTo>
                      <a:pt x="113" y="5788"/>
                    </a:lnTo>
                    <a:lnTo>
                      <a:pt x="85" y="5996"/>
                    </a:lnTo>
                    <a:lnTo>
                      <a:pt x="56" y="6205"/>
                    </a:lnTo>
                    <a:lnTo>
                      <a:pt x="28" y="6414"/>
                    </a:lnTo>
                    <a:lnTo>
                      <a:pt x="0" y="6622"/>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14760" y="1691280"/>
                <a:ext cx="447480" cy="2256120"/>
              </a:xfrm>
              <a:custGeom>
                <a:avLst/>
                <a:gdLst/>
                <a:ahLst/>
                <a:rect l="l" t="t" r="r" b="b"/>
                <a:pathLst>
                  <a:path w="1196" h="7905">
                    <a:moveTo>
                      <a:pt x="992" y="0"/>
                    </a:moveTo>
                    <a:lnTo>
                      <a:pt x="1017" y="62"/>
                    </a:lnTo>
                    <a:lnTo>
                      <a:pt x="1042" y="125"/>
                    </a:lnTo>
                    <a:lnTo>
                      <a:pt x="1067" y="188"/>
                    </a:lnTo>
                    <a:lnTo>
                      <a:pt x="1092" y="251"/>
                    </a:lnTo>
                    <a:lnTo>
                      <a:pt x="1119" y="313"/>
                    </a:lnTo>
                    <a:lnTo>
                      <a:pt x="1144" y="376"/>
                    </a:lnTo>
                    <a:lnTo>
                      <a:pt x="1170" y="439"/>
                    </a:lnTo>
                    <a:lnTo>
                      <a:pt x="1196" y="502"/>
                    </a:lnTo>
                    <a:lnTo>
                      <a:pt x="1165" y="731"/>
                    </a:lnTo>
                    <a:lnTo>
                      <a:pt x="1134" y="960"/>
                    </a:lnTo>
                    <a:lnTo>
                      <a:pt x="1102" y="1190"/>
                    </a:lnTo>
                    <a:lnTo>
                      <a:pt x="1071" y="1419"/>
                    </a:lnTo>
                    <a:lnTo>
                      <a:pt x="1040" y="1649"/>
                    </a:lnTo>
                    <a:lnTo>
                      <a:pt x="1009" y="1878"/>
                    </a:lnTo>
                    <a:lnTo>
                      <a:pt x="978" y="2108"/>
                    </a:lnTo>
                    <a:lnTo>
                      <a:pt x="947" y="2338"/>
                    </a:lnTo>
                    <a:lnTo>
                      <a:pt x="917" y="2568"/>
                    </a:lnTo>
                    <a:lnTo>
                      <a:pt x="886" y="2799"/>
                    </a:lnTo>
                    <a:lnTo>
                      <a:pt x="856" y="3029"/>
                    </a:lnTo>
                    <a:lnTo>
                      <a:pt x="824" y="3259"/>
                    </a:lnTo>
                    <a:lnTo>
                      <a:pt x="794" y="3490"/>
                    </a:lnTo>
                    <a:lnTo>
                      <a:pt x="763" y="3721"/>
                    </a:lnTo>
                    <a:lnTo>
                      <a:pt x="732" y="3952"/>
                    </a:lnTo>
                    <a:lnTo>
                      <a:pt x="700" y="4182"/>
                    </a:lnTo>
                    <a:lnTo>
                      <a:pt x="669" y="4415"/>
                    </a:lnTo>
                    <a:lnTo>
                      <a:pt x="638" y="4646"/>
                    </a:lnTo>
                    <a:lnTo>
                      <a:pt x="607" y="4878"/>
                    </a:lnTo>
                    <a:lnTo>
                      <a:pt x="575" y="5110"/>
                    </a:lnTo>
                    <a:lnTo>
                      <a:pt x="543" y="5342"/>
                    </a:lnTo>
                    <a:lnTo>
                      <a:pt x="512" y="5574"/>
                    </a:lnTo>
                    <a:lnTo>
                      <a:pt x="481" y="5806"/>
                    </a:lnTo>
                    <a:lnTo>
                      <a:pt x="449" y="6039"/>
                    </a:lnTo>
                    <a:lnTo>
                      <a:pt x="418" y="6271"/>
                    </a:lnTo>
                    <a:lnTo>
                      <a:pt x="388" y="6504"/>
                    </a:lnTo>
                    <a:lnTo>
                      <a:pt x="357" y="6738"/>
                    </a:lnTo>
                    <a:lnTo>
                      <a:pt x="325" y="6970"/>
                    </a:lnTo>
                    <a:lnTo>
                      <a:pt x="294" y="7204"/>
                    </a:lnTo>
                    <a:lnTo>
                      <a:pt x="263" y="7437"/>
                    </a:lnTo>
                    <a:lnTo>
                      <a:pt x="232" y="7671"/>
                    </a:lnTo>
                    <a:lnTo>
                      <a:pt x="200" y="7905"/>
                    </a:lnTo>
                    <a:lnTo>
                      <a:pt x="175" y="7834"/>
                    </a:lnTo>
                    <a:lnTo>
                      <a:pt x="149" y="7766"/>
                    </a:lnTo>
                    <a:lnTo>
                      <a:pt x="124" y="7697"/>
                    </a:lnTo>
                    <a:lnTo>
                      <a:pt x="98" y="7628"/>
                    </a:lnTo>
                    <a:lnTo>
                      <a:pt x="74" y="7559"/>
                    </a:lnTo>
                    <a:lnTo>
                      <a:pt x="49" y="7490"/>
                    </a:lnTo>
                    <a:lnTo>
                      <a:pt x="24" y="7421"/>
                    </a:lnTo>
                    <a:lnTo>
                      <a:pt x="0" y="7353"/>
                    </a:lnTo>
                    <a:lnTo>
                      <a:pt x="31" y="7121"/>
                    </a:lnTo>
                    <a:lnTo>
                      <a:pt x="62" y="6889"/>
                    </a:lnTo>
                    <a:lnTo>
                      <a:pt x="93" y="6656"/>
                    </a:lnTo>
                    <a:lnTo>
                      <a:pt x="125" y="6425"/>
                    </a:lnTo>
                    <a:lnTo>
                      <a:pt x="155" y="6192"/>
                    </a:lnTo>
                    <a:lnTo>
                      <a:pt x="186" y="5961"/>
                    </a:lnTo>
                    <a:lnTo>
                      <a:pt x="217" y="5730"/>
                    </a:lnTo>
                    <a:lnTo>
                      <a:pt x="249" y="5498"/>
                    </a:lnTo>
                    <a:lnTo>
                      <a:pt x="279" y="5268"/>
                    </a:lnTo>
                    <a:lnTo>
                      <a:pt x="310" y="5038"/>
                    </a:lnTo>
                    <a:lnTo>
                      <a:pt x="341" y="4806"/>
                    </a:lnTo>
                    <a:lnTo>
                      <a:pt x="373" y="4576"/>
                    </a:lnTo>
                    <a:lnTo>
                      <a:pt x="404" y="4346"/>
                    </a:lnTo>
                    <a:lnTo>
                      <a:pt x="434" y="4116"/>
                    </a:lnTo>
                    <a:lnTo>
                      <a:pt x="465" y="3886"/>
                    </a:lnTo>
                    <a:lnTo>
                      <a:pt x="497" y="3657"/>
                    </a:lnTo>
                    <a:lnTo>
                      <a:pt x="528" y="3426"/>
                    </a:lnTo>
                    <a:lnTo>
                      <a:pt x="559" y="3196"/>
                    </a:lnTo>
                    <a:lnTo>
                      <a:pt x="590" y="2967"/>
                    </a:lnTo>
                    <a:lnTo>
                      <a:pt x="621" y="2737"/>
                    </a:lnTo>
                    <a:lnTo>
                      <a:pt x="652" y="2508"/>
                    </a:lnTo>
                    <a:lnTo>
                      <a:pt x="683" y="2279"/>
                    </a:lnTo>
                    <a:lnTo>
                      <a:pt x="713" y="2050"/>
                    </a:lnTo>
                    <a:lnTo>
                      <a:pt x="745" y="1821"/>
                    </a:lnTo>
                    <a:lnTo>
                      <a:pt x="775" y="1594"/>
                    </a:lnTo>
                    <a:lnTo>
                      <a:pt x="806" y="1366"/>
                    </a:lnTo>
                    <a:lnTo>
                      <a:pt x="837" y="1138"/>
                    </a:lnTo>
                    <a:lnTo>
                      <a:pt x="868" y="910"/>
                    </a:lnTo>
                    <a:lnTo>
                      <a:pt x="899" y="681"/>
                    </a:lnTo>
                    <a:lnTo>
                      <a:pt x="930" y="455"/>
                    </a:lnTo>
                    <a:lnTo>
                      <a:pt x="961" y="227"/>
                    </a:lnTo>
                    <a:lnTo>
                      <a:pt x="992"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514760" y="1691280"/>
                <a:ext cx="447480" cy="2256120"/>
              </a:xfrm>
              <a:custGeom>
                <a:avLst/>
                <a:gdLst/>
                <a:ahLst/>
                <a:rect l="l" t="t" r="r" b="b"/>
                <a:pathLst>
                  <a:path w="1196" h="7905">
                    <a:moveTo>
                      <a:pt x="992" y="0"/>
                    </a:moveTo>
                    <a:lnTo>
                      <a:pt x="1017" y="62"/>
                    </a:lnTo>
                    <a:lnTo>
                      <a:pt x="1042" y="125"/>
                    </a:lnTo>
                    <a:lnTo>
                      <a:pt x="1067" y="188"/>
                    </a:lnTo>
                    <a:lnTo>
                      <a:pt x="1092" y="251"/>
                    </a:lnTo>
                    <a:lnTo>
                      <a:pt x="1119" y="313"/>
                    </a:lnTo>
                    <a:lnTo>
                      <a:pt x="1144" y="376"/>
                    </a:lnTo>
                    <a:lnTo>
                      <a:pt x="1170" y="439"/>
                    </a:lnTo>
                    <a:lnTo>
                      <a:pt x="1196" y="502"/>
                    </a:lnTo>
                    <a:lnTo>
                      <a:pt x="1165" y="731"/>
                    </a:lnTo>
                    <a:lnTo>
                      <a:pt x="1134" y="960"/>
                    </a:lnTo>
                    <a:lnTo>
                      <a:pt x="1102" y="1190"/>
                    </a:lnTo>
                    <a:lnTo>
                      <a:pt x="1071" y="1419"/>
                    </a:lnTo>
                    <a:lnTo>
                      <a:pt x="1040" y="1649"/>
                    </a:lnTo>
                    <a:lnTo>
                      <a:pt x="1009" y="1878"/>
                    </a:lnTo>
                    <a:lnTo>
                      <a:pt x="978" y="2108"/>
                    </a:lnTo>
                    <a:lnTo>
                      <a:pt x="947" y="2338"/>
                    </a:lnTo>
                    <a:lnTo>
                      <a:pt x="917" y="2568"/>
                    </a:lnTo>
                    <a:lnTo>
                      <a:pt x="886" y="2799"/>
                    </a:lnTo>
                    <a:lnTo>
                      <a:pt x="856" y="3029"/>
                    </a:lnTo>
                    <a:lnTo>
                      <a:pt x="824" y="3259"/>
                    </a:lnTo>
                    <a:lnTo>
                      <a:pt x="794" y="3490"/>
                    </a:lnTo>
                    <a:lnTo>
                      <a:pt x="763" y="3721"/>
                    </a:lnTo>
                    <a:lnTo>
                      <a:pt x="732" y="3952"/>
                    </a:lnTo>
                    <a:lnTo>
                      <a:pt x="700" y="4182"/>
                    </a:lnTo>
                    <a:lnTo>
                      <a:pt x="669" y="4415"/>
                    </a:lnTo>
                    <a:lnTo>
                      <a:pt x="638" y="4646"/>
                    </a:lnTo>
                    <a:lnTo>
                      <a:pt x="607" y="4878"/>
                    </a:lnTo>
                    <a:lnTo>
                      <a:pt x="575" y="5110"/>
                    </a:lnTo>
                    <a:lnTo>
                      <a:pt x="543" y="5342"/>
                    </a:lnTo>
                    <a:lnTo>
                      <a:pt x="512" y="5574"/>
                    </a:lnTo>
                    <a:lnTo>
                      <a:pt x="481" y="5806"/>
                    </a:lnTo>
                    <a:lnTo>
                      <a:pt x="449" y="6039"/>
                    </a:lnTo>
                    <a:lnTo>
                      <a:pt x="418" y="6271"/>
                    </a:lnTo>
                    <a:lnTo>
                      <a:pt x="388" y="6504"/>
                    </a:lnTo>
                    <a:lnTo>
                      <a:pt x="357" y="6738"/>
                    </a:lnTo>
                    <a:lnTo>
                      <a:pt x="325" y="6970"/>
                    </a:lnTo>
                    <a:lnTo>
                      <a:pt x="294" y="7204"/>
                    </a:lnTo>
                    <a:lnTo>
                      <a:pt x="263" y="7437"/>
                    </a:lnTo>
                    <a:lnTo>
                      <a:pt x="232" y="7671"/>
                    </a:lnTo>
                    <a:lnTo>
                      <a:pt x="200" y="7905"/>
                    </a:lnTo>
                    <a:lnTo>
                      <a:pt x="175" y="7834"/>
                    </a:lnTo>
                    <a:lnTo>
                      <a:pt x="149" y="7766"/>
                    </a:lnTo>
                    <a:lnTo>
                      <a:pt x="124" y="7697"/>
                    </a:lnTo>
                    <a:lnTo>
                      <a:pt x="98" y="7628"/>
                    </a:lnTo>
                    <a:lnTo>
                      <a:pt x="74" y="7559"/>
                    </a:lnTo>
                    <a:lnTo>
                      <a:pt x="49" y="7490"/>
                    </a:lnTo>
                    <a:lnTo>
                      <a:pt x="24" y="7421"/>
                    </a:lnTo>
                    <a:lnTo>
                      <a:pt x="0" y="7353"/>
                    </a:lnTo>
                    <a:lnTo>
                      <a:pt x="31" y="7121"/>
                    </a:lnTo>
                    <a:lnTo>
                      <a:pt x="62" y="6889"/>
                    </a:lnTo>
                    <a:lnTo>
                      <a:pt x="93" y="6656"/>
                    </a:lnTo>
                    <a:lnTo>
                      <a:pt x="125" y="6425"/>
                    </a:lnTo>
                    <a:lnTo>
                      <a:pt x="155" y="6192"/>
                    </a:lnTo>
                    <a:lnTo>
                      <a:pt x="186" y="5961"/>
                    </a:lnTo>
                    <a:lnTo>
                      <a:pt x="217" y="5730"/>
                    </a:lnTo>
                    <a:lnTo>
                      <a:pt x="249" y="5498"/>
                    </a:lnTo>
                    <a:lnTo>
                      <a:pt x="279" y="5268"/>
                    </a:lnTo>
                    <a:lnTo>
                      <a:pt x="310" y="5038"/>
                    </a:lnTo>
                    <a:lnTo>
                      <a:pt x="341" y="4806"/>
                    </a:lnTo>
                    <a:lnTo>
                      <a:pt x="373" y="4576"/>
                    </a:lnTo>
                    <a:lnTo>
                      <a:pt x="404" y="4346"/>
                    </a:lnTo>
                    <a:lnTo>
                      <a:pt x="434" y="4116"/>
                    </a:lnTo>
                    <a:lnTo>
                      <a:pt x="465" y="3886"/>
                    </a:lnTo>
                    <a:lnTo>
                      <a:pt x="497" y="3657"/>
                    </a:lnTo>
                    <a:lnTo>
                      <a:pt x="528" y="3426"/>
                    </a:lnTo>
                    <a:lnTo>
                      <a:pt x="559" y="3196"/>
                    </a:lnTo>
                    <a:lnTo>
                      <a:pt x="590" y="2967"/>
                    </a:lnTo>
                    <a:lnTo>
                      <a:pt x="621" y="2737"/>
                    </a:lnTo>
                    <a:lnTo>
                      <a:pt x="652" y="2508"/>
                    </a:lnTo>
                    <a:lnTo>
                      <a:pt x="683" y="2279"/>
                    </a:lnTo>
                    <a:lnTo>
                      <a:pt x="713" y="2050"/>
                    </a:lnTo>
                    <a:lnTo>
                      <a:pt x="745" y="1821"/>
                    </a:lnTo>
                    <a:lnTo>
                      <a:pt x="775" y="1594"/>
                    </a:lnTo>
                    <a:lnTo>
                      <a:pt x="806" y="1366"/>
                    </a:lnTo>
                    <a:lnTo>
                      <a:pt x="837" y="1138"/>
                    </a:lnTo>
                    <a:lnTo>
                      <a:pt x="868" y="910"/>
                    </a:lnTo>
                    <a:lnTo>
                      <a:pt x="899" y="681"/>
                    </a:lnTo>
                    <a:lnTo>
                      <a:pt x="930" y="455"/>
                    </a:lnTo>
                    <a:lnTo>
                      <a:pt x="961" y="227"/>
                    </a:lnTo>
                    <a:lnTo>
                      <a:pt x="992"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069800" y="3669120"/>
                <a:ext cx="520560" cy="278280"/>
              </a:xfrm>
              <a:custGeom>
                <a:avLst/>
                <a:gdLst/>
                <a:ahLst/>
                <a:rect l="l" t="t" r="r" b="b"/>
                <a:pathLst>
                  <a:path w="1393" h="974">
                    <a:moveTo>
                      <a:pt x="1193" y="422"/>
                    </a:moveTo>
                    <a:lnTo>
                      <a:pt x="1217" y="490"/>
                    </a:lnTo>
                    <a:lnTo>
                      <a:pt x="1242" y="559"/>
                    </a:lnTo>
                    <a:lnTo>
                      <a:pt x="1267" y="628"/>
                    </a:lnTo>
                    <a:lnTo>
                      <a:pt x="1291" y="697"/>
                    </a:lnTo>
                    <a:lnTo>
                      <a:pt x="1317" y="766"/>
                    </a:lnTo>
                    <a:lnTo>
                      <a:pt x="1342" y="835"/>
                    </a:lnTo>
                    <a:lnTo>
                      <a:pt x="1368" y="903"/>
                    </a:lnTo>
                    <a:lnTo>
                      <a:pt x="1393" y="974"/>
                    </a:lnTo>
                    <a:lnTo>
                      <a:pt x="1240" y="917"/>
                    </a:lnTo>
                    <a:lnTo>
                      <a:pt x="1088" y="862"/>
                    </a:lnTo>
                    <a:lnTo>
                      <a:pt x="937" y="806"/>
                    </a:lnTo>
                    <a:lnTo>
                      <a:pt x="786" y="752"/>
                    </a:lnTo>
                    <a:lnTo>
                      <a:pt x="636" y="697"/>
                    </a:lnTo>
                    <a:lnTo>
                      <a:pt x="487" y="643"/>
                    </a:lnTo>
                    <a:lnTo>
                      <a:pt x="339" y="590"/>
                    </a:lnTo>
                    <a:lnTo>
                      <a:pt x="191" y="535"/>
                    </a:lnTo>
                    <a:lnTo>
                      <a:pt x="168" y="468"/>
                    </a:lnTo>
                    <a:lnTo>
                      <a:pt x="143" y="401"/>
                    </a:lnTo>
                    <a:lnTo>
                      <a:pt x="119" y="334"/>
                    </a:lnTo>
                    <a:lnTo>
                      <a:pt x="95" y="267"/>
                    </a:lnTo>
                    <a:lnTo>
                      <a:pt x="72" y="199"/>
                    </a:lnTo>
                    <a:lnTo>
                      <a:pt x="48" y="133"/>
                    </a:lnTo>
                    <a:lnTo>
                      <a:pt x="24" y="66"/>
                    </a:lnTo>
                    <a:lnTo>
                      <a:pt x="0" y="0"/>
                    </a:lnTo>
                    <a:lnTo>
                      <a:pt x="147" y="52"/>
                    </a:lnTo>
                    <a:lnTo>
                      <a:pt x="295" y="103"/>
                    </a:lnTo>
                    <a:lnTo>
                      <a:pt x="443" y="156"/>
                    </a:lnTo>
                    <a:lnTo>
                      <a:pt x="591" y="208"/>
                    </a:lnTo>
                    <a:lnTo>
                      <a:pt x="740" y="261"/>
                    </a:lnTo>
                    <a:lnTo>
                      <a:pt x="890" y="314"/>
                    </a:lnTo>
                    <a:lnTo>
                      <a:pt x="1041" y="368"/>
                    </a:lnTo>
                    <a:lnTo>
                      <a:pt x="1193" y="4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069800" y="3669120"/>
                <a:ext cx="520560" cy="278280"/>
              </a:xfrm>
              <a:custGeom>
                <a:avLst/>
                <a:gdLst/>
                <a:ahLst/>
                <a:rect l="l" t="t" r="r" b="b"/>
                <a:pathLst>
                  <a:path w="1393" h="974">
                    <a:moveTo>
                      <a:pt x="1193" y="422"/>
                    </a:moveTo>
                    <a:lnTo>
                      <a:pt x="1217" y="490"/>
                    </a:lnTo>
                    <a:lnTo>
                      <a:pt x="1242" y="559"/>
                    </a:lnTo>
                    <a:lnTo>
                      <a:pt x="1267" y="628"/>
                    </a:lnTo>
                    <a:lnTo>
                      <a:pt x="1291" y="697"/>
                    </a:lnTo>
                    <a:lnTo>
                      <a:pt x="1317" y="766"/>
                    </a:lnTo>
                    <a:lnTo>
                      <a:pt x="1342" y="835"/>
                    </a:lnTo>
                    <a:lnTo>
                      <a:pt x="1368" y="903"/>
                    </a:lnTo>
                    <a:lnTo>
                      <a:pt x="1393" y="974"/>
                    </a:lnTo>
                    <a:lnTo>
                      <a:pt x="1240" y="917"/>
                    </a:lnTo>
                    <a:lnTo>
                      <a:pt x="1088" y="862"/>
                    </a:lnTo>
                    <a:lnTo>
                      <a:pt x="937" y="806"/>
                    </a:lnTo>
                    <a:lnTo>
                      <a:pt x="786" y="752"/>
                    </a:lnTo>
                    <a:lnTo>
                      <a:pt x="636" y="697"/>
                    </a:lnTo>
                    <a:lnTo>
                      <a:pt x="487" y="643"/>
                    </a:lnTo>
                    <a:lnTo>
                      <a:pt x="339" y="590"/>
                    </a:lnTo>
                    <a:lnTo>
                      <a:pt x="191" y="535"/>
                    </a:lnTo>
                    <a:lnTo>
                      <a:pt x="168" y="468"/>
                    </a:lnTo>
                    <a:lnTo>
                      <a:pt x="143" y="401"/>
                    </a:lnTo>
                    <a:lnTo>
                      <a:pt x="119" y="334"/>
                    </a:lnTo>
                    <a:lnTo>
                      <a:pt x="95" y="267"/>
                    </a:lnTo>
                    <a:lnTo>
                      <a:pt x="72" y="199"/>
                    </a:lnTo>
                    <a:lnTo>
                      <a:pt x="48" y="133"/>
                    </a:lnTo>
                    <a:lnTo>
                      <a:pt x="24" y="66"/>
                    </a:lnTo>
                    <a:lnTo>
                      <a:pt x="0" y="0"/>
                    </a:lnTo>
                    <a:lnTo>
                      <a:pt x="147" y="52"/>
                    </a:lnTo>
                    <a:lnTo>
                      <a:pt x="295" y="103"/>
                    </a:lnTo>
                    <a:lnTo>
                      <a:pt x="443" y="156"/>
                    </a:lnTo>
                    <a:lnTo>
                      <a:pt x="591" y="208"/>
                    </a:lnTo>
                    <a:lnTo>
                      <a:pt x="740" y="261"/>
                    </a:lnTo>
                    <a:lnTo>
                      <a:pt x="890" y="314"/>
                    </a:lnTo>
                    <a:lnTo>
                      <a:pt x="1041" y="368"/>
                    </a:lnTo>
                    <a:lnTo>
                      <a:pt x="1193" y="422"/>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069800" y="1616760"/>
                <a:ext cx="814680" cy="2173680"/>
              </a:xfrm>
              <a:custGeom>
                <a:avLst/>
                <a:gdLst/>
                <a:ahLst/>
                <a:rect l="l" t="t" r="r" b="b"/>
                <a:pathLst>
                  <a:path w="2185" h="7611">
                    <a:moveTo>
                      <a:pt x="985" y="0"/>
                    </a:moveTo>
                    <a:lnTo>
                      <a:pt x="1133" y="31"/>
                    </a:lnTo>
                    <a:lnTo>
                      <a:pt x="1280" y="63"/>
                    </a:lnTo>
                    <a:lnTo>
                      <a:pt x="1430" y="95"/>
                    </a:lnTo>
                    <a:lnTo>
                      <a:pt x="1579" y="127"/>
                    </a:lnTo>
                    <a:lnTo>
                      <a:pt x="1729" y="159"/>
                    </a:lnTo>
                    <a:lnTo>
                      <a:pt x="1880" y="192"/>
                    </a:lnTo>
                    <a:lnTo>
                      <a:pt x="2032" y="224"/>
                    </a:lnTo>
                    <a:lnTo>
                      <a:pt x="2185" y="258"/>
                    </a:lnTo>
                    <a:lnTo>
                      <a:pt x="2154" y="485"/>
                    </a:lnTo>
                    <a:lnTo>
                      <a:pt x="2123" y="713"/>
                    </a:lnTo>
                    <a:lnTo>
                      <a:pt x="2092" y="939"/>
                    </a:lnTo>
                    <a:lnTo>
                      <a:pt x="2061" y="1168"/>
                    </a:lnTo>
                    <a:lnTo>
                      <a:pt x="2030" y="1396"/>
                    </a:lnTo>
                    <a:lnTo>
                      <a:pt x="1999" y="1624"/>
                    </a:lnTo>
                    <a:lnTo>
                      <a:pt x="1968" y="1852"/>
                    </a:lnTo>
                    <a:lnTo>
                      <a:pt x="1938" y="2079"/>
                    </a:lnTo>
                    <a:lnTo>
                      <a:pt x="1906" y="2308"/>
                    </a:lnTo>
                    <a:lnTo>
                      <a:pt x="1876" y="2537"/>
                    </a:lnTo>
                    <a:lnTo>
                      <a:pt x="1845" y="2766"/>
                    </a:lnTo>
                    <a:lnTo>
                      <a:pt x="1814" y="2995"/>
                    </a:lnTo>
                    <a:lnTo>
                      <a:pt x="1783" y="3225"/>
                    </a:lnTo>
                    <a:lnTo>
                      <a:pt x="1752" y="3454"/>
                    </a:lnTo>
                    <a:lnTo>
                      <a:pt x="1721" y="3684"/>
                    </a:lnTo>
                    <a:lnTo>
                      <a:pt x="1690" y="3915"/>
                    </a:lnTo>
                    <a:lnTo>
                      <a:pt x="1658" y="4144"/>
                    </a:lnTo>
                    <a:lnTo>
                      <a:pt x="1627" y="4374"/>
                    </a:lnTo>
                    <a:lnTo>
                      <a:pt x="1597" y="4604"/>
                    </a:lnTo>
                    <a:lnTo>
                      <a:pt x="1566" y="4834"/>
                    </a:lnTo>
                    <a:lnTo>
                      <a:pt x="1534" y="5064"/>
                    </a:lnTo>
                    <a:lnTo>
                      <a:pt x="1503" y="5296"/>
                    </a:lnTo>
                    <a:lnTo>
                      <a:pt x="1472" y="5526"/>
                    </a:lnTo>
                    <a:lnTo>
                      <a:pt x="1442" y="5756"/>
                    </a:lnTo>
                    <a:lnTo>
                      <a:pt x="1410" y="5988"/>
                    </a:lnTo>
                    <a:lnTo>
                      <a:pt x="1379" y="6219"/>
                    </a:lnTo>
                    <a:lnTo>
                      <a:pt x="1348" y="6450"/>
                    </a:lnTo>
                    <a:lnTo>
                      <a:pt x="1318" y="6683"/>
                    </a:lnTo>
                    <a:lnTo>
                      <a:pt x="1286" y="6914"/>
                    </a:lnTo>
                    <a:lnTo>
                      <a:pt x="1255" y="7147"/>
                    </a:lnTo>
                    <a:lnTo>
                      <a:pt x="1224" y="7379"/>
                    </a:lnTo>
                    <a:lnTo>
                      <a:pt x="1193" y="7611"/>
                    </a:lnTo>
                    <a:lnTo>
                      <a:pt x="1041" y="7557"/>
                    </a:lnTo>
                    <a:lnTo>
                      <a:pt x="890" y="7503"/>
                    </a:lnTo>
                    <a:lnTo>
                      <a:pt x="740" y="7450"/>
                    </a:lnTo>
                    <a:lnTo>
                      <a:pt x="591" y="7397"/>
                    </a:lnTo>
                    <a:lnTo>
                      <a:pt x="443" y="7345"/>
                    </a:lnTo>
                    <a:lnTo>
                      <a:pt x="295" y="7292"/>
                    </a:lnTo>
                    <a:lnTo>
                      <a:pt x="147" y="7241"/>
                    </a:lnTo>
                    <a:lnTo>
                      <a:pt x="0" y="7189"/>
                    </a:lnTo>
                    <a:lnTo>
                      <a:pt x="31" y="6962"/>
                    </a:lnTo>
                    <a:lnTo>
                      <a:pt x="63" y="6735"/>
                    </a:lnTo>
                    <a:lnTo>
                      <a:pt x="94" y="6508"/>
                    </a:lnTo>
                    <a:lnTo>
                      <a:pt x="125" y="6282"/>
                    </a:lnTo>
                    <a:lnTo>
                      <a:pt x="157" y="6055"/>
                    </a:lnTo>
                    <a:lnTo>
                      <a:pt x="188" y="5829"/>
                    </a:lnTo>
                    <a:lnTo>
                      <a:pt x="219" y="5602"/>
                    </a:lnTo>
                    <a:lnTo>
                      <a:pt x="250" y="5377"/>
                    </a:lnTo>
                    <a:lnTo>
                      <a:pt x="281" y="5152"/>
                    </a:lnTo>
                    <a:lnTo>
                      <a:pt x="312" y="4925"/>
                    </a:lnTo>
                    <a:lnTo>
                      <a:pt x="343" y="4700"/>
                    </a:lnTo>
                    <a:lnTo>
                      <a:pt x="373" y="4475"/>
                    </a:lnTo>
                    <a:lnTo>
                      <a:pt x="404" y="4249"/>
                    </a:lnTo>
                    <a:lnTo>
                      <a:pt x="436" y="4025"/>
                    </a:lnTo>
                    <a:lnTo>
                      <a:pt x="466" y="3800"/>
                    </a:lnTo>
                    <a:lnTo>
                      <a:pt x="497" y="3575"/>
                    </a:lnTo>
                    <a:lnTo>
                      <a:pt x="528" y="3351"/>
                    </a:lnTo>
                    <a:lnTo>
                      <a:pt x="559" y="3127"/>
                    </a:lnTo>
                    <a:lnTo>
                      <a:pt x="589" y="2903"/>
                    </a:lnTo>
                    <a:lnTo>
                      <a:pt x="619" y="2678"/>
                    </a:lnTo>
                    <a:lnTo>
                      <a:pt x="649" y="2454"/>
                    </a:lnTo>
                    <a:lnTo>
                      <a:pt x="681" y="2229"/>
                    </a:lnTo>
                    <a:lnTo>
                      <a:pt x="711" y="2005"/>
                    </a:lnTo>
                    <a:lnTo>
                      <a:pt x="741" y="1781"/>
                    </a:lnTo>
                    <a:lnTo>
                      <a:pt x="771" y="1560"/>
                    </a:lnTo>
                    <a:lnTo>
                      <a:pt x="802" y="1336"/>
                    </a:lnTo>
                    <a:lnTo>
                      <a:pt x="833" y="1113"/>
                    </a:lnTo>
                    <a:lnTo>
                      <a:pt x="863" y="890"/>
                    </a:lnTo>
                    <a:lnTo>
                      <a:pt x="893" y="667"/>
                    </a:lnTo>
                    <a:lnTo>
                      <a:pt x="925" y="445"/>
                    </a:lnTo>
                    <a:lnTo>
                      <a:pt x="955" y="222"/>
                    </a:lnTo>
                    <a:lnTo>
                      <a:pt x="985" y="0"/>
                    </a:lnTo>
                    <a:close/>
                    <a:moveTo>
                      <a:pt x="1112" y="328"/>
                    </a:moveTo>
                    <a:lnTo>
                      <a:pt x="1218" y="351"/>
                    </a:lnTo>
                    <a:lnTo>
                      <a:pt x="1324" y="373"/>
                    </a:lnTo>
                    <a:lnTo>
                      <a:pt x="1431" y="397"/>
                    </a:lnTo>
                    <a:lnTo>
                      <a:pt x="1537" y="420"/>
                    </a:lnTo>
                    <a:lnTo>
                      <a:pt x="1644" y="443"/>
                    </a:lnTo>
                    <a:lnTo>
                      <a:pt x="1752" y="467"/>
                    </a:lnTo>
                    <a:lnTo>
                      <a:pt x="1860" y="491"/>
                    </a:lnTo>
                    <a:lnTo>
                      <a:pt x="1969" y="515"/>
                    </a:lnTo>
                    <a:lnTo>
                      <a:pt x="1941" y="723"/>
                    </a:lnTo>
                    <a:lnTo>
                      <a:pt x="1912" y="932"/>
                    </a:lnTo>
                    <a:lnTo>
                      <a:pt x="1884" y="1141"/>
                    </a:lnTo>
                    <a:lnTo>
                      <a:pt x="1856" y="1349"/>
                    </a:lnTo>
                    <a:lnTo>
                      <a:pt x="1828" y="1559"/>
                    </a:lnTo>
                    <a:lnTo>
                      <a:pt x="1799" y="1767"/>
                    </a:lnTo>
                    <a:lnTo>
                      <a:pt x="1770" y="1976"/>
                    </a:lnTo>
                    <a:lnTo>
                      <a:pt x="1742" y="2185"/>
                    </a:lnTo>
                    <a:lnTo>
                      <a:pt x="1714" y="2394"/>
                    </a:lnTo>
                    <a:lnTo>
                      <a:pt x="1686" y="2605"/>
                    </a:lnTo>
                    <a:lnTo>
                      <a:pt x="1657" y="2814"/>
                    </a:lnTo>
                    <a:lnTo>
                      <a:pt x="1629" y="3025"/>
                    </a:lnTo>
                    <a:lnTo>
                      <a:pt x="1600" y="3234"/>
                    </a:lnTo>
                    <a:lnTo>
                      <a:pt x="1572" y="3444"/>
                    </a:lnTo>
                    <a:lnTo>
                      <a:pt x="1543" y="3655"/>
                    </a:lnTo>
                    <a:lnTo>
                      <a:pt x="1515" y="3864"/>
                    </a:lnTo>
                    <a:lnTo>
                      <a:pt x="1486" y="4075"/>
                    </a:lnTo>
                    <a:lnTo>
                      <a:pt x="1458" y="4286"/>
                    </a:lnTo>
                    <a:lnTo>
                      <a:pt x="1430" y="4497"/>
                    </a:lnTo>
                    <a:lnTo>
                      <a:pt x="1400" y="4707"/>
                    </a:lnTo>
                    <a:lnTo>
                      <a:pt x="1372" y="4919"/>
                    </a:lnTo>
                    <a:lnTo>
                      <a:pt x="1344" y="5130"/>
                    </a:lnTo>
                    <a:lnTo>
                      <a:pt x="1315" y="5341"/>
                    </a:lnTo>
                    <a:lnTo>
                      <a:pt x="1286" y="5552"/>
                    </a:lnTo>
                    <a:lnTo>
                      <a:pt x="1258" y="5764"/>
                    </a:lnTo>
                    <a:lnTo>
                      <a:pt x="1229" y="5975"/>
                    </a:lnTo>
                    <a:lnTo>
                      <a:pt x="1201" y="6187"/>
                    </a:lnTo>
                    <a:lnTo>
                      <a:pt x="1173" y="6399"/>
                    </a:lnTo>
                    <a:lnTo>
                      <a:pt x="1143" y="6610"/>
                    </a:lnTo>
                    <a:lnTo>
                      <a:pt x="1115" y="6822"/>
                    </a:lnTo>
                    <a:lnTo>
                      <a:pt x="1086" y="7035"/>
                    </a:lnTo>
                    <a:lnTo>
                      <a:pt x="1057" y="7247"/>
                    </a:lnTo>
                    <a:lnTo>
                      <a:pt x="950" y="7210"/>
                    </a:lnTo>
                    <a:lnTo>
                      <a:pt x="843" y="7172"/>
                    </a:lnTo>
                    <a:lnTo>
                      <a:pt x="736" y="7135"/>
                    </a:lnTo>
                    <a:lnTo>
                      <a:pt x="629" y="7098"/>
                    </a:lnTo>
                    <a:lnTo>
                      <a:pt x="523" y="7060"/>
                    </a:lnTo>
                    <a:lnTo>
                      <a:pt x="418" y="7024"/>
                    </a:lnTo>
                    <a:lnTo>
                      <a:pt x="313" y="6987"/>
                    </a:lnTo>
                    <a:lnTo>
                      <a:pt x="208" y="6950"/>
                    </a:lnTo>
                    <a:lnTo>
                      <a:pt x="236" y="6742"/>
                    </a:lnTo>
                    <a:lnTo>
                      <a:pt x="264" y="6533"/>
                    </a:lnTo>
                    <a:lnTo>
                      <a:pt x="293" y="6324"/>
                    </a:lnTo>
                    <a:lnTo>
                      <a:pt x="321" y="6116"/>
                    </a:lnTo>
                    <a:lnTo>
                      <a:pt x="349" y="5908"/>
                    </a:lnTo>
                    <a:lnTo>
                      <a:pt x="377" y="5700"/>
                    </a:lnTo>
                    <a:lnTo>
                      <a:pt x="405" y="5490"/>
                    </a:lnTo>
                    <a:lnTo>
                      <a:pt x="435" y="5282"/>
                    </a:lnTo>
                    <a:lnTo>
                      <a:pt x="463" y="5075"/>
                    </a:lnTo>
                    <a:lnTo>
                      <a:pt x="491" y="4867"/>
                    </a:lnTo>
                    <a:lnTo>
                      <a:pt x="519" y="4659"/>
                    </a:lnTo>
                    <a:lnTo>
                      <a:pt x="548" y="4453"/>
                    </a:lnTo>
                    <a:lnTo>
                      <a:pt x="576" y="4245"/>
                    </a:lnTo>
                    <a:lnTo>
                      <a:pt x="604" y="4038"/>
                    </a:lnTo>
                    <a:lnTo>
                      <a:pt x="633" y="3830"/>
                    </a:lnTo>
                    <a:lnTo>
                      <a:pt x="661" y="3623"/>
                    </a:lnTo>
                    <a:lnTo>
                      <a:pt x="690" y="3416"/>
                    </a:lnTo>
                    <a:lnTo>
                      <a:pt x="718" y="3209"/>
                    </a:lnTo>
                    <a:lnTo>
                      <a:pt x="746" y="3003"/>
                    </a:lnTo>
                    <a:lnTo>
                      <a:pt x="774" y="2796"/>
                    </a:lnTo>
                    <a:lnTo>
                      <a:pt x="803" y="2589"/>
                    </a:lnTo>
                    <a:lnTo>
                      <a:pt x="831" y="2382"/>
                    </a:lnTo>
                    <a:lnTo>
                      <a:pt x="859" y="2177"/>
                    </a:lnTo>
                    <a:lnTo>
                      <a:pt x="887" y="1970"/>
                    </a:lnTo>
                    <a:lnTo>
                      <a:pt x="916" y="1764"/>
                    </a:lnTo>
                    <a:lnTo>
                      <a:pt x="944" y="1559"/>
                    </a:lnTo>
                    <a:lnTo>
                      <a:pt x="972" y="1353"/>
                    </a:lnTo>
                    <a:lnTo>
                      <a:pt x="1000" y="1147"/>
                    </a:lnTo>
                    <a:lnTo>
                      <a:pt x="1028" y="943"/>
                    </a:lnTo>
                    <a:lnTo>
                      <a:pt x="1056" y="738"/>
                    </a:lnTo>
                    <a:lnTo>
                      <a:pt x="1084" y="532"/>
                    </a:lnTo>
                    <a:lnTo>
                      <a:pt x="1112" y="328"/>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069800" y="1616760"/>
                <a:ext cx="814680" cy="2173680"/>
              </a:xfrm>
              <a:custGeom>
                <a:avLst/>
                <a:gdLst/>
                <a:ahLst/>
                <a:rect l="l" t="t" r="r" b="b"/>
                <a:pathLst>
                  <a:path w="2185" h="7611">
                    <a:moveTo>
                      <a:pt x="985" y="0"/>
                    </a:moveTo>
                    <a:lnTo>
                      <a:pt x="1133" y="31"/>
                    </a:lnTo>
                    <a:lnTo>
                      <a:pt x="1280" y="63"/>
                    </a:lnTo>
                    <a:lnTo>
                      <a:pt x="1430" y="95"/>
                    </a:lnTo>
                    <a:lnTo>
                      <a:pt x="1579" y="127"/>
                    </a:lnTo>
                    <a:lnTo>
                      <a:pt x="1729" y="159"/>
                    </a:lnTo>
                    <a:lnTo>
                      <a:pt x="1880" y="192"/>
                    </a:lnTo>
                    <a:lnTo>
                      <a:pt x="2032" y="224"/>
                    </a:lnTo>
                    <a:lnTo>
                      <a:pt x="2185" y="258"/>
                    </a:lnTo>
                    <a:lnTo>
                      <a:pt x="2154" y="485"/>
                    </a:lnTo>
                    <a:lnTo>
                      <a:pt x="2123" y="713"/>
                    </a:lnTo>
                    <a:lnTo>
                      <a:pt x="2092" y="939"/>
                    </a:lnTo>
                    <a:lnTo>
                      <a:pt x="2061" y="1168"/>
                    </a:lnTo>
                    <a:lnTo>
                      <a:pt x="2030" y="1396"/>
                    </a:lnTo>
                    <a:lnTo>
                      <a:pt x="1999" y="1624"/>
                    </a:lnTo>
                    <a:lnTo>
                      <a:pt x="1968" y="1852"/>
                    </a:lnTo>
                    <a:lnTo>
                      <a:pt x="1938" y="2079"/>
                    </a:lnTo>
                    <a:lnTo>
                      <a:pt x="1906" y="2308"/>
                    </a:lnTo>
                    <a:lnTo>
                      <a:pt x="1876" y="2537"/>
                    </a:lnTo>
                    <a:lnTo>
                      <a:pt x="1845" y="2766"/>
                    </a:lnTo>
                    <a:lnTo>
                      <a:pt x="1814" y="2995"/>
                    </a:lnTo>
                    <a:lnTo>
                      <a:pt x="1783" y="3225"/>
                    </a:lnTo>
                    <a:lnTo>
                      <a:pt x="1752" y="3454"/>
                    </a:lnTo>
                    <a:lnTo>
                      <a:pt x="1721" y="3684"/>
                    </a:lnTo>
                    <a:lnTo>
                      <a:pt x="1690" y="3915"/>
                    </a:lnTo>
                    <a:lnTo>
                      <a:pt x="1658" y="4144"/>
                    </a:lnTo>
                    <a:lnTo>
                      <a:pt x="1627" y="4374"/>
                    </a:lnTo>
                    <a:lnTo>
                      <a:pt x="1597" y="4604"/>
                    </a:lnTo>
                    <a:lnTo>
                      <a:pt x="1566" y="4834"/>
                    </a:lnTo>
                    <a:lnTo>
                      <a:pt x="1534" y="5064"/>
                    </a:lnTo>
                    <a:lnTo>
                      <a:pt x="1503" y="5296"/>
                    </a:lnTo>
                    <a:lnTo>
                      <a:pt x="1472" y="5526"/>
                    </a:lnTo>
                    <a:lnTo>
                      <a:pt x="1442" y="5756"/>
                    </a:lnTo>
                    <a:lnTo>
                      <a:pt x="1410" y="5988"/>
                    </a:lnTo>
                    <a:lnTo>
                      <a:pt x="1379" y="6219"/>
                    </a:lnTo>
                    <a:lnTo>
                      <a:pt x="1348" y="6450"/>
                    </a:lnTo>
                    <a:lnTo>
                      <a:pt x="1318" y="6683"/>
                    </a:lnTo>
                    <a:lnTo>
                      <a:pt x="1286" y="6914"/>
                    </a:lnTo>
                    <a:lnTo>
                      <a:pt x="1255" y="7147"/>
                    </a:lnTo>
                    <a:lnTo>
                      <a:pt x="1224" y="7379"/>
                    </a:lnTo>
                    <a:lnTo>
                      <a:pt x="1193" y="7611"/>
                    </a:lnTo>
                    <a:lnTo>
                      <a:pt x="1041" y="7557"/>
                    </a:lnTo>
                    <a:lnTo>
                      <a:pt x="890" y="7503"/>
                    </a:lnTo>
                    <a:lnTo>
                      <a:pt x="740" y="7450"/>
                    </a:lnTo>
                    <a:lnTo>
                      <a:pt x="591" y="7397"/>
                    </a:lnTo>
                    <a:lnTo>
                      <a:pt x="443" y="7345"/>
                    </a:lnTo>
                    <a:lnTo>
                      <a:pt x="295" y="7292"/>
                    </a:lnTo>
                    <a:lnTo>
                      <a:pt x="147" y="7241"/>
                    </a:lnTo>
                    <a:lnTo>
                      <a:pt x="0" y="7189"/>
                    </a:lnTo>
                    <a:lnTo>
                      <a:pt x="31" y="6962"/>
                    </a:lnTo>
                    <a:lnTo>
                      <a:pt x="63" y="6735"/>
                    </a:lnTo>
                    <a:lnTo>
                      <a:pt x="94" y="6508"/>
                    </a:lnTo>
                    <a:lnTo>
                      <a:pt x="125" y="6282"/>
                    </a:lnTo>
                    <a:lnTo>
                      <a:pt x="157" y="6055"/>
                    </a:lnTo>
                    <a:lnTo>
                      <a:pt x="188" y="5829"/>
                    </a:lnTo>
                    <a:lnTo>
                      <a:pt x="219" y="5602"/>
                    </a:lnTo>
                    <a:lnTo>
                      <a:pt x="250" y="5377"/>
                    </a:lnTo>
                    <a:lnTo>
                      <a:pt x="281" y="5152"/>
                    </a:lnTo>
                    <a:lnTo>
                      <a:pt x="312" y="4925"/>
                    </a:lnTo>
                    <a:lnTo>
                      <a:pt x="343" y="4700"/>
                    </a:lnTo>
                    <a:lnTo>
                      <a:pt x="373" y="4475"/>
                    </a:lnTo>
                    <a:lnTo>
                      <a:pt x="404" y="4249"/>
                    </a:lnTo>
                    <a:lnTo>
                      <a:pt x="436" y="4025"/>
                    </a:lnTo>
                    <a:lnTo>
                      <a:pt x="466" y="3800"/>
                    </a:lnTo>
                    <a:lnTo>
                      <a:pt x="497" y="3575"/>
                    </a:lnTo>
                    <a:lnTo>
                      <a:pt x="528" y="3351"/>
                    </a:lnTo>
                    <a:lnTo>
                      <a:pt x="559" y="3127"/>
                    </a:lnTo>
                    <a:lnTo>
                      <a:pt x="589" y="2903"/>
                    </a:lnTo>
                    <a:lnTo>
                      <a:pt x="619" y="2678"/>
                    </a:lnTo>
                    <a:lnTo>
                      <a:pt x="649" y="2454"/>
                    </a:lnTo>
                    <a:lnTo>
                      <a:pt x="681" y="2229"/>
                    </a:lnTo>
                    <a:lnTo>
                      <a:pt x="711" y="2005"/>
                    </a:lnTo>
                    <a:lnTo>
                      <a:pt x="741" y="1781"/>
                    </a:lnTo>
                    <a:lnTo>
                      <a:pt x="771" y="1560"/>
                    </a:lnTo>
                    <a:lnTo>
                      <a:pt x="802" y="1336"/>
                    </a:lnTo>
                    <a:lnTo>
                      <a:pt x="833" y="1113"/>
                    </a:lnTo>
                    <a:lnTo>
                      <a:pt x="863" y="890"/>
                    </a:lnTo>
                    <a:lnTo>
                      <a:pt x="893" y="667"/>
                    </a:lnTo>
                    <a:lnTo>
                      <a:pt x="925" y="445"/>
                    </a:lnTo>
                    <a:lnTo>
                      <a:pt x="955" y="222"/>
                    </a:lnTo>
                    <a:lnTo>
                      <a:pt x="985"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147560" y="1711080"/>
                <a:ext cx="656280" cy="1975320"/>
              </a:xfrm>
              <a:custGeom>
                <a:avLst/>
                <a:gdLst/>
                <a:ahLst/>
                <a:rect l="l" t="t" r="r" b="b"/>
                <a:pathLst>
                  <a:path w="1761" h="6919">
                    <a:moveTo>
                      <a:pt x="904" y="0"/>
                    </a:moveTo>
                    <a:lnTo>
                      <a:pt x="1010" y="23"/>
                    </a:lnTo>
                    <a:lnTo>
                      <a:pt x="1116" y="45"/>
                    </a:lnTo>
                    <a:lnTo>
                      <a:pt x="1223" y="69"/>
                    </a:lnTo>
                    <a:lnTo>
                      <a:pt x="1329" y="92"/>
                    </a:lnTo>
                    <a:lnTo>
                      <a:pt x="1436" y="115"/>
                    </a:lnTo>
                    <a:lnTo>
                      <a:pt x="1544" y="139"/>
                    </a:lnTo>
                    <a:lnTo>
                      <a:pt x="1652" y="163"/>
                    </a:lnTo>
                    <a:lnTo>
                      <a:pt x="1761" y="187"/>
                    </a:lnTo>
                    <a:lnTo>
                      <a:pt x="1733" y="395"/>
                    </a:lnTo>
                    <a:lnTo>
                      <a:pt x="1704" y="604"/>
                    </a:lnTo>
                    <a:lnTo>
                      <a:pt x="1676" y="813"/>
                    </a:lnTo>
                    <a:lnTo>
                      <a:pt x="1648" y="1021"/>
                    </a:lnTo>
                    <a:lnTo>
                      <a:pt x="1620" y="1231"/>
                    </a:lnTo>
                    <a:lnTo>
                      <a:pt x="1591" y="1439"/>
                    </a:lnTo>
                    <a:lnTo>
                      <a:pt x="1562" y="1648"/>
                    </a:lnTo>
                    <a:lnTo>
                      <a:pt x="1534" y="1857"/>
                    </a:lnTo>
                    <a:lnTo>
                      <a:pt x="1506" y="2066"/>
                    </a:lnTo>
                    <a:lnTo>
                      <a:pt x="1478" y="2277"/>
                    </a:lnTo>
                    <a:lnTo>
                      <a:pt x="1449" y="2486"/>
                    </a:lnTo>
                    <a:lnTo>
                      <a:pt x="1421" y="2697"/>
                    </a:lnTo>
                    <a:lnTo>
                      <a:pt x="1392" y="2906"/>
                    </a:lnTo>
                    <a:lnTo>
                      <a:pt x="1364" y="3116"/>
                    </a:lnTo>
                    <a:lnTo>
                      <a:pt x="1335" y="3327"/>
                    </a:lnTo>
                    <a:lnTo>
                      <a:pt x="1307" y="3536"/>
                    </a:lnTo>
                    <a:lnTo>
                      <a:pt x="1278" y="3747"/>
                    </a:lnTo>
                    <a:lnTo>
                      <a:pt x="1250" y="3958"/>
                    </a:lnTo>
                    <a:lnTo>
                      <a:pt x="1222" y="4169"/>
                    </a:lnTo>
                    <a:lnTo>
                      <a:pt x="1192" y="4379"/>
                    </a:lnTo>
                    <a:lnTo>
                      <a:pt x="1164" y="4591"/>
                    </a:lnTo>
                    <a:lnTo>
                      <a:pt x="1136" y="4802"/>
                    </a:lnTo>
                    <a:lnTo>
                      <a:pt x="1107" y="5013"/>
                    </a:lnTo>
                    <a:lnTo>
                      <a:pt x="1078" y="5224"/>
                    </a:lnTo>
                    <a:lnTo>
                      <a:pt x="1050" y="5436"/>
                    </a:lnTo>
                    <a:lnTo>
                      <a:pt x="1021" y="5647"/>
                    </a:lnTo>
                    <a:lnTo>
                      <a:pt x="993" y="5859"/>
                    </a:lnTo>
                    <a:lnTo>
                      <a:pt x="965" y="6071"/>
                    </a:lnTo>
                    <a:lnTo>
                      <a:pt x="935" y="6282"/>
                    </a:lnTo>
                    <a:lnTo>
                      <a:pt x="907" y="6494"/>
                    </a:lnTo>
                    <a:lnTo>
                      <a:pt x="878" y="6707"/>
                    </a:lnTo>
                    <a:lnTo>
                      <a:pt x="849" y="6919"/>
                    </a:lnTo>
                    <a:lnTo>
                      <a:pt x="742" y="6882"/>
                    </a:lnTo>
                    <a:lnTo>
                      <a:pt x="635" y="6844"/>
                    </a:lnTo>
                    <a:lnTo>
                      <a:pt x="528" y="6807"/>
                    </a:lnTo>
                    <a:lnTo>
                      <a:pt x="421" y="6770"/>
                    </a:lnTo>
                    <a:lnTo>
                      <a:pt x="315" y="6732"/>
                    </a:lnTo>
                    <a:lnTo>
                      <a:pt x="210" y="6696"/>
                    </a:lnTo>
                    <a:lnTo>
                      <a:pt x="105" y="6659"/>
                    </a:lnTo>
                    <a:lnTo>
                      <a:pt x="0" y="6622"/>
                    </a:lnTo>
                    <a:lnTo>
                      <a:pt x="28" y="6414"/>
                    </a:lnTo>
                    <a:lnTo>
                      <a:pt x="56" y="6205"/>
                    </a:lnTo>
                    <a:lnTo>
                      <a:pt x="85" y="5996"/>
                    </a:lnTo>
                    <a:lnTo>
                      <a:pt x="113" y="5788"/>
                    </a:lnTo>
                    <a:lnTo>
                      <a:pt x="141" y="5580"/>
                    </a:lnTo>
                    <a:lnTo>
                      <a:pt x="169" y="5372"/>
                    </a:lnTo>
                    <a:lnTo>
                      <a:pt x="197" y="5162"/>
                    </a:lnTo>
                    <a:lnTo>
                      <a:pt x="227" y="4954"/>
                    </a:lnTo>
                    <a:lnTo>
                      <a:pt x="255" y="4747"/>
                    </a:lnTo>
                    <a:lnTo>
                      <a:pt x="283" y="4539"/>
                    </a:lnTo>
                    <a:lnTo>
                      <a:pt x="311" y="4331"/>
                    </a:lnTo>
                    <a:lnTo>
                      <a:pt x="340" y="4125"/>
                    </a:lnTo>
                    <a:lnTo>
                      <a:pt x="368" y="3917"/>
                    </a:lnTo>
                    <a:lnTo>
                      <a:pt x="396" y="3710"/>
                    </a:lnTo>
                    <a:lnTo>
                      <a:pt x="425" y="3502"/>
                    </a:lnTo>
                    <a:lnTo>
                      <a:pt x="453" y="3295"/>
                    </a:lnTo>
                    <a:lnTo>
                      <a:pt x="482" y="3088"/>
                    </a:lnTo>
                    <a:lnTo>
                      <a:pt x="510" y="2881"/>
                    </a:lnTo>
                    <a:lnTo>
                      <a:pt x="538" y="2675"/>
                    </a:lnTo>
                    <a:lnTo>
                      <a:pt x="566" y="2468"/>
                    </a:lnTo>
                    <a:lnTo>
                      <a:pt x="595" y="2261"/>
                    </a:lnTo>
                    <a:lnTo>
                      <a:pt x="623" y="2054"/>
                    </a:lnTo>
                    <a:lnTo>
                      <a:pt x="651" y="1849"/>
                    </a:lnTo>
                    <a:lnTo>
                      <a:pt x="679" y="1642"/>
                    </a:lnTo>
                    <a:lnTo>
                      <a:pt x="708" y="1436"/>
                    </a:lnTo>
                    <a:lnTo>
                      <a:pt x="736" y="1231"/>
                    </a:lnTo>
                    <a:lnTo>
                      <a:pt x="764" y="1025"/>
                    </a:lnTo>
                    <a:lnTo>
                      <a:pt x="792" y="819"/>
                    </a:lnTo>
                    <a:lnTo>
                      <a:pt x="820" y="615"/>
                    </a:lnTo>
                    <a:lnTo>
                      <a:pt x="848" y="410"/>
                    </a:lnTo>
                    <a:lnTo>
                      <a:pt x="876" y="204"/>
                    </a:lnTo>
                    <a:lnTo>
                      <a:pt x="904"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790880" y="1886760"/>
                <a:ext cx="683280" cy="2048040"/>
              </a:xfrm>
              <a:custGeom>
                <a:avLst/>
                <a:gdLst/>
                <a:ahLst/>
                <a:rect l="l" t="t" r="r" b="b"/>
                <a:pathLst>
                  <a:path w="1833" h="7173">
                    <a:moveTo>
                      <a:pt x="916" y="0"/>
                    </a:moveTo>
                    <a:lnTo>
                      <a:pt x="1029" y="26"/>
                    </a:lnTo>
                    <a:lnTo>
                      <a:pt x="1142" y="51"/>
                    </a:lnTo>
                    <a:lnTo>
                      <a:pt x="1257" y="77"/>
                    </a:lnTo>
                    <a:lnTo>
                      <a:pt x="1370" y="103"/>
                    </a:lnTo>
                    <a:lnTo>
                      <a:pt x="1486" y="128"/>
                    </a:lnTo>
                    <a:lnTo>
                      <a:pt x="1601" y="154"/>
                    </a:lnTo>
                    <a:lnTo>
                      <a:pt x="1717" y="180"/>
                    </a:lnTo>
                    <a:lnTo>
                      <a:pt x="1833" y="206"/>
                    </a:lnTo>
                    <a:lnTo>
                      <a:pt x="1805" y="421"/>
                    </a:lnTo>
                    <a:lnTo>
                      <a:pt x="1776" y="638"/>
                    </a:lnTo>
                    <a:lnTo>
                      <a:pt x="1747" y="853"/>
                    </a:lnTo>
                    <a:lnTo>
                      <a:pt x="1718" y="1070"/>
                    </a:lnTo>
                    <a:lnTo>
                      <a:pt x="1690" y="1287"/>
                    </a:lnTo>
                    <a:lnTo>
                      <a:pt x="1662" y="1503"/>
                    </a:lnTo>
                    <a:lnTo>
                      <a:pt x="1633" y="1719"/>
                    </a:lnTo>
                    <a:lnTo>
                      <a:pt x="1604" y="1935"/>
                    </a:lnTo>
                    <a:lnTo>
                      <a:pt x="1575" y="2152"/>
                    </a:lnTo>
                    <a:lnTo>
                      <a:pt x="1547" y="2370"/>
                    </a:lnTo>
                    <a:lnTo>
                      <a:pt x="1518" y="2587"/>
                    </a:lnTo>
                    <a:lnTo>
                      <a:pt x="1489" y="2804"/>
                    </a:lnTo>
                    <a:lnTo>
                      <a:pt x="1460" y="3021"/>
                    </a:lnTo>
                    <a:lnTo>
                      <a:pt x="1432" y="3239"/>
                    </a:lnTo>
                    <a:lnTo>
                      <a:pt x="1403" y="3456"/>
                    </a:lnTo>
                    <a:lnTo>
                      <a:pt x="1374" y="3674"/>
                    </a:lnTo>
                    <a:lnTo>
                      <a:pt x="1345" y="3891"/>
                    </a:lnTo>
                    <a:lnTo>
                      <a:pt x="1317" y="4109"/>
                    </a:lnTo>
                    <a:lnTo>
                      <a:pt x="1288" y="4327"/>
                    </a:lnTo>
                    <a:lnTo>
                      <a:pt x="1260" y="4545"/>
                    </a:lnTo>
                    <a:lnTo>
                      <a:pt x="1230" y="4764"/>
                    </a:lnTo>
                    <a:lnTo>
                      <a:pt x="1202" y="4982"/>
                    </a:lnTo>
                    <a:lnTo>
                      <a:pt x="1173" y="5201"/>
                    </a:lnTo>
                    <a:lnTo>
                      <a:pt x="1145" y="5419"/>
                    </a:lnTo>
                    <a:lnTo>
                      <a:pt x="1115" y="5638"/>
                    </a:lnTo>
                    <a:lnTo>
                      <a:pt x="1086" y="5857"/>
                    </a:lnTo>
                    <a:lnTo>
                      <a:pt x="1057" y="6078"/>
                    </a:lnTo>
                    <a:lnTo>
                      <a:pt x="1029" y="6297"/>
                    </a:lnTo>
                    <a:lnTo>
                      <a:pt x="999" y="6516"/>
                    </a:lnTo>
                    <a:lnTo>
                      <a:pt x="970" y="6735"/>
                    </a:lnTo>
                    <a:lnTo>
                      <a:pt x="941" y="6954"/>
                    </a:lnTo>
                    <a:lnTo>
                      <a:pt x="913" y="7173"/>
                    </a:lnTo>
                    <a:lnTo>
                      <a:pt x="797" y="7132"/>
                    </a:lnTo>
                    <a:lnTo>
                      <a:pt x="681" y="7093"/>
                    </a:lnTo>
                    <a:lnTo>
                      <a:pt x="566" y="7052"/>
                    </a:lnTo>
                    <a:lnTo>
                      <a:pt x="452" y="7012"/>
                    </a:lnTo>
                    <a:lnTo>
                      <a:pt x="338" y="6971"/>
                    </a:lnTo>
                    <a:lnTo>
                      <a:pt x="225" y="6932"/>
                    </a:lnTo>
                    <a:lnTo>
                      <a:pt x="112" y="6891"/>
                    </a:lnTo>
                    <a:lnTo>
                      <a:pt x="0" y="6852"/>
                    </a:lnTo>
                    <a:lnTo>
                      <a:pt x="29" y="6635"/>
                    </a:lnTo>
                    <a:lnTo>
                      <a:pt x="58" y="6420"/>
                    </a:lnTo>
                    <a:lnTo>
                      <a:pt x="87" y="6204"/>
                    </a:lnTo>
                    <a:lnTo>
                      <a:pt x="115" y="5989"/>
                    </a:lnTo>
                    <a:lnTo>
                      <a:pt x="145" y="5774"/>
                    </a:lnTo>
                    <a:lnTo>
                      <a:pt x="173" y="5558"/>
                    </a:lnTo>
                    <a:lnTo>
                      <a:pt x="202" y="5343"/>
                    </a:lnTo>
                    <a:lnTo>
                      <a:pt x="230" y="5127"/>
                    </a:lnTo>
                    <a:lnTo>
                      <a:pt x="260" y="4912"/>
                    </a:lnTo>
                    <a:lnTo>
                      <a:pt x="288" y="4698"/>
                    </a:lnTo>
                    <a:lnTo>
                      <a:pt x="316" y="4482"/>
                    </a:lnTo>
                    <a:lnTo>
                      <a:pt x="345" y="4268"/>
                    </a:lnTo>
                    <a:lnTo>
                      <a:pt x="374" y="4053"/>
                    </a:lnTo>
                    <a:lnTo>
                      <a:pt x="402" y="3838"/>
                    </a:lnTo>
                    <a:lnTo>
                      <a:pt x="430" y="3624"/>
                    </a:lnTo>
                    <a:lnTo>
                      <a:pt x="459" y="3410"/>
                    </a:lnTo>
                    <a:lnTo>
                      <a:pt x="487" y="3196"/>
                    </a:lnTo>
                    <a:lnTo>
                      <a:pt x="516" y="2982"/>
                    </a:lnTo>
                    <a:lnTo>
                      <a:pt x="545" y="2769"/>
                    </a:lnTo>
                    <a:lnTo>
                      <a:pt x="573" y="2555"/>
                    </a:lnTo>
                    <a:lnTo>
                      <a:pt x="602" y="2342"/>
                    </a:lnTo>
                    <a:lnTo>
                      <a:pt x="631" y="2127"/>
                    </a:lnTo>
                    <a:lnTo>
                      <a:pt x="659" y="1914"/>
                    </a:lnTo>
                    <a:lnTo>
                      <a:pt x="688" y="1700"/>
                    </a:lnTo>
                    <a:lnTo>
                      <a:pt x="716" y="1489"/>
                    </a:lnTo>
                    <a:lnTo>
                      <a:pt x="744" y="1276"/>
                    </a:lnTo>
                    <a:lnTo>
                      <a:pt x="773" y="1063"/>
                    </a:lnTo>
                    <a:lnTo>
                      <a:pt x="801" y="850"/>
                    </a:lnTo>
                    <a:lnTo>
                      <a:pt x="830" y="637"/>
                    </a:lnTo>
                    <a:lnTo>
                      <a:pt x="858" y="425"/>
                    </a:lnTo>
                    <a:lnTo>
                      <a:pt x="887" y="212"/>
                    </a:lnTo>
                    <a:lnTo>
                      <a:pt x="916"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129640" y="1875240"/>
                <a:ext cx="359640" cy="82800"/>
              </a:xfrm>
              <a:custGeom>
                <a:avLst/>
                <a:gdLst/>
                <a:ahLst/>
                <a:rect l="l" t="t" r="r" b="b"/>
                <a:pathLst>
                  <a:path w="964" h="289">
                    <a:moveTo>
                      <a:pt x="959" y="253"/>
                    </a:moveTo>
                    <a:lnTo>
                      <a:pt x="930" y="204"/>
                    </a:lnTo>
                    <a:lnTo>
                      <a:pt x="814" y="178"/>
                    </a:lnTo>
                    <a:lnTo>
                      <a:pt x="698" y="152"/>
                    </a:lnTo>
                    <a:lnTo>
                      <a:pt x="583" y="126"/>
                    </a:lnTo>
                    <a:lnTo>
                      <a:pt x="468" y="100"/>
                    </a:lnTo>
                    <a:lnTo>
                      <a:pt x="354" y="75"/>
                    </a:lnTo>
                    <a:lnTo>
                      <a:pt x="240" y="50"/>
                    </a:lnTo>
                    <a:lnTo>
                      <a:pt x="126" y="24"/>
                    </a:lnTo>
                    <a:lnTo>
                      <a:pt x="13" y="0"/>
                    </a:lnTo>
                    <a:lnTo>
                      <a:pt x="0" y="84"/>
                    </a:lnTo>
                    <a:lnTo>
                      <a:pt x="113" y="109"/>
                    </a:lnTo>
                    <a:lnTo>
                      <a:pt x="227" y="135"/>
                    </a:lnTo>
                    <a:lnTo>
                      <a:pt x="340" y="160"/>
                    </a:lnTo>
                    <a:lnTo>
                      <a:pt x="455" y="185"/>
                    </a:lnTo>
                    <a:lnTo>
                      <a:pt x="570" y="211"/>
                    </a:lnTo>
                    <a:lnTo>
                      <a:pt x="686" y="237"/>
                    </a:lnTo>
                    <a:lnTo>
                      <a:pt x="802" y="263"/>
                    </a:lnTo>
                    <a:lnTo>
                      <a:pt x="918" y="289"/>
                    </a:lnTo>
                    <a:lnTo>
                      <a:pt x="889" y="240"/>
                    </a:lnTo>
                    <a:lnTo>
                      <a:pt x="959" y="253"/>
                    </a:lnTo>
                    <a:lnTo>
                      <a:pt x="964" y="211"/>
                    </a:lnTo>
                    <a:lnTo>
                      <a:pt x="930" y="204"/>
                    </a:lnTo>
                    <a:lnTo>
                      <a:pt x="959" y="253"/>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601" name=""/>
            <p:cNvGrpSpPr/>
            <p:nvPr/>
          </p:nvGrpSpPr>
          <p:grpSpPr>
            <a:xfrm>
              <a:off x="2860920" y="1371600"/>
              <a:ext cx="5644440" cy="3585960"/>
              <a:chOff x="2860920" y="1371600"/>
              <a:chExt cx="5644440" cy="3585960"/>
            </a:xfrm>
          </p:grpSpPr>
          <p:sp>
            <p:nvSpPr>
              <p:cNvPr id="602" name=""/>
              <p:cNvSpPr/>
              <p:nvPr/>
            </p:nvSpPr>
            <p:spPr>
              <a:xfrm>
                <a:off x="5365080" y="2087280"/>
                <a:ext cx="111960" cy="478440"/>
              </a:xfrm>
              <a:custGeom>
                <a:avLst/>
                <a:gdLst/>
                <a:ahLst/>
                <a:rect l="l" t="t" r="r" b="b"/>
                <a:pathLst>
                  <a:path w="299" h="1744">
                    <a:moveTo>
                      <a:pt x="71" y="1744"/>
                    </a:moveTo>
                    <a:lnTo>
                      <a:pt x="71" y="1744"/>
                    </a:lnTo>
                    <a:lnTo>
                      <a:pt x="99" y="1527"/>
                    </a:lnTo>
                    <a:lnTo>
                      <a:pt x="127" y="1311"/>
                    </a:lnTo>
                    <a:lnTo>
                      <a:pt x="156" y="1094"/>
                    </a:lnTo>
                    <a:lnTo>
                      <a:pt x="184" y="878"/>
                    </a:lnTo>
                    <a:lnTo>
                      <a:pt x="213" y="662"/>
                    </a:lnTo>
                    <a:lnTo>
                      <a:pt x="242" y="445"/>
                    </a:lnTo>
                    <a:lnTo>
                      <a:pt x="270" y="230"/>
                    </a:lnTo>
                    <a:lnTo>
                      <a:pt x="299" y="13"/>
                    </a:lnTo>
                    <a:lnTo>
                      <a:pt x="229" y="0"/>
                    </a:lnTo>
                    <a:lnTo>
                      <a:pt x="201" y="216"/>
                    </a:lnTo>
                    <a:lnTo>
                      <a:pt x="171" y="432"/>
                    </a:lnTo>
                    <a:lnTo>
                      <a:pt x="143" y="648"/>
                    </a:lnTo>
                    <a:lnTo>
                      <a:pt x="115" y="865"/>
                    </a:lnTo>
                    <a:lnTo>
                      <a:pt x="86" y="1080"/>
                    </a:lnTo>
                    <a:lnTo>
                      <a:pt x="57" y="1297"/>
                    </a:lnTo>
                    <a:lnTo>
                      <a:pt x="29" y="1514"/>
                    </a:lnTo>
                    <a:lnTo>
                      <a:pt x="0" y="1729"/>
                    </a:lnTo>
                    <a:lnTo>
                      <a:pt x="0" y="1729"/>
                    </a:lnTo>
                    <a:lnTo>
                      <a:pt x="71" y="17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280120" y="2561760"/>
                <a:ext cx="111960" cy="479520"/>
              </a:xfrm>
              <a:custGeom>
                <a:avLst/>
                <a:gdLst/>
                <a:ahLst/>
                <a:rect l="l" t="t" r="r" b="b"/>
                <a:pathLst>
                  <a:path w="301" h="1752">
                    <a:moveTo>
                      <a:pt x="70" y="1752"/>
                    </a:moveTo>
                    <a:lnTo>
                      <a:pt x="70" y="1752"/>
                    </a:lnTo>
                    <a:lnTo>
                      <a:pt x="99" y="1535"/>
                    </a:lnTo>
                    <a:lnTo>
                      <a:pt x="127" y="1317"/>
                    </a:lnTo>
                    <a:lnTo>
                      <a:pt x="156" y="1100"/>
                    </a:lnTo>
                    <a:lnTo>
                      <a:pt x="185" y="883"/>
                    </a:lnTo>
                    <a:lnTo>
                      <a:pt x="214" y="666"/>
                    </a:lnTo>
                    <a:lnTo>
                      <a:pt x="242" y="448"/>
                    </a:lnTo>
                    <a:lnTo>
                      <a:pt x="271" y="231"/>
                    </a:lnTo>
                    <a:lnTo>
                      <a:pt x="301" y="15"/>
                    </a:lnTo>
                    <a:lnTo>
                      <a:pt x="230" y="0"/>
                    </a:lnTo>
                    <a:lnTo>
                      <a:pt x="201" y="218"/>
                    </a:lnTo>
                    <a:lnTo>
                      <a:pt x="173" y="435"/>
                    </a:lnTo>
                    <a:lnTo>
                      <a:pt x="143" y="652"/>
                    </a:lnTo>
                    <a:lnTo>
                      <a:pt x="115" y="869"/>
                    </a:lnTo>
                    <a:lnTo>
                      <a:pt x="86" y="1087"/>
                    </a:lnTo>
                    <a:lnTo>
                      <a:pt x="58" y="1304"/>
                    </a:lnTo>
                    <a:lnTo>
                      <a:pt x="28" y="1521"/>
                    </a:lnTo>
                    <a:lnTo>
                      <a:pt x="0" y="1738"/>
                    </a:lnTo>
                    <a:lnTo>
                      <a:pt x="0" y="1738"/>
                    </a:lnTo>
                    <a:lnTo>
                      <a:pt x="70" y="17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193720" y="3037680"/>
                <a:ext cx="111960" cy="482400"/>
              </a:xfrm>
              <a:custGeom>
                <a:avLst/>
                <a:gdLst/>
                <a:ahLst/>
                <a:rect l="l" t="t" r="r" b="b"/>
                <a:pathLst>
                  <a:path w="300" h="1760">
                    <a:moveTo>
                      <a:pt x="71" y="1760"/>
                    </a:moveTo>
                    <a:lnTo>
                      <a:pt x="71" y="1760"/>
                    </a:lnTo>
                    <a:lnTo>
                      <a:pt x="99" y="1543"/>
                    </a:lnTo>
                    <a:lnTo>
                      <a:pt x="128" y="1323"/>
                    </a:lnTo>
                    <a:lnTo>
                      <a:pt x="157" y="1104"/>
                    </a:lnTo>
                    <a:lnTo>
                      <a:pt x="186" y="886"/>
                    </a:lnTo>
                    <a:lnTo>
                      <a:pt x="214" y="669"/>
                    </a:lnTo>
                    <a:lnTo>
                      <a:pt x="242" y="449"/>
                    </a:lnTo>
                    <a:lnTo>
                      <a:pt x="272" y="232"/>
                    </a:lnTo>
                    <a:lnTo>
                      <a:pt x="300" y="14"/>
                    </a:lnTo>
                    <a:lnTo>
                      <a:pt x="230" y="0"/>
                    </a:lnTo>
                    <a:lnTo>
                      <a:pt x="201" y="218"/>
                    </a:lnTo>
                    <a:lnTo>
                      <a:pt x="173" y="436"/>
                    </a:lnTo>
                    <a:lnTo>
                      <a:pt x="145" y="654"/>
                    </a:lnTo>
                    <a:lnTo>
                      <a:pt x="115" y="873"/>
                    </a:lnTo>
                    <a:lnTo>
                      <a:pt x="87" y="1091"/>
                    </a:lnTo>
                    <a:lnTo>
                      <a:pt x="58" y="1310"/>
                    </a:lnTo>
                    <a:lnTo>
                      <a:pt x="30" y="1529"/>
                    </a:lnTo>
                    <a:lnTo>
                      <a:pt x="0" y="1747"/>
                    </a:lnTo>
                    <a:lnTo>
                      <a:pt x="0" y="1747"/>
                    </a:lnTo>
                    <a:lnTo>
                      <a:pt x="71" y="17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107320" y="3517200"/>
                <a:ext cx="113040" cy="497520"/>
              </a:xfrm>
              <a:custGeom>
                <a:avLst/>
                <a:gdLst/>
                <a:ahLst/>
                <a:rect l="l" t="t" r="r" b="b"/>
                <a:pathLst>
                  <a:path w="302" h="1815">
                    <a:moveTo>
                      <a:pt x="25" y="1802"/>
                    </a:moveTo>
                    <a:lnTo>
                      <a:pt x="69" y="1767"/>
                    </a:lnTo>
                    <a:lnTo>
                      <a:pt x="98" y="1548"/>
                    </a:lnTo>
                    <a:lnTo>
                      <a:pt x="128" y="1329"/>
                    </a:lnTo>
                    <a:lnTo>
                      <a:pt x="156" y="1109"/>
                    </a:lnTo>
                    <a:lnTo>
                      <a:pt x="185" y="890"/>
                    </a:lnTo>
                    <a:lnTo>
                      <a:pt x="214" y="671"/>
                    </a:lnTo>
                    <a:lnTo>
                      <a:pt x="243" y="452"/>
                    </a:lnTo>
                    <a:lnTo>
                      <a:pt x="273" y="232"/>
                    </a:lnTo>
                    <a:lnTo>
                      <a:pt x="302" y="13"/>
                    </a:lnTo>
                    <a:lnTo>
                      <a:pt x="231" y="0"/>
                    </a:lnTo>
                    <a:lnTo>
                      <a:pt x="202" y="219"/>
                    </a:lnTo>
                    <a:lnTo>
                      <a:pt x="174" y="438"/>
                    </a:lnTo>
                    <a:lnTo>
                      <a:pt x="145" y="657"/>
                    </a:lnTo>
                    <a:lnTo>
                      <a:pt x="115" y="876"/>
                    </a:lnTo>
                    <a:lnTo>
                      <a:pt x="86" y="1095"/>
                    </a:lnTo>
                    <a:lnTo>
                      <a:pt x="57" y="1316"/>
                    </a:lnTo>
                    <a:lnTo>
                      <a:pt x="29" y="1535"/>
                    </a:lnTo>
                    <a:lnTo>
                      <a:pt x="0" y="1754"/>
                    </a:lnTo>
                    <a:lnTo>
                      <a:pt x="44" y="1719"/>
                    </a:lnTo>
                    <a:lnTo>
                      <a:pt x="25" y="1802"/>
                    </a:lnTo>
                    <a:lnTo>
                      <a:pt x="63" y="1815"/>
                    </a:lnTo>
                    <a:lnTo>
                      <a:pt x="69" y="1767"/>
                    </a:lnTo>
                    <a:lnTo>
                      <a:pt x="25" y="18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5320" y="3900240"/>
                <a:ext cx="357840" cy="110880"/>
              </a:xfrm>
              <a:custGeom>
                <a:avLst/>
                <a:gdLst/>
                <a:ahLst/>
                <a:rect l="l" t="t" r="r" b="b"/>
                <a:pathLst>
                  <a:path w="962" h="405">
                    <a:moveTo>
                      <a:pt x="5" y="34"/>
                    </a:moveTo>
                    <a:lnTo>
                      <a:pt x="30" y="84"/>
                    </a:lnTo>
                    <a:lnTo>
                      <a:pt x="142" y="123"/>
                    </a:lnTo>
                    <a:lnTo>
                      <a:pt x="255" y="162"/>
                    </a:lnTo>
                    <a:lnTo>
                      <a:pt x="368" y="203"/>
                    </a:lnTo>
                    <a:lnTo>
                      <a:pt x="482" y="244"/>
                    </a:lnTo>
                    <a:lnTo>
                      <a:pt x="597" y="283"/>
                    </a:lnTo>
                    <a:lnTo>
                      <a:pt x="712" y="324"/>
                    </a:lnTo>
                    <a:lnTo>
                      <a:pt x="827" y="364"/>
                    </a:lnTo>
                    <a:lnTo>
                      <a:pt x="943" y="405"/>
                    </a:lnTo>
                    <a:lnTo>
                      <a:pt x="962" y="322"/>
                    </a:lnTo>
                    <a:lnTo>
                      <a:pt x="846" y="282"/>
                    </a:lnTo>
                    <a:lnTo>
                      <a:pt x="731" y="241"/>
                    </a:lnTo>
                    <a:lnTo>
                      <a:pt x="616" y="201"/>
                    </a:lnTo>
                    <a:lnTo>
                      <a:pt x="502" y="160"/>
                    </a:lnTo>
                    <a:lnTo>
                      <a:pt x="388" y="121"/>
                    </a:lnTo>
                    <a:lnTo>
                      <a:pt x="275" y="80"/>
                    </a:lnTo>
                    <a:lnTo>
                      <a:pt x="163" y="39"/>
                    </a:lnTo>
                    <a:lnTo>
                      <a:pt x="50" y="0"/>
                    </a:lnTo>
                    <a:lnTo>
                      <a:pt x="75" y="49"/>
                    </a:lnTo>
                    <a:lnTo>
                      <a:pt x="5" y="34"/>
                    </a:lnTo>
                    <a:lnTo>
                      <a:pt x="0" y="73"/>
                    </a:lnTo>
                    <a:lnTo>
                      <a:pt x="30" y="84"/>
                    </a:lnTo>
                    <a:lnTo>
                      <a:pt x="5" y="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766760" y="3436560"/>
                <a:ext cx="111960" cy="477000"/>
              </a:xfrm>
              <a:custGeom>
                <a:avLst/>
                <a:gdLst/>
                <a:ahLst/>
                <a:rect l="l" t="t" r="r" b="b"/>
                <a:pathLst>
                  <a:path w="301" h="1739">
                    <a:moveTo>
                      <a:pt x="231" y="0"/>
                    </a:moveTo>
                    <a:lnTo>
                      <a:pt x="231" y="0"/>
                    </a:lnTo>
                    <a:lnTo>
                      <a:pt x="202" y="215"/>
                    </a:lnTo>
                    <a:lnTo>
                      <a:pt x="174" y="431"/>
                    </a:lnTo>
                    <a:lnTo>
                      <a:pt x="144" y="646"/>
                    </a:lnTo>
                    <a:lnTo>
                      <a:pt x="115" y="862"/>
                    </a:lnTo>
                    <a:lnTo>
                      <a:pt x="87" y="1077"/>
                    </a:lnTo>
                    <a:lnTo>
                      <a:pt x="58" y="1294"/>
                    </a:lnTo>
                    <a:lnTo>
                      <a:pt x="29" y="1509"/>
                    </a:lnTo>
                    <a:lnTo>
                      <a:pt x="0" y="1724"/>
                    </a:lnTo>
                    <a:lnTo>
                      <a:pt x="70" y="1739"/>
                    </a:lnTo>
                    <a:lnTo>
                      <a:pt x="99" y="1523"/>
                    </a:lnTo>
                    <a:lnTo>
                      <a:pt x="128" y="1307"/>
                    </a:lnTo>
                    <a:lnTo>
                      <a:pt x="157" y="1092"/>
                    </a:lnTo>
                    <a:lnTo>
                      <a:pt x="186" y="875"/>
                    </a:lnTo>
                    <a:lnTo>
                      <a:pt x="214" y="660"/>
                    </a:lnTo>
                    <a:lnTo>
                      <a:pt x="243" y="444"/>
                    </a:lnTo>
                    <a:lnTo>
                      <a:pt x="271" y="229"/>
                    </a:lnTo>
                    <a:lnTo>
                      <a:pt x="301" y="15"/>
                    </a:lnTo>
                    <a:lnTo>
                      <a:pt x="301" y="15"/>
                    </a:lnTo>
                    <a:lnTo>
                      <a:pt x="2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853520" y="2966400"/>
                <a:ext cx="110160" cy="474480"/>
              </a:xfrm>
              <a:custGeom>
                <a:avLst/>
                <a:gdLst/>
                <a:ahLst/>
                <a:rect l="l" t="t" r="r" b="b"/>
                <a:pathLst>
                  <a:path w="297" h="1732">
                    <a:moveTo>
                      <a:pt x="228" y="0"/>
                    </a:moveTo>
                    <a:lnTo>
                      <a:pt x="228" y="0"/>
                    </a:lnTo>
                    <a:lnTo>
                      <a:pt x="200" y="214"/>
                    </a:lnTo>
                    <a:lnTo>
                      <a:pt x="170" y="428"/>
                    </a:lnTo>
                    <a:lnTo>
                      <a:pt x="142" y="643"/>
                    </a:lnTo>
                    <a:lnTo>
                      <a:pt x="114" y="858"/>
                    </a:lnTo>
                    <a:lnTo>
                      <a:pt x="86" y="1073"/>
                    </a:lnTo>
                    <a:lnTo>
                      <a:pt x="57" y="1287"/>
                    </a:lnTo>
                    <a:lnTo>
                      <a:pt x="28" y="1503"/>
                    </a:lnTo>
                    <a:lnTo>
                      <a:pt x="0" y="1717"/>
                    </a:lnTo>
                    <a:lnTo>
                      <a:pt x="70" y="1732"/>
                    </a:lnTo>
                    <a:lnTo>
                      <a:pt x="98" y="1516"/>
                    </a:lnTo>
                    <a:lnTo>
                      <a:pt x="127" y="1302"/>
                    </a:lnTo>
                    <a:lnTo>
                      <a:pt x="155" y="1087"/>
                    </a:lnTo>
                    <a:lnTo>
                      <a:pt x="184" y="871"/>
                    </a:lnTo>
                    <a:lnTo>
                      <a:pt x="213" y="657"/>
                    </a:lnTo>
                    <a:lnTo>
                      <a:pt x="241" y="443"/>
                    </a:lnTo>
                    <a:lnTo>
                      <a:pt x="269" y="229"/>
                    </a:lnTo>
                    <a:lnTo>
                      <a:pt x="297" y="14"/>
                    </a:lnTo>
                    <a:lnTo>
                      <a:pt x="297" y="14"/>
                    </a:lnTo>
                    <a:lnTo>
                      <a:pt x="22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938480" y="2497320"/>
                <a:ext cx="110520" cy="472680"/>
              </a:xfrm>
              <a:custGeom>
                <a:avLst/>
                <a:gdLst/>
                <a:ahLst/>
                <a:rect l="l" t="t" r="r" b="b"/>
                <a:pathLst>
                  <a:path w="298" h="1723">
                    <a:moveTo>
                      <a:pt x="229" y="0"/>
                    </a:moveTo>
                    <a:lnTo>
                      <a:pt x="229" y="0"/>
                    </a:lnTo>
                    <a:lnTo>
                      <a:pt x="201" y="213"/>
                    </a:lnTo>
                    <a:lnTo>
                      <a:pt x="171" y="426"/>
                    </a:lnTo>
                    <a:lnTo>
                      <a:pt x="143" y="640"/>
                    </a:lnTo>
                    <a:lnTo>
                      <a:pt x="115" y="853"/>
                    </a:lnTo>
                    <a:lnTo>
                      <a:pt x="86" y="1067"/>
                    </a:lnTo>
                    <a:lnTo>
                      <a:pt x="57" y="1282"/>
                    </a:lnTo>
                    <a:lnTo>
                      <a:pt x="28" y="1496"/>
                    </a:lnTo>
                    <a:lnTo>
                      <a:pt x="0" y="1709"/>
                    </a:lnTo>
                    <a:lnTo>
                      <a:pt x="69" y="1723"/>
                    </a:lnTo>
                    <a:lnTo>
                      <a:pt x="99" y="1509"/>
                    </a:lnTo>
                    <a:lnTo>
                      <a:pt x="127" y="1295"/>
                    </a:lnTo>
                    <a:lnTo>
                      <a:pt x="156" y="1081"/>
                    </a:lnTo>
                    <a:lnTo>
                      <a:pt x="184" y="868"/>
                    </a:lnTo>
                    <a:lnTo>
                      <a:pt x="213" y="654"/>
                    </a:lnTo>
                    <a:lnTo>
                      <a:pt x="242" y="441"/>
                    </a:lnTo>
                    <a:lnTo>
                      <a:pt x="270" y="227"/>
                    </a:lnTo>
                    <a:lnTo>
                      <a:pt x="298" y="14"/>
                    </a:lnTo>
                    <a:lnTo>
                      <a:pt x="298" y="14"/>
                    </a:lnTo>
                    <a:lnTo>
                      <a:pt x="22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023800" y="2018880"/>
                <a:ext cx="110160" cy="482400"/>
              </a:xfrm>
              <a:custGeom>
                <a:avLst/>
                <a:gdLst/>
                <a:ahLst/>
                <a:rect l="l" t="t" r="r" b="b"/>
                <a:pathLst>
                  <a:path w="297" h="1758">
                    <a:moveTo>
                      <a:pt x="269" y="9"/>
                    </a:moveTo>
                    <a:lnTo>
                      <a:pt x="228" y="43"/>
                    </a:lnTo>
                    <a:lnTo>
                      <a:pt x="198" y="256"/>
                    </a:lnTo>
                    <a:lnTo>
                      <a:pt x="170" y="468"/>
                    </a:lnTo>
                    <a:lnTo>
                      <a:pt x="142" y="681"/>
                    </a:lnTo>
                    <a:lnTo>
                      <a:pt x="114" y="892"/>
                    </a:lnTo>
                    <a:lnTo>
                      <a:pt x="84" y="1105"/>
                    </a:lnTo>
                    <a:lnTo>
                      <a:pt x="56" y="1318"/>
                    </a:lnTo>
                    <a:lnTo>
                      <a:pt x="28" y="1531"/>
                    </a:lnTo>
                    <a:lnTo>
                      <a:pt x="0" y="1744"/>
                    </a:lnTo>
                    <a:lnTo>
                      <a:pt x="69" y="1758"/>
                    </a:lnTo>
                    <a:lnTo>
                      <a:pt x="99" y="1545"/>
                    </a:lnTo>
                    <a:lnTo>
                      <a:pt x="127" y="1332"/>
                    </a:lnTo>
                    <a:lnTo>
                      <a:pt x="155" y="1120"/>
                    </a:lnTo>
                    <a:lnTo>
                      <a:pt x="183" y="907"/>
                    </a:lnTo>
                    <a:lnTo>
                      <a:pt x="211" y="694"/>
                    </a:lnTo>
                    <a:lnTo>
                      <a:pt x="241" y="481"/>
                    </a:lnTo>
                    <a:lnTo>
                      <a:pt x="269" y="269"/>
                    </a:lnTo>
                    <a:lnTo>
                      <a:pt x="297" y="58"/>
                    </a:lnTo>
                    <a:lnTo>
                      <a:pt x="256" y="93"/>
                    </a:lnTo>
                    <a:lnTo>
                      <a:pt x="269" y="9"/>
                    </a:lnTo>
                    <a:lnTo>
                      <a:pt x="234" y="0"/>
                    </a:lnTo>
                    <a:lnTo>
                      <a:pt x="228" y="43"/>
                    </a:lnTo>
                    <a:lnTo>
                      <a:pt x="269"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068440" y="1959840"/>
                <a:ext cx="422280" cy="197280"/>
              </a:xfrm>
              <a:custGeom>
                <a:avLst/>
                <a:gdLst/>
                <a:ahLst/>
                <a:rect l="l" t="t" r="r" b="b"/>
                <a:pathLst>
                  <a:path w="1130" h="722">
                    <a:moveTo>
                      <a:pt x="0" y="0"/>
                    </a:moveTo>
                    <a:lnTo>
                      <a:pt x="26" y="64"/>
                    </a:lnTo>
                    <a:lnTo>
                      <a:pt x="52" y="128"/>
                    </a:lnTo>
                    <a:lnTo>
                      <a:pt x="78" y="191"/>
                    </a:lnTo>
                    <a:lnTo>
                      <a:pt x="104" y="255"/>
                    </a:lnTo>
                    <a:lnTo>
                      <a:pt x="130" y="319"/>
                    </a:lnTo>
                    <a:lnTo>
                      <a:pt x="157" y="383"/>
                    </a:lnTo>
                    <a:lnTo>
                      <a:pt x="183" y="447"/>
                    </a:lnTo>
                    <a:lnTo>
                      <a:pt x="209" y="512"/>
                    </a:lnTo>
                    <a:lnTo>
                      <a:pt x="323" y="537"/>
                    </a:lnTo>
                    <a:lnTo>
                      <a:pt x="437" y="563"/>
                    </a:lnTo>
                    <a:lnTo>
                      <a:pt x="551" y="589"/>
                    </a:lnTo>
                    <a:lnTo>
                      <a:pt x="666" y="616"/>
                    </a:lnTo>
                    <a:lnTo>
                      <a:pt x="782" y="642"/>
                    </a:lnTo>
                    <a:lnTo>
                      <a:pt x="897" y="669"/>
                    </a:lnTo>
                    <a:lnTo>
                      <a:pt x="1014" y="695"/>
                    </a:lnTo>
                    <a:lnTo>
                      <a:pt x="1130" y="722"/>
                    </a:lnTo>
                    <a:lnTo>
                      <a:pt x="1102" y="656"/>
                    </a:lnTo>
                    <a:lnTo>
                      <a:pt x="1074" y="591"/>
                    </a:lnTo>
                    <a:lnTo>
                      <a:pt x="1047" y="526"/>
                    </a:lnTo>
                    <a:lnTo>
                      <a:pt x="1020" y="461"/>
                    </a:lnTo>
                    <a:lnTo>
                      <a:pt x="993" y="395"/>
                    </a:lnTo>
                    <a:lnTo>
                      <a:pt x="965" y="330"/>
                    </a:lnTo>
                    <a:lnTo>
                      <a:pt x="938" y="265"/>
                    </a:lnTo>
                    <a:lnTo>
                      <a:pt x="912" y="200"/>
                    </a:lnTo>
                    <a:lnTo>
                      <a:pt x="796" y="175"/>
                    </a:lnTo>
                    <a:lnTo>
                      <a:pt x="681" y="149"/>
                    </a:lnTo>
                    <a:lnTo>
                      <a:pt x="567" y="125"/>
                    </a:lnTo>
                    <a:lnTo>
                      <a:pt x="453" y="100"/>
                    </a:lnTo>
                    <a:lnTo>
                      <a:pt x="339" y="74"/>
                    </a:lnTo>
                    <a:lnTo>
                      <a:pt x="226" y="49"/>
                    </a:lnTo>
                    <a:lnTo>
                      <a:pt x="113" y="25"/>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068440" y="1959840"/>
                <a:ext cx="422280" cy="197280"/>
              </a:xfrm>
              <a:custGeom>
                <a:avLst/>
                <a:gdLst/>
                <a:ahLst/>
                <a:rect l="l" t="t" r="r" b="b"/>
                <a:pathLst>
                  <a:path w="1130" h="722">
                    <a:moveTo>
                      <a:pt x="0" y="0"/>
                    </a:moveTo>
                    <a:lnTo>
                      <a:pt x="26" y="64"/>
                    </a:lnTo>
                    <a:lnTo>
                      <a:pt x="52" y="128"/>
                    </a:lnTo>
                    <a:lnTo>
                      <a:pt x="78" y="191"/>
                    </a:lnTo>
                    <a:lnTo>
                      <a:pt x="104" y="255"/>
                    </a:lnTo>
                    <a:lnTo>
                      <a:pt x="130" y="319"/>
                    </a:lnTo>
                    <a:lnTo>
                      <a:pt x="157" y="383"/>
                    </a:lnTo>
                    <a:lnTo>
                      <a:pt x="183" y="447"/>
                    </a:lnTo>
                    <a:lnTo>
                      <a:pt x="209" y="512"/>
                    </a:lnTo>
                    <a:lnTo>
                      <a:pt x="323" y="537"/>
                    </a:lnTo>
                    <a:lnTo>
                      <a:pt x="437" y="563"/>
                    </a:lnTo>
                    <a:lnTo>
                      <a:pt x="551" y="589"/>
                    </a:lnTo>
                    <a:lnTo>
                      <a:pt x="666" y="616"/>
                    </a:lnTo>
                    <a:lnTo>
                      <a:pt x="782" y="642"/>
                    </a:lnTo>
                    <a:lnTo>
                      <a:pt x="897" y="669"/>
                    </a:lnTo>
                    <a:lnTo>
                      <a:pt x="1014" y="695"/>
                    </a:lnTo>
                    <a:lnTo>
                      <a:pt x="1130" y="722"/>
                    </a:lnTo>
                    <a:lnTo>
                      <a:pt x="1102" y="656"/>
                    </a:lnTo>
                    <a:lnTo>
                      <a:pt x="1074" y="591"/>
                    </a:lnTo>
                    <a:lnTo>
                      <a:pt x="1047" y="526"/>
                    </a:lnTo>
                    <a:lnTo>
                      <a:pt x="1020" y="461"/>
                    </a:lnTo>
                    <a:lnTo>
                      <a:pt x="993" y="395"/>
                    </a:lnTo>
                    <a:lnTo>
                      <a:pt x="965" y="330"/>
                    </a:lnTo>
                    <a:lnTo>
                      <a:pt x="938" y="265"/>
                    </a:lnTo>
                    <a:lnTo>
                      <a:pt x="912" y="200"/>
                    </a:lnTo>
                    <a:lnTo>
                      <a:pt x="796" y="175"/>
                    </a:lnTo>
                    <a:lnTo>
                      <a:pt x="681" y="149"/>
                    </a:lnTo>
                    <a:lnTo>
                      <a:pt x="567" y="125"/>
                    </a:lnTo>
                    <a:lnTo>
                      <a:pt x="453" y="100"/>
                    </a:lnTo>
                    <a:lnTo>
                      <a:pt x="339" y="74"/>
                    </a:lnTo>
                    <a:lnTo>
                      <a:pt x="226" y="49"/>
                    </a:lnTo>
                    <a:lnTo>
                      <a:pt x="113" y="25"/>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727880" y="1959840"/>
                <a:ext cx="419400" cy="2023920"/>
              </a:xfrm>
              <a:custGeom>
                <a:avLst/>
                <a:gdLst/>
                <a:ahLst/>
                <a:rect l="l" t="t" r="r" b="b"/>
                <a:pathLst>
                  <a:path w="1123" h="7380">
                    <a:moveTo>
                      <a:pt x="0" y="6825"/>
                    </a:moveTo>
                    <a:lnTo>
                      <a:pt x="26" y="6895"/>
                    </a:lnTo>
                    <a:lnTo>
                      <a:pt x="51" y="6964"/>
                    </a:lnTo>
                    <a:lnTo>
                      <a:pt x="76" y="7033"/>
                    </a:lnTo>
                    <a:lnTo>
                      <a:pt x="102" y="7103"/>
                    </a:lnTo>
                    <a:lnTo>
                      <a:pt x="128" y="7172"/>
                    </a:lnTo>
                    <a:lnTo>
                      <a:pt x="155" y="7241"/>
                    </a:lnTo>
                    <a:lnTo>
                      <a:pt x="181" y="7311"/>
                    </a:lnTo>
                    <a:lnTo>
                      <a:pt x="207" y="7380"/>
                    </a:lnTo>
                    <a:lnTo>
                      <a:pt x="235" y="7163"/>
                    </a:lnTo>
                    <a:lnTo>
                      <a:pt x="265" y="6948"/>
                    </a:lnTo>
                    <a:lnTo>
                      <a:pt x="294" y="6731"/>
                    </a:lnTo>
                    <a:lnTo>
                      <a:pt x="323" y="6514"/>
                    </a:lnTo>
                    <a:lnTo>
                      <a:pt x="351" y="6299"/>
                    </a:lnTo>
                    <a:lnTo>
                      <a:pt x="380" y="6082"/>
                    </a:lnTo>
                    <a:lnTo>
                      <a:pt x="409" y="5867"/>
                    </a:lnTo>
                    <a:lnTo>
                      <a:pt x="438" y="5652"/>
                    </a:lnTo>
                    <a:lnTo>
                      <a:pt x="466" y="5436"/>
                    </a:lnTo>
                    <a:lnTo>
                      <a:pt x="495" y="5221"/>
                    </a:lnTo>
                    <a:lnTo>
                      <a:pt x="524" y="5004"/>
                    </a:lnTo>
                    <a:lnTo>
                      <a:pt x="552" y="4789"/>
                    </a:lnTo>
                    <a:lnTo>
                      <a:pt x="581" y="4573"/>
                    </a:lnTo>
                    <a:lnTo>
                      <a:pt x="609" y="4358"/>
                    </a:lnTo>
                    <a:lnTo>
                      <a:pt x="638" y="4142"/>
                    </a:lnTo>
                    <a:lnTo>
                      <a:pt x="667" y="3928"/>
                    </a:lnTo>
                    <a:lnTo>
                      <a:pt x="695" y="3714"/>
                    </a:lnTo>
                    <a:lnTo>
                      <a:pt x="724" y="3500"/>
                    </a:lnTo>
                    <a:lnTo>
                      <a:pt x="752" y="3286"/>
                    </a:lnTo>
                    <a:lnTo>
                      <a:pt x="781" y="3071"/>
                    </a:lnTo>
                    <a:lnTo>
                      <a:pt x="810" y="2857"/>
                    </a:lnTo>
                    <a:lnTo>
                      <a:pt x="838" y="2644"/>
                    </a:lnTo>
                    <a:lnTo>
                      <a:pt x="867" y="2430"/>
                    </a:lnTo>
                    <a:lnTo>
                      <a:pt x="896" y="2216"/>
                    </a:lnTo>
                    <a:lnTo>
                      <a:pt x="924" y="2003"/>
                    </a:lnTo>
                    <a:lnTo>
                      <a:pt x="952" y="1790"/>
                    </a:lnTo>
                    <a:lnTo>
                      <a:pt x="981" y="1576"/>
                    </a:lnTo>
                    <a:lnTo>
                      <a:pt x="1009" y="1363"/>
                    </a:lnTo>
                    <a:lnTo>
                      <a:pt x="1038" y="1150"/>
                    </a:lnTo>
                    <a:lnTo>
                      <a:pt x="1066" y="937"/>
                    </a:lnTo>
                    <a:lnTo>
                      <a:pt x="1095" y="724"/>
                    </a:lnTo>
                    <a:lnTo>
                      <a:pt x="1123" y="512"/>
                    </a:lnTo>
                    <a:lnTo>
                      <a:pt x="1097" y="447"/>
                    </a:lnTo>
                    <a:lnTo>
                      <a:pt x="1071" y="383"/>
                    </a:lnTo>
                    <a:lnTo>
                      <a:pt x="1044" y="319"/>
                    </a:lnTo>
                    <a:lnTo>
                      <a:pt x="1018" y="255"/>
                    </a:lnTo>
                    <a:lnTo>
                      <a:pt x="992" y="191"/>
                    </a:lnTo>
                    <a:lnTo>
                      <a:pt x="966" y="128"/>
                    </a:lnTo>
                    <a:lnTo>
                      <a:pt x="940" y="64"/>
                    </a:lnTo>
                    <a:lnTo>
                      <a:pt x="914" y="0"/>
                    </a:lnTo>
                    <a:lnTo>
                      <a:pt x="885" y="211"/>
                    </a:lnTo>
                    <a:lnTo>
                      <a:pt x="856" y="422"/>
                    </a:lnTo>
                    <a:lnTo>
                      <a:pt x="828" y="634"/>
                    </a:lnTo>
                    <a:lnTo>
                      <a:pt x="799" y="846"/>
                    </a:lnTo>
                    <a:lnTo>
                      <a:pt x="771" y="1058"/>
                    </a:lnTo>
                    <a:lnTo>
                      <a:pt x="742" y="1269"/>
                    </a:lnTo>
                    <a:lnTo>
                      <a:pt x="713" y="1481"/>
                    </a:lnTo>
                    <a:lnTo>
                      <a:pt x="685" y="1693"/>
                    </a:lnTo>
                    <a:lnTo>
                      <a:pt x="657" y="1906"/>
                    </a:lnTo>
                    <a:lnTo>
                      <a:pt x="628" y="2119"/>
                    </a:lnTo>
                    <a:lnTo>
                      <a:pt x="600" y="2332"/>
                    </a:lnTo>
                    <a:lnTo>
                      <a:pt x="572" y="2545"/>
                    </a:lnTo>
                    <a:lnTo>
                      <a:pt x="544" y="2758"/>
                    </a:lnTo>
                    <a:lnTo>
                      <a:pt x="516" y="2971"/>
                    </a:lnTo>
                    <a:lnTo>
                      <a:pt x="486" y="3183"/>
                    </a:lnTo>
                    <a:lnTo>
                      <a:pt x="458" y="3396"/>
                    </a:lnTo>
                    <a:lnTo>
                      <a:pt x="430" y="3609"/>
                    </a:lnTo>
                    <a:lnTo>
                      <a:pt x="401" y="3824"/>
                    </a:lnTo>
                    <a:lnTo>
                      <a:pt x="372" y="4037"/>
                    </a:lnTo>
                    <a:lnTo>
                      <a:pt x="343" y="4251"/>
                    </a:lnTo>
                    <a:lnTo>
                      <a:pt x="315" y="4465"/>
                    </a:lnTo>
                    <a:lnTo>
                      <a:pt x="286" y="4678"/>
                    </a:lnTo>
                    <a:lnTo>
                      <a:pt x="258" y="4892"/>
                    </a:lnTo>
                    <a:lnTo>
                      <a:pt x="229" y="5106"/>
                    </a:lnTo>
                    <a:lnTo>
                      <a:pt x="200" y="5320"/>
                    </a:lnTo>
                    <a:lnTo>
                      <a:pt x="172" y="5535"/>
                    </a:lnTo>
                    <a:lnTo>
                      <a:pt x="143" y="5750"/>
                    </a:lnTo>
                    <a:lnTo>
                      <a:pt x="114" y="5964"/>
                    </a:lnTo>
                    <a:lnTo>
                      <a:pt x="85" y="6180"/>
                    </a:lnTo>
                    <a:lnTo>
                      <a:pt x="57" y="6395"/>
                    </a:lnTo>
                    <a:lnTo>
                      <a:pt x="29" y="6610"/>
                    </a:lnTo>
                    <a:lnTo>
                      <a:pt x="0" y="6825"/>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727880" y="1959840"/>
                <a:ext cx="419400" cy="2023920"/>
              </a:xfrm>
              <a:custGeom>
                <a:avLst/>
                <a:gdLst/>
                <a:ahLst/>
                <a:rect l="l" t="t" r="r" b="b"/>
                <a:pathLst>
                  <a:path w="1123" h="7380">
                    <a:moveTo>
                      <a:pt x="0" y="6825"/>
                    </a:moveTo>
                    <a:lnTo>
                      <a:pt x="26" y="6895"/>
                    </a:lnTo>
                    <a:lnTo>
                      <a:pt x="51" y="6964"/>
                    </a:lnTo>
                    <a:lnTo>
                      <a:pt x="76" y="7033"/>
                    </a:lnTo>
                    <a:lnTo>
                      <a:pt x="102" y="7103"/>
                    </a:lnTo>
                    <a:lnTo>
                      <a:pt x="128" y="7172"/>
                    </a:lnTo>
                    <a:lnTo>
                      <a:pt x="155" y="7241"/>
                    </a:lnTo>
                    <a:lnTo>
                      <a:pt x="181" y="7311"/>
                    </a:lnTo>
                    <a:lnTo>
                      <a:pt x="207" y="7380"/>
                    </a:lnTo>
                    <a:lnTo>
                      <a:pt x="235" y="7163"/>
                    </a:lnTo>
                    <a:lnTo>
                      <a:pt x="265" y="6948"/>
                    </a:lnTo>
                    <a:lnTo>
                      <a:pt x="294" y="6731"/>
                    </a:lnTo>
                    <a:lnTo>
                      <a:pt x="323" y="6514"/>
                    </a:lnTo>
                    <a:lnTo>
                      <a:pt x="351" y="6299"/>
                    </a:lnTo>
                    <a:lnTo>
                      <a:pt x="380" y="6082"/>
                    </a:lnTo>
                    <a:lnTo>
                      <a:pt x="409" y="5867"/>
                    </a:lnTo>
                    <a:lnTo>
                      <a:pt x="438" y="5652"/>
                    </a:lnTo>
                    <a:lnTo>
                      <a:pt x="466" y="5436"/>
                    </a:lnTo>
                    <a:lnTo>
                      <a:pt x="495" y="5221"/>
                    </a:lnTo>
                    <a:lnTo>
                      <a:pt x="524" y="5004"/>
                    </a:lnTo>
                    <a:lnTo>
                      <a:pt x="552" y="4789"/>
                    </a:lnTo>
                    <a:lnTo>
                      <a:pt x="581" y="4573"/>
                    </a:lnTo>
                    <a:lnTo>
                      <a:pt x="609" y="4358"/>
                    </a:lnTo>
                    <a:lnTo>
                      <a:pt x="638" y="4142"/>
                    </a:lnTo>
                    <a:lnTo>
                      <a:pt x="667" y="3928"/>
                    </a:lnTo>
                    <a:lnTo>
                      <a:pt x="695" y="3714"/>
                    </a:lnTo>
                    <a:lnTo>
                      <a:pt x="724" y="3500"/>
                    </a:lnTo>
                    <a:lnTo>
                      <a:pt x="752" y="3286"/>
                    </a:lnTo>
                    <a:lnTo>
                      <a:pt x="781" y="3071"/>
                    </a:lnTo>
                    <a:lnTo>
                      <a:pt x="810" y="2857"/>
                    </a:lnTo>
                    <a:lnTo>
                      <a:pt x="838" y="2644"/>
                    </a:lnTo>
                    <a:lnTo>
                      <a:pt x="867" y="2430"/>
                    </a:lnTo>
                    <a:lnTo>
                      <a:pt x="896" y="2216"/>
                    </a:lnTo>
                    <a:lnTo>
                      <a:pt x="924" y="2003"/>
                    </a:lnTo>
                    <a:lnTo>
                      <a:pt x="952" y="1790"/>
                    </a:lnTo>
                    <a:lnTo>
                      <a:pt x="981" y="1576"/>
                    </a:lnTo>
                    <a:lnTo>
                      <a:pt x="1009" y="1363"/>
                    </a:lnTo>
                    <a:lnTo>
                      <a:pt x="1038" y="1150"/>
                    </a:lnTo>
                    <a:lnTo>
                      <a:pt x="1066" y="937"/>
                    </a:lnTo>
                    <a:lnTo>
                      <a:pt x="1095" y="724"/>
                    </a:lnTo>
                    <a:lnTo>
                      <a:pt x="1123" y="512"/>
                    </a:lnTo>
                    <a:lnTo>
                      <a:pt x="1097" y="447"/>
                    </a:lnTo>
                    <a:lnTo>
                      <a:pt x="1071" y="383"/>
                    </a:lnTo>
                    <a:lnTo>
                      <a:pt x="1044" y="319"/>
                    </a:lnTo>
                    <a:lnTo>
                      <a:pt x="1018" y="255"/>
                    </a:lnTo>
                    <a:lnTo>
                      <a:pt x="992" y="191"/>
                    </a:lnTo>
                    <a:lnTo>
                      <a:pt x="966" y="128"/>
                    </a:lnTo>
                    <a:lnTo>
                      <a:pt x="940" y="64"/>
                    </a:lnTo>
                    <a:lnTo>
                      <a:pt x="914" y="0"/>
                    </a:lnTo>
                    <a:lnTo>
                      <a:pt x="885" y="211"/>
                    </a:lnTo>
                    <a:lnTo>
                      <a:pt x="856" y="422"/>
                    </a:lnTo>
                    <a:lnTo>
                      <a:pt x="828" y="634"/>
                    </a:lnTo>
                    <a:lnTo>
                      <a:pt x="799" y="846"/>
                    </a:lnTo>
                    <a:lnTo>
                      <a:pt x="771" y="1058"/>
                    </a:lnTo>
                    <a:lnTo>
                      <a:pt x="742" y="1269"/>
                    </a:lnTo>
                    <a:lnTo>
                      <a:pt x="713" y="1481"/>
                    </a:lnTo>
                    <a:lnTo>
                      <a:pt x="685" y="1693"/>
                    </a:lnTo>
                    <a:lnTo>
                      <a:pt x="657" y="1906"/>
                    </a:lnTo>
                    <a:lnTo>
                      <a:pt x="628" y="2119"/>
                    </a:lnTo>
                    <a:lnTo>
                      <a:pt x="600" y="2332"/>
                    </a:lnTo>
                    <a:lnTo>
                      <a:pt x="572" y="2545"/>
                    </a:lnTo>
                    <a:lnTo>
                      <a:pt x="544" y="2758"/>
                    </a:lnTo>
                    <a:lnTo>
                      <a:pt x="516" y="2971"/>
                    </a:lnTo>
                    <a:lnTo>
                      <a:pt x="486" y="3183"/>
                    </a:lnTo>
                    <a:lnTo>
                      <a:pt x="458" y="3396"/>
                    </a:lnTo>
                    <a:lnTo>
                      <a:pt x="430" y="3609"/>
                    </a:lnTo>
                    <a:lnTo>
                      <a:pt x="401" y="3824"/>
                    </a:lnTo>
                    <a:lnTo>
                      <a:pt x="372" y="4037"/>
                    </a:lnTo>
                    <a:lnTo>
                      <a:pt x="343" y="4251"/>
                    </a:lnTo>
                    <a:lnTo>
                      <a:pt x="315" y="4465"/>
                    </a:lnTo>
                    <a:lnTo>
                      <a:pt x="286" y="4678"/>
                    </a:lnTo>
                    <a:lnTo>
                      <a:pt x="258" y="4892"/>
                    </a:lnTo>
                    <a:lnTo>
                      <a:pt x="229" y="5106"/>
                    </a:lnTo>
                    <a:lnTo>
                      <a:pt x="200" y="5320"/>
                    </a:lnTo>
                    <a:lnTo>
                      <a:pt x="172" y="5535"/>
                    </a:lnTo>
                    <a:lnTo>
                      <a:pt x="143" y="5750"/>
                    </a:lnTo>
                    <a:lnTo>
                      <a:pt x="114" y="5964"/>
                    </a:lnTo>
                    <a:lnTo>
                      <a:pt x="85" y="6180"/>
                    </a:lnTo>
                    <a:lnTo>
                      <a:pt x="57" y="6395"/>
                    </a:lnTo>
                    <a:lnTo>
                      <a:pt x="29" y="6610"/>
                    </a:lnTo>
                    <a:lnTo>
                      <a:pt x="0" y="6825"/>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119200" y="1942200"/>
                <a:ext cx="455040" cy="2236320"/>
              </a:xfrm>
              <a:custGeom>
                <a:avLst/>
                <a:gdLst/>
                <a:ahLst/>
                <a:rect l="l" t="t" r="r" b="b"/>
                <a:pathLst>
                  <a:path w="1219" h="8153">
                    <a:moveTo>
                      <a:pt x="1000" y="0"/>
                    </a:moveTo>
                    <a:lnTo>
                      <a:pt x="1027" y="64"/>
                    </a:lnTo>
                    <a:lnTo>
                      <a:pt x="1054" y="129"/>
                    </a:lnTo>
                    <a:lnTo>
                      <a:pt x="1081" y="195"/>
                    </a:lnTo>
                    <a:lnTo>
                      <a:pt x="1109" y="260"/>
                    </a:lnTo>
                    <a:lnTo>
                      <a:pt x="1137" y="325"/>
                    </a:lnTo>
                    <a:lnTo>
                      <a:pt x="1164" y="389"/>
                    </a:lnTo>
                    <a:lnTo>
                      <a:pt x="1192" y="454"/>
                    </a:lnTo>
                    <a:lnTo>
                      <a:pt x="1219" y="520"/>
                    </a:lnTo>
                    <a:lnTo>
                      <a:pt x="1188" y="756"/>
                    </a:lnTo>
                    <a:lnTo>
                      <a:pt x="1157" y="992"/>
                    </a:lnTo>
                    <a:lnTo>
                      <a:pt x="1127" y="1229"/>
                    </a:lnTo>
                    <a:lnTo>
                      <a:pt x="1095" y="1465"/>
                    </a:lnTo>
                    <a:lnTo>
                      <a:pt x="1064" y="1703"/>
                    </a:lnTo>
                    <a:lnTo>
                      <a:pt x="1033" y="1939"/>
                    </a:lnTo>
                    <a:lnTo>
                      <a:pt x="1002" y="2177"/>
                    </a:lnTo>
                    <a:lnTo>
                      <a:pt x="970" y="2413"/>
                    </a:lnTo>
                    <a:lnTo>
                      <a:pt x="939" y="2650"/>
                    </a:lnTo>
                    <a:lnTo>
                      <a:pt x="908" y="2888"/>
                    </a:lnTo>
                    <a:lnTo>
                      <a:pt x="877" y="3126"/>
                    </a:lnTo>
                    <a:lnTo>
                      <a:pt x="846" y="3363"/>
                    </a:lnTo>
                    <a:lnTo>
                      <a:pt x="814" y="3602"/>
                    </a:lnTo>
                    <a:lnTo>
                      <a:pt x="783" y="3840"/>
                    </a:lnTo>
                    <a:lnTo>
                      <a:pt x="751" y="4077"/>
                    </a:lnTo>
                    <a:lnTo>
                      <a:pt x="720" y="4316"/>
                    </a:lnTo>
                    <a:lnTo>
                      <a:pt x="688" y="4555"/>
                    </a:lnTo>
                    <a:lnTo>
                      <a:pt x="657" y="4794"/>
                    </a:lnTo>
                    <a:lnTo>
                      <a:pt x="626" y="5032"/>
                    </a:lnTo>
                    <a:lnTo>
                      <a:pt x="595" y="5271"/>
                    </a:lnTo>
                    <a:lnTo>
                      <a:pt x="562" y="5510"/>
                    </a:lnTo>
                    <a:lnTo>
                      <a:pt x="531" y="5750"/>
                    </a:lnTo>
                    <a:lnTo>
                      <a:pt x="500" y="5989"/>
                    </a:lnTo>
                    <a:lnTo>
                      <a:pt x="468" y="6229"/>
                    </a:lnTo>
                    <a:lnTo>
                      <a:pt x="436" y="6469"/>
                    </a:lnTo>
                    <a:lnTo>
                      <a:pt x="404" y="6709"/>
                    </a:lnTo>
                    <a:lnTo>
                      <a:pt x="373" y="6950"/>
                    </a:lnTo>
                    <a:lnTo>
                      <a:pt x="342" y="7190"/>
                    </a:lnTo>
                    <a:lnTo>
                      <a:pt x="309" y="7430"/>
                    </a:lnTo>
                    <a:lnTo>
                      <a:pt x="278" y="7672"/>
                    </a:lnTo>
                    <a:lnTo>
                      <a:pt x="246" y="7912"/>
                    </a:lnTo>
                    <a:lnTo>
                      <a:pt x="214" y="8153"/>
                    </a:lnTo>
                    <a:lnTo>
                      <a:pt x="187" y="8081"/>
                    </a:lnTo>
                    <a:lnTo>
                      <a:pt x="160" y="8010"/>
                    </a:lnTo>
                    <a:lnTo>
                      <a:pt x="133" y="7939"/>
                    </a:lnTo>
                    <a:lnTo>
                      <a:pt x="107" y="7866"/>
                    </a:lnTo>
                    <a:lnTo>
                      <a:pt x="79" y="7795"/>
                    </a:lnTo>
                    <a:lnTo>
                      <a:pt x="53" y="7723"/>
                    </a:lnTo>
                    <a:lnTo>
                      <a:pt x="26" y="7652"/>
                    </a:lnTo>
                    <a:lnTo>
                      <a:pt x="0" y="7580"/>
                    </a:lnTo>
                    <a:lnTo>
                      <a:pt x="31" y="7342"/>
                    </a:lnTo>
                    <a:lnTo>
                      <a:pt x="62" y="7103"/>
                    </a:lnTo>
                    <a:lnTo>
                      <a:pt x="94" y="6864"/>
                    </a:lnTo>
                    <a:lnTo>
                      <a:pt x="126" y="6625"/>
                    </a:lnTo>
                    <a:lnTo>
                      <a:pt x="157" y="6386"/>
                    </a:lnTo>
                    <a:lnTo>
                      <a:pt x="189" y="6148"/>
                    </a:lnTo>
                    <a:lnTo>
                      <a:pt x="221" y="5909"/>
                    </a:lnTo>
                    <a:lnTo>
                      <a:pt x="252" y="5670"/>
                    </a:lnTo>
                    <a:lnTo>
                      <a:pt x="283" y="5432"/>
                    </a:lnTo>
                    <a:lnTo>
                      <a:pt x="314" y="5195"/>
                    </a:lnTo>
                    <a:lnTo>
                      <a:pt x="346" y="4957"/>
                    </a:lnTo>
                    <a:lnTo>
                      <a:pt x="377" y="4720"/>
                    </a:lnTo>
                    <a:lnTo>
                      <a:pt x="408" y="4481"/>
                    </a:lnTo>
                    <a:lnTo>
                      <a:pt x="439" y="4243"/>
                    </a:lnTo>
                    <a:lnTo>
                      <a:pt x="471" y="4007"/>
                    </a:lnTo>
                    <a:lnTo>
                      <a:pt x="502" y="3769"/>
                    </a:lnTo>
                    <a:lnTo>
                      <a:pt x="533" y="3533"/>
                    </a:lnTo>
                    <a:lnTo>
                      <a:pt x="564" y="3297"/>
                    </a:lnTo>
                    <a:lnTo>
                      <a:pt x="596" y="3059"/>
                    </a:lnTo>
                    <a:lnTo>
                      <a:pt x="627" y="2823"/>
                    </a:lnTo>
                    <a:lnTo>
                      <a:pt x="658" y="2586"/>
                    </a:lnTo>
                    <a:lnTo>
                      <a:pt x="689" y="2350"/>
                    </a:lnTo>
                    <a:lnTo>
                      <a:pt x="721" y="2115"/>
                    </a:lnTo>
                    <a:lnTo>
                      <a:pt x="752" y="1879"/>
                    </a:lnTo>
                    <a:lnTo>
                      <a:pt x="783" y="1644"/>
                    </a:lnTo>
                    <a:lnTo>
                      <a:pt x="814" y="1408"/>
                    </a:lnTo>
                    <a:lnTo>
                      <a:pt x="846" y="1173"/>
                    </a:lnTo>
                    <a:lnTo>
                      <a:pt x="876" y="938"/>
                    </a:lnTo>
                    <a:lnTo>
                      <a:pt x="907" y="703"/>
                    </a:lnTo>
                    <a:lnTo>
                      <a:pt x="938" y="468"/>
                    </a:lnTo>
                    <a:lnTo>
                      <a:pt x="969" y="234"/>
                    </a:lnTo>
                    <a:lnTo>
                      <a:pt x="1000"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119200" y="1942200"/>
                <a:ext cx="455040" cy="2236320"/>
              </a:xfrm>
              <a:custGeom>
                <a:avLst/>
                <a:gdLst/>
                <a:ahLst/>
                <a:rect l="l" t="t" r="r" b="b"/>
                <a:pathLst>
                  <a:path w="1219" h="8153">
                    <a:moveTo>
                      <a:pt x="1000" y="0"/>
                    </a:moveTo>
                    <a:lnTo>
                      <a:pt x="1027" y="64"/>
                    </a:lnTo>
                    <a:lnTo>
                      <a:pt x="1054" y="129"/>
                    </a:lnTo>
                    <a:lnTo>
                      <a:pt x="1081" y="195"/>
                    </a:lnTo>
                    <a:lnTo>
                      <a:pt x="1109" y="260"/>
                    </a:lnTo>
                    <a:lnTo>
                      <a:pt x="1137" y="325"/>
                    </a:lnTo>
                    <a:lnTo>
                      <a:pt x="1164" y="389"/>
                    </a:lnTo>
                    <a:lnTo>
                      <a:pt x="1192" y="454"/>
                    </a:lnTo>
                    <a:lnTo>
                      <a:pt x="1219" y="520"/>
                    </a:lnTo>
                    <a:lnTo>
                      <a:pt x="1188" y="756"/>
                    </a:lnTo>
                    <a:lnTo>
                      <a:pt x="1157" y="992"/>
                    </a:lnTo>
                    <a:lnTo>
                      <a:pt x="1127" y="1229"/>
                    </a:lnTo>
                    <a:lnTo>
                      <a:pt x="1095" y="1465"/>
                    </a:lnTo>
                    <a:lnTo>
                      <a:pt x="1064" y="1703"/>
                    </a:lnTo>
                    <a:lnTo>
                      <a:pt x="1033" y="1939"/>
                    </a:lnTo>
                    <a:lnTo>
                      <a:pt x="1002" y="2177"/>
                    </a:lnTo>
                    <a:lnTo>
                      <a:pt x="970" y="2413"/>
                    </a:lnTo>
                    <a:lnTo>
                      <a:pt x="939" y="2650"/>
                    </a:lnTo>
                    <a:lnTo>
                      <a:pt x="908" y="2888"/>
                    </a:lnTo>
                    <a:lnTo>
                      <a:pt x="877" y="3126"/>
                    </a:lnTo>
                    <a:lnTo>
                      <a:pt x="846" y="3363"/>
                    </a:lnTo>
                    <a:lnTo>
                      <a:pt x="814" y="3602"/>
                    </a:lnTo>
                    <a:lnTo>
                      <a:pt x="783" y="3840"/>
                    </a:lnTo>
                    <a:lnTo>
                      <a:pt x="751" y="4077"/>
                    </a:lnTo>
                    <a:lnTo>
                      <a:pt x="720" y="4316"/>
                    </a:lnTo>
                    <a:lnTo>
                      <a:pt x="688" y="4555"/>
                    </a:lnTo>
                    <a:lnTo>
                      <a:pt x="657" y="4794"/>
                    </a:lnTo>
                    <a:lnTo>
                      <a:pt x="626" y="5032"/>
                    </a:lnTo>
                    <a:lnTo>
                      <a:pt x="595" y="5271"/>
                    </a:lnTo>
                    <a:lnTo>
                      <a:pt x="562" y="5510"/>
                    </a:lnTo>
                    <a:lnTo>
                      <a:pt x="531" y="5750"/>
                    </a:lnTo>
                    <a:lnTo>
                      <a:pt x="500" y="5989"/>
                    </a:lnTo>
                    <a:lnTo>
                      <a:pt x="468" y="6229"/>
                    </a:lnTo>
                    <a:lnTo>
                      <a:pt x="436" y="6469"/>
                    </a:lnTo>
                    <a:lnTo>
                      <a:pt x="404" y="6709"/>
                    </a:lnTo>
                    <a:lnTo>
                      <a:pt x="373" y="6950"/>
                    </a:lnTo>
                    <a:lnTo>
                      <a:pt x="342" y="7190"/>
                    </a:lnTo>
                    <a:lnTo>
                      <a:pt x="309" y="7430"/>
                    </a:lnTo>
                    <a:lnTo>
                      <a:pt x="278" y="7672"/>
                    </a:lnTo>
                    <a:lnTo>
                      <a:pt x="246" y="7912"/>
                    </a:lnTo>
                    <a:lnTo>
                      <a:pt x="214" y="8153"/>
                    </a:lnTo>
                    <a:lnTo>
                      <a:pt x="187" y="8081"/>
                    </a:lnTo>
                    <a:lnTo>
                      <a:pt x="160" y="8010"/>
                    </a:lnTo>
                    <a:lnTo>
                      <a:pt x="133" y="7939"/>
                    </a:lnTo>
                    <a:lnTo>
                      <a:pt x="107" y="7866"/>
                    </a:lnTo>
                    <a:lnTo>
                      <a:pt x="79" y="7795"/>
                    </a:lnTo>
                    <a:lnTo>
                      <a:pt x="53" y="7723"/>
                    </a:lnTo>
                    <a:lnTo>
                      <a:pt x="26" y="7652"/>
                    </a:lnTo>
                    <a:lnTo>
                      <a:pt x="0" y="7580"/>
                    </a:lnTo>
                    <a:lnTo>
                      <a:pt x="31" y="7342"/>
                    </a:lnTo>
                    <a:lnTo>
                      <a:pt x="62" y="7103"/>
                    </a:lnTo>
                    <a:lnTo>
                      <a:pt x="94" y="6864"/>
                    </a:lnTo>
                    <a:lnTo>
                      <a:pt x="126" y="6625"/>
                    </a:lnTo>
                    <a:lnTo>
                      <a:pt x="157" y="6386"/>
                    </a:lnTo>
                    <a:lnTo>
                      <a:pt x="189" y="6148"/>
                    </a:lnTo>
                    <a:lnTo>
                      <a:pt x="221" y="5909"/>
                    </a:lnTo>
                    <a:lnTo>
                      <a:pt x="252" y="5670"/>
                    </a:lnTo>
                    <a:lnTo>
                      <a:pt x="283" y="5432"/>
                    </a:lnTo>
                    <a:lnTo>
                      <a:pt x="314" y="5195"/>
                    </a:lnTo>
                    <a:lnTo>
                      <a:pt x="346" y="4957"/>
                    </a:lnTo>
                    <a:lnTo>
                      <a:pt x="377" y="4720"/>
                    </a:lnTo>
                    <a:lnTo>
                      <a:pt x="408" y="4481"/>
                    </a:lnTo>
                    <a:lnTo>
                      <a:pt x="439" y="4243"/>
                    </a:lnTo>
                    <a:lnTo>
                      <a:pt x="471" y="4007"/>
                    </a:lnTo>
                    <a:lnTo>
                      <a:pt x="502" y="3769"/>
                    </a:lnTo>
                    <a:lnTo>
                      <a:pt x="533" y="3533"/>
                    </a:lnTo>
                    <a:lnTo>
                      <a:pt x="564" y="3297"/>
                    </a:lnTo>
                    <a:lnTo>
                      <a:pt x="596" y="3059"/>
                    </a:lnTo>
                    <a:lnTo>
                      <a:pt x="627" y="2823"/>
                    </a:lnTo>
                    <a:lnTo>
                      <a:pt x="658" y="2586"/>
                    </a:lnTo>
                    <a:lnTo>
                      <a:pt x="689" y="2350"/>
                    </a:lnTo>
                    <a:lnTo>
                      <a:pt x="721" y="2115"/>
                    </a:lnTo>
                    <a:lnTo>
                      <a:pt x="752" y="1879"/>
                    </a:lnTo>
                    <a:lnTo>
                      <a:pt x="783" y="1644"/>
                    </a:lnTo>
                    <a:lnTo>
                      <a:pt x="814" y="1408"/>
                    </a:lnTo>
                    <a:lnTo>
                      <a:pt x="846" y="1173"/>
                    </a:lnTo>
                    <a:lnTo>
                      <a:pt x="876" y="938"/>
                    </a:lnTo>
                    <a:lnTo>
                      <a:pt x="907" y="703"/>
                    </a:lnTo>
                    <a:lnTo>
                      <a:pt x="938" y="468"/>
                    </a:lnTo>
                    <a:lnTo>
                      <a:pt x="969" y="234"/>
                    </a:lnTo>
                    <a:lnTo>
                      <a:pt x="100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645800" y="3897360"/>
                <a:ext cx="553680" cy="280800"/>
              </a:xfrm>
              <a:custGeom>
                <a:avLst/>
                <a:gdLst/>
                <a:ahLst/>
                <a:rect l="l" t="t" r="r" b="b"/>
                <a:pathLst>
                  <a:path w="1483" h="1022">
                    <a:moveTo>
                      <a:pt x="1269" y="449"/>
                    </a:moveTo>
                    <a:lnTo>
                      <a:pt x="1295" y="521"/>
                    </a:lnTo>
                    <a:lnTo>
                      <a:pt x="1322" y="592"/>
                    </a:lnTo>
                    <a:lnTo>
                      <a:pt x="1348" y="664"/>
                    </a:lnTo>
                    <a:lnTo>
                      <a:pt x="1376" y="735"/>
                    </a:lnTo>
                    <a:lnTo>
                      <a:pt x="1402" y="808"/>
                    </a:lnTo>
                    <a:lnTo>
                      <a:pt x="1429" y="879"/>
                    </a:lnTo>
                    <a:lnTo>
                      <a:pt x="1456" y="950"/>
                    </a:lnTo>
                    <a:lnTo>
                      <a:pt x="1483" y="1022"/>
                    </a:lnTo>
                    <a:lnTo>
                      <a:pt x="1321" y="963"/>
                    </a:lnTo>
                    <a:lnTo>
                      <a:pt x="1159" y="904"/>
                    </a:lnTo>
                    <a:lnTo>
                      <a:pt x="999" y="845"/>
                    </a:lnTo>
                    <a:lnTo>
                      <a:pt x="838" y="787"/>
                    </a:lnTo>
                    <a:lnTo>
                      <a:pt x="679" y="729"/>
                    </a:lnTo>
                    <a:lnTo>
                      <a:pt x="520" y="671"/>
                    </a:lnTo>
                    <a:lnTo>
                      <a:pt x="362" y="613"/>
                    </a:lnTo>
                    <a:lnTo>
                      <a:pt x="203" y="557"/>
                    </a:lnTo>
                    <a:lnTo>
                      <a:pt x="177" y="486"/>
                    </a:lnTo>
                    <a:lnTo>
                      <a:pt x="152" y="416"/>
                    </a:lnTo>
                    <a:lnTo>
                      <a:pt x="126" y="347"/>
                    </a:lnTo>
                    <a:lnTo>
                      <a:pt x="101" y="278"/>
                    </a:lnTo>
                    <a:lnTo>
                      <a:pt x="75" y="208"/>
                    </a:lnTo>
                    <a:lnTo>
                      <a:pt x="50" y="139"/>
                    </a:lnTo>
                    <a:lnTo>
                      <a:pt x="25" y="70"/>
                    </a:lnTo>
                    <a:lnTo>
                      <a:pt x="0" y="0"/>
                    </a:lnTo>
                    <a:lnTo>
                      <a:pt x="156" y="56"/>
                    </a:lnTo>
                    <a:lnTo>
                      <a:pt x="312" y="112"/>
                    </a:lnTo>
                    <a:lnTo>
                      <a:pt x="470" y="168"/>
                    </a:lnTo>
                    <a:lnTo>
                      <a:pt x="629" y="223"/>
                    </a:lnTo>
                    <a:lnTo>
                      <a:pt x="787" y="280"/>
                    </a:lnTo>
                    <a:lnTo>
                      <a:pt x="947" y="336"/>
                    </a:lnTo>
                    <a:lnTo>
                      <a:pt x="1108" y="393"/>
                    </a:lnTo>
                    <a:lnTo>
                      <a:pt x="1269" y="44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645800" y="3897360"/>
                <a:ext cx="553680" cy="280800"/>
              </a:xfrm>
              <a:custGeom>
                <a:avLst/>
                <a:gdLst/>
                <a:ahLst/>
                <a:rect l="l" t="t" r="r" b="b"/>
                <a:pathLst>
                  <a:path w="1483" h="1022">
                    <a:moveTo>
                      <a:pt x="1269" y="449"/>
                    </a:moveTo>
                    <a:lnTo>
                      <a:pt x="1295" y="521"/>
                    </a:lnTo>
                    <a:lnTo>
                      <a:pt x="1322" y="592"/>
                    </a:lnTo>
                    <a:lnTo>
                      <a:pt x="1348" y="664"/>
                    </a:lnTo>
                    <a:lnTo>
                      <a:pt x="1376" y="735"/>
                    </a:lnTo>
                    <a:lnTo>
                      <a:pt x="1402" y="808"/>
                    </a:lnTo>
                    <a:lnTo>
                      <a:pt x="1429" y="879"/>
                    </a:lnTo>
                    <a:lnTo>
                      <a:pt x="1456" y="950"/>
                    </a:lnTo>
                    <a:lnTo>
                      <a:pt x="1483" y="1022"/>
                    </a:lnTo>
                    <a:lnTo>
                      <a:pt x="1321" y="963"/>
                    </a:lnTo>
                    <a:lnTo>
                      <a:pt x="1159" y="904"/>
                    </a:lnTo>
                    <a:lnTo>
                      <a:pt x="999" y="845"/>
                    </a:lnTo>
                    <a:lnTo>
                      <a:pt x="838" y="787"/>
                    </a:lnTo>
                    <a:lnTo>
                      <a:pt x="679" y="729"/>
                    </a:lnTo>
                    <a:lnTo>
                      <a:pt x="520" y="671"/>
                    </a:lnTo>
                    <a:lnTo>
                      <a:pt x="362" y="613"/>
                    </a:lnTo>
                    <a:lnTo>
                      <a:pt x="203" y="557"/>
                    </a:lnTo>
                    <a:lnTo>
                      <a:pt x="177" y="486"/>
                    </a:lnTo>
                    <a:lnTo>
                      <a:pt x="152" y="416"/>
                    </a:lnTo>
                    <a:lnTo>
                      <a:pt x="126" y="347"/>
                    </a:lnTo>
                    <a:lnTo>
                      <a:pt x="101" y="278"/>
                    </a:lnTo>
                    <a:lnTo>
                      <a:pt x="75" y="208"/>
                    </a:lnTo>
                    <a:lnTo>
                      <a:pt x="50" y="139"/>
                    </a:lnTo>
                    <a:lnTo>
                      <a:pt x="25" y="70"/>
                    </a:lnTo>
                    <a:lnTo>
                      <a:pt x="0" y="0"/>
                    </a:lnTo>
                    <a:lnTo>
                      <a:pt x="156" y="56"/>
                    </a:lnTo>
                    <a:lnTo>
                      <a:pt x="312" y="112"/>
                    </a:lnTo>
                    <a:lnTo>
                      <a:pt x="470" y="168"/>
                    </a:lnTo>
                    <a:lnTo>
                      <a:pt x="629" y="223"/>
                    </a:lnTo>
                    <a:lnTo>
                      <a:pt x="787" y="280"/>
                    </a:lnTo>
                    <a:lnTo>
                      <a:pt x="947" y="336"/>
                    </a:lnTo>
                    <a:lnTo>
                      <a:pt x="1108" y="393"/>
                    </a:lnTo>
                    <a:lnTo>
                      <a:pt x="1269" y="449"/>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645800" y="1866600"/>
                <a:ext cx="846000" cy="2154240"/>
              </a:xfrm>
              <a:custGeom>
                <a:avLst/>
                <a:gdLst/>
                <a:ahLst/>
                <a:rect l="l" t="t" r="r" b="b"/>
                <a:pathLst>
                  <a:path w="2269" h="7854">
                    <a:moveTo>
                      <a:pt x="994" y="0"/>
                    </a:moveTo>
                    <a:lnTo>
                      <a:pt x="1151" y="34"/>
                    </a:lnTo>
                    <a:lnTo>
                      <a:pt x="1309" y="67"/>
                    </a:lnTo>
                    <a:lnTo>
                      <a:pt x="1467" y="101"/>
                    </a:lnTo>
                    <a:lnTo>
                      <a:pt x="1627" y="135"/>
                    </a:lnTo>
                    <a:lnTo>
                      <a:pt x="1786" y="170"/>
                    </a:lnTo>
                    <a:lnTo>
                      <a:pt x="1947" y="204"/>
                    </a:lnTo>
                    <a:lnTo>
                      <a:pt x="2107" y="239"/>
                    </a:lnTo>
                    <a:lnTo>
                      <a:pt x="2269" y="274"/>
                    </a:lnTo>
                    <a:lnTo>
                      <a:pt x="2238" y="508"/>
                    </a:lnTo>
                    <a:lnTo>
                      <a:pt x="2207" y="742"/>
                    </a:lnTo>
                    <a:lnTo>
                      <a:pt x="2176" y="977"/>
                    </a:lnTo>
                    <a:lnTo>
                      <a:pt x="2145" y="1212"/>
                    </a:lnTo>
                    <a:lnTo>
                      <a:pt x="2115" y="1447"/>
                    </a:lnTo>
                    <a:lnTo>
                      <a:pt x="2083" y="1682"/>
                    </a:lnTo>
                    <a:lnTo>
                      <a:pt x="2052" y="1918"/>
                    </a:lnTo>
                    <a:lnTo>
                      <a:pt x="2021" y="2153"/>
                    </a:lnTo>
                    <a:lnTo>
                      <a:pt x="1990" y="2389"/>
                    </a:lnTo>
                    <a:lnTo>
                      <a:pt x="1958" y="2624"/>
                    </a:lnTo>
                    <a:lnTo>
                      <a:pt x="1927" y="2860"/>
                    </a:lnTo>
                    <a:lnTo>
                      <a:pt x="1896" y="3097"/>
                    </a:lnTo>
                    <a:lnTo>
                      <a:pt x="1865" y="3333"/>
                    </a:lnTo>
                    <a:lnTo>
                      <a:pt x="1833" y="3571"/>
                    </a:lnTo>
                    <a:lnTo>
                      <a:pt x="1802" y="3807"/>
                    </a:lnTo>
                    <a:lnTo>
                      <a:pt x="1771" y="4043"/>
                    </a:lnTo>
                    <a:lnTo>
                      <a:pt x="1740" y="4281"/>
                    </a:lnTo>
                    <a:lnTo>
                      <a:pt x="1708" y="4517"/>
                    </a:lnTo>
                    <a:lnTo>
                      <a:pt x="1677" y="4755"/>
                    </a:lnTo>
                    <a:lnTo>
                      <a:pt x="1646" y="4994"/>
                    </a:lnTo>
                    <a:lnTo>
                      <a:pt x="1615" y="5231"/>
                    </a:lnTo>
                    <a:lnTo>
                      <a:pt x="1583" y="5469"/>
                    </a:lnTo>
                    <a:lnTo>
                      <a:pt x="1552" y="5706"/>
                    </a:lnTo>
                    <a:lnTo>
                      <a:pt x="1521" y="5944"/>
                    </a:lnTo>
                    <a:lnTo>
                      <a:pt x="1490" y="6183"/>
                    </a:lnTo>
                    <a:lnTo>
                      <a:pt x="1458" y="6422"/>
                    </a:lnTo>
                    <a:lnTo>
                      <a:pt x="1426" y="6660"/>
                    </a:lnTo>
                    <a:lnTo>
                      <a:pt x="1395" y="6899"/>
                    </a:lnTo>
                    <a:lnTo>
                      <a:pt x="1363" y="7138"/>
                    </a:lnTo>
                    <a:lnTo>
                      <a:pt x="1331" y="7377"/>
                    </a:lnTo>
                    <a:lnTo>
                      <a:pt x="1300" y="7616"/>
                    </a:lnTo>
                    <a:lnTo>
                      <a:pt x="1269" y="7854"/>
                    </a:lnTo>
                    <a:lnTo>
                      <a:pt x="1108" y="7798"/>
                    </a:lnTo>
                    <a:lnTo>
                      <a:pt x="947" y="7741"/>
                    </a:lnTo>
                    <a:lnTo>
                      <a:pt x="787" y="7685"/>
                    </a:lnTo>
                    <a:lnTo>
                      <a:pt x="629" y="7628"/>
                    </a:lnTo>
                    <a:lnTo>
                      <a:pt x="470" y="7573"/>
                    </a:lnTo>
                    <a:lnTo>
                      <a:pt x="312" y="7517"/>
                    </a:lnTo>
                    <a:lnTo>
                      <a:pt x="156" y="7461"/>
                    </a:lnTo>
                    <a:lnTo>
                      <a:pt x="0" y="7405"/>
                    </a:lnTo>
                    <a:lnTo>
                      <a:pt x="31" y="7172"/>
                    </a:lnTo>
                    <a:lnTo>
                      <a:pt x="62" y="6939"/>
                    </a:lnTo>
                    <a:lnTo>
                      <a:pt x="93" y="6706"/>
                    </a:lnTo>
                    <a:lnTo>
                      <a:pt x="125" y="6472"/>
                    </a:lnTo>
                    <a:lnTo>
                      <a:pt x="156" y="6238"/>
                    </a:lnTo>
                    <a:lnTo>
                      <a:pt x="186" y="6006"/>
                    </a:lnTo>
                    <a:lnTo>
                      <a:pt x="217" y="5772"/>
                    </a:lnTo>
                    <a:lnTo>
                      <a:pt x="249" y="5539"/>
                    </a:lnTo>
                    <a:lnTo>
                      <a:pt x="280" y="5306"/>
                    </a:lnTo>
                    <a:lnTo>
                      <a:pt x="311" y="5075"/>
                    </a:lnTo>
                    <a:lnTo>
                      <a:pt x="342" y="4842"/>
                    </a:lnTo>
                    <a:lnTo>
                      <a:pt x="374" y="4611"/>
                    </a:lnTo>
                    <a:lnTo>
                      <a:pt x="405" y="4378"/>
                    </a:lnTo>
                    <a:lnTo>
                      <a:pt x="437" y="4147"/>
                    </a:lnTo>
                    <a:lnTo>
                      <a:pt x="468" y="3915"/>
                    </a:lnTo>
                    <a:lnTo>
                      <a:pt x="500" y="3683"/>
                    </a:lnTo>
                    <a:lnTo>
                      <a:pt x="531" y="3453"/>
                    </a:lnTo>
                    <a:lnTo>
                      <a:pt x="561" y="3221"/>
                    </a:lnTo>
                    <a:lnTo>
                      <a:pt x="592" y="2990"/>
                    </a:lnTo>
                    <a:lnTo>
                      <a:pt x="624" y="2760"/>
                    </a:lnTo>
                    <a:lnTo>
                      <a:pt x="655" y="2528"/>
                    </a:lnTo>
                    <a:lnTo>
                      <a:pt x="685" y="2297"/>
                    </a:lnTo>
                    <a:lnTo>
                      <a:pt x="716" y="2067"/>
                    </a:lnTo>
                    <a:lnTo>
                      <a:pt x="748" y="1835"/>
                    </a:lnTo>
                    <a:lnTo>
                      <a:pt x="778" y="1606"/>
                    </a:lnTo>
                    <a:lnTo>
                      <a:pt x="809" y="1376"/>
                    </a:lnTo>
                    <a:lnTo>
                      <a:pt x="840" y="1147"/>
                    </a:lnTo>
                    <a:lnTo>
                      <a:pt x="871" y="917"/>
                    </a:lnTo>
                    <a:lnTo>
                      <a:pt x="902" y="688"/>
                    </a:lnTo>
                    <a:lnTo>
                      <a:pt x="933" y="458"/>
                    </a:lnTo>
                    <a:lnTo>
                      <a:pt x="963" y="229"/>
                    </a:lnTo>
                    <a:lnTo>
                      <a:pt x="994" y="0"/>
                    </a:lnTo>
                    <a:close/>
                    <a:moveTo>
                      <a:pt x="1133" y="338"/>
                    </a:moveTo>
                    <a:lnTo>
                      <a:pt x="1246" y="363"/>
                    </a:lnTo>
                    <a:lnTo>
                      <a:pt x="1359" y="387"/>
                    </a:lnTo>
                    <a:lnTo>
                      <a:pt x="1472" y="412"/>
                    </a:lnTo>
                    <a:lnTo>
                      <a:pt x="1586" y="438"/>
                    </a:lnTo>
                    <a:lnTo>
                      <a:pt x="1700" y="463"/>
                    </a:lnTo>
                    <a:lnTo>
                      <a:pt x="1814" y="487"/>
                    </a:lnTo>
                    <a:lnTo>
                      <a:pt x="1929" y="513"/>
                    </a:lnTo>
                    <a:lnTo>
                      <a:pt x="2045" y="538"/>
                    </a:lnTo>
                    <a:lnTo>
                      <a:pt x="2016" y="753"/>
                    </a:lnTo>
                    <a:lnTo>
                      <a:pt x="1987" y="968"/>
                    </a:lnTo>
                    <a:lnTo>
                      <a:pt x="1958" y="1184"/>
                    </a:lnTo>
                    <a:lnTo>
                      <a:pt x="1930" y="1399"/>
                    </a:lnTo>
                    <a:lnTo>
                      <a:pt x="1902" y="1615"/>
                    </a:lnTo>
                    <a:lnTo>
                      <a:pt x="1873" y="1830"/>
                    </a:lnTo>
                    <a:lnTo>
                      <a:pt x="1844" y="2046"/>
                    </a:lnTo>
                    <a:lnTo>
                      <a:pt x="1816" y="2261"/>
                    </a:lnTo>
                    <a:lnTo>
                      <a:pt x="1788" y="2478"/>
                    </a:lnTo>
                    <a:lnTo>
                      <a:pt x="1759" y="2693"/>
                    </a:lnTo>
                    <a:lnTo>
                      <a:pt x="1730" y="2910"/>
                    </a:lnTo>
                    <a:lnTo>
                      <a:pt x="1701" y="3126"/>
                    </a:lnTo>
                    <a:lnTo>
                      <a:pt x="1673" y="3343"/>
                    </a:lnTo>
                    <a:lnTo>
                      <a:pt x="1644" y="3560"/>
                    </a:lnTo>
                    <a:lnTo>
                      <a:pt x="1616" y="3775"/>
                    </a:lnTo>
                    <a:lnTo>
                      <a:pt x="1586" y="3992"/>
                    </a:lnTo>
                    <a:lnTo>
                      <a:pt x="1557" y="4208"/>
                    </a:lnTo>
                    <a:lnTo>
                      <a:pt x="1529" y="4426"/>
                    </a:lnTo>
                    <a:lnTo>
                      <a:pt x="1500" y="4643"/>
                    </a:lnTo>
                    <a:lnTo>
                      <a:pt x="1470" y="4861"/>
                    </a:lnTo>
                    <a:lnTo>
                      <a:pt x="1441" y="5079"/>
                    </a:lnTo>
                    <a:lnTo>
                      <a:pt x="1412" y="5295"/>
                    </a:lnTo>
                    <a:lnTo>
                      <a:pt x="1383" y="5513"/>
                    </a:lnTo>
                    <a:lnTo>
                      <a:pt x="1354" y="5731"/>
                    </a:lnTo>
                    <a:lnTo>
                      <a:pt x="1325" y="5949"/>
                    </a:lnTo>
                    <a:lnTo>
                      <a:pt x="1297" y="6168"/>
                    </a:lnTo>
                    <a:lnTo>
                      <a:pt x="1268" y="6386"/>
                    </a:lnTo>
                    <a:lnTo>
                      <a:pt x="1240" y="6604"/>
                    </a:lnTo>
                    <a:lnTo>
                      <a:pt x="1210" y="6823"/>
                    </a:lnTo>
                    <a:lnTo>
                      <a:pt x="1181" y="7041"/>
                    </a:lnTo>
                    <a:lnTo>
                      <a:pt x="1153" y="7260"/>
                    </a:lnTo>
                    <a:lnTo>
                      <a:pt x="1124" y="7479"/>
                    </a:lnTo>
                    <a:lnTo>
                      <a:pt x="1010" y="7438"/>
                    </a:lnTo>
                    <a:lnTo>
                      <a:pt x="896" y="7399"/>
                    </a:lnTo>
                    <a:lnTo>
                      <a:pt x="782" y="7360"/>
                    </a:lnTo>
                    <a:lnTo>
                      <a:pt x="669" y="7319"/>
                    </a:lnTo>
                    <a:lnTo>
                      <a:pt x="556" y="7280"/>
                    </a:lnTo>
                    <a:lnTo>
                      <a:pt x="443" y="7241"/>
                    </a:lnTo>
                    <a:lnTo>
                      <a:pt x="330" y="7202"/>
                    </a:lnTo>
                    <a:lnTo>
                      <a:pt x="219" y="7163"/>
                    </a:lnTo>
                    <a:lnTo>
                      <a:pt x="248" y="6948"/>
                    </a:lnTo>
                    <a:lnTo>
                      <a:pt x="276" y="6733"/>
                    </a:lnTo>
                    <a:lnTo>
                      <a:pt x="304" y="6518"/>
                    </a:lnTo>
                    <a:lnTo>
                      <a:pt x="333" y="6302"/>
                    </a:lnTo>
                    <a:lnTo>
                      <a:pt x="362" y="6088"/>
                    </a:lnTo>
                    <a:lnTo>
                      <a:pt x="391" y="5873"/>
                    </a:lnTo>
                    <a:lnTo>
                      <a:pt x="419" y="5658"/>
                    </a:lnTo>
                    <a:lnTo>
                      <a:pt x="448" y="5444"/>
                    </a:lnTo>
                    <a:lnTo>
                      <a:pt x="477" y="5230"/>
                    </a:lnTo>
                    <a:lnTo>
                      <a:pt x="505" y="5016"/>
                    </a:lnTo>
                    <a:lnTo>
                      <a:pt x="534" y="4803"/>
                    </a:lnTo>
                    <a:lnTo>
                      <a:pt x="562" y="4589"/>
                    </a:lnTo>
                    <a:lnTo>
                      <a:pt x="591" y="4375"/>
                    </a:lnTo>
                    <a:lnTo>
                      <a:pt x="620" y="4162"/>
                    </a:lnTo>
                    <a:lnTo>
                      <a:pt x="649" y="3947"/>
                    </a:lnTo>
                    <a:lnTo>
                      <a:pt x="677" y="3734"/>
                    </a:lnTo>
                    <a:lnTo>
                      <a:pt x="705" y="3521"/>
                    </a:lnTo>
                    <a:lnTo>
                      <a:pt x="735" y="3309"/>
                    </a:lnTo>
                    <a:lnTo>
                      <a:pt x="763" y="3096"/>
                    </a:lnTo>
                    <a:lnTo>
                      <a:pt x="791" y="2883"/>
                    </a:lnTo>
                    <a:lnTo>
                      <a:pt x="819" y="2670"/>
                    </a:lnTo>
                    <a:lnTo>
                      <a:pt x="847" y="2457"/>
                    </a:lnTo>
                    <a:lnTo>
                      <a:pt x="876" y="2244"/>
                    </a:lnTo>
                    <a:lnTo>
                      <a:pt x="904" y="2031"/>
                    </a:lnTo>
                    <a:lnTo>
                      <a:pt x="932" y="1819"/>
                    </a:lnTo>
                    <a:lnTo>
                      <a:pt x="961" y="1607"/>
                    </a:lnTo>
                    <a:lnTo>
                      <a:pt x="990" y="1396"/>
                    </a:lnTo>
                    <a:lnTo>
                      <a:pt x="1018" y="1184"/>
                    </a:lnTo>
                    <a:lnTo>
                      <a:pt x="1047" y="972"/>
                    </a:lnTo>
                    <a:lnTo>
                      <a:pt x="1075" y="760"/>
                    </a:lnTo>
                    <a:lnTo>
                      <a:pt x="1104" y="549"/>
                    </a:lnTo>
                    <a:lnTo>
                      <a:pt x="1133" y="338"/>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645800" y="1866600"/>
                <a:ext cx="846000" cy="2154240"/>
              </a:xfrm>
              <a:custGeom>
                <a:avLst/>
                <a:gdLst/>
                <a:ahLst/>
                <a:rect l="l" t="t" r="r" b="b"/>
                <a:pathLst>
                  <a:path w="2269" h="7854">
                    <a:moveTo>
                      <a:pt x="994" y="0"/>
                    </a:moveTo>
                    <a:lnTo>
                      <a:pt x="1151" y="34"/>
                    </a:lnTo>
                    <a:lnTo>
                      <a:pt x="1309" y="67"/>
                    </a:lnTo>
                    <a:lnTo>
                      <a:pt x="1467" y="101"/>
                    </a:lnTo>
                    <a:lnTo>
                      <a:pt x="1627" y="135"/>
                    </a:lnTo>
                    <a:lnTo>
                      <a:pt x="1786" y="170"/>
                    </a:lnTo>
                    <a:lnTo>
                      <a:pt x="1947" y="204"/>
                    </a:lnTo>
                    <a:lnTo>
                      <a:pt x="2107" y="239"/>
                    </a:lnTo>
                    <a:lnTo>
                      <a:pt x="2269" y="274"/>
                    </a:lnTo>
                    <a:lnTo>
                      <a:pt x="2238" y="508"/>
                    </a:lnTo>
                    <a:lnTo>
                      <a:pt x="2207" y="742"/>
                    </a:lnTo>
                    <a:lnTo>
                      <a:pt x="2176" y="977"/>
                    </a:lnTo>
                    <a:lnTo>
                      <a:pt x="2145" y="1212"/>
                    </a:lnTo>
                    <a:lnTo>
                      <a:pt x="2115" y="1447"/>
                    </a:lnTo>
                    <a:lnTo>
                      <a:pt x="2083" y="1682"/>
                    </a:lnTo>
                    <a:lnTo>
                      <a:pt x="2052" y="1918"/>
                    </a:lnTo>
                    <a:lnTo>
                      <a:pt x="2021" y="2153"/>
                    </a:lnTo>
                    <a:lnTo>
                      <a:pt x="1990" y="2389"/>
                    </a:lnTo>
                    <a:lnTo>
                      <a:pt x="1958" y="2624"/>
                    </a:lnTo>
                    <a:lnTo>
                      <a:pt x="1927" y="2860"/>
                    </a:lnTo>
                    <a:lnTo>
                      <a:pt x="1896" y="3097"/>
                    </a:lnTo>
                    <a:lnTo>
                      <a:pt x="1865" y="3333"/>
                    </a:lnTo>
                    <a:lnTo>
                      <a:pt x="1833" y="3571"/>
                    </a:lnTo>
                    <a:lnTo>
                      <a:pt x="1802" y="3807"/>
                    </a:lnTo>
                    <a:lnTo>
                      <a:pt x="1771" y="4043"/>
                    </a:lnTo>
                    <a:lnTo>
                      <a:pt x="1740" y="4281"/>
                    </a:lnTo>
                    <a:lnTo>
                      <a:pt x="1708" y="4517"/>
                    </a:lnTo>
                    <a:lnTo>
                      <a:pt x="1677" y="4755"/>
                    </a:lnTo>
                    <a:lnTo>
                      <a:pt x="1646" y="4994"/>
                    </a:lnTo>
                    <a:lnTo>
                      <a:pt x="1615" y="5231"/>
                    </a:lnTo>
                    <a:lnTo>
                      <a:pt x="1583" y="5469"/>
                    </a:lnTo>
                    <a:lnTo>
                      <a:pt x="1552" y="5706"/>
                    </a:lnTo>
                    <a:lnTo>
                      <a:pt x="1521" y="5944"/>
                    </a:lnTo>
                    <a:lnTo>
                      <a:pt x="1490" y="6183"/>
                    </a:lnTo>
                    <a:lnTo>
                      <a:pt x="1458" y="6422"/>
                    </a:lnTo>
                    <a:lnTo>
                      <a:pt x="1426" y="6660"/>
                    </a:lnTo>
                    <a:lnTo>
                      <a:pt x="1395" y="6899"/>
                    </a:lnTo>
                    <a:lnTo>
                      <a:pt x="1363" y="7138"/>
                    </a:lnTo>
                    <a:lnTo>
                      <a:pt x="1331" y="7377"/>
                    </a:lnTo>
                    <a:lnTo>
                      <a:pt x="1300" y="7616"/>
                    </a:lnTo>
                    <a:lnTo>
                      <a:pt x="1269" y="7854"/>
                    </a:lnTo>
                    <a:lnTo>
                      <a:pt x="1108" y="7798"/>
                    </a:lnTo>
                    <a:lnTo>
                      <a:pt x="947" y="7741"/>
                    </a:lnTo>
                    <a:lnTo>
                      <a:pt x="787" y="7685"/>
                    </a:lnTo>
                    <a:lnTo>
                      <a:pt x="629" y="7628"/>
                    </a:lnTo>
                    <a:lnTo>
                      <a:pt x="470" y="7573"/>
                    </a:lnTo>
                    <a:lnTo>
                      <a:pt x="312" y="7517"/>
                    </a:lnTo>
                    <a:lnTo>
                      <a:pt x="156" y="7461"/>
                    </a:lnTo>
                    <a:lnTo>
                      <a:pt x="0" y="7405"/>
                    </a:lnTo>
                    <a:lnTo>
                      <a:pt x="31" y="7172"/>
                    </a:lnTo>
                    <a:lnTo>
                      <a:pt x="62" y="6939"/>
                    </a:lnTo>
                    <a:lnTo>
                      <a:pt x="93" y="6706"/>
                    </a:lnTo>
                    <a:lnTo>
                      <a:pt x="125" y="6472"/>
                    </a:lnTo>
                    <a:lnTo>
                      <a:pt x="156" y="6238"/>
                    </a:lnTo>
                    <a:lnTo>
                      <a:pt x="186" y="6006"/>
                    </a:lnTo>
                    <a:lnTo>
                      <a:pt x="217" y="5772"/>
                    </a:lnTo>
                    <a:lnTo>
                      <a:pt x="249" y="5539"/>
                    </a:lnTo>
                    <a:lnTo>
                      <a:pt x="280" y="5306"/>
                    </a:lnTo>
                    <a:lnTo>
                      <a:pt x="311" y="5075"/>
                    </a:lnTo>
                    <a:lnTo>
                      <a:pt x="342" y="4842"/>
                    </a:lnTo>
                    <a:lnTo>
                      <a:pt x="374" y="4611"/>
                    </a:lnTo>
                    <a:lnTo>
                      <a:pt x="405" y="4378"/>
                    </a:lnTo>
                    <a:lnTo>
                      <a:pt x="437" y="4147"/>
                    </a:lnTo>
                    <a:lnTo>
                      <a:pt x="468" y="3915"/>
                    </a:lnTo>
                    <a:lnTo>
                      <a:pt x="500" y="3683"/>
                    </a:lnTo>
                    <a:lnTo>
                      <a:pt x="531" y="3453"/>
                    </a:lnTo>
                    <a:lnTo>
                      <a:pt x="561" y="3221"/>
                    </a:lnTo>
                    <a:lnTo>
                      <a:pt x="592" y="2990"/>
                    </a:lnTo>
                    <a:lnTo>
                      <a:pt x="624" y="2760"/>
                    </a:lnTo>
                    <a:lnTo>
                      <a:pt x="655" y="2528"/>
                    </a:lnTo>
                    <a:lnTo>
                      <a:pt x="685" y="2297"/>
                    </a:lnTo>
                    <a:lnTo>
                      <a:pt x="716" y="2067"/>
                    </a:lnTo>
                    <a:lnTo>
                      <a:pt x="748" y="1835"/>
                    </a:lnTo>
                    <a:lnTo>
                      <a:pt x="778" y="1606"/>
                    </a:lnTo>
                    <a:lnTo>
                      <a:pt x="809" y="1376"/>
                    </a:lnTo>
                    <a:lnTo>
                      <a:pt x="840" y="1147"/>
                    </a:lnTo>
                    <a:lnTo>
                      <a:pt x="871" y="917"/>
                    </a:lnTo>
                    <a:lnTo>
                      <a:pt x="902" y="688"/>
                    </a:lnTo>
                    <a:lnTo>
                      <a:pt x="933" y="458"/>
                    </a:lnTo>
                    <a:lnTo>
                      <a:pt x="963" y="229"/>
                    </a:lnTo>
                    <a:lnTo>
                      <a:pt x="994"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727880" y="1959840"/>
                <a:ext cx="680400" cy="1958040"/>
              </a:xfrm>
              <a:custGeom>
                <a:avLst/>
                <a:gdLst/>
                <a:ahLst/>
                <a:rect l="l" t="t" r="r" b="b"/>
                <a:pathLst>
                  <a:path w="1826" h="7141">
                    <a:moveTo>
                      <a:pt x="914" y="0"/>
                    </a:moveTo>
                    <a:lnTo>
                      <a:pt x="1027" y="25"/>
                    </a:lnTo>
                    <a:lnTo>
                      <a:pt x="1140" y="49"/>
                    </a:lnTo>
                    <a:lnTo>
                      <a:pt x="1253" y="74"/>
                    </a:lnTo>
                    <a:lnTo>
                      <a:pt x="1367" y="100"/>
                    </a:lnTo>
                    <a:lnTo>
                      <a:pt x="1481" y="125"/>
                    </a:lnTo>
                    <a:lnTo>
                      <a:pt x="1595" y="149"/>
                    </a:lnTo>
                    <a:lnTo>
                      <a:pt x="1710" y="175"/>
                    </a:lnTo>
                    <a:lnTo>
                      <a:pt x="1826" y="200"/>
                    </a:lnTo>
                    <a:lnTo>
                      <a:pt x="1797" y="415"/>
                    </a:lnTo>
                    <a:lnTo>
                      <a:pt x="1768" y="630"/>
                    </a:lnTo>
                    <a:lnTo>
                      <a:pt x="1739" y="846"/>
                    </a:lnTo>
                    <a:lnTo>
                      <a:pt x="1711" y="1061"/>
                    </a:lnTo>
                    <a:lnTo>
                      <a:pt x="1683" y="1277"/>
                    </a:lnTo>
                    <a:lnTo>
                      <a:pt x="1654" y="1492"/>
                    </a:lnTo>
                    <a:lnTo>
                      <a:pt x="1625" y="1708"/>
                    </a:lnTo>
                    <a:lnTo>
                      <a:pt x="1597" y="1923"/>
                    </a:lnTo>
                    <a:lnTo>
                      <a:pt x="1569" y="2140"/>
                    </a:lnTo>
                    <a:lnTo>
                      <a:pt x="1540" y="2355"/>
                    </a:lnTo>
                    <a:lnTo>
                      <a:pt x="1511" y="2572"/>
                    </a:lnTo>
                    <a:lnTo>
                      <a:pt x="1482" y="2788"/>
                    </a:lnTo>
                    <a:lnTo>
                      <a:pt x="1454" y="3005"/>
                    </a:lnTo>
                    <a:lnTo>
                      <a:pt x="1425" y="3222"/>
                    </a:lnTo>
                    <a:lnTo>
                      <a:pt x="1397" y="3437"/>
                    </a:lnTo>
                    <a:lnTo>
                      <a:pt x="1367" y="3654"/>
                    </a:lnTo>
                    <a:lnTo>
                      <a:pt x="1338" y="3870"/>
                    </a:lnTo>
                    <a:lnTo>
                      <a:pt x="1310" y="4088"/>
                    </a:lnTo>
                    <a:lnTo>
                      <a:pt x="1281" y="4305"/>
                    </a:lnTo>
                    <a:lnTo>
                      <a:pt x="1251" y="4523"/>
                    </a:lnTo>
                    <a:lnTo>
                      <a:pt x="1222" y="4741"/>
                    </a:lnTo>
                    <a:lnTo>
                      <a:pt x="1193" y="4957"/>
                    </a:lnTo>
                    <a:lnTo>
                      <a:pt x="1164" y="5175"/>
                    </a:lnTo>
                    <a:lnTo>
                      <a:pt x="1135" y="5393"/>
                    </a:lnTo>
                    <a:lnTo>
                      <a:pt x="1106" y="5611"/>
                    </a:lnTo>
                    <a:lnTo>
                      <a:pt x="1078" y="5830"/>
                    </a:lnTo>
                    <a:lnTo>
                      <a:pt x="1049" y="6048"/>
                    </a:lnTo>
                    <a:lnTo>
                      <a:pt x="1021" y="6266"/>
                    </a:lnTo>
                    <a:lnTo>
                      <a:pt x="991" y="6485"/>
                    </a:lnTo>
                    <a:lnTo>
                      <a:pt x="962" y="6703"/>
                    </a:lnTo>
                    <a:lnTo>
                      <a:pt x="934" y="6922"/>
                    </a:lnTo>
                    <a:lnTo>
                      <a:pt x="905" y="7141"/>
                    </a:lnTo>
                    <a:lnTo>
                      <a:pt x="791" y="7100"/>
                    </a:lnTo>
                    <a:lnTo>
                      <a:pt x="677" y="7061"/>
                    </a:lnTo>
                    <a:lnTo>
                      <a:pt x="563" y="7022"/>
                    </a:lnTo>
                    <a:lnTo>
                      <a:pt x="450" y="6981"/>
                    </a:lnTo>
                    <a:lnTo>
                      <a:pt x="337" y="6942"/>
                    </a:lnTo>
                    <a:lnTo>
                      <a:pt x="224" y="6903"/>
                    </a:lnTo>
                    <a:lnTo>
                      <a:pt x="111" y="6864"/>
                    </a:lnTo>
                    <a:lnTo>
                      <a:pt x="0" y="6825"/>
                    </a:lnTo>
                    <a:lnTo>
                      <a:pt x="29" y="6610"/>
                    </a:lnTo>
                    <a:lnTo>
                      <a:pt x="57" y="6395"/>
                    </a:lnTo>
                    <a:lnTo>
                      <a:pt x="85" y="6180"/>
                    </a:lnTo>
                    <a:lnTo>
                      <a:pt x="114" y="5964"/>
                    </a:lnTo>
                    <a:lnTo>
                      <a:pt x="143" y="5750"/>
                    </a:lnTo>
                    <a:lnTo>
                      <a:pt x="172" y="5535"/>
                    </a:lnTo>
                    <a:lnTo>
                      <a:pt x="200" y="5320"/>
                    </a:lnTo>
                    <a:lnTo>
                      <a:pt x="229" y="5106"/>
                    </a:lnTo>
                    <a:lnTo>
                      <a:pt x="258" y="4892"/>
                    </a:lnTo>
                    <a:lnTo>
                      <a:pt x="286" y="4678"/>
                    </a:lnTo>
                    <a:lnTo>
                      <a:pt x="315" y="4465"/>
                    </a:lnTo>
                    <a:lnTo>
                      <a:pt x="343" y="4251"/>
                    </a:lnTo>
                    <a:lnTo>
                      <a:pt x="372" y="4037"/>
                    </a:lnTo>
                    <a:lnTo>
                      <a:pt x="401" y="3824"/>
                    </a:lnTo>
                    <a:lnTo>
                      <a:pt x="430" y="3609"/>
                    </a:lnTo>
                    <a:lnTo>
                      <a:pt x="458" y="3396"/>
                    </a:lnTo>
                    <a:lnTo>
                      <a:pt x="486" y="3183"/>
                    </a:lnTo>
                    <a:lnTo>
                      <a:pt x="516" y="2971"/>
                    </a:lnTo>
                    <a:lnTo>
                      <a:pt x="544" y="2758"/>
                    </a:lnTo>
                    <a:lnTo>
                      <a:pt x="572" y="2545"/>
                    </a:lnTo>
                    <a:lnTo>
                      <a:pt x="600" y="2332"/>
                    </a:lnTo>
                    <a:lnTo>
                      <a:pt x="628" y="2119"/>
                    </a:lnTo>
                    <a:lnTo>
                      <a:pt x="657" y="1906"/>
                    </a:lnTo>
                    <a:lnTo>
                      <a:pt x="685" y="1693"/>
                    </a:lnTo>
                    <a:lnTo>
                      <a:pt x="713" y="1481"/>
                    </a:lnTo>
                    <a:lnTo>
                      <a:pt x="742" y="1269"/>
                    </a:lnTo>
                    <a:lnTo>
                      <a:pt x="771" y="1058"/>
                    </a:lnTo>
                    <a:lnTo>
                      <a:pt x="799" y="846"/>
                    </a:lnTo>
                    <a:lnTo>
                      <a:pt x="828" y="634"/>
                    </a:lnTo>
                    <a:lnTo>
                      <a:pt x="856" y="422"/>
                    </a:lnTo>
                    <a:lnTo>
                      <a:pt x="885" y="211"/>
                    </a:lnTo>
                    <a:lnTo>
                      <a:pt x="914"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411520" y="2138040"/>
                <a:ext cx="707400" cy="2030760"/>
              </a:xfrm>
              <a:custGeom>
                <a:avLst/>
                <a:gdLst/>
                <a:ahLst/>
                <a:rect l="l" t="t" r="r" b="b"/>
                <a:pathLst>
                  <a:path w="1894" h="7409">
                    <a:moveTo>
                      <a:pt x="923" y="0"/>
                    </a:moveTo>
                    <a:lnTo>
                      <a:pt x="1044" y="27"/>
                    </a:lnTo>
                    <a:lnTo>
                      <a:pt x="1164" y="54"/>
                    </a:lnTo>
                    <a:lnTo>
                      <a:pt x="1285" y="81"/>
                    </a:lnTo>
                    <a:lnTo>
                      <a:pt x="1407" y="108"/>
                    </a:lnTo>
                    <a:lnTo>
                      <a:pt x="1528" y="135"/>
                    </a:lnTo>
                    <a:lnTo>
                      <a:pt x="1650" y="162"/>
                    </a:lnTo>
                    <a:lnTo>
                      <a:pt x="1772" y="190"/>
                    </a:lnTo>
                    <a:lnTo>
                      <a:pt x="1894" y="217"/>
                    </a:lnTo>
                    <a:lnTo>
                      <a:pt x="1866" y="439"/>
                    </a:lnTo>
                    <a:lnTo>
                      <a:pt x="1837" y="662"/>
                    </a:lnTo>
                    <a:lnTo>
                      <a:pt x="1808" y="886"/>
                    </a:lnTo>
                    <a:lnTo>
                      <a:pt x="1779" y="1109"/>
                    </a:lnTo>
                    <a:lnTo>
                      <a:pt x="1750" y="1332"/>
                    </a:lnTo>
                    <a:lnTo>
                      <a:pt x="1721" y="1556"/>
                    </a:lnTo>
                    <a:lnTo>
                      <a:pt x="1691" y="1779"/>
                    </a:lnTo>
                    <a:lnTo>
                      <a:pt x="1663" y="2003"/>
                    </a:lnTo>
                    <a:lnTo>
                      <a:pt x="1634" y="2227"/>
                    </a:lnTo>
                    <a:lnTo>
                      <a:pt x="1606" y="2451"/>
                    </a:lnTo>
                    <a:lnTo>
                      <a:pt x="1577" y="2675"/>
                    </a:lnTo>
                    <a:lnTo>
                      <a:pt x="1548" y="2899"/>
                    </a:lnTo>
                    <a:lnTo>
                      <a:pt x="1520" y="3123"/>
                    </a:lnTo>
                    <a:lnTo>
                      <a:pt x="1491" y="3347"/>
                    </a:lnTo>
                    <a:lnTo>
                      <a:pt x="1463" y="3571"/>
                    </a:lnTo>
                    <a:lnTo>
                      <a:pt x="1433" y="3796"/>
                    </a:lnTo>
                    <a:lnTo>
                      <a:pt x="1404" y="4020"/>
                    </a:lnTo>
                    <a:lnTo>
                      <a:pt x="1375" y="4245"/>
                    </a:lnTo>
                    <a:lnTo>
                      <a:pt x="1347" y="4471"/>
                    </a:lnTo>
                    <a:lnTo>
                      <a:pt x="1316" y="4696"/>
                    </a:lnTo>
                    <a:lnTo>
                      <a:pt x="1287" y="4921"/>
                    </a:lnTo>
                    <a:lnTo>
                      <a:pt x="1258" y="5147"/>
                    </a:lnTo>
                    <a:lnTo>
                      <a:pt x="1229" y="5372"/>
                    </a:lnTo>
                    <a:lnTo>
                      <a:pt x="1201" y="5597"/>
                    </a:lnTo>
                    <a:lnTo>
                      <a:pt x="1171" y="5824"/>
                    </a:lnTo>
                    <a:lnTo>
                      <a:pt x="1142" y="6049"/>
                    </a:lnTo>
                    <a:lnTo>
                      <a:pt x="1113" y="6275"/>
                    </a:lnTo>
                    <a:lnTo>
                      <a:pt x="1084" y="6502"/>
                    </a:lnTo>
                    <a:lnTo>
                      <a:pt x="1054" y="6730"/>
                    </a:lnTo>
                    <a:lnTo>
                      <a:pt x="1025" y="6956"/>
                    </a:lnTo>
                    <a:lnTo>
                      <a:pt x="996" y="7183"/>
                    </a:lnTo>
                    <a:lnTo>
                      <a:pt x="967" y="7409"/>
                    </a:lnTo>
                    <a:lnTo>
                      <a:pt x="845" y="7366"/>
                    </a:lnTo>
                    <a:lnTo>
                      <a:pt x="723" y="7323"/>
                    </a:lnTo>
                    <a:lnTo>
                      <a:pt x="602" y="7280"/>
                    </a:lnTo>
                    <a:lnTo>
                      <a:pt x="480" y="7237"/>
                    </a:lnTo>
                    <a:lnTo>
                      <a:pt x="360" y="7195"/>
                    </a:lnTo>
                    <a:lnTo>
                      <a:pt x="239" y="7152"/>
                    </a:lnTo>
                    <a:lnTo>
                      <a:pt x="120" y="7110"/>
                    </a:lnTo>
                    <a:lnTo>
                      <a:pt x="0" y="7067"/>
                    </a:lnTo>
                    <a:lnTo>
                      <a:pt x="29" y="6845"/>
                    </a:lnTo>
                    <a:lnTo>
                      <a:pt x="57" y="6622"/>
                    </a:lnTo>
                    <a:lnTo>
                      <a:pt x="87" y="6400"/>
                    </a:lnTo>
                    <a:lnTo>
                      <a:pt x="115" y="6178"/>
                    </a:lnTo>
                    <a:lnTo>
                      <a:pt x="144" y="5955"/>
                    </a:lnTo>
                    <a:lnTo>
                      <a:pt x="172" y="5732"/>
                    </a:lnTo>
                    <a:lnTo>
                      <a:pt x="202" y="5511"/>
                    </a:lnTo>
                    <a:lnTo>
                      <a:pt x="231" y="5288"/>
                    </a:lnTo>
                    <a:lnTo>
                      <a:pt x="259" y="5067"/>
                    </a:lnTo>
                    <a:lnTo>
                      <a:pt x="288" y="4845"/>
                    </a:lnTo>
                    <a:lnTo>
                      <a:pt x="318" y="4623"/>
                    </a:lnTo>
                    <a:lnTo>
                      <a:pt x="347" y="4402"/>
                    </a:lnTo>
                    <a:lnTo>
                      <a:pt x="376" y="4180"/>
                    </a:lnTo>
                    <a:lnTo>
                      <a:pt x="405" y="3959"/>
                    </a:lnTo>
                    <a:lnTo>
                      <a:pt x="434" y="3737"/>
                    </a:lnTo>
                    <a:lnTo>
                      <a:pt x="463" y="3517"/>
                    </a:lnTo>
                    <a:lnTo>
                      <a:pt x="491" y="3296"/>
                    </a:lnTo>
                    <a:lnTo>
                      <a:pt x="520" y="3076"/>
                    </a:lnTo>
                    <a:lnTo>
                      <a:pt x="548" y="2856"/>
                    </a:lnTo>
                    <a:lnTo>
                      <a:pt x="578" y="2635"/>
                    </a:lnTo>
                    <a:lnTo>
                      <a:pt x="606" y="2415"/>
                    </a:lnTo>
                    <a:lnTo>
                      <a:pt x="635" y="2195"/>
                    </a:lnTo>
                    <a:lnTo>
                      <a:pt x="663" y="1974"/>
                    </a:lnTo>
                    <a:lnTo>
                      <a:pt x="693" y="1755"/>
                    </a:lnTo>
                    <a:lnTo>
                      <a:pt x="721" y="1535"/>
                    </a:lnTo>
                    <a:lnTo>
                      <a:pt x="750" y="1316"/>
                    </a:lnTo>
                    <a:lnTo>
                      <a:pt x="778" y="1097"/>
                    </a:lnTo>
                    <a:lnTo>
                      <a:pt x="807" y="878"/>
                    </a:lnTo>
                    <a:lnTo>
                      <a:pt x="837" y="659"/>
                    </a:lnTo>
                    <a:lnTo>
                      <a:pt x="866" y="438"/>
                    </a:lnTo>
                    <a:lnTo>
                      <a:pt x="895" y="219"/>
                    </a:lnTo>
                    <a:lnTo>
                      <a:pt x="923"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754600" y="2125800"/>
                <a:ext cx="379080" cy="83520"/>
              </a:xfrm>
              <a:custGeom>
                <a:avLst/>
                <a:gdLst/>
                <a:ahLst/>
                <a:rect l="l" t="t" r="r" b="b"/>
                <a:pathLst>
                  <a:path w="1017" h="302">
                    <a:moveTo>
                      <a:pt x="1012" y="265"/>
                    </a:moveTo>
                    <a:lnTo>
                      <a:pt x="984" y="216"/>
                    </a:lnTo>
                    <a:lnTo>
                      <a:pt x="861" y="188"/>
                    </a:lnTo>
                    <a:lnTo>
                      <a:pt x="739" y="161"/>
                    </a:lnTo>
                    <a:lnTo>
                      <a:pt x="617" y="134"/>
                    </a:lnTo>
                    <a:lnTo>
                      <a:pt x="496" y="107"/>
                    </a:lnTo>
                    <a:lnTo>
                      <a:pt x="375" y="80"/>
                    </a:lnTo>
                    <a:lnTo>
                      <a:pt x="254" y="53"/>
                    </a:lnTo>
                    <a:lnTo>
                      <a:pt x="133" y="27"/>
                    </a:lnTo>
                    <a:lnTo>
                      <a:pt x="13" y="0"/>
                    </a:lnTo>
                    <a:lnTo>
                      <a:pt x="0" y="85"/>
                    </a:lnTo>
                    <a:lnTo>
                      <a:pt x="120" y="112"/>
                    </a:lnTo>
                    <a:lnTo>
                      <a:pt x="241" y="139"/>
                    </a:lnTo>
                    <a:lnTo>
                      <a:pt x="362" y="165"/>
                    </a:lnTo>
                    <a:lnTo>
                      <a:pt x="483" y="192"/>
                    </a:lnTo>
                    <a:lnTo>
                      <a:pt x="605" y="219"/>
                    </a:lnTo>
                    <a:lnTo>
                      <a:pt x="727" y="246"/>
                    </a:lnTo>
                    <a:lnTo>
                      <a:pt x="849" y="273"/>
                    </a:lnTo>
                    <a:lnTo>
                      <a:pt x="971" y="302"/>
                    </a:lnTo>
                    <a:lnTo>
                      <a:pt x="943" y="252"/>
                    </a:lnTo>
                    <a:lnTo>
                      <a:pt x="1012" y="265"/>
                    </a:lnTo>
                    <a:lnTo>
                      <a:pt x="1017" y="224"/>
                    </a:lnTo>
                    <a:lnTo>
                      <a:pt x="984" y="216"/>
                    </a:lnTo>
                    <a:lnTo>
                      <a:pt x="1012" y="265"/>
                    </a:lnTo>
                    <a:close/>
                  </a:path>
                </a:pathLst>
              </a:custGeom>
              <a:solidFill>
                <a:srgbClr val="1f1a1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4" name=""/>
              <p:cNvSpPr/>
              <p:nvPr/>
            </p:nvSpPr>
            <p:spPr>
              <a:xfrm>
                <a:off x="6019200" y="2195640"/>
                <a:ext cx="113040" cy="492480"/>
              </a:xfrm>
              <a:custGeom>
                <a:avLst/>
                <a:gdLst/>
                <a:ahLst/>
                <a:rect l="l" t="t" r="r" b="b"/>
                <a:pathLst>
                  <a:path w="301" h="1799">
                    <a:moveTo>
                      <a:pt x="69" y="1799"/>
                    </a:moveTo>
                    <a:lnTo>
                      <a:pt x="69" y="1799"/>
                    </a:lnTo>
                    <a:lnTo>
                      <a:pt x="99" y="1576"/>
                    </a:lnTo>
                    <a:lnTo>
                      <a:pt x="128" y="1352"/>
                    </a:lnTo>
                    <a:lnTo>
                      <a:pt x="157" y="1129"/>
                    </a:lnTo>
                    <a:lnTo>
                      <a:pt x="186" y="906"/>
                    </a:lnTo>
                    <a:lnTo>
                      <a:pt x="215" y="682"/>
                    </a:lnTo>
                    <a:lnTo>
                      <a:pt x="244" y="460"/>
                    </a:lnTo>
                    <a:lnTo>
                      <a:pt x="273" y="237"/>
                    </a:lnTo>
                    <a:lnTo>
                      <a:pt x="301" y="13"/>
                    </a:lnTo>
                    <a:lnTo>
                      <a:pt x="232" y="0"/>
                    </a:lnTo>
                    <a:lnTo>
                      <a:pt x="203" y="223"/>
                    </a:lnTo>
                    <a:lnTo>
                      <a:pt x="174" y="446"/>
                    </a:lnTo>
                    <a:lnTo>
                      <a:pt x="145" y="669"/>
                    </a:lnTo>
                    <a:lnTo>
                      <a:pt x="116" y="893"/>
                    </a:lnTo>
                    <a:lnTo>
                      <a:pt x="87" y="1116"/>
                    </a:lnTo>
                    <a:lnTo>
                      <a:pt x="57" y="1338"/>
                    </a:lnTo>
                    <a:lnTo>
                      <a:pt x="29" y="1563"/>
                    </a:lnTo>
                    <a:lnTo>
                      <a:pt x="0" y="1785"/>
                    </a:lnTo>
                    <a:lnTo>
                      <a:pt x="0" y="1785"/>
                    </a:lnTo>
                    <a:lnTo>
                      <a:pt x="69" y="179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933880" y="2685240"/>
                <a:ext cx="111960" cy="495000"/>
              </a:xfrm>
              <a:custGeom>
                <a:avLst/>
                <a:gdLst/>
                <a:ahLst/>
                <a:rect l="l" t="t" r="r" b="b"/>
                <a:pathLst>
                  <a:path w="298" h="1807">
                    <a:moveTo>
                      <a:pt x="70" y="1807"/>
                    </a:moveTo>
                    <a:lnTo>
                      <a:pt x="70" y="1807"/>
                    </a:lnTo>
                    <a:lnTo>
                      <a:pt x="99" y="1583"/>
                    </a:lnTo>
                    <a:lnTo>
                      <a:pt x="127" y="1359"/>
                    </a:lnTo>
                    <a:lnTo>
                      <a:pt x="155" y="1134"/>
                    </a:lnTo>
                    <a:lnTo>
                      <a:pt x="185" y="910"/>
                    </a:lnTo>
                    <a:lnTo>
                      <a:pt x="213" y="686"/>
                    </a:lnTo>
                    <a:lnTo>
                      <a:pt x="241" y="462"/>
                    </a:lnTo>
                    <a:lnTo>
                      <a:pt x="270" y="238"/>
                    </a:lnTo>
                    <a:lnTo>
                      <a:pt x="298" y="14"/>
                    </a:lnTo>
                    <a:lnTo>
                      <a:pt x="229" y="0"/>
                    </a:lnTo>
                    <a:lnTo>
                      <a:pt x="200" y="224"/>
                    </a:lnTo>
                    <a:lnTo>
                      <a:pt x="171" y="448"/>
                    </a:lnTo>
                    <a:lnTo>
                      <a:pt x="143" y="672"/>
                    </a:lnTo>
                    <a:lnTo>
                      <a:pt x="114" y="896"/>
                    </a:lnTo>
                    <a:lnTo>
                      <a:pt x="86" y="1122"/>
                    </a:lnTo>
                    <a:lnTo>
                      <a:pt x="58" y="1346"/>
                    </a:lnTo>
                    <a:lnTo>
                      <a:pt x="28" y="1570"/>
                    </a:lnTo>
                    <a:lnTo>
                      <a:pt x="0" y="1794"/>
                    </a:lnTo>
                    <a:lnTo>
                      <a:pt x="0" y="1794"/>
                    </a:lnTo>
                    <a:lnTo>
                      <a:pt x="70" y="18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847480" y="3175920"/>
                <a:ext cx="111600" cy="497520"/>
              </a:xfrm>
              <a:custGeom>
                <a:avLst/>
                <a:gdLst/>
                <a:ahLst/>
                <a:rect l="l" t="t" r="r" b="b"/>
                <a:pathLst>
                  <a:path w="304" h="1815">
                    <a:moveTo>
                      <a:pt x="70" y="1815"/>
                    </a:moveTo>
                    <a:lnTo>
                      <a:pt x="70" y="1815"/>
                    </a:lnTo>
                    <a:lnTo>
                      <a:pt x="99" y="1590"/>
                    </a:lnTo>
                    <a:lnTo>
                      <a:pt x="128" y="1365"/>
                    </a:lnTo>
                    <a:lnTo>
                      <a:pt x="158" y="1140"/>
                    </a:lnTo>
                    <a:lnTo>
                      <a:pt x="187" y="914"/>
                    </a:lnTo>
                    <a:lnTo>
                      <a:pt x="216" y="689"/>
                    </a:lnTo>
                    <a:lnTo>
                      <a:pt x="245" y="464"/>
                    </a:lnTo>
                    <a:lnTo>
                      <a:pt x="274" y="239"/>
                    </a:lnTo>
                    <a:lnTo>
                      <a:pt x="304" y="13"/>
                    </a:lnTo>
                    <a:lnTo>
                      <a:pt x="234" y="0"/>
                    </a:lnTo>
                    <a:lnTo>
                      <a:pt x="205" y="225"/>
                    </a:lnTo>
                    <a:lnTo>
                      <a:pt x="176" y="450"/>
                    </a:lnTo>
                    <a:lnTo>
                      <a:pt x="146" y="676"/>
                    </a:lnTo>
                    <a:lnTo>
                      <a:pt x="117" y="901"/>
                    </a:lnTo>
                    <a:lnTo>
                      <a:pt x="88" y="1126"/>
                    </a:lnTo>
                    <a:lnTo>
                      <a:pt x="59" y="1351"/>
                    </a:lnTo>
                    <a:lnTo>
                      <a:pt x="29" y="1577"/>
                    </a:lnTo>
                    <a:lnTo>
                      <a:pt x="0" y="1802"/>
                    </a:lnTo>
                    <a:lnTo>
                      <a:pt x="0" y="1802"/>
                    </a:lnTo>
                    <a:lnTo>
                      <a:pt x="70" y="18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59640" y="3670920"/>
                <a:ext cx="113040" cy="513000"/>
              </a:xfrm>
              <a:custGeom>
                <a:avLst/>
                <a:gdLst/>
                <a:ahLst/>
                <a:rect l="l" t="t" r="r" b="b"/>
                <a:pathLst>
                  <a:path w="303" h="1873">
                    <a:moveTo>
                      <a:pt x="26" y="1860"/>
                    </a:moveTo>
                    <a:lnTo>
                      <a:pt x="70" y="1824"/>
                    </a:lnTo>
                    <a:lnTo>
                      <a:pt x="99" y="1598"/>
                    </a:lnTo>
                    <a:lnTo>
                      <a:pt x="128" y="1371"/>
                    </a:lnTo>
                    <a:lnTo>
                      <a:pt x="158" y="1145"/>
                    </a:lnTo>
                    <a:lnTo>
                      <a:pt x="187" y="918"/>
                    </a:lnTo>
                    <a:lnTo>
                      <a:pt x="215" y="692"/>
                    </a:lnTo>
                    <a:lnTo>
                      <a:pt x="244" y="465"/>
                    </a:lnTo>
                    <a:lnTo>
                      <a:pt x="274" y="239"/>
                    </a:lnTo>
                    <a:lnTo>
                      <a:pt x="303" y="13"/>
                    </a:lnTo>
                    <a:lnTo>
                      <a:pt x="233" y="0"/>
                    </a:lnTo>
                    <a:lnTo>
                      <a:pt x="204" y="225"/>
                    </a:lnTo>
                    <a:lnTo>
                      <a:pt x="175" y="452"/>
                    </a:lnTo>
                    <a:lnTo>
                      <a:pt x="146" y="678"/>
                    </a:lnTo>
                    <a:lnTo>
                      <a:pt x="116" y="905"/>
                    </a:lnTo>
                    <a:lnTo>
                      <a:pt x="87" y="1131"/>
                    </a:lnTo>
                    <a:lnTo>
                      <a:pt x="58" y="1358"/>
                    </a:lnTo>
                    <a:lnTo>
                      <a:pt x="29" y="1585"/>
                    </a:lnTo>
                    <a:lnTo>
                      <a:pt x="0" y="1812"/>
                    </a:lnTo>
                    <a:lnTo>
                      <a:pt x="45" y="1776"/>
                    </a:lnTo>
                    <a:lnTo>
                      <a:pt x="26" y="1860"/>
                    </a:lnTo>
                    <a:lnTo>
                      <a:pt x="64" y="1873"/>
                    </a:lnTo>
                    <a:lnTo>
                      <a:pt x="70" y="1824"/>
                    </a:lnTo>
                    <a:lnTo>
                      <a:pt x="26" y="18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396760" y="4064760"/>
                <a:ext cx="379080" cy="116280"/>
              </a:xfrm>
              <a:custGeom>
                <a:avLst/>
                <a:gdLst/>
                <a:ahLst/>
                <a:rect l="l" t="t" r="r" b="b"/>
                <a:pathLst>
                  <a:path w="1016" h="425">
                    <a:moveTo>
                      <a:pt x="5" y="35"/>
                    </a:moveTo>
                    <a:lnTo>
                      <a:pt x="29" y="83"/>
                    </a:lnTo>
                    <a:lnTo>
                      <a:pt x="149" y="126"/>
                    </a:lnTo>
                    <a:lnTo>
                      <a:pt x="269" y="168"/>
                    </a:lnTo>
                    <a:lnTo>
                      <a:pt x="389" y="209"/>
                    </a:lnTo>
                    <a:lnTo>
                      <a:pt x="510" y="253"/>
                    </a:lnTo>
                    <a:lnTo>
                      <a:pt x="631" y="296"/>
                    </a:lnTo>
                    <a:lnTo>
                      <a:pt x="752" y="339"/>
                    </a:lnTo>
                    <a:lnTo>
                      <a:pt x="874" y="382"/>
                    </a:lnTo>
                    <a:lnTo>
                      <a:pt x="997" y="425"/>
                    </a:lnTo>
                    <a:lnTo>
                      <a:pt x="1016" y="341"/>
                    </a:lnTo>
                    <a:lnTo>
                      <a:pt x="894" y="298"/>
                    </a:lnTo>
                    <a:lnTo>
                      <a:pt x="772" y="255"/>
                    </a:lnTo>
                    <a:lnTo>
                      <a:pt x="650" y="212"/>
                    </a:lnTo>
                    <a:lnTo>
                      <a:pt x="529" y="170"/>
                    </a:lnTo>
                    <a:lnTo>
                      <a:pt x="408" y="127"/>
                    </a:lnTo>
                    <a:lnTo>
                      <a:pt x="288" y="84"/>
                    </a:lnTo>
                    <a:lnTo>
                      <a:pt x="168" y="42"/>
                    </a:lnTo>
                    <a:lnTo>
                      <a:pt x="49" y="0"/>
                    </a:lnTo>
                    <a:lnTo>
                      <a:pt x="74" y="48"/>
                    </a:lnTo>
                    <a:lnTo>
                      <a:pt x="5" y="35"/>
                    </a:lnTo>
                    <a:lnTo>
                      <a:pt x="0" y="73"/>
                    </a:lnTo>
                    <a:lnTo>
                      <a:pt x="29" y="83"/>
                    </a:lnTo>
                    <a:lnTo>
                      <a:pt x="5"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399640" y="3585960"/>
                <a:ext cx="111960" cy="490680"/>
              </a:xfrm>
              <a:custGeom>
                <a:avLst/>
                <a:gdLst/>
                <a:ahLst/>
                <a:rect l="l" t="t" r="r" b="b"/>
                <a:pathLst>
                  <a:path w="299" h="1792">
                    <a:moveTo>
                      <a:pt x="230" y="0"/>
                    </a:moveTo>
                    <a:lnTo>
                      <a:pt x="230" y="0"/>
                    </a:lnTo>
                    <a:lnTo>
                      <a:pt x="200" y="222"/>
                    </a:lnTo>
                    <a:lnTo>
                      <a:pt x="172" y="444"/>
                    </a:lnTo>
                    <a:lnTo>
                      <a:pt x="143" y="666"/>
                    </a:lnTo>
                    <a:lnTo>
                      <a:pt x="115" y="889"/>
                    </a:lnTo>
                    <a:lnTo>
                      <a:pt x="85" y="1112"/>
                    </a:lnTo>
                    <a:lnTo>
                      <a:pt x="57" y="1334"/>
                    </a:lnTo>
                    <a:lnTo>
                      <a:pt x="28" y="1556"/>
                    </a:lnTo>
                    <a:lnTo>
                      <a:pt x="0" y="1779"/>
                    </a:lnTo>
                    <a:lnTo>
                      <a:pt x="69" y="1792"/>
                    </a:lnTo>
                    <a:lnTo>
                      <a:pt x="98" y="1569"/>
                    </a:lnTo>
                    <a:lnTo>
                      <a:pt x="127" y="1347"/>
                    </a:lnTo>
                    <a:lnTo>
                      <a:pt x="155" y="1125"/>
                    </a:lnTo>
                    <a:lnTo>
                      <a:pt x="184" y="902"/>
                    </a:lnTo>
                    <a:lnTo>
                      <a:pt x="212" y="679"/>
                    </a:lnTo>
                    <a:lnTo>
                      <a:pt x="242" y="458"/>
                    </a:lnTo>
                    <a:lnTo>
                      <a:pt x="271" y="235"/>
                    </a:lnTo>
                    <a:lnTo>
                      <a:pt x="299" y="13"/>
                    </a:lnTo>
                    <a:lnTo>
                      <a:pt x="299" y="13"/>
                    </a:lnTo>
                    <a:lnTo>
                      <a:pt x="23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484600" y="3100680"/>
                <a:ext cx="113040" cy="489240"/>
              </a:xfrm>
              <a:custGeom>
                <a:avLst/>
                <a:gdLst/>
                <a:ahLst/>
                <a:rect l="l" t="t" r="r" b="b"/>
                <a:pathLst>
                  <a:path w="302" h="1784">
                    <a:moveTo>
                      <a:pt x="231" y="0"/>
                    </a:moveTo>
                    <a:lnTo>
                      <a:pt x="231" y="0"/>
                    </a:lnTo>
                    <a:lnTo>
                      <a:pt x="203" y="220"/>
                    </a:lnTo>
                    <a:lnTo>
                      <a:pt x="174" y="442"/>
                    </a:lnTo>
                    <a:lnTo>
                      <a:pt x="145" y="662"/>
                    </a:lnTo>
                    <a:lnTo>
                      <a:pt x="116" y="883"/>
                    </a:lnTo>
                    <a:lnTo>
                      <a:pt x="87" y="1105"/>
                    </a:lnTo>
                    <a:lnTo>
                      <a:pt x="58" y="1327"/>
                    </a:lnTo>
                    <a:lnTo>
                      <a:pt x="29" y="1548"/>
                    </a:lnTo>
                    <a:lnTo>
                      <a:pt x="0" y="1771"/>
                    </a:lnTo>
                    <a:lnTo>
                      <a:pt x="69" y="1784"/>
                    </a:lnTo>
                    <a:lnTo>
                      <a:pt x="98" y="1562"/>
                    </a:lnTo>
                    <a:lnTo>
                      <a:pt x="128" y="1340"/>
                    </a:lnTo>
                    <a:lnTo>
                      <a:pt x="157" y="1119"/>
                    </a:lnTo>
                    <a:lnTo>
                      <a:pt x="186" y="897"/>
                    </a:lnTo>
                    <a:lnTo>
                      <a:pt x="215" y="675"/>
                    </a:lnTo>
                    <a:lnTo>
                      <a:pt x="245" y="455"/>
                    </a:lnTo>
                    <a:lnTo>
                      <a:pt x="273" y="234"/>
                    </a:lnTo>
                    <a:lnTo>
                      <a:pt x="302" y="12"/>
                    </a:lnTo>
                    <a:lnTo>
                      <a:pt x="302" y="12"/>
                    </a:lnTo>
                    <a:lnTo>
                      <a:pt x="2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571360" y="2616480"/>
                <a:ext cx="111960" cy="486720"/>
              </a:xfrm>
              <a:custGeom>
                <a:avLst/>
                <a:gdLst/>
                <a:ahLst/>
                <a:rect l="l" t="t" r="r" b="b"/>
                <a:pathLst>
                  <a:path w="300" h="1775">
                    <a:moveTo>
                      <a:pt x="230" y="0"/>
                    </a:moveTo>
                    <a:lnTo>
                      <a:pt x="230" y="0"/>
                    </a:lnTo>
                    <a:lnTo>
                      <a:pt x="201" y="220"/>
                    </a:lnTo>
                    <a:lnTo>
                      <a:pt x="173" y="441"/>
                    </a:lnTo>
                    <a:lnTo>
                      <a:pt x="144" y="661"/>
                    </a:lnTo>
                    <a:lnTo>
                      <a:pt x="115" y="880"/>
                    </a:lnTo>
                    <a:lnTo>
                      <a:pt x="86" y="1100"/>
                    </a:lnTo>
                    <a:lnTo>
                      <a:pt x="58" y="1321"/>
                    </a:lnTo>
                    <a:lnTo>
                      <a:pt x="30" y="1541"/>
                    </a:lnTo>
                    <a:lnTo>
                      <a:pt x="0" y="1763"/>
                    </a:lnTo>
                    <a:lnTo>
                      <a:pt x="71" y="1775"/>
                    </a:lnTo>
                    <a:lnTo>
                      <a:pt x="99" y="1555"/>
                    </a:lnTo>
                    <a:lnTo>
                      <a:pt x="127" y="1334"/>
                    </a:lnTo>
                    <a:lnTo>
                      <a:pt x="157" y="1114"/>
                    </a:lnTo>
                    <a:lnTo>
                      <a:pt x="185" y="894"/>
                    </a:lnTo>
                    <a:lnTo>
                      <a:pt x="214" y="674"/>
                    </a:lnTo>
                    <a:lnTo>
                      <a:pt x="242" y="454"/>
                    </a:lnTo>
                    <a:lnTo>
                      <a:pt x="272" y="234"/>
                    </a:lnTo>
                    <a:lnTo>
                      <a:pt x="300" y="13"/>
                    </a:lnTo>
                    <a:lnTo>
                      <a:pt x="300" y="13"/>
                    </a:lnTo>
                    <a:lnTo>
                      <a:pt x="23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657760" y="2122920"/>
                <a:ext cx="111600" cy="497520"/>
              </a:xfrm>
              <a:custGeom>
                <a:avLst/>
                <a:gdLst/>
                <a:ahLst/>
                <a:rect l="l" t="t" r="r" b="b"/>
                <a:pathLst>
                  <a:path w="302" h="1812">
                    <a:moveTo>
                      <a:pt x="273" y="9"/>
                    </a:moveTo>
                    <a:lnTo>
                      <a:pt x="232" y="45"/>
                    </a:lnTo>
                    <a:lnTo>
                      <a:pt x="203" y="264"/>
                    </a:lnTo>
                    <a:lnTo>
                      <a:pt x="174" y="483"/>
                    </a:lnTo>
                    <a:lnTo>
                      <a:pt x="144" y="702"/>
                    </a:lnTo>
                    <a:lnTo>
                      <a:pt x="116" y="921"/>
                    </a:lnTo>
                    <a:lnTo>
                      <a:pt x="87" y="1140"/>
                    </a:lnTo>
                    <a:lnTo>
                      <a:pt x="58" y="1361"/>
                    </a:lnTo>
                    <a:lnTo>
                      <a:pt x="28" y="1580"/>
                    </a:lnTo>
                    <a:lnTo>
                      <a:pt x="0" y="1799"/>
                    </a:lnTo>
                    <a:lnTo>
                      <a:pt x="70" y="1812"/>
                    </a:lnTo>
                    <a:lnTo>
                      <a:pt x="99" y="1593"/>
                    </a:lnTo>
                    <a:lnTo>
                      <a:pt x="127" y="1374"/>
                    </a:lnTo>
                    <a:lnTo>
                      <a:pt x="156" y="1154"/>
                    </a:lnTo>
                    <a:lnTo>
                      <a:pt x="186" y="935"/>
                    </a:lnTo>
                    <a:lnTo>
                      <a:pt x="215" y="716"/>
                    </a:lnTo>
                    <a:lnTo>
                      <a:pt x="244" y="497"/>
                    </a:lnTo>
                    <a:lnTo>
                      <a:pt x="272" y="277"/>
                    </a:lnTo>
                    <a:lnTo>
                      <a:pt x="302" y="58"/>
                    </a:lnTo>
                    <a:lnTo>
                      <a:pt x="260" y="94"/>
                    </a:lnTo>
                    <a:lnTo>
                      <a:pt x="273" y="9"/>
                    </a:lnTo>
                    <a:lnTo>
                      <a:pt x="237" y="0"/>
                    </a:lnTo>
                    <a:lnTo>
                      <a:pt x="232" y="45"/>
                    </a:lnTo>
                    <a:lnTo>
                      <a:pt x="273"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701320" y="2061000"/>
                <a:ext cx="447120" cy="207000"/>
              </a:xfrm>
              <a:custGeom>
                <a:avLst/>
                <a:gdLst/>
                <a:ahLst/>
                <a:rect l="l" t="t" r="r" b="b"/>
                <a:pathLst>
                  <a:path w="1200" h="752">
                    <a:moveTo>
                      <a:pt x="0" y="0"/>
                    </a:moveTo>
                    <a:lnTo>
                      <a:pt x="27" y="66"/>
                    </a:lnTo>
                    <a:lnTo>
                      <a:pt x="56" y="132"/>
                    </a:lnTo>
                    <a:lnTo>
                      <a:pt x="83" y="198"/>
                    </a:lnTo>
                    <a:lnTo>
                      <a:pt x="111" y="265"/>
                    </a:lnTo>
                    <a:lnTo>
                      <a:pt x="139" y="331"/>
                    </a:lnTo>
                    <a:lnTo>
                      <a:pt x="167" y="396"/>
                    </a:lnTo>
                    <a:lnTo>
                      <a:pt x="196" y="463"/>
                    </a:lnTo>
                    <a:lnTo>
                      <a:pt x="225" y="529"/>
                    </a:lnTo>
                    <a:lnTo>
                      <a:pt x="345" y="556"/>
                    </a:lnTo>
                    <a:lnTo>
                      <a:pt x="466" y="585"/>
                    </a:lnTo>
                    <a:lnTo>
                      <a:pt x="588" y="612"/>
                    </a:lnTo>
                    <a:lnTo>
                      <a:pt x="709" y="640"/>
                    </a:lnTo>
                    <a:lnTo>
                      <a:pt x="831" y="668"/>
                    </a:lnTo>
                    <a:lnTo>
                      <a:pt x="954" y="697"/>
                    </a:lnTo>
                    <a:lnTo>
                      <a:pt x="1076" y="725"/>
                    </a:lnTo>
                    <a:lnTo>
                      <a:pt x="1200" y="752"/>
                    </a:lnTo>
                    <a:lnTo>
                      <a:pt x="1169" y="684"/>
                    </a:lnTo>
                    <a:lnTo>
                      <a:pt x="1139" y="617"/>
                    </a:lnTo>
                    <a:lnTo>
                      <a:pt x="1110" y="549"/>
                    </a:lnTo>
                    <a:lnTo>
                      <a:pt x="1081" y="481"/>
                    </a:lnTo>
                    <a:lnTo>
                      <a:pt x="1051" y="414"/>
                    </a:lnTo>
                    <a:lnTo>
                      <a:pt x="1022" y="347"/>
                    </a:lnTo>
                    <a:lnTo>
                      <a:pt x="993" y="279"/>
                    </a:lnTo>
                    <a:lnTo>
                      <a:pt x="964" y="213"/>
                    </a:lnTo>
                    <a:lnTo>
                      <a:pt x="842" y="186"/>
                    </a:lnTo>
                    <a:lnTo>
                      <a:pt x="721" y="159"/>
                    </a:lnTo>
                    <a:lnTo>
                      <a:pt x="600" y="132"/>
                    </a:lnTo>
                    <a:lnTo>
                      <a:pt x="479" y="105"/>
                    </a:lnTo>
                    <a:lnTo>
                      <a:pt x="359" y="79"/>
                    </a:lnTo>
                    <a:lnTo>
                      <a:pt x="239" y="52"/>
                    </a:lnTo>
                    <a:lnTo>
                      <a:pt x="120" y="26"/>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701320" y="2061000"/>
                <a:ext cx="447120" cy="207000"/>
              </a:xfrm>
              <a:custGeom>
                <a:avLst/>
                <a:gdLst/>
                <a:ahLst/>
                <a:rect l="l" t="t" r="r" b="b"/>
                <a:pathLst>
                  <a:path w="1200" h="752">
                    <a:moveTo>
                      <a:pt x="0" y="0"/>
                    </a:moveTo>
                    <a:lnTo>
                      <a:pt x="27" y="66"/>
                    </a:lnTo>
                    <a:lnTo>
                      <a:pt x="56" y="132"/>
                    </a:lnTo>
                    <a:lnTo>
                      <a:pt x="83" y="198"/>
                    </a:lnTo>
                    <a:lnTo>
                      <a:pt x="111" y="265"/>
                    </a:lnTo>
                    <a:lnTo>
                      <a:pt x="139" y="331"/>
                    </a:lnTo>
                    <a:lnTo>
                      <a:pt x="167" y="396"/>
                    </a:lnTo>
                    <a:lnTo>
                      <a:pt x="196" y="463"/>
                    </a:lnTo>
                    <a:lnTo>
                      <a:pt x="225" y="529"/>
                    </a:lnTo>
                    <a:lnTo>
                      <a:pt x="345" y="556"/>
                    </a:lnTo>
                    <a:lnTo>
                      <a:pt x="466" y="585"/>
                    </a:lnTo>
                    <a:lnTo>
                      <a:pt x="588" y="612"/>
                    </a:lnTo>
                    <a:lnTo>
                      <a:pt x="709" y="640"/>
                    </a:lnTo>
                    <a:lnTo>
                      <a:pt x="831" y="668"/>
                    </a:lnTo>
                    <a:lnTo>
                      <a:pt x="954" y="697"/>
                    </a:lnTo>
                    <a:lnTo>
                      <a:pt x="1076" y="725"/>
                    </a:lnTo>
                    <a:lnTo>
                      <a:pt x="1200" y="752"/>
                    </a:lnTo>
                    <a:lnTo>
                      <a:pt x="1169" y="684"/>
                    </a:lnTo>
                    <a:lnTo>
                      <a:pt x="1139" y="617"/>
                    </a:lnTo>
                    <a:lnTo>
                      <a:pt x="1110" y="549"/>
                    </a:lnTo>
                    <a:lnTo>
                      <a:pt x="1081" y="481"/>
                    </a:lnTo>
                    <a:lnTo>
                      <a:pt x="1051" y="414"/>
                    </a:lnTo>
                    <a:lnTo>
                      <a:pt x="1022" y="347"/>
                    </a:lnTo>
                    <a:lnTo>
                      <a:pt x="993" y="279"/>
                    </a:lnTo>
                    <a:lnTo>
                      <a:pt x="964" y="213"/>
                    </a:lnTo>
                    <a:lnTo>
                      <a:pt x="842" y="186"/>
                    </a:lnTo>
                    <a:lnTo>
                      <a:pt x="721" y="159"/>
                    </a:lnTo>
                    <a:lnTo>
                      <a:pt x="600" y="132"/>
                    </a:lnTo>
                    <a:lnTo>
                      <a:pt x="479" y="105"/>
                    </a:lnTo>
                    <a:lnTo>
                      <a:pt x="359" y="79"/>
                    </a:lnTo>
                    <a:lnTo>
                      <a:pt x="239" y="52"/>
                    </a:lnTo>
                    <a:lnTo>
                      <a:pt x="120" y="26"/>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56440" y="2061000"/>
                <a:ext cx="428400" cy="2088360"/>
              </a:xfrm>
              <a:custGeom>
                <a:avLst/>
                <a:gdLst/>
                <a:ahLst/>
                <a:rect l="l" t="t" r="r" b="b"/>
                <a:pathLst>
                  <a:path w="1148" h="7616">
                    <a:moveTo>
                      <a:pt x="0" y="7040"/>
                    </a:moveTo>
                    <a:lnTo>
                      <a:pt x="27" y="7111"/>
                    </a:lnTo>
                    <a:lnTo>
                      <a:pt x="55" y="7184"/>
                    </a:lnTo>
                    <a:lnTo>
                      <a:pt x="82" y="7255"/>
                    </a:lnTo>
                    <a:lnTo>
                      <a:pt x="111" y="7328"/>
                    </a:lnTo>
                    <a:lnTo>
                      <a:pt x="138" y="7399"/>
                    </a:lnTo>
                    <a:lnTo>
                      <a:pt x="166" y="7471"/>
                    </a:lnTo>
                    <a:lnTo>
                      <a:pt x="194" y="7543"/>
                    </a:lnTo>
                    <a:lnTo>
                      <a:pt x="223" y="7616"/>
                    </a:lnTo>
                    <a:lnTo>
                      <a:pt x="252" y="7392"/>
                    </a:lnTo>
                    <a:lnTo>
                      <a:pt x="281" y="7169"/>
                    </a:lnTo>
                    <a:lnTo>
                      <a:pt x="310" y="6945"/>
                    </a:lnTo>
                    <a:lnTo>
                      <a:pt x="340" y="6722"/>
                    </a:lnTo>
                    <a:lnTo>
                      <a:pt x="368" y="6499"/>
                    </a:lnTo>
                    <a:lnTo>
                      <a:pt x="397" y="6275"/>
                    </a:lnTo>
                    <a:lnTo>
                      <a:pt x="426" y="6053"/>
                    </a:lnTo>
                    <a:lnTo>
                      <a:pt x="454" y="5830"/>
                    </a:lnTo>
                    <a:lnTo>
                      <a:pt x="484" y="5608"/>
                    </a:lnTo>
                    <a:lnTo>
                      <a:pt x="513" y="5385"/>
                    </a:lnTo>
                    <a:lnTo>
                      <a:pt x="541" y="5164"/>
                    </a:lnTo>
                    <a:lnTo>
                      <a:pt x="570" y="4942"/>
                    </a:lnTo>
                    <a:lnTo>
                      <a:pt x="600" y="4719"/>
                    </a:lnTo>
                    <a:lnTo>
                      <a:pt x="628" y="4498"/>
                    </a:lnTo>
                    <a:lnTo>
                      <a:pt x="657" y="4276"/>
                    </a:lnTo>
                    <a:lnTo>
                      <a:pt x="686" y="4055"/>
                    </a:lnTo>
                    <a:lnTo>
                      <a:pt x="714" y="3833"/>
                    </a:lnTo>
                    <a:lnTo>
                      <a:pt x="744" y="3613"/>
                    </a:lnTo>
                    <a:lnTo>
                      <a:pt x="773" y="3391"/>
                    </a:lnTo>
                    <a:lnTo>
                      <a:pt x="801" y="3170"/>
                    </a:lnTo>
                    <a:lnTo>
                      <a:pt x="830" y="2949"/>
                    </a:lnTo>
                    <a:lnTo>
                      <a:pt x="860" y="2729"/>
                    </a:lnTo>
                    <a:lnTo>
                      <a:pt x="889" y="2509"/>
                    </a:lnTo>
                    <a:lnTo>
                      <a:pt x="917" y="2288"/>
                    </a:lnTo>
                    <a:lnTo>
                      <a:pt x="946" y="2068"/>
                    </a:lnTo>
                    <a:lnTo>
                      <a:pt x="975" y="1848"/>
                    </a:lnTo>
                    <a:lnTo>
                      <a:pt x="1004" y="1627"/>
                    </a:lnTo>
                    <a:lnTo>
                      <a:pt x="1032" y="1407"/>
                    </a:lnTo>
                    <a:lnTo>
                      <a:pt x="1061" y="1188"/>
                    </a:lnTo>
                    <a:lnTo>
                      <a:pt x="1089" y="968"/>
                    </a:lnTo>
                    <a:lnTo>
                      <a:pt x="1119" y="748"/>
                    </a:lnTo>
                    <a:lnTo>
                      <a:pt x="1148" y="529"/>
                    </a:lnTo>
                    <a:lnTo>
                      <a:pt x="1119" y="463"/>
                    </a:lnTo>
                    <a:lnTo>
                      <a:pt x="1090" y="396"/>
                    </a:lnTo>
                    <a:lnTo>
                      <a:pt x="1062" y="331"/>
                    </a:lnTo>
                    <a:lnTo>
                      <a:pt x="1034" y="265"/>
                    </a:lnTo>
                    <a:lnTo>
                      <a:pt x="1006" y="198"/>
                    </a:lnTo>
                    <a:lnTo>
                      <a:pt x="979" y="132"/>
                    </a:lnTo>
                    <a:lnTo>
                      <a:pt x="950" y="66"/>
                    </a:lnTo>
                    <a:lnTo>
                      <a:pt x="923" y="0"/>
                    </a:lnTo>
                    <a:lnTo>
                      <a:pt x="895" y="218"/>
                    </a:lnTo>
                    <a:lnTo>
                      <a:pt x="866" y="437"/>
                    </a:lnTo>
                    <a:lnTo>
                      <a:pt x="837" y="655"/>
                    </a:lnTo>
                    <a:lnTo>
                      <a:pt x="808" y="873"/>
                    </a:lnTo>
                    <a:lnTo>
                      <a:pt x="780" y="1092"/>
                    </a:lnTo>
                    <a:lnTo>
                      <a:pt x="752" y="1310"/>
                    </a:lnTo>
                    <a:lnTo>
                      <a:pt x="723" y="1529"/>
                    </a:lnTo>
                    <a:lnTo>
                      <a:pt x="694" y="1747"/>
                    </a:lnTo>
                    <a:lnTo>
                      <a:pt x="665" y="1966"/>
                    </a:lnTo>
                    <a:lnTo>
                      <a:pt x="636" y="2185"/>
                    </a:lnTo>
                    <a:lnTo>
                      <a:pt x="607" y="2405"/>
                    </a:lnTo>
                    <a:lnTo>
                      <a:pt x="578" y="2624"/>
                    </a:lnTo>
                    <a:lnTo>
                      <a:pt x="549" y="2843"/>
                    </a:lnTo>
                    <a:lnTo>
                      <a:pt x="521" y="3064"/>
                    </a:lnTo>
                    <a:lnTo>
                      <a:pt x="492" y="3283"/>
                    </a:lnTo>
                    <a:lnTo>
                      <a:pt x="464" y="3503"/>
                    </a:lnTo>
                    <a:lnTo>
                      <a:pt x="434" y="3722"/>
                    </a:lnTo>
                    <a:lnTo>
                      <a:pt x="406" y="3943"/>
                    </a:lnTo>
                    <a:lnTo>
                      <a:pt x="377" y="4163"/>
                    </a:lnTo>
                    <a:lnTo>
                      <a:pt x="349" y="4383"/>
                    </a:lnTo>
                    <a:lnTo>
                      <a:pt x="319" y="4604"/>
                    </a:lnTo>
                    <a:lnTo>
                      <a:pt x="291" y="4825"/>
                    </a:lnTo>
                    <a:lnTo>
                      <a:pt x="262" y="5046"/>
                    </a:lnTo>
                    <a:lnTo>
                      <a:pt x="233" y="5266"/>
                    </a:lnTo>
                    <a:lnTo>
                      <a:pt x="204" y="5488"/>
                    </a:lnTo>
                    <a:lnTo>
                      <a:pt x="175" y="5709"/>
                    </a:lnTo>
                    <a:lnTo>
                      <a:pt x="146" y="5931"/>
                    </a:lnTo>
                    <a:lnTo>
                      <a:pt x="117" y="6152"/>
                    </a:lnTo>
                    <a:lnTo>
                      <a:pt x="88" y="6375"/>
                    </a:lnTo>
                    <a:lnTo>
                      <a:pt x="58" y="6597"/>
                    </a:lnTo>
                    <a:lnTo>
                      <a:pt x="29" y="6818"/>
                    </a:lnTo>
                    <a:lnTo>
                      <a:pt x="0" y="704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356440" y="2061000"/>
                <a:ext cx="428400" cy="2088360"/>
              </a:xfrm>
              <a:custGeom>
                <a:avLst/>
                <a:gdLst/>
                <a:ahLst/>
                <a:rect l="l" t="t" r="r" b="b"/>
                <a:pathLst>
                  <a:path w="1148" h="7616">
                    <a:moveTo>
                      <a:pt x="0" y="7040"/>
                    </a:moveTo>
                    <a:lnTo>
                      <a:pt x="27" y="7111"/>
                    </a:lnTo>
                    <a:lnTo>
                      <a:pt x="55" y="7184"/>
                    </a:lnTo>
                    <a:lnTo>
                      <a:pt x="82" y="7255"/>
                    </a:lnTo>
                    <a:lnTo>
                      <a:pt x="111" y="7328"/>
                    </a:lnTo>
                    <a:lnTo>
                      <a:pt x="138" y="7399"/>
                    </a:lnTo>
                    <a:lnTo>
                      <a:pt x="166" y="7471"/>
                    </a:lnTo>
                    <a:lnTo>
                      <a:pt x="194" y="7543"/>
                    </a:lnTo>
                    <a:lnTo>
                      <a:pt x="223" y="7616"/>
                    </a:lnTo>
                    <a:lnTo>
                      <a:pt x="252" y="7392"/>
                    </a:lnTo>
                    <a:lnTo>
                      <a:pt x="281" y="7169"/>
                    </a:lnTo>
                    <a:lnTo>
                      <a:pt x="310" y="6945"/>
                    </a:lnTo>
                    <a:lnTo>
                      <a:pt x="340" y="6722"/>
                    </a:lnTo>
                    <a:lnTo>
                      <a:pt x="368" y="6499"/>
                    </a:lnTo>
                    <a:lnTo>
                      <a:pt x="397" y="6275"/>
                    </a:lnTo>
                    <a:lnTo>
                      <a:pt x="426" y="6053"/>
                    </a:lnTo>
                    <a:lnTo>
                      <a:pt x="454" y="5830"/>
                    </a:lnTo>
                    <a:lnTo>
                      <a:pt x="484" y="5608"/>
                    </a:lnTo>
                    <a:lnTo>
                      <a:pt x="513" y="5385"/>
                    </a:lnTo>
                    <a:lnTo>
                      <a:pt x="541" y="5164"/>
                    </a:lnTo>
                    <a:lnTo>
                      <a:pt x="570" y="4942"/>
                    </a:lnTo>
                    <a:lnTo>
                      <a:pt x="600" y="4719"/>
                    </a:lnTo>
                    <a:lnTo>
                      <a:pt x="628" y="4498"/>
                    </a:lnTo>
                    <a:lnTo>
                      <a:pt x="657" y="4276"/>
                    </a:lnTo>
                    <a:lnTo>
                      <a:pt x="686" y="4055"/>
                    </a:lnTo>
                    <a:lnTo>
                      <a:pt x="714" y="3833"/>
                    </a:lnTo>
                    <a:lnTo>
                      <a:pt x="744" y="3613"/>
                    </a:lnTo>
                    <a:lnTo>
                      <a:pt x="773" y="3391"/>
                    </a:lnTo>
                    <a:lnTo>
                      <a:pt x="801" y="3170"/>
                    </a:lnTo>
                    <a:lnTo>
                      <a:pt x="830" y="2949"/>
                    </a:lnTo>
                    <a:lnTo>
                      <a:pt x="860" y="2729"/>
                    </a:lnTo>
                    <a:lnTo>
                      <a:pt x="889" y="2509"/>
                    </a:lnTo>
                    <a:lnTo>
                      <a:pt x="917" y="2288"/>
                    </a:lnTo>
                    <a:lnTo>
                      <a:pt x="946" y="2068"/>
                    </a:lnTo>
                    <a:lnTo>
                      <a:pt x="975" y="1848"/>
                    </a:lnTo>
                    <a:lnTo>
                      <a:pt x="1004" y="1627"/>
                    </a:lnTo>
                    <a:lnTo>
                      <a:pt x="1032" y="1407"/>
                    </a:lnTo>
                    <a:lnTo>
                      <a:pt x="1061" y="1188"/>
                    </a:lnTo>
                    <a:lnTo>
                      <a:pt x="1089" y="968"/>
                    </a:lnTo>
                    <a:lnTo>
                      <a:pt x="1119" y="748"/>
                    </a:lnTo>
                    <a:lnTo>
                      <a:pt x="1148" y="529"/>
                    </a:lnTo>
                    <a:lnTo>
                      <a:pt x="1119" y="463"/>
                    </a:lnTo>
                    <a:lnTo>
                      <a:pt x="1090" y="396"/>
                    </a:lnTo>
                    <a:lnTo>
                      <a:pt x="1062" y="331"/>
                    </a:lnTo>
                    <a:lnTo>
                      <a:pt x="1034" y="265"/>
                    </a:lnTo>
                    <a:lnTo>
                      <a:pt x="1006" y="198"/>
                    </a:lnTo>
                    <a:lnTo>
                      <a:pt x="979" y="132"/>
                    </a:lnTo>
                    <a:lnTo>
                      <a:pt x="950" y="66"/>
                    </a:lnTo>
                    <a:lnTo>
                      <a:pt x="923" y="0"/>
                    </a:lnTo>
                    <a:lnTo>
                      <a:pt x="895" y="218"/>
                    </a:lnTo>
                    <a:lnTo>
                      <a:pt x="866" y="437"/>
                    </a:lnTo>
                    <a:lnTo>
                      <a:pt x="837" y="655"/>
                    </a:lnTo>
                    <a:lnTo>
                      <a:pt x="808" y="873"/>
                    </a:lnTo>
                    <a:lnTo>
                      <a:pt x="780" y="1092"/>
                    </a:lnTo>
                    <a:lnTo>
                      <a:pt x="752" y="1310"/>
                    </a:lnTo>
                    <a:lnTo>
                      <a:pt x="723" y="1529"/>
                    </a:lnTo>
                    <a:lnTo>
                      <a:pt x="694" y="1747"/>
                    </a:lnTo>
                    <a:lnTo>
                      <a:pt x="665" y="1966"/>
                    </a:lnTo>
                    <a:lnTo>
                      <a:pt x="636" y="2185"/>
                    </a:lnTo>
                    <a:lnTo>
                      <a:pt x="607" y="2405"/>
                    </a:lnTo>
                    <a:lnTo>
                      <a:pt x="578" y="2624"/>
                    </a:lnTo>
                    <a:lnTo>
                      <a:pt x="549" y="2843"/>
                    </a:lnTo>
                    <a:lnTo>
                      <a:pt x="521" y="3064"/>
                    </a:lnTo>
                    <a:lnTo>
                      <a:pt x="492" y="3283"/>
                    </a:lnTo>
                    <a:lnTo>
                      <a:pt x="464" y="3503"/>
                    </a:lnTo>
                    <a:lnTo>
                      <a:pt x="434" y="3722"/>
                    </a:lnTo>
                    <a:lnTo>
                      <a:pt x="406" y="3943"/>
                    </a:lnTo>
                    <a:lnTo>
                      <a:pt x="377" y="4163"/>
                    </a:lnTo>
                    <a:lnTo>
                      <a:pt x="349" y="4383"/>
                    </a:lnTo>
                    <a:lnTo>
                      <a:pt x="319" y="4604"/>
                    </a:lnTo>
                    <a:lnTo>
                      <a:pt x="291" y="4825"/>
                    </a:lnTo>
                    <a:lnTo>
                      <a:pt x="262" y="5046"/>
                    </a:lnTo>
                    <a:lnTo>
                      <a:pt x="233" y="5266"/>
                    </a:lnTo>
                    <a:lnTo>
                      <a:pt x="204" y="5488"/>
                    </a:lnTo>
                    <a:lnTo>
                      <a:pt x="175" y="5709"/>
                    </a:lnTo>
                    <a:lnTo>
                      <a:pt x="146" y="5931"/>
                    </a:lnTo>
                    <a:lnTo>
                      <a:pt x="117" y="6152"/>
                    </a:lnTo>
                    <a:lnTo>
                      <a:pt x="88" y="6375"/>
                    </a:lnTo>
                    <a:lnTo>
                      <a:pt x="58" y="6597"/>
                    </a:lnTo>
                    <a:lnTo>
                      <a:pt x="29" y="6818"/>
                    </a:lnTo>
                    <a:lnTo>
                      <a:pt x="0" y="704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772600" y="2044800"/>
                <a:ext cx="465480" cy="2309040"/>
              </a:xfrm>
              <a:custGeom>
                <a:avLst/>
                <a:gdLst/>
                <a:ahLst/>
                <a:rect l="l" t="t" r="r" b="b"/>
                <a:pathLst>
                  <a:path w="1248" h="8418">
                    <a:moveTo>
                      <a:pt x="1010" y="0"/>
                    </a:moveTo>
                    <a:lnTo>
                      <a:pt x="1039" y="67"/>
                    </a:lnTo>
                    <a:lnTo>
                      <a:pt x="1068" y="135"/>
                    </a:lnTo>
                    <a:lnTo>
                      <a:pt x="1097" y="202"/>
                    </a:lnTo>
                    <a:lnTo>
                      <a:pt x="1128" y="269"/>
                    </a:lnTo>
                    <a:lnTo>
                      <a:pt x="1158" y="337"/>
                    </a:lnTo>
                    <a:lnTo>
                      <a:pt x="1187" y="405"/>
                    </a:lnTo>
                    <a:lnTo>
                      <a:pt x="1217" y="472"/>
                    </a:lnTo>
                    <a:lnTo>
                      <a:pt x="1248" y="540"/>
                    </a:lnTo>
                    <a:lnTo>
                      <a:pt x="1216" y="784"/>
                    </a:lnTo>
                    <a:lnTo>
                      <a:pt x="1185" y="1028"/>
                    </a:lnTo>
                    <a:lnTo>
                      <a:pt x="1153" y="1271"/>
                    </a:lnTo>
                    <a:lnTo>
                      <a:pt x="1122" y="1516"/>
                    </a:lnTo>
                    <a:lnTo>
                      <a:pt x="1090" y="1760"/>
                    </a:lnTo>
                    <a:lnTo>
                      <a:pt x="1059" y="2005"/>
                    </a:lnTo>
                    <a:lnTo>
                      <a:pt x="1028" y="2250"/>
                    </a:lnTo>
                    <a:lnTo>
                      <a:pt x="996" y="2495"/>
                    </a:lnTo>
                    <a:lnTo>
                      <a:pt x="964" y="2740"/>
                    </a:lnTo>
                    <a:lnTo>
                      <a:pt x="933" y="2985"/>
                    </a:lnTo>
                    <a:lnTo>
                      <a:pt x="901" y="3230"/>
                    </a:lnTo>
                    <a:lnTo>
                      <a:pt x="870" y="3475"/>
                    </a:lnTo>
                    <a:lnTo>
                      <a:pt x="837" y="3721"/>
                    </a:lnTo>
                    <a:lnTo>
                      <a:pt x="806" y="3966"/>
                    </a:lnTo>
                    <a:lnTo>
                      <a:pt x="774" y="4212"/>
                    </a:lnTo>
                    <a:lnTo>
                      <a:pt x="743" y="4457"/>
                    </a:lnTo>
                    <a:lnTo>
                      <a:pt x="711" y="4703"/>
                    </a:lnTo>
                    <a:lnTo>
                      <a:pt x="679" y="4951"/>
                    </a:lnTo>
                    <a:lnTo>
                      <a:pt x="647" y="5197"/>
                    </a:lnTo>
                    <a:lnTo>
                      <a:pt x="616" y="5444"/>
                    </a:lnTo>
                    <a:lnTo>
                      <a:pt x="583" y="5692"/>
                    </a:lnTo>
                    <a:lnTo>
                      <a:pt x="551" y="5938"/>
                    </a:lnTo>
                    <a:lnTo>
                      <a:pt x="520" y="6185"/>
                    </a:lnTo>
                    <a:lnTo>
                      <a:pt x="488" y="6433"/>
                    </a:lnTo>
                    <a:lnTo>
                      <a:pt x="456" y="6680"/>
                    </a:lnTo>
                    <a:lnTo>
                      <a:pt x="424" y="6929"/>
                    </a:lnTo>
                    <a:lnTo>
                      <a:pt x="393" y="7176"/>
                    </a:lnTo>
                    <a:lnTo>
                      <a:pt x="362" y="7425"/>
                    </a:lnTo>
                    <a:lnTo>
                      <a:pt x="329" y="7673"/>
                    </a:lnTo>
                    <a:lnTo>
                      <a:pt x="298" y="7922"/>
                    </a:lnTo>
                    <a:lnTo>
                      <a:pt x="267" y="8171"/>
                    </a:lnTo>
                    <a:lnTo>
                      <a:pt x="235" y="8418"/>
                    </a:lnTo>
                    <a:lnTo>
                      <a:pt x="205" y="8344"/>
                    </a:lnTo>
                    <a:lnTo>
                      <a:pt x="175" y="8269"/>
                    </a:lnTo>
                    <a:lnTo>
                      <a:pt x="146" y="8195"/>
                    </a:lnTo>
                    <a:lnTo>
                      <a:pt x="117" y="8121"/>
                    </a:lnTo>
                    <a:lnTo>
                      <a:pt x="87" y="8048"/>
                    </a:lnTo>
                    <a:lnTo>
                      <a:pt x="58" y="7973"/>
                    </a:lnTo>
                    <a:lnTo>
                      <a:pt x="29" y="7899"/>
                    </a:lnTo>
                    <a:lnTo>
                      <a:pt x="0" y="7825"/>
                    </a:lnTo>
                    <a:lnTo>
                      <a:pt x="31" y="7577"/>
                    </a:lnTo>
                    <a:lnTo>
                      <a:pt x="62" y="7331"/>
                    </a:lnTo>
                    <a:lnTo>
                      <a:pt x="94" y="7084"/>
                    </a:lnTo>
                    <a:lnTo>
                      <a:pt x="126" y="6838"/>
                    </a:lnTo>
                    <a:lnTo>
                      <a:pt x="158" y="6591"/>
                    </a:lnTo>
                    <a:lnTo>
                      <a:pt x="189" y="6344"/>
                    </a:lnTo>
                    <a:lnTo>
                      <a:pt x="221" y="6098"/>
                    </a:lnTo>
                    <a:lnTo>
                      <a:pt x="253" y="5852"/>
                    </a:lnTo>
                    <a:lnTo>
                      <a:pt x="285" y="5605"/>
                    </a:lnTo>
                    <a:lnTo>
                      <a:pt x="316" y="5360"/>
                    </a:lnTo>
                    <a:lnTo>
                      <a:pt x="348" y="5116"/>
                    </a:lnTo>
                    <a:lnTo>
                      <a:pt x="380" y="4871"/>
                    </a:lnTo>
                    <a:lnTo>
                      <a:pt x="412" y="4624"/>
                    </a:lnTo>
                    <a:lnTo>
                      <a:pt x="443" y="4379"/>
                    </a:lnTo>
                    <a:lnTo>
                      <a:pt x="475" y="4134"/>
                    </a:lnTo>
                    <a:lnTo>
                      <a:pt x="507" y="3889"/>
                    </a:lnTo>
                    <a:lnTo>
                      <a:pt x="539" y="3646"/>
                    </a:lnTo>
                    <a:lnTo>
                      <a:pt x="570" y="3402"/>
                    </a:lnTo>
                    <a:lnTo>
                      <a:pt x="601" y="3158"/>
                    </a:lnTo>
                    <a:lnTo>
                      <a:pt x="633" y="2915"/>
                    </a:lnTo>
                    <a:lnTo>
                      <a:pt x="664" y="2671"/>
                    </a:lnTo>
                    <a:lnTo>
                      <a:pt x="695" y="2427"/>
                    </a:lnTo>
                    <a:lnTo>
                      <a:pt x="726" y="2183"/>
                    </a:lnTo>
                    <a:lnTo>
                      <a:pt x="758" y="1940"/>
                    </a:lnTo>
                    <a:lnTo>
                      <a:pt x="790" y="1697"/>
                    </a:lnTo>
                    <a:lnTo>
                      <a:pt x="821" y="1455"/>
                    </a:lnTo>
                    <a:lnTo>
                      <a:pt x="852" y="1211"/>
                    </a:lnTo>
                    <a:lnTo>
                      <a:pt x="884" y="968"/>
                    </a:lnTo>
                    <a:lnTo>
                      <a:pt x="915" y="726"/>
                    </a:lnTo>
                    <a:lnTo>
                      <a:pt x="946" y="483"/>
                    </a:lnTo>
                    <a:lnTo>
                      <a:pt x="977" y="242"/>
                    </a:lnTo>
                    <a:lnTo>
                      <a:pt x="1010"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772600" y="2044800"/>
                <a:ext cx="465480" cy="2309040"/>
              </a:xfrm>
              <a:custGeom>
                <a:avLst/>
                <a:gdLst/>
                <a:ahLst/>
                <a:rect l="l" t="t" r="r" b="b"/>
                <a:pathLst>
                  <a:path w="1248" h="8418">
                    <a:moveTo>
                      <a:pt x="1010" y="0"/>
                    </a:moveTo>
                    <a:lnTo>
                      <a:pt x="1039" y="67"/>
                    </a:lnTo>
                    <a:lnTo>
                      <a:pt x="1068" y="135"/>
                    </a:lnTo>
                    <a:lnTo>
                      <a:pt x="1097" y="202"/>
                    </a:lnTo>
                    <a:lnTo>
                      <a:pt x="1128" y="269"/>
                    </a:lnTo>
                    <a:lnTo>
                      <a:pt x="1158" y="337"/>
                    </a:lnTo>
                    <a:lnTo>
                      <a:pt x="1187" y="405"/>
                    </a:lnTo>
                    <a:lnTo>
                      <a:pt x="1217" y="472"/>
                    </a:lnTo>
                    <a:lnTo>
                      <a:pt x="1248" y="540"/>
                    </a:lnTo>
                    <a:lnTo>
                      <a:pt x="1216" y="784"/>
                    </a:lnTo>
                    <a:lnTo>
                      <a:pt x="1185" y="1028"/>
                    </a:lnTo>
                    <a:lnTo>
                      <a:pt x="1153" y="1271"/>
                    </a:lnTo>
                    <a:lnTo>
                      <a:pt x="1122" y="1516"/>
                    </a:lnTo>
                    <a:lnTo>
                      <a:pt x="1090" y="1760"/>
                    </a:lnTo>
                    <a:lnTo>
                      <a:pt x="1059" y="2005"/>
                    </a:lnTo>
                    <a:lnTo>
                      <a:pt x="1028" y="2250"/>
                    </a:lnTo>
                    <a:lnTo>
                      <a:pt x="996" y="2495"/>
                    </a:lnTo>
                    <a:lnTo>
                      <a:pt x="964" y="2740"/>
                    </a:lnTo>
                    <a:lnTo>
                      <a:pt x="933" y="2985"/>
                    </a:lnTo>
                    <a:lnTo>
                      <a:pt x="901" y="3230"/>
                    </a:lnTo>
                    <a:lnTo>
                      <a:pt x="870" y="3475"/>
                    </a:lnTo>
                    <a:lnTo>
                      <a:pt x="837" y="3721"/>
                    </a:lnTo>
                    <a:lnTo>
                      <a:pt x="806" y="3966"/>
                    </a:lnTo>
                    <a:lnTo>
                      <a:pt x="774" y="4212"/>
                    </a:lnTo>
                    <a:lnTo>
                      <a:pt x="743" y="4457"/>
                    </a:lnTo>
                    <a:lnTo>
                      <a:pt x="711" y="4703"/>
                    </a:lnTo>
                    <a:lnTo>
                      <a:pt x="679" y="4951"/>
                    </a:lnTo>
                    <a:lnTo>
                      <a:pt x="647" y="5197"/>
                    </a:lnTo>
                    <a:lnTo>
                      <a:pt x="616" y="5444"/>
                    </a:lnTo>
                    <a:lnTo>
                      <a:pt x="583" y="5692"/>
                    </a:lnTo>
                    <a:lnTo>
                      <a:pt x="551" y="5938"/>
                    </a:lnTo>
                    <a:lnTo>
                      <a:pt x="520" y="6185"/>
                    </a:lnTo>
                    <a:lnTo>
                      <a:pt x="488" y="6433"/>
                    </a:lnTo>
                    <a:lnTo>
                      <a:pt x="456" y="6680"/>
                    </a:lnTo>
                    <a:lnTo>
                      <a:pt x="424" y="6929"/>
                    </a:lnTo>
                    <a:lnTo>
                      <a:pt x="393" y="7176"/>
                    </a:lnTo>
                    <a:lnTo>
                      <a:pt x="362" y="7425"/>
                    </a:lnTo>
                    <a:lnTo>
                      <a:pt x="329" y="7673"/>
                    </a:lnTo>
                    <a:lnTo>
                      <a:pt x="298" y="7922"/>
                    </a:lnTo>
                    <a:lnTo>
                      <a:pt x="267" y="8171"/>
                    </a:lnTo>
                    <a:lnTo>
                      <a:pt x="235" y="8418"/>
                    </a:lnTo>
                    <a:lnTo>
                      <a:pt x="205" y="8344"/>
                    </a:lnTo>
                    <a:lnTo>
                      <a:pt x="175" y="8269"/>
                    </a:lnTo>
                    <a:lnTo>
                      <a:pt x="146" y="8195"/>
                    </a:lnTo>
                    <a:lnTo>
                      <a:pt x="117" y="8121"/>
                    </a:lnTo>
                    <a:lnTo>
                      <a:pt x="87" y="8048"/>
                    </a:lnTo>
                    <a:lnTo>
                      <a:pt x="58" y="7973"/>
                    </a:lnTo>
                    <a:lnTo>
                      <a:pt x="29" y="7899"/>
                    </a:lnTo>
                    <a:lnTo>
                      <a:pt x="0" y="7825"/>
                    </a:lnTo>
                    <a:lnTo>
                      <a:pt x="31" y="7577"/>
                    </a:lnTo>
                    <a:lnTo>
                      <a:pt x="62" y="7331"/>
                    </a:lnTo>
                    <a:lnTo>
                      <a:pt x="94" y="7084"/>
                    </a:lnTo>
                    <a:lnTo>
                      <a:pt x="126" y="6838"/>
                    </a:lnTo>
                    <a:lnTo>
                      <a:pt x="158" y="6591"/>
                    </a:lnTo>
                    <a:lnTo>
                      <a:pt x="189" y="6344"/>
                    </a:lnTo>
                    <a:lnTo>
                      <a:pt x="221" y="6098"/>
                    </a:lnTo>
                    <a:lnTo>
                      <a:pt x="253" y="5852"/>
                    </a:lnTo>
                    <a:lnTo>
                      <a:pt x="285" y="5605"/>
                    </a:lnTo>
                    <a:lnTo>
                      <a:pt x="316" y="5360"/>
                    </a:lnTo>
                    <a:lnTo>
                      <a:pt x="348" y="5116"/>
                    </a:lnTo>
                    <a:lnTo>
                      <a:pt x="380" y="4871"/>
                    </a:lnTo>
                    <a:lnTo>
                      <a:pt x="412" y="4624"/>
                    </a:lnTo>
                    <a:lnTo>
                      <a:pt x="443" y="4379"/>
                    </a:lnTo>
                    <a:lnTo>
                      <a:pt x="475" y="4134"/>
                    </a:lnTo>
                    <a:lnTo>
                      <a:pt x="507" y="3889"/>
                    </a:lnTo>
                    <a:lnTo>
                      <a:pt x="539" y="3646"/>
                    </a:lnTo>
                    <a:lnTo>
                      <a:pt x="570" y="3402"/>
                    </a:lnTo>
                    <a:lnTo>
                      <a:pt x="601" y="3158"/>
                    </a:lnTo>
                    <a:lnTo>
                      <a:pt x="633" y="2915"/>
                    </a:lnTo>
                    <a:lnTo>
                      <a:pt x="664" y="2671"/>
                    </a:lnTo>
                    <a:lnTo>
                      <a:pt x="695" y="2427"/>
                    </a:lnTo>
                    <a:lnTo>
                      <a:pt x="726" y="2183"/>
                    </a:lnTo>
                    <a:lnTo>
                      <a:pt x="758" y="1940"/>
                    </a:lnTo>
                    <a:lnTo>
                      <a:pt x="790" y="1697"/>
                    </a:lnTo>
                    <a:lnTo>
                      <a:pt x="821" y="1455"/>
                    </a:lnTo>
                    <a:lnTo>
                      <a:pt x="852" y="1211"/>
                    </a:lnTo>
                    <a:lnTo>
                      <a:pt x="884" y="968"/>
                    </a:lnTo>
                    <a:lnTo>
                      <a:pt x="915" y="726"/>
                    </a:lnTo>
                    <a:lnTo>
                      <a:pt x="946" y="483"/>
                    </a:lnTo>
                    <a:lnTo>
                      <a:pt x="977" y="242"/>
                    </a:lnTo>
                    <a:lnTo>
                      <a:pt x="101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69680" y="4060440"/>
                <a:ext cx="590760" cy="293040"/>
              </a:xfrm>
              <a:custGeom>
                <a:avLst/>
                <a:gdLst/>
                <a:ahLst/>
                <a:rect l="l" t="t" r="r" b="b"/>
                <a:pathLst>
                  <a:path w="1583" h="1070">
                    <a:moveTo>
                      <a:pt x="1348" y="477"/>
                    </a:moveTo>
                    <a:lnTo>
                      <a:pt x="1377" y="551"/>
                    </a:lnTo>
                    <a:lnTo>
                      <a:pt x="1406" y="625"/>
                    </a:lnTo>
                    <a:lnTo>
                      <a:pt x="1435" y="700"/>
                    </a:lnTo>
                    <a:lnTo>
                      <a:pt x="1465" y="773"/>
                    </a:lnTo>
                    <a:lnTo>
                      <a:pt x="1494" y="847"/>
                    </a:lnTo>
                    <a:lnTo>
                      <a:pt x="1523" y="921"/>
                    </a:lnTo>
                    <a:lnTo>
                      <a:pt x="1553" y="996"/>
                    </a:lnTo>
                    <a:lnTo>
                      <a:pt x="1583" y="1070"/>
                    </a:lnTo>
                    <a:lnTo>
                      <a:pt x="1410" y="1009"/>
                    </a:lnTo>
                    <a:lnTo>
                      <a:pt x="1238" y="946"/>
                    </a:lnTo>
                    <a:lnTo>
                      <a:pt x="1066" y="884"/>
                    </a:lnTo>
                    <a:lnTo>
                      <a:pt x="896" y="821"/>
                    </a:lnTo>
                    <a:lnTo>
                      <a:pt x="726" y="760"/>
                    </a:lnTo>
                    <a:lnTo>
                      <a:pt x="557" y="698"/>
                    </a:lnTo>
                    <a:lnTo>
                      <a:pt x="389" y="638"/>
                    </a:lnTo>
                    <a:lnTo>
                      <a:pt x="223" y="577"/>
                    </a:lnTo>
                    <a:lnTo>
                      <a:pt x="195" y="504"/>
                    </a:lnTo>
                    <a:lnTo>
                      <a:pt x="166" y="433"/>
                    </a:lnTo>
                    <a:lnTo>
                      <a:pt x="139" y="360"/>
                    </a:lnTo>
                    <a:lnTo>
                      <a:pt x="111" y="287"/>
                    </a:lnTo>
                    <a:lnTo>
                      <a:pt x="84" y="216"/>
                    </a:lnTo>
                    <a:lnTo>
                      <a:pt x="55" y="143"/>
                    </a:lnTo>
                    <a:lnTo>
                      <a:pt x="28" y="72"/>
                    </a:lnTo>
                    <a:lnTo>
                      <a:pt x="0" y="0"/>
                    </a:lnTo>
                    <a:lnTo>
                      <a:pt x="166" y="58"/>
                    </a:lnTo>
                    <a:lnTo>
                      <a:pt x="333" y="117"/>
                    </a:lnTo>
                    <a:lnTo>
                      <a:pt x="500" y="178"/>
                    </a:lnTo>
                    <a:lnTo>
                      <a:pt x="668" y="237"/>
                    </a:lnTo>
                    <a:lnTo>
                      <a:pt x="837" y="296"/>
                    </a:lnTo>
                    <a:lnTo>
                      <a:pt x="1006" y="356"/>
                    </a:lnTo>
                    <a:lnTo>
                      <a:pt x="1176" y="416"/>
                    </a:lnTo>
                    <a:lnTo>
                      <a:pt x="1348" y="4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269680" y="4060440"/>
                <a:ext cx="590760" cy="293040"/>
              </a:xfrm>
              <a:custGeom>
                <a:avLst/>
                <a:gdLst/>
                <a:ahLst/>
                <a:rect l="l" t="t" r="r" b="b"/>
                <a:pathLst>
                  <a:path w="1583" h="1070">
                    <a:moveTo>
                      <a:pt x="1348" y="477"/>
                    </a:moveTo>
                    <a:lnTo>
                      <a:pt x="1377" y="551"/>
                    </a:lnTo>
                    <a:lnTo>
                      <a:pt x="1406" y="625"/>
                    </a:lnTo>
                    <a:lnTo>
                      <a:pt x="1435" y="700"/>
                    </a:lnTo>
                    <a:lnTo>
                      <a:pt x="1465" y="773"/>
                    </a:lnTo>
                    <a:lnTo>
                      <a:pt x="1494" y="847"/>
                    </a:lnTo>
                    <a:lnTo>
                      <a:pt x="1523" y="921"/>
                    </a:lnTo>
                    <a:lnTo>
                      <a:pt x="1553" y="996"/>
                    </a:lnTo>
                    <a:lnTo>
                      <a:pt x="1583" y="1070"/>
                    </a:lnTo>
                    <a:lnTo>
                      <a:pt x="1410" y="1009"/>
                    </a:lnTo>
                    <a:lnTo>
                      <a:pt x="1238" y="946"/>
                    </a:lnTo>
                    <a:lnTo>
                      <a:pt x="1066" y="884"/>
                    </a:lnTo>
                    <a:lnTo>
                      <a:pt x="896" y="821"/>
                    </a:lnTo>
                    <a:lnTo>
                      <a:pt x="726" y="760"/>
                    </a:lnTo>
                    <a:lnTo>
                      <a:pt x="557" y="698"/>
                    </a:lnTo>
                    <a:lnTo>
                      <a:pt x="389" y="638"/>
                    </a:lnTo>
                    <a:lnTo>
                      <a:pt x="223" y="577"/>
                    </a:lnTo>
                    <a:lnTo>
                      <a:pt x="195" y="504"/>
                    </a:lnTo>
                    <a:lnTo>
                      <a:pt x="166" y="433"/>
                    </a:lnTo>
                    <a:lnTo>
                      <a:pt x="139" y="360"/>
                    </a:lnTo>
                    <a:lnTo>
                      <a:pt x="111" y="287"/>
                    </a:lnTo>
                    <a:lnTo>
                      <a:pt x="84" y="216"/>
                    </a:lnTo>
                    <a:lnTo>
                      <a:pt x="55" y="143"/>
                    </a:lnTo>
                    <a:lnTo>
                      <a:pt x="28" y="72"/>
                    </a:lnTo>
                    <a:lnTo>
                      <a:pt x="0" y="0"/>
                    </a:lnTo>
                    <a:lnTo>
                      <a:pt x="166" y="58"/>
                    </a:lnTo>
                    <a:lnTo>
                      <a:pt x="333" y="117"/>
                    </a:lnTo>
                    <a:lnTo>
                      <a:pt x="500" y="178"/>
                    </a:lnTo>
                    <a:lnTo>
                      <a:pt x="668" y="237"/>
                    </a:lnTo>
                    <a:lnTo>
                      <a:pt x="837" y="296"/>
                    </a:lnTo>
                    <a:lnTo>
                      <a:pt x="1006" y="356"/>
                    </a:lnTo>
                    <a:lnTo>
                      <a:pt x="1176" y="416"/>
                    </a:lnTo>
                    <a:lnTo>
                      <a:pt x="1348" y="477"/>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269680" y="1965240"/>
                <a:ext cx="878760" cy="2225520"/>
              </a:xfrm>
              <a:custGeom>
                <a:avLst/>
                <a:gdLst/>
                <a:ahLst/>
                <a:rect l="l" t="t" r="r" b="b"/>
                <a:pathLst>
                  <a:path w="2358" h="8116">
                    <a:moveTo>
                      <a:pt x="1005" y="0"/>
                    </a:moveTo>
                    <a:lnTo>
                      <a:pt x="1171" y="36"/>
                    </a:lnTo>
                    <a:lnTo>
                      <a:pt x="1339" y="72"/>
                    </a:lnTo>
                    <a:lnTo>
                      <a:pt x="1507" y="107"/>
                    </a:lnTo>
                    <a:lnTo>
                      <a:pt x="1676" y="144"/>
                    </a:lnTo>
                    <a:lnTo>
                      <a:pt x="1846" y="180"/>
                    </a:lnTo>
                    <a:lnTo>
                      <a:pt x="2016" y="217"/>
                    </a:lnTo>
                    <a:lnTo>
                      <a:pt x="2186" y="254"/>
                    </a:lnTo>
                    <a:lnTo>
                      <a:pt x="2358" y="291"/>
                    </a:lnTo>
                    <a:lnTo>
                      <a:pt x="2325" y="533"/>
                    </a:lnTo>
                    <a:lnTo>
                      <a:pt x="2294" y="774"/>
                    </a:lnTo>
                    <a:lnTo>
                      <a:pt x="2263" y="1017"/>
                    </a:lnTo>
                    <a:lnTo>
                      <a:pt x="2232" y="1259"/>
                    </a:lnTo>
                    <a:lnTo>
                      <a:pt x="2200" y="1502"/>
                    </a:lnTo>
                    <a:lnTo>
                      <a:pt x="2169" y="1746"/>
                    </a:lnTo>
                    <a:lnTo>
                      <a:pt x="2138" y="1988"/>
                    </a:lnTo>
                    <a:lnTo>
                      <a:pt x="2106" y="2231"/>
                    </a:lnTo>
                    <a:lnTo>
                      <a:pt x="2074" y="2474"/>
                    </a:lnTo>
                    <a:lnTo>
                      <a:pt x="2043" y="2718"/>
                    </a:lnTo>
                    <a:lnTo>
                      <a:pt x="2012" y="2962"/>
                    </a:lnTo>
                    <a:lnTo>
                      <a:pt x="1981" y="3206"/>
                    </a:lnTo>
                    <a:lnTo>
                      <a:pt x="1949" y="3449"/>
                    </a:lnTo>
                    <a:lnTo>
                      <a:pt x="1918" y="3693"/>
                    </a:lnTo>
                    <a:lnTo>
                      <a:pt x="1887" y="3937"/>
                    </a:lnTo>
                    <a:lnTo>
                      <a:pt x="1855" y="4180"/>
                    </a:lnTo>
                    <a:lnTo>
                      <a:pt x="1823" y="4425"/>
                    </a:lnTo>
                    <a:lnTo>
                      <a:pt x="1791" y="4670"/>
                    </a:lnTo>
                    <a:lnTo>
                      <a:pt x="1760" y="4915"/>
                    </a:lnTo>
                    <a:lnTo>
                      <a:pt x="1728" y="5162"/>
                    </a:lnTo>
                    <a:lnTo>
                      <a:pt x="1696" y="5407"/>
                    </a:lnTo>
                    <a:lnTo>
                      <a:pt x="1664" y="5651"/>
                    </a:lnTo>
                    <a:lnTo>
                      <a:pt x="1633" y="5896"/>
                    </a:lnTo>
                    <a:lnTo>
                      <a:pt x="1601" y="6143"/>
                    </a:lnTo>
                    <a:lnTo>
                      <a:pt x="1569" y="6389"/>
                    </a:lnTo>
                    <a:lnTo>
                      <a:pt x="1537" y="6635"/>
                    </a:lnTo>
                    <a:lnTo>
                      <a:pt x="1506" y="6882"/>
                    </a:lnTo>
                    <a:lnTo>
                      <a:pt x="1474" y="7129"/>
                    </a:lnTo>
                    <a:lnTo>
                      <a:pt x="1442" y="7375"/>
                    </a:lnTo>
                    <a:lnTo>
                      <a:pt x="1410" y="7622"/>
                    </a:lnTo>
                    <a:lnTo>
                      <a:pt x="1379" y="7868"/>
                    </a:lnTo>
                    <a:lnTo>
                      <a:pt x="1348" y="8116"/>
                    </a:lnTo>
                    <a:lnTo>
                      <a:pt x="1176" y="8055"/>
                    </a:lnTo>
                    <a:lnTo>
                      <a:pt x="1006" y="7995"/>
                    </a:lnTo>
                    <a:lnTo>
                      <a:pt x="837" y="7935"/>
                    </a:lnTo>
                    <a:lnTo>
                      <a:pt x="668" y="7876"/>
                    </a:lnTo>
                    <a:lnTo>
                      <a:pt x="500" y="7817"/>
                    </a:lnTo>
                    <a:lnTo>
                      <a:pt x="333" y="7756"/>
                    </a:lnTo>
                    <a:lnTo>
                      <a:pt x="166" y="7697"/>
                    </a:lnTo>
                    <a:lnTo>
                      <a:pt x="0" y="7639"/>
                    </a:lnTo>
                    <a:lnTo>
                      <a:pt x="32" y="7398"/>
                    </a:lnTo>
                    <a:lnTo>
                      <a:pt x="63" y="7158"/>
                    </a:lnTo>
                    <a:lnTo>
                      <a:pt x="96" y="6917"/>
                    </a:lnTo>
                    <a:lnTo>
                      <a:pt x="127" y="6677"/>
                    </a:lnTo>
                    <a:lnTo>
                      <a:pt x="159" y="6436"/>
                    </a:lnTo>
                    <a:lnTo>
                      <a:pt x="190" y="6194"/>
                    </a:lnTo>
                    <a:lnTo>
                      <a:pt x="222" y="5954"/>
                    </a:lnTo>
                    <a:lnTo>
                      <a:pt x="253" y="5714"/>
                    </a:lnTo>
                    <a:lnTo>
                      <a:pt x="285" y="5474"/>
                    </a:lnTo>
                    <a:lnTo>
                      <a:pt x="316" y="5235"/>
                    </a:lnTo>
                    <a:lnTo>
                      <a:pt x="348" y="4995"/>
                    </a:lnTo>
                    <a:lnTo>
                      <a:pt x="379" y="4755"/>
                    </a:lnTo>
                    <a:lnTo>
                      <a:pt x="411" y="4517"/>
                    </a:lnTo>
                    <a:lnTo>
                      <a:pt x="442" y="4276"/>
                    </a:lnTo>
                    <a:lnTo>
                      <a:pt x="474" y="4038"/>
                    </a:lnTo>
                    <a:lnTo>
                      <a:pt x="505" y="3799"/>
                    </a:lnTo>
                    <a:lnTo>
                      <a:pt x="536" y="3560"/>
                    </a:lnTo>
                    <a:lnTo>
                      <a:pt x="567" y="3323"/>
                    </a:lnTo>
                    <a:lnTo>
                      <a:pt x="600" y="3084"/>
                    </a:lnTo>
                    <a:lnTo>
                      <a:pt x="631" y="2846"/>
                    </a:lnTo>
                    <a:lnTo>
                      <a:pt x="662" y="2609"/>
                    </a:lnTo>
                    <a:lnTo>
                      <a:pt x="693" y="2371"/>
                    </a:lnTo>
                    <a:lnTo>
                      <a:pt x="725" y="2132"/>
                    </a:lnTo>
                    <a:lnTo>
                      <a:pt x="756" y="1895"/>
                    </a:lnTo>
                    <a:lnTo>
                      <a:pt x="787" y="1658"/>
                    </a:lnTo>
                    <a:lnTo>
                      <a:pt x="817" y="1421"/>
                    </a:lnTo>
                    <a:lnTo>
                      <a:pt x="849" y="1184"/>
                    </a:lnTo>
                    <a:lnTo>
                      <a:pt x="880" y="948"/>
                    </a:lnTo>
                    <a:lnTo>
                      <a:pt x="911" y="710"/>
                    </a:lnTo>
                    <a:lnTo>
                      <a:pt x="942" y="474"/>
                    </a:lnTo>
                    <a:lnTo>
                      <a:pt x="974" y="238"/>
                    </a:lnTo>
                    <a:lnTo>
                      <a:pt x="1005" y="0"/>
                    </a:lnTo>
                    <a:close/>
                    <a:moveTo>
                      <a:pt x="1155" y="351"/>
                    </a:moveTo>
                    <a:lnTo>
                      <a:pt x="1275" y="377"/>
                    </a:lnTo>
                    <a:lnTo>
                      <a:pt x="1394" y="403"/>
                    </a:lnTo>
                    <a:lnTo>
                      <a:pt x="1514" y="430"/>
                    </a:lnTo>
                    <a:lnTo>
                      <a:pt x="1634" y="456"/>
                    </a:lnTo>
                    <a:lnTo>
                      <a:pt x="1755" y="483"/>
                    </a:lnTo>
                    <a:lnTo>
                      <a:pt x="1876" y="510"/>
                    </a:lnTo>
                    <a:lnTo>
                      <a:pt x="1997" y="537"/>
                    </a:lnTo>
                    <a:lnTo>
                      <a:pt x="2119" y="564"/>
                    </a:lnTo>
                    <a:lnTo>
                      <a:pt x="2091" y="786"/>
                    </a:lnTo>
                    <a:lnTo>
                      <a:pt x="2061" y="1007"/>
                    </a:lnTo>
                    <a:lnTo>
                      <a:pt x="2032" y="1229"/>
                    </a:lnTo>
                    <a:lnTo>
                      <a:pt x="2004" y="1451"/>
                    </a:lnTo>
                    <a:lnTo>
                      <a:pt x="1975" y="1673"/>
                    </a:lnTo>
                    <a:lnTo>
                      <a:pt x="1945" y="1896"/>
                    </a:lnTo>
                    <a:lnTo>
                      <a:pt x="1916" y="2117"/>
                    </a:lnTo>
                    <a:lnTo>
                      <a:pt x="1888" y="2340"/>
                    </a:lnTo>
                    <a:lnTo>
                      <a:pt x="1859" y="2563"/>
                    </a:lnTo>
                    <a:lnTo>
                      <a:pt x="1831" y="2786"/>
                    </a:lnTo>
                    <a:lnTo>
                      <a:pt x="1802" y="3009"/>
                    </a:lnTo>
                    <a:lnTo>
                      <a:pt x="1773" y="3233"/>
                    </a:lnTo>
                    <a:lnTo>
                      <a:pt x="1745" y="3455"/>
                    </a:lnTo>
                    <a:lnTo>
                      <a:pt x="1717" y="3679"/>
                    </a:lnTo>
                    <a:lnTo>
                      <a:pt x="1687" y="3904"/>
                    </a:lnTo>
                    <a:lnTo>
                      <a:pt x="1659" y="4128"/>
                    </a:lnTo>
                    <a:lnTo>
                      <a:pt x="1630" y="4350"/>
                    </a:lnTo>
                    <a:lnTo>
                      <a:pt x="1601" y="4574"/>
                    </a:lnTo>
                    <a:lnTo>
                      <a:pt x="1571" y="4798"/>
                    </a:lnTo>
                    <a:lnTo>
                      <a:pt x="1542" y="5024"/>
                    </a:lnTo>
                    <a:lnTo>
                      <a:pt x="1514" y="5248"/>
                    </a:lnTo>
                    <a:lnTo>
                      <a:pt x="1485" y="5472"/>
                    </a:lnTo>
                    <a:lnTo>
                      <a:pt x="1456" y="5696"/>
                    </a:lnTo>
                    <a:lnTo>
                      <a:pt x="1425" y="5921"/>
                    </a:lnTo>
                    <a:lnTo>
                      <a:pt x="1396" y="6146"/>
                    </a:lnTo>
                    <a:lnTo>
                      <a:pt x="1367" y="6372"/>
                    </a:lnTo>
                    <a:lnTo>
                      <a:pt x="1338" y="6597"/>
                    </a:lnTo>
                    <a:lnTo>
                      <a:pt x="1308" y="6822"/>
                    </a:lnTo>
                    <a:lnTo>
                      <a:pt x="1279" y="7047"/>
                    </a:lnTo>
                    <a:lnTo>
                      <a:pt x="1250" y="7274"/>
                    </a:lnTo>
                    <a:lnTo>
                      <a:pt x="1221" y="7499"/>
                    </a:lnTo>
                    <a:lnTo>
                      <a:pt x="1191" y="7724"/>
                    </a:lnTo>
                    <a:lnTo>
                      <a:pt x="1070" y="7683"/>
                    </a:lnTo>
                    <a:lnTo>
                      <a:pt x="950" y="7641"/>
                    </a:lnTo>
                    <a:lnTo>
                      <a:pt x="829" y="7599"/>
                    </a:lnTo>
                    <a:lnTo>
                      <a:pt x="709" y="7557"/>
                    </a:lnTo>
                    <a:lnTo>
                      <a:pt x="590" y="7515"/>
                    </a:lnTo>
                    <a:lnTo>
                      <a:pt x="470" y="7473"/>
                    </a:lnTo>
                    <a:lnTo>
                      <a:pt x="351" y="7433"/>
                    </a:lnTo>
                    <a:lnTo>
                      <a:pt x="232" y="7391"/>
                    </a:lnTo>
                    <a:lnTo>
                      <a:pt x="261" y="7169"/>
                    </a:lnTo>
                    <a:lnTo>
                      <a:pt x="290" y="6948"/>
                    </a:lnTo>
                    <a:lnTo>
                      <a:pt x="320" y="6726"/>
                    </a:lnTo>
                    <a:lnTo>
                      <a:pt x="349" y="6503"/>
                    </a:lnTo>
                    <a:lnTo>
                      <a:pt x="378" y="6282"/>
                    </a:lnTo>
                    <a:lnTo>
                      <a:pt x="407" y="6060"/>
                    </a:lnTo>
                    <a:lnTo>
                      <a:pt x="436" y="5839"/>
                    </a:lnTo>
                    <a:lnTo>
                      <a:pt x="465" y="5617"/>
                    </a:lnTo>
                    <a:lnTo>
                      <a:pt x="494" y="5397"/>
                    </a:lnTo>
                    <a:lnTo>
                      <a:pt x="523" y="5176"/>
                    </a:lnTo>
                    <a:lnTo>
                      <a:pt x="551" y="4955"/>
                    </a:lnTo>
                    <a:lnTo>
                      <a:pt x="581" y="4734"/>
                    </a:lnTo>
                    <a:lnTo>
                      <a:pt x="609" y="4514"/>
                    </a:lnTo>
                    <a:lnTo>
                      <a:pt x="638" y="4294"/>
                    </a:lnTo>
                    <a:lnTo>
                      <a:pt x="666" y="4073"/>
                    </a:lnTo>
                    <a:lnTo>
                      <a:pt x="696" y="3854"/>
                    </a:lnTo>
                    <a:lnTo>
                      <a:pt x="724" y="3634"/>
                    </a:lnTo>
                    <a:lnTo>
                      <a:pt x="753" y="3415"/>
                    </a:lnTo>
                    <a:lnTo>
                      <a:pt x="781" y="3194"/>
                    </a:lnTo>
                    <a:lnTo>
                      <a:pt x="810" y="2975"/>
                    </a:lnTo>
                    <a:lnTo>
                      <a:pt x="839" y="2756"/>
                    </a:lnTo>
                    <a:lnTo>
                      <a:pt x="868" y="2536"/>
                    </a:lnTo>
                    <a:lnTo>
                      <a:pt x="897" y="2317"/>
                    </a:lnTo>
                    <a:lnTo>
                      <a:pt x="926" y="2098"/>
                    </a:lnTo>
                    <a:lnTo>
                      <a:pt x="955" y="1880"/>
                    </a:lnTo>
                    <a:lnTo>
                      <a:pt x="984" y="1661"/>
                    </a:lnTo>
                    <a:lnTo>
                      <a:pt x="1012" y="1443"/>
                    </a:lnTo>
                    <a:lnTo>
                      <a:pt x="1040" y="1224"/>
                    </a:lnTo>
                    <a:lnTo>
                      <a:pt x="1069" y="1006"/>
                    </a:lnTo>
                    <a:lnTo>
                      <a:pt x="1098" y="788"/>
                    </a:lnTo>
                    <a:lnTo>
                      <a:pt x="1127" y="569"/>
                    </a:lnTo>
                    <a:lnTo>
                      <a:pt x="1155" y="351"/>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269680" y="1965240"/>
                <a:ext cx="878760" cy="2225520"/>
              </a:xfrm>
              <a:custGeom>
                <a:avLst/>
                <a:gdLst/>
                <a:ahLst/>
                <a:rect l="l" t="t" r="r" b="b"/>
                <a:pathLst>
                  <a:path w="2358" h="8116">
                    <a:moveTo>
                      <a:pt x="1005" y="0"/>
                    </a:moveTo>
                    <a:lnTo>
                      <a:pt x="1171" y="36"/>
                    </a:lnTo>
                    <a:lnTo>
                      <a:pt x="1339" y="72"/>
                    </a:lnTo>
                    <a:lnTo>
                      <a:pt x="1507" y="107"/>
                    </a:lnTo>
                    <a:lnTo>
                      <a:pt x="1676" y="144"/>
                    </a:lnTo>
                    <a:lnTo>
                      <a:pt x="1846" y="180"/>
                    </a:lnTo>
                    <a:lnTo>
                      <a:pt x="2016" y="217"/>
                    </a:lnTo>
                    <a:lnTo>
                      <a:pt x="2186" y="254"/>
                    </a:lnTo>
                    <a:lnTo>
                      <a:pt x="2358" y="291"/>
                    </a:lnTo>
                    <a:lnTo>
                      <a:pt x="2325" y="533"/>
                    </a:lnTo>
                    <a:lnTo>
                      <a:pt x="2294" y="774"/>
                    </a:lnTo>
                    <a:lnTo>
                      <a:pt x="2263" y="1017"/>
                    </a:lnTo>
                    <a:lnTo>
                      <a:pt x="2232" y="1259"/>
                    </a:lnTo>
                    <a:lnTo>
                      <a:pt x="2200" y="1502"/>
                    </a:lnTo>
                    <a:lnTo>
                      <a:pt x="2169" y="1746"/>
                    </a:lnTo>
                    <a:lnTo>
                      <a:pt x="2138" y="1988"/>
                    </a:lnTo>
                    <a:lnTo>
                      <a:pt x="2106" y="2231"/>
                    </a:lnTo>
                    <a:lnTo>
                      <a:pt x="2074" y="2474"/>
                    </a:lnTo>
                    <a:lnTo>
                      <a:pt x="2043" y="2718"/>
                    </a:lnTo>
                    <a:lnTo>
                      <a:pt x="2012" y="2962"/>
                    </a:lnTo>
                    <a:lnTo>
                      <a:pt x="1981" y="3206"/>
                    </a:lnTo>
                    <a:lnTo>
                      <a:pt x="1949" y="3449"/>
                    </a:lnTo>
                    <a:lnTo>
                      <a:pt x="1918" y="3693"/>
                    </a:lnTo>
                    <a:lnTo>
                      <a:pt x="1887" y="3937"/>
                    </a:lnTo>
                    <a:lnTo>
                      <a:pt x="1855" y="4180"/>
                    </a:lnTo>
                    <a:lnTo>
                      <a:pt x="1823" y="4425"/>
                    </a:lnTo>
                    <a:lnTo>
                      <a:pt x="1791" y="4670"/>
                    </a:lnTo>
                    <a:lnTo>
                      <a:pt x="1760" y="4915"/>
                    </a:lnTo>
                    <a:lnTo>
                      <a:pt x="1728" y="5162"/>
                    </a:lnTo>
                    <a:lnTo>
                      <a:pt x="1696" y="5407"/>
                    </a:lnTo>
                    <a:lnTo>
                      <a:pt x="1664" y="5651"/>
                    </a:lnTo>
                    <a:lnTo>
                      <a:pt x="1633" y="5896"/>
                    </a:lnTo>
                    <a:lnTo>
                      <a:pt x="1601" y="6143"/>
                    </a:lnTo>
                    <a:lnTo>
                      <a:pt x="1569" y="6389"/>
                    </a:lnTo>
                    <a:lnTo>
                      <a:pt x="1537" y="6635"/>
                    </a:lnTo>
                    <a:lnTo>
                      <a:pt x="1506" y="6882"/>
                    </a:lnTo>
                    <a:lnTo>
                      <a:pt x="1474" y="7129"/>
                    </a:lnTo>
                    <a:lnTo>
                      <a:pt x="1442" y="7375"/>
                    </a:lnTo>
                    <a:lnTo>
                      <a:pt x="1410" y="7622"/>
                    </a:lnTo>
                    <a:lnTo>
                      <a:pt x="1379" y="7868"/>
                    </a:lnTo>
                    <a:lnTo>
                      <a:pt x="1348" y="8116"/>
                    </a:lnTo>
                    <a:lnTo>
                      <a:pt x="1176" y="8055"/>
                    </a:lnTo>
                    <a:lnTo>
                      <a:pt x="1006" y="7995"/>
                    </a:lnTo>
                    <a:lnTo>
                      <a:pt x="837" y="7935"/>
                    </a:lnTo>
                    <a:lnTo>
                      <a:pt x="668" y="7876"/>
                    </a:lnTo>
                    <a:lnTo>
                      <a:pt x="500" y="7817"/>
                    </a:lnTo>
                    <a:lnTo>
                      <a:pt x="333" y="7756"/>
                    </a:lnTo>
                    <a:lnTo>
                      <a:pt x="166" y="7697"/>
                    </a:lnTo>
                    <a:lnTo>
                      <a:pt x="0" y="7639"/>
                    </a:lnTo>
                    <a:lnTo>
                      <a:pt x="32" y="7398"/>
                    </a:lnTo>
                    <a:lnTo>
                      <a:pt x="63" y="7158"/>
                    </a:lnTo>
                    <a:lnTo>
                      <a:pt x="96" y="6917"/>
                    </a:lnTo>
                    <a:lnTo>
                      <a:pt x="127" y="6677"/>
                    </a:lnTo>
                    <a:lnTo>
                      <a:pt x="159" y="6436"/>
                    </a:lnTo>
                    <a:lnTo>
                      <a:pt x="190" y="6194"/>
                    </a:lnTo>
                    <a:lnTo>
                      <a:pt x="222" y="5954"/>
                    </a:lnTo>
                    <a:lnTo>
                      <a:pt x="253" y="5714"/>
                    </a:lnTo>
                    <a:lnTo>
                      <a:pt x="285" y="5474"/>
                    </a:lnTo>
                    <a:lnTo>
                      <a:pt x="316" y="5235"/>
                    </a:lnTo>
                    <a:lnTo>
                      <a:pt x="348" y="4995"/>
                    </a:lnTo>
                    <a:lnTo>
                      <a:pt x="379" y="4755"/>
                    </a:lnTo>
                    <a:lnTo>
                      <a:pt x="411" y="4517"/>
                    </a:lnTo>
                    <a:lnTo>
                      <a:pt x="442" y="4276"/>
                    </a:lnTo>
                    <a:lnTo>
                      <a:pt x="474" y="4038"/>
                    </a:lnTo>
                    <a:lnTo>
                      <a:pt x="505" y="3799"/>
                    </a:lnTo>
                    <a:lnTo>
                      <a:pt x="536" y="3560"/>
                    </a:lnTo>
                    <a:lnTo>
                      <a:pt x="567" y="3323"/>
                    </a:lnTo>
                    <a:lnTo>
                      <a:pt x="600" y="3084"/>
                    </a:lnTo>
                    <a:lnTo>
                      <a:pt x="631" y="2846"/>
                    </a:lnTo>
                    <a:lnTo>
                      <a:pt x="662" y="2609"/>
                    </a:lnTo>
                    <a:lnTo>
                      <a:pt x="693" y="2371"/>
                    </a:lnTo>
                    <a:lnTo>
                      <a:pt x="725" y="2132"/>
                    </a:lnTo>
                    <a:lnTo>
                      <a:pt x="756" y="1895"/>
                    </a:lnTo>
                    <a:lnTo>
                      <a:pt x="787" y="1658"/>
                    </a:lnTo>
                    <a:lnTo>
                      <a:pt x="817" y="1421"/>
                    </a:lnTo>
                    <a:lnTo>
                      <a:pt x="849" y="1184"/>
                    </a:lnTo>
                    <a:lnTo>
                      <a:pt x="880" y="948"/>
                    </a:lnTo>
                    <a:lnTo>
                      <a:pt x="911" y="710"/>
                    </a:lnTo>
                    <a:lnTo>
                      <a:pt x="942" y="474"/>
                    </a:lnTo>
                    <a:lnTo>
                      <a:pt x="974" y="238"/>
                    </a:lnTo>
                    <a:lnTo>
                      <a:pt x="1005"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356440" y="2061000"/>
                <a:ext cx="704160" cy="2022480"/>
              </a:xfrm>
              <a:custGeom>
                <a:avLst/>
                <a:gdLst/>
                <a:ahLst/>
                <a:rect l="l" t="t" r="r" b="b"/>
                <a:pathLst>
                  <a:path w="1887" h="7373">
                    <a:moveTo>
                      <a:pt x="923" y="0"/>
                    </a:moveTo>
                    <a:lnTo>
                      <a:pt x="1043" y="26"/>
                    </a:lnTo>
                    <a:lnTo>
                      <a:pt x="1162" y="52"/>
                    </a:lnTo>
                    <a:lnTo>
                      <a:pt x="1282" y="79"/>
                    </a:lnTo>
                    <a:lnTo>
                      <a:pt x="1402" y="105"/>
                    </a:lnTo>
                    <a:lnTo>
                      <a:pt x="1523" y="132"/>
                    </a:lnTo>
                    <a:lnTo>
                      <a:pt x="1644" y="159"/>
                    </a:lnTo>
                    <a:lnTo>
                      <a:pt x="1765" y="186"/>
                    </a:lnTo>
                    <a:lnTo>
                      <a:pt x="1887" y="213"/>
                    </a:lnTo>
                    <a:lnTo>
                      <a:pt x="1859" y="435"/>
                    </a:lnTo>
                    <a:lnTo>
                      <a:pt x="1829" y="656"/>
                    </a:lnTo>
                    <a:lnTo>
                      <a:pt x="1800" y="878"/>
                    </a:lnTo>
                    <a:lnTo>
                      <a:pt x="1772" y="1100"/>
                    </a:lnTo>
                    <a:lnTo>
                      <a:pt x="1743" y="1322"/>
                    </a:lnTo>
                    <a:lnTo>
                      <a:pt x="1713" y="1545"/>
                    </a:lnTo>
                    <a:lnTo>
                      <a:pt x="1684" y="1766"/>
                    </a:lnTo>
                    <a:lnTo>
                      <a:pt x="1656" y="1989"/>
                    </a:lnTo>
                    <a:lnTo>
                      <a:pt x="1627" y="2212"/>
                    </a:lnTo>
                    <a:lnTo>
                      <a:pt x="1599" y="2435"/>
                    </a:lnTo>
                    <a:lnTo>
                      <a:pt x="1570" y="2658"/>
                    </a:lnTo>
                    <a:lnTo>
                      <a:pt x="1541" y="2882"/>
                    </a:lnTo>
                    <a:lnTo>
                      <a:pt x="1513" y="3104"/>
                    </a:lnTo>
                    <a:lnTo>
                      <a:pt x="1485" y="3328"/>
                    </a:lnTo>
                    <a:lnTo>
                      <a:pt x="1455" y="3553"/>
                    </a:lnTo>
                    <a:lnTo>
                      <a:pt x="1427" y="3777"/>
                    </a:lnTo>
                    <a:lnTo>
                      <a:pt x="1398" y="3999"/>
                    </a:lnTo>
                    <a:lnTo>
                      <a:pt x="1369" y="4223"/>
                    </a:lnTo>
                    <a:lnTo>
                      <a:pt x="1339" y="4447"/>
                    </a:lnTo>
                    <a:lnTo>
                      <a:pt x="1310" y="4673"/>
                    </a:lnTo>
                    <a:lnTo>
                      <a:pt x="1282" y="4897"/>
                    </a:lnTo>
                    <a:lnTo>
                      <a:pt x="1253" y="5121"/>
                    </a:lnTo>
                    <a:lnTo>
                      <a:pt x="1224" y="5345"/>
                    </a:lnTo>
                    <a:lnTo>
                      <a:pt x="1193" y="5570"/>
                    </a:lnTo>
                    <a:lnTo>
                      <a:pt x="1164" y="5795"/>
                    </a:lnTo>
                    <a:lnTo>
                      <a:pt x="1135" y="6021"/>
                    </a:lnTo>
                    <a:lnTo>
                      <a:pt x="1106" y="6246"/>
                    </a:lnTo>
                    <a:lnTo>
                      <a:pt x="1076" y="6471"/>
                    </a:lnTo>
                    <a:lnTo>
                      <a:pt x="1047" y="6696"/>
                    </a:lnTo>
                    <a:lnTo>
                      <a:pt x="1018" y="6923"/>
                    </a:lnTo>
                    <a:lnTo>
                      <a:pt x="989" y="7148"/>
                    </a:lnTo>
                    <a:lnTo>
                      <a:pt x="959" y="7373"/>
                    </a:lnTo>
                    <a:lnTo>
                      <a:pt x="838" y="7332"/>
                    </a:lnTo>
                    <a:lnTo>
                      <a:pt x="718" y="7290"/>
                    </a:lnTo>
                    <a:lnTo>
                      <a:pt x="597" y="7248"/>
                    </a:lnTo>
                    <a:lnTo>
                      <a:pt x="477" y="7206"/>
                    </a:lnTo>
                    <a:lnTo>
                      <a:pt x="358" y="7164"/>
                    </a:lnTo>
                    <a:lnTo>
                      <a:pt x="238" y="7122"/>
                    </a:lnTo>
                    <a:lnTo>
                      <a:pt x="119" y="7082"/>
                    </a:lnTo>
                    <a:lnTo>
                      <a:pt x="0" y="7040"/>
                    </a:lnTo>
                    <a:lnTo>
                      <a:pt x="29" y="6818"/>
                    </a:lnTo>
                    <a:lnTo>
                      <a:pt x="58" y="6597"/>
                    </a:lnTo>
                    <a:lnTo>
                      <a:pt x="88" y="6375"/>
                    </a:lnTo>
                    <a:lnTo>
                      <a:pt x="117" y="6152"/>
                    </a:lnTo>
                    <a:lnTo>
                      <a:pt x="146" y="5931"/>
                    </a:lnTo>
                    <a:lnTo>
                      <a:pt x="175" y="5709"/>
                    </a:lnTo>
                    <a:lnTo>
                      <a:pt x="204" y="5488"/>
                    </a:lnTo>
                    <a:lnTo>
                      <a:pt x="233" y="5266"/>
                    </a:lnTo>
                    <a:lnTo>
                      <a:pt x="262" y="5046"/>
                    </a:lnTo>
                    <a:lnTo>
                      <a:pt x="291" y="4825"/>
                    </a:lnTo>
                    <a:lnTo>
                      <a:pt x="319" y="4604"/>
                    </a:lnTo>
                    <a:lnTo>
                      <a:pt x="349" y="4383"/>
                    </a:lnTo>
                    <a:lnTo>
                      <a:pt x="377" y="4163"/>
                    </a:lnTo>
                    <a:lnTo>
                      <a:pt x="406" y="3943"/>
                    </a:lnTo>
                    <a:lnTo>
                      <a:pt x="434" y="3722"/>
                    </a:lnTo>
                    <a:lnTo>
                      <a:pt x="464" y="3503"/>
                    </a:lnTo>
                    <a:lnTo>
                      <a:pt x="492" y="3283"/>
                    </a:lnTo>
                    <a:lnTo>
                      <a:pt x="521" y="3064"/>
                    </a:lnTo>
                    <a:lnTo>
                      <a:pt x="549" y="2843"/>
                    </a:lnTo>
                    <a:lnTo>
                      <a:pt x="578" y="2624"/>
                    </a:lnTo>
                    <a:lnTo>
                      <a:pt x="607" y="2405"/>
                    </a:lnTo>
                    <a:lnTo>
                      <a:pt x="636" y="2185"/>
                    </a:lnTo>
                    <a:lnTo>
                      <a:pt x="665" y="1966"/>
                    </a:lnTo>
                    <a:lnTo>
                      <a:pt x="694" y="1747"/>
                    </a:lnTo>
                    <a:lnTo>
                      <a:pt x="723" y="1529"/>
                    </a:lnTo>
                    <a:lnTo>
                      <a:pt x="752" y="1310"/>
                    </a:lnTo>
                    <a:lnTo>
                      <a:pt x="780" y="1092"/>
                    </a:lnTo>
                    <a:lnTo>
                      <a:pt x="808" y="873"/>
                    </a:lnTo>
                    <a:lnTo>
                      <a:pt x="837" y="655"/>
                    </a:lnTo>
                    <a:lnTo>
                      <a:pt x="866" y="437"/>
                    </a:lnTo>
                    <a:lnTo>
                      <a:pt x="895" y="218"/>
                    </a:lnTo>
                    <a:lnTo>
                      <a:pt x="92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82920" y="2248920"/>
                <a:ext cx="734400" cy="2100600"/>
              </a:xfrm>
              <a:custGeom>
                <a:avLst/>
                <a:gdLst/>
                <a:ahLst/>
                <a:rect l="l" t="t" r="r" b="b"/>
                <a:pathLst>
                  <a:path w="1971" h="7663">
                    <a:moveTo>
                      <a:pt x="934" y="0"/>
                    </a:moveTo>
                    <a:lnTo>
                      <a:pt x="1062" y="28"/>
                    </a:lnTo>
                    <a:lnTo>
                      <a:pt x="1191" y="58"/>
                    </a:lnTo>
                    <a:lnTo>
                      <a:pt x="1320" y="86"/>
                    </a:lnTo>
                    <a:lnTo>
                      <a:pt x="1449" y="116"/>
                    </a:lnTo>
                    <a:lnTo>
                      <a:pt x="1579" y="145"/>
                    </a:lnTo>
                    <a:lnTo>
                      <a:pt x="1709" y="175"/>
                    </a:lnTo>
                    <a:lnTo>
                      <a:pt x="1839" y="204"/>
                    </a:lnTo>
                    <a:lnTo>
                      <a:pt x="1971" y="234"/>
                    </a:lnTo>
                    <a:lnTo>
                      <a:pt x="1942" y="464"/>
                    </a:lnTo>
                    <a:lnTo>
                      <a:pt x="1912" y="694"/>
                    </a:lnTo>
                    <a:lnTo>
                      <a:pt x="1884" y="924"/>
                    </a:lnTo>
                    <a:lnTo>
                      <a:pt x="1855" y="1155"/>
                    </a:lnTo>
                    <a:lnTo>
                      <a:pt x="1827" y="1386"/>
                    </a:lnTo>
                    <a:lnTo>
                      <a:pt x="1798" y="1616"/>
                    </a:lnTo>
                    <a:lnTo>
                      <a:pt x="1768" y="1846"/>
                    </a:lnTo>
                    <a:lnTo>
                      <a:pt x="1739" y="2078"/>
                    </a:lnTo>
                    <a:lnTo>
                      <a:pt x="1711" y="2309"/>
                    </a:lnTo>
                    <a:lnTo>
                      <a:pt x="1682" y="2541"/>
                    </a:lnTo>
                    <a:lnTo>
                      <a:pt x="1652" y="2772"/>
                    </a:lnTo>
                    <a:lnTo>
                      <a:pt x="1623" y="3003"/>
                    </a:lnTo>
                    <a:lnTo>
                      <a:pt x="1594" y="3235"/>
                    </a:lnTo>
                    <a:lnTo>
                      <a:pt x="1565" y="3466"/>
                    </a:lnTo>
                    <a:lnTo>
                      <a:pt x="1535" y="3698"/>
                    </a:lnTo>
                    <a:lnTo>
                      <a:pt x="1506" y="3929"/>
                    </a:lnTo>
                    <a:lnTo>
                      <a:pt x="1477" y="4162"/>
                    </a:lnTo>
                    <a:lnTo>
                      <a:pt x="1448" y="4394"/>
                    </a:lnTo>
                    <a:lnTo>
                      <a:pt x="1419" y="4627"/>
                    </a:lnTo>
                    <a:lnTo>
                      <a:pt x="1389" y="4860"/>
                    </a:lnTo>
                    <a:lnTo>
                      <a:pt x="1360" y="5092"/>
                    </a:lnTo>
                    <a:lnTo>
                      <a:pt x="1330" y="5326"/>
                    </a:lnTo>
                    <a:lnTo>
                      <a:pt x="1301" y="5559"/>
                    </a:lnTo>
                    <a:lnTo>
                      <a:pt x="1271" y="5792"/>
                    </a:lnTo>
                    <a:lnTo>
                      <a:pt x="1242" y="6025"/>
                    </a:lnTo>
                    <a:lnTo>
                      <a:pt x="1213" y="6259"/>
                    </a:lnTo>
                    <a:lnTo>
                      <a:pt x="1184" y="6493"/>
                    </a:lnTo>
                    <a:lnTo>
                      <a:pt x="1154" y="6727"/>
                    </a:lnTo>
                    <a:lnTo>
                      <a:pt x="1124" y="6961"/>
                    </a:lnTo>
                    <a:lnTo>
                      <a:pt x="1095" y="7195"/>
                    </a:lnTo>
                    <a:lnTo>
                      <a:pt x="1066" y="7429"/>
                    </a:lnTo>
                    <a:lnTo>
                      <a:pt x="1035" y="7663"/>
                    </a:lnTo>
                    <a:lnTo>
                      <a:pt x="905" y="7617"/>
                    </a:lnTo>
                    <a:lnTo>
                      <a:pt x="775" y="7570"/>
                    </a:lnTo>
                    <a:lnTo>
                      <a:pt x="645" y="7525"/>
                    </a:lnTo>
                    <a:lnTo>
                      <a:pt x="515" y="7478"/>
                    </a:lnTo>
                    <a:lnTo>
                      <a:pt x="386" y="7432"/>
                    </a:lnTo>
                    <a:lnTo>
                      <a:pt x="257" y="7387"/>
                    </a:lnTo>
                    <a:lnTo>
                      <a:pt x="128" y="7343"/>
                    </a:lnTo>
                    <a:lnTo>
                      <a:pt x="0" y="7297"/>
                    </a:lnTo>
                    <a:lnTo>
                      <a:pt x="30" y="7067"/>
                    </a:lnTo>
                    <a:lnTo>
                      <a:pt x="59" y="6838"/>
                    </a:lnTo>
                    <a:lnTo>
                      <a:pt x="89" y="6608"/>
                    </a:lnTo>
                    <a:lnTo>
                      <a:pt x="118" y="6377"/>
                    </a:lnTo>
                    <a:lnTo>
                      <a:pt x="147" y="6147"/>
                    </a:lnTo>
                    <a:lnTo>
                      <a:pt x="177" y="5918"/>
                    </a:lnTo>
                    <a:lnTo>
                      <a:pt x="206" y="5688"/>
                    </a:lnTo>
                    <a:lnTo>
                      <a:pt x="236" y="5459"/>
                    </a:lnTo>
                    <a:lnTo>
                      <a:pt x="265" y="5230"/>
                    </a:lnTo>
                    <a:lnTo>
                      <a:pt x="295" y="5001"/>
                    </a:lnTo>
                    <a:lnTo>
                      <a:pt x="324" y="4772"/>
                    </a:lnTo>
                    <a:lnTo>
                      <a:pt x="353" y="4543"/>
                    </a:lnTo>
                    <a:lnTo>
                      <a:pt x="382" y="4316"/>
                    </a:lnTo>
                    <a:lnTo>
                      <a:pt x="412" y="4087"/>
                    </a:lnTo>
                    <a:lnTo>
                      <a:pt x="441" y="3859"/>
                    </a:lnTo>
                    <a:lnTo>
                      <a:pt x="470" y="3630"/>
                    </a:lnTo>
                    <a:lnTo>
                      <a:pt x="499" y="3404"/>
                    </a:lnTo>
                    <a:lnTo>
                      <a:pt x="528" y="3176"/>
                    </a:lnTo>
                    <a:lnTo>
                      <a:pt x="558" y="2948"/>
                    </a:lnTo>
                    <a:lnTo>
                      <a:pt x="587" y="2722"/>
                    </a:lnTo>
                    <a:lnTo>
                      <a:pt x="615" y="2494"/>
                    </a:lnTo>
                    <a:lnTo>
                      <a:pt x="644" y="2266"/>
                    </a:lnTo>
                    <a:lnTo>
                      <a:pt x="674" y="2038"/>
                    </a:lnTo>
                    <a:lnTo>
                      <a:pt x="703" y="1812"/>
                    </a:lnTo>
                    <a:lnTo>
                      <a:pt x="731" y="1585"/>
                    </a:lnTo>
                    <a:lnTo>
                      <a:pt x="760" y="1358"/>
                    </a:lnTo>
                    <a:lnTo>
                      <a:pt x="790" y="1131"/>
                    </a:lnTo>
                    <a:lnTo>
                      <a:pt x="818" y="906"/>
                    </a:lnTo>
                    <a:lnTo>
                      <a:pt x="847" y="679"/>
                    </a:lnTo>
                    <a:lnTo>
                      <a:pt x="876" y="453"/>
                    </a:lnTo>
                    <a:lnTo>
                      <a:pt x="904" y="226"/>
                    </a:lnTo>
                    <a:lnTo>
                      <a:pt x="934"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427800" y="2236680"/>
                <a:ext cx="404280" cy="87480"/>
              </a:xfrm>
              <a:custGeom>
                <a:avLst/>
                <a:gdLst/>
                <a:ahLst/>
                <a:rect l="l" t="t" r="r" b="b"/>
                <a:pathLst>
                  <a:path w="1083" h="319">
                    <a:moveTo>
                      <a:pt x="1078" y="283"/>
                    </a:moveTo>
                    <a:lnTo>
                      <a:pt x="1050" y="234"/>
                    </a:lnTo>
                    <a:lnTo>
                      <a:pt x="919" y="204"/>
                    </a:lnTo>
                    <a:lnTo>
                      <a:pt x="788" y="175"/>
                    </a:lnTo>
                    <a:lnTo>
                      <a:pt x="658" y="145"/>
                    </a:lnTo>
                    <a:lnTo>
                      <a:pt x="528" y="116"/>
                    </a:lnTo>
                    <a:lnTo>
                      <a:pt x="399" y="87"/>
                    </a:lnTo>
                    <a:lnTo>
                      <a:pt x="270" y="58"/>
                    </a:lnTo>
                    <a:lnTo>
                      <a:pt x="141" y="29"/>
                    </a:lnTo>
                    <a:lnTo>
                      <a:pt x="13" y="0"/>
                    </a:lnTo>
                    <a:lnTo>
                      <a:pt x="0" y="86"/>
                    </a:lnTo>
                    <a:lnTo>
                      <a:pt x="129" y="114"/>
                    </a:lnTo>
                    <a:lnTo>
                      <a:pt x="257" y="143"/>
                    </a:lnTo>
                    <a:lnTo>
                      <a:pt x="386" y="172"/>
                    </a:lnTo>
                    <a:lnTo>
                      <a:pt x="516" y="201"/>
                    </a:lnTo>
                    <a:lnTo>
                      <a:pt x="645" y="230"/>
                    </a:lnTo>
                    <a:lnTo>
                      <a:pt x="775" y="260"/>
                    </a:lnTo>
                    <a:lnTo>
                      <a:pt x="906" y="289"/>
                    </a:lnTo>
                    <a:lnTo>
                      <a:pt x="1037" y="319"/>
                    </a:lnTo>
                    <a:lnTo>
                      <a:pt x="1009" y="271"/>
                    </a:lnTo>
                    <a:lnTo>
                      <a:pt x="1078" y="283"/>
                    </a:lnTo>
                    <a:lnTo>
                      <a:pt x="1083" y="241"/>
                    </a:lnTo>
                    <a:lnTo>
                      <a:pt x="1050" y="234"/>
                    </a:lnTo>
                    <a:lnTo>
                      <a:pt x="1078" y="283"/>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a:off x="6719040" y="2310840"/>
                <a:ext cx="111960" cy="508680"/>
              </a:xfrm>
              <a:custGeom>
                <a:avLst/>
                <a:gdLst/>
                <a:ahLst/>
                <a:rect l="l" t="t" r="r" b="b"/>
                <a:pathLst>
                  <a:path w="300" h="1856">
                    <a:moveTo>
                      <a:pt x="69" y="1856"/>
                    </a:moveTo>
                    <a:lnTo>
                      <a:pt x="69" y="1856"/>
                    </a:lnTo>
                    <a:lnTo>
                      <a:pt x="99" y="1626"/>
                    </a:lnTo>
                    <a:lnTo>
                      <a:pt x="128" y="1394"/>
                    </a:lnTo>
                    <a:lnTo>
                      <a:pt x="157" y="1164"/>
                    </a:lnTo>
                    <a:lnTo>
                      <a:pt x="185" y="934"/>
                    </a:lnTo>
                    <a:lnTo>
                      <a:pt x="215" y="703"/>
                    </a:lnTo>
                    <a:lnTo>
                      <a:pt x="243" y="472"/>
                    </a:lnTo>
                    <a:lnTo>
                      <a:pt x="272" y="242"/>
                    </a:lnTo>
                    <a:lnTo>
                      <a:pt x="300" y="12"/>
                    </a:lnTo>
                    <a:lnTo>
                      <a:pt x="231" y="0"/>
                    </a:lnTo>
                    <a:lnTo>
                      <a:pt x="201" y="230"/>
                    </a:lnTo>
                    <a:lnTo>
                      <a:pt x="173" y="460"/>
                    </a:lnTo>
                    <a:lnTo>
                      <a:pt x="144" y="690"/>
                    </a:lnTo>
                    <a:lnTo>
                      <a:pt x="115" y="920"/>
                    </a:lnTo>
                    <a:lnTo>
                      <a:pt x="86" y="1152"/>
                    </a:lnTo>
                    <a:lnTo>
                      <a:pt x="57" y="1382"/>
                    </a:lnTo>
                    <a:lnTo>
                      <a:pt x="28" y="1612"/>
                    </a:lnTo>
                    <a:lnTo>
                      <a:pt x="0" y="1842"/>
                    </a:lnTo>
                    <a:lnTo>
                      <a:pt x="0" y="1842"/>
                    </a:lnTo>
                    <a:lnTo>
                      <a:pt x="69" y="18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631200" y="2816640"/>
                <a:ext cx="113040" cy="511200"/>
              </a:xfrm>
              <a:custGeom>
                <a:avLst/>
                <a:gdLst/>
                <a:ahLst/>
                <a:rect l="l" t="t" r="r" b="b"/>
                <a:pathLst>
                  <a:path w="303" h="1867">
                    <a:moveTo>
                      <a:pt x="71" y="1867"/>
                    </a:moveTo>
                    <a:lnTo>
                      <a:pt x="71" y="1867"/>
                    </a:lnTo>
                    <a:lnTo>
                      <a:pt x="100" y="1634"/>
                    </a:lnTo>
                    <a:lnTo>
                      <a:pt x="129" y="1402"/>
                    </a:lnTo>
                    <a:lnTo>
                      <a:pt x="158" y="1171"/>
                    </a:lnTo>
                    <a:lnTo>
                      <a:pt x="187" y="940"/>
                    </a:lnTo>
                    <a:lnTo>
                      <a:pt x="217" y="708"/>
                    </a:lnTo>
                    <a:lnTo>
                      <a:pt x="245" y="477"/>
                    </a:lnTo>
                    <a:lnTo>
                      <a:pt x="274" y="245"/>
                    </a:lnTo>
                    <a:lnTo>
                      <a:pt x="303" y="14"/>
                    </a:lnTo>
                    <a:lnTo>
                      <a:pt x="234" y="0"/>
                    </a:lnTo>
                    <a:lnTo>
                      <a:pt x="205" y="232"/>
                    </a:lnTo>
                    <a:lnTo>
                      <a:pt x="175" y="463"/>
                    </a:lnTo>
                    <a:lnTo>
                      <a:pt x="146" y="695"/>
                    </a:lnTo>
                    <a:lnTo>
                      <a:pt x="117" y="926"/>
                    </a:lnTo>
                    <a:lnTo>
                      <a:pt x="88" y="1159"/>
                    </a:lnTo>
                    <a:lnTo>
                      <a:pt x="58" y="1390"/>
                    </a:lnTo>
                    <a:lnTo>
                      <a:pt x="29" y="1622"/>
                    </a:lnTo>
                    <a:lnTo>
                      <a:pt x="0" y="1853"/>
                    </a:lnTo>
                    <a:lnTo>
                      <a:pt x="0" y="1853"/>
                    </a:lnTo>
                    <a:lnTo>
                      <a:pt x="71" y="18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544440" y="3324240"/>
                <a:ext cx="113040" cy="513720"/>
              </a:xfrm>
              <a:custGeom>
                <a:avLst/>
                <a:gdLst/>
                <a:ahLst/>
                <a:rect l="l" t="t" r="r" b="b"/>
                <a:pathLst>
                  <a:path w="306" h="1876">
                    <a:moveTo>
                      <a:pt x="71" y="1876"/>
                    </a:moveTo>
                    <a:lnTo>
                      <a:pt x="71" y="1876"/>
                    </a:lnTo>
                    <a:lnTo>
                      <a:pt x="100" y="1642"/>
                    </a:lnTo>
                    <a:lnTo>
                      <a:pt x="129" y="1409"/>
                    </a:lnTo>
                    <a:lnTo>
                      <a:pt x="158" y="1177"/>
                    </a:lnTo>
                    <a:lnTo>
                      <a:pt x="189" y="943"/>
                    </a:lnTo>
                    <a:lnTo>
                      <a:pt x="218" y="710"/>
                    </a:lnTo>
                    <a:lnTo>
                      <a:pt x="247" y="478"/>
                    </a:lnTo>
                    <a:lnTo>
                      <a:pt x="276" y="245"/>
                    </a:lnTo>
                    <a:lnTo>
                      <a:pt x="306" y="14"/>
                    </a:lnTo>
                    <a:lnTo>
                      <a:pt x="235" y="0"/>
                    </a:lnTo>
                    <a:lnTo>
                      <a:pt x="206" y="233"/>
                    </a:lnTo>
                    <a:lnTo>
                      <a:pt x="176" y="465"/>
                    </a:lnTo>
                    <a:lnTo>
                      <a:pt x="147" y="698"/>
                    </a:lnTo>
                    <a:lnTo>
                      <a:pt x="118" y="931"/>
                    </a:lnTo>
                    <a:lnTo>
                      <a:pt x="89" y="1163"/>
                    </a:lnTo>
                    <a:lnTo>
                      <a:pt x="60" y="1396"/>
                    </a:lnTo>
                    <a:lnTo>
                      <a:pt x="30" y="1630"/>
                    </a:lnTo>
                    <a:lnTo>
                      <a:pt x="0" y="1862"/>
                    </a:lnTo>
                    <a:lnTo>
                      <a:pt x="0" y="1862"/>
                    </a:lnTo>
                    <a:lnTo>
                      <a:pt x="71" y="18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456240" y="3835800"/>
                <a:ext cx="113040" cy="529200"/>
              </a:xfrm>
              <a:custGeom>
                <a:avLst/>
                <a:gdLst/>
                <a:ahLst/>
                <a:rect l="l" t="t" r="r" b="b"/>
                <a:pathLst>
                  <a:path w="306" h="1933">
                    <a:moveTo>
                      <a:pt x="25" y="1919"/>
                    </a:moveTo>
                    <a:lnTo>
                      <a:pt x="70" y="1885"/>
                    </a:lnTo>
                    <a:lnTo>
                      <a:pt x="100" y="1651"/>
                    </a:lnTo>
                    <a:lnTo>
                      <a:pt x="129" y="1416"/>
                    </a:lnTo>
                    <a:lnTo>
                      <a:pt x="158" y="1182"/>
                    </a:lnTo>
                    <a:lnTo>
                      <a:pt x="188" y="948"/>
                    </a:lnTo>
                    <a:lnTo>
                      <a:pt x="218" y="714"/>
                    </a:lnTo>
                    <a:lnTo>
                      <a:pt x="247" y="480"/>
                    </a:lnTo>
                    <a:lnTo>
                      <a:pt x="276" y="247"/>
                    </a:lnTo>
                    <a:lnTo>
                      <a:pt x="306" y="14"/>
                    </a:lnTo>
                    <a:lnTo>
                      <a:pt x="235" y="0"/>
                    </a:lnTo>
                    <a:lnTo>
                      <a:pt x="206" y="234"/>
                    </a:lnTo>
                    <a:lnTo>
                      <a:pt x="177" y="467"/>
                    </a:lnTo>
                    <a:lnTo>
                      <a:pt x="147" y="701"/>
                    </a:lnTo>
                    <a:lnTo>
                      <a:pt x="118" y="935"/>
                    </a:lnTo>
                    <a:lnTo>
                      <a:pt x="89" y="1170"/>
                    </a:lnTo>
                    <a:lnTo>
                      <a:pt x="59" y="1404"/>
                    </a:lnTo>
                    <a:lnTo>
                      <a:pt x="29" y="1638"/>
                    </a:lnTo>
                    <a:lnTo>
                      <a:pt x="0" y="1871"/>
                    </a:lnTo>
                    <a:lnTo>
                      <a:pt x="45" y="1837"/>
                    </a:lnTo>
                    <a:lnTo>
                      <a:pt x="25" y="1919"/>
                    </a:lnTo>
                    <a:lnTo>
                      <a:pt x="64" y="1933"/>
                    </a:lnTo>
                    <a:lnTo>
                      <a:pt x="70" y="1885"/>
                    </a:lnTo>
                    <a:lnTo>
                      <a:pt x="25" y="19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066720" y="4238640"/>
                <a:ext cx="405720" cy="121680"/>
              </a:xfrm>
              <a:custGeom>
                <a:avLst/>
                <a:gdLst/>
                <a:ahLst/>
                <a:rect l="l" t="t" r="r" b="b"/>
                <a:pathLst>
                  <a:path w="1086" h="449">
                    <a:moveTo>
                      <a:pt x="5" y="36"/>
                    </a:moveTo>
                    <a:lnTo>
                      <a:pt x="30" y="84"/>
                    </a:lnTo>
                    <a:lnTo>
                      <a:pt x="159" y="129"/>
                    </a:lnTo>
                    <a:lnTo>
                      <a:pt x="287" y="174"/>
                    </a:lnTo>
                    <a:lnTo>
                      <a:pt x="416" y="219"/>
                    </a:lnTo>
                    <a:lnTo>
                      <a:pt x="545" y="265"/>
                    </a:lnTo>
                    <a:lnTo>
                      <a:pt x="675" y="310"/>
                    </a:lnTo>
                    <a:lnTo>
                      <a:pt x="805" y="357"/>
                    </a:lnTo>
                    <a:lnTo>
                      <a:pt x="935" y="403"/>
                    </a:lnTo>
                    <a:lnTo>
                      <a:pt x="1066" y="449"/>
                    </a:lnTo>
                    <a:lnTo>
                      <a:pt x="1086" y="367"/>
                    </a:lnTo>
                    <a:lnTo>
                      <a:pt x="956" y="320"/>
                    </a:lnTo>
                    <a:lnTo>
                      <a:pt x="824" y="273"/>
                    </a:lnTo>
                    <a:lnTo>
                      <a:pt x="695" y="228"/>
                    </a:lnTo>
                    <a:lnTo>
                      <a:pt x="565" y="182"/>
                    </a:lnTo>
                    <a:lnTo>
                      <a:pt x="436" y="137"/>
                    </a:lnTo>
                    <a:lnTo>
                      <a:pt x="307" y="91"/>
                    </a:lnTo>
                    <a:lnTo>
                      <a:pt x="178" y="46"/>
                    </a:lnTo>
                    <a:lnTo>
                      <a:pt x="49" y="0"/>
                    </a:lnTo>
                    <a:lnTo>
                      <a:pt x="75" y="48"/>
                    </a:lnTo>
                    <a:lnTo>
                      <a:pt x="5" y="36"/>
                    </a:lnTo>
                    <a:lnTo>
                      <a:pt x="0" y="73"/>
                    </a:lnTo>
                    <a:lnTo>
                      <a:pt x="30" y="84"/>
                    </a:lnTo>
                    <a:lnTo>
                      <a:pt x="5" y="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069960" y="3743640"/>
                <a:ext cx="113040" cy="507240"/>
              </a:xfrm>
              <a:custGeom>
                <a:avLst/>
                <a:gdLst/>
                <a:ahLst/>
                <a:rect l="l" t="t" r="r" b="b"/>
                <a:pathLst>
                  <a:path w="305" h="1850">
                    <a:moveTo>
                      <a:pt x="236" y="0"/>
                    </a:moveTo>
                    <a:lnTo>
                      <a:pt x="236" y="0"/>
                    </a:lnTo>
                    <a:lnTo>
                      <a:pt x="207" y="229"/>
                    </a:lnTo>
                    <a:lnTo>
                      <a:pt x="177" y="458"/>
                    </a:lnTo>
                    <a:lnTo>
                      <a:pt x="147" y="688"/>
                    </a:lnTo>
                    <a:lnTo>
                      <a:pt x="118" y="918"/>
                    </a:lnTo>
                    <a:lnTo>
                      <a:pt x="89" y="1147"/>
                    </a:lnTo>
                    <a:lnTo>
                      <a:pt x="59" y="1377"/>
                    </a:lnTo>
                    <a:lnTo>
                      <a:pt x="29" y="1608"/>
                    </a:lnTo>
                    <a:lnTo>
                      <a:pt x="0" y="1838"/>
                    </a:lnTo>
                    <a:lnTo>
                      <a:pt x="70" y="1850"/>
                    </a:lnTo>
                    <a:lnTo>
                      <a:pt x="100" y="1621"/>
                    </a:lnTo>
                    <a:lnTo>
                      <a:pt x="129" y="1391"/>
                    </a:lnTo>
                    <a:lnTo>
                      <a:pt x="158" y="1161"/>
                    </a:lnTo>
                    <a:lnTo>
                      <a:pt x="188" y="931"/>
                    </a:lnTo>
                    <a:lnTo>
                      <a:pt x="218" y="702"/>
                    </a:lnTo>
                    <a:lnTo>
                      <a:pt x="247" y="471"/>
                    </a:lnTo>
                    <a:lnTo>
                      <a:pt x="276" y="243"/>
                    </a:lnTo>
                    <a:lnTo>
                      <a:pt x="305" y="12"/>
                    </a:lnTo>
                    <a:lnTo>
                      <a:pt x="305" y="12"/>
                    </a:lnTo>
                    <a:lnTo>
                      <a:pt x="23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157800" y="3241800"/>
                <a:ext cx="113040" cy="505800"/>
              </a:xfrm>
              <a:custGeom>
                <a:avLst/>
                <a:gdLst/>
                <a:ahLst/>
                <a:rect l="l" t="t" r="r" b="b"/>
                <a:pathLst>
                  <a:path w="304" h="1841">
                    <a:moveTo>
                      <a:pt x="235" y="0"/>
                    </a:moveTo>
                    <a:lnTo>
                      <a:pt x="235" y="0"/>
                    </a:lnTo>
                    <a:lnTo>
                      <a:pt x="205" y="228"/>
                    </a:lnTo>
                    <a:lnTo>
                      <a:pt x="176" y="457"/>
                    </a:lnTo>
                    <a:lnTo>
                      <a:pt x="147" y="684"/>
                    </a:lnTo>
                    <a:lnTo>
                      <a:pt x="117" y="913"/>
                    </a:lnTo>
                    <a:lnTo>
                      <a:pt x="88" y="1142"/>
                    </a:lnTo>
                    <a:lnTo>
                      <a:pt x="58" y="1371"/>
                    </a:lnTo>
                    <a:lnTo>
                      <a:pt x="29" y="1600"/>
                    </a:lnTo>
                    <a:lnTo>
                      <a:pt x="0" y="1829"/>
                    </a:lnTo>
                    <a:lnTo>
                      <a:pt x="69" y="1841"/>
                    </a:lnTo>
                    <a:lnTo>
                      <a:pt x="99" y="1612"/>
                    </a:lnTo>
                    <a:lnTo>
                      <a:pt x="128" y="1383"/>
                    </a:lnTo>
                    <a:lnTo>
                      <a:pt x="158" y="1156"/>
                    </a:lnTo>
                    <a:lnTo>
                      <a:pt x="187" y="927"/>
                    </a:lnTo>
                    <a:lnTo>
                      <a:pt x="217" y="698"/>
                    </a:lnTo>
                    <a:lnTo>
                      <a:pt x="246" y="469"/>
                    </a:lnTo>
                    <a:lnTo>
                      <a:pt x="275" y="241"/>
                    </a:lnTo>
                    <a:lnTo>
                      <a:pt x="304" y="13"/>
                    </a:lnTo>
                    <a:lnTo>
                      <a:pt x="304" y="13"/>
                    </a:lnTo>
                    <a:lnTo>
                      <a:pt x="23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244560" y="2743920"/>
                <a:ext cx="113040" cy="501840"/>
              </a:xfrm>
              <a:custGeom>
                <a:avLst/>
                <a:gdLst/>
                <a:ahLst/>
                <a:rect l="l" t="t" r="r" b="b"/>
                <a:pathLst>
                  <a:path w="301" h="1832">
                    <a:moveTo>
                      <a:pt x="232" y="0"/>
                    </a:moveTo>
                    <a:lnTo>
                      <a:pt x="232" y="0"/>
                    </a:lnTo>
                    <a:lnTo>
                      <a:pt x="202" y="227"/>
                    </a:lnTo>
                    <a:lnTo>
                      <a:pt x="173" y="455"/>
                    </a:lnTo>
                    <a:lnTo>
                      <a:pt x="145" y="681"/>
                    </a:lnTo>
                    <a:lnTo>
                      <a:pt x="116" y="909"/>
                    </a:lnTo>
                    <a:lnTo>
                      <a:pt x="86" y="1137"/>
                    </a:lnTo>
                    <a:lnTo>
                      <a:pt x="57" y="1365"/>
                    </a:lnTo>
                    <a:lnTo>
                      <a:pt x="29" y="1591"/>
                    </a:lnTo>
                    <a:lnTo>
                      <a:pt x="0" y="1819"/>
                    </a:lnTo>
                    <a:lnTo>
                      <a:pt x="69" y="1832"/>
                    </a:lnTo>
                    <a:lnTo>
                      <a:pt x="99" y="1605"/>
                    </a:lnTo>
                    <a:lnTo>
                      <a:pt x="128" y="1377"/>
                    </a:lnTo>
                    <a:lnTo>
                      <a:pt x="156" y="1150"/>
                    </a:lnTo>
                    <a:lnTo>
                      <a:pt x="185" y="923"/>
                    </a:lnTo>
                    <a:lnTo>
                      <a:pt x="214" y="695"/>
                    </a:lnTo>
                    <a:lnTo>
                      <a:pt x="244" y="467"/>
                    </a:lnTo>
                    <a:lnTo>
                      <a:pt x="272" y="241"/>
                    </a:lnTo>
                    <a:lnTo>
                      <a:pt x="301" y="13"/>
                    </a:lnTo>
                    <a:lnTo>
                      <a:pt x="301" y="13"/>
                    </a:lnTo>
                    <a:lnTo>
                      <a:pt x="23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330960" y="2234160"/>
                <a:ext cx="111960" cy="512640"/>
              </a:xfrm>
              <a:custGeom>
                <a:avLst/>
                <a:gdLst/>
                <a:ahLst/>
                <a:rect l="l" t="t" r="r" b="b"/>
                <a:pathLst>
                  <a:path w="300" h="1869">
                    <a:moveTo>
                      <a:pt x="272" y="8"/>
                    </a:moveTo>
                    <a:lnTo>
                      <a:pt x="230" y="45"/>
                    </a:lnTo>
                    <a:lnTo>
                      <a:pt x="202" y="271"/>
                    </a:lnTo>
                    <a:lnTo>
                      <a:pt x="173" y="497"/>
                    </a:lnTo>
                    <a:lnTo>
                      <a:pt x="144" y="723"/>
                    </a:lnTo>
                    <a:lnTo>
                      <a:pt x="115" y="950"/>
                    </a:lnTo>
                    <a:lnTo>
                      <a:pt x="86" y="1176"/>
                    </a:lnTo>
                    <a:lnTo>
                      <a:pt x="57" y="1403"/>
                    </a:lnTo>
                    <a:lnTo>
                      <a:pt x="29" y="1629"/>
                    </a:lnTo>
                    <a:lnTo>
                      <a:pt x="0" y="1856"/>
                    </a:lnTo>
                    <a:lnTo>
                      <a:pt x="69" y="1869"/>
                    </a:lnTo>
                    <a:lnTo>
                      <a:pt x="98" y="1643"/>
                    </a:lnTo>
                    <a:lnTo>
                      <a:pt x="128" y="1416"/>
                    </a:lnTo>
                    <a:lnTo>
                      <a:pt x="156" y="1190"/>
                    </a:lnTo>
                    <a:lnTo>
                      <a:pt x="185" y="963"/>
                    </a:lnTo>
                    <a:lnTo>
                      <a:pt x="214" y="737"/>
                    </a:lnTo>
                    <a:lnTo>
                      <a:pt x="242" y="510"/>
                    </a:lnTo>
                    <a:lnTo>
                      <a:pt x="272" y="284"/>
                    </a:lnTo>
                    <a:lnTo>
                      <a:pt x="300" y="57"/>
                    </a:lnTo>
                    <a:lnTo>
                      <a:pt x="259" y="94"/>
                    </a:lnTo>
                    <a:lnTo>
                      <a:pt x="272" y="8"/>
                    </a:lnTo>
                    <a:lnTo>
                      <a:pt x="236" y="0"/>
                    </a:lnTo>
                    <a:lnTo>
                      <a:pt x="230" y="45"/>
                    </a:lnTo>
                    <a:lnTo>
                      <a:pt x="272" y="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71280" y="2169720"/>
                <a:ext cx="478800" cy="216360"/>
              </a:xfrm>
              <a:custGeom>
                <a:avLst/>
                <a:gdLst/>
                <a:ahLst/>
                <a:rect l="l" t="t" r="r" b="b"/>
                <a:pathLst>
                  <a:path w="1285" h="787">
                    <a:moveTo>
                      <a:pt x="0" y="0"/>
                    </a:moveTo>
                    <a:lnTo>
                      <a:pt x="31" y="69"/>
                    </a:lnTo>
                    <a:lnTo>
                      <a:pt x="61" y="137"/>
                    </a:lnTo>
                    <a:lnTo>
                      <a:pt x="91" y="206"/>
                    </a:lnTo>
                    <a:lnTo>
                      <a:pt x="121" y="273"/>
                    </a:lnTo>
                    <a:lnTo>
                      <a:pt x="151" y="342"/>
                    </a:lnTo>
                    <a:lnTo>
                      <a:pt x="181" y="410"/>
                    </a:lnTo>
                    <a:lnTo>
                      <a:pt x="210" y="479"/>
                    </a:lnTo>
                    <a:lnTo>
                      <a:pt x="240" y="547"/>
                    </a:lnTo>
                    <a:lnTo>
                      <a:pt x="369" y="577"/>
                    </a:lnTo>
                    <a:lnTo>
                      <a:pt x="499" y="607"/>
                    </a:lnTo>
                    <a:lnTo>
                      <a:pt x="629" y="637"/>
                    </a:lnTo>
                    <a:lnTo>
                      <a:pt x="759" y="667"/>
                    </a:lnTo>
                    <a:lnTo>
                      <a:pt x="889" y="697"/>
                    </a:lnTo>
                    <a:lnTo>
                      <a:pt x="1020" y="726"/>
                    </a:lnTo>
                    <a:lnTo>
                      <a:pt x="1153" y="757"/>
                    </a:lnTo>
                    <a:lnTo>
                      <a:pt x="1285" y="787"/>
                    </a:lnTo>
                    <a:lnTo>
                      <a:pt x="1252" y="717"/>
                    </a:lnTo>
                    <a:lnTo>
                      <a:pt x="1220" y="646"/>
                    </a:lnTo>
                    <a:lnTo>
                      <a:pt x="1188" y="576"/>
                    </a:lnTo>
                    <a:lnTo>
                      <a:pt x="1157" y="507"/>
                    </a:lnTo>
                    <a:lnTo>
                      <a:pt x="1124" y="437"/>
                    </a:lnTo>
                    <a:lnTo>
                      <a:pt x="1093" y="367"/>
                    </a:lnTo>
                    <a:lnTo>
                      <a:pt x="1062" y="297"/>
                    </a:lnTo>
                    <a:lnTo>
                      <a:pt x="1031" y="228"/>
                    </a:lnTo>
                    <a:lnTo>
                      <a:pt x="900" y="198"/>
                    </a:lnTo>
                    <a:lnTo>
                      <a:pt x="770" y="170"/>
                    </a:lnTo>
                    <a:lnTo>
                      <a:pt x="639" y="142"/>
                    </a:lnTo>
                    <a:lnTo>
                      <a:pt x="510" y="112"/>
                    </a:lnTo>
                    <a:lnTo>
                      <a:pt x="381" y="84"/>
                    </a:lnTo>
                    <a:lnTo>
                      <a:pt x="253" y="56"/>
                    </a:lnTo>
                    <a:lnTo>
                      <a:pt x="126" y="28"/>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371280" y="2169720"/>
                <a:ext cx="478800" cy="216360"/>
              </a:xfrm>
              <a:custGeom>
                <a:avLst/>
                <a:gdLst/>
                <a:ahLst/>
                <a:rect l="l" t="t" r="r" b="b"/>
                <a:pathLst>
                  <a:path w="1285" h="787">
                    <a:moveTo>
                      <a:pt x="0" y="0"/>
                    </a:moveTo>
                    <a:lnTo>
                      <a:pt x="31" y="69"/>
                    </a:lnTo>
                    <a:lnTo>
                      <a:pt x="61" y="137"/>
                    </a:lnTo>
                    <a:lnTo>
                      <a:pt x="91" y="206"/>
                    </a:lnTo>
                    <a:lnTo>
                      <a:pt x="121" y="273"/>
                    </a:lnTo>
                    <a:lnTo>
                      <a:pt x="151" y="342"/>
                    </a:lnTo>
                    <a:lnTo>
                      <a:pt x="181" y="410"/>
                    </a:lnTo>
                    <a:lnTo>
                      <a:pt x="210" y="479"/>
                    </a:lnTo>
                    <a:lnTo>
                      <a:pt x="240" y="547"/>
                    </a:lnTo>
                    <a:lnTo>
                      <a:pt x="369" y="577"/>
                    </a:lnTo>
                    <a:lnTo>
                      <a:pt x="499" y="607"/>
                    </a:lnTo>
                    <a:lnTo>
                      <a:pt x="629" y="637"/>
                    </a:lnTo>
                    <a:lnTo>
                      <a:pt x="759" y="667"/>
                    </a:lnTo>
                    <a:lnTo>
                      <a:pt x="889" y="697"/>
                    </a:lnTo>
                    <a:lnTo>
                      <a:pt x="1020" y="726"/>
                    </a:lnTo>
                    <a:lnTo>
                      <a:pt x="1153" y="757"/>
                    </a:lnTo>
                    <a:lnTo>
                      <a:pt x="1285" y="787"/>
                    </a:lnTo>
                    <a:lnTo>
                      <a:pt x="1252" y="717"/>
                    </a:lnTo>
                    <a:lnTo>
                      <a:pt x="1220" y="646"/>
                    </a:lnTo>
                    <a:lnTo>
                      <a:pt x="1188" y="576"/>
                    </a:lnTo>
                    <a:lnTo>
                      <a:pt x="1157" y="507"/>
                    </a:lnTo>
                    <a:lnTo>
                      <a:pt x="1124" y="437"/>
                    </a:lnTo>
                    <a:lnTo>
                      <a:pt x="1093" y="367"/>
                    </a:lnTo>
                    <a:lnTo>
                      <a:pt x="1062" y="297"/>
                    </a:lnTo>
                    <a:lnTo>
                      <a:pt x="1031" y="228"/>
                    </a:lnTo>
                    <a:lnTo>
                      <a:pt x="900" y="198"/>
                    </a:lnTo>
                    <a:lnTo>
                      <a:pt x="770" y="170"/>
                    </a:lnTo>
                    <a:lnTo>
                      <a:pt x="639" y="142"/>
                    </a:lnTo>
                    <a:lnTo>
                      <a:pt x="510" y="112"/>
                    </a:lnTo>
                    <a:lnTo>
                      <a:pt x="381" y="84"/>
                    </a:lnTo>
                    <a:lnTo>
                      <a:pt x="253" y="56"/>
                    </a:lnTo>
                    <a:lnTo>
                      <a:pt x="126" y="28"/>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023520" y="2169720"/>
                <a:ext cx="437040" cy="2156760"/>
              </a:xfrm>
              <a:custGeom>
                <a:avLst/>
                <a:gdLst/>
                <a:ahLst/>
                <a:rect l="l" t="t" r="r" b="b"/>
                <a:pathLst>
                  <a:path w="1170" h="7865">
                    <a:moveTo>
                      <a:pt x="0" y="7269"/>
                    </a:moveTo>
                    <a:lnTo>
                      <a:pt x="30" y="7343"/>
                    </a:lnTo>
                    <a:lnTo>
                      <a:pt x="59" y="7417"/>
                    </a:lnTo>
                    <a:lnTo>
                      <a:pt x="89" y="7492"/>
                    </a:lnTo>
                    <a:lnTo>
                      <a:pt x="119" y="7566"/>
                    </a:lnTo>
                    <a:lnTo>
                      <a:pt x="148" y="7641"/>
                    </a:lnTo>
                    <a:lnTo>
                      <a:pt x="177" y="7716"/>
                    </a:lnTo>
                    <a:lnTo>
                      <a:pt x="208" y="7790"/>
                    </a:lnTo>
                    <a:lnTo>
                      <a:pt x="237" y="7865"/>
                    </a:lnTo>
                    <a:lnTo>
                      <a:pt x="267" y="7634"/>
                    </a:lnTo>
                    <a:lnTo>
                      <a:pt x="296" y="7404"/>
                    </a:lnTo>
                    <a:lnTo>
                      <a:pt x="326" y="7174"/>
                    </a:lnTo>
                    <a:lnTo>
                      <a:pt x="355" y="6943"/>
                    </a:lnTo>
                    <a:lnTo>
                      <a:pt x="384" y="6712"/>
                    </a:lnTo>
                    <a:lnTo>
                      <a:pt x="413" y="6482"/>
                    </a:lnTo>
                    <a:lnTo>
                      <a:pt x="443" y="6252"/>
                    </a:lnTo>
                    <a:lnTo>
                      <a:pt x="472" y="6022"/>
                    </a:lnTo>
                    <a:lnTo>
                      <a:pt x="501" y="5792"/>
                    </a:lnTo>
                    <a:lnTo>
                      <a:pt x="530" y="5563"/>
                    </a:lnTo>
                    <a:lnTo>
                      <a:pt x="559" y="5333"/>
                    </a:lnTo>
                    <a:lnTo>
                      <a:pt x="590" y="5104"/>
                    </a:lnTo>
                    <a:lnTo>
                      <a:pt x="619" y="4875"/>
                    </a:lnTo>
                    <a:lnTo>
                      <a:pt x="648" y="4646"/>
                    </a:lnTo>
                    <a:lnTo>
                      <a:pt x="677" y="4417"/>
                    </a:lnTo>
                    <a:lnTo>
                      <a:pt x="707" y="4188"/>
                    </a:lnTo>
                    <a:lnTo>
                      <a:pt x="736" y="3960"/>
                    </a:lnTo>
                    <a:lnTo>
                      <a:pt x="765" y="3732"/>
                    </a:lnTo>
                    <a:lnTo>
                      <a:pt x="794" y="3503"/>
                    </a:lnTo>
                    <a:lnTo>
                      <a:pt x="823" y="3276"/>
                    </a:lnTo>
                    <a:lnTo>
                      <a:pt x="852" y="3048"/>
                    </a:lnTo>
                    <a:lnTo>
                      <a:pt x="881" y="2820"/>
                    </a:lnTo>
                    <a:lnTo>
                      <a:pt x="910" y="2593"/>
                    </a:lnTo>
                    <a:lnTo>
                      <a:pt x="938" y="2365"/>
                    </a:lnTo>
                    <a:lnTo>
                      <a:pt x="968" y="2137"/>
                    </a:lnTo>
                    <a:lnTo>
                      <a:pt x="997" y="1911"/>
                    </a:lnTo>
                    <a:lnTo>
                      <a:pt x="1026" y="1683"/>
                    </a:lnTo>
                    <a:lnTo>
                      <a:pt x="1055" y="1455"/>
                    </a:lnTo>
                    <a:lnTo>
                      <a:pt x="1084" y="1229"/>
                    </a:lnTo>
                    <a:lnTo>
                      <a:pt x="1113" y="1001"/>
                    </a:lnTo>
                    <a:lnTo>
                      <a:pt x="1142" y="774"/>
                    </a:lnTo>
                    <a:lnTo>
                      <a:pt x="1170" y="547"/>
                    </a:lnTo>
                    <a:lnTo>
                      <a:pt x="1140" y="479"/>
                    </a:lnTo>
                    <a:lnTo>
                      <a:pt x="1111" y="410"/>
                    </a:lnTo>
                    <a:lnTo>
                      <a:pt x="1081" y="342"/>
                    </a:lnTo>
                    <a:lnTo>
                      <a:pt x="1051" y="273"/>
                    </a:lnTo>
                    <a:lnTo>
                      <a:pt x="1021" y="206"/>
                    </a:lnTo>
                    <a:lnTo>
                      <a:pt x="991" y="137"/>
                    </a:lnTo>
                    <a:lnTo>
                      <a:pt x="961" y="69"/>
                    </a:lnTo>
                    <a:lnTo>
                      <a:pt x="930" y="0"/>
                    </a:lnTo>
                    <a:lnTo>
                      <a:pt x="901" y="225"/>
                    </a:lnTo>
                    <a:lnTo>
                      <a:pt x="872" y="451"/>
                    </a:lnTo>
                    <a:lnTo>
                      <a:pt x="843" y="676"/>
                    </a:lnTo>
                    <a:lnTo>
                      <a:pt x="814" y="901"/>
                    </a:lnTo>
                    <a:lnTo>
                      <a:pt x="785" y="1126"/>
                    </a:lnTo>
                    <a:lnTo>
                      <a:pt x="756" y="1352"/>
                    </a:lnTo>
                    <a:lnTo>
                      <a:pt x="727" y="1578"/>
                    </a:lnTo>
                    <a:lnTo>
                      <a:pt x="699" y="1803"/>
                    </a:lnTo>
                    <a:lnTo>
                      <a:pt x="669" y="2030"/>
                    </a:lnTo>
                    <a:lnTo>
                      <a:pt x="640" y="2256"/>
                    </a:lnTo>
                    <a:lnTo>
                      <a:pt x="612" y="2483"/>
                    </a:lnTo>
                    <a:lnTo>
                      <a:pt x="584" y="2709"/>
                    </a:lnTo>
                    <a:lnTo>
                      <a:pt x="554" y="2936"/>
                    </a:lnTo>
                    <a:lnTo>
                      <a:pt x="526" y="3162"/>
                    </a:lnTo>
                    <a:lnTo>
                      <a:pt x="497" y="3389"/>
                    </a:lnTo>
                    <a:lnTo>
                      <a:pt x="469" y="3615"/>
                    </a:lnTo>
                    <a:lnTo>
                      <a:pt x="440" y="3843"/>
                    </a:lnTo>
                    <a:lnTo>
                      <a:pt x="410" y="4071"/>
                    </a:lnTo>
                    <a:lnTo>
                      <a:pt x="380" y="4299"/>
                    </a:lnTo>
                    <a:lnTo>
                      <a:pt x="351" y="4526"/>
                    </a:lnTo>
                    <a:lnTo>
                      <a:pt x="322" y="4754"/>
                    </a:lnTo>
                    <a:lnTo>
                      <a:pt x="292" y="4982"/>
                    </a:lnTo>
                    <a:lnTo>
                      <a:pt x="263" y="5210"/>
                    </a:lnTo>
                    <a:lnTo>
                      <a:pt x="234" y="5437"/>
                    </a:lnTo>
                    <a:lnTo>
                      <a:pt x="205" y="5666"/>
                    </a:lnTo>
                    <a:lnTo>
                      <a:pt x="175" y="5895"/>
                    </a:lnTo>
                    <a:lnTo>
                      <a:pt x="146" y="6123"/>
                    </a:lnTo>
                    <a:lnTo>
                      <a:pt x="117" y="6352"/>
                    </a:lnTo>
                    <a:lnTo>
                      <a:pt x="88" y="6581"/>
                    </a:lnTo>
                    <a:lnTo>
                      <a:pt x="58" y="6810"/>
                    </a:lnTo>
                    <a:lnTo>
                      <a:pt x="29" y="7040"/>
                    </a:lnTo>
                    <a:lnTo>
                      <a:pt x="0" y="7269"/>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023520" y="2169720"/>
                <a:ext cx="437040" cy="2156760"/>
              </a:xfrm>
              <a:custGeom>
                <a:avLst/>
                <a:gdLst/>
                <a:ahLst/>
                <a:rect l="l" t="t" r="r" b="b"/>
                <a:pathLst>
                  <a:path w="1170" h="7865">
                    <a:moveTo>
                      <a:pt x="0" y="7269"/>
                    </a:moveTo>
                    <a:lnTo>
                      <a:pt x="30" y="7343"/>
                    </a:lnTo>
                    <a:lnTo>
                      <a:pt x="59" y="7417"/>
                    </a:lnTo>
                    <a:lnTo>
                      <a:pt x="89" y="7492"/>
                    </a:lnTo>
                    <a:lnTo>
                      <a:pt x="119" y="7566"/>
                    </a:lnTo>
                    <a:lnTo>
                      <a:pt x="148" y="7641"/>
                    </a:lnTo>
                    <a:lnTo>
                      <a:pt x="177" y="7716"/>
                    </a:lnTo>
                    <a:lnTo>
                      <a:pt x="208" y="7790"/>
                    </a:lnTo>
                    <a:lnTo>
                      <a:pt x="237" y="7865"/>
                    </a:lnTo>
                    <a:lnTo>
                      <a:pt x="267" y="7634"/>
                    </a:lnTo>
                    <a:lnTo>
                      <a:pt x="296" y="7404"/>
                    </a:lnTo>
                    <a:lnTo>
                      <a:pt x="326" y="7174"/>
                    </a:lnTo>
                    <a:lnTo>
                      <a:pt x="355" y="6943"/>
                    </a:lnTo>
                    <a:lnTo>
                      <a:pt x="384" y="6712"/>
                    </a:lnTo>
                    <a:lnTo>
                      <a:pt x="413" y="6482"/>
                    </a:lnTo>
                    <a:lnTo>
                      <a:pt x="443" y="6252"/>
                    </a:lnTo>
                    <a:lnTo>
                      <a:pt x="472" y="6022"/>
                    </a:lnTo>
                    <a:lnTo>
                      <a:pt x="501" y="5792"/>
                    </a:lnTo>
                    <a:lnTo>
                      <a:pt x="530" y="5563"/>
                    </a:lnTo>
                    <a:lnTo>
                      <a:pt x="559" y="5333"/>
                    </a:lnTo>
                    <a:lnTo>
                      <a:pt x="590" y="5104"/>
                    </a:lnTo>
                    <a:lnTo>
                      <a:pt x="619" y="4875"/>
                    </a:lnTo>
                    <a:lnTo>
                      <a:pt x="648" y="4646"/>
                    </a:lnTo>
                    <a:lnTo>
                      <a:pt x="677" y="4417"/>
                    </a:lnTo>
                    <a:lnTo>
                      <a:pt x="707" y="4188"/>
                    </a:lnTo>
                    <a:lnTo>
                      <a:pt x="736" y="3960"/>
                    </a:lnTo>
                    <a:lnTo>
                      <a:pt x="765" y="3732"/>
                    </a:lnTo>
                    <a:lnTo>
                      <a:pt x="794" y="3503"/>
                    </a:lnTo>
                    <a:lnTo>
                      <a:pt x="823" y="3276"/>
                    </a:lnTo>
                    <a:lnTo>
                      <a:pt x="852" y="3048"/>
                    </a:lnTo>
                    <a:lnTo>
                      <a:pt x="881" y="2820"/>
                    </a:lnTo>
                    <a:lnTo>
                      <a:pt x="910" y="2593"/>
                    </a:lnTo>
                    <a:lnTo>
                      <a:pt x="938" y="2365"/>
                    </a:lnTo>
                    <a:lnTo>
                      <a:pt x="968" y="2137"/>
                    </a:lnTo>
                    <a:lnTo>
                      <a:pt x="997" y="1911"/>
                    </a:lnTo>
                    <a:lnTo>
                      <a:pt x="1026" y="1683"/>
                    </a:lnTo>
                    <a:lnTo>
                      <a:pt x="1055" y="1455"/>
                    </a:lnTo>
                    <a:lnTo>
                      <a:pt x="1084" y="1229"/>
                    </a:lnTo>
                    <a:lnTo>
                      <a:pt x="1113" y="1001"/>
                    </a:lnTo>
                    <a:lnTo>
                      <a:pt x="1142" y="774"/>
                    </a:lnTo>
                    <a:lnTo>
                      <a:pt x="1170" y="547"/>
                    </a:lnTo>
                    <a:lnTo>
                      <a:pt x="1140" y="479"/>
                    </a:lnTo>
                    <a:lnTo>
                      <a:pt x="1111" y="410"/>
                    </a:lnTo>
                    <a:lnTo>
                      <a:pt x="1081" y="342"/>
                    </a:lnTo>
                    <a:lnTo>
                      <a:pt x="1051" y="273"/>
                    </a:lnTo>
                    <a:lnTo>
                      <a:pt x="1021" y="206"/>
                    </a:lnTo>
                    <a:lnTo>
                      <a:pt x="991" y="137"/>
                    </a:lnTo>
                    <a:lnTo>
                      <a:pt x="961" y="69"/>
                    </a:lnTo>
                    <a:lnTo>
                      <a:pt x="930" y="0"/>
                    </a:lnTo>
                    <a:lnTo>
                      <a:pt x="901" y="225"/>
                    </a:lnTo>
                    <a:lnTo>
                      <a:pt x="872" y="451"/>
                    </a:lnTo>
                    <a:lnTo>
                      <a:pt x="843" y="676"/>
                    </a:lnTo>
                    <a:lnTo>
                      <a:pt x="814" y="901"/>
                    </a:lnTo>
                    <a:lnTo>
                      <a:pt x="785" y="1126"/>
                    </a:lnTo>
                    <a:lnTo>
                      <a:pt x="756" y="1352"/>
                    </a:lnTo>
                    <a:lnTo>
                      <a:pt x="727" y="1578"/>
                    </a:lnTo>
                    <a:lnTo>
                      <a:pt x="699" y="1803"/>
                    </a:lnTo>
                    <a:lnTo>
                      <a:pt x="669" y="2030"/>
                    </a:lnTo>
                    <a:lnTo>
                      <a:pt x="640" y="2256"/>
                    </a:lnTo>
                    <a:lnTo>
                      <a:pt x="612" y="2483"/>
                    </a:lnTo>
                    <a:lnTo>
                      <a:pt x="584" y="2709"/>
                    </a:lnTo>
                    <a:lnTo>
                      <a:pt x="554" y="2936"/>
                    </a:lnTo>
                    <a:lnTo>
                      <a:pt x="526" y="3162"/>
                    </a:lnTo>
                    <a:lnTo>
                      <a:pt x="497" y="3389"/>
                    </a:lnTo>
                    <a:lnTo>
                      <a:pt x="469" y="3615"/>
                    </a:lnTo>
                    <a:lnTo>
                      <a:pt x="440" y="3843"/>
                    </a:lnTo>
                    <a:lnTo>
                      <a:pt x="410" y="4071"/>
                    </a:lnTo>
                    <a:lnTo>
                      <a:pt x="380" y="4299"/>
                    </a:lnTo>
                    <a:lnTo>
                      <a:pt x="351" y="4526"/>
                    </a:lnTo>
                    <a:lnTo>
                      <a:pt x="322" y="4754"/>
                    </a:lnTo>
                    <a:lnTo>
                      <a:pt x="292" y="4982"/>
                    </a:lnTo>
                    <a:lnTo>
                      <a:pt x="263" y="5210"/>
                    </a:lnTo>
                    <a:lnTo>
                      <a:pt x="234" y="5437"/>
                    </a:lnTo>
                    <a:lnTo>
                      <a:pt x="205" y="5666"/>
                    </a:lnTo>
                    <a:lnTo>
                      <a:pt x="175" y="5895"/>
                    </a:lnTo>
                    <a:lnTo>
                      <a:pt x="146" y="6123"/>
                    </a:lnTo>
                    <a:lnTo>
                      <a:pt x="117" y="6352"/>
                    </a:lnTo>
                    <a:lnTo>
                      <a:pt x="88" y="6581"/>
                    </a:lnTo>
                    <a:lnTo>
                      <a:pt x="58" y="6810"/>
                    </a:lnTo>
                    <a:lnTo>
                      <a:pt x="29" y="7040"/>
                    </a:lnTo>
                    <a:lnTo>
                      <a:pt x="0" y="7269"/>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469920" y="2156040"/>
                <a:ext cx="475560" cy="2385720"/>
              </a:xfrm>
              <a:custGeom>
                <a:avLst/>
                <a:gdLst/>
                <a:ahLst/>
                <a:rect l="l" t="t" r="r" b="b"/>
                <a:pathLst>
                  <a:path w="1277" h="8703">
                    <a:moveTo>
                      <a:pt x="1018" y="0"/>
                    </a:moveTo>
                    <a:lnTo>
                      <a:pt x="1049" y="70"/>
                    </a:lnTo>
                    <a:lnTo>
                      <a:pt x="1081" y="139"/>
                    </a:lnTo>
                    <a:lnTo>
                      <a:pt x="1113" y="209"/>
                    </a:lnTo>
                    <a:lnTo>
                      <a:pt x="1146" y="280"/>
                    </a:lnTo>
                    <a:lnTo>
                      <a:pt x="1179" y="350"/>
                    </a:lnTo>
                    <a:lnTo>
                      <a:pt x="1211" y="420"/>
                    </a:lnTo>
                    <a:lnTo>
                      <a:pt x="1244" y="490"/>
                    </a:lnTo>
                    <a:lnTo>
                      <a:pt x="1277" y="560"/>
                    </a:lnTo>
                    <a:lnTo>
                      <a:pt x="1244" y="811"/>
                    </a:lnTo>
                    <a:lnTo>
                      <a:pt x="1213" y="1064"/>
                    </a:lnTo>
                    <a:lnTo>
                      <a:pt x="1181" y="1316"/>
                    </a:lnTo>
                    <a:lnTo>
                      <a:pt x="1149" y="1568"/>
                    </a:lnTo>
                    <a:lnTo>
                      <a:pt x="1117" y="1821"/>
                    </a:lnTo>
                    <a:lnTo>
                      <a:pt x="1085" y="2073"/>
                    </a:lnTo>
                    <a:lnTo>
                      <a:pt x="1054" y="2327"/>
                    </a:lnTo>
                    <a:lnTo>
                      <a:pt x="1022" y="2579"/>
                    </a:lnTo>
                    <a:lnTo>
                      <a:pt x="989" y="2833"/>
                    </a:lnTo>
                    <a:lnTo>
                      <a:pt x="958" y="3086"/>
                    </a:lnTo>
                    <a:lnTo>
                      <a:pt x="927" y="3340"/>
                    </a:lnTo>
                    <a:lnTo>
                      <a:pt x="896" y="3593"/>
                    </a:lnTo>
                    <a:lnTo>
                      <a:pt x="863" y="3847"/>
                    </a:lnTo>
                    <a:lnTo>
                      <a:pt x="832" y="4100"/>
                    </a:lnTo>
                    <a:lnTo>
                      <a:pt x="800" y="4354"/>
                    </a:lnTo>
                    <a:lnTo>
                      <a:pt x="769" y="4608"/>
                    </a:lnTo>
                    <a:lnTo>
                      <a:pt x="736" y="4862"/>
                    </a:lnTo>
                    <a:lnTo>
                      <a:pt x="704" y="5117"/>
                    </a:lnTo>
                    <a:lnTo>
                      <a:pt x="673" y="5372"/>
                    </a:lnTo>
                    <a:lnTo>
                      <a:pt x="641" y="5628"/>
                    </a:lnTo>
                    <a:lnTo>
                      <a:pt x="608" y="5883"/>
                    </a:lnTo>
                    <a:lnTo>
                      <a:pt x="576" y="6138"/>
                    </a:lnTo>
                    <a:lnTo>
                      <a:pt x="545" y="6394"/>
                    </a:lnTo>
                    <a:lnTo>
                      <a:pt x="513" y="6649"/>
                    </a:lnTo>
                    <a:lnTo>
                      <a:pt x="480" y="6905"/>
                    </a:lnTo>
                    <a:lnTo>
                      <a:pt x="448" y="7161"/>
                    </a:lnTo>
                    <a:lnTo>
                      <a:pt x="416" y="7418"/>
                    </a:lnTo>
                    <a:lnTo>
                      <a:pt x="384" y="7674"/>
                    </a:lnTo>
                    <a:lnTo>
                      <a:pt x="351" y="7931"/>
                    </a:lnTo>
                    <a:lnTo>
                      <a:pt x="320" y="8188"/>
                    </a:lnTo>
                    <a:lnTo>
                      <a:pt x="288" y="8446"/>
                    </a:lnTo>
                    <a:lnTo>
                      <a:pt x="257" y="8703"/>
                    </a:lnTo>
                    <a:lnTo>
                      <a:pt x="223" y="8625"/>
                    </a:lnTo>
                    <a:lnTo>
                      <a:pt x="190" y="8548"/>
                    </a:lnTo>
                    <a:lnTo>
                      <a:pt x="158" y="8470"/>
                    </a:lnTo>
                    <a:lnTo>
                      <a:pt x="126" y="8393"/>
                    </a:lnTo>
                    <a:lnTo>
                      <a:pt x="94" y="8315"/>
                    </a:lnTo>
                    <a:lnTo>
                      <a:pt x="63" y="8239"/>
                    </a:lnTo>
                    <a:lnTo>
                      <a:pt x="32" y="8161"/>
                    </a:lnTo>
                    <a:lnTo>
                      <a:pt x="0" y="8085"/>
                    </a:lnTo>
                    <a:lnTo>
                      <a:pt x="33" y="7830"/>
                    </a:lnTo>
                    <a:lnTo>
                      <a:pt x="64" y="7574"/>
                    </a:lnTo>
                    <a:lnTo>
                      <a:pt x="96" y="7319"/>
                    </a:lnTo>
                    <a:lnTo>
                      <a:pt x="128" y="7065"/>
                    </a:lnTo>
                    <a:lnTo>
                      <a:pt x="160" y="6810"/>
                    </a:lnTo>
                    <a:lnTo>
                      <a:pt x="192" y="6555"/>
                    </a:lnTo>
                    <a:lnTo>
                      <a:pt x="223" y="6300"/>
                    </a:lnTo>
                    <a:lnTo>
                      <a:pt x="256" y="6045"/>
                    </a:lnTo>
                    <a:lnTo>
                      <a:pt x="288" y="5792"/>
                    </a:lnTo>
                    <a:lnTo>
                      <a:pt x="320" y="5538"/>
                    </a:lnTo>
                    <a:lnTo>
                      <a:pt x="352" y="5285"/>
                    </a:lnTo>
                    <a:lnTo>
                      <a:pt x="385" y="5032"/>
                    </a:lnTo>
                    <a:lnTo>
                      <a:pt x="416" y="4779"/>
                    </a:lnTo>
                    <a:lnTo>
                      <a:pt x="448" y="4525"/>
                    </a:lnTo>
                    <a:lnTo>
                      <a:pt x="480" y="4273"/>
                    </a:lnTo>
                    <a:lnTo>
                      <a:pt x="513" y="4019"/>
                    </a:lnTo>
                    <a:lnTo>
                      <a:pt x="544" y="3767"/>
                    </a:lnTo>
                    <a:lnTo>
                      <a:pt x="576" y="3515"/>
                    </a:lnTo>
                    <a:lnTo>
                      <a:pt x="607" y="3263"/>
                    </a:lnTo>
                    <a:lnTo>
                      <a:pt x="640" y="3011"/>
                    </a:lnTo>
                    <a:lnTo>
                      <a:pt x="671" y="2759"/>
                    </a:lnTo>
                    <a:lnTo>
                      <a:pt x="703" y="2508"/>
                    </a:lnTo>
                    <a:lnTo>
                      <a:pt x="734" y="2255"/>
                    </a:lnTo>
                    <a:lnTo>
                      <a:pt x="767" y="2004"/>
                    </a:lnTo>
                    <a:lnTo>
                      <a:pt x="798" y="1753"/>
                    </a:lnTo>
                    <a:lnTo>
                      <a:pt x="829" y="1503"/>
                    </a:lnTo>
                    <a:lnTo>
                      <a:pt x="860" y="1252"/>
                    </a:lnTo>
                    <a:lnTo>
                      <a:pt x="892" y="1002"/>
                    </a:lnTo>
                    <a:lnTo>
                      <a:pt x="924" y="751"/>
                    </a:lnTo>
                    <a:lnTo>
                      <a:pt x="955" y="501"/>
                    </a:lnTo>
                    <a:lnTo>
                      <a:pt x="986" y="250"/>
                    </a:lnTo>
                    <a:lnTo>
                      <a:pt x="1018"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69920" y="2156040"/>
                <a:ext cx="475560" cy="2385720"/>
              </a:xfrm>
              <a:custGeom>
                <a:avLst/>
                <a:gdLst/>
                <a:ahLst/>
                <a:rect l="l" t="t" r="r" b="b"/>
                <a:pathLst>
                  <a:path w="1277" h="8703">
                    <a:moveTo>
                      <a:pt x="1018" y="0"/>
                    </a:moveTo>
                    <a:lnTo>
                      <a:pt x="1049" y="70"/>
                    </a:lnTo>
                    <a:lnTo>
                      <a:pt x="1081" y="139"/>
                    </a:lnTo>
                    <a:lnTo>
                      <a:pt x="1113" y="209"/>
                    </a:lnTo>
                    <a:lnTo>
                      <a:pt x="1146" y="280"/>
                    </a:lnTo>
                    <a:lnTo>
                      <a:pt x="1179" y="350"/>
                    </a:lnTo>
                    <a:lnTo>
                      <a:pt x="1211" y="420"/>
                    </a:lnTo>
                    <a:lnTo>
                      <a:pt x="1244" y="490"/>
                    </a:lnTo>
                    <a:lnTo>
                      <a:pt x="1277" y="560"/>
                    </a:lnTo>
                    <a:lnTo>
                      <a:pt x="1244" y="811"/>
                    </a:lnTo>
                    <a:lnTo>
                      <a:pt x="1213" y="1064"/>
                    </a:lnTo>
                    <a:lnTo>
                      <a:pt x="1181" y="1316"/>
                    </a:lnTo>
                    <a:lnTo>
                      <a:pt x="1149" y="1568"/>
                    </a:lnTo>
                    <a:lnTo>
                      <a:pt x="1117" y="1821"/>
                    </a:lnTo>
                    <a:lnTo>
                      <a:pt x="1085" y="2073"/>
                    </a:lnTo>
                    <a:lnTo>
                      <a:pt x="1054" y="2327"/>
                    </a:lnTo>
                    <a:lnTo>
                      <a:pt x="1022" y="2579"/>
                    </a:lnTo>
                    <a:lnTo>
                      <a:pt x="989" y="2833"/>
                    </a:lnTo>
                    <a:lnTo>
                      <a:pt x="958" y="3086"/>
                    </a:lnTo>
                    <a:lnTo>
                      <a:pt x="927" y="3340"/>
                    </a:lnTo>
                    <a:lnTo>
                      <a:pt x="896" y="3593"/>
                    </a:lnTo>
                    <a:lnTo>
                      <a:pt x="863" y="3847"/>
                    </a:lnTo>
                    <a:lnTo>
                      <a:pt x="832" y="4100"/>
                    </a:lnTo>
                    <a:lnTo>
                      <a:pt x="800" y="4354"/>
                    </a:lnTo>
                    <a:lnTo>
                      <a:pt x="769" y="4608"/>
                    </a:lnTo>
                    <a:lnTo>
                      <a:pt x="736" y="4862"/>
                    </a:lnTo>
                    <a:lnTo>
                      <a:pt x="704" y="5117"/>
                    </a:lnTo>
                    <a:lnTo>
                      <a:pt x="673" y="5372"/>
                    </a:lnTo>
                    <a:lnTo>
                      <a:pt x="641" y="5628"/>
                    </a:lnTo>
                    <a:lnTo>
                      <a:pt x="608" y="5883"/>
                    </a:lnTo>
                    <a:lnTo>
                      <a:pt x="576" y="6138"/>
                    </a:lnTo>
                    <a:lnTo>
                      <a:pt x="545" y="6394"/>
                    </a:lnTo>
                    <a:lnTo>
                      <a:pt x="513" y="6649"/>
                    </a:lnTo>
                    <a:lnTo>
                      <a:pt x="480" y="6905"/>
                    </a:lnTo>
                    <a:lnTo>
                      <a:pt x="448" y="7161"/>
                    </a:lnTo>
                    <a:lnTo>
                      <a:pt x="416" y="7418"/>
                    </a:lnTo>
                    <a:lnTo>
                      <a:pt x="384" y="7674"/>
                    </a:lnTo>
                    <a:lnTo>
                      <a:pt x="351" y="7931"/>
                    </a:lnTo>
                    <a:lnTo>
                      <a:pt x="320" y="8188"/>
                    </a:lnTo>
                    <a:lnTo>
                      <a:pt x="288" y="8446"/>
                    </a:lnTo>
                    <a:lnTo>
                      <a:pt x="257" y="8703"/>
                    </a:lnTo>
                    <a:lnTo>
                      <a:pt x="223" y="8625"/>
                    </a:lnTo>
                    <a:lnTo>
                      <a:pt x="190" y="8548"/>
                    </a:lnTo>
                    <a:lnTo>
                      <a:pt x="158" y="8470"/>
                    </a:lnTo>
                    <a:lnTo>
                      <a:pt x="126" y="8393"/>
                    </a:lnTo>
                    <a:lnTo>
                      <a:pt x="94" y="8315"/>
                    </a:lnTo>
                    <a:lnTo>
                      <a:pt x="63" y="8239"/>
                    </a:lnTo>
                    <a:lnTo>
                      <a:pt x="32" y="8161"/>
                    </a:lnTo>
                    <a:lnTo>
                      <a:pt x="0" y="8085"/>
                    </a:lnTo>
                    <a:lnTo>
                      <a:pt x="33" y="7830"/>
                    </a:lnTo>
                    <a:lnTo>
                      <a:pt x="64" y="7574"/>
                    </a:lnTo>
                    <a:lnTo>
                      <a:pt x="96" y="7319"/>
                    </a:lnTo>
                    <a:lnTo>
                      <a:pt x="128" y="7065"/>
                    </a:lnTo>
                    <a:lnTo>
                      <a:pt x="160" y="6810"/>
                    </a:lnTo>
                    <a:lnTo>
                      <a:pt x="192" y="6555"/>
                    </a:lnTo>
                    <a:lnTo>
                      <a:pt x="223" y="6300"/>
                    </a:lnTo>
                    <a:lnTo>
                      <a:pt x="256" y="6045"/>
                    </a:lnTo>
                    <a:lnTo>
                      <a:pt x="288" y="5792"/>
                    </a:lnTo>
                    <a:lnTo>
                      <a:pt x="320" y="5538"/>
                    </a:lnTo>
                    <a:lnTo>
                      <a:pt x="352" y="5285"/>
                    </a:lnTo>
                    <a:lnTo>
                      <a:pt x="385" y="5032"/>
                    </a:lnTo>
                    <a:lnTo>
                      <a:pt x="416" y="4779"/>
                    </a:lnTo>
                    <a:lnTo>
                      <a:pt x="448" y="4525"/>
                    </a:lnTo>
                    <a:lnTo>
                      <a:pt x="480" y="4273"/>
                    </a:lnTo>
                    <a:lnTo>
                      <a:pt x="513" y="4019"/>
                    </a:lnTo>
                    <a:lnTo>
                      <a:pt x="544" y="3767"/>
                    </a:lnTo>
                    <a:lnTo>
                      <a:pt x="576" y="3515"/>
                    </a:lnTo>
                    <a:lnTo>
                      <a:pt x="607" y="3263"/>
                    </a:lnTo>
                    <a:lnTo>
                      <a:pt x="640" y="3011"/>
                    </a:lnTo>
                    <a:lnTo>
                      <a:pt x="671" y="2759"/>
                    </a:lnTo>
                    <a:lnTo>
                      <a:pt x="703" y="2508"/>
                    </a:lnTo>
                    <a:lnTo>
                      <a:pt x="734" y="2255"/>
                    </a:lnTo>
                    <a:lnTo>
                      <a:pt x="767" y="2004"/>
                    </a:lnTo>
                    <a:lnTo>
                      <a:pt x="798" y="1753"/>
                    </a:lnTo>
                    <a:lnTo>
                      <a:pt x="829" y="1503"/>
                    </a:lnTo>
                    <a:lnTo>
                      <a:pt x="860" y="1252"/>
                    </a:lnTo>
                    <a:lnTo>
                      <a:pt x="892" y="1002"/>
                    </a:lnTo>
                    <a:lnTo>
                      <a:pt x="924" y="751"/>
                    </a:lnTo>
                    <a:lnTo>
                      <a:pt x="955" y="501"/>
                    </a:lnTo>
                    <a:lnTo>
                      <a:pt x="986" y="250"/>
                    </a:lnTo>
                    <a:lnTo>
                      <a:pt x="101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932440" y="4233240"/>
                <a:ext cx="632880" cy="308520"/>
              </a:xfrm>
              <a:custGeom>
                <a:avLst/>
                <a:gdLst/>
                <a:ahLst/>
                <a:rect l="l" t="t" r="r" b="b"/>
                <a:pathLst>
                  <a:path w="1694" h="1128">
                    <a:moveTo>
                      <a:pt x="1437" y="510"/>
                    </a:moveTo>
                    <a:lnTo>
                      <a:pt x="1469" y="586"/>
                    </a:lnTo>
                    <a:lnTo>
                      <a:pt x="1500" y="664"/>
                    </a:lnTo>
                    <a:lnTo>
                      <a:pt x="1531" y="740"/>
                    </a:lnTo>
                    <a:lnTo>
                      <a:pt x="1563" y="818"/>
                    </a:lnTo>
                    <a:lnTo>
                      <a:pt x="1595" y="895"/>
                    </a:lnTo>
                    <a:lnTo>
                      <a:pt x="1627" y="973"/>
                    </a:lnTo>
                    <a:lnTo>
                      <a:pt x="1660" y="1050"/>
                    </a:lnTo>
                    <a:lnTo>
                      <a:pt x="1694" y="1128"/>
                    </a:lnTo>
                    <a:lnTo>
                      <a:pt x="1508" y="1062"/>
                    </a:lnTo>
                    <a:lnTo>
                      <a:pt x="1325" y="994"/>
                    </a:lnTo>
                    <a:lnTo>
                      <a:pt x="1141" y="927"/>
                    </a:lnTo>
                    <a:lnTo>
                      <a:pt x="959" y="861"/>
                    </a:lnTo>
                    <a:lnTo>
                      <a:pt x="777" y="796"/>
                    </a:lnTo>
                    <a:lnTo>
                      <a:pt x="597" y="730"/>
                    </a:lnTo>
                    <a:lnTo>
                      <a:pt x="418" y="665"/>
                    </a:lnTo>
                    <a:lnTo>
                      <a:pt x="240" y="600"/>
                    </a:lnTo>
                    <a:lnTo>
                      <a:pt x="210" y="525"/>
                    </a:lnTo>
                    <a:lnTo>
                      <a:pt x="181" y="450"/>
                    </a:lnTo>
                    <a:lnTo>
                      <a:pt x="150" y="375"/>
                    </a:lnTo>
                    <a:lnTo>
                      <a:pt x="120" y="300"/>
                    </a:lnTo>
                    <a:lnTo>
                      <a:pt x="90" y="226"/>
                    </a:lnTo>
                    <a:lnTo>
                      <a:pt x="61" y="151"/>
                    </a:lnTo>
                    <a:lnTo>
                      <a:pt x="30" y="76"/>
                    </a:lnTo>
                    <a:lnTo>
                      <a:pt x="0" y="0"/>
                    </a:lnTo>
                    <a:lnTo>
                      <a:pt x="176" y="63"/>
                    </a:lnTo>
                    <a:lnTo>
                      <a:pt x="353" y="126"/>
                    </a:lnTo>
                    <a:lnTo>
                      <a:pt x="531" y="189"/>
                    </a:lnTo>
                    <a:lnTo>
                      <a:pt x="711" y="253"/>
                    </a:lnTo>
                    <a:lnTo>
                      <a:pt x="891" y="317"/>
                    </a:lnTo>
                    <a:lnTo>
                      <a:pt x="1073" y="381"/>
                    </a:lnTo>
                    <a:lnTo>
                      <a:pt x="1255" y="445"/>
                    </a:lnTo>
                    <a:lnTo>
                      <a:pt x="1437" y="5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932440" y="4233240"/>
                <a:ext cx="632880" cy="308520"/>
              </a:xfrm>
              <a:custGeom>
                <a:avLst/>
                <a:gdLst/>
                <a:ahLst/>
                <a:rect l="l" t="t" r="r" b="b"/>
                <a:pathLst>
                  <a:path w="1694" h="1128">
                    <a:moveTo>
                      <a:pt x="1437" y="510"/>
                    </a:moveTo>
                    <a:lnTo>
                      <a:pt x="1469" y="586"/>
                    </a:lnTo>
                    <a:lnTo>
                      <a:pt x="1500" y="664"/>
                    </a:lnTo>
                    <a:lnTo>
                      <a:pt x="1531" y="740"/>
                    </a:lnTo>
                    <a:lnTo>
                      <a:pt x="1563" y="818"/>
                    </a:lnTo>
                    <a:lnTo>
                      <a:pt x="1595" y="895"/>
                    </a:lnTo>
                    <a:lnTo>
                      <a:pt x="1627" y="973"/>
                    </a:lnTo>
                    <a:lnTo>
                      <a:pt x="1660" y="1050"/>
                    </a:lnTo>
                    <a:lnTo>
                      <a:pt x="1694" y="1128"/>
                    </a:lnTo>
                    <a:lnTo>
                      <a:pt x="1508" y="1062"/>
                    </a:lnTo>
                    <a:lnTo>
                      <a:pt x="1325" y="994"/>
                    </a:lnTo>
                    <a:lnTo>
                      <a:pt x="1141" y="927"/>
                    </a:lnTo>
                    <a:lnTo>
                      <a:pt x="959" y="861"/>
                    </a:lnTo>
                    <a:lnTo>
                      <a:pt x="777" y="796"/>
                    </a:lnTo>
                    <a:lnTo>
                      <a:pt x="597" y="730"/>
                    </a:lnTo>
                    <a:lnTo>
                      <a:pt x="418" y="665"/>
                    </a:lnTo>
                    <a:lnTo>
                      <a:pt x="240" y="600"/>
                    </a:lnTo>
                    <a:lnTo>
                      <a:pt x="210" y="525"/>
                    </a:lnTo>
                    <a:lnTo>
                      <a:pt x="181" y="450"/>
                    </a:lnTo>
                    <a:lnTo>
                      <a:pt x="150" y="375"/>
                    </a:lnTo>
                    <a:lnTo>
                      <a:pt x="120" y="300"/>
                    </a:lnTo>
                    <a:lnTo>
                      <a:pt x="90" y="226"/>
                    </a:lnTo>
                    <a:lnTo>
                      <a:pt x="61" y="151"/>
                    </a:lnTo>
                    <a:lnTo>
                      <a:pt x="30" y="76"/>
                    </a:lnTo>
                    <a:lnTo>
                      <a:pt x="0" y="0"/>
                    </a:lnTo>
                    <a:lnTo>
                      <a:pt x="176" y="63"/>
                    </a:lnTo>
                    <a:lnTo>
                      <a:pt x="353" y="126"/>
                    </a:lnTo>
                    <a:lnTo>
                      <a:pt x="531" y="189"/>
                    </a:lnTo>
                    <a:lnTo>
                      <a:pt x="711" y="253"/>
                    </a:lnTo>
                    <a:lnTo>
                      <a:pt x="891" y="317"/>
                    </a:lnTo>
                    <a:lnTo>
                      <a:pt x="1073" y="381"/>
                    </a:lnTo>
                    <a:lnTo>
                      <a:pt x="1255" y="445"/>
                    </a:lnTo>
                    <a:lnTo>
                      <a:pt x="1437" y="51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932440" y="2070720"/>
                <a:ext cx="916560" cy="2302200"/>
              </a:xfrm>
              <a:custGeom>
                <a:avLst/>
                <a:gdLst/>
                <a:ahLst/>
                <a:rect l="l" t="t" r="r" b="b"/>
                <a:pathLst>
                  <a:path w="2455" h="8394">
                    <a:moveTo>
                      <a:pt x="1014" y="0"/>
                    </a:moveTo>
                    <a:lnTo>
                      <a:pt x="1191" y="37"/>
                    </a:lnTo>
                    <a:lnTo>
                      <a:pt x="1368" y="75"/>
                    </a:lnTo>
                    <a:lnTo>
                      <a:pt x="1547" y="113"/>
                    </a:lnTo>
                    <a:lnTo>
                      <a:pt x="1727" y="152"/>
                    </a:lnTo>
                    <a:lnTo>
                      <a:pt x="1907" y="191"/>
                    </a:lnTo>
                    <a:lnTo>
                      <a:pt x="2089" y="230"/>
                    </a:lnTo>
                    <a:lnTo>
                      <a:pt x="2271" y="270"/>
                    </a:lnTo>
                    <a:lnTo>
                      <a:pt x="2455" y="309"/>
                    </a:lnTo>
                    <a:lnTo>
                      <a:pt x="2423" y="559"/>
                    </a:lnTo>
                    <a:lnTo>
                      <a:pt x="2392" y="810"/>
                    </a:lnTo>
                    <a:lnTo>
                      <a:pt x="2361" y="1060"/>
                    </a:lnTo>
                    <a:lnTo>
                      <a:pt x="2329" y="1311"/>
                    </a:lnTo>
                    <a:lnTo>
                      <a:pt x="2297" y="1561"/>
                    </a:lnTo>
                    <a:lnTo>
                      <a:pt x="2266" y="1812"/>
                    </a:lnTo>
                    <a:lnTo>
                      <a:pt x="2235" y="2062"/>
                    </a:lnTo>
                    <a:lnTo>
                      <a:pt x="2204" y="2313"/>
                    </a:lnTo>
                    <a:lnTo>
                      <a:pt x="2171" y="2564"/>
                    </a:lnTo>
                    <a:lnTo>
                      <a:pt x="2140" y="2817"/>
                    </a:lnTo>
                    <a:lnTo>
                      <a:pt x="2108" y="3068"/>
                    </a:lnTo>
                    <a:lnTo>
                      <a:pt x="2077" y="3320"/>
                    </a:lnTo>
                    <a:lnTo>
                      <a:pt x="2044" y="3572"/>
                    </a:lnTo>
                    <a:lnTo>
                      <a:pt x="2013" y="3824"/>
                    </a:lnTo>
                    <a:lnTo>
                      <a:pt x="1981" y="4076"/>
                    </a:lnTo>
                    <a:lnTo>
                      <a:pt x="1950" y="4328"/>
                    </a:lnTo>
                    <a:lnTo>
                      <a:pt x="1917" y="4582"/>
                    </a:lnTo>
                    <a:lnTo>
                      <a:pt x="1885" y="4834"/>
                    </a:lnTo>
                    <a:lnTo>
                      <a:pt x="1853" y="5088"/>
                    </a:lnTo>
                    <a:lnTo>
                      <a:pt x="1822" y="5341"/>
                    </a:lnTo>
                    <a:lnTo>
                      <a:pt x="1789" y="5594"/>
                    </a:lnTo>
                    <a:lnTo>
                      <a:pt x="1757" y="5847"/>
                    </a:lnTo>
                    <a:lnTo>
                      <a:pt x="1725" y="6101"/>
                    </a:lnTo>
                    <a:lnTo>
                      <a:pt x="1693" y="6354"/>
                    </a:lnTo>
                    <a:lnTo>
                      <a:pt x="1660" y="6609"/>
                    </a:lnTo>
                    <a:lnTo>
                      <a:pt x="1629" y="6864"/>
                    </a:lnTo>
                    <a:lnTo>
                      <a:pt x="1597" y="7119"/>
                    </a:lnTo>
                    <a:lnTo>
                      <a:pt x="1565" y="7374"/>
                    </a:lnTo>
                    <a:lnTo>
                      <a:pt x="1533" y="7628"/>
                    </a:lnTo>
                    <a:lnTo>
                      <a:pt x="1501" y="7883"/>
                    </a:lnTo>
                    <a:lnTo>
                      <a:pt x="1470" y="8139"/>
                    </a:lnTo>
                    <a:lnTo>
                      <a:pt x="1437" y="8394"/>
                    </a:lnTo>
                    <a:lnTo>
                      <a:pt x="1255" y="8329"/>
                    </a:lnTo>
                    <a:lnTo>
                      <a:pt x="1073" y="8265"/>
                    </a:lnTo>
                    <a:lnTo>
                      <a:pt x="891" y="8201"/>
                    </a:lnTo>
                    <a:lnTo>
                      <a:pt x="711" y="8137"/>
                    </a:lnTo>
                    <a:lnTo>
                      <a:pt x="531" y="8073"/>
                    </a:lnTo>
                    <a:lnTo>
                      <a:pt x="353" y="8010"/>
                    </a:lnTo>
                    <a:lnTo>
                      <a:pt x="176" y="7947"/>
                    </a:lnTo>
                    <a:lnTo>
                      <a:pt x="0" y="7884"/>
                    </a:lnTo>
                    <a:lnTo>
                      <a:pt x="32" y="7636"/>
                    </a:lnTo>
                    <a:lnTo>
                      <a:pt x="65" y="7387"/>
                    </a:lnTo>
                    <a:lnTo>
                      <a:pt x="96" y="7138"/>
                    </a:lnTo>
                    <a:lnTo>
                      <a:pt x="128" y="6890"/>
                    </a:lnTo>
                    <a:lnTo>
                      <a:pt x="159" y="6641"/>
                    </a:lnTo>
                    <a:lnTo>
                      <a:pt x="192" y="6393"/>
                    </a:lnTo>
                    <a:lnTo>
                      <a:pt x="223" y="6144"/>
                    </a:lnTo>
                    <a:lnTo>
                      <a:pt x="255" y="5896"/>
                    </a:lnTo>
                    <a:lnTo>
                      <a:pt x="286" y="5649"/>
                    </a:lnTo>
                    <a:lnTo>
                      <a:pt x="319" y="5402"/>
                    </a:lnTo>
                    <a:lnTo>
                      <a:pt x="351" y="5154"/>
                    </a:lnTo>
                    <a:lnTo>
                      <a:pt x="382" y="4907"/>
                    </a:lnTo>
                    <a:lnTo>
                      <a:pt x="414" y="4659"/>
                    </a:lnTo>
                    <a:lnTo>
                      <a:pt x="447" y="4413"/>
                    </a:lnTo>
                    <a:lnTo>
                      <a:pt x="478" y="4166"/>
                    </a:lnTo>
                    <a:lnTo>
                      <a:pt x="509" y="3920"/>
                    </a:lnTo>
                    <a:lnTo>
                      <a:pt x="540" y="3673"/>
                    </a:lnTo>
                    <a:lnTo>
                      <a:pt x="572" y="3428"/>
                    </a:lnTo>
                    <a:lnTo>
                      <a:pt x="603" y="3182"/>
                    </a:lnTo>
                    <a:lnTo>
                      <a:pt x="634" y="2937"/>
                    </a:lnTo>
                    <a:lnTo>
                      <a:pt x="666" y="2691"/>
                    </a:lnTo>
                    <a:lnTo>
                      <a:pt x="698" y="2446"/>
                    </a:lnTo>
                    <a:lnTo>
                      <a:pt x="729" y="2201"/>
                    </a:lnTo>
                    <a:lnTo>
                      <a:pt x="761" y="1955"/>
                    </a:lnTo>
                    <a:lnTo>
                      <a:pt x="792" y="1711"/>
                    </a:lnTo>
                    <a:lnTo>
                      <a:pt x="825" y="1466"/>
                    </a:lnTo>
                    <a:lnTo>
                      <a:pt x="856" y="1221"/>
                    </a:lnTo>
                    <a:lnTo>
                      <a:pt x="887" y="978"/>
                    </a:lnTo>
                    <a:lnTo>
                      <a:pt x="919" y="733"/>
                    </a:lnTo>
                    <a:lnTo>
                      <a:pt x="951" y="488"/>
                    </a:lnTo>
                    <a:lnTo>
                      <a:pt x="983" y="244"/>
                    </a:lnTo>
                    <a:lnTo>
                      <a:pt x="1014" y="0"/>
                    </a:lnTo>
                    <a:close/>
                    <a:moveTo>
                      <a:pt x="1173" y="362"/>
                    </a:moveTo>
                    <a:lnTo>
                      <a:pt x="1299" y="390"/>
                    </a:lnTo>
                    <a:lnTo>
                      <a:pt x="1426" y="418"/>
                    </a:lnTo>
                    <a:lnTo>
                      <a:pt x="1554" y="446"/>
                    </a:lnTo>
                    <a:lnTo>
                      <a:pt x="1683" y="474"/>
                    </a:lnTo>
                    <a:lnTo>
                      <a:pt x="1812" y="504"/>
                    </a:lnTo>
                    <a:lnTo>
                      <a:pt x="1943" y="532"/>
                    </a:lnTo>
                    <a:lnTo>
                      <a:pt x="2073" y="560"/>
                    </a:lnTo>
                    <a:lnTo>
                      <a:pt x="2204" y="590"/>
                    </a:lnTo>
                    <a:lnTo>
                      <a:pt x="2173" y="819"/>
                    </a:lnTo>
                    <a:lnTo>
                      <a:pt x="2144" y="1048"/>
                    </a:lnTo>
                    <a:lnTo>
                      <a:pt x="2115" y="1278"/>
                    </a:lnTo>
                    <a:lnTo>
                      <a:pt x="2086" y="1507"/>
                    </a:lnTo>
                    <a:lnTo>
                      <a:pt x="2057" y="1736"/>
                    </a:lnTo>
                    <a:lnTo>
                      <a:pt x="2028" y="1966"/>
                    </a:lnTo>
                    <a:lnTo>
                      <a:pt x="1999" y="2195"/>
                    </a:lnTo>
                    <a:lnTo>
                      <a:pt x="1970" y="2425"/>
                    </a:lnTo>
                    <a:lnTo>
                      <a:pt x="1940" y="2655"/>
                    </a:lnTo>
                    <a:lnTo>
                      <a:pt x="1911" y="2886"/>
                    </a:lnTo>
                    <a:lnTo>
                      <a:pt x="1883" y="3116"/>
                    </a:lnTo>
                    <a:lnTo>
                      <a:pt x="1854" y="3347"/>
                    </a:lnTo>
                    <a:lnTo>
                      <a:pt x="1825" y="3577"/>
                    </a:lnTo>
                    <a:lnTo>
                      <a:pt x="1796" y="3809"/>
                    </a:lnTo>
                    <a:lnTo>
                      <a:pt x="1767" y="4039"/>
                    </a:lnTo>
                    <a:lnTo>
                      <a:pt x="1738" y="4269"/>
                    </a:lnTo>
                    <a:lnTo>
                      <a:pt x="1709" y="4501"/>
                    </a:lnTo>
                    <a:lnTo>
                      <a:pt x="1679" y="4732"/>
                    </a:lnTo>
                    <a:lnTo>
                      <a:pt x="1650" y="4963"/>
                    </a:lnTo>
                    <a:lnTo>
                      <a:pt x="1621" y="5196"/>
                    </a:lnTo>
                    <a:lnTo>
                      <a:pt x="1592" y="5427"/>
                    </a:lnTo>
                    <a:lnTo>
                      <a:pt x="1562" y="5660"/>
                    </a:lnTo>
                    <a:lnTo>
                      <a:pt x="1533" y="5892"/>
                    </a:lnTo>
                    <a:lnTo>
                      <a:pt x="1504" y="6124"/>
                    </a:lnTo>
                    <a:lnTo>
                      <a:pt x="1475" y="6356"/>
                    </a:lnTo>
                    <a:lnTo>
                      <a:pt x="1446" y="6588"/>
                    </a:lnTo>
                    <a:lnTo>
                      <a:pt x="1415" y="6821"/>
                    </a:lnTo>
                    <a:lnTo>
                      <a:pt x="1386" y="7055"/>
                    </a:lnTo>
                    <a:lnTo>
                      <a:pt x="1357" y="7287"/>
                    </a:lnTo>
                    <a:lnTo>
                      <a:pt x="1328" y="7520"/>
                    </a:lnTo>
                    <a:lnTo>
                      <a:pt x="1299" y="7754"/>
                    </a:lnTo>
                    <a:lnTo>
                      <a:pt x="1270" y="7987"/>
                    </a:lnTo>
                    <a:lnTo>
                      <a:pt x="1139" y="7941"/>
                    </a:lnTo>
                    <a:lnTo>
                      <a:pt x="1009" y="7897"/>
                    </a:lnTo>
                    <a:lnTo>
                      <a:pt x="880" y="7851"/>
                    </a:lnTo>
                    <a:lnTo>
                      <a:pt x="751" y="7807"/>
                    </a:lnTo>
                    <a:lnTo>
                      <a:pt x="623" y="7761"/>
                    </a:lnTo>
                    <a:lnTo>
                      <a:pt x="495" y="7718"/>
                    </a:lnTo>
                    <a:lnTo>
                      <a:pt x="369" y="7674"/>
                    </a:lnTo>
                    <a:lnTo>
                      <a:pt x="243" y="7631"/>
                    </a:lnTo>
                    <a:lnTo>
                      <a:pt x="272" y="7402"/>
                    </a:lnTo>
                    <a:lnTo>
                      <a:pt x="301" y="7172"/>
                    </a:lnTo>
                    <a:lnTo>
                      <a:pt x="331" y="6943"/>
                    </a:lnTo>
                    <a:lnTo>
                      <a:pt x="360" y="6714"/>
                    </a:lnTo>
                    <a:lnTo>
                      <a:pt x="389" y="6485"/>
                    </a:lnTo>
                    <a:lnTo>
                      <a:pt x="418" y="6257"/>
                    </a:lnTo>
                    <a:lnTo>
                      <a:pt x="448" y="6028"/>
                    </a:lnTo>
                    <a:lnTo>
                      <a:pt x="477" y="5799"/>
                    </a:lnTo>
                    <a:lnTo>
                      <a:pt x="506" y="5572"/>
                    </a:lnTo>
                    <a:lnTo>
                      <a:pt x="535" y="5344"/>
                    </a:lnTo>
                    <a:lnTo>
                      <a:pt x="565" y="5116"/>
                    </a:lnTo>
                    <a:lnTo>
                      <a:pt x="594" y="4888"/>
                    </a:lnTo>
                    <a:lnTo>
                      <a:pt x="623" y="4661"/>
                    </a:lnTo>
                    <a:lnTo>
                      <a:pt x="653" y="4433"/>
                    </a:lnTo>
                    <a:lnTo>
                      <a:pt x="683" y="4205"/>
                    </a:lnTo>
                    <a:lnTo>
                      <a:pt x="712" y="3977"/>
                    </a:lnTo>
                    <a:lnTo>
                      <a:pt x="740" y="3751"/>
                    </a:lnTo>
                    <a:lnTo>
                      <a:pt x="769" y="3524"/>
                    </a:lnTo>
                    <a:lnTo>
                      <a:pt x="797" y="3298"/>
                    </a:lnTo>
                    <a:lnTo>
                      <a:pt x="827" y="3071"/>
                    </a:lnTo>
                    <a:lnTo>
                      <a:pt x="855" y="2845"/>
                    </a:lnTo>
                    <a:lnTo>
                      <a:pt x="883" y="2618"/>
                    </a:lnTo>
                    <a:lnTo>
                      <a:pt x="912" y="2392"/>
                    </a:lnTo>
                    <a:lnTo>
                      <a:pt x="942" y="2165"/>
                    </a:lnTo>
                    <a:lnTo>
                      <a:pt x="970" y="1940"/>
                    </a:lnTo>
                    <a:lnTo>
                      <a:pt x="999" y="1714"/>
                    </a:lnTo>
                    <a:lnTo>
                      <a:pt x="1028" y="1488"/>
                    </a:lnTo>
                    <a:lnTo>
                      <a:pt x="1057" y="1263"/>
                    </a:lnTo>
                    <a:lnTo>
                      <a:pt x="1086" y="1038"/>
                    </a:lnTo>
                    <a:lnTo>
                      <a:pt x="1115" y="813"/>
                    </a:lnTo>
                    <a:lnTo>
                      <a:pt x="1144" y="587"/>
                    </a:lnTo>
                    <a:lnTo>
                      <a:pt x="1173" y="362"/>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932440" y="2070720"/>
                <a:ext cx="916560" cy="2302200"/>
              </a:xfrm>
              <a:custGeom>
                <a:avLst/>
                <a:gdLst/>
                <a:ahLst/>
                <a:rect l="l" t="t" r="r" b="b"/>
                <a:pathLst>
                  <a:path w="2455" h="8394">
                    <a:moveTo>
                      <a:pt x="1014" y="0"/>
                    </a:moveTo>
                    <a:lnTo>
                      <a:pt x="1191" y="37"/>
                    </a:lnTo>
                    <a:lnTo>
                      <a:pt x="1368" y="75"/>
                    </a:lnTo>
                    <a:lnTo>
                      <a:pt x="1547" y="113"/>
                    </a:lnTo>
                    <a:lnTo>
                      <a:pt x="1727" y="152"/>
                    </a:lnTo>
                    <a:lnTo>
                      <a:pt x="1907" y="191"/>
                    </a:lnTo>
                    <a:lnTo>
                      <a:pt x="2089" y="230"/>
                    </a:lnTo>
                    <a:lnTo>
                      <a:pt x="2271" y="270"/>
                    </a:lnTo>
                    <a:lnTo>
                      <a:pt x="2455" y="309"/>
                    </a:lnTo>
                    <a:lnTo>
                      <a:pt x="2423" y="559"/>
                    </a:lnTo>
                    <a:lnTo>
                      <a:pt x="2392" y="810"/>
                    </a:lnTo>
                    <a:lnTo>
                      <a:pt x="2361" y="1060"/>
                    </a:lnTo>
                    <a:lnTo>
                      <a:pt x="2329" y="1311"/>
                    </a:lnTo>
                    <a:lnTo>
                      <a:pt x="2297" y="1561"/>
                    </a:lnTo>
                    <a:lnTo>
                      <a:pt x="2266" y="1812"/>
                    </a:lnTo>
                    <a:lnTo>
                      <a:pt x="2235" y="2062"/>
                    </a:lnTo>
                    <a:lnTo>
                      <a:pt x="2204" y="2313"/>
                    </a:lnTo>
                    <a:lnTo>
                      <a:pt x="2171" y="2564"/>
                    </a:lnTo>
                    <a:lnTo>
                      <a:pt x="2140" y="2817"/>
                    </a:lnTo>
                    <a:lnTo>
                      <a:pt x="2108" y="3068"/>
                    </a:lnTo>
                    <a:lnTo>
                      <a:pt x="2077" y="3320"/>
                    </a:lnTo>
                    <a:lnTo>
                      <a:pt x="2044" y="3572"/>
                    </a:lnTo>
                    <a:lnTo>
                      <a:pt x="2013" y="3824"/>
                    </a:lnTo>
                    <a:lnTo>
                      <a:pt x="1981" y="4076"/>
                    </a:lnTo>
                    <a:lnTo>
                      <a:pt x="1950" y="4328"/>
                    </a:lnTo>
                    <a:lnTo>
                      <a:pt x="1917" y="4582"/>
                    </a:lnTo>
                    <a:lnTo>
                      <a:pt x="1885" y="4834"/>
                    </a:lnTo>
                    <a:lnTo>
                      <a:pt x="1853" y="5088"/>
                    </a:lnTo>
                    <a:lnTo>
                      <a:pt x="1822" y="5341"/>
                    </a:lnTo>
                    <a:lnTo>
                      <a:pt x="1789" y="5594"/>
                    </a:lnTo>
                    <a:lnTo>
                      <a:pt x="1757" y="5847"/>
                    </a:lnTo>
                    <a:lnTo>
                      <a:pt x="1725" y="6101"/>
                    </a:lnTo>
                    <a:lnTo>
                      <a:pt x="1693" y="6354"/>
                    </a:lnTo>
                    <a:lnTo>
                      <a:pt x="1660" y="6609"/>
                    </a:lnTo>
                    <a:lnTo>
                      <a:pt x="1629" y="6864"/>
                    </a:lnTo>
                    <a:lnTo>
                      <a:pt x="1597" y="7119"/>
                    </a:lnTo>
                    <a:lnTo>
                      <a:pt x="1565" y="7374"/>
                    </a:lnTo>
                    <a:lnTo>
                      <a:pt x="1533" y="7628"/>
                    </a:lnTo>
                    <a:lnTo>
                      <a:pt x="1501" y="7883"/>
                    </a:lnTo>
                    <a:lnTo>
                      <a:pt x="1470" y="8139"/>
                    </a:lnTo>
                    <a:lnTo>
                      <a:pt x="1437" y="8394"/>
                    </a:lnTo>
                    <a:lnTo>
                      <a:pt x="1255" y="8329"/>
                    </a:lnTo>
                    <a:lnTo>
                      <a:pt x="1073" y="8265"/>
                    </a:lnTo>
                    <a:lnTo>
                      <a:pt x="891" y="8201"/>
                    </a:lnTo>
                    <a:lnTo>
                      <a:pt x="711" y="8137"/>
                    </a:lnTo>
                    <a:lnTo>
                      <a:pt x="531" y="8073"/>
                    </a:lnTo>
                    <a:lnTo>
                      <a:pt x="353" y="8010"/>
                    </a:lnTo>
                    <a:lnTo>
                      <a:pt x="176" y="7947"/>
                    </a:lnTo>
                    <a:lnTo>
                      <a:pt x="0" y="7884"/>
                    </a:lnTo>
                    <a:lnTo>
                      <a:pt x="32" y="7636"/>
                    </a:lnTo>
                    <a:lnTo>
                      <a:pt x="65" y="7387"/>
                    </a:lnTo>
                    <a:lnTo>
                      <a:pt x="96" y="7138"/>
                    </a:lnTo>
                    <a:lnTo>
                      <a:pt x="128" y="6890"/>
                    </a:lnTo>
                    <a:lnTo>
                      <a:pt x="159" y="6641"/>
                    </a:lnTo>
                    <a:lnTo>
                      <a:pt x="192" y="6393"/>
                    </a:lnTo>
                    <a:lnTo>
                      <a:pt x="223" y="6144"/>
                    </a:lnTo>
                    <a:lnTo>
                      <a:pt x="255" y="5896"/>
                    </a:lnTo>
                    <a:lnTo>
                      <a:pt x="286" y="5649"/>
                    </a:lnTo>
                    <a:lnTo>
                      <a:pt x="319" y="5402"/>
                    </a:lnTo>
                    <a:lnTo>
                      <a:pt x="351" y="5154"/>
                    </a:lnTo>
                    <a:lnTo>
                      <a:pt x="382" y="4907"/>
                    </a:lnTo>
                    <a:lnTo>
                      <a:pt x="414" y="4659"/>
                    </a:lnTo>
                    <a:lnTo>
                      <a:pt x="447" y="4413"/>
                    </a:lnTo>
                    <a:lnTo>
                      <a:pt x="478" y="4166"/>
                    </a:lnTo>
                    <a:lnTo>
                      <a:pt x="509" y="3920"/>
                    </a:lnTo>
                    <a:lnTo>
                      <a:pt x="540" y="3673"/>
                    </a:lnTo>
                    <a:lnTo>
                      <a:pt x="572" y="3428"/>
                    </a:lnTo>
                    <a:lnTo>
                      <a:pt x="603" y="3182"/>
                    </a:lnTo>
                    <a:lnTo>
                      <a:pt x="634" y="2937"/>
                    </a:lnTo>
                    <a:lnTo>
                      <a:pt x="666" y="2691"/>
                    </a:lnTo>
                    <a:lnTo>
                      <a:pt x="698" y="2446"/>
                    </a:lnTo>
                    <a:lnTo>
                      <a:pt x="729" y="2201"/>
                    </a:lnTo>
                    <a:lnTo>
                      <a:pt x="761" y="1955"/>
                    </a:lnTo>
                    <a:lnTo>
                      <a:pt x="792" y="1711"/>
                    </a:lnTo>
                    <a:lnTo>
                      <a:pt x="825" y="1466"/>
                    </a:lnTo>
                    <a:lnTo>
                      <a:pt x="856" y="1221"/>
                    </a:lnTo>
                    <a:lnTo>
                      <a:pt x="887" y="978"/>
                    </a:lnTo>
                    <a:lnTo>
                      <a:pt x="919" y="733"/>
                    </a:lnTo>
                    <a:lnTo>
                      <a:pt x="951" y="488"/>
                    </a:lnTo>
                    <a:lnTo>
                      <a:pt x="983" y="244"/>
                    </a:lnTo>
                    <a:lnTo>
                      <a:pt x="1014"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023520" y="2169720"/>
                <a:ext cx="731160" cy="2090880"/>
              </a:xfrm>
              <a:custGeom>
                <a:avLst/>
                <a:gdLst/>
                <a:ahLst/>
                <a:rect l="l" t="t" r="r" b="b"/>
                <a:pathLst>
                  <a:path w="1961" h="7625">
                    <a:moveTo>
                      <a:pt x="930" y="0"/>
                    </a:moveTo>
                    <a:lnTo>
                      <a:pt x="1056" y="28"/>
                    </a:lnTo>
                    <a:lnTo>
                      <a:pt x="1183" y="56"/>
                    </a:lnTo>
                    <a:lnTo>
                      <a:pt x="1311" y="84"/>
                    </a:lnTo>
                    <a:lnTo>
                      <a:pt x="1440" y="112"/>
                    </a:lnTo>
                    <a:lnTo>
                      <a:pt x="1569" y="142"/>
                    </a:lnTo>
                    <a:lnTo>
                      <a:pt x="1700" y="170"/>
                    </a:lnTo>
                    <a:lnTo>
                      <a:pt x="1830" y="198"/>
                    </a:lnTo>
                    <a:lnTo>
                      <a:pt x="1961" y="228"/>
                    </a:lnTo>
                    <a:lnTo>
                      <a:pt x="1930" y="457"/>
                    </a:lnTo>
                    <a:lnTo>
                      <a:pt x="1901" y="686"/>
                    </a:lnTo>
                    <a:lnTo>
                      <a:pt x="1872" y="916"/>
                    </a:lnTo>
                    <a:lnTo>
                      <a:pt x="1843" y="1145"/>
                    </a:lnTo>
                    <a:lnTo>
                      <a:pt x="1814" y="1374"/>
                    </a:lnTo>
                    <a:lnTo>
                      <a:pt x="1785" y="1604"/>
                    </a:lnTo>
                    <a:lnTo>
                      <a:pt x="1756" y="1833"/>
                    </a:lnTo>
                    <a:lnTo>
                      <a:pt x="1727" y="2063"/>
                    </a:lnTo>
                    <a:lnTo>
                      <a:pt x="1697" y="2293"/>
                    </a:lnTo>
                    <a:lnTo>
                      <a:pt x="1668" y="2524"/>
                    </a:lnTo>
                    <a:lnTo>
                      <a:pt x="1640" y="2754"/>
                    </a:lnTo>
                    <a:lnTo>
                      <a:pt x="1611" y="2985"/>
                    </a:lnTo>
                    <a:lnTo>
                      <a:pt x="1582" y="3215"/>
                    </a:lnTo>
                    <a:lnTo>
                      <a:pt x="1553" y="3447"/>
                    </a:lnTo>
                    <a:lnTo>
                      <a:pt x="1524" y="3677"/>
                    </a:lnTo>
                    <a:lnTo>
                      <a:pt x="1495" y="3907"/>
                    </a:lnTo>
                    <a:lnTo>
                      <a:pt x="1466" y="4139"/>
                    </a:lnTo>
                    <a:lnTo>
                      <a:pt x="1436" y="4370"/>
                    </a:lnTo>
                    <a:lnTo>
                      <a:pt x="1407" y="4601"/>
                    </a:lnTo>
                    <a:lnTo>
                      <a:pt x="1378" y="4834"/>
                    </a:lnTo>
                    <a:lnTo>
                      <a:pt x="1349" y="5065"/>
                    </a:lnTo>
                    <a:lnTo>
                      <a:pt x="1319" y="5298"/>
                    </a:lnTo>
                    <a:lnTo>
                      <a:pt x="1290" y="5530"/>
                    </a:lnTo>
                    <a:lnTo>
                      <a:pt x="1261" y="5762"/>
                    </a:lnTo>
                    <a:lnTo>
                      <a:pt x="1232" y="5994"/>
                    </a:lnTo>
                    <a:lnTo>
                      <a:pt x="1203" y="6226"/>
                    </a:lnTo>
                    <a:lnTo>
                      <a:pt x="1172" y="6459"/>
                    </a:lnTo>
                    <a:lnTo>
                      <a:pt x="1143" y="6693"/>
                    </a:lnTo>
                    <a:lnTo>
                      <a:pt x="1114" y="6925"/>
                    </a:lnTo>
                    <a:lnTo>
                      <a:pt x="1085" y="7158"/>
                    </a:lnTo>
                    <a:lnTo>
                      <a:pt x="1056" y="7392"/>
                    </a:lnTo>
                    <a:lnTo>
                      <a:pt x="1027" y="7625"/>
                    </a:lnTo>
                    <a:lnTo>
                      <a:pt x="896" y="7579"/>
                    </a:lnTo>
                    <a:lnTo>
                      <a:pt x="766" y="7535"/>
                    </a:lnTo>
                    <a:lnTo>
                      <a:pt x="637" y="7489"/>
                    </a:lnTo>
                    <a:lnTo>
                      <a:pt x="508" y="7445"/>
                    </a:lnTo>
                    <a:lnTo>
                      <a:pt x="380" y="7399"/>
                    </a:lnTo>
                    <a:lnTo>
                      <a:pt x="252" y="7356"/>
                    </a:lnTo>
                    <a:lnTo>
                      <a:pt x="126" y="7312"/>
                    </a:lnTo>
                    <a:lnTo>
                      <a:pt x="0" y="7269"/>
                    </a:lnTo>
                    <a:lnTo>
                      <a:pt x="29" y="7040"/>
                    </a:lnTo>
                    <a:lnTo>
                      <a:pt x="58" y="6810"/>
                    </a:lnTo>
                    <a:lnTo>
                      <a:pt x="88" y="6581"/>
                    </a:lnTo>
                    <a:lnTo>
                      <a:pt x="117" y="6352"/>
                    </a:lnTo>
                    <a:lnTo>
                      <a:pt x="146" y="6123"/>
                    </a:lnTo>
                    <a:lnTo>
                      <a:pt x="175" y="5895"/>
                    </a:lnTo>
                    <a:lnTo>
                      <a:pt x="205" y="5666"/>
                    </a:lnTo>
                    <a:lnTo>
                      <a:pt x="234" y="5437"/>
                    </a:lnTo>
                    <a:lnTo>
                      <a:pt x="263" y="5210"/>
                    </a:lnTo>
                    <a:lnTo>
                      <a:pt x="292" y="4982"/>
                    </a:lnTo>
                    <a:lnTo>
                      <a:pt x="322" y="4754"/>
                    </a:lnTo>
                    <a:lnTo>
                      <a:pt x="351" y="4526"/>
                    </a:lnTo>
                    <a:lnTo>
                      <a:pt x="380" y="4299"/>
                    </a:lnTo>
                    <a:lnTo>
                      <a:pt x="410" y="4071"/>
                    </a:lnTo>
                    <a:lnTo>
                      <a:pt x="440" y="3843"/>
                    </a:lnTo>
                    <a:lnTo>
                      <a:pt x="469" y="3615"/>
                    </a:lnTo>
                    <a:lnTo>
                      <a:pt x="497" y="3389"/>
                    </a:lnTo>
                    <a:lnTo>
                      <a:pt x="526" y="3162"/>
                    </a:lnTo>
                    <a:lnTo>
                      <a:pt x="554" y="2936"/>
                    </a:lnTo>
                    <a:lnTo>
                      <a:pt x="584" y="2709"/>
                    </a:lnTo>
                    <a:lnTo>
                      <a:pt x="612" y="2483"/>
                    </a:lnTo>
                    <a:lnTo>
                      <a:pt x="640" y="2256"/>
                    </a:lnTo>
                    <a:lnTo>
                      <a:pt x="669" y="2030"/>
                    </a:lnTo>
                    <a:lnTo>
                      <a:pt x="699" y="1803"/>
                    </a:lnTo>
                    <a:lnTo>
                      <a:pt x="727" y="1578"/>
                    </a:lnTo>
                    <a:lnTo>
                      <a:pt x="756" y="1352"/>
                    </a:lnTo>
                    <a:lnTo>
                      <a:pt x="785" y="1126"/>
                    </a:lnTo>
                    <a:lnTo>
                      <a:pt x="814" y="901"/>
                    </a:lnTo>
                    <a:lnTo>
                      <a:pt x="843" y="676"/>
                    </a:lnTo>
                    <a:lnTo>
                      <a:pt x="872" y="451"/>
                    </a:lnTo>
                    <a:lnTo>
                      <a:pt x="901" y="225"/>
                    </a:lnTo>
                    <a:lnTo>
                      <a:pt x="93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801480" y="2367000"/>
                <a:ext cx="762480" cy="2175840"/>
              </a:xfrm>
              <a:custGeom>
                <a:avLst/>
                <a:gdLst/>
                <a:ahLst/>
                <a:rect l="l" t="t" r="r" b="b"/>
                <a:pathLst>
                  <a:path w="2044" h="7933">
                    <a:moveTo>
                      <a:pt x="936" y="0"/>
                    </a:moveTo>
                    <a:lnTo>
                      <a:pt x="1073" y="31"/>
                    </a:lnTo>
                    <a:lnTo>
                      <a:pt x="1210" y="62"/>
                    </a:lnTo>
                    <a:lnTo>
                      <a:pt x="1348" y="92"/>
                    </a:lnTo>
                    <a:lnTo>
                      <a:pt x="1486" y="124"/>
                    </a:lnTo>
                    <a:lnTo>
                      <a:pt x="1624" y="155"/>
                    </a:lnTo>
                    <a:lnTo>
                      <a:pt x="1765" y="187"/>
                    </a:lnTo>
                    <a:lnTo>
                      <a:pt x="1904" y="218"/>
                    </a:lnTo>
                    <a:lnTo>
                      <a:pt x="2044" y="250"/>
                    </a:lnTo>
                    <a:lnTo>
                      <a:pt x="2015" y="489"/>
                    </a:lnTo>
                    <a:lnTo>
                      <a:pt x="1985" y="726"/>
                    </a:lnTo>
                    <a:lnTo>
                      <a:pt x="1956" y="965"/>
                    </a:lnTo>
                    <a:lnTo>
                      <a:pt x="1927" y="1204"/>
                    </a:lnTo>
                    <a:lnTo>
                      <a:pt x="1898" y="1441"/>
                    </a:lnTo>
                    <a:lnTo>
                      <a:pt x="1868" y="1680"/>
                    </a:lnTo>
                    <a:lnTo>
                      <a:pt x="1838" y="1919"/>
                    </a:lnTo>
                    <a:lnTo>
                      <a:pt x="1809" y="2157"/>
                    </a:lnTo>
                    <a:lnTo>
                      <a:pt x="1780" y="2397"/>
                    </a:lnTo>
                    <a:lnTo>
                      <a:pt x="1750" y="2635"/>
                    </a:lnTo>
                    <a:lnTo>
                      <a:pt x="1721" y="2875"/>
                    </a:lnTo>
                    <a:lnTo>
                      <a:pt x="1692" y="3114"/>
                    </a:lnTo>
                    <a:lnTo>
                      <a:pt x="1663" y="3354"/>
                    </a:lnTo>
                    <a:lnTo>
                      <a:pt x="1634" y="3593"/>
                    </a:lnTo>
                    <a:lnTo>
                      <a:pt x="1604" y="3833"/>
                    </a:lnTo>
                    <a:lnTo>
                      <a:pt x="1574" y="4072"/>
                    </a:lnTo>
                    <a:lnTo>
                      <a:pt x="1545" y="4312"/>
                    </a:lnTo>
                    <a:lnTo>
                      <a:pt x="1515" y="4552"/>
                    </a:lnTo>
                    <a:lnTo>
                      <a:pt x="1485" y="4793"/>
                    </a:lnTo>
                    <a:lnTo>
                      <a:pt x="1456" y="5033"/>
                    </a:lnTo>
                    <a:lnTo>
                      <a:pt x="1426" y="5275"/>
                    </a:lnTo>
                    <a:lnTo>
                      <a:pt x="1397" y="5516"/>
                    </a:lnTo>
                    <a:lnTo>
                      <a:pt x="1366" y="5756"/>
                    </a:lnTo>
                    <a:lnTo>
                      <a:pt x="1337" y="5997"/>
                    </a:lnTo>
                    <a:lnTo>
                      <a:pt x="1307" y="6238"/>
                    </a:lnTo>
                    <a:lnTo>
                      <a:pt x="1278" y="6481"/>
                    </a:lnTo>
                    <a:lnTo>
                      <a:pt x="1247" y="6722"/>
                    </a:lnTo>
                    <a:lnTo>
                      <a:pt x="1218" y="6965"/>
                    </a:lnTo>
                    <a:lnTo>
                      <a:pt x="1189" y="7207"/>
                    </a:lnTo>
                    <a:lnTo>
                      <a:pt x="1159" y="7450"/>
                    </a:lnTo>
                    <a:lnTo>
                      <a:pt x="1130" y="7692"/>
                    </a:lnTo>
                    <a:lnTo>
                      <a:pt x="1100" y="7933"/>
                    </a:lnTo>
                    <a:lnTo>
                      <a:pt x="960" y="7884"/>
                    </a:lnTo>
                    <a:lnTo>
                      <a:pt x="821" y="7835"/>
                    </a:lnTo>
                    <a:lnTo>
                      <a:pt x="683" y="7787"/>
                    </a:lnTo>
                    <a:lnTo>
                      <a:pt x="545" y="7738"/>
                    </a:lnTo>
                    <a:lnTo>
                      <a:pt x="408" y="7689"/>
                    </a:lnTo>
                    <a:lnTo>
                      <a:pt x="271" y="7640"/>
                    </a:lnTo>
                    <a:lnTo>
                      <a:pt x="135" y="7592"/>
                    </a:lnTo>
                    <a:lnTo>
                      <a:pt x="0" y="7544"/>
                    </a:lnTo>
                    <a:lnTo>
                      <a:pt x="29" y="7307"/>
                    </a:lnTo>
                    <a:lnTo>
                      <a:pt x="58" y="7068"/>
                    </a:lnTo>
                    <a:lnTo>
                      <a:pt x="87" y="6831"/>
                    </a:lnTo>
                    <a:lnTo>
                      <a:pt x="116" y="6593"/>
                    </a:lnTo>
                    <a:lnTo>
                      <a:pt x="146" y="6355"/>
                    </a:lnTo>
                    <a:lnTo>
                      <a:pt x="176" y="6118"/>
                    </a:lnTo>
                    <a:lnTo>
                      <a:pt x="205" y="5881"/>
                    </a:lnTo>
                    <a:lnTo>
                      <a:pt x="235" y="5644"/>
                    </a:lnTo>
                    <a:lnTo>
                      <a:pt x="265" y="5408"/>
                    </a:lnTo>
                    <a:lnTo>
                      <a:pt x="294" y="5171"/>
                    </a:lnTo>
                    <a:lnTo>
                      <a:pt x="324" y="4935"/>
                    </a:lnTo>
                    <a:lnTo>
                      <a:pt x="353" y="4699"/>
                    </a:lnTo>
                    <a:lnTo>
                      <a:pt x="383" y="4462"/>
                    </a:lnTo>
                    <a:lnTo>
                      <a:pt x="412" y="4226"/>
                    </a:lnTo>
                    <a:lnTo>
                      <a:pt x="441" y="3991"/>
                    </a:lnTo>
                    <a:lnTo>
                      <a:pt x="470" y="3754"/>
                    </a:lnTo>
                    <a:lnTo>
                      <a:pt x="500" y="3519"/>
                    </a:lnTo>
                    <a:lnTo>
                      <a:pt x="529" y="3284"/>
                    </a:lnTo>
                    <a:lnTo>
                      <a:pt x="558" y="3049"/>
                    </a:lnTo>
                    <a:lnTo>
                      <a:pt x="587" y="2814"/>
                    </a:lnTo>
                    <a:lnTo>
                      <a:pt x="616" y="2580"/>
                    </a:lnTo>
                    <a:lnTo>
                      <a:pt x="646" y="2345"/>
                    </a:lnTo>
                    <a:lnTo>
                      <a:pt x="675" y="2110"/>
                    </a:lnTo>
                    <a:lnTo>
                      <a:pt x="704" y="1875"/>
                    </a:lnTo>
                    <a:lnTo>
                      <a:pt x="733" y="1641"/>
                    </a:lnTo>
                    <a:lnTo>
                      <a:pt x="763" y="1406"/>
                    </a:lnTo>
                    <a:lnTo>
                      <a:pt x="791" y="1172"/>
                    </a:lnTo>
                    <a:lnTo>
                      <a:pt x="820" y="938"/>
                    </a:lnTo>
                    <a:lnTo>
                      <a:pt x="849" y="703"/>
                    </a:lnTo>
                    <a:lnTo>
                      <a:pt x="879" y="469"/>
                    </a:lnTo>
                    <a:lnTo>
                      <a:pt x="907" y="234"/>
                    </a:lnTo>
                    <a:lnTo>
                      <a:pt x="936"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148880" y="2355840"/>
                <a:ext cx="430920" cy="90360"/>
              </a:xfrm>
              <a:custGeom>
                <a:avLst/>
                <a:gdLst/>
                <a:ahLst/>
                <a:rect l="l" t="t" r="r" b="b"/>
                <a:pathLst>
                  <a:path w="1154" h="334">
                    <a:moveTo>
                      <a:pt x="1149" y="298"/>
                    </a:moveTo>
                    <a:lnTo>
                      <a:pt x="1121" y="249"/>
                    </a:lnTo>
                    <a:lnTo>
                      <a:pt x="981" y="218"/>
                    </a:lnTo>
                    <a:lnTo>
                      <a:pt x="841" y="186"/>
                    </a:lnTo>
                    <a:lnTo>
                      <a:pt x="702" y="155"/>
                    </a:lnTo>
                    <a:lnTo>
                      <a:pt x="562" y="123"/>
                    </a:lnTo>
                    <a:lnTo>
                      <a:pt x="424" y="92"/>
                    </a:lnTo>
                    <a:lnTo>
                      <a:pt x="286" y="62"/>
                    </a:lnTo>
                    <a:lnTo>
                      <a:pt x="149" y="31"/>
                    </a:lnTo>
                    <a:lnTo>
                      <a:pt x="12" y="0"/>
                    </a:lnTo>
                    <a:lnTo>
                      <a:pt x="0" y="85"/>
                    </a:lnTo>
                    <a:lnTo>
                      <a:pt x="137" y="116"/>
                    </a:lnTo>
                    <a:lnTo>
                      <a:pt x="274" y="147"/>
                    </a:lnTo>
                    <a:lnTo>
                      <a:pt x="411" y="177"/>
                    </a:lnTo>
                    <a:lnTo>
                      <a:pt x="550" y="208"/>
                    </a:lnTo>
                    <a:lnTo>
                      <a:pt x="688" y="240"/>
                    </a:lnTo>
                    <a:lnTo>
                      <a:pt x="828" y="271"/>
                    </a:lnTo>
                    <a:lnTo>
                      <a:pt x="968" y="303"/>
                    </a:lnTo>
                    <a:lnTo>
                      <a:pt x="1108" y="334"/>
                    </a:lnTo>
                    <a:lnTo>
                      <a:pt x="1080" y="286"/>
                    </a:lnTo>
                    <a:lnTo>
                      <a:pt x="1149" y="298"/>
                    </a:lnTo>
                    <a:lnTo>
                      <a:pt x="1154" y="257"/>
                    </a:lnTo>
                    <a:lnTo>
                      <a:pt x="1121" y="249"/>
                    </a:lnTo>
                    <a:lnTo>
                      <a:pt x="1149" y="29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8" name=""/>
              <p:cNvSpPr/>
              <p:nvPr/>
            </p:nvSpPr>
            <p:spPr>
              <a:xfrm>
                <a:off x="7463880" y="2434320"/>
                <a:ext cx="113400" cy="526320"/>
              </a:xfrm>
              <a:custGeom>
                <a:avLst/>
                <a:gdLst/>
                <a:ahLst/>
                <a:rect l="l" t="t" r="r" b="b"/>
                <a:pathLst>
                  <a:path w="305" h="1920">
                    <a:moveTo>
                      <a:pt x="70" y="1920"/>
                    </a:moveTo>
                    <a:lnTo>
                      <a:pt x="70" y="1920"/>
                    </a:lnTo>
                    <a:lnTo>
                      <a:pt x="99" y="1681"/>
                    </a:lnTo>
                    <a:lnTo>
                      <a:pt x="129" y="1442"/>
                    </a:lnTo>
                    <a:lnTo>
                      <a:pt x="159" y="1205"/>
                    </a:lnTo>
                    <a:lnTo>
                      <a:pt x="188" y="966"/>
                    </a:lnTo>
                    <a:lnTo>
                      <a:pt x="217" y="727"/>
                    </a:lnTo>
                    <a:lnTo>
                      <a:pt x="247" y="490"/>
                    </a:lnTo>
                    <a:lnTo>
                      <a:pt x="276" y="251"/>
                    </a:lnTo>
                    <a:lnTo>
                      <a:pt x="305" y="12"/>
                    </a:lnTo>
                    <a:lnTo>
                      <a:pt x="236" y="0"/>
                    </a:lnTo>
                    <a:lnTo>
                      <a:pt x="206" y="239"/>
                    </a:lnTo>
                    <a:lnTo>
                      <a:pt x="177" y="476"/>
                    </a:lnTo>
                    <a:lnTo>
                      <a:pt x="147" y="715"/>
                    </a:lnTo>
                    <a:lnTo>
                      <a:pt x="118" y="952"/>
                    </a:lnTo>
                    <a:lnTo>
                      <a:pt x="88" y="1191"/>
                    </a:lnTo>
                    <a:lnTo>
                      <a:pt x="59" y="1430"/>
                    </a:lnTo>
                    <a:lnTo>
                      <a:pt x="29" y="1669"/>
                    </a:lnTo>
                    <a:lnTo>
                      <a:pt x="0" y="1906"/>
                    </a:lnTo>
                    <a:lnTo>
                      <a:pt x="0" y="1906"/>
                    </a:lnTo>
                    <a:lnTo>
                      <a:pt x="70" y="19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375680" y="2956680"/>
                <a:ext cx="114840" cy="529200"/>
              </a:xfrm>
              <a:custGeom>
                <a:avLst/>
                <a:gdLst/>
                <a:ahLst/>
                <a:rect l="l" t="t" r="r" b="b"/>
                <a:pathLst>
                  <a:path w="305" h="1929">
                    <a:moveTo>
                      <a:pt x="70" y="1929"/>
                    </a:moveTo>
                    <a:lnTo>
                      <a:pt x="70" y="1929"/>
                    </a:lnTo>
                    <a:lnTo>
                      <a:pt x="100" y="1689"/>
                    </a:lnTo>
                    <a:lnTo>
                      <a:pt x="130" y="1451"/>
                    </a:lnTo>
                    <a:lnTo>
                      <a:pt x="159" y="1210"/>
                    </a:lnTo>
                    <a:lnTo>
                      <a:pt x="188" y="972"/>
                    </a:lnTo>
                    <a:lnTo>
                      <a:pt x="217" y="732"/>
                    </a:lnTo>
                    <a:lnTo>
                      <a:pt x="247" y="493"/>
                    </a:lnTo>
                    <a:lnTo>
                      <a:pt x="276" y="253"/>
                    </a:lnTo>
                    <a:lnTo>
                      <a:pt x="305" y="14"/>
                    </a:lnTo>
                    <a:lnTo>
                      <a:pt x="235" y="0"/>
                    </a:lnTo>
                    <a:lnTo>
                      <a:pt x="205" y="241"/>
                    </a:lnTo>
                    <a:lnTo>
                      <a:pt x="176" y="479"/>
                    </a:lnTo>
                    <a:lnTo>
                      <a:pt x="147" y="719"/>
                    </a:lnTo>
                    <a:lnTo>
                      <a:pt x="118" y="958"/>
                    </a:lnTo>
                    <a:lnTo>
                      <a:pt x="88" y="1198"/>
                    </a:lnTo>
                    <a:lnTo>
                      <a:pt x="59" y="1437"/>
                    </a:lnTo>
                    <a:lnTo>
                      <a:pt x="30" y="1677"/>
                    </a:lnTo>
                    <a:lnTo>
                      <a:pt x="0" y="1916"/>
                    </a:lnTo>
                    <a:lnTo>
                      <a:pt x="0" y="1916"/>
                    </a:lnTo>
                    <a:lnTo>
                      <a:pt x="70" y="19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287840" y="3481920"/>
                <a:ext cx="114840" cy="531720"/>
              </a:xfrm>
              <a:custGeom>
                <a:avLst/>
                <a:gdLst/>
                <a:ahLst/>
                <a:rect l="l" t="t" r="r" b="b"/>
                <a:pathLst>
                  <a:path w="307" h="1937">
                    <a:moveTo>
                      <a:pt x="70" y="1937"/>
                    </a:moveTo>
                    <a:lnTo>
                      <a:pt x="70" y="1937"/>
                    </a:lnTo>
                    <a:lnTo>
                      <a:pt x="100" y="1696"/>
                    </a:lnTo>
                    <a:lnTo>
                      <a:pt x="130" y="1456"/>
                    </a:lnTo>
                    <a:lnTo>
                      <a:pt x="159" y="1215"/>
                    </a:lnTo>
                    <a:lnTo>
                      <a:pt x="188" y="975"/>
                    </a:lnTo>
                    <a:lnTo>
                      <a:pt x="219" y="733"/>
                    </a:lnTo>
                    <a:lnTo>
                      <a:pt x="248" y="493"/>
                    </a:lnTo>
                    <a:lnTo>
                      <a:pt x="278" y="253"/>
                    </a:lnTo>
                    <a:lnTo>
                      <a:pt x="307" y="13"/>
                    </a:lnTo>
                    <a:lnTo>
                      <a:pt x="237" y="0"/>
                    </a:lnTo>
                    <a:lnTo>
                      <a:pt x="208" y="240"/>
                    </a:lnTo>
                    <a:lnTo>
                      <a:pt x="178" y="480"/>
                    </a:lnTo>
                    <a:lnTo>
                      <a:pt x="148" y="721"/>
                    </a:lnTo>
                    <a:lnTo>
                      <a:pt x="119" y="961"/>
                    </a:lnTo>
                    <a:lnTo>
                      <a:pt x="89" y="1202"/>
                    </a:lnTo>
                    <a:lnTo>
                      <a:pt x="59" y="1442"/>
                    </a:lnTo>
                    <a:lnTo>
                      <a:pt x="29" y="1684"/>
                    </a:lnTo>
                    <a:lnTo>
                      <a:pt x="0" y="1924"/>
                    </a:lnTo>
                    <a:lnTo>
                      <a:pt x="0" y="1924"/>
                    </a:lnTo>
                    <a:lnTo>
                      <a:pt x="70" y="19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199640" y="4010040"/>
                <a:ext cx="114480" cy="547920"/>
              </a:xfrm>
              <a:custGeom>
                <a:avLst/>
                <a:gdLst/>
                <a:ahLst/>
                <a:rect l="l" t="t" r="r" b="b"/>
                <a:pathLst>
                  <a:path w="307" h="1999">
                    <a:moveTo>
                      <a:pt x="25" y="1985"/>
                    </a:moveTo>
                    <a:lnTo>
                      <a:pt x="70" y="1951"/>
                    </a:lnTo>
                    <a:lnTo>
                      <a:pt x="100" y="1708"/>
                    </a:lnTo>
                    <a:lnTo>
                      <a:pt x="129" y="1466"/>
                    </a:lnTo>
                    <a:lnTo>
                      <a:pt x="158" y="1223"/>
                    </a:lnTo>
                    <a:lnTo>
                      <a:pt x="189" y="981"/>
                    </a:lnTo>
                    <a:lnTo>
                      <a:pt x="218" y="740"/>
                    </a:lnTo>
                    <a:lnTo>
                      <a:pt x="248" y="497"/>
                    </a:lnTo>
                    <a:lnTo>
                      <a:pt x="277" y="255"/>
                    </a:lnTo>
                    <a:lnTo>
                      <a:pt x="307" y="13"/>
                    </a:lnTo>
                    <a:lnTo>
                      <a:pt x="237" y="0"/>
                    </a:lnTo>
                    <a:lnTo>
                      <a:pt x="207" y="242"/>
                    </a:lnTo>
                    <a:lnTo>
                      <a:pt x="177" y="485"/>
                    </a:lnTo>
                    <a:lnTo>
                      <a:pt x="147" y="726"/>
                    </a:lnTo>
                    <a:lnTo>
                      <a:pt x="118" y="969"/>
                    </a:lnTo>
                    <a:lnTo>
                      <a:pt x="89" y="1211"/>
                    </a:lnTo>
                    <a:lnTo>
                      <a:pt x="58" y="1454"/>
                    </a:lnTo>
                    <a:lnTo>
                      <a:pt x="29" y="1696"/>
                    </a:lnTo>
                    <a:lnTo>
                      <a:pt x="0" y="1937"/>
                    </a:lnTo>
                    <a:lnTo>
                      <a:pt x="44" y="1903"/>
                    </a:lnTo>
                    <a:lnTo>
                      <a:pt x="25" y="1985"/>
                    </a:lnTo>
                    <a:lnTo>
                      <a:pt x="64" y="1999"/>
                    </a:lnTo>
                    <a:lnTo>
                      <a:pt x="70" y="1951"/>
                    </a:lnTo>
                    <a:lnTo>
                      <a:pt x="25" y="19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787800" y="4425480"/>
                <a:ext cx="428040" cy="128520"/>
              </a:xfrm>
              <a:custGeom>
                <a:avLst/>
                <a:gdLst/>
                <a:ahLst/>
                <a:rect l="l" t="t" r="r" b="b"/>
                <a:pathLst>
                  <a:path w="1149" h="472">
                    <a:moveTo>
                      <a:pt x="4" y="35"/>
                    </a:moveTo>
                    <a:lnTo>
                      <a:pt x="29" y="83"/>
                    </a:lnTo>
                    <a:lnTo>
                      <a:pt x="166" y="131"/>
                    </a:lnTo>
                    <a:lnTo>
                      <a:pt x="302" y="179"/>
                    </a:lnTo>
                    <a:lnTo>
                      <a:pt x="438" y="227"/>
                    </a:lnTo>
                    <a:lnTo>
                      <a:pt x="575" y="277"/>
                    </a:lnTo>
                    <a:lnTo>
                      <a:pt x="713" y="325"/>
                    </a:lnTo>
                    <a:lnTo>
                      <a:pt x="851" y="374"/>
                    </a:lnTo>
                    <a:lnTo>
                      <a:pt x="990" y="423"/>
                    </a:lnTo>
                    <a:lnTo>
                      <a:pt x="1130" y="472"/>
                    </a:lnTo>
                    <a:lnTo>
                      <a:pt x="1149" y="390"/>
                    </a:lnTo>
                    <a:lnTo>
                      <a:pt x="1010" y="341"/>
                    </a:lnTo>
                    <a:lnTo>
                      <a:pt x="871" y="291"/>
                    </a:lnTo>
                    <a:lnTo>
                      <a:pt x="733" y="242"/>
                    </a:lnTo>
                    <a:lnTo>
                      <a:pt x="595" y="193"/>
                    </a:lnTo>
                    <a:lnTo>
                      <a:pt x="458" y="145"/>
                    </a:lnTo>
                    <a:lnTo>
                      <a:pt x="321" y="96"/>
                    </a:lnTo>
                    <a:lnTo>
                      <a:pt x="185" y="48"/>
                    </a:lnTo>
                    <a:lnTo>
                      <a:pt x="50" y="0"/>
                    </a:lnTo>
                    <a:lnTo>
                      <a:pt x="75" y="48"/>
                    </a:lnTo>
                    <a:lnTo>
                      <a:pt x="4" y="35"/>
                    </a:lnTo>
                    <a:lnTo>
                      <a:pt x="0" y="72"/>
                    </a:lnTo>
                    <a:lnTo>
                      <a:pt x="29" y="83"/>
                    </a:lnTo>
                    <a:lnTo>
                      <a:pt x="4"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789240" y="3913920"/>
                <a:ext cx="113040" cy="523440"/>
              </a:xfrm>
              <a:custGeom>
                <a:avLst/>
                <a:gdLst/>
                <a:ahLst/>
                <a:rect l="l" t="t" r="r" b="b"/>
                <a:pathLst>
                  <a:path w="306" h="1913">
                    <a:moveTo>
                      <a:pt x="236" y="0"/>
                    </a:moveTo>
                    <a:lnTo>
                      <a:pt x="236" y="0"/>
                    </a:lnTo>
                    <a:lnTo>
                      <a:pt x="206" y="236"/>
                    </a:lnTo>
                    <a:lnTo>
                      <a:pt x="177" y="474"/>
                    </a:lnTo>
                    <a:lnTo>
                      <a:pt x="146" y="711"/>
                    </a:lnTo>
                    <a:lnTo>
                      <a:pt x="117" y="949"/>
                    </a:lnTo>
                    <a:lnTo>
                      <a:pt x="88" y="1186"/>
                    </a:lnTo>
                    <a:lnTo>
                      <a:pt x="59" y="1424"/>
                    </a:lnTo>
                    <a:lnTo>
                      <a:pt x="30" y="1663"/>
                    </a:lnTo>
                    <a:lnTo>
                      <a:pt x="0" y="1900"/>
                    </a:lnTo>
                    <a:lnTo>
                      <a:pt x="71" y="1913"/>
                    </a:lnTo>
                    <a:lnTo>
                      <a:pt x="99" y="1675"/>
                    </a:lnTo>
                    <a:lnTo>
                      <a:pt x="128" y="1437"/>
                    </a:lnTo>
                    <a:lnTo>
                      <a:pt x="159" y="1199"/>
                    </a:lnTo>
                    <a:lnTo>
                      <a:pt x="188" y="961"/>
                    </a:lnTo>
                    <a:lnTo>
                      <a:pt x="217" y="724"/>
                    </a:lnTo>
                    <a:lnTo>
                      <a:pt x="247" y="486"/>
                    </a:lnTo>
                    <a:lnTo>
                      <a:pt x="276" y="250"/>
                    </a:lnTo>
                    <a:lnTo>
                      <a:pt x="306" y="12"/>
                    </a:lnTo>
                    <a:lnTo>
                      <a:pt x="306" y="12"/>
                    </a:lnTo>
                    <a:lnTo>
                      <a:pt x="23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877080" y="3395520"/>
                <a:ext cx="113400" cy="520920"/>
              </a:xfrm>
              <a:custGeom>
                <a:avLst/>
                <a:gdLst/>
                <a:ahLst/>
                <a:rect l="l" t="t" r="r" b="b"/>
                <a:pathLst>
                  <a:path w="306" h="1902">
                    <a:moveTo>
                      <a:pt x="236" y="0"/>
                    </a:moveTo>
                    <a:lnTo>
                      <a:pt x="236" y="0"/>
                    </a:lnTo>
                    <a:lnTo>
                      <a:pt x="207" y="237"/>
                    </a:lnTo>
                    <a:lnTo>
                      <a:pt x="177" y="472"/>
                    </a:lnTo>
                    <a:lnTo>
                      <a:pt x="147" y="708"/>
                    </a:lnTo>
                    <a:lnTo>
                      <a:pt x="118" y="944"/>
                    </a:lnTo>
                    <a:lnTo>
                      <a:pt x="89" y="1181"/>
                    </a:lnTo>
                    <a:lnTo>
                      <a:pt x="59" y="1417"/>
                    </a:lnTo>
                    <a:lnTo>
                      <a:pt x="29" y="1653"/>
                    </a:lnTo>
                    <a:lnTo>
                      <a:pt x="0" y="1890"/>
                    </a:lnTo>
                    <a:lnTo>
                      <a:pt x="70" y="1902"/>
                    </a:lnTo>
                    <a:lnTo>
                      <a:pt x="100" y="1666"/>
                    </a:lnTo>
                    <a:lnTo>
                      <a:pt x="129" y="1429"/>
                    </a:lnTo>
                    <a:lnTo>
                      <a:pt x="158" y="1193"/>
                    </a:lnTo>
                    <a:lnTo>
                      <a:pt x="189" y="957"/>
                    </a:lnTo>
                    <a:lnTo>
                      <a:pt x="218" y="720"/>
                    </a:lnTo>
                    <a:lnTo>
                      <a:pt x="247" y="485"/>
                    </a:lnTo>
                    <a:lnTo>
                      <a:pt x="276" y="249"/>
                    </a:lnTo>
                    <a:lnTo>
                      <a:pt x="306" y="14"/>
                    </a:lnTo>
                    <a:lnTo>
                      <a:pt x="306" y="14"/>
                    </a:lnTo>
                    <a:lnTo>
                      <a:pt x="23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965640" y="2880000"/>
                <a:ext cx="111600" cy="518040"/>
              </a:xfrm>
              <a:custGeom>
                <a:avLst/>
                <a:gdLst/>
                <a:ahLst/>
                <a:rect l="l" t="t" r="r" b="b"/>
                <a:pathLst>
                  <a:path w="302" h="1893">
                    <a:moveTo>
                      <a:pt x="233" y="0"/>
                    </a:moveTo>
                    <a:lnTo>
                      <a:pt x="233" y="0"/>
                    </a:lnTo>
                    <a:lnTo>
                      <a:pt x="204" y="235"/>
                    </a:lnTo>
                    <a:lnTo>
                      <a:pt x="174" y="469"/>
                    </a:lnTo>
                    <a:lnTo>
                      <a:pt x="145" y="704"/>
                    </a:lnTo>
                    <a:lnTo>
                      <a:pt x="116" y="939"/>
                    </a:lnTo>
                    <a:lnTo>
                      <a:pt x="87" y="1174"/>
                    </a:lnTo>
                    <a:lnTo>
                      <a:pt x="57" y="1409"/>
                    </a:lnTo>
                    <a:lnTo>
                      <a:pt x="28" y="1644"/>
                    </a:lnTo>
                    <a:lnTo>
                      <a:pt x="0" y="1879"/>
                    </a:lnTo>
                    <a:lnTo>
                      <a:pt x="70" y="1893"/>
                    </a:lnTo>
                    <a:lnTo>
                      <a:pt x="99" y="1658"/>
                    </a:lnTo>
                    <a:lnTo>
                      <a:pt x="128" y="1423"/>
                    </a:lnTo>
                    <a:lnTo>
                      <a:pt x="157" y="1187"/>
                    </a:lnTo>
                    <a:lnTo>
                      <a:pt x="187" y="952"/>
                    </a:lnTo>
                    <a:lnTo>
                      <a:pt x="215" y="717"/>
                    </a:lnTo>
                    <a:lnTo>
                      <a:pt x="244" y="482"/>
                    </a:lnTo>
                    <a:lnTo>
                      <a:pt x="273" y="247"/>
                    </a:lnTo>
                    <a:lnTo>
                      <a:pt x="302" y="13"/>
                    </a:lnTo>
                    <a:lnTo>
                      <a:pt x="302" y="13"/>
                    </a:lnTo>
                    <a:lnTo>
                      <a:pt x="23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051680" y="2353320"/>
                <a:ext cx="111960" cy="529200"/>
              </a:xfrm>
              <a:custGeom>
                <a:avLst/>
                <a:gdLst/>
                <a:ahLst/>
                <a:rect l="l" t="t" r="r" b="b"/>
                <a:pathLst>
                  <a:path w="302" h="1932">
                    <a:moveTo>
                      <a:pt x="273" y="8"/>
                    </a:moveTo>
                    <a:lnTo>
                      <a:pt x="232" y="44"/>
                    </a:lnTo>
                    <a:lnTo>
                      <a:pt x="203" y="278"/>
                    </a:lnTo>
                    <a:lnTo>
                      <a:pt x="174" y="513"/>
                    </a:lnTo>
                    <a:lnTo>
                      <a:pt x="145" y="747"/>
                    </a:lnTo>
                    <a:lnTo>
                      <a:pt x="116" y="981"/>
                    </a:lnTo>
                    <a:lnTo>
                      <a:pt x="88" y="1216"/>
                    </a:lnTo>
                    <a:lnTo>
                      <a:pt x="58" y="1450"/>
                    </a:lnTo>
                    <a:lnTo>
                      <a:pt x="29" y="1685"/>
                    </a:lnTo>
                    <a:lnTo>
                      <a:pt x="0" y="1919"/>
                    </a:lnTo>
                    <a:lnTo>
                      <a:pt x="69" y="1932"/>
                    </a:lnTo>
                    <a:lnTo>
                      <a:pt x="99" y="1697"/>
                    </a:lnTo>
                    <a:lnTo>
                      <a:pt x="128" y="1463"/>
                    </a:lnTo>
                    <a:lnTo>
                      <a:pt x="157" y="1228"/>
                    </a:lnTo>
                    <a:lnTo>
                      <a:pt x="186" y="994"/>
                    </a:lnTo>
                    <a:lnTo>
                      <a:pt x="216" y="759"/>
                    </a:lnTo>
                    <a:lnTo>
                      <a:pt x="244" y="525"/>
                    </a:lnTo>
                    <a:lnTo>
                      <a:pt x="273" y="291"/>
                    </a:lnTo>
                    <a:lnTo>
                      <a:pt x="302" y="57"/>
                    </a:lnTo>
                    <a:lnTo>
                      <a:pt x="261" y="93"/>
                    </a:lnTo>
                    <a:lnTo>
                      <a:pt x="273" y="8"/>
                    </a:lnTo>
                    <a:lnTo>
                      <a:pt x="238" y="0"/>
                    </a:lnTo>
                    <a:lnTo>
                      <a:pt x="232" y="44"/>
                    </a:lnTo>
                    <a:lnTo>
                      <a:pt x="273" y="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086240" y="2284560"/>
                <a:ext cx="513360" cy="226080"/>
              </a:xfrm>
              <a:custGeom>
                <a:avLst/>
                <a:gdLst/>
                <a:ahLst/>
                <a:rect l="l" t="t" r="r" b="b"/>
                <a:pathLst>
                  <a:path w="1375" h="824">
                    <a:moveTo>
                      <a:pt x="0" y="0"/>
                    </a:moveTo>
                    <a:lnTo>
                      <a:pt x="33" y="72"/>
                    </a:lnTo>
                    <a:lnTo>
                      <a:pt x="65" y="143"/>
                    </a:lnTo>
                    <a:lnTo>
                      <a:pt x="98" y="214"/>
                    </a:lnTo>
                    <a:lnTo>
                      <a:pt x="131" y="286"/>
                    </a:lnTo>
                    <a:lnTo>
                      <a:pt x="163" y="357"/>
                    </a:lnTo>
                    <a:lnTo>
                      <a:pt x="196" y="428"/>
                    </a:lnTo>
                    <a:lnTo>
                      <a:pt x="228" y="500"/>
                    </a:lnTo>
                    <a:lnTo>
                      <a:pt x="262" y="571"/>
                    </a:lnTo>
                    <a:lnTo>
                      <a:pt x="399" y="602"/>
                    </a:lnTo>
                    <a:lnTo>
                      <a:pt x="537" y="633"/>
                    </a:lnTo>
                    <a:lnTo>
                      <a:pt x="675" y="665"/>
                    </a:lnTo>
                    <a:lnTo>
                      <a:pt x="813" y="696"/>
                    </a:lnTo>
                    <a:lnTo>
                      <a:pt x="952" y="728"/>
                    </a:lnTo>
                    <a:lnTo>
                      <a:pt x="1092" y="760"/>
                    </a:lnTo>
                    <a:lnTo>
                      <a:pt x="1233" y="792"/>
                    </a:lnTo>
                    <a:lnTo>
                      <a:pt x="1375" y="824"/>
                    </a:lnTo>
                    <a:lnTo>
                      <a:pt x="1339" y="751"/>
                    </a:lnTo>
                    <a:lnTo>
                      <a:pt x="1305" y="678"/>
                    </a:lnTo>
                    <a:lnTo>
                      <a:pt x="1271" y="606"/>
                    </a:lnTo>
                    <a:lnTo>
                      <a:pt x="1236" y="533"/>
                    </a:lnTo>
                    <a:lnTo>
                      <a:pt x="1202" y="460"/>
                    </a:lnTo>
                    <a:lnTo>
                      <a:pt x="1168" y="388"/>
                    </a:lnTo>
                    <a:lnTo>
                      <a:pt x="1134" y="315"/>
                    </a:lnTo>
                    <a:lnTo>
                      <a:pt x="1099" y="243"/>
                    </a:lnTo>
                    <a:lnTo>
                      <a:pt x="960" y="212"/>
                    </a:lnTo>
                    <a:lnTo>
                      <a:pt x="821" y="182"/>
                    </a:lnTo>
                    <a:lnTo>
                      <a:pt x="683" y="152"/>
                    </a:lnTo>
                    <a:lnTo>
                      <a:pt x="545" y="121"/>
                    </a:lnTo>
                    <a:lnTo>
                      <a:pt x="408" y="91"/>
                    </a:lnTo>
                    <a:lnTo>
                      <a:pt x="272" y="60"/>
                    </a:lnTo>
                    <a:lnTo>
                      <a:pt x="136" y="31"/>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086240" y="2284560"/>
                <a:ext cx="513360" cy="226080"/>
              </a:xfrm>
              <a:custGeom>
                <a:avLst/>
                <a:gdLst/>
                <a:ahLst/>
                <a:rect l="l" t="t" r="r" b="b"/>
                <a:pathLst>
                  <a:path w="1375" h="824">
                    <a:moveTo>
                      <a:pt x="0" y="0"/>
                    </a:moveTo>
                    <a:lnTo>
                      <a:pt x="33" y="72"/>
                    </a:lnTo>
                    <a:lnTo>
                      <a:pt x="65" y="143"/>
                    </a:lnTo>
                    <a:lnTo>
                      <a:pt x="98" y="214"/>
                    </a:lnTo>
                    <a:lnTo>
                      <a:pt x="131" y="286"/>
                    </a:lnTo>
                    <a:lnTo>
                      <a:pt x="163" y="357"/>
                    </a:lnTo>
                    <a:lnTo>
                      <a:pt x="196" y="428"/>
                    </a:lnTo>
                    <a:lnTo>
                      <a:pt x="228" y="500"/>
                    </a:lnTo>
                    <a:lnTo>
                      <a:pt x="262" y="571"/>
                    </a:lnTo>
                    <a:lnTo>
                      <a:pt x="399" y="602"/>
                    </a:lnTo>
                    <a:lnTo>
                      <a:pt x="537" y="633"/>
                    </a:lnTo>
                    <a:lnTo>
                      <a:pt x="675" y="665"/>
                    </a:lnTo>
                    <a:lnTo>
                      <a:pt x="813" y="696"/>
                    </a:lnTo>
                    <a:lnTo>
                      <a:pt x="952" y="728"/>
                    </a:lnTo>
                    <a:lnTo>
                      <a:pt x="1092" y="760"/>
                    </a:lnTo>
                    <a:lnTo>
                      <a:pt x="1233" y="792"/>
                    </a:lnTo>
                    <a:lnTo>
                      <a:pt x="1375" y="824"/>
                    </a:lnTo>
                    <a:lnTo>
                      <a:pt x="1339" y="751"/>
                    </a:lnTo>
                    <a:lnTo>
                      <a:pt x="1305" y="678"/>
                    </a:lnTo>
                    <a:lnTo>
                      <a:pt x="1271" y="606"/>
                    </a:lnTo>
                    <a:lnTo>
                      <a:pt x="1236" y="533"/>
                    </a:lnTo>
                    <a:lnTo>
                      <a:pt x="1202" y="460"/>
                    </a:lnTo>
                    <a:lnTo>
                      <a:pt x="1168" y="388"/>
                    </a:lnTo>
                    <a:lnTo>
                      <a:pt x="1134" y="315"/>
                    </a:lnTo>
                    <a:lnTo>
                      <a:pt x="1099" y="243"/>
                    </a:lnTo>
                    <a:lnTo>
                      <a:pt x="960" y="212"/>
                    </a:lnTo>
                    <a:lnTo>
                      <a:pt x="821" y="182"/>
                    </a:lnTo>
                    <a:lnTo>
                      <a:pt x="683" y="152"/>
                    </a:lnTo>
                    <a:lnTo>
                      <a:pt x="545" y="121"/>
                    </a:lnTo>
                    <a:lnTo>
                      <a:pt x="408" y="91"/>
                    </a:lnTo>
                    <a:lnTo>
                      <a:pt x="272" y="60"/>
                    </a:lnTo>
                    <a:lnTo>
                      <a:pt x="136" y="31"/>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737040" y="2284560"/>
                <a:ext cx="446040" cy="2230920"/>
              </a:xfrm>
              <a:custGeom>
                <a:avLst/>
                <a:gdLst/>
                <a:ahLst/>
                <a:rect l="l" t="t" r="r" b="b"/>
                <a:pathLst>
                  <a:path w="1199" h="8135">
                    <a:moveTo>
                      <a:pt x="0" y="7514"/>
                    </a:moveTo>
                    <a:lnTo>
                      <a:pt x="32" y="7590"/>
                    </a:lnTo>
                    <a:lnTo>
                      <a:pt x="65" y="7668"/>
                    </a:lnTo>
                    <a:lnTo>
                      <a:pt x="97" y="7745"/>
                    </a:lnTo>
                    <a:lnTo>
                      <a:pt x="130" y="7823"/>
                    </a:lnTo>
                    <a:lnTo>
                      <a:pt x="162" y="7902"/>
                    </a:lnTo>
                    <a:lnTo>
                      <a:pt x="195" y="7979"/>
                    </a:lnTo>
                    <a:lnTo>
                      <a:pt x="227" y="8058"/>
                    </a:lnTo>
                    <a:lnTo>
                      <a:pt x="259" y="8135"/>
                    </a:lnTo>
                    <a:lnTo>
                      <a:pt x="289" y="7897"/>
                    </a:lnTo>
                    <a:lnTo>
                      <a:pt x="319" y="7658"/>
                    </a:lnTo>
                    <a:lnTo>
                      <a:pt x="348" y="7420"/>
                    </a:lnTo>
                    <a:lnTo>
                      <a:pt x="377" y="7181"/>
                    </a:lnTo>
                    <a:lnTo>
                      <a:pt x="406" y="6943"/>
                    </a:lnTo>
                    <a:lnTo>
                      <a:pt x="436" y="6704"/>
                    </a:lnTo>
                    <a:lnTo>
                      <a:pt x="466" y="6466"/>
                    </a:lnTo>
                    <a:lnTo>
                      <a:pt x="495" y="6229"/>
                    </a:lnTo>
                    <a:lnTo>
                      <a:pt x="524" y="5991"/>
                    </a:lnTo>
                    <a:lnTo>
                      <a:pt x="555" y="5754"/>
                    </a:lnTo>
                    <a:lnTo>
                      <a:pt x="584" y="5517"/>
                    </a:lnTo>
                    <a:lnTo>
                      <a:pt x="614" y="5280"/>
                    </a:lnTo>
                    <a:lnTo>
                      <a:pt x="644" y="5043"/>
                    </a:lnTo>
                    <a:lnTo>
                      <a:pt x="674" y="4806"/>
                    </a:lnTo>
                    <a:lnTo>
                      <a:pt x="703" y="4569"/>
                    </a:lnTo>
                    <a:lnTo>
                      <a:pt x="733" y="4333"/>
                    </a:lnTo>
                    <a:lnTo>
                      <a:pt x="762" y="4098"/>
                    </a:lnTo>
                    <a:lnTo>
                      <a:pt x="791" y="3862"/>
                    </a:lnTo>
                    <a:lnTo>
                      <a:pt x="821" y="3625"/>
                    </a:lnTo>
                    <a:lnTo>
                      <a:pt x="850" y="3390"/>
                    </a:lnTo>
                    <a:lnTo>
                      <a:pt x="879" y="3154"/>
                    </a:lnTo>
                    <a:lnTo>
                      <a:pt x="907" y="2919"/>
                    </a:lnTo>
                    <a:lnTo>
                      <a:pt x="937" y="2682"/>
                    </a:lnTo>
                    <a:lnTo>
                      <a:pt x="966" y="2447"/>
                    </a:lnTo>
                    <a:lnTo>
                      <a:pt x="995" y="2212"/>
                    </a:lnTo>
                    <a:lnTo>
                      <a:pt x="1024" y="1978"/>
                    </a:lnTo>
                    <a:lnTo>
                      <a:pt x="1054" y="1743"/>
                    </a:lnTo>
                    <a:lnTo>
                      <a:pt x="1083" y="1508"/>
                    </a:lnTo>
                    <a:lnTo>
                      <a:pt x="1112" y="1274"/>
                    </a:lnTo>
                    <a:lnTo>
                      <a:pt x="1141" y="1039"/>
                    </a:lnTo>
                    <a:lnTo>
                      <a:pt x="1169" y="805"/>
                    </a:lnTo>
                    <a:lnTo>
                      <a:pt x="1199" y="571"/>
                    </a:lnTo>
                    <a:lnTo>
                      <a:pt x="1165" y="500"/>
                    </a:lnTo>
                    <a:lnTo>
                      <a:pt x="1133" y="428"/>
                    </a:lnTo>
                    <a:lnTo>
                      <a:pt x="1100" y="357"/>
                    </a:lnTo>
                    <a:lnTo>
                      <a:pt x="1068" y="286"/>
                    </a:lnTo>
                    <a:lnTo>
                      <a:pt x="1035" y="214"/>
                    </a:lnTo>
                    <a:lnTo>
                      <a:pt x="1002" y="143"/>
                    </a:lnTo>
                    <a:lnTo>
                      <a:pt x="970" y="72"/>
                    </a:lnTo>
                    <a:lnTo>
                      <a:pt x="937" y="0"/>
                    </a:lnTo>
                    <a:lnTo>
                      <a:pt x="907" y="233"/>
                    </a:lnTo>
                    <a:lnTo>
                      <a:pt x="879" y="467"/>
                    </a:lnTo>
                    <a:lnTo>
                      <a:pt x="850" y="699"/>
                    </a:lnTo>
                    <a:lnTo>
                      <a:pt x="821" y="933"/>
                    </a:lnTo>
                    <a:lnTo>
                      <a:pt x="791" y="1166"/>
                    </a:lnTo>
                    <a:lnTo>
                      <a:pt x="762" y="1400"/>
                    </a:lnTo>
                    <a:lnTo>
                      <a:pt x="733" y="1632"/>
                    </a:lnTo>
                    <a:lnTo>
                      <a:pt x="704" y="1865"/>
                    </a:lnTo>
                    <a:lnTo>
                      <a:pt x="675" y="2100"/>
                    </a:lnTo>
                    <a:lnTo>
                      <a:pt x="644" y="2334"/>
                    </a:lnTo>
                    <a:lnTo>
                      <a:pt x="615" y="2568"/>
                    </a:lnTo>
                    <a:lnTo>
                      <a:pt x="587" y="2802"/>
                    </a:lnTo>
                    <a:lnTo>
                      <a:pt x="558" y="3036"/>
                    </a:lnTo>
                    <a:lnTo>
                      <a:pt x="528" y="3271"/>
                    </a:lnTo>
                    <a:lnTo>
                      <a:pt x="499" y="3505"/>
                    </a:lnTo>
                    <a:lnTo>
                      <a:pt x="469" y="3739"/>
                    </a:lnTo>
                    <a:lnTo>
                      <a:pt x="440" y="3974"/>
                    </a:lnTo>
                    <a:lnTo>
                      <a:pt x="410" y="4209"/>
                    </a:lnTo>
                    <a:lnTo>
                      <a:pt x="381" y="4444"/>
                    </a:lnTo>
                    <a:lnTo>
                      <a:pt x="352" y="4679"/>
                    </a:lnTo>
                    <a:lnTo>
                      <a:pt x="324" y="4914"/>
                    </a:lnTo>
                    <a:lnTo>
                      <a:pt x="295" y="5150"/>
                    </a:lnTo>
                    <a:lnTo>
                      <a:pt x="265" y="5386"/>
                    </a:lnTo>
                    <a:lnTo>
                      <a:pt x="235" y="5621"/>
                    </a:lnTo>
                    <a:lnTo>
                      <a:pt x="206" y="5857"/>
                    </a:lnTo>
                    <a:lnTo>
                      <a:pt x="177" y="6093"/>
                    </a:lnTo>
                    <a:lnTo>
                      <a:pt x="147" y="6330"/>
                    </a:lnTo>
                    <a:lnTo>
                      <a:pt x="118" y="6566"/>
                    </a:lnTo>
                    <a:lnTo>
                      <a:pt x="89" y="6804"/>
                    </a:lnTo>
                    <a:lnTo>
                      <a:pt x="59" y="7040"/>
                    </a:lnTo>
                    <a:lnTo>
                      <a:pt x="29" y="7276"/>
                    </a:lnTo>
                    <a:lnTo>
                      <a:pt x="0" y="7514"/>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737040" y="2284560"/>
                <a:ext cx="446040" cy="2230920"/>
              </a:xfrm>
              <a:custGeom>
                <a:avLst/>
                <a:gdLst/>
                <a:ahLst/>
                <a:rect l="l" t="t" r="r" b="b"/>
                <a:pathLst>
                  <a:path w="1199" h="8135">
                    <a:moveTo>
                      <a:pt x="0" y="7514"/>
                    </a:moveTo>
                    <a:lnTo>
                      <a:pt x="32" y="7590"/>
                    </a:lnTo>
                    <a:lnTo>
                      <a:pt x="65" y="7668"/>
                    </a:lnTo>
                    <a:lnTo>
                      <a:pt x="97" y="7745"/>
                    </a:lnTo>
                    <a:lnTo>
                      <a:pt x="130" y="7823"/>
                    </a:lnTo>
                    <a:lnTo>
                      <a:pt x="162" y="7902"/>
                    </a:lnTo>
                    <a:lnTo>
                      <a:pt x="195" y="7979"/>
                    </a:lnTo>
                    <a:lnTo>
                      <a:pt x="227" y="8058"/>
                    </a:lnTo>
                    <a:lnTo>
                      <a:pt x="259" y="8135"/>
                    </a:lnTo>
                    <a:lnTo>
                      <a:pt x="289" y="7897"/>
                    </a:lnTo>
                    <a:lnTo>
                      <a:pt x="319" y="7658"/>
                    </a:lnTo>
                    <a:lnTo>
                      <a:pt x="348" y="7420"/>
                    </a:lnTo>
                    <a:lnTo>
                      <a:pt x="377" y="7181"/>
                    </a:lnTo>
                    <a:lnTo>
                      <a:pt x="406" y="6943"/>
                    </a:lnTo>
                    <a:lnTo>
                      <a:pt x="436" y="6704"/>
                    </a:lnTo>
                    <a:lnTo>
                      <a:pt x="466" y="6466"/>
                    </a:lnTo>
                    <a:lnTo>
                      <a:pt x="495" y="6229"/>
                    </a:lnTo>
                    <a:lnTo>
                      <a:pt x="524" y="5991"/>
                    </a:lnTo>
                    <a:lnTo>
                      <a:pt x="555" y="5754"/>
                    </a:lnTo>
                    <a:lnTo>
                      <a:pt x="584" y="5517"/>
                    </a:lnTo>
                    <a:lnTo>
                      <a:pt x="614" y="5280"/>
                    </a:lnTo>
                    <a:lnTo>
                      <a:pt x="644" y="5043"/>
                    </a:lnTo>
                    <a:lnTo>
                      <a:pt x="674" y="4806"/>
                    </a:lnTo>
                    <a:lnTo>
                      <a:pt x="703" y="4569"/>
                    </a:lnTo>
                    <a:lnTo>
                      <a:pt x="733" y="4333"/>
                    </a:lnTo>
                    <a:lnTo>
                      <a:pt x="762" y="4098"/>
                    </a:lnTo>
                    <a:lnTo>
                      <a:pt x="791" y="3862"/>
                    </a:lnTo>
                    <a:lnTo>
                      <a:pt x="821" y="3625"/>
                    </a:lnTo>
                    <a:lnTo>
                      <a:pt x="850" y="3390"/>
                    </a:lnTo>
                    <a:lnTo>
                      <a:pt x="879" y="3154"/>
                    </a:lnTo>
                    <a:lnTo>
                      <a:pt x="907" y="2919"/>
                    </a:lnTo>
                    <a:lnTo>
                      <a:pt x="937" y="2682"/>
                    </a:lnTo>
                    <a:lnTo>
                      <a:pt x="966" y="2447"/>
                    </a:lnTo>
                    <a:lnTo>
                      <a:pt x="995" y="2212"/>
                    </a:lnTo>
                    <a:lnTo>
                      <a:pt x="1024" y="1978"/>
                    </a:lnTo>
                    <a:lnTo>
                      <a:pt x="1054" y="1743"/>
                    </a:lnTo>
                    <a:lnTo>
                      <a:pt x="1083" y="1508"/>
                    </a:lnTo>
                    <a:lnTo>
                      <a:pt x="1112" y="1274"/>
                    </a:lnTo>
                    <a:lnTo>
                      <a:pt x="1141" y="1039"/>
                    </a:lnTo>
                    <a:lnTo>
                      <a:pt x="1169" y="805"/>
                    </a:lnTo>
                    <a:lnTo>
                      <a:pt x="1199" y="571"/>
                    </a:lnTo>
                    <a:lnTo>
                      <a:pt x="1165" y="500"/>
                    </a:lnTo>
                    <a:lnTo>
                      <a:pt x="1133" y="428"/>
                    </a:lnTo>
                    <a:lnTo>
                      <a:pt x="1100" y="357"/>
                    </a:lnTo>
                    <a:lnTo>
                      <a:pt x="1068" y="286"/>
                    </a:lnTo>
                    <a:lnTo>
                      <a:pt x="1035" y="214"/>
                    </a:lnTo>
                    <a:lnTo>
                      <a:pt x="1002" y="143"/>
                    </a:lnTo>
                    <a:lnTo>
                      <a:pt x="970" y="72"/>
                    </a:lnTo>
                    <a:lnTo>
                      <a:pt x="937" y="0"/>
                    </a:lnTo>
                    <a:lnTo>
                      <a:pt x="907" y="233"/>
                    </a:lnTo>
                    <a:lnTo>
                      <a:pt x="879" y="467"/>
                    </a:lnTo>
                    <a:lnTo>
                      <a:pt x="850" y="699"/>
                    </a:lnTo>
                    <a:lnTo>
                      <a:pt x="821" y="933"/>
                    </a:lnTo>
                    <a:lnTo>
                      <a:pt x="791" y="1166"/>
                    </a:lnTo>
                    <a:lnTo>
                      <a:pt x="762" y="1400"/>
                    </a:lnTo>
                    <a:lnTo>
                      <a:pt x="733" y="1632"/>
                    </a:lnTo>
                    <a:lnTo>
                      <a:pt x="704" y="1865"/>
                    </a:lnTo>
                    <a:lnTo>
                      <a:pt x="675" y="2100"/>
                    </a:lnTo>
                    <a:lnTo>
                      <a:pt x="644" y="2334"/>
                    </a:lnTo>
                    <a:lnTo>
                      <a:pt x="615" y="2568"/>
                    </a:lnTo>
                    <a:lnTo>
                      <a:pt x="587" y="2802"/>
                    </a:lnTo>
                    <a:lnTo>
                      <a:pt x="558" y="3036"/>
                    </a:lnTo>
                    <a:lnTo>
                      <a:pt x="528" y="3271"/>
                    </a:lnTo>
                    <a:lnTo>
                      <a:pt x="499" y="3505"/>
                    </a:lnTo>
                    <a:lnTo>
                      <a:pt x="469" y="3739"/>
                    </a:lnTo>
                    <a:lnTo>
                      <a:pt x="440" y="3974"/>
                    </a:lnTo>
                    <a:lnTo>
                      <a:pt x="410" y="4209"/>
                    </a:lnTo>
                    <a:lnTo>
                      <a:pt x="381" y="4444"/>
                    </a:lnTo>
                    <a:lnTo>
                      <a:pt x="352" y="4679"/>
                    </a:lnTo>
                    <a:lnTo>
                      <a:pt x="324" y="4914"/>
                    </a:lnTo>
                    <a:lnTo>
                      <a:pt x="295" y="5150"/>
                    </a:lnTo>
                    <a:lnTo>
                      <a:pt x="265" y="5386"/>
                    </a:lnTo>
                    <a:lnTo>
                      <a:pt x="235" y="5621"/>
                    </a:lnTo>
                    <a:lnTo>
                      <a:pt x="206" y="5857"/>
                    </a:lnTo>
                    <a:lnTo>
                      <a:pt x="177" y="6093"/>
                    </a:lnTo>
                    <a:lnTo>
                      <a:pt x="147" y="6330"/>
                    </a:lnTo>
                    <a:lnTo>
                      <a:pt x="118" y="6566"/>
                    </a:lnTo>
                    <a:lnTo>
                      <a:pt x="89" y="6804"/>
                    </a:lnTo>
                    <a:lnTo>
                      <a:pt x="59" y="7040"/>
                    </a:lnTo>
                    <a:lnTo>
                      <a:pt x="29" y="7276"/>
                    </a:lnTo>
                    <a:lnTo>
                      <a:pt x="0" y="7514"/>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211520" y="2272320"/>
                <a:ext cx="486720" cy="2469600"/>
              </a:xfrm>
              <a:custGeom>
                <a:avLst/>
                <a:gdLst/>
                <a:ahLst/>
                <a:rect l="l" t="t" r="r" b="b"/>
                <a:pathLst>
                  <a:path w="1304" h="9004">
                    <a:moveTo>
                      <a:pt x="1027" y="0"/>
                    </a:moveTo>
                    <a:lnTo>
                      <a:pt x="1062" y="71"/>
                    </a:lnTo>
                    <a:lnTo>
                      <a:pt x="1096" y="144"/>
                    </a:lnTo>
                    <a:lnTo>
                      <a:pt x="1129" y="216"/>
                    </a:lnTo>
                    <a:lnTo>
                      <a:pt x="1164" y="289"/>
                    </a:lnTo>
                    <a:lnTo>
                      <a:pt x="1199" y="361"/>
                    </a:lnTo>
                    <a:lnTo>
                      <a:pt x="1233" y="434"/>
                    </a:lnTo>
                    <a:lnTo>
                      <a:pt x="1268" y="508"/>
                    </a:lnTo>
                    <a:lnTo>
                      <a:pt x="1304" y="581"/>
                    </a:lnTo>
                    <a:lnTo>
                      <a:pt x="1272" y="842"/>
                    </a:lnTo>
                    <a:lnTo>
                      <a:pt x="1240" y="1103"/>
                    </a:lnTo>
                    <a:lnTo>
                      <a:pt x="1208" y="1363"/>
                    </a:lnTo>
                    <a:lnTo>
                      <a:pt x="1176" y="1624"/>
                    </a:lnTo>
                    <a:lnTo>
                      <a:pt x="1143" y="1885"/>
                    </a:lnTo>
                    <a:lnTo>
                      <a:pt x="1111" y="2146"/>
                    </a:lnTo>
                    <a:lnTo>
                      <a:pt x="1080" y="2409"/>
                    </a:lnTo>
                    <a:lnTo>
                      <a:pt x="1048" y="2669"/>
                    </a:lnTo>
                    <a:lnTo>
                      <a:pt x="1015" y="2932"/>
                    </a:lnTo>
                    <a:lnTo>
                      <a:pt x="983" y="3194"/>
                    </a:lnTo>
                    <a:lnTo>
                      <a:pt x="952" y="3456"/>
                    </a:lnTo>
                    <a:lnTo>
                      <a:pt x="920" y="3718"/>
                    </a:lnTo>
                    <a:lnTo>
                      <a:pt x="887" y="3980"/>
                    </a:lnTo>
                    <a:lnTo>
                      <a:pt x="855" y="4243"/>
                    </a:lnTo>
                    <a:lnTo>
                      <a:pt x="824" y="4505"/>
                    </a:lnTo>
                    <a:lnTo>
                      <a:pt x="792" y="4767"/>
                    </a:lnTo>
                    <a:lnTo>
                      <a:pt x="759" y="5032"/>
                    </a:lnTo>
                    <a:lnTo>
                      <a:pt x="727" y="5295"/>
                    </a:lnTo>
                    <a:lnTo>
                      <a:pt x="695" y="5559"/>
                    </a:lnTo>
                    <a:lnTo>
                      <a:pt x="662" y="5822"/>
                    </a:lnTo>
                    <a:lnTo>
                      <a:pt x="629" y="6087"/>
                    </a:lnTo>
                    <a:lnTo>
                      <a:pt x="597" y="6350"/>
                    </a:lnTo>
                    <a:lnTo>
                      <a:pt x="565" y="6615"/>
                    </a:lnTo>
                    <a:lnTo>
                      <a:pt x="533" y="6879"/>
                    </a:lnTo>
                    <a:lnTo>
                      <a:pt x="500" y="7144"/>
                    </a:lnTo>
                    <a:lnTo>
                      <a:pt x="467" y="7409"/>
                    </a:lnTo>
                    <a:lnTo>
                      <a:pt x="435" y="7675"/>
                    </a:lnTo>
                    <a:lnTo>
                      <a:pt x="402" y="7940"/>
                    </a:lnTo>
                    <a:lnTo>
                      <a:pt x="370" y="8206"/>
                    </a:lnTo>
                    <a:lnTo>
                      <a:pt x="338" y="8472"/>
                    </a:lnTo>
                    <a:lnTo>
                      <a:pt x="306" y="8738"/>
                    </a:lnTo>
                    <a:lnTo>
                      <a:pt x="272" y="9004"/>
                    </a:lnTo>
                    <a:lnTo>
                      <a:pt x="238" y="8924"/>
                    </a:lnTo>
                    <a:lnTo>
                      <a:pt x="204" y="8843"/>
                    </a:lnTo>
                    <a:lnTo>
                      <a:pt x="170" y="8763"/>
                    </a:lnTo>
                    <a:lnTo>
                      <a:pt x="135" y="8681"/>
                    </a:lnTo>
                    <a:lnTo>
                      <a:pt x="101" y="8601"/>
                    </a:lnTo>
                    <a:lnTo>
                      <a:pt x="68" y="8521"/>
                    </a:lnTo>
                    <a:lnTo>
                      <a:pt x="34" y="8441"/>
                    </a:lnTo>
                    <a:lnTo>
                      <a:pt x="0" y="8361"/>
                    </a:lnTo>
                    <a:lnTo>
                      <a:pt x="33" y="8098"/>
                    </a:lnTo>
                    <a:lnTo>
                      <a:pt x="65" y="7833"/>
                    </a:lnTo>
                    <a:lnTo>
                      <a:pt x="97" y="7570"/>
                    </a:lnTo>
                    <a:lnTo>
                      <a:pt x="129" y="7305"/>
                    </a:lnTo>
                    <a:lnTo>
                      <a:pt x="162" y="7042"/>
                    </a:lnTo>
                    <a:lnTo>
                      <a:pt x="194" y="6778"/>
                    </a:lnTo>
                    <a:lnTo>
                      <a:pt x="226" y="6515"/>
                    </a:lnTo>
                    <a:lnTo>
                      <a:pt x="258" y="6252"/>
                    </a:lnTo>
                    <a:lnTo>
                      <a:pt x="291" y="5989"/>
                    </a:lnTo>
                    <a:lnTo>
                      <a:pt x="323" y="5727"/>
                    </a:lnTo>
                    <a:lnTo>
                      <a:pt x="355" y="5465"/>
                    </a:lnTo>
                    <a:lnTo>
                      <a:pt x="387" y="5203"/>
                    </a:lnTo>
                    <a:lnTo>
                      <a:pt x="420" y="4942"/>
                    </a:lnTo>
                    <a:lnTo>
                      <a:pt x="452" y="4680"/>
                    </a:lnTo>
                    <a:lnTo>
                      <a:pt x="484" y="4417"/>
                    </a:lnTo>
                    <a:lnTo>
                      <a:pt x="516" y="4156"/>
                    </a:lnTo>
                    <a:lnTo>
                      <a:pt x="549" y="3896"/>
                    </a:lnTo>
                    <a:lnTo>
                      <a:pt x="581" y="3635"/>
                    </a:lnTo>
                    <a:lnTo>
                      <a:pt x="612" y="3375"/>
                    </a:lnTo>
                    <a:lnTo>
                      <a:pt x="644" y="3114"/>
                    </a:lnTo>
                    <a:lnTo>
                      <a:pt x="677" y="2853"/>
                    </a:lnTo>
                    <a:lnTo>
                      <a:pt x="708" y="2593"/>
                    </a:lnTo>
                    <a:lnTo>
                      <a:pt x="740" y="2332"/>
                    </a:lnTo>
                    <a:lnTo>
                      <a:pt x="771" y="2072"/>
                    </a:lnTo>
                    <a:lnTo>
                      <a:pt x="804" y="1813"/>
                    </a:lnTo>
                    <a:lnTo>
                      <a:pt x="836" y="1553"/>
                    </a:lnTo>
                    <a:lnTo>
                      <a:pt x="867" y="1295"/>
                    </a:lnTo>
                    <a:lnTo>
                      <a:pt x="899" y="1035"/>
                    </a:lnTo>
                    <a:lnTo>
                      <a:pt x="932" y="776"/>
                    </a:lnTo>
                    <a:lnTo>
                      <a:pt x="964" y="517"/>
                    </a:lnTo>
                    <a:lnTo>
                      <a:pt x="995" y="258"/>
                    </a:lnTo>
                    <a:lnTo>
                      <a:pt x="1027"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211520" y="2272320"/>
                <a:ext cx="486720" cy="2469600"/>
              </a:xfrm>
              <a:custGeom>
                <a:avLst/>
                <a:gdLst/>
                <a:ahLst/>
                <a:rect l="l" t="t" r="r" b="b"/>
                <a:pathLst>
                  <a:path w="1304" h="9004">
                    <a:moveTo>
                      <a:pt x="1027" y="0"/>
                    </a:moveTo>
                    <a:lnTo>
                      <a:pt x="1062" y="71"/>
                    </a:lnTo>
                    <a:lnTo>
                      <a:pt x="1096" y="144"/>
                    </a:lnTo>
                    <a:lnTo>
                      <a:pt x="1129" y="216"/>
                    </a:lnTo>
                    <a:lnTo>
                      <a:pt x="1164" y="289"/>
                    </a:lnTo>
                    <a:lnTo>
                      <a:pt x="1199" y="361"/>
                    </a:lnTo>
                    <a:lnTo>
                      <a:pt x="1233" y="434"/>
                    </a:lnTo>
                    <a:lnTo>
                      <a:pt x="1268" y="508"/>
                    </a:lnTo>
                    <a:lnTo>
                      <a:pt x="1304" y="581"/>
                    </a:lnTo>
                    <a:lnTo>
                      <a:pt x="1272" y="842"/>
                    </a:lnTo>
                    <a:lnTo>
                      <a:pt x="1240" y="1103"/>
                    </a:lnTo>
                    <a:lnTo>
                      <a:pt x="1208" y="1363"/>
                    </a:lnTo>
                    <a:lnTo>
                      <a:pt x="1176" y="1624"/>
                    </a:lnTo>
                    <a:lnTo>
                      <a:pt x="1143" y="1885"/>
                    </a:lnTo>
                    <a:lnTo>
                      <a:pt x="1111" y="2146"/>
                    </a:lnTo>
                    <a:lnTo>
                      <a:pt x="1080" y="2409"/>
                    </a:lnTo>
                    <a:lnTo>
                      <a:pt x="1048" y="2669"/>
                    </a:lnTo>
                    <a:lnTo>
                      <a:pt x="1015" y="2932"/>
                    </a:lnTo>
                    <a:lnTo>
                      <a:pt x="983" y="3194"/>
                    </a:lnTo>
                    <a:lnTo>
                      <a:pt x="952" y="3456"/>
                    </a:lnTo>
                    <a:lnTo>
                      <a:pt x="920" y="3718"/>
                    </a:lnTo>
                    <a:lnTo>
                      <a:pt x="887" y="3980"/>
                    </a:lnTo>
                    <a:lnTo>
                      <a:pt x="855" y="4243"/>
                    </a:lnTo>
                    <a:lnTo>
                      <a:pt x="824" y="4505"/>
                    </a:lnTo>
                    <a:lnTo>
                      <a:pt x="792" y="4767"/>
                    </a:lnTo>
                    <a:lnTo>
                      <a:pt x="759" y="5032"/>
                    </a:lnTo>
                    <a:lnTo>
                      <a:pt x="727" y="5295"/>
                    </a:lnTo>
                    <a:lnTo>
                      <a:pt x="695" y="5559"/>
                    </a:lnTo>
                    <a:lnTo>
                      <a:pt x="662" y="5822"/>
                    </a:lnTo>
                    <a:lnTo>
                      <a:pt x="629" y="6087"/>
                    </a:lnTo>
                    <a:lnTo>
                      <a:pt x="597" y="6350"/>
                    </a:lnTo>
                    <a:lnTo>
                      <a:pt x="565" y="6615"/>
                    </a:lnTo>
                    <a:lnTo>
                      <a:pt x="533" y="6879"/>
                    </a:lnTo>
                    <a:lnTo>
                      <a:pt x="500" y="7144"/>
                    </a:lnTo>
                    <a:lnTo>
                      <a:pt x="467" y="7409"/>
                    </a:lnTo>
                    <a:lnTo>
                      <a:pt x="435" y="7675"/>
                    </a:lnTo>
                    <a:lnTo>
                      <a:pt x="402" y="7940"/>
                    </a:lnTo>
                    <a:lnTo>
                      <a:pt x="370" y="8206"/>
                    </a:lnTo>
                    <a:lnTo>
                      <a:pt x="338" y="8472"/>
                    </a:lnTo>
                    <a:lnTo>
                      <a:pt x="306" y="8738"/>
                    </a:lnTo>
                    <a:lnTo>
                      <a:pt x="272" y="9004"/>
                    </a:lnTo>
                    <a:lnTo>
                      <a:pt x="238" y="8924"/>
                    </a:lnTo>
                    <a:lnTo>
                      <a:pt x="204" y="8843"/>
                    </a:lnTo>
                    <a:lnTo>
                      <a:pt x="170" y="8763"/>
                    </a:lnTo>
                    <a:lnTo>
                      <a:pt x="135" y="8681"/>
                    </a:lnTo>
                    <a:lnTo>
                      <a:pt x="101" y="8601"/>
                    </a:lnTo>
                    <a:lnTo>
                      <a:pt x="68" y="8521"/>
                    </a:lnTo>
                    <a:lnTo>
                      <a:pt x="34" y="8441"/>
                    </a:lnTo>
                    <a:lnTo>
                      <a:pt x="0" y="8361"/>
                    </a:lnTo>
                    <a:lnTo>
                      <a:pt x="33" y="8098"/>
                    </a:lnTo>
                    <a:lnTo>
                      <a:pt x="65" y="7833"/>
                    </a:lnTo>
                    <a:lnTo>
                      <a:pt x="97" y="7570"/>
                    </a:lnTo>
                    <a:lnTo>
                      <a:pt x="129" y="7305"/>
                    </a:lnTo>
                    <a:lnTo>
                      <a:pt x="162" y="7042"/>
                    </a:lnTo>
                    <a:lnTo>
                      <a:pt x="194" y="6778"/>
                    </a:lnTo>
                    <a:lnTo>
                      <a:pt x="226" y="6515"/>
                    </a:lnTo>
                    <a:lnTo>
                      <a:pt x="258" y="6252"/>
                    </a:lnTo>
                    <a:lnTo>
                      <a:pt x="291" y="5989"/>
                    </a:lnTo>
                    <a:lnTo>
                      <a:pt x="323" y="5727"/>
                    </a:lnTo>
                    <a:lnTo>
                      <a:pt x="355" y="5465"/>
                    </a:lnTo>
                    <a:lnTo>
                      <a:pt x="387" y="5203"/>
                    </a:lnTo>
                    <a:lnTo>
                      <a:pt x="420" y="4942"/>
                    </a:lnTo>
                    <a:lnTo>
                      <a:pt x="452" y="4680"/>
                    </a:lnTo>
                    <a:lnTo>
                      <a:pt x="484" y="4417"/>
                    </a:lnTo>
                    <a:lnTo>
                      <a:pt x="516" y="4156"/>
                    </a:lnTo>
                    <a:lnTo>
                      <a:pt x="549" y="3896"/>
                    </a:lnTo>
                    <a:lnTo>
                      <a:pt x="581" y="3635"/>
                    </a:lnTo>
                    <a:lnTo>
                      <a:pt x="612" y="3375"/>
                    </a:lnTo>
                    <a:lnTo>
                      <a:pt x="644" y="3114"/>
                    </a:lnTo>
                    <a:lnTo>
                      <a:pt x="677" y="2853"/>
                    </a:lnTo>
                    <a:lnTo>
                      <a:pt x="708" y="2593"/>
                    </a:lnTo>
                    <a:lnTo>
                      <a:pt x="740" y="2332"/>
                    </a:lnTo>
                    <a:lnTo>
                      <a:pt x="771" y="2072"/>
                    </a:lnTo>
                    <a:lnTo>
                      <a:pt x="804" y="1813"/>
                    </a:lnTo>
                    <a:lnTo>
                      <a:pt x="836" y="1553"/>
                    </a:lnTo>
                    <a:lnTo>
                      <a:pt x="867" y="1295"/>
                    </a:lnTo>
                    <a:lnTo>
                      <a:pt x="899" y="1035"/>
                    </a:lnTo>
                    <a:lnTo>
                      <a:pt x="932" y="776"/>
                    </a:lnTo>
                    <a:lnTo>
                      <a:pt x="964" y="517"/>
                    </a:lnTo>
                    <a:lnTo>
                      <a:pt x="995" y="258"/>
                    </a:lnTo>
                    <a:lnTo>
                      <a:pt x="102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641640" y="4416840"/>
                <a:ext cx="671400" cy="324720"/>
              </a:xfrm>
              <a:custGeom>
                <a:avLst/>
                <a:gdLst/>
                <a:ahLst/>
                <a:rect l="l" t="t" r="r" b="b"/>
                <a:pathLst>
                  <a:path w="1803" h="1185">
                    <a:moveTo>
                      <a:pt x="1531" y="542"/>
                    </a:moveTo>
                    <a:lnTo>
                      <a:pt x="1565" y="622"/>
                    </a:lnTo>
                    <a:lnTo>
                      <a:pt x="1599" y="702"/>
                    </a:lnTo>
                    <a:lnTo>
                      <a:pt x="1632" y="782"/>
                    </a:lnTo>
                    <a:lnTo>
                      <a:pt x="1666" y="862"/>
                    </a:lnTo>
                    <a:lnTo>
                      <a:pt x="1701" y="944"/>
                    </a:lnTo>
                    <a:lnTo>
                      <a:pt x="1735" y="1024"/>
                    </a:lnTo>
                    <a:lnTo>
                      <a:pt x="1769" y="1105"/>
                    </a:lnTo>
                    <a:lnTo>
                      <a:pt x="1803" y="1185"/>
                    </a:lnTo>
                    <a:lnTo>
                      <a:pt x="1608" y="1114"/>
                    </a:lnTo>
                    <a:lnTo>
                      <a:pt x="1412" y="1042"/>
                    </a:lnTo>
                    <a:lnTo>
                      <a:pt x="1218" y="972"/>
                    </a:lnTo>
                    <a:lnTo>
                      <a:pt x="1024" y="902"/>
                    </a:lnTo>
                    <a:lnTo>
                      <a:pt x="831" y="832"/>
                    </a:lnTo>
                    <a:lnTo>
                      <a:pt x="639" y="762"/>
                    </a:lnTo>
                    <a:lnTo>
                      <a:pt x="449" y="693"/>
                    </a:lnTo>
                    <a:lnTo>
                      <a:pt x="259" y="624"/>
                    </a:lnTo>
                    <a:lnTo>
                      <a:pt x="226" y="545"/>
                    </a:lnTo>
                    <a:lnTo>
                      <a:pt x="193" y="467"/>
                    </a:lnTo>
                    <a:lnTo>
                      <a:pt x="160" y="389"/>
                    </a:lnTo>
                    <a:lnTo>
                      <a:pt x="128" y="311"/>
                    </a:lnTo>
                    <a:lnTo>
                      <a:pt x="96" y="233"/>
                    </a:lnTo>
                    <a:lnTo>
                      <a:pt x="64" y="155"/>
                    </a:lnTo>
                    <a:lnTo>
                      <a:pt x="32" y="77"/>
                    </a:lnTo>
                    <a:lnTo>
                      <a:pt x="0" y="0"/>
                    </a:lnTo>
                    <a:lnTo>
                      <a:pt x="189" y="66"/>
                    </a:lnTo>
                    <a:lnTo>
                      <a:pt x="377" y="132"/>
                    </a:lnTo>
                    <a:lnTo>
                      <a:pt x="568" y="200"/>
                    </a:lnTo>
                    <a:lnTo>
                      <a:pt x="758" y="268"/>
                    </a:lnTo>
                    <a:lnTo>
                      <a:pt x="951" y="337"/>
                    </a:lnTo>
                    <a:lnTo>
                      <a:pt x="1143" y="405"/>
                    </a:lnTo>
                    <a:lnTo>
                      <a:pt x="1337" y="473"/>
                    </a:lnTo>
                    <a:lnTo>
                      <a:pt x="1531" y="5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641640" y="4416840"/>
                <a:ext cx="671400" cy="324720"/>
              </a:xfrm>
              <a:custGeom>
                <a:avLst/>
                <a:gdLst/>
                <a:ahLst/>
                <a:rect l="l" t="t" r="r" b="b"/>
                <a:pathLst>
                  <a:path w="1803" h="1185">
                    <a:moveTo>
                      <a:pt x="1531" y="542"/>
                    </a:moveTo>
                    <a:lnTo>
                      <a:pt x="1565" y="622"/>
                    </a:lnTo>
                    <a:lnTo>
                      <a:pt x="1599" y="702"/>
                    </a:lnTo>
                    <a:lnTo>
                      <a:pt x="1632" y="782"/>
                    </a:lnTo>
                    <a:lnTo>
                      <a:pt x="1666" y="862"/>
                    </a:lnTo>
                    <a:lnTo>
                      <a:pt x="1701" y="944"/>
                    </a:lnTo>
                    <a:lnTo>
                      <a:pt x="1735" y="1024"/>
                    </a:lnTo>
                    <a:lnTo>
                      <a:pt x="1769" y="1105"/>
                    </a:lnTo>
                    <a:lnTo>
                      <a:pt x="1803" y="1185"/>
                    </a:lnTo>
                    <a:lnTo>
                      <a:pt x="1608" y="1114"/>
                    </a:lnTo>
                    <a:lnTo>
                      <a:pt x="1412" y="1042"/>
                    </a:lnTo>
                    <a:lnTo>
                      <a:pt x="1218" y="972"/>
                    </a:lnTo>
                    <a:lnTo>
                      <a:pt x="1024" y="902"/>
                    </a:lnTo>
                    <a:lnTo>
                      <a:pt x="831" y="832"/>
                    </a:lnTo>
                    <a:lnTo>
                      <a:pt x="639" y="762"/>
                    </a:lnTo>
                    <a:lnTo>
                      <a:pt x="449" y="693"/>
                    </a:lnTo>
                    <a:lnTo>
                      <a:pt x="259" y="624"/>
                    </a:lnTo>
                    <a:lnTo>
                      <a:pt x="226" y="545"/>
                    </a:lnTo>
                    <a:lnTo>
                      <a:pt x="193" y="467"/>
                    </a:lnTo>
                    <a:lnTo>
                      <a:pt x="160" y="389"/>
                    </a:lnTo>
                    <a:lnTo>
                      <a:pt x="128" y="311"/>
                    </a:lnTo>
                    <a:lnTo>
                      <a:pt x="96" y="233"/>
                    </a:lnTo>
                    <a:lnTo>
                      <a:pt x="64" y="155"/>
                    </a:lnTo>
                    <a:lnTo>
                      <a:pt x="32" y="77"/>
                    </a:lnTo>
                    <a:lnTo>
                      <a:pt x="0" y="0"/>
                    </a:lnTo>
                    <a:lnTo>
                      <a:pt x="189" y="66"/>
                    </a:lnTo>
                    <a:lnTo>
                      <a:pt x="377" y="132"/>
                    </a:lnTo>
                    <a:lnTo>
                      <a:pt x="568" y="200"/>
                    </a:lnTo>
                    <a:lnTo>
                      <a:pt x="758" y="268"/>
                    </a:lnTo>
                    <a:lnTo>
                      <a:pt x="951" y="337"/>
                    </a:lnTo>
                    <a:lnTo>
                      <a:pt x="1143" y="405"/>
                    </a:lnTo>
                    <a:lnTo>
                      <a:pt x="1337" y="473"/>
                    </a:lnTo>
                    <a:lnTo>
                      <a:pt x="1531" y="542"/>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641640" y="2181960"/>
                <a:ext cx="953640" cy="2384640"/>
              </a:xfrm>
              <a:custGeom>
                <a:avLst/>
                <a:gdLst/>
                <a:ahLst/>
                <a:rect l="l" t="t" r="r" b="b"/>
                <a:pathLst>
                  <a:path w="2558" h="8691">
                    <a:moveTo>
                      <a:pt x="1020" y="0"/>
                    </a:moveTo>
                    <a:lnTo>
                      <a:pt x="1209" y="40"/>
                    </a:lnTo>
                    <a:lnTo>
                      <a:pt x="1399" y="81"/>
                    </a:lnTo>
                    <a:lnTo>
                      <a:pt x="1590" y="122"/>
                    </a:lnTo>
                    <a:lnTo>
                      <a:pt x="1782" y="163"/>
                    </a:lnTo>
                    <a:lnTo>
                      <a:pt x="1975" y="204"/>
                    </a:lnTo>
                    <a:lnTo>
                      <a:pt x="2168" y="246"/>
                    </a:lnTo>
                    <a:lnTo>
                      <a:pt x="2363" y="288"/>
                    </a:lnTo>
                    <a:lnTo>
                      <a:pt x="2558" y="330"/>
                    </a:lnTo>
                    <a:lnTo>
                      <a:pt x="2526" y="588"/>
                    </a:lnTo>
                    <a:lnTo>
                      <a:pt x="2495" y="847"/>
                    </a:lnTo>
                    <a:lnTo>
                      <a:pt x="2463" y="1106"/>
                    </a:lnTo>
                    <a:lnTo>
                      <a:pt x="2430" y="1365"/>
                    </a:lnTo>
                    <a:lnTo>
                      <a:pt x="2398" y="1625"/>
                    </a:lnTo>
                    <a:lnTo>
                      <a:pt x="2367" y="1883"/>
                    </a:lnTo>
                    <a:lnTo>
                      <a:pt x="2335" y="2143"/>
                    </a:lnTo>
                    <a:lnTo>
                      <a:pt x="2302" y="2402"/>
                    </a:lnTo>
                    <a:lnTo>
                      <a:pt x="2271" y="2662"/>
                    </a:lnTo>
                    <a:lnTo>
                      <a:pt x="2239" y="2923"/>
                    </a:lnTo>
                    <a:lnTo>
                      <a:pt x="2208" y="3183"/>
                    </a:lnTo>
                    <a:lnTo>
                      <a:pt x="2175" y="3444"/>
                    </a:lnTo>
                    <a:lnTo>
                      <a:pt x="2143" y="3705"/>
                    </a:lnTo>
                    <a:lnTo>
                      <a:pt x="2112" y="3965"/>
                    </a:lnTo>
                    <a:lnTo>
                      <a:pt x="2080" y="4226"/>
                    </a:lnTo>
                    <a:lnTo>
                      <a:pt x="2047" y="4486"/>
                    </a:lnTo>
                    <a:lnTo>
                      <a:pt x="2015" y="4747"/>
                    </a:lnTo>
                    <a:lnTo>
                      <a:pt x="1983" y="5010"/>
                    </a:lnTo>
                    <a:lnTo>
                      <a:pt x="1951" y="5272"/>
                    </a:lnTo>
                    <a:lnTo>
                      <a:pt x="1918" y="5533"/>
                    </a:lnTo>
                    <a:lnTo>
                      <a:pt x="1886" y="5795"/>
                    </a:lnTo>
                    <a:lnTo>
                      <a:pt x="1854" y="6057"/>
                    </a:lnTo>
                    <a:lnTo>
                      <a:pt x="1822" y="6319"/>
                    </a:lnTo>
                    <a:lnTo>
                      <a:pt x="1789" y="6582"/>
                    </a:lnTo>
                    <a:lnTo>
                      <a:pt x="1757" y="6845"/>
                    </a:lnTo>
                    <a:lnTo>
                      <a:pt x="1725" y="7108"/>
                    </a:lnTo>
                    <a:lnTo>
                      <a:pt x="1693" y="7372"/>
                    </a:lnTo>
                    <a:lnTo>
                      <a:pt x="1660" y="7635"/>
                    </a:lnTo>
                    <a:lnTo>
                      <a:pt x="1628" y="7900"/>
                    </a:lnTo>
                    <a:lnTo>
                      <a:pt x="1596" y="8163"/>
                    </a:lnTo>
                    <a:lnTo>
                      <a:pt x="1564" y="8428"/>
                    </a:lnTo>
                    <a:lnTo>
                      <a:pt x="1531" y="8691"/>
                    </a:lnTo>
                    <a:lnTo>
                      <a:pt x="1337" y="8622"/>
                    </a:lnTo>
                    <a:lnTo>
                      <a:pt x="1143" y="8554"/>
                    </a:lnTo>
                    <a:lnTo>
                      <a:pt x="951" y="8486"/>
                    </a:lnTo>
                    <a:lnTo>
                      <a:pt x="758" y="8417"/>
                    </a:lnTo>
                    <a:lnTo>
                      <a:pt x="568" y="8349"/>
                    </a:lnTo>
                    <a:lnTo>
                      <a:pt x="377" y="8281"/>
                    </a:lnTo>
                    <a:lnTo>
                      <a:pt x="189" y="8215"/>
                    </a:lnTo>
                    <a:lnTo>
                      <a:pt x="0" y="8149"/>
                    </a:lnTo>
                    <a:lnTo>
                      <a:pt x="32" y="7891"/>
                    </a:lnTo>
                    <a:lnTo>
                      <a:pt x="64" y="7634"/>
                    </a:lnTo>
                    <a:lnTo>
                      <a:pt x="96" y="7378"/>
                    </a:lnTo>
                    <a:lnTo>
                      <a:pt x="128" y="7121"/>
                    </a:lnTo>
                    <a:lnTo>
                      <a:pt x="160" y="6863"/>
                    </a:lnTo>
                    <a:lnTo>
                      <a:pt x="194" y="6606"/>
                    </a:lnTo>
                    <a:lnTo>
                      <a:pt x="226" y="6350"/>
                    </a:lnTo>
                    <a:lnTo>
                      <a:pt x="258" y="6094"/>
                    </a:lnTo>
                    <a:lnTo>
                      <a:pt x="289" y="5838"/>
                    </a:lnTo>
                    <a:lnTo>
                      <a:pt x="322" y="5583"/>
                    </a:lnTo>
                    <a:lnTo>
                      <a:pt x="354" y="5327"/>
                    </a:lnTo>
                    <a:lnTo>
                      <a:pt x="385" y="5072"/>
                    </a:lnTo>
                    <a:lnTo>
                      <a:pt x="416" y="4816"/>
                    </a:lnTo>
                    <a:lnTo>
                      <a:pt x="449" y="4562"/>
                    </a:lnTo>
                    <a:lnTo>
                      <a:pt x="480" y="4306"/>
                    </a:lnTo>
                    <a:lnTo>
                      <a:pt x="512" y="4052"/>
                    </a:lnTo>
                    <a:lnTo>
                      <a:pt x="544" y="3797"/>
                    </a:lnTo>
                    <a:lnTo>
                      <a:pt x="576" y="3544"/>
                    </a:lnTo>
                    <a:lnTo>
                      <a:pt x="608" y="3289"/>
                    </a:lnTo>
                    <a:lnTo>
                      <a:pt x="639" y="3035"/>
                    </a:lnTo>
                    <a:lnTo>
                      <a:pt x="671" y="2782"/>
                    </a:lnTo>
                    <a:lnTo>
                      <a:pt x="703" y="2528"/>
                    </a:lnTo>
                    <a:lnTo>
                      <a:pt x="735" y="2274"/>
                    </a:lnTo>
                    <a:lnTo>
                      <a:pt x="767" y="2021"/>
                    </a:lnTo>
                    <a:lnTo>
                      <a:pt x="798" y="1769"/>
                    </a:lnTo>
                    <a:lnTo>
                      <a:pt x="831" y="1515"/>
                    </a:lnTo>
                    <a:lnTo>
                      <a:pt x="862" y="1263"/>
                    </a:lnTo>
                    <a:lnTo>
                      <a:pt x="894" y="1010"/>
                    </a:lnTo>
                    <a:lnTo>
                      <a:pt x="925" y="757"/>
                    </a:lnTo>
                    <a:lnTo>
                      <a:pt x="957" y="504"/>
                    </a:lnTo>
                    <a:lnTo>
                      <a:pt x="989" y="252"/>
                    </a:lnTo>
                    <a:lnTo>
                      <a:pt x="1020" y="0"/>
                    </a:lnTo>
                    <a:close/>
                    <a:moveTo>
                      <a:pt x="1194" y="375"/>
                    </a:moveTo>
                    <a:lnTo>
                      <a:pt x="1330" y="406"/>
                    </a:lnTo>
                    <a:lnTo>
                      <a:pt x="1466" y="435"/>
                    </a:lnTo>
                    <a:lnTo>
                      <a:pt x="1602" y="466"/>
                    </a:lnTo>
                    <a:lnTo>
                      <a:pt x="1739" y="496"/>
                    </a:lnTo>
                    <a:lnTo>
                      <a:pt x="1877" y="527"/>
                    </a:lnTo>
                    <a:lnTo>
                      <a:pt x="2015" y="557"/>
                    </a:lnTo>
                    <a:lnTo>
                      <a:pt x="2154" y="587"/>
                    </a:lnTo>
                    <a:lnTo>
                      <a:pt x="2293" y="618"/>
                    </a:lnTo>
                    <a:lnTo>
                      <a:pt x="2263" y="855"/>
                    </a:lnTo>
                    <a:lnTo>
                      <a:pt x="2234" y="1092"/>
                    </a:lnTo>
                    <a:lnTo>
                      <a:pt x="2205" y="1329"/>
                    </a:lnTo>
                    <a:lnTo>
                      <a:pt x="2174" y="1567"/>
                    </a:lnTo>
                    <a:lnTo>
                      <a:pt x="2145" y="1804"/>
                    </a:lnTo>
                    <a:lnTo>
                      <a:pt x="2116" y="2042"/>
                    </a:lnTo>
                    <a:lnTo>
                      <a:pt x="2087" y="2279"/>
                    </a:lnTo>
                    <a:lnTo>
                      <a:pt x="2056" y="2517"/>
                    </a:lnTo>
                    <a:lnTo>
                      <a:pt x="2027" y="2755"/>
                    </a:lnTo>
                    <a:lnTo>
                      <a:pt x="1998" y="2993"/>
                    </a:lnTo>
                    <a:lnTo>
                      <a:pt x="1970" y="3232"/>
                    </a:lnTo>
                    <a:lnTo>
                      <a:pt x="1941" y="3470"/>
                    </a:lnTo>
                    <a:lnTo>
                      <a:pt x="1911" y="3709"/>
                    </a:lnTo>
                    <a:lnTo>
                      <a:pt x="1883" y="3947"/>
                    </a:lnTo>
                    <a:lnTo>
                      <a:pt x="1854" y="4186"/>
                    </a:lnTo>
                    <a:lnTo>
                      <a:pt x="1825" y="4424"/>
                    </a:lnTo>
                    <a:lnTo>
                      <a:pt x="1794" y="4664"/>
                    </a:lnTo>
                    <a:lnTo>
                      <a:pt x="1765" y="4903"/>
                    </a:lnTo>
                    <a:lnTo>
                      <a:pt x="1735" y="5141"/>
                    </a:lnTo>
                    <a:lnTo>
                      <a:pt x="1705" y="5381"/>
                    </a:lnTo>
                    <a:lnTo>
                      <a:pt x="1675" y="5621"/>
                    </a:lnTo>
                    <a:lnTo>
                      <a:pt x="1645" y="5860"/>
                    </a:lnTo>
                    <a:lnTo>
                      <a:pt x="1616" y="6100"/>
                    </a:lnTo>
                    <a:lnTo>
                      <a:pt x="1586" y="6340"/>
                    </a:lnTo>
                    <a:lnTo>
                      <a:pt x="1556" y="6580"/>
                    </a:lnTo>
                    <a:lnTo>
                      <a:pt x="1526" y="6822"/>
                    </a:lnTo>
                    <a:lnTo>
                      <a:pt x="1497" y="7063"/>
                    </a:lnTo>
                    <a:lnTo>
                      <a:pt x="1468" y="7303"/>
                    </a:lnTo>
                    <a:lnTo>
                      <a:pt x="1439" y="7544"/>
                    </a:lnTo>
                    <a:lnTo>
                      <a:pt x="1409" y="7785"/>
                    </a:lnTo>
                    <a:lnTo>
                      <a:pt x="1379" y="8027"/>
                    </a:lnTo>
                    <a:lnTo>
                      <a:pt x="1349" y="8268"/>
                    </a:lnTo>
                    <a:lnTo>
                      <a:pt x="1211" y="8220"/>
                    </a:lnTo>
                    <a:lnTo>
                      <a:pt x="1074" y="8172"/>
                    </a:lnTo>
                    <a:lnTo>
                      <a:pt x="937" y="8124"/>
                    </a:lnTo>
                    <a:lnTo>
                      <a:pt x="799" y="8076"/>
                    </a:lnTo>
                    <a:lnTo>
                      <a:pt x="663" y="8029"/>
                    </a:lnTo>
                    <a:lnTo>
                      <a:pt x="527" y="7981"/>
                    </a:lnTo>
                    <a:lnTo>
                      <a:pt x="392" y="7934"/>
                    </a:lnTo>
                    <a:lnTo>
                      <a:pt x="257" y="7889"/>
                    </a:lnTo>
                    <a:lnTo>
                      <a:pt x="286" y="7651"/>
                    </a:lnTo>
                    <a:lnTo>
                      <a:pt x="316" y="7415"/>
                    </a:lnTo>
                    <a:lnTo>
                      <a:pt x="346" y="7179"/>
                    </a:lnTo>
                    <a:lnTo>
                      <a:pt x="375" y="6941"/>
                    </a:lnTo>
                    <a:lnTo>
                      <a:pt x="404" y="6705"/>
                    </a:lnTo>
                    <a:lnTo>
                      <a:pt x="434" y="6468"/>
                    </a:lnTo>
                    <a:lnTo>
                      <a:pt x="463" y="6232"/>
                    </a:lnTo>
                    <a:lnTo>
                      <a:pt x="492" y="5996"/>
                    </a:lnTo>
                    <a:lnTo>
                      <a:pt x="522" y="5761"/>
                    </a:lnTo>
                    <a:lnTo>
                      <a:pt x="552" y="5525"/>
                    </a:lnTo>
                    <a:lnTo>
                      <a:pt x="581" y="5289"/>
                    </a:lnTo>
                    <a:lnTo>
                      <a:pt x="609" y="5054"/>
                    </a:lnTo>
                    <a:lnTo>
                      <a:pt x="638" y="4819"/>
                    </a:lnTo>
                    <a:lnTo>
                      <a:pt x="667" y="4584"/>
                    </a:lnTo>
                    <a:lnTo>
                      <a:pt x="697" y="4349"/>
                    </a:lnTo>
                    <a:lnTo>
                      <a:pt x="726" y="4114"/>
                    </a:lnTo>
                    <a:lnTo>
                      <a:pt x="756" y="3880"/>
                    </a:lnTo>
                    <a:lnTo>
                      <a:pt x="785" y="3646"/>
                    </a:lnTo>
                    <a:lnTo>
                      <a:pt x="815" y="3411"/>
                    </a:lnTo>
                    <a:lnTo>
                      <a:pt x="844" y="3177"/>
                    </a:lnTo>
                    <a:lnTo>
                      <a:pt x="872" y="2943"/>
                    </a:lnTo>
                    <a:lnTo>
                      <a:pt x="901" y="2709"/>
                    </a:lnTo>
                    <a:lnTo>
                      <a:pt x="932" y="2475"/>
                    </a:lnTo>
                    <a:lnTo>
                      <a:pt x="961" y="2240"/>
                    </a:lnTo>
                    <a:lnTo>
                      <a:pt x="990" y="2007"/>
                    </a:lnTo>
                    <a:lnTo>
                      <a:pt x="1019" y="1775"/>
                    </a:lnTo>
                    <a:lnTo>
                      <a:pt x="1048" y="1541"/>
                    </a:lnTo>
                    <a:lnTo>
                      <a:pt x="1078" y="1308"/>
                    </a:lnTo>
                    <a:lnTo>
                      <a:pt x="1107" y="1074"/>
                    </a:lnTo>
                    <a:lnTo>
                      <a:pt x="1136" y="842"/>
                    </a:lnTo>
                    <a:lnTo>
                      <a:pt x="1164" y="608"/>
                    </a:lnTo>
                    <a:lnTo>
                      <a:pt x="1194" y="375"/>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641640" y="2181960"/>
                <a:ext cx="953640" cy="2384640"/>
              </a:xfrm>
              <a:custGeom>
                <a:avLst/>
                <a:gdLst/>
                <a:ahLst/>
                <a:rect l="l" t="t" r="r" b="b"/>
                <a:pathLst>
                  <a:path w="2558" h="8691">
                    <a:moveTo>
                      <a:pt x="1020" y="0"/>
                    </a:moveTo>
                    <a:lnTo>
                      <a:pt x="1209" y="40"/>
                    </a:lnTo>
                    <a:lnTo>
                      <a:pt x="1399" y="81"/>
                    </a:lnTo>
                    <a:lnTo>
                      <a:pt x="1590" y="122"/>
                    </a:lnTo>
                    <a:lnTo>
                      <a:pt x="1782" y="163"/>
                    </a:lnTo>
                    <a:lnTo>
                      <a:pt x="1975" y="204"/>
                    </a:lnTo>
                    <a:lnTo>
                      <a:pt x="2168" y="246"/>
                    </a:lnTo>
                    <a:lnTo>
                      <a:pt x="2363" y="288"/>
                    </a:lnTo>
                    <a:lnTo>
                      <a:pt x="2558" y="330"/>
                    </a:lnTo>
                    <a:lnTo>
                      <a:pt x="2526" y="588"/>
                    </a:lnTo>
                    <a:lnTo>
                      <a:pt x="2495" y="847"/>
                    </a:lnTo>
                    <a:lnTo>
                      <a:pt x="2463" y="1106"/>
                    </a:lnTo>
                    <a:lnTo>
                      <a:pt x="2430" y="1365"/>
                    </a:lnTo>
                    <a:lnTo>
                      <a:pt x="2398" y="1625"/>
                    </a:lnTo>
                    <a:lnTo>
                      <a:pt x="2367" y="1883"/>
                    </a:lnTo>
                    <a:lnTo>
                      <a:pt x="2335" y="2143"/>
                    </a:lnTo>
                    <a:lnTo>
                      <a:pt x="2302" y="2402"/>
                    </a:lnTo>
                    <a:lnTo>
                      <a:pt x="2271" y="2662"/>
                    </a:lnTo>
                    <a:lnTo>
                      <a:pt x="2239" y="2923"/>
                    </a:lnTo>
                    <a:lnTo>
                      <a:pt x="2208" y="3183"/>
                    </a:lnTo>
                    <a:lnTo>
                      <a:pt x="2175" y="3444"/>
                    </a:lnTo>
                    <a:lnTo>
                      <a:pt x="2143" y="3705"/>
                    </a:lnTo>
                    <a:lnTo>
                      <a:pt x="2112" y="3965"/>
                    </a:lnTo>
                    <a:lnTo>
                      <a:pt x="2080" y="4226"/>
                    </a:lnTo>
                    <a:lnTo>
                      <a:pt x="2047" y="4486"/>
                    </a:lnTo>
                    <a:lnTo>
                      <a:pt x="2015" y="4747"/>
                    </a:lnTo>
                    <a:lnTo>
                      <a:pt x="1983" y="5010"/>
                    </a:lnTo>
                    <a:lnTo>
                      <a:pt x="1951" y="5272"/>
                    </a:lnTo>
                    <a:lnTo>
                      <a:pt x="1918" y="5533"/>
                    </a:lnTo>
                    <a:lnTo>
                      <a:pt x="1886" y="5795"/>
                    </a:lnTo>
                    <a:lnTo>
                      <a:pt x="1854" y="6057"/>
                    </a:lnTo>
                    <a:lnTo>
                      <a:pt x="1822" y="6319"/>
                    </a:lnTo>
                    <a:lnTo>
                      <a:pt x="1789" y="6582"/>
                    </a:lnTo>
                    <a:lnTo>
                      <a:pt x="1757" y="6845"/>
                    </a:lnTo>
                    <a:lnTo>
                      <a:pt x="1725" y="7108"/>
                    </a:lnTo>
                    <a:lnTo>
                      <a:pt x="1693" y="7372"/>
                    </a:lnTo>
                    <a:lnTo>
                      <a:pt x="1660" y="7635"/>
                    </a:lnTo>
                    <a:lnTo>
                      <a:pt x="1628" y="7900"/>
                    </a:lnTo>
                    <a:lnTo>
                      <a:pt x="1596" y="8163"/>
                    </a:lnTo>
                    <a:lnTo>
                      <a:pt x="1564" y="8428"/>
                    </a:lnTo>
                    <a:lnTo>
                      <a:pt x="1531" y="8691"/>
                    </a:lnTo>
                    <a:lnTo>
                      <a:pt x="1337" y="8622"/>
                    </a:lnTo>
                    <a:lnTo>
                      <a:pt x="1143" y="8554"/>
                    </a:lnTo>
                    <a:lnTo>
                      <a:pt x="951" y="8486"/>
                    </a:lnTo>
                    <a:lnTo>
                      <a:pt x="758" y="8417"/>
                    </a:lnTo>
                    <a:lnTo>
                      <a:pt x="568" y="8349"/>
                    </a:lnTo>
                    <a:lnTo>
                      <a:pt x="377" y="8281"/>
                    </a:lnTo>
                    <a:lnTo>
                      <a:pt x="189" y="8215"/>
                    </a:lnTo>
                    <a:lnTo>
                      <a:pt x="0" y="8149"/>
                    </a:lnTo>
                    <a:lnTo>
                      <a:pt x="32" y="7891"/>
                    </a:lnTo>
                    <a:lnTo>
                      <a:pt x="64" y="7634"/>
                    </a:lnTo>
                    <a:lnTo>
                      <a:pt x="96" y="7378"/>
                    </a:lnTo>
                    <a:lnTo>
                      <a:pt x="128" y="7121"/>
                    </a:lnTo>
                    <a:lnTo>
                      <a:pt x="160" y="6863"/>
                    </a:lnTo>
                    <a:lnTo>
                      <a:pt x="194" y="6606"/>
                    </a:lnTo>
                    <a:lnTo>
                      <a:pt x="226" y="6350"/>
                    </a:lnTo>
                    <a:lnTo>
                      <a:pt x="258" y="6094"/>
                    </a:lnTo>
                    <a:lnTo>
                      <a:pt x="289" y="5838"/>
                    </a:lnTo>
                    <a:lnTo>
                      <a:pt x="322" y="5583"/>
                    </a:lnTo>
                    <a:lnTo>
                      <a:pt x="354" y="5327"/>
                    </a:lnTo>
                    <a:lnTo>
                      <a:pt x="385" y="5072"/>
                    </a:lnTo>
                    <a:lnTo>
                      <a:pt x="416" y="4816"/>
                    </a:lnTo>
                    <a:lnTo>
                      <a:pt x="449" y="4562"/>
                    </a:lnTo>
                    <a:lnTo>
                      <a:pt x="480" y="4306"/>
                    </a:lnTo>
                    <a:lnTo>
                      <a:pt x="512" y="4052"/>
                    </a:lnTo>
                    <a:lnTo>
                      <a:pt x="544" y="3797"/>
                    </a:lnTo>
                    <a:lnTo>
                      <a:pt x="576" y="3544"/>
                    </a:lnTo>
                    <a:lnTo>
                      <a:pt x="608" y="3289"/>
                    </a:lnTo>
                    <a:lnTo>
                      <a:pt x="639" y="3035"/>
                    </a:lnTo>
                    <a:lnTo>
                      <a:pt x="671" y="2782"/>
                    </a:lnTo>
                    <a:lnTo>
                      <a:pt x="703" y="2528"/>
                    </a:lnTo>
                    <a:lnTo>
                      <a:pt x="735" y="2274"/>
                    </a:lnTo>
                    <a:lnTo>
                      <a:pt x="767" y="2021"/>
                    </a:lnTo>
                    <a:lnTo>
                      <a:pt x="798" y="1769"/>
                    </a:lnTo>
                    <a:lnTo>
                      <a:pt x="831" y="1515"/>
                    </a:lnTo>
                    <a:lnTo>
                      <a:pt x="862" y="1263"/>
                    </a:lnTo>
                    <a:lnTo>
                      <a:pt x="894" y="1010"/>
                    </a:lnTo>
                    <a:lnTo>
                      <a:pt x="925" y="757"/>
                    </a:lnTo>
                    <a:lnTo>
                      <a:pt x="957" y="504"/>
                    </a:lnTo>
                    <a:lnTo>
                      <a:pt x="989" y="252"/>
                    </a:lnTo>
                    <a:lnTo>
                      <a:pt x="102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737040" y="2284560"/>
                <a:ext cx="759240" cy="2165040"/>
              </a:xfrm>
              <a:custGeom>
                <a:avLst/>
                <a:gdLst/>
                <a:ahLst/>
                <a:rect l="l" t="t" r="r" b="b"/>
                <a:pathLst>
                  <a:path w="2036" h="7893">
                    <a:moveTo>
                      <a:pt x="937" y="0"/>
                    </a:moveTo>
                    <a:lnTo>
                      <a:pt x="1073" y="31"/>
                    </a:lnTo>
                    <a:lnTo>
                      <a:pt x="1209" y="60"/>
                    </a:lnTo>
                    <a:lnTo>
                      <a:pt x="1345" y="91"/>
                    </a:lnTo>
                    <a:lnTo>
                      <a:pt x="1482" y="121"/>
                    </a:lnTo>
                    <a:lnTo>
                      <a:pt x="1620" y="152"/>
                    </a:lnTo>
                    <a:lnTo>
                      <a:pt x="1758" y="182"/>
                    </a:lnTo>
                    <a:lnTo>
                      <a:pt x="1897" y="212"/>
                    </a:lnTo>
                    <a:lnTo>
                      <a:pt x="2036" y="243"/>
                    </a:lnTo>
                    <a:lnTo>
                      <a:pt x="2006" y="480"/>
                    </a:lnTo>
                    <a:lnTo>
                      <a:pt x="1977" y="717"/>
                    </a:lnTo>
                    <a:lnTo>
                      <a:pt x="1948" y="954"/>
                    </a:lnTo>
                    <a:lnTo>
                      <a:pt x="1917" y="1192"/>
                    </a:lnTo>
                    <a:lnTo>
                      <a:pt x="1888" y="1429"/>
                    </a:lnTo>
                    <a:lnTo>
                      <a:pt x="1859" y="1667"/>
                    </a:lnTo>
                    <a:lnTo>
                      <a:pt x="1830" y="1904"/>
                    </a:lnTo>
                    <a:lnTo>
                      <a:pt x="1799" y="2142"/>
                    </a:lnTo>
                    <a:lnTo>
                      <a:pt x="1770" y="2380"/>
                    </a:lnTo>
                    <a:lnTo>
                      <a:pt x="1741" y="2618"/>
                    </a:lnTo>
                    <a:lnTo>
                      <a:pt x="1713" y="2857"/>
                    </a:lnTo>
                    <a:lnTo>
                      <a:pt x="1684" y="3095"/>
                    </a:lnTo>
                    <a:lnTo>
                      <a:pt x="1654" y="3334"/>
                    </a:lnTo>
                    <a:lnTo>
                      <a:pt x="1626" y="3572"/>
                    </a:lnTo>
                    <a:lnTo>
                      <a:pt x="1597" y="3811"/>
                    </a:lnTo>
                    <a:lnTo>
                      <a:pt x="1568" y="4049"/>
                    </a:lnTo>
                    <a:lnTo>
                      <a:pt x="1537" y="4289"/>
                    </a:lnTo>
                    <a:lnTo>
                      <a:pt x="1508" y="4528"/>
                    </a:lnTo>
                    <a:lnTo>
                      <a:pt x="1478" y="4766"/>
                    </a:lnTo>
                    <a:lnTo>
                      <a:pt x="1448" y="5006"/>
                    </a:lnTo>
                    <a:lnTo>
                      <a:pt x="1418" y="5246"/>
                    </a:lnTo>
                    <a:lnTo>
                      <a:pt x="1388" y="5485"/>
                    </a:lnTo>
                    <a:lnTo>
                      <a:pt x="1359" y="5725"/>
                    </a:lnTo>
                    <a:lnTo>
                      <a:pt x="1329" y="5965"/>
                    </a:lnTo>
                    <a:lnTo>
                      <a:pt x="1299" y="6205"/>
                    </a:lnTo>
                    <a:lnTo>
                      <a:pt x="1269" y="6447"/>
                    </a:lnTo>
                    <a:lnTo>
                      <a:pt x="1240" y="6688"/>
                    </a:lnTo>
                    <a:lnTo>
                      <a:pt x="1211" y="6928"/>
                    </a:lnTo>
                    <a:lnTo>
                      <a:pt x="1182" y="7169"/>
                    </a:lnTo>
                    <a:lnTo>
                      <a:pt x="1152" y="7410"/>
                    </a:lnTo>
                    <a:lnTo>
                      <a:pt x="1122" y="7652"/>
                    </a:lnTo>
                    <a:lnTo>
                      <a:pt x="1092" y="7893"/>
                    </a:lnTo>
                    <a:lnTo>
                      <a:pt x="954" y="7845"/>
                    </a:lnTo>
                    <a:lnTo>
                      <a:pt x="817" y="7797"/>
                    </a:lnTo>
                    <a:lnTo>
                      <a:pt x="680" y="7749"/>
                    </a:lnTo>
                    <a:lnTo>
                      <a:pt x="542" y="7701"/>
                    </a:lnTo>
                    <a:lnTo>
                      <a:pt x="406" y="7654"/>
                    </a:lnTo>
                    <a:lnTo>
                      <a:pt x="270" y="7606"/>
                    </a:lnTo>
                    <a:lnTo>
                      <a:pt x="135" y="7559"/>
                    </a:lnTo>
                    <a:lnTo>
                      <a:pt x="0" y="7514"/>
                    </a:lnTo>
                    <a:lnTo>
                      <a:pt x="29" y="7276"/>
                    </a:lnTo>
                    <a:lnTo>
                      <a:pt x="59" y="7040"/>
                    </a:lnTo>
                    <a:lnTo>
                      <a:pt x="89" y="6804"/>
                    </a:lnTo>
                    <a:lnTo>
                      <a:pt x="118" y="6566"/>
                    </a:lnTo>
                    <a:lnTo>
                      <a:pt x="147" y="6330"/>
                    </a:lnTo>
                    <a:lnTo>
                      <a:pt x="177" y="6093"/>
                    </a:lnTo>
                    <a:lnTo>
                      <a:pt x="206" y="5857"/>
                    </a:lnTo>
                    <a:lnTo>
                      <a:pt x="235" y="5621"/>
                    </a:lnTo>
                    <a:lnTo>
                      <a:pt x="265" y="5386"/>
                    </a:lnTo>
                    <a:lnTo>
                      <a:pt x="295" y="5150"/>
                    </a:lnTo>
                    <a:lnTo>
                      <a:pt x="324" y="4914"/>
                    </a:lnTo>
                    <a:lnTo>
                      <a:pt x="352" y="4679"/>
                    </a:lnTo>
                    <a:lnTo>
                      <a:pt x="381" y="4444"/>
                    </a:lnTo>
                    <a:lnTo>
                      <a:pt x="410" y="4209"/>
                    </a:lnTo>
                    <a:lnTo>
                      <a:pt x="440" y="3974"/>
                    </a:lnTo>
                    <a:lnTo>
                      <a:pt x="469" y="3739"/>
                    </a:lnTo>
                    <a:lnTo>
                      <a:pt x="499" y="3505"/>
                    </a:lnTo>
                    <a:lnTo>
                      <a:pt x="528" y="3271"/>
                    </a:lnTo>
                    <a:lnTo>
                      <a:pt x="558" y="3036"/>
                    </a:lnTo>
                    <a:lnTo>
                      <a:pt x="587" y="2802"/>
                    </a:lnTo>
                    <a:lnTo>
                      <a:pt x="615" y="2568"/>
                    </a:lnTo>
                    <a:lnTo>
                      <a:pt x="644" y="2334"/>
                    </a:lnTo>
                    <a:lnTo>
                      <a:pt x="675" y="2100"/>
                    </a:lnTo>
                    <a:lnTo>
                      <a:pt x="704" y="1865"/>
                    </a:lnTo>
                    <a:lnTo>
                      <a:pt x="733" y="1632"/>
                    </a:lnTo>
                    <a:lnTo>
                      <a:pt x="762" y="1400"/>
                    </a:lnTo>
                    <a:lnTo>
                      <a:pt x="791" y="1166"/>
                    </a:lnTo>
                    <a:lnTo>
                      <a:pt x="821" y="933"/>
                    </a:lnTo>
                    <a:lnTo>
                      <a:pt x="850" y="699"/>
                    </a:lnTo>
                    <a:lnTo>
                      <a:pt x="879" y="467"/>
                    </a:lnTo>
                    <a:lnTo>
                      <a:pt x="907" y="233"/>
                    </a:lnTo>
                    <a:lnTo>
                      <a:pt x="93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566840" y="2494440"/>
                <a:ext cx="795240" cy="2253960"/>
              </a:xfrm>
              <a:custGeom>
                <a:avLst/>
                <a:gdLst/>
                <a:ahLst/>
                <a:rect l="l" t="t" r="r" b="b"/>
                <a:pathLst>
                  <a:path w="2130" h="8223">
                    <a:moveTo>
                      <a:pt x="946" y="0"/>
                    </a:moveTo>
                    <a:lnTo>
                      <a:pt x="1093" y="33"/>
                    </a:lnTo>
                    <a:lnTo>
                      <a:pt x="1239" y="66"/>
                    </a:lnTo>
                    <a:lnTo>
                      <a:pt x="1386" y="100"/>
                    </a:lnTo>
                    <a:lnTo>
                      <a:pt x="1534" y="133"/>
                    </a:lnTo>
                    <a:lnTo>
                      <a:pt x="1682" y="166"/>
                    </a:lnTo>
                    <a:lnTo>
                      <a:pt x="1831" y="200"/>
                    </a:lnTo>
                    <a:lnTo>
                      <a:pt x="1981" y="234"/>
                    </a:lnTo>
                    <a:lnTo>
                      <a:pt x="2130" y="267"/>
                    </a:lnTo>
                    <a:lnTo>
                      <a:pt x="2101" y="513"/>
                    </a:lnTo>
                    <a:lnTo>
                      <a:pt x="2071" y="761"/>
                    </a:lnTo>
                    <a:lnTo>
                      <a:pt x="2041" y="1007"/>
                    </a:lnTo>
                    <a:lnTo>
                      <a:pt x="2011" y="1254"/>
                    </a:lnTo>
                    <a:lnTo>
                      <a:pt x="1982" y="1500"/>
                    </a:lnTo>
                    <a:lnTo>
                      <a:pt x="1951" y="1748"/>
                    </a:lnTo>
                    <a:lnTo>
                      <a:pt x="1922" y="1994"/>
                    </a:lnTo>
                    <a:lnTo>
                      <a:pt x="1892" y="2241"/>
                    </a:lnTo>
                    <a:lnTo>
                      <a:pt x="1862" y="2489"/>
                    </a:lnTo>
                    <a:lnTo>
                      <a:pt x="1832" y="2737"/>
                    </a:lnTo>
                    <a:lnTo>
                      <a:pt x="1803" y="2985"/>
                    </a:lnTo>
                    <a:lnTo>
                      <a:pt x="1774" y="3234"/>
                    </a:lnTo>
                    <a:lnTo>
                      <a:pt x="1744" y="3481"/>
                    </a:lnTo>
                    <a:lnTo>
                      <a:pt x="1714" y="3728"/>
                    </a:lnTo>
                    <a:lnTo>
                      <a:pt x="1685" y="3977"/>
                    </a:lnTo>
                    <a:lnTo>
                      <a:pt x="1656" y="4224"/>
                    </a:lnTo>
                    <a:lnTo>
                      <a:pt x="1626" y="4473"/>
                    </a:lnTo>
                    <a:lnTo>
                      <a:pt x="1597" y="4722"/>
                    </a:lnTo>
                    <a:lnTo>
                      <a:pt x="1566" y="4970"/>
                    </a:lnTo>
                    <a:lnTo>
                      <a:pt x="1536" y="5220"/>
                    </a:lnTo>
                    <a:lnTo>
                      <a:pt x="1507" y="5469"/>
                    </a:lnTo>
                    <a:lnTo>
                      <a:pt x="1477" y="5719"/>
                    </a:lnTo>
                    <a:lnTo>
                      <a:pt x="1446" y="5969"/>
                    </a:lnTo>
                    <a:lnTo>
                      <a:pt x="1417" y="6217"/>
                    </a:lnTo>
                    <a:lnTo>
                      <a:pt x="1387" y="6467"/>
                    </a:lnTo>
                    <a:lnTo>
                      <a:pt x="1358" y="6718"/>
                    </a:lnTo>
                    <a:lnTo>
                      <a:pt x="1327" y="6968"/>
                    </a:lnTo>
                    <a:lnTo>
                      <a:pt x="1298" y="7219"/>
                    </a:lnTo>
                    <a:lnTo>
                      <a:pt x="1268" y="7470"/>
                    </a:lnTo>
                    <a:lnTo>
                      <a:pt x="1238" y="7720"/>
                    </a:lnTo>
                    <a:lnTo>
                      <a:pt x="1208" y="7971"/>
                    </a:lnTo>
                    <a:lnTo>
                      <a:pt x="1178" y="8223"/>
                    </a:lnTo>
                    <a:lnTo>
                      <a:pt x="1029" y="8170"/>
                    </a:lnTo>
                    <a:lnTo>
                      <a:pt x="881" y="8118"/>
                    </a:lnTo>
                    <a:lnTo>
                      <a:pt x="732" y="8065"/>
                    </a:lnTo>
                    <a:lnTo>
                      <a:pt x="584" y="8013"/>
                    </a:lnTo>
                    <a:lnTo>
                      <a:pt x="437" y="7962"/>
                    </a:lnTo>
                    <a:lnTo>
                      <a:pt x="291" y="7910"/>
                    </a:lnTo>
                    <a:lnTo>
                      <a:pt x="145" y="7858"/>
                    </a:lnTo>
                    <a:lnTo>
                      <a:pt x="0" y="7807"/>
                    </a:lnTo>
                    <a:lnTo>
                      <a:pt x="29" y="7562"/>
                    </a:lnTo>
                    <a:lnTo>
                      <a:pt x="59" y="7315"/>
                    </a:lnTo>
                    <a:lnTo>
                      <a:pt x="89" y="7069"/>
                    </a:lnTo>
                    <a:lnTo>
                      <a:pt x="119" y="6823"/>
                    </a:lnTo>
                    <a:lnTo>
                      <a:pt x="148" y="6577"/>
                    </a:lnTo>
                    <a:lnTo>
                      <a:pt x="178" y="6331"/>
                    </a:lnTo>
                    <a:lnTo>
                      <a:pt x="209" y="6086"/>
                    </a:lnTo>
                    <a:lnTo>
                      <a:pt x="238" y="5839"/>
                    </a:lnTo>
                    <a:lnTo>
                      <a:pt x="268" y="5596"/>
                    </a:lnTo>
                    <a:lnTo>
                      <a:pt x="298" y="5351"/>
                    </a:lnTo>
                    <a:lnTo>
                      <a:pt x="327" y="5106"/>
                    </a:lnTo>
                    <a:lnTo>
                      <a:pt x="358" y="4862"/>
                    </a:lnTo>
                    <a:lnTo>
                      <a:pt x="387" y="4617"/>
                    </a:lnTo>
                    <a:lnTo>
                      <a:pt x="417" y="4372"/>
                    </a:lnTo>
                    <a:lnTo>
                      <a:pt x="447" y="4128"/>
                    </a:lnTo>
                    <a:lnTo>
                      <a:pt x="477" y="3885"/>
                    </a:lnTo>
                    <a:lnTo>
                      <a:pt x="507" y="3641"/>
                    </a:lnTo>
                    <a:lnTo>
                      <a:pt x="536" y="3397"/>
                    </a:lnTo>
                    <a:lnTo>
                      <a:pt x="565" y="3155"/>
                    </a:lnTo>
                    <a:lnTo>
                      <a:pt x="595" y="2911"/>
                    </a:lnTo>
                    <a:lnTo>
                      <a:pt x="623" y="2667"/>
                    </a:lnTo>
                    <a:lnTo>
                      <a:pt x="652" y="2425"/>
                    </a:lnTo>
                    <a:lnTo>
                      <a:pt x="681" y="2181"/>
                    </a:lnTo>
                    <a:lnTo>
                      <a:pt x="712" y="1939"/>
                    </a:lnTo>
                    <a:lnTo>
                      <a:pt x="741" y="1696"/>
                    </a:lnTo>
                    <a:lnTo>
                      <a:pt x="770" y="1454"/>
                    </a:lnTo>
                    <a:lnTo>
                      <a:pt x="800" y="1211"/>
                    </a:lnTo>
                    <a:lnTo>
                      <a:pt x="829" y="969"/>
                    </a:lnTo>
                    <a:lnTo>
                      <a:pt x="859" y="726"/>
                    </a:lnTo>
                    <a:lnTo>
                      <a:pt x="888" y="485"/>
                    </a:lnTo>
                    <a:lnTo>
                      <a:pt x="917" y="242"/>
                    </a:lnTo>
                    <a:lnTo>
                      <a:pt x="946" y="0"/>
                    </a:lnTo>
                    <a:close/>
                  </a:path>
                </a:pathLst>
              </a:custGeom>
              <a:solidFill>
                <a:srgbClr val="383d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918920" y="2482200"/>
                <a:ext cx="458280" cy="95760"/>
              </a:xfrm>
              <a:custGeom>
                <a:avLst/>
                <a:gdLst/>
                <a:ahLst/>
                <a:rect l="l" t="t" r="r" b="b"/>
                <a:pathLst>
                  <a:path w="1230" h="351">
                    <a:moveTo>
                      <a:pt x="1225" y="315"/>
                    </a:moveTo>
                    <a:lnTo>
                      <a:pt x="1197" y="266"/>
                    </a:lnTo>
                    <a:lnTo>
                      <a:pt x="1047" y="233"/>
                    </a:lnTo>
                    <a:lnTo>
                      <a:pt x="897" y="199"/>
                    </a:lnTo>
                    <a:lnTo>
                      <a:pt x="749" y="166"/>
                    </a:lnTo>
                    <a:lnTo>
                      <a:pt x="600" y="133"/>
                    </a:lnTo>
                    <a:lnTo>
                      <a:pt x="453" y="100"/>
                    </a:lnTo>
                    <a:lnTo>
                      <a:pt x="306" y="66"/>
                    </a:lnTo>
                    <a:lnTo>
                      <a:pt x="159" y="33"/>
                    </a:lnTo>
                    <a:lnTo>
                      <a:pt x="12" y="0"/>
                    </a:lnTo>
                    <a:lnTo>
                      <a:pt x="0" y="85"/>
                    </a:lnTo>
                    <a:lnTo>
                      <a:pt x="145" y="118"/>
                    </a:lnTo>
                    <a:lnTo>
                      <a:pt x="293" y="151"/>
                    </a:lnTo>
                    <a:lnTo>
                      <a:pt x="440" y="185"/>
                    </a:lnTo>
                    <a:lnTo>
                      <a:pt x="588" y="218"/>
                    </a:lnTo>
                    <a:lnTo>
                      <a:pt x="736" y="251"/>
                    </a:lnTo>
                    <a:lnTo>
                      <a:pt x="885" y="284"/>
                    </a:lnTo>
                    <a:lnTo>
                      <a:pt x="1035" y="318"/>
                    </a:lnTo>
                    <a:lnTo>
                      <a:pt x="1184" y="351"/>
                    </a:lnTo>
                    <a:lnTo>
                      <a:pt x="1154" y="303"/>
                    </a:lnTo>
                    <a:lnTo>
                      <a:pt x="1225" y="315"/>
                    </a:lnTo>
                    <a:lnTo>
                      <a:pt x="1230" y="273"/>
                    </a:lnTo>
                    <a:lnTo>
                      <a:pt x="1197" y="266"/>
                    </a:lnTo>
                    <a:lnTo>
                      <a:pt x="1225" y="3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260920" y="2565720"/>
                <a:ext cx="114840" cy="544320"/>
              </a:xfrm>
              <a:custGeom>
                <a:avLst/>
                <a:gdLst/>
                <a:ahLst/>
                <a:rect l="l" t="t" r="r" b="b"/>
                <a:pathLst>
                  <a:path w="308" h="1987">
                    <a:moveTo>
                      <a:pt x="70" y="1987"/>
                    </a:moveTo>
                    <a:lnTo>
                      <a:pt x="70" y="1987"/>
                    </a:lnTo>
                    <a:lnTo>
                      <a:pt x="99" y="1739"/>
                    </a:lnTo>
                    <a:lnTo>
                      <a:pt x="130" y="1493"/>
                    </a:lnTo>
                    <a:lnTo>
                      <a:pt x="160" y="1246"/>
                    </a:lnTo>
                    <a:lnTo>
                      <a:pt x="189" y="999"/>
                    </a:lnTo>
                    <a:lnTo>
                      <a:pt x="219" y="752"/>
                    </a:lnTo>
                    <a:lnTo>
                      <a:pt x="249" y="506"/>
                    </a:lnTo>
                    <a:lnTo>
                      <a:pt x="279" y="258"/>
                    </a:lnTo>
                    <a:lnTo>
                      <a:pt x="308" y="12"/>
                    </a:lnTo>
                    <a:lnTo>
                      <a:pt x="237" y="0"/>
                    </a:lnTo>
                    <a:lnTo>
                      <a:pt x="208" y="246"/>
                    </a:lnTo>
                    <a:lnTo>
                      <a:pt x="179" y="492"/>
                    </a:lnTo>
                    <a:lnTo>
                      <a:pt x="149" y="740"/>
                    </a:lnTo>
                    <a:lnTo>
                      <a:pt x="120" y="986"/>
                    </a:lnTo>
                    <a:lnTo>
                      <a:pt x="89" y="1233"/>
                    </a:lnTo>
                    <a:lnTo>
                      <a:pt x="59" y="1481"/>
                    </a:lnTo>
                    <a:lnTo>
                      <a:pt x="30" y="1727"/>
                    </a:lnTo>
                    <a:lnTo>
                      <a:pt x="0" y="1974"/>
                    </a:lnTo>
                    <a:lnTo>
                      <a:pt x="0" y="1974"/>
                    </a:lnTo>
                    <a:lnTo>
                      <a:pt x="70" y="19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172720" y="3107520"/>
                <a:ext cx="113040" cy="546840"/>
              </a:xfrm>
              <a:custGeom>
                <a:avLst/>
                <a:gdLst/>
                <a:ahLst/>
                <a:rect l="l" t="t" r="r" b="b"/>
                <a:pathLst>
                  <a:path w="306" h="1996">
                    <a:moveTo>
                      <a:pt x="70" y="1996"/>
                    </a:moveTo>
                    <a:lnTo>
                      <a:pt x="70" y="1996"/>
                    </a:lnTo>
                    <a:lnTo>
                      <a:pt x="100" y="1748"/>
                    </a:lnTo>
                    <a:lnTo>
                      <a:pt x="129" y="1500"/>
                    </a:lnTo>
                    <a:lnTo>
                      <a:pt x="158" y="1252"/>
                    </a:lnTo>
                    <a:lnTo>
                      <a:pt x="187" y="1005"/>
                    </a:lnTo>
                    <a:lnTo>
                      <a:pt x="217" y="756"/>
                    </a:lnTo>
                    <a:lnTo>
                      <a:pt x="247" y="509"/>
                    </a:lnTo>
                    <a:lnTo>
                      <a:pt x="276" y="261"/>
                    </a:lnTo>
                    <a:lnTo>
                      <a:pt x="306" y="13"/>
                    </a:lnTo>
                    <a:lnTo>
                      <a:pt x="236" y="0"/>
                    </a:lnTo>
                    <a:lnTo>
                      <a:pt x="205" y="248"/>
                    </a:lnTo>
                    <a:lnTo>
                      <a:pt x="176" y="496"/>
                    </a:lnTo>
                    <a:lnTo>
                      <a:pt x="147" y="744"/>
                    </a:lnTo>
                    <a:lnTo>
                      <a:pt x="118" y="992"/>
                    </a:lnTo>
                    <a:lnTo>
                      <a:pt x="88" y="1240"/>
                    </a:lnTo>
                    <a:lnTo>
                      <a:pt x="59" y="1487"/>
                    </a:lnTo>
                    <a:lnTo>
                      <a:pt x="29" y="1736"/>
                    </a:lnTo>
                    <a:lnTo>
                      <a:pt x="0" y="1983"/>
                    </a:lnTo>
                    <a:lnTo>
                      <a:pt x="0" y="1983"/>
                    </a:lnTo>
                    <a:lnTo>
                      <a:pt x="70" y="19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083080" y="3650400"/>
                <a:ext cx="114840" cy="549720"/>
              </a:xfrm>
              <a:custGeom>
                <a:avLst/>
                <a:gdLst/>
                <a:ahLst/>
                <a:rect l="l" t="t" r="r" b="b"/>
                <a:pathLst>
                  <a:path w="309" h="2006">
                    <a:moveTo>
                      <a:pt x="70" y="2006"/>
                    </a:moveTo>
                    <a:lnTo>
                      <a:pt x="70" y="2006"/>
                    </a:lnTo>
                    <a:lnTo>
                      <a:pt x="100" y="1757"/>
                    </a:lnTo>
                    <a:lnTo>
                      <a:pt x="130" y="1507"/>
                    </a:lnTo>
                    <a:lnTo>
                      <a:pt x="160" y="1257"/>
                    </a:lnTo>
                    <a:lnTo>
                      <a:pt x="189" y="1008"/>
                    </a:lnTo>
                    <a:lnTo>
                      <a:pt x="220" y="759"/>
                    </a:lnTo>
                    <a:lnTo>
                      <a:pt x="249" y="510"/>
                    </a:lnTo>
                    <a:lnTo>
                      <a:pt x="279" y="261"/>
                    </a:lnTo>
                    <a:lnTo>
                      <a:pt x="309" y="13"/>
                    </a:lnTo>
                    <a:lnTo>
                      <a:pt x="239" y="0"/>
                    </a:lnTo>
                    <a:lnTo>
                      <a:pt x="208" y="249"/>
                    </a:lnTo>
                    <a:lnTo>
                      <a:pt x="179" y="498"/>
                    </a:lnTo>
                    <a:lnTo>
                      <a:pt x="149" y="746"/>
                    </a:lnTo>
                    <a:lnTo>
                      <a:pt x="120" y="996"/>
                    </a:lnTo>
                    <a:lnTo>
                      <a:pt x="90" y="1245"/>
                    </a:lnTo>
                    <a:lnTo>
                      <a:pt x="59" y="1495"/>
                    </a:lnTo>
                    <a:lnTo>
                      <a:pt x="30" y="1745"/>
                    </a:lnTo>
                    <a:lnTo>
                      <a:pt x="0" y="1993"/>
                    </a:lnTo>
                    <a:lnTo>
                      <a:pt x="0" y="1993"/>
                    </a:lnTo>
                    <a:lnTo>
                      <a:pt x="70" y="200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93800" y="4197600"/>
                <a:ext cx="116280" cy="565920"/>
              </a:xfrm>
              <a:custGeom>
                <a:avLst/>
                <a:gdLst/>
                <a:ahLst/>
                <a:rect l="l" t="t" r="r" b="b"/>
                <a:pathLst>
                  <a:path w="309" h="2066">
                    <a:moveTo>
                      <a:pt x="25" y="2052"/>
                    </a:moveTo>
                    <a:lnTo>
                      <a:pt x="70" y="2018"/>
                    </a:lnTo>
                    <a:lnTo>
                      <a:pt x="101" y="1767"/>
                    </a:lnTo>
                    <a:lnTo>
                      <a:pt x="130" y="1515"/>
                    </a:lnTo>
                    <a:lnTo>
                      <a:pt x="160" y="1266"/>
                    </a:lnTo>
                    <a:lnTo>
                      <a:pt x="189" y="1015"/>
                    </a:lnTo>
                    <a:lnTo>
                      <a:pt x="220" y="763"/>
                    </a:lnTo>
                    <a:lnTo>
                      <a:pt x="249" y="514"/>
                    </a:lnTo>
                    <a:lnTo>
                      <a:pt x="279" y="262"/>
                    </a:lnTo>
                    <a:lnTo>
                      <a:pt x="309" y="13"/>
                    </a:lnTo>
                    <a:lnTo>
                      <a:pt x="239" y="0"/>
                    </a:lnTo>
                    <a:lnTo>
                      <a:pt x="209" y="250"/>
                    </a:lnTo>
                    <a:lnTo>
                      <a:pt x="179" y="501"/>
                    </a:lnTo>
                    <a:lnTo>
                      <a:pt x="149" y="751"/>
                    </a:lnTo>
                    <a:lnTo>
                      <a:pt x="120" y="1002"/>
                    </a:lnTo>
                    <a:lnTo>
                      <a:pt x="90" y="1253"/>
                    </a:lnTo>
                    <a:lnTo>
                      <a:pt x="60" y="1504"/>
                    </a:lnTo>
                    <a:lnTo>
                      <a:pt x="30" y="1754"/>
                    </a:lnTo>
                    <a:lnTo>
                      <a:pt x="0" y="2004"/>
                    </a:lnTo>
                    <a:lnTo>
                      <a:pt x="45" y="1970"/>
                    </a:lnTo>
                    <a:lnTo>
                      <a:pt x="25" y="2052"/>
                    </a:lnTo>
                    <a:lnTo>
                      <a:pt x="64" y="2066"/>
                    </a:lnTo>
                    <a:lnTo>
                      <a:pt x="70" y="2018"/>
                    </a:lnTo>
                    <a:lnTo>
                      <a:pt x="25" y="20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552080" y="4624200"/>
                <a:ext cx="459360" cy="135720"/>
              </a:xfrm>
              <a:custGeom>
                <a:avLst/>
                <a:gdLst/>
                <a:ahLst/>
                <a:rect l="l" t="t" r="r" b="b"/>
                <a:pathLst>
                  <a:path w="1228" h="497">
                    <a:moveTo>
                      <a:pt x="5" y="34"/>
                    </a:moveTo>
                    <a:lnTo>
                      <a:pt x="30" y="82"/>
                    </a:lnTo>
                    <a:lnTo>
                      <a:pt x="175" y="134"/>
                    </a:lnTo>
                    <a:lnTo>
                      <a:pt x="321" y="185"/>
                    </a:lnTo>
                    <a:lnTo>
                      <a:pt x="467" y="236"/>
                    </a:lnTo>
                    <a:lnTo>
                      <a:pt x="614" y="289"/>
                    </a:lnTo>
                    <a:lnTo>
                      <a:pt x="763" y="341"/>
                    </a:lnTo>
                    <a:lnTo>
                      <a:pt x="911" y="393"/>
                    </a:lnTo>
                    <a:lnTo>
                      <a:pt x="1059" y="445"/>
                    </a:lnTo>
                    <a:lnTo>
                      <a:pt x="1208" y="497"/>
                    </a:lnTo>
                    <a:lnTo>
                      <a:pt x="1228" y="415"/>
                    </a:lnTo>
                    <a:lnTo>
                      <a:pt x="1079" y="362"/>
                    </a:lnTo>
                    <a:lnTo>
                      <a:pt x="930" y="310"/>
                    </a:lnTo>
                    <a:lnTo>
                      <a:pt x="782" y="257"/>
                    </a:lnTo>
                    <a:lnTo>
                      <a:pt x="635" y="205"/>
                    </a:lnTo>
                    <a:lnTo>
                      <a:pt x="487" y="154"/>
                    </a:lnTo>
                    <a:lnTo>
                      <a:pt x="340" y="102"/>
                    </a:lnTo>
                    <a:lnTo>
                      <a:pt x="194" y="50"/>
                    </a:lnTo>
                    <a:lnTo>
                      <a:pt x="49" y="0"/>
                    </a:lnTo>
                    <a:lnTo>
                      <a:pt x="75" y="48"/>
                    </a:lnTo>
                    <a:lnTo>
                      <a:pt x="5" y="34"/>
                    </a:lnTo>
                    <a:lnTo>
                      <a:pt x="0" y="73"/>
                    </a:lnTo>
                    <a:lnTo>
                      <a:pt x="30" y="82"/>
                    </a:lnTo>
                    <a:lnTo>
                      <a:pt x="5" y="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554600" y="4093560"/>
                <a:ext cx="114840" cy="542880"/>
              </a:xfrm>
              <a:custGeom>
                <a:avLst/>
                <a:gdLst/>
                <a:ahLst/>
                <a:rect l="l" t="t" r="r" b="b"/>
                <a:pathLst>
                  <a:path w="308" h="1981">
                    <a:moveTo>
                      <a:pt x="237" y="0"/>
                    </a:moveTo>
                    <a:lnTo>
                      <a:pt x="237" y="0"/>
                    </a:lnTo>
                    <a:lnTo>
                      <a:pt x="208" y="246"/>
                    </a:lnTo>
                    <a:lnTo>
                      <a:pt x="178" y="491"/>
                    </a:lnTo>
                    <a:lnTo>
                      <a:pt x="148" y="738"/>
                    </a:lnTo>
                    <a:lnTo>
                      <a:pt x="119" y="984"/>
                    </a:lnTo>
                    <a:lnTo>
                      <a:pt x="88" y="1230"/>
                    </a:lnTo>
                    <a:lnTo>
                      <a:pt x="59" y="1476"/>
                    </a:lnTo>
                    <a:lnTo>
                      <a:pt x="29" y="1722"/>
                    </a:lnTo>
                    <a:lnTo>
                      <a:pt x="0" y="1967"/>
                    </a:lnTo>
                    <a:lnTo>
                      <a:pt x="70" y="1981"/>
                    </a:lnTo>
                    <a:lnTo>
                      <a:pt x="99" y="1735"/>
                    </a:lnTo>
                    <a:lnTo>
                      <a:pt x="130" y="1489"/>
                    </a:lnTo>
                    <a:lnTo>
                      <a:pt x="159" y="1242"/>
                    </a:lnTo>
                    <a:lnTo>
                      <a:pt x="189" y="996"/>
                    </a:lnTo>
                    <a:lnTo>
                      <a:pt x="218" y="750"/>
                    </a:lnTo>
                    <a:lnTo>
                      <a:pt x="249" y="504"/>
                    </a:lnTo>
                    <a:lnTo>
                      <a:pt x="278" y="259"/>
                    </a:lnTo>
                    <a:lnTo>
                      <a:pt x="308" y="14"/>
                    </a:lnTo>
                    <a:lnTo>
                      <a:pt x="308" y="14"/>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643160" y="3557160"/>
                <a:ext cx="114480" cy="540360"/>
              </a:xfrm>
              <a:custGeom>
                <a:avLst/>
                <a:gdLst/>
                <a:ahLst/>
                <a:rect l="l" t="t" r="r" b="b"/>
                <a:pathLst>
                  <a:path w="310" h="1968">
                    <a:moveTo>
                      <a:pt x="239" y="0"/>
                    </a:moveTo>
                    <a:lnTo>
                      <a:pt x="239" y="0"/>
                    </a:lnTo>
                    <a:lnTo>
                      <a:pt x="210" y="243"/>
                    </a:lnTo>
                    <a:lnTo>
                      <a:pt x="180" y="487"/>
                    </a:lnTo>
                    <a:lnTo>
                      <a:pt x="151" y="732"/>
                    </a:lnTo>
                    <a:lnTo>
                      <a:pt x="120" y="976"/>
                    </a:lnTo>
                    <a:lnTo>
                      <a:pt x="90" y="1221"/>
                    </a:lnTo>
                    <a:lnTo>
                      <a:pt x="61" y="1466"/>
                    </a:lnTo>
                    <a:lnTo>
                      <a:pt x="31" y="1711"/>
                    </a:lnTo>
                    <a:lnTo>
                      <a:pt x="0" y="1954"/>
                    </a:lnTo>
                    <a:lnTo>
                      <a:pt x="71" y="1968"/>
                    </a:lnTo>
                    <a:lnTo>
                      <a:pt x="101" y="1723"/>
                    </a:lnTo>
                    <a:lnTo>
                      <a:pt x="130" y="1478"/>
                    </a:lnTo>
                    <a:lnTo>
                      <a:pt x="161" y="1233"/>
                    </a:lnTo>
                    <a:lnTo>
                      <a:pt x="191" y="989"/>
                    </a:lnTo>
                    <a:lnTo>
                      <a:pt x="220" y="744"/>
                    </a:lnTo>
                    <a:lnTo>
                      <a:pt x="250" y="501"/>
                    </a:lnTo>
                    <a:lnTo>
                      <a:pt x="280" y="256"/>
                    </a:lnTo>
                    <a:lnTo>
                      <a:pt x="310" y="12"/>
                    </a:lnTo>
                    <a:lnTo>
                      <a:pt x="310" y="12"/>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732440" y="3024000"/>
                <a:ext cx="113040" cy="537480"/>
              </a:xfrm>
              <a:custGeom>
                <a:avLst/>
                <a:gdLst/>
                <a:ahLst/>
                <a:rect l="l" t="t" r="r" b="b"/>
                <a:pathLst>
                  <a:path w="306" h="1959">
                    <a:moveTo>
                      <a:pt x="235" y="0"/>
                    </a:moveTo>
                    <a:lnTo>
                      <a:pt x="235" y="0"/>
                    </a:lnTo>
                    <a:lnTo>
                      <a:pt x="206" y="243"/>
                    </a:lnTo>
                    <a:lnTo>
                      <a:pt x="176" y="487"/>
                    </a:lnTo>
                    <a:lnTo>
                      <a:pt x="148" y="729"/>
                    </a:lnTo>
                    <a:lnTo>
                      <a:pt x="118" y="973"/>
                    </a:lnTo>
                    <a:lnTo>
                      <a:pt x="89" y="1215"/>
                    </a:lnTo>
                    <a:lnTo>
                      <a:pt x="60" y="1459"/>
                    </a:lnTo>
                    <a:lnTo>
                      <a:pt x="31" y="1703"/>
                    </a:lnTo>
                    <a:lnTo>
                      <a:pt x="0" y="1947"/>
                    </a:lnTo>
                    <a:lnTo>
                      <a:pt x="71" y="1959"/>
                    </a:lnTo>
                    <a:lnTo>
                      <a:pt x="100" y="1715"/>
                    </a:lnTo>
                    <a:lnTo>
                      <a:pt x="130" y="1471"/>
                    </a:lnTo>
                    <a:lnTo>
                      <a:pt x="160" y="1229"/>
                    </a:lnTo>
                    <a:lnTo>
                      <a:pt x="188" y="985"/>
                    </a:lnTo>
                    <a:lnTo>
                      <a:pt x="217" y="741"/>
                    </a:lnTo>
                    <a:lnTo>
                      <a:pt x="246" y="499"/>
                    </a:lnTo>
                    <a:lnTo>
                      <a:pt x="276" y="255"/>
                    </a:lnTo>
                    <a:lnTo>
                      <a:pt x="306" y="13"/>
                    </a:lnTo>
                    <a:lnTo>
                      <a:pt x="306" y="13"/>
                    </a:lnTo>
                    <a:lnTo>
                      <a:pt x="23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820640" y="2479320"/>
                <a:ext cx="113400" cy="548280"/>
              </a:xfrm>
              <a:custGeom>
                <a:avLst/>
                <a:gdLst/>
                <a:ahLst/>
                <a:rect l="l" t="t" r="r" b="b"/>
                <a:pathLst>
                  <a:path w="306" h="1996">
                    <a:moveTo>
                      <a:pt x="276" y="9"/>
                    </a:moveTo>
                    <a:lnTo>
                      <a:pt x="235" y="45"/>
                    </a:lnTo>
                    <a:lnTo>
                      <a:pt x="206" y="287"/>
                    </a:lnTo>
                    <a:lnTo>
                      <a:pt x="177" y="528"/>
                    </a:lnTo>
                    <a:lnTo>
                      <a:pt x="147" y="771"/>
                    </a:lnTo>
                    <a:lnTo>
                      <a:pt x="118" y="1013"/>
                    </a:lnTo>
                    <a:lnTo>
                      <a:pt x="89" y="1256"/>
                    </a:lnTo>
                    <a:lnTo>
                      <a:pt x="60" y="1498"/>
                    </a:lnTo>
                    <a:lnTo>
                      <a:pt x="29" y="1741"/>
                    </a:lnTo>
                    <a:lnTo>
                      <a:pt x="0" y="1983"/>
                    </a:lnTo>
                    <a:lnTo>
                      <a:pt x="71" y="1996"/>
                    </a:lnTo>
                    <a:lnTo>
                      <a:pt x="100" y="1753"/>
                    </a:lnTo>
                    <a:lnTo>
                      <a:pt x="129" y="1511"/>
                    </a:lnTo>
                    <a:lnTo>
                      <a:pt x="158" y="1268"/>
                    </a:lnTo>
                    <a:lnTo>
                      <a:pt x="189" y="1026"/>
                    </a:lnTo>
                    <a:lnTo>
                      <a:pt x="218" y="783"/>
                    </a:lnTo>
                    <a:lnTo>
                      <a:pt x="247" y="542"/>
                    </a:lnTo>
                    <a:lnTo>
                      <a:pt x="276" y="299"/>
                    </a:lnTo>
                    <a:lnTo>
                      <a:pt x="306" y="58"/>
                    </a:lnTo>
                    <a:lnTo>
                      <a:pt x="264" y="94"/>
                    </a:lnTo>
                    <a:lnTo>
                      <a:pt x="276" y="9"/>
                    </a:lnTo>
                    <a:lnTo>
                      <a:pt x="241" y="0"/>
                    </a:lnTo>
                    <a:lnTo>
                      <a:pt x="235" y="45"/>
                    </a:lnTo>
                    <a:lnTo>
                      <a:pt x="276" y="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850520" y="2409480"/>
                <a:ext cx="549000" cy="235800"/>
              </a:xfrm>
              <a:custGeom>
                <a:avLst/>
                <a:gdLst/>
                <a:ahLst/>
                <a:rect l="l" t="t" r="r" b="b"/>
                <a:pathLst>
                  <a:path w="1474" h="863">
                    <a:moveTo>
                      <a:pt x="0" y="0"/>
                    </a:moveTo>
                    <a:lnTo>
                      <a:pt x="35" y="74"/>
                    </a:lnTo>
                    <a:lnTo>
                      <a:pt x="70" y="148"/>
                    </a:lnTo>
                    <a:lnTo>
                      <a:pt x="106" y="220"/>
                    </a:lnTo>
                    <a:lnTo>
                      <a:pt x="141" y="294"/>
                    </a:lnTo>
                    <a:lnTo>
                      <a:pt x="177" y="369"/>
                    </a:lnTo>
                    <a:lnTo>
                      <a:pt x="214" y="443"/>
                    </a:lnTo>
                    <a:lnTo>
                      <a:pt x="249" y="517"/>
                    </a:lnTo>
                    <a:lnTo>
                      <a:pt x="285" y="592"/>
                    </a:lnTo>
                    <a:lnTo>
                      <a:pt x="432" y="625"/>
                    </a:lnTo>
                    <a:lnTo>
                      <a:pt x="579" y="658"/>
                    </a:lnTo>
                    <a:lnTo>
                      <a:pt x="728" y="693"/>
                    </a:lnTo>
                    <a:lnTo>
                      <a:pt x="876" y="726"/>
                    </a:lnTo>
                    <a:lnTo>
                      <a:pt x="1025" y="761"/>
                    </a:lnTo>
                    <a:lnTo>
                      <a:pt x="1174" y="794"/>
                    </a:lnTo>
                    <a:lnTo>
                      <a:pt x="1323" y="828"/>
                    </a:lnTo>
                    <a:lnTo>
                      <a:pt x="1474" y="863"/>
                    </a:lnTo>
                    <a:lnTo>
                      <a:pt x="1435" y="788"/>
                    </a:lnTo>
                    <a:lnTo>
                      <a:pt x="1398" y="711"/>
                    </a:lnTo>
                    <a:lnTo>
                      <a:pt x="1361" y="636"/>
                    </a:lnTo>
                    <a:lnTo>
                      <a:pt x="1322" y="560"/>
                    </a:lnTo>
                    <a:lnTo>
                      <a:pt x="1285" y="485"/>
                    </a:lnTo>
                    <a:lnTo>
                      <a:pt x="1249" y="409"/>
                    </a:lnTo>
                    <a:lnTo>
                      <a:pt x="1211" y="333"/>
                    </a:lnTo>
                    <a:lnTo>
                      <a:pt x="1175" y="258"/>
                    </a:lnTo>
                    <a:lnTo>
                      <a:pt x="1026" y="225"/>
                    </a:lnTo>
                    <a:lnTo>
                      <a:pt x="878" y="193"/>
                    </a:lnTo>
                    <a:lnTo>
                      <a:pt x="730" y="161"/>
                    </a:lnTo>
                    <a:lnTo>
                      <a:pt x="583" y="128"/>
                    </a:lnTo>
                    <a:lnTo>
                      <a:pt x="436" y="96"/>
                    </a:lnTo>
                    <a:lnTo>
                      <a:pt x="291" y="64"/>
                    </a:lnTo>
                    <a:lnTo>
                      <a:pt x="145" y="32"/>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850520" y="2409480"/>
                <a:ext cx="549000" cy="235800"/>
              </a:xfrm>
              <a:custGeom>
                <a:avLst/>
                <a:gdLst/>
                <a:ahLst/>
                <a:rect l="l" t="t" r="r" b="b"/>
                <a:pathLst>
                  <a:path w="1474" h="863">
                    <a:moveTo>
                      <a:pt x="0" y="0"/>
                    </a:moveTo>
                    <a:lnTo>
                      <a:pt x="35" y="74"/>
                    </a:lnTo>
                    <a:lnTo>
                      <a:pt x="70" y="148"/>
                    </a:lnTo>
                    <a:lnTo>
                      <a:pt x="106" y="220"/>
                    </a:lnTo>
                    <a:lnTo>
                      <a:pt x="141" y="294"/>
                    </a:lnTo>
                    <a:lnTo>
                      <a:pt x="177" y="369"/>
                    </a:lnTo>
                    <a:lnTo>
                      <a:pt x="214" y="443"/>
                    </a:lnTo>
                    <a:lnTo>
                      <a:pt x="249" y="517"/>
                    </a:lnTo>
                    <a:lnTo>
                      <a:pt x="285" y="592"/>
                    </a:lnTo>
                    <a:lnTo>
                      <a:pt x="432" y="625"/>
                    </a:lnTo>
                    <a:lnTo>
                      <a:pt x="579" y="658"/>
                    </a:lnTo>
                    <a:lnTo>
                      <a:pt x="728" y="693"/>
                    </a:lnTo>
                    <a:lnTo>
                      <a:pt x="876" y="726"/>
                    </a:lnTo>
                    <a:lnTo>
                      <a:pt x="1025" y="761"/>
                    </a:lnTo>
                    <a:lnTo>
                      <a:pt x="1174" y="794"/>
                    </a:lnTo>
                    <a:lnTo>
                      <a:pt x="1323" y="828"/>
                    </a:lnTo>
                    <a:lnTo>
                      <a:pt x="1474" y="863"/>
                    </a:lnTo>
                    <a:lnTo>
                      <a:pt x="1435" y="788"/>
                    </a:lnTo>
                    <a:lnTo>
                      <a:pt x="1398" y="711"/>
                    </a:lnTo>
                    <a:lnTo>
                      <a:pt x="1361" y="636"/>
                    </a:lnTo>
                    <a:lnTo>
                      <a:pt x="1322" y="560"/>
                    </a:lnTo>
                    <a:lnTo>
                      <a:pt x="1285" y="485"/>
                    </a:lnTo>
                    <a:lnTo>
                      <a:pt x="1249" y="409"/>
                    </a:lnTo>
                    <a:lnTo>
                      <a:pt x="1211" y="333"/>
                    </a:lnTo>
                    <a:lnTo>
                      <a:pt x="1175" y="258"/>
                    </a:lnTo>
                    <a:lnTo>
                      <a:pt x="1026" y="225"/>
                    </a:lnTo>
                    <a:lnTo>
                      <a:pt x="878" y="193"/>
                    </a:lnTo>
                    <a:lnTo>
                      <a:pt x="730" y="161"/>
                    </a:lnTo>
                    <a:lnTo>
                      <a:pt x="583" y="128"/>
                    </a:lnTo>
                    <a:lnTo>
                      <a:pt x="436" y="96"/>
                    </a:lnTo>
                    <a:lnTo>
                      <a:pt x="291" y="64"/>
                    </a:lnTo>
                    <a:lnTo>
                      <a:pt x="145" y="32"/>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498080" y="2409480"/>
                <a:ext cx="458280" cy="2309040"/>
              </a:xfrm>
              <a:custGeom>
                <a:avLst/>
                <a:gdLst/>
                <a:ahLst/>
                <a:rect l="l" t="t" r="r" b="b"/>
                <a:pathLst>
                  <a:path w="1230" h="8420">
                    <a:moveTo>
                      <a:pt x="0" y="7771"/>
                    </a:moveTo>
                    <a:lnTo>
                      <a:pt x="35" y="7852"/>
                    </a:lnTo>
                    <a:lnTo>
                      <a:pt x="70" y="7932"/>
                    </a:lnTo>
                    <a:lnTo>
                      <a:pt x="104" y="8013"/>
                    </a:lnTo>
                    <a:lnTo>
                      <a:pt x="139" y="8095"/>
                    </a:lnTo>
                    <a:lnTo>
                      <a:pt x="175" y="8176"/>
                    </a:lnTo>
                    <a:lnTo>
                      <a:pt x="211" y="8257"/>
                    </a:lnTo>
                    <a:lnTo>
                      <a:pt x="246" y="8338"/>
                    </a:lnTo>
                    <a:lnTo>
                      <a:pt x="283" y="8420"/>
                    </a:lnTo>
                    <a:lnTo>
                      <a:pt x="312" y="8172"/>
                    </a:lnTo>
                    <a:lnTo>
                      <a:pt x="342" y="7926"/>
                    </a:lnTo>
                    <a:lnTo>
                      <a:pt x="371" y="7679"/>
                    </a:lnTo>
                    <a:lnTo>
                      <a:pt x="402" y="7432"/>
                    </a:lnTo>
                    <a:lnTo>
                      <a:pt x="432" y="7186"/>
                    </a:lnTo>
                    <a:lnTo>
                      <a:pt x="461" y="6940"/>
                    </a:lnTo>
                    <a:lnTo>
                      <a:pt x="491" y="6694"/>
                    </a:lnTo>
                    <a:lnTo>
                      <a:pt x="522" y="6448"/>
                    </a:lnTo>
                    <a:lnTo>
                      <a:pt x="551" y="6201"/>
                    </a:lnTo>
                    <a:lnTo>
                      <a:pt x="581" y="5956"/>
                    </a:lnTo>
                    <a:lnTo>
                      <a:pt x="610" y="5710"/>
                    </a:lnTo>
                    <a:lnTo>
                      <a:pt x="640" y="5465"/>
                    </a:lnTo>
                    <a:lnTo>
                      <a:pt x="670" y="5219"/>
                    </a:lnTo>
                    <a:lnTo>
                      <a:pt x="699" y="4974"/>
                    </a:lnTo>
                    <a:lnTo>
                      <a:pt x="729" y="4729"/>
                    </a:lnTo>
                    <a:lnTo>
                      <a:pt x="759" y="4484"/>
                    </a:lnTo>
                    <a:lnTo>
                      <a:pt x="789" y="4240"/>
                    </a:lnTo>
                    <a:lnTo>
                      <a:pt x="818" y="3997"/>
                    </a:lnTo>
                    <a:lnTo>
                      <a:pt x="847" y="3753"/>
                    </a:lnTo>
                    <a:lnTo>
                      <a:pt x="876" y="3509"/>
                    </a:lnTo>
                    <a:lnTo>
                      <a:pt x="906" y="3266"/>
                    </a:lnTo>
                    <a:lnTo>
                      <a:pt x="935" y="3022"/>
                    </a:lnTo>
                    <a:lnTo>
                      <a:pt x="964" y="2777"/>
                    </a:lnTo>
                    <a:lnTo>
                      <a:pt x="994" y="2533"/>
                    </a:lnTo>
                    <a:lnTo>
                      <a:pt x="1023" y="2291"/>
                    </a:lnTo>
                    <a:lnTo>
                      <a:pt x="1053" y="2047"/>
                    </a:lnTo>
                    <a:lnTo>
                      <a:pt x="1083" y="1804"/>
                    </a:lnTo>
                    <a:lnTo>
                      <a:pt x="1112" y="1562"/>
                    </a:lnTo>
                    <a:lnTo>
                      <a:pt x="1142" y="1319"/>
                    </a:lnTo>
                    <a:lnTo>
                      <a:pt x="1172" y="1077"/>
                    </a:lnTo>
                    <a:lnTo>
                      <a:pt x="1201" y="834"/>
                    </a:lnTo>
                    <a:lnTo>
                      <a:pt x="1230" y="592"/>
                    </a:lnTo>
                    <a:lnTo>
                      <a:pt x="1194" y="517"/>
                    </a:lnTo>
                    <a:lnTo>
                      <a:pt x="1159" y="443"/>
                    </a:lnTo>
                    <a:lnTo>
                      <a:pt x="1122" y="369"/>
                    </a:lnTo>
                    <a:lnTo>
                      <a:pt x="1086" y="294"/>
                    </a:lnTo>
                    <a:lnTo>
                      <a:pt x="1051" y="220"/>
                    </a:lnTo>
                    <a:lnTo>
                      <a:pt x="1015" y="148"/>
                    </a:lnTo>
                    <a:lnTo>
                      <a:pt x="980" y="74"/>
                    </a:lnTo>
                    <a:lnTo>
                      <a:pt x="945" y="0"/>
                    </a:lnTo>
                    <a:lnTo>
                      <a:pt x="916" y="241"/>
                    </a:lnTo>
                    <a:lnTo>
                      <a:pt x="886" y="481"/>
                    </a:lnTo>
                    <a:lnTo>
                      <a:pt x="857" y="722"/>
                    </a:lnTo>
                    <a:lnTo>
                      <a:pt x="827" y="964"/>
                    </a:lnTo>
                    <a:lnTo>
                      <a:pt x="798" y="1205"/>
                    </a:lnTo>
                    <a:lnTo>
                      <a:pt x="768" y="1446"/>
                    </a:lnTo>
                    <a:lnTo>
                      <a:pt x="738" y="1688"/>
                    </a:lnTo>
                    <a:lnTo>
                      <a:pt x="709" y="1929"/>
                    </a:lnTo>
                    <a:lnTo>
                      <a:pt x="680" y="2170"/>
                    </a:lnTo>
                    <a:lnTo>
                      <a:pt x="651" y="2413"/>
                    </a:lnTo>
                    <a:lnTo>
                      <a:pt x="621" y="2654"/>
                    </a:lnTo>
                    <a:lnTo>
                      <a:pt x="592" y="2896"/>
                    </a:lnTo>
                    <a:lnTo>
                      <a:pt x="562" y="3139"/>
                    </a:lnTo>
                    <a:lnTo>
                      <a:pt x="533" y="3381"/>
                    </a:lnTo>
                    <a:lnTo>
                      <a:pt x="503" y="3624"/>
                    </a:lnTo>
                    <a:lnTo>
                      <a:pt x="474" y="3866"/>
                    </a:lnTo>
                    <a:lnTo>
                      <a:pt x="444" y="4109"/>
                    </a:lnTo>
                    <a:lnTo>
                      <a:pt x="415" y="4351"/>
                    </a:lnTo>
                    <a:lnTo>
                      <a:pt x="385" y="4595"/>
                    </a:lnTo>
                    <a:lnTo>
                      <a:pt x="356" y="4837"/>
                    </a:lnTo>
                    <a:lnTo>
                      <a:pt x="326" y="5081"/>
                    </a:lnTo>
                    <a:lnTo>
                      <a:pt x="297" y="5325"/>
                    </a:lnTo>
                    <a:lnTo>
                      <a:pt x="266" y="5569"/>
                    </a:lnTo>
                    <a:lnTo>
                      <a:pt x="237" y="5812"/>
                    </a:lnTo>
                    <a:lnTo>
                      <a:pt x="207" y="6056"/>
                    </a:lnTo>
                    <a:lnTo>
                      <a:pt x="178" y="6301"/>
                    </a:lnTo>
                    <a:lnTo>
                      <a:pt x="148" y="6546"/>
                    </a:lnTo>
                    <a:lnTo>
                      <a:pt x="118" y="6791"/>
                    </a:lnTo>
                    <a:lnTo>
                      <a:pt x="88" y="7036"/>
                    </a:lnTo>
                    <a:lnTo>
                      <a:pt x="59" y="7281"/>
                    </a:lnTo>
                    <a:lnTo>
                      <a:pt x="30" y="7526"/>
                    </a:lnTo>
                    <a:lnTo>
                      <a:pt x="0" y="7771"/>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498080" y="2409480"/>
                <a:ext cx="458280" cy="2309040"/>
              </a:xfrm>
              <a:custGeom>
                <a:avLst/>
                <a:gdLst/>
                <a:ahLst/>
                <a:rect l="l" t="t" r="r" b="b"/>
                <a:pathLst>
                  <a:path w="1230" h="8420">
                    <a:moveTo>
                      <a:pt x="0" y="7771"/>
                    </a:moveTo>
                    <a:lnTo>
                      <a:pt x="35" y="7852"/>
                    </a:lnTo>
                    <a:lnTo>
                      <a:pt x="70" y="7932"/>
                    </a:lnTo>
                    <a:lnTo>
                      <a:pt x="104" y="8013"/>
                    </a:lnTo>
                    <a:lnTo>
                      <a:pt x="139" y="8095"/>
                    </a:lnTo>
                    <a:lnTo>
                      <a:pt x="175" y="8176"/>
                    </a:lnTo>
                    <a:lnTo>
                      <a:pt x="211" y="8257"/>
                    </a:lnTo>
                    <a:lnTo>
                      <a:pt x="246" y="8338"/>
                    </a:lnTo>
                    <a:lnTo>
                      <a:pt x="283" y="8420"/>
                    </a:lnTo>
                    <a:lnTo>
                      <a:pt x="312" y="8172"/>
                    </a:lnTo>
                    <a:lnTo>
                      <a:pt x="342" y="7926"/>
                    </a:lnTo>
                    <a:lnTo>
                      <a:pt x="371" y="7679"/>
                    </a:lnTo>
                    <a:lnTo>
                      <a:pt x="402" y="7432"/>
                    </a:lnTo>
                    <a:lnTo>
                      <a:pt x="432" y="7186"/>
                    </a:lnTo>
                    <a:lnTo>
                      <a:pt x="461" y="6940"/>
                    </a:lnTo>
                    <a:lnTo>
                      <a:pt x="491" y="6694"/>
                    </a:lnTo>
                    <a:lnTo>
                      <a:pt x="522" y="6448"/>
                    </a:lnTo>
                    <a:lnTo>
                      <a:pt x="551" y="6201"/>
                    </a:lnTo>
                    <a:lnTo>
                      <a:pt x="581" y="5956"/>
                    </a:lnTo>
                    <a:lnTo>
                      <a:pt x="610" y="5710"/>
                    </a:lnTo>
                    <a:lnTo>
                      <a:pt x="640" y="5465"/>
                    </a:lnTo>
                    <a:lnTo>
                      <a:pt x="670" y="5219"/>
                    </a:lnTo>
                    <a:lnTo>
                      <a:pt x="699" y="4974"/>
                    </a:lnTo>
                    <a:lnTo>
                      <a:pt x="729" y="4729"/>
                    </a:lnTo>
                    <a:lnTo>
                      <a:pt x="759" y="4484"/>
                    </a:lnTo>
                    <a:lnTo>
                      <a:pt x="789" y="4240"/>
                    </a:lnTo>
                    <a:lnTo>
                      <a:pt x="818" y="3997"/>
                    </a:lnTo>
                    <a:lnTo>
                      <a:pt x="847" y="3753"/>
                    </a:lnTo>
                    <a:lnTo>
                      <a:pt x="876" y="3509"/>
                    </a:lnTo>
                    <a:lnTo>
                      <a:pt x="906" y="3266"/>
                    </a:lnTo>
                    <a:lnTo>
                      <a:pt x="935" y="3022"/>
                    </a:lnTo>
                    <a:lnTo>
                      <a:pt x="964" y="2777"/>
                    </a:lnTo>
                    <a:lnTo>
                      <a:pt x="994" y="2533"/>
                    </a:lnTo>
                    <a:lnTo>
                      <a:pt x="1023" y="2291"/>
                    </a:lnTo>
                    <a:lnTo>
                      <a:pt x="1053" y="2047"/>
                    </a:lnTo>
                    <a:lnTo>
                      <a:pt x="1083" y="1804"/>
                    </a:lnTo>
                    <a:lnTo>
                      <a:pt x="1112" y="1562"/>
                    </a:lnTo>
                    <a:lnTo>
                      <a:pt x="1142" y="1319"/>
                    </a:lnTo>
                    <a:lnTo>
                      <a:pt x="1172" y="1077"/>
                    </a:lnTo>
                    <a:lnTo>
                      <a:pt x="1201" y="834"/>
                    </a:lnTo>
                    <a:lnTo>
                      <a:pt x="1230" y="592"/>
                    </a:lnTo>
                    <a:lnTo>
                      <a:pt x="1194" y="517"/>
                    </a:lnTo>
                    <a:lnTo>
                      <a:pt x="1159" y="443"/>
                    </a:lnTo>
                    <a:lnTo>
                      <a:pt x="1122" y="369"/>
                    </a:lnTo>
                    <a:lnTo>
                      <a:pt x="1086" y="294"/>
                    </a:lnTo>
                    <a:lnTo>
                      <a:pt x="1051" y="220"/>
                    </a:lnTo>
                    <a:lnTo>
                      <a:pt x="1015" y="148"/>
                    </a:lnTo>
                    <a:lnTo>
                      <a:pt x="980" y="74"/>
                    </a:lnTo>
                    <a:lnTo>
                      <a:pt x="945" y="0"/>
                    </a:lnTo>
                    <a:lnTo>
                      <a:pt x="916" y="241"/>
                    </a:lnTo>
                    <a:lnTo>
                      <a:pt x="886" y="481"/>
                    </a:lnTo>
                    <a:lnTo>
                      <a:pt x="857" y="722"/>
                    </a:lnTo>
                    <a:lnTo>
                      <a:pt x="827" y="964"/>
                    </a:lnTo>
                    <a:lnTo>
                      <a:pt x="798" y="1205"/>
                    </a:lnTo>
                    <a:lnTo>
                      <a:pt x="768" y="1446"/>
                    </a:lnTo>
                    <a:lnTo>
                      <a:pt x="738" y="1688"/>
                    </a:lnTo>
                    <a:lnTo>
                      <a:pt x="709" y="1929"/>
                    </a:lnTo>
                    <a:lnTo>
                      <a:pt x="680" y="2170"/>
                    </a:lnTo>
                    <a:lnTo>
                      <a:pt x="651" y="2413"/>
                    </a:lnTo>
                    <a:lnTo>
                      <a:pt x="621" y="2654"/>
                    </a:lnTo>
                    <a:lnTo>
                      <a:pt x="592" y="2896"/>
                    </a:lnTo>
                    <a:lnTo>
                      <a:pt x="562" y="3139"/>
                    </a:lnTo>
                    <a:lnTo>
                      <a:pt x="533" y="3381"/>
                    </a:lnTo>
                    <a:lnTo>
                      <a:pt x="503" y="3624"/>
                    </a:lnTo>
                    <a:lnTo>
                      <a:pt x="474" y="3866"/>
                    </a:lnTo>
                    <a:lnTo>
                      <a:pt x="444" y="4109"/>
                    </a:lnTo>
                    <a:lnTo>
                      <a:pt x="415" y="4351"/>
                    </a:lnTo>
                    <a:lnTo>
                      <a:pt x="385" y="4595"/>
                    </a:lnTo>
                    <a:lnTo>
                      <a:pt x="356" y="4837"/>
                    </a:lnTo>
                    <a:lnTo>
                      <a:pt x="326" y="5081"/>
                    </a:lnTo>
                    <a:lnTo>
                      <a:pt x="297" y="5325"/>
                    </a:lnTo>
                    <a:lnTo>
                      <a:pt x="266" y="5569"/>
                    </a:lnTo>
                    <a:lnTo>
                      <a:pt x="237" y="5812"/>
                    </a:lnTo>
                    <a:lnTo>
                      <a:pt x="207" y="6056"/>
                    </a:lnTo>
                    <a:lnTo>
                      <a:pt x="178" y="6301"/>
                    </a:lnTo>
                    <a:lnTo>
                      <a:pt x="148" y="6546"/>
                    </a:lnTo>
                    <a:lnTo>
                      <a:pt x="118" y="6791"/>
                    </a:lnTo>
                    <a:lnTo>
                      <a:pt x="88" y="7036"/>
                    </a:lnTo>
                    <a:lnTo>
                      <a:pt x="59" y="7281"/>
                    </a:lnTo>
                    <a:lnTo>
                      <a:pt x="30" y="7526"/>
                    </a:lnTo>
                    <a:lnTo>
                      <a:pt x="0" y="7771"/>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008560" y="2398680"/>
                <a:ext cx="496800" cy="2558880"/>
              </a:xfrm>
              <a:custGeom>
                <a:avLst/>
                <a:gdLst/>
                <a:ahLst/>
                <a:rect l="l" t="t" r="r" b="b"/>
                <a:pathLst>
                  <a:path w="1334" h="9329">
                    <a:moveTo>
                      <a:pt x="1034" y="0"/>
                    </a:moveTo>
                    <a:lnTo>
                      <a:pt x="1071" y="75"/>
                    </a:lnTo>
                    <a:lnTo>
                      <a:pt x="1108" y="150"/>
                    </a:lnTo>
                    <a:lnTo>
                      <a:pt x="1145" y="226"/>
                    </a:lnTo>
                    <a:lnTo>
                      <a:pt x="1183" y="301"/>
                    </a:lnTo>
                    <a:lnTo>
                      <a:pt x="1221" y="376"/>
                    </a:lnTo>
                    <a:lnTo>
                      <a:pt x="1258" y="453"/>
                    </a:lnTo>
                    <a:lnTo>
                      <a:pt x="1297" y="528"/>
                    </a:lnTo>
                    <a:lnTo>
                      <a:pt x="1334" y="603"/>
                    </a:lnTo>
                    <a:lnTo>
                      <a:pt x="1302" y="874"/>
                    </a:lnTo>
                    <a:lnTo>
                      <a:pt x="1269" y="1143"/>
                    </a:lnTo>
                    <a:lnTo>
                      <a:pt x="1237" y="1414"/>
                    </a:lnTo>
                    <a:lnTo>
                      <a:pt x="1205" y="1685"/>
                    </a:lnTo>
                    <a:lnTo>
                      <a:pt x="1173" y="1956"/>
                    </a:lnTo>
                    <a:lnTo>
                      <a:pt x="1140" y="2226"/>
                    </a:lnTo>
                    <a:lnTo>
                      <a:pt x="1108" y="2496"/>
                    </a:lnTo>
                    <a:lnTo>
                      <a:pt x="1076" y="2767"/>
                    </a:lnTo>
                    <a:lnTo>
                      <a:pt x="1044" y="3039"/>
                    </a:lnTo>
                    <a:lnTo>
                      <a:pt x="1011" y="3311"/>
                    </a:lnTo>
                    <a:lnTo>
                      <a:pt x="979" y="3582"/>
                    </a:lnTo>
                    <a:lnTo>
                      <a:pt x="947" y="3854"/>
                    </a:lnTo>
                    <a:lnTo>
                      <a:pt x="914" y="4125"/>
                    </a:lnTo>
                    <a:lnTo>
                      <a:pt x="882" y="4397"/>
                    </a:lnTo>
                    <a:lnTo>
                      <a:pt x="850" y="4667"/>
                    </a:lnTo>
                    <a:lnTo>
                      <a:pt x="818" y="4940"/>
                    </a:lnTo>
                    <a:lnTo>
                      <a:pt x="785" y="5212"/>
                    </a:lnTo>
                    <a:lnTo>
                      <a:pt x="753" y="5485"/>
                    </a:lnTo>
                    <a:lnTo>
                      <a:pt x="721" y="5758"/>
                    </a:lnTo>
                    <a:lnTo>
                      <a:pt x="688" y="6031"/>
                    </a:lnTo>
                    <a:lnTo>
                      <a:pt x="655" y="6305"/>
                    </a:lnTo>
                    <a:lnTo>
                      <a:pt x="623" y="6579"/>
                    </a:lnTo>
                    <a:lnTo>
                      <a:pt x="590" y="6852"/>
                    </a:lnTo>
                    <a:lnTo>
                      <a:pt x="557" y="7126"/>
                    </a:lnTo>
                    <a:lnTo>
                      <a:pt x="524" y="7401"/>
                    </a:lnTo>
                    <a:lnTo>
                      <a:pt x="491" y="7676"/>
                    </a:lnTo>
                    <a:lnTo>
                      <a:pt x="459" y="7952"/>
                    </a:lnTo>
                    <a:lnTo>
                      <a:pt x="426" y="8226"/>
                    </a:lnTo>
                    <a:lnTo>
                      <a:pt x="393" y="8502"/>
                    </a:lnTo>
                    <a:lnTo>
                      <a:pt x="360" y="8778"/>
                    </a:lnTo>
                    <a:lnTo>
                      <a:pt x="328" y="9053"/>
                    </a:lnTo>
                    <a:lnTo>
                      <a:pt x="295" y="9329"/>
                    </a:lnTo>
                    <a:lnTo>
                      <a:pt x="257" y="9245"/>
                    </a:lnTo>
                    <a:lnTo>
                      <a:pt x="220" y="9160"/>
                    </a:lnTo>
                    <a:lnTo>
                      <a:pt x="183" y="9077"/>
                    </a:lnTo>
                    <a:lnTo>
                      <a:pt x="145" y="8993"/>
                    </a:lnTo>
                    <a:lnTo>
                      <a:pt x="109" y="8909"/>
                    </a:lnTo>
                    <a:lnTo>
                      <a:pt x="73" y="8826"/>
                    </a:lnTo>
                    <a:lnTo>
                      <a:pt x="37" y="8742"/>
                    </a:lnTo>
                    <a:lnTo>
                      <a:pt x="0" y="8658"/>
                    </a:lnTo>
                    <a:lnTo>
                      <a:pt x="31" y="8385"/>
                    </a:lnTo>
                    <a:lnTo>
                      <a:pt x="64" y="8112"/>
                    </a:lnTo>
                    <a:lnTo>
                      <a:pt x="96" y="7838"/>
                    </a:lnTo>
                    <a:lnTo>
                      <a:pt x="129" y="7565"/>
                    </a:lnTo>
                    <a:lnTo>
                      <a:pt x="162" y="7292"/>
                    </a:lnTo>
                    <a:lnTo>
                      <a:pt x="195" y="7020"/>
                    </a:lnTo>
                    <a:lnTo>
                      <a:pt x="227" y="6747"/>
                    </a:lnTo>
                    <a:lnTo>
                      <a:pt x="260" y="6474"/>
                    </a:lnTo>
                    <a:lnTo>
                      <a:pt x="293" y="6202"/>
                    </a:lnTo>
                    <a:lnTo>
                      <a:pt x="325" y="5932"/>
                    </a:lnTo>
                    <a:lnTo>
                      <a:pt x="357" y="5660"/>
                    </a:lnTo>
                    <a:lnTo>
                      <a:pt x="389" y="5389"/>
                    </a:lnTo>
                    <a:lnTo>
                      <a:pt x="422" y="5117"/>
                    </a:lnTo>
                    <a:lnTo>
                      <a:pt x="454" y="4846"/>
                    </a:lnTo>
                    <a:lnTo>
                      <a:pt x="486" y="4575"/>
                    </a:lnTo>
                    <a:lnTo>
                      <a:pt x="518" y="4304"/>
                    </a:lnTo>
                    <a:lnTo>
                      <a:pt x="551" y="4035"/>
                    </a:lnTo>
                    <a:lnTo>
                      <a:pt x="583" y="3765"/>
                    </a:lnTo>
                    <a:lnTo>
                      <a:pt x="615" y="3494"/>
                    </a:lnTo>
                    <a:lnTo>
                      <a:pt x="646" y="3225"/>
                    </a:lnTo>
                    <a:lnTo>
                      <a:pt x="679" y="2955"/>
                    </a:lnTo>
                    <a:lnTo>
                      <a:pt x="711" y="2686"/>
                    </a:lnTo>
                    <a:lnTo>
                      <a:pt x="743" y="2416"/>
                    </a:lnTo>
                    <a:lnTo>
                      <a:pt x="775" y="2146"/>
                    </a:lnTo>
                    <a:lnTo>
                      <a:pt x="808" y="1878"/>
                    </a:lnTo>
                    <a:lnTo>
                      <a:pt x="840" y="1610"/>
                    </a:lnTo>
                    <a:lnTo>
                      <a:pt x="872" y="1340"/>
                    </a:lnTo>
                    <a:lnTo>
                      <a:pt x="904" y="1072"/>
                    </a:lnTo>
                    <a:lnTo>
                      <a:pt x="937" y="804"/>
                    </a:lnTo>
                    <a:lnTo>
                      <a:pt x="969" y="535"/>
                    </a:lnTo>
                    <a:lnTo>
                      <a:pt x="1001" y="267"/>
                    </a:lnTo>
                    <a:lnTo>
                      <a:pt x="1034" y="0"/>
                    </a:lnTo>
                    <a:close/>
                  </a:path>
                </a:pathLst>
              </a:custGeom>
              <a:solidFill>
                <a:srgbClr val="7f7e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008560" y="2398680"/>
                <a:ext cx="496800" cy="2558880"/>
              </a:xfrm>
              <a:custGeom>
                <a:avLst/>
                <a:gdLst/>
                <a:ahLst/>
                <a:rect l="l" t="t" r="r" b="b"/>
                <a:pathLst>
                  <a:path w="1334" h="9329">
                    <a:moveTo>
                      <a:pt x="1034" y="0"/>
                    </a:moveTo>
                    <a:lnTo>
                      <a:pt x="1071" y="75"/>
                    </a:lnTo>
                    <a:lnTo>
                      <a:pt x="1108" y="150"/>
                    </a:lnTo>
                    <a:lnTo>
                      <a:pt x="1145" y="226"/>
                    </a:lnTo>
                    <a:lnTo>
                      <a:pt x="1183" y="301"/>
                    </a:lnTo>
                    <a:lnTo>
                      <a:pt x="1221" y="376"/>
                    </a:lnTo>
                    <a:lnTo>
                      <a:pt x="1258" y="453"/>
                    </a:lnTo>
                    <a:lnTo>
                      <a:pt x="1297" y="528"/>
                    </a:lnTo>
                    <a:lnTo>
                      <a:pt x="1334" y="603"/>
                    </a:lnTo>
                    <a:lnTo>
                      <a:pt x="1302" y="874"/>
                    </a:lnTo>
                    <a:lnTo>
                      <a:pt x="1269" y="1143"/>
                    </a:lnTo>
                    <a:lnTo>
                      <a:pt x="1237" y="1414"/>
                    </a:lnTo>
                    <a:lnTo>
                      <a:pt x="1205" y="1685"/>
                    </a:lnTo>
                    <a:lnTo>
                      <a:pt x="1173" y="1956"/>
                    </a:lnTo>
                    <a:lnTo>
                      <a:pt x="1140" y="2226"/>
                    </a:lnTo>
                    <a:lnTo>
                      <a:pt x="1108" y="2496"/>
                    </a:lnTo>
                    <a:lnTo>
                      <a:pt x="1076" y="2767"/>
                    </a:lnTo>
                    <a:lnTo>
                      <a:pt x="1044" y="3039"/>
                    </a:lnTo>
                    <a:lnTo>
                      <a:pt x="1011" y="3311"/>
                    </a:lnTo>
                    <a:lnTo>
                      <a:pt x="979" y="3582"/>
                    </a:lnTo>
                    <a:lnTo>
                      <a:pt x="947" y="3854"/>
                    </a:lnTo>
                    <a:lnTo>
                      <a:pt x="914" y="4125"/>
                    </a:lnTo>
                    <a:lnTo>
                      <a:pt x="882" y="4397"/>
                    </a:lnTo>
                    <a:lnTo>
                      <a:pt x="850" y="4667"/>
                    </a:lnTo>
                    <a:lnTo>
                      <a:pt x="818" y="4940"/>
                    </a:lnTo>
                    <a:lnTo>
                      <a:pt x="785" y="5212"/>
                    </a:lnTo>
                    <a:lnTo>
                      <a:pt x="753" y="5485"/>
                    </a:lnTo>
                    <a:lnTo>
                      <a:pt x="721" y="5758"/>
                    </a:lnTo>
                    <a:lnTo>
                      <a:pt x="688" y="6031"/>
                    </a:lnTo>
                    <a:lnTo>
                      <a:pt x="655" y="6305"/>
                    </a:lnTo>
                    <a:lnTo>
                      <a:pt x="623" y="6579"/>
                    </a:lnTo>
                    <a:lnTo>
                      <a:pt x="590" y="6852"/>
                    </a:lnTo>
                    <a:lnTo>
                      <a:pt x="557" y="7126"/>
                    </a:lnTo>
                    <a:lnTo>
                      <a:pt x="524" y="7401"/>
                    </a:lnTo>
                    <a:lnTo>
                      <a:pt x="491" y="7676"/>
                    </a:lnTo>
                    <a:lnTo>
                      <a:pt x="459" y="7952"/>
                    </a:lnTo>
                    <a:lnTo>
                      <a:pt x="426" y="8226"/>
                    </a:lnTo>
                    <a:lnTo>
                      <a:pt x="393" y="8502"/>
                    </a:lnTo>
                    <a:lnTo>
                      <a:pt x="360" y="8778"/>
                    </a:lnTo>
                    <a:lnTo>
                      <a:pt x="328" y="9053"/>
                    </a:lnTo>
                    <a:lnTo>
                      <a:pt x="295" y="9329"/>
                    </a:lnTo>
                    <a:lnTo>
                      <a:pt x="257" y="9245"/>
                    </a:lnTo>
                    <a:lnTo>
                      <a:pt x="220" y="9160"/>
                    </a:lnTo>
                    <a:lnTo>
                      <a:pt x="183" y="9077"/>
                    </a:lnTo>
                    <a:lnTo>
                      <a:pt x="145" y="8993"/>
                    </a:lnTo>
                    <a:lnTo>
                      <a:pt x="109" y="8909"/>
                    </a:lnTo>
                    <a:lnTo>
                      <a:pt x="73" y="8826"/>
                    </a:lnTo>
                    <a:lnTo>
                      <a:pt x="37" y="8742"/>
                    </a:lnTo>
                    <a:lnTo>
                      <a:pt x="0" y="8658"/>
                    </a:lnTo>
                    <a:lnTo>
                      <a:pt x="31" y="8385"/>
                    </a:lnTo>
                    <a:lnTo>
                      <a:pt x="64" y="8112"/>
                    </a:lnTo>
                    <a:lnTo>
                      <a:pt x="96" y="7838"/>
                    </a:lnTo>
                    <a:lnTo>
                      <a:pt x="129" y="7565"/>
                    </a:lnTo>
                    <a:lnTo>
                      <a:pt x="162" y="7292"/>
                    </a:lnTo>
                    <a:lnTo>
                      <a:pt x="195" y="7020"/>
                    </a:lnTo>
                    <a:lnTo>
                      <a:pt x="227" y="6747"/>
                    </a:lnTo>
                    <a:lnTo>
                      <a:pt x="260" y="6474"/>
                    </a:lnTo>
                    <a:lnTo>
                      <a:pt x="293" y="6202"/>
                    </a:lnTo>
                    <a:lnTo>
                      <a:pt x="325" y="5932"/>
                    </a:lnTo>
                    <a:lnTo>
                      <a:pt x="357" y="5660"/>
                    </a:lnTo>
                    <a:lnTo>
                      <a:pt x="389" y="5389"/>
                    </a:lnTo>
                    <a:lnTo>
                      <a:pt x="422" y="5117"/>
                    </a:lnTo>
                    <a:lnTo>
                      <a:pt x="454" y="4846"/>
                    </a:lnTo>
                    <a:lnTo>
                      <a:pt x="486" y="4575"/>
                    </a:lnTo>
                    <a:lnTo>
                      <a:pt x="518" y="4304"/>
                    </a:lnTo>
                    <a:lnTo>
                      <a:pt x="551" y="4035"/>
                    </a:lnTo>
                    <a:lnTo>
                      <a:pt x="583" y="3765"/>
                    </a:lnTo>
                    <a:lnTo>
                      <a:pt x="615" y="3494"/>
                    </a:lnTo>
                    <a:lnTo>
                      <a:pt x="646" y="3225"/>
                    </a:lnTo>
                    <a:lnTo>
                      <a:pt x="679" y="2955"/>
                    </a:lnTo>
                    <a:lnTo>
                      <a:pt x="711" y="2686"/>
                    </a:lnTo>
                    <a:lnTo>
                      <a:pt x="743" y="2416"/>
                    </a:lnTo>
                    <a:lnTo>
                      <a:pt x="775" y="2146"/>
                    </a:lnTo>
                    <a:lnTo>
                      <a:pt x="808" y="1878"/>
                    </a:lnTo>
                    <a:lnTo>
                      <a:pt x="840" y="1610"/>
                    </a:lnTo>
                    <a:lnTo>
                      <a:pt x="872" y="1340"/>
                    </a:lnTo>
                    <a:lnTo>
                      <a:pt x="904" y="1072"/>
                    </a:lnTo>
                    <a:lnTo>
                      <a:pt x="937" y="804"/>
                    </a:lnTo>
                    <a:lnTo>
                      <a:pt x="969" y="535"/>
                    </a:lnTo>
                    <a:lnTo>
                      <a:pt x="1001" y="267"/>
                    </a:lnTo>
                    <a:lnTo>
                      <a:pt x="1034"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396560" y="4613040"/>
                <a:ext cx="722160" cy="344160"/>
              </a:xfrm>
              <a:custGeom>
                <a:avLst/>
                <a:gdLst/>
                <a:ahLst/>
                <a:rect l="l" t="t" r="r" b="b"/>
                <a:pathLst>
                  <a:path w="1937" h="1253">
                    <a:moveTo>
                      <a:pt x="1642" y="582"/>
                    </a:moveTo>
                    <a:lnTo>
                      <a:pt x="1679" y="666"/>
                    </a:lnTo>
                    <a:lnTo>
                      <a:pt x="1715" y="750"/>
                    </a:lnTo>
                    <a:lnTo>
                      <a:pt x="1751" y="833"/>
                    </a:lnTo>
                    <a:lnTo>
                      <a:pt x="1787" y="917"/>
                    </a:lnTo>
                    <a:lnTo>
                      <a:pt x="1825" y="1001"/>
                    </a:lnTo>
                    <a:lnTo>
                      <a:pt x="1862" y="1084"/>
                    </a:lnTo>
                    <a:lnTo>
                      <a:pt x="1899" y="1169"/>
                    </a:lnTo>
                    <a:lnTo>
                      <a:pt x="1937" y="1253"/>
                    </a:lnTo>
                    <a:lnTo>
                      <a:pt x="1726" y="1177"/>
                    </a:lnTo>
                    <a:lnTo>
                      <a:pt x="1517" y="1100"/>
                    </a:lnTo>
                    <a:lnTo>
                      <a:pt x="1309" y="1024"/>
                    </a:lnTo>
                    <a:lnTo>
                      <a:pt x="1100" y="949"/>
                    </a:lnTo>
                    <a:lnTo>
                      <a:pt x="893" y="874"/>
                    </a:lnTo>
                    <a:lnTo>
                      <a:pt x="688" y="799"/>
                    </a:lnTo>
                    <a:lnTo>
                      <a:pt x="483" y="725"/>
                    </a:lnTo>
                    <a:lnTo>
                      <a:pt x="280" y="651"/>
                    </a:lnTo>
                    <a:lnTo>
                      <a:pt x="244" y="570"/>
                    </a:lnTo>
                    <a:lnTo>
                      <a:pt x="209" y="487"/>
                    </a:lnTo>
                    <a:lnTo>
                      <a:pt x="174" y="406"/>
                    </a:lnTo>
                    <a:lnTo>
                      <a:pt x="138" y="325"/>
                    </a:lnTo>
                    <a:lnTo>
                      <a:pt x="104" y="244"/>
                    </a:lnTo>
                    <a:lnTo>
                      <a:pt x="69" y="162"/>
                    </a:lnTo>
                    <a:lnTo>
                      <a:pt x="34" y="81"/>
                    </a:lnTo>
                    <a:lnTo>
                      <a:pt x="0" y="0"/>
                    </a:lnTo>
                    <a:lnTo>
                      <a:pt x="202" y="71"/>
                    </a:lnTo>
                    <a:lnTo>
                      <a:pt x="404" y="143"/>
                    </a:lnTo>
                    <a:lnTo>
                      <a:pt x="608" y="215"/>
                    </a:lnTo>
                    <a:lnTo>
                      <a:pt x="813" y="288"/>
                    </a:lnTo>
                    <a:lnTo>
                      <a:pt x="1018" y="362"/>
                    </a:lnTo>
                    <a:lnTo>
                      <a:pt x="1225" y="434"/>
                    </a:lnTo>
                    <a:lnTo>
                      <a:pt x="1433" y="508"/>
                    </a:lnTo>
                    <a:lnTo>
                      <a:pt x="1642" y="5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396560" y="4613040"/>
                <a:ext cx="722160" cy="344160"/>
              </a:xfrm>
              <a:custGeom>
                <a:avLst/>
                <a:gdLst/>
                <a:ahLst/>
                <a:rect l="l" t="t" r="r" b="b"/>
                <a:pathLst>
                  <a:path w="1937" h="1253">
                    <a:moveTo>
                      <a:pt x="1642" y="582"/>
                    </a:moveTo>
                    <a:lnTo>
                      <a:pt x="1679" y="666"/>
                    </a:lnTo>
                    <a:lnTo>
                      <a:pt x="1715" y="750"/>
                    </a:lnTo>
                    <a:lnTo>
                      <a:pt x="1751" y="833"/>
                    </a:lnTo>
                    <a:lnTo>
                      <a:pt x="1787" y="917"/>
                    </a:lnTo>
                    <a:lnTo>
                      <a:pt x="1825" y="1001"/>
                    </a:lnTo>
                    <a:lnTo>
                      <a:pt x="1862" y="1084"/>
                    </a:lnTo>
                    <a:lnTo>
                      <a:pt x="1899" y="1169"/>
                    </a:lnTo>
                    <a:lnTo>
                      <a:pt x="1937" y="1253"/>
                    </a:lnTo>
                    <a:lnTo>
                      <a:pt x="1726" y="1177"/>
                    </a:lnTo>
                    <a:lnTo>
                      <a:pt x="1517" y="1100"/>
                    </a:lnTo>
                    <a:lnTo>
                      <a:pt x="1309" y="1024"/>
                    </a:lnTo>
                    <a:lnTo>
                      <a:pt x="1100" y="949"/>
                    </a:lnTo>
                    <a:lnTo>
                      <a:pt x="893" y="874"/>
                    </a:lnTo>
                    <a:lnTo>
                      <a:pt x="688" y="799"/>
                    </a:lnTo>
                    <a:lnTo>
                      <a:pt x="483" y="725"/>
                    </a:lnTo>
                    <a:lnTo>
                      <a:pt x="280" y="651"/>
                    </a:lnTo>
                    <a:lnTo>
                      <a:pt x="244" y="570"/>
                    </a:lnTo>
                    <a:lnTo>
                      <a:pt x="209" y="487"/>
                    </a:lnTo>
                    <a:lnTo>
                      <a:pt x="174" y="406"/>
                    </a:lnTo>
                    <a:lnTo>
                      <a:pt x="138" y="325"/>
                    </a:lnTo>
                    <a:lnTo>
                      <a:pt x="104" y="244"/>
                    </a:lnTo>
                    <a:lnTo>
                      <a:pt x="69" y="162"/>
                    </a:lnTo>
                    <a:lnTo>
                      <a:pt x="34" y="81"/>
                    </a:lnTo>
                    <a:lnTo>
                      <a:pt x="0" y="0"/>
                    </a:lnTo>
                    <a:lnTo>
                      <a:pt x="202" y="71"/>
                    </a:lnTo>
                    <a:lnTo>
                      <a:pt x="404" y="143"/>
                    </a:lnTo>
                    <a:lnTo>
                      <a:pt x="608" y="215"/>
                    </a:lnTo>
                    <a:lnTo>
                      <a:pt x="813" y="288"/>
                    </a:lnTo>
                    <a:lnTo>
                      <a:pt x="1018" y="362"/>
                    </a:lnTo>
                    <a:lnTo>
                      <a:pt x="1225" y="434"/>
                    </a:lnTo>
                    <a:lnTo>
                      <a:pt x="1433" y="508"/>
                    </a:lnTo>
                    <a:lnTo>
                      <a:pt x="1642" y="582"/>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396560" y="2301120"/>
                <a:ext cx="998280" cy="2472120"/>
              </a:xfrm>
              <a:custGeom>
                <a:avLst/>
                <a:gdLst/>
                <a:ahLst/>
                <a:rect l="l" t="t" r="r" b="b"/>
                <a:pathLst>
                  <a:path w="2676" h="9013">
                    <a:moveTo>
                      <a:pt x="1029" y="0"/>
                    </a:moveTo>
                    <a:lnTo>
                      <a:pt x="1231" y="43"/>
                    </a:lnTo>
                    <a:lnTo>
                      <a:pt x="1435" y="88"/>
                    </a:lnTo>
                    <a:lnTo>
                      <a:pt x="1638" y="131"/>
                    </a:lnTo>
                    <a:lnTo>
                      <a:pt x="1844" y="175"/>
                    </a:lnTo>
                    <a:lnTo>
                      <a:pt x="2049" y="219"/>
                    </a:lnTo>
                    <a:lnTo>
                      <a:pt x="2257" y="264"/>
                    </a:lnTo>
                    <a:lnTo>
                      <a:pt x="2466" y="309"/>
                    </a:lnTo>
                    <a:lnTo>
                      <a:pt x="2676" y="355"/>
                    </a:lnTo>
                    <a:lnTo>
                      <a:pt x="2643" y="622"/>
                    </a:lnTo>
                    <a:lnTo>
                      <a:pt x="2611" y="890"/>
                    </a:lnTo>
                    <a:lnTo>
                      <a:pt x="2579" y="1159"/>
                    </a:lnTo>
                    <a:lnTo>
                      <a:pt x="2546" y="1427"/>
                    </a:lnTo>
                    <a:lnTo>
                      <a:pt x="2514" y="1695"/>
                    </a:lnTo>
                    <a:lnTo>
                      <a:pt x="2482" y="1965"/>
                    </a:lnTo>
                    <a:lnTo>
                      <a:pt x="2450" y="2233"/>
                    </a:lnTo>
                    <a:lnTo>
                      <a:pt x="2417" y="2501"/>
                    </a:lnTo>
                    <a:lnTo>
                      <a:pt x="2385" y="2771"/>
                    </a:lnTo>
                    <a:lnTo>
                      <a:pt x="2353" y="3041"/>
                    </a:lnTo>
                    <a:lnTo>
                      <a:pt x="2321" y="3310"/>
                    </a:lnTo>
                    <a:lnTo>
                      <a:pt x="2288" y="3580"/>
                    </a:lnTo>
                    <a:lnTo>
                      <a:pt x="2257" y="3849"/>
                    </a:lnTo>
                    <a:lnTo>
                      <a:pt x="2225" y="4120"/>
                    </a:lnTo>
                    <a:lnTo>
                      <a:pt x="2193" y="4390"/>
                    </a:lnTo>
                    <a:lnTo>
                      <a:pt x="2160" y="4659"/>
                    </a:lnTo>
                    <a:lnTo>
                      <a:pt x="2128" y="4930"/>
                    </a:lnTo>
                    <a:lnTo>
                      <a:pt x="2096" y="5201"/>
                    </a:lnTo>
                    <a:lnTo>
                      <a:pt x="2064" y="5472"/>
                    </a:lnTo>
                    <a:lnTo>
                      <a:pt x="2031" y="5744"/>
                    </a:lnTo>
                    <a:lnTo>
                      <a:pt x="1999" y="6015"/>
                    </a:lnTo>
                    <a:lnTo>
                      <a:pt x="1967" y="6287"/>
                    </a:lnTo>
                    <a:lnTo>
                      <a:pt x="1935" y="6557"/>
                    </a:lnTo>
                    <a:lnTo>
                      <a:pt x="1902" y="6829"/>
                    </a:lnTo>
                    <a:lnTo>
                      <a:pt x="1869" y="7102"/>
                    </a:lnTo>
                    <a:lnTo>
                      <a:pt x="1837" y="7375"/>
                    </a:lnTo>
                    <a:lnTo>
                      <a:pt x="1804" y="7647"/>
                    </a:lnTo>
                    <a:lnTo>
                      <a:pt x="1771" y="7920"/>
                    </a:lnTo>
                    <a:lnTo>
                      <a:pt x="1738" y="8193"/>
                    </a:lnTo>
                    <a:lnTo>
                      <a:pt x="1706" y="8467"/>
                    </a:lnTo>
                    <a:lnTo>
                      <a:pt x="1673" y="8740"/>
                    </a:lnTo>
                    <a:lnTo>
                      <a:pt x="1642" y="9013"/>
                    </a:lnTo>
                    <a:lnTo>
                      <a:pt x="1433" y="8939"/>
                    </a:lnTo>
                    <a:lnTo>
                      <a:pt x="1225" y="8865"/>
                    </a:lnTo>
                    <a:lnTo>
                      <a:pt x="1018" y="8793"/>
                    </a:lnTo>
                    <a:lnTo>
                      <a:pt x="813" y="8719"/>
                    </a:lnTo>
                    <a:lnTo>
                      <a:pt x="608" y="8646"/>
                    </a:lnTo>
                    <a:lnTo>
                      <a:pt x="404" y="8574"/>
                    </a:lnTo>
                    <a:lnTo>
                      <a:pt x="202" y="8502"/>
                    </a:lnTo>
                    <a:lnTo>
                      <a:pt x="0" y="8431"/>
                    </a:lnTo>
                    <a:lnTo>
                      <a:pt x="32" y="8165"/>
                    </a:lnTo>
                    <a:lnTo>
                      <a:pt x="64" y="7899"/>
                    </a:lnTo>
                    <a:lnTo>
                      <a:pt x="96" y="7633"/>
                    </a:lnTo>
                    <a:lnTo>
                      <a:pt x="129" y="7367"/>
                    </a:lnTo>
                    <a:lnTo>
                      <a:pt x="161" y="7102"/>
                    </a:lnTo>
                    <a:lnTo>
                      <a:pt x="194" y="6836"/>
                    </a:lnTo>
                    <a:lnTo>
                      <a:pt x="227" y="6571"/>
                    </a:lnTo>
                    <a:lnTo>
                      <a:pt x="259" y="6305"/>
                    </a:lnTo>
                    <a:lnTo>
                      <a:pt x="292" y="6040"/>
                    </a:lnTo>
                    <a:lnTo>
                      <a:pt x="324" y="5777"/>
                    </a:lnTo>
                    <a:lnTo>
                      <a:pt x="356" y="5512"/>
                    </a:lnTo>
                    <a:lnTo>
                      <a:pt x="388" y="5248"/>
                    </a:lnTo>
                    <a:lnTo>
                      <a:pt x="421" y="4983"/>
                    </a:lnTo>
                    <a:lnTo>
                      <a:pt x="452" y="4720"/>
                    </a:lnTo>
                    <a:lnTo>
                      <a:pt x="484" y="4456"/>
                    </a:lnTo>
                    <a:lnTo>
                      <a:pt x="516" y="4193"/>
                    </a:lnTo>
                    <a:lnTo>
                      <a:pt x="549" y="3929"/>
                    </a:lnTo>
                    <a:lnTo>
                      <a:pt x="581" y="3667"/>
                    </a:lnTo>
                    <a:lnTo>
                      <a:pt x="612" y="3404"/>
                    </a:lnTo>
                    <a:lnTo>
                      <a:pt x="644" y="3142"/>
                    </a:lnTo>
                    <a:lnTo>
                      <a:pt x="676" y="2878"/>
                    </a:lnTo>
                    <a:lnTo>
                      <a:pt x="707" y="2616"/>
                    </a:lnTo>
                    <a:lnTo>
                      <a:pt x="739" y="2354"/>
                    </a:lnTo>
                    <a:lnTo>
                      <a:pt x="771" y="2092"/>
                    </a:lnTo>
                    <a:lnTo>
                      <a:pt x="804" y="1831"/>
                    </a:lnTo>
                    <a:lnTo>
                      <a:pt x="836" y="1568"/>
                    </a:lnTo>
                    <a:lnTo>
                      <a:pt x="867" y="1307"/>
                    </a:lnTo>
                    <a:lnTo>
                      <a:pt x="899" y="1045"/>
                    </a:lnTo>
                    <a:lnTo>
                      <a:pt x="932" y="784"/>
                    </a:lnTo>
                    <a:lnTo>
                      <a:pt x="964" y="523"/>
                    </a:lnTo>
                    <a:lnTo>
                      <a:pt x="996" y="261"/>
                    </a:lnTo>
                    <a:lnTo>
                      <a:pt x="1029" y="0"/>
                    </a:lnTo>
                    <a:close/>
                    <a:moveTo>
                      <a:pt x="1217" y="393"/>
                    </a:moveTo>
                    <a:lnTo>
                      <a:pt x="1362" y="425"/>
                    </a:lnTo>
                    <a:lnTo>
                      <a:pt x="1508" y="457"/>
                    </a:lnTo>
                    <a:lnTo>
                      <a:pt x="1653" y="489"/>
                    </a:lnTo>
                    <a:lnTo>
                      <a:pt x="1800" y="521"/>
                    </a:lnTo>
                    <a:lnTo>
                      <a:pt x="1947" y="554"/>
                    </a:lnTo>
                    <a:lnTo>
                      <a:pt x="2095" y="586"/>
                    </a:lnTo>
                    <a:lnTo>
                      <a:pt x="2243" y="618"/>
                    </a:lnTo>
                    <a:lnTo>
                      <a:pt x="2392" y="651"/>
                    </a:lnTo>
                    <a:lnTo>
                      <a:pt x="2363" y="896"/>
                    </a:lnTo>
                    <a:lnTo>
                      <a:pt x="2333" y="1143"/>
                    </a:lnTo>
                    <a:lnTo>
                      <a:pt x="2303" y="1387"/>
                    </a:lnTo>
                    <a:lnTo>
                      <a:pt x="2273" y="1634"/>
                    </a:lnTo>
                    <a:lnTo>
                      <a:pt x="2244" y="1880"/>
                    </a:lnTo>
                    <a:lnTo>
                      <a:pt x="2214" y="2125"/>
                    </a:lnTo>
                    <a:lnTo>
                      <a:pt x="2185" y="2371"/>
                    </a:lnTo>
                    <a:lnTo>
                      <a:pt x="2154" y="2617"/>
                    </a:lnTo>
                    <a:lnTo>
                      <a:pt x="2125" y="2863"/>
                    </a:lnTo>
                    <a:lnTo>
                      <a:pt x="2095" y="3111"/>
                    </a:lnTo>
                    <a:lnTo>
                      <a:pt x="2066" y="3357"/>
                    </a:lnTo>
                    <a:lnTo>
                      <a:pt x="2036" y="3604"/>
                    </a:lnTo>
                    <a:lnTo>
                      <a:pt x="2007" y="3852"/>
                    </a:lnTo>
                    <a:lnTo>
                      <a:pt x="1978" y="4098"/>
                    </a:lnTo>
                    <a:lnTo>
                      <a:pt x="1949" y="4345"/>
                    </a:lnTo>
                    <a:lnTo>
                      <a:pt x="1918" y="4593"/>
                    </a:lnTo>
                    <a:lnTo>
                      <a:pt x="1889" y="4840"/>
                    </a:lnTo>
                    <a:lnTo>
                      <a:pt x="1859" y="5088"/>
                    </a:lnTo>
                    <a:lnTo>
                      <a:pt x="1830" y="5335"/>
                    </a:lnTo>
                    <a:lnTo>
                      <a:pt x="1799" y="5584"/>
                    </a:lnTo>
                    <a:lnTo>
                      <a:pt x="1770" y="5831"/>
                    </a:lnTo>
                    <a:lnTo>
                      <a:pt x="1740" y="6080"/>
                    </a:lnTo>
                    <a:lnTo>
                      <a:pt x="1711" y="6329"/>
                    </a:lnTo>
                    <a:lnTo>
                      <a:pt x="1681" y="6576"/>
                    </a:lnTo>
                    <a:lnTo>
                      <a:pt x="1650" y="6826"/>
                    </a:lnTo>
                    <a:lnTo>
                      <a:pt x="1621" y="7074"/>
                    </a:lnTo>
                    <a:lnTo>
                      <a:pt x="1591" y="7323"/>
                    </a:lnTo>
                    <a:lnTo>
                      <a:pt x="1562" y="7573"/>
                    </a:lnTo>
                    <a:lnTo>
                      <a:pt x="1531" y="7823"/>
                    </a:lnTo>
                    <a:lnTo>
                      <a:pt x="1501" y="8073"/>
                    </a:lnTo>
                    <a:lnTo>
                      <a:pt x="1471" y="8321"/>
                    </a:lnTo>
                    <a:lnTo>
                      <a:pt x="1441" y="8571"/>
                    </a:lnTo>
                    <a:lnTo>
                      <a:pt x="1292" y="8520"/>
                    </a:lnTo>
                    <a:lnTo>
                      <a:pt x="1145" y="8469"/>
                    </a:lnTo>
                    <a:lnTo>
                      <a:pt x="999" y="8417"/>
                    </a:lnTo>
                    <a:lnTo>
                      <a:pt x="853" y="8367"/>
                    </a:lnTo>
                    <a:lnTo>
                      <a:pt x="707" y="8316"/>
                    </a:lnTo>
                    <a:lnTo>
                      <a:pt x="562" y="8265"/>
                    </a:lnTo>
                    <a:lnTo>
                      <a:pt x="418" y="8214"/>
                    </a:lnTo>
                    <a:lnTo>
                      <a:pt x="272" y="8164"/>
                    </a:lnTo>
                    <a:lnTo>
                      <a:pt x="302" y="7919"/>
                    </a:lnTo>
                    <a:lnTo>
                      <a:pt x="331" y="7674"/>
                    </a:lnTo>
                    <a:lnTo>
                      <a:pt x="360" y="7429"/>
                    </a:lnTo>
                    <a:lnTo>
                      <a:pt x="390" y="7184"/>
                    </a:lnTo>
                    <a:lnTo>
                      <a:pt x="420" y="6939"/>
                    </a:lnTo>
                    <a:lnTo>
                      <a:pt x="450" y="6694"/>
                    </a:lnTo>
                    <a:lnTo>
                      <a:pt x="479" y="6449"/>
                    </a:lnTo>
                    <a:lnTo>
                      <a:pt x="509" y="6205"/>
                    </a:lnTo>
                    <a:lnTo>
                      <a:pt x="538" y="5962"/>
                    </a:lnTo>
                    <a:lnTo>
                      <a:pt x="569" y="5718"/>
                    </a:lnTo>
                    <a:lnTo>
                      <a:pt x="598" y="5474"/>
                    </a:lnTo>
                    <a:lnTo>
                      <a:pt x="628" y="5230"/>
                    </a:lnTo>
                    <a:lnTo>
                      <a:pt x="657" y="4988"/>
                    </a:lnTo>
                    <a:lnTo>
                      <a:pt x="687" y="4744"/>
                    </a:lnTo>
                    <a:lnTo>
                      <a:pt x="716" y="4502"/>
                    </a:lnTo>
                    <a:lnTo>
                      <a:pt x="746" y="4259"/>
                    </a:lnTo>
                    <a:lnTo>
                      <a:pt x="775" y="4017"/>
                    </a:lnTo>
                    <a:lnTo>
                      <a:pt x="805" y="3774"/>
                    </a:lnTo>
                    <a:lnTo>
                      <a:pt x="834" y="3532"/>
                    </a:lnTo>
                    <a:lnTo>
                      <a:pt x="864" y="3289"/>
                    </a:lnTo>
                    <a:lnTo>
                      <a:pt x="893" y="3047"/>
                    </a:lnTo>
                    <a:lnTo>
                      <a:pt x="923" y="2806"/>
                    </a:lnTo>
                    <a:lnTo>
                      <a:pt x="952" y="2563"/>
                    </a:lnTo>
                    <a:lnTo>
                      <a:pt x="981" y="2322"/>
                    </a:lnTo>
                    <a:lnTo>
                      <a:pt x="1010" y="2081"/>
                    </a:lnTo>
                    <a:lnTo>
                      <a:pt x="1040" y="1839"/>
                    </a:lnTo>
                    <a:lnTo>
                      <a:pt x="1070" y="1598"/>
                    </a:lnTo>
                    <a:lnTo>
                      <a:pt x="1099" y="1357"/>
                    </a:lnTo>
                    <a:lnTo>
                      <a:pt x="1129" y="1115"/>
                    </a:lnTo>
                    <a:lnTo>
                      <a:pt x="1158" y="874"/>
                    </a:lnTo>
                    <a:lnTo>
                      <a:pt x="1188" y="634"/>
                    </a:lnTo>
                    <a:lnTo>
                      <a:pt x="1217" y="393"/>
                    </a:lnTo>
                    <a:close/>
                  </a:path>
                </a:pathLst>
              </a:custGeom>
              <a:solidFill>
                <a:srgbClr val="8786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396560" y="2301120"/>
                <a:ext cx="998280" cy="2472120"/>
              </a:xfrm>
              <a:custGeom>
                <a:avLst/>
                <a:gdLst/>
                <a:ahLst/>
                <a:rect l="l" t="t" r="r" b="b"/>
                <a:pathLst>
                  <a:path w="2676" h="9013">
                    <a:moveTo>
                      <a:pt x="1029" y="0"/>
                    </a:moveTo>
                    <a:lnTo>
                      <a:pt x="1231" y="43"/>
                    </a:lnTo>
                    <a:lnTo>
                      <a:pt x="1435" y="88"/>
                    </a:lnTo>
                    <a:lnTo>
                      <a:pt x="1638" y="131"/>
                    </a:lnTo>
                    <a:lnTo>
                      <a:pt x="1844" y="175"/>
                    </a:lnTo>
                    <a:lnTo>
                      <a:pt x="2049" y="219"/>
                    </a:lnTo>
                    <a:lnTo>
                      <a:pt x="2257" y="264"/>
                    </a:lnTo>
                    <a:lnTo>
                      <a:pt x="2466" y="309"/>
                    </a:lnTo>
                    <a:lnTo>
                      <a:pt x="2676" y="355"/>
                    </a:lnTo>
                    <a:lnTo>
                      <a:pt x="2643" y="622"/>
                    </a:lnTo>
                    <a:lnTo>
                      <a:pt x="2611" y="890"/>
                    </a:lnTo>
                    <a:lnTo>
                      <a:pt x="2579" y="1159"/>
                    </a:lnTo>
                    <a:lnTo>
                      <a:pt x="2546" y="1427"/>
                    </a:lnTo>
                    <a:lnTo>
                      <a:pt x="2514" y="1695"/>
                    </a:lnTo>
                    <a:lnTo>
                      <a:pt x="2482" y="1965"/>
                    </a:lnTo>
                    <a:lnTo>
                      <a:pt x="2450" y="2233"/>
                    </a:lnTo>
                    <a:lnTo>
                      <a:pt x="2417" y="2501"/>
                    </a:lnTo>
                    <a:lnTo>
                      <a:pt x="2385" y="2771"/>
                    </a:lnTo>
                    <a:lnTo>
                      <a:pt x="2353" y="3041"/>
                    </a:lnTo>
                    <a:lnTo>
                      <a:pt x="2321" y="3310"/>
                    </a:lnTo>
                    <a:lnTo>
                      <a:pt x="2288" y="3580"/>
                    </a:lnTo>
                    <a:lnTo>
                      <a:pt x="2257" y="3849"/>
                    </a:lnTo>
                    <a:lnTo>
                      <a:pt x="2225" y="4120"/>
                    </a:lnTo>
                    <a:lnTo>
                      <a:pt x="2193" y="4390"/>
                    </a:lnTo>
                    <a:lnTo>
                      <a:pt x="2160" y="4659"/>
                    </a:lnTo>
                    <a:lnTo>
                      <a:pt x="2128" y="4930"/>
                    </a:lnTo>
                    <a:lnTo>
                      <a:pt x="2096" y="5201"/>
                    </a:lnTo>
                    <a:lnTo>
                      <a:pt x="2064" y="5472"/>
                    </a:lnTo>
                    <a:lnTo>
                      <a:pt x="2031" y="5744"/>
                    </a:lnTo>
                    <a:lnTo>
                      <a:pt x="1999" y="6015"/>
                    </a:lnTo>
                    <a:lnTo>
                      <a:pt x="1967" y="6287"/>
                    </a:lnTo>
                    <a:lnTo>
                      <a:pt x="1935" y="6557"/>
                    </a:lnTo>
                    <a:lnTo>
                      <a:pt x="1902" y="6829"/>
                    </a:lnTo>
                    <a:lnTo>
                      <a:pt x="1869" y="7102"/>
                    </a:lnTo>
                    <a:lnTo>
                      <a:pt x="1837" y="7375"/>
                    </a:lnTo>
                    <a:lnTo>
                      <a:pt x="1804" y="7647"/>
                    </a:lnTo>
                    <a:lnTo>
                      <a:pt x="1771" y="7920"/>
                    </a:lnTo>
                    <a:lnTo>
                      <a:pt x="1738" y="8193"/>
                    </a:lnTo>
                    <a:lnTo>
                      <a:pt x="1706" y="8467"/>
                    </a:lnTo>
                    <a:lnTo>
                      <a:pt x="1673" y="8740"/>
                    </a:lnTo>
                    <a:lnTo>
                      <a:pt x="1642" y="9013"/>
                    </a:lnTo>
                    <a:lnTo>
                      <a:pt x="1433" y="8939"/>
                    </a:lnTo>
                    <a:lnTo>
                      <a:pt x="1225" y="8865"/>
                    </a:lnTo>
                    <a:lnTo>
                      <a:pt x="1018" y="8793"/>
                    </a:lnTo>
                    <a:lnTo>
                      <a:pt x="813" y="8719"/>
                    </a:lnTo>
                    <a:lnTo>
                      <a:pt x="608" y="8646"/>
                    </a:lnTo>
                    <a:lnTo>
                      <a:pt x="404" y="8574"/>
                    </a:lnTo>
                    <a:lnTo>
                      <a:pt x="202" y="8502"/>
                    </a:lnTo>
                    <a:lnTo>
                      <a:pt x="0" y="8431"/>
                    </a:lnTo>
                    <a:lnTo>
                      <a:pt x="32" y="8165"/>
                    </a:lnTo>
                    <a:lnTo>
                      <a:pt x="64" y="7899"/>
                    </a:lnTo>
                    <a:lnTo>
                      <a:pt x="96" y="7633"/>
                    </a:lnTo>
                    <a:lnTo>
                      <a:pt x="129" y="7367"/>
                    </a:lnTo>
                    <a:lnTo>
                      <a:pt x="161" y="7102"/>
                    </a:lnTo>
                    <a:lnTo>
                      <a:pt x="194" y="6836"/>
                    </a:lnTo>
                    <a:lnTo>
                      <a:pt x="227" y="6571"/>
                    </a:lnTo>
                    <a:lnTo>
                      <a:pt x="259" y="6305"/>
                    </a:lnTo>
                    <a:lnTo>
                      <a:pt x="292" y="6040"/>
                    </a:lnTo>
                    <a:lnTo>
                      <a:pt x="324" y="5777"/>
                    </a:lnTo>
                    <a:lnTo>
                      <a:pt x="356" y="5512"/>
                    </a:lnTo>
                    <a:lnTo>
                      <a:pt x="388" y="5248"/>
                    </a:lnTo>
                    <a:lnTo>
                      <a:pt x="421" y="4983"/>
                    </a:lnTo>
                    <a:lnTo>
                      <a:pt x="452" y="4720"/>
                    </a:lnTo>
                    <a:lnTo>
                      <a:pt x="484" y="4456"/>
                    </a:lnTo>
                    <a:lnTo>
                      <a:pt x="516" y="4193"/>
                    </a:lnTo>
                    <a:lnTo>
                      <a:pt x="549" y="3929"/>
                    </a:lnTo>
                    <a:lnTo>
                      <a:pt x="581" y="3667"/>
                    </a:lnTo>
                    <a:lnTo>
                      <a:pt x="612" y="3404"/>
                    </a:lnTo>
                    <a:lnTo>
                      <a:pt x="644" y="3142"/>
                    </a:lnTo>
                    <a:lnTo>
                      <a:pt x="676" y="2878"/>
                    </a:lnTo>
                    <a:lnTo>
                      <a:pt x="707" y="2616"/>
                    </a:lnTo>
                    <a:lnTo>
                      <a:pt x="739" y="2354"/>
                    </a:lnTo>
                    <a:lnTo>
                      <a:pt x="771" y="2092"/>
                    </a:lnTo>
                    <a:lnTo>
                      <a:pt x="804" y="1831"/>
                    </a:lnTo>
                    <a:lnTo>
                      <a:pt x="836" y="1568"/>
                    </a:lnTo>
                    <a:lnTo>
                      <a:pt x="867" y="1307"/>
                    </a:lnTo>
                    <a:lnTo>
                      <a:pt x="899" y="1045"/>
                    </a:lnTo>
                    <a:lnTo>
                      <a:pt x="932" y="784"/>
                    </a:lnTo>
                    <a:lnTo>
                      <a:pt x="964" y="523"/>
                    </a:lnTo>
                    <a:lnTo>
                      <a:pt x="996" y="261"/>
                    </a:lnTo>
                    <a:lnTo>
                      <a:pt x="1029"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498080" y="2409480"/>
                <a:ext cx="790920" cy="2241720"/>
              </a:xfrm>
              <a:custGeom>
                <a:avLst/>
                <a:gdLst/>
                <a:ahLst/>
                <a:rect l="l" t="t" r="r" b="b"/>
                <a:pathLst>
                  <a:path w="2120" h="8178">
                    <a:moveTo>
                      <a:pt x="945" y="0"/>
                    </a:moveTo>
                    <a:lnTo>
                      <a:pt x="1090" y="32"/>
                    </a:lnTo>
                    <a:lnTo>
                      <a:pt x="1236" y="64"/>
                    </a:lnTo>
                    <a:lnTo>
                      <a:pt x="1381" y="96"/>
                    </a:lnTo>
                    <a:lnTo>
                      <a:pt x="1528" y="128"/>
                    </a:lnTo>
                    <a:lnTo>
                      <a:pt x="1675" y="161"/>
                    </a:lnTo>
                    <a:lnTo>
                      <a:pt x="1823" y="193"/>
                    </a:lnTo>
                    <a:lnTo>
                      <a:pt x="1971" y="225"/>
                    </a:lnTo>
                    <a:lnTo>
                      <a:pt x="2120" y="258"/>
                    </a:lnTo>
                    <a:lnTo>
                      <a:pt x="2091" y="503"/>
                    </a:lnTo>
                    <a:lnTo>
                      <a:pt x="2061" y="750"/>
                    </a:lnTo>
                    <a:lnTo>
                      <a:pt x="2031" y="994"/>
                    </a:lnTo>
                    <a:lnTo>
                      <a:pt x="2001" y="1241"/>
                    </a:lnTo>
                    <a:lnTo>
                      <a:pt x="1972" y="1487"/>
                    </a:lnTo>
                    <a:lnTo>
                      <a:pt x="1942" y="1732"/>
                    </a:lnTo>
                    <a:lnTo>
                      <a:pt x="1913" y="1978"/>
                    </a:lnTo>
                    <a:lnTo>
                      <a:pt x="1882" y="2224"/>
                    </a:lnTo>
                    <a:lnTo>
                      <a:pt x="1853" y="2470"/>
                    </a:lnTo>
                    <a:lnTo>
                      <a:pt x="1823" y="2718"/>
                    </a:lnTo>
                    <a:lnTo>
                      <a:pt x="1794" y="2964"/>
                    </a:lnTo>
                    <a:lnTo>
                      <a:pt x="1764" y="3211"/>
                    </a:lnTo>
                    <a:lnTo>
                      <a:pt x="1735" y="3459"/>
                    </a:lnTo>
                    <a:lnTo>
                      <a:pt x="1706" y="3705"/>
                    </a:lnTo>
                    <a:lnTo>
                      <a:pt x="1677" y="3952"/>
                    </a:lnTo>
                    <a:lnTo>
                      <a:pt x="1646" y="4200"/>
                    </a:lnTo>
                    <a:lnTo>
                      <a:pt x="1617" y="4447"/>
                    </a:lnTo>
                    <a:lnTo>
                      <a:pt x="1587" y="4695"/>
                    </a:lnTo>
                    <a:lnTo>
                      <a:pt x="1558" y="4942"/>
                    </a:lnTo>
                    <a:lnTo>
                      <a:pt x="1527" y="5191"/>
                    </a:lnTo>
                    <a:lnTo>
                      <a:pt x="1498" y="5438"/>
                    </a:lnTo>
                    <a:lnTo>
                      <a:pt x="1468" y="5687"/>
                    </a:lnTo>
                    <a:lnTo>
                      <a:pt x="1439" y="5936"/>
                    </a:lnTo>
                    <a:lnTo>
                      <a:pt x="1409" y="6183"/>
                    </a:lnTo>
                    <a:lnTo>
                      <a:pt x="1378" y="6433"/>
                    </a:lnTo>
                    <a:lnTo>
                      <a:pt x="1349" y="6681"/>
                    </a:lnTo>
                    <a:lnTo>
                      <a:pt x="1319" y="6930"/>
                    </a:lnTo>
                    <a:lnTo>
                      <a:pt x="1290" y="7180"/>
                    </a:lnTo>
                    <a:lnTo>
                      <a:pt x="1259" y="7430"/>
                    </a:lnTo>
                    <a:lnTo>
                      <a:pt x="1229" y="7680"/>
                    </a:lnTo>
                    <a:lnTo>
                      <a:pt x="1199" y="7928"/>
                    </a:lnTo>
                    <a:lnTo>
                      <a:pt x="1169" y="8178"/>
                    </a:lnTo>
                    <a:lnTo>
                      <a:pt x="1020" y="8127"/>
                    </a:lnTo>
                    <a:lnTo>
                      <a:pt x="873" y="8076"/>
                    </a:lnTo>
                    <a:lnTo>
                      <a:pt x="727" y="8024"/>
                    </a:lnTo>
                    <a:lnTo>
                      <a:pt x="581" y="7974"/>
                    </a:lnTo>
                    <a:lnTo>
                      <a:pt x="435" y="7923"/>
                    </a:lnTo>
                    <a:lnTo>
                      <a:pt x="290" y="7872"/>
                    </a:lnTo>
                    <a:lnTo>
                      <a:pt x="146" y="7821"/>
                    </a:lnTo>
                    <a:lnTo>
                      <a:pt x="0" y="7771"/>
                    </a:lnTo>
                    <a:lnTo>
                      <a:pt x="30" y="7526"/>
                    </a:lnTo>
                    <a:lnTo>
                      <a:pt x="59" y="7281"/>
                    </a:lnTo>
                    <a:lnTo>
                      <a:pt x="88" y="7036"/>
                    </a:lnTo>
                    <a:lnTo>
                      <a:pt x="118" y="6791"/>
                    </a:lnTo>
                    <a:lnTo>
                      <a:pt x="148" y="6546"/>
                    </a:lnTo>
                    <a:lnTo>
                      <a:pt x="178" y="6301"/>
                    </a:lnTo>
                    <a:lnTo>
                      <a:pt x="207" y="6056"/>
                    </a:lnTo>
                    <a:lnTo>
                      <a:pt x="237" y="5812"/>
                    </a:lnTo>
                    <a:lnTo>
                      <a:pt x="266" y="5569"/>
                    </a:lnTo>
                    <a:lnTo>
                      <a:pt x="297" y="5325"/>
                    </a:lnTo>
                    <a:lnTo>
                      <a:pt x="326" y="5081"/>
                    </a:lnTo>
                    <a:lnTo>
                      <a:pt x="356" y="4837"/>
                    </a:lnTo>
                    <a:lnTo>
                      <a:pt x="385" y="4595"/>
                    </a:lnTo>
                    <a:lnTo>
                      <a:pt x="415" y="4351"/>
                    </a:lnTo>
                    <a:lnTo>
                      <a:pt x="444" y="4109"/>
                    </a:lnTo>
                    <a:lnTo>
                      <a:pt x="474" y="3866"/>
                    </a:lnTo>
                    <a:lnTo>
                      <a:pt x="503" y="3624"/>
                    </a:lnTo>
                    <a:lnTo>
                      <a:pt x="533" y="3381"/>
                    </a:lnTo>
                    <a:lnTo>
                      <a:pt x="562" y="3139"/>
                    </a:lnTo>
                    <a:lnTo>
                      <a:pt x="592" y="2896"/>
                    </a:lnTo>
                    <a:lnTo>
                      <a:pt x="621" y="2654"/>
                    </a:lnTo>
                    <a:lnTo>
                      <a:pt x="651" y="2413"/>
                    </a:lnTo>
                    <a:lnTo>
                      <a:pt x="680" y="2170"/>
                    </a:lnTo>
                    <a:lnTo>
                      <a:pt x="709" y="1929"/>
                    </a:lnTo>
                    <a:lnTo>
                      <a:pt x="738" y="1688"/>
                    </a:lnTo>
                    <a:lnTo>
                      <a:pt x="768" y="1446"/>
                    </a:lnTo>
                    <a:lnTo>
                      <a:pt x="798" y="1205"/>
                    </a:lnTo>
                    <a:lnTo>
                      <a:pt x="827" y="964"/>
                    </a:lnTo>
                    <a:lnTo>
                      <a:pt x="857" y="722"/>
                    </a:lnTo>
                    <a:lnTo>
                      <a:pt x="886" y="481"/>
                    </a:lnTo>
                    <a:lnTo>
                      <a:pt x="916" y="241"/>
                    </a:lnTo>
                    <a:lnTo>
                      <a:pt x="945"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189240" y="1430640"/>
                <a:ext cx="432720" cy="1934640"/>
              </a:xfrm>
              <a:custGeom>
                <a:avLst/>
                <a:gdLst/>
                <a:ahLst/>
                <a:rect l="l" t="t" r="r" b="b"/>
                <a:pathLst>
                  <a:path w="1161" h="7054">
                    <a:moveTo>
                      <a:pt x="889" y="0"/>
                    </a:moveTo>
                    <a:lnTo>
                      <a:pt x="923" y="85"/>
                    </a:lnTo>
                    <a:lnTo>
                      <a:pt x="956" y="170"/>
                    </a:lnTo>
                    <a:lnTo>
                      <a:pt x="991" y="254"/>
                    </a:lnTo>
                    <a:lnTo>
                      <a:pt x="1024" y="339"/>
                    </a:lnTo>
                    <a:lnTo>
                      <a:pt x="1058" y="423"/>
                    </a:lnTo>
                    <a:lnTo>
                      <a:pt x="1092" y="506"/>
                    </a:lnTo>
                    <a:lnTo>
                      <a:pt x="1127" y="591"/>
                    </a:lnTo>
                    <a:lnTo>
                      <a:pt x="1161" y="675"/>
                    </a:lnTo>
                    <a:lnTo>
                      <a:pt x="1133" y="873"/>
                    </a:lnTo>
                    <a:lnTo>
                      <a:pt x="1106" y="1071"/>
                    </a:lnTo>
                    <a:lnTo>
                      <a:pt x="1077" y="1269"/>
                    </a:lnTo>
                    <a:lnTo>
                      <a:pt x="1049" y="1466"/>
                    </a:lnTo>
                    <a:lnTo>
                      <a:pt x="1022" y="1665"/>
                    </a:lnTo>
                    <a:lnTo>
                      <a:pt x="994" y="1863"/>
                    </a:lnTo>
                    <a:lnTo>
                      <a:pt x="966" y="2061"/>
                    </a:lnTo>
                    <a:lnTo>
                      <a:pt x="938" y="2259"/>
                    </a:lnTo>
                    <a:lnTo>
                      <a:pt x="911" y="2457"/>
                    </a:lnTo>
                    <a:lnTo>
                      <a:pt x="883" y="2656"/>
                    </a:lnTo>
                    <a:lnTo>
                      <a:pt x="856" y="2855"/>
                    </a:lnTo>
                    <a:lnTo>
                      <a:pt x="827" y="3053"/>
                    </a:lnTo>
                    <a:lnTo>
                      <a:pt x="799" y="3253"/>
                    </a:lnTo>
                    <a:lnTo>
                      <a:pt x="772" y="3451"/>
                    </a:lnTo>
                    <a:lnTo>
                      <a:pt x="744" y="3650"/>
                    </a:lnTo>
                    <a:lnTo>
                      <a:pt x="715" y="3850"/>
                    </a:lnTo>
                    <a:lnTo>
                      <a:pt x="687" y="4049"/>
                    </a:lnTo>
                    <a:lnTo>
                      <a:pt x="659" y="4248"/>
                    </a:lnTo>
                    <a:lnTo>
                      <a:pt x="631" y="4448"/>
                    </a:lnTo>
                    <a:lnTo>
                      <a:pt x="604" y="4647"/>
                    </a:lnTo>
                    <a:lnTo>
                      <a:pt x="575" y="4848"/>
                    </a:lnTo>
                    <a:lnTo>
                      <a:pt x="547" y="5047"/>
                    </a:lnTo>
                    <a:lnTo>
                      <a:pt x="519" y="5248"/>
                    </a:lnTo>
                    <a:lnTo>
                      <a:pt x="491" y="5449"/>
                    </a:lnTo>
                    <a:lnTo>
                      <a:pt x="463" y="5649"/>
                    </a:lnTo>
                    <a:lnTo>
                      <a:pt x="435" y="5850"/>
                    </a:lnTo>
                    <a:lnTo>
                      <a:pt x="407" y="6050"/>
                    </a:lnTo>
                    <a:lnTo>
                      <a:pt x="379" y="6251"/>
                    </a:lnTo>
                    <a:lnTo>
                      <a:pt x="351" y="6452"/>
                    </a:lnTo>
                    <a:lnTo>
                      <a:pt x="322" y="6652"/>
                    </a:lnTo>
                    <a:lnTo>
                      <a:pt x="294" y="6853"/>
                    </a:lnTo>
                    <a:lnTo>
                      <a:pt x="266" y="7054"/>
                    </a:lnTo>
                    <a:lnTo>
                      <a:pt x="233" y="6961"/>
                    </a:lnTo>
                    <a:lnTo>
                      <a:pt x="198" y="6870"/>
                    </a:lnTo>
                    <a:lnTo>
                      <a:pt x="165" y="6778"/>
                    </a:lnTo>
                    <a:lnTo>
                      <a:pt x="132" y="6686"/>
                    </a:lnTo>
                    <a:lnTo>
                      <a:pt x="99" y="6595"/>
                    </a:lnTo>
                    <a:lnTo>
                      <a:pt x="65" y="6502"/>
                    </a:lnTo>
                    <a:lnTo>
                      <a:pt x="33" y="6411"/>
                    </a:lnTo>
                    <a:lnTo>
                      <a:pt x="0" y="6319"/>
                    </a:lnTo>
                    <a:lnTo>
                      <a:pt x="28" y="6119"/>
                    </a:lnTo>
                    <a:lnTo>
                      <a:pt x="56" y="5920"/>
                    </a:lnTo>
                    <a:lnTo>
                      <a:pt x="83" y="5722"/>
                    </a:lnTo>
                    <a:lnTo>
                      <a:pt x="112" y="5522"/>
                    </a:lnTo>
                    <a:lnTo>
                      <a:pt x="139" y="5323"/>
                    </a:lnTo>
                    <a:lnTo>
                      <a:pt x="167" y="5125"/>
                    </a:lnTo>
                    <a:lnTo>
                      <a:pt x="195" y="4925"/>
                    </a:lnTo>
                    <a:lnTo>
                      <a:pt x="222" y="4727"/>
                    </a:lnTo>
                    <a:lnTo>
                      <a:pt x="251" y="4529"/>
                    </a:lnTo>
                    <a:lnTo>
                      <a:pt x="279" y="4331"/>
                    </a:lnTo>
                    <a:lnTo>
                      <a:pt x="307" y="4133"/>
                    </a:lnTo>
                    <a:lnTo>
                      <a:pt x="335" y="3934"/>
                    </a:lnTo>
                    <a:lnTo>
                      <a:pt x="364" y="3738"/>
                    </a:lnTo>
                    <a:lnTo>
                      <a:pt x="392" y="3539"/>
                    </a:lnTo>
                    <a:lnTo>
                      <a:pt x="420" y="3341"/>
                    </a:lnTo>
                    <a:lnTo>
                      <a:pt x="447" y="3143"/>
                    </a:lnTo>
                    <a:lnTo>
                      <a:pt x="476" y="2945"/>
                    </a:lnTo>
                    <a:lnTo>
                      <a:pt x="503" y="2748"/>
                    </a:lnTo>
                    <a:lnTo>
                      <a:pt x="531" y="2551"/>
                    </a:lnTo>
                    <a:lnTo>
                      <a:pt x="558" y="2353"/>
                    </a:lnTo>
                    <a:lnTo>
                      <a:pt x="585" y="2156"/>
                    </a:lnTo>
                    <a:lnTo>
                      <a:pt x="614" y="1960"/>
                    </a:lnTo>
                    <a:lnTo>
                      <a:pt x="641" y="1763"/>
                    </a:lnTo>
                    <a:lnTo>
                      <a:pt x="668" y="1566"/>
                    </a:lnTo>
                    <a:lnTo>
                      <a:pt x="695" y="1370"/>
                    </a:lnTo>
                    <a:lnTo>
                      <a:pt x="723" y="1175"/>
                    </a:lnTo>
                    <a:lnTo>
                      <a:pt x="751" y="979"/>
                    </a:lnTo>
                    <a:lnTo>
                      <a:pt x="779" y="783"/>
                    </a:lnTo>
                    <a:lnTo>
                      <a:pt x="806" y="588"/>
                    </a:lnTo>
                    <a:lnTo>
                      <a:pt x="834" y="392"/>
                    </a:lnTo>
                    <a:lnTo>
                      <a:pt x="862" y="196"/>
                    </a:lnTo>
                    <a:lnTo>
                      <a:pt x="889"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189240" y="1430640"/>
                <a:ext cx="432720" cy="1934640"/>
              </a:xfrm>
              <a:custGeom>
                <a:avLst/>
                <a:gdLst/>
                <a:ahLst/>
                <a:rect l="l" t="t" r="r" b="b"/>
                <a:pathLst>
                  <a:path w="1161" h="7054">
                    <a:moveTo>
                      <a:pt x="889" y="0"/>
                    </a:moveTo>
                    <a:lnTo>
                      <a:pt x="923" y="85"/>
                    </a:lnTo>
                    <a:lnTo>
                      <a:pt x="956" y="170"/>
                    </a:lnTo>
                    <a:lnTo>
                      <a:pt x="991" y="254"/>
                    </a:lnTo>
                    <a:lnTo>
                      <a:pt x="1024" y="339"/>
                    </a:lnTo>
                    <a:lnTo>
                      <a:pt x="1058" y="423"/>
                    </a:lnTo>
                    <a:lnTo>
                      <a:pt x="1092" y="506"/>
                    </a:lnTo>
                    <a:lnTo>
                      <a:pt x="1127" y="591"/>
                    </a:lnTo>
                    <a:lnTo>
                      <a:pt x="1161" y="675"/>
                    </a:lnTo>
                    <a:lnTo>
                      <a:pt x="1133" y="873"/>
                    </a:lnTo>
                    <a:lnTo>
                      <a:pt x="1106" y="1071"/>
                    </a:lnTo>
                    <a:lnTo>
                      <a:pt x="1077" y="1269"/>
                    </a:lnTo>
                    <a:lnTo>
                      <a:pt x="1049" y="1466"/>
                    </a:lnTo>
                    <a:lnTo>
                      <a:pt x="1022" y="1665"/>
                    </a:lnTo>
                    <a:lnTo>
                      <a:pt x="994" y="1863"/>
                    </a:lnTo>
                    <a:lnTo>
                      <a:pt x="966" y="2061"/>
                    </a:lnTo>
                    <a:lnTo>
                      <a:pt x="938" y="2259"/>
                    </a:lnTo>
                    <a:lnTo>
                      <a:pt x="911" y="2457"/>
                    </a:lnTo>
                    <a:lnTo>
                      <a:pt x="883" y="2656"/>
                    </a:lnTo>
                    <a:lnTo>
                      <a:pt x="856" y="2855"/>
                    </a:lnTo>
                    <a:lnTo>
                      <a:pt x="827" y="3053"/>
                    </a:lnTo>
                    <a:lnTo>
                      <a:pt x="799" y="3253"/>
                    </a:lnTo>
                    <a:lnTo>
                      <a:pt x="772" y="3451"/>
                    </a:lnTo>
                    <a:lnTo>
                      <a:pt x="744" y="3650"/>
                    </a:lnTo>
                    <a:lnTo>
                      <a:pt x="715" y="3850"/>
                    </a:lnTo>
                    <a:lnTo>
                      <a:pt x="687" y="4049"/>
                    </a:lnTo>
                    <a:lnTo>
                      <a:pt x="659" y="4248"/>
                    </a:lnTo>
                    <a:lnTo>
                      <a:pt x="631" y="4448"/>
                    </a:lnTo>
                    <a:lnTo>
                      <a:pt x="604" y="4647"/>
                    </a:lnTo>
                    <a:lnTo>
                      <a:pt x="575" y="4848"/>
                    </a:lnTo>
                    <a:lnTo>
                      <a:pt x="547" y="5047"/>
                    </a:lnTo>
                    <a:lnTo>
                      <a:pt x="519" y="5248"/>
                    </a:lnTo>
                    <a:lnTo>
                      <a:pt x="491" y="5449"/>
                    </a:lnTo>
                    <a:lnTo>
                      <a:pt x="463" y="5649"/>
                    </a:lnTo>
                    <a:lnTo>
                      <a:pt x="435" y="5850"/>
                    </a:lnTo>
                    <a:lnTo>
                      <a:pt x="407" y="6050"/>
                    </a:lnTo>
                    <a:lnTo>
                      <a:pt x="379" y="6251"/>
                    </a:lnTo>
                    <a:lnTo>
                      <a:pt x="351" y="6452"/>
                    </a:lnTo>
                    <a:lnTo>
                      <a:pt x="322" y="6652"/>
                    </a:lnTo>
                    <a:lnTo>
                      <a:pt x="294" y="6853"/>
                    </a:lnTo>
                    <a:lnTo>
                      <a:pt x="266" y="7054"/>
                    </a:lnTo>
                    <a:lnTo>
                      <a:pt x="233" y="6961"/>
                    </a:lnTo>
                    <a:lnTo>
                      <a:pt x="198" y="6870"/>
                    </a:lnTo>
                    <a:lnTo>
                      <a:pt x="165" y="6778"/>
                    </a:lnTo>
                    <a:lnTo>
                      <a:pt x="132" y="6686"/>
                    </a:lnTo>
                    <a:lnTo>
                      <a:pt x="99" y="6595"/>
                    </a:lnTo>
                    <a:lnTo>
                      <a:pt x="65" y="6502"/>
                    </a:lnTo>
                    <a:lnTo>
                      <a:pt x="33" y="6411"/>
                    </a:lnTo>
                    <a:lnTo>
                      <a:pt x="0" y="6319"/>
                    </a:lnTo>
                    <a:lnTo>
                      <a:pt x="28" y="6119"/>
                    </a:lnTo>
                    <a:lnTo>
                      <a:pt x="56" y="5920"/>
                    </a:lnTo>
                    <a:lnTo>
                      <a:pt x="83" y="5722"/>
                    </a:lnTo>
                    <a:lnTo>
                      <a:pt x="112" y="5522"/>
                    </a:lnTo>
                    <a:lnTo>
                      <a:pt x="139" y="5323"/>
                    </a:lnTo>
                    <a:lnTo>
                      <a:pt x="167" y="5125"/>
                    </a:lnTo>
                    <a:lnTo>
                      <a:pt x="195" y="4925"/>
                    </a:lnTo>
                    <a:lnTo>
                      <a:pt x="222" y="4727"/>
                    </a:lnTo>
                    <a:lnTo>
                      <a:pt x="251" y="4529"/>
                    </a:lnTo>
                    <a:lnTo>
                      <a:pt x="279" y="4331"/>
                    </a:lnTo>
                    <a:lnTo>
                      <a:pt x="307" y="4133"/>
                    </a:lnTo>
                    <a:lnTo>
                      <a:pt x="335" y="3934"/>
                    </a:lnTo>
                    <a:lnTo>
                      <a:pt x="364" y="3738"/>
                    </a:lnTo>
                    <a:lnTo>
                      <a:pt x="392" y="3539"/>
                    </a:lnTo>
                    <a:lnTo>
                      <a:pt x="420" y="3341"/>
                    </a:lnTo>
                    <a:lnTo>
                      <a:pt x="447" y="3143"/>
                    </a:lnTo>
                    <a:lnTo>
                      <a:pt x="476" y="2945"/>
                    </a:lnTo>
                    <a:lnTo>
                      <a:pt x="503" y="2748"/>
                    </a:lnTo>
                    <a:lnTo>
                      <a:pt x="531" y="2551"/>
                    </a:lnTo>
                    <a:lnTo>
                      <a:pt x="558" y="2353"/>
                    </a:lnTo>
                    <a:lnTo>
                      <a:pt x="585" y="2156"/>
                    </a:lnTo>
                    <a:lnTo>
                      <a:pt x="614" y="1960"/>
                    </a:lnTo>
                    <a:lnTo>
                      <a:pt x="641" y="1763"/>
                    </a:lnTo>
                    <a:lnTo>
                      <a:pt x="668" y="1566"/>
                    </a:lnTo>
                    <a:lnTo>
                      <a:pt x="695" y="1370"/>
                    </a:lnTo>
                    <a:lnTo>
                      <a:pt x="723" y="1175"/>
                    </a:lnTo>
                    <a:lnTo>
                      <a:pt x="751" y="979"/>
                    </a:lnTo>
                    <a:lnTo>
                      <a:pt x="779" y="783"/>
                    </a:lnTo>
                    <a:lnTo>
                      <a:pt x="806" y="588"/>
                    </a:lnTo>
                    <a:lnTo>
                      <a:pt x="834" y="392"/>
                    </a:lnTo>
                    <a:lnTo>
                      <a:pt x="862" y="196"/>
                    </a:lnTo>
                    <a:lnTo>
                      <a:pt x="889"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956320" y="3107520"/>
                <a:ext cx="331200" cy="257760"/>
              </a:xfrm>
              <a:custGeom>
                <a:avLst/>
                <a:gdLst/>
                <a:ahLst/>
                <a:rect l="l" t="t" r="r" b="b"/>
                <a:pathLst>
                  <a:path w="891" h="940">
                    <a:moveTo>
                      <a:pt x="625" y="205"/>
                    </a:moveTo>
                    <a:lnTo>
                      <a:pt x="658" y="297"/>
                    </a:lnTo>
                    <a:lnTo>
                      <a:pt x="690" y="388"/>
                    </a:lnTo>
                    <a:lnTo>
                      <a:pt x="724" y="481"/>
                    </a:lnTo>
                    <a:lnTo>
                      <a:pt x="757" y="572"/>
                    </a:lnTo>
                    <a:lnTo>
                      <a:pt x="790" y="664"/>
                    </a:lnTo>
                    <a:lnTo>
                      <a:pt x="823" y="756"/>
                    </a:lnTo>
                    <a:lnTo>
                      <a:pt x="858" y="847"/>
                    </a:lnTo>
                    <a:lnTo>
                      <a:pt x="891" y="940"/>
                    </a:lnTo>
                    <a:lnTo>
                      <a:pt x="810" y="913"/>
                    </a:lnTo>
                    <a:lnTo>
                      <a:pt x="731" y="886"/>
                    </a:lnTo>
                    <a:lnTo>
                      <a:pt x="651" y="858"/>
                    </a:lnTo>
                    <a:lnTo>
                      <a:pt x="571" y="830"/>
                    </a:lnTo>
                    <a:lnTo>
                      <a:pt x="492" y="803"/>
                    </a:lnTo>
                    <a:lnTo>
                      <a:pt x="413" y="776"/>
                    </a:lnTo>
                    <a:lnTo>
                      <a:pt x="333" y="749"/>
                    </a:lnTo>
                    <a:lnTo>
                      <a:pt x="255" y="723"/>
                    </a:lnTo>
                    <a:lnTo>
                      <a:pt x="223" y="632"/>
                    </a:lnTo>
                    <a:lnTo>
                      <a:pt x="190" y="541"/>
                    </a:lnTo>
                    <a:lnTo>
                      <a:pt x="158" y="451"/>
                    </a:lnTo>
                    <a:lnTo>
                      <a:pt x="126" y="360"/>
                    </a:lnTo>
                    <a:lnTo>
                      <a:pt x="94" y="270"/>
                    </a:lnTo>
                    <a:lnTo>
                      <a:pt x="62" y="180"/>
                    </a:lnTo>
                    <a:lnTo>
                      <a:pt x="31" y="90"/>
                    </a:lnTo>
                    <a:lnTo>
                      <a:pt x="0" y="0"/>
                    </a:lnTo>
                    <a:lnTo>
                      <a:pt x="77" y="26"/>
                    </a:lnTo>
                    <a:lnTo>
                      <a:pt x="154" y="51"/>
                    </a:lnTo>
                    <a:lnTo>
                      <a:pt x="232" y="77"/>
                    </a:lnTo>
                    <a:lnTo>
                      <a:pt x="310" y="101"/>
                    </a:lnTo>
                    <a:lnTo>
                      <a:pt x="388" y="127"/>
                    </a:lnTo>
                    <a:lnTo>
                      <a:pt x="466" y="153"/>
                    </a:lnTo>
                    <a:lnTo>
                      <a:pt x="545" y="179"/>
                    </a:lnTo>
                    <a:lnTo>
                      <a:pt x="625" y="205"/>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956320" y="3107520"/>
                <a:ext cx="331200" cy="257760"/>
              </a:xfrm>
              <a:custGeom>
                <a:avLst/>
                <a:gdLst/>
                <a:ahLst/>
                <a:rect l="l" t="t" r="r" b="b"/>
                <a:pathLst>
                  <a:path w="891" h="940">
                    <a:moveTo>
                      <a:pt x="625" y="205"/>
                    </a:moveTo>
                    <a:lnTo>
                      <a:pt x="658" y="297"/>
                    </a:lnTo>
                    <a:lnTo>
                      <a:pt x="690" y="388"/>
                    </a:lnTo>
                    <a:lnTo>
                      <a:pt x="724" y="481"/>
                    </a:lnTo>
                    <a:lnTo>
                      <a:pt x="757" y="572"/>
                    </a:lnTo>
                    <a:lnTo>
                      <a:pt x="790" y="664"/>
                    </a:lnTo>
                    <a:lnTo>
                      <a:pt x="823" y="756"/>
                    </a:lnTo>
                    <a:lnTo>
                      <a:pt x="858" y="847"/>
                    </a:lnTo>
                    <a:lnTo>
                      <a:pt x="891" y="940"/>
                    </a:lnTo>
                    <a:lnTo>
                      <a:pt x="810" y="913"/>
                    </a:lnTo>
                    <a:lnTo>
                      <a:pt x="731" y="886"/>
                    </a:lnTo>
                    <a:lnTo>
                      <a:pt x="651" y="858"/>
                    </a:lnTo>
                    <a:lnTo>
                      <a:pt x="571" y="830"/>
                    </a:lnTo>
                    <a:lnTo>
                      <a:pt x="492" y="803"/>
                    </a:lnTo>
                    <a:lnTo>
                      <a:pt x="413" y="776"/>
                    </a:lnTo>
                    <a:lnTo>
                      <a:pt x="333" y="749"/>
                    </a:lnTo>
                    <a:lnTo>
                      <a:pt x="255" y="723"/>
                    </a:lnTo>
                    <a:lnTo>
                      <a:pt x="223" y="632"/>
                    </a:lnTo>
                    <a:lnTo>
                      <a:pt x="190" y="541"/>
                    </a:lnTo>
                    <a:lnTo>
                      <a:pt x="158" y="451"/>
                    </a:lnTo>
                    <a:lnTo>
                      <a:pt x="126" y="360"/>
                    </a:lnTo>
                    <a:lnTo>
                      <a:pt x="94" y="270"/>
                    </a:lnTo>
                    <a:lnTo>
                      <a:pt x="62" y="180"/>
                    </a:lnTo>
                    <a:lnTo>
                      <a:pt x="31" y="90"/>
                    </a:lnTo>
                    <a:lnTo>
                      <a:pt x="0" y="0"/>
                    </a:lnTo>
                    <a:lnTo>
                      <a:pt x="77" y="26"/>
                    </a:lnTo>
                    <a:lnTo>
                      <a:pt x="154" y="51"/>
                    </a:lnTo>
                    <a:lnTo>
                      <a:pt x="232" y="77"/>
                    </a:lnTo>
                    <a:lnTo>
                      <a:pt x="310" y="101"/>
                    </a:lnTo>
                    <a:lnTo>
                      <a:pt x="388" y="127"/>
                    </a:lnTo>
                    <a:lnTo>
                      <a:pt x="466" y="153"/>
                    </a:lnTo>
                    <a:lnTo>
                      <a:pt x="545" y="179"/>
                    </a:lnTo>
                    <a:lnTo>
                      <a:pt x="625" y="205"/>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956320" y="1396440"/>
                <a:ext cx="564120" cy="1767240"/>
              </a:xfrm>
              <a:custGeom>
                <a:avLst/>
                <a:gdLst/>
                <a:ahLst/>
                <a:rect l="l" t="t" r="r" b="b"/>
                <a:pathLst>
                  <a:path w="1514" h="6444">
                    <a:moveTo>
                      <a:pt x="883" y="0"/>
                    </a:moveTo>
                    <a:lnTo>
                      <a:pt x="960" y="16"/>
                    </a:lnTo>
                    <a:lnTo>
                      <a:pt x="1039" y="31"/>
                    </a:lnTo>
                    <a:lnTo>
                      <a:pt x="1118" y="47"/>
                    </a:lnTo>
                    <a:lnTo>
                      <a:pt x="1196" y="63"/>
                    </a:lnTo>
                    <a:lnTo>
                      <a:pt x="1275" y="79"/>
                    </a:lnTo>
                    <a:lnTo>
                      <a:pt x="1355" y="93"/>
                    </a:lnTo>
                    <a:lnTo>
                      <a:pt x="1434" y="109"/>
                    </a:lnTo>
                    <a:lnTo>
                      <a:pt x="1514" y="125"/>
                    </a:lnTo>
                    <a:lnTo>
                      <a:pt x="1487" y="321"/>
                    </a:lnTo>
                    <a:lnTo>
                      <a:pt x="1459" y="517"/>
                    </a:lnTo>
                    <a:lnTo>
                      <a:pt x="1431" y="713"/>
                    </a:lnTo>
                    <a:lnTo>
                      <a:pt x="1404" y="908"/>
                    </a:lnTo>
                    <a:lnTo>
                      <a:pt x="1376" y="1104"/>
                    </a:lnTo>
                    <a:lnTo>
                      <a:pt x="1348" y="1300"/>
                    </a:lnTo>
                    <a:lnTo>
                      <a:pt x="1320" y="1495"/>
                    </a:lnTo>
                    <a:lnTo>
                      <a:pt x="1293" y="1691"/>
                    </a:lnTo>
                    <a:lnTo>
                      <a:pt x="1266" y="1888"/>
                    </a:lnTo>
                    <a:lnTo>
                      <a:pt x="1239" y="2085"/>
                    </a:lnTo>
                    <a:lnTo>
                      <a:pt x="1210" y="2281"/>
                    </a:lnTo>
                    <a:lnTo>
                      <a:pt x="1183" y="2478"/>
                    </a:lnTo>
                    <a:lnTo>
                      <a:pt x="1156" y="2676"/>
                    </a:lnTo>
                    <a:lnTo>
                      <a:pt x="1128" y="2873"/>
                    </a:lnTo>
                    <a:lnTo>
                      <a:pt x="1101" y="3070"/>
                    </a:lnTo>
                    <a:lnTo>
                      <a:pt x="1072" y="3268"/>
                    </a:lnTo>
                    <a:lnTo>
                      <a:pt x="1045" y="3466"/>
                    </a:lnTo>
                    <a:lnTo>
                      <a:pt x="1017" y="3664"/>
                    </a:lnTo>
                    <a:lnTo>
                      <a:pt x="989" y="3863"/>
                    </a:lnTo>
                    <a:lnTo>
                      <a:pt x="960" y="4059"/>
                    </a:lnTo>
                    <a:lnTo>
                      <a:pt x="932" y="4258"/>
                    </a:lnTo>
                    <a:lnTo>
                      <a:pt x="904" y="4456"/>
                    </a:lnTo>
                    <a:lnTo>
                      <a:pt x="876" y="4654"/>
                    </a:lnTo>
                    <a:lnTo>
                      <a:pt x="847" y="4852"/>
                    </a:lnTo>
                    <a:lnTo>
                      <a:pt x="820" y="5050"/>
                    </a:lnTo>
                    <a:lnTo>
                      <a:pt x="792" y="5250"/>
                    </a:lnTo>
                    <a:lnTo>
                      <a:pt x="764" y="5448"/>
                    </a:lnTo>
                    <a:lnTo>
                      <a:pt x="737" y="5647"/>
                    </a:lnTo>
                    <a:lnTo>
                      <a:pt x="708" y="5847"/>
                    </a:lnTo>
                    <a:lnTo>
                      <a:pt x="681" y="6045"/>
                    </a:lnTo>
                    <a:lnTo>
                      <a:pt x="653" y="6244"/>
                    </a:lnTo>
                    <a:lnTo>
                      <a:pt x="625" y="6444"/>
                    </a:lnTo>
                    <a:lnTo>
                      <a:pt x="545" y="6418"/>
                    </a:lnTo>
                    <a:lnTo>
                      <a:pt x="466" y="6392"/>
                    </a:lnTo>
                    <a:lnTo>
                      <a:pt x="388" y="6366"/>
                    </a:lnTo>
                    <a:lnTo>
                      <a:pt x="310" y="6340"/>
                    </a:lnTo>
                    <a:lnTo>
                      <a:pt x="232" y="6316"/>
                    </a:lnTo>
                    <a:lnTo>
                      <a:pt x="154" y="6290"/>
                    </a:lnTo>
                    <a:lnTo>
                      <a:pt x="77" y="6265"/>
                    </a:lnTo>
                    <a:lnTo>
                      <a:pt x="0" y="6239"/>
                    </a:lnTo>
                    <a:lnTo>
                      <a:pt x="28" y="6043"/>
                    </a:lnTo>
                    <a:lnTo>
                      <a:pt x="55" y="5846"/>
                    </a:lnTo>
                    <a:lnTo>
                      <a:pt x="83" y="5650"/>
                    </a:lnTo>
                    <a:lnTo>
                      <a:pt x="111" y="5453"/>
                    </a:lnTo>
                    <a:lnTo>
                      <a:pt x="138" y="5256"/>
                    </a:lnTo>
                    <a:lnTo>
                      <a:pt x="165" y="5059"/>
                    </a:lnTo>
                    <a:lnTo>
                      <a:pt x="193" y="4863"/>
                    </a:lnTo>
                    <a:lnTo>
                      <a:pt x="221" y="4666"/>
                    </a:lnTo>
                    <a:lnTo>
                      <a:pt x="249" y="4471"/>
                    </a:lnTo>
                    <a:lnTo>
                      <a:pt x="276" y="4275"/>
                    </a:lnTo>
                    <a:lnTo>
                      <a:pt x="304" y="4079"/>
                    </a:lnTo>
                    <a:lnTo>
                      <a:pt x="331" y="3883"/>
                    </a:lnTo>
                    <a:lnTo>
                      <a:pt x="360" y="3688"/>
                    </a:lnTo>
                    <a:lnTo>
                      <a:pt x="388" y="3492"/>
                    </a:lnTo>
                    <a:lnTo>
                      <a:pt x="415" y="3296"/>
                    </a:lnTo>
                    <a:lnTo>
                      <a:pt x="443" y="3101"/>
                    </a:lnTo>
                    <a:lnTo>
                      <a:pt x="472" y="2906"/>
                    </a:lnTo>
                    <a:lnTo>
                      <a:pt x="499" y="2710"/>
                    </a:lnTo>
                    <a:lnTo>
                      <a:pt x="526" y="2516"/>
                    </a:lnTo>
                    <a:lnTo>
                      <a:pt x="553" y="2321"/>
                    </a:lnTo>
                    <a:lnTo>
                      <a:pt x="581" y="2127"/>
                    </a:lnTo>
                    <a:lnTo>
                      <a:pt x="609" y="1934"/>
                    </a:lnTo>
                    <a:lnTo>
                      <a:pt x="636" y="1739"/>
                    </a:lnTo>
                    <a:lnTo>
                      <a:pt x="663" y="1546"/>
                    </a:lnTo>
                    <a:lnTo>
                      <a:pt x="690" y="1353"/>
                    </a:lnTo>
                    <a:lnTo>
                      <a:pt x="717" y="1159"/>
                    </a:lnTo>
                    <a:lnTo>
                      <a:pt x="746" y="966"/>
                    </a:lnTo>
                    <a:lnTo>
                      <a:pt x="773" y="773"/>
                    </a:lnTo>
                    <a:lnTo>
                      <a:pt x="800" y="580"/>
                    </a:lnTo>
                    <a:lnTo>
                      <a:pt x="828" y="386"/>
                    </a:lnTo>
                    <a:lnTo>
                      <a:pt x="856" y="193"/>
                    </a:lnTo>
                    <a:lnTo>
                      <a:pt x="883"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956320" y="1396440"/>
                <a:ext cx="564120" cy="1767240"/>
              </a:xfrm>
              <a:custGeom>
                <a:avLst/>
                <a:gdLst/>
                <a:ahLst/>
                <a:rect l="l" t="t" r="r" b="b"/>
                <a:pathLst>
                  <a:path w="1514" h="6444">
                    <a:moveTo>
                      <a:pt x="883" y="0"/>
                    </a:moveTo>
                    <a:lnTo>
                      <a:pt x="960" y="16"/>
                    </a:lnTo>
                    <a:lnTo>
                      <a:pt x="1039" y="31"/>
                    </a:lnTo>
                    <a:lnTo>
                      <a:pt x="1118" y="47"/>
                    </a:lnTo>
                    <a:lnTo>
                      <a:pt x="1196" y="63"/>
                    </a:lnTo>
                    <a:lnTo>
                      <a:pt x="1275" y="79"/>
                    </a:lnTo>
                    <a:lnTo>
                      <a:pt x="1355" y="93"/>
                    </a:lnTo>
                    <a:lnTo>
                      <a:pt x="1434" y="109"/>
                    </a:lnTo>
                    <a:lnTo>
                      <a:pt x="1514" y="125"/>
                    </a:lnTo>
                    <a:lnTo>
                      <a:pt x="1487" y="321"/>
                    </a:lnTo>
                    <a:lnTo>
                      <a:pt x="1459" y="517"/>
                    </a:lnTo>
                    <a:lnTo>
                      <a:pt x="1431" y="713"/>
                    </a:lnTo>
                    <a:lnTo>
                      <a:pt x="1404" y="908"/>
                    </a:lnTo>
                    <a:lnTo>
                      <a:pt x="1376" y="1104"/>
                    </a:lnTo>
                    <a:lnTo>
                      <a:pt x="1348" y="1300"/>
                    </a:lnTo>
                    <a:lnTo>
                      <a:pt x="1320" y="1495"/>
                    </a:lnTo>
                    <a:lnTo>
                      <a:pt x="1293" y="1691"/>
                    </a:lnTo>
                    <a:lnTo>
                      <a:pt x="1266" y="1888"/>
                    </a:lnTo>
                    <a:lnTo>
                      <a:pt x="1239" y="2085"/>
                    </a:lnTo>
                    <a:lnTo>
                      <a:pt x="1210" y="2281"/>
                    </a:lnTo>
                    <a:lnTo>
                      <a:pt x="1183" y="2478"/>
                    </a:lnTo>
                    <a:lnTo>
                      <a:pt x="1156" y="2676"/>
                    </a:lnTo>
                    <a:lnTo>
                      <a:pt x="1128" y="2873"/>
                    </a:lnTo>
                    <a:lnTo>
                      <a:pt x="1101" y="3070"/>
                    </a:lnTo>
                    <a:lnTo>
                      <a:pt x="1072" y="3268"/>
                    </a:lnTo>
                    <a:lnTo>
                      <a:pt x="1045" y="3466"/>
                    </a:lnTo>
                    <a:lnTo>
                      <a:pt x="1017" y="3664"/>
                    </a:lnTo>
                    <a:lnTo>
                      <a:pt x="989" y="3863"/>
                    </a:lnTo>
                    <a:lnTo>
                      <a:pt x="960" y="4059"/>
                    </a:lnTo>
                    <a:lnTo>
                      <a:pt x="932" y="4258"/>
                    </a:lnTo>
                    <a:lnTo>
                      <a:pt x="904" y="4456"/>
                    </a:lnTo>
                    <a:lnTo>
                      <a:pt x="876" y="4654"/>
                    </a:lnTo>
                    <a:lnTo>
                      <a:pt x="847" y="4852"/>
                    </a:lnTo>
                    <a:lnTo>
                      <a:pt x="820" y="5050"/>
                    </a:lnTo>
                    <a:lnTo>
                      <a:pt x="792" y="5250"/>
                    </a:lnTo>
                    <a:lnTo>
                      <a:pt x="764" y="5448"/>
                    </a:lnTo>
                    <a:lnTo>
                      <a:pt x="737" y="5647"/>
                    </a:lnTo>
                    <a:lnTo>
                      <a:pt x="708" y="5847"/>
                    </a:lnTo>
                    <a:lnTo>
                      <a:pt x="681" y="6045"/>
                    </a:lnTo>
                    <a:lnTo>
                      <a:pt x="653" y="6244"/>
                    </a:lnTo>
                    <a:lnTo>
                      <a:pt x="625" y="6444"/>
                    </a:lnTo>
                    <a:lnTo>
                      <a:pt x="545" y="6418"/>
                    </a:lnTo>
                    <a:lnTo>
                      <a:pt x="466" y="6392"/>
                    </a:lnTo>
                    <a:lnTo>
                      <a:pt x="388" y="6366"/>
                    </a:lnTo>
                    <a:lnTo>
                      <a:pt x="310" y="6340"/>
                    </a:lnTo>
                    <a:lnTo>
                      <a:pt x="232" y="6316"/>
                    </a:lnTo>
                    <a:lnTo>
                      <a:pt x="154" y="6290"/>
                    </a:lnTo>
                    <a:lnTo>
                      <a:pt x="77" y="6265"/>
                    </a:lnTo>
                    <a:lnTo>
                      <a:pt x="0" y="6239"/>
                    </a:lnTo>
                    <a:lnTo>
                      <a:pt x="28" y="6043"/>
                    </a:lnTo>
                    <a:lnTo>
                      <a:pt x="55" y="5846"/>
                    </a:lnTo>
                    <a:lnTo>
                      <a:pt x="83" y="5650"/>
                    </a:lnTo>
                    <a:lnTo>
                      <a:pt x="111" y="5453"/>
                    </a:lnTo>
                    <a:lnTo>
                      <a:pt x="138" y="5256"/>
                    </a:lnTo>
                    <a:lnTo>
                      <a:pt x="165" y="5059"/>
                    </a:lnTo>
                    <a:lnTo>
                      <a:pt x="193" y="4863"/>
                    </a:lnTo>
                    <a:lnTo>
                      <a:pt x="221" y="4666"/>
                    </a:lnTo>
                    <a:lnTo>
                      <a:pt x="249" y="4471"/>
                    </a:lnTo>
                    <a:lnTo>
                      <a:pt x="276" y="4275"/>
                    </a:lnTo>
                    <a:lnTo>
                      <a:pt x="304" y="4079"/>
                    </a:lnTo>
                    <a:lnTo>
                      <a:pt x="331" y="3883"/>
                    </a:lnTo>
                    <a:lnTo>
                      <a:pt x="360" y="3688"/>
                    </a:lnTo>
                    <a:lnTo>
                      <a:pt x="388" y="3492"/>
                    </a:lnTo>
                    <a:lnTo>
                      <a:pt x="415" y="3296"/>
                    </a:lnTo>
                    <a:lnTo>
                      <a:pt x="443" y="3101"/>
                    </a:lnTo>
                    <a:lnTo>
                      <a:pt x="472" y="2906"/>
                    </a:lnTo>
                    <a:lnTo>
                      <a:pt x="499" y="2710"/>
                    </a:lnTo>
                    <a:lnTo>
                      <a:pt x="526" y="2516"/>
                    </a:lnTo>
                    <a:lnTo>
                      <a:pt x="553" y="2321"/>
                    </a:lnTo>
                    <a:lnTo>
                      <a:pt x="581" y="2127"/>
                    </a:lnTo>
                    <a:lnTo>
                      <a:pt x="609" y="1934"/>
                    </a:lnTo>
                    <a:lnTo>
                      <a:pt x="636" y="1739"/>
                    </a:lnTo>
                    <a:lnTo>
                      <a:pt x="663" y="1546"/>
                    </a:lnTo>
                    <a:lnTo>
                      <a:pt x="690" y="1353"/>
                    </a:lnTo>
                    <a:lnTo>
                      <a:pt x="717" y="1159"/>
                    </a:lnTo>
                    <a:lnTo>
                      <a:pt x="746" y="966"/>
                    </a:lnTo>
                    <a:lnTo>
                      <a:pt x="773" y="773"/>
                    </a:lnTo>
                    <a:lnTo>
                      <a:pt x="800" y="580"/>
                    </a:lnTo>
                    <a:lnTo>
                      <a:pt x="828" y="386"/>
                    </a:lnTo>
                    <a:lnTo>
                      <a:pt x="856" y="193"/>
                    </a:lnTo>
                    <a:lnTo>
                      <a:pt x="88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213000" y="1423800"/>
                <a:ext cx="387720" cy="1855080"/>
              </a:xfrm>
              <a:custGeom>
                <a:avLst/>
                <a:gdLst/>
                <a:ahLst/>
                <a:rect l="l" t="t" r="r" b="b"/>
                <a:pathLst>
                  <a:path w="1042" h="6766">
                    <a:moveTo>
                      <a:pt x="903" y="0"/>
                    </a:moveTo>
                    <a:lnTo>
                      <a:pt x="921" y="39"/>
                    </a:lnTo>
                    <a:lnTo>
                      <a:pt x="939" y="77"/>
                    </a:lnTo>
                    <a:lnTo>
                      <a:pt x="956" y="116"/>
                    </a:lnTo>
                    <a:lnTo>
                      <a:pt x="973" y="155"/>
                    </a:lnTo>
                    <a:lnTo>
                      <a:pt x="990" y="194"/>
                    </a:lnTo>
                    <a:lnTo>
                      <a:pt x="1007" y="232"/>
                    </a:lnTo>
                    <a:lnTo>
                      <a:pt x="1025" y="272"/>
                    </a:lnTo>
                    <a:lnTo>
                      <a:pt x="1042" y="310"/>
                    </a:lnTo>
                    <a:lnTo>
                      <a:pt x="1014" y="509"/>
                    </a:lnTo>
                    <a:lnTo>
                      <a:pt x="986" y="710"/>
                    </a:lnTo>
                    <a:lnTo>
                      <a:pt x="959" y="909"/>
                    </a:lnTo>
                    <a:lnTo>
                      <a:pt x="931" y="1110"/>
                    </a:lnTo>
                    <a:lnTo>
                      <a:pt x="902" y="1309"/>
                    </a:lnTo>
                    <a:lnTo>
                      <a:pt x="874" y="1510"/>
                    </a:lnTo>
                    <a:lnTo>
                      <a:pt x="846" y="1709"/>
                    </a:lnTo>
                    <a:lnTo>
                      <a:pt x="818" y="1910"/>
                    </a:lnTo>
                    <a:lnTo>
                      <a:pt x="789" y="2111"/>
                    </a:lnTo>
                    <a:lnTo>
                      <a:pt x="762" y="2311"/>
                    </a:lnTo>
                    <a:lnTo>
                      <a:pt x="734" y="2512"/>
                    </a:lnTo>
                    <a:lnTo>
                      <a:pt x="706" y="2714"/>
                    </a:lnTo>
                    <a:lnTo>
                      <a:pt x="678" y="2914"/>
                    </a:lnTo>
                    <a:lnTo>
                      <a:pt x="649" y="3116"/>
                    </a:lnTo>
                    <a:lnTo>
                      <a:pt x="621" y="3318"/>
                    </a:lnTo>
                    <a:lnTo>
                      <a:pt x="593" y="3519"/>
                    </a:lnTo>
                    <a:lnTo>
                      <a:pt x="565" y="3722"/>
                    </a:lnTo>
                    <a:lnTo>
                      <a:pt x="535" y="3924"/>
                    </a:lnTo>
                    <a:lnTo>
                      <a:pt x="507" y="4127"/>
                    </a:lnTo>
                    <a:lnTo>
                      <a:pt x="478" y="4329"/>
                    </a:lnTo>
                    <a:lnTo>
                      <a:pt x="450" y="4532"/>
                    </a:lnTo>
                    <a:lnTo>
                      <a:pt x="421" y="4735"/>
                    </a:lnTo>
                    <a:lnTo>
                      <a:pt x="392" y="4937"/>
                    </a:lnTo>
                    <a:lnTo>
                      <a:pt x="364" y="5140"/>
                    </a:lnTo>
                    <a:lnTo>
                      <a:pt x="336" y="5343"/>
                    </a:lnTo>
                    <a:lnTo>
                      <a:pt x="308" y="5546"/>
                    </a:lnTo>
                    <a:lnTo>
                      <a:pt x="278" y="5749"/>
                    </a:lnTo>
                    <a:lnTo>
                      <a:pt x="250" y="5952"/>
                    </a:lnTo>
                    <a:lnTo>
                      <a:pt x="221" y="6155"/>
                    </a:lnTo>
                    <a:lnTo>
                      <a:pt x="193" y="6360"/>
                    </a:lnTo>
                    <a:lnTo>
                      <a:pt x="165" y="6563"/>
                    </a:lnTo>
                    <a:lnTo>
                      <a:pt x="135" y="6766"/>
                    </a:lnTo>
                    <a:lnTo>
                      <a:pt x="118" y="6724"/>
                    </a:lnTo>
                    <a:lnTo>
                      <a:pt x="101" y="6682"/>
                    </a:lnTo>
                    <a:lnTo>
                      <a:pt x="84" y="6640"/>
                    </a:lnTo>
                    <a:lnTo>
                      <a:pt x="67" y="6599"/>
                    </a:lnTo>
                    <a:lnTo>
                      <a:pt x="51" y="6556"/>
                    </a:lnTo>
                    <a:lnTo>
                      <a:pt x="33" y="6514"/>
                    </a:lnTo>
                    <a:lnTo>
                      <a:pt x="16" y="6472"/>
                    </a:lnTo>
                    <a:lnTo>
                      <a:pt x="0" y="6429"/>
                    </a:lnTo>
                    <a:lnTo>
                      <a:pt x="28" y="6227"/>
                    </a:lnTo>
                    <a:lnTo>
                      <a:pt x="57" y="6024"/>
                    </a:lnTo>
                    <a:lnTo>
                      <a:pt x="85" y="5821"/>
                    </a:lnTo>
                    <a:lnTo>
                      <a:pt x="113" y="5619"/>
                    </a:lnTo>
                    <a:lnTo>
                      <a:pt x="141" y="5416"/>
                    </a:lnTo>
                    <a:lnTo>
                      <a:pt x="170" y="5214"/>
                    </a:lnTo>
                    <a:lnTo>
                      <a:pt x="199" y="5011"/>
                    </a:lnTo>
                    <a:lnTo>
                      <a:pt x="227" y="4809"/>
                    </a:lnTo>
                    <a:lnTo>
                      <a:pt x="255" y="4607"/>
                    </a:lnTo>
                    <a:lnTo>
                      <a:pt x="283" y="4406"/>
                    </a:lnTo>
                    <a:lnTo>
                      <a:pt x="312" y="4204"/>
                    </a:lnTo>
                    <a:lnTo>
                      <a:pt x="340" y="4003"/>
                    </a:lnTo>
                    <a:lnTo>
                      <a:pt x="368" y="3801"/>
                    </a:lnTo>
                    <a:lnTo>
                      <a:pt x="396" y="3600"/>
                    </a:lnTo>
                    <a:lnTo>
                      <a:pt x="426" y="3398"/>
                    </a:lnTo>
                    <a:lnTo>
                      <a:pt x="454" y="3198"/>
                    </a:lnTo>
                    <a:lnTo>
                      <a:pt x="482" y="2997"/>
                    </a:lnTo>
                    <a:lnTo>
                      <a:pt x="510" y="2796"/>
                    </a:lnTo>
                    <a:lnTo>
                      <a:pt x="538" y="2596"/>
                    </a:lnTo>
                    <a:lnTo>
                      <a:pt x="567" y="2395"/>
                    </a:lnTo>
                    <a:lnTo>
                      <a:pt x="595" y="2194"/>
                    </a:lnTo>
                    <a:lnTo>
                      <a:pt x="623" y="1994"/>
                    </a:lnTo>
                    <a:lnTo>
                      <a:pt x="651" y="1794"/>
                    </a:lnTo>
                    <a:lnTo>
                      <a:pt x="680" y="1594"/>
                    </a:lnTo>
                    <a:lnTo>
                      <a:pt x="707" y="1394"/>
                    </a:lnTo>
                    <a:lnTo>
                      <a:pt x="735" y="1196"/>
                    </a:lnTo>
                    <a:lnTo>
                      <a:pt x="763" y="997"/>
                    </a:lnTo>
                    <a:lnTo>
                      <a:pt x="792" y="797"/>
                    </a:lnTo>
                    <a:lnTo>
                      <a:pt x="820" y="598"/>
                    </a:lnTo>
                    <a:lnTo>
                      <a:pt x="848" y="398"/>
                    </a:lnTo>
                    <a:lnTo>
                      <a:pt x="875" y="199"/>
                    </a:lnTo>
                    <a:lnTo>
                      <a:pt x="903" y="0"/>
                    </a:lnTo>
                    <a:close/>
                  </a:path>
                </a:pathLst>
              </a:custGeom>
              <a:solidFill>
                <a:srgbClr val="3973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213000" y="1423800"/>
                <a:ext cx="387720" cy="1855080"/>
              </a:xfrm>
              <a:custGeom>
                <a:avLst/>
                <a:gdLst/>
                <a:ahLst/>
                <a:rect l="l" t="t" r="r" b="b"/>
                <a:pathLst>
                  <a:path w="1042" h="6766">
                    <a:moveTo>
                      <a:pt x="903" y="0"/>
                    </a:moveTo>
                    <a:lnTo>
                      <a:pt x="921" y="39"/>
                    </a:lnTo>
                    <a:lnTo>
                      <a:pt x="939" y="77"/>
                    </a:lnTo>
                    <a:lnTo>
                      <a:pt x="956" y="116"/>
                    </a:lnTo>
                    <a:lnTo>
                      <a:pt x="973" y="155"/>
                    </a:lnTo>
                    <a:lnTo>
                      <a:pt x="990" y="194"/>
                    </a:lnTo>
                    <a:lnTo>
                      <a:pt x="1007" y="232"/>
                    </a:lnTo>
                    <a:lnTo>
                      <a:pt x="1025" y="272"/>
                    </a:lnTo>
                    <a:lnTo>
                      <a:pt x="1042" y="310"/>
                    </a:lnTo>
                    <a:lnTo>
                      <a:pt x="1014" y="509"/>
                    </a:lnTo>
                    <a:lnTo>
                      <a:pt x="986" y="710"/>
                    </a:lnTo>
                    <a:lnTo>
                      <a:pt x="959" y="909"/>
                    </a:lnTo>
                    <a:lnTo>
                      <a:pt x="931" y="1110"/>
                    </a:lnTo>
                    <a:lnTo>
                      <a:pt x="902" y="1309"/>
                    </a:lnTo>
                    <a:lnTo>
                      <a:pt x="874" y="1510"/>
                    </a:lnTo>
                    <a:lnTo>
                      <a:pt x="846" y="1709"/>
                    </a:lnTo>
                    <a:lnTo>
                      <a:pt x="818" y="1910"/>
                    </a:lnTo>
                    <a:lnTo>
                      <a:pt x="789" y="2111"/>
                    </a:lnTo>
                    <a:lnTo>
                      <a:pt x="762" y="2311"/>
                    </a:lnTo>
                    <a:lnTo>
                      <a:pt x="734" y="2512"/>
                    </a:lnTo>
                    <a:lnTo>
                      <a:pt x="706" y="2714"/>
                    </a:lnTo>
                    <a:lnTo>
                      <a:pt x="678" y="2914"/>
                    </a:lnTo>
                    <a:lnTo>
                      <a:pt x="649" y="3116"/>
                    </a:lnTo>
                    <a:lnTo>
                      <a:pt x="621" y="3318"/>
                    </a:lnTo>
                    <a:lnTo>
                      <a:pt x="593" y="3519"/>
                    </a:lnTo>
                    <a:lnTo>
                      <a:pt x="565" y="3722"/>
                    </a:lnTo>
                    <a:lnTo>
                      <a:pt x="535" y="3924"/>
                    </a:lnTo>
                    <a:lnTo>
                      <a:pt x="507" y="4127"/>
                    </a:lnTo>
                    <a:lnTo>
                      <a:pt x="478" y="4329"/>
                    </a:lnTo>
                    <a:lnTo>
                      <a:pt x="450" y="4532"/>
                    </a:lnTo>
                    <a:lnTo>
                      <a:pt x="421" y="4735"/>
                    </a:lnTo>
                    <a:lnTo>
                      <a:pt x="392" y="4937"/>
                    </a:lnTo>
                    <a:lnTo>
                      <a:pt x="364" y="5140"/>
                    </a:lnTo>
                    <a:lnTo>
                      <a:pt x="336" y="5343"/>
                    </a:lnTo>
                    <a:lnTo>
                      <a:pt x="308" y="5546"/>
                    </a:lnTo>
                    <a:lnTo>
                      <a:pt x="278" y="5749"/>
                    </a:lnTo>
                    <a:lnTo>
                      <a:pt x="250" y="5952"/>
                    </a:lnTo>
                    <a:lnTo>
                      <a:pt x="221" y="6155"/>
                    </a:lnTo>
                    <a:lnTo>
                      <a:pt x="193" y="6360"/>
                    </a:lnTo>
                    <a:lnTo>
                      <a:pt x="165" y="6563"/>
                    </a:lnTo>
                    <a:lnTo>
                      <a:pt x="135" y="6766"/>
                    </a:lnTo>
                    <a:lnTo>
                      <a:pt x="118" y="6724"/>
                    </a:lnTo>
                    <a:lnTo>
                      <a:pt x="101" y="6682"/>
                    </a:lnTo>
                    <a:lnTo>
                      <a:pt x="84" y="6640"/>
                    </a:lnTo>
                    <a:lnTo>
                      <a:pt x="67" y="6599"/>
                    </a:lnTo>
                    <a:lnTo>
                      <a:pt x="51" y="6556"/>
                    </a:lnTo>
                    <a:lnTo>
                      <a:pt x="33" y="6514"/>
                    </a:lnTo>
                    <a:lnTo>
                      <a:pt x="16" y="6472"/>
                    </a:lnTo>
                    <a:lnTo>
                      <a:pt x="0" y="6429"/>
                    </a:lnTo>
                    <a:lnTo>
                      <a:pt x="28" y="6227"/>
                    </a:lnTo>
                    <a:lnTo>
                      <a:pt x="57" y="6024"/>
                    </a:lnTo>
                    <a:lnTo>
                      <a:pt x="85" y="5821"/>
                    </a:lnTo>
                    <a:lnTo>
                      <a:pt x="113" y="5619"/>
                    </a:lnTo>
                    <a:lnTo>
                      <a:pt x="141" y="5416"/>
                    </a:lnTo>
                    <a:lnTo>
                      <a:pt x="170" y="5214"/>
                    </a:lnTo>
                    <a:lnTo>
                      <a:pt x="199" y="5011"/>
                    </a:lnTo>
                    <a:lnTo>
                      <a:pt x="227" y="4809"/>
                    </a:lnTo>
                    <a:lnTo>
                      <a:pt x="255" y="4607"/>
                    </a:lnTo>
                    <a:lnTo>
                      <a:pt x="283" y="4406"/>
                    </a:lnTo>
                    <a:lnTo>
                      <a:pt x="312" y="4204"/>
                    </a:lnTo>
                    <a:lnTo>
                      <a:pt x="340" y="4003"/>
                    </a:lnTo>
                    <a:lnTo>
                      <a:pt x="368" y="3801"/>
                    </a:lnTo>
                    <a:lnTo>
                      <a:pt x="396" y="3600"/>
                    </a:lnTo>
                    <a:lnTo>
                      <a:pt x="426" y="3398"/>
                    </a:lnTo>
                    <a:lnTo>
                      <a:pt x="454" y="3198"/>
                    </a:lnTo>
                    <a:lnTo>
                      <a:pt x="482" y="2997"/>
                    </a:lnTo>
                    <a:lnTo>
                      <a:pt x="510" y="2796"/>
                    </a:lnTo>
                    <a:lnTo>
                      <a:pt x="538" y="2596"/>
                    </a:lnTo>
                    <a:lnTo>
                      <a:pt x="567" y="2395"/>
                    </a:lnTo>
                    <a:lnTo>
                      <a:pt x="595" y="2194"/>
                    </a:lnTo>
                    <a:lnTo>
                      <a:pt x="623" y="1994"/>
                    </a:lnTo>
                    <a:lnTo>
                      <a:pt x="651" y="1794"/>
                    </a:lnTo>
                    <a:lnTo>
                      <a:pt x="680" y="1594"/>
                    </a:lnTo>
                    <a:lnTo>
                      <a:pt x="707" y="1394"/>
                    </a:lnTo>
                    <a:lnTo>
                      <a:pt x="735" y="1196"/>
                    </a:lnTo>
                    <a:lnTo>
                      <a:pt x="763" y="997"/>
                    </a:lnTo>
                    <a:lnTo>
                      <a:pt x="792" y="797"/>
                    </a:lnTo>
                    <a:lnTo>
                      <a:pt x="820" y="598"/>
                    </a:lnTo>
                    <a:lnTo>
                      <a:pt x="848" y="398"/>
                    </a:lnTo>
                    <a:lnTo>
                      <a:pt x="875" y="199"/>
                    </a:lnTo>
                    <a:lnTo>
                      <a:pt x="90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860920" y="3101760"/>
                <a:ext cx="401400" cy="176760"/>
              </a:xfrm>
              <a:custGeom>
                <a:avLst/>
                <a:gdLst/>
                <a:ahLst/>
                <a:rect l="l" t="t" r="r" b="b"/>
                <a:pathLst>
                  <a:path w="1075" h="647">
                    <a:moveTo>
                      <a:pt x="940" y="310"/>
                    </a:moveTo>
                    <a:lnTo>
                      <a:pt x="956" y="353"/>
                    </a:lnTo>
                    <a:lnTo>
                      <a:pt x="973" y="395"/>
                    </a:lnTo>
                    <a:lnTo>
                      <a:pt x="991" y="437"/>
                    </a:lnTo>
                    <a:lnTo>
                      <a:pt x="1007" y="480"/>
                    </a:lnTo>
                    <a:lnTo>
                      <a:pt x="1024" y="521"/>
                    </a:lnTo>
                    <a:lnTo>
                      <a:pt x="1041" y="563"/>
                    </a:lnTo>
                    <a:lnTo>
                      <a:pt x="1058" y="605"/>
                    </a:lnTo>
                    <a:lnTo>
                      <a:pt x="1075" y="647"/>
                    </a:lnTo>
                    <a:lnTo>
                      <a:pt x="955" y="606"/>
                    </a:lnTo>
                    <a:lnTo>
                      <a:pt x="835" y="567"/>
                    </a:lnTo>
                    <a:lnTo>
                      <a:pt x="716" y="526"/>
                    </a:lnTo>
                    <a:lnTo>
                      <a:pt x="598" y="487"/>
                    </a:lnTo>
                    <a:lnTo>
                      <a:pt x="479" y="446"/>
                    </a:lnTo>
                    <a:lnTo>
                      <a:pt x="361" y="407"/>
                    </a:lnTo>
                    <a:lnTo>
                      <a:pt x="244" y="368"/>
                    </a:lnTo>
                    <a:lnTo>
                      <a:pt x="126" y="328"/>
                    </a:lnTo>
                    <a:lnTo>
                      <a:pt x="111" y="288"/>
                    </a:lnTo>
                    <a:lnTo>
                      <a:pt x="95" y="247"/>
                    </a:lnTo>
                    <a:lnTo>
                      <a:pt x="78" y="205"/>
                    </a:lnTo>
                    <a:lnTo>
                      <a:pt x="62" y="164"/>
                    </a:lnTo>
                    <a:lnTo>
                      <a:pt x="46" y="123"/>
                    </a:lnTo>
                    <a:lnTo>
                      <a:pt x="31" y="82"/>
                    </a:lnTo>
                    <a:lnTo>
                      <a:pt x="15" y="41"/>
                    </a:lnTo>
                    <a:lnTo>
                      <a:pt x="0" y="0"/>
                    </a:lnTo>
                    <a:lnTo>
                      <a:pt x="115" y="39"/>
                    </a:lnTo>
                    <a:lnTo>
                      <a:pt x="230" y="77"/>
                    </a:lnTo>
                    <a:lnTo>
                      <a:pt x="347" y="115"/>
                    </a:lnTo>
                    <a:lnTo>
                      <a:pt x="464" y="153"/>
                    </a:lnTo>
                    <a:lnTo>
                      <a:pt x="582" y="193"/>
                    </a:lnTo>
                    <a:lnTo>
                      <a:pt x="700" y="232"/>
                    </a:lnTo>
                    <a:lnTo>
                      <a:pt x="820" y="270"/>
                    </a:lnTo>
                    <a:lnTo>
                      <a:pt x="940" y="310"/>
                    </a:lnTo>
                    <a:close/>
                  </a:path>
                </a:pathLst>
              </a:custGeom>
              <a:solidFill>
                <a:srgbClr val="3f44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860920" y="3101760"/>
                <a:ext cx="401400" cy="176760"/>
              </a:xfrm>
              <a:custGeom>
                <a:avLst/>
                <a:gdLst/>
                <a:ahLst/>
                <a:rect l="l" t="t" r="r" b="b"/>
                <a:pathLst>
                  <a:path w="1075" h="647">
                    <a:moveTo>
                      <a:pt x="940" y="310"/>
                    </a:moveTo>
                    <a:lnTo>
                      <a:pt x="956" y="353"/>
                    </a:lnTo>
                    <a:lnTo>
                      <a:pt x="973" y="395"/>
                    </a:lnTo>
                    <a:lnTo>
                      <a:pt x="991" y="437"/>
                    </a:lnTo>
                    <a:lnTo>
                      <a:pt x="1007" y="480"/>
                    </a:lnTo>
                    <a:lnTo>
                      <a:pt x="1024" y="521"/>
                    </a:lnTo>
                    <a:lnTo>
                      <a:pt x="1041" y="563"/>
                    </a:lnTo>
                    <a:lnTo>
                      <a:pt x="1058" y="605"/>
                    </a:lnTo>
                    <a:lnTo>
                      <a:pt x="1075" y="647"/>
                    </a:lnTo>
                    <a:lnTo>
                      <a:pt x="955" y="606"/>
                    </a:lnTo>
                    <a:lnTo>
                      <a:pt x="835" y="567"/>
                    </a:lnTo>
                    <a:lnTo>
                      <a:pt x="716" y="526"/>
                    </a:lnTo>
                    <a:lnTo>
                      <a:pt x="598" y="487"/>
                    </a:lnTo>
                    <a:lnTo>
                      <a:pt x="479" y="446"/>
                    </a:lnTo>
                    <a:lnTo>
                      <a:pt x="361" y="407"/>
                    </a:lnTo>
                    <a:lnTo>
                      <a:pt x="244" y="368"/>
                    </a:lnTo>
                    <a:lnTo>
                      <a:pt x="126" y="328"/>
                    </a:lnTo>
                    <a:lnTo>
                      <a:pt x="111" y="288"/>
                    </a:lnTo>
                    <a:lnTo>
                      <a:pt x="95" y="247"/>
                    </a:lnTo>
                    <a:lnTo>
                      <a:pt x="78" y="205"/>
                    </a:lnTo>
                    <a:lnTo>
                      <a:pt x="62" y="164"/>
                    </a:lnTo>
                    <a:lnTo>
                      <a:pt x="46" y="123"/>
                    </a:lnTo>
                    <a:lnTo>
                      <a:pt x="31" y="82"/>
                    </a:lnTo>
                    <a:lnTo>
                      <a:pt x="15" y="41"/>
                    </a:lnTo>
                    <a:lnTo>
                      <a:pt x="0" y="0"/>
                    </a:lnTo>
                    <a:lnTo>
                      <a:pt x="115" y="39"/>
                    </a:lnTo>
                    <a:lnTo>
                      <a:pt x="230" y="77"/>
                    </a:lnTo>
                    <a:lnTo>
                      <a:pt x="347" y="115"/>
                    </a:lnTo>
                    <a:lnTo>
                      <a:pt x="464" y="153"/>
                    </a:lnTo>
                    <a:lnTo>
                      <a:pt x="582" y="193"/>
                    </a:lnTo>
                    <a:lnTo>
                      <a:pt x="700" y="232"/>
                    </a:lnTo>
                    <a:lnTo>
                      <a:pt x="820" y="270"/>
                    </a:lnTo>
                    <a:lnTo>
                      <a:pt x="940" y="31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860920" y="1371600"/>
                <a:ext cx="687960" cy="1815480"/>
              </a:xfrm>
              <a:custGeom>
                <a:avLst/>
                <a:gdLst/>
                <a:ahLst/>
                <a:rect l="l" t="t" r="r" b="b"/>
                <a:pathLst>
                  <a:path w="1843" h="6618">
                    <a:moveTo>
                      <a:pt x="893" y="0"/>
                    </a:moveTo>
                    <a:lnTo>
                      <a:pt x="1010" y="24"/>
                    </a:lnTo>
                    <a:lnTo>
                      <a:pt x="1127" y="47"/>
                    </a:lnTo>
                    <a:lnTo>
                      <a:pt x="1245" y="70"/>
                    </a:lnTo>
                    <a:lnTo>
                      <a:pt x="1364" y="94"/>
                    </a:lnTo>
                    <a:lnTo>
                      <a:pt x="1483" y="117"/>
                    </a:lnTo>
                    <a:lnTo>
                      <a:pt x="1602" y="142"/>
                    </a:lnTo>
                    <a:lnTo>
                      <a:pt x="1722" y="165"/>
                    </a:lnTo>
                    <a:lnTo>
                      <a:pt x="1843" y="189"/>
                    </a:lnTo>
                    <a:lnTo>
                      <a:pt x="1815" y="388"/>
                    </a:lnTo>
                    <a:lnTo>
                      <a:pt x="1788" y="587"/>
                    </a:lnTo>
                    <a:lnTo>
                      <a:pt x="1760" y="787"/>
                    </a:lnTo>
                    <a:lnTo>
                      <a:pt x="1732" y="986"/>
                    </a:lnTo>
                    <a:lnTo>
                      <a:pt x="1703" y="1186"/>
                    </a:lnTo>
                    <a:lnTo>
                      <a:pt x="1675" y="1385"/>
                    </a:lnTo>
                    <a:lnTo>
                      <a:pt x="1647" y="1583"/>
                    </a:lnTo>
                    <a:lnTo>
                      <a:pt x="1620" y="1783"/>
                    </a:lnTo>
                    <a:lnTo>
                      <a:pt x="1591" y="1983"/>
                    </a:lnTo>
                    <a:lnTo>
                      <a:pt x="1563" y="2183"/>
                    </a:lnTo>
                    <a:lnTo>
                      <a:pt x="1535" y="2383"/>
                    </a:lnTo>
                    <a:lnTo>
                      <a:pt x="1507" y="2584"/>
                    </a:lnTo>
                    <a:lnTo>
                      <a:pt x="1478" y="2785"/>
                    </a:lnTo>
                    <a:lnTo>
                      <a:pt x="1450" y="2985"/>
                    </a:lnTo>
                    <a:lnTo>
                      <a:pt x="1422" y="3186"/>
                    </a:lnTo>
                    <a:lnTo>
                      <a:pt x="1394" y="3387"/>
                    </a:lnTo>
                    <a:lnTo>
                      <a:pt x="1366" y="3587"/>
                    </a:lnTo>
                    <a:lnTo>
                      <a:pt x="1336" y="3789"/>
                    </a:lnTo>
                    <a:lnTo>
                      <a:pt x="1308" y="3990"/>
                    </a:lnTo>
                    <a:lnTo>
                      <a:pt x="1280" y="4192"/>
                    </a:lnTo>
                    <a:lnTo>
                      <a:pt x="1252" y="4393"/>
                    </a:lnTo>
                    <a:lnTo>
                      <a:pt x="1223" y="4595"/>
                    </a:lnTo>
                    <a:lnTo>
                      <a:pt x="1195" y="4796"/>
                    </a:lnTo>
                    <a:lnTo>
                      <a:pt x="1167" y="4998"/>
                    </a:lnTo>
                    <a:lnTo>
                      <a:pt x="1139" y="5200"/>
                    </a:lnTo>
                    <a:lnTo>
                      <a:pt x="1110" y="5403"/>
                    </a:lnTo>
                    <a:lnTo>
                      <a:pt x="1081" y="5605"/>
                    </a:lnTo>
                    <a:lnTo>
                      <a:pt x="1053" y="5808"/>
                    </a:lnTo>
                    <a:lnTo>
                      <a:pt x="1025" y="6010"/>
                    </a:lnTo>
                    <a:lnTo>
                      <a:pt x="997" y="6213"/>
                    </a:lnTo>
                    <a:lnTo>
                      <a:pt x="968" y="6416"/>
                    </a:lnTo>
                    <a:lnTo>
                      <a:pt x="940" y="6618"/>
                    </a:lnTo>
                    <a:lnTo>
                      <a:pt x="820" y="6578"/>
                    </a:lnTo>
                    <a:lnTo>
                      <a:pt x="700" y="6540"/>
                    </a:lnTo>
                    <a:lnTo>
                      <a:pt x="582" y="6501"/>
                    </a:lnTo>
                    <a:lnTo>
                      <a:pt x="464" y="6461"/>
                    </a:lnTo>
                    <a:lnTo>
                      <a:pt x="347" y="6423"/>
                    </a:lnTo>
                    <a:lnTo>
                      <a:pt x="230" y="6385"/>
                    </a:lnTo>
                    <a:lnTo>
                      <a:pt x="115" y="6347"/>
                    </a:lnTo>
                    <a:lnTo>
                      <a:pt x="0" y="6308"/>
                    </a:lnTo>
                    <a:lnTo>
                      <a:pt x="28" y="6109"/>
                    </a:lnTo>
                    <a:lnTo>
                      <a:pt x="56" y="5910"/>
                    </a:lnTo>
                    <a:lnTo>
                      <a:pt x="83" y="5711"/>
                    </a:lnTo>
                    <a:lnTo>
                      <a:pt x="112" y="5512"/>
                    </a:lnTo>
                    <a:lnTo>
                      <a:pt x="140" y="5313"/>
                    </a:lnTo>
                    <a:lnTo>
                      <a:pt x="168" y="5115"/>
                    </a:lnTo>
                    <a:lnTo>
                      <a:pt x="196" y="4917"/>
                    </a:lnTo>
                    <a:lnTo>
                      <a:pt x="225" y="4718"/>
                    </a:lnTo>
                    <a:lnTo>
                      <a:pt x="253" y="4520"/>
                    </a:lnTo>
                    <a:lnTo>
                      <a:pt x="281" y="4322"/>
                    </a:lnTo>
                    <a:lnTo>
                      <a:pt x="309" y="4125"/>
                    </a:lnTo>
                    <a:lnTo>
                      <a:pt x="336" y="3927"/>
                    </a:lnTo>
                    <a:lnTo>
                      <a:pt x="365" y="3729"/>
                    </a:lnTo>
                    <a:lnTo>
                      <a:pt x="393" y="3532"/>
                    </a:lnTo>
                    <a:lnTo>
                      <a:pt x="421" y="3334"/>
                    </a:lnTo>
                    <a:lnTo>
                      <a:pt x="449" y="3137"/>
                    </a:lnTo>
                    <a:lnTo>
                      <a:pt x="477" y="2940"/>
                    </a:lnTo>
                    <a:lnTo>
                      <a:pt x="505" y="2743"/>
                    </a:lnTo>
                    <a:lnTo>
                      <a:pt x="533" y="2546"/>
                    </a:lnTo>
                    <a:lnTo>
                      <a:pt x="560" y="2349"/>
                    </a:lnTo>
                    <a:lnTo>
                      <a:pt x="588" y="2152"/>
                    </a:lnTo>
                    <a:lnTo>
                      <a:pt x="616" y="1956"/>
                    </a:lnTo>
                    <a:lnTo>
                      <a:pt x="644" y="1759"/>
                    </a:lnTo>
                    <a:lnTo>
                      <a:pt x="671" y="1563"/>
                    </a:lnTo>
                    <a:lnTo>
                      <a:pt x="699" y="1368"/>
                    </a:lnTo>
                    <a:lnTo>
                      <a:pt x="728" y="1172"/>
                    </a:lnTo>
                    <a:lnTo>
                      <a:pt x="755" y="976"/>
                    </a:lnTo>
                    <a:lnTo>
                      <a:pt x="782" y="782"/>
                    </a:lnTo>
                    <a:lnTo>
                      <a:pt x="810" y="586"/>
                    </a:lnTo>
                    <a:lnTo>
                      <a:pt x="837" y="390"/>
                    </a:lnTo>
                    <a:lnTo>
                      <a:pt x="866" y="196"/>
                    </a:lnTo>
                    <a:lnTo>
                      <a:pt x="893" y="0"/>
                    </a:lnTo>
                    <a:close/>
                  </a:path>
                </a:pathLst>
              </a:custGeom>
              <a:solidFill>
                <a:srgbClr val="2a7e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860920" y="1371600"/>
                <a:ext cx="687960" cy="1815480"/>
              </a:xfrm>
              <a:custGeom>
                <a:avLst/>
                <a:gdLst/>
                <a:ahLst/>
                <a:rect l="l" t="t" r="r" b="b"/>
                <a:pathLst>
                  <a:path w="1843" h="6618">
                    <a:moveTo>
                      <a:pt x="893" y="0"/>
                    </a:moveTo>
                    <a:lnTo>
                      <a:pt x="1010" y="24"/>
                    </a:lnTo>
                    <a:lnTo>
                      <a:pt x="1127" y="47"/>
                    </a:lnTo>
                    <a:lnTo>
                      <a:pt x="1245" y="70"/>
                    </a:lnTo>
                    <a:lnTo>
                      <a:pt x="1364" y="94"/>
                    </a:lnTo>
                    <a:lnTo>
                      <a:pt x="1483" y="117"/>
                    </a:lnTo>
                    <a:lnTo>
                      <a:pt x="1602" y="142"/>
                    </a:lnTo>
                    <a:lnTo>
                      <a:pt x="1722" y="165"/>
                    </a:lnTo>
                    <a:lnTo>
                      <a:pt x="1843" y="189"/>
                    </a:lnTo>
                    <a:lnTo>
                      <a:pt x="1815" y="388"/>
                    </a:lnTo>
                    <a:lnTo>
                      <a:pt x="1788" y="587"/>
                    </a:lnTo>
                    <a:lnTo>
                      <a:pt x="1760" y="787"/>
                    </a:lnTo>
                    <a:lnTo>
                      <a:pt x="1732" y="986"/>
                    </a:lnTo>
                    <a:lnTo>
                      <a:pt x="1703" y="1186"/>
                    </a:lnTo>
                    <a:lnTo>
                      <a:pt x="1675" y="1385"/>
                    </a:lnTo>
                    <a:lnTo>
                      <a:pt x="1647" y="1583"/>
                    </a:lnTo>
                    <a:lnTo>
                      <a:pt x="1620" y="1783"/>
                    </a:lnTo>
                    <a:lnTo>
                      <a:pt x="1591" y="1983"/>
                    </a:lnTo>
                    <a:lnTo>
                      <a:pt x="1563" y="2183"/>
                    </a:lnTo>
                    <a:lnTo>
                      <a:pt x="1535" y="2383"/>
                    </a:lnTo>
                    <a:lnTo>
                      <a:pt x="1507" y="2584"/>
                    </a:lnTo>
                    <a:lnTo>
                      <a:pt x="1478" y="2785"/>
                    </a:lnTo>
                    <a:lnTo>
                      <a:pt x="1450" y="2985"/>
                    </a:lnTo>
                    <a:lnTo>
                      <a:pt x="1422" y="3186"/>
                    </a:lnTo>
                    <a:lnTo>
                      <a:pt x="1394" y="3387"/>
                    </a:lnTo>
                    <a:lnTo>
                      <a:pt x="1366" y="3587"/>
                    </a:lnTo>
                    <a:lnTo>
                      <a:pt x="1336" y="3789"/>
                    </a:lnTo>
                    <a:lnTo>
                      <a:pt x="1308" y="3990"/>
                    </a:lnTo>
                    <a:lnTo>
                      <a:pt x="1280" y="4192"/>
                    </a:lnTo>
                    <a:lnTo>
                      <a:pt x="1252" y="4393"/>
                    </a:lnTo>
                    <a:lnTo>
                      <a:pt x="1223" y="4595"/>
                    </a:lnTo>
                    <a:lnTo>
                      <a:pt x="1195" y="4796"/>
                    </a:lnTo>
                    <a:lnTo>
                      <a:pt x="1167" y="4998"/>
                    </a:lnTo>
                    <a:lnTo>
                      <a:pt x="1139" y="5200"/>
                    </a:lnTo>
                    <a:lnTo>
                      <a:pt x="1110" y="5403"/>
                    </a:lnTo>
                    <a:lnTo>
                      <a:pt x="1081" y="5605"/>
                    </a:lnTo>
                    <a:lnTo>
                      <a:pt x="1053" y="5808"/>
                    </a:lnTo>
                    <a:lnTo>
                      <a:pt x="1025" y="6010"/>
                    </a:lnTo>
                    <a:lnTo>
                      <a:pt x="997" y="6213"/>
                    </a:lnTo>
                    <a:lnTo>
                      <a:pt x="968" y="6416"/>
                    </a:lnTo>
                    <a:lnTo>
                      <a:pt x="940" y="6618"/>
                    </a:lnTo>
                    <a:lnTo>
                      <a:pt x="820" y="6578"/>
                    </a:lnTo>
                    <a:lnTo>
                      <a:pt x="700" y="6540"/>
                    </a:lnTo>
                    <a:lnTo>
                      <a:pt x="582" y="6501"/>
                    </a:lnTo>
                    <a:lnTo>
                      <a:pt x="464" y="6461"/>
                    </a:lnTo>
                    <a:lnTo>
                      <a:pt x="347" y="6423"/>
                    </a:lnTo>
                    <a:lnTo>
                      <a:pt x="230" y="6385"/>
                    </a:lnTo>
                    <a:lnTo>
                      <a:pt x="115" y="6347"/>
                    </a:lnTo>
                    <a:lnTo>
                      <a:pt x="0" y="6308"/>
                    </a:lnTo>
                    <a:lnTo>
                      <a:pt x="28" y="6109"/>
                    </a:lnTo>
                    <a:lnTo>
                      <a:pt x="56" y="5910"/>
                    </a:lnTo>
                    <a:lnTo>
                      <a:pt x="83" y="5711"/>
                    </a:lnTo>
                    <a:lnTo>
                      <a:pt x="112" y="5512"/>
                    </a:lnTo>
                    <a:lnTo>
                      <a:pt x="140" y="5313"/>
                    </a:lnTo>
                    <a:lnTo>
                      <a:pt x="168" y="5115"/>
                    </a:lnTo>
                    <a:lnTo>
                      <a:pt x="196" y="4917"/>
                    </a:lnTo>
                    <a:lnTo>
                      <a:pt x="225" y="4718"/>
                    </a:lnTo>
                    <a:lnTo>
                      <a:pt x="253" y="4520"/>
                    </a:lnTo>
                    <a:lnTo>
                      <a:pt x="281" y="4322"/>
                    </a:lnTo>
                    <a:lnTo>
                      <a:pt x="309" y="4125"/>
                    </a:lnTo>
                    <a:lnTo>
                      <a:pt x="336" y="3927"/>
                    </a:lnTo>
                    <a:lnTo>
                      <a:pt x="365" y="3729"/>
                    </a:lnTo>
                    <a:lnTo>
                      <a:pt x="393" y="3532"/>
                    </a:lnTo>
                    <a:lnTo>
                      <a:pt x="421" y="3334"/>
                    </a:lnTo>
                    <a:lnTo>
                      <a:pt x="449" y="3137"/>
                    </a:lnTo>
                    <a:lnTo>
                      <a:pt x="477" y="2940"/>
                    </a:lnTo>
                    <a:lnTo>
                      <a:pt x="505" y="2743"/>
                    </a:lnTo>
                    <a:lnTo>
                      <a:pt x="533" y="2546"/>
                    </a:lnTo>
                    <a:lnTo>
                      <a:pt x="560" y="2349"/>
                    </a:lnTo>
                    <a:lnTo>
                      <a:pt x="588" y="2152"/>
                    </a:lnTo>
                    <a:lnTo>
                      <a:pt x="616" y="1956"/>
                    </a:lnTo>
                    <a:lnTo>
                      <a:pt x="644" y="1759"/>
                    </a:lnTo>
                    <a:lnTo>
                      <a:pt x="671" y="1563"/>
                    </a:lnTo>
                    <a:lnTo>
                      <a:pt x="699" y="1368"/>
                    </a:lnTo>
                    <a:lnTo>
                      <a:pt x="728" y="1172"/>
                    </a:lnTo>
                    <a:lnTo>
                      <a:pt x="755" y="976"/>
                    </a:lnTo>
                    <a:lnTo>
                      <a:pt x="782" y="782"/>
                    </a:lnTo>
                    <a:lnTo>
                      <a:pt x="810" y="586"/>
                    </a:lnTo>
                    <a:lnTo>
                      <a:pt x="837" y="390"/>
                    </a:lnTo>
                    <a:lnTo>
                      <a:pt x="866" y="196"/>
                    </a:lnTo>
                    <a:lnTo>
                      <a:pt x="89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526720" y="1774800"/>
                <a:ext cx="480600" cy="2185560"/>
              </a:xfrm>
              <a:custGeom>
                <a:avLst/>
                <a:gdLst/>
                <a:ahLst/>
                <a:rect l="l" t="t" r="r" b="b"/>
                <a:pathLst>
                  <a:path w="1291" h="7967">
                    <a:moveTo>
                      <a:pt x="931" y="0"/>
                    </a:moveTo>
                    <a:lnTo>
                      <a:pt x="975" y="96"/>
                    </a:lnTo>
                    <a:lnTo>
                      <a:pt x="1021" y="193"/>
                    </a:lnTo>
                    <a:lnTo>
                      <a:pt x="1065" y="289"/>
                    </a:lnTo>
                    <a:lnTo>
                      <a:pt x="1110" y="387"/>
                    </a:lnTo>
                    <a:lnTo>
                      <a:pt x="1156" y="483"/>
                    </a:lnTo>
                    <a:lnTo>
                      <a:pt x="1201" y="580"/>
                    </a:lnTo>
                    <a:lnTo>
                      <a:pt x="1245" y="677"/>
                    </a:lnTo>
                    <a:lnTo>
                      <a:pt x="1291" y="773"/>
                    </a:lnTo>
                    <a:lnTo>
                      <a:pt x="1261" y="996"/>
                    </a:lnTo>
                    <a:lnTo>
                      <a:pt x="1232" y="1219"/>
                    </a:lnTo>
                    <a:lnTo>
                      <a:pt x="1204" y="1442"/>
                    </a:lnTo>
                    <a:lnTo>
                      <a:pt x="1175" y="1664"/>
                    </a:lnTo>
                    <a:lnTo>
                      <a:pt x="1146" y="1888"/>
                    </a:lnTo>
                    <a:lnTo>
                      <a:pt x="1116" y="2111"/>
                    </a:lnTo>
                    <a:lnTo>
                      <a:pt x="1088" y="2334"/>
                    </a:lnTo>
                    <a:lnTo>
                      <a:pt x="1059" y="2557"/>
                    </a:lnTo>
                    <a:lnTo>
                      <a:pt x="1030" y="2781"/>
                    </a:lnTo>
                    <a:lnTo>
                      <a:pt x="1000" y="3005"/>
                    </a:lnTo>
                    <a:lnTo>
                      <a:pt x="972" y="3230"/>
                    </a:lnTo>
                    <a:lnTo>
                      <a:pt x="943" y="3454"/>
                    </a:lnTo>
                    <a:lnTo>
                      <a:pt x="914" y="3678"/>
                    </a:lnTo>
                    <a:lnTo>
                      <a:pt x="885" y="3902"/>
                    </a:lnTo>
                    <a:lnTo>
                      <a:pt x="856" y="4128"/>
                    </a:lnTo>
                    <a:lnTo>
                      <a:pt x="827" y="4352"/>
                    </a:lnTo>
                    <a:lnTo>
                      <a:pt x="798" y="4577"/>
                    </a:lnTo>
                    <a:lnTo>
                      <a:pt x="768" y="4801"/>
                    </a:lnTo>
                    <a:lnTo>
                      <a:pt x="738" y="5026"/>
                    </a:lnTo>
                    <a:lnTo>
                      <a:pt x="709" y="5251"/>
                    </a:lnTo>
                    <a:lnTo>
                      <a:pt x="680" y="5477"/>
                    </a:lnTo>
                    <a:lnTo>
                      <a:pt x="651" y="5703"/>
                    </a:lnTo>
                    <a:lnTo>
                      <a:pt x="621" y="5928"/>
                    </a:lnTo>
                    <a:lnTo>
                      <a:pt x="592" y="6155"/>
                    </a:lnTo>
                    <a:lnTo>
                      <a:pt x="563" y="6380"/>
                    </a:lnTo>
                    <a:lnTo>
                      <a:pt x="534" y="6607"/>
                    </a:lnTo>
                    <a:lnTo>
                      <a:pt x="504" y="6833"/>
                    </a:lnTo>
                    <a:lnTo>
                      <a:pt x="474" y="7060"/>
                    </a:lnTo>
                    <a:lnTo>
                      <a:pt x="445" y="7286"/>
                    </a:lnTo>
                    <a:lnTo>
                      <a:pt x="416" y="7513"/>
                    </a:lnTo>
                    <a:lnTo>
                      <a:pt x="386" y="7739"/>
                    </a:lnTo>
                    <a:lnTo>
                      <a:pt x="357" y="7967"/>
                    </a:lnTo>
                    <a:lnTo>
                      <a:pt x="313" y="7860"/>
                    </a:lnTo>
                    <a:lnTo>
                      <a:pt x="268" y="7754"/>
                    </a:lnTo>
                    <a:lnTo>
                      <a:pt x="223" y="7648"/>
                    </a:lnTo>
                    <a:lnTo>
                      <a:pt x="178" y="7542"/>
                    </a:lnTo>
                    <a:lnTo>
                      <a:pt x="133" y="7436"/>
                    </a:lnTo>
                    <a:lnTo>
                      <a:pt x="89" y="7332"/>
                    </a:lnTo>
                    <a:lnTo>
                      <a:pt x="45" y="7226"/>
                    </a:lnTo>
                    <a:lnTo>
                      <a:pt x="0" y="7121"/>
                    </a:lnTo>
                    <a:lnTo>
                      <a:pt x="30" y="6896"/>
                    </a:lnTo>
                    <a:lnTo>
                      <a:pt x="59" y="6672"/>
                    </a:lnTo>
                    <a:lnTo>
                      <a:pt x="88" y="6448"/>
                    </a:lnTo>
                    <a:lnTo>
                      <a:pt x="116" y="6223"/>
                    </a:lnTo>
                    <a:lnTo>
                      <a:pt x="146" y="5999"/>
                    </a:lnTo>
                    <a:lnTo>
                      <a:pt x="175" y="5775"/>
                    </a:lnTo>
                    <a:lnTo>
                      <a:pt x="204" y="5550"/>
                    </a:lnTo>
                    <a:lnTo>
                      <a:pt x="233" y="5326"/>
                    </a:lnTo>
                    <a:lnTo>
                      <a:pt x="263" y="5104"/>
                    </a:lnTo>
                    <a:lnTo>
                      <a:pt x="292" y="4880"/>
                    </a:lnTo>
                    <a:lnTo>
                      <a:pt x="321" y="4657"/>
                    </a:lnTo>
                    <a:lnTo>
                      <a:pt x="350" y="4434"/>
                    </a:lnTo>
                    <a:lnTo>
                      <a:pt x="379" y="4210"/>
                    </a:lnTo>
                    <a:lnTo>
                      <a:pt x="409" y="3987"/>
                    </a:lnTo>
                    <a:lnTo>
                      <a:pt x="438" y="3764"/>
                    </a:lnTo>
                    <a:lnTo>
                      <a:pt x="467" y="3542"/>
                    </a:lnTo>
                    <a:lnTo>
                      <a:pt x="496" y="3320"/>
                    </a:lnTo>
                    <a:lnTo>
                      <a:pt x="526" y="3097"/>
                    </a:lnTo>
                    <a:lnTo>
                      <a:pt x="554" y="2876"/>
                    </a:lnTo>
                    <a:lnTo>
                      <a:pt x="583" y="2654"/>
                    </a:lnTo>
                    <a:lnTo>
                      <a:pt x="612" y="2431"/>
                    </a:lnTo>
                    <a:lnTo>
                      <a:pt x="642" y="2210"/>
                    </a:lnTo>
                    <a:lnTo>
                      <a:pt x="671" y="1988"/>
                    </a:lnTo>
                    <a:lnTo>
                      <a:pt x="700" y="1767"/>
                    </a:lnTo>
                    <a:lnTo>
                      <a:pt x="728" y="1546"/>
                    </a:lnTo>
                    <a:lnTo>
                      <a:pt x="757" y="1326"/>
                    </a:lnTo>
                    <a:lnTo>
                      <a:pt x="787" y="1104"/>
                    </a:lnTo>
                    <a:lnTo>
                      <a:pt x="815" y="884"/>
                    </a:lnTo>
                    <a:lnTo>
                      <a:pt x="844" y="662"/>
                    </a:lnTo>
                    <a:lnTo>
                      <a:pt x="873" y="442"/>
                    </a:lnTo>
                    <a:lnTo>
                      <a:pt x="902" y="220"/>
                    </a:lnTo>
                    <a:lnTo>
                      <a:pt x="931"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526720" y="1774800"/>
                <a:ext cx="480600" cy="2185560"/>
              </a:xfrm>
              <a:custGeom>
                <a:avLst/>
                <a:gdLst/>
                <a:ahLst/>
                <a:rect l="l" t="t" r="r" b="b"/>
                <a:pathLst>
                  <a:path w="1291" h="7967">
                    <a:moveTo>
                      <a:pt x="931" y="0"/>
                    </a:moveTo>
                    <a:lnTo>
                      <a:pt x="975" y="96"/>
                    </a:lnTo>
                    <a:lnTo>
                      <a:pt x="1021" y="193"/>
                    </a:lnTo>
                    <a:lnTo>
                      <a:pt x="1065" y="289"/>
                    </a:lnTo>
                    <a:lnTo>
                      <a:pt x="1110" y="387"/>
                    </a:lnTo>
                    <a:lnTo>
                      <a:pt x="1156" y="483"/>
                    </a:lnTo>
                    <a:lnTo>
                      <a:pt x="1201" y="580"/>
                    </a:lnTo>
                    <a:lnTo>
                      <a:pt x="1245" y="677"/>
                    </a:lnTo>
                    <a:lnTo>
                      <a:pt x="1291" y="773"/>
                    </a:lnTo>
                    <a:lnTo>
                      <a:pt x="1261" y="996"/>
                    </a:lnTo>
                    <a:lnTo>
                      <a:pt x="1232" y="1219"/>
                    </a:lnTo>
                    <a:lnTo>
                      <a:pt x="1204" y="1442"/>
                    </a:lnTo>
                    <a:lnTo>
                      <a:pt x="1175" y="1664"/>
                    </a:lnTo>
                    <a:lnTo>
                      <a:pt x="1146" y="1888"/>
                    </a:lnTo>
                    <a:lnTo>
                      <a:pt x="1116" y="2111"/>
                    </a:lnTo>
                    <a:lnTo>
                      <a:pt x="1088" y="2334"/>
                    </a:lnTo>
                    <a:lnTo>
                      <a:pt x="1059" y="2557"/>
                    </a:lnTo>
                    <a:lnTo>
                      <a:pt x="1030" y="2781"/>
                    </a:lnTo>
                    <a:lnTo>
                      <a:pt x="1000" y="3005"/>
                    </a:lnTo>
                    <a:lnTo>
                      <a:pt x="972" y="3230"/>
                    </a:lnTo>
                    <a:lnTo>
                      <a:pt x="943" y="3454"/>
                    </a:lnTo>
                    <a:lnTo>
                      <a:pt x="914" y="3678"/>
                    </a:lnTo>
                    <a:lnTo>
                      <a:pt x="885" y="3902"/>
                    </a:lnTo>
                    <a:lnTo>
                      <a:pt x="856" y="4128"/>
                    </a:lnTo>
                    <a:lnTo>
                      <a:pt x="827" y="4352"/>
                    </a:lnTo>
                    <a:lnTo>
                      <a:pt x="798" y="4577"/>
                    </a:lnTo>
                    <a:lnTo>
                      <a:pt x="768" y="4801"/>
                    </a:lnTo>
                    <a:lnTo>
                      <a:pt x="738" y="5026"/>
                    </a:lnTo>
                    <a:lnTo>
                      <a:pt x="709" y="5251"/>
                    </a:lnTo>
                    <a:lnTo>
                      <a:pt x="680" y="5477"/>
                    </a:lnTo>
                    <a:lnTo>
                      <a:pt x="651" y="5703"/>
                    </a:lnTo>
                    <a:lnTo>
                      <a:pt x="621" y="5928"/>
                    </a:lnTo>
                    <a:lnTo>
                      <a:pt x="592" y="6155"/>
                    </a:lnTo>
                    <a:lnTo>
                      <a:pt x="563" y="6380"/>
                    </a:lnTo>
                    <a:lnTo>
                      <a:pt x="534" y="6607"/>
                    </a:lnTo>
                    <a:lnTo>
                      <a:pt x="504" y="6833"/>
                    </a:lnTo>
                    <a:lnTo>
                      <a:pt x="474" y="7060"/>
                    </a:lnTo>
                    <a:lnTo>
                      <a:pt x="445" y="7286"/>
                    </a:lnTo>
                    <a:lnTo>
                      <a:pt x="416" y="7513"/>
                    </a:lnTo>
                    <a:lnTo>
                      <a:pt x="386" y="7739"/>
                    </a:lnTo>
                    <a:lnTo>
                      <a:pt x="357" y="7967"/>
                    </a:lnTo>
                    <a:lnTo>
                      <a:pt x="313" y="7860"/>
                    </a:lnTo>
                    <a:lnTo>
                      <a:pt x="268" y="7754"/>
                    </a:lnTo>
                    <a:lnTo>
                      <a:pt x="223" y="7648"/>
                    </a:lnTo>
                    <a:lnTo>
                      <a:pt x="178" y="7542"/>
                    </a:lnTo>
                    <a:lnTo>
                      <a:pt x="133" y="7436"/>
                    </a:lnTo>
                    <a:lnTo>
                      <a:pt x="89" y="7332"/>
                    </a:lnTo>
                    <a:lnTo>
                      <a:pt x="45" y="7226"/>
                    </a:lnTo>
                    <a:lnTo>
                      <a:pt x="0" y="7121"/>
                    </a:lnTo>
                    <a:lnTo>
                      <a:pt x="30" y="6896"/>
                    </a:lnTo>
                    <a:lnTo>
                      <a:pt x="59" y="6672"/>
                    </a:lnTo>
                    <a:lnTo>
                      <a:pt x="88" y="6448"/>
                    </a:lnTo>
                    <a:lnTo>
                      <a:pt x="116" y="6223"/>
                    </a:lnTo>
                    <a:lnTo>
                      <a:pt x="146" y="5999"/>
                    </a:lnTo>
                    <a:lnTo>
                      <a:pt x="175" y="5775"/>
                    </a:lnTo>
                    <a:lnTo>
                      <a:pt x="204" y="5550"/>
                    </a:lnTo>
                    <a:lnTo>
                      <a:pt x="233" y="5326"/>
                    </a:lnTo>
                    <a:lnTo>
                      <a:pt x="263" y="5104"/>
                    </a:lnTo>
                    <a:lnTo>
                      <a:pt x="292" y="4880"/>
                    </a:lnTo>
                    <a:lnTo>
                      <a:pt x="321" y="4657"/>
                    </a:lnTo>
                    <a:lnTo>
                      <a:pt x="350" y="4434"/>
                    </a:lnTo>
                    <a:lnTo>
                      <a:pt x="379" y="4210"/>
                    </a:lnTo>
                    <a:lnTo>
                      <a:pt x="409" y="3987"/>
                    </a:lnTo>
                    <a:lnTo>
                      <a:pt x="438" y="3764"/>
                    </a:lnTo>
                    <a:lnTo>
                      <a:pt x="467" y="3542"/>
                    </a:lnTo>
                    <a:lnTo>
                      <a:pt x="496" y="3320"/>
                    </a:lnTo>
                    <a:lnTo>
                      <a:pt x="526" y="3097"/>
                    </a:lnTo>
                    <a:lnTo>
                      <a:pt x="554" y="2876"/>
                    </a:lnTo>
                    <a:lnTo>
                      <a:pt x="583" y="2654"/>
                    </a:lnTo>
                    <a:lnTo>
                      <a:pt x="612" y="2431"/>
                    </a:lnTo>
                    <a:lnTo>
                      <a:pt x="642" y="2210"/>
                    </a:lnTo>
                    <a:lnTo>
                      <a:pt x="671" y="1988"/>
                    </a:lnTo>
                    <a:lnTo>
                      <a:pt x="700" y="1767"/>
                    </a:lnTo>
                    <a:lnTo>
                      <a:pt x="728" y="1546"/>
                    </a:lnTo>
                    <a:lnTo>
                      <a:pt x="757" y="1326"/>
                    </a:lnTo>
                    <a:lnTo>
                      <a:pt x="787" y="1104"/>
                    </a:lnTo>
                    <a:lnTo>
                      <a:pt x="815" y="884"/>
                    </a:lnTo>
                    <a:lnTo>
                      <a:pt x="844" y="662"/>
                    </a:lnTo>
                    <a:lnTo>
                      <a:pt x="873" y="442"/>
                    </a:lnTo>
                    <a:lnTo>
                      <a:pt x="902" y="220"/>
                    </a:lnTo>
                    <a:lnTo>
                      <a:pt x="93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229360" y="3656160"/>
                <a:ext cx="429840" cy="304200"/>
              </a:xfrm>
              <a:custGeom>
                <a:avLst/>
                <a:gdLst/>
                <a:ahLst/>
                <a:rect l="l" t="t" r="r" b="b"/>
                <a:pathLst>
                  <a:path w="1150" h="1107">
                    <a:moveTo>
                      <a:pt x="793" y="261"/>
                    </a:moveTo>
                    <a:lnTo>
                      <a:pt x="838" y="366"/>
                    </a:lnTo>
                    <a:lnTo>
                      <a:pt x="882" y="472"/>
                    </a:lnTo>
                    <a:lnTo>
                      <a:pt x="926" y="576"/>
                    </a:lnTo>
                    <a:lnTo>
                      <a:pt x="971" y="682"/>
                    </a:lnTo>
                    <a:lnTo>
                      <a:pt x="1016" y="788"/>
                    </a:lnTo>
                    <a:lnTo>
                      <a:pt x="1061" y="894"/>
                    </a:lnTo>
                    <a:lnTo>
                      <a:pt x="1106" y="1000"/>
                    </a:lnTo>
                    <a:lnTo>
                      <a:pt x="1150" y="1107"/>
                    </a:lnTo>
                    <a:lnTo>
                      <a:pt x="1048" y="1071"/>
                    </a:lnTo>
                    <a:lnTo>
                      <a:pt x="948" y="1037"/>
                    </a:lnTo>
                    <a:lnTo>
                      <a:pt x="846" y="1002"/>
                    </a:lnTo>
                    <a:lnTo>
                      <a:pt x="745" y="968"/>
                    </a:lnTo>
                    <a:lnTo>
                      <a:pt x="645" y="933"/>
                    </a:lnTo>
                    <a:lnTo>
                      <a:pt x="544" y="899"/>
                    </a:lnTo>
                    <a:lnTo>
                      <a:pt x="445" y="864"/>
                    </a:lnTo>
                    <a:lnTo>
                      <a:pt x="345" y="831"/>
                    </a:lnTo>
                    <a:lnTo>
                      <a:pt x="302" y="726"/>
                    </a:lnTo>
                    <a:lnTo>
                      <a:pt x="257" y="622"/>
                    </a:lnTo>
                    <a:lnTo>
                      <a:pt x="215" y="518"/>
                    </a:lnTo>
                    <a:lnTo>
                      <a:pt x="171" y="414"/>
                    </a:lnTo>
                    <a:lnTo>
                      <a:pt x="128" y="310"/>
                    </a:lnTo>
                    <a:lnTo>
                      <a:pt x="86" y="207"/>
                    </a:lnTo>
                    <a:lnTo>
                      <a:pt x="42" y="104"/>
                    </a:lnTo>
                    <a:lnTo>
                      <a:pt x="0" y="0"/>
                    </a:lnTo>
                    <a:lnTo>
                      <a:pt x="98" y="33"/>
                    </a:lnTo>
                    <a:lnTo>
                      <a:pt x="197" y="65"/>
                    </a:lnTo>
                    <a:lnTo>
                      <a:pt x="295" y="97"/>
                    </a:lnTo>
                    <a:lnTo>
                      <a:pt x="394" y="131"/>
                    </a:lnTo>
                    <a:lnTo>
                      <a:pt x="494" y="163"/>
                    </a:lnTo>
                    <a:lnTo>
                      <a:pt x="594" y="195"/>
                    </a:lnTo>
                    <a:lnTo>
                      <a:pt x="694" y="228"/>
                    </a:lnTo>
                    <a:lnTo>
                      <a:pt x="793" y="261"/>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229360" y="3656160"/>
                <a:ext cx="429840" cy="304200"/>
              </a:xfrm>
              <a:custGeom>
                <a:avLst/>
                <a:gdLst/>
                <a:ahLst/>
                <a:rect l="l" t="t" r="r" b="b"/>
                <a:pathLst>
                  <a:path w="1150" h="1107">
                    <a:moveTo>
                      <a:pt x="793" y="261"/>
                    </a:moveTo>
                    <a:lnTo>
                      <a:pt x="838" y="366"/>
                    </a:lnTo>
                    <a:lnTo>
                      <a:pt x="882" y="472"/>
                    </a:lnTo>
                    <a:lnTo>
                      <a:pt x="926" y="576"/>
                    </a:lnTo>
                    <a:lnTo>
                      <a:pt x="971" y="682"/>
                    </a:lnTo>
                    <a:lnTo>
                      <a:pt x="1016" y="788"/>
                    </a:lnTo>
                    <a:lnTo>
                      <a:pt x="1061" y="894"/>
                    </a:lnTo>
                    <a:lnTo>
                      <a:pt x="1106" y="1000"/>
                    </a:lnTo>
                    <a:lnTo>
                      <a:pt x="1150" y="1107"/>
                    </a:lnTo>
                    <a:lnTo>
                      <a:pt x="1048" y="1071"/>
                    </a:lnTo>
                    <a:lnTo>
                      <a:pt x="948" y="1037"/>
                    </a:lnTo>
                    <a:lnTo>
                      <a:pt x="846" y="1002"/>
                    </a:lnTo>
                    <a:lnTo>
                      <a:pt x="745" y="968"/>
                    </a:lnTo>
                    <a:lnTo>
                      <a:pt x="645" y="933"/>
                    </a:lnTo>
                    <a:lnTo>
                      <a:pt x="544" y="899"/>
                    </a:lnTo>
                    <a:lnTo>
                      <a:pt x="445" y="864"/>
                    </a:lnTo>
                    <a:lnTo>
                      <a:pt x="345" y="831"/>
                    </a:lnTo>
                    <a:lnTo>
                      <a:pt x="302" y="726"/>
                    </a:lnTo>
                    <a:lnTo>
                      <a:pt x="257" y="622"/>
                    </a:lnTo>
                    <a:lnTo>
                      <a:pt x="215" y="518"/>
                    </a:lnTo>
                    <a:lnTo>
                      <a:pt x="171" y="414"/>
                    </a:lnTo>
                    <a:lnTo>
                      <a:pt x="128" y="310"/>
                    </a:lnTo>
                    <a:lnTo>
                      <a:pt x="86" y="207"/>
                    </a:lnTo>
                    <a:lnTo>
                      <a:pt x="42" y="104"/>
                    </a:lnTo>
                    <a:lnTo>
                      <a:pt x="0" y="0"/>
                    </a:lnTo>
                    <a:lnTo>
                      <a:pt x="98" y="33"/>
                    </a:lnTo>
                    <a:lnTo>
                      <a:pt x="197" y="65"/>
                    </a:lnTo>
                    <a:lnTo>
                      <a:pt x="295" y="97"/>
                    </a:lnTo>
                    <a:lnTo>
                      <a:pt x="394" y="131"/>
                    </a:lnTo>
                    <a:lnTo>
                      <a:pt x="494" y="163"/>
                    </a:lnTo>
                    <a:lnTo>
                      <a:pt x="594" y="195"/>
                    </a:lnTo>
                    <a:lnTo>
                      <a:pt x="694" y="228"/>
                    </a:lnTo>
                    <a:lnTo>
                      <a:pt x="793" y="261"/>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229360" y="1731960"/>
                <a:ext cx="643320" cy="1996560"/>
              </a:xfrm>
              <a:custGeom>
                <a:avLst/>
                <a:gdLst/>
                <a:ahLst/>
                <a:rect l="l" t="t" r="r" b="b"/>
                <a:pathLst>
                  <a:path w="1724" h="7280">
                    <a:moveTo>
                      <a:pt x="926" y="0"/>
                    </a:moveTo>
                    <a:lnTo>
                      <a:pt x="1024" y="20"/>
                    </a:lnTo>
                    <a:lnTo>
                      <a:pt x="1123" y="40"/>
                    </a:lnTo>
                    <a:lnTo>
                      <a:pt x="1223" y="59"/>
                    </a:lnTo>
                    <a:lnTo>
                      <a:pt x="1323" y="79"/>
                    </a:lnTo>
                    <a:lnTo>
                      <a:pt x="1422" y="99"/>
                    </a:lnTo>
                    <a:lnTo>
                      <a:pt x="1522" y="119"/>
                    </a:lnTo>
                    <a:lnTo>
                      <a:pt x="1623" y="139"/>
                    </a:lnTo>
                    <a:lnTo>
                      <a:pt x="1724" y="159"/>
                    </a:lnTo>
                    <a:lnTo>
                      <a:pt x="1695" y="379"/>
                    </a:lnTo>
                    <a:lnTo>
                      <a:pt x="1666" y="601"/>
                    </a:lnTo>
                    <a:lnTo>
                      <a:pt x="1637" y="821"/>
                    </a:lnTo>
                    <a:lnTo>
                      <a:pt x="1608" y="1043"/>
                    </a:lnTo>
                    <a:lnTo>
                      <a:pt x="1580" y="1263"/>
                    </a:lnTo>
                    <a:lnTo>
                      <a:pt x="1550" y="1485"/>
                    </a:lnTo>
                    <a:lnTo>
                      <a:pt x="1521" y="1705"/>
                    </a:lnTo>
                    <a:lnTo>
                      <a:pt x="1493" y="1926"/>
                    </a:lnTo>
                    <a:lnTo>
                      <a:pt x="1464" y="2147"/>
                    </a:lnTo>
                    <a:lnTo>
                      <a:pt x="1435" y="2369"/>
                    </a:lnTo>
                    <a:lnTo>
                      <a:pt x="1405" y="2590"/>
                    </a:lnTo>
                    <a:lnTo>
                      <a:pt x="1376" y="2813"/>
                    </a:lnTo>
                    <a:lnTo>
                      <a:pt x="1347" y="3035"/>
                    </a:lnTo>
                    <a:lnTo>
                      <a:pt x="1319" y="3256"/>
                    </a:lnTo>
                    <a:lnTo>
                      <a:pt x="1289" y="3479"/>
                    </a:lnTo>
                    <a:lnTo>
                      <a:pt x="1260" y="3701"/>
                    </a:lnTo>
                    <a:lnTo>
                      <a:pt x="1231" y="3923"/>
                    </a:lnTo>
                    <a:lnTo>
                      <a:pt x="1202" y="4146"/>
                    </a:lnTo>
                    <a:lnTo>
                      <a:pt x="1172" y="4369"/>
                    </a:lnTo>
                    <a:lnTo>
                      <a:pt x="1143" y="4593"/>
                    </a:lnTo>
                    <a:lnTo>
                      <a:pt x="1114" y="4816"/>
                    </a:lnTo>
                    <a:lnTo>
                      <a:pt x="1085" y="5039"/>
                    </a:lnTo>
                    <a:lnTo>
                      <a:pt x="1056" y="5263"/>
                    </a:lnTo>
                    <a:lnTo>
                      <a:pt x="1026" y="5485"/>
                    </a:lnTo>
                    <a:lnTo>
                      <a:pt x="997" y="5709"/>
                    </a:lnTo>
                    <a:lnTo>
                      <a:pt x="968" y="5934"/>
                    </a:lnTo>
                    <a:lnTo>
                      <a:pt x="939" y="6158"/>
                    </a:lnTo>
                    <a:lnTo>
                      <a:pt x="909" y="6382"/>
                    </a:lnTo>
                    <a:lnTo>
                      <a:pt x="881" y="6607"/>
                    </a:lnTo>
                    <a:lnTo>
                      <a:pt x="852" y="6831"/>
                    </a:lnTo>
                    <a:lnTo>
                      <a:pt x="823" y="7055"/>
                    </a:lnTo>
                    <a:lnTo>
                      <a:pt x="793" y="7280"/>
                    </a:lnTo>
                    <a:lnTo>
                      <a:pt x="694" y="7247"/>
                    </a:lnTo>
                    <a:lnTo>
                      <a:pt x="594" y="7214"/>
                    </a:lnTo>
                    <a:lnTo>
                      <a:pt x="494" y="7182"/>
                    </a:lnTo>
                    <a:lnTo>
                      <a:pt x="394" y="7150"/>
                    </a:lnTo>
                    <a:lnTo>
                      <a:pt x="295" y="7116"/>
                    </a:lnTo>
                    <a:lnTo>
                      <a:pt x="197" y="7084"/>
                    </a:lnTo>
                    <a:lnTo>
                      <a:pt x="98" y="7052"/>
                    </a:lnTo>
                    <a:lnTo>
                      <a:pt x="0" y="7019"/>
                    </a:lnTo>
                    <a:lnTo>
                      <a:pt x="29" y="6798"/>
                    </a:lnTo>
                    <a:lnTo>
                      <a:pt x="59" y="6577"/>
                    </a:lnTo>
                    <a:lnTo>
                      <a:pt x="88" y="6356"/>
                    </a:lnTo>
                    <a:lnTo>
                      <a:pt x="117" y="6134"/>
                    </a:lnTo>
                    <a:lnTo>
                      <a:pt x="146" y="5914"/>
                    </a:lnTo>
                    <a:lnTo>
                      <a:pt x="176" y="5692"/>
                    </a:lnTo>
                    <a:lnTo>
                      <a:pt x="205" y="5472"/>
                    </a:lnTo>
                    <a:lnTo>
                      <a:pt x="234" y="5250"/>
                    </a:lnTo>
                    <a:lnTo>
                      <a:pt x="263" y="5030"/>
                    </a:lnTo>
                    <a:lnTo>
                      <a:pt x="291" y="4811"/>
                    </a:lnTo>
                    <a:lnTo>
                      <a:pt x="321" y="4591"/>
                    </a:lnTo>
                    <a:lnTo>
                      <a:pt x="349" y="4370"/>
                    </a:lnTo>
                    <a:lnTo>
                      <a:pt x="378" y="4151"/>
                    </a:lnTo>
                    <a:lnTo>
                      <a:pt x="407" y="3931"/>
                    </a:lnTo>
                    <a:lnTo>
                      <a:pt x="436" y="3712"/>
                    </a:lnTo>
                    <a:lnTo>
                      <a:pt x="465" y="3493"/>
                    </a:lnTo>
                    <a:lnTo>
                      <a:pt x="494" y="3273"/>
                    </a:lnTo>
                    <a:lnTo>
                      <a:pt x="522" y="3054"/>
                    </a:lnTo>
                    <a:lnTo>
                      <a:pt x="552" y="2835"/>
                    </a:lnTo>
                    <a:lnTo>
                      <a:pt x="581" y="2616"/>
                    </a:lnTo>
                    <a:lnTo>
                      <a:pt x="609" y="2397"/>
                    </a:lnTo>
                    <a:lnTo>
                      <a:pt x="638" y="2179"/>
                    </a:lnTo>
                    <a:lnTo>
                      <a:pt x="667" y="1960"/>
                    </a:lnTo>
                    <a:lnTo>
                      <a:pt x="696" y="1742"/>
                    </a:lnTo>
                    <a:lnTo>
                      <a:pt x="725" y="1524"/>
                    </a:lnTo>
                    <a:lnTo>
                      <a:pt x="753" y="1306"/>
                    </a:lnTo>
                    <a:lnTo>
                      <a:pt x="782" y="1089"/>
                    </a:lnTo>
                    <a:lnTo>
                      <a:pt x="811" y="871"/>
                    </a:lnTo>
                    <a:lnTo>
                      <a:pt x="840" y="653"/>
                    </a:lnTo>
                    <a:lnTo>
                      <a:pt x="868" y="436"/>
                    </a:lnTo>
                    <a:lnTo>
                      <a:pt x="897" y="218"/>
                    </a:lnTo>
                    <a:lnTo>
                      <a:pt x="926"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229360" y="1731960"/>
                <a:ext cx="643320" cy="1996560"/>
              </a:xfrm>
              <a:custGeom>
                <a:avLst/>
                <a:gdLst/>
                <a:ahLst/>
                <a:rect l="l" t="t" r="r" b="b"/>
                <a:pathLst>
                  <a:path w="1724" h="7280">
                    <a:moveTo>
                      <a:pt x="926" y="0"/>
                    </a:moveTo>
                    <a:lnTo>
                      <a:pt x="1024" y="20"/>
                    </a:lnTo>
                    <a:lnTo>
                      <a:pt x="1123" y="40"/>
                    </a:lnTo>
                    <a:lnTo>
                      <a:pt x="1223" y="59"/>
                    </a:lnTo>
                    <a:lnTo>
                      <a:pt x="1323" y="79"/>
                    </a:lnTo>
                    <a:lnTo>
                      <a:pt x="1422" y="99"/>
                    </a:lnTo>
                    <a:lnTo>
                      <a:pt x="1522" y="119"/>
                    </a:lnTo>
                    <a:lnTo>
                      <a:pt x="1623" y="139"/>
                    </a:lnTo>
                    <a:lnTo>
                      <a:pt x="1724" y="159"/>
                    </a:lnTo>
                    <a:lnTo>
                      <a:pt x="1695" y="379"/>
                    </a:lnTo>
                    <a:lnTo>
                      <a:pt x="1666" y="601"/>
                    </a:lnTo>
                    <a:lnTo>
                      <a:pt x="1637" y="821"/>
                    </a:lnTo>
                    <a:lnTo>
                      <a:pt x="1608" y="1043"/>
                    </a:lnTo>
                    <a:lnTo>
                      <a:pt x="1580" y="1263"/>
                    </a:lnTo>
                    <a:lnTo>
                      <a:pt x="1550" y="1485"/>
                    </a:lnTo>
                    <a:lnTo>
                      <a:pt x="1521" y="1705"/>
                    </a:lnTo>
                    <a:lnTo>
                      <a:pt x="1493" y="1926"/>
                    </a:lnTo>
                    <a:lnTo>
                      <a:pt x="1464" y="2147"/>
                    </a:lnTo>
                    <a:lnTo>
                      <a:pt x="1435" y="2369"/>
                    </a:lnTo>
                    <a:lnTo>
                      <a:pt x="1405" y="2590"/>
                    </a:lnTo>
                    <a:lnTo>
                      <a:pt x="1376" y="2813"/>
                    </a:lnTo>
                    <a:lnTo>
                      <a:pt x="1347" y="3035"/>
                    </a:lnTo>
                    <a:lnTo>
                      <a:pt x="1319" y="3256"/>
                    </a:lnTo>
                    <a:lnTo>
                      <a:pt x="1289" y="3479"/>
                    </a:lnTo>
                    <a:lnTo>
                      <a:pt x="1260" y="3701"/>
                    </a:lnTo>
                    <a:lnTo>
                      <a:pt x="1231" y="3923"/>
                    </a:lnTo>
                    <a:lnTo>
                      <a:pt x="1202" y="4146"/>
                    </a:lnTo>
                    <a:lnTo>
                      <a:pt x="1172" y="4369"/>
                    </a:lnTo>
                    <a:lnTo>
                      <a:pt x="1143" y="4593"/>
                    </a:lnTo>
                    <a:lnTo>
                      <a:pt x="1114" y="4816"/>
                    </a:lnTo>
                    <a:lnTo>
                      <a:pt x="1085" y="5039"/>
                    </a:lnTo>
                    <a:lnTo>
                      <a:pt x="1056" y="5263"/>
                    </a:lnTo>
                    <a:lnTo>
                      <a:pt x="1026" y="5485"/>
                    </a:lnTo>
                    <a:lnTo>
                      <a:pt x="997" y="5709"/>
                    </a:lnTo>
                    <a:lnTo>
                      <a:pt x="968" y="5934"/>
                    </a:lnTo>
                    <a:lnTo>
                      <a:pt x="939" y="6158"/>
                    </a:lnTo>
                    <a:lnTo>
                      <a:pt x="909" y="6382"/>
                    </a:lnTo>
                    <a:lnTo>
                      <a:pt x="881" y="6607"/>
                    </a:lnTo>
                    <a:lnTo>
                      <a:pt x="852" y="6831"/>
                    </a:lnTo>
                    <a:lnTo>
                      <a:pt x="823" y="7055"/>
                    </a:lnTo>
                    <a:lnTo>
                      <a:pt x="793" y="7280"/>
                    </a:lnTo>
                    <a:lnTo>
                      <a:pt x="694" y="7247"/>
                    </a:lnTo>
                    <a:lnTo>
                      <a:pt x="594" y="7214"/>
                    </a:lnTo>
                    <a:lnTo>
                      <a:pt x="494" y="7182"/>
                    </a:lnTo>
                    <a:lnTo>
                      <a:pt x="394" y="7150"/>
                    </a:lnTo>
                    <a:lnTo>
                      <a:pt x="295" y="7116"/>
                    </a:lnTo>
                    <a:lnTo>
                      <a:pt x="197" y="7084"/>
                    </a:lnTo>
                    <a:lnTo>
                      <a:pt x="98" y="7052"/>
                    </a:lnTo>
                    <a:lnTo>
                      <a:pt x="0" y="7019"/>
                    </a:lnTo>
                    <a:lnTo>
                      <a:pt x="29" y="6798"/>
                    </a:lnTo>
                    <a:lnTo>
                      <a:pt x="59" y="6577"/>
                    </a:lnTo>
                    <a:lnTo>
                      <a:pt x="88" y="6356"/>
                    </a:lnTo>
                    <a:lnTo>
                      <a:pt x="117" y="6134"/>
                    </a:lnTo>
                    <a:lnTo>
                      <a:pt x="146" y="5914"/>
                    </a:lnTo>
                    <a:lnTo>
                      <a:pt x="176" y="5692"/>
                    </a:lnTo>
                    <a:lnTo>
                      <a:pt x="205" y="5472"/>
                    </a:lnTo>
                    <a:lnTo>
                      <a:pt x="234" y="5250"/>
                    </a:lnTo>
                    <a:lnTo>
                      <a:pt x="263" y="5030"/>
                    </a:lnTo>
                    <a:lnTo>
                      <a:pt x="291" y="4811"/>
                    </a:lnTo>
                    <a:lnTo>
                      <a:pt x="321" y="4591"/>
                    </a:lnTo>
                    <a:lnTo>
                      <a:pt x="349" y="4370"/>
                    </a:lnTo>
                    <a:lnTo>
                      <a:pt x="378" y="4151"/>
                    </a:lnTo>
                    <a:lnTo>
                      <a:pt x="407" y="3931"/>
                    </a:lnTo>
                    <a:lnTo>
                      <a:pt x="436" y="3712"/>
                    </a:lnTo>
                    <a:lnTo>
                      <a:pt x="465" y="3493"/>
                    </a:lnTo>
                    <a:lnTo>
                      <a:pt x="494" y="3273"/>
                    </a:lnTo>
                    <a:lnTo>
                      <a:pt x="522" y="3054"/>
                    </a:lnTo>
                    <a:lnTo>
                      <a:pt x="552" y="2835"/>
                    </a:lnTo>
                    <a:lnTo>
                      <a:pt x="581" y="2616"/>
                    </a:lnTo>
                    <a:lnTo>
                      <a:pt x="609" y="2397"/>
                    </a:lnTo>
                    <a:lnTo>
                      <a:pt x="638" y="2179"/>
                    </a:lnTo>
                    <a:lnTo>
                      <a:pt x="667" y="1960"/>
                    </a:lnTo>
                    <a:lnTo>
                      <a:pt x="696" y="1742"/>
                    </a:lnTo>
                    <a:lnTo>
                      <a:pt x="725" y="1524"/>
                    </a:lnTo>
                    <a:lnTo>
                      <a:pt x="753" y="1306"/>
                    </a:lnTo>
                    <a:lnTo>
                      <a:pt x="782" y="1089"/>
                    </a:lnTo>
                    <a:lnTo>
                      <a:pt x="811" y="871"/>
                    </a:lnTo>
                    <a:lnTo>
                      <a:pt x="840" y="653"/>
                    </a:lnTo>
                    <a:lnTo>
                      <a:pt x="868" y="436"/>
                    </a:lnTo>
                    <a:lnTo>
                      <a:pt x="897" y="218"/>
                    </a:lnTo>
                    <a:lnTo>
                      <a:pt x="92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556240" y="1767960"/>
                <a:ext cx="420480" cy="2093400"/>
              </a:xfrm>
              <a:custGeom>
                <a:avLst/>
                <a:gdLst/>
                <a:ahLst/>
                <a:rect l="l" t="t" r="r" b="b"/>
                <a:pathLst>
                  <a:path w="1130" h="7637">
                    <a:moveTo>
                      <a:pt x="946" y="0"/>
                    </a:moveTo>
                    <a:lnTo>
                      <a:pt x="970" y="44"/>
                    </a:lnTo>
                    <a:lnTo>
                      <a:pt x="993" y="90"/>
                    </a:lnTo>
                    <a:lnTo>
                      <a:pt x="1015" y="134"/>
                    </a:lnTo>
                    <a:lnTo>
                      <a:pt x="1038" y="178"/>
                    </a:lnTo>
                    <a:lnTo>
                      <a:pt x="1061" y="223"/>
                    </a:lnTo>
                    <a:lnTo>
                      <a:pt x="1085" y="267"/>
                    </a:lnTo>
                    <a:lnTo>
                      <a:pt x="1107" y="311"/>
                    </a:lnTo>
                    <a:lnTo>
                      <a:pt x="1130" y="356"/>
                    </a:lnTo>
                    <a:lnTo>
                      <a:pt x="1101" y="581"/>
                    </a:lnTo>
                    <a:lnTo>
                      <a:pt x="1071" y="806"/>
                    </a:lnTo>
                    <a:lnTo>
                      <a:pt x="1041" y="1033"/>
                    </a:lnTo>
                    <a:lnTo>
                      <a:pt x="1012" y="1258"/>
                    </a:lnTo>
                    <a:lnTo>
                      <a:pt x="983" y="1484"/>
                    </a:lnTo>
                    <a:lnTo>
                      <a:pt x="954" y="1710"/>
                    </a:lnTo>
                    <a:lnTo>
                      <a:pt x="924" y="1936"/>
                    </a:lnTo>
                    <a:lnTo>
                      <a:pt x="894" y="2161"/>
                    </a:lnTo>
                    <a:lnTo>
                      <a:pt x="865" y="2388"/>
                    </a:lnTo>
                    <a:lnTo>
                      <a:pt x="836" y="2614"/>
                    </a:lnTo>
                    <a:lnTo>
                      <a:pt x="806" y="2842"/>
                    </a:lnTo>
                    <a:lnTo>
                      <a:pt x="777" y="3069"/>
                    </a:lnTo>
                    <a:lnTo>
                      <a:pt x="748" y="3295"/>
                    </a:lnTo>
                    <a:lnTo>
                      <a:pt x="719" y="3523"/>
                    </a:lnTo>
                    <a:lnTo>
                      <a:pt x="689" y="3749"/>
                    </a:lnTo>
                    <a:lnTo>
                      <a:pt x="659" y="3976"/>
                    </a:lnTo>
                    <a:lnTo>
                      <a:pt x="630" y="4204"/>
                    </a:lnTo>
                    <a:lnTo>
                      <a:pt x="600" y="4432"/>
                    </a:lnTo>
                    <a:lnTo>
                      <a:pt x="571" y="4660"/>
                    </a:lnTo>
                    <a:lnTo>
                      <a:pt x="540" y="4889"/>
                    </a:lnTo>
                    <a:lnTo>
                      <a:pt x="511" y="5117"/>
                    </a:lnTo>
                    <a:lnTo>
                      <a:pt x="481" y="5346"/>
                    </a:lnTo>
                    <a:lnTo>
                      <a:pt x="452" y="5575"/>
                    </a:lnTo>
                    <a:lnTo>
                      <a:pt x="421" y="5803"/>
                    </a:lnTo>
                    <a:lnTo>
                      <a:pt x="392" y="6031"/>
                    </a:lnTo>
                    <a:lnTo>
                      <a:pt x="362" y="6260"/>
                    </a:lnTo>
                    <a:lnTo>
                      <a:pt x="333" y="6489"/>
                    </a:lnTo>
                    <a:lnTo>
                      <a:pt x="302" y="6718"/>
                    </a:lnTo>
                    <a:lnTo>
                      <a:pt x="272" y="6947"/>
                    </a:lnTo>
                    <a:lnTo>
                      <a:pt x="243" y="7176"/>
                    </a:lnTo>
                    <a:lnTo>
                      <a:pt x="213" y="7406"/>
                    </a:lnTo>
                    <a:lnTo>
                      <a:pt x="183" y="7637"/>
                    </a:lnTo>
                    <a:lnTo>
                      <a:pt x="159" y="7587"/>
                    </a:lnTo>
                    <a:lnTo>
                      <a:pt x="137" y="7539"/>
                    </a:lnTo>
                    <a:lnTo>
                      <a:pt x="114" y="7490"/>
                    </a:lnTo>
                    <a:lnTo>
                      <a:pt x="91" y="7442"/>
                    </a:lnTo>
                    <a:lnTo>
                      <a:pt x="69" y="7394"/>
                    </a:lnTo>
                    <a:lnTo>
                      <a:pt x="45" y="7345"/>
                    </a:lnTo>
                    <a:lnTo>
                      <a:pt x="23" y="7297"/>
                    </a:lnTo>
                    <a:lnTo>
                      <a:pt x="0" y="7248"/>
                    </a:lnTo>
                    <a:lnTo>
                      <a:pt x="30" y="7020"/>
                    </a:lnTo>
                    <a:lnTo>
                      <a:pt x="61" y="6791"/>
                    </a:lnTo>
                    <a:lnTo>
                      <a:pt x="90" y="6563"/>
                    </a:lnTo>
                    <a:lnTo>
                      <a:pt x="120" y="6334"/>
                    </a:lnTo>
                    <a:lnTo>
                      <a:pt x="149" y="6107"/>
                    </a:lnTo>
                    <a:lnTo>
                      <a:pt x="179" y="5879"/>
                    </a:lnTo>
                    <a:lnTo>
                      <a:pt x="209" y="5651"/>
                    </a:lnTo>
                    <a:lnTo>
                      <a:pt x="239" y="5423"/>
                    </a:lnTo>
                    <a:lnTo>
                      <a:pt x="268" y="5196"/>
                    </a:lnTo>
                    <a:lnTo>
                      <a:pt x="298" y="4969"/>
                    </a:lnTo>
                    <a:lnTo>
                      <a:pt x="328" y="4741"/>
                    </a:lnTo>
                    <a:lnTo>
                      <a:pt x="358" y="4514"/>
                    </a:lnTo>
                    <a:lnTo>
                      <a:pt x="387" y="4287"/>
                    </a:lnTo>
                    <a:lnTo>
                      <a:pt x="417" y="4060"/>
                    </a:lnTo>
                    <a:lnTo>
                      <a:pt x="447" y="3833"/>
                    </a:lnTo>
                    <a:lnTo>
                      <a:pt x="476" y="3607"/>
                    </a:lnTo>
                    <a:lnTo>
                      <a:pt x="506" y="3380"/>
                    </a:lnTo>
                    <a:lnTo>
                      <a:pt x="535" y="3155"/>
                    </a:lnTo>
                    <a:lnTo>
                      <a:pt x="565" y="2928"/>
                    </a:lnTo>
                    <a:lnTo>
                      <a:pt x="594" y="2702"/>
                    </a:lnTo>
                    <a:lnTo>
                      <a:pt x="623" y="2477"/>
                    </a:lnTo>
                    <a:lnTo>
                      <a:pt x="652" y="2251"/>
                    </a:lnTo>
                    <a:lnTo>
                      <a:pt x="681" y="2025"/>
                    </a:lnTo>
                    <a:lnTo>
                      <a:pt x="711" y="1801"/>
                    </a:lnTo>
                    <a:lnTo>
                      <a:pt x="740" y="1575"/>
                    </a:lnTo>
                    <a:lnTo>
                      <a:pt x="769" y="1350"/>
                    </a:lnTo>
                    <a:lnTo>
                      <a:pt x="799" y="1126"/>
                    </a:lnTo>
                    <a:lnTo>
                      <a:pt x="829" y="901"/>
                    </a:lnTo>
                    <a:lnTo>
                      <a:pt x="858" y="676"/>
                    </a:lnTo>
                    <a:lnTo>
                      <a:pt x="887" y="450"/>
                    </a:lnTo>
                    <a:lnTo>
                      <a:pt x="917" y="225"/>
                    </a:lnTo>
                    <a:lnTo>
                      <a:pt x="946" y="0"/>
                    </a:lnTo>
                    <a:close/>
                  </a:path>
                </a:pathLst>
              </a:custGeom>
              <a:solidFill>
                <a:srgbClr val="9155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556240" y="1767960"/>
                <a:ext cx="420480" cy="2093400"/>
              </a:xfrm>
              <a:custGeom>
                <a:avLst/>
                <a:gdLst/>
                <a:ahLst/>
                <a:rect l="l" t="t" r="r" b="b"/>
                <a:pathLst>
                  <a:path w="1130" h="7637">
                    <a:moveTo>
                      <a:pt x="946" y="0"/>
                    </a:moveTo>
                    <a:lnTo>
                      <a:pt x="970" y="44"/>
                    </a:lnTo>
                    <a:lnTo>
                      <a:pt x="993" y="90"/>
                    </a:lnTo>
                    <a:lnTo>
                      <a:pt x="1015" y="134"/>
                    </a:lnTo>
                    <a:lnTo>
                      <a:pt x="1038" y="178"/>
                    </a:lnTo>
                    <a:lnTo>
                      <a:pt x="1061" y="223"/>
                    </a:lnTo>
                    <a:lnTo>
                      <a:pt x="1085" y="267"/>
                    </a:lnTo>
                    <a:lnTo>
                      <a:pt x="1107" y="311"/>
                    </a:lnTo>
                    <a:lnTo>
                      <a:pt x="1130" y="356"/>
                    </a:lnTo>
                    <a:lnTo>
                      <a:pt x="1101" y="581"/>
                    </a:lnTo>
                    <a:lnTo>
                      <a:pt x="1071" y="806"/>
                    </a:lnTo>
                    <a:lnTo>
                      <a:pt x="1041" y="1033"/>
                    </a:lnTo>
                    <a:lnTo>
                      <a:pt x="1012" y="1258"/>
                    </a:lnTo>
                    <a:lnTo>
                      <a:pt x="983" y="1484"/>
                    </a:lnTo>
                    <a:lnTo>
                      <a:pt x="954" y="1710"/>
                    </a:lnTo>
                    <a:lnTo>
                      <a:pt x="924" y="1936"/>
                    </a:lnTo>
                    <a:lnTo>
                      <a:pt x="894" y="2161"/>
                    </a:lnTo>
                    <a:lnTo>
                      <a:pt x="865" y="2388"/>
                    </a:lnTo>
                    <a:lnTo>
                      <a:pt x="836" y="2614"/>
                    </a:lnTo>
                    <a:lnTo>
                      <a:pt x="806" y="2842"/>
                    </a:lnTo>
                    <a:lnTo>
                      <a:pt x="777" y="3069"/>
                    </a:lnTo>
                    <a:lnTo>
                      <a:pt x="748" y="3295"/>
                    </a:lnTo>
                    <a:lnTo>
                      <a:pt x="719" y="3523"/>
                    </a:lnTo>
                    <a:lnTo>
                      <a:pt x="689" y="3749"/>
                    </a:lnTo>
                    <a:lnTo>
                      <a:pt x="659" y="3976"/>
                    </a:lnTo>
                    <a:lnTo>
                      <a:pt x="630" y="4204"/>
                    </a:lnTo>
                    <a:lnTo>
                      <a:pt x="600" y="4432"/>
                    </a:lnTo>
                    <a:lnTo>
                      <a:pt x="571" y="4660"/>
                    </a:lnTo>
                    <a:lnTo>
                      <a:pt x="540" y="4889"/>
                    </a:lnTo>
                    <a:lnTo>
                      <a:pt x="511" y="5117"/>
                    </a:lnTo>
                    <a:lnTo>
                      <a:pt x="481" y="5346"/>
                    </a:lnTo>
                    <a:lnTo>
                      <a:pt x="452" y="5575"/>
                    </a:lnTo>
                    <a:lnTo>
                      <a:pt x="421" y="5803"/>
                    </a:lnTo>
                    <a:lnTo>
                      <a:pt x="392" y="6031"/>
                    </a:lnTo>
                    <a:lnTo>
                      <a:pt x="362" y="6260"/>
                    </a:lnTo>
                    <a:lnTo>
                      <a:pt x="333" y="6489"/>
                    </a:lnTo>
                    <a:lnTo>
                      <a:pt x="302" y="6718"/>
                    </a:lnTo>
                    <a:lnTo>
                      <a:pt x="272" y="6947"/>
                    </a:lnTo>
                    <a:lnTo>
                      <a:pt x="243" y="7176"/>
                    </a:lnTo>
                    <a:lnTo>
                      <a:pt x="213" y="7406"/>
                    </a:lnTo>
                    <a:lnTo>
                      <a:pt x="183" y="7637"/>
                    </a:lnTo>
                    <a:lnTo>
                      <a:pt x="159" y="7587"/>
                    </a:lnTo>
                    <a:lnTo>
                      <a:pt x="137" y="7539"/>
                    </a:lnTo>
                    <a:lnTo>
                      <a:pt x="114" y="7490"/>
                    </a:lnTo>
                    <a:lnTo>
                      <a:pt x="91" y="7442"/>
                    </a:lnTo>
                    <a:lnTo>
                      <a:pt x="69" y="7394"/>
                    </a:lnTo>
                    <a:lnTo>
                      <a:pt x="45" y="7345"/>
                    </a:lnTo>
                    <a:lnTo>
                      <a:pt x="23" y="7297"/>
                    </a:lnTo>
                    <a:lnTo>
                      <a:pt x="0" y="7248"/>
                    </a:lnTo>
                    <a:lnTo>
                      <a:pt x="30" y="7020"/>
                    </a:lnTo>
                    <a:lnTo>
                      <a:pt x="61" y="6791"/>
                    </a:lnTo>
                    <a:lnTo>
                      <a:pt x="90" y="6563"/>
                    </a:lnTo>
                    <a:lnTo>
                      <a:pt x="120" y="6334"/>
                    </a:lnTo>
                    <a:lnTo>
                      <a:pt x="149" y="6107"/>
                    </a:lnTo>
                    <a:lnTo>
                      <a:pt x="179" y="5879"/>
                    </a:lnTo>
                    <a:lnTo>
                      <a:pt x="209" y="5651"/>
                    </a:lnTo>
                    <a:lnTo>
                      <a:pt x="239" y="5423"/>
                    </a:lnTo>
                    <a:lnTo>
                      <a:pt x="268" y="5196"/>
                    </a:lnTo>
                    <a:lnTo>
                      <a:pt x="298" y="4969"/>
                    </a:lnTo>
                    <a:lnTo>
                      <a:pt x="328" y="4741"/>
                    </a:lnTo>
                    <a:lnTo>
                      <a:pt x="358" y="4514"/>
                    </a:lnTo>
                    <a:lnTo>
                      <a:pt x="387" y="4287"/>
                    </a:lnTo>
                    <a:lnTo>
                      <a:pt x="417" y="4060"/>
                    </a:lnTo>
                    <a:lnTo>
                      <a:pt x="447" y="3833"/>
                    </a:lnTo>
                    <a:lnTo>
                      <a:pt x="476" y="3607"/>
                    </a:lnTo>
                    <a:lnTo>
                      <a:pt x="506" y="3380"/>
                    </a:lnTo>
                    <a:lnTo>
                      <a:pt x="535" y="3155"/>
                    </a:lnTo>
                    <a:lnTo>
                      <a:pt x="565" y="2928"/>
                    </a:lnTo>
                    <a:lnTo>
                      <a:pt x="594" y="2702"/>
                    </a:lnTo>
                    <a:lnTo>
                      <a:pt x="623" y="2477"/>
                    </a:lnTo>
                    <a:lnTo>
                      <a:pt x="652" y="2251"/>
                    </a:lnTo>
                    <a:lnTo>
                      <a:pt x="681" y="2025"/>
                    </a:lnTo>
                    <a:lnTo>
                      <a:pt x="711" y="1801"/>
                    </a:lnTo>
                    <a:lnTo>
                      <a:pt x="740" y="1575"/>
                    </a:lnTo>
                    <a:lnTo>
                      <a:pt x="769" y="1350"/>
                    </a:lnTo>
                    <a:lnTo>
                      <a:pt x="799" y="1126"/>
                    </a:lnTo>
                    <a:lnTo>
                      <a:pt x="829" y="901"/>
                    </a:lnTo>
                    <a:lnTo>
                      <a:pt x="858" y="676"/>
                    </a:lnTo>
                    <a:lnTo>
                      <a:pt x="887" y="450"/>
                    </a:lnTo>
                    <a:lnTo>
                      <a:pt x="917" y="225"/>
                    </a:lnTo>
                    <a:lnTo>
                      <a:pt x="94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08760" y="3646440"/>
                <a:ext cx="514800" cy="214920"/>
              </a:xfrm>
              <a:custGeom>
                <a:avLst/>
                <a:gdLst/>
                <a:ahLst/>
                <a:rect l="l" t="t" r="r" b="b"/>
                <a:pathLst>
                  <a:path w="1379" h="784">
                    <a:moveTo>
                      <a:pt x="1196" y="395"/>
                    </a:moveTo>
                    <a:lnTo>
                      <a:pt x="1219" y="444"/>
                    </a:lnTo>
                    <a:lnTo>
                      <a:pt x="1241" y="492"/>
                    </a:lnTo>
                    <a:lnTo>
                      <a:pt x="1265" y="541"/>
                    </a:lnTo>
                    <a:lnTo>
                      <a:pt x="1287" y="589"/>
                    </a:lnTo>
                    <a:lnTo>
                      <a:pt x="1310" y="637"/>
                    </a:lnTo>
                    <a:lnTo>
                      <a:pt x="1333" y="686"/>
                    </a:lnTo>
                    <a:lnTo>
                      <a:pt x="1355" y="734"/>
                    </a:lnTo>
                    <a:lnTo>
                      <a:pt x="1379" y="784"/>
                    </a:lnTo>
                    <a:lnTo>
                      <a:pt x="1226" y="732"/>
                    </a:lnTo>
                    <a:lnTo>
                      <a:pt x="1074" y="681"/>
                    </a:lnTo>
                    <a:lnTo>
                      <a:pt x="923" y="630"/>
                    </a:lnTo>
                    <a:lnTo>
                      <a:pt x="772" y="579"/>
                    </a:lnTo>
                    <a:lnTo>
                      <a:pt x="622" y="529"/>
                    </a:lnTo>
                    <a:lnTo>
                      <a:pt x="472" y="480"/>
                    </a:lnTo>
                    <a:lnTo>
                      <a:pt x="323" y="429"/>
                    </a:lnTo>
                    <a:lnTo>
                      <a:pt x="175" y="380"/>
                    </a:lnTo>
                    <a:lnTo>
                      <a:pt x="153" y="332"/>
                    </a:lnTo>
                    <a:lnTo>
                      <a:pt x="132" y="285"/>
                    </a:lnTo>
                    <a:lnTo>
                      <a:pt x="109" y="237"/>
                    </a:lnTo>
                    <a:lnTo>
                      <a:pt x="87" y="189"/>
                    </a:lnTo>
                    <a:lnTo>
                      <a:pt x="65" y="142"/>
                    </a:lnTo>
                    <a:lnTo>
                      <a:pt x="43" y="94"/>
                    </a:lnTo>
                    <a:lnTo>
                      <a:pt x="22" y="48"/>
                    </a:lnTo>
                    <a:lnTo>
                      <a:pt x="0" y="0"/>
                    </a:lnTo>
                    <a:lnTo>
                      <a:pt x="148" y="49"/>
                    </a:lnTo>
                    <a:lnTo>
                      <a:pt x="296" y="98"/>
                    </a:lnTo>
                    <a:lnTo>
                      <a:pt x="444" y="147"/>
                    </a:lnTo>
                    <a:lnTo>
                      <a:pt x="594" y="196"/>
                    </a:lnTo>
                    <a:lnTo>
                      <a:pt x="743" y="246"/>
                    </a:lnTo>
                    <a:lnTo>
                      <a:pt x="895" y="296"/>
                    </a:lnTo>
                    <a:lnTo>
                      <a:pt x="1045" y="345"/>
                    </a:lnTo>
                    <a:lnTo>
                      <a:pt x="1196" y="395"/>
                    </a:lnTo>
                    <a:close/>
                  </a:path>
                </a:pathLst>
              </a:custGeom>
              <a:solidFill>
                <a:srgbClr val="4b41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8760" y="3646440"/>
                <a:ext cx="514800" cy="214920"/>
              </a:xfrm>
              <a:custGeom>
                <a:avLst/>
                <a:gdLst/>
                <a:ahLst/>
                <a:rect l="l" t="t" r="r" b="b"/>
                <a:pathLst>
                  <a:path w="1379" h="784">
                    <a:moveTo>
                      <a:pt x="1196" y="395"/>
                    </a:moveTo>
                    <a:lnTo>
                      <a:pt x="1219" y="444"/>
                    </a:lnTo>
                    <a:lnTo>
                      <a:pt x="1241" y="492"/>
                    </a:lnTo>
                    <a:lnTo>
                      <a:pt x="1265" y="541"/>
                    </a:lnTo>
                    <a:lnTo>
                      <a:pt x="1287" y="589"/>
                    </a:lnTo>
                    <a:lnTo>
                      <a:pt x="1310" y="637"/>
                    </a:lnTo>
                    <a:lnTo>
                      <a:pt x="1333" y="686"/>
                    </a:lnTo>
                    <a:lnTo>
                      <a:pt x="1355" y="734"/>
                    </a:lnTo>
                    <a:lnTo>
                      <a:pt x="1379" y="784"/>
                    </a:lnTo>
                    <a:lnTo>
                      <a:pt x="1226" y="732"/>
                    </a:lnTo>
                    <a:lnTo>
                      <a:pt x="1074" y="681"/>
                    </a:lnTo>
                    <a:lnTo>
                      <a:pt x="923" y="630"/>
                    </a:lnTo>
                    <a:lnTo>
                      <a:pt x="772" y="579"/>
                    </a:lnTo>
                    <a:lnTo>
                      <a:pt x="622" y="529"/>
                    </a:lnTo>
                    <a:lnTo>
                      <a:pt x="472" y="480"/>
                    </a:lnTo>
                    <a:lnTo>
                      <a:pt x="323" y="429"/>
                    </a:lnTo>
                    <a:lnTo>
                      <a:pt x="175" y="380"/>
                    </a:lnTo>
                    <a:lnTo>
                      <a:pt x="153" y="332"/>
                    </a:lnTo>
                    <a:lnTo>
                      <a:pt x="132" y="285"/>
                    </a:lnTo>
                    <a:lnTo>
                      <a:pt x="109" y="237"/>
                    </a:lnTo>
                    <a:lnTo>
                      <a:pt x="87" y="189"/>
                    </a:lnTo>
                    <a:lnTo>
                      <a:pt x="65" y="142"/>
                    </a:lnTo>
                    <a:lnTo>
                      <a:pt x="43" y="94"/>
                    </a:lnTo>
                    <a:lnTo>
                      <a:pt x="22" y="48"/>
                    </a:lnTo>
                    <a:lnTo>
                      <a:pt x="0" y="0"/>
                    </a:lnTo>
                    <a:lnTo>
                      <a:pt x="148" y="49"/>
                    </a:lnTo>
                    <a:lnTo>
                      <a:pt x="296" y="98"/>
                    </a:lnTo>
                    <a:lnTo>
                      <a:pt x="444" y="147"/>
                    </a:lnTo>
                    <a:lnTo>
                      <a:pt x="594" y="196"/>
                    </a:lnTo>
                    <a:lnTo>
                      <a:pt x="743" y="246"/>
                    </a:lnTo>
                    <a:lnTo>
                      <a:pt x="895" y="296"/>
                    </a:lnTo>
                    <a:lnTo>
                      <a:pt x="1045" y="345"/>
                    </a:lnTo>
                    <a:lnTo>
                      <a:pt x="1196" y="395"/>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108760" y="1702080"/>
                <a:ext cx="799920" cy="2052360"/>
              </a:xfrm>
              <a:custGeom>
                <a:avLst/>
                <a:gdLst/>
                <a:ahLst/>
                <a:rect l="l" t="t" r="r" b="b"/>
                <a:pathLst>
                  <a:path w="2142" h="7487">
                    <a:moveTo>
                      <a:pt x="940" y="0"/>
                    </a:moveTo>
                    <a:lnTo>
                      <a:pt x="1088" y="30"/>
                    </a:lnTo>
                    <a:lnTo>
                      <a:pt x="1237" y="59"/>
                    </a:lnTo>
                    <a:lnTo>
                      <a:pt x="1387" y="89"/>
                    </a:lnTo>
                    <a:lnTo>
                      <a:pt x="1537" y="119"/>
                    </a:lnTo>
                    <a:lnTo>
                      <a:pt x="1687" y="149"/>
                    </a:lnTo>
                    <a:lnTo>
                      <a:pt x="1838" y="179"/>
                    </a:lnTo>
                    <a:lnTo>
                      <a:pt x="1990" y="209"/>
                    </a:lnTo>
                    <a:lnTo>
                      <a:pt x="2142" y="239"/>
                    </a:lnTo>
                    <a:lnTo>
                      <a:pt x="2113" y="464"/>
                    </a:lnTo>
                    <a:lnTo>
                      <a:pt x="2083" y="689"/>
                    </a:lnTo>
                    <a:lnTo>
                      <a:pt x="2054" y="915"/>
                    </a:lnTo>
                    <a:lnTo>
                      <a:pt x="2025" y="1140"/>
                    </a:lnTo>
                    <a:lnTo>
                      <a:pt x="1995" y="1365"/>
                    </a:lnTo>
                    <a:lnTo>
                      <a:pt x="1965" y="1589"/>
                    </a:lnTo>
                    <a:lnTo>
                      <a:pt x="1936" y="1814"/>
                    </a:lnTo>
                    <a:lnTo>
                      <a:pt x="1907" y="2040"/>
                    </a:lnTo>
                    <a:lnTo>
                      <a:pt x="1877" y="2264"/>
                    </a:lnTo>
                    <a:lnTo>
                      <a:pt x="1848" y="2490"/>
                    </a:lnTo>
                    <a:lnTo>
                      <a:pt x="1819" y="2716"/>
                    </a:lnTo>
                    <a:lnTo>
                      <a:pt x="1790" y="2941"/>
                    </a:lnTo>
                    <a:lnTo>
                      <a:pt x="1761" y="3167"/>
                    </a:lnTo>
                    <a:lnTo>
                      <a:pt x="1731" y="3394"/>
                    </a:lnTo>
                    <a:lnTo>
                      <a:pt x="1702" y="3619"/>
                    </a:lnTo>
                    <a:lnTo>
                      <a:pt x="1672" y="3846"/>
                    </a:lnTo>
                    <a:lnTo>
                      <a:pt x="1643" y="4072"/>
                    </a:lnTo>
                    <a:lnTo>
                      <a:pt x="1613" y="4299"/>
                    </a:lnTo>
                    <a:lnTo>
                      <a:pt x="1583" y="4526"/>
                    </a:lnTo>
                    <a:lnTo>
                      <a:pt x="1554" y="4753"/>
                    </a:lnTo>
                    <a:lnTo>
                      <a:pt x="1524" y="4980"/>
                    </a:lnTo>
                    <a:lnTo>
                      <a:pt x="1494" y="5208"/>
                    </a:lnTo>
                    <a:lnTo>
                      <a:pt x="1464" y="5435"/>
                    </a:lnTo>
                    <a:lnTo>
                      <a:pt x="1435" y="5662"/>
                    </a:lnTo>
                    <a:lnTo>
                      <a:pt x="1405" y="5890"/>
                    </a:lnTo>
                    <a:lnTo>
                      <a:pt x="1375" y="6118"/>
                    </a:lnTo>
                    <a:lnTo>
                      <a:pt x="1345" y="6346"/>
                    </a:lnTo>
                    <a:lnTo>
                      <a:pt x="1316" y="6573"/>
                    </a:lnTo>
                    <a:lnTo>
                      <a:pt x="1286" y="6802"/>
                    </a:lnTo>
                    <a:lnTo>
                      <a:pt x="1257" y="7030"/>
                    </a:lnTo>
                    <a:lnTo>
                      <a:pt x="1226" y="7259"/>
                    </a:lnTo>
                    <a:lnTo>
                      <a:pt x="1196" y="7487"/>
                    </a:lnTo>
                    <a:lnTo>
                      <a:pt x="1045" y="7437"/>
                    </a:lnTo>
                    <a:lnTo>
                      <a:pt x="895" y="7388"/>
                    </a:lnTo>
                    <a:lnTo>
                      <a:pt x="743" y="7338"/>
                    </a:lnTo>
                    <a:lnTo>
                      <a:pt x="594" y="7288"/>
                    </a:lnTo>
                    <a:lnTo>
                      <a:pt x="444" y="7239"/>
                    </a:lnTo>
                    <a:lnTo>
                      <a:pt x="296" y="7190"/>
                    </a:lnTo>
                    <a:lnTo>
                      <a:pt x="148" y="7141"/>
                    </a:lnTo>
                    <a:lnTo>
                      <a:pt x="0" y="7092"/>
                    </a:lnTo>
                    <a:lnTo>
                      <a:pt x="30" y="6869"/>
                    </a:lnTo>
                    <a:lnTo>
                      <a:pt x="59" y="6645"/>
                    </a:lnTo>
                    <a:lnTo>
                      <a:pt x="89" y="6422"/>
                    </a:lnTo>
                    <a:lnTo>
                      <a:pt x="119" y="6198"/>
                    </a:lnTo>
                    <a:lnTo>
                      <a:pt x="148" y="5975"/>
                    </a:lnTo>
                    <a:lnTo>
                      <a:pt x="178" y="5752"/>
                    </a:lnTo>
                    <a:lnTo>
                      <a:pt x="207" y="5529"/>
                    </a:lnTo>
                    <a:lnTo>
                      <a:pt x="236" y="5307"/>
                    </a:lnTo>
                    <a:lnTo>
                      <a:pt x="266" y="5084"/>
                    </a:lnTo>
                    <a:lnTo>
                      <a:pt x="296" y="4861"/>
                    </a:lnTo>
                    <a:lnTo>
                      <a:pt x="325" y="4639"/>
                    </a:lnTo>
                    <a:lnTo>
                      <a:pt x="355" y="4417"/>
                    </a:lnTo>
                    <a:lnTo>
                      <a:pt x="385" y="4194"/>
                    </a:lnTo>
                    <a:lnTo>
                      <a:pt x="415" y="3972"/>
                    </a:lnTo>
                    <a:lnTo>
                      <a:pt x="444" y="3751"/>
                    </a:lnTo>
                    <a:lnTo>
                      <a:pt x="474" y="3528"/>
                    </a:lnTo>
                    <a:lnTo>
                      <a:pt x="504" y="3308"/>
                    </a:lnTo>
                    <a:lnTo>
                      <a:pt x="532" y="3086"/>
                    </a:lnTo>
                    <a:lnTo>
                      <a:pt x="561" y="2864"/>
                    </a:lnTo>
                    <a:lnTo>
                      <a:pt x="590" y="2644"/>
                    </a:lnTo>
                    <a:lnTo>
                      <a:pt x="619" y="2423"/>
                    </a:lnTo>
                    <a:lnTo>
                      <a:pt x="649" y="2202"/>
                    </a:lnTo>
                    <a:lnTo>
                      <a:pt x="678" y="1982"/>
                    </a:lnTo>
                    <a:lnTo>
                      <a:pt x="707" y="1762"/>
                    </a:lnTo>
                    <a:lnTo>
                      <a:pt x="735" y="1541"/>
                    </a:lnTo>
                    <a:lnTo>
                      <a:pt x="765" y="1321"/>
                    </a:lnTo>
                    <a:lnTo>
                      <a:pt x="794" y="1102"/>
                    </a:lnTo>
                    <a:lnTo>
                      <a:pt x="823" y="881"/>
                    </a:lnTo>
                    <a:lnTo>
                      <a:pt x="852" y="661"/>
                    </a:lnTo>
                    <a:lnTo>
                      <a:pt x="882" y="441"/>
                    </a:lnTo>
                    <a:lnTo>
                      <a:pt x="911" y="220"/>
                    </a:lnTo>
                    <a:lnTo>
                      <a:pt x="940" y="0"/>
                    </a:lnTo>
                    <a:close/>
                  </a:path>
                </a:pathLst>
              </a:custGeom>
              <a:solidFill>
                <a:srgbClr val="a455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108760" y="1702080"/>
                <a:ext cx="799920" cy="2052360"/>
              </a:xfrm>
              <a:custGeom>
                <a:avLst/>
                <a:gdLst/>
                <a:ahLst/>
                <a:rect l="l" t="t" r="r" b="b"/>
                <a:pathLst>
                  <a:path w="2142" h="7487">
                    <a:moveTo>
                      <a:pt x="940" y="0"/>
                    </a:moveTo>
                    <a:lnTo>
                      <a:pt x="1088" y="30"/>
                    </a:lnTo>
                    <a:lnTo>
                      <a:pt x="1237" y="59"/>
                    </a:lnTo>
                    <a:lnTo>
                      <a:pt x="1387" y="89"/>
                    </a:lnTo>
                    <a:lnTo>
                      <a:pt x="1537" y="119"/>
                    </a:lnTo>
                    <a:lnTo>
                      <a:pt x="1687" y="149"/>
                    </a:lnTo>
                    <a:lnTo>
                      <a:pt x="1838" y="179"/>
                    </a:lnTo>
                    <a:lnTo>
                      <a:pt x="1990" y="209"/>
                    </a:lnTo>
                    <a:lnTo>
                      <a:pt x="2142" y="239"/>
                    </a:lnTo>
                    <a:lnTo>
                      <a:pt x="2113" y="464"/>
                    </a:lnTo>
                    <a:lnTo>
                      <a:pt x="2083" y="689"/>
                    </a:lnTo>
                    <a:lnTo>
                      <a:pt x="2054" y="915"/>
                    </a:lnTo>
                    <a:lnTo>
                      <a:pt x="2025" y="1140"/>
                    </a:lnTo>
                    <a:lnTo>
                      <a:pt x="1995" y="1365"/>
                    </a:lnTo>
                    <a:lnTo>
                      <a:pt x="1965" y="1589"/>
                    </a:lnTo>
                    <a:lnTo>
                      <a:pt x="1936" y="1814"/>
                    </a:lnTo>
                    <a:lnTo>
                      <a:pt x="1907" y="2040"/>
                    </a:lnTo>
                    <a:lnTo>
                      <a:pt x="1877" y="2264"/>
                    </a:lnTo>
                    <a:lnTo>
                      <a:pt x="1848" y="2490"/>
                    </a:lnTo>
                    <a:lnTo>
                      <a:pt x="1819" y="2716"/>
                    </a:lnTo>
                    <a:lnTo>
                      <a:pt x="1790" y="2941"/>
                    </a:lnTo>
                    <a:lnTo>
                      <a:pt x="1761" y="3167"/>
                    </a:lnTo>
                    <a:lnTo>
                      <a:pt x="1731" y="3394"/>
                    </a:lnTo>
                    <a:lnTo>
                      <a:pt x="1702" y="3619"/>
                    </a:lnTo>
                    <a:lnTo>
                      <a:pt x="1672" y="3846"/>
                    </a:lnTo>
                    <a:lnTo>
                      <a:pt x="1643" y="4072"/>
                    </a:lnTo>
                    <a:lnTo>
                      <a:pt x="1613" y="4299"/>
                    </a:lnTo>
                    <a:lnTo>
                      <a:pt x="1583" y="4526"/>
                    </a:lnTo>
                    <a:lnTo>
                      <a:pt x="1554" y="4753"/>
                    </a:lnTo>
                    <a:lnTo>
                      <a:pt x="1524" y="4980"/>
                    </a:lnTo>
                    <a:lnTo>
                      <a:pt x="1494" y="5208"/>
                    </a:lnTo>
                    <a:lnTo>
                      <a:pt x="1464" y="5435"/>
                    </a:lnTo>
                    <a:lnTo>
                      <a:pt x="1435" y="5662"/>
                    </a:lnTo>
                    <a:lnTo>
                      <a:pt x="1405" y="5890"/>
                    </a:lnTo>
                    <a:lnTo>
                      <a:pt x="1375" y="6118"/>
                    </a:lnTo>
                    <a:lnTo>
                      <a:pt x="1345" y="6346"/>
                    </a:lnTo>
                    <a:lnTo>
                      <a:pt x="1316" y="6573"/>
                    </a:lnTo>
                    <a:lnTo>
                      <a:pt x="1286" y="6802"/>
                    </a:lnTo>
                    <a:lnTo>
                      <a:pt x="1257" y="7030"/>
                    </a:lnTo>
                    <a:lnTo>
                      <a:pt x="1226" y="7259"/>
                    </a:lnTo>
                    <a:lnTo>
                      <a:pt x="1196" y="7487"/>
                    </a:lnTo>
                    <a:lnTo>
                      <a:pt x="1045" y="7437"/>
                    </a:lnTo>
                    <a:lnTo>
                      <a:pt x="895" y="7388"/>
                    </a:lnTo>
                    <a:lnTo>
                      <a:pt x="743" y="7338"/>
                    </a:lnTo>
                    <a:lnTo>
                      <a:pt x="594" y="7288"/>
                    </a:lnTo>
                    <a:lnTo>
                      <a:pt x="444" y="7239"/>
                    </a:lnTo>
                    <a:lnTo>
                      <a:pt x="296" y="7190"/>
                    </a:lnTo>
                    <a:lnTo>
                      <a:pt x="148" y="7141"/>
                    </a:lnTo>
                    <a:lnTo>
                      <a:pt x="0" y="7092"/>
                    </a:lnTo>
                    <a:lnTo>
                      <a:pt x="30" y="6869"/>
                    </a:lnTo>
                    <a:lnTo>
                      <a:pt x="59" y="6645"/>
                    </a:lnTo>
                    <a:lnTo>
                      <a:pt x="89" y="6422"/>
                    </a:lnTo>
                    <a:lnTo>
                      <a:pt x="119" y="6198"/>
                    </a:lnTo>
                    <a:lnTo>
                      <a:pt x="148" y="5975"/>
                    </a:lnTo>
                    <a:lnTo>
                      <a:pt x="178" y="5752"/>
                    </a:lnTo>
                    <a:lnTo>
                      <a:pt x="207" y="5529"/>
                    </a:lnTo>
                    <a:lnTo>
                      <a:pt x="236" y="5307"/>
                    </a:lnTo>
                    <a:lnTo>
                      <a:pt x="266" y="5084"/>
                    </a:lnTo>
                    <a:lnTo>
                      <a:pt x="296" y="4861"/>
                    </a:lnTo>
                    <a:lnTo>
                      <a:pt x="325" y="4639"/>
                    </a:lnTo>
                    <a:lnTo>
                      <a:pt x="355" y="4417"/>
                    </a:lnTo>
                    <a:lnTo>
                      <a:pt x="385" y="4194"/>
                    </a:lnTo>
                    <a:lnTo>
                      <a:pt x="415" y="3972"/>
                    </a:lnTo>
                    <a:lnTo>
                      <a:pt x="444" y="3751"/>
                    </a:lnTo>
                    <a:lnTo>
                      <a:pt x="474" y="3528"/>
                    </a:lnTo>
                    <a:lnTo>
                      <a:pt x="504" y="3308"/>
                    </a:lnTo>
                    <a:lnTo>
                      <a:pt x="532" y="3086"/>
                    </a:lnTo>
                    <a:lnTo>
                      <a:pt x="561" y="2864"/>
                    </a:lnTo>
                    <a:lnTo>
                      <a:pt x="590" y="2644"/>
                    </a:lnTo>
                    <a:lnTo>
                      <a:pt x="619" y="2423"/>
                    </a:lnTo>
                    <a:lnTo>
                      <a:pt x="649" y="2202"/>
                    </a:lnTo>
                    <a:lnTo>
                      <a:pt x="678" y="1982"/>
                    </a:lnTo>
                    <a:lnTo>
                      <a:pt x="707" y="1762"/>
                    </a:lnTo>
                    <a:lnTo>
                      <a:pt x="735" y="1541"/>
                    </a:lnTo>
                    <a:lnTo>
                      <a:pt x="765" y="1321"/>
                    </a:lnTo>
                    <a:lnTo>
                      <a:pt x="794" y="1102"/>
                    </a:lnTo>
                    <a:lnTo>
                      <a:pt x="823" y="881"/>
                    </a:lnTo>
                    <a:lnTo>
                      <a:pt x="852" y="661"/>
                    </a:lnTo>
                    <a:lnTo>
                      <a:pt x="882" y="441"/>
                    </a:lnTo>
                    <a:lnTo>
                      <a:pt x="911" y="220"/>
                    </a:lnTo>
                    <a:lnTo>
                      <a:pt x="94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287600" y="1593720"/>
                <a:ext cx="456480" cy="2051280"/>
              </a:xfrm>
              <a:custGeom>
                <a:avLst/>
                <a:gdLst/>
                <a:ahLst/>
                <a:rect l="l" t="t" r="r" b="b"/>
                <a:pathLst>
                  <a:path w="1223" h="7480">
                    <a:moveTo>
                      <a:pt x="913" y="0"/>
                    </a:moveTo>
                    <a:lnTo>
                      <a:pt x="952" y="88"/>
                    </a:lnTo>
                    <a:lnTo>
                      <a:pt x="990" y="178"/>
                    </a:lnTo>
                    <a:lnTo>
                      <a:pt x="1028" y="268"/>
                    </a:lnTo>
                    <a:lnTo>
                      <a:pt x="1068" y="358"/>
                    </a:lnTo>
                    <a:lnTo>
                      <a:pt x="1106" y="449"/>
                    </a:lnTo>
                    <a:lnTo>
                      <a:pt x="1145" y="539"/>
                    </a:lnTo>
                    <a:lnTo>
                      <a:pt x="1183" y="629"/>
                    </a:lnTo>
                    <a:lnTo>
                      <a:pt x="1223" y="719"/>
                    </a:lnTo>
                    <a:lnTo>
                      <a:pt x="1195" y="929"/>
                    </a:lnTo>
                    <a:lnTo>
                      <a:pt x="1166" y="1138"/>
                    </a:lnTo>
                    <a:lnTo>
                      <a:pt x="1138" y="1348"/>
                    </a:lnTo>
                    <a:lnTo>
                      <a:pt x="1109" y="1558"/>
                    </a:lnTo>
                    <a:lnTo>
                      <a:pt x="1081" y="1767"/>
                    </a:lnTo>
                    <a:lnTo>
                      <a:pt x="1052" y="1977"/>
                    </a:lnTo>
                    <a:lnTo>
                      <a:pt x="1023" y="2186"/>
                    </a:lnTo>
                    <a:lnTo>
                      <a:pt x="995" y="2396"/>
                    </a:lnTo>
                    <a:lnTo>
                      <a:pt x="967" y="2607"/>
                    </a:lnTo>
                    <a:lnTo>
                      <a:pt x="939" y="2817"/>
                    </a:lnTo>
                    <a:lnTo>
                      <a:pt x="909" y="3028"/>
                    </a:lnTo>
                    <a:lnTo>
                      <a:pt x="881" y="3238"/>
                    </a:lnTo>
                    <a:lnTo>
                      <a:pt x="853" y="3449"/>
                    </a:lnTo>
                    <a:lnTo>
                      <a:pt x="825" y="3661"/>
                    </a:lnTo>
                    <a:lnTo>
                      <a:pt x="796" y="3871"/>
                    </a:lnTo>
                    <a:lnTo>
                      <a:pt x="768" y="4081"/>
                    </a:lnTo>
                    <a:lnTo>
                      <a:pt x="739" y="4293"/>
                    </a:lnTo>
                    <a:lnTo>
                      <a:pt x="710" y="4505"/>
                    </a:lnTo>
                    <a:lnTo>
                      <a:pt x="682" y="4717"/>
                    </a:lnTo>
                    <a:lnTo>
                      <a:pt x="652" y="4928"/>
                    </a:lnTo>
                    <a:lnTo>
                      <a:pt x="623" y="5140"/>
                    </a:lnTo>
                    <a:lnTo>
                      <a:pt x="594" y="5353"/>
                    </a:lnTo>
                    <a:lnTo>
                      <a:pt x="566" y="5565"/>
                    </a:lnTo>
                    <a:lnTo>
                      <a:pt x="536" y="5777"/>
                    </a:lnTo>
                    <a:lnTo>
                      <a:pt x="507" y="5989"/>
                    </a:lnTo>
                    <a:lnTo>
                      <a:pt x="479" y="6202"/>
                    </a:lnTo>
                    <a:lnTo>
                      <a:pt x="450" y="6414"/>
                    </a:lnTo>
                    <a:lnTo>
                      <a:pt x="421" y="6627"/>
                    </a:lnTo>
                    <a:lnTo>
                      <a:pt x="392" y="6840"/>
                    </a:lnTo>
                    <a:lnTo>
                      <a:pt x="364" y="7053"/>
                    </a:lnTo>
                    <a:lnTo>
                      <a:pt x="336" y="7267"/>
                    </a:lnTo>
                    <a:lnTo>
                      <a:pt x="307" y="7480"/>
                    </a:lnTo>
                    <a:lnTo>
                      <a:pt x="268" y="7380"/>
                    </a:lnTo>
                    <a:lnTo>
                      <a:pt x="230" y="7282"/>
                    </a:lnTo>
                    <a:lnTo>
                      <a:pt x="192" y="7183"/>
                    </a:lnTo>
                    <a:lnTo>
                      <a:pt x="153" y="7085"/>
                    </a:lnTo>
                    <a:lnTo>
                      <a:pt x="115" y="6987"/>
                    </a:lnTo>
                    <a:lnTo>
                      <a:pt x="77" y="6889"/>
                    </a:lnTo>
                    <a:lnTo>
                      <a:pt x="38" y="6792"/>
                    </a:lnTo>
                    <a:lnTo>
                      <a:pt x="0" y="6694"/>
                    </a:lnTo>
                    <a:lnTo>
                      <a:pt x="29" y="6483"/>
                    </a:lnTo>
                    <a:lnTo>
                      <a:pt x="58" y="6271"/>
                    </a:lnTo>
                    <a:lnTo>
                      <a:pt x="87" y="6061"/>
                    </a:lnTo>
                    <a:lnTo>
                      <a:pt x="115" y="5849"/>
                    </a:lnTo>
                    <a:lnTo>
                      <a:pt x="143" y="5639"/>
                    </a:lnTo>
                    <a:lnTo>
                      <a:pt x="171" y="5428"/>
                    </a:lnTo>
                    <a:lnTo>
                      <a:pt x="201" y="5216"/>
                    </a:lnTo>
                    <a:lnTo>
                      <a:pt x="229" y="5006"/>
                    </a:lnTo>
                    <a:lnTo>
                      <a:pt x="257" y="4797"/>
                    </a:lnTo>
                    <a:lnTo>
                      <a:pt x="286" y="4586"/>
                    </a:lnTo>
                    <a:lnTo>
                      <a:pt x="315" y="4377"/>
                    </a:lnTo>
                    <a:lnTo>
                      <a:pt x="344" y="4166"/>
                    </a:lnTo>
                    <a:lnTo>
                      <a:pt x="373" y="3957"/>
                    </a:lnTo>
                    <a:lnTo>
                      <a:pt x="401" y="3748"/>
                    </a:lnTo>
                    <a:lnTo>
                      <a:pt x="431" y="3537"/>
                    </a:lnTo>
                    <a:lnTo>
                      <a:pt x="460" y="3328"/>
                    </a:lnTo>
                    <a:lnTo>
                      <a:pt x="488" y="3119"/>
                    </a:lnTo>
                    <a:lnTo>
                      <a:pt x="516" y="2910"/>
                    </a:lnTo>
                    <a:lnTo>
                      <a:pt x="544" y="2702"/>
                    </a:lnTo>
                    <a:lnTo>
                      <a:pt x="573" y="2492"/>
                    </a:lnTo>
                    <a:lnTo>
                      <a:pt x="601" y="2283"/>
                    </a:lnTo>
                    <a:lnTo>
                      <a:pt x="629" y="2075"/>
                    </a:lnTo>
                    <a:lnTo>
                      <a:pt x="657" y="1866"/>
                    </a:lnTo>
                    <a:lnTo>
                      <a:pt x="686" y="1658"/>
                    </a:lnTo>
                    <a:lnTo>
                      <a:pt x="714" y="1451"/>
                    </a:lnTo>
                    <a:lnTo>
                      <a:pt x="742" y="1244"/>
                    </a:lnTo>
                    <a:lnTo>
                      <a:pt x="770" y="1036"/>
                    </a:lnTo>
                    <a:lnTo>
                      <a:pt x="799" y="829"/>
                    </a:lnTo>
                    <a:lnTo>
                      <a:pt x="828" y="621"/>
                    </a:lnTo>
                    <a:lnTo>
                      <a:pt x="856" y="415"/>
                    </a:lnTo>
                    <a:lnTo>
                      <a:pt x="885" y="206"/>
                    </a:lnTo>
                    <a:lnTo>
                      <a:pt x="913"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287600" y="1593720"/>
                <a:ext cx="456480" cy="2051280"/>
              </a:xfrm>
              <a:custGeom>
                <a:avLst/>
                <a:gdLst/>
                <a:ahLst/>
                <a:rect l="l" t="t" r="r" b="b"/>
                <a:pathLst>
                  <a:path w="1223" h="7480">
                    <a:moveTo>
                      <a:pt x="913" y="0"/>
                    </a:moveTo>
                    <a:lnTo>
                      <a:pt x="952" y="88"/>
                    </a:lnTo>
                    <a:lnTo>
                      <a:pt x="990" y="178"/>
                    </a:lnTo>
                    <a:lnTo>
                      <a:pt x="1028" y="268"/>
                    </a:lnTo>
                    <a:lnTo>
                      <a:pt x="1068" y="358"/>
                    </a:lnTo>
                    <a:lnTo>
                      <a:pt x="1106" y="449"/>
                    </a:lnTo>
                    <a:lnTo>
                      <a:pt x="1145" y="539"/>
                    </a:lnTo>
                    <a:lnTo>
                      <a:pt x="1183" y="629"/>
                    </a:lnTo>
                    <a:lnTo>
                      <a:pt x="1223" y="719"/>
                    </a:lnTo>
                    <a:lnTo>
                      <a:pt x="1195" y="929"/>
                    </a:lnTo>
                    <a:lnTo>
                      <a:pt x="1166" y="1138"/>
                    </a:lnTo>
                    <a:lnTo>
                      <a:pt x="1138" y="1348"/>
                    </a:lnTo>
                    <a:lnTo>
                      <a:pt x="1109" y="1558"/>
                    </a:lnTo>
                    <a:lnTo>
                      <a:pt x="1081" y="1767"/>
                    </a:lnTo>
                    <a:lnTo>
                      <a:pt x="1052" y="1977"/>
                    </a:lnTo>
                    <a:lnTo>
                      <a:pt x="1023" y="2186"/>
                    </a:lnTo>
                    <a:lnTo>
                      <a:pt x="995" y="2396"/>
                    </a:lnTo>
                    <a:lnTo>
                      <a:pt x="967" y="2607"/>
                    </a:lnTo>
                    <a:lnTo>
                      <a:pt x="939" y="2817"/>
                    </a:lnTo>
                    <a:lnTo>
                      <a:pt x="909" y="3028"/>
                    </a:lnTo>
                    <a:lnTo>
                      <a:pt x="881" y="3238"/>
                    </a:lnTo>
                    <a:lnTo>
                      <a:pt x="853" y="3449"/>
                    </a:lnTo>
                    <a:lnTo>
                      <a:pt x="825" y="3661"/>
                    </a:lnTo>
                    <a:lnTo>
                      <a:pt x="796" y="3871"/>
                    </a:lnTo>
                    <a:lnTo>
                      <a:pt x="768" y="4081"/>
                    </a:lnTo>
                    <a:lnTo>
                      <a:pt x="739" y="4293"/>
                    </a:lnTo>
                    <a:lnTo>
                      <a:pt x="710" y="4505"/>
                    </a:lnTo>
                    <a:lnTo>
                      <a:pt x="682" y="4717"/>
                    </a:lnTo>
                    <a:lnTo>
                      <a:pt x="652" y="4928"/>
                    </a:lnTo>
                    <a:lnTo>
                      <a:pt x="623" y="5140"/>
                    </a:lnTo>
                    <a:lnTo>
                      <a:pt x="594" y="5353"/>
                    </a:lnTo>
                    <a:lnTo>
                      <a:pt x="566" y="5565"/>
                    </a:lnTo>
                    <a:lnTo>
                      <a:pt x="536" y="5777"/>
                    </a:lnTo>
                    <a:lnTo>
                      <a:pt x="507" y="5989"/>
                    </a:lnTo>
                    <a:lnTo>
                      <a:pt x="479" y="6202"/>
                    </a:lnTo>
                    <a:lnTo>
                      <a:pt x="450" y="6414"/>
                    </a:lnTo>
                    <a:lnTo>
                      <a:pt x="421" y="6627"/>
                    </a:lnTo>
                    <a:lnTo>
                      <a:pt x="392" y="6840"/>
                    </a:lnTo>
                    <a:lnTo>
                      <a:pt x="364" y="7053"/>
                    </a:lnTo>
                    <a:lnTo>
                      <a:pt x="336" y="7267"/>
                    </a:lnTo>
                    <a:lnTo>
                      <a:pt x="307" y="7480"/>
                    </a:lnTo>
                    <a:lnTo>
                      <a:pt x="268" y="7380"/>
                    </a:lnTo>
                    <a:lnTo>
                      <a:pt x="230" y="7282"/>
                    </a:lnTo>
                    <a:lnTo>
                      <a:pt x="192" y="7183"/>
                    </a:lnTo>
                    <a:lnTo>
                      <a:pt x="153" y="7085"/>
                    </a:lnTo>
                    <a:lnTo>
                      <a:pt x="115" y="6987"/>
                    </a:lnTo>
                    <a:lnTo>
                      <a:pt x="77" y="6889"/>
                    </a:lnTo>
                    <a:lnTo>
                      <a:pt x="38" y="6792"/>
                    </a:lnTo>
                    <a:lnTo>
                      <a:pt x="0" y="6694"/>
                    </a:lnTo>
                    <a:lnTo>
                      <a:pt x="29" y="6483"/>
                    </a:lnTo>
                    <a:lnTo>
                      <a:pt x="58" y="6271"/>
                    </a:lnTo>
                    <a:lnTo>
                      <a:pt x="87" y="6061"/>
                    </a:lnTo>
                    <a:lnTo>
                      <a:pt x="115" y="5849"/>
                    </a:lnTo>
                    <a:lnTo>
                      <a:pt x="143" y="5639"/>
                    </a:lnTo>
                    <a:lnTo>
                      <a:pt x="171" y="5428"/>
                    </a:lnTo>
                    <a:lnTo>
                      <a:pt x="201" y="5216"/>
                    </a:lnTo>
                    <a:lnTo>
                      <a:pt x="229" y="5006"/>
                    </a:lnTo>
                    <a:lnTo>
                      <a:pt x="257" y="4797"/>
                    </a:lnTo>
                    <a:lnTo>
                      <a:pt x="286" y="4586"/>
                    </a:lnTo>
                    <a:lnTo>
                      <a:pt x="315" y="4377"/>
                    </a:lnTo>
                    <a:lnTo>
                      <a:pt x="344" y="4166"/>
                    </a:lnTo>
                    <a:lnTo>
                      <a:pt x="373" y="3957"/>
                    </a:lnTo>
                    <a:lnTo>
                      <a:pt x="401" y="3748"/>
                    </a:lnTo>
                    <a:lnTo>
                      <a:pt x="431" y="3537"/>
                    </a:lnTo>
                    <a:lnTo>
                      <a:pt x="460" y="3328"/>
                    </a:lnTo>
                    <a:lnTo>
                      <a:pt x="488" y="3119"/>
                    </a:lnTo>
                    <a:lnTo>
                      <a:pt x="516" y="2910"/>
                    </a:lnTo>
                    <a:lnTo>
                      <a:pt x="544" y="2702"/>
                    </a:lnTo>
                    <a:lnTo>
                      <a:pt x="573" y="2492"/>
                    </a:lnTo>
                    <a:lnTo>
                      <a:pt x="601" y="2283"/>
                    </a:lnTo>
                    <a:lnTo>
                      <a:pt x="629" y="2075"/>
                    </a:lnTo>
                    <a:lnTo>
                      <a:pt x="657" y="1866"/>
                    </a:lnTo>
                    <a:lnTo>
                      <a:pt x="686" y="1658"/>
                    </a:lnTo>
                    <a:lnTo>
                      <a:pt x="714" y="1451"/>
                    </a:lnTo>
                    <a:lnTo>
                      <a:pt x="742" y="1244"/>
                    </a:lnTo>
                    <a:lnTo>
                      <a:pt x="770" y="1036"/>
                    </a:lnTo>
                    <a:lnTo>
                      <a:pt x="799" y="829"/>
                    </a:lnTo>
                    <a:lnTo>
                      <a:pt x="828" y="621"/>
                    </a:lnTo>
                    <a:lnTo>
                      <a:pt x="856" y="415"/>
                    </a:lnTo>
                    <a:lnTo>
                      <a:pt x="885" y="206"/>
                    </a:lnTo>
                    <a:lnTo>
                      <a:pt x="91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26600" y="3365280"/>
                <a:ext cx="375840" cy="279720"/>
              </a:xfrm>
              <a:custGeom>
                <a:avLst/>
                <a:gdLst/>
                <a:ahLst/>
                <a:rect l="l" t="t" r="r" b="b"/>
                <a:pathLst>
                  <a:path w="1008" h="1017">
                    <a:moveTo>
                      <a:pt x="701" y="231"/>
                    </a:moveTo>
                    <a:lnTo>
                      <a:pt x="739" y="329"/>
                    </a:lnTo>
                    <a:lnTo>
                      <a:pt x="778" y="426"/>
                    </a:lnTo>
                    <a:lnTo>
                      <a:pt x="816" y="524"/>
                    </a:lnTo>
                    <a:lnTo>
                      <a:pt x="854" y="622"/>
                    </a:lnTo>
                    <a:lnTo>
                      <a:pt x="893" y="720"/>
                    </a:lnTo>
                    <a:lnTo>
                      <a:pt x="931" y="819"/>
                    </a:lnTo>
                    <a:lnTo>
                      <a:pt x="969" y="917"/>
                    </a:lnTo>
                    <a:lnTo>
                      <a:pt x="1008" y="1017"/>
                    </a:lnTo>
                    <a:lnTo>
                      <a:pt x="918" y="986"/>
                    </a:lnTo>
                    <a:lnTo>
                      <a:pt x="829" y="956"/>
                    </a:lnTo>
                    <a:lnTo>
                      <a:pt x="739" y="925"/>
                    </a:lnTo>
                    <a:lnTo>
                      <a:pt x="651" y="894"/>
                    </a:lnTo>
                    <a:lnTo>
                      <a:pt x="562" y="863"/>
                    </a:lnTo>
                    <a:lnTo>
                      <a:pt x="473" y="834"/>
                    </a:lnTo>
                    <a:lnTo>
                      <a:pt x="385" y="803"/>
                    </a:lnTo>
                    <a:lnTo>
                      <a:pt x="296" y="772"/>
                    </a:lnTo>
                    <a:lnTo>
                      <a:pt x="259" y="675"/>
                    </a:lnTo>
                    <a:lnTo>
                      <a:pt x="221" y="579"/>
                    </a:lnTo>
                    <a:lnTo>
                      <a:pt x="185" y="482"/>
                    </a:lnTo>
                    <a:lnTo>
                      <a:pt x="148" y="386"/>
                    </a:lnTo>
                    <a:lnTo>
                      <a:pt x="110" y="288"/>
                    </a:lnTo>
                    <a:lnTo>
                      <a:pt x="74" y="192"/>
                    </a:lnTo>
                    <a:lnTo>
                      <a:pt x="37" y="96"/>
                    </a:lnTo>
                    <a:lnTo>
                      <a:pt x="0" y="0"/>
                    </a:lnTo>
                    <a:lnTo>
                      <a:pt x="87" y="29"/>
                    </a:lnTo>
                    <a:lnTo>
                      <a:pt x="175" y="57"/>
                    </a:lnTo>
                    <a:lnTo>
                      <a:pt x="262" y="87"/>
                    </a:lnTo>
                    <a:lnTo>
                      <a:pt x="349" y="115"/>
                    </a:lnTo>
                    <a:lnTo>
                      <a:pt x="437" y="144"/>
                    </a:lnTo>
                    <a:lnTo>
                      <a:pt x="525" y="173"/>
                    </a:lnTo>
                    <a:lnTo>
                      <a:pt x="612" y="202"/>
                    </a:lnTo>
                    <a:lnTo>
                      <a:pt x="701" y="231"/>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026600" y="3365280"/>
                <a:ext cx="375840" cy="279720"/>
              </a:xfrm>
              <a:custGeom>
                <a:avLst/>
                <a:gdLst/>
                <a:ahLst/>
                <a:rect l="l" t="t" r="r" b="b"/>
                <a:pathLst>
                  <a:path w="1008" h="1017">
                    <a:moveTo>
                      <a:pt x="701" y="231"/>
                    </a:moveTo>
                    <a:lnTo>
                      <a:pt x="739" y="329"/>
                    </a:lnTo>
                    <a:lnTo>
                      <a:pt x="778" y="426"/>
                    </a:lnTo>
                    <a:lnTo>
                      <a:pt x="816" y="524"/>
                    </a:lnTo>
                    <a:lnTo>
                      <a:pt x="854" y="622"/>
                    </a:lnTo>
                    <a:lnTo>
                      <a:pt x="893" y="720"/>
                    </a:lnTo>
                    <a:lnTo>
                      <a:pt x="931" y="819"/>
                    </a:lnTo>
                    <a:lnTo>
                      <a:pt x="969" y="917"/>
                    </a:lnTo>
                    <a:lnTo>
                      <a:pt x="1008" y="1017"/>
                    </a:lnTo>
                    <a:lnTo>
                      <a:pt x="918" y="986"/>
                    </a:lnTo>
                    <a:lnTo>
                      <a:pt x="829" y="956"/>
                    </a:lnTo>
                    <a:lnTo>
                      <a:pt x="739" y="925"/>
                    </a:lnTo>
                    <a:lnTo>
                      <a:pt x="651" y="894"/>
                    </a:lnTo>
                    <a:lnTo>
                      <a:pt x="562" y="863"/>
                    </a:lnTo>
                    <a:lnTo>
                      <a:pt x="473" y="834"/>
                    </a:lnTo>
                    <a:lnTo>
                      <a:pt x="385" y="803"/>
                    </a:lnTo>
                    <a:lnTo>
                      <a:pt x="296" y="772"/>
                    </a:lnTo>
                    <a:lnTo>
                      <a:pt x="259" y="675"/>
                    </a:lnTo>
                    <a:lnTo>
                      <a:pt x="221" y="579"/>
                    </a:lnTo>
                    <a:lnTo>
                      <a:pt x="185" y="482"/>
                    </a:lnTo>
                    <a:lnTo>
                      <a:pt x="148" y="386"/>
                    </a:lnTo>
                    <a:lnTo>
                      <a:pt x="110" y="288"/>
                    </a:lnTo>
                    <a:lnTo>
                      <a:pt x="74" y="192"/>
                    </a:lnTo>
                    <a:lnTo>
                      <a:pt x="37" y="96"/>
                    </a:lnTo>
                    <a:lnTo>
                      <a:pt x="0" y="0"/>
                    </a:lnTo>
                    <a:lnTo>
                      <a:pt x="87" y="29"/>
                    </a:lnTo>
                    <a:lnTo>
                      <a:pt x="175" y="57"/>
                    </a:lnTo>
                    <a:lnTo>
                      <a:pt x="262" y="87"/>
                    </a:lnTo>
                    <a:lnTo>
                      <a:pt x="349" y="115"/>
                    </a:lnTo>
                    <a:lnTo>
                      <a:pt x="437" y="144"/>
                    </a:lnTo>
                    <a:lnTo>
                      <a:pt x="525" y="173"/>
                    </a:lnTo>
                    <a:lnTo>
                      <a:pt x="612" y="202"/>
                    </a:lnTo>
                    <a:lnTo>
                      <a:pt x="701" y="231"/>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026600" y="1554120"/>
                <a:ext cx="602640" cy="1875600"/>
              </a:xfrm>
              <a:custGeom>
                <a:avLst/>
                <a:gdLst/>
                <a:ahLst/>
                <a:rect l="l" t="t" r="r" b="b"/>
                <a:pathLst>
                  <a:path w="1614" h="6837">
                    <a:moveTo>
                      <a:pt x="909" y="0"/>
                    </a:moveTo>
                    <a:lnTo>
                      <a:pt x="996" y="18"/>
                    </a:lnTo>
                    <a:lnTo>
                      <a:pt x="1084" y="36"/>
                    </a:lnTo>
                    <a:lnTo>
                      <a:pt x="1172" y="53"/>
                    </a:lnTo>
                    <a:lnTo>
                      <a:pt x="1260" y="70"/>
                    </a:lnTo>
                    <a:lnTo>
                      <a:pt x="1348" y="89"/>
                    </a:lnTo>
                    <a:lnTo>
                      <a:pt x="1437" y="106"/>
                    </a:lnTo>
                    <a:lnTo>
                      <a:pt x="1526" y="124"/>
                    </a:lnTo>
                    <a:lnTo>
                      <a:pt x="1614" y="143"/>
                    </a:lnTo>
                    <a:lnTo>
                      <a:pt x="1586" y="349"/>
                    </a:lnTo>
                    <a:lnTo>
                      <a:pt x="1557" y="558"/>
                    </a:lnTo>
                    <a:lnTo>
                      <a:pt x="1529" y="764"/>
                    </a:lnTo>
                    <a:lnTo>
                      <a:pt x="1500" y="972"/>
                    </a:lnTo>
                    <a:lnTo>
                      <a:pt x="1471" y="1179"/>
                    </a:lnTo>
                    <a:lnTo>
                      <a:pt x="1443" y="1387"/>
                    </a:lnTo>
                    <a:lnTo>
                      <a:pt x="1415" y="1594"/>
                    </a:lnTo>
                    <a:lnTo>
                      <a:pt x="1387" y="1801"/>
                    </a:lnTo>
                    <a:lnTo>
                      <a:pt x="1358" y="2009"/>
                    </a:lnTo>
                    <a:lnTo>
                      <a:pt x="1330" y="2218"/>
                    </a:lnTo>
                    <a:lnTo>
                      <a:pt x="1302" y="2426"/>
                    </a:lnTo>
                    <a:lnTo>
                      <a:pt x="1274" y="2635"/>
                    </a:lnTo>
                    <a:lnTo>
                      <a:pt x="1245" y="2845"/>
                    </a:lnTo>
                    <a:lnTo>
                      <a:pt x="1217" y="3053"/>
                    </a:lnTo>
                    <a:lnTo>
                      <a:pt x="1189" y="3262"/>
                    </a:lnTo>
                    <a:lnTo>
                      <a:pt x="1161" y="3471"/>
                    </a:lnTo>
                    <a:lnTo>
                      <a:pt x="1132" y="3680"/>
                    </a:lnTo>
                    <a:lnTo>
                      <a:pt x="1102" y="3891"/>
                    </a:lnTo>
                    <a:lnTo>
                      <a:pt x="1074" y="4100"/>
                    </a:lnTo>
                    <a:lnTo>
                      <a:pt x="1045" y="4309"/>
                    </a:lnTo>
                    <a:lnTo>
                      <a:pt x="1016" y="4520"/>
                    </a:lnTo>
                    <a:lnTo>
                      <a:pt x="987" y="4729"/>
                    </a:lnTo>
                    <a:lnTo>
                      <a:pt x="958" y="4940"/>
                    </a:lnTo>
                    <a:lnTo>
                      <a:pt x="930" y="5149"/>
                    </a:lnTo>
                    <a:lnTo>
                      <a:pt x="902" y="5359"/>
                    </a:lnTo>
                    <a:lnTo>
                      <a:pt x="872" y="5571"/>
                    </a:lnTo>
                    <a:lnTo>
                      <a:pt x="844" y="5782"/>
                    </a:lnTo>
                    <a:lnTo>
                      <a:pt x="816" y="5992"/>
                    </a:lnTo>
                    <a:lnTo>
                      <a:pt x="788" y="6204"/>
                    </a:lnTo>
                    <a:lnTo>
                      <a:pt x="759" y="6414"/>
                    </a:lnTo>
                    <a:lnTo>
                      <a:pt x="730" y="6626"/>
                    </a:lnTo>
                    <a:lnTo>
                      <a:pt x="701" y="6837"/>
                    </a:lnTo>
                    <a:lnTo>
                      <a:pt x="612" y="6808"/>
                    </a:lnTo>
                    <a:lnTo>
                      <a:pt x="525" y="6779"/>
                    </a:lnTo>
                    <a:lnTo>
                      <a:pt x="437" y="6750"/>
                    </a:lnTo>
                    <a:lnTo>
                      <a:pt x="349" y="6721"/>
                    </a:lnTo>
                    <a:lnTo>
                      <a:pt x="262" y="6693"/>
                    </a:lnTo>
                    <a:lnTo>
                      <a:pt x="175" y="6663"/>
                    </a:lnTo>
                    <a:lnTo>
                      <a:pt x="87" y="6635"/>
                    </a:lnTo>
                    <a:lnTo>
                      <a:pt x="0" y="6606"/>
                    </a:lnTo>
                    <a:lnTo>
                      <a:pt x="29" y="6397"/>
                    </a:lnTo>
                    <a:lnTo>
                      <a:pt x="58" y="6189"/>
                    </a:lnTo>
                    <a:lnTo>
                      <a:pt x="86" y="5981"/>
                    </a:lnTo>
                    <a:lnTo>
                      <a:pt x="114" y="5773"/>
                    </a:lnTo>
                    <a:lnTo>
                      <a:pt x="144" y="5565"/>
                    </a:lnTo>
                    <a:lnTo>
                      <a:pt x="172" y="5357"/>
                    </a:lnTo>
                    <a:lnTo>
                      <a:pt x="200" y="5150"/>
                    </a:lnTo>
                    <a:lnTo>
                      <a:pt x="229" y="4942"/>
                    </a:lnTo>
                    <a:lnTo>
                      <a:pt x="258" y="4735"/>
                    </a:lnTo>
                    <a:lnTo>
                      <a:pt x="286" y="4529"/>
                    </a:lnTo>
                    <a:lnTo>
                      <a:pt x="314" y="4321"/>
                    </a:lnTo>
                    <a:lnTo>
                      <a:pt x="342" y="4114"/>
                    </a:lnTo>
                    <a:lnTo>
                      <a:pt x="371" y="3907"/>
                    </a:lnTo>
                    <a:lnTo>
                      <a:pt x="400" y="3700"/>
                    </a:lnTo>
                    <a:lnTo>
                      <a:pt x="428" y="3493"/>
                    </a:lnTo>
                    <a:lnTo>
                      <a:pt x="457" y="3285"/>
                    </a:lnTo>
                    <a:lnTo>
                      <a:pt x="485" y="3080"/>
                    </a:lnTo>
                    <a:lnTo>
                      <a:pt x="514" y="2873"/>
                    </a:lnTo>
                    <a:lnTo>
                      <a:pt x="543" y="2667"/>
                    </a:lnTo>
                    <a:lnTo>
                      <a:pt x="571" y="2462"/>
                    </a:lnTo>
                    <a:lnTo>
                      <a:pt x="599" y="2256"/>
                    </a:lnTo>
                    <a:lnTo>
                      <a:pt x="628" y="2051"/>
                    </a:lnTo>
                    <a:lnTo>
                      <a:pt x="656" y="1845"/>
                    </a:lnTo>
                    <a:lnTo>
                      <a:pt x="684" y="1640"/>
                    </a:lnTo>
                    <a:lnTo>
                      <a:pt x="712" y="1434"/>
                    </a:lnTo>
                    <a:lnTo>
                      <a:pt x="740" y="1230"/>
                    </a:lnTo>
                    <a:lnTo>
                      <a:pt x="768" y="1024"/>
                    </a:lnTo>
                    <a:lnTo>
                      <a:pt x="796" y="820"/>
                    </a:lnTo>
                    <a:lnTo>
                      <a:pt x="824" y="615"/>
                    </a:lnTo>
                    <a:lnTo>
                      <a:pt x="852" y="410"/>
                    </a:lnTo>
                    <a:lnTo>
                      <a:pt x="881" y="205"/>
                    </a:lnTo>
                    <a:lnTo>
                      <a:pt x="909"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026600" y="1554120"/>
                <a:ext cx="602640" cy="1875600"/>
              </a:xfrm>
              <a:custGeom>
                <a:avLst/>
                <a:gdLst/>
                <a:ahLst/>
                <a:rect l="l" t="t" r="r" b="b"/>
                <a:pathLst>
                  <a:path w="1614" h="6837">
                    <a:moveTo>
                      <a:pt x="909" y="0"/>
                    </a:moveTo>
                    <a:lnTo>
                      <a:pt x="996" y="18"/>
                    </a:lnTo>
                    <a:lnTo>
                      <a:pt x="1084" y="36"/>
                    </a:lnTo>
                    <a:lnTo>
                      <a:pt x="1172" y="53"/>
                    </a:lnTo>
                    <a:lnTo>
                      <a:pt x="1260" y="70"/>
                    </a:lnTo>
                    <a:lnTo>
                      <a:pt x="1348" y="89"/>
                    </a:lnTo>
                    <a:lnTo>
                      <a:pt x="1437" y="106"/>
                    </a:lnTo>
                    <a:lnTo>
                      <a:pt x="1526" y="124"/>
                    </a:lnTo>
                    <a:lnTo>
                      <a:pt x="1614" y="143"/>
                    </a:lnTo>
                    <a:lnTo>
                      <a:pt x="1586" y="349"/>
                    </a:lnTo>
                    <a:lnTo>
                      <a:pt x="1557" y="558"/>
                    </a:lnTo>
                    <a:lnTo>
                      <a:pt x="1529" y="764"/>
                    </a:lnTo>
                    <a:lnTo>
                      <a:pt x="1500" y="972"/>
                    </a:lnTo>
                    <a:lnTo>
                      <a:pt x="1471" y="1179"/>
                    </a:lnTo>
                    <a:lnTo>
                      <a:pt x="1443" y="1387"/>
                    </a:lnTo>
                    <a:lnTo>
                      <a:pt x="1415" y="1594"/>
                    </a:lnTo>
                    <a:lnTo>
                      <a:pt x="1387" y="1801"/>
                    </a:lnTo>
                    <a:lnTo>
                      <a:pt x="1358" y="2009"/>
                    </a:lnTo>
                    <a:lnTo>
                      <a:pt x="1330" y="2218"/>
                    </a:lnTo>
                    <a:lnTo>
                      <a:pt x="1302" y="2426"/>
                    </a:lnTo>
                    <a:lnTo>
                      <a:pt x="1274" y="2635"/>
                    </a:lnTo>
                    <a:lnTo>
                      <a:pt x="1245" y="2845"/>
                    </a:lnTo>
                    <a:lnTo>
                      <a:pt x="1217" y="3053"/>
                    </a:lnTo>
                    <a:lnTo>
                      <a:pt x="1189" y="3262"/>
                    </a:lnTo>
                    <a:lnTo>
                      <a:pt x="1161" y="3471"/>
                    </a:lnTo>
                    <a:lnTo>
                      <a:pt x="1132" y="3680"/>
                    </a:lnTo>
                    <a:lnTo>
                      <a:pt x="1102" y="3891"/>
                    </a:lnTo>
                    <a:lnTo>
                      <a:pt x="1074" y="4100"/>
                    </a:lnTo>
                    <a:lnTo>
                      <a:pt x="1045" y="4309"/>
                    </a:lnTo>
                    <a:lnTo>
                      <a:pt x="1016" y="4520"/>
                    </a:lnTo>
                    <a:lnTo>
                      <a:pt x="987" y="4729"/>
                    </a:lnTo>
                    <a:lnTo>
                      <a:pt x="958" y="4940"/>
                    </a:lnTo>
                    <a:lnTo>
                      <a:pt x="930" y="5149"/>
                    </a:lnTo>
                    <a:lnTo>
                      <a:pt x="902" y="5359"/>
                    </a:lnTo>
                    <a:lnTo>
                      <a:pt x="872" y="5571"/>
                    </a:lnTo>
                    <a:lnTo>
                      <a:pt x="844" y="5782"/>
                    </a:lnTo>
                    <a:lnTo>
                      <a:pt x="816" y="5992"/>
                    </a:lnTo>
                    <a:lnTo>
                      <a:pt x="788" y="6204"/>
                    </a:lnTo>
                    <a:lnTo>
                      <a:pt x="759" y="6414"/>
                    </a:lnTo>
                    <a:lnTo>
                      <a:pt x="730" y="6626"/>
                    </a:lnTo>
                    <a:lnTo>
                      <a:pt x="701" y="6837"/>
                    </a:lnTo>
                    <a:lnTo>
                      <a:pt x="612" y="6808"/>
                    </a:lnTo>
                    <a:lnTo>
                      <a:pt x="525" y="6779"/>
                    </a:lnTo>
                    <a:lnTo>
                      <a:pt x="437" y="6750"/>
                    </a:lnTo>
                    <a:lnTo>
                      <a:pt x="349" y="6721"/>
                    </a:lnTo>
                    <a:lnTo>
                      <a:pt x="262" y="6693"/>
                    </a:lnTo>
                    <a:lnTo>
                      <a:pt x="175" y="6663"/>
                    </a:lnTo>
                    <a:lnTo>
                      <a:pt x="87" y="6635"/>
                    </a:lnTo>
                    <a:lnTo>
                      <a:pt x="0" y="6606"/>
                    </a:lnTo>
                    <a:lnTo>
                      <a:pt x="29" y="6397"/>
                    </a:lnTo>
                    <a:lnTo>
                      <a:pt x="58" y="6189"/>
                    </a:lnTo>
                    <a:lnTo>
                      <a:pt x="86" y="5981"/>
                    </a:lnTo>
                    <a:lnTo>
                      <a:pt x="114" y="5773"/>
                    </a:lnTo>
                    <a:lnTo>
                      <a:pt x="144" y="5565"/>
                    </a:lnTo>
                    <a:lnTo>
                      <a:pt x="172" y="5357"/>
                    </a:lnTo>
                    <a:lnTo>
                      <a:pt x="200" y="5150"/>
                    </a:lnTo>
                    <a:lnTo>
                      <a:pt x="229" y="4942"/>
                    </a:lnTo>
                    <a:lnTo>
                      <a:pt x="258" y="4735"/>
                    </a:lnTo>
                    <a:lnTo>
                      <a:pt x="286" y="4529"/>
                    </a:lnTo>
                    <a:lnTo>
                      <a:pt x="314" y="4321"/>
                    </a:lnTo>
                    <a:lnTo>
                      <a:pt x="342" y="4114"/>
                    </a:lnTo>
                    <a:lnTo>
                      <a:pt x="371" y="3907"/>
                    </a:lnTo>
                    <a:lnTo>
                      <a:pt x="400" y="3700"/>
                    </a:lnTo>
                    <a:lnTo>
                      <a:pt x="428" y="3493"/>
                    </a:lnTo>
                    <a:lnTo>
                      <a:pt x="457" y="3285"/>
                    </a:lnTo>
                    <a:lnTo>
                      <a:pt x="485" y="3080"/>
                    </a:lnTo>
                    <a:lnTo>
                      <a:pt x="514" y="2873"/>
                    </a:lnTo>
                    <a:lnTo>
                      <a:pt x="543" y="2667"/>
                    </a:lnTo>
                    <a:lnTo>
                      <a:pt x="571" y="2462"/>
                    </a:lnTo>
                    <a:lnTo>
                      <a:pt x="599" y="2256"/>
                    </a:lnTo>
                    <a:lnTo>
                      <a:pt x="628" y="2051"/>
                    </a:lnTo>
                    <a:lnTo>
                      <a:pt x="656" y="1845"/>
                    </a:lnTo>
                    <a:lnTo>
                      <a:pt x="684" y="1640"/>
                    </a:lnTo>
                    <a:lnTo>
                      <a:pt x="712" y="1434"/>
                    </a:lnTo>
                    <a:lnTo>
                      <a:pt x="740" y="1230"/>
                    </a:lnTo>
                    <a:lnTo>
                      <a:pt x="768" y="1024"/>
                    </a:lnTo>
                    <a:lnTo>
                      <a:pt x="796" y="820"/>
                    </a:lnTo>
                    <a:lnTo>
                      <a:pt x="824" y="615"/>
                    </a:lnTo>
                    <a:lnTo>
                      <a:pt x="852" y="410"/>
                    </a:lnTo>
                    <a:lnTo>
                      <a:pt x="881" y="205"/>
                    </a:lnTo>
                    <a:lnTo>
                      <a:pt x="909"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314600" y="1585440"/>
                <a:ext cx="405720" cy="1967760"/>
              </a:xfrm>
              <a:custGeom>
                <a:avLst/>
                <a:gdLst/>
                <a:ahLst/>
                <a:rect l="l" t="t" r="r" b="b"/>
                <a:pathLst>
                  <a:path w="1087" h="7176">
                    <a:moveTo>
                      <a:pt x="926" y="0"/>
                    </a:moveTo>
                    <a:lnTo>
                      <a:pt x="946" y="42"/>
                    </a:lnTo>
                    <a:lnTo>
                      <a:pt x="966" y="84"/>
                    </a:lnTo>
                    <a:lnTo>
                      <a:pt x="986" y="126"/>
                    </a:lnTo>
                    <a:lnTo>
                      <a:pt x="1007" y="167"/>
                    </a:lnTo>
                    <a:lnTo>
                      <a:pt x="1027" y="208"/>
                    </a:lnTo>
                    <a:lnTo>
                      <a:pt x="1047" y="250"/>
                    </a:lnTo>
                    <a:lnTo>
                      <a:pt x="1067" y="291"/>
                    </a:lnTo>
                    <a:lnTo>
                      <a:pt x="1087" y="333"/>
                    </a:lnTo>
                    <a:lnTo>
                      <a:pt x="1058" y="543"/>
                    </a:lnTo>
                    <a:lnTo>
                      <a:pt x="1030" y="755"/>
                    </a:lnTo>
                    <a:lnTo>
                      <a:pt x="1001" y="967"/>
                    </a:lnTo>
                    <a:lnTo>
                      <a:pt x="971" y="1180"/>
                    </a:lnTo>
                    <a:lnTo>
                      <a:pt x="943" y="1391"/>
                    </a:lnTo>
                    <a:lnTo>
                      <a:pt x="914" y="1604"/>
                    </a:lnTo>
                    <a:lnTo>
                      <a:pt x="886" y="1816"/>
                    </a:lnTo>
                    <a:lnTo>
                      <a:pt x="856" y="2029"/>
                    </a:lnTo>
                    <a:lnTo>
                      <a:pt x="828" y="2242"/>
                    </a:lnTo>
                    <a:lnTo>
                      <a:pt x="799" y="2454"/>
                    </a:lnTo>
                    <a:lnTo>
                      <a:pt x="771" y="2668"/>
                    </a:lnTo>
                    <a:lnTo>
                      <a:pt x="742" y="2881"/>
                    </a:lnTo>
                    <a:lnTo>
                      <a:pt x="713" y="3094"/>
                    </a:lnTo>
                    <a:lnTo>
                      <a:pt x="684" y="3308"/>
                    </a:lnTo>
                    <a:lnTo>
                      <a:pt x="655" y="3522"/>
                    </a:lnTo>
                    <a:lnTo>
                      <a:pt x="627" y="3735"/>
                    </a:lnTo>
                    <a:lnTo>
                      <a:pt x="596" y="3949"/>
                    </a:lnTo>
                    <a:lnTo>
                      <a:pt x="567" y="4163"/>
                    </a:lnTo>
                    <a:lnTo>
                      <a:pt x="538" y="4379"/>
                    </a:lnTo>
                    <a:lnTo>
                      <a:pt x="509" y="4593"/>
                    </a:lnTo>
                    <a:lnTo>
                      <a:pt x="479" y="4807"/>
                    </a:lnTo>
                    <a:lnTo>
                      <a:pt x="450" y="5021"/>
                    </a:lnTo>
                    <a:lnTo>
                      <a:pt x="421" y="5237"/>
                    </a:lnTo>
                    <a:lnTo>
                      <a:pt x="392" y="5451"/>
                    </a:lnTo>
                    <a:lnTo>
                      <a:pt x="363" y="5666"/>
                    </a:lnTo>
                    <a:lnTo>
                      <a:pt x="333" y="5882"/>
                    </a:lnTo>
                    <a:lnTo>
                      <a:pt x="304" y="6097"/>
                    </a:lnTo>
                    <a:lnTo>
                      <a:pt x="275" y="6313"/>
                    </a:lnTo>
                    <a:lnTo>
                      <a:pt x="246" y="6528"/>
                    </a:lnTo>
                    <a:lnTo>
                      <a:pt x="216" y="6743"/>
                    </a:lnTo>
                    <a:lnTo>
                      <a:pt x="187" y="6960"/>
                    </a:lnTo>
                    <a:lnTo>
                      <a:pt x="157" y="7176"/>
                    </a:lnTo>
                    <a:lnTo>
                      <a:pt x="138" y="7130"/>
                    </a:lnTo>
                    <a:lnTo>
                      <a:pt x="119" y="7084"/>
                    </a:lnTo>
                    <a:lnTo>
                      <a:pt x="98" y="7040"/>
                    </a:lnTo>
                    <a:lnTo>
                      <a:pt x="79" y="6995"/>
                    </a:lnTo>
                    <a:lnTo>
                      <a:pt x="59" y="6949"/>
                    </a:lnTo>
                    <a:lnTo>
                      <a:pt x="39" y="6905"/>
                    </a:lnTo>
                    <a:lnTo>
                      <a:pt x="20" y="6859"/>
                    </a:lnTo>
                    <a:lnTo>
                      <a:pt x="0" y="6815"/>
                    </a:lnTo>
                    <a:lnTo>
                      <a:pt x="29" y="6599"/>
                    </a:lnTo>
                    <a:lnTo>
                      <a:pt x="58" y="6385"/>
                    </a:lnTo>
                    <a:lnTo>
                      <a:pt x="87" y="6170"/>
                    </a:lnTo>
                    <a:lnTo>
                      <a:pt x="117" y="5956"/>
                    </a:lnTo>
                    <a:lnTo>
                      <a:pt x="146" y="5740"/>
                    </a:lnTo>
                    <a:lnTo>
                      <a:pt x="175" y="5526"/>
                    </a:lnTo>
                    <a:lnTo>
                      <a:pt x="204" y="5311"/>
                    </a:lnTo>
                    <a:lnTo>
                      <a:pt x="234" y="5096"/>
                    </a:lnTo>
                    <a:lnTo>
                      <a:pt x="263" y="4882"/>
                    </a:lnTo>
                    <a:lnTo>
                      <a:pt x="292" y="4669"/>
                    </a:lnTo>
                    <a:lnTo>
                      <a:pt x="321" y="4455"/>
                    </a:lnTo>
                    <a:lnTo>
                      <a:pt x="350" y="4242"/>
                    </a:lnTo>
                    <a:lnTo>
                      <a:pt x="379" y="4029"/>
                    </a:lnTo>
                    <a:lnTo>
                      <a:pt x="408" y="3815"/>
                    </a:lnTo>
                    <a:lnTo>
                      <a:pt x="437" y="3602"/>
                    </a:lnTo>
                    <a:lnTo>
                      <a:pt x="466" y="3389"/>
                    </a:lnTo>
                    <a:lnTo>
                      <a:pt x="496" y="3176"/>
                    </a:lnTo>
                    <a:lnTo>
                      <a:pt x="524" y="2963"/>
                    </a:lnTo>
                    <a:lnTo>
                      <a:pt x="553" y="2752"/>
                    </a:lnTo>
                    <a:lnTo>
                      <a:pt x="581" y="2539"/>
                    </a:lnTo>
                    <a:lnTo>
                      <a:pt x="609" y="2327"/>
                    </a:lnTo>
                    <a:lnTo>
                      <a:pt x="639" y="2115"/>
                    </a:lnTo>
                    <a:lnTo>
                      <a:pt x="667" y="1903"/>
                    </a:lnTo>
                    <a:lnTo>
                      <a:pt x="696" y="1692"/>
                    </a:lnTo>
                    <a:lnTo>
                      <a:pt x="724" y="1480"/>
                    </a:lnTo>
                    <a:lnTo>
                      <a:pt x="754" y="1269"/>
                    </a:lnTo>
                    <a:lnTo>
                      <a:pt x="783" y="1058"/>
                    </a:lnTo>
                    <a:lnTo>
                      <a:pt x="811" y="846"/>
                    </a:lnTo>
                    <a:lnTo>
                      <a:pt x="840" y="634"/>
                    </a:lnTo>
                    <a:lnTo>
                      <a:pt x="870" y="424"/>
                    </a:lnTo>
                    <a:lnTo>
                      <a:pt x="898" y="212"/>
                    </a:lnTo>
                    <a:lnTo>
                      <a:pt x="926" y="0"/>
                    </a:lnTo>
                    <a:close/>
                  </a:path>
                </a:pathLst>
              </a:custGeom>
              <a:solidFill>
                <a:srgbClr val="9594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314600" y="1585440"/>
                <a:ext cx="405720" cy="1967760"/>
              </a:xfrm>
              <a:custGeom>
                <a:avLst/>
                <a:gdLst/>
                <a:ahLst/>
                <a:rect l="l" t="t" r="r" b="b"/>
                <a:pathLst>
                  <a:path w="1087" h="7176">
                    <a:moveTo>
                      <a:pt x="926" y="0"/>
                    </a:moveTo>
                    <a:lnTo>
                      <a:pt x="946" y="42"/>
                    </a:lnTo>
                    <a:lnTo>
                      <a:pt x="966" y="84"/>
                    </a:lnTo>
                    <a:lnTo>
                      <a:pt x="986" y="126"/>
                    </a:lnTo>
                    <a:lnTo>
                      <a:pt x="1007" y="167"/>
                    </a:lnTo>
                    <a:lnTo>
                      <a:pt x="1027" y="208"/>
                    </a:lnTo>
                    <a:lnTo>
                      <a:pt x="1047" y="250"/>
                    </a:lnTo>
                    <a:lnTo>
                      <a:pt x="1067" y="291"/>
                    </a:lnTo>
                    <a:lnTo>
                      <a:pt x="1087" y="333"/>
                    </a:lnTo>
                    <a:lnTo>
                      <a:pt x="1058" y="543"/>
                    </a:lnTo>
                    <a:lnTo>
                      <a:pt x="1030" y="755"/>
                    </a:lnTo>
                    <a:lnTo>
                      <a:pt x="1001" y="967"/>
                    </a:lnTo>
                    <a:lnTo>
                      <a:pt x="971" y="1180"/>
                    </a:lnTo>
                    <a:lnTo>
                      <a:pt x="943" y="1391"/>
                    </a:lnTo>
                    <a:lnTo>
                      <a:pt x="914" y="1604"/>
                    </a:lnTo>
                    <a:lnTo>
                      <a:pt x="886" y="1816"/>
                    </a:lnTo>
                    <a:lnTo>
                      <a:pt x="856" y="2029"/>
                    </a:lnTo>
                    <a:lnTo>
                      <a:pt x="828" y="2242"/>
                    </a:lnTo>
                    <a:lnTo>
                      <a:pt x="799" y="2454"/>
                    </a:lnTo>
                    <a:lnTo>
                      <a:pt x="771" y="2668"/>
                    </a:lnTo>
                    <a:lnTo>
                      <a:pt x="742" y="2881"/>
                    </a:lnTo>
                    <a:lnTo>
                      <a:pt x="713" y="3094"/>
                    </a:lnTo>
                    <a:lnTo>
                      <a:pt x="684" y="3308"/>
                    </a:lnTo>
                    <a:lnTo>
                      <a:pt x="655" y="3522"/>
                    </a:lnTo>
                    <a:lnTo>
                      <a:pt x="627" y="3735"/>
                    </a:lnTo>
                    <a:lnTo>
                      <a:pt x="596" y="3949"/>
                    </a:lnTo>
                    <a:lnTo>
                      <a:pt x="567" y="4163"/>
                    </a:lnTo>
                    <a:lnTo>
                      <a:pt x="538" y="4379"/>
                    </a:lnTo>
                    <a:lnTo>
                      <a:pt x="509" y="4593"/>
                    </a:lnTo>
                    <a:lnTo>
                      <a:pt x="479" y="4807"/>
                    </a:lnTo>
                    <a:lnTo>
                      <a:pt x="450" y="5021"/>
                    </a:lnTo>
                    <a:lnTo>
                      <a:pt x="421" y="5237"/>
                    </a:lnTo>
                    <a:lnTo>
                      <a:pt x="392" y="5451"/>
                    </a:lnTo>
                    <a:lnTo>
                      <a:pt x="363" y="5666"/>
                    </a:lnTo>
                    <a:lnTo>
                      <a:pt x="333" y="5882"/>
                    </a:lnTo>
                    <a:lnTo>
                      <a:pt x="304" y="6097"/>
                    </a:lnTo>
                    <a:lnTo>
                      <a:pt x="275" y="6313"/>
                    </a:lnTo>
                    <a:lnTo>
                      <a:pt x="246" y="6528"/>
                    </a:lnTo>
                    <a:lnTo>
                      <a:pt x="216" y="6743"/>
                    </a:lnTo>
                    <a:lnTo>
                      <a:pt x="187" y="6960"/>
                    </a:lnTo>
                    <a:lnTo>
                      <a:pt x="157" y="7176"/>
                    </a:lnTo>
                    <a:lnTo>
                      <a:pt x="138" y="7130"/>
                    </a:lnTo>
                    <a:lnTo>
                      <a:pt x="119" y="7084"/>
                    </a:lnTo>
                    <a:lnTo>
                      <a:pt x="98" y="7040"/>
                    </a:lnTo>
                    <a:lnTo>
                      <a:pt x="79" y="6995"/>
                    </a:lnTo>
                    <a:lnTo>
                      <a:pt x="59" y="6949"/>
                    </a:lnTo>
                    <a:lnTo>
                      <a:pt x="39" y="6905"/>
                    </a:lnTo>
                    <a:lnTo>
                      <a:pt x="20" y="6859"/>
                    </a:lnTo>
                    <a:lnTo>
                      <a:pt x="0" y="6815"/>
                    </a:lnTo>
                    <a:lnTo>
                      <a:pt x="29" y="6599"/>
                    </a:lnTo>
                    <a:lnTo>
                      <a:pt x="58" y="6385"/>
                    </a:lnTo>
                    <a:lnTo>
                      <a:pt x="87" y="6170"/>
                    </a:lnTo>
                    <a:lnTo>
                      <a:pt x="117" y="5956"/>
                    </a:lnTo>
                    <a:lnTo>
                      <a:pt x="146" y="5740"/>
                    </a:lnTo>
                    <a:lnTo>
                      <a:pt x="175" y="5526"/>
                    </a:lnTo>
                    <a:lnTo>
                      <a:pt x="204" y="5311"/>
                    </a:lnTo>
                    <a:lnTo>
                      <a:pt x="234" y="5096"/>
                    </a:lnTo>
                    <a:lnTo>
                      <a:pt x="263" y="4882"/>
                    </a:lnTo>
                    <a:lnTo>
                      <a:pt x="292" y="4669"/>
                    </a:lnTo>
                    <a:lnTo>
                      <a:pt x="321" y="4455"/>
                    </a:lnTo>
                    <a:lnTo>
                      <a:pt x="350" y="4242"/>
                    </a:lnTo>
                    <a:lnTo>
                      <a:pt x="379" y="4029"/>
                    </a:lnTo>
                    <a:lnTo>
                      <a:pt x="408" y="3815"/>
                    </a:lnTo>
                    <a:lnTo>
                      <a:pt x="437" y="3602"/>
                    </a:lnTo>
                    <a:lnTo>
                      <a:pt x="466" y="3389"/>
                    </a:lnTo>
                    <a:lnTo>
                      <a:pt x="496" y="3176"/>
                    </a:lnTo>
                    <a:lnTo>
                      <a:pt x="524" y="2963"/>
                    </a:lnTo>
                    <a:lnTo>
                      <a:pt x="553" y="2752"/>
                    </a:lnTo>
                    <a:lnTo>
                      <a:pt x="581" y="2539"/>
                    </a:lnTo>
                    <a:lnTo>
                      <a:pt x="609" y="2327"/>
                    </a:lnTo>
                    <a:lnTo>
                      <a:pt x="639" y="2115"/>
                    </a:lnTo>
                    <a:lnTo>
                      <a:pt x="667" y="1903"/>
                    </a:lnTo>
                    <a:lnTo>
                      <a:pt x="696" y="1692"/>
                    </a:lnTo>
                    <a:lnTo>
                      <a:pt x="724" y="1480"/>
                    </a:lnTo>
                    <a:lnTo>
                      <a:pt x="754" y="1269"/>
                    </a:lnTo>
                    <a:lnTo>
                      <a:pt x="783" y="1058"/>
                    </a:lnTo>
                    <a:lnTo>
                      <a:pt x="811" y="846"/>
                    </a:lnTo>
                    <a:lnTo>
                      <a:pt x="840" y="634"/>
                    </a:lnTo>
                    <a:lnTo>
                      <a:pt x="870" y="424"/>
                    </a:lnTo>
                    <a:lnTo>
                      <a:pt x="898" y="212"/>
                    </a:lnTo>
                    <a:lnTo>
                      <a:pt x="92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918960" y="3358440"/>
                <a:ext cx="453600" cy="194400"/>
              </a:xfrm>
              <a:custGeom>
                <a:avLst/>
                <a:gdLst/>
                <a:ahLst/>
                <a:rect l="l" t="t" r="r" b="b"/>
                <a:pathLst>
                  <a:path w="1215" h="712">
                    <a:moveTo>
                      <a:pt x="1058" y="351"/>
                    </a:moveTo>
                    <a:lnTo>
                      <a:pt x="1078" y="395"/>
                    </a:lnTo>
                    <a:lnTo>
                      <a:pt x="1097" y="441"/>
                    </a:lnTo>
                    <a:lnTo>
                      <a:pt x="1117" y="485"/>
                    </a:lnTo>
                    <a:lnTo>
                      <a:pt x="1137" y="531"/>
                    </a:lnTo>
                    <a:lnTo>
                      <a:pt x="1156" y="576"/>
                    </a:lnTo>
                    <a:lnTo>
                      <a:pt x="1177" y="620"/>
                    </a:lnTo>
                    <a:lnTo>
                      <a:pt x="1196" y="666"/>
                    </a:lnTo>
                    <a:lnTo>
                      <a:pt x="1215" y="712"/>
                    </a:lnTo>
                    <a:lnTo>
                      <a:pt x="1081" y="666"/>
                    </a:lnTo>
                    <a:lnTo>
                      <a:pt x="947" y="620"/>
                    </a:lnTo>
                    <a:lnTo>
                      <a:pt x="813" y="575"/>
                    </a:lnTo>
                    <a:lnTo>
                      <a:pt x="680" y="531"/>
                    </a:lnTo>
                    <a:lnTo>
                      <a:pt x="547" y="486"/>
                    </a:lnTo>
                    <a:lnTo>
                      <a:pt x="414" y="442"/>
                    </a:lnTo>
                    <a:lnTo>
                      <a:pt x="281" y="398"/>
                    </a:lnTo>
                    <a:lnTo>
                      <a:pt x="149" y="355"/>
                    </a:lnTo>
                    <a:lnTo>
                      <a:pt x="131" y="310"/>
                    </a:lnTo>
                    <a:lnTo>
                      <a:pt x="112" y="266"/>
                    </a:lnTo>
                    <a:lnTo>
                      <a:pt x="94" y="222"/>
                    </a:lnTo>
                    <a:lnTo>
                      <a:pt x="75" y="177"/>
                    </a:lnTo>
                    <a:lnTo>
                      <a:pt x="57" y="133"/>
                    </a:lnTo>
                    <a:lnTo>
                      <a:pt x="38" y="90"/>
                    </a:lnTo>
                    <a:lnTo>
                      <a:pt x="19" y="46"/>
                    </a:lnTo>
                    <a:lnTo>
                      <a:pt x="0" y="0"/>
                    </a:lnTo>
                    <a:lnTo>
                      <a:pt x="130" y="43"/>
                    </a:lnTo>
                    <a:lnTo>
                      <a:pt x="261" y="87"/>
                    </a:lnTo>
                    <a:lnTo>
                      <a:pt x="393" y="131"/>
                    </a:lnTo>
                    <a:lnTo>
                      <a:pt x="525" y="174"/>
                    </a:lnTo>
                    <a:lnTo>
                      <a:pt x="657" y="218"/>
                    </a:lnTo>
                    <a:lnTo>
                      <a:pt x="791" y="262"/>
                    </a:lnTo>
                    <a:lnTo>
                      <a:pt x="925" y="307"/>
                    </a:lnTo>
                    <a:lnTo>
                      <a:pt x="1058" y="351"/>
                    </a:lnTo>
                    <a:close/>
                  </a:path>
                </a:pathLst>
              </a:custGeom>
              <a:solidFill>
                <a:srgbClr val="4b4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918960" y="3358440"/>
                <a:ext cx="453600" cy="194400"/>
              </a:xfrm>
              <a:custGeom>
                <a:avLst/>
                <a:gdLst/>
                <a:ahLst/>
                <a:rect l="l" t="t" r="r" b="b"/>
                <a:pathLst>
                  <a:path w="1215" h="712">
                    <a:moveTo>
                      <a:pt x="1058" y="351"/>
                    </a:moveTo>
                    <a:lnTo>
                      <a:pt x="1078" y="395"/>
                    </a:lnTo>
                    <a:lnTo>
                      <a:pt x="1097" y="441"/>
                    </a:lnTo>
                    <a:lnTo>
                      <a:pt x="1117" y="485"/>
                    </a:lnTo>
                    <a:lnTo>
                      <a:pt x="1137" y="531"/>
                    </a:lnTo>
                    <a:lnTo>
                      <a:pt x="1156" y="576"/>
                    </a:lnTo>
                    <a:lnTo>
                      <a:pt x="1177" y="620"/>
                    </a:lnTo>
                    <a:lnTo>
                      <a:pt x="1196" y="666"/>
                    </a:lnTo>
                    <a:lnTo>
                      <a:pt x="1215" y="712"/>
                    </a:lnTo>
                    <a:lnTo>
                      <a:pt x="1081" y="666"/>
                    </a:lnTo>
                    <a:lnTo>
                      <a:pt x="947" y="620"/>
                    </a:lnTo>
                    <a:lnTo>
                      <a:pt x="813" y="575"/>
                    </a:lnTo>
                    <a:lnTo>
                      <a:pt x="680" y="531"/>
                    </a:lnTo>
                    <a:lnTo>
                      <a:pt x="547" y="486"/>
                    </a:lnTo>
                    <a:lnTo>
                      <a:pt x="414" y="442"/>
                    </a:lnTo>
                    <a:lnTo>
                      <a:pt x="281" y="398"/>
                    </a:lnTo>
                    <a:lnTo>
                      <a:pt x="149" y="355"/>
                    </a:lnTo>
                    <a:lnTo>
                      <a:pt x="131" y="310"/>
                    </a:lnTo>
                    <a:lnTo>
                      <a:pt x="112" y="266"/>
                    </a:lnTo>
                    <a:lnTo>
                      <a:pt x="94" y="222"/>
                    </a:lnTo>
                    <a:lnTo>
                      <a:pt x="75" y="177"/>
                    </a:lnTo>
                    <a:lnTo>
                      <a:pt x="57" y="133"/>
                    </a:lnTo>
                    <a:lnTo>
                      <a:pt x="38" y="90"/>
                    </a:lnTo>
                    <a:lnTo>
                      <a:pt x="19" y="46"/>
                    </a:lnTo>
                    <a:lnTo>
                      <a:pt x="0" y="0"/>
                    </a:lnTo>
                    <a:lnTo>
                      <a:pt x="130" y="43"/>
                    </a:lnTo>
                    <a:lnTo>
                      <a:pt x="261" y="87"/>
                    </a:lnTo>
                    <a:lnTo>
                      <a:pt x="393" y="131"/>
                    </a:lnTo>
                    <a:lnTo>
                      <a:pt x="525" y="174"/>
                    </a:lnTo>
                    <a:lnTo>
                      <a:pt x="657" y="218"/>
                    </a:lnTo>
                    <a:lnTo>
                      <a:pt x="791" y="262"/>
                    </a:lnTo>
                    <a:lnTo>
                      <a:pt x="925" y="307"/>
                    </a:lnTo>
                    <a:lnTo>
                      <a:pt x="1058" y="351"/>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918960" y="1527840"/>
                <a:ext cx="740520" cy="1926360"/>
              </a:xfrm>
              <a:custGeom>
                <a:avLst/>
                <a:gdLst/>
                <a:ahLst/>
                <a:rect l="l" t="t" r="r" b="b"/>
                <a:pathLst>
                  <a:path w="1984" h="7025">
                    <a:moveTo>
                      <a:pt x="921" y="0"/>
                    </a:moveTo>
                    <a:lnTo>
                      <a:pt x="1052" y="26"/>
                    </a:lnTo>
                    <a:lnTo>
                      <a:pt x="1185" y="52"/>
                    </a:lnTo>
                    <a:lnTo>
                      <a:pt x="1317" y="77"/>
                    </a:lnTo>
                    <a:lnTo>
                      <a:pt x="1450" y="105"/>
                    </a:lnTo>
                    <a:lnTo>
                      <a:pt x="1583" y="130"/>
                    </a:lnTo>
                    <a:lnTo>
                      <a:pt x="1717" y="157"/>
                    </a:lnTo>
                    <a:lnTo>
                      <a:pt x="1850" y="183"/>
                    </a:lnTo>
                    <a:lnTo>
                      <a:pt x="1984" y="210"/>
                    </a:lnTo>
                    <a:lnTo>
                      <a:pt x="1956" y="422"/>
                    </a:lnTo>
                    <a:lnTo>
                      <a:pt x="1928" y="634"/>
                    </a:lnTo>
                    <a:lnTo>
                      <a:pt x="1898" y="844"/>
                    </a:lnTo>
                    <a:lnTo>
                      <a:pt x="1869" y="1056"/>
                    </a:lnTo>
                    <a:lnTo>
                      <a:pt x="1841" y="1268"/>
                    </a:lnTo>
                    <a:lnTo>
                      <a:pt x="1812" y="1479"/>
                    </a:lnTo>
                    <a:lnTo>
                      <a:pt x="1782" y="1690"/>
                    </a:lnTo>
                    <a:lnTo>
                      <a:pt x="1754" y="1902"/>
                    </a:lnTo>
                    <a:lnTo>
                      <a:pt x="1725" y="2113"/>
                    </a:lnTo>
                    <a:lnTo>
                      <a:pt x="1697" y="2325"/>
                    </a:lnTo>
                    <a:lnTo>
                      <a:pt x="1667" y="2537"/>
                    </a:lnTo>
                    <a:lnTo>
                      <a:pt x="1639" y="2749"/>
                    </a:lnTo>
                    <a:lnTo>
                      <a:pt x="1611" y="2962"/>
                    </a:lnTo>
                    <a:lnTo>
                      <a:pt x="1582" y="3173"/>
                    </a:lnTo>
                    <a:lnTo>
                      <a:pt x="1554" y="3386"/>
                    </a:lnTo>
                    <a:lnTo>
                      <a:pt x="1524" y="3599"/>
                    </a:lnTo>
                    <a:lnTo>
                      <a:pt x="1495" y="3812"/>
                    </a:lnTo>
                    <a:lnTo>
                      <a:pt x="1466" y="4025"/>
                    </a:lnTo>
                    <a:lnTo>
                      <a:pt x="1437" y="4239"/>
                    </a:lnTo>
                    <a:lnTo>
                      <a:pt x="1408" y="4452"/>
                    </a:lnTo>
                    <a:lnTo>
                      <a:pt x="1379" y="4665"/>
                    </a:lnTo>
                    <a:lnTo>
                      <a:pt x="1350" y="4879"/>
                    </a:lnTo>
                    <a:lnTo>
                      <a:pt x="1321" y="5092"/>
                    </a:lnTo>
                    <a:lnTo>
                      <a:pt x="1292" y="5306"/>
                    </a:lnTo>
                    <a:lnTo>
                      <a:pt x="1262" y="5521"/>
                    </a:lnTo>
                    <a:lnTo>
                      <a:pt x="1233" y="5736"/>
                    </a:lnTo>
                    <a:lnTo>
                      <a:pt x="1204" y="5950"/>
                    </a:lnTo>
                    <a:lnTo>
                      <a:pt x="1175" y="6166"/>
                    </a:lnTo>
                    <a:lnTo>
                      <a:pt x="1145" y="6380"/>
                    </a:lnTo>
                    <a:lnTo>
                      <a:pt x="1116" y="6595"/>
                    </a:lnTo>
                    <a:lnTo>
                      <a:pt x="1087" y="6809"/>
                    </a:lnTo>
                    <a:lnTo>
                      <a:pt x="1058" y="7025"/>
                    </a:lnTo>
                    <a:lnTo>
                      <a:pt x="925" y="6981"/>
                    </a:lnTo>
                    <a:lnTo>
                      <a:pt x="791" y="6936"/>
                    </a:lnTo>
                    <a:lnTo>
                      <a:pt x="657" y="6892"/>
                    </a:lnTo>
                    <a:lnTo>
                      <a:pt x="525" y="6848"/>
                    </a:lnTo>
                    <a:lnTo>
                      <a:pt x="393" y="6805"/>
                    </a:lnTo>
                    <a:lnTo>
                      <a:pt x="261" y="6761"/>
                    </a:lnTo>
                    <a:lnTo>
                      <a:pt x="130" y="6717"/>
                    </a:lnTo>
                    <a:lnTo>
                      <a:pt x="0" y="6674"/>
                    </a:lnTo>
                    <a:lnTo>
                      <a:pt x="28" y="6464"/>
                    </a:lnTo>
                    <a:lnTo>
                      <a:pt x="58" y="6254"/>
                    </a:lnTo>
                    <a:lnTo>
                      <a:pt x="87" y="6044"/>
                    </a:lnTo>
                    <a:lnTo>
                      <a:pt x="116" y="5833"/>
                    </a:lnTo>
                    <a:lnTo>
                      <a:pt x="144" y="5623"/>
                    </a:lnTo>
                    <a:lnTo>
                      <a:pt x="174" y="5412"/>
                    </a:lnTo>
                    <a:lnTo>
                      <a:pt x="203" y="5203"/>
                    </a:lnTo>
                    <a:lnTo>
                      <a:pt x="232" y="4993"/>
                    </a:lnTo>
                    <a:lnTo>
                      <a:pt x="261" y="4783"/>
                    </a:lnTo>
                    <a:lnTo>
                      <a:pt x="290" y="4574"/>
                    </a:lnTo>
                    <a:lnTo>
                      <a:pt x="319" y="4365"/>
                    </a:lnTo>
                    <a:lnTo>
                      <a:pt x="347" y="4156"/>
                    </a:lnTo>
                    <a:lnTo>
                      <a:pt x="376" y="3946"/>
                    </a:lnTo>
                    <a:lnTo>
                      <a:pt x="405" y="3737"/>
                    </a:lnTo>
                    <a:lnTo>
                      <a:pt x="434" y="3528"/>
                    </a:lnTo>
                    <a:lnTo>
                      <a:pt x="463" y="3319"/>
                    </a:lnTo>
                    <a:lnTo>
                      <a:pt x="492" y="3110"/>
                    </a:lnTo>
                    <a:lnTo>
                      <a:pt x="520" y="2902"/>
                    </a:lnTo>
                    <a:lnTo>
                      <a:pt x="550" y="2694"/>
                    </a:lnTo>
                    <a:lnTo>
                      <a:pt x="578" y="2486"/>
                    </a:lnTo>
                    <a:lnTo>
                      <a:pt x="606" y="2278"/>
                    </a:lnTo>
                    <a:lnTo>
                      <a:pt x="634" y="2070"/>
                    </a:lnTo>
                    <a:lnTo>
                      <a:pt x="664" y="1862"/>
                    </a:lnTo>
                    <a:lnTo>
                      <a:pt x="692" y="1654"/>
                    </a:lnTo>
                    <a:lnTo>
                      <a:pt x="720" y="1447"/>
                    </a:lnTo>
                    <a:lnTo>
                      <a:pt x="748" y="1241"/>
                    </a:lnTo>
                    <a:lnTo>
                      <a:pt x="777" y="1034"/>
                    </a:lnTo>
                    <a:lnTo>
                      <a:pt x="806" y="827"/>
                    </a:lnTo>
                    <a:lnTo>
                      <a:pt x="834" y="620"/>
                    </a:lnTo>
                    <a:lnTo>
                      <a:pt x="863" y="413"/>
                    </a:lnTo>
                    <a:lnTo>
                      <a:pt x="891" y="207"/>
                    </a:lnTo>
                    <a:lnTo>
                      <a:pt x="921" y="0"/>
                    </a:lnTo>
                    <a:close/>
                  </a:path>
                </a:pathLst>
              </a:custGeom>
              <a:solidFill>
                <a:srgbClr val="acab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918960" y="1527840"/>
                <a:ext cx="740520" cy="1926360"/>
              </a:xfrm>
              <a:custGeom>
                <a:avLst/>
                <a:gdLst/>
                <a:ahLst/>
                <a:rect l="l" t="t" r="r" b="b"/>
                <a:pathLst>
                  <a:path w="1984" h="7025">
                    <a:moveTo>
                      <a:pt x="921" y="0"/>
                    </a:moveTo>
                    <a:lnTo>
                      <a:pt x="1052" y="26"/>
                    </a:lnTo>
                    <a:lnTo>
                      <a:pt x="1185" y="52"/>
                    </a:lnTo>
                    <a:lnTo>
                      <a:pt x="1317" y="77"/>
                    </a:lnTo>
                    <a:lnTo>
                      <a:pt x="1450" y="105"/>
                    </a:lnTo>
                    <a:lnTo>
                      <a:pt x="1583" y="130"/>
                    </a:lnTo>
                    <a:lnTo>
                      <a:pt x="1717" y="157"/>
                    </a:lnTo>
                    <a:lnTo>
                      <a:pt x="1850" y="183"/>
                    </a:lnTo>
                    <a:lnTo>
                      <a:pt x="1984" y="210"/>
                    </a:lnTo>
                    <a:lnTo>
                      <a:pt x="1956" y="422"/>
                    </a:lnTo>
                    <a:lnTo>
                      <a:pt x="1928" y="634"/>
                    </a:lnTo>
                    <a:lnTo>
                      <a:pt x="1898" y="844"/>
                    </a:lnTo>
                    <a:lnTo>
                      <a:pt x="1869" y="1056"/>
                    </a:lnTo>
                    <a:lnTo>
                      <a:pt x="1841" y="1268"/>
                    </a:lnTo>
                    <a:lnTo>
                      <a:pt x="1812" y="1479"/>
                    </a:lnTo>
                    <a:lnTo>
                      <a:pt x="1782" y="1690"/>
                    </a:lnTo>
                    <a:lnTo>
                      <a:pt x="1754" y="1902"/>
                    </a:lnTo>
                    <a:lnTo>
                      <a:pt x="1725" y="2113"/>
                    </a:lnTo>
                    <a:lnTo>
                      <a:pt x="1697" y="2325"/>
                    </a:lnTo>
                    <a:lnTo>
                      <a:pt x="1667" y="2537"/>
                    </a:lnTo>
                    <a:lnTo>
                      <a:pt x="1639" y="2749"/>
                    </a:lnTo>
                    <a:lnTo>
                      <a:pt x="1611" y="2962"/>
                    </a:lnTo>
                    <a:lnTo>
                      <a:pt x="1582" y="3173"/>
                    </a:lnTo>
                    <a:lnTo>
                      <a:pt x="1554" y="3386"/>
                    </a:lnTo>
                    <a:lnTo>
                      <a:pt x="1524" y="3599"/>
                    </a:lnTo>
                    <a:lnTo>
                      <a:pt x="1495" y="3812"/>
                    </a:lnTo>
                    <a:lnTo>
                      <a:pt x="1466" y="4025"/>
                    </a:lnTo>
                    <a:lnTo>
                      <a:pt x="1437" y="4239"/>
                    </a:lnTo>
                    <a:lnTo>
                      <a:pt x="1408" y="4452"/>
                    </a:lnTo>
                    <a:lnTo>
                      <a:pt x="1379" y="4665"/>
                    </a:lnTo>
                    <a:lnTo>
                      <a:pt x="1350" y="4879"/>
                    </a:lnTo>
                    <a:lnTo>
                      <a:pt x="1321" y="5092"/>
                    </a:lnTo>
                    <a:lnTo>
                      <a:pt x="1292" y="5306"/>
                    </a:lnTo>
                    <a:lnTo>
                      <a:pt x="1262" y="5521"/>
                    </a:lnTo>
                    <a:lnTo>
                      <a:pt x="1233" y="5736"/>
                    </a:lnTo>
                    <a:lnTo>
                      <a:pt x="1204" y="5950"/>
                    </a:lnTo>
                    <a:lnTo>
                      <a:pt x="1175" y="6166"/>
                    </a:lnTo>
                    <a:lnTo>
                      <a:pt x="1145" y="6380"/>
                    </a:lnTo>
                    <a:lnTo>
                      <a:pt x="1116" y="6595"/>
                    </a:lnTo>
                    <a:lnTo>
                      <a:pt x="1087" y="6809"/>
                    </a:lnTo>
                    <a:lnTo>
                      <a:pt x="1058" y="7025"/>
                    </a:lnTo>
                    <a:lnTo>
                      <a:pt x="925" y="6981"/>
                    </a:lnTo>
                    <a:lnTo>
                      <a:pt x="791" y="6936"/>
                    </a:lnTo>
                    <a:lnTo>
                      <a:pt x="657" y="6892"/>
                    </a:lnTo>
                    <a:lnTo>
                      <a:pt x="525" y="6848"/>
                    </a:lnTo>
                    <a:lnTo>
                      <a:pt x="393" y="6805"/>
                    </a:lnTo>
                    <a:lnTo>
                      <a:pt x="261" y="6761"/>
                    </a:lnTo>
                    <a:lnTo>
                      <a:pt x="130" y="6717"/>
                    </a:lnTo>
                    <a:lnTo>
                      <a:pt x="0" y="6674"/>
                    </a:lnTo>
                    <a:lnTo>
                      <a:pt x="28" y="6464"/>
                    </a:lnTo>
                    <a:lnTo>
                      <a:pt x="58" y="6254"/>
                    </a:lnTo>
                    <a:lnTo>
                      <a:pt x="87" y="6044"/>
                    </a:lnTo>
                    <a:lnTo>
                      <a:pt x="116" y="5833"/>
                    </a:lnTo>
                    <a:lnTo>
                      <a:pt x="144" y="5623"/>
                    </a:lnTo>
                    <a:lnTo>
                      <a:pt x="174" y="5412"/>
                    </a:lnTo>
                    <a:lnTo>
                      <a:pt x="203" y="5203"/>
                    </a:lnTo>
                    <a:lnTo>
                      <a:pt x="232" y="4993"/>
                    </a:lnTo>
                    <a:lnTo>
                      <a:pt x="261" y="4783"/>
                    </a:lnTo>
                    <a:lnTo>
                      <a:pt x="290" y="4574"/>
                    </a:lnTo>
                    <a:lnTo>
                      <a:pt x="319" y="4365"/>
                    </a:lnTo>
                    <a:lnTo>
                      <a:pt x="347" y="4156"/>
                    </a:lnTo>
                    <a:lnTo>
                      <a:pt x="376" y="3946"/>
                    </a:lnTo>
                    <a:lnTo>
                      <a:pt x="405" y="3737"/>
                    </a:lnTo>
                    <a:lnTo>
                      <a:pt x="434" y="3528"/>
                    </a:lnTo>
                    <a:lnTo>
                      <a:pt x="463" y="3319"/>
                    </a:lnTo>
                    <a:lnTo>
                      <a:pt x="492" y="3110"/>
                    </a:lnTo>
                    <a:lnTo>
                      <a:pt x="520" y="2902"/>
                    </a:lnTo>
                    <a:lnTo>
                      <a:pt x="550" y="2694"/>
                    </a:lnTo>
                    <a:lnTo>
                      <a:pt x="578" y="2486"/>
                    </a:lnTo>
                    <a:lnTo>
                      <a:pt x="606" y="2278"/>
                    </a:lnTo>
                    <a:lnTo>
                      <a:pt x="634" y="2070"/>
                    </a:lnTo>
                    <a:lnTo>
                      <a:pt x="664" y="1862"/>
                    </a:lnTo>
                    <a:lnTo>
                      <a:pt x="692" y="1654"/>
                    </a:lnTo>
                    <a:lnTo>
                      <a:pt x="720" y="1447"/>
                    </a:lnTo>
                    <a:lnTo>
                      <a:pt x="748" y="1241"/>
                    </a:lnTo>
                    <a:lnTo>
                      <a:pt x="777" y="1034"/>
                    </a:lnTo>
                    <a:lnTo>
                      <a:pt x="806" y="827"/>
                    </a:lnTo>
                    <a:lnTo>
                      <a:pt x="834" y="620"/>
                    </a:lnTo>
                    <a:lnTo>
                      <a:pt x="863" y="413"/>
                    </a:lnTo>
                    <a:lnTo>
                      <a:pt x="891" y="207"/>
                    </a:lnTo>
                    <a:lnTo>
                      <a:pt x="92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929640" y="1981800"/>
                <a:ext cx="508680" cy="2336400"/>
              </a:xfrm>
              <a:custGeom>
                <a:avLst/>
                <a:gdLst/>
                <a:ahLst/>
                <a:rect l="l" t="t" r="r" b="b"/>
                <a:pathLst>
                  <a:path w="1366" h="8521">
                    <a:moveTo>
                      <a:pt x="944" y="0"/>
                    </a:moveTo>
                    <a:lnTo>
                      <a:pt x="996" y="105"/>
                    </a:lnTo>
                    <a:lnTo>
                      <a:pt x="1049" y="208"/>
                    </a:lnTo>
                    <a:lnTo>
                      <a:pt x="1101" y="313"/>
                    </a:lnTo>
                    <a:lnTo>
                      <a:pt x="1153" y="416"/>
                    </a:lnTo>
                    <a:lnTo>
                      <a:pt x="1206" y="521"/>
                    </a:lnTo>
                    <a:lnTo>
                      <a:pt x="1259" y="625"/>
                    </a:lnTo>
                    <a:lnTo>
                      <a:pt x="1313" y="731"/>
                    </a:lnTo>
                    <a:lnTo>
                      <a:pt x="1366" y="836"/>
                    </a:lnTo>
                    <a:lnTo>
                      <a:pt x="1336" y="1073"/>
                    </a:lnTo>
                    <a:lnTo>
                      <a:pt x="1307" y="1312"/>
                    </a:lnTo>
                    <a:lnTo>
                      <a:pt x="1277" y="1551"/>
                    </a:lnTo>
                    <a:lnTo>
                      <a:pt x="1248" y="1789"/>
                    </a:lnTo>
                    <a:lnTo>
                      <a:pt x="1218" y="2027"/>
                    </a:lnTo>
                    <a:lnTo>
                      <a:pt x="1189" y="2266"/>
                    </a:lnTo>
                    <a:lnTo>
                      <a:pt x="1158" y="2505"/>
                    </a:lnTo>
                    <a:lnTo>
                      <a:pt x="1129" y="2744"/>
                    </a:lnTo>
                    <a:lnTo>
                      <a:pt x="1100" y="2983"/>
                    </a:lnTo>
                    <a:lnTo>
                      <a:pt x="1071" y="3221"/>
                    </a:lnTo>
                    <a:lnTo>
                      <a:pt x="1041" y="3460"/>
                    </a:lnTo>
                    <a:lnTo>
                      <a:pt x="1011" y="3699"/>
                    </a:lnTo>
                    <a:lnTo>
                      <a:pt x="982" y="3939"/>
                    </a:lnTo>
                    <a:lnTo>
                      <a:pt x="953" y="4178"/>
                    </a:lnTo>
                    <a:lnTo>
                      <a:pt x="924" y="4418"/>
                    </a:lnTo>
                    <a:lnTo>
                      <a:pt x="893" y="4657"/>
                    </a:lnTo>
                    <a:lnTo>
                      <a:pt x="864" y="4898"/>
                    </a:lnTo>
                    <a:lnTo>
                      <a:pt x="834" y="5138"/>
                    </a:lnTo>
                    <a:lnTo>
                      <a:pt x="804" y="5378"/>
                    </a:lnTo>
                    <a:lnTo>
                      <a:pt x="774" y="5619"/>
                    </a:lnTo>
                    <a:lnTo>
                      <a:pt x="744" y="5861"/>
                    </a:lnTo>
                    <a:lnTo>
                      <a:pt x="715" y="6101"/>
                    </a:lnTo>
                    <a:lnTo>
                      <a:pt x="685" y="6342"/>
                    </a:lnTo>
                    <a:lnTo>
                      <a:pt x="655" y="6582"/>
                    </a:lnTo>
                    <a:lnTo>
                      <a:pt x="625" y="6823"/>
                    </a:lnTo>
                    <a:lnTo>
                      <a:pt x="596" y="7066"/>
                    </a:lnTo>
                    <a:lnTo>
                      <a:pt x="566" y="7308"/>
                    </a:lnTo>
                    <a:lnTo>
                      <a:pt x="537" y="7549"/>
                    </a:lnTo>
                    <a:lnTo>
                      <a:pt x="506" y="7792"/>
                    </a:lnTo>
                    <a:lnTo>
                      <a:pt x="477" y="8034"/>
                    </a:lnTo>
                    <a:lnTo>
                      <a:pt x="447" y="8277"/>
                    </a:lnTo>
                    <a:lnTo>
                      <a:pt x="417" y="8521"/>
                    </a:lnTo>
                    <a:lnTo>
                      <a:pt x="364" y="8405"/>
                    </a:lnTo>
                    <a:lnTo>
                      <a:pt x="312" y="8290"/>
                    </a:lnTo>
                    <a:lnTo>
                      <a:pt x="259" y="8176"/>
                    </a:lnTo>
                    <a:lnTo>
                      <a:pt x="207" y="8062"/>
                    </a:lnTo>
                    <a:lnTo>
                      <a:pt x="154" y="7947"/>
                    </a:lnTo>
                    <a:lnTo>
                      <a:pt x="103" y="7834"/>
                    </a:lnTo>
                    <a:lnTo>
                      <a:pt x="52" y="7719"/>
                    </a:lnTo>
                    <a:lnTo>
                      <a:pt x="0" y="7606"/>
                    </a:lnTo>
                    <a:lnTo>
                      <a:pt x="30" y="7366"/>
                    </a:lnTo>
                    <a:lnTo>
                      <a:pt x="60" y="7126"/>
                    </a:lnTo>
                    <a:lnTo>
                      <a:pt x="89" y="6887"/>
                    </a:lnTo>
                    <a:lnTo>
                      <a:pt x="119" y="6647"/>
                    </a:lnTo>
                    <a:lnTo>
                      <a:pt x="149" y="6408"/>
                    </a:lnTo>
                    <a:lnTo>
                      <a:pt x="179" y="6168"/>
                    </a:lnTo>
                    <a:lnTo>
                      <a:pt x="209" y="5930"/>
                    </a:lnTo>
                    <a:lnTo>
                      <a:pt x="238" y="5691"/>
                    </a:lnTo>
                    <a:lnTo>
                      <a:pt x="268" y="5452"/>
                    </a:lnTo>
                    <a:lnTo>
                      <a:pt x="298" y="5214"/>
                    </a:lnTo>
                    <a:lnTo>
                      <a:pt x="327" y="4976"/>
                    </a:lnTo>
                    <a:lnTo>
                      <a:pt x="356" y="4738"/>
                    </a:lnTo>
                    <a:lnTo>
                      <a:pt x="385" y="4499"/>
                    </a:lnTo>
                    <a:lnTo>
                      <a:pt x="416" y="4262"/>
                    </a:lnTo>
                    <a:lnTo>
                      <a:pt x="445" y="4024"/>
                    </a:lnTo>
                    <a:lnTo>
                      <a:pt x="474" y="3786"/>
                    </a:lnTo>
                    <a:lnTo>
                      <a:pt x="504" y="3549"/>
                    </a:lnTo>
                    <a:lnTo>
                      <a:pt x="534" y="3313"/>
                    </a:lnTo>
                    <a:lnTo>
                      <a:pt x="563" y="3075"/>
                    </a:lnTo>
                    <a:lnTo>
                      <a:pt x="592" y="2837"/>
                    </a:lnTo>
                    <a:lnTo>
                      <a:pt x="621" y="2601"/>
                    </a:lnTo>
                    <a:lnTo>
                      <a:pt x="650" y="2363"/>
                    </a:lnTo>
                    <a:lnTo>
                      <a:pt x="680" y="2127"/>
                    </a:lnTo>
                    <a:lnTo>
                      <a:pt x="709" y="1891"/>
                    </a:lnTo>
                    <a:lnTo>
                      <a:pt x="738" y="1654"/>
                    </a:lnTo>
                    <a:lnTo>
                      <a:pt x="767" y="1418"/>
                    </a:lnTo>
                    <a:lnTo>
                      <a:pt x="797" y="1182"/>
                    </a:lnTo>
                    <a:lnTo>
                      <a:pt x="827" y="945"/>
                    </a:lnTo>
                    <a:lnTo>
                      <a:pt x="856" y="709"/>
                    </a:lnTo>
                    <a:lnTo>
                      <a:pt x="885" y="473"/>
                    </a:lnTo>
                    <a:lnTo>
                      <a:pt x="915" y="238"/>
                    </a:lnTo>
                    <a:lnTo>
                      <a:pt x="944"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929640" y="1981800"/>
                <a:ext cx="508680" cy="2336400"/>
              </a:xfrm>
              <a:custGeom>
                <a:avLst/>
                <a:gdLst/>
                <a:ahLst/>
                <a:rect l="l" t="t" r="r" b="b"/>
                <a:pathLst>
                  <a:path w="1366" h="8521">
                    <a:moveTo>
                      <a:pt x="944" y="0"/>
                    </a:moveTo>
                    <a:lnTo>
                      <a:pt x="996" y="105"/>
                    </a:lnTo>
                    <a:lnTo>
                      <a:pt x="1049" y="208"/>
                    </a:lnTo>
                    <a:lnTo>
                      <a:pt x="1101" y="313"/>
                    </a:lnTo>
                    <a:lnTo>
                      <a:pt x="1153" y="416"/>
                    </a:lnTo>
                    <a:lnTo>
                      <a:pt x="1206" y="521"/>
                    </a:lnTo>
                    <a:lnTo>
                      <a:pt x="1259" y="625"/>
                    </a:lnTo>
                    <a:lnTo>
                      <a:pt x="1313" y="731"/>
                    </a:lnTo>
                    <a:lnTo>
                      <a:pt x="1366" y="836"/>
                    </a:lnTo>
                    <a:lnTo>
                      <a:pt x="1336" y="1073"/>
                    </a:lnTo>
                    <a:lnTo>
                      <a:pt x="1307" y="1312"/>
                    </a:lnTo>
                    <a:lnTo>
                      <a:pt x="1277" y="1551"/>
                    </a:lnTo>
                    <a:lnTo>
                      <a:pt x="1248" y="1789"/>
                    </a:lnTo>
                    <a:lnTo>
                      <a:pt x="1218" y="2027"/>
                    </a:lnTo>
                    <a:lnTo>
                      <a:pt x="1189" y="2266"/>
                    </a:lnTo>
                    <a:lnTo>
                      <a:pt x="1158" y="2505"/>
                    </a:lnTo>
                    <a:lnTo>
                      <a:pt x="1129" y="2744"/>
                    </a:lnTo>
                    <a:lnTo>
                      <a:pt x="1100" y="2983"/>
                    </a:lnTo>
                    <a:lnTo>
                      <a:pt x="1071" y="3221"/>
                    </a:lnTo>
                    <a:lnTo>
                      <a:pt x="1041" y="3460"/>
                    </a:lnTo>
                    <a:lnTo>
                      <a:pt x="1011" y="3699"/>
                    </a:lnTo>
                    <a:lnTo>
                      <a:pt x="982" y="3939"/>
                    </a:lnTo>
                    <a:lnTo>
                      <a:pt x="953" y="4178"/>
                    </a:lnTo>
                    <a:lnTo>
                      <a:pt x="924" y="4418"/>
                    </a:lnTo>
                    <a:lnTo>
                      <a:pt x="893" y="4657"/>
                    </a:lnTo>
                    <a:lnTo>
                      <a:pt x="864" y="4898"/>
                    </a:lnTo>
                    <a:lnTo>
                      <a:pt x="834" y="5138"/>
                    </a:lnTo>
                    <a:lnTo>
                      <a:pt x="804" y="5378"/>
                    </a:lnTo>
                    <a:lnTo>
                      <a:pt x="774" y="5619"/>
                    </a:lnTo>
                    <a:lnTo>
                      <a:pt x="744" y="5861"/>
                    </a:lnTo>
                    <a:lnTo>
                      <a:pt x="715" y="6101"/>
                    </a:lnTo>
                    <a:lnTo>
                      <a:pt x="685" y="6342"/>
                    </a:lnTo>
                    <a:lnTo>
                      <a:pt x="655" y="6582"/>
                    </a:lnTo>
                    <a:lnTo>
                      <a:pt x="625" y="6823"/>
                    </a:lnTo>
                    <a:lnTo>
                      <a:pt x="596" y="7066"/>
                    </a:lnTo>
                    <a:lnTo>
                      <a:pt x="566" y="7308"/>
                    </a:lnTo>
                    <a:lnTo>
                      <a:pt x="537" y="7549"/>
                    </a:lnTo>
                    <a:lnTo>
                      <a:pt x="506" y="7792"/>
                    </a:lnTo>
                    <a:lnTo>
                      <a:pt x="477" y="8034"/>
                    </a:lnTo>
                    <a:lnTo>
                      <a:pt x="447" y="8277"/>
                    </a:lnTo>
                    <a:lnTo>
                      <a:pt x="417" y="8521"/>
                    </a:lnTo>
                    <a:lnTo>
                      <a:pt x="364" y="8405"/>
                    </a:lnTo>
                    <a:lnTo>
                      <a:pt x="312" y="8290"/>
                    </a:lnTo>
                    <a:lnTo>
                      <a:pt x="259" y="8176"/>
                    </a:lnTo>
                    <a:lnTo>
                      <a:pt x="207" y="8062"/>
                    </a:lnTo>
                    <a:lnTo>
                      <a:pt x="154" y="7947"/>
                    </a:lnTo>
                    <a:lnTo>
                      <a:pt x="103" y="7834"/>
                    </a:lnTo>
                    <a:lnTo>
                      <a:pt x="52" y="7719"/>
                    </a:lnTo>
                    <a:lnTo>
                      <a:pt x="0" y="7606"/>
                    </a:lnTo>
                    <a:lnTo>
                      <a:pt x="30" y="7366"/>
                    </a:lnTo>
                    <a:lnTo>
                      <a:pt x="60" y="7126"/>
                    </a:lnTo>
                    <a:lnTo>
                      <a:pt x="89" y="6887"/>
                    </a:lnTo>
                    <a:lnTo>
                      <a:pt x="119" y="6647"/>
                    </a:lnTo>
                    <a:lnTo>
                      <a:pt x="149" y="6408"/>
                    </a:lnTo>
                    <a:lnTo>
                      <a:pt x="179" y="6168"/>
                    </a:lnTo>
                    <a:lnTo>
                      <a:pt x="209" y="5930"/>
                    </a:lnTo>
                    <a:lnTo>
                      <a:pt x="238" y="5691"/>
                    </a:lnTo>
                    <a:lnTo>
                      <a:pt x="268" y="5452"/>
                    </a:lnTo>
                    <a:lnTo>
                      <a:pt x="298" y="5214"/>
                    </a:lnTo>
                    <a:lnTo>
                      <a:pt x="327" y="4976"/>
                    </a:lnTo>
                    <a:lnTo>
                      <a:pt x="356" y="4738"/>
                    </a:lnTo>
                    <a:lnTo>
                      <a:pt x="385" y="4499"/>
                    </a:lnTo>
                    <a:lnTo>
                      <a:pt x="416" y="4262"/>
                    </a:lnTo>
                    <a:lnTo>
                      <a:pt x="445" y="4024"/>
                    </a:lnTo>
                    <a:lnTo>
                      <a:pt x="474" y="3786"/>
                    </a:lnTo>
                    <a:lnTo>
                      <a:pt x="504" y="3549"/>
                    </a:lnTo>
                    <a:lnTo>
                      <a:pt x="534" y="3313"/>
                    </a:lnTo>
                    <a:lnTo>
                      <a:pt x="563" y="3075"/>
                    </a:lnTo>
                    <a:lnTo>
                      <a:pt x="592" y="2837"/>
                    </a:lnTo>
                    <a:lnTo>
                      <a:pt x="621" y="2601"/>
                    </a:lnTo>
                    <a:lnTo>
                      <a:pt x="650" y="2363"/>
                    </a:lnTo>
                    <a:lnTo>
                      <a:pt x="680" y="2127"/>
                    </a:lnTo>
                    <a:lnTo>
                      <a:pt x="709" y="1891"/>
                    </a:lnTo>
                    <a:lnTo>
                      <a:pt x="738" y="1654"/>
                    </a:lnTo>
                    <a:lnTo>
                      <a:pt x="767" y="1418"/>
                    </a:lnTo>
                    <a:lnTo>
                      <a:pt x="797" y="1182"/>
                    </a:lnTo>
                    <a:lnTo>
                      <a:pt x="827" y="945"/>
                    </a:lnTo>
                    <a:lnTo>
                      <a:pt x="856" y="709"/>
                    </a:lnTo>
                    <a:lnTo>
                      <a:pt x="885" y="473"/>
                    </a:lnTo>
                    <a:lnTo>
                      <a:pt x="915" y="238"/>
                    </a:lnTo>
                    <a:lnTo>
                      <a:pt x="944"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591960" y="3985200"/>
                <a:ext cx="492480" cy="333000"/>
              </a:xfrm>
              <a:custGeom>
                <a:avLst/>
                <a:gdLst/>
                <a:ahLst/>
                <a:rect l="l" t="t" r="r" b="b"/>
                <a:pathLst>
                  <a:path w="1320" h="1213">
                    <a:moveTo>
                      <a:pt x="903" y="298"/>
                    </a:moveTo>
                    <a:lnTo>
                      <a:pt x="955" y="411"/>
                    </a:lnTo>
                    <a:lnTo>
                      <a:pt x="1006" y="526"/>
                    </a:lnTo>
                    <a:lnTo>
                      <a:pt x="1057" y="639"/>
                    </a:lnTo>
                    <a:lnTo>
                      <a:pt x="1110" y="754"/>
                    </a:lnTo>
                    <a:lnTo>
                      <a:pt x="1162" y="868"/>
                    </a:lnTo>
                    <a:lnTo>
                      <a:pt x="1215" y="982"/>
                    </a:lnTo>
                    <a:lnTo>
                      <a:pt x="1267" y="1097"/>
                    </a:lnTo>
                    <a:lnTo>
                      <a:pt x="1320" y="1213"/>
                    </a:lnTo>
                    <a:lnTo>
                      <a:pt x="1204" y="1172"/>
                    </a:lnTo>
                    <a:lnTo>
                      <a:pt x="1088" y="1133"/>
                    </a:lnTo>
                    <a:lnTo>
                      <a:pt x="973" y="1093"/>
                    </a:lnTo>
                    <a:lnTo>
                      <a:pt x="858" y="1054"/>
                    </a:lnTo>
                    <a:lnTo>
                      <a:pt x="744" y="1014"/>
                    </a:lnTo>
                    <a:lnTo>
                      <a:pt x="630" y="976"/>
                    </a:lnTo>
                    <a:lnTo>
                      <a:pt x="517" y="937"/>
                    </a:lnTo>
                    <a:lnTo>
                      <a:pt x="404" y="899"/>
                    </a:lnTo>
                    <a:lnTo>
                      <a:pt x="354" y="786"/>
                    </a:lnTo>
                    <a:lnTo>
                      <a:pt x="304" y="673"/>
                    </a:lnTo>
                    <a:lnTo>
                      <a:pt x="253" y="561"/>
                    </a:lnTo>
                    <a:lnTo>
                      <a:pt x="202" y="448"/>
                    </a:lnTo>
                    <a:lnTo>
                      <a:pt x="151" y="336"/>
                    </a:lnTo>
                    <a:lnTo>
                      <a:pt x="101" y="224"/>
                    </a:lnTo>
                    <a:lnTo>
                      <a:pt x="51" y="112"/>
                    </a:lnTo>
                    <a:lnTo>
                      <a:pt x="0" y="0"/>
                    </a:lnTo>
                    <a:lnTo>
                      <a:pt x="112" y="37"/>
                    </a:lnTo>
                    <a:lnTo>
                      <a:pt x="224" y="74"/>
                    </a:lnTo>
                    <a:lnTo>
                      <a:pt x="337" y="111"/>
                    </a:lnTo>
                    <a:lnTo>
                      <a:pt x="450" y="148"/>
                    </a:lnTo>
                    <a:lnTo>
                      <a:pt x="563" y="186"/>
                    </a:lnTo>
                    <a:lnTo>
                      <a:pt x="675" y="223"/>
                    </a:lnTo>
                    <a:lnTo>
                      <a:pt x="789" y="261"/>
                    </a:lnTo>
                    <a:lnTo>
                      <a:pt x="903" y="298"/>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591960" y="3985200"/>
                <a:ext cx="492480" cy="333000"/>
              </a:xfrm>
              <a:custGeom>
                <a:avLst/>
                <a:gdLst/>
                <a:ahLst/>
                <a:rect l="l" t="t" r="r" b="b"/>
                <a:pathLst>
                  <a:path w="1320" h="1213">
                    <a:moveTo>
                      <a:pt x="903" y="298"/>
                    </a:moveTo>
                    <a:lnTo>
                      <a:pt x="955" y="411"/>
                    </a:lnTo>
                    <a:lnTo>
                      <a:pt x="1006" y="526"/>
                    </a:lnTo>
                    <a:lnTo>
                      <a:pt x="1057" y="639"/>
                    </a:lnTo>
                    <a:lnTo>
                      <a:pt x="1110" y="754"/>
                    </a:lnTo>
                    <a:lnTo>
                      <a:pt x="1162" y="868"/>
                    </a:lnTo>
                    <a:lnTo>
                      <a:pt x="1215" y="982"/>
                    </a:lnTo>
                    <a:lnTo>
                      <a:pt x="1267" y="1097"/>
                    </a:lnTo>
                    <a:lnTo>
                      <a:pt x="1320" y="1213"/>
                    </a:lnTo>
                    <a:lnTo>
                      <a:pt x="1204" y="1172"/>
                    </a:lnTo>
                    <a:lnTo>
                      <a:pt x="1088" y="1133"/>
                    </a:lnTo>
                    <a:lnTo>
                      <a:pt x="973" y="1093"/>
                    </a:lnTo>
                    <a:lnTo>
                      <a:pt x="858" y="1054"/>
                    </a:lnTo>
                    <a:lnTo>
                      <a:pt x="744" y="1014"/>
                    </a:lnTo>
                    <a:lnTo>
                      <a:pt x="630" y="976"/>
                    </a:lnTo>
                    <a:lnTo>
                      <a:pt x="517" y="937"/>
                    </a:lnTo>
                    <a:lnTo>
                      <a:pt x="404" y="899"/>
                    </a:lnTo>
                    <a:lnTo>
                      <a:pt x="354" y="786"/>
                    </a:lnTo>
                    <a:lnTo>
                      <a:pt x="304" y="673"/>
                    </a:lnTo>
                    <a:lnTo>
                      <a:pt x="253" y="561"/>
                    </a:lnTo>
                    <a:lnTo>
                      <a:pt x="202" y="448"/>
                    </a:lnTo>
                    <a:lnTo>
                      <a:pt x="151" y="336"/>
                    </a:lnTo>
                    <a:lnTo>
                      <a:pt x="101" y="224"/>
                    </a:lnTo>
                    <a:lnTo>
                      <a:pt x="51" y="112"/>
                    </a:lnTo>
                    <a:lnTo>
                      <a:pt x="0" y="0"/>
                    </a:lnTo>
                    <a:lnTo>
                      <a:pt x="112" y="37"/>
                    </a:lnTo>
                    <a:lnTo>
                      <a:pt x="224" y="74"/>
                    </a:lnTo>
                    <a:lnTo>
                      <a:pt x="337" y="111"/>
                    </a:lnTo>
                    <a:lnTo>
                      <a:pt x="450" y="148"/>
                    </a:lnTo>
                    <a:lnTo>
                      <a:pt x="563" y="186"/>
                    </a:lnTo>
                    <a:lnTo>
                      <a:pt x="675" y="223"/>
                    </a:lnTo>
                    <a:lnTo>
                      <a:pt x="789" y="261"/>
                    </a:lnTo>
                    <a:lnTo>
                      <a:pt x="903" y="298"/>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591960" y="1932480"/>
                <a:ext cx="687960" cy="2134800"/>
              </a:xfrm>
              <a:custGeom>
                <a:avLst/>
                <a:gdLst/>
                <a:ahLst/>
                <a:rect l="l" t="t" r="r" b="b"/>
                <a:pathLst>
                  <a:path w="1847" h="7786">
                    <a:moveTo>
                      <a:pt x="941" y="0"/>
                    </a:moveTo>
                    <a:lnTo>
                      <a:pt x="1053" y="22"/>
                    </a:lnTo>
                    <a:lnTo>
                      <a:pt x="1165" y="45"/>
                    </a:lnTo>
                    <a:lnTo>
                      <a:pt x="1278" y="68"/>
                    </a:lnTo>
                    <a:lnTo>
                      <a:pt x="1392" y="90"/>
                    </a:lnTo>
                    <a:lnTo>
                      <a:pt x="1505" y="112"/>
                    </a:lnTo>
                    <a:lnTo>
                      <a:pt x="1619" y="136"/>
                    </a:lnTo>
                    <a:lnTo>
                      <a:pt x="1733" y="158"/>
                    </a:lnTo>
                    <a:lnTo>
                      <a:pt x="1847" y="180"/>
                    </a:lnTo>
                    <a:lnTo>
                      <a:pt x="1818" y="418"/>
                    </a:lnTo>
                    <a:lnTo>
                      <a:pt x="1788" y="653"/>
                    </a:lnTo>
                    <a:lnTo>
                      <a:pt x="1759" y="889"/>
                    </a:lnTo>
                    <a:lnTo>
                      <a:pt x="1730" y="1125"/>
                    </a:lnTo>
                    <a:lnTo>
                      <a:pt x="1700" y="1362"/>
                    </a:lnTo>
                    <a:lnTo>
                      <a:pt x="1670" y="1598"/>
                    </a:lnTo>
                    <a:lnTo>
                      <a:pt x="1641" y="1834"/>
                    </a:lnTo>
                    <a:lnTo>
                      <a:pt x="1612" y="2071"/>
                    </a:lnTo>
                    <a:lnTo>
                      <a:pt x="1583" y="2307"/>
                    </a:lnTo>
                    <a:lnTo>
                      <a:pt x="1553" y="2543"/>
                    </a:lnTo>
                    <a:lnTo>
                      <a:pt x="1524" y="2781"/>
                    </a:lnTo>
                    <a:lnTo>
                      <a:pt x="1495" y="3017"/>
                    </a:lnTo>
                    <a:lnTo>
                      <a:pt x="1466" y="3255"/>
                    </a:lnTo>
                    <a:lnTo>
                      <a:pt x="1437" y="3493"/>
                    </a:lnTo>
                    <a:lnTo>
                      <a:pt x="1407" y="3729"/>
                    </a:lnTo>
                    <a:lnTo>
                      <a:pt x="1377" y="3966"/>
                    </a:lnTo>
                    <a:lnTo>
                      <a:pt x="1348" y="4204"/>
                    </a:lnTo>
                    <a:lnTo>
                      <a:pt x="1319" y="4442"/>
                    </a:lnTo>
                    <a:lnTo>
                      <a:pt x="1288" y="4679"/>
                    </a:lnTo>
                    <a:lnTo>
                      <a:pt x="1259" y="4918"/>
                    </a:lnTo>
                    <a:lnTo>
                      <a:pt x="1230" y="5156"/>
                    </a:lnTo>
                    <a:lnTo>
                      <a:pt x="1201" y="5394"/>
                    </a:lnTo>
                    <a:lnTo>
                      <a:pt x="1171" y="5632"/>
                    </a:lnTo>
                    <a:lnTo>
                      <a:pt x="1141" y="5871"/>
                    </a:lnTo>
                    <a:lnTo>
                      <a:pt x="1112" y="6110"/>
                    </a:lnTo>
                    <a:lnTo>
                      <a:pt x="1082" y="6348"/>
                    </a:lnTo>
                    <a:lnTo>
                      <a:pt x="1052" y="6588"/>
                    </a:lnTo>
                    <a:lnTo>
                      <a:pt x="1022" y="6827"/>
                    </a:lnTo>
                    <a:lnTo>
                      <a:pt x="992" y="7067"/>
                    </a:lnTo>
                    <a:lnTo>
                      <a:pt x="963" y="7306"/>
                    </a:lnTo>
                    <a:lnTo>
                      <a:pt x="933" y="7546"/>
                    </a:lnTo>
                    <a:lnTo>
                      <a:pt x="903" y="7786"/>
                    </a:lnTo>
                    <a:lnTo>
                      <a:pt x="789" y="7749"/>
                    </a:lnTo>
                    <a:lnTo>
                      <a:pt x="675" y="7711"/>
                    </a:lnTo>
                    <a:lnTo>
                      <a:pt x="563" y="7674"/>
                    </a:lnTo>
                    <a:lnTo>
                      <a:pt x="450" y="7636"/>
                    </a:lnTo>
                    <a:lnTo>
                      <a:pt x="337" y="7599"/>
                    </a:lnTo>
                    <a:lnTo>
                      <a:pt x="224" y="7562"/>
                    </a:lnTo>
                    <a:lnTo>
                      <a:pt x="112" y="7525"/>
                    </a:lnTo>
                    <a:lnTo>
                      <a:pt x="0" y="7488"/>
                    </a:lnTo>
                    <a:lnTo>
                      <a:pt x="29" y="7252"/>
                    </a:lnTo>
                    <a:lnTo>
                      <a:pt x="59" y="7017"/>
                    </a:lnTo>
                    <a:lnTo>
                      <a:pt x="88" y="6780"/>
                    </a:lnTo>
                    <a:lnTo>
                      <a:pt x="117" y="6544"/>
                    </a:lnTo>
                    <a:lnTo>
                      <a:pt x="146" y="6309"/>
                    </a:lnTo>
                    <a:lnTo>
                      <a:pt x="177" y="6073"/>
                    </a:lnTo>
                    <a:lnTo>
                      <a:pt x="206" y="5837"/>
                    </a:lnTo>
                    <a:lnTo>
                      <a:pt x="236" y="5602"/>
                    </a:lnTo>
                    <a:lnTo>
                      <a:pt x="265" y="5368"/>
                    </a:lnTo>
                    <a:lnTo>
                      <a:pt x="294" y="5133"/>
                    </a:lnTo>
                    <a:lnTo>
                      <a:pt x="325" y="4899"/>
                    </a:lnTo>
                    <a:lnTo>
                      <a:pt x="354" y="4664"/>
                    </a:lnTo>
                    <a:lnTo>
                      <a:pt x="383" y="4429"/>
                    </a:lnTo>
                    <a:lnTo>
                      <a:pt x="412" y="4195"/>
                    </a:lnTo>
                    <a:lnTo>
                      <a:pt x="443" y="3962"/>
                    </a:lnTo>
                    <a:lnTo>
                      <a:pt x="472" y="3726"/>
                    </a:lnTo>
                    <a:lnTo>
                      <a:pt x="501" y="3493"/>
                    </a:lnTo>
                    <a:lnTo>
                      <a:pt x="530" y="3260"/>
                    </a:lnTo>
                    <a:lnTo>
                      <a:pt x="560" y="3026"/>
                    </a:lnTo>
                    <a:lnTo>
                      <a:pt x="589" y="2792"/>
                    </a:lnTo>
                    <a:lnTo>
                      <a:pt x="618" y="2559"/>
                    </a:lnTo>
                    <a:lnTo>
                      <a:pt x="646" y="2326"/>
                    </a:lnTo>
                    <a:lnTo>
                      <a:pt x="675" y="2093"/>
                    </a:lnTo>
                    <a:lnTo>
                      <a:pt x="705" y="1860"/>
                    </a:lnTo>
                    <a:lnTo>
                      <a:pt x="734" y="1628"/>
                    </a:lnTo>
                    <a:lnTo>
                      <a:pt x="764" y="1395"/>
                    </a:lnTo>
                    <a:lnTo>
                      <a:pt x="793" y="1164"/>
                    </a:lnTo>
                    <a:lnTo>
                      <a:pt x="823" y="931"/>
                    </a:lnTo>
                    <a:lnTo>
                      <a:pt x="852" y="698"/>
                    </a:lnTo>
                    <a:lnTo>
                      <a:pt x="881" y="466"/>
                    </a:lnTo>
                    <a:lnTo>
                      <a:pt x="911" y="233"/>
                    </a:lnTo>
                    <a:lnTo>
                      <a:pt x="941"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591960" y="1932480"/>
                <a:ext cx="687960" cy="2134800"/>
              </a:xfrm>
              <a:custGeom>
                <a:avLst/>
                <a:gdLst/>
                <a:ahLst/>
                <a:rect l="l" t="t" r="r" b="b"/>
                <a:pathLst>
                  <a:path w="1847" h="7786">
                    <a:moveTo>
                      <a:pt x="941" y="0"/>
                    </a:moveTo>
                    <a:lnTo>
                      <a:pt x="1053" y="22"/>
                    </a:lnTo>
                    <a:lnTo>
                      <a:pt x="1165" y="45"/>
                    </a:lnTo>
                    <a:lnTo>
                      <a:pt x="1278" y="68"/>
                    </a:lnTo>
                    <a:lnTo>
                      <a:pt x="1392" y="90"/>
                    </a:lnTo>
                    <a:lnTo>
                      <a:pt x="1505" y="112"/>
                    </a:lnTo>
                    <a:lnTo>
                      <a:pt x="1619" y="136"/>
                    </a:lnTo>
                    <a:lnTo>
                      <a:pt x="1733" y="158"/>
                    </a:lnTo>
                    <a:lnTo>
                      <a:pt x="1847" y="180"/>
                    </a:lnTo>
                    <a:lnTo>
                      <a:pt x="1818" y="418"/>
                    </a:lnTo>
                    <a:lnTo>
                      <a:pt x="1788" y="653"/>
                    </a:lnTo>
                    <a:lnTo>
                      <a:pt x="1759" y="889"/>
                    </a:lnTo>
                    <a:lnTo>
                      <a:pt x="1730" y="1125"/>
                    </a:lnTo>
                    <a:lnTo>
                      <a:pt x="1700" y="1362"/>
                    </a:lnTo>
                    <a:lnTo>
                      <a:pt x="1670" y="1598"/>
                    </a:lnTo>
                    <a:lnTo>
                      <a:pt x="1641" y="1834"/>
                    </a:lnTo>
                    <a:lnTo>
                      <a:pt x="1612" y="2071"/>
                    </a:lnTo>
                    <a:lnTo>
                      <a:pt x="1583" y="2307"/>
                    </a:lnTo>
                    <a:lnTo>
                      <a:pt x="1553" y="2543"/>
                    </a:lnTo>
                    <a:lnTo>
                      <a:pt x="1524" y="2781"/>
                    </a:lnTo>
                    <a:lnTo>
                      <a:pt x="1495" y="3017"/>
                    </a:lnTo>
                    <a:lnTo>
                      <a:pt x="1466" y="3255"/>
                    </a:lnTo>
                    <a:lnTo>
                      <a:pt x="1437" y="3493"/>
                    </a:lnTo>
                    <a:lnTo>
                      <a:pt x="1407" y="3729"/>
                    </a:lnTo>
                    <a:lnTo>
                      <a:pt x="1377" y="3966"/>
                    </a:lnTo>
                    <a:lnTo>
                      <a:pt x="1348" y="4204"/>
                    </a:lnTo>
                    <a:lnTo>
                      <a:pt x="1319" y="4442"/>
                    </a:lnTo>
                    <a:lnTo>
                      <a:pt x="1288" y="4679"/>
                    </a:lnTo>
                    <a:lnTo>
                      <a:pt x="1259" y="4918"/>
                    </a:lnTo>
                    <a:lnTo>
                      <a:pt x="1230" y="5156"/>
                    </a:lnTo>
                    <a:lnTo>
                      <a:pt x="1201" y="5394"/>
                    </a:lnTo>
                    <a:lnTo>
                      <a:pt x="1171" y="5632"/>
                    </a:lnTo>
                    <a:lnTo>
                      <a:pt x="1141" y="5871"/>
                    </a:lnTo>
                    <a:lnTo>
                      <a:pt x="1112" y="6110"/>
                    </a:lnTo>
                    <a:lnTo>
                      <a:pt x="1082" y="6348"/>
                    </a:lnTo>
                    <a:lnTo>
                      <a:pt x="1052" y="6588"/>
                    </a:lnTo>
                    <a:lnTo>
                      <a:pt x="1022" y="6827"/>
                    </a:lnTo>
                    <a:lnTo>
                      <a:pt x="992" y="7067"/>
                    </a:lnTo>
                    <a:lnTo>
                      <a:pt x="963" y="7306"/>
                    </a:lnTo>
                    <a:lnTo>
                      <a:pt x="933" y="7546"/>
                    </a:lnTo>
                    <a:lnTo>
                      <a:pt x="903" y="7786"/>
                    </a:lnTo>
                    <a:lnTo>
                      <a:pt x="789" y="7749"/>
                    </a:lnTo>
                    <a:lnTo>
                      <a:pt x="675" y="7711"/>
                    </a:lnTo>
                    <a:lnTo>
                      <a:pt x="563" y="7674"/>
                    </a:lnTo>
                    <a:lnTo>
                      <a:pt x="450" y="7636"/>
                    </a:lnTo>
                    <a:lnTo>
                      <a:pt x="337" y="7599"/>
                    </a:lnTo>
                    <a:lnTo>
                      <a:pt x="224" y="7562"/>
                    </a:lnTo>
                    <a:lnTo>
                      <a:pt x="112" y="7525"/>
                    </a:lnTo>
                    <a:lnTo>
                      <a:pt x="0" y="7488"/>
                    </a:lnTo>
                    <a:lnTo>
                      <a:pt x="29" y="7252"/>
                    </a:lnTo>
                    <a:lnTo>
                      <a:pt x="59" y="7017"/>
                    </a:lnTo>
                    <a:lnTo>
                      <a:pt x="88" y="6780"/>
                    </a:lnTo>
                    <a:lnTo>
                      <a:pt x="117" y="6544"/>
                    </a:lnTo>
                    <a:lnTo>
                      <a:pt x="146" y="6309"/>
                    </a:lnTo>
                    <a:lnTo>
                      <a:pt x="177" y="6073"/>
                    </a:lnTo>
                    <a:lnTo>
                      <a:pt x="206" y="5837"/>
                    </a:lnTo>
                    <a:lnTo>
                      <a:pt x="236" y="5602"/>
                    </a:lnTo>
                    <a:lnTo>
                      <a:pt x="265" y="5368"/>
                    </a:lnTo>
                    <a:lnTo>
                      <a:pt x="294" y="5133"/>
                    </a:lnTo>
                    <a:lnTo>
                      <a:pt x="325" y="4899"/>
                    </a:lnTo>
                    <a:lnTo>
                      <a:pt x="354" y="4664"/>
                    </a:lnTo>
                    <a:lnTo>
                      <a:pt x="383" y="4429"/>
                    </a:lnTo>
                    <a:lnTo>
                      <a:pt x="412" y="4195"/>
                    </a:lnTo>
                    <a:lnTo>
                      <a:pt x="443" y="3962"/>
                    </a:lnTo>
                    <a:lnTo>
                      <a:pt x="472" y="3726"/>
                    </a:lnTo>
                    <a:lnTo>
                      <a:pt x="501" y="3493"/>
                    </a:lnTo>
                    <a:lnTo>
                      <a:pt x="530" y="3260"/>
                    </a:lnTo>
                    <a:lnTo>
                      <a:pt x="560" y="3026"/>
                    </a:lnTo>
                    <a:lnTo>
                      <a:pt x="589" y="2792"/>
                    </a:lnTo>
                    <a:lnTo>
                      <a:pt x="618" y="2559"/>
                    </a:lnTo>
                    <a:lnTo>
                      <a:pt x="646" y="2326"/>
                    </a:lnTo>
                    <a:lnTo>
                      <a:pt x="675" y="2093"/>
                    </a:lnTo>
                    <a:lnTo>
                      <a:pt x="705" y="1860"/>
                    </a:lnTo>
                    <a:lnTo>
                      <a:pt x="734" y="1628"/>
                    </a:lnTo>
                    <a:lnTo>
                      <a:pt x="764" y="1395"/>
                    </a:lnTo>
                    <a:lnTo>
                      <a:pt x="793" y="1164"/>
                    </a:lnTo>
                    <a:lnTo>
                      <a:pt x="823" y="931"/>
                    </a:lnTo>
                    <a:lnTo>
                      <a:pt x="852" y="698"/>
                    </a:lnTo>
                    <a:lnTo>
                      <a:pt x="881" y="466"/>
                    </a:lnTo>
                    <a:lnTo>
                      <a:pt x="911" y="233"/>
                    </a:lnTo>
                    <a:lnTo>
                      <a:pt x="94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962400" y="1973520"/>
                <a:ext cx="438480" cy="2237760"/>
              </a:xfrm>
              <a:custGeom>
                <a:avLst/>
                <a:gdLst/>
                <a:ahLst/>
                <a:rect l="l" t="t" r="r" b="b"/>
                <a:pathLst>
                  <a:path w="1176" h="8162">
                    <a:moveTo>
                      <a:pt x="962" y="0"/>
                    </a:moveTo>
                    <a:lnTo>
                      <a:pt x="988" y="48"/>
                    </a:lnTo>
                    <a:lnTo>
                      <a:pt x="1015" y="96"/>
                    </a:lnTo>
                    <a:lnTo>
                      <a:pt x="1041" y="144"/>
                    </a:lnTo>
                    <a:lnTo>
                      <a:pt x="1068" y="192"/>
                    </a:lnTo>
                    <a:lnTo>
                      <a:pt x="1096" y="240"/>
                    </a:lnTo>
                    <a:lnTo>
                      <a:pt x="1122" y="288"/>
                    </a:lnTo>
                    <a:lnTo>
                      <a:pt x="1149" y="336"/>
                    </a:lnTo>
                    <a:lnTo>
                      <a:pt x="1176" y="384"/>
                    </a:lnTo>
                    <a:lnTo>
                      <a:pt x="1146" y="625"/>
                    </a:lnTo>
                    <a:lnTo>
                      <a:pt x="1117" y="868"/>
                    </a:lnTo>
                    <a:lnTo>
                      <a:pt x="1087" y="1109"/>
                    </a:lnTo>
                    <a:lnTo>
                      <a:pt x="1057" y="1350"/>
                    </a:lnTo>
                    <a:lnTo>
                      <a:pt x="1028" y="1591"/>
                    </a:lnTo>
                    <a:lnTo>
                      <a:pt x="998" y="1833"/>
                    </a:lnTo>
                    <a:lnTo>
                      <a:pt x="969" y="2074"/>
                    </a:lnTo>
                    <a:lnTo>
                      <a:pt x="938" y="2315"/>
                    </a:lnTo>
                    <a:lnTo>
                      <a:pt x="908" y="2558"/>
                    </a:lnTo>
                    <a:lnTo>
                      <a:pt x="879" y="2799"/>
                    </a:lnTo>
                    <a:lnTo>
                      <a:pt x="849" y="3041"/>
                    </a:lnTo>
                    <a:lnTo>
                      <a:pt x="819" y="3284"/>
                    </a:lnTo>
                    <a:lnTo>
                      <a:pt x="789" y="3526"/>
                    </a:lnTo>
                    <a:lnTo>
                      <a:pt x="759" y="3769"/>
                    </a:lnTo>
                    <a:lnTo>
                      <a:pt x="730" y="4011"/>
                    </a:lnTo>
                    <a:lnTo>
                      <a:pt x="700" y="4254"/>
                    </a:lnTo>
                    <a:lnTo>
                      <a:pt x="669" y="4498"/>
                    </a:lnTo>
                    <a:lnTo>
                      <a:pt x="639" y="4740"/>
                    </a:lnTo>
                    <a:lnTo>
                      <a:pt x="608" y="4984"/>
                    </a:lnTo>
                    <a:lnTo>
                      <a:pt x="578" y="5228"/>
                    </a:lnTo>
                    <a:lnTo>
                      <a:pt x="547" y="5471"/>
                    </a:lnTo>
                    <a:lnTo>
                      <a:pt x="517" y="5714"/>
                    </a:lnTo>
                    <a:lnTo>
                      <a:pt x="487" y="5958"/>
                    </a:lnTo>
                    <a:lnTo>
                      <a:pt x="457" y="6201"/>
                    </a:lnTo>
                    <a:lnTo>
                      <a:pt x="425" y="6446"/>
                    </a:lnTo>
                    <a:lnTo>
                      <a:pt x="395" y="6691"/>
                    </a:lnTo>
                    <a:lnTo>
                      <a:pt x="366" y="6936"/>
                    </a:lnTo>
                    <a:lnTo>
                      <a:pt x="336" y="7181"/>
                    </a:lnTo>
                    <a:lnTo>
                      <a:pt x="305" y="7426"/>
                    </a:lnTo>
                    <a:lnTo>
                      <a:pt x="275" y="7671"/>
                    </a:lnTo>
                    <a:lnTo>
                      <a:pt x="245" y="7917"/>
                    </a:lnTo>
                    <a:lnTo>
                      <a:pt x="215" y="8162"/>
                    </a:lnTo>
                    <a:lnTo>
                      <a:pt x="187" y="8109"/>
                    </a:lnTo>
                    <a:lnTo>
                      <a:pt x="161" y="8058"/>
                    </a:lnTo>
                    <a:lnTo>
                      <a:pt x="134" y="8005"/>
                    </a:lnTo>
                    <a:lnTo>
                      <a:pt x="107" y="7952"/>
                    </a:lnTo>
                    <a:lnTo>
                      <a:pt x="81" y="7899"/>
                    </a:lnTo>
                    <a:lnTo>
                      <a:pt x="53" y="7847"/>
                    </a:lnTo>
                    <a:lnTo>
                      <a:pt x="27" y="7794"/>
                    </a:lnTo>
                    <a:lnTo>
                      <a:pt x="0" y="7741"/>
                    </a:lnTo>
                    <a:lnTo>
                      <a:pt x="31" y="7497"/>
                    </a:lnTo>
                    <a:lnTo>
                      <a:pt x="61" y="7254"/>
                    </a:lnTo>
                    <a:lnTo>
                      <a:pt x="92" y="7010"/>
                    </a:lnTo>
                    <a:lnTo>
                      <a:pt x="122" y="6766"/>
                    </a:lnTo>
                    <a:lnTo>
                      <a:pt x="152" y="6523"/>
                    </a:lnTo>
                    <a:lnTo>
                      <a:pt x="182" y="6279"/>
                    </a:lnTo>
                    <a:lnTo>
                      <a:pt x="213" y="6035"/>
                    </a:lnTo>
                    <a:lnTo>
                      <a:pt x="243" y="5793"/>
                    </a:lnTo>
                    <a:lnTo>
                      <a:pt x="273" y="5550"/>
                    </a:lnTo>
                    <a:lnTo>
                      <a:pt x="303" y="5308"/>
                    </a:lnTo>
                    <a:lnTo>
                      <a:pt x="333" y="5065"/>
                    </a:lnTo>
                    <a:lnTo>
                      <a:pt x="363" y="4823"/>
                    </a:lnTo>
                    <a:lnTo>
                      <a:pt x="393" y="4580"/>
                    </a:lnTo>
                    <a:lnTo>
                      <a:pt x="423" y="4338"/>
                    </a:lnTo>
                    <a:lnTo>
                      <a:pt x="454" y="4096"/>
                    </a:lnTo>
                    <a:lnTo>
                      <a:pt x="484" y="3854"/>
                    </a:lnTo>
                    <a:lnTo>
                      <a:pt x="514" y="3613"/>
                    </a:lnTo>
                    <a:lnTo>
                      <a:pt x="543" y="3371"/>
                    </a:lnTo>
                    <a:lnTo>
                      <a:pt x="574" y="3130"/>
                    </a:lnTo>
                    <a:lnTo>
                      <a:pt x="603" y="2889"/>
                    </a:lnTo>
                    <a:lnTo>
                      <a:pt x="633" y="2647"/>
                    </a:lnTo>
                    <a:lnTo>
                      <a:pt x="662" y="2406"/>
                    </a:lnTo>
                    <a:lnTo>
                      <a:pt x="692" y="2166"/>
                    </a:lnTo>
                    <a:lnTo>
                      <a:pt x="723" y="1925"/>
                    </a:lnTo>
                    <a:lnTo>
                      <a:pt x="752" y="1685"/>
                    </a:lnTo>
                    <a:lnTo>
                      <a:pt x="782" y="1444"/>
                    </a:lnTo>
                    <a:lnTo>
                      <a:pt x="811" y="1204"/>
                    </a:lnTo>
                    <a:lnTo>
                      <a:pt x="842" y="962"/>
                    </a:lnTo>
                    <a:lnTo>
                      <a:pt x="872" y="722"/>
                    </a:lnTo>
                    <a:lnTo>
                      <a:pt x="901" y="481"/>
                    </a:lnTo>
                    <a:lnTo>
                      <a:pt x="931" y="241"/>
                    </a:lnTo>
                    <a:lnTo>
                      <a:pt x="962" y="0"/>
                    </a:lnTo>
                    <a:close/>
                  </a:path>
                </a:pathLst>
              </a:custGeom>
              <a:solidFill>
                <a:srgbClr val="9270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962400" y="1973520"/>
                <a:ext cx="438480" cy="2237760"/>
              </a:xfrm>
              <a:custGeom>
                <a:avLst/>
                <a:gdLst/>
                <a:ahLst/>
                <a:rect l="l" t="t" r="r" b="b"/>
                <a:pathLst>
                  <a:path w="1176" h="8162">
                    <a:moveTo>
                      <a:pt x="962" y="0"/>
                    </a:moveTo>
                    <a:lnTo>
                      <a:pt x="988" y="48"/>
                    </a:lnTo>
                    <a:lnTo>
                      <a:pt x="1015" y="96"/>
                    </a:lnTo>
                    <a:lnTo>
                      <a:pt x="1041" y="144"/>
                    </a:lnTo>
                    <a:lnTo>
                      <a:pt x="1068" y="192"/>
                    </a:lnTo>
                    <a:lnTo>
                      <a:pt x="1096" y="240"/>
                    </a:lnTo>
                    <a:lnTo>
                      <a:pt x="1122" y="288"/>
                    </a:lnTo>
                    <a:lnTo>
                      <a:pt x="1149" y="336"/>
                    </a:lnTo>
                    <a:lnTo>
                      <a:pt x="1176" y="384"/>
                    </a:lnTo>
                    <a:lnTo>
                      <a:pt x="1146" y="625"/>
                    </a:lnTo>
                    <a:lnTo>
                      <a:pt x="1117" y="868"/>
                    </a:lnTo>
                    <a:lnTo>
                      <a:pt x="1087" y="1109"/>
                    </a:lnTo>
                    <a:lnTo>
                      <a:pt x="1057" y="1350"/>
                    </a:lnTo>
                    <a:lnTo>
                      <a:pt x="1028" y="1591"/>
                    </a:lnTo>
                    <a:lnTo>
                      <a:pt x="998" y="1833"/>
                    </a:lnTo>
                    <a:lnTo>
                      <a:pt x="969" y="2074"/>
                    </a:lnTo>
                    <a:lnTo>
                      <a:pt x="938" y="2315"/>
                    </a:lnTo>
                    <a:lnTo>
                      <a:pt x="908" y="2558"/>
                    </a:lnTo>
                    <a:lnTo>
                      <a:pt x="879" y="2799"/>
                    </a:lnTo>
                    <a:lnTo>
                      <a:pt x="849" y="3041"/>
                    </a:lnTo>
                    <a:lnTo>
                      <a:pt x="819" y="3284"/>
                    </a:lnTo>
                    <a:lnTo>
                      <a:pt x="789" y="3526"/>
                    </a:lnTo>
                    <a:lnTo>
                      <a:pt x="759" y="3769"/>
                    </a:lnTo>
                    <a:lnTo>
                      <a:pt x="730" y="4011"/>
                    </a:lnTo>
                    <a:lnTo>
                      <a:pt x="700" y="4254"/>
                    </a:lnTo>
                    <a:lnTo>
                      <a:pt x="669" y="4498"/>
                    </a:lnTo>
                    <a:lnTo>
                      <a:pt x="639" y="4740"/>
                    </a:lnTo>
                    <a:lnTo>
                      <a:pt x="608" y="4984"/>
                    </a:lnTo>
                    <a:lnTo>
                      <a:pt x="578" y="5228"/>
                    </a:lnTo>
                    <a:lnTo>
                      <a:pt x="547" y="5471"/>
                    </a:lnTo>
                    <a:lnTo>
                      <a:pt x="517" y="5714"/>
                    </a:lnTo>
                    <a:lnTo>
                      <a:pt x="487" y="5958"/>
                    </a:lnTo>
                    <a:lnTo>
                      <a:pt x="457" y="6201"/>
                    </a:lnTo>
                    <a:lnTo>
                      <a:pt x="425" y="6446"/>
                    </a:lnTo>
                    <a:lnTo>
                      <a:pt x="395" y="6691"/>
                    </a:lnTo>
                    <a:lnTo>
                      <a:pt x="366" y="6936"/>
                    </a:lnTo>
                    <a:lnTo>
                      <a:pt x="336" y="7181"/>
                    </a:lnTo>
                    <a:lnTo>
                      <a:pt x="305" y="7426"/>
                    </a:lnTo>
                    <a:lnTo>
                      <a:pt x="275" y="7671"/>
                    </a:lnTo>
                    <a:lnTo>
                      <a:pt x="245" y="7917"/>
                    </a:lnTo>
                    <a:lnTo>
                      <a:pt x="215" y="8162"/>
                    </a:lnTo>
                    <a:lnTo>
                      <a:pt x="187" y="8109"/>
                    </a:lnTo>
                    <a:lnTo>
                      <a:pt x="161" y="8058"/>
                    </a:lnTo>
                    <a:lnTo>
                      <a:pt x="134" y="8005"/>
                    </a:lnTo>
                    <a:lnTo>
                      <a:pt x="107" y="7952"/>
                    </a:lnTo>
                    <a:lnTo>
                      <a:pt x="81" y="7899"/>
                    </a:lnTo>
                    <a:lnTo>
                      <a:pt x="53" y="7847"/>
                    </a:lnTo>
                    <a:lnTo>
                      <a:pt x="27" y="7794"/>
                    </a:lnTo>
                    <a:lnTo>
                      <a:pt x="0" y="7741"/>
                    </a:lnTo>
                    <a:lnTo>
                      <a:pt x="31" y="7497"/>
                    </a:lnTo>
                    <a:lnTo>
                      <a:pt x="61" y="7254"/>
                    </a:lnTo>
                    <a:lnTo>
                      <a:pt x="92" y="7010"/>
                    </a:lnTo>
                    <a:lnTo>
                      <a:pt x="122" y="6766"/>
                    </a:lnTo>
                    <a:lnTo>
                      <a:pt x="152" y="6523"/>
                    </a:lnTo>
                    <a:lnTo>
                      <a:pt x="182" y="6279"/>
                    </a:lnTo>
                    <a:lnTo>
                      <a:pt x="213" y="6035"/>
                    </a:lnTo>
                    <a:lnTo>
                      <a:pt x="243" y="5793"/>
                    </a:lnTo>
                    <a:lnTo>
                      <a:pt x="273" y="5550"/>
                    </a:lnTo>
                    <a:lnTo>
                      <a:pt x="303" y="5308"/>
                    </a:lnTo>
                    <a:lnTo>
                      <a:pt x="333" y="5065"/>
                    </a:lnTo>
                    <a:lnTo>
                      <a:pt x="363" y="4823"/>
                    </a:lnTo>
                    <a:lnTo>
                      <a:pt x="393" y="4580"/>
                    </a:lnTo>
                    <a:lnTo>
                      <a:pt x="423" y="4338"/>
                    </a:lnTo>
                    <a:lnTo>
                      <a:pt x="454" y="4096"/>
                    </a:lnTo>
                    <a:lnTo>
                      <a:pt x="484" y="3854"/>
                    </a:lnTo>
                    <a:lnTo>
                      <a:pt x="514" y="3613"/>
                    </a:lnTo>
                    <a:lnTo>
                      <a:pt x="543" y="3371"/>
                    </a:lnTo>
                    <a:lnTo>
                      <a:pt x="574" y="3130"/>
                    </a:lnTo>
                    <a:lnTo>
                      <a:pt x="603" y="2889"/>
                    </a:lnTo>
                    <a:lnTo>
                      <a:pt x="633" y="2647"/>
                    </a:lnTo>
                    <a:lnTo>
                      <a:pt x="662" y="2406"/>
                    </a:lnTo>
                    <a:lnTo>
                      <a:pt x="692" y="2166"/>
                    </a:lnTo>
                    <a:lnTo>
                      <a:pt x="723" y="1925"/>
                    </a:lnTo>
                    <a:lnTo>
                      <a:pt x="752" y="1685"/>
                    </a:lnTo>
                    <a:lnTo>
                      <a:pt x="782" y="1444"/>
                    </a:lnTo>
                    <a:lnTo>
                      <a:pt x="811" y="1204"/>
                    </a:lnTo>
                    <a:lnTo>
                      <a:pt x="842" y="962"/>
                    </a:lnTo>
                    <a:lnTo>
                      <a:pt x="872" y="722"/>
                    </a:lnTo>
                    <a:lnTo>
                      <a:pt x="901" y="481"/>
                    </a:lnTo>
                    <a:lnTo>
                      <a:pt x="931" y="241"/>
                    </a:lnTo>
                    <a:lnTo>
                      <a:pt x="962"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454800" y="3974040"/>
                <a:ext cx="588240" cy="237240"/>
              </a:xfrm>
              <a:custGeom>
                <a:avLst/>
                <a:gdLst/>
                <a:ahLst/>
                <a:rect l="l" t="t" r="r" b="b"/>
                <a:pathLst>
                  <a:path w="1574" h="868">
                    <a:moveTo>
                      <a:pt x="1359" y="447"/>
                    </a:moveTo>
                    <a:lnTo>
                      <a:pt x="1386" y="500"/>
                    </a:lnTo>
                    <a:lnTo>
                      <a:pt x="1412" y="553"/>
                    </a:lnTo>
                    <a:lnTo>
                      <a:pt x="1440" y="605"/>
                    </a:lnTo>
                    <a:lnTo>
                      <a:pt x="1466" y="658"/>
                    </a:lnTo>
                    <a:lnTo>
                      <a:pt x="1493" y="711"/>
                    </a:lnTo>
                    <a:lnTo>
                      <a:pt x="1520" y="764"/>
                    </a:lnTo>
                    <a:lnTo>
                      <a:pt x="1546" y="815"/>
                    </a:lnTo>
                    <a:lnTo>
                      <a:pt x="1574" y="868"/>
                    </a:lnTo>
                    <a:lnTo>
                      <a:pt x="1400" y="810"/>
                    </a:lnTo>
                    <a:lnTo>
                      <a:pt x="1228" y="752"/>
                    </a:lnTo>
                    <a:lnTo>
                      <a:pt x="1056" y="695"/>
                    </a:lnTo>
                    <a:lnTo>
                      <a:pt x="884" y="637"/>
                    </a:lnTo>
                    <a:lnTo>
                      <a:pt x="714" y="579"/>
                    </a:lnTo>
                    <a:lnTo>
                      <a:pt x="544" y="522"/>
                    </a:lnTo>
                    <a:lnTo>
                      <a:pt x="374" y="464"/>
                    </a:lnTo>
                    <a:lnTo>
                      <a:pt x="205" y="408"/>
                    </a:lnTo>
                    <a:lnTo>
                      <a:pt x="179" y="357"/>
                    </a:lnTo>
                    <a:lnTo>
                      <a:pt x="153" y="306"/>
                    </a:lnTo>
                    <a:lnTo>
                      <a:pt x="128" y="255"/>
                    </a:lnTo>
                    <a:lnTo>
                      <a:pt x="102" y="203"/>
                    </a:lnTo>
                    <a:lnTo>
                      <a:pt x="77" y="153"/>
                    </a:lnTo>
                    <a:lnTo>
                      <a:pt x="51" y="101"/>
                    </a:lnTo>
                    <a:lnTo>
                      <a:pt x="25" y="51"/>
                    </a:lnTo>
                    <a:lnTo>
                      <a:pt x="0" y="0"/>
                    </a:lnTo>
                    <a:lnTo>
                      <a:pt x="169" y="54"/>
                    </a:lnTo>
                    <a:lnTo>
                      <a:pt x="337" y="110"/>
                    </a:lnTo>
                    <a:lnTo>
                      <a:pt x="506" y="166"/>
                    </a:lnTo>
                    <a:lnTo>
                      <a:pt x="677" y="222"/>
                    </a:lnTo>
                    <a:lnTo>
                      <a:pt x="847" y="279"/>
                    </a:lnTo>
                    <a:lnTo>
                      <a:pt x="1017" y="334"/>
                    </a:lnTo>
                    <a:lnTo>
                      <a:pt x="1189" y="391"/>
                    </a:lnTo>
                    <a:lnTo>
                      <a:pt x="1359" y="447"/>
                    </a:lnTo>
                    <a:close/>
                  </a:path>
                </a:pathLst>
              </a:custGeom>
              <a:solidFill>
                <a:srgbClr val="4b44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54800" y="3974040"/>
                <a:ext cx="588240" cy="237240"/>
              </a:xfrm>
              <a:custGeom>
                <a:avLst/>
                <a:gdLst/>
                <a:ahLst/>
                <a:rect l="l" t="t" r="r" b="b"/>
                <a:pathLst>
                  <a:path w="1574" h="868">
                    <a:moveTo>
                      <a:pt x="1359" y="447"/>
                    </a:moveTo>
                    <a:lnTo>
                      <a:pt x="1386" y="500"/>
                    </a:lnTo>
                    <a:lnTo>
                      <a:pt x="1412" y="553"/>
                    </a:lnTo>
                    <a:lnTo>
                      <a:pt x="1440" y="605"/>
                    </a:lnTo>
                    <a:lnTo>
                      <a:pt x="1466" y="658"/>
                    </a:lnTo>
                    <a:lnTo>
                      <a:pt x="1493" y="711"/>
                    </a:lnTo>
                    <a:lnTo>
                      <a:pt x="1520" y="764"/>
                    </a:lnTo>
                    <a:lnTo>
                      <a:pt x="1546" y="815"/>
                    </a:lnTo>
                    <a:lnTo>
                      <a:pt x="1574" y="868"/>
                    </a:lnTo>
                    <a:lnTo>
                      <a:pt x="1400" y="810"/>
                    </a:lnTo>
                    <a:lnTo>
                      <a:pt x="1228" y="752"/>
                    </a:lnTo>
                    <a:lnTo>
                      <a:pt x="1056" y="695"/>
                    </a:lnTo>
                    <a:lnTo>
                      <a:pt x="884" y="637"/>
                    </a:lnTo>
                    <a:lnTo>
                      <a:pt x="714" y="579"/>
                    </a:lnTo>
                    <a:lnTo>
                      <a:pt x="544" y="522"/>
                    </a:lnTo>
                    <a:lnTo>
                      <a:pt x="374" y="464"/>
                    </a:lnTo>
                    <a:lnTo>
                      <a:pt x="205" y="408"/>
                    </a:lnTo>
                    <a:lnTo>
                      <a:pt x="179" y="357"/>
                    </a:lnTo>
                    <a:lnTo>
                      <a:pt x="153" y="306"/>
                    </a:lnTo>
                    <a:lnTo>
                      <a:pt x="128" y="255"/>
                    </a:lnTo>
                    <a:lnTo>
                      <a:pt x="102" y="203"/>
                    </a:lnTo>
                    <a:lnTo>
                      <a:pt x="77" y="153"/>
                    </a:lnTo>
                    <a:lnTo>
                      <a:pt x="51" y="101"/>
                    </a:lnTo>
                    <a:lnTo>
                      <a:pt x="25" y="51"/>
                    </a:lnTo>
                    <a:lnTo>
                      <a:pt x="0" y="0"/>
                    </a:lnTo>
                    <a:lnTo>
                      <a:pt x="169" y="54"/>
                    </a:lnTo>
                    <a:lnTo>
                      <a:pt x="337" y="110"/>
                    </a:lnTo>
                    <a:lnTo>
                      <a:pt x="506" y="166"/>
                    </a:lnTo>
                    <a:lnTo>
                      <a:pt x="677" y="222"/>
                    </a:lnTo>
                    <a:lnTo>
                      <a:pt x="847" y="279"/>
                    </a:lnTo>
                    <a:lnTo>
                      <a:pt x="1017" y="334"/>
                    </a:lnTo>
                    <a:lnTo>
                      <a:pt x="1189" y="391"/>
                    </a:lnTo>
                    <a:lnTo>
                      <a:pt x="1359" y="447"/>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454800" y="1899360"/>
                <a:ext cx="865800" cy="2196360"/>
              </a:xfrm>
              <a:custGeom>
                <a:avLst/>
                <a:gdLst/>
                <a:ahLst/>
                <a:rect l="l" t="t" r="r" b="b"/>
                <a:pathLst>
                  <a:path w="2321" h="8012">
                    <a:moveTo>
                      <a:pt x="957" y="0"/>
                    </a:moveTo>
                    <a:lnTo>
                      <a:pt x="1125" y="33"/>
                    </a:lnTo>
                    <a:lnTo>
                      <a:pt x="1293" y="68"/>
                    </a:lnTo>
                    <a:lnTo>
                      <a:pt x="1463" y="101"/>
                    </a:lnTo>
                    <a:lnTo>
                      <a:pt x="1633" y="134"/>
                    </a:lnTo>
                    <a:lnTo>
                      <a:pt x="1804" y="169"/>
                    </a:lnTo>
                    <a:lnTo>
                      <a:pt x="1976" y="202"/>
                    </a:lnTo>
                    <a:lnTo>
                      <a:pt x="2148" y="236"/>
                    </a:lnTo>
                    <a:lnTo>
                      <a:pt x="2321" y="271"/>
                    </a:lnTo>
                    <a:lnTo>
                      <a:pt x="2290" y="512"/>
                    </a:lnTo>
                    <a:lnTo>
                      <a:pt x="2260" y="752"/>
                    </a:lnTo>
                    <a:lnTo>
                      <a:pt x="2231" y="993"/>
                    </a:lnTo>
                    <a:lnTo>
                      <a:pt x="2201" y="1233"/>
                    </a:lnTo>
                    <a:lnTo>
                      <a:pt x="2170" y="1475"/>
                    </a:lnTo>
                    <a:lnTo>
                      <a:pt x="2141" y="1715"/>
                    </a:lnTo>
                    <a:lnTo>
                      <a:pt x="2111" y="1956"/>
                    </a:lnTo>
                    <a:lnTo>
                      <a:pt x="2082" y="2196"/>
                    </a:lnTo>
                    <a:lnTo>
                      <a:pt x="2051" y="2437"/>
                    </a:lnTo>
                    <a:lnTo>
                      <a:pt x="2021" y="2677"/>
                    </a:lnTo>
                    <a:lnTo>
                      <a:pt x="1992" y="2918"/>
                    </a:lnTo>
                    <a:lnTo>
                      <a:pt x="1962" y="3160"/>
                    </a:lnTo>
                    <a:lnTo>
                      <a:pt x="1933" y="3401"/>
                    </a:lnTo>
                    <a:lnTo>
                      <a:pt x="1902" y="3642"/>
                    </a:lnTo>
                    <a:lnTo>
                      <a:pt x="1873" y="3884"/>
                    </a:lnTo>
                    <a:lnTo>
                      <a:pt x="1843" y="4125"/>
                    </a:lnTo>
                    <a:lnTo>
                      <a:pt x="1813" y="4367"/>
                    </a:lnTo>
                    <a:lnTo>
                      <a:pt x="1782" y="4609"/>
                    </a:lnTo>
                    <a:lnTo>
                      <a:pt x="1752" y="4851"/>
                    </a:lnTo>
                    <a:lnTo>
                      <a:pt x="1722" y="5094"/>
                    </a:lnTo>
                    <a:lnTo>
                      <a:pt x="1692" y="5336"/>
                    </a:lnTo>
                    <a:lnTo>
                      <a:pt x="1662" y="5579"/>
                    </a:lnTo>
                    <a:lnTo>
                      <a:pt x="1632" y="5821"/>
                    </a:lnTo>
                    <a:lnTo>
                      <a:pt x="1602" y="6064"/>
                    </a:lnTo>
                    <a:lnTo>
                      <a:pt x="1572" y="6306"/>
                    </a:lnTo>
                    <a:lnTo>
                      <a:pt x="1541" y="6550"/>
                    </a:lnTo>
                    <a:lnTo>
                      <a:pt x="1511" y="6794"/>
                    </a:lnTo>
                    <a:lnTo>
                      <a:pt x="1481" y="7037"/>
                    </a:lnTo>
                    <a:lnTo>
                      <a:pt x="1451" y="7281"/>
                    </a:lnTo>
                    <a:lnTo>
                      <a:pt x="1420" y="7525"/>
                    </a:lnTo>
                    <a:lnTo>
                      <a:pt x="1390" y="7768"/>
                    </a:lnTo>
                    <a:lnTo>
                      <a:pt x="1359" y="8012"/>
                    </a:lnTo>
                    <a:lnTo>
                      <a:pt x="1189" y="7956"/>
                    </a:lnTo>
                    <a:lnTo>
                      <a:pt x="1017" y="7899"/>
                    </a:lnTo>
                    <a:lnTo>
                      <a:pt x="847" y="7844"/>
                    </a:lnTo>
                    <a:lnTo>
                      <a:pt x="677" y="7787"/>
                    </a:lnTo>
                    <a:lnTo>
                      <a:pt x="506" y="7731"/>
                    </a:lnTo>
                    <a:lnTo>
                      <a:pt x="337" y="7675"/>
                    </a:lnTo>
                    <a:lnTo>
                      <a:pt x="169" y="7619"/>
                    </a:lnTo>
                    <a:lnTo>
                      <a:pt x="0" y="7565"/>
                    </a:lnTo>
                    <a:lnTo>
                      <a:pt x="30" y="7327"/>
                    </a:lnTo>
                    <a:lnTo>
                      <a:pt x="61" y="7088"/>
                    </a:lnTo>
                    <a:lnTo>
                      <a:pt x="91" y="6849"/>
                    </a:lnTo>
                    <a:lnTo>
                      <a:pt x="121" y="6611"/>
                    </a:lnTo>
                    <a:lnTo>
                      <a:pt x="150" y="6373"/>
                    </a:lnTo>
                    <a:lnTo>
                      <a:pt x="181" y="6135"/>
                    </a:lnTo>
                    <a:lnTo>
                      <a:pt x="211" y="5897"/>
                    </a:lnTo>
                    <a:lnTo>
                      <a:pt x="241" y="5660"/>
                    </a:lnTo>
                    <a:lnTo>
                      <a:pt x="270" y="5422"/>
                    </a:lnTo>
                    <a:lnTo>
                      <a:pt x="301" y="5186"/>
                    </a:lnTo>
                    <a:lnTo>
                      <a:pt x="331" y="4948"/>
                    </a:lnTo>
                    <a:lnTo>
                      <a:pt x="361" y="4712"/>
                    </a:lnTo>
                    <a:lnTo>
                      <a:pt x="391" y="4476"/>
                    </a:lnTo>
                    <a:lnTo>
                      <a:pt x="422" y="4238"/>
                    </a:lnTo>
                    <a:lnTo>
                      <a:pt x="452" y="4002"/>
                    </a:lnTo>
                    <a:lnTo>
                      <a:pt x="482" y="3765"/>
                    </a:lnTo>
                    <a:lnTo>
                      <a:pt x="511" y="3529"/>
                    </a:lnTo>
                    <a:lnTo>
                      <a:pt x="540" y="3293"/>
                    </a:lnTo>
                    <a:lnTo>
                      <a:pt x="571" y="3056"/>
                    </a:lnTo>
                    <a:lnTo>
                      <a:pt x="600" y="2821"/>
                    </a:lnTo>
                    <a:lnTo>
                      <a:pt x="629" y="2585"/>
                    </a:lnTo>
                    <a:lnTo>
                      <a:pt x="658" y="2350"/>
                    </a:lnTo>
                    <a:lnTo>
                      <a:pt x="689" y="2115"/>
                    </a:lnTo>
                    <a:lnTo>
                      <a:pt x="718" y="1880"/>
                    </a:lnTo>
                    <a:lnTo>
                      <a:pt x="748" y="1644"/>
                    </a:lnTo>
                    <a:lnTo>
                      <a:pt x="777" y="1411"/>
                    </a:lnTo>
                    <a:lnTo>
                      <a:pt x="808" y="1175"/>
                    </a:lnTo>
                    <a:lnTo>
                      <a:pt x="837" y="940"/>
                    </a:lnTo>
                    <a:lnTo>
                      <a:pt x="867" y="705"/>
                    </a:lnTo>
                    <a:lnTo>
                      <a:pt x="897" y="470"/>
                    </a:lnTo>
                    <a:lnTo>
                      <a:pt x="927" y="235"/>
                    </a:lnTo>
                    <a:lnTo>
                      <a:pt x="957" y="0"/>
                    </a:lnTo>
                    <a:close/>
                  </a:path>
                </a:pathLst>
              </a:custGeom>
              <a:solidFill>
                <a:srgbClr val="a778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454800" y="1899360"/>
                <a:ext cx="865800" cy="2196360"/>
              </a:xfrm>
              <a:custGeom>
                <a:avLst/>
                <a:gdLst/>
                <a:ahLst/>
                <a:rect l="l" t="t" r="r" b="b"/>
                <a:pathLst>
                  <a:path w="2321" h="8012">
                    <a:moveTo>
                      <a:pt x="957" y="0"/>
                    </a:moveTo>
                    <a:lnTo>
                      <a:pt x="1125" y="33"/>
                    </a:lnTo>
                    <a:lnTo>
                      <a:pt x="1293" y="68"/>
                    </a:lnTo>
                    <a:lnTo>
                      <a:pt x="1463" y="101"/>
                    </a:lnTo>
                    <a:lnTo>
                      <a:pt x="1633" y="134"/>
                    </a:lnTo>
                    <a:lnTo>
                      <a:pt x="1804" y="169"/>
                    </a:lnTo>
                    <a:lnTo>
                      <a:pt x="1976" y="202"/>
                    </a:lnTo>
                    <a:lnTo>
                      <a:pt x="2148" y="236"/>
                    </a:lnTo>
                    <a:lnTo>
                      <a:pt x="2321" y="271"/>
                    </a:lnTo>
                    <a:lnTo>
                      <a:pt x="2290" y="512"/>
                    </a:lnTo>
                    <a:lnTo>
                      <a:pt x="2260" y="752"/>
                    </a:lnTo>
                    <a:lnTo>
                      <a:pt x="2231" y="993"/>
                    </a:lnTo>
                    <a:lnTo>
                      <a:pt x="2201" y="1233"/>
                    </a:lnTo>
                    <a:lnTo>
                      <a:pt x="2170" y="1475"/>
                    </a:lnTo>
                    <a:lnTo>
                      <a:pt x="2141" y="1715"/>
                    </a:lnTo>
                    <a:lnTo>
                      <a:pt x="2111" y="1956"/>
                    </a:lnTo>
                    <a:lnTo>
                      <a:pt x="2082" y="2196"/>
                    </a:lnTo>
                    <a:lnTo>
                      <a:pt x="2051" y="2437"/>
                    </a:lnTo>
                    <a:lnTo>
                      <a:pt x="2021" y="2677"/>
                    </a:lnTo>
                    <a:lnTo>
                      <a:pt x="1992" y="2918"/>
                    </a:lnTo>
                    <a:lnTo>
                      <a:pt x="1962" y="3160"/>
                    </a:lnTo>
                    <a:lnTo>
                      <a:pt x="1933" y="3401"/>
                    </a:lnTo>
                    <a:lnTo>
                      <a:pt x="1902" y="3642"/>
                    </a:lnTo>
                    <a:lnTo>
                      <a:pt x="1873" y="3884"/>
                    </a:lnTo>
                    <a:lnTo>
                      <a:pt x="1843" y="4125"/>
                    </a:lnTo>
                    <a:lnTo>
                      <a:pt x="1813" y="4367"/>
                    </a:lnTo>
                    <a:lnTo>
                      <a:pt x="1782" y="4609"/>
                    </a:lnTo>
                    <a:lnTo>
                      <a:pt x="1752" y="4851"/>
                    </a:lnTo>
                    <a:lnTo>
                      <a:pt x="1722" y="5094"/>
                    </a:lnTo>
                    <a:lnTo>
                      <a:pt x="1692" y="5336"/>
                    </a:lnTo>
                    <a:lnTo>
                      <a:pt x="1662" y="5579"/>
                    </a:lnTo>
                    <a:lnTo>
                      <a:pt x="1632" y="5821"/>
                    </a:lnTo>
                    <a:lnTo>
                      <a:pt x="1602" y="6064"/>
                    </a:lnTo>
                    <a:lnTo>
                      <a:pt x="1572" y="6306"/>
                    </a:lnTo>
                    <a:lnTo>
                      <a:pt x="1541" y="6550"/>
                    </a:lnTo>
                    <a:lnTo>
                      <a:pt x="1511" y="6794"/>
                    </a:lnTo>
                    <a:lnTo>
                      <a:pt x="1481" y="7037"/>
                    </a:lnTo>
                    <a:lnTo>
                      <a:pt x="1451" y="7281"/>
                    </a:lnTo>
                    <a:lnTo>
                      <a:pt x="1420" y="7525"/>
                    </a:lnTo>
                    <a:lnTo>
                      <a:pt x="1390" y="7768"/>
                    </a:lnTo>
                    <a:lnTo>
                      <a:pt x="1359" y="8012"/>
                    </a:lnTo>
                    <a:lnTo>
                      <a:pt x="1189" y="7956"/>
                    </a:lnTo>
                    <a:lnTo>
                      <a:pt x="1017" y="7899"/>
                    </a:lnTo>
                    <a:lnTo>
                      <a:pt x="847" y="7844"/>
                    </a:lnTo>
                    <a:lnTo>
                      <a:pt x="677" y="7787"/>
                    </a:lnTo>
                    <a:lnTo>
                      <a:pt x="506" y="7731"/>
                    </a:lnTo>
                    <a:lnTo>
                      <a:pt x="337" y="7675"/>
                    </a:lnTo>
                    <a:lnTo>
                      <a:pt x="169" y="7619"/>
                    </a:lnTo>
                    <a:lnTo>
                      <a:pt x="0" y="7565"/>
                    </a:lnTo>
                    <a:lnTo>
                      <a:pt x="30" y="7327"/>
                    </a:lnTo>
                    <a:lnTo>
                      <a:pt x="61" y="7088"/>
                    </a:lnTo>
                    <a:lnTo>
                      <a:pt x="91" y="6849"/>
                    </a:lnTo>
                    <a:lnTo>
                      <a:pt x="121" y="6611"/>
                    </a:lnTo>
                    <a:lnTo>
                      <a:pt x="150" y="6373"/>
                    </a:lnTo>
                    <a:lnTo>
                      <a:pt x="181" y="6135"/>
                    </a:lnTo>
                    <a:lnTo>
                      <a:pt x="211" y="5897"/>
                    </a:lnTo>
                    <a:lnTo>
                      <a:pt x="241" y="5660"/>
                    </a:lnTo>
                    <a:lnTo>
                      <a:pt x="270" y="5422"/>
                    </a:lnTo>
                    <a:lnTo>
                      <a:pt x="301" y="5186"/>
                    </a:lnTo>
                    <a:lnTo>
                      <a:pt x="331" y="4948"/>
                    </a:lnTo>
                    <a:lnTo>
                      <a:pt x="361" y="4712"/>
                    </a:lnTo>
                    <a:lnTo>
                      <a:pt x="391" y="4476"/>
                    </a:lnTo>
                    <a:lnTo>
                      <a:pt x="422" y="4238"/>
                    </a:lnTo>
                    <a:lnTo>
                      <a:pt x="452" y="4002"/>
                    </a:lnTo>
                    <a:lnTo>
                      <a:pt x="482" y="3765"/>
                    </a:lnTo>
                    <a:lnTo>
                      <a:pt x="511" y="3529"/>
                    </a:lnTo>
                    <a:lnTo>
                      <a:pt x="540" y="3293"/>
                    </a:lnTo>
                    <a:lnTo>
                      <a:pt x="571" y="3056"/>
                    </a:lnTo>
                    <a:lnTo>
                      <a:pt x="600" y="2821"/>
                    </a:lnTo>
                    <a:lnTo>
                      <a:pt x="629" y="2585"/>
                    </a:lnTo>
                    <a:lnTo>
                      <a:pt x="658" y="2350"/>
                    </a:lnTo>
                    <a:lnTo>
                      <a:pt x="689" y="2115"/>
                    </a:lnTo>
                    <a:lnTo>
                      <a:pt x="718" y="1880"/>
                    </a:lnTo>
                    <a:lnTo>
                      <a:pt x="748" y="1644"/>
                    </a:lnTo>
                    <a:lnTo>
                      <a:pt x="777" y="1411"/>
                    </a:lnTo>
                    <a:lnTo>
                      <a:pt x="808" y="1175"/>
                    </a:lnTo>
                    <a:lnTo>
                      <a:pt x="837" y="940"/>
                    </a:lnTo>
                    <a:lnTo>
                      <a:pt x="867" y="705"/>
                    </a:lnTo>
                    <a:lnTo>
                      <a:pt x="897" y="470"/>
                    </a:lnTo>
                    <a:lnTo>
                      <a:pt x="927" y="235"/>
                    </a:lnTo>
                    <a:lnTo>
                      <a:pt x="95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723480" y="1510200"/>
                <a:ext cx="444600" cy="1990800"/>
              </a:xfrm>
              <a:custGeom>
                <a:avLst/>
                <a:gdLst/>
                <a:ahLst/>
                <a:rect l="l" t="t" r="r" b="b"/>
                <a:pathLst>
                  <a:path w="1194" h="7262">
                    <a:moveTo>
                      <a:pt x="903" y="0"/>
                    </a:moveTo>
                    <a:lnTo>
                      <a:pt x="939" y="87"/>
                    </a:lnTo>
                    <a:lnTo>
                      <a:pt x="975" y="174"/>
                    </a:lnTo>
                    <a:lnTo>
                      <a:pt x="1011" y="261"/>
                    </a:lnTo>
                    <a:lnTo>
                      <a:pt x="1047" y="349"/>
                    </a:lnTo>
                    <a:lnTo>
                      <a:pt x="1084" y="436"/>
                    </a:lnTo>
                    <a:lnTo>
                      <a:pt x="1120" y="524"/>
                    </a:lnTo>
                    <a:lnTo>
                      <a:pt x="1156" y="611"/>
                    </a:lnTo>
                    <a:lnTo>
                      <a:pt x="1194" y="697"/>
                    </a:lnTo>
                    <a:lnTo>
                      <a:pt x="1165" y="901"/>
                    </a:lnTo>
                    <a:lnTo>
                      <a:pt x="1136" y="1105"/>
                    </a:lnTo>
                    <a:lnTo>
                      <a:pt x="1108" y="1308"/>
                    </a:lnTo>
                    <a:lnTo>
                      <a:pt x="1080" y="1511"/>
                    </a:lnTo>
                    <a:lnTo>
                      <a:pt x="1051" y="1714"/>
                    </a:lnTo>
                    <a:lnTo>
                      <a:pt x="1023" y="1918"/>
                    </a:lnTo>
                    <a:lnTo>
                      <a:pt x="994" y="2121"/>
                    </a:lnTo>
                    <a:lnTo>
                      <a:pt x="966" y="2326"/>
                    </a:lnTo>
                    <a:lnTo>
                      <a:pt x="939" y="2530"/>
                    </a:lnTo>
                    <a:lnTo>
                      <a:pt x="910" y="2734"/>
                    </a:lnTo>
                    <a:lnTo>
                      <a:pt x="882" y="2939"/>
                    </a:lnTo>
                    <a:lnTo>
                      <a:pt x="854" y="3143"/>
                    </a:lnTo>
                    <a:lnTo>
                      <a:pt x="826" y="3347"/>
                    </a:lnTo>
                    <a:lnTo>
                      <a:pt x="798" y="3553"/>
                    </a:lnTo>
                    <a:lnTo>
                      <a:pt x="769" y="3757"/>
                    </a:lnTo>
                    <a:lnTo>
                      <a:pt x="741" y="3963"/>
                    </a:lnTo>
                    <a:lnTo>
                      <a:pt x="713" y="4168"/>
                    </a:lnTo>
                    <a:lnTo>
                      <a:pt x="685" y="4373"/>
                    </a:lnTo>
                    <a:lnTo>
                      <a:pt x="655" y="4578"/>
                    </a:lnTo>
                    <a:lnTo>
                      <a:pt x="627" y="4784"/>
                    </a:lnTo>
                    <a:lnTo>
                      <a:pt x="599" y="4989"/>
                    </a:lnTo>
                    <a:lnTo>
                      <a:pt x="571" y="5196"/>
                    </a:lnTo>
                    <a:lnTo>
                      <a:pt x="541" y="5402"/>
                    </a:lnTo>
                    <a:lnTo>
                      <a:pt x="513" y="5607"/>
                    </a:lnTo>
                    <a:lnTo>
                      <a:pt x="485" y="5814"/>
                    </a:lnTo>
                    <a:lnTo>
                      <a:pt x="457" y="6021"/>
                    </a:lnTo>
                    <a:lnTo>
                      <a:pt x="428" y="6227"/>
                    </a:lnTo>
                    <a:lnTo>
                      <a:pt x="400" y="6433"/>
                    </a:lnTo>
                    <a:lnTo>
                      <a:pt x="372" y="6640"/>
                    </a:lnTo>
                    <a:lnTo>
                      <a:pt x="344" y="6848"/>
                    </a:lnTo>
                    <a:lnTo>
                      <a:pt x="316" y="7055"/>
                    </a:lnTo>
                    <a:lnTo>
                      <a:pt x="287" y="7262"/>
                    </a:lnTo>
                    <a:lnTo>
                      <a:pt x="251" y="7166"/>
                    </a:lnTo>
                    <a:lnTo>
                      <a:pt x="216" y="7071"/>
                    </a:lnTo>
                    <a:lnTo>
                      <a:pt x="180" y="6975"/>
                    </a:lnTo>
                    <a:lnTo>
                      <a:pt x="143" y="6880"/>
                    </a:lnTo>
                    <a:lnTo>
                      <a:pt x="108" y="6785"/>
                    </a:lnTo>
                    <a:lnTo>
                      <a:pt x="72" y="6691"/>
                    </a:lnTo>
                    <a:lnTo>
                      <a:pt x="35" y="6597"/>
                    </a:lnTo>
                    <a:lnTo>
                      <a:pt x="0" y="6502"/>
                    </a:lnTo>
                    <a:lnTo>
                      <a:pt x="28" y="6297"/>
                    </a:lnTo>
                    <a:lnTo>
                      <a:pt x="57" y="6092"/>
                    </a:lnTo>
                    <a:lnTo>
                      <a:pt x="85" y="5887"/>
                    </a:lnTo>
                    <a:lnTo>
                      <a:pt x="113" y="5681"/>
                    </a:lnTo>
                    <a:lnTo>
                      <a:pt x="141" y="5477"/>
                    </a:lnTo>
                    <a:lnTo>
                      <a:pt x="169" y="5273"/>
                    </a:lnTo>
                    <a:lnTo>
                      <a:pt x="198" y="5068"/>
                    </a:lnTo>
                    <a:lnTo>
                      <a:pt x="226" y="4864"/>
                    </a:lnTo>
                    <a:lnTo>
                      <a:pt x="254" y="4660"/>
                    </a:lnTo>
                    <a:lnTo>
                      <a:pt x="282" y="4456"/>
                    </a:lnTo>
                    <a:lnTo>
                      <a:pt x="312" y="4252"/>
                    </a:lnTo>
                    <a:lnTo>
                      <a:pt x="340" y="4048"/>
                    </a:lnTo>
                    <a:lnTo>
                      <a:pt x="368" y="3843"/>
                    </a:lnTo>
                    <a:lnTo>
                      <a:pt x="396" y="3640"/>
                    </a:lnTo>
                    <a:lnTo>
                      <a:pt x="424" y="3436"/>
                    </a:lnTo>
                    <a:lnTo>
                      <a:pt x="453" y="3233"/>
                    </a:lnTo>
                    <a:lnTo>
                      <a:pt x="481" y="3030"/>
                    </a:lnTo>
                    <a:lnTo>
                      <a:pt x="509" y="2827"/>
                    </a:lnTo>
                    <a:lnTo>
                      <a:pt x="537" y="2624"/>
                    </a:lnTo>
                    <a:lnTo>
                      <a:pt x="566" y="2420"/>
                    </a:lnTo>
                    <a:lnTo>
                      <a:pt x="594" y="2219"/>
                    </a:lnTo>
                    <a:lnTo>
                      <a:pt x="621" y="2015"/>
                    </a:lnTo>
                    <a:lnTo>
                      <a:pt x="649" y="1814"/>
                    </a:lnTo>
                    <a:lnTo>
                      <a:pt x="677" y="1612"/>
                    </a:lnTo>
                    <a:lnTo>
                      <a:pt x="705" y="1410"/>
                    </a:lnTo>
                    <a:lnTo>
                      <a:pt x="733" y="1209"/>
                    </a:lnTo>
                    <a:lnTo>
                      <a:pt x="761" y="1007"/>
                    </a:lnTo>
                    <a:lnTo>
                      <a:pt x="789" y="805"/>
                    </a:lnTo>
                    <a:lnTo>
                      <a:pt x="818" y="605"/>
                    </a:lnTo>
                    <a:lnTo>
                      <a:pt x="846" y="403"/>
                    </a:lnTo>
                    <a:lnTo>
                      <a:pt x="875" y="201"/>
                    </a:lnTo>
                    <a:lnTo>
                      <a:pt x="903"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23480" y="1510200"/>
                <a:ext cx="444600" cy="1990800"/>
              </a:xfrm>
              <a:custGeom>
                <a:avLst/>
                <a:gdLst/>
                <a:ahLst/>
                <a:rect l="l" t="t" r="r" b="b"/>
                <a:pathLst>
                  <a:path w="1194" h="7262">
                    <a:moveTo>
                      <a:pt x="903" y="0"/>
                    </a:moveTo>
                    <a:lnTo>
                      <a:pt x="939" y="87"/>
                    </a:lnTo>
                    <a:lnTo>
                      <a:pt x="975" y="174"/>
                    </a:lnTo>
                    <a:lnTo>
                      <a:pt x="1011" y="261"/>
                    </a:lnTo>
                    <a:lnTo>
                      <a:pt x="1047" y="349"/>
                    </a:lnTo>
                    <a:lnTo>
                      <a:pt x="1084" y="436"/>
                    </a:lnTo>
                    <a:lnTo>
                      <a:pt x="1120" y="524"/>
                    </a:lnTo>
                    <a:lnTo>
                      <a:pt x="1156" y="611"/>
                    </a:lnTo>
                    <a:lnTo>
                      <a:pt x="1194" y="697"/>
                    </a:lnTo>
                    <a:lnTo>
                      <a:pt x="1165" y="901"/>
                    </a:lnTo>
                    <a:lnTo>
                      <a:pt x="1136" y="1105"/>
                    </a:lnTo>
                    <a:lnTo>
                      <a:pt x="1108" y="1308"/>
                    </a:lnTo>
                    <a:lnTo>
                      <a:pt x="1080" y="1511"/>
                    </a:lnTo>
                    <a:lnTo>
                      <a:pt x="1051" y="1714"/>
                    </a:lnTo>
                    <a:lnTo>
                      <a:pt x="1023" y="1918"/>
                    </a:lnTo>
                    <a:lnTo>
                      <a:pt x="994" y="2121"/>
                    </a:lnTo>
                    <a:lnTo>
                      <a:pt x="966" y="2326"/>
                    </a:lnTo>
                    <a:lnTo>
                      <a:pt x="939" y="2530"/>
                    </a:lnTo>
                    <a:lnTo>
                      <a:pt x="910" y="2734"/>
                    </a:lnTo>
                    <a:lnTo>
                      <a:pt x="882" y="2939"/>
                    </a:lnTo>
                    <a:lnTo>
                      <a:pt x="854" y="3143"/>
                    </a:lnTo>
                    <a:lnTo>
                      <a:pt x="826" y="3347"/>
                    </a:lnTo>
                    <a:lnTo>
                      <a:pt x="798" y="3553"/>
                    </a:lnTo>
                    <a:lnTo>
                      <a:pt x="769" y="3757"/>
                    </a:lnTo>
                    <a:lnTo>
                      <a:pt x="741" y="3963"/>
                    </a:lnTo>
                    <a:lnTo>
                      <a:pt x="713" y="4168"/>
                    </a:lnTo>
                    <a:lnTo>
                      <a:pt x="685" y="4373"/>
                    </a:lnTo>
                    <a:lnTo>
                      <a:pt x="655" y="4578"/>
                    </a:lnTo>
                    <a:lnTo>
                      <a:pt x="627" y="4784"/>
                    </a:lnTo>
                    <a:lnTo>
                      <a:pt x="599" y="4989"/>
                    </a:lnTo>
                    <a:lnTo>
                      <a:pt x="571" y="5196"/>
                    </a:lnTo>
                    <a:lnTo>
                      <a:pt x="541" y="5402"/>
                    </a:lnTo>
                    <a:lnTo>
                      <a:pt x="513" y="5607"/>
                    </a:lnTo>
                    <a:lnTo>
                      <a:pt x="485" y="5814"/>
                    </a:lnTo>
                    <a:lnTo>
                      <a:pt x="457" y="6021"/>
                    </a:lnTo>
                    <a:lnTo>
                      <a:pt x="428" y="6227"/>
                    </a:lnTo>
                    <a:lnTo>
                      <a:pt x="400" y="6433"/>
                    </a:lnTo>
                    <a:lnTo>
                      <a:pt x="372" y="6640"/>
                    </a:lnTo>
                    <a:lnTo>
                      <a:pt x="344" y="6848"/>
                    </a:lnTo>
                    <a:lnTo>
                      <a:pt x="316" y="7055"/>
                    </a:lnTo>
                    <a:lnTo>
                      <a:pt x="287" y="7262"/>
                    </a:lnTo>
                    <a:lnTo>
                      <a:pt x="251" y="7166"/>
                    </a:lnTo>
                    <a:lnTo>
                      <a:pt x="216" y="7071"/>
                    </a:lnTo>
                    <a:lnTo>
                      <a:pt x="180" y="6975"/>
                    </a:lnTo>
                    <a:lnTo>
                      <a:pt x="143" y="6880"/>
                    </a:lnTo>
                    <a:lnTo>
                      <a:pt x="108" y="6785"/>
                    </a:lnTo>
                    <a:lnTo>
                      <a:pt x="72" y="6691"/>
                    </a:lnTo>
                    <a:lnTo>
                      <a:pt x="35" y="6597"/>
                    </a:lnTo>
                    <a:lnTo>
                      <a:pt x="0" y="6502"/>
                    </a:lnTo>
                    <a:lnTo>
                      <a:pt x="28" y="6297"/>
                    </a:lnTo>
                    <a:lnTo>
                      <a:pt x="57" y="6092"/>
                    </a:lnTo>
                    <a:lnTo>
                      <a:pt x="85" y="5887"/>
                    </a:lnTo>
                    <a:lnTo>
                      <a:pt x="113" y="5681"/>
                    </a:lnTo>
                    <a:lnTo>
                      <a:pt x="141" y="5477"/>
                    </a:lnTo>
                    <a:lnTo>
                      <a:pt x="169" y="5273"/>
                    </a:lnTo>
                    <a:lnTo>
                      <a:pt x="198" y="5068"/>
                    </a:lnTo>
                    <a:lnTo>
                      <a:pt x="226" y="4864"/>
                    </a:lnTo>
                    <a:lnTo>
                      <a:pt x="254" y="4660"/>
                    </a:lnTo>
                    <a:lnTo>
                      <a:pt x="282" y="4456"/>
                    </a:lnTo>
                    <a:lnTo>
                      <a:pt x="312" y="4252"/>
                    </a:lnTo>
                    <a:lnTo>
                      <a:pt x="340" y="4048"/>
                    </a:lnTo>
                    <a:lnTo>
                      <a:pt x="368" y="3843"/>
                    </a:lnTo>
                    <a:lnTo>
                      <a:pt x="396" y="3640"/>
                    </a:lnTo>
                    <a:lnTo>
                      <a:pt x="424" y="3436"/>
                    </a:lnTo>
                    <a:lnTo>
                      <a:pt x="453" y="3233"/>
                    </a:lnTo>
                    <a:lnTo>
                      <a:pt x="481" y="3030"/>
                    </a:lnTo>
                    <a:lnTo>
                      <a:pt x="509" y="2827"/>
                    </a:lnTo>
                    <a:lnTo>
                      <a:pt x="537" y="2624"/>
                    </a:lnTo>
                    <a:lnTo>
                      <a:pt x="566" y="2420"/>
                    </a:lnTo>
                    <a:lnTo>
                      <a:pt x="594" y="2219"/>
                    </a:lnTo>
                    <a:lnTo>
                      <a:pt x="621" y="2015"/>
                    </a:lnTo>
                    <a:lnTo>
                      <a:pt x="649" y="1814"/>
                    </a:lnTo>
                    <a:lnTo>
                      <a:pt x="677" y="1612"/>
                    </a:lnTo>
                    <a:lnTo>
                      <a:pt x="705" y="1410"/>
                    </a:lnTo>
                    <a:lnTo>
                      <a:pt x="733" y="1209"/>
                    </a:lnTo>
                    <a:lnTo>
                      <a:pt x="761" y="1007"/>
                    </a:lnTo>
                    <a:lnTo>
                      <a:pt x="789" y="805"/>
                    </a:lnTo>
                    <a:lnTo>
                      <a:pt x="818" y="605"/>
                    </a:lnTo>
                    <a:lnTo>
                      <a:pt x="846" y="403"/>
                    </a:lnTo>
                    <a:lnTo>
                      <a:pt x="875" y="201"/>
                    </a:lnTo>
                    <a:lnTo>
                      <a:pt x="90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3475800" y="3232080"/>
                <a:ext cx="353520" cy="268920"/>
              </a:xfrm>
              <a:custGeom>
                <a:avLst/>
                <a:gdLst/>
                <a:ahLst/>
                <a:rect l="l" t="t" r="r" b="b"/>
                <a:pathLst>
                  <a:path w="949" h="979">
                    <a:moveTo>
                      <a:pt x="662" y="219"/>
                    </a:moveTo>
                    <a:lnTo>
                      <a:pt x="697" y="314"/>
                    </a:lnTo>
                    <a:lnTo>
                      <a:pt x="734" y="408"/>
                    </a:lnTo>
                    <a:lnTo>
                      <a:pt x="770" y="502"/>
                    </a:lnTo>
                    <a:lnTo>
                      <a:pt x="805" y="597"/>
                    </a:lnTo>
                    <a:lnTo>
                      <a:pt x="842" y="692"/>
                    </a:lnTo>
                    <a:lnTo>
                      <a:pt x="878" y="788"/>
                    </a:lnTo>
                    <a:lnTo>
                      <a:pt x="913" y="883"/>
                    </a:lnTo>
                    <a:lnTo>
                      <a:pt x="949" y="979"/>
                    </a:lnTo>
                    <a:lnTo>
                      <a:pt x="865" y="949"/>
                    </a:lnTo>
                    <a:lnTo>
                      <a:pt x="779" y="921"/>
                    </a:lnTo>
                    <a:lnTo>
                      <a:pt x="694" y="891"/>
                    </a:lnTo>
                    <a:lnTo>
                      <a:pt x="610" y="863"/>
                    </a:lnTo>
                    <a:lnTo>
                      <a:pt x="526" y="834"/>
                    </a:lnTo>
                    <a:lnTo>
                      <a:pt x="441" y="805"/>
                    </a:lnTo>
                    <a:lnTo>
                      <a:pt x="358" y="776"/>
                    </a:lnTo>
                    <a:lnTo>
                      <a:pt x="274" y="747"/>
                    </a:lnTo>
                    <a:lnTo>
                      <a:pt x="240" y="654"/>
                    </a:lnTo>
                    <a:lnTo>
                      <a:pt x="204" y="560"/>
                    </a:lnTo>
                    <a:lnTo>
                      <a:pt x="170" y="467"/>
                    </a:lnTo>
                    <a:lnTo>
                      <a:pt x="136" y="373"/>
                    </a:lnTo>
                    <a:lnTo>
                      <a:pt x="102" y="280"/>
                    </a:lnTo>
                    <a:lnTo>
                      <a:pt x="68" y="186"/>
                    </a:lnTo>
                    <a:lnTo>
                      <a:pt x="34" y="94"/>
                    </a:lnTo>
                    <a:lnTo>
                      <a:pt x="0" y="0"/>
                    </a:lnTo>
                    <a:lnTo>
                      <a:pt x="81" y="27"/>
                    </a:lnTo>
                    <a:lnTo>
                      <a:pt x="163" y="54"/>
                    </a:lnTo>
                    <a:lnTo>
                      <a:pt x="246" y="81"/>
                    </a:lnTo>
                    <a:lnTo>
                      <a:pt x="328" y="110"/>
                    </a:lnTo>
                    <a:lnTo>
                      <a:pt x="411" y="137"/>
                    </a:lnTo>
                    <a:lnTo>
                      <a:pt x="495" y="164"/>
                    </a:lnTo>
                    <a:lnTo>
                      <a:pt x="578" y="192"/>
                    </a:lnTo>
                    <a:lnTo>
                      <a:pt x="662" y="219"/>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475800" y="3232080"/>
                <a:ext cx="353520" cy="268920"/>
              </a:xfrm>
              <a:custGeom>
                <a:avLst/>
                <a:gdLst/>
                <a:ahLst/>
                <a:rect l="l" t="t" r="r" b="b"/>
                <a:pathLst>
                  <a:path w="949" h="979">
                    <a:moveTo>
                      <a:pt x="662" y="219"/>
                    </a:moveTo>
                    <a:lnTo>
                      <a:pt x="697" y="314"/>
                    </a:lnTo>
                    <a:lnTo>
                      <a:pt x="734" y="408"/>
                    </a:lnTo>
                    <a:lnTo>
                      <a:pt x="770" y="502"/>
                    </a:lnTo>
                    <a:lnTo>
                      <a:pt x="805" y="597"/>
                    </a:lnTo>
                    <a:lnTo>
                      <a:pt x="842" y="692"/>
                    </a:lnTo>
                    <a:lnTo>
                      <a:pt x="878" y="788"/>
                    </a:lnTo>
                    <a:lnTo>
                      <a:pt x="913" y="883"/>
                    </a:lnTo>
                    <a:lnTo>
                      <a:pt x="949" y="979"/>
                    </a:lnTo>
                    <a:lnTo>
                      <a:pt x="865" y="949"/>
                    </a:lnTo>
                    <a:lnTo>
                      <a:pt x="779" y="921"/>
                    </a:lnTo>
                    <a:lnTo>
                      <a:pt x="694" y="891"/>
                    </a:lnTo>
                    <a:lnTo>
                      <a:pt x="610" y="863"/>
                    </a:lnTo>
                    <a:lnTo>
                      <a:pt x="526" y="834"/>
                    </a:lnTo>
                    <a:lnTo>
                      <a:pt x="441" y="805"/>
                    </a:lnTo>
                    <a:lnTo>
                      <a:pt x="358" y="776"/>
                    </a:lnTo>
                    <a:lnTo>
                      <a:pt x="274" y="747"/>
                    </a:lnTo>
                    <a:lnTo>
                      <a:pt x="240" y="654"/>
                    </a:lnTo>
                    <a:lnTo>
                      <a:pt x="204" y="560"/>
                    </a:lnTo>
                    <a:lnTo>
                      <a:pt x="170" y="467"/>
                    </a:lnTo>
                    <a:lnTo>
                      <a:pt x="136" y="373"/>
                    </a:lnTo>
                    <a:lnTo>
                      <a:pt x="102" y="280"/>
                    </a:lnTo>
                    <a:lnTo>
                      <a:pt x="68" y="186"/>
                    </a:lnTo>
                    <a:lnTo>
                      <a:pt x="34" y="94"/>
                    </a:lnTo>
                    <a:lnTo>
                      <a:pt x="0" y="0"/>
                    </a:lnTo>
                    <a:lnTo>
                      <a:pt x="81" y="27"/>
                    </a:lnTo>
                    <a:lnTo>
                      <a:pt x="163" y="54"/>
                    </a:lnTo>
                    <a:lnTo>
                      <a:pt x="246" y="81"/>
                    </a:lnTo>
                    <a:lnTo>
                      <a:pt x="328" y="110"/>
                    </a:lnTo>
                    <a:lnTo>
                      <a:pt x="411" y="137"/>
                    </a:lnTo>
                    <a:lnTo>
                      <a:pt x="495" y="164"/>
                    </a:lnTo>
                    <a:lnTo>
                      <a:pt x="578" y="192"/>
                    </a:lnTo>
                    <a:lnTo>
                      <a:pt x="662" y="219"/>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475800" y="1473120"/>
                <a:ext cx="583200" cy="1819080"/>
              </a:xfrm>
              <a:custGeom>
                <a:avLst/>
                <a:gdLst/>
                <a:ahLst/>
                <a:rect l="l" t="t" r="r" b="b"/>
                <a:pathLst>
                  <a:path w="1565" h="6635">
                    <a:moveTo>
                      <a:pt x="896" y="0"/>
                    </a:moveTo>
                    <a:lnTo>
                      <a:pt x="979" y="16"/>
                    </a:lnTo>
                    <a:lnTo>
                      <a:pt x="1061" y="32"/>
                    </a:lnTo>
                    <a:lnTo>
                      <a:pt x="1144" y="50"/>
                    </a:lnTo>
                    <a:lnTo>
                      <a:pt x="1228" y="66"/>
                    </a:lnTo>
                    <a:lnTo>
                      <a:pt x="1311" y="83"/>
                    </a:lnTo>
                    <a:lnTo>
                      <a:pt x="1395" y="99"/>
                    </a:lnTo>
                    <a:lnTo>
                      <a:pt x="1480" y="116"/>
                    </a:lnTo>
                    <a:lnTo>
                      <a:pt x="1565" y="133"/>
                    </a:lnTo>
                    <a:lnTo>
                      <a:pt x="1537" y="334"/>
                    </a:lnTo>
                    <a:lnTo>
                      <a:pt x="1508" y="536"/>
                    </a:lnTo>
                    <a:lnTo>
                      <a:pt x="1480" y="738"/>
                    </a:lnTo>
                    <a:lnTo>
                      <a:pt x="1451" y="938"/>
                    </a:lnTo>
                    <a:lnTo>
                      <a:pt x="1423" y="1140"/>
                    </a:lnTo>
                    <a:lnTo>
                      <a:pt x="1395" y="1342"/>
                    </a:lnTo>
                    <a:lnTo>
                      <a:pt x="1367" y="1543"/>
                    </a:lnTo>
                    <a:lnTo>
                      <a:pt x="1339" y="1745"/>
                    </a:lnTo>
                    <a:lnTo>
                      <a:pt x="1311" y="1947"/>
                    </a:lnTo>
                    <a:lnTo>
                      <a:pt x="1283" y="2148"/>
                    </a:lnTo>
                    <a:lnTo>
                      <a:pt x="1256" y="2352"/>
                    </a:lnTo>
                    <a:lnTo>
                      <a:pt x="1228" y="2553"/>
                    </a:lnTo>
                    <a:lnTo>
                      <a:pt x="1199" y="2757"/>
                    </a:lnTo>
                    <a:lnTo>
                      <a:pt x="1171" y="2960"/>
                    </a:lnTo>
                    <a:lnTo>
                      <a:pt x="1143" y="3163"/>
                    </a:lnTo>
                    <a:lnTo>
                      <a:pt x="1115" y="3366"/>
                    </a:lnTo>
                    <a:lnTo>
                      <a:pt x="1086" y="3569"/>
                    </a:lnTo>
                    <a:lnTo>
                      <a:pt x="1058" y="3773"/>
                    </a:lnTo>
                    <a:lnTo>
                      <a:pt x="1030" y="3976"/>
                    </a:lnTo>
                    <a:lnTo>
                      <a:pt x="1002" y="4181"/>
                    </a:lnTo>
                    <a:lnTo>
                      <a:pt x="974" y="4385"/>
                    </a:lnTo>
                    <a:lnTo>
                      <a:pt x="944" y="4589"/>
                    </a:lnTo>
                    <a:lnTo>
                      <a:pt x="916" y="4793"/>
                    </a:lnTo>
                    <a:lnTo>
                      <a:pt x="888" y="4997"/>
                    </a:lnTo>
                    <a:lnTo>
                      <a:pt x="860" y="5201"/>
                    </a:lnTo>
                    <a:lnTo>
                      <a:pt x="831" y="5406"/>
                    </a:lnTo>
                    <a:lnTo>
                      <a:pt x="803" y="5610"/>
                    </a:lnTo>
                    <a:lnTo>
                      <a:pt x="775" y="5814"/>
                    </a:lnTo>
                    <a:lnTo>
                      <a:pt x="747" y="6020"/>
                    </a:lnTo>
                    <a:lnTo>
                      <a:pt x="719" y="6225"/>
                    </a:lnTo>
                    <a:lnTo>
                      <a:pt x="690" y="6430"/>
                    </a:lnTo>
                    <a:lnTo>
                      <a:pt x="662" y="6635"/>
                    </a:lnTo>
                    <a:lnTo>
                      <a:pt x="578" y="6608"/>
                    </a:lnTo>
                    <a:lnTo>
                      <a:pt x="495" y="6580"/>
                    </a:lnTo>
                    <a:lnTo>
                      <a:pt x="411" y="6553"/>
                    </a:lnTo>
                    <a:lnTo>
                      <a:pt x="328" y="6526"/>
                    </a:lnTo>
                    <a:lnTo>
                      <a:pt x="246" y="6497"/>
                    </a:lnTo>
                    <a:lnTo>
                      <a:pt x="163" y="6470"/>
                    </a:lnTo>
                    <a:lnTo>
                      <a:pt x="81" y="6443"/>
                    </a:lnTo>
                    <a:lnTo>
                      <a:pt x="0" y="6416"/>
                    </a:lnTo>
                    <a:lnTo>
                      <a:pt x="28" y="6214"/>
                    </a:lnTo>
                    <a:lnTo>
                      <a:pt x="56" y="6011"/>
                    </a:lnTo>
                    <a:lnTo>
                      <a:pt x="84" y="5809"/>
                    </a:lnTo>
                    <a:lnTo>
                      <a:pt x="113" y="5607"/>
                    </a:lnTo>
                    <a:lnTo>
                      <a:pt x="141" y="5406"/>
                    </a:lnTo>
                    <a:lnTo>
                      <a:pt x="169" y="5204"/>
                    </a:lnTo>
                    <a:lnTo>
                      <a:pt x="196" y="5002"/>
                    </a:lnTo>
                    <a:lnTo>
                      <a:pt x="225" y="4800"/>
                    </a:lnTo>
                    <a:lnTo>
                      <a:pt x="253" y="4598"/>
                    </a:lnTo>
                    <a:lnTo>
                      <a:pt x="281" y="4397"/>
                    </a:lnTo>
                    <a:lnTo>
                      <a:pt x="308" y="4196"/>
                    </a:lnTo>
                    <a:lnTo>
                      <a:pt x="336" y="3995"/>
                    </a:lnTo>
                    <a:lnTo>
                      <a:pt x="365" y="3793"/>
                    </a:lnTo>
                    <a:lnTo>
                      <a:pt x="393" y="3592"/>
                    </a:lnTo>
                    <a:lnTo>
                      <a:pt x="421" y="3392"/>
                    </a:lnTo>
                    <a:lnTo>
                      <a:pt x="449" y="3190"/>
                    </a:lnTo>
                    <a:lnTo>
                      <a:pt x="478" y="2990"/>
                    </a:lnTo>
                    <a:lnTo>
                      <a:pt x="506" y="2790"/>
                    </a:lnTo>
                    <a:lnTo>
                      <a:pt x="534" y="2589"/>
                    </a:lnTo>
                    <a:lnTo>
                      <a:pt x="561" y="2390"/>
                    </a:lnTo>
                    <a:lnTo>
                      <a:pt x="590" y="2189"/>
                    </a:lnTo>
                    <a:lnTo>
                      <a:pt x="617" y="1990"/>
                    </a:lnTo>
                    <a:lnTo>
                      <a:pt x="645" y="1790"/>
                    </a:lnTo>
                    <a:lnTo>
                      <a:pt x="672" y="1591"/>
                    </a:lnTo>
                    <a:lnTo>
                      <a:pt x="700" y="1393"/>
                    </a:lnTo>
                    <a:lnTo>
                      <a:pt x="728" y="1193"/>
                    </a:lnTo>
                    <a:lnTo>
                      <a:pt x="756" y="994"/>
                    </a:lnTo>
                    <a:lnTo>
                      <a:pt x="784" y="794"/>
                    </a:lnTo>
                    <a:lnTo>
                      <a:pt x="811" y="596"/>
                    </a:lnTo>
                    <a:lnTo>
                      <a:pt x="839" y="397"/>
                    </a:lnTo>
                    <a:lnTo>
                      <a:pt x="868" y="199"/>
                    </a:lnTo>
                    <a:lnTo>
                      <a:pt x="896"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475800" y="1473120"/>
                <a:ext cx="583200" cy="1819080"/>
              </a:xfrm>
              <a:custGeom>
                <a:avLst/>
                <a:gdLst/>
                <a:ahLst/>
                <a:rect l="l" t="t" r="r" b="b"/>
                <a:pathLst>
                  <a:path w="1565" h="6635">
                    <a:moveTo>
                      <a:pt x="896" y="0"/>
                    </a:moveTo>
                    <a:lnTo>
                      <a:pt x="979" y="16"/>
                    </a:lnTo>
                    <a:lnTo>
                      <a:pt x="1061" y="32"/>
                    </a:lnTo>
                    <a:lnTo>
                      <a:pt x="1144" y="50"/>
                    </a:lnTo>
                    <a:lnTo>
                      <a:pt x="1228" y="66"/>
                    </a:lnTo>
                    <a:lnTo>
                      <a:pt x="1311" y="83"/>
                    </a:lnTo>
                    <a:lnTo>
                      <a:pt x="1395" y="99"/>
                    </a:lnTo>
                    <a:lnTo>
                      <a:pt x="1480" y="116"/>
                    </a:lnTo>
                    <a:lnTo>
                      <a:pt x="1565" y="133"/>
                    </a:lnTo>
                    <a:lnTo>
                      <a:pt x="1537" y="334"/>
                    </a:lnTo>
                    <a:lnTo>
                      <a:pt x="1508" y="536"/>
                    </a:lnTo>
                    <a:lnTo>
                      <a:pt x="1480" y="738"/>
                    </a:lnTo>
                    <a:lnTo>
                      <a:pt x="1451" y="938"/>
                    </a:lnTo>
                    <a:lnTo>
                      <a:pt x="1423" y="1140"/>
                    </a:lnTo>
                    <a:lnTo>
                      <a:pt x="1395" y="1342"/>
                    </a:lnTo>
                    <a:lnTo>
                      <a:pt x="1367" y="1543"/>
                    </a:lnTo>
                    <a:lnTo>
                      <a:pt x="1339" y="1745"/>
                    </a:lnTo>
                    <a:lnTo>
                      <a:pt x="1311" y="1947"/>
                    </a:lnTo>
                    <a:lnTo>
                      <a:pt x="1283" y="2148"/>
                    </a:lnTo>
                    <a:lnTo>
                      <a:pt x="1256" y="2352"/>
                    </a:lnTo>
                    <a:lnTo>
                      <a:pt x="1228" y="2553"/>
                    </a:lnTo>
                    <a:lnTo>
                      <a:pt x="1199" y="2757"/>
                    </a:lnTo>
                    <a:lnTo>
                      <a:pt x="1171" y="2960"/>
                    </a:lnTo>
                    <a:lnTo>
                      <a:pt x="1143" y="3163"/>
                    </a:lnTo>
                    <a:lnTo>
                      <a:pt x="1115" y="3366"/>
                    </a:lnTo>
                    <a:lnTo>
                      <a:pt x="1086" y="3569"/>
                    </a:lnTo>
                    <a:lnTo>
                      <a:pt x="1058" y="3773"/>
                    </a:lnTo>
                    <a:lnTo>
                      <a:pt x="1030" y="3976"/>
                    </a:lnTo>
                    <a:lnTo>
                      <a:pt x="1002" y="4181"/>
                    </a:lnTo>
                    <a:lnTo>
                      <a:pt x="974" y="4385"/>
                    </a:lnTo>
                    <a:lnTo>
                      <a:pt x="944" y="4589"/>
                    </a:lnTo>
                    <a:lnTo>
                      <a:pt x="916" y="4793"/>
                    </a:lnTo>
                    <a:lnTo>
                      <a:pt x="888" y="4997"/>
                    </a:lnTo>
                    <a:lnTo>
                      <a:pt x="860" y="5201"/>
                    </a:lnTo>
                    <a:lnTo>
                      <a:pt x="831" y="5406"/>
                    </a:lnTo>
                    <a:lnTo>
                      <a:pt x="803" y="5610"/>
                    </a:lnTo>
                    <a:lnTo>
                      <a:pt x="775" y="5814"/>
                    </a:lnTo>
                    <a:lnTo>
                      <a:pt x="747" y="6020"/>
                    </a:lnTo>
                    <a:lnTo>
                      <a:pt x="719" y="6225"/>
                    </a:lnTo>
                    <a:lnTo>
                      <a:pt x="690" y="6430"/>
                    </a:lnTo>
                    <a:lnTo>
                      <a:pt x="662" y="6635"/>
                    </a:lnTo>
                    <a:lnTo>
                      <a:pt x="578" y="6608"/>
                    </a:lnTo>
                    <a:lnTo>
                      <a:pt x="495" y="6580"/>
                    </a:lnTo>
                    <a:lnTo>
                      <a:pt x="411" y="6553"/>
                    </a:lnTo>
                    <a:lnTo>
                      <a:pt x="328" y="6526"/>
                    </a:lnTo>
                    <a:lnTo>
                      <a:pt x="246" y="6497"/>
                    </a:lnTo>
                    <a:lnTo>
                      <a:pt x="163" y="6470"/>
                    </a:lnTo>
                    <a:lnTo>
                      <a:pt x="81" y="6443"/>
                    </a:lnTo>
                    <a:lnTo>
                      <a:pt x="0" y="6416"/>
                    </a:lnTo>
                    <a:lnTo>
                      <a:pt x="28" y="6214"/>
                    </a:lnTo>
                    <a:lnTo>
                      <a:pt x="56" y="6011"/>
                    </a:lnTo>
                    <a:lnTo>
                      <a:pt x="84" y="5809"/>
                    </a:lnTo>
                    <a:lnTo>
                      <a:pt x="113" y="5607"/>
                    </a:lnTo>
                    <a:lnTo>
                      <a:pt x="141" y="5406"/>
                    </a:lnTo>
                    <a:lnTo>
                      <a:pt x="169" y="5204"/>
                    </a:lnTo>
                    <a:lnTo>
                      <a:pt x="196" y="5002"/>
                    </a:lnTo>
                    <a:lnTo>
                      <a:pt x="225" y="4800"/>
                    </a:lnTo>
                    <a:lnTo>
                      <a:pt x="253" y="4598"/>
                    </a:lnTo>
                    <a:lnTo>
                      <a:pt x="281" y="4397"/>
                    </a:lnTo>
                    <a:lnTo>
                      <a:pt x="308" y="4196"/>
                    </a:lnTo>
                    <a:lnTo>
                      <a:pt x="336" y="3995"/>
                    </a:lnTo>
                    <a:lnTo>
                      <a:pt x="365" y="3793"/>
                    </a:lnTo>
                    <a:lnTo>
                      <a:pt x="393" y="3592"/>
                    </a:lnTo>
                    <a:lnTo>
                      <a:pt x="421" y="3392"/>
                    </a:lnTo>
                    <a:lnTo>
                      <a:pt x="449" y="3190"/>
                    </a:lnTo>
                    <a:lnTo>
                      <a:pt x="478" y="2990"/>
                    </a:lnTo>
                    <a:lnTo>
                      <a:pt x="506" y="2790"/>
                    </a:lnTo>
                    <a:lnTo>
                      <a:pt x="534" y="2589"/>
                    </a:lnTo>
                    <a:lnTo>
                      <a:pt x="561" y="2390"/>
                    </a:lnTo>
                    <a:lnTo>
                      <a:pt x="590" y="2189"/>
                    </a:lnTo>
                    <a:lnTo>
                      <a:pt x="617" y="1990"/>
                    </a:lnTo>
                    <a:lnTo>
                      <a:pt x="645" y="1790"/>
                    </a:lnTo>
                    <a:lnTo>
                      <a:pt x="672" y="1591"/>
                    </a:lnTo>
                    <a:lnTo>
                      <a:pt x="700" y="1393"/>
                    </a:lnTo>
                    <a:lnTo>
                      <a:pt x="728" y="1193"/>
                    </a:lnTo>
                    <a:lnTo>
                      <a:pt x="756" y="994"/>
                    </a:lnTo>
                    <a:lnTo>
                      <a:pt x="784" y="794"/>
                    </a:lnTo>
                    <a:lnTo>
                      <a:pt x="811" y="596"/>
                    </a:lnTo>
                    <a:lnTo>
                      <a:pt x="839" y="397"/>
                    </a:lnTo>
                    <a:lnTo>
                      <a:pt x="868" y="199"/>
                    </a:lnTo>
                    <a:lnTo>
                      <a:pt x="89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747240" y="1503360"/>
                <a:ext cx="398520" cy="1908360"/>
              </a:xfrm>
              <a:custGeom>
                <a:avLst/>
                <a:gdLst/>
                <a:ahLst/>
                <a:rect l="l" t="t" r="r" b="b"/>
                <a:pathLst>
                  <a:path w="1066" h="6964">
                    <a:moveTo>
                      <a:pt x="917" y="0"/>
                    </a:moveTo>
                    <a:lnTo>
                      <a:pt x="935" y="39"/>
                    </a:lnTo>
                    <a:lnTo>
                      <a:pt x="954" y="80"/>
                    </a:lnTo>
                    <a:lnTo>
                      <a:pt x="972" y="119"/>
                    </a:lnTo>
                    <a:lnTo>
                      <a:pt x="991" y="160"/>
                    </a:lnTo>
                    <a:lnTo>
                      <a:pt x="1010" y="199"/>
                    </a:lnTo>
                    <a:lnTo>
                      <a:pt x="1029" y="240"/>
                    </a:lnTo>
                    <a:lnTo>
                      <a:pt x="1047" y="279"/>
                    </a:lnTo>
                    <a:lnTo>
                      <a:pt x="1066" y="318"/>
                    </a:lnTo>
                    <a:lnTo>
                      <a:pt x="1037" y="524"/>
                    </a:lnTo>
                    <a:lnTo>
                      <a:pt x="1008" y="731"/>
                    </a:lnTo>
                    <a:lnTo>
                      <a:pt x="979" y="936"/>
                    </a:lnTo>
                    <a:lnTo>
                      <a:pt x="950" y="1142"/>
                    </a:lnTo>
                    <a:lnTo>
                      <a:pt x="922" y="1347"/>
                    </a:lnTo>
                    <a:lnTo>
                      <a:pt x="893" y="1554"/>
                    </a:lnTo>
                    <a:lnTo>
                      <a:pt x="864" y="1760"/>
                    </a:lnTo>
                    <a:lnTo>
                      <a:pt x="836" y="1967"/>
                    </a:lnTo>
                    <a:lnTo>
                      <a:pt x="808" y="2172"/>
                    </a:lnTo>
                    <a:lnTo>
                      <a:pt x="780" y="2379"/>
                    </a:lnTo>
                    <a:lnTo>
                      <a:pt x="752" y="2586"/>
                    </a:lnTo>
                    <a:lnTo>
                      <a:pt x="722" y="2793"/>
                    </a:lnTo>
                    <a:lnTo>
                      <a:pt x="694" y="3001"/>
                    </a:lnTo>
                    <a:lnTo>
                      <a:pt x="666" y="3207"/>
                    </a:lnTo>
                    <a:lnTo>
                      <a:pt x="637" y="3415"/>
                    </a:lnTo>
                    <a:lnTo>
                      <a:pt x="608" y="3622"/>
                    </a:lnTo>
                    <a:lnTo>
                      <a:pt x="579" y="3830"/>
                    </a:lnTo>
                    <a:lnTo>
                      <a:pt x="550" y="4038"/>
                    </a:lnTo>
                    <a:lnTo>
                      <a:pt x="522" y="4248"/>
                    </a:lnTo>
                    <a:lnTo>
                      <a:pt x="493" y="4456"/>
                    </a:lnTo>
                    <a:lnTo>
                      <a:pt x="463" y="4664"/>
                    </a:lnTo>
                    <a:lnTo>
                      <a:pt x="434" y="4872"/>
                    </a:lnTo>
                    <a:lnTo>
                      <a:pt x="406" y="5081"/>
                    </a:lnTo>
                    <a:lnTo>
                      <a:pt x="377" y="5289"/>
                    </a:lnTo>
                    <a:lnTo>
                      <a:pt x="348" y="5498"/>
                    </a:lnTo>
                    <a:lnTo>
                      <a:pt x="320" y="5707"/>
                    </a:lnTo>
                    <a:lnTo>
                      <a:pt x="291" y="5917"/>
                    </a:lnTo>
                    <a:lnTo>
                      <a:pt x="263" y="6126"/>
                    </a:lnTo>
                    <a:lnTo>
                      <a:pt x="233" y="6335"/>
                    </a:lnTo>
                    <a:lnTo>
                      <a:pt x="204" y="6544"/>
                    </a:lnTo>
                    <a:lnTo>
                      <a:pt x="176" y="6754"/>
                    </a:lnTo>
                    <a:lnTo>
                      <a:pt x="147" y="6964"/>
                    </a:lnTo>
                    <a:lnTo>
                      <a:pt x="129" y="6920"/>
                    </a:lnTo>
                    <a:lnTo>
                      <a:pt x="110" y="6877"/>
                    </a:lnTo>
                    <a:lnTo>
                      <a:pt x="91" y="6834"/>
                    </a:lnTo>
                    <a:lnTo>
                      <a:pt x="73" y="6789"/>
                    </a:lnTo>
                    <a:lnTo>
                      <a:pt x="55" y="6746"/>
                    </a:lnTo>
                    <a:lnTo>
                      <a:pt x="37" y="6702"/>
                    </a:lnTo>
                    <a:lnTo>
                      <a:pt x="18" y="6659"/>
                    </a:lnTo>
                    <a:lnTo>
                      <a:pt x="0" y="6616"/>
                    </a:lnTo>
                    <a:lnTo>
                      <a:pt x="28" y="6407"/>
                    </a:lnTo>
                    <a:lnTo>
                      <a:pt x="57" y="6199"/>
                    </a:lnTo>
                    <a:lnTo>
                      <a:pt x="85" y="5989"/>
                    </a:lnTo>
                    <a:lnTo>
                      <a:pt x="115" y="5781"/>
                    </a:lnTo>
                    <a:lnTo>
                      <a:pt x="143" y="5573"/>
                    </a:lnTo>
                    <a:lnTo>
                      <a:pt x="172" y="5365"/>
                    </a:lnTo>
                    <a:lnTo>
                      <a:pt x="200" y="5157"/>
                    </a:lnTo>
                    <a:lnTo>
                      <a:pt x="229" y="4949"/>
                    </a:lnTo>
                    <a:lnTo>
                      <a:pt x="258" y="4741"/>
                    </a:lnTo>
                    <a:lnTo>
                      <a:pt x="287" y="4533"/>
                    </a:lnTo>
                    <a:lnTo>
                      <a:pt x="315" y="4325"/>
                    </a:lnTo>
                    <a:lnTo>
                      <a:pt x="344" y="4118"/>
                    </a:lnTo>
                    <a:lnTo>
                      <a:pt x="374" y="3910"/>
                    </a:lnTo>
                    <a:lnTo>
                      <a:pt x="402" y="3703"/>
                    </a:lnTo>
                    <a:lnTo>
                      <a:pt x="431" y="3497"/>
                    </a:lnTo>
                    <a:lnTo>
                      <a:pt x="460" y="3290"/>
                    </a:lnTo>
                    <a:lnTo>
                      <a:pt x="488" y="3083"/>
                    </a:lnTo>
                    <a:lnTo>
                      <a:pt x="517" y="2876"/>
                    </a:lnTo>
                    <a:lnTo>
                      <a:pt x="546" y="2669"/>
                    </a:lnTo>
                    <a:lnTo>
                      <a:pt x="574" y="2464"/>
                    </a:lnTo>
                    <a:lnTo>
                      <a:pt x="602" y="2257"/>
                    </a:lnTo>
                    <a:lnTo>
                      <a:pt x="631" y="2052"/>
                    </a:lnTo>
                    <a:lnTo>
                      <a:pt x="659" y="1846"/>
                    </a:lnTo>
                    <a:lnTo>
                      <a:pt x="687" y="1639"/>
                    </a:lnTo>
                    <a:lnTo>
                      <a:pt x="715" y="1435"/>
                    </a:lnTo>
                    <a:lnTo>
                      <a:pt x="745" y="1229"/>
                    </a:lnTo>
                    <a:lnTo>
                      <a:pt x="773" y="1024"/>
                    </a:lnTo>
                    <a:lnTo>
                      <a:pt x="801" y="819"/>
                    </a:lnTo>
                    <a:lnTo>
                      <a:pt x="830" y="614"/>
                    </a:lnTo>
                    <a:lnTo>
                      <a:pt x="858" y="409"/>
                    </a:lnTo>
                    <a:lnTo>
                      <a:pt x="888" y="204"/>
                    </a:lnTo>
                    <a:lnTo>
                      <a:pt x="917" y="0"/>
                    </a:lnTo>
                    <a:close/>
                  </a:path>
                </a:pathLst>
              </a:custGeom>
              <a:solidFill>
                <a:srgbClr val="3974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747240" y="1503360"/>
                <a:ext cx="398520" cy="1908360"/>
              </a:xfrm>
              <a:custGeom>
                <a:avLst/>
                <a:gdLst/>
                <a:ahLst/>
                <a:rect l="l" t="t" r="r" b="b"/>
                <a:pathLst>
                  <a:path w="1066" h="6964">
                    <a:moveTo>
                      <a:pt x="917" y="0"/>
                    </a:moveTo>
                    <a:lnTo>
                      <a:pt x="935" y="39"/>
                    </a:lnTo>
                    <a:lnTo>
                      <a:pt x="954" y="80"/>
                    </a:lnTo>
                    <a:lnTo>
                      <a:pt x="972" y="119"/>
                    </a:lnTo>
                    <a:lnTo>
                      <a:pt x="991" y="160"/>
                    </a:lnTo>
                    <a:lnTo>
                      <a:pt x="1010" y="199"/>
                    </a:lnTo>
                    <a:lnTo>
                      <a:pt x="1029" y="240"/>
                    </a:lnTo>
                    <a:lnTo>
                      <a:pt x="1047" y="279"/>
                    </a:lnTo>
                    <a:lnTo>
                      <a:pt x="1066" y="318"/>
                    </a:lnTo>
                    <a:lnTo>
                      <a:pt x="1037" y="524"/>
                    </a:lnTo>
                    <a:lnTo>
                      <a:pt x="1008" y="731"/>
                    </a:lnTo>
                    <a:lnTo>
                      <a:pt x="979" y="936"/>
                    </a:lnTo>
                    <a:lnTo>
                      <a:pt x="950" y="1142"/>
                    </a:lnTo>
                    <a:lnTo>
                      <a:pt x="922" y="1347"/>
                    </a:lnTo>
                    <a:lnTo>
                      <a:pt x="893" y="1554"/>
                    </a:lnTo>
                    <a:lnTo>
                      <a:pt x="864" y="1760"/>
                    </a:lnTo>
                    <a:lnTo>
                      <a:pt x="836" y="1967"/>
                    </a:lnTo>
                    <a:lnTo>
                      <a:pt x="808" y="2172"/>
                    </a:lnTo>
                    <a:lnTo>
                      <a:pt x="780" y="2379"/>
                    </a:lnTo>
                    <a:lnTo>
                      <a:pt x="752" y="2586"/>
                    </a:lnTo>
                    <a:lnTo>
                      <a:pt x="722" y="2793"/>
                    </a:lnTo>
                    <a:lnTo>
                      <a:pt x="694" y="3001"/>
                    </a:lnTo>
                    <a:lnTo>
                      <a:pt x="666" y="3207"/>
                    </a:lnTo>
                    <a:lnTo>
                      <a:pt x="637" y="3415"/>
                    </a:lnTo>
                    <a:lnTo>
                      <a:pt x="608" y="3622"/>
                    </a:lnTo>
                    <a:lnTo>
                      <a:pt x="579" y="3830"/>
                    </a:lnTo>
                    <a:lnTo>
                      <a:pt x="550" y="4038"/>
                    </a:lnTo>
                    <a:lnTo>
                      <a:pt x="522" y="4248"/>
                    </a:lnTo>
                    <a:lnTo>
                      <a:pt x="493" y="4456"/>
                    </a:lnTo>
                    <a:lnTo>
                      <a:pt x="463" y="4664"/>
                    </a:lnTo>
                    <a:lnTo>
                      <a:pt x="434" y="4872"/>
                    </a:lnTo>
                    <a:lnTo>
                      <a:pt x="406" y="5081"/>
                    </a:lnTo>
                    <a:lnTo>
                      <a:pt x="377" y="5289"/>
                    </a:lnTo>
                    <a:lnTo>
                      <a:pt x="348" y="5498"/>
                    </a:lnTo>
                    <a:lnTo>
                      <a:pt x="320" y="5707"/>
                    </a:lnTo>
                    <a:lnTo>
                      <a:pt x="291" y="5917"/>
                    </a:lnTo>
                    <a:lnTo>
                      <a:pt x="263" y="6126"/>
                    </a:lnTo>
                    <a:lnTo>
                      <a:pt x="233" y="6335"/>
                    </a:lnTo>
                    <a:lnTo>
                      <a:pt x="204" y="6544"/>
                    </a:lnTo>
                    <a:lnTo>
                      <a:pt x="176" y="6754"/>
                    </a:lnTo>
                    <a:lnTo>
                      <a:pt x="147" y="6964"/>
                    </a:lnTo>
                    <a:lnTo>
                      <a:pt x="129" y="6920"/>
                    </a:lnTo>
                    <a:lnTo>
                      <a:pt x="110" y="6877"/>
                    </a:lnTo>
                    <a:lnTo>
                      <a:pt x="91" y="6834"/>
                    </a:lnTo>
                    <a:lnTo>
                      <a:pt x="73" y="6789"/>
                    </a:lnTo>
                    <a:lnTo>
                      <a:pt x="55" y="6746"/>
                    </a:lnTo>
                    <a:lnTo>
                      <a:pt x="37" y="6702"/>
                    </a:lnTo>
                    <a:lnTo>
                      <a:pt x="18" y="6659"/>
                    </a:lnTo>
                    <a:lnTo>
                      <a:pt x="0" y="6616"/>
                    </a:lnTo>
                    <a:lnTo>
                      <a:pt x="28" y="6407"/>
                    </a:lnTo>
                    <a:lnTo>
                      <a:pt x="57" y="6199"/>
                    </a:lnTo>
                    <a:lnTo>
                      <a:pt x="85" y="5989"/>
                    </a:lnTo>
                    <a:lnTo>
                      <a:pt x="115" y="5781"/>
                    </a:lnTo>
                    <a:lnTo>
                      <a:pt x="143" y="5573"/>
                    </a:lnTo>
                    <a:lnTo>
                      <a:pt x="172" y="5365"/>
                    </a:lnTo>
                    <a:lnTo>
                      <a:pt x="200" y="5157"/>
                    </a:lnTo>
                    <a:lnTo>
                      <a:pt x="229" y="4949"/>
                    </a:lnTo>
                    <a:lnTo>
                      <a:pt x="258" y="4741"/>
                    </a:lnTo>
                    <a:lnTo>
                      <a:pt x="287" y="4533"/>
                    </a:lnTo>
                    <a:lnTo>
                      <a:pt x="315" y="4325"/>
                    </a:lnTo>
                    <a:lnTo>
                      <a:pt x="344" y="4118"/>
                    </a:lnTo>
                    <a:lnTo>
                      <a:pt x="374" y="3910"/>
                    </a:lnTo>
                    <a:lnTo>
                      <a:pt x="402" y="3703"/>
                    </a:lnTo>
                    <a:lnTo>
                      <a:pt x="431" y="3497"/>
                    </a:lnTo>
                    <a:lnTo>
                      <a:pt x="460" y="3290"/>
                    </a:lnTo>
                    <a:lnTo>
                      <a:pt x="488" y="3083"/>
                    </a:lnTo>
                    <a:lnTo>
                      <a:pt x="517" y="2876"/>
                    </a:lnTo>
                    <a:lnTo>
                      <a:pt x="546" y="2669"/>
                    </a:lnTo>
                    <a:lnTo>
                      <a:pt x="574" y="2464"/>
                    </a:lnTo>
                    <a:lnTo>
                      <a:pt x="602" y="2257"/>
                    </a:lnTo>
                    <a:lnTo>
                      <a:pt x="631" y="2052"/>
                    </a:lnTo>
                    <a:lnTo>
                      <a:pt x="659" y="1846"/>
                    </a:lnTo>
                    <a:lnTo>
                      <a:pt x="687" y="1639"/>
                    </a:lnTo>
                    <a:lnTo>
                      <a:pt x="715" y="1435"/>
                    </a:lnTo>
                    <a:lnTo>
                      <a:pt x="745" y="1229"/>
                    </a:lnTo>
                    <a:lnTo>
                      <a:pt x="773" y="1024"/>
                    </a:lnTo>
                    <a:lnTo>
                      <a:pt x="801" y="819"/>
                    </a:lnTo>
                    <a:lnTo>
                      <a:pt x="830" y="614"/>
                    </a:lnTo>
                    <a:lnTo>
                      <a:pt x="858" y="409"/>
                    </a:lnTo>
                    <a:lnTo>
                      <a:pt x="888" y="204"/>
                    </a:lnTo>
                    <a:lnTo>
                      <a:pt x="91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374280" y="3227040"/>
                <a:ext cx="428040" cy="184680"/>
              </a:xfrm>
              <a:custGeom>
                <a:avLst/>
                <a:gdLst/>
                <a:ahLst/>
                <a:rect l="l" t="t" r="r" b="b"/>
                <a:pathLst>
                  <a:path w="1148" h="679">
                    <a:moveTo>
                      <a:pt x="1001" y="331"/>
                    </a:moveTo>
                    <a:lnTo>
                      <a:pt x="1019" y="374"/>
                    </a:lnTo>
                    <a:lnTo>
                      <a:pt x="1038" y="417"/>
                    </a:lnTo>
                    <a:lnTo>
                      <a:pt x="1056" y="461"/>
                    </a:lnTo>
                    <a:lnTo>
                      <a:pt x="1074" y="504"/>
                    </a:lnTo>
                    <a:lnTo>
                      <a:pt x="1092" y="549"/>
                    </a:lnTo>
                    <a:lnTo>
                      <a:pt x="1111" y="592"/>
                    </a:lnTo>
                    <a:lnTo>
                      <a:pt x="1130" y="635"/>
                    </a:lnTo>
                    <a:lnTo>
                      <a:pt x="1148" y="679"/>
                    </a:lnTo>
                    <a:lnTo>
                      <a:pt x="1020" y="636"/>
                    </a:lnTo>
                    <a:lnTo>
                      <a:pt x="893" y="593"/>
                    </a:lnTo>
                    <a:lnTo>
                      <a:pt x="766" y="550"/>
                    </a:lnTo>
                    <a:lnTo>
                      <a:pt x="639" y="508"/>
                    </a:lnTo>
                    <a:lnTo>
                      <a:pt x="513" y="466"/>
                    </a:lnTo>
                    <a:lnTo>
                      <a:pt x="388" y="423"/>
                    </a:lnTo>
                    <a:lnTo>
                      <a:pt x="264" y="381"/>
                    </a:lnTo>
                    <a:lnTo>
                      <a:pt x="140" y="341"/>
                    </a:lnTo>
                    <a:lnTo>
                      <a:pt x="122" y="298"/>
                    </a:lnTo>
                    <a:lnTo>
                      <a:pt x="104" y="255"/>
                    </a:lnTo>
                    <a:lnTo>
                      <a:pt x="86" y="213"/>
                    </a:lnTo>
                    <a:lnTo>
                      <a:pt x="69" y="170"/>
                    </a:lnTo>
                    <a:lnTo>
                      <a:pt x="51" y="128"/>
                    </a:lnTo>
                    <a:lnTo>
                      <a:pt x="34" y="85"/>
                    </a:lnTo>
                    <a:lnTo>
                      <a:pt x="17" y="43"/>
                    </a:lnTo>
                    <a:lnTo>
                      <a:pt x="0" y="0"/>
                    </a:lnTo>
                    <a:lnTo>
                      <a:pt x="124" y="40"/>
                    </a:lnTo>
                    <a:lnTo>
                      <a:pt x="248" y="81"/>
                    </a:lnTo>
                    <a:lnTo>
                      <a:pt x="372" y="123"/>
                    </a:lnTo>
                    <a:lnTo>
                      <a:pt x="497" y="163"/>
                    </a:lnTo>
                    <a:lnTo>
                      <a:pt x="623" y="205"/>
                    </a:lnTo>
                    <a:lnTo>
                      <a:pt x="748" y="247"/>
                    </a:lnTo>
                    <a:lnTo>
                      <a:pt x="874" y="289"/>
                    </a:lnTo>
                    <a:lnTo>
                      <a:pt x="1001" y="331"/>
                    </a:lnTo>
                    <a:close/>
                  </a:path>
                </a:pathLst>
              </a:custGeom>
              <a:solidFill>
                <a:srgbClr val="3f44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374280" y="3227040"/>
                <a:ext cx="428040" cy="184680"/>
              </a:xfrm>
              <a:custGeom>
                <a:avLst/>
                <a:gdLst/>
                <a:ahLst/>
                <a:rect l="l" t="t" r="r" b="b"/>
                <a:pathLst>
                  <a:path w="1148" h="679">
                    <a:moveTo>
                      <a:pt x="1001" y="331"/>
                    </a:moveTo>
                    <a:lnTo>
                      <a:pt x="1019" y="374"/>
                    </a:lnTo>
                    <a:lnTo>
                      <a:pt x="1038" y="417"/>
                    </a:lnTo>
                    <a:lnTo>
                      <a:pt x="1056" y="461"/>
                    </a:lnTo>
                    <a:lnTo>
                      <a:pt x="1074" y="504"/>
                    </a:lnTo>
                    <a:lnTo>
                      <a:pt x="1092" y="549"/>
                    </a:lnTo>
                    <a:lnTo>
                      <a:pt x="1111" y="592"/>
                    </a:lnTo>
                    <a:lnTo>
                      <a:pt x="1130" y="635"/>
                    </a:lnTo>
                    <a:lnTo>
                      <a:pt x="1148" y="679"/>
                    </a:lnTo>
                    <a:lnTo>
                      <a:pt x="1020" y="636"/>
                    </a:lnTo>
                    <a:lnTo>
                      <a:pt x="893" y="593"/>
                    </a:lnTo>
                    <a:lnTo>
                      <a:pt x="766" y="550"/>
                    </a:lnTo>
                    <a:lnTo>
                      <a:pt x="639" y="508"/>
                    </a:lnTo>
                    <a:lnTo>
                      <a:pt x="513" y="466"/>
                    </a:lnTo>
                    <a:lnTo>
                      <a:pt x="388" y="423"/>
                    </a:lnTo>
                    <a:lnTo>
                      <a:pt x="264" y="381"/>
                    </a:lnTo>
                    <a:lnTo>
                      <a:pt x="140" y="341"/>
                    </a:lnTo>
                    <a:lnTo>
                      <a:pt x="122" y="298"/>
                    </a:lnTo>
                    <a:lnTo>
                      <a:pt x="104" y="255"/>
                    </a:lnTo>
                    <a:lnTo>
                      <a:pt x="86" y="213"/>
                    </a:lnTo>
                    <a:lnTo>
                      <a:pt x="69" y="170"/>
                    </a:lnTo>
                    <a:lnTo>
                      <a:pt x="51" y="128"/>
                    </a:lnTo>
                    <a:lnTo>
                      <a:pt x="34" y="85"/>
                    </a:lnTo>
                    <a:lnTo>
                      <a:pt x="17" y="43"/>
                    </a:lnTo>
                    <a:lnTo>
                      <a:pt x="0" y="0"/>
                    </a:lnTo>
                    <a:lnTo>
                      <a:pt x="124" y="40"/>
                    </a:lnTo>
                    <a:lnTo>
                      <a:pt x="248" y="81"/>
                    </a:lnTo>
                    <a:lnTo>
                      <a:pt x="372" y="123"/>
                    </a:lnTo>
                    <a:lnTo>
                      <a:pt x="497" y="163"/>
                    </a:lnTo>
                    <a:lnTo>
                      <a:pt x="623" y="205"/>
                    </a:lnTo>
                    <a:lnTo>
                      <a:pt x="748" y="247"/>
                    </a:lnTo>
                    <a:lnTo>
                      <a:pt x="874" y="289"/>
                    </a:lnTo>
                    <a:lnTo>
                      <a:pt x="1001" y="331"/>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3374280" y="1446840"/>
                <a:ext cx="714600" cy="1870200"/>
              </a:xfrm>
              <a:custGeom>
                <a:avLst/>
                <a:gdLst/>
                <a:ahLst/>
                <a:rect l="l" t="t" r="r" b="b"/>
                <a:pathLst>
                  <a:path w="1918" h="6817">
                    <a:moveTo>
                      <a:pt x="909" y="0"/>
                    </a:moveTo>
                    <a:lnTo>
                      <a:pt x="1033" y="25"/>
                    </a:lnTo>
                    <a:lnTo>
                      <a:pt x="1158" y="49"/>
                    </a:lnTo>
                    <a:lnTo>
                      <a:pt x="1283" y="75"/>
                    </a:lnTo>
                    <a:lnTo>
                      <a:pt x="1409" y="100"/>
                    </a:lnTo>
                    <a:lnTo>
                      <a:pt x="1536" y="124"/>
                    </a:lnTo>
                    <a:lnTo>
                      <a:pt x="1663" y="150"/>
                    </a:lnTo>
                    <a:lnTo>
                      <a:pt x="1790" y="175"/>
                    </a:lnTo>
                    <a:lnTo>
                      <a:pt x="1918" y="201"/>
                    </a:lnTo>
                    <a:lnTo>
                      <a:pt x="1889" y="405"/>
                    </a:lnTo>
                    <a:lnTo>
                      <a:pt x="1859" y="610"/>
                    </a:lnTo>
                    <a:lnTo>
                      <a:pt x="1831" y="815"/>
                    </a:lnTo>
                    <a:lnTo>
                      <a:pt x="1802" y="1020"/>
                    </a:lnTo>
                    <a:lnTo>
                      <a:pt x="1774" y="1225"/>
                    </a:lnTo>
                    <a:lnTo>
                      <a:pt x="1746" y="1430"/>
                    </a:lnTo>
                    <a:lnTo>
                      <a:pt x="1716" y="1636"/>
                    </a:lnTo>
                    <a:lnTo>
                      <a:pt x="1688" y="1840"/>
                    </a:lnTo>
                    <a:lnTo>
                      <a:pt x="1660" y="2047"/>
                    </a:lnTo>
                    <a:lnTo>
                      <a:pt x="1632" y="2253"/>
                    </a:lnTo>
                    <a:lnTo>
                      <a:pt x="1603" y="2458"/>
                    </a:lnTo>
                    <a:lnTo>
                      <a:pt x="1575" y="2665"/>
                    </a:lnTo>
                    <a:lnTo>
                      <a:pt x="1547" y="2870"/>
                    </a:lnTo>
                    <a:lnTo>
                      <a:pt x="1518" y="3077"/>
                    </a:lnTo>
                    <a:lnTo>
                      <a:pt x="1489" y="3284"/>
                    </a:lnTo>
                    <a:lnTo>
                      <a:pt x="1461" y="3491"/>
                    </a:lnTo>
                    <a:lnTo>
                      <a:pt x="1432" y="3698"/>
                    </a:lnTo>
                    <a:lnTo>
                      <a:pt x="1403" y="3904"/>
                    </a:lnTo>
                    <a:lnTo>
                      <a:pt x="1375" y="4111"/>
                    </a:lnTo>
                    <a:lnTo>
                      <a:pt x="1345" y="4319"/>
                    </a:lnTo>
                    <a:lnTo>
                      <a:pt x="1316" y="4526"/>
                    </a:lnTo>
                    <a:lnTo>
                      <a:pt x="1288" y="4734"/>
                    </a:lnTo>
                    <a:lnTo>
                      <a:pt x="1259" y="4942"/>
                    </a:lnTo>
                    <a:lnTo>
                      <a:pt x="1230" y="5150"/>
                    </a:lnTo>
                    <a:lnTo>
                      <a:pt x="1201" y="5358"/>
                    </a:lnTo>
                    <a:lnTo>
                      <a:pt x="1173" y="5566"/>
                    </a:lnTo>
                    <a:lnTo>
                      <a:pt x="1144" y="5774"/>
                    </a:lnTo>
                    <a:lnTo>
                      <a:pt x="1116" y="5982"/>
                    </a:lnTo>
                    <a:lnTo>
                      <a:pt x="1086" y="6190"/>
                    </a:lnTo>
                    <a:lnTo>
                      <a:pt x="1058" y="6400"/>
                    </a:lnTo>
                    <a:lnTo>
                      <a:pt x="1029" y="6608"/>
                    </a:lnTo>
                    <a:lnTo>
                      <a:pt x="1001" y="6817"/>
                    </a:lnTo>
                    <a:lnTo>
                      <a:pt x="874" y="6775"/>
                    </a:lnTo>
                    <a:lnTo>
                      <a:pt x="748" y="6733"/>
                    </a:lnTo>
                    <a:lnTo>
                      <a:pt x="623" y="6691"/>
                    </a:lnTo>
                    <a:lnTo>
                      <a:pt x="497" y="6649"/>
                    </a:lnTo>
                    <a:lnTo>
                      <a:pt x="372" y="6609"/>
                    </a:lnTo>
                    <a:lnTo>
                      <a:pt x="248" y="6567"/>
                    </a:lnTo>
                    <a:lnTo>
                      <a:pt x="124" y="6526"/>
                    </a:lnTo>
                    <a:lnTo>
                      <a:pt x="0" y="6486"/>
                    </a:lnTo>
                    <a:lnTo>
                      <a:pt x="28" y="6281"/>
                    </a:lnTo>
                    <a:lnTo>
                      <a:pt x="56" y="6077"/>
                    </a:lnTo>
                    <a:lnTo>
                      <a:pt x="85" y="5873"/>
                    </a:lnTo>
                    <a:lnTo>
                      <a:pt x="115" y="5668"/>
                    </a:lnTo>
                    <a:lnTo>
                      <a:pt x="143" y="5464"/>
                    </a:lnTo>
                    <a:lnTo>
                      <a:pt x="172" y="5260"/>
                    </a:lnTo>
                    <a:lnTo>
                      <a:pt x="201" y="5055"/>
                    </a:lnTo>
                    <a:lnTo>
                      <a:pt x="229" y="4851"/>
                    </a:lnTo>
                    <a:lnTo>
                      <a:pt x="258" y="4648"/>
                    </a:lnTo>
                    <a:lnTo>
                      <a:pt x="287" y="4445"/>
                    </a:lnTo>
                    <a:lnTo>
                      <a:pt x="315" y="4241"/>
                    </a:lnTo>
                    <a:lnTo>
                      <a:pt x="343" y="4037"/>
                    </a:lnTo>
                    <a:lnTo>
                      <a:pt x="372" y="3834"/>
                    </a:lnTo>
                    <a:lnTo>
                      <a:pt x="400" y="3631"/>
                    </a:lnTo>
                    <a:lnTo>
                      <a:pt x="429" y="3428"/>
                    </a:lnTo>
                    <a:lnTo>
                      <a:pt x="457" y="3225"/>
                    </a:lnTo>
                    <a:lnTo>
                      <a:pt x="486" y="3023"/>
                    </a:lnTo>
                    <a:lnTo>
                      <a:pt x="514" y="2820"/>
                    </a:lnTo>
                    <a:lnTo>
                      <a:pt x="542" y="2618"/>
                    </a:lnTo>
                    <a:lnTo>
                      <a:pt x="570" y="2415"/>
                    </a:lnTo>
                    <a:lnTo>
                      <a:pt x="598" y="2213"/>
                    </a:lnTo>
                    <a:lnTo>
                      <a:pt x="627" y="2011"/>
                    </a:lnTo>
                    <a:lnTo>
                      <a:pt x="655" y="1809"/>
                    </a:lnTo>
                    <a:lnTo>
                      <a:pt x="683" y="1609"/>
                    </a:lnTo>
                    <a:lnTo>
                      <a:pt x="711" y="1407"/>
                    </a:lnTo>
                    <a:lnTo>
                      <a:pt x="740" y="1206"/>
                    </a:lnTo>
                    <a:lnTo>
                      <a:pt x="768" y="1006"/>
                    </a:lnTo>
                    <a:lnTo>
                      <a:pt x="796" y="804"/>
                    </a:lnTo>
                    <a:lnTo>
                      <a:pt x="824" y="603"/>
                    </a:lnTo>
                    <a:lnTo>
                      <a:pt x="852" y="402"/>
                    </a:lnTo>
                    <a:lnTo>
                      <a:pt x="881" y="201"/>
                    </a:lnTo>
                    <a:lnTo>
                      <a:pt x="909" y="0"/>
                    </a:lnTo>
                    <a:close/>
                  </a:path>
                </a:pathLst>
              </a:custGeom>
              <a:solidFill>
                <a:srgbClr val="2b7f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374280" y="1446840"/>
                <a:ext cx="714600" cy="1870200"/>
              </a:xfrm>
              <a:custGeom>
                <a:avLst/>
                <a:gdLst/>
                <a:ahLst/>
                <a:rect l="l" t="t" r="r" b="b"/>
                <a:pathLst>
                  <a:path w="1918" h="6817">
                    <a:moveTo>
                      <a:pt x="909" y="0"/>
                    </a:moveTo>
                    <a:lnTo>
                      <a:pt x="1033" y="25"/>
                    </a:lnTo>
                    <a:lnTo>
                      <a:pt x="1158" y="49"/>
                    </a:lnTo>
                    <a:lnTo>
                      <a:pt x="1283" y="75"/>
                    </a:lnTo>
                    <a:lnTo>
                      <a:pt x="1409" y="100"/>
                    </a:lnTo>
                    <a:lnTo>
                      <a:pt x="1536" y="124"/>
                    </a:lnTo>
                    <a:lnTo>
                      <a:pt x="1663" y="150"/>
                    </a:lnTo>
                    <a:lnTo>
                      <a:pt x="1790" y="175"/>
                    </a:lnTo>
                    <a:lnTo>
                      <a:pt x="1918" y="201"/>
                    </a:lnTo>
                    <a:lnTo>
                      <a:pt x="1889" y="405"/>
                    </a:lnTo>
                    <a:lnTo>
                      <a:pt x="1859" y="610"/>
                    </a:lnTo>
                    <a:lnTo>
                      <a:pt x="1831" y="815"/>
                    </a:lnTo>
                    <a:lnTo>
                      <a:pt x="1802" y="1020"/>
                    </a:lnTo>
                    <a:lnTo>
                      <a:pt x="1774" y="1225"/>
                    </a:lnTo>
                    <a:lnTo>
                      <a:pt x="1746" y="1430"/>
                    </a:lnTo>
                    <a:lnTo>
                      <a:pt x="1716" y="1636"/>
                    </a:lnTo>
                    <a:lnTo>
                      <a:pt x="1688" y="1840"/>
                    </a:lnTo>
                    <a:lnTo>
                      <a:pt x="1660" y="2047"/>
                    </a:lnTo>
                    <a:lnTo>
                      <a:pt x="1632" y="2253"/>
                    </a:lnTo>
                    <a:lnTo>
                      <a:pt x="1603" y="2458"/>
                    </a:lnTo>
                    <a:lnTo>
                      <a:pt x="1575" y="2665"/>
                    </a:lnTo>
                    <a:lnTo>
                      <a:pt x="1547" y="2870"/>
                    </a:lnTo>
                    <a:lnTo>
                      <a:pt x="1518" y="3077"/>
                    </a:lnTo>
                    <a:lnTo>
                      <a:pt x="1489" y="3284"/>
                    </a:lnTo>
                    <a:lnTo>
                      <a:pt x="1461" y="3491"/>
                    </a:lnTo>
                    <a:lnTo>
                      <a:pt x="1432" y="3698"/>
                    </a:lnTo>
                    <a:lnTo>
                      <a:pt x="1403" y="3904"/>
                    </a:lnTo>
                    <a:lnTo>
                      <a:pt x="1375" y="4111"/>
                    </a:lnTo>
                    <a:lnTo>
                      <a:pt x="1345" y="4319"/>
                    </a:lnTo>
                    <a:lnTo>
                      <a:pt x="1316" y="4526"/>
                    </a:lnTo>
                    <a:lnTo>
                      <a:pt x="1288" y="4734"/>
                    </a:lnTo>
                    <a:lnTo>
                      <a:pt x="1259" y="4942"/>
                    </a:lnTo>
                    <a:lnTo>
                      <a:pt x="1230" y="5150"/>
                    </a:lnTo>
                    <a:lnTo>
                      <a:pt x="1201" y="5358"/>
                    </a:lnTo>
                    <a:lnTo>
                      <a:pt x="1173" y="5566"/>
                    </a:lnTo>
                    <a:lnTo>
                      <a:pt x="1144" y="5774"/>
                    </a:lnTo>
                    <a:lnTo>
                      <a:pt x="1116" y="5982"/>
                    </a:lnTo>
                    <a:lnTo>
                      <a:pt x="1086" y="6190"/>
                    </a:lnTo>
                    <a:lnTo>
                      <a:pt x="1058" y="6400"/>
                    </a:lnTo>
                    <a:lnTo>
                      <a:pt x="1029" y="6608"/>
                    </a:lnTo>
                    <a:lnTo>
                      <a:pt x="1001" y="6817"/>
                    </a:lnTo>
                    <a:lnTo>
                      <a:pt x="874" y="6775"/>
                    </a:lnTo>
                    <a:lnTo>
                      <a:pt x="748" y="6733"/>
                    </a:lnTo>
                    <a:lnTo>
                      <a:pt x="623" y="6691"/>
                    </a:lnTo>
                    <a:lnTo>
                      <a:pt x="497" y="6649"/>
                    </a:lnTo>
                    <a:lnTo>
                      <a:pt x="372" y="6609"/>
                    </a:lnTo>
                    <a:lnTo>
                      <a:pt x="248" y="6567"/>
                    </a:lnTo>
                    <a:lnTo>
                      <a:pt x="124" y="6526"/>
                    </a:lnTo>
                    <a:lnTo>
                      <a:pt x="0" y="6486"/>
                    </a:lnTo>
                    <a:lnTo>
                      <a:pt x="28" y="6281"/>
                    </a:lnTo>
                    <a:lnTo>
                      <a:pt x="56" y="6077"/>
                    </a:lnTo>
                    <a:lnTo>
                      <a:pt x="85" y="5873"/>
                    </a:lnTo>
                    <a:lnTo>
                      <a:pt x="115" y="5668"/>
                    </a:lnTo>
                    <a:lnTo>
                      <a:pt x="143" y="5464"/>
                    </a:lnTo>
                    <a:lnTo>
                      <a:pt x="172" y="5260"/>
                    </a:lnTo>
                    <a:lnTo>
                      <a:pt x="201" y="5055"/>
                    </a:lnTo>
                    <a:lnTo>
                      <a:pt x="229" y="4851"/>
                    </a:lnTo>
                    <a:lnTo>
                      <a:pt x="258" y="4648"/>
                    </a:lnTo>
                    <a:lnTo>
                      <a:pt x="287" y="4445"/>
                    </a:lnTo>
                    <a:lnTo>
                      <a:pt x="315" y="4241"/>
                    </a:lnTo>
                    <a:lnTo>
                      <a:pt x="343" y="4037"/>
                    </a:lnTo>
                    <a:lnTo>
                      <a:pt x="372" y="3834"/>
                    </a:lnTo>
                    <a:lnTo>
                      <a:pt x="400" y="3631"/>
                    </a:lnTo>
                    <a:lnTo>
                      <a:pt x="429" y="3428"/>
                    </a:lnTo>
                    <a:lnTo>
                      <a:pt x="457" y="3225"/>
                    </a:lnTo>
                    <a:lnTo>
                      <a:pt x="486" y="3023"/>
                    </a:lnTo>
                    <a:lnTo>
                      <a:pt x="514" y="2820"/>
                    </a:lnTo>
                    <a:lnTo>
                      <a:pt x="542" y="2618"/>
                    </a:lnTo>
                    <a:lnTo>
                      <a:pt x="570" y="2415"/>
                    </a:lnTo>
                    <a:lnTo>
                      <a:pt x="598" y="2213"/>
                    </a:lnTo>
                    <a:lnTo>
                      <a:pt x="627" y="2011"/>
                    </a:lnTo>
                    <a:lnTo>
                      <a:pt x="655" y="1809"/>
                    </a:lnTo>
                    <a:lnTo>
                      <a:pt x="683" y="1609"/>
                    </a:lnTo>
                    <a:lnTo>
                      <a:pt x="711" y="1407"/>
                    </a:lnTo>
                    <a:lnTo>
                      <a:pt x="740" y="1206"/>
                    </a:lnTo>
                    <a:lnTo>
                      <a:pt x="768" y="1006"/>
                    </a:lnTo>
                    <a:lnTo>
                      <a:pt x="796" y="804"/>
                    </a:lnTo>
                    <a:lnTo>
                      <a:pt x="824" y="603"/>
                    </a:lnTo>
                    <a:lnTo>
                      <a:pt x="852" y="402"/>
                    </a:lnTo>
                    <a:lnTo>
                      <a:pt x="881" y="201"/>
                    </a:lnTo>
                    <a:lnTo>
                      <a:pt x="909"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204240" y="1874880"/>
                <a:ext cx="495360" cy="2257920"/>
              </a:xfrm>
              <a:custGeom>
                <a:avLst/>
                <a:gdLst/>
                <a:ahLst/>
                <a:rect l="l" t="t" r="r" b="b"/>
                <a:pathLst>
                  <a:path w="1327" h="8234">
                    <a:moveTo>
                      <a:pt x="937" y="0"/>
                    </a:moveTo>
                    <a:lnTo>
                      <a:pt x="987" y="100"/>
                    </a:lnTo>
                    <a:lnTo>
                      <a:pt x="1035" y="201"/>
                    </a:lnTo>
                    <a:lnTo>
                      <a:pt x="1083" y="302"/>
                    </a:lnTo>
                    <a:lnTo>
                      <a:pt x="1133" y="402"/>
                    </a:lnTo>
                    <a:lnTo>
                      <a:pt x="1181" y="503"/>
                    </a:lnTo>
                    <a:lnTo>
                      <a:pt x="1230" y="603"/>
                    </a:lnTo>
                    <a:lnTo>
                      <a:pt x="1278" y="703"/>
                    </a:lnTo>
                    <a:lnTo>
                      <a:pt x="1327" y="804"/>
                    </a:lnTo>
                    <a:lnTo>
                      <a:pt x="1298" y="1034"/>
                    </a:lnTo>
                    <a:lnTo>
                      <a:pt x="1269" y="1264"/>
                    </a:lnTo>
                    <a:lnTo>
                      <a:pt x="1240" y="1495"/>
                    </a:lnTo>
                    <a:lnTo>
                      <a:pt x="1209" y="1725"/>
                    </a:lnTo>
                    <a:lnTo>
                      <a:pt x="1180" y="1956"/>
                    </a:lnTo>
                    <a:lnTo>
                      <a:pt x="1151" y="2186"/>
                    </a:lnTo>
                    <a:lnTo>
                      <a:pt x="1122" y="2417"/>
                    </a:lnTo>
                    <a:lnTo>
                      <a:pt x="1092" y="2647"/>
                    </a:lnTo>
                    <a:lnTo>
                      <a:pt x="1062" y="2878"/>
                    </a:lnTo>
                    <a:lnTo>
                      <a:pt x="1034" y="3110"/>
                    </a:lnTo>
                    <a:lnTo>
                      <a:pt x="1005" y="3341"/>
                    </a:lnTo>
                    <a:lnTo>
                      <a:pt x="976" y="3572"/>
                    </a:lnTo>
                    <a:lnTo>
                      <a:pt x="946" y="3805"/>
                    </a:lnTo>
                    <a:lnTo>
                      <a:pt x="917" y="4037"/>
                    </a:lnTo>
                    <a:lnTo>
                      <a:pt x="888" y="4268"/>
                    </a:lnTo>
                    <a:lnTo>
                      <a:pt x="859" y="4501"/>
                    </a:lnTo>
                    <a:lnTo>
                      <a:pt x="829" y="4732"/>
                    </a:lnTo>
                    <a:lnTo>
                      <a:pt x="800" y="4965"/>
                    </a:lnTo>
                    <a:lnTo>
                      <a:pt x="770" y="5197"/>
                    </a:lnTo>
                    <a:lnTo>
                      <a:pt x="741" y="5430"/>
                    </a:lnTo>
                    <a:lnTo>
                      <a:pt x="710" y="5663"/>
                    </a:lnTo>
                    <a:lnTo>
                      <a:pt x="681" y="5897"/>
                    </a:lnTo>
                    <a:lnTo>
                      <a:pt x="651" y="6129"/>
                    </a:lnTo>
                    <a:lnTo>
                      <a:pt x="622" y="6362"/>
                    </a:lnTo>
                    <a:lnTo>
                      <a:pt x="593" y="6596"/>
                    </a:lnTo>
                    <a:lnTo>
                      <a:pt x="562" y="6830"/>
                    </a:lnTo>
                    <a:lnTo>
                      <a:pt x="533" y="7063"/>
                    </a:lnTo>
                    <a:lnTo>
                      <a:pt x="504" y="7297"/>
                    </a:lnTo>
                    <a:lnTo>
                      <a:pt x="475" y="7531"/>
                    </a:lnTo>
                    <a:lnTo>
                      <a:pt x="445" y="7765"/>
                    </a:lnTo>
                    <a:lnTo>
                      <a:pt x="416" y="8000"/>
                    </a:lnTo>
                    <a:lnTo>
                      <a:pt x="386" y="8234"/>
                    </a:lnTo>
                    <a:lnTo>
                      <a:pt x="338" y="8123"/>
                    </a:lnTo>
                    <a:lnTo>
                      <a:pt x="289" y="8014"/>
                    </a:lnTo>
                    <a:lnTo>
                      <a:pt x="241" y="7903"/>
                    </a:lnTo>
                    <a:lnTo>
                      <a:pt x="192" y="7793"/>
                    </a:lnTo>
                    <a:lnTo>
                      <a:pt x="144" y="7684"/>
                    </a:lnTo>
                    <a:lnTo>
                      <a:pt x="97" y="7574"/>
                    </a:lnTo>
                    <a:lnTo>
                      <a:pt x="48" y="7465"/>
                    </a:lnTo>
                    <a:lnTo>
                      <a:pt x="0" y="7355"/>
                    </a:lnTo>
                    <a:lnTo>
                      <a:pt x="29" y="7123"/>
                    </a:lnTo>
                    <a:lnTo>
                      <a:pt x="58" y="6891"/>
                    </a:lnTo>
                    <a:lnTo>
                      <a:pt x="88" y="6660"/>
                    </a:lnTo>
                    <a:lnTo>
                      <a:pt x="117" y="6427"/>
                    </a:lnTo>
                    <a:lnTo>
                      <a:pt x="146" y="6196"/>
                    </a:lnTo>
                    <a:lnTo>
                      <a:pt x="175" y="5964"/>
                    </a:lnTo>
                    <a:lnTo>
                      <a:pt x="204" y="5733"/>
                    </a:lnTo>
                    <a:lnTo>
                      <a:pt x="235" y="5503"/>
                    </a:lnTo>
                    <a:lnTo>
                      <a:pt x="264" y="5272"/>
                    </a:lnTo>
                    <a:lnTo>
                      <a:pt x="293" y="5041"/>
                    </a:lnTo>
                    <a:lnTo>
                      <a:pt x="322" y="4811"/>
                    </a:lnTo>
                    <a:lnTo>
                      <a:pt x="352" y="4581"/>
                    </a:lnTo>
                    <a:lnTo>
                      <a:pt x="382" y="4350"/>
                    </a:lnTo>
                    <a:lnTo>
                      <a:pt x="411" y="4120"/>
                    </a:lnTo>
                    <a:lnTo>
                      <a:pt x="440" y="3890"/>
                    </a:lnTo>
                    <a:lnTo>
                      <a:pt x="471" y="3660"/>
                    </a:lnTo>
                    <a:lnTo>
                      <a:pt x="500" y="3430"/>
                    </a:lnTo>
                    <a:lnTo>
                      <a:pt x="529" y="3201"/>
                    </a:lnTo>
                    <a:lnTo>
                      <a:pt x="558" y="2972"/>
                    </a:lnTo>
                    <a:lnTo>
                      <a:pt x="588" y="2742"/>
                    </a:lnTo>
                    <a:lnTo>
                      <a:pt x="617" y="2513"/>
                    </a:lnTo>
                    <a:lnTo>
                      <a:pt x="646" y="2284"/>
                    </a:lnTo>
                    <a:lnTo>
                      <a:pt x="674" y="2055"/>
                    </a:lnTo>
                    <a:lnTo>
                      <a:pt x="703" y="1826"/>
                    </a:lnTo>
                    <a:lnTo>
                      <a:pt x="733" y="1598"/>
                    </a:lnTo>
                    <a:lnTo>
                      <a:pt x="762" y="1369"/>
                    </a:lnTo>
                    <a:lnTo>
                      <a:pt x="791" y="1141"/>
                    </a:lnTo>
                    <a:lnTo>
                      <a:pt x="820" y="912"/>
                    </a:lnTo>
                    <a:lnTo>
                      <a:pt x="850" y="685"/>
                    </a:lnTo>
                    <a:lnTo>
                      <a:pt x="879" y="457"/>
                    </a:lnTo>
                    <a:lnTo>
                      <a:pt x="908" y="228"/>
                    </a:lnTo>
                    <a:lnTo>
                      <a:pt x="937"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204240" y="1874880"/>
                <a:ext cx="495360" cy="2257920"/>
              </a:xfrm>
              <a:custGeom>
                <a:avLst/>
                <a:gdLst/>
                <a:ahLst/>
                <a:rect l="l" t="t" r="r" b="b"/>
                <a:pathLst>
                  <a:path w="1327" h="8234">
                    <a:moveTo>
                      <a:pt x="937" y="0"/>
                    </a:moveTo>
                    <a:lnTo>
                      <a:pt x="987" y="100"/>
                    </a:lnTo>
                    <a:lnTo>
                      <a:pt x="1035" y="201"/>
                    </a:lnTo>
                    <a:lnTo>
                      <a:pt x="1083" y="302"/>
                    </a:lnTo>
                    <a:lnTo>
                      <a:pt x="1133" y="402"/>
                    </a:lnTo>
                    <a:lnTo>
                      <a:pt x="1181" y="503"/>
                    </a:lnTo>
                    <a:lnTo>
                      <a:pt x="1230" y="603"/>
                    </a:lnTo>
                    <a:lnTo>
                      <a:pt x="1278" y="703"/>
                    </a:lnTo>
                    <a:lnTo>
                      <a:pt x="1327" y="804"/>
                    </a:lnTo>
                    <a:lnTo>
                      <a:pt x="1298" y="1034"/>
                    </a:lnTo>
                    <a:lnTo>
                      <a:pt x="1269" y="1264"/>
                    </a:lnTo>
                    <a:lnTo>
                      <a:pt x="1240" y="1495"/>
                    </a:lnTo>
                    <a:lnTo>
                      <a:pt x="1209" y="1725"/>
                    </a:lnTo>
                    <a:lnTo>
                      <a:pt x="1180" y="1956"/>
                    </a:lnTo>
                    <a:lnTo>
                      <a:pt x="1151" y="2186"/>
                    </a:lnTo>
                    <a:lnTo>
                      <a:pt x="1122" y="2417"/>
                    </a:lnTo>
                    <a:lnTo>
                      <a:pt x="1092" y="2647"/>
                    </a:lnTo>
                    <a:lnTo>
                      <a:pt x="1062" y="2878"/>
                    </a:lnTo>
                    <a:lnTo>
                      <a:pt x="1034" y="3110"/>
                    </a:lnTo>
                    <a:lnTo>
                      <a:pt x="1005" y="3341"/>
                    </a:lnTo>
                    <a:lnTo>
                      <a:pt x="976" y="3572"/>
                    </a:lnTo>
                    <a:lnTo>
                      <a:pt x="946" y="3805"/>
                    </a:lnTo>
                    <a:lnTo>
                      <a:pt x="917" y="4037"/>
                    </a:lnTo>
                    <a:lnTo>
                      <a:pt x="888" y="4268"/>
                    </a:lnTo>
                    <a:lnTo>
                      <a:pt x="859" y="4501"/>
                    </a:lnTo>
                    <a:lnTo>
                      <a:pt x="829" y="4732"/>
                    </a:lnTo>
                    <a:lnTo>
                      <a:pt x="800" y="4965"/>
                    </a:lnTo>
                    <a:lnTo>
                      <a:pt x="770" y="5197"/>
                    </a:lnTo>
                    <a:lnTo>
                      <a:pt x="741" y="5430"/>
                    </a:lnTo>
                    <a:lnTo>
                      <a:pt x="710" y="5663"/>
                    </a:lnTo>
                    <a:lnTo>
                      <a:pt x="681" y="5897"/>
                    </a:lnTo>
                    <a:lnTo>
                      <a:pt x="651" y="6129"/>
                    </a:lnTo>
                    <a:lnTo>
                      <a:pt x="622" y="6362"/>
                    </a:lnTo>
                    <a:lnTo>
                      <a:pt x="593" y="6596"/>
                    </a:lnTo>
                    <a:lnTo>
                      <a:pt x="562" y="6830"/>
                    </a:lnTo>
                    <a:lnTo>
                      <a:pt x="533" y="7063"/>
                    </a:lnTo>
                    <a:lnTo>
                      <a:pt x="504" y="7297"/>
                    </a:lnTo>
                    <a:lnTo>
                      <a:pt x="475" y="7531"/>
                    </a:lnTo>
                    <a:lnTo>
                      <a:pt x="445" y="7765"/>
                    </a:lnTo>
                    <a:lnTo>
                      <a:pt x="416" y="8000"/>
                    </a:lnTo>
                    <a:lnTo>
                      <a:pt x="386" y="8234"/>
                    </a:lnTo>
                    <a:lnTo>
                      <a:pt x="338" y="8123"/>
                    </a:lnTo>
                    <a:lnTo>
                      <a:pt x="289" y="8014"/>
                    </a:lnTo>
                    <a:lnTo>
                      <a:pt x="241" y="7903"/>
                    </a:lnTo>
                    <a:lnTo>
                      <a:pt x="192" y="7793"/>
                    </a:lnTo>
                    <a:lnTo>
                      <a:pt x="144" y="7684"/>
                    </a:lnTo>
                    <a:lnTo>
                      <a:pt x="97" y="7574"/>
                    </a:lnTo>
                    <a:lnTo>
                      <a:pt x="48" y="7465"/>
                    </a:lnTo>
                    <a:lnTo>
                      <a:pt x="0" y="7355"/>
                    </a:lnTo>
                    <a:lnTo>
                      <a:pt x="29" y="7123"/>
                    </a:lnTo>
                    <a:lnTo>
                      <a:pt x="58" y="6891"/>
                    </a:lnTo>
                    <a:lnTo>
                      <a:pt x="88" y="6660"/>
                    </a:lnTo>
                    <a:lnTo>
                      <a:pt x="117" y="6427"/>
                    </a:lnTo>
                    <a:lnTo>
                      <a:pt x="146" y="6196"/>
                    </a:lnTo>
                    <a:lnTo>
                      <a:pt x="175" y="5964"/>
                    </a:lnTo>
                    <a:lnTo>
                      <a:pt x="204" y="5733"/>
                    </a:lnTo>
                    <a:lnTo>
                      <a:pt x="235" y="5503"/>
                    </a:lnTo>
                    <a:lnTo>
                      <a:pt x="264" y="5272"/>
                    </a:lnTo>
                    <a:lnTo>
                      <a:pt x="293" y="5041"/>
                    </a:lnTo>
                    <a:lnTo>
                      <a:pt x="322" y="4811"/>
                    </a:lnTo>
                    <a:lnTo>
                      <a:pt x="352" y="4581"/>
                    </a:lnTo>
                    <a:lnTo>
                      <a:pt x="382" y="4350"/>
                    </a:lnTo>
                    <a:lnTo>
                      <a:pt x="411" y="4120"/>
                    </a:lnTo>
                    <a:lnTo>
                      <a:pt x="440" y="3890"/>
                    </a:lnTo>
                    <a:lnTo>
                      <a:pt x="471" y="3660"/>
                    </a:lnTo>
                    <a:lnTo>
                      <a:pt x="500" y="3430"/>
                    </a:lnTo>
                    <a:lnTo>
                      <a:pt x="529" y="3201"/>
                    </a:lnTo>
                    <a:lnTo>
                      <a:pt x="558" y="2972"/>
                    </a:lnTo>
                    <a:lnTo>
                      <a:pt x="588" y="2742"/>
                    </a:lnTo>
                    <a:lnTo>
                      <a:pt x="617" y="2513"/>
                    </a:lnTo>
                    <a:lnTo>
                      <a:pt x="646" y="2284"/>
                    </a:lnTo>
                    <a:lnTo>
                      <a:pt x="674" y="2055"/>
                    </a:lnTo>
                    <a:lnTo>
                      <a:pt x="703" y="1826"/>
                    </a:lnTo>
                    <a:lnTo>
                      <a:pt x="733" y="1598"/>
                    </a:lnTo>
                    <a:lnTo>
                      <a:pt x="762" y="1369"/>
                    </a:lnTo>
                    <a:lnTo>
                      <a:pt x="791" y="1141"/>
                    </a:lnTo>
                    <a:lnTo>
                      <a:pt x="820" y="912"/>
                    </a:lnTo>
                    <a:lnTo>
                      <a:pt x="850" y="685"/>
                    </a:lnTo>
                    <a:lnTo>
                      <a:pt x="879" y="457"/>
                    </a:lnTo>
                    <a:lnTo>
                      <a:pt x="908" y="228"/>
                    </a:lnTo>
                    <a:lnTo>
                      <a:pt x="937"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889240" y="3816360"/>
                <a:ext cx="458280" cy="316440"/>
              </a:xfrm>
              <a:custGeom>
                <a:avLst/>
                <a:gdLst/>
                <a:ahLst/>
                <a:rect l="l" t="t" r="r" b="b"/>
                <a:pathLst>
                  <a:path w="1230" h="1156">
                    <a:moveTo>
                      <a:pt x="844" y="277"/>
                    </a:moveTo>
                    <a:lnTo>
                      <a:pt x="892" y="387"/>
                    </a:lnTo>
                    <a:lnTo>
                      <a:pt x="941" y="496"/>
                    </a:lnTo>
                    <a:lnTo>
                      <a:pt x="988" y="606"/>
                    </a:lnTo>
                    <a:lnTo>
                      <a:pt x="1036" y="715"/>
                    </a:lnTo>
                    <a:lnTo>
                      <a:pt x="1085" y="825"/>
                    </a:lnTo>
                    <a:lnTo>
                      <a:pt x="1133" y="936"/>
                    </a:lnTo>
                    <a:lnTo>
                      <a:pt x="1182" y="1045"/>
                    </a:lnTo>
                    <a:lnTo>
                      <a:pt x="1230" y="1156"/>
                    </a:lnTo>
                    <a:lnTo>
                      <a:pt x="1122" y="1119"/>
                    </a:lnTo>
                    <a:lnTo>
                      <a:pt x="1014" y="1082"/>
                    </a:lnTo>
                    <a:lnTo>
                      <a:pt x="906" y="1045"/>
                    </a:lnTo>
                    <a:lnTo>
                      <a:pt x="798" y="1008"/>
                    </a:lnTo>
                    <a:lnTo>
                      <a:pt x="691" y="971"/>
                    </a:lnTo>
                    <a:lnTo>
                      <a:pt x="585" y="935"/>
                    </a:lnTo>
                    <a:lnTo>
                      <a:pt x="478" y="899"/>
                    </a:lnTo>
                    <a:lnTo>
                      <a:pt x="373" y="862"/>
                    </a:lnTo>
                    <a:lnTo>
                      <a:pt x="326" y="755"/>
                    </a:lnTo>
                    <a:lnTo>
                      <a:pt x="279" y="646"/>
                    </a:lnTo>
                    <a:lnTo>
                      <a:pt x="232" y="538"/>
                    </a:lnTo>
                    <a:lnTo>
                      <a:pt x="186" y="430"/>
                    </a:lnTo>
                    <a:lnTo>
                      <a:pt x="139" y="323"/>
                    </a:lnTo>
                    <a:lnTo>
                      <a:pt x="93" y="214"/>
                    </a:lnTo>
                    <a:lnTo>
                      <a:pt x="47" y="107"/>
                    </a:lnTo>
                    <a:lnTo>
                      <a:pt x="0" y="0"/>
                    </a:lnTo>
                    <a:lnTo>
                      <a:pt x="104" y="35"/>
                    </a:lnTo>
                    <a:lnTo>
                      <a:pt x="209" y="68"/>
                    </a:lnTo>
                    <a:lnTo>
                      <a:pt x="315" y="102"/>
                    </a:lnTo>
                    <a:lnTo>
                      <a:pt x="419" y="138"/>
                    </a:lnTo>
                    <a:lnTo>
                      <a:pt x="525" y="173"/>
                    </a:lnTo>
                    <a:lnTo>
                      <a:pt x="631" y="207"/>
                    </a:lnTo>
                    <a:lnTo>
                      <a:pt x="737" y="243"/>
                    </a:lnTo>
                    <a:lnTo>
                      <a:pt x="844" y="277"/>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889240" y="3816360"/>
                <a:ext cx="458280" cy="316440"/>
              </a:xfrm>
              <a:custGeom>
                <a:avLst/>
                <a:gdLst/>
                <a:ahLst/>
                <a:rect l="l" t="t" r="r" b="b"/>
                <a:pathLst>
                  <a:path w="1230" h="1156">
                    <a:moveTo>
                      <a:pt x="844" y="277"/>
                    </a:moveTo>
                    <a:lnTo>
                      <a:pt x="892" y="387"/>
                    </a:lnTo>
                    <a:lnTo>
                      <a:pt x="941" y="496"/>
                    </a:lnTo>
                    <a:lnTo>
                      <a:pt x="988" y="606"/>
                    </a:lnTo>
                    <a:lnTo>
                      <a:pt x="1036" y="715"/>
                    </a:lnTo>
                    <a:lnTo>
                      <a:pt x="1085" y="825"/>
                    </a:lnTo>
                    <a:lnTo>
                      <a:pt x="1133" y="936"/>
                    </a:lnTo>
                    <a:lnTo>
                      <a:pt x="1182" y="1045"/>
                    </a:lnTo>
                    <a:lnTo>
                      <a:pt x="1230" y="1156"/>
                    </a:lnTo>
                    <a:lnTo>
                      <a:pt x="1122" y="1119"/>
                    </a:lnTo>
                    <a:lnTo>
                      <a:pt x="1014" y="1082"/>
                    </a:lnTo>
                    <a:lnTo>
                      <a:pt x="906" y="1045"/>
                    </a:lnTo>
                    <a:lnTo>
                      <a:pt x="798" y="1008"/>
                    </a:lnTo>
                    <a:lnTo>
                      <a:pt x="691" y="971"/>
                    </a:lnTo>
                    <a:lnTo>
                      <a:pt x="585" y="935"/>
                    </a:lnTo>
                    <a:lnTo>
                      <a:pt x="478" y="899"/>
                    </a:lnTo>
                    <a:lnTo>
                      <a:pt x="373" y="862"/>
                    </a:lnTo>
                    <a:lnTo>
                      <a:pt x="326" y="755"/>
                    </a:lnTo>
                    <a:lnTo>
                      <a:pt x="279" y="646"/>
                    </a:lnTo>
                    <a:lnTo>
                      <a:pt x="232" y="538"/>
                    </a:lnTo>
                    <a:lnTo>
                      <a:pt x="186" y="430"/>
                    </a:lnTo>
                    <a:lnTo>
                      <a:pt x="139" y="323"/>
                    </a:lnTo>
                    <a:lnTo>
                      <a:pt x="93" y="214"/>
                    </a:lnTo>
                    <a:lnTo>
                      <a:pt x="47" y="107"/>
                    </a:lnTo>
                    <a:lnTo>
                      <a:pt x="0" y="0"/>
                    </a:lnTo>
                    <a:lnTo>
                      <a:pt x="104" y="35"/>
                    </a:lnTo>
                    <a:lnTo>
                      <a:pt x="209" y="68"/>
                    </a:lnTo>
                    <a:lnTo>
                      <a:pt x="315" y="102"/>
                    </a:lnTo>
                    <a:lnTo>
                      <a:pt x="419" y="138"/>
                    </a:lnTo>
                    <a:lnTo>
                      <a:pt x="525" y="173"/>
                    </a:lnTo>
                    <a:lnTo>
                      <a:pt x="631" y="207"/>
                    </a:lnTo>
                    <a:lnTo>
                      <a:pt x="737" y="243"/>
                    </a:lnTo>
                    <a:lnTo>
                      <a:pt x="844" y="277"/>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889240" y="1828080"/>
                <a:ext cx="664200" cy="2063520"/>
              </a:xfrm>
              <a:custGeom>
                <a:avLst/>
                <a:gdLst/>
                <a:ahLst/>
                <a:rect l="l" t="t" r="r" b="b"/>
                <a:pathLst>
                  <a:path w="1781" h="7523">
                    <a:moveTo>
                      <a:pt x="935" y="0"/>
                    </a:moveTo>
                    <a:lnTo>
                      <a:pt x="1038" y="21"/>
                    </a:lnTo>
                    <a:lnTo>
                      <a:pt x="1144" y="41"/>
                    </a:lnTo>
                    <a:lnTo>
                      <a:pt x="1250" y="62"/>
                    </a:lnTo>
                    <a:lnTo>
                      <a:pt x="1356" y="83"/>
                    </a:lnTo>
                    <a:lnTo>
                      <a:pt x="1462" y="104"/>
                    </a:lnTo>
                    <a:lnTo>
                      <a:pt x="1569" y="126"/>
                    </a:lnTo>
                    <a:lnTo>
                      <a:pt x="1675" y="147"/>
                    </a:lnTo>
                    <a:lnTo>
                      <a:pt x="1781" y="168"/>
                    </a:lnTo>
                    <a:lnTo>
                      <a:pt x="1752" y="396"/>
                    </a:lnTo>
                    <a:lnTo>
                      <a:pt x="1723" y="625"/>
                    </a:lnTo>
                    <a:lnTo>
                      <a:pt x="1694" y="853"/>
                    </a:lnTo>
                    <a:lnTo>
                      <a:pt x="1664" y="1080"/>
                    </a:lnTo>
                    <a:lnTo>
                      <a:pt x="1635" y="1309"/>
                    </a:lnTo>
                    <a:lnTo>
                      <a:pt x="1606" y="1537"/>
                    </a:lnTo>
                    <a:lnTo>
                      <a:pt x="1577" y="1766"/>
                    </a:lnTo>
                    <a:lnTo>
                      <a:pt x="1547" y="1994"/>
                    </a:lnTo>
                    <a:lnTo>
                      <a:pt x="1518" y="2223"/>
                    </a:lnTo>
                    <a:lnTo>
                      <a:pt x="1490" y="2452"/>
                    </a:lnTo>
                    <a:lnTo>
                      <a:pt x="1461" y="2681"/>
                    </a:lnTo>
                    <a:lnTo>
                      <a:pt x="1432" y="2910"/>
                    </a:lnTo>
                    <a:lnTo>
                      <a:pt x="1402" y="3140"/>
                    </a:lnTo>
                    <a:lnTo>
                      <a:pt x="1373" y="3369"/>
                    </a:lnTo>
                    <a:lnTo>
                      <a:pt x="1344" y="3598"/>
                    </a:lnTo>
                    <a:lnTo>
                      <a:pt x="1315" y="3828"/>
                    </a:lnTo>
                    <a:lnTo>
                      <a:pt x="1284" y="4058"/>
                    </a:lnTo>
                    <a:lnTo>
                      <a:pt x="1255" y="4288"/>
                    </a:lnTo>
                    <a:lnTo>
                      <a:pt x="1226" y="4518"/>
                    </a:lnTo>
                    <a:lnTo>
                      <a:pt x="1196" y="4749"/>
                    </a:lnTo>
                    <a:lnTo>
                      <a:pt x="1166" y="4979"/>
                    </a:lnTo>
                    <a:lnTo>
                      <a:pt x="1137" y="5209"/>
                    </a:lnTo>
                    <a:lnTo>
                      <a:pt x="1108" y="5440"/>
                    </a:lnTo>
                    <a:lnTo>
                      <a:pt x="1079" y="5671"/>
                    </a:lnTo>
                    <a:lnTo>
                      <a:pt x="1048" y="5901"/>
                    </a:lnTo>
                    <a:lnTo>
                      <a:pt x="1019" y="6132"/>
                    </a:lnTo>
                    <a:lnTo>
                      <a:pt x="990" y="6364"/>
                    </a:lnTo>
                    <a:lnTo>
                      <a:pt x="961" y="6595"/>
                    </a:lnTo>
                    <a:lnTo>
                      <a:pt x="932" y="6828"/>
                    </a:lnTo>
                    <a:lnTo>
                      <a:pt x="902" y="7059"/>
                    </a:lnTo>
                    <a:lnTo>
                      <a:pt x="873" y="7291"/>
                    </a:lnTo>
                    <a:lnTo>
                      <a:pt x="844" y="7523"/>
                    </a:lnTo>
                    <a:lnTo>
                      <a:pt x="737" y="7489"/>
                    </a:lnTo>
                    <a:lnTo>
                      <a:pt x="631" y="7453"/>
                    </a:lnTo>
                    <a:lnTo>
                      <a:pt x="525" y="7419"/>
                    </a:lnTo>
                    <a:lnTo>
                      <a:pt x="419" y="7384"/>
                    </a:lnTo>
                    <a:lnTo>
                      <a:pt x="315" y="7348"/>
                    </a:lnTo>
                    <a:lnTo>
                      <a:pt x="209" y="7314"/>
                    </a:lnTo>
                    <a:lnTo>
                      <a:pt x="104" y="7281"/>
                    </a:lnTo>
                    <a:lnTo>
                      <a:pt x="0" y="7246"/>
                    </a:lnTo>
                    <a:lnTo>
                      <a:pt x="29" y="7017"/>
                    </a:lnTo>
                    <a:lnTo>
                      <a:pt x="59" y="6788"/>
                    </a:lnTo>
                    <a:lnTo>
                      <a:pt x="89" y="6559"/>
                    </a:lnTo>
                    <a:lnTo>
                      <a:pt x="118" y="6332"/>
                    </a:lnTo>
                    <a:lnTo>
                      <a:pt x="147" y="6104"/>
                    </a:lnTo>
                    <a:lnTo>
                      <a:pt x="177" y="5875"/>
                    </a:lnTo>
                    <a:lnTo>
                      <a:pt x="207" y="5647"/>
                    </a:lnTo>
                    <a:lnTo>
                      <a:pt x="236" y="5421"/>
                    </a:lnTo>
                    <a:lnTo>
                      <a:pt x="265" y="5193"/>
                    </a:lnTo>
                    <a:lnTo>
                      <a:pt x="294" y="4967"/>
                    </a:lnTo>
                    <a:lnTo>
                      <a:pt x="324" y="4739"/>
                    </a:lnTo>
                    <a:lnTo>
                      <a:pt x="353" y="4512"/>
                    </a:lnTo>
                    <a:lnTo>
                      <a:pt x="383" y="4285"/>
                    </a:lnTo>
                    <a:lnTo>
                      <a:pt x="412" y="4058"/>
                    </a:lnTo>
                    <a:lnTo>
                      <a:pt x="442" y="3832"/>
                    </a:lnTo>
                    <a:lnTo>
                      <a:pt x="471" y="3605"/>
                    </a:lnTo>
                    <a:lnTo>
                      <a:pt x="500" y="3379"/>
                    </a:lnTo>
                    <a:lnTo>
                      <a:pt x="528" y="3153"/>
                    </a:lnTo>
                    <a:lnTo>
                      <a:pt x="558" y="2927"/>
                    </a:lnTo>
                    <a:lnTo>
                      <a:pt x="586" y="2702"/>
                    </a:lnTo>
                    <a:lnTo>
                      <a:pt x="615" y="2475"/>
                    </a:lnTo>
                    <a:lnTo>
                      <a:pt x="643" y="2250"/>
                    </a:lnTo>
                    <a:lnTo>
                      <a:pt x="672" y="2025"/>
                    </a:lnTo>
                    <a:lnTo>
                      <a:pt x="702" y="1799"/>
                    </a:lnTo>
                    <a:lnTo>
                      <a:pt x="730" y="1574"/>
                    </a:lnTo>
                    <a:lnTo>
                      <a:pt x="759" y="1349"/>
                    </a:lnTo>
                    <a:lnTo>
                      <a:pt x="788" y="1124"/>
                    </a:lnTo>
                    <a:lnTo>
                      <a:pt x="818" y="899"/>
                    </a:lnTo>
                    <a:lnTo>
                      <a:pt x="847" y="674"/>
                    </a:lnTo>
                    <a:lnTo>
                      <a:pt x="876" y="449"/>
                    </a:lnTo>
                    <a:lnTo>
                      <a:pt x="905" y="225"/>
                    </a:lnTo>
                    <a:lnTo>
                      <a:pt x="935"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89240" y="1828080"/>
                <a:ext cx="664200" cy="2063520"/>
              </a:xfrm>
              <a:custGeom>
                <a:avLst/>
                <a:gdLst/>
                <a:ahLst/>
                <a:rect l="l" t="t" r="r" b="b"/>
                <a:pathLst>
                  <a:path w="1781" h="7523">
                    <a:moveTo>
                      <a:pt x="935" y="0"/>
                    </a:moveTo>
                    <a:lnTo>
                      <a:pt x="1038" y="21"/>
                    </a:lnTo>
                    <a:lnTo>
                      <a:pt x="1144" y="41"/>
                    </a:lnTo>
                    <a:lnTo>
                      <a:pt x="1250" y="62"/>
                    </a:lnTo>
                    <a:lnTo>
                      <a:pt x="1356" y="83"/>
                    </a:lnTo>
                    <a:lnTo>
                      <a:pt x="1462" y="104"/>
                    </a:lnTo>
                    <a:lnTo>
                      <a:pt x="1569" y="126"/>
                    </a:lnTo>
                    <a:lnTo>
                      <a:pt x="1675" y="147"/>
                    </a:lnTo>
                    <a:lnTo>
                      <a:pt x="1781" y="168"/>
                    </a:lnTo>
                    <a:lnTo>
                      <a:pt x="1752" y="396"/>
                    </a:lnTo>
                    <a:lnTo>
                      <a:pt x="1723" y="625"/>
                    </a:lnTo>
                    <a:lnTo>
                      <a:pt x="1694" y="853"/>
                    </a:lnTo>
                    <a:lnTo>
                      <a:pt x="1664" y="1080"/>
                    </a:lnTo>
                    <a:lnTo>
                      <a:pt x="1635" y="1309"/>
                    </a:lnTo>
                    <a:lnTo>
                      <a:pt x="1606" y="1537"/>
                    </a:lnTo>
                    <a:lnTo>
                      <a:pt x="1577" y="1766"/>
                    </a:lnTo>
                    <a:lnTo>
                      <a:pt x="1547" y="1994"/>
                    </a:lnTo>
                    <a:lnTo>
                      <a:pt x="1518" y="2223"/>
                    </a:lnTo>
                    <a:lnTo>
                      <a:pt x="1490" y="2452"/>
                    </a:lnTo>
                    <a:lnTo>
                      <a:pt x="1461" y="2681"/>
                    </a:lnTo>
                    <a:lnTo>
                      <a:pt x="1432" y="2910"/>
                    </a:lnTo>
                    <a:lnTo>
                      <a:pt x="1402" y="3140"/>
                    </a:lnTo>
                    <a:lnTo>
                      <a:pt x="1373" y="3369"/>
                    </a:lnTo>
                    <a:lnTo>
                      <a:pt x="1344" y="3598"/>
                    </a:lnTo>
                    <a:lnTo>
                      <a:pt x="1315" y="3828"/>
                    </a:lnTo>
                    <a:lnTo>
                      <a:pt x="1284" y="4058"/>
                    </a:lnTo>
                    <a:lnTo>
                      <a:pt x="1255" y="4288"/>
                    </a:lnTo>
                    <a:lnTo>
                      <a:pt x="1226" y="4518"/>
                    </a:lnTo>
                    <a:lnTo>
                      <a:pt x="1196" y="4749"/>
                    </a:lnTo>
                    <a:lnTo>
                      <a:pt x="1166" y="4979"/>
                    </a:lnTo>
                    <a:lnTo>
                      <a:pt x="1137" y="5209"/>
                    </a:lnTo>
                    <a:lnTo>
                      <a:pt x="1108" y="5440"/>
                    </a:lnTo>
                    <a:lnTo>
                      <a:pt x="1079" y="5671"/>
                    </a:lnTo>
                    <a:lnTo>
                      <a:pt x="1048" y="5901"/>
                    </a:lnTo>
                    <a:lnTo>
                      <a:pt x="1019" y="6132"/>
                    </a:lnTo>
                    <a:lnTo>
                      <a:pt x="990" y="6364"/>
                    </a:lnTo>
                    <a:lnTo>
                      <a:pt x="961" y="6595"/>
                    </a:lnTo>
                    <a:lnTo>
                      <a:pt x="932" y="6828"/>
                    </a:lnTo>
                    <a:lnTo>
                      <a:pt x="902" y="7059"/>
                    </a:lnTo>
                    <a:lnTo>
                      <a:pt x="873" y="7291"/>
                    </a:lnTo>
                    <a:lnTo>
                      <a:pt x="844" y="7523"/>
                    </a:lnTo>
                    <a:lnTo>
                      <a:pt x="737" y="7489"/>
                    </a:lnTo>
                    <a:lnTo>
                      <a:pt x="631" y="7453"/>
                    </a:lnTo>
                    <a:lnTo>
                      <a:pt x="525" y="7419"/>
                    </a:lnTo>
                    <a:lnTo>
                      <a:pt x="419" y="7384"/>
                    </a:lnTo>
                    <a:lnTo>
                      <a:pt x="315" y="7348"/>
                    </a:lnTo>
                    <a:lnTo>
                      <a:pt x="209" y="7314"/>
                    </a:lnTo>
                    <a:lnTo>
                      <a:pt x="104" y="7281"/>
                    </a:lnTo>
                    <a:lnTo>
                      <a:pt x="0" y="7246"/>
                    </a:lnTo>
                    <a:lnTo>
                      <a:pt x="29" y="7017"/>
                    </a:lnTo>
                    <a:lnTo>
                      <a:pt x="59" y="6788"/>
                    </a:lnTo>
                    <a:lnTo>
                      <a:pt x="89" y="6559"/>
                    </a:lnTo>
                    <a:lnTo>
                      <a:pt x="118" y="6332"/>
                    </a:lnTo>
                    <a:lnTo>
                      <a:pt x="147" y="6104"/>
                    </a:lnTo>
                    <a:lnTo>
                      <a:pt x="177" y="5875"/>
                    </a:lnTo>
                    <a:lnTo>
                      <a:pt x="207" y="5647"/>
                    </a:lnTo>
                    <a:lnTo>
                      <a:pt x="236" y="5421"/>
                    </a:lnTo>
                    <a:lnTo>
                      <a:pt x="265" y="5193"/>
                    </a:lnTo>
                    <a:lnTo>
                      <a:pt x="294" y="4967"/>
                    </a:lnTo>
                    <a:lnTo>
                      <a:pt x="324" y="4739"/>
                    </a:lnTo>
                    <a:lnTo>
                      <a:pt x="353" y="4512"/>
                    </a:lnTo>
                    <a:lnTo>
                      <a:pt x="383" y="4285"/>
                    </a:lnTo>
                    <a:lnTo>
                      <a:pt x="412" y="4058"/>
                    </a:lnTo>
                    <a:lnTo>
                      <a:pt x="442" y="3832"/>
                    </a:lnTo>
                    <a:lnTo>
                      <a:pt x="471" y="3605"/>
                    </a:lnTo>
                    <a:lnTo>
                      <a:pt x="500" y="3379"/>
                    </a:lnTo>
                    <a:lnTo>
                      <a:pt x="528" y="3153"/>
                    </a:lnTo>
                    <a:lnTo>
                      <a:pt x="558" y="2927"/>
                    </a:lnTo>
                    <a:lnTo>
                      <a:pt x="586" y="2702"/>
                    </a:lnTo>
                    <a:lnTo>
                      <a:pt x="615" y="2475"/>
                    </a:lnTo>
                    <a:lnTo>
                      <a:pt x="643" y="2250"/>
                    </a:lnTo>
                    <a:lnTo>
                      <a:pt x="672" y="2025"/>
                    </a:lnTo>
                    <a:lnTo>
                      <a:pt x="702" y="1799"/>
                    </a:lnTo>
                    <a:lnTo>
                      <a:pt x="730" y="1574"/>
                    </a:lnTo>
                    <a:lnTo>
                      <a:pt x="759" y="1349"/>
                    </a:lnTo>
                    <a:lnTo>
                      <a:pt x="788" y="1124"/>
                    </a:lnTo>
                    <a:lnTo>
                      <a:pt x="818" y="899"/>
                    </a:lnTo>
                    <a:lnTo>
                      <a:pt x="847" y="674"/>
                    </a:lnTo>
                    <a:lnTo>
                      <a:pt x="876" y="449"/>
                    </a:lnTo>
                    <a:lnTo>
                      <a:pt x="905" y="225"/>
                    </a:lnTo>
                    <a:lnTo>
                      <a:pt x="935"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235200" y="1866600"/>
                <a:ext cx="429840" cy="2163960"/>
              </a:xfrm>
              <a:custGeom>
                <a:avLst/>
                <a:gdLst/>
                <a:ahLst/>
                <a:rect l="l" t="t" r="r" b="b"/>
                <a:pathLst>
                  <a:path w="1152" h="7890">
                    <a:moveTo>
                      <a:pt x="953" y="0"/>
                    </a:moveTo>
                    <a:lnTo>
                      <a:pt x="978" y="47"/>
                    </a:lnTo>
                    <a:lnTo>
                      <a:pt x="1002" y="92"/>
                    </a:lnTo>
                    <a:lnTo>
                      <a:pt x="1028" y="139"/>
                    </a:lnTo>
                    <a:lnTo>
                      <a:pt x="1052" y="186"/>
                    </a:lnTo>
                    <a:lnTo>
                      <a:pt x="1077" y="231"/>
                    </a:lnTo>
                    <a:lnTo>
                      <a:pt x="1102" y="277"/>
                    </a:lnTo>
                    <a:lnTo>
                      <a:pt x="1126" y="322"/>
                    </a:lnTo>
                    <a:lnTo>
                      <a:pt x="1152" y="368"/>
                    </a:lnTo>
                    <a:lnTo>
                      <a:pt x="1122" y="602"/>
                    </a:lnTo>
                    <a:lnTo>
                      <a:pt x="1092" y="835"/>
                    </a:lnTo>
                    <a:lnTo>
                      <a:pt x="1063" y="1068"/>
                    </a:lnTo>
                    <a:lnTo>
                      <a:pt x="1033" y="1302"/>
                    </a:lnTo>
                    <a:lnTo>
                      <a:pt x="1003" y="1535"/>
                    </a:lnTo>
                    <a:lnTo>
                      <a:pt x="974" y="1769"/>
                    </a:lnTo>
                    <a:lnTo>
                      <a:pt x="945" y="2003"/>
                    </a:lnTo>
                    <a:lnTo>
                      <a:pt x="915" y="2235"/>
                    </a:lnTo>
                    <a:lnTo>
                      <a:pt x="886" y="2469"/>
                    </a:lnTo>
                    <a:lnTo>
                      <a:pt x="856" y="2703"/>
                    </a:lnTo>
                    <a:lnTo>
                      <a:pt x="826" y="2938"/>
                    </a:lnTo>
                    <a:lnTo>
                      <a:pt x="797" y="3172"/>
                    </a:lnTo>
                    <a:lnTo>
                      <a:pt x="768" y="3407"/>
                    </a:lnTo>
                    <a:lnTo>
                      <a:pt x="738" y="3641"/>
                    </a:lnTo>
                    <a:lnTo>
                      <a:pt x="708" y="3876"/>
                    </a:lnTo>
                    <a:lnTo>
                      <a:pt x="679" y="4110"/>
                    </a:lnTo>
                    <a:lnTo>
                      <a:pt x="649" y="4346"/>
                    </a:lnTo>
                    <a:lnTo>
                      <a:pt x="618" y="4582"/>
                    </a:lnTo>
                    <a:lnTo>
                      <a:pt x="589" y="4817"/>
                    </a:lnTo>
                    <a:lnTo>
                      <a:pt x="559" y="5052"/>
                    </a:lnTo>
                    <a:lnTo>
                      <a:pt x="529" y="5288"/>
                    </a:lnTo>
                    <a:lnTo>
                      <a:pt x="498" y="5523"/>
                    </a:lnTo>
                    <a:lnTo>
                      <a:pt x="468" y="5760"/>
                    </a:lnTo>
                    <a:lnTo>
                      <a:pt x="438" y="5995"/>
                    </a:lnTo>
                    <a:lnTo>
                      <a:pt x="408" y="6231"/>
                    </a:lnTo>
                    <a:lnTo>
                      <a:pt x="379" y="6467"/>
                    </a:lnTo>
                    <a:lnTo>
                      <a:pt x="348" y="6705"/>
                    </a:lnTo>
                    <a:lnTo>
                      <a:pt x="318" y="6941"/>
                    </a:lnTo>
                    <a:lnTo>
                      <a:pt x="288" y="7179"/>
                    </a:lnTo>
                    <a:lnTo>
                      <a:pt x="258" y="7416"/>
                    </a:lnTo>
                    <a:lnTo>
                      <a:pt x="228" y="7653"/>
                    </a:lnTo>
                    <a:lnTo>
                      <a:pt x="198" y="7890"/>
                    </a:lnTo>
                    <a:lnTo>
                      <a:pt x="174" y="7841"/>
                    </a:lnTo>
                    <a:lnTo>
                      <a:pt x="149" y="7791"/>
                    </a:lnTo>
                    <a:lnTo>
                      <a:pt x="125" y="7740"/>
                    </a:lnTo>
                    <a:lnTo>
                      <a:pt x="99" y="7690"/>
                    </a:lnTo>
                    <a:lnTo>
                      <a:pt x="74" y="7639"/>
                    </a:lnTo>
                    <a:lnTo>
                      <a:pt x="50" y="7588"/>
                    </a:lnTo>
                    <a:lnTo>
                      <a:pt x="25" y="7537"/>
                    </a:lnTo>
                    <a:lnTo>
                      <a:pt x="0" y="7487"/>
                    </a:lnTo>
                    <a:lnTo>
                      <a:pt x="30" y="7250"/>
                    </a:lnTo>
                    <a:lnTo>
                      <a:pt x="60" y="7015"/>
                    </a:lnTo>
                    <a:lnTo>
                      <a:pt x="90" y="6779"/>
                    </a:lnTo>
                    <a:lnTo>
                      <a:pt x="119" y="6544"/>
                    </a:lnTo>
                    <a:lnTo>
                      <a:pt x="150" y="6307"/>
                    </a:lnTo>
                    <a:lnTo>
                      <a:pt x="180" y="6072"/>
                    </a:lnTo>
                    <a:lnTo>
                      <a:pt x="209" y="5836"/>
                    </a:lnTo>
                    <a:lnTo>
                      <a:pt x="239" y="5601"/>
                    </a:lnTo>
                    <a:lnTo>
                      <a:pt x="270" y="5366"/>
                    </a:lnTo>
                    <a:lnTo>
                      <a:pt x="299" y="5132"/>
                    </a:lnTo>
                    <a:lnTo>
                      <a:pt x="329" y="4897"/>
                    </a:lnTo>
                    <a:lnTo>
                      <a:pt x="359" y="4663"/>
                    </a:lnTo>
                    <a:lnTo>
                      <a:pt x="390" y="4429"/>
                    </a:lnTo>
                    <a:lnTo>
                      <a:pt x="420" y="4194"/>
                    </a:lnTo>
                    <a:lnTo>
                      <a:pt x="449" y="3960"/>
                    </a:lnTo>
                    <a:lnTo>
                      <a:pt x="479" y="3726"/>
                    </a:lnTo>
                    <a:lnTo>
                      <a:pt x="509" y="3492"/>
                    </a:lnTo>
                    <a:lnTo>
                      <a:pt x="539" y="3260"/>
                    </a:lnTo>
                    <a:lnTo>
                      <a:pt x="568" y="3026"/>
                    </a:lnTo>
                    <a:lnTo>
                      <a:pt x="597" y="2793"/>
                    </a:lnTo>
                    <a:lnTo>
                      <a:pt x="627" y="2559"/>
                    </a:lnTo>
                    <a:lnTo>
                      <a:pt x="656" y="2326"/>
                    </a:lnTo>
                    <a:lnTo>
                      <a:pt x="685" y="2093"/>
                    </a:lnTo>
                    <a:lnTo>
                      <a:pt x="715" y="1860"/>
                    </a:lnTo>
                    <a:lnTo>
                      <a:pt x="744" y="1627"/>
                    </a:lnTo>
                    <a:lnTo>
                      <a:pt x="775" y="1395"/>
                    </a:lnTo>
                    <a:lnTo>
                      <a:pt x="804" y="1162"/>
                    </a:lnTo>
                    <a:lnTo>
                      <a:pt x="834" y="929"/>
                    </a:lnTo>
                    <a:lnTo>
                      <a:pt x="863" y="697"/>
                    </a:lnTo>
                    <a:lnTo>
                      <a:pt x="894" y="465"/>
                    </a:lnTo>
                    <a:lnTo>
                      <a:pt x="923" y="233"/>
                    </a:lnTo>
                    <a:lnTo>
                      <a:pt x="953" y="0"/>
                    </a:lnTo>
                    <a:close/>
                  </a:path>
                </a:pathLst>
              </a:custGeom>
              <a:solidFill>
                <a:srgbClr val="715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235200" y="1866600"/>
                <a:ext cx="429840" cy="2163960"/>
              </a:xfrm>
              <a:custGeom>
                <a:avLst/>
                <a:gdLst/>
                <a:ahLst/>
                <a:rect l="l" t="t" r="r" b="b"/>
                <a:pathLst>
                  <a:path w="1152" h="7890">
                    <a:moveTo>
                      <a:pt x="953" y="0"/>
                    </a:moveTo>
                    <a:lnTo>
                      <a:pt x="978" y="47"/>
                    </a:lnTo>
                    <a:lnTo>
                      <a:pt x="1002" y="92"/>
                    </a:lnTo>
                    <a:lnTo>
                      <a:pt x="1028" y="139"/>
                    </a:lnTo>
                    <a:lnTo>
                      <a:pt x="1052" y="186"/>
                    </a:lnTo>
                    <a:lnTo>
                      <a:pt x="1077" y="231"/>
                    </a:lnTo>
                    <a:lnTo>
                      <a:pt x="1102" y="277"/>
                    </a:lnTo>
                    <a:lnTo>
                      <a:pt x="1126" y="322"/>
                    </a:lnTo>
                    <a:lnTo>
                      <a:pt x="1152" y="368"/>
                    </a:lnTo>
                    <a:lnTo>
                      <a:pt x="1122" y="602"/>
                    </a:lnTo>
                    <a:lnTo>
                      <a:pt x="1092" y="835"/>
                    </a:lnTo>
                    <a:lnTo>
                      <a:pt x="1063" y="1068"/>
                    </a:lnTo>
                    <a:lnTo>
                      <a:pt x="1033" y="1302"/>
                    </a:lnTo>
                    <a:lnTo>
                      <a:pt x="1003" y="1535"/>
                    </a:lnTo>
                    <a:lnTo>
                      <a:pt x="974" y="1769"/>
                    </a:lnTo>
                    <a:lnTo>
                      <a:pt x="945" y="2003"/>
                    </a:lnTo>
                    <a:lnTo>
                      <a:pt x="915" y="2235"/>
                    </a:lnTo>
                    <a:lnTo>
                      <a:pt x="886" y="2469"/>
                    </a:lnTo>
                    <a:lnTo>
                      <a:pt x="856" y="2703"/>
                    </a:lnTo>
                    <a:lnTo>
                      <a:pt x="826" y="2938"/>
                    </a:lnTo>
                    <a:lnTo>
                      <a:pt x="797" y="3172"/>
                    </a:lnTo>
                    <a:lnTo>
                      <a:pt x="768" y="3407"/>
                    </a:lnTo>
                    <a:lnTo>
                      <a:pt x="738" y="3641"/>
                    </a:lnTo>
                    <a:lnTo>
                      <a:pt x="708" y="3876"/>
                    </a:lnTo>
                    <a:lnTo>
                      <a:pt x="679" y="4110"/>
                    </a:lnTo>
                    <a:lnTo>
                      <a:pt x="649" y="4346"/>
                    </a:lnTo>
                    <a:lnTo>
                      <a:pt x="618" y="4582"/>
                    </a:lnTo>
                    <a:lnTo>
                      <a:pt x="589" y="4817"/>
                    </a:lnTo>
                    <a:lnTo>
                      <a:pt x="559" y="5052"/>
                    </a:lnTo>
                    <a:lnTo>
                      <a:pt x="529" y="5288"/>
                    </a:lnTo>
                    <a:lnTo>
                      <a:pt x="498" y="5523"/>
                    </a:lnTo>
                    <a:lnTo>
                      <a:pt x="468" y="5760"/>
                    </a:lnTo>
                    <a:lnTo>
                      <a:pt x="438" y="5995"/>
                    </a:lnTo>
                    <a:lnTo>
                      <a:pt x="408" y="6231"/>
                    </a:lnTo>
                    <a:lnTo>
                      <a:pt x="379" y="6467"/>
                    </a:lnTo>
                    <a:lnTo>
                      <a:pt x="348" y="6705"/>
                    </a:lnTo>
                    <a:lnTo>
                      <a:pt x="318" y="6941"/>
                    </a:lnTo>
                    <a:lnTo>
                      <a:pt x="288" y="7179"/>
                    </a:lnTo>
                    <a:lnTo>
                      <a:pt x="258" y="7416"/>
                    </a:lnTo>
                    <a:lnTo>
                      <a:pt x="228" y="7653"/>
                    </a:lnTo>
                    <a:lnTo>
                      <a:pt x="198" y="7890"/>
                    </a:lnTo>
                    <a:lnTo>
                      <a:pt x="174" y="7841"/>
                    </a:lnTo>
                    <a:lnTo>
                      <a:pt x="149" y="7791"/>
                    </a:lnTo>
                    <a:lnTo>
                      <a:pt x="125" y="7740"/>
                    </a:lnTo>
                    <a:lnTo>
                      <a:pt x="99" y="7690"/>
                    </a:lnTo>
                    <a:lnTo>
                      <a:pt x="74" y="7639"/>
                    </a:lnTo>
                    <a:lnTo>
                      <a:pt x="50" y="7588"/>
                    </a:lnTo>
                    <a:lnTo>
                      <a:pt x="25" y="7537"/>
                    </a:lnTo>
                    <a:lnTo>
                      <a:pt x="0" y="7487"/>
                    </a:lnTo>
                    <a:lnTo>
                      <a:pt x="30" y="7250"/>
                    </a:lnTo>
                    <a:lnTo>
                      <a:pt x="60" y="7015"/>
                    </a:lnTo>
                    <a:lnTo>
                      <a:pt x="90" y="6779"/>
                    </a:lnTo>
                    <a:lnTo>
                      <a:pt x="119" y="6544"/>
                    </a:lnTo>
                    <a:lnTo>
                      <a:pt x="150" y="6307"/>
                    </a:lnTo>
                    <a:lnTo>
                      <a:pt x="180" y="6072"/>
                    </a:lnTo>
                    <a:lnTo>
                      <a:pt x="209" y="5836"/>
                    </a:lnTo>
                    <a:lnTo>
                      <a:pt x="239" y="5601"/>
                    </a:lnTo>
                    <a:lnTo>
                      <a:pt x="270" y="5366"/>
                    </a:lnTo>
                    <a:lnTo>
                      <a:pt x="299" y="5132"/>
                    </a:lnTo>
                    <a:lnTo>
                      <a:pt x="329" y="4897"/>
                    </a:lnTo>
                    <a:lnTo>
                      <a:pt x="359" y="4663"/>
                    </a:lnTo>
                    <a:lnTo>
                      <a:pt x="390" y="4429"/>
                    </a:lnTo>
                    <a:lnTo>
                      <a:pt x="420" y="4194"/>
                    </a:lnTo>
                    <a:lnTo>
                      <a:pt x="449" y="3960"/>
                    </a:lnTo>
                    <a:lnTo>
                      <a:pt x="479" y="3726"/>
                    </a:lnTo>
                    <a:lnTo>
                      <a:pt x="509" y="3492"/>
                    </a:lnTo>
                    <a:lnTo>
                      <a:pt x="539" y="3260"/>
                    </a:lnTo>
                    <a:lnTo>
                      <a:pt x="568" y="3026"/>
                    </a:lnTo>
                    <a:lnTo>
                      <a:pt x="597" y="2793"/>
                    </a:lnTo>
                    <a:lnTo>
                      <a:pt x="627" y="2559"/>
                    </a:lnTo>
                    <a:lnTo>
                      <a:pt x="656" y="2326"/>
                    </a:lnTo>
                    <a:lnTo>
                      <a:pt x="685" y="2093"/>
                    </a:lnTo>
                    <a:lnTo>
                      <a:pt x="715" y="1860"/>
                    </a:lnTo>
                    <a:lnTo>
                      <a:pt x="744" y="1627"/>
                    </a:lnTo>
                    <a:lnTo>
                      <a:pt x="775" y="1395"/>
                    </a:lnTo>
                    <a:lnTo>
                      <a:pt x="804" y="1162"/>
                    </a:lnTo>
                    <a:lnTo>
                      <a:pt x="834" y="929"/>
                    </a:lnTo>
                    <a:lnTo>
                      <a:pt x="863" y="697"/>
                    </a:lnTo>
                    <a:lnTo>
                      <a:pt x="894" y="465"/>
                    </a:lnTo>
                    <a:lnTo>
                      <a:pt x="923" y="233"/>
                    </a:lnTo>
                    <a:lnTo>
                      <a:pt x="95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760720" y="3805200"/>
                <a:ext cx="549000" cy="225000"/>
              </a:xfrm>
              <a:custGeom>
                <a:avLst/>
                <a:gdLst/>
                <a:ahLst/>
                <a:rect l="l" t="t" r="r" b="b"/>
                <a:pathLst>
                  <a:path w="1470" h="823">
                    <a:moveTo>
                      <a:pt x="1272" y="420"/>
                    </a:moveTo>
                    <a:lnTo>
                      <a:pt x="1297" y="470"/>
                    </a:lnTo>
                    <a:lnTo>
                      <a:pt x="1322" y="521"/>
                    </a:lnTo>
                    <a:lnTo>
                      <a:pt x="1346" y="572"/>
                    </a:lnTo>
                    <a:lnTo>
                      <a:pt x="1371" y="623"/>
                    </a:lnTo>
                    <a:lnTo>
                      <a:pt x="1397" y="673"/>
                    </a:lnTo>
                    <a:lnTo>
                      <a:pt x="1421" y="724"/>
                    </a:lnTo>
                    <a:lnTo>
                      <a:pt x="1446" y="774"/>
                    </a:lnTo>
                    <a:lnTo>
                      <a:pt x="1470" y="823"/>
                    </a:lnTo>
                    <a:lnTo>
                      <a:pt x="1307" y="769"/>
                    </a:lnTo>
                    <a:lnTo>
                      <a:pt x="1145" y="715"/>
                    </a:lnTo>
                    <a:lnTo>
                      <a:pt x="983" y="661"/>
                    </a:lnTo>
                    <a:lnTo>
                      <a:pt x="823" y="607"/>
                    </a:lnTo>
                    <a:lnTo>
                      <a:pt x="663" y="553"/>
                    </a:lnTo>
                    <a:lnTo>
                      <a:pt x="503" y="500"/>
                    </a:lnTo>
                    <a:lnTo>
                      <a:pt x="345" y="445"/>
                    </a:lnTo>
                    <a:lnTo>
                      <a:pt x="187" y="393"/>
                    </a:lnTo>
                    <a:lnTo>
                      <a:pt x="163" y="343"/>
                    </a:lnTo>
                    <a:lnTo>
                      <a:pt x="140" y="294"/>
                    </a:lnTo>
                    <a:lnTo>
                      <a:pt x="116" y="245"/>
                    </a:lnTo>
                    <a:lnTo>
                      <a:pt x="93" y="196"/>
                    </a:lnTo>
                    <a:lnTo>
                      <a:pt x="70" y="146"/>
                    </a:lnTo>
                    <a:lnTo>
                      <a:pt x="47" y="97"/>
                    </a:lnTo>
                    <a:lnTo>
                      <a:pt x="24" y="48"/>
                    </a:lnTo>
                    <a:lnTo>
                      <a:pt x="0" y="0"/>
                    </a:lnTo>
                    <a:lnTo>
                      <a:pt x="157" y="52"/>
                    </a:lnTo>
                    <a:lnTo>
                      <a:pt x="315" y="103"/>
                    </a:lnTo>
                    <a:lnTo>
                      <a:pt x="473" y="156"/>
                    </a:lnTo>
                    <a:lnTo>
                      <a:pt x="631" y="208"/>
                    </a:lnTo>
                    <a:lnTo>
                      <a:pt x="791" y="261"/>
                    </a:lnTo>
                    <a:lnTo>
                      <a:pt x="950" y="314"/>
                    </a:lnTo>
                    <a:lnTo>
                      <a:pt x="1110" y="367"/>
                    </a:lnTo>
                    <a:lnTo>
                      <a:pt x="1272" y="420"/>
                    </a:lnTo>
                    <a:close/>
                  </a:path>
                </a:pathLst>
              </a:custGeom>
              <a:solidFill>
                <a:srgbClr val="413a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760720" y="3805200"/>
                <a:ext cx="549000" cy="225000"/>
              </a:xfrm>
              <a:custGeom>
                <a:avLst/>
                <a:gdLst/>
                <a:ahLst/>
                <a:rect l="l" t="t" r="r" b="b"/>
                <a:pathLst>
                  <a:path w="1470" h="823">
                    <a:moveTo>
                      <a:pt x="1272" y="420"/>
                    </a:moveTo>
                    <a:lnTo>
                      <a:pt x="1297" y="470"/>
                    </a:lnTo>
                    <a:lnTo>
                      <a:pt x="1322" y="521"/>
                    </a:lnTo>
                    <a:lnTo>
                      <a:pt x="1346" y="572"/>
                    </a:lnTo>
                    <a:lnTo>
                      <a:pt x="1371" y="623"/>
                    </a:lnTo>
                    <a:lnTo>
                      <a:pt x="1397" y="673"/>
                    </a:lnTo>
                    <a:lnTo>
                      <a:pt x="1421" y="724"/>
                    </a:lnTo>
                    <a:lnTo>
                      <a:pt x="1446" y="774"/>
                    </a:lnTo>
                    <a:lnTo>
                      <a:pt x="1470" y="823"/>
                    </a:lnTo>
                    <a:lnTo>
                      <a:pt x="1307" y="769"/>
                    </a:lnTo>
                    <a:lnTo>
                      <a:pt x="1145" y="715"/>
                    </a:lnTo>
                    <a:lnTo>
                      <a:pt x="983" y="661"/>
                    </a:lnTo>
                    <a:lnTo>
                      <a:pt x="823" y="607"/>
                    </a:lnTo>
                    <a:lnTo>
                      <a:pt x="663" y="553"/>
                    </a:lnTo>
                    <a:lnTo>
                      <a:pt x="503" y="500"/>
                    </a:lnTo>
                    <a:lnTo>
                      <a:pt x="345" y="445"/>
                    </a:lnTo>
                    <a:lnTo>
                      <a:pt x="187" y="393"/>
                    </a:lnTo>
                    <a:lnTo>
                      <a:pt x="163" y="343"/>
                    </a:lnTo>
                    <a:lnTo>
                      <a:pt x="140" y="294"/>
                    </a:lnTo>
                    <a:lnTo>
                      <a:pt x="116" y="245"/>
                    </a:lnTo>
                    <a:lnTo>
                      <a:pt x="93" y="196"/>
                    </a:lnTo>
                    <a:lnTo>
                      <a:pt x="70" y="146"/>
                    </a:lnTo>
                    <a:lnTo>
                      <a:pt x="47" y="97"/>
                    </a:lnTo>
                    <a:lnTo>
                      <a:pt x="24" y="48"/>
                    </a:lnTo>
                    <a:lnTo>
                      <a:pt x="0" y="0"/>
                    </a:lnTo>
                    <a:lnTo>
                      <a:pt x="157" y="52"/>
                    </a:lnTo>
                    <a:lnTo>
                      <a:pt x="315" y="103"/>
                    </a:lnTo>
                    <a:lnTo>
                      <a:pt x="473" y="156"/>
                    </a:lnTo>
                    <a:lnTo>
                      <a:pt x="631" y="208"/>
                    </a:lnTo>
                    <a:lnTo>
                      <a:pt x="791" y="261"/>
                    </a:lnTo>
                    <a:lnTo>
                      <a:pt x="950" y="314"/>
                    </a:lnTo>
                    <a:lnTo>
                      <a:pt x="1110" y="367"/>
                    </a:lnTo>
                    <a:lnTo>
                      <a:pt x="1272" y="42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760720" y="1798200"/>
                <a:ext cx="831240" cy="2122560"/>
              </a:xfrm>
              <a:custGeom>
                <a:avLst/>
                <a:gdLst/>
                <a:ahLst/>
                <a:rect l="l" t="t" r="r" b="b"/>
                <a:pathLst>
                  <a:path w="2225" h="7741">
                    <a:moveTo>
                      <a:pt x="948" y="0"/>
                    </a:moveTo>
                    <a:lnTo>
                      <a:pt x="1105" y="32"/>
                    </a:lnTo>
                    <a:lnTo>
                      <a:pt x="1263" y="63"/>
                    </a:lnTo>
                    <a:lnTo>
                      <a:pt x="1422" y="95"/>
                    </a:lnTo>
                    <a:lnTo>
                      <a:pt x="1582" y="126"/>
                    </a:lnTo>
                    <a:lnTo>
                      <a:pt x="1741" y="158"/>
                    </a:lnTo>
                    <a:lnTo>
                      <a:pt x="1903" y="190"/>
                    </a:lnTo>
                    <a:lnTo>
                      <a:pt x="2064" y="222"/>
                    </a:lnTo>
                    <a:lnTo>
                      <a:pt x="2225" y="254"/>
                    </a:lnTo>
                    <a:lnTo>
                      <a:pt x="2195" y="487"/>
                    </a:lnTo>
                    <a:lnTo>
                      <a:pt x="2166" y="719"/>
                    </a:lnTo>
                    <a:lnTo>
                      <a:pt x="2135" y="951"/>
                    </a:lnTo>
                    <a:lnTo>
                      <a:pt x="2106" y="1183"/>
                    </a:lnTo>
                    <a:lnTo>
                      <a:pt x="2076" y="1416"/>
                    </a:lnTo>
                    <a:lnTo>
                      <a:pt x="2047" y="1649"/>
                    </a:lnTo>
                    <a:lnTo>
                      <a:pt x="2016" y="1881"/>
                    </a:lnTo>
                    <a:lnTo>
                      <a:pt x="1987" y="2114"/>
                    </a:lnTo>
                    <a:lnTo>
                      <a:pt x="1957" y="2347"/>
                    </a:lnTo>
                    <a:lnTo>
                      <a:pt x="1928" y="2580"/>
                    </a:lnTo>
                    <a:lnTo>
                      <a:pt x="1899" y="2813"/>
                    </a:lnTo>
                    <a:lnTo>
                      <a:pt x="1869" y="3047"/>
                    </a:lnTo>
                    <a:lnTo>
                      <a:pt x="1840" y="3280"/>
                    </a:lnTo>
                    <a:lnTo>
                      <a:pt x="1811" y="3514"/>
                    </a:lnTo>
                    <a:lnTo>
                      <a:pt x="1781" y="3746"/>
                    </a:lnTo>
                    <a:lnTo>
                      <a:pt x="1751" y="3980"/>
                    </a:lnTo>
                    <a:lnTo>
                      <a:pt x="1721" y="4214"/>
                    </a:lnTo>
                    <a:lnTo>
                      <a:pt x="1692" y="4448"/>
                    </a:lnTo>
                    <a:lnTo>
                      <a:pt x="1662" y="4683"/>
                    </a:lnTo>
                    <a:lnTo>
                      <a:pt x="1631" y="4917"/>
                    </a:lnTo>
                    <a:lnTo>
                      <a:pt x="1601" y="5151"/>
                    </a:lnTo>
                    <a:lnTo>
                      <a:pt x="1571" y="5386"/>
                    </a:lnTo>
                    <a:lnTo>
                      <a:pt x="1542" y="5620"/>
                    </a:lnTo>
                    <a:lnTo>
                      <a:pt x="1511" y="5855"/>
                    </a:lnTo>
                    <a:lnTo>
                      <a:pt x="1481" y="6090"/>
                    </a:lnTo>
                    <a:lnTo>
                      <a:pt x="1452" y="6326"/>
                    </a:lnTo>
                    <a:lnTo>
                      <a:pt x="1422" y="6561"/>
                    </a:lnTo>
                    <a:lnTo>
                      <a:pt x="1391" y="6798"/>
                    </a:lnTo>
                    <a:lnTo>
                      <a:pt x="1362" y="7033"/>
                    </a:lnTo>
                    <a:lnTo>
                      <a:pt x="1332" y="7269"/>
                    </a:lnTo>
                    <a:lnTo>
                      <a:pt x="1302" y="7504"/>
                    </a:lnTo>
                    <a:lnTo>
                      <a:pt x="1272" y="7741"/>
                    </a:lnTo>
                    <a:lnTo>
                      <a:pt x="1110" y="7688"/>
                    </a:lnTo>
                    <a:lnTo>
                      <a:pt x="950" y="7635"/>
                    </a:lnTo>
                    <a:lnTo>
                      <a:pt x="791" y="7582"/>
                    </a:lnTo>
                    <a:lnTo>
                      <a:pt x="631" y="7529"/>
                    </a:lnTo>
                    <a:lnTo>
                      <a:pt x="473" y="7477"/>
                    </a:lnTo>
                    <a:lnTo>
                      <a:pt x="315" y="7424"/>
                    </a:lnTo>
                    <a:lnTo>
                      <a:pt x="157" y="7373"/>
                    </a:lnTo>
                    <a:lnTo>
                      <a:pt x="0" y="7321"/>
                    </a:lnTo>
                    <a:lnTo>
                      <a:pt x="30" y="7089"/>
                    </a:lnTo>
                    <a:lnTo>
                      <a:pt x="60" y="6859"/>
                    </a:lnTo>
                    <a:lnTo>
                      <a:pt x="90" y="6629"/>
                    </a:lnTo>
                    <a:lnTo>
                      <a:pt x="119" y="6399"/>
                    </a:lnTo>
                    <a:lnTo>
                      <a:pt x="150" y="6167"/>
                    </a:lnTo>
                    <a:lnTo>
                      <a:pt x="180" y="5937"/>
                    </a:lnTo>
                    <a:lnTo>
                      <a:pt x="209" y="5707"/>
                    </a:lnTo>
                    <a:lnTo>
                      <a:pt x="239" y="5477"/>
                    </a:lnTo>
                    <a:lnTo>
                      <a:pt x="270" y="5248"/>
                    </a:lnTo>
                    <a:lnTo>
                      <a:pt x="299" y="5019"/>
                    </a:lnTo>
                    <a:lnTo>
                      <a:pt x="329" y="4789"/>
                    </a:lnTo>
                    <a:lnTo>
                      <a:pt x="358" y="4560"/>
                    </a:lnTo>
                    <a:lnTo>
                      <a:pt x="389" y="4331"/>
                    </a:lnTo>
                    <a:lnTo>
                      <a:pt x="419" y="4101"/>
                    </a:lnTo>
                    <a:lnTo>
                      <a:pt x="448" y="3872"/>
                    </a:lnTo>
                    <a:lnTo>
                      <a:pt x="477" y="3643"/>
                    </a:lnTo>
                    <a:lnTo>
                      <a:pt x="507" y="3415"/>
                    </a:lnTo>
                    <a:lnTo>
                      <a:pt x="537" y="3186"/>
                    </a:lnTo>
                    <a:lnTo>
                      <a:pt x="566" y="2958"/>
                    </a:lnTo>
                    <a:lnTo>
                      <a:pt x="595" y="2729"/>
                    </a:lnTo>
                    <a:lnTo>
                      <a:pt x="624" y="2502"/>
                    </a:lnTo>
                    <a:lnTo>
                      <a:pt x="654" y="2274"/>
                    </a:lnTo>
                    <a:lnTo>
                      <a:pt x="684" y="2046"/>
                    </a:lnTo>
                    <a:lnTo>
                      <a:pt x="713" y="1819"/>
                    </a:lnTo>
                    <a:lnTo>
                      <a:pt x="742" y="1592"/>
                    </a:lnTo>
                    <a:lnTo>
                      <a:pt x="772" y="1366"/>
                    </a:lnTo>
                    <a:lnTo>
                      <a:pt x="801" y="1138"/>
                    </a:lnTo>
                    <a:lnTo>
                      <a:pt x="830" y="910"/>
                    </a:lnTo>
                    <a:lnTo>
                      <a:pt x="860" y="684"/>
                    </a:lnTo>
                    <a:lnTo>
                      <a:pt x="889" y="456"/>
                    </a:lnTo>
                    <a:lnTo>
                      <a:pt x="919" y="228"/>
                    </a:lnTo>
                    <a:lnTo>
                      <a:pt x="948" y="0"/>
                    </a:lnTo>
                    <a:close/>
                  </a:path>
                </a:pathLst>
              </a:custGeom>
              <a:solidFill>
                <a:srgbClr val="7e55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760720" y="1798200"/>
                <a:ext cx="831240" cy="2122560"/>
              </a:xfrm>
              <a:custGeom>
                <a:avLst/>
                <a:gdLst/>
                <a:ahLst/>
                <a:rect l="l" t="t" r="r" b="b"/>
                <a:pathLst>
                  <a:path w="2225" h="7741">
                    <a:moveTo>
                      <a:pt x="948" y="0"/>
                    </a:moveTo>
                    <a:lnTo>
                      <a:pt x="1105" y="32"/>
                    </a:lnTo>
                    <a:lnTo>
                      <a:pt x="1263" y="63"/>
                    </a:lnTo>
                    <a:lnTo>
                      <a:pt x="1422" y="95"/>
                    </a:lnTo>
                    <a:lnTo>
                      <a:pt x="1582" y="126"/>
                    </a:lnTo>
                    <a:lnTo>
                      <a:pt x="1741" y="158"/>
                    </a:lnTo>
                    <a:lnTo>
                      <a:pt x="1903" y="190"/>
                    </a:lnTo>
                    <a:lnTo>
                      <a:pt x="2064" y="222"/>
                    </a:lnTo>
                    <a:lnTo>
                      <a:pt x="2225" y="254"/>
                    </a:lnTo>
                    <a:lnTo>
                      <a:pt x="2195" y="487"/>
                    </a:lnTo>
                    <a:lnTo>
                      <a:pt x="2166" y="719"/>
                    </a:lnTo>
                    <a:lnTo>
                      <a:pt x="2135" y="951"/>
                    </a:lnTo>
                    <a:lnTo>
                      <a:pt x="2106" y="1183"/>
                    </a:lnTo>
                    <a:lnTo>
                      <a:pt x="2076" y="1416"/>
                    </a:lnTo>
                    <a:lnTo>
                      <a:pt x="2047" y="1649"/>
                    </a:lnTo>
                    <a:lnTo>
                      <a:pt x="2016" y="1881"/>
                    </a:lnTo>
                    <a:lnTo>
                      <a:pt x="1987" y="2114"/>
                    </a:lnTo>
                    <a:lnTo>
                      <a:pt x="1957" y="2347"/>
                    </a:lnTo>
                    <a:lnTo>
                      <a:pt x="1928" y="2580"/>
                    </a:lnTo>
                    <a:lnTo>
                      <a:pt x="1899" y="2813"/>
                    </a:lnTo>
                    <a:lnTo>
                      <a:pt x="1869" y="3047"/>
                    </a:lnTo>
                    <a:lnTo>
                      <a:pt x="1840" y="3280"/>
                    </a:lnTo>
                    <a:lnTo>
                      <a:pt x="1811" y="3514"/>
                    </a:lnTo>
                    <a:lnTo>
                      <a:pt x="1781" y="3746"/>
                    </a:lnTo>
                    <a:lnTo>
                      <a:pt x="1751" y="3980"/>
                    </a:lnTo>
                    <a:lnTo>
                      <a:pt x="1721" y="4214"/>
                    </a:lnTo>
                    <a:lnTo>
                      <a:pt x="1692" y="4448"/>
                    </a:lnTo>
                    <a:lnTo>
                      <a:pt x="1662" y="4683"/>
                    </a:lnTo>
                    <a:lnTo>
                      <a:pt x="1631" y="4917"/>
                    </a:lnTo>
                    <a:lnTo>
                      <a:pt x="1601" y="5151"/>
                    </a:lnTo>
                    <a:lnTo>
                      <a:pt x="1571" y="5386"/>
                    </a:lnTo>
                    <a:lnTo>
                      <a:pt x="1542" y="5620"/>
                    </a:lnTo>
                    <a:lnTo>
                      <a:pt x="1511" y="5855"/>
                    </a:lnTo>
                    <a:lnTo>
                      <a:pt x="1481" y="6090"/>
                    </a:lnTo>
                    <a:lnTo>
                      <a:pt x="1452" y="6326"/>
                    </a:lnTo>
                    <a:lnTo>
                      <a:pt x="1422" y="6561"/>
                    </a:lnTo>
                    <a:lnTo>
                      <a:pt x="1391" y="6798"/>
                    </a:lnTo>
                    <a:lnTo>
                      <a:pt x="1362" y="7033"/>
                    </a:lnTo>
                    <a:lnTo>
                      <a:pt x="1332" y="7269"/>
                    </a:lnTo>
                    <a:lnTo>
                      <a:pt x="1302" y="7504"/>
                    </a:lnTo>
                    <a:lnTo>
                      <a:pt x="1272" y="7741"/>
                    </a:lnTo>
                    <a:lnTo>
                      <a:pt x="1110" y="7688"/>
                    </a:lnTo>
                    <a:lnTo>
                      <a:pt x="950" y="7635"/>
                    </a:lnTo>
                    <a:lnTo>
                      <a:pt x="791" y="7582"/>
                    </a:lnTo>
                    <a:lnTo>
                      <a:pt x="631" y="7529"/>
                    </a:lnTo>
                    <a:lnTo>
                      <a:pt x="473" y="7477"/>
                    </a:lnTo>
                    <a:lnTo>
                      <a:pt x="315" y="7424"/>
                    </a:lnTo>
                    <a:lnTo>
                      <a:pt x="157" y="7373"/>
                    </a:lnTo>
                    <a:lnTo>
                      <a:pt x="0" y="7321"/>
                    </a:lnTo>
                    <a:lnTo>
                      <a:pt x="30" y="7089"/>
                    </a:lnTo>
                    <a:lnTo>
                      <a:pt x="60" y="6859"/>
                    </a:lnTo>
                    <a:lnTo>
                      <a:pt x="90" y="6629"/>
                    </a:lnTo>
                    <a:lnTo>
                      <a:pt x="119" y="6399"/>
                    </a:lnTo>
                    <a:lnTo>
                      <a:pt x="150" y="6167"/>
                    </a:lnTo>
                    <a:lnTo>
                      <a:pt x="180" y="5937"/>
                    </a:lnTo>
                    <a:lnTo>
                      <a:pt x="209" y="5707"/>
                    </a:lnTo>
                    <a:lnTo>
                      <a:pt x="239" y="5477"/>
                    </a:lnTo>
                    <a:lnTo>
                      <a:pt x="270" y="5248"/>
                    </a:lnTo>
                    <a:lnTo>
                      <a:pt x="299" y="5019"/>
                    </a:lnTo>
                    <a:lnTo>
                      <a:pt x="329" y="4789"/>
                    </a:lnTo>
                    <a:lnTo>
                      <a:pt x="358" y="4560"/>
                    </a:lnTo>
                    <a:lnTo>
                      <a:pt x="389" y="4331"/>
                    </a:lnTo>
                    <a:lnTo>
                      <a:pt x="419" y="4101"/>
                    </a:lnTo>
                    <a:lnTo>
                      <a:pt x="448" y="3872"/>
                    </a:lnTo>
                    <a:lnTo>
                      <a:pt x="477" y="3643"/>
                    </a:lnTo>
                    <a:lnTo>
                      <a:pt x="507" y="3415"/>
                    </a:lnTo>
                    <a:lnTo>
                      <a:pt x="537" y="3186"/>
                    </a:lnTo>
                    <a:lnTo>
                      <a:pt x="566" y="2958"/>
                    </a:lnTo>
                    <a:lnTo>
                      <a:pt x="595" y="2729"/>
                    </a:lnTo>
                    <a:lnTo>
                      <a:pt x="624" y="2502"/>
                    </a:lnTo>
                    <a:lnTo>
                      <a:pt x="654" y="2274"/>
                    </a:lnTo>
                    <a:lnTo>
                      <a:pt x="684" y="2046"/>
                    </a:lnTo>
                    <a:lnTo>
                      <a:pt x="713" y="1819"/>
                    </a:lnTo>
                    <a:lnTo>
                      <a:pt x="742" y="1592"/>
                    </a:lnTo>
                    <a:lnTo>
                      <a:pt x="772" y="1366"/>
                    </a:lnTo>
                    <a:lnTo>
                      <a:pt x="801" y="1138"/>
                    </a:lnTo>
                    <a:lnTo>
                      <a:pt x="830" y="910"/>
                    </a:lnTo>
                    <a:lnTo>
                      <a:pt x="860" y="684"/>
                    </a:lnTo>
                    <a:lnTo>
                      <a:pt x="889" y="456"/>
                    </a:lnTo>
                    <a:lnTo>
                      <a:pt x="919" y="228"/>
                    </a:lnTo>
                    <a:lnTo>
                      <a:pt x="94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887720" y="1681560"/>
                <a:ext cx="469800" cy="2115720"/>
              </a:xfrm>
              <a:custGeom>
                <a:avLst/>
                <a:gdLst/>
                <a:ahLst/>
                <a:rect l="l" t="t" r="r" b="b"/>
                <a:pathLst>
                  <a:path w="1257" h="7717">
                    <a:moveTo>
                      <a:pt x="921" y="0"/>
                    </a:moveTo>
                    <a:lnTo>
                      <a:pt x="963" y="94"/>
                    </a:lnTo>
                    <a:lnTo>
                      <a:pt x="1004" y="186"/>
                    </a:lnTo>
                    <a:lnTo>
                      <a:pt x="1046" y="279"/>
                    </a:lnTo>
                    <a:lnTo>
                      <a:pt x="1089" y="373"/>
                    </a:lnTo>
                    <a:lnTo>
                      <a:pt x="1130" y="465"/>
                    </a:lnTo>
                    <a:lnTo>
                      <a:pt x="1172" y="559"/>
                    </a:lnTo>
                    <a:lnTo>
                      <a:pt x="1215" y="652"/>
                    </a:lnTo>
                    <a:lnTo>
                      <a:pt x="1257" y="746"/>
                    </a:lnTo>
                    <a:lnTo>
                      <a:pt x="1228" y="963"/>
                    </a:lnTo>
                    <a:lnTo>
                      <a:pt x="1199" y="1178"/>
                    </a:lnTo>
                    <a:lnTo>
                      <a:pt x="1170" y="1395"/>
                    </a:lnTo>
                    <a:lnTo>
                      <a:pt x="1142" y="1610"/>
                    </a:lnTo>
                    <a:lnTo>
                      <a:pt x="1113" y="1827"/>
                    </a:lnTo>
                    <a:lnTo>
                      <a:pt x="1084" y="2042"/>
                    </a:lnTo>
                    <a:lnTo>
                      <a:pt x="1055" y="2259"/>
                    </a:lnTo>
                    <a:lnTo>
                      <a:pt x="1026" y="2474"/>
                    </a:lnTo>
                    <a:lnTo>
                      <a:pt x="998" y="2692"/>
                    </a:lnTo>
                    <a:lnTo>
                      <a:pt x="969" y="2909"/>
                    </a:lnTo>
                    <a:lnTo>
                      <a:pt x="940" y="3127"/>
                    </a:lnTo>
                    <a:lnTo>
                      <a:pt x="911" y="3343"/>
                    </a:lnTo>
                    <a:lnTo>
                      <a:pt x="883" y="3560"/>
                    </a:lnTo>
                    <a:lnTo>
                      <a:pt x="854" y="3778"/>
                    </a:lnTo>
                    <a:lnTo>
                      <a:pt x="824" y="3996"/>
                    </a:lnTo>
                    <a:lnTo>
                      <a:pt x="795" y="4212"/>
                    </a:lnTo>
                    <a:lnTo>
                      <a:pt x="766" y="4430"/>
                    </a:lnTo>
                    <a:lnTo>
                      <a:pt x="738" y="4648"/>
                    </a:lnTo>
                    <a:lnTo>
                      <a:pt x="708" y="4867"/>
                    </a:lnTo>
                    <a:lnTo>
                      <a:pt x="679" y="5085"/>
                    </a:lnTo>
                    <a:lnTo>
                      <a:pt x="650" y="5304"/>
                    </a:lnTo>
                    <a:lnTo>
                      <a:pt x="621" y="5523"/>
                    </a:lnTo>
                    <a:lnTo>
                      <a:pt x="593" y="5741"/>
                    </a:lnTo>
                    <a:lnTo>
                      <a:pt x="563" y="5960"/>
                    </a:lnTo>
                    <a:lnTo>
                      <a:pt x="534" y="6179"/>
                    </a:lnTo>
                    <a:lnTo>
                      <a:pt x="505" y="6398"/>
                    </a:lnTo>
                    <a:lnTo>
                      <a:pt x="476" y="6618"/>
                    </a:lnTo>
                    <a:lnTo>
                      <a:pt x="447" y="6837"/>
                    </a:lnTo>
                    <a:lnTo>
                      <a:pt x="418" y="7057"/>
                    </a:lnTo>
                    <a:lnTo>
                      <a:pt x="389" y="7276"/>
                    </a:lnTo>
                    <a:lnTo>
                      <a:pt x="360" y="7496"/>
                    </a:lnTo>
                    <a:lnTo>
                      <a:pt x="332" y="7717"/>
                    </a:lnTo>
                    <a:lnTo>
                      <a:pt x="289" y="7613"/>
                    </a:lnTo>
                    <a:lnTo>
                      <a:pt x="248" y="7511"/>
                    </a:lnTo>
                    <a:lnTo>
                      <a:pt x="207" y="7409"/>
                    </a:lnTo>
                    <a:lnTo>
                      <a:pt x="165" y="7307"/>
                    </a:lnTo>
                    <a:lnTo>
                      <a:pt x="124" y="7205"/>
                    </a:lnTo>
                    <a:lnTo>
                      <a:pt x="83" y="7104"/>
                    </a:lnTo>
                    <a:lnTo>
                      <a:pt x="41" y="7002"/>
                    </a:lnTo>
                    <a:lnTo>
                      <a:pt x="0" y="6901"/>
                    </a:lnTo>
                    <a:lnTo>
                      <a:pt x="29" y="6683"/>
                    </a:lnTo>
                    <a:lnTo>
                      <a:pt x="57" y="6465"/>
                    </a:lnTo>
                    <a:lnTo>
                      <a:pt x="87" y="6248"/>
                    </a:lnTo>
                    <a:lnTo>
                      <a:pt x="116" y="6030"/>
                    </a:lnTo>
                    <a:lnTo>
                      <a:pt x="144" y="5814"/>
                    </a:lnTo>
                    <a:lnTo>
                      <a:pt x="173" y="5596"/>
                    </a:lnTo>
                    <a:lnTo>
                      <a:pt x="202" y="5379"/>
                    </a:lnTo>
                    <a:lnTo>
                      <a:pt x="231" y="5163"/>
                    </a:lnTo>
                    <a:lnTo>
                      <a:pt x="260" y="4946"/>
                    </a:lnTo>
                    <a:lnTo>
                      <a:pt x="289" y="4729"/>
                    </a:lnTo>
                    <a:lnTo>
                      <a:pt x="317" y="4514"/>
                    </a:lnTo>
                    <a:lnTo>
                      <a:pt x="347" y="4297"/>
                    </a:lnTo>
                    <a:lnTo>
                      <a:pt x="376" y="4081"/>
                    </a:lnTo>
                    <a:lnTo>
                      <a:pt x="404" y="3865"/>
                    </a:lnTo>
                    <a:lnTo>
                      <a:pt x="433" y="3648"/>
                    </a:lnTo>
                    <a:lnTo>
                      <a:pt x="463" y="3433"/>
                    </a:lnTo>
                    <a:lnTo>
                      <a:pt x="491" y="3218"/>
                    </a:lnTo>
                    <a:lnTo>
                      <a:pt x="519" y="3002"/>
                    </a:lnTo>
                    <a:lnTo>
                      <a:pt x="548" y="2787"/>
                    </a:lnTo>
                    <a:lnTo>
                      <a:pt x="576" y="2571"/>
                    </a:lnTo>
                    <a:lnTo>
                      <a:pt x="605" y="2356"/>
                    </a:lnTo>
                    <a:lnTo>
                      <a:pt x="634" y="2141"/>
                    </a:lnTo>
                    <a:lnTo>
                      <a:pt x="662" y="1926"/>
                    </a:lnTo>
                    <a:lnTo>
                      <a:pt x="690" y="1712"/>
                    </a:lnTo>
                    <a:lnTo>
                      <a:pt x="720" y="1498"/>
                    </a:lnTo>
                    <a:lnTo>
                      <a:pt x="748" y="1284"/>
                    </a:lnTo>
                    <a:lnTo>
                      <a:pt x="777" y="1070"/>
                    </a:lnTo>
                    <a:lnTo>
                      <a:pt x="805" y="855"/>
                    </a:lnTo>
                    <a:lnTo>
                      <a:pt x="834" y="641"/>
                    </a:lnTo>
                    <a:lnTo>
                      <a:pt x="864" y="427"/>
                    </a:lnTo>
                    <a:lnTo>
                      <a:pt x="892" y="214"/>
                    </a:lnTo>
                    <a:lnTo>
                      <a:pt x="921"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87720" y="1681560"/>
                <a:ext cx="469800" cy="2115720"/>
              </a:xfrm>
              <a:custGeom>
                <a:avLst/>
                <a:gdLst/>
                <a:ahLst/>
                <a:rect l="l" t="t" r="r" b="b"/>
                <a:pathLst>
                  <a:path w="1257" h="7717">
                    <a:moveTo>
                      <a:pt x="921" y="0"/>
                    </a:moveTo>
                    <a:lnTo>
                      <a:pt x="963" y="94"/>
                    </a:lnTo>
                    <a:lnTo>
                      <a:pt x="1004" y="186"/>
                    </a:lnTo>
                    <a:lnTo>
                      <a:pt x="1046" y="279"/>
                    </a:lnTo>
                    <a:lnTo>
                      <a:pt x="1089" y="373"/>
                    </a:lnTo>
                    <a:lnTo>
                      <a:pt x="1130" y="465"/>
                    </a:lnTo>
                    <a:lnTo>
                      <a:pt x="1172" y="559"/>
                    </a:lnTo>
                    <a:lnTo>
                      <a:pt x="1215" y="652"/>
                    </a:lnTo>
                    <a:lnTo>
                      <a:pt x="1257" y="746"/>
                    </a:lnTo>
                    <a:lnTo>
                      <a:pt x="1228" y="963"/>
                    </a:lnTo>
                    <a:lnTo>
                      <a:pt x="1199" y="1178"/>
                    </a:lnTo>
                    <a:lnTo>
                      <a:pt x="1170" y="1395"/>
                    </a:lnTo>
                    <a:lnTo>
                      <a:pt x="1142" y="1610"/>
                    </a:lnTo>
                    <a:lnTo>
                      <a:pt x="1113" y="1827"/>
                    </a:lnTo>
                    <a:lnTo>
                      <a:pt x="1084" y="2042"/>
                    </a:lnTo>
                    <a:lnTo>
                      <a:pt x="1055" y="2259"/>
                    </a:lnTo>
                    <a:lnTo>
                      <a:pt x="1026" y="2474"/>
                    </a:lnTo>
                    <a:lnTo>
                      <a:pt x="998" y="2692"/>
                    </a:lnTo>
                    <a:lnTo>
                      <a:pt x="969" y="2909"/>
                    </a:lnTo>
                    <a:lnTo>
                      <a:pt x="940" y="3127"/>
                    </a:lnTo>
                    <a:lnTo>
                      <a:pt x="911" y="3343"/>
                    </a:lnTo>
                    <a:lnTo>
                      <a:pt x="883" y="3560"/>
                    </a:lnTo>
                    <a:lnTo>
                      <a:pt x="854" y="3778"/>
                    </a:lnTo>
                    <a:lnTo>
                      <a:pt x="824" y="3996"/>
                    </a:lnTo>
                    <a:lnTo>
                      <a:pt x="795" y="4212"/>
                    </a:lnTo>
                    <a:lnTo>
                      <a:pt x="766" y="4430"/>
                    </a:lnTo>
                    <a:lnTo>
                      <a:pt x="738" y="4648"/>
                    </a:lnTo>
                    <a:lnTo>
                      <a:pt x="708" y="4867"/>
                    </a:lnTo>
                    <a:lnTo>
                      <a:pt x="679" y="5085"/>
                    </a:lnTo>
                    <a:lnTo>
                      <a:pt x="650" y="5304"/>
                    </a:lnTo>
                    <a:lnTo>
                      <a:pt x="621" y="5523"/>
                    </a:lnTo>
                    <a:lnTo>
                      <a:pt x="593" y="5741"/>
                    </a:lnTo>
                    <a:lnTo>
                      <a:pt x="563" y="5960"/>
                    </a:lnTo>
                    <a:lnTo>
                      <a:pt x="534" y="6179"/>
                    </a:lnTo>
                    <a:lnTo>
                      <a:pt x="505" y="6398"/>
                    </a:lnTo>
                    <a:lnTo>
                      <a:pt x="476" y="6618"/>
                    </a:lnTo>
                    <a:lnTo>
                      <a:pt x="447" y="6837"/>
                    </a:lnTo>
                    <a:lnTo>
                      <a:pt x="418" y="7057"/>
                    </a:lnTo>
                    <a:lnTo>
                      <a:pt x="389" y="7276"/>
                    </a:lnTo>
                    <a:lnTo>
                      <a:pt x="360" y="7496"/>
                    </a:lnTo>
                    <a:lnTo>
                      <a:pt x="332" y="7717"/>
                    </a:lnTo>
                    <a:lnTo>
                      <a:pt x="289" y="7613"/>
                    </a:lnTo>
                    <a:lnTo>
                      <a:pt x="248" y="7511"/>
                    </a:lnTo>
                    <a:lnTo>
                      <a:pt x="207" y="7409"/>
                    </a:lnTo>
                    <a:lnTo>
                      <a:pt x="165" y="7307"/>
                    </a:lnTo>
                    <a:lnTo>
                      <a:pt x="124" y="7205"/>
                    </a:lnTo>
                    <a:lnTo>
                      <a:pt x="83" y="7104"/>
                    </a:lnTo>
                    <a:lnTo>
                      <a:pt x="41" y="7002"/>
                    </a:lnTo>
                    <a:lnTo>
                      <a:pt x="0" y="6901"/>
                    </a:lnTo>
                    <a:lnTo>
                      <a:pt x="29" y="6683"/>
                    </a:lnTo>
                    <a:lnTo>
                      <a:pt x="57" y="6465"/>
                    </a:lnTo>
                    <a:lnTo>
                      <a:pt x="87" y="6248"/>
                    </a:lnTo>
                    <a:lnTo>
                      <a:pt x="116" y="6030"/>
                    </a:lnTo>
                    <a:lnTo>
                      <a:pt x="144" y="5814"/>
                    </a:lnTo>
                    <a:lnTo>
                      <a:pt x="173" y="5596"/>
                    </a:lnTo>
                    <a:lnTo>
                      <a:pt x="202" y="5379"/>
                    </a:lnTo>
                    <a:lnTo>
                      <a:pt x="231" y="5163"/>
                    </a:lnTo>
                    <a:lnTo>
                      <a:pt x="260" y="4946"/>
                    </a:lnTo>
                    <a:lnTo>
                      <a:pt x="289" y="4729"/>
                    </a:lnTo>
                    <a:lnTo>
                      <a:pt x="317" y="4514"/>
                    </a:lnTo>
                    <a:lnTo>
                      <a:pt x="347" y="4297"/>
                    </a:lnTo>
                    <a:lnTo>
                      <a:pt x="376" y="4081"/>
                    </a:lnTo>
                    <a:lnTo>
                      <a:pt x="404" y="3865"/>
                    </a:lnTo>
                    <a:lnTo>
                      <a:pt x="433" y="3648"/>
                    </a:lnTo>
                    <a:lnTo>
                      <a:pt x="463" y="3433"/>
                    </a:lnTo>
                    <a:lnTo>
                      <a:pt x="491" y="3218"/>
                    </a:lnTo>
                    <a:lnTo>
                      <a:pt x="519" y="3002"/>
                    </a:lnTo>
                    <a:lnTo>
                      <a:pt x="548" y="2787"/>
                    </a:lnTo>
                    <a:lnTo>
                      <a:pt x="576" y="2571"/>
                    </a:lnTo>
                    <a:lnTo>
                      <a:pt x="605" y="2356"/>
                    </a:lnTo>
                    <a:lnTo>
                      <a:pt x="634" y="2141"/>
                    </a:lnTo>
                    <a:lnTo>
                      <a:pt x="662" y="1926"/>
                    </a:lnTo>
                    <a:lnTo>
                      <a:pt x="690" y="1712"/>
                    </a:lnTo>
                    <a:lnTo>
                      <a:pt x="720" y="1498"/>
                    </a:lnTo>
                    <a:lnTo>
                      <a:pt x="748" y="1284"/>
                    </a:lnTo>
                    <a:lnTo>
                      <a:pt x="777" y="1070"/>
                    </a:lnTo>
                    <a:lnTo>
                      <a:pt x="805" y="855"/>
                    </a:lnTo>
                    <a:lnTo>
                      <a:pt x="834" y="641"/>
                    </a:lnTo>
                    <a:lnTo>
                      <a:pt x="864" y="427"/>
                    </a:lnTo>
                    <a:lnTo>
                      <a:pt x="892" y="214"/>
                    </a:lnTo>
                    <a:lnTo>
                      <a:pt x="92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608720" y="3506400"/>
                <a:ext cx="402480" cy="290520"/>
              </a:xfrm>
              <a:custGeom>
                <a:avLst/>
                <a:gdLst/>
                <a:ahLst/>
                <a:rect l="l" t="t" r="r" b="b"/>
                <a:pathLst>
                  <a:path w="1080" h="1061">
                    <a:moveTo>
                      <a:pt x="748" y="245"/>
                    </a:moveTo>
                    <a:lnTo>
                      <a:pt x="789" y="346"/>
                    </a:lnTo>
                    <a:lnTo>
                      <a:pt x="831" y="448"/>
                    </a:lnTo>
                    <a:lnTo>
                      <a:pt x="872" y="549"/>
                    </a:lnTo>
                    <a:lnTo>
                      <a:pt x="913" y="651"/>
                    </a:lnTo>
                    <a:lnTo>
                      <a:pt x="955" y="753"/>
                    </a:lnTo>
                    <a:lnTo>
                      <a:pt x="996" y="855"/>
                    </a:lnTo>
                    <a:lnTo>
                      <a:pt x="1037" y="957"/>
                    </a:lnTo>
                    <a:lnTo>
                      <a:pt x="1080" y="1061"/>
                    </a:lnTo>
                    <a:lnTo>
                      <a:pt x="983" y="1028"/>
                    </a:lnTo>
                    <a:lnTo>
                      <a:pt x="887" y="994"/>
                    </a:lnTo>
                    <a:lnTo>
                      <a:pt x="792" y="962"/>
                    </a:lnTo>
                    <a:lnTo>
                      <a:pt x="696" y="929"/>
                    </a:lnTo>
                    <a:lnTo>
                      <a:pt x="602" y="897"/>
                    </a:lnTo>
                    <a:lnTo>
                      <a:pt x="508" y="865"/>
                    </a:lnTo>
                    <a:lnTo>
                      <a:pt x="413" y="833"/>
                    </a:lnTo>
                    <a:lnTo>
                      <a:pt x="319" y="800"/>
                    </a:lnTo>
                    <a:lnTo>
                      <a:pt x="280" y="700"/>
                    </a:lnTo>
                    <a:lnTo>
                      <a:pt x="240" y="599"/>
                    </a:lnTo>
                    <a:lnTo>
                      <a:pt x="201" y="499"/>
                    </a:lnTo>
                    <a:lnTo>
                      <a:pt x="160" y="400"/>
                    </a:lnTo>
                    <a:lnTo>
                      <a:pt x="120" y="299"/>
                    </a:lnTo>
                    <a:lnTo>
                      <a:pt x="80" y="199"/>
                    </a:lnTo>
                    <a:lnTo>
                      <a:pt x="40" y="99"/>
                    </a:lnTo>
                    <a:lnTo>
                      <a:pt x="0" y="0"/>
                    </a:lnTo>
                    <a:lnTo>
                      <a:pt x="93" y="30"/>
                    </a:lnTo>
                    <a:lnTo>
                      <a:pt x="185" y="60"/>
                    </a:lnTo>
                    <a:lnTo>
                      <a:pt x="278" y="91"/>
                    </a:lnTo>
                    <a:lnTo>
                      <a:pt x="372" y="122"/>
                    </a:lnTo>
                    <a:lnTo>
                      <a:pt x="465" y="152"/>
                    </a:lnTo>
                    <a:lnTo>
                      <a:pt x="559" y="183"/>
                    </a:lnTo>
                    <a:lnTo>
                      <a:pt x="653" y="214"/>
                    </a:lnTo>
                    <a:lnTo>
                      <a:pt x="748" y="245"/>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08720" y="3506400"/>
                <a:ext cx="402480" cy="290520"/>
              </a:xfrm>
              <a:custGeom>
                <a:avLst/>
                <a:gdLst/>
                <a:ahLst/>
                <a:rect l="l" t="t" r="r" b="b"/>
                <a:pathLst>
                  <a:path w="1080" h="1061">
                    <a:moveTo>
                      <a:pt x="748" y="245"/>
                    </a:moveTo>
                    <a:lnTo>
                      <a:pt x="789" y="346"/>
                    </a:lnTo>
                    <a:lnTo>
                      <a:pt x="831" y="448"/>
                    </a:lnTo>
                    <a:lnTo>
                      <a:pt x="872" y="549"/>
                    </a:lnTo>
                    <a:lnTo>
                      <a:pt x="913" y="651"/>
                    </a:lnTo>
                    <a:lnTo>
                      <a:pt x="955" y="753"/>
                    </a:lnTo>
                    <a:lnTo>
                      <a:pt x="996" y="855"/>
                    </a:lnTo>
                    <a:lnTo>
                      <a:pt x="1037" y="957"/>
                    </a:lnTo>
                    <a:lnTo>
                      <a:pt x="1080" y="1061"/>
                    </a:lnTo>
                    <a:lnTo>
                      <a:pt x="983" y="1028"/>
                    </a:lnTo>
                    <a:lnTo>
                      <a:pt x="887" y="994"/>
                    </a:lnTo>
                    <a:lnTo>
                      <a:pt x="792" y="962"/>
                    </a:lnTo>
                    <a:lnTo>
                      <a:pt x="696" y="929"/>
                    </a:lnTo>
                    <a:lnTo>
                      <a:pt x="602" y="897"/>
                    </a:lnTo>
                    <a:lnTo>
                      <a:pt x="508" y="865"/>
                    </a:lnTo>
                    <a:lnTo>
                      <a:pt x="413" y="833"/>
                    </a:lnTo>
                    <a:lnTo>
                      <a:pt x="319" y="800"/>
                    </a:lnTo>
                    <a:lnTo>
                      <a:pt x="280" y="700"/>
                    </a:lnTo>
                    <a:lnTo>
                      <a:pt x="240" y="599"/>
                    </a:lnTo>
                    <a:lnTo>
                      <a:pt x="201" y="499"/>
                    </a:lnTo>
                    <a:lnTo>
                      <a:pt x="160" y="400"/>
                    </a:lnTo>
                    <a:lnTo>
                      <a:pt x="120" y="299"/>
                    </a:lnTo>
                    <a:lnTo>
                      <a:pt x="80" y="199"/>
                    </a:lnTo>
                    <a:lnTo>
                      <a:pt x="40" y="99"/>
                    </a:lnTo>
                    <a:lnTo>
                      <a:pt x="0" y="0"/>
                    </a:lnTo>
                    <a:lnTo>
                      <a:pt x="93" y="30"/>
                    </a:lnTo>
                    <a:lnTo>
                      <a:pt x="185" y="60"/>
                    </a:lnTo>
                    <a:lnTo>
                      <a:pt x="278" y="91"/>
                    </a:lnTo>
                    <a:lnTo>
                      <a:pt x="372" y="122"/>
                    </a:lnTo>
                    <a:lnTo>
                      <a:pt x="465" y="152"/>
                    </a:lnTo>
                    <a:lnTo>
                      <a:pt x="559" y="183"/>
                    </a:lnTo>
                    <a:lnTo>
                      <a:pt x="653" y="214"/>
                    </a:lnTo>
                    <a:lnTo>
                      <a:pt x="748" y="245"/>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608720" y="1640520"/>
                <a:ext cx="623520" cy="1933200"/>
              </a:xfrm>
              <a:custGeom>
                <a:avLst/>
                <a:gdLst/>
                <a:ahLst/>
                <a:rect l="l" t="t" r="r" b="b"/>
                <a:pathLst>
                  <a:path w="1669" h="7051">
                    <a:moveTo>
                      <a:pt x="916" y="0"/>
                    </a:moveTo>
                    <a:lnTo>
                      <a:pt x="1010" y="18"/>
                    </a:lnTo>
                    <a:lnTo>
                      <a:pt x="1103" y="38"/>
                    </a:lnTo>
                    <a:lnTo>
                      <a:pt x="1196" y="56"/>
                    </a:lnTo>
                    <a:lnTo>
                      <a:pt x="1290" y="75"/>
                    </a:lnTo>
                    <a:lnTo>
                      <a:pt x="1385" y="93"/>
                    </a:lnTo>
                    <a:lnTo>
                      <a:pt x="1479" y="112"/>
                    </a:lnTo>
                    <a:lnTo>
                      <a:pt x="1573" y="131"/>
                    </a:lnTo>
                    <a:lnTo>
                      <a:pt x="1669" y="150"/>
                    </a:lnTo>
                    <a:lnTo>
                      <a:pt x="1640" y="364"/>
                    </a:lnTo>
                    <a:lnTo>
                      <a:pt x="1612" y="577"/>
                    </a:lnTo>
                    <a:lnTo>
                      <a:pt x="1582" y="791"/>
                    </a:lnTo>
                    <a:lnTo>
                      <a:pt x="1553" y="1005"/>
                    </a:lnTo>
                    <a:lnTo>
                      <a:pt x="1525" y="1220"/>
                    </a:lnTo>
                    <a:lnTo>
                      <a:pt x="1496" y="1434"/>
                    </a:lnTo>
                    <a:lnTo>
                      <a:pt x="1468" y="1648"/>
                    </a:lnTo>
                    <a:lnTo>
                      <a:pt x="1438" y="1862"/>
                    </a:lnTo>
                    <a:lnTo>
                      <a:pt x="1410" y="2076"/>
                    </a:lnTo>
                    <a:lnTo>
                      <a:pt x="1382" y="2291"/>
                    </a:lnTo>
                    <a:lnTo>
                      <a:pt x="1353" y="2506"/>
                    </a:lnTo>
                    <a:lnTo>
                      <a:pt x="1324" y="2721"/>
                    </a:lnTo>
                    <a:lnTo>
                      <a:pt x="1296" y="2937"/>
                    </a:lnTo>
                    <a:lnTo>
                      <a:pt x="1267" y="3152"/>
                    </a:lnTo>
                    <a:lnTo>
                      <a:pt x="1239" y="3368"/>
                    </a:lnTo>
                    <a:lnTo>
                      <a:pt x="1211" y="3583"/>
                    </a:lnTo>
                    <a:lnTo>
                      <a:pt x="1181" y="3798"/>
                    </a:lnTo>
                    <a:lnTo>
                      <a:pt x="1152" y="4015"/>
                    </a:lnTo>
                    <a:lnTo>
                      <a:pt x="1124" y="4231"/>
                    </a:lnTo>
                    <a:lnTo>
                      <a:pt x="1095" y="4447"/>
                    </a:lnTo>
                    <a:lnTo>
                      <a:pt x="1065" y="4664"/>
                    </a:lnTo>
                    <a:lnTo>
                      <a:pt x="1037" y="4879"/>
                    </a:lnTo>
                    <a:lnTo>
                      <a:pt x="1008" y="5096"/>
                    </a:lnTo>
                    <a:lnTo>
                      <a:pt x="979" y="5313"/>
                    </a:lnTo>
                    <a:lnTo>
                      <a:pt x="950" y="5529"/>
                    </a:lnTo>
                    <a:lnTo>
                      <a:pt x="921" y="5746"/>
                    </a:lnTo>
                    <a:lnTo>
                      <a:pt x="892" y="5964"/>
                    </a:lnTo>
                    <a:lnTo>
                      <a:pt x="864" y="6180"/>
                    </a:lnTo>
                    <a:lnTo>
                      <a:pt x="835" y="6398"/>
                    </a:lnTo>
                    <a:lnTo>
                      <a:pt x="805" y="6615"/>
                    </a:lnTo>
                    <a:lnTo>
                      <a:pt x="777" y="6833"/>
                    </a:lnTo>
                    <a:lnTo>
                      <a:pt x="748" y="7051"/>
                    </a:lnTo>
                    <a:lnTo>
                      <a:pt x="653" y="7020"/>
                    </a:lnTo>
                    <a:lnTo>
                      <a:pt x="559" y="6989"/>
                    </a:lnTo>
                    <a:lnTo>
                      <a:pt x="465" y="6958"/>
                    </a:lnTo>
                    <a:lnTo>
                      <a:pt x="372" y="6928"/>
                    </a:lnTo>
                    <a:lnTo>
                      <a:pt x="278" y="6897"/>
                    </a:lnTo>
                    <a:lnTo>
                      <a:pt x="185" y="6866"/>
                    </a:lnTo>
                    <a:lnTo>
                      <a:pt x="93" y="6836"/>
                    </a:lnTo>
                    <a:lnTo>
                      <a:pt x="0" y="6806"/>
                    </a:lnTo>
                    <a:lnTo>
                      <a:pt x="29" y="6592"/>
                    </a:lnTo>
                    <a:lnTo>
                      <a:pt x="57" y="6377"/>
                    </a:lnTo>
                    <a:lnTo>
                      <a:pt x="86" y="6162"/>
                    </a:lnTo>
                    <a:lnTo>
                      <a:pt x="115" y="5948"/>
                    </a:lnTo>
                    <a:lnTo>
                      <a:pt x="144" y="5734"/>
                    </a:lnTo>
                    <a:lnTo>
                      <a:pt x="172" y="5519"/>
                    </a:lnTo>
                    <a:lnTo>
                      <a:pt x="202" y="5305"/>
                    </a:lnTo>
                    <a:lnTo>
                      <a:pt x="230" y="5091"/>
                    </a:lnTo>
                    <a:lnTo>
                      <a:pt x="259" y="4878"/>
                    </a:lnTo>
                    <a:lnTo>
                      <a:pt x="287" y="4664"/>
                    </a:lnTo>
                    <a:lnTo>
                      <a:pt x="316" y="4451"/>
                    </a:lnTo>
                    <a:lnTo>
                      <a:pt x="346" y="4238"/>
                    </a:lnTo>
                    <a:lnTo>
                      <a:pt x="375" y="4025"/>
                    </a:lnTo>
                    <a:lnTo>
                      <a:pt x="404" y="3812"/>
                    </a:lnTo>
                    <a:lnTo>
                      <a:pt x="432" y="3598"/>
                    </a:lnTo>
                    <a:lnTo>
                      <a:pt x="462" y="3385"/>
                    </a:lnTo>
                    <a:lnTo>
                      <a:pt x="490" y="3173"/>
                    </a:lnTo>
                    <a:lnTo>
                      <a:pt x="519" y="2960"/>
                    </a:lnTo>
                    <a:lnTo>
                      <a:pt x="547" y="2748"/>
                    </a:lnTo>
                    <a:lnTo>
                      <a:pt x="576" y="2536"/>
                    </a:lnTo>
                    <a:lnTo>
                      <a:pt x="604" y="2324"/>
                    </a:lnTo>
                    <a:lnTo>
                      <a:pt x="632" y="2112"/>
                    </a:lnTo>
                    <a:lnTo>
                      <a:pt x="660" y="1900"/>
                    </a:lnTo>
                    <a:lnTo>
                      <a:pt x="689" y="1689"/>
                    </a:lnTo>
                    <a:lnTo>
                      <a:pt x="718" y="1477"/>
                    </a:lnTo>
                    <a:lnTo>
                      <a:pt x="746" y="1265"/>
                    </a:lnTo>
                    <a:lnTo>
                      <a:pt x="774" y="1055"/>
                    </a:lnTo>
                    <a:lnTo>
                      <a:pt x="802" y="843"/>
                    </a:lnTo>
                    <a:lnTo>
                      <a:pt x="832" y="632"/>
                    </a:lnTo>
                    <a:lnTo>
                      <a:pt x="860" y="422"/>
                    </a:lnTo>
                    <a:lnTo>
                      <a:pt x="888" y="212"/>
                    </a:lnTo>
                    <a:lnTo>
                      <a:pt x="916"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608720" y="1640520"/>
                <a:ext cx="623520" cy="1933200"/>
              </a:xfrm>
              <a:custGeom>
                <a:avLst/>
                <a:gdLst/>
                <a:ahLst/>
                <a:rect l="l" t="t" r="r" b="b"/>
                <a:pathLst>
                  <a:path w="1669" h="7051">
                    <a:moveTo>
                      <a:pt x="916" y="0"/>
                    </a:moveTo>
                    <a:lnTo>
                      <a:pt x="1010" y="18"/>
                    </a:lnTo>
                    <a:lnTo>
                      <a:pt x="1103" y="38"/>
                    </a:lnTo>
                    <a:lnTo>
                      <a:pt x="1196" y="56"/>
                    </a:lnTo>
                    <a:lnTo>
                      <a:pt x="1290" y="75"/>
                    </a:lnTo>
                    <a:lnTo>
                      <a:pt x="1385" y="93"/>
                    </a:lnTo>
                    <a:lnTo>
                      <a:pt x="1479" y="112"/>
                    </a:lnTo>
                    <a:lnTo>
                      <a:pt x="1573" y="131"/>
                    </a:lnTo>
                    <a:lnTo>
                      <a:pt x="1669" y="150"/>
                    </a:lnTo>
                    <a:lnTo>
                      <a:pt x="1640" y="364"/>
                    </a:lnTo>
                    <a:lnTo>
                      <a:pt x="1612" y="577"/>
                    </a:lnTo>
                    <a:lnTo>
                      <a:pt x="1582" y="791"/>
                    </a:lnTo>
                    <a:lnTo>
                      <a:pt x="1553" y="1005"/>
                    </a:lnTo>
                    <a:lnTo>
                      <a:pt x="1525" y="1220"/>
                    </a:lnTo>
                    <a:lnTo>
                      <a:pt x="1496" y="1434"/>
                    </a:lnTo>
                    <a:lnTo>
                      <a:pt x="1468" y="1648"/>
                    </a:lnTo>
                    <a:lnTo>
                      <a:pt x="1438" y="1862"/>
                    </a:lnTo>
                    <a:lnTo>
                      <a:pt x="1410" y="2076"/>
                    </a:lnTo>
                    <a:lnTo>
                      <a:pt x="1382" y="2291"/>
                    </a:lnTo>
                    <a:lnTo>
                      <a:pt x="1353" y="2506"/>
                    </a:lnTo>
                    <a:lnTo>
                      <a:pt x="1324" y="2721"/>
                    </a:lnTo>
                    <a:lnTo>
                      <a:pt x="1296" y="2937"/>
                    </a:lnTo>
                    <a:lnTo>
                      <a:pt x="1267" y="3152"/>
                    </a:lnTo>
                    <a:lnTo>
                      <a:pt x="1239" y="3368"/>
                    </a:lnTo>
                    <a:lnTo>
                      <a:pt x="1211" y="3583"/>
                    </a:lnTo>
                    <a:lnTo>
                      <a:pt x="1181" y="3798"/>
                    </a:lnTo>
                    <a:lnTo>
                      <a:pt x="1152" y="4015"/>
                    </a:lnTo>
                    <a:lnTo>
                      <a:pt x="1124" y="4231"/>
                    </a:lnTo>
                    <a:lnTo>
                      <a:pt x="1095" y="4447"/>
                    </a:lnTo>
                    <a:lnTo>
                      <a:pt x="1065" y="4664"/>
                    </a:lnTo>
                    <a:lnTo>
                      <a:pt x="1037" y="4879"/>
                    </a:lnTo>
                    <a:lnTo>
                      <a:pt x="1008" y="5096"/>
                    </a:lnTo>
                    <a:lnTo>
                      <a:pt x="979" y="5313"/>
                    </a:lnTo>
                    <a:lnTo>
                      <a:pt x="950" y="5529"/>
                    </a:lnTo>
                    <a:lnTo>
                      <a:pt x="921" y="5746"/>
                    </a:lnTo>
                    <a:lnTo>
                      <a:pt x="892" y="5964"/>
                    </a:lnTo>
                    <a:lnTo>
                      <a:pt x="864" y="6180"/>
                    </a:lnTo>
                    <a:lnTo>
                      <a:pt x="835" y="6398"/>
                    </a:lnTo>
                    <a:lnTo>
                      <a:pt x="805" y="6615"/>
                    </a:lnTo>
                    <a:lnTo>
                      <a:pt x="777" y="6833"/>
                    </a:lnTo>
                    <a:lnTo>
                      <a:pt x="748" y="7051"/>
                    </a:lnTo>
                    <a:lnTo>
                      <a:pt x="653" y="7020"/>
                    </a:lnTo>
                    <a:lnTo>
                      <a:pt x="559" y="6989"/>
                    </a:lnTo>
                    <a:lnTo>
                      <a:pt x="465" y="6958"/>
                    </a:lnTo>
                    <a:lnTo>
                      <a:pt x="372" y="6928"/>
                    </a:lnTo>
                    <a:lnTo>
                      <a:pt x="278" y="6897"/>
                    </a:lnTo>
                    <a:lnTo>
                      <a:pt x="185" y="6866"/>
                    </a:lnTo>
                    <a:lnTo>
                      <a:pt x="93" y="6836"/>
                    </a:lnTo>
                    <a:lnTo>
                      <a:pt x="0" y="6806"/>
                    </a:lnTo>
                    <a:lnTo>
                      <a:pt x="29" y="6592"/>
                    </a:lnTo>
                    <a:lnTo>
                      <a:pt x="57" y="6377"/>
                    </a:lnTo>
                    <a:lnTo>
                      <a:pt x="86" y="6162"/>
                    </a:lnTo>
                    <a:lnTo>
                      <a:pt x="115" y="5948"/>
                    </a:lnTo>
                    <a:lnTo>
                      <a:pt x="144" y="5734"/>
                    </a:lnTo>
                    <a:lnTo>
                      <a:pt x="172" y="5519"/>
                    </a:lnTo>
                    <a:lnTo>
                      <a:pt x="202" y="5305"/>
                    </a:lnTo>
                    <a:lnTo>
                      <a:pt x="230" y="5091"/>
                    </a:lnTo>
                    <a:lnTo>
                      <a:pt x="259" y="4878"/>
                    </a:lnTo>
                    <a:lnTo>
                      <a:pt x="287" y="4664"/>
                    </a:lnTo>
                    <a:lnTo>
                      <a:pt x="316" y="4451"/>
                    </a:lnTo>
                    <a:lnTo>
                      <a:pt x="346" y="4238"/>
                    </a:lnTo>
                    <a:lnTo>
                      <a:pt x="375" y="4025"/>
                    </a:lnTo>
                    <a:lnTo>
                      <a:pt x="404" y="3812"/>
                    </a:lnTo>
                    <a:lnTo>
                      <a:pt x="432" y="3598"/>
                    </a:lnTo>
                    <a:lnTo>
                      <a:pt x="462" y="3385"/>
                    </a:lnTo>
                    <a:lnTo>
                      <a:pt x="490" y="3173"/>
                    </a:lnTo>
                    <a:lnTo>
                      <a:pt x="519" y="2960"/>
                    </a:lnTo>
                    <a:lnTo>
                      <a:pt x="547" y="2748"/>
                    </a:lnTo>
                    <a:lnTo>
                      <a:pt x="576" y="2536"/>
                    </a:lnTo>
                    <a:lnTo>
                      <a:pt x="604" y="2324"/>
                    </a:lnTo>
                    <a:lnTo>
                      <a:pt x="632" y="2112"/>
                    </a:lnTo>
                    <a:lnTo>
                      <a:pt x="660" y="1900"/>
                    </a:lnTo>
                    <a:lnTo>
                      <a:pt x="689" y="1689"/>
                    </a:lnTo>
                    <a:lnTo>
                      <a:pt x="718" y="1477"/>
                    </a:lnTo>
                    <a:lnTo>
                      <a:pt x="746" y="1265"/>
                    </a:lnTo>
                    <a:lnTo>
                      <a:pt x="774" y="1055"/>
                    </a:lnTo>
                    <a:lnTo>
                      <a:pt x="802" y="843"/>
                    </a:lnTo>
                    <a:lnTo>
                      <a:pt x="832" y="632"/>
                    </a:lnTo>
                    <a:lnTo>
                      <a:pt x="860" y="422"/>
                    </a:lnTo>
                    <a:lnTo>
                      <a:pt x="888" y="212"/>
                    </a:lnTo>
                    <a:lnTo>
                      <a:pt x="916"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916160" y="1672920"/>
                <a:ext cx="413280" cy="2029320"/>
              </a:xfrm>
              <a:custGeom>
                <a:avLst/>
                <a:gdLst/>
                <a:ahLst/>
                <a:rect l="l" t="t" r="r" b="b"/>
                <a:pathLst>
                  <a:path w="1108" h="7399">
                    <a:moveTo>
                      <a:pt x="938" y="0"/>
                    </a:moveTo>
                    <a:lnTo>
                      <a:pt x="959" y="44"/>
                    </a:lnTo>
                    <a:lnTo>
                      <a:pt x="980" y="87"/>
                    </a:lnTo>
                    <a:lnTo>
                      <a:pt x="1001" y="129"/>
                    </a:lnTo>
                    <a:lnTo>
                      <a:pt x="1023" y="172"/>
                    </a:lnTo>
                    <a:lnTo>
                      <a:pt x="1044" y="215"/>
                    </a:lnTo>
                    <a:lnTo>
                      <a:pt x="1065" y="258"/>
                    </a:lnTo>
                    <a:lnTo>
                      <a:pt x="1087" y="301"/>
                    </a:lnTo>
                    <a:lnTo>
                      <a:pt x="1108" y="343"/>
                    </a:lnTo>
                    <a:lnTo>
                      <a:pt x="1079" y="562"/>
                    </a:lnTo>
                    <a:lnTo>
                      <a:pt x="1050" y="780"/>
                    </a:lnTo>
                    <a:lnTo>
                      <a:pt x="1021" y="999"/>
                    </a:lnTo>
                    <a:lnTo>
                      <a:pt x="991" y="1218"/>
                    </a:lnTo>
                    <a:lnTo>
                      <a:pt x="963" y="1436"/>
                    </a:lnTo>
                    <a:lnTo>
                      <a:pt x="934" y="1655"/>
                    </a:lnTo>
                    <a:lnTo>
                      <a:pt x="905" y="1874"/>
                    </a:lnTo>
                    <a:lnTo>
                      <a:pt x="875" y="2093"/>
                    </a:lnTo>
                    <a:lnTo>
                      <a:pt x="846" y="2313"/>
                    </a:lnTo>
                    <a:lnTo>
                      <a:pt x="817" y="2532"/>
                    </a:lnTo>
                    <a:lnTo>
                      <a:pt x="788" y="2751"/>
                    </a:lnTo>
                    <a:lnTo>
                      <a:pt x="758" y="2971"/>
                    </a:lnTo>
                    <a:lnTo>
                      <a:pt x="729" y="3191"/>
                    </a:lnTo>
                    <a:lnTo>
                      <a:pt x="700" y="3412"/>
                    </a:lnTo>
                    <a:lnTo>
                      <a:pt x="671" y="3632"/>
                    </a:lnTo>
                    <a:lnTo>
                      <a:pt x="642" y="3853"/>
                    </a:lnTo>
                    <a:lnTo>
                      <a:pt x="611" y="4074"/>
                    </a:lnTo>
                    <a:lnTo>
                      <a:pt x="582" y="4294"/>
                    </a:lnTo>
                    <a:lnTo>
                      <a:pt x="553" y="4516"/>
                    </a:lnTo>
                    <a:lnTo>
                      <a:pt x="524" y="4736"/>
                    </a:lnTo>
                    <a:lnTo>
                      <a:pt x="493" y="4958"/>
                    </a:lnTo>
                    <a:lnTo>
                      <a:pt x="464" y="5178"/>
                    </a:lnTo>
                    <a:lnTo>
                      <a:pt x="435" y="5400"/>
                    </a:lnTo>
                    <a:lnTo>
                      <a:pt x="406" y="5621"/>
                    </a:lnTo>
                    <a:lnTo>
                      <a:pt x="376" y="5843"/>
                    </a:lnTo>
                    <a:lnTo>
                      <a:pt x="347" y="6065"/>
                    </a:lnTo>
                    <a:lnTo>
                      <a:pt x="317" y="6287"/>
                    </a:lnTo>
                    <a:lnTo>
                      <a:pt x="288" y="6509"/>
                    </a:lnTo>
                    <a:lnTo>
                      <a:pt x="259" y="6732"/>
                    </a:lnTo>
                    <a:lnTo>
                      <a:pt x="229" y="6954"/>
                    </a:lnTo>
                    <a:lnTo>
                      <a:pt x="200" y="7176"/>
                    </a:lnTo>
                    <a:lnTo>
                      <a:pt x="171" y="7399"/>
                    </a:lnTo>
                    <a:lnTo>
                      <a:pt x="150" y="7352"/>
                    </a:lnTo>
                    <a:lnTo>
                      <a:pt x="127" y="7305"/>
                    </a:lnTo>
                    <a:lnTo>
                      <a:pt x="106" y="7259"/>
                    </a:lnTo>
                    <a:lnTo>
                      <a:pt x="85" y="7212"/>
                    </a:lnTo>
                    <a:lnTo>
                      <a:pt x="63" y="7165"/>
                    </a:lnTo>
                    <a:lnTo>
                      <a:pt x="42" y="7118"/>
                    </a:lnTo>
                    <a:lnTo>
                      <a:pt x="21" y="7071"/>
                    </a:lnTo>
                    <a:lnTo>
                      <a:pt x="0" y="7025"/>
                    </a:lnTo>
                    <a:lnTo>
                      <a:pt x="30" y="6803"/>
                    </a:lnTo>
                    <a:lnTo>
                      <a:pt x="59" y="6582"/>
                    </a:lnTo>
                    <a:lnTo>
                      <a:pt x="89" y="6360"/>
                    </a:lnTo>
                    <a:lnTo>
                      <a:pt x="118" y="6138"/>
                    </a:lnTo>
                    <a:lnTo>
                      <a:pt x="148" y="5918"/>
                    </a:lnTo>
                    <a:lnTo>
                      <a:pt x="177" y="5696"/>
                    </a:lnTo>
                    <a:lnTo>
                      <a:pt x="207" y="5476"/>
                    </a:lnTo>
                    <a:lnTo>
                      <a:pt x="236" y="5256"/>
                    </a:lnTo>
                    <a:lnTo>
                      <a:pt x="266" y="5035"/>
                    </a:lnTo>
                    <a:lnTo>
                      <a:pt x="295" y="4815"/>
                    </a:lnTo>
                    <a:lnTo>
                      <a:pt x="324" y="4595"/>
                    </a:lnTo>
                    <a:lnTo>
                      <a:pt x="353" y="4374"/>
                    </a:lnTo>
                    <a:lnTo>
                      <a:pt x="382" y="4154"/>
                    </a:lnTo>
                    <a:lnTo>
                      <a:pt x="411" y="3934"/>
                    </a:lnTo>
                    <a:lnTo>
                      <a:pt x="440" y="3713"/>
                    </a:lnTo>
                    <a:lnTo>
                      <a:pt x="469" y="3494"/>
                    </a:lnTo>
                    <a:lnTo>
                      <a:pt x="498" y="3275"/>
                    </a:lnTo>
                    <a:lnTo>
                      <a:pt x="528" y="3056"/>
                    </a:lnTo>
                    <a:lnTo>
                      <a:pt x="557" y="2837"/>
                    </a:lnTo>
                    <a:lnTo>
                      <a:pt x="586" y="2618"/>
                    </a:lnTo>
                    <a:lnTo>
                      <a:pt x="615" y="2399"/>
                    </a:lnTo>
                    <a:lnTo>
                      <a:pt x="645" y="2181"/>
                    </a:lnTo>
                    <a:lnTo>
                      <a:pt x="674" y="1962"/>
                    </a:lnTo>
                    <a:lnTo>
                      <a:pt x="703" y="1744"/>
                    </a:lnTo>
                    <a:lnTo>
                      <a:pt x="732" y="1526"/>
                    </a:lnTo>
                    <a:lnTo>
                      <a:pt x="762" y="1308"/>
                    </a:lnTo>
                    <a:lnTo>
                      <a:pt x="791" y="1090"/>
                    </a:lnTo>
                    <a:lnTo>
                      <a:pt x="820" y="872"/>
                    </a:lnTo>
                    <a:lnTo>
                      <a:pt x="849" y="655"/>
                    </a:lnTo>
                    <a:lnTo>
                      <a:pt x="878" y="437"/>
                    </a:lnTo>
                    <a:lnTo>
                      <a:pt x="908" y="219"/>
                    </a:lnTo>
                    <a:lnTo>
                      <a:pt x="938" y="0"/>
                    </a:lnTo>
                    <a:close/>
                  </a:path>
                </a:pathLst>
              </a:custGeom>
              <a:solidFill>
                <a:srgbClr val="8f56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916160" y="1672920"/>
                <a:ext cx="413280" cy="2029320"/>
              </a:xfrm>
              <a:custGeom>
                <a:avLst/>
                <a:gdLst/>
                <a:ahLst/>
                <a:rect l="l" t="t" r="r" b="b"/>
                <a:pathLst>
                  <a:path w="1108" h="7399">
                    <a:moveTo>
                      <a:pt x="938" y="0"/>
                    </a:moveTo>
                    <a:lnTo>
                      <a:pt x="959" y="44"/>
                    </a:lnTo>
                    <a:lnTo>
                      <a:pt x="980" y="87"/>
                    </a:lnTo>
                    <a:lnTo>
                      <a:pt x="1001" y="129"/>
                    </a:lnTo>
                    <a:lnTo>
                      <a:pt x="1023" y="172"/>
                    </a:lnTo>
                    <a:lnTo>
                      <a:pt x="1044" y="215"/>
                    </a:lnTo>
                    <a:lnTo>
                      <a:pt x="1065" y="258"/>
                    </a:lnTo>
                    <a:lnTo>
                      <a:pt x="1087" y="301"/>
                    </a:lnTo>
                    <a:lnTo>
                      <a:pt x="1108" y="343"/>
                    </a:lnTo>
                    <a:lnTo>
                      <a:pt x="1079" y="562"/>
                    </a:lnTo>
                    <a:lnTo>
                      <a:pt x="1050" y="780"/>
                    </a:lnTo>
                    <a:lnTo>
                      <a:pt x="1021" y="999"/>
                    </a:lnTo>
                    <a:lnTo>
                      <a:pt x="991" y="1218"/>
                    </a:lnTo>
                    <a:lnTo>
                      <a:pt x="963" y="1436"/>
                    </a:lnTo>
                    <a:lnTo>
                      <a:pt x="934" y="1655"/>
                    </a:lnTo>
                    <a:lnTo>
                      <a:pt x="905" y="1874"/>
                    </a:lnTo>
                    <a:lnTo>
                      <a:pt x="875" y="2093"/>
                    </a:lnTo>
                    <a:lnTo>
                      <a:pt x="846" y="2313"/>
                    </a:lnTo>
                    <a:lnTo>
                      <a:pt x="817" y="2532"/>
                    </a:lnTo>
                    <a:lnTo>
                      <a:pt x="788" y="2751"/>
                    </a:lnTo>
                    <a:lnTo>
                      <a:pt x="758" y="2971"/>
                    </a:lnTo>
                    <a:lnTo>
                      <a:pt x="729" y="3191"/>
                    </a:lnTo>
                    <a:lnTo>
                      <a:pt x="700" y="3412"/>
                    </a:lnTo>
                    <a:lnTo>
                      <a:pt x="671" y="3632"/>
                    </a:lnTo>
                    <a:lnTo>
                      <a:pt x="642" y="3853"/>
                    </a:lnTo>
                    <a:lnTo>
                      <a:pt x="611" y="4074"/>
                    </a:lnTo>
                    <a:lnTo>
                      <a:pt x="582" y="4294"/>
                    </a:lnTo>
                    <a:lnTo>
                      <a:pt x="553" y="4516"/>
                    </a:lnTo>
                    <a:lnTo>
                      <a:pt x="524" y="4736"/>
                    </a:lnTo>
                    <a:lnTo>
                      <a:pt x="493" y="4958"/>
                    </a:lnTo>
                    <a:lnTo>
                      <a:pt x="464" y="5178"/>
                    </a:lnTo>
                    <a:lnTo>
                      <a:pt x="435" y="5400"/>
                    </a:lnTo>
                    <a:lnTo>
                      <a:pt x="406" y="5621"/>
                    </a:lnTo>
                    <a:lnTo>
                      <a:pt x="376" y="5843"/>
                    </a:lnTo>
                    <a:lnTo>
                      <a:pt x="347" y="6065"/>
                    </a:lnTo>
                    <a:lnTo>
                      <a:pt x="317" y="6287"/>
                    </a:lnTo>
                    <a:lnTo>
                      <a:pt x="288" y="6509"/>
                    </a:lnTo>
                    <a:lnTo>
                      <a:pt x="259" y="6732"/>
                    </a:lnTo>
                    <a:lnTo>
                      <a:pt x="229" y="6954"/>
                    </a:lnTo>
                    <a:lnTo>
                      <a:pt x="200" y="7176"/>
                    </a:lnTo>
                    <a:lnTo>
                      <a:pt x="171" y="7399"/>
                    </a:lnTo>
                    <a:lnTo>
                      <a:pt x="150" y="7352"/>
                    </a:lnTo>
                    <a:lnTo>
                      <a:pt x="127" y="7305"/>
                    </a:lnTo>
                    <a:lnTo>
                      <a:pt x="106" y="7259"/>
                    </a:lnTo>
                    <a:lnTo>
                      <a:pt x="85" y="7212"/>
                    </a:lnTo>
                    <a:lnTo>
                      <a:pt x="63" y="7165"/>
                    </a:lnTo>
                    <a:lnTo>
                      <a:pt x="42" y="7118"/>
                    </a:lnTo>
                    <a:lnTo>
                      <a:pt x="21" y="7071"/>
                    </a:lnTo>
                    <a:lnTo>
                      <a:pt x="0" y="7025"/>
                    </a:lnTo>
                    <a:lnTo>
                      <a:pt x="30" y="6803"/>
                    </a:lnTo>
                    <a:lnTo>
                      <a:pt x="59" y="6582"/>
                    </a:lnTo>
                    <a:lnTo>
                      <a:pt x="89" y="6360"/>
                    </a:lnTo>
                    <a:lnTo>
                      <a:pt x="118" y="6138"/>
                    </a:lnTo>
                    <a:lnTo>
                      <a:pt x="148" y="5918"/>
                    </a:lnTo>
                    <a:lnTo>
                      <a:pt x="177" y="5696"/>
                    </a:lnTo>
                    <a:lnTo>
                      <a:pt x="207" y="5476"/>
                    </a:lnTo>
                    <a:lnTo>
                      <a:pt x="236" y="5256"/>
                    </a:lnTo>
                    <a:lnTo>
                      <a:pt x="266" y="5035"/>
                    </a:lnTo>
                    <a:lnTo>
                      <a:pt x="295" y="4815"/>
                    </a:lnTo>
                    <a:lnTo>
                      <a:pt x="324" y="4595"/>
                    </a:lnTo>
                    <a:lnTo>
                      <a:pt x="353" y="4374"/>
                    </a:lnTo>
                    <a:lnTo>
                      <a:pt x="382" y="4154"/>
                    </a:lnTo>
                    <a:lnTo>
                      <a:pt x="411" y="3934"/>
                    </a:lnTo>
                    <a:lnTo>
                      <a:pt x="440" y="3713"/>
                    </a:lnTo>
                    <a:lnTo>
                      <a:pt x="469" y="3494"/>
                    </a:lnTo>
                    <a:lnTo>
                      <a:pt x="498" y="3275"/>
                    </a:lnTo>
                    <a:lnTo>
                      <a:pt x="528" y="3056"/>
                    </a:lnTo>
                    <a:lnTo>
                      <a:pt x="557" y="2837"/>
                    </a:lnTo>
                    <a:lnTo>
                      <a:pt x="586" y="2618"/>
                    </a:lnTo>
                    <a:lnTo>
                      <a:pt x="615" y="2399"/>
                    </a:lnTo>
                    <a:lnTo>
                      <a:pt x="645" y="2181"/>
                    </a:lnTo>
                    <a:lnTo>
                      <a:pt x="674" y="1962"/>
                    </a:lnTo>
                    <a:lnTo>
                      <a:pt x="703" y="1744"/>
                    </a:lnTo>
                    <a:lnTo>
                      <a:pt x="732" y="1526"/>
                    </a:lnTo>
                    <a:lnTo>
                      <a:pt x="762" y="1308"/>
                    </a:lnTo>
                    <a:lnTo>
                      <a:pt x="791" y="1090"/>
                    </a:lnTo>
                    <a:lnTo>
                      <a:pt x="820" y="872"/>
                    </a:lnTo>
                    <a:lnTo>
                      <a:pt x="849" y="655"/>
                    </a:lnTo>
                    <a:lnTo>
                      <a:pt x="878" y="437"/>
                    </a:lnTo>
                    <a:lnTo>
                      <a:pt x="908" y="219"/>
                    </a:lnTo>
                    <a:lnTo>
                      <a:pt x="938"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495320" y="3498480"/>
                <a:ext cx="484920" cy="204120"/>
              </a:xfrm>
              <a:custGeom>
                <a:avLst/>
                <a:gdLst/>
                <a:ahLst/>
                <a:rect l="l" t="t" r="r" b="b"/>
                <a:pathLst>
                  <a:path w="1298" h="746">
                    <a:moveTo>
                      <a:pt x="1127" y="372"/>
                    </a:moveTo>
                    <a:lnTo>
                      <a:pt x="1148" y="418"/>
                    </a:lnTo>
                    <a:lnTo>
                      <a:pt x="1169" y="465"/>
                    </a:lnTo>
                    <a:lnTo>
                      <a:pt x="1190" y="512"/>
                    </a:lnTo>
                    <a:lnTo>
                      <a:pt x="1212" y="559"/>
                    </a:lnTo>
                    <a:lnTo>
                      <a:pt x="1233" y="606"/>
                    </a:lnTo>
                    <a:lnTo>
                      <a:pt x="1254" y="652"/>
                    </a:lnTo>
                    <a:lnTo>
                      <a:pt x="1277" y="699"/>
                    </a:lnTo>
                    <a:lnTo>
                      <a:pt x="1298" y="746"/>
                    </a:lnTo>
                    <a:lnTo>
                      <a:pt x="1154" y="697"/>
                    </a:lnTo>
                    <a:lnTo>
                      <a:pt x="1011" y="649"/>
                    </a:lnTo>
                    <a:lnTo>
                      <a:pt x="868" y="601"/>
                    </a:lnTo>
                    <a:lnTo>
                      <a:pt x="726" y="554"/>
                    </a:lnTo>
                    <a:lnTo>
                      <a:pt x="584" y="506"/>
                    </a:lnTo>
                    <a:lnTo>
                      <a:pt x="443" y="459"/>
                    </a:lnTo>
                    <a:lnTo>
                      <a:pt x="303" y="412"/>
                    </a:lnTo>
                    <a:lnTo>
                      <a:pt x="163" y="366"/>
                    </a:lnTo>
                    <a:lnTo>
                      <a:pt x="144" y="320"/>
                    </a:lnTo>
                    <a:lnTo>
                      <a:pt x="122" y="274"/>
                    </a:lnTo>
                    <a:lnTo>
                      <a:pt x="102" y="229"/>
                    </a:lnTo>
                    <a:lnTo>
                      <a:pt x="82" y="183"/>
                    </a:lnTo>
                    <a:lnTo>
                      <a:pt x="61" y="137"/>
                    </a:lnTo>
                    <a:lnTo>
                      <a:pt x="41" y="91"/>
                    </a:lnTo>
                    <a:lnTo>
                      <a:pt x="21" y="45"/>
                    </a:lnTo>
                    <a:lnTo>
                      <a:pt x="0" y="0"/>
                    </a:lnTo>
                    <a:lnTo>
                      <a:pt x="139" y="45"/>
                    </a:lnTo>
                    <a:lnTo>
                      <a:pt x="279" y="91"/>
                    </a:lnTo>
                    <a:lnTo>
                      <a:pt x="419" y="138"/>
                    </a:lnTo>
                    <a:lnTo>
                      <a:pt x="560" y="185"/>
                    </a:lnTo>
                    <a:lnTo>
                      <a:pt x="701" y="230"/>
                    </a:lnTo>
                    <a:lnTo>
                      <a:pt x="842" y="277"/>
                    </a:lnTo>
                    <a:lnTo>
                      <a:pt x="984" y="325"/>
                    </a:lnTo>
                    <a:lnTo>
                      <a:pt x="1127" y="372"/>
                    </a:lnTo>
                    <a:close/>
                  </a:path>
                </a:pathLst>
              </a:custGeom>
              <a:solidFill>
                <a:srgbClr val="4b41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495320" y="3498480"/>
                <a:ext cx="484920" cy="204120"/>
              </a:xfrm>
              <a:custGeom>
                <a:avLst/>
                <a:gdLst/>
                <a:ahLst/>
                <a:rect l="l" t="t" r="r" b="b"/>
                <a:pathLst>
                  <a:path w="1298" h="746">
                    <a:moveTo>
                      <a:pt x="1127" y="372"/>
                    </a:moveTo>
                    <a:lnTo>
                      <a:pt x="1148" y="418"/>
                    </a:lnTo>
                    <a:lnTo>
                      <a:pt x="1169" y="465"/>
                    </a:lnTo>
                    <a:lnTo>
                      <a:pt x="1190" y="512"/>
                    </a:lnTo>
                    <a:lnTo>
                      <a:pt x="1212" y="559"/>
                    </a:lnTo>
                    <a:lnTo>
                      <a:pt x="1233" y="606"/>
                    </a:lnTo>
                    <a:lnTo>
                      <a:pt x="1254" y="652"/>
                    </a:lnTo>
                    <a:lnTo>
                      <a:pt x="1277" y="699"/>
                    </a:lnTo>
                    <a:lnTo>
                      <a:pt x="1298" y="746"/>
                    </a:lnTo>
                    <a:lnTo>
                      <a:pt x="1154" y="697"/>
                    </a:lnTo>
                    <a:lnTo>
                      <a:pt x="1011" y="649"/>
                    </a:lnTo>
                    <a:lnTo>
                      <a:pt x="868" y="601"/>
                    </a:lnTo>
                    <a:lnTo>
                      <a:pt x="726" y="554"/>
                    </a:lnTo>
                    <a:lnTo>
                      <a:pt x="584" y="506"/>
                    </a:lnTo>
                    <a:lnTo>
                      <a:pt x="443" y="459"/>
                    </a:lnTo>
                    <a:lnTo>
                      <a:pt x="303" y="412"/>
                    </a:lnTo>
                    <a:lnTo>
                      <a:pt x="163" y="366"/>
                    </a:lnTo>
                    <a:lnTo>
                      <a:pt x="144" y="320"/>
                    </a:lnTo>
                    <a:lnTo>
                      <a:pt x="122" y="274"/>
                    </a:lnTo>
                    <a:lnTo>
                      <a:pt x="102" y="229"/>
                    </a:lnTo>
                    <a:lnTo>
                      <a:pt x="82" y="183"/>
                    </a:lnTo>
                    <a:lnTo>
                      <a:pt x="61" y="137"/>
                    </a:lnTo>
                    <a:lnTo>
                      <a:pt x="41" y="91"/>
                    </a:lnTo>
                    <a:lnTo>
                      <a:pt x="21" y="45"/>
                    </a:lnTo>
                    <a:lnTo>
                      <a:pt x="0" y="0"/>
                    </a:lnTo>
                    <a:lnTo>
                      <a:pt x="139" y="45"/>
                    </a:lnTo>
                    <a:lnTo>
                      <a:pt x="279" y="91"/>
                    </a:lnTo>
                    <a:lnTo>
                      <a:pt x="419" y="138"/>
                    </a:lnTo>
                    <a:lnTo>
                      <a:pt x="560" y="185"/>
                    </a:lnTo>
                    <a:lnTo>
                      <a:pt x="701" y="230"/>
                    </a:lnTo>
                    <a:lnTo>
                      <a:pt x="842" y="277"/>
                    </a:lnTo>
                    <a:lnTo>
                      <a:pt x="984" y="325"/>
                    </a:lnTo>
                    <a:lnTo>
                      <a:pt x="1127" y="372"/>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495320" y="1612800"/>
                <a:ext cx="770040" cy="1986840"/>
              </a:xfrm>
              <a:custGeom>
                <a:avLst/>
                <a:gdLst/>
                <a:ahLst/>
                <a:rect l="l" t="t" r="r" b="b"/>
                <a:pathLst>
                  <a:path w="2065" h="7249">
                    <a:moveTo>
                      <a:pt x="931" y="0"/>
                    </a:moveTo>
                    <a:lnTo>
                      <a:pt x="1071" y="28"/>
                    </a:lnTo>
                    <a:lnTo>
                      <a:pt x="1211" y="55"/>
                    </a:lnTo>
                    <a:lnTo>
                      <a:pt x="1351" y="83"/>
                    </a:lnTo>
                    <a:lnTo>
                      <a:pt x="1493" y="112"/>
                    </a:lnTo>
                    <a:lnTo>
                      <a:pt x="1634" y="139"/>
                    </a:lnTo>
                    <a:lnTo>
                      <a:pt x="1778" y="167"/>
                    </a:lnTo>
                    <a:lnTo>
                      <a:pt x="1921" y="195"/>
                    </a:lnTo>
                    <a:lnTo>
                      <a:pt x="2065" y="224"/>
                    </a:lnTo>
                    <a:lnTo>
                      <a:pt x="2035" y="443"/>
                    </a:lnTo>
                    <a:lnTo>
                      <a:pt x="2005" y="661"/>
                    </a:lnTo>
                    <a:lnTo>
                      <a:pt x="1976" y="879"/>
                    </a:lnTo>
                    <a:lnTo>
                      <a:pt x="1947" y="1096"/>
                    </a:lnTo>
                    <a:lnTo>
                      <a:pt x="1918" y="1314"/>
                    </a:lnTo>
                    <a:lnTo>
                      <a:pt x="1889" y="1532"/>
                    </a:lnTo>
                    <a:lnTo>
                      <a:pt x="1859" y="1750"/>
                    </a:lnTo>
                    <a:lnTo>
                      <a:pt x="1830" y="1968"/>
                    </a:lnTo>
                    <a:lnTo>
                      <a:pt x="1801" y="2186"/>
                    </a:lnTo>
                    <a:lnTo>
                      <a:pt x="1772" y="2405"/>
                    </a:lnTo>
                    <a:lnTo>
                      <a:pt x="1742" y="2623"/>
                    </a:lnTo>
                    <a:lnTo>
                      <a:pt x="1713" y="2842"/>
                    </a:lnTo>
                    <a:lnTo>
                      <a:pt x="1684" y="3061"/>
                    </a:lnTo>
                    <a:lnTo>
                      <a:pt x="1655" y="3280"/>
                    </a:lnTo>
                    <a:lnTo>
                      <a:pt x="1625" y="3499"/>
                    </a:lnTo>
                    <a:lnTo>
                      <a:pt x="1596" y="3718"/>
                    </a:lnTo>
                    <a:lnTo>
                      <a:pt x="1567" y="3937"/>
                    </a:lnTo>
                    <a:lnTo>
                      <a:pt x="1538" y="4158"/>
                    </a:lnTo>
                    <a:lnTo>
                      <a:pt x="1509" y="4378"/>
                    </a:lnTo>
                    <a:lnTo>
                      <a:pt x="1480" y="4598"/>
                    </a:lnTo>
                    <a:lnTo>
                      <a:pt x="1451" y="4819"/>
                    </a:lnTo>
                    <a:lnTo>
                      <a:pt x="1422" y="5039"/>
                    </a:lnTo>
                    <a:lnTo>
                      <a:pt x="1393" y="5259"/>
                    </a:lnTo>
                    <a:lnTo>
                      <a:pt x="1363" y="5480"/>
                    </a:lnTo>
                    <a:lnTo>
                      <a:pt x="1334" y="5700"/>
                    </a:lnTo>
                    <a:lnTo>
                      <a:pt x="1304" y="5920"/>
                    </a:lnTo>
                    <a:lnTo>
                      <a:pt x="1275" y="6142"/>
                    </a:lnTo>
                    <a:lnTo>
                      <a:pt x="1245" y="6362"/>
                    </a:lnTo>
                    <a:lnTo>
                      <a:pt x="1216" y="6584"/>
                    </a:lnTo>
                    <a:lnTo>
                      <a:pt x="1186" y="6806"/>
                    </a:lnTo>
                    <a:lnTo>
                      <a:pt x="1157" y="7027"/>
                    </a:lnTo>
                    <a:lnTo>
                      <a:pt x="1127" y="7249"/>
                    </a:lnTo>
                    <a:lnTo>
                      <a:pt x="984" y="7202"/>
                    </a:lnTo>
                    <a:lnTo>
                      <a:pt x="842" y="7154"/>
                    </a:lnTo>
                    <a:lnTo>
                      <a:pt x="701" y="7107"/>
                    </a:lnTo>
                    <a:lnTo>
                      <a:pt x="560" y="7062"/>
                    </a:lnTo>
                    <a:lnTo>
                      <a:pt x="419" y="7015"/>
                    </a:lnTo>
                    <a:lnTo>
                      <a:pt x="279" y="6968"/>
                    </a:lnTo>
                    <a:lnTo>
                      <a:pt x="139" y="6922"/>
                    </a:lnTo>
                    <a:lnTo>
                      <a:pt x="0" y="6877"/>
                    </a:lnTo>
                    <a:lnTo>
                      <a:pt x="30" y="6659"/>
                    </a:lnTo>
                    <a:lnTo>
                      <a:pt x="59" y="6442"/>
                    </a:lnTo>
                    <a:lnTo>
                      <a:pt x="88" y="6226"/>
                    </a:lnTo>
                    <a:lnTo>
                      <a:pt x="117" y="6009"/>
                    </a:lnTo>
                    <a:lnTo>
                      <a:pt x="147" y="5794"/>
                    </a:lnTo>
                    <a:lnTo>
                      <a:pt x="176" y="5577"/>
                    </a:lnTo>
                    <a:lnTo>
                      <a:pt x="205" y="5360"/>
                    </a:lnTo>
                    <a:lnTo>
                      <a:pt x="234" y="5145"/>
                    </a:lnTo>
                    <a:lnTo>
                      <a:pt x="264" y="4930"/>
                    </a:lnTo>
                    <a:lnTo>
                      <a:pt x="293" y="4714"/>
                    </a:lnTo>
                    <a:lnTo>
                      <a:pt x="322" y="4499"/>
                    </a:lnTo>
                    <a:lnTo>
                      <a:pt x="351" y="4282"/>
                    </a:lnTo>
                    <a:lnTo>
                      <a:pt x="381" y="4067"/>
                    </a:lnTo>
                    <a:lnTo>
                      <a:pt x="410" y="3851"/>
                    </a:lnTo>
                    <a:lnTo>
                      <a:pt x="439" y="3636"/>
                    </a:lnTo>
                    <a:lnTo>
                      <a:pt x="467" y="3420"/>
                    </a:lnTo>
                    <a:lnTo>
                      <a:pt x="496" y="3206"/>
                    </a:lnTo>
                    <a:lnTo>
                      <a:pt x="526" y="2991"/>
                    </a:lnTo>
                    <a:lnTo>
                      <a:pt x="555" y="2777"/>
                    </a:lnTo>
                    <a:lnTo>
                      <a:pt x="584" y="2562"/>
                    </a:lnTo>
                    <a:lnTo>
                      <a:pt x="613" y="2348"/>
                    </a:lnTo>
                    <a:lnTo>
                      <a:pt x="642" y="2134"/>
                    </a:lnTo>
                    <a:lnTo>
                      <a:pt x="671" y="1920"/>
                    </a:lnTo>
                    <a:lnTo>
                      <a:pt x="700" y="1706"/>
                    </a:lnTo>
                    <a:lnTo>
                      <a:pt x="728" y="1493"/>
                    </a:lnTo>
                    <a:lnTo>
                      <a:pt x="758" y="1280"/>
                    </a:lnTo>
                    <a:lnTo>
                      <a:pt x="787" y="1067"/>
                    </a:lnTo>
                    <a:lnTo>
                      <a:pt x="816" y="853"/>
                    </a:lnTo>
                    <a:lnTo>
                      <a:pt x="844" y="640"/>
                    </a:lnTo>
                    <a:lnTo>
                      <a:pt x="873" y="427"/>
                    </a:lnTo>
                    <a:lnTo>
                      <a:pt x="902" y="213"/>
                    </a:lnTo>
                    <a:lnTo>
                      <a:pt x="931" y="0"/>
                    </a:lnTo>
                    <a:close/>
                  </a:path>
                </a:pathLst>
              </a:custGeom>
              <a:solidFill>
                <a:srgbClr val="a357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495320" y="1612800"/>
                <a:ext cx="770040" cy="1986840"/>
              </a:xfrm>
              <a:custGeom>
                <a:avLst/>
                <a:gdLst/>
                <a:ahLst/>
                <a:rect l="l" t="t" r="r" b="b"/>
                <a:pathLst>
                  <a:path w="2065" h="7249">
                    <a:moveTo>
                      <a:pt x="931" y="0"/>
                    </a:moveTo>
                    <a:lnTo>
                      <a:pt x="1071" y="28"/>
                    </a:lnTo>
                    <a:lnTo>
                      <a:pt x="1211" y="55"/>
                    </a:lnTo>
                    <a:lnTo>
                      <a:pt x="1351" y="83"/>
                    </a:lnTo>
                    <a:lnTo>
                      <a:pt x="1493" y="112"/>
                    </a:lnTo>
                    <a:lnTo>
                      <a:pt x="1634" y="139"/>
                    </a:lnTo>
                    <a:lnTo>
                      <a:pt x="1778" y="167"/>
                    </a:lnTo>
                    <a:lnTo>
                      <a:pt x="1921" y="195"/>
                    </a:lnTo>
                    <a:lnTo>
                      <a:pt x="2065" y="224"/>
                    </a:lnTo>
                    <a:lnTo>
                      <a:pt x="2035" y="443"/>
                    </a:lnTo>
                    <a:lnTo>
                      <a:pt x="2005" y="661"/>
                    </a:lnTo>
                    <a:lnTo>
                      <a:pt x="1976" y="879"/>
                    </a:lnTo>
                    <a:lnTo>
                      <a:pt x="1947" y="1096"/>
                    </a:lnTo>
                    <a:lnTo>
                      <a:pt x="1918" y="1314"/>
                    </a:lnTo>
                    <a:lnTo>
                      <a:pt x="1889" y="1532"/>
                    </a:lnTo>
                    <a:lnTo>
                      <a:pt x="1859" y="1750"/>
                    </a:lnTo>
                    <a:lnTo>
                      <a:pt x="1830" y="1968"/>
                    </a:lnTo>
                    <a:lnTo>
                      <a:pt x="1801" y="2186"/>
                    </a:lnTo>
                    <a:lnTo>
                      <a:pt x="1772" y="2405"/>
                    </a:lnTo>
                    <a:lnTo>
                      <a:pt x="1742" y="2623"/>
                    </a:lnTo>
                    <a:lnTo>
                      <a:pt x="1713" y="2842"/>
                    </a:lnTo>
                    <a:lnTo>
                      <a:pt x="1684" y="3061"/>
                    </a:lnTo>
                    <a:lnTo>
                      <a:pt x="1655" y="3280"/>
                    </a:lnTo>
                    <a:lnTo>
                      <a:pt x="1625" y="3499"/>
                    </a:lnTo>
                    <a:lnTo>
                      <a:pt x="1596" y="3718"/>
                    </a:lnTo>
                    <a:lnTo>
                      <a:pt x="1567" y="3937"/>
                    </a:lnTo>
                    <a:lnTo>
                      <a:pt x="1538" y="4158"/>
                    </a:lnTo>
                    <a:lnTo>
                      <a:pt x="1509" y="4378"/>
                    </a:lnTo>
                    <a:lnTo>
                      <a:pt x="1480" y="4598"/>
                    </a:lnTo>
                    <a:lnTo>
                      <a:pt x="1451" y="4819"/>
                    </a:lnTo>
                    <a:lnTo>
                      <a:pt x="1422" y="5039"/>
                    </a:lnTo>
                    <a:lnTo>
                      <a:pt x="1393" y="5259"/>
                    </a:lnTo>
                    <a:lnTo>
                      <a:pt x="1363" y="5480"/>
                    </a:lnTo>
                    <a:lnTo>
                      <a:pt x="1334" y="5700"/>
                    </a:lnTo>
                    <a:lnTo>
                      <a:pt x="1304" y="5920"/>
                    </a:lnTo>
                    <a:lnTo>
                      <a:pt x="1275" y="6142"/>
                    </a:lnTo>
                    <a:lnTo>
                      <a:pt x="1245" y="6362"/>
                    </a:lnTo>
                    <a:lnTo>
                      <a:pt x="1216" y="6584"/>
                    </a:lnTo>
                    <a:lnTo>
                      <a:pt x="1186" y="6806"/>
                    </a:lnTo>
                    <a:lnTo>
                      <a:pt x="1157" y="7027"/>
                    </a:lnTo>
                    <a:lnTo>
                      <a:pt x="1127" y="7249"/>
                    </a:lnTo>
                    <a:lnTo>
                      <a:pt x="984" y="7202"/>
                    </a:lnTo>
                    <a:lnTo>
                      <a:pt x="842" y="7154"/>
                    </a:lnTo>
                    <a:lnTo>
                      <a:pt x="701" y="7107"/>
                    </a:lnTo>
                    <a:lnTo>
                      <a:pt x="560" y="7062"/>
                    </a:lnTo>
                    <a:lnTo>
                      <a:pt x="419" y="7015"/>
                    </a:lnTo>
                    <a:lnTo>
                      <a:pt x="279" y="6968"/>
                    </a:lnTo>
                    <a:lnTo>
                      <a:pt x="139" y="6922"/>
                    </a:lnTo>
                    <a:lnTo>
                      <a:pt x="0" y="6877"/>
                    </a:lnTo>
                    <a:lnTo>
                      <a:pt x="30" y="6659"/>
                    </a:lnTo>
                    <a:lnTo>
                      <a:pt x="59" y="6442"/>
                    </a:lnTo>
                    <a:lnTo>
                      <a:pt x="88" y="6226"/>
                    </a:lnTo>
                    <a:lnTo>
                      <a:pt x="117" y="6009"/>
                    </a:lnTo>
                    <a:lnTo>
                      <a:pt x="147" y="5794"/>
                    </a:lnTo>
                    <a:lnTo>
                      <a:pt x="176" y="5577"/>
                    </a:lnTo>
                    <a:lnTo>
                      <a:pt x="205" y="5360"/>
                    </a:lnTo>
                    <a:lnTo>
                      <a:pt x="234" y="5145"/>
                    </a:lnTo>
                    <a:lnTo>
                      <a:pt x="264" y="4930"/>
                    </a:lnTo>
                    <a:lnTo>
                      <a:pt x="293" y="4714"/>
                    </a:lnTo>
                    <a:lnTo>
                      <a:pt x="322" y="4499"/>
                    </a:lnTo>
                    <a:lnTo>
                      <a:pt x="351" y="4282"/>
                    </a:lnTo>
                    <a:lnTo>
                      <a:pt x="381" y="4067"/>
                    </a:lnTo>
                    <a:lnTo>
                      <a:pt x="410" y="3851"/>
                    </a:lnTo>
                    <a:lnTo>
                      <a:pt x="439" y="3636"/>
                    </a:lnTo>
                    <a:lnTo>
                      <a:pt x="467" y="3420"/>
                    </a:lnTo>
                    <a:lnTo>
                      <a:pt x="496" y="3206"/>
                    </a:lnTo>
                    <a:lnTo>
                      <a:pt x="526" y="2991"/>
                    </a:lnTo>
                    <a:lnTo>
                      <a:pt x="555" y="2777"/>
                    </a:lnTo>
                    <a:lnTo>
                      <a:pt x="584" y="2562"/>
                    </a:lnTo>
                    <a:lnTo>
                      <a:pt x="613" y="2348"/>
                    </a:lnTo>
                    <a:lnTo>
                      <a:pt x="642" y="2134"/>
                    </a:lnTo>
                    <a:lnTo>
                      <a:pt x="671" y="1920"/>
                    </a:lnTo>
                    <a:lnTo>
                      <a:pt x="700" y="1706"/>
                    </a:lnTo>
                    <a:lnTo>
                      <a:pt x="728" y="1493"/>
                    </a:lnTo>
                    <a:lnTo>
                      <a:pt x="758" y="1280"/>
                    </a:lnTo>
                    <a:lnTo>
                      <a:pt x="787" y="1067"/>
                    </a:lnTo>
                    <a:lnTo>
                      <a:pt x="816" y="853"/>
                    </a:lnTo>
                    <a:lnTo>
                      <a:pt x="844" y="640"/>
                    </a:lnTo>
                    <a:lnTo>
                      <a:pt x="873" y="427"/>
                    </a:lnTo>
                    <a:lnTo>
                      <a:pt x="902" y="213"/>
                    </a:lnTo>
                    <a:lnTo>
                      <a:pt x="93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702560" y="2095560"/>
                <a:ext cx="525240" cy="2419920"/>
              </a:xfrm>
              <a:custGeom>
                <a:avLst/>
                <a:gdLst/>
                <a:ahLst/>
                <a:rect l="l" t="t" r="r" b="b"/>
                <a:pathLst>
                  <a:path w="1408" h="8826">
                    <a:moveTo>
                      <a:pt x="953" y="0"/>
                    </a:moveTo>
                    <a:lnTo>
                      <a:pt x="1009" y="107"/>
                    </a:lnTo>
                    <a:lnTo>
                      <a:pt x="1065" y="216"/>
                    </a:lnTo>
                    <a:lnTo>
                      <a:pt x="1123" y="325"/>
                    </a:lnTo>
                    <a:lnTo>
                      <a:pt x="1179" y="433"/>
                    </a:lnTo>
                    <a:lnTo>
                      <a:pt x="1237" y="542"/>
                    </a:lnTo>
                    <a:lnTo>
                      <a:pt x="1293" y="651"/>
                    </a:lnTo>
                    <a:lnTo>
                      <a:pt x="1350" y="760"/>
                    </a:lnTo>
                    <a:lnTo>
                      <a:pt x="1408" y="869"/>
                    </a:lnTo>
                    <a:lnTo>
                      <a:pt x="1379" y="1115"/>
                    </a:lnTo>
                    <a:lnTo>
                      <a:pt x="1348" y="1363"/>
                    </a:lnTo>
                    <a:lnTo>
                      <a:pt x="1319" y="1609"/>
                    </a:lnTo>
                    <a:lnTo>
                      <a:pt x="1290" y="1856"/>
                    </a:lnTo>
                    <a:lnTo>
                      <a:pt x="1261" y="2104"/>
                    </a:lnTo>
                    <a:lnTo>
                      <a:pt x="1230" y="2351"/>
                    </a:lnTo>
                    <a:lnTo>
                      <a:pt x="1201" y="2597"/>
                    </a:lnTo>
                    <a:lnTo>
                      <a:pt x="1172" y="2845"/>
                    </a:lnTo>
                    <a:lnTo>
                      <a:pt x="1142" y="3091"/>
                    </a:lnTo>
                    <a:lnTo>
                      <a:pt x="1113" y="3338"/>
                    </a:lnTo>
                    <a:lnTo>
                      <a:pt x="1082" y="3587"/>
                    </a:lnTo>
                    <a:lnTo>
                      <a:pt x="1053" y="3834"/>
                    </a:lnTo>
                    <a:lnTo>
                      <a:pt x="1024" y="4082"/>
                    </a:lnTo>
                    <a:lnTo>
                      <a:pt x="994" y="4331"/>
                    </a:lnTo>
                    <a:lnTo>
                      <a:pt x="964" y="4578"/>
                    </a:lnTo>
                    <a:lnTo>
                      <a:pt x="934" y="4827"/>
                    </a:lnTo>
                    <a:lnTo>
                      <a:pt x="905" y="5075"/>
                    </a:lnTo>
                    <a:lnTo>
                      <a:pt x="875" y="5324"/>
                    </a:lnTo>
                    <a:lnTo>
                      <a:pt x="844" y="5573"/>
                    </a:lnTo>
                    <a:lnTo>
                      <a:pt x="815" y="5822"/>
                    </a:lnTo>
                    <a:lnTo>
                      <a:pt x="785" y="6071"/>
                    </a:lnTo>
                    <a:lnTo>
                      <a:pt x="755" y="6321"/>
                    </a:lnTo>
                    <a:lnTo>
                      <a:pt x="724" y="6571"/>
                    </a:lnTo>
                    <a:lnTo>
                      <a:pt x="694" y="6820"/>
                    </a:lnTo>
                    <a:lnTo>
                      <a:pt x="664" y="7069"/>
                    </a:lnTo>
                    <a:lnTo>
                      <a:pt x="635" y="7321"/>
                    </a:lnTo>
                    <a:lnTo>
                      <a:pt x="605" y="7570"/>
                    </a:lnTo>
                    <a:lnTo>
                      <a:pt x="574" y="7822"/>
                    </a:lnTo>
                    <a:lnTo>
                      <a:pt x="545" y="8073"/>
                    </a:lnTo>
                    <a:lnTo>
                      <a:pt x="515" y="8324"/>
                    </a:lnTo>
                    <a:lnTo>
                      <a:pt x="485" y="8575"/>
                    </a:lnTo>
                    <a:lnTo>
                      <a:pt x="455" y="8826"/>
                    </a:lnTo>
                    <a:lnTo>
                      <a:pt x="397" y="8705"/>
                    </a:lnTo>
                    <a:lnTo>
                      <a:pt x="339" y="8586"/>
                    </a:lnTo>
                    <a:lnTo>
                      <a:pt x="283" y="8467"/>
                    </a:lnTo>
                    <a:lnTo>
                      <a:pt x="226" y="8347"/>
                    </a:lnTo>
                    <a:lnTo>
                      <a:pt x="169" y="8228"/>
                    </a:lnTo>
                    <a:lnTo>
                      <a:pt x="113" y="8110"/>
                    </a:lnTo>
                    <a:lnTo>
                      <a:pt x="56" y="7990"/>
                    </a:lnTo>
                    <a:lnTo>
                      <a:pt x="0" y="7872"/>
                    </a:lnTo>
                    <a:lnTo>
                      <a:pt x="31" y="7623"/>
                    </a:lnTo>
                    <a:lnTo>
                      <a:pt x="61" y="7376"/>
                    </a:lnTo>
                    <a:lnTo>
                      <a:pt x="90" y="7127"/>
                    </a:lnTo>
                    <a:lnTo>
                      <a:pt x="121" y="6880"/>
                    </a:lnTo>
                    <a:lnTo>
                      <a:pt x="151" y="6631"/>
                    </a:lnTo>
                    <a:lnTo>
                      <a:pt x="180" y="6384"/>
                    </a:lnTo>
                    <a:lnTo>
                      <a:pt x="210" y="6136"/>
                    </a:lnTo>
                    <a:lnTo>
                      <a:pt x="240" y="5889"/>
                    </a:lnTo>
                    <a:lnTo>
                      <a:pt x="270" y="5643"/>
                    </a:lnTo>
                    <a:lnTo>
                      <a:pt x="300" y="5397"/>
                    </a:lnTo>
                    <a:lnTo>
                      <a:pt x="329" y="5149"/>
                    </a:lnTo>
                    <a:lnTo>
                      <a:pt x="360" y="4903"/>
                    </a:lnTo>
                    <a:lnTo>
                      <a:pt x="390" y="4657"/>
                    </a:lnTo>
                    <a:lnTo>
                      <a:pt x="420" y="4411"/>
                    </a:lnTo>
                    <a:lnTo>
                      <a:pt x="450" y="4166"/>
                    </a:lnTo>
                    <a:lnTo>
                      <a:pt x="481" y="3919"/>
                    </a:lnTo>
                    <a:lnTo>
                      <a:pt x="510" y="3674"/>
                    </a:lnTo>
                    <a:lnTo>
                      <a:pt x="540" y="3428"/>
                    </a:lnTo>
                    <a:lnTo>
                      <a:pt x="569" y="3183"/>
                    </a:lnTo>
                    <a:lnTo>
                      <a:pt x="598" y="2938"/>
                    </a:lnTo>
                    <a:lnTo>
                      <a:pt x="628" y="2692"/>
                    </a:lnTo>
                    <a:lnTo>
                      <a:pt x="657" y="2447"/>
                    </a:lnTo>
                    <a:lnTo>
                      <a:pt x="686" y="2202"/>
                    </a:lnTo>
                    <a:lnTo>
                      <a:pt x="716" y="1957"/>
                    </a:lnTo>
                    <a:lnTo>
                      <a:pt x="746" y="1714"/>
                    </a:lnTo>
                    <a:lnTo>
                      <a:pt x="775" y="1469"/>
                    </a:lnTo>
                    <a:lnTo>
                      <a:pt x="805" y="1224"/>
                    </a:lnTo>
                    <a:lnTo>
                      <a:pt x="834" y="979"/>
                    </a:lnTo>
                    <a:lnTo>
                      <a:pt x="864" y="734"/>
                    </a:lnTo>
                    <a:lnTo>
                      <a:pt x="894" y="489"/>
                    </a:lnTo>
                    <a:lnTo>
                      <a:pt x="923" y="244"/>
                    </a:lnTo>
                    <a:lnTo>
                      <a:pt x="953" y="0"/>
                    </a:lnTo>
                    <a:close/>
                  </a:path>
                </a:pathLst>
              </a:custGeom>
              <a:solidFill>
                <a:srgbClr val="978b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702560" y="2095560"/>
                <a:ext cx="525240" cy="2419920"/>
              </a:xfrm>
              <a:custGeom>
                <a:avLst/>
                <a:gdLst/>
                <a:ahLst/>
                <a:rect l="l" t="t" r="r" b="b"/>
                <a:pathLst>
                  <a:path w="1408" h="8826">
                    <a:moveTo>
                      <a:pt x="953" y="0"/>
                    </a:moveTo>
                    <a:lnTo>
                      <a:pt x="1009" y="107"/>
                    </a:lnTo>
                    <a:lnTo>
                      <a:pt x="1065" y="216"/>
                    </a:lnTo>
                    <a:lnTo>
                      <a:pt x="1123" y="325"/>
                    </a:lnTo>
                    <a:lnTo>
                      <a:pt x="1179" y="433"/>
                    </a:lnTo>
                    <a:lnTo>
                      <a:pt x="1237" y="542"/>
                    </a:lnTo>
                    <a:lnTo>
                      <a:pt x="1293" y="651"/>
                    </a:lnTo>
                    <a:lnTo>
                      <a:pt x="1350" y="760"/>
                    </a:lnTo>
                    <a:lnTo>
                      <a:pt x="1408" y="869"/>
                    </a:lnTo>
                    <a:lnTo>
                      <a:pt x="1379" y="1115"/>
                    </a:lnTo>
                    <a:lnTo>
                      <a:pt x="1348" y="1363"/>
                    </a:lnTo>
                    <a:lnTo>
                      <a:pt x="1319" y="1609"/>
                    </a:lnTo>
                    <a:lnTo>
                      <a:pt x="1290" y="1856"/>
                    </a:lnTo>
                    <a:lnTo>
                      <a:pt x="1261" y="2104"/>
                    </a:lnTo>
                    <a:lnTo>
                      <a:pt x="1230" y="2351"/>
                    </a:lnTo>
                    <a:lnTo>
                      <a:pt x="1201" y="2597"/>
                    </a:lnTo>
                    <a:lnTo>
                      <a:pt x="1172" y="2845"/>
                    </a:lnTo>
                    <a:lnTo>
                      <a:pt x="1142" y="3091"/>
                    </a:lnTo>
                    <a:lnTo>
                      <a:pt x="1113" y="3338"/>
                    </a:lnTo>
                    <a:lnTo>
                      <a:pt x="1082" y="3587"/>
                    </a:lnTo>
                    <a:lnTo>
                      <a:pt x="1053" y="3834"/>
                    </a:lnTo>
                    <a:lnTo>
                      <a:pt x="1024" y="4082"/>
                    </a:lnTo>
                    <a:lnTo>
                      <a:pt x="994" y="4331"/>
                    </a:lnTo>
                    <a:lnTo>
                      <a:pt x="964" y="4578"/>
                    </a:lnTo>
                    <a:lnTo>
                      <a:pt x="934" y="4827"/>
                    </a:lnTo>
                    <a:lnTo>
                      <a:pt x="905" y="5075"/>
                    </a:lnTo>
                    <a:lnTo>
                      <a:pt x="875" y="5324"/>
                    </a:lnTo>
                    <a:lnTo>
                      <a:pt x="844" y="5573"/>
                    </a:lnTo>
                    <a:lnTo>
                      <a:pt x="815" y="5822"/>
                    </a:lnTo>
                    <a:lnTo>
                      <a:pt x="785" y="6071"/>
                    </a:lnTo>
                    <a:lnTo>
                      <a:pt x="755" y="6321"/>
                    </a:lnTo>
                    <a:lnTo>
                      <a:pt x="724" y="6571"/>
                    </a:lnTo>
                    <a:lnTo>
                      <a:pt x="694" y="6820"/>
                    </a:lnTo>
                    <a:lnTo>
                      <a:pt x="664" y="7069"/>
                    </a:lnTo>
                    <a:lnTo>
                      <a:pt x="635" y="7321"/>
                    </a:lnTo>
                    <a:lnTo>
                      <a:pt x="605" y="7570"/>
                    </a:lnTo>
                    <a:lnTo>
                      <a:pt x="574" y="7822"/>
                    </a:lnTo>
                    <a:lnTo>
                      <a:pt x="545" y="8073"/>
                    </a:lnTo>
                    <a:lnTo>
                      <a:pt x="515" y="8324"/>
                    </a:lnTo>
                    <a:lnTo>
                      <a:pt x="485" y="8575"/>
                    </a:lnTo>
                    <a:lnTo>
                      <a:pt x="455" y="8826"/>
                    </a:lnTo>
                    <a:lnTo>
                      <a:pt x="397" y="8705"/>
                    </a:lnTo>
                    <a:lnTo>
                      <a:pt x="339" y="8586"/>
                    </a:lnTo>
                    <a:lnTo>
                      <a:pt x="283" y="8467"/>
                    </a:lnTo>
                    <a:lnTo>
                      <a:pt x="226" y="8347"/>
                    </a:lnTo>
                    <a:lnTo>
                      <a:pt x="169" y="8228"/>
                    </a:lnTo>
                    <a:lnTo>
                      <a:pt x="113" y="8110"/>
                    </a:lnTo>
                    <a:lnTo>
                      <a:pt x="56" y="7990"/>
                    </a:lnTo>
                    <a:lnTo>
                      <a:pt x="0" y="7872"/>
                    </a:lnTo>
                    <a:lnTo>
                      <a:pt x="31" y="7623"/>
                    </a:lnTo>
                    <a:lnTo>
                      <a:pt x="61" y="7376"/>
                    </a:lnTo>
                    <a:lnTo>
                      <a:pt x="90" y="7127"/>
                    </a:lnTo>
                    <a:lnTo>
                      <a:pt x="121" y="6880"/>
                    </a:lnTo>
                    <a:lnTo>
                      <a:pt x="151" y="6631"/>
                    </a:lnTo>
                    <a:lnTo>
                      <a:pt x="180" y="6384"/>
                    </a:lnTo>
                    <a:lnTo>
                      <a:pt x="210" y="6136"/>
                    </a:lnTo>
                    <a:lnTo>
                      <a:pt x="240" y="5889"/>
                    </a:lnTo>
                    <a:lnTo>
                      <a:pt x="270" y="5643"/>
                    </a:lnTo>
                    <a:lnTo>
                      <a:pt x="300" y="5397"/>
                    </a:lnTo>
                    <a:lnTo>
                      <a:pt x="329" y="5149"/>
                    </a:lnTo>
                    <a:lnTo>
                      <a:pt x="360" y="4903"/>
                    </a:lnTo>
                    <a:lnTo>
                      <a:pt x="390" y="4657"/>
                    </a:lnTo>
                    <a:lnTo>
                      <a:pt x="420" y="4411"/>
                    </a:lnTo>
                    <a:lnTo>
                      <a:pt x="450" y="4166"/>
                    </a:lnTo>
                    <a:lnTo>
                      <a:pt x="481" y="3919"/>
                    </a:lnTo>
                    <a:lnTo>
                      <a:pt x="510" y="3674"/>
                    </a:lnTo>
                    <a:lnTo>
                      <a:pt x="540" y="3428"/>
                    </a:lnTo>
                    <a:lnTo>
                      <a:pt x="569" y="3183"/>
                    </a:lnTo>
                    <a:lnTo>
                      <a:pt x="598" y="2938"/>
                    </a:lnTo>
                    <a:lnTo>
                      <a:pt x="628" y="2692"/>
                    </a:lnTo>
                    <a:lnTo>
                      <a:pt x="657" y="2447"/>
                    </a:lnTo>
                    <a:lnTo>
                      <a:pt x="686" y="2202"/>
                    </a:lnTo>
                    <a:lnTo>
                      <a:pt x="716" y="1957"/>
                    </a:lnTo>
                    <a:lnTo>
                      <a:pt x="746" y="1714"/>
                    </a:lnTo>
                    <a:lnTo>
                      <a:pt x="775" y="1469"/>
                    </a:lnTo>
                    <a:lnTo>
                      <a:pt x="805" y="1224"/>
                    </a:lnTo>
                    <a:lnTo>
                      <a:pt x="834" y="979"/>
                    </a:lnTo>
                    <a:lnTo>
                      <a:pt x="864" y="734"/>
                    </a:lnTo>
                    <a:lnTo>
                      <a:pt x="894" y="489"/>
                    </a:lnTo>
                    <a:lnTo>
                      <a:pt x="923" y="244"/>
                    </a:lnTo>
                    <a:lnTo>
                      <a:pt x="95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2920" y="4167720"/>
                <a:ext cx="529920" cy="348120"/>
              </a:xfrm>
              <a:custGeom>
                <a:avLst/>
                <a:gdLst/>
                <a:ahLst/>
                <a:rect l="l" t="t" r="r" b="b"/>
                <a:pathLst>
                  <a:path w="1421" h="1272">
                    <a:moveTo>
                      <a:pt x="966" y="318"/>
                    </a:moveTo>
                    <a:lnTo>
                      <a:pt x="1022" y="436"/>
                    </a:lnTo>
                    <a:lnTo>
                      <a:pt x="1079" y="556"/>
                    </a:lnTo>
                    <a:lnTo>
                      <a:pt x="1135" y="674"/>
                    </a:lnTo>
                    <a:lnTo>
                      <a:pt x="1192" y="793"/>
                    </a:lnTo>
                    <a:lnTo>
                      <a:pt x="1249" y="913"/>
                    </a:lnTo>
                    <a:lnTo>
                      <a:pt x="1305" y="1032"/>
                    </a:lnTo>
                    <a:lnTo>
                      <a:pt x="1363" y="1151"/>
                    </a:lnTo>
                    <a:lnTo>
                      <a:pt x="1421" y="1272"/>
                    </a:lnTo>
                    <a:lnTo>
                      <a:pt x="1296" y="1229"/>
                    </a:lnTo>
                    <a:lnTo>
                      <a:pt x="1171" y="1186"/>
                    </a:lnTo>
                    <a:lnTo>
                      <a:pt x="1048" y="1144"/>
                    </a:lnTo>
                    <a:lnTo>
                      <a:pt x="925" y="1102"/>
                    </a:lnTo>
                    <a:lnTo>
                      <a:pt x="802" y="1060"/>
                    </a:lnTo>
                    <a:lnTo>
                      <a:pt x="680" y="1018"/>
                    </a:lnTo>
                    <a:lnTo>
                      <a:pt x="558" y="977"/>
                    </a:lnTo>
                    <a:lnTo>
                      <a:pt x="438" y="935"/>
                    </a:lnTo>
                    <a:lnTo>
                      <a:pt x="382" y="818"/>
                    </a:lnTo>
                    <a:lnTo>
                      <a:pt x="327" y="701"/>
                    </a:lnTo>
                    <a:lnTo>
                      <a:pt x="272" y="584"/>
                    </a:lnTo>
                    <a:lnTo>
                      <a:pt x="218" y="467"/>
                    </a:lnTo>
                    <a:lnTo>
                      <a:pt x="162" y="350"/>
                    </a:lnTo>
                    <a:lnTo>
                      <a:pt x="108" y="233"/>
                    </a:lnTo>
                    <a:lnTo>
                      <a:pt x="53" y="117"/>
                    </a:lnTo>
                    <a:lnTo>
                      <a:pt x="0" y="0"/>
                    </a:lnTo>
                    <a:lnTo>
                      <a:pt x="119" y="40"/>
                    </a:lnTo>
                    <a:lnTo>
                      <a:pt x="239" y="79"/>
                    </a:lnTo>
                    <a:lnTo>
                      <a:pt x="359" y="120"/>
                    </a:lnTo>
                    <a:lnTo>
                      <a:pt x="480" y="159"/>
                    </a:lnTo>
                    <a:lnTo>
                      <a:pt x="601" y="199"/>
                    </a:lnTo>
                    <a:lnTo>
                      <a:pt x="723" y="239"/>
                    </a:lnTo>
                    <a:lnTo>
                      <a:pt x="844" y="279"/>
                    </a:lnTo>
                    <a:lnTo>
                      <a:pt x="966" y="318"/>
                    </a:lnTo>
                    <a:close/>
                  </a:path>
                </a:pathLst>
              </a:custGeom>
              <a:solidFill>
                <a:srgbClr val="4b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342920" y="4167720"/>
                <a:ext cx="529920" cy="348120"/>
              </a:xfrm>
              <a:custGeom>
                <a:avLst/>
                <a:gdLst/>
                <a:ahLst/>
                <a:rect l="l" t="t" r="r" b="b"/>
                <a:pathLst>
                  <a:path w="1421" h="1272">
                    <a:moveTo>
                      <a:pt x="966" y="318"/>
                    </a:moveTo>
                    <a:lnTo>
                      <a:pt x="1022" y="436"/>
                    </a:lnTo>
                    <a:lnTo>
                      <a:pt x="1079" y="556"/>
                    </a:lnTo>
                    <a:lnTo>
                      <a:pt x="1135" y="674"/>
                    </a:lnTo>
                    <a:lnTo>
                      <a:pt x="1192" y="793"/>
                    </a:lnTo>
                    <a:lnTo>
                      <a:pt x="1249" y="913"/>
                    </a:lnTo>
                    <a:lnTo>
                      <a:pt x="1305" y="1032"/>
                    </a:lnTo>
                    <a:lnTo>
                      <a:pt x="1363" y="1151"/>
                    </a:lnTo>
                    <a:lnTo>
                      <a:pt x="1421" y="1272"/>
                    </a:lnTo>
                    <a:lnTo>
                      <a:pt x="1296" y="1229"/>
                    </a:lnTo>
                    <a:lnTo>
                      <a:pt x="1171" y="1186"/>
                    </a:lnTo>
                    <a:lnTo>
                      <a:pt x="1048" y="1144"/>
                    </a:lnTo>
                    <a:lnTo>
                      <a:pt x="925" y="1102"/>
                    </a:lnTo>
                    <a:lnTo>
                      <a:pt x="802" y="1060"/>
                    </a:lnTo>
                    <a:lnTo>
                      <a:pt x="680" y="1018"/>
                    </a:lnTo>
                    <a:lnTo>
                      <a:pt x="558" y="977"/>
                    </a:lnTo>
                    <a:lnTo>
                      <a:pt x="438" y="935"/>
                    </a:lnTo>
                    <a:lnTo>
                      <a:pt x="382" y="818"/>
                    </a:lnTo>
                    <a:lnTo>
                      <a:pt x="327" y="701"/>
                    </a:lnTo>
                    <a:lnTo>
                      <a:pt x="272" y="584"/>
                    </a:lnTo>
                    <a:lnTo>
                      <a:pt x="218" y="467"/>
                    </a:lnTo>
                    <a:lnTo>
                      <a:pt x="162" y="350"/>
                    </a:lnTo>
                    <a:lnTo>
                      <a:pt x="108" y="233"/>
                    </a:lnTo>
                    <a:lnTo>
                      <a:pt x="53" y="117"/>
                    </a:lnTo>
                    <a:lnTo>
                      <a:pt x="0" y="0"/>
                    </a:lnTo>
                    <a:lnTo>
                      <a:pt x="119" y="40"/>
                    </a:lnTo>
                    <a:lnTo>
                      <a:pt x="239" y="79"/>
                    </a:lnTo>
                    <a:lnTo>
                      <a:pt x="359" y="120"/>
                    </a:lnTo>
                    <a:lnTo>
                      <a:pt x="480" y="159"/>
                    </a:lnTo>
                    <a:lnTo>
                      <a:pt x="601" y="199"/>
                    </a:lnTo>
                    <a:lnTo>
                      <a:pt x="723" y="239"/>
                    </a:lnTo>
                    <a:lnTo>
                      <a:pt x="844" y="279"/>
                    </a:lnTo>
                    <a:lnTo>
                      <a:pt x="966" y="318"/>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342920" y="2042280"/>
                <a:ext cx="714960" cy="2211480"/>
              </a:xfrm>
              <a:custGeom>
                <a:avLst/>
                <a:gdLst/>
                <a:ahLst/>
                <a:rect l="l" t="t" r="r" b="b"/>
                <a:pathLst>
                  <a:path w="1919" h="8065">
                    <a:moveTo>
                      <a:pt x="949" y="0"/>
                    </a:moveTo>
                    <a:lnTo>
                      <a:pt x="1069" y="23"/>
                    </a:lnTo>
                    <a:lnTo>
                      <a:pt x="1188" y="47"/>
                    </a:lnTo>
                    <a:lnTo>
                      <a:pt x="1309" y="71"/>
                    </a:lnTo>
                    <a:lnTo>
                      <a:pt x="1430" y="96"/>
                    </a:lnTo>
                    <a:lnTo>
                      <a:pt x="1551" y="119"/>
                    </a:lnTo>
                    <a:lnTo>
                      <a:pt x="1673" y="144"/>
                    </a:lnTo>
                    <a:lnTo>
                      <a:pt x="1796" y="168"/>
                    </a:lnTo>
                    <a:lnTo>
                      <a:pt x="1919" y="193"/>
                    </a:lnTo>
                    <a:lnTo>
                      <a:pt x="1889" y="437"/>
                    </a:lnTo>
                    <a:lnTo>
                      <a:pt x="1860" y="682"/>
                    </a:lnTo>
                    <a:lnTo>
                      <a:pt x="1830" y="927"/>
                    </a:lnTo>
                    <a:lnTo>
                      <a:pt x="1800" y="1172"/>
                    </a:lnTo>
                    <a:lnTo>
                      <a:pt x="1771" y="1417"/>
                    </a:lnTo>
                    <a:lnTo>
                      <a:pt x="1741" y="1662"/>
                    </a:lnTo>
                    <a:lnTo>
                      <a:pt x="1712" y="1907"/>
                    </a:lnTo>
                    <a:lnTo>
                      <a:pt x="1682" y="2150"/>
                    </a:lnTo>
                    <a:lnTo>
                      <a:pt x="1652" y="2395"/>
                    </a:lnTo>
                    <a:lnTo>
                      <a:pt x="1623" y="2640"/>
                    </a:lnTo>
                    <a:lnTo>
                      <a:pt x="1594" y="2885"/>
                    </a:lnTo>
                    <a:lnTo>
                      <a:pt x="1564" y="3131"/>
                    </a:lnTo>
                    <a:lnTo>
                      <a:pt x="1535" y="3376"/>
                    </a:lnTo>
                    <a:lnTo>
                      <a:pt x="1506" y="3621"/>
                    </a:lnTo>
                    <a:lnTo>
                      <a:pt x="1476" y="3867"/>
                    </a:lnTo>
                    <a:lnTo>
                      <a:pt x="1447" y="4112"/>
                    </a:lnTo>
                    <a:lnTo>
                      <a:pt x="1416" y="4359"/>
                    </a:lnTo>
                    <a:lnTo>
                      <a:pt x="1386" y="4604"/>
                    </a:lnTo>
                    <a:lnTo>
                      <a:pt x="1356" y="4850"/>
                    </a:lnTo>
                    <a:lnTo>
                      <a:pt x="1326" y="5096"/>
                    </a:lnTo>
                    <a:lnTo>
                      <a:pt x="1295" y="5342"/>
                    </a:lnTo>
                    <a:lnTo>
                      <a:pt x="1266" y="5590"/>
                    </a:lnTo>
                    <a:lnTo>
                      <a:pt x="1236" y="5836"/>
                    </a:lnTo>
                    <a:lnTo>
                      <a:pt x="1206" y="6082"/>
                    </a:lnTo>
                    <a:lnTo>
                      <a:pt x="1176" y="6329"/>
                    </a:lnTo>
                    <a:lnTo>
                      <a:pt x="1146" y="6577"/>
                    </a:lnTo>
                    <a:lnTo>
                      <a:pt x="1117" y="6824"/>
                    </a:lnTo>
                    <a:lnTo>
                      <a:pt x="1087" y="7073"/>
                    </a:lnTo>
                    <a:lnTo>
                      <a:pt x="1056" y="7320"/>
                    </a:lnTo>
                    <a:lnTo>
                      <a:pt x="1027" y="7569"/>
                    </a:lnTo>
                    <a:lnTo>
                      <a:pt x="997" y="7816"/>
                    </a:lnTo>
                    <a:lnTo>
                      <a:pt x="966" y="8065"/>
                    </a:lnTo>
                    <a:lnTo>
                      <a:pt x="844" y="8026"/>
                    </a:lnTo>
                    <a:lnTo>
                      <a:pt x="723" y="7986"/>
                    </a:lnTo>
                    <a:lnTo>
                      <a:pt x="601" y="7946"/>
                    </a:lnTo>
                    <a:lnTo>
                      <a:pt x="480" y="7906"/>
                    </a:lnTo>
                    <a:lnTo>
                      <a:pt x="359" y="7867"/>
                    </a:lnTo>
                    <a:lnTo>
                      <a:pt x="239" y="7826"/>
                    </a:lnTo>
                    <a:lnTo>
                      <a:pt x="119" y="7787"/>
                    </a:lnTo>
                    <a:lnTo>
                      <a:pt x="0" y="7747"/>
                    </a:lnTo>
                    <a:lnTo>
                      <a:pt x="29" y="7504"/>
                    </a:lnTo>
                    <a:lnTo>
                      <a:pt x="59" y="7259"/>
                    </a:lnTo>
                    <a:lnTo>
                      <a:pt x="89" y="7015"/>
                    </a:lnTo>
                    <a:lnTo>
                      <a:pt x="118" y="6771"/>
                    </a:lnTo>
                    <a:lnTo>
                      <a:pt x="148" y="6528"/>
                    </a:lnTo>
                    <a:lnTo>
                      <a:pt x="178" y="6283"/>
                    </a:lnTo>
                    <a:lnTo>
                      <a:pt x="209" y="6040"/>
                    </a:lnTo>
                    <a:lnTo>
                      <a:pt x="238" y="5796"/>
                    </a:lnTo>
                    <a:lnTo>
                      <a:pt x="268" y="5554"/>
                    </a:lnTo>
                    <a:lnTo>
                      <a:pt x="298" y="5310"/>
                    </a:lnTo>
                    <a:lnTo>
                      <a:pt x="328" y="5068"/>
                    </a:lnTo>
                    <a:lnTo>
                      <a:pt x="357" y="4825"/>
                    </a:lnTo>
                    <a:lnTo>
                      <a:pt x="387" y="4583"/>
                    </a:lnTo>
                    <a:lnTo>
                      <a:pt x="416" y="4340"/>
                    </a:lnTo>
                    <a:lnTo>
                      <a:pt x="446" y="4098"/>
                    </a:lnTo>
                    <a:lnTo>
                      <a:pt x="476" y="3856"/>
                    </a:lnTo>
                    <a:lnTo>
                      <a:pt x="505" y="3614"/>
                    </a:lnTo>
                    <a:lnTo>
                      <a:pt x="535" y="3373"/>
                    </a:lnTo>
                    <a:lnTo>
                      <a:pt x="565" y="3131"/>
                    </a:lnTo>
                    <a:lnTo>
                      <a:pt x="594" y="2889"/>
                    </a:lnTo>
                    <a:lnTo>
                      <a:pt x="623" y="2648"/>
                    </a:lnTo>
                    <a:lnTo>
                      <a:pt x="652" y="2406"/>
                    </a:lnTo>
                    <a:lnTo>
                      <a:pt x="682" y="2165"/>
                    </a:lnTo>
                    <a:lnTo>
                      <a:pt x="712" y="1924"/>
                    </a:lnTo>
                    <a:lnTo>
                      <a:pt x="741" y="1684"/>
                    </a:lnTo>
                    <a:lnTo>
                      <a:pt x="771" y="1444"/>
                    </a:lnTo>
                    <a:lnTo>
                      <a:pt x="800" y="1202"/>
                    </a:lnTo>
                    <a:lnTo>
                      <a:pt x="830" y="962"/>
                    </a:lnTo>
                    <a:lnTo>
                      <a:pt x="860" y="721"/>
                    </a:lnTo>
                    <a:lnTo>
                      <a:pt x="889" y="481"/>
                    </a:lnTo>
                    <a:lnTo>
                      <a:pt x="918" y="240"/>
                    </a:lnTo>
                    <a:lnTo>
                      <a:pt x="949" y="0"/>
                    </a:lnTo>
                    <a:close/>
                  </a:path>
                </a:pathLst>
              </a:custGeom>
              <a:solidFill>
                <a:srgbClr val="ab9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342920" y="2042280"/>
                <a:ext cx="714960" cy="2211480"/>
              </a:xfrm>
              <a:custGeom>
                <a:avLst/>
                <a:gdLst/>
                <a:ahLst/>
                <a:rect l="l" t="t" r="r" b="b"/>
                <a:pathLst>
                  <a:path w="1919" h="8065">
                    <a:moveTo>
                      <a:pt x="949" y="0"/>
                    </a:moveTo>
                    <a:lnTo>
                      <a:pt x="1069" y="23"/>
                    </a:lnTo>
                    <a:lnTo>
                      <a:pt x="1188" y="47"/>
                    </a:lnTo>
                    <a:lnTo>
                      <a:pt x="1309" y="71"/>
                    </a:lnTo>
                    <a:lnTo>
                      <a:pt x="1430" y="96"/>
                    </a:lnTo>
                    <a:lnTo>
                      <a:pt x="1551" y="119"/>
                    </a:lnTo>
                    <a:lnTo>
                      <a:pt x="1673" y="144"/>
                    </a:lnTo>
                    <a:lnTo>
                      <a:pt x="1796" y="168"/>
                    </a:lnTo>
                    <a:lnTo>
                      <a:pt x="1919" y="193"/>
                    </a:lnTo>
                    <a:lnTo>
                      <a:pt x="1889" y="437"/>
                    </a:lnTo>
                    <a:lnTo>
                      <a:pt x="1860" y="682"/>
                    </a:lnTo>
                    <a:lnTo>
                      <a:pt x="1830" y="927"/>
                    </a:lnTo>
                    <a:lnTo>
                      <a:pt x="1800" y="1172"/>
                    </a:lnTo>
                    <a:lnTo>
                      <a:pt x="1771" y="1417"/>
                    </a:lnTo>
                    <a:lnTo>
                      <a:pt x="1741" y="1662"/>
                    </a:lnTo>
                    <a:lnTo>
                      <a:pt x="1712" y="1907"/>
                    </a:lnTo>
                    <a:lnTo>
                      <a:pt x="1682" y="2150"/>
                    </a:lnTo>
                    <a:lnTo>
                      <a:pt x="1652" y="2395"/>
                    </a:lnTo>
                    <a:lnTo>
                      <a:pt x="1623" y="2640"/>
                    </a:lnTo>
                    <a:lnTo>
                      <a:pt x="1594" y="2885"/>
                    </a:lnTo>
                    <a:lnTo>
                      <a:pt x="1564" y="3131"/>
                    </a:lnTo>
                    <a:lnTo>
                      <a:pt x="1535" y="3376"/>
                    </a:lnTo>
                    <a:lnTo>
                      <a:pt x="1506" y="3621"/>
                    </a:lnTo>
                    <a:lnTo>
                      <a:pt x="1476" y="3867"/>
                    </a:lnTo>
                    <a:lnTo>
                      <a:pt x="1447" y="4112"/>
                    </a:lnTo>
                    <a:lnTo>
                      <a:pt x="1416" y="4359"/>
                    </a:lnTo>
                    <a:lnTo>
                      <a:pt x="1386" y="4604"/>
                    </a:lnTo>
                    <a:lnTo>
                      <a:pt x="1356" y="4850"/>
                    </a:lnTo>
                    <a:lnTo>
                      <a:pt x="1326" y="5096"/>
                    </a:lnTo>
                    <a:lnTo>
                      <a:pt x="1295" y="5342"/>
                    </a:lnTo>
                    <a:lnTo>
                      <a:pt x="1266" y="5590"/>
                    </a:lnTo>
                    <a:lnTo>
                      <a:pt x="1236" y="5836"/>
                    </a:lnTo>
                    <a:lnTo>
                      <a:pt x="1206" y="6082"/>
                    </a:lnTo>
                    <a:lnTo>
                      <a:pt x="1176" y="6329"/>
                    </a:lnTo>
                    <a:lnTo>
                      <a:pt x="1146" y="6577"/>
                    </a:lnTo>
                    <a:lnTo>
                      <a:pt x="1117" y="6824"/>
                    </a:lnTo>
                    <a:lnTo>
                      <a:pt x="1087" y="7073"/>
                    </a:lnTo>
                    <a:lnTo>
                      <a:pt x="1056" y="7320"/>
                    </a:lnTo>
                    <a:lnTo>
                      <a:pt x="1027" y="7569"/>
                    </a:lnTo>
                    <a:lnTo>
                      <a:pt x="997" y="7816"/>
                    </a:lnTo>
                    <a:lnTo>
                      <a:pt x="966" y="8065"/>
                    </a:lnTo>
                    <a:lnTo>
                      <a:pt x="844" y="8026"/>
                    </a:lnTo>
                    <a:lnTo>
                      <a:pt x="723" y="7986"/>
                    </a:lnTo>
                    <a:lnTo>
                      <a:pt x="601" y="7946"/>
                    </a:lnTo>
                    <a:lnTo>
                      <a:pt x="480" y="7906"/>
                    </a:lnTo>
                    <a:lnTo>
                      <a:pt x="359" y="7867"/>
                    </a:lnTo>
                    <a:lnTo>
                      <a:pt x="239" y="7826"/>
                    </a:lnTo>
                    <a:lnTo>
                      <a:pt x="119" y="7787"/>
                    </a:lnTo>
                    <a:lnTo>
                      <a:pt x="0" y="7747"/>
                    </a:lnTo>
                    <a:lnTo>
                      <a:pt x="29" y="7504"/>
                    </a:lnTo>
                    <a:lnTo>
                      <a:pt x="59" y="7259"/>
                    </a:lnTo>
                    <a:lnTo>
                      <a:pt x="89" y="7015"/>
                    </a:lnTo>
                    <a:lnTo>
                      <a:pt x="118" y="6771"/>
                    </a:lnTo>
                    <a:lnTo>
                      <a:pt x="148" y="6528"/>
                    </a:lnTo>
                    <a:lnTo>
                      <a:pt x="178" y="6283"/>
                    </a:lnTo>
                    <a:lnTo>
                      <a:pt x="209" y="6040"/>
                    </a:lnTo>
                    <a:lnTo>
                      <a:pt x="238" y="5796"/>
                    </a:lnTo>
                    <a:lnTo>
                      <a:pt x="268" y="5554"/>
                    </a:lnTo>
                    <a:lnTo>
                      <a:pt x="298" y="5310"/>
                    </a:lnTo>
                    <a:lnTo>
                      <a:pt x="328" y="5068"/>
                    </a:lnTo>
                    <a:lnTo>
                      <a:pt x="357" y="4825"/>
                    </a:lnTo>
                    <a:lnTo>
                      <a:pt x="387" y="4583"/>
                    </a:lnTo>
                    <a:lnTo>
                      <a:pt x="416" y="4340"/>
                    </a:lnTo>
                    <a:lnTo>
                      <a:pt x="446" y="4098"/>
                    </a:lnTo>
                    <a:lnTo>
                      <a:pt x="476" y="3856"/>
                    </a:lnTo>
                    <a:lnTo>
                      <a:pt x="505" y="3614"/>
                    </a:lnTo>
                    <a:lnTo>
                      <a:pt x="535" y="3373"/>
                    </a:lnTo>
                    <a:lnTo>
                      <a:pt x="565" y="3131"/>
                    </a:lnTo>
                    <a:lnTo>
                      <a:pt x="594" y="2889"/>
                    </a:lnTo>
                    <a:lnTo>
                      <a:pt x="623" y="2648"/>
                    </a:lnTo>
                    <a:lnTo>
                      <a:pt x="652" y="2406"/>
                    </a:lnTo>
                    <a:lnTo>
                      <a:pt x="682" y="2165"/>
                    </a:lnTo>
                    <a:lnTo>
                      <a:pt x="712" y="1924"/>
                    </a:lnTo>
                    <a:lnTo>
                      <a:pt x="741" y="1684"/>
                    </a:lnTo>
                    <a:lnTo>
                      <a:pt x="771" y="1444"/>
                    </a:lnTo>
                    <a:lnTo>
                      <a:pt x="800" y="1202"/>
                    </a:lnTo>
                    <a:lnTo>
                      <a:pt x="830" y="962"/>
                    </a:lnTo>
                    <a:lnTo>
                      <a:pt x="860" y="721"/>
                    </a:lnTo>
                    <a:lnTo>
                      <a:pt x="889" y="481"/>
                    </a:lnTo>
                    <a:lnTo>
                      <a:pt x="918" y="240"/>
                    </a:lnTo>
                    <a:lnTo>
                      <a:pt x="949"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740000" y="2087280"/>
                <a:ext cx="447480" cy="2318760"/>
              </a:xfrm>
              <a:custGeom>
                <a:avLst/>
                <a:gdLst/>
                <a:ahLst/>
                <a:rect l="l" t="t" r="r" b="b"/>
                <a:pathLst>
                  <a:path w="1200" h="8454">
                    <a:moveTo>
                      <a:pt x="969" y="0"/>
                    </a:moveTo>
                    <a:lnTo>
                      <a:pt x="997" y="49"/>
                    </a:lnTo>
                    <a:lnTo>
                      <a:pt x="1026" y="99"/>
                    </a:lnTo>
                    <a:lnTo>
                      <a:pt x="1055" y="150"/>
                    </a:lnTo>
                    <a:lnTo>
                      <a:pt x="1083" y="199"/>
                    </a:lnTo>
                    <a:lnTo>
                      <a:pt x="1112" y="249"/>
                    </a:lnTo>
                    <a:lnTo>
                      <a:pt x="1142" y="299"/>
                    </a:lnTo>
                    <a:lnTo>
                      <a:pt x="1171" y="349"/>
                    </a:lnTo>
                    <a:lnTo>
                      <a:pt x="1200" y="398"/>
                    </a:lnTo>
                    <a:lnTo>
                      <a:pt x="1170" y="648"/>
                    </a:lnTo>
                    <a:lnTo>
                      <a:pt x="1140" y="898"/>
                    </a:lnTo>
                    <a:lnTo>
                      <a:pt x="1109" y="1149"/>
                    </a:lnTo>
                    <a:lnTo>
                      <a:pt x="1079" y="1399"/>
                    </a:lnTo>
                    <a:lnTo>
                      <a:pt x="1049" y="1649"/>
                    </a:lnTo>
                    <a:lnTo>
                      <a:pt x="1018" y="1899"/>
                    </a:lnTo>
                    <a:lnTo>
                      <a:pt x="987" y="2150"/>
                    </a:lnTo>
                    <a:lnTo>
                      <a:pt x="957" y="2400"/>
                    </a:lnTo>
                    <a:lnTo>
                      <a:pt x="927" y="2650"/>
                    </a:lnTo>
                    <a:lnTo>
                      <a:pt x="897" y="2901"/>
                    </a:lnTo>
                    <a:lnTo>
                      <a:pt x="866" y="3151"/>
                    </a:lnTo>
                    <a:lnTo>
                      <a:pt x="837" y="3402"/>
                    </a:lnTo>
                    <a:lnTo>
                      <a:pt x="807" y="3652"/>
                    </a:lnTo>
                    <a:lnTo>
                      <a:pt x="777" y="3903"/>
                    </a:lnTo>
                    <a:lnTo>
                      <a:pt x="747" y="4154"/>
                    </a:lnTo>
                    <a:lnTo>
                      <a:pt x="717" y="4405"/>
                    </a:lnTo>
                    <a:lnTo>
                      <a:pt x="687" y="4657"/>
                    </a:lnTo>
                    <a:lnTo>
                      <a:pt x="657" y="4910"/>
                    </a:lnTo>
                    <a:lnTo>
                      <a:pt x="626" y="5161"/>
                    </a:lnTo>
                    <a:lnTo>
                      <a:pt x="596" y="5413"/>
                    </a:lnTo>
                    <a:lnTo>
                      <a:pt x="566" y="5666"/>
                    </a:lnTo>
                    <a:lnTo>
                      <a:pt x="536" y="5918"/>
                    </a:lnTo>
                    <a:lnTo>
                      <a:pt x="506" y="6170"/>
                    </a:lnTo>
                    <a:lnTo>
                      <a:pt x="475" y="6423"/>
                    </a:lnTo>
                    <a:lnTo>
                      <a:pt x="444" y="6676"/>
                    </a:lnTo>
                    <a:lnTo>
                      <a:pt x="414" y="6930"/>
                    </a:lnTo>
                    <a:lnTo>
                      <a:pt x="383" y="7183"/>
                    </a:lnTo>
                    <a:lnTo>
                      <a:pt x="352" y="7437"/>
                    </a:lnTo>
                    <a:lnTo>
                      <a:pt x="321" y="7691"/>
                    </a:lnTo>
                    <a:lnTo>
                      <a:pt x="291" y="7944"/>
                    </a:lnTo>
                    <a:lnTo>
                      <a:pt x="261" y="8199"/>
                    </a:lnTo>
                    <a:lnTo>
                      <a:pt x="230" y="8454"/>
                    </a:lnTo>
                    <a:lnTo>
                      <a:pt x="201" y="8398"/>
                    </a:lnTo>
                    <a:lnTo>
                      <a:pt x="172" y="8343"/>
                    </a:lnTo>
                    <a:lnTo>
                      <a:pt x="144" y="8289"/>
                    </a:lnTo>
                    <a:lnTo>
                      <a:pt x="114" y="8233"/>
                    </a:lnTo>
                    <a:lnTo>
                      <a:pt x="86" y="8179"/>
                    </a:lnTo>
                    <a:lnTo>
                      <a:pt x="57" y="8124"/>
                    </a:lnTo>
                    <a:lnTo>
                      <a:pt x="29" y="8070"/>
                    </a:lnTo>
                    <a:lnTo>
                      <a:pt x="0" y="8015"/>
                    </a:lnTo>
                    <a:lnTo>
                      <a:pt x="30" y="7762"/>
                    </a:lnTo>
                    <a:lnTo>
                      <a:pt x="60" y="7510"/>
                    </a:lnTo>
                    <a:lnTo>
                      <a:pt x="91" y="7256"/>
                    </a:lnTo>
                    <a:lnTo>
                      <a:pt x="121" y="7004"/>
                    </a:lnTo>
                    <a:lnTo>
                      <a:pt x="152" y="6751"/>
                    </a:lnTo>
                    <a:lnTo>
                      <a:pt x="183" y="6500"/>
                    </a:lnTo>
                    <a:lnTo>
                      <a:pt x="213" y="6248"/>
                    </a:lnTo>
                    <a:lnTo>
                      <a:pt x="244" y="5997"/>
                    </a:lnTo>
                    <a:lnTo>
                      <a:pt x="275" y="5746"/>
                    </a:lnTo>
                    <a:lnTo>
                      <a:pt x="305" y="5495"/>
                    </a:lnTo>
                    <a:lnTo>
                      <a:pt x="335" y="5243"/>
                    </a:lnTo>
                    <a:lnTo>
                      <a:pt x="365" y="4994"/>
                    </a:lnTo>
                    <a:lnTo>
                      <a:pt x="397" y="4742"/>
                    </a:lnTo>
                    <a:lnTo>
                      <a:pt x="427" y="4491"/>
                    </a:lnTo>
                    <a:lnTo>
                      <a:pt x="457" y="4241"/>
                    </a:lnTo>
                    <a:lnTo>
                      <a:pt x="488" y="3990"/>
                    </a:lnTo>
                    <a:lnTo>
                      <a:pt x="519" y="3740"/>
                    </a:lnTo>
                    <a:lnTo>
                      <a:pt x="549" y="3491"/>
                    </a:lnTo>
                    <a:lnTo>
                      <a:pt x="578" y="3241"/>
                    </a:lnTo>
                    <a:lnTo>
                      <a:pt x="608" y="2992"/>
                    </a:lnTo>
                    <a:lnTo>
                      <a:pt x="639" y="2742"/>
                    </a:lnTo>
                    <a:lnTo>
                      <a:pt x="668" y="2492"/>
                    </a:lnTo>
                    <a:lnTo>
                      <a:pt x="698" y="2242"/>
                    </a:lnTo>
                    <a:lnTo>
                      <a:pt x="728" y="1994"/>
                    </a:lnTo>
                    <a:lnTo>
                      <a:pt x="759" y="1744"/>
                    </a:lnTo>
                    <a:lnTo>
                      <a:pt x="788" y="1495"/>
                    </a:lnTo>
                    <a:lnTo>
                      <a:pt x="818" y="1247"/>
                    </a:lnTo>
                    <a:lnTo>
                      <a:pt x="848" y="997"/>
                    </a:lnTo>
                    <a:lnTo>
                      <a:pt x="877" y="748"/>
                    </a:lnTo>
                    <a:lnTo>
                      <a:pt x="908" y="498"/>
                    </a:lnTo>
                    <a:lnTo>
                      <a:pt x="938" y="249"/>
                    </a:lnTo>
                    <a:lnTo>
                      <a:pt x="969" y="0"/>
                    </a:lnTo>
                    <a:close/>
                  </a:path>
                </a:pathLst>
              </a:custGeom>
              <a:solidFill>
                <a:srgbClr val="94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740000" y="2087280"/>
                <a:ext cx="447480" cy="2318760"/>
              </a:xfrm>
              <a:custGeom>
                <a:avLst/>
                <a:gdLst/>
                <a:ahLst/>
                <a:rect l="l" t="t" r="r" b="b"/>
                <a:pathLst>
                  <a:path w="1200" h="8454">
                    <a:moveTo>
                      <a:pt x="969" y="0"/>
                    </a:moveTo>
                    <a:lnTo>
                      <a:pt x="997" y="49"/>
                    </a:lnTo>
                    <a:lnTo>
                      <a:pt x="1026" y="99"/>
                    </a:lnTo>
                    <a:lnTo>
                      <a:pt x="1055" y="150"/>
                    </a:lnTo>
                    <a:lnTo>
                      <a:pt x="1083" y="199"/>
                    </a:lnTo>
                    <a:lnTo>
                      <a:pt x="1112" y="249"/>
                    </a:lnTo>
                    <a:lnTo>
                      <a:pt x="1142" y="299"/>
                    </a:lnTo>
                    <a:lnTo>
                      <a:pt x="1171" y="349"/>
                    </a:lnTo>
                    <a:lnTo>
                      <a:pt x="1200" y="398"/>
                    </a:lnTo>
                    <a:lnTo>
                      <a:pt x="1170" y="648"/>
                    </a:lnTo>
                    <a:lnTo>
                      <a:pt x="1140" y="898"/>
                    </a:lnTo>
                    <a:lnTo>
                      <a:pt x="1109" y="1149"/>
                    </a:lnTo>
                    <a:lnTo>
                      <a:pt x="1079" y="1399"/>
                    </a:lnTo>
                    <a:lnTo>
                      <a:pt x="1049" y="1649"/>
                    </a:lnTo>
                    <a:lnTo>
                      <a:pt x="1018" y="1899"/>
                    </a:lnTo>
                    <a:lnTo>
                      <a:pt x="987" y="2150"/>
                    </a:lnTo>
                    <a:lnTo>
                      <a:pt x="957" y="2400"/>
                    </a:lnTo>
                    <a:lnTo>
                      <a:pt x="927" y="2650"/>
                    </a:lnTo>
                    <a:lnTo>
                      <a:pt x="897" y="2901"/>
                    </a:lnTo>
                    <a:lnTo>
                      <a:pt x="866" y="3151"/>
                    </a:lnTo>
                    <a:lnTo>
                      <a:pt x="837" y="3402"/>
                    </a:lnTo>
                    <a:lnTo>
                      <a:pt x="807" y="3652"/>
                    </a:lnTo>
                    <a:lnTo>
                      <a:pt x="777" y="3903"/>
                    </a:lnTo>
                    <a:lnTo>
                      <a:pt x="747" y="4154"/>
                    </a:lnTo>
                    <a:lnTo>
                      <a:pt x="717" y="4405"/>
                    </a:lnTo>
                    <a:lnTo>
                      <a:pt x="687" y="4657"/>
                    </a:lnTo>
                    <a:lnTo>
                      <a:pt x="657" y="4910"/>
                    </a:lnTo>
                    <a:lnTo>
                      <a:pt x="626" y="5161"/>
                    </a:lnTo>
                    <a:lnTo>
                      <a:pt x="596" y="5413"/>
                    </a:lnTo>
                    <a:lnTo>
                      <a:pt x="566" y="5666"/>
                    </a:lnTo>
                    <a:lnTo>
                      <a:pt x="536" y="5918"/>
                    </a:lnTo>
                    <a:lnTo>
                      <a:pt x="506" y="6170"/>
                    </a:lnTo>
                    <a:lnTo>
                      <a:pt x="475" y="6423"/>
                    </a:lnTo>
                    <a:lnTo>
                      <a:pt x="444" y="6676"/>
                    </a:lnTo>
                    <a:lnTo>
                      <a:pt x="414" y="6930"/>
                    </a:lnTo>
                    <a:lnTo>
                      <a:pt x="383" y="7183"/>
                    </a:lnTo>
                    <a:lnTo>
                      <a:pt x="352" y="7437"/>
                    </a:lnTo>
                    <a:lnTo>
                      <a:pt x="321" y="7691"/>
                    </a:lnTo>
                    <a:lnTo>
                      <a:pt x="291" y="7944"/>
                    </a:lnTo>
                    <a:lnTo>
                      <a:pt x="261" y="8199"/>
                    </a:lnTo>
                    <a:lnTo>
                      <a:pt x="230" y="8454"/>
                    </a:lnTo>
                    <a:lnTo>
                      <a:pt x="201" y="8398"/>
                    </a:lnTo>
                    <a:lnTo>
                      <a:pt x="172" y="8343"/>
                    </a:lnTo>
                    <a:lnTo>
                      <a:pt x="144" y="8289"/>
                    </a:lnTo>
                    <a:lnTo>
                      <a:pt x="114" y="8233"/>
                    </a:lnTo>
                    <a:lnTo>
                      <a:pt x="86" y="8179"/>
                    </a:lnTo>
                    <a:lnTo>
                      <a:pt x="57" y="8124"/>
                    </a:lnTo>
                    <a:lnTo>
                      <a:pt x="29" y="8070"/>
                    </a:lnTo>
                    <a:lnTo>
                      <a:pt x="0" y="8015"/>
                    </a:lnTo>
                    <a:lnTo>
                      <a:pt x="30" y="7762"/>
                    </a:lnTo>
                    <a:lnTo>
                      <a:pt x="60" y="7510"/>
                    </a:lnTo>
                    <a:lnTo>
                      <a:pt x="91" y="7256"/>
                    </a:lnTo>
                    <a:lnTo>
                      <a:pt x="121" y="7004"/>
                    </a:lnTo>
                    <a:lnTo>
                      <a:pt x="152" y="6751"/>
                    </a:lnTo>
                    <a:lnTo>
                      <a:pt x="183" y="6500"/>
                    </a:lnTo>
                    <a:lnTo>
                      <a:pt x="213" y="6248"/>
                    </a:lnTo>
                    <a:lnTo>
                      <a:pt x="244" y="5997"/>
                    </a:lnTo>
                    <a:lnTo>
                      <a:pt x="275" y="5746"/>
                    </a:lnTo>
                    <a:lnTo>
                      <a:pt x="305" y="5495"/>
                    </a:lnTo>
                    <a:lnTo>
                      <a:pt x="335" y="5243"/>
                    </a:lnTo>
                    <a:lnTo>
                      <a:pt x="365" y="4994"/>
                    </a:lnTo>
                    <a:lnTo>
                      <a:pt x="397" y="4742"/>
                    </a:lnTo>
                    <a:lnTo>
                      <a:pt x="427" y="4491"/>
                    </a:lnTo>
                    <a:lnTo>
                      <a:pt x="457" y="4241"/>
                    </a:lnTo>
                    <a:lnTo>
                      <a:pt x="488" y="3990"/>
                    </a:lnTo>
                    <a:lnTo>
                      <a:pt x="519" y="3740"/>
                    </a:lnTo>
                    <a:lnTo>
                      <a:pt x="549" y="3491"/>
                    </a:lnTo>
                    <a:lnTo>
                      <a:pt x="578" y="3241"/>
                    </a:lnTo>
                    <a:lnTo>
                      <a:pt x="608" y="2992"/>
                    </a:lnTo>
                    <a:lnTo>
                      <a:pt x="639" y="2742"/>
                    </a:lnTo>
                    <a:lnTo>
                      <a:pt x="668" y="2492"/>
                    </a:lnTo>
                    <a:lnTo>
                      <a:pt x="698" y="2242"/>
                    </a:lnTo>
                    <a:lnTo>
                      <a:pt x="728" y="1994"/>
                    </a:lnTo>
                    <a:lnTo>
                      <a:pt x="759" y="1744"/>
                    </a:lnTo>
                    <a:lnTo>
                      <a:pt x="788" y="1495"/>
                    </a:lnTo>
                    <a:lnTo>
                      <a:pt x="818" y="1247"/>
                    </a:lnTo>
                    <a:lnTo>
                      <a:pt x="848" y="997"/>
                    </a:lnTo>
                    <a:lnTo>
                      <a:pt x="877" y="748"/>
                    </a:lnTo>
                    <a:lnTo>
                      <a:pt x="908" y="498"/>
                    </a:lnTo>
                    <a:lnTo>
                      <a:pt x="938" y="249"/>
                    </a:lnTo>
                    <a:lnTo>
                      <a:pt x="969"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2" name=""/>
            <p:cNvSpPr/>
            <p:nvPr/>
          </p:nvSpPr>
          <p:spPr>
            <a:xfrm>
              <a:off x="7207200" y="4158360"/>
              <a:ext cx="628200" cy="252000"/>
            </a:xfrm>
            <a:custGeom>
              <a:avLst/>
              <a:gdLst/>
              <a:ahLst/>
              <a:rect l="l" t="t" r="r" b="b"/>
              <a:pathLst>
                <a:path w="1684" h="920">
                  <a:moveTo>
                    <a:pt x="1454" y="481"/>
                  </a:moveTo>
                  <a:lnTo>
                    <a:pt x="1483" y="536"/>
                  </a:lnTo>
                  <a:lnTo>
                    <a:pt x="1511" y="590"/>
                  </a:lnTo>
                  <a:lnTo>
                    <a:pt x="1540" y="645"/>
                  </a:lnTo>
                  <a:lnTo>
                    <a:pt x="1568" y="699"/>
                  </a:lnTo>
                  <a:lnTo>
                    <a:pt x="1598" y="755"/>
                  </a:lnTo>
                  <a:lnTo>
                    <a:pt x="1626" y="809"/>
                  </a:lnTo>
                  <a:lnTo>
                    <a:pt x="1655" y="864"/>
                  </a:lnTo>
                  <a:lnTo>
                    <a:pt x="1684" y="920"/>
                  </a:lnTo>
                  <a:lnTo>
                    <a:pt x="1499" y="857"/>
                  </a:lnTo>
                  <a:lnTo>
                    <a:pt x="1314" y="794"/>
                  </a:lnTo>
                  <a:lnTo>
                    <a:pt x="1130" y="733"/>
                  </a:lnTo>
                  <a:lnTo>
                    <a:pt x="946" y="671"/>
                  </a:lnTo>
                  <a:lnTo>
                    <a:pt x="763" y="608"/>
                  </a:lnTo>
                  <a:lnTo>
                    <a:pt x="581" y="547"/>
                  </a:lnTo>
                  <a:lnTo>
                    <a:pt x="399" y="486"/>
                  </a:lnTo>
                  <a:lnTo>
                    <a:pt x="219" y="425"/>
                  </a:lnTo>
                  <a:lnTo>
                    <a:pt x="191" y="373"/>
                  </a:lnTo>
                  <a:lnTo>
                    <a:pt x="164" y="320"/>
                  </a:lnTo>
                  <a:lnTo>
                    <a:pt x="136" y="267"/>
                  </a:lnTo>
                  <a:lnTo>
                    <a:pt x="109" y="213"/>
                  </a:lnTo>
                  <a:lnTo>
                    <a:pt x="82" y="160"/>
                  </a:lnTo>
                  <a:lnTo>
                    <a:pt x="54" y="107"/>
                  </a:lnTo>
                  <a:lnTo>
                    <a:pt x="27" y="54"/>
                  </a:lnTo>
                  <a:lnTo>
                    <a:pt x="0" y="0"/>
                  </a:lnTo>
                  <a:lnTo>
                    <a:pt x="178" y="59"/>
                  </a:lnTo>
                  <a:lnTo>
                    <a:pt x="358" y="118"/>
                  </a:lnTo>
                  <a:lnTo>
                    <a:pt x="539" y="179"/>
                  </a:lnTo>
                  <a:lnTo>
                    <a:pt x="721" y="239"/>
                  </a:lnTo>
                  <a:lnTo>
                    <a:pt x="903" y="299"/>
                  </a:lnTo>
                  <a:lnTo>
                    <a:pt x="1087" y="360"/>
                  </a:lnTo>
                  <a:lnTo>
                    <a:pt x="1270" y="420"/>
                  </a:lnTo>
                  <a:lnTo>
                    <a:pt x="1454" y="481"/>
                  </a:lnTo>
                  <a:close/>
                </a:path>
              </a:pathLst>
            </a:custGeom>
            <a:solidFill>
              <a:srgbClr val="4c4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207200" y="4158360"/>
              <a:ext cx="628200" cy="252000"/>
            </a:xfrm>
            <a:custGeom>
              <a:avLst/>
              <a:gdLst/>
              <a:ahLst/>
              <a:rect l="l" t="t" r="r" b="b"/>
              <a:pathLst>
                <a:path w="1684" h="920">
                  <a:moveTo>
                    <a:pt x="1454" y="481"/>
                  </a:moveTo>
                  <a:lnTo>
                    <a:pt x="1483" y="536"/>
                  </a:lnTo>
                  <a:lnTo>
                    <a:pt x="1511" y="590"/>
                  </a:lnTo>
                  <a:lnTo>
                    <a:pt x="1540" y="645"/>
                  </a:lnTo>
                  <a:lnTo>
                    <a:pt x="1568" y="699"/>
                  </a:lnTo>
                  <a:lnTo>
                    <a:pt x="1598" y="755"/>
                  </a:lnTo>
                  <a:lnTo>
                    <a:pt x="1626" y="809"/>
                  </a:lnTo>
                  <a:lnTo>
                    <a:pt x="1655" y="864"/>
                  </a:lnTo>
                  <a:lnTo>
                    <a:pt x="1684" y="920"/>
                  </a:lnTo>
                  <a:lnTo>
                    <a:pt x="1499" y="857"/>
                  </a:lnTo>
                  <a:lnTo>
                    <a:pt x="1314" y="794"/>
                  </a:lnTo>
                  <a:lnTo>
                    <a:pt x="1130" y="733"/>
                  </a:lnTo>
                  <a:lnTo>
                    <a:pt x="946" y="671"/>
                  </a:lnTo>
                  <a:lnTo>
                    <a:pt x="763" y="608"/>
                  </a:lnTo>
                  <a:lnTo>
                    <a:pt x="581" y="547"/>
                  </a:lnTo>
                  <a:lnTo>
                    <a:pt x="399" y="486"/>
                  </a:lnTo>
                  <a:lnTo>
                    <a:pt x="219" y="425"/>
                  </a:lnTo>
                  <a:lnTo>
                    <a:pt x="191" y="373"/>
                  </a:lnTo>
                  <a:lnTo>
                    <a:pt x="164" y="320"/>
                  </a:lnTo>
                  <a:lnTo>
                    <a:pt x="136" y="267"/>
                  </a:lnTo>
                  <a:lnTo>
                    <a:pt x="109" y="213"/>
                  </a:lnTo>
                  <a:lnTo>
                    <a:pt x="82" y="160"/>
                  </a:lnTo>
                  <a:lnTo>
                    <a:pt x="54" y="107"/>
                  </a:lnTo>
                  <a:lnTo>
                    <a:pt x="27" y="54"/>
                  </a:lnTo>
                  <a:lnTo>
                    <a:pt x="0" y="0"/>
                  </a:lnTo>
                  <a:lnTo>
                    <a:pt x="178" y="59"/>
                  </a:lnTo>
                  <a:lnTo>
                    <a:pt x="358" y="118"/>
                  </a:lnTo>
                  <a:lnTo>
                    <a:pt x="539" y="179"/>
                  </a:lnTo>
                  <a:lnTo>
                    <a:pt x="721" y="239"/>
                  </a:lnTo>
                  <a:lnTo>
                    <a:pt x="903" y="299"/>
                  </a:lnTo>
                  <a:lnTo>
                    <a:pt x="1087" y="360"/>
                  </a:lnTo>
                  <a:lnTo>
                    <a:pt x="1270" y="420"/>
                  </a:lnTo>
                  <a:lnTo>
                    <a:pt x="1454" y="481"/>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207200" y="2011680"/>
              <a:ext cx="904320" cy="2278080"/>
            </a:xfrm>
            <a:custGeom>
              <a:avLst/>
              <a:gdLst/>
              <a:ahLst/>
              <a:rect l="l" t="t" r="r" b="b"/>
              <a:pathLst>
                <a:path w="2423" h="8305">
                  <a:moveTo>
                    <a:pt x="963" y="0"/>
                  </a:moveTo>
                  <a:lnTo>
                    <a:pt x="1142" y="35"/>
                  </a:lnTo>
                  <a:lnTo>
                    <a:pt x="1322" y="72"/>
                  </a:lnTo>
                  <a:lnTo>
                    <a:pt x="1504" y="107"/>
                  </a:lnTo>
                  <a:lnTo>
                    <a:pt x="1685" y="143"/>
                  </a:lnTo>
                  <a:lnTo>
                    <a:pt x="1869" y="180"/>
                  </a:lnTo>
                  <a:lnTo>
                    <a:pt x="2053" y="216"/>
                  </a:lnTo>
                  <a:lnTo>
                    <a:pt x="2238" y="253"/>
                  </a:lnTo>
                  <a:lnTo>
                    <a:pt x="2423" y="290"/>
                  </a:lnTo>
                  <a:lnTo>
                    <a:pt x="2392" y="539"/>
                  </a:lnTo>
                  <a:lnTo>
                    <a:pt x="2362" y="788"/>
                  </a:lnTo>
                  <a:lnTo>
                    <a:pt x="2331" y="1038"/>
                  </a:lnTo>
                  <a:lnTo>
                    <a:pt x="2302" y="1287"/>
                  </a:lnTo>
                  <a:lnTo>
                    <a:pt x="2272" y="1537"/>
                  </a:lnTo>
                  <a:lnTo>
                    <a:pt x="2242" y="1785"/>
                  </a:lnTo>
                  <a:lnTo>
                    <a:pt x="2213" y="2034"/>
                  </a:lnTo>
                  <a:lnTo>
                    <a:pt x="2182" y="2284"/>
                  </a:lnTo>
                  <a:lnTo>
                    <a:pt x="2152" y="2532"/>
                  </a:lnTo>
                  <a:lnTo>
                    <a:pt x="2122" y="2782"/>
                  </a:lnTo>
                  <a:lnTo>
                    <a:pt x="2093" y="3032"/>
                  </a:lnTo>
                  <a:lnTo>
                    <a:pt x="2062" y="3282"/>
                  </a:lnTo>
                  <a:lnTo>
                    <a:pt x="2032" y="3531"/>
                  </a:lnTo>
                  <a:lnTo>
                    <a:pt x="2003" y="3781"/>
                  </a:lnTo>
                  <a:lnTo>
                    <a:pt x="1973" y="4030"/>
                  </a:lnTo>
                  <a:lnTo>
                    <a:pt x="1942" y="4280"/>
                  </a:lnTo>
                  <a:lnTo>
                    <a:pt x="1911" y="4531"/>
                  </a:lnTo>
                  <a:lnTo>
                    <a:pt x="1881" y="4781"/>
                  </a:lnTo>
                  <a:lnTo>
                    <a:pt x="1851" y="5032"/>
                  </a:lnTo>
                  <a:lnTo>
                    <a:pt x="1819" y="5284"/>
                  </a:lnTo>
                  <a:lnTo>
                    <a:pt x="1789" y="5533"/>
                  </a:lnTo>
                  <a:lnTo>
                    <a:pt x="1759" y="5785"/>
                  </a:lnTo>
                  <a:lnTo>
                    <a:pt x="1729" y="6036"/>
                  </a:lnTo>
                  <a:lnTo>
                    <a:pt x="1698" y="6287"/>
                  </a:lnTo>
                  <a:lnTo>
                    <a:pt x="1667" y="6538"/>
                  </a:lnTo>
                  <a:lnTo>
                    <a:pt x="1637" y="6790"/>
                  </a:lnTo>
                  <a:lnTo>
                    <a:pt x="1606" y="7041"/>
                  </a:lnTo>
                  <a:lnTo>
                    <a:pt x="1575" y="7294"/>
                  </a:lnTo>
                  <a:lnTo>
                    <a:pt x="1545" y="7546"/>
                  </a:lnTo>
                  <a:lnTo>
                    <a:pt x="1514" y="7800"/>
                  </a:lnTo>
                  <a:lnTo>
                    <a:pt x="1484" y="8052"/>
                  </a:lnTo>
                  <a:lnTo>
                    <a:pt x="1454" y="8305"/>
                  </a:lnTo>
                  <a:lnTo>
                    <a:pt x="1270" y="8244"/>
                  </a:lnTo>
                  <a:lnTo>
                    <a:pt x="1087" y="8184"/>
                  </a:lnTo>
                  <a:lnTo>
                    <a:pt x="903" y="8123"/>
                  </a:lnTo>
                  <a:lnTo>
                    <a:pt x="721" y="8063"/>
                  </a:lnTo>
                  <a:lnTo>
                    <a:pt x="539" y="8003"/>
                  </a:lnTo>
                  <a:lnTo>
                    <a:pt x="358" y="7942"/>
                  </a:lnTo>
                  <a:lnTo>
                    <a:pt x="178" y="7883"/>
                  </a:lnTo>
                  <a:lnTo>
                    <a:pt x="0" y="7824"/>
                  </a:lnTo>
                  <a:lnTo>
                    <a:pt x="30" y="7578"/>
                  </a:lnTo>
                  <a:lnTo>
                    <a:pt x="60" y="7331"/>
                  </a:lnTo>
                  <a:lnTo>
                    <a:pt x="91" y="7084"/>
                  </a:lnTo>
                  <a:lnTo>
                    <a:pt x="121" y="6838"/>
                  </a:lnTo>
                  <a:lnTo>
                    <a:pt x="151" y="6592"/>
                  </a:lnTo>
                  <a:lnTo>
                    <a:pt x="181" y="6346"/>
                  </a:lnTo>
                  <a:lnTo>
                    <a:pt x="212" y="6100"/>
                  </a:lnTo>
                  <a:lnTo>
                    <a:pt x="242" y="5855"/>
                  </a:lnTo>
                  <a:lnTo>
                    <a:pt x="272" y="5610"/>
                  </a:lnTo>
                  <a:lnTo>
                    <a:pt x="302" y="5365"/>
                  </a:lnTo>
                  <a:lnTo>
                    <a:pt x="334" y="5119"/>
                  </a:lnTo>
                  <a:lnTo>
                    <a:pt x="364" y="4874"/>
                  </a:lnTo>
                  <a:lnTo>
                    <a:pt x="394" y="4629"/>
                  </a:lnTo>
                  <a:lnTo>
                    <a:pt x="424" y="4384"/>
                  </a:lnTo>
                  <a:lnTo>
                    <a:pt x="455" y="4140"/>
                  </a:lnTo>
                  <a:lnTo>
                    <a:pt x="484" y="3895"/>
                  </a:lnTo>
                  <a:lnTo>
                    <a:pt x="514" y="3651"/>
                  </a:lnTo>
                  <a:lnTo>
                    <a:pt x="544" y="3406"/>
                  </a:lnTo>
                  <a:lnTo>
                    <a:pt x="574" y="3163"/>
                  </a:lnTo>
                  <a:lnTo>
                    <a:pt x="604" y="2919"/>
                  </a:lnTo>
                  <a:lnTo>
                    <a:pt x="634" y="2675"/>
                  </a:lnTo>
                  <a:lnTo>
                    <a:pt x="663" y="2431"/>
                  </a:lnTo>
                  <a:lnTo>
                    <a:pt x="693" y="2188"/>
                  </a:lnTo>
                  <a:lnTo>
                    <a:pt x="724" y="1944"/>
                  </a:lnTo>
                  <a:lnTo>
                    <a:pt x="754" y="1701"/>
                  </a:lnTo>
                  <a:lnTo>
                    <a:pt x="783" y="1459"/>
                  </a:lnTo>
                  <a:lnTo>
                    <a:pt x="813" y="1216"/>
                  </a:lnTo>
                  <a:lnTo>
                    <a:pt x="843" y="973"/>
                  </a:lnTo>
                  <a:lnTo>
                    <a:pt x="872" y="730"/>
                  </a:lnTo>
                  <a:lnTo>
                    <a:pt x="902" y="487"/>
                  </a:lnTo>
                  <a:lnTo>
                    <a:pt x="932" y="243"/>
                  </a:lnTo>
                  <a:lnTo>
                    <a:pt x="963" y="0"/>
                  </a:lnTo>
                  <a:close/>
                </a:path>
              </a:pathLst>
            </a:custGeom>
            <a:solidFill>
              <a:srgbClr val="aa88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207200" y="2011680"/>
              <a:ext cx="904320" cy="2278080"/>
            </a:xfrm>
            <a:custGeom>
              <a:avLst/>
              <a:gdLst/>
              <a:ahLst/>
              <a:rect l="l" t="t" r="r" b="b"/>
              <a:pathLst>
                <a:path w="2423" h="8305">
                  <a:moveTo>
                    <a:pt x="963" y="0"/>
                  </a:moveTo>
                  <a:lnTo>
                    <a:pt x="1142" y="35"/>
                  </a:lnTo>
                  <a:lnTo>
                    <a:pt x="1322" y="72"/>
                  </a:lnTo>
                  <a:lnTo>
                    <a:pt x="1504" y="107"/>
                  </a:lnTo>
                  <a:lnTo>
                    <a:pt x="1685" y="143"/>
                  </a:lnTo>
                  <a:lnTo>
                    <a:pt x="1869" y="180"/>
                  </a:lnTo>
                  <a:lnTo>
                    <a:pt x="2053" y="216"/>
                  </a:lnTo>
                  <a:lnTo>
                    <a:pt x="2238" y="253"/>
                  </a:lnTo>
                  <a:lnTo>
                    <a:pt x="2423" y="290"/>
                  </a:lnTo>
                  <a:lnTo>
                    <a:pt x="2392" y="539"/>
                  </a:lnTo>
                  <a:lnTo>
                    <a:pt x="2362" y="788"/>
                  </a:lnTo>
                  <a:lnTo>
                    <a:pt x="2331" y="1038"/>
                  </a:lnTo>
                  <a:lnTo>
                    <a:pt x="2302" y="1287"/>
                  </a:lnTo>
                  <a:lnTo>
                    <a:pt x="2272" y="1537"/>
                  </a:lnTo>
                  <a:lnTo>
                    <a:pt x="2242" y="1785"/>
                  </a:lnTo>
                  <a:lnTo>
                    <a:pt x="2213" y="2034"/>
                  </a:lnTo>
                  <a:lnTo>
                    <a:pt x="2182" y="2284"/>
                  </a:lnTo>
                  <a:lnTo>
                    <a:pt x="2152" y="2532"/>
                  </a:lnTo>
                  <a:lnTo>
                    <a:pt x="2122" y="2782"/>
                  </a:lnTo>
                  <a:lnTo>
                    <a:pt x="2093" y="3032"/>
                  </a:lnTo>
                  <a:lnTo>
                    <a:pt x="2062" y="3282"/>
                  </a:lnTo>
                  <a:lnTo>
                    <a:pt x="2032" y="3531"/>
                  </a:lnTo>
                  <a:lnTo>
                    <a:pt x="2003" y="3781"/>
                  </a:lnTo>
                  <a:lnTo>
                    <a:pt x="1973" y="4030"/>
                  </a:lnTo>
                  <a:lnTo>
                    <a:pt x="1942" y="4280"/>
                  </a:lnTo>
                  <a:lnTo>
                    <a:pt x="1911" y="4531"/>
                  </a:lnTo>
                  <a:lnTo>
                    <a:pt x="1881" y="4781"/>
                  </a:lnTo>
                  <a:lnTo>
                    <a:pt x="1851" y="5032"/>
                  </a:lnTo>
                  <a:lnTo>
                    <a:pt x="1819" y="5284"/>
                  </a:lnTo>
                  <a:lnTo>
                    <a:pt x="1789" y="5533"/>
                  </a:lnTo>
                  <a:lnTo>
                    <a:pt x="1759" y="5785"/>
                  </a:lnTo>
                  <a:lnTo>
                    <a:pt x="1729" y="6036"/>
                  </a:lnTo>
                  <a:lnTo>
                    <a:pt x="1698" y="6287"/>
                  </a:lnTo>
                  <a:lnTo>
                    <a:pt x="1667" y="6538"/>
                  </a:lnTo>
                  <a:lnTo>
                    <a:pt x="1637" y="6790"/>
                  </a:lnTo>
                  <a:lnTo>
                    <a:pt x="1606" y="7041"/>
                  </a:lnTo>
                  <a:lnTo>
                    <a:pt x="1575" y="7294"/>
                  </a:lnTo>
                  <a:lnTo>
                    <a:pt x="1545" y="7546"/>
                  </a:lnTo>
                  <a:lnTo>
                    <a:pt x="1514" y="7800"/>
                  </a:lnTo>
                  <a:lnTo>
                    <a:pt x="1484" y="8052"/>
                  </a:lnTo>
                  <a:lnTo>
                    <a:pt x="1454" y="8305"/>
                  </a:lnTo>
                  <a:lnTo>
                    <a:pt x="1270" y="8244"/>
                  </a:lnTo>
                  <a:lnTo>
                    <a:pt x="1087" y="8184"/>
                  </a:lnTo>
                  <a:lnTo>
                    <a:pt x="903" y="8123"/>
                  </a:lnTo>
                  <a:lnTo>
                    <a:pt x="721" y="8063"/>
                  </a:lnTo>
                  <a:lnTo>
                    <a:pt x="539" y="8003"/>
                  </a:lnTo>
                  <a:lnTo>
                    <a:pt x="358" y="7942"/>
                  </a:lnTo>
                  <a:lnTo>
                    <a:pt x="178" y="7883"/>
                  </a:lnTo>
                  <a:lnTo>
                    <a:pt x="0" y="7824"/>
                  </a:lnTo>
                  <a:lnTo>
                    <a:pt x="30" y="7578"/>
                  </a:lnTo>
                  <a:lnTo>
                    <a:pt x="60" y="7331"/>
                  </a:lnTo>
                  <a:lnTo>
                    <a:pt x="91" y="7084"/>
                  </a:lnTo>
                  <a:lnTo>
                    <a:pt x="121" y="6838"/>
                  </a:lnTo>
                  <a:lnTo>
                    <a:pt x="151" y="6592"/>
                  </a:lnTo>
                  <a:lnTo>
                    <a:pt x="181" y="6346"/>
                  </a:lnTo>
                  <a:lnTo>
                    <a:pt x="212" y="6100"/>
                  </a:lnTo>
                  <a:lnTo>
                    <a:pt x="242" y="5855"/>
                  </a:lnTo>
                  <a:lnTo>
                    <a:pt x="272" y="5610"/>
                  </a:lnTo>
                  <a:lnTo>
                    <a:pt x="302" y="5365"/>
                  </a:lnTo>
                  <a:lnTo>
                    <a:pt x="334" y="5119"/>
                  </a:lnTo>
                  <a:lnTo>
                    <a:pt x="364" y="4874"/>
                  </a:lnTo>
                  <a:lnTo>
                    <a:pt x="394" y="4629"/>
                  </a:lnTo>
                  <a:lnTo>
                    <a:pt x="424" y="4384"/>
                  </a:lnTo>
                  <a:lnTo>
                    <a:pt x="455" y="4140"/>
                  </a:lnTo>
                  <a:lnTo>
                    <a:pt x="484" y="3895"/>
                  </a:lnTo>
                  <a:lnTo>
                    <a:pt x="514" y="3651"/>
                  </a:lnTo>
                  <a:lnTo>
                    <a:pt x="544" y="3406"/>
                  </a:lnTo>
                  <a:lnTo>
                    <a:pt x="574" y="3163"/>
                  </a:lnTo>
                  <a:lnTo>
                    <a:pt x="604" y="2919"/>
                  </a:lnTo>
                  <a:lnTo>
                    <a:pt x="634" y="2675"/>
                  </a:lnTo>
                  <a:lnTo>
                    <a:pt x="663" y="2431"/>
                  </a:lnTo>
                  <a:lnTo>
                    <a:pt x="693" y="2188"/>
                  </a:lnTo>
                  <a:lnTo>
                    <a:pt x="724" y="1944"/>
                  </a:lnTo>
                  <a:lnTo>
                    <a:pt x="754" y="1701"/>
                  </a:lnTo>
                  <a:lnTo>
                    <a:pt x="783" y="1459"/>
                  </a:lnTo>
                  <a:lnTo>
                    <a:pt x="813" y="1216"/>
                  </a:lnTo>
                  <a:lnTo>
                    <a:pt x="843" y="973"/>
                  </a:lnTo>
                  <a:lnTo>
                    <a:pt x="872" y="730"/>
                  </a:lnTo>
                  <a:lnTo>
                    <a:pt x="902" y="487"/>
                  </a:lnTo>
                  <a:lnTo>
                    <a:pt x="932" y="243"/>
                  </a:lnTo>
                  <a:lnTo>
                    <a:pt x="963"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rot="16740000">
              <a:off x="3729600" y="2350800"/>
              <a:ext cx="107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IP COM</a:t>
              </a:r>
              <a:endParaRPr b="0" lang="en-US" sz="2400" spc="-1" strike="noStrike">
                <a:solidFill>
                  <a:srgbClr val="000000"/>
                </a:solidFill>
                <a:latin typeface="Times New Roman"/>
              </a:endParaRPr>
            </a:p>
          </p:txBody>
        </p:sp>
        <p:sp>
          <p:nvSpPr>
            <p:cNvPr id="807" name=""/>
            <p:cNvSpPr/>
            <p:nvPr/>
          </p:nvSpPr>
          <p:spPr>
            <a:xfrm rot="16740000">
              <a:off x="4256280" y="2093760"/>
              <a:ext cx="7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 </a:t>
              </a:r>
              <a:endParaRPr b="0" lang="en-US" sz="2400" spc="-1" strike="noStrike">
                <a:solidFill>
                  <a:srgbClr val="000000"/>
                </a:solidFill>
                <a:latin typeface="Times New Roman"/>
              </a:endParaRPr>
            </a:p>
          </p:txBody>
        </p:sp>
        <p:sp>
          <p:nvSpPr>
            <p:cNvPr id="808" name=""/>
            <p:cNvSpPr/>
            <p:nvPr/>
          </p:nvSpPr>
          <p:spPr>
            <a:xfrm rot="16740000">
              <a:off x="4125600" y="2356200"/>
              <a:ext cx="1457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Uvsl.. Msg</a:t>
              </a:r>
              <a:endParaRPr b="0" lang="en-US" sz="2400" spc="-1" strike="noStrike">
                <a:solidFill>
                  <a:srgbClr val="000000"/>
                </a:solidFill>
                <a:latin typeface="Times New Roman"/>
              </a:endParaRPr>
            </a:p>
          </p:txBody>
        </p:sp>
        <p:sp>
          <p:nvSpPr>
            <p:cNvPr id="809" name=""/>
            <p:cNvSpPr/>
            <p:nvPr/>
          </p:nvSpPr>
          <p:spPr>
            <a:xfrm rot="16740000">
              <a:off x="4481640" y="2432880"/>
              <a:ext cx="20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Voice Browser</a:t>
              </a:r>
              <a:endParaRPr b="0" lang="en-US" sz="2400" spc="-1" strike="noStrike">
                <a:solidFill>
                  <a:srgbClr val="000000"/>
                </a:solidFill>
                <a:latin typeface="Times New Roman"/>
              </a:endParaRPr>
            </a:p>
          </p:txBody>
        </p:sp>
        <p:sp>
          <p:nvSpPr>
            <p:cNvPr id="810" name=""/>
            <p:cNvSpPr/>
            <p:nvPr/>
          </p:nvSpPr>
          <p:spPr>
            <a:xfrm rot="16680000">
              <a:off x="5165280" y="2659680"/>
              <a:ext cx="19746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Pre Paid Any</a:t>
              </a:r>
              <a:endParaRPr b="0" lang="en-US" sz="2400" spc="-1" strike="noStrike">
                <a:solidFill>
                  <a:srgbClr val="000000"/>
                </a:solidFill>
                <a:latin typeface="Times New Roman"/>
              </a:endParaRPr>
            </a:p>
          </p:txBody>
        </p:sp>
        <p:sp>
          <p:nvSpPr>
            <p:cNvPr id="811" name=""/>
            <p:cNvSpPr/>
            <p:nvPr/>
          </p:nvSpPr>
          <p:spPr>
            <a:xfrm rot="16680000">
              <a:off x="5780520" y="2854080"/>
              <a:ext cx="2084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Content Mgmt</a:t>
              </a:r>
              <a:endParaRPr b="0" lang="en-US" sz="2400" spc="-1" strike="noStrike">
                <a:solidFill>
                  <a:srgbClr val="000000"/>
                </a:solidFill>
                <a:latin typeface="Times New Roman"/>
              </a:endParaRPr>
            </a:p>
          </p:txBody>
        </p:sp>
        <p:sp>
          <p:nvSpPr>
            <p:cNvPr id="812" name=""/>
            <p:cNvSpPr/>
            <p:nvPr/>
          </p:nvSpPr>
          <p:spPr>
            <a:xfrm rot="16680000">
              <a:off x="7153200" y="3199680"/>
              <a:ext cx="777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WBIC</a:t>
              </a:r>
              <a:endParaRPr b="0" lang="en-US" sz="2400" spc="-1" strike="noStrike">
                <a:solidFill>
                  <a:srgbClr val="000000"/>
                </a:solidFill>
                <a:latin typeface="Times New Roman"/>
              </a:endParaRPr>
            </a:p>
          </p:txBody>
        </p:sp>
        <p:sp>
          <p:nvSpPr>
            <p:cNvPr id="813" name=""/>
            <p:cNvSpPr/>
            <p:nvPr/>
          </p:nvSpPr>
          <p:spPr>
            <a:xfrm rot="991200">
              <a:off x="3933720" y="4323600"/>
              <a:ext cx="331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rvices Platform</a:t>
              </a:r>
              <a:endParaRPr b="0" lang="en-US" sz="2400" spc="-1" strike="noStrike">
                <a:solidFill>
                  <a:srgbClr val="000000"/>
                </a:solidFill>
                <a:latin typeface="Times New Roman"/>
              </a:endParaRPr>
            </a:p>
          </p:txBody>
        </p:sp>
        <p:sp>
          <p:nvSpPr>
            <p:cNvPr id="814" name=""/>
            <p:cNvSpPr/>
            <p:nvPr/>
          </p:nvSpPr>
          <p:spPr>
            <a:xfrm rot="16740000">
              <a:off x="2589840" y="2042640"/>
              <a:ext cx="1186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Security</a:t>
              </a:r>
              <a:endParaRPr b="0" lang="en-US" sz="2400" spc="-1" strike="noStrike">
                <a:solidFill>
                  <a:srgbClr val="000000"/>
                </a:solidFill>
                <a:latin typeface="Times New Roman"/>
              </a:endParaRPr>
            </a:p>
          </p:txBody>
        </p:sp>
        <p:sp>
          <p:nvSpPr>
            <p:cNvPr id="815" name=""/>
            <p:cNvSpPr/>
            <p:nvPr/>
          </p:nvSpPr>
          <p:spPr>
            <a:xfrm rot="16740000">
              <a:off x="3240720" y="2070000"/>
              <a:ext cx="12902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vantGarde Bk BT"/>
                </a:rPr>
                <a:t>Directory</a:t>
              </a:r>
              <a:endParaRPr b="0" lang="en-US" sz="2400" spc="-1" strike="noStrike">
                <a:solidFill>
                  <a:srgbClr val="000000"/>
                </a:solidFill>
                <a:latin typeface="Times New Roman"/>
              </a:endParaRPr>
            </a:p>
          </p:txBody>
        </p:sp>
      </p:grpSp>
      <p:sp>
        <p:nvSpPr>
          <p:cNvPr id="816" name=""/>
          <p:cNvSpPr/>
          <p:nvPr/>
        </p:nvSpPr>
        <p:spPr>
          <a:xfrm>
            <a:off x="228600" y="4876920"/>
            <a:ext cx="4419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services platform enable new product and services to be fast implemented from already existents basic services.</a:t>
            </a:r>
            <a:endParaRPr b="0" lang="en-US" sz="2000" spc="-1" strike="noStrike">
              <a:solidFill>
                <a:srgbClr val="000000"/>
              </a:solidFill>
              <a:latin typeface="Times New Roman"/>
            </a:endParaRPr>
          </a:p>
        </p:txBody>
      </p:sp>
      <p:sp>
        <p:nvSpPr>
          <p:cNvPr id="817" name=""/>
          <p:cNvSpPr/>
          <p:nvPr/>
        </p:nvSpPr>
        <p:spPr>
          <a:xfrm>
            <a:off x="139320" y="76320"/>
            <a:ext cx="328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Plat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155880" y="166680"/>
            <a:ext cx="316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curity Services</a:t>
            </a:r>
            <a:endParaRPr b="0" lang="en-US" sz="2800" spc="-1" strike="noStrike">
              <a:solidFill>
                <a:srgbClr val="000000"/>
              </a:solidFill>
              <a:latin typeface="Times New Roman"/>
            </a:endParaRPr>
          </a:p>
        </p:txBody>
      </p:sp>
      <p:pic>
        <p:nvPicPr>
          <p:cNvPr id="819" name="virus2" descr=""/>
          <p:cNvPicPr/>
          <p:nvPr/>
        </p:nvPicPr>
        <p:blipFill>
          <a:blip r:embed="rId1"/>
          <a:stretch/>
        </p:blipFill>
        <p:spPr>
          <a:xfrm>
            <a:off x="6934320" y="4419720"/>
            <a:ext cx="1419120" cy="930240"/>
          </a:xfrm>
          <a:prstGeom prst="rect">
            <a:avLst/>
          </a:prstGeom>
          <a:ln w="0">
            <a:noFill/>
          </a:ln>
        </p:spPr>
      </p:pic>
      <p:sp>
        <p:nvSpPr>
          <p:cNvPr id="820" name=""/>
          <p:cNvSpPr/>
          <p:nvPr/>
        </p:nvSpPr>
        <p:spPr>
          <a:xfrm>
            <a:off x="1324800" y="1627200"/>
            <a:ext cx="566388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anaged Firewall</a:t>
            </a: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igh availability Firewall</a:t>
            </a: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trusion Detection and Response</a:t>
            </a: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VPN Site-to-Site e User-to-Site</a:t>
            </a: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ntivirus</a:t>
            </a: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eb Site Blocking</a:t>
            </a: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trong Authentication</a:t>
            </a:r>
            <a:endParaRPr b="0" lang="en-US" sz="2400" spc="-1" strike="noStrike">
              <a:solidFill>
                <a:srgbClr val="000000"/>
              </a:solidFill>
              <a:latin typeface="Times New Roman"/>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etwork and Hosting Sc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1447920" y="1600200"/>
            <a:ext cx="670536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idential VoIP</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P trunking</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rporate VoIP</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emote PBX</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Call services</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Internet call waiting</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Virtual second line</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conference calls</a:t>
            </a:r>
            <a:endParaRPr b="0" lang="en-US" sz="2000" spc="-1" strike="noStrike">
              <a:solidFill>
                <a:srgbClr val="000000"/>
              </a:solidFill>
              <a:latin typeface="Times New Roman"/>
            </a:endParaRPr>
          </a:p>
        </p:txBody>
      </p:sp>
      <p:pic>
        <p:nvPicPr>
          <p:cNvPr id="822" name="csr" descr=""/>
          <p:cNvPicPr/>
          <p:nvPr/>
        </p:nvPicPr>
        <p:blipFill>
          <a:blip r:embed="rId1"/>
          <a:stretch/>
        </p:blipFill>
        <p:spPr>
          <a:xfrm>
            <a:off x="6629400" y="4724280"/>
            <a:ext cx="1981080" cy="1909800"/>
          </a:xfrm>
          <a:prstGeom prst="rect">
            <a:avLst/>
          </a:prstGeom>
          <a:ln w="0">
            <a:noFill/>
          </a:ln>
        </p:spPr>
      </p:pic>
      <p:sp>
        <p:nvSpPr>
          <p:cNvPr id="823" name=""/>
          <p:cNvSpPr/>
          <p:nvPr/>
        </p:nvSpPr>
        <p:spPr>
          <a:xfrm>
            <a:off x="237240" y="152280"/>
            <a:ext cx="253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VoIP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02040" y="2800440"/>
            <a:ext cx="2800440" cy="1695240"/>
          </a:xfrm>
          <a:prstGeom prst="rect">
            <a:avLst/>
          </a:prstGeom>
          <a:ln w="0">
            <a:noFill/>
          </a:ln>
        </p:spPr>
      </p:pic>
      <p:sp>
        <p:nvSpPr>
          <p:cNvPr id="825" name=""/>
          <p:cNvSpPr/>
          <p:nvPr/>
        </p:nvSpPr>
        <p:spPr>
          <a:xfrm>
            <a:off x="3809880" y="1523880"/>
            <a:ext cx="12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Sender Leav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A fax 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via fax machine</a:t>
            </a:r>
            <a:endParaRPr b="0" lang="en-US" sz="1200" spc="-1" strike="noStrike">
              <a:solidFill>
                <a:srgbClr val="000000"/>
              </a:solidFill>
              <a:latin typeface="Times New Roman"/>
            </a:endParaRPr>
          </a:p>
        </p:txBody>
      </p:sp>
      <p:grpSp>
        <p:nvGrpSpPr>
          <p:cNvPr id="826" name=""/>
          <p:cNvGrpSpPr/>
          <p:nvPr/>
        </p:nvGrpSpPr>
        <p:grpSpPr>
          <a:xfrm>
            <a:off x="5083200" y="1808280"/>
            <a:ext cx="718920" cy="833400"/>
            <a:chOff x="5083200" y="1808280"/>
            <a:chExt cx="718920" cy="833400"/>
          </a:xfrm>
        </p:grpSpPr>
        <p:sp>
          <p:nvSpPr>
            <p:cNvPr id="827" name=""/>
            <p:cNvSpPr/>
            <p:nvPr/>
          </p:nvSpPr>
          <p:spPr>
            <a:xfrm>
              <a:off x="5083200" y="1808280"/>
              <a:ext cx="714240" cy="83340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5137920" y="1890000"/>
              <a:ext cx="664200" cy="655560"/>
              <a:chOff x="5137920" y="1890000"/>
              <a:chExt cx="664200" cy="655560"/>
            </a:xfrm>
          </p:grpSpPr>
          <p:sp>
            <p:nvSpPr>
              <p:cNvPr id="829" name=""/>
              <p:cNvSpPr/>
              <p:nvPr/>
            </p:nvSpPr>
            <p:spPr>
              <a:xfrm flipV="1" rot="16501200">
                <a:off x="5131800" y="1944000"/>
                <a:ext cx="609840" cy="546480"/>
              </a:xfrm>
              <a:custGeom>
                <a:avLst/>
                <a:gdLst>
                  <a:gd name="textAreaLeft" fmla="*/ 0 w 609840"/>
                  <a:gd name="textAreaRight" fmla="*/ 610200 w 609840"/>
                  <a:gd name="textAreaTop" fmla="*/ 70560 h 546480"/>
                  <a:gd name="textAreaBottom" fmla="*/ 475920 h 546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92640" y="1946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X</a:t>
                </a:r>
                <a:endParaRPr b="0" lang="en-US" sz="1200" spc="-1" strike="noStrike">
                  <a:solidFill>
                    <a:srgbClr val="000000"/>
                  </a:solidFill>
                  <a:latin typeface="Times New Roman"/>
                </a:endParaRPr>
              </a:p>
            </p:txBody>
          </p:sp>
        </p:grpSp>
      </p:grpSp>
      <p:sp>
        <p:nvSpPr>
          <p:cNvPr id="831" name=""/>
          <p:cNvSpPr/>
          <p:nvPr/>
        </p:nvSpPr>
        <p:spPr>
          <a:xfrm>
            <a:off x="4267080" y="2362320"/>
            <a:ext cx="12960" cy="33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208400" y="3138480"/>
            <a:ext cx="53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P </a:t>
            </a:r>
            <a:endParaRPr b="0" lang="en-US" sz="2400" spc="-1" strike="noStrike">
              <a:solidFill>
                <a:srgbClr val="000000"/>
              </a:solidFill>
              <a:latin typeface="Times New Roman"/>
            </a:endParaRPr>
          </a:p>
        </p:txBody>
      </p:sp>
      <p:pic>
        <p:nvPicPr>
          <p:cNvPr id="833" name="cartoon_mailbox" descr=""/>
          <p:cNvPicPr/>
          <p:nvPr/>
        </p:nvPicPr>
        <p:blipFill>
          <a:blip r:embed="rId2"/>
          <a:stretch/>
        </p:blipFill>
        <p:spPr>
          <a:xfrm>
            <a:off x="3605040" y="3648240"/>
            <a:ext cx="1590840" cy="1839600"/>
          </a:xfrm>
          <a:prstGeom prst="rect">
            <a:avLst/>
          </a:prstGeom>
          <a:ln w="0">
            <a:noFill/>
          </a:ln>
        </p:spPr>
      </p:pic>
      <p:sp>
        <p:nvSpPr>
          <p:cNvPr id="834" name=""/>
          <p:cNvSpPr/>
          <p:nvPr/>
        </p:nvSpPr>
        <p:spPr>
          <a:xfrm>
            <a:off x="3835440" y="3794040"/>
            <a:ext cx="612720" cy="851040"/>
          </a:xfrm>
          <a:custGeom>
            <a:avLst/>
            <a:gdLst/>
            <a:ahLst/>
            <a:rect l="l" t="t" r="r" b="b"/>
            <a:pathLst>
              <a:path w="384" h="546">
                <a:moveTo>
                  <a:pt x="160" y="8"/>
                </a:moveTo>
                <a:cubicBezTo>
                  <a:pt x="140" y="13"/>
                  <a:pt x="123" y="22"/>
                  <a:pt x="104" y="28"/>
                </a:cubicBezTo>
                <a:cubicBezTo>
                  <a:pt x="99" y="36"/>
                  <a:pt x="94" y="35"/>
                  <a:pt x="86" y="40"/>
                </a:cubicBezTo>
                <a:cubicBezTo>
                  <a:pt x="84" y="46"/>
                  <a:pt x="72" y="54"/>
                  <a:pt x="72" y="54"/>
                </a:cubicBezTo>
                <a:cubicBezTo>
                  <a:pt x="63" y="67"/>
                  <a:pt x="48" y="82"/>
                  <a:pt x="36" y="94"/>
                </a:cubicBezTo>
                <a:cubicBezTo>
                  <a:pt x="31" y="109"/>
                  <a:pt x="22" y="125"/>
                  <a:pt x="16" y="142"/>
                </a:cubicBezTo>
                <a:cubicBezTo>
                  <a:pt x="14" y="148"/>
                  <a:pt x="12" y="154"/>
                  <a:pt x="10" y="160"/>
                </a:cubicBezTo>
                <a:cubicBezTo>
                  <a:pt x="9" y="164"/>
                  <a:pt x="6" y="172"/>
                  <a:pt x="6" y="172"/>
                </a:cubicBezTo>
                <a:cubicBezTo>
                  <a:pt x="5" y="178"/>
                  <a:pt x="5" y="184"/>
                  <a:pt x="4" y="190"/>
                </a:cubicBezTo>
                <a:cubicBezTo>
                  <a:pt x="3" y="197"/>
                  <a:pt x="0" y="210"/>
                  <a:pt x="0" y="210"/>
                </a:cubicBezTo>
                <a:cubicBezTo>
                  <a:pt x="1" y="266"/>
                  <a:pt x="2" y="298"/>
                  <a:pt x="6" y="348"/>
                </a:cubicBezTo>
                <a:cubicBezTo>
                  <a:pt x="7" y="361"/>
                  <a:pt x="11" y="374"/>
                  <a:pt x="14" y="386"/>
                </a:cubicBezTo>
                <a:cubicBezTo>
                  <a:pt x="15" y="391"/>
                  <a:pt x="18" y="402"/>
                  <a:pt x="18" y="402"/>
                </a:cubicBezTo>
                <a:cubicBezTo>
                  <a:pt x="18" y="410"/>
                  <a:pt x="19" y="466"/>
                  <a:pt x="36" y="476"/>
                </a:cubicBezTo>
                <a:cubicBezTo>
                  <a:pt x="46" y="482"/>
                  <a:pt x="67" y="485"/>
                  <a:pt x="80" y="488"/>
                </a:cubicBezTo>
                <a:cubicBezTo>
                  <a:pt x="93" y="497"/>
                  <a:pt x="108" y="495"/>
                  <a:pt x="124" y="496"/>
                </a:cubicBezTo>
                <a:cubicBezTo>
                  <a:pt x="149" y="506"/>
                  <a:pt x="169" y="512"/>
                  <a:pt x="196" y="516"/>
                </a:cubicBezTo>
                <a:cubicBezTo>
                  <a:pt x="215" y="527"/>
                  <a:pt x="234" y="530"/>
                  <a:pt x="256" y="534"/>
                </a:cubicBezTo>
                <a:cubicBezTo>
                  <a:pt x="273" y="542"/>
                  <a:pt x="290" y="544"/>
                  <a:pt x="308" y="546"/>
                </a:cubicBezTo>
                <a:cubicBezTo>
                  <a:pt x="338" y="543"/>
                  <a:pt x="332" y="541"/>
                  <a:pt x="338" y="516"/>
                </a:cubicBezTo>
                <a:cubicBezTo>
                  <a:pt x="343" y="472"/>
                  <a:pt x="348" y="422"/>
                  <a:pt x="362" y="380"/>
                </a:cubicBezTo>
                <a:cubicBezTo>
                  <a:pt x="363" y="370"/>
                  <a:pt x="363" y="360"/>
                  <a:pt x="364" y="350"/>
                </a:cubicBezTo>
                <a:cubicBezTo>
                  <a:pt x="365" y="344"/>
                  <a:pt x="370" y="332"/>
                  <a:pt x="370" y="332"/>
                </a:cubicBezTo>
                <a:cubicBezTo>
                  <a:pt x="375" y="288"/>
                  <a:pt x="380" y="244"/>
                  <a:pt x="384" y="200"/>
                </a:cubicBezTo>
                <a:cubicBezTo>
                  <a:pt x="382" y="161"/>
                  <a:pt x="379" y="159"/>
                  <a:pt x="372" y="130"/>
                </a:cubicBezTo>
                <a:cubicBezTo>
                  <a:pt x="371" y="121"/>
                  <a:pt x="373" y="111"/>
                  <a:pt x="370" y="102"/>
                </a:cubicBezTo>
                <a:cubicBezTo>
                  <a:pt x="368" y="98"/>
                  <a:pt x="358" y="94"/>
                  <a:pt x="358" y="94"/>
                </a:cubicBezTo>
                <a:cubicBezTo>
                  <a:pt x="354" y="81"/>
                  <a:pt x="348" y="67"/>
                  <a:pt x="334" y="62"/>
                </a:cubicBezTo>
                <a:cubicBezTo>
                  <a:pt x="316" y="44"/>
                  <a:pt x="293" y="28"/>
                  <a:pt x="270" y="14"/>
                </a:cubicBezTo>
                <a:cubicBezTo>
                  <a:pt x="251" y="3"/>
                  <a:pt x="223" y="5"/>
                  <a:pt x="202" y="2"/>
                </a:cubicBezTo>
                <a:cubicBezTo>
                  <a:pt x="188" y="3"/>
                  <a:pt x="177" y="6"/>
                  <a:pt x="164" y="8"/>
                </a:cubicBezTo>
                <a:cubicBezTo>
                  <a:pt x="161" y="0"/>
                  <a:pt x="163" y="0"/>
                  <a:pt x="160" y="8"/>
                </a:cubicBez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35" name=""/>
          <p:cNvGrpSpPr/>
          <p:nvPr/>
        </p:nvGrpSpPr>
        <p:grpSpPr>
          <a:xfrm>
            <a:off x="3182760" y="5580000"/>
            <a:ext cx="718920" cy="833400"/>
            <a:chOff x="3182760" y="5580000"/>
            <a:chExt cx="718920" cy="833400"/>
          </a:xfrm>
        </p:grpSpPr>
        <p:sp>
          <p:nvSpPr>
            <p:cNvPr id="836" name=""/>
            <p:cNvSpPr/>
            <p:nvPr/>
          </p:nvSpPr>
          <p:spPr>
            <a:xfrm>
              <a:off x="3182760" y="5580000"/>
              <a:ext cx="714240" cy="83340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7" name=""/>
            <p:cNvGrpSpPr/>
            <p:nvPr/>
          </p:nvGrpSpPr>
          <p:grpSpPr>
            <a:xfrm>
              <a:off x="3237480" y="5661720"/>
              <a:ext cx="664200" cy="655560"/>
              <a:chOff x="3237480" y="5661720"/>
              <a:chExt cx="664200" cy="655560"/>
            </a:xfrm>
          </p:grpSpPr>
          <p:sp>
            <p:nvSpPr>
              <p:cNvPr id="838" name=""/>
              <p:cNvSpPr/>
              <p:nvPr/>
            </p:nvSpPr>
            <p:spPr>
              <a:xfrm flipV="1" rot="16501200">
                <a:off x="3231360" y="5715720"/>
                <a:ext cx="609840" cy="546480"/>
              </a:xfrm>
              <a:custGeom>
                <a:avLst/>
                <a:gdLst>
                  <a:gd name="textAreaLeft" fmla="*/ 0 w 609840"/>
                  <a:gd name="textAreaRight" fmla="*/ 610200 w 609840"/>
                  <a:gd name="textAreaTop" fmla="*/ 70560 h 546480"/>
                  <a:gd name="textAreaBottom" fmla="*/ 475920 h 546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292200" y="57182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X</a:t>
                </a:r>
                <a:endParaRPr b="0" lang="en-US" sz="1200" spc="-1" strike="noStrike">
                  <a:solidFill>
                    <a:srgbClr val="000000"/>
                  </a:solidFill>
                  <a:latin typeface="Times New Roman"/>
                </a:endParaRPr>
              </a:p>
            </p:txBody>
          </p:sp>
        </p:grpSp>
      </p:grpSp>
      <p:sp>
        <p:nvSpPr>
          <p:cNvPr id="840" name=""/>
          <p:cNvSpPr/>
          <p:nvPr/>
        </p:nvSpPr>
        <p:spPr>
          <a:xfrm>
            <a:off x="3944880" y="5715000"/>
            <a:ext cx="1946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Recipient Redirects</a:t>
            </a:r>
            <a:r>
              <a:rPr b="1" i="1" lang="en-US" sz="1200" spc="-1" strike="noStrike">
                <a:solidFill>
                  <a:srgbClr val="000000"/>
                </a:solidFill>
                <a:latin typeface="Tahoma"/>
              </a:rPr>
              <a:t> Fax</a:t>
            </a:r>
            <a:r>
              <a:rPr b="0" lang="en-US" sz="1200" spc="-1" strike="noStrike">
                <a:solidFill>
                  <a:srgbClr val="000000"/>
                </a:solidFill>
                <a:latin typeface="Tahoma"/>
              </a:rPr>
              <a:t> </a:t>
            </a:r>
            <a:r>
              <a:rPr b="1" i="1" lang="en-US" sz="1200" spc="-1" strike="noStrike">
                <a:solidFill>
                  <a:srgbClr val="000000"/>
                </a:solidFill>
                <a:latin typeface="Tahoma"/>
              </a:rPr>
              <a:t>Messages to any fax machine</a:t>
            </a:r>
            <a:endParaRPr b="0" lang="en-US" sz="1200" spc="-1" strike="noStrike">
              <a:solidFill>
                <a:srgbClr val="000000"/>
              </a:solidFill>
              <a:latin typeface="Times New Roman"/>
            </a:endParaRPr>
          </a:p>
        </p:txBody>
      </p:sp>
      <p:sp>
        <p:nvSpPr>
          <p:cNvPr id="841" name=""/>
          <p:cNvSpPr/>
          <p:nvPr/>
        </p:nvSpPr>
        <p:spPr>
          <a:xfrm>
            <a:off x="1176480" y="5516640"/>
            <a:ext cx="1990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Recipient Reached</a:t>
            </a:r>
            <a:r>
              <a:rPr b="0" lang="en-US" sz="1200" spc="-1" strike="noStrike">
                <a:solidFill>
                  <a:srgbClr val="000000"/>
                </a:solidFill>
                <a:latin typeface="Tahoma"/>
              </a:rPr>
              <a:t> </a:t>
            </a:r>
            <a:r>
              <a:rPr b="1" i="1" lang="en-US" sz="1200" spc="-1" strike="noStrike">
                <a:solidFill>
                  <a:srgbClr val="000000"/>
                </a:solidFill>
                <a:latin typeface="Tahoma"/>
              </a:rPr>
              <a:t>at multiple locations via a Single Number Reach</a:t>
            </a:r>
            <a:endParaRPr b="0" lang="en-US" sz="1200" spc="-1" strike="noStrike">
              <a:solidFill>
                <a:srgbClr val="000000"/>
              </a:solidFill>
              <a:latin typeface="Times New Roman"/>
            </a:endParaRPr>
          </a:p>
        </p:txBody>
      </p:sp>
      <p:sp>
        <p:nvSpPr>
          <p:cNvPr id="842" name=""/>
          <p:cNvSpPr/>
          <p:nvPr/>
        </p:nvSpPr>
        <p:spPr>
          <a:xfrm>
            <a:off x="1951200" y="1509840"/>
            <a:ext cx="169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Sender Leav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Voice mail via wireline or wireless phone</a:t>
            </a:r>
            <a:endParaRPr b="0" lang="en-US" sz="1200" spc="-1" strike="noStrike">
              <a:solidFill>
                <a:srgbClr val="000000"/>
              </a:solidFill>
              <a:latin typeface="Times New Roman"/>
            </a:endParaRPr>
          </a:p>
        </p:txBody>
      </p:sp>
      <p:grpSp>
        <p:nvGrpSpPr>
          <p:cNvPr id="843" name=""/>
          <p:cNvGrpSpPr/>
          <p:nvPr/>
        </p:nvGrpSpPr>
        <p:grpSpPr>
          <a:xfrm>
            <a:off x="973080" y="1447920"/>
            <a:ext cx="765000" cy="569880"/>
            <a:chOff x="973080" y="1447920"/>
            <a:chExt cx="765000" cy="569880"/>
          </a:xfrm>
        </p:grpSpPr>
        <p:sp>
          <p:nvSpPr>
            <p:cNvPr id="844" name=""/>
            <p:cNvSpPr/>
            <p:nvPr/>
          </p:nvSpPr>
          <p:spPr>
            <a:xfrm>
              <a:off x="973080" y="1447920"/>
              <a:ext cx="765000" cy="56196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mouth" descr=""/>
            <p:cNvPicPr/>
            <p:nvPr/>
          </p:nvPicPr>
          <p:blipFill>
            <a:blip r:embed="rId3"/>
            <a:stretch/>
          </p:blipFill>
          <p:spPr>
            <a:xfrm>
              <a:off x="1063440" y="1484640"/>
              <a:ext cx="609840" cy="533160"/>
            </a:xfrm>
            <a:prstGeom prst="rect">
              <a:avLst/>
            </a:prstGeom>
            <a:ln w="0">
              <a:noFill/>
            </a:ln>
          </p:spPr>
        </p:pic>
      </p:grpSp>
      <p:sp>
        <p:nvSpPr>
          <p:cNvPr id="846" name=""/>
          <p:cNvSpPr/>
          <p:nvPr/>
        </p:nvSpPr>
        <p:spPr>
          <a:xfrm>
            <a:off x="6172200" y="2079720"/>
            <a:ext cx="1312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Sender Leav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mail via PC</a:t>
            </a:r>
            <a:endParaRPr b="0" lang="en-US" sz="1200" spc="-1" strike="noStrike">
              <a:solidFill>
                <a:srgbClr val="000000"/>
              </a:solidFill>
              <a:latin typeface="Times New Roman"/>
            </a:endParaRPr>
          </a:p>
        </p:txBody>
      </p:sp>
      <p:grpSp>
        <p:nvGrpSpPr>
          <p:cNvPr id="847" name=""/>
          <p:cNvGrpSpPr/>
          <p:nvPr/>
        </p:nvGrpSpPr>
        <p:grpSpPr>
          <a:xfrm>
            <a:off x="7513560" y="1676520"/>
            <a:ext cx="786960" cy="731880"/>
            <a:chOff x="7513560" y="1676520"/>
            <a:chExt cx="786960" cy="731880"/>
          </a:xfrm>
        </p:grpSpPr>
        <p:sp>
          <p:nvSpPr>
            <p:cNvPr id="848" name=""/>
            <p:cNvSpPr/>
            <p:nvPr/>
          </p:nvSpPr>
          <p:spPr>
            <a:xfrm>
              <a:off x="7513560" y="1676520"/>
              <a:ext cx="786960" cy="73188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email" descr=""/>
            <p:cNvPicPr/>
            <p:nvPr/>
          </p:nvPicPr>
          <p:blipFill>
            <a:blip r:embed="rId4"/>
            <a:stretch/>
          </p:blipFill>
          <p:spPr>
            <a:xfrm>
              <a:off x="7605720" y="1757520"/>
              <a:ext cx="655560" cy="590760"/>
            </a:xfrm>
            <a:prstGeom prst="rect">
              <a:avLst/>
            </a:prstGeom>
            <a:ln w="0">
              <a:noFill/>
            </a:ln>
          </p:spPr>
        </p:pic>
      </p:grpSp>
      <p:grpSp>
        <p:nvGrpSpPr>
          <p:cNvPr id="850" name=""/>
          <p:cNvGrpSpPr/>
          <p:nvPr/>
        </p:nvGrpSpPr>
        <p:grpSpPr>
          <a:xfrm>
            <a:off x="2084400" y="2652840"/>
            <a:ext cx="1066680" cy="659880"/>
            <a:chOff x="2084400" y="2652840"/>
            <a:chExt cx="1066680" cy="659880"/>
          </a:xfrm>
        </p:grpSpPr>
        <p:sp>
          <p:nvSpPr>
            <p:cNvPr id="851" name=""/>
            <p:cNvSpPr/>
            <p:nvPr/>
          </p:nvSpPr>
          <p:spPr>
            <a:xfrm>
              <a:off x="2089440" y="2652840"/>
              <a:ext cx="0" cy="34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084400" y="2992680"/>
              <a:ext cx="1066680" cy="32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3" name=""/>
          <p:cNvGrpSpPr/>
          <p:nvPr/>
        </p:nvGrpSpPr>
        <p:grpSpPr>
          <a:xfrm>
            <a:off x="5714640" y="2590920"/>
            <a:ext cx="1066680" cy="761760"/>
            <a:chOff x="5714640" y="2590920"/>
            <a:chExt cx="1066680" cy="761760"/>
          </a:xfrm>
        </p:grpSpPr>
        <p:sp>
          <p:nvSpPr>
            <p:cNvPr id="854" name=""/>
            <p:cNvSpPr/>
            <p:nvPr/>
          </p:nvSpPr>
          <p:spPr>
            <a:xfrm>
              <a:off x="6776280" y="2590920"/>
              <a:ext cx="0" cy="399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5714640" y="2983320"/>
              <a:ext cx="1066680" cy="36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390600" y="2757600"/>
            <a:ext cx="718920" cy="833400"/>
            <a:chOff x="390600" y="2757600"/>
            <a:chExt cx="718920" cy="833400"/>
          </a:xfrm>
        </p:grpSpPr>
        <p:sp>
          <p:nvSpPr>
            <p:cNvPr id="857" name=""/>
            <p:cNvSpPr/>
            <p:nvPr/>
          </p:nvSpPr>
          <p:spPr>
            <a:xfrm>
              <a:off x="390600" y="2757600"/>
              <a:ext cx="714240" cy="83340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8" name=""/>
            <p:cNvGrpSpPr/>
            <p:nvPr/>
          </p:nvGrpSpPr>
          <p:grpSpPr>
            <a:xfrm>
              <a:off x="445320" y="2839320"/>
              <a:ext cx="664200" cy="655560"/>
              <a:chOff x="445320" y="2839320"/>
              <a:chExt cx="664200" cy="655560"/>
            </a:xfrm>
          </p:grpSpPr>
          <p:sp>
            <p:nvSpPr>
              <p:cNvPr id="859" name=""/>
              <p:cNvSpPr/>
              <p:nvPr/>
            </p:nvSpPr>
            <p:spPr>
              <a:xfrm flipV="1" rot="16501200">
                <a:off x="439200" y="2893320"/>
                <a:ext cx="609840" cy="546480"/>
              </a:xfrm>
              <a:custGeom>
                <a:avLst/>
                <a:gdLst>
                  <a:gd name="textAreaLeft" fmla="*/ 0 w 609840"/>
                  <a:gd name="textAreaRight" fmla="*/ 610200 w 609840"/>
                  <a:gd name="textAreaTop" fmla="*/ 70560 h 546480"/>
                  <a:gd name="textAreaBottom" fmla="*/ 475920 h 546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0040" y="28958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X</a:t>
                </a:r>
                <a:endParaRPr b="0" lang="en-US" sz="1200" spc="-1" strike="noStrike">
                  <a:solidFill>
                    <a:srgbClr val="000000"/>
                  </a:solidFill>
                  <a:latin typeface="Times New Roman"/>
                </a:endParaRPr>
              </a:p>
            </p:txBody>
          </p:sp>
        </p:grpSp>
      </p:grpSp>
      <p:grpSp>
        <p:nvGrpSpPr>
          <p:cNvPr id="861" name=""/>
          <p:cNvGrpSpPr/>
          <p:nvPr/>
        </p:nvGrpSpPr>
        <p:grpSpPr>
          <a:xfrm>
            <a:off x="615960" y="3209760"/>
            <a:ext cx="731880" cy="731880"/>
            <a:chOff x="615960" y="3209760"/>
            <a:chExt cx="731880" cy="731880"/>
          </a:xfrm>
        </p:grpSpPr>
        <p:sp>
          <p:nvSpPr>
            <p:cNvPr id="862" name=""/>
            <p:cNvSpPr/>
            <p:nvPr/>
          </p:nvSpPr>
          <p:spPr>
            <a:xfrm>
              <a:off x="615960" y="3209760"/>
              <a:ext cx="731880" cy="73188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email" descr=""/>
            <p:cNvPicPr/>
            <p:nvPr/>
          </p:nvPicPr>
          <p:blipFill>
            <a:blip r:embed="rId5"/>
            <a:stretch/>
          </p:blipFill>
          <p:spPr>
            <a:xfrm>
              <a:off x="701640" y="3290760"/>
              <a:ext cx="609480" cy="590760"/>
            </a:xfrm>
            <a:prstGeom prst="rect">
              <a:avLst/>
            </a:prstGeom>
            <a:ln w="0">
              <a:noFill/>
            </a:ln>
          </p:spPr>
        </p:pic>
      </p:grpSp>
      <p:sp>
        <p:nvSpPr>
          <p:cNvPr id="864" name=""/>
          <p:cNvSpPr/>
          <p:nvPr/>
        </p:nvSpPr>
        <p:spPr>
          <a:xfrm>
            <a:off x="228600" y="4052880"/>
            <a:ext cx="218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ahoma"/>
              </a:rPr>
              <a:t>Recipient Listens</a:t>
            </a:r>
            <a:r>
              <a:rPr b="0" lang="en-US" sz="1000" spc="-1" strike="noStrike">
                <a:solidFill>
                  <a:srgbClr val="000000"/>
                </a:solidFill>
                <a:latin typeface="Tahoma"/>
              </a:rPr>
              <a:t> </a:t>
            </a:r>
            <a:r>
              <a:rPr b="1" i="1" lang="en-US" sz="1000" spc="-1" strike="noStrike">
                <a:solidFill>
                  <a:srgbClr val="000000"/>
                </a:solidFill>
                <a:latin typeface="Tahoma"/>
              </a:rPr>
              <a:t>to voice mail, e-mail and fax message headers via wireline or wireless phone</a:t>
            </a:r>
            <a:endParaRPr b="0" lang="en-US" sz="1000" spc="-1" strike="noStrike">
              <a:solidFill>
                <a:srgbClr val="000000"/>
              </a:solidFill>
              <a:latin typeface="Times New Roman"/>
            </a:endParaRPr>
          </a:p>
        </p:txBody>
      </p:sp>
      <p:grpSp>
        <p:nvGrpSpPr>
          <p:cNvPr id="865" name=""/>
          <p:cNvGrpSpPr/>
          <p:nvPr/>
        </p:nvGrpSpPr>
        <p:grpSpPr>
          <a:xfrm>
            <a:off x="870120" y="2874960"/>
            <a:ext cx="765000" cy="569880"/>
            <a:chOff x="870120" y="2874960"/>
            <a:chExt cx="765000" cy="569880"/>
          </a:xfrm>
        </p:grpSpPr>
        <p:sp>
          <p:nvSpPr>
            <p:cNvPr id="866" name=""/>
            <p:cNvSpPr/>
            <p:nvPr/>
          </p:nvSpPr>
          <p:spPr>
            <a:xfrm>
              <a:off x="870120" y="2874960"/>
              <a:ext cx="765000" cy="56196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7" name="mouth" descr=""/>
            <p:cNvPicPr/>
            <p:nvPr/>
          </p:nvPicPr>
          <p:blipFill>
            <a:blip r:embed="rId6"/>
            <a:stretch/>
          </p:blipFill>
          <p:spPr>
            <a:xfrm>
              <a:off x="960480" y="2911680"/>
              <a:ext cx="609840" cy="533160"/>
            </a:xfrm>
            <a:prstGeom prst="rect">
              <a:avLst/>
            </a:prstGeom>
            <a:ln w="0">
              <a:noFill/>
            </a:ln>
          </p:spPr>
        </p:pic>
      </p:grpSp>
      <p:sp>
        <p:nvSpPr>
          <p:cNvPr id="868" name=""/>
          <p:cNvSpPr/>
          <p:nvPr/>
        </p:nvSpPr>
        <p:spPr>
          <a:xfrm>
            <a:off x="6781680" y="4516560"/>
            <a:ext cx="207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Recipient Views</a:t>
            </a:r>
            <a:r>
              <a:rPr b="0" lang="en-US" sz="1200" spc="-1" strike="noStrike">
                <a:solidFill>
                  <a:srgbClr val="000000"/>
                </a:solidFill>
                <a:latin typeface="Tahoma"/>
              </a:rPr>
              <a:t> </a:t>
            </a:r>
            <a:r>
              <a:rPr b="1" i="1" lang="en-US" sz="1200" spc="-1" strike="noStrike">
                <a:solidFill>
                  <a:srgbClr val="000000"/>
                </a:solidFill>
                <a:latin typeface="Tahoma"/>
              </a:rPr>
              <a:t>E-mail and faxes, and listens to voice messages on the PC</a:t>
            </a:r>
            <a:endParaRPr b="0" lang="en-US" sz="1200" spc="-1" strike="noStrike">
              <a:solidFill>
                <a:srgbClr val="000000"/>
              </a:solidFill>
              <a:latin typeface="Times New Roman"/>
            </a:endParaRPr>
          </a:p>
        </p:txBody>
      </p:sp>
      <p:grpSp>
        <p:nvGrpSpPr>
          <p:cNvPr id="869" name=""/>
          <p:cNvGrpSpPr/>
          <p:nvPr/>
        </p:nvGrpSpPr>
        <p:grpSpPr>
          <a:xfrm>
            <a:off x="7356600" y="3276720"/>
            <a:ext cx="718920" cy="833400"/>
            <a:chOff x="7356600" y="3276720"/>
            <a:chExt cx="718920" cy="833400"/>
          </a:xfrm>
        </p:grpSpPr>
        <p:sp>
          <p:nvSpPr>
            <p:cNvPr id="870" name=""/>
            <p:cNvSpPr/>
            <p:nvPr/>
          </p:nvSpPr>
          <p:spPr>
            <a:xfrm>
              <a:off x="7356600" y="3276720"/>
              <a:ext cx="714240" cy="83340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7411320" y="3358440"/>
              <a:ext cx="664200" cy="655560"/>
              <a:chOff x="7411320" y="3358440"/>
              <a:chExt cx="664200" cy="655560"/>
            </a:xfrm>
          </p:grpSpPr>
          <p:sp>
            <p:nvSpPr>
              <p:cNvPr id="872" name=""/>
              <p:cNvSpPr/>
              <p:nvPr/>
            </p:nvSpPr>
            <p:spPr>
              <a:xfrm flipV="1" rot="16501200">
                <a:off x="7405200" y="3412440"/>
                <a:ext cx="609840" cy="546480"/>
              </a:xfrm>
              <a:custGeom>
                <a:avLst/>
                <a:gdLst>
                  <a:gd name="textAreaLeft" fmla="*/ 0 w 609840"/>
                  <a:gd name="textAreaRight" fmla="*/ 610200 w 609840"/>
                  <a:gd name="textAreaTop" fmla="*/ 70560 h 546480"/>
                  <a:gd name="textAreaBottom" fmla="*/ 475920 h 546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466040" y="34149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X</a:t>
                </a:r>
                <a:endParaRPr b="0" lang="en-US" sz="1200" spc="-1" strike="noStrike">
                  <a:solidFill>
                    <a:srgbClr val="000000"/>
                  </a:solidFill>
                  <a:latin typeface="Times New Roman"/>
                </a:endParaRPr>
              </a:p>
            </p:txBody>
          </p:sp>
        </p:grpSp>
      </p:grpSp>
      <p:grpSp>
        <p:nvGrpSpPr>
          <p:cNvPr id="874" name=""/>
          <p:cNvGrpSpPr/>
          <p:nvPr/>
        </p:nvGrpSpPr>
        <p:grpSpPr>
          <a:xfrm>
            <a:off x="7581960" y="3728880"/>
            <a:ext cx="731880" cy="731880"/>
            <a:chOff x="7581960" y="3728880"/>
            <a:chExt cx="731880" cy="731880"/>
          </a:xfrm>
        </p:grpSpPr>
        <p:sp>
          <p:nvSpPr>
            <p:cNvPr id="875" name=""/>
            <p:cNvSpPr/>
            <p:nvPr/>
          </p:nvSpPr>
          <p:spPr>
            <a:xfrm>
              <a:off x="7581960" y="3728880"/>
              <a:ext cx="731880" cy="73188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6" name="email" descr=""/>
            <p:cNvPicPr/>
            <p:nvPr/>
          </p:nvPicPr>
          <p:blipFill>
            <a:blip r:embed="rId7"/>
            <a:stretch/>
          </p:blipFill>
          <p:spPr>
            <a:xfrm>
              <a:off x="7667640" y="3809880"/>
              <a:ext cx="609480" cy="590760"/>
            </a:xfrm>
            <a:prstGeom prst="rect">
              <a:avLst/>
            </a:prstGeom>
            <a:ln w="0">
              <a:noFill/>
            </a:ln>
          </p:spPr>
        </p:pic>
      </p:grpSp>
      <p:grpSp>
        <p:nvGrpSpPr>
          <p:cNvPr id="877" name=""/>
          <p:cNvGrpSpPr/>
          <p:nvPr/>
        </p:nvGrpSpPr>
        <p:grpSpPr>
          <a:xfrm>
            <a:off x="7835760" y="3394080"/>
            <a:ext cx="765000" cy="569880"/>
            <a:chOff x="7835760" y="3394080"/>
            <a:chExt cx="765000" cy="569880"/>
          </a:xfrm>
        </p:grpSpPr>
        <p:sp>
          <p:nvSpPr>
            <p:cNvPr id="878" name=""/>
            <p:cNvSpPr/>
            <p:nvPr/>
          </p:nvSpPr>
          <p:spPr>
            <a:xfrm>
              <a:off x="7835760" y="3394080"/>
              <a:ext cx="765000" cy="561960"/>
            </a:xfrm>
            <a:prstGeom prst="rect">
              <a:avLst/>
            </a:prstGeom>
            <a:gradFill rotWithShape="0">
              <a:gsLst>
                <a:gs pos="0">
                  <a:srgbClr val="ffffff"/>
                </a:gs>
                <a:gs pos="100000">
                  <a:srgbClr val="c1c1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9" name="mouth" descr=""/>
            <p:cNvPicPr/>
            <p:nvPr/>
          </p:nvPicPr>
          <p:blipFill>
            <a:blip r:embed="rId8"/>
            <a:stretch/>
          </p:blipFill>
          <p:spPr>
            <a:xfrm>
              <a:off x="7926120" y="3430800"/>
              <a:ext cx="609840" cy="533160"/>
            </a:xfrm>
            <a:prstGeom prst="rect">
              <a:avLst/>
            </a:prstGeom>
            <a:ln w="0">
              <a:noFill/>
            </a:ln>
          </p:spPr>
        </p:pic>
      </p:grpSp>
      <p:sp>
        <p:nvSpPr>
          <p:cNvPr id="880" name=""/>
          <p:cNvSpPr/>
          <p:nvPr/>
        </p:nvSpPr>
        <p:spPr>
          <a:xfrm>
            <a:off x="7018200" y="5489640"/>
            <a:ext cx="203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ahoma"/>
              </a:rPr>
              <a:t>Recipient Receives</a:t>
            </a:r>
            <a:r>
              <a:rPr b="0" lang="en-US" sz="1000" spc="-1" strike="noStrike">
                <a:solidFill>
                  <a:srgbClr val="000000"/>
                </a:solidFill>
                <a:latin typeface="Tahoma"/>
              </a:rPr>
              <a:t> </a:t>
            </a:r>
            <a:r>
              <a:rPr b="1" i="1" lang="en-US" sz="1000" spc="-1" strike="noStrike">
                <a:solidFill>
                  <a:srgbClr val="000000"/>
                </a:solidFill>
                <a:latin typeface="Tahoma"/>
              </a:rPr>
              <a:t>Notification of new messages via MWI, stutter dial tone, SMS,   e-mail client and pager</a:t>
            </a:r>
            <a:endParaRPr b="0" lang="en-US" sz="1000" spc="-1" strike="noStrike">
              <a:solidFill>
                <a:srgbClr val="000000"/>
              </a:solidFill>
              <a:latin typeface="Times New Roman"/>
            </a:endParaRPr>
          </a:p>
        </p:txBody>
      </p:sp>
      <p:sp>
        <p:nvSpPr>
          <p:cNvPr id="881" name=""/>
          <p:cNvSpPr/>
          <p:nvPr/>
        </p:nvSpPr>
        <p:spPr>
          <a:xfrm flipH="1">
            <a:off x="2666520" y="4227480"/>
            <a:ext cx="1419480" cy="238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1800" y="4383000"/>
            <a:ext cx="922320" cy="64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167000" y="4475160"/>
            <a:ext cx="759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224240" y="4237200"/>
            <a:ext cx="1633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049640" y="4282920"/>
            <a:ext cx="269568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9"/>
          <a:stretch/>
        </p:blipFill>
        <p:spPr>
          <a:xfrm>
            <a:off x="7155000" y="1447920"/>
            <a:ext cx="569880" cy="515880"/>
          </a:xfrm>
          <a:prstGeom prst="rect">
            <a:avLst/>
          </a:prstGeom>
          <a:ln w="0">
            <a:noFill/>
          </a:ln>
        </p:spPr>
      </p:pic>
      <p:pic>
        <p:nvPicPr>
          <p:cNvPr id="887" name="" descr=""/>
          <p:cNvPicPr/>
          <p:nvPr/>
        </p:nvPicPr>
        <p:blipFill>
          <a:blip r:embed="rId10"/>
          <a:stretch/>
        </p:blipFill>
        <p:spPr>
          <a:xfrm>
            <a:off x="793800" y="1773360"/>
            <a:ext cx="420480" cy="533160"/>
          </a:xfrm>
          <a:prstGeom prst="rect">
            <a:avLst/>
          </a:prstGeom>
          <a:ln w="0">
            <a:noFill/>
          </a:ln>
        </p:spPr>
      </p:pic>
      <p:pic>
        <p:nvPicPr>
          <p:cNvPr id="888" name="" descr=""/>
          <p:cNvPicPr/>
          <p:nvPr/>
        </p:nvPicPr>
        <p:blipFill>
          <a:blip r:embed="rId11"/>
          <a:stretch/>
        </p:blipFill>
        <p:spPr>
          <a:xfrm>
            <a:off x="4616280" y="2259000"/>
            <a:ext cx="914400" cy="450720"/>
          </a:xfrm>
          <a:prstGeom prst="rect">
            <a:avLst/>
          </a:prstGeom>
          <a:ln w="0">
            <a:noFill/>
          </a:ln>
        </p:spPr>
      </p:pic>
      <p:pic>
        <p:nvPicPr>
          <p:cNvPr id="889" name="" descr=""/>
          <p:cNvPicPr/>
          <p:nvPr/>
        </p:nvPicPr>
        <p:blipFill>
          <a:blip r:embed="rId12"/>
          <a:stretch/>
        </p:blipFill>
        <p:spPr>
          <a:xfrm>
            <a:off x="1457280" y="1886040"/>
            <a:ext cx="533520" cy="411120"/>
          </a:xfrm>
          <a:prstGeom prst="rect">
            <a:avLst/>
          </a:prstGeom>
          <a:ln w="0">
            <a:noFill/>
          </a:ln>
        </p:spPr>
      </p:pic>
      <p:pic>
        <p:nvPicPr>
          <p:cNvPr id="890" name="" descr=""/>
          <p:cNvPicPr/>
          <p:nvPr/>
        </p:nvPicPr>
        <p:blipFill>
          <a:blip r:embed="rId13"/>
          <a:stretch/>
        </p:blipFill>
        <p:spPr>
          <a:xfrm>
            <a:off x="7077240" y="3946680"/>
            <a:ext cx="569880" cy="515880"/>
          </a:xfrm>
          <a:prstGeom prst="rect">
            <a:avLst/>
          </a:prstGeom>
          <a:ln w="0">
            <a:noFill/>
          </a:ln>
        </p:spPr>
      </p:pic>
      <p:pic>
        <p:nvPicPr>
          <p:cNvPr id="891" name="" descr=""/>
          <p:cNvPicPr/>
          <p:nvPr/>
        </p:nvPicPr>
        <p:blipFill>
          <a:blip r:embed="rId14"/>
          <a:stretch/>
        </p:blipFill>
        <p:spPr>
          <a:xfrm>
            <a:off x="1141560" y="2400480"/>
            <a:ext cx="420480" cy="533160"/>
          </a:xfrm>
          <a:prstGeom prst="rect">
            <a:avLst/>
          </a:prstGeom>
          <a:ln w="0">
            <a:noFill/>
          </a:ln>
        </p:spPr>
      </p:pic>
      <p:pic>
        <p:nvPicPr>
          <p:cNvPr id="892" name="" descr=""/>
          <p:cNvPicPr/>
          <p:nvPr/>
        </p:nvPicPr>
        <p:blipFill>
          <a:blip r:embed="rId15"/>
          <a:stretch/>
        </p:blipFill>
        <p:spPr>
          <a:xfrm>
            <a:off x="285840" y="3643200"/>
            <a:ext cx="533160" cy="411120"/>
          </a:xfrm>
          <a:prstGeom prst="rect">
            <a:avLst/>
          </a:prstGeom>
          <a:ln w="0">
            <a:noFill/>
          </a:ln>
        </p:spPr>
      </p:pic>
      <p:pic>
        <p:nvPicPr>
          <p:cNvPr id="893" name="" descr=""/>
          <p:cNvPicPr/>
          <p:nvPr/>
        </p:nvPicPr>
        <p:blipFill>
          <a:blip r:embed="rId16"/>
          <a:stretch/>
        </p:blipFill>
        <p:spPr>
          <a:xfrm>
            <a:off x="2739960" y="6060960"/>
            <a:ext cx="914400" cy="451080"/>
          </a:xfrm>
          <a:prstGeom prst="rect">
            <a:avLst/>
          </a:prstGeom>
          <a:ln w="0">
            <a:noFill/>
          </a:ln>
        </p:spPr>
      </p:pic>
      <p:pic>
        <p:nvPicPr>
          <p:cNvPr id="894" name="" descr=""/>
          <p:cNvPicPr/>
          <p:nvPr/>
        </p:nvPicPr>
        <p:blipFill>
          <a:blip r:embed="rId17"/>
          <a:stretch/>
        </p:blipFill>
        <p:spPr>
          <a:xfrm>
            <a:off x="6556320" y="5979960"/>
            <a:ext cx="457200" cy="454320"/>
          </a:xfrm>
          <a:prstGeom prst="rect">
            <a:avLst/>
          </a:prstGeom>
          <a:ln w="0">
            <a:noFill/>
          </a:ln>
        </p:spPr>
      </p:pic>
      <p:pic>
        <p:nvPicPr>
          <p:cNvPr id="895" name="" descr=""/>
          <p:cNvPicPr/>
          <p:nvPr/>
        </p:nvPicPr>
        <p:blipFill>
          <a:blip r:embed="rId18"/>
          <a:stretch/>
        </p:blipFill>
        <p:spPr>
          <a:xfrm>
            <a:off x="6483240" y="5407200"/>
            <a:ext cx="457200" cy="455400"/>
          </a:xfrm>
          <a:prstGeom prst="rect">
            <a:avLst/>
          </a:prstGeom>
          <a:ln w="0">
            <a:noFill/>
          </a:ln>
        </p:spPr>
      </p:pic>
      <p:pic>
        <p:nvPicPr>
          <p:cNvPr id="896" name="" descr=""/>
          <p:cNvPicPr/>
          <p:nvPr/>
        </p:nvPicPr>
        <p:blipFill>
          <a:blip r:embed="rId19"/>
          <a:stretch/>
        </p:blipFill>
        <p:spPr>
          <a:xfrm>
            <a:off x="5959440" y="5878440"/>
            <a:ext cx="533520" cy="411120"/>
          </a:xfrm>
          <a:prstGeom prst="rect">
            <a:avLst/>
          </a:prstGeom>
          <a:ln w="0">
            <a:noFill/>
          </a:ln>
        </p:spPr>
      </p:pic>
      <p:sp>
        <p:nvSpPr>
          <p:cNvPr id="897" name=""/>
          <p:cNvSpPr/>
          <p:nvPr/>
        </p:nvSpPr>
        <p:spPr>
          <a:xfrm>
            <a:off x="1671480" y="4944960"/>
            <a:ext cx="1219320" cy="381240"/>
          </a:xfrm>
          <a:prstGeom prst="rect">
            <a:avLst/>
          </a:prstGeom>
          <a:no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121-3464300</a:t>
            </a:r>
            <a:endParaRPr b="0" lang="en-US" sz="1200" spc="-1" strike="noStrike">
              <a:solidFill>
                <a:srgbClr val="000000"/>
              </a:solidFill>
              <a:latin typeface="Times New Roman"/>
            </a:endParaRPr>
          </a:p>
        </p:txBody>
      </p:sp>
      <p:grpSp>
        <p:nvGrpSpPr>
          <p:cNvPr id="898" name=""/>
          <p:cNvGrpSpPr/>
          <p:nvPr/>
        </p:nvGrpSpPr>
        <p:grpSpPr>
          <a:xfrm>
            <a:off x="142920" y="4917960"/>
            <a:ext cx="838080" cy="363600"/>
            <a:chOff x="142920" y="4917960"/>
            <a:chExt cx="838080" cy="363600"/>
          </a:xfrm>
        </p:grpSpPr>
        <p:sp>
          <p:nvSpPr>
            <p:cNvPr id="899" name=""/>
            <p:cNvSpPr/>
            <p:nvPr/>
          </p:nvSpPr>
          <p:spPr>
            <a:xfrm>
              <a:off x="208080" y="4965840"/>
              <a:ext cx="66492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bile</a:t>
              </a:r>
              <a:endParaRPr b="0" lang="en-US" sz="1200" spc="-1" strike="noStrike">
                <a:solidFill>
                  <a:srgbClr val="000000"/>
                </a:solidFill>
                <a:latin typeface="Times New Roman"/>
              </a:endParaRPr>
            </a:p>
          </p:txBody>
        </p:sp>
        <p:sp>
          <p:nvSpPr>
            <p:cNvPr id="900" name=""/>
            <p:cNvSpPr/>
            <p:nvPr/>
          </p:nvSpPr>
          <p:spPr>
            <a:xfrm>
              <a:off x="142920" y="4917960"/>
              <a:ext cx="838080" cy="363600"/>
            </a:xfrm>
            <a:prstGeom prst="ellipse">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901" name=""/>
          <p:cNvGrpSpPr/>
          <p:nvPr/>
        </p:nvGrpSpPr>
        <p:grpSpPr>
          <a:xfrm>
            <a:off x="157320" y="5194440"/>
            <a:ext cx="812520" cy="325440"/>
            <a:chOff x="157320" y="5194440"/>
            <a:chExt cx="812520" cy="325440"/>
          </a:xfrm>
        </p:grpSpPr>
        <p:sp>
          <p:nvSpPr>
            <p:cNvPr id="902" name=""/>
            <p:cNvSpPr/>
            <p:nvPr/>
          </p:nvSpPr>
          <p:spPr>
            <a:xfrm>
              <a:off x="235080" y="5235480"/>
              <a:ext cx="601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ffice</a:t>
              </a:r>
              <a:endParaRPr b="0" lang="en-US" sz="1200" spc="-1" strike="noStrike">
                <a:solidFill>
                  <a:srgbClr val="000000"/>
                </a:solidFill>
                <a:latin typeface="Times New Roman"/>
              </a:endParaRPr>
            </a:p>
          </p:txBody>
        </p:sp>
        <p:sp>
          <p:nvSpPr>
            <p:cNvPr id="903" name=""/>
            <p:cNvSpPr/>
            <p:nvPr/>
          </p:nvSpPr>
          <p:spPr>
            <a:xfrm>
              <a:off x="157320" y="5194440"/>
              <a:ext cx="812520" cy="325440"/>
            </a:xfrm>
            <a:prstGeom prst="ellipse">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904" name=""/>
          <p:cNvGrpSpPr/>
          <p:nvPr/>
        </p:nvGrpSpPr>
        <p:grpSpPr>
          <a:xfrm>
            <a:off x="195120" y="5470560"/>
            <a:ext cx="757440" cy="350640"/>
            <a:chOff x="195120" y="5470560"/>
            <a:chExt cx="757440" cy="350640"/>
          </a:xfrm>
        </p:grpSpPr>
        <p:sp>
          <p:nvSpPr>
            <p:cNvPr id="905" name=""/>
            <p:cNvSpPr/>
            <p:nvPr/>
          </p:nvSpPr>
          <p:spPr>
            <a:xfrm>
              <a:off x="271440" y="5530680"/>
              <a:ext cx="58896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ger</a:t>
              </a:r>
              <a:endParaRPr b="0" lang="en-US" sz="1200" spc="-1" strike="noStrike">
                <a:solidFill>
                  <a:srgbClr val="000000"/>
                </a:solidFill>
                <a:latin typeface="Times New Roman"/>
              </a:endParaRPr>
            </a:p>
          </p:txBody>
        </p:sp>
        <p:sp>
          <p:nvSpPr>
            <p:cNvPr id="906" name=""/>
            <p:cNvSpPr/>
            <p:nvPr/>
          </p:nvSpPr>
          <p:spPr>
            <a:xfrm>
              <a:off x="195120" y="5470560"/>
              <a:ext cx="757440" cy="350640"/>
            </a:xfrm>
            <a:prstGeom prst="ellipse">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907" name=""/>
          <p:cNvSpPr/>
          <p:nvPr/>
        </p:nvSpPr>
        <p:spPr>
          <a:xfrm>
            <a:off x="990720" y="5105520"/>
            <a:ext cx="685800" cy="0"/>
          </a:xfrm>
          <a:prstGeom prst="line">
            <a:avLst/>
          </a:prstGeom>
          <a:ln w="9360">
            <a:solidFill>
              <a:srgbClr val="000000"/>
            </a:solidFill>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08" name=""/>
          <p:cNvSpPr/>
          <p:nvPr/>
        </p:nvSpPr>
        <p:spPr>
          <a:xfrm flipV="1">
            <a:off x="990720" y="5181480"/>
            <a:ext cx="685800" cy="152640"/>
          </a:xfrm>
          <a:prstGeom prst="line">
            <a:avLst/>
          </a:prstGeom>
          <a:ln w="9360">
            <a:solidFill>
              <a:srgbClr val="000000"/>
            </a:solidFill>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09" name=""/>
          <p:cNvSpPr/>
          <p:nvPr/>
        </p:nvSpPr>
        <p:spPr>
          <a:xfrm flipV="1">
            <a:off x="990720" y="5257800"/>
            <a:ext cx="685800" cy="380880"/>
          </a:xfrm>
          <a:prstGeom prst="line">
            <a:avLst/>
          </a:prstGeom>
          <a:ln w="9360">
            <a:solidFill>
              <a:srgbClr val="000000"/>
            </a:solidFill>
            <a:miter/>
            <a:head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10" name=""/>
          <p:cNvSpPr/>
          <p:nvPr/>
        </p:nvSpPr>
        <p:spPr>
          <a:xfrm>
            <a:off x="178200" y="152280"/>
            <a:ext cx="346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Unified Messag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76320" y="152280"/>
            <a:ext cx="83055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ultimedia Applications</a:t>
            </a:r>
            <a:endParaRPr b="0" lang="en-US" sz="2800" spc="-1" strike="noStrike">
              <a:solidFill>
                <a:srgbClr val="000000"/>
              </a:solidFill>
              <a:latin typeface="Times New Roman"/>
            </a:endParaRPr>
          </a:p>
        </p:txBody>
      </p:sp>
      <p:pic>
        <p:nvPicPr>
          <p:cNvPr id="912" name="" descr=""/>
          <p:cNvPicPr/>
          <p:nvPr/>
        </p:nvPicPr>
        <p:blipFill>
          <a:blip r:embed="rId1"/>
          <a:stretch/>
        </p:blipFill>
        <p:spPr>
          <a:xfrm>
            <a:off x="1143000" y="2590920"/>
            <a:ext cx="6172200" cy="3806640"/>
          </a:xfrm>
          <a:prstGeom prst="rect">
            <a:avLst/>
          </a:prstGeom>
          <a:ln w="0">
            <a:noFill/>
          </a:ln>
        </p:spPr>
      </p:pic>
      <p:sp>
        <p:nvSpPr>
          <p:cNvPr id="913" name=""/>
          <p:cNvSpPr/>
          <p:nvPr/>
        </p:nvSpPr>
        <p:spPr>
          <a:xfrm>
            <a:off x="3391920" y="6324480"/>
            <a:ext cx="174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Cisco</a:t>
            </a:r>
            <a:endParaRPr b="0" lang="en-US" sz="2000" spc="-1" strike="noStrike">
              <a:solidFill>
                <a:srgbClr val="000000"/>
              </a:solidFill>
              <a:latin typeface="Times New Roman"/>
            </a:endParaRPr>
          </a:p>
        </p:txBody>
      </p:sp>
      <p:sp>
        <p:nvSpPr>
          <p:cNvPr id="914" name=""/>
          <p:cNvSpPr/>
          <p:nvPr/>
        </p:nvSpPr>
        <p:spPr>
          <a:xfrm>
            <a:off x="3565440" y="1573200"/>
            <a:ext cx="2638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00 users</a:t>
            </a:r>
            <a:endParaRPr b="0" lang="en-US" sz="20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ive video: 1 Mbps</a:t>
            </a:r>
            <a:endParaRPr b="0" lang="en-US" sz="20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mand: 1 Gbps</a:t>
            </a:r>
            <a:endParaRPr b="0" lang="en-US" sz="2000" spc="-1" strike="noStrike">
              <a:solidFill>
                <a:srgbClr val="000000"/>
              </a:solidFill>
              <a:latin typeface="Times New Roman"/>
            </a:endParaRPr>
          </a:p>
        </p:txBody>
      </p:sp>
      <p:sp>
        <p:nvSpPr>
          <p:cNvPr id="915" name=""/>
          <p:cNvSpPr/>
          <p:nvPr/>
        </p:nvSpPr>
        <p:spPr>
          <a:xfrm>
            <a:off x="1892160" y="1720800"/>
            <a:ext cx="1421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ea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deo</a:t>
            </a:r>
            <a:endParaRPr b="0" lang="en-US" sz="2000" spc="-1" strike="noStrike">
              <a:solidFill>
                <a:srgbClr val="000000"/>
              </a:solidFill>
              <a:latin typeface="Times New Roman"/>
            </a:endParaRPr>
          </a:p>
        </p:txBody>
      </p:sp>
      <p:sp>
        <p:nvSpPr>
          <p:cNvPr id="916" name=""/>
          <p:cNvSpPr/>
          <p:nvPr/>
        </p:nvSpPr>
        <p:spPr>
          <a:xfrm>
            <a:off x="3152880" y="1600200"/>
            <a:ext cx="415800" cy="1111320"/>
          </a:xfrm>
          <a:custGeom>
            <a:avLst/>
            <a:gdLst>
              <a:gd name="textAreaLeft" fmla="*/ 265680 w 415800"/>
              <a:gd name="textAreaRight" fmla="*/ 416160 w 415800"/>
              <a:gd name="textAreaTop" fmla="*/ 28800 h 1111320"/>
              <a:gd name="textAreaBottom" fmla="*/ 1082520 h 1111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02320" y="152280"/>
            <a:ext cx="307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New Tendencies</a:t>
            </a:r>
            <a:endParaRPr b="0" lang="en-US" sz="2800" spc="-1" strike="noStrike">
              <a:solidFill>
                <a:srgbClr val="000000"/>
              </a:solidFill>
              <a:latin typeface="Times New Roman"/>
            </a:endParaRPr>
          </a:p>
        </p:txBody>
      </p:sp>
      <p:grpSp>
        <p:nvGrpSpPr>
          <p:cNvPr id="54" name=""/>
          <p:cNvGrpSpPr/>
          <p:nvPr/>
        </p:nvGrpSpPr>
        <p:grpSpPr>
          <a:xfrm>
            <a:off x="2395440" y="1295280"/>
            <a:ext cx="3248280" cy="3387960"/>
            <a:chOff x="2395440" y="1295280"/>
            <a:chExt cx="3248280" cy="3387960"/>
          </a:xfrm>
        </p:grpSpPr>
        <p:sp>
          <p:nvSpPr>
            <p:cNvPr id="55" name=""/>
            <p:cNvSpPr/>
            <p:nvPr/>
          </p:nvSpPr>
          <p:spPr>
            <a:xfrm>
              <a:off x="2873520" y="3225960"/>
              <a:ext cx="2770200" cy="145728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gradFill rotWithShape="0">
              <a:gsLst>
                <a:gs pos="0">
                  <a:srgbClr val="0000f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395440" y="1647720"/>
              <a:ext cx="1405080" cy="259884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gradFill rotWithShape="0">
              <a:gsLst>
                <a:gs pos="0">
                  <a:srgbClr val="008000"/>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63920" y="1295280"/>
              <a:ext cx="2087640" cy="235296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5174280" y="182232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Time to Market</a:t>
            </a:r>
            <a:endParaRPr b="0" lang="en-US" sz="2400" spc="-1" strike="noStrike">
              <a:solidFill>
                <a:srgbClr val="000000"/>
              </a:solidFill>
              <a:latin typeface="Times New Roman"/>
            </a:endParaRPr>
          </a:p>
        </p:txBody>
      </p:sp>
      <p:sp>
        <p:nvSpPr>
          <p:cNvPr id="59" name=""/>
          <p:cNvSpPr/>
          <p:nvPr/>
        </p:nvSpPr>
        <p:spPr>
          <a:xfrm>
            <a:off x="228960" y="334656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Connectivity</a:t>
            </a:r>
            <a:endParaRPr b="0" lang="en-US" sz="2400" spc="-1" strike="noStrike">
              <a:solidFill>
                <a:srgbClr val="000000"/>
              </a:solidFill>
              <a:latin typeface="Times New Roman"/>
            </a:endParaRPr>
          </a:p>
        </p:txBody>
      </p:sp>
      <p:sp>
        <p:nvSpPr>
          <p:cNvPr id="60" name=""/>
          <p:cNvSpPr/>
          <p:nvPr/>
        </p:nvSpPr>
        <p:spPr>
          <a:xfrm>
            <a:off x="5263920" y="410832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Intangible</a:t>
            </a:r>
            <a:endParaRPr b="0" lang="en-US" sz="2400" spc="-1" strike="noStrike">
              <a:solidFill>
                <a:srgbClr val="000000"/>
              </a:solidFill>
              <a:latin typeface="Times New Roman"/>
            </a:endParaRPr>
          </a:p>
        </p:txBody>
      </p:sp>
      <p:sp>
        <p:nvSpPr>
          <p:cNvPr id="61" name=""/>
          <p:cNvSpPr/>
          <p:nvPr/>
        </p:nvSpPr>
        <p:spPr>
          <a:xfrm>
            <a:off x="5257800" y="2209680"/>
            <a:ext cx="3581280" cy="161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usiness Environmen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nges very fast that makes difficult to define the focus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3809880" y="4648320"/>
            <a:ext cx="495792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products and servic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e tangible and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angible economic valu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intangible value  grow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ast, supported by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formation of relationships.</a:t>
            </a:r>
            <a:endParaRPr b="0" lang="en-US" sz="2000" spc="-1" strike="noStrike">
              <a:solidFill>
                <a:srgbClr val="000000"/>
              </a:solidFill>
              <a:latin typeface="Times New Roman"/>
            </a:endParaRPr>
          </a:p>
        </p:txBody>
      </p:sp>
      <p:sp>
        <p:nvSpPr>
          <p:cNvPr id="63" name=""/>
          <p:cNvSpPr/>
          <p:nvPr/>
        </p:nvSpPr>
        <p:spPr>
          <a:xfrm>
            <a:off x="141120" y="3898800"/>
            <a:ext cx="31244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kind of think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ve be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ectronical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rconnec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products, people and enterpri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in the way for open boundaries </a:t>
            </a:r>
            <a:endParaRPr b="0" lang="en-US" sz="2000" spc="-1" strike="noStrike">
              <a:solidFill>
                <a:srgbClr val="000000"/>
              </a:solidFill>
              <a:latin typeface="Times New Roman"/>
            </a:endParaRPr>
          </a:p>
        </p:txBody>
      </p:sp>
      <p:sp>
        <p:nvSpPr>
          <p:cNvPr id="64" name=""/>
          <p:cNvSpPr/>
          <p:nvPr/>
        </p:nvSpPr>
        <p:spPr>
          <a:xfrm>
            <a:off x="7816680" y="2560680"/>
            <a:ext cx="41400" cy="30240"/>
          </a:xfrm>
          <a:custGeom>
            <a:avLst/>
            <a:gdLst/>
            <a:ahLst/>
            <a:rect l="l" t="t" r="r" b="b"/>
            <a:pathLst>
              <a:path w="26" h="19">
                <a:moveTo>
                  <a:pt x="0" y="19"/>
                </a:moveTo>
                <a:lnTo>
                  <a:pt x="0" y="17"/>
                </a:lnTo>
                <a:lnTo>
                  <a:pt x="2" y="14"/>
                </a:lnTo>
                <a:lnTo>
                  <a:pt x="2" y="12"/>
                </a:lnTo>
                <a:lnTo>
                  <a:pt x="2" y="12"/>
                </a:lnTo>
                <a:lnTo>
                  <a:pt x="2" y="12"/>
                </a:lnTo>
                <a:lnTo>
                  <a:pt x="2" y="12"/>
                </a:lnTo>
                <a:lnTo>
                  <a:pt x="6" y="2"/>
                </a:lnTo>
                <a:lnTo>
                  <a:pt x="11" y="0"/>
                </a:lnTo>
                <a:lnTo>
                  <a:pt x="6" y="12"/>
                </a:lnTo>
                <a:lnTo>
                  <a:pt x="6" y="10"/>
                </a:lnTo>
                <a:lnTo>
                  <a:pt x="8" y="10"/>
                </a:lnTo>
                <a:lnTo>
                  <a:pt x="8" y="10"/>
                </a:lnTo>
                <a:lnTo>
                  <a:pt x="8" y="10"/>
                </a:lnTo>
                <a:lnTo>
                  <a:pt x="8" y="10"/>
                </a:lnTo>
                <a:lnTo>
                  <a:pt x="8" y="10"/>
                </a:lnTo>
                <a:lnTo>
                  <a:pt x="11" y="10"/>
                </a:lnTo>
                <a:lnTo>
                  <a:pt x="11" y="10"/>
                </a:lnTo>
                <a:lnTo>
                  <a:pt x="11" y="10"/>
                </a:lnTo>
                <a:lnTo>
                  <a:pt x="13" y="8"/>
                </a:lnTo>
                <a:lnTo>
                  <a:pt x="13" y="8"/>
                </a:lnTo>
                <a:lnTo>
                  <a:pt x="15" y="8"/>
                </a:lnTo>
                <a:lnTo>
                  <a:pt x="17" y="8"/>
                </a:lnTo>
                <a:lnTo>
                  <a:pt x="17" y="8"/>
                </a:lnTo>
                <a:lnTo>
                  <a:pt x="17" y="8"/>
                </a:lnTo>
                <a:lnTo>
                  <a:pt x="19" y="10"/>
                </a:lnTo>
                <a:lnTo>
                  <a:pt x="19" y="10"/>
                </a:lnTo>
                <a:lnTo>
                  <a:pt x="21" y="10"/>
                </a:lnTo>
                <a:lnTo>
                  <a:pt x="21" y="10"/>
                </a:lnTo>
                <a:lnTo>
                  <a:pt x="23" y="10"/>
                </a:lnTo>
                <a:lnTo>
                  <a:pt x="23" y="12"/>
                </a:lnTo>
                <a:lnTo>
                  <a:pt x="23" y="12"/>
                </a:lnTo>
                <a:lnTo>
                  <a:pt x="23" y="12"/>
                </a:lnTo>
                <a:lnTo>
                  <a:pt x="26" y="14"/>
                </a:lnTo>
                <a:lnTo>
                  <a:pt x="26" y="17"/>
                </a:lnTo>
                <a:lnTo>
                  <a:pt x="26" y="17"/>
                </a:lnTo>
                <a:lnTo>
                  <a:pt x="26" y="19"/>
                </a:lnTo>
                <a:lnTo>
                  <a:pt x="21" y="19"/>
                </a:lnTo>
                <a:lnTo>
                  <a:pt x="21" y="19"/>
                </a:lnTo>
                <a:lnTo>
                  <a:pt x="21" y="17"/>
                </a:lnTo>
                <a:lnTo>
                  <a:pt x="21" y="14"/>
                </a:lnTo>
                <a:lnTo>
                  <a:pt x="21" y="14"/>
                </a:lnTo>
                <a:lnTo>
                  <a:pt x="19" y="12"/>
                </a:lnTo>
                <a:lnTo>
                  <a:pt x="19" y="12"/>
                </a:lnTo>
                <a:lnTo>
                  <a:pt x="17" y="12"/>
                </a:lnTo>
                <a:lnTo>
                  <a:pt x="17" y="12"/>
                </a:lnTo>
                <a:lnTo>
                  <a:pt x="15" y="12"/>
                </a:lnTo>
                <a:lnTo>
                  <a:pt x="15" y="12"/>
                </a:lnTo>
                <a:lnTo>
                  <a:pt x="15" y="12"/>
                </a:lnTo>
                <a:lnTo>
                  <a:pt x="13" y="12"/>
                </a:lnTo>
                <a:lnTo>
                  <a:pt x="13" y="12"/>
                </a:lnTo>
                <a:lnTo>
                  <a:pt x="11" y="12"/>
                </a:lnTo>
                <a:lnTo>
                  <a:pt x="11" y="12"/>
                </a:lnTo>
                <a:lnTo>
                  <a:pt x="11" y="12"/>
                </a:lnTo>
                <a:lnTo>
                  <a:pt x="8" y="12"/>
                </a:lnTo>
                <a:lnTo>
                  <a:pt x="8" y="12"/>
                </a:lnTo>
                <a:lnTo>
                  <a:pt x="8" y="14"/>
                </a:lnTo>
                <a:lnTo>
                  <a:pt x="6" y="14"/>
                </a:lnTo>
                <a:lnTo>
                  <a:pt x="6" y="14"/>
                </a:lnTo>
                <a:lnTo>
                  <a:pt x="6" y="14"/>
                </a:lnTo>
                <a:lnTo>
                  <a:pt x="6" y="17"/>
                </a:lnTo>
                <a:lnTo>
                  <a:pt x="4" y="17"/>
                </a:lnTo>
                <a:lnTo>
                  <a:pt x="4" y="17"/>
                </a:lnTo>
                <a:lnTo>
                  <a:pt x="4" y="19"/>
                </a:lnTo>
                <a:lnTo>
                  <a:pt x="0" y="19"/>
                </a:lnTo>
                <a:close/>
              </a:path>
            </a:pathLst>
          </a:custGeom>
          <a:solidFill>
            <a:srgbClr val="fffa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 name=""/>
          <p:cNvSpPr/>
          <p:nvPr/>
        </p:nvSpPr>
        <p:spPr>
          <a:xfrm>
            <a:off x="7816680" y="2590920"/>
            <a:ext cx="41400" cy="12600"/>
          </a:xfrm>
          <a:custGeom>
            <a:avLst/>
            <a:gdLst/>
            <a:ahLst/>
            <a:rect l="l" t="t" r="r" b="b"/>
            <a:pathLst>
              <a:path w="26" h="8">
                <a:moveTo>
                  <a:pt x="0" y="0"/>
                </a:moveTo>
                <a:lnTo>
                  <a:pt x="0" y="0"/>
                </a:lnTo>
                <a:lnTo>
                  <a:pt x="0" y="2"/>
                </a:lnTo>
                <a:lnTo>
                  <a:pt x="0" y="4"/>
                </a:lnTo>
                <a:lnTo>
                  <a:pt x="2" y="4"/>
                </a:lnTo>
                <a:lnTo>
                  <a:pt x="2" y="6"/>
                </a:lnTo>
                <a:lnTo>
                  <a:pt x="2" y="6"/>
                </a:lnTo>
                <a:lnTo>
                  <a:pt x="2" y="6"/>
                </a:lnTo>
                <a:lnTo>
                  <a:pt x="4" y="6"/>
                </a:lnTo>
                <a:lnTo>
                  <a:pt x="4" y="8"/>
                </a:lnTo>
                <a:lnTo>
                  <a:pt x="6" y="8"/>
                </a:lnTo>
                <a:lnTo>
                  <a:pt x="6" y="8"/>
                </a:lnTo>
                <a:lnTo>
                  <a:pt x="8" y="8"/>
                </a:lnTo>
                <a:lnTo>
                  <a:pt x="8" y="8"/>
                </a:lnTo>
                <a:lnTo>
                  <a:pt x="11" y="8"/>
                </a:lnTo>
                <a:lnTo>
                  <a:pt x="11" y="8"/>
                </a:lnTo>
                <a:lnTo>
                  <a:pt x="13" y="8"/>
                </a:lnTo>
                <a:lnTo>
                  <a:pt x="13" y="8"/>
                </a:lnTo>
                <a:lnTo>
                  <a:pt x="15" y="8"/>
                </a:lnTo>
                <a:lnTo>
                  <a:pt x="17" y="8"/>
                </a:lnTo>
                <a:lnTo>
                  <a:pt x="17" y="8"/>
                </a:lnTo>
                <a:lnTo>
                  <a:pt x="19" y="6"/>
                </a:lnTo>
                <a:lnTo>
                  <a:pt x="19" y="6"/>
                </a:lnTo>
                <a:lnTo>
                  <a:pt x="21" y="6"/>
                </a:lnTo>
                <a:lnTo>
                  <a:pt x="21" y="4"/>
                </a:lnTo>
                <a:lnTo>
                  <a:pt x="21" y="4"/>
                </a:lnTo>
                <a:lnTo>
                  <a:pt x="23" y="4"/>
                </a:lnTo>
                <a:lnTo>
                  <a:pt x="23" y="2"/>
                </a:lnTo>
                <a:lnTo>
                  <a:pt x="26" y="0"/>
                </a:lnTo>
                <a:lnTo>
                  <a:pt x="26" y="0"/>
                </a:lnTo>
                <a:lnTo>
                  <a:pt x="21" y="0"/>
                </a:lnTo>
                <a:lnTo>
                  <a:pt x="21" y="0"/>
                </a:lnTo>
                <a:lnTo>
                  <a:pt x="21" y="2"/>
                </a:lnTo>
                <a:lnTo>
                  <a:pt x="19" y="2"/>
                </a:lnTo>
                <a:lnTo>
                  <a:pt x="19" y="2"/>
                </a:lnTo>
                <a:lnTo>
                  <a:pt x="19" y="4"/>
                </a:lnTo>
                <a:lnTo>
                  <a:pt x="19" y="4"/>
                </a:lnTo>
                <a:lnTo>
                  <a:pt x="17" y="4"/>
                </a:lnTo>
                <a:lnTo>
                  <a:pt x="17" y="4"/>
                </a:lnTo>
                <a:lnTo>
                  <a:pt x="17" y="4"/>
                </a:lnTo>
                <a:lnTo>
                  <a:pt x="15" y="4"/>
                </a:lnTo>
                <a:lnTo>
                  <a:pt x="15" y="6"/>
                </a:lnTo>
                <a:lnTo>
                  <a:pt x="13" y="6"/>
                </a:lnTo>
                <a:lnTo>
                  <a:pt x="13" y="6"/>
                </a:lnTo>
                <a:lnTo>
                  <a:pt x="13" y="6"/>
                </a:lnTo>
                <a:lnTo>
                  <a:pt x="11" y="6"/>
                </a:lnTo>
                <a:lnTo>
                  <a:pt x="11" y="6"/>
                </a:lnTo>
                <a:lnTo>
                  <a:pt x="8" y="6"/>
                </a:lnTo>
                <a:lnTo>
                  <a:pt x="8" y="6"/>
                </a:lnTo>
                <a:lnTo>
                  <a:pt x="6" y="4"/>
                </a:lnTo>
                <a:lnTo>
                  <a:pt x="6" y="4"/>
                </a:lnTo>
                <a:lnTo>
                  <a:pt x="4" y="4"/>
                </a:lnTo>
                <a:lnTo>
                  <a:pt x="4" y="2"/>
                </a:lnTo>
                <a:lnTo>
                  <a:pt x="4" y="2"/>
                </a:lnTo>
                <a:lnTo>
                  <a:pt x="4" y="0"/>
                </a:lnTo>
                <a:lnTo>
                  <a:pt x="4" y="0"/>
                </a:lnTo>
                <a:lnTo>
                  <a:pt x="0" y="0"/>
                </a:lnTo>
                <a:close/>
              </a:path>
            </a:pathLst>
          </a:custGeom>
          <a:solidFill>
            <a:srgbClr val="fffae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 name=""/>
          <p:cNvSpPr/>
          <p:nvPr/>
        </p:nvSpPr>
        <p:spPr>
          <a:xfrm>
            <a:off x="7850160" y="2654280"/>
            <a:ext cx="38160" cy="17640"/>
          </a:xfrm>
          <a:custGeom>
            <a:avLst/>
            <a:gdLst/>
            <a:ahLst/>
            <a:rect l="l" t="t" r="r" b="b"/>
            <a:pathLst>
              <a:path w="24" h="11">
                <a:moveTo>
                  <a:pt x="0" y="11"/>
                </a:moveTo>
                <a:lnTo>
                  <a:pt x="0" y="9"/>
                </a:lnTo>
                <a:lnTo>
                  <a:pt x="0" y="7"/>
                </a:lnTo>
                <a:lnTo>
                  <a:pt x="2" y="7"/>
                </a:lnTo>
                <a:lnTo>
                  <a:pt x="2" y="7"/>
                </a:lnTo>
                <a:lnTo>
                  <a:pt x="2" y="4"/>
                </a:lnTo>
                <a:lnTo>
                  <a:pt x="5" y="4"/>
                </a:lnTo>
                <a:lnTo>
                  <a:pt x="5" y="4"/>
                </a:lnTo>
                <a:lnTo>
                  <a:pt x="7" y="2"/>
                </a:lnTo>
                <a:lnTo>
                  <a:pt x="7" y="2"/>
                </a:lnTo>
                <a:lnTo>
                  <a:pt x="9" y="2"/>
                </a:lnTo>
                <a:lnTo>
                  <a:pt x="11" y="2"/>
                </a:lnTo>
                <a:lnTo>
                  <a:pt x="11" y="2"/>
                </a:lnTo>
                <a:lnTo>
                  <a:pt x="13" y="2"/>
                </a:lnTo>
                <a:lnTo>
                  <a:pt x="13" y="0"/>
                </a:lnTo>
                <a:lnTo>
                  <a:pt x="15" y="0"/>
                </a:lnTo>
                <a:lnTo>
                  <a:pt x="15" y="0"/>
                </a:lnTo>
                <a:lnTo>
                  <a:pt x="17" y="2"/>
                </a:lnTo>
                <a:lnTo>
                  <a:pt x="17" y="2"/>
                </a:lnTo>
                <a:lnTo>
                  <a:pt x="19" y="2"/>
                </a:lnTo>
                <a:lnTo>
                  <a:pt x="19" y="2"/>
                </a:lnTo>
                <a:lnTo>
                  <a:pt x="22" y="2"/>
                </a:lnTo>
                <a:lnTo>
                  <a:pt x="22" y="2"/>
                </a:lnTo>
                <a:lnTo>
                  <a:pt x="24" y="4"/>
                </a:lnTo>
                <a:lnTo>
                  <a:pt x="24" y="4"/>
                </a:lnTo>
                <a:lnTo>
                  <a:pt x="24" y="4"/>
                </a:lnTo>
                <a:lnTo>
                  <a:pt x="24" y="7"/>
                </a:lnTo>
                <a:lnTo>
                  <a:pt x="24" y="9"/>
                </a:lnTo>
                <a:lnTo>
                  <a:pt x="24" y="11"/>
                </a:lnTo>
                <a:lnTo>
                  <a:pt x="24" y="11"/>
                </a:lnTo>
                <a:lnTo>
                  <a:pt x="22" y="11"/>
                </a:lnTo>
                <a:lnTo>
                  <a:pt x="22" y="11"/>
                </a:lnTo>
                <a:lnTo>
                  <a:pt x="22" y="9"/>
                </a:lnTo>
                <a:lnTo>
                  <a:pt x="22" y="9"/>
                </a:lnTo>
                <a:lnTo>
                  <a:pt x="19" y="7"/>
                </a:lnTo>
                <a:lnTo>
                  <a:pt x="19" y="7"/>
                </a:lnTo>
                <a:lnTo>
                  <a:pt x="17" y="4"/>
                </a:lnTo>
                <a:lnTo>
                  <a:pt x="17" y="4"/>
                </a:lnTo>
                <a:lnTo>
                  <a:pt x="15" y="4"/>
                </a:lnTo>
                <a:lnTo>
                  <a:pt x="15" y="4"/>
                </a:lnTo>
                <a:lnTo>
                  <a:pt x="13" y="4"/>
                </a:lnTo>
                <a:lnTo>
                  <a:pt x="13" y="4"/>
                </a:lnTo>
                <a:lnTo>
                  <a:pt x="13" y="4"/>
                </a:lnTo>
                <a:lnTo>
                  <a:pt x="11" y="4"/>
                </a:lnTo>
                <a:lnTo>
                  <a:pt x="11" y="4"/>
                </a:lnTo>
                <a:lnTo>
                  <a:pt x="9" y="4"/>
                </a:lnTo>
                <a:lnTo>
                  <a:pt x="9" y="4"/>
                </a:lnTo>
                <a:lnTo>
                  <a:pt x="9" y="4"/>
                </a:lnTo>
                <a:lnTo>
                  <a:pt x="7" y="7"/>
                </a:lnTo>
                <a:lnTo>
                  <a:pt x="7" y="7"/>
                </a:lnTo>
                <a:lnTo>
                  <a:pt x="7" y="7"/>
                </a:lnTo>
                <a:lnTo>
                  <a:pt x="5" y="7"/>
                </a:lnTo>
                <a:lnTo>
                  <a:pt x="5" y="9"/>
                </a:lnTo>
                <a:lnTo>
                  <a:pt x="5" y="9"/>
                </a:lnTo>
                <a:lnTo>
                  <a:pt x="5" y="11"/>
                </a:lnTo>
                <a:lnTo>
                  <a:pt x="5" y="11"/>
                </a:lnTo>
                <a:lnTo>
                  <a:pt x="0" y="11"/>
                </a:lnTo>
                <a:close/>
              </a:path>
            </a:pathLst>
          </a:custGeom>
          <a:solidFill>
            <a:srgbClr val="fffa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 name=""/>
          <p:cNvSpPr/>
          <p:nvPr/>
        </p:nvSpPr>
        <p:spPr>
          <a:xfrm>
            <a:off x="7850160" y="2671920"/>
            <a:ext cx="38160" cy="29880"/>
          </a:xfrm>
          <a:custGeom>
            <a:avLst/>
            <a:gdLst/>
            <a:ahLst/>
            <a:rect l="l" t="t" r="r" b="b"/>
            <a:pathLst>
              <a:path w="24" h="19">
                <a:moveTo>
                  <a:pt x="0" y="0"/>
                </a:moveTo>
                <a:lnTo>
                  <a:pt x="0" y="0"/>
                </a:lnTo>
                <a:lnTo>
                  <a:pt x="0" y="2"/>
                </a:lnTo>
                <a:lnTo>
                  <a:pt x="0" y="4"/>
                </a:lnTo>
                <a:lnTo>
                  <a:pt x="0" y="4"/>
                </a:lnTo>
                <a:lnTo>
                  <a:pt x="0" y="6"/>
                </a:lnTo>
                <a:lnTo>
                  <a:pt x="2" y="6"/>
                </a:lnTo>
                <a:lnTo>
                  <a:pt x="2" y="6"/>
                </a:lnTo>
                <a:lnTo>
                  <a:pt x="2" y="8"/>
                </a:lnTo>
                <a:lnTo>
                  <a:pt x="5" y="8"/>
                </a:lnTo>
                <a:lnTo>
                  <a:pt x="5" y="8"/>
                </a:lnTo>
                <a:lnTo>
                  <a:pt x="7" y="8"/>
                </a:lnTo>
                <a:lnTo>
                  <a:pt x="7" y="8"/>
                </a:lnTo>
                <a:lnTo>
                  <a:pt x="9" y="8"/>
                </a:lnTo>
                <a:lnTo>
                  <a:pt x="9" y="8"/>
                </a:lnTo>
                <a:lnTo>
                  <a:pt x="11" y="8"/>
                </a:lnTo>
                <a:lnTo>
                  <a:pt x="11" y="8"/>
                </a:lnTo>
                <a:lnTo>
                  <a:pt x="13" y="8"/>
                </a:lnTo>
                <a:lnTo>
                  <a:pt x="13" y="8"/>
                </a:lnTo>
                <a:lnTo>
                  <a:pt x="15" y="8"/>
                </a:lnTo>
                <a:lnTo>
                  <a:pt x="15" y="8"/>
                </a:lnTo>
                <a:lnTo>
                  <a:pt x="15" y="8"/>
                </a:lnTo>
                <a:lnTo>
                  <a:pt x="15" y="8"/>
                </a:lnTo>
                <a:lnTo>
                  <a:pt x="17" y="8"/>
                </a:lnTo>
                <a:lnTo>
                  <a:pt x="17" y="6"/>
                </a:lnTo>
                <a:lnTo>
                  <a:pt x="17" y="6"/>
                </a:lnTo>
                <a:lnTo>
                  <a:pt x="17" y="6"/>
                </a:lnTo>
                <a:lnTo>
                  <a:pt x="17" y="6"/>
                </a:lnTo>
                <a:lnTo>
                  <a:pt x="13" y="19"/>
                </a:lnTo>
                <a:lnTo>
                  <a:pt x="17" y="17"/>
                </a:lnTo>
                <a:lnTo>
                  <a:pt x="24" y="6"/>
                </a:lnTo>
                <a:lnTo>
                  <a:pt x="24" y="4"/>
                </a:lnTo>
                <a:lnTo>
                  <a:pt x="24" y="4"/>
                </a:lnTo>
                <a:lnTo>
                  <a:pt x="24" y="4"/>
                </a:lnTo>
                <a:lnTo>
                  <a:pt x="24" y="4"/>
                </a:lnTo>
                <a:lnTo>
                  <a:pt x="24" y="2"/>
                </a:lnTo>
                <a:lnTo>
                  <a:pt x="24" y="0"/>
                </a:lnTo>
                <a:lnTo>
                  <a:pt x="22" y="0"/>
                </a:lnTo>
                <a:lnTo>
                  <a:pt x="22" y="0"/>
                </a:lnTo>
                <a:lnTo>
                  <a:pt x="19" y="2"/>
                </a:lnTo>
                <a:lnTo>
                  <a:pt x="19" y="2"/>
                </a:lnTo>
                <a:lnTo>
                  <a:pt x="19" y="2"/>
                </a:lnTo>
                <a:lnTo>
                  <a:pt x="17" y="4"/>
                </a:lnTo>
                <a:lnTo>
                  <a:pt x="17" y="4"/>
                </a:lnTo>
                <a:lnTo>
                  <a:pt x="17" y="4"/>
                </a:lnTo>
                <a:lnTo>
                  <a:pt x="15" y="4"/>
                </a:lnTo>
                <a:lnTo>
                  <a:pt x="15" y="6"/>
                </a:lnTo>
                <a:lnTo>
                  <a:pt x="15" y="6"/>
                </a:lnTo>
                <a:lnTo>
                  <a:pt x="13" y="6"/>
                </a:lnTo>
                <a:lnTo>
                  <a:pt x="13" y="6"/>
                </a:lnTo>
                <a:lnTo>
                  <a:pt x="11" y="6"/>
                </a:lnTo>
                <a:lnTo>
                  <a:pt x="11" y="6"/>
                </a:lnTo>
                <a:lnTo>
                  <a:pt x="11" y="6"/>
                </a:lnTo>
                <a:lnTo>
                  <a:pt x="9" y="6"/>
                </a:lnTo>
                <a:lnTo>
                  <a:pt x="9" y="6"/>
                </a:lnTo>
                <a:lnTo>
                  <a:pt x="9" y="6"/>
                </a:lnTo>
                <a:lnTo>
                  <a:pt x="7" y="6"/>
                </a:lnTo>
                <a:lnTo>
                  <a:pt x="5" y="4"/>
                </a:lnTo>
                <a:lnTo>
                  <a:pt x="5" y="4"/>
                </a:lnTo>
                <a:lnTo>
                  <a:pt x="5" y="2"/>
                </a:lnTo>
                <a:lnTo>
                  <a:pt x="2" y="2"/>
                </a:lnTo>
                <a:lnTo>
                  <a:pt x="2" y="0"/>
                </a:lnTo>
                <a:lnTo>
                  <a:pt x="5" y="0"/>
                </a:lnTo>
                <a:lnTo>
                  <a:pt x="0" y="0"/>
                </a:lnTo>
                <a:close/>
              </a:path>
            </a:pathLst>
          </a:custGeom>
          <a:solidFill>
            <a:srgbClr val="fffa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 name=""/>
          <p:cNvSpPr/>
          <p:nvPr/>
        </p:nvSpPr>
        <p:spPr>
          <a:xfrm>
            <a:off x="7823160" y="3470400"/>
            <a:ext cx="61920" cy="81000"/>
          </a:xfrm>
          <a:custGeom>
            <a:avLst/>
            <a:gdLst/>
            <a:ahLst/>
            <a:rect l="l" t="t" r="r" b="b"/>
            <a:pathLst>
              <a:path w="39" h="51">
                <a:moveTo>
                  <a:pt x="39" y="51"/>
                </a:moveTo>
                <a:lnTo>
                  <a:pt x="39" y="51"/>
                </a:lnTo>
                <a:lnTo>
                  <a:pt x="36" y="51"/>
                </a:lnTo>
                <a:lnTo>
                  <a:pt x="36" y="51"/>
                </a:lnTo>
                <a:lnTo>
                  <a:pt x="34" y="51"/>
                </a:lnTo>
                <a:lnTo>
                  <a:pt x="32" y="51"/>
                </a:lnTo>
                <a:lnTo>
                  <a:pt x="30" y="49"/>
                </a:lnTo>
                <a:lnTo>
                  <a:pt x="30" y="49"/>
                </a:lnTo>
                <a:lnTo>
                  <a:pt x="28" y="47"/>
                </a:lnTo>
                <a:lnTo>
                  <a:pt x="26" y="47"/>
                </a:lnTo>
                <a:lnTo>
                  <a:pt x="24" y="44"/>
                </a:lnTo>
                <a:lnTo>
                  <a:pt x="22" y="42"/>
                </a:lnTo>
                <a:lnTo>
                  <a:pt x="19" y="40"/>
                </a:lnTo>
                <a:lnTo>
                  <a:pt x="17" y="38"/>
                </a:lnTo>
                <a:lnTo>
                  <a:pt x="15" y="36"/>
                </a:lnTo>
                <a:lnTo>
                  <a:pt x="13" y="34"/>
                </a:lnTo>
                <a:lnTo>
                  <a:pt x="11" y="32"/>
                </a:lnTo>
                <a:lnTo>
                  <a:pt x="9" y="25"/>
                </a:lnTo>
                <a:lnTo>
                  <a:pt x="4" y="21"/>
                </a:lnTo>
                <a:lnTo>
                  <a:pt x="2" y="17"/>
                </a:lnTo>
                <a:lnTo>
                  <a:pt x="0" y="10"/>
                </a:lnTo>
                <a:lnTo>
                  <a:pt x="0" y="8"/>
                </a:lnTo>
                <a:lnTo>
                  <a:pt x="0" y="4"/>
                </a:lnTo>
                <a:lnTo>
                  <a:pt x="0" y="2"/>
                </a:lnTo>
                <a:lnTo>
                  <a:pt x="0" y="0"/>
                </a:lnTo>
                <a:lnTo>
                  <a:pt x="39" y="51"/>
                </a:lnTo>
                <a:close/>
              </a:path>
            </a:pathLst>
          </a:custGeom>
          <a:solidFill>
            <a:srgbClr val="2b33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 name=""/>
          <p:cNvSpPr/>
          <p:nvPr/>
        </p:nvSpPr>
        <p:spPr>
          <a:xfrm>
            <a:off x="7816680" y="3462480"/>
            <a:ext cx="63720" cy="77760"/>
          </a:xfrm>
          <a:custGeom>
            <a:avLst/>
            <a:gdLst/>
            <a:ahLst/>
            <a:rect l="l" t="t" r="r" b="b"/>
            <a:pathLst>
              <a:path w="40" h="49">
                <a:moveTo>
                  <a:pt x="40" y="49"/>
                </a:moveTo>
                <a:lnTo>
                  <a:pt x="38" y="49"/>
                </a:lnTo>
                <a:lnTo>
                  <a:pt x="38" y="49"/>
                </a:lnTo>
                <a:lnTo>
                  <a:pt x="36" y="49"/>
                </a:lnTo>
                <a:lnTo>
                  <a:pt x="36" y="49"/>
                </a:lnTo>
                <a:lnTo>
                  <a:pt x="34" y="49"/>
                </a:lnTo>
                <a:lnTo>
                  <a:pt x="32" y="49"/>
                </a:lnTo>
                <a:lnTo>
                  <a:pt x="30" y="47"/>
                </a:lnTo>
                <a:lnTo>
                  <a:pt x="28" y="47"/>
                </a:lnTo>
                <a:lnTo>
                  <a:pt x="28" y="45"/>
                </a:lnTo>
                <a:lnTo>
                  <a:pt x="26" y="43"/>
                </a:lnTo>
                <a:lnTo>
                  <a:pt x="23" y="41"/>
                </a:lnTo>
                <a:lnTo>
                  <a:pt x="21" y="39"/>
                </a:lnTo>
                <a:lnTo>
                  <a:pt x="19" y="37"/>
                </a:lnTo>
                <a:lnTo>
                  <a:pt x="17" y="35"/>
                </a:lnTo>
                <a:lnTo>
                  <a:pt x="15" y="32"/>
                </a:lnTo>
                <a:lnTo>
                  <a:pt x="13" y="30"/>
                </a:lnTo>
                <a:lnTo>
                  <a:pt x="8" y="26"/>
                </a:lnTo>
                <a:lnTo>
                  <a:pt x="6" y="20"/>
                </a:lnTo>
                <a:lnTo>
                  <a:pt x="4" y="15"/>
                </a:lnTo>
                <a:lnTo>
                  <a:pt x="2" y="11"/>
                </a:lnTo>
                <a:lnTo>
                  <a:pt x="2" y="7"/>
                </a:lnTo>
                <a:lnTo>
                  <a:pt x="0" y="3"/>
                </a:lnTo>
                <a:lnTo>
                  <a:pt x="0" y="0"/>
                </a:lnTo>
                <a:lnTo>
                  <a:pt x="2" y="0"/>
                </a:lnTo>
                <a:lnTo>
                  <a:pt x="40" y="49"/>
                </a:lnTo>
                <a:close/>
              </a:path>
            </a:pathLst>
          </a:custGeom>
          <a:solidFill>
            <a:srgbClr val="c4cc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 name=""/>
          <p:cNvSpPr/>
          <p:nvPr/>
        </p:nvSpPr>
        <p:spPr>
          <a:xfrm>
            <a:off x="8121600" y="3435480"/>
            <a:ext cx="33480" cy="41040"/>
          </a:xfrm>
          <a:custGeom>
            <a:avLst/>
            <a:gdLst/>
            <a:ahLst/>
            <a:rect l="l" t="t" r="r" b="b"/>
            <a:pathLst>
              <a:path w="21" h="26">
                <a:moveTo>
                  <a:pt x="0" y="26"/>
                </a:moveTo>
                <a:lnTo>
                  <a:pt x="8" y="7"/>
                </a:lnTo>
                <a:lnTo>
                  <a:pt x="11" y="5"/>
                </a:lnTo>
                <a:lnTo>
                  <a:pt x="11" y="5"/>
                </a:lnTo>
                <a:lnTo>
                  <a:pt x="13" y="3"/>
                </a:lnTo>
                <a:lnTo>
                  <a:pt x="13" y="3"/>
                </a:lnTo>
                <a:lnTo>
                  <a:pt x="15" y="0"/>
                </a:lnTo>
                <a:lnTo>
                  <a:pt x="15" y="0"/>
                </a:lnTo>
                <a:lnTo>
                  <a:pt x="17" y="0"/>
                </a:lnTo>
                <a:lnTo>
                  <a:pt x="19" y="0"/>
                </a:lnTo>
                <a:lnTo>
                  <a:pt x="19" y="0"/>
                </a:lnTo>
                <a:lnTo>
                  <a:pt x="21" y="3"/>
                </a:lnTo>
                <a:lnTo>
                  <a:pt x="21" y="5"/>
                </a:lnTo>
                <a:lnTo>
                  <a:pt x="21" y="5"/>
                </a:lnTo>
                <a:lnTo>
                  <a:pt x="17" y="17"/>
                </a:lnTo>
                <a:lnTo>
                  <a:pt x="0" y="26"/>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 name=""/>
          <p:cNvSpPr/>
          <p:nvPr/>
        </p:nvSpPr>
        <p:spPr>
          <a:xfrm>
            <a:off x="8155080" y="3422520"/>
            <a:ext cx="38160" cy="36720"/>
          </a:xfrm>
          <a:custGeom>
            <a:avLst/>
            <a:gdLst/>
            <a:ahLst/>
            <a:rect l="l" t="t" r="r" b="b"/>
            <a:pathLst>
              <a:path w="24" h="23">
                <a:moveTo>
                  <a:pt x="0" y="23"/>
                </a:moveTo>
                <a:lnTo>
                  <a:pt x="11" y="4"/>
                </a:lnTo>
                <a:lnTo>
                  <a:pt x="11" y="4"/>
                </a:lnTo>
                <a:lnTo>
                  <a:pt x="11" y="2"/>
                </a:lnTo>
                <a:lnTo>
                  <a:pt x="13" y="2"/>
                </a:lnTo>
                <a:lnTo>
                  <a:pt x="15" y="2"/>
                </a:lnTo>
                <a:lnTo>
                  <a:pt x="15" y="0"/>
                </a:lnTo>
                <a:lnTo>
                  <a:pt x="17" y="0"/>
                </a:lnTo>
                <a:lnTo>
                  <a:pt x="17" y="0"/>
                </a:lnTo>
                <a:lnTo>
                  <a:pt x="19" y="0"/>
                </a:lnTo>
                <a:lnTo>
                  <a:pt x="22" y="0"/>
                </a:lnTo>
                <a:lnTo>
                  <a:pt x="22" y="2"/>
                </a:lnTo>
                <a:lnTo>
                  <a:pt x="24" y="4"/>
                </a:lnTo>
                <a:lnTo>
                  <a:pt x="24" y="4"/>
                </a:lnTo>
                <a:lnTo>
                  <a:pt x="17" y="17"/>
                </a:lnTo>
                <a:lnTo>
                  <a:pt x="0" y="23"/>
                </a:lnTo>
                <a:close/>
              </a:path>
            </a:pathLst>
          </a:custGeom>
          <a:solidFill>
            <a:srgbClr val="1119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 name=""/>
          <p:cNvSpPr/>
          <p:nvPr/>
        </p:nvSpPr>
        <p:spPr>
          <a:xfrm>
            <a:off x="8134200" y="3440160"/>
            <a:ext cx="24120" cy="30240"/>
          </a:xfrm>
          <a:custGeom>
            <a:avLst/>
            <a:gdLst/>
            <a:ahLst/>
            <a:rect l="l" t="t" r="r" b="b"/>
            <a:pathLst>
              <a:path w="15" h="19">
                <a:moveTo>
                  <a:pt x="0" y="19"/>
                </a:moveTo>
                <a:lnTo>
                  <a:pt x="7" y="4"/>
                </a:lnTo>
                <a:lnTo>
                  <a:pt x="7" y="4"/>
                </a:lnTo>
                <a:lnTo>
                  <a:pt x="7" y="4"/>
                </a:lnTo>
                <a:lnTo>
                  <a:pt x="9" y="2"/>
                </a:lnTo>
                <a:lnTo>
                  <a:pt x="9" y="2"/>
                </a:lnTo>
                <a:lnTo>
                  <a:pt x="11" y="2"/>
                </a:lnTo>
                <a:lnTo>
                  <a:pt x="11" y="2"/>
                </a:lnTo>
                <a:lnTo>
                  <a:pt x="11" y="2"/>
                </a:lnTo>
                <a:lnTo>
                  <a:pt x="13" y="0"/>
                </a:lnTo>
                <a:lnTo>
                  <a:pt x="13" y="2"/>
                </a:lnTo>
                <a:lnTo>
                  <a:pt x="15" y="2"/>
                </a:lnTo>
                <a:lnTo>
                  <a:pt x="15" y="4"/>
                </a:lnTo>
                <a:lnTo>
                  <a:pt x="15" y="4"/>
                </a:lnTo>
                <a:lnTo>
                  <a:pt x="11" y="12"/>
                </a:lnTo>
                <a:lnTo>
                  <a:pt x="0" y="19"/>
                </a:lnTo>
                <a:close/>
              </a:path>
            </a:pathLst>
          </a:custGeom>
          <a:solidFill>
            <a:srgbClr val="d1d9d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a:off x="8169120" y="3425760"/>
            <a:ext cx="24120" cy="30240"/>
          </a:xfrm>
          <a:custGeom>
            <a:avLst/>
            <a:gdLst/>
            <a:ahLst/>
            <a:rect l="l" t="t" r="r" b="b"/>
            <a:pathLst>
              <a:path w="15" h="19">
                <a:moveTo>
                  <a:pt x="0" y="19"/>
                </a:moveTo>
                <a:lnTo>
                  <a:pt x="6" y="4"/>
                </a:lnTo>
                <a:lnTo>
                  <a:pt x="6" y="4"/>
                </a:lnTo>
                <a:lnTo>
                  <a:pt x="8" y="2"/>
                </a:lnTo>
                <a:lnTo>
                  <a:pt x="8" y="2"/>
                </a:lnTo>
                <a:lnTo>
                  <a:pt x="8" y="2"/>
                </a:lnTo>
                <a:lnTo>
                  <a:pt x="10" y="2"/>
                </a:lnTo>
                <a:lnTo>
                  <a:pt x="10" y="0"/>
                </a:lnTo>
                <a:lnTo>
                  <a:pt x="13" y="0"/>
                </a:lnTo>
                <a:lnTo>
                  <a:pt x="13" y="0"/>
                </a:lnTo>
                <a:lnTo>
                  <a:pt x="15" y="0"/>
                </a:lnTo>
                <a:lnTo>
                  <a:pt x="15" y="2"/>
                </a:lnTo>
                <a:lnTo>
                  <a:pt x="15" y="4"/>
                </a:lnTo>
                <a:lnTo>
                  <a:pt x="15" y="4"/>
                </a:lnTo>
                <a:lnTo>
                  <a:pt x="13" y="13"/>
                </a:lnTo>
                <a:lnTo>
                  <a:pt x="0" y="19"/>
                </a:lnTo>
                <a:close/>
              </a:path>
            </a:pathLst>
          </a:custGeom>
          <a:solidFill>
            <a:srgbClr val="d1d9d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152280" y="152280"/>
            <a:ext cx="6096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anagement and Distribution Technologies</a:t>
            </a:r>
            <a:endParaRPr b="0" lang="en-US" sz="2800" spc="-1" strike="noStrike">
              <a:solidFill>
                <a:srgbClr val="000000"/>
              </a:solidFill>
              <a:latin typeface="Times New Roman"/>
            </a:endParaRPr>
          </a:p>
        </p:txBody>
      </p:sp>
      <p:sp>
        <p:nvSpPr>
          <p:cNvPr id="918" name=""/>
          <p:cNvSpPr/>
          <p:nvPr/>
        </p:nvSpPr>
        <p:spPr>
          <a:xfrm>
            <a:off x="466200" y="1636560"/>
            <a:ext cx="4215960" cy="378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QoS Technologies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cket classification</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raffic Policing</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mission Control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ueueing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gestion management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nk Fragmentation </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licy Management</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PLS</a:t>
            </a:r>
            <a:endParaRPr b="0" lang="en-US" sz="2400" spc="-1" strike="noStrike">
              <a:solidFill>
                <a:srgbClr val="000000"/>
              </a:solidFill>
              <a:latin typeface="Times New Roman"/>
            </a:endParaRPr>
          </a:p>
        </p:txBody>
      </p:sp>
      <p:sp>
        <p:nvSpPr>
          <p:cNvPr id="919" name=""/>
          <p:cNvSpPr/>
          <p:nvPr/>
        </p:nvSpPr>
        <p:spPr>
          <a:xfrm>
            <a:off x="4724280" y="1676520"/>
            <a:ext cx="472464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Content Distribution  Technologies :</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aching</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ulticast</a:t>
            </a:r>
            <a:endParaRPr b="0" lang="en-US" sz="24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DN technologies </a:t>
            </a:r>
            <a:endParaRPr b="0" lang="en-US" sz="2400" spc="-1" strike="noStrike">
              <a:solidFill>
                <a:srgbClr val="000000"/>
              </a:solidFill>
              <a:latin typeface="Times New Roman"/>
            </a:endParaRPr>
          </a:p>
        </p:txBody>
      </p:sp>
      <p:sp>
        <p:nvSpPr>
          <p:cNvPr id="920" name=""/>
          <p:cNvSpPr/>
          <p:nvPr/>
        </p:nvSpPr>
        <p:spPr>
          <a:xfrm>
            <a:off x="4572000" y="1523880"/>
            <a:ext cx="0" cy="365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320560" y="5124600"/>
            <a:ext cx="1035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x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ireless</a:t>
            </a:r>
            <a:endParaRPr b="0" lang="en-US" sz="1600" spc="-1" strike="noStrike">
              <a:solidFill>
                <a:srgbClr val="000000"/>
              </a:solidFill>
              <a:latin typeface="Times New Roman"/>
            </a:endParaRPr>
          </a:p>
        </p:txBody>
      </p:sp>
      <p:sp>
        <p:nvSpPr>
          <p:cNvPr id="922" name=""/>
          <p:cNvSpPr/>
          <p:nvPr/>
        </p:nvSpPr>
        <p:spPr>
          <a:xfrm>
            <a:off x="5630400" y="504828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dica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M/FR</a:t>
            </a:r>
            <a:endParaRPr b="0" lang="en-US" sz="1600" spc="-1" strike="noStrike">
              <a:solidFill>
                <a:srgbClr val="000000"/>
              </a:solidFill>
              <a:latin typeface="Times New Roman"/>
            </a:endParaRPr>
          </a:p>
        </p:txBody>
      </p:sp>
      <p:sp>
        <p:nvSpPr>
          <p:cNvPr id="923" name=""/>
          <p:cNvSpPr/>
          <p:nvPr/>
        </p:nvSpPr>
        <p:spPr>
          <a:xfrm>
            <a:off x="1332000" y="3782880"/>
            <a:ext cx="6465960" cy="533520"/>
          </a:xfrm>
          <a:prstGeom prst="rect">
            <a:avLst/>
          </a:prstGeom>
          <a:gradFill rotWithShape="0">
            <a:gsLst>
              <a:gs pos="0">
                <a:srgbClr val="5e5e75"/>
              </a:gs>
              <a:gs pos="100000">
                <a:srgbClr val="ccccff"/>
              </a:gs>
            </a:gsLst>
            <a:lin ang="13500000"/>
          </a:gra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377360" y="3905280"/>
            <a:ext cx="6290280" cy="3164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ly available, scalable, performance network at Layer 2/3</a:t>
            </a:r>
            <a:endParaRPr b="0" lang="en-US" sz="1600" spc="-1" strike="noStrike">
              <a:solidFill>
                <a:srgbClr val="000000"/>
              </a:solidFill>
              <a:latin typeface="Times New Roman"/>
            </a:endParaRPr>
          </a:p>
        </p:txBody>
      </p:sp>
      <p:sp>
        <p:nvSpPr>
          <p:cNvPr id="925" name=""/>
          <p:cNvSpPr/>
          <p:nvPr/>
        </p:nvSpPr>
        <p:spPr>
          <a:xfrm>
            <a:off x="1346040" y="2133720"/>
            <a:ext cx="6470640" cy="1636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446120" y="2995560"/>
            <a:ext cx="6243840" cy="592200"/>
          </a:xfrm>
          <a:prstGeom prst="rect">
            <a:avLst/>
          </a:prstGeom>
          <a:gradFill rotWithShape="0">
            <a:gsLst>
              <a:gs pos="0">
                <a:srgbClr val="371000"/>
              </a:gs>
              <a:gs pos="50000">
                <a:srgbClr val="bc3700"/>
              </a:gs>
              <a:gs pos="100000">
                <a:srgbClr val="371000"/>
              </a:gs>
            </a:gsLst>
            <a:lin ang="13500000"/>
          </a:gra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49120" y="3094200"/>
            <a:ext cx="3045600" cy="3164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elligent Network Services</a:t>
            </a:r>
            <a:endParaRPr b="0" lang="en-US" sz="1600" spc="-1" strike="noStrike">
              <a:solidFill>
                <a:srgbClr val="000000"/>
              </a:solidFill>
              <a:latin typeface="Times New Roman"/>
            </a:endParaRPr>
          </a:p>
        </p:txBody>
      </p:sp>
      <p:sp>
        <p:nvSpPr>
          <p:cNvPr id="928" name=""/>
          <p:cNvSpPr/>
          <p:nvPr/>
        </p:nvSpPr>
        <p:spPr>
          <a:xfrm>
            <a:off x="1442880" y="2316240"/>
            <a:ext cx="6243840" cy="592200"/>
          </a:xfrm>
          <a:prstGeom prst="rect">
            <a:avLst/>
          </a:prstGeom>
          <a:gradFill rotWithShape="0">
            <a:gsLst>
              <a:gs pos="0">
                <a:srgbClr val="371000"/>
              </a:gs>
              <a:gs pos="50000">
                <a:srgbClr val="bc3700"/>
              </a:gs>
              <a:gs pos="100000">
                <a:srgbClr val="371000"/>
              </a:gs>
            </a:gsLst>
            <a:lin ang="13500000"/>
          </a:gra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372320" y="2338560"/>
            <a:ext cx="2294280" cy="51084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ent Distribution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mp; Management</a:t>
            </a:r>
            <a:endParaRPr b="0" lang="en-US" sz="1600" spc="-1" strike="noStrike">
              <a:solidFill>
                <a:srgbClr val="000000"/>
              </a:solidFill>
              <a:latin typeface="Times New Roman"/>
            </a:endParaRPr>
          </a:p>
        </p:txBody>
      </p:sp>
      <p:sp>
        <p:nvSpPr>
          <p:cNvPr id="930" name=""/>
          <p:cNvSpPr/>
          <p:nvPr/>
        </p:nvSpPr>
        <p:spPr>
          <a:xfrm>
            <a:off x="3732840" y="2328840"/>
            <a:ext cx="963720" cy="51084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outing</a:t>
            </a:r>
            <a:endParaRPr b="0" lang="en-US" sz="1600" spc="-1" strike="noStrike">
              <a:solidFill>
                <a:srgbClr val="000000"/>
              </a:solidFill>
              <a:latin typeface="Times New Roman"/>
            </a:endParaRPr>
          </a:p>
        </p:txBody>
      </p:sp>
      <p:sp>
        <p:nvSpPr>
          <p:cNvPr id="931" name=""/>
          <p:cNvSpPr/>
          <p:nvPr/>
        </p:nvSpPr>
        <p:spPr>
          <a:xfrm>
            <a:off x="4959360" y="2335320"/>
            <a:ext cx="1173240" cy="51084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witching</a:t>
            </a:r>
            <a:endParaRPr b="0" lang="en-US" sz="1600" spc="-1" strike="noStrike">
              <a:solidFill>
                <a:srgbClr val="000000"/>
              </a:solidFill>
              <a:latin typeface="Times New Roman"/>
            </a:endParaRPr>
          </a:p>
        </p:txBody>
      </p:sp>
      <p:sp>
        <p:nvSpPr>
          <p:cNvPr id="932" name=""/>
          <p:cNvSpPr/>
          <p:nvPr/>
        </p:nvSpPr>
        <p:spPr>
          <a:xfrm>
            <a:off x="6179400" y="2320920"/>
            <a:ext cx="1539720" cy="51084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ent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dge-Delivery</a:t>
            </a:r>
            <a:endParaRPr b="0" lang="en-US" sz="1600" spc="-1" strike="noStrike">
              <a:solidFill>
                <a:srgbClr val="000000"/>
              </a:solidFill>
              <a:latin typeface="Times New Roman"/>
            </a:endParaRPr>
          </a:p>
        </p:txBody>
      </p:sp>
      <p:sp>
        <p:nvSpPr>
          <p:cNvPr id="933" name=""/>
          <p:cNvSpPr/>
          <p:nvPr/>
        </p:nvSpPr>
        <p:spPr>
          <a:xfrm>
            <a:off x="3610080" y="2300400"/>
            <a:ext cx="0" cy="64764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161040" y="2301840"/>
            <a:ext cx="0" cy="60480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863960" y="2313000"/>
            <a:ext cx="0" cy="60624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6" name=""/>
          <p:cNvGrpSpPr/>
          <p:nvPr/>
        </p:nvGrpSpPr>
        <p:grpSpPr>
          <a:xfrm>
            <a:off x="1417680" y="4491000"/>
            <a:ext cx="708120" cy="574560"/>
            <a:chOff x="1417680" y="4491000"/>
            <a:chExt cx="708120" cy="574560"/>
          </a:xfrm>
        </p:grpSpPr>
        <p:sp>
          <p:nvSpPr>
            <p:cNvPr id="937" name=""/>
            <p:cNvSpPr/>
            <p:nvPr/>
          </p:nvSpPr>
          <p:spPr>
            <a:xfrm>
              <a:off x="1417680" y="4525920"/>
              <a:ext cx="708120" cy="53964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8" name="" descr=""/>
            <p:cNvPicPr/>
            <p:nvPr/>
          </p:nvPicPr>
          <p:blipFill>
            <a:blip r:embed="rId1"/>
            <a:stretch/>
          </p:blipFill>
          <p:spPr>
            <a:xfrm>
              <a:off x="1552680" y="4491000"/>
              <a:ext cx="412920" cy="496800"/>
            </a:xfrm>
            <a:prstGeom prst="rect">
              <a:avLst/>
            </a:prstGeom>
            <a:ln w="0">
              <a:noFill/>
            </a:ln>
          </p:spPr>
        </p:pic>
      </p:grpSp>
      <p:grpSp>
        <p:nvGrpSpPr>
          <p:cNvPr id="939" name=""/>
          <p:cNvGrpSpPr/>
          <p:nvPr/>
        </p:nvGrpSpPr>
        <p:grpSpPr>
          <a:xfrm>
            <a:off x="2425680" y="4477680"/>
            <a:ext cx="826560" cy="568800"/>
            <a:chOff x="2425680" y="4477680"/>
            <a:chExt cx="826560" cy="568800"/>
          </a:xfrm>
        </p:grpSpPr>
        <p:sp>
          <p:nvSpPr>
            <p:cNvPr id="940" name=""/>
            <p:cNvSpPr/>
            <p:nvPr/>
          </p:nvSpPr>
          <p:spPr>
            <a:xfrm>
              <a:off x="2425680" y="4506840"/>
              <a:ext cx="809640" cy="53964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1" name="" descr=""/>
            <p:cNvPicPr/>
            <p:nvPr/>
          </p:nvPicPr>
          <p:blipFill>
            <a:blip r:embed="rId2"/>
            <a:stretch/>
          </p:blipFill>
          <p:spPr>
            <a:xfrm>
              <a:off x="2517480" y="4647960"/>
              <a:ext cx="462240" cy="341280"/>
            </a:xfrm>
            <a:prstGeom prst="rect">
              <a:avLst/>
            </a:prstGeom>
            <a:ln w="0">
              <a:noFill/>
            </a:ln>
          </p:spPr>
        </p:pic>
        <p:grpSp>
          <p:nvGrpSpPr>
            <p:cNvPr id="942" name=""/>
            <p:cNvGrpSpPr/>
            <p:nvPr/>
          </p:nvGrpSpPr>
          <p:grpSpPr>
            <a:xfrm>
              <a:off x="2844360" y="4477680"/>
              <a:ext cx="407880" cy="334800"/>
              <a:chOff x="2844360" y="4477680"/>
              <a:chExt cx="407880" cy="334800"/>
            </a:xfrm>
          </p:grpSpPr>
          <p:grpSp>
            <p:nvGrpSpPr>
              <p:cNvPr id="943" name=""/>
              <p:cNvGrpSpPr/>
              <p:nvPr/>
            </p:nvGrpSpPr>
            <p:grpSpPr>
              <a:xfrm>
                <a:off x="2956320" y="4705560"/>
                <a:ext cx="75960" cy="69840"/>
                <a:chOff x="2956320" y="4705560"/>
                <a:chExt cx="75960" cy="69840"/>
              </a:xfrm>
            </p:grpSpPr>
            <p:sp>
              <p:nvSpPr>
                <p:cNvPr id="944" name=""/>
                <p:cNvSpPr/>
                <p:nvPr/>
              </p:nvSpPr>
              <p:spPr>
                <a:xfrm rot="1818000">
                  <a:off x="2956680" y="4740480"/>
                  <a:ext cx="64080" cy="20160"/>
                </a:xfrm>
                <a:prstGeom prst="ellipse">
                  <a:avLst/>
                </a:prstGeom>
                <a:solidFill>
                  <a:srgbClr val="93936c"/>
                </a:solidFill>
                <a:ln w="1440">
                  <a:solidFill>
                    <a:srgbClr val="494936"/>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5" name=""/>
                <p:cNvSpPr/>
                <p:nvPr/>
              </p:nvSpPr>
              <p:spPr>
                <a:xfrm rot="1818000">
                  <a:off x="2965680" y="4718880"/>
                  <a:ext cx="62640" cy="31680"/>
                </a:xfrm>
                <a:prstGeom prst="rect">
                  <a:avLst/>
                </a:prstGeom>
                <a:solidFill>
                  <a:srgbClr val="93936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6" name=""/>
                <p:cNvSpPr/>
                <p:nvPr/>
              </p:nvSpPr>
              <p:spPr>
                <a:xfrm rot="1818000">
                  <a:off x="2965680" y="4718880"/>
                  <a:ext cx="62640" cy="31680"/>
                </a:xfrm>
                <a:prstGeom prst="rect">
                  <a:avLst/>
                </a:prstGeom>
                <a:solidFill>
                  <a:srgbClr val="93936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7" name=""/>
                <p:cNvSpPr/>
                <p:nvPr/>
              </p:nvSpPr>
              <p:spPr>
                <a:xfrm flipV="1">
                  <a:off x="2962800" y="4713840"/>
                  <a:ext cx="11880" cy="18360"/>
                </a:xfrm>
                <a:prstGeom prst="line">
                  <a:avLst/>
                </a:prstGeom>
                <a:ln w="1440">
                  <a:solidFill>
                    <a:srgbClr val="494936"/>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48" name=""/>
                <p:cNvSpPr/>
                <p:nvPr/>
              </p:nvSpPr>
              <p:spPr>
                <a:xfrm flipV="1">
                  <a:off x="3016800" y="4743360"/>
                  <a:ext cx="12960" cy="20520"/>
                </a:xfrm>
                <a:prstGeom prst="line">
                  <a:avLst/>
                </a:prstGeom>
                <a:ln w="1440">
                  <a:solidFill>
                    <a:srgbClr val="49493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49" name=""/>
              <p:cNvGrpSpPr/>
              <p:nvPr/>
            </p:nvGrpSpPr>
            <p:grpSpPr>
              <a:xfrm>
                <a:off x="2955960" y="4670640"/>
                <a:ext cx="105120" cy="90720"/>
                <a:chOff x="2955960" y="4670640"/>
                <a:chExt cx="105120" cy="90720"/>
              </a:xfrm>
            </p:grpSpPr>
            <p:sp>
              <p:nvSpPr>
                <p:cNvPr id="950" name=""/>
                <p:cNvSpPr/>
                <p:nvPr/>
              </p:nvSpPr>
              <p:spPr>
                <a:xfrm rot="1818000">
                  <a:off x="2957040" y="4707360"/>
                  <a:ext cx="96480" cy="31680"/>
                </a:xfrm>
                <a:prstGeom prst="ellipse">
                  <a:avLst/>
                </a:prstGeom>
                <a:solidFill>
                  <a:srgbClr val="a5a585"/>
                </a:solidFill>
                <a:ln w="1440">
                  <a:solidFill>
                    <a:srgbClr val="494936"/>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1" name=""/>
                <p:cNvSpPr/>
                <p:nvPr/>
              </p:nvSpPr>
              <p:spPr>
                <a:xfrm rot="1818000">
                  <a:off x="2964960" y="4691880"/>
                  <a:ext cx="93960" cy="33120"/>
                </a:xfrm>
                <a:prstGeom prst="rect">
                  <a:avLst/>
                </a:prstGeom>
                <a:solidFill>
                  <a:srgbClr val="a5a58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2" name=""/>
                <p:cNvSpPr/>
                <p:nvPr/>
              </p:nvSpPr>
              <p:spPr>
                <a:xfrm rot="1818000">
                  <a:off x="2964960" y="4691880"/>
                  <a:ext cx="93960" cy="33120"/>
                </a:xfrm>
                <a:prstGeom prst="rect">
                  <a:avLst/>
                </a:prstGeom>
                <a:solidFill>
                  <a:srgbClr val="a5a58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3" name=""/>
                <p:cNvSpPr/>
                <p:nvPr/>
              </p:nvSpPr>
              <p:spPr>
                <a:xfrm flipV="1">
                  <a:off x="2963880" y="4684320"/>
                  <a:ext cx="9000" cy="14400"/>
                </a:xfrm>
                <a:prstGeom prst="line">
                  <a:avLst/>
                </a:prstGeom>
                <a:ln w="1440">
                  <a:solidFill>
                    <a:srgbClr val="494936"/>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4" name=""/>
                <p:cNvSpPr/>
                <p:nvPr/>
              </p:nvSpPr>
              <p:spPr>
                <a:xfrm flipV="1">
                  <a:off x="3044880" y="4731840"/>
                  <a:ext cx="9360" cy="14040"/>
                </a:xfrm>
                <a:prstGeom prst="line">
                  <a:avLst/>
                </a:prstGeom>
                <a:ln w="1440">
                  <a:solidFill>
                    <a:srgbClr val="494936"/>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955" name=""/>
              <p:cNvSpPr/>
              <p:nvPr/>
            </p:nvSpPr>
            <p:spPr>
              <a:xfrm rot="1818000">
                <a:off x="2861640" y="4560120"/>
                <a:ext cx="373320" cy="169560"/>
              </a:xfrm>
              <a:custGeom>
                <a:avLst/>
                <a:gdLst/>
                <a:ahLst/>
                <a:rect l="l" t="t" r="r" b="b"/>
                <a:pathLst>
                  <a:path stroke="0" w="21600" h="21600">
                    <a:moveTo>
                      <a:pt x="21578" y="10110"/>
                    </a:moveTo>
                    <a:arcTo wR="10800" hR="10800" stAng="-219890" swAng="11281997"/>
                    <a:lnTo>
                      <a:pt x="10800" y="10800"/>
                    </a:lnTo>
                    <a:close/>
                  </a:path>
                  <a:path fill="none" w="21600" h="21600">
                    <a:moveTo>
                      <a:pt x="21578" y="10110"/>
                    </a:moveTo>
                    <a:arcTo wR="10800" hR="10800" stAng="-219890" swAng="11281997"/>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rot="1818000">
                <a:off x="2861640" y="4560120"/>
                <a:ext cx="373320" cy="169560"/>
              </a:xfrm>
              <a:custGeom>
                <a:avLst/>
                <a:gdLst/>
                <a:ahLst/>
                <a:rect l="l" t="t" r="r" b="b"/>
                <a:pathLst>
                  <a:path stroke="0" w="21600" h="21600">
                    <a:moveTo>
                      <a:pt x="21578" y="10110"/>
                    </a:moveTo>
                    <a:arcTo wR="10800" hR="10800" stAng="-219890" swAng="11281997"/>
                    <a:lnTo>
                      <a:pt x="10800" y="10800"/>
                    </a:lnTo>
                    <a:close/>
                  </a:path>
                  <a:path fill="none" w="21600" h="21600">
                    <a:moveTo>
                      <a:pt x="21578" y="10110"/>
                    </a:moveTo>
                    <a:arcTo wR="10800" hR="10800" stAng="-219890" swAng="11281997"/>
                  </a:path>
                </a:pathLst>
              </a:custGeom>
              <a:solidFill>
                <a:srgbClr val="a5a585"/>
              </a:solidFill>
              <a:ln w="14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rot="1818000">
                <a:off x="2863800" y="4608360"/>
                <a:ext cx="376200" cy="65880"/>
              </a:xfrm>
              <a:prstGeom prst="ellipse">
                <a:avLst/>
              </a:prstGeom>
              <a:solidFill>
                <a:srgbClr val="c9c9b6"/>
              </a:solidFill>
              <a:ln w="1440">
                <a:solidFill>
                  <a:srgbClr val="49493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58" name=""/>
              <p:cNvSpPr/>
              <p:nvPr/>
            </p:nvSpPr>
            <p:spPr>
              <a:xfrm>
                <a:off x="3090240" y="4573800"/>
                <a:ext cx="121680" cy="159840"/>
              </a:xfrm>
              <a:prstGeom prst="line">
                <a:avLst/>
              </a:prstGeom>
              <a:ln w="6480">
                <a:solidFill>
                  <a:srgbClr val="93936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rot="1818000">
                <a:off x="3061080" y="4548240"/>
                <a:ext cx="12240" cy="127800"/>
              </a:xfrm>
              <a:custGeom>
                <a:avLst/>
                <a:gdLst/>
                <a:ahLst/>
                <a:rect l="l" t="t" r="r" b="b"/>
                <a:pathLst>
                  <a:path w="11" h="120">
                    <a:moveTo>
                      <a:pt x="6" y="0"/>
                    </a:moveTo>
                    <a:lnTo>
                      <a:pt x="0" y="120"/>
                    </a:lnTo>
                    <a:lnTo>
                      <a:pt x="11" y="120"/>
                    </a:lnTo>
                    <a:lnTo>
                      <a:pt x="6" y="0"/>
                    </a:lnTo>
                    <a:close/>
                  </a:path>
                </a:pathLst>
              </a:cu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rot="1818000">
                <a:off x="3061080" y="4548240"/>
                <a:ext cx="12240" cy="127800"/>
              </a:xfrm>
              <a:custGeom>
                <a:avLst/>
                <a:gdLst/>
                <a:ahLst/>
                <a:rect l="l" t="t" r="r" b="b"/>
                <a:pathLst>
                  <a:path w="11" h="120">
                    <a:moveTo>
                      <a:pt x="6" y="0"/>
                    </a:moveTo>
                    <a:lnTo>
                      <a:pt x="0" y="120"/>
                    </a:lnTo>
                    <a:lnTo>
                      <a:pt x="11" y="120"/>
                    </a:lnTo>
                    <a:lnTo>
                      <a:pt x="6" y="0"/>
                    </a:lnTo>
                    <a:close/>
                  </a:path>
                </a:pathLst>
              </a:custGeom>
              <a:solidFill>
                <a:srgbClr val="b7b79d"/>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rot="1818000">
                <a:off x="3069360" y="4582440"/>
                <a:ext cx="27000" cy="11520"/>
              </a:xfrm>
              <a:prstGeom prst="ellipse">
                <a:avLst/>
              </a:prstGeom>
              <a:solidFill>
                <a:srgbClr val="b7b79d"/>
              </a:solidFill>
              <a:ln w="1440">
                <a:solidFill>
                  <a:srgbClr val="494936"/>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2" name=""/>
              <p:cNvSpPr/>
              <p:nvPr/>
            </p:nvSpPr>
            <p:spPr>
              <a:xfrm rot="1818000">
                <a:off x="2940120" y="4565520"/>
                <a:ext cx="65160" cy="56520"/>
              </a:xfrm>
              <a:custGeom>
                <a:avLst/>
                <a:gdLst/>
                <a:ahLst/>
                <a:rect l="l" t="t" r="r" b="b"/>
                <a:pathLst>
                  <a:path w="58" h="53">
                    <a:moveTo>
                      <a:pt x="34" y="52"/>
                    </a:moveTo>
                    <a:lnTo>
                      <a:pt x="0" y="4"/>
                    </a:lnTo>
                    <a:lnTo>
                      <a:pt x="13" y="3"/>
                    </a:lnTo>
                    <a:lnTo>
                      <a:pt x="22" y="1"/>
                    </a:lnTo>
                    <a:lnTo>
                      <a:pt x="31" y="1"/>
                    </a:lnTo>
                    <a:lnTo>
                      <a:pt x="41" y="0"/>
                    </a:lnTo>
                    <a:lnTo>
                      <a:pt x="58" y="53"/>
                    </a:lnTo>
                    <a:lnTo>
                      <a:pt x="45" y="53"/>
                    </a:lnTo>
                    <a:lnTo>
                      <a:pt x="34" y="52"/>
                    </a:lnTo>
                    <a:close/>
                  </a:path>
                </a:pathLst>
              </a:custGeom>
              <a:solidFill>
                <a:srgbClr val="b7b79d"/>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3" name=""/>
              <p:cNvSpPr/>
              <p:nvPr/>
            </p:nvSpPr>
            <p:spPr>
              <a:xfrm rot="1818000">
                <a:off x="2940120" y="4565520"/>
                <a:ext cx="65160" cy="56520"/>
              </a:xfrm>
              <a:custGeom>
                <a:avLst/>
                <a:gdLst/>
                <a:ahLst/>
                <a:rect l="l" t="t" r="r" b="b"/>
                <a:pathLst>
                  <a:path w="58" h="53">
                    <a:moveTo>
                      <a:pt x="34" y="52"/>
                    </a:moveTo>
                    <a:lnTo>
                      <a:pt x="0" y="4"/>
                    </a:lnTo>
                    <a:lnTo>
                      <a:pt x="13" y="3"/>
                    </a:lnTo>
                    <a:lnTo>
                      <a:pt x="22" y="1"/>
                    </a:lnTo>
                    <a:lnTo>
                      <a:pt x="31" y="1"/>
                    </a:lnTo>
                    <a:lnTo>
                      <a:pt x="41" y="0"/>
                    </a:lnTo>
                    <a:lnTo>
                      <a:pt x="58" y="53"/>
                    </a:lnTo>
                    <a:lnTo>
                      <a:pt x="45" y="53"/>
                    </a:lnTo>
                    <a:lnTo>
                      <a:pt x="34" y="52"/>
                    </a:lnTo>
                    <a:close/>
                  </a:path>
                </a:pathLst>
              </a:custGeom>
              <a:solidFill>
                <a:srgbClr val="b7b79d"/>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4" name=""/>
              <p:cNvSpPr/>
              <p:nvPr/>
            </p:nvSpPr>
            <p:spPr>
              <a:xfrm flipH="1" flipV="1">
                <a:off x="2892240" y="4546800"/>
                <a:ext cx="199080" cy="27360"/>
              </a:xfrm>
              <a:prstGeom prst="line">
                <a:avLst/>
              </a:prstGeom>
              <a:ln w="6480">
                <a:solidFill>
                  <a:srgbClr val="93936c"/>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pic>
        <p:nvPicPr>
          <p:cNvPr id="965" name="" descr=""/>
          <p:cNvPicPr/>
          <p:nvPr/>
        </p:nvPicPr>
        <p:blipFill>
          <a:blip r:embed="rId3"/>
          <a:srcRect l="0" t="0" r="0" b="6109"/>
          <a:stretch/>
        </p:blipFill>
        <p:spPr>
          <a:xfrm>
            <a:off x="3611520" y="4538520"/>
            <a:ext cx="712800" cy="465120"/>
          </a:xfrm>
          <a:prstGeom prst="rect">
            <a:avLst/>
          </a:prstGeom>
          <a:ln w="28440">
            <a:solidFill>
              <a:srgbClr val="00b6e8"/>
            </a:solidFill>
            <a:miter/>
          </a:ln>
        </p:spPr>
      </p:pic>
      <p:grpSp>
        <p:nvGrpSpPr>
          <p:cNvPr id="966" name=""/>
          <p:cNvGrpSpPr/>
          <p:nvPr/>
        </p:nvGrpSpPr>
        <p:grpSpPr>
          <a:xfrm>
            <a:off x="4767120" y="4546440"/>
            <a:ext cx="709560" cy="455760"/>
            <a:chOff x="4767120" y="4546440"/>
            <a:chExt cx="709560" cy="455760"/>
          </a:xfrm>
        </p:grpSpPr>
        <p:sp>
          <p:nvSpPr>
            <p:cNvPr id="967" name=""/>
            <p:cNvSpPr/>
            <p:nvPr/>
          </p:nvSpPr>
          <p:spPr>
            <a:xfrm>
              <a:off x="4767120" y="4546440"/>
              <a:ext cx="709560" cy="45576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8" name="EndUser" descr=""/>
            <p:cNvPicPr/>
            <p:nvPr/>
          </p:nvPicPr>
          <p:blipFill>
            <a:blip r:embed="rId4"/>
            <a:stretch/>
          </p:blipFill>
          <p:spPr>
            <a:xfrm>
              <a:off x="4984560" y="4572000"/>
              <a:ext cx="317520" cy="426960"/>
            </a:xfrm>
            <a:prstGeom prst="rect">
              <a:avLst/>
            </a:prstGeom>
            <a:ln w="0">
              <a:noFill/>
            </a:ln>
          </p:spPr>
        </p:pic>
      </p:grpSp>
      <p:grpSp>
        <p:nvGrpSpPr>
          <p:cNvPr id="969" name=""/>
          <p:cNvGrpSpPr/>
          <p:nvPr/>
        </p:nvGrpSpPr>
        <p:grpSpPr>
          <a:xfrm>
            <a:off x="5877000" y="4556160"/>
            <a:ext cx="709560" cy="455400"/>
            <a:chOff x="5877000" y="4556160"/>
            <a:chExt cx="709560" cy="455400"/>
          </a:xfrm>
        </p:grpSpPr>
        <p:sp>
          <p:nvSpPr>
            <p:cNvPr id="970" name=""/>
            <p:cNvSpPr/>
            <p:nvPr/>
          </p:nvSpPr>
          <p:spPr>
            <a:xfrm>
              <a:off x="5877000" y="4556160"/>
              <a:ext cx="709560" cy="45540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5"/>
            <a:stretch/>
          </p:blipFill>
          <p:spPr>
            <a:xfrm>
              <a:off x="5992920" y="4613400"/>
              <a:ext cx="477720" cy="352440"/>
            </a:xfrm>
            <a:prstGeom prst="rect">
              <a:avLst/>
            </a:prstGeom>
            <a:ln w="0">
              <a:noFill/>
            </a:ln>
          </p:spPr>
        </p:pic>
      </p:grpSp>
      <p:grpSp>
        <p:nvGrpSpPr>
          <p:cNvPr id="972" name=""/>
          <p:cNvGrpSpPr/>
          <p:nvPr/>
        </p:nvGrpSpPr>
        <p:grpSpPr>
          <a:xfrm>
            <a:off x="6989760" y="4613400"/>
            <a:ext cx="709200" cy="345960"/>
            <a:chOff x="6989760" y="4613400"/>
            <a:chExt cx="709200" cy="345960"/>
          </a:xfrm>
        </p:grpSpPr>
        <p:sp>
          <p:nvSpPr>
            <p:cNvPr id="973" name=""/>
            <p:cNvSpPr/>
            <p:nvPr/>
          </p:nvSpPr>
          <p:spPr>
            <a:xfrm>
              <a:off x="6989760" y="4613400"/>
              <a:ext cx="707760" cy="33804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4" name=""/>
            <p:cNvGrpSpPr/>
            <p:nvPr/>
          </p:nvGrpSpPr>
          <p:grpSpPr>
            <a:xfrm>
              <a:off x="6992640" y="4638600"/>
              <a:ext cx="706320" cy="320760"/>
              <a:chOff x="6992640" y="4638600"/>
              <a:chExt cx="706320" cy="320760"/>
            </a:xfrm>
          </p:grpSpPr>
          <p:sp>
            <p:nvSpPr>
              <p:cNvPr id="975" name=""/>
              <p:cNvSpPr/>
              <p:nvPr/>
            </p:nvSpPr>
            <p:spPr>
              <a:xfrm>
                <a:off x="7229880" y="4699080"/>
                <a:ext cx="145080" cy="114120"/>
              </a:xfrm>
              <a:custGeom>
                <a:avLst/>
                <a:gdLst/>
                <a:ahLst/>
                <a:rect l="l" t="t" r="r" b="b"/>
                <a:pathLst>
                  <a:path w="89" h="100">
                    <a:moveTo>
                      <a:pt x="39" y="36"/>
                    </a:moveTo>
                    <a:lnTo>
                      <a:pt x="37" y="39"/>
                    </a:lnTo>
                    <a:lnTo>
                      <a:pt x="36" y="39"/>
                    </a:lnTo>
                    <a:lnTo>
                      <a:pt x="34" y="40"/>
                    </a:lnTo>
                    <a:lnTo>
                      <a:pt x="33" y="41"/>
                    </a:lnTo>
                    <a:lnTo>
                      <a:pt x="30" y="41"/>
                    </a:lnTo>
                    <a:lnTo>
                      <a:pt x="28" y="43"/>
                    </a:lnTo>
                    <a:lnTo>
                      <a:pt x="26" y="43"/>
                    </a:lnTo>
                    <a:lnTo>
                      <a:pt x="23" y="43"/>
                    </a:lnTo>
                    <a:lnTo>
                      <a:pt x="23" y="45"/>
                    </a:lnTo>
                    <a:lnTo>
                      <a:pt x="22" y="45"/>
                    </a:lnTo>
                    <a:lnTo>
                      <a:pt x="19" y="45"/>
                    </a:lnTo>
                    <a:lnTo>
                      <a:pt x="18" y="46"/>
                    </a:lnTo>
                    <a:lnTo>
                      <a:pt x="17" y="48"/>
                    </a:lnTo>
                    <a:lnTo>
                      <a:pt x="15" y="50"/>
                    </a:lnTo>
                    <a:lnTo>
                      <a:pt x="15" y="53"/>
                    </a:lnTo>
                    <a:lnTo>
                      <a:pt x="13" y="58"/>
                    </a:lnTo>
                    <a:lnTo>
                      <a:pt x="10" y="65"/>
                    </a:lnTo>
                    <a:lnTo>
                      <a:pt x="7" y="71"/>
                    </a:lnTo>
                    <a:lnTo>
                      <a:pt x="6" y="76"/>
                    </a:lnTo>
                    <a:lnTo>
                      <a:pt x="4" y="84"/>
                    </a:lnTo>
                    <a:lnTo>
                      <a:pt x="1" y="88"/>
                    </a:lnTo>
                    <a:lnTo>
                      <a:pt x="0" y="90"/>
                    </a:lnTo>
                    <a:lnTo>
                      <a:pt x="0" y="92"/>
                    </a:lnTo>
                    <a:lnTo>
                      <a:pt x="0" y="94"/>
                    </a:lnTo>
                    <a:lnTo>
                      <a:pt x="0" y="95"/>
                    </a:lnTo>
                    <a:lnTo>
                      <a:pt x="1" y="97"/>
                    </a:lnTo>
                    <a:lnTo>
                      <a:pt x="4" y="99"/>
                    </a:lnTo>
                    <a:lnTo>
                      <a:pt x="5" y="99"/>
                    </a:lnTo>
                    <a:lnTo>
                      <a:pt x="6" y="99"/>
                    </a:lnTo>
                    <a:lnTo>
                      <a:pt x="6" y="97"/>
                    </a:lnTo>
                    <a:lnTo>
                      <a:pt x="7" y="97"/>
                    </a:lnTo>
                    <a:lnTo>
                      <a:pt x="10" y="97"/>
                    </a:lnTo>
                    <a:lnTo>
                      <a:pt x="12" y="97"/>
                    </a:lnTo>
                    <a:lnTo>
                      <a:pt x="13" y="97"/>
                    </a:lnTo>
                    <a:lnTo>
                      <a:pt x="15" y="97"/>
                    </a:lnTo>
                    <a:lnTo>
                      <a:pt x="18" y="97"/>
                    </a:lnTo>
                    <a:lnTo>
                      <a:pt x="19" y="97"/>
                    </a:lnTo>
                    <a:lnTo>
                      <a:pt x="23" y="95"/>
                    </a:lnTo>
                    <a:lnTo>
                      <a:pt x="26" y="95"/>
                    </a:lnTo>
                    <a:lnTo>
                      <a:pt x="30" y="95"/>
                    </a:lnTo>
                    <a:lnTo>
                      <a:pt x="33" y="95"/>
                    </a:lnTo>
                    <a:lnTo>
                      <a:pt x="36" y="95"/>
                    </a:lnTo>
                    <a:lnTo>
                      <a:pt x="37" y="95"/>
                    </a:lnTo>
                    <a:lnTo>
                      <a:pt x="41" y="95"/>
                    </a:lnTo>
                    <a:lnTo>
                      <a:pt x="44" y="95"/>
                    </a:lnTo>
                    <a:lnTo>
                      <a:pt x="46" y="95"/>
                    </a:lnTo>
                    <a:lnTo>
                      <a:pt x="49" y="95"/>
                    </a:lnTo>
                    <a:lnTo>
                      <a:pt x="52" y="95"/>
                    </a:lnTo>
                    <a:lnTo>
                      <a:pt x="56" y="95"/>
                    </a:lnTo>
                    <a:lnTo>
                      <a:pt x="60" y="95"/>
                    </a:lnTo>
                    <a:lnTo>
                      <a:pt x="62" y="95"/>
                    </a:lnTo>
                    <a:lnTo>
                      <a:pt x="66" y="95"/>
                    </a:lnTo>
                    <a:lnTo>
                      <a:pt x="68" y="95"/>
                    </a:lnTo>
                    <a:lnTo>
                      <a:pt x="71" y="95"/>
                    </a:lnTo>
                    <a:lnTo>
                      <a:pt x="74" y="95"/>
                    </a:lnTo>
                    <a:lnTo>
                      <a:pt x="78" y="95"/>
                    </a:lnTo>
                    <a:lnTo>
                      <a:pt x="81" y="95"/>
                    </a:lnTo>
                    <a:lnTo>
                      <a:pt x="85" y="95"/>
                    </a:lnTo>
                    <a:lnTo>
                      <a:pt x="88" y="95"/>
                    </a:lnTo>
                    <a:lnTo>
                      <a:pt x="81" y="46"/>
                    </a:lnTo>
                    <a:lnTo>
                      <a:pt x="79" y="46"/>
                    </a:lnTo>
                    <a:lnTo>
                      <a:pt x="78" y="46"/>
                    </a:lnTo>
                    <a:lnTo>
                      <a:pt x="76" y="46"/>
                    </a:lnTo>
                    <a:lnTo>
                      <a:pt x="74" y="45"/>
                    </a:lnTo>
                    <a:lnTo>
                      <a:pt x="70" y="43"/>
                    </a:lnTo>
                    <a:lnTo>
                      <a:pt x="68" y="41"/>
                    </a:lnTo>
                    <a:lnTo>
                      <a:pt x="67" y="41"/>
                    </a:lnTo>
                    <a:lnTo>
                      <a:pt x="66" y="40"/>
                    </a:lnTo>
                    <a:lnTo>
                      <a:pt x="64" y="40"/>
                    </a:lnTo>
                    <a:lnTo>
                      <a:pt x="62" y="39"/>
                    </a:lnTo>
                    <a:lnTo>
                      <a:pt x="60" y="36"/>
                    </a:lnTo>
                    <a:lnTo>
                      <a:pt x="58" y="36"/>
                    </a:lnTo>
                    <a:lnTo>
                      <a:pt x="60" y="33"/>
                    </a:lnTo>
                    <a:lnTo>
                      <a:pt x="60" y="30"/>
                    </a:lnTo>
                    <a:lnTo>
                      <a:pt x="60" y="25"/>
                    </a:lnTo>
                    <a:lnTo>
                      <a:pt x="60" y="23"/>
                    </a:lnTo>
                    <a:lnTo>
                      <a:pt x="60" y="21"/>
                    </a:lnTo>
                    <a:lnTo>
                      <a:pt x="62" y="20"/>
                    </a:lnTo>
                    <a:lnTo>
                      <a:pt x="62" y="18"/>
                    </a:lnTo>
                    <a:lnTo>
                      <a:pt x="62" y="16"/>
                    </a:lnTo>
                    <a:lnTo>
                      <a:pt x="62" y="15"/>
                    </a:lnTo>
                    <a:lnTo>
                      <a:pt x="62" y="12"/>
                    </a:lnTo>
                    <a:lnTo>
                      <a:pt x="60" y="7"/>
                    </a:lnTo>
                    <a:lnTo>
                      <a:pt x="58" y="5"/>
                    </a:lnTo>
                    <a:lnTo>
                      <a:pt x="57" y="2"/>
                    </a:lnTo>
                    <a:lnTo>
                      <a:pt x="56" y="1"/>
                    </a:lnTo>
                    <a:lnTo>
                      <a:pt x="52" y="1"/>
                    </a:lnTo>
                    <a:lnTo>
                      <a:pt x="52" y="0"/>
                    </a:lnTo>
                    <a:lnTo>
                      <a:pt x="50" y="0"/>
                    </a:lnTo>
                    <a:lnTo>
                      <a:pt x="49" y="0"/>
                    </a:lnTo>
                    <a:lnTo>
                      <a:pt x="49" y="1"/>
                    </a:lnTo>
                    <a:lnTo>
                      <a:pt x="48" y="1"/>
                    </a:lnTo>
                    <a:lnTo>
                      <a:pt x="46" y="1"/>
                    </a:lnTo>
                    <a:lnTo>
                      <a:pt x="44" y="1"/>
                    </a:lnTo>
                    <a:lnTo>
                      <a:pt x="42" y="1"/>
                    </a:lnTo>
                    <a:lnTo>
                      <a:pt x="41" y="1"/>
                    </a:lnTo>
                    <a:lnTo>
                      <a:pt x="39" y="1"/>
                    </a:lnTo>
                    <a:lnTo>
                      <a:pt x="37" y="1"/>
                    </a:lnTo>
                    <a:lnTo>
                      <a:pt x="36" y="2"/>
                    </a:lnTo>
                    <a:lnTo>
                      <a:pt x="34" y="4"/>
                    </a:lnTo>
                    <a:lnTo>
                      <a:pt x="33" y="5"/>
                    </a:lnTo>
                    <a:lnTo>
                      <a:pt x="33" y="7"/>
                    </a:lnTo>
                    <a:lnTo>
                      <a:pt x="31" y="9"/>
                    </a:lnTo>
                    <a:lnTo>
                      <a:pt x="31" y="11"/>
                    </a:lnTo>
                    <a:lnTo>
                      <a:pt x="31" y="12"/>
                    </a:lnTo>
                    <a:lnTo>
                      <a:pt x="31" y="16"/>
                    </a:lnTo>
                    <a:lnTo>
                      <a:pt x="33" y="20"/>
                    </a:lnTo>
                    <a:lnTo>
                      <a:pt x="33" y="21"/>
                    </a:lnTo>
                    <a:lnTo>
                      <a:pt x="34" y="21"/>
                    </a:lnTo>
                    <a:lnTo>
                      <a:pt x="34" y="23"/>
                    </a:lnTo>
                    <a:lnTo>
                      <a:pt x="34" y="25"/>
                    </a:lnTo>
                    <a:lnTo>
                      <a:pt x="34" y="30"/>
                    </a:lnTo>
                    <a:lnTo>
                      <a:pt x="36" y="31"/>
                    </a:lnTo>
                    <a:lnTo>
                      <a:pt x="37" y="31"/>
                    </a:lnTo>
                    <a:lnTo>
                      <a:pt x="37" y="33"/>
                    </a:lnTo>
                    <a:lnTo>
                      <a:pt x="39" y="33"/>
                    </a:lnTo>
                    <a:lnTo>
                      <a:pt x="39" y="36"/>
                    </a:lnTo>
                  </a:path>
                </a:pathLst>
              </a:custGeom>
              <a:gradFill rotWithShape="0">
                <a:gsLst>
                  <a:gs pos="0">
                    <a:srgbClr val="4e00a1"/>
                  </a:gs>
                  <a:gs pos="100000">
                    <a:srgbClr val="17002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329600" y="4775400"/>
                <a:ext cx="27720" cy="19080"/>
              </a:xfrm>
              <a:custGeom>
                <a:avLst/>
                <a:gdLst/>
                <a:ahLst/>
                <a:rect l="l" t="t" r="r" b="b"/>
                <a:pathLst>
                  <a:path w="17" h="17">
                    <a:moveTo>
                      <a:pt x="0" y="0"/>
                    </a:moveTo>
                    <a:lnTo>
                      <a:pt x="8" y="16"/>
                    </a:lnTo>
                    <a:lnTo>
                      <a:pt x="16" y="0"/>
                    </a:lnTo>
                    <a:lnTo>
                      <a:pt x="0"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7" name=""/>
              <p:cNvSpPr/>
              <p:nvPr/>
            </p:nvSpPr>
            <p:spPr>
              <a:xfrm>
                <a:off x="7290360" y="4702320"/>
                <a:ext cx="35640" cy="87840"/>
              </a:xfrm>
              <a:custGeom>
                <a:avLst/>
                <a:gdLst/>
                <a:ahLst/>
                <a:rect l="l" t="t" r="r" b="b"/>
                <a:pathLst>
                  <a:path w="22" h="77">
                    <a:moveTo>
                      <a:pt x="21" y="10"/>
                    </a:moveTo>
                    <a:lnTo>
                      <a:pt x="21" y="8"/>
                    </a:lnTo>
                    <a:lnTo>
                      <a:pt x="20" y="7"/>
                    </a:lnTo>
                    <a:lnTo>
                      <a:pt x="20" y="4"/>
                    </a:lnTo>
                    <a:lnTo>
                      <a:pt x="19" y="2"/>
                    </a:lnTo>
                    <a:lnTo>
                      <a:pt x="17" y="1"/>
                    </a:lnTo>
                    <a:lnTo>
                      <a:pt x="17" y="0"/>
                    </a:lnTo>
                    <a:lnTo>
                      <a:pt x="15" y="0"/>
                    </a:lnTo>
                    <a:lnTo>
                      <a:pt x="14" y="0"/>
                    </a:lnTo>
                    <a:lnTo>
                      <a:pt x="14" y="1"/>
                    </a:lnTo>
                    <a:lnTo>
                      <a:pt x="13" y="1"/>
                    </a:lnTo>
                    <a:lnTo>
                      <a:pt x="12" y="1"/>
                    </a:lnTo>
                    <a:lnTo>
                      <a:pt x="10" y="0"/>
                    </a:lnTo>
                    <a:lnTo>
                      <a:pt x="8" y="0"/>
                    </a:lnTo>
                    <a:lnTo>
                      <a:pt x="7" y="0"/>
                    </a:lnTo>
                    <a:lnTo>
                      <a:pt x="6" y="1"/>
                    </a:lnTo>
                    <a:lnTo>
                      <a:pt x="4" y="2"/>
                    </a:lnTo>
                    <a:lnTo>
                      <a:pt x="4" y="4"/>
                    </a:lnTo>
                    <a:lnTo>
                      <a:pt x="4" y="6"/>
                    </a:lnTo>
                    <a:lnTo>
                      <a:pt x="4" y="7"/>
                    </a:lnTo>
                    <a:lnTo>
                      <a:pt x="6" y="8"/>
                    </a:lnTo>
                    <a:lnTo>
                      <a:pt x="6" y="10"/>
                    </a:lnTo>
                    <a:lnTo>
                      <a:pt x="6" y="11"/>
                    </a:lnTo>
                    <a:lnTo>
                      <a:pt x="4" y="13"/>
                    </a:lnTo>
                    <a:lnTo>
                      <a:pt x="4" y="15"/>
                    </a:lnTo>
                    <a:lnTo>
                      <a:pt x="4" y="16"/>
                    </a:lnTo>
                    <a:lnTo>
                      <a:pt x="4" y="18"/>
                    </a:lnTo>
                    <a:lnTo>
                      <a:pt x="4" y="20"/>
                    </a:lnTo>
                    <a:lnTo>
                      <a:pt x="2" y="20"/>
                    </a:lnTo>
                    <a:lnTo>
                      <a:pt x="2" y="18"/>
                    </a:lnTo>
                    <a:lnTo>
                      <a:pt x="1" y="18"/>
                    </a:lnTo>
                    <a:lnTo>
                      <a:pt x="0" y="16"/>
                    </a:lnTo>
                    <a:lnTo>
                      <a:pt x="0" y="18"/>
                    </a:lnTo>
                    <a:lnTo>
                      <a:pt x="0" y="21"/>
                    </a:lnTo>
                    <a:lnTo>
                      <a:pt x="0" y="25"/>
                    </a:lnTo>
                    <a:lnTo>
                      <a:pt x="1" y="25"/>
                    </a:lnTo>
                    <a:lnTo>
                      <a:pt x="2" y="25"/>
                    </a:lnTo>
                    <a:lnTo>
                      <a:pt x="2" y="28"/>
                    </a:lnTo>
                    <a:lnTo>
                      <a:pt x="4" y="28"/>
                    </a:lnTo>
                    <a:lnTo>
                      <a:pt x="4" y="31"/>
                    </a:lnTo>
                    <a:lnTo>
                      <a:pt x="4" y="33"/>
                    </a:lnTo>
                    <a:lnTo>
                      <a:pt x="4" y="35"/>
                    </a:lnTo>
                    <a:lnTo>
                      <a:pt x="4" y="36"/>
                    </a:lnTo>
                    <a:lnTo>
                      <a:pt x="4" y="40"/>
                    </a:lnTo>
                    <a:lnTo>
                      <a:pt x="4" y="41"/>
                    </a:lnTo>
                    <a:lnTo>
                      <a:pt x="2" y="45"/>
                    </a:lnTo>
                    <a:lnTo>
                      <a:pt x="2" y="47"/>
                    </a:lnTo>
                    <a:lnTo>
                      <a:pt x="1" y="49"/>
                    </a:lnTo>
                    <a:lnTo>
                      <a:pt x="1" y="57"/>
                    </a:lnTo>
                    <a:lnTo>
                      <a:pt x="2" y="65"/>
                    </a:lnTo>
                    <a:lnTo>
                      <a:pt x="4" y="72"/>
                    </a:lnTo>
                    <a:lnTo>
                      <a:pt x="4" y="76"/>
                    </a:lnTo>
                    <a:lnTo>
                      <a:pt x="8" y="47"/>
                    </a:lnTo>
                    <a:lnTo>
                      <a:pt x="8" y="45"/>
                    </a:lnTo>
                    <a:lnTo>
                      <a:pt x="8" y="41"/>
                    </a:lnTo>
                    <a:lnTo>
                      <a:pt x="12" y="46"/>
                    </a:lnTo>
                    <a:lnTo>
                      <a:pt x="10" y="47"/>
                    </a:lnTo>
                    <a:lnTo>
                      <a:pt x="10" y="76"/>
                    </a:lnTo>
                    <a:lnTo>
                      <a:pt x="10" y="74"/>
                    </a:lnTo>
                    <a:lnTo>
                      <a:pt x="12" y="72"/>
                    </a:lnTo>
                    <a:lnTo>
                      <a:pt x="12" y="68"/>
                    </a:lnTo>
                    <a:lnTo>
                      <a:pt x="13" y="63"/>
                    </a:lnTo>
                    <a:lnTo>
                      <a:pt x="14" y="59"/>
                    </a:lnTo>
                    <a:lnTo>
                      <a:pt x="15" y="52"/>
                    </a:lnTo>
                    <a:lnTo>
                      <a:pt x="17" y="47"/>
                    </a:lnTo>
                    <a:lnTo>
                      <a:pt x="17" y="43"/>
                    </a:lnTo>
                    <a:lnTo>
                      <a:pt x="17" y="40"/>
                    </a:lnTo>
                    <a:lnTo>
                      <a:pt x="17" y="38"/>
                    </a:lnTo>
                    <a:lnTo>
                      <a:pt x="17" y="36"/>
                    </a:lnTo>
                    <a:lnTo>
                      <a:pt x="15" y="36"/>
                    </a:lnTo>
                    <a:lnTo>
                      <a:pt x="14" y="38"/>
                    </a:lnTo>
                    <a:lnTo>
                      <a:pt x="12" y="38"/>
                    </a:lnTo>
                    <a:lnTo>
                      <a:pt x="10" y="38"/>
                    </a:lnTo>
                    <a:lnTo>
                      <a:pt x="8" y="38"/>
                    </a:lnTo>
                    <a:lnTo>
                      <a:pt x="8" y="36"/>
                    </a:lnTo>
                    <a:lnTo>
                      <a:pt x="8" y="35"/>
                    </a:lnTo>
                    <a:lnTo>
                      <a:pt x="8" y="33"/>
                    </a:lnTo>
                    <a:lnTo>
                      <a:pt x="8" y="31"/>
                    </a:lnTo>
                    <a:lnTo>
                      <a:pt x="12" y="33"/>
                    </a:lnTo>
                    <a:lnTo>
                      <a:pt x="13" y="35"/>
                    </a:lnTo>
                    <a:lnTo>
                      <a:pt x="14" y="35"/>
                    </a:lnTo>
                    <a:lnTo>
                      <a:pt x="15" y="33"/>
                    </a:lnTo>
                    <a:lnTo>
                      <a:pt x="15" y="31"/>
                    </a:lnTo>
                    <a:lnTo>
                      <a:pt x="15" y="30"/>
                    </a:lnTo>
                    <a:lnTo>
                      <a:pt x="14" y="30"/>
                    </a:lnTo>
                    <a:lnTo>
                      <a:pt x="14" y="28"/>
                    </a:lnTo>
                    <a:lnTo>
                      <a:pt x="15" y="28"/>
                    </a:lnTo>
                    <a:lnTo>
                      <a:pt x="17" y="28"/>
                    </a:lnTo>
                    <a:lnTo>
                      <a:pt x="17" y="25"/>
                    </a:lnTo>
                    <a:lnTo>
                      <a:pt x="17" y="23"/>
                    </a:lnTo>
                    <a:lnTo>
                      <a:pt x="17" y="20"/>
                    </a:lnTo>
                    <a:lnTo>
                      <a:pt x="17" y="16"/>
                    </a:lnTo>
                    <a:lnTo>
                      <a:pt x="19" y="15"/>
                    </a:lnTo>
                    <a:lnTo>
                      <a:pt x="20" y="15"/>
                    </a:lnTo>
                    <a:lnTo>
                      <a:pt x="21" y="13"/>
                    </a:lnTo>
                    <a:lnTo>
                      <a:pt x="21" y="11"/>
                    </a:lnTo>
                    <a:lnTo>
                      <a:pt x="21" y="10"/>
                    </a:lnTo>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78" name=""/>
              <p:cNvSpPr/>
              <p:nvPr/>
            </p:nvSpPr>
            <p:spPr>
              <a:xfrm>
                <a:off x="7311600" y="4720680"/>
                <a:ext cx="27720" cy="19080"/>
              </a:xfrm>
              <a:custGeom>
                <a:avLst/>
                <a:gdLst/>
                <a:ahLst/>
                <a:rect l="l" t="t" r="r" b="b"/>
                <a:pathLst>
                  <a:path w="17" h="17">
                    <a:moveTo>
                      <a:pt x="16" y="12"/>
                    </a:moveTo>
                    <a:lnTo>
                      <a:pt x="16" y="16"/>
                    </a:lnTo>
                    <a:lnTo>
                      <a:pt x="0" y="16"/>
                    </a:lnTo>
                    <a:lnTo>
                      <a:pt x="0" y="12"/>
                    </a:lnTo>
                    <a:lnTo>
                      <a:pt x="0" y="5"/>
                    </a:lnTo>
                    <a:lnTo>
                      <a:pt x="0" y="0"/>
                    </a:lnTo>
                    <a:lnTo>
                      <a:pt x="16" y="0"/>
                    </a:lnTo>
                    <a:lnTo>
                      <a:pt x="16" y="5"/>
                    </a:lnTo>
                    <a:lnTo>
                      <a:pt x="16"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9" name=""/>
              <p:cNvSpPr/>
              <p:nvPr/>
            </p:nvSpPr>
            <p:spPr>
              <a:xfrm>
                <a:off x="7290360" y="4724280"/>
                <a:ext cx="27720" cy="20160"/>
              </a:xfrm>
              <a:custGeom>
                <a:avLst/>
                <a:gdLst/>
                <a:ahLst/>
                <a:rect l="l" t="t" r="r" b="b"/>
                <a:pathLst>
                  <a:path w="17" h="18">
                    <a:moveTo>
                      <a:pt x="0" y="0"/>
                    </a:moveTo>
                    <a:lnTo>
                      <a:pt x="0" y="2"/>
                    </a:lnTo>
                    <a:lnTo>
                      <a:pt x="0" y="5"/>
                    </a:lnTo>
                    <a:lnTo>
                      <a:pt x="0" y="10"/>
                    </a:lnTo>
                    <a:lnTo>
                      <a:pt x="6" y="11"/>
                    </a:lnTo>
                    <a:lnTo>
                      <a:pt x="8" y="11"/>
                    </a:lnTo>
                    <a:lnTo>
                      <a:pt x="8" y="13"/>
                    </a:lnTo>
                    <a:lnTo>
                      <a:pt x="16" y="14"/>
                    </a:lnTo>
                    <a:lnTo>
                      <a:pt x="16" y="17"/>
                    </a:lnTo>
                  </a:path>
                </a:pathLst>
              </a:custGeom>
              <a:no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80" name=""/>
              <p:cNvSpPr/>
              <p:nvPr/>
            </p:nvSpPr>
            <p:spPr>
              <a:xfrm>
                <a:off x="7108560" y="4816440"/>
                <a:ext cx="528480" cy="142560"/>
              </a:xfrm>
              <a:custGeom>
                <a:avLst/>
                <a:gdLst/>
                <a:ahLst/>
                <a:rect l="l" t="t" r="r" b="b"/>
                <a:pathLst>
                  <a:path w="323" h="125">
                    <a:moveTo>
                      <a:pt x="315" y="124"/>
                    </a:moveTo>
                    <a:lnTo>
                      <a:pt x="317" y="119"/>
                    </a:lnTo>
                    <a:lnTo>
                      <a:pt x="320" y="112"/>
                    </a:lnTo>
                    <a:lnTo>
                      <a:pt x="320" y="105"/>
                    </a:lnTo>
                    <a:lnTo>
                      <a:pt x="322" y="98"/>
                    </a:lnTo>
                    <a:lnTo>
                      <a:pt x="322" y="91"/>
                    </a:lnTo>
                    <a:lnTo>
                      <a:pt x="322" y="84"/>
                    </a:lnTo>
                    <a:lnTo>
                      <a:pt x="320" y="77"/>
                    </a:lnTo>
                    <a:lnTo>
                      <a:pt x="319" y="72"/>
                    </a:lnTo>
                    <a:lnTo>
                      <a:pt x="317" y="69"/>
                    </a:lnTo>
                    <a:lnTo>
                      <a:pt x="315" y="66"/>
                    </a:lnTo>
                    <a:lnTo>
                      <a:pt x="313" y="62"/>
                    </a:lnTo>
                    <a:lnTo>
                      <a:pt x="313" y="59"/>
                    </a:lnTo>
                    <a:lnTo>
                      <a:pt x="310" y="56"/>
                    </a:lnTo>
                    <a:lnTo>
                      <a:pt x="309" y="53"/>
                    </a:lnTo>
                    <a:lnTo>
                      <a:pt x="308" y="50"/>
                    </a:lnTo>
                    <a:lnTo>
                      <a:pt x="306" y="48"/>
                    </a:lnTo>
                    <a:lnTo>
                      <a:pt x="305" y="45"/>
                    </a:lnTo>
                    <a:lnTo>
                      <a:pt x="303" y="43"/>
                    </a:lnTo>
                    <a:lnTo>
                      <a:pt x="299" y="40"/>
                    </a:lnTo>
                    <a:lnTo>
                      <a:pt x="298" y="38"/>
                    </a:lnTo>
                    <a:lnTo>
                      <a:pt x="296" y="37"/>
                    </a:lnTo>
                    <a:lnTo>
                      <a:pt x="293" y="35"/>
                    </a:lnTo>
                    <a:lnTo>
                      <a:pt x="292" y="32"/>
                    </a:lnTo>
                    <a:lnTo>
                      <a:pt x="292" y="31"/>
                    </a:lnTo>
                    <a:lnTo>
                      <a:pt x="289" y="31"/>
                    </a:lnTo>
                    <a:lnTo>
                      <a:pt x="287" y="29"/>
                    </a:lnTo>
                    <a:lnTo>
                      <a:pt x="287" y="28"/>
                    </a:lnTo>
                    <a:lnTo>
                      <a:pt x="284" y="28"/>
                    </a:lnTo>
                    <a:lnTo>
                      <a:pt x="283" y="25"/>
                    </a:lnTo>
                    <a:lnTo>
                      <a:pt x="281" y="25"/>
                    </a:lnTo>
                    <a:lnTo>
                      <a:pt x="280" y="25"/>
                    </a:lnTo>
                    <a:lnTo>
                      <a:pt x="278" y="22"/>
                    </a:lnTo>
                    <a:lnTo>
                      <a:pt x="276" y="22"/>
                    </a:lnTo>
                    <a:lnTo>
                      <a:pt x="275" y="20"/>
                    </a:lnTo>
                    <a:lnTo>
                      <a:pt x="273" y="20"/>
                    </a:lnTo>
                    <a:lnTo>
                      <a:pt x="271" y="19"/>
                    </a:lnTo>
                    <a:lnTo>
                      <a:pt x="270" y="19"/>
                    </a:lnTo>
                    <a:lnTo>
                      <a:pt x="270" y="17"/>
                    </a:lnTo>
                    <a:lnTo>
                      <a:pt x="269" y="17"/>
                    </a:lnTo>
                    <a:lnTo>
                      <a:pt x="267" y="17"/>
                    </a:lnTo>
                    <a:lnTo>
                      <a:pt x="266" y="16"/>
                    </a:lnTo>
                    <a:lnTo>
                      <a:pt x="264" y="16"/>
                    </a:lnTo>
                    <a:lnTo>
                      <a:pt x="262" y="14"/>
                    </a:lnTo>
                    <a:lnTo>
                      <a:pt x="261" y="14"/>
                    </a:lnTo>
                    <a:lnTo>
                      <a:pt x="259" y="14"/>
                    </a:lnTo>
                    <a:lnTo>
                      <a:pt x="257" y="13"/>
                    </a:lnTo>
                    <a:lnTo>
                      <a:pt x="256" y="13"/>
                    </a:lnTo>
                    <a:lnTo>
                      <a:pt x="254" y="13"/>
                    </a:lnTo>
                    <a:lnTo>
                      <a:pt x="253" y="11"/>
                    </a:lnTo>
                    <a:lnTo>
                      <a:pt x="252" y="11"/>
                    </a:lnTo>
                    <a:lnTo>
                      <a:pt x="250" y="11"/>
                    </a:lnTo>
                    <a:lnTo>
                      <a:pt x="248" y="11"/>
                    </a:lnTo>
                    <a:lnTo>
                      <a:pt x="248" y="10"/>
                    </a:lnTo>
                    <a:lnTo>
                      <a:pt x="245" y="10"/>
                    </a:lnTo>
                    <a:lnTo>
                      <a:pt x="244" y="10"/>
                    </a:lnTo>
                    <a:lnTo>
                      <a:pt x="241" y="10"/>
                    </a:lnTo>
                    <a:lnTo>
                      <a:pt x="239" y="10"/>
                    </a:lnTo>
                    <a:lnTo>
                      <a:pt x="236" y="8"/>
                    </a:lnTo>
                    <a:lnTo>
                      <a:pt x="234" y="8"/>
                    </a:lnTo>
                    <a:lnTo>
                      <a:pt x="231" y="8"/>
                    </a:lnTo>
                    <a:lnTo>
                      <a:pt x="230" y="7"/>
                    </a:lnTo>
                    <a:lnTo>
                      <a:pt x="227" y="7"/>
                    </a:lnTo>
                    <a:lnTo>
                      <a:pt x="225" y="7"/>
                    </a:lnTo>
                    <a:lnTo>
                      <a:pt x="222" y="7"/>
                    </a:lnTo>
                    <a:lnTo>
                      <a:pt x="220" y="5"/>
                    </a:lnTo>
                    <a:lnTo>
                      <a:pt x="217" y="5"/>
                    </a:lnTo>
                    <a:lnTo>
                      <a:pt x="215" y="5"/>
                    </a:lnTo>
                    <a:lnTo>
                      <a:pt x="214" y="5"/>
                    </a:lnTo>
                    <a:lnTo>
                      <a:pt x="213" y="5"/>
                    </a:lnTo>
                    <a:lnTo>
                      <a:pt x="213" y="4"/>
                    </a:lnTo>
                    <a:lnTo>
                      <a:pt x="211" y="4"/>
                    </a:lnTo>
                    <a:lnTo>
                      <a:pt x="209" y="4"/>
                    </a:lnTo>
                    <a:lnTo>
                      <a:pt x="206" y="4"/>
                    </a:lnTo>
                    <a:lnTo>
                      <a:pt x="205" y="4"/>
                    </a:lnTo>
                    <a:lnTo>
                      <a:pt x="203" y="4"/>
                    </a:lnTo>
                    <a:lnTo>
                      <a:pt x="201" y="4"/>
                    </a:lnTo>
                    <a:lnTo>
                      <a:pt x="200" y="4"/>
                    </a:lnTo>
                    <a:lnTo>
                      <a:pt x="198" y="4"/>
                    </a:lnTo>
                    <a:lnTo>
                      <a:pt x="197" y="1"/>
                    </a:lnTo>
                    <a:lnTo>
                      <a:pt x="195" y="1"/>
                    </a:lnTo>
                    <a:lnTo>
                      <a:pt x="194" y="1"/>
                    </a:lnTo>
                    <a:lnTo>
                      <a:pt x="193" y="1"/>
                    </a:lnTo>
                    <a:lnTo>
                      <a:pt x="191" y="1"/>
                    </a:lnTo>
                    <a:lnTo>
                      <a:pt x="189" y="1"/>
                    </a:lnTo>
                    <a:lnTo>
                      <a:pt x="188" y="1"/>
                    </a:lnTo>
                    <a:lnTo>
                      <a:pt x="184" y="1"/>
                    </a:lnTo>
                    <a:lnTo>
                      <a:pt x="183" y="1"/>
                    </a:lnTo>
                    <a:lnTo>
                      <a:pt x="180" y="1"/>
                    </a:lnTo>
                    <a:lnTo>
                      <a:pt x="176" y="1"/>
                    </a:lnTo>
                    <a:lnTo>
                      <a:pt x="175" y="1"/>
                    </a:lnTo>
                    <a:lnTo>
                      <a:pt x="172" y="0"/>
                    </a:lnTo>
                    <a:lnTo>
                      <a:pt x="170" y="0"/>
                    </a:lnTo>
                    <a:lnTo>
                      <a:pt x="167" y="0"/>
                    </a:lnTo>
                    <a:lnTo>
                      <a:pt x="164" y="0"/>
                    </a:lnTo>
                    <a:lnTo>
                      <a:pt x="161" y="0"/>
                    </a:lnTo>
                    <a:lnTo>
                      <a:pt x="156" y="0"/>
                    </a:lnTo>
                    <a:lnTo>
                      <a:pt x="154" y="0"/>
                    </a:lnTo>
                    <a:lnTo>
                      <a:pt x="150" y="0"/>
                    </a:lnTo>
                    <a:lnTo>
                      <a:pt x="147" y="0"/>
                    </a:lnTo>
                    <a:lnTo>
                      <a:pt x="144" y="0"/>
                    </a:lnTo>
                    <a:lnTo>
                      <a:pt x="141" y="0"/>
                    </a:lnTo>
                    <a:lnTo>
                      <a:pt x="137" y="0"/>
                    </a:lnTo>
                    <a:lnTo>
                      <a:pt x="135" y="0"/>
                    </a:lnTo>
                    <a:lnTo>
                      <a:pt x="130" y="0"/>
                    </a:lnTo>
                    <a:lnTo>
                      <a:pt x="127" y="0"/>
                    </a:lnTo>
                    <a:lnTo>
                      <a:pt x="124" y="0"/>
                    </a:lnTo>
                    <a:lnTo>
                      <a:pt x="120" y="0"/>
                    </a:lnTo>
                    <a:lnTo>
                      <a:pt x="117" y="0"/>
                    </a:lnTo>
                    <a:lnTo>
                      <a:pt x="115" y="0"/>
                    </a:lnTo>
                    <a:lnTo>
                      <a:pt x="111" y="0"/>
                    </a:lnTo>
                    <a:lnTo>
                      <a:pt x="110" y="0"/>
                    </a:lnTo>
                    <a:lnTo>
                      <a:pt x="107" y="0"/>
                    </a:lnTo>
                    <a:lnTo>
                      <a:pt x="103" y="0"/>
                    </a:lnTo>
                    <a:lnTo>
                      <a:pt x="100" y="0"/>
                    </a:lnTo>
                    <a:lnTo>
                      <a:pt x="97" y="0"/>
                    </a:lnTo>
                    <a:lnTo>
                      <a:pt x="96" y="0"/>
                    </a:lnTo>
                    <a:lnTo>
                      <a:pt x="93" y="1"/>
                    </a:lnTo>
                    <a:lnTo>
                      <a:pt x="91" y="1"/>
                    </a:lnTo>
                    <a:lnTo>
                      <a:pt x="88" y="1"/>
                    </a:lnTo>
                    <a:lnTo>
                      <a:pt x="86" y="1"/>
                    </a:lnTo>
                    <a:lnTo>
                      <a:pt x="85" y="1"/>
                    </a:lnTo>
                    <a:lnTo>
                      <a:pt x="83" y="1"/>
                    </a:lnTo>
                    <a:lnTo>
                      <a:pt x="80" y="1"/>
                    </a:lnTo>
                    <a:lnTo>
                      <a:pt x="79" y="1"/>
                    </a:lnTo>
                    <a:lnTo>
                      <a:pt x="79" y="4"/>
                    </a:lnTo>
                    <a:lnTo>
                      <a:pt x="77" y="4"/>
                    </a:lnTo>
                    <a:lnTo>
                      <a:pt x="74" y="4"/>
                    </a:lnTo>
                    <a:lnTo>
                      <a:pt x="72" y="5"/>
                    </a:lnTo>
                    <a:lnTo>
                      <a:pt x="71" y="5"/>
                    </a:lnTo>
                    <a:lnTo>
                      <a:pt x="68" y="5"/>
                    </a:lnTo>
                    <a:lnTo>
                      <a:pt x="66" y="7"/>
                    </a:lnTo>
                    <a:lnTo>
                      <a:pt x="65" y="7"/>
                    </a:lnTo>
                    <a:lnTo>
                      <a:pt x="63" y="7"/>
                    </a:lnTo>
                    <a:lnTo>
                      <a:pt x="61" y="8"/>
                    </a:lnTo>
                    <a:lnTo>
                      <a:pt x="59" y="8"/>
                    </a:lnTo>
                    <a:lnTo>
                      <a:pt x="58" y="8"/>
                    </a:lnTo>
                    <a:lnTo>
                      <a:pt x="58" y="10"/>
                    </a:lnTo>
                    <a:lnTo>
                      <a:pt x="57" y="10"/>
                    </a:lnTo>
                    <a:lnTo>
                      <a:pt x="55" y="10"/>
                    </a:lnTo>
                    <a:lnTo>
                      <a:pt x="54" y="11"/>
                    </a:lnTo>
                    <a:lnTo>
                      <a:pt x="52" y="11"/>
                    </a:lnTo>
                    <a:lnTo>
                      <a:pt x="49" y="13"/>
                    </a:lnTo>
                    <a:lnTo>
                      <a:pt x="47" y="13"/>
                    </a:lnTo>
                    <a:lnTo>
                      <a:pt x="44" y="14"/>
                    </a:lnTo>
                    <a:lnTo>
                      <a:pt x="41" y="16"/>
                    </a:lnTo>
                    <a:lnTo>
                      <a:pt x="40" y="17"/>
                    </a:lnTo>
                    <a:lnTo>
                      <a:pt x="37" y="19"/>
                    </a:lnTo>
                    <a:lnTo>
                      <a:pt x="35" y="20"/>
                    </a:lnTo>
                    <a:lnTo>
                      <a:pt x="32" y="22"/>
                    </a:lnTo>
                    <a:lnTo>
                      <a:pt x="32" y="25"/>
                    </a:lnTo>
                    <a:lnTo>
                      <a:pt x="30" y="25"/>
                    </a:lnTo>
                    <a:lnTo>
                      <a:pt x="29" y="28"/>
                    </a:lnTo>
                    <a:lnTo>
                      <a:pt x="26" y="29"/>
                    </a:lnTo>
                    <a:lnTo>
                      <a:pt x="24" y="31"/>
                    </a:lnTo>
                    <a:lnTo>
                      <a:pt x="22" y="32"/>
                    </a:lnTo>
                    <a:lnTo>
                      <a:pt x="20" y="34"/>
                    </a:lnTo>
                    <a:lnTo>
                      <a:pt x="19" y="35"/>
                    </a:lnTo>
                    <a:lnTo>
                      <a:pt x="18" y="38"/>
                    </a:lnTo>
                    <a:lnTo>
                      <a:pt x="16" y="40"/>
                    </a:lnTo>
                    <a:lnTo>
                      <a:pt x="16" y="41"/>
                    </a:lnTo>
                    <a:lnTo>
                      <a:pt x="15" y="43"/>
                    </a:lnTo>
                    <a:lnTo>
                      <a:pt x="13" y="45"/>
                    </a:lnTo>
                    <a:lnTo>
                      <a:pt x="12" y="48"/>
                    </a:lnTo>
                    <a:lnTo>
                      <a:pt x="10" y="50"/>
                    </a:lnTo>
                    <a:lnTo>
                      <a:pt x="9" y="51"/>
                    </a:lnTo>
                    <a:lnTo>
                      <a:pt x="9" y="54"/>
                    </a:lnTo>
                    <a:lnTo>
                      <a:pt x="7" y="56"/>
                    </a:lnTo>
                    <a:lnTo>
                      <a:pt x="5" y="57"/>
                    </a:lnTo>
                    <a:lnTo>
                      <a:pt x="4" y="61"/>
                    </a:lnTo>
                    <a:lnTo>
                      <a:pt x="4" y="62"/>
                    </a:lnTo>
                    <a:lnTo>
                      <a:pt x="1" y="66"/>
                    </a:lnTo>
                    <a:lnTo>
                      <a:pt x="1" y="75"/>
                    </a:lnTo>
                    <a:lnTo>
                      <a:pt x="0" y="83"/>
                    </a:lnTo>
                    <a:lnTo>
                      <a:pt x="0" y="91"/>
                    </a:lnTo>
                    <a:lnTo>
                      <a:pt x="0" y="97"/>
                    </a:lnTo>
                    <a:lnTo>
                      <a:pt x="1" y="105"/>
                    </a:lnTo>
                    <a:lnTo>
                      <a:pt x="1" y="112"/>
                    </a:lnTo>
                    <a:lnTo>
                      <a:pt x="5" y="119"/>
                    </a:lnTo>
                    <a:lnTo>
                      <a:pt x="10" y="124"/>
                    </a:lnTo>
                    <a:lnTo>
                      <a:pt x="315" y="124"/>
                    </a:lnTo>
                  </a:path>
                </a:pathLst>
              </a:custGeom>
              <a:gradFill rotWithShape="0">
                <a:gsLst>
                  <a:gs pos="0">
                    <a:srgbClr val="712000"/>
                  </a:gs>
                  <a:gs pos="100000">
                    <a:srgbClr val="210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7475040" y="4821120"/>
                <a:ext cx="47160" cy="19080"/>
              </a:xfrm>
              <a:custGeom>
                <a:avLst/>
                <a:gdLst/>
                <a:ahLst/>
                <a:rect l="l" t="t" r="r" b="b"/>
                <a:pathLst>
                  <a:path w="29" h="17">
                    <a:moveTo>
                      <a:pt x="28" y="0"/>
                    </a:moveTo>
                    <a:lnTo>
                      <a:pt x="26" y="0"/>
                    </a:lnTo>
                    <a:lnTo>
                      <a:pt x="24" y="0"/>
                    </a:lnTo>
                    <a:lnTo>
                      <a:pt x="24" y="4"/>
                    </a:lnTo>
                    <a:lnTo>
                      <a:pt x="23" y="4"/>
                    </a:lnTo>
                    <a:lnTo>
                      <a:pt x="21" y="4"/>
                    </a:lnTo>
                    <a:lnTo>
                      <a:pt x="19" y="4"/>
                    </a:lnTo>
                    <a:lnTo>
                      <a:pt x="17" y="4"/>
                    </a:lnTo>
                    <a:lnTo>
                      <a:pt x="16" y="8"/>
                    </a:lnTo>
                    <a:lnTo>
                      <a:pt x="14" y="8"/>
                    </a:lnTo>
                    <a:lnTo>
                      <a:pt x="12" y="8"/>
                    </a:lnTo>
                    <a:lnTo>
                      <a:pt x="10" y="12"/>
                    </a:lnTo>
                    <a:lnTo>
                      <a:pt x="8" y="12"/>
                    </a:lnTo>
                    <a:lnTo>
                      <a:pt x="7" y="12"/>
                    </a:lnTo>
                    <a:lnTo>
                      <a:pt x="4" y="12"/>
                    </a:lnTo>
                    <a:lnTo>
                      <a:pt x="3" y="16"/>
                    </a:lnTo>
                    <a:lnTo>
                      <a:pt x="0" y="16"/>
                    </a:lnTo>
                    <a:lnTo>
                      <a:pt x="4" y="12"/>
                    </a:lnTo>
                    <a:lnTo>
                      <a:pt x="7" y="12"/>
                    </a:lnTo>
                    <a:lnTo>
                      <a:pt x="9" y="8"/>
                    </a:lnTo>
                    <a:lnTo>
                      <a:pt x="10" y="8"/>
                    </a:lnTo>
                    <a:lnTo>
                      <a:pt x="12" y="4"/>
                    </a:lnTo>
                    <a:lnTo>
                      <a:pt x="14" y="4"/>
                    </a:lnTo>
                    <a:lnTo>
                      <a:pt x="15" y="0"/>
                    </a:lnTo>
                    <a:lnTo>
                      <a:pt x="16" y="0"/>
                    </a:lnTo>
                    <a:lnTo>
                      <a:pt x="17" y="0"/>
                    </a:lnTo>
                    <a:lnTo>
                      <a:pt x="19" y="0"/>
                    </a:lnTo>
                    <a:lnTo>
                      <a:pt x="21" y="0"/>
                    </a:lnTo>
                    <a:lnTo>
                      <a:pt x="24" y="0"/>
                    </a:lnTo>
                    <a:lnTo>
                      <a:pt x="26" y="0"/>
                    </a:lnTo>
                    <a:lnTo>
                      <a:pt x="28"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7625520" y="4903200"/>
                <a:ext cx="27720" cy="55800"/>
              </a:xfrm>
              <a:custGeom>
                <a:avLst/>
                <a:gdLst/>
                <a:ahLst/>
                <a:rect l="l" t="t" r="r" b="b"/>
                <a:pathLst>
                  <a:path w="17" h="49">
                    <a:moveTo>
                      <a:pt x="8" y="48"/>
                    </a:moveTo>
                    <a:lnTo>
                      <a:pt x="9" y="43"/>
                    </a:lnTo>
                    <a:lnTo>
                      <a:pt x="12" y="37"/>
                    </a:lnTo>
                    <a:lnTo>
                      <a:pt x="12" y="30"/>
                    </a:lnTo>
                    <a:lnTo>
                      <a:pt x="16" y="24"/>
                    </a:lnTo>
                    <a:lnTo>
                      <a:pt x="16" y="18"/>
                    </a:lnTo>
                    <a:lnTo>
                      <a:pt x="16" y="12"/>
                    </a:lnTo>
                    <a:lnTo>
                      <a:pt x="12" y="4"/>
                    </a:lnTo>
                    <a:lnTo>
                      <a:pt x="12" y="0"/>
                    </a:lnTo>
                    <a:lnTo>
                      <a:pt x="12" y="10"/>
                    </a:lnTo>
                    <a:lnTo>
                      <a:pt x="12" y="19"/>
                    </a:lnTo>
                    <a:lnTo>
                      <a:pt x="12" y="26"/>
                    </a:lnTo>
                    <a:lnTo>
                      <a:pt x="8" y="33"/>
                    </a:lnTo>
                    <a:lnTo>
                      <a:pt x="6" y="39"/>
                    </a:lnTo>
                    <a:lnTo>
                      <a:pt x="1" y="43"/>
                    </a:lnTo>
                    <a:lnTo>
                      <a:pt x="1" y="46"/>
                    </a:lnTo>
                    <a:lnTo>
                      <a:pt x="0" y="48"/>
                    </a:lnTo>
                    <a:lnTo>
                      <a:pt x="8" y="48"/>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83" name=""/>
              <p:cNvSpPr/>
              <p:nvPr/>
            </p:nvSpPr>
            <p:spPr>
              <a:xfrm>
                <a:off x="7373880" y="4663440"/>
                <a:ext cx="153360" cy="160920"/>
              </a:xfrm>
              <a:custGeom>
                <a:avLst/>
                <a:gdLst/>
                <a:ahLst/>
                <a:rect l="l" t="t" r="r" b="b"/>
                <a:pathLst>
                  <a:path w="94" h="141">
                    <a:moveTo>
                      <a:pt x="24" y="125"/>
                    </a:moveTo>
                    <a:lnTo>
                      <a:pt x="24" y="123"/>
                    </a:lnTo>
                    <a:lnTo>
                      <a:pt x="24" y="121"/>
                    </a:lnTo>
                    <a:lnTo>
                      <a:pt x="25" y="119"/>
                    </a:lnTo>
                    <a:lnTo>
                      <a:pt x="25" y="117"/>
                    </a:lnTo>
                    <a:lnTo>
                      <a:pt x="28" y="116"/>
                    </a:lnTo>
                    <a:lnTo>
                      <a:pt x="28" y="114"/>
                    </a:lnTo>
                    <a:lnTo>
                      <a:pt x="28" y="112"/>
                    </a:lnTo>
                    <a:lnTo>
                      <a:pt x="30" y="111"/>
                    </a:lnTo>
                    <a:lnTo>
                      <a:pt x="30" y="109"/>
                    </a:lnTo>
                    <a:lnTo>
                      <a:pt x="30" y="106"/>
                    </a:lnTo>
                    <a:lnTo>
                      <a:pt x="30" y="102"/>
                    </a:lnTo>
                    <a:lnTo>
                      <a:pt x="30" y="100"/>
                    </a:lnTo>
                    <a:lnTo>
                      <a:pt x="32" y="96"/>
                    </a:lnTo>
                    <a:lnTo>
                      <a:pt x="32" y="93"/>
                    </a:lnTo>
                    <a:lnTo>
                      <a:pt x="34" y="92"/>
                    </a:lnTo>
                    <a:lnTo>
                      <a:pt x="34" y="95"/>
                    </a:lnTo>
                    <a:lnTo>
                      <a:pt x="36" y="98"/>
                    </a:lnTo>
                    <a:lnTo>
                      <a:pt x="36" y="102"/>
                    </a:lnTo>
                    <a:lnTo>
                      <a:pt x="36" y="106"/>
                    </a:lnTo>
                    <a:lnTo>
                      <a:pt x="36" y="109"/>
                    </a:lnTo>
                    <a:lnTo>
                      <a:pt x="36" y="111"/>
                    </a:lnTo>
                    <a:lnTo>
                      <a:pt x="37" y="114"/>
                    </a:lnTo>
                    <a:lnTo>
                      <a:pt x="37" y="121"/>
                    </a:lnTo>
                    <a:lnTo>
                      <a:pt x="39" y="125"/>
                    </a:lnTo>
                    <a:lnTo>
                      <a:pt x="39" y="130"/>
                    </a:lnTo>
                    <a:lnTo>
                      <a:pt x="40" y="130"/>
                    </a:lnTo>
                    <a:lnTo>
                      <a:pt x="42" y="130"/>
                    </a:lnTo>
                    <a:lnTo>
                      <a:pt x="43" y="130"/>
                    </a:lnTo>
                    <a:lnTo>
                      <a:pt x="45" y="130"/>
                    </a:lnTo>
                    <a:lnTo>
                      <a:pt x="47" y="130"/>
                    </a:lnTo>
                    <a:lnTo>
                      <a:pt x="48" y="130"/>
                    </a:lnTo>
                    <a:lnTo>
                      <a:pt x="50" y="130"/>
                    </a:lnTo>
                    <a:lnTo>
                      <a:pt x="51" y="130"/>
                    </a:lnTo>
                    <a:lnTo>
                      <a:pt x="53" y="130"/>
                    </a:lnTo>
                    <a:lnTo>
                      <a:pt x="53" y="132"/>
                    </a:lnTo>
                    <a:lnTo>
                      <a:pt x="54" y="132"/>
                    </a:lnTo>
                    <a:lnTo>
                      <a:pt x="55" y="132"/>
                    </a:lnTo>
                    <a:lnTo>
                      <a:pt x="56" y="132"/>
                    </a:lnTo>
                    <a:lnTo>
                      <a:pt x="59" y="132"/>
                    </a:lnTo>
                    <a:lnTo>
                      <a:pt x="60" y="133"/>
                    </a:lnTo>
                    <a:lnTo>
                      <a:pt x="64" y="133"/>
                    </a:lnTo>
                    <a:lnTo>
                      <a:pt x="66" y="133"/>
                    </a:lnTo>
                    <a:lnTo>
                      <a:pt x="68" y="133"/>
                    </a:lnTo>
                    <a:lnTo>
                      <a:pt x="70" y="135"/>
                    </a:lnTo>
                    <a:lnTo>
                      <a:pt x="72" y="135"/>
                    </a:lnTo>
                    <a:lnTo>
                      <a:pt x="74" y="135"/>
                    </a:lnTo>
                    <a:lnTo>
                      <a:pt x="77" y="137"/>
                    </a:lnTo>
                    <a:lnTo>
                      <a:pt x="79" y="137"/>
                    </a:lnTo>
                    <a:lnTo>
                      <a:pt x="82" y="137"/>
                    </a:lnTo>
                    <a:lnTo>
                      <a:pt x="83" y="137"/>
                    </a:lnTo>
                    <a:lnTo>
                      <a:pt x="85" y="137"/>
                    </a:lnTo>
                    <a:lnTo>
                      <a:pt x="86" y="138"/>
                    </a:lnTo>
                    <a:lnTo>
                      <a:pt x="88" y="138"/>
                    </a:lnTo>
                    <a:lnTo>
                      <a:pt x="89" y="138"/>
                    </a:lnTo>
                    <a:lnTo>
                      <a:pt x="90" y="138"/>
                    </a:lnTo>
                    <a:lnTo>
                      <a:pt x="91" y="140"/>
                    </a:lnTo>
                    <a:lnTo>
                      <a:pt x="93" y="137"/>
                    </a:lnTo>
                    <a:lnTo>
                      <a:pt x="93" y="132"/>
                    </a:lnTo>
                    <a:lnTo>
                      <a:pt x="91" y="128"/>
                    </a:lnTo>
                    <a:lnTo>
                      <a:pt x="91" y="123"/>
                    </a:lnTo>
                    <a:lnTo>
                      <a:pt x="90" y="119"/>
                    </a:lnTo>
                    <a:lnTo>
                      <a:pt x="89" y="116"/>
                    </a:lnTo>
                    <a:lnTo>
                      <a:pt x="88" y="112"/>
                    </a:lnTo>
                    <a:lnTo>
                      <a:pt x="86" y="109"/>
                    </a:lnTo>
                    <a:lnTo>
                      <a:pt x="89" y="107"/>
                    </a:lnTo>
                    <a:lnTo>
                      <a:pt x="90" y="104"/>
                    </a:lnTo>
                    <a:lnTo>
                      <a:pt x="90" y="100"/>
                    </a:lnTo>
                    <a:lnTo>
                      <a:pt x="90" y="95"/>
                    </a:lnTo>
                    <a:lnTo>
                      <a:pt x="90" y="88"/>
                    </a:lnTo>
                    <a:lnTo>
                      <a:pt x="89" y="84"/>
                    </a:lnTo>
                    <a:lnTo>
                      <a:pt x="88" y="79"/>
                    </a:lnTo>
                    <a:lnTo>
                      <a:pt x="88" y="76"/>
                    </a:lnTo>
                    <a:lnTo>
                      <a:pt x="86" y="70"/>
                    </a:lnTo>
                    <a:lnTo>
                      <a:pt x="86" y="62"/>
                    </a:lnTo>
                    <a:lnTo>
                      <a:pt x="85" y="55"/>
                    </a:lnTo>
                    <a:lnTo>
                      <a:pt x="85" y="49"/>
                    </a:lnTo>
                    <a:lnTo>
                      <a:pt x="86" y="49"/>
                    </a:lnTo>
                    <a:lnTo>
                      <a:pt x="88" y="47"/>
                    </a:lnTo>
                    <a:lnTo>
                      <a:pt x="88" y="45"/>
                    </a:lnTo>
                    <a:lnTo>
                      <a:pt x="88" y="44"/>
                    </a:lnTo>
                    <a:lnTo>
                      <a:pt x="86" y="44"/>
                    </a:lnTo>
                    <a:lnTo>
                      <a:pt x="86" y="42"/>
                    </a:lnTo>
                    <a:lnTo>
                      <a:pt x="85" y="42"/>
                    </a:lnTo>
                    <a:lnTo>
                      <a:pt x="83" y="42"/>
                    </a:lnTo>
                    <a:lnTo>
                      <a:pt x="82" y="42"/>
                    </a:lnTo>
                    <a:lnTo>
                      <a:pt x="80" y="42"/>
                    </a:lnTo>
                    <a:lnTo>
                      <a:pt x="77" y="42"/>
                    </a:lnTo>
                    <a:lnTo>
                      <a:pt x="75" y="42"/>
                    </a:lnTo>
                    <a:lnTo>
                      <a:pt x="74" y="42"/>
                    </a:lnTo>
                    <a:lnTo>
                      <a:pt x="72" y="42"/>
                    </a:lnTo>
                    <a:lnTo>
                      <a:pt x="71" y="40"/>
                    </a:lnTo>
                    <a:lnTo>
                      <a:pt x="70" y="40"/>
                    </a:lnTo>
                    <a:lnTo>
                      <a:pt x="68" y="40"/>
                    </a:lnTo>
                    <a:lnTo>
                      <a:pt x="67" y="40"/>
                    </a:lnTo>
                    <a:lnTo>
                      <a:pt x="66" y="40"/>
                    </a:lnTo>
                    <a:lnTo>
                      <a:pt x="64" y="39"/>
                    </a:lnTo>
                    <a:lnTo>
                      <a:pt x="62" y="39"/>
                    </a:lnTo>
                    <a:lnTo>
                      <a:pt x="62" y="36"/>
                    </a:lnTo>
                    <a:lnTo>
                      <a:pt x="62" y="34"/>
                    </a:lnTo>
                    <a:lnTo>
                      <a:pt x="62" y="33"/>
                    </a:lnTo>
                    <a:lnTo>
                      <a:pt x="64" y="33"/>
                    </a:lnTo>
                    <a:lnTo>
                      <a:pt x="64" y="31"/>
                    </a:lnTo>
                    <a:lnTo>
                      <a:pt x="62" y="31"/>
                    </a:lnTo>
                    <a:lnTo>
                      <a:pt x="60" y="31"/>
                    </a:lnTo>
                    <a:lnTo>
                      <a:pt x="59" y="31"/>
                    </a:lnTo>
                    <a:lnTo>
                      <a:pt x="59" y="29"/>
                    </a:lnTo>
                    <a:lnTo>
                      <a:pt x="60" y="28"/>
                    </a:lnTo>
                    <a:lnTo>
                      <a:pt x="60" y="24"/>
                    </a:lnTo>
                    <a:lnTo>
                      <a:pt x="60" y="23"/>
                    </a:lnTo>
                    <a:lnTo>
                      <a:pt x="59" y="23"/>
                    </a:lnTo>
                    <a:lnTo>
                      <a:pt x="60" y="20"/>
                    </a:lnTo>
                    <a:lnTo>
                      <a:pt x="60" y="17"/>
                    </a:lnTo>
                    <a:lnTo>
                      <a:pt x="60" y="14"/>
                    </a:lnTo>
                    <a:lnTo>
                      <a:pt x="58" y="9"/>
                    </a:lnTo>
                    <a:lnTo>
                      <a:pt x="56" y="5"/>
                    </a:lnTo>
                    <a:lnTo>
                      <a:pt x="55" y="4"/>
                    </a:lnTo>
                    <a:lnTo>
                      <a:pt x="54" y="4"/>
                    </a:lnTo>
                    <a:lnTo>
                      <a:pt x="53" y="4"/>
                    </a:lnTo>
                    <a:lnTo>
                      <a:pt x="51" y="4"/>
                    </a:lnTo>
                    <a:lnTo>
                      <a:pt x="50" y="2"/>
                    </a:lnTo>
                    <a:lnTo>
                      <a:pt x="48" y="1"/>
                    </a:lnTo>
                    <a:lnTo>
                      <a:pt x="47" y="1"/>
                    </a:lnTo>
                    <a:lnTo>
                      <a:pt x="43" y="0"/>
                    </a:lnTo>
                    <a:lnTo>
                      <a:pt x="42" y="0"/>
                    </a:lnTo>
                    <a:lnTo>
                      <a:pt x="39" y="0"/>
                    </a:lnTo>
                    <a:lnTo>
                      <a:pt x="37" y="1"/>
                    </a:lnTo>
                    <a:lnTo>
                      <a:pt x="34" y="1"/>
                    </a:lnTo>
                    <a:lnTo>
                      <a:pt x="34" y="2"/>
                    </a:lnTo>
                    <a:lnTo>
                      <a:pt x="30" y="5"/>
                    </a:lnTo>
                    <a:lnTo>
                      <a:pt x="25" y="7"/>
                    </a:lnTo>
                    <a:lnTo>
                      <a:pt x="23" y="11"/>
                    </a:lnTo>
                    <a:lnTo>
                      <a:pt x="21" y="11"/>
                    </a:lnTo>
                    <a:lnTo>
                      <a:pt x="21" y="12"/>
                    </a:lnTo>
                    <a:lnTo>
                      <a:pt x="21" y="14"/>
                    </a:lnTo>
                    <a:lnTo>
                      <a:pt x="20" y="14"/>
                    </a:lnTo>
                    <a:lnTo>
                      <a:pt x="20" y="15"/>
                    </a:lnTo>
                    <a:lnTo>
                      <a:pt x="18" y="17"/>
                    </a:lnTo>
                    <a:lnTo>
                      <a:pt x="18" y="20"/>
                    </a:lnTo>
                    <a:lnTo>
                      <a:pt x="18" y="23"/>
                    </a:lnTo>
                    <a:lnTo>
                      <a:pt x="20" y="23"/>
                    </a:lnTo>
                    <a:lnTo>
                      <a:pt x="21" y="24"/>
                    </a:lnTo>
                    <a:lnTo>
                      <a:pt x="23" y="26"/>
                    </a:lnTo>
                    <a:lnTo>
                      <a:pt x="24" y="28"/>
                    </a:lnTo>
                    <a:lnTo>
                      <a:pt x="24" y="29"/>
                    </a:lnTo>
                    <a:lnTo>
                      <a:pt x="25" y="31"/>
                    </a:lnTo>
                    <a:lnTo>
                      <a:pt x="25" y="33"/>
                    </a:lnTo>
                    <a:lnTo>
                      <a:pt x="25" y="34"/>
                    </a:lnTo>
                    <a:lnTo>
                      <a:pt x="25" y="36"/>
                    </a:lnTo>
                    <a:lnTo>
                      <a:pt x="28" y="39"/>
                    </a:lnTo>
                    <a:lnTo>
                      <a:pt x="28" y="40"/>
                    </a:lnTo>
                    <a:lnTo>
                      <a:pt x="28" y="42"/>
                    </a:lnTo>
                    <a:lnTo>
                      <a:pt x="30" y="42"/>
                    </a:lnTo>
                    <a:lnTo>
                      <a:pt x="30" y="44"/>
                    </a:lnTo>
                    <a:lnTo>
                      <a:pt x="30" y="45"/>
                    </a:lnTo>
                    <a:lnTo>
                      <a:pt x="32" y="45"/>
                    </a:lnTo>
                    <a:lnTo>
                      <a:pt x="30" y="45"/>
                    </a:lnTo>
                    <a:lnTo>
                      <a:pt x="30" y="47"/>
                    </a:lnTo>
                    <a:lnTo>
                      <a:pt x="25" y="47"/>
                    </a:lnTo>
                    <a:lnTo>
                      <a:pt x="24" y="47"/>
                    </a:lnTo>
                    <a:lnTo>
                      <a:pt x="21" y="49"/>
                    </a:lnTo>
                    <a:lnTo>
                      <a:pt x="20" y="49"/>
                    </a:lnTo>
                    <a:lnTo>
                      <a:pt x="20" y="50"/>
                    </a:lnTo>
                    <a:lnTo>
                      <a:pt x="18" y="50"/>
                    </a:lnTo>
                    <a:lnTo>
                      <a:pt x="20" y="54"/>
                    </a:lnTo>
                    <a:lnTo>
                      <a:pt x="20" y="55"/>
                    </a:lnTo>
                    <a:lnTo>
                      <a:pt x="21" y="59"/>
                    </a:lnTo>
                    <a:lnTo>
                      <a:pt x="21" y="60"/>
                    </a:lnTo>
                    <a:lnTo>
                      <a:pt x="21" y="63"/>
                    </a:lnTo>
                    <a:lnTo>
                      <a:pt x="20" y="68"/>
                    </a:lnTo>
                    <a:lnTo>
                      <a:pt x="18" y="76"/>
                    </a:lnTo>
                    <a:lnTo>
                      <a:pt x="17" y="84"/>
                    </a:lnTo>
                    <a:lnTo>
                      <a:pt x="16" y="92"/>
                    </a:lnTo>
                    <a:lnTo>
                      <a:pt x="14" y="100"/>
                    </a:lnTo>
                    <a:lnTo>
                      <a:pt x="14" y="104"/>
                    </a:lnTo>
                    <a:lnTo>
                      <a:pt x="13" y="106"/>
                    </a:lnTo>
                    <a:lnTo>
                      <a:pt x="13" y="109"/>
                    </a:lnTo>
                    <a:lnTo>
                      <a:pt x="13" y="114"/>
                    </a:lnTo>
                    <a:lnTo>
                      <a:pt x="13" y="119"/>
                    </a:lnTo>
                    <a:lnTo>
                      <a:pt x="13" y="123"/>
                    </a:lnTo>
                    <a:lnTo>
                      <a:pt x="12" y="123"/>
                    </a:lnTo>
                    <a:lnTo>
                      <a:pt x="10" y="121"/>
                    </a:lnTo>
                    <a:lnTo>
                      <a:pt x="8" y="121"/>
                    </a:lnTo>
                    <a:lnTo>
                      <a:pt x="7" y="121"/>
                    </a:lnTo>
                    <a:lnTo>
                      <a:pt x="6" y="121"/>
                    </a:lnTo>
                    <a:lnTo>
                      <a:pt x="4" y="121"/>
                    </a:lnTo>
                    <a:lnTo>
                      <a:pt x="2" y="123"/>
                    </a:lnTo>
                    <a:lnTo>
                      <a:pt x="1" y="125"/>
                    </a:lnTo>
                    <a:lnTo>
                      <a:pt x="0" y="126"/>
                    </a:lnTo>
                    <a:lnTo>
                      <a:pt x="0" y="128"/>
                    </a:lnTo>
                    <a:lnTo>
                      <a:pt x="0" y="130"/>
                    </a:lnTo>
                    <a:lnTo>
                      <a:pt x="0" y="132"/>
                    </a:lnTo>
                    <a:lnTo>
                      <a:pt x="1" y="132"/>
                    </a:lnTo>
                    <a:lnTo>
                      <a:pt x="2" y="133"/>
                    </a:lnTo>
                    <a:lnTo>
                      <a:pt x="4" y="133"/>
                    </a:lnTo>
                    <a:lnTo>
                      <a:pt x="6" y="133"/>
                    </a:lnTo>
                    <a:lnTo>
                      <a:pt x="6" y="135"/>
                    </a:lnTo>
                    <a:lnTo>
                      <a:pt x="7" y="133"/>
                    </a:lnTo>
                    <a:lnTo>
                      <a:pt x="8" y="133"/>
                    </a:lnTo>
                    <a:lnTo>
                      <a:pt x="10" y="133"/>
                    </a:lnTo>
                    <a:lnTo>
                      <a:pt x="12" y="132"/>
                    </a:lnTo>
                    <a:lnTo>
                      <a:pt x="13" y="132"/>
                    </a:lnTo>
                    <a:lnTo>
                      <a:pt x="14" y="132"/>
                    </a:lnTo>
                    <a:lnTo>
                      <a:pt x="16" y="132"/>
                    </a:lnTo>
                    <a:lnTo>
                      <a:pt x="17" y="132"/>
                    </a:lnTo>
                    <a:lnTo>
                      <a:pt x="18" y="132"/>
                    </a:lnTo>
                    <a:lnTo>
                      <a:pt x="20" y="132"/>
                    </a:lnTo>
                    <a:lnTo>
                      <a:pt x="21" y="132"/>
                    </a:lnTo>
                    <a:lnTo>
                      <a:pt x="23" y="130"/>
                    </a:lnTo>
                    <a:lnTo>
                      <a:pt x="23" y="128"/>
                    </a:lnTo>
                    <a:lnTo>
                      <a:pt x="23" y="126"/>
                    </a:lnTo>
                    <a:lnTo>
                      <a:pt x="24" y="125"/>
                    </a:lnTo>
                  </a:path>
                </a:pathLst>
              </a:custGeom>
              <a:gradFill rotWithShape="0">
                <a:gsLst>
                  <a:gs pos="0">
                    <a:srgbClr val="3365fb"/>
                  </a:gs>
                  <a:gs pos="100000">
                    <a:srgbClr val="0f1d4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373880" y="4796280"/>
                <a:ext cx="27720" cy="19080"/>
              </a:xfrm>
              <a:custGeom>
                <a:avLst/>
                <a:gdLst/>
                <a:ahLst/>
                <a:rect l="l" t="t" r="r" b="b"/>
                <a:pathLst>
                  <a:path w="17" h="17">
                    <a:moveTo>
                      <a:pt x="14" y="11"/>
                    </a:moveTo>
                    <a:lnTo>
                      <a:pt x="16" y="1"/>
                    </a:lnTo>
                    <a:lnTo>
                      <a:pt x="14" y="1"/>
                    </a:lnTo>
                    <a:lnTo>
                      <a:pt x="14" y="0"/>
                    </a:lnTo>
                    <a:lnTo>
                      <a:pt x="12" y="0"/>
                    </a:lnTo>
                    <a:lnTo>
                      <a:pt x="11" y="11"/>
                    </a:lnTo>
                    <a:lnTo>
                      <a:pt x="11" y="9"/>
                    </a:lnTo>
                    <a:lnTo>
                      <a:pt x="9" y="9"/>
                    </a:lnTo>
                    <a:lnTo>
                      <a:pt x="8" y="8"/>
                    </a:lnTo>
                    <a:lnTo>
                      <a:pt x="4" y="8"/>
                    </a:lnTo>
                    <a:lnTo>
                      <a:pt x="3" y="8"/>
                    </a:lnTo>
                    <a:lnTo>
                      <a:pt x="3" y="9"/>
                    </a:lnTo>
                    <a:lnTo>
                      <a:pt x="1" y="9"/>
                    </a:lnTo>
                    <a:lnTo>
                      <a:pt x="1" y="11"/>
                    </a:lnTo>
                    <a:lnTo>
                      <a:pt x="0" y="11"/>
                    </a:lnTo>
                    <a:lnTo>
                      <a:pt x="0" y="12"/>
                    </a:lnTo>
                    <a:lnTo>
                      <a:pt x="0" y="14"/>
                    </a:lnTo>
                    <a:lnTo>
                      <a:pt x="1" y="15"/>
                    </a:lnTo>
                    <a:lnTo>
                      <a:pt x="3" y="15"/>
                    </a:lnTo>
                    <a:lnTo>
                      <a:pt x="3" y="16"/>
                    </a:lnTo>
                    <a:lnTo>
                      <a:pt x="4" y="16"/>
                    </a:lnTo>
                    <a:lnTo>
                      <a:pt x="4" y="15"/>
                    </a:lnTo>
                    <a:lnTo>
                      <a:pt x="4" y="14"/>
                    </a:lnTo>
                    <a:lnTo>
                      <a:pt x="8" y="14"/>
                    </a:lnTo>
                    <a:lnTo>
                      <a:pt x="8" y="12"/>
                    </a:lnTo>
                    <a:lnTo>
                      <a:pt x="9" y="11"/>
                    </a:lnTo>
                    <a:lnTo>
                      <a:pt x="11" y="11"/>
                    </a:lnTo>
                    <a:lnTo>
                      <a:pt x="14" y="11"/>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7417800" y="4690080"/>
                <a:ext cx="39240" cy="24840"/>
              </a:xfrm>
              <a:custGeom>
                <a:avLst/>
                <a:gdLst/>
                <a:ahLst/>
                <a:rect l="l" t="t" r="r" b="b"/>
                <a:pathLst>
                  <a:path w="24" h="22">
                    <a:moveTo>
                      <a:pt x="6" y="18"/>
                    </a:moveTo>
                    <a:lnTo>
                      <a:pt x="6" y="19"/>
                    </a:lnTo>
                    <a:lnTo>
                      <a:pt x="8" y="20"/>
                    </a:lnTo>
                    <a:lnTo>
                      <a:pt x="8" y="21"/>
                    </a:lnTo>
                    <a:lnTo>
                      <a:pt x="9" y="21"/>
                    </a:lnTo>
                    <a:lnTo>
                      <a:pt x="10" y="20"/>
                    </a:lnTo>
                    <a:lnTo>
                      <a:pt x="11" y="20"/>
                    </a:lnTo>
                    <a:lnTo>
                      <a:pt x="11" y="19"/>
                    </a:lnTo>
                    <a:lnTo>
                      <a:pt x="13" y="19"/>
                    </a:lnTo>
                    <a:lnTo>
                      <a:pt x="15" y="18"/>
                    </a:lnTo>
                    <a:lnTo>
                      <a:pt x="15" y="19"/>
                    </a:lnTo>
                    <a:lnTo>
                      <a:pt x="17" y="20"/>
                    </a:lnTo>
                    <a:lnTo>
                      <a:pt x="18" y="20"/>
                    </a:lnTo>
                    <a:lnTo>
                      <a:pt x="19" y="20"/>
                    </a:lnTo>
                    <a:lnTo>
                      <a:pt x="20" y="20"/>
                    </a:lnTo>
                    <a:lnTo>
                      <a:pt x="20" y="19"/>
                    </a:lnTo>
                    <a:lnTo>
                      <a:pt x="21" y="19"/>
                    </a:lnTo>
                    <a:lnTo>
                      <a:pt x="23" y="18"/>
                    </a:lnTo>
                    <a:lnTo>
                      <a:pt x="23" y="15"/>
                    </a:lnTo>
                    <a:lnTo>
                      <a:pt x="21" y="15"/>
                    </a:lnTo>
                    <a:lnTo>
                      <a:pt x="20" y="15"/>
                    </a:lnTo>
                    <a:lnTo>
                      <a:pt x="19" y="15"/>
                    </a:lnTo>
                    <a:lnTo>
                      <a:pt x="18" y="15"/>
                    </a:lnTo>
                    <a:lnTo>
                      <a:pt x="18" y="14"/>
                    </a:lnTo>
                    <a:lnTo>
                      <a:pt x="17" y="14"/>
                    </a:lnTo>
                    <a:lnTo>
                      <a:pt x="17" y="12"/>
                    </a:lnTo>
                    <a:lnTo>
                      <a:pt x="18" y="11"/>
                    </a:lnTo>
                    <a:lnTo>
                      <a:pt x="18" y="9"/>
                    </a:lnTo>
                    <a:lnTo>
                      <a:pt x="18" y="6"/>
                    </a:lnTo>
                    <a:lnTo>
                      <a:pt x="17" y="5"/>
                    </a:lnTo>
                    <a:lnTo>
                      <a:pt x="15" y="4"/>
                    </a:lnTo>
                    <a:lnTo>
                      <a:pt x="15" y="2"/>
                    </a:lnTo>
                    <a:lnTo>
                      <a:pt x="13" y="2"/>
                    </a:lnTo>
                    <a:lnTo>
                      <a:pt x="11" y="1"/>
                    </a:lnTo>
                    <a:lnTo>
                      <a:pt x="10" y="0"/>
                    </a:lnTo>
                    <a:lnTo>
                      <a:pt x="8" y="0"/>
                    </a:lnTo>
                    <a:lnTo>
                      <a:pt x="8" y="1"/>
                    </a:lnTo>
                    <a:lnTo>
                      <a:pt x="6" y="1"/>
                    </a:lnTo>
                    <a:lnTo>
                      <a:pt x="5" y="2"/>
                    </a:lnTo>
                    <a:lnTo>
                      <a:pt x="4" y="4"/>
                    </a:lnTo>
                    <a:lnTo>
                      <a:pt x="2" y="4"/>
                    </a:lnTo>
                    <a:lnTo>
                      <a:pt x="1" y="4"/>
                    </a:lnTo>
                    <a:lnTo>
                      <a:pt x="0" y="4"/>
                    </a:lnTo>
                    <a:lnTo>
                      <a:pt x="0" y="5"/>
                    </a:lnTo>
                    <a:lnTo>
                      <a:pt x="0" y="6"/>
                    </a:lnTo>
                    <a:lnTo>
                      <a:pt x="1" y="9"/>
                    </a:lnTo>
                    <a:lnTo>
                      <a:pt x="2" y="9"/>
                    </a:lnTo>
                    <a:lnTo>
                      <a:pt x="2" y="11"/>
                    </a:lnTo>
                    <a:lnTo>
                      <a:pt x="2" y="12"/>
                    </a:lnTo>
                    <a:lnTo>
                      <a:pt x="2" y="14"/>
                    </a:lnTo>
                    <a:lnTo>
                      <a:pt x="4" y="15"/>
                    </a:lnTo>
                    <a:lnTo>
                      <a:pt x="5" y="14"/>
                    </a:lnTo>
                    <a:lnTo>
                      <a:pt x="5" y="15"/>
                    </a:lnTo>
                    <a:lnTo>
                      <a:pt x="5" y="17"/>
                    </a:lnTo>
                    <a:lnTo>
                      <a:pt x="5" y="18"/>
                    </a:lnTo>
                    <a:lnTo>
                      <a:pt x="6" y="18"/>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86" name=""/>
              <p:cNvSpPr/>
              <p:nvPr/>
            </p:nvSpPr>
            <p:spPr>
              <a:xfrm>
                <a:off x="7444080" y="4722840"/>
                <a:ext cx="27720" cy="19080"/>
              </a:xfrm>
              <a:custGeom>
                <a:avLst/>
                <a:gdLst/>
                <a:ahLst/>
                <a:rect l="l" t="t" r="r" b="b"/>
                <a:pathLst>
                  <a:path w="17" h="17">
                    <a:moveTo>
                      <a:pt x="16" y="12"/>
                    </a:moveTo>
                    <a:lnTo>
                      <a:pt x="14" y="12"/>
                    </a:lnTo>
                    <a:lnTo>
                      <a:pt x="12" y="12"/>
                    </a:lnTo>
                    <a:lnTo>
                      <a:pt x="11" y="12"/>
                    </a:lnTo>
                    <a:lnTo>
                      <a:pt x="11" y="10"/>
                    </a:lnTo>
                    <a:lnTo>
                      <a:pt x="9" y="10"/>
                    </a:lnTo>
                    <a:lnTo>
                      <a:pt x="8" y="10"/>
                    </a:lnTo>
                    <a:lnTo>
                      <a:pt x="8" y="12"/>
                    </a:lnTo>
                    <a:lnTo>
                      <a:pt x="8" y="14"/>
                    </a:lnTo>
                    <a:lnTo>
                      <a:pt x="6" y="16"/>
                    </a:lnTo>
                    <a:lnTo>
                      <a:pt x="4" y="14"/>
                    </a:lnTo>
                    <a:lnTo>
                      <a:pt x="3" y="12"/>
                    </a:lnTo>
                    <a:lnTo>
                      <a:pt x="2" y="12"/>
                    </a:lnTo>
                    <a:lnTo>
                      <a:pt x="1" y="12"/>
                    </a:lnTo>
                    <a:lnTo>
                      <a:pt x="1" y="10"/>
                    </a:lnTo>
                    <a:lnTo>
                      <a:pt x="0" y="10"/>
                    </a:lnTo>
                    <a:lnTo>
                      <a:pt x="0" y="9"/>
                    </a:lnTo>
                    <a:lnTo>
                      <a:pt x="1" y="5"/>
                    </a:lnTo>
                    <a:lnTo>
                      <a:pt x="2" y="4"/>
                    </a:lnTo>
                    <a:lnTo>
                      <a:pt x="3" y="2"/>
                    </a:lnTo>
                    <a:lnTo>
                      <a:pt x="4" y="1"/>
                    </a:lnTo>
                    <a:lnTo>
                      <a:pt x="6" y="1"/>
                    </a:lnTo>
                    <a:lnTo>
                      <a:pt x="8" y="1"/>
                    </a:lnTo>
                    <a:lnTo>
                      <a:pt x="8" y="0"/>
                    </a:lnTo>
                    <a:lnTo>
                      <a:pt x="9" y="0"/>
                    </a:lnTo>
                    <a:lnTo>
                      <a:pt x="14" y="4"/>
                    </a:lnTo>
                    <a:lnTo>
                      <a:pt x="16"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7448760" y="4740120"/>
                <a:ext cx="30960" cy="27000"/>
              </a:xfrm>
              <a:custGeom>
                <a:avLst/>
                <a:gdLst/>
                <a:ahLst/>
                <a:rect l="l" t="t" r="r" b="b"/>
                <a:pathLst>
                  <a:path w="19" h="24">
                    <a:moveTo>
                      <a:pt x="0" y="3"/>
                    </a:moveTo>
                    <a:lnTo>
                      <a:pt x="1" y="5"/>
                    </a:lnTo>
                    <a:lnTo>
                      <a:pt x="2" y="5"/>
                    </a:lnTo>
                    <a:lnTo>
                      <a:pt x="4" y="5"/>
                    </a:lnTo>
                    <a:lnTo>
                      <a:pt x="4" y="3"/>
                    </a:lnTo>
                    <a:lnTo>
                      <a:pt x="4" y="2"/>
                    </a:lnTo>
                    <a:lnTo>
                      <a:pt x="4" y="1"/>
                    </a:lnTo>
                    <a:lnTo>
                      <a:pt x="4" y="0"/>
                    </a:lnTo>
                    <a:lnTo>
                      <a:pt x="6" y="0"/>
                    </a:lnTo>
                    <a:lnTo>
                      <a:pt x="7" y="1"/>
                    </a:lnTo>
                    <a:lnTo>
                      <a:pt x="8" y="2"/>
                    </a:lnTo>
                    <a:lnTo>
                      <a:pt x="9" y="3"/>
                    </a:lnTo>
                    <a:lnTo>
                      <a:pt x="10" y="3"/>
                    </a:lnTo>
                    <a:lnTo>
                      <a:pt x="10" y="2"/>
                    </a:lnTo>
                    <a:lnTo>
                      <a:pt x="12" y="2"/>
                    </a:lnTo>
                    <a:lnTo>
                      <a:pt x="12" y="12"/>
                    </a:lnTo>
                    <a:lnTo>
                      <a:pt x="16" y="9"/>
                    </a:lnTo>
                    <a:lnTo>
                      <a:pt x="16" y="11"/>
                    </a:lnTo>
                    <a:lnTo>
                      <a:pt x="16" y="12"/>
                    </a:lnTo>
                    <a:lnTo>
                      <a:pt x="18" y="12"/>
                    </a:lnTo>
                    <a:lnTo>
                      <a:pt x="18" y="13"/>
                    </a:lnTo>
                    <a:lnTo>
                      <a:pt x="16" y="13"/>
                    </a:lnTo>
                    <a:lnTo>
                      <a:pt x="15" y="13"/>
                    </a:lnTo>
                    <a:lnTo>
                      <a:pt x="13" y="14"/>
                    </a:lnTo>
                    <a:lnTo>
                      <a:pt x="12" y="14"/>
                    </a:lnTo>
                    <a:lnTo>
                      <a:pt x="9" y="17"/>
                    </a:lnTo>
                    <a:lnTo>
                      <a:pt x="8" y="18"/>
                    </a:lnTo>
                    <a:lnTo>
                      <a:pt x="6" y="21"/>
                    </a:lnTo>
                    <a:lnTo>
                      <a:pt x="4" y="23"/>
                    </a:lnTo>
                    <a:lnTo>
                      <a:pt x="4" y="21"/>
                    </a:lnTo>
                    <a:lnTo>
                      <a:pt x="4" y="19"/>
                    </a:lnTo>
                    <a:lnTo>
                      <a:pt x="2" y="18"/>
                    </a:lnTo>
                    <a:lnTo>
                      <a:pt x="2" y="16"/>
                    </a:lnTo>
                    <a:lnTo>
                      <a:pt x="1" y="12"/>
                    </a:lnTo>
                    <a:lnTo>
                      <a:pt x="1" y="9"/>
                    </a:lnTo>
                    <a:lnTo>
                      <a:pt x="1" y="6"/>
                    </a:lnTo>
                    <a:lnTo>
                      <a:pt x="1" y="5"/>
                    </a:lnTo>
                    <a:lnTo>
                      <a:pt x="0" y="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7426080" y="4699080"/>
                <a:ext cx="27720" cy="19080"/>
              </a:xfrm>
              <a:custGeom>
                <a:avLst/>
                <a:gdLst/>
                <a:ahLst/>
                <a:rect l="l" t="t" r="r" b="b"/>
                <a:pathLst>
                  <a:path w="17" h="17">
                    <a:moveTo>
                      <a:pt x="8" y="9"/>
                    </a:moveTo>
                    <a:lnTo>
                      <a:pt x="8" y="16"/>
                    </a:lnTo>
                    <a:lnTo>
                      <a:pt x="0" y="16"/>
                    </a:lnTo>
                    <a:lnTo>
                      <a:pt x="0" y="9"/>
                    </a:lnTo>
                    <a:lnTo>
                      <a:pt x="8" y="9"/>
                    </a:lnTo>
                    <a:lnTo>
                      <a:pt x="8" y="6"/>
                    </a:lnTo>
                    <a:lnTo>
                      <a:pt x="8" y="0"/>
                    </a:lnTo>
                    <a:lnTo>
                      <a:pt x="8" y="6"/>
                    </a:lnTo>
                    <a:lnTo>
                      <a:pt x="8" y="9"/>
                    </a:lnTo>
                    <a:lnTo>
                      <a:pt x="16" y="9"/>
                    </a:lnTo>
                    <a:lnTo>
                      <a:pt x="8"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7054920" y="4638600"/>
                <a:ext cx="132120" cy="230400"/>
              </a:xfrm>
              <a:custGeom>
                <a:avLst/>
                <a:gdLst/>
                <a:ahLst/>
                <a:rect l="l" t="t" r="r" b="b"/>
                <a:pathLst>
                  <a:path w="81" h="202">
                    <a:moveTo>
                      <a:pt x="40" y="201"/>
                    </a:moveTo>
                    <a:lnTo>
                      <a:pt x="42" y="199"/>
                    </a:lnTo>
                    <a:lnTo>
                      <a:pt x="44" y="196"/>
                    </a:lnTo>
                    <a:lnTo>
                      <a:pt x="44" y="194"/>
                    </a:lnTo>
                    <a:lnTo>
                      <a:pt x="46" y="192"/>
                    </a:lnTo>
                    <a:lnTo>
                      <a:pt x="46" y="191"/>
                    </a:lnTo>
                    <a:lnTo>
                      <a:pt x="48" y="189"/>
                    </a:lnTo>
                    <a:lnTo>
                      <a:pt x="49" y="186"/>
                    </a:lnTo>
                    <a:lnTo>
                      <a:pt x="50" y="184"/>
                    </a:lnTo>
                    <a:lnTo>
                      <a:pt x="51" y="183"/>
                    </a:lnTo>
                    <a:lnTo>
                      <a:pt x="53" y="181"/>
                    </a:lnTo>
                    <a:lnTo>
                      <a:pt x="55" y="180"/>
                    </a:lnTo>
                    <a:lnTo>
                      <a:pt x="56" y="180"/>
                    </a:lnTo>
                    <a:lnTo>
                      <a:pt x="58" y="178"/>
                    </a:lnTo>
                    <a:lnTo>
                      <a:pt x="59" y="176"/>
                    </a:lnTo>
                    <a:lnTo>
                      <a:pt x="61" y="174"/>
                    </a:lnTo>
                    <a:lnTo>
                      <a:pt x="61" y="173"/>
                    </a:lnTo>
                    <a:lnTo>
                      <a:pt x="63" y="171"/>
                    </a:lnTo>
                    <a:lnTo>
                      <a:pt x="65" y="170"/>
                    </a:lnTo>
                    <a:lnTo>
                      <a:pt x="67" y="167"/>
                    </a:lnTo>
                    <a:lnTo>
                      <a:pt x="68" y="166"/>
                    </a:lnTo>
                    <a:lnTo>
                      <a:pt x="72" y="164"/>
                    </a:lnTo>
                    <a:lnTo>
                      <a:pt x="75" y="163"/>
                    </a:lnTo>
                    <a:lnTo>
                      <a:pt x="76" y="163"/>
                    </a:lnTo>
                    <a:lnTo>
                      <a:pt x="80" y="162"/>
                    </a:lnTo>
                    <a:lnTo>
                      <a:pt x="78" y="162"/>
                    </a:lnTo>
                    <a:lnTo>
                      <a:pt x="78" y="160"/>
                    </a:lnTo>
                    <a:lnTo>
                      <a:pt x="76" y="149"/>
                    </a:lnTo>
                    <a:lnTo>
                      <a:pt x="76" y="126"/>
                    </a:lnTo>
                    <a:lnTo>
                      <a:pt x="76" y="103"/>
                    </a:lnTo>
                    <a:lnTo>
                      <a:pt x="75" y="88"/>
                    </a:lnTo>
                    <a:lnTo>
                      <a:pt x="72" y="86"/>
                    </a:lnTo>
                    <a:lnTo>
                      <a:pt x="70" y="85"/>
                    </a:lnTo>
                    <a:lnTo>
                      <a:pt x="68" y="83"/>
                    </a:lnTo>
                    <a:lnTo>
                      <a:pt x="67" y="82"/>
                    </a:lnTo>
                    <a:lnTo>
                      <a:pt x="67" y="80"/>
                    </a:lnTo>
                    <a:lnTo>
                      <a:pt x="67" y="78"/>
                    </a:lnTo>
                    <a:lnTo>
                      <a:pt x="67" y="73"/>
                    </a:lnTo>
                    <a:lnTo>
                      <a:pt x="67" y="62"/>
                    </a:lnTo>
                    <a:lnTo>
                      <a:pt x="65" y="49"/>
                    </a:lnTo>
                    <a:lnTo>
                      <a:pt x="65" y="43"/>
                    </a:lnTo>
                    <a:lnTo>
                      <a:pt x="65" y="42"/>
                    </a:lnTo>
                    <a:lnTo>
                      <a:pt x="63" y="42"/>
                    </a:lnTo>
                    <a:lnTo>
                      <a:pt x="63" y="40"/>
                    </a:lnTo>
                    <a:lnTo>
                      <a:pt x="62" y="40"/>
                    </a:lnTo>
                    <a:lnTo>
                      <a:pt x="62" y="38"/>
                    </a:lnTo>
                    <a:lnTo>
                      <a:pt x="61" y="38"/>
                    </a:lnTo>
                    <a:lnTo>
                      <a:pt x="59" y="38"/>
                    </a:lnTo>
                    <a:lnTo>
                      <a:pt x="59" y="37"/>
                    </a:lnTo>
                    <a:lnTo>
                      <a:pt x="59" y="35"/>
                    </a:lnTo>
                    <a:lnTo>
                      <a:pt x="61" y="37"/>
                    </a:lnTo>
                    <a:lnTo>
                      <a:pt x="62" y="35"/>
                    </a:lnTo>
                    <a:lnTo>
                      <a:pt x="62" y="33"/>
                    </a:lnTo>
                    <a:lnTo>
                      <a:pt x="62" y="32"/>
                    </a:lnTo>
                    <a:lnTo>
                      <a:pt x="62" y="29"/>
                    </a:lnTo>
                    <a:lnTo>
                      <a:pt x="62" y="28"/>
                    </a:lnTo>
                    <a:lnTo>
                      <a:pt x="63" y="28"/>
                    </a:lnTo>
                    <a:lnTo>
                      <a:pt x="63" y="26"/>
                    </a:lnTo>
                    <a:lnTo>
                      <a:pt x="65" y="25"/>
                    </a:lnTo>
                    <a:lnTo>
                      <a:pt x="65" y="24"/>
                    </a:lnTo>
                    <a:lnTo>
                      <a:pt x="65" y="22"/>
                    </a:lnTo>
                    <a:lnTo>
                      <a:pt x="67" y="21"/>
                    </a:lnTo>
                    <a:lnTo>
                      <a:pt x="67" y="19"/>
                    </a:lnTo>
                    <a:lnTo>
                      <a:pt x="67" y="15"/>
                    </a:lnTo>
                    <a:lnTo>
                      <a:pt x="67" y="12"/>
                    </a:lnTo>
                    <a:lnTo>
                      <a:pt x="65" y="8"/>
                    </a:lnTo>
                    <a:lnTo>
                      <a:pt x="63" y="5"/>
                    </a:lnTo>
                    <a:lnTo>
                      <a:pt x="61" y="5"/>
                    </a:lnTo>
                    <a:lnTo>
                      <a:pt x="58" y="1"/>
                    </a:lnTo>
                    <a:lnTo>
                      <a:pt x="53" y="0"/>
                    </a:lnTo>
                    <a:lnTo>
                      <a:pt x="49" y="0"/>
                    </a:lnTo>
                    <a:lnTo>
                      <a:pt x="48" y="0"/>
                    </a:lnTo>
                    <a:lnTo>
                      <a:pt x="46" y="0"/>
                    </a:lnTo>
                    <a:lnTo>
                      <a:pt x="44" y="1"/>
                    </a:lnTo>
                    <a:lnTo>
                      <a:pt x="42" y="1"/>
                    </a:lnTo>
                    <a:lnTo>
                      <a:pt x="40" y="2"/>
                    </a:lnTo>
                    <a:lnTo>
                      <a:pt x="38" y="5"/>
                    </a:lnTo>
                    <a:lnTo>
                      <a:pt x="36" y="8"/>
                    </a:lnTo>
                    <a:lnTo>
                      <a:pt x="34" y="12"/>
                    </a:lnTo>
                    <a:lnTo>
                      <a:pt x="34" y="15"/>
                    </a:lnTo>
                    <a:lnTo>
                      <a:pt x="34" y="19"/>
                    </a:lnTo>
                    <a:lnTo>
                      <a:pt x="33" y="21"/>
                    </a:lnTo>
                    <a:lnTo>
                      <a:pt x="33" y="24"/>
                    </a:lnTo>
                    <a:lnTo>
                      <a:pt x="34" y="26"/>
                    </a:lnTo>
                    <a:lnTo>
                      <a:pt x="34" y="28"/>
                    </a:lnTo>
                    <a:lnTo>
                      <a:pt x="34" y="29"/>
                    </a:lnTo>
                    <a:lnTo>
                      <a:pt x="34" y="33"/>
                    </a:lnTo>
                    <a:lnTo>
                      <a:pt x="33" y="33"/>
                    </a:lnTo>
                    <a:lnTo>
                      <a:pt x="32" y="33"/>
                    </a:lnTo>
                    <a:lnTo>
                      <a:pt x="30" y="35"/>
                    </a:lnTo>
                    <a:lnTo>
                      <a:pt x="27" y="35"/>
                    </a:lnTo>
                    <a:lnTo>
                      <a:pt x="25" y="35"/>
                    </a:lnTo>
                    <a:lnTo>
                      <a:pt x="23" y="37"/>
                    </a:lnTo>
                    <a:lnTo>
                      <a:pt x="19" y="37"/>
                    </a:lnTo>
                    <a:lnTo>
                      <a:pt x="16" y="38"/>
                    </a:lnTo>
                    <a:lnTo>
                      <a:pt x="13" y="38"/>
                    </a:lnTo>
                    <a:lnTo>
                      <a:pt x="12" y="40"/>
                    </a:lnTo>
                    <a:lnTo>
                      <a:pt x="10" y="40"/>
                    </a:lnTo>
                    <a:lnTo>
                      <a:pt x="8" y="42"/>
                    </a:lnTo>
                    <a:lnTo>
                      <a:pt x="5" y="42"/>
                    </a:lnTo>
                    <a:lnTo>
                      <a:pt x="4" y="42"/>
                    </a:lnTo>
                    <a:lnTo>
                      <a:pt x="4" y="43"/>
                    </a:lnTo>
                    <a:lnTo>
                      <a:pt x="2" y="45"/>
                    </a:lnTo>
                    <a:lnTo>
                      <a:pt x="1" y="46"/>
                    </a:lnTo>
                    <a:lnTo>
                      <a:pt x="1" y="49"/>
                    </a:lnTo>
                    <a:lnTo>
                      <a:pt x="1" y="51"/>
                    </a:lnTo>
                    <a:lnTo>
                      <a:pt x="1" y="61"/>
                    </a:lnTo>
                    <a:lnTo>
                      <a:pt x="1" y="75"/>
                    </a:lnTo>
                    <a:lnTo>
                      <a:pt x="0" y="91"/>
                    </a:lnTo>
                    <a:lnTo>
                      <a:pt x="1" y="100"/>
                    </a:lnTo>
                    <a:lnTo>
                      <a:pt x="1" y="103"/>
                    </a:lnTo>
                    <a:lnTo>
                      <a:pt x="2" y="103"/>
                    </a:lnTo>
                    <a:lnTo>
                      <a:pt x="4" y="104"/>
                    </a:lnTo>
                    <a:lnTo>
                      <a:pt x="5" y="104"/>
                    </a:lnTo>
                    <a:lnTo>
                      <a:pt x="8" y="104"/>
                    </a:lnTo>
                    <a:lnTo>
                      <a:pt x="8" y="107"/>
                    </a:lnTo>
                    <a:lnTo>
                      <a:pt x="10" y="108"/>
                    </a:lnTo>
                    <a:lnTo>
                      <a:pt x="12" y="110"/>
                    </a:lnTo>
                    <a:lnTo>
                      <a:pt x="13" y="111"/>
                    </a:lnTo>
                    <a:lnTo>
                      <a:pt x="16" y="114"/>
                    </a:lnTo>
                    <a:lnTo>
                      <a:pt x="19" y="117"/>
                    </a:lnTo>
                    <a:lnTo>
                      <a:pt x="21" y="120"/>
                    </a:lnTo>
                    <a:lnTo>
                      <a:pt x="25" y="124"/>
                    </a:lnTo>
                    <a:lnTo>
                      <a:pt x="25" y="126"/>
                    </a:lnTo>
                    <a:lnTo>
                      <a:pt x="29" y="130"/>
                    </a:lnTo>
                    <a:lnTo>
                      <a:pt x="30" y="135"/>
                    </a:lnTo>
                    <a:lnTo>
                      <a:pt x="32" y="138"/>
                    </a:lnTo>
                    <a:lnTo>
                      <a:pt x="33" y="143"/>
                    </a:lnTo>
                    <a:lnTo>
                      <a:pt x="34" y="147"/>
                    </a:lnTo>
                    <a:lnTo>
                      <a:pt x="36" y="150"/>
                    </a:lnTo>
                    <a:lnTo>
                      <a:pt x="36" y="156"/>
                    </a:lnTo>
                    <a:lnTo>
                      <a:pt x="38" y="162"/>
                    </a:lnTo>
                    <a:lnTo>
                      <a:pt x="38" y="170"/>
                    </a:lnTo>
                    <a:lnTo>
                      <a:pt x="38" y="178"/>
                    </a:lnTo>
                    <a:lnTo>
                      <a:pt x="40" y="186"/>
                    </a:lnTo>
                    <a:lnTo>
                      <a:pt x="40" y="194"/>
                    </a:lnTo>
                    <a:lnTo>
                      <a:pt x="40" y="201"/>
                    </a:lnTo>
                  </a:path>
                </a:pathLst>
              </a:custGeom>
              <a:gradFill rotWithShape="0">
                <a:gsLst>
                  <a:gs pos="0">
                    <a:srgbClr val="4e00a1"/>
                  </a:gs>
                  <a:gs pos="100000">
                    <a:srgbClr val="17002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7164360" y="4830480"/>
                <a:ext cx="27720" cy="19080"/>
              </a:xfrm>
              <a:custGeom>
                <a:avLst/>
                <a:gdLst/>
                <a:ahLst/>
                <a:rect l="l" t="t" r="r" b="b"/>
                <a:pathLst>
                  <a:path w="17" h="17">
                    <a:moveTo>
                      <a:pt x="0" y="16"/>
                    </a:moveTo>
                    <a:lnTo>
                      <a:pt x="0" y="12"/>
                    </a:lnTo>
                    <a:lnTo>
                      <a:pt x="1" y="12"/>
                    </a:lnTo>
                    <a:lnTo>
                      <a:pt x="3" y="10"/>
                    </a:lnTo>
                    <a:lnTo>
                      <a:pt x="4" y="8"/>
                    </a:lnTo>
                    <a:lnTo>
                      <a:pt x="6" y="5"/>
                    </a:lnTo>
                    <a:lnTo>
                      <a:pt x="8" y="5"/>
                    </a:lnTo>
                    <a:lnTo>
                      <a:pt x="11" y="1"/>
                    </a:lnTo>
                    <a:lnTo>
                      <a:pt x="14" y="0"/>
                    </a:lnTo>
                    <a:lnTo>
                      <a:pt x="14" y="1"/>
                    </a:lnTo>
                    <a:lnTo>
                      <a:pt x="16" y="1"/>
                    </a:lnTo>
                    <a:lnTo>
                      <a:pt x="12" y="5"/>
                    </a:lnTo>
                    <a:lnTo>
                      <a:pt x="11" y="5"/>
                    </a:lnTo>
                    <a:lnTo>
                      <a:pt x="8" y="5"/>
                    </a:lnTo>
                    <a:lnTo>
                      <a:pt x="6" y="8"/>
                    </a:lnTo>
                    <a:lnTo>
                      <a:pt x="4" y="10"/>
                    </a:lnTo>
                    <a:lnTo>
                      <a:pt x="3" y="12"/>
                    </a:lnTo>
                    <a:lnTo>
                      <a:pt x="1" y="12"/>
                    </a:lnTo>
                    <a:lnTo>
                      <a:pt x="0"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7136280" y="4691880"/>
                <a:ext cx="27720" cy="42120"/>
              </a:xfrm>
              <a:custGeom>
                <a:avLst/>
                <a:gdLst/>
                <a:ahLst/>
                <a:rect l="l" t="t" r="r" b="b"/>
                <a:pathLst>
                  <a:path w="17" h="37">
                    <a:moveTo>
                      <a:pt x="12" y="36"/>
                    </a:moveTo>
                    <a:lnTo>
                      <a:pt x="12" y="34"/>
                    </a:lnTo>
                    <a:lnTo>
                      <a:pt x="12" y="32"/>
                    </a:lnTo>
                    <a:lnTo>
                      <a:pt x="16" y="27"/>
                    </a:lnTo>
                    <a:lnTo>
                      <a:pt x="16" y="23"/>
                    </a:lnTo>
                    <a:lnTo>
                      <a:pt x="16" y="16"/>
                    </a:lnTo>
                    <a:lnTo>
                      <a:pt x="16" y="10"/>
                    </a:lnTo>
                    <a:lnTo>
                      <a:pt x="16" y="5"/>
                    </a:lnTo>
                    <a:lnTo>
                      <a:pt x="12" y="0"/>
                    </a:lnTo>
                    <a:lnTo>
                      <a:pt x="8" y="0"/>
                    </a:lnTo>
                    <a:lnTo>
                      <a:pt x="4" y="0"/>
                    </a:lnTo>
                    <a:lnTo>
                      <a:pt x="0" y="0"/>
                    </a:lnTo>
                    <a:lnTo>
                      <a:pt x="8" y="9"/>
                    </a:lnTo>
                    <a:lnTo>
                      <a:pt x="4" y="5"/>
                    </a:lnTo>
                    <a:lnTo>
                      <a:pt x="4" y="7"/>
                    </a:lnTo>
                    <a:lnTo>
                      <a:pt x="4" y="9"/>
                    </a:lnTo>
                    <a:lnTo>
                      <a:pt x="0" y="9"/>
                    </a:lnTo>
                    <a:lnTo>
                      <a:pt x="4" y="9"/>
                    </a:lnTo>
                    <a:lnTo>
                      <a:pt x="4" y="10"/>
                    </a:lnTo>
                    <a:lnTo>
                      <a:pt x="4" y="12"/>
                    </a:lnTo>
                    <a:lnTo>
                      <a:pt x="4" y="13"/>
                    </a:lnTo>
                    <a:lnTo>
                      <a:pt x="4" y="16"/>
                    </a:lnTo>
                    <a:lnTo>
                      <a:pt x="8" y="23"/>
                    </a:lnTo>
                    <a:lnTo>
                      <a:pt x="8" y="27"/>
                    </a:lnTo>
                    <a:lnTo>
                      <a:pt x="12" y="36"/>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92" name=""/>
              <p:cNvSpPr/>
              <p:nvPr/>
            </p:nvSpPr>
            <p:spPr>
              <a:xfrm>
                <a:off x="7111800" y="4660200"/>
                <a:ext cx="48960" cy="94680"/>
              </a:xfrm>
              <a:custGeom>
                <a:avLst/>
                <a:gdLst/>
                <a:ahLst/>
                <a:rect l="l" t="t" r="r" b="b"/>
                <a:pathLst>
                  <a:path w="30" h="83">
                    <a:moveTo>
                      <a:pt x="8" y="75"/>
                    </a:moveTo>
                    <a:lnTo>
                      <a:pt x="8" y="71"/>
                    </a:lnTo>
                    <a:lnTo>
                      <a:pt x="8" y="58"/>
                    </a:lnTo>
                    <a:lnTo>
                      <a:pt x="9" y="46"/>
                    </a:lnTo>
                    <a:lnTo>
                      <a:pt x="9" y="42"/>
                    </a:lnTo>
                    <a:lnTo>
                      <a:pt x="9" y="38"/>
                    </a:lnTo>
                    <a:lnTo>
                      <a:pt x="11" y="36"/>
                    </a:lnTo>
                    <a:lnTo>
                      <a:pt x="11" y="35"/>
                    </a:lnTo>
                    <a:lnTo>
                      <a:pt x="9" y="33"/>
                    </a:lnTo>
                    <a:lnTo>
                      <a:pt x="9" y="31"/>
                    </a:lnTo>
                    <a:lnTo>
                      <a:pt x="9" y="30"/>
                    </a:lnTo>
                    <a:lnTo>
                      <a:pt x="5" y="33"/>
                    </a:lnTo>
                    <a:lnTo>
                      <a:pt x="11" y="24"/>
                    </a:lnTo>
                    <a:lnTo>
                      <a:pt x="9" y="23"/>
                    </a:lnTo>
                    <a:lnTo>
                      <a:pt x="8" y="21"/>
                    </a:lnTo>
                    <a:lnTo>
                      <a:pt x="7" y="20"/>
                    </a:lnTo>
                    <a:lnTo>
                      <a:pt x="5" y="18"/>
                    </a:lnTo>
                    <a:lnTo>
                      <a:pt x="4" y="17"/>
                    </a:lnTo>
                    <a:lnTo>
                      <a:pt x="7" y="20"/>
                    </a:lnTo>
                    <a:lnTo>
                      <a:pt x="8" y="20"/>
                    </a:lnTo>
                    <a:lnTo>
                      <a:pt x="9" y="20"/>
                    </a:lnTo>
                    <a:lnTo>
                      <a:pt x="11" y="18"/>
                    </a:lnTo>
                    <a:lnTo>
                      <a:pt x="11" y="17"/>
                    </a:lnTo>
                    <a:lnTo>
                      <a:pt x="11" y="18"/>
                    </a:lnTo>
                    <a:lnTo>
                      <a:pt x="12" y="18"/>
                    </a:lnTo>
                    <a:lnTo>
                      <a:pt x="12" y="20"/>
                    </a:lnTo>
                    <a:lnTo>
                      <a:pt x="13" y="20"/>
                    </a:lnTo>
                    <a:lnTo>
                      <a:pt x="15" y="21"/>
                    </a:lnTo>
                    <a:lnTo>
                      <a:pt x="15" y="23"/>
                    </a:lnTo>
                    <a:lnTo>
                      <a:pt x="16" y="23"/>
                    </a:lnTo>
                    <a:lnTo>
                      <a:pt x="18" y="23"/>
                    </a:lnTo>
                    <a:lnTo>
                      <a:pt x="20" y="23"/>
                    </a:lnTo>
                    <a:lnTo>
                      <a:pt x="20" y="21"/>
                    </a:lnTo>
                    <a:lnTo>
                      <a:pt x="21" y="21"/>
                    </a:lnTo>
                    <a:lnTo>
                      <a:pt x="21" y="20"/>
                    </a:lnTo>
                    <a:lnTo>
                      <a:pt x="21" y="18"/>
                    </a:lnTo>
                    <a:lnTo>
                      <a:pt x="21" y="17"/>
                    </a:lnTo>
                    <a:lnTo>
                      <a:pt x="23" y="17"/>
                    </a:lnTo>
                    <a:lnTo>
                      <a:pt x="23" y="15"/>
                    </a:lnTo>
                    <a:lnTo>
                      <a:pt x="25" y="15"/>
                    </a:lnTo>
                    <a:lnTo>
                      <a:pt x="25" y="13"/>
                    </a:lnTo>
                    <a:lnTo>
                      <a:pt x="25" y="12"/>
                    </a:lnTo>
                    <a:lnTo>
                      <a:pt x="25" y="10"/>
                    </a:lnTo>
                    <a:lnTo>
                      <a:pt x="25" y="8"/>
                    </a:lnTo>
                    <a:lnTo>
                      <a:pt x="27" y="6"/>
                    </a:lnTo>
                    <a:lnTo>
                      <a:pt x="27" y="5"/>
                    </a:lnTo>
                    <a:lnTo>
                      <a:pt x="29" y="4"/>
                    </a:lnTo>
                    <a:lnTo>
                      <a:pt x="29" y="2"/>
                    </a:lnTo>
                    <a:lnTo>
                      <a:pt x="27" y="2"/>
                    </a:lnTo>
                    <a:lnTo>
                      <a:pt x="25" y="2"/>
                    </a:lnTo>
                    <a:lnTo>
                      <a:pt x="25" y="1"/>
                    </a:lnTo>
                    <a:lnTo>
                      <a:pt x="23" y="1"/>
                    </a:lnTo>
                    <a:lnTo>
                      <a:pt x="21" y="1"/>
                    </a:lnTo>
                    <a:lnTo>
                      <a:pt x="21" y="0"/>
                    </a:lnTo>
                    <a:lnTo>
                      <a:pt x="20" y="1"/>
                    </a:lnTo>
                    <a:lnTo>
                      <a:pt x="20" y="2"/>
                    </a:lnTo>
                    <a:lnTo>
                      <a:pt x="20" y="4"/>
                    </a:lnTo>
                    <a:lnTo>
                      <a:pt x="18" y="4"/>
                    </a:lnTo>
                    <a:lnTo>
                      <a:pt x="16" y="2"/>
                    </a:lnTo>
                    <a:lnTo>
                      <a:pt x="15" y="4"/>
                    </a:lnTo>
                    <a:lnTo>
                      <a:pt x="15" y="5"/>
                    </a:lnTo>
                    <a:lnTo>
                      <a:pt x="15" y="6"/>
                    </a:lnTo>
                    <a:lnTo>
                      <a:pt x="13" y="5"/>
                    </a:lnTo>
                    <a:lnTo>
                      <a:pt x="13" y="4"/>
                    </a:lnTo>
                    <a:lnTo>
                      <a:pt x="12" y="4"/>
                    </a:lnTo>
                    <a:lnTo>
                      <a:pt x="11" y="2"/>
                    </a:lnTo>
                    <a:lnTo>
                      <a:pt x="9" y="2"/>
                    </a:lnTo>
                    <a:lnTo>
                      <a:pt x="8" y="4"/>
                    </a:lnTo>
                    <a:lnTo>
                      <a:pt x="8" y="6"/>
                    </a:lnTo>
                    <a:lnTo>
                      <a:pt x="9" y="10"/>
                    </a:lnTo>
                    <a:lnTo>
                      <a:pt x="9" y="12"/>
                    </a:lnTo>
                    <a:lnTo>
                      <a:pt x="7" y="12"/>
                    </a:lnTo>
                    <a:lnTo>
                      <a:pt x="5" y="12"/>
                    </a:lnTo>
                    <a:lnTo>
                      <a:pt x="4" y="10"/>
                    </a:lnTo>
                    <a:lnTo>
                      <a:pt x="3" y="10"/>
                    </a:lnTo>
                    <a:lnTo>
                      <a:pt x="1" y="8"/>
                    </a:lnTo>
                    <a:lnTo>
                      <a:pt x="1" y="6"/>
                    </a:lnTo>
                    <a:lnTo>
                      <a:pt x="0" y="5"/>
                    </a:lnTo>
                    <a:lnTo>
                      <a:pt x="0" y="4"/>
                    </a:lnTo>
                    <a:lnTo>
                      <a:pt x="1" y="6"/>
                    </a:lnTo>
                    <a:lnTo>
                      <a:pt x="1" y="8"/>
                    </a:lnTo>
                    <a:lnTo>
                      <a:pt x="1" y="10"/>
                    </a:lnTo>
                    <a:lnTo>
                      <a:pt x="1" y="13"/>
                    </a:lnTo>
                    <a:lnTo>
                      <a:pt x="0" y="18"/>
                    </a:lnTo>
                    <a:lnTo>
                      <a:pt x="0" y="28"/>
                    </a:lnTo>
                    <a:lnTo>
                      <a:pt x="0" y="43"/>
                    </a:lnTo>
                    <a:lnTo>
                      <a:pt x="0" y="55"/>
                    </a:lnTo>
                    <a:lnTo>
                      <a:pt x="0" y="66"/>
                    </a:lnTo>
                    <a:lnTo>
                      <a:pt x="1" y="75"/>
                    </a:lnTo>
                    <a:lnTo>
                      <a:pt x="3" y="80"/>
                    </a:lnTo>
                    <a:lnTo>
                      <a:pt x="3" y="82"/>
                    </a:lnTo>
                    <a:lnTo>
                      <a:pt x="3" y="81"/>
                    </a:lnTo>
                    <a:lnTo>
                      <a:pt x="4" y="80"/>
                    </a:lnTo>
                    <a:lnTo>
                      <a:pt x="5" y="78"/>
                    </a:lnTo>
                    <a:lnTo>
                      <a:pt x="7" y="76"/>
                    </a:lnTo>
                    <a:lnTo>
                      <a:pt x="8" y="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115400" y="4753800"/>
                <a:ext cx="27720" cy="30600"/>
              </a:xfrm>
              <a:custGeom>
                <a:avLst/>
                <a:gdLst/>
                <a:ahLst/>
                <a:rect l="l" t="t" r="r" b="b"/>
                <a:pathLst>
                  <a:path w="17" h="27">
                    <a:moveTo>
                      <a:pt x="16" y="0"/>
                    </a:moveTo>
                    <a:lnTo>
                      <a:pt x="16" y="2"/>
                    </a:lnTo>
                    <a:lnTo>
                      <a:pt x="8" y="4"/>
                    </a:lnTo>
                    <a:lnTo>
                      <a:pt x="8" y="7"/>
                    </a:lnTo>
                    <a:lnTo>
                      <a:pt x="8" y="11"/>
                    </a:lnTo>
                    <a:lnTo>
                      <a:pt x="8" y="15"/>
                    </a:lnTo>
                    <a:lnTo>
                      <a:pt x="8" y="21"/>
                    </a:lnTo>
                    <a:lnTo>
                      <a:pt x="8" y="26"/>
                    </a:lnTo>
                    <a:lnTo>
                      <a:pt x="8" y="24"/>
                    </a:lnTo>
                    <a:lnTo>
                      <a:pt x="8" y="23"/>
                    </a:lnTo>
                    <a:lnTo>
                      <a:pt x="8" y="22"/>
                    </a:lnTo>
                    <a:lnTo>
                      <a:pt x="0" y="19"/>
                    </a:lnTo>
                    <a:lnTo>
                      <a:pt x="0" y="15"/>
                    </a:lnTo>
                    <a:lnTo>
                      <a:pt x="0" y="13"/>
                    </a:lnTo>
                    <a:lnTo>
                      <a:pt x="0" y="8"/>
                    </a:lnTo>
                    <a:lnTo>
                      <a:pt x="0" y="5"/>
                    </a:lnTo>
                    <a:lnTo>
                      <a:pt x="0" y="4"/>
                    </a:lnTo>
                    <a:lnTo>
                      <a:pt x="8" y="4"/>
                    </a:lnTo>
                    <a:lnTo>
                      <a:pt x="8" y="2"/>
                    </a:lnTo>
                    <a:lnTo>
                      <a:pt x="16" y="0"/>
                    </a:lnTo>
                    <a:lnTo>
                      <a:pt x="16" y="0"/>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4" name=""/>
              <p:cNvSpPr/>
              <p:nvPr/>
            </p:nvSpPr>
            <p:spPr>
              <a:xfrm>
                <a:off x="6992640" y="4699080"/>
                <a:ext cx="112680" cy="259920"/>
              </a:xfrm>
              <a:custGeom>
                <a:avLst/>
                <a:gdLst/>
                <a:ahLst/>
                <a:rect l="l" t="t" r="r" b="b"/>
                <a:pathLst>
                  <a:path w="69" h="228">
                    <a:moveTo>
                      <a:pt x="21" y="227"/>
                    </a:moveTo>
                    <a:lnTo>
                      <a:pt x="18" y="217"/>
                    </a:lnTo>
                    <a:lnTo>
                      <a:pt x="21" y="206"/>
                    </a:lnTo>
                    <a:lnTo>
                      <a:pt x="21" y="196"/>
                    </a:lnTo>
                    <a:lnTo>
                      <a:pt x="22" y="186"/>
                    </a:lnTo>
                    <a:lnTo>
                      <a:pt x="23" y="176"/>
                    </a:lnTo>
                    <a:lnTo>
                      <a:pt x="25" y="168"/>
                    </a:lnTo>
                    <a:lnTo>
                      <a:pt x="26" y="158"/>
                    </a:lnTo>
                    <a:lnTo>
                      <a:pt x="28" y="152"/>
                    </a:lnTo>
                    <a:lnTo>
                      <a:pt x="29" y="146"/>
                    </a:lnTo>
                    <a:lnTo>
                      <a:pt x="29" y="138"/>
                    </a:lnTo>
                    <a:lnTo>
                      <a:pt x="31" y="136"/>
                    </a:lnTo>
                    <a:lnTo>
                      <a:pt x="34" y="133"/>
                    </a:lnTo>
                    <a:lnTo>
                      <a:pt x="34" y="131"/>
                    </a:lnTo>
                    <a:lnTo>
                      <a:pt x="34" y="130"/>
                    </a:lnTo>
                    <a:lnTo>
                      <a:pt x="35" y="126"/>
                    </a:lnTo>
                    <a:lnTo>
                      <a:pt x="35" y="125"/>
                    </a:lnTo>
                    <a:lnTo>
                      <a:pt x="36" y="121"/>
                    </a:lnTo>
                    <a:lnTo>
                      <a:pt x="38" y="118"/>
                    </a:lnTo>
                    <a:lnTo>
                      <a:pt x="39" y="116"/>
                    </a:lnTo>
                    <a:lnTo>
                      <a:pt x="41" y="114"/>
                    </a:lnTo>
                    <a:lnTo>
                      <a:pt x="42" y="111"/>
                    </a:lnTo>
                    <a:lnTo>
                      <a:pt x="45" y="109"/>
                    </a:lnTo>
                    <a:lnTo>
                      <a:pt x="47" y="106"/>
                    </a:lnTo>
                    <a:lnTo>
                      <a:pt x="47" y="103"/>
                    </a:lnTo>
                    <a:lnTo>
                      <a:pt x="49" y="102"/>
                    </a:lnTo>
                    <a:lnTo>
                      <a:pt x="51" y="99"/>
                    </a:lnTo>
                    <a:lnTo>
                      <a:pt x="52" y="99"/>
                    </a:lnTo>
                    <a:lnTo>
                      <a:pt x="53" y="99"/>
                    </a:lnTo>
                    <a:lnTo>
                      <a:pt x="55" y="99"/>
                    </a:lnTo>
                    <a:lnTo>
                      <a:pt x="56" y="99"/>
                    </a:lnTo>
                    <a:lnTo>
                      <a:pt x="59" y="99"/>
                    </a:lnTo>
                    <a:lnTo>
                      <a:pt x="61" y="99"/>
                    </a:lnTo>
                    <a:lnTo>
                      <a:pt x="64" y="99"/>
                    </a:lnTo>
                    <a:lnTo>
                      <a:pt x="65" y="99"/>
                    </a:lnTo>
                    <a:lnTo>
                      <a:pt x="66" y="96"/>
                    </a:lnTo>
                    <a:lnTo>
                      <a:pt x="68" y="96"/>
                    </a:lnTo>
                    <a:lnTo>
                      <a:pt x="66" y="92"/>
                    </a:lnTo>
                    <a:lnTo>
                      <a:pt x="65" y="88"/>
                    </a:lnTo>
                    <a:lnTo>
                      <a:pt x="64" y="84"/>
                    </a:lnTo>
                    <a:lnTo>
                      <a:pt x="62" y="80"/>
                    </a:lnTo>
                    <a:lnTo>
                      <a:pt x="59" y="75"/>
                    </a:lnTo>
                    <a:lnTo>
                      <a:pt x="58" y="74"/>
                    </a:lnTo>
                    <a:lnTo>
                      <a:pt x="55" y="70"/>
                    </a:lnTo>
                    <a:lnTo>
                      <a:pt x="52" y="67"/>
                    </a:lnTo>
                    <a:lnTo>
                      <a:pt x="51" y="64"/>
                    </a:lnTo>
                    <a:lnTo>
                      <a:pt x="47" y="61"/>
                    </a:lnTo>
                    <a:lnTo>
                      <a:pt x="47" y="59"/>
                    </a:lnTo>
                    <a:lnTo>
                      <a:pt x="43" y="58"/>
                    </a:lnTo>
                    <a:lnTo>
                      <a:pt x="42" y="56"/>
                    </a:lnTo>
                    <a:lnTo>
                      <a:pt x="41" y="54"/>
                    </a:lnTo>
                    <a:lnTo>
                      <a:pt x="42" y="56"/>
                    </a:lnTo>
                    <a:lnTo>
                      <a:pt x="43" y="54"/>
                    </a:lnTo>
                    <a:lnTo>
                      <a:pt x="45" y="54"/>
                    </a:lnTo>
                    <a:lnTo>
                      <a:pt x="47" y="54"/>
                    </a:lnTo>
                    <a:lnTo>
                      <a:pt x="47" y="53"/>
                    </a:lnTo>
                    <a:lnTo>
                      <a:pt x="47" y="52"/>
                    </a:lnTo>
                    <a:lnTo>
                      <a:pt x="47" y="50"/>
                    </a:lnTo>
                    <a:lnTo>
                      <a:pt x="47" y="48"/>
                    </a:lnTo>
                    <a:lnTo>
                      <a:pt x="47" y="47"/>
                    </a:lnTo>
                    <a:lnTo>
                      <a:pt x="47" y="45"/>
                    </a:lnTo>
                    <a:lnTo>
                      <a:pt x="47" y="43"/>
                    </a:lnTo>
                    <a:lnTo>
                      <a:pt x="49" y="43"/>
                    </a:lnTo>
                    <a:lnTo>
                      <a:pt x="47" y="42"/>
                    </a:lnTo>
                    <a:lnTo>
                      <a:pt x="47" y="40"/>
                    </a:lnTo>
                    <a:lnTo>
                      <a:pt x="47" y="38"/>
                    </a:lnTo>
                    <a:lnTo>
                      <a:pt x="49" y="38"/>
                    </a:lnTo>
                    <a:lnTo>
                      <a:pt x="49" y="37"/>
                    </a:lnTo>
                    <a:lnTo>
                      <a:pt x="49" y="35"/>
                    </a:lnTo>
                    <a:lnTo>
                      <a:pt x="47" y="32"/>
                    </a:lnTo>
                    <a:lnTo>
                      <a:pt x="47" y="31"/>
                    </a:lnTo>
                    <a:lnTo>
                      <a:pt x="47" y="29"/>
                    </a:lnTo>
                    <a:lnTo>
                      <a:pt x="47" y="27"/>
                    </a:lnTo>
                    <a:lnTo>
                      <a:pt x="47" y="26"/>
                    </a:lnTo>
                    <a:lnTo>
                      <a:pt x="47" y="24"/>
                    </a:lnTo>
                    <a:lnTo>
                      <a:pt x="47" y="21"/>
                    </a:lnTo>
                    <a:lnTo>
                      <a:pt x="45" y="19"/>
                    </a:lnTo>
                    <a:lnTo>
                      <a:pt x="43" y="17"/>
                    </a:lnTo>
                    <a:lnTo>
                      <a:pt x="43" y="16"/>
                    </a:lnTo>
                    <a:lnTo>
                      <a:pt x="45" y="16"/>
                    </a:lnTo>
                    <a:lnTo>
                      <a:pt x="45" y="14"/>
                    </a:lnTo>
                    <a:lnTo>
                      <a:pt x="45" y="12"/>
                    </a:lnTo>
                    <a:lnTo>
                      <a:pt x="43" y="10"/>
                    </a:lnTo>
                    <a:lnTo>
                      <a:pt x="42" y="8"/>
                    </a:lnTo>
                    <a:lnTo>
                      <a:pt x="39" y="5"/>
                    </a:lnTo>
                    <a:lnTo>
                      <a:pt x="38" y="2"/>
                    </a:lnTo>
                    <a:lnTo>
                      <a:pt x="36" y="1"/>
                    </a:lnTo>
                    <a:lnTo>
                      <a:pt x="35" y="1"/>
                    </a:lnTo>
                    <a:lnTo>
                      <a:pt x="34" y="0"/>
                    </a:lnTo>
                    <a:lnTo>
                      <a:pt x="31" y="0"/>
                    </a:lnTo>
                    <a:lnTo>
                      <a:pt x="29" y="0"/>
                    </a:lnTo>
                    <a:lnTo>
                      <a:pt x="28" y="0"/>
                    </a:lnTo>
                    <a:lnTo>
                      <a:pt x="26" y="0"/>
                    </a:lnTo>
                    <a:lnTo>
                      <a:pt x="23" y="0"/>
                    </a:lnTo>
                    <a:lnTo>
                      <a:pt x="21" y="1"/>
                    </a:lnTo>
                    <a:lnTo>
                      <a:pt x="17" y="1"/>
                    </a:lnTo>
                    <a:lnTo>
                      <a:pt x="14" y="2"/>
                    </a:lnTo>
                    <a:lnTo>
                      <a:pt x="11" y="5"/>
                    </a:lnTo>
                    <a:lnTo>
                      <a:pt x="10" y="5"/>
                    </a:lnTo>
                    <a:lnTo>
                      <a:pt x="7" y="10"/>
                    </a:lnTo>
                    <a:lnTo>
                      <a:pt x="6" y="12"/>
                    </a:lnTo>
                    <a:lnTo>
                      <a:pt x="5" y="14"/>
                    </a:lnTo>
                    <a:lnTo>
                      <a:pt x="3" y="17"/>
                    </a:lnTo>
                    <a:lnTo>
                      <a:pt x="3" y="21"/>
                    </a:lnTo>
                    <a:lnTo>
                      <a:pt x="3" y="24"/>
                    </a:lnTo>
                    <a:lnTo>
                      <a:pt x="3" y="27"/>
                    </a:lnTo>
                    <a:lnTo>
                      <a:pt x="5" y="31"/>
                    </a:lnTo>
                    <a:lnTo>
                      <a:pt x="7" y="35"/>
                    </a:lnTo>
                    <a:lnTo>
                      <a:pt x="10" y="40"/>
                    </a:lnTo>
                    <a:lnTo>
                      <a:pt x="11" y="45"/>
                    </a:lnTo>
                    <a:lnTo>
                      <a:pt x="10" y="47"/>
                    </a:lnTo>
                    <a:lnTo>
                      <a:pt x="9" y="48"/>
                    </a:lnTo>
                    <a:lnTo>
                      <a:pt x="7" y="50"/>
                    </a:lnTo>
                    <a:lnTo>
                      <a:pt x="6" y="52"/>
                    </a:lnTo>
                    <a:lnTo>
                      <a:pt x="3" y="52"/>
                    </a:lnTo>
                    <a:lnTo>
                      <a:pt x="1" y="53"/>
                    </a:lnTo>
                    <a:lnTo>
                      <a:pt x="0" y="54"/>
                    </a:lnTo>
                    <a:lnTo>
                      <a:pt x="0" y="56"/>
                    </a:lnTo>
                    <a:lnTo>
                      <a:pt x="0" y="168"/>
                    </a:lnTo>
                    <a:lnTo>
                      <a:pt x="0" y="227"/>
                    </a:lnTo>
                    <a:lnTo>
                      <a:pt x="21" y="227"/>
                    </a:lnTo>
                  </a:path>
                </a:pathLst>
              </a:custGeom>
              <a:gradFill rotWithShape="0">
                <a:gsLst>
                  <a:gs pos="0">
                    <a:srgbClr val="cf0e30"/>
                  </a:gs>
                  <a:gs pos="100000">
                    <a:srgbClr val="3d040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7041600" y="4712760"/>
                <a:ext cx="63720" cy="93240"/>
              </a:xfrm>
              <a:custGeom>
                <a:avLst/>
                <a:gdLst/>
                <a:ahLst/>
                <a:rect l="l" t="t" r="r" b="b"/>
                <a:pathLst>
                  <a:path w="39" h="82">
                    <a:moveTo>
                      <a:pt x="25" y="81"/>
                    </a:moveTo>
                    <a:lnTo>
                      <a:pt x="26" y="81"/>
                    </a:lnTo>
                    <a:lnTo>
                      <a:pt x="28" y="81"/>
                    </a:lnTo>
                    <a:lnTo>
                      <a:pt x="30" y="81"/>
                    </a:lnTo>
                    <a:lnTo>
                      <a:pt x="31" y="81"/>
                    </a:lnTo>
                    <a:lnTo>
                      <a:pt x="34" y="81"/>
                    </a:lnTo>
                    <a:lnTo>
                      <a:pt x="36" y="81"/>
                    </a:lnTo>
                    <a:lnTo>
                      <a:pt x="36" y="79"/>
                    </a:lnTo>
                    <a:lnTo>
                      <a:pt x="38" y="79"/>
                    </a:lnTo>
                    <a:lnTo>
                      <a:pt x="36" y="75"/>
                    </a:lnTo>
                    <a:lnTo>
                      <a:pt x="36" y="70"/>
                    </a:lnTo>
                    <a:lnTo>
                      <a:pt x="34" y="68"/>
                    </a:lnTo>
                    <a:lnTo>
                      <a:pt x="33" y="63"/>
                    </a:lnTo>
                    <a:lnTo>
                      <a:pt x="30" y="59"/>
                    </a:lnTo>
                    <a:lnTo>
                      <a:pt x="30" y="57"/>
                    </a:lnTo>
                    <a:lnTo>
                      <a:pt x="26" y="53"/>
                    </a:lnTo>
                    <a:lnTo>
                      <a:pt x="24" y="50"/>
                    </a:lnTo>
                    <a:lnTo>
                      <a:pt x="22" y="49"/>
                    </a:lnTo>
                    <a:lnTo>
                      <a:pt x="19" y="46"/>
                    </a:lnTo>
                    <a:lnTo>
                      <a:pt x="18" y="44"/>
                    </a:lnTo>
                    <a:lnTo>
                      <a:pt x="16" y="43"/>
                    </a:lnTo>
                    <a:lnTo>
                      <a:pt x="14" y="41"/>
                    </a:lnTo>
                    <a:lnTo>
                      <a:pt x="13" y="39"/>
                    </a:lnTo>
                    <a:lnTo>
                      <a:pt x="14" y="41"/>
                    </a:lnTo>
                    <a:lnTo>
                      <a:pt x="16" y="39"/>
                    </a:lnTo>
                    <a:lnTo>
                      <a:pt x="17" y="39"/>
                    </a:lnTo>
                    <a:lnTo>
                      <a:pt x="18" y="39"/>
                    </a:lnTo>
                    <a:lnTo>
                      <a:pt x="18" y="38"/>
                    </a:lnTo>
                    <a:lnTo>
                      <a:pt x="18" y="37"/>
                    </a:lnTo>
                    <a:lnTo>
                      <a:pt x="18" y="35"/>
                    </a:lnTo>
                    <a:lnTo>
                      <a:pt x="18" y="33"/>
                    </a:lnTo>
                    <a:lnTo>
                      <a:pt x="19" y="33"/>
                    </a:lnTo>
                    <a:lnTo>
                      <a:pt x="19" y="32"/>
                    </a:lnTo>
                    <a:lnTo>
                      <a:pt x="19" y="30"/>
                    </a:lnTo>
                    <a:lnTo>
                      <a:pt x="18" y="30"/>
                    </a:lnTo>
                    <a:lnTo>
                      <a:pt x="19" y="28"/>
                    </a:lnTo>
                    <a:lnTo>
                      <a:pt x="21" y="28"/>
                    </a:lnTo>
                    <a:lnTo>
                      <a:pt x="19" y="27"/>
                    </a:lnTo>
                    <a:lnTo>
                      <a:pt x="19" y="25"/>
                    </a:lnTo>
                    <a:lnTo>
                      <a:pt x="19" y="23"/>
                    </a:lnTo>
                    <a:lnTo>
                      <a:pt x="21" y="23"/>
                    </a:lnTo>
                    <a:lnTo>
                      <a:pt x="21" y="22"/>
                    </a:lnTo>
                    <a:lnTo>
                      <a:pt x="21" y="20"/>
                    </a:lnTo>
                    <a:lnTo>
                      <a:pt x="19" y="17"/>
                    </a:lnTo>
                    <a:lnTo>
                      <a:pt x="18" y="17"/>
                    </a:lnTo>
                    <a:lnTo>
                      <a:pt x="18" y="15"/>
                    </a:lnTo>
                    <a:lnTo>
                      <a:pt x="18" y="13"/>
                    </a:lnTo>
                    <a:lnTo>
                      <a:pt x="18" y="12"/>
                    </a:lnTo>
                    <a:lnTo>
                      <a:pt x="18" y="10"/>
                    </a:lnTo>
                    <a:lnTo>
                      <a:pt x="18" y="7"/>
                    </a:lnTo>
                    <a:lnTo>
                      <a:pt x="17" y="5"/>
                    </a:lnTo>
                    <a:lnTo>
                      <a:pt x="16" y="3"/>
                    </a:lnTo>
                    <a:lnTo>
                      <a:pt x="16" y="2"/>
                    </a:lnTo>
                    <a:lnTo>
                      <a:pt x="13" y="1"/>
                    </a:lnTo>
                    <a:lnTo>
                      <a:pt x="10" y="0"/>
                    </a:lnTo>
                    <a:lnTo>
                      <a:pt x="8" y="1"/>
                    </a:lnTo>
                    <a:lnTo>
                      <a:pt x="8" y="3"/>
                    </a:lnTo>
                    <a:lnTo>
                      <a:pt x="8" y="5"/>
                    </a:lnTo>
                    <a:lnTo>
                      <a:pt x="8" y="7"/>
                    </a:lnTo>
                    <a:lnTo>
                      <a:pt x="6" y="8"/>
                    </a:lnTo>
                    <a:lnTo>
                      <a:pt x="4" y="8"/>
                    </a:lnTo>
                    <a:lnTo>
                      <a:pt x="3" y="10"/>
                    </a:lnTo>
                    <a:lnTo>
                      <a:pt x="2" y="12"/>
                    </a:lnTo>
                    <a:lnTo>
                      <a:pt x="2" y="13"/>
                    </a:lnTo>
                    <a:lnTo>
                      <a:pt x="1" y="15"/>
                    </a:lnTo>
                    <a:lnTo>
                      <a:pt x="1" y="17"/>
                    </a:lnTo>
                    <a:lnTo>
                      <a:pt x="0" y="17"/>
                    </a:lnTo>
                    <a:lnTo>
                      <a:pt x="1" y="17"/>
                    </a:lnTo>
                    <a:lnTo>
                      <a:pt x="2" y="20"/>
                    </a:lnTo>
                    <a:lnTo>
                      <a:pt x="3" y="20"/>
                    </a:lnTo>
                    <a:lnTo>
                      <a:pt x="3" y="22"/>
                    </a:lnTo>
                    <a:lnTo>
                      <a:pt x="3" y="23"/>
                    </a:lnTo>
                    <a:lnTo>
                      <a:pt x="2" y="23"/>
                    </a:lnTo>
                    <a:lnTo>
                      <a:pt x="2" y="25"/>
                    </a:lnTo>
                    <a:lnTo>
                      <a:pt x="2" y="27"/>
                    </a:lnTo>
                    <a:lnTo>
                      <a:pt x="2" y="28"/>
                    </a:lnTo>
                    <a:lnTo>
                      <a:pt x="3" y="30"/>
                    </a:lnTo>
                    <a:lnTo>
                      <a:pt x="4" y="32"/>
                    </a:lnTo>
                    <a:lnTo>
                      <a:pt x="4" y="33"/>
                    </a:lnTo>
                    <a:lnTo>
                      <a:pt x="6" y="33"/>
                    </a:lnTo>
                    <a:lnTo>
                      <a:pt x="8" y="35"/>
                    </a:lnTo>
                    <a:lnTo>
                      <a:pt x="10" y="37"/>
                    </a:lnTo>
                    <a:lnTo>
                      <a:pt x="12" y="38"/>
                    </a:lnTo>
                    <a:lnTo>
                      <a:pt x="12" y="39"/>
                    </a:lnTo>
                    <a:lnTo>
                      <a:pt x="10" y="39"/>
                    </a:lnTo>
                    <a:lnTo>
                      <a:pt x="8" y="39"/>
                    </a:lnTo>
                    <a:lnTo>
                      <a:pt x="8" y="41"/>
                    </a:lnTo>
                    <a:lnTo>
                      <a:pt x="8" y="43"/>
                    </a:lnTo>
                    <a:lnTo>
                      <a:pt x="10" y="43"/>
                    </a:lnTo>
                    <a:lnTo>
                      <a:pt x="10" y="46"/>
                    </a:lnTo>
                    <a:lnTo>
                      <a:pt x="10" y="47"/>
                    </a:lnTo>
                    <a:lnTo>
                      <a:pt x="10" y="49"/>
                    </a:lnTo>
                    <a:lnTo>
                      <a:pt x="13" y="52"/>
                    </a:lnTo>
                    <a:lnTo>
                      <a:pt x="16" y="57"/>
                    </a:lnTo>
                    <a:lnTo>
                      <a:pt x="18" y="63"/>
                    </a:lnTo>
                    <a:lnTo>
                      <a:pt x="19" y="68"/>
                    </a:lnTo>
                    <a:lnTo>
                      <a:pt x="22" y="73"/>
                    </a:lnTo>
                    <a:lnTo>
                      <a:pt x="24" y="77"/>
                    </a:lnTo>
                    <a:lnTo>
                      <a:pt x="24" y="81"/>
                    </a:lnTo>
                    <a:lnTo>
                      <a:pt x="25" y="81"/>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6" name=""/>
              <p:cNvSpPr/>
              <p:nvPr/>
            </p:nvSpPr>
            <p:spPr>
              <a:xfrm>
                <a:off x="6992640" y="4752720"/>
                <a:ext cx="54000" cy="42120"/>
              </a:xfrm>
              <a:custGeom>
                <a:avLst/>
                <a:gdLst/>
                <a:ahLst/>
                <a:rect l="l" t="t" r="r" b="b"/>
                <a:pathLst>
                  <a:path w="33" h="37">
                    <a:moveTo>
                      <a:pt x="10" y="0"/>
                    </a:moveTo>
                    <a:lnTo>
                      <a:pt x="8" y="1"/>
                    </a:lnTo>
                    <a:lnTo>
                      <a:pt x="8" y="2"/>
                    </a:lnTo>
                    <a:lnTo>
                      <a:pt x="7" y="4"/>
                    </a:lnTo>
                    <a:lnTo>
                      <a:pt x="5" y="5"/>
                    </a:lnTo>
                    <a:lnTo>
                      <a:pt x="3" y="5"/>
                    </a:lnTo>
                    <a:lnTo>
                      <a:pt x="1" y="6"/>
                    </a:lnTo>
                    <a:lnTo>
                      <a:pt x="0" y="7"/>
                    </a:lnTo>
                    <a:lnTo>
                      <a:pt x="0" y="9"/>
                    </a:lnTo>
                    <a:lnTo>
                      <a:pt x="1" y="7"/>
                    </a:lnTo>
                    <a:lnTo>
                      <a:pt x="3" y="6"/>
                    </a:lnTo>
                    <a:lnTo>
                      <a:pt x="5" y="6"/>
                    </a:lnTo>
                    <a:lnTo>
                      <a:pt x="8" y="7"/>
                    </a:lnTo>
                    <a:lnTo>
                      <a:pt x="10" y="9"/>
                    </a:lnTo>
                    <a:lnTo>
                      <a:pt x="13" y="11"/>
                    </a:lnTo>
                    <a:lnTo>
                      <a:pt x="15" y="13"/>
                    </a:lnTo>
                    <a:lnTo>
                      <a:pt x="18" y="16"/>
                    </a:lnTo>
                    <a:lnTo>
                      <a:pt x="20" y="20"/>
                    </a:lnTo>
                    <a:lnTo>
                      <a:pt x="24" y="24"/>
                    </a:lnTo>
                    <a:lnTo>
                      <a:pt x="25" y="26"/>
                    </a:lnTo>
                    <a:lnTo>
                      <a:pt x="28" y="29"/>
                    </a:lnTo>
                    <a:lnTo>
                      <a:pt x="30" y="32"/>
                    </a:lnTo>
                    <a:lnTo>
                      <a:pt x="31" y="34"/>
                    </a:lnTo>
                    <a:lnTo>
                      <a:pt x="32" y="34"/>
                    </a:lnTo>
                    <a:lnTo>
                      <a:pt x="32" y="36"/>
                    </a:lnTo>
                    <a:lnTo>
                      <a:pt x="32" y="29"/>
                    </a:lnTo>
                    <a:lnTo>
                      <a:pt x="32" y="24"/>
                    </a:lnTo>
                    <a:lnTo>
                      <a:pt x="32" y="20"/>
                    </a:lnTo>
                    <a:lnTo>
                      <a:pt x="31" y="20"/>
                    </a:lnTo>
                    <a:lnTo>
                      <a:pt x="31" y="18"/>
                    </a:lnTo>
                    <a:lnTo>
                      <a:pt x="30" y="18"/>
                    </a:lnTo>
                    <a:lnTo>
                      <a:pt x="28" y="16"/>
                    </a:lnTo>
                    <a:lnTo>
                      <a:pt x="28" y="13"/>
                    </a:lnTo>
                    <a:lnTo>
                      <a:pt x="28" y="12"/>
                    </a:lnTo>
                    <a:lnTo>
                      <a:pt x="27" y="12"/>
                    </a:lnTo>
                    <a:lnTo>
                      <a:pt x="25" y="11"/>
                    </a:lnTo>
                    <a:lnTo>
                      <a:pt x="24" y="9"/>
                    </a:lnTo>
                    <a:lnTo>
                      <a:pt x="22" y="9"/>
                    </a:lnTo>
                    <a:lnTo>
                      <a:pt x="20" y="7"/>
                    </a:lnTo>
                    <a:lnTo>
                      <a:pt x="18" y="6"/>
                    </a:lnTo>
                    <a:lnTo>
                      <a:pt x="16" y="5"/>
                    </a:lnTo>
                    <a:lnTo>
                      <a:pt x="15" y="5"/>
                    </a:lnTo>
                    <a:lnTo>
                      <a:pt x="14" y="4"/>
                    </a:lnTo>
                    <a:lnTo>
                      <a:pt x="13" y="2"/>
                    </a:lnTo>
                    <a:lnTo>
                      <a:pt x="11" y="1"/>
                    </a:lnTo>
                    <a:lnTo>
                      <a:pt x="10" y="1"/>
                    </a:lnTo>
                    <a:lnTo>
                      <a:pt x="10" y="0"/>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97" name=""/>
              <p:cNvSpPr/>
              <p:nvPr/>
            </p:nvSpPr>
            <p:spPr>
              <a:xfrm>
                <a:off x="7020360" y="4730760"/>
                <a:ext cx="27720" cy="19080"/>
              </a:xfrm>
              <a:custGeom>
                <a:avLst/>
                <a:gdLst/>
                <a:ahLst/>
                <a:rect l="l" t="t" r="r" b="b"/>
                <a:pathLst>
                  <a:path w="17" h="17">
                    <a:moveTo>
                      <a:pt x="8" y="0"/>
                    </a:moveTo>
                    <a:lnTo>
                      <a:pt x="0" y="1"/>
                    </a:lnTo>
                    <a:lnTo>
                      <a:pt x="0" y="4"/>
                    </a:lnTo>
                    <a:lnTo>
                      <a:pt x="0" y="8"/>
                    </a:lnTo>
                    <a:lnTo>
                      <a:pt x="0" y="9"/>
                    </a:lnTo>
                    <a:lnTo>
                      <a:pt x="8" y="9"/>
                    </a:lnTo>
                    <a:lnTo>
                      <a:pt x="8" y="12"/>
                    </a:lnTo>
                    <a:lnTo>
                      <a:pt x="8" y="14"/>
                    </a:lnTo>
                    <a:lnTo>
                      <a:pt x="8" y="16"/>
                    </a:lnTo>
                    <a:lnTo>
                      <a:pt x="16" y="16"/>
                    </a:lnTo>
                    <a:lnTo>
                      <a:pt x="16" y="14"/>
                    </a:lnTo>
                    <a:lnTo>
                      <a:pt x="16" y="12"/>
                    </a:lnTo>
                    <a:lnTo>
                      <a:pt x="16" y="8"/>
                    </a:lnTo>
                    <a:lnTo>
                      <a:pt x="16" y="4"/>
                    </a:lnTo>
                    <a:lnTo>
                      <a:pt x="16" y="1"/>
                    </a:lnTo>
                    <a:lnTo>
                      <a:pt x="16" y="0"/>
                    </a:lnTo>
                    <a:lnTo>
                      <a:pt x="8"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8" name=""/>
              <p:cNvSpPr/>
              <p:nvPr/>
            </p:nvSpPr>
            <p:spPr>
              <a:xfrm>
                <a:off x="7061040" y="4729680"/>
                <a:ext cx="27720" cy="19080"/>
              </a:xfrm>
              <a:custGeom>
                <a:avLst/>
                <a:gdLst/>
                <a:ahLst/>
                <a:rect l="l" t="t" r="r" b="b"/>
                <a:pathLst>
                  <a:path w="17" h="17">
                    <a:moveTo>
                      <a:pt x="0" y="8"/>
                    </a:moveTo>
                    <a:lnTo>
                      <a:pt x="0" y="0"/>
                    </a:lnTo>
                    <a:lnTo>
                      <a:pt x="16" y="0"/>
                    </a:lnTo>
                    <a:lnTo>
                      <a:pt x="16" y="8"/>
                    </a:lnTo>
                    <a:lnTo>
                      <a:pt x="0" y="8"/>
                    </a:lnTo>
                    <a:lnTo>
                      <a:pt x="16" y="8"/>
                    </a:lnTo>
                    <a:lnTo>
                      <a:pt x="0" y="8"/>
                    </a:lnTo>
                    <a:lnTo>
                      <a:pt x="0" y="16"/>
                    </a:lnTo>
                    <a:lnTo>
                      <a:pt x="0" y="8"/>
                    </a:lnTo>
                    <a:lnTo>
                      <a:pt x="0" y="8"/>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7056360" y="4743720"/>
                <a:ext cx="27720" cy="19080"/>
              </a:xfrm>
              <a:custGeom>
                <a:avLst/>
                <a:gdLst/>
                <a:ahLst/>
                <a:rect l="l" t="t" r="r" b="b"/>
                <a:pathLst>
                  <a:path w="17" h="17">
                    <a:moveTo>
                      <a:pt x="0" y="16"/>
                    </a:moveTo>
                    <a:lnTo>
                      <a:pt x="0" y="0"/>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0" name=""/>
              <p:cNvSpPr/>
              <p:nvPr/>
            </p:nvSpPr>
            <p:spPr>
              <a:xfrm>
                <a:off x="7056360" y="4699080"/>
                <a:ext cx="27720" cy="19080"/>
              </a:xfrm>
              <a:custGeom>
                <a:avLst/>
                <a:gdLst/>
                <a:ahLst/>
                <a:rect l="l" t="t" r="r" b="b"/>
                <a:pathLst>
                  <a:path w="17" h="17">
                    <a:moveTo>
                      <a:pt x="12" y="16"/>
                    </a:moveTo>
                    <a:lnTo>
                      <a:pt x="16" y="16"/>
                    </a:lnTo>
                    <a:lnTo>
                      <a:pt x="16" y="12"/>
                    </a:lnTo>
                    <a:lnTo>
                      <a:pt x="12" y="9"/>
                    </a:lnTo>
                    <a:lnTo>
                      <a:pt x="11" y="8"/>
                    </a:lnTo>
                    <a:lnTo>
                      <a:pt x="6" y="4"/>
                    </a:lnTo>
                    <a:lnTo>
                      <a:pt x="4" y="3"/>
                    </a:lnTo>
                    <a:lnTo>
                      <a:pt x="1" y="1"/>
                    </a:lnTo>
                    <a:lnTo>
                      <a:pt x="0" y="1"/>
                    </a:lnTo>
                    <a:lnTo>
                      <a:pt x="0" y="0"/>
                    </a:lnTo>
                    <a:lnTo>
                      <a:pt x="4" y="1"/>
                    </a:lnTo>
                    <a:lnTo>
                      <a:pt x="6" y="3"/>
                    </a:lnTo>
                    <a:lnTo>
                      <a:pt x="11" y="6"/>
                    </a:lnTo>
                    <a:lnTo>
                      <a:pt x="12" y="9"/>
                    </a:lnTo>
                    <a:lnTo>
                      <a:pt x="16" y="11"/>
                    </a:lnTo>
                    <a:lnTo>
                      <a:pt x="16" y="12"/>
                    </a:lnTo>
                    <a:lnTo>
                      <a:pt x="16" y="16"/>
                    </a:lnTo>
                    <a:lnTo>
                      <a:pt x="12"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7444080" y="4872600"/>
                <a:ext cx="104400" cy="28440"/>
              </a:xfrm>
              <a:custGeom>
                <a:avLst/>
                <a:gdLst/>
                <a:ahLst/>
                <a:rect l="l" t="t" r="r" b="b"/>
                <a:pathLst>
                  <a:path w="64" h="25">
                    <a:moveTo>
                      <a:pt x="0" y="15"/>
                    </a:moveTo>
                    <a:lnTo>
                      <a:pt x="51" y="24"/>
                    </a:lnTo>
                    <a:lnTo>
                      <a:pt x="63" y="5"/>
                    </a:lnTo>
                    <a:lnTo>
                      <a:pt x="14" y="0"/>
                    </a:lnTo>
                    <a:lnTo>
                      <a:pt x="0" y="15"/>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2" name=""/>
              <p:cNvSpPr/>
              <p:nvPr/>
            </p:nvSpPr>
            <p:spPr>
              <a:xfrm>
                <a:off x="7296480" y="4816440"/>
                <a:ext cx="79920" cy="20160"/>
              </a:xfrm>
              <a:custGeom>
                <a:avLst/>
                <a:gdLst/>
                <a:ahLst/>
                <a:rect l="l" t="t" r="r" b="b"/>
                <a:pathLst>
                  <a:path w="49" h="18">
                    <a:moveTo>
                      <a:pt x="0" y="1"/>
                    </a:moveTo>
                    <a:lnTo>
                      <a:pt x="35" y="0"/>
                    </a:lnTo>
                    <a:lnTo>
                      <a:pt x="48" y="16"/>
                    </a:lnTo>
                    <a:lnTo>
                      <a:pt x="5" y="17"/>
                    </a:lnTo>
                    <a:lnTo>
                      <a:pt x="0" y="1"/>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03" name=""/>
              <p:cNvSpPr/>
              <p:nvPr/>
            </p:nvSpPr>
            <p:spPr>
              <a:xfrm>
                <a:off x="7170840" y="4834800"/>
                <a:ext cx="102960" cy="21240"/>
              </a:xfrm>
              <a:custGeom>
                <a:avLst/>
                <a:gdLst/>
                <a:ahLst/>
                <a:rect l="l" t="t" r="r" b="b"/>
                <a:pathLst>
                  <a:path w="63" h="19">
                    <a:moveTo>
                      <a:pt x="0" y="12"/>
                    </a:moveTo>
                    <a:lnTo>
                      <a:pt x="50" y="18"/>
                    </a:lnTo>
                    <a:lnTo>
                      <a:pt x="62" y="4"/>
                    </a:lnTo>
                    <a:lnTo>
                      <a:pt x="15" y="0"/>
                    </a:lnTo>
                    <a:lnTo>
                      <a:pt x="0" y="12"/>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04" name=""/>
              <p:cNvSpPr/>
              <p:nvPr/>
            </p:nvSpPr>
            <p:spPr>
              <a:xfrm>
                <a:off x="7287120" y="4896720"/>
                <a:ext cx="27720" cy="31680"/>
              </a:xfrm>
              <a:custGeom>
                <a:avLst/>
                <a:gdLst/>
                <a:ahLst/>
                <a:rect l="l" t="t" r="r" b="b"/>
                <a:pathLst>
                  <a:path w="17" h="28">
                    <a:moveTo>
                      <a:pt x="8" y="27"/>
                    </a:moveTo>
                    <a:lnTo>
                      <a:pt x="10" y="26"/>
                    </a:lnTo>
                    <a:lnTo>
                      <a:pt x="12" y="26"/>
                    </a:lnTo>
                    <a:lnTo>
                      <a:pt x="13" y="26"/>
                    </a:lnTo>
                    <a:lnTo>
                      <a:pt x="15" y="25"/>
                    </a:lnTo>
                    <a:lnTo>
                      <a:pt x="15" y="23"/>
                    </a:lnTo>
                    <a:lnTo>
                      <a:pt x="16" y="22"/>
                    </a:lnTo>
                    <a:lnTo>
                      <a:pt x="16" y="2"/>
                    </a:lnTo>
                    <a:lnTo>
                      <a:pt x="15" y="2"/>
                    </a:lnTo>
                    <a:lnTo>
                      <a:pt x="13" y="1"/>
                    </a:lnTo>
                    <a:lnTo>
                      <a:pt x="12" y="1"/>
                    </a:lnTo>
                    <a:lnTo>
                      <a:pt x="10" y="0"/>
                    </a:lnTo>
                    <a:lnTo>
                      <a:pt x="8" y="0"/>
                    </a:lnTo>
                    <a:lnTo>
                      <a:pt x="6" y="0"/>
                    </a:lnTo>
                    <a:lnTo>
                      <a:pt x="4" y="0"/>
                    </a:lnTo>
                    <a:lnTo>
                      <a:pt x="3" y="1"/>
                    </a:lnTo>
                    <a:lnTo>
                      <a:pt x="1" y="1"/>
                    </a:lnTo>
                    <a:lnTo>
                      <a:pt x="0" y="1"/>
                    </a:lnTo>
                    <a:lnTo>
                      <a:pt x="0" y="2"/>
                    </a:lnTo>
                    <a:lnTo>
                      <a:pt x="0" y="25"/>
                    </a:lnTo>
                    <a:lnTo>
                      <a:pt x="0" y="26"/>
                    </a:lnTo>
                    <a:lnTo>
                      <a:pt x="1" y="26"/>
                    </a:lnTo>
                    <a:lnTo>
                      <a:pt x="3" y="26"/>
                    </a:lnTo>
                    <a:lnTo>
                      <a:pt x="4" y="27"/>
                    </a:lnTo>
                    <a:lnTo>
                      <a:pt x="7" y="27"/>
                    </a:lnTo>
                    <a:lnTo>
                      <a:pt x="8" y="27"/>
                    </a:lnTo>
                    <a:lnTo>
                      <a:pt x="8" y="2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5" name=""/>
              <p:cNvSpPr/>
              <p:nvPr/>
            </p:nvSpPr>
            <p:spPr>
              <a:xfrm>
                <a:off x="7290360" y="4893120"/>
                <a:ext cx="27720" cy="19080"/>
              </a:xfrm>
              <a:custGeom>
                <a:avLst/>
                <a:gdLst/>
                <a:ahLst/>
                <a:rect l="l" t="t" r="r" b="b"/>
                <a:pathLst>
                  <a:path w="17" h="17">
                    <a:moveTo>
                      <a:pt x="8" y="0"/>
                    </a:moveTo>
                    <a:lnTo>
                      <a:pt x="9" y="0"/>
                    </a:lnTo>
                    <a:lnTo>
                      <a:pt x="11" y="0"/>
                    </a:lnTo>
                    <a:lnTo>
                      <a:pt x="12" y="0"/>
                    </a:lnTo>
                    <a:lnTo>
                      <a:pt x="14" y="0"/>
                    </a:lnTo>
                    <a:lnTo>
                      <a:pt x="16" y="0"/>
                    </a:lnTo>
                    <a:lnTo>
                      <a:pt x="16" y="8"/>
                    </a:lnTo>
                    <a:lnTo>
                      <a:pt x="16" y="16"/>
                    </a:lnTo>
                    <a:lnTo>
                      <a:pt x="14" y="16"/>
                    </a:lnTo>
                    <a:lnTo>
                      <a:pt x="12" y="16"/>
                    </a:lnTo>
                    <a:lnTo>
                      <a:pt x="11" y="16"/>
                    </a:lnTo>
                    <a:lnTo>
                      <a:pt x="9" y="16"/>
                    </a:lnTo>
                    <a:lnTo>
                      <a:pt x="8" y="16"/>
                    </a:lnTo>
                    <a:lnTo>
                      <a:pt x="6" y="16"/>
                    </a:lnTo>
                    <a:lnTo>
                      <a:pt x="4" y="16"/>
                    </a:lnTo>
                    <a:lnTo>
                      <a:pt x="1" y="16"/>
                    </a:lnTo>
                    <a:lnTo>
                      <a:pt x="1" y="8"/>
                    </a:lnTo>
                    <a:lnTo>
                      <a:pt x="0" y="8"/>
                    </a:lnTo>
                    <a:lnTo>
                      <a:pt x="1" y="8"/>
                    </a:lnTo>
                    <a:lnTo>
                      <a:pt x="1" y="0"/>
                    </a:lnTo>
                    <a:lnTo>
                      <a:pt x="4" y="0"/>
                    </a:lnTo>
                    <a:lnTo>
                      <a:pt x="6" y="0"/>
                    </a:lnTo>
                    <a:lnTo>
                      <a:pt x="8" y="0"/>
                    </a:lnTo>
                    <a:lnTo>
                      <a:pt x="8"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6" name=""/>
              <p:cNvSpPr/>
              <p:nvPr/>
            </p:nvSpPr>
            <p:spPr>
              <a:xfrm>
                <a:off x="7028280" y="4740120"/>
                <a:ext cx="274680" cy="218880"/>
              </a:xfrm>
              <a:custGeom>
                <a:avLst/>
                <a:gdLst/>
                <a:ahLst/>
                <a:rect l="l" t="t" r="r" b="b"/>
                <a:pathLst>
                  <a:path w="168" h="192">
                    <a:moveTo>
                      <a:pt x="165" y="143"/>
                    </a:moveTo>
                    <a:lnTo>
                      <a:pt x="163" y="140"/>
                    </a:lnTo>
                    <a:lnTo>
                      <a:pt x="162" y="140"/>
                    </a:lnTo>
                    <a:lnTo>
                      <a:pt x="162" y="143"/>
                    </a:lnTo>
                    <a:lnTo>
                      <a:pt x="159" y="143"/>
                    </a:lnTo>
                    <a:lnTo>
                      <a:pt x="158" y="143"/>
                    </a:lnTo>
                    <a:lnTo>
                      <a:pt x="156" y="143"/>
                    </a:lnTo>
                    <a:lnTo>
                      <a:pt x="155" y="145"/>
                    </a:lnTo>
                    <a:lnTo>
                      <a:pt x="154" y="143"/>
                    </a:lnTo>
                    <a:lnTo>
                      <a:pt x="155" y="143"/>
                    </a:lnTo>
                    <a:lnTo>
                      <a:pt x="155" y="140"/>
                    </a:lnTo>
                    <a:lnTo>
                      <a:pt x="155" y="139"/>
                    </a:lnTo>
                    <a:lnTo>
                      <a:pt x="154" y="139"/>
                    </a:lnTo>
                    <a:lnTo>
                      <a:pt x="154" y="137"/>
                    </a:lnTo>
                    <a:lnTo>
                      <a:pt x="151" y="139"/>
                    </a:lnTo>
                    <a:lnTo>
                      <a:pt x="149" y="139"/>
                    </a:lnTo>
                    <a:lnTo>
                      <a:pt x="149" y="140"/>
                    </a:lnTo>
                    <a:lnTo>
                      <a:pt x="149" y="143"/>
                    </a:lnTo>
                    <a:lnTo>
                      <a:pt x="147" y="143"/>
                    </a:lnTo>
                    <a:lnTo>
                      <a:pt x="147" y="145"/>
                    </a:lnTo>
                    <a:lnTo>
                      <a:pt x="145" y="147"/>
                    </a:lnTo>
                    <a:lnTo>
                      <a:pt x="143" y="148"/>
                    </a:lnTo>
                    <a:lnTo>
                      <a:pt x="142" y="148"/>
                    </a:lnTo>
                    <a:lnTo>
                      <a:pt x="141" y="148"/>
                    </a:lnTo>
                    <a:lnTo>
                      <a:pt x="141" y="147"/>
                    </a:lnTo>
                    <a:lnTo>
                      <a:pt x="140" y="147"/>
                    </a:lnTo>
                    <a:lnTo>
                      <a:pt x="138" y="147"/>
                    </a:lnTo>
                    <a:lnTo>
                      <a:pt x="135" y="147"/>
                    </a:lnTo>
                    <a:lnTo>
                      <a:pt x="133" y="147"/>
                    </a:lnTo>
                    <a:lnTo>
                      <a:pt x="131" y="148"/>
                    </a:lnTo>
                    <a:lnTo>
                      <a:pt x="129" y="148"/>
                    </a:lnTo>
                    <a:lnTo>
                      <a:pt x="125" y="148"/>
                    </a:lnTo>
                    <a:lnTo>
                      <a:pt x="124" y="148"/>
                    </a:lnTo>
                    <a:lnTo>
                      <a:pt x="120" y="148"/>
                    </a:lnTo>
                    <a:lnTo>
                      <a:pt x="117" y="148"/>
                    </a:lnTo>
                    <a:lnTo>
                      <a:pt x="114" y="148"/>
                    </a:lnTo>
                    <a:lnTo>
                      <a:pt x="111" y="151"/>
                    </a:lnTo>
                    <a:lnTo>
                      <a:pt x="109" y="151"/>
                    </a:lnTo>
                    <a:lnTo>
                      <a:pt x="106" y="151"/>
                    </a:lnTo>
                    <a:lnTo>
                      <a:pt x="104" y="148"/>
                    </a:lnTo>
                    <a:lnTo>
                      <a:pt x="102" y="148"/>
                    </a:lnTo>
                    <a:lnTo>
                      <a:pt x="99" y="148"/>
                    </a:lnTo>
                    <a:lnTo>
                      <a:pt x="97" y="151"/>
                    </a:lnTo>
                    <a:lnTo>
                      <a:pt x="95" y="151"/>
                    </a:lnTo>
                    <a:lnTo>
                      <a:pt x="95" y="152"/>
                    </a:lnTo>
                    <a:lnTo>
                      <a:pt x="94" y="152"/>
                    </a:lnTo>
                    <a:lnTo>
                      <a:pt x="94" y="151"/>
                    </a:lnTo>
                    <a:lnTo>
                      <a:pt x="94" y="148"/>
                    </a:lnTo>
                    <a:lnTo>
                      <a:pt x="93" y="148"/>
                    </a:lnTo>
                    <a:lnTo>
                      <a:pt x="90" y="148"/>
                    </a:lnTo>
                    <a:lnTo>
                      <a:pt x="93" y="148"/>
                    </a:lnTo>
                    <a:lnTo>
                      <a:pt x="93" y="145"/>
                    </a:lnTo>
                    <a:lnTo>
                      <a:pt x="93" y="143"/>
                    </a:lnTo>
                    <a:lnTo>
                      <a:pt x="90" y="143"/>
                    </a:lnTo>
                    <a:lnTo>
                      <a:pt x="90" y="140"/>
                    </a:lnTo>
                    <a:lnTo>
                      <a:pt x="86" y="127"/>
                    </a:lnTo>
                    <a:lnTo>
                      <a:pt x="80" y="116"/>
                    </a:lnTo>
                    <a:lnTo>
                      <a:pt x="79" y="108"/>
                    </a:lnTo>
                    <a:lnTo>
                      <a:pt x="79" y="100"/>
                    </a:lnTo>
                    <a:lnTo>
                      <a:pt x="79" y="95"/>
                    </a:lnTo>
                    <a:lnTo>
                      <a:pt x="79" y="90"/>
                    </a:lnTo>
                    <a:lnTo>
                      <a:pt x="79" y="89"/>
                    </a:lnTo>
                    <a:lnTo>
                      <a:pt x="79" y="87"/>
                    </a:lnTo>
                    <a:lnTo>
                      <a:pt x="80" y="85"/>
                    </a:lnTo>
                    <a:lnTo>
                      <a:pt x="80" y="76"/>
                    </a:lnTo>
                    <a:lnTo>
                      <a:pt x="81" y="76"/>
                    </a:lnTo>
                    <a:lnTo>
                      <a:pt x="84" y="75"/>
                    </a:lnTo>
                    <a:lnTo>
                      <a:pt x="86" y="75"/>
                    </a:lnTo>
                    <a:lnTo>
                      <a:pt x="86" y="73"/>
                    </a:lnTo>
                    <a:lnTo>
                      <a:pt x="86" y="71"/>
                    </a:lnTo>
                    <a:lnTo>
                      <a:pt x="87" y="71"/>
                    </a:lnTo>
                    <a:lnTo>
                      <a:pt x="89" y="71"/>
                    </a:lnTo>
                    <a:lnTo>
                      <a:pt x="90" y="71"/>
                    </a:lnTo>
                    <a:lnTo>
                      <a:pt x="93" y="71"/>
                    </a:lnTo>
                    <a:lnTo>
                      <a:pt x="94" y="70"/>
                    </a:lnTo>
                    <a:lnTo>
                      <a:pt x="94" y="68"/>
                    </a:lnTo>
                    <a:lnTo>
                      <a:pt x="95" y="66"/>
                    </a:lnTo>
                    <a:lnTo>
                      <a:pt x="95" y="64"/>
                    </a:lnTo>
                    <a:lnTo>
                      <a:pt x="100" y="59"/>
                    </a:lnTo>
                    <a:lnTo>
                      <a:pt x="102" y="59"/>
                    </a:lnTo>
                    <a:lnTo>
                      <a:pt x="103" y="59"/>
                    </a:lnTo>
                    <a:lnTo>
                      <a:pt x="103" y="57"/>
                    </a:lnTo>
                    <a:lnTo>
                      <a:pt x="103" y="55"/>
                    </a:lnTo>
                    <a:lnTo>
                      <a:pt x="103" y="54"/>
                    </a:lnTo>
                    <a:lnTo>
                      <a:pt x="104" y="50"/>
                    </a:lnTo>
                    <a:lnTo>
                      <a:pt x="106" y="50"/>
                    </a:lnTo>
                    <a:lnTo>
                      <a:pt x="107" y="50"/>
                    </a:lnTo>
                    <a:lnTo>
                      <a:pt x="109" y="49"/>
                    </a:lnTo>
                    <a:lnTo>
                      <a:pt x="109" y="47"/>
                    </a:lnTo>
                    <a:lnTo>
                      <a:pt x="106" y="44"/>
                    </a:lnTo>
                    <a:lnTo>
                      <a:pt x="106" y="40"/>
                    </a:lnTo>
                    <a:lnTo>
                      <a:pt x="107" y="34"/>
                    </a:lnTo>
                    <a:lnTo>
                      <a:pt x="106" y="29"/>
                    </a:lnTo>
                    <a:lnTo>
                      <a:pt x="106" y="26"/>
                    </a:lnTo>
                    <a:lnTo>
                      <a:pt x="107" y="26"/>
                    </a:lnTo>
                    <a:lnTo>
                      <a:pt x="107" y="24"/>
                    </a:lnTo>
                    <a:lnTo>
                      <a:pt x="109" y="23"/>
                    </a:lnTo>
                    <a:lnTo>
                      <a:pt x="109" y="21"/>
                    </a:lnTo>
                    <a:lnTo>
                      <a:pt x="111" y="19"/>
                    </a:lnTo>
                    <a:lnTo>
                      <a:pt x="111" y="18"/>
                    </a:lnTo>
                    <a:lnTo>
                      <a:pt x="109" y="17"/>
                    </a:lnTo>
                    <a:lnTo>
                      <a:pt x="107" y="12"/>
                    </a:lnTo>
                    <a:lnTo>
                      <a:pt x="106" y="12"/>
                    </a:lnTo>
                    <a:lnTo>
                      <a:pt x="104" y="10"/>
                    </a:lnTo>
                    <a:lnTo>
                      <a:pt x="103" y="8"/>
                    </a:lnTo>
                    <a:lnTo>
                      <a:pt x="102" y="5"/>
                    </a:lnTo>
                    <a:lnTo>
                      <a:pt x="99" y="2"/>
                    </a:lnTo>
                    <a:lnTo>
                      <a:pt x="94" y="1"/>
                    </a:lnTo>
                    <a:lnTo>
                      <a:pt x="90" y="0"/>
                    </a:lnTo>
                    <a:lnTo>
                      <a:pt x="86" y="0"/>
                    </a:lnTo>
                    <a:lnTo>
                      <a:pt x="84" y="0"/>
                    </a:lnTo>
                    <a:lnTo>
                      <a:pt x="80" y="0"/>
                    </a:lnTo>
                    <a:lnTo>
                      <a:pt x="77" y="0"/>
                    </a:lnTo>
                    <a:lnTo>
                      <a:pt x="73" y="0"/>
                    </a:lnTo>
                    <a:lnTo>
                      <a:pt x="72" y="1"/>
                    </a:lnTo>
                    <a:lnTo>
                      <a:pt x="69" y="2"/>
                    </a:lnTo>
                    <a:lnTo>
                      <a:pt x="67" y="2"/>
                    </a:lnTo>
                    <a:lnTo>
                      <a:pt x="66" y="5"/>
                    </a:lnTo>
                    <a:lnTo>
                      <a:pt x="64" y="7"/>
                    </a:lnTo>
                    <a:lnTo>
                      <a:pt x="62" y="8"/>
                    </a:lnTo>
                    <a:lnTo>
                      <a:pt x="61" y="10"/>
                    </a:lnTo>
                    <a:lnTo>
                      <a:pt x="60" y="12"/>
                    </a:lnTo>
                    <a:lnTo>
                      <a:pt x="58" y="15"/>
                    </a:lnTo>
                    <a:lnTo>
                      <a:pt x="55" y="17"/>
                    </a:lnTo>
                    <a:lnTo>
                      <a:pt x="55" y="21"/>
                    </a:lnTo>
                    <a:lnTo>
                      <a:pt x="55" y="26"/>
                    </a:lnTo>
                    <a:lnTo>
                      <a:pt x="55" y="31"/>
                    </a:lnTo>
                    <a:lnTo>
                      <a:pt x="55" y="38"/>
                    </a:lnTo>
                    <a:lnTo>
                      <a:pt x="55" y="44"/>
                    </a:lnTo>
                    <a:lnTo>
                      <a:pt x="58" y="45"/>
                    </a:lnTo>
                    <a:lnTo>
                      <a:pt x="58" y="50"/>
                    </a:lnTo>
                    <a:lnTo>
                      <a:pt x="55" y="54"/>
                    </a:lnTo>
                    <a:lnTo>
                      <a:pt x="55" y="57"/>
                    </a:lnTo>
                    <a:lnTo>
                      <a:pt x="51" y="61"/>
                    </a:lnTo>
                    <a:lnTo>
                      <a:pt x="49" y="61"/>
                    </a:lnTo>
                    <a:lnTo>
                      <a:pt x="49" y="63"/>
                    </a:lnTo>
                    <a:lnTo>
                      <a:pt x="47" y="63"/>
                    </a:lnTo>
                    <a:lnTo>
                      <a:pt x="44" y="63"/>
                    </a:lnTo>
                    <a:lnTo>
                      <a:pt x="43" y="63"/>
                    </a:lnTo>
                    <a:lnTo>
                      <a:pt x="39" y="63"/>
                    </a:lnTo>
                    <a:lnTo>
                      <a:pt x="38" y="63"/>
                    </a:lnTo>
                    <a:lnTo>
                      <a:pt x="36" y="63"/>
                    </a:lnTo>
                    <a:lnTo>
                      <a:pt x="35" y="64"/>
                    </a:lnTo>
                    <a:lnTo>
                      <a:pt x="33" y="64"/>
                    </a:lnTo>
                    <a:lnTo>
                      <a:pt x="31" y="66"/>
                    </a:lnTo>
                    <a:lnTo>
                      <a:pt x="30" y="68"/>
                    </a:lnTo>
                    <a:lnTo>
                      <a:pt x="29" y="70"/>
                    </a:lnTo>
                    <a:lnTo>
                      <a:pt x="28" y="73"/>
                    </a:lnTo>
                    <a:lnTo>
                      <a:pt x="24" y="75"/>
                    </a:lnTo>
                    <a:lnTo>
                      <a:pt x="23" y="78"/>
                    </a:lnTo>
                    <a:lnTo>
                      <a:pt x="21" y="80"/>
                    </a:lnTo>
                    <a:lnTo>
                      <a:pt x="19" y="82"/>
                    </a:lnTo>
                    <a:lnTo>
                      <a:pt x="18" y="85"/>
                    </a:lnTo>
                    <a:lnTo>
                      <a:pt x="17" y="89"/>
                    </a:lnTo>
                    <a:lnTo>
                      <a:pt x="17" y="90"/>
                    </a:lnTo>
                    <a:lnTo>
                      <a:pt x="15" y="95"/>
                    </a:lnTo>
                    <a:lnTo>
                      <a:pt x="15" y="97"/>
                    </a:lnTo>
                    <a:lnTo>
                      <a:pt x="13" y="100"/>
                    </a:lnTo>
                    <a:lnTo>
                      <a:pt x="12" y="103"/>
                    </a:lnTo>
                    <a:lnTo>
                      <a:pt x="10" y="110"/>
                    </a:lnTo>
                    <a:lnTo>
                      <a:pt x="10" y="116"/>
                    </a:lnTo>
                    <a:lnTo>
                      <a:pt x="8" y="123"/>
                    </a:lnTo>
                    <a:lnTo>
                      <a:pt x="6" y="133"/>
                    </a:lnTo>
                    <a:lnTo>
                      <a:pt x="4" y="140"/>
                    </a:lnTo>
                    <a:lnTo>
                      <a:pt x="4" y="151"/>
                    </a:lnTo>
                    <a:lnTo>
                      <a:pt x="1" y="159"/>
                    </a:lnTo>
                    <a:lnTo>
                      <a:pt x="1" y="170"/>
                    </a:lnTo>
                    <a:lnTo>
                      <a:pt x="0" y="181"/>
                    </a:lnTo>
                    <a:lnTo>
                      <a:pt x="1" y="191"/>
                    </a:lnTo>
                    <a:lnTo>
                      <a:pt x="18" y="191"/>
                    </a:lnTo>
                    <a:lnTo>
                      <a:pt x="76" y="191"/>
                    </a:lnTo>
                    <a:lnTo>
                      <a:pt x="76" y="183"/>
                    </a:lnTo>
                    <a:lnTo>
                      <a:pt x="77" y="183"/>
                    </a:lnTo>
                    <a:lnTo>
                      <a:pt x="79" y="181"/>
                    </a:lnTo>
                    <a:lnTo>
                      <a:pt x="80" y="181"/>
                    </a:lnTo>
                    <a:lnTo>
                      <a:pt x="81" y="183"/>
                    </a:lnTo>
                    <a:lnTo>
                      <a:pt x="84" y="183"/>
                    </a:lnTo>
                    <a:lnTo>
                      <a:pt x="86" y="183"/>
                    </a:lnTo>
                    <a:lnTo>
                      <a:pt x="87" y="183"/>
                    </a:lnTo>
                    <a:lnTo>
                      <a:pt x="89" y="183"/>
                    </a:lnTo>
                    <a:lnTo>
                      <a:pt x="90" y="184"/>
                    </a:lnTo>
                    <a:lnTo>
                      <a:pt x="93" y="184"/>
                    </a:lnTo>
                    <a:lnTo>
                      <a:pt x="94" y="184"/>
                    </a:lnTo>
                    <a:lnTo>
                      <a:pt x="95" y="184"/>
                    </a:lnTo>
                    <a:lnTo>
                      <a:pt x="97" y="184"/>
                    </a:lnTo>
                    <a:lnTo>
                      <a:pt x="99" y="184"/>
                    </a:lnTo>
                    <a:lnTo>
                      <a:pt x="100" y="184"/>
                    </a:lnTo>
                    <a:lnTo>
                      <a:pt x="103" y="184"/>
                    </a:lnTo>
                    <a:lnTo>
                      <a:pt x="107" y="183"/>
                    </a:lnTo>
                    <a:lnTo>
                      <a:pt x="111" y="181"/>
                    </a:lnTo>
                    <a:lnTo>
                      <a:pt x="115" y="179"/>
                    </a:lnTo>
                    <a:lnTo>
                      <a:pt x="118" y="179"/>
                    </a:lnTo>
                    <a:lnTo>
                      <a:pt x="124" y="177"/>
                    </a:lnTo>
                    <a:lnTo>
                      <a:pt x="127" y="175"/>
                    </a:lnTo>
                    <a:lnTo>
                      <a:pt x="131" y="174"/>
                    </a:lnTo>
                    <a:lnTo>
                      <a:pt x="133" y="174"/>
                    </a:lnTo>
                    <a:lnTo>
                      <a:pt x="137" y="172"/>
                    </a:lnTo>
                    <a:lnTo>
                      <a:pt x="140" y="170"/>
                    </a:lnTo>
                    <a:lnTo>
                      <a:pt x="141" y="168"/>
                    </a:lnTo>
                    <a:lnTo>
                      <a:pt x="142" y="168"/>
                    </a:lnTo>
                    <a:lnTo>
                      <a:pt x="143" y="168"/>
                    </a:lnTo>
                    <a:lnTo>
                      <a:pt x="143" y="167"/>
                    </a:lnTo>
                    <a:lnTo>
                      <a:pt x="143" y="165"/>
                    </a:lnTo>
                    <a:lnTo>
                      <a:pt x="145" y="165"/>
                    </a:lnTo>
                    <a:lnTo>
                      <a:pt x="145" y="164"/>
                    </a:lnTo>
                    <a:lnTo>
                      <a:pt x="147" y="164"/>
                    </a:lnTo>
                    <a:lnTo>
                      <a:pt x="147" y="165"/>
                    </a:lnTo>
                    <a:lnTo>
                      <a:pt x="149" y="167"/>
                    </a:lnTo>
                    <a:lnTo>
                      <a:pt x="149" y="168"/>
                    </a:lnTo>
                    <a:lnTo>
                      <a:pt x="151" y="168"/>
                    </a:lnTo>
                    <a:lnTo>
                      <a:pt x="154" y="168"/>
                    </a:lnTo>
                    <a:lnTo>
                      <a:pt x="155" y="167"/>
                    </a:lnTo>
                    <a:lnTo>
                      <a:pt x="156" y="167"/>
                    </a:lnTo>
                    <a:lnTo>
                      <a:pt x="158" y="167"/>
                    </a:lnTo>
                    <a:lnTo>
                      <a:pt x="159" y="165"/>
                    </a:lnTo>
                    <a:lnTo>
                      <a:pt x="162" y="165"/>
                    </a:lnTo>
                    <a:lnTo>
                      <a:pt x="162" y="164"/>
                    </a:lnTo>
                    <a:lnTo>
                      <a:pt x="163" y="161"/>
                    </a:lnTo>
                    <a:lnTo>
                      <a:pt x="163" y="159"/>
                    </a:lnTo>
                    <a:lnTo>
                      <a:pt x="165" y="158"/>
                    </a:lnTo>
                    <a:lnTo>
                      <a:pt x="165" y="155"/>
                    </a:lnTo>
                    <a:lnTo>
                      <a:pt x="165" y="154"/>
                    </a:lnTo>
                    <a:lnTo>
                      <a:pt x="165" y="152"/>
                    </a:lnTo>
                    <a:lnTo>
                      <a:pt x="165" y="151"/>
                    </a:lnTo>
                    <a:lnTo>
                      <a:pt x="165" y="148"/>
                    </a:lnTo>
                    <a:lnTo>
                      <a:pt x="165" y="147"/>
                    </a:lnTo>
                    <a:lnTo>
                      <a:pt x="165" y="145"/>
                    </a:lnTo>
                    <a:lnTo>
                      <a:pt x="167" y="145"/>
                    </a:lnTo>
                    <a:lnTo>
                      <a:pt x="165" y="145"/>
                    </a:lnTo>
                    <a:lnTo>
                      <a:pt x="165" y="143"/>
                    </a:lnTo>
                  </a:path>
                </a:pathLst>
              </a:custGeom>
              <a:gradFill rotWithShape="0">
                <a:gsLst>
                  <a:gs pos="0">
                    <a:srgbClr val="037c03"/>
                  </a:gs>
                  <a:gs pos="100000">
                    <a:srgbClr val="0024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274160" y="4904640"/>
                <a:ext cx="27720" cy="27000"/>
              </a:xfrm>
              <a:custGeom>
                <a:avLst/>
                <a:gdLst/>
                <a:ahLst/>
                <a:rect l="l" t="t" r="r" b="b"/>
                <a:pathLst>
                  <a:path w="17" h="24">
                    <a:moveTo>
                      <a:pt x="16" y="4"/>
                    </a:moveTo>
                    <a:lnTo>
                      <a:pt x="16" y="3"/>
                    </a:lnTo>
                    <a:lnTo>
                      <a:pt x="15" y="2"/>
                    </a:lnTo>
                    <a:lnTo>
                      <a:pt x="13" y="2"/>
                    </a:lnTo>
                    <a:lnTo>
                      <a:pt x="13" y="3"/>
                    </a:lnTo>
                    <a:lnTo>
                      <a:pt x="12" y="3"/>
                    </a:lnTo>
                    <a:lnTo>
                      <a:pt x="12" y="4"/>
                    </a:lnTo>
                    <a:lnTo>
                      <a:pt x="10" y="4"/>
                    </a:lnTo>
                    <a:lnTo>
                      <a:pt x="10" y="5"/>
                    </a:lnTo>
                    <a:lnTo>
                      <a:pt x="9" y="5"/>
                    </a:lnTo>
                    <a:lnTo>
                      <a:pt x="8" y="5"/>
                    </a:lnTo>
                    <a:lnTo>
                      <a:pt x="7" y="5"/>
                    </a:lnTo>
                    <a:lnTo>
                      <a:pt x="7" y="4"/>
                    </a:lnTo>
                    <a:lnTo>
                      <a:pt x="7" y="2"/>
                    </a:lnTo>
                    <a:lnTo>
                      <a:pt x="7" y="0"/>
                    </a:lnTo>
                    <a:lnTo>
                      <a:pt x="6" y="0"/>
                    </a:lnTo>
                    <a:lnTo>
                      <a:pt x="4" y="0"/>
                    </a:lnTo>
                    <a:lnTo>
                      <a:pt x="4" y="2"/>
                    </a:lnTo>
                    <a:lnTo>
                      <a:pt x="4" y="3"/>
                    </a:lnTo>
                    <a:lnTo>
                      <a:pt x="3" y="4"/>
                    </a:lnTo>
                    <a:lnTo>
                      <a:pt x="3" y="5"/>
                    </a:lnTo>
                    <a:lnTo>
                      <a:pt x="1" y="7"/>
                    </a:lnTo>
                    <a:lnTo>
                      <a:pt x="0" y="8"/>
                    </a:lnTo>
                    <a:lnTo>
                      <a:pt x="1" y="9"/>
                    </a:lnTo>
                    <a:lnTo>
                      <a:pt x="3" y="13"/>
                    </a:lnTo>
                    <a:lnTo>
                      <a:pt x="3" y="15"/>
                    </a:lnTo>
                    <a:lnTo>
                      <a:pt x="3" y="19"/>
                    </a:lnTo>
                    <a:lnTo>
                      <a:pt x="3" y="20"/>
                    </a:lnTo>
                    <a:lnTo>
                      <a:pt x="4" y="21"/>
                    </a:lnTo>
                    <a:lnTo>
                      <a:pt x="4" y="23"/>
                    </a:lnTo>
                    <a:lnTo>
                      <a:pt x="6" y="23"/>
                    </a:lnTo>
                    <a:lnTo>
                      <a:pt x="7" y="23"/>
                    </a:lnTo>
                    <a:lnTo>
                      <a:pt x="8" y="21"/>
                    </a:lnTo>
                    <a:lnTo>
                      <a:pt x="9" y="21"/>
                    </a:lnTo>
                    <a:lnTo>
                      <a:pt x="10" y="21"/>
                    </a:lnTo>
                    <a:lnTo>
                      <a:pt x="12" y="20"/>
                    </a:lnTo>
                    <a:lnTo>
                      <a:pt x="13" y="19"/>
                    </a:lnTo>
                    <a:lnTo>
                      <a:pt x="13" y="18"/>
                    </a:lnTo>
                    <a:lnTo>
                      <a:pt x="13" y="16"/>
                    </a:lnTo>
                    <a:lnTo>
                      <a:pt x="13" y="15"/>
                    </a:lnTo>
                    <a:lnTo>
                      <a:pt x="13" y="13"/>
                    </a:lnTo>
                    <a:lnTo>
                      <a:pt x="13" y="12"/>
                    </a:lnTo>
                    <a:lnTo>
                      <a:pt x="13" y="11"/>
                    </a:lnTo>
                    <a:lnTo>
                      <a:pt x="15" y="9"/>
                    </a:lnTo>
                    <a:lnTo>
                      <a:pt x="15" y="8"/>
                    </a:lnTo>
                    <a:lnTo>
                      <a:pt x="15" y="7"/>
                    </a:lnTo>
                    <a:lnTo>
                      <a:pt x="15" y="5"/>
                    </a:lnTo>
                    <a:lnTo>
                      <a:pt x="15" y="4"/>
                    </a:lnTo>
                    <a:lnTo>
                      <a:pt x="16" y="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7054920" y="4771080"/>
                <a:ext cx="209160" cy="178920"/>
              </a:xfrm>
              <a:custGeom>
                <a:avLst/>
                <a:gdLst/>
                <a:ahLst/>
                <a:rect l="l" t="t" r="r" b="b"/>
                <a:pathLst>
                  <a:path w="128" h="157">
                    <a:moveTo>
                      <a:pt x="88" y="18"/>
                    </a:moveTo>
                    <a:lnTo>
                      <a:pt x="89" y="14"/>
                    </a:lnTo>
                    <a:lnTo>
                      <a:pt x="89" y="8"/>
                    </a:lnTo>
                    <a:lnTo>
                      <a:pt x="89" y="2"/>
                    </a:lnTo>
                    <a:lnTo>
                      <a:pt x="89" y="0"/>
                    </a:lnTo>
                    <a:lnTo>
                      <a:pt x="88" y="0"/>
                    </a:lnTo>
                    <a:lnTo>
                      <a:pt x="88" y="1"/>
                    </a:lnTo>
                    <a:lnTo>
                      <a:pt x="86" y="1"/>
                    </a:lnTo>
                    <a:lnTo>
                      <a:pt x="84" y="2"/>
                    </a:lnTo>
                    <a:lnTo>
                      <a:pt x="84" y="5"/>
                    </a:lnTo>
                    <a:lnTo>
                      <a:pt x="84" y="7"/>
                    </a:lnTo>
                    <a:lnTo>
                      <a:pt x="83" y="7"/>
                    </a:lnTo>
                    <a:lnTo>
                      <a:pt x="83" y="8"/>
                    </a:lnTo>
                    <a:lnTo>
                      <a:pt x="81" y="9"/>
                    </a:lnTo>
                    <a:lnTo>
                      <a:pt x="79" y="11"/>
                    </a:lnTo>
                    <a:lnTo>
                      <a:pt x="78" y="12"/>
                    </a:lnTo>
                    <a:lnTo>
                      <a:pt x="77" y="14"/>
                    </a:lnTo>
                    <a:lnTo>
                      <a:pt x="77" y="15"/>
                    </a:lnTo>
                    <a:lnTo>
                      <a:pt x="77" y="14"/>
                    </a:lnTo>
                    <a:lnTo>
                      <a:pt x="77" y="12"/>
                    </a:lnTo>
                    <a:lnTo>
                      <a:pt x="75" y="11"/>
                    </a:lnTo>
                    <a:lnTo>
                      <a:pt x="73" y="11"/>
                    </a:lnTo>
                    <a:lnTo>
                      <a:pt x="71" y="11"/>
                    </a:lnTo>
                    <a:lnTo>
                      <a:pt x="70" y="14"/>
                    </a:lnTo>
                    <a:lnTo>
                      <a:pt x="70" y="18"/>
                    </a:lnTo>
                    <a:lnTo>
                      <a:pt x="67" y="21"/>
                    </a:lnTo>
                    <a:lnTo>
                      <a:pt x="70" y="22"/>
                    </a:lnTo>
                    <a:lnTo>
                      <a:pt x="70" y="24"/>
                    </a:lnTo>
                    <a:lnTo>
                      <a:pt x="70" y="28"/>
                    </a:lnTo>
                    <a:lnTo>
                      <a:pt x="67" y="25"/>
                    </a:lnTo>
                    <a:lnTo>
                      <a:pt x="66" y="24"/>
                    </a:lnTo>
                    <a:lnTo>
                      <a:pt x="64" y="24"/>
                    </a:lnTo>
                    <a:lnTo>
                      <a:pt x="64" y="22"/>
                    </a:lnTo>
                    <a:lnTo>
                      <a:pt x="63" y="21"/>
                    </a:lnTo>
                    <a:lnTo>
                      <a:pt x="60" y="24"/>
                    </a:lnTo>
                    <a:lnTo>
                      <a:pt x="57" y="28"/>
                    </a:lnTo>
                    <a:lnTo>
                      <a:pt x="55" y="33"/>
                    </a:lnTo>
                    <a:lnTo>
                      <a:pt x="55" y="35"/>
                    </a:lnTo>
                    <a:lnTo>
                      <a:pt x="55" y="38"/>
                    </a:lnTo>
                    <a:lnTo>
                      <a:pt x="55" y="41"/>
                    </a:lnTo>
                    <a:lnTo>
                      <a:pt x="55" y="44"/>
                    </a:lnTo>
                    <a:lnTo>
                      <a:pt x="39" y="31"/>
                    </a:lnTo>
                    <a:lnTo>
                      <a:pt x="35" y="35"/>
                    </a:lnTo>
                    <a:lnTo>
                      <a:pt x="34" y="35"/>
                    </a:lnTo>
                    <a:lnTo>
                      <a:pt x="33" y="37"/>
                    </a:lnTo>
                    <a:lnTo>
                      <a:pt x="32" y="37"/>
                    </a:lnTo>
                    <a:lnTo>
                      <a:pt x="29" y="37"/>
                    </a:lnTo>
                    <a:lnTo>
                      <a:pt x="26" y="37"/>
                    </a:lnTo>
                    <a:lnTo>
                      <a:pt x="24" y="37"/>
                    </a:lnTo>
                    <a:lnTo>
                      <a:pt x="22" y="37"/>
                    </a:lnTo>
                    <a:lnTo>
                      <a:pt x="21" y="37"/>
                    </a:lnTo>
                    <a:lnTo>
                      <a:pt x="19" y="38"/>
                    </a:lnTo>
                    <a:lnTo>
                      <a:pt x="18" y="38"/>
                    </a:lnTo>
                    <a:lnTo>
                      <a:pt x="16" y="40"/>
                    </a:lnTo>
                    <a:lnTo>
                      <a:pt x="14" y="41"/>
                    </a:lnTo>
                    <a:lnTo>
                      <a:pt x="13" y="44"/>
                    </a:lnTo>
                    <a:lnTo>
                      <a:pt x="12" y="47"/>
                    </a:lnTo>
                    <a:lnTo>
                      <a:pt x="9" y="48"/>
                    </a:lnTo>
                    <a:lnTo>
                      <a:pt x="8" y="51"/>
                    </a:lnTo>
                    <a:lnTo>
                      <a:pt x="6" y="53"/>
                    </a:lnTo>
                    <a:lnTo>
                      <a:pt x="4" y="55"/>
                    </a:lnTo>
                    <a:lnTo>
                      <a:pt x="2" y="58"/>
                    </a:lnTo>
                    <a:lnTo>
                      <a:pt x="1" y="62"/>
                    </a:lnTo>
                    <a:lnTo>
                      <a:pt x="1" y="63"/>
                    </a:lnTo>
                    <a:lnTo>
                      <a:pt x="0" y="67"/>
                    </a:lnTo>
                    <a:lnTo>
                      <a:pt x="0" y="68"/>
                    </a:lnTo>
                    <a:lnTo>
                      <a:pt x="0" y="70"/>
                    </a:lnTo>
                    <a:lnTo>
                      <a:pt x="0" y="71"/>
                    </a:lnTo>
                    <a:lnTo>
                      <a:pt x="0" y="73"/>
                    </a:lnTo>
                    <a:lnTo>
                      <a:pt x="1" y="73"/>
                    </a:lnTo>
                    <a:lnTo>
                      <a:pt x="2" y="71"/>
                    </a:lnTo>
                    <a:lnTo>
                      <a:pt x="4" y="70"/>
                    </a:lnTo>
                    <a:lnTo>
                      <a:pt x="6" y="70"/>
                    </a:lnTo>
                    <a:lnTo>
                      <a:pt x="8" y="68"/>
                    </a:lnTo>
                    <a:lnTo>
                      <a:pt x="9" y="67"/>
                    </a:lnTo>
                    <a:lnTo>
                      <a:pt x="12" y="65"/>
                    </a:lnTo>
                    <a:lnTo>
                      <a:pt x="13" y="63"/>
                    </a:lnTo>
                    <a:lnTo>
                      <a:pt x="14" y="63"/>
                    </a:lnTo>
                    <a:lnTo>
                      <a:pt x="16" y="62"/>
                    </a:lnTo>
                    <a:lnTo>
                      <a:pt x="18" y="62"/>
                    </a:lnTo>
                    <a:lnTo>
                      <a:pt x="19" y="62"/>
                    </a:lnTo>
                    <a:lnTo>
                      <a:pt x="18" y="63"/>
                    </a:lnTo>
                    <a:lnTo>
                      <a:pt x="18" y="67"/>
                    </a:lnTo>
                    <a:lnTo>
                      <a:pt x="14" y="70"/>
                    </a:lnTo>
                    <a:lnTo>
                      <a:pt x="12" y="76"/>
                    </a:lnTo>
                    <a:lnTo>
                      <a:pt x="10" y="81"/>
                    </a:lnTo>
                    <a:lnTo>
                      <a:pt x="10" y="85"/>
                    </a:lnTo>
                    <a:lnTo>
                      <a:pt x="12" y="88"/>
                    </a:lnTo>
                    <a:lnTo>
                      <a:pt x="14" y="89"/>
                    </a:lnTo>
                    <a:lnTo>
                      <a:pt x="18" y="91"/>
                    </a:lnTo>
                    <a:lnTo>
                      <a:pt x="21" y="92"/>
                    </a:lnTo>
                    <a:lnTo>
                      <a:pt x="22" y="95"/>
                    </a:lnTo>
                    <a:lnTo>
                      <a:pt x="24" y="95"/>
                    </a:lnTo>
                    <a:lnTo>
                      <a:pt x="22" y="98"/>
                    </a:lnTo>
                    <a:lnTo>
                      <a:pt x="22" y="99"/>
                    </a:lnTo>
                    <a:lnTo>
                      <a:pt x="21" y="100"/>
                    </a:lnTo>
                    <a:lnTo>
                      <a:pt x="19" y="102"/>
                    </a:lnTo>
                    <a:lnTo>
                      <a:pt x="18" y="104"/>
                    </a:lnTo>
                    <a:lnTo>
                      <a:pt x="16" y="105"/>
                    </a:lnTo>
                    <a:lnTo>
                      <a:pt x="14" y="107"/>
                    </a:lnTo>
                    <a:lnTo>
                      <a:pt x="13" y="107"/>
                    </a:lnTo>
                    <a:lnTo>
                      <a:pt x="12" y="109"/>
                    </a:lnTo>
                    <a:lnTo>
                      <a:pt x="10" y="110"/>
                    </a:lnTo>
                    <a:lnTo>
                      <a:pt x="9" y="111"/>
                    </a:lnTo>
                    <a:lnTo>
                      <a:pt x="10" y="111"/>
                    </a:lnTo>
                    <a:lnTo>
                      <a:pt x="12" y="111"/>
                    </a:lnTo>
                    <a:lnTo>
                      <a:pt x="13" y="111"/>
                    </a:lnTo>
                    <a:lnTo>
                      <a:pt x="14" y="111"/>
                    </a:lnTo>
                    <a:lnTo>
                      <a:pt x="16" y="111"/>
                    </a:lnTo>
                    <a:lnTo>
                      <a:pt x="18" y="110"/>
                    </a:lnTo>
                    <a:lnTo>
                      <a:pt x="19" y="109"/>
                    </a:lnTo>
                    <a:lnTo>
                      <a:pt x="21" y="107"/>
                    </a:lnTo>
                    <a:lnTo>
                      <a:pt x="24" y="104"/>
                    </a:lnTo>
                    <a:lnTo>
                      <a:pt x="26" y="104"/>
                    </a:lnTo>
                    <a:lnTo>
                      <a:pt x="26" y="102"/>
                    </a:lnTo>
                    <a:lnTo>
                      <a:pt x="29" y="102"/>
                    </a:lnTo>
                    <a:lnTo>
                      <a:pt x="29" y="104"/>
                    </a:lnTo>
                    <a:lnTo>
                      <a:pt x="26" y="105"/>
                    </a:lnTo>
                    <a:lnTo>
                      <a:pt x="26" y="107"/>
                    </a:lnTo>
                    <a:lnTo>
                      <a:pt x="24" y="109"/>
                    </a:lnTo>
                    <a:lnTo>
                      <a:pt x="24" y="111"/>
                    </a:lnTo>
                    <a:lnTo>
                      <a:pt x="22" y="111"/>
                    </a:lnTo>
                    <a:lnTo>
                      <a:pt x="22" y="113"/>
                    </a:lnTo>
                    <a:lnTo>
                      <a:pt x="24" y="113"/>
                    </a:lnTo>
                    <a:lnTo>
                      <a:pt x="26" y="111"/>
                    </a:lnTo>
                    <a:lnTo>
                      <a:pt x="26" y="110"/>
                    </a:lnTo>
                    <a:lnTo>
                      <a:pt x="29" y="109"/>
                    </a:lnTo>
                    <a:lnTo>
                      <a:pt x="30" y="109"/>
                    </a:lnTo>
                    <a:lnTo>
                      <a:pt x="32" y="109"/>
                    </a:lnTo>
                    <a:lnTo>
                      <a:pt x="33" y="109"/>
                    </a:lnTo>
                    <a:lnTo>
                      <a:pt x="34" y="109"/>
                    </a:lnTo>
                    <a:lnTo>
                      <a:pt x="35" y="110"/>
                    </a:lnTo>
                    <a:lnTo>
                      <a:pt x="35" y="111"/>
                    </a:lnTo>
                    <a:lnTo>
                      <a:pt x="37" y="113"/>
                    </a:lnTo>
                    <a:lnTo>
                      <a:pt x="39" y="115"/>
                    </a:lnTo>
                    <a:lnTo>
                      <a:pt x="39" y="118"/>
                    </a:lnTo>
                    <a:lnTo>
                      <a:pt x="42" y="121"/>
                    </a:lnTo>
                    <a:lnTo>
                      <a:pt x="44" y="126"/>
                    </a:lnTo>
                    <a:lnTo>
                      <a:pt x="45" y="130"/>
                    </a:lnTo>
                    <a:lnTo>
                      <a:pt x="46" y="134"/>
                    </a:lnTo>
                    <a:lnTo>
                      <a:pt x="48" y="137"/>
                    </a:lnTo>
                    <a:lnTo>
                      <a:pt x="51" y="142"/>
                    </a:lnTo>
                    <a:lnTo>
                      <a:pt x="52" y="146"/>
                    </a:lnTo>
                    <a:lnTo>
                      <a:pt x="53" y="149"/>
                    </a:lnTo>
                    <a:lnTo>
                      <a:pt x="55" y="151"/>
                    </a:lnTo>
                    <a:lnTo>
                      <a:pt x="57" y="153"/>
                    </a:lnTo>
                    <a:lnTo>
                      <a:pt x="58" y="155"/>
                    </a:lnTo>
                    <a:lnTo>
                      <a:pt x="60" y="155"/>
                    </a:lnTo>
                    <a:lnTo>
                      <a:pt x="61" y="155"/>
                    </a:lnTo>
                    <a:lnTo>
                      <a:pt x="63" y="153"/>
                    </a:lnTo>
                    <a:lnTo>
                      <a:pt x="64" y="153"/>
                    </a:lnTo>
                    <a:lnTo>
                      <a:pt x="66" y="155"/>
                    </a:lnTo>
                    <a:lnTo>
                      <a:pt x="67" y="155"/>
                    </a:lnTo>
                    <a:lnTo>
                      <a:pt x="70" y="155"/>
                    </a:lnTo>
                    <a:lnTo>
                      <a:pt x="71" y="155"/>
                    </a:lnTo>
                    <a:lnTo>
                      <a:pt x="73" y="155"/>
                    </a:lnTo>
                    <a:lnTo>
                      <a:pt x="75" y="156"/>
                    </a:lnTo>
                    <a:lnTo>
                      <a:pt x="77" y="156"/>
                    </a:lnTo>
                    <a:lnTo>
                      <a:pt x="78" y="156"/>
                    </a:lnTo>
                    <a:lnTo>
                      <a:pt x="79" y="156"/>
                    </a:lnTo>
                    <a:lnTo>
                      <a:pt x="81" y="156"/>
                    </a:lnTo>
                    <a:lnTo>
                      <a:pt x="83" y="156"/>
                    </a:lnTo>
                    <a:lnTo>
                      <a:pt x="84" y="156"/>
                    </a:lnTo>
                    <a:lnTo>
                      <a:pt x="88" y="156"/>
                    </a:lnTo>
                    <a:lnTo>
                      <a:pt x="91" y="155"/>
                    </a:lnTo>
                    <a:lnTo>
                      <a:pt x="95" y="153"/>
                    </a:lnTo>
                    <a:lnTo>
                      <a:pt x="99" y="151"/>
                    </a:lnTo>
                    <a:lnTo>
                      <a:pt x="101" y="151"/>
                    </a:lnTo>
                    <a:lnTo>
                      <a:pt x="107" y="149"/>
                    </a:lnTo>
                    <a:lnTo>
                      <a:pt x="111" y="147"/>
                    </a:lnTo>
                    <a:lnTo>
                      <a:pt x="114" y="146"/>
                    </a:lnTo>
                    <a:lnTo>
                      <a:pt x="117" y="146"/>
                    </a:lnTo>
                    <a:lnTo>
                      <a:pt x="120" y="144"/>
                    </a:lnTo>
                    <a:lnTo>
                      <a:pt x="123" y="142"/>
                    </a:lnTo>
                    <a:lnTo>
                      <a:pt x="125" y="141"/>
                    </a:lnTo>
                    <a:lnTo>
                      <a:pt x="126" y="141"/>
                    </a:lnTo>
                    <a:lnTo>
                      <a:pt x="127" y="141"/>
                    </a:lnTo>
                    <a:lnTo>
                      <a:pt x="127" y="139"/>
                    </a:lnTo>
                    <a:lnTo>
                      <a:pt x="127" y="137"/>
                    </a:lnTo>
                    <a:lnTo>
                      <a:pt x="127" y="132"/>
                    </a:lnTo>
                    <a:lnTo>
                      <a:pt x="126" y="128"/>
                    </a:lnTo>
                    <a:lnTo>
                      <a:pt x="126" y="125"/>
                    </a:lnTo>
                    <a:lnTo>
                      <a:pt x="125" y="121"/>
                    </a:lnTo>
                    <a:lnTo>
                      <a:pt x="125" y="120"/>
                    </a:lnTo>
                    <a:lnTo>
                      <a:pt x="123" y="120"/>
                    </a:lnTo>
                    <a:lnTo>
                      <a:pt x="122" y="120"/>
                    </a:lnTo>
                    <a:lnTo>
                      <a:pt x="118" y="120"/>
                    </a:lnTo>
                    <a:lnTo>
                      <a:pt x="117" y="120"/>
                    </a:lnTo>
                    <a:lnTo>
                      <a:pt x="114" y="121"/>
                    </a:lnTo>
                    <a:lnTo>
                      <a:pt x="112" y="121"/>
                    </a:lnTo>
                    <a:lnTo>
                      <a:pt x="109" y="121"/>
                    </a:lnTo>
                    <a:lnTo>
                      <a:pt x="107" y="121"/>
                    </a:lnTo>
                    <a:lnTo>
                      <a:pt x="103" y="121"/>
                    </a:lnTo>
                    <a:lnTo>
                      <a:pt x="100" y="121"/>
                    </a:lnTo>
                    <a:lnTo>
                      <a:pt x="97" y="121"/>
                    </a:lnTo>
                    <a:lnTo>
                      <a:pt x="95" y="123"/>
                    </a:lnTo>
                    <a:lnTo>
                      <a:pt x="92" y="123"/>
                    </a:lnTo>
                    <a:lnTo>
                      <a:pt x="89" y="123"/>
                    </a:lnTo>
                    <a:lnTo>
                      <a:pt x="88" y="121"/>
                    </a:lnTo>
                    <a:lnTo>
                      <a:pt x="86" y="121"/>
                    </a:lnTo>
                    <a:lnTo>
                      <a:pt x="83" y="121"/>
                    </a:lnTo>
                    <a:lnTo>
                      <a:pt x="81" y="123"/>
                    </a:lnTo>
                    <a:lnTo>
                      <a:pt x="79" y="123"/>
                    </a:lnTo>
                    <a:lnTo>
                      <a:pt x="79" y="125"/>
                    </a:lnTo>
                    <a:lnTo>
                      <a:pt x="78" y="125"/>
                    </a:lnTo>
                    <a:lnTo>
                      <a:pt x="78" y="123"/>
                    </a:lnTo>
                    <a:lnTo>
                      <a:pt x="78" y="121"/>
                    </a:lnTo>
                    <a:lnTo>
                      <a:pt x="77" y="121"/>
                    </a:lnTo>
                    <a:lnTo>
                      <a:pt x="75" y="121"/>
                    </a:lnTo>
                    <a:lnTo>
                      <a:pt x="77" y="121"/>
                    </a:lnTo>
                    <a:lnTo>
                      <a:pt x="77" y="118"/>
                    </a:lnTo>
                    <a:lnTo>
                      <a:pt x="77" y="116"/>
                    </a:lnTo>
                    <a:lnTo>
                      <a:pt x="75" y="115"/>
                    </a:lnTo>
                    <a:lnTo>
                      <a:pt x="75" y="113"/>
                    </a:lnTo>
                    <a:lnTo>
                      <a:pt x="70" y="100"/>
                    </a:lnTo>
                    <a:lnTo>
                      <a:pt x="64" y="89"/>
                    </a:lnTo>
                    <a:lnTo>
                      <a:pt x="63" y="81"/>
                    </a:lnTo>
                    <a:lnTo>
                      <a:pt x="63" y="73"/>
                    </a:lnTo>
                    <a:lnTo>
                      <a:pt x="63" y="68"/>
                    </a:lnTo>
                    <a:lnTo>
                      <a:pt x="63" y="63"/>
                    </a:lnTo>
                    <a:lnTo>
                      <a:pt x="63" y="62"/>
                    </a:lnTo>
                    <a:lnTo>
                      <a:pt x="63" y="60"/>
                    </a:lnTo>
                    <a:lnTo>
                      <a:pt x="64" y="58"/>
                    </a:lnTo>
                    <a:lnTo>
                      <a:pt x="64" y="50"/>
                    </a:lnTo>
                    <a:lnTo>
                      <a:pt x="63" y="48"/>
                    </a:lnTo>
                    <a:lnTo>
                      <a:pt x="64" y="48"/>
                    </a:lnTo>
                    <a:lnTo>
                      <a:pt x="66" y="47"/>
                    </a:lnTo>
                    <a:lnTo>
                      <a:pt x="66" y="45"/>
                    </a:lnTo>
                    <a:lnTo>
                      <a:pt x="67" y="41"/>
                    </a:lnTo>
                    <a:lnTo>
                      <a:pt x="70" y="38"/>
                    </a:lnTo>
                    <a:lnTo>
                      <a:pt x="70" y="37"/>
                    </a:lnTo>
                    <a:lnTo>
                      <a:pt x="70" y="33"/>
                    </a:lnTo>
                    <a:lnTo>
                      <a:pt x="70" y="35"/>
                    </a:lnTo>
                    <a:lnTo>
                      <a:pt x="70" y="37"/>
                    </a:lnTo>
                    <a:lnTo>
                      <a:pt x="70" y="38"/>
                    </a:lnTo>
                    <a:lnTo>
                      <a:pt x="71" y="40"/>
                    </a:lnTo>
                    <a:lnTo>
                      <a:pt x="71" y="41"/>
                    </a:lnTo>
                    <a:lnTo>
                      <a:pt x="73" y="44"/>
                    </a:lnTo>
                    <a:lnTo>
                      <a:pt x="75" y="44"/>
                    </a:lnTo>
                    <a:lnTo>
                      <a:pt x="77" y="44"/>
                    </a:lnTo>
                    <a:lnTo>
                      <a:pt x="78" y="41"/>
                    </a:lnTo>
                    <a:lnTo>
                      <a:pt x="79" y="38"/>
                    </a:lnTo>
                    <a:lnTo>
                      <a:pt x="81" y="35"/>
                    </a:lnTo>
                    <a:lnTo>
                      <a:pt x="83" y="33"/>
                    </a:lnTo>
                    <a:lnTo>
                      <a:pt x="83" y="28"/>
                    </a:lnTo>
                    <a:lnTo>
                      <a:pt x="84" y="28"/>
                    </a:lnTo>
                    <a:lnTo>
                      <a:pt x="84" y="25"/>
                    </a:lnTo>
                    <a:lnTo>
                      <a:pt x="86" y="25"/>
                    </a:lnTo>
                    <a:lnTo>
                      <a:pt x="88" y="24"/>
                    </a:lnTo>
                    <a:lnTo>
                      <a:pt x="88" y="22"/>
                    </a:lnTo>
                    <a:lnTo>
                      <a:pt x="88" y="21"/>
                    </a:lnTo>
                    <a:lnTo>
                      <a:pt x="88" y="18"/>
                    </a:lnTo>
                    <a:lnTo>
                      <a:pt x="88"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192080" y="4783320"/>
                <a:ext cx="27720" cy="19080"/>
              </a:xfrm>
              <a:custGeom>
                <a:avLst/>
                <a:gdLst/>
                <a:ahLst/>
                <a:rect l="l" t="t" r="r" b="b"/>
                <a:pathLst>
                  <a:path w="17" h="17">
                    <a:moveTo>
                      <a:pt x="16" y="16"/>
                    </a:moveTo>
                    <a:lnTo>
                      <a:pt x="0" y="0"/>
                    </a:lnTo>
                    <a:lnTo>
                      <a:pt x="16"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0" name=""/>
              <p:cNvSpPr/>
              <p:nvPr/>
            </p:nvSpPr>
            <p:spPr>
              <a:xfrm>
                <a:off x="6992640" y="4896720"/>
                <a:ext cx="29520" cy="62640"/>
              </a:xfrm>
              <a:custGeom>
                <a:avLst/>
                <a:gdLst/>
                <a:ahLst/>
                <a:rect l="l" t="t" r="r" b="b"/>
                <a:pathLst>
                  <a:path w="18" h="55">
                    <a:moveTo>
                      <a:pt x="16" y="54"/>
                    </a:moveTo>
                    <a:lnTo>
                      <a:pt x="14" y="45"/>
                    </a:lnTo>
                    <a:lnTo>
                      <a:pt x="16" y="35"/>
                    </a:lnTo>
                    <a:lnTo>
                      <a:pt x="16" y="25"/>
                    </a:lnTo>
                    <a:lnTo>
                      <a:pt x="17" y="17"/>
                    </a:lnTo>
                    <a:lnTo>
                      <a:pt x="16" y="17"/>
                    </a:lnTo>
                    <a:lnTo>
                      <a:pt x="14" y="17"/>
                    </a:lnTo>
                    <a:lnTo>
                      <a:pt x="13" y="17"/>
                    </a:lnTo>
                    <a:lnTo>
                      <a:pt x="12" y="15"/>
                    </a:lnTo>
                    <a:lnTo>
                      <a:pt x="11" y="15"/>
                    </a:lnTo>
                    <a:lnTo>
                      <a:pt x="9" y="15"/>
                    </a:lnTo>
                    <a:lnTo>
                      <a:pt x="9" y="14"/>
                    </a:lnTo>
                    <a:lnTo>
                      <a:pt x="8" y="13"/>
                    </a:lnTo>
                    <a:lnTo>
                      <a:pt x="7" y="13"/>
                    </a:lnTo>
                    <a:lnTo>
                      <a:pt x="5" y="11"/>
                    </a:lnTo>
                    <a:lnTo>
                      <a:pt x="4" y="10"/>
                    </a:lnTo>
                    <a:lnTo>
                      <a:pt x="4" y="8"/>
                    </a:lnTo>
                    <a:lnTo>
                      <a:pt x="4" y="6"/>
                    </a:lnTo>
                    <a:lnTo>
                      <a:pt x="2" y="4"/>
                    </a:lnTo>
                    <a:lnTo>
                      <a:pt x="1" y="2"/>
                    </a:lnTo>
                    <a:lnTo>
                      <a:pt x="0" y="0"/>
                    </a:lnTo>
                    <a:lnTo>
                      <a:pt x="0" y="17"/>
                    </a:lnTo>
                    <a:lnTo>
                      <a:pt x="0" y="25"/>
                    </a:lnTo>
                    <a:lnTo>
                      <a:pt x="0" y="54"/>
                    </a:lnTo>
                    <a:lnTo>
                      <a:pt x="16" y="54"/>
                    </a:lnTo>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11" name=""/>
              <p:cNvSpPr/>
              <p:nvPr/>
            </p:nvSpPr>
            <p:spPr>
              <a:xfrm>
                <a:off x="7028280" y="4919400"/>
                <a:ext cx="27720" cy="39600"/>
              </a:xfrm>
              <a:custGeom>
                <a:avLst/>
                <a:gdLst/>
                <a:ahLst/>
                <a:rect l="l" t="t" r="r" b="b"/>
                <a:pathLst>
                  <a:path w="17" h="35">
                    <a:moveTo>
                      <a:pt x="1" y="34"/>
                    </a:moveTo>
                    <a:lnTo>
                      <a:pt x="0" y="26"/>
                    </a:lnTo>
                    <a:lnTo>
                      <a:pt x="1" y="16"/>
                    </a:lnTo>
                    <a:lnTo>
                      <a:pt x="1" y="7"/>
                    </a:lnTo>
                    <a:lnTo>
                      <a:pt x="2" y="0"/>
                    </a:lnTo>
                    <a:lnTo>
                      <a:pt x="3" y="0"/>
                    </a:lnTo>
                    <a:lnTo>
                      <a:pt x="3" y="1"/>
                    </a:lnTo>
                    <a:lnTo>
                      <a:pt x="4" y="1"/>
                    </a:lnTo>
                    <a:lnTo>
                      <a:pt x="6" y="1"/>
                    </a:lnTo>
                    <a:lnTo>
                      <a:pt x="8" y="2"/>
                    </a:lnTo>
                    <a:lnTo>
                      <a:pt x="9" y="5"/>
                    </a:lnTo>
                    <a:lnTo>
                      <a:pt x="13" y="9"/>
                    </a:lnTo>
                    <a:lnTo>
                      <a:pt x="14" y="13"/>
                    </a:lnTo>
                    <a:lnTo>
                      <a:pt x="14" y="19"/>
                    </a:lnTo>
                    <a:lnTo>
                      <a:pt x="16" y="24"/>
                    </a:lnTo>
                    <a:lnTo>
                      <a:pt x="16" y="30"/>
                    </a:lnTo>
                    <a:lnTo>
                      <a:pt x="14" y="34"/>
                    </a:lnTo>
                    <a:lnTo>
                      <a:pt x="1" y="34"/>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2" name=""/>
              <p:cNvSpPr/>
              <p:nvPr/>
            </p:nvSpPr>
            <p:spPr>
              <a:xfrm>
                <a:off x="6992640" y="4919400"/>
                <a:ext cx="27720" cy="23760"/>
              </a:xfrm>
              <a:custGeom>
                <a:avLst/>
                <a:gdLst/>
                <a:ahLst/>
                <a:rect l="l" t="t" r="r" b="b"/>
                <a:pathLst>
                  <a:path w="17" h="21">
                    <a:moveTo>
                      <a:pt x="0" y="0"/>
                    </a:moveTo>
                    <a:lnTo>
                      <a:pt x="0" y="6"/>
                    </a:lnTo>
                    <a:lnTo>
                      <a:pt x="1" y="6"/>
                    </a:lnTo>
                    <a:lnTo>
                      <a:pt x="4" y="6"/>
                    </a:lnTo>
                    <a:lnTo>
                      <a:pt x="5" y="7"/>
                    </a:lnTo>
                    <a:lnTo>
                      <a:pt x="8" y="10"/>
                    </a:lnTo>
                    <a:lnTo>
                      <a:pt x="8" y="13"/>
                    </a:lnTo>
                    <a:lnTo>
                      <a:pt x="10" y="17"/>
                    </a:lnTo>
                    <a:lnTo>
                      <a:pt x="11" y="18"/>
                    </a:lnTo>
                    <a:lnTo>
                      <a:pt x="13" y="20"/>
                    </a:lnTo>
                    <a:lnTo>
                      <a:pt x="14" y="20"/>
                    </a:lnTo>
                    <a:lnTo>
                      <a:pt x="16" y="18"/>
                    </a:lnTo>
                    <a:lnTo>
                      <a:pt x="16" y="17"/>
                    </a:lnTo>
                    <a:lnTo>
                      <a:pt x="16" y="15"/>
                    </a:lnTo>
                    <a:lnTo>
                      <a:pt x="14" y="13"/>
                    </a:lnTo>
                    <a:lnTo>
                      <a:pt x="14" y="11"/>
                    </a:lnTo>
                    <a:lnTo>
                      <a:pt x="13" y="10"/>
                    </a:lnTo>
                    <a:lnTo>
                      <a:pt x="11" y="7"/>
                    </a:lnTo>
                    <a:lnTo>
                      <a:pt x="10" y="5"/>
                    </a:lnTo>
                    <a:lnTo>
                      <a:pt x="8" y="5"/>
                    </a:lnTo>
                    <a:lnTo>
                      <a:pt x="5" y="2"/>
                    </a:lnTo>
                    <a:lnTo>
                      <a:pt x="4" y="1"/>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3" name=""/>
              <p:cNvSpPr/>
              <p:nvPr/>
            </p:nvSpPr>
            <p:spPr>
              <a:xfrm>
                <a:off x="7385040" y="4708080"/>
                <a:ext cx="221040" cy="148320"/>
              </a:xfrm>
              <a:custGeom>
                <a:avLst/>
                <a:gdLst/>
                <a:ahLst/>
                <a:rect l="l" t="t" r="r" b="b"/>
                <a:pathLst>
                  <a:path w="135" h="130">
                    <a:moveTo>
                      <a:pt x="58" y="34"/>
                    </a:moveTo>
                    <a:lnTo>
                      <a:pt x="58" y="36"/>
                    </a:lnTo>
                    <a:lnTo>
                      <a:pt x="60" y="38"/>
                    </a:lnTo>
                    <a:lnTo>
                      <a:pt x="60" y="39"/>
                    </a:lnTo>
                    <a:lnTo>
                      <a:pt x="60" y="41"/>
                    </a:lnTo>
                    <a:lnTo>
                      <a:pt x="60" y="43"/>
                    </a:lnTo>
                    <a:lnTo>
                      <a:pt x="62" y="43"/>
                    </a:lnTo>
                    <a:lnTo>
                      <a:pt x="62" y="44"/>
                    </a:lnTo>
                    <a:lnTo>
                      <a:pt x="60" y="44"/>
                    </a:lnTo>
                    <a:lnTo>
                      <a:pt x="58" y="44"/>
                    </a:lnTo>
                    <a:lnTo>
                      <a:pt x="56" y="45"/>
                    </a:lnTo>
                    <a:lnTo>
                      <a:pt x="54" y="45"/>
                    </a:lnTo>
                    <a:lnTo>
                      <a:pt x="50" y="49"/>
                    </a:lnTo>
                    <a:lnTo>
                      <a:pt x="49" y="50"/>
                    </a:lnTo>
                    <a:lnTo>
                      <a:pt x="47" y="54"/>
                    </a:lnTo>
                    <a:lnTo>
                      <a:pt x="44" y="57"/>
                    </a:lnTo>
                    <a:lnTo>
                      <a:pt x="42" y="59"/>
                    </a:lnTo>
                    <a:lnTo>
                      <a:pt x="40" y="62"/>
                    </a:lnTo>
                    <a:lnTo>
                      <a:pt x="38" y="65"/>
                    </a:lnTo>
                    <a:lnTo>
                      <a:pt x="34" y="69"/>
                    </a:lnTo>
                    <a:lnTo>
                      <a:pt x="32" y="72"/>
                    </a:lnTo>
                    <a:lnTo>
                      <a:pt x="32" y="74"/>
                    </a:lnTo>
                    <a:lnTo>
                      <a:pt x="31" y="74"/>
                    </a:lnTo>
                    <a:lnTo>
                      <a:pt x="31" y="75"/>
                    </a:lnTo>
                    <a:lnTo>
                      <a:pt x="30" y="77"/>
                    </a:lnTo>
                    <a:lnTo>
                      <a:pt x="29" y="79"/>
                    </a:lnTo>
                    <a:lnTo>
                      <a:pt x="27" y="80"/>
                    </a:lnTo>
                    <a:lnTo>
                      <a:pt x="24" y="83"/>
                    </a:lnTo>
                    <a:lnTo>
                      <a:pt x="22" y="83"/>
                    </a:lnTo>
                    <a:lnTo>
                      <a:pt x="21" y="86"/>
                    </a:lnTo>
                    <a:lnTo>
                      <a:pt x="18" y="88"/>
                    </a:lnTo>
                    <a:lnTo>
                      <a:pt x="18" y="89"/>
                    </a:lnTo>
                    <a:lnTo>
                      <a:pt x="16" y="89"/>
                    </a:lnTo>
                    <a:lnTo>
                      <a:pt x="14" y="88"/>
                    </a:lnTo>
                    <a:lnTo>
                      <a:pt x="13" y="88"/>
                    </a:lnTo>
                    <a:lnTo>
                      <a:pt x="12" y="88"/>
                    </a:lnTo>
                    <a:lnTo>
                      <a:pt x="10" y="88"/>
                    </a:lnTo>
                    <a:lnTo>
                      <a:pt x="9" y="88"/>
                    </a:lnTo>
                    <a:lnTo>
                      <a:pt x="7" y="88"/>
                    </a:lnTo>
                    <a:lnTo>
                      <a:pt x="6" y="89"/>
                    </a:lnTo>
                    <a:lnTo>
                      <a:pt x="4" y="89"/>
                    </a:lnTo>
                    <a:lnTo>
                      <a:pt x="4" y="91"/>
                    </a:lnTo>
                    <a:lnTo>
                      <a:pt x="2" y="92"/>
                    </a:lnTo>
                    <a:lnTo>
                      <a:pt x="1" y="95"/>
                    </a:lnTo>
                    <a:lnTo>
                      <a:pt x="0" y="98"/>
                    </a:lnTo>
                    <a:lnTo>
                      <a:pt x="1" y="98"/>
                    </a:lnTo>
                    <a:lnTo>
                      <a:pt x="1" y="99"/>
                    </a:lnTo>
                    <a:lnTo>
                      <a:pt x="1" y="101"/>
                    </a:lnTo>
                    <a:lnTo>
                      <a:pt x="2" y="101"/>
                    </a:lnTo>
                    <a:lnTo>
                      <a:pt x="2" y="102"/>
                    </a:lnTo>
                    <a:lnTo>
                      <a:pt x="4" y="104"/>
                    </a:lnTo>
                    <a:lnTo>
                      <a:pt x="6" y="104"/>
                    </a:lnTo>
                    <a:lnTo>
                      <a:pt x="7" y="104"/>
                    </a:lnTo>
                    <a:lnTo>
                      <a:pt x="9" y="104"/>
                    </a:lnTo>
                    <a:lnTo>
                      <a:pt x="10" y="104"/>
                    </a:lnTo>
                    <a:lnTo>
                      <a:pt x="12" y="104"/>
                    </a:lnTo>
                    <a:lnTo>
                      <a:pt x="10" y="104"/>
                    </a:lnTo>
                    <a:lnTo>
                      <a:pt x="10" y="102"/>
                    </a:lnTo>
                    <a:lnTo>
                      <a:pt x="9" y="102"/>
                    </a:lnTo>
                    <a:lnTo>
                      <a:pt x="7" y="102"/>
                    </a:lnTo>
                    <a:lnTo>
                      <a:pt x="7" y="101"/>
                    </a:lnTo>
                    <a:lnTo>
                      <a:pt x="7" y="99"/>
                    </a:lnTo>
                    <a:lnTo>
                      <a:pt x="9" y="99"/>
                    </a:lnTo>
                    <a:lnTo>
                      <a:pt x="9" y="98"/>
                    </a:lnTo>
                    <a:lnTo>
                      <a:pt x="10" y="98"/>
                    </a:lnTo>
                    <a:lnTo>
                      <a:pt x="12" y="98"/>
                    </a:lnTo>
                    <a:lnTo>
                      <a:pt x="13" y="98"/>
                    </a:lnTo>
                    <a:lnTo>
                      <a:pt x="14" y="99"/>
                    </a:lnTo>
                    <a:lnTo>
                      <a:pt x="14" y="98"/>
                    </a:lnTo>
                    <a:lnTo>
                      <a:pt x="16" y="98"/>
                    </a:lnTo>
                    <a:lnTo>
                      <a:pt x="18" y="99"/>
                    </a:lnTo>
                    <a:lnTo>
                      <a:pt x="18" y="101"/>
                    </a:lnTo>
                    <a:lnTo>
                      <a:pt x="16" y="102"/>
                    </a:lnTo>
                    <a:lnTo>
                      <a:pt x="14" y="102"/>
                    </a:lnTo>
                    <a:lnTo>
                      <a:pt x="14" y="104"/>
                    </a:lnTo>
                    <a:lnTo>
                      <a:pt x="16" y="104"/>
                    </a:lnTo>
                    <a:lnTo>
                      <a:pt x="18" y="104"/>
                    </a:lnTo>
                    <a:lnTo>
                      <a:pt x="18" y="102"/>
                    </a:lnTo>
                    <a:lnTo>
                      <a:pt x="21" y="102"/>
                    </a:lnTo>
                    <a:lnTo>
                      <a:pt x="22" y="102"/>
                    </a:lnTo>
                    <a:lnTo>
                      <a:pt x="24" y="102"/>
                    </a:lnTo>
                    <a:lnTo>
                      <a:pt x="24" y="101"/>
                    </a:lnTo>
                    <a:lnTo>
                      <a:pt x="22" y="99"/>
                    </a:lnTo>
                    <a:lnTo>
                      <a:pt x="22" y="98"/>
                    </a:lnTo>
                    <a:lnTo>
                      <a:pt x="22" y="95"/>
                    </a:lnTo>
                    <a:lnTo>
                      <a:pt x="24" y="98"/>
                    </a:lnTo>
                    <a:lnTo>
                      <a:pt x="25" y="99"/>
                    </a:lnTo>
                    <a:lnTo>
                      <a:pt x="27" y="99"/>
                    </a:lnTo>
                    <a:lnTo>
                      <a:pt x="27" y="101"/>
                    </a:lnTo>
                    <a:lnTo>
                      <a:pt x="29" y="101"/>
                    </a:lnTo>
                    <a:lnTo>
                      <a:pt x="30" y="101"/>
                    </a:lnTo>
                    <a:lnTo>
                      <a:pt x="30" y="99"/>
                    </a:lnTo>
                    <a:lnTo>
                      <a:pt x="31" y="99"/>
                    </a:lnTo>
                    <a:lnTo>
                      <a:pt x="32" y="99"/>
                    </a:lnTo>
                    <a:lnTo>
                      <a:pt x="34" y="99"/>
                    </a:lnTo>
                    <a:lnTo>
                      <a:pt x="35" y="99"/>
                    </a:lnTo>
                    <a:lnTo>
                      <a:pt x="38" y="98"/>
                    </a:lnTo>
                    <a:lnTo>
                      <a:pt x="40" y="95"/>
                    </a:lnTo>
                    <a:lnTo>
                      <a:pt x="42" y="95"/>
                    </a:lnTo>
                    <a:lnTo>
                      <a:pt x="44" y="95"/>
                    </a:lnTo>
                    <a:lnTo>
                      <a:pt x="44" y="92"/>
                    </a:lnTo>
                    <a:lnTo>
                      <a:pt x="47" y="92"/>
                    </a:lnTo>
                    <a:lnTo>
                      <a:pt x="48" y="92"/>
                    </a:lnTo>
                    <a:lnTo>
                      <a:pt x="48" y="95"/>
                    </a:lnTo>
                    <a:lnTo>
                      <a:pt x="49" y="95"/>
                    </a:lnTo>
                    <a:lnTo>
                      <a:pt x="50" y="95"/>
                    </a:lnTo>
                    <a:lnTo>
                      <a:pt x="52" y="95"/>
                    </a:lnTo>
                    <a:lnTo>
                      <a:pt x="55" y="95"/>
                    </a:lnTo>
                    <a:lnTo>
                      <a:pt x="56" y="95"/>
                    </a:lnTo>
                    <a:lnTo>
                      <a:pt x="60" y="95"/>
                    </a:lnTo>
                    <a:lnTo>
                      <a:pt x="62" y="95"/>
                    </a:lnTo>
                    <a:lnTo>
                      <a:pt x="65" y="95"/>
                    </a:lnTo>
                    <a:lnTo>
                      <a:pt x="66" y="98"/>
                    </a:lnTo>
                    <a:lnTo>
                      <a:pt x="69" y="98"/>
                    </a:lnTo>
                    <a:lnTo>
                      <a:pt x="73" y="99"/>
                    </a:lnTo>
                    <a:lnTo>
                      <a:pt x="76" y="99"/>
                    </a:lnTo>
                    <a:lnTo>
                      <a:pt x="78" y="99"/>
                    </a:lnTo>
                    <a:lnTo>
                      <a:pt x="80" y="99"/>
                    </a:lnTo>
                    <a:lnTo>
                      <a:pt x="82" y="99"/>
                    </a:lnTo>
                    <a:lnTo>
                      <a:pt x="82" y="101"/>
                    </a:lnTo>
                    <a:lnTo>
                      <a:pt x="84" y="101"/>
                    </a:lnTo>
                    <a:lnTo>
                      <a:pt x="86" y="101"/>
                    </a:lnTo>
                    <a:lnTo>
                      <a:pt x="84" y="101"/>
                    </a:lnTo>
                    <a:lnTo>
                      <a:pt x="82" y="101"/>
                    </a:lnTo>
                    <a:lnTo>
                      <a:pt x="78" y="101"/>
                    </a:lnTo>
                    <a:lnTo>
                      <a:pt x="76" y="101"/>
                    </a:lnTo>
                    <a:lnTo>
                      <a:pt x="73" y="101"/>
                    </a:lnTo>
                    <a:lnTo>
                      <a:pt x="72" y="101"/>
                    </a:lnTo>
                    <a:lnTo>
                      <a:pt x="69" y="102"/>
                    </a:lnTo>
                    <a:lnTo>
                      <a:pt x="66" y="104"/>
                    </a:lnTo>
                    <a:lnTo>
                      <a:pt x="65" y="104"/>
                    </a:lnTo>
                    <a:lnTo>
                      <a:pt x="62" y="107"/>
                    </a:lnTo>
                    <a:lnTo>
                      <a:pt x="58" y="108"/>
                    </a:lnTo>
                    <a:lnTo>
                      <a:pt x="55" y="109"/>
                    </a:lnTo>
                    <a:lnTo>
                      <a:pt x="54" y="109"/>
                    </a:lnTo>
                    <a:lnTo>
                      <a:pt x="54" y="111"/>
                    </a:lnTo>
                    <a:lnTo>
                      <a:pt x="55" y="111"/>
                    </a:lnTo>
                    <a:lnTo>
                      <a:pt x="56" y="113"/>
                    </a:lnTo>
                    <a:lnTo>
                      <a:pt x="58" y="113"/>
                    </a:lnTo>
                    <a:lnTo>
                      <a:pt x="60" y="114"/>
                    </a:lnTo>
                    <a:lnTo>
                      <a:pt x="62" y="114"/>
                    </a:lnTo>
                    <a:lnTo>
                      <a:pt x="63" y="114"/>
                    </a:lnTo>
                    <a:lnTo>
                      <a:pt x="66" y="113"/>
                    </a:lnTo>
                    <a:lnTo>
                      <a:pt x="67" y="113"/>
                    </a:lnTo>
                    <a:lnTo>
                      <a:pt x="69" y="113"/>
                    </a:lnTo>
                    <a:lnTo>
                      <a:pt x="69" y="111"/>
                    </a:lnTo>
                    <a:lnTo>
                      <a:pt x="67" y="113"/>
                    </a:lnTo>
                    <a:lnTo>
                      <a:pt x="66" y="114"/>
                    </a:lnTo>
                    <a:lnTo>
                      <a:pt x="65" y="114"/>
                    </a:lnTo>
                    <a:lnTo>
                      <a:pt x="63" y="116"/>
                    </a:lnTo>
                    <a:lnTo>
                      <a:pt x="65" y="116"/>
                    </a:lnTo>
                    <a:lnTo>
                      <a:pt x="66" y="116"/>
                    </a:lnTo>
                    <a:lnTo>
                      <a:pt x="67" y="116"/>
                    </a:lnTo>
                    <a:lnTo>
                      <a:pt x="69" y="116"/>
                    </a:lnTo>
                    <a:lnTo>
                      <a:pt x="73" y="114"/>
                    </a:lnTo>
                    <a:lnTo>
                      <a:pt x="78" y="113"/>
                    </a:lnTo>
                    <a:lnTo>
                      <a:pt x="82" y="113"/>
                    </a:lnTo>
                    <a:lnTo>
                      <a:pt x="84" y="111"/>
                    </a:lnTo>
                    <a:lnTo>
                      <a:pt x="86" y="109"/>
                    </a:lnTo>
                    <a:lnTo>
                      <a:pt x="86" y="108"/>
                    </a:lnTo>
                    <a:lnTo>
                      <a:pt x="88" y="108"/>
                    </a:lnTo>
                    <a:lnTo>
                      <a:pt x="90" y="108"/>
                    </a:lnTo>
                    <a:lnTo>
                      <a:pt x="91" y="108"/>
                    </a:lnTo>
                    <a:lnTo>
                      <a:pt x="93" y="108"/>
                    </a:lnTo>
                    <a:lnTo>
                      <a:pt x="96" y="108"/>
                    </a:lnTo>
                    <a:lnTo>
                      <a:pt x="98" y="108"/>
                    </a:lnTo>
                    <a:lnTo>
                      <a:pt x="99" y="108"/>
                    </a:lnTo>
                    <a:lnTo>
                      <a:pt x="101" y="107"/>
                    </a:lnTo>
                    <a:lnTo>
                      <a:pt x="102" y="107"/>
                    </a:lnTo>
                    <a:lnTo>
                      <a:pt x="104" y="107"/>
                    </a:lnTo>
                    <a:lnTo>
                      <a:pt x="104" y="108"/>
                    </a:lnTo>
                    <a:lnTo>
                      <a:pt x="105" y="108"/>
                    </a:lnTo>
                    <a:lnTo>
                      <a:pt x="107" y="109"/>
                    </a:lnTo>
                    <a:lnTo>
                      <a:pt x="108" y="109"/>
                    </a:lnTo>
                    <a:lnTo>
                      <a:pt x="110" y="111"/>
                    </a:lnTo>
                    <a:lnTo>
                      <a:pt x="111" y="111"/>
                    </a:lnTo>
                    <a:lnTo>
                      <a:pt x="113" y="113"/>
                    </a:lnTo>
                    <a:lnTo>
                      <a:pt x="114" y="113"/>
                    </a:lnTo>
                    <a:lnTo>
                      <a:pt x="116" y="114"/>
                    </a:lnTo>
                    <a:lnTo>
                      <a:pt x="118" y="116"/>
                    </a:lnTo>
                    <a:lnTo>
                      <a:pt x="119" y="116"/>
                    </a:lnTo>
                    <a:lnTo>
                      <a:pt x="121" y="118"/>
                    </a:lnTo>
                    <a:lnTo>
                      <a:pt x="122" y="119"/>
                    </a:lnTo>
                    <a:lnTo>
                      <a:pt x="124" y="119"/>
                    </a:lnTo>
                    <a:lnTo>
                      <a:pt x="125" y="121"/>
                    </a:lnTo>
                    <a:lnTo>
                      <a:pt x="125" y="122"/>
                    </a:lnTo>
                    <a:lnTo>
                      <a:pt x="127" y="124"/>
                    </a:lnTo>
                    <a:lnTo>
                      <a:pt x="129" y="125"/>
                    </a:lnTo>
                    <a:lnTo>
                      <a:pt x="129" y="127"/>
                    </a:lnTo>
                    <a:lnTo>
                      <a:pt x="131" y="129"/>
                    </a:lnTo>
                    <a:lnTo>
                      <a:pt x="132" y="129"/>
                    </a:lnTo>
                    <a:lnTo>
                      <a:pt x="132" y="122"/>
                    </a:lnTo>
                    <a:lnTo>
                      <a:pt x="132" y="111"/>
                    </a:lnTo>
                    <a:lnTo>
                      <a:pt x="132" y="102"/>
                    </a:lnTo>
                    <a:lnTo>
                      <a:pt x="132" y="92"/>
                    </a:lnTo>
                    <a:lnTo>
                      <a:pt x="132" y="89"/>
                    </a:lnTo>
                    <a:lnTo>
                      <a:pt x="132" y="88"/>
                    </a:lnTo>
                    <a:lnTo>
                      <a:pt x="134" y="83"/>
                    </a:lnTo>
                    <a:lnTo>
                      <a:pt x="134" y="80"/>
                    </a:lnTo>
                    <a:lnTo>
                      <a:pt x="134" y="79"/>
                    </a:lnTo>
                    <a:lnTo>
                      <a:pt x="134" y="77"/>
                    </a:lnTo>
                    <a:lnTo>
                      <a:pt x="134" y="75"/>
                    </a:lnTo>
                    <a:lnTo>
                      <a:pt x="132" y="74"/>
                    </a:lnTo>
                    <a:lnTo>
                      <a:pt x="131" y="72"/>
                    </a:lnTo>
                    <a:lnTo>
                      <a:pt x="127" y="70"/>
                    </a:lnTo>
                    <a:lnTo>
                      <a:pt x="125" y="70"/>
                    </a:lnTo>
                    <a:lnTo>
                      <a:pt x="124" y="69"/>
                    </a:lnTo>
                    <a:lnTo>
                      <a:pt x="121" y="69"/>
                    </a:lnTo>
                    <a:lnTo>
                      <a:pt x="116" y="67"/>
                    </a:lnTo>
                    <a:lnTo>
                      <a:pt x="116" y="65"/>
                    </a:lnTo>
                    <a:lnTo>
                      <a:pt x="116" y="62"/>
                    </a:lnTo>
                    <a:lnTo>
                      <a:pt x="114" y="57"/>
                    </a:lnTo>
                    <a:lnTo>
                      <a:pt x="113" y="51"/>
                    </a:lnTo>
                    <a:lnTo>
                      <a:pt x="113" y="50"/>
                    </a:lnTo>
                    <a:lnTo>
                      <a:pt x="111" y="50"/>
                    </a:lnTo>
                    <a:lnTo>
                      <a:pt x="110" y="50"/>
                    </a:lnTo>
                    <a:lnTo>
                      <a:pt x="108" y="49"/>
                    </a:lnTo>
                    <a:lnTo>
                      <a:pt x="105" y="49"/>
                    </a:lnTo>
                    <a:lnTo>
                      <a:pt x="102" y="47"/>
                    </a:lnTo>
                    <a:lnTo>
                      <a:pt x="98" y="44"/>
                    </a:lnTo>
                    <a:lnTo>
                      <a:pt x="93" y="41"/>
                    </a:lnTo>
                    <a:lnTo>
                      <a:pt x="90" y="38"/>
                    </a:lnTo>
                    <a:lnTo>
                      <a:pt x="93" y="33"/>
                    </a:lnTo>
                    <a:lnTo>
                      <a:pt x="94" y="28"/>
                    </a:lnTo>
                    <a:lnTo>
                      <a:pt x="96" y="23"/>
                    </a:lnTo>
                    <a:lnTo>
                      <a:pt x="96" y="18"/>
                    </a:lnTo>
                    <a:lnTo>
                      <a:pt x="94" y="13"/>
                    </a:lnTo>
                    <a:lnTo>
                      <a:pt x="93" y="8"/>
                    </a:lnTo>
                    <a:lnTo>
                      <a:pt x="91" y="5"/>
                    </a:lnTo>
                    <a:lnTo>
                      <a:pt x="90" y="4"/>
                    </a:lnTo>
                    <a:lnTo>
                      <a:pt x="86" y="4"/>
                    </a:lnTo>
                    <a:lnTo>
                      <a:pt x="86" y="1"/>
                    </a:lnTo>
                    <a:lnTo>
                      <a:pt x="82" y="0"/>
                    </a:lnTo>
                    <a:lnTo>
                      <a:pt x="80" y="0"/>
                    </a:lnTo>
                    <a:lnTo>
                      <a:pt x="78" y="0"/>
                    </a:lnTo>
                    <a:lnTo>
                      <a:pt x="76" y="0"/>
                    </a:lnTo>
                    <a:lnTo>
                      <a:pt x="72" y="0"/>
                    </a:lnTo>
                    <a:lnTo>
                      <a:pt x="69" y="1"/>
                    </a:lnTo>
                    <a:lnTo>
                      <a:pt x="67" y="4"/>
                    </a:lnTo>
                    <a:lnTo>
                      <a:pt x="66" y="4"/>
                    </a:lnTo>
                    <a:lnTo>
                      <a:pt x="63" y="4"/>
                    </a:lnTo>
                    <a:lnTo>
                      <a:pt x="63" y="5"/>
                    </a:lnTo>
                    <a:lnTo>
                      <a:pt x="62" y="7"/>
                    </a:lnTo>
                    <a:lnTo>
                      <a:pt x="60" y="8"/>
                    </a:lnTo>
                    <a:lnTo>
                      <a:pt x="60" y="10"/>
                    </a:lnTo>
                    <a:lnTo>
                      <a:pt x="58" y="13"/>
                    </a:lnTo>
                    <a:lnTo>
                      <a:pt x="58" y="17"/>
                    </a:lnTo>
                    <a:lnTo>
                      <a:pt x="58" y="18"/>
                    </a:lnTo>
                    <a:lnTo>
                      <a:pt x="58" y="22"/>
                    </a:lnTo>
                    <a:lnTo>
                      <a:pt x="56" y="22"/>
                    </a:lnTo>
                    <a:lnTo>
                      <a:pt x="56" y="23"/>
                    </a:lnTo>
                    <a:lnTo>
                      <a:pt x="56" y="25"/>
                    </a:lnTo>
                    <a:lnTo>
                      <a:pt x="58" y="25"/>
                    </a:lnTo>
                    <a:lnTo>
                      <a:pt x="58" y="26"/>
                    </a:lnTo>
                    <a:lnTo>
                      <a:pt x="56" y="28"/>
                    </a:lnTo>
                    <a:lnTo>
                      <a:pt x="56" y="29"/>
                    </a:lnTo>
                    <a:lnTo>
                      <a:pt x="55" y="31"/>
                    </a:lnTo>
                    <a:lnTo>
                      <a:pt x="55" y="33"/>
                    </a:lnTo>
                    <a:lnTo>
                      <a:pt x="56" y="34"/>
                    </a:lnTo>
                    <a:lnTo>
                      <a:pt x="58" y="34"/>
                    </a:lnTo>
                  </a:path>
                </a:pathLst>
              </a:custGeom>
              <a:gradFill rotWithShape="0">
                <a:gsLst>
                  <a:gs pos="0">
                    <a:srgbClr val="cf0e30"/>
                  </a:gs>
                  <a:gs pos="100000">
                    <a:srgbClr val="3d040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385040" y="4761720"/>
                <a:ext cx="114480" cy="63720"/>
              </a:xfrm>
              <a:custGeom>
                <a:avLst/>
                <a:gdLst/>
                <a:ahLst/>
                <a:rect l="l" t="t" r="r" b="b"/>
                <a:pathLst>
                  <a:path w="70" h="56">
                    <a:moveTo>
                      <a:pt x="10" y="40"/>
                    </a:moveTo>
                    <a:lnTo>
                      <a:pt x="11" y="40"/>
                    </a:lnTo>
                    <a:lnTo>
                      <a:pt x="13" y="40"/>
                    </a:lnTo>
                    <a:lnTo>
                      <a:pt x="15" y="41"/>
                    </a:lnTo>
                    <a:lnTo>
                      <a:pt x="17" y="41"/>
                    </a:lnTo>
                    <a:lnTo>
                      <a:pt x="17" y="40"/>
                    </a:lnTo>
                    <a:lnTo>
                      <a:pt x="19" y="38"/>
                    </a:lnTo>
                    <a:lnTo>
                      <a:pt x="21" y="36"/>
                    </a:lnTo>
                    <a:lnTo>
                      <a:pt x="22" y="36"/>
                    </a:lnTo>
                    <a:lnTo>
                      <a:pt x="25" y="32"/>
                    </a:lnTo>
                    <a:lnTo>
                      <a:pt x="26" y="32"/>
                    </a:lnTo>
                    <a:lnTo>
                      <a:pt x="28" y="30"/>
                    </a:lnTo>
                    <a:lnTo>
                      <a:pt x="29" y="28"/>
                    </a:lnTo>
                    <a:lnTo>
                      <a:pt x="29" y="27"/>
                    </a:lnTo>
                    <a:lnTo>
                      <a:pt x="30" y="27"/>
                    </a:lnTo>
                    <a:lnTo>
                      <a:pt x="30" y="25"/>
                    </a:lnTo>
                    <a:lnTo>
                      <a:pt x="32" y="23"/>
                    </a:lnTo>
                    <a:lnTo>
                      <a:pt x="35" y="19"/>
                    </a:lnTo>
                    <a:lnTo>
                      <a:pt x="36" y="19"/>
                    </a:lnTo>
                    <a:lnTo>
                      <a:pt x="38" y="16"/>
                    </a:lnTo>
                    <a:lnTo>
                      <a:pt x="39" y="13"/>
                    </a:lnTo>
                    <a:lnTo>
                      <a:pt x="41" y="11"/>
                    </a:lnTo>
                    <a:lnTo>
                      <a:pt x="43" y="8"/>
                    </a:lnTo>
                    <a:lnTo>
                      <a:pt x="46" y="5"/>
                    </a:lnTo>
                    <a:lnTo>
                      <a:pt x="47" y="4"/>
                    </a:lnTo>
                    <a:lnTo>
                      <a:pt x="50" y="1"/>
                    </a:lnTo>
                    <a:lnTo>
                      <a:pt x="53" y="1"/>
                    </a:lnTo>
                    <a:lnTo>
                      <a:pt x="55" y="0"/>
                    </a:lnTo>
                    <a:lnTo>
                      <a:pt x="56" y="0"/>
                    </a:lnTo>
                    <a:lnTo>
                      <a:pt x="58" y="0"/>
                    </a:lnTo>
                    <a:lnTo>
                      <a:pt x="59" y="0"/>
                    </a:lnTo>
                    <a:lnTo>
                      <a:pt x="60" y="0"/>
                    </a:lnTo>
                    <a:lnTo>
                      <a:pt x="62" y="0"/>
                    </a:lnTo>
                    <a:lnTo>
                      <a:pt x="63" y="1"/>
                    </a:lnTo>
                    <a:lnTo>
                      <a:pt x="64" y="2"/>
                    </a:lnTo>
                    <a:lnTo>
                      <a:pt x="65" y="4"/>
                    </a:lnTo>
                    <a:lnTo>
                      <a:pt x="67" y="6"/>
                    </a:lnTo>
                    <a:lnTo>
                      <a:pt x="67" y="8"/>
                    </a:lnTo>
                    <a:lnTo>
                      <a:pt x="69" y="8"/>
                    </a:lnTo>
                    <a:lnTo>
                      <a:pt x="69" y="9"/>
                    </a:lnTo>
                    <a:lnTo>
                      <a:pt x="69" y="11"/>
                    </a:lnTo>
                    <a:lnTo>
                      <a:pt x="67" y="13"/>
                    </a:lnTo>
                    <a:lnTo>
                      <a:pt x="62" y="34"/>
                    </a:lnTo>
                    <a:lnTo>
                      <a:pt x="60" y="34"/>
                    </a:lnTo>
                    <a:lnTo>
                      <a:pt x="59" y="32"/>
                    </a:lnTo>
                    <a:lnTo>
                      <a:pt x="58" y="30"/>
                    </a:lnTo>
                    <a:lnTo>
                      <a:pt x="56" y="27"/>
                    </a:lnTo>
                    <a:lnTo>
                      <a:pt x="56" y="23"/>
                    </a:lnTo>
                    <a:lnTo>
                      <a:pt x="55" y="16"/>
                    </a:lnTo>
                    <a:lnTo>
                      <a:pt x="55" y="17"/>
                    </a:lnTo>
                    <a:lnTo>
                      <a:pt x="55" y="19"/>
                    </a:lnTo>
                    <a:lnTo>
                      <a:pt x="55" y="21"/>
                    </a:lnTo>
                    <a:lnTo>
                      <a:pt x="53" y="23"/>
                    </a:lnTo>
                    <a:lnTo>
                      <a:pt x="52" y="24"/>
                    </a:lnTo>
                    <a:lnTo>
                      <a:pt x="50" y="25"/>
                    </a:lnTo>
                    <a:lnTo>
                      <a:pt x="50" y="27"/>
                    </a:lnTo>
                    <a:lnTo>
                      <a:pt x="50" y="28"/>
                    </a:lnTo>
                    <a:lnTo>
                      <a:pt x="50" y="30"/>
                    </a:lnTo>
                    <a:lnTo>
                      <a:pt x="52" y="32"/>
                    </a:lnTo>
                    <a:lnTo>
                      <a:pt x="50" y="32"/>
                    </a:lnTo>
                    <a:lnTo>
                      <a:pt x="49" y="32"/>
                    </a:lnTo>
                    <a:lnTo>
                      <a:pt x="47" y="34"/>
                    </a:lnTo>
                    <a:lnTo>
                      <a:pt x="46" y="34"/>
                    </a:lnTo>
                    <a:lnTo>
                      <a:pt x="45" y="36"/>
                    </a:lnTo>
                    <a:lnTo>
                      <a:pt x="43" y="36"/>
                    </a:lnTo>
                    <a:lnTo>
                      <a:pt x="42" y="36"/>
                    </a:lnTo>
                    <a:lnTo>
                      <a:pt x="41" y="36"/>
                    </a:lnTo>
                    <a:lnTo>
                      <a:pt x="41" y="38"/>
                    </a:lnTo>
                    <a:lnTo>
                      <a:pt x="42" y="38"/>
                    </a:lnTo>
                    <a:lnTo>
                      <a:pt x="43" y="40"/>
                    </a:lnTo>
                    <a:lnTo>
                      <a:pt x="43" y="41"/>
                    </a:lnTo>
                    <a:lnTo>
                      <a:pt x="45" y="41"/>
                    </a:lnTo>
                    <a:lnTo>
                      <a:pt x="43" y="42"/>
                    </a:lnTo>
                    <a:lnTo>
                      <a:pt x="42" y="44"/>
                    </a:lnTo>
                    <a:lnTo>
                      <a:pt x="42" y="46"/>
                    </a:lnTo>
                    <a:lnTo>
                      <a:pt x="41" y="46"/>
                    </a:lnTo>
                    <a:lnTo>
                      <a:pt x="39" y="47"/>
                    </a:lnTo>
                    <a:lnTo>
                      <a:pt x="38" y="47"/>
                    </a:lnTo>
                    <a:lnTo>
                      <a:pt x="36" y="49"/>
                    </a:lnTo>
                    <a:lnTo>
                      <a:pt x="35" y="49"/>
                    </a:lnTo>
                    <a:lnTo>
                      <a:pt x="34" y="50"/>
                    </a:lnTo>
                    <a:lnTo>
                      <a:pt x="32" y="50"/>
                    </a:lnTo>
                    <a:lnTo>
                      <a:pt x="30" y="50"/>
                    </a:lnTo>
                    <a:lnTo>
                      <a:pt x="29" y="50"/>
                    </a:lnTo>
                    <a:lnTo>
                      <a:pt x="28" y="50"/>
                    </a:lnTo>
                    <a:lnTo>
                      <a:pt x="28" y="52"/>
                    </a:lnTo>
                    <a:lnTo>
                      <a:pt x="26" y="52"/>
                    </a:lnTo>
                    <a:lnTo>
                      <a:pt x="25" y="52"/>
                    </a:lnTo>
                    <a:lnTo>
                      <a:pt x="25" y="50"/>
                    </a:lnTo>
                    <a:lnTo>
                      <a:pt x="23" y="50"/>
                    </a:lnTo>
                    <a:lnTo>
                      <a:pt x="22" y="49"/>
                    </a:lnTo>
                    <a:lnTo>
                      <a:pt x="21" y="47"/>
                    </a:lnTo>
                    <a:lnTo>
                      <a:pt x="21" y="49"/>
                    </a:lnTo>
                    <a:lnTo>
                      <a:pt x="21" y="50"/>
                    </a:lnTo>
                    <a:lnTo>
                      <a:pt x="22" y="52"/>
                    </a:lnTo>
                    <a:lnTo>
                      <a:pt x="22" y="53"/>
                    </a:lnTo>
                    <a:lnTo>
                      <a:pt x="21" y="53"/>
                    </a:lnTo>
                    <a:lnTo>
                      <a:pt x="19" y="53"/>
                    </a:lnTo>
                    <a:lnTo>
                      <a:pt x="17" y="53"/>
                    </a:lnTo>
                    <a:lnTo>
                      <a:pt x="17" y="54"/>
                    </a:lnTo>
                    <a:lnTo>
                      <a:pt x="15" y="54"/>
                    </a:lnTo>
                    <a:lnTo>
                      <a:pt x="13" y="54"/>
                    </a:lnTo>
                    <a:lnTo>
                      <a:pt x="13" y="53"/>
                    </a:lnTo>
                    <a:lnTo>
                      <a:pt x="15" y="53"/>
                    </a:lnTo>
                    <a:lnTo>
                      <a:pt x="17" y="52"/>
                    </a:lnTo>
                    <a:lnTo>
                      <a:pt x="17" y="50"/>
                    </a:lnTo>
                    <a:lnTo>
                      <a:pt x="15" y="49"/>
                    </a:lnTo>
                    <a:lnTo>
                      <a:pt x="13" y="49"/>
                    </a:lnTo>
                    <a:lnTo>
                      <a:pt x="13" y="50"/>
                    </a:lnTo>
                    <a:lnTo>
                      <a:pt x="11" y="49"/>
                    </a:lnTo>
                    <a:lnTo>
                      <a:pt x="10" y="49"/>
                    </a:lnTo>
                    <a:lnTo>
                      <a:pt x="8" y="49"/>
                    </a:lnTo>
                    <a:lnTo>
                      <a:pt x="8" y="50"/>
                    </a:lnTo>
                    <a:lnTo>
                      <a:pt x="7" y="50"/>
                    </a:lnTo>
                    <a:lnTo>
                      <a:pt x="7" y="52"/>
                    </a:lnTo>
                    <a:lnTo>
                      <a:pt x="7" y="53"/>
                    </a:lnTo>
                    <a:lnTo>
                      <a:pt x="8" y="53"/>
                    </a:lnTo>
                    <a:lnTo>
                      <a:pt x="10" y="53"/>
                    </a:lnTo>
                    <a:lnTo>
                      <a:pt x="10" y="54"/>
                    </a:lnTo>
                    <a:lnTo>
                      <a:pt x="11" y="54"/>
                    </a:lnTo>
                    <a:lnTo>
                      <a:pt x="11" y="55"/>
                    </a:lnTo>
                    <a:lnTo>
                      <a:pt x="10" y="55"/>
                    </a:lnTo>
                    <a:lnTo>
                      <a:pt x="8" y="55"/>
                    </a:lnTo>
                    <a:lnTo>
                      <a:pt x="7" y="55"/>
                    </a:lnTo>
                    <a:lnTo>
                      <a:pt x="5" y="55"/>
                    </a:lnTo>
                    <a:lnTo>
                      <a:pt x="4" y="55"/>
                    </a:lnTo>
                    <a:lnTo>
                      <a:pt x="4" y="54"/>
                    </a:lnTo>
                    <a:lnTo>
                      <a:pt x="2" y="53"/>
                    </a:lnTo>
                    <a:lnTo>
                      <a:pt x="2" y="52"/>
                    </a:lnTo>
                    <a:lnTo>
                      <a:pt x="1" y="52"/>
                    </a:lnTo>
                    <a:lnTo>
                      <a:pt x="1" y="50"/>
                    </a:lnTo>
                    <a:lnTo>
                      <a:pt x="1" y="49"/>
                    </a:lnTo>
                    <a:lnTo>
                      <a:pt x="0" y="49"/>
                    </a:lnTo>
                    <a:lnTo>
                      <a:pt x="1" y="47"/>
                    </a:lnTo>
                    <a:lnTo>
                      <a:pt x="1" y="46"/>
                    </a:lnTo>
                    <a:lnTo>
                      <a:pt x="2" y="44"/>
                    </a:lnTo>
                    <a:lnTo>
                      <a:pt x="4" y="42"/>
                    </a:lnTo>
                    <a:lnTo>
                      <a:pt x="4" y="41"/>
                    </a:lnTo>
                    <a:lnTo>
                      <a:pt x="5" y="41"/>
                    </a:lnTo>
                    <a:lnTo>
                      <a:pt x="7" y="40"/>
                    </a:lnTo>
                    <a:lnTo>
                      <a:pt x="8" y="40"/>
                    </a:lnTo>
                    <a:lnTo>
                      <a:pt x="10" y="4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5" name=""/>
              <p:cNvSpPr/>
              <p:nvPr/>
            </p:nvSpPr>
            <p:spPr>
              <a:xfrm>
                <a:off x="7476480" y="4758480"/>
                <a:ext cx="116280" cy="83160"/>
              </a:xfrm>
              <a:custGeom>
                <a:avLst/>
                <a:gdLst/>
                <a:ahLst/>
                <a:rect l="l" t="t" r="r" b="b"/>
                <a:pathLst>
                  <a:path w="71" h="73">
                    <a:moveTo>
                      <a:pt x="58" y="25"/>
                    </a:moveTo>
                    <a:lnTo>
                      <a:pt x="58" y="23"/>
                    </a:lnTo>
                    <a:lnTo>
                      <a:pt x="58" y="22"/>
                    </a:lnTo>
                    <a:lnTo>
                      <a:pt x="57" y="19"/>
                    </a:lnTo>
                    <a:lnTo>
                      <a:pt x="57" y="18"/>
                    </a:lnTo>
                    <a:lnTo>
                      <a:pt x="56" y="15"/>
                    </a:lnTo>
                    <a:lnTo>
                      <a:pt x="56" y="13"/>
                    </a:lnTo>
                    <a:lnTo>
                      <a:pt x="54" y="12"/>
                    </a:lnTo>
                    <a:lnTo>
                      <a:pt x="52" y="10"/>
                    </a:lnTo>
                    <a:lnTo>
                      <a:pt x="51" y="10"/>
                    </a:lnTo>
                    <a:lnTo>
                      <a:pt x="50" y="8"/>
                    </a:lnTo>
                    <a:lnTo>
                      <a:pt x="47" y="7"/>
                    </a:lnTo>
                    <a:lnTo>
                      <a:pt x="44" y="5"/>
                    </a:lnTo>
                    <a:lnTo>
                      <a:pt x="41" y="3"/>
                    </a:lnTo>
                    <a:lnTo>
                      <a:pt x="40" y="2"/>
                    </a:lnTo>
                    <a:lnTo>
                      <a:pt x="38" y="1"/>
                    </a:lnTo>
                    <a:lnTo>
                      <a:pt x="37" y="0"/>
                    </a:lnTo>
                    <a:lnTo>
                      <a:pt x="35" y="0"/>
                    </a:lnTo>
                    <a:lnTo>
                      <a:pt x="34" y="0"/>
                    </a:lnTo>
                    <a:lnTo>
                      <a:pt x="31" y="1"/>
                    </a:lnTo>
                    <a:lnTo>
                      <a:pt x="30" y="2"/>
                    </a:lnTo>
                    <a:lnTo>
                      <a:pt x="29" y="3"/>
                    </a:lnTo>
                    <a:lnTo>
                      <a:pt x="27" y="3"/>
                    </a:lnTo>
                    <a:lnTo>
                      <a:pt x="24" y="5"/>
                    </a:lnTo>
                    <a:lnTo>
                      <a:pt x="23" y="7"/>
                    </a:lnTo>
                    <a:lnTo>
                      <a:pt x="23" y="10"/>
                    </a:lnTo>
                    <a:lnTo>
                      <a:pt x="24" y="12"/>
                    </a:lnTo>
                    <a:lnTo>
                      <a:pt x="24" y="13"/>
                    </a:lnTo>
                    <a:lnTo>
                      <a:pt x="21" y="15"/>
                    </a:lnTo>
                    <a:lnTo>
                      <a:pt x="23" y="18"/>
                    </a:lnTo>
                    <a:lnTo>
                      <a:pt x="23" y="22"/>
                    </a:lnTo>
                    <a:lnTo>
                      <a:pt x="23" y="30"/>
                    </a:lnTo>
                    <a:lnTo>
                      <a:pt x="21" y="37"/>
                    </a:lnTo>
                    <a:lnTo>
                      <a:pt x="21" y="41"/>
                    </a:lnTo>
                    <a:lnTo>
                      <a:pt x="23" y="42"/>
                    </a:lnTo>
                    <a:lnTo>
                      <a:pt x="23" y="44"/>
                    </a:lnTo>
                    <a:lnTo>
                      <a:pt x="24" y="44"/>
                    </a:lnTo>
                    <a:lnTo>
                      <a:pt x="24" y="45"/>
                    </a:lnTo>
                    <a:lnTo>
                      <a:pt x="26" y="47"/>
                    </a:lnTo>
                    <a:lnTo>
                      <a:pt x="27" y="47"/>
                    </a:lnTo>
                    <a:lnTo>
                      <a:pt x="29" y="49"/>
                    </a:lnTo>
                    <a:lnTo>
                      <a:pt x="30" y="49"/>
                    </a:lnTo>
                    <a:lnTo>
                      <a:pt x="31" y="49"/>
                    </a:lnTo>
                    <a:lnTo>
                      <a:pt x="32" y="47"/>
                    </a:lnTo>
                    <a:lnTo>
                      <a:pt x="34" y="45"/>
                    </a:lnTo>
                    <a:lnTo>
                      <a:pt x="35" y="45"/>
                    </a:lnTo>
                    <a:lnTo>
                      <a:pt x="35" y="44"/>
                    </a:lnTo>
                    <a:lnTo>
                      <a:pt x="34" y="42"/>
                    </a:lnTo>
                    <a:lnTo>
                      <a:pt x="34" y="41"/>
                    </a:lnTo>
                    <a:lnTo>
                      <a:pt x="32" y="41"/>
                    </a:lnTo>
                    <a:lnTo>
                      <a:pt x="32" y="39"/>
                    </a:lnTo>
                    <a:lnTo>
                      <a:pt x="32" y="37"/>
                    </a:lnTo>
                    <a:lnTo>
                      <a:pt x="34" y="36"/>
                    </a:lnTo>
                    <a:lnTo>
                      <a:pt x="35" y="36"/>
                    </a:lnTo>
                    <a:lnTo>
                      <a:pt x="37" y="35"/>
                    </a:lnTo>
                    <a:lnTo>
                      <a:pt x="38" y="35"/>
                    </a:lnTo>
                    <a:lnTo>
                      <a:pt x="38" y="32"/>
                    </a:lnTo>
                    <a:lnTo>
                      <a:pt x="40" y="32"/>
                    </a:lnTo>
                    <a:lnTo>
                      <a:pt x="40" y="30"/>
                    </a:lnTo>
                    <a:lnTo>
                      <a:pt x="40" y="28"/>
                    </a:lnTo>
                    <a:lnTo>
                      <a:pt x="40" y="27"/>
                    </a:lnTo>
                    <a:lnTo>
                      <a:pt x="41" y="27"/>
                    </a:lnTo>
                    <a:lnTo>
                      <a:pt x="41" y="30"/>
                    </a:lnTo>
                    <a:lnTo>
                      <a:pt x="41" y="32"/>
                    </a:lnTo>
                    <a:lnTo>
                      <a:pt x="41" y="36"/>
                    </a:lnTo>
                    <a:lnTo>
                      <a:pt x="40" y="39"/>
                    </a:lnTo>
                    <a:lnTo>
                      <a:pt x="40" y="41"/>
                    </a:lnTo>
                    <a:lnTo>
                      <a:pt x="41" y="42"/>
                    </a:lnTo>
                    <a:lnTo>
                      <a:pt x="40" y="44"/>
                    </a:lnTo>
                    <a:lnTo>
                      <a:pt x="40" y="47"/>
                    </a:lnTo>
                    <a:lnTo>
                      <a:pt x="40" y="51"/>
                    </a:lnTo>
                    <a:lnTo>
                      <a:pt x="40" y="52"/>
                    </a:lnTo>
                    <a:lnTo>
                      <a:pt x="30" y="57"/>
                    </a:lnTo>
                    <a:lnTo>
                      <a:pt x="29" y="57"/>
                    </a:lnTo>
                    <a:lnTo>
                      <a:pt x="27" y="57"/>
                    </a:lnTo>
                    <a:lnTo>
                      <a:pt x="26" y="57"/>
                    </a:lnTo>
                    <a:lnTo>
                      <a:pt x="23" y="57"/>
                    </a:lnTo>
                    <a:lnTo>
                      <a:pt x="21" y="57"/>
                    </a:lnTo>
                    <a:lnTo>
                      <a:pt x="18" y="57"/>
                    </a:lnTo>
                    <a:lnTo>
                      <a:pt x="17" y="57"/>
                    </a:lnTo>
                    <a:lnTo>
                      <a:pt x="15" y="58"/>
                    </a:lnTo>
                    <a:lnTo>
                      <a:pt x="14" y="58"/>
                    </a:lnTo>
                    <a:lnTo>
                      <a:pt x="12" y="60"/>
                    </a:lnTo>
                    <a:lnTo>
                      <a:pt x="10" y="61"/>
                    </a:lnTo>
                    <a:lnTo>
                      <a:pt x="7" y="63"/>
                    </a:lnTo>
                    <a:lnTo>
                      <a:pt x="4" y="64"/>
                    </a:lnTo>
                    <a:lnTo>
                      <a:pt x="1" y="66"/>
                    </a:lnTo>
                    <a:lnTo>
                      <a:pt x="0" y="66"/>
                    </a:lnTo>
                    <a:lnTo>
                      <a:pt x="0" y="67"/>
                    </a:lnTo>
                    <a:lnTo>
                      <a:pt x="1" y="67"/>
                    </a:lnTo>
                    <a:lnTo>
                      <a:pt x="2" y="69"/>
                    </a:lnTo>
                    <a:lnTo>
                      <a:pt x="4" y="69"/>
                    </a:lnTo>
                    <a:lnTo>
                      <a:pt x="5" y="70"/>
                    </a:lnTo>
                    <a:lnTo>
                      <a:pt x="7" y="70"/>
                    </a:lnTo>
                    <a:lnTo>
                      <a:pt x="9" y="70"/>
                    </a:lnTo>
                    <a:lnTo>
                      <a:pt x="12" y="69"/>
                    </a:lnTo>
                    <a:lnTo>
                      <a:pt x="13" y="69"/>
                    </a:lnTo>
                    <a:lnTo>
                      <a:pt x="14" y="69"/>
                    </a:lnTo>
                    <a:lnTo>
                      <a:pt x="14" y="67"/>
                    </a:lnTo>
                    <a:lnTo>
                      <a:pt x="15" y="67"/>
                    </a:lnTo>
                    <a:lnTo>
                      <a:pt x="13" y="69"/>
                    </a:lnTo>
                    <a:lnTo>
                      <a:pt x="12" y="70"/>
                    </a:lnTo>
                    <a:lnTo>
                      <a:pt x="10" y="70"/>
                    </a:lnTo>
                    <a:lnTo>
                      <a:pt x="9" y="72"/>
                    </a:lnTo>
                    <a:lnTo>
                      <a:pt x="10" y="72"/>
                    </a:lnTo>
                    <a:lnTo>
                      <a:pt x="12" y="72"/>
                    </a:lnTo>
                    <a:lnTo>
                      <a:pt x="13" y="72"/>
                    </a:lnTo>
                    <a:lnTo>
                      <a:pt x="15" y="72"/>
                    </a:lnTo>
                    <a:lnTo>
                      <a:pt x="18" y="70"/>
                    </a:lnTo>
                    <a:lnTo>
                      <a:pt x="23" y="69"/>
                    </a:lnTo>
                    <a:lnTo>
                      <a:pt x="26" y="69"/>
                    </a:lnTo>
                    <a:lnTo>
                      <a:pt x="29" y="67"/>
                    </a:lnTo>
                    <a:lnTo>
                      <a:pt x="30" y="66"/>
                    </a:lnTo>
                    <a:lnTo>
                      <a:pt x="31" y="66"/>
                    </a:lnTo>
                    <a:lnTo>
                      <a:pt x="31" y="64"/>
                    </a:lnTo>
                    <a:lnTo>
                      <a:pt x="32" y="64"/>
                    </a:lnTo>
                    <a:lnTo>
                      <a:pt x="34" y="64"/>
                    </a:lnTo>
                    <a:lnTo>
                      <a:pt x="35" y="64"/>
                    </a:lnTo>
                    <a:lnTo>
                      <a:pt x="37" y="64"/>
                    </a:lnTo>
                    <a:lnTo>
                      <a:pt x="40" y="64"/>
                    </a:lnTo>
                    <a:lnTo>
                      <a:pt x="41" y="64"/>
                    </a:lnTo>
                    <a:lnTo>
                      <a:pt x="43" y="64"/>
                    </a:lnTo>
                    <a:lnTo>
                      <a:pt x="44" y="63"/>
                    </a:lnTo>
                    <a:lnTo>
                      <a:pt x="44" y="61"/>
                    </a:lnTo>
                    <a:lnTo>
                      <a:pt x="44" y="60"/>
                    </a:lnTo>
                    <a:lnTo>
                      <a:pt x="46" y="58"/>
                    </a:lnTo>
                    <a:lnTo>
                      <a:pt x="47" y="60"/>
                    </a:lnTo>
                    <a:lnTo>
                      <a:pt x="48" y="60"/>
                    </a:lnTo>
                    <a:lnTo>
                      <a:pt x="50" y="60"/>
                    </a:lnTo>
                    <a:lnTo>
                      <a:pt x="51" y="60"/>
                    </a:lnTo>
                    <a:lnTo>
                      <a:pt x="52" y="60"/>
                    </a:lnTo>
                    <a:lnTo>
                      <a:pt x="54" y="58"/>
                    </a:lnTo>
                    <a:lnTo>
                      <a:pt x="54" y="57"/>
                    </a:lnTo>
                    <a:lnTo>
                      <a:pt x="54" y="54"/>
                    </a:lnTo>
                    <a:lnTo>
                      <a:pt x="54" y="51"/>
                    </a:lnTo>
                    <a:lnTo>
                      <a:pt x="54" y="49"/>
                    </a:lnTo>
                    <a:lnTo>
                      <a:pt x="54" y="45"/>
                    </a:lnTo>
                    <a:lnTo>
                      <a:pt x="54" y="42"/>
                    </a:lnTo>
                    <a:lnTo>
                      <a:pt x="54" y="41"/>
                    </a:lnTo>
                    <a:lnTo>
                      <a:pt x="56" y="41"/>
                    </a:lnTo>
                    <a:lnTo>
                      <a:pt x="56" y="39"/>
                    </a:lnTo>
                    <a:lnTo>
                      <a:pt x="57" y="39"/>
                    </a:lnTo>
                    <a:lnTo>
                      <a:pt x="57" y="37"/>
                    </a:lnTo>
                    <a:lnTo>
                      <a:pt x="58" y="37"/>
                    </a:lnTo>
                    <a:lnTo>
                      <a:pt x="60" y="37"/>
                    </a:lnTo>
                    <a:lnTo>
                      <a:pt x="62" y="39"/>
                    </a:lnTo>
                    <a:lnTo>
                      <a:pt x="63" y="39"/>
                    </a:lnTo>
                    <a:lnTo>
                      <a:pt x="65" y="39"/>
                    </a:lnTo>
                    <a:lnTo>
                      <a:pt x="66" y="41"/>
                    </a:lnTo>
                    <a:lnTo>
                      <a:pt x="67" y="41"/>
                    </a:lnTo>
                    <a:lnTo>
                      <a:pt x="68" y="41"/>
                    </a:lnTo>
                    <a:lnTo>
                      <a:pt x="68" y="39"/>
                    </a:lnTo>
                    <a:lnTo>
                      <a:pt x="70" y="39"/>
                    </a:lnTo>
                    <a:lnTo>
                      <a:pt x="70" y="37"/>
                    </a:lnTo>
                    <a:lnTo>
                      <a:pt x="68" y="36"/>
                    </a:lnTo>
                    <a:lnTo>
                      <a:pt x="67" y="36"/>
                    </a:lnTo>
                    <a:lnTo>
                      <a:pt x="65" y="36"/>
                    </a:lnTo>
                    <a:lnTo>
                      <a:pt x="63" y="36"/>
                    </a:lnTo>
                    <a:lnTo>
                      <a:pt x="62" y="35"/>
                    </a:lnTo>
                    <a:lnTo>
                      <a:pt x="60" y="35"/>
                    </a:lnTo>
                    <a:lnTo>
                      <a:pt x="58" y="35"/>
                    </a:lnTo>
                    <a:lnTo>
                      <a:pt x="58" y="25"/>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16" name=""/>
              <p:cNvSpPr/>
              <p:nvPr/>
            </p:nvSpPr>
            <p:spPr>
              <a:xfrm>
                <a:off x="7484760" y="4718520"/>
                <a:ext cx="41040" cy="38520"/>
              </a:xfrm>
              <a:custGeom>
                <a:avLst/>
                <a:gdLst/>
                <a:ahLst/>
                <a:rect l="l" t="t" r="r" b="b"/>
                <a:pathLst>
                  <a:path w="25" h="34">
                    <a:moveTo>
                      <a:pt x="20" y="21"/>
                    </a:moveTo>
                    <a:lnTo>
                      <a:pt x="21" y="21"/>
                    </a:lnTo>
                    <a:lnTo>
                      <a:pt x="21" y="19"/>
                    </a:lnTo>
                    <a:lnTo>
                      <a:pt x="21" y="18"/>
                    </a:lnTo>
                    <a:lnTo>
                      <a:pt x="22" y="17"/>
                    </a:lnTo>
                    <a:lnTo>
                      <a:pt x="22" y="15"/>
                    </a:lnTo>
                    <a:lnTo>
                      <a:pt x="22" y="14"/>
                    </a:lnTo>
                    <a:lnTo>
                      <a:pt x="21" y="13"/>
                    </a:lnTo>
                    <a:lnTo>
                      <a:pt x="20" y="13"/>
                    </a:lnTo>
                    <a:lnTo>
                      <a:pt x="17" y="13"/>
                    </a:lnTo>
                    <a:lnTo>
                      <a:pt x="16" y="13"/>
                    </a:lnTo>
                    <a:lnTo>
                      <a:pt x="16" y="14"/>
                    </a:lnTo>
                    <a:lnTo>
                      <a:pt x="16" y="15"/>
                    </a:lnTo>
                    <a:lnTo>
                      <a:pt x="14" y="15"/>
                    </a:lnTo>
                    <a:lnTo>
                      <a:pt x="12" y="15"/>
                    </a:lnTo>
                    <a:lnTo>
                      <a:pt x="12" y="14"/>
                    </a:lnTo>
                    <a:lnTo>
                      <a:pt x="10" y="14"/>
                    </a:lnTo>
                    <a:lnTo>
                      <a:pt x="10" y="13"/>
                    </a:lnTo>
                    <a:lnTo>
                      <a:pt x="9" y="12"/>
                    </a:lnTo>
                    <a:lnTo>
                      <a:pt x="9" y="10"/>
                    </a:lnTo>
                    <a:lnTo>
                      <a:pt x="8" y="10"/>
                    </a:lnTo>
                    <a:lnTo>
                      <a:pt x="8" y="8"/>
                    </a:lnTo>
                    <a:lnTo>
                      <a:pt x="8" y="4"/>
                    </a:lnTo>
                    <a:lnTo>
                      <a:pt x="8" y="2"/>
                    </a:lnTo>
                    <a:lnTo>
                      <a:pt x="7" y="0"/>
                    </a:lnTo>
                    <a:lnTo>
                      <a:pt x="6" y="0"/>
                    </a:lnTo>
                    <a:lnTo>
                      <a:pt x="5" y="0"/>
                    </a:lnTo>
                    <a:lnTo>
                      <a:pt x="4" y="2"/>
                    </a:lnTo>
                    <a:lnTo>
                      <a:pt x="2" y="4"/>
                    </a:lnTo>
                    <a:lnTo>
                      <a:pt x="1" y="4"/>
                    </a:lnTo>
                    <a:lnTo>
                      <a:pt x="1" y="6"/>
                    </a:lnTo>
                    <a:lnTo>
                      <a:pt x="1" y="8"/>
                    </a:lnTo>
                    <a:lnTo>
                      <a:pt x="1" y="10"/>
                    </a:lnTo>
                    <a:lnTo>
                      <a:pt x="1" y="12"/>
                    </a:lnTo>
                    <a:lnTo>
                      <a:pt x="2" y="12"/>
                    </a:lnTo>
                    <a:lnTo>
                      <a:pt x="4" y="12"/>
                    </a:lnTo>
                    <a:lnTo>
                      <a:pt x="5" y="12"/>
                    </a:lnTo>
                    <a:lnTo>
                      <a:pt x="6" y="13"/>
                    </a:lnTo>
                    <a:lnTo>
                      <a:pt x="7" y="14"/>
                    </a:lnTo>
                    <a:lnTo>
                      <a:pt x="12" y="14"/>
                    </a:lnTo>
                    <a:lnTo>
                      <a:pt x="12" y="15"/>
                    </a:lnTo>
                    <a:lnTo>
                      <a:pt x="7" y="14"/>
                    </a:lnTo>
                    <a:lnTo>
                      <a:pt x="6" y="15"/>
                    </a:lnTo>
                    <a:lnTo>
                      <a:pt x="6" y="17"/>
                    </a:lnTo>
                    <a:lnTo>
                      <a:pt x="6" y="18"/>
                    </a:lnTo>
                    <a:lnTo>
                      <a:pt x="5" y="18"/>
                    </a:lnTo>
                    <a:lnTo>
                      <a:pt x="4" y="18"/>
                    </a:lnTo>
                    <a:lnTo>
                      <a:pt x="2" y="18"/>
                    </a:lnTo>
                    <a:lnTo>
                      <a:pt x="2" y="17"/>
                    </a:lnTo>
                    <a:lnTo>
                      <a:pt x="1" y="17"/>
                    </a:lnTo>
                    <a:lnTo>
                      <a:pt x="1" y="15"/>
                    </a:lnTo>
                    <a:lnTo>
                      <a:pt x="0" y="14"/>
                    </a:lnTo>
                    <a:lnTo>
                      <a:pt x="0" y="18"/>
                    </a:lnTo>
                    <a:lnTo>
                      <a:pt x="1" y="18"/>
                    </a:lnTo>
                    <a:lnTo>
                      <a:pt x="2" y="18"/>
                    </a:lnTo>
                    <a:lnTo>
                      <a:pt x="4" y="19"/>
                    </a:lnTo>
                    <a:lnTo>
                      <a:pt x="4" y="21"/>
                    </a:lnTo>
                    <a:lnTo>
                      <a:pt x="5" y="22"/>
                    </a:lnTo>
                    <a:lnTo>
                      <a:pt x="4" y="22"/>
                    </a:lnTo>
                    <a:lnTo>
                      <a:pt x="2" y="22"/>
                    </a:lnTo>
                    <a:lnTo>
                      <a:pt x="1" y="22"/>
                    </a:lnTo>
                    <a:lnTo>
                      <a:pt x="0" y="22"/>
                    </a:lnTo>
                    <a:lnTo>
                      <a:pt x="1" y="27"/>
                    </a:lnTo>
                    <a:lnTo>
                      <a:pt x="2" y="28"/>
                    </a:lnTo>
                    <a:lnTo>
                      <a:pt x="2" y="29"/>
                    </a:lnTo>
                    <a:lnTo>
                      <a:pt x="4" y="29"/>
                    </a:lnTo>
                    <a:lnTo>
                      <a:pt x="5" y="29"/>
                    </a:lnTo>
                    <a:lnTo>
                      <a:pt x="6" y="29"/>
                    </a:lnTo>
                    <a:lnTo>
                      <a:pt x="7" y="29"/>
                    </a:lnTo>
                    <a:lnTo>
                      <a:pt x="8" y="31"/>
                    </a:lnTo>
                    <a:lnTo>
                      <a:pt x="9" y="31"/>
                    </a:lnTo>
                    <a:lnTo>
                      <a:pt x="10" y="31"/>
                    </a:lnTo>
                    <a:lnTo>
                      <a:pt x="12" y="33"/>
                    </a:lnTo>
                    <a:lnTo>
                      <a:pt x="14" y="33"/>
                    </a:lnTo>
                    <a:lnTo>
                      <a:pt x="16" y="33"/>
                    </a:lnTo>
                    <a:lnTo>
                      <a:pt x="17" y="31"/>
                    </a:lnTo>
                    <a:lnTo>
                      <a:pt x="20" y="31"/>
                    </a:lnTo>
                    <a:lnTo>
                      <a:pt x="21" y="29"/>
                    </a:lnTo>
                    <a:lnTo>
                      <a:pt x="22" y="28"/>
                    </a:lnTo>
                    <a:lnTo>
                      <a:pt x="23" y="27"/>
                    </a:lnTo>
                    <a:lnTo>
                      <a:pt x="24" y="27"/>
                    </a:lnTo>
                    <a:lnTo>
                      <a:pt x="20" y="21"/>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17" name=""/>
              <p:cNvSpPr/>
              <p:nvPr/>
            </p:nvSpPr>
            <p:spPr>
              <a:xfrm>
                <a:off x="7519320" y="4748040"/>
                <a:ext cx="27720" cy="19080"/>
              </a:xfrm>
              <a:custGeom>
                <a:avLst/>
                <a:gdLst/>
                <a:ahLst/>
                <a:rect l="l" t="t" r="r" b="b"/>
                <a:pathLst>
                  <a:path w="17" h="17">
                    <a:moveTo>
                      <a:pt x="16" y="0"/>
                    </a:moveTo>
                    <a:lnTo>
                      <a:pt x="12" y="4"/>
                    </a:lnTo>
                    <a:lnTo>
                      <a:pt x="9" y="16"/>
                    </a:lnTo>
                    <a:lnTo>
                      <a:pt x="4" y="16"/>
                    </a:lnTo>
                    <a:lnTo>
                      <a:pt x="0" y="4"/>
                    </a:lnTo>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8" name=""/>
              <p:cNvSpPr/>
              <p:nvPr/>
            </p:nvSpPr>
            <p:spPr>
              <a:xfrm>
                <a:off x="7419600" y="4821120"/>
                <a:ext cx="27720" cy="19080"/>
              </a:xfrm>
              <a:custGeom>
                <a:avLst/>
                <a:gdLst/>
                <a:ahLst/>
                <a:rect l="l" t="t" r="r" b="b"/>
                <a:pathLst>
                  <a:path w="17" h="17">
                    <a:moveTo>
                      <a:pt x="0" y="0"/>
                    </a:moveTo>
                    <a:lnTo>
                      <a:pt x="0" y="3"/>
                    </a:lnTo>
                    <a:lnTo>
                      <a:pt x="16" y="3"/>
                    </a:lnTo>
                    <a:lnTo>
                      <a:pt x="16" y="9"/>
                    </a:lnTo>
                    <a:lnTo>
                      <a:pt x="16" y="16"/>
                    </a:lnTo>
                    <a:lnTo>
                      <a:pt x="16" y="9"/>
                    </a:lnTo>
                    <a:lnTo>
                      <a:pt x="16" y="3"/>
                    </a:lnTo>
                    <a:lnTo>
                      <a:pt x="16" y="0"/>
                    </a:lnTo>
                    <a:lnTo>
                      <a:pt x="0" y="0"/>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7409880" y="4814280"/>
                <a:ext cx="27720" cy="19080"/>
              </a:xfrm>
              <a:custGeom>
                <a:avLst/>
                <a:gdLst/>
                <a:ahLst/>
                <a:rect l="l" t="t" r="r" b="b"/>
                <a:pathLst>
                  <a:path w="17" h="17">
                    <a:moveTo>
                      <a:pt x="16" y="16"/>
                    </a:moveTo>
                    <a:lnTo>
                      <a:pt x="12" y="16"/>
                    </a:lnTo>
                    <a:lnTo>
                      <a:pt x="6" y="16"/>
                    </a:lnTo>
                    <a:lnTo>
                      <a:pt x="0" y="16"/>
                    </a:lnTo>
                    <a:lnTo>
                      <a:pt x="0" y="0"/>
                    </a:lnTo>
                    <a:lnTo>
                      <a:pt x="6" y="0"/>
                    </a:lnTo>
                    <a:lnTo>
                      <a:pt x="6" y="16"/>
                    </a:lnTo>
                    <a:lnTo>
                      <a:pt x="12" y="16"/>
                    </a:lnTo>
                    <a:lnTo>
                      <a:pt x="16"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7329600" y="4793760"/>
                <a:ext cx="27720" cy="28440"/>
              </a:xfrm>
              <a:custGeom>
                <a:avLst/>
                <a:gdLst/>
                <a:ahLst/>
                <a:rect l="l" t="t" r="r" b="b"/>
                <a:pathLst>
                  <a:path w="17" h="25">
                    <a:moveTo>
                      <a:pt x="9" y="7"/>
                    </a:moveTo>
                    <a:lnTo>
                      <a:pt x="6" y="11"/>
                    </a:lnTo>
                    <a:lnTo>
                      <a:pt x="4" y="11"/>
                    </a:lnTo>
                    <a:lnTo>
                      <a:pt x="4" y="12"/>
                    </a:lnTo>
                    <a:lnTo>
                      <a:pt x="3" y="14"/>
                    </a:lnTo>
                    <a:lnTo>
                      <a:pt x="1" y="14"/>
                    </a:lnTo>
                    <a:lnTo>
                      <a:pt x="1" y="16"/>
                    </a:lnTo>
                    <a:lnTo>
                      <a:pt x="0" y="17"/>
                    </a:lnTo>
                    <a:lnTo>
                      <a:pt x="0" y="19"/>
                    </a:lnTo>
                    <a:lnTo>
                      <a:pt x="1" y="19"/>
                    </a:lnTo>
                    <a:lnTo>
                      <a:pt x="1" y="20"/>
                    </a:lnTo>
                    <a:lnTo>
                      <a:pt x="0" y="20"/>
                    </a:lnTo>
                    <a:lnTo>
                      <a:pt x="0" y="22"/>
                    </a:lnTo>
                    <a:lnTo>
                      <a:pt x="1" y="22"/>
                    </a:lnTo>
                    <a:lnTo>
                      <a:pt x="1" y="23"/>
                    </a:lnTo>
                    <a:lnTo>
                      <a:pt x="3" y="23"/>
                    </a:lnTo>
                    <a:lnTo>
                      <a:pt x="3" y="24"/>
                    </a:lnTo>
                    <a:lnTo>
                      <a:pt x="4" y="23"/>
                    </a:lnTo>
                    <a:lnTo>
                      <a:pt x="6" y="22"/>
                    </a:lnTo>
                    <a:lnTo>
                      <a:pt x="9" y="22"/>
                    </a:lnTo>
                    <a:lnTo>
                      <a:pt x="9" y="20"/>
                    </a:lnTo>
                    <a:lnTo>
                      <a:pt x="10" y="19"/>
                    </a:lnTo>
                    <a:lnTo>
                      <a:pt x="11" y="19"/>
                    </a:lnTo>
                    <a:lnTo>
                      <a:pt x="13" y="17"/>
                    </a:lnTo>
                    <a:lnTo>
                      <a:pt x="13" y="16"/>
                    </a:lnTo>
                    <a:lnTo>
                      <a:pt x="14" y="16"/>
                    </a:lnTo>
                    <a:lnTo>
                      <a:pt x="14" y="14"/>
                    </a:lnTo>
                    <a:lnTo>
                      <a:pt x="16" y="12"/>
                    </a:lnTo>
                    <a:lnTo>
                      <a:pt x="16" y="11"/>
                    </a:lnTo>
                    <a:lnTo>
                      <a:pt x="14" y="9"/>
                    </a:lnTo>
                    <a:lnTo>
                      <a:pt x="13" y="7"/>
                    </a:lnTo>
                    <a:lnTo>
                      <a:pt x="11" y="5"/>
                    </a:lnTo>
                    <a:lnTo>
                      <a:pt x="10" y="5"/>
                    </a:lnTo>
                    <a:lnTo>
                      <a:pt x="10" y="4"/>
                    </a:lnTo>
                    <a:lnTo>
                      <a:pt x="10" y="2"/>
                    </a:lnTo>
                    <a:lnTo>
                      <a:pt x="10" y="1"/>
                    </a:lnTo>
                    <a:lnTo>
                      <a:pt x="9" y="1"/>
                    </a:lnTo>
                    <a:lnTo>
                      <a:pt x="9" y="0"/>
                    </a:lnTo>
                    <a:lnTo>
                      <a:pt x="9" y="1"/>
                    </a:lnTo>
                    <a:lnTo>
                      <a:pt x="6" y="2"/>
                    </a:lnTo>
                    <a:lnTo>
                      <a:pt x="6" y="4"/>
                    </a:lnTo>
                    <a:lnTo>
                      <a:pt x="6" y="7"/>
                    </a:lnTo>
                    <a:lnTo>
                      <a:pt x="9" y="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1" name=""/>
              <p:cNvSpPr/>
              <p:nvPr/>
            </p:nvSpPr>
            <p:spPr>
              <a:xfrm>
                <a:off x="7329600" y="4793760"/>
                <a:ext cx="35640" cy="37440"/>
              </a:xfrm>
              <a:custGeom>
                <a:avLst/>
                <a:gdLst/>
                <a:ahLst/>
                <a:rect l="l" t="t" r="r" b="b"/>
                <a:pathLst>
                  <a:path w="22" h="33">
                    <a:moveTo>
                      <a:pt x="11" y="10"/>
                    </a:moveTo>
                    <a:lnTo>
                      <a:pt x="9" y="14"/>
                    </a:lnTo>
                    <a:lnTo>
                      <a:pt x="8" y="14"/>
                    </a:lnTo>
                    <a:lnTo>
                      <a:pt x="5" y="16"/>
                    </a:lnTo>
                    <a:lnTo>
                      <a:pt x="4" y="18"/>
                    </a:lnTo>
                    <a:lnTo>
                      <a:pt x="1" y="20"/>
                    </a:lnTo>
                    <a:lnTo>
                      <a:pt x="1" y="21"/>
                    </a:lnTo>
                    <a:lnTo>
                      <a:pt x="0" y="24"/>
                    </a:lnTo>
                    <a:lnTo>
                      <a:pt x="0" y="25"/>
                    </a:lnTo>
                    <a:lnTo>
                      <a:pt x="1" y="25"/>
                    </a:lnTo>
                    <a:lnTo>
                      <a:pt x="1" y="27"/>
                    </a:lnTo>
                    <a:lnTo>
                      <a:pt x="0" y="27"/>
                    </a:lnTo>
                    <a:lnTo>
                      <a:pt x="0" y="29"/>
                    </a:lnTo>
                    <a:lnTo>
                      <a:pt x="1" y="29"/>
                    </a:lnTo>
                    <a:lnTo>
                      <a:pt x="1" y="31"/>
                    </a:lnTo>
                    <a:lnTo>
                      <a:pt x="4" y="31"/>
                    </a:lnTo>
                    <a:lnTo>
                      <a:pt x="4" y="32"/>
                    </a:lnTo>
                    <a:lnTo>
                      <a:pt x="5" y="31"/>
                    </a:lnTo>
                    <a:lnTo>
                      <a:pt x="8" y="31"/>
                    </a:lnTo>
                    <a:lnTo>
                      <a:pt x="9" y="29"/>
                    </a:lnTo>
                    <a:lnTo>
                      <a:pt x="11" y="29"/>
                    </a:lnTo>
                    <a:lnTo>
                      <a:pt x="12" y="27"/>
                    </a:lnTo>
                    <a:lnTo>
                      <a:pt x="14" y="25"/>
                    </a:lnTo>
                    <a:lnTo>
                      <a:pt x="16" y="25"/>
                    </a:lnTo>
                    <a:lnTo>
                      <a:pt x="18" y="24"/>
                    </a:lnTo>
                    <a:lnTo>
                      <a:pt x="18" y="21"/>
                    </a:lnTo>
                    <a:lnTo>
                      <a:pt x="19" y="21"/>
                    </a:lnTo>
                    <a:lnTo>
                      <a:pt x="19" y="18"/>
                    </a:lnTo>
                    <a:lnTo>
                      <a:pt x="21" y="16"/>
                    </a:lnTo>
                    <a:lnTo>
                      <a:pt x="21" y="14"/>
                    </a:lnTo>
                    <a:lnTo>
                      <a:pt x="19" y="12"/>
                    </a:lnTo>
                    <a:lnTo>
                      <a:pt x="18" y="10"/>
                    </a:lnTo>
                    <a:lnTo>
                      <a:pt x="18" y="9"/>
                    </a:lnTo>
                    <a:lnTo>
                      <a:pt x="16" y="7"/>
                    </a:lnTo>
                    <a:lnTo>
                      <a:pt x="14" y="7"/>
                    </a:lnTo>
                    <a:lnTo>
                      <a:pt x="14" y="5"/>
                    </a:lnTo>
                    <a:lnTo>
                      <a:pt x="14" y="4"/>
                    </a:lnTo>
                    <a:lnTo>
                      <a:pt x="14" y="2"/>
                    </a:lnTo>
                    <a:lnTo>
                      <a:pt x="12" y="2"/>
                    </a:lnTo>
                    <a:lnTo>
                      <a:pt x="12" y="0"/>
                    </a:lnTo>
                    <a:lnTo>
                      <a:pt x="11" y="2"/>
                    </a:lnTo>
                    <a:lnTo>
                      <a:pt x="9" y="4"/>
                    </a:lnTo>
                    <a:lnTo>
                      <a:pt x="9" y="5"/>
                    </a:lnTo>
                    <a:lnTo>
                      <a:pt x="9" y="9"/>
                    </a:lnTo>
                    <a:lnTo>
                      <a:pt x="11" y="10"/>
                    </a:lnTo>
                  </a:path>
                </a:pathLst>
              </a:cu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22" name=""/>
              <p:cNvSpPr/>
              <p:nvPr/>
            </p:nvSpPr>
            <p:spPr>
              <a:xfrm>
                <a:off x="7264080" y="4811760"/>
                <a:ext cx="37800" cy="19080"/>
              </a:xfrm>
              <a:custGeom>
                <a:avLst/>
                <a:gdLst/>
                <a:ahLst/>
                <a:rect l="l" t="t" r="r" b="b"/>
                <a:pathLst>
                  <a:path w="23" h="17">
                    <a:moveTo>
                      <a:pt x="4" y="0"/>
                    </a:moveTo>
                    <a:lnTo>
                      <a:pt x="6" y="0"/>
                    </a:lnTo>
                    <a:lnTo>
                      <a:pt x="9" y="0"/>
                    </a:lnTo>
                    <a:lnTo>
                      <a:pt x="10" y="0"/>
                    </a:lnTo>
                    <a:lnTo>
                      <a:pt x="13" y="0"/>
                    </a:lnTo>
                    <a:lnTo>
                      <a:pt x="15" y="1"/>
                    </a:lnTo>
                    <a:lnTo>
                      <a:pt x="16" y="2"/>
                    </a:lnTo>
                    <a:lnTo>
                      <a:pt x="17" y="2"/>
                    </a:lnTo>
                    <a:lnTo>
                      <a:pt x="19" y="4"/>
                    </a:lnTo>
                    <a:lnTo>
                      <a:pt x="20" y="5"/>
                    </a:lnTo>
                    <a:lnTo>
                      <a:pt x="20" y="8"/>
                    </a:lnTo>
                    <a:lnTo>
                      <a:pt x="22" y="10"/>
                    </a:lnTo>
                    <a:lnTo>
                      <a:pt x="22" y="11"/>
                    </a:lnTo>
                    <a:lnTo>
                      <a:pt x="20" y="13"/>
                    </a:lnTo>
                    <a:lnTo>
                      <a:pt x="19" y="13"/>
                    </a:lnTo>
                    <a:lnTo>
                      <a:pt x="17" y="13"/>
                    </a:lnTo>
                    <a:lnTo>
                      <a:pt x="16" y="13"/>
                    </a:lnTo>
                    <a:lnTo>
                      <a:pt x="15" y="13"/>
                    </a:lnTo>
                    <a:lnTo>
                      <a:pt x="13" y="13"/>
                    </a:lnTo>
                    <a:lnTo>
                      <a:pt x="13" y="11"/>
                    </a:lnTo>
                    <a:lnTo>
                      <a:pt x="11" y="11"/>
                    </a:lnTo>
                    <a:lnTo>
                      <a:pt x="10" y="11"/>
                    </a:lnTo>
                    <a:lnTo>
                      <a:pt x="10" y="10"/>
                    </a:lnTo>
                    <a:lnTo>
                      <a:pt x="10" y="11"/>
                    </a:lnTo>
                    <a:lnTo>
                      <a:pt x="11" y="13"/>
                    </a:lnTo>
                    <a:lnTo>
                      <a:pt x="11" y="14"/>
                    </a:lnTo>
                    <a:lnTo>
                      <a:pt x="11" y="16"/>
                    </a:lnTo>
                    <a:lnTo>
                      <a:pt x="10" y="16"/>
                    </a:lnTo>
                    <a:lnTo>
                      <a:pt x="9" y="14"/>
                    </a:lnTo>
                    <a:lnTo>
                      <a:pt x="9" y="13"/>
                    </a:lnTo>
                    <a:lnTo>
                      <a:pt x="8" y="13"/>
                    </a:lnTo>
                    <a:lnTo>
                      <a:pt x="8" y="11"/>
                    </a:lnTo>
                    <a:lnTo>
                      <a:pt x="6" y="10"/>
                    </a:lnTo>
                    <a:lnTo>
                      <a:pt x="0" y="8"/>
                    </a:lnTo>
                    <a:lnTo>
                      <a:pt x="0" y="5"/>
                    </a:lnTo>
                    <a:lnTo>
                      <a:pt x="0" y="4"/>
                    </a:lnTo>
                    <a:lnTo>
                      <a:pt x="0" y="2"/>
                    </a:lnTo>
                    <a:lnTo>
                      <a:pt x="2" y="1"/>
                    </a:lnTo>
                    <a:lnTo>
                      <a:pt x="4"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3" name=""/>
              <p:cNvSpPr/>
              <p:nvPr/>
            </p:nvSpPr>
            <p:spPr>
              <a:xfrm>
                <a:off x="7264080" y="4811760"/>
                <a:ext cx="48960" cy="23040"/>
              </a:xfrm>
              <a:custGeom>
                <a:avLst/>
                <a:gdLst/>
                <a:ahLst/>
                <a:rect l="l" t="t" r="r" b="b"/>
                <a:pathLst>
                  <a:path w="30" h="20">
                    <a:moveTo>
                      <a:pt x="4" y="0"/>
                    </a:moveTo>
                    <a:lnTo>
                      <a:pt x="5" y="0"/>
                    </a:lnTo>
                    <a:lnTo>
                      <a:pt x="7" y="0"/>
                    </a:lnTo>
                    <a:lnTo>
                      <a:pt x="8" y="0"/>
                    </a:lnTo>
                    <a:lnTo>
                      <a:pt x="12" y="0"/>
                    </a:lnTo>
                    <a:lnTo>
                      <a:pt x="17" y="0"/>
                    </a:lnTo>
                    <a:lnTo>
                      <a:pt x="18" y="0"/>
                    </a:lnTo>
                    <a:lnTo>
                      <a:pt x="20" y="2"/>
                    </a:lnTo>
                    <a:lnTo>
                      <a:pt x="21" y="3"/>
                    </a:lnTo>
                    <a:lnTo>
                      <a:pt x="23" y="4"/>
                    </a:lnTo>
                    <a:lnTo>
                      <a:pt x="25" y="6"/>
                    </a:lnTo>
                    <a:lnTo>
                      <a:pt x="26" y="8"/>
                    </a:lnTo>
                    <a:lnTo>
                      <a:pt x="27" y="10"/>
                    </a:lnTo>
                    <a:lnTo>
                      <a:pt x="29" y="11"/>
                    </a:lnTo>
                    <a:lnTo>
                      <a:pt x="29" y="13"/>
                    </a:lnTo>
                    <a:lnTo>
                      <a:pt x="27" y="15"/>
                    </a:lnTo>
                    <a:lnTo>
                      <a:pt x="26" y="16"/>
                    </a:lnTo>
                    <a:lnTo>
                      <a:pt x="25" y="16"/>
                    </a:lnTo>
                    <a:lnTo>
                      <a:pt x="23" y="16"/>
                    </a:lnTo>
                    <a:lnTo>
                      <a:pt x="21" y="16"/>
                    </a:lnTo>
                    <a:lnTo>
                      <a:pt x="20" y="15"/>
                    </a:lnTo>
                    <a:lnTo>
                      <a:pt x="18" y="15"/>
                    </a:lnTo>
                    <a:lnTo>
                      <a:pt x="17" y="13"/>
                    </a:lnTo>
                    <a:lnTo>
                      <a:pt x="15" y="13"/>
                    </a:lnTo>
                    <a:lnTo>
                      <a:pt x="12" y="13"/>
                    </a:lnTo>
                    <a:lnTo>
                      <a:pt x="12" y="11"/>
                    </a:lnTo>
                    <a:lnTo>
                      <a:pt x="12" y="13"/>
                    </a:lnTo>
                    <a:lnTo>
                      <a:pt x="15" y="16"/>
                    </a:lnTo>
                    <a:lnTo>
                      <a:pt x="15" y="18"/>
                    </a:lnTo>
                    <a:lnTo>
                      <a:pt x="15" y="19"/>
                    </a:lnTo>
                    <a:lnTo>
                      <a:pt x="12" y="19"/>
                    </a:lnTo>
                    <a:lnTo>
                      <a:pt x="12" y="18"/>
                    </a:lnTo>
                    <a:lnTo>
                      <a:pt x="12" y="16"/>
                    </a:lnTo>
                    <a:lnTo>
                      <a:pt x="10" y="15"/>
                    </a:lnTo>
                    <a:lnTo>
                      <a:pt x="10" y="13"/>
                    </a:lnTo>
                    <a:lnTo>
                      <a:pt x="8" y="11"/>
                    </a:lnTo>
                    <a:lnTo>
                      <a:pt x="1" y="10"/>
                    </a:lnTo>
                    <a:lnTo>
                      <a:pt x="0" y="8"/>
                    </a:lnTo>
                    <a:lnTo>
                      <a:pt x="0" y="6"/>
                    </a:lnTo>
                    <a:lnTo>
                      <a:pt x="1" y="4"/>
                    </a:lnTo>
                    <a:lnTo>
                      <a:pt x="1" y="3"/>
                    </a:lnTo>
                    <a:lnTo>
                      <a:pt x="2" y="2"/>
                    </a:lnTo>
                    <a:lnTo>
                      <a:pt x="4" y="0"/>
                    </a:lnTo>
                  </a:path>
                </a:pathLst>
              </a:custGeom>
              <a:no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24" name=""/>
              <p:cNvSpPr/>
              <p:nvPr/>
            </p:nvSpPr>
            <p:spPr>
              <a:xfrm>
                <a:off x="7583040" y="4729680"/>
                <a:ext cx="115920" cy="229320"/>
              </a:xfrm>
              <a:custGeom>
                <a:avLst/>
                <a:gdLst/>
                <a:ahLst/>
                <a:rect l="l" t="t" r="r" b="b"/>
                <a:pathLst>
                  <a:path w="71" h="201">
                    <a:moveTo>
                      <a:pt x="33" y="147"/>
                    </a:moveTo>
                    <a:lnTo>
                      <a:pt x="33" y="148"/>
                    </a:lnTo>
                    <a:lnTo>
                      <a:pt x="35" y="151"/>
                    </a:lnTo>
                    <a:lnTo>
                      <a:pt x="35" y="156"/>
                    </a:lnTo>
                    <a:lnTo>
                      <a:pt x="36" y="163"/>
                    </a:lnTo>
                    <a:lnTo>
                      <a:pt x="36" y="170"/>
                    </a:lnTo>
                    <a:lnTo>
                      <a:pt x="35" y="180"/>
                    </a:lnTo>
                    <a:lnTo>
                      <a:pt x="33" y="190"/>
                    </a:lnTo>
                    <a:lnTo>
                      <a:pt x="30" y="200"/>
                    </a:lnTo>
                    <a:lnTo>
                      <a:pt x="70" y="200"/>
                    </a:lnTo>
                    <a:lnTo>
                      <a:pt x="70" y="70"/>
                    </a:lnTo>
                    <a:lnTo>
                      <a:pt x="70" y="68"/>
                    </a:lnTo>
                    <a:lnTo>
                      <a:pt x="68" y="66"/>
                    </a:lnTo>
                    <a:lnTo>
                      <a:pt x="68" y="63"/>
                    </a:lnTo>
                    <a:lnTo>
                      <a:pt x="66" y="59"/>
                    </a:lnTo>
                    <a:lnTo>
                      <a:pt x="65" y="56"/>
                    </a:lnTo>
                    <a:lnTo>
                      <a:pt x="64" y="54"/>
                    </a:lnTo>
                    <a:lnTo>
                      <a:pt x="61" y="50"/>
                    </a:lnTo>
                    <a:lnTo>
                      <a:pt x="60" y="47"/>
                    </a:lnTo>
                    <a:lnTo>
                      <a:pt x="57" y="40"/>
                    </a:lnTo>
                    <a:lnTo>
                      <a:pt x="57" y="32"/>
                    </a:lnTo>
                    <a:lnTo>
                      <a:pt x="60" y="27"/>
                    </a:lnTo>
                    <a:lnTo>
                      <a:pt x="60" y="26"/>
                    </a:lnTo>
                    <a:lnTo>
                      <a:pt x="60" y="24"/>
                    </a:lnTo>
                    <a:lnTo>
                      <a:pt x="57" y="22"/>
                    </a:lnTo>
                    <a:lnTo>
                      <a:pt x="57" y="21"/>
                    </a:lnTo>
                    <a:lnTo>
                      <a:pt x="57" y="19"/>
                    </a:lnTo>
                    <a:lnTo>
                      <a:pt x="57" y="15"/>
                    </a:lnTo>
                    <a:lnTo>
                      <a:pt x="55" y="14"/>
                    </a:lnTo>
                    <a:lnTo>
                      <a:pt x="53" y="12"/>
                    </a:lnTo>
                    <a:lnTo>
                      <a:pt x="52" y="8"/>
                    </a:lnTo>
                    <a:lnTo>
                      <a:pt x="51" y="8"/>
                    </a:lnTo>
                    <a:lnTo>
                      <a:pt x="49" y="5"/>
                    </a:lnTo>
                    <a:lnTo>
                      <a:pt x="46" y="5"/>
                    </a:lnTo>
                    <a:lnTo>
                      <a:pt x="44" y="2"/>
                    </a:lnTo>
                    <a:lnTo>
                      <a:pt x="42" y="1"/>
                    </a:lnTo>
                    <a:lnTo>
                      <a:pt x="39" y="1"/>
                    </a:lnTo>
                    <a:lnTo>
                      <a:pt x="36" y="0"/>
                    </a:lnTo>
                    <a:lnTo>
                      <a:pt x="33" y="0"/>
                    </a:lnTo>
                    <a:lnTo>
                      <a:pt x="30" y="0"/>
                    </a:lnTo>
                    <a:lnTo>
                      <a:pt x="28" y="1"/>
                    </a:lnTo>
                    <a:lnTo>
                      <a:pt x="26" y="1"/>
                    </a:lnTo>
                    <a:lnTo>
                      <a:pt x="25" y="1"/>
                    </a:lnTo>
                    <a:lnTo>
                      <a:pt x="23" y="2"/>
                    </a:lnTo>
                    <a:lnTo>
                      <a:pt x="21" y="5"/>
                    </a:lnTo>
                    <a:lnTo>
                      <a:pt x="19" y="5"/>
                    </a:lnTo>
                    <a:lnTo>
                      <a:pt x="19" y="8"/>
                    </a:lnTo>
                    <a:lnTo>
                      <a:pt x="17" y="8"/>
                    </a:lnTo>
                    <a:lnTo>
                      <a:pt x="17" y="12"/>
                    </a:lnTo>
                    <a:lnTo>
                      <a:pt x="17" y="14"/>
                    </a:lnTo>
                    <a:lnTo>
                      <a:pt x="17" y="15"/>
                    </a:lnTo>
                    <a:lnTo>
                      <a:pt x="17" y="17"/>
                    </a:lnTo>
                    <a:lnTo>
                      <a:pt x="17" y="19"/>
                    </a:lnTo>
                    <a:lnTo>
                      <a:pt x="17" y="21"/>
                    </a:lnTo>
                    <a:lnTo>
                      <a:pt x="17" y="24"/>
                    </a:lnTo>
                    <a:lnTo>
                      <a:pt x="17" y="26"/>
                    </a:lnTo>
                    <a:lnTo>
                      <a:pt x="19" y="27"/>
                    </a:lnTo>
                    <a:lnTo>
                      <a:pt x="17" y="28"/>
                    </a:lnTo>
                    <a:lnTo>
                      <a:pt x="17" y="30"/>
                    </a:lnTo>
                    <a:lnTo>
                      <a:pt x="15" y="30"/>
                    </a:lnTo>
                    <a:lnTo>
                      <a:pt x="15" y="32"/>
                    </a:lnTo>
                    <a:lnTo>
                      <a:pt x="14" y="32"/>
                    </a:lnTo>
                    <a:lnTo>
                      <a:pt x="14" y="33"/>
                    </a:lnTo>
                    <a:lnTo>
                      <a:pt x="14" y="35"/>
                    </a:lnTo>
                    <a:lnTo>
                      <a:pt x="15" y="35"/>
                    </a:lnTo>
                    <a:lnTo>
                      <a:pt x="17" y="37"/>
                    </a:lnTo>
                    <a:lnTo>
                      <a:pt x="17" y="38"/>
                    </a:lnTo>
                    <a:lnTo>
                      <a:pt x="15" y="38"/>
                    </a:lnTo>
                    <a:lnTo>
                      <a:pt x="15" y="40"/>
                    </a:lnTo>
                    <a:lnTo>
                      <a:pt x="15" y="42"/>
                    </a:lnTo>
                    <a:lnTo>
                      <a:pt x="17" y="42"/>
                    </a:lnTo>
                    <a:lnTo>
                      <a:pt x="17" y="43"/>
                    </a:lnTo>
                    <a:lnTo>
                      <a:pt x="17" y="45"/>
                    </a:lnTo>
                    <a:lnTo>
                      <a:pt x="17" y="47"/>
                    </a:lnTo>
                    <a:lnTo>
                      <a:pt x="17" y="48"/>
                    </a:lnTo>
                    <a:lnTo>
                      <a:pt x="21" y="48"/>
                    </a:lnTo>
                    <a:lnTo>
                      <a:pt x="23" y="48"/>
                    </a:lnTo>
                    <a:lnTo>
                      <a:pt x="25" y="48"/>
                    </a:lnTo>
                    <a:lnTo>
                      <a:pt x="26" y="48"/>
                    </a:lnTo>
                    <a:lnTo>
                      <a:pt x="26" y="49"/>
                    </a:lnTo>
                    <a:lnTo>
                      <a:pt x="26" y="50"/>
                    </a:lnTo>
                    <a:lnTo>
                      <a:pt x="26" y="53"/>
                    </a:lnTo>
                    <a:lnTo>
                      <a:pt x="25" y="53"/>
                    </a:lnTo>
                    <a:lnTo>
                      <a:pt x="25" y="54"/>
                    </a:lnTo>
                    <a:lnTo>
                      <a:pt x="25" y="56"/>
                    </a:lnTo>
                    <a:lnTo>
                      <a:pt x="25" y="58"/>
                    </a:lnTo>
                    <a:lnTo>
                      <a:pt x="25" y="59"/>
                    </a:lnTo>
                    <a:lnTo>
                      <a:pt x="25" y="61"/>
                    </a:lnTo>
                    <a:lnTo>
                      <a:pt x="25" y="64"/>
                    </a:lnTo>
                    <a:lnTo>
                      <a:pt x="26" y="66"/>
                    </a:lnTo>
                    <a:lnTo>
                      <a:pt x="27" y="68"/>
                    </a:lnTo>
                    <a:lnTo>
                      <a:pt x="28" y="68"/>
                    </a:lnTo>
                    <a:lnTo>
                      <a:pt x="30" y="68"/>
                    </a:lnTo>
                    <a:lnTo>
                      <a:pt x="32" y="68"/>
                    </a:lnTo>
                    <a:lnTo>
                      <a:pt x="33" y="68"/>
                    </a:lnTo>
                    <a:lnTo>
                      <a:pt x="35" y="66"/>
                    </a:lnTo>
                    <a:lnTo>
                      <a:pt x="33" y="68"/>
                    </a:lnTo>
                    <a:lnTo>
                      <a:pt x="32" y="68"/>
                    </a:lnTo>
                    <a:lnTo>
                      <a:pt x="30" y="68"/>
                    </a:lnTo>
                    <a:lnTo>
                      <a:pt x="28" y="70"/>
                    </a:lnTo>
                    <a:lnTo>
                      <a:pt x="28" y="72"/>
                    </a:lnTo>
                    <a:lnTo>
                      <a:pt x="27" y="73"/>
                    </a:lnTo>
                    <a:lnTo>
                      <a:pt x="27" y="75"/>
                    </a:lnTo>
                    <a:lnTo>
                      <a:pt x="26" y="77"/>
                    </a:lnTo>
                    <a:lnTo>
                      <a:pt x="26" y="79"/>
                    </a:lnTo>
                    <a:lnTo>
                      <a:pt x="25" y="80"/>
                    </a:lnTo>
                    <a:lnTo>
                      <a:pt x="25" y="84"/>
                    </a:lnTo>
                    <a:lnTo>
                      <a:pt x="23" y="85"/>
                    </a:lnTo>
                    <a:lnTo>
                      <a:pt x="23" y="87"/>
                    </a:lnTo>
                    <a:lnTo>
                      <a:pt x="21" y="90"/>
                    </a:lnTo>
                    <a:lnTo>
                      <a:pt x="21" y="91"/>
                    </a:lnTo>
                    <a:lnTo>
                      <a:pt x="21" y="97"/>
                    </a:lnTo>
                    <a:lnTo>
                      <a:pt x="21" y="99"/>
                    </a:lnTo>
                    <a:lnTo>
                      <a:pt x="19" y="101"/>
                    </a:lnTo>
                    <a:lnTo>
                      <a:pt x="17" y="103"/>
                    </a:lnTo>
                    <a:lnTo>
                      <a:pt x="15" y="103"/>
                    </a:lnTo>
                    <a:lnTo>
                      <a:pt x="14" y="103"/>
                    </a:lnTo>
                    <a:lnTo>
                      <a:pt x="13" y="103"/>
                    </a:lnTo>
                    <a:lnTo>
                      <a:pt x="11" y="103"/>
                    </a:lnTo>
                    <a:lnTo>
                      <a:pt x="9" y="103"/>
                    </a:lnTo>
                    <a:lnTo>
                      <a:pt x="9" y="104"/>
                    </a:lnTo>
                    <a:lnTo>
                      <a:pt x="8" y="104"/>
                    </a:lnTo>
                    <a:lnTo>
                      <a:pt x="5" y="106"/>
                    </a:lnTo>
                    <a:lnTo>
                      <a:pt x="4" y="106"/>
                    </a:lnTo>
                    <a:lnTo>
                      <a:pt x="4" y="107"/>
                    </a:lnTo>
                    <a:lnTo>
                      <a:pt x="3" y="107"/>
                    </a:lnTo>
                    <a:lnTo>
                      <a:pt x="1" y="109"/>
                    </a:lnTo>
                    <a:lnTo>
                      <a:pt x="1" y="110"/>
                    </a:lnTo>
                    <a:lnTo>
                      <a:pt x="0" y="112"/>
                    </a:lnTo>
                    <a:lnTo>
                      <a:pt x="1" y="112"/>
                    </a:lnTo>
                    <a:lnTo>
                      <a:pt x="3" y="112"/>
                    </a:lnTo>
                    <a:lnTo>
                      <a:pt x="4" y="112"/>
                    </a:lnTo>
                    <a:lnTo>
                      <a:pt x="5" y="114"/>
                    </a:lnTo>
                    <a:lnTo>
                      <a:pt x="5" y="117"/>
                    </a:lnTo>
                    <a:lnTo>
                      <a:pt x="8" y="119"/>
                    </a:lnTo>
                    <a:lnTo>
                      <a:pt x="8" y="120"/>
                    </a:lnTo>
                    <a:lnTo>
                      <a:pt x="9" y="124"/>
                    </a:lnTo>
                    <a:lnTo>
                      <a:pt x="9" y="125"/>
                    </a:lnTo>
                    <a:lnTo>
                      <a:pt x="9" y="128"/>
                    </a:lnTo>
                    <a:lnTo>
                      <a:pt x="11" y="131"/>
                    </a:lnTo>
                    <a:lnTo>
                      <a:pt x="13" y="134"/>
                    </a:lnTo>
                    <a:lnTo>
                      <a:pt x="14" y="136"/>
                    </a:lnTo>
                    <a:lnTo>
                      <a:pt x="17" y="138"/>
                    </a:lnTo>
                    <a:lnTo>
                      <a:pt x="21" y="141"/>
                    </a:lnTo>
                    <a:lnTo>
                      <a:pt x="23" y="141"/>
                    </a:lnTo>
                    <a:lnTo>
                      <a:pt x="26" y="138"/>
                    </a:lnTo>
                    <a:lnTo>
                      <a:pt x="30" y="136"/>
                    </a:lnTo>
                    <a:lnTo>
                      <a:pt x="30" y="138"/>
                    </a:lnTo>
                    <a:lnTo>
                      <a:pt x="32" y="142"/>
                    </a:lnTo>
                    <a:lnTo>
                      <a:pt x="33" y="144"/>
                    </a:lnTo>
                    <a:lnTo>
                      <a:pt x="33" y="147"/>
                    </a:lnTo>
                  </a:path>
                </a:pathLst>
              </a:custGeom>
              <a:gradFill rotWithShape="0">
                <a:gsLst>
                  <a:gs pos="0">
                    <a:srgbClr val="00279f"/>
                  </a:gs>
                  <a:gs pos="100000">
                    <a:srgbClr val="000b2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7591320" y="4808520"/>
                <a:ext cx="56880" cy="75240"/>
              </a:xfrm>
              <a:custGeom>
                <a:avLst/>
                <a:gdLst/>
                <a:ahLst/>
                <a:rect l="l" t="t" r="r" b="b"/>
                <a:pathLst>
                  <a:path w="35" h="66">
                    <a:moveTo>
                      <a:pt x="23" y="5"/>
                    </a:moveTo>
                    <a:lnTo>
                      <a:pt x="21" y="8"/>
                    </a:lnTo>
                    <a:lnTo>
                      <a:pt x="21" y="12"/>
                    </a:lnTo>
                    <a:lnTo>
                      <a:pt x="19" y="14"/>
                    </a:lnTo>
                    <a:lnTo>
                      <a:pt x="18" y="19"/>
                    </a:lnTo>
                    <a:lnTo>
                      <a:pt x="17" y="23"/>
                    </a:lnTo>
                    <a:lnTo>
                      <a:pt x="15" y="28"/>
                    </a:lnTo>
                    <a:lnTo>
                      <a:pt x="15" y="30"/>
                    </a:lnTo>
                    <a:lnTo>
                      <a:pt x="15" y="32"/>
                    </a:lnTo>
                    <a:lnTo>
                      <a:pt x="15" y="34"/>
                    </a:lnTo>
                    <a:lnTo>
                      <a:pt x="13" y="35"/>
                    </a:lnTo>
                    <a:lnTo>
                      <a:pt x="13" y="36"/>
                    </a:lnTo>
                    <a:lnTo>
                      <a:pt x="13" y="38"/>
                    </a:lnTo>
                    <a:lnTo>
                      <a:pt x="12" y="38"/>
                    </a:lnTo>
                    <a:lnTo>
                      <a:pt x="12" y="39"/>
                    </a:lnTo>
                    <a:lnTo>
                      <a:pt x="10" y="39"/>
                    </a:lnTo>
                    <a:lnTo>
                      <a:pt x="9" y="39"/>
                    </a:lnTo>
                    <a:lnTo>
                      <a:pt x="9" y="38"/>
                    </a:lnTo>
                    <a:lnTo>
                      <a:pt x="10" y="38"/>
                    </a:lnTo>
                    <a:lnTo>
                      <a:pt x="12" y="36"/>
                    </a:lnTo>
                    <a:lnTo>
                      <a:pt x="13" y="36"/>
                    </a:lnTo>
                    <a:lnTo>
                      <a:pt x="12" y="36"/>
                    </a:lnTo>
                    <a:lnTo>
                      <a:pt x="10" y="36"/>
                    </a:lnTo>
                    <a:lnTo>
                      <a:pt x="9" y="36"/>
                    </a:lnTo>
                    <a:lnTo>
                      <a:pt x="8" y="36"/>
                    </a:lnTo>
                    <a:lnTo>
                      <a:pt x="6" y="36"/>
                    </a:lnTo>
                    <a:lnTo>
                      <a:pt x="4" y="36"/>
                    </a:lnTo>
                    <a:lnTo>
                      <a:pt x="4" y="38"/>
                    </a:lnTo>
                    <a:lnTo>
                      <a:pt x="3" y="38"/>
                    </a:lnTo>
                    <a:lnTo>
                      <a:pt x="1" y="39"/>
                    </a:lnTo>
                    <a:lnTo>
                      <a:pt x="0" y="41"/>
                    </a:lnTo>
                    <a:lnTo>
                      <a:pt x="1" y="41"/>
                    </a:lnTo>
                    <a:lnTo>
                      <a:pt x="3" y="42"/>
                    </a:lnTo>
                    <a:lnTo>
                      <a:pt x="4" y="44"/>
                    </a:lnTo>
                    <a:lnTo>
                      <a:pt x="4" y="47"/>
                    </a:lnTo>
                    <a:lnTo>
                      <a:pt x="4" y="49"/>
                    </a:lnTo>
                    <a:lnTo>
                      <a:pt x="4" y="52"/>
                    </a:lnTo>
                    <a:lnTo>
                      <a:pt x="6" y="55"/>
                    </a:lnTo>
                    <a:lnTo>
                      <a:pt x="8" y="57"/>
                    </a:lnTo>
                    <a:lnTo>
                      <a:pt x="8" y="59"/>
                    </a:lnTo>
                    <a:lnTo>
                      <a:pt x="9" y="60"/>
                    </a:lnTo>
                    <a:lnTo>
                      <a:pt x="10" y="62"/>
                    </a:lnTo>
                    <a:lnTo>
                      <a:pt x="12" y="64"/>
                    </a:lnTo>
                    <a:lnTo>
                      <a:pt x="13" y="64"/>
                    </a:lnTo>
                    <a:lnTo>
                      <a:pt x="15" y="65"/>
                    </a:lnTo>
                    <a:lnTo>
                      <a:pt x="17" y="65"/>
                    </a:lnTo>
                    <a:lnTo>
                      <a:pt x="19" y="64"/>
                    </a:lnTo>
                    <a:lnTo>
                      <a:pt x="21" y="62"/>
                    </a:lnTo>
                    <a:lnTo>
                      <a:pt x="23" y="59"/>
                    </a:lnTo>
                    <a:lnTo>
                      <a:pt x="25" y="55"/>
                    </a:lnTo>
                    <a:lnTo>
                      <a:pt x="26" y="50"/>
                    </a:lnTo>
                    <a:lnTo>
                      <a:pt x="27" y="45"/>
                    </a:lnTo>
                    <a:lnTo>
                      <a:pt x="29" y="41"/>
                    </a:lnTo>
                    <a:lnTo>
                      <a:pt x="30" y="38"/>
                    </a:lnTo>
                    <a:lnTo>
                      <a:pt x="30" y="35"/>
                    </a:lnTo>
                    <a:lnTo>
                      <a:pt x="32" y="35"/>
                    </a:lnTo>
                    <a:lnTo>
                      <a:pt x="30" y="35"/>
                    </a:lnTo>
                    <a:lnTo>
                      <a:pt x="30" y="36"/>
                    </a:lnTo>
                    <a:lnTo>
                      <a:pt x="29" y="38"/>
                    </a:lnTo>
                    <a:lnTo>
                      <a:pt x="27" y="41"/>
                    </a:lnTo>
                    <a:lnTo>
                      <a:pt x="26" y="44"/>
                    </a:lnTo>
                    <a:lnTo>
                      <a:pt x="25" y="45"/>
                    </a:lnTo>
                    <a:lnTo>
                      <a:pt x="23" y="47"/>
                    </a:lnTo>
                    <a:lnTo>
                      <a:pt x="21" y="49"/>
                    </a:lnTo>
                    <a:lnTo>
                      <a:pt x="21" y="47"/>
                    </a:lnTo>
                    <a:lnTo>
                      <a:pt x="23" y="45"/>
                    </a:lnTo>
                    <a:lnTo>
                      <a:pt x="25" y="42"/>
                    </a:lnTo>
                    <a:lnTo>
                      <a:pt x="26" y="39"/>
                    </a:lnTo>
                    <a:lnTo>
                      <a:pt x="27" y="36"/>
                    </a:lnTo>
                    <a:lnTo>
                      <a:pt x="29" y="34"/>
                    </a:lnTo>
                    <a:lnTo>
                      <a:pt x="29" y="32"/>
                    </a:lnTo>
                    <a:lnTo>
                      <a:pt x="29" y="30"/>
                    </a:lnTo>
                    <a:lnTo>
                      <a:pt x="30" y="28"/>
                    </a:lnTo>
                    <a:lnTo>
                      <a:pt x="30" y="25"/>
                    </a:lnTo>
                    <a:lnTo>
                      <a:pt x="32" y="23"/>
                    </a:lnTo>
                    <a:lnTo>
                      <a:pt x="32" y="21"/>
                    </a:lnTo>
                    <a:lnTo>
                      <a:pt x="32" y="20"/>
                    </a:lnTo>
                    <a:lnTo>
                      <a:pt x="30" y="19"/>
                    </a:lnTo>
                    <a:lnTo>
                      <a:pt x="29" y="19"/>
                    </a:lnTo>
                    <a:lnTo>
                      <a:pt x="29" y="17"/>
                    </a:lnTo>
                    <a:lnTo>
                      <a:pt x="30" y="14"/>
                    </a:lnTo>
                    <a:lnTo>
                      <a:pt x="32" y="13"/>
                    </a:lnTo>
                    <a:lnTo>
                      <a:pt x="32" y="12"/>
                    </a:lnTo>
                    <a:lnTo>
                      <a:pt x="34" y="8"/>
                    </a:lnTo>
                    <a:lnTo>
                      <a:pt x="34" y="5"/>
                    </a:lnTo>
                    <a:lnTo>
                      <a:pt x="34" y="3"/>
                    </a:lnTo>
                    <a:lnTo>
                      <a:pt x="34" y="1"/>
                    </a:lnTo>
                    <a:lnTo>
                      <a:pt x="32" y="1"/>
                    </a:lnTo>
                    <a:lnTo>
                      <a:pt x="29" y="0"/>
                    </a:lnTo>
                    <a:lnTo>
                      <a:pt x="27" y="0"/>
                    </a:lnTo>
                    <a:lnTo>
                      <a:pt x="27" y="1"/>
                    </a:lnTo>
                    <a:lnTo>
                      <a:pt x="26" y="1"/>
                    </a:lnTo>
                    <a:lnTo>
                      <a:pt x="25" y="1"/>
                    </a:lnTo>
                    <a:lnTo>
                      <a:pt x="25" y="3"/>
                    </a:lnTo>
                    <a:lnTo>
                      <a:pt x="23" y="3"/>
                    </a:lnTo>
                    <a:lnTo>
                      <a:pt x="23" y="5"/>
                    </a:lnTo>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26" name=""/>
              <p:cNvSpPr/>
              <p:nvPr/>
            </p:nvSpPr>
            <p:spPr>
              <a:xfrm>
                <a:off x="7609320" y="4750200"/>
                <a:ext cx="27720" cy="28440"/>
              </a:xfrm>
              <a:custGeom>
                <a:avLst/>
                <a:gdLst/>
                <a:ahLst/>
                <a:rect l="l" t="t" r="r" b="b"/>
                <a:pathLst>
                  <a:path w="17" h="25">
                    <a:moveTo>
                      <a:pt x="10" y="24"/>
                    </a:moveTo>
                    <a:lnTo>
                      <a:pt x="8" y="24"/>
                    </a:lnTo>
                    <a:lnTo>
                      <a:pt x="8" y="23"/>
                    </a:lnTo>
                    <a:lnTo>
                      <a:pt x="8" y="22"/>
                    </a:lnTo>
                    <a:lnTo>
                      <a:pt x="6" y="22"/>
                    </a:lnTo>
                    <a:lnTo>
                      <a:pt x="5" y="22"/>
                    </a:lnTo>
                    <a:lnTo>
                      <a:pt x="3" y="22"/>
                    </a:lnTo>
                    <a:lnTo>
                      <a:pt x="1" y="22"/>
                    </a:lnTo>
                    <a:lnTo>
                      <a:pt x="1" y="21"/>
                    </a:lnTo>
                    <a:lnTo>
                      <a:pt x="1" y="19"/>
                    </a:lnTo>
                    <a:lnTo>
                      <a:pt x="3" y="19"/>
                    </a:lnTo>
                    <a:lnTo>
                      <a:pt x="1" y="19"/>
                    </a:lnTo>
                    <a:lnTo>
                      <a:pt x="1" y="17"/>
                    </a:lnTo>
                    <a:lnTo>
                      <a:pt x="1" y="16"/>
                    </a:lnTo>
                    <a:lnTo>
                      <a:pt x="1" y="15"/>
                    </a:lnTo>
                    <a:lnTo>
                      <a:pt x="1" y="13"/>
                    </a:lnTo>
                    <a:lnTo>
                      <a:pt x="0" y="13"/>
                    </a:lnTo>
                    <a:lnTo>
                      <a:pt x="0" y="12"/>
                    </a:lnTo>
                    <a:lnTo>
                      <a:pt x="1" y="11"/>
                    </a:lnTo>
                    <a:lnTo>
                      <a:pt x="1" y="9"/>
                    </a:lnTo>
                    <a:lnTo>
                      <a:pt x="3" y="8"/>
                    </a:lnTo>
                    <a:lnTo>
                      <a:pt x="3" y="7"/>
                    </a:lnTo>
                    <a:lnTo>
                      <a:pt x="3" y="6"/>
                    </a:lnTo>
                    <a:lnTo>
                      <a:pt x="3" y="5"/>
                    </a:lnTo>
                    <a:lnTo>
                      <a:pt x="3" y="4"/>
                    </a:lnTo>
                    <a:lnTo>
                      <a:pt x="3" y="2"/>
                    </a:lnTo>
                    <a:lnTo>
                      <a:pt x="3" y="1"/>
                    </a:lnTo>
                    <a:lnTo>
                      <a:pt x="3" y="0"/>
                    </a:lnTo>
                    <a:lnTo>
                      <a:pt x="5" y="1"/>
                    </a:lnTo>
                    <a:lnTo>
                      <a:pt x="6" y="1"/>
                    </a:lnTo>
                    <a:lnTo>
                      <a:pt x="8" y="1"/>
                    </a:lnTo>
                    <a:lnTo>
                      <a:pt x="8" y="2"/>
                    </a:lnTo>
                    <a:lnTo>
                      <a:pt x="10" y="4"/>
                    </a:lnTo>
                    <a:lnTo>
                      <a:pt x="10" y="5"/>
                    </a:lnTo>
                    <a:lnTo>
                      <a:pt x="10" y="6"/>
                    </a:lnTo>
                    <a:lnTo>
                      <a:pt x="11" y="7"/>
                    </a:lnTo>
                    <a:lnTo>
                      <a:pt x="13" y="7"/>
                    </a:lnTo>
                    <a:lnTo>
                      <a:pt x="14" y="8"/>
                    </a:lnTo>
                    <a:lnTo>
                      <a:pt x="14" y="9"/>
                    </a:lnTo>
                    <a:lnTo>
                      <a:pt x="16" y="9"/>
                    </a:lnTo>
                    <a:lnTo>
                      <a:pt x="16" y="12"/>
                    </a:lnTo>
                    <a:lnTo>
                      <a:pt x="14" y="15"/>
                    </a:lnTo>
                    <a:lnTo>
                      <a:pt x="14" y="17"/>
                    </a:lnTo>
                    <a:lnTo>
                      <a:pt x="13" y="19"/>
                    </a:lnTo>
                    <a:lnTo>
                      <a:pt x="11" y="19"/>
                    </a:lnTo>
                    <a:lnTo>
                      <a:pt x="10" y="21"/>
                    </a:lnTo>
                    <a:lnTo>
                      <a:pt x="10" y="22"/>
                    </a:lnTo>
                    <a:lnTo>
                      <a:pt x="10" y="23"/>
                    </a:lnTo>
                    <a:lnTo>
                      <a:pt x="10" y="24"/>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1027" name=""/>
          <p:cNvSpPr/>
          <p:nvPr/>
        </p:nvSpPr>
        <p:spPr>
          <a:xfrm>
            <a:off x="1325880" y="5081760"/>
            <a:ext cx="86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bile</a:t>
            </a:r>
            <a:endParaRPr b="0" lang="en-US" sz="1600" spc="-1" strike="noStrike">
              <a:solidFill>
                <a:srgbClr val="000000"/>
              </a:solidFill>
              <a:latin typeface="Times New Roman"/>
            </a:endParaRPr>
          </a:p>
        </p:txBody>
      </p:sp>
      <p:sp>
        <p:nvSpPr>
          <p:cNvPr id="1028" name=""/>
          <p:cNvSpPr/>
          <p:nvPr/>
        </p:nvSpPr>
        <p:spPr>
          <a:xfrm>
            <a:off x="3625920" y="50817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ble</a:t>
            </a:r>
            <a:endParaRPr b="0" lang="en-US" sz="1600" spc="-1" strike="noStrike">
              <a:solidFill>
                <a:srgbClr val="000000"/>
              </a:solidFill>
              <a:latin typeface="Times New Roman"/>
            </a:endParaRPr>
          </a:p>
        </p:txBody>
      </p:sp>
      <p:sp>
        <p:nvSpPr>
          <p:cNvPr id="1029" name=""/>
          <p:cNvSpPr/>
          <p:nvPr/>
        </p:nvSpPr>
        <p:spPr>
          <a:xfrm>
            <a:off x="4875840" y="5068800"/>
            <a:ext cx="55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SL</a:t>
            </a:r>
            <a:endParaRPr b="0" lang="en-US" sz="1600" spc="-1" strike="noStrike">
              <a:solidFill>
                <a:srgbClr val="000000"/>
              </a:solidFill>
              <a:latin typeface="Times New Roman"/>
            </a:endParaRPr>
          </a:p>
        </p:txBody>
      </p:sp>
      <p:sp>
        <p:nvSpPr>
          <p:cNvPr id="1030" name=""/>
          <p:cNvSpPr/>
          <p:nvPr/>
        </p:nvSpPr>
        <p:spPr>
          <a:xfrm>
            <a:off x="6874560" y="5068800"/>
            <a:ext cx="116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SDN/Dial</a:t>
            </a:r>
            <a:endParaRPr b="0" lang="en-US" sz="1600" spc="-1" strike="noStrike">
              <a:solidFill>
                <a:srgbClr val="000000"/>
              </a:solidFill>
              <a:latin typeface="Times New Roman"/>
            </a:endParaRPr>
          </a:p>
        </p:txBody>
      </p:sp>
      <p:sp>
        <p:nvSpPr>
          <p:cNvPr id="1031" name=""/>
          <p:cNvSpPr/>
          <p:nvPr/>
        </p:nvSpPr>
        <p:spPr>
          <a:xfrm>
            <a:off x="201600" y="76320"/>
            <a:ext cx="484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ontent Distribution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red%20gen%20d" descr=""/>
          <p:cNvPicPr/>
          <p:nvPr/>
        </p:nvPicPr>
        <p:blipFill>
          <a:blip r:embed="rId1"/>
          <a:stretch/>
        </p:blipFill>
        <p:spPr>
          <a:xfrm>
            <a:off x="762120" y="4038480"/>
            <a:ext cx="1828800" cy="771480"/>
          </a:xfrm>
          <a:prstGeom prst="rect">
            <a:avLst/>
          </a:prstGeom>
          <a:ln w="0">
            <a:noFill/>
          </a:ln>
        </p:spPr>
      </p:pic>
      <p:grpSp>
        <p:nvGrpSpPr>
          <p:cNvPr id="1033" name=""/>
          <p:cNvGrpSpPr/>
          <p:nvPr/>
        </p:nvGrpSpPr>
        <p:grpSpPr>
          <a:xfrm>
            <a:off x="838080" y="2057400"/>
            <a:ext cx="1676520" cy="1904760"/>
            <a:chOff x="838080" y="2057400"/>
            <a:chExt cx="1676520" cy="1904760"/>
          </a:xfrm>
        </p:grpSpPr>
        <p:sp>
          <p:nvSpPr>
            <p:cNvPr id="1034"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5" name="coolguy" descr=""/>
            <p:cNvPicPr/>
            <p:nvPr/>
          </p:nvPicPr>
          <p:blipFill>
            <a:blip r:embed="rId2"/>
            <a:srcRect l="9083" t="0" r="13635" b="0"/>
            <a:stretch/>
          </p:blipFill>
          <p:spPr>
            <a:xfrm>
              <a:off x="1015920" y="2480760"/>
              <a:ext cx="1295280" cy="1309320"/>
            </a:xfrm>
            <a:prstGeom prst="rect">
              <a:avLst/>
            </a:prstGeom>
            <a:ln w="0">
              <a:noFill/>
            </a:ln>
          </p:spPr>
        </p:pic>
        <p:pic>
          <p:nvPicPr>
            <p:cNvPr id="1036" name="logo" descr=""/>
            <p:cNvPicPr/>
            <p:nvPr/>
          </p:nvPicPr>
          <p:blipFill>
            <a:blip r:embed="rId3"/>
            <a:stretch/>
          </p:blipFill>
          <p:spPr>
            <a:xfrm>
              <a:off x="965160" y="2176200"/>
              <a:ext cx="1428840" cy="277560"/>
            </a:xfrm>
            <a:prstGeom prst="rect">
              <a:avLst/>
            </a:prstGeom>
            <a:ln w="0">
              <a:noFill/>
            </a:ln>
          </p:spPr>
        </p:pic>
      </p:grpSp>
      <p:sp>
        <p:nvSpPr>
          <p:cNvPr id="1037" name=""/>
          <p:cNvSpPr/>
          <p:nvPr/>
        </p:nvSpPr>
        <p:spPr>
          <a:xfrm>
            <a:off x="4191120" y="1600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ices</a:t>
            </a:r>
            <a:endParaRPr b="0" lang="en-US" sz="2400" spc="-1" strike="noStrike">
              <a:solidFill>
                <a:srgbClr val="000000"/>
              </a:solidFill>
              <a:latin typeface="Times New Roman"/>
            </a:endParaRPr>
          </a:p>
        </p:txBody>
      </p:sp>
      <p:sp>
        <p:nvSpPr>
          <p:cNvPr id="1038" name=""/>
          <p:cNvSpPr/>
          <p:nvPr/>
        </p:nvSpPr>
        <p:spPr>
          <a:xfrm>
            <a:off x="4191120" y="243828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Services</a:t>
            </a:r>
            <a:endParaRPr b="0" lang="en-US" sz="2400" spc="-1" strike="noStrike">
              <a:solidFill>
                <a:srgbClr val="000000"/>
              </a:solidFill>
              <a:latin typeface="Times New Roman"/>
            </a:endParaRPr>
          </a:p>
        </p:txBody>
      </p:sp>
      <p:sp>
        <p:nvSpPr>
          <p:cNvPr id="1039" name=""/>
          <p:cNvSpPr/>
          <p:nvPr/>
        </p:nvSpPr>
        <p:spPr>
          <a:xfrm>
            <a:off x="4191120" y="3276720"/>
            <a:ext cx="3429000" cy="761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Service Platform</a:t>
            </a:r>
            <a:endParaRPr b="0" lang="en-US" sz="2400" spc="-1" strike="noStrike">
              <a:solidFill>
                <a:srgbClr val="000000"/>
              </a:solidFill>
              <a:latin typeface="Times New Roman"/>
            </a:endParaRPr>
          </a:p>
        </p:txBody>
      </p:sp>
      <p:sp>
        <p:nvSpPr>
          <p:cNvPr id="1040" name=""/>
          <p:cNvSpPr/>
          <p:nvPr/>
        </p:nvSpPr>
        <p:spPr>
          <a:xfrm>
            <a:off x="4191120" y="41148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Basic IP Services</a:t>
            </a:r>
            <a:endParaRPr b="0" lang="en-US" sz="2400" spc="-1" strike="noStrike">
              <a:solidFill>
                <a:srgbClr val="000000"/>
              </a:solidFill>
              <a:latin typeface="Times New Roman"/>
            </a:endParaRPr>
          </a:p>
        </p:txBody>
      </p:sp>
      <p:sp>
        <p:nvSpPr>
          <p:cNvPr id="1041" name=""/>
          <p:cNvSpPr/>
          <p:nvPr/>
        </p:nvSpPr>
        <p:spPr>
          <a:xfrm>
            <a:off x="4191120" y="5029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a:t>
            </a:r>
            <a:endParaRPr b="0" lang="en-US" sz="2400" spc="-1" strike="noStrike">
              <a:solidFill>
                <a:srgbClr val="000000"/>
              </a:solidFill>
              <a:latin typeface="Times New Roman"/>
            </a:endParaRPr>
          </a:p>
        </p:txBody>
      </p:sp>
      <p:sp>
        <p:nvSpPr>
          <p:cNvPr id="1042" name=""/>
          <p:cNvSpPr/>
          <p:nvPr/>
        </p:nvSpPr>
        <p:spPr>
          <a:xfrm>
            <a:off x="769608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rot="16200000">
            <a:off x="6267960" y="3504600"/>
            <a:ext cx="37728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 Oper. Systems</a:t>
            </a:r>
            <a:endParaRPr b="0" lang="en-US" sz="2400" spc="-1" strike="noStrike">
              <a:solidFill>
                <a:srgbClr val="000000"/>
              </a:solidFill>
              <a:latin typeface="Times New Roman"/>
            </a:endParaRPr>
          </a:p>
        </p:txBody>
      </p:sp>
      <p:sp>
        <p:nvSpPr>
          <p:cNvPr id="1044" name=""/>
          <p:cNvSpPr/>
          <p:nvPr/>
        </p:nvSpPr>
        <p:spPr>
          <a:xfrm>
            <a:off x="320040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rot="16200000">
            <a:off x="1754280" y="3499560"/>
            <a:ext cx="365076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elopment Platform</a:t>
            </a:r>
            <a:endParaRPr b="0" lang="en-US" sz="2400" spc="-1" strike="noStrike">
              <a:solidFill>
                <a:srgbClr val="000000"/>
              </a:solidFill>
              <a:latin typeface="Times New Roman"/>
            </a:endParaRPr>
          </a:p>
        </p:txBody>
      </p:sp>
      <p:sp>
        <p:nvSpPr>
          <p:cNvPr id="1046"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3749760" y="1981080"/>
            <a:ext cx="1736640" cy="4343400"/>
          </a:xfrm>
          <a:prstGeom prst="rect">
            <a:avLst/>
          </a:prstGeom>
          <a:gradFill rotWithShape="0">
            <a:gsLst>
              <a:gs pos="0">
                <a:srgbClr val="3333cc"/>
              </a:gs>
              <a:gs pos="100000">
                <a:srgbClr val="9090e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0880" y="2209680"/>
            <a:ext cx="3124440" cy="335304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cus on Small and Medium Enterprise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etwork solution without customer investment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provide facilities to small enterprises.</a:t>
            </a:r>
            <a:endParaRPr b="0" lang="en-US" sz="2000" spc="-1" strike="noStrike">
              <a:solidFill>
                <a:srgbClr val="000000"/>
              </a:solidFill>
              <a:latin typeface="Times New Roman"/>
            </a:endParaRPr>
          </a:p>
        </p:txBody>
      </p:sp>
      <p:sp>
        <p:nvSpPr>
          <p:cNvPr id="1049" name=""/>
          <p:cNvSpPr/>
          <p:nvPr/>
        </p:nvSpPr>
        <p:spPr>
          <a:xfrm>
            <a:off x="1828800" y="167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Web Center</a:t>
            </a:r>
            <a:endParaRPr b="0" lang="en-US" sz="2000" spc="-1" strike="noStrike">
              <a:solidFill>
                <a:srgbClr val="000000"/>
              </a:solidFill>
              <a:latin typeface="Times New Roman"/>
            </a:endParaRPr>
          </a:p>
        </p:txBody>
      </p:sp>
      <p:sp>
        <p:nvSpPr>
          <p:cNvPr id="1050" name=""/>
          <p:cNvSpPr/>
          <p:nvPr/>
        </p:nvSpPr>
        <p:spPr>
          <a:xfrm>
            <a:off x="3733920" y="1981080"/>
            <a:ext cx="1726920" cy="2717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mai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oice Mai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ide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gin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Tahoma"/>
              </a:rPr>
              <a:t>VoIP</a:t>
            </a:r>
            <a:endParaRPr b="0" lang="en-US" sz="2000" spc="-1" strike="noStrike">
              <a:solidFill>
                <a:srgbClr val="000000"/>
              </a:solidFill>
              <a:latin typeface="Times New Roman"/>
            </a:endParaRPr>
          </a:p>
        </p:txBody>
      </p:sp>
      <p:sp>
        <p:nvSpPr>
          <p:cNvPr id="1051" name=""/>
          <p:cNvSpPr/>
          <p:nvPr/>
        </p:nvSpPr>
        <p:spPr>
          <a:xfrm>
            <a:off x="5867280" y="2209680"/>
            <a:ext cx="2971800" cy="342900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cus on Large Enterprise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etwork solution with customer investment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provide sophisticated and customized facilities</a:t>
            </a:r>
            <a:endParaRPr b="0" lang="en-US" sz="2000" spc="-1" strike="noStrike">
              <a:solidFill>
                <a:srgbClr val="000000"/>
              </a:solidFill>
              <a:latin typeface="Times New Roman"/>
            </a:endParaRPr>
          </a:p>
        </p:txBody>
      </p:sp>
      <p:pic>
        <p:nvPicPr>
          <p:cNvPr id="1052" name="csr2" descr=""/>
          <p:cNvPicPr/>
          <p:nvPr/>
        </p:nvPicPr>
        <p:blipFill>
          <a:blip r:embed="rId1"/>
          <a:stretch/>
        </p:blipFill>
        <p:spPr>
          <a:xfrm>
            <a:off x="3809880" y="4921200"/>
            <a:ext cx="1676520" cy="1403280"/>
          </a:xfrm>
          <a:prstGeom prst="rect">
            <a:avLst/>
          </a:prstGeom>
          <a:ln w="0">
            <a:noFill/>
          </a:ln>
        </p:spPr>
      </p:pic>
      <p:sp>
        <p:nvSpPr>
          <p:cNvPr id="1053" name=""/>
          <p:cNvSpPr/>
          <p:nvPr/>
        </p:nvSpPr>
        <p:spPr>
          <a:xfrm>
            <a:off x="6248520" y="1600200"/>
            <a:ext cx="2133360" cy="618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naged Contact</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enters</a:t>
            </a:r>
            <a:endParaRPr b="0" lang="en-US" sz="2000" spc="-1" strike="noStrike">
              <a:solidFill>
                <a:srgbClr val="000000"/>
              </a:solidFill>
              <a:latin typeface="Times New Roman"/>
            </a:endParaRPr>
          </a:p>
        </p:txBody>
      </p:sp>
      <p:sp>
        <p:nvSpPr>
          <p:cNvPr id="1054" name=""/>
          <p:cNvSpPr/>
          <p:nvPr/>
        </p:nvSpPr>
        <p:spPr>
          <a:xfrm>
            <a:off x="480600" y="1523880"/>
            <a:ext cx="224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Web Center</a:t>
            </a:r>
            <a:endParaRPr b="0" lang="en-US" sz="2800" spc="-1" strike="noStrike">
              <a:solidFill>
                <a:srgbClr val="000000"/>
              </a:solidFill>
              <a:latin typeface="Times New Roman"/>
            </a:endParaRPr>
          </a:p>
        </p:txBody>
      </p:sp>
      <p:sp>
        <p:nvSpPr>
          <p:cNvPr id="1055" name=""/>
          <p:cNvSpPr/>
          <p:nvPr/>
        </p:nvSpPr>
        <p:spPr>
          <a:xfrm>
            <a:off x="6116400" y="1600200"/>
            <a:ext cx="226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RM Center</a:t>
            </a:r>
            <a:endParaRPr b="0" lang="en-US" sz="2800" spc="-1" strike="noStrike">
              <a:solidFill>
                <a:srgbClr val="000000"/>
              </a:solidFill>
              <a:latin typeface="Times New Roman"/>
            </a:endParaRPr>
          </a:p>
        </p:txBody>
      </p:sp>
      <p:sp>
        <p:nvSpPr>
          <p:cNvPr id="1056" name="PlaceHolder 1"/>
          <p:cNvSpPr>
            <a:spLocks noGrp="1"/>
          </p:cNvSpPr>
          <p:nvPr>
            <p:ph type="title"/>
          </p:nvPr>
        </p:nvSpPr>
        <p:spPr>
          <a:xfrm>
            <a:off x="76320" y="151920"/>
            <a:ext cx="64008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Interactive Cen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560" y="0"/>
            <a:ext cx="609588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ustomer Service:</a:t>
            </a:r>
            <a:br>
              <a:rPr sz="2800"/>
            </a:br>
            <a:r>
              <a:rPr b="1" lang="en-US" sz="2800" spc="-1" strike="noStrike">
                <a:solidFill>
                  <a:srgbClr val="000066"/>
                </a:solidFill>
                <a:latin typeface="Tahoma"/>
              </a:rPr>
              <a:t>Talk to me</a:t>
            </a:r>
            <a:endParaRPr b="1" lang="en-US" sz="2800" spc="-1" strike="noStrike">
              <a:solidFill>
                <a:srgbClr val="ff9900"/>
              </a:solidFill>
              <a:latin typeface="Verdana"/>
            </a:endParaRPr>
          </a:p>
        </p:txBody>
      </p:sp>
      <p:pic>
        <p:nvPicPr>
          <p:cNvPr id="1058" name="" descr=""/>
          <p:cNvPicPr/>
          <p:nvPr/>
        </p:nvPicPr>
        <p:blipFill>
          <a:blip r:embed="rId1"/>
          <a:stretch/>
        </p:blipFill>
        <p:spPr>
          <a:xfrm>
            <a:off x="2857680" y="1600200"/>
            <a:ext cx="4762440" cy="4925880"/>
          </a:xfrm>
          <a:prstGeom prst="rect">
            <a:avLst/>
          </a:prstGeom>
          <a:ln w="0">
            <a:noFill/>
          </a:ln>
        </p:spPr>
      </p:pic>
      <p:sp>
        <p:nvSpPr>
          <p:cNvPr id="1059" name=""/>
          <p:cNvSpPr/>
          <p:nvPr/>
        </p:nvSpPr>
        <p:spPr>
          <a:xfrm>
            <a:off x="717840" y="3869280"/>
            <a:ext cx="2032200" cy="804960"/>
          </a:xfrm>
          <a:prstGeom prst="wedgeRectCallout">
            <a:avLst>
              <a:gd name="adj1" fmla="val 69037"/>
              <a:gd name="adj2" fmla="val 124157"/>
            </a:avLst>
          </a:prstGeom>
          <a:solidFill>
            <a:srgbClr val="ffffff"/>
          </a:solidFill>
          <a:ln w="9360">
            <a:solidFill>
              <a:srgbClr val="000000"/>
            </a:solidFill>
            <a:miter/>
          </a:ln>
        </p:spPr>
        <p:style>
          <a:lnRef idx="0"/>
          <a:fillRef idx="0"/>
          <a:effectRef idx="0"/>
          <a:fontRef idx="minor"/>
        </p:style>
        <p:txBody>
          <a:bodyPr wrap="none" lIns="73080" rIns="73080" tIns="36360" bIns="36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to-Tal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ll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E-7-CustomerCare3" descr=""/>
          <p:cNvPicPr/>
          <p:nvPr/>
        </p:nvPicPr>
        <p:blipFill>
          <a:blip r:embed="rId1"/>
          <a:srcRect l="0" t="14598" r="0" b="9969"/>
          <a:stretch/>
        </p:blipFill>
        <p:spPr>
          <a:xfrm>
            <a:off x="-3240" y="1419120"/>
            <a:ext cx="9147240" cy="5175360"/>
          </a:xfrm>
          <a:prstGeom prst="rect">
            <a:avLst/>
          </a:prstGeom>
          <a:ln w="0">
            <a:noFill/>
          </a:ln>
        </p:spPr>
      </p:pic>
      <p:sp>
        <p:nvSpPr>
          <p:cNvPr id="1061" name="PlaceHolder 1"/>
          <p:cNvSpPr>
            <a:spLocks noGrp="1"/>
          </p:cNvSpPr>
          <p:nvPr>
            <p:ph type="title"/>
          </p:nvPr>
        </p:nvSpPr>
        <p:spPr>
          <a:xfrm>
            <a:off x="0" y="0"/>
            <a:ext cx="64008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ustomer Service:</a:t>
            </a:r>
            <a:br>
              <a:rPr sz="2800"/>
            </a:br>
            <a:r>
              <a:rPr b="1" lang="en-US" sz="2800" spc="-1" strike="noStrike">
                <a:solidFill>
                  <a:srgbClr val="000066"/>
                </a:solidFill>
                <a:latin typeface="Tahoma"/>
              </a:rPr>
              <a:t>Follow me</a:t>
            </a:r>
            <a:endParaRPr b="1" lang="en-US" sz="2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2" name="" descr=""/>
          <p:cNvPicPr/>
          <p:nvPr/>
        </p:nvPicPr>
        <p:blipFill>
          <a:blip r:embed="rId1"/>
          <a:stretch/>
        </p:blipFill>
        <p:spPr>
          <a:xfrm>
            <a:off x="104760" y="1905120"/>
            <a:ext cx="4414680" cy="3297240"/>
          </a:xfrm>
          <a:prstGeom prst="rect">
            <a:avLst/>
          </a:prstGeom>
          <a:ln w="0">
            <a:noFill/>
          </a:ln>
        </p:spPr>
      </p:pic>
      <p:pic>
        <p:nvPicPr>
          <p:cNvPr id="1063" name="" descr=""/>
          <p:cNvPicPr/>
          <p:nvPr/>
        </p:nvPicPr>
        <p:blipFill>
          <a:blip r:embed="rId2"/>
          <a:stretch/>
        </p:blipFill>
        <p:spPr>
          <a:xfrm>
            <a:off x="4624560" y="1905120"/>
            <a:ext cx="4414680" cy="3297240"/>
          </a:xfrm>
          <a:prstGeom prst="rect">
            <a:avLst/>
          </a:prstGeom>
          <a:ln w="0">
            <a:noFill/>
          </a:ln>
        </p:spPr>
      </p:pic>
      <p:sp>
        <p:nvSpPr>
          <p:cNvPr id="1064" name=""/>
          <p:cNvSpPr/>
          <p:nvPr/>
        </p:nvSpPr>
        <p:spPr>
          <a:xfrm>
            <a:off x="1302840" y="5478480"/>
            <a:ext cx="2127960" cy="5605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ustomer</a:t>
            </a:r>
            <a:endParaRPr b="0" lang="en-US" sz="3200" spc="-1" strike="noStrike">
              <a:solidFill>
                <a:srgbClr val="000000"/>
              </a:solidFill>
              <a:latin typeface="Times New Roman"/>
            </a:endParaRPr>
          </a:p>
        </p:txBody>
      </p:sp>
      <p:sp>
        <p:nvSpPr>
          <p:cNvPr id="1065" name=""/>
          <p:cNvSpPr/>
          <p:nvPr/>
        </p:nvSpPr>
        <p:spPr>
          <a:xfrm>
            <a:off x="6150240" y="5477040"/>
            <a:ext cx="1443960" cy="56052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riend</a:t>
            </a:r>
            <a:endParaRPr b="0" lang="en-US" sz="3200" spc="-1" strike="noStrike">
              <a:solidFill>
                <a:srgbClr val="000000"/>
              </a:solidFill>
              <a:latin typeface="Times New Roman"/>
            </a:endParaRPr>
          </a:p>
        </p:txBody>
      </p:sp>
      <p:sp>
        <p:nvSpPr>
          <p:cNvPr id="1066" name="PlaceHolder 1"/>
          <p:cNvSpPr>
            <a:spLocks noGrp="1"/>
          </p:cNvSpPr>
          <p:nvPr>
            <p:ph type="title"/>
          </p:nvPr>
        </p:nvSpPr>
        <p:spPr>
          <a:xfrm>
            <a:off x="0" y="0"/>
            <a:ext cx="64008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ustomer Service:</a:t>
            </a:r>
            <a:br>
              <a:rPr sz="2800"/>
            </a:br>
            <a:r>
              <a:rPr b="1" lang="en-US" sz="2800" spc="-1" strike="noStrike">
                <a:solidFill>
                  <a:srgbClr val="000066"/>
                </a:solidFill>
                <a:latin typeface="Tahoma"/>
              </a:rPr>
              <a:t>Shopping with a friend</a:t>
            </a:r>
            <a:endParaRPr b="1" lang="en-US" sz="2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2879640" y="1676520"/>
            <a:ext cx="5502240" cy="379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marketplace is a virtual market where enterprises exchange information and make commercial trans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ypes of Transactions:</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Transactions in private arena between one company and it’s community of providers and partners.</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Transactions in public arena - B2B where any enterprise can make transactions.</a:t>
            </a:r>
            <a:endParaRPr b="0" lang="en-US" sz="2000" spc="-1" strike="noStrike">
              <a:solidFill>
                <a:srgbClr val="000000"/>
              </a:solidFill>
              <a:latin typeface="Times New Roman"/>
            </a:endParaRPr>
          </a:p>
        </p:txBody>
      </p:sp>
      <p:pic>
        <p:nvPicPr>
          <p:cNvPr id="1068" name="conferencetable" descr=""/>
          <p:cNvPicPr/>
          <p:nvPr/>
        </p:nvPicPr>
        <p:blipFill>
          <a:blip r:embed="rId1"/>
          <a:stretch/>
        </p:blipFill>
        <p:spPr>
          <a:xfrm>
            <a:off x="228600" y="2895480"/>
            <a:ext cx="2286000" cy="1357560"/>
          </a:xfrm>
          <a:prstGeom prst="rect">
            <a:avLst/>
          </a:prstGeom>
          <a:ln w="0">
            <a:noFill/>
          </a:ln>
        </p:spPr>
      </p:pic>
      <p:sp>
        <p:nvSpPr>
          <p:cNvPr id="1069" name=""/>
          <p:cNvSpPr/>
          <p:nvPr/>
        </p:nvSpPr>
        <p:spPr>
          <a:xfrm>
            <a:off x="191160" y="152280"/>
            <a:ext cx="291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Marketpl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914400" y="1143000"/>
            <a:ext cx="6248520" cy="981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e-Marketplace provides a single point of access between one enterprise and its partners</a:t>
            </a:r>
            <a:endParaRPr b="0" lang="en-US" sz="2000" spc="-1" strike="noStrike">
              <a:solidFill>
                <a:srgbClr val="000000"/>
              </a:solidFill>
              <a:latin typeface="Times New Roman"/>
            </a:endParaRPr>
          </a:p>
        </p:txBody>
      </p:sp>
      <p:sp>
        <p:nvSpPr>
          <p:cNvPr id="1071" name=""/>
          <p:cNvSpPr/>
          <p:nvPr/>
        </p:nvSpPr>
        <p:spPr>
          <a:xfrm>
            <a:off x="5943600" y="2666880"/>
            <a:ext cx="1828800" cy="4971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change </a:t>
            </a:r>
            <a:br>
              <a:rPr sz="1600"/>
            </a:br>
            <a:r>
              <a:rPr b="1" lang="en-US" sz="1600" spc="-1" strike="noStrike">
                <a:solidFill>
                  <a:srgbClr val="000000"/>
                </a:solidFill>
                <a:latin typeface="Tahoma"/>
              </a:rPr>
              <a:t>Evolution</a:t>
            </a:r>
            <a:endParaRPr b="0" lang="en-US" sz="1600" spc="-1" strike="noStrike">
              <a:solidFill>
                <a:srgbClr val="000000"/>
              </a:solidFill>
              <a:latin typeface="Times New Roman"/>
            </a:endParaRPr>
          </a:p>
        </p:txBody>
      </p:sp>
      <p:sp>
        <p:nvSpPr>
          <p:cNvPr id="1072" name=""/>
          <p:cNvSpPr/>
          <p:nvPr/>
        </p:nvSpPr>
        <p:spPr>
          <a:xfrm>
            <a:off x="5943600" y="3244680"/>
            <a:ext cx="1828800" cy="5806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re Portal Infrastructure</a:t>
            </a:r>
            <a:endParaRPr b="0" lang="en-US" sz="1600" spc="-1" strike="noStrike">
              <a:solidFill>
                <a:srgbClr val="000000"/>
              </a:solidFill>
              <a:latin typeface="Times New Roman"/>
            </a:endParaRPr>
          </a:p>
        </p:txBody>
      </p:sp>
      <p:sp>
        <p:nvSpPr>
          <p:cNvPr id="1073" name=""/>
          <p:cNvSpPr/>
          <p:nvPr/>
        </p:nvSpPr>
        <p:spPr>
          <a:xfrm>
            <a:off x="5943600" y="4616280"/>
            <a:ext cx="1828800" cy="5806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Cross-Portal Links</a:t>
            </a:r>
            <a:r>
              <a:rPr b="1" lang="en-US" sz="1600" spc="-1" strike="noStrike">
                <a:solidFill>
                  <a:srgbClr val="3333cc"/>
                </a:solidFill>
                <a:latin typeface="Arial"/>
              </a:rPr>
              <a:t> </a:t>
            </a:r>
            <a:endParaRPr b="0" lang="en-US" sz="1600" spc="-1" strike="noStrike">
              <a:solidFill>
                <a:srgbClr val="000000"/>
              </a:solidFill>
              <a:latin typeface="Times New Roman"/>
            </a:endParaRPr>
          </a:p>
        </p:txBody>
      </p:sp>
      <p:sp>
        <p:nvSpPr>
          <p:cNvPr id="1074" name=""/>
          <p:cNvSpPr/>
          <p:nvPr/>
        </p:nvSpPr>
        <p:spPr>
          <a:xfrm>
            <a:off x="5943600" y="5317920"/>
            <a:ext cx="1828800" cy="33732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New Markets</a:t>
            </a:r>
            <a:r>
              <a:rPr b="1" lang="en-US" sz="1600" spc="-1" strike="noStrike">
                <a:solidFill>
                  <a:srgbClr val="3333cc"/>
                </a:solidFill>
                <a:latin typeface="Arial"/>
              </a:rPr>
              <a:t> </a:t>
            </a:r>
            <a:endParaRPr b="0" lang="en-US" sz="1600" spc="-1" strike="noStrike">
              <a:solidFill>
                <a:srgbClr val="000000"/>
              </a:solidFill>
              <a:latin typeface="Times New Roman"/>
            </a:endParaRPr>
          </a:p>
        </p:txBody>
      </p:sp>
      <p:sp>
        <p:nvSpPr>
          <p:cNvPr id="1075" name=""/>
          <p:cNvSpPr/>
          <p:nvPr/>
        </p:nvSpPr>
        <p:spPr>
          <a:xfrm>
            <a:off x="5943600" y="3930480"/>
            <a:ext cx="1828800" cy="5806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utsource Portals</a:t>
            </a:r>
            <a:r>
              <a:rPr b="1" lang="en-US" sz="1600" spc="-1" strike="noStrike">
                <a:solidFill>
                  <a:srgbClr val="3333cc"/>
                </a:solidFill>
                <a:latin typeface="Arial"/>
              </a:rPr>
              <a:t> </a:t>
            </a:r>
            <a:endParaRPr b="0" lang="en-US" sz="1600" spc="-1" strike="noStrike">
              <a:solidFill>
                <a:srgbClr val="000000"/>
              </a:solidFill>
              <a:latin typeface="Times New Roman"/>
            </a:endParaRPr>
          </a:p>
        </p:txBody>
      </p:sp>
      <p:grpSp>
        <p:nvGrpSpPr>
          <p:cNvPr id="1076" name=""/>
          <p:cNvGrpSpPr/>
          <p:nvPr/>
        </p:nvGrpSpPr>
        <p:grpSpPr>
          <a:xfrm>
            <a:off x="838080" y="2362320"/>
            <a:ext cx="4495680" cy="3961440"/>
            <a:chOff x="838080" y="2362320"/>
            <a:chExt cx="4495680" cy="3961440"/>
          </a:xfrm>
        </p:grpSpPr>
        <p:sp>
          <p:nvSpPr>
            <p:cNvPr id="1077" name=""/>
            <p:cNvSpPr/>
            <p:nvPr/>
          </p:nvSpPr>
          <p:spPr>
            <a:xfrm>
              <a:off x="1428480" y="3175200"/>
              <a:ext cx="3292200" cy="2321280"/>
            </a:xfrm>
            <a:custGeom>
              <a:avLst/>
              <a:gdLst/>
              <a:ahLst/>
              <a:rect l="l" t="t" r="r" b="b"/>
              <a:pathLst>
                <a:path w="2855" h="2395">
                  <a:moveTo>
                    <a:pt x="1542" y="0"/>
                  </a:moveTo>
                  <a:lnTo>
                    <a:pt x="2606" y="607"/>
                  </a:lnTo>
                  <a:lnTo>
                    <a:pt x="2855" y="1350"/>
                  </a:lnTo>
                  <a:lnTo>
                    <a:pt x="2652" y="1950"/>
                  </a:lnTo>
                  <a:lnTo>
                    <a:pt x="1964" y="2395"/>
                  </a:lnTo>
                  <a:lnTo>
                    <a:pt x="1124" y="2253"/>
                  </a:lnTo>
                  <a:lnTo>
                    <a:pt x="397" y="1945"/>
                  </a:lnTo>
                  <a:lnTo>
                    <a:pt x="0" y="1434"/>
                  </a:lnTo>
                  <a:lnTo>
                    <a:pt x="116" y="946"/>
                  </a:lnTo>
                  <a:lnTo>
                    <a:pt x="359" y="641"/>
                  </a:lnTo>
                  <a:lnTo>
                    <a:pt x="319" y="274"/>
                  </a:lnTo>
                  <a:lnTo>
                    <a:pt x="510" y="76"/>
                  </a:lnTo>
                  <a:lnTo>
                    <a:pt x="1542" y="0"/>
                  </a:lnTo>
                  <a:lnTo>
                    <a:pt x="1542" y="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txBox="1"/>
            <p:nvPr/>
          </p:nvSpPr>
          <p:spPr>
            <a:xfrm>
              <a:off x="2705760" y="4898160"/>
              <a:ext cx="816840" cy="309240"/>
            </a:xfrm>
            <a:prstGeom prst="rect">
              <a:avLst/>
            </a:prstGeom>
          </p:spPr>
          <p:txBody>
            <a:bodyPr wrap="none" lIns="90000" rIns="90000" tIns="46800" bIns="46800" anchor="t" anchorCtr="1">
              <a:prstTxWarp prst="textCanDown">
                <a:avLst>
                  <a:gd name="adj" fmla="val 175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000000"/>
                    </a:outerShdw>
                  </a:effectLst>
                  <a:latin typeface="Tahoma"/>
                </a:rPr>
                <a:t>Network</a:t>
              </a:r>
              <a:endParaRPr b="0" lang="en-US" sz="2400" spc="1" strike="noStrike">
                <a:ln w="0">
                  <a:noFill/>
                </a:ln>
                <a:solidFill>
                  <a:srgbClr val="000000"/>
                </a:solidFill>
                <a:effectLst>
                  <a:outerShdw dist="17819" dir="2700000" blurRad="0" rotWithShape="0">
                    <a:srgbClr val="000000"/>
                  </a:outerShdw>
                </a:effectLst>
                <a:latin typeface="Tahoma"/>
                <a:ea typeface="Tahoma"/>
              </a:endParaRPr>
            </a:p>
          </p:txBody>
        </p:sp>
        <p:grpSp>
          <p:nvGrpSpPr>
            <p:cNvPr id="1079" name=""/>
            <p:cNvGrpSpPr/>
            <p:nvPr/>
          </p:nvGrpSpPr>
          <p:grpSpPr>
            <a:xfrm>
              <a:off x="2400120" y="3636360"/>
              <a:ext cx="1359720" cy="1226160"/>
              <a:chOff x="2400120" y="3636360"/>
              <a:chExt cx="1359720" cy="1226160"/>
            </a:xfrm>
          </p:grpSpPr>
          <p:grpSp>
            <p:nvGrpSpPr>
              <p:cNvPr id="1080" name=""/>
              <p:cNvGrpSpPr/>
              <p:nvPr/>
            </p:nvGrpSpPr>
            <p:grpSpPr>
              <a:xfrm>
                <a:off x="2400120" y="3636360"/>
                <a:ext cx="1359720" cy="1226160"/>
                <a:chOff x="2400120" y="3636360"/>
                <a:chExt cx="1359720" cy="1226160"/>
              </a:xfrm>
            </p:grpSpPr>
            <p:sp>
              <p:nvSpPr>
                <p:cNvPr id="1081" name=""/>
                <p:cNvSpPr/>
                <p:nvPr/>
              </p:nvSpPr>
              <p:spPr>
                <a:xfrm rot="811200">
                  <a:off x="2532960" y="3775680"/>
                  <a:ext cx="1055160" cy="917280"/>
                </a:xfrm>
                <a:custGeom>
                  <a:avLst/>
                  <a:gdLst/>
                  <a:ahLst/>
                  <a:rect l="l" t="t" r="r" b="b"/>
                  <a:pathLst>
                    <a:path w="1914" h="1917">
                      <a:moveTo>
                        <a:pt x="45" y="1363"/>
                      </a:moveTo>
                      <a:lnTo>
                        <a:pt x="0" y="654"/>
                      </a:lnTo>
                      <a:lnTo>
                        <a:pt x="390" y="182"/>
                      </a:lnTo>
                      <a:lnTo>
                        <a:pt x="844" y="0"/>
                      </a:lnTo>
                      <a:lnTo>
                        <a:pt x="1315" y="27"/>
                      </a:lnTo>
                      <a:lnTo>
                        <a:pt x="1770" y="327"/>
                      </a:lnTo>
                      <a:lnTo>
                        <a:pt x="1914" y="890"/>
                      </a:lnTo>
                      <a:lnTo>
                        <a:pt x="1832" y="1462"/>
                      </a:lnTo>
                      <a:lnTo>
                        <a:pt x="1397" y="1816"/>
                      </a:lnTo>
                      <a:lnTo>
                        <a:pt x="907" y="1917"/>
                      </a:lnTo>
                      <a:lnTo>
                        <a:pt x="335" y="1727"/>
                      </a:lnTo>
                      <a:lnTo>
                        <a:pt x="45" y="1363"/>
                      </a:lnTo>
                      <a:lnTo>
                        <a:pt x="45" y="1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rot="811200">
                  <a:off x="2595600" y="3895200"/>
                  <a:ext cx="891720" cy="785160"/>
                </a:xfrm>
                <a:custGeom>
                  <a:avLst/>
                  <a:gdLst/>
                  <a:ahLst/>
                  <a:rect l="l" t="t" r="r" b="b"/>
                  <a:pathLst>
                    <a:path w="1619" h="1641">
                      <a:moveTo>
                        <a:pt x="45" y="1145"/>
                      </a:moveTo>
                      <a:lnTo>
                        <a:pt x="29" y="1092"/>
                      </a:lnTo>
                      <a:lnTo>
                        <a:pt x="5" y="953"/>
                      </a:lnTo>
                      <a:lnTo>
                        <a:pt x="0" y="859"/>
                      </a:lnTo>
                      <a:lnTo>
                        <a:pt x="7" y="754"/>
                      </a:lnTo>
                      <a:lnTo>
                        <a:pt x="13" y="696"/>
                      </a:lnTo>
                      <a:lnTo>
                        <a:pt x="24" y="637"/>
                      </a:lnTo>
                      <a:lnTo>
                        <a:pt x="42" y="578"/>
                      </a:lnTo>
                      <a:lnTo>
                        <a:pt x="51" y="548"/>
                      </a:lnTo>
                      <a:lnTo>
                        <a:pt x="63" y="517"/>
                      </a:lnTo>
                      <a:lnTo>
                        <a:pt x="74" y="487"/>
                      </a:lnTo>
                      <a:lnTo>
                        <a:pt x="88" y="457"/>
                      </a:lnTo>
                      <a:lnTo>
                        <a:pt x="103" y="428"/>
                      </a:lnTo>
                      <a:lnTo>
                        <a:pt x="117" y="399"/>
                      </a:lnTo>
                      <a:lnTo>
                        <a:pt x="133" y="370"/>
                      </a:lnTo>
                      <a:lnTo>
                        <a:pt x="149" y="343"/>
                      </a:lnTo>
                      <a:lnTo>
                        <a:pt x="165" y="318"/>
                      </a:lnTo>
                      <a:lnTo>
                        <a:pt x="182" y="291"/>
                      </a:lnTo>
                      <a:lnTo>
                        <a:pt x="201" y="267"/>
                      </a:lnTo>
                      <a:lnTo>
                        <a:pt x="221" y="243"/>
                      </a:lnTo>
                      <a:lnTo>
                        <a:pt x="240" y="219"/>
                      </a:lnTo>
                      <a:lnTo>
                        <a:pt x="261" y="198"/>
                      </a:lnTo>
                      <a:lnTo>
                        <a:pt x="281" y="176"/>
                      </a:lnTo>
                      <a:lnTo>
                        <a:pt x="302" y="157"/>
                      </a:lnTo>
                      <a:lnTo>
                        <a:pt x="324" y="137"/>
                      </a:lnTo>
                      <a:lnTo>
                        <a:pt x="347" y="120"/>
                      </a:lnTo>
                      <a:lnTo>
                        <a:pt x="359" y="110"/>
                      </a:lnTo>
                      <a:lnTo>
                        <a:pt x="371" y="102"/>
                      </a:lnTo>
                      <a:lnTo>
                        <a:pt x="382" y="94"/>
                      </a:lnTo>
                      <a:lnTo>
                        <a:pt x="395" y="86"/>
                      </a:lnTo>
                      <a:lnTo>
                        <a:pt x="406" y="78"/>
                      </a:lnTo>
                      <a:lnTo>
                        <a:pt x="417" y="72"/>
                      </a:lnTo>
                      <a:lnTo>
                        <a:pt x="430" y="66"/>
                      </a:lnTo>
                      <a:lnTo>
                        <a:pt x="442" y="59"/>
                      </a:lnTo>
                      <a:lnTo>
                        <a:pt x="454" y="53"/>
                      </a:lnTo>
                      <a:lnTo>
                        <a:pt x="466" y="46"/>
                      </a:lnTo>
                      <a:lnTo>
                        <a:pt x="492" y="35"/>
                      </a:lnTo>
                      <a:lnTo>
                        <a:pt x="518" y="26"/>
                      </a:lnTo>
                      <a:lnTo>
                        <a:pt x="543" y="19"/>
                      </a:lnTo>
                      <a:lnTo>
                        <a:pt x="570" y="11"/>
                      </a:lnTo>
                      <a:lnTo>
                        <a:pt x="596" y="6"/>
                      </a:lnTo>
                      <a:lnTo>
                        <a:pt x="650" y="0"/>
                      </a:lnTo>
                      <a:lnTo>
                        <a:pt x="706" y="0"/>
                      </a:lnTo>
                      <a:lnTo>
                        <a:pt x="762" y="8"/>
                      </a:lnTo>
                      <a:lnTo>
                        <a:pt x="818" y="19"/>
                      </a:lnTo>
                      <a:lnTo>
                        <a:pt x="845" y="26"/>
                      </a:lnTo>
                      <a:lnTo>
                        <a:pt x="873" y="32"/>
                      </a:lnTo>
                      <a:lnTo>
                        <a:pt x="901" y="40"/>
                      </a:lnTo>
                      <a:lnTo>
                        <a:pt x="929" y="48"/>
                      </a:lnTo>
                      <a:lnTo>
                        <a:pt x="956" y="56"/>
                      </a:lnTo>
                      <a:lnTo>
                        <a:pt x="984" y="66"/>
                      </a:lnTo>
                      <a:lnTo>
                        <a:pt x="1011" y="75"/>
                      </a:lnTo>
                      <a:lnTo>
                        <a:pt x="1038" y="85"/>
                      </a:lnTo>
                      <a:lnTo>
                        <a:pt x="1063" y="96"/>
                      </a:lnTo>
                      <a:lnTo>
                        <a:pt x="1090" y="107"/>
                      </a:lnTo>
                      <a:lnTo>
                        <a:pt x="1116" y="120"/>
                      </a:lnTo>
                      <a:lnTo>
                        <a:pt x="1129" y="126"/>
                      </a:lnTo>
                      <a:lnTo>
                        <a:pt x="1142" y="131"/>
                      </a:lnTo>
                      <a:lnTo>
                        <a:pt x="1154" y="139"/>
                      </a:lnTo>
                      <a:lnTo>
                        <a:pt x="1167" y="145"/>
                      </a:lnTo>
                      <a:lnTo>
                        <a:pt x="1180" y="152"/>
                      </a:lnTo>
                      <a:lnTo>
                        <a:pt x="1193" y="160"/>
                      </a:lnTo>
                      <a:lnTo>
                        <a:pt x="1205" y="166"/>
                      </a:lnTo>
                      <a:lnTo>
                        <a:pt x="1217" y="174"/>
                      </a:lnTo>
                      <a:lnTo>
                        <a:pt x="1229" y="180"/>
                      </a:lnTo>
                      <a:lnTo>
                        <a:pt x="1241" y="188"/>
                      </a:lnTo>
                      <a:lnTo>
                        <a:pt x="1253" y="196"/>
                      </a:lnTo>
                      <a:lnTo>
                        <a:pt x="1264" y="204"/>
                      </a:lnTo>
                      <a:lnTo>
                        <a:pt x="1276" y="212"/>
                      </a:lnTo>
                      <a:lnTo>
                        <a:pt x="1287" y="222"/>
                      </a:lnTo>
                      <a:lnTo>
                        <a:pt x="1331" y="257"/>
                      </a:lnTo>
                      <a:lnTo>
                        <a:pt x="1375" y="295"/>
                      </a:lnTo>
                      <a:lnTo>
                        <a:pt x="1394" y="316"/>
                      </a:lnTo>
                      <a:lnTo>
                        <a:pt x="1413" y="337"/>
                      </a:lnTo>
                      <a:lnTo>
                        <a:pt x="1432" y="359"/>
                      </a:lnTo>
                      <a:lnTo>
                        <a:pt x="1450" y="382"/>
                      </a:lnTo>
                      <a:lnTo>
                        <a:pt x="1467" y="406"/>
                      </a:lnTo>
                      <a:lnTo>
                        <a:pt x="1485" y="429"/>
                      </a:lnTo>
                      <a:lnTo>
                        <a:pt x="1501" y="455"/>
                      </a:lnTo>
                      <a:lnTo>
                        <a:pt x="1515" y="481"/>
                      </a:lnTo>
                      <a:lnTo>
                        <a:pt x="1528" y="506"/>
                      </a:lnTo>
                      <a:lnTo>
                        <a:pt x="1542" y="533"/>
                      </a:lnTo>
                      <a:lnTo>
                        <a:pt x="1565" y="588"/>
                      </a:lnTo>
                      <a:lnTo>
                        <a:pt x="1584" y="642"/>
                      </a:lnTo>
                      <a:lnTo>
                        <a:pt x="1600" y="696"/>
                      </a:lnTo>
                      <a:lnTo>
                        <a:pt x="1619" y="806"/>
                      </a:lnTo>
                      <a:lnTo>
                        <a:pt x="1619" y="915"/>
                      </a:lnTo>
                      <a:lnTo>
                        <a:pt x="1612" y="967"/>
                      </a:lnTo>
                      <a:lnTo>
                        <a:pt x="1601" y="1020"/>
                      </a:lnTo>
                      <a:lnTo>
                        <a:pt x="1584" y="1071"/>
                      </a:lnTo>
                      <a:lnTo>
                        <a:pt x="1563" y="1122"/>
                      </a:lnTo>
                      <a:lnTo>
                        <a:pt x="1550" y="1146"/>
                      </a:lnTo>
                      <a:lnTo>
                        <a:pt x="1536" y="1170"/>
                      </a:lnTo>
                      <a:lnTo>
                        <a:pt x="1521" y="1194"/>
                      </a:lnTo>
                      <a:lnTo>
                        <a:pt x="1504" y="1218"/>
                      </a:lnTo>
                      <a:lnTo>
                        <a:pt x="1486" y="1240"/>
                      </a:lnTo>
                      <a:lnTo>
                        <a:pt x="1467" y="1264"/>
                      </a:lnTo>
                      <a:lnTo>
                        <a:pt x="1446" y="1287"/>
                      </a:lnTo>
                      <a:lnTo>
                        <a:pt x="1424" y="1307"/>
                      </a:lnTo>
                      <a:lnTo>
                        <a:pt x="1400" y="1328"/>
                      </a:lnTo>
                      <a:lnTo>
                        <a:pt x="1378" y="1349"/>
                      </a:lnTo>
                      <a:lnTo>
                        <a:pt x="1355" y="1370"/>
                      </a:lnTo>
                      <a:lnTo>
                        <a:pt x="1331" y="1389"/>
                      </a:lnTo>
                      <a:lnTo>
                        <a:pt x="1309" y="1406"/>
                      </a:lnTo>
                      <a:lnTo>
                        <a:pt x="1287" y="1426"/>
                      </a:lnTo>
                      <a:lnTo>
                        <a:pt x="1241" y="1459"/>
                      </a:lnTo>
                      <a:lnTo>
                        <a:pt x="1229" y="1467"/>
                      </a:lnTo>
                      <a:lnTo>
                        <a:pt x="1218" y="1475"/>
                      </a:lnTo>
                      <a:lnTo>
                        <a:pt x="1207" y="1483"/>
                      </a:lnTo>
                      <a:lnTo>
                        <a:pt x="1194" y="1491"/>
                      </a:lnTo>
                      <a:lnTo>
                        <a:pt x="1183" y="1499"/>
                      </a:lnTo>
                      <a:lnTo>
                        <a:pt x="1172" y="1507"/>
                      </a:lnTo>
                      <a:lnTo>
                        <a:pt x="1161" y="1513"/>
                      </a:lnTo>
                      <a:lnTo>
                        <a:pt x="1150" y="1520"/>
                      </a:lnTo>
                      <a:lnTo>
                        <a:pt x="1138" y="1528"/>
                      </a:lnTo>
                      <a:lnTo>
                        <a:pt x="1127" y="1534"/>
                      </a:lnTo>
                      <a:lnTo>
                        <a:pt x="1116" y="1541"/>
                      </a:lnTo>
                      <a:lnTo>
                        <a:pt x="1105" y="1547"/>
                      </a:lnTo>
                      <a:lnTo>
                        <a:pt x="1094" y="1553"/>
                      </a:lnTo>
                      <a:lnTo>
                        <a:pt x="1083" y="1558"/>
                      </a:lnTo>
                      <a:lnTo>
                        <a:pt x="1060" y="1571"/>
                      </a:lnTo>
                      <a:lnTo>
                        <a:pt x="1038" y="1580"/>
                      </a:lnTo>
                      <a:lnTo>
                        <a:pt x="1015" y="1590"/>
                      </a:lnTo>
                      <a:lnTo>
                        <a:pt x="993" y="1598"/>
                      </a:lnTo>
                      <a:lnTo>
                        <a:pt x="971" y="1608"/>
                      </a:lnTo>
                      <a:lnTo>
                        <a:pt x="948" y="1614"/>
                      </a:lnTo>
                      <a:lnTo>
                        <a:pt x="928" y="1620"/>
                      </a:lnTo>
                      <a:lnTo>
                        <a:pt x="885" y="1630"/>
                      </a:lnTo>
                      <a:lnTo>
                        <a:pt x="842" y="1638"/>
                      </a:lnTo>
                      <a:lnTo>
                        <a:pt x="798" y="1641"/>
                      </a:lnTo>
                      <a:lnTo>
                        <a:pt x="715" y="1635"/>
                      </a:lnTo>
                      <a:lnTo>
                        <a:pt x="674" y="1627"/>
                      </a:lnTo>
                      <a:lnTo>
                        <a:pt x="631" y="1616"/>
                      </a:lnTo>
                      <a:lnTo>
                        <a:pt x="607" y="1609"/>
                      </a:lnTo>
                      <a:lnTo>
                        <a:pt x="585" y="1603"/>
                      </a:lnTo>
                      <a:lnTo>
                        <a:pt x="562" y="1595"/>
                      </a:lnTo>
                      <a:lnTo>
                        <a:pt x="538" y="1588"/>
                      </a:lnTo>
                      <a:lnTo>
                        <a:pt x="516" y="1580"/>
                      </a:lnTo>
                      <a:lnTo>
                        <a:pt x="494" y="1572"/>
                      </a:lnTo>
                      <a:lnTo>
                        <a:pt x="470" y="1564"/>
                      </a:lnTo>
                      <a:lnTo>
                        <a:pt x="447" y="1555"/>
                      </a:lnTo>
                      <a:lnTo>
                        <a:pt x="425" y="1547"/>
                      </a:lnTo>
                      <a:lnTo>
                        <a:pt x="404" y="1539"/>
                      </a:lnTo>
                      <a:lnTo>
                        <a:pt x="382" y="1529"/>
                      </a:lnTo>
                      <a:lnTo>
                        <a:pt x="361" y="1521"/>
                      </a:lnTo>
                      <a:lnTo>
                        <a:pt x="342" y="1513"/>
                      </a:lnTo>
                      <a:lnTo>
                        <a:pt x="323" y="1504"/>
                      </a:lnTo>
                      <a:lnTo>
                        <a:pt x="304" y="1496"/>
                      </a:lnTo>
                      <a:lnTo>
                        <a:pt x="286" y="1488"/>
                      </a:lnTo>
                      <a:lnTo>
                        <a:pt x="270" y="1481"/>
                      </a:lnTo>
                      <a:lnTo>
                        <a:pt x="254" y="1474"/>
                      </a:lnTo>
                      <a:lnTo>
                        <a:pt x="240" y="1467"/>
                      </a:lnTo>
                      <a:lnTo>
                        <a:pt x="225" y="1461"/>
                      </a:lnTo>
                      <a:lnTo>
                        <a:pt x="203" y="1450"/>
                      </a:lnTo>
                      <a:lnTo>
                        <a:pt x="186" y="1442"/>
                      </a:lnTo>
                      <a:lnTo>
                        <a:pt x="171" y="1435"/>
                      </a:lnTo>
                      <a:lnTo>
                        <a:pt x="45" y="1145"/>
                      </a:lnTo>
                      <a:lnTo>
                        <a:pt x="45" y="1145"/>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rot="811200">
                  <a:off x="2498760" y="3758400"/>
                  <a:ext cx="1162080" cy="981720"/>
                </a:xfrm>
                <a:custGeom>
                  <a:avLst/>
                  <a:gdLst/>
                  <a:ahLst/>
                  <a:rect l="l" t="t" r="r" b="b"/>
                  <a:pathLst>
                    <a:path w="2107" h="2050">
                      <a:moveTo>
                        <a:pt x="1327" y="32"/>
                      </a:moveTo>
                      <a:lnTo>
                        <a:pt x="1304" y="26"/>
                      </a:lnTo>
                      <a:lnTo>
                        <a:pt x="1279" y="21"/>
                      </a:lnTo>
                      <a:lnTo>
                        <a:pt x="1245" y="15"/>
                      </a:lnTo>
                      <a:lnTo>
                        <a:pt x="1202" y="8"/>
                      </a:lnTo>
                      <a:lnTo>
                        <a:pt x="1154" y="4"/>
                      </a:lnTo>
                      <a:lnTo>
                        <a:pt x="1036" y="0"/>
                      </a:lnTo>
                      <a:lnTo>
                        <a:pt x="900" y="12"/>
                      </a:lnTo>
                      <a:lnTo>
                        <a:pt x="827" y="26"/>
                      </a:lnTo>
                      <a:lnTo>
                        <a:pt x="789" y="35"/>
                      </a:lnTo>
                      <a:lnTo>
                        <a:pt x="750" y="47"/>
                      </a:lnTo>
                      <a:lnTo>
                        <a:pt x="731" y="53"/>
                      </a:lnTo>
                      <a:lnTo>
                        <a:pt x="712" y="59"/>
                      </a:lnTo>
                      <a:lnTo>
                        <a:pt x="693" y="67"/>
                      </a:lnTo>
                      <a:lnTo>
                        <a:pt x="674" y="75"/>
                      </a:lnTo>
                      <a:lnTo>
                        <a:pt x="655" y="83"/>
                      </a:lnTo>
                      <a:lnTo>
                        <a:pt x="635" y="91"/>
                      </a:lnTo>
                      <a:lnTo>
                        <a:pt x="615" y="101"/>
                      </a:lnTo>
                      <a:lnTo>
                        <a:pt x="596" y="111"/>
                      </a:lnTo>
                      <a:lnTo>
                        <a:pt x="576" y="122"/>
                      </a:lnTo>
                      <a:lnTo>
                        <a:pt x="557" y="133"/>
                      </a:lnTo>
                      <a:lnTo>
                        <a:pt x="537" y="144"/>
                      </a:lnTo>
                      <a:lnTo>
                        <a:pt x="517" y="157"/>
                      </a:lnTo>
                      <a:lnTo>
                        <a:pt x="508" y="163"/>
                      </a:lnTo>
                      <a:lnTo>
                        <a:pt x="498" y="170"/>
                      </a:lnTo>
                      <a:lnTo>
                        <a:pt x="489" y="176"/>
                      </a:lnTo>
                      <a:lnTo>
                        <a:pt x="479" y="184"/>
                      </a:lnTo>
                      <a:lnTo>
                        <a:pt x="441" y="213"/>
                      </a:lnTo>
                      <a:lnTo>
                        <a:pt x="404" y="243"/>
                      </a:lnTo>
                      <a:lnTo>
                        <a:pt x="367" y="273"/>
                      </a:lnTo>
                      <a:lnTo>
                        <a:pt x="334" y="304"/>
                      </a:lnTo>
                      <a:lnTo>
                        <a:pt x="300" y="334"/>
                      </a:lnTo>
                      <a:lnTo>
                        <a:pt x="270" y="366"/>
                      </a:lnTo>
                      <a:lnTo>
                        <a:pt x="240" y="396"/>
                      </a:lnTo>
                      <a:lnTo>
                        <a:pt x="213" y="427"/>
                      </a:lnTo>
                      <a:lnTo>
                        <a:pt x="185" y="457"/>
                      </a:lnTo>
                      <a:lnTo>
                        <a:pt x="161" y="489"/>
                      </a:lnTo>
                      <a:lnTo>
                        <a:pt x="139" y="519"/>
                      </a:lnTo>
                      <a:lnTo>
                        <a:pt x="118" y="551"/>
                      </a:lnTo>
                      <a:lnTo>
                        <a:pt x="98" y="583"/>
                      </a:lnTo>
                      <a:lnTo>
                        <a:pt x="80" y="617"/>
                      </a:lnTo>
                      <a:lnTo>
                        <a:pt x="64" y="648"/>
                      </a:lnTo>
                      <a:lnTo>
                        <a:pt x="37" y="716"/>
                      </a:lnTo>
                      <a:lnTo>
                        <a:pt x="5" y="856"/>
                      </a:lnTo>
                      <a:lnTo>
                        <a:pt x="0" y="1006"/>
                      </a:lnTo>
                      <a:lnTo>
                        <a:pt x="8" y="1086"/>
                      </a:lnTo>
                      <a:lnTo>
                        <a:pt x="24" y="1170"/>
                      </a:lnTo>
                      <a:lnTo>
                        <a:pt x="35" y="1214"/>
                      </a:lnTo>
                      <a:lnTo>
                        <a:pt x="48" y="1258"/>
                      </a:lnTo>
                      <a:lnTo>
                        <a:pt x="63" y="1303"/>
                      </a:lnTo>
                      <a:lnTo>
                        <a:pt x="80" y="1349"/>
                      </a:lnTo>
                      <a:lnTo>
                        <a:pt x="98" y="1396"/>
                      </a:lnTo>
                      <a:lnTo>
                        <a:pt x="117" y="1440"/>
                      </a:lnTo>
                      <a:lnTo>
                        <a:pt x="126" y="1463"/>
                      </a:lnTo>
                      <a:lnTo>
                        <a:pt x="138" y="1483"/>
                      </a:lnTo>
                      <a:lnTo>
                        <a:pt x="147" y="1504"/>
                      </a:lnTo>
                      <a:lnTo>
                        <a:pt x="158" y="1523"/>
                      </a:lnTo>
                      <a:lnTo>
                        <a:pt x="169" y="1544"/>
                      </a:lnTo>
                      <a:lnTo>
                        <a:pt x="181" y="1563"/>
                      </a:lnTo>
                      <a:lnTo>
                        <a:pt x="192" y="1582"/>
                      </a:lnTo>
                      <a:lnTo>
                        <a:pt x="205" y="1600"/>
                      </a:lnTo>
                      <a:lnTo>
                        <a:pt x="216" y="1619"/>
                      </a:lnTo>
                      <a:lnTo>
                        <a:pt x="229" y="1637"/>
                      </a:lnTo>
                      <a:lnTo>
                        <a:pt x="252" y="1670"/>
                      </a:lnTo>
                      <a:lnTo>
                        <a:pt x="280" y="1704"/>
                      </a:lnTo>
                      <a:lnTo>
                        <a:pt x="307" y="1734"/>
                      </a:lnTo>
                      <a:lnTo>
                        <a:pt x="334" y="1764"/>
                      </a:lnTo>
                      <a:lnTo>
                        <a:pt x="363" y="1791"/>
                      </a:lnTo>
                      <a:lnTo>
                        <a:pt x="391" y="1819"/>
                      </a:lnTo>
                      <a:lnTo>
                        <a:pt x="422" y="1843"/>
                      </a:lnTo>
                      <a:lnTo>
                        <a:pt x="454" y="1866"/>
                      </a:lnTo>
                      <a:lnTo>
                        <a:pt x="468" y="1878"/>
                      </a:lnTo>
                      <a:lnTo>
                        <a:pt x="484" y="1887"/>
                      </a:lnTo>
                      <a:lnTo>
                        <a:pt x="500" y="1898"/>
                      </a:lnTo>
                      <a:lnTo>
                        <a:pt x="517" y="1908"/>
                      </a:lnTo>
                      <a:lnTo>
                        <a:pt x="533" y="1918"/>
                      </a:lnTo>
                      <a:lnTo>
                        <a:pt x="549" y="1927"/>
                      </a:lnTo>
                      <a:lnTo>
                        <a:pt x="567" y="1935"/>
                      </a:lnTo>
                      <a:lnTo>
                        <a:pt x="583" y="1945"/>
                      </a:lnTo>
                      <a:lnTo>
                        <a:pt x="600" y="1953"/>
                      </a:lnTo>
                      <a:lnTo>
                        <a:pt x="618" y="1961"/>
                      </a:lnTo>
                      <a:lnTo>
                        <a:pt x="635" y="1967"/>
                      </a:lnTo>
                      <a:lnTo>
                        <a:pt x="651" y="1975"/>
                      </a:lnTo>
                      <a:lnTo>
                        <a:pt x="671" y="1981"/>
                      </a:lnTo>
                      <a:lnTo>
                        <a:pt x="687" y="1988"/>
                      </a:lnTo>
                      <a:lnTo>
                        <a:pt x="706" y="1994"/>
                      </a:lnTo>
                      <a:lnTo>
                        <a:pt x="723" y="2001"/>
                      </a:lnTo>
                      <a:lnTo>
                        <a:pt x="760" y="2010"/>
                      </a:lnTo>
                      <a:lnTo>
                        <a:pt x="797" y="2020"/>
                      </a:lnTo>
                      <a:lnTo>
                        <a:pt x="833" y="2028"/>
                      </a:lnTo>
                      <a:lnTo>
                        <a:pt x="872" y="2034"/>
                      </a:lnTo>
                      <a:lnTo>
                        <a:pt x="908" y="2040"/>
                      </a:lnTo>
                      <a:lnTo>
                        <a:pt x="985" y="2047"/>
                      </a:lnTo>
                      <a:lnTo>
                        <a:pt x="1063" y="2050"/>
                      </a:lnTo>
                      <a:lnTo>
                        <a:pt x="1215" y="2042"/>
                      </a:lnTo>
                      <a:lnTo>
                        <a:pt x="1287" y="2033"/>
                      </a:lnTo>
                      <a:lnTo>
                        <a:pt x="1355" y="2020"/>
                      </a:lnTo>
                      <a:lnTo>
                        <a:pt x="1389" y="2012"/>
                      </a:lnTo>
                      <a:lnTo>
                        <a:pt x="1422" y="2002"/>
                      </a:lnTo>
                      <a:lnTo>
                        <a:pt x="1454" y="1993"/>
                      </a:lnTo>
                      <a:lnTo>
                        <a:pt x="1485" y="1980"/>
                      </a:lnTo>
                      <a:lnTo>
                        <a:pt x="1515" y="1967"/>
                      </a:lnTo>
                      <a:lnTo>
                        <a:pt x="1531" y="1961"/>
                      </a:lnTo>
                      <a:lnTo>
                        <a:pt x="1545" y="1954"/>
                      </a:lnTo>
                      <a:lnTo>
                        <a:pt x="1560" y="1946"/>
                      </a:lnTo>
                      <a:lnTo>
                        <a:pt x="1576" y="1940"/>
                      </a:lnTo>
                      <a:lnTo>
                        <a:pt x="1590" y="1932"/>
                      </a:lnTo>
                      <a:lnTo>
                        <a:pt x="1603" y="1924"/>
                      </a:lnTo>
                      <a:lnTo>
                        <a:pt x="1617" y="1914"/>
                      </a:lnTo>
                      <a:lnTo>
                        <a:pt x="1631" y="1906"/>
                      </a:lnTo>
                      <a:lnTo>
                        <a:pt x="1644" y="1897"/>
                      </a:lnTo>
                      <a:lnTo>
                        <a:pt x="1659" y="1887"/>
                      </a:lnTo>
                      <a:lnTo>
                        <a:pt x="1671" y="1879"/>
                      </a:lnTo>
                      <a:lnTo>
                        <a:pt x="1686" y="1868"/>
                      </a:lnTo>
                      <a:lnTo>
                        <a:pt x="1711" y="1847"/>
                      </a:lnTo>
                      <a:lnTo>
                        <a:pt x="1737" y="1825"/>
                      </a:lnTo>
                      <a:lnTo>
                        <a:pt x="1761" y="1803"/>
                      </a:lnTo>
                      <a:lnTo>
                        <a:pt x="1785" y="1777"/>
                      </a:lnTo>
                      <a:lnTo>
                        <a:pt x="1809" y="1752"/>
                      </a:lnTo>
                      <a:lnTo>
                        <a:pt x="1831" y="1724"/>
                      </a:lnTo>
                      <a:lnTo>
                        <a:pt x="1853" y="1696"/>
                      </a:lnTo>
                      <a:lnTo>
                        <a:pt x="1874" y="1667"/>
                      </a:lnTo>
                      <a:lnTo>
                        <a:pt x="1895" y="1635"/>
                      </a:lnTo>
                      <a:lnTo>
                        <a:pt x="1916" y="1602"/>
                      </a:lnTo>
                      <a:lnTo>
                        <a:pt x="1935" y="1568"/>
                      </a:lnTo>
                      <a:lnTo>
                        <a:pt x="1954" y="1533"/>
                      </a:lnTo>
                      <a:lnTo>
                        <a:pt x="1971" y="1496"/>
                      </a:lnTo>
                      <a:lnTo>
                        <a:pt x="1981" y="1477"/>
                      </a:lnTo>
                      <a:lnTo>
                        <a:pt x="1991" y="1458"/>
                      </a:lnTo>
                      <a:lnTo>
                        <a:pt x="2006" y="1421"/>
                      </a:lnTo>
                      <a:lnTo>
                        <a:pt x="2021" y="1383"/>
                      </a:lnTo>
                      <a:lnTo>
                        <a:pt x="2035" y="1346"/>
                      </a:lnTo>
                      <a:lnTo>
                        <a:pt x="2046" y="1309"/>
                      </a:lnTo>
                      <a:lnTo>
                        <a:pt x="2058" y="1271"/>
                      </a:lnTo>
                      <a:lnTo>
                        <a:pt x="2077" y="1199"/>
                      </a:lnTo>
                      <a:lnTo>
                        <a:pt x="2101" y="1057"/>
                      </a:lnTo>
                      <a:lnTo>
                        <a:pt x="2107" y="923"/>
                      </a:lnTo>
                      <a:lnTo>
                        <a:pt x="2097" y="799"/>
                      </a:lnTo>
                      <a:lnTo>
                        <a:pt x="2086" y="741"/>
                      </a:lnTo>
                      <a:lnTo>
                        <a:pt x="2078" y="714"/>
                      </a:lnTo>
                      <a:lnTo>
                        <a:pt x="2070" y="687"/>
                      </a:lnTo>
                      <a:lnTo>
                        <a:pt x="2051" y="636"/>
                      </a:lnTo>
                      <a:lnTo>
                        <a:pt x="2040" y="610"/>
                      </a:lnTo>
                      <a:lnTo>
                        <a:pt x="2029" y="588"/>
                      </a:lnTo>
                      <a:lnTo>
                        <a:pt x="2016" y="565"/>
                      </a:lnTo>
                      <a:lnTo>
                        <a:pt x="2002" y="543"/>
                      </a:lnTo>
                      <a:lnTo>
                        <a:pt x="1987" y="522"/>
                      </a:lnTo>
                      <a:lnTo>
                        <a:pt x="1971" y="505"/>
                      </a:lnTo>
                      <a:lnTo>
                        <a:pt x="1955" y="486"/>
                      </a:lnTo>
                      <a:lnTo>
                        <a:pt x="1939" y="468"/>
                      </a:lnTo>
                      <a:lnTo>
                        <a:pt x="1920" y="449"/>
                      </a:lnTo>
                      <a:lnTo>
                        <a:pt x="1903" y="431"/>
                      </a:lnTo>
                      <a:lnTo>
                        <a:pt x="1863" y="398"/>
                      </a:lnTo>
                      <a:lnTo>
                        <a:pt x="1821" y="366"/>
                      </a:lnTo>
                      <a:lnTo>
                        <a:pt x="1810" y="358"/>
                      </a:lnTo>
                      <a:lnTo>
                        <a:pt x="1801" y="350"/>
                      </a:lnTo>
                      <a:lnTo>
                        <a:pt x="1789" y="342"/>
                      </a:lnTo>
                      <a:lnTo>
                        <a:pt x="1778" y="334"/>
                      </a:lnTo>
                      <a:lnTo>
                        <a:pt x="1767" y="326"/>
                      </a:lnTo>
                      <a:lnTo>
                        <a:pt x="1756" y="320"/>
                      </a:lnTo>
                      <a:lnTo>
                        <a:pt x="1745" y="312"/>
                      </a:lnTo>
                      <a:lnTo>
                        <a:pt x="1734" y="305"/>
                      </a:lnTo>
                      <a:lnTo>
                        <a:pt x="1722" y="299"/>
                      </a:lnTo>
                      <a:lnTo>
                        <a:pt x="1711" y="291"/>
                      </a:lnTo>
                      <a:lnTo>
                        <a:pt x="1700" y="285"/>
                      </a:lnTo>
                      <a:lnTo>
                        <a:pt x="1687" y="278"/>
                      </a:lnTo>
                      <a:lnTo>
                        <a:pt x="1676" y="272"/>
                      </a:lnTo>
                      <a:lnTo>
                        <a:pt x="1665" y="265"/>
                      </a:lnTo>
                      <a:lnTo>
                        <a:pt x="1654" y="259"/>
                      </a:lnTo>
                      <a:lnTo>
                        <a:pt x="1643" y="254"/>
                      </a:lnTo>
                      <a:lnTo>
                        <a:pt x="1620" y="241"/>
                      </a:lnTo>
                      <a:lnTo>
                        <a:pt x="1598" y="232"/>
                      </a:lnTo>
                      <a:lnTo>
                        <a:pt x="1576" y="221"/>
                      </a:lnTo>
                      <a:lnTo>
                        <a:pt x="1553" y="211"/>
                      </a:lnTo>
                      <a:lnTo>
                        <a:pt x="1531" y="203"/>
                      </a:lnTo>
                      <a:lnTo>
                        <a:pt x="1509" y="195"/>
                      </a:lnTo>
                      <a:lnTo>
                        <a:pt x="1488" y="187"/>
                      </a:lnTo>
                      <a:lnTo>
                        <a:pt x="1467" y="181"/>
                      </a:lnTo>
                      <a:lnTo>
                        <a:pt x="1427" y="171"/>
                      </a:lnTo>
                      <a:lnTo>
                        <a:pt x="1390" y="163"/>
                      </a:lnTo>
                      <a:lnTo>
                        <a:pt x="1327" y="160"/>
                      </a:lnTo>
                      <a:lnTo>
                        <a:pt x="1220" y="168"/>
                      </a:lnTo>
                      <a:lnTo>
                        <a:pt x="1132" y="176"/>
                      </a:lnTo>
                      <a:lnTo>
                        <a:pt x="1052" y="184"/>
                      </a:lnTo>
                      <a:lnTo>
                        <a:pt x="1071" y="189"/>
                      </a:lnTo>
                      <a:lnTo>
                        <a:pt x="1092" y="194"/>
                      </a:lnTo>
                      <a:lnTo>
                        <a:pt x="1121" y="202"/>
                      </a:lnTo>
                      <a:lnTo>
                        <a:pt x="1156" y="213"/>
                      </a:lnTo>
                      <a:lnTo>
                        <a:pt x="1175" y="219"/>
                      </a:lnTo>
                      <a:lnTo>
                        <a:pt x="1196" y="227"/>
                      </a:lnTo>
                      <a:lnTo>
                        <a:pt x="1218" y="235"/>
                      </a:lnTo>
                      <a:lnTo>
                        <a:pt x="1240" y="243"/>
                      </a:lnTo>
                      <a:lnTo>
                        <a:pt x="1264" y="253"/>
                      </a:lnTo>
                      <a:lnTo>
                        <a:pt x="1288" y="262"/>
                      </a:lnTo>
                      <a:lnTo>
                        <a:pt x="1314" y="273"/>
                      </a:lnTo>
                      <a:lnTo>
                        <a:pt x="1338" y="286"/>
                      </a:lnTo>
                      <a:lnTo>
                        <a:pt x="1351" y="291"/>
                      </a:lnTo>
                      <a:lnTo>
                        <a:pt x="1363" y="297"/>
                      </a:lnTo>
                      <a:lnTo>
                        <a:pt x="1376" y="304"/>
                      </a:lnTo>
                      <a:lnTo>
                        <a:pt x="1390" y="312"/>
                      </a:lnTo>
                      <a:lnTo>
                        <a:pt x="1403" y="318"/>
                      </a:lnTo>
                      <a:lnTo>
                        <a:pt x="1416" y="326"/>
                      </a:lnTo>
                      <a:lnTo>
                        <a:pt x="1429" y="332"/>
                      </a:lnTo>
                      <a:lnTo>
                        <a:pt x="1443" y="340"/>
                      </a:lnTo>
                      <a:lnTo>
                        <a:pt x="1456" y="348"/>
                      </a:lnTo>
                      <a:lnTo>
                        <a:pt x="1469" y="356"/>
                      </a:lnTo>
                      <a:lnTo>
                        <a:pt x="1481" y="364"/>
                      </a:lnTo>
                      <a:lnTo>
                        <a:pt x="1494" y="372"/>
                      </a:lnTo>
                      <a:lnTo>
                        <a:pt x="1507" y="382"/>
                      </a:lnTo>
                      <a:lnTo>
                        <a:pt x="1520" y="390"/>
                      </a:lnTo>
                      <a:lnTo>
                        <a:pt x="1532" y="399"/>
                      </a:lnTo>
                      <a:lnTo>
                        <a:pt x="1545" y="409"/>
                      </a:lnTo>
                      <a:lnTo>
                        <a:pt x="1569" y="428"/>
                      </a:lnTo>
                      <a:lnTo>
                        <a:pt x="1595" y="449"/>
                      </a:lnTo>
                      <a:lnTo>
                        <a:pt x="1617" y="470"/>
                      </a:lnTo>
                      <a:lnTo>
                        <a:pt x="1639" y="492"/>
                      </a:lnTo>
                      <a:lnTo>
                        <a:pt x="1662" y="514"/>
                      </a:lnTo>
                      <a:lnTo>
                        <a:pt x="1681" y="540"/>
                      </a:lnTo>
                      <a:lnTo>
                        <a:pt x="1700" y="564"/>
                      </a:lnTo>
                      <a:lnTo>
                        <a:pt x="1719" y="588"/>
                      </a:lnTo>
                      <a:lnTo>
                        <a:pt x="1737" y="612"/>
                      </a:lnTo>
                      <a:lnTo>
                        <a:pt x="1753" y="636"/>
                      </a:lnTo>
                      <a:lnTo>
                        <a:pt x="1769" y="660"/>
                      </a:lnTo>
                      <a:lnTo>
                        <a:pt x="1783" y="684"/>
                      </a:lnTo>
                      <a:lnTo>
                        <a:pt x="1797" y="706"/>
                      </a:lnTo>
                      <a:lnTo>
                        <a:pt x="1810" y="730"/>
                      </a:lnTo>
                      <a:lnTo>
                        <a:pt x="1823" y="752"/>
                      </a:lnTo>
                      <a:lnTo>
                        <a:pt x="1836" y="776"/>
                      </a:lnTo>
                      <a:lnTo>
                        <a:pt x="1845" y="799"/>
                      </a:lnTo>
                      <a:lnTo>
                        <a:pt x="1856" y="821"/>
                      </a:lnTo>
                      <a:lnTo>
                        <a:pt x="1874" y="866"/>
                      </a:lnTo>
                      <a:lnTo>
                        <a:pt x="1888" y="910"/>
                      </a:lnTo>
                      <a:lnTo>
                        <a:pt x="1909" y="1001"/>
                      </a:lnTo>
                      <a:lnTo>
                        <a:pt x="1919" y="1091"/>
                      </a:lnTo>
                      <a:lnTo>
                        <a:pt x="1919" y="1182"/>
                      </a:lnTo>
                      <a:lnTo>
                        <a:pt x="1909" y="1274"/>
                      </a:lnTo>
                      <a:lnTo>
                        <a:pt x="1898" y="1322"/>
                      </a:lnTo>
                      <a:lnTo>
                        <a:pt x="1885" y="1373"/>
                      </a:lnTo>
                      <a:lnTo>
                        <a:pt x="1866" y="1424"/>
                      </a:lnTo>
                      <a:lnTo>
                        <a:pt x="1855" y="1451"/>
                      </a:lnTo>
                      <a:lnTo>
                        <a:pt x="1842" y="1477"/>
                      </a:lnTo>
                      <a:lnTo>
                        <a:pt x="1829" y="1504"/>
                      </a:lnTo>
                      <a:lnTo>
                        <a:pt x="1813" y="1530"/>
                      </a:lnTo>
                      <a:lnTo>
                        <a:pt x="1797" y="1557"/>
                      </a:lnTo>
                      <a:lnTo>
                        <a:pt x="1781" y="1582"/>
                      </a:lnTo>
                      <a:lnTo>
                        <a:pt x="1762" y="1608"/>
                      </a:lnTo>
                      <a:lnTo>
                        <a:pt x="1742" y="1633"/>
                      </a:lnTo>
                      <a:lnTo>
                        <a:pt x="1721" y="1659"/>
                      </a:lnTo>
                      <a:lnTo>
                        <a:pt x="1697" y="1681"/>
                      </a:lnTo>
                      <a:lnTo>
                        <a:pt x="1673" y="1705"/>
                      </a:lnTo>
                      <a:lnTo>
                        <a:pt x="1647" y="1729"/>
                      </a:lnTo>
                      <a:lnTo>
                        <a:pt x="1619" y="1750"/>
                      </a:lnTo>
                      <a:lnTo>
                        <a:pt x="1604" y="1761"/>
                      </a:lnTo>
                      <a:lnTo>
                        <a:pt x="1590" y="1771"/>
                      </a:lnTo>
                      <a:lnTo>
                        <a:pt x="1576" y="1780"/>
                      </a:lnTo>
                      <a:lnTo>
                        <a:pt x="1560" y="1790"/>
                      </a:lnTo>
                      <a:lnTo>
                        <a:pt x="1544" y="1801"/>
                      </a:lnTo>
                      <a:lnTo>
                        <a:pt x="1528" y="1809"/>
                      </a:lnTo>
                      <a:lnTo>
                        <a:pt x="1510" y="1819"/>
                      </a:lnTo>
                      <a:lnTo>
                        <a:pt x="1493" y="1827"/>
                      </a:lnTo>
                      <a:lnTo>
                        <a:pt x="1477" y="1835"/>
                      </a:lnTo>
                      <a:lnTo>
                        <a:pt x="1457" y="1843"/>
                      </a:lnTo>
                      <a:lnTo>
                        <a:pt x="1440" y="1851"/>
                      </a:lnTo>
                      <a:lnTo>
                        <a:pt x="1421" y="1859"/>
                      </a:lnTo>
                      <a:lnTo>
                        <a:pt x="1402" y="1865"/>
                      </a:lnTo>
                      <a:lnTo>
                        <a:pt x="1382" y="1871"/>
                      </a:lnTo>
                      <a:lnTo>
                        <a:pt x="1362" y="1878"/>
                      </a:lnTo>
                      <a:lnTo>
                        <a:pt x="1341" y="1882"/>
                      </a:lnTo>
                      <a:lnTo>
                        <a:pt x="1298" y="1894"/>
                      </a:lnTo>
                      <a:lnTo>
                        <a:pt x="1255" y="1902"/>
                      </a:lnTo>
                      <a:lnTo>
                        <a:pt x="1208" y="1908"/>
                      </a:lnTo>
                      <a:lnTo>
                        <a:pt x="1111" y="1916"/>
                      </a:lnTo>
                      <a:lnTo>
                        <a:pt x="1011" y="1913"/>
                      </a:lnTo>
                      <a:lnTo>
                        <a:pt x="915" y="1897"/>
                      </a:lnTo>
                      <a:lnTo>
                        <a:pt x="867" y="1884"/>
                      </a:lnTo>
                      <a:lnTo>
                        <a:pt x="845" y="1878"/>
                      </a:lnTo>
                      <a:lnTo>
                        <a:pt x="822" y="1870"/>
                      </a:lnTo>
                      <a:lnTo>
                        <a:pt x="800" y="1862"/>
                      </a:lnTo>
                      <a:lnTo>
                        <a:pt x="778" y="1854"/>
                      </a:lnTo>
                      <a:lnTo>
                        <a:pt x="755" y="1844"/>
                      </a:lnTo>
                      <a:lnTo>
                        <a:pt x="733" y="1835"/>
                      </a:lnTo>
                      <a:lnTo>
                        <a:pt x="712" y="1823"/>
                      </a:lnTo>
                      <a:lnTo>
                        <a:pt x="691" y="1814"/>
                      </a:lnTo>
                      <a:lnTo>
                        <a:pt x="671" y="1803"/>
                      </a:lnTo>
                      <a:lnTo>
                        <a:pt x="650" y="1790"/>
                      </a:lnTo>
                      <a:lnTo>
                        <a:pt x="631" y="1779"/>
                      </a:lnTo>
                      <a:lnTo>
                        <a:pt x="620" y="1772"/>
                      </a:lnTo>
                      <a:lnTo>
                        <a:pt x="610" y="1766"/>
                      </a:lnTo>
                      <a:lnTo>
                        <a:pt x="600" y="1758"/>
                      </a:lnTo>
                      <a:lnTo>
                        <a:pt x="591" y="1752"/>
                      </a:lnTo>
                      <a:lnTo>
                        <a:pt x="581" y="1745"/>
                      </a:lnTo>
                      <a:lnTo>
                        <a:pt x="572" y="1739"/>
                      </a:lnTo>
                      <a:lnTo>
                        <a:pt x="562" y="1732"/>
                      </a:lnTo>
                      <a:lnTo>
                        <a:pt x="552" y="1726"/>
                      </a:lnTo>
                      <a:lnTo>
                        <a:pt x="535" y="1712"/>
                      </a:lnTo>
                      <a:lnTo>
                        <a:pt x="498" y="1681"/>
                      </a:lnTo>
                      <a:lnTo>
                        <a:pt x="465" y="1653"/>
                      </a:lnTo>
                      <a:lnTo>
                        <a:pt x="431" y="1621"/>
                      </a:lnTo>
                      <a:lnTo>
                        <a:pt x="401" y="1589"/>
                      </a:lnTo>
                      <a:lnTo>
                        <a:pt x="371" y="1557"/>
                      </a:lnTo>
                      <a:lnTo>
                        <a:pt x="342" y="1525"/>
                      </a:lnTo>
                      <a:lnTo>
                        <a:pt x="316" y="1491"/>
                      </a:lnTo>
                      <a:lnTo>
                        <a:pt x="291" y="1458"/>
                      </a:lnTo>
                      <a:lnTo>
                        <a:pt x="268" y="1424"/>
                      </a:lnTo>
                      <a:lnTo>
                        <a:pt x="248" y="1392"/>
                      </a:lnTo>
                      <a:lnTo>
                        <a:pt x="229" y="1359"/>
                      </a:lnTo>
                      <a:lnTo>
                        <a:pt x="211" y="1327"/>
                      </a:lnTo>
                      <a:lnTo>
                        <a:pt x="197" y="1297"/>
                      </a:lnTo>
                      <a:lnTo>
                        <a:pt x="173" y="1238"/>
                      </a:lnTo>
                      <a:lnTo>
                        <a:pt x="150" y="1134"/>
                      </a:lnTo>
                      <a:lnTo>
                        <a:pt x="147" y="1041"/>
                      </a:lnTo>
                      <a:lnTo>
                        <a:pt x="150" y="945"/>
                      </a:lnTo>
                      <a:lnTo>
                        <a:pt x="160" y="848"/>
                      </a:lnTo>
                      <a:lnTo>
                        <a:pt x="168" y="799"/>
                      </a:lnTo>
                      <a:lnTo>
                        <a:pt x="177" y="751"/>
                      </a:lnTo>
                      <a:lnTo>
                        <a:pt x="190" y="703"/>
                      </a:lnTo>
                      <a:lnTo>
                        <a:pt x="206" y="656"/>
                      </a:lnTo>
                      <a:lnTo>
                        <a:pt x="224" y="610"/>
                      </a:lnTo>
                      <a:lnTo>
                        <a:pt x="233" y="588"/>
                      </a:lnTo>
                      <a:lnTo>
                        <a:pt x="244" y="567"/>
                      </a:lnTo>
                      <a:lnTo>
                        <a:pt x="256" y="545"/>
                      </a:lnTo>
                      <a:lnTo>
                        <a:pt x="267" y="524"/>
                      </a:lnTo>
                      <a:lnTo>
                        <a:pt x="281" y="503"/>
                      </a:lnTo>
                      <a:lnTo>
                        <a:pt x="294" y="484"/>
                      </a:lnTo>
                      <a:lnTo>
                        <a:pt x="310" y="465"/>
                      </a:lnTo>
                      <a:lnTo>
                        <a:pt x="326" y="446"/>
                      </a:lnTo>
                      <a:lnTo>
                        <a:pt x="342" y="428"/>
                      </a:lnTo>
                      <a:lnTo>
                        <a:pt x="359" y="411"/>
                      </a:lnTo>
                      <a:lnTo>
                        <a:pt x="394" y="377"/>
                      </a:lnTo>
                      <a:lnTo>
                        <a:pt x="430" y="347"/>
                      </a:lnTo>
                      <a:lnTo>
                        <a:pt x="465" y="316"/>
                      </a:lnTo>
                      <a:lnTo>
                        <a:pt x="498" y="289"/>
                      </a:lnTo>
                      <a:lnTo>
                        <a:pt x="532" y="262"/>
                      </a:lnTo>
                      <a:lnTo>
                        <a:pt x="540" y="256"/>
                      </a:lnTo>
                      <a:lnTo>
                        <a:pt x="549" y="249"/>
                      </a:lnTo>
                      <a:lnTo>
                        <a:pt x="557" y="243"/>
                      </a:lnTo>
                      <a:lnTo>
                        <a:pt x="565" y="238"/>
                      </a:lnTo>
                      <a:lnTo>
                        <a:pt x="581" y="227"/>
                      </a:lnTo>
                      <a:lnTo>
                        <a:pt x="599" y="216"/>
                      </a:lnTo>
                      <a:lnTo>
                        <a:pt x="615" y="205"/>
                      </a:lnTo>
                      <a:lnTo>
                        <a:pt x="632" y="194"/>
                      </a:lnTo>
                      <a:lnTo>
                        <a:pt x="648" y="184"/>
                      </a:lnTo>
                      <a:lnTo>
                        <a:pt x="666" y="176"/>
                      </a:lnTo>
                      <a:lnTo>
                        <a:pt x="683" y="166"/>
                      </a:lnTo>
                      <a:lnTo>
                        <a:pt x="699" y="158"/>
                      </a:lnTo>
                      <a:lnTo>
                        <a:pt x="717" y="150"/>
                      </a:lnTo>
                      <a:lnTo>
                        <a:pt x="734" y="142"/>
                      </a:lnTo>
                      <a:lnTo>
                        <a:pt x="752" y="136"/>
                      </a:lnTo>
                      <a:lnTo>
                        <a:pt x="770" y="130"/>
                      </a:lnTo>
                      <a:lnTo>
                        <a:pt x="787" y="123"/>
                      </a:lnTo>
                      <a:lnTo>
                        <a:pt x="805" y="118"/>
                      </a:lnTo>
                      <a:lnTo>
                        <a:pt x="841" y="109"/>
                      </a:lnTo>
                      <a:lnTo>
                        <a:pt x="880" y="101"/>
                      </a:lnTo>
                      <a:lnTo>
                        <a:pt x="918" y="96"/>
                      </a:lnTo>
                      <a:lnTo>
                        <a:pt x="996" y="87"/>
                      </a:lnTo>
                      <a:lnTo>
                        <a:pt x="1071" y="75"/>
                      </a:lnTo>
                      <a:lnTo>
                        <a:pt x="1140" y="66"/>
                      </a:lnTo>
                      <a:lnTo>
                        <a:pt x="1200" y="55"/>
                      </a:lnTo>
                      <a:lnTo>
                        <a:pt x="1252" y="47"/>
                      </a:lnTo>
                      <a:lnTo>
                        <a:pt x="1291" y="39"/>
                      </a:lnTo>
                      <a:lnTo>
                        <a:pt x="1327" y="32"/>
                      </a:lnTo>
                      <a:lnTo>
                        <a:pt x="1327"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rot="811200">
                  <a:off x="2539800" y="4022640"/>
                  <a:ext cx="1005480" cy="385920"/>
                </a:xfrm>
                <a:custGeom>
                  <a:avLst/>
                  <a:gdLst/>
                  <a:ahLst/>
                  <a:rect l="l" t="t" r="r" b="b"/>
                  <a:pathLst>
                    <a:path w="1822" h="807">
                      <a:moveTo>
                        <a:pt x="0" y="712"/>
                      </a:moveTo>
                      <a:lnTo>
                        <a:pt x="49" y="717"/>
                      </a:lnTo>
                      <a:lnTo>
                        <a:pt x="201" y="714"/>
                      </a:lnTo>
                      <a:lnTo>
                        <a:pt x="312" y="704"/>
                      </a:lnTo>
                      <a:lnTo>
                        <a:pt x="379" y="696"/>
                      </a:lnTo>
                      <a:lnTo>
                        <a:pt x="451" y="685"/>
                      </a:lnTo>
                      <a:lnTo>
                        <a:pt x="489" y="679"/>
                      </a:lnTo>
                      <a:lnTo>
                        <a:pt x="529" y="671"/>
                      </a:lnTo>
                      <a:lnTo>
                        <a:pt x="571" y="663"/>
                      </a:lnTo>
                      <a:lnTo>
                        <a:pt x="614" y="653"/>
                      </a:lnTo>
                      <a:lnTo>
                        <a:pt x="659" y="644"/>
                      </a:lnTo>
                      <a:lnTo>
                        <a:pt x="705" y="633"/>
                      </a:lnTo>
                      <a:lnTo>
                        <a:pt x="753" y="620"/>
                      </a:lnTo>
                      <a:lnTo>
                        <a:pt x="778" y="615"/>
                      </a:lnTo>
                      <a:lnTo>
                        <a:pt x="802" y="607"/>
                      </a:lnTo>
                      <a:lnTo>
                        <a:pt x="828" y="601"/>
                      </a:lnTo>
                      <a:lnTo>
                        <a:pt x="853" y="593"/>
                      </a:lnTo>
                      <a:lnTo>
                        <a:pt x="877" y="585"/>
                      </a:lnTo>
                      <a:lnTo>
                        <a:pt x="903" y="577"/>
                      </a:lnTo>
                      <a:lnTo>
                        <a:pt x="927" y="569"/>
                      </a:lnTo>
                      <a:lnTo>
                        <a:pt x="951" y="559"/>
                      </a:lnTo>
                      <a:lnTo>
                        <a:pt x="975" y="550"/>
                      </a:lnTo>
                      <a:lnTo>
                        <a:pt x="999" y="540"/>
                      </a:lnTo>
                      <a:lnTo>
                        <a:pt x="1023" y="530"/>
                      </a:lnTo>
                      <a:lnTo>
                        <a:pt x="1047" y="519"/>
                      </a:lnTo>
                      <a:lnTo>
                        <a:pt x="1069" y="508"/>
                      </a:lnTo>
                      <a:lnTo>
                        <a:pt x="1093" y="497"/>
                      </a:lnTo>
                      <a:lnTo>
                        <a:pt x="1115" y="486"/>
                      </a:lnTo>
                      <a:lnTo>
                        <a:pt x="1137" y="475"/>
                      </a:lnTo>
                      <a:lnTo>
                        <a:pt x="1160" y="463"/>
                      </a:lnTo>
                      <a:lnTo>
                        <a:pt x="1182" y="451"/>
                      </a:lnTo>
                      <a:lnTo>
                        <a:pt x="1203" y="439"/>
                      </a:lnTo>
                      <a:lnTo>
                        <a:pt x="1225" y="427"/>
                      </a:lnTo>
                      <a:lnTo>
                        <a:pt x="1235" y="422"/>
                      </a:lnTo>
                      <a:lnTo>
                        <a:pt x="1246" y="414"/>
                      </a:lnTo>
                      <a:lnTo>
                        <a:pt x="1257" y="409"/>
                      </a:lnTo>
                      <a:lnTo>
                        <a:pt x="1267" y="403"/>
                      </a:lnTo>
                      <a:lnTo>
                        <a:pt x="1278" y="396"/>
                      </a:lnTo>
                      <a:lnTo>
                        <a:pt x="1288" y="390"/>
                      </a:lnTo>
                      <a:lnTo>
                        <a:pt x="1299" y="384"/>
                      </a:lnTo>
                      <a:lnTo>
                        <a:pt x="1308" y="377"/>
                      </a:lnTo>
                      <a:lnTo>
                        <a:pt x="1318" y="371"/>
                      </a:lnTo>
                      <a:lnTo>
                        <a:pt x="1329" y="364"/>
                      </a:lnTo>
                      <a:lnTo>
                        <a:pt x="1339" y="358"/>
                      </a:lnTo>
                      <a:lnTo>
                        <a:pt x="1348" y="352"/>
                      </a:lnTo>
                      <a:lnTo>
                        <a:pt x="1358" y="345"/>
                      </a:lnTo>
                      <a:lnTo>
                        <a:pt x="1367" y="339"/>
                      </a:lnTo>
                      <a:lnTo>
                        <a:pt x="1377" y="332"/>
                      </a:lnTo>
                      <a:lnTo>
                        <a:pt x="1386" y="326"/>
                      </a:lnTo>
                      <a:lnTo>
                        <a:pt x="1396" y="320"/>
                      </a:lnTo>
                      <a:lnTo>
                        <a:pt x="1406" y="313"/>
                      </a:lnTo>
                      <a:lnTo>
                        <a:pt x="1414" y="307"/>
                      </a:lnTo>
                      <a:lnTo>
                        <a:pt x="1423" y="301"/>
                      </a:lnTo>
                      <a:lnTo>
                        <a:pt x="1433" y="294"/>
                      </a:lnTo>
                      <a:lnTo>
                        <a:pt x="1441" y="288"/>
                      </a:lnTo>
                      <a:lnTo>
                        <a:pt x="1450" y="281"/>
                      </a:lnTo>
                      <a:lnTo>
                        <a:pt x="1458" y="275"/>
                      </a:lnTo>
                      <a:lnTo>
                        <a:pt x="1468" y="269"/>
                      </a:lnTo>
                      <a:lnTo>
                        <a:pt x="1476" y="262"/>
                      </a:lnTo>
                      <a:lnTo>
                        <a:pt x="1485" y="256"/>
                      </a:lnTo>
                      <a:lnTo>
                        <a:pt x="1493" y="249"/>
                      </a:lnTo>
                      <a:lnTo>
                        <a:pt x="1525" y="226"/>
                      </a:lnTo>
                      <a:lnTo>
                        <a:pt x="1556" y="200"/>
                      </a:lnTo>
                      <a:lnTo>
                        <a:pt x="1586" y="178"/>
                      </a:lnTo>
                      <a:lnTo>
                        <a:pt x="1613" y="155"/>
                      </a:lnTo>
                      <a:lnTo>
                        <a:pt x="1639" y="133"/>
                      </a:lnTo>
                      <a:lnTo>
                        <a:pt x="1663" y="112"/>
                      </a:lnTo>
                      <a:lnTo>
                        <a:pt x="1683" y="93"/>
                      </a:lnTo>
                      <a:lnTo>
                        <a:pt x="1704" y="75"/>
                      </a:lnTo>
                      <a:lnTo>
                        <a:pt x="1738" y="45"/>
                      </a:lnTo>
                      <a:lnTo>
                        <a:pt x="1762" y="21"/>
                      </a:lnTo>
                      <a:lnTo>
                        <a:pt x="1781" y="0"/>
                      </a:lnTo>
                      <a:lnTo>
                        <a:pt x="1822" y="123"/>
                      </a:lnTo>
                      <a:lnTo>
                        <a:pt x="1803" y="139"/>
                      </a:lnTo>
                      <a:lnTo>
                        <a:pt x="1779" y="158"/>
                      </a:lnTo>
                      <a:lnTo>
                        <a:pt x="1747" y="182"/>
                      </a:lnTo>
                      <a:lnTo>
                        <a:pt x="1709" y="213"/>
                      </a:lnTo>
                      <a:lnTo>
                        <a:pt x="1664" y="246"/>
                      </a:lnTo>
                      <a:lnTo>
                        <a:pt x="1653" y="256"/>
                      </a:lnTo>
                      <a:lnTo>
                        <a:pt x="1640" y="265"/>
                      </a:lnTo>
                      <a:lnTo>
                        <a:pt x="1627" y="275"/>
                      </a:lnTo>
                      <a:lnTo>
                        <a:pt x="1615" y="285"/>
                      </a:lnTo>
                      <a:lnTo>
                        <a:pt x="1602" y="294"/>
                      </a:lnTo>
                      <a:lnTo>
                        <a:pt x="1588" y="304"/>
                      </a:lnTo>
                      <a:lnTo>
                        <a:pt x="1573" y="313"/>
                      </a:lnTo>
                      <a:lnTo>
                        <a:pt x="1560" y="325"/>
                      </a:lnTo>
                      <a:lnTo>
                        <a:pt x="1546" y="334"/>
                      </a:lnTo>
                      <a:lnTo>
                        <a:pt x="1532" y="345"/>
                      </a:lnTo>
                      <a:lnTo>
                        <a:pt x="1516" y="355"/>
                      </a:lnTo>
                      <a:lnTo>
                        <a:pt x="1501" y="366"/>
                      </a:lnTo>
                      <a:lnTo>
                        <a:pt x="1487" y="376"/>
                      </a:lnTo>
                      <a:lnTo>
                        <a:pt x="1471" y="387"/>
                      </a:lnTo>
                      <a:lnTo>
                        <a:pt x="1455" y="396"/>
                      </a:lnTo>
                      <a:lnTo>
                        <a:pt x="1439" y="408"/>
                      </a:lnTo>
                      <a:lnTo>
                        <a:pt x="1423" y="419"/>
                      </a:lnTo>
                      <a:lnTo>
                        <a:pt x="1409" y="428"/>
                      </a:lnTo>
                      <a:lnTo>
                        <a:pt x="1391" y="439"/>
                      </a:lnTo>
                      <a:lnTo>
                        <a:pt x="1375" y="449"/>
                      </a:lnTo>
                      <a:lnTo>
                        <a:pt x="1359" y="460"/>
                      </a:lnTo>
                      <a:lnTo>
                        <a:pt x="1343" y="470"/>
                      </a:lnTo>
                      <a:lnTo>
                        <a:pt x="1327" y="479"/>
                      </a:lnTo>
                      <a:lnTo>
                        <a:pt x="1311" y="491"/>
                      </a:lnTo>
                      <a:lnTo>
                        <a:pt x="1294" y="500"/>
                      </a:lnTo>
                      <a:lnTo>
                        <a:pt x="1278" y="510"/>
                      </a:lnTo>
                      <a:lnTo>
                        <a:pt x="1262" y="519"/>
                      </a:lnTo>
                      <a:lnTo>
                        <a:pt x="1246" y="529"/>
                      </a:lnTo>
                      <a:lnTo>
                        <a:pt x="1228" y="538"/>
                      </a:lnTo>
                      <a:lnTo>
                        <a:pt x="1213" y="548"/>
                      </a:lnTo>
                      <a:lnTo>
                        <a:pt x="1197" y="556"/>
                      </a:lnTo>
                      <a:lnTo>
                        <a:pt x="1181" y="566"/>
                      </a:lnTo>
                      <a:lnTo>
                        <a:pt x="1165" y="574"/>
                      </a:lnTo>
                      <a:lnTo>
                        <a:pt x="1147" y="582"/>
                      </a:lnTo>
                      <a:lnTo>
                        <a:pt x="1131" y="590"/>
                      </a:lnTo>
                      <a:lnTo>
                        <a:pt x="1115" y="597"/>
                      </a:lnTo>
                      <a:lnTo>
                        <a:pt x="1099" y="605"/>
                      </a:lnTo>
                      <a:lnTo>
                        <a:pt x="1085" y="612"/>
                      </a:lnTo>
                      <a:lnTo>
                        <a:pt x="1069" y="618"/>
                      </a:lnTo>
                      <a:lnTo>
                        <a:pt x="1053" y="625"/>
                      </a:lnTo>
                      <a:lnTo>
                        <a:pt x="1037" y="631"/>
                      </a:lnTo>
                      <a:lnTo>
                        <a:pt x="1023" y="637"/>
                      </a:lnTo>
                      <a:lnTo>
                        <a:pt x="1007" y="644"/>
                      </a:lnTo>
                      <a:lnTo>
                        <a:pt x="989" y="649"/>
                      </a:lnTo>
                      <a:lnTo>
                        <a:pt x="956" y="661"/>
                      </a:lnTo>
                      <a:lnTo>
                        <a:pt x="919" y="671"/>
                      </a:lnTo>
                      <a:lnTo>
                        <a:pt x="884" y="682"/>
                      </a:lnTo>
                      <a:lnTo>
                        <a:pt x="847" y="692"/>
                      </a:lnTo>
                      <a:lnTo>
                        <a:pt x="809" y="701"/>
                      </a:lnTo>
                      <a:lnTo>
                        <a:pt x="770" y="709"/>
                      </a:lnTo>
                      <a:lnTo>
                        <a:pt x="732" y="719"/>
                      </a:lnTo>
                      <a:lnTo>
                        <a:pt x="692" y="727"/>
                      </a:lnTo>
                      <a:lnTo>
                        <a:pt x="654" y="735"/>
                      </a:lnTo>
                      <a:lnTo>
                        <a:pt x="616" y="741"/>
                      </a:lnTo>
                      <a:lnTo>
                        <a:pt x="577" y="748"/>
                      </a:lnTo>
                      <a:lnTo>
                        <a:pt x="539" y="754"/>
                      </a:lnTo>
                      <a:lnTo>
                        <a:pt x="466" y="765"/>
                      </a:lnTo>
                      <a:lnTo>
                        <a:pt x="395" y="776"/>
                      </a:lnTo>
                      <a:lnTo>
                        <a:pt x="330" y="784"/>
                      </a:lnTo>
                      <a:lnTo>
                        <a:pt x="272" y="791"/>
                      </a:lnTo>
                      <a:lnTo>
                        <a:pt x="221" y="797"/>
                      </a:lnTo>
                      <a:lnTo>
                        <a:pt x="121" y="807"/>
                      </a:lnTo>
                      <a:lnTo>
                        <a:pt x="0" y="712"/>
                      </a:lnTo>
                      <a:lnTo>
                        <a:pt x="0" y="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rot="811200">
                  <a:off x="2747880" y="3821040"/>
                  <a:ext cx="596520" cy="831240"/>
                </a:xfrm>
                <a:custGeom>
                  <a:avLst/>
                  <a:gdLst/>
                  <a:ahLst/>
                  <a:rect l="l" t="t" r="r" b="b"/>
                  <a:pathLst>
                    <a:path w="1082" h="1737">
                      <a:moveTo>
                        <a:pt x="181" y="35"/>
                      </a:moveTo>
                      <a:lnTo>
                        <a:pt x="169" y="49"/>
                      </a:lnTo>
                      <a:lnTo>
                        <a:pt x="157" y="67"/>
                      </a:lnTo>
                      <a:lnTo>
                        <a:pt x="141" y="91"/>
                      </a:lnTo>
                      <a:lnTo>
                        <a:pt x="123" y="121"/>
                      </a:lnTo>
                      <a:lnTo>
                        <a:pt x="102" y="156"/>
                      </a:lnTo>
                      <a:lnTo>
                        <a:pt x="93" y="177"/>
                      </a:lnTo>
                      <a:lnTo>
                        <a:pt x="82" y="199"/>
                      </a:lnTo>
                      <a:lnTo>
                        <a:pt x="62" y="247"/>
                      </a:lnTo>
                      <a:lnTo>
                        <a:pt x="43" y="298"/>
                      </a:lnTo>
                      <a:lnTo>
                        <a:pt x="27" y="356"/>
                      </a:lnTo>
                      <a:lnTo>
                        <a:pt x="3" y="485"/>
                      </a:lnTo>
                      <a:lnTo>
                        <a:pt x="0" y="629"/>
                      </a:lnTo>
                      <a:lnTo>
                        <a:pt x="7" y="707"/>
                      </a:lnTo>
                      <a:lnTo>
                        <a:pt x="23" y="787"/>
                      </a:lnTo>
                      <a:lnTo>
                        <a:pt x="34" y="827"/>
                      </a:lnTo>
                      <a:lnTo>
                        <a:pt x="43" y="867"/>
                      </a:lnTo>
                      <a:lnTo>
                        <a:pt x="54" y="905"/>
                      </a:lnTo>
                      <a:lnTo>
                        <a:pt x="66" y="942"/>
                      </a:lnTo>
                      <a:lnTo>
                        <a:pt x="78" y="977"/>
                      </a:lnTo>
                      <a:lnTo>
                        <a:pt x="91" y="1012"/>
                      </a:lnTo>
                      <a:lnTo>
                        <a:pt x="104" y="1047"/>
                      </a:lnTo>
                      <a:lnTo>
                        <a:pt x="117" y="1079"/>
                      </a:lnTo>
                      <a:lnTo>
                        <a:pt x="131" y="1111"/>
                      </a:lnTo>
                      <a:lnTo>
                        <a:pt x="145" y="1141"/>
                      </a:lnTo>
                      <a:lnTo>
                        <a:pt x="160" y="1172"/>
                      </a:lnTo>
                      <a:lnTo>
                        <a:pt x="174" y="1200"/>
                      </a:lnTo>
                      <a:lnTo>
                        <a:pt x="190" y="1227"/>
                      </a:lnTo>
                      <a:lnTo>
                        <a:pt x="204" y="1255"/>
                      </a:lnTo>
                      <a:lnTo>
                        <a:pt x="220" y="1280"/>
                      </a:lnTo>
                      <a:lnTo>
                        <a:pt x="236" y="1306"/>
                      </a:lnTo>
                      <a:lnTo>
                        <a:pt x="254" y="1330"/>
                      </a:lnTo>
                      <a:lnTo>
                        <a:pt x="270" y="1352"/>
                      </a:lnTo>
                      <a:lnTo>
                        <a:pt x="287" y="1374"/>
                      </a:lnTo>
                      <a:lnTo>
                        <a:pt x="305" y="1395"/>
                      </a:lnTo>
                      <a:lnTo>
                        <a:pt x="323" y="1416"/>
                      </a:lnTo>
                      <a:lnTo>
                        <a:pt x="340" y="1437"/>
                      </a:lnTo>
                      <a:lnTo>
                        <a:pt x="358" y="1456"/>
                      </a:lnTo>
                      <a:lnTo>
                        <a:pt x="377" y="1473"/>
                      </a:lnTo>
                      <a:lnTo>
                        <a:pt x="414" y="1507"/>
                      </a:lnTo>
                      <a:lnTo>
                        <a:pt x="452" y="1537"/>
                      </a:lnTo>
                      <a:lnTo>
                        <a:pt x="461" y="1545"/>
                      </a:lnTo>
                      <a:lnTo>
                        <a:pt x="471" y="1553"/>
                      </a:lnTo>
                      <a:lnTo>
                        <a:pt x="481" y="1559"/>
                      </a:lnTo>
                      <a:lnTo>
                        <a:pt x="490" y="1566"/>
                      </a:lnTo>
                      <a:lnTo>
                        <a:pt x="500" y="1572"/>
                      </a:lnTo>
                      <a:lnTo>
                        <a:pt x="509" y="1579"/>
                      </a:lnTo>
                      <a:lnTo>
                        <a:pt x="520" y="1585"/>
                      </a:lnTo>
                      <a:lnTo>
                        <a:pt x="530" y="1591"/>
                      </a:lnTo>
                      <a:lnTo>
                        <a:pt x="540" y="1598"/>
                      </a:lnTo>
                      <a:lnTo>
                        <a:pt x="549" y="1603"/>
                      </a:lnTo>
                      <a:lnTo>
                        <a:pt x="570" y="1614"/>
                      </a:lnTo>
                      <a:lnTo>
                        <a:pt x="592" y="1625"/>
                      </a:lnTo>
                      <a:lnTo>
                        <a:pt x="613" y="1634"/>
                      </a:lnTo>
                      <a:lnTo>
                        <a:pt x="635" y="1644"/>
                      </a:lnTo>
                      <a:lnTo>
                        <a:pt x="659" y="1652"/>
                      </a:lnTo>
                      <a:lnTo>
                        <a:pt x="682" y="1662"/>
                      </a:lnTo>
                      <a:lnTo>
                        <a:pt x="704" y="1668"/>
                      </a:lnTo>
                      <a:lnTo>
                        <a:pt x="728" y="1676"/>
                      </a:lnTo>
                      <a:lnTo>
                        <a:pt x="750" y="1682"/>
                      </a:lnTo>
                      <a:lnTo>
                        <a:pt x="774" y="1689"/>
                      </a:lnTo>
                      <a:lnTo>
                        <a:pt x="797" y="1694"/>
                      </a:lnTo>
                      <a:lnTo>
                        <a:pt x="841" y="1705"/>
                      </a:lnTo>
                      <a:lnTo>
                        <a:pt x="884" y="1713"/>
                      </a:lnTo>
                      <a:lnTo>
                        <a:pt x="926" y="1719"/>
                      </a:lnTo>
                      <a:lnTo>
                        <a:pt x="963" y="1725"/>
                      </a:lnTo>
                      <a:lnTo>
                        <a:pt x="1026" y="1732"/>
                      </a:lnTo>
                      <a:lnTo>
                        <a:pt x="1082" y="1737"/>
                      </a:lnTo>
                      <a:lnTo>
                        <a:pt x="1033" y="1732"/>
                      </a:lnTo>
                      <a:lnTo>
                        <a:pt x="975" y="1721"/>
                      </a:lnTo>
                      <a:lnTo>
                        <a:pt x="942" y="1713"/>
                      </a:lnTo>
                      <a:lnTo>
                        <a:pt x="905" y="1703"/>
                      </a:lnTo>
                      <a:lnTo>
                        <a:pt x="865" y="1692"/>
                      </a:lnTo>
                      <a:lnTo>
                        <a:pt x="844" y="1684"/>
                      </a:lnTo>
                      <a:lnTo>
                        <a:pt x="825" y="1678"/>
                      </a:lnTo>
                      <a:lnTo>
                        <a:pt x="803" y="1668"/>
                      </a:lnTo>
                      <a:lnTo>
                        <a:pt x="782" y="1660"/>
                      </a:lnTo>
                      <a:lnTo>
                        <a:pt x="760" y="1650"/>
                      </a:lnTo>
                      <a:lnTo>
                        <a:pt x="739" y="1639"/>
                      </a:lnTo>
                      <a:lnTo>
                        <a:pt x="717" y="1628"/>
                      </a:lnTo>
                      <a:lnTo>
                        <a:pt x="694" y="1615"/>
                      </a:lnTo>
                      <a:lnTo>
                        <a:pt x="685" y="1609"/>
                      </a:lnTo>
                      <a:lnTo>
                        <a:pt x="674" y="1603"/>
                      </a:lnTo>
                      <a:lnTo>
                        <a:pt x="663" y="1595"/>
                      </a:lnTo>
                      <a:lnTo>
                        <a:pt x="653" y="1588"/>
                      </a:lnTo>
                      <a:lnTo>
                        <a:pt x="642" y="1580"/>
                      </a:lnTo>
                      <a:lnTo>
                        <a:pt x="632" y="1572"/>
                      </a:lnTo>
                      <a:lnTo>
                        <a:pt x="610" y="1556"/>
                      </a:lnTo>
                      <a:lnTo>
                        <a:pt x="570" y="1521"/>
                      </a:lnTo>
                      <a:lnTo>
                        <a:pt x="551" y="1502"/>
                      </a:lnTo>
                      <a:lnTo>
                        <a:pt x="530" y="1483"/>
                      </a:lnTo>
                      <a:lnTo>
                        <a:pt x="511" y="1460"/>
                      </a:lnTo>
                      <a:lnTo>
                        <a:pt x="490" y="1440"/>
                      </a:lnTo>
                      <a:lnTo>
                        <a:pt x="469" y="1416"/>
                      </a:lnTo>
                      <a:lnTo>
                        <a:pt x="449" y="1392"/>
                      </a:lnTo>
                      <a:lnTo>
                        <a:pt x="428" y="1368"/>
                      </a:lnTo>
                      <a:lnTo>
                        <a:pt x="407" y="1342"/>
                      </a:lnTo>
                      <a:lnTo>
                        <a:pt x="386" y="1317"/>
                      </a:lnTo>
                      <a:lnTo>
                        <a:pt x="367" y="1290"/>
                      </a:lnTo>
                      <a:lnTo>
                        <a:pt x="347" y="1263"/>
                      </a:lnTo>
                      <a:lnTo>
                        <a:pt x="327" y="1235"/>
                      </a:lnTo>
                      <a:lnTo>
                        <a:pt x="308" y="1207"/>
                      </a:lnTo>
                      <a:lnTo>
                        <a:pt x="289" y="1178"/>
                      </a:lnTo>
                      <a:lnTo>
                        <a:pt x="271" y="1149"/>
                      </a:lnTo>
                      <a:lnTo>
                        <a:pt x="252" y="1120"/>
                      </a:lnTo>
                      <a:lnTo>
                        <a:pt x="236" y="1090"/>
                      </a:lnTo>
                      <a:lnTo>
                        <a:pt x="219" y="1061"/>
                      </a:lnTo>
                      <a:lnTo>
                        <a:pt x="203" y="1031"/>
                      </a:lnTo>
                      <a:lnTo>
                        <a:pt x="188" y="1001"/>
                      </a:lnTo>
                      <a:lnTo>
                        <a:pt x="174" y="970"/>
                      </a:lnTo>
                      <a:lnTo>
                        <a:pt x="161" y="940"/>
                      </a:lnTo>
                      <a:lnTo>
                        <a:pt x="137" y="881"/>
                      </a:lnTo>
                      <a:lnTo>
                        <a:pt x="118" y="822"/>
                      </a:lnTo>
                      <a:lnTo>
                        <a:pt x="105" y="763"/>
                      </a:lnTo>
                      <a:lnTo>
                        <a:pt x="93" y="653"/>
                      </a:lnTo>
                      <a:lnTo>
                        <a:pt x="99" y="543"/>
                      </a:lnTo>
                      <a:lnTo>
                        <a:pt x="107" y="487"/>
                      </a:lnTo>
                      <a:lnTo>
                        <a:pt x="117" y="429"/>
                      </a:lnTo>
                      <a:lnTo>
                        <a:pt x="129" y="375"/>
                      </a:lnTo>
                      <a:lnTo>
                        <a:pt x="142" y="321"/>
                      </a:lnTo>
                      <a:lnTo>
                        <a:pt x="157" y="268"/>
                      </a:lnTo>
                      <a:lnTo>
                        <a:pt x="171" y="219"/>
                      </a:lnTo>
                      <a:lnTo>
                        <a:pt x="185" y="172"/>
                      </a:lnTo>
                      <a:lnTo>
                        <a:pt x="200" y="131"/>
                      </a:lnTo>
                      <a:lnTo>
                        <a:pt x="214" y="92"/>
                      </a:lnTo>
                      <a:lnTo>
                        <a:pt x="225" y="62"/>
                      </a:lnTo>
                      <a:lnTo>
                        <a:pt x="243" y="16"/>
                      </a:lnTo>
                      <a:lnTo>
                        <a:pt x="249" y="0"/>
                      </a:lnTo>
                      <a:lnTo>
                        <a:pt x="181" y="35"/>
                      </a:lnTo>
                      <a:lnTo>
                        <a:pt x="18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rot="811200">
                  <a:off x="2926080" y="3855960"/>
                  <a:ext cx="479520" cy="829440"/>
                </a:xfrm>
                <a:custGeom>
                  <a:avLst/>
                  <a:gdLst/>
                  <a:ahLst/>
                  <a:rect l="l" t="t" r="r" b="b"/>
                  <a:pathLst>
                    <a:path w="872" h="1732">
                      <a:moveTo>
                        <a:pt x="0" y="0"/>
                      </a:moveTo>
                      <a:lnTo>
                        <a:pt x="163" y="38"/>
                      </a:lnTo>
                      <a:lnTo>
                        <a:pt x="182" y="46"/>
                      </a:lnTo>
                      <a:lnTo>
                        <a:pt x="201" y="54"/>
                      </a:lnTo>
                      <a:lnTo>
                        <a:pt x="220" y="65"/>
                      </a:lnTo>
                      <a:lnTo>
                        <a:pt x="241" y="75"/>
                      </a:lnTo>
                      <a:lnTo>
                        <a:pt x="262" y="88"/>
                      </a:lnTo>
                      <a:lnTo>
                        <a:pt x="271" y="94"/>
                      </a:lnTo>
                      <a:lnTo>
                        <a:pt x="283" y="102"/>
                      </a:lnTo>
                      <a:lnTo>
                        <a:pt x="294" y="109"/>
                      </a:lnTo>
                      <a:lnTo>
                        <a:pt x="305" y="117"/>
                      </a:lnTo>
                      <a:lnTo>
                        <a:pt x="315" y="125"/>
                      </a:lnTo>
                      <a:lnTo>
                        <a:pt x="326" y="132"/>
                      </a:lnTo>
                      <a:lnTo>
                        <a:pt x="370" y="169"/>
                      </a:lnTo>
                      <a:lnTo>
                        <a:pt x="393" y="192"/>
                      </a:lnTo>
                      <a:lnTo>
                        <a:pt x="417" y="214"/>
                      </a:lnTo>
                      <a:lnTo>
                        <a:pt x="439" y="238"/>
                      </a:lnTo>
                      <a:lnTo>
                        <a:pt x="461" y="263"/>
                      </a:lnTo>
                      <a:lnTo>
                        <a:pt x="484" y="292"/>
                      </a:lnTo>
                      <a:lnTo>
                        <a:pt x="506" y="321"/>
                      </a:lnTo>
                      <a:lnTo>
                        <a:pt x="528" y="351"/>
                      </a:lnTo>
                      <a:lnTo>
                        <a:pt x="549" y="382"/>
                      </a:lnTo>
                      <a:lnTo>
                        <a:pt x="570" y="413"/>
                      </a:lnTo>
                      <a:lnTo>
                        <a:pt x="587" y="444"/>
                      </a:lnTo>
                      <a:lnTo>
                        <a:pt x="607" y="474"/>
                      </a:lnTo>
                      <a:lnTo>
                        <a:pt x="624" y="504"/>
                      </a:lnTo>
                      <a:lnTo>
                        <a:pt x="642" y="535"/>
                      </a:lnTo>
                      <a:lnTo>
                        <a:pt x="656" y="565"/>
                      </a:lnTo>
                      <a:lnTo>
                        <a:pt x="672" y="595"/>
                      </a:lnTo>
                      <a:lnTo>
                        <a:pt x="686" y="626"/>
                      </a:lnTo>
                      <a:lnTo>
                        <a:pt x="699" y="656"/>
                      </a:lnTo>
                      <a:lnTo>
                        <a:pt x="712" y="686"/>
                      </a:lnTo>
                      <a:lnTo>
                        <a:pt x="736" y="747"/>
                      </a:lnTo>
                      <a:lnTo>
                        <a:pt x="758" y="806"/>
                      </a:lnTo>
                      <a:lnTo>
                        <a:pt x="777" y="864"/>
                      </a:lnTo>
                      <a:lnTo>
                        <a:pt x="793" y="921"/>
                      </a:lnTo>
                      <a:lnTo>
                        <a:pt x="809" y="979"/>
                      </a:lnTo>
                      <a:lnTo>
                        <a:pt x="822" y="1033"/>
                      </a:lnTo>
                      <a:lnTo>
                        <a:pt x="833" y="1087"/>
                      </a:lnTo>
                      <a:lnTo>
                        <a:pt x="844" y="1140"/>
                      </a:lnTo>
                      <a:lnTo>
                        <a:pt x="862" y="1242"/>
                      </a:lnTo>
                      <a:lnTo>
                        <a:pt x="870" y="1339"/>
                      </a:lnTo>
                      <a:lnTo>
                        <a:pt x="872" y="1384"/>
                      </a:lnTo>
                      <a:lnTo>
                        <a:pt x="870" y="1430"/>
                      </a:lnTo>
                      <a:lnTo>
                        <a:pt x="862" y="1513"/>
                      </a:lnTo>
                      <a:lnTo>
                        <a:pt x="851" y="1585"/>
                      </a:lnTo>
                      <a:lnTo>
                        <a:pt x="836" y="1646"/>
                      </a:lnTo>
                      <a:lnTo>
                        <a:pt x="822" y="1692"/>
                      </a:lnTo>
                      <a:lnTo>
                        <a:pt x="809" y="1732"/>
                      </a:lnTo>
                      <a:lnTo>
                        <a:pt x="805" y="1636"/>
                      </a:lnTo>
                      <a:lnTo>
                        <a:pt x="798" y="1532"/>
                      </a:lnTo>
                      <a:lnTo>
                        <a:pt x="789" y="1406"/>
                      </a:lnTo>
                      <a:lnTo>
                        <a:pt x="774" y="1271"/>
                      </a:lnTo>
                      <a:lnTo>
                        <a:pt x="765" y="1204"/>
                      </a:lnTo>
                      <a:lnTo>
                        <a:pt x="755" y="1137"/>
                      </a:lnTo>
                      <a:lnTo>
                        <a:pt x="744" y="1073"/>
                      </a:lnTo>
                      <a:lnTo>
                        <a:pt x="730" y="1014"/>
                      </a:lnTo>
                      <a:lnTo>
                        <a:pt x="715" y="961"/>
                      </a:lnTo>
                      <a:lnTo>
                        <a:pt x="698" y="916"/>
                      </a:lnTo>
                      <a:lnTo>
                        <a:pt x="680" y="872"/>
                      </a:lnTo>
                      <a:lnTo>
                        <a:pt x="670" y="849"/>
                      </a:lnTo>
                      <a:lnTo>
                        <a:pt x="659" y="825"/>
                      </a:lnTo>
                      <a:lnTo>
                        <a:pt x="648" y="801"/>
                      </a:lnTo>
                      <a:lnTo>
                        <a:pt x="637" y="776"/>
                      </a:lnTo>
                      <a:lnTo>
                        <a:pt x="626" y="750"/>
                      </a:lnTo>
                      <a:lnTo>
                        <a:pt x="613" y="726"/>
                      </a:lnTo>
                      <a:lnTo>
                        <a:pt x="600" y="699"/>
                      </a:lnTo>
                      <a:lnTo>
                        <a:pt x="587" y="672"/>
                      </a:lnTo>
                      <a:lnTo>
                        <a:pt x="575" y="647"/>
                      </a:lnTo>
                      <a:lnTo>
                        <a:pt x="560" y="619"/>
                      </a:lnTo>
                      <a:lnTo>
                        <a:pt x="548" y="592"/>
                      </a:lnTo>
                      <a:lnTo>
                        <a:pt x="533" y="567"/>
                      </a:lnTo>
                      <a:lnTo>
                        <a:pt x="519" y="540"/>
                      </a:lnTo>
                      <a:lnTo>
                        <a:pt x="504" y="514"/>
                      </a:lnTo>
                      <a:lnTo>
                        <a:pt x="489" y="487"/>
                      </a:lnTo>
                      <a:lnTo>
                        <a:pt x="474" y="461"/>
                      </a:lnTo>
                      <a:lnTo>
                        <a:pt x="460" y="436"/>
                      </a:lnTo>
                      <a:lnTo>
                        <a:pt x="444" y="412"/>
                      </a:lnTo>
                      <a:lnTo>
                        <a:pt x="429" y="386"/>
                      </a:lnTo>
                      <a:lnTo>
                        <a:pt x="414" y="364"/>
                      </a:lnTo>
                      <a:lnTo>
                        <a:pt x="398" y="340"/>
                      </a:lnTo>
                      <a:lnTo>
                        <a:pt x="383" y="319"/>
                      </a:lnTo>
                      <a:lnTo>
                        <a:pt x="367" y="297"/>
                      </a:lnTo>
                      <a:lnTo>
                        <a:pt x="353" y="278"/>
                      </a:lnTo>
                      <a:lnTo>
                        <a:pt x="337" y="259"/>
                      </a:lnTo>
                      <a:lnTo>
                        <a:pt x="321" y="239"/>
                      </a:lnTo>
                      <a:lnTo>
                        <a:pt x="292" y="208"/>
                      </a:lnTo>
                      <a:lnTo>
                        <a:pt x="262" y="180"/>
                      </a:lnTo>
                      <a:lnTo>
                        <a:pt x="233" y="158"/>
                      </a:lnTo>
                      <a:lnTo>
                        <a:pt x="204" y="136"/>
                      </a:lnTo>
                      <a:lnTo>
                        <a:pt x="179" y="117"/>
                      </a:lnTo>
                      <a:lnTo>
                        <a:pt x="166" y="107"/>
                      </a:lnTo>
                      <a:lnTo>
                        <a:pt x="155" y="99"/>
                      </a:lnTo>
                      <a:lnTo>
                        <a:pt x="142" y="91"/>
                      </a:lnTo>
                      <a:lnTo>
                        <a:pt x="131" y="81"/>
                      </a:lnTo>
                      <a:lnTo>
                        <a:pt x="120" y="75"/>
                      </a:lnTo>
                      <a:lnTo>
                        <a:pt x="110" y="67"/>
                      </a:lnTo>
                      <a:lnTo>
                        <a:pt x="99" y="61"/>
                      </a:lnTo>
                      <a:lnTo>
                        <a:pt x="90" y="54"/>
                      </a:lnTo>
                      <a:lnTo>
                        <a:pt x="72" y="42"/>
                      </a:lnTo>
                      <a:lnTo>
                        <a:pt x="56" y="32"/>
                      </a:lnTo>
                      <a:lnTo>
                        <a:pt x="42" y="24"/>
                      </a:lnTo>
                      <a:lnTo>
                        <a:pt x="29" y="16"/>
                      </a:lnTo>
                      <a:lnTo>
                        <a:pt x="18" y="1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rot="811200">
                  <a:off x="2616840" y="3871440"/>
                  <a:ext cx="817920" cy="279360"/>
                </a:xfrm>
                <a:custGeom>
                  <a:avLst/>
                  <a:gdLst/>
                  <a:ahLst/>
                  <a:rect l="l" t="t" r="r" b="b"/>
                  <a:pathLst>
                    <a:path w="1485" h="584">
                      <a:moveTo>
                        <a:pt x="0" y="454"/>
                      </a:moveTo>
                      <a:lnTo>
                        <a:pt x="8" y="462"/>
                      </a:lnTo>
                      <a:lnTo>
                        <a:pt x="19" y="469"/>
                      </a:lnTo>
                      <a:lnTo>
                        <a:pt x="35" y="480"/>
                      </a:lnTo>
                      <a:lnTo>
                        <a:pt x="45" y="485"/>
                      </a:lnTo>
                      <a:lnTo>
                        <a:pt x="56" y="491"/>
                      </a:lnTo>
                      <a:lnTo>
                        <a:pt x="67" y="498"/>
                      </a:lnTo>
                      <a:lnTo>
                        <a:pt x="80" y="504"/>
                      </a:lnTo>
                      <a:lnTo>
                        <a:pt x="94" y="510"/>
                      </a:lnTo>
                      <a:lnTo>
                        <a:pt x="109" y="518"/>
                      </a:lnTo>
                      <a:lnTo>
                        <a:pt x="125" y="525"/>
                      </a:lnTo>
                      <a:lnTo>
                        <a:pt x="142" y="531"/>
                      </a:lnTo>
                      <a:lnTo>
                        <a:pt x="160" y="538"/>
                      </a:lnTo>
                      <a:lnTo>
                        <a:pt x="179" y="544"/>
                      </a:lnTo>
                      <a:lnTo>
                        <a:pt x="200" y="550"/>
                      </a:lnTo>
                      <a:lnTo>
                        <a:pt x="220" y="557"/>
                      </a:lnTo>
                      <a:lnTo>
                        <a:pt x="267" y="566"/>
                      </a:lnTo>
                      <a:lnTo>
                        <a:pt x="316" y="576"/>
                      </a:lnTo>
                      <a:lnTo>
                        <a:pt x="370" y="581"/>
                      </a:lnTo>
                      <a:lnTo>
                        <a:pt x="430" y="584"/>
                      </a:lnTo>
                      <a:lnTo>
                        <a:pt x="559" y="577"/>
                      </a:lnTo>
                      <a:lnTo>
                        <a:pt x="627" y="568"/>
                      </a:lnTo>
                      <a:lnTo>
                        <a:pt x="694" y="553"/>
                      </a:lnTo>
                      <a:lnTo>
                        <a:pt x="728" y="545"/>
                      </a:lnTo>
                      <a:lnTo>
                        <a:pt x="761" y="536"/>
                      </a:lnTo>
                      <a:lnTo>
                        <a:pt x="795" y="526"/>
                      </a:lnTo>
                      <a:lnTo>
                        <a:pt x="827" y="515"/>
                      </a:lnTo>
                      <a:lnTo>
                        <a:pt x="859" y="504"/>
                      </a:lnTo>
                      <a:lnTo>
                        <a:pt x="891" y="493"/>
                      </a:lnTo>
                      <a:lnTo>
                        <a:pt x="921" y="480"/>
                      </a:lnTo>
                      <a:lnTo>
                        <a:pt x="937" y="474"/>
                      </a:lnTo>
                      <a:lnTo>
                        <a:pt x="951" y="467"/>
                      </a:lnTo>
                      <a:lnTo>
                        <a:pt x="966" y="459"/>
                      </a:lnTo>
                      <a:lnTo>
                        <a:pt x="982" y="453"/>
                      </a:lnTo>
                      <a:lnTo>
                        <a:pt x="996" y="447"/>
                      </a:lnTo>
                      <a:lnTo>
                        <a:pt x="1010" y="440"/>
                      </a:lnTo>
                      <a:lnTo>
                        <a:pt x="1025" y="434"/>
                      </a:lnTo>
                      <a:lnTo>
                        <a:pt x="1039" y="426"/>
                      </a:lnTo>
                      <a:lnTo>
                        <a:pt x="1052" y="419"/>
                      </a:lnTo>
                      <a:lnTo>
                        <a:pt x="1066" y="411"/>
                      </a:lnTo>
                      <a:lnTo>
                        <a:pt x="1079" y="405"/>
                      </a:lnTo>
                      <a:lnTo>
                        <a:pt x="1093" y="397"/>
                      </a:lnTo>
                      <a:lnTo>
                        <a:pt x="1106" y="391"/>
                      </a:lnTo>
                      <a:lnTo>
                        <a:pt x="1119" y="383"/>
                      </a:lnTo>
                      <a:lnTo>
                        <a:pt x="1132" y="375"/>
                      </a:lnTo>
                      <a:lnTo>
                        <a:pt x="1143" y="368"/>
                      </a:lnTo>
                      <a:lnTo>
                        <a:pt x="1156" y="360"/>
                      </a:lnTo>
                      <a:lnTo>
                        <a:pt x="1168" y="354"/>
                      </a:lnTo>
                      <a:lnTo>
                        <a:pt x="1180" y="346"/>
                      </a:lnTo>
                      <a:lnTo>
                        <a:pt x="1191" y="338"/>
                      </a:lnTo>
                      <a:lnTo>
                        <a:pt x="1202" y="332"/>
                      </a:lnTo>
                      <a:lnTo>
                        <a:pt x="1213" y="324"/>
                      </a:lnTo>
                      <a:lnTo>
                        <a:pt x="1223" y="317"/>
                      </a:lnTo>
                      <a:lnTo>
                        <a:pt x="1234" y="309"/>
                      </a:lnTo>
                      <a:lnTo>
                        <a:pt x="1244" y="303"/>
                      </a:lnTo>
                      <a:lnTo>
                        <a:pt x="1255" y="296"/>
                      </a:lnTo>
                      <a:lnTo>
                        <a:pt x="1290" y="268"/>
                      </a:lnTo>
                      <a:lnTo>
                        <a:pt x="1322" y="242"/>
                      </a:lnTo>
                      <a:lnTo>
                        <a:pt x="1347" y="220"/>
                      </a:lnTo>
                      <a:lnTo>
                        <a:pt x="1368" y="197"/>
                      </a:lnTo>
                      <a:lnTo>
                        <a:pt x="1400" y="161"/>
                      </a:lnTo>
                      <a:lnTo>
                        <a:pt x="1425" y="129"/>
                      </a:lnTo>
                      <a:lnTo>
                        <a:pt x="1446" y="100"/>
                      </a:lnTo>
                      <a:lnTo>
                        <a:pt x="1462" y="78"/>
                      </a:lnTo>
                      <a:lnTo>
                        <a:pt x="1485" y="35"/>
                      </a:lnTo>
                      <a:lnTo>
                        <a:pt x="1397" y="0"/>
                      </a:lnTo>
                      <a:lnTo>
                        <a:pt x="1373" y="31"/>
                      </a:lnTo>
                      <a:lnTo>
                        <a:pt x="1358" y="47"/>
                      </a:lnTo>
                      <a:lnTo>
                        <a:pt x="1341" y="67"/>
                      </a:lnTo>
                      <a:lnTo>
                        <a:pt x="1320" y="87"/>
                      </a:lnTo>
                      <a:lnTo>
                        <a:pt x="1295" y="111"/>
                      </a:lnTo>
                      <a:lnTo>
                        <a:pt x="1267" y="135"/>
                      </a:lnTo>
                      <a:lnTo>
                        <a:pt x="1236" y="159"/>
                      </a:lnTo>
                      <a:lnTo>
                        <a:pt x="1228" y="166"/>
                      </a:lnTo>
                      <a:lnTo>
                        <a:pt x="1218" y="172"/>
                      </a:lnTo>
                      <a:lnTo>
                        <a:pt x="1210" y="178"/>
                      </a:lnTo>
                      <a:lnTo>
                        <a:pt x="1200" y="186"/>
                      </a:lnTo>
                      <a:lnTo>
                        <a:pt x="1191" y="193"/>
                      </a:lnTo>
                      <a:lnTo>
                        <a:pt x="1181" y="199"/>
                      </a:lnTo>
                      <a:lnTo>
                        <a:pt x="1172" y="205"/>
                      </a:lnTo>
                      <a:lnTo>
                        <a:pt x="1162" y="212"/>
                      </a:lnTo>
                      <a:lnTo>
                        <a:pt x="1151" y="218"/>
                      </a:lnTo>
                      <a:lnTo>
                        <a:pt x="1140" y="225"/>
                      </a:lnTo>
                      <a:lnTo>
                        <a:pt x="1130" y="231"/>
                      </a:lnTo>
                      <a:lnTo>
                        <a:pt x="1119" y="237"/>
                      </a:lnTo>
                      <a:lnTo>
                        <a:pt x="1108" y="244"/>
                      </a:lnTo>
                      <a:lnTo>
                        <a:pt x="1095" y="250"/>
                      </a:lnTo>
                      <a:lnTo>
                        <a:pt x="1084" y="257"/>
                      </a:lnTo>
                      <a:lnTo>
                        <a:pt x="1073" y="261"/>
                      </a:lnTo>
                      <a:lnTo>
                        <a:pt x="1060" y="268"/>
                      </a:lnTo>
                      <a:lnTo>
                        <a:pt x="1047" y="274"/>
                      </a:lnTo>
                      <a:lnTo>
                        <a:pt x="1034" y="280"/>
                      </a:lnTo>
                      <a:lnTo>
                        <a:pt x="1022" y="287"/>
                      </a:lnTo>
                      <a:lnTo>
                        <a:pt x="995" y="298"/>
                      </a:lnTo>
                      <a:lnTo>
                        <a:pt x="966" y="309"/>
                      </a:lnTo>
                      <a:lnTo>
                        <a:pt x="939" y="319"/>
                      </a:lnTo>
                      <a:lnTo>
                        <a:pt x="912" y="330"/>
                      </a:lnTo>
                      <a:lnTo>
                        <a:pt x="886" y="341"/>
                      </a:lnTo>
                      <a:lnTo>
                        <a:pt x="860" y="351"/>
                      </a:lnTo>
                      <a:lnTo>
                        <a:pt x="835" y="362"/>
                      </a:lnTo>
                      <a:lnTo>
                        <a:pt x="811" y="371"/>
                      </a:lnTo>
                      <a:lnTo>
                        <a:pt x="789" y="381"/>
                      </a:lnTo>
                      <a:lnTo>
                        <a:pt x="766" y="391"/>
                      </a:lnTo>
                      <a:lnTo>
                        <a:pt x="744" y="400"/>
                      </a:lnTo>
                      <a:lnTo>
                        <a:pt x="723" y="408"/>
                      </a:lnTo>
                      <a:lnTo>
                        <a:pt x="702" y="416"/>
                      </a:lnTo>
                      <a:lnTo>
                        <a:pt x="682" y="426"/>
                      </a:lnTo>
                      <a:lnTo>
                        <a:pt x="663" y="434"/>
                      </a:lnTo>
                      <a:lnTo>
                        <a:pt x="643" y="440"/>
                      </a:lnTo>
                      <a:lnTo>
                        <a:pt x="624" y="448"/>
                      </a:lnTo>
                      <a:lnTo>
                        <a:pt x="607" y="454"/>
                      </a:lnTo>
                      <a:lnTo>
                        <a:pt x="588" y="461"/>
                      </a:lnTo>
                      <a:lnTo>
                        <a:pt x="570" y="467"/>
                      </a:lnTo>
                      <a:lnTo>
                        <a:pt x="536" y="477"/>
                      </a:lnTo>
                      <a:lnTo>
                        <a:pt x="503" y="486"/>
                      </a:lnTo>
                      <a:lnTo>
                        <a:pt x="469" y="493"/>
                      </a:lnTo>
                      <a:lnTo>
                        <a:pt x="404" y="499"/>
                      </a:lnTo>
                      <a:lnTo>
                        <a:pt x="337" y="496"/>
                      </a:lnTo>
                      <a:lnTo>
                        <a:pt x="272" y="486"/>
                      </a:lnTo>
                      <a:lnTo>
                        <a:pt x="209" y="478"/>
                      </a:lnTo>
                      <a:lnTo>
                        <a:pt x="152" y="472"/>
                      </a:lnTo>
                      <a:lnTo>
                        <a:pt x="101" y="466"/>
                      </a:lnTo>
                      <a:lnTo>
                        <a:pt x="27" y="458"/>
                      </a:lnTo>
                      <a:lnTo>
                        <a:pt x="0" y="454"/>
                      </a:lnTo>
                      <a:lnTo>
                        <a:pt x="0"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rot="811200">
                  <a:off x="2774160" y="4428720"/>
                  <a:ext cx="721800" cy="282600"/>
                </a:xfrm>
                <a:custGeom>
                  <a:avLst/>
                  <a:gdLst/>
                  <a:ahLst/>
                  <a:rect l="l" t="t" r="r" b="b"/>
                  <a:pathLst>
                    <a:path w="1311" h="591">
                      <a:moveTo>
                        <a:pt x="0" y="544"/>
                      </a:moveTo>
                      <a:lnTo>
                        <a:pt x="11" y="501"/>
                      </a:lnTo>
                      <a:lnTo>
                        <a:pt x="27" y="455"/>
                      </a:lnTo>
                      <a:lnTo>
                        <a:pt x="40" y="426"/>
                      </a:lnTo>
                      <a:lnTo>
                        <a:pt x="56" y="396"/>
                      </a:lnTo>
                      <a:lnTo>
                        <a:pt x="75" y="364"/>
                      </a:lnTo>
                      <a:lnTo>
                        <a:pt x="99" y="331"/>
                      </a:lnTo>
                      <a:lnTo>
                        <a:pt x="112" y="313"/>
                      </a:lnTo>
                      <a:lnTo>
                        <a:pt x="126" y="295"/>
                      </a:lnTo>
                      <a:lnTo>
                        <a:pt x="141" y="278"/>
                      </a:lnTo>
                      <a:lnTo>
                        <a:pt x="158" y="260"/>
                      </a:lnTo>
                      <a:lnTo>
                        <a:pt x="176" y="244"/>
                      </a:lnTo>
                      <a:lnTo>
                        <a:pt x="195" y="227"/>
                      </a:lnTo>
                      <a:lnTo>
                        <a:pt x="216" y="209"/>
                      </a:lnTo>
                      <a:lnTo>
                        <a:pt x="238" y="193"/>
                      </a:lnTo>
                      <a:lnTo>
                        <a:pt x="249" y="185"/>
                      </a:lnTo>
                      <a:lnTo>
                        <a:pt x="260" y="177"/>
                      </a:lnTo>
                      <a:lnTo>
                        <a:pt x="272" y="169"/>
                      </a:lnTo>
                      <a:lnTo>
                        <a:pt x="284" y="160"/>
                      </a:lnTo>
                      <a:lnTo>
                        <a:pt x="297" y="153"/>
                      </a:lnTo>
                      <a:lnTo>
                        <a:pt x="312" y="145"/>
                      </a:lnTo>
                      <a:lnTo>
                        <a:pt x="324" y="137"/>
                      </a:lnTo>
                      <a:lnTo>
                        <a:pt x="339" y="129"/>
                      </a:lnTo>
                      <a:lnTo>
                        <a:pt x="353" y="123"/>
                      </a:lnTo>
                      <a:lnTo>
                        <a:pt x="367" y="115"/>
                      </a:lnTo>
                      <a:lnTo>
                        <a:pt x="382" y="109"/>
                      </a:lnTo>
                      <a:lnTo>
                        <a:pt x="396" y="102"/>
                      </a:lnTo>
                      <a:lnTo>
                        <a:pt x="410" y="96"/>
                      </a:lnTo>
                      <a:lnTo>
                        <a:pt x="426" y="89"/>
                      </a:lnTo>
                      <a:lnTo>
                        <a:pt x="455" y="78"/>
                      </a:lnTo>
                      <a:lnTo>
                        <a:pt x="485" y="69"/>
                      </a:lnTo>
                      <a:lnTo>
                        <a:pt x="516" y="59"/>
                      </a:lnTo>
                      <a:lnTo>
                        <a:pt x="546" y="50"/>
                      </a:lnTo>
                      <a:lnTo>
                        <a:pt x="578" y="42"/>
                      </a:lnTo>
                      <a:lnTo>
                        <a:pt x="608" y="35"/>
                      </a:lnTo>
                      <a:lnTo>
                        <a:pt x="639" y="29"/>
                      </a:lnTo>
                      <a:lnTo>
                        <a:pt x="699" y="18"/>
                      </a:lnTo>
                      <a:lnTo>
                        <a:pt x="758" y="10"/>
                      </a:lnTo>
                      <a:lnTo>
                        <a:pt x="816" y="5"/>
                      </a:lnTo>
                      <a:lnTo>
                        <a:pt x="924" y="0"/>
                      </a:lnTo>
                      <a:lnTo>
                        <a:pt x="1020" y="2"/>
                      </a:lnTo>
                      <a:lnTo>
                        <a:pt x="1098" y="10"/>
                      </a:lnTo>
                      <a:lnTo>
                        <a:pt x="1154" y="19"/>
                      </a:lnTo>
                      <a:lnTo>
                        <a:pt x="1194" y="30"/>
                      </a:lnTo>
                      <a:lnTo>
                        <a:pt x="1228" y="40"/>
                      </a:lnTo>
                      <a:lnTo>
                        <a:pt x="1255" y="48"/>
                      </a:lnTo>
                      <a:lnTo>
                        <a:pt x="1277" y="56"/>
                      </a:lnTo>
                      <a:lnTo>
                        <a:pt x="1303" y="67"/>
                      </a:lnTo>
                      <a:lnTo>
                        <a:pt x="1311" y="72"/>
                      </a:lnTo>
                      <a:lnTo>
                        <a:pt x="1269" y="69"/>
                      </a:lnTo>
                      <a:lnTo>
                        <a:pt x="1151" y="69"/>
                      </a:lnTo>
                      <a:lnTo>
                        <a:pt x="977" y="78"/>
                      </a:lnTo>
                      <a:lnTo>
                        <a:pt x="875" y="93"/>
                      </a:lnTo>
                      <a:lnTo>
                        <a:pt x="819" y="102"/>
                      </a:lnTo>
                      <a:lnTo>
                        <a:pt x="763" y="112"/>
                      </a:lnTo>
                      <a:lnTo>
                        <a:pt x="709" y="125"/>
                      </a:lnTo>
                      <a:lnTo>
                        <a:pt x="658" y="136"/>
                      </a:lnTo>
                      <a:lnTo>
                        <a:pt x="612" y="145"/>
                      </a:lnTo>
                      <a:lnTo>
                        <a:pt x="568" y="155"/>
                      </a:lnTo>
                      <a:lnTo>
                        <a:pt x="527" y="166"/>
                      </a:lnTo>
                      <a:lnTo>
                        <a:pt x="490" y="176"/>
                      </a:lnTo>
                      <a:lnTo>
                        <a:pt x="455" y="187"/>
                      </a:lnTo>
                      <a:lnTo>
                        <a:pt x="422" y="198"/>
                      </a:lnTo>
                      <a:lnTo>
                        <a:pt x="391" y="211"/>
                      </a:lnTo>
                      <a:lnTo>
                        <a:pt x="377" y="217"/>
                      </a:lnTo>
                      <a:lnTo>
                        <a:pt x="364" y="225"/>
                      </a:lnTo>
                      <a:lnTo>
                        <a:pt x="350" y="232"/>
                      </a:lnTo>
                      <a:lnTo>
                        <a:pt x="337" y="240"/>
                      </a:lnTo>
                      <a:lnTo>
                        <a:pt x="324" y="248"/>
                      </a:lnTo>
                      <a:lnTo>
                        <a:pt x="312" y="257"/>
                      </a:lnTo>
                      <a:lnTo>
                        <a:pt x="262" y="297"/>
                      </a:lnTo>
                      <a:lnTo>
                        <a:pt x="240" y="319"/>
                      </a:lnTo>
                      <a:lnTo>
                        <a:pt x="216" y="346"/>
                      </a:lnTo>
                      <a:lnTo>
                        <a:pt x="195" y="372"/>
                      </a:lnTo>
                      <a:lnTo>
                        <a:pt x="176" y="398"/>
                      </a:lnTo>
                      <a:lnTo>
                        <a:pt x="158" y="423"/>
                      </a:lnTo>
                      <a:lnTo>
                        <a:pt x="142" y="445"/>
                      </a:lnTo>
                      <a:lnTo>
                        <a:pt x="130" y="468"/>
                      </a:lnTo>
                      <a:lnTo>
                        <a:pt x="118" y="487"/>
                      </a:lnTo>
                      <a:lnTo>
                        <a:pt x="101" y="524"/>
                      </a:lnTo>
                      <a:lnTo>
                        <a:pt x="77" y="591"/>
                      </a:lnTo>
                      <a:lnTo>
                        <a:pt x="0" y="544"/>
                      </a:lnTo>
                      <a:lnTo>
                        <a:pt x="0" y="5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2496600" y="4095360"/>
                <a:ext cx="1185480" cy="344160"/>
                <a:chOff x="2496600" y="4095360"/>
                <a:chExt cx="1185480" cy="344160"/>
              </a:xfrm>
            </p:grpSpPr>
            <p:sp>
              <p:nvSpPr>
                <p:cNvPr id="1090" name=""/>
                <p:cNvSpPr/>
                <p:nvPr/>
              </p:nvSpPr>
              <p:spPr>
                <a:xfrm rot="21529200">
                  <a:off x="2556720" y="4130640"/>
                  <a:ext cx="1052280" cy="232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rot="54600">
                  <a:off x="2498760" y="4104360"/>
                  <a:ext cx="1180440" cy="325440"/>
                </a:xfrm>
                <a:prstGeom prst="rect">
                  <a:avLst/>
                </a:prstGeom>
                <a:noFill/>
                <a:ln w="0">
                  <a:noFill/>
                </a:ln>
              </p:spPr>
              <p:style>
                <a:lnRef idx="0"/>
                <a:fillRef idx="0"/>
                <a:effectRef idx="0"/>
                <a:fontRef idx="minor"/>
              </p:style>
              <p:txBody>
                <a:bodyPr lIns="81360" rIns="81360" tIns="40680" bIns="40680" anchor="ctr">
                  <a:spAutoFit/>
                </a:bodyPr>
                <a:p>
                  <a:pPr algn="ctr">
                    <a:lnSpc>
                      <a:spcPct val="8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0000"/>
                      </a:solidFill>
                      <a:latin typeface="Arial Black"/>
                    </a:rPr>
                    <a:t>CORE</a:t>
                  </a:r>
                  <a:endParaRPr b="0" lang="en-US" sz="2000" spc="-1" strike="noStrike">
                    <a:solidFill>
                      <a:srgbClr val="000000"/>
                    </a:solidFill>
                    <a:latin typeface="Times New Roman"/>
                  </a:endParaRPr>
                </a:p>
              </p:txBody>
            </p:sp>
          </p:grpSp>
        </p:grpSp>
        <p:sp>
          <p:nvSpPr>
            <p:cNvPr id="1092" name=""/>
            <p:cNvSpPr/>
            <p:nvPr/>
          </p:nvSpPr>
          <p:spPr>
            <a:xfrm rot="20088600">
              <a:off x="3881520" y="3478680"/>
              <a:ext cx="443520" cy="1257120"/>
            </a:xfrm>
            <a:custGeom>
              <a:avLst/>
              <a:gdLst/>
              <a:ahLst/>
              <a:rect l="l" t="t" r="r" b="b"/>
              <a:pathLst>
                <a:path w="962" h="1422">
                  <a:moveTo>
                    <a:pt x="646" y="0"/>
                  </a:moveTo>
                  <a:lnTo>
                    <a:pt x="676" y="29"/>
                  </a:lnTo>
                  <a:lnTo>
                    <a:pt x="707" y="66"/>
                  </a:lnTo>
                  <a:lnTo>
                    <a:pt x="724" y="88"/>
                  </a:lnTo>
                  <a:lnTo>
                    <a:pt x="742" y="115"/>
                  </a:lnTo>
                  <a:lnTo>
                    <a:pt x="759" y="145"/>
                  </a:lnTo>
                  <a:lnTo>
                    <a:pt x="775" y="179"/>
                  </a:lnTo>
                  <a:lnTo>
                    <a:pt x="791" y="216"/>
                  </a:lnTo>
                  <a:lnTo>
                    <a:pt x="804" y="256"/>
                  </a:lnTo>
                  <a:lnTo>
                    <a:pt x="823" y="347"/>
                  </a:lnTo>
                  <a:lnTo>
                    <a:pt x="828" y="449"/>
                  </a:lnTo>
                  <a:lnTo>
                    <a:pt x="815" y="508"/>
                  </a:lnTo>
                  <a:lnTo>
                    <a:pt x="804" y="541"/>
                  </a:lnTo>
                  <a:lnTo>
                    <a:pt x="796" y="557"/>
                  </a:lnTo>
                  <a:lnTo>
                    <a:pt x="788" y="575"/>
                  </a:lnTo>
                  <a:lnTo>
                    <a:pt x="779" y="592"/>
                  </a:lnTo>
                  <a:lnTo>
                    <a:pt x="769" y="610"/>
                  </a:lnTo>
                  <a:lnTo>
                    <a:pt x="758" y="629"/>
                  </a:lnTo>
                  <a:lnTo>
                    <a:pt x="747" y="647"/>
                  </a:lnTo>
                  <a:lnTo>
                    <a:pt x="734" y="666"/>
                  </a:lnTo>
                  <a:lnTo>
                    <a:pt x="721" y="685"/>
                  </a:lnTo>
                  <a:lnTo>
                    <a:pt x="708" y="704"/>
                  </a:lnTo>
                  <a:lnTo>
                    <a:pt x="692" y="725"/>
                  </a:lnTo>
                  <a:lnTo>
                    <a:pt x="678" y="744"/>
                  </a:lnTo>
                  <a:lnTo>
                    <a:pt x="664" y="763"/>
                  </a:lnTo>
                  <a:lnTo>
                    <a:pt x="646" y="784"/>
                  </a:lnTo>
                  <a:lnTo>
                    <a:pt x="630" y="805"/>
                  </a:lnTo>
                  <a:lnTo>
                    <a:pt x="613" y="824"/>
                  </a:lnTo>
                  <a:lnTo>
                    <a:pt x="597" y="845"/>
                  </a:lnTo>
                  <a:lnTo>
                    <a:pt x="577" y="865"/>
                  </a:lnTo>
                  <a:lnTo>
                    <a:pt x="560" y="886"/>
                  </a:lnTo>
                  <a:lnTo>
                    <a:pt x="542" y="905"/>
                  </a:lnTo>
                  <a:lnTo>
                    <a:pt x="523" y="926"/>
                  </a:lnTo>
                  <a:lnTo>
                    <a:pt x="504" y="947"/>
                  </a:lnTo>
                  <a:lnTo>
                    <a:pt x="486" y="966"/>
                  </a:lnTo>
                  <a:lnTo>
                    <a:pt x="467" y="987"/>
                  </a:lnTo>
                  <a:lnTo>
                    <a:pt x="448" y="1006"/>
                  </a:lnTo>
                  <a:lnTo>
                    <a:pt x="429" y="1025"/>
                  </a:lnTo>
                  <a:lnTo>
                    <a:pt x="410" y="1046"/>
                  </a:lnTo>
                  <a:lnTo>
                    <a:pt x="391" y="1065"/>
                  </a:lnTo>
                  <a:lnTo>
                    <a:pt x="372" y="1084"/>
                  </a:lnTo>
                  <a:lnTo>
                    <a:pt x="352" y="1103"/>
                  </a:lnTo>
                  <a:lnTo>
                    <a:pt x="333" y="1121"/>
                  </a:lnTo>
                  <a:lnTo>
                    <a:pt x="314" y="1140"/>
                  </a:lnTo>
                  <a:lnTo>
                    <a:pt x="295" y="1157"/>
                  </a:lnTo>
                  <a:lnTo>
                    <a:pt x="258" y="1191"/>
                  </a:lnTo>
                  <a:lnTo>
                    <a:pt x="223" y="1225"/>
                  </a:lnTo>
                  <a:lnTo>
                    <a:pt x="190" y="1256"/>
                  </a:lnTo>
                  <a:lnTo>
                    <a:pt x="158" y="1285"/>
                  </a:lnTo>
                  <a:lnTo>
                    <a:pt x="127" y="1312"/>
                  </a:lnTo>
                  <a:lnTo>
                    <a:pt x="100" y="1336"/>
                  </a:lnTo>
                  <a:lnTo>
                    <a:pt x="76" y="1359"/>
                  </a:lnTo>
                  <a:lnTo>
                    <a:pt x="35" y="1394"/>
                  </a:lnTo>
                  <a:lnTo>
                    <a:pt x="0" y="1422"/>
                  </a:lnTo>
                  <a:lnTo>
                    <a:pt x="9" y="1418"/>
                  </a:lnTo>
                  <a:lnTo>
                    <a:pt x="20" y="1413"/>
                  </a:lnTo>
                  <a:lnTo>
                    <a:pt x="35" y="1405"/>
                  </a:lnTo>
                  <a:lnTo>
                    <a:pt x="52" y="1395"/>
                  </a:lnTo>
                  <a:lnTo>
                    <a:pt x="75" y="1383"/>
                  </a:lnTo>
                  <a:lnTo>
                    <a:pt x="86" y="1376"/>
                  </a:lnTo>
                  <a:lnTo>
                    <a:pt x="99" y="1368"/>
                  </a:lnTo>
                  <a:lnTo>
                    <a:pt x="113" y="1362"/>
                  </a:lnTo>
                  <a:lnTo>
                    <a:pt x="126" y="1354"/>
                  </a:lnTo>
                  <a:lnTo>
                    <a:pt x="140" y="1344"/>
                  </a:lnTo>
                  <a:lnTo>
                    <a:pt x="156" y="1336"/>
                  </a:lnTo>
                  <a:lnTo>
                    <a:pt x="172" y="1327"/>
                  </a:lnTo>
                  <a:lnTo>
                    <a:pt x="188" y="1317"/>
                  </a:lnTo>
                  <a:lnTo>
                    <a:pt x="204" y="1308"/>
                  </a:lnTo>
                  <a:lnTo>
                    <a:pt x="221" y="1296"/>
                  </a:lnTo>
                  <a:lnTo>
                    <a:pt x="239" y="1285"/>
                  </a:lnTo>
                  <a:lnTo>
                    <a:pt x="257" y="1274"/>
                  </a:lnTo>
                  <a:lnTo>
                    <a:pt x="276" y="1263"/>
                  </a:lnTo>
                  <a:lnTo>
                    <a:pt x="295" y="1252"/>
                  </a:lnTo>
                  <a:lnTo>
                    <a:pt x="304" y="1245"/>
                  </a:lnTo>
                  <a:lnTo>
                    <a:pt x="314" y="1239"/>
                  </a:lnTo>
                  <a:lnTo>
                    <a:pt x="324" y="1233"/>
                  </a:lnTo>
                  <a:lnTo>
                    <a:pt x="333" y="1226"/>
                  </a:lnTo>
                  <a:lnTo>
                    <a:pt x="343" y="1220"/>
                  </a:lnTo>
                  <a:lnTo>
                    <a:pt x="352" y="1213"/>
                  </a:lnTo>
                  <a:lnTo>
                    <a:pt x="362" y="1207"/>
                  </a:lnTo>
                  <a:lnTo>
                    <a:pt x="372" y="1201"/>
                  </a:lnTo>
                  <a:lnTo>
                    <a:pt x="383" y="1193"/>
                  </a:lnTo>
                  <a:lnTo>
                    <a:pt x="392" y="1186"/>
                  </a:lnTo>
                  <a:lnTo>
                    <a:pt x="402" y="1180"/>
                  </a:lnTo>
                  <a:lnTo>
                    <a:pt x="411" y="1173"/>
                  </a:lnTo>
                  <a:lnTo>
                    <a:pt x="423" y="1165"/>
                  </a:lnTo>
                  <a:lnTo>
                    <a:pt x="432" y="1159"/>
                  </a:lnTo>
                  <a:lnTo>
                    <a:pt x="442" y="1151"/>
                  </a:lnTo>
                  <a:lnTo>
                    <a:pt x="451" y="1145"/>
                  </a:lnTo>
                  <a:lnTo>
                    <a:pt x="462" y="1137"/>
                  </a:lnTo>
                  <a:lnTo>
                    <a:pt x="472" y="1130"/>
                  </a:lnTo>
                  <a:lnTo>
                    <a:pt x="482" y="1122"/>
                  </a:lnTo>
                  <a:lnTo>
                    <a:pt x="491" y="1116"/>
                  </a:lnTo>
                  <a:lnTo>
                    <a:pt x="531" y="1086"/>
                  </a:lnTo>
                  <a:lnTo>
                    <a:pt x="571" y="1054"/>
                  </a:lnTo>
                  <a:lnTo>
                    <a:pt x="609" y="1022"/>
                  </a:lnTo>
                  <a:lnTo>
                    <a:pt x="648" y="990"/>
                  </a:lnTo>
                  <a:lnTo>
                    <a:pt x="684" y="956"/>
                  </a:lnTo>
                  <a:lnTo>
                    <a:pt x="719" y="924"/>
                  </a:lnTo>
                  <a:lnTo>
                    <a:pt x="753" y="889"/>
                  </a:lnTo>
                  <a:lnTo>
                    <a:pt x="783" y="856"/>
                  </a:lnTo>
                  <a:lnTo>
                    <a:pt x="812" y="821"/>
                  </a:lnTo>
                  <a:lnTo>
                    <a:pt x="838" y="786"/>
                  </a:lnTo>
                  <a:lnTo>
                    <a:pt x="862" y="750"/>
                  </a:lnTo>
                  <a:lnTo>
                    <a:pt x="881" y="717"/>
                  </a:lnTo>
                  <a:lnTo>
                    <a:pt x="911" y="647"/>
                  </a:lnTo>
                  <a:lnTo>
                    <a:pt x="930" y="581"/>
                  </a:lnTo>
                  <a:lnTo>
                    <a:pt x="944" y="524"/>
                  </a:lnTo>
                  <a:lnTo>
                    <a:pt x="960" y="423"/>
                  </a:lnTo>
                  <a:lnTo>
                    <a:pt x="962" y="345"/>
                  </a:lnTo>
                  <a:lnTo>
                    <a:pt x="951" y="284"/>
                  </a:lnTo>
                  <a:lnTo>
                    <a:pt x="941" y="259"/>
                  </a:lnTo>
                  <a:lnTo>
                    <a:pt x="930" y="236"/>
                  </a:lnTo>
                  <a:lnTo>
                    <a:pt x="917" y="217"/>
                  </a:lnTo>
                  <a:lnTo>
                    <a:pt x="903" y="200"/>
                  </a:lnTo>
                  <a:lnTo>
                    <a:pt x="871" y="168"/>
                  </a:lnTo>
                  <a:lnTo>
                    <a:pt x="839" y="139"/>
                  </a:lnTo>
                  <a:lnTo>
                    <a:pt x="806" y="112"/>
                  </a:lnTo>
                  <a:lnTo>
                    <a:pt x="772" y="86"/>
                  </a:lnTo>
                  <a:lnTo>
                    <a:pt x="764" y="80"/>
                  </a:lnTo>
                  <a:lnTo>
                    <a:pt x="756" y="74"/>
                  </a:lnTo>
                  <a:lnTo>
                    <a:pt x="739" y="62"/>
                  </a:lnTo>
                  <a:lnTo>
                    <a:pt x="724" y="51"/>
                  </a:lnTo>
                  <a:lnTo>
                    <a:pt x="710" y="42"/>
                  </a:lnTo>
                  <a:lnTo>
                    <a:pt x="697" y="32"/>
                  </a:lnTo>
                  <a:lnTo>
                    <a:pt x="684" y="24"/>
                  </a:lnTo>
                  <a:lnTo>
                    <a:pt x="673" y="18"/>
                  </a:lnTo>
                  <a:lnTo>
                    <a:pt x="665" y="11"/>
                  </a:lnTo>
                  <a:lnTo>
                    <a:pt x="651" y="3"/>
                  </a:lnTo>
                  <a:lnTo>
                    <a:pt x="646" y="0"/>
                  </a:lnTo>
                  <a:lnTo>
                    <a:pt x="646" y="0"/>
                  </a:lnTo>
                  <a:close/>
                </a:path>
              </a:pathLst>
            </a:custGeom>
            <a:gradFill rotWithShape="0">
              <a:gsLst>
                <a:gs pos="0">
                  <a:srgbClr val="3333cc"/>
                </a:gs>
                <a:gs pos="100000">
                  <a:srgbClr val="ff66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rot="811200">
              <a:off x="1625760" y="3946320"/>
              <a:ext cx="370440" cy="907200"/>
            </a:xfrm>
            <a:custGeom>
              <a:avLst/>
              <a:gdLst/>
              <a:ahLst/>
              <a:rect l="l" t="t" r="r" b="b"/>
              <a:pathLst>
                <a:path w="977" h="1137">
                  <a:moveTo>
                    <a:pt x="56" y="0"/>
                  </a:moveTo>
                  <a:lnTo>
                    <a:pt x="50" y="15"/>
                  </a:lnTo>
                  <a:lnTo>
                    <a:pt x="35" y="58"/>
                  </a:lnTo>
                  <a:lnTo>
                    <a:pt x="3" y="211"/>
                  </a:lnTo>
                  <a:lnTo>
                    <a:pt x="0" y="313"/>
                  </a:lnTo>
                  <a:lnTo>
                    <a:pt x="5" y="371"/>
                  </a:lnTo>
                  <a:lnTo>
                    <a:pt x="15" y="430"/>
                  </a:lnTo>
                  <a:lnTo>
                    <a:pt x="31" y="492"/>
                  </a:lnTo>
                  <a:lnTo>
                    <a:pt x="40" y="524"/>
                  </a:lnTo>
                  <a:lnTo>
                    <a:pt x="53" y="556"/>
                  </a:lnTo>
                  <a:lnTo>
                    <a:pt x="67" y="589"/>
                  </a:lnTo>
                  <a:lnTo>
                    <a:pt x="83" y="621"/>
                  </a:lnTo>
                  <a:lnTo>
                    <a:pt x="101" y="655"/>
                  </a:lnTo>
                  <a:lnTo>
                    <a:pt x="120" y="688"/>
                  </a:lnTo>
                  <a:lnTo>
                    <a:pt x="144" y="720"/>
                  </a:lnTo>
                  <a:lnTo>
                    <a:pt x="168" y="752"/>
                  </a:lnTo>
                  <a:lnTo>
                    <a:pt x="195" y="781"/>
                  </a:lnTo>
                  <a:lnTo>
                    <a:pt x="222" y="810"/>
                  </a:lnTo>
                  <a:lnTo>
                    <a:pt x="252" y="837"/>
                  </a:lnTo>
                  <a:lnTo>
                    <a:pt x="284" y="862"/>
                  </a:lnTo>
                  <a:lnTo>
                    <a:pt x="300" y="873"/>
                  </a:lnTo>
                  <a:lnTo>
                    <a:pt x="316" y="885"/>
                  </a:lnTo>
                  <a:lnTo>
                    <a:pt x="334" y="897"/>
                  </a:lnTo>
                  <a:lnTo>
                    <a:pt x="350" y="909"/>
                  </a:lnTo>
                  <a:lnTo>
                    <a:pt x="367" y="920"/>
                  </a:lnTo>
                  <a:lnTo>
                    <a:pt x="385" y="929"/>
                  </a:lnTo>
                  <a:lnTo>
                    <a:pt x="402" y="940"/>
                  </a:lnTo>
                  <a:lnTo>
                    <a:pt x="420" y="950"/>
                  </a:lnTo>
                  <a:lnTo>
                    <a:pt x="438" y="960"/>
                  </a:lnTo>
                  <a:lnTo>
                    <a:pt x="455" y="968"/>
                  </a:lnTo>
                  <a:lnTo>
                    <a:pt x="473" y="977"/>
                  </a:lnTo>
                  <a:lnTo>
                    <a:pt x="492" y="987"/>
                  </a:lnTo>
                  <a:lnTo>
                    <a:pt x="509" y="995"/>
                  </a:lnTo>
                  <a:lnTo>
                    <a:pt x="527" y="1003"/>
                  </a:lnTo>
                  <a:lnTo>
                    <a:pt x="546" y="1011"/>
                  </a:lnTo>
                  <a:lnTo>
                    <a:pt x="564" y="1019"/>
                  </a:lnTo>
                  <a:lnTo>
                    <a:pt x="581" y="1025"/>
                  </a:lnTo>
                  <a:lnTo>
                    <a:pt x="599" y="1033"/>
                  </a:lnTo>
                  <a:lnTo>
                    <a:pt x="616" y="1039"/>
                  </a:lnTo>
                  <a:lnTo>
                    <a:pt x="634" y="1046"/>
                  </a:lnTo>
                  <a:lnTo>
                    <a:pt x="651" y="1052"/>
                  </a:lnTo>
                  <a:lnTo>
                    <a:pt x="669" y="1059"/>
                  </a:lnTo>
                  <a:lnTo>
                    <a:pt x="703" y="1070"/>
                  </a:lnTo>
                  <a:lnTo>
                    <a:pt x="734" y="1079"/>
                  </a:lnTo>
                  <a:lnTo>
                    <a:pt x="766" y="1089"/>
                  </a:lnTo>
                  <a:lnTo>
                    <a:pt x="795" y="1097"/>
                  </a:lnTo>
                  <a:lnTo>
                    <a:pt x="824" y="1105"/>
                  </a:lnTo>
                  <a:lnTo>
                    <a:pt x="851" y="1111"/>
                  </a:lnTo>
                  <a:lnTo>
                    <a:pt x="875" y="1118"/>
                  </a:lnTo>
                  <a:lnTo>
                    <a:pt x="916" y="1126"/>
                  </a:lnTo>
                  <a:lnTo>
                    <a:pt x="950" y="1132"/>
                  </a:lnTo>
                  <a:lnTo>
                    <a:pt x="977" y="1137"/>
                  </a:lnTo>
                  <a:lnTo>
                    <a:pt x="955" y="1130"/>
                  </a:lnTo>
                  <a:lnTo>
                    <a:pt x="929" y="1122"/>
                  </a:lnTo>
                  <a:lnTo>
                    <a:pt x="894" y="1110"/>
                  </a:lnTo>
                  <a:lnTo>
                    <a:pt x="875" y="1103"/>
                  </a:lnTo>
                  <a:lnTo>
                    <a:pt x="853" y="1095"/>
                  </a:lnTo>
                  <a:lnTo>
                    <a:pt x="830" y="1086"/>
                  </a:lnTo>
                  <a:lnTo>
                    <a:pt x="806" y="1076"/>
                  </a:lnTo>
                  <a:lnTo>
                    <a:pt x="781" y="1067"/>
                  </a:lnTo>
                  <a:lnTo>
                    <a:pt x="754" y="1055"/>
                  </a:lnTo>
                  <a:lnTo>
                    <a:pt x="726" y="1043"/>
                  </a:lnTo>
                  <a:lnTo>
                    <a:pt x="714" y="1036"/>
                  </a:lnTo>
                  <a:lnTo>
                    <a:pt x="699" y="1030"/>
                  </a:lnTo>
                  <a:lnTo>
                    <a:pt x="685" y="1023"/>
                  </a:lnTo>
                  <a:lnTo>
                    <a:pt x="671" y="1015"/>
                  </a:lnTo>
                  <a:lnTo>
                    <a:pt x="658" y="1009"/>
                  </a:lnTo>
                  <a:lnTo>
                    <a:pt x="642" y="1001"/>
                  </a:lnTo>
                  <a:lnTo>
                    <a:pt x="629" y="995"/>
                  </a:lnTo>
                  <a:lnTo>
                    <a:pt x="615" y="987"/>
                  </a:lnTo>
                  <a:lnTo>
                    <a:pt x="599" y="979"/>
                  </a:lnTo>
                  <a:lnTo>
                    <a:pt x="586" y="971"/>
                  </a:lnTo>
                  <a:lnTo>
                    <a:pt x="572" y="961"/>
                  </a:lnTo>
                  <a:lnTo>
                    <a:pt x="557" y="953"/>
                  </a:lnTo>
                  <a:lnTo>
                    <a:pt x="543" y="945"/>
                  </a:lnTo>
                  <a:lnTo>
                    <a:pt x="529" y="936"/>
                  </a:lnTo>
                  <a:lnTo>
                    <a:pt x="514" y="926"/>
                  </a:lnTo>
                  <a:lnTo>
                    <a:pt x="500" y="918"/>
                  </a:lnTo>
                  <a:lnTo>
                    <a:pt x="487" y="909"/>
                  </a:lnTo>
                  <a:lnTo>
                    <a:pt x="473" y="899"/>
                  </a:lnTo>
                  <a:lnTo>
                    <a:pt x="447" y="878"/>
                  </a:lnTo>
                  <a:lnTo>
                    <a:pt x="422" y="857"/>
                  </a:lnTo>
                  <a:lnTo>
                    <a:pt x="396" y="837"/>
                  </a:lnTo>
                  <a:lnTo>
                    <a:pt x="374" y="814"/>
                  </a:lnTo>
                  <a:lnTo>
                    <a:pt x="351" y="790"/>
                  </a:lnTo>
                  <a:lnTo>
                    <a:pt x="331" y="766"/>
                  </a:lnTo>
                  <a:lnTo>
                    <a:pt x="312" y="742"/>
                  </a:lnTo>
                  <a:lnTo>
                    <a:pt x="296" y="717"/>
                  </a:lnTo>
                  <a:lnTo>
                    <a:pt x="280" y="691"/>
                  </a:lnTo>
                  <a:lnTo>
                    <a:pt x="265" y="664"/>
                  </a:lnTo>
                  <a:lnTo>
                    <a:pt x="251" y="636"/>
                  </a:lnTo>
                  <a:lnTo>
                    <a:pt x="237" y="607"/>
                  </a:lnTo>
                  <a:lnTo>
                    <a:pt x="224" y="578"/>
                  </a:lnTo>
                  <a:lnTo>
                    <a:pt x="211" y="549"/>
                  </a:lnTo>
                  <a:lnTo>
                    <a:pt x="187" y="489"/>
                  </a:lnTo>
                  <a:lnTo>
                    <a:pt x="165" y="430"/>
                  </a:lnTo>
                  <a:lnTo>
                    <a:pt x="146" y="371"/>
                  </a:lnTo>
                  <a:lnTo>
                    <a:pt x="128" y="311"/>
                  </a:lnTo>
                  <a:lnTo>
                    <a:pt x="112" y="256"/>
                  </a:lnTo>
                  <a:lnTo>
                    <a:pt x="99" y="203"/>
                  </a:lnTo>
                  <a:lnTo>
                    <a:pt x="88" y="155"/>
                  </a:lnTo>
                  <a:lnTo>
                    <a:pt x="71" y="74"/>
                  </a:lnTo>
                  <a:lnTo>
                    <a:pt x="56" y="0"/>
                  </a:lnTo>
                  <a:lnTo>
                    <a:pt x="56" y="0"/>
                  </a:lnTo>
                  <a:close/>
                </a:path>
              </a:pathLst>
            </a:custGeom>
            <a:gradFill rotWithShape="0">
              <a:gsLst>
                <a:gs pos="0">
                  <a:srgbClr val="ff5050"/>
                </a:gs>
                <a:gs pos="100000">
                  <a:srgbClr val="cc00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rot="19802400">
              <a:off x="2000160" y="3339720"/>
              <a:ext cx="1647720" cy="468360"/>
            </a:xfrm>
            <a:custGeom>
              <a:avLst/>
              <a:gdLst/>
              <a:ahLst/>
              <a:rect l="l" t="t" r="r" b="b"/>
              <a:pathLst>
                <a:path w="1183" h="817">
                  <a:moveTo>
                    <a:pt x="0" y="24"/>
                  </a:moveTo>
                  <a:lnTo>
                    <a:pt x="18" y="19"/>
                  </a:lnTo>
                  <a:lnTo>
                    <a:pt x="64" y="9"/>
                  </a:lnTo>
                  <a:lnTo>
                    <a:pt x="97" y="5"/>
                  </a:lnTo>
                  <a:lnTo>
                    <a:pt x="136" y="2"/>
                  </a:lnTo>
                  <a:lnTo>
                    <a:pt x="227" y="0"/>
                  </a:lnTo>
                  <a:lnTo>
                    <a:pt x="332" y="13"/>
                  </a:lnTo>
                  <a:lnTo>
                    <a:pt x="389" y="25"/>
                  </a:lnTo>
                  <a:lnTo>
                    <a:pt x="418" y="33"/>
                  </a:lnTo>
                  <a:lnTo>
                    <a:pt x="449" y="43"/>
                  </a:lnTo>
                  <a:lnTo>
                    <a:pt x="477" y="54"/>
                  </a:lnTo>
                  <a:lnTo>
                    <a:pt x="493" y="61"/>
                  </a:lnTo>
                  <a:lnTo>
                    <a:pt x="508" y="69"/>
                  </a:lnTo>
                  <a:lnTo>
                    <a:pt x="524" y="75"/>
                  </a:lnTo>
                  <a:lnTo>
                    <a:pt x="538" y="83"/>
                  </a:lnTo>
                  <a:lnTo>
                    <a:pt x="554" y="91"/>
                  </a:lnTo>
                  <a:lnTo>
                    <a:pt x="568" y="99"/>
                  </a:lnTo>
                  <a:lnTo>
                    <a:pt x="583" y="108"/>
                  </a:lnTo>
                  <a:lnTo>
                    <a:pt x="599" y="118"/>
                  </a:lnTo>
                  <a:lnTo>
                    <a:pt x="613" y="129"/>
                  </a:lnTo>
                  <a:lnTo>
                    <a:pt x="629" y="139"/>
                  </a:lnTo>
                  <a:lnTo>
                    <a:pt x="658" y="163"/>
                  </a:lnTo>
                  <a:lnTo>
                    <a:pt x="688" y="187"/>
                  </a:lnTo>
                  <a:lnTo>
                    <a:pt x="717" y="214"/>
                  </a:lnTo>
                  <a:lnTo>
                    <a:pt x="745" y="241"/>
                  </a:lnTo>
                  <a:lnTo>
                    <a:pt x="773" y="268"/>
                  </a:lnTo>
                  <a:lnTo>
                    <a:pt x="800" y="295"/>
                  </a:lnTo>
                  <a:lnTo>
                    <a:pt x="825" y="322"/>
                  </a:lnTo>
                  <a:lnTo>
                    <a:pt x="851" y="350"/>
                  </a:lnTo>
                  <a:lnTo>
                    <a:pt x="875" y="377"/>
                  </a:lnTo>
                  <a:lnTo>
                    <a:pt x="899" y="404"/>
                  </a:lnTo>
                  <a:lnTo>
                    <a:pt x="921" y="431"/>
                  </a:lnTo>
                  <a:lnTo>
                    <a:pt x="942" y="458"/>
                  </a:lnTo>
                  <a:lnTo>
                    <a:pt x="962" y="484"/>
                  </a:lnTo>
                  <a:lnTo>
                    <a:pt x="983" y="509"/>
                  </a:lnTo>
                  <a:lnTo>
                    <a:pt x="1002" y="535"/>
                  </a:lnTo>
                  <a:lnTo>
                    <a:pt x="1020" y="560"/>
                  </a:lnTo>
                  <a:lnTo>
                    <a:pt x="1037" y="584"/>
                  </a:lnTo>
                  <a:lnTo>
                    <a:pt x="1053" y="607"/>
                  </a:lnTo>
                  <a:lnTo>
                    <a:pt x="1068" y="629"/>
                  </a:lnTo>
                  <a:lnTo>
                    <a:pt x="1084" y="651"/>
                  </a:lnTo>
                  <a:lnTo>
                    <a:pt x="1097" y="672"/>
                  </a:lnTo>
                  <a:lnTo>
                    <a:pt x="1109" y="691"/>
                  </a:lnTo>
                  <a:lnTo>
                    <a:pt x="1132" y="728"/>
                  </a:lnTo>
                  <a:lnTo>
                    <a:pt x="1151" y="758"/>
                  </a:lnTo>
                  <a:lnTo>
                    <a:pt x="1164" y="784"/>
                  </a:lnTo>
                  <a:lnTo>
                    <a:pt x="1175" y="801"/>
                  </a:lnTo>
                  <a:lnTo>
                    <a:pt x="1183" y="817"/>
                  </a:lnTo>
                  <a:lnTo>
                    <a:pt x="1167" y="798"/>
                  </a:lnTo>
                  <a:lnTo>
                    <a:pt x="1149" y="776"/>
                  </a:lnTo>
                  <a:lnTo>
                    <a:pt x="1124" y="747"/>
                  </a:lnTo>
                  <a:lnTo>
                    <a:pt x="1093" y="712"/>
                  </a:lnTo>
                  <a:lnTo>
                    <a:pt x="1077" y="691"/>
                  </a:lnTo>
                  <a:lnTo>
                    <a:pt x="1060" y="670"/>
                  </a:lnTo>
                  <a:lnTo>
                    <a:pt x="1041" y="650"/>
                  </a:lnTo>
                  <a:lnTo>
                    <a:pt x="1022" y="627"/>
                  </a:lnTo>
                  <a:lnTo>
                    <a:pt x="1001" y="603"/>
                  </a:lnTo>
                  <a:lnTo>
                    <a:pt x="978" y="579"/>
                  </a:lnTo>
                  <a:lnTo>
                    <a:pt x="958" y="555"/>
                  </a:lnTo>
                  <a:lnTo>
                    <a:pt x="935" y="531"/>
                  </a:lnTo>
                  <a:lnTo>
                    <a:pt x="911" y="508"/>
                  </a:lnTo>
                  <a:lnTo>
                    <a:pt x="889" y="482"/>
                  </a:lnTo>
                  <a:lnTo>
                    <a:pt x="865" y="458"/>
                  </a:lnTo>
                  <a:lnTo>
                    <a:pt x="843" y="434"/>
                  </a:lnTo>
                  <a:lnTo>
                    <a:pt x="819" y="410"/>
                  </a:lnTo>
                  <a:lnTo>
                    <a:pt x="795" y="386"/>
                  </a:lnTo>
                  <a:lnTo>
                    <a:pt x="771" y="364"/>
                  </a:lnTo>
                  <a:lnTo>
                    <a:pt x="749" y="342"/>
                  </a:lnTo>
                  <a:lnTo>
                    <a:pt x="725" y="321"/>
                  </a:lnTo>
                  <a:lnTo>
                    <a:pt x="702" y="300"/>
                  </a:lnTo>
                  <a:lnTo>
                    <a:pt x="680" y="282"/>
                  </a:lnTo>
                  <a:lnTo>
                    <a:pt x="659" y="265"/>
                  </a:lnTo>
                  <a:lnTo>
                    <a:pt x="638" y="247"/>
                  </a:lnTo>
                  <a:lnTo>
                    <a:pt x="627" y="241"/>
                  </a:lnTo>
                  <a:lnTo>
                    <a:pt x="618" y="233"/>
                  </a:lnTo>
                  <a:lnTo>
                    <a:pt x="608" y="227"/>
                  </a:lnTo>
                  <a:lnTo>
                    <a:pt x="599" y="220"/>
                  </a:lnTo>
                  <a:lnTo>
                    <a:pt x="587" y="214"/>
                  </a:lnTo>
                  <a:lnTo>
                    <a:pt x="578" y="209"/>
                  </a:lnTo>
                  <a:lnTo>
                    <a:pt x="555" y="196"/>
                  </a:lnTo>
                  <a:lnTo>
                    <a:pt x="535" y="187"/>
                  </a:lnTo>
                  <a:lnTo>
                    <a:pt x="512" y="177"/>
                  </a:lnTo>
                  <a:lnTo>
                    <a:pt x="488" y="168"/>
                  </a:lnTo>
                  <a:lnTo>
                    <a:pt x="466" y="160"/>
                  </a:lnTo>
                  <a:lnTo>
                    <a:pt x="442" y="152"/>
                  </a:lnTo>
                  <a:lnTo>
                    <a:pt x="420" y="145"/>
                  </a:lnTo>
                  <a:lnTo>
                    <a:pt x="397" y="140"/>
                  </a:lnTo>
                  <a:lnTo>
                    <a:pt x="351" y="129"/>
                  </a:lnTo>
                  <a:lnTo>
                    <a:pt x="307" y="121"/>
                  </a:lnTo>
                  <a:lnTo>
                    <a:pt x="263" y="115"/>
                  </a:lnTo>
                  <a:lnTo>
                    <a:pt x="185" y="108"/>
                  </a:lnTo>
                  <a:lnTo>
                    <a:pt x="121" y="105"/>
                  </a:lnTo>
                  <a:lnTo>
                    <a:pt x="65" y="105"/>
                  </a:lnTo>
                  <a:lnTo>
                    <a:pt x="0" y="24"/>
                  </a:lnTo>
                  <a:lnTo>
                    <a:pt x="0" y="24"/>
                  </a:lnTo>
                  <a:close/>
                </a:path>
              </a:pathLst>
            </a:custGeom>
            <a:gradFill rotWithShape="0">
              <a:gsLst>
                <a:gs pos="0">
                  <a:srgbClr val="3333cc"/>
                </a:gs>
                <a:gs pos="100000">
                  <a:srgbClr val="ff505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rot="2125800">
              <a:off x="1281240" y="3246120"/>
              <a:ext cx="728280" cy="157680"/>
            </a:xfrm>
            <a:custGeom>
              <a:avLst/>
              <a:gdLst/>
              <a:ahLst/>
              <a:rect l="l" t="t" r="r" b="b"/>
              <a:pathLst>
                <a:path w="202" h="79">
                  <a:moveTo>
                    <a:pt x="7" y="23"/>
                  </a:moveTo>
                  <a:lnTo>
                    <a:pt x="202" y="79"/>
                  </a:lnTo>
                  <a:lnTo>
                    <a:pt x="198" y="50"/>
                  </a:lnTo>
                  <a:lnTo>
                    <a:pt x="16" y="0"/>
                  </a:lnTo>
                  <a:lnTo>
                    <a:pt x="12" y="2"/>
                  </a:lnTo>
                  <a:lnTo>
                    <a:pt x="4" y="4"/>
                  </a:lnTo>
                  <a:lnTo>
                    <a:pt x="0" y="11"/>
                  </a:lnTo>
                  <a:lnTo>
                    <a:pt x="7" y="23"/>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rot="1960200">
              <a:off x="1556640" y="5387400"/>
              <a:ext cx="132120" cy="514440"/>
            </a:xfrm>
            <a:custGeom>
              <a:avLst/>
              <a:gdLst/>
              <a:ahLst/>
              <a:rect l="l" t="t" r="r" b="b"/>
              <a:pathLst>
                <a:path w="207" h="141">
                  <a:moveTo>
                    <a:pt x="0" y="115"/>
                  </a:moveTo>
                  <a:lnTo>
                    <a:pt x="88" y="141"/>
                  </a:lnTo>
                  <a:lnTo>
                    <a:pt x="207" y="30"/>
                  </a:lnTo>
                  <a:lnTo>
                    <a:pt x="207" y="29"/>
                  </a:lnTo>
                  <a:lnTo>
                    <a:pt x="206" y="23"/>
                  </a:lnTo>
                  <a:lnTo>
                    <a:pt x="202" y="16"/>
                  </a:lnTo>
                  <a:lnTo>
                    <a:pt x="198" y="10"/>
                  </a:lnTo>
                  <a:lnTo>
                    <a:pt x="192" y="3"/>
                  </a:lnTo>
                  <a:lnTo>
                    <a:pt x="186" y="0"/>
                  </a:lnTo>
                  <a:lnTo>
                    <a:pt x="176" y="0"/>
                  </a:lnTo>
                  <a:lnTo>
                    <a:pt x="164" y="4"/>
                  </a:lnTo>
                  <a:lnTo>
                    <a:pt x="0" y="115"/>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rot="2085600">
              <a:off x="4249800" y="5411520"/>
              <a:ext cx="659520" cy="229680"/>
            </a:xfrm>
            <a:custGeom>
              <a:avLst/>
              <a:gdLst/>
              <a:ahLst/>
              <a:rect l="l" t="t" r="r" b="b"/>
              <a:pathLst>
                <a:path w="202" h="79">
                  <a:moveTo>
                    <a:pt x="7" y="23"/>
                  </a:moveTo>
                  <a:lnTo>
                    <a:pt x="202" y="79"/>
                  </a:lnTo>
                  <a:lnTo>
                    <a:pt x="198" y="50"/>
                  </a:lnTo>
                  <a:lnTo>
                    <a:pt x="16" y="0"/>
                  </a:lnTo>
                  <a:lnTo>
                    <a:pt x="12" y="2"/>
                  </a:lnTo>
                  <a:lnTo>
                    <a:pt x="4" y="4"/>
                  </a:lnTo>
                  <a:lnTo>
                    <a:pt x="0" y="11"/>
                  </a:lnTo>
                  <a:lnTo>
                    <a:pt x="7" y="23"/>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rot="1960200">
              <a:off x="4316040" y="2873880"/>
              <a:ext cx="144360" cy="560160"/>
            </a:xfrm>
            <a:custGeom>
              <a:avLst/>
              <a:gdLst/>
              <a:ahLst/>
              <a:rect l="l" t="t" r="r" b="b"/>
              <a:pathLst>
                <a:path w="207" h="141">
                  <a:moveTo>
                    <a:pt x="0" y="115"/>
                  </a:moveTo>
                  <a:lnTo>
                    <a:pt x="88" y="141"/>
                  </a:lnTo>
                  <a:lnTo>
                    <a:pt x="207" y="30"/>
                  </a:lnTo>
                  <a:lnTo>
                    <a:pt x="207" y="29"/>
                  </a:lnTo>
                  <a:lnTo>
                    <a:pt x="206" y="23"/>
                  </a:lnTo>
                  <a:lnTo>
                    <a:pt x="202" y="16"/>
                  </a:lnTo>
                  <a:lnTo>
                    <a:pt x="198" y="10"/>
                  </a:lnTo>
                  <a:lnTo>
                    <a:pt x="192" y="3"/>
                  </a:lnTo>
                  <a:lnTo>
                    <a:pt x="186" y="0"/>
                  </a:lnTo>
                  <a:lnTo>
                    <a:pt x="176" y="0"/>
                  </a:lnTo>
                  <a:lnTo>
                    <a:pt x="164" y="4"/>
                  </a:lnTo>
                  <a:lnTo>
                    <a:pt x="0" y="11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9" name=""/>
            <p:cNvGrpSpPr/>
            <p:nvPr/>
          </p:nvGrpSpPr>
          <p:grpSpPr>
            <a:xfrm>
              <a:off x="913320" y="5596560"/>
              <a:ext cx="488880" cy="722160"/>
              <a:chOff x="913320" y="5596560"/>
              <a:chExt cx="488880" cy="722160"/>
            </a:xfrm>
          </p:grpSpPr>
          <p:grpSp>
            <p:nvGrpSpPr>
              <p:cNvPr id="1100" name=""/>
              <p:cNvGrpSpPr/>
              <p:nvPr/>
            </p:nvGrpSpPr>
            <p:grpSpPr>
              <a:xfrm>
                <a:off x="913320" y="5596560"/>
                <a:ext cx="488880" cy="722160"/>
                <a:chOff x="913320" y="5596560"/>
                <a:chExt cx="488880" cy="722160"/>
              </a:xfrm>
            </p:grpSpPr>
            <p:sp>
              <p:nvSpPr>
                <p:cNvPr id="1101" name=""/>
                <p:cNvSpPr/>
                <p:nvPr/>
              </p:nvSpPr>
              <p:spPr>
                <a:xfrm>
                  <a:off x="913320" y="5608080"/>
                  <a:ext cx="488880" cy="195840"/>
                </a:xfrm>
                <a:custGeom>
                  <a:avLst/>
                  <a:gdLst/>
                  <a:ahLst/>
                  <a:rect l="l" t="t" r="r" b="b"/>
                  <a:pathLst>
                    <a:path w="848" h="403">
                      <a:moveTo>
                        <a:pt x="0" y="296"/>
                      </a:moveTo>
                      <a:lnTo>
                        <a:pt x="410" y="403"/>
                      </a:lnTo>
                      <a:lnTo>
                        <a:pt x="848" y="74"/>
                      </a:lnTo>
                      <a:lnTo>
                        <a:pt x="494" y="0"/>
                      </a:lnTo>
                      <a:lnTo>
                        <a:pt x="0" y="29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913320" y="5751720"/>
                  <a:ext cx="236160" cy="567000"/>
                </a:xfrm>
                <a:custGeom>
                  <a:avLst/>
                  <a:gdLst/>
                  <a:ahLst/>
                  <a:rect l="l" t="t" r="r" b="b"/>
                  <a:pathLst>
                    <a:path w="410" h="1168">
                      <a:moveTo>
                        <a:pt x="0" y="0"/>
                      </a:moveTo>
                      <a:lnTo>
                        <a:pt x="410" y="106"/>
                      </a:lnTo>
                      <a:lnTo>
                        <a:pt x="410" y="1168"/>
                      </a:lnTo>
                      <a:lnTo>
                        <a:pt x="0" y="993"/>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148400" y="5644080"/>
                  <a:ext cx="252000" cy="674640"/>
                </a:xfrm>
                <a:custGeom>
                  <a:avLst/>
                  <a:gdLst/>
                  <a:ahLst/>
                  <a:rect l="l" t="t" r="r" b="b"/>
                  <a:pathLst>
                    <a:path w="438" h="1390">
                      <a:moveTo>
                        <a:pt x="0" y="329"/>
                      </a:moveTo>
                      <a:lnTo>
                        <a:pt x="0" y="1390"/>
                      </a:lnTo>
                      <a:lnTo>
                        <a:pt x="438" y="886"/>
                      </a:lnTo>
                      <a:lnTo>
                        <a:pt x="438" y="0"/>
                      </a:lnTo>
                      <a:lnTo>
                        <a:pt x="0" y="329"/>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4" name=""/>
                <p:cNvGrpSpPr/>
                <p:nvPr/>
              </p:nvGrpSpPr>
              <p:grpSpPr>
                <a:xfrm>
                  <a:off x="974160" y="5596560"/>
                  <a:ext cx="372240" cy="178560"/>
                  <a:chOff x="974160" y="5596560"/>
                  <a:chExt cx="372240" cy="178560"/>
                </a:xfrm>
              </p:grpSpPr>
              <p:sp>
                <p:nvSpPr>
                  <p:cNvPr id="1105" name=""/>
                  <p:cNvSpPr/>
                  <p:nvPr/>
                </p:nvSpPr>
                <p:spPr>
                  <a:xfrm>
                    <a:off x="974160" y="5596560"/>
                    <a:ext cx="372240" cy="147600"/>
                  </a:xfrm>
                  <a:custGeom>
                    <a:avLst/>
                    <a:gdLst/>
                    <a:ahLst/>
                    <a:rect l="l" t="t" r="r" b="b"/>
                    <a:pathLst>
                      <a:path w="646" h="303">
                        <a:moveTo>
                          <a:pt x="0" y="227"/>
                        </a:moveTo>
                        <a:lnTo>
                          <a:pt x="294" y="303"/>
                        </a:lnTo>
                        <a:lnTo>
                          <a:pt x="646" y="50"/>
                        </a:lnTo>
                        <a:lnTo>
                          <a:pt x="386" y="0"/>
                        </a:lnTo>
                        <a:lnTo>
                          <a:pt x="0" y="227"/>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1142280" y="5621400"/>
                    <a:ext cx="203760" cy="153360"/>
                  </a:xfrm>
                  <a:custGeom>
                    <a:avLst/>
                    <a:gdLst/>
                    <a:ahLst/>
                    <a:rect l="l" t="t" r="r" b="b"/>
                    <a:pathLst>
                      <a:path w="353" h="317">
                        <a:moveTo>
                          <a:pt x="0" y="251"/>
                        </a:moveTo>
                        <a:lnTo>
                          <a:pt x="353" y="0"/>
                        </a:lnTo>
                        <a:lnTo>
                          <a:pt x="353" y="59"/>
                        </a:lnTo>
                        <a:lnTo>
                          <a:pt x="0" y="317"/>
                        </a:lnTo>
                        <a:lnTo>
                          <a:pt x="0" y="251"/>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974160" y="5707080"/>
                    <a:ext cx="168120" cy="68040"/>
                  </a:xfrm>
                  <a:custGeom>
                    <a:avLst/>
                    <a:gdLst/>
                    <a:ahLst/>
                    <a:rect l="l" t="t" r="r" b="b"/>
                    <a:pathLst>
                      <a:path w="293" h="141">
                        <a:moveTo>
                          <a:pt x="293" y="75"/>
                        </a:moveTo>
                        <a:lnTo>
                          <a:pt x="293" y="141"/>
                        </a:lnTo>
                        <a:lnTo>
                          <a:pt x="0" y="63"/>
                        </a:lnTo>
                        <a:lnTo>
                          <a:pt x="0" y="0"/>
                        </a:lnTo>
                        <a:lnTo>
                          <a:pt x="293" y="75"/>
                        </a:lnTo>
                        <a:close/>
                      </a:path>
                    </a:pathLst>
                  </a:custGeom>
                  <a:solidFill>
                    <a:srgbClr val="bf5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1108" name=""/>
              <p:cNvGrpSpPr/>
              <p:nvPr/>
            </p:nvGrpSpPr>
            <p:grpSpPr>
              <a:xfrm>
                <a:off x="924480" y="5770080"/>
                <a:ext cx="210960" cy="524160"/>
                <a:chOff x="924480" y="5770080"/>
                <a:chExt cx="210960" cy="524160"/>
              </a:xfrm>
            </p:grpSpPr>
            <p:sp>
              <p:nvSpPr>
                <p:cNvPr id="1109" name=""/>
                <p:cNvSpPr/>
                <p:nvPr/>
              </p:nvSpPr>
              <p:spPr>
                <a:xfrm>
                  <a:off x="924480" y="5770080"/>
                  <a:ext cx="210960" cy="524160"/>
                </a:xfrm>
                <a:custGeom>
                  <a:avLst/>
                  <a:gdLst/>
                  <a:ahLst/>
                  <a:rect l="l" t="t" r="r" b="b"/>
                  <a:pathLst>
                    <a:path w="366" h="1081">
                      <a:moveTo>
                        <a:pt x="0" y="0"/>
                      </a:moveTo>
                      <a:lnTo>
                        <a:pt x="366" y="96"/>
                      </a:lnTo>
                      <a:lnTo>
                        <a:pt x="366" y="1081"/>
                      </a:lnTo>
                      <a:lnTo>
                        <a:pt x="0" y="9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955440" y="5775480"/>
                  <a:ext cx="21960" cy="464040"/>
                </a:xfrm>
                <a:custGeom>
                  <a:avLst/>
                  <a:gdLst/>
                  <a:ahLst/>
                  <a:rect l="l" t="t" r="r" b="b"/>
                  <a:pathLst>
                    <a:path w="39" h="957">
                      <a:moveTo>
                        <a:pt x="1" y="0"/>
                      </a:moveTo>
                      <a:lnTo>
                        <a:pt x="0" y="942"/>
                      </a:lnTo>
                      <a:lnTo>
                        <a:pt x="38" y="957"/>
                      </a:lnTo>
                      <a:lnTo>
                        <a:pt x="39" y="10"/>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013400" y="5785560"/>
                  <a:ext cx="22680" cy="474480"/>
                </a:xfrm>
                <a:custGeom>
                  <a:avLst/>
                  <a:gdLst/>
                  <a:ahLst/>
                  <a:rect l="l" t="t" r="r" b="b"/>
                  <a:pathLst>
                    <a:path w="42" h="977">
                      <a:moveTo>
                        <a:pt x="0" y="0"/>
                      </a:moveTo>
                      <a:lnTo>
                        <a:pt x="0" y="959"/>
                      </a:lnTo>
                      <a:lnTo>
                        <a:pt x="39" y="977"/>
                      </a:lnTo>
                      <a:lnTo>
                        <a:pt x="42" y="15"/>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074600" y="5802840"/>
                  <a:ext cx="25200" cy="477360"/>
                </a:xfrm>
                <a:custGeom>
                  <a:avLst/>
                  <a:gdLst/>
                  <a:ahLst/>
                  <a:rect l="l" t="t" r="r" b="b"/>
                  <a:pathLst>
                    <a:path w="42" h="985">
                      <a:moveTo>
                        <a:pt x="1" y="0"/>
                      </a:moveTo>
                      <a:lnTo>
                        <a:pt x="0" y="963"/>
                      </a:lnTo>
                      <a:lnTo>
                        <a:pt x="42" y="985"/>
                      </a:lnTo>
                      <a:lnTo>
                        <a:pt x="40" y="9"/>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3" name=""/>
            <p:cNvSpPr/>
            <p:nvPr/>
          </p:nvSpPr>
          <p:spPr>
            <a:xfrm rot="1960200">
              <a:off x="2431440" y="4527000"/>
              <a:ext cx="132120" cy="512640"/>
            </a:xfrm>
            <a:custGeom>
              <a:avLst/>
              <a:gdLst/>
              <a:ahLst/>
              <a:rect l="l" t="t" r="r" b="b"/>
              <a:pathLst>
                <a:path w="207" h="141">
                  <a:moveTo>
                    <a:pt x="0" y="115"/>
                  </a:moveTo>
                  <a:lnTo>
                    <a:pt x="88" y="141"/>
                  </a:lnTo>
                  <a:lnTo>
                    <a:pt x="207" y="30"/>
                  </a:lnTo>
                  <a:lnTo>
                    <a:pt x="207" y="29"/>
                  </a:lnTo>
                  <a:lnTo>
                    <a:pt x="206" y="23"/>
                  </a:lnTo>
                  <a:lnTo>
                    <a:pt x="202" y="16"/>
                  </a:lnTo>
                  <a:lnTo>
                    <a:pt x="198" y="10"/>
                  </a:lnTo>
                  <a:lnTo>
                    <a:pt x="192" y="3"/>
                  </a:lnTo>
                  <a:lnTo>
                    <a:pt x="186" y="0"/>
                  </a:lnTo>
                  <a:lnTo>
                    <a:pt x="176" y="0"/>
                  </a:lnTo>
                  <a:lnTo>
                    <a:pt x="164" y="4"/>
                  </a:lnTo>
                  <a:lnTo>
                    <a:pt x="0" y="115"/>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4" name=""/>
            <p:cNvGrpSpPr/>
            <p:nvPr/>
          </p:nvGrpSpPr>
          <p:grpSpPr>
            <a:xfrm>
              <a:off x="1666440" y="4919760"/>
              <a:ext cx="721800" cy="663120"/>
              <a:chOff x="1666440" y="4919760"/>
              <a:chExt cx="721800" cy="663120"/>
            </a:xfrm>
          </p:grpSpPr>
          <p:sp>
            <p:nvSpPr>
              <p:cNvPr id="1115" name=""/>
              <p:cNvSpPr/>
              <p:nvPr/>
            </p:nvSpPr>
            <p:spPr>
              <a:xfrm rot="31200">
                <a:off x="1773000" y="5097600"/>
                <a:ext cx="537480" cy="343080"/>
              </a:xfrm>
              <a:custGeom>
                <a:avLst/>
                <a:gdLst/>
                <a:ahLst/>
                <a:rect l="l" t="t" r="r" b="b"/>
                <a:pathLst>
                  <a:path w="588" h="417">
                    <a:moveTo>
                      <a:pt x="196" y="16"/>
                    </a:moveTo>
                    <a:lnTo>
                      <a:pt x="0" y="95"/>
                    </a:lnTo>
                    <a:lnTo>
                      <a:pt x="6" y="235"/>
                    </a:lnTo>
                    <a:lnTo>
                      <a:pt x="387" y="417"/>
                    </a:lnTo>
                    <a:lnTo>
                      <a:pt x="587" y="177"/>
                    </a:lnTo>
                    <a:lnTo>
                      <a:pt x="588" y="71"/>
                    </a:lnTo>
                    <a:lnTo>
                      <a:pt x="207" y="0"/>
                    </a:lnTo>
                    <a:lnTo>
                      <a:pt x="196"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rot="31200">
                <a:off x="1814400" y="4948560"/>
                <a:ext cx="492480" cy="340200"/>
              </a:xfrm>
              <a:custGeom>
                <a:avLst/>
                <a:gdLst/>
                <a:ahLst/>
                <a:rect l="l" t="t" r="r" b="b"/>
                <a:pathLst>
                  <a:path w="540" h="413">
                    <a:moveTo>
                      <a:pt x="397" y="16"/>
                    </a:moveTo>
                    <a:lnTo>
                      <a:pt x="540" y="44"/>
                    </a:lnTo>
                    <a:lnTo>
                      <a:pt x="539" y="181"/>
                    </a:lnTo>
                    <a:lnTo>
                      <a:pt x="480" y="221"/>
                    </a:lnTo>
                    <a:lnTo>
                      <a:pt x="472" y="293"/>
                    </a:lnTo>
                    <a:lnTo>
                      <a:pt x="315" y="413"/>
                    </a:lnTo>
                    <a:lnTo>
                      <a:pt x="25" y="282"/>
                    </a:lnTo>
                    <a:lnTo>
                      <a:pt x="0" y="5"/>
                    </a:lnTo>
                    <a:lnTo>
                      <a:pt x="219" y="0"/>
                    </a:lnTo>
                    <a:lnTo>
                      <a:pt x="330" y="20"/>
                    </a:lnTo>
                    <a:lnTo>
                      <a:pt x="39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rot="31200">
                <a:off x="1668600" y="5123160"/>
                <a:ext cx="717480" cy="456480"/>
              </a:xfrm>
              <a:custGeom>
                <a:avLst/>
                <a:gdLst/>
                <a:ahLst/>
                <a:rect l="l" t="t" r="r" b="b"/>
                <a:pathLst>
                  <a:path w="786" h="555">
                    <a:moveTo>
                      <a:pt x="261" y="20"/>
                    </a:moveTo>
                    <a:lnTo>
                      <a:pt x="0" y="132"/>
                    </a:lnTo>
                    <a:lnTo>
                      <a:pt x="12" y="318"/>
                    </a:lnTo>
                    <a:lnTo>
                      <a:pt x="525" y="555"/>
                    </a:lnTo>
                    <a:lnTo>
                      <a:pt x="786" y="227"/>
                    </a:lnTo>
                    <a:lnTo>
                      <a:pt x="785" y="85"/>
                    </a:lnTo>
                    <a:lnTo>
                      <a:pt x="274" y="0"/>
                    </a:lnTo>
                    <a:lnTo>
                      <a:pt x="261"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rot="31200">
                <a:off x="1716840" y="4922640"/>
                <a:ext cx="660960" cy="453600"/>
              </a:xfrm>
              <a:custGeom>
                <a:avLst/>
                <a:gdLst/>
                <a:ahLst/>
                <a:rect l="l" t="t" r="r" b="b"/>
                <a:pathLst>
                  <a:path w="724" h="551">
                    <a:moveTo>
                      <a:pt x="532" y="15"/>
                    </a:moveTo>
                    <a:lnTo>
                      <a:pt x="724" y="52"/>
                    </a:lnTo>
                    <a:lnTo>
                      <a:pt x="723" y="234"/>
                    </a:lnTo>
                    <a:lnTo>
                      <a:pt x="647" y="288"/>
                    </a:lnTo>
                    <a:lnTo>
                      <a:pt x="638" y="385"/>
                    </a:lnTo>
                    <a:lnTo>
                      <a:pt x="432" y="551"/>
                    </a:lnTo>
                    <a:lnTo>
                      <a:pt x="41" y="383"/>
                    </a:lnTo>
                    <a:lnTo>
                      <a:pt x="0" y="12"/>
                    </a:lnTo>
                    <a:lnTo>
                      <a:pt x="294" y="0"/>
                    </a:lnTo>
                    <a:lnTo>
                      <a:pt x="442" y="24"/>
                    </a:lnTo>
                    <a:lnTo>
                      <a:pt x="532"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rot="31200">
                <a:off x="1693800" y="5151240"/>
                <a:ext cx="662040" cy="386640"/>
              </a:xfrm>
              <a:custGeom>
                <a:avLst/>
                <a:gdLst/>
                <a:ahLst/>
                <a:rect l="l" t="t" r="r" b="b"/>
                <a:pathLst>
                  <a:path w="725" h="469">
                    <a:moveTo>
                      <a:pt x="267" y="0"/>
                    </a:moveTo>
                    <a:lnTo>
                      <a:pt x="0" y="113"/>
                    </a:lnTo>
                    <a:lnTo>
                      <a:pt x="11" y="255"/>
                    </a:lnTo>
                    <a:lnTo>
                      <a:pt x="473" y="469"/>
                    </a:lnTo>
                    <a:lnTo>
                      <a:pt x="721" y="169"/>
                    </a:lnTo>
                    <a:lnTo>
                      <a:pt x="725" y="76"/>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rot="31200">
                <a:off x="1746720" y="4941720"/>
                <a:ext cx="596160" cy="397440"/>
              </a:xfrm>
              <a:custGeom>
                <a:avLst/>
                <a:gdLst/>
                <a:ahLst/>
                <a:rect l="l" t="t" r="r" b="b"/>
                <a:pathLst>
                  <a:path w="654" h="483">
                    <a:moveTo>
                      <a:pt x="497" y="19"/>
                    </a:moveTo>
                    <a:lnTo>
                      <a:pt x="654" y="49"/>
                    </a:lnTo>
                    <a:lnTo>
                      <a:pt x="646" y="189"/>
                    </a:lnTo>
                    <a:lnTo>
                      <a:pt x="577" y="237"/>
                    </a:lnTo>
                    <a:lnTo>
                      <a:pt x="573" y="333"/>
                    </a:lnTo>
                    <a:lnTo>
                      <a:pt x="400" y="483"/>
                    </a:lnTo>
                    <a:lnTo>
                      <a:pt x="35" y="351"/>
                    </a:lnTo>
                    <a:lnTo>
                      <a:pt x="0" y="9"/>
                    </a:lnTo>
                    <a:lnTo>
                      <a:pt x="253" y="0"/>
                    </a:lnTo>
                    <a:lnTo>
                      <a:pt x="385" y="21"/>
                    </a:lnTo>
                    <a:lnTo>
                      <a:pt x="49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rot="31200">
                <a:off x="1783440" y="4974480"/>
                <a:ext cx="317160" cy="320760"/>
              </a:xfrm>
              <a:custGeom>
                <a:avLst/>
                <a:gdLst/>
                <a:ahLst/>
                <a:rect l="l" t="t" r="r" b="b"/>
                <a:pathLst>
                  <a:path w="347" h="390">
                    <a:moveTo>
                      <a:pt x="0" y="0"/>
                    </a:moveTo>
                    <a:lnTo>
                      <a:pt x="26" y="288"/>
                    </a:lnTo>
                    <a:lnTo>
                      <a:pt x="345" y="390"/>
                    </a:lnTo>
                    <a:lnTo>
                      <a:pt x="347" y="7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rot="31200">
                <a:off x="2133000" y="5021280"/>
                <a:ext cx="108000" cy="252000"/>
              </a:xfrm>
              <a:custGeom>
                <a:avLst/>
                <a:gdLst/>
                <a:ahLst/>
                <a:rect l="l" t="t" r="r" b="b"/>
                <a:pathLst>
                  <a:path w="119" h="306">
                    <a:moveTo>
                      <a:pt x="0" y="25"/>
                    </a:moveTo>
                    <a:lnTo>
                      <a:pt x="2" y="306"/>
                    </a:lnTo>
                    <a:lnTo>
                      <a:pt x="108" y="213"/>
                    </a:lnTo>
                    <a:lnTo>
                      <a:pt x="119" y="0"/>
                    </a:lnTo>
                    <a:lnTo>
                      <a:pt x="0" y="25"/>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rot="31200">
                <a:off x="1830600" y="5034600"/>
                <a:ext cx="218880" cy="189720"/>
              </a:xfrm>
              <a:custGeom>
                <a:avLst/>
                <a:gdLst/>
                <a:ahLst/>
                <a:rect l="l" t="t" r="r" b="b"/>
                <a:pathLst>
                  <a:path w="240" h="231">
                    <a:moveTo>
                      <a:pt x="0" y="0"/>
                    </a:moveTo>
                    <a:lnTo>
                      <a:pt x="11" y="168"/>
                    </a:lnTo>
                    <a:lnTo>
                      <a:pt x="240" y="231"/>
                    </a:lnTo>
                    <a:lnTo>
                      <a:pt x="236" y="49"/>
                    </a:lnTo>
                    <a:lnTo>
                      <a:pt x="0" y="0"/>
                    </a:lnTo>
                    <a:close/>
                  </a:path>
                </a:pathLst>
              </a:custGeom>
              <a:solidFill>
                <a:srgbClr val="cc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rot="31200">
                <a:off x="1725840" y="5264640"/>
                <a:ext cx="386640" cy="234360"/>
              </a:xfrm>
              <a:custGeom>
                <a:avLst/>
                <a:gdLst/>
                <a:ahLst/>
                <a:rect l="l" t="t" r="r" b="b"/>
                <a:pathLst>
                  <a:path w="424" h="285">
                    <a:moveTo>
                      <a:pt x="0" y="0"/>
                    </a:moveTo>
                    <a:lnTo>
                      <a:pt x="8" y="106"/>
                    </a:lnTo>
                    <a:lnTo>
                      <a:pt x="424" y="285"/>
                    </a:lnTo>
                    <a:lnTo>
                      <a:pt x="417" y="15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rot="31200">
                <a:off x="1863360" y="4963320"/>
                <a:ext cx="327240" cy="43560"/>
              </a:xfrm>
              <a:custGeom>
                <a:avLst/>
                <a:gdLst/>
                <a:ahLst/>
                <a:rect l="l" t="t" r="r" b="b"/>
                <a:pathLst>
                  <a:path w="359" h="53">
                    <a:moveTo>
                      <a:pt x="0" y="0"/>
                    </a:moveTo>
                    <a:lnTo>
                      <a:pt x="258" y="53"/>
                    </a:lnTo>
                    <a:lnTo>
                      <a:pt x="359" y="39"/>
                    </a:lnTo>
                    <a:lnTo>
                      <a:pt x="129" y="0"/>
                    </a:lnTo>
                    <a:lnTo>
                      <a:pt x="0" y="0"/>
                    </a:lnTo>
                    <a:close/>
                  </a:path>
                </a:pathLst>
              </a:custGeom>
              <a:solidFill>
                <a:srgbClr val="3f3f3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6" name=""/>
              <p:cNvSpPr/>
              <p:nvPr/>
            </p:nvSpPr>
            <p:spPr>
              <a:xfrm rot="31200">
                <a:off x="2140200" y="5249160"/>
                <a:ext cx="184680" cy="221760"/>
              </a:xfrm>
              <a:custGeom>
                <a:avLst/>
                <a:gdLst/>
                <a:ahLst/>
                <a:rect l="l" t="t" r="r" b="b"/>
                <a:pathLst>
                  <a:path w="202" h="270">
                    <a:moveTo>
                      <a:pt x="0" y="151"/>
                    </a:moveTo>
                    <a:lnTo>
                      <a:pt x="3" y="270"/>
                    </a:lnTo>
                    <a:lnTo>
                      <a:pt x="196" y="51"/>
                    </a:lnTo>
                    <a:lnTo>
                      <a:pt x="202" y="0"/>
                    </a:lnTo>
                    <a:lnTo>
                      <a:pt x="0" y="151"/>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rot="31200">
                <a:off x="1755720" y="5243400"/>
                <a:ext cx="357480" cy="115200"/>
              </a:xfrm>
              <a:custGeom>
                <a:avLst/>
                <a:gdLst/>
                <a:ahLst/>
                <a:rect l="l" t="t" r="r" b="b"/>
                <a:pathLst>
                  <a:path w="392" h="140">
                    <a:moveTo>
                      <a:pt x="24" y="0"/>
                    </a:moveTo>
                    <a:lnTo>
                      <a:pt x="0" y="8"/>
                    </a:lnTo>
                    <a:lnTo>
                      <a:pt x="392" y="140"/>
                    </a:lnTo>
                    <a:lnTo>
                      <a:pt x="389" y="109"/>
                    </a:lnTo>
                    <a:lnTo>
                      <a:pt x="24"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rot="31200">
                <a:off x="1856520" y="5054040"/>
                <a:ext cx="149760" cy="133560"/>
              </a:xfrm>
              <a:custGeom>
                <a:avLst/>
                <a:gdLst/>
                <a:ahLst/>
                <a:rect l="l" t="t" r="r" b="b"/>
                <a:pathLst>
                  <a:path w="165" h="162">
                    <a:moveTo>
                      <a:pt x="71" y="0"/>
                    </a:moveTo>
                    <a:lnTo>
                      <a:pt x="165" y="23"/>
                    </a:lnTo>
                    <a:lnTo>
                      <a:pt x="43" y="162"/>
                    </a:lnTo>
                    <a:lnTo>
                      <a:pt x="0" y="150"/>
                    </a:lnTo>
                    <a:lnTo>
                      <a:pt x="71" y="0"/>
                    </a:lnTo>
                    <a:close/>
                  </a:path>
                </a:pathLst>
              </a:cu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rot="31200">
                <a:off x="1830600" y="5034600"/>
                <a:ext cx="218880" cy="189720"/>
              </a:xfrm>
              <a:custGeom>
                <a:avLst/>
                <a:gdLst/>
                <a:ahLst/>
                <a:rect l="l" t="t" r="r" b="b"/>
                <a:pathLst>
                  <a:path w="240" h="231">
                    <a:moveTo>
                      <a:pt x="0" y="0"/>
                    </a:moveTo>
                    <a:lnTo>
                      <a:pt x="236" y="49"/>
                    </a:lnTo>
                    <a:lnTo>
                      <a:pt x="240" y="231"/>
                    </a:lnTo>
                    <a:lnTo>
                      <a:pt x="218" y="6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rot="31200">
                <a:off x="1725840" y="5264640"/>
                <a:ext cx="380880" cy="127800"/>
              </a:xfrm>
              <a:custGeom>
                <a:avLst/>
                <a:gdLst/>
                <a:ahLst/>
                <a:rect l="l" t="t" r="r" b="b"/>
                <a:pathLst>
                  <a:path w="417" h="156">
                    <a:moveTo>
                      <a:pt x="0" y="0"/>
                    </a:moveTo>
                    <a:lnTo>
                      <a:pt x="4" y="49"/>
                    </a:lnTo>
                    <a:lnTo>
                      <a:pt x="417" y="156"/>
                    </a:lnTo>
                    <a:lnTo>
                      <a:pt x="0" y="0"/>
                    </a:lnTo>
                    <a:close/>
                  </a:path>
                </a:pathLst>
              </a:custGeom>
              <a:solidFill>
                <a:srgbClr val="ff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rot="31200">
                <a:off x="1771920" y="5293080"/>
                <a:ext cx="21960" cy="18000"/>
              </a:xfrm>
              <a:custGeom>
                <a:avLst/>
                <a:gdLst/>
                <a:ahLst/>
                <a:rect l="l" t="t" r="r" b="b"/>
                <a:pathLst>
                  <a:path w="24" h="23">
                    <a:moveTo>
                      <a:pt x="12" y="23"/>
                    </a:moveTo>
                    <a:lnTo>
                      <a:pt x="18" y="23"/>
                    </a:lnTo>
                    <a:lnTo>
                      <a:pt x="20" y="20"/>
                    </a:lnTo>
                    <a:lnTo>
                      <a:pt x="23" y="18"/>
                    </a:lnTo>
                    <a:lnTo>
                      <a:pt x="24" y="14"/>
                    </a:lnTo>
                    <a:lnTo>
                      <a:pt x="23" y="8"/>
                    </a:lnTo>
                    <a:lnTo>
                      <a:pt x="20" y="4"/>
                    </a:lnTo>
                    <a:lnTo>
                      <a:pt x="18" y="1"/>
                    </a:lnTo>
                    <a:lnTo>
                      <a:pt x="12" y="0"/>
                    </a:lnTo>
                    <a:lnTo>
                      <a:pt x="7" y="1"/>
                    </a:lnTo>
                    <a:lnTo>
                      <a:pt x="4" y="4"/>
                    </a:lnTo>
                    <a:lnTo>
                      <a:pt x="2" y="7"/>
                    </a:lnTo>
                    <a:lnTo>
                      <a:pt x="0" y="12"/>
                    </a:lnTo>
                    <a:lnTo>
                      <a:pt x="2" y="16"/>
                    </a:lnTo>
                    <a:lnTo>
                      <a:pt x="4" y="19"/>
                    </a:lnTo>
                    <a:lnTo>
                      <a:pt x="7" y="22"/>
                    </a:lnTo>
                    <a:lnTo>
                      <a:pt x="12"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 name=""/>
              <p:cNvSpPr/>
              <p:nvPr/>
            </p:nvSpPr>
            <p:spPr>
              <a:xfrm rot="31200">
                <a:off x="1994760" y="5378400"/>
                <a:ext cx="94320" cy="48240"/>
              </a:xfrm>
              <a:custGeom>
                <a:avLst/>
                <a:gdLst/>
                <a:ahLst/>
                <a:rect l="l" t="t" r="r" b="b"/>
                <a:pathLst>
                  <a:path w="103" h="59">
                    <a:moveTo>
                      <a:pt x="0" y="0"/>
                    </a:moveTo>
                    <a:lnTo>
                      <a:pt x="0" y="16"/>
                    </a:lnTo>
                    <a:lnTo>
                      <a:pt x="103" y="59"/>
                    </a:lnTo>
                    <a:lnTo>
                      <a:pt x="103" y="39"/>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33" name=""/>
              <p:cNvSpPr/>
              <p:nvPr/>
            </p:nvSpPr>
            <p:spPr>
              <a:xfrm rot="31200">
                <a:off x="2009520" y="5232600"/>
                <a:ext cx="39240" cy="18360"/>
              </a:xfrm>
              <a:custGeom>
                <a:avLst/>
                <a:gdLst/>
                <a:ahLst/>
                <a:rect l="l" t="t" r="r" b="b"/>
                <a:pathLst>
                  <a:path w="43" h="23">
                    <a:moveTo>
                      <a:pt x="1" y="0"/>
                    </a:moveTo>
                    <a:lnTo>
                      <a:pt x="0" y="12"/>
                    </a:lnTo>
                    <a:lnTo>
                      <a:pt x="43" y="23"/>
                    </a:lnTo>
                    <a:lnTo>
                      <a:pt x="43" y="12"/>
                    </a:lnTo>
                    <a:lnTo>
                      <a:pt x="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1134" name=""/>
            <p:cNvSpPr/>
            <p:nvPr/>
          </p:nvSpPr>
          <p:spPr>
            <a:xfrm rot="49200">
              <a:off x="1710360" y="5491080"/>
              <a:ext cx="913320" cy="264240"/>
            </a:xfrm>
            <a:prstGeom prst="rect">
              <a:avLst/>
            </a:prstGeom>
            <a:solidFill>
              <a:srgbClr val="cc00ff"/>
            </a:solidFill>
            <a:ln w="9360">
              <a:solidFill>
                <a:srgbClr val="000000"/>
              </a:solidFill>
              <a:miter/>
            </a:ln>
          </p:spPr>
          <p:style>
            <a:lnRef idx="0"/>
            <a:fillRef idx="0"/>
            <a:effectRef idx="0"/>
            <a:fontRef idx="minor"/>
          </p:style>
          <p:txBody>
            <a:bodyPr wrap="none" lIns="81360" rIns="81360" tIns="40680" bIns="40680" anchor="ctr">
              <a:sp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Narrow"/>
                </a:rPr>
                <a:t>ChemCo.Net</a:t>
              </a:r>
              <a:endParaRPr b="0" lang="en-US" sz="1200" spc="-1" strike="noStrike">
                <a:solidFill>
                  <a:srgbClr val="000000"/>
                </a:solidFill>
                <a:latin typeface="Times New Roman"/>
              </a:endParaRPr>
            </a:p>
          </p:txBody>
        </p:sp>
        <p:grpSp>
          <p:nvGrpSpPr>
            <p:cNvPr id="1135" name=""/>
            <p:cNvGrpSpPr/>
            <p:nvPr/>
          </p:nvGrpSpPr>
          <p:grpSpPr>
            <a:xfrm>
              <a:off x="4602240" y="2362320"/>
              <a:ext cx="455760" cy="840600"/>
              <a:chOff x="4602240" y="2362320"/>
              <a:chExt cx="455760" cy="840600"/>
            </a:xfrm>
          </p:grpSpPr>
          <p:grpSp>
            <p:nvGrpSpPr>
              <p:cNvPr id="1136" name=""/>
              <p:cNvGrpSpPr/>
              <p:nvPr/>
            </p:nvGrpSpPr>
            <p:grpSpPr>
              <a:xfrm>
                <a:off x="4602240" y="2362320"/>
                <a:ext cx="455760" cy="840600"/>
                <a:chOff x="4602240" y="2362320"/>
                <a:chExt cx="455760" cy="840600"/>
              </a:xfrm>
            </p:grpSpPr>
            <p:grpSp>
              <p:nvGrpSpPr>
                <p:cNvPr id="1137" name=""/>
                <p:cNvGrpSpPr/>
                <p:nvPr/>
              </p:nvGrpSpPr>
              <p:grpSpPr>
                <a:xfrm>
                  <a:off x="4654080" y="2996640"/>
                  <a:ext cx="352800" cy="206280"/>
                  <a:chOff x="4654080" y="2996640"/>
                  <a:chExt cx="352800" cy="206280"/>
                </a:xfrm>
              </p:grpSpPr>
              <p:sp>
                <p:nvSpPr>
                  <p:cNvPr id="1138" name=""/>
                  <p:cNvSpPr/>
                  <p:nvPr/>
                </p:nvSpPr>
                <p:spPr>
                  <a:xfrm>
                    <a:off x="4654080" y="3074040"/>
                    <a:ext cx="226080" cy="128520"/>
                  </a:xfrm>
                  <a:custGeom>
                    <a:avLst/>
                    <a:gdLst/>
                    <a:ahLst/>
                    <a:rect l="l" t="t" r="r" b="b"/>
                    <a:pathLst>
                      <a:path w="393" h="264">
                        <a:moveTo>
                          <a:pt x="0" y="0"/>
                        </a:moveTo>
                        <a:lnTo>
                          <a:pt x="0" y="79"/>
                        </a:lnTo>
                        <a:lnTo>
                          <a:pt x="393" y="264"/>
                        </a:lnTo>
                        <a:lnTo>
                          <a:pt x="393" y="181"/>
                        </a:lnTo>
                        <a:lnTo>
                          <a:pt x="0" y="0"/>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880160" y="2996640"/>
                    <a:ext cx="126720" cy="206280"/>
                  </a:xfrm>
                  <a:custGeom>
                    <a:avLst/>
                    <a:gdLst/>
                    <a:ahLst/>
                    <a:rect l="l" t="t" r="r" b="b"/>
                    <a:pathLst>
                      <a:path w="220" h="425">
                        <a:moveTo>
                          <a:pt x="0" y="342"/>
                        </a:moveTo>
                        <a:lnTo>
                          <a:pt x="0" y="425"/>
                        </a:lnTo>
                        <a:lnTo>
                          <a:pt x="220" y="67"/>
                        </a:lnTo>
                        <a:lnTo>
                          <a:pt x="220" y="0"/>
                        </a:lnTo>
                        <a:lnTo>
                          <a:pt x="0" y="342"/>
                        </a:lnTo>
                        <a:close/>
                      </a:path>
                    </a:pathLst>
                  </a:custGeom>
                  <a:solidFill>
                    <a:srgbClr val="001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4602240" y="2856960"/>
                  <a:ext cx="455760" cy="318960"/>
                </a:xfrm>
                <a:custGeom>
                  <a:avLst/>
                  <a:gdLst/>
                  <a:ahLst/>
                  <a:rect l="l" t="t" r="r" b="b"/>
                  <a:pathLst>
                    <a:path w="790" h="658">
                      <a:moveTo>
                        <a:pt x="0" y="414"/>
                      </a:moveTo>
                      <a:lnTo>
                        <a:pt x="525" y="658"/>
                      </a:lnTo>
                      <a:lnTo>
                        <a:pt x="790" y="223"/>
                      </a:lnTo>
                      <a:lnTo>
                        <a:pt x="287" y="0"/>
                      </a:lnTo>
                      <a:lnTo>
                        <a:pt x="0" y="414"/>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642560" y="2660040"/>
                  <a:ext cx="360000" cy="180360"/>
                </a:xfrm>
                <a:custGeom>
                  <a:avLst/>
                  <a:gdLst/>
                  <a:ahLst/>
                  <a:rect l="l" t="t" r="r" b="b"/>
                  <a:pathLst>
                    <a:path w="623" h="374">
                      <a:moveTo>
                        <a:pt x="410" y="374"/>
                      </a:moveTo>
                      <a:lnTo>
                        <a:pt x="623" y="130"/>
                      </a:lnTo>
                      <a:lnTo>
                        <a:pt x="234" y="0"/>
                      </a:lnTo>
                      <a:lnTo>
                        <a:pt x="0" y="238"/>
                      </a:lnTo>
                      <a:lnTo>
                        <a:pt x="410" y="374"/>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4823640" y="2363040"/>
                  <a:ext cx="124560" cy="212400"/>
                </a:xfrm>
                <a:custGeom>
                  <a:avLst/>
                  <a:gdLst/>
                  <a:ahLst/>
                  <a:rect l="l" t="t" r="r" b="b"/>
                  <a:pathLst>
                    <a:path w="217" h="438">
                      <a:moveTo>
                        <a:pt x="0" y="0"/>
                      </a:moveTo>
                      <a:lnTo>
                        <a:pt x="53" y="438"/>
                      </a:lnTo>
                      <a:lnTo>
                        <a:pt x="217" y="293"/>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715280" y="2362320"/>
                  <a:ext cx="138240" cy="213120"/>
                </a:xfrm>
                <a:custGeom>
                  <a:avLst/>
                  <a:gdLst/>
                  <a:ahLst/>
                  <a:rect l="l" t="t" r="r" b="b"/>
                  <a:pathLst>
                    <a:path w="239" h="440">
                      <a:moveTo>
                        <a:pt x="188" y="0"/>
                      </a:moveTo>
                      <a:lnTo>
                        <a:pt x="239" y="440"/>
                      </a:lnTo>
                      <a:lnTo>
                        <a:pt x="0" y="394"/>
                      </a:lnTo>
                      <a:lnTo>
                        <a:pt x="188" y="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715280" y="2553480"/>
                  <a:ext cx="137160" cy="257760"/>
                </a:xfrm>
                <a:custGeom>
                  <a:avLst/>
                  <a:gdLst/>
                  <a:ahLst/>
                  <a:rect l="l" t="t" r="r" b="b"/>
                  <a:pathLst>
                    <a:path w="238" h="532">
                      <a:moveTo>
                        <a:pt x="0" y="0"/>
                      </a:moveTo>
                      <a:lnTo>
                        <a:pt x="238" y="45"/>
                      </a:lnTo>
                      <a:lnTo>
                        <a:pt x="238" y="532"/>
                      </a:lnTo>
                      <a:lnTo>
                        <a:pt x="0" y="452"/>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852800" y="2504880"/>
                  <a:ext cx="94320" cy="306360"/>
                </a:xfrm>
                <a:custGeom>
                  <a:avLst/>
                  <a:gdLst/>
                  <a:ahLst/>
                  <a:rect l="l" t="t" r="r" b="b"/>
                  <a:pathLst>
                    <a:path w="163" h="633">
                      <a:moveTo>
                        <a:pt x="0" y="145"/>
                      </a:moveTo>
                      <a:lnTo>
                        <a:pt x="163" y="0"/>
                      </a:lnTo>
                      <a:lnTo>
                        <a:pt x="163" y="452"/>
                      </a:lnTo>
                      <a:lnTo>
                        <a:pt x="0" y="633"/>
                      </a:lnTo>
                      <a:lnTo>
                        <a:pt x="0" y="145"/>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642560" y="2775240"/>
                  <a:ext cx="235440" cy="346320"/>
                </a:xfrm>
                <a:custGeom>
                  <a:avLst/>
                  <a:gdLst/>
                  <a:ahLst/>
                  <a:rect l="l" t="t" r="r" b="b"/>
                  <a:pathLst>
                    <a:path w="408" h="715">
                      <a:moveTo>
                        <a:pt x="0" y="0"/>
                      </a:moveTo>
                      <a:lnTo>
                        <a:pt x="408" y="136"/>
                      </a:lnTo>
                      <a:lnTo>
                        <a:pt x="408" y="715"/>
                      </a:lnTo>
                      <a:lnTo>
                        <a:pt x="0" y="538"/>
                      </a:lnTo>
                      <a:lnTo>
                        <a:pt x="0" y="0"/>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879080" y="2721960"/>
                  <a:ext cx="123480" cy="399600"/>
                </a:xfrm>
                <a:custGeom>
                  <a:avLst/>
                  <a:gdLst/>
                  <a:ahLst/>
                  <a:rect l="l" t="t" r="r" b="b"/>
                  <a:pathLst>
                    <a:path w="214" h="825">
                      <a:moveTo>
                        <a:pt x="0" y="246"/>
                      </a:moveTo>
                      <a:lnTo>
                        <a:pt x="214" y="0"/>
                      </a:lnTo>
                      <a:lnTo>
                        <a:pt x="214" y="495"/>
                      </a:lnTo>
                      <a:lnTo>
                        <a:pt x="0" y="825"/>
                      </a:lnTo>
                      <a:lnTo>
                        <a:pt x="0" y="246"/>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4688640" y="2579400"/>
                <a:ext cx="144360" cy="483480"/>
                <a:chOff x="4688640" y="2579400"/>
                <a:chExt cx="144360" cy="483480"/>
              </a:xfrm>
            </p:grpSpPr>
            <p:grpSp>
              <p:nvGrpSpPr>
                <p:cNvPr id="1149" name=""/>
                <p:cNvGrpSpPr/>
                <p:nvPr/>
              </p:nvGrpSpPr>
              <p:grpSpPr>
                <a:xfrm>
                  <a:off x="4760280" y="2579400"/>
                  <a:ext cx="47520" cy="137880"/>
                  <a:chOff x="4760280" y="2579400"/>
                  <a:chExt cx="47520" cy="137880"/>
                </a:xfrm>
              </p:grpSpPr>
              <p:sp>
                <p:nvSpPr>
                  <p:cNvPr id="1150" name=""/>
                  <p:cNvSpPr/>
                  <p:nvPr/>
                </p:nvSpPr>
                <p:spPr>
                  <a:xfrm>
                    <a:off x="4771800" y="2580840"/>
                    <a:ext cx="36000" cy="132480"/>
                  </a:xfrm>
                  <a:custGeom>
                    <a:avLst/>
                    <a:gdLst/>
                    <a:ahLst/>
                    <a:rect l="l" t="t" r="r" b="b"/>
                    <a:pathLst>
                      <a:path stroke="0" w="21600" h="21600">
                        <a:moveTo>
                          <a:pt x="10116" y="22"/>
                        </a:moveTo>
                        <a:arcTo wR="10800" hR="10800" stAng="-5617727" swAng="5882920"/>
                        <a:lnTo>
                          <a:pt x="10800" y="10800"/>
                        </a:lnTo>
                        <a:close/>
                      </a:path>
                      <a:path fill="none" w="21600" h="21600">
                        <a:moveTo>
                          <a:pt x="10116" y="22"/>
                        </a:moveTo>
                        <a:arcTo wR="10800" hR="10800" stAng="-5617727" swAng="5882920"/>
                      </a:path>
                    </a:pathLst>
                  </a:cu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760280" y="2579400"/>
                    <a:ext cx="33480" cy="132840"/>
                  </a:xfrm>
                  <a:custGeom>
                    <a:avLst/>
                    <a:gdLst/>
                    <a:ahLst/>
                    <a:rect l="l" t="t" r="r" b="b"/>
                    <a:pathLst>
                      <a:path stroke="0" w="21600" h="21600">
                        <a:moveTo>
                          <a:pt x="41" y="9864"/>
                        </a:moveTo>
                        <a:arcTo wR="10800" hR="10800" stAng="-10501815" swAng="4872971"/>
                        <a:lnTo>
                          <a:pt x="10800" y="10800"/>
                        </a:lnTo>
                        <a:close/>
                      </a:path>
                      <a:path fill="none" w="21600" h="21600">
                        <a:moveTo>
                          <a:pt x="41" y="9864"/>
                        </a:moveTo>
                        <a:arcTo wR="10800" hR="10800" stAng="-10501815" swAng="4872971"/>
                      </a:path>
                    </a:pathLst>
                  </a:cu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760280" y="2648880"/>
                    <a:ext cx="15840" cy="60840"/>
                  </a:xfrm>
                  <a:custGeom>
                    <a:avLst/>
                    <a:gdLst/>
                    <a:ahLst/>
                    <a:rect l="l" t="t" r="r" b="b"/>
                    <a:pathLst>
                      <a:path w="28" h="125">
                        <a:moveTo>
                          <a:pt x="0" y="0"/>
                        </a:moveTo>
                        <a:lnTo>
                          <a:pt x="0" y="116"/>
                        </a:lnTo>
                        <a:lnTo>
                          <a:pt x="28" y="125"/>
                        </a:lnTo>
                        <a:lnTo>
                          <a:pt x="28" y="12"/>
                        </a:lnTo>
                        <a:lnTo>
                          <a:pt x="0" y="0"/>
                        </a:lnTo>
                        <a:close/>
                      </a:path>
                    </a:pathLst>
                  </a:custGeom>
                  <a:solidFill>
                    <a:srgbClr val="000000"/>
                  </a:solidFill>
                  <a:ln w="792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53" name=""/>
                  <p:cNvSpPr/>
                  <p:nvPr/>
                </p:nvSpPr>
                <p:spPr>
                  <a:xfrm>
                    <a:off x="4788720" y="2656440"/>
                    <a:ext cx="16200" cy="60840"/>
                  </a:xfrm>
                  <a:custGeom>
                    <a:avLst/>
                    <a:gdLst/>
                    <a:ahLst/>
                    <a:rect l="l" t="t" r="r" b="b"/>
                    <a:pathLst>
                      <a:path w="28" h="126">
                        <a:moveTo>
                          <a:pt x="0" y="0"/>
                        </a:moveTo>
                        <a:lnTo>
                          <a:pt x="0" y="116"/>
                        </a:lnTo>
                        <a:lnTo>
                          <a:pt x="28" y="126"/>
                        </a:lnTo>
                        <a:lnTo>
                          <a:pt x="28" y="13"/>
                        </a:lnTo>
                        <a:lnTo>
                          <a:pt x="0" y="0"/>
                        </a:lnTo>
                        <a:close/>
                      </a:path>
                    </a:pathLst>
                  </a:custGeom>
                  <a:solidFill>
                    <a:srgbClr val="000000"/>
                  </a:solidFill>
                  <a:ln w="792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154" name=""/>
                <p:cNvGrpSpPr/>
                <p:nvPr/>
              </p:nvGrpSpPr>
              <p:grpSpPr>
                <a:xfrm>
                  <a:off x="4688640" y="2849760"/>
                  <a:ext cx="144360" cy="213120"/>
                  <a:chOff x="4688640" y="2849760"/>
                  <a:chExt cx="144360" cy="213120"/>
                </a:xfrm>
              </p:grpSpPr>
              <p:sp>
                <p:nvSpPr>
                  <p:cNvPr id="1155" name=""/>
                  <p:cNvSpPr/>
                  <p:nvPr/>
                </p:nvSpPr>
                <p:spPr>
                  <a:xfrm>
                    <a:off x="4688640" y="2924280"/>
                    <a:ext cx="144360" cy="138600"/>
                  </a:xfrm>
                  <a:custGeom>
                    <a:avLst/>
                    <a:gdLst/>
                    <a:ahLst/>
                    <a:rect l="l" t="t" r="r" b="b"/>
                    <a:pathLst>
                      <a:path w="252" h="287">
                        <a:moveTo>
                          <a:pt x="0" y="0"/>
                        </a:moveTo>
                        <a:lnTo>
                          <a:pt x="0" y="179"/>
                        </a:lnTo>
                        <a:lnTo>
                          <a:pt x="252" y="287"/>
                        </a:lnTo>
                        <a:lnTo>
                          <a:pt x="252" y="1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689720" y="2849760"/>
                    <a:ext cx="137160" cy="103680"/>
                  </a:xfrm>
                  <a:custGeom>
                    <a:avLst/>
                    <a:gdLst/>
                    <a:ahLst/>
                    <a:rect l="l" t="t" r="r" b="b"/>
                    <a:pathLst>
                      <a:path w="237" h="216">
                        <a:moveTo>
                          <a:pt x="0" y="0"/>
                        </a:moveTo>
                        <a:lnTo>
                          <a:pt x="0" y="126"/>
                        </a:lnTo>
                        <a:lnTo>
                          <a:pt x="237" y="216"/>
                        </a:lnTo>
                        <a:lnTo>
                          <a:pt x="237"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57" name=""/>
            <p:cNvSpPr/>
            <p:nvPr/>
          </p:nvSpPr>
          <p:spPr>
            <a:xfrm rot="1371600">
              <a:off x="3541680" y="3594600"/>
              <a:ext cx="214560" cy="358920"/>
            </a:xfrm>
            <a:custGeom>
              <a:avLst/>
              <a:gdLst/>
              <a:ahLst/>
              <a:rect l="l" t="t" r="r" b="b"/>
              <a:pathLst>
                <a:path w="207" h="141">
                  <a:moveTo>
                    <a:pt x="0" y="115"/>
                  </a:moveTo>
                  <a:lnTo>
                    <a:pt x="88" y="141"/>
                  </a:lnTo>
                  <a:lnTo>
                    <a:pt x="207" y="30"/>
                  </a:lnTo>
                  <a:lnTo>
                    <a:pt x="207" y="29"/>
                  </a:lnTo>
                  <a:lnTo>
                    <a:pt x="206" y="23"/>
                  </a:lnTo>
                  <a:lnTo>
                    <a:pt x="202" y="16"/>
                  </a:lnTo>
                  <a:lnTo>
                    <a:pt x="198" y="10"/>
                  </a:lnTo>
                  <a:lnTo>
                    <a:pt x="192" y="3"/>
                  </a:lnTo>
                  <a:lnTo>
                    <a:pt x="186" y="0"/>
                  </a:lnTo>
                  <a:lnTo>
                    <a:pt x="176" y="0"/>
                  </a:lnTo>
                  <a:lnTo>
                    <a:pt x="164" y="4"/>
                  </a:lnTo>
                  <a:lnTo>
                    <a:pt x="0" y="11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8" name=""/>
            <p:cNvGrpSpPr/>
            <p:nvPr/>
          </p:nvGrpSpPr>
          <p:grpSpPr>
            <a:xfrm>
              <a:off x="3660120" y="3225240"/>
              <a:ext cx="609480" cy="559440"/>
              <a:chOff x="3660120" y="3225240"/>
              <a:chExt cx="609480" cy="559440"/>
            </a:xfrm>
          </p:grpSpPr>
          <p:sp>
            <p:nvSpPr>
              <p:cNvPr id="1159" name=""/>
              <p:cNvSpPr/>
              <p:nvPr/>
            </p:nvSpPr>
            <p:spPr>
              <a:xfrm rot="31200">
                <a:off x="3661920" y="3394800"/>
                <a:ext cx="605880" cy="387000"/>
              </a:xfrm>
              <a:custGeom>
                <a:avLst/>
                <a:gdLst/>
                <a:ahLst/>
                <a:rect l="l" t="t" r="r" b="b"/>
                <a:pathLst>
                  <a:path w="786" h="555">
                    <a:moveTo>
                      <a:pt x="261" y="20"/>
                    </a:moveTo>
                    <a:lnTo>
                      <a:pt x="0" y="132"/>
                    </a:lnTo>
                    <a:lnTo>
                      <a:pt x="12" y="318"/>
                    </a:lnTo>
                    <a:lnTo>
                      <a:pt x="525" y="555"/>
                    </a:lnTo>
                    <a:lnTo>
                      <a:pt x="786" y="227"/>
                    </a:lnTo>
                    <a:lnTo>
                      <a:pt x="785" y="85"/>
                    </a:lnTo>
                    <a:lnTo>
                      <a:pt x="274" y="0"/>
                    </a:lnTo>
                    <a:lnTo>
                      <a:pt x="261"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rot="31200">
                <a:off x="3731040" y="3375360"/>
                <a:ext cx="453600" cy="290880"/>
              </a:xfrm>
              <a:custGeom>
                <a:avLst/>
                <a:gdLst/>
                <a:ahLst/>
                <a:rect l="l" t="t" r="r" b="b"/>
                <a:pathLst>
                  <a:path w="588" h="417">
                    <a:moveTo>
                      <a:pt x="196" y="16"/>
                    </a:moveTo>
                    <a:lnTo>
                      <a:pt x="0" y="95"/>
                    </a:lnTo>
                    <a:lnTo>
                      <a:pt x="6" y="235"/>
                    </a:lnTo>
                    <a:lnTo>
                      <a:pt x="387" y="417"/>
                    </a:lnTo>
                    <a:lnTo>
                      <a:pt x="587" y="177"/>
                    </a:lnTo>
                    <a:lnTo>
                      <a:pt x="588" y="71"/>
                    </a:lnTo>
                    <a:lnTo>
                      <a:pt x="207" y="0"/>
                    </a:lnTo>
                    <a:lnTo>
                      <a:pt x="196"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rot="31200">
                <a:off x="3766320" y="3249720"/>
                <a:ext cx="415800" cy="286920"/>
              </a:xfrm>
              <a:custGeom>
                <a:avLst/>
                <a:gdLst/>
                <a:ahLst/>
                <a:rect l="l" t="t" r="r" b="b"/>
                <a:pathLst>
                  <a:path w="540" h="413">
                    <a:moveTo>
                      <a:pt x="397" y="16"/>
                    </a:moveTo>
                    <a:lnTo>
                      <a:pt x="540" y="44"/>
                    </a:lnTo>
                    <a:lnTo>
                      <a:pt x="539" y="181"/>
                    </a:lnTo>
                    <a:lnTo>
                      <a:pt x="480" y="221"/>
                    </a:lnTo>
                    <a:lnTo>
                      <a:pt x="472" y="293"/>
                    </a:lnTo>
                    <a:lnTo>
                      <a:pt x="315" y="413"/>
                    </a:lnTo>
                    <a:lnTo>
                      <a:pt x="25" y="282"/>
                    </a:lnTo>
                    <a:lnTo>
                      <a:pt x="0" y="5"/>
                    </a:lnTo>
                    <a:lnTo>
                      <a:pt x="219" y="0"/>
                    </a:lnTo>
                    <a:lnTo>
                      <a:pt x="330" y="20"/>
                    </a:lnTo>
                    <a:lnTo>
                      <a:pt x="39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rot="31200">
                <a:off x="3683520" y="3227760"/>
                <a:ext cx="558360" cy="383040"/>
              </a:xfrm>
              <a:custGeom>
                <a:avLst/>
                <a:gdLst/>
                <a:ahLst/>
                <a:rect l="l" t="t" r="r" b="b"/>
                <a:pathLst>
                  <a:path w="724" h="551">
                    <a:moveTo>
                      <a:pt x="532" y="15"/>
                    </a:moveTo>
                    <a:lnTo>
                      <a:pt x="724" y="52"/>
                    </a:lnTo>
                    <a:lnTo>
                      <a:pt x="723" y="234"/>
                    </a:lnTo>
                    <a:lnTo>
                      <a:pt x="647" y="288"/>
                    </a:lnTo>
                    <a:lnTo>
                      <a:pt x="638" y="385"/>
                    </a:lnTo>
                    <a:lnTo>
                      <a:pt x="432" y="551"/>
                    </a:lnTo>
                    <a:lnTo>
                      <a:pt x="41" y="383"/>
                    </a:lnTo>
                    <a:lnTo>
                      <a:pt x="0" y="12"/>
                    </a:lnTo>
                    <a:lnTo>
                      <a:pt x="294" y="0"/>
                    </a:lnTo>
                    <a:lnTo>
                      <a:pt x="442" y="24"/>
                    </a:lnTo>
                    <a:lnTo>
                      <a:pt x="532"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rot="31200">
                <a:off x="3663720" y="3421440"/>
                <a:ext cx="558360" cy="325800"/>
              </a:xfrm>
              <a:custGeom>
                <a:avLst/>
                <a:gdLst/>
                <a:ahLst/>
                <a:rect l="l" t="t" r="r" b="b"/>
                <a:pathLst>
                  <a:path w="725" h="469">
                    <a:moveTo>
                      <a:pt x="267" y="0"/>
                    </a:moveTo>
                    <a:lnTo>
                      <a:pt x="0" y="113"/>
                    </a:lnTo>
                    <a:lnTo>
                      <a:pt x="11" y="255"/>
                    </a:lnTo>
                    <a:lnTo>
                      <a:pt x="473" y="469"/>
                    </a:lnTo>
                    <a:lnTo>
                      <a:pt x="721" y="169"/>
                    </a:lnTo>
                    <a:lnTo>
                      <a:pt x="725" y="76"/>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rot="31200">
                <a:off x="3708720" y="3243960"/>
                <a:ext cx="503280" cy="336600"/>
              </a:xfrm>
              <a:custGeom>
                <a:avLst/>
                <a:gdLst/>
                <a:ahLst/>
                <a:rect l="l" t="t" r="r" b="b"/>
                <a:pathLst>
                  <a:path w="654" h="483">
                    <a:moveTo>
                      <a:pt x="497" y="19"/>
                    </a:moveTo>
                    <a:lnTo>
                      <a:pt x="654" y="49"/>
                    </a:lnTo>
                    <a:lnTo>
                      <a:pt x="646" y="189"/>
                    </a:lnTo>
                    <a:lnTo>
                      <a:pt x="577" y="237"/>
                    </a:lnTo>
                    <a:lnTo>
                      <a:pt x="573" y="333"/>
                    </a:lnTo>
                    <a:lnTo>
                      <a:pt x="400" y="483"/>
                    </a:lnTo>
                    <a:lnTo>
                      <a:pt x="35" y="351"/>
                    </a:lnTo>
                    <a:lnTo>
                      <a:pt x="0" y="9"/>
                    </a:lnTo>
                    <a:lnTo>
                      <a:pt x="253" y="0"/>
                    </a:lnTo>
                    <a:lnTo>
                      <a:pt x="385" y="21"/>
                    </a:lnTo>
                    <a:lnTo>
                      <a:pt x="49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rot="31200">
                <a:off x="3739680" y="3271320"/>
                <a:ext cx="267120" cy="271440"/>
              </a:xfrm>
              <a:custGeom>
                <a:avLst/>
                <a:gdLst/>
                <a:ahLst/>
                <a:rect l="l" t="t" r="r" b="b"/>
                <a:pathLst>
                  <a:path w="347" h="390">
                    <a:moveTo>
                      <a:pt x="0" y="0"/>
                    </a:moveTo>
                    <a:lnTo>
                      <a:pt x="26" y="288"/>
                    </a:lnTo>
                    <a:lnTo>
                      <a:pt x="345" y="390"/>
                    </a:lnTo>
                    <a:lnTo>
                      <a:pt x="347" y="7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rot="31200">
                <a:off x="4034880" y="3310920"/>
                <a:ext cx="92160" cy="213120"/>
              </a:xfrm>
              <a:custGeom>
                <a:avLst/>
                <a:gdLst/>
                <a:ahLst/>
                <a:rect l="l" t="t" r="r" b="b"/>
                <a:pathLst>
                  <a:path w="119" h="306">
                    <a:moveTo>
                      <a:pt x="0" y="25"/>
                    </a:moveTo>
                    <a:lnTo>
                      <a:pt x="2" y="306"/>
                    </a:lnTo>
                    <a:lnTo>
                      <a:pt x="108" y="213"/>
                    </a:lnTo>
                    <a:lnTo>
                      <a:pt x="119" y="0"/>
                    </a:lnTo>
                    <a:lnTo>
                      <a:pt x="0" y="25"/>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rot="31200">
                <a:off x="3780000" y="3322800"/>
                <a:ext cx="184320" cy="160920"/>
              </a:xfrm>
              <a:custGeom>
                <a:avLst/>
                <a:gdLst/>
                <a:ahLst/>
                <a:rect l="l" t="t" r="r" b="b"/>
                <a:pathLst>
                  <a:path w="240" h="231">
                    <a:moveTo>
                      <a:pt x="0" y="0"/>
                    </a:moveTo>
                    <a:lnTo>
                      <a:pt x="11" y="168"/>
                    </a:lnTo>
                    <a:lnTo>
                      <a:pt x="240" y="231"/>
                    </a:lnTo>
                    <a:lnTo>
                      <a:pt x="236" y="49"/>
                    </a:ln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rot="31200">
                <a:off x="3690360" y="3516840"/>
                <a:ext cx="327240" cy="198720"/>
              </a:xfrm>
              <a:custGeom>
                <a:avLst/>
                <a:gdLst/>
                <a:ahLst/>
                <a:rect l="l" t="t" r="r" b="b"/>
                <a:pathLst>
                  <a:path w="424" h="285">
                    <a:moveTo>
                      <a:pt x="0" y="0"/>
                    </a:moveTo>
                    <a:lnTo>
                      <a:pt x="8" y="106"/>
                    </a:lnTo>
                    <a:lnTo>
                      <a:pt x="424" y="285"/>
                    </a:lnTo>
                    <a:lnTo>
                      <a:pt x="417" y="15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rot="31200">
                <a:off x="3806640" y="3261600"/>
                <a:ext cx="276120" cy="36720"/>
              </a:xfrm>
              <a:custGeom>
                <a:avLst/>
                <a:gdLst/>
                <a:ahLst/>
                <a:rect l="l" t="t" r="r" b="b"/>
                <a:pathLst>
                  <a:path w="359" h="53">
                    <a:moveTo>
                      <a:pt x="0" y="0"/>
                    </a:moveTo>
                    <a:lnTo>
                      <a:pt x="258" y="53"/>
                    </a:lnTo>
                    <a:lnTo>
                      <a:pt x="359" y="39"/>
                    </a:lnTo>
                    <a:lnTo>
                      <a:pt x="129" y="0"/>
                    </a:lnTo>
                    <a:lnTo>
                      <a:pt x="0" y="0"/>
                    </a:lnTo>
                    <a:close/>
                  </a:path>
                </a:pathLst>
              </a:custGeom>
              <a:solidFill>
                <a:srgbClr val="3f3f3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0" name=""/>
              <p:cNvSpPr/>
              <p:nvPr/>
            </p:nvSpPr>
            <p:spPr>
              <a:xfrm rot="31200">
                <a:off x="4040280" y="3503520"/>
                <a:ext cx="155160" cy="188280"/>
              </a:xfrm>
              <a:custGeom>
                <a:avLst/>
                <a:gdLst/>
                <a:ahLst/>
                <a:rect l="l" t="t" r="r" b="b"/>
                <a:pathLst>
                  <a:path w="202" h="270">
                    <a:moveTo>
                      <a:pt x="0" y="151"/>
                    </a:moveTo>
                    <a:lnTo>
                      <a:pt x="3" y="270"/>
                    </a:lnTo>
                    <a:lnTo>
                      <a:pt x="196" y="51"/>
                    </a:lnTo>
                    <a:lnTo>
                      <a:pt x="202" y="0"/>
                    </a:lnTo>
                    <a:lnTo>
                      <a:pt x="0" y="151"/>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rot="31200">
                <a:off x="3716640" y="3497760"/>
                <a:ext cx="301680" cy="97560"/>
              </a:xfrm>
              <a:custGeom>
                <a:avLst/>
                <a:gdLst/>
                <a:ahLst/>
                <a:rect l="l" t="t" r="r" b="b"/>
                <a:pathLst>
                  <a:path w="392" h="140">
                    <a:moveTo>
                      <a:pt x="24" y="0"/>
                    </a:moveTo>
                    <a:lnTo>
                      <a:pt x="0" y="8"/>
                    </a:lnTo>
                    <a:lnTo>
                      <a:pt x="392" y="140"/>
                    </a:lnTo>
                    <a:lnTo>
                      <a:pt x="389" y="109"/>
                    </a:lnTo>
                    <a:lnTo>
                      <a:pt x="24"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rot="31200">
                <a:off x="3800880" y="3338640"/>
                <a:ext cx="126360" cy="112320"/>
              </a:xfrm>
              <a:custGeom>
                <a:avLst/>
                <a:gdLst/>
                <a:ahLst/>
                <a:rect l="l" t="t" r="r" b="b"/>
                <a:pathLst>
                  <a:path w="165" h="162">
                    <a:moveTo>
                      <a:pt x="71" y="0"/>
                    </a:moveTo>
                    <a:lnTo>
                      <a:pt x="165" y="23"/>
                    </a:lnTo>
                    <a:lnTo>
                      <a:pt x="43" y="162"/>
                    </a:lnTo>
                    <a:lnTo>
                      <a:pt x="0" y="150"/>
                    </a:lnTo>
                    <a:lnTo>
                      <a:pt x="71" y="0"/>
                    </a:lnTo>
                    <a:close/>
                  </a:path>
                </a:pathLst>
              </a:cu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rot="31200">
                <a:off x="3780000" y="3322800"/>
                <a:ext cx="184320" cy="160920"/>
              </a:xfrm>
              <a:custGeom>
                <a:avLst/>
                <a:gdLst/>
                <a:ahLst/>
                <a:rect l="l" t="t" r="r" b="b"/>
                <a:pathLst>
                  <a:path w="240" h="231">
                    <a:moveTo>
                      <a:pt x="0" y="0"/>
                    </a:moveTo>
                    <a:lnTo>
                      <a:pt x="236" y="49"/>
                    </a:lnTo>
                    <a:lnTo>
                      <a:pt x="240" y="231"/>
                    </a:lnTo>
                    <a:lnTo>
                      <a:pt x="218" y="6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rot="31200">
                <a:off x="3691440" y="3516840"/>
                <a:ext cx="321120" cy="108360"/>
              </a:xfrm>
              <a:custGeom>
                <a:avLst/>
                <a:gdLst/>
                <a:ahLst/>
                <a:rect l="l" t="t" r="r" b="b"/>
                <a:pathLst>
                  <a:path w="417" h="156">
                    <a:moveTo>
                      <a:pt x="0" y="0"/>
                    </a:moveTo>
                    <a:lnTo>
                      <a:pt x="4" y="49"/>
                    </a:lnTo>
                    <a:lnTo>
                      <a:pt x="417" y="156"/>
                    </a:lnTo>
                    <a:lnTo>
                      <a:pt x="0" y="0"/>
                    </a:lnTo>
                    <a:close/>
                  </a:path>
                </a:pathLst>
              </a:custGeom>
              <a:solidFill>
                <a:srgbClr val="ff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rot="31200">
                <a:off x="3729240" y="3539880"/>
                <a:ext cx="18360" cy="16200"/>
              </a:xfrm>
              <a:custGeom>
                <a:avLst/>
                <a:gdLst/>
                <a:ahLst/>
                <a:rect l="l" t="t" r="r" b="b"/>
                <a:pathLst>
                  <a:path w="24" h="23">
                    <a:moveTo>
                      <a:pt x="12" y="23"/>
                    </a:moveTo>
                    <a:lnTo>
                      <a:pt x="18" y="23"/>
                    </a:lnTo>
                    <a:lnTo>
                      <a:pt x="20" y="20"/>
                    </a:lnTo>
                    <a:lnTo>
                      <a:pt x="23" y="18"/>
                    </a:lnTo>
                    <a:lnTo>
                      <a:pt x="24" y="14"/>
                    </a:lnTo>
                    <a:lnTo>
                      <a:pt x="23" y="8"/>
                    </a:lnTo>
                    <a:lnTo>
                      <a:pt x="20" y="4"/>
                    </a:lnTo>
                    <a:lnTo>
                      <a:pt x="18" y="1"/>
                    </a:lnTo>
                    <a:lnTo>
                      <a:pt x="12" y="0"/>
                    </a:lnTo>
                    <a:lnTo>
                      <a:pt x="7" y="1"/>
                    </a:lnTo>
                    <a:lnTo>
                      <a:pt x="4" y="4"/>
                    </a:lnTo>
                    <a:lnTo>
                      <a:pt x="2" y="7"/>
                    </a:lnTo>
                    <a:lnTo>
                      <a:pt x="0" y="12"/>
                    </a:lnTo>
                    <a:lnTo>
                      <a:pt x="2" y="16"/>
                    </a:lnTo>
                    <a:lnTo>
                      <a:pt x="4" y="19"/>
                    </a:lnTo>
                    <a:lnTo>
                      <a:pt x="7" y="22"/>
                    </a:lnTo>
                    <a:lnTo>
                      <a:pt x="12"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76" name=""/>
              <p:cNvSpPr/>
              <p:nvPr/>
            </p:nvSpPr>
            <p:spPr>
              <a:xfrm rot="31200">
                <a:off x="3918600" y="3612600"/>
                <a:ext cx="79560" cy="41760"/>
              </a:xfrm>
              <a:custGeom>
                <a:avLst/>
                <a:gdLst/>
                <a:ahLst/>
                <a:rect l="l" t="t" r="r" b="b"/>
                <a:pathLst>
                  <a:path w="103" h="59">
                    <a:moveTo>
                      <a:pt x="0" y="0"/>
                    </a:moveTo>
                    <a:lnTo>
                      <a:pt x="0" y="16"/>
                    </a:lnTo>
                    <a:lnTo>
                      <a:pt x="103" y="59"/>
                    </a:lnTo>
                    <a:lnTo>
                      <a:pt x="103" y="39"/>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77" name=""/>
              <p:cNvSpPr/>
              <p:nvPr/>
            </p:nvSpPr>
            <p:spPr>
              <a:xfrm rot="31200">
                <a:off x="3930840" y="3489480"/>
                <a:ext cx="32040" cy="16200"/>
              </a:xfrm>
              <a:custGeom>
                <a:avLst/>
                <a:gdLst/>
                <a:ahLst/>
                <a:rect l="l" t="t" r="r" b="b"/>
                <a:pathLst>
                  <a:path w="43" h="23">
                    <a:moveTo>
                      <a:pt x="1" y="0"/>
                    </a:moveTo>
                    <a:lnTo>
                      <a:pt x="0" y="12"/>
                    </a:lnTo>
                    <a:lnTo>
                      <a:pt x="43" y="23"/>
                    </a:lnTo>
                    <a:lnTo>
                      <a:pt x="43" y="12"/>
                    </a:lnTo>
                    <a:lnTo>
                      <a:pt x="1"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1178" name=""/>
            <p:cNvSpPr/>
            <p:nvPr/>
          </p:nvSpPr>
          <p:spPr>
            <a:xfrm rot="31200">
              <a:off x="3821400" y="3640680"/>
              <a:ext cx="740880" cy="227520"/>
            </a:xfrm>
            <a:prstGeom prst="rect">
              <a:avLst/>
            </a:prstGeom>
            <a:solidFill>
              <a:srgbClr val="3333ff"/>
            </a:solidFill>
            <a:ln w="9360">
              <a:solidFill>
                <a:srgbClr val="000000"/>
              </a:solidFill>
              <a:miter/>
            </a:ln>
          </p:spPr>
          <p:style>
            <a:lnRef idx="0"/>
            <a:fillRef idx="0"/>
            <a:effectRef idx="0"/>
            <a:fontRef idx="minor"/>
          </p:style>
          <p:txBody>
            <a:bodyPr wrap="none" lIns="81360" rIns="81360" tIns="40680" bIns="40680" anchor="ctr">
              <a:spAutoFit/>
            </a:bodyPr>
            <a:p>
              <a:pPr algn="ctr">
                <a:lnSpc>
                  <a:spcPct val="8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Narrow"/>
                </a:rPr>
                <a:t>Acme.Net</a:t>
              </a:r>
              <a:endParaRPr b="0" lang="en-US" sz="1200" spc="-1" strike="noStrike">
                <a:solidFill>
                  <a:srgbClr val="000000"/>
                </a:solidFill>
                <a:latin typeface="Times New Roman"/>
              </a:endParaRPr>
            </a:p>
          </p:txBody>
        </p:sp>
        <p:grpSp>
          <p:nvGrpSpPr>
            <p:cNvPr id="1179" name=""/>
            <p:cNvGrpSpPr/>
            <p:nvPr/>
          </p:nvGrpSpPr>
          <p:grpSpPr>
            <a:xfrm>
              <a:off x="4810320" y="5510160"/>
              <a:ext cx="484560" cy="813600"/>
              <a:chOff x="4810320" y="5510160"/>
              <a:chExt cx="484560" cy="813600"/>
            </a:xfrm>
          </p:grpSpPr>
          <p:grpSp>
            <p:nvGrpSpPr>
              <p:cNvPr id="1180" name=""/>
              <p:cNvGrpSpPr/>
              <p:nvPr/>
            </p:nvGrpSpPr>
            <p:grpSpPr>
              <a:xfrm>
                <a:off x="4810320" y="5510160"/>
                <a:ext cx="484560" cy="813600"/>
                <a:chOff x="4810320" y="5510160"/>
                <a:chExt cx="484560" cy="813600"/>
              </a:xfrm>
            </p:grpSpPr>
            <p:sp>
              <p:nvSpPr>
                <p:cNvPr id="1181" name=""/>
                <p:cNvSpPr/>
                <p:nvPr/>
              </p:nvSpPr>
              <p:spPr>
                <a:xfrm>
                  <a:off x="4813560" y="5743440"/>
                  <a:ext cx="481320" cy="155880"/>
                </a:xfrm>
                <a:custGeom>
                  <a:avLst/>
                  <a:gdLst/>
                  <a:ahLst/>
                  <a:rect l="l" t="t" r="r" b="b"/>
                  <a:pathLst>
                    <a:path w="836" h="324">
                      <a:moveTo>
                        <a:pt x="0" y="237"/>
                      </a:moveTo>
                      <a:lnTo>
                        <a:pt x="472" y="324"/>
                      </a:lnTo>
                      <a:lnTo>
                        <a:pt x="836" y="62"/>
                      </a:lnTo>
                      <a:lnTo>
                        <a:pt x="380" y="0"/>
                      </a:lnTo>
                      <a:lnTo>
                        <a:pt x="0" y="237"/>
                      </a:lnTo>
                      <a:close/>
                    </a:path>
                  </a:pathLst>
                </a:custGeom>
                <a:solidFill>
                  <a:srgbClr val="ff5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4879080" y="5610960"/>
                  <a:ext cx="200520" cy="265320"/>
                </a:xfrm>
                <a:custGeom>
                  <a:avLst/>
                  <a:gdLst/>
                  <a:ahLst/>
                  <a:rect l="l" t="t" r="r" b="b"/>
                  <a:pathLst>
                    <a:path w="348" h="548">
                      <a:moveTo>
                        <a:pt x="0" y="0"/>
                      </a:moveTo>
                      <a:lnTo>
                        <a:pt x="348" y="27"/>
                      </a:lnTo>
                      <a:lnTo>
                        <a:pt x="348" y="548"/>
                      </a:lnTo>
                      <a:lnTo>
                        <a:pt x="0" y="475"/>
                      </a:lnTo>
                      <a:lnTo>
                        <a:pt x="0"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077440" y="5567400"/>
                  <a:ext cx="172440" cy="306720"/>
                </a:xfrm>
                <a:custGeom>
                  <a:avLst/>
                  <a:gdLst/>
                  <a:ahLst/>
                  <a:rect l="l" t="t" r="r" b="b"/>
                  <a:pathLst>
                    <a:path w="301" h="634">
                      <a:moveTo>
                        <a:pt x="0" y="117"/>
                      </a:moveTo>
                      <a:lnTo>
                        <a:pt x="0" y="634"/>
                      </a:lnTo>
                      <a:lnTo>
                        <a:pt x="301" y="425"/>
                      </a:lnTo>
                      <a:lnTo>
                        <a:pt x="301" y="0"/>
                      </a:lnTo>
                      <a:lnTo>
                        <a:pt x="0" y="117"/>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879080" y="5555520"/>
                  <a:ext cx="370800" cy="67320"/>
                </a:xfrm>
                <a:custGeom>
                  <a:avLst/>
                  <a:gdLst/>
                  <a:ahLst/>
                  <a:rect l="l" t="t" r="r" b="b"/>
                  <a:pathLst>
                    <a:path w="644" h="142">
                      <a:moveTo>
                        <a:pt x="0" y="115"/>
                      </a:moveTo>
                      <a:lnTo>
                        <a:pt x="343" y="142"/>
                      </a:lnTo>
                      <a:lnTo>
                        <a:pt x="644" y="25"/>
                      </a:lnTo>
                      <a:lnTo>
                        <a:pt x="343" y="0"/>
                      </a:lnTo>
                      <a:lnTo>
                        <a:pt x="0" y="115"/>
                      </a:lnTo>
                      <a:close/>
                    </a:path>
                  </a:pathLst>
                </a:custGeom>
                <a:solidFill>
                  <a:srgbClr val="ff5f1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85" name=""/>
                <p:cNvSpPr/>
                <p:nvPr/>
              </p:nvSpPr>
              <p:spPr>
                <a:xfrm>
                  <a:off x="4927680" y="5510160"/>
                  <a:ext cx="270720" cy="41400"/>
                </a:xfrm>
                <a:custGeom>
                  <a:avLst/>
                  <a:gdLst/>
                  <a:ahLst/>
                  <a:rect l="l" t="t" r="r" b="b"/>
                  <a:pathLst>
                    <a:path w="470" h="86">
                      <a:moveTo>
                        <a:pt x="0" y="69"/>
                      </a:moveTo>
                      <a:lnTo>
                        <a:pt x="249" y="86"/>
                      </a:lnTo>
                      <a:lnTo>
                        <a:pt x="470" y="21"/>
                      </a:lnTo>
                      <a:lnTo>
                        <a:pt x="235" y="0"/>
                      </a:lnTo>
                      <a:lnTo>
                        <a:pt x="0" y="69"/>
                      </a:lnTo>
                      <a:close/>
                    </a:path>
                  </a:pathLst>
                </a:custGeom>
                <a:solidFill>
                  <a:srgbClr val="ff5f1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6" name=""/>
                <p:cNvSpPr/>
                <p:nvPr/>
              </p:nvSpPr>
              <p:spPr>
                <a:xfrm>
                  <a:off x="4927680" y="5542920"/>
                  <a:ext cx="140400" cy="63720"/>
                </a:xfrm>
                <a:custGeom>
                  <a:avLst/>
                  <a:gdLst/>
                  <a:ahLst/>
                  <a:rect l="l" t="t" r="r" b="b"/>
                  <a:pathLst>
                    <a:path w="246" h="132">
                      <a:moveTo>
                        <a:pt x="0" y="0"/>
                      </a:moveTo>
                      <a:lnTo>
                        <a:pt x="246" y="16"/>
                      </a:lnTo>
                      <a:lnTo>
                        <a:pt x="246" y="132"/>
                      </a:lnTo>
                      <a:lnTo>
                        <a:pt x="0" y="111"/>
                      </a:lnTo>
                      <a:lnTo>
                        <a:pt x="0" y="0"/>
                      </a:lnTo>
                      <a:close/>
                    </a:path>
                  </a:pathLst>
                </a:custGeom>
                <a:solidFill>
                  <a:srgbClr val="ff5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7" name=""/>
                <p:cNvSpPr/>
                <p:nvPr/>
              </p:nvSpPr>
              <p:spPr>
                <a:xfrm>
                  <a:off x="5068440" y="5520600"/>
                  <a:ext cx="129960" cy="86040"/>
                </a:xfrm>
                <a:custGeom>
                  <a:avLst/>
                  <a:gdLst/>
                  <a:ahLst/>
                  <a:rect l="l" t="t" r="r" b="b"/>
                  <a:pathLst>
                    <a:path w="224" h="180">
                      <a:moveTo>
                        <a:pt x="0" y="65"/>
                      </a:moveTo>
                      <a:lnTo>
                        <a:pt x="0" y="180"/>
                      </a:lnTo>
                      <a:lnTo>
                        <a:pt x="224" y="93"/>
                      </a:lnTo>
                      <a:lnTo>
                        <a:pt x="224" y="0"/>
                      </a:lnTo>
                      <a:lnTo>
                        <a:pt x="0" y="65"/>
                      </a:lnTo>
                      <a:close/>
                    </a:path>
                  </a:pathLst>
                </a:custGeom>
                <a:solidFill>
                  <a:srgbClr val="bf3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8" name=""/>
                <p:cNvSpPr/>
                <p:nvPr/>
              </p:nvSpPr>
              <p:spPr>
                <a:xfrm>
                  <a:off x="5083200" y="5771520"/>
                  <a:ext cx="211680" cy="552240"/>
                </a:xfrm>
                <a:custGeom>
                  <a:avLst/>
                  <a:gdLst/>
                  <a:ahLst/>
                  <a:rect l="l" t="t" r="r" b="b"/>
                  <a:pathLst>
                    <a:path w="368" h="1138">
                      <a:moveTo>
                        <a:pt x="368" y="0"/>
                      </a:moveTo>
                      <a:lnTo>
                        <a:pt x="3" y="264"/>
                      </a:lnTo>
                      <a:lnTo>
                        <a:pt x="0" y="1138"/>
                      </a:lnTo>
                      <a:lnTo>
                        <a:pt x="368" y="797"/>
                      </a:lnTo>
                      <a:lnTo>
                        <a:pt x="368" y="0"/>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810320" y="5857920"/>
                  <a:ext cx="273960" cy="465840"/>
                </a:xfrm>
                <a:custGeom>
                  <a:avLst/>
                  <a:gdLst/>
                  <a:ahLst/>
                  <a:rect l="l" t="t" r="r" b="b"/>
                  <a:pathLst>
                    <a:path w="476" h="961">
                      <a:moveTo>
                        <a:pt x="5" y="0"/>
                      </a:moveTo>
                      <a:lnTo>
                        <a:pt x="476" y="87"/>
                      </a:lnTo>
                      <a:lnTo>
                        <a:pt x="476" y="961"/>
                      </a:lnTo>
                      <a:lnTo>
                        <a:pt x="0" y="805"/>
                      </a:lnTo>
                      <a:lnTo>
                        <a:pt x="5"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4842360" y="5617800"/>
                <a:ext cx="214560" cy="345960"/>
                <a:chOff x="4842360" y="5617800"/>
                <a:chExt cx="214560" cy="345960"/>
              </a:xfrm>
            </p:grpSpPr>
            <p:grpSp>
              <p:nvGrpSpPr>
                <p:cNvPr id="1191" name=""/>
                <p:cNvGrpSpPr/>
                <p:nvPr/>
              </p:nvGrpSpPr>
              <p:grpSpPr>
                <a:xfrm>
                  <a:off x="4892760" y="5617800"/>
                  <a:ext cx="164160" cy="78120"/>
                  <a:chOff x="4892760" y="5617800"/>
                  <a:chExt cx="164160" cy="78120"/>
                </a:xfrm>
              </p:grpSpPr>
              <p:sp>
                <p:nvSpPr>
                  <p:cNvPr id="1192" name=""/>
                  <p:cNvSpPr/>
                  <p:nvPr/>
                </p:nvSpPr>
                <p:spPr>
                  <a:xfrm>
                    <a:off x="4892760" y="5617800"/>
                    <a:ext cx="33120" cy="62640"/>
                  </a:xfrm>
                  <a:custGeom>
                    <a:avLst/>
                    <a:gdLst/>
                    <a:ahLst/>
                    <a:rect l="l" t="t" r="r" b="b"/>
                    <a:pathLst>
                      <a:path w="59" h="129">
                        <a:moveTo>
                          <a:pt x="0" y="0"/>
                        </a:moveTo>
                        <a:lnTo>
                          <a:pt x="59" y="6"/>
                        </a:lnTo>
                        <a:lnTo>
                          <a:pt x="59" y="129"/>
                        </a:lnTo>
                        <a:lnTo>
                          <a:pt x="2" y="119"/>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3" name=""/>
                  <p:cNvSpPr/>
                  <p:nvPr/>
                </p:nvSpPr>
                <p:spPr>
                  <a:xfrm>
                    <a:off x="4936320" y="5622480"/>
                    <a:ext cx="32040" cy="62640"/>
                  </a:xfrm>
                  <a:custGeom>
                    <a:avLst/>
                    <a:gdLst/>
                    <a:ahLst/>
                    <a:rect l="l" t="t" r="r" b="b"/>
                    <a:pathLst>
                      <a:path w="58" h="131">
                        <a:moveTo>
                          <a:pt x="0" y="0"/>
                        </a:moveTo>
                        <a:lnTo>
                          <a:pt x="58" y="5"/>
                        </a:lnTo>
                        <a:lnTo>
                          <a:pt x="58" y="131"/>
                        </a:lnTo>
                        <a:lnTo>
                          <a:pt x="0" y="122"/>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94" name=""/>
                  <p:cNvSpPr/>
                  <p:nvPr/>
                </p:nvSpPr>
                <p:spPr>
                  <a:xfrm>
                    <a:off x="4978800" y="5626440"/>
                    <a:ext cx="35640" cy="64440"/>
                  </a:xfrm>
                  <a:custGeom>
                    <a:avLst/>
                    <a:gdLst/>
                    <a:ahLst/>
                    <a:rect l="l" t="t" r="r" b="b"/>
                    <a:pathLst>
                      <a:path w="61" h="134">
                        <a:moveTo>
                          <a:pt x="0" y="0"/>
                        </a:moveTo>
                        <a:lnTo>
                          <a:pt x="61" y="6"/>
                        </a:lnTo>
                        <a:lnTo>
                          <a:pt x="58" y="134"/>
                        </a:lnTo>
                        <a:lnTo>
                          <a:pt x="0" y="125"/>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95" name=""/>
                  <p:cNvSpPr/>
                  <p:nvPr/>
                </p:nvSpPr>
                <p:spPr>
                  <a:xfrm>
                    <a:off x="5023800" y="5629320"/>
                    <a:ext cx="33120" cy="66600"/>
                  </a:xfrm>
                  <a:custGeom>
                    <a:avLst/>
                    <a:gdLst/>
                    <a:ahLst/>
                    <a:rect l="l" t="t" r="r" b="b"/>
                    <a:pathLst>
                      <a:path w="57" h="138">
                        <a:moveTo>
                          <a:pt x="0" y="0"/>
                        </a:moveTo>
                        <a:lnTo>
                          <a:pt x="57" y="6"/>
                        </a:lnTo>
                        <a:lnTo>
                          <a:pt x="57" y="138"/>
                        </a:lnTo>
                        <a:lnTo>
                          <a:pt x="0" y="13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96" name=""/>
                <p:cNvGrpSpPr/>
                <p:nvPr/>
              </p:nvGrpSpPr>
              <p:grpSpPr>
                <a:xfrm>
                  <a:off x="4891680" y="5691960"/>
                  <a:ext cx="165240" cy="81000"/>
                  <a:chOff x="4891680" y="5691960"/>
                  <a:chExt cx="165240" cy="81000"/>
                </a:xfrm>
              </p:grpSpPr>
              <p:sp>
                <p:nvSpPr>
                  <p:cNvPr id="1197" name=""/>
                  <p:cNvSpPr/>
                  <p:nvPr/>
                </p:nvSpPr>
                <p:spPr>
                  <a:xfrm>
                    <a:off x="4891680" y="5691960"/>
                    <a:ext cx="33120" cy="64800"/>
                  </a:xfrm>
                  <a:custGeom>
                    <a:avLst/>
                    <a:gdLst/>
                    <a:ahLst/>
                    <a:rect l="l" t="t" r="r" b="b"/>
                    <a:pathLst>
                      <a:path w="59" h="133">
                        <a:moveTo>
                          <a:pt x="0" y="0"/>
                        </a:moveTo>
                        <a:lnTo>
                          <a:pt x="59" y="9"/>
                        </a:lnTo>
                        <a:lnTo>
                          <a:pt x="59" y="133"/>
                        </a:lnTo>
                        <a:lnTo>
                          <a:pt x="1" y="125"/>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98" name=""/>
                  <p:cNvSpPr/>
                  <p:nvPr/>
                </p:nvSpPr>
                <p:spPr>
                  <a:xfrm>
                    <a:off x="4935240" y="5697720"/>
                    <a:ext cx="33120" cy="64800"/>
                  </a:xfrm>
                  <a:custGeom>
                    <a:avLst/>
                    <a:gdLst/>
                    <a:ahLst/>
                    <a:rect l="l" t="t" r="r" b="b"/>
                    <a:pathLst>
                      <a:path w="59" h="134">
                        <a:moveTo>
                          <a:pt x="1" y="0"/>
                        </a:moveTo>
                        <a:lnTo>
                          <a:pt x="59" y="11"/>
                        </a:lnTo>
                        <a:lnTo>
                          <a:pt x="57" y="134"/>
                        </a:lnTo>
                        <a:lnTo>
                          <a:pt x="0" y="125"/>
                        </a:lnTo>
                        <a:lnTo>
                          <a:pt x="1"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99" name=""/>
                  <p:cNvSpPr/>
                  <p:nvPr/>
                </p:nvSpPr>
                <p:spPr>
                  <a:xfrm>
                    <a:off x="4978800" y="5703480"/>
                    <a:ext cx="34200" cy="63720"/>
                  </a:xfrm>
                  <a:custGeom>
                    <a:avLst/>
                    <a:gdLst/>
                    <a:ahLst/>
                    <a:rect l="l" t="t" r="r" b="b"/>
                    <a:pathLst>
                      <a:path w="61" h="132">
                        <a:moveTo>
                          <a:pt x="0" y="0"/>
                        </a:moveTo>
                        <a:lnTo>
                          <a:pt x="61" y="8"/>
                        </a:lnTo>
                        <a:lnTo>
                          <a:pt x="58" y="132"/>
                        </a:lnTo>
                        <a:lnTo>
                          <a:pt x="0" y="12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0" name=""/>
                  <p:cNvSpPr/>
                  <p:nvPr/>
                </p:nvSpPr>
                <p:spPr>
                  <a:xfrm>
                    <a:off x="5023800" y="5708160"/>
                    <a:ext cx="33120" cy="64800"/>
                  </a:xfrm>
                  <a:custGeom>
                    <a:avLst/>
                    <a:gdLst/>
                    <a:ahLst/>
                    <a:rect l="l" t="t" r="r" b="b"/>
                    <a:pathLst>
                      <a:path w="57" h="133">
                        <a:moveTo>
                          <a:pt x="0" y="0"/>
                        </a:moveTo>
                        <a:lnTo>
                          <a:pt x="57" y="10"/>
                        </a:lnTo>
                        <a:lnTo>
                          <a:pt x="57" y="133"/>
                        </a:lnTo>
                        <a:lnTo>
                          <a:pt x="0" y="125"/>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201" name=""/>
                <p:cNvGrpSpPr/>
                <p:nvPr/>
              </p:nvGrpSpPr>
              <p:grpSpPr>
                <a:xfrm>
                  <a:off x="4842360" y="5873400"/>
                  <a:ext cx="205560" cy="90360"/>
                  <a:chOff x="4842360" y="5873400"/>
                  <a:chExt cx="205560" cy="90360"/>
                </a:xfrm>
              </p:grpSpPr>
              <p:grpSp>
                <p:nvGrpSpPr>
                  <p:cNvPr id="1202" name=""/>
                  <p:cNvGrpSpPr/>
                  <p:nvPr/>
                </p:nvGrpSpPr>
                <p:grpSpPr>
                  <a:xfrm>
                    <a:off x="4842360" y="5873400"/>
                    <a:ext cx="205560" cy="57600"/>
                    <a:chOff x="4842360" y="5873400"/>
                    <a:chExt cx="205560" cy="57600"/>
                  </a:xfrm>
                </p:grpSpPr>
                <p:sp>
                  <p:nvSpPr>
                    <p:cNvPr id="1203" name=""/>
                    <p:cNvSpPr/>
                    <p:nvPr/>
                  </p:nvSpPr>
                  <p:spPr>
                    <a:xfrm>
                      <a:off x="4894200" y="5882760"/>
                      <a:ext cx="44640" cy="28800"/>
                    </a:xfrm>
                    <a:custGeom>
                      <a:avLst/>
                      <a:gdLst/>
                      <a:ahLst/>
                      <a:rect l="l" t="t" r="r" b="b"/>
                      <a:pathLst>
                        <a:path w="78" h="61">
                          <a:moveTo>
                            <a:pt x="1" y="0"/>
                          </a:moveTo>
                          <a:lnTo>
                            <a:pt x="78" y="15"/>
                          </a:lnTo>
                          <a:lnTo>
                            <a:pt x="78" y="61"/>
                          </a:lnTo>
                          <a:lnTo>
                            <a:pt x="0" y="45"/>
                          </a:lnTo>
                          <a:lnTo>
                            <a:pt x="1"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04" name=""/>
                    <p:cNvSpPr/>
                    <p:nvPr/>
                  </p:nvSpPr>
                  <p:spPr>
                    <a:xfrm>
                      <a:off x="4949280" y="5890680"/>
                      <a:ext cx="44640" cy="30960"/>
                    </a:xfrm>
                    <a:custGeom>
                      <a:avLst/>
                      <a:gdLst/>
                      <a:ahLst/>
                      <a:rect l="l" t="t" r="r" b="b"/>
                      <a:pathLst>
                        <a:path w="77" h="65">
                          <a:moveTo>
                            <a:pt x="0" y="0"/>
                          </a:moveTo>
                          <a:lnTo>
                            <a:pt x="77" y="16"/>
                          </a:lnTo>
                          <a:lnTo>
                            <a:pt x="77" y="65"/>
                          </a:lnTo>
                          <a:lnTo>
                            <a:pt x="0" y="49"/>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05" name=""/>
                    <p:cNvSpPr/>
                    <p:nvPr/>
                  </p:nvSpPr>
                  <p:spPr>
                    <a:xfrm>
                      <a:off x="5004360" y="5900400"/>
                      <a:ext cx="43560" cy="30600"/>
                    </a:xfrm>
                    <a:custGeom>
                      <a:avLst/>
                      <a:gdLst/>
                      <a:ahLst/>
                      <a:rect l="l" t="t" r="r" b="b"/>
                      <a:pathLst>
                        <a:path w="76" h="64">
                          <a:moveTo>
                            <a:pt x="0" y="0"/>
                          </a:moveTo>
                          <a:lnTo>
                            <a:pt x="76" y="16"/>
                          </a:lnTo>
                          <a:lnTo>
                            <a:pt x="76" y="64"/>
                          </a:lnTo>
                          <a:lnTo>
                            <a:pt x="0" y="49"/>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6" name=""/>
                    <p:cNvSpPr/>
                    <p:nvPr/>
                  </p:nvSpPr>
                  <p:spPr>
                    <a:xfrm>
                      <a:off x="4842360" y="5873400"/>
                      <a:ext cx="43560" cy="29880"/>
                    </a:xfrm>
                    <a:custGeom>
                      <a:avLst/>
                      <a:gdLst/>
                      <a:ahLst/>
                      <a:rect l="l" t="t" r="r" b="b"/>
                      <a:pathLst>
                        <a:path w="77" h="61">
                          <a:moveTo>
                            <a:pt x="0" y="0"/>
                          </a:moveTo>
                          <a:lnTo>
                            <a:pt x="77" y="14"/>
                          </a:lnTo>
                          <a:lnTo>
                            <a:pt x="77" y="61"/>
                          </a:lnTo>
                          <a:lnTo>
                            <a:pt x="0" y="4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207" name=""/>
                  <p:cNvGrpSpPr/>
                  <p:nvPr/>
                </p:nvGrpSpPr>
                <p:grpSpPr>
                  <a:xfrm>
                    <a:off x="4842360" y="5906160"/>
                    <a:ext cx="205560" cy="57600"/>
                    <a:chOff x="4842360" y="5906160"/>
                    <a:chExt cx="205560" cy="57600"/>
                  </a:xfrm>
                </p:grpSpPr>
                <p:sp>
                  <p:nvSpPr>
                    <p:cNvPr id="1208" name=""/>
                    <p:cNvSpPr/>
                    <p:nvPr/>
                  </p:nvSpPr>
                  <p:spPr>
                    <a:xfrm>
                      <a:off x="4894200" y="5914800"/>
                      <a:ext cx="44640" cy="29520"/>
                    </a:xfrm>
                    <a:custGeom>
                      <a:avLst/>
                      <a:gdLst/>
                      <a:ahLst/>
                      <a:rect l="l" t="t" r="r" b="b"/>
                      <a:pathLst>
                        <a:path w="78" h="62">
                          <a:moveTo>
                            <a:pt x="2" y="0"/>
                          </a:moveTo>
                          <a:lnTo>
                            <a:pt x="78" y="15"/>
                          </a:lnTo>
                          <a:lnTo>
                            <a:pt x="78" y="62"/>
                          </a:lnTo>
                          <a:lnTo>
                            <a:pt x="0" y="48"/>
                          </a:lnTo>
                          <a:lnTo>
                            <a:pt x="2"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09" name=""/>
                    <p:cNvSpPr/>
                    <p:nvPr/>
                  </p:nvSpPr>
                  <p:spPr>
                    <a:xfrm>
                      <a:off x="4949280" y="5923440"/>
                      <a:ext cx="43560" cy="29880"/>
                    </a:xfrm>
                    <a:custGeom>
                      <a:avLst/>
                      <a:gdLst/>
                      <a:ahLst/>
                      <a:rect l="l" t="t" r="r" b="b"/>
                      <a:pathLst>
                        <a:path w="77" h="62">
                          <a:moveTo>
                            <a:pt x="0" y="0"/>
                          </a:moveTo>
                          <a:lnTo>
                            <a:pt x="77" y="15"/>
                          </a:lnTo>
                          <a:lnTo>
                            <a:pt x="77" y="62"/>
                          </a:lnTo>
                          <a:lnTo>
                            <a:pt x="0" y="48"/>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0" name=""/>
                    <p:cNvSpPr/>
                    <p:nvPr/>
                  </p:nvSpPr>
                  <p:spPr>
                    <a:xfrm>
                      <a:off x="5004360" y="5933880"/>
                      <a:ext cx="43560" cy="29880"/>
                    </a:xfrm>
                    <a:custGeom>
                      <a:avLst/>
                      <a:gdLst/>
                      <a:ahLst/>
                      <a:rect l="l" t="t" r="r" b="b"/>
                      <a:pathLst>
                        <a:path w="76" h="63">
                          <a:moveTo>
                            <a:pt x="0" y="0"/>
                          </a:moveTo>
                          <a:lnTo>
                            <a:pt x="76" y="17"/>
                          </a:lnTo>
                          <a:lnTo>
                            <a:pt x="76" y="63"/>
                          </a:lnTo>
                          <a:lnTo>
                            <a:pt x="0" y="4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11" name=""/>
                    <p:cNvSpPr/>
                    <p:nvPr/>
                  </p:nvSpPr>
                  <p:spPr>
                    <a:xfrm>
                      <a:off x="4842360" y="5906160"/>
                      <a:ext cx="43560" cy="29880"/>
                    </a:xfrm>
                    <a:custGeom>
                      <a:avLst/>
                      <a:gdLst/>
                      <a:ahLst/>
                      <a:rect l="l" t="t" r="r" b="b"/>
                      <a:pathLst>
                        <a:path w="77" h="62">
                          <a:moveTo>
                            <a:pt x="0" y="0"/>
                          </a:moveTo>
                          <a:lnTo>
                            <a:pt x="77" y="15"/>
                          </a:lnTo>
                          <a:lnTo>
                            <a:pt x="77" y="62"/>
                          </a:lnTo>
                          <a:lnTo>
                            <a:pt x="0" y="49"/>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grpSp>
        <p:sp>
          <p:nvSpPr>
            <p:cNvPr id="1212" name=""/>
            <p:cNvSpPr/>
            <p:nvPr/>
          </p:nvSpPr>
          <p:spPr>
            <a:xfrm rot="2085600">
              <a:off x="3440160" y="4689000"/>
              <a:ext cx="498240" cy="162000"/>
            </a:xfrm>
            <a:custGeom>
              <a:avLst/>
              <a:gdLst/>
              <a:ahLst/>
              <a:rect l="l" t="t" r="r" b="b"/>
              <a:pathLst>
                <a:path w="202" h="79">
                  <a:moveTo>
                    <a:pt x="7" y="23"/>
                  </a:moveTo>
                  <a:lnTo>
                    <a:pt x="202" y="79"/>
                  </a:lnTo>
                  <a:lnTo>
                    <a:pt x="198" y="50"/>
                  </a:lnTo>
                  <a:lnTo>
                    <a:pt x="16" y="0"/>
                  </a:lnTo>
                  <a:lnTo>
                    <a:pt x="12" y="2"/>
                  </a:lnTo>
                  <a:lnTo>
                    <a:pt x="4" y="4"/>
                  </a:lnTo>
                  <a:lnTo>
                    <a:pt x="0" y="11"/>
                  </a:lnTo>
                  <a:lnTo>
                    <a:pt x="7" y="23"/>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rot="31200">
              <a:off x="3771720" y="4933440"/>
              <a:ext cx="717840" cy="456480"/>
            </a:xfrm>
            <a:custGeom>
              <a:avLst/>
              <a:gdLst/>
              <a:ahLst/>
              <a:rect l="l" t="t" r="r" b="b"/>
              <a:pathLst>
                <a:path w="786" h="555">
                  <a:moveTo>
                    <a:pt x="261" y="20"/>
                  </a:moveTo>
                  <a:lnTo>
                    <a:pt x="0" y="132"/>
                  </a:lnTo>
                  <a:lnTo>
                    <a:pt x="12" y="318"/>
                  </a:lnTo>
                  <a:lnTo>
                    <a:pt x="525" y="555"/>
                  </a:lnTo>
                  <a:lnTo>
                    <a:pt x="786" y="227"/>
                  </a:lnTo>
                  <a:lnTo>
                    <a:pt x="785" y="85"/>
                  </a:lnTo>
                  <a:lnTo>
                    <a:pt x="274" y="0"/>
                  </a:lnTo>
                  <a:lnTo>
                    <a:pt x="261"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4" name=""/>
            <p:cNvGrpSpPr/>
            <p:nvPr/>
          </p:nvGrpSpPr>
          <p:grpSpPr>
            <a:xfrm>
              <a:off x="3828240" y="4779360"/>
              <a:ext cx="686520" cy="621360"/>
              <a:chOff x="3828240" y="4779360"/>
              <a:chExt cx="686520" cy="621360"/>
            </a:xfrm>
          </p:grpSpPr>
          <p:sp>
            <p:nvSpPr>
              <p:cNvPr id="1215" name=""/>
              <p:cNvSpPr/>
              <p:nvPr/>
            </p:nvSpPr>
            <p:spPr>
              <a:xfrm rot="31200">
                <a:off x="3908880" y="4957200"/>
                <a:ext cx="536760" cy="343080"/>
              </a:xfrm>
              <a:custGeom>
                <a:avLst/>
                <a:gdLst/>
                <a:ahLst/>
                <a:rect l="l" t="t" r="r" b="b"/>
                <a:pathLst>
                  <a:path w="588" h="417">
                    <a:moveTo>
                      <a:pt x="196" y="16"/>
                    </a:moveTo>
                    <a:lnTo>
                      <a:pt x="0" y="95"/>
                    </a:lnTo>
                    <a:lnTo>
                      <a:pt x="6" y="235"/>
                    </a:lnTo>
                    <a:lnTo>
                      <a:pt x="387" y="417"/>
                    </a:lnTo>
                    <a:lnTo>
                      <a:pt x="587" y="177"/>
                    </a:lnTo>
                    <a:lnTo>
                      <a:pt x="588" y="71"/>
                    </a:lnTo>
                    <a:lnTo>
                      <a:pt x="207" y="0"/>
                    </a:lnTo>
                    <a:lnTo>
                      <a:pt x="196"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rot="31200">
                <a:off x="3950640" y="4808160"/>
                <a:ext cx="491760" cy="340200"/>
              </a:xfrm>
              <a:custGeom>
                <a:avLst/>
                <a:gdLst/>
                <a:ahLst/>
                <a:rect l="l" t="t" r="r" b="b"/>
                <a:pathLst>
                  <a:path w="540" h="413">
                    <a:moveTo>
                      <a:pt x="397" y="16"/>
                    </a:moveTo>
                    <a:lnTo>
                      <a:pt x="540" y="44"/>
                    </a:lnTo>
                    <a:lnTo>
                      <a:pt x="539" y="181"/>
                    </a:lnTo>
                    <a:lnTo>
                      <a:pt x="480" y="221"/>
                    </a:lnTo>
                    <a:lnTo>
                      <a:pt x="472" y="293"/>
                    </a:lnTo>
                    <a:lnTo>
                      <a:pt x="315" y="413"/>
                    </a:lnTo>
                    <a:lnTo>
                      <a:pt x="25" y="282"/>
                    </a:lnTo>
                    <a:lnTo>
                      <a:pt x="0" y="5"/>
                    </a:lnTo>
                    <a:lnTo>
                      <a:pt x="219" y="0"/>
                    </a:lnTo>
                    <a:lnTo>
                      <a:pt x="330" y="20"/>
                    </a:lnTo>
                    <a:lnTo>
                      <a:pt x="39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rot="31200">
                <a:off x="3852720" y="4782240"/>
                <a:ext cx="659880" cy="453600"/>
              </a:xfrm>
              <a:custGeom>
                <a:avLst/>
                <a:gdLst/>
                <a:ahLst/>
                <a:rect l="l" t="t" r="r" b="b"/>
                <a:pathLst>
                  <a:path w="724" h="551">
                    <a:moveTo>
                      <a:pt x="532" y="15"/>
                    </a:moveTo>
                    <a:lnTo>
                      <a:pt x="724" y="52"/>
                    </a:lnTo>
                    <a:lnTo>
                      <a:pt x="723" y="234"/>
                    </a:lnTo>
                    <a:lnTo>
                      <a:pt x="647" y="288"/>
                    </a:lnTo>
                    <a:lnTo>
                      <a:pt x="638" y="385"/>
                    </a:lnTo>
                    <a:lnTo>
                      <a:pt x="432" y="551"/>
                    </a:lnTo>
                    <a:lnTo>
                      <a:pt x="41" y="383"/>
                    </a:lnTo>
                    <a:lnTo>
                      <a:pt x="0" y="12"/>
                    </a:lnTo>
                    <a:lnTo>
                      <a:pt x="294" y="0"/>
                    </a:lnTo>
                    <a:lnTo>
                      <a:pt x="442" y="24"/>
                    </a:lnTo>
                    <a:lnTo>
                      <a:pt x="532"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rot="31200">
                <a:off x="3830040" y="5010840"/>
                <a:ext cx="661320" cy="386640"/>
              </a:xfrm>
              <a:custGeom>
                <a:avLst/>
                <a:gdLst/>
                <a:ahLst/>
                <a:rect l="l" t="t" r="r" b="b"/>
                <a:pathLst>
                  <a:path w="725" h="469">
                    <a:moveTo>
                      <a:pt x="267" y="0"/>
                    </a:moveTo>
                    <a:lnTo>
                      <a:pt x="0" y="113"/>
                    </a:lnTo>
                    <a:lnTo>
                      <a:pt x="11" y="255"/>
                    </a:lnTo>
                    <a:lnTo>
                      <a:pt x="473" y="469"/>
                    </a:lnTo>
                    <a:lnTo>
                      <a:pt x="721" y="169"/>
                    </a:lnTo>
                    <a:lnTo>
                      <a:pt x="725" y="76"/>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rot="31200">
                <a:off x="3882240" y="4801680"/>
                <a:ext cx="595440" cy="397440"/>
              </a:xfrm>
              <a:custGeom>
                <a:avLst/>
                <a:gdLst/>
                <a:ahLst/>
                <a:rect l="l" t="t" r="r" b="b"/>
                <a:pathLst>
                  <a:path w="654" h="483">
                    <a:moveTo>
                      <a:pt x="497" y="19"/>
                    </a:moveTo>
                    <a:lnTo>
                      <a:pt x="654" y="49"/>
                    </a:lnTo>
                    <a:lnTo>
                      <a:pt x="646" y="189"/>
                    </a:lnTo>
                    <a:lnTo>
                      <a:pt x="577" y="237"/>
                    </a:lnTo>
                    <a:lnTo>
                      <a:pt x="573" y="333"/>
                    </a:lnTo>
                    <a:lnTo>
                      <a:pt x="400" y="483"/>
                    </a:lnTo>
                    <a:lnTo>
                      <a:pt x="35" y="351"/>
                    </a:lnTo>
                    <a:lnTo>
                      <a:pt x="0" y="9"/>
                    </a:lnTo>
                    <a:lnTo>
                      <a:pt x="253" y="0"/>
                    </a:lnTo>
                    <a:lnTo>
                      <a:pt x="385" y="21"/>
                    </a:lnTo>
                    <a:lnTo>
                      <a:pt x="49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rot="31200">
                <a:off x="3918960" y="4834080"/>
                <a:ext cx="316800" cy="320760"/>
              </a:xfrm>
              <a:custGeom>
                <a:avLst/>
                <a:gdLst/>
                <a:ahLst/>
                <a:rect l="l" t="t" r="r" b="b"/>
                <a:pathLst>
                  <a:path w="347" h="390">
                    <a:moveTo>
                      <a:pt x="0" y="0"/>
                    </a:moveTo>
                    <a:lnTo>
                      <a:pt x="26" y="288"/>
                    </a:lnTo>
                    <a:lnTo>
                      <a:pt x="345" y="390"/>
                    </a:lnTo>
                    <a:lnTo>
                      <a:pt x="347" y="7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rot="31200">
                <a:off x="4268520" y="4880880"/>
                <a:ext cx="108000" cy="252000"/>
              </a:xfrm>
              <a:custGeom>
                <a:avLst/>
                <a:gdLst/>
                <a:ahLst/>
                <a:rect l="l" t="t" r="r" b="b"/>
                <a:pathLst>
                  <a:path w="119" h="306">
                    <a:moveTo>
                      <a:pt x="0" y="25"/>
                    </a:moveTo>
                    <a:lnTo>
                      <a:pt x="2" y="306"/>
                    </a:lnTo>
                    <a:lnTo>
                      <a:pt x="108" y="213"/>
                    </a:lnTo>
                    <a:lnTo>
                      <a:pt x="119" y="0"/>
                    </a:lnTo>
                    <a:lnTo>
                      <a:pt x="0" y="25"/>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rot="31200">
                <a:off x="3966480" y="4894200"/>
                <a:ext cx="218880" cy="189720"/>
              </a:xfrm>
              <a:custGeom>
                <a:avLst/>
                <a:gdLst/>
                <a:ahLst/>
                <a:rect l="l" t="t" r="r" b="b"/>
                <a:pathLst>
                  <a:path w="240" h="231">
                    <a:moveTo>
                      <a:pt x="0" y="0"/>
                    </a:moveTo>
                    <a:lnTo>
                      <a:pt x="11" y="168"/>
                    </a:lnTo>
                    <a:lnTo>
                      <a:pt x="240" y="231"/>
                    </a:lnTo>
                    <a:lnTo>
                      <a:pt x="236" y="49"/>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rot="31200">
                <a:off x="3862080" y="5123880"/>
                <a:ext cx="385920" cy="234360"/>
              </a:xfrm>
              <a:custGeom>
                <a:avLst/>
                <a:gdLst/>
                <a:ahLst/>
                <a:rect l="l" t="t" r="r" b="b"/>
                <a:pathLst>
                  <a:path w="424" h="285">
                    <a:moveTo>
                      <a:pt x="0" y="0"/>
                    </a:moveTo>
                    <a:lnTo>
                      <a:pt x="8" y="106"/>
                    </a:lnTo>
                    <a:lnTo>
                      <a:pt x="424" y="285"/>
                    </a:lnTo>
                    <a:lnTo>
                      <a:pt x="417" y="15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rot="31200">
                <a:off x="3999240" y="4822920"/>
                <a:ext cx="326880" cy="43200"/>
              </a:xfrm>
              <a:custGeom>
                <a:avLst/>
                <a:gdLst/>
                <a:ahLst/>
                <a:rect l="l" t="t" r="r" b="b"/>
                <a:pathLst>
                  <a:path w="359" h="53">
                    <a:moveTo>
                      <a:pt x="0" y="0"/>
                    </a:moveTo>
                    <a:lnTo>
                      <a:pt x="258" y="53"/>
                    </a:lnTo>
                    <a:lnTo>
                      <a:pt x="359" y="39"/>
                    </a:lnTo>
                    <a:lnTo>
                      <a:pt x="129" y="0"/>
                    </a:lnTo>
                    <a:lnTo>
                      <a:pt x="0" y="0"/>
                    </a:lnTo>
                    <a:close/>
                  </a:path>
                </a:pathLst>
              </a:custGeom>
              <a:solidFill>
                <a:srgbClr val="3f3f3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25" name=""/>
              <p:cNvSpPr/>
              <p:nvPr/>
            </p:nvSpPr>
            <p:spPr>
              <a:xfrm rot="31200">
                <a:off x="4275720" y="5108760"/>
                <a:ext cx="184320" cy="221760"/>
              </a:xfrm>
              <a:custGeom>
                <a:avLst/>
                <a:gdLst/>
                <a:ahLst/>
                <a:rect l="l" t="t" r="r" b="b"/>
                <a:pathLst>
                  <a:path w="202" h="270">
                    <a:moveTo>
                      <a:pt x="0" y="151"/>
                    </a:moveTo>
                    <a:lnTo>
                      <a:pt x="3" y="270"/>
                    </a:lnTo>
                    <a:lnTo>
                      <a:pt x="196" y="51"/>
                    </a:lnTo>
                    <a:lnTo>
                      <a:pt x="202" y="0"/>
                    </a:lnTo>
                    <a:lnTo>
                      <a:pt x="0" y="151"/>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rot="31200">
                <a:off x="3891600" y="5103000"/>
                <a:ext cx="357120" cy="115200"/>
              </a:xfrm>
              <a:custGeom>
                <a:avLst/>
                <a:gdLst/>
                <a:ahLst/>
                <a:rect l="l" t="t" r="r" b="b"/>
                <a:pathLst>
                  <a:path w="392" h="140">
                    <a:moveTo>
                      <a:pt x="24" y="0"/>
                    </a:moveTo>
                    <a:lnTo>
                      <a:pt x="0" y="8"/>
                    </a:lnTo>
                    <a:lnTo>
                      <a:pt x="392" y="140"/>
                    </a:lnTo>
                    <a:lnTo>
                      <a:pt x="389" y="109"/>
                    </a:lnTo>
                    <a:lnTo>
                      <a:pt x="24"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rot="31200">
                <a:off x="3992040" y="4913640"/>
                <a:ext cx="149760" cy="133560"/>
              </a:xfrm>
              <a:custGeom>
                <a:avLst/>
                <a:gdLst/>
                <a:ahLst/>
                <a:rect l="l" t="t" r="r" b="b"/>
                <a:pathLst>
                  <a:path w="165" h="162">
                    <a:moveTo>
                      <a:pt x="71" y="0"/>
                    </a:moveTo>
                    <a:lnTo>
                      <a:pt x="165" y="23"/>
                    </a:lnTo>
                    <a:lnTo>
                      <a:pt x="43" y="162"/>
                    </a:lnTo>
                    <a:lnTo>
                      <a:pt x="0" y="150"/>
                    </a:lnTo>
                    <a:lnTo>
                      <a:pt x="71" y="0"/>
                    </a:lnTo>
                    <a:close/>
                  </a:path>
                </a:pathLst>
              </a:cu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rot="31200">
                <a:off x="3966480" y="4894200"/>
                <a:ext cx="218880" cy="189720"/>
              </a:xfrm>
              <a:custGeom>
                <a:avLst/>
                <a:gdLst/>
                <a:ahLst/>
                <a:rect l="l" t="t" r="r" b="b"/>
                <a:pathLst>
                  <a:path w="240" h="231">
                    <a:moveTo>
                      <a:pt x="0" y="0"/>
                    </a:moveTo>
                    <a:lnTo>
                      <a:pt x="236" y="49"/>
                    </a:lnTo>
                    <a:lnTo>
                      <a:pt x="240" y="231"/>
                    </a:lnTo>
                    <a:lnTo>
                      <a:pt x="218" y="6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rot="31200">
                <a:off x="3862080" y="5123880"/>
                <a:ext cx="380160" cy="127800"/>
              </a:xfrm>
              <a:custGeom>
                <a:avLst/>
                <a:gdLst/>
                <a:ahLst/>
                <a:rect l="l" t="t" r="r" b="b"/>
                <a:pathLst>
                  <a:path w="417" h="156">
                    <a:moveTo>
                      <a:pt x="0" y="0"/>
                    </a:moveTo>
                    <a:lnTo>
                      <a:pt x="4" y="49"/>
                    </a:lnTo>
                    <a:lnTo>
                      <a:pt x="417" y="156"/>
                    </a:lnTo>
                    <a:lnTo>
                      <a:pt x="0" y="0"/>
                    </a:lnTo>
                    <a:close/>
                  </a:path>
                </a:pathLst>
              </a:custGeom>
              <a:solidFill>
                <a:srgbClr val="ff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rot="31200">
                <a:off x="3907800" y="5152320"/>
                <a:ext cx="21600" cy="18360"/>
              </a:xfrm>
              <a:custGeom>
                <a:avLst/>
                <a:gdLst/>
                <a:ahLst/>
                <a:rect l="l" t="t" r="r" b="b"/>
                <a:pathLst>
                  <a:path w="24" h="23">
                    <a:moveTo>
                      <a:pt x="12" y="23"/>
                    </a:moveTo>
                    <a:lnTo>
                      <a:pt x="18" y="23"/>
                    </a:lnTo>
                    <a:lnTo>
                      <a:pt x="20" y="20"/>
                    </a:lnTo>
                    <a:lnTo>
                      <a:pt x="23" y="18"/>
                    </a:lnTo>
                    <a:lnTo>
                      <a:pt x="24" y="14"/>
                    </a:lnTo>
                    <a:lnTo>
                      <a:pt x="23" y="8"/>
                    </a:lnTo>
                    <a:lnTo>
                      <a:pt x="20" y="4"/>
                    </a:lnTo>
                    <a:lnTo>
                      <a:pt x="18" y="1"/>
                    </a:lnTo>
                    <a:lnTo>
                      <a:pt x="12" y="0"/>
                    </a:lnTo>
                    <a:lnTo>
                      <a:pt x="7" y="1"/>
                    </a:lnTo>
                    <a:lnTo>
                      <a:pt x="4" y="4"/>
                    </a:lnTo>
                    <a:lnTo>
                      <a:pt x="2" y="7"/>
                    </a:lnTo>
                    <a:lnTo>
                      <a:pt x="0" y="12"/>
                    </a:lnTo>
                    <a:lnTo>
                      <a:pt x="2" y="16"/>
                    </a:lnTo>
                    <a:lnTo>
                      <a:pt x="4" y="19"/>
                    </a:lnTo>
                    <a:lnTo>
                      <a:pt x="7" y="22"/>
                    </a:lnTo>
                    <a:lnTo>
                      <a:pt x="12" y="2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1" name=""/>
              <p:cNvSpPr/>
              <p:nvPr/>
            </p:nvSpPr>
            <p:spPr>
              <a:xfrm rot="31200">
                <a:off x="4130280" y="5237640"/>
                <a:ext cx="94320" cy="48240"/>
              </a:xfrm>
              <a:custGeom>
                <a:avLst/>
                <a:gdLst/>
                <a:ahLst/>
                <a:rect l="l" t="t" r="r" b="b"/>
                <a:pathLst>
                  <a:path w="103" h="59">
                    <a:moveTo>
                      <a:pt x="0" y="0"/>
                    </a:moveTo>
                    <a:lnTo>
                      <a:pt x="0" y="16"/>
                    </a:lnTo>
                    <a:lnTo>
                      <a:pt x="103" y="59"/>
                    </a:lnTo>
                    <a:lnTo>
                      <a:pt x="103" y="39"/>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32" name=""/>
              <p:cNvSpPr/>
              <p:nvPr/>
            </p:nvSpPr>
            <p:spPr>
              <a:xfrm rot="31200">
                <a:off x="4145040" y="5092200"/>
                <a:ext cx="38880" cy="18360"/>
              </a:xfrm>
              <a:custGeom>
                <a:avLst/>
                <a:gdLst/>
                <a:ahLst/>
                <a:rect l="l" t="t" r="r" b="b"/>
                <a:pathLst>
                  <a:path w="43" h="23">
                    <a:moveTo>
                      <a:pt x="1" y="0"/>
                    </a:moveTo>
                    <a:lnTo>
                      <a:pt x="0" y="12"/>
                    </a:lnTo>
                    <a:lnTo>
                      <a:pt x="43" y="23"/>
                    </a:lnTo>
                    <a:lnTo>
                      <a:pt x="43" y="12"/>
                    </a:lnTo>
                    <a:lnTo>
                      <a:pt x="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1233" name=""/>
            <p:cNvSpPr/>
            <p:nvPr/>
          </p:nvSpPr>
          <p:spPr>
            <a:xfrm>
              <a:off x="4494960" y="5154840"/>
              <a:ext cx="838800" cy="2764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rCo.Net</a:t>
              </a:r>
              <a:endParaRPr b="0" lang="en-US" sz="1200" spc="-1" strike="noStrike">
                <a:solidFill>
                  <a:srgbClr val="000000"/>
                </a:solidFill>
                <a:latin typeface="Times New Roman"/>
              </a:endParaRPr>
            </a:p>
          </p:txBody>
        </p:sp>
        <p:sp>
          <p:nvSpPr>
            <p:cNvPr id="1234" name=""/>
            <p:cNvSpPr/>
            <p:nvPr/>
          </p:nvSpPr>
          <p:spPr>
            <a:xfrm rot="16830000">
              <a:off x="2882160" y="4466880"/>
              <a:ext cx="441360" cy="1444680"/>
            </a:xfrm>
            <a:custGeom>
              <a:avLst/>
              <a:gdLst/>
              <a:ahLst/>
              <a:rect l="l" t="t" r="r" b="b"/>
              <a:pathLst>
                <a:path w="977" h="1137">
                  <a:moveTo>
                    <a:pt x="56" y="0"/>
                  </a:moveTo>
                  <a:lnTo>
                    <a:pt x="50" y="15"/>
                  </a:lnTo>
                  <a:lnTo>
                    <a:pt x="35" y="58"/>
                  </a:lnTo>
                  <a:lnTo>
                    <a:pt x="3" y="211"/>
                  </a:lnTo>
                  <a:lnTo>
                    <a:pt x="0" y="313"/>
                  </a:lnTo>
                  <a:lnTo>
                    <a:pt x="5" y="371"/>
                  </a:lnTo>
                  <a:lnTo>
                    <a:pt x="15" y="430"/>
                  </a:lnTo>
                  <a:lnTo>
                    <a:pt x="31" y="492"/>
                  </a:lnTo>
                  <a:lnTo>
                    <a:pt x="40" y="524"/>
                  </a:lnTo>
                  <a:lnTo>
                    <a:pt x="53" y="556"/>
                  </a:lnTo>
                  <a:lnTo>
                    <a:pt x="67" y="589"/>
                  </a:lnTo>
                  <a:lnTo>
                    <a:pt x="83" y="621"/>
                  </a:lnTo>
                  <a:lnTo>
                    <a:pt x="101" y="655"/>
                  </a:lnTo>
                  <a:lnTo>
                    <a:pt x="120" y="688"/>
                  </a:lnTo>
                  <a:lnTo>
                    <a:pt x="144" y="720"/>
                  </a:lnTo>
                  <a:lnTo>
                    <a:pt x="168" y="752"/>
                  </a:lnTo>
                  <a:lnTo>
                    <a:pt x="195" y="781"/>
                  </a:lnTo>
                  <a:lnTo>
                    <a:pt x="222" y="810"/>
                  </a:lnTo>
                  <a:lnTo>
                    <a:pt x="252" y="837"/>
                  </a:lnTo>
                  <a:lnTo>
                    <a:pt x="284" y="862"/>
                  </a:lnTo>
                  <a:lnTo>
                    <a:pt x="300" y="873"/>
                  </a:lnTo>
                  <a:lnTo>
                    <a:pt x="316" y="885"/>
                  </a:lnTo>
                  <a:lnTo>
                    <a:pt x="334" y="897"/>
                  </a:lnTo>
                  <a:lnTo>
                    <a:pt x="350" y="909"/>
                  </a:lnTo>
                  <a:lnTo>
                    <a:pt x="367" y="920"/>
                  </a:lnTo>
                  <a:lnTo>
                    <a:pt x="385" y="929"/>
                  </a:lnTo>
                  <a:lnTo>
                    <a:pt x="402" y="940"/>
                  </a:lnTo>
                  <a:lnTo>
                    <a:pt x="420" y="950"/>
                  </a:lnTo>
                  <a:lnTo>
                    <a:pt x="438" y="960"/>
                  </a:lnTo>
                  <a:lnTo>
                    <a:pt x="455" y="968"/>
                  </a:lnTo>
                  <a:lnTo>
                    <a:pt x="473" y="977"/>
                  </a:lnTo>
                  <a:lnTo>
                    <a:pt x="492" y="987"/>
                  </a:lnTo>
                  <a:lnTo>
                    <a:pt x="509" y="995"/>
                  </a:lnTo>
                  <a:lnTo>
                    <a:pt x="527" y="1003"/>
                  </a:lnTo>
                  <a:lnTo>
                    <a:pt x="546" y="1011"/>
                  </a:lnTo>
                  <a:lnTo>
                    <a:pt x="564" y="1019"/>
                  </a:lnTo>
                  <a:lnTo>
                    <a:pt x="581" y="1025"/>
                  </a:lnTo>
                  <a:lnTo>
                    <a:pt x="599" y="1033"/>
                  </a:lnTo>
                  <a:lnTo>
                    <a:pt x="616" y="1039"/>
                  </a:lnTo>
                  <a:lnTo>
                    <a:pt x="634" y="1046"/>
                  </a:lnTo>
                  <a:lnTo>
                    <a:pt x="651" y="1052"/>
                  </a:lnTo>
                  <a:lnTo>
                    <a:pt x="669" y="1059"/>
                  </a:lnTo>
                  <a:lnTo>
                    <a:pt x="703" y="1070"/>
                  </a:lnTo>
                  <a:lnTo>
                    <a:pt x="734" y="1079"/>
                  </a:lnTo>
                  <a:lnTo>
                    <a:pt x="766" y="1089"/>
                  </a:lnTo>
                  <a:lnTo>
                    <a:pt x="795" y="1097"/>
                  </a:lnTo>
                  <a:lnTo>
                    <a:pt x="824" y="1105"/>
                  </a:lnTo>
                  <a:lnTo>
                    <a:pt x="851" y="1111"/>
                  </a:lnTo>
                  <a:lnTo>
                    <a:pt x="875" y="1118"/>
                  </a:lnTo>
                  <a:lnTo>
                    <a:pt x="916" y="1126"/>
                  </a:lnTo>
                  <a:lnTo>
                    <a:pt x="950" y="1132"/>
                  </a:lnTo>
                  <a:lnTo>
                    <a:pt x="977" y="1137"/>
                  </a:lnTo>
                  <a:lnTo>
                    <a:pt x="955" y="1130"/>
                  </a:lnTo>
                  <a:lnTo>
                    <a:pt x="929" y="1122"/>
                  </a:lnTo>
                  <a:lnTo>
                    <a:pt x="894" y="1110"/>
                  </a:lnTo>
                  <a:lnTo>
                    <a:pt x="875" y="1103"/>
                  </a:lnTo>
                  <a:lnTo>
                    <a:pt x="853" y="1095"/>
                  </a:lnTo>
                  <a:lnTo>
                    <a:pt x="830" y="1086"/>
                  </a:lnTo>
                  <a:lnTo>
                    <a:pt x="806" y="1076"/>
                  </a:lnTo>
                  <a:lnTo>
                    <a:pt x="781" y="1067"/>
                  </a:lnTo>
                  <a:lnTo>
                    <a:pt x="754" y="1055"/>
                  </a:lnTo>
                  <a:lnTo>
                    <a:pt x="726" y="1043"/>
                  </a:lnTo>
                  <a:lnTo>
                    <a:pt x="714" y="1036"/>
                  </a:lnTo>
                  <a:lnTo>
                    <a:pt x="699" y="1030"/>
                  </a:lnTo>
                  <a:lnTo>
                    <a:pt x="685" y="1023"/>
                  </a:lnTo>
                  <a:lnTo>
                    <a:pt x="671" y="1015"/>
                  </a:lnTo>
                  <a:lnTo>
                    <a:pt x="658" y="1009"/>
                  </a:lnTo>
                  <a:lnTo>
                    <a:pt x="642" y="1001"/>
                  </a:lnTo>
                  <a:lnTo>
                    <a:pt x="629" y="995"/>
                  </a:lnTo>
                  <a:lnTo>
                    <a:pt x="615" y="987"/>
                  </a:lnTo>
                  <a:lnTo>
                    <a:pt x="599" y="979"/>
                  </a:lnTo>
                  <a:lnTo>
                    <a:pt x="586" y="971"/>
                  </a:lnTo>
                  <a:lnTo>
                    <a:pt x="572" y="961"/>
                  </a:lnTo>
                  <a:lnTo>
                    <a:pt x="557" y="953"/>
                  </a:lnTo>
                  <a:lnTo>
                    <a:pt x="543" y="945"/>
                  </a:lnTo>
                  <a:lnTo>
                    <a:pt x="529" y="936"/>
                  </a:lnTo>
                  <a:lnTo>
                    <a:pt x="514" y="926"/>
                  </a:lnTo>
                  <a:lnTo>
                    <a:pt x="500" y="918"/>
                  </a:lnTo>
                  <a:lnTo>
                    <a:pt x="487" y="909"/>
                  </a:lnTo>
                  <a:lnTo>
                    <a:pt x="473" y="899"/>
                  </a:lnTo>
                  <a:lnTo>
                    <a:pt x="447" y="878"/>
                  </a:lnTo>
                  <a:lnTo>
                    <a:pt x="422" y="857"/>
                  </a:lnTo>
                  <a:lnTo>
                    <a:pt x="396" y="837"/>
                  </a:lnTo>
                  <a:lnTo>
                    <a:pt x="374" y="814"/>
                  </a:lnTo>
                  <a:lnTo>
                    <a:pt x="351" y="790"/>
                  </a:lnTo>
                  <a:lnTo>
                    <a:pt x="331" y="766"/>
                  </a:lnTo>
                  <a:lnTo>
                    <a:pt x="312" y="742"/>
                  </a:lnTo>
                  <a:lnTo>
                    <a:pt x="296" y="717"/>
                  </a:lnTo>
                  <a:lnTo>
                    <a:pt x="280" y="691"/>
                  </a:lnTo>
                  <a:lnTo>
                    <a:pt x="265" y="664"/>
                  </a:lnTo>
                  <a:lnTo>
                    <a:pt x="251" y="636"/>
                  </a:lnTo>
                  <a:lnTo>
                    <a:pt x="237" y="607"/>
                  </a:lnTo>
                  <a:lnTo>
                    <a:pt x="224" y="578"/>
                  </a:lnTo>
                  <a:lnTo>
                    <a:pt x="211" y="549"/>
                  </a:lnTo>
                  <a:lnTo>
                    <a:pt x="187" y="489"/>
                  </a:lnTo>
                  <a:lnTo>
                    <a:pt x="165" y="430"/>
                  </a:lnTo>
                  <a:lnTo>
                    <a:pt x="146" y="371"/>
                  </a:lnTo>
                  <a:lnTo>
                    <a:pt x="128" y="311"/>
                  </a:lnTo>
                  <a:lnTo>
                    <a:pt x="112" y="256"/>
                  </a:lnTo>
                  <a:lnTo>
                    <a:pt x="99" y="203"/>
                  </a:lnTo>
                  <a:lnTo>
                    <a:pt x="88" y="155"/>
                  </a:lnTo>
                  <a:lnTo>
                    <a:pt x="71" y="74"/>
                  </a:lnTo>
                  <a:lnTo>
                    <a:pt x="56" y="0"/>
                  </a:lnTo>
                  <a:lnTo>
                    <a:pt x="56" y="0"/>
                  </a:lnTo>
                  <a:close/>
                </a:path>
              </a:pathLst>
            </a:custGeom>
            <a:gradFill rotWithShape="0">
              <a:gsLst>
                <a:gs pos="0">
                  <a:srgbClr val="ff6600"/>
                </a:gs>
                <a:gs pos="100000">
                  <a:srgbClr val="cc00ff"/>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rot="1618200">
              <a:off x="2208240" y="3888000"/>
              <a:ext cx="411840" cy="145440"/>
            </a:xfrm>
            <a:custGeom>
              <a:avLst/>
              <a:gdLst/>
              <a:ahLst/>
              <a:rect l="l" t="t" r="r" b="b"/>
              <a:pathLst>
                <a:path w="202" h="79">
                  <a:moveTo>
                    <a:pt x="7" y="23"/>
                  </a:moveTo>
                  <a:lnTo>
                    <a:pt x="202" y="79"/>
                  </a:lnTo>
                  <a:lnTo>
                    <a:pt x="198" y="50"/>
                  </a:lnTo>
                  <a:lnTo>
                    <a:pt x="16" y="0"/>
                  </a:lnTo>
                  <a:lnTo>
                    <a:pt x="12" y="2"/>
                  </a:lnTo>
                  <a:lnTo>
                    <a:pt x="4" y="4"/>
                  </a:lnTo>
                  <a:lnTo>
                    <a:pt x="0" y="11"/>
                  </a:lnTo>
                  <a:lnTo>
                    <a:pt x="7" y="23"/>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6" name=""/>
            <p:cNvGrpSpPr/>
            <p:nvPr/>
          </p:nvGrpSpPr>
          <p:grpSpPr>
            <a:xfrm>
              <a:off x="1756800" y="3472920"/>
              <a:ext cx="646920" cy="597960"/>
              <a:chOff x="1756800" y="3472920"/>
              <a:chExt cx="646920" cy="597960"/>
            </a:xfrm>
          </p:grpSpPr>
          <p:sp>
            <p:nvSpPr>
              <p:cNvPr id="1237" name=""/>
              <p:cNvSpPr/>
              <p:nvPr/>
            </p:nvSpPr>
            <p:spPr>
              <a:xfrm rot="259200">
                <a:off x="1770480" y="3661200"/>
                <a:ext cx="612720" cy="387000"/>
              </a:xfrm>
              <a:custGeom>
                <a:avLst/>
                <a:gdLst/>
                <a:ahLst/>
                <a:rect l="l" t="t" r="r" b="b"/>
                <a:pathLst>
                  <a:path w="786" h="555">
                    <a:moveTo>
                      <a:pt x="261" y="20"/>
                    </a:moveTo>
                    <a:lnTo>
                      <a:pt x="0" y="132"/>
                    </a:lnTo>
                    <a:lnTo>
                      <a:pt x="12" y="318"/>
                    </a:lnTo>
                    <a:lnTo>
                      <a:pt x="525" y="555"/>
                    </a:lnTo>
                    <a:lnTo>
                      <a:pt x="786" y="227"/>
                    </a:lnTo>
                    <a:lnTo>
                      <a:pt x="785" y="85"/>
                    </a:lnTo>
                    <a:lnTo>
                      <a:pt x="274" y="0"/>
                    </a:lnTo>
                    <a:lnTo>
                      <a:pt x="261"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8" name=""/>
              <p:cNvGrpSpPr/>
              <p:nvPr/>
            </p:nvGrpSpPr>
            <p:grpSpPr>
              <a:xfrm>
                <a:off x="1780920" y="3472920"/>
                <a:ext cx="622800" cy="560880"/>
                <a:chOff x="1780920" y="3472920"/>
                <a:chExt cx="622800" cy="560880"/>
              </a:xfrm>
            </p:grpSpPr>
            <p:sp>
              <p:nvSpPr>
                <p:cNvPr id="1239" name=""/>
                <p:cNvSpPr/>
                <p:nvPr/>
              </p:nvSpPr>
              <p:spPr>
                <a:xfrm rot="259200">
                  <a:off x="1792080" y="3686400"/>
                  <a:ext cx="565200" cy="326160"/>
                </a:xfrm>
                <a:custGeom>
                  <a:avLst/>
                  <a:gdLst/>
                  <a:ahLst/>
                  <a:rect l="l" t="t" r="r" b="b"/>
                  <a:pathLst>
                    <a:path w="725" h="469">
                      <a:moveTo>
                        <a:pt x="267" y="0"/>
                      </a:moveTo>
                      <a:lnTo>
                        <a:pt x="0" y="113"/>
                      </a:lnTo>
                      <a:lnTo>
                        <a:pt x="11" y="255"/>
                      </a:lnTo>
                      <a:lnTo>
                        <a:pt x="473" y="469"/>
                      </a:lnTo>
                      <a:lnTo>
                        <a:pt x="721" y="169"/>
                      </a:lnTo>
                      <a:lnTo>
                        <a:pt x="725" y="76"/>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rot="259200">
                  <a:off x="1864800" y="3640680"/>
                  <a:ext cx="457920" cy="290880"/>
                </a:xfrm>
                <a:custGeom>
                  <a:avLst/>
                  <a:gdLst/>
                  <a:ahLst/>
                  <a:rect l="l" t="t" r="r" b="b"/>
                  <a:pathLst>
                    <a:path w="588" h="417">
                      <a:moveTo>
                        <a:pt x="196" y="16"/>
                      </a:moveTo>
                      <a:lnTo>
                        <a:pt x="0" y="95"/>
                      </a:lnTo>
                      <a:lnTo>
                        <a:pt x="6" y="235"/>
                      </a:lnTo>
                      <a:lnTo>
                        <a:pt x="387" y="417"/>
                      </a:lnTo>
                      <a:lnTo>
                        <a:pt x="587" y="177"/>
                      </a:lnTo>
                      <a:lnTo>
                        <a:pt x="588" y="71"/>
                      </a:lnTo>
                      <a:lnTo>
                        <a:pt x="207" y="0"/>
                      </a:lnTo>
                      <a:lnTo>
                        <a:pt x="196"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rot="259200">
                  <a:off x="1911240" y="3516480"/>
                  <a:ext cx="421200" cy="286920"/>
                </a:xfrm>
                <a:custGeom>
                  <a:avLst/>
                  <a:gdLst/>
                  <a:ahLst/>
                  <a:rect l="l" t="t" r="r" b="b"/>
                  <a:pathLst>
                    <a:path w="540" h="413">
                      <a:moveTo>
                        <a:pt x="397" y="16"/>
                      </a:moveTo>
                      <a:lnTo>
                        <a:pt x="540" y="44"/>
                      </a:lnTo>
                      <a:lnTo>
                        <a:pt x="539" y="181"/>
                      </a:lnTo>
                      <a:lnTo>
                        <a:pt x="480" y="221"/>
                      </a:lnTo>
                      <a:lnTo>
                        <a:pt x="472" y="293"/>
                      </a:lnTo>
                      <a:lnTo>
                        <a:pt x="315" y="413"/>
                      </a:lnTo>
                      <a:lnTo>
                        <a:pt x="25" y="282"/>
                      </a:lnTo>
                      <a:lnTo>
                        <a:pt x="0" y="5"/>
                      </a:lnTo>
                      <a:lnTo>
                        <a:pt x="219" y="0"/>
                      </a:lnTo>
                      <a:lnTo>
                        <a:pt x="330" y="20"/>
                      </a:lnTo>
                      <a:lnTo>
                        <a:pt x="39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rot="259200">
                  <a:off x="1824480" y="3493440"/>
                  <a:ext cx="565200" cy="383400"/>
                </a:xfrm>
                <a:custGeom>
                  <a:avLst/>
                  <a:gdLst/>
                  <a:ahLst/>
                  <a:rect l="l" t="t" r="r" b="b"/>
                  <a:pathLst>
                    <a:path w="724" h="551">
                      <a:moveTo>
                        <a:pt x="532" y="15"/>
                      </a:moveTo>
                      <a:lnTo>
                        <a:pt x="724" y="52"/>
                      </a:lnTo>
                      <a:lnTo>
                        <a:pt x="723" y="234"/>
                      </a:lnTo>
                      <a:lnTo>
                        <a:pt x="647" y="288"/>
                      </a:lnTo>
                      <a:lnTo>
                        <a:pt x="638" y="385"/>
                      </a:lnTo>
                      <a:lnTo>
                        <a:pt x="432" y="551"/>
                      </a:lnTo>
                      <a:lnTo>
                        <a:pt x="41" y="383"/>
                      </a:lnTo>
                      <a:lnTo>
                        <a:pt x="0" y="12"/>
                      </a:lnTo>
                      <a:lnTo>
                        <a:pt x="294" y="0"/>
                      </a:lnTo>
                      <a:lnTo>
                        <a:pt x="442" y="24"/>
                      </a:lnTo>
                      <a:lnTo>
                        <a:pt x="532"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rot="259200">
                  <a:off x="1850760" y="3508920"/>
                  <a:ext cx="509760" cy="336960"/>
                </a:xfrm>
                <a:custGeom>
                  <a:avLst/>
                  <a:gdLst/>
                  <a:ahLst/>
                  <a:rect l="l" t="t" r="r" b="b"/>
                  <a:pathLst>
                    <a:path w="654" h="483">
                      <a:moveTo>
                        <a:pt x="497" y="19"/>
                      </a:moveTo>
                      <a:lnTo>
                        <a:pt x="654" y="49"/>
                      </a:lnTo>
                      <a:lnTo>
                        <a:pt x="646" y="189"/>
                      </a:lnTo>
                      <a:lnTo>
                        <a:pt x="577" y="237"/>
                      </a:lnTo>
                      <a:lnTo>
                        <a:pt x="573" y="333"/>
                      </a:lnTo>
                      <a:lnTo>
                        <a:pt x="400" y="483"/>
                      </a:lnTo>
                      <a:lnTo>
                        <a:pt x="35" y="351"/>
                      </a:lnTo>
                      <a:lnTo>
                        <a:pt x="0" y="9"/>
                      </a:lnTo>
                      <a:lnTo>
                        <a:pt x="253" y="0"/>
                      </a:lnTo>
                      <a:lnTo>
                        <a:pt x="385" y="21"/>
                      </a:lnTo>
                      <a:lnTo>
                        <a:pt x="49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rot="259200">
                  <a:off x="1892520" y="3510000"/>
                  <a:ext cx="270000" cy="271800"/>
                </a:xfrm>
                <a:custGeom>
                  <a:avLst/>
                  <a:gdLst/>
                  <a:ahLst/>
                  <a:rect l="l" t="t" r="r" b="b"/>
                  <a:pathLst>
                    <a:path w="347" h="390">
                      <a:moveTo>
                        <a:pt x="0" y="0"/>
                      </a:moveTo>
                      <a:lnTo>
                        <a:pt x="26" y="288"/>
                      </a:lnTo>
                      <a:lnTo>
                        <a:pt x="345" y="390"/>
                      </a:lnTo>
                      <a:lnTo>
                        <a:pt x="347" y="7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rot="259200">
                  <a:off x="2181240" y="3582720"/>
                  <a:ext cx="92160" cy="213480"/>
                </a:xfrm>
                <a:custGeom>
                  <a:avLst/>
                  <a:gdLst/>
                  <a:ahLst/>
                  <a:rect l="l" t="t" r="r" b="b"/>
                  <a:pathLst>
                    <a:path w="119" h="306">
                      <a:moveTo>
                        <a:pt x="0" y="25"/>
                      </a:moveTo>
                      <a:lnTo>
                        <a:pt x="2" y="306"/>
                      </a:lnTo>
                      <a:lnTo>
                        <a:pt x="108" y="213"/>
                      </a:lnTo>
                      <a:lnTo>
                        <a:pt x="119" y="0"/>
                      </a:lnTo>
                      <a:lnTo>
                        <a:pt x="0" y="25"/>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rot="259200">
                  <a:off x="1924920" y="3583440"/>
                  <a:ext cx="186840" cy="160920"/>
                </a:xfrm>
                <a:custGeom>
                  <a:avLst/>
                  <a:gdLst/>
                  <a:ahLst/>
                  <a:rect l="l" t="t" r="r" b="b"/>
                  <a:pathLst>
                    <a:path w="240" h="231">
                      <a:moveTo>
                        <a:pt x="0" y="0"/>
                      </a:moveTo>
                      <a:lnTo>
                        <a:pt x="11" y="168"/>
                      </a:lnTo>
                      <a:lnTo>
                        <a:pt x="240" y="231"/>
                      </a:lnTo>
                      <a:lnTo>
                        <a:pt x="236" y="49"/>
                      </a:lnTo>
                      <a:lnTo>
                        <a:pt x="0" y="0"/>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rot="259200">
                  <a:off x="1817280" y="3775680"/>
                  <a:ext cx="329760" cy="198720"/>
                </a:xfrm>
                <a:custGeom>
                  <a:avLst/>
                  <a:gdLst/>
                  <a:ahLst/>
                  <a:rect l="l" t="t" r="r" b="b"/>
                  <a:pathLst>
                    <a:path w="424" h="285">
                      <a:moveTo>
                        <a:pt x="0" y="0"/>
                      </a:moveTo>
                      <a:lnTo>
                        <a:pt x="8" y="106"/>
                      </a:lnTo>
                      <a:lnTo>
                        <a:pt x="424" y="285"/>
                      </a:lnTo>
                      <a:lnTo>
                        <a:pt x="417" y="15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rot="259200">
                  <a:off x="1960920" y="3527640"/>
                  <a:ext cx="280440" cy="36720"/>
                </a:xfrm>
                <a:custGeom>
                  <a:avLst/>
                  <a:gdLst/>
                  <a:ahLst/>
                  <a:rect l="l" t="t" r="r" b="b"/>
                  <a:pathLst>
                    <a:path w="359" h="53">
                      <a:moveTo>
                        <a:pt x="0" y="0"/>
                      </a:moveTo>
                      <a:lnTo>
                        <a:pt x="258" y="53"/>
                      </a:lnTo>
                      <a:lnTo>
                        <a:pt x="359" y="39"/>
                      </a:lnTo>
                      <a:lnTo>
                        <a:pt x="129" y="0"/>
                      </a:lnTo>
                      <a:lnTo>
                        <a:pt x="0" y="0"/>
                      </a:lnTo>
                      <a:close/>
                    </a:path>
                  </a:pathLst>
                </a:custGeom>
                <a:solidFill>
                  <a:srgbClr val="3f3f3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9" name=""/>
                <p:cNvSpPr/>
                <p:nvPr/>
              </p:nvSpPr>
              <p:spPr>
                <a:xfrm rot="259200">
                  <a:off x="2171520" y="3778560"/>
                  <a:ext cx="158040" cy="188280"/>
                </a:xfrm>
                <a:custGeom>
                  <a:avLst/>
                  <a:gdLst/>
                  <a:ahLst/>
                  <a:rect l="l" t="t" r="r" b="b"/>
                  <a:pathLst>
                    <a:path w="202" h="270">
                      <a:moveTo>
                        <a:pt x="0" y="151"/>
                      </a:moveTo>
                      <a:lnTo>
                        <a:pt x="3" y="270"/>
                      </a:lnTo>
                      <a:lnTo>
                        <a:pt x="196" y="51"/>
                      </a:lnTo>
                      <a:lnTo>
                        <a:pt x="202" y="0"/>
                      </a:lnTo>
                      <a:lnTo>
                        <a:pt x="0" y="151"/>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rot="259200">
                  <a:off x="1847520" y="3758400"/>
                  <a:ext cx="305640" cy="97920"/>
                </a:xfrm>
                <a:custGeom>
                  <a:avLst/>
                  <a:gdLst/>
                  <a:ahLst/>
                  <a:rect l="l" t="t" r="r" b="b"/>
                  <a:pathLst>
                    <a:path w="392" h="140">
                      <a:moveTo>
                        <a:pt x="24" y="0"/>
                      </a:moveTo>
                      <a:lnTo>
                        <a:pt x="0" y="8"/>
                      </a:lnTo>
                      <a:lnTo>
                        <a:pt x="392" y="140"/>
                      </a:lnTo>
                      <a:lnTo>
                        <a:pt x="389" y="109"/>
                      </a:lnTo>
                      <a:lnTo>
                        <a:pt x="24"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rot="259200">
                  <a:off x="1945440" y="3599280"/>
                  <a:ext cx="129240" cy="112680"/>
                </a:xfrm>
                <a:custGeom>
                  <a:avLst/>
                  <a:gdLst/>
                  <a:ahLst/>
                  <a:rect l="l" t="t" r="r" b="b"/>
                  <a:pathLst>
                    <a:path w="165" h="162">
                      <a:moveTo>
                        <a:pt x="71" y="0"/>
                      </a:moveTo>
                      <a:lnTo>
                        <a:pt x="165" y="23"/>
                      </a:lnTo>
                      <a:lnTo>
                        <a:pt x="43" y="162"/>
                      </a:lnTo>
                      <a:lnTo>
                        <a:pt x="0" y="150"/>
                      </a:lnTo>
                      <a:lnTo>
                        <a:pt x="71" y="0"/>
                      </a:lnTo>
                      <a:close/>
                    </a:path>
                  </a:pathLst>
                </a:cu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rot="259200">
                  <a:off x="1924920" y="3583440"/>
                  <a:ext cx="186840" cy="160920"/>
                </a:xfrm>
                <a:custGeom>
                  <a:avLst/>
                  <a:gdLst/>
                  <a:ahLst/>
                  <a:rect l="l" t="t" r="r" b="b"/>
                  <a:pathLst>
                    <a:path w="240" h="231">
                      <a:moveTo>
                        <a:pt x="0" y="0"/>
                      </a:moveTo>
                      <a:lnTo>
                        <a:pt x="236" y="49"/>
                      </a:lnTo>
                      <a:lnTo>
                        <a:pt x="240" y="231"/>
                      </a:lnTo>
                      <a:lnTo>
                        <a:pt x="218" y="6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rot="259200">
                  <a:off x="1822320" y="3776040"/>
                  <a:ext cx="324000" cy="108720"/>
                </a:xfrm>
                <a:custGeom>
                  <a:avLst/>
                  <a:gdLst/>
                  <a:ahLst/>
                  <a:rect l="l" t="t" r="r" b="b"/>
                  <a:pathLst>
                    <a:path w="417" h="156">
                      <a:moveTo>
                        <a:pt x="0" y="0"/>
                      </a:moveTo>
                      <a:lnTo>
                        <a:pt x="4" y="49"/>
                      </a:lnTo>
                      <a:lnTo>
                        <a:pt x="417" y="156"/>
                      </a:lnTo>
                      <a:lnTo>
                        <a:pt x="0" y="0"/>
                      </a:lnTo>
                      <a:close/>
                    </a:path>
                  </a:pathLst>
                </a:custGeom>
                <a:solidFill>
                  <a:srgbClr val="ff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rot="259200">
                  <a:off x="1862640" y="3792960"/>
                  <a:ext cx="18360" cy="16200"/>
                </a:xfrm>
                <a:custGeom>
                  <a:avLst/>
                  <a:gdLst/>
                  <a:ahLst/>
                  <a:rect l="l" t="t" r="r" b="b"/>
                  <a:pathLst>
                    <a:path w="24" h="23">
                      <a:moveTo>
                        <a:pt x="12" y="23"/>
                      </a:moveTo>
                      <a:lnTo>
                        <a:pt x="18" y="23"/>
                      </a:lnTo>
                      <a:lnTo>
                        <a:pt x="20" y="20"/>
                      </a:lnTo>
                      <a:lnTo>
                        <a:pt x="23" y="18"/>
                      </a:lnTo>
                      <a:lnTo>
                        <a:pt x="24" y="14"/>
                      </a:lnTo>
                      <a:lnTo>
                        <a:pt x="23" y="8"/>
                      </a:lnTo>
                      <a:lnTo>
                        <a:pt x="20" y="4"/>
                      </a:lnTo>
                      <a:lnTo>
                        <a:pt x="18" y="1"/>
                      </a:lnTo>
                      <a:lnTo>
                        <a:pt x="12" y="0"/>
                      </a:lnTo>
                      <a:lnTo>
                        <a:pt x="7" y="1"/>
                      </a:lnTo>
                      <a:lnTo>
                        <a:pt x="4" y="4"/>
                      </a:lnTo>
                      <a:lnTo>
                        <a:pt x="2" y="7"/>
                      </a:lnTo>
                      <a:lnTo>
                        <a:pt x="0" y="12"/>
                      </a:lnTo>
                      <a:lnTo>
                        <a:pt x="2" y="16"/>
                      </a:lnTo>
                      <a:lnTo>
                        <a:pt x="4" y="19"/>
                      </a:lnTo>
                      <a:lnTo>
                        <a:pt x="7" y="22"/>
                      </a:lnTo>
                      <a:lnTo>
                        <a:pt x="12"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55" name=""/>
                <p:cNvSpPr/>
                <p:nvPr/>
              </p:nvSpPr>
              <p:spPr>
                <a:xfrm rot="259200">
                  <a:off x="2046240" y="3877920"/>
                  <a:ext cx="79560" cy="41760"/>
                </a:xfrm>
                <a:custGeom>
                  <a:avLst/>
                  <a:gdLst/>
                  <a:ahLst/>
                  <a:rect l="l" t="t" r="r" b="b"/>
                  <a:pathLst>
                    <a:path w="103" h="59">
                      <a:moveTo>
                        <a:pt x="0" y="0"/>
                      </a:moveTo>
                      <a:lnTo>
                        <a:pt x="0" y="16"/>
                      </a:lnTo>
                      <a:lnTo>
                        <a:pt x="103" y="59"/>
                      </a:lnTo>
                      <a:lnTo>
                        <a:pt x="103" y="39"/>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6" name=""/>
                <p:cNvSpPr/>
                <p:nvPr/>
              </p:nvSpPr>
              <p:spPr>
                <a:xfrm rot="259200">
                  <a:off x="2069280" y="3753720"/>
                  <a:ext cx="33120" cy="16200"/>
                </a:xfrm>
                <a:custGeom>
                  <a:avLst/>
                  <a:gdLst/>
                  <a:ahLst/>
                  <a:rect l="l" t="t" r="r" b="b"/>
                  <a:pathLst>
                    <a:path w="43" h="23">
                      <a:moveTo>
                        <a:pt x="1" y="0"/>
                      </a:moveTo>
                      <a:lnTo>
                        <a:pt x="0" y="12"/>
                      </a:lnTo>
                      <a:lnTo>
                        <a:pt x="43" y="23"/>
                      </a:lnTo>
                      <a:lnTo>
                        <a:pt x="43" y="12"/>
                      </a:lnTo>
                      <a:lnTo>
                        <a:pt x="1"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sp>
          <p:nvSpPr>
            <p:cNvPr id="1257" name=""/>
            <p:cNvSpPr/>
            <p:nvPr/>
          </p:nvSpPr>
          <p:spPr>
            <a:xfrm rot="9600">
              <a:off x="1415160" y="3937680"/>
              <a:ext cx="907200" cy="227520"/>
            </a:xfrm>
            <a:prstGeom prst="rect">
              <a:avLst/>
            </a:prstGeom>
            <a:solidFill>
              <a:srgbClr val="ff5050"/>
            </a:solidFill>
            <a:ln w="9360">
              <a:solidFill>
                <a:srgbClr val="000000"/>
              </a:solidFill>
              <a:miter/>
            </a:ln>
          </p:spPr>
          <p:style>
            <a:lnRef idx="0"/>
            <a:fillRef idx="0"/>
            <a:effectRef idx="0"/>
            <a:fontRef idx="minor"/>
          </p:style>
          <p:txBody>
            <a:bodyPr wrap="none" lIns="81360" rIns="81360" tIns="40680" bIns="40680" anchor="ctr">
              <a:spAutoFit/>
            </a:bodyPr>
            <a:p>
              <a:pPr algn="ctr">
                <a:lnSpc>
                  <a:spcPct val="8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Narrow"/>
                </a:rPr>
                <a:t>BigBank.Net</a:t>
              </a:r>
              <a:endParaRPr b="0" lang="en-US" sz="1200" spc="-1" strike="noStrike">
                <a:solidFill>
                  <a:srgbClr val="000000"/>
                </a:solidFill>
                <a:latin typeface="Times New Roman"/>
              </a:endParaRPr>
            </a:p>
          </p:txBody>
        </p:sp>
        <p:grpSp>
          <p:nvGrpSpPr>
            <p:cNvPr id="1258" name=""/>
            <p:cNvGrpSpPr/>
            <p:nvPr/>
          </p:nvGrpSpPr>
          <p:grpSpPr>
            <a:xfrm>
              <a:off x="838080" y="2362320"/>
              <a:ext cx="513360" cy="900000"/>
              <a:chOff x="838080" y="2362320"/>
              <a:chExt cx="513360" cy="900000"/>
            </a:xfrm>
          </p:grpSpPr>
          <p:sp>
            <p:nvSpPr>
              <p:cNvPr id="1259" name=""/>
              <p:cNvSpPr/>
              <p:nvPr/>
            </p:nvSpPr>
            <p:spPr>
              <a:xfrm>
                <a:off x="838080" y="2415600"/>
                <a:ext cx="513360" cy="98640"/>
              </a:xfrm>
              <a:custGeom>
                <a:avLst/>
                <a:gdLst/>
                <a:ahLst/>
                <a:rect l="l" t="t" r="r" b="b"/>
                <a:pathLst>
                  <a:path w="888" h="204">
                    <a:moveTo>
                      <a:pt x="0" y="121"/>
                    </a:moveTo>
                    <a:lnTo>
                      <a:pt x="506" y="204"/>
                    </a:lnTo>
                    <a:lnTo>
                      <a:pt x="888" y="60"/>
                    </a:lnTo>
                    <a:lnTo>
                      <a:pt x="422" y="0"/>
                    </a:lnTo>
                    <a:lnTo>
                      <a:pt x="0" y="121"/>
                    </a:lnTo>
                    <a:close/>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38080" y="2472840"/>
                <a:ext cx="293040" cy="788760"/>
              </a:xfrm>
              <a:custGeom>
                <a:avLst/>
                <a:gdLst/>
                <a:ahLst/>
                <a:rect l="l" t="t" r="r" b="b"/>
                <a:pathLst>
                  <a:path w="506" h="1628">
                    <a:moveTo>
                      <a:pt x="0" y="0"/>
                    </a:moveTo>
                    <a:lnTo>
                      <a:pt x="506" y="85"/>
                    </a:lnTo>
                    <a:lnTo>
                      <a:pt x="506" y="1628"/>
                    </a:lnTo>
                    <a:lnTo>
                      <a:pt x="399" y="1593"/>
                    </a:lnTo>
                    <a:lnTo>
                      <a:pt x="400" y="1398"/>
                    </a:lnTo>
                    <a:lnTo>
                      <a:pt x="257" y="1341"/>
                    </a:lnTo>
                    <a:lnTo>
                      <a:pt x="257" y="1516"/>
                    </a:lnTo>
                    <a:lnTo>
                      <a:pt x="177" y="1479"/>
                    </a:lnTo>
                    <a:lnTo>
                      <a:pt x="177" y="1306"/>
                    </a:lnTo>
                    <a:lnTo>
                      <a:pt x="63" y="1255"/>
                    </a:lnTo>
                    <a:lnTo>
                      <a:pt x="63" y="1430"/>
                    </a:lnTo>
                    <a:lnTo>
                      <a:pt x="0" y="1402"/>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1" name=""/>
              <p:cNvGrpSpPr/>
              <p:nvPr/>
            </p:nvGrpSpPr>
            <p:grpSpPr>
              <a:xfrm>
                <a:off x="848520" y="2362320"/>
                <a:ext cx="502920" cy="900000"/>
                <a:chOff x="848520" y="2362320"/>
                <a:chExt cx="502920" cy="900000"/>
              </a:xfrm>
            </p:grpSpPr>
            <p:sp>
              <p:nvSpPr>
                <p:cNvPr id="1262" name=""/>
                <p:cNvSpPr/>
                <p:nvPr/>
              </p:nvSpPr>
              <p:spPr>
                <a:xfrm>
                  <a:off x="1131120" y="2443680"/>
                  <a:ext cx="220320" cy="818640"/>
                </a:xfrm>
                <a:custGeom>
                  <a:avLst/>
                  <a:gdLst/>
                  <a:ahLst/>
                  <a:rect l="l" t="t" r="r" b="b"/>
                  <a:pathLst>
                    <a:path w="384" h="1688">
                      <a:moveTo>
                        <a:pt x="0" y="142"/>
                      </a:moveTo>
                      <a:lnTo>
                        <a:pt x="379" y="0"/>
                      </a:lnTo>
                      <a:lnTo>
                        <a:pt x="384" y="1305"/>
                      </a:lnTo>
                      <a:lnTo>
                        <a:pt x="0" y="1688"/>
                      </a:lnTo>
                      <a:lnTo>
                        <a:pt x="0" y="142"/>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3" name=""/>
                <p:cNvGrpSpPr/>
                <p:nvPr/>
              </p:nvGrpSpPr>
              <p:grpSpPr>
                <a:xfrm>
                  <a:off x="986760" y="3120120"/>
                  <a:ext cx="84960" cy="86760"/>
                  <a:chOff x="986760" y="3120120"/>
                  <a:chExt cx="84960" cy="86760"/>
                </a:xfrm>
              </p:grpSpPr>
              <p:sp>
                <p:nvSpPr>
                  <p:cNvPr id="1264" name=""/>
                  <p:cNvSpPr/>
                  <p:nvPr/>
                </p:nvSpPr>
                <p:spPr>
                  <a:xfrm>
                    <a:off x="1033920" y="3136320"/>
                    <a:ext cx="37800" cy="60480"/>
                  </a:xfrm>
                  <a:custGeom>
                    <a:avLst/>
                    <a:gdLst/>
                    <a:ahLst/>
                    <a:rect l="l" t="t" r="r" b="b"/>
                    <a:pathLst>
                      <a:path w="66" h="127">
                        <a:moveTo>
                          <a:pt x="0" y="0"/>
                        </a:moveTo>
                        <a:lnTo>
                          <a:pt x="0" y="97"/>
                        </a:lnTo>
                        <a:lnTo>
                          <a:pt x="66" y="127"/>
                        </a:lnTo>
                        <a:lnTo>
                          <a:pt x="66" y="29"/>
                        </a:lnTo>
                        <a:lnTo>
                          <a:pt x="0" y="0"/>
                        </a:lnTo>
                        <a:close/>
                      </a:path>
                    </a:pathLst>
                  </a:custGeom>
                  <a:solidFill>
                    <a:srgbClr val="ff001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65" name=""/>
                  <p:cNvSpPr/>
                  <p:nvPr/>
                </p:nvSpPr>
                <p:spPr>
                  <a:xfrm>
                    <a:off x="986760" y="3120120"/>
                    <a:ext cx="48960" cy="86760"/>
                  </a:xfrm>
                  <a:custGeom>
                    <a:avLst/>
                    <a:gdLst/>
                    <a:ahLst/>
                    <a:rect l="l" t="t" r="r" b="b"/>
                    <a:pathLst>
                      <a:path w="86" h="181">
                        <a:moveTo>
                          <a:pt x="0" y="0"/>
                        </a:moveTo>
                        <a:lnTo>
                          <a:pt x="0" y="181"/>
                        </a:lnTo>
                        <a:lnTo>
                          <a:pt x="86" y="128"/>
                        </a:lnTo>
                        <a:lnTo>
                          <a:pt x="86" y="37"/>
                        </a:lnTo>
                        <a:lnTo>
                          <a:pt x="0" y="0"/>
                        </a:lnTo>
                        <a:close/>
                      </a:path>
                    </a:pathLst>
                  </a:custGeom>
                  <a:solidFill>
                    <a:srgbClr val="df1f3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266" name=""/>
                <p:cNvGrpSpPr/>
                <p:nvPr/>
              </p:nvGrpSpPr>
              <p:grpSpPr>
                <a:xfrm>
                  <a:off x="874800" y="3077640"/>
                  <a:ext cx="86040" cy="88920"/>
                  <a:chOff x="874800" y="3077640"/>
                  <a:chExt cx="86040" cy="88920"/>
                </a:xfrm>
              </p:grpSpPr>
              <p:sp>
                <p:nvSpPr>
                  <p:cNvPr id="1267" name=""/>
                  <p:cNvSpPr/>
                  <p:nvPr/>
                </p:nvSpPr>
                <p:spPr>
                  <a:xfrm>
                    <a:off x="923040" y="3093840"/>
                    <a:ext cx="37800" cy="61920"/>
                  </a:xfrm>
                  <a:custGeom>
                    <a:avLst/>
                    <a:gdLst/>
                    <a:ahLst/>
                    <a:rect l="l" t="t" r="r" b="b"/>
                    <a:pathLst>
                      <a:path w="66" h="127">
                        <a:moveTo>
                          <a:pt x="0" y="0"/>
                        </a:moveTo>
                        <a:lnTo>
                          <a:pt x="0" y="97"/>
                        </a:lnTo>
                        <a:lnTo>
                          <a:pt x="66" y="127"/>
                        </a:lnTo>
                        <a:lnTo>
                          <a:pt x="66" y="28"/>
                        </a:lnTo>
                        <a:lnTo>
                          <a:pt x="0" y="0"/>
                        </a:lnTo>
                        <a:close/>
                      </a:path>
                    </a:pathLst>
                  </a:custGeom>
                  <a:solidFill>
                    <a:srgbClr val="ff00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8" name=""/>
                  <p:cNvSpPr/>
                  <p:nvPr/>
                </p:nvSpPr>
                <p:spPr>
                  <a:xfrm>
                    <a:off x="874800" y="3077640"/>
                    <a:ext cx="48240" cy="88920"/>
                  </a:xfrm>
                  <a:custGeom>
                    <a:avLst/>
                    <a:gdLst/>
                    <a:ahLst/>
                    <a:rect l="l" t="t" r="r" b="b"/>
                    <a:pathLst>
                      <a:path w="85" h="183">
                        <a:moveTo>
                          <a:pt x="0" y="0"/>
                        </a:moveTo>
                        <a:lnTo>
                          <a:pt x="0" y="183"/>
                        </a:lnTo>
                        <a:lnTo>
                          <a:pt x="85" y="131"/>
                        </a:lnTo>
                        <a:lnTo>
                          <a:pt x="85" y="40"/>
                        </a:lnTo>
                        <a:lnTo>
                          <a:pt x="0" y="0"/>
                        </a:lnTo>
                        <a:close/>
                      </a:path>
                    </a:pathLst>
                  </a:custGeom>
                  <a:solidFill>
                    <a:srgbClr val="df1f3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69" name=""/>
                <p:cNvGrpSpPr/>
                <p:nvPr/>
              </p:nvGrpSpPr>
              <p:grpSpPr>
                <a:xfrm>
                  <a:off x="848520" y="2491200"/>
                  <a:ext cx="262440" cy="623520"/>
                  <a:chOff x="848520" y="2491200"/>
                  <a:chExt cx="262440" cy="623520"/>
                </a:xfrm>
              </p:grpSpPr>
              <p:sp>
                <p:nvSpPr>
                  <p:cNvPr id="1270" name=""/>
                  <p:cNvSpPr/>
                  <p:nvPr/>
                </p:nvSpPr>
                <p:spPr>
                  <a:xfrm>
                    <a:off x="858600" y="2492640"/>
                    <a:ext cx="238680" cy="622080"/>
                  </a:xfrm>
                  <a:custGeom>
                    <a:avLst/>
                    <a:gdLst/>
                    <a:ahLst/>
                    <a:rect l="l" t="t" r="r" b="b"/>
                    <a:pathLst>
                      <a:path w="414" h="1284">
                        <a:moveTo>
                          <a:pt x="0" y="0"/>
                        </a:moveTo>
                        <a:lnTo>
                          <a:pt x="414" y="68"/>
                        </a:lnTo>
                        <a:lnTo>
                          <a:pt x="414" y="1284"/>
                        </a:lnTo>
                        <a:lnTo>
                          <a:pt x="3" y="11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1" name=""/>
                  <p:cNvGrpSpPr/>
                  <p:nvPr/>
                </p:nvGrpSpPr>
                <p:grpSpPr>
                  <a:xfrm>
                    <a:off x="848520" y="2491200"/>
                    <a:ext cx="262440" cy="609840"/>
                    <a:chOff x="848520" y="2491200"/>
                    <a:chExt cx="262440" cy="609840"/>
                  </a:xfrm>
                </p:grpSpPr>
                <p:sp>
                  <p:nvSpPr>
                    <p:cNvPr id="1272" name=""/>
                    <p:cNvSpPr/>
                    <p:nvPr/>
                  </p:nvSpPr>
                  <p:spPr>
                    <a:xfrm>
                      <a:off x="850320" y="2958840"/>
                      <a:ext cx="260640" cy="73440"/>
                    </a:xfrm>
                    <a:prstGeom prst="line">
                      <a:avLst/>
                    </a:prstGeom>
                    <a:ln w="7920">
                      <a:solidFill>
                        <a:srgbClr val="ff5f7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73" name=""/>
                    <p:cNvSpPr/>
                    <p:nvPr/>
                  </p:nvSpPr>
                  <p:spPr>
                    <a:xfrm>
                      <a:off x="848520" y="2880360"/>
                      <a:ext cx="260280" cy="63000"/>
                    </a:xfrm>
                    <a:prstGeom prst="line">
                      <a:avLst/>
                    </a:prstGeom>
                    <a:ln w="7920">
                      <a:solidFill>
                        <a:srgbClr val="ff5f7f"/>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74" name=""/>
                    <p:cNvSpPr/>
                    <p:nvPr/>
                  </p:nvSpPr>
                  <p:spPr>
                    <a:xfrm>
                      <a:off x="853920" y="2800080"/>
                      <a:ext cx="254520" cy="56160"/>
                    </a:xfrm>
                    <a:prstGeom prst="line">
                      <a:avLst/>
                    </a:prstGeom>
                    <a:ln w="7920">
                      <a:solidFill>
                        <a:srgbClr val="ff5f7f"/>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75" name=""/>
                    <p:cNvSpPr/>
                    <p:nvPr/>
                  </p:nvSpPr>
                  <p:spPr>
                    <a:xfrm>
                      <a:off x="851760" y="2715840"/>
                      <a:ext cx="255960" cy="52200"/>
                    </a:xfrm>
                    <a:prstGeom prst="line">
                      <a:avLst/>
                    </a:prstGeom>
                    <a:ln w="7920">
                      <a:solidFill>
                        <a:srgbClr val="ff5f7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6" name=""/>
                    <p:cNvSpPr/>
                    <p:nvPr/>
                  </p:nvSpPr>
                  <p:spPr>
                    <a:xfrm>
                      <a:off x="856080" y="2635200"/>
                      <a:ext cx="251640" cy="43200"/>
                    </a:xfrm>
                    <a:prstGeom prst="line">
                      <a:avLst/>
                    </a:prstGeom>
                    <a:ln w="7920">
                      <a:solidFill>
                        <a:srgbClr val="ff5f7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77" name=""/>
                    <p:cNvSpPr/>
                    <p:nvPr/>
                  </p:nvSpPr>
                  <p:spPr>
                    <a:xfrm>
                      <a:off x="848520" y="2561760"/>
                      <a:ext cx="255960" cy="36360"/>
                    </a:xfrm>
                    <a:prstGeom prst="line">
                      <a:avLst/>
                    </a:prstGeom>
                    <a:ln w="7920">
                      <a:solidFill>
                        <a:srgbClr val="ff5f7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8" name=""/>
                    <p:cNvSpPr/>
                    <p:nvPr/>
                  </p:nvSpPr>
                  <p:spPr>
                    <a:xfrm>
                      <a:off x="909360" y="2491200"/>
                      <a:ext cx="1080" cy="568440"/>
                    </a:xfrm>
                    <a:prstGeom prst="line">
                      <a:avLst/>
                    </a:prstGeom>
                    <a:ln w="792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968040" y="2501640"/>
                      <a:ext cx="1080" cy="581040"/>
                    </a:xfrm>
                    <a:prstGeom prst="line">
                      <a:avLst/>
                    </a:prstGeom>
                    <a:ln w="792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1031760" y="2509200"/>
                      <a:ext cx="720" cy="591840"/>
                    </a:xfrm>
                    <a:prstGeom prst="line">
                      <a:avLst/>
                    </a:prstGeom>
                    <a:ln w="792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1" name=""/>
                <p:cNvGrpSpPr/>
                <p:nvPr/>
              </p:nvGrpSpPr>
              <p:grpSpPr>
                <a:xfrm>
                  <a:off x="947520" y="2362320"/>
                  <a:ext cx="305640" cy="126360"/>
                  <a:chOff x="947520" y="2362320"/>
                  <a:chExt cx="305640" cy="126360"/>
                </a:xfrm>
              </p:grpSpPr>
              <p:grpSp>
                <p:nvGrpSpPr>
                  <p:cNvPr id="1282" name=""/>
                  <p:cNvGrpSpPr/>
                  <p:nvPr/>
                </p:nvGrpSpPr>
                <p:grpSpPr>
                  <a:xfrm>
                    <a:off x="947520" y="2362320"/>
                    <a:ext cx="305640" cy="126360"/>
                    <a:chOff x="947520" y="2362320"/>
                    <a:chExt cx="305640" cy="126360"/>
                  </a:xfrm>
                </p:grpSpPr>
                <p:sp>
                  <p:nvSpPr>
                    <p:cNvPr id="1283" name=""/>
                    <p:cNvSpPr/>
                    <p:nvPr/>
                  </p:nvSpPr>
                  <p:spPr>
                    <a:xfrm>
                      <a:off x="947520" y="2362320"/>
                      <a:ext cx="305640" cy="50040"/>
                    </a:xfrm>
                    <a:custGeom>
                      <a:avLst/>
                      <a:gdLst/>
                      <a:ahLst/>
                      <a:rect l="l" t="t" r="r" b="b"/>
                      <a:pathLst>
                        <a:path w="531" h="104">
                          <a:moveTo>
                            <a:pt x="0" y="67"/>
                          </a:moveTo>
                          <a:lnTo>
                            <a:pt x="309" y="104"/>
                          </a:lnTo>
                          <a:lnTo>
                            <a:pt x="531" y="34"/>
                          </a:lnTo>
                          <a:lnTo>
                            <a:pt x="231" y="0"/>
                          </a:lnTo>
                          <a:lnTo>
                            <a:pt x="0" y="67"/>
                          </a:lnTo>
                          <a:close/>
                        </a:path>
                      </a:pathLst>
                    </a:custGeom>
                    <a:solidFill>
                      <a:srgbClr val="df3f5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4" name=""/>
                    <p:cNvSpPr/>
                    <p:nvPr/>
                  </p:nvSpPr>
                  <p:spPr>
                    <a:xfrm>
                      <a:off x="1125000" y="2378520"/>
                      <a:ext cx="126720" cy="110160"/>
                    </a:xfrm>
                    <a:custGeom>
                      <a:avLst/>
                      <a:gdLst/>
                      <a:ahLst/>
                      <a:rect l="l" t="t" r="r" b="b"/>
                      <a:pathLst>
                        <a:path w="219" h="227">
                          <a:moveTo>
                            <a:pt x="0" y="70"/>
                          </a:moveTo>
                          <a:lnTo>
                            <a:pt x="219" y="0"/>
                          </a:lnTo>
                          <a:lnTo>
                            <a:pt x="219" y="144"/>
                          </a:lnTo>
                          <a:lnTo>
                            <a:pt x="0" y="227"/>
                          </a:lnTo>
                          <a:lnTo>
                            <a:pt x="0" y="70"/>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947520" y="2395080"/>
                      <a:ext cx="177480" cy="93600"/>
                    </a:xfrm>
                    <a:custGeom>
                      <a:avLst/>
                      <a:gdLst/>
                      <a:ahLst/>
                      <a:rect l="l" t="t" r="r" b="b"/>
                      <a:pathLst>
                        <a:path w="308" h="194">
                          <a:moveTo>
                            <a:pt x="308" y="37"/>
                          </a:moveTo>
                          <a:lnTo>
                            <a:pt x="308" y="194"/>
                          </a:lnTo>
                          <a:lnTo>
                            <a:pt x="0" y="150"/>
                          </a:lnTo>
                          <a:lnTo>
                            <a:pt x="0" y="0"/>
                          </a:lnTo>
                          <a:lnTo>
                            <a:pt x="308" y="37"/>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6" name=""/>
                  <p:cNvSpPr/>
                  <p:nvPr/>
                </p:nvSpPr>
                <p:spPr>
                  <a:xfrm>
                    <a:off x="970200" y="2410560"/>
                    <a:ext cx="102600" cy="21960"/>
                  </a:xfrm>
                  <a:custGeom>
                    <a:avLst/>
                    <a:gdLst/>
                    <a:ahLst/>
                    <a:rect l="l" t="t" r="r" b="b"/>
                    <a:pathLst>
                      <a:path w="177" h="46">
                        <a:moveTo>
                          <a:pt x="1" y="0"/>
                        </a:moveTo>
                        <a:lnTo>
                          <a:pt x="177" y="18"/>
                        </a:lnTo>
                        <a:lnTo>
                          <a:pt x="177" y="46"/>
                        </a:lnTo>
                        <a:lnTo>
                          <a:pt x="0" y="29"/>
                        </a:lnTo>
                        <a:lnTo>
                          <a:pt x="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sp>
          <p:nvSpPr>
            <p:cNvPr id="1287" name=""/>
            <p:cNvSpPr/>
            <p:nvPr/>
          </p:nvSpPr>
          <p:spPr>
            <a:xfrm>
              <a:off x="1367280" y="2497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igBank</a:t>
              </a:r>
              <a:endParaRPr b="0" lang="en-US" sz="2400" spc="-1" strike="noStrike">
                <a:solidFill>
                  <a:srgbClr val="000000"/>
                </a:solidFill>
                <a:latin typeface="Times New Roman"/>
              </a:endParaRPr>
            </a:p>
          </p:txBody>
        </p:sp>
        <p:sp>
          <p:nvSpPr>
            <p:cNvPr id="1288" name=""/>
            <p:cNvSpPr/>
            <p:nvPr/>
          </p:nvSpPr>
          <p:spPr>
            <a:xfrm>
              <a:off x="3819240" y="247428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me</a:t>
              </a:r>
              <a:endParaRPr b="0" lang="en-US" sz="2400" spc="-1" strike="noStrike">
                <a:solidFill>
                  <a:srgbClr val="000000"/>
                </a:solidFill>
                <a:latin typeface="Times New Roman"/>
              </a:endParaRPr>
            </a:p>
          </p:txBody>
        </p:sp>
        <p:sp>
          <p:nvSpPr>
            <p:cNvPr id="1289" name=""/>
            <p:cNvSpPr/>
            <p:nvPr/>
          </p:nvSpPr>
          <p:spPr>
            <a:xfrm rot="12760200">
              <a:off x="3585600" y="3563640"/>
              <a:ext cx="154080" cy="411840"/>
            </a:xfrm>
            <a:custGeom>
              <a:avLst/>
              <a:gdLst/>
              <a:ahLst/>
              <a:rect l="l" t="t" r="r" b="b"/>
              <a:pathLst>
                <a:path w="207" h="141">
                  <a:moveTo>
                    <a:pt x="0" y="115"/>
                  </a:moveTo>
                  <a:lnTo>
                    <a:pt x="88" y="141"/>
                  </a:lnTo>
                  <a:lnTo>
                    <a:pt x="207" y="30"/>
                  </a:lnTo>
                  <a:lnTo>
                    <a:pt x="207" y="29"/>
                  </a:lnTo>
                  <a:lnTo>
                    <a:pt x="206" y="23"/>
                  </a:lnTo>
                  <a:lnTo>
                    <a:pt x="202" y="16"/>
                  </a:lnTo>
                  <a:lnTo>
                    <a:pt x="198" y="10"/>
                  </a:lnTo>
                  <a:lnTo>
                    <a:pt x="192" y="3"/>
                  </a:lnTo>
                  <a:lnTo>
                    <a:pt x="186" y="0"/>
                  </a:lnTo>
                  <a:lnTo>
                    <a:pt x="176" y="0"/>
                  </a:lnTo>
                  <a:lnTo>
                    <a:pt x="164" y="4"/>
                  </a:lnTo>
                  <a:lnTo>
                    <a:pt x="0" y="115"/>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935520" y="57276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rCo</a:t>
              </a:r>
              <a:endParaRPr b="0" lang="en-US" sz="2400" spc="-1" strike="noStrike">
                <a:solidFill>
                  <a:srgbClr val="000000"/>
                </a:solidFill>
                <a:latin typeface="Times New Roman"/>
              </a:endParaRPr>
            </a:p>
          </p:txBody>
        </p:sp>
        <p:sp>
          <p:nvSpPr>
            <p:cNvPr id="1291" name=""/>
            <p:cNvSpPr/>
            <p:nvPr/>
          </p:nvSpPr>
          <p:spPr>
            <a:xfrm>
              <a:off x="1559880" y="57974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hemCo</a:t>
              </a:r>
              <a:endParaRPr b="0" lang="en-US" sz="2400" spc="-1" strike="noStrike">
                <a:solidFill>
                  <a:srgbClr val="000000"/>
                </a:solidFill>
                <a:latin typeface="Times New Roman"/>
              </a:endParaRPr>
            </a:p>
          </p:txBody>
        </p:sp>
      </p:grpSp>
      <p:sp>
        <p:nvSpPr>
          <p:cNvPr id="1292" name=""/>
          <p:cNvSpPr/>
          <p:nvPr/>
        </p:nvSpPr>
        <p:spPr>
          <a:xfrm>
            <a:off x="191160" y="152280"/>
            <a:ext cx="291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Marketpl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3" name="red%20gen%20d" descr=""/>
          <p:cNvPicPr/>
          <p:nvPr/>
        </p:nvPicPr>
        <p:blipFill>
          <a:blip r:embed="rId1"/>
          <a:stretch/>
        </p:blipFill>
        <p:spPr>
          <a:xfrm>
            <a:off x="762120" y="4038480"/>
            <a:ext cx="1828800" cy="771480"/>
          </a:xfrm>
          <a:prstGeom prst="rect">
            <a:avLst/>
          </a:prstGeom>
          <a:ln w="0">
            <a:noFill/>
          </a:ln>
        </p:spPr>
      </p:pic>
      <p:grpSp>
        <p:nvGrpSpPr>
          <p:cNvPr id="1294" name=""/>
          <p:cNvGrpSpPr/>
          <p:nvPr/>
        </p:nvGrpSpPr>
        <p:grpSpPr>
          <a:xfrm>
            <a:off x="838080" y="2057400"/>
            <a:ext cx="1676520" cy="1904760"/>
            <a:chOff x="838080" y="2057400"/>
            <a:chExt cx="1676520" cy="1904760"/>
          </a:xfrm>
        </p:grpSpPr>
        <p:sp>
          <p:nvSpPr>
            <p:cNvPr id="1295"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6" name="coolguy" descr=""/>
            <p:cNvPicPr/>
            <p:nvPr/>
          </p:nvPicPr>
          <p:blipFill>
            <a:blip r:embed="rId2"/>
            <a:srcRect l="9083" t="0" r="13635" b="0"/>
            <a:stretch/>
          </p:blipFill>
          <p:spPr>
            <a:xfrm>
              <a:off x="1015920" y="2480760"/>
              <a:ext cx="1295280" cy="1309320"/>
            </a:xfrm>
            <a:prstGeom prst="rect">
              <a:avLst/>
            </a:prstGeom>
            <a:ln w="0">
              <a:noFill/>
            </a:ln>
          </p:spPr>
        </p:pic>
        <p:pic>
          <p:nvPicPr>
            <p:cNvPr id="1297" name="logo" descr=""/>
            <p:cNvPicPr/>
            <p:nvPr/>
          </p:nvPicPr>
          <p:blipFill>
            <a:blip r:embed="rId3"/>
            <a:stretch/>
          </p:blipFill>
          <p:spPr>
            <a:xfrm>
              <a:off x="965160" y="2176200"/>
              <a:ext cx="1428840" cy="277560"/>
            </a:xfrm>
            <a:prstGeom prst="rect">
              <a:avLst/>
            </a:prstGeom>
            <a:ln w="0">
              <a:noFill/>
            </a:ln>
          </p:spPr>
        </p:pic>
      </p:grpSp>
      <p:sp>
        <p:nvSpPr>
          <p:cNvPr id="1298" name=""/>
          <p:cNvSpPr/>
          <p:nvPr/>
        </p:nvSpPr>
        <p:spPr>
          <a:xfrm>
            <a:off x="4114800" y="160020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ices</a:t>
            </a:r>
            <a:endParaRPr b="0" lang="en-US" sz="2400" spc="-1" strike="noStrike">
              <a:solidFill>
                <a:srgbClr val="000000"/>
              </a:solidFill>
              <a:latin typeface="Times New Roman"/>
            </a:endParaRPr>
          </a:p>
        </p:txBody>
      </p:sp>
      <p:sp>
        <p:nvSpPr>
          <p:cNvPr id="1299" name=""/>
          <p:cNvSpPr/>
          <p:nvPr/>
        </p:nvSpPr>
        <p:spPr>
          <a:xfrm>
            <a:off x="4114800" y="243828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Applications/Services</a:t>
            </a:r>
            <a:endParaRPr b="0" lang="en-US" sz="2400" spc="-1" strike="noStrike">
              <a:solidFill>
                <a:srgbClr val="000000"/>
              </a:solidFill>
              <a:latin typeface="Times New Roman"/>
            </a:endParaRPr>
          </a:p>
        </p:txBody>
      </p:sp>
      <p:sp>
        <p:nvSpPr>
          <p:cNvPr id="1300" name=""/>
          <p:cNvSpPr/>
          <p:nvPr/>
        </p:nvSpPr>
        <p:spPr>
          <a:xfrm>
            <a:off x="4114800" y="3276720"/>
            <a:ext cx="3429000" cy="761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Service Platform</a:t>
            </a:r>
            <a:endParaRPr b="0" lang="en-US" sz="2400" spc="-1" strike="noStrike">
              <a:solidFill>
                <a:srgbClr val="000000"/>
              </a:solidFill>
              <a:latin typeface="Times New Roman"/>
            </a:endParaRPr>
          </a:p>
        </p:txBody>
      </p:sp>
      <p:sp>
        <p:nvSpPr>
          <p:cNvPr id="1301" name=""/>
          <p:cNvSpPr/>
          <p:nvPr/>
        </p:nvSpPr>
        <p:spPr>
          <a:xfrm>
            <a:off x="4114800" y="41148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Basic IP Services</a:t>
            </a:r>
            <a:endParaRPr b="0" lang="en-US" sz="2400" spc="-1" strike="noStrike">
              <a:solidFill>
                <a:srgbClr val="000000"/>
              </a:solidFill>
              <a:latin typeface="Times New Roman"/>
            </a:endParaRPr>
          </a:p>
        </p:txBody>
      </p:sp>
      <p:sp>
        <p:nvSpPr>
          <p:cNvPr id="1302" name=""/>
          <p:cNvSpPr/>
          <p:nvPr/>
        </p:nvSpPr>
        <p:spPr>
          <a:xfrm>
            <a:off x="4114800" y="5029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a:t>
            </a:r>
            <a:endParaRPr b="0" lang="en-US" sz="2400" spc="-1" strike="noStrike">
              <a:solidFill>
                <a:srgbClr val="000000"/>
              </a:solidFill>
              <a:latin typeface="Times New Roman"/>
            </a:endParaRPr>
          </a:p>
        </p:txBody>
      </p:sp>
      <p:sp>
        <p:nvSpPr>
          <p:cNvPr id="1303" name=""/>
          <p:cNvSpPr/>
          <p:nvPr/>
        </p:nvSpPr>
        <p:spPr>
          <a:xfrm>
            <a:off x="762012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rot="16200000">
            <a:off x="6190200" y="3504600"/>
            <a:ext cx="37728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 Oper. Systems</a:t>
            </a:r>
            <a:endParaRPr b="0" lang="en-US" sz="2400" spc="-1" strike="noStrike">
              <a:solidFill>
                <a:srgbClr val="000000"/>
              </a:solidFill>
              <a:latin typeface="Times New Roman"/>
            </a:endParaRPr>
          </a:p>
        </p:txBody>
      </p:sp>
      <p:sp>
        <p:nvSpPr>
          <p:cNvPr id="1305" name=""/>
          <p:cNvSpPr/>
          <p:nvPr/>
        </p:nvSpPr>
        <p:spPr>
          <a:xfrm>
            <a:off x="312408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6200000">
            <a:off x="1677960" y="3499560"/>
            <a:ext cx="365076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elopment Platform</a:t>
            </a:r>
            <a:endParaRPr b="0" lang="en-US" sz="2400" spc="-1" strike="noStrike">
              <a:solidFill>
                <a:srgbClr val="000000"/>
              </a:solidFill>
              <a:latin typeface="Times New Roman"/>
            </a:endParaRPr>
          </a:p>
        </p:txBody>
      </p:sp>
      <p:sp>
        <p:nvSpPr>
          <p:cNvPr id="1307"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81080" y="1631880"/>
            <a:ext cx="6096240" cy="4915800"/>
          </a:xfrm>
          <a:prstGeom prst="rect">
            <a:avLst/>
          </a:prstGeom>
          <a:noFill/>
          <a:ln w="0">
            <a:noFill/>
          </a:ln>
        </p:spPr>
        <p:style>
          <a:lnRef idx="0"/>
          <a:fillRef idx="0"/>
          <a:effectRef idx="0"/>
          <a:fontRef idx="minor"/>
        </p:style>
        <p:txBody>
          <a:bodyPr lIns="90360" rIns="90360" tIns="44280" bIns="44280" anchor="t">
            <a:spAutoFit/>
          </a:bodyPr>
          <a:p>
            <a:pPr>
              <a:lnSpc>
                <a:spcPct val="165000"/>
              </a:lnSpc>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 </a:t>
            </a:r>
            <a:r>
              <a:rPr b="1" lang="en-US" sz="2400" spc="-1" strike="noStrike">
                <a:solidFill>
                  <a:srgbClr val="000000"/>
                </a:solidFill>
                <a:latin typeface="Tahoma"/>
              </a:rPr>
              <a:t>access any time</a:t>
            </a:r>
            <a:endParaRPr b="0" lang="en-US" sz="2400" spc="-1" strike="noStrike">
              <a:solidFill>
                <a:srgbClr val="000000"/>
              </a:solidFill>
              <a:latin typeface="Times New Roman"/>
            </a:endParaRPr>
          </a:p>
          <a:p>
            <a:pPr>
              <a:lnSpc>
                <a:spcPct val="165000"/>
              </a:lnSpc>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 </a:t>
            </a:r>
            <a:r>
              <a:rPr b="1" lang="en-US" sz="2400" spc="-1" strike="noStrike">
                <a:solidFill>
                  <a:srgbClr val="000000"/>
                </a:solidFill>
                <a:latin typeface="Tahoma"/>
              </a:rPr>
              <a:t>access any where</a:t>
            </a:r>
            <a:endParaRPr b="0" lang="en-US" sz="2400" spc="-1" strike="noStrike">
              <a:solidFill>
                <a:srgbClr val="000000"/>
              </a:solidFill>
              <a:latin typeface="Times New Roman"/>
            </a:endParaRPr>
          </a:p>
          <a:p>
            <a:pPr>
              <a:lnSpc>
                <a:spcPct val="165000"/>
              </a:lnSpc>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 </a:t>
            </a:r>
            <a:r>
              <a:rPr b="1" lang="en-US" sz="2400" spc="-1" strike="noStrike">
                <a:solidFill>
                  <a:srgbClr val="000000"/>
                </a:solidFill>
                <a:latin typeface="Tahoma"/>
              </a:rPr>
              <a:t>real time operation</a:t>
            </a:r>
            <a:endParaRPr b="0" lang="en-US" sz="2400" spc="-1" strike="noStrike">
              <a:solidFill>
                <a:srgbClr val="000000"/>
              </a:solidFill>
              <a:latin typeface="Times New Roman"/>
            </a:endParaRPr>
          </a:p>
          <a:p>
            <a:pPr>
              <a:lnSpc>
                <a:spcPct val="165000"/>
              </a:lnSpc>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1" lang="en-US" sz="2400" spc="-1" strike="noStrike">
                <a:solidFill>
                  <a:srgbClr val="000000"/>
                </a:solidFill>
                <a:latin typeface="Tahoma"/>
              </a:rPr>
              <a:t>Customer</a:t>
            </a:r>
            <a:r>
              <a:rPr b="0" lang="en-US" sz="2400" spc="-1" strike="noStrike">
                <a:solidFill>
                  <a:srgbClr val="000000"/>
                </a:solidFill>
                <a:latin typeface="Tahoma"/>
              </a:rPr>
              <a:t> </a:t>
            </a:r>
            <a:r>
              <a:rPr b="1" lang="en-US" sz="2400" spc="-1" strike="noStrike">
                <a:solidFill>
                  <a:srgbClr val="000000"/>
                </a:solidFill>
                <a:latin typeface="Tahoma"/>
              </a:rPr>
              <a:t>interaction </a:t>
            </a:r>
            <a:endParaRPr b="0" lang="en-US" sz="2400" spc="-1" strike="noStrike">
              <a:solidFill>
                <a:srgbClr val="000000"/>
              </a:solidFill>
              <a:latin typeface="Times New Roman"/>
            </a:endParaRPr>
          </a:p>
          <a:p>
            <a:pPr>
              <a:lnSpc>
                <a:spcPct val="165000"/>
              </a:lnSpc>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 </a:t>
            </a:r>
            <a:r>
              <a:rPr b="1" lang="en-US" sz="2400" spc="-1" strike="noStrike">
                <a:solidFill>
                  <a:srgbClr val="000000"/>
                </a:solidFill>
                <a:latin typeface="Tahoma"/>
              </a:rPr>
              <a:t>know how / forecast</a:t>
            </a:r>
            <a:endParaRPr b="0" lang="en-US" sz="2400" spc="-1" strike="noStrike">
              <a:solidFill>
                <a:srgbClr val="000000"/>
              </a:solidFill>
              <a:latin typeface="Times New Roman"/>
            </a:endParaRPr>
          </a:p>
          <a:p>
            <a:pPr>
              <a:lnSpc>
                <a:spcPct val="165000"/>
              </a:lnSpc>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 </a:t>
            </a:r>
            <a:r>
              <a:rPr b="1" lang="en-US" sz="2400" spc="-1" strike="noStrike">
                <a:solidFill>
                  <a:srgbClr val="000000"/>
                </a:solidFill>
                <a:latin typeface="Tahoma"/>
              </a:rPr>
              <a:t>customization</a:t>
            </a:r>
            <a:endParaRPr b="0" lang="en-US" sz="2400" spc="-1" strike="noStrike">
              <a:solidFill>
                <a:srgbClr val="000000"/>
              </a:solidFill>
              <a:latin typeface="Times New Roman"/>
            </a:endParaRPr>
          </a:p>
          <a:p>
            <a:pPr>
              <a:lnSpc>
                <a:spcPct val="165000"/>
              </a:lnSpc>
              <a:buClr>
                <a:srgbClr val="ff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 </a:t>
            </a:r>
            <a:r>
              <a:rPr b="1" lang="en-US" sz="2400" spc="-1" strike="noStrike">
                <a:solidFill>
                  <a:srgbClr val="000000"/>
                </a:solidFill>
                <a:latin typeface="Tahoma"/>
              </a:rPr>
              <a:t>self provisioning/self customer care</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75" name=""/>
          <p:cNvSpPr/>
          <p:nvPr/>
        </p:nvSpPr>
        <p:spPr>
          <a:xfrm>
            <a:off x="82080" y="135000"/>
            <a:ext cx="35809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New Requir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
          <p:cNvSpPr/>
          <p:nvPr/>
        </p:nvSpPr>
        <p:spPr>
          <a:xfrm>
            <a:off x="3352680" y="1905120"/>
            <a:ext cx="4498920" cy="2743200"/>
          </a:xfrm>
          <a:custGeom>
            <a:avLst/>
            <a:gdLst/>
            <a:ahLst/>
            <a:rect l="l" t="t" r="r" b="b"/>
            <a:pathLst>
              <a:path w="1888" h="1122">
                <a:moveTo>
                  <a:pt x="278" y="833"/>
                </a:moveTo>
                <a:lnTo>
                  <a:pt x="298" y="874"/>
                </a:lnTo>
                <a:lnTo>
                  <a:pt x="321" y="914"/>
                </a:lnTo>
                <a:lnTo>
                  <a:pt x="346" y="950"/>
                </a:lnTo>
                <a:lnTo>
                  <a:pt x="375" y="984"/>
                </a:lnTo>
                <a:lnTo>
                  <a:pt x="405" y="1014"/>
                </a:lnTo>
                <a:lnTo>
                  <a:pt x="437" y="1041"/>
                </a:lnTo>
                <a:lnTo>
                  <a:pt x="470" y="1064"/>
                </a:lnTo>
                <a:lnTo>
                  <a:pt x="506" y="1085"/>
                </a:lnTo>
                <a:lnTo>
                  <a:pt x="543" y="1100"/>
                </a:lnTo>
                <a:lnTo>
                  <a:pt x="580" y="1111"/>
                </a:lnTo>
                <a:lnTo>
                  <a:pt x="618" y="1119"/>
                </a:lnTo>
                <a:lnTo>
                  <a:pt x="657" y="1122"/>
                </a:lnTo>
                <a:lnTo>
                  <a:pt x="696" y="1121"/>
                </a:lnTo>
                <a:lnTo>
                  <a:pt x="734" y="1116"/>
                </a:lnTo>
                <a:lnTo>
                  <a:pt x="772" y="1106"/>
                </a:lnTo>
                <a:lnTo>
                  <a:pt x="809" y="1092"/>
                </a:lnTo>
                <a:lnTo>
                  <a:pt x="845" y="1075"/>
                </a:lnTo>
                <a:lnTo>
                  <a:pt x="880" y="1053"/>
                </a:lnTo>
                <a:lnTo>
                  <a:pt x="913" y="1028"/>
                </a:lnTo>
                <a:lnTo>
                  <a:pt x="945" y="999"/>
                </a:lnTo>
                <a:lnTo>
                  <a:pt x="975" y="1028"/>
                </a:lnTo>
                <a:lnTo>
                  <a:pt x="1008" y="1053"/>
                </a:lnTo>
                <a:lnTo>
                  <a:pt x="1043" y="1075"/>
                </a:lnTo>
                <a:lnTo>
                  <a:pt x="1080" y="1092"/>
                </a:lnTo>
                <a:lnTo>
                  <a:pt x="1116" y="1106"/>
                </a:lnTo>
                <a:lnTo>
                  <a:pt x="1154" y="1116"/>
                </a:lnTo>
                <a:lnTo>
                  <a:pt x="1192" y="1121"/>
                </a:lnTo>
                <a:lnTo>
                  <a:pt x="1232" y="1122"/>
                </a:lnTo>
                <a:lnTo>
                  <a:pt x="1270" y="1119"/>
                </a:lnTo>
                <a:lnTo>
                  <a:pt x="1308" y="1111"/>
                </a:lnTo>
                <a:lnTo>
                  <a:pt x="1345" y="1100"/>
                </a:lnTo>
                <a:lnTo>
                  <a:pt x="1382" y="1085"/>
                </a:lnTo>
                <a:lnTo>
                  <a:pt x="1418" y="1064"/>
                </a:lnTo>
                <a:lnTo>
                  <a:pt x="1451" y="1041"/>
                </a:lnTo>
                <a:lnTo>
                  <a:pt x="1483" y="1014"/>
                </a:lnTo>
                <a:lnTo>
                  <a:pt x="1514" y="984"/>
                </a:lnTo>
                <a:lnTo>
                  <a:pt x="1542" y="950"/>
                </a:lnTo>
                <a:lnTo>
                  <a:pt x="1567" y="914"/>
                </a:lnTo>
                <a:lnTo>
                  <a:pt x="1590" y="874"/>
                </a:lnTo>
                <a:lnTo>
                  <a:pt x="1610" y="833"/>
                </a:lnTo>
                <a:lnTo>
                  <a:pt x="1637" y="839"/>
                </a:lnTo>
                <a:lnTo>
                  <a:pt x="1664" y="841"/>
                </a:lnTo>
                <a:lnTo>
                  <a:pt x="1691" y="840"/>
                </a:lnTo>
                <a:lnTo>
                  <a:pt x="1717" y="834"/>
                </a:lnTo>
                <a:lnTo>
                  <a:pt x="1743" y="824"/>
                </a:lnTo>
                <a:lnTo>
                  <a:pt x="1768" y="810"/>
                </a:lnTo>
                <a:lnTo>
                  <a:pt x="1792" y="793"/>
                </a:lnTo>
                <a:lnTo>
                  <a:pt x="1813" y="772"/>
                </a:lnTo>
                <a:lnTo>
                  <a:pt x="1832" y="748"/>
                </a:lnTo>
                <a:lnTo>
                  <a:pt x="1848" y="721"/>
                </a:lnTo>
                <a:lnTo>
                  <a:pt x="1862" y="693"/>
                </a:lnTo>
                <a:lnTo>
                  <a:pt x="1873" y="662"/>
                </a:lnTo>
                <a:lnTo>
                  <a:pt x="1882" y="629"/>
                </a:lnTo>
                <a:lnTo>
                  <a:pt x="1886" y="595"/>
                </a:lnTo>
                <a:lnTo>
                  <a:pt x="1888" y="561"/>
                </a:lnTo>
                <a:lnTo>
                  <a:pt x="1886" y="527"/>
                </a:lnTo>
                <a:lnTo>
                  <a:pt x="1882" y="494"/>
                </a:lnTo>
                <a:lnTo>
                  <a:pt x="1873" y="461"/>
                </a:lnTo>
                <a:lnTo>
                  <a:pt x="1862" y="430"/>
                </a:lnTo>
                <a:lnTo>
                  <a:pt x="1848" y="401"/>
                </a:lnTo>
                <a:lnTo>
                  <a:pt x="1832" y="374"/>
                </a:lnTo>
                <a:lnTo>
                  <a:pt x="1813" y="351"/>
                </a:lnTo>
                <a:lnTo>
                  <a:pt x="1792" y="329"/>
                </a:lnTo>
                <a:lnTo>
                  <a:pt x="1768" y="312"/>
                </a:lnTo>
                <a:lnTo>
                  <a:pt x="1743" y="299"/>
                </a:lnTo>
                <a:lnTo>
                  <a:pt x="1717" y="289"/>
                </a:lnTo>
                <a:lnTo>
                  <a:pt x="1691" y="282"/>
                </a:lnTo>
                <a:lnTo>
                  <a:pt x="1664" y="281"/>
                </a:lnTo>
                <a:lnTo>
                  <a:pt x="1637" y="284"/>
                </a:lnTo>
                <a:lnTo>
                  <a:pt x="1610" y="290"/>
                </a:lnTo>
                <a:lnTo>
                  <a:pt x="1590" y="248"/>
                </a:lnTo>
                <a:lnTo>
                  <a:pt x="1567" y="209"/>
                </a:lnTo>
                <a:lnTo>
                  <a:pt x="1542" y="172"/>
                </a:lnTo>
                <a:lnTo>
                  <a:pt x="1514" y="138"/>
                </a:lnTo>
                <a:lnTo>
                  <a:pt x="1483" y="108"/>
                </a:lnTo>
                <a:lnTo>
                  <a:pt x="1451" y="82"/>
                </a:lnTo>
                <a:lnTo>
                  <a:pt x="1418" y="58"/>
                </a:lnTo>
                <a:lnTo>
                  <a:pt x="1382" y="38"/>
                </a:lnTo>
                <a:lnTo>
                  <a:pt x="1345" y="23"/>
                </a:lnTo>
                <a:lnTo>
                  <a:pt x="1308" y="11"/>
                </a:lnTo>
                <a:lnTo>
                  <a:pt x="1270" y="4"/>
                </a:lnTo>
                <a:lnTo>
                  <a:pt x="1232" y="0"/>
                </a:lnTo>
                <a:lnTo>
                  <a:pt x="1192" y="2"/>
                </a:lnTo>
                <a:lnTo>
                  <a:pt x="1154" y="7"/>
                </a:lnTo>
                <a:lnTo>
                  <a:pt x="1116" y="17"/>
                </a:lnTo>
                <a:lnTo>
                  <a:pt x="1080" y="30"/>
                </a:lnTo>
                <a:lnTo>
                  <a:pt x="1043" y="47"/>
                </a:lnTo>
                <a:lnTo>
                  <a:pt x="1008" y="70"/>
                </a:lnTo>
                <a:lnTo>
                  <a:pt x="975" y="94"/>
                </a:lnTo>
                <a:lnTo>
                  <a:pt x="945" y="123"/>
                </a:lnTo>
                <a:lnTo>
                  <a:pt x="913" y="94"/>
                </a:lnTo>
                <a:lnTo>
                  <a:pt x="880" y="70"/>
                </a:lnTo>
                <a:lnTo>
                  <a:pt x="845" y="47"/>
                </a:lnTo>
                <a:lnTo>
                  <a:pt x="809" y="30"/>
                </a:lnTo>
                <a:lnTo>
                  <a:pt x="772" y="17"/>
                </a:lnTo>
                <a:lnTo>
                  <a:pt x="734" y="7"/>
                </a:lnTo>
                <a:lnTo>
                  <a:pt x="696" y="2"/>
                </a:lnTo>
                <a:lnTo>
                  <a:pt x="657" y="0"/>
                </a:lnTo>
                <a:lnTo>
                  <a:pt x="618" y="4"/>
                </a:lnTo>
                <a:lnTo>
                  <a:pt x="580" y="11"/>
                </a:lnTo>
                <a:lnTo>
                  <a:pt x="543" y="23"/>
                </a:lnTo>
                <a:lnTo>
                  <a:pt x="506" y="38"/>
                </a:lnTo>
                <a:lnTo>
                  <a:pt x="470" y="58"/>
                </a:lnTo>
                <a:lnTo>
                  <a:pt x="437" y="82"/>
                </a:lnTo>
                <a:lnTo>
                  <a:pt x="405" y="108"/>
                </a:lnTo>
                <a:lnTo>
                  <a:pt x="375" y="138"/>
                </a:lnTo>
                <a:lnTo>
                  <a:pt x="346" y="172"/>
                </a:lnTo>
                <a:lnTo>
                  <a:pt x="321" y="209"/>
                </a:lnTo>
                <a:lnTo>
                  <a:pt x="298" y="248"/>
                </a:lnTo>
                <a:lnTo>
                  <a:pt x="278" y="290"/>
                </a:lnTo>
                <a:lnTo>
                  <a:pt x="251" y="284"/>
                </a:lnTo>
                <a:lnTo>
                  <a:pt x="224" y="281"/>
                </a:lnTo>
                <a:lnTo>
                  <a:pt x="197" y="282"/>
                </a:lnTo>
                <a:lnTo>
                  <a:pt x="171" y="289"/>
                </a:lnTo>
                <a:lnTo>
                  <a:pt x="145" y="299"/>
                </a:lnTo>
                <a:lnTo>
                  <a:pt x="120" y="312"/>
                </a:lnTo>
                <a:lnTo>
                  <a:pt x="97" y="329"/>
                </a:lnTo>
                <a:lnTo>
                  <a:pt x="75" y="351"/>
                </a:lnTo>
                <a:lnTo>
                  <a:pt x="56" y="374"/>
                </a:lnTo>
                <a:lnTo>
                  <a:pt x="40" y="401"/>
                </a:lnTo>
                <a:lnTo>
                  <a:pt x="26" y="430"/>
                </a:lnTo>
                <a:lnTo>
                  <a:pt x="15" y="461"/>
                </a:lnTo>
                <a:lnTo>
                  <a:pt x="6" y="494"/>
                </a:lnTo>
                <a:lnTo>
                  <a:pt x="2" y="527"/>
                </a:lnTo>
                <a:lnTo>
                  <a:pt x="0" y="561"/>
                </a:lnTo>
                <a:lnTo>
                  <a:pt x="2" y="595"/>
                </a:lnTo>
                <a:lnTo>
                  <a:pt x="6" y="629"/>
                </a:lnTo>
                <a:lnTo>
                  <a:pt x="15" y="662"/>
                </a:lnTo>
                <a:lnTo>
                  <a:pt x="26" y="693"/>
                </a:lnTo>
                <a:lnTo>
                  <a:pt x="40" y="721"/>
                </a:lnTo>
                <a:lnTo>
                  <a:pt x="56" y="748"/>
                </a:lnTo>
                <a:lnTo>
                  <a:pt x="75" y="772"/>
                </a:lnTo>
                <a:lnTo>
                  <a:pt x="97" y="793"/>
                </a:lnTo>
                <a:lnTo>
                  <a:pt x="120" y="810"/>
                </a:lnTo>
                <a:lnTo>
                  <a:pt x="145" y="824"/>
                </a:lnTo>
                <a:lnTo>
                  <a:pt x="171" y="834"/>
                </a:lnTo>
                <a:lnTo>
                  <a:pt x="197" y="840"/>
                </a:lnTo>
                <a:lnTo>
                  <a:pt x="224" y="841"/>
                </a:lnTo>
                <a:lnTo>
                  <a:pt x="251" y="839"/>
                </a:lnTo>
                <a:lnTo>
                  <a:pt x="278" y="833"/>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629160" y="2994120"/>
            <a:ext cx="1171440" cy="8920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a:t>
            </a:r>
            <a:endParaRPr b="0" lang="en-US" sz="1800" spc="-1" strike="noStrike">
              <a:solidFill>
                <a:srgbClr val="000000"/>
              </a:solidFill>
              <a:latin typeface="Times New Roman"/>
            </a:endParaRPr>
          </a:p>
        </p:txBody>
      </p:sp>
      <p:grpSp>
        <p:nvGrpSpPr>
          <p:cNvPr id="1310" name=""/>
          <p:cNvGrpSpPr/>
          <p:nvPr/>
        </p:nvGrpSpPr>
        <p:grpSpPr>
          <a:xfrm>
            <a:off x="5028840" y="2286000"/>
            <a:ext cx="2214360" cy="1182240"/>
            <a:chOff x="5028840" y="2286000"/>
            <a:chExt cx="2214360" cy="1182240"/>
          </a:xfrm>
        </p:grpSpPr>
        <p:sp>
          <p:nvSpPr>
            <p:cNvPr id="1311" name=""/>
            <p:cNvSpPr/>
            <p:nvPr/>
          </p:nvSpPr>
          <p:spPr>
            <a:xfrm flipH="1">
              <a:off x="5028480" y="2286000"/>
              <a:ext cx="2214360" cy="1182240"/>
            </a:xfrm>
            <a:custGeom>
              <a:avLst/>
              <a:gdLst/>
              <a:ahLst/>
              <a:rect l="l" t="t" r="r" b="b"/>
              <a:pathLst>
                <a:path w="1888" h="1122">
                  <a:moveTo>
                    <a:pt x="278" y="833"/>
                  </a:moveTo>
                  <a:lnTo>
                    <a:pt x="298" y="874"/>
                  </a:lnTo>
                  <a:lnTo>
                    <a:pt x="321" y="914"/>
                  </a:lnTo>
                  <a:lnTo>
                    <a:pt x="346" y="950"/>
                  </a:lnTo>
                  <a:lnTo>
                    <a:pt x="375" y="984"/>
                  </a:lnTo>
                  <a:lnTo>
                    <a:pt x="405" y="1014"/>
                  </a:lnTo>
                  <a:lnTo>
                    <a:pt x="437" y="1041"/>
                  </a:lnTo>
                  <a:lnTo>
                    <a:pt x="470" y="1064"/>
                  </a:lnTo>
                  <a:lnTo>
                    <a:pt x="506" y="1085"/>
                  </a:lnTo>
                  <a:lnTo>
                    <a:pt x="543" y="1100"/>
                  </a:lnTo>
                  <a:lnTo>
                    <a:pt x="580" y="1111"/>
                  </a:lnTo>
                  <a:lnTo>
                    <a:pt x="618" y="1119"/>
                  </a:lnTo>
                  <a:lnTo>
                    <a:pt x="657" y="1122"/>
                  </a:lnTo>
                  <a:lnTo>
                    <a:pt x="696" y="1121"/>
                  </a:lnTo>
                  <a:lnTo>
                    <a:pt x="734" y="1116"/>
                  </a:lnTo>
                  <a:lnTo>
                    <a:pt x="772" y="1106"/>
                  </a:lnTo>
                  <a:lnTo>
                    <a:pt x="809" y="1092"/>
                  </a:lnTo>
                  <a:lnTo>
                    <a:pt x="845" y="1075"/>
                  </a:lnTo>
                  <a:lnTo>
                    <a:pt x="880" y="1053"/>
                  </a:lnTo>
                  <a:lnTo>
                    <a:pt x="913" y="1028"/>
                  </a:lnTo>
                  <a:lnTo>
                    <a:pt x="945" y="999"/>
                  </a:lnTo>
                  <a:lnTo>
                    <a:pt x="975" y="1028"/>
                  </a:lnTo>
                  <a:lnTo>
                    <a:pt x="1008" y="1053"/>
                  </a:lnTo>
                  <a:lnTo>
                    <a:pt x="1043" y="1075"/>
                  </a:lnTo>
                  <a:lnTo>
                    <a:pt x="1080" y="1092"/>
                  </a:lnTo>
                  <a:lnTo>
                    <a:pt x="1116" y="1106"/>
                  </a:lnTo>
                  <a:lnTo>
                    <a:pt x="1154" y="1116"/>
                  </a:lnTo>
                  <a:lnTo>
                    <a:pt x="1192" y="1121"/>
                  </a:lnTo>
                  <a:lnTo>
                    <a:pt x="1232" y="1122"/>
                  </a:lnTo>
                  <a:lnTo>
                    <a:pt x="1270" y="1119"/>
                  </a:lnTo>
                  <a:lnTo>
                    <a:pt x="1308" y="1111"/>
                  </a:lnTo>
                  <a:lnTo>
                    <a:pt x="1345" y="1100"/>
                  </a:lnTo>
                  <a:lnTo>
                    <a:pt x="1382" y="1085"/>
                  </a:lnTo>
                  <a:lnTo>
                    <a:pt x="1418" y="1064"/>
                  </a:lnTo>
                  <a:lnTo>
                    <a:pt x="1451" y="1041"/>
                  </a:lnTo>
                  <a:lnTo>
                    <a:pt x="1483" y="1014"/>
                  </a:lnTo>
                  <a:lnTo>
                    <a:pt x="1514" y="984"/>
                  </a:lnTo>
                  <a:lnTo>
                    <a:pt x="1542" y="950"/>
                  </a:lnTo>
                  <a:lnTo>
                    <a:pt x="1567" y="914"/>
                  </a:lnTo>
                  <a:lnTo>
                    <a:pt x="1590" y="874"/>
                  </a:lnTo>
                  <a:lnTo>
                    <a:pt x="1610" y="833"/>
                  </a:lnTo>
                  <a:lnTo>
                    <a:pt x="1637" y="839"/>
                  </a:lnTo>
                  <a:lnTo>
                    <a:pt x="1664" y="841"/>
                  </a:lnTo>
                  <a:lnTo>
                    <a:pt x="1691" y="840"/>
                  </a:lnTo>
                  <a:lnTo>
                    <a:pt x="1717" y="834"/>
                  </a:lnTo>
                  <a:lnTo>
                    <a:pt x="1743" y="824"/>
                  </a:lnTo>
                  <a:lnTo>
                    <a:pt x="1768" y="810"/>
                  </a:lnTo>
                  <a:lnTo>
                    <a:pt x="1792" y="793"/>
                  </a:lnTo>
                  <a:lnTo>
                    <a:pt x="1813" y="772"/>
                  </a:lnTo>
                  <a:lnTo>
                    <a:pt x="1832" y="748"/>
                  </a:lnTo>
                  <a:lnTo>
                    <a:pt x="1848" y="721"/>
                  </a:lnTo>
                  <a:lnTo>
                    <a:pt x="1862" y="693"/>
                  </a:lnTo>
                  <a:lnTo>
                    <a:pt x="1873" y="662"/>
                  </a:lnTo>
                  <a:lnTo>
                    <a:pt x="1882" y="629"/>
                  </a:lnTo>
                  <a:lnTo>
                    <a:pt x="1886" y="595"/>
                  </a:lnTo>
                  <a:lnTo>
                    <a:pt x="1888" y="561"/>
                  </a:lnTo>
                  <a:lnTo>
                    <a:pt x="1886" y="527"/>
                  </a:lnTo>
                  <a:lnTo>
                    <a:pt x="1882" y="494"/>
                  </a:lnTo>
                  <a:lnTo>
                    <a:pt x="1873" y="461"/>
                  </a:lnTo>
                  <a:lnTo>
                    <a:pt x="1862" y="430"/>
                  </a:lnTo>
                  <a:lnTo>
                    <a:pt x="1848" y="401"/>
                  </a:lnTo>
                  <a:lnTo>
                    <a:pt x="1832" y="374"/>
                  </a:lnTo>
                  <a:lnTo>
                    <a:pt x="1813" y="351"/>
                  </a:lnTo>
                  <a:lnTo>
                    <a:pt x="1792" y="329"/>
                  </a:lnTo>
                  <a:lnTo>
                    <a:pt x="1768" y="312"/>
                  </a:lnTo>
                  <a:lnTo>
                    <a:pt x="1743" y="299"/>
                  </a:lnTo>
                  <a:lnTo>
                    <a:pt x="1717" y="289"/>
                  </a:lnTo>
                  <a:lnTo>
                    <a:pt x="1691" y="282"/>
                  </a:lnTo>
                  <a:lnTo>
                    <a:pt x="1664" y="281"/>
                  </a:lnTo>
                  <a:lnTo>
                    <a:pt x="1637" y="284"/>
                  </a:lnTo>
                  <a:lnTo>
                    <a:pt x="1610" y="290"/>
                  </a:lnTo>
                  <a:lnTo>
                    <a:pt x="1590" y="248"/>
                  </a:lnTo>
                  <a:lnTo>
                    <a:pt x="1567" y="209"/>
                  </a:lnTo>
                  <a:lnTo>
                    <a:pt x="1542" y="172"/>
                  </a:lnTo>
                  <a:lnTo>
                    <a:pt x="1514" y="138"/>
                  </a:lnTo>
                  <a:lnTo>
                    <a:pt x="1483" y="108"/>
                  </a:lnTo>
                  <a:lnTo>
                    <a:pt x="1451" y="82"/>
                  </a:lnTo>
                  <a:lnTo>
                    <a:pt x="1418" y="58"/>
                  </a:lnTo>
                  <a:lnTo>
                    <a:pt x="1382" y="38"/>
                  </a:lnTo>
                  <a:lnTo>
                    <a:pt x="1345" y="23"/>
                  </a:lnTo>
                  <a:lnTo>
                    <a:pt x="1308" y="11"/>
                  </a:lnTo>
                  <a:lnTo>
                    <a:pt x="1270" y="4"/>
                  </a:lnTo>
                  <a:lnTo>
                    <a:pt x="1232" y="0"/>
                  </a:lnTo>
                  <a:lnTo>
                    <a:pt x="1192" y="2"/>
                  </a:lnTo>
                  <a:lnTo>
                    <a:pt x="1154" y="7"/>
                  </a:lnTo>
                  <a:lnTo>
                    <a:pt x="1116" y="17"/>
                  </a:lnTo>
                  <a:lnTo>
                    <a:pt x="1080" y="30"/>
                  </a:lnTo>
                  <a:lnTo>
                    <a:pt x="1043" y="47"/>
                  </a:lnTo>
                  <a:lnTo>
                    <a:pt x="1008" y="70"/>
                  </a:lnTo>
                  <a:lnTo>
                    <a:pt x="975" y="94"/>
                  </a:lnTo>
                  <a:lnTo>
                    <a:pt x="945" y="123"/>
                  </a:lnTo>
                  <a:lnTo>
                    <a:pt x="913" y="94"/>
                  </a:lnTo>
                  <a:lnTo>
                    <a:pt x="880" y="70"/>
                  </a:lnTo>
                  <a:lnTo>
                    <a:pt x="845" y="47"/>
                  </a:lnTo>
                  <a:lnTo>
                    <a:pt x="809" y="30"/>
                  </a:lnTo>
                  <a:lnTo>
                    <a:pt x="772" y="17"/>
                  </a:lnTo>
                  <a:lnTo>
                    <a:pt x="734" y="7"/>
                  </a:lnTo>
                  <a:lnTo>
                    <a:pt x="696" y="2"/>
                  </a:lnTo>
                  <a:lnTo>
                    <a:pt x="657" y="0"/>
                  </a:lnTo>
                  <a:lnTo>
                    <a:pt x="618" y="4"/>
                  </a:lnTo>
                  <a:lnTo>
                    <a:pt x="580" y="11"/>
                  </a:lnTo>
                  <a:lnTo>
                    <a:pt x="543" y="23"/>
                  </a:lnTo>
                  <a:lnTo>
                    <a:pt x="506" y="38"/>
                  </a:lnTo>
                  <a:lnTo>
                    <a:pt x="470" y="58"/>
                  </a:lnTo>
                  <a:lnTo>
                    <a:pt x="437" y="82"/>
                  </a:lnTo>
                  <a:lnTo>
                    <a:pt x="405" y="108"/>
                  </a:lnTo>
                  <a:lnTo>
                    <a:pt x="375" y="138"/>
                  </a:lnTo>
                  <a:lnTo>
                    <a:pt x="346" y="172"/>
                  </a:lnTo>
                  <a:lnTo>
                    <a:pt x="321" y="209"/>
                  </a:lnTo>
                  <a:lnTo>
                    <a:pt x="298" y="248"/>
                  </a:lnTo>
                  <a:lnTo>
                    <a:pt x="278" y="290"/>
                  </a:lnTo>
                  <a:lnTo>
                    <a:pt x="251" y="284"/>
                  </a:lnTo>
                  <a:lnTo>
                    <a:pt x="224" y="281"/>
                  </a:lnTo>
                  <a:lnTo>
                    <a:pt x="197" y="282"/>
                  </a:lnTo>
                  <a:lnTo>
                    <a:pt x="171" y="289"/>
                  </a:lnTo>
                  <a:lnTo>
                    <a:pt x="145" y="299"/>
                  </a:lnTo>
                  <a:lnTo>
                    <a:pt x="120" y="312"/>
                  </a:lnTo>
                  <a:lnTo>
                    <a:pt x="97" y="329"/>
                  </a:lnTo>
                  <a:lnTo>
                    <a:pt x="75" y="351"/>
                  </a:lnTo>
                  <a:lnTo>
                    <a:pt x="56" y="374"/>
                  </a:lnTo>
                  <a:lnTo>
                    <a:pt x="40" y="401"/>
                  </a:lnTo>
                  <a:lnTo>
                    <a:pt x="26" y="430"/>
                  </a:lnTo>
                  <a:lnTo>
                    <a:pt x="15" y="461"/>
                  </a:lnTo>
                  <a:lnTo>
                    <a:pt x="6" y="494"/>
                  </a:lnTo>
                  <a:lnTo>
                    <a:pt x="2" y="527"/>
                  </a:lnTo>
                  <a:lnTo>
                    <a:pt x="0" y="561"/>
                  </a:lnTo>
                  <a:lnTo>
                    <a:pt x="2" y="595"/>
                  </a:lnTo>
                  <a:lnTo>
                    <a:pt x="6" y="629"/>
                  </a:lnTo>
                  <a:lnTo>
                    <a:pt x="15" y="662"/>
                  </a:lnTo>
                  <a:lnTo>
                    <a:pt x="26" y="693"/>
                  </a:lnTo>
                  <a:lnTo>
                    <a:pt x="40" y="721"/>
                  </a:lnTo>
                  <a:lnTo>
                    <a:pt x="56" y="748"/>
                  </a:lnTo>
                  <a:lnTo>
                    <a:pt x="75" y="772"/>
                  </a:lnTo>
                  <a:lnTo>
                    <a:pt x="97" y="793"/>
                  </a:lnTo>
                  <a:lnTo>
                    <a:pt x="120" y="810"/>
                  </a:lnTo>
                  <a:lnTo>
                    <a:pt x="145" y="824"/>
                  </a:lnTo>
                  <a:lnTo>
                    <a:pt x="171" y="834"/>
                  </a:lnTo>
                  <a:lnTo>
                    <a:pt x="197" y="840"/>
                  </a:lnTo>
                  <a:lnTo>
                    <a:pt x="224" y="841"/>
                  </a:lnTo>
                  <a:lnTo>
                    <a:pt x="251" y="839"/>
                  </a:lnTo>
                  <a:lnTo>
                    <a:pt x="278" y="833"/>
                  </a:lnTo>
                  <a:close/>
                </a:path>
              </a:pathLst>
            </a:custGeom>
            <a:gradFill rotWithShape="0">
              <a:gsLst>
                <a:gs pos="0">
                  <a:srgbClr val="0047ff"/>
                </a:gs>
                <a:gs pos="100000">
                  <a:srgbClr val="0000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5763600" y="257616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a:t>
              </a:r>
              <a:endParaRPr b="0" lang="en-US" sz="1800" spc="-1" strike="noStrike">
                <a:solidFill>
                  <a:srgbClr val="000000"/>
                </a:solidFill>
                <a:latin typeface="Times New Roman"/>
              </a:endParaRPr>
            </a:p>
          </p:txBody>
        </p:sp>
      </p:grpSp>
      <p:sp>
        <p:nvSpPr>
          <p:cNvPr id="1313" name=""/>
          <p:cNvSpPr/>
          <p:nvPr/>
        </p:nvSpPr>
        <p:spPr>
          <a:xfrm>
            <a:off x="4267080" y="4843440"/>
            <a:ext cx="2457720" cy="1328760"/>
          </a:xfrm>
          <a:custGeom>
            <a:avLst/>
            <a:gdLst/>
            <a:ahLst/>
            <a:rect l="l" t="t" r="r" b="b"/>
            <a:pathLst>
              <a:path w="1888" h="1122">
                <a:moveTo>
                  <a:pt x="278" y="833"/>
                </a:moveTo>
                <a:lnTo>
                  <a:pt x="298" y="874"/>
                </a:lnTo>
                <a:lnTo>
                  <a:pt x="321" y="914"/>
                </a:lnTo>
                <a:lnTo>
                  <a:pt x="346" y="950"/>
                </a:lnTo>
                <a:lnTo>
                  <a:pt x="375" y="984"/>
                </a:lnTo>
                <a:lnTo>
                  <a:pt x="405" y="1014"/>
                </a:lnTo>
                <a:lnTo>
                  <a:pt x="437" y="1041"/>
                </a:lnTo>
                <a:lnTo>
                  <a:pt x="470" y="1064"/>
                </a:lnTo>
                <a:lnTo>
                  <a:pt x="506" y="1085"/>
                </a:lnTo>
                <a:lnTo>
                  <a:pt x="543" y="1100"/>
                </a:lnTo>
                <a:lnTo>
                  <a:pt x="580" y="1111"/>
                </a:lnTo>
                <a:lnTo>
                  <a:pt x="618" y="1119"/>
                </a:lnTo>
                <a:lnTo>
                  <a:pt x="657" y="1122"/>
                </a:lnTo>
                <a:lnTo>
                  <a:pt x="696" y="1121"/>
                </a:lnTo>
                <a:lnTo>
                  <a:pt x="734" y="1116"/>
                </a:lnTo>
                <a:lnTo>
                  <a:pt x="772" y="1106"/>
                </a:lnTo>
                <a:lnTo>
                  <a:pt x="809" y="1092"/>
                </a:lnTo>
                <a:lnTo>
                  <a:pt x="845" y="1075"/>
                </a:lnTo>
                <a:lnTo>
                  <a:pt x="880" y="1053"/>
                </a:lnTo>
                <a:lnTo>
                  <a:pt x="913" y="1028"/>
                </a:lnTo>
                <a:lnTo>
                  <a:pt x="945" y="999"/>
                </a:lnTo>
                <a:lnTo>
                  <a:pt x="975" y="1028"/>
                </a:lnTo>
                <a:lnTo>
                  <a:pt x="1008" y="1053"/>
                </a:lnTo>
                <a:lnTo>
                  <a:pt x="1043" y="1075"/>
                </a:lnTo>
                <a:lnTo>
                  <a:pt x="1080" y="1092"/>
                </a:lnTo>
                <a:lnTo>
                  <a:pt x="1116" y="1106"/>
                </a:lnTo>
                <a:lnTo>
                  <a:pt x="1154" y="1116"/>
                </a:lnTo>
                <a:lnTo>
                  <a:pt x="1192" y="1121"/>
                </a:lnTo>
                <a:lnTo>
                  <a:pt x="1232" y="1122"/>
                </a:lnTo>
                <a:lnTo>
                  <a:pt x="1270" y="1119"/>
                </a:lnTo>
                <a:lnTo>
                  <a:pt x="1308" y="1111"/>
                </a:lnTo>
                <a:lnTo>
                  <a:pt x="1345" y="1100"/>
                </a:lnTo>
                <a:lnTo>
                  <a:pt x="1382" y="1085"/>
                </a:lnTo>
                <a:lnTo>
                  <a:pt x="1418" y="1064"/>
                </a:lnTo>
                <a:lnTo>
                  <a:pt x="1451" y="1041"/>
                </a:lnTo>
                <a:lnTo>
                  <a:pt x="1483" y="1014"/>
                </a:lnTo>
                <a:lnTo>
                  <a:pt x="1514" y="984"/>
                </a:lnTo>
                <a:lnTo>
                  <a:pt x="1542" y="950"/>
                </a:lnTo>
                <a:lnTo>
                  <a:pt x="1567" y="914"/>
                </a:lnTo>
                <a:lnTo>
                  <a:pt x="1590" y="874"/>
                </a:lnTo>
                <a:lnTo>
                  <a:pt x="1610" y="833"/>
                </a:lnTo>
                <a:lnTo>
                  <a:pt x="1637" y="839"/>
                </a:lnTo>
                <a:lnTo>
                  <a:pt x="1664" y="841"/>
                </a:lnTo>
                <a:lnTo>
                  <a:pt x="1691" y="840"/>
                </a:lnTo>
                <a:lnTo>
                  <a:pt x="1717" y="834"/>
                </a:lnTo>
                <a:lnTo>
                  <a:pt x="1743" y="824"/>
                </a:lnTo>
                <a:lnTo>
                  <a:pt x="1768" y="810"/>
                </a:lnTo>
                <a:lnTo>
                  <a:pt x="1792" y="793"/>
                </a:lnTo>
                <a:lnTo>
                  <a:pt x="1813" y="772"/>
                </a:lnTo>
                <a:lnTo>
                  <a:pt x="1832" y="748"/>
                </a:lnTo>
                <a:lnTo>
                  <a:pt x="1848" y="721"/>
                </a:lnTo>
                <a:lnTo>
                  <a:pt x="1862" y="693"/>
                </a:lnTo>
                <a:lnTo>
                  <a:pt x="1873" y="662"/>
                </a:lnTo>
                <a:lnTo>
                  <a:pt x="1882" y="629"/>
                </a:lnTo>
                <a:lnTo>
                  <a:pt x="1886" y="595"/>
                </a:lnTo>
                <a:lnTo>
                  <a:pt x="1888" y="561"/>
                </a:lnTo>
                <a:lnTo>
                  <a:pt x="1886" y="527"/>
                </a:lnTo>
                <a:lnTo>
                  <a:pt x="1882" y="494"/>
                </a:lnTo>
                <a:lnTo>
                  <a:pt x="1873" y="461"/>
                </a:lnTo>
                <a:lnTo>
                  <a:pt x="1862" y="430"/>
                </a:lnTo>
                <a:lnTo>
                  <a:pt x="1848" y="401"/>
                </a:lnTo>
                <a:lnTo>
                  <a:pt x="1832" y="374"/>
                </a:lnTo>
                <a:lnTo>
                  <a:pt x="1813" y="351"/>
                </a:lnTo>
                <a:lnTo>
                  <a:pt x="1792" y="329"/>
                </a:lnTo>
                <a:lnTo>
                  <a:pt x="1768" y="312"/>
                </a:lnTo>
                <a:lnTo>
                  <a:pt x="1743" y="299"/>
                </a:lnTo>
                <a:lnTo>
                  <a:pt x="1717" y="289"/>
                </a:lnTo>
                <a:lnTo>
                  <a:pt x="1691" y="282"/>
                </a:lnTo>
                <a:lnTo>
                  <a:pt x="1664" y="281"/>
                </a:lnTo>
                <a:lnTo>
                  <a:pt x="1637" y="284"/>
                </a:lnTo>
                <a:lnTo>
                  <a:pt x="1610" y="290"/>
                </a:lnTo>
                <a:lnTo>
                  <a:pt x="1590" y="248"/>
                </a:lnTo>
                <a:lnTo>
                  <a:pt x="1567" y="209"/>
                </a:lnTo>
                <a:lnTo>
                  <a:pt x="1542" y="172"/>
                </a:lnTo>
                <a:lnTo>
                  <a:pt x="1514" y="138"/>
                </a:lnTo>
                <a:lnTo>
                  <a:pt x="1483" y="108"/>
                </a:lnTo>
                <a:lnTo>
                  <a:pt x="1451" y="82"/>
                </a:lnTo>
                <a:lnTo>
                  <a:pt x="1418" y="58"/>
                </a:lnTo>
                <a:lnTo>
                  <a:pt x="1382" y="38"/>
                </a:lnTo>
                <a:lnTo>
                  <a:pt x="1345" y="23"/>
                </a:lnTo>
                <a:lnTo>
                  <a:pt x="1308" y="11"/>
                </a:lnTo>
                <a:lnTo>
                  <a:pt x="1270" y="4"/>
                </a:lnTo>
                <a:lnTo>
                  <a:pt x="1232" y="0"/>
                </a:lnTo>
                <a:lnTo>
                  <a:pt x="1192" y="2"/>
                </a:lnTo>
                <a:lnTo>
                  <a:pt x="1154" y="7"/>
                </a:lnTo>
                <a:lnTo>
                  <a:pt x="1116" y="17"/>
                </a:lnTo>
                <a:lnTo>
                  <a:pt x="1080" y="30"/>
                </a:lnTo>
                <a:lnTo>
                  <a:pt x="1043" y="47"/>
                </a:lnTo>
                <a:lnTo>
                  <a:pt x="1008" y="70"/>
                </a:lnTo>
                <a:lnTo>
                  <a:pt x="975" y="94"/>
                </a:lnTo>
                <a:lnTo>
                  <a:pt x="945" y="123"/>
                </a:lnTo>
                <a:lnTo>
                  <a:pt x="913" y="94"/>
                </a:lnTo>
                <a:lnTo>
                  <a:pt x="880" y="70"/>
                </a:lnTo>
                <a:lnTo>
                  <a:pt x="845" y="47"/>
                </a:lnTo>
                <a:lnTo>
                  <a:pt x="809" y="30"/>
                </a:lnTo>
                <a:lnTo>
                  <a:pt x="772" y="17"/>
                </a:lnTo>
                <a:lnTo>
                  <a:pt x="734" y="7"/>
                </a:lnTo>
                <a:lnTo>
                  <a:pt x="696" y="2"/>
                </a:lnTo>
                <a:lnTo>
                  <a:pt x="657" y="0"/>
                </a:lnTo>
                <a:lnTo>
                  <a:pt x="618" y="4"/>
                </a:lnTo>
                <a:lnTo>
                  <a:pt x="580" y="11"/>
                </a:lnTo>
                <a:lnTo>
                  <a:pt x="543" y="23"/>
                </a:lnTo>
                <a:lnTo>
                  <a:pt x="506" y="38"/>
                </a:lnTo>
                <a:lnTo>
                  <a:pt x="470" y="58"/>
                </a:lnTo>
                <a:lnTo>
                  <a:pt x="437" y="82"/>
                </a:lnTo>
                <a:lnTo>
                  <a:pt x="405" y="108"/>
                </a:lnTo>
                <a:lnTo>
                  <a:pt x="375" y="138"/>
                </a:lnTo>
                <a:lnTo>
                  <a:pt x="346" y="172"/>
                </a:lnTo>
                <a:lnTo>
                  <a:pt x="321" y="209"/>
                </a:lnTo>
                <a:lnTo>
                  <a:pt x="298" y="248"/>
                </a:lnTo>
                <a:lnTo>
                  <a:pt x="278" y="290"/>
                </a:lnTo>
                <a:lnTo>
                  <a:pt x="251" y="284"/>
                </a:lnTo>
                <a:lnTo>
                  <a:pt x="224" y="281"/>
                </a:lnTo>
                <a:lnTo>
                  <a:pt x="197" y="282"/>
                </a:lnTo>
                <a:lnTo>
                  <a:pt x="171" y="289"/>
                </a:lnTo>
                <a:lnTo>
                  <a:pt x="145" y="299"/>
                </a:lnTo>
                <a:lnTo>
                  <a:pt x="120" y="312"/>
                </a:lnTo>
                <a:lnTo>
                  <a:pt x="97" y="329"/>
                </a:lnTo>
                <a:lnTo>
                  <a:pt x="75" y="351"/>
                </a:lnTo>
                <a:lnTo>
                  <a:pt x="56" y="374"/>
                </a:lnTo>
                <a:lnTo>
                  <a:pt x="40" y="401"/>
                </a:lnTo>
                <a:lnTo>
                  <a:pt x="26" y="430"/>
                </a:lnTo>
                <a:lnTo>
                  <a:pt x="15" y="461"/>
                </a:lnTo>
                <a:lnTo>
                  <a:pt x="6" y="494"/>
                </a:lnTo>
                <a:lnTo>
                  <a:pt x="2" y="527"/>
                </a:lnTo>
                <a:lnTo>
                  <a:pt x="0" y="561"/>
                </a:lnTo>
                <a:lnTo>
                  <a:pt x="2" y="595"/>
                </a:lnTo>
                <a:lnTo>
                  <a:pt x="6" y="629"/>
                </a:lnTo>
                <a:lnTo>
                  <a:pt x="15" y="662"/>
                </a:lnTo>
                <a:lnTo>
                  <a:pt x="26" y="693"/>
                </a:lnTo>
                <a:lnTo>
                  <a:pt x="40" y="721"/>
                </a:lnTo>
                <a:lnTo>
                  <a:pt x="56" y="748"/>
                </a:lnTo>
                <a:lnTo>
                  <a:pt x="75" y="772"/>
                </a:lnTo>
                <a:lnTo>
                  <a:pt x="97" y="793"/>
                </a:lnTo>
                <a:lnTo>
                  <a:pt x="120" y="810"/>
                </a:lnTo>
                <a:lnTo>
                  <a:pt x="145" y="824"/>
                </a:lnTo>
                <a:lnTo>
                  <a:pt x="171" y="834"/>
                </a:lnTo>
                <a:lnTo>
                  <a:pt x="197" y="840"/>
                </a:lnTo>
                <a:lnTo>
                  <a:pt x="224" y="841"/>
                </a:lnTo>
                <a:lnTo>
                  <a:pt x="251" y="839"/>
                </a:lnTo>
                <a:lnTo>
                  <a:pt x="278" y="833"/>
                </a:lnTo>
                <a:close/>
              </a:path>
            </a:pathLst>
          </a:custGeom>
          <a:gradFill rotWithShape="0">
            <a:gsLst>
              <a:gs pos="0">
                <a:srgbClr val="ccccff"/>
              </a:gs>
              <a:gs pos="100000">
                <a:srgbClr val="acac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4505400" y="5280120"/>
            <a:ext cx="2170080" cy="398880"/>
          </a:xfrm>
          <a:prstGeom prst="rect">
            <a:avLst/>
          </a:prstGeom>
          <a:gradFill rotWithShape="0">
            <a:gsLst>
              <a:gs pos="0">
                <a:srgbClr val="ccccff"/>
              </a:gs>
              <a:gs pos="100000">
                <a:srgbClr val="acacd7"/>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Internet</a:t>
            </a:r>
            <a:endParaRPr b="0" lang="en-US" sz="2000" spc="-1" strike="noStrike">
              <a:solidFill>
                <a:srgbClr val="000000"/>
              </a:solidFill>
              <a:latin typeface="Times New Roman"/>
            </a:endParaRPr>
          </a:p>
        </p:txBody>
      </p:sp>
      <p:sp>
        <p:nvSpPr>
          <p:cNvPr id="1315" name=""/>
          <p:cNvSpPr/>
          <p:nvPr/>
        </p:nvSpPr>
        <p:spPr>
          <a:xfrm>
            <a:off x="3184560" y="1219320"/>
            <a:ext cx="2392200" cy="1563480"/>
          </a:xfrm>
          <a:prstGeom prst="irregularSeal1">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iguration</a:t>
            </a:r>
            <a:endParaRPr b="0" lang="en-US" sz="1800" spc="-1" strike="noStrike">
              <a:solidFill>
                <a:srgbClr val="000000"/>
              </a:solidFill>
              <a:latin typeface="Times New Roman"/>
            </a:endParaRPr>
          </a:p>
        </p:txBody>
      </p:sp>
      <p:pic>
        <p:nvPicPr>
          <p:cNvPr id="1316" name="fax" descr=""/>
          <p:cNvPicPr/>
          <p:nvPr/>
        </p:nvPicPr>
        <p:blipFill>
          <a:blip r:embed="rId1"/>
          <a:stretch/>
        </p:blipFill>
        <p:spPr>
          <a:xfrm>
            <a:off x="1371600" y="1577880"/>
            <a:ext cx="1273320" cy="1060560"/>
          </a:xfrm>
          <a:prstGeom prst="rect">
            <a:avLst/>
          </a:prstGeom>
          <a:ln w="0">
            <a:noFill/>
          </a:ln>
          <a:effectLst>
            <a:outerShdw dist="63504" dir="3183908" blurRad="0" rotWithShape="0">
              <a:srgbClr val="808080">
                <a:alpha val="50000"/>
              </a:srgbClr>
            </a:outerShdw>
          </a:effectLst>
        </p:spPr>
      </p:pic>
      <p:pic>
        <p:nvPicPr>
          <p:cNvPr id="1317" name="game" descr=""/>
          <p:cNvPicPr/>
          <p:nvPr/>
        </p:nvPicPr>
        <p:blipFill>
          <a:blip r:embed="rId2"/>
          <a:stretch/>
        </p:blipFill>
        <p:spPr>
          <a:xfrm>
            <a:off x="1434960" y="3638520"/>
            <a:ext cx="1209960" cy="1098720"/>
          </a:xfrm>
          <a:prstGeom prst="rect">
            <a:avLst/>
          </a:prstGeom>
          <a:ln w="0">
            <a:noFill/>
          </a:ln>
          <a:effectLst>
            <a:outerShdw dist="63504" dir="3183908" blurRad="0" rotWithShape="0">
              <a:srgbClr val="808080">
                <a:alpha val="50000"/>
              </a:srgbClr>
            </a:outerShdw>
          </a:effectLst>
        </p:spPr>
      </p:pic>
      <p:pic>
        <p:nvPicPr>
          <p:cNvPr id="1318" name="toys" descr=""/>
          <p:cNvPicPr/>
          <p:nvPr/>
        </p:nvPicPr>
        <p:blipFill>
          <a:blip r:embed="rId3"/>
          <a:stretch/>
        </p:blipFill>
        <p:spPr>
          <a:xfrm>
            <a:off x="1568520" y="2746440"/>
            <a:ext cx="1076400" cy="922320"/>
          </a:xfrm>
          <a:prstGeom prst="rect">
            <a:avLst/>
          </a:prstGeom>
          <a:ln w="0">
            <a:noFill/>
          </a:ln>
          <a:effectLst>
            <a:outerShdw dist="63504" dir="3183908" blurRad="0" rotWithShape="0">
              <a:srgbClr val="808080">
                <a:alpha val="50000"/>
              </a:srgbClr>
            </a:outerShdw>
          </a:effectLst>
        </p:spPr>
      </p:pic>
      <p:pic>
        <p:nvPicPr>
          <p:cNvPr id="1319" name="answer" descr=""/>
          <p:cNvPicPr/>
          <p:nvPr/>
        </p:nvPicPr>
        <p:blipFill>
          <a:blip r:embed="rId4"/>
          <a:stretch/>
        </p:blipFill>
        <p:spPr>
          <a:xfrm flipH="1">
            <a:off x="1384200" y="4776840"/>
            <a:ext cx="1392480" cy="1039680"/>
          </a:xfrm>
          <a:prstGeom prst="rect">
            <a:avLst/>
          </a:prstGeom>
          <a:ln w="0">
            <a:noFill/>
          </a:ln>
          <a:effectLst>
            <a:outerShdw dist="63504" dir="3183908" blurRad="0" rotWithShape="0">
              <a:srgbClr val="808080">
                <a:alpha val="50000"/>
              </a:srgbClr>
            </a:outerShdw>
          </a:effectLst>
        </p:spPr>
      </p:pic>
      <p:sp>
        <p:nvSpPr>
          <p:cNvPr id="1320" name=""/>
          <p:cNvSpPr/>
          <p:nvPr/>
        </p:nvSpPr>
        <p:spPr>
          <a:xfrm>
            <a:off x="2112840" y="2298600"/>
            <a:ext cx="1440000" cy="88272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41720" y="3633480"/>
            <a:ext cx="1311120" cy="43020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216160" y="3181320"/>
            <a:ext cx="1311120" cy="18108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2241720" y="3816000"/>
            <a:ext cx="1517400" cy="131292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82160" y="152280"/>
            <a:ext cx="194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Terminals</a:t>
            </a:r>
            <a:endParaRPr b="0" lang="en-US" sz="2800" spc="-1" strike="noStrike">
              <a:solidFill>
                <a:srgbClr val="000000"/>
              </a:solidFill>
              <a:latin typeface="Times New Roman"/>
            </a:endParaRPr>
          </a:p>
        </p:txBody>
      </p:sp>
      <p:sp>
        <p:nvSpPr>
          <p:cNvPr id="1325" name=""/>
          <p:cNvSpPr/>
          <p:nvPr/>
        </p:nvSpPr>
        <p:spPr>
          <a:xfrm flipV="1">
            <a:off x="4876920" y="3047760"/>
            <a:ext cx="761760" cy="2286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3733920"/>
            <a:ext cx="914400" cy="129528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258840" y="1494000"/>
            <a:ext cx="5730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communication market between machines - Machine to Machine (M2M) is  very recent. Near 2010 the traffic volume will be greater than the traffic generates by human being. </a:t>
            </a:r>
            <a:r>
              <a:rPr b="1" lang="en-US" sz="1400" spc="-1" strike="noStrike">
                <a:solidFill>
                  <a:srgbClr val="000000"/>
                </a:solidFill>
                <a:latin typeface="Arial"/>
              </a:rPr>
              <a:t>Scientific Americ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the future the communications between the machines M2M will be done by sensors.</a:t>
            </a:r>
            <a:endParaRPr b="0" lang="en-US" sz="2000" spc="-1" strike="noStrike">
              <a:solidFill>
                <a:srgbClr val="000000"/>
              </a:solidFill>
              <a:latin typeface="Times New Roman"/>
            </a:endParaRPr>
          </a:p>
        </p:txBody>
      </p:sp>
      <p:pic>
        <p:nvPicPr>
          <p:cNvPr id="1328" name="greenchip" descr=""/>
          <p:cNvPicPr/>
          <p:nvPr/>
        </p:nvPicPr>
        <p:blipFill>
          <a:blip r:embed="rId1"/>
          <a:stretch/>
        </p:blipFill>
        <p:spPr>
          <a:xfrm>
            <a:off x="5915160" y="3438360"/>
            <a:ext cx="3076560" cy="2886120"/>
          </a:xfrm>
          <a:prstGeom prst="rect">
            <a:avLst/>
          </a:prstGeom>
          <a:ln w="0">
            <a:noFill/>
          </a:ln>
        </p:spPr>
      </p:pic>
      <p:sp>
        <p:nvSpPr>
          <p:cNvPr id="1329" name=""/>
          <p:cNvSpPr/>
          <p:nvPr/>
        </p:nvSpPr>
        <p:spPr>
          <a:xfrm>
            <a:off x="195120" y="0"/>
            <a:ext cx="3818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2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Machine-to-Mach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0" name="red%20gen%20d" descr=""/>
          <p:cNvPicPr/>
          <p:nvPr/>
        </p:nvPicPr>
        <p:blipFill>
          <a:blip r:embed="rId1"/>
          <a:stretch/>
        </p:blipFill>
        <p:spPr>
          <a:xfrm>
            <a:off x="762120" y="4038480"/>
            <a:ext cx="1828800" cy="771480"/>
          </a:xfrm>
          <a:prstGeom prst="rect">
            <a:avLst/>
          </a:prstGeom>
          <a:ln w="0">
            <a:noFill/>
          </a:ln>
        </p:spPr>
      </p:pic>
      <p:grpSp>
        <p:nvGrpSpPr>
          <p:cNvPr id="1331" name=""/>
          <p:cNvGrpSpPr/>
          <p:nvPr/>
        </p:nvGrpSpPr>
        <p:grpSpPr>
          <a:xfrm>
            <a:off x="838080" y="2057400"/>
            <a:ext cx="1676520" cy="1904760"/>
            <a:chOff x="838080" y="2057400"/>
            <a:chExt cx="1676520" cy="1904760"/>
          </a:xfrm>
        </p:grpSpPr>
        <p:sp>
          <p:nvSpPr>
            <p:cNvPr id="1332"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3" name="coolguy" descr=""/>
            <p:cNvPicPr/>
            <p:nvPr/>
          </p:nvPicPr>
          <p:blipFill>
            <a:blip r:embed="rId2"/>
            <a:srcRect l="9083" t="0" r="13635" b="0"/>
            <a:stretch/>
          </p:blipFill>
          <p:spPr>
            <a:xfrm>
              <a:off x="1015920" y="2480760"/>
              <a:ext cx="1295280" cy="1309320"/>
            </a:xfrm>
            <a:prstGeom prst="rect">
              <a:avLst/>
            </a:prstGeom>
            <a:ln w="0">
              <a:noFill/>
            </a:ln>
          </p:spPr>
        </p:pic>
        <p:pic>
          <p:nvPicPr>
            <p:cNvPr id="1334" name="logo" descr=""/>
            <p:cNvPicPr/>
            <p:nvPr/>
          </p:nvPicPr>
          <p:blipFill>
            <a:blip r:embed="rId3"/>
            <a:stretch/>
          </p:blipFill>
          <p:spPr>
            <a:xfrm>
              <a:off x="965160" y="2176200"/>
              <a:ext cx="1428840" cy="277560"/>
            </a:xfrm>
            <a:prstGeom prst="rect">
              <a:avLst/>
            </a:prstGeom>
            <a:ln w="0">
              <a:noFill/>
            </a:ln>
          </p:spPr>
        </p:pic>
      </p:grpSp>
      <p:sp>
        <p:nvSpPr>
          <p:cNvPr id="1335" name=""/>
          <p:cNvSpPr/>
          <p:nvPr/>
        </p:nvSpPr>
        <p:spPr>
          <a:xfrm>
            <a:off x="4114800" y="1600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ices</a:t>
            </a:r>
            <a:endParaRPr b="0" lang="en-US" sz="2400" spc="-1" strike="noStrike">
              <a:solidFill>
                <a:srgbClr val="000000"/>
              </a:solidFill>
              <a:latin typeface="Times New Roman"/>
            </a:endParaRPr>
          </a:p>
        </p:txBody>
      </p:sp>
      <p:sp>
        <p:nvSpPr>
          <p:cNvPr id="1336" name=""/>
          <p:cNvSpPr/>
          <p:nvPr/>
        </p:nvSpPr>
        <p:spPr>
          <a:xfrm>
            <a:off x="4114800" y="243828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Applications/Services</a:t>
            </a:r>
            <a:endParaRPr b="0" lang="en-US" sz="2400" spc="-1" strike="noStrike">
              <a:solidFill>
                <a:srgbClr val="000000"/>
              </a:solidFill>
              <a:latin typeface="Times New Roman"/>
            </a:endParaRPr>
          </a:p>
        </p:txBody>
      </p:sp>
      <p:sp>
        <p:nvSpPr>
          <p:cNvPr id="1337" name=""/>
          <p:cNvSpPr/>
          <p:nvPr/>
        </p:nvSpPr>
        <p:spPr>
          <a:xfrm>
            <a:off x="4114800" y="3276720"/>
            <a:ext cx="3429000" cy="761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Service Platform</a:t>
            </a:r>
            <a:endParaRPr b="0" lang="en-US" sz="2400" spc="-1" strike="noStrike">
              <a:solidFill>
                <a:srgbClr val="000000"/>
              </a:solidFill>
              <a:latin typeface="Times New Roman"/>
            </a:endParaRPr>
          </a:p>
        </p:txBody>
      </p:sp>
      <p:sp>
        <p:nvSpPr>
          <p:cNvPr id="1338" name=""/>
          <p:cNvSpPr/>
          <p:nvPr/>
        </p:nvSpPr>
        <p:spPr>
          <a:xfrm>
            <a:off x="4114800" y="41148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Basic IP Services</a:t>
            </a:r>
            <a:endParaRPr b="0" lang="en-US" sz="2400" spc="-1" strike="noStrike">
              <a:solidFill>
                <a:srgbClr val="000000"/>
              </a:solidFill>
              <a:latin typeface="Times New Roman"/>
            </a:endParaRPr>
          </a:p>
        </p:txBody>
      </p:sp>
      <p:sp>
        <p:nvSpPr>
          <p:cNvPr id="1339" name=""/>
          <p:cNvSpPr/>
          <p:nvPr/>
        </p:nvSpPr>
        <p:spPr>
          <a:xfrm>
            <a:off x="4114800" y="5029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a:t>
            </a:r>
            <a:endParaRPr b="0" lang="en-US" sz="2400" spc="-1" strike="noStrike">
              <a:solidFill>
                <a:srgbClr val="000000"/>
              </a:solidFill>
              <a:latin typeface="Times New Roman"/>
            </a:endParaRPr>
          </a:p>
        </p:txBody>
      </p:sp>
      <p:sp>
        <p:nvSpPr>
          <p:cNvPr id="1340" name=""/>
          <p:cNvSpPr/>
          <p:nvPr/>
        </p:nvSpPr>
        <p:spPr>
          <a:xfrm>
            <a:off x="762012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rot="16200000">
            <a:off x="6190200" y="3504600"/>
            <a:ext cx="37728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 Oper. Systems</a:t>
            </a:r>
            <a:endParaRPr b="0" lang="en-US" sz="2400" spc="-1" strike="noStrike">
              <a:solidFill>
                <a:srgbClr val="000000"/>
              </a:solidFill>
              <a:latin typeface="Times New Roman"/>
            </a:endParaRPr>
          </a:p>
        </p:txBody>
      </p:sp>
      <p:sp>
        <p:nvSpPr>
          <p:cNvPr id="1342" name=""/>
          <p:cNvSpPr/>
          <p:nvPr/>
        </p:nvSpPr>
        <p:spPr>
          <a:xfrm>
            <a:off x="3124080" y="1600200"/>
            <a:ext cx="914400" cy="4191120"/>
          </a:xfrm>
          <a:prstGeom prst="rect">
            <a:avLst/>
          </a:prstGeom>
          <a:gradFill rotWithShape="0">
            <a:gsLst>
              <a:gs pos="0">
                <a:srgbClr val="ffccff"/>
              </a:gs>
              <a:gs pos="100000">
                <a:srgbClr val="b18d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rot="16200000">
            <a:off x="1677960" y="3499560"/>
            <a:ext cx="365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ment Platform</a:t>
            </a:r>
            <a:endParaRPr b="0" lang="en-US" sz="2400" spc="-1" strike="noStrike">
              <a:solidFill>
                <a:srgbClr val="000000"/>
              </a:solidFill>
              <a:latin typeface="Times New Roman"/>
            </a:endParaRPr>
          </a:p>
        </p:txBody>
      </p:sp>
      <p:sp>
        <p:nvSpPr>
          <p:cNvPr id="1344"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
          <p:cNvSpPr/>
          <p:nvPr/>
        </p:nvSpPr>
        <p:spPr>
          <a:xfrm>
            <a:off x="990720" y="1752480"/>
            <a:ext cx="7772400" cy="4262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rge Libraries with search functions APIs</a:t>
            </a:r>
            <a:endParaRPr b="0" lang="en-US" sz="2400" spc="-1" strike="noStrike">
              <a:solidFill>
                <a:srgbClr val="000000"/>
              </a:solidFill>
              <a:latin typeface="Times New Roman"/>
            </a:endParaRPr>
          </a:p>
          <a:p>
            <a:pPr marL="230040" indent="-230040">
              <a:lnSpc>
                <a:spcPct val="1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DK’s- Software Development Kits</a:t>
            </a:r>
            <a:endParaRPr b="0" lang="en-US" sz="2400" spc="-1" strike="noStrike">
              <a:solidFill>
                <a:srgbClr val="000000"/>
              </a:solidFill>
              <a:latin typeface="Times New Roman"/>
            </a:endParaRPr>
          </a:p>
          <a:p>
            <a:pPr marL="230040" indent="-230040">
              <a:lnSpc>
                <a:spcPct val="1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etworks Standards</a:t>
            </a:r>
            <a:endParaRPr b="0" lang="en-US" sz="2400" spc="-1" strike="noStrike">
              <a:solidFill>
                <a:srgbClr val="000000"/>
              </a:solidFill>
              <a:latin typeface="Times New Roman"/>
            </a:endParaRPr>
          </a:p>
          <a:p>
            <a:pPr marL="230040" indent="-230040">
              <a:lnSpc>
                <a:spcPct val="1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rge test tools</a:t>
            </a:r>
            <a:endParaRPr b="0" lang="en-US" sz="2400" spc="-1" strike="noStrike">
              <a:solidFill>
                <a:srgbClr val="000000"/>
              </a:solidFill>
              <a:latin typeface="Times New Roman"/>
            </a:endParaRPr>
          </a:p>
          <a:p>
            <a:pPr marL="230040" indent="-230040">
              <a:lnSpc>
                <a:spcPct val="1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sk the Engineer” - help functions to the developer</a:t>
            </a:r>
            <a:endParaRPr b="0" lang="en-US" sz="2400" spc="-1" strike="noStrike">
              <a:solidFill>
                <a:srgbClr val="000000"/>
              </a:solidFill>
              <a:latin typeface="Times New Roman"/>
            </a:endParaRPr>
          </a:p>
        </p:txBody>
      </p:sp>
      <p:sp>
        <p:nvSpPr>
          <p:cNvPr id="1346" name=""/>
          <p:cNvSpPr/>
          <p:nvPr/>
        </p:nvSpPr>
        <p:spPr>
          <a:xfrm>
            <a:off x="116280" y="166680"/>
            <a:ext cx="422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Development Plat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red%20gen%20d" descr=""/>
          <p:cNvPicPr/>
          <p:nvPr/>
        </p:nvPicPr>
        <p:blipFill>
          <a:blip r:embed="rId1"/>
          <a:stretch/>
        </p:blipFill>
        <p:spPr>
          <a:xfrm>
            <a:off x="762120" y="4038480"/>
            <a:ext cx="1828800" cy="771480"/>
          </a:xfrm>
          <a:prstGeom prst="rect">
            <a:avLst/>
          </a:prstGeom>
          <a:ln w="0">
            <a:noFill/>
          </a:ln>
        </p:spPr>
      </p:pic>
      <p:grpSp>
        <p:nvGrpSpPr>
          <p:cNvPr id="1348" name=""/>
          <p:cNvGrpSpPr/>
          <p:nvPr/>
        </p:nvGrpSpPr>
        <p:grpSpPr>
          <a:xfrm>
            <a:off x="838080" y="2057400"/>
            <a:ext cx="1676520" cy="1904760"/>
            <a:chOff x="838080" y="2057400"/>
            <a:chExt cx="1676520" cy="1904760"/>
          </a:xfrm>
        </p:grpSpPr>
        <p:sp>
          <p:nvSpPr>
            <p:cNvPr id="1349"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0" name="coolguy" descr=""/>
            <p:cNvPicPr/>
            <p:nvPr/>
          </p:nvPicPr>
          <p:blipFill>
            <a:blip r:embed="rId2"/>
            <a:srcRect l="9083" t="0" r="13635" b="0"/>
            <a:stretch/>
          </p:blipFill>
          <p:spPr>
            <a:xfrm>
              <a:off x="1015920" y="2480760"/>
              <a:ext cx="1295280" cy="1309320"/>
            </a:xfrm>
            <a:prstGeom prst="rect">
              <a:avLst/>
            </a:prstGeom>
            <a:ln w="0">
              <a:noFill/>
            </a:ln>
          </p:spPr>
        </p:pic>
        <p:pic>
          <p:nvPicPr>
            <p:cNvPr id="1351" name="logo" descr=""/>
            <p:cNvPicPr/>
            <p:nvPr/>
          </p:nvPicPr>
          <p:blipFill>
            <a:blip r:embed="rId3"/>
            <a:stretch/>
          </p:blipFill>
          <p:spPr>
            <a:xfrm>
              <a:off x="965160" y="2176200"/>
              <a:ext cx="1428840" cy="277560"/>
            </a:xfrm>
            <a:prstGeom prst="rect">
              <a:avLst/>
            </a:prstGeom>
            <a:ln w="0">
              <a:noFill/>
            </a:ln>
          </p:spPr>
        </p:pic>
      </p:grpSp>
      <p:sp>
        <p:nvSpPr>
          <p:cNvPr id="1352" name=""/>
          <p:cNvSpPr/>
          <p:nvPr/>
        </p:nvSpPr>
        <p:spPr>
          <a:xfrm>
            <a:off x="4114800" y="1600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ices</a:t>
            </a:r>
            <a:endParaRPr b="0" lang="en-US" sz="2400" spc="-1" strike="noStrike">
              <a:solidFill>
                <a:srgbClr val="000000"/>
              </a:solidFill>
              <a:latin typeface="Times New Roman"/>
            </a:endParaRPr>
          </a:p>
        </p:txBody>
      </p:sp>
      <p:sp>
        <p:nvSpPr>
          <p:cNvPr id="1353" name=""/>
          <p:cNvSpPr/>
          <p:nvPr/>
        </p:nvSpPr>
        <p:spPr>
          <a:xfrm>
            <a:off x="4114800" y="243828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Applications/Services</a:t>
            </a:r>
            <a:endParaRPr b="0" lang="en-US" sz="2400" spc="-1" strike="noStrike">
              <a:solidFill>
                <a:srgbClr val="000000"/>
              </a:solidFill>
              <a:latin typeface="Times New Roman"/>
            </a:endParaRPr>
          </a:p>
        </p:txBody>
      </p:sp>
      <p:sp>
        <p:nvSpPr>
          <p:cNvPr id="1354" name=""/>
          <p:cNvSpPr/>
          <p:nvPr/>
        </p:nvSpPr>
        <p:spPr>
          <a:xfrm>
            <a:off x="4114800" y="3276720"/>
            <a:ext cx="3429000" cy="761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Service Platform</a:t>
            </a:r>
            <a:endParaRPr b="0" lang="en-US" sz="2400" spc="-1" strike="noStrike">
              <a:solidFill>
                <a:srgbClr val="000000"/>
              </a:solidFill>
              <a:latin typeface="Times New Roman"/>
            </a:endParaRPr>
          </a:p>
        </p:txBody>
      </p:sp>
      <p:sp>
        <p:nvSpPr>
          <p:cNvPr id="1355" name=""/>
          <p:cNvSpPr/>
          <p:nvPr/>
        </p:nvSpPr>
        <p:spPr>
          <a:xfrm>
            <a:off x="4114800" y="41148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Basic IP Services</a:t>
            </a:r>
            <a:endParaRPr b="0" lang="en-US" sz="2400" spc="-1" strike="noStrike">
              <a:solidFill>
                <a:srgbClr val="000000"/>
              </a:solidFill>
              <a:latin typeface="Times New Roman"/>
            </a:endParaRPr>
          </a:p>
        </p:txBody>
      </p:sp>
      <p:sp>
        <p:nvSpPr>
          <p:cNvPr id="1356" name=""/>
          <p:cNvSpPr/>
          <p:nvPr/>
        </p:nvSpPr>
        <p:spPr>
          <a:xfrm>
            <a:off x="4114800" y="5029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a:t>
            </a:r>
            <a:endParaRPr b="0" lang="en-US" sz="2400" spc="-1" strike="noStrike">
              <a:solidFill>
                <a:srgbClr val="000000"/>
              </a:solidFill>
              <a:latin typeface="Times New Roman"/>
            </a:endParaRPr>
          </a:p>
        </p:txBody>
      </p:sp>
      <p:sp>
        <p:nvSpPr>
          <p:cNvPr id="1357" name=""/>
          <p:cNvSpPr/>
          <p:nvPr/>
        </p:nvSpPr>
        <p:spPr>
          <a:xfrm>
            <a:off x="7620120" y="1600200"/>
            <a:ext cx="914400" cy="4191120"/>
          </a:xfrm>
          <a:prstGeom prst="rect">
            <a:avLst/>
          </a:prstGeom>
          <a:gradFill rotWithShape="0">
            <a:gsLst>
              <a:gs pos="0">
                <a:srgbClr val="ffccff"/>
              </a:gs>
              <a:gs pos="100000">
                <a:srgbClr val="b18d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rot="16200000">
            <a:off x="6190200" y="350460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twork Oper. Systems</a:t>
            </a:r>
            <a:endParaRPr b="0" lang="en-US" sz="2400" spc="-1" strike="noStrike">
              <a:solidFill>
                <a:srgbClr val="000000"/>
              </a:solidFill>
              <a:latin typeface="Times New Roman"/>
            </a:endParaRPr>
          </a:p>
        </p:txBody>
      </p:sp>
      <p:sp>
        <p:nvSpPr>
          <p:cNvPr id="1359" name=""/>
          <p:cNvSpPr/>
          <p:nvPr/>
        </p:nvSpPr>
        <p:spPr>
          <a:xfrm>
            <a:off x="312408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rot="16200000">
            <a:off x="1677960" y="3499560"/>
            <a:ext cx="365076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elopment Platform</a:t>
            </a:r>
            <a:endParaRPr b="0" lang="en-US" sz="2400" spc="-1" strike="noStrike">
              <a:solidFill>
                <a:srgbClr val="000000"/>
              </a:solidFill>
              <a:latin typeface="Times New Roman"/>
            </a:endParaRPr>
          </a:p>
        </p:txBody>
      </p:sp>
      <p:sp>
        <p:nvSpPr>
          <p:cNvPr id="1361"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990720" y="990720"/>
            <a:ext cx="7772400" cy="49942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nsulting via web to Customers and internal users: Order Status, Failure Reports, Invoice revision and others.</a:t>
            </a:r>
            <a:endParaRPr b="0" lang="en-US" sz="2400" spc="-1" strike="noStrike">
              <a:solidFill>
                <a:srgbClr val="000000"/>
              </a:solidFill>
              <a:latin typeface="Times New Roman"/>
            </a:endParaRPr>
          </a:p>
          <a:p>
            <a:pPr marL="230040" indent="-2300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afe Environment, Monitored Applications and Performance Measurement.</a:t>
            </a:r>
            <a:endParaRPr b="0" lang="en-US" sz="2400" spc="-1" strike="noStrike">
              <a:solidFill>
                <a:srgbClr val="000000"/>
              </a:solidFill>
              <a:latin typeface="Times New Roman"/>
            </a:endParaRPr>
          </a:p>
          <a:p>
            <a:pPr marL="230040" indent="-230040">
              <a:lnSpc>
                <a:spcPct val="1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visioning capability.</a:t>
            </a:r>
            <a:endParaRPr b="0" lang="en-US" sz="2400" spc="-1" strike="noStrike">
              <a:solidFill>
                <a:srgbClr val="000000"/>
              </a:solidFill>
              <a:latin typeface="Times New Roman"/>
            </a:endParaRPr>
          </a:p>
          <a:p>
            <a:pPr marL="230040" indent="-230040">
              <a:lnSpc>
                <a:spcPct val="1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Billing features.</a:t>
            </a:r>
            <a:endParaRPr b="0" lang="en-US" sz="2400" spc="-1" strike="noStrike">
              <a:solidFill>
                <a:srgbClr val="000000"/>
              </a:solidFill>
              <a:latin typeface="Times New Roman"/>
            </a:endParaRPr>
          </a:p>
          <a:p>
            <a:pPr marL="230040" indent="-2300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ustomer Service Interface, NOC e Legacy Systems.</a:t>
            </a:r>
            <a:endParaRPr b="0" lang="en-US" sz="2400" spc="-1" strike="noStrike">
              <a:solidFill>
                <a:srgbClr val="000000"/>
              </a:solidFill>
              <a:latin typeface="Times New Roman"/>
            </a:endParaRPr>
          </a:p>
          <a:p>
            <a:pPr marL="230040" indent="-230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363" name=""/>
          <p:cNvSpPr/>
          <p:nvPr/>
        </p:nvSpPr>
        <p:spPr>
          <a:xfrm>
            <a:off x="120600" y="166680"/>
            <a:ext cx="544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Operational Plat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red%20gen%20d" descr=""/>
          <p:cNvPicPr/>
          <p:nvPr/>
        </p:nvPicPr>
        <p:blipFill>
          <a:blip r:embed="rId1"/>
          <a:stretch/>
        </p:blipFill>
        <p:spPr>
          <a:xfrm>
            <a:off x="914400" y="4038480"/>
            <a:ext cx="2057400" cy="762120"/>
          </a:xfrm>
          <a:prstGeom prst="rect">
            <a:avLst/>
          </a:prstGeom>
          <a:ln w="0">
            <a:noFill/>
          </a:ln>
        </p:spPr>
      </p:pic>
      <p:grpSp>
        <p:nvGrpSpPr>
          <p:cNvPr id="1365" name=""/>
          <p:cNvGrpSpPr/>
          <p:nvPr/>
        </p:nvGrpSpPr>
        <p:grpSpPr>
          <a:xfrm>
            <a:off x="914400" y="1600200"/>
            <a:ext cx="2057040" cy="2133360"/>
            <a:chOff x="914400" y="1600200"/>
            <a:chExt cx="2057040" cy="2133360"/>
          </a:xfrm>
        </p:grpSpPr>
        <p:sp>
          <p:nvSpPr>
            <p:cNvPr id="1366" name=""/>
            <p:cNvSpPr/>
            <p:nvPr/>
          </p:nvSpPr>
          <p:spPr>
            <a:xfrm flipV="1">
              <a:off x="914400" y="1600200"/>
              <a:ext cx="2057040" cy="2133360"/>
            </a:xfrm>
            <a:custGeom>
              <a:avLst/>
              <a:gdLst>
                <a:gd name="textAreaLeft" fmla="*/ 133200 w 2057040"/>
                <a:gd name="textAreaRight" fmla="*/ 1923840 w 2057040"/>
                <a:gd name="textAreaTop" fmla="*/ 133200 h 2133360"/>
                <a:gd name="textAreaBottom" fmla="*/ 2000160 h 2133360"/>
              </a:gdLst>
              <a:ahLst/>
              <a:rect l="textAreaLeft" t="textAreaTop" r="textAreaRight" b="textAreaBottom"/>
              <a:pathLst>
                <a:path w="21600" h="22401">
                  <a:moveTo>
                    <a:pt x="0" y="0"/>
                  </a:moveTo>
                  <a:lnTo>
                    <a:pt x="21600" y="0"/>
                  </a:lnTo>
                  <a:lnTo>
                    <a:pt x="21600" y="22401"/>
                  </a:lnTo>
                  <a:lnTo>
                    <a:pt x="0" y="22401"/>
                  </a:lnTo>
                  <a:close/>
                </a:path>
                <a:path fill="lightenLess" w="21600" h="22401">
                  <a:moveTo>
                    <a:pt x="0" y="0"/>
                  </a:moveTo>
                  <a:lnTo>
                    <a:pt x="21600" y="0"/>
                  </a:lnTo>
                  <a:lnTo>
                    <a:pt x="20200" y="1400"/>
                  </a:lnTo>
                  <a:lnTo>
                    <a:pt x="1400" y="1400"/>
                  </a:lnTo>
                  <a:close/>
                </a:path>
                <a:path fill="darken" w="21600" h="22401">
                  <a:moveTo>
                    <a:pt x="21600" y="0"/>
                  </a:moveTo>
                  <a:lnTo>
                    <a:pt x="21600" y="22401"/>
                  </a:lnTo>
                  <a:lnTo>
                    <a:pt x="20200" y="21001"/>
                  </a:lnTo>
                  <a:lnTo>
                    <a:pt x="20200" y="1400"/>
                  </a:lnTo>
                  <a:close/>
                </a:path>
                <a:path fill="darkenLess" w="21600" h="22401">
                  <a:moveTo>
                    <a:pt x="21600" y="22401"/>
                  </a:moveTo>
                  <a:lnTo>
                    <a:pt x="0" y="22401"/>
                  </a:lnTo>
                  <a:lnTo>
                    <a:pt x="1400" y="21001"/>
                  </a:lnTo>
                  <a:lnTo>
                    <a:pt x="20200" y="21001"/>
                  </a:lnTo>
                  <a:close/>
                </a:path>
                <a:path fill="lighten" w="21600" h="22401">
                  <a:moveTo>
                    <a:pt x="0" y="22401"/>
                  </a:moveTo>
                  <a:lnTo>
                    <a:pt x="0" y="0"/>
                  </a:lnTo>
                  <a:lnTo>
                    <a:pt x="1400" y="1400"/>
                  </a:lnTo>
                  <a:lnTo>
                    <a:pt x="1400" y="21001"/>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7" name="coolguy" descr=""/>
            <p:cNvPicPr/>
            <p:nvPr/>
          </p:nvPicPr>
          <p:blipFill>
            <a:blip r:embed="rId2"/>
            <a:srcRect l="9083" t="0" r="13635" b="0"/>
            <a:stretch/>
          </p:blipFill>
          <p:spPr>
            <a:xfrm flipH="1" rot="10800000">
              <a:off x="1132560" y="1792800"/>
              <a:ext cx="1589400" cy="1466640"/>
            </a:xfrm>
            <a:prstGeom prst="rect">
              <a:avLst/>
            </a:prstGeom>
            <a:ln w="0">
              <a:noFill/>
            </a:ln>
          </p:spPr>
        </p:pic>
        <p:pic>
          <p:nvPicPr>
            <p:cNvPr id="1368" name="logo" descr=""/>
            <p:cNvPicPr/>
            <p:nvPr/>
          </p:nvPicPr>
          <p:blipFill>
            <a:blip r:embed="rId3"/>
            <a:stretch/>
          </p:blipFill>
          <p:spPr>
            <a:xfrm flipH="1" rot="10800000">
              <a:off x="1070280" y="3289680"/>
              <a:ext cx="1753200" cy="311040"/>
            </a:xfrm>
            <a:prstGeom prst="rect">
              <a:avLst/>
            </a:prstGeom>
            <a:ln w="0">
              <a:noFill/>
            </a:ln>
          </p:spPr>
        </p:pic>
      </p:grpSp>
      <p:sp>
        <p:nvSpPr>
          <p:cNvPr id="1369" name=""/>
          <p:cNvSpPr/>
          <p:nvPr/>
        </p:nvSpPr>
        <p:spPr>
          <a:xfrm>
            <a:off x="76320" y="0"/>
            <a:ext cx="129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0" name=""/>
          <p:cNvSpPr/>
          <p:nvPr/>
        </p:nvSpPr>
        <p:spPr>
          <a:xfrm>
            <a:off x="3581280" y="213372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Just because a company has the ability to evolve doesn’t mean it will.</a:t>
            </a:r>
            <a:endParaRPr b="0" lang="en-US" sz="2800" spc="-1" strike="noStrike">
              <a:solidFill>
                <a:srgbClr val="000000"/>
              </a:solidFill>
              <a:latin typeface="Times New Roman"/>
            </a:endParaRPr>
          </a:p>
        </p:txBody>
      </p:sp>
      <p:sp>
        <p:nvSpPr>
          <p:cNvPr id="1371" name=""/>
          <p:cNvSpPr/>
          <p:nvPr/>
        </p:nvSpPr>
        <p:spPr>
          <a:xfrm>
            <a:off x="5410080" y="3505320"/>
            <a:ext cx="3124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oria da Evolução Digit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2" name=""/>
          <p:cNvSpPr/>
          <p:nvPr/>
        </p:nvSpPr>
        <p:spPr>
          <a:xfrm>
            <a:off x="152280" y="76320"/>
            <a:ext cx="31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oncl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40480" y="152280"/>
            <a:ext cx="538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New Challenges - New Values</a:t>
            </a:r>
            <a:endParaRPr b="0" lang="en-US" sz="2800" spc="-1" strike="noStrike">
              <a:solidFill>
                <a:srgbClr val="000000"/>
              </a:solidFill>
              <a:latin typeface="Times New Roman"/>
            </a:endParaRPr>
          </a:p>
        </p:txBody>
      </p:sp>
      <p:grpSp>
        <p:nvGrpSpPr>
          <p:cNvPr id="1374" name=""/>
          <p:cNvGrpSpPr/>
          <p:nvPr/>
        </p:nvGrpSpPr>
        <p:grpSpPr>
          <a:xfrm>
            <a:off x="2395440" y="1295280"/>
            <a:ext cx="3248280" cy="3387960"/>
            <a:chOff x="2395440" y="1295280"/>
            <a:chExt cx="3248280" cy="3387960"/>
          </a:xfrm>
        </p:grpSpPr>
        <p:sp>
          <p:nvSpPr>
            <p:cNvPr id="1375" name=""/>
            <p:cNvSpPr/>
            <p:nvPr/>
          </p:nvSpPr>
          <p:spPr>
            <a:xfrm>
              <a:off x="2873520" y="3225960"/>
              <a:ext cx="2770200" cy="145728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gradFill rotWithShape="0">
              <a:gsLst>
                <a:gs pos="0">
                  <a:srgbClr val="0000f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395440" y="1647720"/>
              <a:ext cx="1405080" cy="259884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gradFill rotWithShape="0">
              <a:gsLst>
                <a:gs pos="0">
                  <a:srgbClr val="008000"/>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463920" y="1295280"/>
              <a:ext cx="2087640" cy="235296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8" name=""/>
          <p:cNvSpPr/>
          <p:nvPr/>
        </p:nvSpPr>
        <p:spPr>
          <a:xfrm>
            <a:off x="5187240" y="182232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Velocity</a:t>
            </a:r>
            <a:endParaRPr b="0" lang="en-US" sz="2400" spc="-1" strike="noStrike">
              <a:solidFill>
                <a:srgbClr val="000000"/>
              </a:solidFill>
              <a:latin typeface="Times New Roman"/>
            </a:endParaRPr>
          </a:p>
        </p:txBody>
      </p:sp>
      <p:sp>
        <p:nvSpPr>
          <p:cNvPr id="1379" name=""/>
          <p:cNvSpPr/>
          <p:nvPr/>
        </p:nvSpPr>
        <p:spPr>
          <a:xfrm>
            <a:off x="222120" y="3346560"/>
            <a:ext cx="14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Ubiquity</a:t>
            </a:r>
            <a:endParaRPr b="0" lang="en-US" sz="2400" spc="-1" strike="noStrike">
              <a:solidFill>
                <a:srgbClr val="000000"/>
              </a:solidFill>
              <a:latin typeface="Times New Roman"/>
            </a:endParaRPr>
          </a:p>
        </p:txBody>
      </p:sp>
      <p:sp>
        <p:nvSpPr>
          <p:cNvPr id="1380" name=""/>
          <p:cNvSpPr/>
          <p:nvPr/>
        </p:nvSpPr>
        <p:spPr>
          <a:xfrm>
            <a:off x="5263920" y="410832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Intangible</a:t>
            </a:r>
            <a:endParaRPr b="0" lang="en-US" sz="2400" spc="-1" strike="noStrike">
              <a:solidFill>
                <a:srgbClr val="000000"/>
              </a:solidFill>
              <a:latin typeface="Times New Roman"/>
            </a:endParaRPr>
          </a:p>
        </p:txBody>
      </p:sp>
      <p:sp>
        <p:nvSpPr>
          <p:cNvPr id="1381" name=""/>
          <p:cNvSpPr/>
          <p:nvPr/>
        </p:nvSpPr>
        <p:spPr>
          <a:xfrm>
            <a:off x="5257800" y="22096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2" name=""/>
          <p:cNvSpPr/>
          <p:nvPr/>
        </p:nvSpPr>
        <p:spPr>
          <a:xfrm>
            <a:off x="5410080" y="46483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erial</a:t>
            </a:r>
            <a:endParaRPr b="0" lang="en-US" sz="2000" spc="-1" strike="noStrike">
              <a:solidFill>
                <a:srgbClr val="000000"/>
              </a:solidFill>
              <a:latin typeface="Times New Roman"/>
            </a:endParaRPr>
          </a:p>
        </p:txBody>
      </p:sp>
      <p:sp>
        <p:nvSpPr>
          <p:cNvPr id="1383" name=""/>
          <p:cNvSpPr/>
          <p:nvPr/>
        </p:nvSpPr>
        <p:spPr>
          <a:xfrm>
            <a:off x="228600" y="380988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384" name=""/>
          <p:cNvSpPr/>
          <p:nvPr/>
        </p:nvSpPr>
        <p:spPr>
          <a:xfrm>
            <a:off x="7816680" y="2560680"/>
            <a:ext cx="41400" cy="30240"/>
          </a:xfrm>
          <a:custGeom>
            <a:avLst/>
            <a:gdLst/>
            <a:ahLst/>
            <a:rect l="l" t="t" r="r" b="b"/>
            <a:pathLst>
              <a:path w="26" h="19">
                <a:moveTo>
                  <a:pt x="0" y="19"/>
                </a:moveTo>
                <a:lnTo>
                  <a:pt x="0" y="17"/>
                </a:lnTo>
                <a:lnTo>
                  <a:pt x="2" y="14"/>
                </a:lnTo>
                <a:lnTo>
                  <a:pt x="2" y="12"/>
                </a:lnTo>
                <a:lnTo>
                  <a:pt x="2" y="12"/>
                </a:lnTo>
                <a:lnTo>
                  <a:pt x="2" y="12"/>
                </a:lnTo>
                <a:lnTo>
                  <a:pt x="2" y="12"/>
                </a:lnTo>
                <a:lnTo>
                  <a:pt x="6" y="2"/>
                </a:lnTo>
                <a:lnTo>
                  <a:pt x="11" y="0"/>
                </a:lnTo>
                <a:lnTo>
                  <a:pt x="6" y="12"/>
                </a:lnTo>
                <a:lnTo>
                  <a:pt x="6" y="10"/>
                </a:lnTo>
                <a:lnTo>
                  <a:pt x="8" y="10"/>
                </a:lnTo>
                <a:lnTo>
                  <a:pt x="8" y="10"/>
                </a:lnTo>
                <a:lnTo>
                  <a:pt x="8" y="10"/>
                </a:lnTo>
                <a:lnTo>
                  <a:pt x="8" y="10"/>
                </a:lnTo>
                <a:lnTo>
                  <a:pt x="8" y="10"/>
                </a:lnTo>
                <a:lnTo>
                  <a:pt x="11" y="10"/>
                </a:lnTo>
                <a:lnTo>
                  <a:pt x="11" y="10"/>
                </a:lnTo>
                <a:lnTo>
                  <a:pt x="11" y="10"/>
                </a:lnTo>
                <a:lnTo>
                  <a:pt x="13" y="8"/>
                </a:lnTo>
                <a:lnTo>
                  <a:pt x="13" y="8"/>
                </a:lnTo>
                <a:lnTo>
                  <a:pt x="15" y="8"/>
                </a:lnTo>
                <a:lnTo>
                  <a:pt x="17" y="8"/>
                </a:lnTo>
                <a:lnTo>
                  <a:pt x="17" y="8"/>
                </a:lnTo>
                <a:lnTo>
                  <a:pt x="17" y="8"/>
                </a:lnTo>
                <a:lnTo>
                  <a:pt x="19" y="10"/>
                </a:lnTo>
                <a:lnTo>
                  <a:pt x="19" y="10"/>
                </a:lnTo>
                <a:lnTo>
                  <a:pt x="21" y="10"/>
                </a:lnTo>
                <a:lnTo>
                  <a:pt x="21" y="10"/>
                </a:lnTo>
                <a:lnTo>
                  <a:pt x="23" y="10"/>
                </a:lnTo>
                <a:lnTo>
                  <a:pt x="23" y="12"/>
                </a:lnTo>
                <a:lnTo>
                  <a:pt x="23" y="12"/>
                </a:lnTo>
                <a:lnTo>
                  <a:pt x="23" y="12"/>
                </a:lnTo>
                <a:lnTo>
                  <a:pt x="26" y="14"/>
                </a:lnTo>
                <a:lnTo>
                  <a:pt x="26" y="17"/>
                </a:lnTo>
                <a:lnTo>
                  <a:pt x="26" y="17"/>
                </a:lnTo>
                <a:lnTo>
                  <a:pt x="26" y="19"/>
                </a:lnTo>
                <a:lnTo>
                  <a:pt x="21" y="19"/>
                </a:lnTo>
                <a:lnTo>
                  <a:pt x="21" y="19"/>
                </a:lnTo>
                <a:lnTo>
                  <a:pt x="21" y="17"/>
                </a:lnTo>
                <a:lnTo>
                  <a:pt x="21" y="14"/>
                </a:lnTo>
                <a:lnTo>
                  <a:pt x="21" y="14"/>
                </a:lnTo>
                <a:lnTo>
                  <a:pt x="19" y="12"/>
                </a:lnTo>
                <a:lnTo>
                  <a:pt x="19" y="12"/>
                </a:lnTo>
                <a:lnTo>
                  <a:pt x="17" y="12"/>
                </a:lnTo>
                <a:lnTo>
                  <a:pt x="17" y="12"/>
                </a:lnTo>
                <a:lnTo>
                  <a:pt x="15" y="12"/>
                </a:lnTo>
                <a:lnTo>
                  <a:pt x="15" y="12"/>
                </a:lnTo>
                <a:lnTo>
                  <a:pt x="15" y="12"/>
                </a:lnTo>
                <a:lnTo>
                  <a:pt x="13" y="12"/>
                </a:lnTo>
                <a:lnTo>
                  <a:pt x="13" y="12"/>
                </a:lnTo>
                <a:lnTo>
                  <a:pt x="11" y="12"/>
                </a:lnTo>
                <a:lnTo>
                  <a:pt x="11" y="12"/>
                </a:lnTo>
                <a:lnTo>
                  <a:pt x="11" y="12"/>
                </a:lnTo>
                <a:lnTo>
                  <a:pt x="8" y="12"/>
                </a:lnTo>
                <a:lnTo>
                  <a:pt x="8" y="12"/>
                </a:lnTo>
                <a:lnTo>
                  <a:pt x="8" y="14"/>
                </a:lnTo>
                <a:lnTo>
                  <a:pt x="6" y="14"/>
                </a:lnTo>
                <a:lnTo>
                  <a:pt x="6" y="14"/>
                </a:lnTo>
                <a:lnTo>
                  <a:pt x="6" y="14"/>
                </a:lnTo>
                <a:lnTo>
                  <a:pt x="6" y="17"/>
                </a:lnTo>
                <a:lnTo>
                  <a:pt x="4" y="17"/>
                </a:lnTo>
                <a:lnTo>
                  <a:pt x="4" y="17"/>
                </a:lnTo>
                <a:lnTo>
                  <a:pt x="4" y="19"/>
                </a:lnTo>
                <a:lnTo>
                  <a:pt x="0" y="19"/>
                </a:lnTo>
                <a:close/>
              </a:path>
            </a:pathLst>
          </a:custGeom>
          <a:solidFill>
            <a:srgbClr val="fffa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5" name=""/>
          <p:cNvSpPr/>
          <p:nvPr/>
        </p:nvSpPr>
        <p:spPr>
          <a:xfrm>
            <a:off x="7816680" y="2590920"/>
            <a:ext cx="41400" cy="12600"/>
          </a:xfrm>
          <a:custGeom>
            <a:avLst/>
            <a:gdLst/>
            <a:ahLst/>
            <a:rect l="l" t="t" r="r" b="b"/>
            <a:pathLst>
              <a:path w="26" h="8">
                <a:moveTo>
                  <a:pt x="0" y="0"/>
                </a:moveTo>
                <a:lnTo>
                  <a:pt x="0" y="0"/>
                </a:lnTo>
                <a:lnTo>
                  <a:pt x="0" y="2"/>
                </a:lnTo>
                <a:lnTo>
                  <a:pt x="0" y="4"/>
                </a:lnTo>
                <a:lnTo>
                  <a:pt x="2" y="4"/>
                </a:lnTo>
                <a:lnTo>
                  <a:pt x="2" y="6"/>
                </a:lnTo>
                <a:lnTo>
                  <a:pt x="2" y="6"/>
                </a:lnTo>
                <a:lnTo>
                  <a:pt x="2" y="6"/>
                </a:lnTo>
                <a:lnTo>
                  <a:pt x="4" y="6"/>
                </a:lnTo>
                <a:lnTo>
                  <a:pt x="4" y="8"/>
                </a:lnTo>
                <a:lnTo>
                  <a:pt x="6" y="8"/>
                </a:lnTo>
                <a:lnTo>
                  <a:pt x="6" y="8"/>
                </a:lnTo>
                <a:lnTo>
                  <a:pt x="8" y="8"/>
                </a:lnTo>
                <a:lnTo>
                  <a:pt x="8" y="8"/>
                </a:lnTo>
                <a:lnTo>
                  <a:pt x="11" y="8"/>
                </a:lnTo>
                <a:lnTo>
                  <a:pt x="11" y="8"/>
                </a:lnTo>
                <a:lnTo>
                  <a:pt x="13" y="8"/>
                </a:lnTo>
                <a:lnTo>
                  <a:pt x="13" y="8"/>
                </a:lnTo>
                <a:lnTo>
                  <a:pt x="15" y="8"/>
                </a:lnTo>
                <a:lnTo>
                  <a:pt x="17" y="8"/>
                </a:lnTo>
                <a:lnTo>
                  <a:pt x="17" y="8"/>
                </a:lnTo>
                <a:lnTo>
                  <a:pt x="19" y="6"/>
                </a:lnTo>
                <a:lnTo>
                  <a:pt x="19" y="6"/>
                </a:lnTo>
                <a:lnTo>
                  <a:pt x="21" y="6"/>
                </a:lnTo>
                <a:lnTo>
                  <a:pt x="21" y="4"/>
                </a:lnTo>
                <a:lnTo>
                  <a:pt x="21" y="4"/>
                </a:lnTo>
                <a:lnTo>
                  <a:pt x="23" y="4"/>
                </a:lnTo>
                <a:lnTo>
                  <a:pt x="23" y="2"/>
                </a:lnTo>
                <a:lnTo>
                  <a:pt x="26" y="0"/>
                </a:lnTo>
                <a:lnTo>
                  <a:pt x="26" y="0"/>
                </a:lnTo>
                <a:lnTo>
                  <a:pt x="21" y="0"/>
                </a:lnTo>
                <a:lnTo>
                  <a:pt x="21" y="0"/>
                </a:lnTo>
                <a:lnTo>
                  <a:pt x="21" y="2"/>
                </a:lnTo>
                <a:lnTo>
                  <a:pt x="19" y="2"/>
                </a:lnTo>
                <a:lnTo>
                  <a:pt x="19" y="2"/>
                </a:lnTo>
                <a:lnTo>
                  <a:pt x="19" y="4"/>
                </a:lnTo>
                <a:lnTo>
                  <a:pt x="19" y="4"/>
                </a:lnTo>
                <a:lnTo>
                  <a:pt x="17" y="4"/>
                </a:lnTo>
                <a:lnTo>
                  <a:pt x="17" y="4"/>
                </a:lnTo>
                <a:lnTo>
                  <a:pt x="17" y="4"/>
                </a:lnTo>
                <a:lnTo>
                  <a:pt x="15" y="4"/>
                </a:lnTo>
                <a:lnTo>
                  <a:pt x="15" y="6"/>
                </a:lnTo>
                <a:lnTo>
                  <a:pt x="13" y="6"/>
                </a:lnTo>
                <a:lnTo>
                  <a:pt x="13" y="6"/>
                </a:lnTo>
                <a:lnTo>
                  <a:pt x="13" y="6"/>
                </a:lnTo>
                <a:lnTo>
                  <a:pt x="11" y="6"/>
                </a:lnTo>
                <a:lnTo>
                  <a:pt x="11" y="6"/>
                </a:lnTo>
                <a:lnTo>
                  <a:pt x="8" y="6"/>
                </a:lnTo>
                <a:lnTo>
                  <a:pt x="8" y="6"/>
                </a:lnTo>
                <a:lnTo>
                  <a:pt x="6" y="4"/>
                </a:lnTo>
                <a:lnTo>
                  <a:pt x="6" y="4"/>
                </a:lnTo>
                <a:lnTo>
                  <a:pt x="4" y="4"/>
                </a:lnTo>
                <a:lnTo>
                  <a:pt x="4" y="2"/>
                </a:lnTo>
                <a:lnTo>
                  <a:pt x="4" y="2"/>
                </a:lnTo>
                <a:lnTo>
                  <a:pt x="4" y="0"/>
                </a:lnTo>
                <a:lnTo>
                  <a:pt x="4" y="0"/>
                </a:lnTo>
                <a:lnTo>
                  <a:pt x="0" y="0"/>
                </a:lnTo>
                <a:close/>
              </a:path>
            </a:pathLst>
          </a:custGeom>
          <a:solidFill>
            <a:srgbClr val="fffae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6" name=""/>
          <p:cNvSpPr/>
          <p:nvPr/>
        </p:nvSpPr>
        <p:spPr>
          <a:xfrm>
            <a:off x="7850160" y="2654280"/>
            <a:ext cx="38160" cy="17640"/>
          </a:xfrm>
          <a:custGeom>
            <a:avLst/>
            <a:gdLst/>
            <a:ahLst/>
            <a:rect l="l" t="t" r="r" b="b"/>
            <a:pathLst>
              <a:path w="24" h="11">
                <a:moveTo>
                  <a:pt x="0" y="11"/>
                </a:moveTo>
                <a:lnTo>
                  <a:pt x="0" y="9"/>
                </a:lnTo>
                <a:lnTo>
                  <a:pt x="0" y="7"/>
                </a:lnTo>
                <a:lnTo>
                  <a:pt x="2" y="7"/>
                </a:lnTo>
                <a:lnTo>
                  <a:pt x="2" y="7"/>
                </a:lnTo>
                <a:lnTo>
                  <a:pt x="2" y="4"/>
                </a:lnTo>
                <a:lnTo>
                  <a:pt x="5" y="4"/>
                </a:lnTo>
                <a:lnTo>
                  <a:pt x="5" y="4"/>
                </a:lnTo>
                <a:lnTo>
                  <a:pt x="7" y="2"/>
                </a:lnTo>
                <a:lnTo>
                  <a:pt x="7" y="2"/>
                </a:lnTo>
                <a:lnTo>
                  <a:pt x="9" y="2"/>
                </a:lnTo>
                <a:lnTo>
                  <a:pt x="11" y="2"/>
                </a:lnTo>
                <a:lnTo>
                  <a:pt x="11" y="2"/>
                </a:lnTo>
                <a:lnTo>
                  <a:pt x="13" y="2"/>
                </a:lnTo>
                <a:lnTo>
                  <a:pt x="13" y="0"/>
                </a:lnTo>
                <a:lnTo>
                  <a:pt x="15" y="0"/>
                </a:lnTo>
                <a:lnTo>
                  <a:pt x="15" y="0"/>
                </a:lnTo>
                <a:lnTo>
                  <a:pt x="17" y="2"/>
                </a:lnTo>
                <a:lnTo>
                  <a:pt x="17" y="2"/>
                </a:lnTo>
                <a:lnTo>
                  <a:pt x="19" y="2"/>
                </a:lnTo>
                <a:lnTo>
                  <a:pt x="19" y="2"/>
                </a:lnTo>
                <a:lnTo>
                  <a:pt x="22" y="2"/>
                </a:lnTo>
                <a:lnTo>
                  <a:pt x="22" y="2"/>
                </a:lnTo>
                <a:lnTo>
                  <a:pt x="24" y="4"/>
                </a:lnTo>
                <a:lnTo>
                  <a:pt x="24" y="4"/>
                </a:lnTo>
                <a:lnTo>
                  <a:pt x="24" y="4"/>
                </a:lnTo>
                <a:lnTo>
                  <a:pt x="24" y="7"/>
                </a:lnTo>
                <a:lnTo>
                  <a:pt x="24" y="9"/>
                </a:lnTo>
                <a:lnTo>
                  <a:pt x="24" y="11"/>
                </a:lnTo>
                <a:lnTo>
                  <a:pt x="24" y="11"/>
                </a:lnTo>
                <a:lnTo>
                  <a:pt x="22" y="11"/>
                </a:lnTo>
                <a:lnTo>
                  <a:pt x="22" y="11"/>
                </a:lnTo>
                <a:lnTo>
                  <a:pt x="22" y="9"/>
                </a:lnTo>
                <a:lnTo>
                  <a:pt x="22" y="9"/>
                </a:lnTo>
                <a:lnTo>
                  <a:pt x="19" y="7"/>
                </a:lnTo>
                <a:lnTo>
                  <a:pt x="19" y="7"/>
                </a:lnTo>
                <a:lnTo>
                  <a:pt x="17" y="4"/>
                </a:lnTo>
                <a:lnTo>
                  <a:pt x="17" y="4"/>
                </a:lnTo>
                <a:lnTo>
                  <a:pt x="15" y="4"/>
                </a:lnTo>
                <a:lnTo>
                  <a:pt x="15" y="4"/>
                </a:lnTo>
                <a:lnTo>
                  <a:pt x="13" y="4"/>
                </a:lnTo>
                <a:lnTo>
                  <a:pt x="13" y="4"/>
                </a:lnTo>
                <a:lnTo>
                  <a:pt x="13" y="4"/>
                </a:lnTo>
                <a:lnTo>
                  <a:pt x="11" y="4"/>
                </a:lnTo>
                <a:lnTo>
                  <a:pt x="11" y="4"/>
                </a:lnTo>
                <a:lnTo>
                  <a:pt x="9" y="4"/>
                </a:lnTo>
                <a:lnTo>
                  <a:pt x="9" y="4"/>
                </a:lnTo>
                <a:lnTo>
                  <a:pt x="9" y="4"/>
                </a:lnTo>
                <a:lnTo>
                  <a:pt x="7" y="7"/>
                </a:lnTo>
                <a:lnTo>
                  <a:pt x="7" y="7"/>
                </a:lnTo>
                <a:lnTo>
                  <a:pt x="7" y="7"/>
                </a:lnTo>
                <a:lnTo>
                  <a:pt x="5" y="7"/>
                </a:lnTo>
                <a:lnTo>
                  <a:pt x="5" y="9"/>
                </a:lnTo>
                <a:lnTo>
                  <a:pt x="5" y="9"/>
                </a:lnTo>
                <a:lnTo>
                  <a:pt x="5" y="11"/>
                </a:lnTo>
                <a:lnTo>
                  <a:pt x="5" y="11"/>
                </a:lnTo>
                <a:lnTo>
                  <a:pt x="0" y="11"/>
                </a:lnTo>
                <a:close/>
              </a:path>
            </a:pathLst>
          </a:custGeom>
          <a:solidFill>
            <a:srgbClr val="fffa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7" name=""/>
          <p:cNvSpPr/>
          <p:nvPr/>
        </p:nvSpPr>
        <p:spPr>
          <a:xfrm>
            <a:off x="7850160" y="2671920"/>
            <a:ext cx="38160" cy="29880"/>
          </a:xfrm>
          <a:custGeom>
            <a:avLst/>
            <a:gdLst/>
            <a:ahLst/>
            <a:rect l="l" t="t" r="r" b="b"/>
            <a:pathLst>
              <a:path w="24" h="19">
                <a:moveTo>
                  <a:pt x="0" y="0"/>
                </a:moveTo>
                <a:lnTo>
                  <a:pt x="0" y="0"/>
                </a:lnTo>
                <a:lnTo>
                  <a:pt x="0" y="2"/>
                </a:lnTo>
                <a:lnTo>
                  <a:pt x="0" y="4"/>
                </a:lnTo>
                <a:lnTo>
                  <a:pt x="0" y="4"/>
                </a:lnTo>
                <a:lnTo>
                  <a:pt x="0" y="6"/>
                </a:lnTo>
                <a:lnTo>
                  <a:pt x="2" y="6"/>
                </a:lnTo>
                <a:lnTo>
                  <a:pt x="2" y="6"/>
                </a:lnTo>
                <a:lnTo>
                  <a:pt x="2" y="8"/>
                </a:lnTo>
                <a:lnTo>
                  <a:pt x="5" y="8"/>
                </a:lnTo>
                <a:lnTo>
                  <a:pt x="5" y="8"/>
                </a:lnTo>
                <a:lnTo>
                  <a:pt x="7" y="8"/>
                </a:lnTo>
                <a:lnTo>
                  <a:pt x="7" y="8"/>
                </a:lnTo>
                <a:lnTo>
                  <a:pt x="9" y="8"/>
                </a:lnTo>
                <a:lnTo>
                  <a:pt x="9" y="8"/>
                </a:lnTo>
                <a:lnTo>
                  <a:pt x="11" y="8"/>
                </a:lnTo>
                <a:lnTo>
                  <a:pt x="11" y="8"/>
                </a:lnTo>
                <a:lnTo>
                  <a:pt x="13" y="8"/>
                </a:lnTo>
                <a:lnTo>
                  <a:pt x="13" y="8"/>
                </a:lnTo>
                <a:lnTo>
                  <a:pt x="15" y="8"/>
                </a:lnTo>
                <a:lnTo>
                  <a:pt x="15" y="8"/>
                </a:lnTo>
                <a:lnTo>
                  <a:pt x="15" y="8"/>
                </a:lnTo>
                <a:lnTo>
                  <a:pt x="15" y="8"/>
                </a:lnTo>
                <a:lnTo>
                  <a:pt x="17" y="8"/>
                </a:lnTo>
                <a:lnTo>
                  <a:pt x="17" y="6"/>
                </a:lnTo>
                <a:lnTo>
                  <a:pt x="17" y="6"/>
                </a:lnTo>
                <a:lnTo>
                  <a:pt x="17" y="6"/>
                </a:lnTo>
                <a:lnTo>
                  <a:pt x="17" y="6"/>
                </a:lnTo>
                <a:lnTo>
                  <a:pt x="13" y="19"/>
                </a:lnTo>
                <a:lnTo>
                  <a:pt x="17" y="17"/>
                </a:lnTo>
                <a:lnTo>
                  <a:pt x="24" y="6"/>
                </a:lnTo>
                <a:lnTo>
                  <a:pt x="24" y="4"/>
                </a:lnTo>
                <a:lnTo>
                  <a:pt x="24" y="4"/>
                </a:lnTo>
                <a:lnTo>
                  <a:pt x="24" y="4"/>
                </a:lnTo>
                <a:lnTo>
                  <a:pt x="24" y="4"/>
                </a:lnTo>
                <a:lnTo>
                  <a:pt x="24" y="2"/>
                </a:lnTo>
                <a:lnTo>
                  <a:pt x="24" y="0"/>
                </a:lnTo>
                <a:lnTo>
                  <a:pt x="22" y="0"/>
                </a:lnTo>
                <a:lnTo>
                  <a:pt x="22" y="0"/>
                </a:lnTo>
                <a:lnTo>
                  <a:pt x="19" y="2"/>
                </a:lnTo>
                <a:lnTo>
                  <a:pt x="19" y="2"/>
                </a:lnTo>
                <a:lnTo>
                  <a:pt x="19" y="2"/>
                </a:lnTo>
                <a:lnTo>
                  <a:pt x="17" y="4"/>
                </a:lnTo>
                <a:lnTo>
                  <a:pt x="17" y="4"/>
                </a:lnTo>
                <a:lnTo>
                  <a:pt x="17" y="4"/>
                </a:lnTo>
                <a:lnTo>
                  <a:pt x="15" y="4"/>
                </a:lnTo>
                <a:lnTo>
                  <a:pt x="15" y="6"/>
                </a:lnTo>
                <a:lnTo>
                  <a:pt x="15" y="6"/>
                </a:lnTo>
                <a:lnTo>
                  <a:pt x="13" y="6"/>
                </a:lnTo>
                <a:lnTo>
                  <a:pt x="13" y="6"/>
                </a:lnTo>
                <a:lnTo>
                  <a:pt x="11" y="6"/>
                </a:lnTo>
                <a:lnTo>
                  <a:pt x="11" y="6"/>
                </a:lnTo>
                <a:lnTo>
                  <a:pt x="11" y="6"/>
                </a:lnTo>
                <a:lnTo>
                  <a:pt x="9" y="6"/>
                </a:lnTo>
                <a:lnTo>
                  <a:pt x="9" y="6"/>
                </a:lnTo>
                <a:lnTo>
                  <a:pt x="9" y="6"/>
                </a:lnTo>
                <a:lnTo>
                  <a:pt x="7" y="6"/>
                </a:lnTo>
                <a:lnTo>
                  <a:pt x="5" y="4"/>
                </a:lnTo>
                <a:lnTo>
                  <a:pt x="5" y="4"/>
                </a:lnTo>
                <a:lnTo>
                  <a:pt x="5" y="2"/>
                </a:lnTo>
                <a:lnTo>
                  <a:pt x="2" y="2"/>
                </a:lnTo>
                <a:lnTo>
                  <a:pt x="2" y="0"/>
                </a:lnTo>
                <a:lnTo>
                  <a:pt x="5" y="0"/>
                </a:lnTo>
                <a:lnTo>
                  <a:pt x="0" y="0"/>
                </a:lnTo>
                <a:close/>
              </a:path>
            </a:pathLst>
          </a:custGeom>
          <a:solidFill>
            <a:srgbClr val="fffa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8" name=""/>
          <p:cNvSpPr/>
          <p:nvPr/>
        </p:nvSpPr>
        <p:spPr>
          <a:xfrm>
            <a:off x="7823160" y="3470400"/>
            <a:ext cx="61920" cy="81000"/>
          </a:xfrm>
          <a:custGeom>
            <a:avLst/>
            <a:gdLst/>
            <a:ahLst/>
            <a:rect l="l" t="t" r="r" b="b"/>
            <a:pathLst>
              <a:path w="39" h="51">
                <a:moveTo>
                  <a:pt x="39" y="51"/>
                </a:moveTo>
                <a:lnTo>
                  <a:pt x="39" y="51"/>
                </a:lnTo>
                <a:lnTo>
                  <a:pt x="36" y="51"/>
                </a:lnTo>
                <a:lnTo>
                  <a:pt x="36" y="51"/>
                </a:lnTo>
                <a:lnTo>
                  <a:pt x="34" y="51"/>
                </a:lnTo>
                <a:lnTo>
                  <a:pt x="32" y="51"/>
                </a:lnTo>
                <a:lnTo>
                  <a:pt x="30" y="49"/>
                </a:lnTo>
                <a:lnTo>
                  <a:pt x="30" y="49"/>
                </a:lnTo>
                <a:lnTo>
                  <a:pt x="28" y="47"/>
                </a:lnTo>
                <a:lnTo>
                  <a:pt x="26" y="47"/>
                </a:lnTo>
                <a:lnTo>
                  <a:pt x="24" y="44"/>
                </a:lnTo>
                <a:lnTo>
                  <a:pt x="22" y="42"/>
                </a:lnTo>
                <a:lnTo>
                  <a:pt x="19" y="40"/>
                </a:lnTo>
                <a:lnTo>
                  <a:pt x="17" y="38"/>
                </a:lnTo>
                <a:lnTo>
                  <a:pt x="15" y="36"/>
                </a:lnTo>
                <a:lnTo>
                  <a:pt x="13" y="34"/>
                </a:lnTo>
                <a:lnTo>
                  <a:pt x="11" y="32"/>
                </a:lnTo>
                <a:lnTo>
                  <a:pt x="9" y="25"/>
                </a:lnTo>
                <a:lnTo>
                  <a:pt x="4" y="21"/>
                </a:lnTo>
                <a:lnTo>
                  <a:pt x="2" y="17"/>
                </a:lnTo>
                <a:lnTo>
                  <a:pt x="0" y="10"/>
                </a:lnTo>
                <a:lnTo>
                  <a:pt x="0" y="8"/>
                </a:lnTo>
                <a:lnTo>
                  <a:pt x="0" y="4"/>
                </a:lnTo>
                <a:lnTo>
                  <a:pt x="0" y="2"/>
                </a:lnTo>
                <a:lnTo>
                  <a:pt x="0" y="0"/>
                </a:lnTo>
                <a:lnTo>
                  <a:pt x="39" y="51"/>
                </a:lnTo>
                <a:close/>
              </a:path>
            </a:pathLst>
          </a:custGeom>
          <a:solidFill>
            <a:srgbClr val="2b33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7816680" y="3462480"/>
            <a:ext cx="63720" cy="77760"/>
          </a:xfrm>
          <a:custGeom>
            <a:avLst/>
            <a:gdLst/>
            <a:ahLst/>
            <a:rect l="l" t="t" r="r" b="b"/>
            <a:pathLst>
              <a:path w="40" h="49">
                <a:moveTo>
                  <a:pt x="40" y="49"/>
                </a:moveTo>
                <a:lnTo>
                  <a:pt x="38" y="49"/>
                </a:lnTo>
                <a:lnTo>
                  <a:pt x="38" y="49"/>
                </a:lnTo>
                <a:lnTo>
                  <a:pt x="36" y="49"/>
                </a:lnTo>
                <a:lnTo>
                  <a:pt x="36" y="49"/>
                </a:lnTo>
                <a:lnTo>
                  <a:pt x="34" y="49"/>
                </a:lnTo>
                <a:lnTo>
                  <a:pt x="32" y="49"/>
                </a:lnTo>
                <a:lnTo>
                  <a:pt x="30" y="47"/>
                </a:lnTo>
                <a:lnTo>
                  <a:pt x="28" y="47"/>
                </a:lnTo>
                <a:lnTo>
                  <a:pt x="28" y="45"/>
                </a:lnTo>
                <a:lnTo>
                  <a:pt x="26" y="43"/>
                </a:lnTo>
                <a:lnTo>
                  <a:pt x="23" y="41"/>
                </a:lnTo>
                <a:lnTo>
                  <a:pt x="21" y="39"/>
                </a:lnTo>
                <a:lnTo>
                  <a:pt x="19" y="37"/>
                </a:lnTo>
                <a:lnTo>
                  <a:pt x="17" y="35"/>
                </a:lnTo>
                <a:lnTo>
                  <a:pt x="15" y="32"/>
                </a:lnTo>
                <a:lnTo>
                  <a:pt x="13" y="30"/>
                </a:lnTo>
                <a:lnTo>
                  <a:pt x="8" y="26"/>
                </a:lnTo>
                <a:lnTo>
                  <a:pt x="6" y="20"/>
                </a:lnTo>
                <a:lnTo>
                  <a:pt x="4" y="15"/>
                </a:lnTo>
                <a:lnTo>
                  <a:pt x="2" y="11"/>
                </a:lnTo>
                <a:lnTo>
                  <a:pt x="2" y="7"/>
                </a:lnTo>
                <a:lnTo>
                  <a:pt x="0" y="3"/>
                </a:lnTo>
                <a:lnTo>
                  <a:pt x="0" y="0"/>
                </a:lnTo>
                <a:lnTo>
                  <a:pt x="2" y="0"/>
                </a:lnTo>
                <a:lnTo>
                  <a:pt x="40" y="49"/>
                </a:lnTo>
                <a:close/>
              </a:path>
            </a:pathLst>
          </a:custGeom>
          <a:solidFill>
            <a:srgbClr val="c4ccc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0" name=""/>
          <p:cNvSpPr/>
          <p:nvPr/>
        </p:nvSpPr>
        <p:spPr>
          <a:xfrm>
            <a:off x="8121600" y="3435480"/>
            <a:ext cx="33480" cy="41040"/>
          </a:xfrm>
          <a:custGeom>
            <a:avLst/>
            <a:gdLst/>
            <a:ahLst/>
            <a:rect l="l" t="t" r="r" b="b"/>
            <a:pathLst>
              <a:path w="21" h="26">
                <a:moveTo>
                  <a:pt x="0" y="26"/>
                </a:moveTo>
                <a:lnTo>
                  <a:pt x="8" y="7"/>
                </a:lnTo>
                <a:lnTo>
                  <a:pt x="11" y="5"/>
                </a:lnTo>
                <a:lnTo>
                  <a:pt x="11" y="5"/>
                </a:lnTo>
                <a:lnTo>
                  <a:pt x="13" y="3"/>
                </a:lnTo>
                <a:lnTo>
                  <a:pt x="13" y="3"/>
                </a:lnTo>
                <a:lnTo>
                  <a:pt x="15" y="0"/>
                </a:lnTo>
                <a:lnTo>
                  <a:pt x="15" y="0"/>
                </a:lnTo>
                <a:lnTo>
                  <a:pt x="17" y="0"/>
                </a:lnTo>
                <a:lnTo>
                  <a:pt x="19" y="0"/>
                </a:lnTo>
                <a:lnTo>
                  <a:pt x="19" y="0"/>
                </a:lnTo>
                <a:lnTo>
                  <a:pt x="21" y="3"/>
                </a:lnTo>
                <a:lnTo>
                  <a:pt x="21" y="5"/>
                </a:lnTo>
                <a:lnTo>
                  <a:pt x="21" y="5"/>
                </a:lnTo>
                <a:lnTo>
                  <a:pt x="17" y="17"/>
                </a:lnTo>
                <a:lnTo>
                  <a:pt x="0" y="26"/>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1" name=""/>
          <p:cNvSpPr/>
          <p:nvPr/>
        </p:nvSpPr>
        <p:spPr>
          <a:xfrm>
            <a:off x="8155080" y="3422520"/>
            <a:ext cx="38160" cy="36720"/>
          </a:xfrm>
          <a:custGeom>
            <a:avLst/>
            <a:gdLst/>
            <a:ahLst/>
            <a:rect l="l" t="t" r="r" b="b"/>
            <a:pathLst>
              <a:path w="24" h="23">
                <a:moveTo>
                  <a:pt x="0" y="23"/>
                </a:moveTo>
                <a:lnTo>
                  <a:pt x="11" y="4"/>
                </a:lnTo>
                <a:lnTo>
                  <a:pt x="11" y="4"/>
                </a:lnTo>
                <a:lnTo>
                  <a:pt x="11" y="2"/>
                </a:lnTo>
                <a:lnTo>
                  <a:pt x="13" y="2"/>
                </a:lnTo>
                <a:lnTo>
                  <a:pt x="15" y="2"/>
                </a:lnTo>
                <a:lnTo>
                  <a:pt x="15" y="0"/>
                </a:lnTo>
                <a:lnTo>
                  <a:pt x="17" y="0"/>
                </a:lnTo>
                <a:lnTo>
                  <a:pt x="17" y="0"/>
                </a:lnTo>
                <a:lnTo>
                  <a:pt x="19" y="0"/>
                </a:lnTo>
                <a:lnTo>
                  <a:pt x="22" y="0"/>
                </a:lnTo>
                <a:lnTo>
                  <a:pt x="22" y="2"/>
                </a:lnTo>
                <a:lnTo>
                  <a:pt x="24" y="4"/>
                </a:lnTo>
                <a:lnTo>
                  <a:pt x="24" y="4"/>
                </a:lnTo>
                <a:lnTo>
                  <a:pt x="17" y="17"/>
                </a:lnTo>
                <a:lnTo>
                  <a:pt x="0" y="23"/>
                </a:lnTo>
                <a:close/>
              </a:path>
            </a:pathLst>
          </a:custGeom>
          <a:solidFill>
            <a:srgbClr val="11191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92" name=""/>
          <p:cNvSpPr/>
          <p:nvPr/>
        </p:nvSpPr>
        <p:spPr>
          <a:xfrm>
            <a:off x="8134200" y="3440160"/>
            <a:ext cx="24120" cy="30240"/>
          </a:xfrm>
          <a:custGeom>
            <a:avLst/>
            <a:gdLst/>
            <a:ahLst/>
            <a:rect l="l" t="t" r="r" b="b"/>
            <a:pathLst>
              <a:path w="15" h="19">
                <a:moveTo>
                  <a:pt x="0" y="19"/>
                </a:moveTo>
                <a:lnTo>
                  <a:pt x="7" y="4"/>
                </a:lnTo>
                <a:lnTo>
                  <a:pt x="7" y="4"/>
                </a:lnTo>
                <a:lnTo>
                  <a:pt x="7" y="4"/>
                </a:lnTo>
                <a:lnTo>
                  <a:pt x="9" y="2"/>
                </a:lnTo>
                <a:lnTo>
                  <a:pt x="9" y="2"/>
                </a:lnTo>
                <a:lnTo>
                  <a:pt x="11" y="2"/>
                </a:lnTo>
                <a:lnTo>
                  <a:pt x="11" y="2"/>
                </a:lnTo>
                <a:lnTo>
                  <a:pt x="11" y="2"/>
                </a:lnTo>
                <a:lnTo>
                  <a:pt x="13" y="0"/>
                </a:lnTo>
                <a:lnTo>
                  <a:pt x="13" y="2"/>
                </a:lnTo>
                <a:lnTo>
                  <a:pt x="15" y="2"/>
                </a:lnTo>
                <a:lnTo>
                  <a:pt x="15" y="4"/>
                </a:lnTo>
                <a:lnTo>
                  <a:pt x="15" y="4"/>
                </a:lnTo>
                <a:lnTo>
                  <a:pt x="11" y="12"/>
                </a:lnTo>
                <a:lnTo>
                  <a:pt x="0" y="19"/>
                </a:lnTo>
                <a:close/>
              </a:path>
            </a:pathLst>
          </a:custGeom>
          <a:solidFill>
            <a:srgbClr val="d1d9d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3" name=""/>
          <p:cNvSpPr/>
          <p:nvPr/>
        </p:nvSpPr>
        <p:spPr>
          <a:xfrm>
            <a:off x="8169120" y="3425760"/>
            <a:ext cx="24120" cy="30240"/>
          </a:xfrm>
          <a:custGeom>
            <a:avLst/>
            <a:gdLst/>
            <a:ahLst/>
            <a:rect l="l" t="t" r="r" b="b"/>
            <a:pathLst>
              <a:path w="15" h="19">
                <a:moveTo>
                  <a:pt x="0" y="19"/>
                </a:moveTo>
                <a:lnTo>
                  <a:pt x="6" y="4"/>
                </a:lnTo>
                <a:lnTo>
                  <a:pt x="6" y="4"/>
                </a:lnTo>
                <a:lnTo>
                  <a:pt x="8" y="2"/>
                </a:lnTo>
                <a:lnTo>
                  <a:pt x="8" y="2"/>
                </a:lnTo>
                <a:lnTo>
                  <a:pt x="8" y="2"/>
                </a:lnTo>
                <a:lnTo>
                  <a:pt x="10" y="2"/>
                </a:lnTo>
                <a:lnTo>
                  <a:pt x="10" y="0"/>
                </a:lnTo>
                <a:lnTo>
                  <a:pt x="13" y="0"/>
                </a:lnTo>
                <a:lnTo>
                  <a:pt x="13" y="0"/>
                </a:lnTo>
                <a:lnTo>
                  <a:pt x="15" y="0"/>
                </a:lnTo>
                <a:lnTo>
                  <a:pt x="15" y="2"/>
                </a:lnTo>
                <a:lnTo>
                  <a:pt x="15" y="4"/>
                </a:lnTo>
                <a:lnTo>
                  <a:pt x="15" y="4"/>
                </a:lnTo>
                <a:lnTo>
                  <a:pt x="13" y="13"/>
                </a:lnTo>
                <a:lnTo>
                  <a:pt x="0" y="19"/>
                </a:lnTo>
                <a:close/>
              </a:path>
            </a:pathLst>
          </a:custGeom>
          <a:solidFill>
            <a:srgbClr val="d1d9d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77960" y="1523880"/>
            <a:ext cx="425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move in the value chain</a:t>
            </a:r>
            <a:endParaRPr b="0" lang="en-US" sz="2400" spc="-1" strike="noStrike">
              <a:solidFill>
                <a:srgbClr val="000000"/>
              </a:solidFill>
              <a:latin typeface="Times New Roman"/>
            </a:endParaRPr>
          </a:p>
        </p:txBody>
      </p:sp>
      <p:sp>
        <p:nvSpPr>
          <p:cNvPr id="77" name=""/>
          <p:cNvSpPr/>
          <p:nvPr/>
        </p:nvSpPr>
        <p:spPr>
          <a:xfrm>
            <a:off x="3055680" y="213372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d to end solution offering</a:t>
            </a:r>
            <a:endParaRPr b="0" lang="en-US" sz="2400" spc="-1" strike="noStrike">
              <a:solidFill>
                <a:srgbClr val="000000"/>
              </a:solidFill>
              <a:latin typeface="Times New Roman"/>
            </a:endParaRPr>
          </a:p>
        </p:txBody>
      </p:sp>
      <p:sp>
        <p:nvSpPr>
          <p:cNvPr id="78" name=""/>
          <p:cNvSpPr/>
          <p:nvPr/>
        </p:nvSpPr>
        <p:spPr>
          <a:xfrm>
            <a:off x="789840" y="2768760"/>
            <a:ext cx="516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Just in time solutions availability</a:t>
            </a:r>
            <a:endParaRPr b="0" lang="en-US" sz="2400" spc="-1" strike="noStrike">
              <a:solidFill>
                <a:srgbClr val="000000"/>
              </a:solidFill>
              <a:latin typeface="Times New Roman"/>
            </a:endParaRPr>
          </a:p>
        </p:txBody>
      </p:sp>
      <p:sp>
        <p:nvSpPr>
          <p:cNvPr id="79" name=""/>
          <p:cNvSpPr/>
          <p:nvPr/>
        </p:nvSpPr>
        <p:spPr>
          <a:xfrm>
            <a:off x="3030480" y="3406680"/>
            <a:ext cx="303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stop shopping</a:t>
            </a:r>
            <a:endParaRPr b="0" lang="en-US" sz="2400" spc="-1" strike="noStrike">
              <a:solidFill>
                <a:srgbClr val="000000"/>
              </a:solidFill>
              <a:latin typeface="Times New Roman"/>
            </a:endParaRPr>
          </a:p>
        </p:txBody>
      </p:sp>
      <p:sp>
        <p:nvSpPr>
          <p:cNvPr id="80" name=""/>
          <p:cNvSpPr/>
          <p:nvPr/>
        </p:nvSpPr>
        <p:spPr>
          <a:xfrm>
            <a:off x="773640" y="4078440"/>
            <a:ext cx="530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ted and managed services</a:t>
            </a:r>
            <a:endParaRPr b="0" lang="en-US" sz="2400" spc="-1" strike="noStrike">
              <a:solidFill>
                <a:srgbClr val="000000"/>
              </a:solidFill>
              <a:latin typeface="Times New Roman"/>
            </a:endParaRPr>
          </a:p>
        </p:txBody>
      </p:sp>
      <p:sp>
        <p:nvSpPr>
          <p:cNvPr id="81" name=""/>
          <p:cNvSpPr/>
          <p:nvPr/>
        </p:nvSpPr>
        <p:spPr>
          <a:xfrm>
            <a:off x="3038400" y="4800600"/>
            <a:ext cx="407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tnership development</a:t>
            </a:r>
            <a:endParaRPr b="0" lang="en-US" sz="2400" spc="-1" strike="noStrike">
              <a:solidFill>
                <a:srgbClr val="000000"/>
              </a:solidFill>
              <a:latin typeface="Times New Roman"/>
            </a:endParaRPr>
          </a:p>
        </p:txBody>
      </p:sp>
      <p:sp>
        <p:nvSpPr>
          <p:cNvPr id="82" name=""/>
          <p:cNvSpPr/>
          <p:nvPr/>
        </p:nvSpPr>
        <p:spPr>
          <a:xfrm>
            <a:off x="761040" y="5511960"/>
            <a:ext cx="692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lobal reach availability for their Customers</a:t>
            </a:r>
            <a:endParaRPr b="0" lang="en-US" sz="2400" spc="-1" strike="noStrike">
              <a:solidFill>
                <a:srgbClr val="000000"/>
              </a:solidFill>
              <a:latin typeface="Times New Roman"/>
            </a:endParaRPr>
          </a:p>
        </p:txBody>
      </p:sp>
      <p:sp>
        <p:nvSpPr>
          <p:cNvPr id="83" name=""/>
          <p:cNvSpPr/>
          <p:nvPr/>
        </p:nvSpPr>
        <p:spPr>
          <a:xfrm>
            <a:off x="200880" y="138240"/>
            <a:ext cx="33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hallenges for IS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red%20gen%20d" descr=""/>
          <p:cNvPicPr/>
          <p:nvPr/>
        </p:nvPicPr>
        <p:blipFill>
          <a:blip r:embed="rId1"/>
          <a:stretch/>
        </p:blipFill>
        <p:spPr>
          <a:xfrm>
            <a:off x="762120" y="4038480"/>
            <a:ext cx="1828800" cy="771480"/>
          </a:xfrm>
          <a:prstGeom prst="rect">
            <a:avLst/>
          </a:prstGeom>
          <a:ln w="0">
            <a:noFill/>
          </a:ln>
        </p:spPr>
      </p:pic>
      <p:grpSp>
        <p:nvGrpSpPr>
          <p:cNvPr id="85" name=""/>
          <p:cNvGrpSpPr/>
          <p:nvPr/>
        </p:nvGrpSpPr>
        <p:grpSpPr>
          <a:xfrm>
            <a:off x="838080" y="2057400"/>
            <a:ext cx="1676520" cy="1904760"/>
            <a:chOff x="838080" y="2057400"/>
            <a:chExt cx="1676520" cy="1904760"/>
          </a:xfrm>
        </p:grpSpPr>
        <p:sp>
          <p:nvSpPr>
            <p:cNvPr id="86"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coolguy" descr=""/>
            <p:cNvPicPr/>
            <p:nvPr/>
          </p:nvPicPr>
          <p:blipFill>
            <a:blip r:embed="rId2"/>
            <a:srcRect l="9083" t="0" r="13635" b="0"/>
            <a:stretch/>
          </p:blipFill>
          <p:spPr>
            <a:xfrm>
              <a:off x="1015920" y="2480760"/>
              <a:ext cx="1295280" cy="1309320"/>
            </a:xfrm>
            <a:prstGeom prst="rect">
              <a:avLst/>
            </a:prstGeom>
            <a:ln w="0">
              <a:noFill/>
            </a:ln>
          </p:spPr>
        </p:pic>
        <p:pic>
          <p:nvPicPr>
            <p:cNvPr id="88" name="logo" descr=""/>
            <p:cNvPicPr/>
            <p:nvPr/>
          </p:nvPicPr>
          <p:blipFill>
            <a:blip r:embed="rId3"/>
            <a:stretch/>
          </p:blipFill>
          <p:spPr>
            <a:xfrm>
              <a:off x="965160" y="2176200"/>
              <a:ext cx="1428840" cy="277560"/>
            </a:xfrm>
            <a:prstGeom prst="rect">
              <a:avLst/>
            </a:prstGeom>
            <a:ln w="0">
              <a:noFill/>
            </a:ln>
          </p:spPr>
        </p:pic>
      </p:grpSp>
      <p:sp>
        <p:nvSpPr>
          <p:cNvPr id="89" name=""/>
          <p:cNvSpPr/>
          <p:nvPr/>
        </p:nvSpPr>
        <p:spPr>
          <a:xfrm>
            <a:off x="4114800" y="160020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ices</a:t>
            </a:r>
            <a:endParaRPr b="0" lang="en-US" sz="2400" spc="-1" strike="noStrike">
              <a:solidFill>
                <a:srgbClr val="000000"/>
              </a:solidFill>
              <a:latin typeface="Times New Roman"/>
            </a:endParaRPr>
          </a:p>
        </p:txBody>
      </p:sp>
      <p:sp>
        <p:nvSpPr>
          <p:cNvPr id="90" name=""/>
          <p:cNvSpPr/>
          <p:nvPr/>
        </p:nvSpPr>
        <p:spPr>
          <a:xfrm>
            <a:off x="4114800" y="243828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Services</a:t>
            </a:r>
            <a:endParaRPr b="0" lang="en-US" sz="2400" spc="-1" strike="noStrike">
              <a:solidFill>
                <a:srgbClr val="000000"/>
              </a:solidFill>
              <a:latin typeface="Times New Roman"/>
            </a:endParaRPr>
          </a:p>
        </p:txBody>
      </p:sp>
      <p:sp>
        <p:nvSpPr>
          <p:cNvPr id="91" name=""/>
          <p:cNvSpPr/>
          <p:nvPr/>
        </p:nvSpPr>
        <p:spPr>
          <a:xfrm>
            <a:off x="4114800" y="3276720"/>
            <a:ext cx="3429000" cy="76176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ice Platform</a:t>
            </a:r>
            <a:endParaRPr b="0" lang="en-US" sz="2400" spc="-1" strike="noStrike">
              <a:solidFill>
                <a:srgbClr val="000000"/>
              </a:solidFill>
              <a:latin typeface="Times New Roman"/>
            </a:endParaRPr>
          </a:p>
        </p:txBody>
      </p:sp>
      <p:sp>
        <p:nvSpPr>
          <p:cNvPr id="92" name=""/>
          <p:cNvSpPr/>
          <p:nvPr/>
        </p:nvSpPr>
        <p:spPr>
          <a:xfrm>
            <a:off x="4114800" y="411480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sic IP Services</a:t>
            </a:r>
            <a:endParaRPr b="0" lang="en-US" sz="2400" spc="-1" strike="noStrike">
              <a:solidFill>
                <a:srgbClr val="000000"/>
              </a:solidFill>
              <a:latin typeface="Times New Roman"/>
            </a:endParaRPr>
          </a:p>
        </p:txBody>
      </p:sp>
      <p:sp>
        <p:nvSpPr>
          <p:cNvPr id="93" name=""/>
          <p:cNvSpPr/>
          <p:nvPr/>
        </p:nvSpPr>
        <p:spPr>
          <a:xfrm>
            <a:off x="4114800" y="502920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twork</a:t>
            </a:r>
            <a:endParaRPr b="0" lang="en-US" sz="2400" spc="-1" strike="noStrike">
              <a:solidFill>
                <a:srgbClr val="000000"/>
              </a:solidFill>
              <a:latin typeface="Times New Roman"/>
            </a:endParaRPr>
          </a:p>
        </p:txBody>
      </p:sp>
      <p:sp>
        <p:nvSpPr>
          <p:cNvPr id="94" name=""/>
          <p:cNvSpPr/>
          <p:nvPr/>
        </p:nvSpPr>
        <p:spPr>
          <a:xfrm>
            <a:off x="7620120" y="1600200"/>
            <a:ext cx="914400" cy="4191120"/>
          </a:xfrm>
          <a:prstGeom prst="rect">
            <a:avLst/>
          </a:prstGeom>
          <a:gradFill rotWithShape="0">
            <a:gsLst>
              <a:gs pos="0">
                <a:srgbClr val="ffccff"/>
              </a:gs>
              <a:gs pos="100000">
                <a:srgbClr val="b18d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6190200" y="3504600"/>
            <a:ext cx="37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twork Oper. Systems</a:t>
            </a:r>
            <a:endParaRPr b="0" lang="en-US" sz="2400" spc="-1" strike="noStrike">
              <a:solidFill>
                <a:srgbClr val="000000"/>
              </a:solidFill>
              <a:latin typeface="Times New Roman"/>
            </a:endParaRPr>
          </a:p>
        </p:txBody>
      </p:sp>
      <p:sp>
        <p:nvSpPr>
          <p:cNvPr id="96" name=""/>
          <p:cNvSpPr/>
          <p:nvPr/>
        </p:nvSpPr>
        <p:spPr>
          <a:xfrm>
            <a:off x="3124080" y="1600200"/>
            <a:ext cx="914400" cy="4191120"/>
          </a:xfrm>
          <a:prstGeom prst="rect">
            <a:avLst/>
          </a:prstGeom>
          <a:gradFill rotWithShape="0">
            <a:gsLst>
              <a:gs pos="0">
                <a:srgbClr val="ffccff"/>
              </a:gs>
              <a:gs pos="100000">
                <a:srgbClr val="b18d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1677960" y="3499560"/>
            <a:ext cx="365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ment Platform</a:t>
            </a:r>
            <a:endParaRPr b="0" lang="en-US" sz="2400" spc="-1" strike="noStrike">
              <a:solidFill>
                <a:srgbClr val="000000"/>
              </a:solidFill>
              <a:latin typeface="Times New Roman"/>
            </a:endParaRPr>
          </a:p>
        </p:txBody>
      </p:sp>
      <p:sp>
        <p:nvSpPr>
          <p:cNvPr id="98"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6320" y="243000"/>
            <a:ext cx="29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PCs comparison</a:t>
            </a:r>
            <a:endParaRPr b="0" lang="en-US" sz="2800" spc="-1" strike="noStrike">
              <a:solidFill>
                <a:srgbClr val="000000"/>
              </a:solidFill>
              <a:latin typeface="Times New Roman"/>
            </a:endParaRPr>
          </a:p>
        </p:txBody>
      </p:sp>
      <p:sp>
        <p:nvSpPr>
          <p:cNvPr id="100" name=""/>
          <p:cNvSpPr/>
          <p:nvPr/>
        </p:nvSpPr>
        <p:spPr>
          <a:xfrm>
            <a:off x="1600200" y="100476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C</a:t>
            </a:r>
            <a:endParaRPr b="0" lang="en-US" sz="2800" spc="-1" strike="noStrike">
              <a:solidFill>
                <a:srgbClr val="000000"/>
              </a:solidFill>
              <a:latin typeface="Times New Roman"/>
            </a:endParaRPr>
          </a:p>
        </p:txBody>
      </p:sp>
      <p:grpSp>
        <p:nvGrpSpPr>
          <p:cNvPr id="101" name=""/>
          <p:cNvGrpSpPr/>
          <p:nvPr/>
        </p:nvGrpSpPr>
        <p:grpSpPr>
          <a:xfrm>
            <a:off x="4724280" y="1066680"/>
            <a:ext cx="2895480" cy="4572000"/>
            <a:chOff x="4724280" y="1066680"/>
            <a:chExt cx="2895480" cy="4572000"/>
          </a:xfrm>
        </p:grpSpPr>
        <p:sp>
          <p:nvSpPr>
            <p:cNvPr id="102" name=""/>
            <p:cNvSpPr/>
            <p:nvPr/>
          </p:nvSpPr>
          <p:spPr>
            <a:xfrm>
              <a:off x="4724280" y="10666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tion D</a:t>
              </a:r>
              <a:endParaRPr b="0" lang="en-US" sz="2800" spc="-1" strike="noStrike">
                <a:solidFill>
                  <a:srgbClr val="000000"/>
                </a:solidFill>
                <a:latin typeface="Times New Roman"/>
              </a:endParaRPr>
            </a:p>
          </p:txBody>
        </p:sp>
        <p:grpSp>
          <p:nvGrpSpPr>
            <p:cNvPr id="103" name=""/>
            <p:cNvGrpSpPr/>
            <p:nvPr/>
          </p:nvGrpSpPr>
          <p:grpSpPr>
            <a:xfrm>
              <a:off x="4724280" y="1676520"/>
              <a:ext cx="2666880" cy="3962160"/>
              <a:chOff x="4724280" y="1676520"/>
              <a:chExt cx="2666880" cy="3962160"/>
            </a:xfrm>
          </p:grpSpPr>
          <p:sp>
            <p:nvSpPr>
              <p:cNvPr id="104" name=""/>
              <p:cNvSpPr/>
              <p:nvPr/>
            </p:nvSpPr>
            <p:spPr>
              <a:xfrm>
                <a:off x="4724280" y="1676520"/>
                <a:ext cx="2590560" cy="99036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24280" y="3124080"/>
                <a:ext cx="2590560" cy="9907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800240" y="4648320"/>
                <a:ext cx="2590920" cy="99036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028840" y="175248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ervices</a:t>
                </a:r>
                <a:endParaRPr b="0" lang="en-US" sz="2400" spc="-1" strike="noStrike">
                  <a:solidFill>
                    <a:srgbClr val="000000"/>
                  </a:solidFill>
                  <a:latin typeface="Times New Roman"/>
                </a:endParaRPr>
              </a:p>
            </p:txBody>
          </p:sp>
          <p:sp>
            <p:nvSpPr>
              <p:cNvPr id="108" name=""/>
              <p:cNvSpPr/>
              <p:nvPr/>
            </p:nvSpPr>
            <p:spPr>
              <a:xfrm>
                <a:off x="4952880" y="320040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ices Platform</a:t>
                </a:r>
                <a:endParaRPr b="0" lang="en-US" sz="2400" spc="-1" strike="noStrike">
                  <a:solidFill>
                    <a:srgbClr val="000000"/>
                  </a:solidFill>
                  <a:latin typeface="Times New Roman"/>
                </a:endParaRPr>
              </a:p>
            </p:txBody>
          </p:sp>
        </p:grpSp>
      </p:grpSp>
      <p:grpSp>
        <p:nvGrpSpPr>
          <p:cNvPr id="109" name=""/>
          <p:cNvGrpSpPr/>
          <p:nvPr/>
        </p:nvGrpSpPr>
        <p:grpSpPr>
          <a:xfrm>
            <a:off x="533520" y="1676520"/>
            <a:ext cx="7315200" cy="3962160"/>
            <a:chOff x="533520" y="1676520"/>
            <a:chExt cx="7315200" cy="3962160"/>
          </a:xfrm>
        </p:grpSpPr>
        <p:grpSp>
          <p:nvGrpSpPr>
            <p:cNvPr id="110" name=""/>
            <p:cNvGrpSpPr/>
            <p:nvPr/>
          </p:nvGrpSpPr>
          <p:grpSpPr>
            <a:xfrm>
              <a:off x="533520" y="1676520"/>
              <a:ext cx="2971800" cy="3962160"/>
              <a:chOff x="533520" y="1676520"/>
              <a:chExt cx="2971800" cy="3962160"/>
            </a:xfrm>
          </p:grpSpPr>
          <p:sp>
            <p:nvSpPr>
              <p:cNvPr id="111" name=""/>
              <p:cNvSpPr/>
              <p:nvPr/>
            </p:nvSpPr>
            <p:spPr>
              <a:xfrm>
                <a:off x="685800" y="1676520"/>
                <a:ext cx="2590920" cy="99036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5800" y="4648320"/>
                <a:ext cx="2590920" cy="99036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3124080"/>
                <a:ext cx="2590920" cy="9907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3520" y="32004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onal System</a:t>
                </a:r>
                <a:endParaRPr b="0" lang="en-US" sz="2400" spc="-1" strike="noStrike">
                  <a:solidFill>
                    <a:srgbClr val="000000"/>
                  </a:solidFill>
                  <a:latin typeface="Times New Roman"/>
                </a:endParaRPr>
              </a:p>
            </p:txBody>
          </p:sp>
          <p:sp>
            <p:nvSpPr>
              <p:cNvPr id="115" name=""/>
              <p:cNvSpPr/>
              <p:nvPr/>
            </p:nvSpPr>
            <p:spPr>
              <a:xfrm>
                <a:off x="914400" y="49528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rdware</a:t>
                </a:r>
                <a:endParaRPr b="0" lang="en-US" sz="2400" spc="-1" strike="noStrike">
                  <a:solidFill>
                    <a:srgbClr val="000000"/>
                  </a:solidFill>
                  <a:latin typeface="Times New Roman"/>
                </a:endParaRPr>
              </a:p>
            </p:txBody>
          </p:sp>
          <p:sp>
            <p:nvSpPr>
              <p:cNvPr id="116" name=""/>
              <p:cNvSpPr/>
              <p:nvPr/>
            </p:nvSpPr>
            <p:spPr>
              <a:xfrm>
                <a:off x="914400" y="19810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a:t>
                </a:r>
                <a:endParaRPr b="0" lang="en-US" sz="2400" spc="-1" strike="noStrike">
                  <a:solidFill>
                    <a:srgbClr val="000000"/>
                  </a:solidFill>
                  <a:latin typeface="Times New Roman"/>
                </a:endParaRPr>
              </a:p>
            </p:txBody>
          </p:sp>
        </p:grpSp>
        <p:sp>
          <p:nvSpPr>
            <p:cNvPr id="117" name=""/>
            <p:cNvSpPr/>
            <p:nvPr/>
          </p:nvSpPr>
          <p:spPr>
            <a:xfrm>
              <a:off x="4343400" y="4740120"/>
              <a:ext cx="350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t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sics Services</a:t>
              </a:r>
              <a:endParaRPr b="0" lang="en-US" sz="2400" spc="-1" strike="noStrike">
                <a:solidFill>
                  <a:srgbClr val="000000"/>
                </a:solidFill>
                <a:latin typeface="Times New Roman"/>
              </a:endParaRPr>
            </a:p>
          </p:txBody>
        </p:sp>
        <p:sp>
          <p:nvSpPr>
            <p:cNvPr id="118" name=""/>
            <p:cNvSpPr/>
            <p:nvPr/>
          </p:nvSpPr>
          <p:spPr>
            <a:xfrm>
              <a:off x="3429000" y="1981080"/>
              <a:ext cx="1143000" cy="457200"/>
            </a:xfrm>
            <a:prstGeom prst="leftRightArrow">
              <a:avLst>
                <a:gd name="adj1" fmla="val 50000"/>
                <a:gd name="adj2" fmla="val 49769"/>
              </a:avLst>
            </a:prstGeom>
            <a:gradFill rotWithShape="0">
              <a:gsLst>
                <a:gs pos="0">
                  <a:srgbClr val="ffccff"/>
                </a:gs>
                <a:gs pos="100000">
                  <a:srgbClr val="b18d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429000" y="3429000"/>
              <a:ext cx="1143000" cy="457200"/>
            </a:xfrm>
            <a:prstGeom prst="leftRightArrow">
              <a:avLst>
                <a:gd name="adj1" fmla="val 50000"/>
                <a:gd name="adj2" fmla="val 49769"/>
              </a:avLst>
            </a:prstGeom>
            <a:gradFill rotWithShape="0">
              <a:gsLst>
                <a:gs pos="0">
                  <a:srgbClr val="ffccff"/>
                </a:gs>
                <a:gs pos="100000">
                  <a:srgbClr val="b18d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4952880"/>
              <a:ext cx="1143000" cy="457200"/>
            </a:xfrm>
            <a:prstGeom prst="leftRightArrow">
              <a:avLst>
                <a:gd name="adj1" fmla="val 50000"/>
                <a:gd name="adj2" fmla="val 49769"/>
              </a:avLst>
            </a:prstGeom>
            <a:gradFill rotWithShape="0">
              <a:gsLst>
                <a:gs pos="0">
                  <a:srgbClr val="ffccff"/>
                </a:gs>
                <a:gs pos="100000">
                  <a:srgbClr val="b18db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red%20gen%20d" descr=""/>
          <p:cNvPicPr/>
          <p:nvPr/>
        </p:nvPicPr>
        <p:blipFill>
          <a:blip r:embed="rId1"/>
          <a:stretch/>
        </p:blipFill>
        <p:spPr>
          <a:xfrm>
            <a:off x="762120" y="4038480"/>
            <a:ext cx="1828800" cy="771480"/>
          </a:xfrm>
          <a:prstGeom prst="rect">
            <a:avLst/>
          </a:prstGeom>
          <a:ln w="0">
            <a:noFill/>
          </a:ln>
        </p:spPr>
      </p:pic>
      <p:grpSp>
        <p:nvGrpSpPr>
          <p:cNvPr id="122" name=""/>
          <p:cNvGrpSpPr/>
          <p:nvPr/>
        </p:nvGrpSpPr>
        <p:grpSpPr>
          <a:xfrm>
            <a:off x="838080" y="2057400"/>
            <a:ext cx="1676520" cy="1904760"/>
            <a:chOff x="838080" y="2057400"/>
            <a:chExt cx="1676520" cy="1904760"/>
          </a:xfrm>
        </p:grpSpPr>
        <p:sp>
          <p:nvSpPr>
            <p:cNvPr id="123" name=""/>
            <p:cNvSpPr/>
            <p:nvPr/>
          </p:nvSpPr>
          <p:spPr>
            <a:xfrm>
              <a:off x="838080" y="2057400"/>
              <a:ext cx="1676520" cy="1904760"/>
            </a:xfrm>
            <a:custGeom>
              <a:avLst/>
              <a:gdLst>
                <a:gd name="textAreaLeft" fmla="*/ 108360 w 1676520"/>
                <a:gd name="textAreaRight" fmla="*/ 1568160 w 1676520"/>
                <a:gd name="textAreaTop" fmla="*/ 108360 h 1904760"/>
                <a:gd name="textAreaBottom" fmla="*/ 1796400 h 1904760"/>
              </a:gdLst>
              <a:ahLst/>
              <a:rect l="textAreaLeft" t="textAreaTop" r="textAreaRight" b="textAreaBottom"/>
              <a:pathLst>
                <a:path w="21600" h="24540">
                  <a:moveTo>
                    <a:pt x="0" y="0"/>
                  </a:moveTo>
                  <a:lnTo>
                    <a:pt x="21600" y="0"/>
                  </a:lnTo>
                  <a:lnTo>
                    <a:pt x="21600" y="24540"/>
                  </a:lnTo>
                  <a:lnTo>
                    <a:pt x="0" y="24540"/>
                  </a:lnTo>
                  <a:close/>
                </a:path>
                <a:path fill="lightenLess" w="21600" h="24540">
                  <a:moveTo>
                    <a:pt x="0" y="0"/>
                  </a:moveTo>
                  <a:lnTo>
                    <a:pt x="21600" y="0"/>
                  </a:lnTo>
                  <a:lnTo>
                    <a:pt x="20200" y="1400"/>
                  </a:lnTo>
                  <a:lnTo>
                    <a:pt x="1400" y="1400"/>
                  </a:lnTo>
                  <a:close/>
                </a:path>
                <a:path fill="darken" w="21600" h="24540">
                  <a:moveTo>
                    <a:pt x="21600" y="0"/>
                  </a:moveTo>
                  <a:lnTo>
                    <a:pt x="21600" y="24540"/>
                  </a:lnTo>
                  <a:lnTo>
                    <a:pt x="20200" y="23140"/>
                  </a:lnTo>
                  <a:lnTo>
                    <a:pt x="20200" y="1400"/>
                  </a:lnTo>
                  <a:close/>
                </a:path>
                <a:path fill="darkenLess" w="21600" h="24540">
                  <a:moveTo>
                    <a:pt x="21600" y="24540"/>
                  </a:moveTo>
                  <a:lnTo>
                    <a:pt x="0" y="24540"/>
                  </a:lnTo>
                  <a:lnTo>
                    <a:pt x="1400" y="23140"/>
                  </a:lnTo>
                  <a:lnTo>
                    <a:pt x="20200" y="23140"/>
                  </a:lnTo>
                  <a:close/>
                </a:path>
                <a:path fill="lighten" w="21600" h="24540">
                  <a:moveTo>
                    <a:pt x="0" y="24540"/>
                  </a:moveTo>
                  <a:lnTo>
                    <a:pt x="0" y="0"/>
                  </a:lnTo>
                  <a:lnTo>
                    <a:pt x="1400" y="1400"/>
                  </a:lnTo>
                  <a:lnTo>
                    <a:pt x="1400" y="23140"/>
                  </a:lnTo>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coolguy" descr=""/>
            <p:cNvPicPr/>
            <p:nvPr/>
          </p:nvPicPr>
          <p:blipFill>
            <a:blip r:embed="rId2"/>
            <a:srcRect l="9083" t="0" r="13635" b="0"/>
            <a:stretch/>
          </p:blipFill>
          <p:spPr>
            <a:xfrm>
              <a:off x="1015920" y="2480760"/>
              <a:ext cx="1295280" cy="1309320"/>
            </a:xfrm>
            <a:prstGeom prst="rect">
              <a:avLst/>
            </a:prstGeom>
            <a:ln w="0">
              <a:noFill/>
            </a:ln>
          </p:spPr>
        </p:pic>
        <p:pic>
          <p:nvPicPr>
            <p:cNvPr id="125" name="logo" descr=""/>
            <p:cNvPicPr/>
            <p:nvPr/>
          </p:nvPicPr>
          <p:blipFill>
            <a:blip r:embed="rId3"/>
            <a:stretch/>
          </p:blipFill>
          <p:spPr>
            <a:xfrm>
              <a:off x="965160" y="2176200"/>
              <a:ext cx="1428840" cy="277560"/>
            </a:xfrm>
            <a:prstGeom prst="rect">
              <a:avLst/>
            </a:prstGeom>
            <a:ln w="0">
              <a:noFill/>
            </a:ln>
          </p:spPr>
        </p:pic>
      </p:grpSp>
      <p:sp>
        <p:nvSpPr>
          <p:cNvPr id="126" name=""/>
          <p:cNvSpPr/>
          <p:nvPr/>
        </p:nvSpPr>
        <p:spPr>
          <a:xfrm>
            <a:off x="4114800" y="16002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ices</a:t>
            </a:r>
            <a:endParaRPr b="0" lang="en-US" sz="2400" spc="-1" strike="noStrike">
              <a:solidFill>
                <a:srgbClr val="000000"/>
              </a:solidFill>
              <a:latin typeface="Times New Roman"/>
            </a:endParaRPr>
          </a:p>
        </p:txBody>
      </p:sp>
      <p:sp>
        <p:nvSpPr>
          <p:cNvPr id="127" name=""/>
          <p:cNvSpPr/>
          <p:nvPr/>
        </p:nvSpPr>
        <p:spPr>
          <a:xfrm>
            <a:off x="4114800" y="243828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Applications/Services</a:t>
            </a:r>
            <a:endParaRPr b="0" lang="en-US" sz="2400" spc="-1" strike="noStrike">
              <a:solidFill>
                <a:srgbClr val="000000"/>
              </a:solidFill>
              <a:latin typeface="Times New Roman"/>
            </a:endParaRPr>
          </a:p>
        </p:txBody>
      </p:sp>
      <p:sp>
        <p:nvSpPr>
          <p:cNvPr id="128" name=""/>
          <p:cNvSpPr/>
          <p:nvPr/>
        </p:nvSpPr>
        <p:spPr>
          <a:xfrm>
            <a:off x="4114800" y="3276720"/>
            <a:ext cx="3429000" cy="761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Service Platform</a:t>
            </a:r>
            <a:endParaRPr b="0" lang="en-US" sz="2400" spc="-1" strike="noStrike">
              <a:solidFill>
                <a:srgbClr val="000000"/>
              </a:solidFill>
              <a:latin typeface="Times New Roman"/>
            </a:endParaRPr>
          </a:p>
        </p:txBody>
      </p:sp>
      <p:sp>
        <p:nvSpPr>
          <p:cNvPr id="129" name=""/>
          <p:cNvSpPr/>
          <p:nvPr/>
        </p:nvSpPr>
        <p:spPr>
          <a:xfrm>
            <a:off x="4114800" y="4114800"/>
            <a:ext cx="342900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Basic IP Services</a:t>
            </a:r>
            <a:endParaRPr b="0" lang="en-US" sz="2400" spc="-1" strike="noStrike">
              <a:solidFill>
                <a:srgbClr val="000000"/>
              </a:solidFill>
              <a:latin typeface="Times New Roman"/>
            </a:endParaRPr>
          </a:p>
        </p:txBody>
      </p:sp>
      <p:sp>
        <p:nvSpPr>
          <p:cNvPr id="130" name=""/>
          <p:cNvSpPr/>
          <p:nvPr/>
        </p:nvSpPr>
        <p:spPr>
          <a:xfrm>
            <a:off x="4114800" y="5029200"/>
            <a:ext cx="3429000" cy="762120"/>
          </a:xfrm>
          <a:prstGeom prst="rect">
            <a:avLst/>
          </a:prstGeom>
          <a:gradFill rotWithShape="0">
            <a:gsLst>
              <a:gs pos="0">
                <a:srgbClr val="ccffcc"/>
              </a:gs>
              <a:gs pos="100000">
                <a:srgbClr val="8db18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twork</a:t>
            </a:r>
            <a:endParaRPr b="0" lang="en-US" sz="2400" spc="-1" strike="noStrike">
              <a:solidFill>
                <a:srgbClr val="000000"/>
              </a:solidFill>
              <a:latin typeface="Times New Roman"/>
            </a:endParaRPr>
          </a:p>
        </p:txBody>
      </p:sp>
      <p:sp>
        <p:nvSpPr>
          <p:cNvPr id="131" name=""/>
          <p:cNvSpPr/>
          <p:nvPr/>
        </p:nvSpPr>
        <p:spPr>
          <a:xfrm>
            <a:off x="762012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6200000">
            <a:off x="6190200" y="3504600"/>
            <a:ext cx="377280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Network Oper. Systems</a:t>
            </a:r>
            <a:endParaRPr b="0" lang="en-US" sz="2400" spc="-1" strike="noStrike">
              <a:solidFill>
                <a:srgbClr val="000000"/>
              </a:solidFill>
              <a:latin typeface="Times New Roman"/>
            </a:endParaRPr>
          </a:p>
        </p:txBody>
      </p:sp>
      <p:sp>
        <p:nvSpPr>
          <p:cNvPr id="133" name=""/>
          <p:cNvSpPr/>
          <p:nvPr/>
        </p:nvSpPr>
        <p:spPr>
          <a:xfrm>
            <a:off x="3124080" y="1600200"/>
            <a:ext cx="914400" cy="419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16200000">
            <a:off x="1677960" y="3499560"/>
            <a:ext cx="365076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ahoma"/>
              </a:rPr>
              <a:t>Development Platform</a:t>
            </a:r>
            <a:endParaRPr b="0" lang="en-US" sz="2400" spc="-1" strike="noStrike">
              <a:solidFill>
                <a:srgbClr val="000000"/>
              </a:solidFill>
              <a:latin typeface="Times New Roman"/>
            </a:endParaRPr>
          </a:p>
        </p:txBody>
      </p:sp>
      <p:sp>
        <p:nvSpPr>
          <p:cNvPr id="135"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990720"/>
            <a:ext cx="914400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evolution" descr=""/>
          <p:cNvPicPr/>
          <p:nvPr/>
        </p:nvPicPr>
        <p:blipFill>
          <a:blip r:embed="rId1"/>
          <a:srcRect l="0" t="2637" r="0" b="2116"/>
          <a:stretch/>
        </p:blipFill>
        <p:spPr>
          <a:xfrm>
            <a:off x="1600200" y="1327320"/>
            <a:ext cx="6019920" cy="5302080"/>
          </a:xfrm>
          <a:prstGeom prst="rect">
            <a:avLst/>
          </a:prstGeom>
          <a:ln w="0">
            <a:noFill/>
          </a:ln>
        </p:spPr>
      </p:pic>
      <p:sp>
        <p:nvSpPr>
          <p:cNvPr id="138" name=""/>
          <p:cNvSpPr/>
          <p:nvPr/>
        </p:nvSpPr>
        <p:spPr>
          <a:xfrm>
            <a:off x="5105520" y="5410080"/>
            <a:ext cx="1641240" cy="56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ser Aggregation</a:t>
            </a:r>
            <a:endParaRPr b="0" lang="en-US" sz="1800" spc="-1" strike="noStrike">
              <a:solidFill>
                <a:srgbClr val="000000"/>
              </a:solidFill>
              <a:latin typeface="Times New Roman"/>
            </a:endParaRPr>
          </a:p>
        </p:txBody>
      </p:sp>
      <p:sp>
        <p:nvSpPr>
          <p:cNvPr id="139" name=""/>
          <p:cNvSpPr/>
          <p:nvPr/>
        </p:nvSpPr>
        <p:spPr>
          <a:xfrm>
            <a:off x="2438280" y="3962520"/>
            <a:ext cx="1024200" cy="510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dge Services</a:t>
            </a:r>
            <a:endParaRPr b="0" lang="en-US" sz="1600" spc="-1" strike="noStrike">
              <a:solidFill>
                <a:srgbClr val="000000"/>
              </a:solidFill>
              <a:latin typeface="Times New Roman"/>
            </a:endParaRPr>
          </a:p>
        </p:txBody>
      </p:sp>
      <p:sp>
        <p:nvSpPr>
          <p:cNvPr id="140" name=""/>
          <p:cNvSpPr/>
          <p:nvPr/>
        </p:nvSpPr>
        <p:spPr>
          <a:xfrm>
            <a:off x="5257800" y="3581280"/>
            <a:ext cx="1209600" cy="510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acket Switching</a:t>
            </a:r>
            <a:endParaRPr b="0" lang="en-US" sz="1600" spc="-1" strike="noStrike">
              <a:solidFill>
                <a:srgbClr val="000000"/>
              </a:solidFill>
              <a:latin typeface="Times New Roman"/>
            </a:endParaRPr>
          </a:p>
        </p:txBody>
      </p:sp>
      <p:sp>
        <p:nvSpPr>
          <p:cNvPr id="141" name=""/>
          <p:cNvSpPr/>
          <p:nvPr/>
        </p:nvSpPr>
        <p:spPr>
          <a:xfrm>
            <a:off x="4079880" y="3681360"/>
            <a:ext cx="987480" cy="51084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ahoma"/>
              </a:rPr>
              <a:t>Optical Core</a:t>
            </a:r>
            <a:endParaRPr b="0" lang="en-US" sz="1600" spc="-1" strike="noStrike">
              <a:solidFill>
                <a:srgbClr val="000000"/>
              </a:solidFill>
              <a:latin typeface="Times New Roman"/>
            </a:endParaRPr>
          </a:p>
        </p:txBody>
      </p:sp>
      <p:sp>
        <p:nvSpPr>
          <p:cNvPr id="142" name=""/>
          <p:cNvSpPr/>
          <p:nvPr/>
        </p:nvSpPr>
        <p:spPr>
          <a:xfrm>
            <a:off x="7057800" y="4046400"/>
            <a:ext cx="1035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x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ireless</a:t>
            </a:r>
            <a:endParaRPr b="0" lang="en-US" sz="1600" spc="-1" strike="noStrike">
              <a:solidFill>
                <a:srgbClr val="000000"/>
              </a:solidFill>
              <a:latin typeface="Times New Roman"/>
            </a:endParaRPr>
          </a:p>
        </p:txBody>
      </p:sp>
      <p:sp>
        <p:nvSpPr>
          <p:cNvPr id="143" name=""/>
          <p:cNvSpPr/>
          <p:nvPr/>
        </p:nvSpPr>
        <p:spPr>
          <a:xfrm>
            <a:off x="4002120" y="220968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P/ATM/FR</a:t>
            </a:r>
            <a:endParaRPr b="0" lang="en-US" sz="1600" spc="-1" strike="noStrike">
              <a:solidFill>
                <a:srgbClr val="000000"/>
              </a:solidFill>
              <a:latin typeface="Times New Roman"/>
            </a:endParaRPr>
          </a:p>
        </p:txBody>
      </p:sp>
      <p:grpSp>
        <p:nvGrpSpPr>
          <p:cNvPr id="144" name=""/>
          <p:cNvGrpSpPr/>
          <p:nvPr/>
        </p:nvGrpSpPr>
        <p:grpSpPr>
          <a:xfrm>
            <a:off x="1689120" y="5048280"/>
            <a:ext cx="708120" cy="574560"/>
            <a:chOff x="1689120" y="5048280"/>
            <a:chExt cx="708120" cy="574560"/>
          </a:xfrm>
        </p:grpSpPr>
        <p:sp>
          <p:nvSpPr>
            <p:cNvPr id="145" name=""/>
            <p:cNvSpPr/>
            <p:nvPr/>
          </p:nvSpPr>
          <p:spPr>
            <a:xfrm>
              <a:off x="1689120" y="5083200"/>
              <a:ext cx="708120" cy="53964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1824120" y="5048280"/>
              <a:ext cx="412920" cy="496800"/>
            </a:xfrm>
            <a:prstGeom prst="rect">
              <a:avLst/>
            </a:prstGeom>
            <a:ln w="0">
              <a:noFill/>
            </a:ln>
          </p:spPr>
        </p:pic>
      </p:grpSp>
      <p:grpSp>
        <p:nvGrpSpPr>
          <p:cNvPr id="147" name=""/>
          <p:cNvGrpSpPr/>
          <p:nvPr/>
        </p:nvGrpSpPr>
        <p:grpSpPr>
          <a:xfrm>
            <a:off x="7162920" y="3399840"/>
            <a:ext cx="826560" cy="568800"/>
            <a:chOff x="7162920" y="3399840"/>
            <a:chExt cx="826560" cy="568800"/>
          </a:xfrm>
        </p:grpSpPr>
        <p:sp>
          <p:nvSpPr>
            <p:cNvPr id="148" name=""/>
            <p:cNvSpPr/>
            <p:nvPr/>
          </p:nvSpPr>
          <p:spPr>
            <a:xfrm>
              <a:off x="7162920" y="3429000"/>
              <a:ext cx="809640" cy="53964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3"/>
            <a:stretch/>
          </p:blipFill>
          <p:spPr>
            <a:xfrm>
              <a:off x="7254720" y="3570120"/>
              <a:ext cx="462240" cy="341280"/>
            </a:xfrm>
            <a:prstGeom prst="rect">
              <a:avLst/>
            </a:prstGeom>
            <a:ln w="0">
              <a:noFill/>
            </a:ln>
          </p:spPr>
        </p:pic>
        <p:grpSp>
          <p:nvGrpSpPr>
            <p:cNvPr id="150" name=""/>
            <p:cNvGrpSpPr/>
            <p:nvPr/>
          </p:nvGrpSpPr>
          <p:grpSpPr>
            <a:xfrm>
              <a:off x="7581600" y="3399840"/>
              <a:ext cx="407880" cy="334800"/>
              <a:chOff x="7581600" y="3399840"/>
              <a:chExt cx="407880" cy="334800"/>
            </a:xfrm>
          </p:grpSpPr>
          <p:grpSp>
            <p:nvGrpSpPr>
              <p:cNvPr id="151" name=""/>
              <p:cNvGrpSpPr/>
              <p:nvPr/>
            </p:nvGrpSpPr>
            <p:grpSpPr>
              <a:xfrm>
                <a:off x="7693560" y="3627720"/>
                <a:ext cx="75960" cy="69840"/>
                <a:chOff x="7693560" y="3627720"/>
                <a:chExt cx="75960" cy="69840"/>
              </a:xfrm>
            </p:grpSpPr>
            <p:sp>
              <p:nvSpPr>
                <p:cNvPr id="152" name=""/>
                <p:cNvSpPr/>
                <p:nvPr/>
              </p:nvSpPr>
              <p:spPr>
                <a:xfrm rot="1818000">
                  <a:off x="7693920" y="3662640"/>
                  <a:ext cx="64080" cy="20160"/>
                </a:xfrm>
                <a:prstGeom prst="ellipse">
                  <a:avLst/>
                </a:prstGeom>
                <a:solidFill>
                  <a:srgbClr val="93936c"/>
                </a:solidFill>
                <a:ln w="1440">
                  <a:solidFill>
                    <a:srgbClr val="494936"/>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rot="1818000">
                  <a:off x="7702920" y="3641040"/>
                  <a:ext cx="62640" cy="31680"/>
                </a:xfrm>
                <a:prstGeom prst="rect">
                  <a:avLst/>
                </a:prstGeom>
                <a:solidFill>
                  <a:srgbClr val="93936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 name=""/>
                <p:cNvSpPr/>
                <p:nvPr/>
              </p:nvSpPr>
              <p:spPr>
                <a:xfrm rot="1818000">
                  <a:off x="7702920" y="3641040"/>
                  <a:ext cx="62640" cy="31680"/>
                </a:xfrm>
                <a:prstGeom prst="rect">
                  <a:avLst/>
                </a:prstGeom>
                <a:solidFill>
                  <a:srgbClr val="93936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 name=""/>
                <p:cNvSpPr/>
                <p:nvPr/>
              </p:nvSpPr>
              <p:spPr>
                <a:xfrm flipV="1">
                  <a:off x="7700040" y="3636000"/>
                  <a:ext cx="11880" cy="18360"/>
                </a:xfrm>
                <a:prstGeom prst="line">
                  <a:avLst/>
                </a:prstGeom>
                <a:ln w="1440">
                  <a:solidFill>
                    <a:srgbClr val="494936"/>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6" name=""/>
                <p:cNvSpPr/>
                <p:nvPr/>
              </p:nvSpPr>
              <p:spPr>
                <a:xfrm flipV="1">
                  <a:off x="7754040" y="3665520"/>
                  <a:ext cx="12960" cy="20520"/>
                </a:xfrm>
                <a:prstGeom prst="line">
                  <a:avLst/>
                </a:prstGeom>
                <a:ln w="1440">
                  <a:solidFill>
                    <a:srgbClr val="49493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57" name=""/>
              <p:cNvGrpSpPr/>
              <p:nvPr/>
            </p:nvGrpSpPr>
            <p:grpSpPr>
              <a:xfrm>
                <a:off x="7693200" y="3592800"/>
                <a:ext cx="105120" cy="90720"/>
                <a:chOff x="7693200" y="3592800"/>
                <a:chExt cx="105120" cy="90720"/>
              </a:xfrm>
            </p:grpSpPr>
            <p:sp>
              <p:nvSpPr>
                <p:cNvPr id="158" name=""/>
                <p:cNvSpPr/>
                <p:nvPr/>
              </p:nvSpPr>
              <p:spPr>
                <a:xfrm rot="1818000">
                  <a:off x="7694280" y="3629520"/>
                  <a:ext cx="96480" cy="31680"/>
                </a:xfrm>
                <a:prstGeom prst="ellipse">
                  <a:avLst/>
                </a:prstGeom>
                <a:solidFill>
                  <a:srgbClr val="a5a585"/>
                </a:solidFill>
                <a:ln w="1440">
                  <a:solidFill>
                    <a:srgbClr val="494936"/>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 name=""/>
                <p:cNvSpPr/>
                <p:nvPr/>
              </p:nvSpPr>
              <p:spPr>
                <a:xfrm rot="1818000">
                  <a:off x="7702200" y="3614040"/>
                  <a:ext cx="93960" cy="33120"/>
                </a:xfrm>
                <a:prstGeom prst="rect">
                  <a:avLst/>
                </a:prstGeom>
                <a:solidFill>
                  <a:srgbClr val="a5a58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 name=""/>
                <p:cNvSpPr/>
                <p:nvPr/>
              </p:nvSpPr>
              <p:spPr>
                <a:xfrm rot="1818000">
                  <a:off x="7702200" y="3614040"/>
                  <a:ext cx="93960" cy="33120"/>
                </a:xfrm>
                <a:prstGeom prst="rect">
                  <a:avLst/>
                </a:prstGeom>
                <a:solidFill>
                  <a:srgbClr val="a5a58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1" name=""/>
                <p:cNvSpPr/>
                <p:nvPr/>
              </p:nvSpPr>
              <p:spPr>
                <a:xfrm flipV="1">
                  <a:off x="7701120" y="3606480"/>
                  <a:ext cx="9000" cy="14400"/>
                </a:xfrm>
                <a:prstGeom prst="line">
                  <a:avLst/>
                </a:prstGeom>
                <a:ln w="1440">
                  <a:solidFill>
                    <a:srgbClr val="494936"/>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 name=""/>
                <p:cNvSpPr/>
                <p:nvPr/>
              </p:nvSpPr>
              <p:spPr>
                <a:xfrm flipV="1">
                  <a:off x="7782120" y="3654000"/>
                  <a:ext cx="9360" cy="14040"/>
                </a:xfrm>
                <a:prstGeom prst="line">
                  <a:avLst/>
                </a:prstGeom>
                <a:ln w="1440">
                  <a:solidFill>
                    <a:srgbClr val="494936"/>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63" name=""/>
              <p:cNvSpPr/>
              <p:nvPr/>
            </p:nvSpPr>
            <p:spPr>
              <a:xfrm rot="1818000">
                <a:off x="7598880" y="3482280"/>
                <a:ext cx="373320" cy="169560"/>
              </a:xfrm>
              <a:custGeom>
                <a:avLst/>
                <a:gdLst/>
                <a:ahLst/>
                <a:rect l="l" t="t" r="r" b="b"/>
                <a:pathLst>
                  <a:path stroke="0" w="21600" h="21600">
                    <a:moveTo>
                      <a:pt x="21578" y="10110"/>
                    </a:moveTo>
                    <a:arcTo wR="10800" hR="10800" stAng="-219890" swAng="11281997"/>
                    <a:lnTo>
                      <a:pt x="10800" y="10800"/>
                    </a:lnTo>
                    <a:close/>
                  </a:path>
                  <a:path fill="none" w="21600" h="21600">
                    <a:moveTo>
                      <a:pt x="21578" y="10110"/>
                    </a:moveTo>
                    <a:arcTo wR="10800" hR="10800" stAng="-219890" swAng="11281997"/>
                  </a:path>
                </a:pathLst>
              </a:custGeom>
              <a:solidFill>
                <a:srgbClr val="a5a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1818000">
                <a:off x="7598880" y="3482280"/>
                <a:ext cx="373320" cy="169560"/>
              </a:xfrm>
              <a:custGeom>
                <a:avLst/>
                <a:gdLst/>
                <a:ahLst/>
                <a:rect l="l" t="t" r="r" b="b"/>
                <a:pathLst>
                  <a:path stroke="0" w="21600" h="21600">
                    <a:moveTo>
                      <a:pt x="21578" y="10110"/>
                    </a:moveTo>
                    <a:arcTo wR="10800" hR="10800" stAng="-219890" swAng="11281997"/>
                    <a:lnTo>
                      <a:pt x="10800" y="10800"/>
                    </a:lnTo>
                    <a:close/>
                  </a:path>
                  <a:path fill="none" w="21600" h="21600">
                    <a:moveTo>
                      <a:pt x="21578" y="10110"/>
                    </a:moveTo>
                    <a:arcTo wR="10800" hR="10800" stAng="-219890" swAng="11281997"/>
                  </a:path>
                </a:pathLst>
              </a:custGeom>
              <a:solidFill>
                <a:srgbClr val="a5a585"/>
              </a:solidFill>
              <a:ln w="14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818000">
                <a:off x="7601040" y="3530520"/>
                <a:ext cx="376200" cy="65880"/>
              </a:xfrm>
              <a:prstGeom prst="ellipse">
                <a:avLst/>
              </a:prstGeom>
              <a:solidFill>
                <a:srgbClr val="c9c9b6"/>
              </a:solidFill>
              <a:ln w="1440">
                <a:solidFill>
                  <a:srgbClr val="494936"/>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6" name=""/>
              <p:cNvSpPr/>
              <p:nvPr/>
            </p:nvSpPr>
            <p:spPr>
              <a:xfrm>
                <a:off x="7827480" y="3495960"/>
                <a:ext cx="121680" cy="159840"/>
              </a:xfrm>
              <a:prstGeom prst="line">
                <a:avLst/>
              </a:prstGeom>
              <a:ln w="6480">
                <a:solidFill>
                  <a:srgbClr val="93936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rot="1818000">
                <a:off x="7798320" y="3470400"/>
                <a:ext cx="12240" cy="127800"/>
              </a:xfrm>
              <a:custGeom>
                <a:avLst/>
                <a:gdLst/>
                <a:ahLst/>
                <a:rect l="l" t="t" r="r" b="b"/>
                <a:pathLst>
                  <a:path w="11" h="120">
                    <a:moveTo>
                      <a:pt x="6" y="0"/>
                    </a:moveTo>
                    <a:lnTo>
                      <a:pt x="0" y="120"/>
                    </a:lnTo>
                    <a:lnTo>
                      <a:pt x="11" y="120"/>
                    </a:lnTo>
                    <a:lnTo>
                      <a:pt x="6" y="0"/>
                    </a:lnTo>
                    <a:close/>
                  </a:path>
                </a:pathLst>
              </a:cu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rot="1818000">
                <a:off x="7798320" y="3470400"/>
                <a:ext cx="12240" cy="127800"/>
              </a:xfrm>
              <a:custGeom>
                <a:avLst/>
                <a:gdLst/>
                <a:ahLst/>
                <a:rect l="l" t="t" r="r" b="b"/>
                <a:pathLst>
                  <a:path w="11" h="120">
                    <a:moveTo>
                      <a:pt x="6" y="0"/>
                    </a:moveTo>
                    <a:lnTo>
                      <a:pt x="0" y="120"/>
                    </a:lnTo>
                    <a:lnTo>
                      <a:pt x="11" y="120"/>
                    </a:lnTo>
                    <a:lnTo>
                      <a:pt x="6" y="0"/>
                    </a:lnTo>
                    <a:close/>
                  </a:path>
                </a:pathLst>
              </a:custGeom>
              <a:solidFill>
                <a:srgbClr val="b7b79d"/>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rot="1818000">
                <a:off x="7806600" y="3504600"/>
                <a:ext cx="27000" cy="11520"/>
              </a:xfrm>
              <a:prstGeom prst="ellipse">
                <a:avLst/>
              </a:prstGeom>
              <a:solidFill>
                <a:srgbClr val="b7b79d"/>
              </a:solidFill>
              <a:ln w="1440">
                <a:solidFill>
                  <a:srgbClr val="494936"/>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 name=""/>
              <p:cNvSpPr/>
              <p:nvPr/>
            </p:nvSpPr>
            <p:spPr>
              <a:xfrm rot="1818000">
                <a:off x="7677360" y="3487680"/>
                <a:ext cx="65160" cy="56520"/>
              </a:xfrm>
              <a:custGeom>
                <a:avLst/>
                <a:gdLst/>
                <a:ahLst/>
                <a:rect l="l" t="t" r="r" b="b"/>
                <a:pathLst>
                  <a:path w="58" h="53">
                    <a:moveTo>
                      <a:pt x="34" y="52"/>
                    </a:moveTo>
                    <a:lnTo>
                      <a:pt x="0" y="4"/>
                    </a:lnTo>
                    <a:lnTo>
                      <a:pt x="13" y="3"/>
                    </a:lnTo>
                    <a:lnTo>
                      <a:pt x="22" y="1"/>
                    </a:lnTo>
                    <a:lnTo>
                      <a:pt x="31" y="1"/>
                    </a:lnTo>
                    <a:lnTo>
                      <a:pt x="41" y="0"/>
                    </a:lnTo>
                    <a:lnTo>
                      <a:pt x="58" y="53"/>
                    </a:lnTo>
                    <a:lnTo>
                      <a:pt x="45" y="53"/>
                    </a:lnTo>
                    <a:lnTo>
                      <a:pt x="34" y="52"/>
                    </a:lnTo>
                    <a:close/>
                  </a:path>
                </a:pathLst>
              </a:custGeom>
              <a:solidFill>
                <a:srgbClr val="b7b79d"/>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1" name=""/>
              <p:cNvSpPr/>
              <p:nvPr/>
            </p:nvSpPr>
            <p:spPr>
              <a:xfrm rot="1818000">
                <a:off x="7677360" y="3487680"/>
                <a:ext cx="65160" cy="56520"/>
              </a:xfrm>
              <a:custGeom>
                <a:avLst/>
                <a:gdLst/>
                <a:ahLst/>
                <a:rect l="l" t="t" r="r" b="b"/>
                <a:pathLst>
                  <a:path w="58" h="53">
                    <a:moveTo>
                      <a:pt x="34" y="52"/>
                    </a:moveTo>
                    <a:lnTo>
                      <a:pt x="0" y="4"/>
                    </a:lnTo>
                    <a:lnTo>
                      <a:pt x="13" y="3"/>
                    </a:lnTo>
                    <a:lnTo>
                      <a:pt x="22" y="1"/>
                    </a:lnTo>
                    <a:lnTo>
                      <a:pt x="31" y="1"/>
                    </a:lnTo>
                    <a:lnTo>
                      <a:pt x="41" y="0"/>
                    </a:lnTo>
                    <a:lnTo>
                      <a:pt x="58" y="53"/>
                    </a:lnTo>
                    <a:lnTo>
                      <a:pt x="45" y="53"/>
                    </a:lnTo>
                    <a:lnTo>
                      <a:pt x="34" y="52"/>
                    </a:lnTo>
                    <a:close/>
                  </a:path>
                </a:pathLst>
              </a:custGeom>
              <a:solidFill>
                <a:srgbClr val="b7b79d"/>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2" name=""/>
              <p:cNvSpPr/>
              <p:nvPr/>
            </p:nvSpPr>
            <p:spPr>
              <a:xfrm flipH="1" flipV="1">
                <a:off x="7629480" y="3468960"/>
                <a:ext cx="199080" cy="27360"/>
              </a:xfrm>
              <a:prstGeom prst="line">
                <a:avLst/>
              </a:prstGeom>
              <a:ln w="6480">
                <a:solidFill>
                  <a:srgbClr val="93936c"/>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pic>
        <p:nvPicPr>
          <p:cNvPr id="173" name="" descr=""/>
          <p:cNvPicPr/>
          <p:nvPr/>
        </p:nvPicPr>
        <p:blipFill>
          <a:blip r:embed="rId4"/>
          <a:srcRect l="0" t="0" r="0" b="6109"/>
          <a:stretch/>
        </p:blipFill>
        <p:spPr>
          <a:xfrm>
            <a:off x="2733840" y="5629320"/>
            <a:ext cx="712800" cy="465120"/>
          </a:xfrm>
          <a:prstGeom prst="rect">
            <a:avLst/>
          </a:prstGeom>
          <a:ln w="28440">
            <a:solidFill>
              <a:srgbClr val="00b6e8"/>
            </a:solidFill>
            <a:miter/>
          </a:ln>
        </p:spPr>
      </p:pic>
      <p:grpSp>
        <p:nvGrpSpPr>
          <p:cNvPr id="174" name=""/>
          <p:cNvGrpSpPr/>
          <p:nvPr/>
        </p:nvGrpSpPr>
        <p:grpSpPr>
          <a:xfrm>
            <a:off x="6838920" y="4964040"/>
            <a:ext cx="709560" cy="455760"/>
            <a:chOff x="6838920" y="4964040"/>
            <a:chExt cx="709560" cy="455760"/>
          </a:xfrm>
        </p:grpSpPr>
        <p:sp>
          <p:nvSpPr>
            <p:cNvPr id="175" name=""/>
            <p:cNvSpPr/>
            <p:nvPr/>
          </p:nvSpPr>
          <p:spPr>
            <a:xfrm>
              <a:off x="6838920" y="4964040"/>
              <a:ext cx="709560" cy="45576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EndUser" descr=""/>
            <p:cNvPicPr/>
            <p:nvPr/>
          </p:nvPicPr>
          <p:blipFill>
            <a:blip r:embed="rId5"/>
            <a:stretch/>
          </p:blipFill>
          <p:spPr>
            <a:xfrm>
              <a:off x="7056360" y="4989600"/>
              <a:ext cx="317520" cy="426960"/>
            </a:xfrm>
            <a:prstGeom prst="rect">
              <a:avLst/>
            </a:prstGeom>
            <a:ln w="0">
              <a:noFill/>
            </a:ln>
          </p:spPr>
        </p:pic>
      </p:grpSp>
      <p:grpSp>
        <p:nvGrpSpPr>
          <p:cNvPr id="177" name=""/>
          <p:cNvGrpSpPr/>
          <p:nvPr/>
        </p:nvGrpSpPr>
        <p:grpSpPr>
          <a:xfrm>
            <a:off x="4230720" y="2058840"/>
            <a:ext cx="709560" cy="455400"/>
            <a:chOff x="4230720" y="2058840"/>
            <a:chExt cx="709560" cy="455400"/>
          </a:xfrm>
        </p:grpSpPr>
        <p:sp>
          <p:nvSpPr>
            <p:cNvPr id="178" name=""/>
            <p:cNvSpPr/>
            <p:nvPr/>
          </p:nvSpPr>
          <p:spPr>
            <a:xfrm>
              <a:off x="4230720" y="2058840"/>
              <a:ext cx="709560" cy="45540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 descr=""/>
            <p:cNvPicPr/>
            <p:nvPr/>
          </p:nvPicPr>
          <p:blipFill>
            <a:blip r:embed="rId6"/>
            <a:stretch/>
          </p:blipFill>
          <p:spPr>
            <a:xfrm>
              <a:off x="4346640" y="2116080"/>
              <a:ext cx="477720" cy="352440"/>
            </a:xfrm>
            <a:prstGeom prst="rect">
              <a:avLst/>
            </a:prstGeom>
            <a:ln w="0">
              <a:noFill/>
            </a:ln>
          </p:spPr>
        </p:pic>
      </p:grpSp>
      <p:grpSp>
        <p:nvGrpSpPr>
          <p:cNvPr id="180" name=""/>
          <p:cNvGrpSpPr/>
          <p:nvPr/>
        </p:nvGrpSpPr>
        <p:grpSpPr>
          <a:xfrm>
            <a:off x="6324480" y="1677960"/>
            <a:ext cx="709200" cy="345960"/>
            <a:chOff x="6324480" y="1677960"/>
            <a:chExt cx="709200" cy="345960"/>
          </a:xfrm>
        </p:grpSpPr>
        <p:sp>
          <p:nvSpPr>
            <p:cNvPr id="181" name=""/>
            <p:cNvSpPr/>
            <p:nvPr/>
          </p:nvSpPr>
          <p:spPr>
            <a:xfrm>
              <a:off x="6324480" y="1677960"/>
              <a:ext cx="707760" cy="33804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6327360" y="1703160"/>
              <a:ext cx="706320" cy="320760"/>
              <a:chOff x="6327360" y="1703160"/>
              <a:chExt cx="706320" cy="320760"/>
            </a:xfrm>
          </p:grpSpPr>
          <p:sp>
            <p:nvSpPr>
              <p:cNvPr id="183" name=""/>
              <p:cNvSpPr/>
              <p:nvPr/>
            </p:nvSpPr>
            <p:spPr>
              <a:xfrm>
                <a:off x="6564600" y="1763640"/>
                <a:ext cx="145080" cy="114120"/>
              </a:xfrm>
              <a:custGeom>
                <a:avLst/>
                <a:gdLst/>
                <a:ahLst/>
                <a:rect l="l" t="t" r="r" b="b"/>
                <a:pathLst>
                  <a:path w="89" h="100">
                    <a:moveTo>
                      <a:pt x="39" y="36"/>
                    </a:moveTo>
                    <a:lnTo>
                      <a:pt x="37" y="39"/>
                    </a:lnTo>
                    <a:lnTo>
                      <a:pt x="36" y="39"/>
                    </a:lnTo>
                    <a:lnTo>
                      <a:pt x="34" y="40"/>
                    </a:lnTo>
                    <a:lnTo>
                      <a:pt x="33" y="41"/>
                    </a:lnTo>
                    <a:lnTo>
                      <a:pt x="30" y="41"/>
                    </a:lnTo>
                    <a:lnTo>
                      <a:pt x="28" y="43"/>
                    </a:lnTo>
                    <a:lnTo>
                      <a:pt x="26" y="43"/>
                    </a:lnTo>
                    <a:lnTo>
                      <a:pt x="23" y="43"/>
                    </a:lnTo>
                    <a:lnTo>
                      <a:pt x="23" y="45"/>
                    </a:lnTo>
                    <a:lnTo>
                      <a:pt x="22" y="45"/>
                    </a:lnTo>
                    <a:lnTo>
                      <a:pt x="19" y="45"/>
                    </a:lnTo>
                    <a:lnTo>
                      <a:pt x="18" y="46"/>
                    </a:lnTo>
                    <a:lnTo>
                      <a:pt x="17" y="48"/>
                    </a:lnTo>
                    <a:lnTo>
                      <a:pt x="15" y="50"/>
                    </a:lnTo>
                    <a:lnTo>
                      <a:pt x="15" y="53"/>
                    </a:lnTo>
                    <a:lnTo>
                      <a:pt x="13" y="58"/>
                    </a:lnTo>
                    <a:lnTo>
                      <a:pt x="10" y="65"/>
                    </a:lnTo>
                    <a:lnTo>
                      <a:pt x="7" y="71"/>
                    </a:lnTo>
                    <a:lnTo>
                      <a:pt x="6" y="76"/>
                    </a:lnTo>
                    <a:lnTo>
                      <a:pt x="4" y="84"/>
                    </a:lnTo>
                    <a:lnTo>
                      <a:pt x="1" y="88"/>
                    </a:lnTo>
                    <a:lnTo>
                      <a:pt x="0" y="90"/>
                    </a:lnTo>
                    <a:lnTo>
                      <a:pt x="0" y="92"/>
                    </a:lnTo>
                    <a:lnTo>
                      <a:pt x="0" y="94"/>
                    </a:lnTo>
                    <a:lnTo>
                      <a:pt x="0" y="95"/>
                    </a:lnTo>
                    <a:lnTo>
                      <a:pt x="1" y="97"/>
                    </a:lnTo>
                    <a:lnTo>
                      <a:pt x="4" y="99"/>
                    </a:lnTo>
                    <a:lnTo>
                      <a:pt x="5" y="99"/>
                    </a:lnTo>
                    <a:lnTo>
                      <a:pt x="6" y="99"/>
                    </a:lnTo>
                    <a:lnTo>
                      <a:pt x="6" y="97"/>
                    </a:lnTo>
                    <a:lnTo>
                      <a:pt x="7" y="97"/>
                    </a:lnTo>
                    <a:lnTo>
                      <a:pt x="10" y="97"/>
                    </a:lnTo>
                    <a:lnTo>
                      <a:pt x="12" y="97"/>
                    </a:lnTo>
                    <a:lnTo>
                      <a:pt x="13" y="97"/>
                    </a:lnTo>
                    <a:lnTo>
                      <a:pt x="15" y="97"/>
                    </a:lnTo>
                    <a:lnTo>
                      <a:pt x="18" y="97"/>
                    </a:lnTo>
                    <a:lnTo>
                      <a:pt x="19" y="97"/>
                    </a:lnTo>
                    <a:lnTo>
                      <a:pt x="23" y="95"/>
                    </a:lnTo>
                    <a:lnTo>
                      <a:pt x="26" y="95"/>
                    </a:lnTo>
                    <a:lnTo>
                      <a:pt x="30" y="95"/>
                    </a:lnTo>
                    <a:lnTo>
                      <a:pt x="33" y="95"/>
                    </a:lnTo>
                    <a:lnTo>
                      <a:pt x="36" y="95"/>
                    </a:lnTo>
                    <a:lnTo>
                      <a:pt x="37" y="95"/>
                    </a:lnTo>
                    <a:lnTo>
                      <a:pt x="41" y="95"/>
                    </a:lnTo>
                    <a:lnTo>
                      <a:pt x="44" y="95"/>
                    </a:lnTo>
                    <a:lnTo>
                      <a:pt x="46" y="95"/>
                    </a:lnTo>
                    <a:lnTo>
                      <a:pt x="49" y="95"/>
                    </a:lnTo>
                    <a:lnTo>
                      <a:pt x="52" y="95"/>
                    </a:lnTo>
                    <a:lnTo>
                      <a:pt x="56" y="95"/>
                    </a:lnTo>
                    <a:lnTo>
                      <a:pt x="60" y="95"/>
                    </a:lnTo>
                    <a:lnTo>
                      <a:pt x="62" y="95"/>
                    </a:lnTo>
                    <a:lnTo>
                      <a:pt x="66" y="95"/>
                    </a:lnTo>
                    <a:lnTo>
                      <a:pt x="68" y="95"/>
                    </a:lnTo>
                    <a:lnTo>
                      <a:pt x="71" y="95"/>
                    </a:lnTo>
                    <a:lnTo>
                      <a:pt x="74" y="95"/>
                    </a:lnTo>
                    <a:lnTo>
                      <a:pt x="78" y="95"/>
                    </a:lnTo>
                    <a:lnTo>
                      <a:pt x="81" y="95"/>
                    </a:lnTo>
                    <a:lnTo>
                      <a:pt x="85" y="95"/>
                    </a:lnTo>
                    <a:lnTo>
                      <a:pt x="88" y="95"/>
                    </a:lnTo>
                    <a:lnTo>
                      <a:pt x="81" y="46"/>
                    </a:lnTo>
                    <a:lnTo>
                      <a:pt x="79" y="46"/>
                    </a:lnTo>
                    <a:lnTo>
                      <a:pt x="78" y="46"/>
                    </a:lnTo>
                    <a:lnTo>
                      <a:pt x="76" y="46"/>
                    </a:lnTo>
                    <a:lnTo>
                      <a:pt x="74" y="45"/>
                    </a:lnTo>
                    <a:lnTo>
                      <a:pt x="70" y="43"/>
                    </a:lnTo>
                    <a:lnTo>
                      <a:pt x="68" y="41"/>
                    </a:lnTo>
                    <a:lnTo>
                      <a:pt x="67" y="41"/>
                    </a:lnTo>
                    <a:lnTo>
                      <a:pt x="66" y="40"/>
                    </a:lnTo>
                    <a:lnTo>
                      <a:pt x="64" y="40"/>
                    </a:lnTo>
                    <a:lnTo>
                      <a:pt x="62" y="39"/>
                    </a:lnTo>
                    <a:lnTo>
                      <a:pt x="60" y="36"/>
                    </a:lnTo>
                    <a:lnTo>
                      <a:pt x="58" y="36"/>
                    </a:lnTo>
                    <a:lnTo>
                      <a:pt x="60" y="33"/>
                    </a:lnTo>
                    <a:lnTo>
                      <a:pt x="60" y="30"/>
                    </a:lnTo>
                    <a:lnTo>
                      <a:pt x="60" y="25"/>
                    </a:lnTo>
                    <a:lnTo>
                      <a:pt x="60" y="23"/>
                    </a:lnTo>
                    <a:lnTo>
                      <a:pt x="60" y="21"/>
                    </a:lnTo>
                    <a:lnTo>
                      <a:pt x="62" y="20"/>
                    </a:lnTo>
                    <a:lnTo>
                      <a:pt x="62" y="18"/>
                    </a:lnTo>
                    <a:lnTo>
                      <a:pt x="62" y="16"/>
                    </a:lnTo>
                    <a:lnTo>
                      <a:pt x="62" y="15"/>
                    </a:lnTo>
                    <a:lnTo>
                      <a:pt x="62" y="12"/>
                    </a:lnTo>
                    <a:lnTo>
                      <a:pt x="60" y="7"/>
                    </a:lnTo>
                    <a:lnTo>
                      <a:pt x="58" y="5"/>
                    </a:lnTo>
                    <a:lnTo>
                      <a:pt x="57" y="2"/>
                    </a:lnTo>
                    <a:lnTo>
                      <a:pt x="56" y="1"/>
                    </a:lnTo>
                    <a:lnTo>
                      <a:pt x="52" y="1"/>
                    </a:lnTo>
                    <a:lnTo>
                      <a:pt x="52" y="0"/>
                    </a:lnTo>
                    <a:lnTo>
                      <a:pt x="50" y="0"/>
                    </a:lnTo>
                    <a:lnTo>
                      <a:pt x="49" y="0"/>
                    </a:lnTo>
                    <a:lnTo>
                      <a:pt x="49" y="1"/>
                    </a:lnTo>
                    <a:lnTo>
                      <a:pt x="48" y="1"/>
                    </a:lnTo>
                    <a:lnTo>
                      <a:pt x="46" y="1"/>
                    </a:lnTo>
                    <a:lnTo>
                      <a:pt x="44" y="1"/>
                    </a:lnTo>
                    <a:lnTo>
                      <a:pt x="42" y="1"/>
                    </a:lnTo>
                    <a:lnTo>
                      <a:pt x="41" y="1"/>
                    </a:lnTo>
                    <a:lnTo>
                      <a:pt x="39" y="1"/>
                    </a:lnTo>
                    <a:lnTo>
                      <a:pt x="37" y="1"/>
                    </a:lnTo>
                    <a:lnTo>
                      <a:pt x="36" y="2"/>
                    </a:lnTo>
                    <a:lnTo>
                      <a:pt x="34" y="4"/>
                    </a:lnTo>
                    <a:lnTo>
                      <a:pt x="33" y="5"/>
                    </a:lnTo>
                    <a:lnTo>
                      <a:pt x="33" y="7"/>
                    </a:lnTo>
                    <a:lnTo>
                      <a:pt x="31" y="9"/>
                    </a:lnTo>
                    <a:lnTo>
                      <a:pt x="31" y="11"/>
                    </a:lnTo>
                    <a:lnTo>
                      <a:pt x="31" y="12"/>
                    </a:lnTo>
                    <a:lnTo>
                      <a:pt x="31" y="16"/>
                    </a:lnTo>
                    <a:lnTo>
                      <a:pt x="33" y="20"/>
                    </a:lnTo>
                    <a:lnTo>
                      <a:pt x="33" y="21"/>
                    </a:lnTo>
                    <a:lnTo>
                      <a:pt x="34" y="21"/>
                    </a:lnTo>
                    <a:lnTo>
                      <a:pt x="34" y="23"/>
                    </a:lnTo>
                    <a:lnTo>
                      <a:pt x="34" y="25"/>
                    </a:lnTo>
                    <a:lnTo>
                      <a:pt x="34" y="30"/>
                    </a:lnTo>
                    <a:lnTo>
                      <a:pt x="36" y="31"/>
                    </a:lnTo>
                    <a:lnTo>
                      <a:pt x="37" y="31"/>
                    </a:lnTo>
                    <a:lnTo>
                      <a:pt x="37" y="33"/>
                    </a:lnTo>
                    <a:lnTo>
                      <a:pt x="39" y="33"/>
                    </a:lnTo>
                    <a:lnTo>
                      <a:pt x="39" y="36"/>
                    </a:lnTo>
                  </a:path>
                </a:pathLst>
              </a:custGeom>
              <a:gradFill rotWithShape="0">
                <a:gsLst>
                  <a:gs pos="0">
                    <a:srgbClr val="4e00a1"/>
                  </a:gs>
                  <a:gs pos="100000">
                    <a:srgbClr val="17002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664320" y="1839960"/>
                <a:ext cx="27720" cy="19080"/>
              </a:xfrm>
              <a:custGeom>
                <a:avLst/>
                <a:gdLst/>
                <a:ahLst/>
                <a:rect l="l" t="t" r="r" b="b"/>
                <a:pathLst>
                  <a:path w="17" h="17">
                    <a:moveTo>
                      <a:pt x="0" y="0"/>
                    </a:moveTo>
                    <a:lnTo>
                      <a:pt x="8" y="16"/>
                    </a:lnTo>
                    <a:lnTo>
                      <a:pt x="16" y="0"/>
                    </a:lnTo>
                    <a:lnTo>
                      <a:pt x="0"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6625080" y="1766880"/>
                <a:ext cx="35640" cy="87840"/>
              </a:xfrm>
              <a:custGeom>
                <a:avLst/>
                <a:gdLst/>
                <a:ahLst/>
                <a:rect l="l" t="t" r="r" b="b"/>
                <a:pathLst>
                  <a:path w="22" h="77">
                    <a:moveTo>
                      <a:pt x="21" y="10"/>
                    </a:moveTo>
                    <a:lnTo>
                      <a:pt x="21" y="8"/>
                    </a:lnTo>
                    <a:lnTo>
                      <a:pt x="20" y="7"/>
                    </a:lnTo>
                    <a:lnTo>
                      <a:pt x="20" y="4"/>
                    </a:lnTo>
                    <a:lnTo>
                      <a:pt x="19" y="2"/>
                    </a:lnTo>
                    <a:lnTo>
                      <a:pt x="17" y="1"/>
                    </a:lnTo>
                    <a:lnTo>
                      <a:pt x="17" y="0"/>
                    </a:lnTo>
                    <a:lnTo>
                      <a:pt x="15" y="0"/>
                    </a:lnTo>
                    <a:lnTo>
                      <a:pt x="14" y="0"/>
                    </a:lnTo>
                    <a:lnTo>
                      <a:pt x="14" y="1"/>
                    </a:lnTo>
                    <a:lnTo>
                      <a:pt x="13" y="1"/>
                    </a:lnTo>
                    <a:lnTo>
                      <a:pt x="12" y="1"/>
                    </a:lnTo>
                    <a:lnTo>
                      <a:pt x="10" y="0"/>
                    </a:lnTo>
                    <a:lnTo>
                      <a:pt x="8" y="0"/>
                    </a:lnTo>
                    <a:lnTo>
                      <a:pt x="7" y="0"/>
                    </a:lnTo>
                    <a:lnTo>
                      <a:pt x="6" y="1"/>
                    </a:lnTo>
                    <a:lnTo>
                      <a:pt x="4" y="2"/>
                    </a:lnTo>
                    <a:lnTo>
                      <a:pt x="4" y="4"/>
                    </a:lnTo>
                    <a:lnTo>
                      <a:pt x="4" y="6"/>
                    </a:lnTo>
                    <a:lnTo>
                      <a:pt x="4" y="7"/>
                    </a:lnTo>
                    <a:lnTo>
                      <a:pt x="6" y="8"/>
                    </a:lnTo>
                    <a:lnTo>
                      <a:pt x="6" y="10"/>
                    </a:lnTo>
                    <a:lnTo>
                      <a:pt x="6" y="11"/>
                    </a:lnTo>
                    <a:lnTo>
                      <a:pt x="4" y="13"/>
                    </a:lnTo>
                    <a:lnTo>
                      <a:pt x="4" y="15"/>
                    </a:lnTo>
                    <a:lnTo>
                      <a:pt x="4" y="16"/>
                    </a:lnTo>
                    <a:lnTo>
                      <a:pt x="4" y="18"/>
                    </a:lnTo>
                    <a:lnTo>
                      <a:pt x="4" y="20"/>
                    </a:lnTo>
                    <a:lnTo>
                      <a:pt x="2" y="20"/>
                    </a:lnTo>
                    <a:lnTo>
                      <a:pt x="2" y="18"/>
                    </a:lnTo>
                    <a:lnTo>
                      <a:pt x="1" y="18"/>
                    </a:lnTo>
                    <a:lnTo>
                      <a:pt x="0" y="16"/>
                    </a:lnTo>
                    <a:lnTo>
                      <a:pt x="0" y="18"/>
                    </a:lnTo>
                    <a:lnTo>
                      <a:pt x="0" y="21"/>
                    </a:lnTo>
                    <a:lnTo>
                      <a:pt x="0" y="25"/>
                    </a:lnTo>
                    <a:lnTo>
                      <a:pt x="1" y="25"/>
                    </a:lnTo>
                    <a:lnTo>
                      <a:pt x="2" y="25"/>
                    </a:lnTo>
                    <a:lnTo>
                      <a:pt x="2" y="28"/>
                    </a:lnTo>
                    <a:lnTo>
                      <a:pt x="4" y="28"/>
                    </a:lnTo>
                    <a:lnTo>
                      <a:pt x="4" y="31"/>
                    </a:lnTo>
                    <a:lnTo>
                      <a:pt x="4" y="33"/>
                    </a:lnTo>
                    <a:lnTo>
                      <a:pt x="4" y="35"/>
                    </a:lnTo>
                    <a:lnTo>
                      <a:pt x="4" y="36"/>
                    </a:lnTo>
                    <a:lnTo>
                      <a:pt x="4" y="40"/>
                    </a:lnTo>
                    <a:lnTo>
                      <a:pt x="4" y="41"/>
                    </a:lnTo>
                    <a:lnTo>
                      <a:pt x="2" y="45"/>
                    </a:lnTo>
                    <a:lnTo>
                      <a:pt x="2" y="47"/>
                    </a:lnTo>
                    <a:lnTo>
                      <a:pt x="1" y="49"/>
                    </a:lnTo>
                    <a:lnTo>
                      <a:pt x="1" y="57"/>
                    </a:lnTo>
                    <a:lnTo>
                      <a:pt x="2" y="65"/>
                    </a:lnTo>
                    <a:lnTo>
                      <a:pt x="4" y="72"/>
                    </a:lnTo>
                    <a:lnTo>
                      <a:pt x="4" y="76"/>
                    </a:lnTo>
                    <a:lnTo>
                      <a:pt x="8" y="47"/>
                    </a:lnTo>
                    <a:lnTo>
                      <a:pt x="8" y="45"/>
                    </a:lnTo>
                    <a:lnTo>
                      <a:pt x="8" y="41"/>
                    </a:lnTo>
                    <a:lnTo>
                      <a:pt x="12" y="46"/>
                    </a:lnTo>
                    <a:lnTo>
                      <a:pt x="10" y="47"/>
                    </a:lnTo>
                    <a:lnTo>
                      <a:pt x="10" y="76"/>
                    </a:lnTo>
                    <a:lnTo>
                      <a:pt x="10" y="74"/>
                    </a:lnTo>
                    <a:lnTo>
                      <a:pt x="12" y="72"/>
                    </a:lnTo>
                    <a:lnTo>
                      <a:pt x="12" y="68"/>
                    </a:lnTo>
                    <a:lnTo>
                      <a:pt x="13" y="63"/>
                    </a:lnTo>
                    <a:lnTo>
                      <a:pt x="14" y="59"/>
                    </a:lnTo>
                    <a:lnTo>
                      <a:pt x="15" y="52"/>
                    </a:lnTo>
                    <a:lnTo>
                      <a:pt x="17" y="47"/>
                    </a:lnTo>
                    <a:lnTo>
                      <a:pt x="17" y="43"/>
                    </a:lnTo>
                    <a:lnTo>
                      <a:pt x="17" y="40"/>
                    </a:lnTo>
                    <a:lnTo>
                      <a:pt x="17" y="38"/>
                    </a:lnTo>
                    <a:lnTo>
                      <a:pt x="17" y="36"/>
                    </a:lnTo>
                    <a:lnTo>
                      <a:pt x="15" y="36"/>
                    </a:lnTo>
                    <a:lnTo>
                      <a:pt x="14" y="38"/>
                    </a:lnTo>
                    <a:lnTo>
                      <a:pt x="12" y="38"/>
                    </a:lnTo>
                    <a:lnTo>
                      <a:pt x="10" y="38"/>
                    </a:lnTo>
                    <a:lnTo>
                      <a:pt x="8" y="38"/>
                    </a:lnTo>
                    <a:lnTo>
                      <a:pt x="8" y="36"/>
                    </a:lnTo>
                    <a:lnTo>
                      <a:pt x="8" y="35"/>
                    </a:lnTo>
                    <a:lnTo>
                      <a:pt x="8" y="33"/>
                    </a:lnTo>
                    <a:lnTo>
                      <a:pt x="8" y="31"/>
                    </a:lnTo>
                    <a:lnTo>
                      <a:pt x="12" y="33"/>
                    </a:lnTo>
                    <a:lnTo>
                      <a:pt x="13" y="35"/>
                    </a:lnTo>
                    <a:lnTo>
                      <a:pt x="14" y="35"/>
                    </a:lnTo>
                    <a:lnTo>
                      <a:pt x="15" y="33"/>
                    </a:lnTo>
                    <a:lnTo>
                      <a:pt x="15" y="31"/>
                    </a:lnTo>
                    <a:lnTo>
                      <a:pt x="15" y="30"/>
                    </a:lnTo>
                    <a:lnTo>
                      <a:pt x="14" y="30"/>
                    </a:lnTo>
                    <a:lnTo>
                      <a:pt x="14" y="28"/>
                    </a:lnTo>
                    <a:lnTo>
                      <a:pt x="15" y="28"/>
                    </a:lnTo>
                    <a:lnTo>
                      <a:pt x="17" y="28"/>
                    </a:lnTo>
                    <a:lnTo>
                      <a:pt x="17" y="25"/>
                    </a:lnTo>
                    <a:lnTo>
                      <a:pt x="17" y="23"/>
                    </a:lnTo>
                    <a:lnTo>
                      <a:pt x="17" y="20"/>
                    </a:lnTo>
                    <a:lnTo>
                      <a:pt x="17" y="16"/>
                    </a:lnTo>
                    <a:lnTo>
                      <a:pt x="19" y="15"/>
                    </a:lnTo>
                    <a:lnTo>
                      <a:pt x="20" y="15"/>
                    </a:lnTo>
                    <a:lnTo>
                      <a:pt x="21" y="13"/>
                    </a:lnTo>
                    <a:lnTo>
                      <a:pt x="21" y="11"/>
                    </a:lnTo>
                    <a:lnTo>
                      <a:pt x="21" y="10"/>
                    </a:lnTo>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 name=""/>
              <p:cNvSpPr/>
              <p:nvPr/>
            </p:nvSpPr>
            <p:spPr>
              <a:xfrm>
                <a:off x="6646320" y="1785240"/>
                <a:ext cx="27720" cy="19080"/>
              </a:xfrm>
              <a:custGeom>
                <a:avLst/>
                <a:gdLst/>
                <a:ahLst/>
                <a:rect l="l" t="t" r="r" b="b"/>
                <a:pathLst>
                  <a:path w="17" h="17">
                    <a:moveTo>
                      <a:pt x="16" y="12"/>
                    </a:moveTo>
                    <a:lnTo>
                      <a:pt x="16" y="16"/>
                    </a:lnTo>
                    <a:lnTo>
                      <a:pt x="0" y="16"/>
                    </a:lnTo>
                    <a:lnTo>
                      <a:pt x="0" y="12"/>
                    </a:lnTo>
                    <a:lnTo>
                      <a:pt x="0" y="5"/>
                    </a:lnTo>
                    <a:lnTo>
                      <a:pt x="0" y="0"/>
                    </a:lnTo>
                    <a:lnTo>
                      <a:pt x="16" y="0"/>
                    </a:lnTo>
                    <a:lnTo>
                      <a:pt x="16" y="5"/>
                    </a:lnTo>
                    <a:lnTo>
                      <a:pt x="16" y="12"/>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 name=""/>
              <p:cNvSpPr/>
              <p:nvPr/>
            </p:nvSpPr>
            <p:spPr>
              <a:xfrm>
                <a:off x="6625080" y="1788840"/>
                <a:ext cx="27720" cy="20160"/>
              </a:xfrm>
              <a:custGeom>
                <a:avLst/>
                <a:gdLst/>
                <a:ahLst/>
                <a:rect l="l" t="t" r="r" b="b"/>
                <a:pathLst>
                  <a:path w="17" h="18">
                    <a:moveTo>
                      <a:pt x="0" y="0"/>
                    </a:moveTo>
                    <a:lnTo>
                      <a:pt x="0" y="2"/>
                    </a:lnTo>
                    <a:lnTo>
                      <a:pt x="0" y="5"/>
                    </a:lnTo>
                    <a:lnTo>
                      <a:pt x="0" y="10"/>
                    </a:lnTo>
                    <a:lnTo>
                      <a:pt x="6" y="11"/>
                    </a:lnTo>
                    <a:lnTo>
                      <a:pt x="8" y="11"/>
                    </a:lnTo>
                    <a:lnTo>
                      <a:pt x="8" y="13"/>
                    </a:lnTo>
                    <a:lnTo>
                      <a:pt x="16" y="14"/>
                    </a:lnTo>
                    <a:lnTo>
                      <a:pt x="16" y="17"/>
                    </a:lnTo>
                  </a:path>
                </a:pathLst>
              </a:custGeom>
              <a:no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 name=""/>
              <p:cNvSpPr/>
              <p:nvPr/>
            </p:nvSpPr>
            <p:spPr>
              <a:xfrm>
                <a:off x="6443280" y="1881000"/>
                <a:ext cx="528480" cy="142560"/>
              </a:xfrm>
              <a:custGeom>
                <a:avLst/>
                <a:gdLst/>
                <a:ahLst/>
                <a:rect l="l" t="t" r="r" b="b"/>
                <a:pathLst>
                  <a:path w="323" h="125">
                    <a:moveTo>
                      <a:pt x="315" y="124"/>
                    </a:moveTo>
                    <a:lnTo>
                      <a:pt x="317" y="119"/>
                    </a:lnTo>
                    <a:lnTo>
                      <a:pt x="320" y="112"/>
                    </a:lnTo>
                    <a:lnTo>
                      <a:pt x="320" y="105"/>
                    </a:lnTo>
                    <a:lnTo>
                      <a:pt x="322" y="98"/>
                    </a:lnTo>
                    <a:lnTo>
                      <a:pt x="322" y="91"/>
                    </a:lnTo>
                    <a:lnTo>
                      <a:pt x="322" y="84"/>
                    </a:lnTo>
                    <a:lnTo>
                      <a:pt x="320" y="77"/>
                    </a:lnTo>
                    <a:lnTo>
                      <a:pt x="319" y="72"/>
                    </a:lnTo>
                    <a:lnTo>
                      <a:pt x="317" y="69"/>
                    </a:lnTo>
                    <a:lnTo>
                      <a:pt x="315" y="66"/>
                    </a:lnTo>
                    <a:lnTo>
                      <a:pt x="313" y="62"/>
                    </a:lnTo>
                    <a:lnTo>
                      <a:pt x="313" y="59"/>
                    </a:lnTo>
                    <a:lnTo>
                      <a:pt x="310" y="56"/>
                    </a:lnTo>
                    <a:lnTo>
                      <a:pt x="309" y="53"/>
                    </a:lnTo>
                    <a:lnTo>
                      <a:pt x="308" y="50"/>
                    </a:lnTo>
                    <a:lnTo>
                      <a:pt x="306" y="48"/>
                    </a:lnTo>
                    <a:lnTo>
                      <a:pt x="305" y="45"/>
                    </a:lnTo>
                    <a:lnTo>
                      <a:pt x="303" y="43"/>
                    </a:lnTo>
                    <a:lnTo>
                      <a:pt x="299" y="40"/>
                    </a:lnTo>
                    <a:lnTo>
                      <a:pt x="298" y="38"/>
                    </a:lnTo>
                    <a:lnTo>
                      <a:pt x="296" y="37"/>
                    </a:lnTo>
                    <a:lnTo>
                      <a:pt x="293" y="35"/>
                    </a:lnTo>
                    <a:lnTo>
                      <a:pt x="292" y="32"/>
                    </a:lnTo>
                    <a:lnTo>
                      <a:pt x="292" y="31"/>
                    </a:lnTo>
                    <a:lnTo>
                      <a:pt x="289" y="31"/>
                    </a:lnTo>
                    <a:lnTo>
                      <a:pt x="287" y="29"/>
                    </a:lnTo>
                    <a:lnTo>
                      <a:pt x="287" y="28"/>
                    </a:lnTo>
                    <a:lnTo>
                      <a:pt x="284" y="28"/>
                    </a:lnTo>
                    <a:lnTo>
                      <a:pt x="283" y="25"/>
                    </a:lnTo>
                    <a:lnTo>
                      <a:pt x="281" y="25"/>
                    </a:lnTo>
                    <a:lnTo>
                      <a:pt x="280" y="25"/>
                    </a:lnTo>
                    <a:lnTo>
                      <a:pt x="278" y="22"/>
                    </a:lnTo>
                    <a:lnTo>
                      <a:pt x="276" y="22"/>
                    </a:lnTo>
                    <a:lnTo>
                      <a:pt x="275" y="20"/>
                    </a:lnTo>
                    <a:lnTo>
                      <a:pt x="273" y="20"/>
                    </a:lnTo>
                    <a:lnTo>
                      <a:pt x="271" y="19"/>
                    </a:lnTo>
                    <a:lnTo>
                      <a:pt x="270" y="19"/>
                    </a:lnTo>
                    <a:lnTo>
                      <a:pt x="270" y="17"/>
                    </a:lnTo>
                    <a:lnTo>
                      <a:pt x="269" y="17"/>
                    </a:lnTo>
                    <a:lnTo>
                      <a:pt x="267" y="17"/>
                    </a:lnTo>
                    <a:lnTo>
                      <a:pt x="266" y="16"/>
                    </a:lnTo>
                    <a:lnTo>
                      <a:pt x="264" y="16"/>
                    </a:lnTo>
                    <a:lnTo>
                      <a:pt x="262" y="14"/>
                    </a:lnTo>
                    <a:lnTo>
                      <a:pt x="261" y="14"/>
                    </a:lnTo>
                    <a:lnTo>
                      <a:pt x="259" y="14"/>
                    </a:lnTo>
                    <a:lnTo>
                      <a:pt x="257" y="13"/>
                    </a:lnTo>
                    <a:lnTo>
                      <a:pt x="256" y="13"/>
                    </a:lnTo>
                    <a:lnTo>
                      <a:pt x="254" y="13"/>
                    </a:lnTo>
                    <a:lnTo>
                      <a:pt x="253" y="11"/>
                    </a:lnTo>
                    <a:lnTo>
                      <a:pt x="252" y="11"/>
                    </a:lnTo>
                    <a:lnTo>
                      <a:pt x="250" y="11"/>
                    </a:lnTo>
                    <a:lnTo>
                      <a:pt x="248" y="11"/>
                    </a:lnTo>
                    <a:lnTo>
                      <a:pt x="248" y="10"/>
                    </a:lnTo>
                    <a:lnTo>
                      <a:pt x="245" y="10"/>
                    </a:lnTo>
                    <a:lnTo>
                      <a:pt x="244" y="10"/>
                    </a:lnTo>
                    <a:lnTo>
                      <a:pt x="241" y="10"/>
                    </a:lnTo>
                    <a:lnTo>
                      <a:pt x="239" y="10"/>
                    </a:lnTo>
                    <a:lnTo>
                      <a:pt x="236" y="8"/>
                    </a:lnTo>
                    <a:lnTo>
                      <a:pt x="234" y="8"/>
                    </a:lnTo>
                    <a:lnTo>
                      <a:pt x="231" y="8"/>
                    </a:lnTo>
                    <a:lnTo>
                      <a:pt x="230" y="7"/>
                    </a:lnTo>
                    <a:lnTo>
                      <a:pt x="227" y="7"/>
                    </a:lnTo>
                    <a:lnTo>
                      <a:pt x="225" y="7"/>
                    </a:lnTo>
                    <a:lnTo>
                      <a:pt x="222" y="7"/>
                    </a:lnTo>
                    <a:lnTo>
                      <a:pt x="220" y="5"/>
                    </a:lnTo>
                    <a:lnTo>
                      <a:pt x="217" y="5"/>
                    </a:lnTo>
                    <a:lnTo>
                      <a:pt x="215" y="5"/>
                    </a:lnTo>
                    <a:lnTo>
                      <a:pt x="214" y="5"/>
                    </a:lnTo>
                    <a:lnTo>
                      <a:pt x="213" y="5"/>
                    </a:lnTo>
                    <a:lnTo>
                      <a:pt x="213" y="4"/>
                    </a:lnTo>
                    <a:lnTo>
                      <a:pt x="211" y="4"/>
                    </a:lnTo>
                    <a:lnTo>
                      <a:pt x="209" y="4"/>
                    </a:lnTo>
                    <a:lnTo>
                      <a:pt x="206" y="4"/>
                    </a:lnTo>
                    <a:lnTo>
                      <a:pt x="205" y="4"/>
                    </a:lnTo>
                    <a:lnTo>
                      <a:pt x="203" y="4"/>
                    </a:lnTo>
                    <a:lnTo>
                      <a:pt x="201" y="4"/>
                    </a:lnTo>
                    <a:lnTo>
                      <a:pt x="200" y="4"/>
                    </a:lnTo>
                    <a:lnTo>
                      <a:pt x="198" y="4"/>
                    </a:lnTo>
                    <a:lnTo>
                      <a:pt x="197" y="1"/>
                    </a:lnTo>
                    <a:lnTo>
                      <a:pt x="195" y="1"/>
                    </a:lnTo>
                    <a:lnTo>
                      <a:pt x="194" y="1"/>
                    </a:lnTo>
                    <a:lnTo>
                      <a:pt x="193" y="1"/>
                    </a:lnTo>
                    <a:lnTo>
                      <a:pt x="191" y="1"/>
                    </a:lnTo>
                    <a:lnTo>
                      <a:pt x="189" y="1"/>
                    </a:lnTo>
                    <a:lnTo>
                      <a:pt x="188" y="1"/>
                    </a:lnTo>
                    <a:lnTo>
                      <a:pt x="184" y="1"/>
                    </a:lnTo>
                    <a:lnTo>
                      <a:pt x="183" y="1"/>
                    </a:lnTo>
                    <a:lnTo>
                      <a:pt x="180" y="1"/>
                    </a:lnTo>
                    <a:lnTo>
                      <a:pt x="176" y="1"/>
                    </a:lnTo>
                    <a:lnTo>
                      <a:pt x="175" y="1"/>
                    </a:lnTo>
                    <a:lnTo>
                      <a:pt x="172" y="0"/>
                    </a:lnTo>
                    <a:lnTo>
                      <a:pt x="170" y="0"/>
                    </a:lnTo>
                    <a:lnTo>
                      <a:pt x="167" y="0"/>
                    </a:lnTo>
                    <a:lnTo>
                      <a:pt x="164" y="0"/>
                    </a:lnTo>
                    <a:lnTo>
                      <a:pt x="161" y="0"/>
                    </a:lnTo>
                    <a:lnTo>
                      <a:pt x="156" y="0"/>
                    </a:lnTo>
                    <a:lnTo>
                      <a:pt x="154" y="0"/>
                    </a:lnTo>
                    <a:lnTo>
                      <a:pt x="150" y="0"/>
                    </a:lnTo>
                    <a:lnTo>
                      <a:pt x="147" y="0"/>
                    </a:lnTo>
                    <a:lnTo>
                      <a:pt x="144" y="0"/>
                    </a:lnTo>
                    <a:lnTo>
                      <a:pt x="141" y="0"/>
                    </a:lnTo>
                    <a:lnTo>
                      <a:pt x="137" y="0"/>
                    </a:lnTo>
                    <a:lnTo>
                      <a:pt x="135" y="0"/>
                    </a:lnTo>
                    <a:lnTo>
                      <a:pt x="130" y="0"/>
                    </a:lnTo>
                    <a:lnTo>
                      <a:pt x="127" y="0"/>
                    </a:lnTo>
                    <a:lnTo>
                      <a:pt x="124" y="0"/>
                    </a:lnTo>
                    <a:lnTo>
                      <a:pt x="120" y="0"/>
                    </a:lnTo>
                    <a:lnTo>
                      <a:pt x="117" y="0"/>
                    </a:lnTo>
                    <a:lnTo>
                      <a:pt x="115" y="0"/>
                    </a:lnTo>
                    <a:lnTo>
                      <a:pt x="111" y="0"/>
                    </a:lnTo>
                    <a:lnTo>
                      <a:pt x="110" y="0"/>
                    </a:lnTo>
                    <a:lnTo>
                      <a:pt x="107" y="0"/>
                    </a:lnTo>
                    <a:lnTo>
                      <a:pt x="103" y="0"/>
                    </a:lnTo>
                    <a:lnTo>
                      <a:pt x="100" y="0"/>
                    </a:lnTo>
                    <a:lnTo>
                      <a:pt x="97" y="0"/>
                    </a:lnTo>
                    <a:lnTo>
                      <a:pt x="96" y="0"/>
                    </a:lnTo>
                    <a:lnTo>
                      <a:pt x="93" y="1"/>
                    </a:lnTo>
                    <a:lnTo>
                      <a:pt x="91" y="1"/>
                    </a:lnTo>
                    <a:lnTo>
                      <a:pt x="88" y="1"/>
                    </a:lnTo>
                    <a:lnTo>
                      <a:pt x="86" y="1"/>
                    </a:lnTo>
                    <a:lnTo>
                      <a:pt x="85" y="1"/>
                    </a:lnTo>
                    <a:lnTo>
                      <a:pt x="83" y="1"/>
                    </a:lnTo>
                    <a:lnTo>
                      <a:pt x="80" y="1"/>
                    </a:lnTo>
                    <a:lnTo>
                      <a:pt x="79" y="1"/>
                    </a:lnTo>
                    <a:lnTo>
                      <a:pt x="79" y="4"/>
                    </a:lnTo>
                    <a:lnTo>
                      <a:pt x="77" y="4"/>
                    </a:lnTo>
                    <a:lnTo>
                      <a:pt x="74" y="4"/>
                    </a:lnTo>
                    <a:lnTo>
                      <a:pt x="72" y="5"/>
                    </a:lnTo>
                    <a:lnTo>
                      <a:pt x="71" y="5"/>
                    </a:lnTo>
                    <a:lnTo>
                      <a:pt x="68" y="5"/>
                    </a:lnTo>
                    <a:lnTo>
                      <a:pt x="66" y="7"/>
                    </a:lnTo>
                    <a:lnTo>
                      <a:pt x="65" y="7"/>
                    </a:lnTo>
                    <a:lnTo>
                      <a:pt x="63" y="7"/>
                    </a:lnTo>
                    <a:lnTo>
                      <a:pt x="61" y="8"/>
                    </a:lnTo>
                    <a:lnTo>
                      <a:pt x="59" y="8"/>
                    </a:lnTo>
                    <a:lnTo>
                      <a:pt x="58" y="8"/>
                    </a:lnTo>
                    <a:lnTo>
                      <a:pt x="58" y="10"/>
                    </a:lnTo>
                    <a:lnTo>
                      <a:pt x="57" y="10"/>
                    </a:lnTo>
                    <a:lnTo>
                      <a:pt x="55" y="10"/>
                    </a:lnTo>
                    <a:lnTo>
                      <a:pt x="54" y="11"/>
                    </a:lnTo>
                    <a:lnTo>
                      <a:pt x="52" y="11"/>
                    </a:lnTo>
                    <a:lnTo>
                      <a:pt x="49" y="13"/>
                    </a:lnTo>
                    <a:lnTo>
                      <a:pt x="47" y="13"/>
                    </a:lnTo>
                    <a:lnTo>
                      <a:pt x="44" y="14"/>
                    </a:lnTo>
                    <a:lnTo>
                      <a:pt x="41" y="16"/>
                    </a:lnTo>
                    <a:lnTo>
                      <a:pt x="40" y="17"/>
                    </a:lnTo>
                    <a:lnTo>
                      <a:pt x="37" y="19"/>
                    </a:lnTo>
                    <a:lnTo>
                      <a:pt x="35" y="20"/>
                    </a:lnTo>
                    <a:lnTo>
                      <a:pt x="32" y="22"/>
                    </a:lnTo>
                    <a:lnTo>
                      <a:pt x="32" y="25"/>
                    </a:lnTo>
                    <a:lnTo>
                      <a:pt x="30" y="25"/>
                    </a:lnTo>
                    <a:lnTo>
                      <a:pt x="29" y="28"/>
                    </a:lnTo>
                    <a:lnTo>
                      <a:pt x="26" y="29"/>
                    </a:lnTo>
                    <a:lnTo>
                      <a:pt x="24" y="31"/>
                    </a:lnTo>
                    <a:lnTo>
                      <a:pt x="22" y="32"/>
                    </a:lnTo>
                    <a:lnTo>
                      <a:pt x="20" y="34"/>
                    </a:lnTo>
                    <a:lnTo>
                      <a:pt x="19" y="35"/>
                    </a:lnTo>
                    <a:lnTo>
                      <a:pt x="18" y="38"/>
                    </a:lnTo>
                    <a:lnTo>
                      <a:pt x="16" y="40"/>
                    </a:lnTo>
                    <a:lnTo>
                      <a:pt x="16" y="41"/>
                    </a:lnTo>
                    <a:lnTo>
                      <a:pt x="15" y="43"/>
                    </a:lnTo>
                    <a:lnTo>
                      <a:pt x="13" y="45"/>
                    </a:lnTo>
                    <a:lnTo>
                      <a:pt x="12" y="48"/>
                    </a:lnTo>
                    <a:lnTo>
                      <a:pt x="10" y="50"/>
                    </a:lnTo>
                    <a:lnTo>
                      <a:pt x="9" y="51"/>
                    </a:lnTo>
                    <a:lnTo>
                      <a:pt x="9" y="54"/>
                    </a:lnTo>
                    <a:lnTo>
                      <a:pt x="7" y="56"/>
                    </a:lnTo>
                    <a:lnTo>
                      <a:pt x="5" y="57"/>
                    </a:lnTo>
                    <a:lnTo>
                      <a:pt x="4" y="61"/>
                    </a:lnTo>
                    <a:lnTo>
                      <a:pt x="4" y="62"/>
                    </a:lnTo>
                    <a:lnTo>
                      <a:pt x="1" y="66"/>
                    </a:lnTo>
                    <a:lnTo>
                      <a:pt x="1" y="75"/>
                    </a:lnTo>
                    <a:lnTo>
                      <a:pt x="0" y="83"/>
                    </a:lnTo>
                    <a:lnTo>
                      <a:pt x="0" y="91"/>
                    </a:lnTo>
                    <a:lnTo>
                      <a:pt x="0" y="97"/>
                    </a:lnTo>
                    <a:lnTo>
                      <a:pt x="1" y="105"/>
                    </a:lnTo>
                    <a:lnTo>
                      <a:pt x="1" y="112"/>
                    </a:lnTo>
                    <a:lnTo>
                      <a:pt x="5" y="119"/>
                    </a:lnTo>
                    <a:lnTo>
                      <a:pt x="10" y="124"/>
                    </a:lnTo>
                    <a:lnTo>
                      <a:pt x="315" y="124"/>
                    </a:lnTo>
                  </a:path>
                </a:pathLst>
              </a:custGeom>
              <a:gradFill rotWithShape="0">
                <a:gsLst>
                  <a:gs pos="0">
                    <a:srgbClr val="712000"/>
                  </a:gs>
                  <a:gs pos="100000">
                    <a:srgbClr val="210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09760" y="1885680"/>
                <a:ext cx="47160" cy="19080"/>
              </a:xfrm>
              <a:custGeom>
                <a:avLst/>
                <a:gdLst/>
                <a:ahLst/>
                <a:rect l="l" t="t" r="r" b="b"/>
                <a:pathLst>
                  <a:path w="29" h="17">
                    <a:moveTo>
                      <a:pt x="28" y="0"/>
                    </a:moveTo>
                    <a:lnTo>
                      <a:pt x="26" y="0"/>
                    </a:lnTo>
                    <a:lnTo>
                      <a:pt x="24" y="0"/>
                    </a:lnTo>
                    <a:lnTo>
                      <a:pt x="24" y="4"/>
                    </a:lnTo>
                    <a:lnTo>
                      <a:pt x="23" y="4"/>
                    </a:lnTo>
                    <a:lnTo>
                      <a:pt x="21" y="4"/>
                    </a:lnTo>
                    <a:lnTo>
                      <a:pt x="19" y="4"/>
                    </a:lnTo>
                    <a:lnTo>
                      <a:pt x="17" y="4"/>
                    </a:lnTo>
                    <a:lnTo>
                      <a:pt x="16" y="8"/>
                    </a:lnTo>
                    <a:lnTo>
                      <a:pt x="14" y="8"/>
                    </a:lnTo>
                    <a:lnTo>
                      <a:pt x="12" y="8"/>
                    </a:lnTo>
                    <a:lnTo>
                      <a:pt x="10" y="12"/>
                    </a:lnTo>
                    <a:lnTo>
                      <a:pt x="8" y="12"/>
                    </a:lnTo>
                    <a:lnTo>
                      <a:pt x="7" y="12"/>
                    </a:lnTo>
                    <a:lnTo>
                      <a:pt x="4" y="12"/>
                    </a:lnTo>
                    <a:lnTo>
                      <a:pt x="3" y="16"/>
                    </a:lnTo>
                    <a:lnTo>
                      <a:pt x="0" y="16"/>
                    </a:lnTo>
                    <a:lnTo>
                      <a:pt x="4" y="12"/>
                    </a:lnTo>
                    <a:lnTo>
                      <a:pt x="7" y="12"/>
                    </a:lnTo>
                    <a:lnTo>
                      <a:pt x="9" y="8"/>
                    </a:lnTo>
                    <a:lnTo>
                      <a:pt x="10" y="8"/>
                    </a:lnTo>
                    <a:lnTo>
                      <a:pt x="12" y="4"/>
                    </a:lnTo>
                    <a:lnTo>
                      <a:pt x="14" y="4"/>
                    </a:lnTo>
                    <a:lnTo>
                      <a:pt x="15" y="0"/>
                    </a:lnTo>
                    <a:lnTo>
                      <a:pt x="16" y="0"/>
                    </a:lnTo>
                    <a:lnTo>
                      <a:pt x="17" y="0"/>
                    </a:lnTo>
                    <a:lnTo>
                      <a:pt x="19" y="0"/>
                    </a:lnTo>
                    <a:lnTo>
                      <a:pt x="21" y="0"/>
                    </a:lnTo>
                    <a:lnTo>
                      <a:pt x="24" y="0"/>
                    </a:lnTo>
                    <a:lnTo>
                      <a:pt x="26" y="0"/>
                    </a:lnTo>
                    <a:lnTo>
                      <a:pt x="28"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6960240" y="1967760"/>
                <a:ext cx="27720" cy="55800"/>
              </a:xfrm>
              <a:custGeom>
                <a:avLst/>
                <a:gdLst/>
                <a:ahLst/>
                <a:rect l="l" t="t" r="r" b="b"/>
                <a:pathLst>
                  <a:path w="17" h="49">
                    <a:moveTo>
                      <a:pt x="8" y="48"/>
                    </a:moveTo>
                    <a:lnTo>
                      <a:pt x="9" y="43"/>
                    </a:lnTo>
                    <a:lnTo>
                      <a:pt x="12" y="37"/>
                    </a:lnTo>
                    <a:lnTo>
                      <a:pt x="12" y="30"/>
                    </a:lnTo>
                    <a:lnTo>
                      <a:pt x="16" y="24"/>
                    </a:lnTo>
                    <a:lnTo>
                      <a:pt x="16" y="18"/>
                    </a:lnTo>
                    <a:lnTo>
                      <a:pt x="16" y="12"/>
                    </a:lnTo>
                    <a:lnTo>
                      <a:pt x="12" y="4"/>
                    </a:lnTo>
                    <a:lnTo>
                      <a:pt x="12" y="0"/>
                    </a:lnTo>
                    <a:lnTo>
                      <a:pt x="12" y="10"/>
                    </a:lnTo>
                    <a:lnTo>
                      <a:pt x="12" y="19"/>
                    </a:lnTo>
                    <a:lnTo>
                      <a:pt x="12" y="26"/>
                    </a:lnTo>
                    <a:lnTo>
                      <a:pt x="8" y="33"/>
                    </a:lnTo>
                    <a:lnTo>
                      <a:pt x="6" y="39"/>
                    </a:lnTo>
                    <a:lnTo>
                      <a:pt x="1" y="43"/>
                    </a:lnTo>
                    <a:lnTo>
                      <a:pt x="1" y="46"/>
                    </a:lnTo>
                    <a:lnTo>
                      <a:pt x="0" y="48"/>
                    </a:lnTo>
                    <a:lnTo>
                      <a:pt x="8" y="48"/>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1" name=""/>
              <p:cNvSpPr/>
              <p:nvPr/>
            </p:nvSpPr>
            <p:spPr>
              <a:xfrm>
                <a:off x="6708600" y="1728000"/>
                <a:ext cx="153360" cy="160920"/>
              </a:xfrm>
              <a:custGeom>
                <a:avLst/>
                <a:gdLst/>
                <a:ahLst/>
                <a:rect l="l" t="t" r="r" b="b"/>
                <a:pathLst>
                  <a:path w="94" h="141">
                    <a:moveTo>
                      <a:pt x="24" y="125"/>
                    </a:moveTo>
                    <a:lnTo>
                      <a:pt x="24" y="123"/>
                    </a:lnTo>
                    <a:lnTo>
                      <a:pt x="24" y="121"/>
                    </a:lnTo>
                    <a:lnTo>
                      <a:pt x="25" y="119"/>
                    </a:lnTo>
                    <a:lnTo>
                      <a:pt x="25" y="117"/>
                    </a:lnTo>
                    <a:lnTo>
                      <a:pt x="28" y="116"/>
                    </a:lnTo>
                    <a:lnTo>
                      <a:pt x="28" y="114"/>
                    </a:lnTo>
                    <a:lnTo>
                      <a:pt x="28" y="112"/>
                    </a:lnTo>
                    <a:lnTo>
                      <a:pt x="30" y="111"/>
                    </a:lnTo>
                    <a:lnTo>
                      <a:pt x="30" y="109"/>
                    </a:lnTo>
                    <a:lnTo>
                      <a:pt x="30" y="106"/>
                    </a:lnTo>
                    <a:lnTo>
                      <a:pt x="30" y="102"/>
                    </a:lnTo>
                    <a:lnTo>
                      <a:pt x="30" y="100"/>
                    </a:lnTo>
                    <a:lnTo>
                      <a:pt x="32" y="96"/>
                    </a:lnTo>
                    <a:lnTo>
                      <a:pt x="32" y="93"/>
                    </a:lnTo>
                    <a:lnTo>
                      <a:pt x="34" y="92"/>
                    </a:lnTo>
                    <a:lnTo>
                      <a:pt x="34" y="95"/>
                    </a:lnTo>
                    <a:lnTo>
                      <a:pt x="36" y="98"/>
                    </a:lnTo>
                    <a:lnTo>
                      <a:pt x="36" y="102"/>
                    </a:lnTo>
                    <a:lnTo>
                      <a:pt x="36" y="106"/>
                    </a:lnTo>
                    <a:lnTo>
                      <a:pt x="36" y="109"/>
                    </a:lnTo>
                    <a:lnTo>
                      <a:pt x="36" y="111"/>
                    </a:lnTo>
                    <a:lnTo>
                      <a:pt x="37" y="114"/>
                    </a:lnTo>
                    <a:lnTo>
                      <a:pt x="37" y="121"/>
                    </a:lnTo>
                    <a:lnTo>
                      <a:pt x="39" y="125"/>
                    </a:lnTo>
                    <a:lnTo>
                      <a:pt x="39" y="130"/>
                    </a:lnTo>
                    <a:lnTo>
                      <a:pt x="40" y="130"/>
                    </a:lnTo>
                    <a:lnTo>
                      <a:pt x="42" y="130"/>
                    </a:lnTo>
                    <a:lnTo>
                      <a:pt x="43" y="130"/>
                    </a:lnTo>
                    <a:lnTo>
                      <a:pt x="45" y="130"/>
                    </a:lnTo>
                    <a:lnTo>
                      <a:pt x="47" y="130"/>
                    </a:lnTo>
                    <a:lnTo>
                      <a:pt x="48" y="130"/>
                    </a:lnTo>
                    <a:lnTo>
                      <a:pt x="50" y="130"/>
                    </a:lnTo>
                    <a:lnTo>
                      <a:pt x="51" y="130"/>
                    </a:lnTo>
                    <a:lnTo>
                      <a:pt x="53" y="130"/>
                    </a:lnTo>
                    <a:lnTo>
                      <a:pt x="53" y="132"/>
                    </a:lnTo>
                    <a:lnTo>
                      <a:pt x="54" y="132"/>
                    </a:lnTo>
                    <a:lnTo>
                      <a:pt x="55" y="132"/>
                    </a:lnTo>
                    <a:lnTo>
                      <a:pt x="56" y="132"/>
                    </a:lnTo>
                    <a:lnTo>
                      <a:pt x="59" y="132"/>
                    </a:lnTo>
                    <a:lnTo>
                      <a:pt x="60" y="133"/>
                    </a:lnTo>
                    <a:lnTo>
                      <a:pt x="64" y="133"/>
                    </a:lnTo>
                    <a:lnTo>
                      <a:pt x="66" y="133"/>
                    </a:lnTo>
                    <a:lnTo>
                      <a:pt x="68" y="133"/>
                    </a:lnTo>
                    <a:lnTo>
                      <a:pt x="70" y="135"/>
                    </a:lnTo>
                    <a:lnTo>
                      <a:pt x="72" y="135"/>
                    </a:lnTo>
                    <a:lnTo>
                      <a:pt x="74" y="135"/>
                    </a:lnTo>
                    <a:lnTo>
                      <a:pt x="77" y="137"/>
                    </a:lnTo>
                    <a:lnTo>
                      <a:pt x="79" y="137"/>
                    </a:lnTo>
                    <a:lnTo>
                      <a:pt x="82" y="137"/>
                    </a:lnTo>
                    <a:lnTo>
                      <a:pt x="83" y="137"/>
                    </a:lnTo>
                    <a:lnTo>
                      <a:pt x="85" y="137"/>
                    </a:lnTo>
                    <a:lnTo>
                      <a:pt x="86" y="138"/>
                    </a:lnTo>
                    <a:lnTo>
                      <a:pt x="88" y="138"/>
                    </a:lnTo>
                    <a:lnTo>
                      <a:pt x="89" y="138"/>
                    </a:lnTo>
                    <a:lnTo>
                      <a:pt x="90" y="138"/>
                    </a:lnTo>
                    <a:lnTo>
                      <a:pt x="91" y="140"/>
                    </a:lnTo>
                    <a:lnTo>
                      <a:pt x="93" y="137"/>
                    </a:lnTo>
                    <a:lnTo>
                      <a:pt x="93" y="132"/>
                    </a:lnTo>
                    <a:lnTo>
                      <a:pt x="91" y="128"/>
                    </a:lnTo>
                    <a:lnTo>
                      <a:pt x="91" y="123"/>
                    </a:lnTo>
                    <a:lnTo>
                      <a:pt x="90" y="119"/>
                    </a:lnTo>
                    <a:lnTo>
                      <a:pt x="89" y="116"/>
                    </a:lnTo>
                    <a:lnTo>
                      <a:pt x="88" y="112"/>
                    </a:lnTo>
                    <a:lnTo>
                      <a:pt x="86" y="109"/>
                    </a:lnTo>
                    <a:lnTo>
                      <a:pt x="89" y="107"/>
                    </a:lnTo>
                    <a:lnTo>
                      <a:pt x="90" y="104"/>
                    </a:lnTo>
                    <a:lnTo>
                      <a:pt x="90" y="100"/>
                    </a:lnTo>
                    <a:lnTo>
                      <a:pt x="90" y="95"/>
                    </a:lnTo>
                    <a:lnTo>
                      <a:pt x="90" y="88"/>
                    </a:lnTo>
                    <a:lnTo>
                      <a:pt x="89" y="84"/>
                    </a:lnTo>
                    <a:lnTo>
                      <a:pt x="88" y="79"/>
                    </a:lnTo>
                    <a:lnTo>
                      <a:pt x="88" y="76"/>
                    </a:lnTo>
                    <a:lnTo>
                      <a:pt x="86" y="70"/>
                    </a:lnTo>
                    <a:lnTo>
                      <a:pt x="86" y="62"/>
                    </a:lnTo>
                    <a:lnTo>
                      <a:pt x="85" y="55"/>
                    </a:lnTo>
                    <a:lnTo>
                      <a:pt x="85" y="49"/>
                    </a:lnTo>
                    <a:lnTo>
                      <a:pt x="86" y="49"/>
                    </a:lnTo>
                    <a:lnTo>
                      <a:pt x="88" y="47"/>
                    </a:lnTo>
                    <a:lnTo>
                      <a:pt x="88" y="45"/>
                    </a:lnTo>
                    <a:lnTo>
                      <a:pt x="88" y="44"/>
                    </a:lnTo>
                    <a:lnTo>
                      <a:pt x="86" y="44"/>
                    </a:lnTo>
                    <a:lnTo>
                      <a:pt x="86" y="42"/>
                    </a:lnTo>
                    <a:lnTo>
                      <a:pt x="85" y="42"/>
                    </a:lnTo>
                    <a:lnTo>
                      <a:pt x="83" y="42"/>
                    </a:lnTo>
                    <a:lnTo>
                      <a:pt x="82" y="42"/>
                    </a:lnTo>
                    <a:lnTo>
                      <a:pt x="80" y="42"/>
                    </a:lnTo>
                    <a:lnTo>
                      <a:pt x="77" y="42"/>
                    </a:lnTo>
                    <a:lnTo>
                      <a:pt x="75" y="42"/>
                    </a:lnTo>
                    <a:lnTo>
                      <a:pt x="74" y="42"/>
                    </a:lnTo>
                    <a:lnTo>
                      <a:pt x="72" y="42"/>
                    </a:lnTo>
                    <a:lnTo>
                      <a:pt x="71" y="40"/>
                    </a:lnTo>
                    <a:lnTo>
                      <a:pt x="70" y="40"/>
                    </a:lnTo>
                    <a:lnTo>
                      <a:pt x="68" y="40"/>
                    </a:lnTo>
                    <a:lnTo>
                      <a:pt x="67" y="40"/>
                    </a:lnTo>
                    <a:lnTo>
                      <a:pt x="66" y="40"/>
                    </a:lnTo>
                    <a:lnTo>
                      <a:pt x="64" y="39"/>
                    </a:lnTo>
                    <a:lnTo>
                      <a:pt x="62" y="39"/>
                    </a:lnTo>
                    <a:lnTo>
                      <a:pt x="62" y="36"/>
                    </a:lnTo>
                    <a:lnTo>
                      <a:pt x="62" y="34"/>
                    </a:lnTo>
                    <a:lnTo>
                      <a:pt x="62" y="33"/>
                    </a:lnTo>
                    <a:lnTo>
                      <a:pt x="64" y="33"/>
                    </a:lnTo>
                    <a:lnTo>
                      <a:pt x="64" y="31"/>
                    </a:lnTo>
                    <a:lnTo>
                      <a:pt x="62" y="31"/>
                    </a:lnTo>
                    <a:lnTo>
                      <a:pt x="60" y="31"/>
                    </a:lnTo>
                    <a:lnTo>
                      <a:pt x="59" y="31"/>
                    </a:lnTo>
                    <a:lnTo>
                      <a:pt x="59" y="29"/>
                    </a:lnTo>
                    <a:lnTo>
                      <a:pt x="60" y="28"/>
                    </a:lnTo>
                    <a:lnTo>
                      <a:pt x="60" y="24"/>
                    </a:lnTo>
                    <a:lnTo>
                      <a:pt x="60" y="23"/>
                    </a:lnTo>
                    <a:lnTo>
                      <a:pt x="59" y="23"/>
                    </a:lnTo>
                    <a:lnTo>
                      <a:pt x="60" y="20"/>
                    </a:lnTo>
                    <a:lnTo>
                      <a:pt x="60" y="17"/>
                    </a:lnTo>
                    <a:lnTo>
                      <a:pt x="60" y="14"/>
                    </a:lnTo>
                    <a:lnTo>
                      <a:pt x="58" y="9"/>
                    </a:lnTo>
                    <a:lnTo>
                      <a:pt x="56" y="5"/>
                    </a:lnTo>
                    <a:lnTo>
                      <a:pt x="55" y="4"/>
                    </a:lnTo>
                    <a:lnTo>
                      <a:pt x="54" y="4"/>
                    </a:lnTo>
                    <a:lnTo>
                      <a:pt x="53" y="4"/>
                    </a:lnTo>
                    <a:lnTo>
                      <a:pt x="51" y="4"/>
                    </a:lnTo>
                    <a:lnTo>
                      <a:pt x="50" y="2"/>
                    </a:lnTo>
                    <a:lnTo>
                      <a:pt x="48" y="1"/>
                    </a:lnTo>
                    <a:lnTo>
                      <a:pt x="47" y="1"/>
                    </a:lnTo>
                    <a:lnTo>
                      <a:pt x="43" y="0"/>
                    </a:lnTo>
                    <a:lnTo>
                      <a:pt x="42" y="0"/>
                    </a:lnTo>
                    <a:lnTo>
                      <a:pt x="39" y="0"/>
                    </a:lnTo>
                    <a:lnTo>
                      <a:pt x="37" y="1"/>
                    </a:lnTo>
                    <a:lnTo>
                      <a:pt x="34" y="1"/>
                    </a:lnTo>
                    <a:lnTo>
                      <a:pt x="34" y="2"/>
                    </a:lnTo>
                    <a:lnTo>
                      <a:pt x="30" y="5"/>
                    </a:lnTo>
                    <a:lnTo>
                      <a:pt x="25" y="7"/>
                    </a:lnTo>
                    <a:lnTo>
                      <a:pt x="23" y="11"/>
                    </a:lnTo>
                    <a:lnTo>
                      <a:pt x="21" y="11"/>
                    </a:lnTo>
                    <a:lnTo>
                      <a:pt x="21" y="12"/>
                    </a:lnTo>
                    <a:lnTo>
                      <a:pt x="21" y="14"/>
                    </a:lnTo>
                    <a:lnTo>
                      <a:pt x="20" y="14"/>
                    </a:lnTo>
                    <a:lnTo>
                      <a:pt x="20" y="15"/>
                    </a:lnTo>
                    <a:lnTo>
                      <a:pt x="18" y="17"/>
                    </a:lnTo>
                    <a:lnTo>
                      <a:pt x="18" y="20"/>
                    </a:lnTo>
                    <a:lnTo>
                      <a:pt x="18" y="23"/>
                    </a:lnTo>
                    <a:lnTo>
                      <a:pt x="20" y="23"/>
                    </a:lnTo>
                    <a:lnTo>
                      <a:pt x="21" y="24"/>
                    </a:lnTo>
                    <a:lnTo>
                      <a:pt x="23" y="26"/>
                    </a:lnTo>
                    <a:lnTo>
                      <a:pt x="24" y="28"/>
                    </a:lnTo>
                    <a:lnTo>
                      <a:pt x="24" y="29"/>
                    </a:lnTo>
                    <a:lnTo>
                      <a:pt x="25" y="31"/>
                    </a:lnTo>
                    <a:lnTo>
                      <a:pt x="25" y="33"/>
                    </a:lnTo>
                    <a:lnTo>
                      <a:pt x="25" y="34"/>
                    </a:lnTo>
                    <a:lnTo>
                      <a:pt x="25" y="36"/>
                    </a:lnTo>
                    <a:lnTo>
                      <a:pt x="28" y="39"/>
                    </a:lnTo>
                    <a:lnTo>
                      <a:pt x="28" y="40"/>
                    </a:lnTo>
                    <a:lnTo>
                      <a:pt x="28" y="42"/>
                    </a:lnTo>
                    <a:lnTo>
                      <a:pt x="30" y="42"/>
                    </a:lnTo>
                    <a:lnTo>
                      <a:pt x="30" y="44"/>
                    </a:lnTo>
                    <a:lnTo>
                      <a:pt x="30" y="45"/>
                    </a:lnTo>
                    <a:lnTo>
                      <a:pt x="32" y="45"/>
                    </a:lnTo>
                    <a:lnTo>
                      <a:pt x="30" y="45"/>
                    </a:lnTo>
                    <a:lnTo>
                      <a:pt x="30" y="47"/>
                    </a:lnTo>
                    <a:lnTo>
                      <a:pt x="25" y="47"/>
                    </a:lnTo>
                    <a:lnTo>
                      <a:pt x="24" y="47"/>
                    </a:lnTo>
                    <a:lnTo>
                      <a:pt x="21" y="49"/>
                    </a:lnTo>
                    <a:lnTo>
                      <a:pt x="20" y="49"/>
                    </a:lnTo>
                    <a:lnTo>
                      <a:pt x="20" y="50"/>
                    </a:lnTo>
                    <a:lnTo>
                      <a:pt x="18" y="50"/>
                    </a:lnTo>
                    <a:lnTo>
                      <a:pt x="20" y="54"/>
                    </a:lnTo>
                    <a:lnTo>
                      <a:pt x="20" y="55"/>
                    </a:lnTo>
                    <a:lnTo>
                      <a:pt x="21" y="59"/>
                    </a:lnTo>
                    <a:lnTo>
                      <a:pt x="21" y="60"/>
                    </a:lnTo>
                    <a:lnTo>
                      <a:pt x="21" y="63"/>
                    </a:lnTo>
                    <a:lnTo>
                      <a:pt x="20" y="68"/>
                    </a:lnTo>
                    <a:lnTo>
                      <a:pt x="18" y="76"/>
                    </a:lnTo>
                    <a:lnTo>
                      <a:pt x="17" y="84"/>
                    </a:lnTo>
                    <a:lnTo>
                      <a:pt x="16" y="92"/>
                    </a:lnTo>
                    <a:lnTo>
                      <a:pt x="14" y="100"/>
                    </a:lnTo>
                    <a:lnTo>
                      <a:pt x="14" y="104"/>
                    </a:lnTo>
                    <a:lnTo>
                      <a:pt x="13" y="106"/>
                    </a:lnTo>
                    <a:lnTo>
                      <a:pt x="13" y="109"/>
                    </a:lnTo>
                    <a:lnTo>
                      <a:pt x="13" y="114"/>
                    </a:lnTo>
                    <a:lnTo>
                      <a:pt x="13" y="119"/>
                    </a:lnTo>
                    <a:lnTo>
                      <a:pt x="13" y="123"/>
                    </a:lnTo>
                    <a:lnTo>
                      <a:pt x="12" y="123"/>
                    </a:lnTo>
                    <a:lnTo>
                      <a:pt x="10" y="121"/>
                    </a:lnTo>
                    <a:lnTo>
                      <a:pt x="8" y="121"/>
                    </a:lnTo>
                    <a:lnTo>
                      <a:pt x="7" y="121"/>
                    </a:lnTo>
                    <a:lnTo>
                      <a:pt x="6" y="121"/>
                    </a:lnTo>
                    <a:lnTo>
                      <a:pt x="4" y="121"/>
                    </a:lnTo>
                    <a:lnTo>
                      <a:pt x="2" y="123"/>
                    </a:lnTo>
                    <a:lnTo>
                      <a:pt x="1" y="125"/>
                    </a:lnTo>
                    <a:lnTo>
                      <a:pt x="0" y="126"/>
                    </a:lnTo>
                    <a:lnTo>
                      <a:pt x="0" y="128"/>
                    </a:lnTo>
                    <a:lnTo>
                      <a:pt x="0" y="130"/>
                    </a:lnTo>
                    <a:lnTo>
                      <a:pt x="0" y="132"/>
                    </a:lnTo>
                    <a:lnTo>
                      <a:pt x="1" y="132"/>
                    </a:lnTo>
                    <a:lnTo>
                      <a:pt x="2" y="133"/>
                    </a:lnTo>
                    <a:lnTo>
                      <a:pt x="4" y="133"/>
                    </a:lnTo>
                    <a:lnTo>
                      <a:pt x="6" y="133"/>
                    </a:lnTo>
                    <a:lnTo>
                      <a:pt x="6" y="135"/>
                    </a:lnTo>
                    <a:lnTo>
                      <a:pt x="7" y="133"/>
                    </a:lnTo>
                    <a:lnTo>
                      <a:pt x="8" y="133"/>
                    </a:lnTo>
                    <a:lnTo>
                      <a:pt x="10" y="133"/>
                    </a:lnTo>
                    <a:lnTo>
                      <a:pt x="12" y="132"/>
                    </a:lnTo>
                    <a:lnTo>
                      <a:pt x="13" y="132"/>
                    </a:lnTo>
                    <a:lnTo>
                      <a:pt x="14" y="132"/>
                    </a:lnTo>
                    <a:lnTo>
                      <a:pt x="16" y="132"/>
                    </a:lnTo>
                    <a:lnTo>
                      <a:pt x="17" y="132"/>
                    </a:lnTo>
                    <a:lnTo>
                      <a:pt x="18" y="132"/>
                    </a:lnTo>
                    <a:lnTo>
                      <a:pt x="20" y="132"/>
                    </a:lnTo>
                    <a:lnTo>
                      <a:pt x="21" y="132"/>
                    </a:lnTo>
                    <a:lnTo>
                      <a:pt x="23" y="130"/>
                    </a:lnTo>
                    <a:lnTo>
                      <a:pt x="23" y="128"/>
                    </a:lnTo>
                    <a:lnTo>
                      <a:pt x="23" y="126"/>
                    </a:lnTo>
                    <a:lnTo>
                      <a:pt x="24" y="125"/>
                    </a:lnTo>
                  </a:path>
                </a:pathLst>
              </a:custGeom>
              <a:gradFill rotWithShape="0">
                <a:gsLst>
                  <a:gs pos="0">
                    <a:srgbClr val="3365fb"/>
                  </a:gs>
                  <a:gs pos="100000">
                    <a:srgbClr val="0f1d4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708600" y="1860840"/>
                <a:ext cx="27720" cy="19080"/>
              </a:xfrm>
              <a:custGeom>
                <a:avLst/>
                <a:gdLst/>
                <a:ahLst/>
                <a:rect l="l" t="t" r="r" b="b"/>
                <a:pathLst>
                  <a:path w="17" h="17">
                    <a:moveTo>
                      <a:pt x="14" y="11"/>
                    </a:moveTo>
                    <a:lnTo>
                      <a:pt x="16" y="1"/>
                    </a:lnTo>
                    <a:lnTo>
                      <a:pt x="14" y="1"/>
                    </a:lnTo>
                    <a:lnTo>
                      <a:pt x="14" y="0"/>
                    </a:lnTo>
                    <a:lnTo>
                      <a:pt x="12" y="0"/>
                    </a:lnTo>
                    <a:lnTo>
                      <a:pt x="11" y="11"/>
                    </a:lnTo>
                    <a:lnTo>
                      <a:pt x="11" y="9"/>
                    </a:lnTo>
                    <a:lnTo>
                      <a:pt x="9" y="9"/>
                    </a:lnTo>
                    <a:lnTo>
                      <a:pt x="8" y="8"/>
                    </a:lnTo>
                    <a:lnTo>
                      <a:pt x="4" y="8"/>
                    </a:lnTo>
                    <a:lnTo>
                      <a:pt x="3" y="8"/>
                    </a:lnTo>
                    <a:lnTo>
                      <a:pt x="3" y="9"/>
                    </a:lnTo>
                    <a:lnTo>
                      <a:pt x="1" y="9"/>
                    </a:lnTo>
                    <a:lnTo>
                      <a:pt x="1" y="11"/>
                    </a:lnTo>
                    <a:lnTo>
                      <a:pt x="0" y="11"/>
                    </a:lnTo>
                    <a:lnTo>
                      <a:pt x="0" y="12"/>
                    </a:lnTo>
                    <a:lnTo>
                      <a:pt x="0" y="14"/>
                    </a:lnTo>
                    <a:lnTo>
                      <a:pt x="1" y="15"/>
                    </a:lnTo>
                    <a:lnTo>
                      <a:pt x="3" y="15"/>
                    </a:lnTo>
                    <a:lnTo>
                      <a:pt x="3" y="16"/>
                    </a:lnTo>
                    <a:lnTo>
                      <a:pt x="4" y="16"/>
                    </a:lnTo>
                    <a:lnTo>
                      <a:pt x="4" y="15"/>
                    </a:lnTo>
                    <a:lnTo>
                      <a:pt x="4" y="14"/>
                    </a:lnTo>
                    <a:lnTo>
                      <a:pt x="8" y="14"/>
                    </a:lnTo>
                    <a:lnTo>
                      <a:pt x="8" y="12"/>
                    </a:lnTo>
                    <a:lnTo>
                      <a:pt x="9" y="11"/>
                    </a:lnTo>
                    <a:lnTo>
                      <a:pt x="11" y="11"/>
                    </a:lnTo>
                    <a:lnTo>
                      <a:pt x="14" y="11"/>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 name=""/>
              <p:cNvSpPr/>
              <p:nvPr/>
            </p:nvSpPr>
            <p:spPr>
              <a:xfrm>
                <a:off x="6752520" y="1754640"/>
                <a:ext cx="39240" cy="24840"/>
              </a:xfrm>
              <a:custGeom>
                <a:avLst/>
                <a:gdLst/>
                <a:ahLst/>
                <a:rect l="l" t="t" r="r" b="b"/>
                <a:pathLst>
                  <a:path w="24" h="22">
                    <a:moveTo>
                      <a:pt x="6" y="18"/>
                    </a:moveTo>
                    <a:lnTo>
                      <a:pt x="6" y="19"/>
                    </a:lnTo>
                    <a:lnTo>
                      <a:pt x="8" y="20"/>
                    </a:lnTo>
                    <a:lnTo>
                      <a:pt x="8" y="21"/>
                    </a:lnTo>
                    <a:lnTo>
                      <a:pt x="9" y="21"/>
                    </a:lnTo>
                    <a:lnTo>
                      <a:pt x="10" y="20"/>
                    </a:lnTo>
                    <a:lnTo>
                      <a:pt x="11" y="20"/>
                    </a:lnTo>
                    <a:lnTo>
                      <a:pt x="11" y="19"/>
                    </a:lnTo>
                    <a:lnTo>
                      <a:pt x="13" y="19"/>
                    </a:lnTo>
                    <a:lnTo>
                      <a:pt x="15" y="18"/>
                    </a:lnTo>
                    <a:lnTo>
                      <a:pt x="15" y="19"/>
                    </a:lnTo>
                    <a:lnTo>
                      <a:pt x="17" y="20"/>
                    </a:lnTo>
                    <a:lnTo>
                      <a:pt x="18" y="20"/>
                    </a:lnTo>
                    <a:lnTo>
                      <a:pt x="19" y="20"/>
                    </a:lnTo>
                    <a:lnTo>
                      <a:pt x="20" y="20"/>
                    </a:lnTo>
                    <a:lnTo>
                      <a:pt x="20" y="19"/>
                    </a:lnTo>
                    <a:lnTo>
                      <a:pt x="21" y="19"/>
                    </a:lnTo>
                    <a:lnTo>
                      <a:pt x="23" y="18"/>
                    </a:lnTo>
                    <a:lnTo>
                      <a:pt x="23" y="15"/>
                    </a:lnTo>
                    <a:lnTo>
                      <a:pt x="21" y="15"/>
                    </a:lnTo>
                    <a:lnTo>
                      <a:pt x="20" y="15"/>
                    </a:lnTo>
                    <a:lnTo>
                      <a:pt x="19" y="15"/>
                    </a:lnTo>
                    <a:lnTo>
                      <a:pt x="18" y="15"/>
                    </a:lnTo>
                    <a:lnTo>
                      <a:pt x="18" y="14"/>
                    </a:lnTo>
                    <a:lnTo>
                      <a:pt x="17" y="14"/>
                    </a:lnTo>
                    <a:lnTo>
                      <a:pt x="17" y="12"/>
                    </a:lnTo>
                    <a:lnTo>
                      <a:pt x="18" y="11"/>
                    </a:lnTo>
                    <a:lnTo>
                      <a:pt x="18" y="9"/>
                    </a:lnTo>
                    <a:lnTo>
                      <a:pt x="18" y="6"/>
                    </a:lnTo>
                    <a:lnTo>
                      <a:pt x="17" y="5"/>
                    </a:lnTo>
                    <a:lnTo>
                      <a:pt x="15" y="4"/>
                    </a:lnTo>
                    <a:lnTo>
                      <a:pt x="15" y="2"/>
                    </a:lnTo>
                    <a:lnTo>
                      <a:pt x="13" y="2"/>
                    </a:lnTo>
                    <a:lnTo>
                      <a:pt x="11" y="1"/>
                    </a:lnTo>
                    <a:lnTo>
                      <a:pt x="10" y="0"/>
                    </a:lnTo>
                    <a:lnTo>
                      <a:pt x="8" y="0"/>
                    </a:lnTo>
                    <a:lnTo>
                      <a:pt x="8" y="1"/>
                    </a:lnTo>
                    <a:lnTo>
                      <a:pt x="6" y="1"/>
                    </a:lnTo>
                    <a:lnTo>
                      <a:pt x="5" y="2"/>
                    </a:lnTo>
                    <a:lnTo>
                      <a:pt x="4" y="4"/>
                    </a:lnTo>
                    <a:lnTo>
                      <a:pt x="2" y="4"/>
                    </a:lnTo>
                    <a:lnTo>
                      <a:pt x="1" y="4"/>
                    </a:lnTo>
                    <a:lnTo>
                      <a:pt x="0" y="4"/>
                    </a:lnTo>
                    <a:lnTo>
                      <a:pt x="0" y="5"/>
                    </a:lnTo>
                    <a:lnTo>
                      <a:pt x="0" y="6"/>
                    </a:lnTo>
                    <a:lnTo>
                      <a:pt x="1" y="9"/>
                    </a:lnTo>
                    <a:lnTo>
                      <a:pt x="2" y="9"/>
                    </a:lnTo>
                    <a:lnTo>
                      <a:pt x="2" y="11"/>
                    </a:lnTo>
                    <a:lnTo>
                      <a:pt x="2" y="12"/>
                    </a:lnTo>
                    <a:lnTo>
                      <a:pt x="2" y="14"/>
                    </a:lnTo>
                    <a:lnTo>
                      <a:pt x="4" y="15"/>
                    </a:lnTo>
                    <a:lnTo>
                      <a:pt x="5" y="14"/>
                    </a:lnTo>
                    <a:lnTo>
                      <a:pt x="5" y="15"/>
                    </a:lnTo>
                    <a:lnTo>
                      <a:pt x="5" y="17"/>
                    </a:lnTo>
                    <a:lnTo>
                      <a:pt x="5" y="18"/>
                    </a:lnTo>
                    <a:lnTo>
                      <a:pt x="6" y="18"/>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4" name=""/>
              <p:cNvSpPr/>
              <p:nvPr/>
            </p:nvSpPr>
            <p:spPr>
              <a:xfrm>
                <a:off x="6778800" y="1787400"/>
                <a:ext cx="27720" cy="19080"/>
              </a:xfrm>
              <a:custGeom>
                <a:avLst/>
                <a:gdLst/>
                <a:ahLst/>
                <a:rect l="l" t="t" r="r" b="b"/>
                <a:pathLst>
                  <a:path w="17" h="17">
                    <a:moveTo>
                      <a:pt x="16" y="12"/>
                    </a:moveTo>
                    <a:lnTo>
                      <a:pt x="14" y="12"/>
                    </a:lnTo>
                    <a:lnTo>
                      <a:pt x="12" y="12"/>
                    </a:lnTo>
                    <a:lnTo>
                      <a:pt x="11" y="12"/>
                    </a:lnTo>
                    <a:lnTo>
                      <a:pt x="11" y="10"/>
                    </a:lnTo>
                    <a:lnTo>
                      <a:pt x="9" y="10"/>
                    </a:lnTo>
                    <a:lnTo>
                      <a:pt x="8" y="10"/>
                    </a:lnTo>
                    <a:lnTo>
                      <a:pt x="8" y="12"/>
                    </a:lnTo>
                    <a:lnTo>
                      <a:pt x="8" y="14"/>
                    </a:lnTo>
                    <a:lnTo>
                      <a:pt x="6" y="16"/>
                    </a:lnTo>
                    <a:lnTo>
                      <a:pt x="4" y="14"/>
                    </a:lnTo>
                    <a:lnTo>
                      <a:pt x="3" y="12"/>
                    </a:lnTo>
                    <a:lnTo>
                      <a:pt x="2" y="12"/>
                    </a:lnTo>
                    <a:lnTo>
                      <a:pt x="1" y="12"/>
                    </a:lnTo>
                    <a:lnTo>
                      <a:pt x="1" y="10"/>
                    </a:lnTo>
                    <a:lnTo>
                      <a:pt x="0" y="10"/>
                    </a:lnTo>
                    <a:lnTo>
                      <a:pt x="0" y="9"/>
                    </a:lnTo>
                    <a:lnTo>
                      <a:pt x="1" y="5"/>
                    </a:lnTo>
                    <a:lnTo>
                      <a:pt x="2" y="4"/>
                    </a:lnTo>
                    <a:lnTo>
                      <a:pt x="3" y="2"/>
                    </a:lnTo>
                    <a:lnTo>
                      <a:pt x="4" y="1"/>
                    </a:lnTo>
                    <a:lnTo>
                      <a:pt x="6" y="1"/>
                    </a:lnTo>
                    <a:lnTo>
                      <a:pt x="8" y="1"/>
                    </a:lnTo>
                    <a:lnTo>
                      <a:pt x="8" y="0"/>
                    </a:lnTo>
                    <a:lnTo>
                      <a:pt x="9" y="0"/>
                    </a:lnTo>
                    <a:lnTo>
                      <a:pt x="14" y="4"/>
                    </a:lnTo>
                    <a:lnTo>
                      <a:pt x="16"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6783480" y="1804680"/>
                <a:ext cx="30960" cy="27000"/>
              </a:xfrm>
              <a:custGeom>
                <a:avLst/>
                <a:gdLst/>
                <a:ahLst/>
                <a:rect l="l" t="t" r="r" b="b"/>
                <a:pathLst>
                  <a:path w="19" h="24">
                    <a:moveTo>
                      <a:pt x="0" y="3"/>
                    </a:moveTo>
                    <a:lnTo>
                      <a:pt x="1" y="5"/>
                    </a:lnTo>
                    <a:lnTo>
                      <a:pt x="2" y="5"/>
                    </a:lnTo>
                    <a:lnTo>
                      <a:pt x="4" y="5"/>
                    </a:lnTo>
                    <a:lnTo>
                      <a:pt x="4" y="3"/>
                    </a:lnTo>
                    <a:lnTo>
                      <a:pt x="4" y="2"/>
                    </a:lnTo>
                    <a:lnTo>
                      <a:pt x="4" y="1"/>
                    </a:lnTo>
                    <a:lnTo>
                      <a:pt x="4" y="0"/>
                    </a:lnTo>
                    <a:lnTo>
                      <a:pt x="6" y="0"/>
                    </a:lnTo>
                    <a:lnTo>
                      <a:pt x="7" y="1"/>
                    </a:lnTo>
                    <a:lnTo>
                      <a:pt x="8" y="2"/>
                    </a:lnTo>
                    <a:lnTo>
                      <a:pt x="9" y="3"/>
                    </a:lnTo>
                    <a:lnTo>
                      <a:pt x="10" y="3"/>
                    </a:lnTo>
                    <a:lnTo>
                      <a:pt x="10" y="2"/>
                    </a:lnTo>
                    <a:lnTo>
                      <a:pt x="12" y="2"/>
                    </a:lnTo>
                    <a:lnTo>
                      <a:pt x="12" y="12"/>
                    </a:lnTo>
                    <a:lnTo>
                      <a:pt x="16" y="9"/>
                    </a:lnTo>
                    <a:lnTo>
                      <a:pt x="16" y="11"/>
                    </a:lnTo>
                    <a:lnTo>
                      <a:pt x="16" y="12"/>
                    </a:lnTo>
                    <a:lnTo>
                      <a:pt x="18" y="12"/>
                    </a:lnTo>
                    <a:lnTo>
                      <a:pt x="18" y="13"/>
                    </a:lnTo>
                    <a:lnTo>
                      <a:pt x="16" y="13"/>
                    </a:lnTo>
                    <a:lnTo>
                      <a:pt x="15" y="13"/>
                    </a:lnTo>
                    <a:lnTo>
                      <a:pt x="13" y="14"/>
                    </a:lnTo>
                    <a:lnTo>
                      <a:pt x="12" y="14"/>
                    </a:lnTo>
                    <a:lnTo>
                      <a:pt x="9" y="17"/>
                    </a:lnTo>
                    <a:lnTo>
                      <a:pt x="8" y="18"/>
                    </a:lnTo>
                    <a:lnTo>
                      <a:pt x="6" y="21"/>
                    </a:lnTo>
                    <a:lnTo>
                      <a:pt x="4" y="23"/>
                    </a:lnTo>
                    <a:lnTo>
                      <a:pt x="4" y="21"/>
                    </a:lnTo>
                    <a:lnTo>
                      <a:pt x="4" y="19"/>
                    </a:lnTo>
                    <a:lnTo>
                      <a:pt x="2" y="18"/>
                    </a:lnTo>
                    <a:lnTo>
                      <a:pt x="2" y="16"/>
                    </a:lnTo>
                    <a:lnTo>
                      <a:pt x="1" y="12"/>
                    </a:lnTo>
                    <a:lnTo>
                      <a:pt x="1" y="9"/>
                    </a:lnTo>
                    <a:lnTo>
                      <a:pt x="1" y="6"/>
                    </a:lnTo>
                    <a:lnTo>
                      <a:pt x="1" y="5"/>
                    </a:lnTo>
                    <a:lnTo>
                      <a:pt x="0" y="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6760800" y="1763640"/>
                <a:ext cx="27720" cy="19080"/>
              </a:xfrm>
              <a:custGeom>
                <a:avLst/>
                <a:gdLst/>
                <a:ahLst/>
                <a:rect l="l" t="t" r="r" b="b"/>
                <a:pathLst>
                  <a:path w="17" h="17">
                    <a:moveTo>
                      <a:pt x="8" y="9"/>
                    </a:moveTo>
                    <a:lnTo>
                      <a:pt x="8" y="16"/>
                    </a:lnTo>
                    <a:lnTo>
                      <a:pt x="0" y="16"/>
                    </a:lnTo>
                    <a:lnTo>
                      <a:pt x="0" y="9"/>
                    </a:lnTo>
                    <a:lnTo>
                      <a:pt x="8" y="9"/>
                    </a:lnTo>
                    <a:lnTo>
                      <a:pt x="8" y="6"/>
                    </a:lnTo>
                    <a:lnTo>
                      <a:pt x="8" y="0"/>
                    </a:lnTo>
                    <a:lnTo>
                      <a:pt x="8" y="6"/>
                    </a:lnTo>
                    <a:lnTo>
                      <a:pt x="8" y="9"/>
                    </a:lnTo>
                    <a:lnTo>
                      <a:pt x="16" y="9"/>
                    </a:lnTo>
                    <a:lnTo>
                      <a:pt x="8"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 name=""/>
              <p:cNvSpPr/>
              <p:nvPr/>
            </p:nvSpPr>
            <p:spPr>
              <a:xfrm>
                <a:off x="6389640" y="1703160"/>
                <a:ext cx="132120" cy="230400"/>
              </a:xfrm>
              <a:custGeom>
                <a:avLst/>
                <a:gdLst/>
                <a:ahLst/>
                <a:rect l="l" t="t" r="r" b="b"/>
                <a:pathLst>
                  <a:path w="81" h="202">
                    <a:moveTo>
                      <a:pt x="40" y="201"/>
                    </a:moveTo>
                    <a:lnTo>
                      <a:pt x="42" y="199"/>
                    </a:lnTo>
                    <a:lnTo>
                      <a:pt x="44" y="196"/>
                    </a:lnTo>
                    <a:lnTo>
                      <a:pt x="44" y="194"/>
                    </a:lnTo>
                    <a:lnTo>
                      <a:pt x="46" y="192"/>
                    </a:lnTo>
                    <a:lnTo>
                      <a:pt x="46" y="191"/>
                    </a:lnTo>
                    <a:lnTo>
                      <a:pt x="48" y="189"/>
                    </a:lnTo>
                    <a:lnTo>
                      <a:pt x="49" y="186"/>
                    </a:lnTo>
                    <a:lnTo>
                      <a:pt x="50" y="184"/>
                    </a:lnTo>
                    <a:lnTo>
                      <a:pt x="51" y="183"/>
                    </a:lnTo>
                    <a:lnTo>
                      <a:pt x="53" y="181"/>
                    </a:lnTo>
                    <a:lnTo>
                      <a:pt x="55" y="180"/>
                    </a:lnTo>
                    <a:lnTo>
                      <a:pt x="56" y="180"/>
                    </a:lnTo>
                    <a:lnTo>
                      <a:pt x="58" y="178"/>
                    </a:lnTo>
                    <a:lnTo>
                      <a:pt x="59" y="176"/>
                    </a:lnTo>
                    <a:lnTo>
                      <a:pt x="61" y="174"/>
                    </a:lnTo>
                    <a:lnTo>
                      <a:pt x="61" y="173"/>
                    </a:lnTo>
                    <a:lnTo>
                      <a:pt x="63" y="171"/>
                    </a:lnTo>
                    <a:lnTo>
                      <a:pt x="65" y="170"/>
                    </a:lnTo>
                    <a:lnTo>
                      <a:pt x="67" y="167"/>
                    </a:lnTo>
                    <a:lnTo>
                      <a:pt x="68" y="166"/>
                    </a:lnTo>
                    <a:lnTo>
                      <a:pt x="72" y="164"/>
                    </a:lnTo>
                    <a:lnTo>
                      <a:pt x="75" y="163"/>
                    </a:lnTo>
                    <a:lnTo>
                      <a:pt x="76" y="163"/>
                    </a:lnTo>
                    <a:lnTo>
                      <a:pt x="80" y="162"/>
                    </a:lnTo>
                    <a:lnTo>
                      <a:pt x="78" y="162"/>
                    </a:lnTo>
                    <a:lnTo>
                      <a:pt x="78" y="160"/>
                    </a:lnTo>
                    <a:lnTo>
                      <a:pt x="76" y="149"/>
                    </a:lnTo>
                    <a:lnTo>
                      <a:pt x="76" y="126"/>
                    </a:lnTo>
                    <a:lnTo>
                      <a:pt x="76" y="103"/>
                    </a:lnTo>
                    <a:lnTo>
                      <a:pt x="75" y="88"/>
                    </a:lnTo>
                    <a:lnTo>
                      <a:pt x="72" y="86"/>
                    </a:lnTo>
                    <a:lnTo>
                      <a:pt x="70" y="85"/>
                    </a:lnTo>
                    <a:lnTo>
                      <a:pt x="68" y="83"/>
                    </a:lnTo>
                    <a:lnTo>
                      <a:pt x="67" y="82"/>
                    </a:lnTo>
                    <a:lnTo>
                      <a:pt x="67" y="80"/>
                    </a:lnTo>
                    <a:lnTo>
                      <a:pt x="67" y="78"/>
                    </a:lnTo>
                    <a:lnTo>
                      <a:pt x="67" y="73"/>
                    </a:lnTo>
                    <a:lnTo>
                      <a:pt x="67" y="62"/>
                    </a:lnTo>
                    <a:lnTo>
                      <a:pt x="65" y="49"/>
                    </a:lnTo>
                    <a:lnTo>
                      <a:pt x="65" y="43"/>
                    </a:lnTo>
                    <a:lnTo>
                      <a:pt x="65" y="42"/>
                    </a:lnTo>
                    <a:lnTo>
                      <a:pt x="63" y="42"/>
                    </a:lnTo>
                    <a:lnTo>
                      <a:pt x="63" y="40"/>
                    </a:lnTo>
                    <a:lnTo>
                      <a:pt x="62" y="40"/>
                    </a:lnTo>
                    <a:lnTo>
                      <a:pt x="62" y="38"/>
                    </a:lnTo>
                    <a:lnTo>
                      <a:pt x="61" y="38"/>
                    </a:lnTo>
                    <a:lnTo>
                      <a:pt x="59" y="38"/>
                    </a:lnTo>
                    <a:lnTo>
                      <a:pt x="59" y="37"/>
                    </a:lnTo>
                    <a:lnTo>
                      <a:pt x="59" y="35"/>
                    </a:lnTo>
                    <a:lnTo>
                      <a:pt x="61" y="37"/>
                    </a:lnTo>
                    <a:lnTo>
                      <a:pt x="62" y="35"/>
                    </a:lnTo>
                    <a:lnTo>
                      <a:pt x="62" y="33"/>
                    </a:lnTo>
                    <a:lnTo>
                      <a:pt x="62" y="32"/>
                    </a:lnTo>
                    <a:lnTo>
                      <a:pt x="62" y="29"/>
                    </a:lnTo>
                    <a:lnTo>
                      <a:pt x="62" y="28"/>
                    </a:lnTo>
                    <a:lnTo>
                      <a:pt x="63" y="28"/>
                    </a:lnTo>
                    <a:lnTo>
                      <a:pt x="63" y="26"/>
                    </a:lnTo>
                    <a:lnTo>
                      <a:pt x="65" y="25"/>
                    </a:lnTo>
                    <a:lnTo>
                      <a:pt x="65" y="24"/>
                    </a:lnTo>
                    <a:lnTo>
                      <a:pt x="65" y="22"/>
                    </a:lnTo>
                    <a:lnTo>
                      <a:pt x="67" y="21"/>
                    </a:lnTo>
                    <a:lnTo>
                      <a:pt x="67" y="19"/>
                    </a:lnTo>
                    <a:lnTo>
                      <a:pt x="67" y="15"/>
                    </a:lnTo>
                    <a:lnTo>
                      <a:pt x="67" y="12"/>
                    </a:lnTo>
                    <a:lnTo>
                      <a:pt x="65" y="8"/>
                    </a:lnTo>
                    <a:lnTo>
                      <a:pt x="63" y="5"/>
                    </a:lnTo>
                    <a:lnTo>
                      <a:pt x="61" y="5"/>
                    </a:lnTo>
                    <a:lnTo>
                      <a:pt x="58" y="1"/>
                    </a:lnTo>
                    <a:lnTo>
                      <a:pt x="53" y="0"/>
                    </a:lnTo>
                    <a:lnTo>
                      <a:pt x="49" y="0"/>
                    </a:lnTo>
                    <a:lnTo>
                      <a:pt x="48" y="0"/>
                    </a:lnTo>
                    <a:lnTo>
                      <a:pt x="46" y="0"/>
                    </a:lnTo>
                    <a:lnTo>
                      <a:pt x="44" y="1"/>
                    </a:lnTo>
                    <a:lnTo>
                      <a:pt x="42" y="1"/>
                    </a:lnTo>
                    <a:lnTo>
                      <a:pt x="40" y="2"/>
                    </a:lnTo>
                    <a:lnTo>
                      <a:pt x="38" y="5"/>
                    </a:lnTo>
                    <a:lnTo>
                      <a:pt x="36" y="8"/>
                    </a:lnTo>
                    <a:lnTo>
                      <a:pt x="34" y="12"/>
                    </a:lnTo>
                    <a:lnTo>
                      <a:pt x="34" y="15"/>
                    </a:lnTo>
                    <a:lnTo>
                      <a:pt x="34" y="19"/>
                    </a:lnTo>
                    <a:lnTo>
                      <a:pt x="33" y="21"/>
                    </a:lnTo>
                    <a:lnTo>
                      <a:pt x="33" y="24"/>
                    </a:lnTo>
                    <a:lnTo>
                      <a:pt x="34" y="26"/>
                    </a:lnTo>
                    <a:lnTo>
                      <a:pt x="34" y="28"/>
                    </a:lnTo>
                    <a:lnTo>
                      <a:pt x="34" y="29"/>
                    </a:lnTo>
                    <a:lnTo>
                      <a:pt x="34" y="33"/>
                    </a:lnTo>
                    <a:lnTo>
                      <a:pt x="33" y="33"/>
                    </a:lnTo>
                    <a:lnTo>
                      <a:pt x="32" y="33"/>
                    </a:lnTo>
                    <a:lnTo>
                      <a:pt x="30" y="35"/>
                    </a:lnTo>
                    <a:lnTo>
                      <a:pt x="27" y="35"/>
                    </a:lnTo>
                    <a:lnTo>
                      <a:pt x="25" y="35"/>
                    </a:lnTo>
                    <a:lnTo>
                      <a:pt x="23" y="37"/>
                    </a:lnTo>
                    <a:lnTo>
                      <a:pt x="19" y="37"/>
                    </a:lnTo>
                    <a:lnTo>
                      <a:pt x="16" y="38"/>
                    </a:lnTo>
                    <a:lnTo>
                      <a:pt x="13" y="38"/>
                    </a:lnTo>
                    <a:lnTo>
                      <a:pt x="12" y="40"/>
                    </a:lnTo>
                    <a:lnTo>
                      <a:pt x="10" y="40"/>
                    </a:lnTo>
                    <a:lnTo>
                      <a:pt x="8" y="42"/>
                    </a:lnTo>
                    <a:lnTo>
                      <a:pt x="5" y="42"/>
                    </a:lnTo>
                    <a:lnTo>
                      <a:pt x="4" y="42"/>
                    </a:lnTo>
                    <a:lnTo>
                      <a:pt x="4" y="43"/>
                    </a:lnTo>
                    <a:lnTo>
                      <a:pt x="2" y="45"/>
                    </a:lnTo>
                    <a:lnTo>
                      <a:pt x="1" y="46"/>
                    </a:lnTo>
                    <a:lnTo>
                      <a:pt x="1" y="49"/>
                    </a:lnTo>
                    <a:lnTo>
                      <a:pt x="1" y="51"/>
                    </a:lnTo>
                    <a:lnTo>
                      <a:pt x="1" y="61"/>
                    </a:lnTo>
                    <a:lnTo>
                      <a:pt x="1" y="75"/>
                    </a:lnTo>
                    <a:lnTo>
                      <a:pt x="0" y="91"/>
                    </a:lnTo>
                    <a:lnTo>
                      <a:pt x="1" y="100"/>
                    </a:lnTo>
                    <a:lnTo>
                      <a:pt x="1" y="103"/>
                    </a:lnTo>
                    <a:lnTo>
                      <a:pt x="2" y="103"/>
                    </a:lnTo>
                    <a:lnTo>
                      <a:pt x="4" y="104"/>
                    </a:lnTo>
                    <a:lnTo>
                      <a:pt x="5" y="104"/>
                    </a:lnTo>
                    <a:lnTo>
                      <a:pt x="8" y="104"/>
                    </a:lnTo>
                    <a:lnTo>
                      <a:pt x="8" y="107"/>
                    </a:lnTo>
                    <a:lnTo>
                      <a:pt x="10" y="108"/>
                    </a:lnTo>
                    <a:lnTo>
                      <a:pt x="12" y="110"/>
                    </a:lnTo>
                    <a:lnTo>
                      <a:pt x="13" y="111"/>
                    </a:lnTo>
                    <a:lnTo>
                      <a:pt x="16" y="114"/>
                    </a:lnTo>
                    <a:lnTo>
                      <a:pt x="19" y="117"/>
                    </a:lnTo>
                    <a:lnTo>
                      <a:pt x="21" y="120"/>
                    </a:lnTo>
                    <a:lnTo>
                      <a:pt x="25" y="124"/>
                    </a:lnTo>
                    <a:lnTo>
                      <a:pt x="25" y="126"/>
                    </a:lnTo>
                    <a:lnTo>
                      <a:pt x="29" y="130"/>
                    </a:lnTo>
                    <a:lnTo>
                      <a:pt x="30" y="135"/>
                    </a:lnTo>
                    <a:lnTo>
                      <a:pt x="32" y="138"/>
                    </a:lnTo>
                    <a:lnTo>
                      <a:pt x="33" y="143"/>
                    </a:lnTo>
                    <a:lnTo>
                      <a:pt x="34" y="147"/>
                    </a:lnTo>
                    <a:lnTo>
                      <a:pt x="36" y="150"/>
                    </a:lnTo>
                    <a:lnTo>
                      <a:pt x="36" y="156"/>
                    </a:lnTo>
                    <a:lnTo>
                      <a:pt x="38" y="162"/>
                    </a:lnTo>
                    <a:lnTo>
                      <a:pt x="38" y="170"/>
                    </a:lnTo>
                    <a:lnTo>
                      <a:pt x="38" y="178"/>
                    </a:lnTo>
                    <a:lnTo>
                      <a:pt x="40" y="186"/>
                    </a:lnTo>
                    <a:lnTo>
                      <a:pt x="40" y="194"/>
                    </a:lnTo>
                    <a:lnTo>
                      <a:pt x="40" y="201"/>
                    </a:lnTo>
                  </a:path>
                </a:pathLst>
              </a:custGeom>
              <a:gradFill rotWithShape="0">
                <a:gsLst>
                  <a:gs pos="0">
                    <a:srgbClr val="4e00a1"/>
                  </a:gs>
                  <a:gs pos="100000">
                    <a:srgbClr val="17002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499080" y="1895040"/>
                <a:ext cx="27720" cy="19080"/>
              </a:xfrm>
              <a:custGeom>
                <a:avLst/>
                <a:gdLst/>
                <a:ahLst/>
                <a:rect l="l" t="t" r="r" b="b"/>
                <a:pathLst>
                  <a:path w="17" h="17">
                    <a:moveTo>
                      <a:pt x="0" y="16"/>
                    </a:moveTo>
                    <a:lnTo>
                      <a:pt x="0" y="12"/>
                    </a:lnTo>
                    <a:lnTo>
                      <a:pt x="1" y="12"/>
                    </a:lnTo>
                    <a:lnTo>
                      <a:pt x="3" y="10"/>
                    </a:lnTo>
                    <a:lnTo>
                      <a:pt x="4" y="8"/>
                    </a:lnTo>
                    <a:lnTo>
                      <a:pt x="6" y="5"/>
                    </a:lnTo>
                    <a:lnTo>
                      <a:pt x="8" y="5"/>
                    </a:lnTo>
                    <a:lnTo>
                      <a:pt x="11" y="1"/>
                    </a:lnTo>
                    <a:lnTo>
                      <a:pt x="14" y="0"/>
                    </a:lnTo>
                    <a:lnTo>
                      <a:pt x="14" y="1"/>
                    </a:lnTo>
                    <a:lnTo>
                      <a:pt x="16" y="1"/>
                    </a:lnTo>
                    <a:lnTo>
                      <a:pt x="12" y="5"/>
                    </a:lnTo>
                    <a:lnTo>
                      <a:pt x="11" y="5"/>
                    </a:lnTo>
                    <a:lnTo>
                      <a:pt x="8" y="5"/>
                    </a:lnTo>
                    <a:lnTo>
                      <a:pt x="6" y="8"/>
                    </a:lnTo>
                    <a:lnTo>
                      <a:pt x="4" y="10"/>
                    </a:lnTo>
                    <a:lnTo>
                      <a:pt x="3" y="12"/>
                    </a:lnTo>
                    <a:lnTo>
                      <a:pt x="1" y="12"/>
                    </a:lnTo>
                    <a:lnTo>
                      <a:pt x="0"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6471000" y="1756440"/>
                <a:ext cx="27720" cy="42120"/>
              </a:xfrm>
              <a:custGeom>
                <a:avLst/>
                <a:gdLst/>
                <a:ahLst/>
                <a:rect l="l" t="t" r="r" b="b"/>
                <a:pathLst>
                  <a:path w="17" h="37">
                    <a:moveTo>
                      <a:pt x="12" y="36"/>
                    </a:moveTo>
                    <a:lnTo>
                      <a:pt x="12" y="34"/>
                    </a:lnTo>
                    <a:lnTo>
                      <a:pt x="12" y="32"/>
                    </a:lnTo>
                    <a:lnTo>
                      <a:pt x="16" y="27"/>
                    </a:lnTo>
                    <a:lnTo>
                      <a:pt x="16" y="23"/>
                    </a:lnTo>
                    <a:lnTo>
                      <a:pt x="16" y="16"/>
                    </a:lnTo>
                    <a:lnTo>
                      <a:pt x="16" y="10"/>
                    </a:lnTo>
                    <a:lnTo>
                      <a:pt x="16" y="5"/>
                    </a:lnTo>
                    <a:lnTo>
                      <a:pt x="12" y="0"/>
                    </a:lnTo>
                    <a:lnTo>
                      <a:pt x="8" y="0"/>
                    </a:lnTo>
                    <a:lnTo>
                      <a:pt x="4" y="0"/>
                    </a:lnTo>
                    <a:lnTo>
                      <a:pt x="0" y="0"/>
                    </a:lnTo>
                    <a:lnTo>
                      <a:pt x="8" y="9"/>
                    </a:lnTo>
                    <a:lnTo>
                      <a:pt x="4" y="5"/>
                    </a:lnTo>
                    <a:lnTo>
                      <a:pt x="4" y="7"/>
                    </a:lnTo>
                    <a:lnTo>
                      <a:pt x="4" y="9"/>
                    </a:lnTo>
                    <a:lnTo>
                      <a:pt x="0" y="9"/>
                    </a:lnTo>
                    <a:lnTo>
                      <a:pt x="4" y="9"/>
                    </a:lnTo>
                    <a:lnTo>
                      <a:pt x="4" y="10"/>
                    </a:lnTo>
                    <a:lnTo>
                      <a:pt x="4" y="12"/>
                    </a:lnTo>
                    <a:lnTo>
                      <a:pt x="4" y="13"/>
                    </a:lnTo>
                    <a:lnTo>
                      <a:pt x="4" y="16"/>
                    </a:lnTo>
                    <a:lnTo>
                      <a:pt x="8" y="23"/>
                    </a:lnTo>
                    <a:lnTo>
                      <a:pt x="8" y="27"/>
                    </a:lnTo>
                    <a:lnTo>
                      <a:pt x="12" y="36"/>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0" name=""/>
              <p:cNvSpPr/>
              <p:nvPr/>
            </p:nvSpPr>
            <p:spPr>
              <a:xfrm>
                <a:off x="6446520" y="1724760"/>
                <a:ext cx="48960" cy="94680"/>
              </a:xfrm>
              <a:custGeom>
                <a:avLst/>
                <a:gdLst/>
                <a:ahLst/>
                <a:rect l="l" t="t" r="r" b="b"/>
                <a:pathLst>
                  <a:path w="30" h="83">
                    <a:moveTo>
                      <a:pt x="8" y="75"/>
                    </a:moveTo>
                    <a:lnTo>
                      <a:pt x="8" y="71"/>
                    </a:lnTo>
                    <a:lnTo>
                      <a:pt x="8" y="58"/>
                    </a:lnTo>
                    <a:lnTo>
                      <a:pt x="9" y="46"/>
                    </a:lnTo>
                    <a:lnTo>
                      <a:pt x="9" y="42"/>
                    </a:lnTo>
                    <a:lnTo>
                      <a:pt x="9" y="38"/>
                    </a:lnTo>
                    <a:lnTo>
                      <a:pt x="11" y="36"/>
                    </a:lnTo>
                    <a:lnTo>
                      <a:pt x="11" y="35"/>
                    </a:lnTo>
                    <a:lnTo>
                      <a:pt x="9" y="33"/>
                    </a:lnTo>
                    <a:lnTo>
                      <a:pt x="9" y="31"/>
                    </a:lnTo>
                    <a:lnTo>
                      <a:pt x="9" y="30"/>
                    </a:lnTo>
                    <a:lnTo>
                      <a:pt x="5" y="33"/>
                    </a:lnTo>
                    <a:lnTo>
                      <a:pt x="11" y="24"/>
                    </a:lnTo>
                    <a:lnTo>
                      <a:pt x="9" y="23"/>
                    </a:lnTo>
                    <a:lnTo>
                      <a:pt x="8" y="21"/>
                    </a:lnTo>
                    <a:lnTo>
                      <a:pt x="7" y="20"/>
                    </a:lnTo>
                    <a:lnTo>
                      <a:pt x="5" y="18"/>
                    </a:lnTo>
                    <a:lnTo>
                      <a:pt x="4" y="17"/>
                    </a:lnTo>
                    <a:lnTo>
                      <a:pt x="7" y="20"/>
                    </a:lnTo>
                    <a:lnTo>
                      <a:pt x="8" y="20"/>
                    </a:lnTo>
                    <a:lnTo>
                      <a:pt x="9" y="20"/>
                    </a:lnTo>
                    <a:lnTo>
                      <a:pt x="11" y="18"/>
                    </a:lnTo>
                    <a:lnTo>
                      <a:pt x="11" y="17"/>
                    </a:lnTo>
                    <a:lnTo>
                      <a:pt x="11" y="18"/>
                    </a:lnTo>
                    <a:lnTo>
                      <a:pt x="12" y="18"/>
                    </a:lnTo>
                    <a:lnTo>
                      <a:pt x="12" y="20"/>
                    </a:lnTo>
                    <a:lnTo>
                      <a:pt x="13" y="20"/>
                    </a:lnTo>
                    <a:lnTo>
                      <a:pt x="15" y="21"/>
                    </a:lnTo>
                    <a:lnTo>
                      <a:pt x="15" y="23"/>
                    </a:lnTo>
                    <a:lnTo>
                      <a:pt x="16" y="23"/>
                    </a:lnTo>
                    <a:lnTo>
                      <a:pt x="18" y="23"/>
                    </a:lnTo>
                    <a:lnTo>
                      <a:pt x="20" y="23"/>
                    </a:lnTo>
                    <a:lnTo>
                      <a:pt x="20" y="21"/>
                    </a:lnTo>
                    <a:lnTo>
                      <a:pt x="21" y="21"/>
                    </a:lnTo>
                    <a:lnTo>
                      <a:pt x="21" y="20"/>
                    </a:lnTo>
                    <a:lnTo>
                      <a:pt x="21" y="18"/>
                    </a:lnTo>
                    <a:lnTo>
                      <a:pt x="21" y="17"/>
                    </a:lnTo>
                    <a:lnTo>
                      <a:pt x="23" y="17"/>
                    </a:lnTo>
                    <a:lnTo>
                      <a:pt x="23" y="15"/>
                    </a:lnTo>
                    <a:lnTo>
                      <a:pt x="25" y="15"/>
                    </a:lnTo>
                    <a:lnTo>
                      <a:pt x="25" y="13"/>
                    </a:lnTo>
                    <a:lnTo>
                      <a:pt x="25" y="12"/>
                    </a:lnTo>
                    <a:lnTo>
                      <a:pt x="25" y="10"/>
                    </a:lnTo>
                    <a:lnTo>
                      <a:pt x="25" y="8"/>
                    </a:lnTo>
                    <a:lnTo>
                      <a:pt x="27" y="6"/>
                    </a:lnTo>
                    <a:lnTo>
                      <a:pt x="27" y="5"/>
                    </a:lnTo>
                    <a:lnTo>
                      <a:pt x="29" y="4"/>
                    </a:lnTo>
                    <a:lnTo>
                      <a:pt x="29" y="2"/>
                    </a:lnTo>
                    <a:lnTo>
                      <a:pt x="27" y="2"/>
                    </a:lnTo>
                    <a:lnTo>
                      <a:pt x="25" y="2"/>
                    </a:lnTo>
                    <a:lnTo>
                      <a:pt x="25" y="1"/>
                    </a:lnTo>
                    <a:lnTo>
                      <a:pt x="23" y="1"/>
                    </a:lnTo>
                    <a:lnTo>
                      <a:pt x="21" y="1"/>
                    </a:lnTo>
                    <a:lnTo>
                      <a:pt x="21" y="0"/>
                    </a:lnTo>
                    <a:lnTo>
                      <a:pt x="20" y="1"/>
                    </a:lnTo>
                    <a:lnTo>
                      <a:pt x="20" y="2"/>
                    </a:lnTo>
                    <a:lnTo>
                      <a:pt x="20" y="4"/>
                    </a:lnTo>
                    <a:lnTo>
                      <a:pt x="18" y="4"/>
                    </a:lnTo>
                    <a:lnTo>
                      <a:pt x="16" y="2"/>
                    </a:lnTo>
                    <a:lnTo>
                      <a:pt x="15" y="4"/>
                    </a:lnTo>
                    <a:lnTo>
                      <a:pt x="15" y="5"/>
                    </a:lnTo>
                    <a:lnTo>
                      <a:pt x="15" y="6"/>
                    </a:lnTo>
                    <a:lnTo>
                      <a:pt x="13" y="5"/>
                    </a:lnTo>
                    <a:lnTo>
                      <a:pt x="13" y="4"/>
                    </a:lnTo>
                    <a:lnTo>
                      <a:pt x="12" y="4"/>
                    </a:lnTo>
                    <a:lnTo>
                      <a:pt x="11" y="2"/>
                    </a:lnTo>
                    <a:lnTo>
                      <a:pt x="9" y="2"/>
                    </a:lnTo>
                    <a:lnTo>
                      <a:pt x="8" y="4"/>
                    </a:lnTo>
                    <a:lnTo>
                      <a:pt x="8" y="6"/>
                    </a:lnTo>
                    <a:lnTo>
                      <a:pt x="9" y="10"/>
                    </a:lnTo>
                    <a:lnTo>
                      <a:pt x="9" y="12"/>
                    </a:lnTo>
                    <a:lnTo>
                      <a:pt x="7" y="12"/>
                    </a:lnTo>
                    <a:lnTo>
                      <a:pt x="5" y="12"/>
                    </a:lnTo>
                    <a:lnTo>
                      <a:pt x="4" y="10"/>
                    </a:lnTo>
                    <a:lnTo>
                      <a:pt x="3" y="10"/>
                    </a:lnTo>
                    <a:lnTo>
                      <a:pt x="1" y="8"/>
                    </a:lnTo>
                    <a:lnTo>
                      <a:pt x="1" y="6"/>
                    </a:lnTo>
                    <a:lnTo>
                      <a:pt x="0" y="5"/>
                    </a:lnTo>
                    <a:lnTo>
                      <a:pt x="0" y="4"/>
                    </a:lnTo>
                    <a:lnTo>
                      <a:pt x="1" y="6"/>
                    </a:lnTo>
                    <a:lnTo>
                      <a:pt x="1" y="8"/>
                    </a:lnTo>
                    <a:lnTo>
                      <a:pt x="1" y="10"/>
                    </a:lnTo>
                    <a:lnTo>
                      <a:pt x="1" y="13"/>
                    </a:lnTo>
                    <a:lnTo>
                      <a:pt x="0" y="18"/>
                    </a:lnTo>
                    <a:lnTo>
                      <a:pt x="0" y="28"/>
                    </a:lnTo>
                    <a:lnTo>
                      <a:pt x="0" y="43"/>
                    </a:lnTo>
                    <a:lnTo>
                      <a:pt x="0" y="55"/>
                    </a:lnTo>
                    <a:lnTo>
                      <a:pt x="0" y="66"/>
                    </a:lnTo>
                    <a:lnTo>
                      <a:pt x="1" y="75"/>
                    </a:lnTo>
                    <a:lnTo>
                      <a:pt x="3" y="80"/>
                    </a:lnTo>
                    <a:lnTo>
                      <a:pt x="3" y="82"/>
                    </a:lnTo>
                    <a:lnTo>
                      <a:pt x="3" y="81"/>
                    </a:lnTo>
                    <a:lnTo>
                      <a:pt x="4" y="80"/>
                    </a:lnTo>
                    <a:lnTo>
                      <a:pt x="5" y="78"/>
                    </a:lnTo>
                    <a:lnTo>
                      <a:pt x="7" y="76"/>
                    </a:lnTo>
                    <a:lnTo>
                      <a:pt x="8" y="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450120" y="1818360"/>
                <a:ext cx="27720" cy="30600"/>
              </a:xfrm>
              <a:custGeom>
                <a:avLst/>
                <a:gdLst/>
                <a:ahLst/>
                <a:rect l="l" t="t" r="r" b="b"/>
                <a:pathLst>
                  <a:path w="17" h="27">
                    <a:moveTo>
                      <a:pt x="16" y="0"/>
                    </a:moveTo>
                    <a:lnTo>
                      <a:pt x="16" y="2"/>
                    </a:lnTo>
                    <a:lnTo>
                      <a:pt x="8" y="4"/>
                    </a:lnTo>
                    <a:lnTo>
                      <a:pt x="8" y="7"/>
                    </a:lnTo>
                    <a:lnTo>
                      <a:pt x="8" y="11"/>
                    </a:lnTo>
                    <a:lnTo>
                      <a:pt x="8" y="15"/>
                    </a:lnTo>
                    <a:lnTo>
                      <a:pt x="8" y="21"/>
                    </a:lnTo>
                    <a:lnTo>
                      <a:pt x="8" y="26"/>
                    </a:lnTo>
                    <a:lnTo>
                      <a:pt x="8" y="24"/>
                    </a:lnTo>
                    <a:lnTo>
                      <a:pt x="8" y="23"/>
                    </a:lnTo>
                    <a:lnTo>
                      <a:pt x="8" y="22"/>
                    </a:lnTo>
                    <a:lnTo>
                      <a:pt x="0" y="19"/>
                    </a:lnTo>
                    <a:lnTo>
                      <a:pt x="0" y="15"/>
                    </a:lnTo>
                    <a:lnTo>
                      <a:pt x="0" y="13"/>
                    </a:lnTo>
                    <a:lnTo>
                      <a:pt x="0" y="8"/>
                    </a:lnTo>
                    <a:lnTo>
                      <a:pt x="0" y="5"/>
                    </a:lnTo>
                    <a:lnTo>
                      <a:pt x="0" y="4"/>
                    </a:lnTo>
                    <a:lnTo>
                      <a:pt x="8" y="4"/>
                    </a:lnTo>
                    <a:lnTo>
                      <a:pt x="8" y="2"/>
                    </a:lnTo>
                    <a:lnTo>
                      <a:pt x="16" y="0"/>
                    </a:lnTo>
                    <a:lnTo>
                      <a:pt x="16" y="0"/>
                    </a:lnTo>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2" name=""/>
              <p:cNvSpPr/>
              <p:nvPr/>
            </p:nvSpPr>
            <p:spPr>
              <a:xfrm>
                <a:off x="6327360" y="1763640"/>
                <a:ext cx="112680" cy="259920"/>
              </a:xfrm>
              <a:custGeom>
                <a:avLst/>
                <a:gdLst/>
                <a:ahLst/>
                <a:rect l="l" t="t" r="r" b="b"/>
                <a:pathLst>
                  <a:path w="69" h="228">
                    <a:moveTo>
                      <a:pt x="21" y="227"/>
                    </a:moveTo>
                    <a:lnTo>
                      <a:pt x="18" y="217"/>
                    </a:lnTo>
                    <a:lnTo>
                      <a:pt x="21" y="206"/>
                    </a:lnTo>
                    <a:lnTo>
                      <a:pt x="21" y="196"/>
                    </a:lnTo>
                    <a:lnTo>
                      <a:pt x="22" y="186"/>
                    </a:lnTo>
                    <a:lnTo>
                      <a:pt x="23" y="176"/>
                    </a:lnTo>
                    <a:lnTo>
                      <a:pt x="25" y="168"/>
                    </a:lnTo>
                    <a:lnTo>
                      <a:pt x="26" y="158"/>
                    </a:lnTo>
                    <a:lnTo>
                      <a:pt x="28" y="152"/>
                    </a:lnTo>
                    <a:lnTo>
                      <a:pt x="29" y="146"/>
                    </a:lnTo>
                    <a:lnTo>
                      <a:pt x="29" y="138"/>
                    </a:lnTo>
                    <a:lnTo>
                      <a:pt x="31" y="136"/>
                    </a:lnTo>
                    <a:lnTo>
                      <a:pt x="34" y="133"/>
                    </a:lnTo>
                    <a:lnTo>
                      <a:pt x="34" y="131"/>
                    </a:lnTo>
                    <a:lnTo>
                      <a:pt x="34" y="130"/>
                    </a:lnTo>
                    <a:lnTo>
                      <a:pt x="35" y="126"/>
                    </a:lnTo>
                    <a:lnTo>
                      <a:pt x="35" y="125"/>
                    </a:lnTo>
                    <a:lnTo>
                      <a:pt x="36" y="121"/>
                    </a:lnTo>
                    <a:lnTo>
                      <a:pt x="38" y="118"/>
                    </a:lnTo>
                    <a:lnTo>
                      <a:pt x="39" y="116"/>
                    </a:lnTo>
                    <a:lnTo>
                      <a:pt x="41" y="114"/>
                    </a:lnTo>
                    <a:lnTo>
                      <a:pt x="42" y="111"/>
                    </a:lnTo>
                    <a:lnTo>
                      <a:pt x="45" y="109"/>
                    </a:lnTo>
                    <a:lnTo>
                      <a:pt x="47" y="106"/>
                    </a:lnTo>
                    <a:lnTo>
                      <a:pt x="47" y="103"/>
                    </a:lnTo>
                    <a:lnTo>
                      <a:pt x="49" y="102"/>
                    </a:lnTo>
                    <a:lnTo>
                      <a:pt x="51" y="99"/>
                    </a:lnTo>
                    <a:lnTo>
                      <a:pt x="52" y="99"/>
                    </a:lnTo>
                    <a:lnTo>
                      <a:pt x="53" y="99"/>
                    </a:lnTo>
                    <a:lnTo>
                      <a:pt x="55" y="99"/>
                    </a:lnTo>
                    <a:lnTo>
                      <a:pt x="56" y="99"/>
                    </a:lnTo>
                    <a:lnTo>
                      <a:pt x="59" y="99"/>
                    </a:lnTo>
                    <a:lnTo>
                      <a:pt x="61" y="99"/>
                    </a:lnTo>
                    <a:lnTo>
                      <a:pt x="64" y="99"/>
                    </a:lnTo>
                    <a:lnTo>
                      <a:pt x="65" y="99"/>
                    </a:lnTo>
                    <a:lnTo>
                      <a:pt x="66" y="96"/>
                    </a:lnTo>
                    <a:lnTo>
                      <a:pt x="68" y="96"/>
                    </a:lnTo>
                    <a:lnTo>
                      <a:pt x="66" y="92"/>
                    </a:lnTo>
                    <a:lnTo>
                      <a:pt x="65" y="88"/>
                    </a:lnTo>
                    <a:lnTo>
                      <a:pt x="64" y="84"/>
                    </a:lnTo>
                    <a:lnTo>
                      <a:pt x="62" y="80"/>
                    </a:lnTo>
                    <a:lnTo>
                      <a:pt x="59" y="75"/>
                    </a:lnTo>
                    <a:lnTo>
                      <a:pt x="58" y="74"/>
                    </a:lnTo>
                    <a:lnTo>
                      <a:pt x="55" y="70"/>
                    </a:lnTo>
                    <a:lnTo>
                      <a:pt x="52" y="67"/>
                    </a:lnTo>
                    <a:lnTo>
                      <a:pt x="51" y="64"/>
                    </a:lnTo>
                    <a:lnTo>
                      <a:pt x="47" y="61"/>
                    </a:lnTo>
                    <a:lnTo>
                      <a:pt x="47" y="59"/>
                    </a:lnTo>
                    <a:lnTo>
                      <a:pt x="43" y="58"/>
                    </a:lnTo>
                    <a:lnTo>
                      <a:pt x="42" y="56"/>
                    </a:lnTo>
                    <a:lnTo>
                      <a:pt x="41" y="54"/>
                    </a:lnTo>
                    <a:lnTo>
                      <a:pt x="42" y="56"/>
                    </a:lnTo>
                    <a:lnTo>
                      <a:pt x="43" y="54"/>
                    </a:lnTo>
                    <a:lnTo>
                      <a:pt x="45" y="54"/>
                    </a:lnTo>
                    <a:lnTo>
                      <a:pt x="47" y="54"/>
                    </a:lnTo>
                    <a:lnTo>
                      <a:pt x="47" y="53"/>
                    </a:lnTo>
                    <a:lnTo>
                      <a:pt x="47" y="52"/>
                    </a:lnTo>
                    <a:lnTo>
                      <a:pt x="47" y="50"/>
                    </a:lnTo>
                    <a:lnTo>
                      <a:pt x="47" y="48"/>
                    </a:lnTo>
                    <a:lnTo>
                      <a:pt x="47" y="47"/>
                    </a:lnTo>
                    <a:lnTo>
                      <a:pt x="47" y="45"/>
                    </a:lnTo>
                    <a:lnTo>
                      <a:pt x="47" y="43"/>
                    </a:lnTo>
                    <a:lnTo>
                      <a:pt x="49" y="43"/>
                    </a:lnTo>
                    <a:lnTo>
                      <a:pt x="47" y="42"/>
                    </a:lnTo>
                    <a:lnTo>
                      <a:pt x="47" y="40"/>
                    </a:lnTo>
                    <a:lnTo>
                      <a:pt x="47" y="38"/>
                    </a:lnTo>
                    <a:lnTo>
                      <a:pt x="49" y="38"/>
                    </a:lnTo>
                    <a:lnTo>
                      <a:pt x="49" y="37"/>
                    </a:lnTo>
                    <a:lnTo>
                      <a:pt x="49" y="35"/>
                    </a:lnTo>
                    <a:lnTo>
                      <a:pt x="47" y="32"/>
                    </a:lnTo>
                    <a:lnTo>
                      <a:pt x="47" y="31"/>
                    </a:lnTo>
                    <a:lnTo>
                      <a:pt x="47" y="29"/>
                    </a:lnTo>
                    <a:lnTo>
                      <a:pt x="47" y="27"/>
                    </a:lnTo>
                    <a:lnTo>
                      <a:pt x="47" y="26"/>
                    </a:lnTo>
                    <a:lnTo>
                      <a:pt x="47" y="24"/>
                    </a:lnTo>
                    <a:lnTo>
                      <a:pt x="47" y="21"/>
                    </a:lnTo>
                    <a:lnTo>
                      <a:pt x="45" y="19"/>
                    </a:lnTo>
                    <a:lnTo>
                      <a:pt x="43" y="17"/>
                    </a:lnTo>
                    <a:lnTo>
                      <a:pt x="43" y="16"/>
                    </a:lnTo>
                    <a:lnTo>
                      <a:pt x="45" y="16"/>
                    </a:lnTo>
                    <a:lnTo>
                      <a:pt x="45" y="14"/>
                    </a:lnTo>
                    <a:lnTo>
                      <a:pt x="45" y="12"/>
                    </a:lnTo>
                    <a:lnTo>
                      <a:pt x="43" y="10"/>
                    </a:lnTo>
                    <a:lnTo>
                      <a:pt x="42" y="8"/>
                    </a:lnTo>
                    <a:lnTo>
                      <a:pt x="39" y="5"/>
                    </a:lnTo>
                    <a:lnTo>
                      <a:pt x="38" y="2"/>
                    </a:lnTo>
                    <a:lnTo>
                      <a:pt x="36" y="1"/>
                    </a:lnTo>
                    <a:lnTo>
                      <a:pt x="35" y="1"/>
                    </a:lnTo>
                    <a:lnTo>
                      <a:pt x="34" y="0"/>
                    </a:lnTo>
                    <a:lnTo>
                      <a:pt x="31" y="0"/>
                    </a:lnTo>
                    <a:lnTo>
                      <a:pt x="29" y="0"/>
                    </a:lnTo>
                    <a:lnTo>
                      <a:pt x="28" y="0"/>
                    </a:lnTo>
                    <a:lnTo>
                      <a:pt x="26" y="0"/>
                    </a:lnTo>
                    <a:lnTo>
                      <a:pt x="23" y="0"/>
                    </a:lnTo>
                    <a:lnTo>
                      <a:pt x="21" y="1"/>
                    </a:lnTo>
                    <a:lnTo>
                      <a:pt x="17" y="1"/>
                    </a:lnTo>
                    <a:lnTo>
                      <a:pt x="14" y="2"/>
                    </a:lnTo>
                    <a:lnTo>
                      <a:pt x="11" y="5"/>
                    </a:lnTo>
                    <a:lnTo>
                      <a:pt x="10" y="5"/>
                    </a:lnTo>
                    <a:lnTo>
                      <a:pt x="7" y="10"/>
                    </a:lnTo>
                    <a:lnTo>
                      <a:pt x="6" y="12"/>
                    </a:lnTo>
                    <a:lnTo>
                      <a:pt x="5" y="14"/>
                    </a:lnTo>
                    <a:lnTo>
                      <a:pt x="3" y="17"/>
                    </a:lnTo>
                    <a:lnTo>
                      <a:pt x="3" y="21"/>
                    </a:lnTo>
                    <a:lnTo>
                      <a:pt x="3" y="24"/>
                    </a:lnTo>
                    <a:lnTo>
                      <a:pt x="3" y="27"/>
                    </a:lnTo>
                    <a:lnTo>
                      <a:pt x="5" y="31"/>
                    </a:lnTo>
                    <a:lnTo>
                      <a:pt x="7" y="35"/>
                    </a:lnTo>
                    <a:lnTo>
                      <a:pt x="10" y="40"/>
                    </a:lnTo>
                    <a:lnTo>
                      <a:pt x="11" y="45"/>
                    </a:lnTo>
                    <a:lnTo>
                      <a:pt x="10" y="47"/>
                    </a:lnTo>
                    <a:lnTo>
                      <a:pt x="9" y="48"/>
                    </a:lnTo>
                    <a:lnTo>
                      <a:pt x="7" y="50"/>
                    </a:lnTo>
                    <a:lnTo>
                      <a:pt x="6" y="52"/>
                    </a:lnTo>
                    <a:lnTo>
                      <a:pt x="3" y="52"/>
                    </a:lnTo>
                    <a:lnTo>
                      <a:pt x="1" y="53"/>
                    </a:lnTo>
                    <a:lnTo>
                      <a:pt x="0" y="54"/>
                    </a:lnTo>
                    <a:lnTo>
                      <a:pt x="0" y="56"/>
                    </a:lnTo>
                    <a:lnTo>
                      <a:pt x="0" y="168"/>
                    </a:lnTo>
                    <a:lnTo>
                      <a:pt x="0" y="227"/>
                    </a:lnTo>
                    <a:lnTo>
                      <a:pt x="21" y="227"/>
                    </a:lnTo>
                  </a:path>
                </a:pathLst>
              </a:custGeom>
              <a:gradFill rotWithShape="0">
                <a:gsLst>
                  <a:gs pos="0">
                    <a:srgbClr val="cf0e30"/>
                  </a:gs>
                  <a:gs pos="100000">
                    <a:srgbClr val="3d040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76320" y="1777320"/>
                <a:ext cx="63720" cy="93240"/>
              </a:xfrm>
              <a:custGeom>
                <a:avLst/>
                <a:gdLst/>
                <a:ahLst/>
                <a:rect l="l" t="t" r="r" b="b"/>
                <a:pathLst>
                  <a:path w="39" h="82">
                    <a:moveTo>
                      <a:pt x="25" y="81"/>
                    </a:moveTo>
                    <a:lnTo>
                      <a:pt x="26" y="81"/>
                    </a:lnTo>
                    <a:lnTo>
                      <a:pt x="28" y="81"/>
                    </a:lnTo>
                    <a:lnTo>
                      <a:pt x="30" y="81"/>
                    </a:lnTo>
                    <a:lnTo>
                      <a:pt x="31" y="81"/>
                    </a:lnTo>
                    <a:lnTo>
                      <a:pt x="34" y="81"/>
                    </a:lnTo>
                    <a:lnTo>
                      <a:pt x="36" y="81"/>
                    </a:lnTo>
                    <a:lnTo>
                      <a:pt x="36" y="79"/>
                    </a:lnTo>
                    <a:lnTo>
                      <a:pt x="38" y="79"/>
                    </a:lnTo>
                    <a:lnTo>
                      <a:pt x="36" y="75"/>
                    </a:lnTo>
                    <a:lnTo>
                      <a:pt x="36" y="70"/>
                    </a:lnTo>
                    <a:lnTo>
                      <a:pt x="34" y="68"/>
                    </a:lnTo>
                    <a:lnTo>
                      <a:pt x="33" y="63"/>
                    </a:lnTo>
                    <a:lnTo>
                      <a:pt x="30" y="59"/>
                    </a:lnTo>
                    <a:lnTo>
                      <a:pt x="30" y="57"/>
                    </a:lnTo>
                    <a:lnTo>
                      <a:pt x="26" y="53"/>
                    </a:lnTo>
                    <a:lnTo>
                      <a:pt x="24" y="50"/>
                    </a:lnTo>
                    <a:lnTo>
                      <a:pt x="22" y="49"/>
                    </a:lnTo>
                    <a:lnTo>
                      <a:pt x="19" y="46"/>
                    </a:lnTo>
                    <a:lnTo>
                      <a:pt x="18" y="44"/>
                    </a:lnTo>
                    <a:lnTo>
                      <a:pt x="16" y="43"/>
                    </a:lnTo>
                    <a:lnTo>
                      <a:pt x="14" y="41"/>
                    </a:lnTo>
                    <a:lnTo>
                      <a:pt x="13" y="39"/>
                    </a:lnTo>
                    <a:lnTo>
                      <a:pt x="14" y="41"/>
                    </a:lnTo>
                    <a:lnTo>
                      <a:pt x="16" y="39"/>
                    </a:lnTo>
                    <a:lnTo>
                      <a:pt x="17" y="39"/>
                    </a:lnTo>
                    <a:lnTo>
                      <a:pt x="18" y="39"/>
                    </a:lnTo>
                    <a:lnTo>
                      <a:pt x="18" y="38"/>
                    </a:lnTo>
                    <a:lnTo>
                      <a:pt x="18" y="37"/>
                    </a:lnTo>
                    <a:lnTo>
                      <a:pt x="18" y="35"/>
                    </a:lnTo>
                    <a:lnTo>
                      <a:pt x="18" y="33"/>
                    </a:lnTo>
                    <a:lnTo>
                      <a:pt x="19" y="33"/>
                    </a:lnTo>
                    <a:lnTo>
                      <a:pt x="19" y="32"/>
                    </a:lnTo>
                    <a:lnTo>
                      <a:pt x="19" y="30"/>
                    </a:lnTo>
                    <a:lnTo>
                      <a:pt x="18" y="30"/>
                    </a:lnTo>
                    <a:lnTo>
                      <a:pt x="19" y="28"/>
                    </a:lnTo>
                    <a:lnTo>
                      <a:pt x="21" y="28"/>
                    </a:lnTo>
                    <a:lnTo>
                      <a:pt x="19" y="27"/>
                    </a:lnTo>
                    <a:lnTo>
                      <a:pt x="19" y="25"/>
                    </a:lnTo>
                    <a:lnTo>
                      <a:pt x="19" y="23"/>
                    </a:lnTo>
                    <a:lnTo>
                      <a:pt x="21" y="23"/>
                    </a:lnTo>
                    <a:lnTo>
                      <a:pt x="21" y="22"/>
                    </a:lnTo>
                    <a:lnTo>
                      <a:pt x="21" y="20"/>
                    </a:lnTo>
                    <a:lnTo>
                      <a:pt x="19" y="17"/>
                    </a:lnTo>
                    <a:lnTo>
                      <a:pt x="18" y="17"/>
                    </a:lnTo>
                    <a:lnTo>
                      <a:pt x="18" y="15"/>
                    </a:lnTo>
                    <a:lnTo>
                      <a:pt x="18" y="13"/>
                    </a:lnTo>
                    <a:lnTo>
                      <a:pt x="18" y="12"/>
                    </a:lnTo>
                    <a:lnTo>
                      <a:pt x="18" y="10"/>
                    </a:lnTo>
                    <a:lnTo>
                      <a:pt x="18" y="7"/>
                    </a:lnTo>
                    <a:lnTo>
                      <a:pt x="17" y="5"/>
                    </a:lnTo>
                    <a:lnTo>
                      <a:pt x="16" y="3"/>
                    </a:lnTo>
                    <a:lnTo>
                      <a:pt x="16" y="2"/>
                    </a:lnTo>
                    <a:lnTo>
                      <a:pt x="13" y="1"/>
                    </a:lnTo>
                    <a:lnTo>
                      <a:pt x="10" y="0"/>
                    </a:lnTo>
                    <a:lnTo>
                      <a:pt x="8" y="1"/>
                    </a:lnTo>
                    <a:lnTo>
                      <a:pt x="8" y="3"/>
                    </a:lnTo>
                    <a:lnTo>
                      <a:pt x="8" y="5"/>
                    </a:lnTo>
                    <a:lnTo>
                      <a:pt x="8" y="7"/>
                    </a:lnTo>
                    <a:lnTo>
                      <a:pt x="6" y="8"/>
                    </a:lnTo>
                    <a:lnTo>
                      <a:pt x="4" y="8"/>
                    </a:lnTo>
                    <a:lnTo>
                      <a:pt x="3" y="10"/>
                    </a:lnTo>
                    <a:lnTo>
                      <a:pt x="2" y="12"/>
                    </a:lnTo>
                    <a:lnTo>
                      <a:pt x="2" y="13"/>
                    </a:lnTo>
                    <a:lnTo>
                      <a:pt x="1" y="15"/>
                    </a:lnTo>
                    <a:lnTo>
                      <a:pt x="1" y="17"/>
                    </a:lnTo>
                    <a:lnTo>
                      <a:pt x="0" y="17"/>
                    </a:lnTo>
                    <a:lnTo>
                      <a:pt x="1" y="17"/>
                    </a:lnTo>
                    <a:lnTo>
                      <a:pt x="2" y="20"/>
                    </a:lnTo>
                    <a:lnTo>
                      <a:pt x="3" y="20"/>
                    </a:lnTo>
                    <a:lnTo>
                      <a:pt x="3" y="22"/>
                    </a:lnTo>
                    <a:lnTo>
                      <a:pt x="3" y="23"/>
                    </a:lnTo>
                    <a:lnTo>
                      <a:pt x="2" y="23"/>
                    </a:lnTo>
                    <a:lnTo>
                      <a:pt x="2" y="25"/>
                    </a:lnTo>
                    <a:lnTo>
                      <a:pt x="2" y="27"/>
                    </a:lnTo>
                    <a:lnTo>
                      <a:pt x="2" y="28"/>
                    </a:lnTo>
                    <a:lnTo>
                      <a:pt x="3" y="30"/>
                    </a:lnTo>
                    <a:lnTo>
                      <a:pt x="4" y="32"/>
                    </a:lnTo>
                    <a:lnTo>
                      <a:pt x="4" y="33"/>
                    </a:lnTo>
                    <a:lnTo>
                      <a:pt x="6" y="33"/>
                    </a:lnTo>
                    <a:lnTo>
                      <a:pt x="8" y="35"/>
                    </a:lnTo>
                    <a:lnTo>
                      <a:pt x="10" y="37"/>
                    </a:lnTo>
                    <a:lnTo>
                      <a:pt x="12" y="38"/>
                    </a:lnTo>
                    <a:lnTo>
                      <a:pt x="12" y="39"/>
                    </a:lnTo>
                    <a:lnTo>
                      <a:pt x="10" y="39"/>
                    </a:lnTo>
                    <a:lnTo>
                      <a:pt x="8" y="39"/>
                    </a:lnTo>
                    <a:lnTo>
                      <a:pt x="8" y="41"/>
                    </a:lnTo>
                    <a:lnTo>
                      <a:pt x="8" y="43"/>
                    </a:lnTo>
                    <a:lnTo>
                      <a:pt x="10" y="43"/>
                    </a:lnTo>
                    <a:lnTo>
                      <a:pt x="10" y="46"/>
                    </a:lnTo>
                    <a:lnTo>
                      <a:pt x="10" y="47"/>
                    </a:lnTo>
                    <a:lnTo>
                      <a:pt x="10" y="49"/>
                    </a:lnTo>
                    <a:lnTo>
                      <a:pt x="13" y="52"/>
                    </a:lnTo>
                    <a:lnTo>
                      <a:pt x="16" y="57"/>
                    </a:lnTo>
                    <a:lnTo>
                      <a:pt x="18" y="63"/>
                    </a:lnTo>
                    <a:lnTo>
                      <a:pt x="19" y="68"/>
                    </a:lnTo>
                    <a:lnTo>
                      <a:pt x="22" y="73"/>
                    </a:lnTo>
                    <a:lnTo>
                      <a:pt x="24" y="77"/>
                    </a:lnTo>
                    <a:lnTo>
                      <a:pt x="24" y="81"/>
                    </a:lnTo>
                    <a:lnTo>
                      <a:pt x="25" y="81"/>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 name=""/>
              <p:cNvSpPr/>
              <p:nvPr/>
            </p:nvSpPr>
            <p:spPr>
              <a:xfrm>
                <a:off x="6327360" y="1817280"/>
                <a:ext cx="54000" cy="42120"/>
              </a:xfrm>
              <a:custGeom>
                <a:avLst/>
                <a:gdLst/>
                <a:ahLst/>
                <a:rect l="l" t="t" r="r" b="b"/>
                <a:pathLst>
                  <a:path w="33" h="37">
                    <a:moveTo>
                      <a:pt x="10" y="0"/>
                    </a:moveTo>
                    <a:lnTo>
                      <a:pt x="8" y="1"/>
                    </a:lnTo>
                    <a:lnTo>
                      <a:pt x="8" y="2"/>
                    </a:lnTo>
                    <a:lnTo>
                      <a:pt x="7" y="4"/>
                    </a:lnTo>
                    <a:lnTo>
                      <a:pt x="5" y="5"/>
                    </a:lnTo>
                    <a:lnTo>
                      <a:pt x="3" y="5"/>
                    </a:lnTo>
                    <a:lnTo>
                      <a:pt x="1" y="6"/>
                    </a:lnTo>
                    <a:lnTo>
                      <a:pt x="0" y="7"/>
                    </a:lnTo>
                    <a:lnTo>
                      <a:pt x="0" y="9"/>
                    </a:lnTo>
                    <a:lnTo>
                      <a:pt x="1" y="7"/>
                    </a:lnTo>
                    <a:lnTo>
                      <a:pt x="3" y="6"/>
                    </a:lnTo>
                    <a:lnTo>
                      <a:pt x="5" y="6"/>
                    </a:lnTo>
                    <a:lnTo>
                      <a:pt x="8" y="7"/>
                    </a:lnTo>
                    <a:lnTo>
                      <a:pt x="10" y="9"/>
                    </a:lnTo>
                    <a:lnTo>
                      <a:pt x="13" y="11"/>
                    </a:lnTo>
                    <a:lnTo>
                      <a:pt x="15" y="13"/>
                    </a:lnTo>
                    <a:lnTo>
                      <a:pt x="18" y="16"/>
                    </a:lnTo>
                    <a:lnTo>
                      <a:pt x="20" y="20"/>
                    </a:lnTo>
                    <a:lnTo>
                      <a:pt x="24" y="24"/>
                    </a:lnTo>
                    <a:lnTo>
                      <a:pt x="25" y="26"/>
                    </a:lnTo>
                    <a:lnTo>
                      <a:pt x="28" y="29"/>
                    </a:lnTo>
                    <a:lnTo>
                      <a:pt x="30" y="32"/>
                    </a:lnTo>
                    <a:lnTo>
                      <a:pt x="31" y="34"/>
                    </a:lnTo>
                    <a:lnTo>
                      <a:pt x="32" y="34"/>
                    </a:lnTo>
                    <a:lnTo>
                      <a:pt x="32" y="36"/>
                    </a:lnTo>
                    <a:lnTo>
                      <a:pt x="32" y="29"/>
                    </a:lnTo>
                    <a:lnTo>
                      <a:pt x="32" y="24"/>
                    </a:lnTo>
                    <a:lnTo>
                      <a:pt x="32" y="20"/>
                    </a:lnTo>
                    <a:lnTo>
                      <a:pt x="31" y="20"/>
                    </a:lnTo>
                    <a:lnTo>
                      <a:pt x="31" y="18"/>
                    </a:lnTo>
                    <a:lnTo>
                      <a:pt x="30" y="18"/>
                    </a:lnTo>
                    <a:lnTo>
                      <a:pt x="28" y="16"/>
                    </a:lnTo>
                    <a:lnTo>
                      <a:pt x="28" y="13"/>
                    </a:lnTo>
                    <a:lnTo>
                      <a:pt x="28" y="12"/>
                    </a:lnTo>
                    <a:lnTo>
                      <a:pt x="27" y="12"/>
                    </a:lnTo>
                    <a:lnTo>
                      <a:pt x="25" y="11"/>
                    </a:lnTo>
                    <a:lnTo>
                      <a:pt x="24" y="9"/>
                    </a:lnTo>
                    <a:lnTo>
                      <a:pt x="22" y="9"/>
                    </a:lnTo>
                    <a:lnTo>
                      <a:pt x="20" y="7"/>
                    </a:lnTo>
                    <a:lnTo>
                      <a:pt x="18" y="6"/>
                    </a:lnTo>
                    <a:lnTo>
                      <a:pt x="16" y="5"/>
                    </a:lnTo>
                    <a:lnTo>
                      <a:pt x="15" y="5"/>
                    </a:lnTo>
                    <a:lnTo>
                      <a:pt x="14" y="4"/>
                    </a:lnTo>
                    <a:lnTo>
                      <a:pt x="13" y="2"/>
                    </a:lnTo>
                    <a:lnTo>
                      <a:pt x="11" y="1"/>
                    </a:lnTo>
                    <a:lnTo>
                      <a:pt x="10" y="1"/>
                    </a:lnTo>
                    <a:lnTo>
                      <a:pt x="10" y="0"/>
                    </a:lnTo>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5" name=""/>
              <p:cNvSpPr/>
              <p:nvPr/>
            </p:nvSpPr>
            <p:spPr>
              <a:xfrm>
                <a:off x="6355080" y="1795320"/>
                <a:ext cx="27720" cy="19080"/>
              </a:xfrm>
              <a:custGeom>
                <a:avLst/>
                <a:gdLst/>
                <a:ahLst/>
                <a:rect l="l" t="t" r="r" b="b"/>
                <a:pathLst>
                  <a:path w="17" h="17">
                    <a:moveTo>
                      <a:pt x="8" y="0"/>
                    </a:moveTo>
                    <a:lnTo>
                      <a:pt x="0" y="1"/>
                    </a:lnTo>
                    <a:lnTo>
                      <a:pt x="0" y="4"/>
                    </a:lnTo>
                    <a:lnTo>
                      <a:pt x="0" y="8"/>
                    </a:lnTo>
                    <a:lnTo>
                      <a:pt x="0" y="9"/>
                    </a:lnTo>
                    <a:lnTo>
                      <a:pt x="8" y="9"/>
                    </a:lnTo>
                    <a:lnTo>
                      <a:pt x="8" y="12"/>
                    </a:lnTo>
                    <a:lnTo>
                      <a:pt x="8" y="14"/>
                    </a:lnTo>
                    <a:lnTo>
                      <a:pt x="8" y="16"/>
                    </a:lnTo>
                    <a:lnTo>
                      <a:pt x="16" y="16"/>
                    </a:lnTo>
                    <a:lnTo>
                      <a:pt x="16" y="14"/>
                    </a:lnTo>
                    <a:lnTo>
                      <a:pt x="16" y="12"/>
                    </a:lnTo>
                    <a:lnTo>
                      <a:pt x="16" y="8"/>
                    </a:lnTo>
                    <a:lnTo>
                      <a:pt x="16" y="4"/>
                    </a:lnTo>
                    <a:lnTo>
                      <a:pt x="16" y="1"/>
                    </a:lnTo>
                    <a:lnTo>
                      <a:pt x="16" y="0"/>
                    </a:lnTo>
                    <a:lnTo>
                      <a:pt x="8"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6395760" y="1794240"/>
                <a:ext cx="27720" cy="19080"/>
              </a:xfrm>
              <a:custGeom>
                <a:avLst/>
                <a:gdLst/>
                <a:ahLst/>
                <a:rect l="l" t="t" r="r" b="b"/>
                <a:pathLst>
                  <a:path w="17" h="17">
                    <a:moveTo>
                      <a:pt x="0" y="8"/>
                    </a:moveTo>
                    <a:lnTo>
                      <a:pt x="0" y="0"/>
                    </a:lnTo>
                    <a:lnTo>
                      <a:pt x="16" y="0"/>
                    </a:lnTo>
                    <a:lnTo>
                      <a:pt x="16" y="8"/>
                    </a:lnTo>
                    <a:lnTo>
                      <a:pt x="0" y="8"/>
                    </a:lnTo>
                    <a:lnTo>
                      <a:pt x="16" y="8"/>
                    </a:lnTo>
                    <a:lnTo>
                      <a:pt x="0" y="8"/>
                    </a:lnTo>
                    <a:lnTo>
                      <a:pt x="0" y="16"/>
                    </a:lnTo>
                    <a:lnTo>
                      <a:pt x="0" y="8"/>
                    </a:lnTo>
                    <a:lnTo>
                      <a:pt x="0" y="8"/>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6391080" y="1808280"/>
                <a:ext cx="27720" cy="19080"/>
              </a:xfrm>
              <a:custGeom>
                <a:avLst/>
                <a:gdLst/>
                <a:ahLst/>
                <a:rect l="l" t="t" r="r" b="b"/>
                <a:pathLst>
                  <a:path w="17" h="17">
                    <a:moveTo>
                      <a:pt x="0" y="16"/>
                    </a:moveTo>
                    <a:lnTo>
                      <a:pt x="0" y="0"/>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 name=""/>
              <p:cNvSpPr/>
              <p:nvPr/>
            </p:nvSpPr>
            <p:spPr>
              <a:xfrm>
                <a:off x="6391080" y="1763640"/>
                <a:ext cx="27720" cy="19080"/>
              </a:xfrm>
              <a:custGeom>
                <a:avLst/>
                <a:gdLst/>
                <a:ahLst/>
                <a:rect l="l" t="t" r="r" b="b"/>
                <a:pathLst>
                  <a:path w="17" h="17">
                    <a:moveTo>
                      <a:pt x="12" y="16"/>
                    </a:moveTo>
                    <a:lnTo>
                      <a:pt x="16" y="16"/>
                    </a:lnTo>
                    <a:lnTo>
                      <a:pt x="16" y="12"/>
                    </a:lnTo>
                    <a:lnTo>
                      <a:pt x="12" y="9"/>
                    </a:lnTo>
                    <a:lnTo>
                      <a:pt x="11" y="8"/>
                    </a:lnTo>
                    <a:lnTo>
                      <a:pt x="6" y="4"/>
                    </a:lnTo>
                    <a:lnTo>
                      <a:pt x="4" y="3"/>
                    </a:lnTo>
                    <a:lnTo>
                      <a:pt x="1" y="1"/>
                    </a:lnTo>
                    <a:lnTo>
                      <a:pt x="0" y="1"/>
                    </a:lnTo>
                    <a:lnTo>
                      <a:pt x="0" y="0"/>
                    </a:lnTo>
                    <a:lnTo>
                      <a:pt x="4" y="1"/>
                    </a:lnTo>
                    <a:lnTo>
                      <a:pt x="6" y="3"/>
                    </a:lnTo>
                    <a:lnTo>
                      <a:pt x="11" y="6"/>
                    </a:lnTo>
                    <a:lnTo>
                      <a:pt x="12" y="9"/>
                    </a:lnTo>
                    <a:lnTo>
                      <a:pt x="16" y="11"/>
                    </a:lnTo>
                    <a:lnTo>
                      <a:pt x="16" y="12"/>
                    </a:lnTo>
                    <a:lnTo>
                      <a:pt x="16" y="16"/>
                    </a:lnTo>
                    <a:lnTo>
                      <a:pt x="12" y="16"/>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6778800" y="1937160"/>
                <a:ext cx="104400" cy="28440"/>
              </a:xfrm>
              <a:custGeom>
                <a:avLst/>
                <a:gdLst/>
                <a:ahLst/>
                <a:rect l="l" t="t" r="r" b="b"/>
                <a:pathLst>
                  <a:path w="64" h="25">
                    <a:moveTo>
                      <a:pt x="0" y="15"/>
                    </a:moveTo>
                    <a:lnTo>
                      <a:pt x="51" y="24"/>
                    </a:lnTo>
                    <a:lnTo>
                      <a:pt x="63" y="5"/>
                    </a:lnTo>
                    <a:lnTo>
                      <a:pt x="14" y="0"/>
                    </a:lnTo>
                    <a:lnTo>
                      <a:pt x="0" y="15"/>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0" name=""/>
              <p:cNvSpPr/>
              <p:nvPr/>
            </p:nvSpPr>
            <p:spPr>
              <a:xfrm>
                <a:off x="6631200" y="1881000"/>
                <a:ext cx="79920" cy="20160"/>
              </a:xfrm>
              <a:custGeom>
                <a:avLst/>
                <a:gdLst/>
                <a:ahLst/>
                <a:rect l="l" t="t" r="r" b="b"/>
                <a:pathLst>
                  <a:path w="49" h="18">
                    <a:moveTo>
                      <a:pt x="0" y="1"/>
                    </a:moveTo>
                    <a:lnTo>
                      <a:pt x="35" y="0"/>
                    </a:lnTo>
                    <a:lnTo>
                      <a:pt x="48" y="16"/>
                    </a:lnTo>
                    <a:lnTo>
                      <a:pt x="5" y="17"/>
                    </a:lnTo>
                    <a:lnTo>
                      <a:pt x="0" y="1"/>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 name=""/>
              <p:cNvSpPr/>
              <p:nvPr/>
            </p:nvSpPr>
            <p:spPr>
              <a:xfrm>
                <a:off x="6505560" y="1899360"/>
                <a:ext cx="102960" cy="21240"/>
              </a:xfrm>
              <a:custGeom>
                <a:avLst/>
                <a:gdLst/>
                <a:ahLst/>
                <a:rect l="l" t="t" r="r" b="b"/>
                <a:pathLst>
                  <a:path w="63" h="19">
                    <a:moveTo>
                      <a:pt x="0" y="12"/>
                    </a:moveTo>
                    <a:lnTo>
                      <a:pt x="50" y="18"/>
                    </a:lnTo>
                    <a:lnTo>
                      <a:pt x="62" y="4"/>
                    </a:lnTo>
                    <a:lnTo>
                      <a:pt x="15" y="0"/>
                    </a:lnTo>
                    <a:lnTo>
                      <a:pt x="0" y="12"/>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2" name=""/>
              <p:cNvSpPr/>
              <p:nvPr/>
            </p:nvSpPr>
            <p:spPr>
              <a:xfrm>
                <a:off x="6621840" y="1961280"/>
                <a:ext cx="27720" cy="31680"/>
              </a:xfrm>
              <a:custGeom>
                <a:avLst/>
                <a:gdLst/>
                <a:ahLst/>
                <a:rect l="l" t="t" r="r" b="b"/>
                <a:pathLst>
                  <a:path w="17" h="28">
                    <a:moveTo>
                      <a:pt x="8" y="27"/>
                    </a:moveTo>
                    <a:lnTo>
                      <a:pt x="10" y="26"/>
                    </a:lnTo>
                    <a:lnTo>
                      <a:pt x="12" y="26"/>
                    </a:lnTo>
                    <a:lnTo>
                      <a:pt x="13" y="26"/>
                    </a:lnTo>
                    <a:lnTo>
                      <a:pt x="15" y="25"/>
                    </a:lnTo>
                    <a:lnTo>
                      <a:pt x="15" y="23"/>
                    </a:lnTo>
                    <a:lnTo>
                      <a:pt x="16" y="22"/>
                    </a:lnTo>
                    <a:lnTo>
                      <a:pt x="16" y="2"/>
                    </a:lnTo>
                    <a:lnTo>
                      <a:pt x="15" y="2"/>
                    </a:lnTo>
                    <a:lnTo>
                      <a:pt x="13" y="1"/>
                    </a:lnTo>
                    <a:lnTo>
                      <a:pt x="12" y="1"/>
                    </a:lnTo>
                    <a:lnTo>
                      <a:pt x="10" y="0"/>
                    </a:lnTo>
                    <a:lnTo>
                      <a:pt x="8" y="0"/>
                    </a:lnTo>
                    <a:lnTo>
                      <a:pt x="6" y="0"/>
                    </a:lnTo>
                    <a:lnTo>
                      <a:pt x="4" y="0"/>
                    </a:lnTo>
                    <a:lnTo>
                      <a:pt x="3" y="1"/>
                    </a:lnTo>
                    <a:lnTo>
                      <a:pt x="1" y="1"/>
                    </a:lnTo>
                    <a:lnTo>
                      <a:pt x="0" y="1"/>
                    </a:lnTo>
                    <a:lnTo>
                      <a:pt x="0" y="2"/>
                    </a:lnTo>
                    <a:lnTo>
                      <a:pt x="0" y="25"/>
                    </a:lnTo>
                    <a:lnTo>
                      <a:pt x="0" y="26"/>
                    </a:lnTo>
                    <a:lnTo>
                      <a:pt x="1" y="26"/>
                    </a:lnTo>
                    <a:lnTo>
                      <a:pt x="3" y="26"/>
                    </a:lnTo>
                    <a:lnTo>
                      <a:pt x="4" y="27"/>
                    </a:lnTo>
                    <a:lnTo>
                      <a:pt x="7" y="27"/>
                    </a:lnTo>
                    <a:lnTo>
                      <a:pt x="8" y="27"/>
                    </a:lnTo>
                    <a:lnTo>
                      <a:pt x="8" y="2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 name=""/>
              <p:cNvSpPr/>
              <p:nvPr/>
            </p:nvSpPr>
            <p:spPr>
              <a:xfrm>
                <a:off x="6625080" y="1957680"/>
                <a:ext cx="27720" cy="19080"/>
              </a:xfrm>
              <a:custGeom>
                <a:avLst/>
                <a:gdLst/>
                <a:ahLst/>
                <a:rect l="l" t="t" r="r" b="b"/>
                <a:pathLst>
                  <a:path w="17" h="17">
                    <a:moveTo>
                      <a:pt x="8" y="0"/>
                    </a:moveTo>
                    <a:lnTo>
                      <a:pt x="9" y="0"/>
                    </a:lnTo>
                    <a:lnTo>
                      <a:pt x="11" y="0"/>
                    </a:lnTo>
                    <a:lnTo>
                      <a:pt x="12" y="0"/>
                    </a:lnTo>
                    <a:lnTo>
                      <a:pt x="14" y="0"/>
                    </a:lnTo>
                    <a:lnTo>
                      <a:pt x="16" y="0"/>
                    </a:lnTo>
                    <a:lnTo>
                      <a:pt x="16" y="8"/>
                    </a:lnTo>
                    <a:lnTo>
                      <a:pt x="16" y="16"/>
                    </a:lnTo>
                    <a:lnTo>
                      <a:pt x="14" y="16"/>
                    </a:lnTo>
                    <a:lnTo>
                      <a:pt x="12" y="16"/>
                    </a:lnTo>
                    <a:lnTo>
                      <a:pt x="11" y="16"/>
                    </a:lnTo>
                    <a:lnTo>
                      <a:pt x="9" y="16"/>
                    </a:lnTo>
                    <a:lnTo>
                      <a:pt x="8" y="16"/>
                    </a:lnTo>
                    <a:lnTo>
                      <a:pt x="6" y="16"/>
                    </a:lnTo>
                    <a:lnTo>
                      <a:pt x="4" y="16"/>
                    </a:lnTo>
                    <a:lnTo>
                      <a:pt x="1" y="16"/>
                    </a:lnTo>
                    <a:lnTo>
                      <a:pt x="1" y="8"/>
                    </a:lnTo>
                    <a:lnTo>
                      <a:pt x="0" y="8"/>
                    </a:lnTo>
                    <a:lnTo>
                      <a:pt x="1" y="8"/>
                    </a:lnTo>
                    <a:lnTo>
                      <a:pt x="1" y="0"/>
                    </a:lnTo>
                    <a:lnTo>
                      <a:pt x="4" y="0"/>
                    </a:lnTo>
                    <a:lnTo>
                      <a:pt x="6" y="0"/>
                    </a:lnTo>
                    <a:lnTo>
                      <a:pt x="8" y="0"/>
                    </a:lnTo>
                    <a:lnTo>
                      <a:pt x="8"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4" name=""/>
              <p:cNvSpPr/>
              <p:nvPr/>
            </p:nvSpPr>
            <p:spPr>
              <a:xfrm>
                <a:off x="6363000" y="1804680"/>
                <a:ext cx="274680" cy="218880"/>
              </a:xfrm>
              <a:custGeom>
                <a:avLst/>
                <a:gdLst/>
                <a:ahLst/>
                <a:rect l="l" t="t" r="r" b="b"/>
                <a:pathLst>
                  <a:path w="168" h="192">
                    <a:moveTo>
                      <a:pt x="165" y="143"/>
                    </a:moveTo>
                    <a:lnTo>
                      <a:pt x="163" y="140"/>
                    </a:lnTo>
                    <a:lnTo>
                      <a:pt x="162" y="140"/>
                    </a:lnTo>
                    <a:lnTo>
                      <a:pt x="162" y="143"/>
                    </a:lnTo>
                    <a:lnTo>
                      <a:pt x="159" y="143"/>
                    </a:lnTo>
                    <a:lnTo>
                      <a:pt x="158" y="143"/>
                    </a:lnTo>
                    <a:lnTo>
                      <a:pt x="156" y="143"/>
                    </a:lnTo>
                    <a:lnTo>
                      <a:pt x="155" y="145"/>
                    </a:lnTo>
                    <a:lnTo>
                      <a:pt x="154" y="143"/>
                    </a:lnTo>
                    <a:lnTo>
                      <a:pt x="155" y="143"/>
                    </a:lnTo>
                    <a:lnTo>
                      <a:pt x="155" y="140"/>
                    </a:lnTo>
                    <a:lnTo>
                      <a:pt x="155" y="139"/>
                    </a:lnTo>
                    <a:lnTo>
                      <a:pt x="154" y="139"/>
                    </a:lnTo>
                    <a:lnTo>
                      <a:pt x="154" y="137"/>
                    </a:lnTo>
                    <a:lnTo>
                      <a:pt x="151" y="139"/>
                    </a:lnTo>
                    <a:lnTo>
                      <a:pt x="149" y="139"/>
                    </a:lnTo>
                    <a:lnTo>
                      <a:pt x="149" y="140"/>
                    </a:lnTo>
                    <a:lnTo>
                      <a:pt x="149" y="143"/>
                    </a:lnTo>
                    <a:lnTo>
                      <a:pt x="147" y="143"/>
                    </a:lnTo>
                    <a:lnTo>
                      <a:pt x="147" y="145"/>
                    </a:lnTo>
                    <a:lnTo>
                      <a:pt x="145" y="147"/>
                    </a:lnTo>
                    <a:lnTo>
                      <a:pt x="143" y="148"/>
                    </a:lnTo>
                    <a:lnTo>
                      <a:pt x="142" y="148"/>
                    </a:lnTo>
                    <a:lnTo>
                      <a:pt x="141" y="148"/>
                    </a:lnTo>
                    <a:lnTo>
                      <a:pt x="141" y="147"/>
                    </a:lnTo>
                    <a:lnTo>
                      <a:pt x="140" y="147"/>
                    </a:lnTo>
                    <a:lnTo>
                      <a:pt x="138" y="147"/>
                    </a:lnTo>
                    <a:lnTo>
                      <a:pt x="135" y="147"/>
                    </a:lnTo>
                    <a:lnTo>
                      <a:pt x="133" y="147"/>
                    </a:lnTo>
                    <a:lnTo>
                      <a:pt x="131" y="148"/>
                    </a:lnTo>
                    <a:lnTo>
                      <a:pt x="129" y="148"/>
                    </a:lnTo>
                    <a:lnTo>
                      <a:pt x="125" y="148"/>
                    </a:lnTo>
                    <a:lnTo>
                      <a:pt x="124" y="148"/>
                    </a:lnTo>
                    <a:lnTo>
                      <a:pt x="120" y="148"/>
                    </a:lnTo>
                    <a:lnTo>
                      <a:pt x="117" y="148"/>
                    </a:lnTo>
                    <a:lnTo>
                      <a:pt x="114" y="148"/>
                    </a:lnTo>
                    <a:lnTo>
                      <a:pt x="111" y="151"/>
                    </a:lnTo>
                    <a:lnTo>
                      <a:pt x="109" y="151"/>
                    </a:lnTo>
                    <a:lnTo>
                      <a:pt x="106" y="151"/>
                    </a:lnTo>
                    <a:lnTo>
                      <a:pt x="104" y="148"/>
                    </a:lnTo>
                    <a:lnTo>
                      <a:pt x="102" y="148"/>
                    </a:lnTo>
                    <a:lnTo>
                      <a:pt x="99" y="148"/>
                    </a:lnTo>
                    <a:lnTo>
                      <a:pt x="97" y="151"/>
                    </a:lnTo>
                    <a:lnTo>
                      <a:pt x="95" y="151"/>
                    </a:lnTo>
                    <a:lnTo>
                      <a:pt x="95" y="152"/>
                    </a:lnTo>
                    <a:lnTo>
                      <a:pt x="94" y="152"/>
                    </a:lnTo>
                    <a:lnTo>
                      <a:pt x="94" y="151"/>
                    </a:lnTo>
                    <a:lnTo>
                      <a:pt x="94" y="148"/>
                    </a:lnTo>
                    <a:lnTo>
                      <a:pt x="93" y="148"/>
                    </a:lnTo>
                    <a:lnTo>
                      <a:pt x="90" y="148"/>
                    </a:lnTo>
                    <a:lnTo>
                      <a:pt x="93" y="148"/>
                    </a:lnTo>
                    <a:lnTo>
                      <a:pt x="93" y="145"/>
                    </a:lnTo>
                    <a:lnTo>
                      <a:pt x="93" y="143"/>
                    </a:lnTo>
                    <a:lnTo>
                      <a:pt x="90" y="143"/>
                    </a:lnTo>
                    <a:lnTo>
                      <a:pt x="90" y="140"/>
                    </a:lnTo>
                    <a:lnTo>
                      <a:pt x="86" y="127"/>
                    </a:lnTo>
                    <a:lnTo>
                      <a:pt x="80" y="116"/>
                    </a:lnTo>
                    <a:lnTo>
                      <a:pt x="79" y="108"/>
                    </a:lnTo>
                    <a:lnTo>
                      <a:pt x="79" y="100"/>
                    </a:lnTo>
                    <a:lnTo>
                      <a:pt x="79" y="95"/>
                    </a:lnTo>
                    <a:lnTo>
                      <a:pt x="79" y="90"/>
                    </a:lnTo>
                    <a:lnTo>
                      <a:pt x="79" y="89"/>
                    </a:lnTo>
                    <a:lnTo>
                      <a:pt x="79" y="87"/>
                    </a:lnTo>
                    <a:lnTo>
                      <a:pt x="80" y="85"/>
                    </a:lnTo>
                    <a:lnTo>
                      <a:pt x="80" y="76"/>
                    </a:lnTo>
                    <a:lnTo>
                      <a:pt x="81" y="76"/>
                    </a:lnTo>
                    <a:lnTo>
                      <a:pt x="84" y="75"/>
                    </a:lnTo>
                    <a:lnTo>
                      <a:pt x="86" y="75"/>
                    </a:lnTo>
                    <a:lnTo>
                      <a:pt x="86" y="73"/>
                    </a:lnTo>
                    <a:lnTo>
                      <a:pt x="86" y="71"/>
                    </a:lnTo>
                    <a:lnTo>
                      <a:pt x="87" y="71"/>
                    </a:lnTo>
                    <a:lnTo>
                      <a:pt x="89" y="71"/>
                    </a:lnTo>
                    <a:lnTo>
                      <a:pt x="90" y="71"/>
                    </a:lnTo>
                    <a:lnTo>
                      <a:pt x="93" y="71"/>
                    </a:lnTo>
                    <a:lnTo>
                      <a:pt x="94" y="70"/>
                    </a:lnTo>
                    <a:lnTo>
                      <a:pt x="94" y="68"/>
                    </a:lnTo>
                    <a:lnTo>
                      <a:pt x="95" y="66"/>
                    </a:lnTo>
                    <a:lnTo>
                      <a:pt x="95" y="64"/>
                    </a:lnTo>
                    <a:lnTo>
                      <a:pt x="100" y="59"/>
                    </a:lnTo>
                    <a:lnTo>
                      <a:pt x="102" y="59"/>
                    </a:lnTo>
                    <a:lnTo>
                      <a:pt x="103" y="59"/>
                    </a:lnTo>
                    <a:lnTo>
                      <a:pt x="103" y="57"/>
                    </a:lnTo>
                    <a:lnTo>
                      <a:pt x="103" y="55"/>
                    </a:lnTo>
                    <a:lnTo>
                      <a:pt x="103" y="54"/>
                    </a:lnTo>
                    <a:lnTo>
                      <a:pt x="104" y="50"/>
                    </a:lnTo>
                    <a:lnTo>
                      <a:pt x="106" y="50"/>
                    </a:lnTo>
                    <a:lnTo>
                      <a:pt x="107" y="50"/>
                    </a:lnTo>
                    <a:lnTo>
                      <a:pt x="109" y="49"/>
                    </a:lnTo>
                    <a:lnTo>
                      <a:pt x="109" y="47"/>
                    </a:lnTo>
                    <a:lnTo>
                      <a:pt x="106" y="44"/>
                    </a:lnTo>
                    <a:lnTo>
                      <a:pt x="106" y="40"/>
                    </a:lnTo>
                    <a:lnTo>
                      <a:pt x="107" y="34"/>
                    </a:lnTo>
                    <a:lnTo>
                      <a:pt x="106" y="29"/>
                    </a:lnTo>
                    <a:lnTo>
                      <a:pt x="106" y="26"/>
                    </a:lnTo>
                    <a:lnTo>
                      <a:pt x="107" y="26"/>
                    </a:lnTo>
                    <a:lnTo>
                      <a:pt x="107" y="24"/>
                    </a:lnTo>
                    <a:lnTo>
                      <a:pt x="109" y="23"/>
                    </a:lnTo>
                    <a:lnTo>
                      <a:pt x="109" y="21"/>
                    </a:lnTo>
                    <a:lnTo>
                      <a:pt x="111" y="19"/>
                    </a:lnTo>
                    <a:lnTo>
                      <a:pt x="111" y="18"/>
                    </a:lnTo>
                    <a:lnTo>
                      <a:pt x="109" y="17"/>
                    </a:lnTo>
                    <a:lnTo>
                      <a:pt x="107" y="12"/>
                    </a:lnTo>
                    <a:lnTo>
                      <a:pt x="106" y="12"/>
                    </a:lnTo>
                    <a:lnTo>
                      <a:pt x="104" y="10"/>
                    </a:lnTo>
                    <a:lnTo>
                      <a:pt x="103" y="8"/>
                    </a:lnTo>
                    <a:lnTo>
                      <a:pt x="102" y="5"/>
                    </a:lnTo>
                    <a:lnTo>
                      <a:pt x="99" y="2"/>
                    </a:lnTo>
                    <a:lnTo>
                      <a:pt x="94" y="1"/>
                    </a:lnTo>
                    <a:lnTo>
                      <a:pt x="90" y="0"/>
                    </a:lnTo>
                    <a:lnTo>
                      <a:pt x="86" y="0"/>
                    </a:lnTo>
                    <a:lnTo>
                      <a:pt x="84" y="0"/>
                    </a:lnTo>
                    <a:lnTo>
                      <a:pt x="80" y="0"/>
                    </a:lnTo>
                    <a:lnTo>
                      <a:pt x="77" y="0"/>
                    </a:lnTo>
                    <a:lnTo>
                      <a:pt x="73" y="0"/>
                    </a:lnTo>
                    <a:lnTo>
                      <a:pt x="72" y="1"/>
                    </a:lnTo>
                    <a:lnTo>
                      <a:pt x="69" y="2"/>
                    </a:lnTo>
                    <a:lnTo>
                      <a:pt x="67" y="2"/>
                    </a:lnTo>
                    <a:lnTo>
                      <a:pt x="66" y="5"/>
                    </a:lnTo>
                    <a:lnTo>
                      <a:pt x="64" y="7"/>
                    </a:lnTo>
                    <a:lnTo>
                      <a:pt x="62" y="8"/>
                    </a:lnTo>
                    <a:lnTo>
                      <a:pt x="61" y="10"/>
                    </a:lnTo>
                    <a:lnTo>
                      <a:pt x="60" y="12"/>
                    </a:lnTo>
                    <a:lnTo>
                      <a:pt x="58" y="15"/>
                    </a:lnTo>
                    <a:lnTo>
                      <a:pt x="55" y="17"/>
                    </a:lnTo>
                    <a:lnTo>
                      <a:pt x="55" y="21"/>
                    </a:lnTo>
                    <a:lnTo>
                      <a:pt x="55" y="26"/>
                    </a:lnTo>
                    <a:lnTo>
                      <a:pt x="55" y="31"/>
                    </a:lnTo>
                    <a:lnTo>
                      <a:pt x="55" y="38"/>
                    </a:lnTo>
                    <a:lnTo>
                      <a:pt x="55" y="44"/>
                    </a:lnTo>
                    <a:lnTo>
                      <a:pt x="58" y="45"/>
                    </a:lnTo>
                    <a:lnTo>
                      <a:pt x="58" y="50"/>
                    </a:lnTo>
                    <a:lnTo>
                      <a:pt x="55" y="54"/>
                    </a:lnTo>
                    <a:lnTo>
                      <a:pt x="55" y="57"/>
                    </a:lnTo>
                    <a:lnTo>
                      <a:pt x="51" y="61"/>
                    </a:lnTo>
                    <a:lnTo>
                      <a:pt x="49" y="61"/>
                    </a:lnTo>
                    <a:lnTo>
                      <a:pt x="49" y="63"/>
                    </a:lnTo>
                    <a:lnTo>
                      <a:pt x="47" y="63"/>
                    </a:lnTo>
                    <a:lnTo>
                      <a:pt x="44" y="63"/>
                    </a:lnTo>
                    <a:lnTo>
                      <a:pt x="43" y="63"/>
                    </a:lnTo>
                    <a:lnTo>
                      <a:pt x="39" y="63"/>
                    </a:lnTo>
                    <a:lnTo>
                      <a:pt x="38" y="63"/>
                    </a:lnTo>
                    <a:lnTo>
                      <a:pt x="36" y="63"/>
                    </a:lnTo>
                    <a:lnTo>
                      <a:pt x="35" y="64"/>
                    </a:lnTo>
                    <a:lnTo>
                      <a:pt x="33" y="64"/>
                    </a:lnTo>
                    <a:lnTo>
                      <a:pt x="31" y="66"/>
                    </a:lnTo>
                    <a:lnTo>
                      <a:pt x="30" y="68"/>
                    </a:lnTo>
                    <a:lnTo>
                      <a:pt x="29" y="70"/>
                    </a:lnTo>
                    <a:lnTo>
                      <a:pt x="28" y="73"/>
                    </a:lnTo>
                    <a:lnTo>
                      <a:pt x="24" y="75"/>
                    </a:lnTo>
                    <a:lnTo>
                      <a:pt x="23" y="78"/>
                    </a:lnTo>
                    <a:lnTo>
                      <a:pt x="21" y="80"/>
                    </a:lnTo>
                    <a:lnTo>
                      <a:pt x="19" y="82"/>
                    </a:lnTo>
                    <a:lnTo>
                      <a:pt x="18" y="85"/>
                    </a:lnTo>
                    <a:lnTo>
                      <a:pt x="17" y="89"/>
                    </a:lnTo>
                    <a:lnTo>
                      <a:pt x="17" y="90"/>
                    </a:lnTo>
                    <a:lnTo>
                      <a:pt x="15" y="95"/>
                    </a:lnTo>
                    <a:lnTo>
                      <a:pt x="15" y="97"/>
                    </a:lnTo>
                    <a:lnTo>
                      <a:pt x="13" y="100"/>
                    </a:lnTo>
                    <a:lnTo>
                      <a:pt x="12" y="103"/>
                    </a:lnTo>
                    <a:lnTo>
                      <a:pt x="10" y="110"/>
                    </a:lnTo>
                    <a:lnTo>
                      <a:pt x="10" y="116"/>
                    </a:lnTo>
                    <a:lnTo>
                      <a:pt x="8" y="123"/>
                    </a:lnTo>
                    <a:lnTo>
                      <a:pt x="6" y="133"/>
                    </a:lnTo>
                    <a:lnTo>
                      <a:pt x="4" y="140"/>
                    </a:lnTo>
                    <a:lnTo>
                      <a:pt x="4" y="151"/>
                    </a:lnTo>
                    <a:lnTo>
                      <a:pt x="1" y="159"/>
                    </a:lnTo>
                    <a:lnTo>
                      <a:pt x="1" y="170"/>
                    </a:lnTo>
                    <a:lnTo>
                      <a:pt x="0" y="181"/>
                    </a:lnTo>
                    <a:lnTo>
                      <a:pt x="1" y="191"/>
                    </a:lnTo>
                    <a:lnTo>
                      <a:pt x="18" y="191"/>
                    </a:lnTo>
                    <a:lnTo>
                      <a:pt x="76" y="191"/>
                    </a:lnTo>
                    <a:lnTo>
                      <a:pt x="76" y="183"/>
                    </a:lnTo>
                    <a:lnTo>
                      <a:pt x="77" y="183"/>
                    </a:lnTo>
                    <a:lnTo>
                      <a:pt x="79" y="181"/>
                    </a:lnTo>
                    <a:lnTo>
                      <a:pt x="80" y="181"/>
                    </a:lnTo>
                    <a:lnTo>
                      <a:pt x="81" y="183"/>
                    </a:lnTo>
                    <a:lnTo>
                      <a:pt x="84" y="183"/>
                    </a:lnTo>
                    <a:lnTo>
                      <a:pt x="86" y="183"/>
                    </a:lnTo>
                    <a:lnTo>
                      <a:pt x="87" y="183"/>
                    </a:lnTo>
                    <a:lnTo>
                      <a:pt x="89" y="183"/>
                    </a:lnTo>
                    <a:lnTo>
                      <a:pt x="90" y="184"/>
                    </a:lnTo>
                    <a:lnTo>
                      <a:pt x="93" y="184"/>
                    </a:lnTo>
                    <a:lnTo>
                      <a:pt x="94" y="184"/>
                    </a:lnTo>
                    <a:lnTo>
                      <a:pt x="95" y="184"/>
                    </a:lnTo>
                    <a:lnTo>
                      <a:pt x="97" y="184"/>
                    </a:lnTo>
                    <a:lnTo>
                      <a:pt x="99" y="184"/>
                    </a:lnTo>
                    <a:lnTo>
                      <a:pt x="100" y="184"/>
                    </a:lnTo>
                    <a:lnTo>
                      <a:pt x="103" y="184"/>
                    </a:lnTo>
                    <a:lnTo>
                      <a:pt x="107" y="183"/>
                    </a:lnTo>
                    <a:lnTo>
                      <a:pt x="111" y="181"/>
                    </a:lnTo>
                    <a:lnTo>
                      <a:pt x="115" y="179"/>
                    </a:lnTo>
                    <a:lnTo>
                      <a:pt x="118" y="179"/>
                    </a:lnTo>
                    <a:lnTo>
                      <a:pt x="124" y="177"/>
                    </a:lnTo>
                    <a:lnTo>
                      <a:pt x="127" y="175"/>
                    </a:lnTo>
                    <a:lnTo>
                      <a:pt x="131" y="174"/>
                    </a:lnTo>
                    <a:lnTo>
                      <a:pt x="133" y="174"/>
                    </a:lnTo>
                    <a:lnTo>
                      <a:pt x="137" y="172"/>
                    </a:lnTo>
                    <a:lnTo>
                      <a:pt x="140" y="170"/>
                    </a:lnTo>
                    <a:lnTo>
                      <a:pt x="141" y="168"/>
                    </a:lnTo>
                    <a:lnTo>
                      <a:pt x="142" y="168"/>
                    </a:lnTo>
                    <a:lnTo>
                      <a:pt x="143" y="168"/>
                    </a:lnTo>
                    <a:lnTo>
                      <a:pt x="143" y="167"/>
                    </a:lnTo>
                    <a:lnTo>
                      <a:pt x="143" y="165"/>
                    </a:lnTo>
                    <a:lnTo>
                      <a:pt x="145" y="165"/>
                    </a:lnTo>
                    <a:lnTo>
                      <a:pt x="145" y="164"/>
                    </a:lnTo>
                    <a:lnTo>
                      <a:pt x="147" y="164"/>
                    </a:lnTo>
                    <a:lnTo>
                      <a:pt x="147" y="165"/>
                    </a:lnTo>
                    <a:lnTo>
                      <a:pt x="149" y="167"/>
                    </a:lnTo>
                    <a:lnTo>
                      <a:pt x="149" y="168"/>
                    </a:lnTo>
                    <a:lnTo>
                      <a:pt x="151" y="168"/>
                    </a:lnTo>
                    <a:lnTo>
                      <a:pt x="154" y="168"/>
                    </a:lnTo>
                    <a:lnTo>
                      <a:pt x="155" y="167"/>
                    </a:lnTo>
                    <a:lnTo>
                      <a:pt x="156" y="167"/>
                    </a:lnTo>
                    <a:lnTo>
                      <a:pt x="158" y="167"/>
                    </a:lnTo>
                    <a:lnTo>
                      <a:pt x="159" y="165"/>
                    </a:lnTo>
                    <a:lnTo>
                      <a:pt x="162" y="165"/>
                    </a:lnTo>
                    <a:lnTo>
                      <a:pt x="162" y="164"/>
                    </a:lnTo>
                    <a:lnTo>
                      <a:pt x="163" y="161"/>
                    </a:lnTo>
                    <a:lnTo>
                      <a:pt x="163" y="159"/>
                    </a:lnTo>
                    <a:lnTo>
                      <a:pt x="165" y="158"/>
                    </a:lnTo>
                    <a:lnTo>
                      <a:pt x="165" y="155"/>
                    </a:lnTo>
                    <a:lnTo>
                      <a:pt x="165" y="154"/>
                    </a:lnTo>
                    <a:lnTo>
                      <a:pt x="165" y="152"/>
                    </a:lnTo>
                    <a:lnTo>
                      <a:pt x="165" y="151"/>
                    </a:lnTo>
                    <a:lnTo>
                      <a:pt x="165" y="148"/>
                    </a:lnTo>
                    <a:lnTo>
                      <a:pt x="165" y="147"/>
                    </a:lnTo>
                    <a:lnTo>
                      <a:pt x="165" y="145"/>
                    </a:lnTo>
                    <a:lnTo>
                      <a:pt x="167" y="145"/>
                    </a:lnTo>
                    <a:lnTo>
                      <a:pt x="165" y="145"/>
                    </a:lnTo>
                    <a:lnTo>
                      <a:pt x="165" y="143"/>
                    </a:lnTo>
                  </a:path>
                </a:pathLst>
              </a:custGeom>
              <a:gradFill rotWithShape="0">
                <a:gsLst>
                  <a:gs pos="0">
                    <a:srgbClr val="037c03"/>
                  </a:gs>
                  <a:gs pos="100000">
                    <a:srgbClr val="0024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608880" y="1969200"/>
                <a:ext cx="27720" cy="27000"/>
              </a:xfrm>
              <a:custGeom>
                <a:avLst/>
                <a:gdLst/>
                <a:ahLst/>
                <a:rect l="l" t="t" r="r" b="b"/>
                <a:pathLst>
                  <a:path w="17" h="24">
                    <a:moveTo>
                      <a:pt x="16" y="4"/>
                    </a:moveTo>
                    <a:lnTo>
                      <a:pt x="16" y="3"/>
                    </a:lnTo>
                    <a:lnTo>
                      <a:pt x="15" y="2"/>
                    </a:lnTo>
                    <a:lnTo>
                      <a:pt x="13" y="2"/>
                    </a:lnTo>
                    <a:lnTo>
                      <a:pt x="13" y="3"/>
                    </a:lnTo>
                    <a:lnTo>
                      <a:pt x="12" y="3"/>
                    </a:lnTo>
                    <a:lnTo>
                      <a:pt x="12" y="4"/>
                    </a:lnTo>
                    <a:lnTo>
                      <a:pt x="10" y="4"/>
                    </a:lnTo>
                    <a:lnTo>
                      <a:pt x="10" y="5"/>
                    </a:lnTo>
                    <a:lnTo>
                      <a:pt x="9" y="5"/>
                    </a:lnTo>
                    <a:lnTo>
                      <a:pt x="8" y="5"/>
                    </a:lnTo>
                    <a:lnTo>
                      <a:pt x="7" y="5"/>
                    </a:lnTo>
                    <a:lnTo>
                      <a:pt x="7" y="4"/>
                    </a:lnTo>
                    <a:lnTo>
                      <a:pt x="7" y="2"/>
                    </a:lnTo>
                    <a:lnTo>
                      <a:pt x="7" y="0"/>
                    </a:lnTo>
                    <a:lnTo>
                      <a:pt x="6" y="0"/>
                    </a:lnTo>
                    <a:lnTo>
                      <a:pt x="4" y="0"/>
                    </a:lnTo>
                    <a:lnTo>
                      <a:pt x="4" y="2"/>
                    </a:lnTo>
                    <a:lnTo>
                      <a:pt x="4" y="3"/>
                    </a:lnTo>
                    <a:lnTo>
                      <a:pt x="3" y="4"/>
                    </a:lnTo>
                    <a:lnTo>
                      <a:pt x="3" y="5"/>
                    </a:lnTo>
                    <a:lnTo>
                      <a:pt x="1" y="7"/>
                    </a:lnTo>
                    <a:lnTo>
                      <a:pt x="0" y="8"/>
                    </a:lnTo>
                    <a:lnTo>
                      <a:pt x="1" y="9"/>
                    </a:lnTo>
                    <a:lnTo>
                      <a:pt x="3" y="13"/>
                    </a:lnTo>
                    <a:lnTo>
                      <a:pt x="3" y="15"/>
                    </a:lnTo>
                    <a:lnTo>
                      <a:pt x="3" y="19"/>
                    </a:lnTo>
                    <a:lnTo>
                      <a:pt x="3" y="20"/>
                    </a:lnTo>
                    <a:lnTo>
                      <a:pt x="4" y="21"/>
                    </a:lnTo>
                    <a:lnTo>
                      <a:pt x="4" y="23"/>
                    </a:lnTo>
                    <a:lnTo>
                      <a:pt x="6" y="23"/>
                    </a:lnTo>
                    <a:lnTo>
                      <a:pt x="7" y="23"/>
                    </a:lnTo>
                    <a:lnTo>
                      <a:pt x="8" y="21"/>
                    </a:lnTo>
                    <a:lnTo>
                      <a:pt x="9" y="21"/>
                    </a:lnTo>
                    <a:lnTo>
                      <a:pt x="10" y="21"/>
                    </a:lnTo>
                    <a:lnTo>
                      <a:pt x="12" y="20"/>
                    </a:lnTo>
                    <a:lnTo>
                      <a:pt x="13" y="19"/>
                    </a:lnTo>
                    <a:lnTo>
                      <a:pt x="13" y="18"/>
                    </a:lnTo>
                    <a:lnTo>
                      <a:pt x="13" y="16"/>
                    </a:lnTo>
                    <a:lnTo>
                      <a:pt x="13" y="15"/>
                    </a:lnTo>
                    <a:lnTo>
                      <a:pt x="13" y="13"/>
                    </a:lnTo>
                    <a:lnTo>
                      <a:pt x="13" y="12"/>
                    </a:lnTo>
                    <a:lnTo>
                      <a:pt x="13" y="11"/>
                    </a:lnTo>
                    <a:lnTo>
                      <a:pt x="15" y="9"/>
                    </a:lnTo>
                    <a:lnTo>
                      <a:pt x="15" y="8"/>
                    </a:lnTo>
                    <a:lnTo>
                      <a:pt x="15" y="7"/>
                    </a:lnTo>
                    <a:lnTo>
                      <a:pt x="15" y="5"/>
                    </a:lnTo>
                    <a:lnTo>
                      <a:pt x="15" y="4"/>
                    </a:lnTo>
                    <a:lnTo>
                      <a:pt x="16" y="4"/>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 name=""/>
              <p:cNvSpPr/>
              <p:nvPr/>
            </p:nvSpPr>
            <p:spPr>
              <a:xfrm>
                <a:off x="6389640" y="1835640"/>
                <a:ext cx="209160" cy="178920"/>
              </a:xfrm>
              <a:custGeom>
                <a:avLst/>
                <a:gdLst/>
                <a:ahLst/>
                <a:rect l="l" t="t" r="r" b="b"/>
                <a:pathLst>
                  <a:path w="128" h="157">
                    <a:moveTo>
                      <a:pt x="88" y="18"/>
                    </a:moveTo>
                    <a:lnTo>
                      <a:pt x="89" y="14"/>
                    </a:lnTo>
                    <a:lnTo>
                      <a:pt x="89" y="8"/>
                    </a:lnTo>
                    <a:lnTo>
                      <a:pt x="89" y="2"/>
                    </a:lnTo>
                    <a:lnTo>
                      <a:pt x="89" y="0"/>
                    </a:lnTo>
                    <a:lnTo>
                      <a:pt x="88" y="0"/>
                    </a:lnTo>
                    <a:lnTo>
                      <a:pt x="88" y="1"/>
                    </a:lnTo>
                    <a:lnTo>
                      <a:pt x="86" y="1"/>
                    </a:lnTo>
                    <a:lnTo>
                      <a:pt x="84" y="2"/>
                    </a:lnTo>
                    <a:lnTo>
                      <a:pt x="84" y="5"/>
                    </a:lnTo>
                    <a:lnTo>
                      <a:pt x="84" y="7"/>
                    </a:lnTo>
                    <a:lnTo>
                      <a:pt x="83" y="7"/>
                    </a:lnTo>
                    <a:lnTo>
                      <a:pt x="83" y="8"/>
                    </a:lnTo>
                    <a:lnTo>
                      <a:pt x="81" y="9"/>
                    </a:lnTo>
                    <a:lnTo>
                      <a:pt x="79" y="11"/>
                    </a:lnTo>
                    <a:lnTo>
                      <a:pt x="78" y="12"/>
                    </a:lnTo>
                    <a:lnTo>
                      <a:pt x="77" y="14"/>
                    </a:lnTo>
                    <a:lnTo>
                      <a:pt x="77" y="15"/>
                    </a:lnTo>
                    <a:lnTo>
                      <a:pt x="77" y="14"/>
                    </a:lnTo>
                    <a:lnTo>
                      <a:pt x="77" y="12"/>
                    </a:lnTo>
                    <a:lnTo>
                      <a:pt x="75" y="11"/>
                    </a:lnTo>
                    <a:lnTo>
                      <a:pt x="73" y="11"/>
                    </a:lnTo>
                    <a:lnTo>
                      <a:pt x="71" y="11"/>
                    </a:lnTo>
                    <a:lnTo>
                      <a:pt x="70" y="14"/>
                    </a:lnTo>
                    <a:lnTo>
                      <a:pt x="70" y="18"/>
                    </a:lnTo>
                    <a:lnTo>
                      <a:pt x="67" y="21"/>
                    </a:lnTo>
                    <a:lnTo>
                      <a:pt x="70" y="22"/>
                    </a:lnTo>
                    <a:lnTo>
                      <a:pt x="70" y="24"/>
                    </a:lnTo>
                    <a:lnTo>
                      <a:pt x="70" y="28"/>
                    </a:lnTo>
                    <a:lnTo>
                      <a:pt x="67" y="25"/>
                    </a:lnTo>
                    <a:lnTo>
                      <a:pt x="66" y="24"/>
                    </a:lnTo>
                    <a:lnTo>
                      <a:pt x="64" y="24"/>
                    </a:lnTo>
                    <a:lnTo>
                      <a:pt x="64" y="22"/>
                    </a:lnTo>
                    <a:lnTo>
                      <a:pt x="63" y="21"/>
                    </a:lnTo>
                    <a:lnTo>
                      <a:pt x="60" y="24"/>
                    </a:lnTo>
                    <a:lnTo>
                      <a:pt x="57" y="28"/>
                    </a:lnTo>
                    <a:lnTo>
                      <a:pt x="55" y="33"/>
                    </a:lnTo>
                    <a:lnTo>
                      <a:pt x="55" y="35"/>
                    </a:lnTo>
                    <a:lnTo>
                      <a:pt x="55" y="38"/>
                    </a:lnTo>
                    <a:lnTo>
                      <a:pt x="55" y="41"/>
                    </a:lnTo>
                    <a:lnTo>
                      <a:pt x="55" y="44"/>
                    </a:lnTo>
                    <a:lnTo>
                      <a:pt x="39" y="31"/>
                    </a:lnTo>
                    <a:lnTo>
                      <a:pt x="35" y="35"/>
                    </a:lnTo>
                    <a:lnTo>
                      <a:pt x="34" y="35"/>
                    </a:lnTo>
                    <a:lnTo>
                      <a:pt x="33" y="37"/>
                    </a:lnTo>
                    <a:lnTo>
                      <a:pt x="32" y="37"/>
                    </a:lnTo>
                    <a:lnTo>
                      <a:pt x="29" y="37"/>
                    </a:lnTo>
                    <a:lnTo>
                      <a:pt x="26" y="37"/>
                    </a:lnTo>
                    <a:lnTo>
                      <a:pt x="24" y="37"/>
                    </a:lnTo>
                    <a:lnTo>
                      <a:pt x="22" y="37"/>
                    </a:lnTo>
                    <a:lnTo>
                      <a:pt x="21" y="37"/>
                    </a:lnTo>
                    <a:lnTo>
                      <a:pt x="19" y="38"/>
                    </a:lnTo>
                    <a:lnTo>
                      <a:pt x="18" y="38"/>
                    </a:lnTo>
                    <a:lnTo>
                      <a:pt x="16" y="40"/>
                    </a:lnTo>
                    <a:lnTo>
                      <a:pt x="14" y="41"/>
                    </a:lnTo>
                    <a:lnTo>
                      <a:pt x="13" y="44"/>
                    </a:lnTo>
                    <a:lnTo>
                      <a:pt x="12" y="47"/>
                    </a:lnTo>
                    <a:lnTo>
                      <a:pt x="9" y="48"/>
                    </a:lnTo>
                    <a:lnTo>
                      <a:pt x="8" y="51"/>
                    </a:lnTo>
                    <a:lnTo>
                      <a:pt x="6" y="53"/>
                    </a:lnTo>
                    <a:lnTo>
                      <a:pt x="4" y="55"/>
                    </a:lnTo>
                    <a:lnTo>
                      <a:pt x="2" y="58"/>
                    </a:lnTo>
                    <a:lnTo>
                      <a:pt x="1" y="62"/>
                    </a:lnTo>
                    <a:lnTo>
                      <a:pt x="1" y="63"/>
                    </a:lnTo>
                    <a:lnTo>
                      <a:pt x="0" y="67"/>
                    </a:lnTo>
                    <a:lnTo>
                      <a:pt x="0" y="68"/>
                    </a:lnTo>
                    <a:lnTo>
                      <a:pt x="0" y="70"/>
                    </a:lnTo>
                    <a:lnTo>
                      <a:pt x="0" y="71"/>
                    </a:lnTo>
                    <a:lnTo>
                      <a:pt x="0" y="73"/>
                    </a:lnTo>
                    <a:lnTo>
                      <a:pt x="1" y="73"/>
                    </a:lnTo>
                    <a:lnTo>
                      <a:pt x="2" y="71"/>
                    </a:lnTo>
                    <a:lnTo>
                      <a:pt x="4" y="70"/>
                    </a:lnTo>
                    <a:lnTo>
                      <a:pt x="6" y="70"/>
                    </a:lnTo>
                    <a:lnTo>
                      <a:pt x="8" y="68"/>
                    </a:lnTo>
                    <a:lnTo>
                      <a:pt x="9" y="67"/>
                    </a:lnTo>
                    <a:lnTo>
                      <a:pt x="12" y="65"/>
                    </a:lnTo>
                    <a:lnTo>
                      <a:pt x="13" y="63"/>
                    </a:lnTo>
                    <a:lnTo>
                      <a:pt x="14" y="63"/>
                    </a:lnTo>
                    <a:lnTo>
                      <a:pt x="16" y="62"/>
                    </a:lnTo>
                    <a:lnTo>
                      <a:pt x="18" y="62"/>
                    </a:lnTo>
                    <a:lnTo>
                      <a:pt x="19" y="62"/>
                    </a:lnTo>
                    <a:lnTo>
                      <a:pt x="18" y="63"/>
                    </a:lnTo>
                    <a:lnTo>
                      <a:pt x="18" y="67"/>
                    </a:lnTo>
                    <a:lnTo>
                      <a:pt x="14" y="70"/>
                    </a:lnTo>
                    <a:lnTo>
                      <a:pt x="12" y="76"/>
                    </a:lnTo>
                    <a:lnTo>
                      <a:pt x="10" y="81"/>
                    </a:lnTo>
                    <a:lnTo>
                      <a:pt x="10" y="85"/>
                    </a:lnTo>
                    <a:lnTo>
                      <a:pt x="12" y="88"/>
                    </a:lnTo>
                    <a:lnTo>
                      <a:pt x="14" y="89"/>
                    </a:lnTo>
                    <a:lnTo>
                      <a:pt x="18" y="91"/>
                    </a:lnTo>
                    <a:lnTo>
                      <a:pt x="21" y="92"/>
                    </a:lnTo>
                    <a:lnTo>
                      <a:pt x="22" y="95"/>
                    </a:lnTo>
                    <a:lnTo>
                      <a:pt x="24" y="95"/>
                    </a:lnTo>
                    <a:lnTo>
                      <a:pt x="22" y="98"/>
                    </a:lnTo>
                    <a:lnTo>
                      <a:pt x="22" y="99"/>
                    </a:lnTo>
                    <a:lnTo>
                      <a:pt x="21" y="100"/>
                    </a:lnTo>
                    <a:lnTo>
                      <a:pt x="19" y="102"/>
                    </a:lnTo>
                    <a:lnTo>
                      <a:pt x="18" y="104"/>
                    </a:lnTo>
                    <a:lnTo>
                      <a:pt x="16" y="105"/>
                    </a:lnTo>
                    <a:lnTo>
                      <a:pt x="14" y="107"/>
                    </a:lnTo>
                    <a:lnTo>
                      <a:pt x="13" y="107"/>
                    </a:lnTo>
                    <a:lnTo>
                      <a:pt x="12" y="109"/>
                    </a:lnTo>
                    <a:lnTo>
                      <a:pt x="10" y="110"/>
                    </a:lnTo>
                    <a:lnTo>
                      <a:pt x="9" y="111"/>
                    </a:lnTo>
                    <a:lnTo>
                      <a:pt x="10" y="111"/>
                    </a:lnTo>
                    <a:lnTo>
                      <a:pt x="12" y="111"/>
                    </a:lnTo>
                    <a:lnTo>
                      <a:pt x="13" y="111"/>
                    </a:lnTo>
                    <a:lnTo>
                      <a:pt x="14" y="111"/>
                    </a:lnTo>
                    <a:lnTo>
                      <a:pt x="16" y="111"/>
                    </a:lnTo>
                    <a:lnTo>
                      <a:pt x="18" y="110"/>
                    </a:lnTo>
                    <a:lnTo>
                      <a:pt x="19" y="109"/>
                    </a:lnTo>
                    <a:lnTo>
                      <a:pt x="21" y="107"/>
                    </a:lnTo>
                    <a:lnTo>
                      <a:pt x="24" y="104"/>
                    </a:lnTo>
                    <a:lnTo>
                      <a:pt x="26" y="104"/>
                    </a:lnTo>
                    <a:lnTo>
                      <a:pt x="26" y="102"/>
                    </a:lnTo>
                    <a:lnTo>
                      <a:pt x="29" y="102"/>
                    </a:lnTo>
                    <a:lnTo>
                      <a:pt x="29" y="104"/>
                    </a:lnTo>
                    <a:lnTo>
                      <a:pt x="26" y="105"/>
                    </a:lnTo>
                    <a:lnTo>
                      <a:pt x="26" y="107"/>
                    </a:lnTo>
                    <a:lnTo>
                      <a:pt x="24" y="109"/>
                    </a:lnTo>
                    <a:lnTo>
                      <a:pt x="24" y="111"/>
                    </a:lnTo>
                    <a:lnTo>
                      <a:pt x="22" y="111"/>
                    </a:lnTo>
                    <a:lnTo>
                      <a:pt x="22" y="113"/>
                    </a:lnTo>
                    <a:lnTo>
                      <a:pt x="24" y="113"/>
                    </a:lnTo>
                    <a:lnTo>
                      <a:pt x="26" y="111"/>
                    </a:lnTo>
                    <a:lnTo>
                      <a:pt x="26" y="110"/>
                    </a:lnTo>
                    <a:lnTo>
                      <a:pt x="29" y="109"/>
                    </a:lnTo>
                    <a:lnTo>
                      <a:pt x="30" y="109"/>
                    </a:lnTo>
                    <a:lnTo>
                      <a:pt x="32" y="109"/>
                    </a:lnTo>
                    <a:lnTo>
                      <a:pt x="33" y="109"/>
                    </a:lnTo>
                    <a:lnTo>
                      <a:pt x="34" y="109"/>
                    </a:lnTo>
                    <a:lnTo>
                      <a:pt x="35" y="110"/>
                    </a:lnTo>
                    <a:lnTo>
                      <a:pt x="35" y="111"/>
                    </a:lnTo>
                    <a:lnTo>
                      <a:pt x="37" y="113"/>
                    </a:lnTo>
                    <a:lnTo>
                      <a:pt x="39" y="115"/>
                    </a:lnTo>
                    <a:lnTo>
                      <a:pt x="39" y="118"/>
                    </a:lnTo>
                    <a:lnTo>
                      <a:pt x="42" y="121"/>
                    </a:lnTo>
                    <a:lnTo>
                      <a:pt x="44" y="126"/>
                    </a:lnTo>
                    <a:lnTo>
                      <a:pt x="45" y="130"/>
                    </a:lnTo>
                    <a:lnTo>
                      <a:pt x="46" y="134"/>
                    </a:lnTo>
                    <a:lnTo>
                      <a:pt x="48" y="137"/>
                    </a:lnTo>
                    <a:lnTo>
                      <a:pt x="51" y="142"/>
                    </a:lnTo>
                    <a:lnTo>
                      <a:pt x="52" y="146"/>
                    </a:lnTo>
                    <a:lnTo>
                      <a:pt x="53" y="149"/>
                    </a:lnTo>
                    <a:lnTo>
                      <a:pt x="55" y="151"/>
                    </a:lnTo>
                    <a:lnTo>
                      <a:pt x="57" y="153"/>
                    </a:lnTo>
                    <a:lnTo>
                      <a:pt x="58" y="155"/>
                    </a:lnTo>
                    <a:lnTo>
                      <a:pt x="60" y="155"/>
                    </a:lnTo>
                    <a:lnTo>
                      <a:pt x="61" y="155"/>
                    </a:lnTo>
                    <a:lnTo>
                      <a:pt x="63" y="153"/>
                    </a:lnTo>
                    <a:lnTo>
                      <a:pt x="64" y="153"/>
                    </a:lnTo>
                    <a:lnTo>
                      <a:pt x="66" y="155"/>
                    </a:lnTo>
                    <a:lnTo>
                      <a:pt x="67" y="155"/>
                    </a:lnTo>
                    <a:lnTo>
                      <a:pt x="70" y="155"/>
                    </a:lnTo>
                    <a:lnTo>
                      <a:pt x="71" y="155"/>
                    </a:lnTo>
                    <a:lnTo>
                      <a:pt x="73" y="155"/>
                    </a:lnTo>
                    <a:lnTo>
                      <a:pt x="75" y="156"/>
                    </a:lnTo>
                    <a:lnTo>
                      <a:pt x="77" y="156"/>
                    </a:lnTo>
                    <a:lnTo>
                      <a:pt x="78" y="156"/>
                    </a:lnTo>
                    <a:lnTo>
                      <a:pt x="79" y="156"/>
                    </a:lnTo>
                    <a:lnTo>
                      <a:pt x="81" y="156"/>
                    </a:lnTo>
                    <a:lnTo>
                      <a:pt x="83" y="156"/>
                    </a:lnTo>
                    <a:lnTo>
                      <a:pt x="84" y="156"/>
                    </a:lnTo>
                    <a:lnTo>
                      <a:pt x="88" y="156"/>
                    </a:lnTo>
                    <a:lnTo>
                      <a:pt x="91" y="155"/>
                    </a:lnTo>
                    <a:lnTo>
                      <a:pt x="95" y="153"/>
                    </a:lnTo>
                    <a:lnTo>
                      <a:pt x="99" y="151"/>
                    </a:lnTo>
                    <a:lnTo>
                      <a:pt x="101" y="151"/>
                    </a:lnTo>
                    <a:lnTo>
                      <a:pt x="107" y="149"/>
                    </a:lnTo>
                    <a:lnTo>
                      <a:pt x="111" y="147"/>
                    </a:lnTo>
                    <a:lnTo>
                      <a:pt x="114" y="146"/>
                    </a:lnTo>
                    <a:lnTo>
                      <a:pt x="117" y="146"/>
                    </a:lnTo>
                    <a:lnTo>
                      <a:pt x="120" y="144"/>
                    </a:lnTo>
                    <a:lnTo>
                      <a:pt x="123" y="142"/>
                    </a:lnTo>
                    <a:lnTo>
                      <a:pt x="125" y="141"/>
                    </a:lnTo>
                    <a:lnTo>
                      <a:pt x="126" y="141"/>
                    </a:lnTo>
                    <a:lnTo>
                      <a:pt x="127" y="141"/>
                    </a:lnTo>
                    <a:lnTo>
                      <a:pt x="127" y="139"/>
                    </a:lnTo>
                    <a:lnTo>
                      <a:pt x="127" y="137"/>
                    </a:lnTo>
                    <a:lnTo>
                      <a:pt x="127" y="132"/>
                    </a:lnTo>
                    <a:lnTo>
                      <a:pt x="126" y="128"/>
                    </a:lnTo>
                    <a:lnTo>
                      <a:pt x="126" y="125"/>
                    </a:lnTo>
                    <a:lnTo>
                      <a:pt x="125" y="121"/>
                    </a:lnTo>
                    <a:lnTo>
                      <a:pt x="125" y="120"/>
                    </a:lnTo>
                    <a:lnTo>
                      <a:pt x="123" y="120"/>
                    </a:lnTo>
                    <a:lnTo>
                      <a:pt x="122" y="120"/>
                    </a:lnTo>
                    <a:lnTo>
                      <a:pt x="118" y="120"/>
                    </a:lnTo>
                    <a:lnTo>
                      <a:pt x="117" y="120"/>
                    </a:lnTo>
                    <a:lnTo>
                      <a:pt x="114" y="121"/>
                    </a:lnTo>
                    <a:lnTo>
                      <a:pt x="112" y="121"/>
                    </a:lnTo>
                    <a:lnTo>
                      <a:pt x="109" y="121"/>
                    </a:lnTo>
                    <a:lnTo>
                      <a:pt x="107" y="121"/>
                    </a:lnTo>
                    <a:lnTo>
                      <a:pt x="103" y="121"/>
                    </a:lnTo>
                    <a:lnTo>
                      <a:pt x="100" y="121"/>
                    </a:lnTo>
                    <a:lnTo>
                      <a:pt x="97" y="121"/>
                    </a:lnTo>
                    <a:lnTo>
                      <a:pt x="95" y="123"/>
                    </a:lnTo>
                    <a:lnTo>
                      <a:pt x="92" y="123"/>
                    </a:lnTo>
                    <a:lnTo>
                      <a:pt x="89" y="123"/>
                    </a:lnTo>
                    <a:lnTo>
                      <a:pt x="88" y="121"/>
                    </a:lnTo>
                    <a:lnTo>
                      <a:pt x="86" y="121"/>
                    </a:lnTo>
                    <a:lnTo>
                      <a:pt x="83" y="121"/>
                    </a:lnTo>
                    <a:lnTo>
                      <a:pt x="81" y="123"/>
                    </a:lnTo>
                    <a:lnTo>
                      <a:pt x="79" y="123"/>
                    </a:lnTo>
                    <a:lnTo>
                      <a:pt x="79" y="125"/>
                    </a:lnTo>
                    <a:lnTo>
                      <a:pt x="78" y="125"/>
                    </a:lnTo>
                    <a:lnTo>
                      <a:pt x="78" y="123"/>
                    </a:lnTo>
                    <a:lnTo>
                      <a:pt x="78" y="121"/>
                    </a:lnTo>
                    <a:lnTo>
                      <a:pt x="77" y="121"/>
                    </a:lnTo>
                    <a:lnTo>
                      <a:pt x="75" y="121"/>
                    </a:lnTo>
                    <a:lnTo>
                      <a:pt x="77" y="121"/>
                    </a:lnTo>
                    <a:lnTo>
                      <a:pt x="77" y="118"/>
                    </a:lnTo>
                    <a:lnTo>
                      <a:pt x="77" y="116"/>
                    </a:lnTo>
                    <a:lnTo>
                      <a:pt x="75" y="115"/>
                    </a:lnTo>
                    <a:lnTo>
                      <a:pt x="75" y="113"/>
                    </a:lnTo>
                    <a:lnTo>
                      <a:pt x="70" y="100"/>
                    </a:lnTo>
                    <a:lnTo>
                      <a:pt x="64" y="89"/>
                    </a:lnTo>
                    <a:lnTo>
                      <a:pt x="63" y="81"/>
                    </a:lnTo>
                    <a:lnTo>
                      <a:pt x="63" y="73"/>
                    </a:lnTo>
                    <a:lnTo>
                      <a:pt x="63" y="68"/>
                    </a:lnTo>
                    <a:lnTo>
                      <a:pt x="63" y="63"/>
                    </a:lnTo>
                    <a:lnTo>
                      <a:pt x="63" y="62"/>
                    </a:lnTo>
                    <a:lnTo>
                      <a:pt x="63" y="60"/>
                    </a:lnTo>
                    <a:lnTo>
                      <a:pt x="64" y="58"/>
                    </a:lnTo>
                    <a:lnTo>
                      <a:pt x="64" y="50"/>
                    </a:lnTo>
                    <a:lnTo>
                      <a:pt x="63" y="48"/>
                    </a:lnTo>
                    <a:lnTo>
                      <a:pt x="64" y="48"/>
                    </a:lnTo>
                    <a:lnTo>
                      <a:pt x="66" y="47"/>
                    </a:lnTo>
                    <a:lnTo>
                      <a:pt x="66" y="45"/>
                    </a:lnTo>
                    <a:lnTo>
                      <a:pt x="67" y="41"/>
                    </a:lnTo>
                    <a:lnTo>
                      <a:pt x="70" y="38"/>
                    </a:lnTo>
                    <a:lnTo>
                      <a:pt x="70" y="37"/>
                    </a:lnTo>
                    <a:lnTo>
                      <a:pt x="70" y="33"/>
                    </a:lnTo>
                    <a:lnTo>
                      <a:pt x="70" y="35"/>
                    </a:lnTo>
                    <a:lnTo>
                      <a:pt x="70" y="37"/>
                    </a:lnTo>
                    <a:lnTo>
                      <a:pt x="70" y="38"/>
                    </a:lnTo>
                    <a:lnTo>
                      <a:pt x="71" y="40"/>
                    </a:lnTo>
                    <a:lnTo>
                      <a:pt x="71" y="41"/>
                    </a:lnTo>
                    <a:lnTo>
                      <a:pt x="73" y="44"/>
                    </a:lnTo>
                    <a:lnTo>
                      <a:pt x="75" y="44"/>
                    </a:lnTo>
                    <a:lnTo>
                      <a:pt x="77" y="44"/>
                    </a:lnTo>
                    <a:lnTo>
                      <a:pt x="78" y="41"/>
                    </a:lnTo>
                    <a:lnTo>
                      <a:pt x="79" y="38"/>
                    </a:lnTo>
                    <a:lnTo>
                      <a:pt x="81" y="35"/>
                    </a:lnTo>
                    <a:lnTo>
                      <a:pt x="83" y="33"/>
                    </a:lnTo>
                    <a:lnTo>
                      <a:pt x="83" y="28"/>
                    </a:lnTo>
                    <a:lnTo>
                      <a:pt x="84" y="28"/>
                    </a:lnTo>
                    <a:lnTo>
                      <a:pt x="84" y="25"/>
                    </a:lnTo>
                    <a:lnTo>
                      <a:pt x="86" y="25"/>
                    </a:lnTo>
                    <a:lnTo>
                      <a:pt x="88" y="24"/>
                    </a:lnTo>
                    <a:lnTo>
                      <a:pt x="88" y="22"/>
                    </a:lnTo>
                    <a:lnTo>
                      <a:pt x="88" y="21"/>
                    </a:lnTo>
                    <a:lnTo>
                      <a:pt x="88" y="18"/>
                    </a:lnTo>
                    <a:lnTo>
                      <a:pt x="88"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526800" y="1847880"/>
                <a:ext cx="27720" cy="19080"/>
              </a:xfrm>
              <a:custGeom>
                <a:avLst/>
                <a:gdLst/>
                <a:ahLst/>
                <a:rect l="l" t="t" r="r" b="b"/>
                <a:pathLst>
                  <a:path w="17" h="17">
                    <a:moveTo>
                      <a:pt x="16" y="16"/>
                    </a:moveTo>
                    <a:lnTo>
                      <a:pt x="0" y="0"/>
                    </a:lnTo>
                    <a:lnTo>
                      <a:pt x="16"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 name=""/>
              <p:cNvSpPr/>
              <p:nvPr/>
            </p:nvSpPr>
            <p:spPr>
              <a:xfrm>
                <a:off x="6327360" y="1961280"/>
                <a:ext cx="29520" cy="62640"/>
              </a:xfrm>
              <a:custGeom>
                <a:avLst/>
                <a:gdLst/>
                <a:ahLst/>
                <a:rect l="l" t="t" r="r" b="b"/>
                <a:pathLst>
                  <a:path w="18" h="55">
                    <a:moveTo>
                      <a:pt x="16" y="54"/>
                    </a:moveTo>
                    <a:lnTo>
                      <a:pt x="14" y="45"/>
                    </a:lnTo>
                    <a:lnTo>
                      <a:pt x="16" y="35"/>
                    </a:lnTo>
                    <a:lnTo>
                      <a:pt x="16" y="25"/>
                    </a:lnTo>
                    <a:lnTo>
                      <a:pt x="17" y="17"/>
                    </a:lnTo>
                    <a:lnTo>
                      <a:pt x="16" y="17"/>
                    </a:lnTo>
                    <a:lnTo>
                      <a:pt x="14" y="17"/>
                    </a:lnTo>
                    <a:lnTo>
                      <a:pt x="13" y="17"/>
                    </a:lnTo>
                    <a:lnTo>
                      <a:pt x="12" y="15"/>
                    </a:lnTo>
                    <a:lnTo>
                      <a:pt x="11" y="15"/>
                    </a:lnTo>
                    <a:lnTo>
                      <a:pt x="9" y="15"/>
                    </a:lnTo>
                    <a:lnTo>
                      <a:pt x="9" y="14"/>
                    </a:lnTo>
                    <a:lnTo>
                      <a:pt x="8" y="13"/>
                    </a:lnTo>
                    <a:lnTo>
                      <a:pt x="7" y="13"/>
                    </a:lnTo>
                    <a:lnTo>
                      <a:pt x="5" y="11"/>
                    </a:lnTo>
                    <a:lnTo>
                      <a:pt x="4" y="10"/>
                    </a:lnTo>
                    <a:lnTo>
                      <a:pt x="4" y="8"/>
                    </a:lnTo>
                    <a:lnTo>
                      <a:pt x="4" y="6"/>
                    </a:lnTo>
                    <a:lnTo>
                      <a:pt x="2" y="4"/>
                    </a:lnTo>
                    <a:lnTo>
                      <a:pt x="1" y="2"/>
                    </a:lnTo>
                    <a:lnTo>
                      <a:pt x="0" y="0"/>
                    </a:lnTo>
                    <a:lnTo>
                      <a:pt x="0" y="17"/>
                    </a:lnTo>
                    <a:lnTo>
                      <a:pt x="0" y="25"/>
                    </a:lnTo>
                    <a:lnTo>
                      <a:pt x="0" y="54"/>
                    </a:lnTo>
                    <a:lnTo>
                      <a:pt x="16" y="54"/>
                    </a:lnTo>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9" name=""/>
              <p:cNvSpPr/>
              <p:nvPr/>
            </p:nvSpPr>
            <p:spPr>
              <a:xfrm>
                <a:off x="6363000" y="1983960"/>
                <a:ext cx="27720" cy="39600"/>
              </a:xfrm>
              <a:custGeom>
                <a:avLst/>
                <a:gdLst/>
                <a:ahLst/>
                <a:rect l="l" t="t" r="r" b="b"/>
                <a:pathLst>
                  <a:path w="17" h="35">
                    <a:moveTo>
                      <a:pt x="1" y="34"/>
                    </a:moveTo>
                    <a:lnTo>
                      <a:pt x="0" y="26"/>
                    </a:lnTo>
                    <a:lnTo>
                      <a:pt x="1" y="16"/>
                    </a:lnTo>
                    <a:lnTo>
                      <a:pt x="1" y="7"/>
                    </a:lnTo>
                    <a:lnTo>
                      <a:pt x="2" y="0"/>
                    </a:lnTo>
                    <a:lnTo>
                      <a:pt x="3" y="0"/>
                    </a:lnTo>
                    <a:lnTo>
                      <a:pt x="3" y="1"/>
                    </a:lnTo>
                    <a:lnTo>
                      <a:pt x="4" y="1"/>
                    </a:lnTo>
                    <a:lnTo>
                      <a:pt x="6" y="1"/>
                    </a:lnTo>
                    <a:lnTo>
                      <a:pt x="8" y="2"/>
                    </a:lnTo>
                    <a:lnTo>
                      <a:pt x="9" y="5"/>
                    </a:lnTo>
                    <a:lnTo>
                      <a:pt x="13" y="9"/>
                    </a:lnTo>
                    <a:lnTo>
                      <a:pt x="14" y="13"/>
                    </a:lnTo>
                    <a:lnTo>
                      <a:pt x="14" y="19"/>
                    </a:lnTo>
                    <a:lnTo>
                      <a:pt x="16" y="24"/>
                    </a:lnTo>
                    <a:lnTo>
                      <a:pt x="16" y="30"/>
                    </a:lnTo>
                    <a:lnTo>
                      <a:pt x="14" y="34"/>
                    </a:lnTo>
                    <a:lnTo>
                      <a:pt x="1" y="34"/>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0" name=""/>
              <p:cNvSpPr/>
              <p:nvPr/>
            </p:nvSpPr>
            <p:spPr>
              <a:xfrm>
                <a:off x="6327360" y="1983960"/>
                <a:ext cx="27720" cy="23760"/>
              </a:xfrm>
              <a:custGeom>
                <a:avLst/>
                <a:gdLst/>
                <a:ahLst/>
                <a:rect l="l" t="t" r="r" b="b"/>
                <a:pathLst>
                  <a:path w="17" h="21">
                    <a:moveTo>
                      <a:pt x="0" y="0"/>
                    </a:moveTo>
                    <a:lnTo>
                      <a:pt x="0" y="6"/>
                    </a:lnTo>
                    <a:lnTo>
                      <a:pt x="1" y="6"/>
                    </a:lnTo>
                    <a:lnTo>
                      <a:pt x="4" y="6"/>
                    </a:lnTo>
                    <a:lnTo>
                      <a:pt x="5" y="7"/>
                    </a:lnTo>
                    <a:lnTo>
                      <a:pt x="8" y="10"/>
                    </a:lnTo>
                    <a:lnTo>
                      <a:pt x="8" y="13"/>
                    </a:lnTo>
                    <a:lnTo>
                      <a:pt x="10" y="17"/>
                    </a:lnTo>
                    <a:lnTo>
                      <a:pt x="11" y="18"/>
                    </a:lnTo>
                    <a:lnTo>
                      <a:pt x="13" y="20"/>
                    </a:lnTo>
                    <a:lnTo>
                      <a:pt x="14" y="20"/>
                    </a:lnTo>
                    <a:lnTo>
                      <a:pt x="16" y="18"/>
                    </a:lnTo>
                    <a:lnTo>
                      <a:pt x="16" y="17"/>
                    </a:lnTo>
                    <a:lnTo>
                      <a:pt x="16" y="15"/>
                    </a:lnTo>
                    <a:lnTo>
                      <a:pt x="14" y="13"/>
                    </a:lnTo>
                    <a:lnTo>
                      <a:pt x="14" y="11"/>
                    </a:lnTo>
                    <a:lnTo>
                      <a:pt x="13" y="10"/>
                    </a:lnTo>
                    <a:lnTo>
                      <a:pt x="11" y="7"/>
                    </a:lnTo>
                    <a:lnTo>
                      <a:pt x="10" y="5"/>
                    </a:lnTo>
                    <a:lnTo>
                      <a:pt x="8" y="5"/>
                    </a:lnTo>
                    <a:lnTo>
                      <a:pt x="5" y="2"/>
                    </a:lnTo>
                    <a:lnTo>
                      <a:pt x="4" y="1"/>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a:off x="6719760" y="1772640"/>
                <a:ext cx="221040" cy="148320"/>
              </a:xfrm>
              <a:custGeom>
                <a:avLst/>
                <a:gdLst/>
                <a:ahLst/>
                <a:rect l="l" t="t" r="r" b="b"/>
                <a:pathLst>
                  <a:path w="135" h="130">
                    <a:moveTo>
                      <a:pt x="58" y="34"/>
                    </a:moveTo>
                    <a:lnTo>
                      <a:pt x="58" y="36"/>
                    </a:lnTo>
                    <a:lnTo>
                      <a:pt x="60" y="38"/>
                    </a:lnTo>
                    <a:lnTo>
                      <a:pt x="60" y="39"/>
                    </a:lnTo>
                    <a:lnTo>
                      <a:pt x="60" y="41"/>
                    </a:lnTo>
                    <a:lnTo>
                      <a:pt x="60" y="43"/>
                    </a:lnTo>
                    <a:lnTo>
                      <a:pt x="62" y="43"/>
                    </a:lnTo>
                    <a:lnTo>
                      <a:pt x="62" y="44"/>
                    </a:lnTo>
                    <a:lnTo>
                      <a:pt x="60" y="44"/>
                    </a:lnTo>
                    <a:lnTo>
                      <a:pt x="58" y="44"/>
                    </a:lnTo>
                    <a:lnTo>
                      <a:pt x="56" y="45"/>
                    </a:lnTo>
                    <a:lnTo>
                      <a:pt x="54" y="45"/>
                    </a:lnTo>
                    <a:lnTo>
                      <a:pt x="50" y="49"/>
                    </a:lnTo>
                    <a:lnTo>
                      <a:pt x="49" y="50"/>
                    </a:lnTo>
                    <a:lnTo>
                      <a:pt x="47" y="54"/>
                    </a:lnTo>
                    <a:lnTo>
                      <a:pt x="44" y="57"/>
                    </a:lnTo>
                    <a:lnTo>
                      <a:pt x="42" y="59"/>
                    </a:lnTo>
                    <a:lnTo>
                      <a:pt x="40" y="62"/>
                    </a:lnTo>
                    <a:lnTo>
                      <a:pt x="38" y="65"/>
                    </a:lnTo>
                    <a:lnTo>
                      <a:pt x="34" y="69"/>
                    </a:lnTo>
                    <a:lnTo>
                      <a:pt x="32" y="72"/>
                    </a:lnTo>
                    <a:lnTo>
                      <a:pt x="32" y="74"/>
                    </a:lnTo>
                    <a:lnTo>
                      <a:pt x="31" y="74"/>
                    </a:lnTo>
                    <a:lnTo>
                      <a:pt x="31" y="75"/>
                    </a:lnTo>
                    <a:lnTo>
                      <a:pt x="30" y="77"/>
                    </a:lnTo>
                    <a:lnTo>
                      <a:pt x="29" y="79"/>
                    </a:lnTo>
                    <a:lnTo>
                      <a:pt x="27" y="80"/>
                    </a:lnTo>
                    <a:lnTo>
                      <a:pt x="24" y="83"/>
                    </a:lnTo>
                    <a:lnTo>
                      <a:pt x="22" y="83"/>
                    </a:lnTo>
                    <a:lnTo>
                      <a:pt x="21" y="86"/>
                    </a:lnTo>
                    <a:lnTo>
                      <a:pt x="18" y="88"/>
                    </a:lnTo>
                    <a:lnTo>
                      <a:pt x="18" y="89"/>
                    </a:lnTo>
                    <a:lnTo>
                      <a:pt x="16" y="89"/>
                    </a:lnTo>
                    <a:lnTo>
                      <a:pt x="14" y="88"/>
                    </a:lnTo>
                    <a:lnTo>
                      <a:pt x="13" y="88"/>
                    </a:lnTo>
                    <a:lnTo>
                      <a:pt x="12" y="88"/>
                    </a:lnTo>
                    <a:lnTo>
                      <a:pt x="10" y="88"/>
                    </a:lnTo>
                    <a:lnTo>
                      <a:pt x="9" y="88"/>
                    </a:lnTo>
                    <a:lnTo>
                      <a:pt x="7" y="88"/>
                    </a:lnTo>
                    <a:lnTo>
                      <a:pt x="6" y="89"/>
                    </a:lnTo>
                    <a:lnTo>
                      <a:pt x="4" y="89"/>
                    </a:lnTo>
                    <a:lnTo>
                      <a:pt x="4" y="91"/>
                    </a:lnTo>
                    <a:lnTo>
                      <a:pt x="2" y="92"/>
                    </a:lnTo>
                    <a:lnTo>
                      <a:pt x="1" y="95"/>
                    </a:lnTo>
                    <a:lnTo>
                      <a:pt x="0" y="98"/>
                    </a:lnTo>
                    <a:lnTo>
                      <a:pt x="1" y="98"/>
                    </a:lnTo>
                    <a:lnTo>
                      <a:pt x="1" y="99"/>
                    </a:lnTo>
                    <a:lnTo>
                      <a:pt x="1" y="101"/>
                    </a:lnTo>
                    <a:lnTo>
                      <a:pt x="2" y="101"/>
                    </a:lnTo>
                    <a:lnTo>
                      <a:pt x="2" y="102"/>
                    </a:lnTo>
                    <a:lnTo>
                      <a:pt x="4" y="104"/>
                    </a:lnTo>
                    <a:lnTo>
                      <a:pt x="6" y="104"/>
                    </a:lnTo>
                    <a:lnTo>
                      <a:pt x="7" y="104"/>
                    </a:lnTo>
                    <a:lnTo>
                      <a:pt x="9" y="104"/>
                    </a:lnTo>
                    <a:lnTo>
                      <a:pt x="10" y="104"/>
                    </a:lnTo>
                    <a:lnTo>
                      <a:pt x="12" y="104"/>
                    </a:lnTo>
                    <a:lnTo>
                      <a:pt x="10" y="104"/>
                    </a:lnTo>
                    <a:lnTo>
                      <a:pt x="10" y="102"/>
                    </a:lnTo>
                    <a:lnTo>
                      <a:pt x="9" y="102"/>
                    </a:lnTo>
                    <a:lnTo>
                      <a:pt x="7" y="102"/>
                    </a:lnTo>
                    <a:lnTo>
                      <a:pt x="7" y="101"/>
                    </a:lnTo>
                    <a:lnTo>
                      <a:pt x="7" y="99"/>
                    </a:lnTo>
                    <a:lnTo>
                      <a:pt x="9" y="99"/>
                    </a:lnTo>
                    <a:lnTo>
                      <a:pt x="9" y="98"/>
                    </a:lnTo>
                    <a:lnTo>
                      <a:pt x="10" y="98"/>
                    </a:lnTo>
                    <a:lnTo>
                      <a:pt x="12" y="98"/>
                    </a:lnTo>
                    <a:lnTo>
                      <a:pt x="13" y="98"/>
                    </a:lnTo>
                    <a:lnTo>
                      <a:pt x="14" y="99"/>
                    </a:lnTo>
                    <a:lnTo>
                      <a:pt x="14" y="98"/>
                    </a:lnTo>
                    <a:lnTo>
                      <a:pt x="16" y="98"/>
                    </a:lnTo>
                    <a:lnTo>
                      <a:pt x="18" y="99"/>
                    </a:lnTo>
                    <a:lnTo>
                      <a:pt x="18" y="101"/>
                    </a:lnTo>
                    <a:lnTo>
                      <a:pt x="16" y="102"/>
                    </a:lnTo>
                    <a:lnTo>
                      <a:pt x="14" y="102"/>
                    </a:lnTo>
                    <a:lnTo>
                      <a:pt x="14" y="104"/>
                    </a:lnTo>
                    <a:lnTo>
                      <a:pt x="16" y="104"/>
                    </a:lnTo>
                    <a:lnTo>
                      <a:pt x="18" y="104"/>
                    </a:lnTo>
                    <a:lnTo>
                      <a:pt x="18" y="102"/>
                    </a:lnTo>
                    <a:lnTo>
                      <a:pt x="21" y="102"/>
                    </a:lnTo>
                    <a:lnTo>
                      <a:pt x="22" y="102"/>
                    </a:lnTo>
                    <a:lnTo>
                      <a:pt x="24" y="102"/>
                    </a:lnTo>
                    <a:lnTo>
                      <a:pt x="24" y="101"/>
                    </a:lnTo>
                    <a:lnTo>
                      <a:pt x="22" y="99"/>
                    </a:lnTo>
                    <a:lnTo>
                      <a:pt x="22" y="98"/>
                    </a:lnTo>
                    <a:lnTo>
                      <a:pt x="22" y="95"/>
                    </a:lnTo>
                    <a:lnTo>
                      <a:pt x="24" y="98"/>
                    </a:lnTo>
                    <a:lnTo>
                      <a:pt x="25" y="99"/>
                    </a:lnTo>
                    <a:lnTo>
                      <a:pt x="27" y="99"/>
                    </a:lnTo>
                    <a:lnTo>
                      <a:pt x="27" y="101"/>
                    </a:lnTo>
                    <a:lnTo>
                      <a:pt x="29" y="101"/>
                    </a:lnTo>
                    <a:lnTo>
                      <a:pt x="30" y="101"/>
                    </a:lnTo>
                    <a:lnTo>
                      <a:pt x="30" y="99"/>
                    </a:lnTo>
                    <a:lnTo>
                      <a:pt x="31" y="99"/>
                    </a:lnTo>
                    <a:lnTo>
                      <a:pt x="32" y="99"/>
                    </a:lnTo>
                    <a:lnTo>
                      <a:pt x="34" y="99"/>
                    </a:lnTo>
                    <a:lnTo>
                      <a:pt x="35" y="99"/>
                    </a:lnTo>
                    <a:lnTo>
                      <a:pt x="38" y="98"/>
                    </a:lnTo>
                    <a:lnTo>
                      <a:pt x="40" y="95"/>
                    </a:lnTo>
                    <a:lnTo>
                      <a:pt x="42" y="95"/>
                    </a:lnTo>
                    <a:lnTo>
                      <a:pt x="44" y="95"/>
                    </a:lnTo>
                    <a:lnTo>
                      <a:pt x="44" y="92"/>
                    </a:lnTo>
                    <a:lnTo>
                      <a:pt x="47" y="92"/>
                    </a:lnTo>
                    <a:lnTo>
                      <a:pt x="48" y="92"/>
                    </a:lnTo>
                    <a:lnTo>
                      <a:pt x="48" y="95"/>
                    </a:lnTo>
                    <a:lnTo>
                      <a:pt x="49" y="95"/>
                    </a:lnTo>
                    <a:lnTo>
                      <a:pt x="50" y="95"/>
                    </a:lnTo>
                    <a:lnTo>
                      <a:pt x="52" y="95"/>
                    </a:lnTo>
                    <a:lnTo>
                      <a:pt x="55" y="95"/>
                    </a:lnTo>
                    <a:lnTo>
                      <a:pt x="56" y="95"/>
                    </a:lnTo>
                    <a:lnTo>
                      <a:pt x="60" y="95"/>
                    </a:lnTo>
                    <a:lnTo>
                      <a:pt x="62" y="95"/>
                    </a:lnTo>
                    <a:lnTo>
                      <a:pt x="65" y="95"/>
                    </a:lnTo>
                    <a:lnTo>
                      <a:pt x="66" y="98"/>
                    </a:lnTo>
                    <a:lnTo>
                      <a:pt x="69" y="98"/>
                    </a:lnTo>
                    <a:lnTo>
                      <a:pt x="73" y="99"/>
                    </a:lnTo>
                    <a:lnTo>
                      <a:pt x="76" y="99"/>
                    </a:lnTo>
                    <a:lnTo>
                      <a:pt x="78" y="99"/>
                    </a:lnTo>
                    <a:lnTo>
                      <a:pt x="80" y="99"/>
                    </a:lnTo>
                    <a:lnTo>
                      <a:pt x="82" y="99"/>
                    </a:lnTo>
                    <a:lnTo>
                      <a:pt x="82" y="101"/>
                    </a:lnTo>
                    <a:lnTo>
                      <a:pt x="84" y="101"/>
                    </a:lnTo>
                    <a:lnTo>
                      <a:pt x="86" y="101"/>
                    </a:lnTo>
                    <a:lnTo>
                      <a:pt x="84" y="101"/>
                    </a:lnTo>
                    <a:lnTo>
                      <a:pt x="82" y="101"/>
                    </a:lnTo>
                    <a:lnTo>
                      <a:pt x="78" y="101"/>
                    </a:lnTo>
                    <a:lnTo>
                      <a:pt x="76" y="101"/>
                    </a:lnTo>
                    <a:lnTo>
                      <a:pt x="73" y="101"/>
                    </a:lnTo>
                    <a:lnTo>
                      <a:pt x="72" y="101"/>
                    </a:lnTo>
                    <a:lnTo>
                      <a:pt x="69" y="102"/>
                    </a:lnTo>
                    <a:lnTo>
                      <a:pt x="66" y="104"/>
                    </a:lnTo>
                    <a:lnTo>
                      <a:pt x="65" y="104"/>
                    </a:lnTo>
                    <a:lnTo>
                      <a:pt x="62" y="107"/>
                    </a:lnTo>
                    <a:lnTo>
                      <a:pt x="58" y="108"/>
                    </a:lnTo>
                    <a:lnTo>
                      <a:pt x="55" y="109"/>
                    </a:lnTo>
                    <a:lnTo>
                      <a:pt x="54" y="109"/>
                    </a:lnTo>
                    <a:lnTo>
                      <a:pt x="54" y="111"/>
                    </a:lnTo>
                    <a:lnTo>
                      <a:pt x="55" y="111"/>
                    </a:lnTo>
                    <a:lnTo>
                      <a:pt x="56" y="113"/>
                    </a:lnTo>
                    <a:lnTo>
                      <a:pt x="58" y="113"/>
                    </a:lnTo>
                    <a:lnTo>
                      <a:pt x="60" y="114"/>
                    </a:lnTo>
                    <a:lnTo>
                      <a:pt x="62" y="114"/>
                    </a:lnTo>
                    <a:lnTo>
                      <a:pt x="63" y="114"/>
                    </a:lnTo>
                    <a:lnTo>
                      <a:pt x="66" y="113"/>
                    </a:lnTo>
                    <a:lnTo>
                      <a:pt x="67" y="113"/>
                    </a:lnTo>
                    <a:lnTo>
                      <a:pt x="69" y="113"/>
                    </a:lnTo>
                    <a:lnTo>
                      <a:pt x="69" y="111"/>
                    </a:lnTo>
                    <a:lnTo>
                      <a:pt x="67" y="113"/>
                    </a:lnTo>
                    <a:lnTo>
                      <a:pt x="66" y="114"/>
                    </a:lnTo>
                    <a:lnTo>
                      <a:pt x="65" y="114"/>
                    </a:lnTo>
                    <a:lnTo>
                      <a:pt x="63" y="116"/>
                    </a:lnTo>
                    <a:lnTo>
                      <a:pt x="65" y="116"/>
                    </a:lnTo>
                    <a:lnTo>
                      <a:pt x="66" y="116"/>
                    </a:lnTo>
                    <a:lnTo>
                      <a:pt x="67" y="116"/>
                    </a:lnTo>
                    <a:lnTo>
                      <a:pt x="69" y="116"/>
                    </a:lnTo>
                    <a:lnTo>
                      <a:pt x="73" y="114"/>
                    </a:lnTo>
                    <a:lnTo>
                      <a:pt x="78" y="113"/>
                    </a:lnTo>
                    <a:lnTo>
                      <a:pt x="82" y="113"/>
                    </a:lnTo>
                    <a:lnTo>
                      <a:pt x="84" y="111"/>
                    </a:lnTo>
                    <a:lnTo>
                      <a:pt x="86" y="109"/>
                    </a:lnTo>
                    <a:lnTo>
                      <a:pt x="86" y="108"/>
                    </a:lnTo>
                    <a:lnTo>
                      <a:pt x="88" y="108"/>
                    </a:lnTo>
                    <a:lnTo>
                      <a:pt x="90" y="108"/>
                    </a:lnTo>
                    <a:lnTo>
                      <a:pt x="91" y="108"/>
                    </a:lnTo>
                    <a:lnTo>
                      <a:pt x="93" y="108"/>
                    </a:lnTo>
                    <a:lnTo>
                      <a:pt x="96" y="108"/>
                    </a:lnTo>
                    <a:lnTo>
                      <a:pt x="98" y="108"/>
                    </a:lnTo>
                    <a:lnTo>
                      <a:pt x="99" y="108"/>
                    </a:lnTo>
                    <a:lnTo>
                      <a:pt x="101" y="107"/>
                    </a:lnTo>
                    <a:lnTo>
                      <a:pt x="102" y="107"/>
                    </a:lnTo>
                    <a:lnTo>
                      <a:pt x="104" y="107"/>
                    </a:lnTo>
                    <a:lnTo>
                      <a:pt x="104" y="108"/>
                    </a:lnTo>
                    <a:lnTo>
                      <a:pt x="105" y="108"/>
                    </a:lnTo>
                    <a:lnTo>
                      <a:pt x="107" y="109"/>
                    </a:lnTo>
                    <a:lnTo>
                      <a:pt x="108" y="109"/>
                    </a:lnTo>
                    <a:lnTo>
                      <a:pt x="110" y="111"/>
                    </a:lnTo>
                    <a:lnTo>
                      <a:pt x="111" y="111"/>
                    </a:lnTo>
                    <a:lnTo>
                      <a:pt x="113" y="113"/>
                    </a:lnTo>
                    <a:lnTo>
                      <a:pt x="114" y="113"/>
                    </a:lnTo>
                    <a:lnTo>
                      <a:pt x="116" y="114"/>
                    </a:lnTo>
                    <a:lnTo>
                      <a:pt x="118" y="116"/>
                    </a:lnTo>
                    <a:lnTo>
                      <a:pt x="119" y="116"/>
                    </a:lnTo>
                    <a:lnTo>
                      <a:pt x="121" y="118"/>
                    </a:lnTo>
                    <a:lnTo>
                      <a:pt x="122" y="119"/>
                    </a:lnTo>
                    <a:lnTo>
                      <a:pt x="124" y="119"/>
                    </a:lnTo>
                    <a:lnTo>
                      <a:pt x="125" y="121"/>
                    </a:lnTo>
                    <a:lnTo>
                      <a:pt x="125" y="122"/>
                    </a:lnTo>
                    <a:lnTo>
                      <a:pt x="127" y="124"/>
                    </a:lnTo>
                    <a:lnTo>
                      <a:pt x="129" y="125"/>
                    </a:lnTo>
                    <a:lnTo>
                      <a:pt x="129" y="127"/>
                    </a:lnTo>
                    <a:lnTo>
                      <a:pt x="131" y="129"/>
                    </a:lnTo>
                    <a:lnTo>
                      <a:pt x="132" y="129"/>
                    </a:lnTo>
                    <a:lnTo>
                      <a:pt x="132" y="122"/>
                    </a:lnTo>
                    <a:lnTo>
                      <a:pt x="132" y="111"/>
                    </a:lnTo>
                    <a:lnTo>
                      <a:pt x="132" y="102"/>
                    </a:lnTo>
                    <a:lnTo>
                      <a:pt x="132" y="92"/>
                    </a:lnTo>
                    <a:lnTo>
                      <a:pt x="132" y="89"/>
                    </a:lnTo>
                    <a:lnTo>
                      <a:pt x="132" y="88"/>
                    </a:lnTo>
                    <a:lnTo>
                      <a:pt x="134" y="83"/>
                    </a:lnTo>
                    <a:lnTo>
                      <a:pt x="134" y="80"/>
                    </a:lnTo>
                    <a:lnTo>
                      <a:pt x="134" y="79"/>
                    </a:lnTo>
                    <a:lnTo>
                      <a:pt x="134" y="77"/>
                    </a:lnTo>
                    <a:lnTo>
                      <a:pt x="134" y="75"/>
                    </a:lnTo>
                    <a:lnTo>
                      <a:pt x="132" y="74"/>
                    </a:lnTo>
                    <a:lnTo>
                      <a:pt x="131" y="72"/>
                    </a:lnTo>
                    <a:lnTo>
                      <a:pt x="127" y="70"/>
                    </a:lnTo>
                    <a:lnTo>
                      <a:pt x="125" y="70"/>
                    </a:lnTo>
                    <a:lnTo>
                      <a:pt x="124" y="69"/>
                    </a:lnTo>
                    <a:lnTo>
                      <a:pt x="121" y="69"/>
                    </a:lnTo>
                    <a:lnTo>
                      <a:pt x="116" y="67"/>
                    </a:lnTo>
                    <a:lnTo>
                      <a:pt x="116" y="65"/>
                    </a:lnTo>
                    <a:lnTo>
                      <a:pt x="116" y="62"/>
                    </a:lnTo>
                    <a:lnTo>
                      <a:pt x="114" y="57"/>
                    </a:lnTo>
                    <a:lnTo>
                      <a:pt x="113" y="51"/>
                    </a:lnTo>
                    <a:lnTo>
                      <a:pt x="113" y="50"/>
                    </a:lnTo>
                    <a:lnTo>
                      <a:pt x="111" y="50"/>
                    </a:lnTo>
                    <a:lnTo>
                      <a:pt x="110" y="50"/>
                    </a:lnTo>
                    <a:lnTo>
                      <a:pt x="108" y="49"/>
                    </a:lnTo>
                    <a:lnTo>
                      <a:pt x="105" y="49"/>
                    </a:lnTo>
                    <a:lnTo>
                      <a:pt x="102" y="47"/>
                    </a:lnTo>
                    <a:lnTo>
                      <a:pt x="98" y="44"/>
                    </a:lnTo>
                    <a:lnTo>
                      <a:pt x="93" y="41"/>
                    </a:lnTo>
                    <a:lnTo>
                      <a:pt x="90" y="38"/>
                    </a:lnTo>
                    <a:lnTo>
                      <a:pt x="93" y="33"/>
                    </a:lnTo>
                    <a:lnTo>
                      <a:pt x="94" y="28"/>
                    </a:lnTo>
                    <a:lnTo>
                      <a:pt x="96" y="23"/>
                    </a:lnTo>
                    <a:lnTo>
                      <a:pt x="96" y="18"/>
                    </a:lnTo>
                    <a:lnTo>
                      <a:pt x="94" y="13"/>
                    </a:lnTo>
                    <a:lnTo>
                      <a:pt x="93" y="8"/>
                    </a:lnTo>
                    <a:lnTo>
                      <a:pt x="91" y="5"/>
                    </a:lnTo>
                    <a:lnTo>
                      <a:pt x="90" y="4"/>
                    </a:lnTo>
                    <a:lnTo>
                      <a:pt x="86" y="4"/>
                    </a:lnTo>
                    <a:lnTo>
                      <a:pt x="86" y="1"/>
                    </a:lnTo>
                    <a:lnTo>
                      <a:pt x="82" y="0"/>
                    </a:lnTo>
                    <a:lnTo>
                      <a:pt x="80" y="0"/>
                    </a:lnTo>
                    <a:lnTo>
                      <a:pt x="78" y="0"/>
                    </a:lnTo>
                    <a:lnTo>
                      <a:pt x="76" y="0"/>
                    </a:lnTo>
                    <a:lnTo>
                      <a:pt x="72" y="0"/>
                    </a:lnTo>
                    <a:lnTo>
                      <a:pt x="69" y="1"/>
                    </a:lnTo>
                    <a:lnTo>
                      <a:pt x="67" y="4"/>
                    </a:lnTo>
                    <a:lnTo>
                      <a:pt x="66" y="4"/>
                    </a:lnTo>
                    <a:lnTo>
                      <a:pt x="63" y="4"/>
                    </a:lnTo>
                    <a:lnTo>
                      <a:pt x="63" y="5"/>
                    </a:lnTo>
                    <a:lnTo>
                      <a:pt x="62" y="7"/>
                    </a:lnTo>
                    <a:lnTo>
                      <a:pt x="60" y="8"/>
                    </a:lnTo>
                    <a:lnTo>
                      <a:pt x="60" y="10"/>
                    </a:lnTo>
                    <a:lnTo>
                      <a:pt x="58" y="13"/>
                    </a:lnTo>
                    <a:lnTo>
                      <a:pt x="58" y="17"/>
                    </a:lnTo>
                    <a:lnTo>
                      <a:pt x="58" y="18"/>
                    </a:lnTo>
                    <a:lnTo>
                      <a:pt x="58" y="22"/>
                    </a:lnTo>
                    <a:lnTo>
                      <a:pt x="56" y="22"/>
                    </a:lnTo>
                    <a:lnTo>
                      <a:pt x="56" y="23"/>
                    </a:lnTo>
                    <a:lnTo>
                      <a:pt x="56" y="25"/>
                    </a:lnTo>
                    <a:lnTo>
                      <a:pt x="58" y="25"/>
                    </a:lnTo>
                    <a:lnTo>
                      <a:pt x="58" y="26"/>
                    </a:lnTo>
                    <a:lnTo>
                      <a:pt x="56" y="28"/>
                    </a:lnTo>
                    <a:lnTo>
                      <a:pt x="56" y="29"/>
                    </a:lnTo>
                    <a:lnTo>
                      <a:pt x="55" y="31"/>
                    </a:lnTo>
                    <a:lnTo>
                      <a:pt x="55" y="33"/>
                    </a:lnTo>
                    <a:lnTo>
                      <a:pt x="56" y="34"/>
                    </a:lnTo>
                    <a:lnTo>
                      <a:pt x="58" y="34"/>
                    </a:lnTo>
                  </a:path>
                </a:pathLst>
              </a:custGeom>
              <a:gradFill rotWithShape="0">
                <a:gsLst>
                  <a:gs pos="0">
                    <a:srgbClr val="cf0e30"/>
                  </a:gs>
                  <a:gs pos="100000">
                    <a:srgbClr val="3d040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719760" y="1826280"/>
                <a:ext cx="114480" cy="63720"/>
              </a:xfrm>
              <a:custGeom>
                <a:avLst/>
                <a:gdLst/>
                <a:ahLst/>
                <a:rect l="l" t="t" r="r" b="b"/>
                <a:pathLst>
                  <a:path w="70" h="56">
                    <a:moveTo>
                      <a:pt x="10" y="40"/>
                    </a:moveTo>
                    <a:lnTo>
                      <a:pt x="11" y="40"/>
                    </a:lnTo>
                    <a:lnTo>
                      <a:pt x="13" y="40"/>
                    </a:lnTo>
                    <a:lnTo>
                      <a:pt x="15" y="41"/>
                    </a:lnTo>
                    <a:lnTo>
                      <a:pt x="17" y="41"/>
                    </a:lnTo>
                    <a:lnTo>
                      <a:pt x="17" y="40"/>
                    </a:lnTo>
                    <a:lnTo>
                      <a:pt x="19" y="38"/>
                    </a:lnTo>
                    <a:lnTo>
                      <a:pt x="21" y="36"/>
                    </a:lnTo>
                    <a:lnTo>
                      <a:pt x="22" y="36"/>
                    </a:lnTo>
                    <a:lnTo>
                      <a:pt x="25" y="32"/>
                    </a:lnTo>
                    <a:lnTo>
                      <a:pt x="26" y="32"/>
                    </a:lnTo>
                    <a:lnTo>
                      <a:pt x="28" y="30"/>
                    </a:lnTo>
                    <a:lnTo>
                      <a:pt x="29" y="28"/>
                    </a:lnTo>
                    <a:lnTo>
                      <a:pt x="29" y="27"/>
                    </a:lnTo>
                    <a:lnTo>
                      <a:pt x="30" y="27"/>
                    </a:lnTo>
                    <a:lnTo>
                      <a:pt x="30" y="25"/>
                    </a:lnTo>
                    <a:lnTo>
                      <a:pt x="32" y="23"/>
                    </a:lnTo>
                    <a:lnTo>
                      <a:pt x="35" y="19"/>
                    </a:lnTo>
                    <a:lnTo>
                      <a:pt x="36" y="19"/>
                    </a:lnTo>
                    <a:lnTo>
                      <a:pt x="38" y="16"/>
                    </a:lnTo>
                    <a:lnTo>
                      <a:pt x="39" y="13"/>
                    </a:lnTo>
                    <a:lnTo>
                      <a:pt x="41" y="11"/>
                    </a:lnTo>
                    <a:lnTo>
                      <a:pt x="43" y="8"/>
                    </a:lnTo>
                    <a:lnTo>
                      <a:pt x="46" y="5"/>
                    </a:lnTo>
                    <a:lnTo>
                      <a:pt x="47" y="4"/>
                    </a:lnTo>
                    <a:lnTo>
                      <a:pt x="50" y="1"/>
                    </a:lnTo>
                    <a:lnTo>
                      <a:pt x="53" y="1"/>
                    </a:lnTo>
                    <a:lnTo>
                      <a:pt x="55" y="0"/>
                    </a:lnTo>
                    <a:lnTo>
                      <a:pt x="56" y="0"/>
                    </a:lnTo>
                    <a:lnTo>
                      <a:pt x="58" y="0"/>
                    </a:lnTo>
                    <a:lnTo>
                      <a:pt x="59" y="0"/>
                    </a:lnTo>
                    <a:lnTo>
                      <a:pt x="60" y="0"/>
                    </a:lnTo>
                    <a:lnTo>
                      <a:pt x="62" y="0"/>
                    </a:lnTo>
                    <a:lnTo>
                      <a:pt x="63" y="1"/>
                    </a:lnTo>
                    <a:lnTo>
                      <a:pt x="64" y="2"/>
                    </a:lnTo>
                    <a:lnTo>
                      <a:pt x="65" y="4"/>
                    </a:lnTo>
                    <a:lnTo>
                      <a:pt x="67" y="6"/>
                    </a:lnTo>
                    <a:lnTo>
                      <a:pt x="67" y="8"/>
                    </a:lnTo>
                    <a:lnTo>
                      <a:pt x="69" y="8"/>
                    </a:lnTo>
                    <a:lnTo>
                      <a:pt x="69" y="9"/>
                    </a:lnTo>
                    <a:lnTo>
                      <a:pt x="69" y="11"/>
                    </a:lnTo>
                    <a:lnTo>
                      <a:pt x="67" y="13"/>
                    </a:lnTo>
                    <a:lnTo>
                      <a:pt x="62" y="34"/>
                    </a:lnTo>
                    <a:lnTo>
                      <a:pt x="60" y="34"/>
                    </a:lnTo>
                    <a:lnTo>
                      <a:pt x="59" y="32"/>
                    </a:lnTo>
                    <a:lnTo>
                      <a:pt x="58" y="30"/>
                    </a:lnTo>
                    <a:lnTo>
                      <a:pt x="56" y="27"/>
                    </a:lnTo>
                    <a:lnTo>
                      <a:pt x="56" y="23"/>
                    </a:lnTo>
                    <a:lnTo>
                      <a:pt x="55" y="16"/>
                    </a:lnTo>
                    <a:lnTo>
                      <a:pt x="55" y="17"/>
                    </a:lnTo>
                    <a:lnTo>
                      <a:pt x="55" y="19"/>
                    </a:lnTo>
                    <a:lnTo>
                      <a:pt x="55" y="21"/>
                    </a:lnTo>
                    <a:lnTo>
                      <a:pt x="53" y="23"/>
                    </a:lnTo>
                    <a:lnTo>
                      <a:pt x="52" y="24"/>
                    </a:lnTo>
                    <a:lnTo>
                      <a:pt x="50" y="25"/>
                    </a:lnTo>
                    <a:lnTo>
                      <a:pt x="50" y="27"/>
                    </a:lnTo>
                    <a:lnTo>
                      <a:pt x="50" y="28"/>
                    </a:lnTo>
                    <a:lnTo>
                      <a:pt x="50" y="30"/>
                    </a:lnTo>
                    <a:lnTo>
                      <a:pt x="52" y="32"/>
                    </a:lnTo>
                    <a:lnTo>
                      <a:pt x="50" y="32"/>
                    </a:lnTo>
                    <a:lnTo>
                      <a:pt x="49" y="32"/>
                    </a:lnTo>
                    <a:lnTo>
                      <a:pt x="47" y="34"/>
                    </a:lnTo>
                    <a:lnTo>
                      <a:pt x="46" y="34"/>
                    </a:lnTo>
                    <a:lnTo>
                      <a:pt x="45" y="36"/>
                    </a:lnTo>
                    <a:lnTo>
                      <a:pt x="43" y="36"/>
                    </a:lnTo>
                    <a:lnTo>
                      <a:pt x="42" y="36"/>
                    </a:lnTo>
                    <a:lnTo>
                      <a:pt x="41" y="36"/>
                    </a:lnTo>
                    <a:lnTo>
                      <a:pt x="41" y="38"/>
                    </a:lnTo>
                    <a:lnTo>
                      <a:pt x="42" y="38"/>
                    </a:lnTo>
                    <a:lnTo>
                      <a:pt x="43" y="40"/>
                    </a:lnTo>
                    <a:lnTo>
                      <a:pt x="43" y="41"/>
                    </a:lnTo>
                    <a:lnTo>
                      <a:pt x="45" y="41"/>
                    </a:lnTo>
                    <a:lnTo>
                      <a:pt x="43" y="42"/>
                    </a:lnTo>
                    <a:lnTo>
                      <a:pt x="42" y="44"/>
                    </a:lnTo>
                    <a:lnTo>
                      <a:pt x="42" y="46"/>
                    </a:lnTo>
                    <a:lnTo>
                      <a:pt x="41" y="46"/>
                    </a:lnTo>
                    <a:lnTo>
                      <a:pt x="39" y="47"/>
                    </a:lnTo>
                    <a:lnTo>
                      <a:pt x="38" y="47"/>
                    </a:lnTo>
                    <a:lnTo>
                      <a:pt x="36" y="49"/>
                    </a:lnTo>
                    <a:lnTo>
                      <a:pt x="35" y="49"/>
                    </a:lnTo>
                    <a:lnTo>
                      <a:pt x="34" y="50"/>
                    </a:lnTo>
                    <a:lnTo>
                      <a:pt x="32" y="50"/>
                    </a:lnTo>
                    <a:lnTo>
                      <a:pt x="30" y="50"/>
                    </a:lnTo>
                    <a:lnTo>
                      <a:pt x="29" y="50"/>
                    </a:lnTo>
                    <a:lnTo>
                      <a:pt x="28" y="50"/>
                    </a:lnTo>
                    <a:lnTo>
                      <a:pt x="28" y="52"/>
                    </a:lnTo>
                    <a:lnTo>
                      <a:pt x="26" y="52"/>
                    </a:lnTo>
                    <a:lnTo>
                      <a:pt x="25" y="52"/>
                    </a:lnTo>
                    <a:lnTo>
                      <a:pt x="25" y="50"/>
                    </a:lnTo>
                    <a:lnTo>
                      <a:pt x="23" y="50"/>
                    </a:lnTo>
                    <a:lnTo>
                      <a:pt x="22" y="49"/>
                    </a:lnTo>
                    <a:lnTo>
                      <a:pt x="21" y="47"/>
                    </a:lnTo>
                    <a:lnTo>
                      <a:pt x="21" y="49"/>
                    </a:lnTo>
                    <a:lnTo>
                      <a:pt x="21" y="50"/>
                    </a:lnTo>
                    <a:lnTo>
                      <a:pt x="22" y="52"/>
                    </a:lnTo>
                    <a:lnTo>
                      <a:pt x="22" y="53"/>
                    </a:lnTo>
                    <a:lnTo>
                      <a:pt x="21" y="53"/>
                    </a:lnTo>
                    <a:lnTo>
                      <a:pt x="19" y="53"/>
                    </a:lnTo>
                    <a:lnTo>
                      <a:pt x="17" y="53"/>
                    </a:lnTo>
                    <a:lnTo>
                      <a:pt x="17" y="54"/>
                    </a:lnTo>
                    <a:lnTo>
                      <a:pt x="15" y="54"/>
                    </a:lnTo>
                    <a:lnTo>
                      <a:pt x="13" y="54"/>
                    </a:lnTo>
                    <a:lnTo>
                      <a:pt x="13" y="53"/>
                    </a:lnTo>
                    <a:lnTo>
                      <a:pt x="15" y="53"/>
                    </a:lnTo>
                    <a:lnTo>
                      <a:pt x="17" y="52"/>
                    </a:lnTo>
                    <a:lnTo>
                      <a:pt x="17" y="50"/>
                    </a:lnTo>
                    <a:lnTo>
                      <a:pt x="15" y="49"/>
                    </a:lnTo>
                    <a:lnTo>
                      <a:pt x="13" y="49"/>
                    </a:lnTo>
                    <a:lnTo>
                      <a:pt x="13" y="50"/>
                    </a:lnTo>
                    <a:lnTo>
                      <a:pt x="11" y="49"/>
                    </a:lnTo>
                    <a:lnTo>
                      <a:pt x="10" y="49"/>
                    </a:lnTo>
                    <a:lnTo>
                      <a:pt x="8" y="49"/>
                    </a:lnTo>
                    <a:lnTo>
                      <a:pt x="8" y="50"/>
                    </a:lnTo>
                    <a:lnTo>
                      <a:pt x="7" y="50"/>
                    </a:lnTo>
                    <a:lnTo>
                      <a:pt x="7" y="52"/>
                    </a:lnTo>
                    <a:lnTo>
                      <a:pt x="7" y="53"/>
                    </a:lnTo>
                    <a:lnTo>
                      <a:pt x="8" y="53"/>
                    </a:lnTo>
                    <a:lnTo>
                      <a:pt x="10" y="53"/>
                    </a:lnTo>
                    <a:lnTo>
                      <a:pt x="10" y="54"/>
                    </a:lnTo>
                    <a:lnTo>
                      <a:pt x="11" y="54"/>
                    </a:lnTo>
                    <a:lnTo>
                      <a:pt x="11" y="55"/>
                    </a:lnTo>
                    <a:lnTo>
                      <a:pt x="10" y="55"/>
                    </a:lnTo>
                    <a:lnTo>
                      <a:pt x="8" y="55"/>
                    </a:lnTo>
                    <a:lnTo>
                      <a:pt x="7" y="55"/>
                    </a:lnTo>
                    <a:lnTo>
                      <a:pt x="5" y="55"/>
                    </a:lnTo>
                    <a:lnTo>
                      <a:pt x="4" y="55"/>
                    </a:lnTo>
                    <a:lnTo>
                      <a:pt x="4" y="54"/>
                    </a:lnTo>
                    <a:lnTo>
                      <a:pt x="2" y="53"/>
                    </a:lnTo>
                    <a:lnTo>
                      <a:pt x="2" y="52"/>
                    </a:lnTo>
                    <a:lnTo>
                      <a:pt x="1" y="52"/>
                    </a:lnTo>
                    <a:lnTo>
                      <a:pt x="1" y="50"/>
                    </a:lnTo>
                    <a:lnTo>
                      <a:pt x="1" y="49"/>
                    </a:lnTo>
                    <a:lnTo>
                      <a:pt x="0" y="49"/>
                    </a:lnTo>
                    <a:lnTo>
                      <a:pt x="1" y="47"/>
                    </a:lnTo>
                    <a:lnTo>
                      <a:pt x="1" y="46"/>
                    </a:lnTo>
                    <a:lnTo>
                      <a:pt x="2" y="44"/>
                    </a:lnTo>
                    <a:lnTo>
                      <a:pt x="4" y="42"/>
                    </a:lnTo>
                    <a:lnTo>
                      <a:pt x="4" y="41"/>
                    </a:lnTo>
                    <a:lnTo>
                      <a:pt x="5" y="41"/>
                    </a:lnTo>
                    <a:lnTo>
                      <a:pt x="7" y="40"/>
                    </a:lnTo>
                    <a:lnTo>
                      <a:pt x="8" y="40"/>
                    </a:lnTo>
                    <a:lnTo>
                      <a:pt x="10" y="4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 name=""/>
              <p:cNvSpPr/>
              <p:nvPr/>
            </p:nvSpPr>
            <p:spPr>
              <a:xfrm>
                <a:off x="6811200" y="1823040"/>
                <a:ext cx="116280" cy="83160"/>
              </a:xfrm>
              <a:custGeom>
                <a:avLst/>
                <a:gdLst/>
                <a:ahLst/>
                <a:rect l="l" t="t" r="r" b="b"/>
                <a:pathLst>
                  <a:path w="71" h="73">
                    <a:moveTo>
                      <a:pt x="58" y="25"/>
                    </a:moveTo>
                    <a:lnTo>
                      <a:pt x="58" y="23"/>
                    </a:lnTo>
                    <a:lnTo>
                      <a:pt x="58" y="22"/>
                    </a:lnTo>
                    <a:lnTo>
                      <a:pt x="57" y="19"/>
                    </a:lnTo>
                    <a:lnTo>
                      <a:pt x="57" y="18"/>
                    </a:lnTo>
                    <a:lnTo>
                      <a:pt x="56" y="15"/>
                    </a:lnTo>
                    <a:lnTo>
                      <a:pt x="56" y="13"/>
                    </a:lnTo>
                    <a:lnTo>
                      <a:pt x="54" y="12"/>
                    </a:lnTo>
                    <a:lnTo>
                      <a:pt x="52" y="10"/>
                    </a:lnTo>
                    <a:lnTo>
                      <a:pt x="51" y="10"/>
                    </a:lnTo>
                    <a:lnTo>
                      <a:pt x="50" y="8"/>
                    </a:lnTo>
                    <a:lnTo>
                      <a:pt x="47" y="7"/>
                    </a:lnTo>
                    <a:lnTo>
                      <a:pt x="44" y="5"/>
                    </a:lnTo>
                    <a:lnTo>
                      <a:pt x="41" y="3"/>
                    </a:lnTo>
                    <a:lnTo>
                      <a:pt x="40" y="2"/>
                    </a:lnTo>
                    <a:lnTo>
                      <a:pt x="38" y="1"/>
                    </a:lnTo>
                    <a:lnTo>
                      <a:pt x="37" y="0"/>
                    </a:lnTo>
                    <a:lnTo>
                      <a:pt x="35" y="0"/>
                    </a:lnTo>
                    <a:lnTo>
                      <a:pt x="34" y="0"/>
                    </a:lnTo>
                    <a:lnTo>
                      <a:pt x="31" y="1"/>
                    </a:lnTo>
                    <a:lnTo>
                      <a:pt x="30" y="2"/>
                    </a:lnTo>
                    <a:lnTo>
                      <a:pt x="29" y="3"/>
                    </a:lnTo>
                    <a:lnTo>
                      <a:pt x="27" y="3"/>
                    </a:lnTo>
                    <a:lnTo>
                      <a:pt x="24" y="5"/>
                    </a:lnTo>
                    <a:lnTo>
                      <a:pt x="23" y="7"/>
                    </a:lnTo>
                    <a:lnTo>
                      <a:pt x="23" y="10"/>
                    </a:lnTo>
                    <a:lnTo>
                      <a:pt x="24" y="12"/>
                    </a:lnTo>
                    <a:lnTo>
                      <a:pt x="24" y="13"/>
                    </a:lnTo>
                    <a:lnTo>
                      <a:pt x="21" y="15"/>
                    </a:lnTo>
                    <a:lnTo>
                      <a:pt x="23" y="18"/>
                    </a:lnTo>
                    <a:lnTo>
                      <a:pt x="23" y="22"/>
                    </a:lnTo>
                    <a:lnTo>
                      <a:pt x="23" y="30"/>
                    </a:lnTo>
                    <a:lnTo>
                      <a:pt x="21" y="37"/>
                    </a:lnTo>
                    <a:lnTo>
                      <a:pt x="21" y="41"/>
                    </a:lnTo>
                    <a:lnTo>
                      <a:pt x="23" y="42"/>
                    </a:lnTo>
                    <a:lnTo>
                      <a:pt x="23" y="44"/>
                    </a:lnTo>
                    <a:lnTo>
                      <a:pt x="24" y="44"/>
                    </a:lnTo>
                    <a:lnTo>
                      <a:pt x="24" y="45"/>
                    </a:lnTo>
                    <a:lnTo>
                      <a:pt x="26" y="47"/>
                    </a:lnTo>
                    <a:lnTo>
                      <a:pt x="27" y="47"/>
                    </a:lnTo>
                    <a:lnTo>
                      <a:pt x="29" y="49"/>
                    </a:lnTo>
                    <a:lnTo>
                      <a:pt x="30" y="49"/>
                    </a:lnTo>
                    <a:lnTo>
                      <a:pt x="31" y="49"/>
                    </a:lnTo>
                    <a:lnTo>
                      <a:pt x="32" y="47"/>
                    </a:lnTo>
                    <a:lnTo>
                      <a:pt x="34" y="45"/>
                    </a:lnTo>
                    <a:lnTo>
                      <a:pt x="35" y="45"/>
                    </a:lnTo>
                    <a:lnTo>
                      <a:pt x="35" y="44"/>
                    </a:lnTo>
                    <a:lnTo>
                      <a:pt x="34" y="42"/>
                    </a:lnTo>
                    <a:lnTo>
                      <a:pt x="34" y="41"/>
                    </a:lnTo>
                    <a:lnTo>
                      <a:pt x="32" y="41"/>
                    </a:lnTo>
                    <a:lnTo>
                      <a:pt x="32" y="39"/>
                    </a:lnTo>
                    <a:lnTo>
                      <a:pt x="32" y="37"/>
                    </a:lnTo>
                    <a:lnTo>
                      <a:pt x="34" y="36"/>
                    </a:lnTo>
                    <a:lnTo>
                      <a:pt x="35" y="36"/>
                    </a:lnTo>
                    <a:lnTo>
                      <a:pt x="37" y="35"/>
                    </a:lnTo>
                    <a:lnTo>
                      <a:pt x="38" y="35"/>
                    </a:lnTo>
                    <a:lnTo>
                      <a:pt x="38" y="32"/>
                    </a:lnTo>
                    <a:lnTo>
                      <a:pt x="40" y="32"/>
                    </a:lnTo>
                    <a:lnTo>
                      <a:pt x="40" y="30"/>
                    </a:lnTo>
                    <a:lnTo>
                      <a:pt x="40" y="28"/>
                    </a:lnTo>
                    <a:lnTo>
                      <a:pt x="40" y="27"/>
                    </a:lnTo>
                    <a:lnTo>
                      <a:pt x="41" y="27"/>
                    </a:lnTo>
                    <a:lnTo>
                      <a:pt x="41" y="30"/>
                    </a:lnTo>
                    <a:lnTo>
                      <a:pt x="41" y="32"/>
                    </a:lnTo>
                    <a:lnTo>
                      <a:pt x="41" y="36"/>
                    </a:lnTo>
                    <a:lnTo>
                      <a:pt x="40" y="39"/>
                    </a:lnTo>
                    <a:lnTo>
                      <a:pt x="40" y="41"/>
                    </a:lnTo>
                    <a:lnTo>
                      <a:pt x="41" y="42"/>
                    </a:lnTo>
                    <a:lnTo>
                      <a:pt x="40" y="44"/>
                    </a:lnTo>
                    <a:lnTo>
                      <a:pt x="40" y="47"/>
                    </a:lnTo>
                    <a:lnTo>
                      <a:pt x="40" y="51"/>
                    </a:lnTo>
                    <a:lnTo>
                      <a:pt x="40" y="52"/>
                    </a:lnTo>
                    <a:lnTo>
                      <a:pt x="30" y="57"/>
                    </a:lnTo>
                    <a:lnTo>
                      <a:pt x="29" y="57"/>
                    </a:lnTo>
                    <a:lnTo>
                      <a:pt x="27" y="57"/>
                    </a:lnTo>
                    <a:lnTo>
                      <a:pt x="26" y="57"/>
                    </a:lnTo>
                    <a:lnTo>
                      <a:pt x="23" y="57"/>
                    </a:lnTo>
                    <a:lnTo>
                      <a:pt x="21" y="57"/>
                    </a:lnTo>
                    <a:lnTo>
                      <a:pt x="18" y="57"/>
                    </a:lnTo>
                    <a:lnTo>
                      <a:pt x="17" y="57"/>
                    </a:lnTo>
                    <a:lnTo>
                      <a:pt x="15" y="58"/>
                    </a:lnTo>
                    <a:lnTo>
                      <a:pt x="14" y="58"/>
                    </a:lnTo>
                    <a:lnTo>
                      <a:pt x="12" y="60"/>
                    </a:lnTo>
                    <a:lnTo>
                      <a:pt x="10" y="61"/>
                    </a:lnTo>
                    <a:lnTo>
                      <a:pt x="7" y="63"/>
                    </a:lnTo>
                    <a:lnTo>
                      <a:pt x="4" y="64"/>
                    </a:lnTo>
                    <a:lnTo>
                      <a:pt x="1" y="66"/>
                    </a:lnTo>
                    <a:lnTo>
                      <a:pt x="0" y="66"/>
                    </a:lnTo>
                    <a:lnTo>
                      <a:pt x="0" y="67"/>
                    </a:lnTo>
                    <a:lnTo>
                      <a:pt x="1" y="67"/>
                    </a:lnTo>
                    <a:lnTo>
                      <a:pt x="2" y="69"/>
                    </a:lnTo>
                    <a:lnTo>
                      <a:pt x="4" y="69"/>
                    </a:lnTo>
                    <a:lnTo>
                      <a:pt x="5" y="70"/>
                    </a:lnTo>
                    <a:lnTo>
                      <a:pt x="7" y="70"/>
                    </a:lnTo>
                    <a:lnTo>
                      <a:pt x="9" y="70"/>
                    </a:lnTo>
                    <a:lnTo>
                      <a:pt x="12" y="69"/>
                    </a:lnTo>
                    <a:lnTo>
                      <a:pt x="13" y="69"/>
                    </a:lnTo>
                    <a:lnTo>
                      <a:pt x="14" y="69"/>
                    </a:lnTo>
                    <a:lnTo>
                      <a:pt x="14" y="67"/>
                    </a:lnTo>
                    <a:lnTo>
                      <a:pt x="15" y="67"/>
                    </a:lnTo>
                    <a:lnTo>
                      <a:pt x="13" y="69"/>
                    </a:lnTo>
                    <a:lnTo>
                      <a:pt x="12" y="70"/>
                    </a:lnTo>
                    <a:lnTo>
                      <a:pt x="10" y="70"/>
                    </a:lnTo>
                    <a:lnTo>
                      <a:pt x="9" y="72"/>
                    </a:lnTo>
                    <a:lnTo>
                      <a:pt x="10" y="72"/>
                    </a:lnTo>
                    <a:lnTo>
                      <a:pt x="12" y="72"/>
                    </a:lnTo>
                    <a:lnTo>
                      <a:pt x="13" y="72"/>
                    </a:lnTo>
                    <a:lnTo>
                      <a:pt x="15" y="72"/>
                    </a:lnTo>
                    <a:lnTo>
                      <a:pt x="18" y="70"/>
                    </a:lnTo>
                    <a:lnTo>
                      <a:pt x="23" y="69"/>
                    </a:lnTo>
                    <a:lnTo>
                      <a:pt x="26" y="69"/>
                    </a:lnTo>
                    <a:lnTo>
                      <a:pt x="29" y="67"/>
                    </a:lnTo>
                    <a:lnTo>
                      <a:pt x="30" y="66"/>
                    </a:lnTo>
                    <a:lnTo>
                      <a:pt x="31" y="66"/>
                    </a:lnTo>
                    <a:lnTo>
                      <a:pt x="31" y="64"/>
                    </a:lnTo>
                    <a:lnTo>
                      <a:pt x="32" y="64"/>
                    </a:lnTo>
                    <a:lnTo>
                      <a:pt x="34" y="64"/>
                    </a:lnTo>
                    <a:lnTo>
                      <a:pt x="35" y="64"/>
                    </a:lnTo>
                    <a:lnTo>
                      <a:pt x="37" y="64"/>
                    </a:lnTo>
                    <a:lnTo>
                      <a:pt x="40" y="64"/>
                    </a:lnTo>
                    <a:lnTo>
                      <a:pt x="41" y="64"/>
                    </a:lnTo>
                    <a:lnTo>
                      <a:pt x="43" y="64"/>
                    </a:lnTo>
                    <a:lnTo>
                      <a:pt x="44" y="63"/>
                    </a:lnTo>
                    <a:lnTo>
                      <a:pt x="44" y="61"/>
                    </a:lnTo>
                    <a:lnTo>
                      <a:pt x="44" y="60"/>
                    </a:lnTo>
                    <a:lnTo>
                      <a:pt x="46" y="58"/>
                    </a:lnTo>
                    <a:lnTo>
                      <a:pt x="47" y="60"/>
                    </a:lnTo>
                    <a:lnTo>
                      <a:pt x="48" y="60"/>
                    </a:lnTo>
                    <a:lnTo>
                      <a:pt x="50" y="60"/>
                    </a:lnTo>
                    <a:lnTo>
                      <a:pt x="51" y="60"/>
                    </a:lnTo>
                    <a:lnTo>
                      <a:pt x="52" y="60"/>
                    </a:lnTo>
                    <a:lnTo>
                      <a:pt x="54" y="58"/>
                    </a:lnTo>
                    <a:lnTo>
                      <a:pt x="54" y="57"/>
                    </a:lnTo>
                    <a:lnTo>
                      <a:pt x="54" y="54"/>
                    </a:lnTo>
                    <a:lnTo>
                      <a:pt x="54" y="51"/>
                    </a:lnTo>
                    <a:lnTo>
                      <a:pt x="54" y="49"/>
                    </a:lnTo>
                    <a:lnTo>
                      <a:pt x="54" y="45"/>
                    </a:lnTo>
                    <a:lnTo>
                      <a:pt x="54" y="42"/>
                    </a:lnTo>
                    <a:lnTo>
                      <a:pt x="54" y="41"/>
                    </a:lnTo>
                    <a:lnTo>
                      <a:pt x="56" y="41"/>
                    </a:lnTo>
                    <a:lnTo>
                      <a:pt x="56" y="39"/>
                    </a:lnTo>
                    <a:lnTo>
                      <a:pt x="57" y="39"/>
                    </a:lnTo>
                    <a:lnTo>
                      <a:pt x="57" y="37"/>
                    </a:lnTo>
                    <a:lnTo>
                      <a:pt x="58" y="37"/>
                    </a:lnTo>
                    <a:lnTo>
                      <a:pt x="60" y="37"/>
                    </a:lnTo>
                    <a:lnTo>
                      <a:pt x="62" y="39"/>
                    </a:lnTo>
                    <a:lnTo>
                      <a:pt x="63" y="39"/>
                    </a:lnTo>
                    <a:lnTo>
                      <a:pt x="65" y="39"/>
                    </a:lnTo>
                    <a:lnTo>
                      <a:pt x="66" y="41"/>
                    </a:lnTo>
                    <a:lnTo>
                      <a:pt x="67" y="41"/>
                    </a:lnTo>
                    <a:lnTo>
                      <a:pt x="68" y="41"/>
                    </a:lnTo>
                    <a:lnTo>
                      <a:pt x="68" y="39"/>
                    </a:lnTo>
                    <a:lnTo>
                      <a:pt x="70" y="39"/>
                    </a:lnTo>
                    <a:lnTo>
                      <a:pt x="70" y="37"/>
                    </a:lnTo>
                    <a:lnTo>
                      <a:pt x="68" y="36"/>
                    </a:lnTo>
                    <a:lnTo>
                      <a:pt x="67" y="36"/>
                    </a:lnTo>
                    <a:lnTo>
                      <a:pt x="65" y="36"/>
                    </a:lnTo>
                    <a:lnTo>
                      <a:pt x="63" y="36"/>
                    </a:lnTo>
                    <a:lnTo>
                      <a:pt x="62" y="35"/>
                    </a:lnTo>
                    <a:lnTo>
                      <a:pt x="60" y="35"/>
                    </a:lnTo>
                    <a:lnTo>
                      <a:pt x="58" y="35"/>
                    </a:lnTo>
                    <a:lnTo>
                      <a:pt x="58" y="25"/>
                    </a:ln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4" name=""/>
              <p:cNvSpPr/>
              <p:nvPr/>
            </p:nvSpPr>
            <p:spPr>
              <a:xfrm>
                <a:off x="6819480" y="1783080"/>
                <a:ext cx="41040" cy="38520"/>
              </a:xfrm>
              <a:custGeom>
                <a:avLst/>
                <a:gdLst/>
                <a:ahLst/>
                <a:rect l="l" t="t" r="r" b="b"/>
                <a:pathLst>
                  <a:path w="25" h="34">
                    <a:moveTo>
                      <a:pt x="20" y="21"/>
                    </a:moveTo>
                    <a:lnTo>
                      <a:pt x="21" y="21"/>
                    </a:lnTo>
                    <a:lnTo>
                      <a:pt x="21" y="19"/>
                    </a:lnTo>
                    <a:lnTo>
                      <a:pt x="21" y="18"/>
                    </a:lnTo>
                    <a:lnTo>
                      <a:pt x="22" y="17"/>
                    </a:lnTo>
                    <a:lnTo>
                      <a:pt x="22" y="15"/>
                    </a:lnTo>
                    <a:lnTo>
                      <a:pt x="22" y="14"/>
                    </a:lnTo>
                    <a:lnTo>
                      <a:pt x="21" y="13"/>
                    </a:lnTo>
                    <a:lnTo>
                      <a:pt x="20" y="13"/>
                    </a:lnTo>
                    <a:lnTo>
                      <a:pt x="17" y="13"/>
                    </a:lnTo>
                    <a:lnTo>
                      <a:pt x="16" y="13"/>
                    </a:lnTo>
                    <a:lnTo>
                      <a:pt x="16" y="14"/>
                    </a:lnTo>
                    <a:lnTo>
                      <a:pt x="16" y="15"/>
                    </a:lnTo>
                    <a:lnTo>
                      <a:pt x="14" y="15"/>
                    </a:lnTo>
                    <a:lnTo>
                      <a:pt x="12" y="15"/>
                    </a:lnTo>
                    <a:lnTo>
                      <a:pt x="12" y="14"/>
                    </a:lnTo>
                    <a:lnTo>
                      <a:pt x="10" y="14"/>
                    </a:lnTo>
                    <a:lnTo>
                      <a:pt x="10" y="13"/>
                    </a:lnTo>
                    <a:lnTo>
                      <a:pt x="9" y="12"/>
                    </a:lnTo>
                    <a:lnTo>
                      <a:pt x="9" y="10"/>
                    </a:lnTo>
                    <a:lnTo>
                      <a:pt x="8" y="10"/>
                    </a:lnTo>
                    <a:lnTo>
                      <a:pt x="8" y="8"/>
                    </a:lnTo>
                    <a:lnTo>
                      <a:pt x="8" y="4"/>
                    </a:lnTo>
                    <a:lnTo>
                      <a:pt x="8" y="2"/>
                    </a:lnTo>
                    <a:lnTo>
                      <a:pt x="7" y="0"/>
                    </a:lnTo>
                    <a:lnTo>
                      <a:pt x="6" y="0"/>
                    </a:lnTo>
                    <a:lnTo>
                      <a:pt x="5" y="0"/>
                    </a:lnTo>
                    <a:lnTo>
                      <a:pt x="4" y="2"/>
                    </a:lnTo>
                    <a:lnTo>
                      <a:pt x="2" y="4"/>
                    </a:lnTo>
                    <a:lnTo>
                      <a:pt x="1" y="4"/>
                    </a:lnTo>
                    <a:lnTo>
                      <a:pt x="1" y="6"/>
                    </a:lnTo>
                    <a:lnTo>
                      <a:pt x="1" y="8"/>
                    </a:lnTo>
                    <a:lnTo>
                      <a:pt x="1" y="10"/>
                    </a:lnTo>
                    <a:lnTo>
                      <a:pt x="1" y="12"/>
                    </a:lnTo>
                    <a:lnTo>
                      <a:pt x="2" y="12"/>
                    </a:lnTo>
                    <a:lnTo>
                      <a:pt x="4" y="12"/>
                    </a:lnTo>
                    <a:lnTo>
                      <a:pt x="5" y="12"/>
                    </a:lnTo>
                    <a:lnTo>
                      <a:pt x="6" y="13"/>
                    </a:lnTo>
                    <a:lnTo>
                      <a:pt x="7" y="14"/>
                    </a:lnTo>
                    <a:lnTo>
                      <a:pt x="12" y="14"/>
                    </a:lnTo>
                    <a:lnTo>
                      <a:pt x="12" y="15"/>
                    </a:lnTo>
                    <a:lnTo>
                      <a:pt x="7" y="14"/>
                    </a:lnTo>
                    <a:lnTo>
                      <a:pt x="6" y="15"/>
                    </a:lnTo>
                    <a:lnTo>
                      <a:pt x="6" y="17"/>
                    </a:lnTo>
                    <a:lnTo>
                      <a:pt x="6" y="18"/>
                    </a:lnTo>
                    <a:lnTo>
                      <a:pt x="5" y="18"/>
                    </a:lnTo>
                    <a:lnTo>
                      <a:pt x="4" y="18"/>
                    </a:lnTo>
                    <a:lnTo>
                      <a:pt x="2" y="18"/>
                    </a:lnTo>
                    <a:lnTo>
                      <a:pt x="2" y="17"/>
                    </a:lnTo>
                    <a:lnTo>
                      <a:pt x="1" y="17"/>
                    </a:lnTo>
                    <a:lnTo>
                      <a:pt x="1" y="15"/>
                    </a:lnTo>
                    <a:lnTo>
                      <a:pt x="0" y="14"/>
                    </a:lnTo>
                    <a:lnTo>
                      <a:pt x="0" y="18"/>
                    </a:lnTo>
                    <a:lnTo>
                      <a:pt x="1" y="18"/>
                    </a:lnTo>
                    <a:lnTo>
                      <a:pt x="2" y="18"/>
                    </a:lnTo>
                    <a:lnTo>
                      <a:pt x="4" y="19"/>
                    </a:lnTo>
                    <a:lnTo>
                      <a:pt x="4" y="21"/>
                    </a:lnTo>
                    <a:lnTo>
                      <a:pt x="5" y="22"/>
                    </a:lnTo>
                    <a:lnTo>
                      <a:pt x="4" y="22"/>
                    </a:lnTo>
                    <a:lnTo>
                      <a:pt x="2" y="22"/>
                    </a:lnTo>
                    <a:lnTo>
                      <a:pt x="1" y="22"/>
                    </a:lnTo>
                    <a:lnTo>
                      <a:pt x="0" y="22"/>
                    </a:lnTo>
                    <a:lnTo>
                      <a:pt x="1" y="27"/>
                    </a:lnTo>
                    <a:lnTo>
                      <a:pt x="2" y="28"/>
                    </a:lnTo>
                    <a:lnTo>
                      <a:pt x="2" y="29"/>
                    </a:lnTo>
                    <a:lnTo>
                      <a:pt x="4" y="29"/>
                    </a:lnTo>
                    <a:lnTo>
                      <a:pt x="5" y="29"/>
                    </a:lnTo>
                    <a:lnTo>
                      <a:pt x="6" y="29"/>
                    </a:lnTo>
                    <a:lnTo>
                      <a:pt x="7" y="29"/>
                    </a:lnTo>
                    <a:lnTo>
                      <a:pt x="8" y="31"/>
                    </a:lnTo>
                    <a:lnTo>
                      <a:pt x="9" y="31"/>
                    </a:lnTo>
                    <a:lnTo>
                      <a:pt x="10" y="31"/>
                    </a:lnTo>
                    <a:lnTo>
                      <a:pt x="12" y="33"/>
                    </a:lnTo>
                    <a:lnTo>
                      <a:pt x="14" y="33"/>
                    </a:lnTo>
                    <a:lnTo>
                      <a:pt x="16" y="33"/>
                    </a:lnTo>
                    <a:lnTo>
                      <a:pt x="17" y="31"/>
                    </a:lnTo>
                    <a:lnTo>
                      <a:pt x="20" y="31"/>
                    </a:lnTo>
                    <a:lnTo>
                      <a:pt x="21" y="29"/>
                    </a:lnTo>
                    <a:lnTo>
                      <a:pt x="22" y="28"/>
                    </a:lnTo>
                    <a:lnTo>
                      <a:pt x="23" y="27"/>
                    </a:lnTo>
                    <a:lnTo>
                      <a:pt x="24" y="27"/>
                    </a:lnTo>
                    <a:lnTo>
                      <a:pt x="20" y="21"/>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25" name=""/>
              <p:cNvSpPr/>
              <p:nvPr/>
            </p:nvSpPr>
            <p:spPr>
              <a:xfrm>
                <a:off x="6854040" y="1812600"/>
                <a:ext cx="27720" cy="19080"/>
              </a:xfrm>
              <a:custGeom>
                <a:avLst/>
                <a:gdLst/>
                <a:ahLst/>
                <a:rect l="l" t="t" r="r" b="b"/>
                <a:pathLst>
                  <a:path w="17" h="17">
                    <a:moveTo>
                      <a:pt x="16" y="0"/>
                    </a:moveTo>
                    <a:lnTo>
                      <a:pt x="12" y="4"/>
                    </a:lnTo>
                    <a:lnTo>
                      <a:pt x="9" y="16"/>
                    </a:lnTo>
                    <a:lnTo>
                      <a:pt x="4" y="16"/>
                    </a:lnTo>
                    <a:lnTo>
                      <a:pt x="0" y="4"/>
                    </a:lnTo>
                  </a:path>
                </a:pathLst>
              </a:custGeom>
              <a:no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6754320" y="1885680"/>
                <a:ext cx="27720" cy="19080"/>
              </a:xfrm>
              <a:custGeom>
                <a:avLst/>
                <a:gdLst/>
                <a:ahLst/>
                <a:rect l="l" t="t" r="r" b="b"/>
                <a:pathLst>
                  <a:path w="17" h="17">
                    <a:moveTo>
                      <a:pt x="0" y="0"/>
                    </a:moveTo>
                    <a:lnTo>
                      <a:pt x="0" y="3"/>
                    </a:lnTo>
                    <a:lnTo>
                      <a:pt x="16" y="3"/>
                    </a:lnTo>
                    <a:lnTo>
                      <a:pt x="16" y="9"/>
                    </a:lnTo>
                    <a:lnTo>
                      <a:pt x="16" y="16"/>
                    </a:lnTo>
                    <a:lnTo>
                      <a:pt x="16" y="9"/>
                    </a:lnTo>
                    <a:lnTo>
                      <a:pt x="16" y="3"/>
                    </a:lnTo>
                    <a:lnTo>
                      <a:pt x="16" y="0"/>
                    </a:lnTo>
                    <a:lnTo>
                      <a:pt x="0" y="0"/>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6744600" y="1878840"/>
                <a:ext cx="27720" cy="19080"/>
              </a:xfrm>
              <a:custGeom>
                <a:avLst/>
                <a:gdLst/>
                <a:ahLst/>
                <a:rect l="l" t="t" r="r" b="b"/>
                <a:pathLst>
                  <a:path w="17" h="17">
                    <a:moveTo>
                      <a:pt x="16" y="16"/>
                    </a:moveTo>
                    <a:lnTo>
                      <a:pt x="12" y="16"/>
                    </a:lnTo>
                    <a:lnTo>
                      <a:pt x="6" y="16"/>
                    </a:lnTo>
                    <a:lnTo>
                      <a:pt x="0" y="16"/>
                    </a:lnTo>
                    <a:lnTo>
                      <a:pt x="0" y="0"/>
                    </a:lnTo>
                    <a:lnTo>
                      <a:pt x="6" y="0"/>
                    </a:lnTo>
                    <a:lnTo>
                      <a:pt x="6" y="16"/>
                    </a:lnTo>
                    <a:lnTo>
                      <a:pt x="12" y="16"/>
                    </a:lnTo>
                    <a:lnTo>
                      <a:pt x="16"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8" name=""/>
              <p:cNvSpPr/>
              <p:nvPr/>
            </p:nvSpPr>
            <p:spPr>
              <a:xfrm>
                <a:off x="6664320" y="1858320"/>
                <a:ext cx="27720" cy="28440"/>
              </a:xfrm>
              <a:custGeom>
                <a:avLst/>
                <a:gdLst/>
                <a:ahLst/>
                <a:rect l="l" t="t" r="r" b="b"/>
                <a:pathLst>
                  <a:path w="17" h="25">
                    <a:moveTo>
                      <a:pt x="9" y="7"/>
                    </a:moveTo>
                    <a:lnTo>
                      <a:pt x="6" y="11"/>
                    </a:lnTo>
                    <a:lnTo>
                      <a:pt x="4" y="11"/>
                    </a:lnTo>
                    <a:lnTo>
                      <a:pt x="4" y="12"/>
                    </a:lnTo>
                    <a:lnTo>
                      <a:pt x="3" y="14"/>
                    </a:lnTo>
                    <a:lnTo>
                      <a:pt x="1" y="14"/>
                    </a:lnTo>
                    <a:lnTo>
                      <a:pt x="1" y="16"/>
                    </a:lnTo>
                    <a:lnTo>
                      <a:pt x="0" y="17"/>
                    </a:lnTo>
                    <a:lnTo>
                      <a:pt x="0" y="19"/>
                    </a:lnTo>
                    <a:lnTo>
                      <a:pt x="1" y="19"/>
                    </a:lnTo>
                    <a:lnTo>
                      <a:pt x="1" y="20"/>
                    </a:lnTo>
                    <a:lnTo>
                      <a:pt x="0" y="20"/>
                    </a:lnTo>
                    <a:lnTo>
                      <a:pt x="0" y="22"/>
                    </a:lnTo>
                    <a:lnTo>
                      <a:pt x="1" y="22"/>
                    </a:lnTo>
                    <a:lnTo>
                      <a:pt x="1" y="23"/>
                    </a:lnTo>
                    <a:lnTo>
                      <a:pt x="3" y="23"/>
                    </a:lnTo>
                    <a:lnTo>
                      <a:pt x="3" y="24"/>
                    </a:lnTo>
                    <a:lnTo>
                      <a:pt x="4" y="23"/>
                    </a:lnTo>
                    <a:lnTo>
                      <a:pt x="6" y="22"/>
                    </a:lnTo>
                    <a:lnTo>
                      <a:pt x="9" y="22"/>
                    </a:lnTo>
                    <a:lnTo>
                      <a:pt x="9" y="20"/>
                    </a:lnTo>
                    <a:lnTo>
                      <a:pt x="10" y="19"/>
                    </a:lnTo>
                    <a:lnTo>
                      <a:pt x="11" y="19"/>
                    </a:lnTo>
                    <a:lnTo>
                      <a:pt x="13" y="17"/>
                    </a:lnTo>
                    <a:lnTo>
                      <a:pt x="13" y="16"/>
                    </a:lnTo>
                    <a:lnTo>
                      <a:pt x="14" y="16"/>
                    </a:lnTo>
                    <a:lnTo>
                      <a:pt x="14" y="14"/>
                    </a:lnTo>
                    <a:lnTo>
                      <a:pt x="16" y="12"/>
                    </a:lnTo>
                    <a:lnTo>
                      <a:pt x="16" y="11"/>
                    </a:lnTo>
                    <a:lnTo>
                      <a:pt x="14" y="9"/>
                    </a:lnTo>
                    <a:lnTo>
                      <a:pt x="13" y="7"/>
                    </a:lnTo>
                    <a:lnTo>
                      <a:pt x="11" y="5"/>
                    </a:lnTo>
                    <a:lnTo>
                      <a:pt x="10" y="5"/>
                    </a:lnTo>
                    <a:lnTo>
                      <a:pt x="10" y="4"/>
                    </a:lnTo>
                    <a:lnTo>
                      <a:pt x="10" y="2"/>
                    </a:lnTo>
                    <a:lnTo>
                      <a:pt x="10" y="1"/>
                    </a:lnTo>
                    <a:lnTo>
                      <a:pt x="9" y="1"/>
                    </a:lnTo>
                    <a:lnTo>
                      <a:pt x="9" y="0"/>
                    </a:lnTo>
                    <a:lnTo>
                      <a:pt x="9" y="1"/>
                    </a:lnTo>
                    <a:lnTo>
                      <a:pt x="6" y="2"/>
                    </a:lnTo>
                    <a:lnTo>
                      <a:pt x="6" y="4"/>
                    </a:lnTo>
                    <a:lnTo>
                      <a:pt x="6" y="7"/>
                    </a:lnTo>
                    <a:lnTo>
                      <a:pt x="9" y="7"/>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9" name=""/>
              <p:cNvSpPr/>
              <p:nvPr/>
            </p:nvSpPr>
            <p:spPr>
              <a:xfrm>
                <a:off x="6664320" y="1858320"/>
                <a:ext cx="35640" cy="37440"/>
              </a:xfrm>
              <a:custGeom>
                <a:avLst/>
                <a:gdLst/>
                <a:ahLst/>
                <a:rect l="l" t="t" r="r" b="b"/>
                <a:pathLst>
                  <a:path w="22" h="33">
                    <a:moveTo>
                      <a:pt x="11" y="10"/>
                    </a:moveTo>
                    <a:lnTo>
                      <a:pt x="9" y="14"/>
                    </a:lnTo>
                    <a:lnTo>
                      <a:pt x="8" y="14"/>
                    </a:lnTo>
                    <a:lnTo>
                      <a:pt x="5" y="16"/>
                    </a:lnTo>
                    <a:lnTo>
                      <a:pt x="4" y="18"/>
                    </a:lnTo>
                    <a:lnTo>
                      <a:pt x="1" y="20"/>
                    </a:lnTo>
                    <a:lnTo>
                      <a:pt x="1" y="21"/>
                    </a:lnTo>
                    <a:lnTo>
                      <a:pt x="0" y="24"/>
                    </a:lnTo>
                    <a:lnTo>
                      <a:pt x="0" y="25"/>
                    </a:lnTo>
                    <a:lnTo>
                      <a:pt x="1" y="25"/>
                    </a:lnTo>
                    <a:lnTo>
                      <a:pt x="1" y="27"/>
                    </a:lnTo>
                    <a:lnTo>
                      <a:pt x="0" y="27"/>
                    </a:lnTo>
                    <a:lnTo>
                      <a:pt x="0" y="29"/>
                    </a:lnTo>
                    <a:lnTo>
                      <a:pt x="1" y="29"/>
                    </a:lnTo>
                    <a:lnTo>
                      <a:pt x="1" y="31"/>
                    </a:lnTo>
                    <a:lnTo>
                      <a:pt x="4" y="31"/>
                    </a:lnTo>
                    <a:lnTo>
                      <a:pt x="4" y="32"/>
                    </a:lnTo>
                    <a:lnTo>
                      <a:pt x="5" y="31"/>
                    </a:lnTo>
                    <a:lnTo>
                      <a:pt x="8" y="31"/>
                    </a:lnTo>
                    <a:lnTo>
                      <a:pt x="9" y="29"/>
                    </a:lnTo>
                    <a:lnTo>
                      <a:pt x="11" y="29"/>
                    </a:lnTo>
                    <a:lnTo>
                      <a:pt x="12" y="27"/>
                    </a:lnTo>
                    <a:lnTo>
                      <a:pt x="14" y="25"/>
                    </a:lnTo>
                    <a:lnTo>
                      <a:pt x="16" y="25"/>
                    </a:lnTo>
                    <a:lnTo>
                      <a:pt x="18" y="24"/>
                    </a:lnTo>
                    <a:lnTo>
                      <a:pt x="18" y="21"/>
                    </a:lnTo>
                    <a:lnTo>
                      <a:pt x="19" y="21"/>
                    </a:lnTo>
                    <a:lnTo>
                      <a:pt x="19" y="18"/>
                    </a:lnTo>
                    <a:lnTo>
                      <a:pt x="21" y="16"/>
                    </a:lnTo>
                    <a:lnTo>
                      <a:pt x="21" y="14"/>
                    </a:lnTo>
                    <a:lnTo>
                      <a:pt x="19" y="12"/>
                    </a:lnTo>
                    <a:lnTo>
                      <a:pt x="18" y="10"/>
                    </a:lnTo>
                    <a:lnTo>
                      <a:pt x="18" y="9"/>
                    </a:lnTo>
                    <a:lnTo>
                      <a:pt x="16" y="7"/>
                    </a:lnTo>
                    <a:lnTo>
                      <a:pt x="14" y="7"/>
                    </a:lnTo>
                    <a:lnTo>
                      <a:pt x="14" y="5"/>
                    </a:lnTo>
                    <a:lnTo>
                      <a:pt x="14" y="4"/>
                    </a:lnTo>
                    <a:lnTo>
                      <a:pt x="14" y="2"/>
                    </a:lnTo>
                    <a:lnTo>
                      <a:pt x="12" y="2"/>
                    </a:lnTo>
                    <a:lnTo>
                      <a:pt x="12" y="0"/>
                    </a:lnTo>
                    <a:lnTo>
                      <a:pt x="11" y="2"/>
                    </a:lnTo>
                    <a:lnTo>
                      <a:pt x="9" y="4"/>
                    </a:lnTo>
                    <a:lnTo>
                      <a:pt x="9" y="5"/>
                    </a:lnTo>
                    <a:lnTo>
                      <a:pt x="9" y="9"/>
                    </a:lnTo>
                    <a:lnTo>
                      <a:pt x="11" y="10"/>
                    </a:lnTo>
                  </a:path>
                </a:pathLst>
              </a:custGeom>
              <a:no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0" name=""/>
              <p:cNvSpPr/>
              <p:nvPr/>
            </p:nvSpPr>
            <p:spPr>
              <a:xfrm>
                <a:off x="6598800" y="1876320"/>
                <a:ext cx="37800" cy="19080"/>
              </a:xfrm>
              <a:custGeom>
                <a:avLst/>
                <a:gdLst/>
                <a:ahLst/>
                <a:rect l="l" t="t" r="r" b="b"/>
                <a:pathLst>
                  <a:path w="23" h="17">
                    <a:moveTo>
                      <a:pt x="4" y="0"/>
                    </a:moveTo>
                    <a:lnTo>
                      <a:pt x="6" y="0"/>
                    </a:lnTo>
                    <a:lnTo>
                      <a:pt x="9" y="0"/>
                    </a:lnTo>
                    <a:lnTo>
                      <a:pt x="10" y="0"/>
                    </a:lnTo>
                    <a:lnTo>
                      <a:pt x="13" y="0"/>
                    </a:lnTo>
                    <a:lnTo>
                      <a:pt x="15" y="1"/>
                    </a:lnTo>
                    <a:lnTo>
                      <a:pt x="16" y="2"/>
                    </a:lnTo>
                    <a:lnTo>
                      <a:pt x="17" y="2"/>
                    </a:lnTo>
                    <a:lnTo>
                      <a:pt x="19" y="4"/>
                    </a:lnTo>
                    <a:lnTo>
                      <a:pt x="20" y="5"/>
                    </a:lnTo>
                    <a:lnTo>
                      <a:pt x="20" y="8"/>
                    </a:lnTo>
                    <a:lnTo>
                      <a:pt x="22" y="10"/>
                    </a:lnTo>
                    <a:lnTo>
                      <a:pt x="22" y="11"/>
                    </a:lnTo>
                    <a:lnTo>
                      <a:pt x="20" y="13"/>
                    </a:lnTo>
                    <a:lnTo>
                      <a:pt x="19" y="13"/>
                    </a:lnTo>
                    <a:lnTo>
                      <a:pt x="17" y="13"/>
                    </a:lnTo>
                    <a:lnTo>
                      <a:pt x="16" y="13"/>
                    </a:lnTo>
                    <a:lnTo>
                      <a:pt x="15" y="13"/>
                    </a:lnTo>
                    <a:lnTo>
                      <a:pt x="13" y="13"/>
                    </a:lnTo>
                    <a:lnTo>
                      <a:pt x="13" y="11"/>
                    </a:lnTo>
                    <a:lnTo>
                      <a:pt x="11" y="11"/>
                    </a:lnTo>
                    <a:lnTo>
                      <a:pt x="10" y="11"/>
                    </a:lnTo>
                    <a:lnTo>
                      <a:pt x="10" y="10"/>
                    </a:lnTo>
                    <a:lnTo>
                      <a:pt x="10" y="11"/>
                    </a:lnTo>
                    <a:lnTo>
                      <a:pt x="11" y="13"/>
                    </a:lnTo>
                    <a:lnTo>
                      <a:pt x="11" y="14"/>
                    </a:lnTo>
                    <a:lnTo>
                      <a:pt x="11" y="16"/>
                    </a:lnTo>
                    <a:lnTo>
                      <a:pt x="10" y="16"/>
                    </a:lnTo>
                    <a:lnTo>
                      <a:pt x="9" y="14"/>
                    </a:lnTo>
                    <a:lnTo>
                      <a:pt x="9" y="13"/>
                    </a:lnTo>
                    <a:lnTo>
                      <a:pt x="8" y="13"/>
                    </a:lnTo>
                    <a:lnTo>
                      <a:pt x="8" y="11"/>
                    </a:lnTo>
                    <a:lnTo>
                      <a:pt x="6" y="10"/>
                    </a:lnTo>
                    <a:lnTo>
                      <a:pt x="0" y="8"/>
                    </a:lnTo>
                    <a:lnTo>
                      <a:pt x="0" y="5"/>
                    </a:lnTo>
                    <a:lnTo>
                      <a:pt x="0" y="4"/>
                    </a:lnTo>
                    <a:lnTo>
                      <a:pt x="0" y="2"/>
                    </a:lnTo>
                    <a:lnTo>
                      <a:pt x="2" y="1"/>
                    </a:lnTo>
                    <a:lnTo>
                      <a:pt x="4"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6598800" y="1876320"/>
                <a:ext cx="48960" cy="23040"/>
              </a:xfrm>
              <a:custGeom>
                <a:avLst/>
                <a:gdLst/>
                <a:ahLst/>
                <a:rect l="l" t="t" r="r" b="b"/>
                <a:pathLst>
                  <a:path w="30" h="20">
                    <a:moveTo>
                      <a:pt x="4" y="0"/>
                    </a:moveTo>
                    <a:lnTo>
                      <a:pt x="5" y="0"/>
                    </a:lnTo>
                    <a:lnTo>
                      <a:pt x="7" y="0"/>
                    </a:lnTo>
                    <a:lnTo>
                      <a:pt x="8" y="0"/>
                    </a:lnTo>
                    <a:lnTo>
                      <a:pt x="12" y="0"/>
                    </a:lnTo>
                    <a:lnTo>
                      <a:pt x="17" y="0"/>
                    </a:lnTo>
                    <a:lnTo>
                      <a:pt x="18" y="0"/>
                    </a:lnTo>
                    <a:lnTo>
                      <a:pt x="20" y="2"/>
                    </a:lnTo>
                    <a:lnTo>
                      <a:pt x="21" y="3"/>
                    </a:lnTo>
                    <a:lnTo>
                      <a:pt x="23" y="4"/>
                    </a:lnTo>
                    <a:lnTo>
                      <a:pt x="25" y="6"/>
                    </a:lnTo>
                    <a:lnTo>
                      <a:pt x="26" y="8"/>
                    </a:lnTo>
                    <a:lnTo>
                      <a:pt x="27" y="10"/>
                    </a:lnTo>
                    <a:lnTo>
                      <a:pt x="29" y="11"/>
                    </a:lnTo>
                    <a:lnTo>
                      <a:pt x="29" y="13"/>
                    </a:lnTo>
                    <a:lnTo>
                      <a:pt x="27" y="15"/>
                    </a:lnTo>
                    <a:lnTo>
                      <a:pt x="26" y="16"/>
                    </a:lnTo>
                    <a:lnTo>
                      <a:pt x="25" y="16"/>
                    </a:lnTo>
                    <a:lnTo>
                      <a:pt x="23" y="16"/>
                    </a:lnTo>
                    <a:lnTo>
                      <a:pt x="21" y="16"/>
                    </a:lnTo>
                    <a:lnTo>
                      <a:pt x="20" y="15"/>
                    </a:lnTo>
                    <a:lnTo>
                      <a:pt x="18" y="15"/>
                    </a:lnTo>
                    <a:lnTo>
                      <a:pt x="17" y="13"/>
                    </a:lnTo>
                    <a:lnTo>
                      <a:pt x="15" y="13"/>
                    </a:lnTo>
                    <a:lnTo>
                      <a:pt x="12" y="13"/>
                    </a:lnTo>
                    <a:lnTo>
                      <a:pt x="12" y="11"/>
                    </a:lnTo>
                    <a:lnTo>
                      <a:pt x="12" y="13"/>
                    </a:lnTo>
                    <a:lnTo>
                      <a:pt x="15" y="16"/>
                    </a:lnTo>
                    <a:lnTo>
                      <a:pt x="15" y="18"/>
                    </a:lnTo>
                    <a:lnTo>
                      <a:pt x="15" y="19"/>
                    </a:lnTo>
                    <a:lnTo>
                      <a:pt x="12" y="19"/>
                    </a:lnTo>
                    <a:lnTo>
                      <a:pt x="12" y="18"/>
                    </a:lnTo>
                    <a:lnTo>
                      <a:pt x="12" y="16"/>
                    </a:lnTo>
                    <a:lnTo>
                      <a:pt x="10" y="15"/>
                    </a:lnTo>
                    <a:lnTo>
                      <a:pt x="10" y="13"/>
                    </a:lnTo>
                    <a:lnTo>
                      <a:pt x="8" y="11"/>
                    </a:lnTo>
                    <a:lnTo>
                      <a:pt x="1" y="10"/>
                    </a:lnTo>
                    <a:lnTo>
                      <a:pt x="0" y="8"/>
                    </a:lnTo>
                    <a:lnTo>
                      <a:pt x="0" y="6"/>
                    </a:lnTo>
                    <a:lnTo>
                      <a:pt x="1" y="4"/>
                    </a:lnTo>
                    <a:lnTo>
                      <a:pt x="1" y="3"/>
                    </a:lnTo>
                    <a:lnTo>
                      <a:pt x="2" y="2"/>
                    </a:lnTo>
                    <a:lnTo>
                      <a:pt x="4" y="0"/>
                    </a:lnTo>
                  </a:path>
                </a:pathLst>
              </a:custGeom>
              <a:no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2" name=""/>
              <p:cNvSpPr/>
              <p:nvPr/>
            </p:nvSpPr>
            <p:spPr>
              <a:xfrm>
                <a:off x="6917760" y="1794240"/>
                <a:ext cx="115920" cy="229320"/>
              </a:xfrm>
              <a:custGeom>
                <a:avLst/>
                <a:gdLst/>
                <a:ahLst/>
                <a:rect l="l" t="t" r="r" b="b"/>
                <a:pathLst>
                  <a:path w="71" h="201">
                    <a:moveTo>
                      <a:pt x="33" y="147"/>
                    </a:moveTo>
                    <a:lnTo>
                      <a:pt x="33" y="148"/>
                    </a:lnTo>
                    <a:lnTo>
                      <a:pt x="35" y="151"/>
                    </a:lnTo>
                    <a:lnTo>
                      <a:pt x="35" y="156"/>
                    </a:lnTo>
                    <a:lnTo>
                      <a:pt x="36" y="163"/>
                    </a:lnTo>
                    <a:lnTo>
                      <a:pt x="36" y="170"/>
                    </a:lnTo>
                    <a:lnTo>
                      <a:pt x="35" y="180"/>
                    </a:lnTo>
                    <a:lnTo>
                      <a:pt x="33" y="190"/>
                    </a:lnTo>
                    <a:lnTo>
                      <a:pt x="30" y="200"/>
                    </a:lnTo>
                    <a:lnTo>
                      <a:pt x="70" y="200"/>
                    </a:lnTo>
                    <a:lnTo>
                      <a:pt x="70" y="70"/>
                    </a:lnTo>
                    <a:lnTo>
                      <a:pt x="70" y="68"/>
                    </a:lnTo>
                    <a:lnTo>
                      <a:pt x="68" y="66"/>
                    </a:lnTo>
                    <a:lnTo>
                      <a:pt x="68" y="63"/>
                    </a:lnTo>
                    <a:lnTo>
                      <a:pt x="66" y="59"/>
                    </a:lnTo>
                    <a:lnTo>
                      <a:pt x="65" y="56"/>
                    </a:lnTo>
                    <a:lnTo>
                      <a:pt x="64" y="54"/>
                    </a:lnTo>
                    <a:lnTo>
                      <a:pt x="61" y="50"/>
                    </a:lnTo>
                    <a:lnTo>
                      <a:pt x="60" y="47"/>
                    </a:lnTo>
                    <a:lnTo>
                      <a:pt x="57" y="40"/>
                    </a:lnTo>
                    <a:lnTo>
                      <a:pt x="57" y="32"/>
                    </a:lnTo>
                    <a:lnTo>
                      <a:pt x="60" y="27"/>
                    </a:lnTo>
                    <a:lnTo>
                      <a:pt x="60" y="26"/>
                    </a:lnTo>
                    <a:lnTo>
                      <a:pt x="60" y="24"/>
                    </a:lnTo>
                    <a:lnTo>
                      <a:pt x="57" y="22"/>
                    </a:lnTo>
                    <a:lnTo>
                      <a:pt x="57" y="21"/>
                    </a:lnTo>
                    <a:lnTo>
                      <a:pt x="57" y="19"/>
                    </a:lnTo>
                    <a:lnTo>
                      <a:pt x="57" y="15"/>
                    </a:lnTo>
                    <a:lnTo>
                      <a:pt x="55" y="14"/>
                    </a:lnTo>
                    <a:lnTo>
                      <a:pt x="53" y="12"/>
                    </a:lnTo>
                    <a:lnTo>
                      <a:pt x="52" y="8"/>
                    </a:lnTo>
                    <a:lnTo>
                      <a:pt x="51" y="8"/>
                    </a:lnTo>
                    <a:lnTo>
                      <a:pt x="49" y="5"/>
                    </a:lnTo>
                    <a:lnTo>
                      <a:pt x="46" y="5"/>
                    </a:lnTo>
                    <a:lnTo>
                      <a:pt x="44" y="2"/>
                    </a:lnTo>
                    <a:lnTo>
                      <a:pt x="42" y="1"/>
                    </a:lnTo>
                    <a:lnTo>
                      <a:pt x="39" y="1"/>
                    </a:lnTo>
                    <a:lnTo>
                      <a:pt x="36" y="0"/>
                    </a:lnTo>
                    <a:lnTo>
                      <a:pt x="33" y="0"/>
                    </a:lnTo>
                    <a:lnTo>
                      <a:pt x="30" y="0"/>
                    </a:lnTo>
                    <a:lnTo>
                      <a:pt x="28" y="1"/>
                    </a:lnTo>
                    <a:lnTo>
                      <a:pt x="26" y="1"/>
                    </a:lnTo>
                    <a:lnTo>
                      <a:pt x="25" y="1"/>
                    </a:lnTo>
                    <a:lnTo>
                      <a:pt x="23" y="2"/>
                    </a:lnTo>
                    <a:lnTo>
                      <a:pt x="21" y="5"/>
                    </a:lnTo>
                    <a:lnTo>
                      <a:pt x="19" y="5"/>
                    </a:lnTo>
                    <a:lnTo>
                      <a:pt x="19" y="8"/>
                    </a:lnTo>
                    <a:lnTo>
                      <a:pt x="17" y="8"/>
                    </a:lnTo>
                    <a:lnTo>
                      <a:pt x="17" y="12"/>
                    </a:lnTo>
                    <a:lnTo>
                      <a:pt x="17" y="14"/>
                    </a:lnTo>
                    <a:lnTo>
                      <a:pt x="17" y="15"/>
                    </a:lnTo>
                    <a:lnTo>
                      <a:pt x="17" y="17"/>
                    </a:lnTo>
                    <a:lnTo>
                      <a:pt x="17" y="19"/>
                    </a:lnTo>
                    <a:lnTo>
                      <a:pt x="17" y="21"/>
                    </a:lnTo>
                    <a:lnTo>
                      <a:pt x="17" y="24"/>
                    </a:lnTo>
                    <a:lnTo>
                      <a:pt x="17" y="26"/>
                    </a:lnTo>
                    <a:lnTo>
                      <a:pt x="19" y="27"/>
                    </a:lnTo>
                    <a:lnTo>
                      <a:pt x="17" y="28"/>
                    </a:lnTo>
                    <a:lnTo>
                      <a:pt x="17" y="30"/>
                    </a:lnTo>
                    <a:lnTo>
                      <a:pt x="15" y="30"/>
                    </a:lnTo>
                    <a:lnTo>
                      <a:pt x="15" y="32"/>
                    </a:lnTo>
                    <a:lnTo>
                      <a:pt x="14" y="32"/>
                    </a:lnTo>
                    <a:lnTo>
                      <a:pt x="14" y="33"/>
                    </a:lnTo>
                    <a:lnTo>
                      <a:pt x="14" y="35"/>
                    </a:lnTo>
                    <a:lnTo>
                      <a:pt x="15" y="35"/>
                    </a:lnTo>
                    <a:lnTo>
                      <a:pt x="17" y="37"/>
                    </a:lnTo>
                    <a:lnTo>
                      <a:pt x="17" y="38"/>
                    </a:lnTo>
                    <a:lnTo>
                      <a:pt x="15" y="38"/>
                    </a:lnTo>
                    <a:lnTo>
                      <a:pt x="15" y="40"/>
                    </a:lnTo>
                    <a:lnTo>
                      <a:pt x="15" y="42"/>
                    </a:lnTo>
                    <a:lnTo>
                      <a:pt x="17" y="42"/>
                    </a:lnTo>
                    <a:lnTo>
                      <a:pt x="17" y="43"/>
                    </a:lnTo>
                    <a:lnTo>
                      <a:pt x="17" y="45"/>
                    </a:lnTo>
                    <a:lnTo>
                      <a:pt x="17" y="47"/>
                    </a:lnTo>
                    <a:lnTo>
                      <a:pt x="17" y="48"/>
                    </a:lnTo>
                    <a:lnTo>
                      <a:pt x="21" y="48"/>
                    </a:lnTo>
                    <a:lnTo>
                      <a:pt x="23" y="48"/>
                    </a:lnTo>
                    <a:lnTo>
                      <a:pt x="25" y="48"/>
                    </a:lnTo>
                    <a:lnTo>
                      <a:pt x="26" y="48"/>
                    </a:lnTo>
                    <a:lnTo>
                      <a:pt x="26" y="49"/>
                    </a:lnTo>
                    <a:lnTo>
                      <a:pt x="26" y="50"/>
                    </a:lnTo>
                    <a:lnTo>
                      <a:pt x="26" y="53"/>
                    </a:lnTo>
                    <a:lnTo>
                      <a:pt x="25" y="53"/>
                    </a:lnTo>
                    <a:lnTo>
                      <a:pt x="25" y="54"/>
                    </a:lnTo>
                    <a:lnTo>
                      <a:pt x="25" y="56"/>
                    </a:lnTo>
                    <a:lnTo>
                      <a:pt x="25" y="58"/>
                    </a:lnTo>
                    <a:lnTo>
                      <a:pt x="25" y="59"/>
                    </a:lnTo>
                    <a:lnTo>
                      <a:pt x="25" y="61"/>
                    </a:lnTo>
                    <a:lnTo>
                      <a:pt x="25" y="64"/>
                    </a:lnTo>
                    <a:lnTo>
                      <a:pt x="26" y="66"/>
                    </a:lnTo>
                    <a:lnTo>
                      <a:pt x="27" y="68"/>
                    </a:lnTo>
                    <a:lnTo>
                      <a:pt x="28" y="68"/>
                    </a:lnTo>
                    <a:lnTo>
                      <a:pt x="30" y="68"/>
                    </a:lnTo>
                    <a:lnTo>
                      <a:pt x="32" y="68"/>
                    </a:lnTo>
                    <a:lnTo>
                      <a:pt x="33" y="68"/>
                    </a:lnTo>
                    <a:lnTo>
                      <a:pt x="35" y="66"/>
                    </a:lnTo>
                    <a:lnTo>
                      <a:pt x="33" y="68"/>
                    </a:lnTo>
                    <a:lnTo>
                      <a:pt x="32" y="68"/>
                    </a:lnTo>
                    <a:lnTo>
                      <a:pt x="30" y="68"/>
                    </a:lnTo>
                    <a:lnTo>
                      <a:pt x="28" y="70"/>
                    </a:lnTo>
                    <a:lnTo>
                      <a:pt x="28" y="72"/>
                    </a:lnTo>
                    <a:lnTo>
                      <a:pt x="27" y="73"/>
                    </a:lnTo>
                    <a:lnTo>
                      <a:pt x="27" y="75"/>
                    </a:lnTo>
                    <a:lnTo>
                      <a:pt x="26" y="77"/>
                    </a:lnTo>
                    <a:lnTo>
                      <a:pt x="26" y="79"/>
                    </a:lnTo>
                    <a:lnTo>
                      <a:pt x="25" y="80"/>
                    </a:lnTo>
                    <a:lnTo>
                      <a:pt x="25" y="84"/>
                    </a:lnTo>
                    <a:lnTo>
                      <a:pt x="23" y="85"/>
                    </a:lnTo>
                    <a:lnTo>
                      <a:pt x="23" y="87"/>
                    </a:lnTo>
                    <a:lnTo>
                      <a:pt x="21" y="90"/>
                    </a:lnTo>
                    <a:lnTo>
                      <a:pt x="21" y="91"/>
                    </a:lnTo>
                    <a:lnTo>
                      <a:pt x="21" y="97"/>
                    </a:lnTo>
                    <a:lnTo>
                      <a:pt x="21" y="99"/>
                    </a:lnTo>
                    <a:lnTo>
                      <a:pt x="19" y="101"/>
                    </a:lnTo>
                    <a:lnTo>
                      <a:pt x="17" y="103"/>
                    </a:lnTo>
                    <a:lnTo>
                      <a:pt x="15" y="103"/>
                    </a:lnTo>
                    <a:lnTo>
                      <a:pt x="14" y="103"/>
                    </a:lnTo>
                    <a:lnTo>
                      <a:pt x="13" y="103"/>
                    </a:lnTo>
                    <a:lnTo>
                      <a:pt x="11" y="103"/>
                    </a:lnTo>
                    <a:lnTo>
                      <a:pt x="9" y="103"/>
                    </a:lnTo>
                    <a:lnTo>
                      <a:pt x="9" y="104"/>
                    </a:lnTo>
                    <a:lnTo>
                      <a:pt x="8" y="104"/>
                    </a:lnTo>
                    <a:lnTo>
                      <a:pt x="5" y="106"/>
                    </a:lnTo>
                    <a:lnTo>
                      <a:pt x="4" y="106"/>
                    </a:lnTo>
                    <a:lnTo>
                      <a:pt x="4" y="107"/>
                    </a:lnTo>
                    <a:lnTo>
                      <a:pt x="3" y="107"/>
                    </a:lnTo>
                    <a:lnTo>
                      <a:pt x="1" y="109"/>
                    </a:lnTo>
                    <a:lnTo>
                      <a:pt x="1" y="110"/>
                    </a:lnTo>
                    <a:lnTo>
                      <a:pt x="0" y="112"/>
                    </a:lnTo>
                    <a:lnTo>
                      <a:pt x="1" y="112"/>
                    </a:lnTo>
                    <a:lnTo>
                      <a:pt x="3" y="112"/>
                    </a:lnTo>
                    <a:lnTo>
                      <a:pt x="4" y="112"/>
                    </a:lnTo>
                    <a:lnTo>
                      <a:pt x="5" y="114"/>
                    </a:lnTo>
                    <a:lnTo>
                      <a:pt x="5" y="117"/>
                    </a:lnTo>
                    <a:lnTo>
                      <a:pt x="8" y="119"/>
                    </a:lnTo>
                    <a:lnTo>
                      <a:pt x="8" y="120"/>
                    </a:lnTo>
                    <a:lnTo>
                      <a:pt x="9" y="124"/>
                    </a:lnTo>
                    <a:lnTo>
                      <a:pt x="9" y="125"/>
                    </a:lnTo>
                    <a:lnTo>
                      <a:pt x="9" y="128"/>
                    </a:lnTo>
                    <a:lnTo>
                      <a:pt x="11" y="131"/>
                    </a:lnTo>
                    <a:lnTo>
                      <a:pt x="13" y="134"/>
                    </a:lnTo>
                    <a:lnTo>
                      <a:pt x="14" y="136"/>
                    </a:lnTo>
                    <a:lnTo>
                      <a:pt x="17" y="138"/>
                    </a:lnTo>
                    <a:lnTo>
                      <a:pt x="21" y="141"/>
                    </a:lnTo>
                    <a:lnTo>
                      <a:pt x="23" y="141"/>
                    </a:lnTo>
                    <a:lnTo>
                      <a:pt x="26" y="138"/>
                    </a:lnTo>
                    <a:lnTo>
                      <a:pt x="30" y="136"/>
                    </a:lnTo>
                    <a:lnTo>
                      <a:pt x="30" y="138"/>
                    </a:lnTo>
                    <a:lnTo>
                      <a:pt x="32" y="142"/>
                    </a:lnTo>
                    <a:lnTo>
                      <a:pt x="33" y="144"/>
                    </a:lnTo>
                    <a:lnTo>
                      <a:pt x="33" y="147"/>
                    </a:lnTo>
                  </a:path>
                </a:pathLst>
              </a:custGeom>
              <a:gradFill rotWithShape="0">
                <a:gsLst>
                  <a:gs pos="0">
                    <a:srgbClr val="00279f"/>
                  </a:gs>
                  <a:gs pos="100000">
                    <a:srgbClr val="000b2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26040" y="1873080"/>
                <a:ext cx="56880" cy="75240"/>
              </a:xfrm>
              <a:custGeom>
                <a:avLst/>
                <a:gdLst/>
                <a:ahLst/>
                <a:rect l="l" t="t" r="r" b="b"/>
                <a:pathLst>
                  <a:path w="35" h="66">
                    <a:moveTo>
                      <a:pt x="23" y="5"/>
                    </a:moveTo>
                    <a:lnTo>
                      <a:pt x="21" y="8"/>
                    </a:lnTo>
                    <a:lnTo>
                      <a:pt x="21" y="12"/>
                    </a:lnTo>
                    <a:lnTo>
                      <a:pt x="19" y="14"/>
                    </a:lnTo>
                    <a:lnTo>
                      <a:pt x="18" y="19"/>
                    </a:lnTo>
                    <a:lnTo>
                      <a:pt x="17" y="23"/>
                    </a:lnTo>
                    <a:lnTo>
                      <a:pt x="15" y="28"/>
                    </a:lnTo>
                    <a:lnTo>
                      <a:pt x="15" y="30"/>
                    </a:lnTo>
                    <a:lnTo>
                      <a:pt x="15" y="32"/>
                    </a:lnTo>
                    <a:lnTo>
                      <a:pt x="15" y="34"/>
                    </a:lnTo>
                    <a:lnTo>
                      <a:pt x="13" y="35"/>
                    </a:lnTo>
                    <a:lnTo>
                      <a:pt x="13" y="36"/>
                    </a:lnTo>
                    <a:lnTo>
                      <a:pt x="13" y="38"/>
                    </a:lnTo>
                    <a:lnTo>
                      <a:pt x="12" y="38"/>
                    </a:lnTo>
                    <a:lnTo>
                      <a:pt x="12" y="39"/>
                    </a:lnTo>
                    <a:lnTo>
                      <a:pt x="10" y="39"/>
                    </a:lnTo>
                    <a:lnTo>
                      <a:pt x="9" y="39"/>
                    </a:lnTo>
                    <a:lnTo>
                      <a:pt x="9" y="38"/>
                    </a:lnTo>
                    <a:lnTo>
                      <a:pt x="10" y="38"/>
                    </a:lnTo>
                    <a:lnTo>
                      <a:pt x="12" y="36"/>
                    </a:lnTo>
                    <a:lnTo>
                      <a:pt x="13" y="36"/>
                    </a:lnTo>
                    <a:lnTo>
                      <a:pt x="12" y="36"/>
                    </a:lnTo>
                    <a:lnTo>
                      <a:pt x="10" y="36"/>
                    </a:lnTo>
                    <a:lnTo>
                      <a:pt x="9" y="36"/>
                    </a:lnTo>
                    <a:lnTo>
                      <a:pt x="8" y="36"/>
                    </a:lnTo>
                    <a:lnTo>
                      <a:pt x="6" y="36"/>
                    </a:lnTo>
                    <a:lnTo>
                      <a:pt x="4" y="36"/>
                    </a:lnTo>
                    <a:lnTo>
                      <a:pt x="4" y="38"/>
                    </a:lnTo>
                    <a:lnTo>
                      <a:pt x="3" y="38"/>
                    </a:lnTo>
                    <a:lnTo>
                      <a:pt x="1" y="39"/>
                    </a:lnTo>
                    <a:lnTo>
                      <a:pt x="0" y="41"/>
                    </a:lnTo>
                    <a:lnTo>
                      <a:pt x="1" y="41"/>
                    </a:lnTo>
                    <a:lnTo>
                      <a:pt x="3" y="42"/>
                    </a:lnTo>
                    <a:lnTo>
                      <a:pt x="4" y="44"/>
                    </a:lnTo>
                    <a:lnTo>
                      <a:pt x="4" y="47"/>
                    </a:lnTo>
                    <a:lnTo>
                      <a:pt x="4" y="49"/>
                    </a:lnTo>
                    <a:lnTo>
                      <a:pt x="4" y="52"/>
                    </a:lnTo>
                    <a:lnTo>
                      <a:pt x="6" y="55"/>
                    </a:lnTo>
                    <a:lnTo>
                      <a:pt x="8" y="57"/>
                    </a:lnTo>
                    <a:lnTo>
                      <a:pt x="8" y="59"/>
                    </a:lnTo>
                    <a:lnTo>
                      <a:pt x="9" y="60"/>
                    </a:lnTo>
                    <a:lnTo>
                      <a:pt x="10" y="62"/>
                    </a:lnTo>
                    <a:lnTo>
                      <a:pt x="12" y="64"/>
                    </a:lnTo>
                    <a:lnTo>
                      <a:pt x="13" y="64"/>
                    </a:lnTo>
                    <a:lnTo>
                      <a:pt x="15" y="65"/>
                    </a:lnTo>
                    <a:lnTo>
                      <a:pt x="17" y="65"/>
                    </a:lnTo>
                    <a:lnTo>
                      <a:pt x="19" y="64"/>
                    </a:lnTo>
                    <a:lnTo>
                      <a:pt x="21" y="62"/>
                    </a:lnTo>
                    <a:lnTo>
                      <a:pt x="23" y="59"/>
                    </a:lnTo>
                    <a:lnTo>
                      <a:pt x="25" y="55"/>
                    </a:lnTo>
                    <a:lnTo>
                      <a:pt x="26" y="50"/>
                    </a:lnTo>
                    <a:lnTo>
                      <a:pt x="27" y="45"/>
                    </a:lnTo>
                    <a:lnTo>
                      <a:pt x="29" y="41"/>
                    </a:lnTo>
                    <a:lnTo>
                      <a:pt x="30" y="38"/>
                    </a:lnTo>
                    <a:lnTo>
                      <a:pt x="30" y="35"/>
                    </a:lnTo>
                    <a:lnTo>
                      <a:pt x="32" y="35"/>
                    </a:lnTo>
                    <a:lnTo>
                      <a:pt x="30" y="35"/>
                    </a:lnTo>
                    <a:lnTo>
                      <a:pt x="30" y="36"/>
                    </a:lnTo>
                    <a:lnTo>
                      <a:pt x="29" y="38"/>
                    </a:lnTo>
                    <a:lnTo>
                      <a:pt x="27" y="41"/>
                    </a:lnTo>
                    <a:lnTo>
                      <a:pt x="26" y="44"/>
                    </a:lnTo>
                    <a:lnTo>
                      <a:pt x="25" y="45"/>
                    </a:lnTo>
                    <a:lnTo>
                      <a:pt x="23" y="47"/>
                    </a:lnTo>
                    <a:lnTo>
                      <a:pt x="21" y="49"/>
                    </a:lnTo>
                    <a:lnTo>
                      <a:pt x="21" y="47"/>
                    </a:lnTo>
                    <a:lnTo>
                      <a:pt x="23" y="45"/>
                    </a:lnTo>
                    <a:lnTo>
                      <a:pt x="25" y="42"/>
                    </a:lnTo>
                    <a:lnTo>
                      <a:pt x="26" y="39"/>
                    </a:lnTo>
                    <a:lnTo>
                      <a:pt x="27" y="36"/>
                    </a:lnTo>
                    <a:lnTo>
                      <a:pt x="29" y="34"/>
                    </a:lnTo>
                    <a:lnTo>
                      <a:pt x="29" y="32"/>
                    </a:lnTo>
                    <a:lnTo>
                      <a:pt x="29" y="30"/>
                    </a:lnTo>
                    <a:lnTo>
                      <a:pt x="30" y="28"/>
                    </a:lnTo>
                    <a:lnTo>
                      <a:pt x="30" y="25"/>
                    </a:lnTo>
                    <a:lnTo>
                      <a:pt x="32" y="23"/>
                    </a:lnTo>
                    <a:lnTo>
                      <a:pt x="32" y="21"/>
                    </a:lnTo>
                    <a:lnTo>
                      <a:pt x="32" y="20"/>
                    </a:lnTo>
                    <a:lnTo>
                      <a:pt x="30" y="19"/>
                    </a:lnTo>
                    <a:lnTo>
                      <a:pt x="29" y="19"/>
                    </a:lnTo>
                    <a:lnTo>
                      <a:pt x="29" y="17"/>
                    </a:lnTo>
                    <a:lnTo>
                      <a:pt x="30" y="14"/>
                    </a:lnTo>
                    <a:lnTo>
                      <a:pt x="32" y="13"/>
                    </a:lnTo>
                    <a:lnTo>
                      <a:pt x="32" y="12"/>
                    </a:lnTo>
                    <a:lnTo>
                      <a:pt x="34" y="8"/>
                    </a:lnTo>
                    <a:lnTo>
                      <a:pt x="34" y="5"/>
                    </a:lnTo>
                    <a:lnTo>
                      <a:pt x="34" y="3"/>
                    </a:lnTo>
                    <a:lnTo>
                      <a:pt x="34" y="1"/>
                    </a:lnTo>
                    <a:lnTo>
                      <a:pt x="32" y="1"/>
                    </a:lnTo>
                    <a:lnTo>
                      <a:pt x="29" y="0"/>
                    </a:lnTo>
                    <a:lnTo>
                      <a:pt x="27" y="0"/>
                    </a:lnTo>
                    <a:lnTo>
                      <a:pt x="27" y="1"/>
                    </a:lnTo>
                    <a:lnTo>
                      <a:pt x="26" y="1"/>
                    </a:lnTo>
                    <a:lnTo>
                      <a:pt x="25" y="1"/>
                    </a:lnTo>
                    <a:lnTo>
                      <a:pt x="25" y="3"/>
                    </a:lnTo>
                    <a:lnTo>
                      <a:pt x="23" y="3"/>
                    </a:lnTo>
                    <a:lnTo>
                      <a:pt x="23" y="5"/>
                    </a:lnTo>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4" name=""/>
              <p:cNvSpPr/>
              <p:nvPr/>
            </p:nvSpPr>
            <p:spPr>
              <a:xfrm>
                <a:off x="6944040" y="1814760"/>
                <a:ext cx="27720" cy="28440"/>
              </a:xfrm>
              <a:custGeom>
                <a:avLst/>
                <a:gdLst/>
                <a:ahLst/>
                <a:rect l="l" t="t" r="r" b="b"/>
                <a:pathLst>
                  <a:path w="17" h="25">
                    <a:moveTo>
                      <a:pt x="10" y="24"/>
                    </a:moveTo>
                    <a:lnTo>
                      <a:pt x="8" y="24"/>
                    </a:lnTo>
                    <a:lnTo>
                      <a:pt x="8" y="23"/>
                    </a:lnTo>
                    <a:lnTo>
                      <a:pt x="8" y="22"/>
                    </a:lnTo>
                    <a:lnTo>
                      <a:pt x="6" y="22"/>
                    </a:lnTo>
                    <a:lnTo>
                      <a:pt x="5" y="22"/>
                    </a:lnTo>
                    <a:lnTo>
                      <a:pt x="3" y="22"/>
                    </a:lnTo>
                    <a:lnTo>
                      <a:pt x="1" y="22"/>
                    </a:lnTo>
                    <a:lnTo>
                      <a:pt x="1" y="21"/>
                    </a:lnTo>
                    <a:lnTo>
                      <a:pt x="1" y="19"/>
                    </a:lnTo>
                    <a:lnTo>
                      <a:pt x="3" y="19"/>
                    </a:lnTo>
                    <a:lnTo>
                      <a:pt x="1" y="19"/>
                    </a:lnTo>
                    <a:lnTo>
                      <a:pt x="1" y="17"/>
                    </a:lnTo>
                    <a:lnTo>
                      <a:pt x="1" y="16"/>
                    </a:lnTo>
                    <a:lnTo>
                      <a:pt x="1" y="15"/>
                    </a:lnTo>
                    <a:lnTo>
                      <a:pt x="1" y="13"/>
                    </a:lnTo>
                    <a:lnTo>
                      <a:pt x="0" y="13"/>
                    </a:lnTo>
                    <a:lnTo>
                      <a:pt x="0" y="12"/>
                    </a:lnTo>
                    <a:lnTo>
                      <a:pt x="1" y="11"/>
                    </a:lnTo>
                    <a:lnTo>
                      <a:pt x="1" y="9"/>
                    </a:lnTo>
                    <a:lnTo>
                      <a:pt x="3" y="8"/>
                    </a:lnTo>
                    <a:lnTo>
                      <a:pt x="3" y="7"/>
                    </a:lnTo>
                    <a:lnTo>
                      <a:pt x="3" y="6"/>
                    </a:lnTo>
                    <a:lnTo>
                      <a:pt x="3" y="5"/>
                    </a:lnTo>
                    <a:lnTo>
                      <a:pt x="3" y="4"/>
                    </a:lnTo>
                    <a:lnTo>
                      <a:pt x="3" y="2"/>
                    </a:lnTo>
                    <a:lnTo>
                      <a:pt x="3" y="1"/>
                    </a:lnTo>
                    <a:lnTo>
                      <a:pt x="3" y="0"/>
                    </a:lnTo>
                    <a:lnTo>
                      <a:pt x="5" y="1"/>
                    </a:lnTo>
                    <a:lnTo>
                      <a:pt x="6" y="1"/>
                    </a:lnTo>
                    <a:lnTo>
                      <a:pt x="8" y="1"/>
                    </a:lnTo>
                    <a:lnTo>
                      <a:pt x="8" y="2"/>
                    </a:lnTo>
                    <a:lnTo>
                      <a:pt x="10" y="4"/>
                    </a:lnTo>
                    <a:lnTo>
                      <a:pt x="10" y="5"/>
                    </a:lnTo>
                    <a:lnTo>
                      <a:pt x="10" y="6"/>
                    </a:lnTo>
                    <a:lnTo>
                      <a:pt x="11" y="7"/>
                    </a:lnTo>
                    <a:lnTo>
                      <a:pt x="13" y="7"/>
                    </a:lnTo>
                    <a:lnTo>
                      <a:pt x="14" y="8"/>
                    </a:lnTo>
                    <a:lnTo>
                      <a:pt x="14" y="9"/>
                    </a:lnTo>
                    <a:lnTo>
                      <a:pt x="16" y="9"/>
                    </a:lnTo>
                    <a:lnTo>
                      <a:pt x="16" y="12"/>
                    </a:lnTo>
                    <a:lnTo>
                      <a:pt x="14" y="15"/>
                    </a:lnTo>
                    <a:lnTo>
                      <a:pt x="14" y="17"/>
                    </a:lnTo>
                    <a:lnTo>
                      <a:pt x="13" y="19"/>
                    </a:lnTo>
                    <a:lnTo>
                      <a:pt x="11" y="19"/>
                    </a:lnTo>
                    <a:lnTo>
                      <a:pt x="10" y="21"/>
                    </a:lnTo>
                    <a:lnTo>
                      <a:pt x="10" y="22"/>
                    </a:lnTo>
                    <a:lnTo>
                      <a:pt x="10" y="23"/>
                    </a:lnTo>
                    <a:lnTo>
                      <a:pt x="10" y="24"/>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235" name=""/>
          <p:cNvSpPr/>
          <p:nvPr/>
        </p:nvSpPr>
        <p:spPr>
          <a:xfrm>
            <a:off x="1597320" y="5638680"/>
            <a:ext cx="869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bile</a:t>
            </a:r>
            <a:endParaRPr b="0" lang="en-US" sz="1600" spc="-1" strike="noStrike">
              <a:solidFill>
                <a:srgbClr val="000000"/>
              </a:solidFill>
              <a:latin typeface="Times New Roman"/>
            </a:endParaRPr>
          </a:p>
        </p:txBody>
      </p:sp>
      <p:sp>
        <p:nvSpPr>
          <p:cNvPr id="236" name=""/>
          <p:cNvSpPr/>
          <p:nvPr/>
        </p:nvSpPr>
        <p:spPr>
          <a:xfrm>
            <a:off x="2747880" y="61722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ble</a:t>
            </a:r>
            <a:endParaRPr b="0" lang="en-US" sz="1600" spc="-1" strike="noStrike">
              <a:solidFill>
                <a:srgbClr val="000000"/>
              </a:solidFill>
              <a:latin typeface="Times New Roman"/>
            </a:endParaRPr>
          </a:p>
        </p:txBody>
      </p:sp>
      <p:sp>
        <p:nvSpPr>
          <p:cNvPr id="237" name=""/>
          <p:cNvSpPr/>
          <p:nvPr/>
        </p:nvSpPr>
        <p:spPr>
          <a:xfrm>
            <a:off x="6947640" y="5486400"/>
            <a:ext cx="55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SL</a:t>
            </a:r>
            <a:endParaRPr b="0" lang="en-US" sz="1600" spc="-1" strike="noStrike">
              <a:solidFill>
                <a:srgbClr val="000000"/>
              </a:solidFill>
              <a:latin typeface="Times New Roman"/>
            </a:endParaRPr>
          </a:p>
        </p:txBody>
      </p:sp>
      <p:sp>
        <p:nvSpPr>
          <p:cNvPr id="238" name=""/>
          <p:cNvSpPr/>
          <p:nvPr/>
        </p:nvSpPr>
        <p:spPr>
          <a:xfrm>
            <a:off x="6209280" y="2133720"/>
            <a:ext cx="116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SDN/Dial</a:t>
            </a:r>
            <a:endParaRPr b="0" lang="en-US" sz="1600" spc="-1" strike="noStrike">
              <a:solidFill>
                <a:srgbClr val="000000"/>
              </a:solidFill>
              <a:latin typeface="Times New Roman"/>
            </a:endParaRPr>
          </a:p>
        </p:txBody>
      </p:sp>
      <p:sp>
        <p:nvSpPr>
          <p:cNvPr id="239"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2286000"/>
            <a:ext cx="1828800" cy="3200400"/>
          </a:xfrm>
          <a:prstGeom prst="rect">
            <a:avLst/>
          </a:prstGeom>
          <a:solidFill>
            <a:srgbClr val="c8f9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911160" y="3308400"/>
            <a:ext cx="101304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ATM</a:t>
            </a:r>
            <a:endParaRPr b="0" lang="en-US" sz="1800" spc="-1" strike="noStrike">
              <a:solidFill>
                <a:srgbClr val="000000"/>
              </a:solidFill>
              <a:latin typeface="Times New Roman"/>
            </a:endParaRPr>
          </a:p>
        </p:txBody>
      </p:sp>
      <p:sp>
        <p:nvSpPr>
          <p:cNvPr id="242" name=""/>
          <p:cNvSpPr/>
          <p:nvPr/>
        </p:nvSpPr>
        <p:spPr>
          <a:xfrm>
            <a:off x="623880" y="4048200"/>
            <a:ext cx="158580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SONET/SDH</a:t>
            </a:r>
            <a:endParaRPr b="0" lang="en-US" sz="1800" spc="-1" strike="noStrike">
              <a:solidFill>
                <a:srgbClr val="000000"/>
              </a:solidFill>
              <a:latin typeface="Times New Roman"/>
            </a:endParaRPr>
          </a:p>
        </p:txBody>
      </p:sp>
      <p:sp>
        <p:nvSpPr>
          <p:cNvPr id="243" name=""/>
          <p:cNvSpPr/>
          <p:nvPr/>
        </p:nvSpPr>
        <p:spPr>
          <a:xfrm>
            <a:off x="995400" y="2514600"/>
            <a:ext cx="62712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IP</a:t>
            </a:r>
            <a:endParaRPr b="0" lang="en-US" sz="1800" spc="-1" strike="noStrike">
              <a:solidFill>
                <a:srgbClr val="000000"/>
              </a:solidFill>
              <a:latin typeface="Times New Roman"/>
            </a:endParaRPr>
          </a:p>
        </p:txBody>
      </p:sp>
      <p:sp>
        <p:nvSpPr>
          <p:cNvPr id="244" name=""/>
          <p:cNvSpPr/>
          <p:nvPr/>
        </p:nvSpPr>
        <p:spPr>
          <a:xfrm>
            <a:off x="868320" y="4732200"/>
            <a:ext cx="109692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Optical</a:t>
            </a:r>
            <a:endParaRPr b="0" lang="en-US" sz="1800" spc="-1" strike="noStrike">
              <a:solidFill>
                <a:srgbClr val="000000"/>
              </a:solidFill>
              <a:latin typeface="Times New Roman"/>
            </a:endParaRPr>
          </a:p>
        </p:txBody>
      </p:sp>
      <p:sp>
        <p:nvSpPr>
          <p:cNvPr id="245" name=""/>
          <p:cNvSpPr/>
          <p:nvPr/>
        </p:nvSpPr>
        <p:spPr>
          <a:xfrm>
            <a:off x="3657600" y="3124080"/>
            <a:ext cx="1828800" cy="2362320"/>
          </a:xfrm>
          <a:prstGeom prst="rect">
            <a:avLst/>
          </a:prstGeom>
          <a:solidFill>
            <a:srgbClr val="c8f9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33920" y="4070520"/>
            <a:ext cx="175248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SONET/SDH</a:t>
            </a:r>
            <a:endParaRPr b="0" lang="en-US" sz="1800" spc="-1" strike="noStrike">
              <a:solidFill>
                <a:srgbClr val="000000"/>
              </a:solidFill>
              <a:latin typeface="Times New Roman"/>
            </a:endParaRPr>
          </a:p>
        </p:txBody>
      </p:sp>
      <p:sp>
        <p:nvSpPr>
          <p:cNvPr id="247" name=""/>
          <p:cNvSpPr/>
          <p:nvPr/>
        </p:nvSpPr>
        <p:spPr>
          <a:xfrm>
            <a:off x="4195800" y="3276720"/>
            <a:ext cx="62712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IP</a:t>
            </a:r>
            <a:endParaRPr b="0" lang="en-US" sz="1800" spc="-1" strike="noStrike">
              <a:solidFill>
                <a:srgbClr val="000000"/>
              </a:solidFill>
              <a:latin typeface="Times New Roman"/>
            </a:endParaRPr>
          </a:p>
        </p:txBody>
      </p:sp>
      <p:sp>
        <p:nvSpPr>
          <p:cNvPr id="248" name=""/>
          <p:cNvSpPr/>
          <p:nvPr/>
        </p:nvSpPr>
        <p:spPr>
          <a:xfrm>
            <a:off x="4068720" y="4732200"/>
            <a:ext cx="109692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Optical</a:t>
            </a:r>
            <a:endParaRPr b="0" lang="en-US" sz="1800" spc="-1" strike="noStrike">
              <a:solidFill>
                <a:srgbClr val="000000"/>
              </a:solidFill>
              <a:latin typeface="Times New Roman"/>
            </a:endParaRPr>
          </a:p>
        </p:txBody>
      </p:sp>
      <p:sp>
        <p:nvSpPr>
          <p:cNvPr id="249" name=""/>
          <p:cNvSpPr/>
          <p:nvPr/>
        </p:nvSpPr>
        <p:spPr>
          <a:xfrm>
            <a:off x="6629400" y="3886200"/>
            <a:ext cx="1828800" cy="1600200"/>
          </a:xfrm>
          <a:prstGeom prst="rect">
            <a:avLst/>
          </a:prstGeom>
          <a:solidFill>
            <a:srgbClr val="c8f9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162920" y="4038480"/>
            <a:ext cx="62712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IP</a:t>
            </a:r>
            <a:endParaRPr b="0" lang="en-US" sz="1800" spc="-1" strike="noStrike">
              <a:solidFill>
                <a:srgbClr val="000000"/>
              </a:solidFill>
              <a:latin typeface="Times New Roman"/>
            </a:endParaRPr>
          </a:p>
        </p:txBody>
      </p:sp>
      <p:sp>
        <p:nvSpPr>
          <p:cNvPr id="251" name=""/>
          <p:cNvSpPr/>
          <p:nvPr/>
        </p:nvSpPr>
        <p:spPr>
          <a:xfrm>
            <a:off x="7040520" y="4732200"/>
            <a:ext cx="1096920" cy="342720"/>
          </a:xfrm>
          <a:prstGeom prst="rect">
            <a:avLst/>
          </a:prstGeom>
          <a:noFill/>
          <a:ln w="0">
            <a:noFill/>
          </a:ln>
        </p:spPr>
        <p:style>
          <a:lnRef idx="0"/>
          <a:fillRef idx="0"/>
          <a:effectRef idx="0"/>
          <a:fontRef idx="minor"/>
        </p:style>
        <p:txBody>
          <a:bodyPr lIns="83880" rIns="83880" tIns="41040" bIns="41040" anchor="t">
            <a:spAutoFit/>
          </a:bodyPr>
          <a:p>
            <a:pPr algn="ctr">
              <a:lnSpc>
                <a:spcPct val="95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80808"/>
                </a:solidFill>
                <a:latin typeface="Tahoma"/>
              </a:rPr>
              <a:t>Optical</a:t>
            </a:r>
            <a:endParaRPr b="0" lang="en-US" sz="1800" spc="-1" strike="noStrike">
              <a:solidFill>
                <a:srgbClr val="000000"/>
              </a:solidFill>
              <a:latin typeface="Times New Roman"/>
            </a:endParaRPr>
          </a:p>
        </p:txBody>
      </p:sp>
      <p:sp>
        <p:nvSpPr>
          <p:cNvPr id="252" name=""/>
          <p:cNvSpPr/>
          <p:nvPr/>
        </p:nvSpPr>
        <p:spPr>
          <a:xfrm>
            <a:off x="5297760" y="1279440"/>
            <a:ext cx="2660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ultiplex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tection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yer 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flipH="1">
            <a:off x="1752120" y="1676520"/>
            <a:ext cx="3124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1904760" y="1676520"/>
            <a:ext cx="2971800" cy="1676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2057400" y="1676520"/>
            <a:ext cx="2819520" cy="2743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2133720" y="1676520"/>
            <a:ext cx="2743200" cy="3429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08680" y="1203480"/>
            <a:ext cx="380880" cy="1371600"/>
          </a:xfrm>
          <a:custGeom>
            <a:avLst/>
            <a:gdLst>
              <a:gd name="textAreaLeft" fmla="*/ 243360 w 380880"/>
              <a:gd name="textAreaRight" fmla="*/ 381240 w 3808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8432"/>
                </a:lnTo>
                <a:cubicBezTo>
                  <a:pt x="10800" y="9332"/>
                  <a:pt x="5400" y="10232"/>
                  <a:pt x="0" y="10232"/>
                </a:cubicBezTo>
                <a:cubicBezTo>
                  <a:pt x="5400" y="10232"/>
                  <a:pt x="10800" y="11132"/>
                  <a:pt x="10800" y="12032"/>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57200" y="5791320"/>
            <a:ext cx="7924680" cy="609480"/>
          </a:xfrm>
          <a:prstGeom prst="rightArrow">
            <a:avLst>
              <a:gd name="adj1" fmla="val 60000"/>
              <a:gd name="adj2" fmla="val 213395"/>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er cost, Lower complexity and lower overhead</a:t>
            </a:r>
            <a:endParaRPr b="0" lang="en-US" sz="2400" spc="-1" strike="noStrike">
              <a:solidFill>
                <a:srgbClr val="000000"/>
              </a:solidFill>
              <a:latin typeface="Times New Roman"/>
            </a:endParaRPr>
          </a:p>
        </p:txBody>
      </p:sp>
      <p:sp>
        <p:nvSpPr>
          <p:cNvPr id="259" name=""/>
          <p:cNvSpPr/>
          <p:nvPr/>
        </p:nvSpPr>
        <p:spPr>
          <a:xfrm>
            <a:off x="228600" y="4648320"/>
            <a:ext cx="8381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3809880"/>
            <a:ext cx="8381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28600" y="3048120"/>
            <a:ext cx="83818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760" y="0"/>
            <a:ext cx="3958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Services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9T20:22:06Z</dcterms:created>
  <dc:creator>Linda Goudy</dc:creator>
  <dc:description/>
  <dc:language>en-US</dc:language>
  <cp:lastModifiedBy>INFOVIEW</cp:lastModifiedBy>
  <cp:lastPrinted>2001-06-01T14:48:38Z</cp:lastPrinted>
  <dcterms:modified xsi:type="dcterms:W3CDTF">2001-06-05T11:30:26Z</dcterms:modified>
  <cp:revision>70</cp:revision>
  <dc:subject/>
  <dc:title>Business Development and Technology Planning</dc:title>
</cp:coreProperties>
</file>