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6E270-72DF-4897-95FF-52A64CF67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292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CD50E-B712-4732-99ED-ABFC1B13B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292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292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6E79F-2394-47BE-9B0F-C15534CB4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292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292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292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A5E79-EE95-4DEC-975C-E54A94C6AE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21CAE-69E1-4907-A36C-93D5B6DDDC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2A9CB-303D-4E95-8EF6-AFBCCE7B2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9DA6E-6A14-41FB-B989-132C0DD80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DC9C6-1BC0-45C6-B7D7-3DCA76C37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5F7D6-AD11-452F-808D-DABE6BDAC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292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D59D-A682-4EBB-9C5C-7E26CF1F5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292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A23EF-3F59-419E-8223-406947C1E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292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9DF45-FCF4-4CC9-BBDD-1D107E9A4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5623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ITU-T Study Group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19076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A158-8B5B-4E98-98B6-2F3CB2646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ITU_Logo" descr=""/>
          <p:cNvPicPr/>
          <p:nvPr/>
        </p:nvPicPr>
        <p:blipFill>
          <a:blip r:embed="rId2"/>
          <a:stretch/>
        </p:blipFill>
        <p:spPr>
          <a:xfrm>
            <a:off x="685800" y="6019920"/>
            <a:ext cx="620640" cy="6807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3360" y="40464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Impact"/>
              </a:rPr>
              <a:t>Multimedia in the 21</a:t>
            </a:r>
            <a:r>
              <a:rPr b="0" lang="en-US" sz="2800" spc="-1" strike="noStrike" baseline="30000">
                <a:solidFill>
                  <a:srgbClr val="3333cc"/>
                </a:solidFill>
                <a:latin typeface="Impact"/>
              </a:rPr>
              <a:t>st</a:t>
            </a:r>
            <a:r>
              <a:rPr b="0" lang="en-US" sz="2800" spc="-1" strike="noStrike">
                <a:solidFill>
                  <a:srgbClr val="3333cc"/>
                </a:solidFill>
                <a:latin typeface="Impact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ultimedia over 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E-business &amp; E-comme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73360" y="3505320"/>
            <a:ext cx="760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Results of the IP Networking 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Mediacom 2004 Worksh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152280"/>
            <a:ext cx="87631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5410080"/>
            <a:ext cx="87631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b8e7e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TT from ESnet to Groups of 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306440"/>
            <a:ext cx="7772400" cy="5551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14400" y="3352680"/>
            <a:ext cx="7010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0000" y="2233440"/>
            <a:ext cx="43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ITU G.114 300 ms RTT limit for 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437920" y="2362320"/>
            <a:ext cx="924120" cy="9903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4572000"/>
            <a:ext cx="6705360" cy="1447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10600" y="533412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20%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2080" y="557280"/>
            <a:ext cx="60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T ~ distance/(0.6*c) + hops * router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 delay = queuing + clocking in &amp; out +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228600"/>
            <a:ext cx="8534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486400"/>
            <a:ext cx="8534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b8e7e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TT from California to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4314960" cy="3848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38280" y="609480"/>
            <a:ext cx="6705720" cy="3683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8120" y="4419720"/>
            <a:ext cx="0" cy="24382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1981080"/>
            <a:ext cx="66294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680" y="4114800"/>
            <a:ext cx="3054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itude (deg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33000" y="1514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300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5320" y="434340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300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51520" y="63388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TT (ms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-578880" y="469512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98760" y="1833480"/>
            <a:ext cx="1590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TT (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5600">
            <a:off x="3965400" y="4729320"/>
            <a:ext cx="49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urce = Palo Alto CA, W. Co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114440" y="3962160"/>
            <a:ext cx="6094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16800">
            <a:off x="516600" y="131472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. Coast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16800">
            <a:off x="-147240" y="1327320"/>
            <a:ext cx="20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. Coast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384480" y="2590920"/>
            <a:ext cx="32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urope &amp; S.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40480" y="76212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91120" y="2590920"/>
            <a:ext cx="27432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68360" y="3200400"/>
            <a:ext cx="11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*0.6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562720" y="32763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4765320" y="110340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raz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3948120" y="108324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. Co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63240" y="640080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rom CAIDA Skitter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5486400"/>
            <a:ext cx="8534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28600"/>
            <a:ext cx="8534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b8e7e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ss seen from US to groups of 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6338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ETSI DTR/TIPHON-05001 V1.2.5 threshold for good spe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447920" y="622440"/>
            <a:ext cx="7696080" cy="5822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295280" y="342900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387440" y="3428640"/>
            <a:ext cx="822240" cy="2995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3733920"/>
            <a:ext cx="6476760" cy="2286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131600">
            <a:off x="3507480" y="5105520"/>
            <a:ext cx="39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50% improvement /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media Quality of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ics for customer perceptions (voice, video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metrics e.g. delay, jitter, packe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applicatio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TN to IP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of developing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media Quality of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oS archite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oS control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gnalling QoS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oS classes – need for some harmo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les of ‘service’ and ‘transport’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5486400"/>
            <a:ext cx="8534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28600"/>
            <a:ext cx="8534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8920" y="2273400"/>
            <a:ext cx="3792240" cy="1760400"/>
          </a:xfrm>
          <a:prstGeom prst="line">
            <a:avLst/>
          </a:prstGeom>
          <a:ln w="2844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8240" y="2549520"/>
            <a:ext cx="415800" cy="731160"/>
            <a:chOff x="138240" y="2549520"/>
            <a:chExt cx="415800" cy="731160"/>
          </a:xfrm>
        </p:grpSpPr>
        <p:grpSp>
          <p:nvGrpSpPr>
            <p:cNvPr id="142" name=""/>
            <p:cNvGrpSpPr/>
            <p:nvPr/>
          </p:nvGrpSpPr>
          <p:grpSpPr>
            <a:xfrm>
              <a:off x="138240" y="2549520"/>
              <a:ext cx="415800" cy="730080"/>
              <a:chOff x="138240" y="2549520"/>
              <a:chExt cx="415800" cy="730080"/>
            </a:xfrm>
          </p:grpSpPr>
          <p:sp>
            <p:nvSpPr>
              <p:cNvPr id="143" name=""/>
              <p:cNvSpPr/>
              <p:nvPr/>
            </p:nvSpPr>
            <p:spPr>
              <a:xfrm>
                <a:off x="260640" y="2597760"/>
                <a:ext cx="279360" cy="12600"/>
              </a:xfrm>
              <a:custGeom>
                <a:avLst/>
                <a:gdLst/>
                <a:ahLst/>
                <a:rect l="l" t="t" r="r" b="b"/>
                <a:pathLst>
                  <a:path w="1232" h="46">
                    <a:moveTo>
                      <a:pt x="0" y="0"/>
                    </a:moveTo>
                    <a:lnTo>
                      <a:pt x="73" y="46"/>
                    </a:lnTo>
                    <a:lnTo>
                      <a:pt x="1232" y="46"/>
                    </a:lnTo>
                    <a:lnTo>
                      <a:pt x="119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9560" y="2596680"/>
                <a:ext cx="70200" cy="682920"/>
              </a:xfrm>
              <a:custGeom>
                <a:avLst/>
                <a:gdLst/>
                <a:ahLst/>
                <a:rect l="l" t="t" r="r" b="b"/>
                <a:pathLst>
                  <a:path w="312" h="2397">
                    <a:moveTo>
                      <a:pt x="0" y="2316"/>
                    </a:moveTo>
                    <a:lnTo>
                      <a:pt x="64" y="2397"/>
                    </a:lnTo>
                    <a:lnTo>
                      <a:pt x="312" y="796"/>
                    </a:lnTo>
                    <a:lnTo>
                      <a:pt x="80" y="48"/>
                    </a:lnTo>
                    <a:lnTo>
                      <a:pt x="3" y="0"/>
                    </a:lnTo>
                    <a:lnTo>
                      <a:pt x="0" y="875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38240" y="2549520"/>
                <a:ext cx="122400" cy="707400"/>
              </a:xfrm>
              <a:custGeom>
                <a:avLst/>
                <a:gdLst/>
                <a:ahLst/>
                <a:rect l="l" t="t" r="r" b="b"/>
                <a:pathLst>
                  <a:path w="542" h="2477">
                    <a:moveTo>
                      <a:pt x="0" y="0"/>
                    </a:moveTo>
                    <a:lnTo>
                      <a:pt x="542" y="162"/>
                    </a:lnTo>
                    <a:lnTo>
                      <a:pt x="542" y="2477"/>
                    </a:lnTo>
                    <a:lnTo>
                      <a:pt x="0" y="18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38240" y="2549520"/>
                <a:ext cx="394200" cy="48240"/>
              </a:xfrm>
              <a:custGeom>
                <a:avLst/>
                <a:gdLst/>
                <a:ahLst/>
                <a:rect l="l" t="t" r="r" b="b"/>
                <a:pathLst>
                  <a:path w="1737" h="170">
                    <a:moveTo>
                      <a:pt x="543" y="170"/>
                    </a:moveTo>
                    <a:lnTo>
                      <a:pt x="1737" y="170"/>
                    </a:lnTo>
                    <a:lnTo>
                      <a:pt x="900" y="0"/>
                    </a:lnTo>
                    <a:lnTo>
                      <a:pt x="0" y="0"/>
                    </a:lnTo>
                    <a:lnTo>
                      <a:pt x="543" y="170"/>
                    </a:lnTo>
                    <a:close/>
                  </a:path>
                </a:pathLst>
              </a:custGeom>
              <a:solidFill>
                <a:srgbClr val="e0e0e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5760" y="2851920"/>
                <a:ext cx="255600" cy="427680"/>
              </a:xfrm>
              <a:prstGeom prst="rect">
                <a:avLst/>
              </a:prstGeom>
              <a:solidFill>
                <a:srgbClr val="c0c0c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7920" y="2609280"/>
                <a:ext cx="274680" cy="215280"/>
              </a:xfrm>
              <a:custGeom>
                <a:avLst/>
                <a:gdLst/>
                <a:ahLst/>
                <a:rect l="l" t="t" r="r" b="b"/>
                <a:pathLst>
                  <a:path w="1212" h="754">
                    <a:moveTo>
                      <a:pt x="0" y="0"/>
                    </a:moveTo>
                    <a:lnTo>
                      <a:pt x="1156" y="0"/>
                    </a:lnTo>
                    <a:lnTo>
                      <a:pt x="1212" y="754"/>
                    </a:lnTo>
                    <a:lnTo>
                      <a:pt x="49" y="7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75760" y="2824560"/>
                <a:ext cx="278280" cy="25560"/>
              </a:xfrm>
              <a:custGeom>
                <a:avLst/>
                <a:gdLst/>
                <a:ahLst/>
                <a:rect l="l" t="t" r="r" b="b"/>
                <a:pathLst>
                  <a:path w="1226" h="90">
                    <a:moveTo>
                      <a:pt x="0" y="90"/>
                    </a:moveTo>
                    <a:lnTo>
                      <a:pt x="1132" y="90"/>
                    </a:lnTo>
                    <a:lnTo>
                      <a:pt x="1226" y="0"/>
                    </a:lnTo>
                    <a:lnTo>
                      <a:pt x="62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277920" y="2597760"/>
              <a:ext cx="78120" cy="682920"/>
              <a:chOff x="277920" y="2597760"/>
              <a:chExt cx="78120" cy="682920"/>
            </a:xfrm>
          </p:grpSpPr>
          <p:sp>
            <p:nvSpPr>
              <p:cNvPr id="151" name=""/>
              <p:cNvSpPr/>
              <p:nvPr/>
            </p:nvSpPr>
            <p:spPr>
              <a:xfrm>
                <a:off x="277920" y="2597760"/>
                <a:ext cx="22320" cy="681840"/>
              </a:xfrm>
              <a:custGeom>
                <a:avLst/>
                <a:gdLst/>
                <a:ahLst/>
                <a:rect l="l" t="t" r="r" b="b"/>
                <a:pathLst>
                  <a:path w="102" h="2391">
                    <a:moveTo>
                      <a:pt x="0" y="0"/>
                    </a:moveTo>
                    <a:lnTo>
                      <a:pt x="52" y="40"/>
                    </a:lnTo>
                    <a:lnTo>
                      <a:pt x="102" y="802"/>
                    </a:lnTo>
                    <a:lnTo>
                      <a:pt x="50" y="889"/>
                    </a:lnTo>
                    <a:lnTo>
                      <a:pt x="47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6920" y="2599200"/>
                <a:ext cx="21600" cy="681480"/>
              </a:xfrm>
              <a:custGeom>
                <a:avLst/>
                <a:gdLst/>
                <a:ahLst/>
                <a:rect l="l" t="t" r="r" b="b"/>
                <a:pathLst>
                  <a:path w="95" h="2391">
                    <a:moveTo>
                      <a:pt x="0" y="0"/>
                    </a:moveTo>
                    <a:lnTo>
                      <a:pt x="45" y="40"/>
                    </a:lnTo>
                    <a:lnTo>
                      <a:pt x="95" y="802"/>
                    </a:lnTo>
                    <a:lnTo>
                      <a:pt x="44" y="888"/>
                    </a:lnTo>
                    <a:lnTo>
                      <a:pt x="42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93400" y="2597760"/>
                <a:ext cx="22680" cy="681840"/>
              </a:xfrm>
              <a:custGeom>
                <a:avLst/>
                <a:gdLst/>
                <a:ahLst/>
                <a:rect l="l" t="t" r="r" b="b"/>
                <a:pathLst>
                  <a:path w="102" h="2391">
                    <a:moveTo>
                      <a:pt x="0" y="0"/>
                    </a:moveTo>
                    <a:lnTo>
                      <a:pt x="50" y="40"/>
                    </a:lnTo>
                    <a:lnTo>
                      <a:pt x="102" y="796"/>
                    </a:lnTo>
                    <a:lnTo>
                      <a:pt x="47" y="882"/>
                    </a:lnTo>
                    <a:lnTo>
                      <a:pt x="47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01320" y="2599200"/>
                <a:ext cx="22320" cy="680400"/>
              </a:xfrm>
              <a:custGeom>
                <a:avLst/>
                <a:gdLst/>
                <a:ahLst/>
                <a:rect l="l" t="t" r="r" b="b"/>
                <a:pathLst>
                  <a:path w="98" h="2385">
                    <a:moveTo>
                      <a:pt x="0" y="0"/>
                    </a:moveTo>
                    <a:lnTo>
                      <a:pt x="48" y="35"/>
                    </a:lnTo>
                    <a:lnTo>
                      <a:pt x="98" y="796"/>
                    </a:lnTo>
                    <a:lnTo>
                      <a:pt x="46" y="883"/>
                    </a:lnTo>
                    <a:lnTo>
                      <a:pt x="44" y="2385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10320" y="2597760"/>
                <a:ext cx="21600" cy="678960"/>
              </a:xfrm>
              <a:custGeom>
                <a:avLst/>
                <a:gdLst/>
                <a:ahLst/>
                <a:rect l="l" t="t" r="r" b="b"/>
                <a:pathLst>
                  <a:path w="97" h="2383">
                    <a:moveTo>
                      <a:pt x="0" y="0"/>
                    </a:moveTo>
                    <a:lnTo>
                      <a:pt x="47" y="46"/>
                    </a:lnTo>
                    <a:lnTo>
                      <a:pt x="97" y="795"/>
                    </a:lnTo>
                    <a:lnTo>
                      <a:pt x="44" y="881"/>
                    </a:lnTo>
                    <a:lnTo>
                      <a:pt x="42" y="2383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18240" y="2599200"/>
                <a:ext cx="21600" cy="678960"/>
              </a:xfrm>
              <a:custGeom>
                <a:avLst/>
                <a:gdLst/>
                <a:ahLst/>
                <a:rect l="l" t="t" r="r" b="b"/>
                <a:pathLst>
                  <a:path w="92" h="2384">
                    <a:moveTo>
                      <a:pt x="0" y="0"/>
                    </a:moveTo>
                    <a:lnTo>
                      <a:pt x="42" y="40"/>
                    </a:lnTo>
                    <a:lnTo>
                      <a:pt x="92" y="794"/>
                    </a:lnTo>
                    <a:lnTo>
                      <a:pt x="40" y="881"/>
                    </a:lnTo>
                    <a:lnTo>
                      <a:pt x="38" y="2384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6520" y="2599200"/>
                <a:ext cx="21600" cy="680400"/>
              </a:xfrm>
              <a:custGeom>
                <a:avLst/>
                <a:gdLst/>
                <a:ahLst/>
                <a:rect l="l" t="t" r="r" b="b"/>
                <a:pathLst>
                  <a:path w="93" h="2389">
                    <a:moveTo>
                      <a:pt x="0" y="0"/>
                    </a:moveTo>
                    <a:lnTo>
                      <a:pt x="41" y="42"/>
                    </a:lnTo>
                    <a:lnTo>
                      <a:pt x="93" y="786"/>
                    </a:lnTo>
                    <a:lnTo>
                      <a:pt x="38" y="880"/>
                    </a:lnTo>
                    <a:lnTo>
                      <a:pt x="38" y="2389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4440" y="2599200"/>
                <a:ext cx="21600" cy="677160"/>
              </a:xfrm>
              <a:custGeom>
                <a:avLst/>
                <a:gdLst/>
                <a:ahLst/>
                <a:rect l="l" t="t" r="r" b="b"/>
                <a:pathLst>
                  <a:path w="93" h="2377">
                    <a:moveTo>
                      <a:pt x="0" y="0"/>
                    </a:moveTo>
                    <a:lnTo>
                      <a:pt x="43" y="40"/>
                    </a:lnTo>
                    <a:lnTo>
                      <a:pt x="93" y="789"/>
                    </a:lnTo>
                    <a:lnTo>
                      <a:pt x="42" y="875"/>
                    </a:lnTo>
                    <a:lnTo>
                      <a:pt x="39" y="2377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352800" y="2906280"/>
              <a:ext cx="167760" cy="33912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2800" y="2971800"/>
              <a:ext cx="167760" cy="6804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2800" y="3040200"/>
              <a:ext cx="167760" cy="6840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2800" y="3105720"/>
              <a:ext cx="167760" cy="6840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2320" y="2984400"/>
              <a:ext cx="110160" cy="4140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2320" y="3051360"/>
              <a:ext cx="110160" cy="4284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" y="2913480"/>
              <a:ext cx="7920" cy="43920"/>
            </a:xfrm>
            <a:custGeom>
              <a:avLst/>
              <a:gdLst/>
              <a:ahLst/>
              <a:rect l="l" t="t" r="r" b="b"/>
              <a:pathLst>
                <a:path w="33" h="152">
                  <a:moveTo>
                    <a:pt x="33" y="0"/>
                  </a:moveTo>
                  <a:lnTo>
                    <a:pt x="33" y="152"/>
                  </a:lnTo>
                  <a:lnTo>
                    <a:pt x="0" y="6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352800" y="2906280"/>
              <a:ext cx="167760" cy="68040"/>
              <a:chOff x="352800" y="2906280"/>
              <a:chExt cx="167760" cy="68040"/>
            </a:xfrm>
          </p:grpSpPr>
          <p:sp>
            <p:nvSpPr>
              <p:cNvPr id="167" name=""/>
              <p:cNvSpPr/>
              <p:nvPr/>
            </p:nvSpPr>
            <p:spPr>
              <a:xfrm>
                <a:off x="352800" y="2906280"/>
                <a:ext cx="167760" cy="68040"/>
              </a:xfrm>
              <a:prstGeom prst="rect">
                <a:avLst/>
              </a:prstGeom>
              <a:solidFill>
                <a:srgbClr val="a0a0a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69720" y="2916000"/>
                <a:ext cx="12240" cy="684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363960" y="2910240"/>
                <a:ext cx="148320" cy="52560"/>
                <a:chOff x="363960" y="2910240"/>
                <a:chExt cx="148320" cy="525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30560" y="2913120"/>
                  <a:ext cx="33840" cy="19440"/>
                </a:xfrm>
                <a:custGeom>
                  <a:avLst/>
                  <a:gdLst/>
                  <a:ahLst/>
                  <a:rect l="l" t="t" r="r" b="b"/>
                  <a:pathLst>
                    <a:path w="152" h="69">
                      <a:moveTo>
                        <a:pt x="152" y="0"/>
                      </a:moveTo>
                      <a:lnTo>
                        <a:pt x="9" y="0"/>
                      </a:lnTo>
                      <a:lnTo>
                        <a:pt x="0" y="69"/>
                      </a:lnTo>
                      <a:lnTo>
                        <a:pt x="134" y="67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30560" y="2938320"/>
                  <a:ext cx="77040" cy="18360"/>
                </a:xfrm>
                <a:custGeom>
                  <a:avLst/>
                  <a:gdLst/>
                  <a:ahLst/>
                  <a:rect l="l" t="t" r="r" b="b"/>
                  <a:pathLst>
                    <a:path w="341" h="68">
                      <a:moveTo>
                        <a:pt x="341" y="68"/>
                      </a:moveTo>
                      <a:lnTo>
                        <a:pt x="9" y="68"/>
                      </a:lnTo>
                      <a:lnTo>
                        <a:pt x="0" y="0"/>
                      </a:lnTo>
                      <a:lnTo>
                        <a:pt x="324" y="0"/>
                      </a:lnTo>
                      <a:lnTo>
                        <a:pt x="341" y="6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62240" y="2921400"/>
                  <a:ext cx="45360" cy="11160"/>
                </a:xfrm>
                <a:custGeom>
                  <a:avLst/>
                  <a:gdLst/>
                  <a:ahLst/>
                  <a:rect l="l" t="t" r="r" b="b"/>
                  <a:pathLst>
                    <a:path w="199" h="36">
                      <a:moveTo>
                        <a:pt x="199" y="0"/>
                      </a:moveTo>
                      <a:lnTo>
                        <a:pt x="7" y="0"/>
                      </a:lnTo>
                      <a:lnTo>
                        <a:pt x="0" y="36"/>
                      </a:lnTo>
                      <a:lnTo>
                        <a:pt x="182" y="36"/>
                      </a:lnTo>
                      <a:lnTo>
                        <a:pt x="19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03280" y="2921400"/>
                  <a:ext cx="4320" cy="35280"/>
                </a:xfrm>
                <a:custGeom>
                  <a:avLst/>
                  <a:gdLst/>
                  <a:ahLst/>
                  <a:rect l="l" t="t" r="r" b="b"/>
                  <a:pathLst>
                    <a:path w="20" h="123">
                      <a:moveTo>
                        <a:pt x="20" y="0"/>
                      </a:moveTo>
                      <a:lnTo>
                        <a:pt x="20" y="123"/>
                      </a:lnTo>
                      <a:lnTo>
                        <a:pt x="0" y="41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64760" y="2941200"/>
                  <a:ext cx="13320" cy="12600"/>
                </a:xfrm>
                <a:prstGeom prst="ellipse">
                  <a:avLst/>
                </a:prstGeom>
                <a:solidFill>
                  <a:srgbClr val="c0c0c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63960" y="2932560"/>
                  <a:ext cx="148320" cy="576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" name=""/>
                <p:cNvGrpSpPr/>
                <p:nvPr/>
              </p:nvGrpSpPr>
              <p:grpSpPr>
                <a:xfrm>
                  <a:off x="461160" y="2910240"/>
                  <a:ext cx="15480" cy="52560"/>
                  <a:chOff x="461160" y="2910240"/>
                  <a:chExt cx="15480" cy="5256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461160" y="2911320"/>
                    <a:ext cx="1440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83">
                        <a:moveTo>
                          <a:pt x="54" y="2"/>
                        </a:moveTo>
                        <a:lnTo>
                          <a:pt x="30" y="0"/>
                        </a:lnTo>
                        <a:lnTo>
                          <a:pt x="13" y="10"/>
                        </a:lnTo>
                        <a:lnTo>
                          <a:pt x="8" y="31"/>
                        </a:lnTo>
                        <a:lnTo>
                          <a:pt x="0" y="73"/>
                        </a:lnTo>
                        <a:lnTo>
                          <a:pt x="17" y="181"/>
                        </a:lnTo>
                        <a:lnTo>
                          <a:pt x="30" y="183"/>
                        </a:lnTo>
                        <a:lnTo>
                          <a:pt x="30" y="88"/>
                        </a:lnTo>
                        <a:lnTo>
                          <a:pt x="59" y="48"/>
                        </a:lnTo>
                        <a:lnTo>
                          <a:pt x="67" y="29"/>
                        </a:lnTo>
                        <a:lnTo>
                          <a:pt x="65" y="12"/>
                        </a:lnTo>
                        <a:lnTo>
                          <a:pt x="54" y="2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61880" y="2910240"/>
                    <a:ext cx="147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83">
                        <a:moveTo>
                          <a:pt x="53" y="2"/>
                        </a:moveTo>
                        <a:lnTo>
                          <a:pt x="29" y="0"/>
                        </a:lnTo>
                        <a:lnTo>
                          <a:pt x="14" y="10"/>
                        </a:lnTo>
                        <a:lnTo>
                          <a:pt x="7" y="31"/>
                        </a:lnTo>
                        <a:lnTo>
                          <a:pt x="0" y="72"/>
                        </a:lnTo>
                        <a:lnTo>
                          <a:pt x="17" y="181"/>
                        </a:lnTo>
                        <a:lnTo>
                          <a:pt x="29" y="183"/>
                        </a:lnTo>
                        <a:lnTo>
                          <a:pt x="29" y="88"/>
                        </a:lnTo>
                        <a:lnTo>
                          <a:pt x="59" y="48"/>
                        </a:lnTo>
                        <a:lnTo>
                          <a:pt x="67" y="29"/>
                        </a:lnTo>
                        <a:lnTo>
                          <a:pt x="65" y="12"/>
                        </a:lnTo>
                        <a:lnTo>
                          <a:pt x="53" y="2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9" name=""/>
            <p:cNvSpPr/>
            <p:nvPr/>
          </p:nvSpPr>
          <p:spPr>
            <a:xfrm>
              <a:off x="388080" y="2997360"/>
              <a:ext cx="9864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7600" y="3010320"/>
              <a:ext cx="43200" cy="9360"/>
            </a:xfrm>
            <a:custGeom>
              <a:avLst/>
              <a:gdLst/>
              <a:ahLst/>
              <a:rect l="l" t="t" r="r" b="b"/>
              <a:pathLst>
                <a:path w="190" h="35">
                  <a:moveTo>
                    <a:pt x="5" y="35"/>
                  </a:moveTo>
                  <a:lnTo>
                    <a:pt x="0" y="0"/>
                  </a:lnTo>
                  <a:lnTo>
                    <a:pt x="185" y="0"/>
                  </a:lnTo>
                  <a:lnTo>
                    <a:pt x="190" y="34"/>
                  </a:lnTo>
                </a:path>
              </a:pathLst>
            </a:custGeom>
            <a:noFill/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0600" y="2642040"/>
              <a:ext cx="38520" cy="52560"/>
            </a:xfrm>
            <a:custGeom>
              <a:avLst/>
              <a:gdLst/>
              <a:ahLst/>
              <a:rect l="l" t="t" r="r" b="b"/>
              <a:pathLst>
                <a:path w="168" h="181">
                  <a:moveTo>
                    <a:pt x="155" y="0"/>
                  </a:moveTo>
                  <a:lnTo>
                    <a:pt x="0" y="0"/>
                  </a:lnTo>
                  <a:lnTo>
                    <a:pt x="11" y="181"/>
                  </a:lnTo>
                  <a:lnTo>
                    <a:pt x="168" y="181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c0c0c0"/>
            </a:solidFill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920" y="2730600"/>
              <a:ext cx="39600" cy="51120"/>
            </a:xfrm>
            <a:custGeom>
              <a:avLst/>
              <a:gdLst/>
              <a:ahLst/>
              <a:rect l="l" t="t" r="r" b="b"/>
              <a:pathLst>
                <a:path w="175" h="183">
                  <a:moveTo>
                    <a:pt x="162" y="0"/>
                  </a:moveTo>
                  <a:lnTo>
                    <a:pt x="0" y="0"/>
                  </a:lnTo>
                  <a:lnTo>
                    <a:pt x="12" y="183"/>
                  </a:lnTo>
                  <a:lnTo>
                    <a:pt x="175" y="18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c0c0c0"/>
            </a:solidFill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62880" y="2726280"/>
              <a:ext cx="168120" cy="55440"/>
              <a:chOff x="362880" y="2726280"/>
              <a:chExt cx="168120" cy="55440"/>
            </a:xfrm>
          </p:grpSpPr>
          <p:sp>
            <p:nvSpPr>
              <p:cNvPr id="184" name=""/>
              <p:cNvSpPr/>
              <p:nvPr/>
            </p:nvSpPr>
            <p:spPr>
              <a:xfrm>
                <a:off x="362880" y="2726280"/>
                <a:ext cx="168120" cy="55440"/>
              </a:xfrm>
              <a:prstGeom prst="rect">
                <a:avLst/>
              </a:prstGeom>
              <a:solidFill>
                <a:srgbClr val="60606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93480" y="2733120"/>
                <a:ext cx="20520" cy="18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93480" y="2756160"/>
                <a:ext cx="20520" cy="18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4160" y="2744640"/>
                <a:ext cx="20520" cy="169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71880" y="2744640"/>
                <a:ext cx="14400" cy="216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8610480" y="2643120"/>
            <a:ext cx="533160" cy="668520"/>
            <a:chOff x="8610480" y="2643120"/>
            <a:chExt cx="533160" cy="668520"/>
          </a:xfrm>
        </p:grpSpPr>
        <p:grpSp>
          <p:nvGrpSpPr>
            <p:cNvPr id="190" name=""/>
            <p:cNvGrpSpPr/>
            <p:nvPr/>
          </p:nvGrpSpPr>
          <p:grpSpPr>
            <a:xfrm>
              <a:off x="8610480" y="2643120"/>
              <a:ext cx="533160" cy="666720"/>
              <a:chOff x="8610480" y="2643120"/>
              <a:chExt cx="533160" cy="666720"/>
            </a:xfrm>
          </p:grpSpPr>
          <p:sp>
            <p:nvSpPr>
              <p:cNvPr id="191" name=""/>
              <p:cNvSpPr/>
              <p:nvPr/>
            </p:nvSpPr>
            <p:spPr>
              <a:xfrm>
                <a:off x="8767800" y="2687400"/>
                <a:ext cx="358560" cy="11520"/>
              </a:xfrm>
              <a:custGeom>
                <a:avLst/>
                <a:gdLst/>
                <a:ahLst/>
                <a:rect l="l" t="t" r="r" b="b"/>
                <a:pathLst>
                  <a:path w="1232" h="46">
                    <a:moveTo>
                      <a:pt x="0" y="0"/>
                    </a:moveTo>
                    <a:lnTo>
                      <a:pt x="73" y="46"/>
                    </a:lnTo>
                    <a:lnTo>
                      <a:pt x="1232" y="46"/>
                    </a:lnTo>
                    <a:lnTo>
                      <a:pt x="119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66360" y="2685960"/>
                <a:ext cx="90000" cy="623880"/>
              </a:xfrm>
              <a:custGeom>
                <a:avLst/>
                <a:gdLst/>
                <a:ahLst/>
                <a:rect l="l" t="t" r="r" b="b"/>
                <a:pathLst>
                  <a:path w="312" h="2397">
                    <a:moveTo>
                      <a:pt x="0" y="2316"/>
                    </a:moveTo>
                    <a:lnTo>
                      <a:pt x="64" y="2397"/>
                    </a:lnTo>
                    <a:lnTo>
                      <a:pt x="312" y="796"/>
                    </a:lnTo>
                    <a:lnTo>
                      <a:pt x="80" y="48"/>
                    </a:lnTo>
                    <a:lnTo>
                      <a:pt x="3" y="0"/>
                    </a:lnTo>
                    <a:lnTo>
                      <a:pt x="0" y="875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610480" y="2643120"/>
                <a:ext cx="157320" cy="645840"/>
              </a:xfrm>
              <a:custGeom>
                <a:avLst/>
                <a:gdLst/>
                <a:ahLst/>
                <a:rect l="l" t="t" r="r" b="b"/>
                <a:pathLst>
                  <a:path w="542" h="2477">
                    <a:moveTo>
                      <a:pt x="0" y="0"/>
                    </a:moveTo>
                    <a:lnTo>
                      <a:pt x="542" y="162"/>
                    </a:lnTo>
                    <a:lnTo>
                      <a:pt x="542" y="2477"/>
                    </a:lnTo>
                    <a:lnTo>
                      <a:pt x="0" y="18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610480" y="2643120"/>
                <a:ext cx="505440" cy="44280"/>
              </a:xfrm>
              <a:custGeom>
                <a:avLst/>
                <a:gdLst/>
                <a:ahLst/>
                <a:rect l="l" t="t" r="r" b="b"/>
                <a:pathLst>
                  <a:path w="1737" h="170">
                    <a:moveTo>
                      <a:pt x="543" y="170"/>
                    </a:moveTo>
                    <a:lnTo>
                      <a:pt x="1737" y="170"/>
                    </a:lnTo>
                    <a:lnTo>
                      <a:pt x="900" y="0"/>
                    </a:lnTo>
                    <a:lnTo>
                      <a:pt x="0" y="0"/>
                    </a:lnTo>
                    <a:lnTo>
                      <a:pt x="543" y="170"/>
                    </a:lnTo>
                    <a:close/>
                  </a:path>
                </a:pathLst>
              </a:custGeom>
              <a:solidFill>
                <a:srgbClr val="e0e0e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786880" y="2919240"/>
                <a:ext cx="327600" cy="390600"/>
              </a:xfrm>
              <a:prstGeom prst="rect">
                <a:avLst/>
              </a:prstGeom>
              <a:solidFill>
                <a:srgbClr val="c0c0c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89760" y="2697480"/>
                <a:ext cx="352440" cy="196560"/>
              </a:xfrm>
              <a:custGeom>
                <a:avLst/>
                <a:gdLst/>
                <a:ahLst/>
                <a:rect l="l" t="t" r="r" b="b"/>
                <a:pathLst>
                  <a:path w="1212" h="754">
                    <a:moveTo>
                      <a:pt x="0" y="0"/>
                    </a:moveTo>
                    <a:lnTo>
                      <a:pt x="1156" y="0"/>
                    </a:lnTo>
                    <a:lnTo>
                      <a:pt x="1212" y="754"/>
                    </a:lnTo>
                    <a:lnTo>
                      <a:pt x="49" y="7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86880" y="2894400"/>
                <a:ext cx="356760" cy="23400"/>
              </a:xfrm>
              <a:custGeom>
                <a:avLst/>
                <a:gdLst/>
                <a:ahLst/>
                <a:rect l="l" t="t" r="r" b="b"/>
                <a:pathLst>
                  <a:path w="1226" h="90">
                    <a:moveTo>
                      <a:pt x="0" y="90"/>
                    </a:moveTo>
                    <a:lnTo>
                      <a:pt x="1132" y="90"/>
                    </a:lnTo>
                    <a:lnTo>
                      <a:pt x="1226" y="0"/>
                    </a:lnTo>
                    <a:lnTo>
                      <a:pt x="62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789760" y="2687400"/>
              <a:ext cx="100080" cy="624240"/>
              <a:chOff x="8789760" y="2687400"/>
              <a:chExt cx="100080" cy="624240"/>
            </a:xfrm>
          </p:grpSpPr>
          <p:sp>
            <p:nvSpPr>
              <p:cNvPr id="199" name=""/>
              <p:cNvSpPr/>
              <p:nvPr/>
            </p:nvSpPr>
            <p:spPr>
              <a:xfrm>
                <a:off x="8789760" y="2687400"/>
                <a:ext cx="28800" cy="622800"/>
              </a:xfrm>
              <a:custGeom>
                <a:avLst/>
                <a:gdLst/>
                <a:ahLst/>
                <a:rect l="l" t="t" r="r" b="b"/>
                <a:pathLst>
                  <a:path w="102" h="2391">
                    <a:moveTo>
                      <a:pt x="0" y="0"/>
                    </a:moveTo>
                    <a:lnTo>
                      <a:pt x="52" y="40"/>
                    </a:lnTo>
                    <a:lnTo>
                      <a:pt x="102" y="802"/>
                    </a:lnTo>
                    <a:lnTo>
                      <a:pt x="50" y="889"/>
                    </a:lnTo>
                    <a:lnTo>
                      <a:pt x="47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801280" y="2688840"/>
                <a:ext cx="27720" cy="622800"/>
              </a:xfrm>
              <a:custGeom>
                <a:avLst/>
                <a:gdLst/>
                <a:ahLst/>
                <a:rect l="l" t="t" r="r" b="b"/>
                <a:pathLst>
                  <a:path w="95" h="2391">
                    <a:moveTo>
                      <a:pt x="0" y="0"/>
                    </a:moveTo>
                    <a:lnTo>
                      <a:pt x="45" y="40"/>
                    </a:lnTo>
                    <a:lnTo>
                      <a:pt x="95" y="802"/>
                    </a:lnTo>
                    <a:lnTo>
                      <a:pt x="44" y="888"/>
                    </a:lnTo>
                    <a:lnTo>
                      <a:pt x="42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809920" y="2687400"/>
                <a:ext cx="29160" cy="622800"/>
              </a:xfrm>
              <a:custGeom>
                <a:avLst/>
                <a:gdLst/>
                <a:ahLst/>
                <a:rect l="l" t="t" r="r" b="b"/>
                <a:pathLst>
                  <a:path w="102" h="2391">
                    <a:moveTo>
                      <a:pt x="0" y="0"/>
                    </a:moveTo>
                    <a:lnTo>
                      <a:pt x="50" y="40"/>
                    </a:lnTo>
                    <a:lnTo>
                      <a:pt x="102" y="796"/>
                    </a:lnTo>
                    <a:lnTo>
                      <a:pt x="47" y="882"/>
                    </a:lnTo>
                    <a:lnTo>
                      <a:pt x="47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20000" y="2688840"/>
                <a:ext cx="28800" cy="621360"/>
              </a:xfrm>
              <a:custGeom>
                <a:avLst/>
                <a:gdLst/>
                <a:ahLst/>
                <a:rect l="l" t="t" r="r" b="b"/>
                <a:pathLst>
                  <a:path w="98" h="2385">
                    <a:moveTo>
                      <a:pt x="0" y="0"/>
                    </a:moveTo>
                    <a:lnTo>
                      <a:pt x="48" y="35"/>
                    </a:lnTo>
                    <a:lnTo>
                      <a:pt x="98" y="796"/>
                    </a:lnTo>
                    <a:lnTo>
                      <a:pt x="46" y="883"/>
                    </a:lnTo>
                    <a:lnTo>
                      <a:pt x="44" y="2385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831520" y="2687400"/>
                <a:ext cx="27720" cy="620280"/>
              </a:xfrm>
              <a:custGeom>
                <a:avLst/>
                <a:gdLst/>
                <a:ahLst/>
                <a:rect l="l" t="t" r="r" b="b"/>
                <a:pathLst>
                  <a:path w="97" h="2383">
                    <a:moveTo>
                      <a:pt x="0" y="0"/>
                    </a:moveTo>
                    <a:lnTo>
                      <a:pt x="47" y="46"/>
                    </a:lnTo>
                    <a:lnTo>
                      <a:pt x="97" y="795"/>
                    </a:lnTo>
                    <a:lnTo>
                      <a:pt x="44" y="881"/>
                    </a:lnTo>
                    <a:lnTo>
                      <a:pt x="42" y="2383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841960" y="2688840"/>
                <a:ext cx="27720" cy="620280"/>
              </a:xfrm>
              <a:custGeom>
                <a:avLst/>
                <a:gdLst/>
                <a:ahLst/>
                <a:rect l="l" t="t" r="r" b="b"/>
                <a:pathLst>
                  <a:path w="92" h="2384">
                    <a:moveTo>
                      <a:pt x="0" y="0"/>
                    </a:moveTo>
                    <a:lnTo>
                      <a:pt x="42" y="40"/>
                    </a:lnTo>
                    <a:lnTo>
                      <a:pt x="92" y="794"/>
                    </a:lnTo>
                    <a:lnTo>
                      <a:pt x="40" y="881"/>
                    </a:lnTo>
                    <a:lnTo>
                      <a:pt x="38" y="2384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852040" y="2688840"/>
                <a:ext cx="27720" cy="621360"/>
              </a:xfrm>
              <a:custGeom>
                <a:avLst/>
                <a:gdLst/>
                <a:ahLst/>
                <a:rect l="l" t="t" r="r" b="b"/>
                <a:pathLst>
                  <a:path w="93" h="2389">
                    <a:moveTo>
                      <a:pt x="0" y="0"/>
                    </a:moveTo>
                    <a:lnTo>
                      <a:pt x="41" y="42"/>
                    </a:lnTo>
                    <a:lnTo>
                      <a:pt x="93" y="786"/>
                    </a:lnTo>
                    <a:lnTo>
                      <a:pt x="38" y="880"/>
                    </a:lnTo>
                    <a:lnTo>
                      <a:pt x="38" y="2389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862120" y="2688840"/>
                <a:ext cx="27720" cy="618840"/>
              </a:xfrm>
              <a:custGeom>
                <a:avLst/>
                <a:gdLst/>
                <a:ahLst/>
                <a:rect l="l" t="t" r="r" b="b"/>
                <a:pathLst>
                  <a:path w="93" h="2377">
                    <a:moveTo>
                      <a:pt x="0" y="0"/>
                    </a:moveTo>
                    <a:lnTo>
                      <a:pt x="43" y="40"/>
                    </a:lnTo>
                    <a:lnTo>
                      <a:pt x="93" y="789"/>
                    </a:lnTo>
                    <a:lnTo>
                      <a:pt x="42" y="875"/>
                    </a:lnTo>
                    <a:lnTo>
                      <a:pt x="39" y="2377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8885880" y="2968920"/>
              <a:ext cx="215280" cy="30996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885880" y="3029040"/>
              <a:ext cx="215280" cy="6228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85880" y="3091320"/>
              <a:ext cx="215280" cy="6264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885880" y="3151440"/>
              <a:ext cx="215280" cy="6264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23680" y="3040560"/>
              <a:ext cx="141480" cy="3780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23680" y="3101760"/>
              <a:ext cx="141480" cy="3924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019800" y="2975400"/>
              <a:ext cx="10080" cy="39960"/>
            </a:xfrm>
            <a:custGeom>
              <a:avLst/>
              <a:gdLst/>
              <a:ahLst/>
              <a:rect l="l" t="t" r="r" b="b"/>
              <a:pathLst>
                <a:path w="33" h="152">
                  <a:moveTo>
                    <a:pt x="33" y="0"/>
                  </a:moveTo>
                  <a:lnTo>
                    <a:pt x="33" y="152"/>
                  </a:lnTo>
                  <a:lnTo>
                    <a:pt x="0" y="6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8885880" y="2968920"/>
              <a:ext cx="215280" cy="62280"/>
              <a:chOff x="8885880" y="2968920"/>
              <a:chExt cx="215280" cy="62280"/>
            </a:xfrm>
          </p:grpSpPr>
          <p:sp>
            <p:nvSpPr>
              <p:cNvPr id="215" name=""/>
              <p:cNvSpPr/>
              <p:nvPr/>
            </p:nvSpPr>
            <p:spPr>
              <a:xfrm>
                <a:off x="8885880" y="2968920"/>
                <a:ext cx="215280" cy="62280"/>
              </a:xfrm>
              <a:prstGeom prst="rect">
                <a:avLst/>
              </a:prstGeom>
              <a:solidFill>
                <a:srgbClr val="a0a0a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907480" y="2977920"/>
                <a:ext cx="15840" cy="648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8900280" y="2972520"/>
                <a:ext cx="190440" cy="47880"/>
                <a:chOff x="8900280" y="2972520"/>
                <a:chExt cx="190440" cy="478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8985960" y="2975040"/>
                  <a:ext cx="43560" cy="17640"/>
                </a:xfrm>
                <a:custGeom>
                  <a:avLst/>
                  <a:gdLst/>
                  <a:ahLst/>
                  <a:rect l="l" t="t" r="r" b="b"/>
                  <a:pathLst>
                    <a:path w="152" h="69">
                      <a:moveTo>
                        <a:pt x="152" y="0"/>
                      </a:moveTo>
                      <a:lnTo>
                        <a:pt x="9" y="0"/>
                      </a:lnTo>
                      <a:lnTo>
                        <a:pt x="0" y="69"/>
                      </a:lnTo>
                      <a:lnTo>
                        <a:pt x="134" y="67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985960" y="2998080"/>
                  <a:ext cx="99000" cy="16560"/>
                </a:xfrm>
                <a:custGeom>
                  <a:avLst/>
                  <a:gdLst/>
                  <a:ahLst/>
                  <a:rect l="l" t="t" r="r" b="b"/>
                  <a:pathLst>
                    <a:path w="341" h="68">
                      <a:moveTo>
                        <a:pt x="341" y="68"/>
                      </a:moveTo>
                      <a:lnTo>
                        <a:pt x="9" y="68"/>
                      </a:lnTo>
                      <a:lnTo>
                        <a:pt x="0" y="0"/>
                      </a:lnTo>
                      <a:lnTo>
                        <a:pt x="324" y="0"/>
                      </a:lnTo>
                      <a:lnTo>
                        <a:pt x="341" y="6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9026640" y="2982600"/>
                  <a:ext cx="58320" cy="10080"/>
                </a:xfrm>
                <a:custGeom>
                  <a:avLst/>
                  <a:gdLst/>
                  <a:ahLst/>
                  <a:rect l="l" t="t" r="r" b="b"/>
                  <a:pathLst>
                    <a:path w="199" h="36">
                      <a:moveTo>
                        <a:pt x="199" y="0"/>
                      </a:moveTo>
                      <a:lnTo>
                        <a:pt x="7" y="0"/>
                      </a:lnTo>
                      <a:lnTo>
                        <a:pt x="0" y="36"/>
                      </a:lnTo>
                      <a:lnTo>
                        <a:pt x="182" y="36"/>
                      </a:lnTo>
                      <a:lnTo>
                        <a:pt x="19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9078840" y="2982600"/>
                  <a:ext cx="5760" cy="32040"/>
                </a:xfrm>
                <a:custGeom>
                  <a:avLst/>
                  <a:gdLst/>
                  <a:ahLst/>
                  <a:rect l="l" t="t" r="r" b="b"/>
                  <a:pathLst>
                    <a:path w="20" h="123">
                      <a:moveTo>
                        <a:pt x="20" y="0"/>
                      </a:moveTo>
                      <a:lnTo>
                        <a:pt x="20" y="123"/>
                      </a:lnTo>
                      <a:lnTo>
                        <a:pt x="0" y="41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9029520" y="3000960"/>
                  <a:ext cx="17280" cy="11520"/>
                </a:xfrm>
                <a:prstGeom prst="ellipse">
                  <a:avLst/>
                </a:prstGeom>
                <a:solidFill>
                  <a:srgbClr val="c0c0c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900280" y="2993040"/>
                  <a:ext cx="190440" cy="504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" name=""/>
                <p:cNvGrpSpPr/>
                <p:nvPr/>
              </p:nvGrpSpPr>
              <p:grpSpPr>
                <a:xfrm>
                  <a:off x="9025200" y="2972520"/>
                  <a:ext cx="19800" cy="47880"/>
                  <a:chOff x="9025200" y="2972520"/>
                  <a:chExt cx="19800" cy="4788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9025200" y="2973600"/>
                    <a:ext cx="1836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83">
                        <a:moveTo>
                          <a:pt x="54" y="2"/>
                        </a:moveTo>
                        <a:lnTo>
                          <a:pt x="30" y="0"/>
                        </a:lnTo>
                        <a:lnTo>
                          <a:pt x="13" y="10"/>
                        </a:lnTo>
                        <a:lnTo>
                          <a:pt x="8" y="31"/>
                        </a:lnTo>
                        <a:lnTo>
                          <a:pt x="0" y="73"/>
                        </a:lnTo>
                        <a:lnTo>
                          <a:pt x="17" y="181"/>
                        </a:lnTo>
                        <a:lnTo>
                          <a:pt x="30" y="183"/>
                        </a:lnTo>
                        <a:lnTo>
                          <a:pt x="30" y="88"/>
                        </a:lnTo>
                        <a:lnTo>
                          <a:pt x="59" y="48"/>
                        </a:lnTo>
                        <a:lnTo>
                          <a:pt x="67" y="29"/>
                        </a:lnTo>
                        <a:lnTo>
                          <a:pt x="65" y="12"/>
                        </a:lnTo>
                        <a:lnTo>
                          <a:pt x="54" y="2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9026280" y="2972520"/>
                    <a:ext cx="187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83">
                        <a:moveTo>
                          <a:pt x="53" y="2"/>
                        </a:moveTo>
                        <a:lnTo>
                          <a:pt x="29" y="0"/>
                        </a:lnTo>
                        <a:lnTo>
                          <a:pt x="14" y="10"/>
                        </a:lnTo>
                        <a:lnTo>
                          <a:pt x="7" y="31"/>
                        </a:lnTo>
                        <a:lnTo>
                          <a:pt x="0" y="72"/>
                        </a:lnTo>
                        <a:lnTo>
                          <a:pt x="17" y="181"/>
                        </a:lnTo>
                        <a:lnTo>
                          <a:pt x="29" y="183"/>
                        </a:lnTo>
                        <a:lnTo>
                          <a:pt x="29" y="88"/>
                        </a:lnTo>
                        <a:lnTo>
                          <a:pt x="59" y="48"/>
                        </a:lnTo>
                        <a:lnTo>
                          <a:pt x="67" y="29"/>
                        </a:lnTo>
                        <a:lnTo>
                          <a:pt x="65" y="12"/>
                        </a:lnTo>
                        <a:lnTo>
                          <a:pt x="53" y="2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7" name=""/>
            <p:cNvSpPr/>
            <p:nvPr/>
          </p:nvSpPr>
          <p:spPr>
            <a:xfrm>
              <a:off x="8930880" y="3052440"/>
              <a:ext cx="126720" cy="5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969040" y="3063960"/>
              <a:ext cx="55440" cy="8640"/>
            </a:xfrm>
            <a:custGeom>
              <a:avLst/>
              <a:gdLst/>
              <a:ahLst/>
              <a:rect l="l" t="t" r="r" b="b"/>
              <a:pathLst>
                <a:path w="190" h="35">
                  <a:moveTo>
                    <a:pt x="5" y="35"/>
                  </a:moveTo>
                  <a:lnTo>
                    <a:pt x="0" y="0"/>
                  </a:lnTo>
                  <a:lnTo>
                    <a:pt x="185" y="0"/>
                  </a:lnTo>
                  <a:lnTo>
                    <a:pt x="190" y="34"/>
                  </a:lnTo>
                </a:path>
              </a:pathLst>
            </a:custGeom>
            <a:noFill/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818920" y="2727720"/>
              <a:ext cx="49320" cy="47880"/>
            </a:xfrm>
            <a:custGeom>
              <a:avLst/>
              <a:gdLst/>
              <a:ahLst/>
              <a:rect l="l" t="t" r="r" b="b"/>
              <a:pathLst>
                <a:path w="168" h="181">
                  <a:moveTo>
                    <a:pt x="155" y="0"/>
                  </a:moveTo>
                  <a:lnTo>
                    <a:pt x="0" y="0"/>
                  </a:lnTo>
                  <a:lnTo>
                    <a:pt x="11" y="181"/>
                  </a:lnTo>
                  <a:lnTo>
                    <a:pt x="168" y="181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c0c0c0"/>
            </a:solidFill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824680" y="2808360"/>
              <a:ext cx="51120" cy="46800"/>
            </a:xfrm>
            <a:custGeom>
              <a:avLst/>
              <a:gdLst/>
              <a:ahLst/>
              <a:rect l="l" t="t" r="r" b="b"/>
              <a:pathLst>
                <a:path w="175" h="183">
                  <a:moveTo>
                    <a:pt x="162" y="0"/>
                  </a:moveTo>
                  <a:lnTo>
                    <a:pt x="0" y="0"/>
                  </a:lnTo>
                  <a:lnTo>
                    <a:pt x="12" y="183"/>
                  </a:lnTo>
                  <a:lnTo>
                    <a:pt x="175" y="18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c0c0c0"/>
            </a:solidFill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8898840" y="2804760"/>
              <a:ext cx="215640" cy="50760"/>
              <a:chOff x="8898840" y="2804760"/>
              <a:chExt cx="215640" cy="5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8898840" y="2804760"/>
                <a:ext cx="215640" cy="50760"/>
              </a:xfrm>
              <a:prstGeom prst="rect">
                <a:avLst/>
              </a:prstGeom>
              <a:solidFill>
                <a:srgbClr val="60606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938080" y="2811240"/>
                <a:ext cx="26280" cy="16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938080" y="2832120"/>
                <a:ext cx="26280" cy="16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990640" y="2821320"/>
                <a:ext cx="26280" cy="154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910720" y="2821320"/>
                <a:ext cx="18720" cy="1944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>
            <a:off x="2798640" y="2030400"/>
            <a:ext cx="71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632448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l Signa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586728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cket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47840" y="6500520"/>
            <a:ext cx="749160" cy="32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65120" y="6254280"/>
            <a:ext cx="703440" cy="1800"/>
          </a:xfrm>
          <a:prstGeom prst="line">
            <a:avLst/>
          </a:prstGeom>
          <a:ln w="2844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609588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oS Signa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19040" y="5990760"/>
            <a:ext cx="722520" cy="1908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760" y="2884320"/>
            <a:ext cx="913788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35440" y="257976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49840" y="295596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por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0520" y="314280"/>
            <a:ext cx="49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  Application Controlled Approach to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184400" y="1469880"/>
            <a:ext cx="1714320" cy="952200"/>
            <a:chOff x="1184400" y="1469880"/>
            <a:chExt cx="1714320" cy="952200"/>
          </a:xfrm>
        </p:grpSpPr>
        <p:sp>
          <p:nvSpPr>
            <p:cNvPr id="249" name=""/>
            <p:cNvSpPr/>
            <p:nvPr/>
          </p:nvSpPr>
          <p:spPr>
            <a:xfrm>
              <a:off x="1184400" y="1469880"/>
              <a:ext cx="1714320" cy="952200"/>
            </a:xfrm>
            <a:prstGeom prst="ellipse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42600" y="1701360"/>
              <a:ext cx="1078200" cy="515160"/>
            </a:xfrm>
            <a:prstGeom prst="rect">
              <a:avLst/>
            </a:prstGeom>
            <a:solidFill>
              <a:srgbClr val="fda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Service Domain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81160" y="2101680"/>
            <a:ext cx="1089000" cy="522360"/>
            <a:chOff x="281160" y="2101680"/>
            <a:chExt cx="1089000" cy="522360"/>
          </a:xfrm>
        </p:grpSpPr>
        <p:sp>
          <p:nvSpPr>
            <p:cNvPr id="252" name=""/>
            <p:cNvSpPr/>
            <p:nvPr/>
          </p:nvSpPr>
          <p:spPr>
            <a:xfrm flipV="1">
              <a:off x="562320" y="2214360"/>
              <a:ext cx="807840" cy="4096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81160" y="2101680"/>
              <a:ext cx="957240" cy="43344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884320" y="1855440"/>
            <a:ext cx="5891400" cy="849600"/>
            <a:chOff x="2884320" y="1855440"/>
            <a:chExt cx="5891400" cy="849600"/>
          </a:xfrm>
        </p:grpSpPr>
        <p:sp>
          <p:nvSpPr>
            <p:cNvPr id="255" name=""/>
            <p:cNvSpPr/>
            <p:nvPr/>
          </p:nvSpPr>
          <p:spPr>
            <a:xfrm>
              <a:off x="2884320" y="2077920"/>
              <a:ext cx="5891400" cy="62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2933640" y="1855440"/>
              <a:ext cx="5765760" cy="6541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411280" y="2405160"/>
            <a:ext cx="1785960" cy="1906560"/>
          </a:xfrm>
          <a:prstGeom prst="line">
            <a:avLst/>
          </a:prstGeom>
          <a:ln w="2844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51200" y="2417760"/>
            <a:ext cx="4680" cy="1243080"/>
          </a:xfrm>
          <a:prstGeom prst="line">
            <a:avLst/>
          </a:prstGeom>
          <a:ln w="2844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069920" y="3678120"/>
            <a:ext cx="1714680" cy="952200"/>
            <a:chOff x="1069920" y="3678120"/>
            <a:chExt cx="1714680" cy="952200"/>
          </a:xfrm>
        </p:grpSpPr>
        <p:sp>
          <p:nvSpPr>
            <p:cNvPr id="260" name=""/>
            <p:cNvSpPr/>
            <p:nvPr/>
          </p:nvSpPr>
          <p:spPr>
            <a:xfrm>
              <a:off x="1069920" y="3678120"/>
              <a:ext cx="1714680" cy="952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28120" y="3909600"/>
              <a:ext cx="1078560" cy="515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Transport Domain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726000" y="4267080"/>
            <a:ext cx="1714320" cy="952200"/>
            <a:chOff x="3726000" y="4267080"/>
            <a:chExt cx="1714320" cy="952200"/>
          </a:xfrm>
        </p:grpSpPr>
        <p:sp>
          <p:nvSpPr>
            <p:cNvPr id="263" name=""/>
            <p:cNvSpPr/>
            <p:nvPr/>
          </p:nvSpPr>
          <p:spPr>
            <a:xfrm>
              <a:off x="3726000" y="4267080"/>
              <a:ext cx="1714320" cy="952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84200" y="4498560"/>
              <a:ext cx="1078200" cy="515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Transport Domain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351480" y="3794040"/>
            <a:ext cx="1714680" cy="952200"/>
            <a:chOff x="6351480" y="3794040"/>
            <a:chExt cx="1714680" cy="952200"/>
          </a:xfrm>
        </p:grpSpPr>
        <p:sp>
          <p:nvSpPr>
            <p:cNvPr id="266" name=""/>
            <p:cNvSpPr/>
            <p:nvPr/>
          </p:nvSpPr>
          <p:spPr>
            <a:xfrm>
              <a:off x="6351480" y="3794040"/>
              <a:ext cx="1714680" cy="952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09680" y="4025520"/>
              <a:ext cx="1078560" cy="515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Transport Domain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31720" y="3265560"/>
            <a:ext cx="8315280" cy="1450800"/>
            <a:chOff x="531720" y="3265560"/>
            <a:chExt cx="8315280" cy="1450800"/>
          </a:xfrm>
        </p:grpSpPr>
        <p:sp>
          <p:nvSpPr>
            <p:cNvPr id="269" name=""/>
            <p:cNvSpPr/>
            <p:nvPr/>
          </p:nvSpPr>
          <p:spPr>
            <a:xfrm flipV="1">
              <a:off x="7966080" y="3265560"/>
              <a:ext cx="880920" cy="7128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1720" y="3271680"/>
              <a:ext cx="647640" cy="660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95680" y="4370400"/>
              <a:ext cx="1012680" cy="326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435640" y="4438440"/>
              <a:ext cx="1000080" cy="2779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 flipV="1">
            <a:off x="5398920" y="4222440"/>
            <a:ext cx="914400" cy="244440"/>
          </a:xfrm>
          <a:prstGeom prst="line">
            <a:avLst/>
          </a:prstGeom>
          <a:ln w="28440">
            <a:solidFill>
              <a:srgbClr val="cccc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660760" y="2220840"/>
            <a:ext cx="3855600" cy="1815840"/>
            <a:chOff x="2660760" y="2220840"/>
            <a:chExt cx="3855600" cy="1815840"/>
          </a:xfrm>
        </p:grpSpPr>
        <p:sp>
          <p:nvSpPr>
            <p:cNvPr id="275" name=""/>
            <p:cNvSpPr/>
            <p:nvPr/>
          </p:nvSpPr>
          <p:spPr>
            <a:xfrm>
              <a:off x="2747160" y="2290320"/>
              <a:ext cx="3769200" cy="1746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60760" y="2220840"/>
              <a:ext cx="290160" cy="29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54360" y="2268360"/>
            <a:ext cx="3713040" cy="1748160"/>
          </a:xfrm>
          <a:prstGeom prst="line">
            <a:avLst/>
          </a:prstGeom>
          <a:ln w="28440">
            <a:solidFill>
              <a:srgbClr val="cccc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717640" y="2206800"/>
            <a:ext cx="3814920" cy="1829880"/>
            <a:chOff x="2717640" y="2206800"/>
            <a:chExt cx="3814920" cy="1829880"/>
          </a:xfrm>
        </p:grpSpPr>
        <p:sp>
          <p:nvSpPr>
            <p:cNvPr id="279" name=""/>
            <p:cNvSpPr/>
            <p:nvPr/>
          </p:nvSpPr>
          <p:spPr>
            <a:xfrm>
              <a:off x="2803320" y="2277000"/>
              <a:ext cx="3729240" cy="1759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17640" y="2206800"/>
              <a:ext cx="287280" cy="29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04920" y="5486400"/>
            <a:ext cx="8534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228600"/>
            <a:ext cx="8534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30120" y="3714840"/>
            <a:ext cx="8802360" cy="1846080"/>
            <a:chOff x="330120" y="3714840"/>
            <a:chExt cx="8802360" cy="1846080"/>
          </a:xfrm>
        </p:grpSpPr>
        <p:grpSp>
          <p:nvGrpSpPr>
            <p:cNvPr id="284" name=""/>
            <p:cNvGrpSpPr/>
            <p:nvPr/>
          </p:nvGrpSpPr>
          <p:grpSpPr>
            <a:xfrm>
              <a:off x="330120" y="4552920"/>
              <a:ext cx="8802360" cy="1008000"/>
              <a:chOff x="330120" y="4552920"/>
              <a:chExt cx="8802360" cy="1008000"/>
            </a:xfrm>
          </p:grpSpPr>
          <p:sp>
            <p:nvSpPr>
              <p:cNvPr id="285" name=""/>
              <p:cNvSpPr/>
              <p:nvPr/>
            </p:nvSpPr>
            <p:spPr>
              <a:xfrm>
                <a:off x="330120" y="4552920"/>
                <a:ext cx="6824520" cy="10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6360" y="4898880"/>
                <a:ext cx="64105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Max Packet Loss, Max Mean Delay, Max Delay Vari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153200" y="4842000"/>
                <a:ext cx="1979280" cy="458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353000" y="4930920"/>
                <a:ext cx="1570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TRANSPO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584160" y="3714840"/>
              <a:ext cx="266400" cy="822240"/>
              <a:chOff x="3584160" y="3714840"/>
              <a:chExt cx="266400" cy="822240"/>
            </a:xfrm>
          </p:grpSpPr>
          <p:sp>
            <p:nvSpPr>
              <p:cNvPr id="290" name=""/>
              <p:cNvSpPr/>
              <p:nvPr/>
            </p:nvSpPr>
            <p:spPr>
              <a:xfrm>
                <a:off x="3681000" y="3714840"/>
                <a:ext cx="75960" cy="56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584160" y="4272120"/>
                <a:ext cx="266400" cy="264960"/>
              </a:xfrm>
              <a:custGeom>
                <a:avLst/>
                <a:gdLst/>
                <a:ahLst/>
                <a:rect l="l" t="t" r="r" b="b"/>
                <a:pathLst>
                  <a:path w="336" h="335">
                    <a:moveTo>
                      <a:pt x="0" y="0"/>
                    </a:moveTo>
                    <a:lnTo>
                      <a:pt x="169" y="335"/>
                    </a:lnTo>
                    <a:lnTo>
                      <a:pt x="3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297000" y="2063880"/>
            <a:ext cx="8847000" cy="1936800"/>
            <a:chOff x="297000" y="2063880"/>
            <a:chExt cx="8847000" cy="1936800"/>
          </a:xfrm>
        </p:grpSpPr>
        <p:sp>
          <p:nvSpPr>
            <p:cNvPr id="293" name=""/>
            <p:cNvSpPr/>
            <p:nvPr/>
          </p:nvSpPr>
          <p:spPr>
            <a:xfrm>
              <a:off x="7140600" y="3301920"/>
              <a:ext cx="2003400" cy="459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01160" y="3373560"/>
              <a:ext cx="168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570480" y="2063880"/>
              <a:ext cx="266400" cy="1006200"/>
              <a:chOff x="3570480" y="2063880"/>
              <a:chExt cx="266400" cy="1006200"/>
            </a:xfrm>
          </p:grpSpPr>
          <p:sp>
            <p:nvSpPr>
              <p:cNvPr id="296" name=""/>
              <p:cNvSpPr/>
              <p:nvPr/>
            </p:nvSpPr>
            <p:spPr>
              <a:xfrm>
                <a:off x="3667320" y="2063880"/>
                <a:ext cx="75960" cy="74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570480" y="2805120"/>
                <a:ext cx="266400" cy="264960"/>
              </a:xfrm>
              <a:custGeom>
                <a:avLst/>
                <a:gdLst/>
                <a:ahLst/>
                <a:rect l="l" t="t" r="r" b="b"/>
                <a:pathLst>
                  <a:path w="336" h="334">
                    <a:moveTo>
                      <a:pt x="0" y="0"/>
                    </a:moveTo>
                    <a:lnTo>
                      <a:pt x="169" y="334"/>
                    </a:lnTo>
                    <a:lnTo>
                      <a:pt x="3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297000" y="3084480"/>
              <a:ext cx="6826320" cy="916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5920" y="3271680"/>
              <a:ext cx="5718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dec Performance, VAD, Frames per Packet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itter Buffer Size,Codec Delay, FEC (Redundanc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110040" y="343080"/>
            <a:ext cx="32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oS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354800" y="1111320"/>
            <a:ext cx="1731960" cy="519120"/>
            <a:chOff x="7354800" y="1111320"/>
            <a:chExt cx="1731960" cy="519120"/>
          </a:xfrm>
        </p:grpSpPr>
        <p:sp>
          <p:nvSpPr>
            <p:cNvPr id="302" name=""/>
            <p:cNvSpPr/>
            <p:nvPr/>
          </p:nvSpPr>
          <p:spPr>
            <a:xfrm>
              <a:off x="7354800" y="1111320"/>
              <a:ext cx="1731960" cy="519120"/>
            </a:xfrm>
            <a:prstGeom prst="wedgeRectCallout">
              <a:avLst>
                <a:gd name="adj1" fmla="val -79787"/>
                <a:gd name="adj2" fmla="val 10321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86920" y="1209600"/>
              <a:ext cx="1373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TU-T SG12/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354800" y="2554200"/>
            <a:ext cx="1701720" cy="519120"/>
            <a:chOff x="7354800" y="2554200"/>
            <a:chExt cx="1701720" cy="519120"/>
          </a:xfrm>
        </p:grpSpPr>
        <p:sp>
          <p:nvSpPr>
            <p:cNvPr id="305" name=""/>
            <p:cNvSpPr/>
            <p:nvPr/>
          </p:nvSpPr>
          <p:spPr>
            <a:xfrm>
              <a:off x="7354800" y="2554200"/>
              <a:ext cx="1701720" cy="519120"/>
            </a:xfrm>
            <a:prstGeom prst="wedgeRectCallout">
              <a:avLst>
                <a:gd name="adj1" fmla="val -80319"/>
                <a:gd name="adj2" fmla="val 10321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54960" y="2697120"/>
              <a:ext cx="1373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TU-T SG16/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340760" y="4040280"/>
            <a:ext cx="1715760" cy="519120"/>
            <a:chOff x="7340760" y="4040280"/>
            <a:chExt cx="1715760" cy="519120"/>
          </a:xfrm>
        </p:grpSpPr>
        <p:sp>
          <p:nvSpPr>
            <p:cNvPr id="308" name=""/>
            <p:cNvSpPr/>
            <p:nvPr/>
          </p:nvSpPr>
          <p:spPr>
            <a:xfrm>
              <a:off x="7340760" y="4040280"/>
              <a:ext cx="1715760" cy="519120"/>
            </a:xfrm>
            <a:prstGeom prst="wedgeRectCallout">
              <a:avLst>
                <a:gd name="adj1" fmla="val -80064"/>
                <a:gd name="adj2" fmla="val 10321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05920" y="4183200"/>
              <a:ext cx="158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TU-T SG13/IET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16080" y="1574640"/>
            <a:ext cx="8780400" cy="916200"/>
            <a:chOff x="316080" y="1574640"/>
            <a:chExt cx="8780400" cy="916200"/>
          </a:xfrm>
        </p:grpSpPr>
        <p:sp>
          <p:nvSpPr>
            <p:cNvPr id="311" name=""/>
            <p:cNvSpPr/>
            <p:nvPr/>
          </p:nvSpPr>
          <p:spPr>
            <a:xfrm>
              <a:off x="7126560" y="1846440"/>
              <a:ext cx="1969920" cy="458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71520" y="1935000"/>
              <a:ext cx="111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6080" y="1574640"/>
              <a:ext cx="6796080" cy="916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81200" y="1860480"/>
              <a:ext cx="2138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oS Service 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commerce/e-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user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ITU-T work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commerce/e-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U-T well placed to provid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erienc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mission &amp;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operabi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ing &amp; accoui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ttlements across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commerce/e-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ment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aspects &amp;  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 &amp;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king and aud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management an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s and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John Mag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Vice Chairman ITU-T Study Group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Consultant to Agere Systems, 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(formerly the Microelectronics Group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Lucent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2438280" y="1143000"/>
            <a:ext cx="4186440" cy="4678200"/>
            <a:chOff x="2438280" y="1143000"/>
            <a:chExt cx="4186440" cy="4678200"/>
          </a:xfrm>
        </p:grpSpPr>
        <p:pic>
          <p:nvPicPr>
            <p:cNvPr id="322" name="nobodyknows" descr=""/>
            <p:cNvPicPr/>
            <p:nvPr/>
          </p:nvPicPr>
          <p:blipFill>
            <a:blip r:embed="rId1"/>
            <a:stretch/>
          </p:blipFill>
          <p:spPr>
            <a:xfrm>
              <a:off x="2438280" y="1143000"/>
              <a:ext cx="4186440" cy="46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 txBox="1"/>
            <p:nvPr/>
          </p:nvSpPr>
          <p:spPr>
            <a:xfrm>
              <a:off x="2438280" y="1143000"/>
              <a:ext cx="4186440" cy="46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863040" y="563868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New Yorker Magaz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5486400"/>
            <a:ext cx="4267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5333760"/>
            <a:ext cx="5029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 internet, nobody knows you’re a do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define multimedia service capabilities rather than servi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archit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y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ce &amp; video 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conv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P Networking and Mediacom 200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shop sessions – IP/J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ition towards next generatio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twork/service manag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illing/accounting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Virtual Private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media service 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hieving Multimedia QoS over hybrid IP/PSTN 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15238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P Networking and Mediacom 200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shop sessions – Media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-commerce/e-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vergence/interactive 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media m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media access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entations and results available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ttp://www.itu.int/ITU-T/workshops/ipnetwork_mediacom2004/program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media Access Plat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ing standards e.g. H.323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248 &amp; IETF co-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control issu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304920"/>
            <a:ext cx="85345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52280"/>
            <a:ext cx="83818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working Between Multimedia Term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143000"/>
            <a:ext cx="8610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working with Multimedia terminal on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working with Multimedia terminal on the PS mobil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G-324M – H.323/SIP Inter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657600"/>
            <a:ext cx="129564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3360" y="4267080"/>
            <a:ext cx="110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-324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04920" y="2514600"/>
            <a:ext cx="8612280" cy="4181040"/>
            <a:chOff x="304920" y="2514600"/>
            <a:chExt cx="8612280" cy="4181040"/>
          </a:xfrm>
        </p:grpSpPr>
        <p:sp>
          <p:nvSpPr>
            <p:cNvPr id="59" name=""/>
            <p:cNvSpPr/>
            <p:nvPr/>
          </p:nvSpPr>
          <p:spPr>
            <a:xfrm>
              <a:off x="304920" y="5479200"/>
              <a:ext cx="8493480" cy="121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440" y="4718880"/>
              <a:ext cx="1288800" cy="6084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Cloud"/>
            <p:cNvSpPr/>
            <p:nvPr/>
          </p:nvSpPr>
          <p:spPr>
            <a:xfrm>
              <a:off x="4020480" y="3122640"/>
              <a:ext cx="3488400" cy="152064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Packet 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Mobile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Cloud"/>
            <p:cNvSpPr/>
            <p:nvPr/>
          </p:nvSpPr>
          <p:spPr>
            <a:xfrm>
              <a:off x="1062720" y="3882960"/>
              <a:ext cx="3033360" cy="1444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Circuit Switched Mobile N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Cloud"/>
            <p:cNvSpPr/>
            <p:nvPr/>
          </p:nvSpPr>
          <p:spPr>
            <a:xfrm>
              <a:off x="3944880" y="4718880"/>
              <a:ext cx="3715560" cy="14443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41400" y="3426840"/>
              <a:ext cx="682200" cy="456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MG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41400" y="4415040"/>
              <a:ext cx="682200" cy="456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M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Cloud"/>
            <p:cNvSpPr/>
            <p:nvPr/>
          </p:nvSpPr>
          <p:spPr>
            <a:xfrm>
              <a:off x="1442160" y="2514600"/>
              <a:ext cx="3108960" cy="456120"/>
            </a:xfrm>
            <a:prstGeom prst="pie">
              <a:avLst/>
            </a:prstGeom>
            <a:solidFill>
              <a:srgbClr val="66ff66"/>
            </a:solidFill>
            <a:ln w="9360">
              <a:solidFill>
                <a:srgbClr val="66ff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SS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4" idx="2"/>
              <a:endCxn id="65" idx="0"/>
            </p:cNvCxnSpPr>
            <p:nvPr/>
          </p:nvCxnSpPr>
          <p:spPr>
            <a:xfrm>
              <a:off x="3982680" y="3882960"/>
              <a:ext cx="1080" cy="5328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68" name=""/>
            <p:cNvSpPr/>
            <p:nvPr/>
          </p:nvSpPr>
          <p:spPr>
            <a:xfrm>
              <a:off x="3110400" y="3882960"/>
              <a:ext cx="909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H.2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p503i_s" descr="ムーバP503i"/>
            <p:cNvPicPr/>
            <p:nvPr/>
          </p:nvPicPr>
          <p:blipFill>
            <a:blip r:embed="rId1"/>
            <a:stretch/>
          </p:blipFill>
          <p:spPr>
            <a:xfrm>
              <a:off x="380160" y="3198600"/>
              <a:ext cx="254160" cy="78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gfort_s" descr="GFORT"/>
            <p:cNvPicPr/>
            <p:nvPr/>
          </p:nvPicPr>
          <p:blipFill>
            <a:blip r:embed="rId2"/>
            <a:stretch/>
          </p:blipFill>
          <p:spPr>
            <a:xfrm>
              <a:off x="835200" y="3377520"/>
              <a:ext cx="369720" cy="5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578720" y="3502800"/>
              <a:ext cx="1288800" cy="60804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ffcc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p503i_s" descr="ムーバP503i"/>
            <p:cNvPicPr/>
            <p:nvPr/>
          </p:nvPicPr>
          <p:blipFill>
            <a:blip r:embed="rId3"/>
            <a:stretch/>
          </p:blipFill>
          <p:spPr>
            <a:xfrm>
              <a:off x="7806240" y="3046680"/>
              <a:ext cx="254160" cy="78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gfort_s" descr="GFORT"/>
            <p:cNvPicPr/>
            <p:nvPr/>
          </p:nvPicPr>
          <p:blipFill>
            <a:blip r:embed="rId4"/>
            <a:stretch/>
          </p:blipFill>
          <p:spPr>
            <a:xfrm>
              <a:off x="8261280" y="3225600"/>
              <a:ext cx="36972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585920" y="4110840"/>
              <a:ext cx="133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MT (P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(SIP/H.32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45760" y="5748840"/>
              <a:ext cx="1288800" cy="608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j0245379" descr=""/>
            <p:cNvPicPr/>
            <p:nvPr/>
          </p:nvPicPr>
          <p:blipFill>
            <a:blip r:embed="rId5"/>
            <a:stretch/>
          </p:blipFill>
          <p:spPr>
            <a:xfrm>
              <a:off x="7452360" y="5596560"/>
              <a:ext cx="89100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993640" y="62424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H.323/S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020480" y="2894040"/>
              <a:ext cx="0" cy="456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" name=""/>
            <p:cNvCxnSpPr>
              <a:stCxn id="66" idx="4"/>
              <a:endCxn id="62" idx="4"/>
            </p:cNvCxnSpPr>
            <p:nvPr/>
          </p:nvCxnSpPr>
          <p:spPr>
            <a:xfrm flipH="1">
              <a:off x="2579400" y="2970720"/>
              <a:ext cx="417600" cy="9950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80" name=""/>
            <p:cNvSpPr/>
            <p:nvPr/>
          </p:nvSpPr>
          <p:spPr>
            <a:xfrm>
              <a:off x="1214640" y="3882960"/>
              <a:ext cx="6521760" cy="456120"/>
            </a:xfrm>
            <a:custGeom>
              <a:avLst/>
              <a:gdLst/>
              <a:ahLst/>
              <a:rect l="l" t="t" r="r" b="b"/>
              <a:pathLst>
                <a:path w="4128" h="288">
                  <a:moveTo>
                    <a:pt x="0" y="144"/>
                  </a:moveTo>
                  <a:lnTo>
                    <a:pt x="240" y="288"/>
                  </a:lnTo>
                  <a:lnTo>
                    <a:pt x="3600" y="288"/>
                  </a:lnTo>
                  <a:lnTo>
                    <a:pt x="4128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14640" y="4110840"/>
              <a:ext cx="5990760" cy="1520280"/>
            </a:xfrm>
            <a:custGeom>
              <a:avLst/>
              <a:gdLst/>
              <a:ahLst/>
              <a:rect l="l" t="t" r="r" b="b"/>
              <a:pathLst>
                <a:path w="3792" h="960">
                  <a:moveTo>
                    <a:pt x="0" y="0"/>
                  </a:moveTo>
                  <a:lnTo>
                    <a:pt x="288" y="480"/>
                  </a:lnTo>
                  <a:lnTo>
                    <a:pt x="3264" y="480"/>
                  </a:lnTo>
                  <a:lnTo>
                    <a:pt x="3792" y="96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j0245379" descr=""/>
            <p:cNvPicPr/>
            <p:nvPr/>
          </p:nvPicPr>
          <p:blipFill>
            <a:blip r:embed="rId6"/>
            <a:stretch/>
          </p:blipFill>
          <p:spPr>
            <a:xfrm>
              <a:off x="6694200" y="5403240"/>
              <a:ext cx="891000" cy="64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media Access Plat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co-operation and collaboration on H.2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vers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-ordination of new pack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with IETF, ETSI TIPHON, ITU-T SG9, SG11, SSG-IMT2000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media Access Plat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interwork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operability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tocol interworking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.248 – H.3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.248/H.323 – S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.323 – H.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media Quality of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view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ice QoS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rrent work in some standards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ffic and congestion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twork performance tr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oS sign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16:03:27Z</dcterms:created>
  <dc:creator>John Magill</dc:creator>
  <dc:description/>
  <dc:language>en-US</dc:language>
  <cp:lastModifiedBy>John Magill</cp:lastModifiedBy>
  <dcterms:modified xsi:type="dcterms:W3CDTF">2001-06-05T11:13:34Z</dcterms:modified>
  <cp:revision>55</cp:revision>
  <dc:subject/>
  <dc:title>ITU-T Study Group 16 Mediacom 2004</dc:title>
</cp:coreProperties>
</file>