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F783-8012-46D3-8081-811281493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292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C782-4DE9-4012-9583-790D4861A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4715-30A7-4E75-93E3-974A489A5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9D7A-8F37-4375-858E-59251D6D0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5177-36B1-4E63-BAA1-7BAD2838E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834D-D75E-4AF4-A8EE-D08DBEAD4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3510-1C24-4DA2-8FC9-69417AD2F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4730-F414-4C26-970E-72D0FE936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6550-812F-42C9-9281-094416BA4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D148-C4CA-42BA-931C-201471050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312A-7BEA-43B6-92A3-FB40407BD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F582-C567-43A3-B919-0E60A5A5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623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TU-T Study Group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E3F-42EF-4889-ADC9-41EF968F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TU_Logo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620640" cy="6807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3360" y="40464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Impact"/>
              </a:rPr>
              <a:t>Multimedia in the 21</a:t>
            </a:r>
            <a:r>
              <a:rPr b="0" lang="en-US" sz="2800" spc="-1" strike="noStrike" baseline="30000">
                <a:solidFill>
                  <a:srgbClr val="3333cc"/>
                </a:solidFill>
                <a:latin typeface="Impact"/>
              </a:rPr>
              <a:t>st</a:t>
            </a:r>
            <a:r>
              <a:rPr b="0" lang="en-US" sz="2800" spc="-1" strike="noStrike">
                <a:solidFill>
                  <a:srgbClr val="3333cc"/>
                </a:solidFill>
                <a:latin typeface="Impact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ultimedia over 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-business &amp; E-com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3360" y="3505320"/>
            <a:ext cx="760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Results of the IP Networking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Mediacom 2004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7631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410080"/>
            <a:ext cx="87631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TT from ESnet to Groups of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06440"/>
            <a:ext cx="7772400" cy="555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3352680"/>
            <a:ext cx="7010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0000" y="223344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ITU G.114 300 ms RTT limit for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437920" y="2362320"/>
            <a:ext cx="924120" cy="9903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572000"/>
            <a:ext cx="6705360" cy="1447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10600" y="53341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0%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080" y="55728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~ distance/(0.6*c) + hops * router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 delay = queuing + clocking in &amp; out +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TT from California to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314960" cy="384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6705720" cy="368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4419720"/>
            <a:ext cx="0" cy="2438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981080"/>
            <a:ext cx="6629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680" y="4114800"/>
            <a:ext cx="3054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e (deg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3000" y="1514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5320" y="4343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51520" y="63388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T (m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578880" y="46951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98760" y="1833480"/>
            <a:ext cx="1590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T (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5600">
            <a:off x="3965400" y="47293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urce = Palo Alto CA, W.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114440" y="39621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16800">
            <a:off x="516600" y="131472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. Coa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16800">
            <a:off x="-147240" y="132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. Coa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844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rope &amp; S.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40480" y="7621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90920"/>
            <a:ext cx="27432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8360" y="32004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0.6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562720" y="32763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4765320" y="11034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948120" y="108324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3240" y="64008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CAIDA Skitt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s seen from US to groups of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6338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TSI DTR/TIPHON-05001 V1.2.5 threshold for good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622440"/>
            <a:ext cx="7696080" cy="582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95280" y="342900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87440" y="3428640"/>
            <a:ext cx="822240" cy="2995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733920"/>
            <a:ext cx="6476760" cy="228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131600">
            <a:off x="3507480" y="51055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50% improvement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 for customer perceptions (voice, video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etrics e.g. delay, jitter, packe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pplic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 to IP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of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control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lling QoS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classes – need for some harm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of ‘service’ and ‘transport’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8920" y="2273400"/>
            <a:ext cx="3792240" cy="176040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8240" y="2549520"/>
            <a:ext cx="415800" cy="731160"/>
            <a:chOff x="138240" y="2549520"/>
            <a:chExt cx="415800" cy="731160"/>
          </a:xfrm>
        </p:grpSpPr>
        <p:grpSp>
          <p:nvGrpSpPr>
            <p:cNvPr id="142" name=""/>
            <p:cNvGrpSpPr/>
            <p:nvPr/>
          </p:nvGrpSpPr>
          <p:grpSpPr>
            <a:xfrm>
              <a:off x="138240" y="2549520"/>
              <a:ext cx="415800" cy="730080"/>
              <a:chOff x="138240" y="2549520"/>
              <a:chExt cx="415800" cy="73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260640" y="2597760"/>
                <a:ext cx="279360" cy="1260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560" y="2596680"/>
                <a:ext cx="70200" cy="68292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8240" y="2549520"/>
                <a:ext cx="122400" cy="70740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8240" y="2549520"/>
                <a:ext cx="394200" cy="4824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5760" y="2851920"/>
                <a:ext cx="255600" cy="42768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7920" y="2609280"/>
                <a:ext cx="274680" cy="21528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5760" y="2824560"/>
                <a:ext cx="278280" cy="2556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77920" y="2597760"/>
              <a:ext cx="78120" cy="682920"/>
              <a:chOff x="277920" y="2597760"/>
              <a:chExt cx="78120" cy="682920"/>
            </a:xfrm>
          </p:grpSpPr>
          <p:sp>
            <p:nvSpPr>
              <p:cNvPr id="151" name=""/>
              <p:cNvSpPr/>
              <p:nvPr/>
            </p:nvSpPr>
            <p:spPr>
              <a:xfrm>
                <a:off x="277920" y="2597760"/>
                <a:ext cx="2232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6920" y="2599200"/>
                <a:ext cx="21600" cy="68148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3400" y="2597760"/>
                <a:ext cx="2268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1320" y="2599200"/>
                <a:ext cx="22320" cy="68040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0320" y="259776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8240" y="259920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6520" y="2599200"/>
                <a:ext cx="21600" cy="68040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4440" y="2599200"/>
                <a:ext cx="21600" cy="67716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52800" y="2906280"/>
              <a:ext cx="167760" cy="33912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800" y="2971800"/>
              <a:ext cx="167760" cy="680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800" y="3040200"/>
              <a:ext cx="16776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800" y="3105720"/>
              <a:ext cx="16776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2320" y="2984400"/>
              <a:ext cx="110160" cy="41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2320" y="3051360"/>
              <a:ext cx="110160" cy="428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2913480"/>
              <a:ext cx="7920" cy="4392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52800" y="2906280"/>
              <a:ext cx="167760" cy="68040"/>
              <a:chOff x="352800" y="2906280"/>
              <a:chExt cx="167760" cy="68040"/>
            </a:xfrm>
          </p:grpSpPr>
          <p:sp>
            <p:nvSpPr>
              <p:cNvPr id="167" name=""/>
              <p:cNvSpPr/>
              <p:nvPr/>
            </p:nvSpPr>
            <p:spPr>
              <a:xfrm>
                <a:off x="352800" y="2906280"/>
                <a:ext cx="167760" cy="6804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9720" y="2916000"/>
                <a:ext cx="12240" cy="68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63960" y="2910240"/>
                <a:ext cx="148320" cy="52560"/>
                <a:chOff x="363960" y="2910240"/>
                <a:chExt cx="148320" cy="525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30560" y="2913120"/>
                  <a:ext cx="33840" cy="194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0560" y="2938320"/>
                  <a:ext cx="77040" cy="183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2240" y="2921400"/>
                  <a:ext cx="45360" cy="1116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3280" y="2921400"/>
                  <a:ext cx="4320" cy="3528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4760" y="2941200"/>
                  <a:ext cx="13320" cy="1260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3960" y="2932560"/>
                  <a:ext cx="148320" cy="57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461160" y="2910240"/>
                  <a:ext cx="15480" cy="52560"/>
                  <a:chOff x="461160" y="2910240"/>
                  <a:chExt cx="15480" cy="5256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61160" y="2911320"/>
                    <a:ext cx="144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61880" y="2910240"/>
                    <a:ext cx="14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9" name=""/>
            <p:cNvSpPr/>
            <p:nvPr/>
          </p:nvSpPr>
          <p:spPr>
            <a:xfrm>
              <a:off x="388080" y="2997360"/>
              <a:ext cx="986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600" y="3010320"/>
              <a:ext cx="43200" cy="936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600" y="2642040"/>
              <a:ext cx="38520" cy="5256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2730600"/>
              <a:ext cx="39600" cy="5112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2880" y="2726280"/>
              <a:ext cx="168120" cy="55440"/>
              <a:chOff x="362880" y="2726280"/>
              <a:chExt cx="168120" cy="55440"/>
            </a:xfrm>
          </p:grpSpPr>
          <p:sp>
            <p:nvSpPr>
              <p:cNvPr id="184" name=""/>
              <p:cNvSpPr/>
              <p:nvPr/>
            </p:nvSpPr>
            <p:spPr>
              <a:xfrm>
                <a:off x="362880" y="2726280"/>
                <a:ext cx="168120" cy="5544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480" y="273312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3480" y="275616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160" y="2744640"/>
                <a:ext cx="20520" cy="169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1880" y="2744640"/>
                <a:ext cx="1440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8610480" y="2643120"/>
            <a:ext cx="533160" cy="668520"/>
            <a:chOff x="8610480" y="2643120"/>
            <a:chExt cx="533160" cy="668520"/>
          </a:xfrm>
        </p:grpSpPr>
        <p:grpSp>
          <p:nvGrpSpPr>
            <p:cNvPr id="190" name=""/>
            <p:cNvGrpSpPr/>
            <p:nvPr/>
          </p:nvGrpSpPr>
          <p:grpSpPr>
            <a:xfrm>
              <a:off x="8610480" y="2643120"/>
              <a:ext cx="533160" cy="666720"/>
              <a:chOff x="8610480" y="2643120"/>
              <a:chExt cx="533160" cy="666720"/>
            </a:xfrm>
          </p:grpSpPr>
          <p:sp>
            <p:nvSpPr>
              <p:cNvPr id="191" name=""/>
              <p:cNvSpPr/>
              <p:nvPr/>
            </p:nvSpPr>
            <p:spPr>
              <a:xfrm>
                <a:off x="8767800" y="2687400"/>
                <a:ext cx="358560" cy="1152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66360" y="2685960"/>
                <a:ext cx="90000" cy="62388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610480" y="2643120"/>
                <a:ext cx="157320" cy="64584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610480" y="2643120"/>
                <a:ext cx="505440" cy="4428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786880" y="2919240"/>
                <a:ext cx="327600" cy="39060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89760" y="2697480"/>
                <a:ext cx="352440" cy="19656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86880" y="2894400"/>
                <a:ext cx="356760" cy="2340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789760" y="2687400"/>
              <a:ext cx="100080" cy="624240"/>
              <a:chOff x="8789760" y="2687400"/>
              <a:chExt cx="100080" cy="624240"/>
            </a:xfrm>
          </p:grpSpPr>
          <p:sp>
            <p:nvSpPr>
              <p:cNvPr id="199" name=""/>
              <p:cNvSpPr/>
              <p:nvPr/>
            </p:nvSpPr>
            <p:spPr>
              <a:xfrm>
                <a:off x="8789760" y="2687400"/>
                <a:ext cx="2880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801280" y="2688840"/>
                <a:ext cx="27720" cy="62280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09920" y="2687400"/>
                <a:ext cx="2916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20000" y="2688840"/>
                <a:ext cx="28800" cy="62136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831520" y="2687400"/>
                <a:ext cx="27720" cy="62028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841960" y="2688840"/>
                <a:ext cx="27720" cy="62028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852040" y="2688840"/>
                <a:ext cx="27720" cy="62136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862120" y="2688840"/>
                <a:ext cx="27720" cy="61884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8885880" y="2968920"/>
              <a:ext cx="215280" cy="30996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85880" y="3029040"/>
              <a:ext cx="215280" cy="6228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85880" y="3091320"/>
              <a:ext cx="21528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85880" y="3151440"/>
              <a:ext cx="21528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23680" y="3040560"/>
              <a:ext cx="141480" cy="378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23680" y="3101760"/>
              <a:ext cx="141480" cy="392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19800" y="2975400"/>
              <a:ext cx="10080" cy="3996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885880" y="2968920"/>
              <a:ext cx="215280" cy="62280"/>
              <a:chOff x="8885880" y="2968920"/>
              <a:chExt cx="215280" cy="62280"/>
            </a:xfrm>
          </p:grpSpPr>
          <p:sp>
            <p:nvSpPr>
              <p:cNvPr id="215" name=""/>
              <p:cNvSpPr/>
              <p:nvPr/>
            </p:nvSpPr>
            <p:spPr>
              <a:xfrm>
                <a:off x="8885880" y="2968920"/>
                <a:ext cx="215280" cy="6228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07480" y="2977920"/>
                <a:ext cx="15840" cy="64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8900280" y="2972520"/>
                <a:ext cx="190440" cy="47880"/>
                <a:chOff x="8900280" y="2972520"/>
                <a:chExt cx="190440" cy="47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8985960" y="2975040"/>
                  <a:ext cx="43560" cy="176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985960" y="2998080"/>
                  <a:ext cx="99000" cy="165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026640" y="2982600"/>
                  <a:ext cx="58320" cy="1008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078840" y="2982600"/>
                  <a:ext cx="5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029520" y="3000960"/>
                  <a:ext cx="17280" cy="115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900280" y="2993040"/>
                  <a:ext cx="190440" cy="504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9025200" y="2972520"/>
                  <a:ext cx="19800" cy="47880"/>
                  <a:chOff x="9025200" y="2972520"/>
                  <a:chExt cx="19800" cy="478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9025200" y="2973600"/>
                    <a:ext cx="183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9026280" y="2972520"/>
                    <a:ext cx="18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7" name=""/>
            <p:cNvSpPr/>
            <p:nvPr/>
          </p:nvSpPr>
          <p:spPr>
            <a:xfrm>
              <a:off x="8930880" y="3052440"/>
              <a:ext cx="126720" cy="5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69040" y="3063960"/>
              <a:ext cx="55440" cy="864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818920" y="2727720"/>
              <a:ext cx="49320" cy="4788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24680" y="2808360"/>
              <a:ext cx="51120" cy="4680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898840" y="2804760"/>
              <a:ext cx="215640" cy="50760"/>
              <a:chOff x="8898840" y="2804760"/>
              <a:chExt cx="215640" cy="5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8898840" y="2804760"/>
                <a:ext cx="215640" cy="5076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938080" y="2811240"/>
                <a:ext cx="2628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938080" y="2832120"/>
                <a:ext cx="2628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990640" y="2821320"/>
                <a:ext cx="26280" cy="154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910720" y="2821320"/>
                <a:ext cx="18720" cy="194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2798640" y="2030400"/>
            <a:ext cx="71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3244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58672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7840" y="6500520"/>
            <a:ext cx="749160" cy="32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5120" y="6254280"/>
            <a:ext cx="703440" cy="180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609588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oS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19040" y="5990760"/>
            <a:ext cx="722520" cy="1908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760" y="2884320"/>
            <a:ext cx="91378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35440" y="257976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295596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0520" y="314280"/>
            <a:ext cx="49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 Application Controlled Approach to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84400" y="1469880"/>
            <a:ext cx="1714320" cy="952200"/>
            <a:chOff x="1184400" y="1469880"/>
            <a:chExt cx="1714320" cy="952200"/>
          </a:xfrm>
        </p:grpSpPr>
        <p:sp>
          <p:nvSpPr>
            <p:cNvPr id="249" name=""/>
            <p:cNvSpPr/>
            <p:nvPr/>
          </p:nvSpPr>
          <p:spPr>
            <a:xfrm>
              <a:off x="1184400" y="1469880"/>
              <a:ext cx="1714320" cy="952200"/>
            </a:xfrm>
            <a:prstGeom prst="ellipse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42600" y="1701360"/>
              <a:ext cx="1078200" cy="5151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rvice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1160" y="2101680"/>
            <a:ext cx="1089000" cy="522360"/>
            <a:chOff x="281160" y="2101680"/>
            <a:chExt cx="1089000" cy="522360"/>
          </a:xfrm>
        </p:grpSpPr>
        <p:sp>
          <p:nvSpPr>
            <p:cNvPr id="252" name=""/>
            <p:cNvSpPr/>
            <p:nvPr/>
          </p:nvSpPr>
          <p:spPr>
            <a:xfrm flipV="1">
              <a:off x="562320" y="2214360"/>
              <a:ext cx="807840" cy="409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81160" y="2101680"/>
              <a:ext cx="957240" cy="43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884320" y="1855440"/>
            <a:ext cx="5891400" cy="849600"/>
            <a:chOff x="2884320" y="1855440"/>
            <a:chExt cx="5891400" cy="849600"/>
          </a:xfrm>
        </p:grpSpPr>
        <p:sp>
          <p:nvSpPr>
            <p:cNvPr id="255" name=""/>
            <p:cNvSpPr/>
            <p:nvPr/>
          </p:nvSpPr>
          <p:spPr>
            <a:xfrm>
              <a:off x="2884320" y="2077920"/>
              <a:ext cx="5891400" cy="62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2933640" y="1855440"/>
              <a:ext cx="5765760" cy="6541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11280" y="2405160"/>
            <a:ext cx="1785960" cy="190656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51200" y="2417760"/>
            <a:ext cx="4680" cy="124308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069920" y="3678120"/>
            <a:ext cx="1714680" cy="952200"/>
            <a:chOff x="1069920" y="3678120"/>
            <a:chExt cx="1714680" cy="952200"/>
          </a:xfrm>
        </p:grpSpPr>
        <p:sp>
          <p:nvSpPr>
            <p:cNvPr id="260" name=""/>
            <p:cNvSpPr/>
            <p:nvPr/>
          </p:nvSpPr>
          <p:spPr>
            <a:xfrm>
              <a:off x="1069920" y="3678120"/>
              <a:ext cx="171468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28120" y="3909600"/>
              <a:ext cx="107856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726000" y="4267080"/>
            <a:ext cx="1714320" cy="952200"/>
            <a:chOff x="3726000" y="4267080"/>
            <a:chExt cx="1714320" cy="952200"/>
          </a:xfrm>
        </p:grpSpPr>
        <p:sp>
          <p:nvSpPr>
            <p:cNvPr id="263" name=""/>
            <p:cNvSpPr/>
            <p:nvPr/>
          </p:nvSpPr>
          <p:spPr>
            <a:xfrm>
              <a:off x="3726000" y="4267080"/>
              <a:ext cx="171432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84200" y="4498560"/>
              <a:ext cx="107820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351480" y="3794040"/>
            <a:ext cx="1714680" cy="952200"/>
            <a:chOff x="6351480" y="3794040"/>
            <a:chExt cx="1714680" cy="952200"/>
          </a:xfrm>
        </p:grpSpPr>
        <p:sp>
          <p:nvSpPr>
            <p:cNvPr id="266" name=""/>
            <p:cNvSpPr/>
            <p:nvPr/>
          </p:nvSpPr>
          <p:spPr>
            <a:xfrm>
              <a:off x="6351480" y="3794040"/>
              <a:ext cx="171468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9680" y="4025520"/>
              <a:ext cx="107856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1720" y="3265560"/>
            <a:ext cx="8315280" cy="1450800"/>
            <a:chOff x="531720" y="3265560"/>
            <a:chExt cx="8315280" cy="1450800"/>
          </a:xfrm>
        </p:grpSpPr>
        <p:sp>
          <p:nvSpPr>
            <p:cNvPr id="269" name=""/>
            <p:cNvSpPr/>
            <p:nvPr/>
          </p:nvSpPr>
          <p:spPr>
            <a:xfrm flipV="1">
              <a:off x="7966080" y="3265560"/>
              <a:ext cx="880920" cy="712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720" y="3271680"/>
              <a:ext cx="647640" cy="660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5680" y="4370400"/>
              <a:ext cx="1012680" cy="326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435640" y="4438440"/>
              <a:ext cx="1000080" cy="2779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V="1">
            <a:off x="5398920" y="4222440"/>
            <a:ext cx="914400" cy="24444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660760" y="2220840"/>
            <a:ext cx="3855600" cy="1815840"/>
            <a:chOff x="2660760" y="2220840"/>
            <a:chExt cx="3855600" cy="1815840"/>
          </a:xfrm>
        </p:grpSpPr>
        <p:sp>
          <p:nvSpPr>
            <p:cNvPr id="275" name=""/>
            <p:cNvSpPr/>
            <p:nvPr/>
          </p:nvSpPr>
          <p:spPr>
            <a:xfrm>
              <a:off x="2747160" y="2290320"/>
              <a:ext cx="3769200" cy="174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0760" y="2220840"/>
              <a:ext cx="290160" cy="29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54360" y="2268360"/>
            <a:ext cx="3713040" cy="174816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17640" y="2206800"/>
            <a:ext cx="3814920" cy="1829880"/>
            <a:chOff x="2717640" y="2206800"/>
            <a:chExt cx="3814920" cy="1829880"/>
          </a:xfrm>
        </p:grpSpPr>
        <p:sp>
          <p:nvSpPr>
            <p:cNvPr id="279" name=""/>
            <p:cNvSpPr/>
            <p:nvPr/>
          </p:nvSpPr>
          <p:spPr>
            <a:xfrm>
              <a:off x="2803320" y="2277000"/>
              <a:ext cx="3729240" cy="1759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17640" y="2206800"/>
              <a:ext cx="287280" cy="29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0120" y="3714840"/>
            <a:ext cx="8802360" cy="1846080"/>
            <a:chOff x="330120" y="3714840"/>
            <a:chExt cx="8802360" cy="1846080"/>
          </a:xfrm>
        </p:grpSpPr>
        <p:grpSp>
          <p:nvGrpSpPr>
            <p:cNvPr id="284" name=""/>
            <p:cNvGrpSpPr/>
            <p:nvPr/>
          </p:nvGrpSpPr>
          <p:grpSpPr>
            <a:xfrm>
              <a:off x="330120" y="4552920"/>
              <a:ext cx="8802360" cy="1008000"/>
              <a:chOff x="330120" y="4552920"/>
              <a:chExt cx="8802360" cy="100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30120" y="4552920"/>
                <a:ext cx="6824520" cy="10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6360" y="4898880"/>
                <a:ext cx="6410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ax Packet Loss, Max Mean Delay, Max Delay Var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53200" y="4842000"/>
                <a:ext cx="1979280" cy="45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53000" y="4930920"/>
                <a:ext cx="1570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584160" y="3714840"/>
              <a:ext cx="266400" cy="822240"/>
              <a:chOff x="3584160" y="3714840"/>
              <a:chExt cx="266400" cy="822240"/>
            </a:xfrm>
          </p:grpSpPr>
          <p:sp>
            <p:nvSpPr>
              <p:cNvPr id="290" name=""/>
              <p:cNvSpPr/>
              <p:nvPr/>
            </p:nvSpPr>
            <p:spPr>
              <a:xfrm>
                <a:off x="3681000" y="3714840"/>
                <a:ext cx="75960" cy="56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84160" y="42721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5">
                    <a:moveTo>
                      <a:pt x="0" y="0"/>
                    </a:moveTo>
                    <a:lnTo>
                      <a:pt x="169" y="335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297000" y="2063880"/>
            <a:ext cx="8847000" cy="1936800"/>
            <a:chOff x="297000" y="2063880"/>
            <a:chExt cx="8847000" cy="1936800"/>
          </a:xfrm>
        </p:grpSpPr>
        <p:sp>
          <p:nvSpPr>
            <p:cNvPr id="293" name=""/>
            <p:cNvSpPr/>
            <p:nvPr/>
          </p:nvSpPr>
          <p:spPr>
            <a:xfrm>
              <a:off x="7140600" y="3301920"/>
              <a:ext cx="2003400" cy="459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01160" y="3373560"/>
              <a:ext cx="168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570480" y="2063880"/>
              <a:ext cx="266400" cy="1006200"/>
              <a:chOff x="3570480" y="2063880"/>
              <a:chExt cx="266400" cy="1006200"/>
            </a:xfrm>
          </p:grpSpPr>
          <p:sp>
            <p:nvSpPr>
              <p:cNvPr id="296" name=""/>
              <p:cNvSpPr/>
              <p:nvPr/>
            </p:nvSpPr>
            <p:spPr>
              <a:xfrm>
                <a:off x="3667320" y="2063880"/>
                <a:ext cx="75960" cy="74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70480" y="28051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4">
                    <a:moveTo>
                      <a:pt x="0" y="0"/>
                    </a:moveTo>
                    <a:lnTo>
                      <a:pt x="169" y="334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97000" y="3084480"/>
              <a:ext cx="6826320" cy="91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5920" y="3271680"/>
              <a:ext cx="571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c Performance, VAD, Frames per Pack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itter Buffer Size,Codec Delay, FEC (Redundan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110040" y="34308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354800" y="1111320"/>
            <a:ext cx="1731960" cy="519120"/>
            <a:chOff x="7354800" y="1111320"/>
            <a:chExt cx="1731960" cy="519120"/>
          </a:xfrm>
        </p:grpSpPr>
        <p:sp>
          <p:nvSpPr>
            <p:cNvPr id="302" name=""/>
            <p:cNvSpPr/>
            <p:nvPr/>
          </p:nvSpPr>
          <p:spPr>
            <a:xfrm>
              <a:off x="7354800" y="1111320"/>
              <a:ext cx="1731960" cy="519120"/>
            </a:xfrm>
            <a:prstGeom prst="wedgeRectCallout">
              <a:avLst>
                <a:gd name="adj1" fmla="val -79787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6920" y="120960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2/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54800" y="2554200"/>
            <a:ext cx="1701720" cy="519120"/>
            <a:chOff x="7354800" y="2554200"/>
            <a:chExt cx="1701720" cy="519120"/>
          </a:xfrm>
        </p:grpSpPr>
        <p:sp>
          <p:nvSpPr>
            <p:cNvPr id="305" name=""/>
            <p:cNvSpPr/>
            <p:nvPr/>
          </p:nvSpPr>
          <p:spPr>
            <a:xfrm>
              <a:off x="7354800" y="2554200"/>
              <a:ext cx="1701720" cy="519120"/>
            </a:xfrm>
            <a:prstGeom prst="wedgeRectCallout">
              <a:avLst>
                <a:gd name="adj1" fmla="val -80319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4960" y="269712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6/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340760" y="4040280"/>
            <a:ext cx="1715760" cy="519120"/>
            <a:chOff x="7340760" y="4040280"/>
            <a:chExt cx="1715760" cy="519120"/>
          </a:xfrm>
        </p:grpSpPr>
        <p:sp>
          <p:nvSpPr>
            <p:cNvPr id="308" name=""/>
            <p:cNvSpPr/>
            <p:nvPr/>
          </p:nvSpPr>
          <p:spPr>
            <a:xfrm>
              <a:off x="7340760" y="4040280"/>
              <a:ext cx="1715760" cy="519120"/>
            </a:xfrm>
            <a:prstGeom prst="wedgeRectCallout">
              <a:avLst>
                <a:gd name="adj1" fmla="val -80064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05920" y="418320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3/IET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6080" y="1574640"/>
            <a:ext cx="8780400" cy="916200"/>
            <a:chOff x="316080" y="1574640"/>
            <a:chExt cx="8780400" cy="916200"/>
          </a:xfrm>
        </p:grpSpPr>
        <p:sp>
          <p:nvSpPr>
            <p:cNvPr id="311" name=""/>
            <p:cNvSpPr/>
            <p:nvPr/>
          </p:nvSpPr>
          <p:spPr>
            <a:xfrm>
              <a:off x="7126560" y="1846440"/>
              <a:ext cx="1969920" cy="458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71520" y="1935000"/>
              <a:ext cx="111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" y="1574640"/>
              <a:ext cx="6796080" cy="91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81200" y="186048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Service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TU-T wor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U-T well placed to provid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ienc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 &amp;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opera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ing &amp; accou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tlements across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me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aspects &amp; 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 and au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anag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ohn Mag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ice Chairman ITU-T Study Group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nsultant to Agere Systems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formerly the Microelectronics Grou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ucent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2438280" y="1143000"/>
            <a:ext cx="4186440" cy="4678200"/>
            <a:chOff x="2438280" y="1143000"/>
            <a:chExt cx="4186440" cy="4678200"/>
          </a:xfrm>
        </p:grpSpPr>
        <p:pic>
          <p:nvPicPr>
            <p:cNvPr id="322" name="nobodyknows" descr=""/>
            <p:cNvPicPr/>
            <p:nvPr/>
          </p:nvPicPr>
          <p:blipFill>
            <a:blip r:embed="rId1"/>
            <a:stretch/>
          </p:blipFill>
          <p:spPr>
            <a:xfrm>
              <a:off x="2438280" y="1143000"/>
              <a:ext cx="4186440" cy="46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 txBox="1"/>
            <p:nvPr/>
          </p:nvSpPr>
          <p:spPr>
            <a:xfrm>
              <a:off x="2438280" y="1143000"/>
              <a:ext cx="4186440" cy="46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863040" y="563868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New Yorker Magaz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5486400"/>
            <a:ext cx="4267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5333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internet, nobody knows you’re a do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fine multimedia service capabilities rather than serv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&amp; video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 Networking and Mediacom 200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shop sessions – IP/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ition towards next generatio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/service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illing/accoun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Virtual Privat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service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hieving Multimedia QoS over hybrid IP/PSTN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 Networking and Mediacom 200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shop sessions – Media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vergence/interactive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ations and results availabl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itu.int/ITU-T/workshops/ipnetwork_mediacom2004/program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standards e.g. H.323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48 &amp; IETF co-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control iss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5345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83818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Between Multimedia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with Multimedia terminal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with Multimedia terminal on the PS 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G-324M – H.323/SIP 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657600"/>
            <a:ext cx="129564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360" y="4267080"/>
            <a:ext cx="11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-324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2514600"/>
            <a:ext cx="8612280" cy="4181040"/>
            <a:chOff x="304920" y="2514600"/>
            <a:chExt cx="8612280" cy="4181040"/>
          </a:xfrm>
        </p:grpSpPr>
        <p:sp>
          <p:nvSpPr>
            <p:cNvPr id="59" name=""/>
            <p:cNvSpPr/>
            <p:nvPr/>
          </p:nvSpPr>
          <p:spPr>
            <a:xfrm>
              <a:off x="304920" y="5479200"/>
              <a:ext cx="8493480" cy="12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440" y="4718880"/>
              <a:ext cx="1288800" cy="608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Cloud"/>
            <p:cNvSpPr/>
            <p:nvPr/>
          </p:nvSpPr>
          <p:spPr>
            <a:xfrm>
              <a:off x="4020480" y="3122640"/>
              <a:ext cx="3488400" cy="152064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acket 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Cloud"/>
            <p:cNvSpPr/>
            <p:nvPr/>
          </p:nvSpPr>
          <p:spPr>
            <a:xfrm>
              <a:off x="1062720" y="3882960"/>
              <a:ext cx="3033360" cy="1444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ircuit Switched Mobile N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Cloud"/>
            <p:cNvSpPr/>
            <p:nvPr/>
          </p:nvSpPr>
          <p:spPr>
            <a:xfrm>
              <a:off x="3944880" y="4718880"/>
              <a:ext cx="3715560" cy="144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41400" y="3426840"/>
              <a:ext cx="682200" cy="45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1400" y="4415040"/>
              <a:ext cx="682200" cy="45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Cloud"/>
            <p:cNvSpPr/>
            <p:nvPr/>
          </p:nvSpPr>
          <p:spPr>
            <a:xfrm>
              <a:off x="1442160" y="2514600"/>
              <a:ext cx="3108960" cy="456120"/>
            </a:xfrm>
            <a:prstGeom prst="pi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SS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4" idx="2"/>
              <a:endCxn id="65" idx="0"/>
            </p:cNvCxnSpPr>
            <p:nvPr/>
          </p:nvCxnSpPr>
          <p:spPr>
            <a:xfrm>
              <a:off x="3982680" y="3882960"/>
              <a:ext cx="1080" cy="532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8" name=""/>
            <p:cNvSpPr/>
            <p:nvPr/>
          </p:nvSpPr>
          <p:spPr>
            <a:xfrm>
              <a:off x="3110400" y="3882960"/>
              <a:ext cx="909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H.2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503i_s" descr="ムーバP503i"/>
            <p:cNvPicPr/>
            <p:nvPr/>
          </p:nvPicPr>
          <p:blipFill>
            <a:blip r:embed="rId1"/>
            <a:stretch/>
          </p:blipFill>
          <p:spPr>
            <a:xfrm>
              <a:off x="380160" y="3198600"/>
              <a:ext cx="2541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gfort_s" descr="GFORT"/>
            <p:cNvPicPr/>
            <p:nvPr/>
          </p:nvPicPr>
          <p:blipFill>
            <a:blip r:embed="rId2"/>
            <a:stretch/>
          </p:blipFill>
          <p:spPr>
            <a:xfrm>
              <a:off x="835200" y="3377520"/>
              <a:ext cx="369720" cy="5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78720" y="3502800"/>
              <a:ext cx="1288800" cy="60804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503i_s" descr="ムーバP503i"/>
            <p:cNvPicPr/>
            <p:nvPr/>
          </p:nvPicPr>
          <p:blipFill>
            <a:blip r:embed="rId3"/>
            <a:stretch/>
          </p:blipFill>
          <p:spPr>
            <a:xfrm>
              <a:off x="7806240" y="3046680"/>
              <a:ext cx="2541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gfort_s" descr="GFORT"/>
            <p:cNvPicPr/>
            <p:nvPr/>
          </p:nvPicPr>
          <p:blipFill>
            <a:blip r:embed="rId4"/>
            <a:stretch/>
          </p:blipFill>
          <p:spPr>
            <a:xfrm>
              <a:off x="8261280" y="3225600"/>
              <a:ext cx="36972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85920" y="4110840"/>
              <a:ext cx="13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T (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(SIP/H.32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5760" y="5748840"/>
              <a:ext cx="1288800" cy="608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j0245379" descr=""/>
            <p:cNvPicPr/>
            <p:nvPr/>
          </p:nvPicPr>
          <p:blipFill>
            <a:blip r:embed="rId5"/>
            <a:stretch/>
          </p:blipFill>
          <p:spPr>
            <a:xfrm>
              <a:off x="7452360" y="5596560"/>
              <a:ext cx="8910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93640" y="62424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H.323/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20480" y="2894040"/>
              <a:ext cx="0" cy="456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66" idx="4"/>
              <a:endCxn id="62" idx="4"/>
            </p:cNvCxnSpPr>
            <p:nvPr/>
          </p:nvCxnSpPr>
          <p:spPr>
            <a:xfrm flipH="1">
              <a:off x="2579400" y="2970720"/>
              <a:ext cx="417600" cy="9950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1214640" y="3882960"/>
              <a:ext cx="6521760" cy="456120"/>
            </a:xfrm>
            <a:custGeom>
              <a:avLst/>
              <a:gdLst/>
              <a:ahLst/>
              <a:rect l="l" t="t" r="r" b="b"/>
              <a:pathLst>
                <a:path w="4128" h="288">
                  <a:moveTo>
                    <a:pt x="0" y="144"/>
                  </a:moveTo>
                  <a:lnTo>
                    <a:pt x="240" y="288"/>
                  </a:lnTo>
                  <a:lnTo>
                    <a:pt x="3600" y="288"/>
                  </a:lnTo>
                  <a:lnTo>
                    <a:pt x="412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4640" y="4110840"/>
              <a:ext cx="5990760" cy="1520280"/>
            </a:xfrm>
            <a:custGeom>
              <a:avLst/>
              <a:gdLst/>
              <a:ahLst/>
              <a:rect l="l" t="t" r="r" b="b"/>
              <a:pathLst>
                <a:path w="3792" h="960">
                  <a:moveTo>
                    <a:pt x="0" y="0"/>
                  </a:moveTo>
                  <a:lnTo>
                    <a:pt x="288" y="480"/>
                  </a:lnTo>
                  <a:lnTo>
                    <a:pt x="3264" y="480"/>
                  </a:lnTo>
                  <a:lnTo>
                    <a:pt x="3792" y="96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j0245379" descr=""/>
            <p:cNvPicPr/>
            <p:nvPr/>
          </p:nvPicPr>
          <p:blipFill>
            <a:blip r:embed="rId6"/>
            <a:stretch/>
          </p:blipFill>
          <p:spPr>
            <a:xfrm>
              <a:off x="6694200" y="5403240"/>
              <a:ext cx="891000" cy="64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co-operation and collaboration on H.2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ver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ordination of new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with IETF, ETSI TIPHON, ITU-T SG9, SG11, SSG-IMT2000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interwor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operability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col interworking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248 –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248/H.323 – S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323 – H.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ice QoS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work in some standards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ffic and congest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 performance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6:03:27Z</dcterms:created>
  <dc:creator>John Magill</dc:creator>
  <dc:description/>
  <dc:language>en-US</dc:language>
  <cp:lastModifiedBy>John Magill</cp:lastModifiedBy>
  <dcterms:modified xsi:type="dcterms:W3CDTF">2001-06-05T11:13:34Z</dcterms:modified>
  <cp:revision>55</cp:revision>
  <dc:subject/>
  <dc:title>ITU-T Study Group 16 Mediacom 2004</dc:title>
</cp:coreProperties>
</file>