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544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4D99D-EC9F-4323-A404-EC9F98E9EB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4389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22928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BF210-336C-4387-8E49-CF82DF2146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4389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2292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2292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17887-16C7-4D30-8EF8-F4657986A4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4389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243792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243792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22928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22928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22928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E95DC-1CB2-4850-8988-80FD4360C4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4389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24379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20B84-0BF5-4594-8786-EE2F3CFCCF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4389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86A83-E095-4A10-B1F6-CDF1F90A3A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4389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1A347-0B98-4F98-8B28-AA5A57337A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4389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5E950-2ECA-4CEC-B7CE-1FA0DEA16F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14296-F669-45BB-9838-CC2EFEB2C9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4389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2292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0A1BA-651D-4952-9856-B13067257F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4389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2292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F90C7-BA32-477B-8BA8-4444759107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4389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22928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C33A2-B6C3-48EE-B426-4FF052592C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4379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56236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ITU-T Study Group 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4190760" y="624852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25E89-608F-4800-B801-7EBA46E437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ITU_Logo" descr=""/>
          <p:cNvPicPr/>
          <p:nvPr/>
        </p:nvPicPr>
        <p:blipFill>
          <a:blip r:embed="rId2"/>
          <a:stretch/>
        </p:blipFill>
        <p:spPr>
          <a:xfrm>
            <a:off x="685800" y="6019920"/>
            <a:ext cx="620640" cy="68076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685800" y="5943600"/>
            <a:ext cx="777240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1066680"/>
            <a:ext cx="777240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33360" y="404640"/>
            <a:ext cx="52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Impact"/>
              </a:rPr>
              <a:t>Multimedia in the 21</a:t>
            </a:r>
            <a:r>
              <a:rPr b="0" lang="en-US" sz="2800" spc="-1" strike="noStrike" baseline="30000">
                <a:solidFill>
                  <a:srgbClr val="3333cc"/>
                </a:solidFill>
                <a:latin typeface="Impact"/>
              </a:rPr>
              <a:t>st</a:t>
            </a:r>
            <a:r>
              <a:rPr b="0" lang="en-US" sz="2800" spc="-1" strike="noStrike">
                <a:solidFill>
                  <a:srgbClr val="3333cc"/>
                </a:solidFill>
                <a:latin typeface="Impact"/>
              </a:rPr>
              <a:t> Centu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371600" y="16765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Multimedia over I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E-business &amp; E-commer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73360" y="3505320"/>
            <a:ext cx="7608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Impact"/>
              </a:rPr>
              <a:t>Results of the IP Networking &amp;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Impact"/>
              </a:rPr>
              <a:t>Mediacom 2004 Worksho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28600" y="152280"/>
            <a:ext cx="876312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5410080"/>
            <a:ext cx="876312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b8e7e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TT from ESnet to Groups of S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1306440"/>
            <a:ext cx="7772400" cy="55515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914400" y="3352680"/>
            <a:ext cx="701028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40000" y="2233440"/>
            <a:ext cx="433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ITU G.114 300 ms RTT limit for vo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2437920" y="2362320"/>
            <a:ext cx="924120" cy="99036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19320" y="4572000"/>
            <a:ext cx="6705360" cy="14479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10600" y="5334120"/>
            <a:ext cx="16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20%/y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42080" y="557280"/>
            <a:ext cx="601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TT ~ distance/(0.6*c) + hops * router de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uter delay = queuing + clocking in &amp; out + 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28600" y="228600"/>
            <a:ext cx="853452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5486400"/>
            <a:ext cx="853416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b8e7e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TT from California to wor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" y="2590920"/>
            <a:ext cx="4314960" cy="38480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438280" y="609480"/>
            <a:ext cx="6705720" cy="36831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048120" y="4419720"/>
            <a:ext cx="0" cy="243828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14600" y="1981080"/>
            <a:ext cx="662940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48680" y="4114800"/>
            <a:ext cx="30549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ngitude (deg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33000" y="1514520"/>
            <a:ext cx="113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300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15320" y="4343400"/>
            <a:ext cx="113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300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51520" y="6338880"/>
            <a:ext cx="167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TT (ms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16200000">
            <a:off x="-578880" y="4695120"/>
            <a:ext cx="168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1598760" y="1833480"/>
            <a:ext cx="15904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TT (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5600">
            <a:off x="3965400" y="4729320"/>
            <a:ext cx="497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ource = Palo Alto CA, W. Co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4114440" y="3962160"/>
            <a:ext cx="60948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16216800">
            <a:off x="516600" y="1314720"/>
            <a:ext cx="192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. Coast 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6216800">
            <a:off x="-147240" y="1327320"/>
            <a:ext cx="204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. Coast 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6200000">
            <a:off x="384480" y="2590920"/>
            <a:ext cx="325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urope &amp; S. Ame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640480" y="762120"/>
            <a:ext cx="120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ur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4191120" y="2590920"/>
            <a:ext cx="274320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868360" y="3200400"/>
            <a:ext cx="113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*0.6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5562720" y="327636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6200000">
            <a:off x="4765320" y="1103400"/>
            <a:ext cx="10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raz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16200000">
            <a:off x="3948120" y="1083240"/>
            <a:ext cx="146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E. Co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863240" y="6400800"/>
            <a:ext cx="428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from CAIDA Skitter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04920" y="5486400"/>
            <a:ext cx="853416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28600"/>
            <a:ext cx="853452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b8e7e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oss seen from US to groups of S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38080" y="63388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ETSI DTR/TIPHON-05001 V1.2.5 threshold for good spee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5943600"/>
            <a:ext cx="838080" cy="9144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447920" y="622440"/>
            <a:ext cx="7696080" cy="58226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295280" y="3429000"/>
            <a:ext cx="75438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387440" y="3428640"/>
            <a:ext cx="822240" cy="299556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362320" y="3733920"/>
            <a:ext cx="6476760" cy="228600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1131600">
            <a:off x="3507480" y="5105520"/>
            <a:ext cx="39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50% improvement / y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ultimedia Quality of Serv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2437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y are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rics for customer perceptions (voice, video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work metrics e.g. delay, jitter, packet lo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 application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STN to IP mi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s of developing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ultimedia Quality of Serv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QoS architectu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QoS control mechanis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ignalling QoS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QoS classes – need for some harmoni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oles of ‘service’ and ‘transport’ provi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04920" y="5486400"/>
            <a:ext cx="853416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228600"/>
            <a:ext cx="853452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98920" y="2273400"/>
            <a:ext cx="3792240" cy="1760400"/>
          </a:xfrm>
          <a:prstGeom prst="line">
            <a:avLst/>
          </a:prstGeom>
          <a:ln w="28440">
            <a:solidFill>
              <a:srgbClr val="cc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38240" y="2549520"/>
            <a:ext cx="415800" cy="731160"/>
            <a:chOff x="138240" y="2549520"/>
            <a:chExt cx="415800" cy="731160"/>
          </a:xfrm>
        </p:grpSpPr>
        <p:grpSp>
          <p:nvGrpSpPr>
            <p:cNvPr id="142" name=""/>
            <p:cNvGrpSpPr/>
            <p:nvPr/>
          </p:nvGrpSpPr>
          <p:grpSpPr>
            <a:xfrm>
              <a:off x="138240" y="2549520"/>
              <a:ext cx="415800" cy="730080"/>
              <a:chOff x="138240" y="2549520"/>
              <a:chExt cx="415800" cy="730080"/>
            </a:xfrm>
          </p:grpSpPr>
          <p:sp>
            <p:nvSpPr>
              <p:cNvPr id="143" name=""/>
              <p:cNvSpPr/>
              <p:nvPr/>
            </p:nvSpPr>
            <p:spPr>
              <a:xfrm>
                <a:off x="260640" y="2597760"/>
                <a:ext cx="279360" cy="12600"/>
              </a:xfrm>
              <a:custGeom>
                <a:avLst/>
                <a:gdLst/>
                <a:ahLst/>
                <a:rect l="l" t="t" r="r" b="b"/>
                <a:pathLst>
                  <a:path w="1232" h="46">
                    <a:moveTo>
                      <a:pt x="0" y="0"/>
                    </a:moveTo>
                    <a:lnTo>
                      <a:pt x="73" y="46"/>
                    </a:lnTo>
                    <a:lnTo>
                      <a:pt x="1232" y="46"/>
                    </a:lnTo>
                    <a:lnTo>
                      <a:pt x="119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e0e0"/>
              </a:solidFill>
              <a:ln w="18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59560" y="2596680"/>
                <a:ext cx="70200" cy="682920"/>
              </a:xfrm>
              <a:custGeom>
                <a:avLst/>
                <a:gdLst/>
                <a:ahLst/>
                <a:rect l="l" t="t" r="r" b="b"/>
                <a:pathLst>
                  <a:path w="312" h="2397">
                    <a:moveTo>
                      <a:pt x="0" y="2316"/>
                    </a:moveTo>
                    <a:lnTo>
                      <a:pt x="64" y="2397"/>
                    </a:lnTo>
                    <a:lnTo>
                      <a:pt x="312" y="796"/>
                    </a:lnTo>
                    <a:lnTo>
                      <a:pt x="80" y="48"/>
                    </a:lnTo>
                    <a:lnTo>
                      <a:pt x="3" y="0"/>
                    </a:lnTo>
                    <a:lnTo>
                      <a:pt x="0" y="875"/>
                    </a:lnTo>
                    <a:lnTo>
                      <a:pt x="0" y="2316"/>
                    </a:lnTo>
                    <a:close/>
                  </a:path>
                </a:pathLst>
              </a:custGeom>
              <a:solidFill>
                <a:srgbClr val="a0a0a0"/>
              </a:solidFill>
              <a:ln w="18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38240" y="2549520"/>
                <a:ext cx="122400" cy="707400"/>
              </a:xfrm>
              <a:custGeom>
                <a:avLst/>
                <a:gdLst/>
                <a:ahLst/>
                <a:rect l="l" t="t" r="r" b="b"/>
                <a:pathLst>
                  <a:path w="542" h="2477">
                    <a:moveTo>
                      <a:pt x="0" y="0"/>
                    </a:moveTo>
                    <a:lnTo>
                      <a:pt x="542" y="162"/>
                    </a:lnTo>
                    <a:lnTo>
                      <a:pt x="542" y="2477"/>
                    </a:lnTo>
                    <a:lnTo>
                      <a:pt x="0" y="188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a0a0"/>
              </a:solidFill>
              <a:ln w="18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38240" y="2549520"/>
                <a:ext cx="394200" cy="48240"/>
              </a:xfrm>
              <a:custGeom>
                <a:avLst/>
                <a:gdLst/>
                <a:ahLst/>
                <a:rect l="l" t="t" r="r" b="b"/>
                <a:pathLst>
                  <a:path w="1737" h="170">
                    <a:moveTo>
                      <a:pt x="543" y="170"/>
                    </a:moveTo>
                    <a:lnTo>
                      <a:pt x="1737" y="170"/>
                    </a:lnTo>
                    <a:lnTo>
                      <a:pt x="900" y="0"/>
                    </a:lnTo>
                    <a:lnTo>
                      <a:pt x="0" y="0"/>
                    </a:lnTo>
                    <a:lnTo>
                      <a:pt x="543" y="170"/>
                    </a:lnTo>
                    <a:close/>
                  </a:path>
                </a:pathLst>
              </a:custGeom>
              <a:solidFill>
                <a:srgbClr val="e0e0e0"/>
              </a:solidFill>
              <a:ln w="18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75760" y="2851920"/>
                <a:ext cx="255600" cy="427680"/>
              </a:xfrm>
              <a:prstGeom prst="rect">
                <a:avLst/>
              </a:prstGeom>
              <a:solidFill>
                <a:srgbClr val="c0c0c0"/>
              </a:solidFill>
              <a:ln w="18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77920" y="2609280"/>
                <a:ext cx="274680" cy="215280"/>
              </a:xfrm>
              <a:custGeom>
                <a:avLst/>
                <a:gdLst/>
                <a:ahLst/>
                <a:rect l="l" t="t" r="r" b="b"/>
                <a:pathLst>
                  <a:path w="1212" h="754">
                    <a:moveTo>
                      <a:pt x="0" y="0"/>
                    </a:moveTo>
                    <a:lnTo>
                      <a:pt x="1156" y="0"/>
                    </a:lnTo>
                    <a:lnTo>
                      <a:pt x="1212" y="754"/>
                    </a:lnTo>
                    <a:lnTo>
                      <a:pt x="49" y="75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18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75760" y="2824560"/>
                <a:ext cx="278280" cy="25560"/>
              </a:xfrm>
              <a:custGeom>
                <a:avLst/>
                <a:gdLst/>
                <a:ahLst/>
                <a:rect l="l" t="t" r="r" b="b"/>
                <a:pathLst>
                  <a:path w="1226" h="90">
                    <a:moveTo>
                      <a:pt x="0" y="90"/>
                    </a:moveTo>
                    <a:lnTo>
                      <a:pt x="1132" y="90"/>
                    </a:lnTo>
                    <a:lnTo>
                      <a:pt x="1226" y="0"/>
                    </a:lnTo>
                    <a:lnTo>
                      <a:pt x="62" y="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a0a0a0"/>
              </a:solidFill>
              <a:ln w="18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277920" y="2597760"/>
              <a:ext cx="78120" cy="682920"/>
              <a:chOff x="277920" y="2597760"/>
              <a:chExt cx="78120" cy="682920"/>
            </a:xfrm>
          </p:grpSpPr>
          <p:sp>
            <p:nvSpPr>
              <p:cNvPr id="151" name=""/>
              <p:cNvSpPr/>
              <p:nvPr/>
            </p:nvSpPr>
            <p:spPr>
              <a:xfrm>
                <a:off x="277920" y="2597760"/>
                <a:ext cx="22320" cy="681840"/>
              </a:xfrm>
              <a:custGeom>
                <a:avLst/>
                <a:gdLst/>
                <a:ahLst/>
                <a:rect l="l" t="t" r="r" b="b"/>
                <a:pathLst>
                  <a:path w="102" h="2391">
                    <a:moveTo>
                      <a:pt x="0" y="0"/>
                    </a:moveTo>
                    <a:lnTo>
                      <a:pt x="52" y="40"/>
                    </a:lnTo>
                    <a:lnTo>
                      <a:pt x="102" y="802"/>
                    </a:lnTo>
                    <a:lnTo>
                      <a:pt x="50" y="889"/>
                    </a:lnTo>
                    <a:lnTo>
                      <a:pt x="47" y="2391"/>
                    </a:lnTo>
                  </a:path>
                </a:pathLst>
              </a:custGeom>
              <a:noFill/>
              <a:ln w="18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86920" y="2599200"/>
                <a:ext cx="21600" cy="681480"/>
              </a:xfrm>
              <a:custGeom>
                <a:avLst/>
                <a:gdLst/>
                <a:ahLst/>
                <a:rect l="l" t="t" r="r" b="b"/>
                <a:pathLst>
                  <a:path w="95" h="2391">
                    <a:moveTo>
                      <a:pt x="0" y="0"/>
                    </a:moveTo>
                    <a:lnTo>
                      <a:pt x="45" y="40"/>
                    </a:lnTo>
                    <a:lnTo>
                      <a:pt x="95" y="802"/>
                    </a:lnTo>
                    <a:lnTo>
                      <a:pt x="44" y="888"/>
                    </a:lnTo>
                    <a:lnTo>
                      <a:pt x="42" y="2391"/>
                    </a:lnTo>
                  </a:path>
                </a:pathLst>
              </a:custGeom>
              <a:noFill/>
              <a:ln w="18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93400" y="2597760"/>
                <a:ext cx="22680" cy="681840"/>
              </a:xfrm>
              <a:custGeom>
                <a:avLst/>
                <a:gdLst/>
                <a:ahLst/>
                <a:rect l="l" t="t" r="r" b="b"/>
                <a:pathLst>
                  <a:path w="102" h="2391">
                    <a:moveTo>
                      <a:pt x="0" y="0"/>
                    </a:moveTo>
                    <a:lnTo>
                      <a:pt x="50" y="40"/>
                    </a:lnTo>
                    <a:lnTo>
                      <a:pt x="102" y="796"/>
                    </a:lnTo>
                    <a:lnTo>
                      <a:pt x="47" y="882"/>
                    </a:lnTo>
                    <a:lnTo>
                      <a:pt x="47" y="2391"/>
                    </a:lnTo>
                  </a:path>
                </a:pathLst>
              </a:custGeom>
              <a:noFill/>
              <a:ln w="18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01320" y="2599200"/>
                <a:ext cx="22320" cy="680400"/>
              </a:xfrm>
              <a:custGeom>
                <a:avLst/>
                <a:gdLst/>
                <a:ahLst/>
                <a:rect l="l" t="t" r="r" b="b"/>
                <a:pathLst>
                  <a:path w="98" h="2385">
                    <a:moveTo>
                      <a:pt x="0" y="0"/>
                    </a:moveTo>
                    <a:lnTo>
                      <a:pt x="48" y="35"/>
                    </a:lnTo>
                    <a:lnTo>
                      <a:pt x="98" y="796"/>
                    </a:lnTo>
                    <a:lnTo>
                      <a:pt x="46" y="883"/>
                    </a:lnTo>
                    <a:lnTo>
                      <a:pt x="44" y="2385"/>
                    </a:lnTo>
                  </a:path>
                </a:pathLst>
              </a:custGeom>
              <a:noFill/>
              <a:ln w="18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10320" y="2597760"/>
                <a:ext cx="21600" cy="678960"/>
              </a:xfrm>
              <a:custGeom>
                <a:avLst/>
                <a:gdLst/>
                <a:ahLst/>
                <a:rect l="l" t="t" r="r" b="b"/>
                <a:pathLst>
                  <a:path w="97" h="2383">
                    <a:moveTo>
                      <a:pt x="0" y="0"/>
                    </a:moveTo>
                    <a:lnTo>
                      <a:pt x="47" y="46"/>
                    </a:lnTo>
                    <a:lnTo>
                      <a:pt x="97" y="795"/>
                    </a:lnTo>
                    <a:lnTo>
                      <a:pt x="44" y="881"/>
                    </a:lnTo>
                    <a:lnTo>
                      <a:pt x="42" y="2383"/>
                    </a:lnTo>
                  </a:path>
                </a:pathLst>
              </a:custGeom>
              <a:noFill/>
              <a:ln w="18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18240" y="2599200"/>
                <a:ext cx="21600" cy="678960"/>
              </a:xfrm>
              <a:custGeom>
                <a:avLst/>
                <a:gdLst/>
                <a:ahLst/>
                <a:rect l="l" t="t" r="r" b="b"/>
                <a:pathLst>
                  <a:path w="92" h="2384">
                    <a:moveTo>
                      <a:pt x="0" y="0"/>
                    </a:moveTo>
                    <a:lnTo>
                      <a:pt x="42" y="40"/>
                    </a:lnTo>
                    <a:lnTo>
                      <a:pt x="92" y="794"/>
                    </a:lnTo>
                    <a:lnTo>
                      <a:pt x="40" y="881"/>
                    </a:lnTo>
                    <a:lnTo>
                      <a:pt x="38" y="2384"/>
                    </a:lnTo>
                  </a:path>
                </a:pathLst>
              </a:custGeom>
              <a:noFill/>
              <a:ln w="18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26520" y="2599200"/>
                <a:ext cx="21600" cy="680400"/>
              </a:xfrm>
              <a:custGeom>
                <a:avLst/>
                <a:gdLst/>
                <a:ahLst/>
                <a:rect l="l" t="t" r="r" b="b"/>
                <a:pathLst>
                  <a:path w="93" h="2389">
                    <a:moveTo>
                      <a:pt x="0" y="0"/>
                    </a:moveTo>
                    <a:lnTo>
                      <a:pt x="41" y="42"/>
                    </a:lnTo>
                    <a:lnTo>
                      <a:pt x="93" y="786"/>
                    </a:lnTo>
                    <a:lnTo>
                      <a:pt x="38" y="880"/>
                    </a:lnTo>
                    <a:lnTo>
                      <a:pt x="38" y="2389"/>
                    </a:lnTo>
                  </a:path>
                </a:pathLst>
              </a:custGeom>
              <a:noFill/>
              <a:ln w="18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34440" y="2599200"/>
                <a:ext cx="21600" cy="677160"/>
              </a:xfrm>
              <a:custGeom>
                <a:avLst/>
                <a:gdLst/>
                <a:ahLst/>
                <a:rect l="l" t="t" r="r" b="b"/>
                <a:pathLst>
                  <a:path w="93" h="2377">
                    <a:moveTo>
                      <a:pt x="0" y="0"/>
                    </a:moveTo>
                    <a:lnTo>
                      <a:pt x="43" y="40"/>
                    </a:lnTo>
                    <a:lnTo>
                      <a:pt x="93" y="789"/>
                    </a:lnTo>
                    <a:lnTo>
                      <a:pt x="42" y="875"/>
                    </a:lnTo>
                    <a:lnTo>
                      <a:pt x="39" y="2377"/>
                    </a:lnTo>
                  </a:path>
                </a:pathLst>
              </a:custGeom>
              <a:noFill/>
              <a:ln w="18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352800" y="2906280"/>
              <a:ext cx="167760" cy="339120"/>
            </a:xfrm>
            <a:prstGeom prst="rect">
              <a:avLst/>
            </a:prstGeom>
            <a:solidFill>
              <a:srgbClr val="c0c0c0"/>
            </a:solidFill>
            <a:ln w="18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52800" y="2971800"/>
              <a:ext cx="167760" cy="68040"/>
            </a:xfrm>
            <a:prstGeom prst="rect">
              <a:avLst/>
            </a:prstGeom>
            <a:solidFill>
              <a:srgbClr val="c0c0c0"/>
            </a:solidFill>
            <a:ln w="18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52800" y="3040200"/>
              <a:ext cx="167760" cy="68400"/>
            </a:xfrm>
            <a:prstGeom prst="rect">
              <a:avLst/>
            </a:prstGeom>
            <a:solidFill>
              <a:srgbClr val="c0c0c0"/>
            </a:solidFill>
            <a:ln w="18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52800" y="3105720"/>
              <a:ext cx="167760" cy="68400"/>
            </a:xfrm>
            <a:prstGeom prst="rect">
              <a:avLst/>
            </a:prstGeom>
            <a:solidFill>
              <a:srgbClr val="c0c0c0"/>
            </a:solidFill>
            <a:ln w="18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82320" y="2984400"/>
              <a:ext cx="110160" cy="41400"/>
            </a:xfrm>
            <a:prstGeom prst="rect">
              <a:avLst/>
            </a:prstGeom>
            <a:solidFill>
              <a:srgbClr val="c0c0c0"/>
            </a:solidFill>
            <a:ln w="18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82320" y="3051360"/>
              <a:ext cx="110160" cy="42840"/>
            </a:xfrm>
            <a:prstGeom prst="rect">
              <a:avLst/>
            </a:prstGeom>
            <a:solidFill>
              <a:srgbClr val="c0c0c0"/>
            </a:solidFill>
            <a:ln w="18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57200" y="2913480"/>
              <a:ext cx="7920" cy="43920"/>
            </a:xfrm>
            <a:custGeom>
              <a:avLst/>
              <a:gdLst/>
              <a:ahLst/>
              <a:rect l="l" t="t" r="r" b="b"/>
              <a:pathLst>
                <a:path w="33" h="152">
                  <a:moveTo>
                    <a:pt x="33" y="0"/>
                  </a:moveTo>
                  <a:lnTo>
                    <a:pt x="33" y="152"/>
                  </a:lnTo>
                  <a:lnTo>
                    <a:pt x="0" y="66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352800" y="2906280"/>
              <a:ext cx="167760" cy="68040"/>
              <a:chOff x="352800" y="2906280"/>
              <a:chExt cx="167760" cy="68040"/>
            </a:xfrm>
          </p:grpSpPr>
          <p:sp>
            <p:nvSpPr>
              <p:cNvPr id="167" name=""/>
              <p:cNvSpPr/>
              <p:nvPr/>
            </p:nvSpPr>
            <p:spPr>
              <a:xfrm>
                <a:off x="352800" y="2906280"/>
                <a:ext cx="167760" cy="68040"/>
              </a:xfrm>
              <a:prstGeom prst="rect">
                <a:avLst/>
              </a:prstGeom>
              <a:solidFill>
                <a:srgbClr val="a0a0a0"/>
              </a:solidFill>
              <a:ln w="18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69720" y="2916000"/>
                <a:ext cx="12240" cy="6840"/>
              </a:xfrm>
              <a:prstGeom prst="rect">
                <a:avLst/>
              </a:pr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363960" y="2910240"/>
                <a:ext cx="148320" cy="52560"/>
                <a:chOff x="363960" y="2910240"/>
                <a:chExt cx="148320" cy="5256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30560" y="2913120"/>
                  <a:ext cx="33840" cy="19440"/>
                </a:xfrm>
                <a:custGeom>
                  <a:avLst/>
                  <a:gdLst/>
                  <a:ahLst/>
                  <a:rect l="l" t="t" r="r" b="b"/>
                  <a:pathLst>
                    <a:path w="152" h="69">
                      <a:moveTo>
                        <a:pt x="152" y="0"/>
                      </a:moveTo>
                      <a:lnTo>
                        <a:pt x="9" y="0"/>
                      </a:lnTo>
                      <a:lnTo>
                        <a:pt x="0" y="69"/>
                      </a:lnTo>
                      <a:lnTo>
                        <a:pt x="134" y="67"/>
                      </a:lnTo>
                      <a:lnTo>
                        <a:pt x="152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30560" y="2938320"/>
                  <a:ext cx="77040" cy="18360"/>
                </a:xfrm>
                <a:custGeom>
                  <a:avLst/>
                  <a:gdLst/>
                  <a:ahLst/>
                  <a:rect l="l" t="t" r="r" b="b"/>
                  <a:pathLst>
                    <a:path w="341" h="68">
                      <a:moveTo>
                        <a:pt x="341" y="68"/>
                      </a:moveTo>
                      <a:lnTo>
                        <a:pt x="9" y="68"/>
                      </a:lnTo>
                      <a:lnTo>
                        <a:pt x="0" y="0"/>
                      </a:lnTo>
                      <a:lnTo>
                        <a:pt x="324" y="0"/>
                      </a:lnTo>
                      <a:lnTo>
                        <a:pt x="341" y="6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462240" y="2921400"/>
                  <a:ext cx="45360" cy="11160"/>
                </a:xfrm>
                <a:custGeom>
                  <a:avLst/>
                  <a:gdLst/>
                  <a:ahLst/>
                  <a:rect l="l" t="t" r="r" b="b"/>
                  <a:pathLst>
                    <a:path w="199" h="36">
                      <a:moveTo>
                        <a:pt x="199" y="0"/>
                      </a:moveTo>
                      <a:lnTo>
                        <a:pt x="7" y="0"/>
                      </a:lnTo>
                      <a:lnTo>
                        <a:pt x="0" y="36"/>
                      </a:lnTo>
                      <a:lnTo>
                        <a:pt x="182" y="36"/>
                      </a:lnTo>
                      <a:lnTo>
                        <a:pt x="199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503280" y="2921400"/>
                  <a:ext cx="4320" cy="35280"/>
                </a:xfrm>
                <a:custGeom>
                  <a:avLst/>
                  <a:gdLst/>
                  <a:ahLst/>
                  <a:rect l="l" t="t" r="r" b="b"/>
                  <a:pathLst>
                    <a:path w="20" h="123">
                      <a:moveTo>
                        <a:pt x="20" y="0"/>
                      </a:moveTo>
                      <a:lnTo>
                        <a:pt x="20" y="123"/>
                      </a:lnTo>
                      <a:lnTo>
                        <a:pt x="0" y="41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464760" y="2941200"/>
                  <a:ext cx="13320" cy="12600"/>
                </a:xfrm>
                <a:prstGeom prst="ellipse">
                  <a:avLst/>
                </a:prstGeom>
                <a:solidFill>
                  <a:srgbClr val="c0c0c0"/>
                </a:solidFill>
                <a:ln w="1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363960" y="2932560"/>
                  <a:ext cx="148320" cy="5760"/>
                </a:xfrm>
                <a:prstGeom prst="rect">
                  <a:avLst/>
                </a:pr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6" name=""/>
                <p:cNvGrpSpPr/>
                <p:nvPr/>
              </p:nvGrpSpPr>
              <p:grpSpPr>
                <a:xfrm>
                  <a:off x="461160" y="2910240"/>
                  <a:ext cx="15480" cy="52560"/>
                  <a:chOff x="461160" y="2910240"/>
                  <a:chExt cx="15480" cy="52560"/>
                </a:xfrm>
              </p:grpSpPr>
              <p:sp>
                <p:nvSpPr>
                  <p:cNvPr id="177" name=""/>
                  <p:cNvSpPr/>
                  <p:nvPr/>
                </p:nvSpPr>
                <p:spPr>
                  <a:xfrm>
                    <a:off x="461160" y="2911320"/>
                    <a:ext cx="14400" cy="5112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183">
                        <a:moveTo>
                          <a:pt x="54" y="2"/>
                        </a:moveTo>
                        <a:lnTo>
                          <a:pt x="30" y="0"/>
                        </a:lnTo>
                        <a:lnTo>
                          <a:pt x="13" y="10"/>
                        </a:lnTo>
                        <a:lnTo>
                          <a:pt x="8" y="31"/>
                        </a:lnTo>
                        <a:lnTo>
                          <a:pt x="0" y="73"/>
                        </a:lnTo>
                        <a:lnTo>
                          <a:pt x="17" y="181"/>
                        </a:lnTo>
                        <a:lnTo>
                          <a:pt x="30" y="183"/>
                        </a:lnTo>
                        <a:lnTo>
                          <a:pt x="30" y="88"/>
                        </a:lnTo>
                        <a:lnTo>
                          <a:pt x="59" y="48"/>
                        </a:lnTo>
                        <a:lnTo>
                          <a:pt x="67" y="29"/>
                        </a:lnTo>
                        <a:lnTo>
                          <a:pt x="65" y="12"/>
                        </a:lnTo>
                        <a:lnTo>
                          <a:pt x="54" y="2"/>
                        </a:lnTo>
                        <a:close/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>
                    <a:off x="461880" y="2910240"/>
                    <a:ext cx="14760" cy="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183">
                        <a:moveTo>
                          <a:pt x="53" y="2"/>
                        </a:moveTo>
                        <a:lnTo>
                          <a:pt x="29" y="0"/>
                        </a:lnTo>
                        <a:lnTo>
                          <a:pt x="14" y="10"/>
                        </a:lnTo>
                        <a:lnTo>
                          <a:pt x="7" y="31"/>
                        </a:lnTo>
                        <a:lnTo>
                          <a:pt x="0" y="72"/>
                        </a:lnTo>
                        <a:lnTo>
                          <a:pt x="17" y="181"/>
                        </a:lnTo>
                        <a:lnTo>
                          <a:pt x="29" y="183"/>
                        </a:lnTo>
                        <a:lnTo>
                          <a:pt x="29" y="88"/>
                        </a:lnTo>
                        <a:lnTo>
                          <a:pt x="59" y="48"/>
                        </a:lnTo>
                        <a:lnTo>
                          <a:pt x="67" y="29"/>
                        </a:lnTo>
                        <a:lnTo>
                          <a:pt x="65" y="12"/>
                        </a:lnTo>
                        <a:lnTo>
                          <a:pt x="53" y="2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79" name=""/>
            <p:cNvSpPr/>
            <p:nvPr/>
          </p:nvSpPr>
          <p:spPr>
            <a:xfrm>
              <a:off x="388080" y="2997360"/>
              <a:ext cx="98640" cy="57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17600" y="3010320"/>
              <a:ext cx="43200" cy="9360"/>
            </a:xfrm>
            <a:custGeom>
              <a:avLst/>
              <a:gdLst/>
              <a:ahLst/>
              <a:rect l="l" t="t" r="r" b="b"/>
              <a:pathLst>
                <a:path w="190" h="35">
                  <a:moveTo>
                    <a:pt x="5" y="35"/>
                  </a:moveTo>
                  <a:lnTo>
                    <a:pt x="0" y="0"/>
                  </a:lnTo>
                  <a:lnTo>
                    <a:pt x="185" y="0"/>
                  </a:lnTo>
                  <a:lnTo>
                    <a:pt x="190" y="34"/>
                  </a:lnTo>
                </a:path>
              </a:pathLst>
            </a:custGeom>
            <a:noFill/>
            <a:ln w="18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00600" y="2642040"/>
              <a:ext cx="38520" cy="52560"/>
            </a:xfrm>
            <a:custGeom>
              <a:avLst/>
              <a:gdLst/>
              <a:ahLst/>
              <a:rect l="l" t="t" r="r" b="b"/>
              <a:pathLst>
                <a:path w="168" h="181">
                  <a:moveTo>
                    <a:pt x="155" y="0"/>
                  </a:moveTo>
                  <a:lnTo>
                    <a:pt x="0" y="0"/>
                  </a:lnTo>
                  <a:lnTo>
                    <a:pt x="11" y="181"/>
                  </a:lnTo>
                  <a:lnTo>
                    <a:pt x="168" y="181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c0c0c0"/>
            </a:solidFill>
            <a:ln w="18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04920" y="2730600"/>
              <a:ext cx="39600" cy="51120"/>
            </a:xfrm>
            <a:custGeom>
              <a:avLst/>
              <a:gdLst/>
              <a:ahLst/>
              <a:rect l="l" t="t" r="r" b="b"/>
              <a:pathLst>
                <a:path w="175" h="183">
                  <a:moveTo>
                    <a:pt x="162" y="0"/>
                  </a:moveTo>
                  <a:lnTo>
                    <a:pt x="0" y="0"/>
                  </a:lnTo>
                  <a:lnTo>
                    <a:pt x="12" y="183"/>
                  </a:lnTo>
                  <a:lnTo>
                    <a:pt x="175" y="182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c0c0c0"/>
            </a:solidFill>
            <a:ln w="18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362880" y="2726280"/>
              <a:ext cx="168120" cy="55440"/>
              <a:chOff x="362880" y="2726280"/>
              <a:chExt cx="168120" cy="55440"/>
            </a:xfrm>
          </p:grpSpPr>
          <p:sp>
            <p:nvSpPr>
              <p:cNvPr id="184" name=""/>
              <p:cNvSpPr/>
              <p:nvPr/>
            </p:nvSpPr>
            <p:spPr>
              <a:xfrm>
                <a:off x="362880" y="2726280"/>
                <a:ext cx="168120" cy="55440"/>
              </a:xfrm>
              <a:prstGeom prst="rect">
                <a:avLst/>
              </a:prstGeom>
              <a:solidFill>
                <a:srgbClr val="606060"/>
              </a:solidFill>
              <a:ln w="18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93480" y="2733120"/>
                <a:ext cx="20520" cy="183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93480" y="2756160"/>
                <a:ext cx="20520" cy="183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34160" y="2744640"/>
                <a:ext cx="20520" cy="169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71880" y="2744640"/>
                <a:ext cx="14400" cy="21600"/>
              </a:xfrm>
              <a:prstGeom prst="ellipse">
                <a:avLst/>
              </a:pr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9" name=""/>
          <p:cNvGrpSpPr/>
          <p:nvPr/>
        </p:nvGrpSpPr>
        <p:grpSpPr>
          <a:xfrm>
            <a:off x="8610480" y="2643120"/>
            <a:ext cx="533160" cy="668520"/>
            <a:chOff x="8610480" y="2643120"/>
            <a:chExt cx="533160" cy="668520"/>
          </a:xfrm>
        </p:grpSpPr>
        <p:grpSp>
          <p:nvGrpSpPr>
            <p:cNvPr id="190" name=""/>
            <p:cNvGrpSpPr/>
            <p:nvPr/>
          </p:nvGrpSpPr>
          <p:grpSpPr>
            <a:xfrm>
              <a:off x="8610480" y="2643120"/>
              <a:ext cx="533160" cy="666720"/>
              <a:chOff x="8610480" y="2643120"/>
              <a:chExt cx="533160" cy="666720"/>
            </a:xfrm>
          </p:grpSpPr>
          <p:sp>
            <p:nvSpPr>
              <p:cNvPr id="191" name=""/>
              <p:cNvSpPr/>
              <p:nvPr/>
            </p:nvSpPr>
            <p:spPr>
              <a:xfrm>
                <a:off x="8767800" y="2687400"/>
                <a:ext cx="358560" cy="11520"/>
              </a:xfrm>
              <a:custGeom>
                <a:avLst/>
                <a:gdLst/>
                <a:ahLst/>
                <a:rect l="l" t="t" r="r" b="b"/>
                <a:pathLst>
                  <a:path w="1232" h="46">
                    <a:moveTo>
                      <a:pt x="0" y="0"/>
                    </a:moveTo>
                    <a:lnTo>
                      <a:pt x="73" y="46"/>
                    </a:lnTo>
                    <a:lnTo>
                      <a:pt x="1232" y="46"/>
                    </a:lnTo>
                    <a:lnTo>
                      <a:pt x="119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e0e0"/>
              </a:solidFill>
              <a:ln w="18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766360" y="2685960"/>
                <a:ext cx="90000" cy="623880"/>
              </a:xfrm>
              <a:custGeom>
                <a:avLst/>
                <a:gdLst/>
                <a:ahLst/>
                <a:rect l="l" t="t" r="r" b="b"/>
                <a:pathLst>
                  <a:path w="312" h="2397">
                    <a:moveTo>
                      <a:pt x="0" y="2316"/>
                    </a:moveTo>
                    <a:lnTo>
                      <a:pt x="64" y="2397"/>
                    </a:lnTo>
                    <a:lnTo>
                      <a:pt x="312" y="796"/>
                    </a:lnTo>
                    <a:lnTo>
                      <a:pt x="80" y="48"/>
                    </a:lnTo>
                    <a:lnTo>
                      <a:pt x="3" y="0"/>
                    </a:lnTo>
                    <a:lnTo>
                      <a:pt x="0" y="875"/>
                    </a:lnTo>
                    <a:lnTo>
                      <a:pt x="0" y="2316"/>
                    </a:lnTo>
                    <a:close/>
                  </a:path>
                </a:pathLst>
              </a:custGeom>
              <a:solidFill>
                <a:srgbClr val="a0a0a0"/>
              </a:solidFill>
              <a:ln w="18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610480" y="2643120"/>
                <a:ext cx="157320" cy="645840"/>
              </a:xfrm>
              <a:custGeom>
                <a:avLst/>
                <a:gdLst/>
                <a:ahLst/>
                <a:rect l="l" t="t" r="r" b="b"/>
                <a:pathLst>
                  <a:path w="542" h="2477">
                    <a:moveTo>
                      <a:pt x="0" y="0"/>
                    </a:moveTo>
                    <a:lnTo>
                      <a:pt x="542" y="162"/>
                    </a:lnTo>
                    <a:lnTo>
                      <a:pt x="542" y="2477"/>
                    </a:lnTo>
                    <a:lnTo>
                      <a:pt x="0" y="188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a0a0"/>
              </a:solidFill>
              <a:ln w="18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610480" y="2643120"/>
                <a:ext cx="505440" cy="44280"/>
              </a:xfrm>
              <a:custGeom>
                <a:avLst/>
                <a:gdLst/>
                <a:ahLst/>
                <a:rect l="l" t="t" r="r" b="b"/>
                <a:pathLst>
                  <a:path w="1737" h="170">
                    <a:moveTo>
                      <a:pt x="543" y="170"/>
                    </a:moveTo>
                    <a:lnTo>
                      <a:pt x="1737" y="170"/>
                    </a:lnTo>
                    <a:lnTo>
                      <a:pt x="900" y="0"/>
                    </a:lnTo>
                    <a:lnTo>
                      <a:pt x="0" y="0"/>
                    </a:lnTo>
                    <a:lnTo>
                      <a:pt x="543" y="170"/>
                    </a:lnTo>
                    <a:close/>
                  </a:path>
                </a:pathLst>
              </a:custGeom>
              <a:solidFill>
                <a:srgbClr val="e0e0e0"/>
              </a:solidFill>
              <a:ln w="18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8786880" y="2919240"/>
                <a:ext cx="327600" cy="390600"/>
              </a:xfrm>
              <a:prstGeom prst="rect">
                <a:avLst/>
              </a:prstGeom>
              <a:solidFill>
                <a:srgbClr val="c0c0c0"/>
              </a:solidFill>
              <a:ln w="18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89760" y="2697480"/>
                <a:ext cx="352440" cy="196560"/>
              </a:xfrm>
              <a:custGeom>
                <a:avLst/>
                <a:gdLst/>
                <a:ahLst/>
                <a:rect l="l" t="t" r="r" b="b"/>
                <a:pathLst>
                  <a:path w="1212" h="754">
                    <a:moveTo>
                      <a:pt x="0" y="0"/>
                    </a:moveTo>
                    <a:lnTo>
                      <a:pt x="1156" y="0"/>
                    </a:lnTo>
                    <a:lnTo>
                      <a:pt x="1212" y="754"/>
                    </a:lnTo>
                    <a:lnTo>
                      <a:pt x="49" y="75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18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786880" y="2894400"/>
                <a:ext cx="356760" cy="23400"/>
              </a:xfrm>
              <a:custGeom>
                <a:avLst/>
                <a:gdLst/>
                <a:ahLst/>
                <a:rect l="l" t="t" r="r" b="b"/>
                <a:pathLst>
                  <a:path w="1226" h="90">
                    <a:moveTo>
                      <a:pt x="0" y="90"/>
                    </a:moveTo>
                    <a:lnTo>
                      <a:pt x="1132" y="90"/>
                    </a:lnTo>
                    <a:lnTo>
                      <a:pt x="1226" y="0"/>
                    </a:lnTo>
                    <a:lnTo>
                      <a:pt x="62" y="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a0a0a0"/>
              </a:solidFill>
              <a:ln w="18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8789760" y="2687400"/>
              <a:ext cx="100080" cy="624240"/>
              <a:chOff x="8789760" y="2687400"/>
              <a:chExt cx="100080" cy="624240"/>
            </a:xfrm>
          </p:grpSpPr>
          <p:sp>
            <p:nvSpPr>
              <p:cNvPr id="199" name=""/>
              <p:cNvSpPr/>
              <p:nvPr/>
            </p:nvSpPr>
            <p:spPr>
              <a:xfrm>
                <a:off x="8789760" y="2687400"/>
                <a:ext cx="28800" cy="622800"/>
              </a:xfrm>
              <a:custGeom>
                <a:avLst/>
                <a:gdLst/>
                <a:ahLst/>
                <a:rect l="l" t="t" r="r" b="b"/>
                <a:pathLst>
                  <a:path w="102" h="2391">
                    <a:moveTo>
                      <a:pt x="0" y="0"/>
                    </a:moveTo>
                    <a:lnTo>
                      <a:pt x="52" y="40"/>
                    </a:lnTo>
                    <a:lnTo>
                      <a:pt x="102" y="802"/>
                    </a:lnTo>
                    <a:lnTo>
                      <a:pt x="50" y="889"/>
                    </a:lnTo>
                    <a:lnTo>
                      <a:pt x="47" y="2391"/>
                    </a:lnTo>
                  </a:path>
                </a:pathLst>
              </a:custGeom>
              <a:noFill/>
              <a:ln w="18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801280" y="2688840"/>
                <a:ext cx="27720" cy="622800"/>
              </a:xfrm>
              <a:custGeom>
                <a:avLst/>
                <a:gdLst/>
                <a:ahLst/>
                <a:rect l="l" t="t" r="r" b="b"/>
                <a:pathLst>
                  <a:path w="95" h="2391">
                    <a:moveTo>
                      <a:pt x="0" y="0"/>
                    </a:moveTo>
                    <a:lnTo>
                      <a:pt x="45" y="40"/>
                    </a:lnTo>
                    <a:lnTo>
                      <a:pt x="95" y="802"/>
                    </a:lnTo>
                    <a:lnTo>
                      <a:pt x="44" y="888"/>
                    </a:lnTo>
                    <a:lnTo>
                      <a:pt x="42" y="2391"/>
                    </a:lnTo>
                  </a:path>
                </a:pathLst>
              </a:custGeom>
              <a:noFill/>
              <a:ln w="18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809920" y="2687400"/>
                <a:ext cx="29160" cy="622800"/>
              </a:xfrm>
              <a:custGeom>
                <a:avLst/>
                <a:gdLst/>
                <a:ahLst/>
                <a:rect l="l" t="t" r="r" b="b"/>
                <a:pathLst>
                  <a:path w="102" h="2391">
                    <a:moveTo>
                      <a:pt x="0" y="0"/>
                    </a:moveTo>
                    <a:lnTo>
                      <a:pt x="50" y="40"/>
                    </a:lnTo>
                    <a:lnTo>
                      <a:pt x="102" y="796"/>
                    </a:lnTo>
                    <a:lnTo>
                      <a:pt x="47" y="882"/>
                    </a:lnTo>
                    <a:lnTo>
                      <a:pt x="47" y="2391"/>
                    </a:lnTo>
                  </a:path>
                </a:pathLst>
              </a:custGeom>
              <a:noFill/>
              <a:ln w="18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20000" y="2688840"/>
                <a:ext cx="28800" cy="621360"/>
              </a:xfrm>
              <a:custGeom>
                <a:avLst/>
                <a:gdLst/>
                <a:ahLst/>
                <a:rect l="l" t="t" r="r" b="b"/>
                <a:pathLst>
                  <a:path w="98" h="2385">
                    <a:moveTo>
                      <a:pt x="0" y="0"/>
                    </a:moveTo>
                    <a:lnTo>
                      <a:pt x="48" y="35"/>
                    </a:lnTo>
                    <a:lnTo>
                      <a:pt x="98" y="796"/>
                    </a:lnTo>
                    <a:lnTo>
                      <a:pt x="46" y="883"/>
                    </a:lnTo>
                    <a:lnTo>
                      <a:pt x="44" y="2385"/>
                    </a:lnTo>
                  </a:path>
                </a:pathLst>
              </a:custGeom>
              <a:noFill/>
              <a:ln w="18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831520" y="2687400"/>
                <a:ext cx="27720" cy="620280"/>
              </a:xfrm>
              <a:custGeom>
                <a:avLst/>
                <a:gdLst/>
                <a:ahLst/>
                <a:rect l="l" t="t" r="r" b="b"/>
                <a:pathLst>
                  <a:path w="97" h="2383">
                    <a:moveTo>
                      <a:pt x="0" y="0"/>
                    </a:moveTo>
                    <a:lnTo>
                      <a:pt x="47" y="46"/>
                    </a:lnTo>
                    <a:lnTo>
                      <a:pt x="97" y="795"/>
                    </a:lnTo>
                    <a:lnTo>
                      <a:pt x="44" y="881"/>
                    </a:lnTo>
                    <a:lnTo>
                      <a:pt x="42" y="2383"/>
                    </a:lnTo>
                  </a:path>
                </a:pathLst>
              </a:custGeom>
              <a:noFill/>
              <a:ln w="18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841960" y="2688840"/>
                <a:ext cx="27720" cy="620280"/>
              </a:xfrm>
              <a:custGeom>
                <a:avLst/>
                <a:gdLst/>
                <a:ahLst/>
                <a:rect l="l" t="t" r="r" b="b"/>
                <a:pathLst>
                  <a:path w="92" h="2384">
                    <a:moveTo>
                      <a:pt x="0" y="0"/>
                    </a:moveTo>
                    <a:lnTo>
                      <a:pt x="42" y="40"/>
                    </a:lnTo>
                    <a:lnTo>
                      <a:pt x="92" y="794"/>
                    </a:lnTo>
                    <a:lnTo>
                      <a:pt x="40" y="881"/>
                    </a:lnTo>
                    <a:lnTo>
                      <a:pt x="38" y="2384"/>
                    </a:lnTo>
                  </a:path>
                </a:pathLst>
              </a:custGeom>
              <a:noFill/>
              <a:ln w="18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8852040" y="2688840"/>
                <a:ext cx="27720" cy="621360"/>
              </a:xfrm>
              <a:custGeom>
                <a:avLst/>
                <a:gdLst/>
                <a:ahLst/>
                <a:rect l="l" t="t" r="r" b="b"/>
                <a:pathLst>
                  <a:path w="93" h="2389">
                    <a:moveTo>
                      <a:pt x="0" y="0"/>
                    </a:moveTo>
                    <a:lnTo>
                      <a:pt x="41" y="42"/>
                    </a:lnTo>
                    <a:lnTo>
                      <a:pt x="93" y="786"/>
                    </a:lnTo>
                    <a:lnTo>
                      <a:pt x="38" y="880"/>
                    </a:lnTo>
                    <a:lnTo>
                      <a:pt x="38" y="2389"/>
                    </a:lnTo>
                  </a:path>
                </a:pathLst>
              </a:custGeom>
              <a:noFill/>
              <a:ln w="18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8862120" y="2688840"/>
                <a:ext cx="27720" cy="618840"/>
              </a:xfrm>
              <a:custGeom>
                <a:avLst/>
                <a:gdLst/>
                <a:ahLst/>
                <a:rect l="l" t="t" r="r" b="b"/>
                <a:pathLst>
                  <a:path w="93" h="2377">
                    <a:moveTo>
                      <a:pt x="0" y="0"/>
                    </a:moveTo>
                    <a:lnTo>
                      <a:pt x="43" y="40"/>
                    </a:lnTo>
                    <a:lnTo>
                      <a:pt x="93" y="789"/>
                    </a:lnTo>
                    <a:lnTo>
                      <a:pt x="42" y="875"/>
                    </a:lnTo>
                    <a:lnTo>
                      <a:pt x="39" y="2377"/>
                    </a:lnTo>
                  </a:path>
                </a:pathLst>
              </a:custGeom>
              <a:noFill/>
              <a:ln w="18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8885880" y="2968920"/>
              <a:ext cx="215280" cy="309960"/>
            </a:xfrm>
            <a:prstGeom prst="rect">
              <a:avLst/>
            </a:prstGeom>
            <a:solidFill>
              <a:srgbClr val="c0c0c0"/>
            </a:solidFill>
            <a:ln w="18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885880" y="3029040"/>
              <a:ext cx="215280" cy="62280"/>
            </a:xfrm>
            <a:prstGeom prst="rect">
              <a:avLst/>
            </a:prstGeom>
            <a:solidFill>
              <a:srgbClr val="c0c0c0"/>
            </a:solidFill>
            <a:ln w="18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85880" y="3091320"/>
              <a:ext cx="215280" cy="62640"/>
            </a:xfrm>
            <a:prstGeom prst="rect">
              <a:avLst/>
            </a:prstGeom>
            <a:solidFill>
              <a:srgbClr val="c0c0c0"/>
            </a:solidFill>
            <a:ln w="18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885880" y="3151440"/>
              <a:ext cx="215280" cy="62640"/>
            </a:xfrm>
            <a:prstGeom prst="rect">
              <a:avLst/>
            </a:prstGeom>
            <a:solidFill>
              <a:srgbClr val="c0c0c0"/>
            </a:solidFill>
            <a:ln w="18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23680" y="3040560"/>
              <a:ext cx="141480" cy="37800"/>
            </a:xfrm>
            <a:prstGeom prst="rect">
              <a:avLst/>
            </a:prstGeom>
            <a:solidFill>
              <a:srgbClr val="c0c0c0"/>
            </a:solidFill>
            <a:ln w="18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923680" y="3101760"/>
              <a:ext cx="141480" cy="39240"/>
            </a:xfrm>
            <a:prstGeom prst="rect">
              <a:avLst/>
            </a:prstGeom>
            <a:solidFill>
              <a:srgbClr val="c0c0c0"/>
            </a:solidFill>
            <a:ln w="18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9019800" y="2975400"/>
              <a:ext cx="10080" cy="39960"/>
            </a:xfrm>
            <a:custGeom>
              <a:avLst/>
              <a:gdLst/>
              <a:ahLst/>
              <a:rect l="l" t="t" r="r" b="b"/>
              <a:pathLst>
                <a:path w="33" h="152">
                  <a:moveTo>
                    <a:pt x="33" y="0"/>
                  </a:moveTo>
                  <a:lnTo>
                    <a:pt x="33" y="152"/>
                  </a:lnTo>
                  <a:lnTo>
                    <a:pt x="0" y="66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8885880" y="2968920"/>
              <a:ext cx="215280" cy="62280"/>
              <a:chOff x="8885880" y="2968920"/>
              <a:chExt cx="215280" cy="62280"/>
            </a:xfrm>
          </p:grpSpPr>
          <p:sp>
            <p:nvSpPr>
              <p:cNvPr id="215" name=""/>
              <p:cNvSpPr/>
              <p:nvPr/>
            </p:nvSpPr>
            <p:spPr>
              <a:xfrm>
                <a:off x="8885880" y="2968920"/>
                <a:ext cx="215280" cy="62280"/>
              </a:xfrm>
              <a:prstGeom prst="rect">
                <a:avLst/>
              </a:prstGeom>
              <a:solidFill>
                <a:srgbClr val="a0a0a0"/>
              </a:solidFill>
              <a:ln w="18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8907480" y="2977920"/>
                <a:ext cx="15840" cy="6480"/>
              </a:xfrm>
              <a:prstGeom prst="rect">
                <a:avLst/>
              </a:pr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7" name=""/>
              <p:cNvGrpSpPr/>
              <p:nvPr/>
            </p:nvGrpSpPr>
            <p:grpSpPr>
              <a:xfrm>
                <a:off x="8900280" y="2972520"/>
                <a:ext cx="190440" cy="47880"/>
                <a:chOff x="8900280" y="2972520"/>
                <a:chExt cx="190440" cy="4788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8985960" y="2975040"/>
                  <a:ext cx="43560" cy="17640"/>
                </a:xfrm>
                <a:custGeom>
                  <a:avLst/>
                  <a:gdLst/>
                  <a:ahLst/>
                  <a:rect l="l" t="t" r="r" b="b"/>
                  <a:pathLst>
                    <a:path w="152" h="69">
                      <a:moveTo>
                        <a:pt x="152" y="0"/>
                      </a:moveTo>
                      <a:lnTo>
                        <a:pt x="9" y="0"/>
                      </a:lnTo>
                      <a:lnTo>
                        <a:pt x="0" y="69"/>
                      </a:lnTo>
                      <a:lnTo>
                        <a:pt x="134" y="67"/>
                      </a:lnTo>
                      <a:lnTo>
                        <a:pt x="152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8985960" y="2998080"/>
                  <a:ext cx="99000" cy="16560"/>
                </a:xfrm>
                <a:custGeom>
                  <a:avLst/>
                  <a:gdLst/>
                  <a:ahLst/>
                  <a:rect l="l" t="t" r="r" b="b"/>
                  <a:pathLst>
                    <a:path w="341" h="68">
                      <a:moveTo>
                        <a:pt x="341" y="68"/>
                      </a:moveTo>
                      <a:lnTo>
                        <a:pt x="9" y="68"/>
                      </a:lnTo>
                      <a:lnTo>
                        <a:pt x="0" y="0"/>
                      </a:lnTo>
                      <a:lnTo>
                        <a:pt x="324" y="0"/>
                      </a:lnTo>
                      <a:lnTo>
                        <a:pt x="341" y="6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9026640" y="2982600"/>
                  <a:ext cx="58320" cy="10080"/>
                </a:xfrm>
                <a:custGeom>
                  <a:avLst/>
                  <a:gdLst/>
                  <a:ahLst/>
                  <a:rect l="l" t="t" r="r" b="b"/>
                  <a:pathLst>
                    <a:path w="199" h="36">
                      <a:moveTo>
                        <a:pt x="199" y="0"/>
                      </a:moveTo>
                      <a:lnTo>
                        <a:pt x="7" y="0"/>
                      </a:lnTo>
                      <a:lnTo>
                        <a:pt x="0" y="36"/>
                      </a:lnTo>
                      <a:lnTo>
                        <a:pt x="182" y="36"/>
                      </a:lnTo>
                      <a:lnTo>
                        <a:pt x="199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9078840" y="2982600"/>
                  <a:ext cx="5760" cy="32040"/>
                </a:xfrm>
                <a:custGeom>
                  <a:avLst/>
                  <a:gdLst/>
                  <a:ahLst/>
                  <a:rect l="l" t="t" r="r" b="b"/>
                  <a:pathLst>
                    <a:path w="20" h="123">
                      <a:moveTo>
                        <a:pt x="20" y="0"/>
                      </a:moveTo>
                      <a:lnTo>
                        <a:pt x="20" y="123"/>
                      </a:lnTo>
                      <a:lnTo>
                        <a:pt x="0" y="41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9029520" y="3000960"/>
                  <a:ext cx="17280" cy="11520"/>
                </a:xfrm>
                <a:prstGeom prst="ellipse">
                  <a:avLst/>
                </a:prstGeom>
                <a:solidFill>
                  <a:srgbClr val="c0c0c0"/>
                </a:solidFill>
                <a:ln w="1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8900280" y="2993040"/>
                  <a:ext cx="190440" cy="5040"/>
                </a:xfrm>
                <a:prstGeom prst="rect">
                  <a:avLst/>
                </a:pr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4" name=""/>
                <p:cNvGrpSpPr/>
                <p:nvPr/>
              </p:nvGrpSpPr>
              <p:grpSpPr>
                <a:xfrm>
                  <a:off x="9025200" y="2972520"/>
                  <a:ext cx="19800" cy="47880"/>
                  <a:chOff x="9025200" y="2972520"/>
                  <a:chExt cx="19800" cy="47880"/>
                </a:xfrm>
              </p:grpSpPr>
              <p:sp>
                <p:nvSpPr>
                  <p:cNvPr id="225" name=""/>
                  <p:cNvSpPr/>
                  <p:nvPr/>
                </p:nvSpPr>
                <p:spPr>
                  <a:xfrm>
                    <a:off x="9025200" y="2973600"/>
                    <a:ext cx="18360" cy="4644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183">
                        <a:moveTo>
                          <a:pt x="54" y="2"/>
                        </a:moveTo>
                        <a:lnTo>
                          <a:pt x="30" y="0"/>
                        </a:lnTo>
                        <a:lnTo>
                          <a:pt x="13" y="10"/>
                        </a:lnTo>
                        <a:lnTo>
                          <a:pt x="8" y="31"/>
                        </a:lnTo>
                        <a:lnTo>
                          <a:pt x="0" y="73"/>
                        </a:lnTo>
                        <a:lnTo>
                          <a:pt x="17" y="181"/>
                        </a:lnTo>
                        <a:lnTo>
                          <a:pt x="30" y="183"/>
                        </a:lnTo>
                        <a:lnTo>
                          <a:pt x="30" y="88"/>
                        </a:lnTo>
                        <a:lnTo>
                          <a:pt x="59" y="48"/>
                        </a:lnTo>
                        <a:lnTo>
                          <a:pt x="67" y="29"/>
                        </a:lnTo>
                        <a:lnTo>
                          <a:pt x="65" y="12"/>
                        </a:lnTo>
                        <a:lnTo>
                          <a:pt x="54" y="2"/>
                        </a:lnTo>
                        <a:close/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9026280" y="2972520"/>
                    <a:ext cx="1872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183">
                        <a:moveTo>
                          <a:pt x="53" y="2"/>
                        </a:moveTo>
                        <a:lnTo>
                          <a:pt x="29" y="0"/>
                        </a:lnTo>
                        <a:lnTo>
                          <a:pt x="14" y="10"/>
                        </a:lnTo>
                        <a:lnTo>
                          <a:pt x="7" y="31"/>
                        </a:lnTo>
                        <a:lnTo>
                          <a:pt x="0" y="72"/>
                        </a:lnTo>
                        <a:lnTo>
                          <a:pt x="17" y="181"/>
                        </a:lnTo>
                        <a:lnTo>
                          <a:pt x="29" y="183"/>
                        </a:lnTo>
                        <a:lnTo>
                          <a:pt x="29" y="88"/>
                        </a:lnTo>
                        <a:lnTo>
                          <a:pt x="59" y="48"/>
                        </a:lnTo>
                        <a:lnTo>
                          <a:pt x="67" y="29"/>
                        </a:lnTo>
                        <a:lnTo>
                          <a:pt x="65" y="12"/>
                        </a:lnTo>
                        <a:lnTo>
                          <a:pt x="53" y="2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27" name=""/>
            <p:cNvSpPr/>
            <p:nvPr/>
          </p:nvSpPr>
          <p:spPr>
            <a:xfrm>
              <a:off x="8930880" y="3052440"/>
              <a:ext cx="126720" cy="50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969040" y="3063960"/>
              <a:ext cx="55440" cy="8640"/>
            </a:xfrm>
            <a:custGeom>
              <a:avLst/>
              <a:gdLst/>
              <a:ahLst/>
              <a:rect l="l" t="t" r="r" b="b"/>
              <a:pathLst>
                <a:path w="190" h="35">
                  <a:moveTo>
                    <a:pt x="5" y="35"/>
                  </a:moveTo>
                  <a:lnTo>
                    <a:pt x="0" y="0"/>
                  </a:lnTo>
                  <a:lnTo>
                    <a:pt x="185" y="0"/>
                  </a:lnTo>
                  <a:lnTo>
                    <a:pt x="190" y="34"/>
                  </a:lnTo>
                </a:path>
              </a:pathLst>
            </a:custGeom>
            <a:noFill/>
            <a:ln w="18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818920" y="2727720"/>
              <a:ext cx="49320" cy="47880"/>
            </a:xfrm>
            <a:custGeom>
              <a:avLst/>
              <a:gdLst/>
              <a:ahLst/>
              <a:rect l="l" t="t" r="r" b="b"/>
              <a:pathLst>
                <a:path w="168" h="181">
                  <a:moveTo>
                    <a:pt x="155" y="0"/>
                  </a:moveTo>
                  <a:lnTo>
                    <a:pt x="0" y="0"/>
                  </a:lnTo>
                  <a:lnTo>
                    <a:pt x="11" y="181"/>
                  </a:lnTo>
                  <a:lnTo>
                    <a:pt x="168" y="181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c0c0c0"/>
            </a:solidFill>
            <a:ln w="18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824680" y="2808360"/>
              <a:ext cx="51120" cy="46800"/>
            </a:xfrm>
            <a:custGeom>
              <a:avLst/>
              <a:gdLst/>
              <a:ahLst/>
              <a:rect l="l" t="t" r="r" b="b"/>
              <a:pathLst>
                <a:path w="175" h="183">
                  <a:moveTo>
                    <a:pt x="162" y="0"/>
                  </a:moveTo>
                  <a:lnTo>
                    <a:pt x="0" y="0"/>
                  </a:lnTo>
                  <a:lnTo>
                    <a:pt x="12" y="183"/>
                  </a:lnTo>
                  <a:lnTo>
                    <a:pt x="175" y="182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c0c0c0"/>
            </a:solidFill>
            <a:ln w="18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8898840" y="2804760"/>
              <a:ext cx="215640" cy="50760"/>
              <a:chOff x="8898840" y="2804760"/>
              <a:chExt cx="215640" cy="50760"/>
            </a:xfrm>
          </p:grpSpPr>
          <p:sp>
            <p:nvSpPr>
              <p:cNvPr id="232" name=""/>
              <p:cNvSpPr/>
              <p:nvPr/>
            </p:nvSpPr>
            <p:spPr>
              <a:xfrm>
                <a:off x="8898840" y="2804760"/>
                <a:ext cx="215640" cy="50760"/>
              </a:xfrm>
              <a:prstGeom prst="rect">
                <a:avLst/>
              </a:prstGeom>
              <a:solidFill>
                <a:srgbClr val="606060"/>
              </a:solidFill>
              <a:ln w="18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8938080" y="2811240"/>
                <a:ext cx="26280" cy="165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8938080" y="2832120"/>
                <a:ext cx="26280" cy="165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8990640" y="2821320"/>
                <a:ext cx="26280" cy="154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8910720" y="2821320"/>
                <a:ext cx="18720" cy="19440"/>
              </a:xfrm>
              <a:prstGeom prst="ellipse">
                <a:avLst/>
              </a:pr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7" name=""/>
          <p:cNvSpPr/>
          <p:nvPr/>
        </p:nvSpPr>
        <p:spPr>
          <a:xfrm>
            <a:off x="2798640" y="2030400"/>
            <a:ext cx="711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066680" y="6324480"/>
            <a:ext cx="160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ll Signal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143000" y="5867280"/>
            <a:ext cx="129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cket 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447840" y="6500520"/>
            <a:ext cx="749160" cy="324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465120" y="6254280"/>
            <a:ext cx="703440" cy="1800"/>
          </a:xfrm>
          <a:prstGeom prst="line">
            <a:avLst/>
          </a:prstGeom>
          <a:ln w="28440">
            <a:solidFill>
              <a:srgbClr val="cc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066680" y="6095880"/>
            <a:ext cx="168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oS Signal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419040" y="5990760"/>
            <a:ext cx="722520" cy="19080"/>
          </a:xfrm>
          <a:prstGeom prst="line">
            <a:avLst/>
          </a:prstGeom>
          <a:ln w="2844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3760" y="2884320"/>
            <a:ext cx="9137880" cy="1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735440" y="257976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pplication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749840" y="295596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nsport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360520" y="314280"/>
            <a:ext cx="494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n  Application Controlled Approach to Q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184400" y="1469880"/>
            <a:ext cx="1714320" cy="952200"/>
            <a:chOff x="1184400" y="1469880"/>
            <a:chExt cx="1714320" cy="952200"/>
          </a:xfrm>
        </p:grpSpPr>
        <p:sp>
          <p:nvSpPr>
            <p:cNvPr id="249" name=""/>
            <p:cNvSpPr/>
            <p:nvPr/>
          </p:nvSpPr>
          <p:spPr>
            <a:xfrm>
              <a:off x="1184400" y="1469880"/>
              <a:ext cx="1714320" cy="952200"/>
            </a:xfrm>
            <a:prstGeom prst="ellipse">
              <a:avLst/>
            </a:prstGeom>
            <a:solidFill>
              <a:srgbClr val="fda4b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542600" y="1701360"/>
              <a:ext cx="1078200" cy="515160"/>
            </a:xfrm>
            <a:prstGeom prst="rect">
              <a:avLst/>
            </a:prstGeom>
            <a:solidFill>
              <a:srgbClr val="fda4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Service Domain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281160" y="2101680"/>
            <a:ext cx="1089000" cy="522360"/>
            <a:chOff x="281160" y="2101680"/>
            <a:chExt cx="1089000" cy="522360"/>
          </a:xfrm>
        </p:grpSpPr>
        <p:sp>
          <p:nvSpPr>
            <p:cNvPr id="252" name=""/>
            <p:cNvSpPr/>
            <p:nvPr/>
          </p:nvSpPr>
          <p:spPr>
            <a:xfrm flipV="1">
              <a:off x="562320" y="2214360"/>
              <a:ext cx="807840" cy="4096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281160" y="2101680"/>
              <a:ext cx="957240" cy="43344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2884320" y="1855440"/>
            <a:ext cx="5891400" cy="849600"/>
            <a:chOff x="2884320" y="1855440"/>
            <a:chExt cx="5891400" cy="849600"/>
          </a:xfrm>
        </p:grpSpPr>
        <p:sp>
          <p:nvSpPr>
            <p:cNvPr id="255" name=""/>
            <p:cNvSpPr/>
            <p:nvPr/>
          </p:nvSpPr>
          <p:spPr>
            <a:xfrm>
              <a:off x="2884320" y="2077920"/>
              <a:ext cx="5891400" cy="62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 flipV="1">
              <a:off x="2933640" y="1855440"/>
              <a:ext cx="5765760" cy="65412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2411280" y="2405160"/>
            <a:ext cx="1785960" cy="1906560"/>
          </a:xfrm>
          <a:prstGeom prst="line">
            <a:avLst/>
          </a:prstGeom>
          <a:ln w="28440">
            <a:solidFill>
              <a:srgbClr val="cc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951200" y="2417760"/>
            <a:ext cx="4680" cy="1243080"/>
          </a:xfrm>
          <a:prstGeom prst="line">
            <a:avLst/>
          </a:prstGeom>
          <a:ln w="28440">
            <a:solidFill>
              <a:srgbClr val="cc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069920" y="3678120"/>
            <a:ext cx="1714680" cy="952200"/>
            <a:chOff x="1069920" y="3678120"/>
            <a:chExt cx="1714680" cy="952200"/>
          </a:xfrm>
        </p:grpSpPr>
        <p:sp>
          <p:nvSpPr>
            <p:cNvPr id="260" name=""/>
            <p:cNvSpPr/>
            <p:nvPr/>
          </p:nvSpPr>
          <p:spPr>
            <a:xfrm>
              <a:off x="1069920" y="3678120"/>
              <a:ext cx="1714680" cy="95220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428120" y="3909600"/>
              <a:ext cx="1078560" cy="5151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Transport Domain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726000" y="4267080"/>
            <a:ext cx="1714320" cy="952200"/>
            <a:chOff x="3726000" y="4267080"/>
            <a:chExt cx="1714320" cy="952200"/>
          </a:xfrm>
        </p:grpSpPr>
        <p:sp>
          <p:nvSpPr>
            <p:cNvPr id="263" name=""/>
            <p:cNvSpPr/>
            <p:nvPr/>
          </p:nvSpPr>
          <p:spPr>
            <a:xfrm>
              <a:off x="3726000" y="4267080"/>
              <a:ext cx="1714320" cy="95220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084200" y="4498560"/>
              <a:ext cx="1078200" cy="5151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Transport Domain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6351480" y="3794040"/>
            <a:ext cx="1714680" cy="952200"/>
            <a:chOff x="6351480" y="3794040"/>
            <a:chExt cx="1714680" cy="952200"/>
          </a:xfrm>
        </p:grpSpPr>
        <p:sp>
          <p:nvSpPr>
            <p:cNvPr id="266" name=""/>
            <p:cNvSpPr/>
            <p:nvPr/>
          </p:nvSpPr>
          <p:spPr>
            <a:xfrm>
              <a:off x="6351480" y="3794040"/>
              <a:ext cx="1714680" cy="95220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709680" y="4025520"/>
              <a:ext cx="1078560" cy="5151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Transport Domain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531720" y="3265560"/>
            <a:ext cx="8315280" cy="1450800"/>
            <a:chOff x="531720" y="3265560"/>
            <a:chExt cx="8315280" cy="1450800"/>
          </a:xfrm>
        </p:grpSpPr>
        <p:sp>
          <p:nvSpPr>
            <p:cNvPr id="269" name=""/>
            <p:cNvSpPr/>
            <p:nvPr/>
          </p:nvSpPr>
          <p:spPr>
            <a:xfrm flipV="1">
              <a:off x="7966080" y="3265560"/>
              <a:ext cx="880920" cy="71280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31720" y="3271680"/>
              <a:ext cx="647640" cy="66060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695680" y="4370400"/>
              <a:ext cx="1012680" cy="32688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5435640" y="4438440"/>
              <a:ext cx="1000080" cy="27792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3" name=""/>
          <p:cNvSpPr/>
          <p:nvPr/>
        </p:nvSpPr>
        <p:spPr>
          <a:xfrm flipV="1">
            <a:off x="5398920" y="4222440"/>
            <a:ext cx="914400" cy="244440"/>
          </a:xfrm>
          <a:prstGeom prst="line">
            <a:avLst/>
          </a:prstGeom>
          <a:ln w="28440">
            <a:solidFill>
              <a:srgbClr val="cccc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2660760" y="2220840"/>
            <a:ext cx="3855600" cy="1815840"/>
            <a:chOff x="2660760" y="2220840"/>
            <a:chExt cx="3855600" cy="1815840"/>
          </a:xfrm>
        </p:grpSpPr>
        <p:sp>
          <p:nvSpPr>
            <p:cNvPr id="275" name=""/>
            <p:cNvSpPr/>
            <p:nvPr/>
          </p:nvSpPr>
          <p:spPr>
            <a:xfrm>
              <a:off x="2747160" y="2290320"/>
              <a:ext cx="3769200" cy="17463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660760" y="2220840"/>
              <a:ext cx="290160" cy="29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2754360" y="2268360"/>
            <a:ext cx="3713040" cy="1748160"/>
          </a:xfrm>
          <a:prstGeom prst="line">
            <a:avLst/>
          </a:prstGeom>
          <a:ln w="28440">
            <a:solidFill>
              <a:srgbClr val="cccc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2717640" y="2206800"/>
            <a:ext cx="3814920" cy="1829880"/>
            <a:chOff x="2717640" y="2206800"/>
            <a:chExt cx="3814920" cy="1829880"/>
          </a:xfrm>
        </p:grpSpPr>
        <p:sp>
          <p:nvSpPr>
            <p:cNvPr id="279" name=""/>
            <p:cNvSpPr/>
            <p:nvPr/>
          </p:nvSpPr>
          <p:spPr>
            <a:xfrm>
              <a:off x="2803320" y="2277000"/>
              <a:ext cx="3729240" cy="17596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717640" y="2206800"/>
              <a:ext cx="287280" cy="297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304920" y="5486400"/>
            <a:ext cx="853416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80880" y="228600"/>
            <a:ext cx="853452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330120" y="3714840"/>
            <a:ext cx="8802360" cy="1846080"/>
            <a:chOff x="330120" y="3714840"/>
            <a:chExt cx="8802360" cy="1846080"/>
          </a:xfrm>
        </p:grpSpPr>
        <p:grpSp>
          <p:nvGrpSpPr>
            <p:cNvPr id="284" name=""/>
            <p:cNvGrpSpPr/>
            <p:nvPr/>
          </p:nvGrpSpPr>
          <p:grpSpPr>
            <a:xfrm>
              <a:off x="330120" y="4552920"/>
              <a:ext cx="8802360" cy="1008000"/>
              <a:chOff x="330120" y="4552920"/>
              <a:chExt cx="8802360" cy="1008000"/>
            </a:xfrm>
          </p:grpSpPr>
          <p:sp>
            <p:nvSpPr>
              <p:cNvPr id="285" name=""/>
              <p:cNvSpPr/>
              <p:nvPr/>
            </p:nvSpPr>
            <p:spPr>
              <a:xfrm>
                <a:off x="330120" y="4552920"/>
                <a:ext cx="6824520" cy="10080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86360" y="4898880"/>
                <a:ext cx="64105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Max Packet Loss, Max Mean Delay, Max Delay Variatio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153200" y="4842000"/>
                <a:ext cx="1979280" cy="4586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353000" y="4930920"/>
                <a:ext cx="15703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TRANSPOR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3584160" y="3714840"/>
              <a:ext cx="266400" cy="822240"/>
              <a:chOff x="3584160" y="3714840"/>
              <a:chExt cx="266400" cy="822240"/>
            </a:xfrm>
          </p:grpSpPr>
          <p:sp>
            <p:nvSpPr>
              <p:cNvPr id="290" name=""/>
              <p:cNvSpPr/>
              <p:nvPr/>
            </p:nvSpPr>
            <p:spPr>
              <a:xfrm>
                <a:off x="3681000" y="3714840"/>
                <a:ext cx="75960" cy="560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584160" y="4272120"/>
                <a:ext cx="266400" cy="264960"/>
              </a:xfrm>
              <a:custGeom>
                <a:avLst/>
                <a:gdLst/>
                <a:ahLst/>
                <a:rect l="l" t="t" r="r" b="b"/>
                <a:pathLst>
                  <a:path w="336" h="335">
                    <a:moveTo>
                      <a:pt x="0" y="0"/>
                    </a:moveTo>
                    <a:lnTo>
                      <a:pt x="169" y="335"/>
                    </a:lnTo>
                    <a:lnTo>
                      <a:pt x="33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2" name=""/>
          <p:cNvGrpSpPr/>
          <p:nvPr/>
        </p:nvGrpSpPr>
        <p:grpSpPr>
          <a:xfrm>
            <a:off x="297000" y="2063880"/>
            <a:ext cx="8847000" cy="1936800"/>
            <a:chOff x="297000" y="2063880"/>
            <a:chExt cx="8847000" cy="1936800"/>
          </a:xfrm>
        </p:grpSpPr>
        <p:sp>
          <p:nvSpPr>
            <p:cNvPr id="293" name=""/>
            <p:cNvSpPr/>
            <p:nvPr/>
          </p:nvSpPr>
          <p:spPr>
            <a:xfrm>
              <a:off x="7140600" y="3301920"/>
              <a:ext cx="2003400" cy="4590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01160" y="3373560"/>
              <a:ext cx="1681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5" name=""/>
            <p:cNvGrpSpPr/>
            <p:nvPr/>
          </p:nvGrpSpPr>
          <p:grpSpPr>
            <a:xfrm>
              <a:off x="3570480" y="2063880"/>
              <a:ext cx="266400" cy="1006200"/>
              <a:chOff x="3570480" y="2063880"/>
              <a:chExt cx="266400" cy="1006200"/>
            </a:xfrm>
          </p:grpSpPr>
          <p:sp>
            <p:nvSpPr>
              <p:cNvPr id="296" name=""/>
              <p:cNvSpPr/>
              <p:nvPr/>
            </p:nvSpPr>
            <p:spPr>
              <a:xfrm>
                <a:off x="3667320" y="2063880"/>
                <a:ext cx="75960" cy="744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570480" y="2805120"/>
                <a:ext cx="266400" cy="264960"/>
              </a:xfrm>
              <a:custGeom>
                <a:avLst/>
                <a:gdLst/>
                <a:ahLst/>
                <a:rect l="l" t="t" r="r" b="b"/>
                <a:pathLst>
                  <a:path w="336" h="334">
                    <a:moveTo>
                      <a:pt x="0" y="0"/>
                    </a:moveTo>
                    <a:lnTo>
                      <a:pt x="169" y="334"/>
                    </a:lnTo>
                    <a:lnTo>
                      <a:pt x="33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297000" y="3084480"/>
              <a:ext cx="6826320" cy="916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35920" y="3271680"/>
              <a:ext cx="57186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dec Performance, VAD, Frames per Packet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Jitter Buffer Size,Codec Delay, FEC (Redundancy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3110040" y="343080"/>
            <a:ext cx="32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QoS Parame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7354800" y="1111320"/>
            <a:ext cx="1731960" cy="519120"/>
            <a:chOff x="7354800" y="1111320"/>
            <a:chExt cx="1731960" cy="519120"/>
          </a:xfrm>
        </p:grpSpPr>
        <p:sp>
          <p:nvSpPr>
            <p:cNvPr id="302" name=""/>
            <p:cNvSpPr/>
            <p:nvPr/>
          </p:nvSpPr>
          <p:spPr>
            <a:xfrm>
              <a:off x="7354800" y="1111320"/>
              <a:ext cx="1731960" cy="519120"/>
            </a:xfrm>
            <a:prstGeom prst="wedgeRectCallout">
              <a:avLst>
                <a:gd name="adj1" fmla="val -79787"/>
                <a:gd name="adj2" fmla="val 103212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486920" y="1209600"/>
              <a:ext cx="1373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TU-T SG12/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7354800" y="2554200"/>
            <a:ext cx="1701720" cy="519120"/>
            <a:chOff x="7354800" y="2554200"/>
            <a:chExt cx="1701720" cy="519120"/>
          </a:xfrm>
        </p:grpSpPr>
        <p:sp>
          <p:nvSpPr>
            <p:cNvPr id="305" name=""/>
            <p:cNvSpPr/>
            <p:nvPr/>
          </p:nvSpPr>
          <p:spPr>
            <a:xfrm>
              <a:off x="7354800" y="2554200"/>
              <a:ext cx="1701720" cy="519120"/>
            </a:xfrm>
            <a:prstGeom prst="wedgeRectCallout">
              <a:avLst>
                <a:gd name="adj1" fmla="val -80319"/>
                <a:gd name="adj2" fmla="val 103212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554960" y="2697120"/>
              <a:ext cx="1373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TU-T SG16/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7340760" y="4040280"/>
            <a:ext cx="1715760" cy="519120"/>
            <a:chOff x="7340760" y="4040280"/>
            <a:chExt cx="1715760" cy="519120"/>
          </a:xfrm>
        </p:grpSpPr>
        <p:sp>
          <p:nvSpPr>
            <p:cNvPr id="308" name=""/>
            <p:cNvSpPr/>
            <p:nvPr/>
          </p:nvSpPr>
          <p:spPr>
            <a:xfrm>
              <a:off x="7340760" y="4040280"/>
              <a:ext cx="1715760" cy="519120"/>
            </a:xfrm>
            <a:prstGeom prst="wedgeRectCallout">
              <a:avLst>
                <a:gd name="adj1" fmla="val -80064"/>
                <a:gd name="adj2" fmla="val 103212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405920" y="4183200"/>
              <a:ext cx="158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TU-T SG13/IET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316080" y="1574640"/>
            <a:ext cx="8780400" cy="916200"/>
            <a:chOff x="316080" y="1574640"/>
            <a:chExt cx="8780400" cy="916200"/>
          </a:xfrm>
        </p:grpSpPr>
        <p:sp>
          <p:nvSpPr>
            <p:cNvPr id="311" name=""/>
            <p:cNvSpPr/>
            <p:nvPr/>
          </p:nvSpPr>
          <p:spPr>
            <a:xfrm>
              <a:off x="7126560" y="1846440"/>
              <a:ext cx="1969920" cy="458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571520" y="1935000"/>
              <a:ext cx="1116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16080" y="1574640"/>
              <a:ext cx="6796080" cy="916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581200" y="1860480"/>
              <a:ext cx="2138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QoS Service Cla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-commerce/e-busi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user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tential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tential ITU-T work i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-commerce/e-busi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U-T well placed to provid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xperience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ransmission &amp; Swi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operabi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illing &amp; accouin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ttlements across op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-commerce/e-busi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y i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yment mechanis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urity aspects &amp;  priv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ication &amp;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cking and audi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work management and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ols and protoc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John Magi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Vice Chairman ITU-T Study Group 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Consultant to Agere Systems, U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(formerly the Microelectronics Group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Lucent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"/>
          <p:cNvGrpSpPr/>
          <p:nvPr/>
        </p:nvGrpSpPr>
        <p:grpSpPr>
          <a:xfrm>
            <a:off x="2438280" y="1143000"/>
            <a:ext cx="4186440" cy="4678200"/>
            <a:chOff x="2438280" y="1143000"/>
            <a:chExt cx="4186440" cy="4678200"/>
          </a:xfrm>
        </p:grpSpPr>
        <p:pic>
          <p:nvPicPr>
            <p:cNvPr id="322" name="nobodyknows" descr=""/>
            <p:cNvPicPr/>
            <p:nvPr/>
          </p:nvPicPr>
          <p:blipFill>
            <a:blip r:embed="rId1"/>
            <a:stretch/>
          </p:blipFill>
          <p:spPr>
            <a:xfrm>
              <a:off x="2438280" y="1143000"/>
              <a:ext cx="4186440" cy="46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 txBox="1"/>
            <p:nvPr/>
          </p:nvSpPr>
          <p:spPr>
            <a:xfrm>
              <a:off x="2438280" y="1143000"/>
              <a:ext cx="4186440" cy="46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6863040" y="563868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New Yorker Magaz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057400" y="5486400"/>
            <a:ext cx="4267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828800" y="5333760"/>
            <a:ext cx="5029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the internet, nobody knows you’re a dog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iss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to define multimedia service capabilities rather than servic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ice archite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bility asp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ice &amp; video co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ice converg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P Networking and Mediacom 2004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orkshop sessions – IP/Joi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ransition towards next generatio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etwork/service manage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P billing/accounting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P Virtual Private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ultimedia service ev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chieving Multimedia QoS over hybrid IP/PSTN infra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152388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P Networking and Mediacom 2004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orkshop sessions – Mediac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-commerce/e-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vergence/interactive broad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ultimedia mo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ultimedia access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esentations and results available 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http://www.itu.int/ITU-T/workshops/ipnetwork_mediacom2004/program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ultimedia Access Platfor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isting standards e.g. H.323 fam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.248 &amp; IETF co-op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 control issue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8600" y="304920"/>
            <a:ext cx="853452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152280"/>
            <a:ext cx="838188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terworking Between Multimedia Termi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143000"/>
            <a:ext cx="86108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terworking with Multimedia terminal on the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terworking with Multimedia terminal on the PS mobile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3G-324M – H.323/SIP Interwor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280" y="3657600"/>
            <a:ext cx="1295640" cy="6094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3360" y="4267080"/>
            <a:ext cx="110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G-324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304920" y="2514600"/>
            <a:ext cx="8612280" cy="4181040"/>
            <a:chOff x="304920" y="2514600"/>
            <a:chExt cx="8612280" cy="4181040"/>
          </a:xfrm>
        </p:grpSpPr>
        <p:sp>
          <p:nvSpPr>
            <p:cNvPr id="59" name=""/>
            <p:cNvSpPr/>
            <p:nvPr/>
          </p:nvSpPr>
          <p:spPr>
            <a:xfrm>
              <a:off x="304920" y="5479200"/>
              <a:ext cx="8493480" cy="121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096440" y="4718880"/>
              <a:ext cx="1288800" cy="6084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b2b2b2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Cloud"/>
            <p:cNvSpPr/>
            <p:nvPr/>
          </p:nvSpPr>
          <p:spPr>
            <a:xfrm>
              <a:off x="4020480" y="3122640"/>
              <a:ext cx="3488400" cy="1520640"/>
            </a:xfrm>
            <a:prstGeom prst="pie">
              <a:avLst/>
            </a:prstGeom>
            <a:solidFill>
              <a:srgbClr val="ffcc66"/>
            </a:solidFill>
            <a:ln w="9360">
              <a:solidFill>
                <a:srgbClr val="ffcc66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ＭＳ Ｐゴシック"/>
                </a:rPr>
                <a:t>Packet Switch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ＭＳ Ｐゴシック"/>
                </a:rPr>
                <a:t>Mobile Netw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Cloud"/>
            <p:cNvSpPr/>
            <p:nvPr/>
          </p:nvSpPr>
          <p:spPr>
            <a:xfrm>
              <a:off x="1062720" y="3882960"/>
              <a:ext cx="3033360" cy="1444320"/>
            </a:xfrm>
            <a:prstGeom prst="pie">
              <a:avLst/>
            </a:prstGeom>
            <a:solidFill>
              <a:srgbClr val="99ccff"/>
            </a:solidFill>
            <a:ln w="9360">
              <a:solidFill>
                <a:srgbClr val="99ccff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ＭＳ Ｐゴシック"/>
                </a:rPr>
                <a:t>Circuit Switched Mobile N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Cloud"/>
            <p:cNvSpPr/>
            <p:nvPr/>
          </p:nvSpPr>
          <p:spPr>
            <a:xfrm>
              <a:off x="3944880" y="4718880"/>
              <a:ext cx="3715560" cy="1444320"/>
            </a:xfrm>
            <a:prstGeom prst="pie">
              <a:avLst/>
            </a:prstGeom>
            <a:solidFill>
              <a:srgbClr val="b2b2b2"/>
            </a:solidFill>
            <a:ln w="9360">
              <a:solidFill>
                <a:srgbClr val="b2b2b2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ＭＳ Ｐゴシック"/>
                </a:rPr>
                <a:t>Intern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641400" y="3426840"/>
              <a:ext cx="682200" cy="456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ＭＳ Ｐゴシック"/>
                </a:rPr>
                <a:t>MG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641400" y="4415040"/>
              <a:ext cx="682200" cy="456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ＭＳ Ｐゴシック"/>
                </a:rPr>
                <a:t>M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Cloud"/>
            <p:cNvSpPr/>
            <p:nvPr/>
          </p:nvSpPr>
          <p:spPr>
            <a:xfrm>
              <a:off x="1442160" y="2514600"/>
              <a:ext cx="3108960" cy="456120"/>
            </a:xfrm>
            <a:prstGeom prst="pie">
              <a:avLst/>
            </a:prstGeom>
            <a:solidFill>
              <a:srgbClr val="66ff66"/>
            </a:solidFill>
            <a:ln w="9360">
              <a:solidFill>
                <a:srgbClr val="66ff66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ＭＳ Ｐゴシック"/>
                </a:rPr>
                <a:t>SS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64" idx="2"/>
              <a:endCxn id="65" idx="0"/>
            </p:cNvCxnSpPr>
            <p:nvPr/>
          </p:nvCxnSpPr>
          <p:spPr>
            <a:xfrm>
              <a:off x="3982680" y="3882960"/>
              <a:ext cx="1080" cy="53280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</p:cxnSp>
        <p:sp>
          <p:nvSpPr>
            <p:cNvPr id="68" name=""/>
            <p:cNvSpPr/>
            <p:nvPr/>
          </p:nvSpPr>
          <p:spPr>
            <a:xfrm>
              <a:off x="3110400" y="3882960"/>
              <a:ext cx="9097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ＭＳ Ｐゴシック"/>
                </a:rPr>
                <a:t>H.2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p503i_s" descr="ムーバP503i"/>
            <p:cNvPicPr/>
            <p:nvPr/>
          </p:nvPicPr>
          <p:blipFill>
            <a:blip r:embed="rId1"/>
            <a:stretch/>
          </p:blipFill>
          <p:spPr>
            <a:xfrm>
              <a:off x="380160" y="3198600"/>
              <a:ext cx="254160" cy="78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gfort_s" descr="GFORT"/>
            <p:cNvPicPr/>
            <p:nvPr/>
          </p:nvPicPr>
          <p:blipFill>
            <a:blip r:embed="rId2"/>
            <a:stretch/>
          </p:blipFill>
          <p:spPr>
            <a:xfrm>
              <a:off x="835200" y="3377520"/>
              <a:ext cx="369720" cy="58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7578720" y="3502800"/>
              <a:ext cx="1288800" cy="608040"/>
            </a:xfrm>
            <a:prstGeom prst="ellipse">
              <a:avLst/>
            </a:prstGeom>
            <a:solidFill>
              <a:srgbClr val="ffcc66"/>
            </a:solidFill>
            <a:ln w="12600">
              <a:solidFill>
                <a:srgbClr val="ffcc66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2" name="p503i_s" descr="ムーバP503i"/>
            <p:cNvPicPr/>
            <p:nvPr/>
          </p:nvPicPr>
          <p:blipFill>
            <a:blip r:embed="rId3"/>
            <a:stretch/>
          </p:blipFill>
          <p:spPr>
            <a:xfrm>
              <a:off x="7806240" y="3046680"/>
              <a:ext cx="254160" cy="78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gfort_s" descr="GFORT"/>
            <p:cNvPicPr/>
            <p:nvPr/>
          </p:nvPicPr>
          <p:blipFill>
            <a:blip r:embed="rId4"/>
            <a:stretch/>
          </p:blipFill>
          <p:spPr>
            <a:xfrm>
              <a:off x="8261280" y="3225600"/>
              <a:ext cx="369720" cy="5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7585920" y="4110840"/>
              <a:ext cx="1331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MT (P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(SIP/H.323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845760" y="5748840"/>
              <a:ext cx="1288800" cy="608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b2b2b2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6" name="j0245379" descr=""/>
            <p:cNvPicPr/>
            <p:nvPr/>
          </p:nvPicPr>
          <p:blipFill>
            <a:blip r:embed="rId5"/>
            <a:stretch/>
          </p:blipFill>
          <p:spPr>
            <a:xfrm>
              <a:off x="7452360" y="5596560"/>
              <a:ext cx="891000" cy="64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5993640" y="6242400"/>
              <a:ext cx="117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H.323/SI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4020480" y="2894040"/>
              <a:ext cx="0" cy="4561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9" name=""/>
            <p:cNvCxnSpPr>
              <a:stCxn id="66" idx="4"/>
              <a:endCxn id="62" idx="4"/>
            </p:cNvCxnSpPr>
            <p:nvPr/>
          </p:nvCxnSpPr>
          <p:spPr>
            <a:xfrm flipH="1">
              <a:off x="2579400" y="2970720"/>
              <a:ext cx="417600" cy="99504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</p:cxnSp>
        <p:sp>
          <p:nvSpPr>
            <p:cNvPr id="80" name=""/>
            <p:cNvSpPr/>
            <p:nvPr/>
          </p:nvSpPr>
          <p:spPr>
            <a:xfrm>
              <a:off x="1214640" y="3882960"/>
              <a:ext cx="6521760" cy="456120"/>
            </a:xfrm>
            <a:custGeom>
              <a:avLst/>
              <a:gdLst/>
              <a:ahLst/>
              <a:rect l="l" t="t" r="r" b="b"/>
              <a:pathLst>
                <a:path w="4128" h="288">
                  <a:moveTo>
                    <a:pt x="0" y="144"/>
                  </a:moveTo>
                  <a:lnTo>
                    <a:pt x="240" y="288"/>
                  </a:lnTo>
                  <a:lnTo>
                    <a:pt x="3600" y="288"/>
                  </a:lnTo>
                  <a:lnTo>
                    <a:pt x="4128" y="0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214640" y="4110840"/>
              <a:ext cx="5990760" cy="1520280"/>
            </a:xfrm>
            <a:custGeom>
              <a:avLst/>
              <a:gdLst/>
              <a:ahLst/>
              <a:rect l="l" t="t" r="r" b="b"/>
              <a:pathLst>
                <a:path w="3792" h="960">
                  <a:moveTo>
                    <a:pt x="0" y="0"/>
                  </a:moveTo>
                  <a:lnTo>
                    <a:pt x="288" y="480"/>
                  </a:lnTo>
                  <a:lnTo>
                    <a:pt x="3264" y="480"/>
                  </a:lnTo>
                  <a:lnTo>
                    <a:pt x="3792" y="960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" name="j0245379" descr=""/>
            <p:cNvPicPr/>
            <p:nvPr/>
          </p:nvPicPr>
          <p:blipFill>
            <a:blip r:embed="rId6"/>
            <a:stretch/>
          </p:blipFill>
          <p:spPr>
            <a:xfrm>
              <a:off x="6694200" y="5403240"/>
              <a:ext cx="891000" cy="649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ultimedia Access Platfor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83818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d co-operation and collaboration on H.24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ment of version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-ordination of new pack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 with IETF, ETSI TIPHON, ITU-T SG9, SG11, SSG-IMT2000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ultimedia Access Platfor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mote interwork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teroperability test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tocol interworking defin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.248 – H.3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.248/H.323 – S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.323 – H.3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ultimedia Quality of Serv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view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oice QoS asp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urrent work in some standards bo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raffic and congestion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etwork performance tre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QoS signa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5T16:03:27Z</dcterms:created>
  <dc:creator>John Magill</dc:creator>
  <dc:description/>
  <dc:language>en-US</dc:language>
  <cp:lastModifiedBy>John Magill</cp:lastModifiedBy>
  <dcterms:modified xsi:type="dcterms:W3CDTF">2001-06-05T11:13:34Z</dcterms:modified>
  <cp:revision>55</cp:revision>
  <dc:subject/>
  <dc:title>ITU-T Study Group 16 Mediacom 2004</dc:title>
</cp:coreProperties>
</file>