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280-30D6-4B1E-A3B5-46F1B96A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0C0-F0D0-4CA7-8F45-34D23D1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F81-F4B4-4D36-B472-2A080CFC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166-6070-439A-99C0-A668CA2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9E9-D949-4BAE-9FC0-B43EC15E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DEF-B285-4033-A1F7-50518AEE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462-32C9-4547-A5E5-AF527ABD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CC8-0B06-405C-AD60-99C06774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E0F-76D4-4CC7-9496-580DB10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292-D2A4-4E3E-B2BA-5CA85B0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E02-2321-42C5-8D68-38EF69A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5F2-4D7A-4D18-9F7D-FA42C63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1D0D-61C8-4C17-9013-7B021DFD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01040" y="6192720"/>
            <a:ext cx="162396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18320" y="6165720"/>
            <a:ext cx="162396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19320" y="243828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ELEFÔNICA CELULAR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BILITY AND MULTIMEDIA OVERVIEW.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2360" y="1536840"/>
            <a:ext cx="8677440" cy="3429000"/>
            <a:chOff x="252360" y="1536840"/>
            <a:chExt cx="8677440" cy="3429000"/>
          </a:xfrm>
        </p:grpSpPr>
        <p:sp>
          <p:nvSpPr>
            <p:cNvPr id="133" name=""/>
            <p:cNvSpPr/>
            <p:nvPr/>
          </p:nvSpPr>
          <p:spPr>
            <a:xfrm>
              <a:off x="63324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57480" y="17654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5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90840" y="1536840"/>
              <a:ext cx="254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ervices 3G/ IMT 2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7280" y="22989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D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4640" y="2648160"/>
              <a:ext cx="1194120" cy="55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dma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 - 95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04840" y="2603520"/>
              <a:ext cx="1035360" cy="50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-95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4 Kb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0960" y="40197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W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680" y="3670560"/>
              <a:ext cx="13525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 - 1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81160" y="3670560"/>
              <a:ext cx="7952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36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81360" y="3594240"/>
              <a:ext cx="11937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36-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ED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5040" y="2527560"/>
              <a:ext cx="1513080" cy="62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dma 2.000 1xRT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,25 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6480" y="2527560"/>
              <a:ext cx="1512720" cy="75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dma 2.000 3xRTT </a:t>
              </a:r>
              <a:r>
                <a:rPr b="1" lang="en-US" sz="2800" spc="-1" strike="noStrike">
                  <a:solidFill>
                    <a:srgbClr val="cccc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 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81760" y="3305160"/>
              <a:ext cx="119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SI -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2360" y="2222640"/>
              <a:ext cx="8677440" cy="2743200"/>
            </a:xfrm>
            <a:custGeom>
              <a:avLst/>
              <a:gdLst>
                <a:gd name="textAreaLeft" fmla="*/ 0 w 8677440"/>
                <a:gd name="textAreaRight" fmla="*/ 8677800 w 867744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0" y="0"/>
                  </a:lnTo>
                  <a:lnTo>
                    <a:pt x="21600" y="10800"/>
                  </a:lnTo>
                  <a:lnTo>
                    <a:pt x="1925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23960" y="3746520"/>
              <a:ext cx="398520" cy="152640"/>
            </a:xfrm>
            <a:prstGeom prst="rightArrow">
              <a:avLst>
                <a:gd name="adj1" fmla="val 50000"/>
                <a:gd name="adj2" fmla="val 6527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71880" y="3746520"/>
              <a:ext cx="398520" cy="152640"/>
            </a:xfrm>
            <a:prstGeom prst="rightArrow">
              <a:avLst>
                <a:gd name="adj1" fmla="val 50000"/>
                <a:gd name="adj2" fmla="val 6527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2756160"/>
              <a:ext cx="398520" cy="152280"/>
            </a:xfrm>
            <a:prstGeom prst="rightArrow">
              <a:avLst>
                <a:gd name="adj1" fmla="val 50000"/>
                <a:gd name="adj2" fmla="val 654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71880" y="2756160"/>
              <a:ext cx="398520" cy="152280"/>
            </a:xfrm>
            <a:prstGeom prst="rightArrow">
              <a:avLst>
                <a:gd name="adj1" fmla="val 50000"/>
                <a:gd name="adj2" fmla="val 654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9280" y="2756160"/>
              <a:ext cx="398520" cy="152280"/>
            </a:xfrm>
            <a:prstGeom prst="rightArrow">
              <a:avLst>
                <a:gd name="adj1" fmla="val 50000"/>
                <a:gd name="adj2" fmla="val 654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2560" y="3441960"/>
              <a:ext cx="1273320" cy="914400"/>
            </a:xfrm>
            <a:prstGeom prst="noSmoking">
              <a:avLst>
                <a:gd name="adj" fmla="val 12500"/>
              </a:avLst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52560" y="2298960"/>
              <a:ext cx="1273320" cy="1143000"/>
            </a:xfrm>
            <a:prstGeom prst="noSmoking">
              <a:avLst>
                <a:gd name="adj" fmla="val 12500"/>
              </a:avLst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05040" y="3441960"/>
              <a:ext cx="1273320" cy="914400"/>
            </a:xfrm>
            <a:prstGeom prst="noSmoking">
              <a:avLst>
                <a:gd name="adj" fmla="val 12500"/>
              </a:avLst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33440" y="4508640"/>
              <a:ext cx="13528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557200">
              <a:off x="1415880" y="4340160"/>
              <a:ext cx="785880" cy="152640"/>
            </a:xfrm>
            <a:prstGeom prst="rightArrow">
              <a:avLst>
                <a:gd name="adj1" fmla="val 50000"/>
                <a:gd name="adj2" fmla="val 1287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747400">
              <a:off x="1608120" y="3325680"/>
              <a:ext cx="2631960" cy="158760"/>
            </a:xfrm>
            <a:prstGeom prst="rightArrow">
              <a:avLst>
                <a:gd name="adj1" fmla="val 50000"/>
                <a:gd name="adj2" fmla="val 414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06640" y="3613320"/>
              <a:ext cx="111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- DO </a:t>
              </a:r>
              <a:r>
                <a:rPr b="1" lang="en-US" sz="2800" spc="-1" strike="noStrike">
                  <a:solidFill>
                    <a:srgbClr val="cccc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276400">
              <a:off x="6189480" y="3367080"/>
              <a:ext cx="447480" cy="179640"/>
            </a:xfrm>
            <a:prstGeom prst="rightArrow">
              <a:avLst>
                <a:gd name="adj1" fmla="val 50000"/>
                <a:gd name="adj2" fmla="val 6227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3656160"/>
              <a:ext cx="12952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51680" y="4218120"/>
              <a:ext cx="105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 - DV </a:t>
              </a:r>
              <a:r>
                <a:rPr b="1" lang="en-US" sz="2800" spc="-1" strike="noStrike">
                  <a:solidFill>
                    <a:srgbClr val="cccc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19920" y="4318200"/>
              <a:ext cx="1166760" cy="4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28200">
              <a:off x="7924680" y="3708000"/>
              <a:ext cx="200160" cy="690840"/>
            </a:xfrm>
            <a:custGeom>
              <a:avLst/>
              <a:gdLst>
                <a:gd name="textAreaLeft" fmla="*/ 26640 w 200160"/>
                <a:gd name="textAreaRight" fmla="*/ 173520 w 200160"/>
                <a:gd name="textAreaTop" fmla="*/ 127800 h 690840"/>
                <a:gd name="textAreaBottom" fmla="*/ 465480 h 69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006" stAng="-5400000" swAng="5400000"/>
                  <a:lnTo>
                    <a:pt x="21600" y="10544"/>
                  </a:lnTo>
                  <a:arcTo wR="21600" hR="8006" stAng="0" swAng="2781026"/>
                  <a:lnTo>
                    <a:pt x="7200" y="21142"/>
                  </a:lnTo>
                  <a:lnTo>
                    <a:pt x="0" y="17280"/>
                  </a:lnTo>
                  <a:lnTo>
                    <a:pt x="7200" y="12502"/>
                  </a:lnTo>
                  <a:lnTo>
                    <a:pt x="7200" y="15553"/>
                  </a:lnTo>
                  <a:arcTo wR="21600" hR="8006" stAng="2781026" swAng="-2576713"/>
                  <a:lnTo>
                    <a:pt x="21327" y="9275"/>
                  </a:lnTo>
                  <a:arcTo wR="21600" hR="8006" stAng="-204313" swAng="-5195687"/>
                  <a:close/>
                </a:path>
                <a:path fill="darkenLess" w="21600" h="21600">
                  <a:moveTo>
                    <a:pt x="0" y="0"/>
                  </a:moveTo>
                  <a:arcTo wR="21600" hR="8006" stAng="-5400000" swAng="5400000"/>
                  <a:lnTo>
                    <a:pt x="21600" y="10544"/>
                  </a:lnTo>
                  <a:arcTo wR="21600" hR="8006" stAng="0" swAng="-204313"/>
                  <a:lnTo>
                    <a:pt x="21327" y="9275"/>
                  </a:lnTo>
                  <a:arcTo wR="21600" hR="8006" stAng="-204313" swAng="-5195687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119320" y="19368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CHNOLOGY 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69040" y="34596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9080" y="13366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36224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41720" y="1371600"/>
            <a:ext cx="58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Voice , data  and image integ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High demand but no supply yet , due to ac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echnology limit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9880" y="31021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5080" y="311292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9840" y="4952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78440" y="3102120"/>
            <a:ext cx="59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d value to any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bined with Multimedia surpass costu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ec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3000" y="46893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bilit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800" y="4765680"/>
            <a:ext cx="60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haps the major goal of the teleco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ce providers , natural way of the mo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lecomunications market.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200" y="270000"/>
            <a:ext cx="86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VOLVED  SEGMENTS IN THE SERVICE 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660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0360" y="29844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15145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4640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960" y="148896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bil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7480" y="1413000"/>
            <a:ext cx="49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cket mode capacity(cost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ta rate transmition increase(qualit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urity mechanism(reliabil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680" y="2936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ndsets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83360" y="3013200"/>
            <a:ext cx="552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lopment of more friendly user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ithout affecting in size , weig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ttery consum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680" y="46134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s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3800" y="4613400"/>
            <a:ext cx="55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lopment of custom made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urity mechanism (network comp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000" y="21744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9480" y="669960"/>
            <a:ext cx="337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ntertainement (ga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High definition im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mote medical ser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-lear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ocation based ser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ideo on dem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elemet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-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ideo stream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ideo confer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ideo ph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ile tranfe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nified mess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W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46400" y="838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50400">
            <a:off x="1573560" y="1291320"/>
            <a:ext cx="490320" cy="485640"/>
          </a:xfrm>
          <a:custGeom>
            <a:avLst/>
            <a:gdLst>
              <a:gd name="textAreaLeft" fmla="*/ 60840 w 490320"/>
              <a:gd name="textAreaRight" fmla="*/ 429480 w 490320"/>
              <a:gd name="textAreaTop" fmla="*/ 122040 h 485640"/>
              <a:gd name="textAreaBottom" fmla="*/ 3636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35"/>
                </a:moveTo>
                <a:lnTo>
                  <a:pt x="16200" y="543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165"/>
                </a:lnTo>
                <a:lnTo>
                  <a:pt x="0" y="16165"/>
                </a:lnTo>
                <a:lnTo>
                  <a:pt x="2683" y="10800"/>
                </a:lnTo>
                <a:lnTo>
                  <a:pt x="0" y="543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4960" y="171288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50400">
            <a:off x="1597320" y="2131200"/>
            <a:ext cx="490680" cy="485640"/>
          </a:xfrm>
          <a:custGeom>
            <a:avLst/>
            <a:gdLst>
              <a:gd name="textAreaLeft" fmla="*/ 60840 w 490680"/>
              <a:gd name="textAreaRight" fmla="*/ 429840 w 490680"/>
              <a:gd name="textAreaTop" fmla="*/ 122040 h 485640"/>
              <a:gd name="textAreaBottom" fmla="*/ 3636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35"/>
                </a:moveTo>
                <a:lnTo>
                  <a:pt x="16200" y="543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165"/>
                </a:lnTo>
                <a:lnTo>
                  <a:pt x="0" y="16165"/>
                </a:lnTo>
                <a:lnTo>
                  <a:pt x="2683" y="10800"/>
                </a:lnTo>
                <a:lnTo>
                  <a:pt x="0" y="543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320" y="2548080"/>
            <a:ext cx="31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50400">
            <a:off x="1597320" y="3358440"/>
            <a:ext cx="490680" cy="485640"/>
          </a:xfrm>
          <a:custGeom>
            <a:avLst/>
            <a:gdLst>
              <a:gd name="textAreaLeft" fmla="*/ 60840 w 490680"/>
              <a:gd name="textAreaRight" fmla="*/ 429840 w 490680"/>
              <a:gd name="textAreaTop" fmla="*/ 122040 h 485640"/>
              <a:gd name="textAreaBottom" fmla="*/ 3636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35"/>
                </a:moveTo>
                <a:lnTo>
                  <a:pt x="16200" y="543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165"/>
                </a:lnTo>
                <a:lnTo>
                  <a:pt x="0" y="16165"/>
                </a:lnTo>
                <a:lnTo>
                  <a:pt x="2683" y="10800"/>
                </a:lnTo>
                <a:lnTo>
                  <a:pt x="0" y="543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280" y="3830760"/>
            <a:ext cx="279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PROBLE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HE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ST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E ALREADY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4960" y="3868560"/>
            <a:ext cx="30592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375800">
            <a:off x="3660840" y="4339800"/>
            <a:ext cx="822240" cy="1285920"/>
          </a:xfrm>
          <a:custGeom>
            <a:avLst/>
            <a:gdLst>
              <a:gd name="textAreaLeft" fmla="*/ 110160 w 822240"/>
              <a:gd name="textAreaRight" fmla="*/ 712080 w 822240"/>
              <a:gd name="textAreaTop" fmla="*/ 245160 h 1285920"/>
              <a:gd name="textAreaBottom" fmla="*/ 831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35" stAng="-5400000" swAng="-5400000"/>
                <a:lnTo>
                  <a:pt x="0" y="9855"/>
                </a:lnTo>
                <a:arcTo wR="21600" hR="8235" stAng="10800000" swAng="-2829516"/>
                <a:lnTo>
                  <a:pt x="14400" y="21129"/>
                </a:lnTo>
                <a:lnTo>
                  <a:pt x="21600" y="17280"/>
                </a:lnTo>
                <a:lnTo>
                  <a:pt x="14400" y="12489"/>
                </a:lnTo>
                <a:lnTo>
                  <a:pt x="14400" y="15999"/>
                </a:lnTo>
                <a:arcTo wR="21600" hR="8235" stAng="7970484" swAng="2700034"/>
                <a:lnTo>
                  <a:pt x="105" y="9045"/>
                </a:lnTo>
                <a:arcTo wR="21600" hR="8235" stAng="-10670518" swAng="5270518"/>
                <a:close/>
              </a:path>
              <a:path fill="darkenLess" w="21600" h="21600">
                <a:moveTo>
                  <a:pt x="21600" y="0"/>
                </a:moveTo>
                <a:arcTo wR="21600" hR="8235" stAng="-5400000" swAng="-5400000"/>
                <a:lnTo>
                  <a:pt x="0" y="8235"/>
                </a:lnTo>
                <a:arcTo wR="21600" hR="8235" stAng="10800000" swAng="-129482"/>
                <a:lnTo>
                  <a:pt x="105" y="9045"/>
                </a:lnTo>
                <a:arcTo wR="21600" hR="8235" stAng="-10670518" swAng="527051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69000" y="600120"/>
            <a:ext cx="1214280" cy="733320"/>
          </a:xfrm>
          <a:custGeom>
            <a:avLst/>
            <a:gdLst>
              <a:gd name="textAreaLeft" fmla="*/ 238680 w 1214280"/>
              <a:gd name="textAreaRight" fmla="*/ 85428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92" hR="21600" stAng="10800000" swAng="5400000"/>
                <a:lnTo>
                  <a:pt x="10948" y="0"/>
                </a:lnTo>
                <a:arcTo wR="8492" hR="21600" stAng="-5400000" swAng="2882120"/>
                <a:lnTo>
                  <a:pt x="21114" y="14400"/>
                </a:lnTo>
                <a:lnTo>
                  <a:pt x="18212" y="21600"/>
                </a:lnTo>
                <a:lnTo>
                  <a:pt x="14338" y="14400"/>
                </a:lnTo>
                <a:lnTo>
                  <a:pt x="16498" y="14400"/>
                </a:lnTo>
                <a:arcTo wR="8492" hR="21600" stAng="-2517880" swAng="-2684819"/>
                <a:lnTo>
                  <a:pt x="9720" y="227"/>
                </a:lnTo>
                <a:arcTo wR="8492" hR="21600" stAng="-5597301" swAng="-5202699"/>
                <a:close/>
              </a:path>
              <a:path fill="darkenLess" w="21600" h="21600">
                <a:moveTo>
                  <a:pt x="0" y="21600"/>
                </a:moveTo>
                <a:arcTo wR="8492" hR="21600" stAng="10800000" swAng="5400000"/>
                <a:lnTo>
                  <a:pt x="8492" y="0"/>
                </a:lnTo>
                <a:arcTo wR="8492" hR="21600" stAng="-5400000" swAng="197301"/>
                <a:lnTo>
                  <a:pt x="9720" y="227"/>
                </a:lnTo>
                <a:arcTo wR="8492" hR="21600" stAng="-5597301" swAng="-520269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9640" y="13366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U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50400">
            <a:off x="6550560" y="1754640"/>
            <a:ext cx="490680" cy="486000"/>
          </a:xfrm>
          <a:custGeom>
            <a:avLst/>
            <a:gdLst>
              <a:gd name="textAreaLeft" fmla="*/ 60840 w 490680"/>
              <a:gd name="textAreaRight" fmla="*/ 429840 w 490680"/>
              <a:gd name="textAreaTop" fmla="*/ 122040 h 486000"/>
              <a:gd name="textAreaBottom" fmla="*/ 3639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35"/>
                </a:moveTo>
                <a:lnTo>
                  <a:pt x="16200" y="543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165"/>
                </a:lnTo>
                <a:lnTo>
                  <a:pt x="0" y="16165"/>
                </a:lnTo>
                <a:lnTo>
                  <a:pt x="2683" y="10800"/>
                </a:lnTo>
                <a:lnTo>
                  <a:pt x="0" y="543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13440" y="2397240"/>
            <a:ext cx="368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ST 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STUMER 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STUMER RE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ICE 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268880"/>
            <a:ext cx="3504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50400">
            <a:off x="6563880" y="4832280"/>
            <a:ext cx="761760" cy="485640"/>
          </a:xfrm>
          <a:custGeom>
            <a:avLst/>
            <a:gdLst>
              <a:gd name="textAreaLeft" fmla="*/ 83880 w 761760"/>
              <a:gd name="textAreaRight" fmla="*/ 677880 w 761760"/>
              <a:gd name="textAreaTop" fmla="*/ 137880 h 485640"/>
              <a:gd name="textAreaBottom" fmla="*/ 347760 h 485640"/>
            </a:gdLst>
            <a:ahLst/>
            <a:rect l="textAreaLeft" t="textAreaTop" r="textAreaRight" b="textAreaBottom"/>
            <a:pathLst>
              <a:path w="21600" h="21600">
                <a:moveTo>
                  <a:pt x="0" y="6133"/>
                </a:moveTo>
                <a:lnTo>
                  <a:pt x="16078" y="6133"/>
                </a:lnTo>
                <a:lnTo>
                  <a:pt x="16078" y="0"/>
                </a:lnTo>
                <a:lnTo>
                  <a:pt x="21600" y="10800"/>
                </a:lnTo>
                <a:lnTo>
                  <a:pt x="16078" y="21600"/>
                </a:lnTo>
                <a:lnTo>
                  <a:pt x="16078" y="15467"/>
                </a:lnTo>
                <a:lnTo>
                  <a:pt x="0" y="15467"/>
                </a:lnTo>
                <a:lnTo>
                  <a:pt x="2386" y="10800"/>
                </a:lnTo>
                <a:lnTo>
                  <a:pt x="0" y="61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410080" y="5516640"/>
            <a:ext cx="32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ULTIMEDIA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2120" y="19368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OBILE COMUNICATIONS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0840" y="914400"/>
            <a:ext cx="878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001 (2G): VOICE PREDOMINANCE  AND  LOW SPEED DATA (14,4Kb/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6280" y="1727280"/>
            <a:ext cx="2276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CIRCUIT MO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81800" y="1590840"/>
            <a:ext cx="264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A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INTERNET AC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00840" y="1981080"/>
            <a:ext cx="2809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- WAP (W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- PC throu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mobile handset(HT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92520" y="1557360"/>
            <a:ext cx="152280" cy="1251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7760" y="1928880"/>
            <a:ext cx="152280" cy="1251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384400">
            <a:off x="621720" y="3479760"/>
            <a:ext cx="2362320" cy="733320"/>
          </a:xfrm>
          <a:custGeom>
            <a:avLst/>
            <a:gdLst>
              <a:gd name="textAreaLeft" fmla="*/ 768960 w 2362320"/>
              <a:gd name="textAreaRight" fmla="*/ 1922040 w 2362320"/>
              <a:gd name="textAreaTop" fmla="*/ 500400 h 733320"/>
              <a:gd name="textAreaBottom" fmla="*/ 5968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8766"/>
                </a:moveTo>
                <a:lnTo>
                  <a:pt x="14739" y="18766"/>
                </a:lnTo>
                <a:lnTo>
                  <a:pt x="14739" y="7032"/>
                </a:lnTo>
                <a:lnTo>
                  <a:pt x="10712" y="7032"/>
                </a:lnTo>
                <a:lnTo>
                  <a:pt x="16156" y="0"/>
                </a:lnTo>
                <a:lnTo>
                  <a:pt x="21600" y="7032"/>
                </a:lnTo>
                <a:lnTo>
                  <a:pt x="17573" y="7032"/>
                </a:lnTo>
                <a:lnTo>
                  <a:pt x="17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5960" y="3906720"/>
            <a:ext cx="5034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CONSOLIDATION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DATA PREDOMINATION OVER VO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HANGING COSTUMERS PATTER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40080" y="3819600"/>
            <a:ext cx="152280" cy="1251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2120" y="19368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OBILE COMUNICATIONS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20" y="914400"/>
            <a:ext cx="8983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002 (2,5G): VOICE PREDOMINANCE  AND  LOW SPEED DATA (14,4Kb/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640" y="1727280"/>
            <a:ext cx="224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PACKET MO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81800" y="1590840"/>
            <a:ext cx="264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A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INTERNET AC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00480" y="1581120"/>
            <a:ext cx="2943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- WAP (W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- PC throu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mobile handset(HT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- First m-commer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applicat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92520" y="1557360"/>
            <a:ext cx="152280" cy="1251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1623960"/>
            <a:ext cx="136440" cy="1652760"/>
          </a:xfrm>
          <a:custGeom>
            <a:avLst/>
            <a:gdLst>
              <a:gd name="textAreaLeft" fmla="*/ 87120 w 136440"/>
              <a:gd name="textAreaRight" fmla="*/ 136800 w 136440"/>
              <a:gd name="textAreaTop" fmla="*/ 42840 h 1652760"/>
              <a:gd name="textAreaBottom" fmla="*/ 1609920 h 16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384400">
            <a:off x="621720" y="3479760"/>
            <a:ext cx="2362320" cy="733320"/>
          </a:xfrm>
          <a:custGeom>
            <a:avLst/>
            <a:gdLst>
              <a:gd name="textAreaLeft" fmla="*/ 768960 w 2362320"/>
              <a:gd name="textAreaRight" fmla="*/ 1922040 w 2362320"/>
              <a:gd name="textAreaTop" fmla="*/ 500400 h 733320"/>
              <a:gd name="textAreaBottom" fmla="*/ 5968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8766"/>
                </a:moveTo>
                <a:lnTo>
                  <a:pt x="14739" y="18766"/>
                </a:lnTo>
                <a:lnTo>
                  <a:pt x="14739" y="7032"/>
                </a:lnTo>
                <a:lnTo>
                  <a:pt x="10712" y="7032"/>
                </a:lnTo>
                <a:lnTo>
                  <a:pt x="16156" y="0"/>
                </a:lnTo>
                <a:lnTo>
                  <a:pt x="21600" y="7032"/>
                </a:lnTo>
                <a:lnTo>
                  <a:pt x="17573" y="7032"/>
                </a:lnTo>
                <a:lnTo>
                  <a:pt x="17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6080" y="3557520"/>
            <a:ext cx="669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HIGH USAGE , DUE TO THE EVOLUTION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CHNOLOGY CAPAC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CONTENT QUALITY IMPROVEMENT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DATA TRANSMISSION CONCEPT CONSOLID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IMPLEMENTATION OF THE FIRST M-COMME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FIGURATION (LEVERAGE OF DATA US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5080" y="3610080"/>
            <a:ext cx="77760" cy="2047680"/>
          </a:xfrm>
          <a:custGeom>
            <a:avLst/>
            <a:gdLst>
              <a:gd name="textAreaLeft" fmla="*/ 49680 w 77760"/>
              <a:gd name="textAreaRight" fmla="*/ 78120 w 77760"/>
              <a:gd name="textAreaTop" fmla="*/ 53280 h 2047680"/>
              <a:gd name="textAreaBottom" fmla="*/ 1994400 h 20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68"/>
                </a:lnTo>
                <a:cubicBezTo>
                  <a:pt x="10800" y="8968"/>
                  <a:pt x="5400" y="9868"/>
                  <a:pt x="0" y="9868"/>
                </a:cubicBezTo>
                <a:cubicBezTo>
                  <a:pt x="5400" y="9868"/>
                  <a:pt x="10800" y="10768"/>
                  <a:pt x="10800" y="116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7040" y="19368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OBILE COMUNICATIONS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00" y="990720"/>
            <a:ext cx="9158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2004/5 :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00"/>
                </a:solidFill>
                <a:latin typeface="Times New Roman"/>
              </a:rPr>
              <a:t>DATA PREDOMINANCE (70%  TO  80%) AND VOICE(20%  TO 30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1600" y="1981080"/>
            <a:ext cx="464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 AND VOICE -- PACKET MO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7524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8400" y="1728720"/>
            <a:ext cx="30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HEAP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ALLWAYS  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4160" y="2930400"/>
            <a:ext cx="7061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IGH INCIDENCE  OF  “M-COMMERCE”  TRANSA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4290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9360" y="4267080"/>
            <a:ext cx="5401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TECHNOLOGY EVOLUTION (3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HIGH  DATA TRANSMISSION (QUALITY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PACKET MODE (COS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AFETY TRANSACTIONS (LOYALTY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638680" y="2438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1080" y="2666880"/>
            <a:ext cx="1936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36560" y="2438280"/>
            <a:ext cx="7672320" cy="1981080"/>
            <a:chOff x="736560" y="2438280"/>
            <a:chExt cx="7672320" cy="1981080"/>
          </a:xfrm>
        </p:grpSpPr>
        <p:sp>
          <p:nvSpPr>
            <p:cNvPr id="115" name=""/>
            <p:cNvSpPr/>
            <p:nvPr/>
          </p:nvSpPr>
          <p:spPr>
            <a:xfrm>
              <a:off x="817560" y="2438280"/>
              <a:ext cx="147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M U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93520" y="2787480"/>
              <a:ext cx="1162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M 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93720" y="2743200"/>
              <a:ext cx="10065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P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6560" y="3394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M Euro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93520" y="3778200"/>
              <a:ext cx="1162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M 900, DCS 1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0040" y="3809880"/>
              <a:ext cx="774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P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0240" y="3657600"/>
              <a:ext cx="1162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DGE </a:t>
              </a:r>
              <a:r>
                <a:rPr b="1" lang="en-US" sz="2800" spc="-1" strike="noStrike">
                  <a:solidFill>
                    <a:srgbClr val="cccc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0440" y="2666880"/>
              <a:ext cx="1852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T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-CDMA/U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61160" y="3276360"/>
              <a:ext cx="15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/IN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1240" y="2438280"/>
              <a:ext cx="7667640" cy="198108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0" y="0"/>
                  </a:lnTo>
                  <a:lnTo>
                    <a:pt x="21600" y="10800"/>
                  </a:lnTo>
                  <a:lnTo>
                    <a:pt x="1925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12840" y="3886200"/>
              <a:ext cx="387360" cy="152280"/>
            </a:xfrm>
            <a:prstGeom prst="rightArrow">
              <a:avLst>
                <a:gd name="adj1" fmla="val 50000"/>
                <a:gd name="adj2" fmla="val 6359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12840" y="2895480"/>
              <a:ext cx="387360" cy="152280"/>
            </a:xfrm>
            <a:prstGeom prst="rightArrow">
              <a:avLst>
                <a:gd name="adj1" fmla="val 50000"/>
                <a:gd name="adj2" fmla="val 6359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0760" y="3962160"/>
              <a:ext cx="387000" cy="152640"/>
            </a:xfrm>
            <a:prstGeom prst="rightArrow">
              <a:avLst>
                <a:gd name="adj1" fmla="val 50000"/>
                <a:gd name="adj2" fmla="val 6338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6720" y="2819160"/>
              <a:ext cx="2090880" cy="152640"/>
            </a:xfrm>
            <a:prstGeom prst="rightArrow">
              <a:avLst>
                <a:gd name="adj1" fmla="val 50000"/>
                <a:gd name="adj2" fmla="val 34245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735800">
              <a:off x="5335560" y="3390840"/>
              <a:ext cx="853920" cy="163440"/>
            </a:xfrm>
            <a:prstGeom prst="rightArrow">
              <a:avLst>
                <a:gd name="adj1" fmla="val 50000"/>
                <a:gd name="adj2" fmla="val 1306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977200">
              <a:off x="3455280" y="3376440"/>
              <a:ext cx="762120" cy="158760"/>
            </a:xfrm>
            <a:prstGeom prst="rightArrow">
              <a:avLst>
                <a:gd name="adj1" fmla="val 50000"/>
                <a:gd name="adj2" fmla="val 12001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119320" y="19368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CHNOLOGY 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08:42Z</dcterms:created>
  <dc:creator>Telefonica Celular</dc:creator>
  <dc:description/>
  <dc:language>en-US</dc:language>
  <cp:lastModifiedBy>Infoview</cp:lastModifiedBy>
  <cp:lastPrinted>2001-05-21T20:24:44Z</cp:lastPrinted>
  <dcterms:modified xsi:type="dcterms:W3CDTF">2001-06-04T21:50:46Z</dcterms:modified>
  <cp:revision>39</cp:revision>
  <dc:subject/>
  <dc:title>Slide sem título </dc:title>
</cp:coreProperties>
</file>