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474-1F81-4738-81BC-8A2E9260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169-E7D7-402B-9DE3-AB43C5BB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C51-72C3-42A8-AB5E-F08C51E9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0FC-3FC4-4A61-9238-C41E5D1E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61F-421E-483A-9191-F0D79B6E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EA5-B44B-43F5-B1CE-95F5BB1C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7BA-4247-4740-B733-E35C5D41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8B4-C21A-4F2D-8FCB-AA330914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21F-AED3-483D-A353-2A23FCCE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621-03EE-4B50-AAC1-FB9F358A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12A-4AC4-4FF2-BAF5-71E1825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F20-7F6F-4818-9835-43868258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615F-A520-487D-BB66-BF3E50391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5320" y="1066680"/>
            <a:ext cx="8325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Times New Roman"/>
              </a:rPr>
              <a:t>Results of the session on Multimedia 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Times New Roman"/>
              </a:rPr>
              <a:t>of the Geneva’s “Workshop on IP-Networking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cc"/>
                </a:solidFill>
                <a:latin typeface="Times New Roman"/>
              </a:rPr>
              <a:t>MEDIACOM2004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4 June, 200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. Matsumo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Vice-Chairman, ITU-T SG 16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2720" y="76212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ＭＳ Ｐ明朝"/>
              </a:rPr>
              <a:t>Objectives of MM5 “Mobility”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5320" y="1828800"/>
            <a:ext cx="7568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■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 examine the current situation in the mob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arket and standardizati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■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 consider current and future service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he technologies needed to support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■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 look at the intersection of the SSG’s rol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obility and other SGs roles’ on IP and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■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o look at the relationships and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between the SSG and other relev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tandardization bodies, inside and outside I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6000" y="457200"/>
            <a:ext cx="846216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Session chairman:Mr. J. Visser, Nortel Networks, Chair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TU-T Special Study Group on "IMT-2000 and Beyon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1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Evolution of IMT-2000 and Systems Beyo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D. Mcfarlane, Nokia 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2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Global Multimedia Mobility, past, present, futur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H. Nakamura, Vice-Chairman for ITU-T SS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　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President of NTT DoCoMo Europe S.A.,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3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Global Multimedia Mobility - A Standardization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K. Lathia, Vice-Chairman ITU-T SSG, SIEMENS,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4.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“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Collaborative Efforts in Defining Multimedia Vision for Systems Beyond IMT-200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明朝"/>
              </a:rPr>
              <a:t>”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Mr. J. Hoffmeyer, ITU-R, WP 8F, Vision WG Chairman, Cingular Wireless,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5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A View of Mobility for Multimedi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Arthur E. Feather, Cisco Mobile Wireless Group, U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8320" y="380880"/>
            <a:ext cx="8703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Key points from each pre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1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Evolution of IMT-2000 and Systems Beyo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Mr. D. Mcfarlane, Nokia U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it is essential to recognize how long it takes to evol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radio infrastructure, and especially how long it takes to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pectrum alloc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corollary to the above, it is essential to consider the spec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needs of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here is much faster turnover in content an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4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Global Multimedia Mobility, past, present, futu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Mr. H. Nakamura, NTT DoCoMo Europe S.A., 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five key areas for new serv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huge multimedia traffic, advanced mobility manage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diversified access, seamless interoperability, suppor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application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8600" y="609480"/>
            <a:ext cx="86529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3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“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Global Multimedia Mobility - A Standardization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K. Lathia, Vice-Chairman ITU-T SSG, SIEMENS, Germany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here are five domains that will evolve separatel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at different speeds: terminal, access, core networ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ransport and applications/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open APIs between the above domains need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he application/services domain does not n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tandardization itself, but a set of capabilities, a 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kit needs to be standard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keep it sim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everything on IP (IP facilitates usage of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across network boundaries) and IP on everyt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(a common IP layer harmonises networks and prov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internetworking over different network technolog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5480" y="609480"/>
            <a:ext cx="894204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4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“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Collaborative Efforts in Defining Multimedia Vision for Systems Beyond IMT-20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”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Mr. J. Hoffmeyer, ITU-R, WP 8F, Vision WG Chairman, Cingular Wireless,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ervices are the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pectrum requirements need to be identified 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single common ITU vision (not just a radio sector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a telecommunications sector v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collaboration with other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5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Arial"/>
                <a:ea typeface="ＭＳ 明朝"/>
              </a:rPr>
              <a:t>A View of Mobility for Multimedi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"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明朝"/>
              </a:rPr>
              <a:t>Mr. Arthur E. Feather, Cisco Mobile Wireless Group, U.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differences in access mechanisms shouldn’t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th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Mobile IPv6 has the potential to address many issu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but much work is still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明朝"/>
              </a:rPr>
              <a:t>Multimedia mobility at the IP laye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10:34:30Z</dcterms:created>
  <dc:creator>Mitsuji Matsumoto　</dc:creator>
  <dc:description/>
  <dc:language>en-US</dc:language>
  <cp:lastModifiedBy>Mitsuji Matsumoto　</cp:lastModifiedBy>
  <dcterms:modified xsi:type="dcterms:W3CDTF">2001-06-01T20:30:59Z</dcterms:modified>
  <cp:revision>7</cp:revision>
  <dc:subject/>
  <dc:title>ｽﾗｲﾄﾞ ﾀｲﾄﾙなし</dc:title>
</cp:coreProperties>
</file>