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406-5E73-4839-B504-C0E5AAF3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64F-64B5-4877-A313-56A999A6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C97-958C-4291-B72D-163E5002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150-79CE-4730-A82B-E6FB94B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4EBF-30AF-47E4-9887-030834BD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D1DC-A075-4BC9-9DDC-A4F33F8C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763B-085F-4FD1-A549-0A14BD47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BDA8-CD88-4426-9415-73489B7A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D559-4A2C-4F55-A0CD-9FC9D04D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A19-DC0B-46E8-AD0C-5A1C0713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3C30-5746-42FA-A3CE-4172E8CE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F4A-8FE1-4317-82F2-F22172D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5FC-E46D-407F-A69B-C4202DF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B4EF-95C8-41D2-B5EA-E54BDCF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29F-C392-426B-A1B1-BC1D5669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BCE5-A811-4C36-AADC-C6DD14DB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AA78-95BA-4541-B861-AE1C910F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4A2-326F-4321-8DA2-10702595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CA5E-896D-4A5F-B090-F8998200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83E-D1F2-49FD-8373-3A1F3A2F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D53-6E30-4757-9D75-1FBCAC37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329-9199-4256-AD03-5ED6B72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81E-2FE8-4A9A-BADE-9600780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2DE-F11F-413B-87E9-7010C90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2CE8-E8F2-481D-ADAE-7994815EC3B2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5D8C-2969-4707-96E1-2B24ACFA5571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5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 Black"/>
              </a:rPr>
              <a:t>ITU-T Study Group 16</a:t>
            </a:r>
            <a:br>
              <a:rPr sz="3200"/>
            </a:br>
            <a:r>
              <a:rPr b="1" lang="en-GB" sz="3200" spc="-1" strike="noStrike">
                <a:solidFill>
                  <a:srgbClr val="0033cc"/>
                </a:solidFill>
                <a:latin typeface="Arial Black"/>
              </a:rPr>
              <a:t>Multimedia services, syst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Arial Black"/>
              </a:rPr>
              <a:t>and termi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 Black"/>
              </a:rPr>
              <a:t>P.A.Probst Swisscom 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 Black"/>
              </a:rPr>
              <a:t>Chairman SG16/ITU-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5715000"/>
            <a:ext cx="1528920" cy="388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5410080"/>
            <a:ext cx="8305920" cy="0"/>
          </a:xfrm>
          <a:prstGeom prst="line">
            <a:avLst/>
          </a:prstGeom>
          <a:ln cap="sq" w="7632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576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2952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ORGANISATION OF THE WORK (I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WP 3/16 - Media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Chair: S. Campos-Neto (BRAZ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Ques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edia coding [E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Advanced video coding [6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Wideband coding [7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Speech encoding at around 4 kbit/s [8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VBR speech coding [9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Software tools [10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0574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ORGANISATION OF THE WORK (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WP 4/16 - Multimedia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Chair: J.Magill (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Ques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EDIACOM-2004 [A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M Architecture [B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M Applications and services [C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HIGHLIGHTS  OF ACHIEVEMENTS (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4382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Modems for PSTN applications: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Improvements to V.34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New 56 kbit/s modem (V.90/V.92)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Data compression procedures (V.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Multimedia services for people with disabilities: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“Total communication concept”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Text telephony standards and capabilities for all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   multimedia terminals (V.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HIGHLIGHTS OF ACHIEVEMENTS (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0574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Rec. H.323 “Packed Based Multimedia Communications Systems”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- H.323 considered as foundation for VOIP system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- Support of multimedia content over a variety of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   packet-based network, incl. 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Rec. H.324 “Terminal for low bit-rate Multimedia Communication”: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- MM services on circuit-switched network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- Applications in 3rd generation terminals for handheld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  wireless 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0574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HIGHLIGHTS OF ACHIEVEMENTS (I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268596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Interworking between circuit-switched and packet-based network: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Gateway Control Protocol H.248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Co-operation with 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upport of supplementary services in H.323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(H.450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HIGHLIGHTS  OF ACHIEVEMENTS (I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268596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New options in the area of coding to allow implementation of wireless and packet based applications: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H.263: “video coding for low bit rate communication”,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  (chosen by 3GPP for audio-visual services)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- Wideband speech codec for videoconferencing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 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PRIORITIES (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68596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 Black"/>
              </a:rPr>
              <a:t>the rapid growth in digital, wireless, and IP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the convergence of technologies e.g. broadcasting communications, information technology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that multimedia topics are addressed in many S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 Black"/>
                <a:ea typeface="Times New Roman"/>
              </a:rPr>
              <a:t>the growth in multimedia services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 Black"/>
              </a:rPr>
              <a:t>the need to study performance, interworking, inferfaces etc. for user satisf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PRIORITIES (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1337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“</a:t>
            </a: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MEDIACOM 2004”: general framework for the next generation of MM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Focus on mobility, ease of use, systems flexibility, </a:t>
            </a:r>
            <a:br>
              <a:rPr sz="2000"/>
            </a:b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end-to-end interoperability, specific quality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upport of harmonised and co-ordinated development of global multimedia communication standards across all ITU-T and ITU-R SGs in close co-operation with other S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6002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CONCLUSIO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Different types of convergence are under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Threat to introduce on the market standards which are not  compatible or interop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n increased number of SDOs and industry forums are defining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Need for better communications between the business communities inv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MEDIACOM-2004 will be used as instrument to coordinate the development of MM standard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24379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 Black"/>
              </a:rPr>
              <a:t>Terms of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 Black"/>
              </a:rPr>
              <a:t>Organization of th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 Black"/>
              </a:rPr>
              <a:t>Highlights of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Arial Black"/>
              </a:rPr>
              <a:t>New generation of Multimedia  Standards: « MEDIACOM 2004 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38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TERMS of REFERENCE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SG16: new SG created in 1996 (WTSC, Gene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Mandate (WTSA 2000): 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- Standards for Multimedia services and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  systems (including signal processing and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  terminal aspects)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- Lead Study Group for Multimedia studies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- Lead Study Group for E-Commerce/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 Black"/>
              </a:rPr>
              <a:t>  E-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28360" y="1752480"/>
            <a:ext cx="612144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TERMS of REFERENCE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ff3300"/>
                </a:solidFill>
                <a:latin typeface="Arial Black"/>
              </a:rPr>
              <a:t>Scope:</a:t>
            </a:r>
            <a:br>
              <a:rPr sz="20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- Services (F-Series of Recs)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- Protocols, terminals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  (H- and T-Series of Recs)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- Coding schemes for audio, speech and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  video signals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  (H-Series and G-Series of Recs)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- Co-ordination and harmonisation of MM standards</a:t>
            </a:r>
            <a:br>
              <a:rPr sz="1800"/>
            </a:br>
            <a:r>
              <a:rPr b="1" lang="en-GB" sz="1800" spc="-1" strike="noStrike">
                <a:solidFill>
                  <a:srgbClr val="000099"/>
                </a:solidFill>
                <a:latin typeface="Arial Black"/>
              </a:rPr>
              <a:t> ( compatibility, interoperability, etc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2952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TERMS of REFERENCE 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5867280" cy="914400"/>
          </a:xfrm>
          <a:prstGeom prst="rect">
            <a:avLst/>
          </a:prstGeom>
          <a:solidFill>
            <a:srgbClr val="ff99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3316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886200"/>
            <a:ext cx="53316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886200"/>
            <a:ext cx="53316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886200"/>
            <a:ext cx="53352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86200"/>
            <a:ext cx="533160" cy="144792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828800"/>
            <a:ext cx="6019920" cy="1143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EDIACOM 2004 (Q A/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2767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42900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58128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7339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64320" y="3352680"/>
            <a:ext cx="355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Generic Questions B/16 to H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Framework Standardisatzion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60920" y="4343400"/>
            <a:ext cx="339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Equipment and system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1/16 to 14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TERMS of REFERENCE (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6600"/>
                </a:solidFill>
                <a:latin typeface="Arial Black"/>
              </a:rPr>
              <a:t>Framework Standardisation Area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MM Architecture [B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MM Applications and Services [C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Interoperability of MM systems and services [D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Media coding [E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Quality of Service and End-to-End in MM systems [F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Security of MM systems and services [G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699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Accessibility to MM systems and services [H/1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2952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ORGANISATION OF THE WORK (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WP 1/16 - MODEMS AND FAX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Chair: M.Matsumoto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Ques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Accessibility [H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Voiceband modems [11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DCE-DCE protocols [12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DTE-DCE interfaces and protocols [13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FAX terminals [14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ORGANISATION OF THE WORK (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WP 2/16 - MM platform and 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3300"/>
                </a:solidFill>
                <a:latin typeface="Arial Black"/>
              </a:rPr>
              <a:t>Chair: F.Tosco (Ita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Questions (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Interoperability [D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QoS E-2-E [F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Security [G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M systems, terminals and Data conferencing [1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M over packet based networks [2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ITU_Logo" descr=""/>
          <p:cNvPicPr/>
          <p:nvPr/>
        </p:nvPicPr>
        <p:blipFill>
          <a:blip r:embed="rId1"/>
          <a:stretch/>
        </p:blipFill>
        <p:spPr>
          <a:xfrm>
            <a:off x="7924680" y="55627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04920"/>
            <a:ext cx="85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Black"/>
              </a:rPr>
              <a:t>SG16 - Multimedia services, system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638680"/>
            <a:ext cx="7162560" cy="0"/>
          </a:xfrm>
          <a:prstGeom prst="line">
            <a:avLst/>
          </a:prstGeom>
          <a:ln cap="sq"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9720" y="5843520"/>
            <a:ext cx="525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Seminar Multimedia in the 21st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Porto Seguro 4-5 Jun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19320"/>
            <a:ext cx="8534520" cy="0"/>
          </a:xfrm>
          <a:prstGeom prst="line">
            <a:avLst/>
          </a:prstGeom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ff"/>
                </a:solidFill>
                <a:latin typeface="Arial Black"/>
              </a:rPr>
              <a:t>ORGANISATION OF THE WORK (I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WP 2/16 - Questions (I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Infrastructure and interoperability over packet based network [3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Video and data conferencing  using Internet supported services [4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cc"/>
                </a:solidFill>
                <a:latin typeface="Arial Black"/>
              </a:rPr>
              <a:t>Mobility for MM [5/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2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ts val="26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9:46:38Z</dcterms:created>
  <dc:creator>Pierre-André Probst</dc:creator>
  <dc:description/>
  <dc:language>en-US</dc:language>
  <cp:lastModifiedBy>Arvin Carlos D. Ugale</cp:lastModifiedBy>
  <cp:lastPrinted>2001-04-22T16:22:44Z</cp:lastPrinted>
  <dcterms:modified xsi:type="dcterms:W3CDTF">2001-06-06T13:29:59Z</dcterms:modified>
  <cp:revision>28</cp:revision>
  <dc:subject/>
  <dc:title>IP-Networking and MEDIACOM 2004</dc:title>
</cp:coreProperties>
</file>