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616A-2287-4C5A-9878-723C219E7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A9DF-420D-490E-8EE2-C467B23F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488A-7B45-486B-832E-338A7E6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6C77-5A37-4CEC-AFAC-6239DBED4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3EF45-D89D-4A5D-B90D-652B9B7E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29D3D-3C61-4101-9965-154C1B9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68AE7-5462-4503-878F-76DA426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EDFBF-E856-4DCF-98CA-0C9D70B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F885D-877C-4A8E-8346-9EF794C9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1D4BA-6B2A-4367-A5EF-AAB859C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CC0E1-FDAC-4746-B288-E9ACC0B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10EA-6324-4774-A0FE-119A5755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C70B1-C525-4C43-A6B2-06ED47A6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2404-5322-444B-8559-8D1422A7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E74DB-978D-4788-8AEA-00236287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7041-1894-47CE-9A1E-765AD59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DA2FA-7291-486A-A959-BE26FAB3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257F-95E2-45EC-8B1F-B04F928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CA27-C110-461A-BBF0-E24FFE6B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0F89-D1DC-4AE2-AA15-A4CFF05A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A657-AA95-436F-9133-96C2E71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640A-D52A-4E3B-803F-7556705C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C6CB-03D2-4A60-B310-5BCFCA9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4769-4700-441B-A202-21AF88F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574-A014-485B-9779-46D396DFF82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4-26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143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1ff"/>
                </a:solidFill>
                <a:latin typeface="Trebuchet MS"/>
              </a:rPr>
              <a:t>ITU-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E69A84A5-118F-4F24-B42A-1A4248FADDD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161-EC71-478A-9A32-A73D4286437D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6440" y="6248520"/>
            <a:ext cx="62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Seminar – Kasane, 24-26 Jul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233316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ITU-T Recommendations explained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0280" y="4818240"/>
            <a:ext cx="7696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Greg Jone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U Telecommunication Standardization Sector (ITU-T)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g.jones@itu.int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264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dvanced Video Coding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re development work initiated in ITU-T Q.6/16 “Video Coding Experts Group” (VCEG), now being jointly developed with MPEG under the “Joint Video Team” (JVT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bjective is to have the same performance of H.263 but operating at half H.263’s bit rat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clusion expected for late 2002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C72A-C06C-4D29-BF15-FC1A9414EF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499CE9-4110-4A7C-BF7B-24F3FD8B0C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Goals of JVT/H.264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imple syntax specification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rgeting simple and clean solut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voiding any excessive quantity of optional features or profile configurat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mproved Coding Efficiency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verage bit rate reduction of 50% given fixed fidelity compared to any other standar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mproved Network Friendlines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sues examined in H.263 and MPEG4/Video are further improv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jor targets are mobile networks and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A45E-46C2-4735-B21E-5D17631E8D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FDF4B3-DBE6-4F7F-8760-0446E5033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pplications of JVT/H.264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onversational H.32X Service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.320 Conversation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GPP Conversational (circuit and packet mod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.323 Conversational IP best effort (ex. Netmeeting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treaming Service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GPP Streaming IP/RTP/RT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eaming IP/RTP/RT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Other Services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tertainment Satellite/Cable/VDSL/DV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0.5 – 8 Mbit/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gital Cinema Appl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GPP Multimedia Messaging Serv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651A-636A-453D-A577-305C0093B5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DC1BE1-308E-4B28-8C1E-08DE87603B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JVT/H.264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Layer structu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9" name=""/>
          <p:cNvSpPr/>
          <p:nvPr/>
        </p:nvSpPr>
        <p:spPr>
          <a:xfrm>
            <a:off x="4070520" y="1871640"/>
            <a:ext cx="290268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deo Coding L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297680" y="3311640"/>
            <a:ext cx="244836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artiti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693240" y="4987800"/>
            <a:ext cx="37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twork Adaptation L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207880" y="5576760"/>
            <a:ext cx="1000800" cy="4899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.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315240" y="5576760"/>
            <a:ext cx="1000800" cy="4899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.32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420800" y="5576760"/>
            <a:ext cx="1386360" cy="489960"/>
          </a:xfrm>
          <a:prstGeom prst="rect">
            <a:avLst/>
          </a:prstGeom>
          <a:solidFill>
            <a:srgbClr val="f8f8f8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.323/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894280" y="5576760"/>
            <a:ext cx="1576440" cy="489960"/>
          </a:xfrm>
          <a:prstGeom prst="rect">
            <a:avLst/>
          </a:prstGeom>
          <a:solidFill>
            <a:srgbClr val="f8f8f8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.324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540560" y="5583240"/>
            <a:ext cx="1317600" cy="4899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106720" y="4863960"/>
            <a:ext cx="6834240" cy="13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rot="10800000">
            <a:off x="2092320" y="1804680"/>
            <a:ext cx="5763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9" name=""/>
          <p:cNvCxnSpPr>
            <a:stCxn id="2389" idx="2"/>
            <a:endCxn id="2390" idx="0"/>
          </p:cNvCxnSpPr>
          <p:nvPr/>
        </p:nvCxnSpPr>
        <p:spPr>
          <a:xfrm>
            <a:off x="5522400" y="2400120"/>
            <a:ext cx="1080" cy="89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0" name=""/>
          <p:cNvCxnSpPr>
            <a:stCxn id="2390" idx="2"/>
            <a:endCxn id="2397" idx="0"/>
          </p:cNvCxnSpPr>
          <p:nvPr/>
        </p:nvCxnSpPr>
        <p:spPr>
          <a:xfrm>
            <a:off x="5522400" y="3836880"/>
            <a:ext cx="2520" cy="101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1" name=""/>
          <p:cNvSpPr/>
          <p:nvPr/>
        </p:nvSpPr>
        <p:spPr>
          <a:xfrm>
            <a:off x="5758920" y="2552760"/>
            <a:ext cx="177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cro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863320" y="4029120"/>
            <a:ext cx="207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lice/Part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476440" y="4145040"/>
            <a:ext cx="1800" cy="718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730600" y="35719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730600" y="2139840"/>
            <a:ext cx="1298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CD55-7494-4A9D-AB14-2E753126769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D36797-D827-4B73-8D37-8ACB03CB7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Wideband Speech Coding</a:t>
            </a:r>
            <a:br>
              <a:rPr sz="3200"/>
            </a:b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(F.700’s A1 Audio Quality Level)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.72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ing of 7 kHz speech at 64, 56, and 48 kbit/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band ADPC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.722.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ing of 7 kHz speech at 32 and 24 kbit/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 coding approa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.722.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ing of 7 kHz speech at 16 kbit/s or low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LP-based; same as 3GPP AMR-W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ed for speech, works well also with 7kHz mus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8" name=""/>
          <p:cNvSpPr/>
          <p:nvPr/>
        </p:nvSpPr>
        <p:spPr>
          <a:xfrm>
            <a:off x="3759120" y="4419720"/>
            <a:ext cx="1816200" cy="39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Just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918A-779B-409D-9C5D-8B3FA3C2F3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49528CC-3F69-4801-BA58-63BD4B4D6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Telephony Speech Coding</a:t>
            </a:r>
            <a:br>
              <a:rPr sz="3200"/>
            </a:b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(F.700’s A0 Audio Quality Level)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929960" y="19810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711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PCM coding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(64 kbit/s)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late 60’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726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ADPCM coding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(32; 40, 24 &amp; 16 kbit/s)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1988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728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LD-CELP coding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(16; 40, 11.8 &amp;9.6 kbit/s)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1992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723.1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Dual-rate coding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(5.3 &amp; 6.3 kbit/s)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1995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729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CS-ACELP coding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(8; 12.8 &amp; 6.4 kbit/s)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1996-2000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4kbit/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rebuchet MS"/>
              </a:rPr>
              <a:t>G.VBR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(Variable bit rate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1" name=""/>
          <p:cNvSpPr/>
          <p:nvPr/>
        </p:nvSpPr>
        <p:spPr>
          <a:xfrm>
            <a:off x="3657600" y="5245200"/>
            <a:ext cx="7621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26080" y="5600880"/>
            <a:ext cx="5335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173D-5A6A-4BBC-BEFC-23D0BDBFBC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1049469-A481-436A-94CA-8D71403958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323 contex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4" name=""/>
          <p:cNvSpPr/>
          <p:nvPr/>
        </p:nvSpPr>
        <p:spPr>
          <a:xfrm>
            <a:off x="1870200" y="2011320"/>
            <a:ext cx="165240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AV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870200" y="2530440"/>
            <a:ext cx="826920" cy="1123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G.7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G.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G.72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G.7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697120" y="2530440"/>
            <a:ext cx="825480" cy="1123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H.2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H.2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870200" y="3654360"/>
            <a:ext cx="1652400" cy="34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22600" y="2530440"/>
            <a:ext cx="642960" cy="2421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R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165560" y="2530440"/>
            <a:ext cx="1101600" cy="2421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H.22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Gatekee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1500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499"/>
              </a:spcBef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(R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49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522600" y="2011320"/>
            <a:ext cx="431640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Terminal Control and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267160" y="2530440"/>
            <a:ext cx="1285920" cy="2421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553080" y="2530440"/>
            <a:ext cx="1285920" cy="2421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839000" y="2011320"/>
            <a:ext cx="1193760" cy="51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645240" y="4000680"/>
            <a:ext cx="973080" cy="51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UniversS 47 CondensedLight"/>
              </a:rPr>
              <a:t>Secu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13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UniversS 47 CondensedLight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359320" y="4000680"/>
            <a:ext cx="957240" cy="518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UniversS 47 CondensedLight"/>
              </a:rPr>
              <a:t>Secu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99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UniversS 47 CondensedLight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839000" y="2530440"/>
            <a:ext cx="1193760" cy="242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T.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T.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870200" y="4951440"/>
            <a:ext cx="339696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Unreliable Transport / UDP, I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267160" y="4951440"/>
            <a:ext cx="257184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Reliable Transport / TCP, 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870200" y="5210280"/>
            <a:ext cx="5968800" cy="260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3680"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Network Layer / IP / </a:t>
            </a:r>
            <a:r>
              <a:rPr b="0" lang="en-US" sz="1200" spc="-1" strike="noStrike">
                <a:solidFill>
                  <a:srgbClr val="ff0000"/>
                </a:solidFill>
                <a:latin typeface="UniversS 47 CondensedLight"/>
              </a:rPr>
              <a:t>IP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870200" y="5470560"/>
            <a:ext cx="5968800" cy="25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6840" indent="96840"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Link Layer /......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870200" y="5729400"/>
            <a:ext cx="7162560" cy="258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Physical Layer / .....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839000" y="4951440"/>
            <a:ext cx="1193760" cy="777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T.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870200" y="6248520"/>
            <a:ext cx="1744560" cy="258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Scope of H.3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706920" y="6248520"/>
            <a:ext cx="1652400" cy="25848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Scope of H.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553080" y="4259160"/>
            <a:ext cx="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921360" y="4605480"/>
            <a:ext cx="917640" cy="345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TLS/S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870200" y="1579680"/>
            <a:ext cx="7162560" cy="431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S 47 CondensedLight"/>
              </a:rPr>
              <a:t>Multimedia Applications, User Inte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635800" y="4605480"/>
            <a:ext cx="917280" cy="345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TLS/S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697120" y="4000680"/>
            <a:ext cx="825480" cy="950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Authen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870200" y="4000680"/>
            <a:ext cx="826920" cy="95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R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364520" y="6229440"/>
            <a:ext cx="1652400" cy="258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78000"/>
                <a:tab algn="l" pos="66348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Scope of T.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451480" y="2693520"/>
            <a:ext cx="87300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H.22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C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(Q.9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794640" y="2761920"/>
            <a:ext cx="930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47 CondensedLight"/>
              </a:rPr>
              <a:t>H.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UniversS 47 CondensedLight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268960" y="2532240"/>
            <a:ext cx="0" cy="26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48E3-78CD-47D0-A41D-BAA470E48CA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3B69D97-5F0A-4396-AB93-21DDB0B01F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unctional model for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323 Termina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2489040" y="2819520"/>
            <a:ext cx="5702040" cy="2133360"/>
            <a:chOff x="2489040" y="2819520"/>
            <a:chExt cx="5702040" cy="2133360"/>
          </a:xfrm>
        </p:grpSpPr>
        <p:sp>
          <p:nvSpPr>
            <p:cNvPr id="2447" name=""/>
            <p:cNvSpPr/>
            <p:nvPr/>
          </p:nvSpPr>
          <p:spPr>
            <a:xfrm>
              <a:off x="7365600" y="2819520"/>
              <a:ext cx="82548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403440" y="2819520"/>
              <a:ext cx="2743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udio Coding (e.g. G.711, G.729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403440" y="3276720"/>
              <a:ext cx="2743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ideo Coding (e.g. H.261, H.26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03440" y="3724200"/>
              <a:ext cx="2743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Data Coding (T.12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403440" y="4181400"/>
              <a:ext cx="2743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 Control (H.24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03440" y="4638600"/>
              <a:ext cx="27432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ll Control (H.225.0, Q.93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222600" y="2819520"/>
              <a:ext cx="106704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M Mux &amp; Syn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H.225.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489040" y="2819520"/>
              <a:ext cx="82548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5289-DEC4-446D-90A4-1FE7BFB8CFA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CA47EC-08EB-4DE7-82E0-7BB06CF404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6" name=""/>
          <p:cNvSpPr/>
          <p:nvPr/>
        </p:nvSpPr>
        <p:spPr>
          <a:xfrm>
            <a:off x="5473800" y="3645000"/>
            <a:ext cx="3581280" cy="228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473800" y="1359000"/>
            <a:ext cx="3581280" cy="2286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892160" y="1359000"/>
            <a:ext cx="3581640" cy="228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892160" y="3645000"/>
            <a:ext cx="3581640" cy="228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982520" y="1434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3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468920" y="1434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3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468920" y="5626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3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982520" y="5626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881080" y="22734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874320" y="181620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883600" y="50925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855400" y="17398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150680" y="39495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890720" y="463536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691320" y="212076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148520" y="448308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779080" y="28828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178160" y="4732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187800" y="4025880"/>
            <a:ext cx="9144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P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2502000" y="42544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635360" y="2882880"/>
            <a:ext cx="167652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73800" y="1359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892160" y="3645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941720" y="2959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2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716720" y="38736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22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473800" y="31273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22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22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626440" y="38736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2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805120" y="280656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.2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5853240" y="478800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.242/H.2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7072200" y="280656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.2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024080" y="539748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.2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635360" y="2882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591080" y="3228840"/>
            <a:ext cx="75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2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.A-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797720" y="2603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rot="16200000">
            <a:off x="4158360" y="31939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406760" y="212076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949560" y="250200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873600" y="295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H="1">
            <a:off x="6082920" y="219708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6388200" y="24256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6464160" y="3035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3720960" y="4939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 flipH="1" flipV="1">
            <a:off x="4483080" y="5016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4102200" y="4025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4483080" y="4482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flipH="1" flipV="1">
            <a:off x="6082920" y="4482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flipH="1" flipV="1">
            <a:off x="6540120" y="4330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H="1">
            <a:off x="6540120" y="410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35360" y="364500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473800" y="288288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391000" y="4137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454720" y="4219560"/>
            <a:ext cx="780840" cy="18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859000" y="6083280"/>
            <a:ext cx="875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H.2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7E33-DF96-4D08-950C-721E3986D7C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131D12-80E4-46C6-9584-58BDBB633C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ultimedia terminal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20: Communications over N-ISD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10: Communications over B-ISD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23: Communications over packet networks (mainly IP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324: Communications using circuit-switched services (fixed and mobile, including 3GPP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246: Multimedia Terminal Interwor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.248[.x]: Interworking between H.323 packet-based networks and the PST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A6DC-329B-4E1A-A0D0-AA6ED42B67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00CA160-C40C-46E3-96BB-3FF35FF476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Y.1001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IP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G.990 series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DS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H.260 series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Video cod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G.720 series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Audio cod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H.323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Multimedia termin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V.90 series – </a:t>
            </a:r>
            <a:r>
              <a:rPr b="0" lang="en-US" sz="3000" spc="-1" strike="noStrike">
                <a:solidFill>
                  <a:srgbClr val="3333cc"/>
                </a:solidFill>
                <a:latin typeface="Trebuchet MS"/>
                <a:ea typeface="Arial"/>
              </a:rPr>
              <a:t>Mod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589B-9EBC-40D1-99C1-6B3A3E8C82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86A65C-02B2-437E-AF88-6023D6C89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.248 Gatewa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1942920" y="4116240"/>
            <a:ext cx="6970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teway converts between 2 network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gnaling conver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dia (bearer) conver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 conver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3" name=""/>
          <p:cNvSpPr/>
          <p:nvPr/>
        </p:nvSpPr>
        <p:spPr>
          <a:xfrm>
            <a:off x="2209680" y="1841400"/>
            <a:ext cx="2819520" cy="228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715000" y="1841400"/>
            <a:ext cx="2819520" cy="22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655520" y="2298600"/>
            <a:ext cx="1441080" cy="1373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.24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92440" y="92700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03680" y="270504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755800" y="27813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730600" y="1434960"/>
            <a:ext cx="34272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hone3"/>
          <p:cNvSpPr/>
          <p:nvPr/>
        </p:nvSpPr>
        <p:spPr>
          <a:xfrm>
            <a:off x="7835760" y="8380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1" name="" descr=""/>
          <p:cNvPicPr/>
          <p:nvPr/>
        </p:nvPicPr>
        <p:blipFill>
          <a:blip r:embed="rId1"/>
          <a:stretch/>
        </p:blipFill>
        <p:spPr>
          <a:xfrm>
            <a:off x="8508960" y="6070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22" name=""/>
          <p:cNvSpPr/>
          <p:nvPr/>
        </p:nvSpPr>
        <p:spPr>
          <a:xfrm flipH="1">
            <a:off x="7759800" y="1409760"/>
            <a:ext cx="342720" cy="50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015A-9571-4069-9B16-E233D0F73F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9979750-A451-4B84-A4C3-82D50A5442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1" fill="hold"/>
                                        <p:tgtEl>
                                          <p:spTgt spid="2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odem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1790640" y="1474920"/>
            <a:ext cx="73533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Modem technology using ITU-T standards continues to bring Internet access to the masses. Dial-up remains the most popular method of accessing the web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U-T developed the first modem standard to make use of the fact that one end of a modem session has a digital connection (V.90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U-T has been the pre-eminent body responsible for the development of dial-up Internet acces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3300"/>
                </a:solidFill>
                <a:latin typeface="Trebuchet MS"/>
              </a:rPr>
              <a:t>1994 -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irst global standard for 28.8 kbps modems, V.34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3300"/>
                </a:solidFill>
                <a:latin typeface="Trebuchet MS"/>
              </a:rPr>
              <a:t>1998 -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V.90 standard took modem technology to its theoretical maximum bitrate level in the down stream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3300"/>
                </a:solidFill>
                <a:latin typeface="Trebuchet MS"/>
              </a:rPr>
              <a:t>2000 -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V.92 completes the loop by taking the technology to its theoretical maximum in the downstream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E207-F5A8-422B-AAD4-3B95DD7820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3D4D24-2055-4232-8E45-3A87B9BBA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V.9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V.92: Bringing dial-up up to da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V.92 focuses on giving dial-up users a better Internet experienc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The V.92 standard introduces three new features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uick Connect - shortens connection 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ypically the modem handshake takes from 25-27 seconds. Quick Connect halves th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dem-on-Hold - allows users to receive incoming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ny households only have one telephone line. Modem-on-hold allows users to make AND receive calls while surfing the net. (User must have subscribed to Call waiting service from telc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CM Upstream - boosts upstream ra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 maximum of 48Kbps is supported in V.92 equipment. A significant improvemen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A47A-EDF7-44B8-943D-0B455BEC52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DBD281-BE41-4B42-A00C-C327F323CF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New Rec V.moip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V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‑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ries DCEs over IP-networks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528" name=""/>
          <p:cNvGraphicFramePr/>
          <p:nvPr/>
        </p:nvGraphicFramePr>
        <p:xfrm>
          <a:off x="1771560" y="1784520"/>
          <a:ext cx="7372440" cy="33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84520"/>
                    <a:ext cx="7372440" cy="33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0" name=""/>
          <p:cNvSpPr/>
          <p:nvPr/>
        </p:nvSpPr>
        <p:spPr>
          <a:xfrm>
            <a:off x="1905120" y="5079960"/>
            <a:ext cx="69976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ms to ensure that modems will stay a viable technology into the twenty fir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able operators to maximize network efficiency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C8E3-01D8-4647-ADAE-21F770BBEA2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C6BD6F-9AB3-4A59-B208-8DF64AA0CE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Y.1001 - IP frame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es a framework to position the telecommunications aspects with respect to IP-based network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derstanding the issues involved in the provision of seamless services between IP-based and telecommunication networks in a convergence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9095-384B-4550-B28E-FEBC1B4625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E22E1E-3392-4C2D-8FE1-1AA2054C89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ypical components of an xDSL syste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482840" y="2482920"/>
            <a:ext cx="2523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dio/video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1480" y="177804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44760" y="4567320"/>
            <a:ext cx="701640" cy="573840"/>
            <a:chOff x="3344760" y="4567320"/>
            <a:chExt cx="701640" cy="573840"/>
          </a:xfrm>
        </p:grpSpPr>
        <p:sp>
          <p:nvSpPr>
            <p:cNvPr id="101" name=""/>
            <p:cNvSpPr/>
            <p:nvPr/>
          </p:nvSpPr>
          <p:spPr>
            <a:xfrm>
              <a:off x="3344760" y="457848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44760" y="4625280"/>
              <a:ext cx="241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4760" y="467316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44760" y="471852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44760" y="476604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44760" y="4813200"/>
              <a:ext cx="241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44760" y="486072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44760" y="4908240"/>
              <a:ext cx="241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4760" y="495396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44760" y="500148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4760" y="5048640"/>
              <a:ext cx="241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4760" y="509616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68880" y="5119560"/>
              <a:ext cx="219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4600" y="51195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0680" y="51195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6760" y="51195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52840" y="51195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9748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43200" y="5119560"/>
              <a:ext cx="241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8928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536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144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2752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360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968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65760" y="51195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11480" y="51195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22640" y="508320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22640" y="5035680"/>
              <a:ext cx="237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2640" y="49903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2640" y="4942800"/>
              <a:ext cx="237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22640" y="489564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22640" y="48481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22640" y="480240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22640" y="4754880"/>
              <a:ext cx="237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2640" y="47077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22640" y="466020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22640" y="4612680"/>
              <a:ext cx="237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2640" y="4567320"/>
              <a:ext cx="23760" cy="23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lnTo>
                    <a:pt x="29" y="26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5" y="26"/>
                  </a:lnTo>
                  <a:lnTo>
                    <a:pt x="15" y="13"/>
                  </a:lnTo>
                  <a:lnTo>
                    <a:pt x="0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76560" y="456732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30840" y="45673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4760" y="45673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8680" y="45673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92600" y="456732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796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2240" y="456732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6160" y="456732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008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400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1792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7184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576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79680" y="45673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38480" y="3295800"/>
            <a:ext cx="1114560" cy="1988640"/>
            <a:chOff x="3138480" y="3295800"/>
            <a:chExt cx="1114560" cy="1988640"/>
          </a:xfrm>
        </p:grpSpPr>
        <p:sp>
          <p:nvSpPr>
            <p:cNvPr id="155" name=""/>
            <p:cNvSpPr/>
            <p:nvPr/>
          </p:nvSpPr>
          <p:spPr>
            <a:xfrm>
              <a:off x="3138480" y="330300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8480" y="338544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8480" y="343260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8480" y="351504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8480" y="3562200"/>
              <a:ext cx="11160" cy="45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8480" y="364428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8480" y="369000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38480" y="377388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8480" y="381960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38480" y="3901680"/>
              <a:ext cx="11160" cy="1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8480" y="39488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38480" y="4031280"/>
              <a:ext cx="11160" cy="1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8480" y="40784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38480" y="41608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8480" y="42080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8480" y="42904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38480" y="43376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8480" y="441972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8480" y="44672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8480" y="454932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8480" y="45968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8480" y="46789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8480" y="472644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8081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85604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8480" y="49377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8348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8480" y="50673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51134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8480" y="519516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8480" y="5242680"/>
              <a:ext cx="17640" cy="4176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5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22" y="46"/>
                  </a:lnTo>
                  <a:lnTo>
                    <a:pt x="22" y="33"/>
                  </a:lnTo>
                  <a:lnTo>
                    <a:pt x="7" y="33"/>
                  </a:lnTo>
                  <a:lnTo>
                    <a:pt x="7" y="39"/>
                  </a:lnTo>
                  <a:lnTo>
                    <a:pt x="15" y="3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1040" y="5271840"/>
              <a:ext cx="108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6760" y="5271840"/>
              <a:ext cx="4464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632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240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4340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8948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8680" y="527184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1476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76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4184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284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68920" y="5271840"/>
              <a:ext cx="442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812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9420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520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128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00480" y="527184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41880" y="523152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1880" y="518436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41880" y="510192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41880" y="50544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1880" y="497268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41880" y="492516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41880" y="484308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41880" y="479556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41880" y="471348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1880" y="466596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41880" y="45842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41880" y="453852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1880" y="44546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1880" y="44085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41880" y="43250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1880" y="42789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1880" y="419724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1880" y="4149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41880" y="406764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41880" y="40201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1880" y="393804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41880" y="38905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1880" y="380880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1880" y="37612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1880" y="3679200"/>
              <a:ext cx="11160" cy="4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1880" y="36316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1880" y="35492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41880" y="35020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41880" y="34196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41880" y="33724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35400" y="3295800"/>
              <a:ext cx="17640" cy="4212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7" y="45"/>
                  </a:moveTo>
                  <a:lnTo>
                    <a:pt x="22" y="45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5" y="13"/>
                  </a:lnTo>
                  <a:lnTo>
                    <a:pt x="15" y="6"/>
                  </a:lnTo>
                  <a:lnTo>
                    <a:pt x="7" y="6"/>
                  </a:lnTo>
                  <a:lnTo>
                    <a:pt x="7" y="4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8932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0832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404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304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696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5596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9880" y="3295800"/>
              <a:ext cx="129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068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8460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0360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5752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8320" y="3295800"/>
              <a:ext cx="442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224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124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05160" y="329580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24160" y="329580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8080" y="3295800"/>
              <a:ext cx="129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357720" y="3592440"/>
            <a:ext cx="677880" cy="693720"/>
          </a:xfrm>
          <a:prstGeom prst="rect">
            <a:avLst/>
          </a:pr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1440" y="4890960"/>
            <a:ext cx="1847880" cy="18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55800" y="4890600"/>
            <a:ext cx="609840" cy="18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95760" y="4297320"/>
            <a:ext cx="1440" cy="270000"/>
          </a:xfrm>
          <a:prstGeom prst="line">
            <a:avLst/>
          </a:prstGeom>
          <a:ln w="11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9080" y="4767120"/>
            <a:ext cx="1800" cy="270000"/>
          </a:xfrm>
          <a:prstGeom prst="line">
            <a:avLst/>
          </a:prstGeom>
          <a:ln w="1116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76440" y="4718160"/>
            <a:ext cx="594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58880" y="477216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P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9600" y="49402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Spl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46640" y="3870360"/>
            <a:ext cx="417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7280" y="3925800"/>
            <a:ext cx="23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x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3280" y="5594400"/>
            <a:ext cx="715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11880" y="56167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0360" y="5616720"/>
            <a:ext cx="132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N = Service N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786280"/>
            <a:ext cx="34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47040" y="5616720"/>
            <a:ext cx="2780280" cy="490320"/>
            <a:chOff x="2147040" y="5616720"/>
            <a:chExt cx="2780280" cy="490320"/>
          </a:xfrm>
        </p:grpSpPr>
        <p:sp>
          <p:nvSpPr>
            <p:cNvPr id="266" name=""/>
            <p:cNvSpPr/>
            <p:nvPr/>
          </p:nvSpPr>
          <p:spPr>
            <a:xfrm>
              <a:off x="2147040" y="561672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DT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0720" y="5616720"/>
              <a:ext cx="34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4760" y="561672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e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48840" y="5786280"/>
              <a:ext cx="57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TU-R   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8200" y="5786280"/>
              <a:ext cx="147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eiver Unit- 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48840" y="5954400"/>
              <a:ext cx="57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TU-C   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1640" y="5954400"/>
              <a:ext cx="34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48200" y="5954400"/>
              <a:ext cx="177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eiver Unit- Central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308400" y="3378240"/>
            <a:ext cx="66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51240" y="4014720"/>
            <a:ext cx="914400" cy="18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03720" y="4505400"/>
            <a:ext cx="409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86520" y="4560840"/>
            <a:ext cx="22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U-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981160" y="3890880"/>
            <a:ext cx="11160" cy="1187280"/>
            <a:chOff x="2981160" y="3890880"/>
            <a:chExt cx="11160" cy="1187280"/>
          </a:xfrm>
        </p:grpSpPr>
        <p:sp>
          <p:nvSpPr>
            <p:cNvPr id="279" name=""/>
            <p:cNvSpPr/>
            <p:nvPr/>
          </p:nvSpPr>
          <p:spPr>
            <a:xfrm>
              <a:off x="2981160" y="38908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81160" y="39146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1160" y="39366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160" y="39603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81160" y="39837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1160" y="400788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81160" y="403128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81160" y="405504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81160" y="40788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1160" y="41025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81160" y="412596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1160" y="414792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81160" y="41716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1160" y="41954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81160" y="42192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81160" y="424260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81160" y="42667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81160" y="429012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81160" y="43138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1160" y="43380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1160" y="43596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81160" y="43833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81160" y="44067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81160" y="44308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81160" y="44546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81160" y="447804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81160" y="45021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81160" y="45255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81160" y="454932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1160" y="45712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81160" y="459504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81160" y="46188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1160" y="46422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81160" y="466632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81160" y="46897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81160" y="47134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81160" y="47376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81160" y="47610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81160" y="478476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1160" y="48063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1160" y="483012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81160" y="48542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1160" y="48776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1160" y="490140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1160" y="49251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1160" y="49489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1160" y="497232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1160" y="49964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81160" y="501840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81160" y="50418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81160" y="50655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825640" y="3589200"/>
            <a:ext cx="249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06280" y="36432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3022560"/>
            <a:ext cx="169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9320" y="3076560"/>
            <a:ext cx="17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CUSTOMER PREM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07280" y="3022560"/>
            <a:ext cx="1346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88640" y="3076560"/>
            <a:ext cx="132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CENTRAL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688000" y="3303720"/>
            <a:ext cx="1114560" cy="1980720"/>
            <a:chOff x="5688000" y="3303720"/>
            <a:chExt cx="1114560" cy="1980720"/>
          </a:xfrm>
        </p:grpSpPr>
        <p:sp>
          <p:nvSpPr>
            <p:cNvPr id="337" name=""/>
            <p:cNvSpPr/>
            <p:nvPr/>
          </p:nvSpPr>
          <p:spPr>
            <a:xfrm>
              <a:off x="5688000" y="330876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88000" y="339120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88000" y="343836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88000" y="3520800"/>
              <a:ext cx="1260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88000" y="3568320"/>
              <a:ext cx="1260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88000" y="3650040"/>
              <a:ext cx="1260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88000" y="3697920"/>
              <a:ext cx="1260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000" y="3779640"/>
              <a:ext cx="1260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88000" y="3827160"/>
              <a:ext cx="1260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909240"/>
              <a:ext cx="1260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8000" y="395460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88000" y="4038480"/>
              <a:ext cx="1260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8000" y="408420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88000" y="416628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8000" y="4214160"/>
              <a:ext cx="1260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88000" y="429588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88000" y="4343400"/>
              <a:ext cx="1260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8000" y="442548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88000" y="4473000"/>
              <a:ext cx="1260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88000" y="455472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88000" y="460260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88000" y="468432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88000" y="473184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8000" y="4813920"/>
              <a:ext cx="1260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8000" y="4861440"/>
              <a:ext cx="1260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8000" y="4943160"/>
              <a:ext cx="1260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88000" y="4991040"/>
              <a:ext cx="1260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88000" y="5073120"/>
              <a:ext cx="1260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88000" y="5120280"/>
              <a:ext cx="1260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88000" y="5202720"/>
              <a:ext cx="1260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88000" y="5248080"/>
              <a:ext cx="23760" cy="363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4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29" y="39"/>
                  </a:lnTo>
                  <a:lnTo>
                    <a:pt x="29" y="26"/>
                  </a:lnTo>
                  <a:lnTo>
                    <a:pt x="7" y="26"/>
                  </a:lnTo>
                  <a:lnTo>
                    <a:pt x="7" y="32"/>
                  </a:lnTo>
                  <a:lnTo>
                    <a:pt x="14" y="3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4668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276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18400" y="5271840"/>
              <a:ext cx="4572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9904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4512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24680" y="527184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7076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1760" y="5271840"/>
              <a:ext cx="108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9748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7848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2456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412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0200" y="5271840"/>
              <a:ext cx="4572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0840" y="527184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76920" y="5271840"/>
              <a:ext cx="4608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56480" y="5271840"/>
              <a:ext cx="1260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91400" y="522612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91400" y="517860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91400" y="5096880"/>
              <a:ext cx="11160" cy="45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91400" y="50493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91400" y="4967280"/>
              <a:ext cx="1116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91400" y="491976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91400" y="4837680"/>
              <a:ext cx="1116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91400" y="479016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91400" y="4708440"/>
              <a:ext cx="1116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91400" y="466092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1400" y="4578840"/>
              <a:ext cx="11160" cy="46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91400" y="453132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91400" y="444888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91400" y="440172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1400" y="43196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1400" y="42724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91400" y="41900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1400" y="414468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91400" y="406044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91400" y="401508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91400" y="3932640"/>
              <a:ext cx="11160" cy="45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91400" y="388548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91400" y="3803400"/>
              <a:ext cx="11160" cy="45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91400" y="375624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91400" y="367380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91400" y="3626640"/>
              <a:ext cx="11160" cy="1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1400" y="354420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91400" y="3497040"/>
              <a:ext cx="11160" cy="1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1400" y="3414960"/>
              <a:ext cx="11160" cy="47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91400" y="3367080"/>
              <a:ext cx="11160" cy="1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73760" y="3303720"/>
              <a:ext cx="28800" cy="29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1" y="33"/>
                  </a:moveTo>
                  <a:lnTo>
                    <a:pt x="36" y="33"/>
                  </a:lnTo>
                  <a:lnTo>
                    <a:pt x="36" y="7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1" y="7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27680" y="3303720"/>
              <a:ext cx="129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4848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0240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2140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532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9432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004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6904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2296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4196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303720"/>
              <a:ext cx="129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68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7060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9600" y="3303720"/>
              <a:ext cx="460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4352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64320" y="3303720"/>
              <a:ext cx="4428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18240" y="3303720"/>
              <a:ext cx="11160" cy="11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896080" y="4608360"/>
            <a:ext cx="699840" cy="574200"/>
            <a:chOff x="5896080" y="4608360"/>
            <a:chExt cx="699840" cy="574200"/>
          </a:xfrm>
        </p:grpSpPr>
        <p:sp>
          <p:nvSpPr>
            <p:cNvPr id="434" name=""/>
            <p:cNvSpPr/>
            <p:nvPr/>
          </p:nvSpPr>
          <p:spPr>
            <a:xfrm>
              <a:off x="5896080" y="46195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6080" y="4666680"/>
              <a:ext cx="223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96080" y="471420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96080" y="47595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96080" y="480708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96080" y="4854600"/>
              <a:ext cx="223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96080" y="490212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96080" y="494964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96080" y="499500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96080" y="504288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96080" y="5090040"/>
              <a:ext cx="2232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96080" y="51375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18400" y="51609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64120" y="5160960"/>
              <a:ext cx="241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10200" y="51609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5628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236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4844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452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40600" y="5160960"/>
              <a:ext cx="219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86680" y="5160960"/>
              <a:ext cx="219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240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7848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2456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70640" y="5160960"/>
              <a:ext cx="223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15280" y="5160960"/>
              <a:ext cx="237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61000" y="5160960"/>
              <a:ext cx="2412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73960" y="512460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73960" y="5077080"/>
              <a:ext cx="219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3960" y="503172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73960" y="4983840"/>
              <a:ext cx="219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73960" y="493668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73960" y="488916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73960" y="4843800"/>
              <a:ext cx="21960" cy="2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73960" y="4795920"/>
              <a:ext cx="219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73960" y="474876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73960" y="4701240"/>
              <a:ext cx="219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73960" y="4653720"/>
              <a:ext cx="21960" cy="23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73960" y="4608360"/>
              <a:ext cx="21960" cy="23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lnTo>
                    <a:pt x="29" y="26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5" y="26"/>
                  </a:lnTo>
                  <a:lnTo>
                    <a:pt x="15" y="13"/>
                  </a:lnTo>
                  <a:lnTo>
                    <a:pt x="0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2788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8180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3572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8964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4356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97480" y="4608360"/>
              <a:ext cx="223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176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568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5960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1352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6744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2136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75280" y="4608360"/>
              <a:ext cx="2376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29200" y="4608360"/>
              <a:ext cx="24120" cy="2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907240" y="3592440"/>
            <a:ext cx="679320" cy="693720"/>
          </a:xfrm>
          <a:prstGeom prst="rect">
            <a:avLst/>
          </a:pr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95760" y="4767120"/>
            <a:ext cx="1800" cy="270000"/>
          </a:xfrm>
          <a:prstGeom prst="line">
            <a:avLst/>
          </a:prstGeom>
          <a:ln w="1116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6040" y="4890960"/>
            <a:ext cx="1090440" cy="18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62800" y="3978360"/>
            <a:ext cx="1020600" cy="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27760" y="4718160"/>
            <a:ext cx="592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08400" y="477216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P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09120" y="49402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Spl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96160" y="3870360"/>
            <a:ext cx="417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78240" y="3925800"/>
            <a:ext cx="23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x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57920" y="3378240"/>
            <a:ext cx="66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26200" y="4295880"/>
            <a:ext cx="1440" cy="271440"/>
          </a:xfrm>
          <a:prstGeom prst="line">
            <a:avLst/>
          </a:prstGeom>
          <a:ln w="11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37280" y="4505400"/>
            <a:ext cx="4093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20080" y="4560840"/>
            <a:ext cx="22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U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135920" y="3863880"/>
            <a:ext cx="11160" cy="1186920"/>
            <a:chOff x="7135920" y="3863880"/>
            <a:chExt cx="11160" cy="1186920"/>
          </a:xfrm>
        </p:grpSpPr>
        <p:sp>
          <p:nvSpPr>
            <p:cNvPr id="501" name=""/>
            <p:cNvSpPr/>
            <p:nvPr/>
          </p:nvSpPr>
          <p:spPr>
            <a:xfrm>
              <a:off x="7135920" y="38638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35920" y="38876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35920" y="39114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35920" y="39348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35920" y="39589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35920" y="39823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35920" y="40060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35920" y="40298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35920" y="40536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35920" y="40755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35920" y="40989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35920" y="412308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35920" y="41464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35920" y="417024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35920" y="41943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35920" y="42177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35920" y="424152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35920" y="426528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35920" y="42868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35920" y="43110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35920" y="43344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35920" y="43581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35920" y="438192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35920" y="44056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35920" y="44290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35920" y="44532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35920" y="447660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35920" y="450036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35920" y="452232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35920" y="4546080"/>
              <a:ext cx="1116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35920" y="45698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35920" y="45932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35920" y="46173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35920" y="464112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35920" y="466452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35920" y="46886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35920" y="471204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5920" y="47340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5920" y="47577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35920" y="478116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35920" y="480528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35920" y="482868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35920" y="485244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35920" y="487620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35920" y="489996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35920" y="4923360"/>
              <a:ext cx="111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35920" y="494532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5920" y="49694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5920" y="499284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35920" y="5016600"/>
              <a:ext cx="111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5920" y="5040360"/>
              <a:ext cx="11160" cy="1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877080" y="3551400"/>
            <a:ext cx="395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59520" y="3606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570800" y="3516480"/>
            <a:ext cx="1549080" cy="987840"/>
            <a:chOff x="7570800" y="3516480"/>
            <a:chExt cx="1549080" cy="987840"/>
          </a:xfrm>
        </p:grpSpPr>
        <p:grpSp>
          <p:nvGrpSpPr>
            <p:cNvPr id="555" name=""/>
            <p:cNvGrpSpPr/>
            <p:nvPr/>
          </p:nvGrpSpPr>
          <p:grpSpPr>
            <a:xfrm>
              <a:off x="7570800" y="3556440"/>
              <a:ext cx="1428480" cy="947880"/>
              <a:chOff x="7570800" y="3556440"/>
              <a:chExt cx="1428480" cy="947880"/>
            </a:xfrm>
          </p:grpSpPr>
          <p:sp>
            <p:nvSpPr>
              <p:cNvPr id="556" name=""/>
              <p:cNvSpPr/>
              <p:nvPr/>
            </p:nvSpPr>
            <p:spPr>
              <a:xfrm>
                <a:off x="7654680" y="4012200"/>
                <a:ext cx="604800" cy="4341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70800" y="3860640"/>
                <a:ext cx="290160" cy="3812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181720" y="4026600"/>
                <a:ext cx="600120" cy="4539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85200" y="3891600"/>
                <a:ext cx="514080" cy="5122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72240" y="3623760"/>
                <a:ext cx="309600" cy="3207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22960" y="3556440"/>
                <a:ext cx="571680" cy="4579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654680" y="3660120"/>
                <a:ext cx="588960" cy="623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665920" y="3769560"/>
                <a:ext cx="304920" cy="3006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53200" y="4158000"/>
                <a:ext cx="274680" cy="3463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32360" y="3678120"/>
                <a:ext cx="1301760" cy="7423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7775280" y="3985200"/>
              <a:ext cx="60336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91400" y="3808080"/>
              <a:ext cx="258480" cy="394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02320" y="4012560"/>
              <a:ext cx="588960" cy="43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602560" y="3841200"/>
              <a:ext cx="517320" cy="5342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82040" y="3601800"/>
              <a:ext cx="309240" cy="304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0040" y="3516480"/>
              <a:ext cx="536760" cy="470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75280" y="3623760"/>
              <a:ext cx="595440" cy="61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786520" y="3722400"/>
              <a:ext cx="301680" cy="2919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77040" y="4129200"/>
              <a:ext cx="264960" cy="330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32440" y="3623760"/>
              <a:ext cx="132408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640640" y="4626000"/>
            <a:ext cx="906120" cy="584640"/>
            <a:chOff x="7640640" y="4626000"/>
            <a:chExt cx="906120" cy="584640"/>
          </a:xfrm>
        </p:grpSpPr>
        <p:grpSp>
          <p:nvGrpSpPr>
            <p:cNvPr id="577" name=""/>
            <p:cNvGrpSpPr/>
            <p:nvPr/>
          </p:nvGrpSpPr>
          <p:grpSpPr>
            <a:xfrm>
              <a:off x="7640640" y="4647600"/>
              <a:ext cx="833400" cy="563040"/>
              <a:chOff x="7640640" y="4647600"/>
              <a:chExt cx="833400" cy="563040"/>
            </a:xfrm>
          </p:grpSpPr>
          <p:sp>
            <p:nvSpPr>
              <p:cNvPr id="578" name=""/>
              <p:cNvSpPr/>
              <p:nvPr/>
            </p:nvSpPr>
            <p:spPr>
              <a:xfrm>
                <a:off x="7689600" y="4919040"/>
                <a:ext cx="354240" cy="2570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40640" y="4829760"/>
                <a:ext cx="168120" cy="2257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95960" y="4928400"/>
                <a:ext cx="352440" cy="267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173800" y="4845960"/>
                <a:ext cx="300240" cy="3045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165880" y="4687560"/>
                <a:ext cx="182520" cy="1929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905600" y="4647600"/>
                <a:ext cx="333360" cy="2732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689600" y="4709520"/>
                <a:ext cx="344520" cy="3700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278560" y="4774680"/>
                <a:ext cx="179640" cy="1789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921440" y="5004720"/>
                <a:ext cx="160200" cy="2059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75560" y="4722120"/>
                <a:ext cx="761760" cy="4392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7759440" y="4903200"/>
              <a:ext cx="352440" cy="248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711920" y="4799160"/>
              <a:ext cx="150840" cy="233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67600" y="4919760"/>
              <a:ext cx="342720" cy="257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43640" y="4817520"/>
              <a:ext cx="303120" cy="317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31040" y="4674960"/>
              <a:ext cx="179280" cy="182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6880" y="4626000"/>
              <a:ext cx="316080" cy="278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59440" y="4687920"/>
              <a:ext cx="349200" cy="368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50200" y="4746240"/>
              <a:ext cx="177840" cy="1749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94520" y="4988880"/>
              <a:ext cx="155520" cy="197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34240" y="4687920"/>
              <a:ext cx="772920" cy="4597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7640640" y="4761000"/>
            <a:ext cx="987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22720" y="4813200"/>
            <a:ext cx="75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PSTN/IS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37360" y="4983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43880" y="3703680"/>
            <a:ext cx="15206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25960" y="375588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B-ISDN 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724880" y="39258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n-ATM based 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23440" y="4094280"/>
            <a:ext cx="105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(e.g. - video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723800" y="4262400"/>
            <a:ext cx="88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- IP rou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11600" y="4971960"/>
            <a:ext cx="5619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05760" y="5029200"/>
            <a:ext cx="92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(Subscriber lin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46320" y="45277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982880" y="4780080"/>
            <a:ext cx="833400" cy="239400"/>
            <a:chOff x="1982880" y="4780080"/>
            <a:chExt cx="833400" cy="239400"/>
          </a:xfrm>
        </p:grpSpPr>
        <p:sp>
          <p:nvSpPr>
            <p:cNvPr id="610" name=""/>
            <p:cNvSpPr/>
            <p:nvPr/>
          </p:nvSpPr>
          <p:spPr>
            <a:xfrm>
              <a:off x="1989360" y="4785120"/>
              <a:ext cx="820800" cy="227160"/>
            </a:xfrm>
            <a:custGeom>
              <a:avLst/>
              <a:gdLst/>
              <a:ahLst/>
              <a:rect l="l" t="t" r="r" b="b"/>
              <a:pathLst>
                <a:path w="1035" h="250">
                  <a:moveTo>
                    <a:pt x="65" y="48"/>
                  </a:moveTo>
                  <a:lnTo>
                    <a:pt x="110" y="48"/>
                  </a:lnTo>
                  <a:lnTo>
                    <a:pt x="116" y="0"/>
                  </a:lnTo>
                  <a:lnTo>
                    <a:pt x="286" y="0"/>
                  </a:lnTo>
                  <a:lnTo>
                    <a:pt x="299" y="50"/>
                  </a:lnTo>
                  <a:lnTo>
                    <a:pt x="915" y="48"/>
                  </a:lnTo>
                  <a:lnTo>
                    <a:pt x="1033" y="230"/>
                  </a:lnTo>
                  <a:lnTo>
                    <a:pt x="1033" y="233"/>
                  </a:lnTo>
                  <a:lnTo>
                    <a:pt x="1035" y="240"/>
                  </a:lnTo>
                  <a:lnTo>
                    <a:pt x="1035" y="245"/>
                  </a:lnTo>
                  <a:lnTo>
                    <a:pt x="1035" y="250"/>
                  </a:lnTo>
                  <a:lnTo>
                    <a:pt x="0" y="250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3"/>
                  </a:lnTo>
                  <a:lnTo>
                    <a:pt x="2" y="230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41560" y="4827240"/>
              <a:ext cx="28800" cy="360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27" y="1"/>
                  </a:moveTo>
                  <a:lnTo>
                    <a:pt x="3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71800" y="4780080"/>
              <a:ext cx="4680" cy="4356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4" y="0"/>
                  </a:moveTo>
                  <a:lnTo>
                    <a:pt x="2" y="4"/>
                  </a:lnTo>
                  <a:lnTo>
                    <a:pt x="0" y="45"/>
                  </a:lnTo>
                  <a:lnTo>
                    <a:pt x="4" y="47"/>
                  </a:lnTo>
                  <a:lnTo>
                    <a:pt x="5" y="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81520" y="4780080"/>
              <a:ext cx="131760" cy="1800"/>
            </a:xfrm>
            <a:custGeom>
              <a:avLst/>
              <a:gdLst/>
              <a:ahLst/>
              <a:rect l="l" t="t" r="r" b="b"/>
              <a:pathLst>
                <a:path w="164" h="0">
                  <a:moveTo>
                    <a:pt x="164" y="0"/>
                  </a:moveTo>
                  <a:lnTo>
                    <a:pt x="157" y="0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14720" y="4785120"/>
              <a:ext cx="4680" cy="4176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4" y="39"/>
                  </a:moveTo>
                  <a:lnTo>
                    <a:pt x="5" y="42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5" y="45"/>
                  </a:lnTo>
                  <a:lnTo>
                    <a:pt x="5" y="42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29120" y="4827240"/>
              <a:ext cx="490320" cy="3600"/>
            </a:xfrm>
            <a:custGeom>
              <a:avLst/>
              <a:gdLst/>
              <a:ahLst/>
              <a:rect l="l" t="t" r="r" b="b"/>
              <a:pathLst>
                <a:path w="619" h="3">
                  <a:moveTo>
                    <a:pt x="619" y="3"/>
                  </a:moveTo>
                  <a:lnTo>
                    <a:pt x="6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612" y="0"/>
                  </a:lnTo>
                  <a:lnTo>
                    <a:pt x="608" y="0"/>
                  </a:lnTo>
                  <a:lnTo>
                    <a:pt x="612" y="0"/>
                  </a:lnTo>
                  <a:lnTo>
                    <a:pt x="617" y="0"/>
                  </a:lnTo>
                  <a:lnTo>
                    <a:pt x="619" y="1"/>
                  </a:lnTo>
                  <a:lnTo>
                    <a:pt x="617" y="3"/>
                  </a:lnTo>
                  <a:lnTo>
                    <a:pt x="612" y="3"/>
                  </a:lnTo>
                  <a:lnTo>
                    <a:pt x="619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22680" y="4830840"/>
              <a:ext cx="88920" cy="166680"/>
            </a:xfrm>
            <a:custGeom>
              <a:avLst/>
              <a:gdLst/>
              <a:ahLst/>
              <a:rect l="l" t="t" r="r" b="b"/>
              <a:pathLst>
                <a:path w="112" h="183">
                  <a:moveTo>
                    <a:pt x="112" y="177"/>
                  </a:moveTo>
                  <a:lnTo>
                    <a:pt x="112" y="175"/>
                  </a:lnTo>
                  <a:lnTo>
                    <a:pt x="9" y="0"/>
                  </a:lnTo>
                  <a:lnTo>
                    <a:pt x="0" y="6"/>
                  </a:lnTo>
                  <a:lnTo>
                    <a:pt x="103" y="182"/>
                  </a:lnTo>
                  <a:lnTo>
                    <a:pt x="106" y="183"/>
                  </a:lnTo>
                  <a:lnTo>
                    <a:pt x="110" y="183"/>
                  </a:lnTo>
                  <a:lnTo>
                    <a:pt x="112" y="182"/>
                  </a:lnTo>
                  <a:lnTo>
                    <a:pt x="112" y="175"/>
                  </a:lnTo>
                  <a:lnTo>
                    <a:pt x="112" y="17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4840" y="5003640"/>
              <a:ext cx="1440" cy="14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3"/>
                  </a:lnTo>
                  <a:lnTo>
                    <a:pt x="2" y="10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82880" y="5018040"/>
              <a:ext cx="827280" cy="1440"/>
            </a:xfrm>
            <a:custGeom>
              <a:avLst/>
              <a:gdLst/>
              <a:ahLst/>
              <a:rect l="l" t="t" r="r" b="b"/>
              <a:pathLst>
                <a:path w="1042" h="0">
                  <a:moveTo>
                    <a:pt x="0" y="0"/>
                  </a:moveTo>
                  <a:lnTo>
                    <a:pt x="7" y="0"/>
                  </a:lnTo>
                  <a:lnTo>
                    <a:pt x="1042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82880" y="5001480"/>
              <a:ext cx="1800" cy="1080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84680" y="4830840"/>
              <a:ext cx="50760" cy="164880"/>
            </a:xfrm>
            <a:custGeom>
              <a:avLst/>
              <a:gdLst/>
              <a:ahLst/>
              <a:rect l="l" t="t" r="r" b="b"/>
              <a:pathLst>
                <a:path w="65" h="184">
                  <a:moveTo>
                    <a:pt x="59" y="0"/>
                  </a:moveTo>
                  <a:lnTo>
                    <a:pt x="52" y="3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65" y="5"/>
                  </a:lnTo>
                  <a:lnTo>
                    <a:pt x="59" y="10"/>
                  </a:lnTo>
                  <a:lnTo>
                    <a:pt x="65" y="5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984320" y="4834080"/>
            <a:ext cx="825480" cy="387000"/>
            <a:chOff x="1984320" y="4834080"/>
            <a:chExt cx="825480" cy="387000"/>
          </a:xfrm>
        </p:grpSpPr>
        <p:sp>
          <p:nvSpPr>
            <p:cNvPr id="622" name=""/>
            <p:cNvSpPr/>
            <p:nvPr/>
          </p:nvSpPr>
          <p:spPr>
            <a:xfrm>
              <a:off x="2705040" y="5025960"/>
              <a:ext cx="104760" cy="3240"/>
            </a:xfrm>
            <a:custGeom>
              <a:avLst/>
              <a:gdLst/>
              <a:ahLst/>
              <a:rect l="l" t="t" r="r" b="b"/>
              <a:pathLst>
                <a:path w="132" h="5">
                  <a:moveTo>
                    <a:pt x="0" y="0"/>
                  </a:moveTo>
                  <a:lnTo>
                    <a:pt x="0" y="5"/>
                  </a:lnTo>
                  <a:lnTo>
                    <a:pt x="117" y="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05040" y="4945320"/>
              <a:ext cx="252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97120" y="4892760"/>
              <a:ext cx="792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5"/>
                  </a:lnTo>
                  <a:lnTo>
                    <a:pt x="0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09640" y="4883760"/>
              <a:ext cx="84240" cy="144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105" y="16"/>
                  </a:moveTo>
                  <a:lnTo>
                    <a:pt x="105" y="7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5080" y="4945320"/>
              <a:ext cx="288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09640" y="5025960"/>
              <a:ext cx="84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09640" y="4945320"/>
              <a:ext cx="2556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00200" y="4883760"/>
              <a:ext cx="982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71480" y="4945320"/>
              <a:ext cx="270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00200" y="5025960"/>
              <a:ext cx="982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00200" y="4945320"/>
              <a:ext cx="4284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22440" y="4883760"/>
              <a:ext cx="66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79680" y="4945320"/>
              <a:ext cx="936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22440" y="5025960"/>
              <a:ext cx="666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22440" y="4945320"/>
              <a:ext cx="252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0280" y="4883760"/>
              <a:ext cx="79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84280" y="4945320"/>
              <a:ext cx="2556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30280" y="5025960"/>
              <a:ext cx="795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30280" y="4945320"/>
              <a:ext cx="2556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93920" y="4883760"/>
              <a:ext cx="25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92120" y="4945320"/>
              <a:ext cx="270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54240" y="4837680"/>
              <a:ext cx="164880" cy="363600"/>
            </a:xfrm>
            <a:custGeom>
              <a:avLst/>
              <a:gdLst/>
              <a:ahLst/>
              <a:rect l="l" t="t" r="r" b="b"/>
              <a:pathLst>
                <a:path w="208" h="398">
                  <a:moveTo>
                    <a:pt x="208" y="218"/>
                  </a:moveTo>
                  <a:lnTo>
                    <a:pt x="208" y="200"/>
                  </a:lnTo>
                  <a:lnTo>
                    <a:pt x="56" y="200"/>
                  </a:lnTo>
                  <a:lnTo>
                    <a:pt x="18" y="187"/>
                  </a:lnTo>
                  <a:lnTo>
                    <a:pt x="18" y="179"/>
                  </a:lnTo>
                  <a:lnTo>
                    <a:pt x="20" y="171"/>
                  </a:lnTo>
                  <a:lnTo>
                    <a:pt x="20" y="163"/>
                  </a:lnTo>
                  <a:lnTo>
                    <a:pt x="16" y="156"/>
                  </a:lnTo>
                  <a:lnTo>
                    <a:pt x="0" y="156"/>
                  </a:lnTo>
                  <a:lnTo>
                    <a:pt x="2" y="147"/>
                  </a:lnTo>
                  <a:lnTo>
                    <a:pt x="107" y="147"/>
                  </a:lnTo>
                  <a:lnTo>
                    <a:pt x="100" y="124"/>
                  </a:lnTo>
                  <a:lnTo>
                    <a:pt x="101" y="121"/>
                  </a:lnTo>
                  <a:lnTo>
                    <a:pt x="89" y="0"/>
                  </a:lnTo>
                  <a:lnTo>
                    <a:pt x="94" y="119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94" y="123"/>
                  </a:lnTo>
                  <a:lnTo>
                    <a:pt x="89" y="145"/>
                  </a:lnTo>
                  <a:lnTo>
                    <a:pt x="0" y="145"/>
                  </a:lnTo>
                  <a:lnTo>
                    <a:pt x="0" y="281"/>
                  </a:lnTo>
                  <a:lnTo>
                    <a:pt x="2" y="289"/>
                  </a:lnTo>
                  <a:lnTo>
                    <a:pt x="4" y="295"/>
                  </a:lnTo>
                  <a:lnTo>
                    <a:pt x="4" y="303"/>
                  </a:lnTo>
                  <a:lnTo>
                    <a:pt x="6" y="311"/>
                  </a:lnTo>
                  <a:lnTo>
                    <a:pt x="6" y="318"/>
                  </a:lnTo>
                  <a:lnTo>
                    <a:pt x="4" y="324"/>
                  </a:lnTo>
                  <a:lnTo>
                    <a:pt x="2" y="329"/>
                  </a:lnTo>
                  <a:lnTo>
                    <a:pt x="0" y="335"/>
                  </a:lnTo>
                  <a:lnTo>
                    <a:pt x="0" y="398"/>
                  </a:lnTo>
                  <a:lnTo>
                    <a:pt x="13" y="384"/>
                  </a:lnTo>
                  <a:lnTo>
                    <a:pt x="27" y="369"/>
                  </a:lnTo>
                  <a:lnTo>
                    <a:pt x="38" y="351"/>
                  </a:lnTo>
                  <a:lnTo>
                    <a:pt x="44" y="329"/>
                  </a:lnTo>
                  <a:lnTo>
                    <a:pt x="45" y="306"/>
                  </a:lnTo>
                  <a:lnTo>
                    <a:pt x="44" y="282"/>
                  </a:lnTo>
                  <a:lnTo>
                    <a:pt x="38" y="256"/>
                  </a:lnTo>
                  <a:lnTo>
                    <a:pt x="22" y="229"/>
                  </a:lnTo>
                  <a:lnTo>
                    <a:pt x="38" y="232"/>
                  </a:lnTo>
                  <a:lnTo>
                    <a:pt x="49" y="237"/>
                  </a:lnTo>
                  <a:lnTo>
                    <a:pt x="65" y="240"/>
                  </a:lnTo>
                  <a:lnTo>
                    <a:pt x="80" y="240"/>
                  </a:lnTo>
                  <a:lnTo>
                    <a:pt x="92" y="242"/>
                  </a:lnTo>
                  <a:lnTo>
                    <a:pt x="110" y="242"/>
                  </a:lnTo>
                  <a:lnTo>
                    <a:pt x="125" y="242"/>
                  </a:lnTo>
                  <a:lnTo>
                    <a:pt x="139" y="240"/>
                  </a:lnTo>
                  <a:lnTo>
                    <a:pt x="174" y="218"/>
                  </a:lnTo>
                  <a:lnTo>
                    <a:pt x="208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87560" y="4837680"/>
              <a:ext cx="153720" cy="383400"/>
            </a:xfrm>
            <a:custGeom>
              <a:avLst/>
              <a:gdLst/>
              <a:ahLst/>
              <a:rect l="l" t="t" r="r" b="b"/>
              <a:pathLst>
                <a:path w="196" h="421">
                  <a:moveTo>
                    <a:pt x="196" y="123"/>
                  </a:moveTo>
                  <a:lnTo>
                    <a:pt x="196" y="119"/>
                  </a:lnTo>
                  <a:lnTo>
                    <a:pt x="98" y="119"/>
                  </a:lnTo>
                  <a:lnTo>
                    <a:pt x="107" y="0"/>
                  </a:lnTo>
                  <a:lnTo>
                    <a:pt x="93" y="121"/>
                  </a:lnTo>
                  <a:lnTo>
                    <a:pt x="93" y="124"/>
                  </a:lnTo>
                  <a:lnTo>
                    <a:pt x="85" y="147"/>
                  </a:lnTo>
                  <a:lnTo>
                    <a:pt x="181" y="147"/>
                  </a:lnTo>
                  <a:lnTo>
                    <a:pt x="179" y="155"/>
                  </a:lnTo>
                  <a:lnTo>
                    <a:pt x="178" y="165"/>
                  </a:lnTo>
                  <a:lnTo>
                    <a:pt x="174" y="173"/>
                  </a:lnTo>
                  <a:lnTo>
                    <a:pt x="174" y="181"/>
                  </a:lnTo>
                  <a:lnTo>
                    <a:pt x="161" y="181"/>
                  </a:lnTo>
                  <a:lnTo>
                    <a:pt x="147" y="181"/>
                  </a:lnTo>
                  <a:lnTo>
                    <a:pt x="134" y="184"/>
                  </a:lnTo>
                  <a:lnTo>
                    <a:pt x="120" y="184"/>
                  </a:lnTo>
                  <a:lnTo>
                    <a:pt x="109" y="185"/>
                  </a:lnTo>
                  <a:lnTo>
                    <a:pt x="94" y="190"/>
                  </a:lnTo>
                  <a:lnTo>
                    <a:pt x="84" y="194"/>
                  </a:lnTo>
                  <a:lnTo>
                    <a:pt x="71" y="200"/>
                  </a:lnTo>
                  <a:lnTo>
                    <a:pt x="2" y="200"/>
                  </a:lnTo>
                  <a:lnTo>
                    <a:pt x="18" y="218"/>
                  </a:lnTo>
                  <a:lnTo>
                    <a:pt x="40" y="218"/>
                  </a:lnTo>
                  <a:lnTo>
                    <a:pt x="17" y="242"/>
                  </a:lnTo>
                  <a:lnTo>
                    <a:pt x="4" y="272"/>
                  </a:lnTo>
                  <a:lnTo>
                    <a:pt x="0" y="305"/>
                  </a:lnTo>
                  <a:lnTo>
                    <a:pt x="6" y="337"/>
                  </a:lnTo>
                  <a:lnTo>
                    <a:pt x="22" y="368"/>
                  </a:lnTo>
                  <a:lnTo>
                    <a:pt x="47" y="393"/>
                  </a:lnTo>
                  <a:lnTo>
                    <a:pt x="84" y="409"/>
                  </a:lnTo>
                  <a:lnTo>
                    <a:pt x="127" y="421"/>
                  </a:lnTo>
                  <a:lnTo>
                    <a:pt x="134" y="421"/>
                  </a:lnTo>
                  <a:lnTo>
                    <a:pt x="143" y="421"/>
                  </a:lnTo>
                  <a:lnTo>
                    <a:pt x="152" y="418"/>
                  </a:lnTo>
                  <a:lnTo>
                    <a:pt x="161" y="416"/>
                  </a:lnTo>
                  <a:lnTo>
                    <a:pt x="170" y="413"/>
                  </a:lnTo>
                  <a:lnTo>
                    <a:pt x="179" y="408"/>
                  </a:lnTo>
                  <a:lnTo>
                    <a:pt x="187" y="405"/>
                  </a:lnTo>
                  <a:lnTo>
                    <a:pt x="196" y="398"/>
                  </a:lnTo>
                  <a:lnTo>
                    <a:pt x="196" y="337"/>
                  </a:lnTo>
                  <a:lnTo>
                    <a:pt x="188" y="345"/>
                  </a:lnTo>
                  <a:lnTo>
                    <a:pt x="183" y="353"/>
                  </a:lnTo>
                  <a:lnTo>
                    <a:pt x="174" y="361"/>
                  </a:lnTo>
                  <a:lnTo>
                    <a:pt x="163" y="368"/>
                  </a:lnTo>
                  <a:lnTo>
                    <a:pt x="156" y="374"/>
                  </a:lnTo>
                  <a:lnTo>
                    <a:pt x="145" y="377"/>
                  </a:lnTo>
                  <a:lnTo>
                    <a:pt x="134" y="382"/>
                  </a:lnTo>
                  <a:lnTo>
                    <a:pt x="125" y="384"/>
                  </a:lnTo>
                  <a:lnTo>
                    <a:pt x="109" y="382"/>
                  </a:lnTo>
                  <a:lnTo>
                    <a:pt x="93" y="376"/>
                  </a:lnTo>
                  <a:lnTo>
                    <a:pt x="80" y="366"/>
                  </a:lnTo>
                  <a:lnTo>
                    <a:pt x="64" y="355"/>
                  </a:lnTo>
                  <a:lnTo>
                    <a:pt x="55" y="342"/>
                  </a:lnTo>
                  <a:lnTo>
                    <a:pt x="46" y="327"/>
                  </a:lnTo>
                  <a:lnTo>
                    <a:pt x="40" y="310"/>
                  </a:lnTo>
                  <a:lnTo>
                    <a:pt x="38" y="290"/>
                  </a:lnTo>
                  <a:lnTo>
                    <a:pt x="44" y="274"/>
                  </a:lnTo>
                  <a:lnTo>
                    <a:pt x="53" y="258"/>
                  </a:lnTo>
                  <a:lnTo>
                    <a:pt x="65" y="243"/>
                  </a:lnTo>
                  <a:lnTo>
                    <a:pt x="84" y="235"/>
                  </a:lnTo>
                  <a:lnTo>
                    <a:pt x="102" y="226"/>
                  </a:lnTo>
                  <a:lnTo>
                    <a:pt x="125" y="223"/>
                  </a:lnTo>
                  <a:lnTo>
                    <a:pt x="150" y="218"/>
                  </a:lnTo>
                  <a:lnTo>
                    <a:pt x="178" y="219"/>
                  </a:lnTo>
                  <a:lnTo>
                    <a:pt x="178" y="227"/>
                  </a:lnTo>
                  <a:lnTo>
                    <a:pt x="179" y="235"/>
                  </a:lnTo>
                  <a:lnTo>
                    <a:pt x="181" y="242"/>
                  </a:lnTo>
                  <a:lnTo>
                    <a:pt x="183" y="250"/>
                  </a:lnTo>
                  <a:lnTo>
                    <a:pt x="187" y="258"/>
                  </a:lnTo>
                  <a:lnTo>
                    <a:pt x="188" y="266"/>
                  </a:lnTo>
                  <a:lnTo>
                    <a:pt x="190" y="274"/>
                  </a:lnTo>
                  <a:lnTo>
                    <a:pt x="196" y="282"/>
                  </a:lnTo>
                  <a:lnTo>
                    <a:pt x="196" y="145"/>
                  </a:lnTo>
                  <a:lnTo>
                    <a:pt x="107" y="145"/>
                  </a:lnTo>
                  <a:lnTo>
                    <a:pt x="98" y="123"/>
                  </a:lnTo>
                  <a:lnTo>
                    <a:pt x="19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54240" y="4965480"/>
              <a:ext cx="79200" cy="9000"/>
            </a:xfrm>
            <a:custGeom>
              <a:avLst/>
              <a:gdLst/>
              <a:ahLst/>
              <a:rect l="l" t="t" r="r" b="b"/>
              <a:pathLst>
                <a:path w="99" h="12">
                  <a:moveTo>
                    <a:pt x="98" y="0"/>
                  </a:moveTo>
                  <a:lnTo>
                    <a:pt x="98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8" y="0"/>
                  </a:lnTo>
                  <a:lnTo>
                    <a:pt x="99" y="12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99" y="12"/>
                  </a:lnTo>
                  <a:lnTo>
                    <a:pt x="98" y="1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33440" y="4951080"/>
              <a:ext cx="3240" cy="144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1"/>
                  </a:moveTo>
                  <a:lnTo>
                    <a:pt x="4" y="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28760" y="4942080"/>
              <a:ext cx="7920" cy="68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6" y="4"/>
                  </a:moveTo>
                  <a:lnTo>
                    <a:pt x="6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28760" y="4834080"/>
              <a:ext cx="1440" cy="104040"/>
            </a:xfrm>
            <a:custGeom>
              <a:avLst/>
              <a:gdLst/>
              <a:ahLst/>
              <a:rect l="l" t="t" r="r" b="b"/>
              <a:pathLst>
                <a:path w="0" h="114">
                  <a:moveTo>
                    <a:pt x="0" y="3"/>
                  </a:moveTo>
                  <a:lnTo>
                    <a:pt x="0" y="3"/>
                  </a:lnTo>
                  <a:lnTo>
                    <a:pt x="0" y="1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25520" y="4837680"/>
              <a:ext cx="3240" cy="98280"/>
            </a:xfrm>
            <a:custGeom>
              <a:avLst/>
              <a:gdLst/>
              <a:ahLst/>
              <a:rect l="l" t="t" r="r" b="b"/>
              <a:pathLst>
                <a:path w="3" h="110">
                  <a:moveTo>
                    <a:pt x="1" y="110"/>
                  </a:moveTo>
                  <a:lnTo>
                    <a:pt x="0" y="110"/>
                  </a:lnTo>
                  <a:lnTo>
                    <a:pt x="3" y="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1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66760" y="4948920"/>
              <a:ext cx="155520" cy="1800"/>
            </a:xfrm>
            <a:custGeom>
              <a:avLst/>
              <a:gdLst/>
              <a:ahLst/>
              <a:rect l="l" t="t" r="r" b="b"/>
              <a:pathLst>
                <a:path w="195" h="0">
                  <a:moveTo>
                    <a:pt x="0" y="0"/>
                  </a:moveTo>
                  <a:lnTo>
                    <a:pt x="3" y="0"/>
                  </a:lnTo>
                  <a:lnTo>
                    <a:pt x="19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65320" y="4834080"/>
              <a:ext cx="1440" cy="102240"/>
            </a:xfrm>
            <a:custGeom>
              <a:avLst/>
              <a:gdLst/>
              <a:ahLst/>
              <a:rect l="l" t="t" r="r" b="b"/>
              <a:pathLst>
                <a:path w="2" h="113">
                  <a:moveTo>
                    <a:pt x="0" y="3"/>
                  </a:moveTo>
                  <a:lnTo>
                    <a:pt x="0" y="3"/>
                  </a:lnTo>
                  <a:lnTo>
                    <a:pt x="2" y="11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63520" y="4837680"/>
              <a:ext cx="1800" cy="100440"/>
            </a:xfrm>
            <a:custGeom>
              <a:avLst/>
              <a:gdLst/>
              <a:ahLst/>
              <a:rect l="l" t="t" r="r" b="b"/>
              <a:pathLst>
                <a:path w="2" h="111">
                  <a:moveTo>
                    <a:pt x="0" y="111"/>
                  </a:moveTo>
                  <a:lnTo>
                    <a:pt x="0" y="111"/>
                  </a:lnTo>
                  <a:lnTo>
                    <a:pt x="2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55600" y="4942080"/>
              <a:ext cx="7920" cy="9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0" y="0"/>
                  </a:lnTo>
                  <a:lnTo>
                    <a:pt x="6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55600" y="4952880"/>
              <a:ext cx="3240" cy="1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4" y="13"/>
                  </a:lnTo>
                  <a:lnTo>
                    <a:pt x="0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60280" y="4965480"/>
              <a:ext cx="6840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12"/>
                  </a:moveTo>
                  <a:lnTo>
                    <a:pt x="8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5" y="12"/>
                  </a:lnTo>
                  <a:lnTo>
                    <a:pt x="86" y="0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28680" y="4974840"/>
              <a:ext cx="6480" cy="216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4" y="22"/>
                  </a:lnTo>
                  <a:lnTo>
                    <a:pt x="4" y="16"/>
                  </a:lnTo>
                  <a:lnTo>
                    <a:pt x="2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47680" y="5004000"/>
              <a:ext cx="76320" cy="10440"/>
            </a:xfrm>
            <a:custGeom>
              <a:avLst/>
              <a:gdLst/>
              <a:ahLst/>
              <a:rect l="l" t="t" r="r" b="b"/>
              <a:pathLst>
                <a:path w="96" h="11">
                  <a:moveTo>
                    <a:pt x="0" y="11"/>
                  </a:move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5" y="3"/>
                  </a:lnTo>
                  <a:lnTo>
                    <a:pt x="46" y="3"/>
                  </a:lnTo>
                  <a:lnTo>
                    <a:pt x="58" y="1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6" y="1"/>
                  </a:lnTo>
                  <a:lnTo>
                    <a:pt x="96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8" y="0"/>
                  </a:lnTo>
                  <a:lnTo>
                    <a:pt x="46" y="1"/>
                  </a:lnTo>
                  <a:lnTo>
                    <a:pt x="33" y="3"/>
                  </a:lnTo>
                  <a:lnTo>
                    <a:pt x="20" y="5"/>
                  </a:lnTo>
                  <a:lnTo>
                    <a:pt x="11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87560" y="5014800"/>
              <a:ext cx="47520" cy="11160"/>
            </a:xfrm>
            <a:custGeom>
              <a:avLst/>
              <a:gdLst/>
              <a:ahLst/>
              <a:rect l="l" t="t" r="r" b="b"/>
              <a:pathLst>
                <a:path w="62" h="11">
                  <a:moveTo>
                    <a:pt x="2" y="11"/>
                  </a:moveTo>
                  <a:lnTo>
                    <a:pt x="2" y="0"/>
                  </a:lnTo>
                  <a:lnTo>
                    <a:pt x="62" y="0"/>
                  </a:lnTo>
                  <a:lnTo>
                    <a:pt x="62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89000" y="5025960"/>
              <a:ext cx="144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03400" y="5031360"/>
              <a:ext cx="9360" cy="104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11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4320" y="5042160"/>
              <a:ext cx="100080" cy="17892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25" y="194"/>
                  </a:moveTo>
                  <a:lnTo>
                    <a:pt x="125" y="194"/>
                  </a:lnTo>
                  <a:lnTo>
                    <a:pt x="83" y="185"/>
                  </a:lnTo>
                  <a:lnTo>
                    <a:pt x="50" y="168"/>
                  </a:lnTo>
                  <a:lnTo>
                    <a:pt x="25" y="144"/>
                  </a:lnTo>
                  <a:lnTo>
                    <a:pt x="11" y="115"/>
                  </a:lnTo>
                  <a:lnTo>
                    <a:pt x="3" y="86"/>
                  </a:lnTo>
                  <a:lnTo>
                    <a:pt x="7" y="53"/>
                  </a:lnTo>
                  <a:lnTo>
                    <a:pt x="21" y="24"/>
                  </a:lnTo>
                  <a:lnTo>
                    <a:pt x="41" y="0"/>
                  </a:lnTo>
                  <a:lnTo>
                    <a:pt x="20" y="23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7" y="115"/>
                  </a:lnTo>
                  <a:lnTo>
                    <a:pt x="23" y="145"/>
                  </a:lnTo>
                  <a:lnTo>
                    <a:pt x="49" y="169"/>
                  </a:lnTo>
                  <a:lnTo>
                    <a:pt x="83" y="189"/>
                  </a:lnTo>
                  <a:lnTo>
                    <a:pt x="125" y="197"/>
                  </a:lnTo>
                  <a:lnTo>
                    <a:pt x="126" y="197"/>
                  </a:lnTo>
                  <a:lnTo>
                    <a:pt x="12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93760" y="5053320"/>
              <a:ext cx="88920" cy="167760"/>
            </a:xfrm>
            <a:custGeom>
              <a:avLst/>
              <a:gdLst/>
              <a:ahLst/>
              <a:rect l="l" t="t" r="r" b="b"/>
              <a:pathLst>
                <a:path w="110" h="184">
                  <a:moveTo>
                    <a:pt x="90" y="0"/>
                  </a:moveTo>
                  <a:lnTo>
                    <a:pt x="87" y="0"/>
                  </a:lnTo>
                  <a:lnTo>
                    <a:pt x="103" y="39"/>
                  </a:lnTo>
                  <a:lnTo>
                    <a:pt x="109" y="74"/>
                  </a:lnTo>
                  <a:lnTo>
                    <a:pt x="103" y="105"/>
                  </a:lnTo>
                  <a:lnTo>
                    <a:pt x="90" y="134"/>
                  </a:lnTo>
                  <a:lnTo>
                    <a:pt x="71" y="155"/>
                  </a:lnTo>
                  <a:lnTo>
                    <a:pt x="49" y="172"/>
                  </a:lnTo>
                  <a:lnTo>
                    <a:pt x="23" y="179"/>
                  </a:lnTo>
                  <a:lnTo>
                    <a:pt x="0" y="181"/>
                  </a:lnTo>
                  <a:lnTo>
                    <a:pt x="0" y="184"/>
                  </a:lnTo>
                  <a:lnTo>
                    <a:pt x="25" y="181"/>
                  </a:lnTo>
                  <a:lnTo>
                    <a:pt x="49" y="172"/>
                  </a:lnTo>
                  <a:lnTo>
                    <a:pt x="74" y="156"/>
                  </a:lnTo>
                  <a:lnTo>
                    <a:pt x="90" y="134"/>
                  </a:lnTo>
                  <a:lnTo>
                    <a:pt x="103" y="108"/>
                  </a:lnTo>
                  <a:lnTo>
                    <a:pt x="110" y="74"/>
                  </a:lnTo>
                  <a:lnTo>
                    <a:pt x="103" y="39"/>
                  </a:lnTo>
                  <a:lnTo>
                    <a:pt x="90" y="0"/>
                  </a:lnTo>
                  <a:lnTo>
                    <a:pt x="87" y="2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71520" y="5053320"/>
              <a:ext cx="88920" cy="1440"/>
            </a:xfrm>
            <a:custGeom>
              <a:avLst/>
              <a:gdLst/>
              <a:ahLst/>
              <a:rect l="l" t="t" r="r" b="b"/>
              <a:pathLst>
                <a:path w="110" h="2">
                  <a:moveTo>
                    <a:pt x="108" y="2"/>
                  </a:moveTo>
                  <a:lnTo>
                    <a:pt x="110" y="2"/>
                  </a:lnTo>
                  <a:lnTo>
                    <a:pt x="97" y="2"/>
                  </a:lnTo>
                  <a:lnTo>
                    <a:pt x="83" y="2"/>
                  </a:lnTo>
                  <a:lnTo>
                    <a:pt x="67" y="2"/>
                  </a:lnTo>
                  <a:lnTo>
                    <a:pt x="54" y="2"/>
                  </a:lnTo>
                  <a:lnTo>
                    <a:pt x="39" y="2"/>
                  </a:lnTo>
                  <a:lnTo>
                    <a:pt x="25" y="2"/>
                  </a:lnTo>
                  <a:lnTo>
                    <a:pt x="1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5" y="2"/>
                  </a:lnTo>
                  <a:lnTo>
                    <a:pt x="39" y="2"/>
                  </a:lnTo>
                  <a:lnTo>
                    <a:pt x="54" y="2"/>
                  </a:lnTo>
                  <a:lnTo>
                    <a:pt x="67" y="2"/>
                  </a:lnTo>
                  <a:lnTo>
                    <a:pt x="83" y="2"/>
                  </a:lnTo>
                  <a:lnTo>
                    <a:pt x="97" y="2"/>
                  </a:lnTo>
                  <a:lnTo>
                    <a:pt x="110" y="2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69800" y="5040720"/>
              <a:ext cx="22320" cy="104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7" y="0"/>
                  </a:moveTo>
                  <a:lnTo>
                    <a:pt x="27" y="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01840" y="5029560"/>
              <a:ext cx="498240" cy="11160"/>
            </a:xfrm>
            <a:custGeom>
              <a:avLst/>
              <a:gdLst/>
              <a:ahLst/>
              <a:rect l="l" t="t" r="r" b="b"/>
              <a:pathLst>
                <a:path w="628" h="12">
                  <a:moveTo>
                    <a:pt x="625" y="0"/>
                  </a:moveTo>
                  <a:lnTo>
                    <a:pt x="625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25" y="0"/>
                  </a:lnTo>
                  <a:lnTo>
                    <a:pt x="628" y="0"/>
                  </a:lnTo>
                  <a:lnTo>
                    <a:pt x="625" y="0"/>
                  </a:lnTo>
                  <a:lnTo>
                    <a:pt x="628" y="0"/>
                  </a:lnTo>
                  <a:lnTo>
                    <a:pt x="625" y="12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8000" y="5025960"/>
              <a:ext cx="1800" cy="32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99960" y="5014800"/>
              <a:ext cx="609840" cy="11160"/>
            </a:xfrm>
            <a:custGeom>
              <a:avLst/>
              <a:gdLst/>
              <a:ahLst/>
              <a:rect l="l" t="t" r="r" b="b"/>
              <a:pathLst>
                <a:path w="767" h="11">
                  <a:moveTo>
                    <a:pt x="0" y="0"/>
                  </a:moveTo>
                  <a:lnTo>
                    <a:pt x="0" y="0"/>
                  </a:lnTo>
                  <a:lnTo>
                    <a:pt x="767" y="0"/>
                  </a:lnTo>
                  <a:lnTo>
                    <a:pt x="76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0080" y="5013360"/>
              <a:ext cx="1908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25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983840"/>
              <a:ext cx="9360" cy="18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2"/>
                  </a:moveTo>
                  <a:lnTo>
                    <a:pt x="11" y="2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51000" y="4974840"/>
              <a:ext cx="4680" cy="9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1" y="9"/>
                  </a:ln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44520" y="4974840"/>
              <a:ext cx="6480" cy="144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2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25520" y="4951080"/>
              <a:ext cx="1440" cy="104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66760" y="4942080"/>
              <a:ext cx="155520" cy="9000"/>
            </a:xfrm>
            <a:custGeom>
              <a:avLst/>
              <a:gdLst/>
              <a:ahLst/>
              <a:rect l="l" t="t" r="r" b="b"/>
              <a:pathLst>
                <a:path w="195" h="11">
                  <a:moveTo>
                    <a:pt x="3" y="11"/>
                  </a:moveTo>
                  <a:lnTo>
                    <a:pt x="3" y="0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66760" y="4951080"/>
              <a:ext cx="1440" cy="104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77920" y="4961880"/>
              <a:ext cx="138240" cy="11160"/>
            </a:xfrm>
            <a:custGeom>
              <a:avLst/>
              <a:gdLst/>
              <a:ahLst/>
              <a:rect l="l" t="t" r="r" b="b"/>
              <a:pathLst>
                <a:path w="176" h="11">
                  <a:moveTo>
                    <a:pt x="172" y="11"/>
                  </a:moveTo>
                  <a:lnTo>
                    <a:pt x="17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76" y="0"/>
                  </a:lnTo>
                  <a:lnTo>
                    <a:pt x="176" y="11"/>
                  </a:lnTo>
                  <a:lnTo>
                    <a:pt x="17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4881600"/>
              <a:ext cx="9360" cy="16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13" y="2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4870800"/>
              <a:ext cx="395280" cy="10440"/>
            </a:xfrm>
            <a:custGeom>
              <a:avLst/>
              <a:gdLst/>
              <a:ahLst/>
              <a:rect l="l" t="t" r="r" b="b"/>
              <a:pathLst>
                <a:path w="498" h="11">
                  <a:moveTo>
                    <a:pt x="498" y="11"/>
                  </a:moveTo>
                  <a:lnTo>
                    <a:pt x="49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498" y="11"/>
                  </a:lnTo>
                  <a:lnTo>
                    <a:pt x="496" y="11"/>
                  </a:lnTo>
                  <a:lnTo>
                    <a:pt x="4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98560" y="4881600"/>
              <a:ext cx="1440" cy="1800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21"/>
                  </a:moveTo>
                  <a:lnTo>
                    <a:pt x="1" y="2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2120" y="4899600"/>
              <a:ext cx="405000" cy="9000"/>
            </a:xfrm>
            <a:custGeom>
              <a:avLst/>
              <a:gdLst/>
              <a:ahLst/>
              <a:rect l="l" t="t" r="r" b="b"/>
              <a:pathLst>
                <a:path w="510" h="10">
                  <a:moveTo>
                    <a:pt x="0" y="10"/>
                  </a:moveTo>
                  <a:lnTo>
                    <a:pt x="1" y="0"/>
                  </a:lnTo>
                  <a:lnTo>
                    <a:pt x="510" y="0"/>
                  </a:lnTo>
                  <a:lnTo>
                    <a:pt x="510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1480" y="4936320"/>
              <a:ext cx="63720" cy="90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81" y="9"/>
                  </a:moveTo>
                  <a:lnTo>
                    <a:pt x="8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1" y="0"/>
                  </a:lnTo>
                  <a:lnTo>
                    <a:pt x="79" y="9"/>
                  </a:lnTo>
                  <a:lnTo>
                    <a:pt x="81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35200" y="4945320"/>
              <a:ext cx="11160" cy="18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71480" y="4964040"/>
              <a:ext cx="63720" cy="104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11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60320" y="4945320"/>
              <a:ext cx="11160" cy="16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13" y="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79680" y="4936320"/>
              <a:ext cx="64800" cy="90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81" y="9"/>
                  </a:moveTo>
                  <a:lnTo>
                    <a:pt x="79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79" y="0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4480" y="4945320"/>
              <a:ext cx="9720" cy="18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77880" y="4964040"/>
              <a:ext cx="65160" cy="104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11"/>
                  </a:moveTo>
                  <a:lnTo>
                    <a:pt x="2" y="0"/>
                  </a:lnTo>
                  <a:lnTo>
                    <a:pt x="81" y="0"/>
                  </a:lnTo>
                  <a:lnTo>
                    <a:pt x="81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68520" y="4945320"/>
              <a:ext cx="9360" cy="16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13" y="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84280" y="4936320"/>
              <a:ext cx="66600" cy="900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4" y="9"/>
                  </a:moveTo>
                  <a:lnTo>
                    <a:pt x="8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0" y="0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84" y="9"/>
                  </a:lnTo>
                  <a:lnTo>
                    <a:pt x="80" y="9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50880" y="4945320"/>
              <a:ext cx="7920" cy="18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2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82840" y="4964040"/>
              <a:ext cx="64800" cy="104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11"/>
                  </a:moveTo>
                  <a:lnTo>
                    <a:pt x="1" y="0"/>
                  </a:lnTo>
                  <a:lnTo>
                    <a:pt x="81" y="0"/>
                  </a:lnTo>
                  <a:lnTo>
                    <a:pt x="8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73120" y="4945320"/>
              <a:ext cx="9720" cy="16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13" y="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2120" y="4936320"/>
              <a:ext cx="65160" cy="90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81" y="9"/>
                  </a:moveTo>
                  <a:lnTo>
                    <a:pt x="79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7280" y="4945320"/>
              <a:ext cx="9360" cy="18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0680" y="4964040"/>
              <a:ext cx="65160" cy="104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11"/>
                  </a:moveTo>
                  <a:lnTo>
                    <a:pt x="2" y="0"/>
                  </a:lnTo>
                  <a:lnTo>
                    <a:pt x="81" y="0"/>
                  </a:lnTo>
                  <a:lnTo>
                    <a:pt x="81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80960" y="4945320"/>
              <a:ext cx="9720" cy="16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13" y="0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65080" y="4936320"/>
              <a:ext cx="65160" cy="90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9"/>
                  </a:moveTo>
                  <a:lnTo>
                    <a:pt x="83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0" y="9"/>
                  </a:lnTo>
                  <a:lnTo>
                    <a:pt x="83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30240" y="4945320"/>
              <a:ext cx="9720" cy="183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8"/>
                  </a:lnTo>
                  <a:lnTo>
                    <a:pt x="0" y="18"/>
                  </a:lnTo>
                  <a:lnTo>
                    <a:pt x="11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65080" y="4964040"/>
              <a:ext cx="65160" cy="1044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11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55720" y="4945320"/>
              <a:ext cx="9360" cy="165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11" y="0"/>
                  </a:lnTo>
                  <a:lnTo>
                    <a:pt x="11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19240" y="5042160"/>
              <a:ext cx="106200" cy="56520"/>
            </a:xfrm>
            <a:custGeom>
              <a:avLst/>
              <a:gdLst/>
              <a:ahLst/>
              <a:rect l="l" t="t" r="r" b="b"/>
              <a:pathLst>
                <a:path w="134" h="63">
                  <a:moveTo>
                    <a:pt x="2" y="63"/>
                  </a:moveTo>
                  <a:lnTo>
                    <a:pt x="2" y="63"/>
                  </a:lnTo>
                  <a:lnTo>
                    <a:pt x="7" y="48"/>
                  </a:lnTo>
                  <a:lnTo>
                    <a:pt x="14" y="36"/>
                  </a:lnTo>
                  <a:lnTo>
                    <a:pt x="25" y="26"/>
                  </a:lnTo>
                  <a:lnTo>
                    <a:pt x="42" y="15"/>
                  </a:lnTo>
                  <a:lnTo>
                    <a:pt x="61" y="8"/>
                  </a:lnTo>
                  <a:lnTo>
                    <a:pt x="83" y="3"/>
                  </a:lnTo>
                  <a:lnTo>
                    <a:pt x="108" y="2"/>
                  </a:lnTo>
                  <a:lnTo>
                    <a:pt x="134" y="2"/>
                  </a:lnTo>
                  <a:lnTo>
                    <a:pt x="134" y="0"/>
                  </a:lnTo>
                  <a:lnTo>
                    <a:pt x="108" y="0"/>
                  </a:lnTo>
                  <a:lnTo>
                    <a:pt x="83" y="2"/>
                  </a:lnTo>
                  <a:lnTo>
                    <a:pt x="60" y="7"/>
                  </a:lnTo>
                  <a:lnTo>
                    <a:pt x="42" y="13"/>
                  </a:lnTo>
                  <a:lnTo>
                    <a:pt x="25" y="23"/>
                  </a:lnTo>
                  <a:lnTo>
                    <a:pt x="13" y="36"/>
                  </a:lnTo>
                  <a:lnTo>
                    <a:pt x="5" y="48"/>
                  </a:lnTo>
                  <a:lnTo>
                    <a:pt x="0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19240" y="5109840"/>
              <a:ext cx="61920" cy="7704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0"/>
                  </a:moveTo>
                  <a:lnTo>
                    <a:pt x="78" y="80"/>
                  </a:lnTo>
                  <a:lnTo>
                    <a:pt x="63" y="77"/>
                  </a:lnTo>
                  <a:lnTo>
                    <a:pt x="49" y="74"/>
                  </a:lnTo>
                  <a:lnTo>
                    <a:pt x="36" y="66"/>
                  </a:lnTo>
                  <a:lnTo>
                    <a:pt x="23" y="56"/>
                  </a:lnTo>
                  <a:lnTo>
                    <a:pt x="14" y="43"/>
                  </a:lnTo>
                  <a:lnTo>
                    <a:pt x="7" y="32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" y="32"/>
                  </a:lnTo>
                  <a:lnTo>
                    <a:pt x="14" y="47"/>
                  </a:lnTo>
                  <a:lnTo>
                    <a:pt x="23" y="56"/>
                  </a:lnTo>
                  <a:lnTo>
                    <a:pt x="34" y="68"/>
                  </a:lnTo>
                  <a:lnTo>
                    <a:pt x="47" y="76"/>
                  </a:lnTo>
                  <a:lnTo>
                    <a:pt x="63" y="80"/>
                  </a:lnTo>
                  <a:lnTo>
                    <a:pt x="78" y="82"/>
                  </a:lnTo>
                  <a:lnTo>
                    <a:pt x="7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93760" y="5127840"/>
              <a:ext cx="52200" cy="586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5" y="2"/>
                  </a:moveTo>
                  <a:lnTo>
                    <a:pt x="65" y="2"/>
                  </a:lnTo>
                  <a:lnTo>
                    <a:pt x="65" y="11"/>
                  </a:lnTo>
                  <a:lnTo>
                    <a:pt x="60" y="23"/>
                  </a:lnTo>
                  <a:lnTo>
                    <a:pt x="54" y="32"/>
                  </a:lnTo>
                  <a:lnTo>
                    <a:pt x="45" y="42"/>
                  </a:lnTo>
                  <a:lnTo>
                    <a:pt x="35" y="50"/>
                  </a:lnTo>
                  <a:lnTo>
                    <a:pt x="24" y="57"/>
                  </a:lnTo>
                  <a:lnTo>
                    <a:pt x="11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13" y="61"/>
                  </a:lnTo>
                  <a:lnTo>
                    <a:pt x="25" y="57"/>
                  </a:lnTo>
                  <a:lnTo>
                    <a:pt x="36" y="52"/>
                  </a:lnTo>
                  <a:lnTo>
                    <a:pt x="47" y="44"/>
                  </a:lnTo>
                  <a:lnTo>
                    <a:pt x="56" y="32"/>
                  </a:lnTo>
                  <a:lnTo>
                    <a:pt x="63" y="23"/>
                  </a:lnTo>
                  <a:lnTo>
                    <a:pt x="67" y="11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5160" y="5042160"/>
              <a:ext cx="10800" cy="74880"/>
            </a:xfrm>
            <a:custGeom>
              <a:avLst/>
              <a:gdLst/>
              <a:ahLst/>
              <a:rect l="l" t="t" r="r" b="b"/>
              <a:pathLst>
                <a:path w="14" h="84">
                  <a:moveTo>
                    <a:pt x="1" y="2"/>
                  </a:moveTo>
                  <a:lnTo>
                    <a:pt x="0" y="2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5" y="34"/>
                  </a:lnTo>
                  <a:lnTo>
                    <a:pt x="7" y="44"/>
                  </a:lnTo>
                  <a:lnTo>
                    <a:pt x="9" y="52"/>
                  </a:lnTo>
                  <a:lnTo>
                    <a:pt x="12" y="63"/>
                  </a:lnTo>
                  <a:lnTo>
                    <a:pt x="12" y="73"/>
                  </a:lnTo>
                  <a:lnTo>
                    <a:pt x="14" y="84"/>
                  </a:lnTo>
                  <a:lnTo>
                    <a:pt x="14" y="73"/>
                  </a:lnTo>
                  <a:lnTo>
                    <a:pt x="12" y="63"/>
                  </a:lnTo>
                  <a:lnTo>
                    <a:pt x="10" y="52"/>
                  </a:lnTo>
                  <a:lnTo>
                    <a:pt x="9" y="42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3" y="1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000160" y="4968720"/>
            <a:ext cx="291960" cy="234720"/>
            <a:chOff x="2000160" y="4968720"/>
            <a:chExt cx="291960" cy="234720"/>
          </a:xfrm>
        </p:grpSpPr>
        <p:grpSp>
          <p:nvGrpSpPr>
            <p:cNvPr id="705" name=""/>
            <p:cNvGrpSpPr/>
            <p:nvPr/>
          </p:nvGrpSpPr>
          <p:grpSpPr>
            <a:xfrm>
              <a:off x="2138040" y="4968720"/>
              <a:ext cx="7920" cy="4680"/>
              <a:chOff x="2138040" y="4968720"/>
              <a:chExt cx="7920" cy="4680"/>
            </a:xfrm>
          </p:grpSpPr>
          <p:sp>
            <p:nvSpPr>
              <p:cNvPr id="706" name=""/>
              <p:cNvSpPr/>
              <p:nvPr/>
            </p:nvSpPr>
            <p:spPr>
              <a:xfrm>
                <a:off x="2138040" y="496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138040" y="496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138040" y="5161320"/>
              <a:ext cx="3240" cy="4680"/>
              <a:chOff x="2138040" y="5161320"/>
              <a:chExt cx="3240" cy="4680"/>
            </a:xfrm>
          </p:grpSpPr>
          <p:sp>
            <p:nvSpPr>
              <p:cNvPr id="709" name=""/>
              <p:cNvSpPr/>
              <p:nvPr/>
            </p:nvSpPr>
            <p:spPr>
              <a:xfrm>
                <a:off x="2138040" y="5161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5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138040" y="5161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5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2133360" y="5168880"/>
              <a:ext cx="1800" cy="6840"/>
              <a:chOff x="2133360" y="5168880"/>
              <a:chExt cx="1800" cy="6840"/>
            </a:xfrm>
          </p:grpSpPr>
          <p:sp>
            <p:nvSpPr>
              <p:cNvPr id="712" name=""/>
              <p:cNvSpPr/>
              <p:nvPr/>
            </p:nvSpPr>
            <p:spPr>
              <a:xfrm>
                <a:off x="2133360" y="516888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33360" y="516888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122200" y="5179680"/>
              <a:ext cx="1800" cy="5400"/>
              <a:chOff x="2122200" y="5179680"/>
              <a:chExt cx="1800" cy="5400"/>
            </a:xfrm>
          </p:grpSpPr>
          <p:sp>
            <p:nvSpPr>
              <p:cNvPr id="715" name=""/>
              <p:cNvSpPr/>
              <p:nvPr/>
            </p:nvSpPr>
            <p:spPr>
              <a:xfrm>
                <a:off x="2122200" y="517968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22200" y="517968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111040" y="5186880"/>
              <a:ext cx="1800" cy="4680"/>
              <a:chOff x="2111040" y="5186880"/>
              <a:chExt cx="1800" cy="4680"/>
            </a:xfrm>
          </p:grpSpPr>
          <p:sp>
            <p:nvSpPr>
              <p:cNvPr id="718" name=""/>
              <p:cNvSpPr/>
              <p:nvPr/>
            </p:nvSpPr>
            <p:spPr>
              <a:xfrm>
                <a:off x="2111040" y="51868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111040" y="51868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100240" y="5192280"/>
              <a:ext cx="1440" cy="4680"/>
              <a:chOff x="2100240" y="5192280"/>
              <a:chExt cx="1440" cy="4680"/>
            </a:xfrm>
          </p:grpSpPr>
          <p:sp>
            <p:nvSpPr>
              <p:cNvPr id="721" name=""/>
              <p:cNvSpPr/>
              <p:nvPr/>
            </p:nvSpPr>
            <p:spPr>
              <a:xfrm>
                <a:off x="2100240" y="51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0240" y="51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2081160" y="5192280"/>
              <a:ext cx="3240" cy="3240"/>
              <a:chOff x="2081160" y="5192280"/>
              <a:chExt cx="3240" cy="3240"/>
            </a:xfrm>
          </p:grpSpPr>
          <p:sp>
            <p:nvSpPr>
              <p:cNvPr id="724" name=""/>
              <p:cNvSpPr/>
              <p:nvPr/>
            </p:nvSpPr>
            <p:spPr>
              <a:xfrm>
                <a:off x="2081160" y="5192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081160" y="5192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066760" y="5186880"/>
              <a:ext cx="4680" cy="4680"/>
              <a:chOff x="2066760" y="5186880"/>
              <a:chExt cx="4680" cy="4680"/>
            </a:xfrm>
          </p:grpSpPr>
          <p:sp>
            <p:nvSpPr>
              <p:cNvPr id="727" name=""/>
              <p:cNvSpPr/>
              <p:nvPr/>
            </p:nvSpPr>
            <p:spPr>
              <a:xfrm>
                <a:off x="2066760" y="518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66760" y="518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2054160" y="5185440"/>
              <a:ext cx="6120" cy="4680"/>
              <a:chOff x="2054160" y="5185440"/>
              <a:chExt cx="6120" cy="4680"/>
            </a:xfrm>
          </p:grpSpPr>
          <p:sp>
            <p:nvSpPr>
              <p:cNvPr id="730" name=""/>
              <p:cNvSpPr/>
              <p:nvPr/>
            </p:nvSpPr>
            <p:spPr>
              <a:xfrm>
                <a:off x="2054160" y="5185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7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54160" y="5185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7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2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044440" y="5179680"/>
              <a:ext cx="3240" cy="5400"/>
              <a:chOff x="2044440" y="5179680"/>
              <a:chExt cx="3240" cy="5400"/>
            </a:xfrm>
          </p:grpSpPr>
          <p:sp>
            <p:nvSpPr>
              <p:cNvPr id="733" name=""/>
              <p:cNvSpPr/>
              <p:nvPr/>
            </p:nvSpPr>
            <p:spPr>
              <a:xfrm>
                <a:off x="2044440" y="517968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5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44440" y="517968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5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031840" y="5172480"/>
              <a:ext cx="3240" cy="6480"/>
              <a:chOff x="2031840" y="5172480"/>
              <a:chExt cx="3240" cy="6480"/>
            </a:xfrm>
          </p:grpSpPr>
          <p:sp>
            <p:nvSpPr>
              <p:cNvPr id="736" name=""/>
              <p:cNvSpPr/>
              <p:nvPr/>
            </p:nvSpPr>
            <p:spPr>
              <a:xfrm>
                <a:off x="2031840" y="5172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2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31840" y="5172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2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2020680" y="5165280"/>
              <a:ext cx="3240" cy="3240"/>
              <a:chOff x="2020680" y="5165280"/>
              <a:chExt cx="3240" cy="3240"/>
            </a:xfrm>
          </p:grpSpPr>
          <p:sp>
            <p:nvSpPr>
              <p:cNvPr id="739" name=""/>
              <p:cNvSpPr/>
              <p:nvPr/>
            </p:nvSpPr>
            <p:spPr>
              <a:xfrm>
                <a:off x="2020680" y="516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020680" y="516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2014200" y="5154480"/>
              <a:ext cx="1800" cy="2880"/>
              <a:chOff x="2014200" y="5154480"/>
              <a:chExt cx="1800" cy="2880"/>
            </a:xfrm>
          </p:grpSpPr>
          <p:sp>
            <p:nvSpPr>
              <p:cNvPr id="742" name=""/>
              <p:cNvSpPr/>
              <p:nvPr/>
            </p:nvSpPr>
            <p:spPr>
              <a:xfrm>
                <a:off x="2014200" y="5154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014200" y="5154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2006280" y="5141520"/>
              <a:ext cx="3240" cy="3240"/>
              <a:chOff x="2006280" y="5141520"/>
              <a:chExt cx="3240" cy="3240"/>
            </a:xfrm>
          </p:grpSpPr>
          <p:sp>
            <p:nvSpPr>
              <p:cNvPr id="745" name=""/>
              <p:cNvSpPr/>
              <p:nvPr/>
            </p:nvSpPr>
            <p:spPr>
              <a:xfrm>
                <a:off x="2006280" y="5141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006280" y="5141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1" y="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2001600" y="5124960"/>
              <a:ext cx="3240" cy="4680"/>
              <a:chOff x="2001600" y="5124960"/>
              <a:chExt cx="3240" cy="4680"/>
            </a:xfrm>
          </p:grpSpPr>
          <p:sp>
            <p:nvSpPr>
              <p:cNvPr id="748" name=""/>
              <p:cNvSpPr/>
              <p:nvPr/>
            </p:nvSpPr>
            <p:spPr>
              <a:xfrm>
                <a:off x="2001600" y="512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001600" y="512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00160" y="5112360"/>
              <a:ext cx="4680" cy="3240"/>
              <a:chOff x="2000160" y="5112360"/>
              <a:chExt cx="4680" cy="3240"/>
            </a:xfrm>
          </p:grpSpPr>
          <p:sp>
            <p:nvSpPr>
              <p:cNvPr id="751" name=""/>
              <p:cNvSpPr/>
              <p:nvPr/>
            </p:nvSpPr>
            <p:spPr>
              <a:xfrm>
                <a:off x="2000160" y="5112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5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000160" y="5112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5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000160" y="5097960"/>
              <a:ext cx="4680" cy="3240"/>
              <a:chOff x="2000160" y="5097960"/>
              <a:chExt cx="4680" cy="3240"/>
            </a:xfrm>
          </p:grpSpPr>
          <p:sp>
            <p:nvSpPr>
              <p:cNvPr id="754" name=""/>
              <p:cNvSpPr/>
              <p:nvPr/>
            </p:nvSpPr>
            <p:spPr>
              <a:xfrm>
                <a:off x="2000160" y="5097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00160" y="5097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003400" y="5081400"/>
              <a:ext cx="7920" cy="4680"/>
              <a:chOff x="2003400" y="5081400"/>
              <a:chExt cx="7920" cy="4680"/>
            </a:xfrm>
          </p:grpSpPr>
          <p:sp>
            <p:nvSpPr>
              <p:cNvPr id="757" name=""/>
              <p:cNvSpPr/>
              <p:nvPr/>
            </p:nvSpPr>
            <p:spPr>
              <a:xfrm>
                <a:off x="2003400" y="5081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6" y="7"/>
                    </a:moveTo>
                    <a:lnTo>
                      <a:pt x="6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03400" y="5081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6" y="7"/>
                    </a:moveTo>
                    <a:lnTo>
                      <a:pt x="6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6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2009520" y="5068440"/>
              <a:ext cx="9720" cy="6840"/>
              <a:chOff x="2009520" y="5068440"/>
              <a:chExt cx="9720" cy="6840"/>
            </a:xfrm>
          </p:grpSpPr>
          <p:sp>
            <p:nvSpPr>
              <p:cNvPr id="760" name=""/>
              <p:cNvSpPr/>
              <p:nvPr/>
            </p:nvSpPr>
            <p:spPr>
              <a:xfrm>
                <a:off x="2009520" y="506844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6" y="8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009520" y="506844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6" y="8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6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020680" y="5059440"/>
              <a:ext cx="7920" cy="5400"/>
              <a:chOff x="2020680" y="5059440"/>
              <a:chExt cx="7920" cy="5400"/>
            </a:xfrm>
          </p:grpSpPr>
          <p:sp>
            <p:nvSpPr>
              <p:cNvPr id="763" name=""/>
              <p:cNvSpPr/>
              <p:nvPr/>
            </p:nvSpPr>
            <p:spPr>
              <a:xfrm>
                <a:off x="2020680" y="50594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3" y="7"/>
                    </a:moveTo>
                    <a:lnTo>
                      <a:pt x="3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020680" y="50594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3" y="7"/>
                    </a:moveTo>
                    <a:lnTo>
                      <a:pt x="3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3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031840" y="5052240"/>
              <a:ext cx="7920" cy="2880"/>
              <a:chOff x="2031840" y="5052240"/>
              <a:chExt cx="7920" cy="2880"/>
            </a:xfrm>
          </p:grpSpPr>
          <p:sp>
            <p:nvSpPr>
              <p:cNvPr id="766" name=""/>
              <p:cNvSpPr/>
              <p:nvPr/>
            </p:nvSpPr>
            <p:spPr>
              <a:xfrm>
                <a:off x="2031840" y="5052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5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1840" y="5052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5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6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043000" y="5043240"/>
              <a:ext cx="6120" cy="4680"/>
              <a:chOff x="2043000" y="5043240"/>
              <a:chExt cx="6120" cy="4680"/>
            </a:xfrm>
          </p:grpSpPr>
          <p:sp>
            <p:nvSpPr>
              <p:cNvPr id="769" name=""/>
              <p:cNvSpPr/>
              <p:nvPr/>
            </p:nvSpPr>
            <p:spPr>
              <a:xfrm>
                <a:off x="2043000" y="5043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7"/>
                    </a:moveTo>
                    <a:lnTo>
                      <a:pt x="5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043000" y="5043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7"/>
                    </a:moveTo>
                    <a:lnTo>
                      <a:pt x="5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5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2052360" y="5041080"/>
              <a:ext cx="11160" cy="6840"/>
              <a:chOff x="2052360" y="5041080"/>
              <a:chExt cx="11160" cy="6840"/>
            </a:xfrm>
          </p:grpSpPr>
          <p:sp>
            <p:nvSpPr>
              <p:cNvPr id="772" name=""/>
              <p:cNvSpPr/>
              <p:nvPr/>
            </p:nvSpPr>
            <p:spPr>
              <a:xfrm>
                <a:off x="2052360" y="5041080"/>
                <a:ext cx="11160" cy="68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52360" y="5041080"/>
                <a:ext cx="11160" cy="68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0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077920" y="5034240"/>
              <a:ext cx="1440" cy="6480"/>
              <a:chOff x="2077920" y="5034240"/>
              <a:chExt cx="1440" cy="6480"/>
            </a:xfrm>
          </p:grpSpPr>
          <p:sp>
            <p:nvSpPr>
              <p:cNvPr id="775" name=""/>
              <p:cNvSpPr/>
              <p:nvPr/>
            </p:nvSpPr>
            <p:spPr>
              <a:xfrm>
                <a:off x="2077920" y="50342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77920" y="50342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2079360" y="5030640"/>
              <a:ext cx="9720" cy="10080"/>
              <a:chOff x="2079360" y="5030640"/>
              <a:chExt cx="9720" cy="10080"/>
            </a:xfrm>
          </p:grpSpPr>
          <p:sp>
            <p:nvSpPr>
              <p:cNvPr id="778" name=""/>
              <p:cNvSpPr/>
              <p:nvPr/>
            </p:nvSpPr>
            <p:spPr>
              <a:xfrm>
                <a:off x="2079360" y="50306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079360" y="50306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11"/>
                    </a:lnTo>
                    <a:lnTo>
                      <a:pt x="0" y="1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141280" y="4968720"/>
              <a:ext cx="7920" cy="4680"/>
              <a:chOff x="2141280" y="4968720"/>
              <a:chExt cx="7920" cy="4680"/>
            </a:xfrm>
          </p:grpSpPr>
          <p:sp>
            <p:nvSpPr>
              <p:cNvPr id="781" name=""/>
              <p:cNvSpPr/>
              <p:nvPr/>
            </p:nvSpPr>
            <p:spPr>
              <a:xfrm>
                <a:off x="2141280" y="496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141280" y="496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2149200" y="5157720"/>
              <a:ext cx="1800" cy="10440"/>
              <a:chOff x="2149200" y="5157720"/>
              <a:chExt cx="1800" cy="10440"/>
            </a:xfrm>
          </p:grpSpPr>
          <p:sp>
            <p:nvSpPr>
              <p:cNvPr id="784" name=""/>
              <p:cNvSpPr/>
              <p:nvPr/>
            </p:nvSpPr>
            <p:spPr>
              <a:xfrm>
                <a:off x="2149200" y="5157720"/>
                <a:ext cx="1800" cy="104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149200" y="5157720"/>
                <a:ext cx="1800" cy="104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2257200" y="5034240"/>
              <a:ext cx="4680" cy="10080"/>
              <a:chOff x="2257200" y="5034240"/>
              <a:chExt cx="4680" cy="10080"/>
            </a:xfrm>
          </p:grpSpPr>
          <p:sp>
            <p:nvSpPr>
              <p:cNvPr id="787" name=""/>
              <p:cNvSpPr/>
              <p:nvPr/>
            </p:nvSpPr>
            <p:spPr>
              <a:xfrm>
                <a:off x="2257200" y="503424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7200" y="503424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2246040" y="5034240"/>
              <a:ext cx="5040" cy="6480"/>
              <a:chOff x="2246040" y="5034240"/>
              <a:chExt cx="5040" cy="6480"/>
            </a:xfrm>
          </p:grpSpPr>
          <p:sp>
            <p:nvSpPr>
              <p:cNvPr id="790" name=""/>
              <p:cNvSpPr/>
              <p:nvPr/>
            </p:nvSpPr>
            <p:spPr>
              <a:xfrm>
                <a:off x="2246040" y="5034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46040" y="5034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2233440" y="5034240"/>
              <a:ext cx="4680" cy="6480"/>
              <a:chOff x="2233440" y="5034240"/>
              <a:chExt cx="4680" cy="6480"/>
            </a:xfrm>
          </p:grpSpPr>
          <p:sp>
            <p:nvSpPr>
              <p:cNvPr id="793" name=""/>
              <p:cNvSpPr/>
              <p:nvPr/>
            </p:nvSpPr>
            <p:spPr>
              <a:xfrm>
                <a:off x="2233440" y="5034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33440" y="5034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2220840" y="5034240"/>
              <a:ext cx="4680" cy="2880"/>
              <a:chOff x="2220840" y="5034240"/>
              <a:chExt cx="4680" cy="2880"/>
            </a:xfrm>
          </p:grpSpPr>
          <p:sp>
            <p:nvSpPr>
              <p:cNvPr id="796" name=""/>
              <p:cNvSpPr/>
              <p:nvPr/>
            </p:nvSpPr>
            <p:spPr>
              <a:xfrm>
                <a:off x="2220840" y="5034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220840" y="5034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206440" y="5034240"/>
              <a:ext cx="7920" cy="1440"/>
              <a:chOff x="2206440" y="5034240"/>
              <a:chExt cx="7920" cy="1440"/>
            </a:xfrm>
          </p:grpSpPr>
          <p:sp>
            <p:nvSpPr>
              <p:cNvPr id="799" name=""/>
              <p:cNvSpPr/>
              <p:nvPr/>
            </p:nvSpPr>
            <p:spPr>
              <a:xfrm>
                <a:off x="2206440" y="50342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06440" y="50342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195280" y="5030640"/>
              <a:ext cx="7920" cy="1440"/>
              <a:chOff x="2195280" y="5030640"/>
              <a:chExt cx="7920" cy="1440"/>
            </a:xfrm>
          </p:grpSpPr>
          <p:sp>
            <p:nvSpPr>
              <p:cNvPr id="802" name=""/>
              <p:cNvSpPr/>
              <p:nvPr/>
            </p:nvSpPr>
            <p:spPr>
              <a:xfrm>
                <a:off x="2195280" y="50306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95280" y="50306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2182680" y="5026680"/>
              <a:ext cx="4680" cy="1440"/>
              <a:chOff x="2182680" y="5026680"/>
              <a:chExt cx="4680" cy="1440"/>
            </a:xfrm>
          </p:grpSpPr>
          <p:sp>
            <p:nvSpPr>
              <p:cNvPr id="805" name=""/>
              <p:cNvSpPr/>
              <p:nvPr/>
            </p:nvSpPr>
            <p:spPr>
              <a:xfrm>
                <a:off x="2182680" y="50266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182680" y="50266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2149200" y="4979160"/>
              <a:ext cx="1800" cy="8640"/>
              <a:chOff x="2149200" y="4979160"/>
              <a:chExt cx="1800" cy="8640"/>
            </a:xfrm>
          </p:grpSpPr>
          <p:sp>
            <p:nvSpPr>
              <p:cNvPr id="808" name=""/>
              <p:cNvSpPr/>
              <p:nvPr/>
            </p:nvSpPr>
            <p:spPr>
              <a:xfrm>
                <a:off x="2149200" y="497916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49200" y="497916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2151000" y="4992120"/>
              <a:ext cx="1440" cy="8640"/>
              <a:chOff x="2151000" y="4992120"/>
              <a:chExt cx="1440" cy="8640"/>
            </a:xfrm>
          </p:grpSpPr>
          <p:sp>
            <p:nvSpPr>
              <p:cNvPr id="811" name=""/>
              <p:cNvSpPr/>
              <p:nvPr/>
            </p:nvSpPr>
            <p:spPr>
              <a:xfrm>
                <a:off x="2151000" y="4992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51000" y="4992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154240" y="5004720"/>
              <a:ext cx="1440" cy="4680"/>
              <a:chOff x="2154240" y="5004720"/>
              <a:chExt cx="1440" cy="4680"/>
            </a:xfrm>
          </p:grpSpPr>
          <p:sp>
            <p:nvSpPr>
              <p:cNvPr id="814" name=""/>
              <p:cNvSpPr/>
              <p:nvPr/>
            </p:nvSpPr>
            <p:spPr>
              <a:xfrm>
                <a:off x="2154240" y="5004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54240" y="5004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2155680" y="5017680"/>
              <a:ext cx="1440" cy="6840"/>
              <a:chOff x="2155680" y="5017680"/>
              <a:chExt cx="1440" cy="6840"/>
            </a:xfrm>
          </p:grpSpPr>
          <p:sp>
            <p:nvSpPr>
              <p:cNvPr id="817" name=""/>
              <p:cNvSpPr/>
              <p:nvPr/>
            </p:nvSpPr>
            <p:spPr>
              <a:xfrm>
                <a:off x="2155680" y="501768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55680" y="501768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157120" y="5030640"/>
              <a:ext cx="3240" cy="8640"/>
              <a:chOff x="2157120" y="5030640"/>
              <a:chExt cx="3240" cy="8640"/>
            </a:xfrm>
          </p:grpSpPr>
          <p:sp>
            <p:nvSpPr>
              <p:cNvPr id="820" name=""/>
              <p:cNvSpPr/>
              <p:nvPr/>
            </p:nvSpPr>
            <p:spPr>
              <a:xfrm>
                <a:off x="2157120" y="503064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57120" y="503064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1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1" y="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160360" y="5045040"/>
              <a:ext cx="7920" cy="6840"/>
              <a:chOff x="2160360" y="5045040"/>
              <a:chExt cx="7920" cy="6840"/>
            </a:xfrm>
          </p:grpSpPr>
          <p:sp>
            <p:nvSpPr>
              <p:cNvPr id="823" name=""/>
              <p:cNvSpPr/>
              <p:nvPr/>
            </p:nvSpPr>
            <p:spPr>
              <a:xfrm>
                <a:off x="2160360" y="50450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8"/>
                    </a:moveTo>
                    <a:lnTo>
                      <a:pt x="4" y="8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60360" y="50450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8"/>
                    </a:moveTo>
                    <a:lnTo>
                      <a:pt x="4" y="8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6" y="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165040" y="5055840"/>
              <a:ext cx="6480" cy="6840"/>
              <a:chOff x="2165040" y="5055840"/>
              <a:chExt cx="6480" cy="6840"/>
            </a:xfrm>
          </p:grpSpPr>
          <p:sp>
            <p:nvSpPr>
              <p:cNvPr id="826" name=""/>
              <p:cNvSpPr/>
              <p:nvPr/>
            </p:nvSpPr>
            <p:spPr>
              <a:xfrm>
                <a:off x="2165040" y="5055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65040" y="5055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3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45960" y="5137920"/>
              <a:ext cx="9720" cy="4680"/>
              <a:chOff x="2145960" y="5137920"/>
              <a:chExt cx="9720" cy="4680"/>
            </a:xfrm>
          </p:grpSpPr>
          <p:sp>
            <p:nvSpPr>
              <p:cNvPr id="829" name=""/>
              <p:cNvSpPr/>
              <p:nvPr/>
            </p:nvSpPr>
            <p:spPr>
              <a:xfrm>
                <a:off x="2145960" y="51379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145960" y="51379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143080" y="5148720"/>
              <a:ext cx="6120" cy="8640"/>
              <a:chOff x="2143080" y="5148720"/>
              <a:chExt cx="6120" cy="8640"/>
            </a:xfrm>
          </p:grpSpPr>
          <p:sp>
            <p:nvSpPr>
              <p:cNvPr id="832" name=""/>
              <p:cNvSpPr/>
              <p:nvPr/>
            </p:nvSpPr>
            <p:spPr>
              <a:xfrm>
                <a:off x="2143080" y="5148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10"/>
                    </a:moveTo>
                    <a:lnTo>
                      <a:pt x="2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43080" y="5148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10"/>
                    </a:moveTo>
                    <a:lnTo>
                      <a:pt x="2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2" y="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74840" y="5041080"/>
              <a:ext cx="6120" cy="1800"/>
              <a:chOff x="2274840" y="5041080"/>
              <a:chExt cx="6120" cy="1800"/>
            </a:xfrm>
          </p:grpSpPr>
          <p:sp>
            <p:nvSpPr>
              <p:cNvPr id="835" name=""/>
              <p:cNvSpPr/>
              <p:nvPr/>
            </p:nvSpPr>
            <p:spPr>
              <a:xfrm>
                <a:off x="2274840" y="504108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4" y="0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504108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4" y="0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2261880" y="5034240"/>
              <a:ext cx="6480" cy="212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5" y="0"/>
                  </a:moveTo>
                  <a:lnTo>
                    <a:pt x="5" y="0"/>
                  </a:lnTo>
                  <a:lnTo>
                    <a:pt x="5" y="3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51080" y="5034240"/>
              <a:ext cx="7920" cy="198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38120" y="5034240"/>
              <a:ext cx="6480" cy="198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3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25520" y="5034240"/>
              <a:ext cx="6480" cy="144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9" y="8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14360" y="5034240"/>
              <a:ext cx="3240" cy="12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03200" y="5030640"/>
              <a:ext cx="3240" cy="104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87360" y="5026680"/>
              <a:ext cx="6480" cy="104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49200" y="4988520"/>
              <a:ext cx="11160" cy="18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7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151000" y="5001120"/>
              <a:ext cx="11160" cy="18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7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55680" y="5010120"/>
              <a:ext cx="9360" cy="7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7" y="0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57120" y="5025240"/>
              <a:ext cx="11160" cy="5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9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60360" y="5039640"/>
              <a:ext cx="9720" cy="14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6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68280" y="5052240"/>
              <a:ext cx="324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71520" y="5063040"/>
              <a:ext cx="46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55680" y="5143320"/>
              <a:ext cx="1440" cy="50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49200" y="5157720"/>
              <a:ext cx="5040" cy="3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41280" y="5166720"/>
              <a:ext cx="7920" cy="5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35160" y="5176440"/>
              <a:ext cx="9360" cy="5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5" y="0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124000" y="5185440"/>
              <a:ext cx="9360" cy="68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11040" y="5192280"/>
              <a:ext cx="12960" cy="7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01680" y="5197680"/>
              <a:ext cx="9360" cy="57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7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84400" y="5196240"/>
              <a:ext cx="9360" cy="72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71440" y="5192280"/>
              <a:ext cx="7920" cy="7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60280" y="5190840"/>
              <a:ext cx="504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47680" y="5185440"/>
              <a:ext cx="7920" cy="68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9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35080" y="5179680"/>
              <a:ext cx="7920" cy="5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5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23920" y="5168880"/>
              <a:ext cx="9360" cy="72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6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14200" y="5157720"/>
              <a:ext cx="11160" cy="9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7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09520" y="5145480"/>
              <a:ext cx="9720" cy="9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4840" y="5130360"/>
              <a:ext cx="7920" cy="72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04840" y="5115960"/>
              <a:ext cx="6480" cy="72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04840" y="5101560"/>
              <a:ext cx="6480" cy="68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11320" y="5086800"/>
              <a:ext cx="2880" cy="7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19240" y="5076000"/>
              <a:ext cx="1440" cy="3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28600" y="5065200"/>
              <a:ext cx="4680" cy="5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39760" y="5055840"/>
              <a:ext cx="3240" cy="72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49120" y="5048640"/>
              <a:ext cx="5040" cy="68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063520" y="5048640"/>
              <a:ext cx="1800" cy="36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77920" y="5041080"/>
              <a:ext cx="1440" cy="50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89080" y="504108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45960" y="4973760"/>
              <a:ext cx="8280" cy="7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74840" y="504108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6"/>
                  </a:moveTo>
                  <a:lnTo>
                    <a:pt x="11" y="6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7" y="5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8"/>
                  </a:lnTo>
                  <a:lnTo>
                    <a:pt x="7" y="8"/>
                  </a:lnTo>
                  <a:lnTo>
                    <a:pt x="11" y="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295360" y="4710240"/>
            <a:ext cx="382680" cy="175680"/>
            <a:chOff x="2295360" y="4710240"/>
            <a:chExt cx="382680" cy="175680"/>
          </a:xfrm>
        </p:grpSpPr>
        <p:sp>
          <p:nvSpPr>
            <p:cNvPr id="880" name=""/>
            <p:cNvSpPr/>
            <p:nvPr/>
          </p:nvSpPr>
          <p:spPr>
            <a:xfrm>
              <a:off x="2301840" y="4717080"/>
              <a:ext cx="369720" cy="163440"/>
            </a:xfrm>
            <a:custGeom>
              <a:avLst/>
              <a:gdLst/>
              <a:ahLst/>
              <a:rect l="l" t="t" r="r" b="b"/>
              <a:pathLst>
                <a:path w="467" h="178">
                  <a:moveTo>
                    <a:pt x="0" y="178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7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95360" y="4713480"/>
              <a:ext cx="3240" cy="167040"/>
            </a:xfrm>
            <a:custGeom>
              <a:avLst/>
              <a:gdLst/>
              <a:ahLst/>
              <a:rect l="l" t="t" r="r" b="b"/>
              <a:pathLst>
                <a:path w="4" h="183">
                  <a:moveTo>
                    <a:pt x="2" y="0"/>
                  </a:moveTo>
                  <a:lnTo>
                    <a:pt x="4" y="5"/>
                  </a:lnTo>
                  <a:lnTo>
                    <a:pt x="4" y="183"/>
                  </a:lnTo>
                  <a:lnTo>
                    <a:pt x="0" y="183"/>
                  </a:lnTo>
                  <a:lnTo>
                    <a:pt x="0" y="5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01840" y="4710240"/>
              <a:ext cx="372960" cy="3240"/>
            </a:xfrm>
            <a:custGeom>
              <a:avLst/>
              <a:gdLst/>
              <a:ahLst/>
              <a:rect l="l" t="t" r="r" b="b"/>
              <a:pathLst>
                <a:path w="471" h="3">
                  <a:moveTo>
                    <a:pt x="471" y="1"/>
                  </a:moveTo>
                  <a:lnTo>
                    <a:pt x="46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465" y="0"/>
                  </a:lnTo>
                  <a:lnTo>
                    <a:pt x="460" y="1"/>
                  </a:lnTo>
                  <a:lnTo>
                    <a:pt x="465" y="0"/>
                  </a:lnTo>
                  <a:lnTo>
                    <a:pt x="469" y="0"/>
                  </a:lnTo>
                  <a:lnTo>
                    <a:pt x="471" y="1"/>
                  </a:lnTo>
                  <a:lnTo>
                    <a:pt x="469" y="3"/>
                  </a:lnTo>
                  <a:lnTo>
                    <a:pt x="465" y="3"/>
                  </a:lnTo>
                  <a:lnTo>
                    <a:pt x="471" y="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674800" y="4717080"/>
              <a:ext cx="3240" cy="167040"/>
            </a:xfrm>
            <a:custGeom>
              <a:avLst/>
              <a:gdLst/>
              <a:ahLst/>
              <a:rect l="l" t="t" r="r" b="b"/>
              <a:pathLst>
                <a:path w="3" h="183">
                  <a:moveTo>
                    <a:pt x="2" y="183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78"/>
                  </a:lnTo>
                  <a:lnTo>
                    <a:pt x="2" y="172"/>
                  </a:lnTo>
                  <a:lnTo>
                    <a:pt x="3" y="178"/>
                  </a:lnTo>
                  <a:lnTo>
                    <a:pt x="3" y="183"/>
                  </a:lnTo>
                  <a:lnTo>
                    <a:pt x="2" y="183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98600" y="4884480"/>
              <a:ext cx="372960" cy="1440"/>
            </a:xfrm>
            <a:custGeom>
              <a:avLst/>
              <a:gdLst/>
              <a:ahLst/>
              <a:rect l="l" t="t" r="r" b="b"/>
              <a:pathLst>
                <a:path w="470" h="2">
                  <a:moveTo>
                    <a:pt x="0" y="0"/>
                  </a:moveTo>
                  <a:lnTo>
                    <a:pt x="3" y="0"/>
                  </a:lnTo>
                  <a:lnTo>
                    <a:pt x="470" y="0"/>
                  </a:lnTo>
                  <a:lnTo>
                    <a:pt x="470" y="2"/>
                  </a:lnTo>
                  <a:lnTo>
                    <a:pt x="3" y="2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63560" y="3263760"/>
            <a:ext cx="1147680" cy="1078200"/>
            <a:chOff x="1663560" y="3263760"/>
            <a:chExt cx="1147680" cy="1078200"/>
          </a:xfrm>
        </p:grpSpPr>
        <p:sp>
          <p:nvSpPr>
            <p:cNvPr id="886" name=""/>
            <p:cNvSpPr/>
            <p:nvPr/>
          </p:nvSpPr>
          <p:spPr>
            <a:xfrm>
              <a:off x="1758960" y="326376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1663560" y="3389400"/>
              <a:ext cx="1147680" cy="952560"/>
              <a:chOff x="1663560" y="3389400"/>
              <a:chExt cx="1147680" cy="952560"/>
            </a:xfrm>
          </p:grpSpPr>
          <p:sp>
            <p:nvSpPr>
              <p:cNvPr id="888" name=""/>
              <p:cNvSpPr/>
              <p:nvPr/>
            </p:nvSpPr>
            <p:spPr>
              <a:xfrm>
                <a:off x="1663560" y="3875760"/>
                <a:ext cx="795240" cy="52920"/>
              </a:xfrm>
              <a:custGeom>
                <a:avLst/>
                <a:gdLst/>
                <a:ahLst/>
                <a:rect l="l" t="t" r="r" b="b"/>
                <a:pathLst>
                  <a:path w="501" h="29">
                    <a:moveTo>
                      <a:pt x="501" y="25"/>
                    </a:moveTo>
                    <a:lnTo>
                      <a:pt x="34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01" y="25"/>
                    </a:lnTo>
                    <a:close/>
                  </a:path>
                </a:pathLst>
              </a:custGeom>
              <a:solidFill>
                <a:srgbClr val="f3f3ee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749240" y="3875760"/>
                <a:ext cx="633600" cy="43560"/>
              </a:xfrm>
              <a:custGeom>
                <a:avLst/>
                <a:gdLst/>
                <a:ahLst/>
                <a:rect l="l" t="t" r="r" b="b"/>
                <a:pathLst>
                  <a:path w="399" h="24">
                    <a:moveTo>
                      <a:pt x="284" y="0"/>
                    </a:moveTo>
                    <a:lnTo>
                      <a:pt x="381" y="17"/>
                    </a:lnTo>
                    <a:lnTo>
                      <a:pt x="387" y="18"/>
                    </a:lnTo>
                    <a:lnTo>
                      <a:pt x="396" y="20"/>
                    </a:lnTo>
                    <a:lnTo>
                      <a:pt x="399" y="24"/>
                    </a:lnTo>
                    <a:lnTo>
                      <a:pt x="387" y="24"/>
                    </a:lnTo>
                    <a:lnTo>
                      <a:pt x="379" y="24"/>
                    </a:lnTo>
                    <a:lnTo>
                      <a:pt x="366" y="24"/>
                    </a:lnTo>
                    <a:lnTo>
                      <a:pt x="350" y="24"/>
                    </a:lnTo>
                    <a:lnTo>
                      <a:pt x="330" y="24"/>
                    </a:lnTo>
                    <a:lnTo>
                      <a:pt x="309" y="24"/>
                    </a:lnTo>
                    <a:lnTo>
                      <a:pt x="284" y="24"/>
                    </a:lnTo>
                    <a:lnTo>
                      <a:pt x="257" y="24"/>
                    </a:lnTo>
                    <a:lnTo>
                      <a:pt x="232" y="24"/>
                    </a:lnTo>
                    <a:lnTo>
                      <a:pt x="205" y="24"/>
                    </a:lnTo>
                    <a:lnTo>
                      <a:pt x="179" y="24"/>
                    </a:lnTo>
                    <a:lnTo>
                      <a:pt x="156" y="24"/>
                    </a:lnTo>
                    <a:lnTo>
                      <a:pt x="136" y="24"/>
                    </a:lnTo>
                    <a:lnTo>
                      <a:pt x="119" y="24"/>
                    </a:lnTo>
                    <a:lnTo>
                      <a:pt x="105" y="24"/>
                    </a:lnTo>
                    <a:lnTo>
                      <a:pt x="96" y="24"/>
                    </a:lnTo>
                    <a:lnTo>
                      <a:pt x="93" y="24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5" y="23"/>
                    </a:lnTo>
                    <a:lnTo>
                      <a:pt x="80" y="21"/>
                    </a:lnTo>
                    <a:lnTo>
                      <a:pt x="73" y="20"/>
                    </a:lnTo>
                    <a:lnTo>
                      <a:pt x="66" y="19"/>
                    </a:lnTo>
                    <a:lnTo>
                      <a:pt x="59" y="18"/>
                    </a:lnTo>
                    <a:lnTo>
                      <a:pt x="53" y="15"/>
                    </a:lnTo>
                    <a:lnTo>
                      <a:pt x="47" y="14"/>
                    </a:lnTo>
                    <a:lnTo>
                      <a:pt x="41" y="13"/>
                    </a:lnTo>
                    <a:lnTo>
                      <a:pt x="34" y="12"/>
                    </a:lnTo>
                    <a:lnTo>
                      <a:pt x="26" y="9"/>
                    </a:lnTo>
                    <a:lnTo>
                      <a:pt x="18" y="8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3" y="0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79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44" y="0"/>
                    </a:lnTo>
                    <a:lnTo>
                      <a:pt x="260" y="0"/>
                    </a:lnTo>
                    <a:lnTo>
                      <a:pt x="274" y="0"/>
                    </a:lnTo>
                    <a:lnTo>
                      <a:pt x="282" y="0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f3f3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1761840" y="3875760"/>
                <a:ext cx="608040" cy="43200"/>
                <a:chOff x="1761840" y="3875760"/>
                <a:chExt cx="608040" cy="432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761840" y="3875760"/>
                  <a:ext cx="608040" cy="43200"/>
                </a:xfrm>
                <a:custGeom>
                  <a:avLst/>
                  <a:gdLst/>
                  <a:ahLst/>
                  <a:rect l="l" t="t" r="r" b="b"/>
                  <a:pathLst>
                    <a:path w="383" h="24">
                      <a:moveTo>
                        <a:pt x="367" y="17"/>
                      </a:moveTo>
                      <a:lnTo>
                        <a:pt x="371" y="18"/>
                      </a:lnTo>
                      <a:lnTo>
                        <a:pt x="380" y="20"/>
                      </a:lnTo>
                      <a:lnTo>
                        <a:pt x="383" y="23"/>
                      </a:lnTo>
                      <a:lnTo>
                        <a:pt x="369" y="24"/>
                      </a:lnTo>
                      <a:lnTo>
                        <a:pt x="362" y="24"/>
                      </a:lnTo>
                      <a:lnTo>
                        <a:pt x="350" y="24"/>
                      </a:lnTo>
                      <a:lnTo>
                        <a:pt x="334" y="24"/>
                      </a:lnTo>
                      <a:lnTo>
                        <a:pt x="315" y="24"/>
                      </a:lnTo>
                      <a:lnTo>
                        <a:pt x="295" y="24"/>
                      </a:lnTo>
                      <a:lnTo>
                        <a:pt x="272" y="24"/>
                      </a:lnTo>
                      <a:lnTo>
                        <a:pt x="247" y="24"/>
                      </a:lnTo>
                      <a:lnTo>
                        <a:pt x="222" y="24"/>
                      </a:lnTo>
                      <a:lnTo>
                        <a:pt x="197" y="24"/>
                      </a:lnTo>
                      <a:lnTo>
                        <a:pt x="173" y="24"/>
                      </a:lnTo>
                      <a:lnTo>
                        <a:pt x="151" y="24"/>
                      </a:lnTo>
                      <a:lnTo>
                        <a:pt x="131" y="24"/>
                      </a:lnTo>
                      <a:lnTo>
                        <a:pt x="115" y="24"/>
                      </a:lnTo>
                      <a:lnTo>
                        <a:pt x="101" y="24"/>
                      </a:lnTo>
                      <a:lnTo>
                        <a:pt x="93" y="24"/>
                      </a:lnTo>
                      <a:lnTo>
                        <a:pt x="90" y="24"/>
                      </a:lnTo>
                      <a:lnTo>
                        <a:pt x="86" y="23"/>
                      </a:lnTo>
                      <a:lnTo>
                        <a:pt x="77" y="21"/>
                      </a:lnTo>
                      <a:lnTo>
                        <a:pt x="63" y="19"/>
                      </a:lnTo>
                      <a:lnTo>
                        <a:pt x="51" y="15"/>
                      </a:lnTo>
                      <a:lnTo>
                        <a:pt x="46" y="14"/>
                      </a:lnTo>
                      <a:lnTo>
                        <a:pt x="39" y="13"/>
                      </a:lnTo>
                      <a:lnTo>
                        <a:pt x="33" y="11"/>
                      </a:lnTo>
                      <a:lnTo>
                        <a:pt x="24" y="9"/>
                      </a:lnTo>
                      <a:lnTo>
                        <a:pt x="18" y="7"/>
                      </a:lnTo>
                      <a:lnTo>
                        <a:pt x="11" y="6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7" y="1"/>
                      </a:lnTo>
                      <a:lnTo>
                        <a:pt x="42" y="1"/>
                      </a:lnTo>
                      <a:lnTo>
                        <a:pt x="58" y="1"/>
                      </a:lnTo>
                      <a:lnTo>
                        <a:pt x="78" y="1"/>
                      </a:lnTo>
                      <a:lnTo>
                        <a:pt x="100" y="0"/>
                      </a:lnTo>
                      <a:lnTo>
                        <a:pt x="124" y="0"/>
                      </a:lnTo>
                      <a:lnTo>
                        <a:pt x="147" y="0"/>
                      </a:lnTo>
                      <a:lnTo>
                        <a:pt x="171" y="0"/>
                      </a:lnTo>
                      <a:lnTo>
                        <a:pt x="193" y="0"/>
                      </a:lnTo>
                      <a:lnTo>
                        <a:pt x="214" y="0"/>
                      </a:lnTo>
                      <a:lnTo>
                        <a:pt x="233" y="0"/>
                      </a:lnTo>
                      <a:lnTo>
                        <a:pt x="249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72" y="0"/>
                      </a:lnTo>
                      <a:lnTo>
                        <a:pt x="367" y="17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773000" y="3875760"/>
                  <a:ext cx="581040" cy="41760"/>
                </a:xfrm>
                <a:custGeom>
                  <a:avLst/>
                  <a:gdLst/>
                  <a:ahLst/>
                  <a:rect l="l" t="t" r="r" b="b"/>
                  <a:pathLst>
                    <a:path w="366" h="23">
                      <a:moveTo>
                        <a:pt x="351" y="15"/>
                      </a:moveTo>
                      <a:lnTo>
                        <a:pt x="357" y="17"/>
                      </a:lnTo>
                      <a:lnTo>
                        <a:pt x="365" y="19"/>
                      </a:lnTo>
                      <a:lnTo>
                        <a:pt x="366" y="23"/>
                      </a:lnTo>
                      <a:lnTo>
                        <a:pt x="353" y="23"/>
                      </a:lnTo>
                      <a:lnTo>
                        <a:pt x="346" y="23"/>
                      </a:lnTo>
                      <a:lnTo>
                        <a:pt x="335" y="23"/>
                      </a:lnTo>
                      <a:lnTo>
                        <a:pt x="320" y="23"/>
                      </a:lnTo>
                      <a:lnTo>
                        <a:pt x="302" y="23"/>
                      </a:lnTo>
                      <a:lnTo>
                        <a:pt x="283" y="23"/>
                      </a:lnTo>
                      <a:lnTo>
                        <a:pt x="261" y="23"/>
                      </a:lnTo>
                      <a:lnTo>
                        <a:pt x="237" y="23"/>
                      </a:lnTo>
                      <a:lnTo>
                        <a:pt x="213" y="23"/>
                      </a:lnTo>
                      <a:lnTo>
                        <a:pt x="190" y="23"/>
                      </a:lnTo>
                      <a:lnTo>
                        <a:pt x="167" y="23"/>
                      </a:lnTo>
                      <a:lnTo>
                        <a:pt x="147" y="23"/>
                      </a:lnTo>
                      <a:lnTo>
                        <a:pt x="128" y="23"/>
                      </a:lnTo>
                      <a:lnTo>
                        <a:pt x="112" y="23"/>
                      </a:lnTo>
                      <a:lnTo>
                        <a:pt x="100" y="23"/>
                      </a:lnTo>
                      <a:lnTo>
                        <a:pt x="92" y="23"/>
                      </a:lnTo>
                      <a:lnTo>
                        <a:pt x="89" y="23"/>
                      </a:lnTo>
                      <a:lnTo>
                        <a:pt x="85" y="23"/>
                      </a:lnTo>
                      <a:lnTo>
                        <a:pt x="75" y="21"/>
                      </a:lnTo>
                      <a:lnTo>
                        <a:pt x="63" y="18"/>
                      </a:lnTo>
                      <a:lnTo>
                        <a:pt x="51" y="15"/>
                      </a:lnTo>
                      <a:lnTo>
                        <a:pt x="47" y="14"/>
                      </a:lnTo>
                      <a:lnTo>
                        <a:pt x="40" y="13"/>
                      </a:lnTo>
                      <a:lnTo>
                        <a:pt x="32" y="11"/>
                      </a:lnTo>
                      <a:lnTo>
                        <a:pt x="26" y="9"/>
                      </a:lnTo>
                      <a:lnTo>
                        <a:pt x="17" y="7"/>
                      </a:lnTo>
                      <a:lnTo>
                        <a:pt x="12" y="6"/>
                      </a:lnTo>
                      <a:lnTo>
                        <a:pt x="7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2" y="1"/>
                      </a:lnTo>
                      <a:lnTo>
                        <a:pt x="17" y="1"/>
                      </a:lnTo>
                      <a:lnTo>
                        <a:pt x="27" y="1"/>
                      </a:lnTo>
                      <a:lnTo>
                        <a:pt x="40" y="1"/>
                      </a:lnTo>
                      <a:lnTo>
                        <a:pt x="56" y="1"/>
                      </a:lnTo>
                      <a:lnTo>
                        <a:pt x="75" y="0"/>
                      </a:lnTo>
                      <a:lnTo>
                        <a:pt x="97" y="0"/>
                      </a:lnTo>
                      <a:lnTo>
                        <a:pt x="118" y="0"/>
                      </a:lnTo>
                      <a:lnTo>
                        <a:pt x="141" y="0"/>
                      </a:lnTo>
                      <a:lnTo>
                        <a:pt x="164" y="0"/>
                      </a:lnTo>
                      <a:lnTo>
                        <a:pt x="186" y="0"/>
                      </a:lnTo>
                      <a:lnTo>
                        <a:pt x="206" y="0"/>
                      </a:lnTo>
                      <a:lnTo>
                        <a:pt x="223" y="0"/>
                      </a:lnTo>
                      <a:lnTo>
                        <a:pt x="238" y="0"/>
                      </a:lnTo>
                      <a:lnTo>
                        <a:pt x="250" y="0"/>
                      </a:lnTo>
                      <a:lnTo>
                        <a:pt x="257" y="0"/>
                      </a:lnTo>
                      <a:lnTo>
                        <a:pt x="260" y="0"/>
                      </a:lnTo>
                      <a:lnTo>
                        <a:pt x="351" y="15"/>
                      </a:lnTo>
                      <a:close/>
                    </a:path>
                  </a:pathLst>
                </a:custGeom>
                <a:solidFill>
                  <a:srgbClr val="d7d7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85600" y="3875760"/>
                  <a:ext cx="554040" cy="41760"/>
                </a:xfrm>
                <a:custGeom>
                  <a:avLst/>
                  <a:gdLst/>
                  <a:ahLst/>
                  <a:rect l="l" t="t" r="r" b="b"/>
                  <a:pathLst>
                    <a:path w="349" h="23">
                      <a:moveTo>
                        <a:pt x="337" y="15"/>
                      </a:moveTo>
                      <a:lnTo>
                        <a:pt x="341" y="17"/>
                      </a:lnTo>
                      <a:lnTo>
                        <a:pt x="347" y="19"/>
                      </a:lnTo>
                      <a:lnTo>
                        <a:pt x="349" y="21"/>
                      </a:lnTo>
                      <a:lnTo>
                        <a:pt x="335" y="23"/>
                      </a:lnTo>
                      <a:lnTo>
                        <a:pt x="330" y="23"/>
                      </a:lnTo>
                      <a:lnTo>
                        <a:pt x="319" y="23"/>
                      </a:lnTo>
                      <a:lnTo>
                        <a:pt x="304" y="23"/>
                      </a:lnTo>
                      <a:lnTo>
                        <a:pt x="288" y="23"/>
                      </a:lnTo>
                      <a:lnTo>
                        <a:pt x="269" y="23"/>
                      </a:lnTo>
                      <a:lnTo>
                        <a:pt x="249" y="23"/>
                      </a:lnTo>
                      <a:lnTo>
                        <a:pt x="226" y="23"/>
                      </a:lnTo>
                      <a:lnTo>
                        <a:pt x="203" y="23"/>
                      </a:lnTo>
                      <a:lnTo>
                        <a:pt x="182" y="23"/>
                      </a:lnTo>
                      <a:lnTo>
                        <a:pt x="160" y="23"/>
                      </a:lnTo>
                      <a:lnTo>
                        <a:pt x="140" y="23"/>
                      </a:lnTo>
                      <a:lnTo>
                        <a:pt x="123" y="23"/>
                      </a:lnTo>
                      <a:lnTo>
                        <a:pt x="108" y="23"/>
                      </a:lnTo>
                      <a:lnTo>
                        <a:pt x="97" y="23"/>
                      </a:lnTo>
                      <a:lnTo>
                        <a:pt x="89" y="23"/>
                      </a:lnTo>
                      <a:lnTo>
                        <a:pt x="86" y="23"/>
                      </a:lnTo>
                      <a:lnTo>
                        <a:pt x="84" y="21"/>
                      </a:lnTo>
                      <a:lnTo>
                        <a:pt x="74" y="20"/>
                      </a:lnTo>
                      <a:lnTo>
                        <a:pt x="62" y="18"/>
                      </a:lnTo>
                      <a:lnTo>
                        <a:pt x="50" y="15"/>
                      </a:lnTo>
                      <a:lnTo>
                        <a:pt x="46" y="14"/>
                      </a:lnTo>
                      <a:lnTo>
                        <a:pt x="39" y="12"/>
                      </a:lnTo>
                      <a:lnTo>
                        <a:pt x="32" y="11"/>
                      </a:lnTo>
                      <a:lnTo>
                        <a:pt x="24" y="8"/>
                      </a:lnTo>
                      <a:lnTo>
                        <a:pt x="18" y="7"/>
                      </a:lnTo>
                      <a:lnTo>
                        <a:pt x="11" y="6"/>
                      </a:lnTo>
                      <a:lnTo>
                        <a:pt x="7" y="5"/>
                      </a:lnTo>
                      <a:lnTo>
                        <a:pt x="5" y="5"/>
                      </a:lnTo>
                      <a:lnTo>
                        <a:pt x="3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6" y="1"/>
                      </a:lnTo>
                      <a:lnTo>
                        <a:pt x="26" y="1"/>
                      </a:lnTo>
                      <a:lnTo>
                        <a:pt x="38" y="1"/>
                      </a:lnTo>
                      <a:lnTo>
                        <a:pt x="54" y="0"/>
                      </a:lnTo>
                      <a:lnTo>
                        <a:pt x="71" y="0"/>
                      </a:lnTo>
                      <a:lnTo>
                        <a:pt x="92" y="0"/>
                      </a:lnTo>
                      <a:lnTo>
                        <a:pt x="113" y="0"/>
                      </a:lnTo>
                      <a:lnTo>
                        <a:pt x="135" y="0"/>
                      </a:lnTo>
                      <a:lnTo>
                        <a:pt x="156" y="0"/>
                      </a:lnTo>
                      <a:lnTo>
                        <a:pt x="176" y="0"/>
                      </a:lnTo>
                      <a:lnTo>
                        <a:pt x="195" y="0"/>
                      </a:lnTo>
                      <a:lnTo>
                        <a:pt x="213" y="0"/>
                      </a:lnTo>
                      <a:lnTo>
                        <a:pt x="228" y="0"/>
                      </a:ln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48" y="0"/>
                      </a:lnTo>
                      <a:lnTo>
                        <a:pt x="337" y="15"/>
                      </a:lnTo>
                      <a:close/>
                    </a:path>
                  </a:pathLst>
                </a:custGeom>
                <a:solidFill>
                  <a:srgbClr val="cac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798560" y="3875760"/>
                  <a:ext cx="528480" cy="38160"/>
                </a:xfrm>
                <a:custGeom>
                  <a:avLst/>
                  <a:gdLst/>
                  <a:ahLst/>
                  <a:rect l="l" t="t" r="r" b="b"/>
                  <a:pathLst>
                    <a:path w="333" h="21">
                      <a:moveTo>
                        <a:pt x="321" y="15"/>
                      </a:moveTo>
                      <a:lnTo>
                        <a:pt x="325" y="17"/>
                      </a:lnTo>
                      <a:lnTo>
                        <a:pt x="331" y="19"/>
                      </a:lnTo>
                      <a:lnTo>
                        <a:pt x="333" y="21"/>
                      </a:lnTo>
                      <a:lnTo>
                        <a:pt x="318" y="21"/>
                      </a:lnTo>
                      <a:lnTo>
                        <a:pt x="313" y="21"/>
                      </a:lnTo>
                      <a:lnTo>
                        <a:pt x="303" y="21"/>
                      </a:lnTo>
                      <a:lnTo>
                        <a:pt x="290" y="21"/>
                      </a:lnTo>
                      <a:lnTo>
                        <a:pt x="275" y="21"/>
                      </a:lnTo>
                      <a:lnTo>
                        <a:pt x="256" y="21"/>
                      </a:lnTo>
                      <a:lnTo>
                        <a:pt x="237" y="21"/>
                      </a:lnTo>
                      <a:lnTo>
                        <a:pt x="216" y="21"/>
                      </a:lnTo>
                      <a:lnTo>
                        <a:pt x="194" y="21"/>
                      </a:lnTo>
                      <a:lnTo>
                        <a:pt x="174" y="21"/>
                      </a:lnTo>
                      <a:lnTo>
                        <a:pt x="154" y="21"/>
                      </a:lnTo>
                      <a:lnTo>
                        <a:pt x="135" y="21"/>
                      </a:lnTo>
                      <a:lnTo>
                        <a:pt x="119" y="21"/>
                      </a:lnTo>
                      <a:lnTo>
                        <a:pt x="104" y="21"/>
                      </a:lnTo>
                      <a:lnTo>
                        <a:pt x="93" y="21"/>
                      </a:lnTo>
                      <a:lnTo>
                        <a:pt x="86" y="21"/>
                      </a:lnTo>
                      <a:lnTo>
                        <a:pt x="84" y="21"/>
                      </a:lnTo>
                      <a:lnTo>
                        <a:pt x="81" y="21"/>
                      </a:lnTo>
                      <a:lnTo>
                        <a:pt x="71" y="20"/>
                      </a:lnTo>
                      <a:lnTo>
                        <a:pt x="59" y="18"/>
                      </a:lnTo>
                      <a:lnTo>
                        <a:pt x="49" y="14"/>
                      </a:lnTo>
                      <a:lnTo>
                        <a:pt x="45" y="14"/>
                      </a:lnTo>
                      <a:lnTo>
                        <a:pt x="38" y="12"/>
                      </a:lnTo>
                      <a:lnTo>
                        <a:pt x="31" y="11"/>
                      </a:lnTo>
                      <a:lnTo>
                        <a:pt x="23" y="8"/>
                      </a:lnTo>
                      <a:lnTo>
                        <a:pt x="16" y="7"/>
                      </a:lnTo>
                      <a:lnTo>
                        <a:pt x="10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23" y="1"/>
                      </a:lnTo>
                      <a:lnTo>
                        <a:pt x="35" y="0"/>
                      </a:lnTo>
                      <a:lnTo>
                        <a:pt x="51" y="0"/>
                      </a:lnTo>
                      <a:lnTo>
                        <a:pt x="67" y="0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128" y="0"/>
                      </a:lnTo>
                      <a:lnTo>
                        <a:pt x="148" y="0"/>
                      </a:lnTo>
                      <a:lnTo>
                        <a:pt x="167" y="0"/>
                      </a:lnTo>
                      <a:lnTo>
                        <a:pt x="186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6" y="0"/>
                      </a:lnTo>
                      <a:lnTo>
                        <a:pt x="321" y="15"/>
                      </a:lnTo>
                      <a:close/>
                    </a:path>
                  </a:pathLst>
                </a:custGeom>
                <a:solidFill>
                  <a:srgbClr val="bbbd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809720" y="3875760"/>
                  <a:ext cx="501480" cy="38160"/>
                </a:xfrm>
                <a:custGeom>
                  <a:avLst/>
                  <a:gdLst/>
                  <a:ahLst/>
                  <a:rect l="l" t="t" r="r" b="b"/>
                  <a:pathLst>
                    <a:path w="316" h="21">
                      <a:moveTo>
                        <a:pt x="307" y="15"/>
                      </a:moveTo>
                      <a:lnTo>
                        <a:pt x="310" y="15"/>
                      </a:lnTo>
                      <a:lnTo>
                        <a:pt x="316" y="18"/>
                      </a:lnTo>
                      <a:lnTo>
                        <a:pt x="316" y="20"/>
                      </a:lnTo>
                      <a:lnTo>
                        <a:pt x="301" y="21"/>
                      </a:lnTo>
                      <a:lnTo>
                        <a:pt x="296" y="21"/>
                      </a:lnTo>
                      <a:lnTo>
                        <a:pt x="287" y="21"/>
                      </a:lnTo>
                      <a:lnTo>
                        <a:pt x="275" y="21"/>
                      </a:lnTo>
                      <a:lnTo>
                        <a:pt x="261" y="21"/>
                      </a:lnTo>
                      <a:lnTo>
                        <a:pt x="244" y="21"/>
                      </a:lnTo>
                      <a:lnTo>
                        <a:pt x="226" y="21"/>
                      </a:lnTo>
                      <a:lnTo>
                        <a:pt x="206" y="21"/>
                      </a:lnTo>
                      <a:lnTo>
                        <a:pt x="186" y="21"/>
                      </a:lnTo>
                      <a:lnTo>
                        <a:pt x="167" y="21"/>
                      </a:lnTo>
                      <a:lnTo>
                        <a:pt x="148" y="21"/>
                      </a:lnTo>
                      <a:lnTo>
                        <a:pt x="130" y="21"/>
                      </a:lnTo>
                      <a:lnTo>
                        <a:pt x="114" y="21"/>
                      </a:lnTo>
                      <a:lnTo>
                        <a:pt x="102" y="21"/>
                      </a:lnTo>
                      <a:lnTo>
                        <a:pt x="91" y="21"/>
                      </a:lnTo>
                      <a:lnTo>
                        <a:pt x="85" y="21"/>
                      </a:lnTo>
                      <a:lnTo>
                        <a:pt x="83" y="21"/>
                      </a:lnTo>
                      <a:lnTo>
                        <a:pt x="79" y="20"/>
                      </a:lnTo>
                      <a:lnTo>
                        <a:pt x="70" y="19"/>
                      </a:lnTo>
                      <a:lnTo>
                        <a:pt x="59" y="17"/>
                      </a:lnTo>
                      <a:lnTo>
                        <a:pt x="48" y="14"/>
                      </a:lnTo>
                      <a:lnTo>
                        <a:pt x="44" y="13"/>
                      </a:lnTo>
                      <a:lnTo>
                        <a:pt x="39" y="12"/>
                      </a:lnTo>
                      <a:lnTo>
                        <a:pt x="31" y="11"/>
                      </a:lnTo>
                      <a:lnTo>
                        <a:pt x="24" y="8"/>
                      </a:lnTo>
                      <a:lnTo>
                        <a:pt x="16" y="6"/>
                      </a:lnTo>
                      <a:lnTo>
                        <a:pt x="11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1" y="0"/>
                      </a:lnTo>
                      <a:lnTo>
                        <a:pt x="23" y="0"/>
                      </a:lnTo>
                      <a:lnTo>
                        <a:pt x="48" y="0"/>
                      </a:lnTo>
                      <a:lnTo>
                        <a:pt x="83" y="0"/>
                      </a:lnTo>
                      <a:lnTo>
                        <a:pt x="121" y="0"/>
                      </a:lnTo>
                      <a:lnTo>
                        <a:pt x="160" y="0"/>
                      </a:lnTo>
                      <a:lnTo>
                        <a:pt x="192" y="0"/>
                      </a:lnTo>
                      <a:lnTo>
                        <a:pt x="215" y="0"/>
                      </a:lnTo>
                      <a:lnTo>
                        <a:pt x="223" y="0"/>
                      </a:lnTo>
                      <a:lnTo>
                        <a:pt x="307" y="15"/>
                      </a:lnTo>
                      <a:close/>
                    </a:path>
                  </a:pathLst>
                </a:custGeom>
                <a:solidFill>
                  <a:srgbClr val="aca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1822320" y="3875760"/>
                <a:ext cx="476280" cy="36720"/>
              </a:xfrm>
              <a:custGeom>
                <a:avLst/>
                <a:gdLst/>
                <a:ahLst/>
                <a:rect l="l" t="t" r="r" b="b"/>
                <a:pathLst>
                  <a:path w="300" h="20">
                    <a:moveTo>
                      <a:pt x="211" y="0"/>
                    </a:moveTo>
                    <a:lnTo>
                      <a:pt x="291" y="14"/>
                    </a:lnTo>
                    <a:lnTo>
                      <a:pt x="295" y="15"/>
                    </a:lnTo>
                    <a:lnTo>
                      <a:pt x="300" y="18"/>
                    </a:lnTo>
                    <a:lnTo>
                      <a:pt x="299" y="20"/>
                    </a:lnTo>
                    <a:lnTo>
                      <a:pt x="285" y="20"/>
                    </a:lnTo>
                    <a:lnTo>
                      <a:pt x="271" y="20"/>
                    </a:lnTo>
                    <a:lnTo>
                      <a:pt x="246" y="20"/>
                    </a:lnTo>
                    <a:lnTo>
                      <a:pt x="214" y="20"/>
                    </a:lnTo>
                    <a:lnTo>
                      <a:pt x="176" y="20"/>
                    </a:lnTo>
                    <a:lnTo>
                      <a:pt x="141" y="20"/>
                    </a:lnTo>
                    <a:lnTo>
                      <a:pt x="110" y="20"/>
                    </a:lnTo>
                    <a:lnTo>
                      <a:pt x="89" y="20"/>
                    </a:lnTo>
                    <a:lnTo>
                      <a:pt x="81" y="20"/>
                    </a:lnTo>
                    <a:lnTo>
                      <a:pt x="77" y="20"/>
                    </a:lnTo>
                    <a:lnTo>
                      <a:pt x="69" y="19"/>
                    </a:lnTo>
                    <a:lnTo>
                      <a:pt x="58" y="17"/>
                    </a:lnTo>
                    <a:lnTo>
                      <a:pt x="48" y="14"/>
                    </a:lnTo>
                    <a:lnTo>
                      <a:pt x="44" y="13"/>
                    </a:lnTo>
                    <a:lnTo>
                      <a:pt x="38" y="12"/>
                    </a:lnTo>
                    <a:lnTo>
                      <a:pt x="31" y="9"/>
                    </a:lnTo>
                    <a:lnTo>
                      <a:pt x="23" y="8"/>
                    </a:lnTo>
                    <a:lnTo>
                      <a:pt x="16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6" y="0"/>
                    </a:lnTo>
                    <a:lnTo>
                      <a:pt x="78" y="0"/>
                    </a:lnTo>
                    <a:lnTo>
                      <a:pt x="114" y="0"/>
                    </a:lnTo>
                    <a:lnTo>
                      <a:pt x="151" y="0"/>
                    </a:lnTo>
                    <a:lnTo>
                      <a:pt x="182" y="0"/>
                    </a:lnTo>
                    <a:lnTo>
                      <a:pt x="203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855800" y="3921840"/>
                <a:ext cx="603000" cy="213120"/>
              </a:xfrm>
              <a:prstGeom prst="rect">
                <a:avLst/>
              </a:prstGeom>
              <a:solidFill>
                <a:srgbClr val="d2d5cd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663560" y="3875760"/>
                <a:ext cx="192240" cy="259200"/>
              </a:xfrm>
              <a:custGeom>
                <a:avLst/>
                <a:gdLst/>
                <a:ahLst/>
                <a:rect l="l" t="t" r="r" b="b"/>
                <a:pathLst>
                  <a:path w="121" h="142">
                    <a:moveTo>
                      <a:pt x="0" y="86"/>
                    </a:moveTo>
                    <a:lnTo>
                      <a:pt x="0" y="0"/>
                    </a:lnTo>
                    <a:lnTo>
                      <a:pt x="121" y="25"/>
                    </a:lnTo>
                    <a:lnTo>
                      <a:pt x="121" y="14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c5c8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71640" y="3934800"/>
                <a:ext cx="576000" cy="11448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73080" y="3936240"/>
                <a:ext cx="571680" cy="109080"/>
              </a:xfrm>
              <a:prstGeom prst="rect">
                <a:avLst/>
              </a:prstGeom>
              <a:solidFill>
                <a:srgbClr val="d2d5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73080" y="3936240"/>
                <a:ext cx="571680" cy="94680"/>
              </a:xfrm>
              <a:custGeom>
                <a:avLst/>
                <a:gdLst/>
                <a:ahLst/>
                <a:rect l="l" t="t" r="r" b="b"/>
                <a:pathLst>
                  <a:path w="360" h="52">
                    <a:moveTo>
                      <a:pt x="155" y="52"/>
                    </a:moveTo>
                    <a:lnTo>
                      <a:pt x="160" y="47"/>
                    </a:lnTo>
                    <a:lnTo>
                      <a:pt x="179" y="47"/>
                    </a:lnTo>
                    <a:lnTo>
                      <a:pt x="185" y="52"/>
                    </a:lnTo>
                    <a:lnTo>
                      <a:pt x="317" y="52"/>
                    </a:lnTo>
                    <a:lnTo>
                      <a:pt x="322" y="38"/>
                    </a:lnTo>
                    <a:lnTo>
                      <a:pt x="334" y="38"/>
                    </a:lnTo>
                    <a:lnTo>
                      <a:pt x="340" y="52"/>
                    </a:lnTo>
                    <a:lnTo>
                      <a:pt x="360" y="52"/>
                    </a:lnTo>
                    <a:lnTo>
                      <a:pt x="36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155" y="52"/>
                    </a:lnTo>
                    <a:close/>
                  </a:path>
                </a:pathLst>
              </a:custGeom>
              <a:solidFill>
                <a:srgbClr val="d2d5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1873080" y="3936240"/>
                <a:ext cx="571680" cy="90360"/>
                <a:chOff x="1873080" y="3936240"/>
                <a:chExt cx="571680" cy="903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1873080" y="3936240"/>
                  <a:ext cx="571680" cy="90360"/>
                </a:xfrm>
                <a:custGeom>
                  <a:avLst/>
                  <a:gdLst/>
                  <a:ahLst/>
                  <a:rect l="l" t="t" r="r" b="b"/>
                  <a:pathLst>
                    <a:path w="360" h="50">
                      <a:moveTo>
                        <a:pt x="340" y="50"/>
                      </a:moveTo>
                      <a:lnTo>
                        <a:pt x="334" y="38"/>
                      </a:lnTo>
                      <a:lnTo>
                        <a:pt x="322" y="38"/>
                      </a:lnTo>
                      <a:lnTo>
                        <a:pt x="317" y="50"/>
                      </a:lnTo>
                      <a:lnTo>
                        <a:pt x="185" y="50"/>
                      </a:lnTo>
                      <a:lnTo>
                        <a:pt x="181" y="46"/>
                      </a:lnTo>
                      <a:lnTo>
                        <a:pt x="160" y="46"/>
                      </a:lnTo>
                      <a:lnTo>
                        <a:pt x="156" y="50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60" y="50"/>
                      </a:lnTo>
                      <a:lnTo>
                        <a:pt x="340" y="50"/>
                      </a:lnTo>
                      <a:close/>
                    </a:path>
                  </a:pathLst>
                </a:custGeom>
                <a:solidFill>
                  <a:srgbClr val="cac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873080" y="3936240"/>
                  <a:ext cx="571680" cy="87120"/>
                </a:xfrm>
                <a:custGeom>
                  <a:avLst/>
                  <a:gdLst/>
                  <a:ahLst/>
                  <a:rect l="l" t="t" r="r" b="b"/>
                  <a:pathLst>
                    <a:path w="360" h="48">
                      <a:moveTo>
                        <a:pt x="340" y="48"/>
                      </a:moveTo>
                      <a:lnTo>
                        <a:pt x="334" y="38"/>
                      </a:lnTo>
                      <a:lnTo>
                        <a:pt x="322" y="38"/>
                      </a:lnTo>
                      <a:lnTo>
                        <a:pt x="317" y="48"/>
                      </a:lnTo>
                      <a:lnTo>
                        <a:pt x="185" y="48"/>
                      </a:lnTo>
                      <a:lnTo>
                        <a:pt x="181" y="45"/>
                      </a:lnTo>
                      <a:lnTo>
                        <a:pt x="160" y="45"/>
                      </a:lnTo>
                      <a:lnTo>
                        <a:pt x="156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60" y="48"/>
                      </a:lnTo>
                      <a:lnTo>
                        <a:pt x="340" y="48"/>
                      </a:lnTo>
                      <a:close/>
                    </a:path>
                  </a:pathLst>
                </a:custGeom>
                <a:solidFill>
                  <a:srgbClr val="c3c6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873080" y="3936240"/>
                  <a:ext cx="571680" cy="84960"/>
                </a:xfrm>
                <a:custGeom>
                  <a:avLst/>
                  <a:gdLst/>
                  <a:ahLst/>
                  <a:rect l="l" t="t" r="r" b="b"/>
                  <a:pathLst>
                    <a:path w="360" h="47">
                      <a:moveTo>
                        <a:pt x="340" y="47"/>
                      </a:moveTo>
                      <a:lnTo>
                        <a:pt x="334" y="38"/>
                      </a:lnTo>
                      <a:lnTo>
                        <a:pt x="321" y="38"/>
                      </a:lnTo>
                      <a:lnTo>
                        <a:pt x="317" y="47"/>
                      </a:lnTo>
                      <a:lnTo>
                        <a:pt x="185" y="47"/>
                      </a:lnTo>
                      <a:lnTo>
                        <a:pt x="181" y="44"/>
                      </a:lnTo>
                      <a:lnTo>
                        <a:pt x="160" y="44"/>
                      </a:lnTo>
                      <a:lnTo>
                        <a:pt x="156" y="47"/>
                      </a:lnTo>
                      <a:lnTo>
                        <a:pt x="0" y="47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60" y="47"/>
                      </a:lnTo>
                      <a:lnTo>
                        <a:pt x="340" y="47"/>
                      </a:lnTo>
                      <a:close/>
                    </a:path>
                  </a:pathLst>
                </a:custGeom>
                <a:solidFill>
                  <a:srgbClr val="bbbe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873080" y="3936240"/>
                  <a:ext cx="571680" cy="81360"/>
                </a:xfrm>
                <a:custGeom>
                  <a:avLst/>
                  <a:gdLst/>
                  <a:ahLst/>
                  <a:rect l="l" t="t" r="r" b="b"/>
                  <a:pathLst>
                    <a:path w="360" h="45">
                      <a:moveTo>
                        <a:pt x="340" y="45"/>
                      </a:moveTo>
                      <a:lnTo>
                        <a:pt x="336" y="36"/>
                      </a:lnTo>
                      <a:lnTo>
                        <a:pt x="321" y="36"/>
                      </a:lnTo>
                      <a:lnTo>
                        <a:pt x="317" y="45"/>
                      </a:lnTo>
                      <a:lnTo>
                        <a:pt x="185" y="45"/>
                      </a:lnTo>
                      <a:lnTo>
                        <a:pt x="182" y="42"/>
                      </a:lnTo>
                      <a:lnTo>
                        <a:pt x="160" y="42"/>
                      </a:lnTo>
                      <a:lnTo>
                        <a:pt x="156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360" y="0"/>
                      </a:lnTo>
                      <a:lnTo>
                        <a:pt x="360" y="45"/>
                      </a:lnTo>
                      <a:lnTo>
                        <a:pt x="340" y="45"/>
                      </a:lnTo>
                      <a:close/>
                    </a:path>
                  </a:pathLst>
                </a:custGeom>
                <a:solidFill>
                  <a:srgbClr val="b3b6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>
                <a:off x="1873080" y="3936240"/>
                <a:ext cx="571680" cy="79920"/>
              </a:xfrm>
              <a:custGeom>
                <a:avLst/>
                <a:gdLst/>
                <a:ahLst/>
                <a:rect l="l" t="t" r="r" b="b"/>
                <a:pathLst>
                  <a:path w="360" h="44">
                    <a:moveTo>
                      <a:pt x="158" y="44"/>
                    </a:moveTo>
                    <a:lnTo>
                      <a:pt x="160" y="40"/>
                    </a:lnTo>
                    <a:lnTo>
                      <a:pt x="182" y="40"/>
                    </a:lnTo>
                    <a:lnTo>
                      <a:pt x="185" y="44"/>
                    </a:lnTo>
                    <a:lnTo>
                      <a:pt x="317" y="44"/>
                    </a:lnTo>
                    <a:lnTo>
                      <a:pt x="321" y="36"/>
                    </a:lnTo>
                    <a:lnTo>
                      <a:pt x="336" y="36"/>
                    </a:lnTo>
                    <a:lnTo>
                      <a:pt x="340" y="44"/>
                    </a:lnTo>
                    <a:lnTo>
                      <a:pt x="360" y="44"/>
                    </a:lnTo>
                    <a:lnTo>
                      <a:pt x="360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58" y="44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8432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8432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7640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76400" y="3994560"/>
                <a:ext cx="14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65240" y="3994560"/>
                <a:ext cx="612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65240" y="3994560"/>
                <a:ext cx="468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957320" y="3994560"/>
                <a:ext cx="324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57320" y="3994560"/>
                <a:ext cx="14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947600" y="3994560"/>
                <a:ext cx="504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94760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93968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939680" y="3994560"/>
                <a:ext cx="180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931760" y="3994560"/>
                <a:ext cx="324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931760" y="3994560"/>
                <a:ext cx="180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92240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92240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448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914480" y="3994560"/>
                <a:ext cx="14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904760" y="3994560"/>
                <a:ext cx="468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0476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895400" y="3994560"/>
                <a:ext cx="324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89540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85680" y="3994560"/>
                <a:ext cx="5040" cy="4752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885680" y="3994560"/>
                <a:ext cx="3240" cy="45360"/>
              </a:xfrm>
              <a:prstGeom prst="rect">
                <a:avLst/>
              </a:pr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001600" y="4002120"/>
                <a:ext cx="1800" cy="4680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168280" y="4002120"/>
                <a:ext cx="1800" cy="4680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33520" y="4002120"/>
                <a:ext cx="1440" cy="46800"/>
              </a:xfrm>
              <a:prstGeom prst="rect">
                <a:avLst/>
              </a:pr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84280" y="399996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ee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385720" y="4002120"/>
                <a:ext cx="22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377800" y="3950640"/>
                <a:ext cx="38160" cy="453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9" y="25"/>
                    </a:moveTo>
                    <a:lnTo>
                      <a:pt x="1" y="25"/>
                    </a:lnTo>
                    <a:lnTo>
                      <a:pt x="0" y="0"/>
                    </a:lnTo>
                    <a:lnTo>
                      <a:pt x="24" y="1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390760" y="395280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29"/>
                    </a:moveTo>
                    <a:lnTo>
                      <a:pt x="8" y="26"/>
                    </a:lnTo>
                    <a:lnTo>
                      <a:pt x="0" y="24"/>
                    </a:lnTo>
                    <a:lnTo>
                      <a:pt x="14" y="0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bec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334960" y="3936240"/>
                <a:ext cx="11160" cy="68760"/>
              </a:xfrm>
              <a:custGeom>
                <a:avLst/>
                <a:gdLst/>
                <a:ahLst/>
                <a:rect l="l" t="t" r="r" b="b"/>
                <a:pathLst>
                  <a:path w="7" h="38">
                    <a:moveTo>
                      <a:pt x="7" y="38"/>
                    </a:moveTo>
                    <a:lnTo>
                      <a:pt x="1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36760" y="3936240"/>
                <a:ext cx="118800" cy="68760"/>
              </a:xfrm>
              <a:custGeom>
                <a:avLst/>
                <a:gdLst/>
                <a:ahLst/>
                <a:rect l="l" t="t" r="r" b="b"/>
                <a:pathLst>
                  <a:path w="75" h="38">
                    <a:moveTo>
                      <a:pt x="68" y="0"/>
                    </a:moveTo>
                    <a:lnTo>
                      <a:pt x="75" y="38"/>
                    </a:lnTo>
                    <a:lnTo>
                      <a:pt x="52" y="38"/>
                    </a:lnTo>
                    <a:lnTo>
                      <a:pt x="48" y="10"/>
                    </a:lnTo>
                    <a:lnTo>
                      <a:pt x="29" y="10"/>
                    </a:lnTo>
                    <a:lnTo>
                      <a:pt x="31" y="38"/>
                    </a:lnTo>
                    <a:lnTo>
                      <a:pt x="6" y="38"/>
                    </a:lnTo>
                    <a:lnTo>
                      <a:pt x="0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ebe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172960" y="3936240"/>
                <a:ext cx="8280" cy="6876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172960" y="3936240"/>
                <a:ext cx="168480" cy="68760"/>
              </a:xfrm>
              <a:custGeom>
                <a:avLst/>
                <a:gdLst/>
                <a:ahLst/>
                <a:rect l="l" t="t" r="r" b="b"/>
                <a:pathLst>
                  <a:path w="106" h="38">
                    <a:moveTo>
                      <a:pt x="5" y="38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6" y="38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ebe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003400" y="3936240"/>
                <a:ext cx="10800" cy="68760"/>
              </a:xfrm>
              <a:custGeom>
                <a:avLst/>
                <a:gdLst/>
                <a:ahLst/>
                <a:rect l="l" t="t" r="r" b="b"/>
                <a:pathLst>
                  <a:path w="7" h="38">
                    <a:moveTo>
                      <a:pt x="7" y="38"/>
                    </a:moveTo>
                    <a:lnTo>
                      <a:pt x="2" y="36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163600" y="3990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006280" y="3936240"/>
                <a:ext cx="169920" cy="68760"/>
              </a:xfrm>
              <a:custGeom>
                <a:avLst/>
                <a:gdLst/>
                <a:ahLst/>
                <a:rect l="l" t="t" r="r" b="b"/>
                <a:pathLst>
                  <a:path w="107" h="38">
                    <a:moveTo>
                      <a:pt x="105" y="38"/>
                    </a:moveTo>
                    <a:lnTo>
                      <a:pt x="103" y="33"/>
                    </a:lnTo>
                    <a:lnTo>
                      <a:pt x="75" y="33"/>
                    </a:lnTo>
                    <a:lnTo>
                      <a:pt x="75" y="38"/>
                    </a:lnTo>
                    <a:lnTo>
                      <a:pt x="5" y="38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7" y="38"/>
                    </a:lnTo>
                    <a:lnTo>
                      <a:pt x="105" y="38"/>
                    </a:lnTo>
                    <a:close/>
                  </a:path>
                </a:pathLst>
              </a:custGeom>
              <a:solidFill>
                <a:srgbClr val="ebe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73080" y="3936240"/>
                <a:ext cx="9360" cy="6876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6" y="38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bec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873080" y="3936240"/>
                <a:ext cx="136440" cy="6876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7" y="38"/>
                    </a:moveTo>
                    <a:lnTo>
                      <a:pt x="0" y="0"/>
                    </a:lnTo>
                    <a:lnTo>
                      <a:pt x="81" y="0"/>
                    </a:lnTo>
                    <a:lnTo>
                      <a:pt x="86" y="38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ebe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019240" y="3956040"/>
                <a:ext cx="150840" cy="3816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31" y="21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31" y="17"/>
                    </a:lnTo>
                    <a:lnTo>
                      <a:pt x="28" y="0"/>
                    </a:lnTo>
                    <a:lnTo>
                      <a:pt x="62" y="0"/>
                    </a:lnTo>
                    <a:lnTo>
                      <a:pt x="64" y="17"/>
                    </a:lnTo>
                    <a:lnTo>
                      <a:pt x="95" y="17"/>
                    </a:lnTo>
                    <a:lnTo>
                      <a:pt x="95" y="21"/>
                    </a:lnTo>
                    <a:lnTo>
                      <a:pt x="64" y="21"/>
                    </a:lnTo>
                    <a:lnTo>
                      <a:pt x="31" y="21"/>
                    </a:lnTo>
                    <a:close/>
                  </a:path>
                </a:pathLst>
              </a:custGeom>
              <a:solidFill>
                <a:srgbClr val="131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33280" y="3989160"/>
                <a:ext cx="109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19240" y="3990960"/>
                <a:ext cx="150840" cy="1116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31" y="2"/>
                    </a:moveTo>
                    <a:lnTo>
                      <a:pt x="29" y="6"/>
                    </a:lnTo>
                    <a:lnTo>
                      <a:pt x="66" y="6"/>
                    </a:lnTo>
                    <a:lnTo>
                      <a:pt x="64" y="2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58" y="0"/>
                    </a:lnTo>
                    <a:lnTo>
                      <a:pt x="59" y="2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1" y="2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063520" y="3956040"/>
                <a:ext cx="54000" cy="2916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3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0" y="16"/>
                    </a:lnTo>
                    <a:close/>
                  </a:path>
                </a:pathLst>
              </a:custGeom>
              <a:solidFill>
                <a:srgbClr val="bec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111040" y="399096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58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065320" y="3994560"/>
                <a:ext cx="58680" cy="72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30" y="0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f5f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111040" y="3956040"/>
                <a:ext cx="9720" cy="309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0"/>
                    </a:moveTo>
                    <a:lnTo>
                      <a:pt x="0" y="16"/>
                    </a:lnTo>
                    <a:lnTo>
                      <a:pt x="6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163600" y="398700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58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876320" y="3936240"/>
                <a:ext cx="133200" cy="68760"/>
              </a:xfrm>
              <a:custGeom>
                <a:avLst/>
                <a:gdLst/>
                <a:ahLst/>
                <a:rect l="l" t="t" r="r" b="b"/>
                <a:pathLst>
                  <a:path w="84" h="38">
                    <a:moveTo>
                      <a:pt x="79" y="0"/>
                    </a:moveTo>
                    <a:lnTo>
                      <a:pt x="84" y="38"/>
                    </a:lnTo>
                    <a:lnTo>
                      <a:pt x="5" y="38"/>
                    </a:lnTo>
                    <a:lnTo>
                      <a:pt x="0" y="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009520" y="3996360"/>
                <a:ext cx="160560" cy="9000"/>
              </a:xfrm>
              <a:custGeom>
                <a:avLst/>
                <a:gdLst/>
                <a:ahLst/>
                <a:rect l="l" t="t" r="r" b="b"/>
                <a:pathLst>
                  <a:path w="101" h="5">
                    <a:moveTo>
                      <a:pt x="0" y="5"/>
                    </a:moveTo>
                    <a:lnTo>
                      <a:pt x="3" y="5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10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162160" y="3936240"/>
                <a:ext cx="14040" cy="6876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0" y="36"/>
                    </a:moveTo>
                    <a:lnTo>
                      <a:pt x="7" y="38"/>
                    </a:lnTo>
                    <a:lnTo>
                      <a:pt x="9" y="38"/>
                    </a:lnTo>
                    <a:lnTo>
                      <a:pt x="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176200" y="3936240"/>
                <a:ext cx="165240" cy="68760"/>
              </a:xfrm>
              <a:custGeom>
                <a:avLst/>
                <a:gdLst/>
                <a:ahLst/>
                <a:rect l="l" t="t" r="r" b="b"/>
                <a:pathLst>
                  <a:path w="104" h="38">
                    <a:moveTo>
                      <a:pt x="0" y="38"/>
                    </a:moveTo>
                    <a:lnTo>
                      <a:pt x="3" y="38"/>
                    </a:lnTo>
                    <a:lnTo>
                      <a:pt x="104" y="38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384280" y="3978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392200" y="3978000"/>
                <a:ext cx="11160" cy="5760"/>
              </a:xfrm>
              <a:prstGeom prst="rect">
                <a:avLst/>
              </a:prstGeom>
              <a:solidFill>
                <a:srgbClr val="ff1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85720" y="39837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0"/>
                    </a:moveTo>
                    <a:lnTo>
                      <a:pt x="4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30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384280" y="397800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5" y="11"/>
                    </a:moveTo>
                    <a:lnTo>
                      <a:pt x="12" y="3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41440" y="3956040"/>
                <a:ext cx="44280" cy="489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7"/>
                    </a:moveTo>
                    <a:lnTo>
                      <a:pt x="3" y="27"/>
                    </a:lnTo>
                    <a:lnTo>
                      <a:pt x="28" y="27"/>
                    </a:lnTo>
                    <a:lnTo>
                      <a:pt x="2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409840" y="3936240"/>
                <a:ext cx="45720" cy="6876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6"/>
                    </a:moveTo>
                    <a:lnTo>
                      <a:pt x="6" y="38"/>
                    </a:lnTo>
                    <a:lnTo>
                      <a:pt x="29" y="38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2120400" y="3994560"/>
                <a:ext cx="49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2064960" y="4002120"/>
                <a:ext cx="58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019240" y="3994560"/>
                <a:ext cx="4896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130120" y="3998520"/>
                <a:ext cx="25560" cy="10440"/>
              </a:xfrm>
              <a:prstGeom prst="rect">
                <a:avLst/>
              </a:prstGeom>
              <a:solidFill>
                <a:srgbClr val="005aa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131920" y="40021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7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141280" y="4011120"/>
                <a:ext cx="19080" cy="1440"/>
              </a:xfrm>
              <a:prstGeom prst="rect">
                <a:avLst/>
              </a:prstGeom>
              <a:solidFill>
                <a:srgbClr val="1a9a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131920" y="4002120"/>
                <a:ext cx="28440" cy="900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8" y="5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131920" y="400212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0d8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131920" y="400212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5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31920" y="4002120"/>
                <a:ext cx="28440" cy="1044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4" y="0"/>
                    </a:moveTo>
                    <a:lnTo>
                      <a:pt x="18" y="5"/>
                    </a:lnTo>
                    <a:lnTo>
                      <a:pt x="18" y="6"/>
                    </a:lnTo>
                    <a:lnTo>
                      <a:pt x="6" y="6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1895400" y="3954600"/>
                <a:ext cx="48960" cy="30600"/>
                <a:chOff x="1895400" y="3954600"/>
                <a:chExt cx="48960" cy="306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1895400" y="3954600"/>
                  <a:ext cx="48960" cy="3060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21" y="17"/>
                      </a:moveTo>
                      <a:lnTo>
                        <a:pt x="25" y="17"/>
                      </a:lnTo>
                      <a:lnTo>
                        <a:pt x="29" y="14"/>
                      </a:lnTo>
                      <a:lnTo>
                        <a:pt x="31" y="12"/>
                      </a:lnTo>
                      <a:lnTo>
                        <a:pt x="31" y="8"/>
                      </a:lnTo>
                      <a:lnTo>
                        <a:pt x="29" y="5"/>
                      </a:lnTo>
                      <a:lnTo>
                        <a:pt x="27" y="2"/>
                      </a:lnTo>
                      <a:lnTo>
                        <a:pt x="24" y="0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1" y="12"/>
                      </a:lnTo>
                      <a:lnTo>
                        <a:pt x="4" y="14"/>
                      </a:lnTo>
                      <a:lnTo>
                        <a:pt x="8" y="17"/>
                      </a:lnTo>
                      <a:lnTo>
                        <a:pt x="13" y="17"/>
                      </a:lnTo>
                      <a:lnTo>
                        <a:pt x="21" y="17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895400" y="3954600"/>
                  <a:ext cx="48960" cy="3060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21" y="17"/>
                      </a:moveTo>
                      <a:lnTo>
                        <a:pt x="21" y="17"/>
                      </a:lnTo>
                      <a:lnTo>
                        <a:pt x="25" y="17"/>
                      </a:lnTo>
                      <a:lnTo>
                        <a:pt x="29" y="14"/>
                      </a:lnTo>
                      <a:lnTo>
                        <a:pt x="31" y="12"/>
                      </a:lnTo>
                      <a:lnTo>
                        <a:pt x="31" y="8"/>
                      </a:lnTo>
                      <a:lnTo>
                        <a:pt x="31" y="8"/>
                      </a:lnTo>
                      <a:lnTo>
                        <a:pt x="29" y="5"/>
                      </a:lnTo>
                      <a:lnTo>
                        <a:pt x="27" y="2"/>
                      </a:lnTo>
                      <a:lnTo>
                        <a:pt x="24" y="0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12"/>
                      </a:lnTo>
                      <a:lnTo>
                        <a:pt x="4" y="14"/>
                      </a:lnTo>
                      <a:lnTo>
                        <a:pt x="8" y="17"/>
                      </a:lnTo>
                      <a:lnTo>
                        <a:pt x="13" y="17"/>
                      </a:lnTo>
                      <a:lnTo>
                        <a:pt x="21" y="1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1896840" y="3954600"/>
                <a:ext cx="47520" cy="309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9" y="17"/>
                    </a:moveTo>
                    <a:lnTo>
                      <a:pt x="23" y="16"/>
                    </a:lnTo>
                    <a:lnTo>
                      <a:pt x="27" y="14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28" y="5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"/>
              <p:cNvGrpSpPr/>
              <p:nvPr/>
            </p:nvGrpSpPr>
            <p:grpSpPr>
              <a:xfrm>
                <a:off x="1898640" y="3955680"/>
                <a:ext cx="34920" cy="23400"/>
                <a:chOff x="1898640" y="3955680"/>
                <a:chExt cx="34920" cy="23400"/>
              </a:xfrm>
            </p:grpSpPr>
            <p:sp>
              <p:nvSpPr>
                <p:cNvPr id="981" name=""/>
                <p:cNvSpPr/>
                <p:nvPr/>
              </p:nvSpPr>
              <p:spPr>
                <a:xfrm flipV="1">
                  <a:off x="1904760" y="3963240"/>
                  <a:ext cx="64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1914480" y="3957840"/>
                  <a:ext cx="468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V="1">
                  <a:off x="1922400" y="3955680"/>
                  <a:ext cx="612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1904760" y="3963240"/>
                  <a:ext cx="648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1915920" y="396144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1925640" y="3955680"/>
                  <a:ext cx="28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1904760" y="3963240"/>
                  <a:ext cx="972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1915920" y="396144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1925640" y="3955680"/>
                  <a:ext cx="28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901520" y="396864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1908000" y="3963240"/>
                  <a:ext cx="648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91916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91916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1925640" y="3957840"/>
                  <a:ext cx="14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927080" y="3957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901520" y="396864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908000" y="3966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911240" y="3964680"/>
                  <a:ext cx="4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91916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1920600" y="39614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92564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927080" y="3957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1901520" y="3968640"/>
                  <a:ext cx="180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908000" y="3966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11240" y="3964680"/>
                  <a:ext cx="4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91916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20600" y="39632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92564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V="1">
                  <a:off x="1927080" y="3957840"/>
                  <a:ext cx="14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901520" y="3968640"/>
                  <a:ext cx="180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1908000" y="3964680"/>
                  <a:ext cx="792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91916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920600" y="39632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2564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92708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901520" y="397224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1908000" y="3964680"/>
                  <a:ext cx="792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919160" y="39646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920600" y="39632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192564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92708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1903320" y="39718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1909440" y="3966840"/>
                  <a:ext cx="64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919160" y="39646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1922400" y="3963240"/>
                  <a:ext cx="32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92564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1927080" y="39614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V="1">
                  <a:off x="1903320" y="39718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1909440" y="3966840"/>
                  <a:ext cx="64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920600" y="396468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922400" y="396468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92564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1928520" y="39614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03320" y="397440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1909440" y="3966840"/>
                  <a:ext cx="648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1920600" y="396432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922400" y="396468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V="1">
                  <a:off x="1925640" y="39632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928520" y="39632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903320" y="397440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1909440" y="3966840"/>
                  <a:ext cx="972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1920600" y="39668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1925640" y="396468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928520" y="3963240"/>
                  <a:ext cx="32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1903320" y="397440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1909440" y="3968640"/>
                  <a:ext cx="972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920600" y="39668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1925640" y="396432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1928520" y="3963240"/>
                  <a:ext cx="32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1903320" y="397440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1909440" y="397188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1915920" y="3968640"/>
                  <a:ext cx="32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1920600" y="39668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1925640" y="396432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928520" y="396468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904760" y="3975840"/>
                  <a:ext cx="32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1911240" y="397188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1915920" y="3968640"/>
                  <a:ext cx="32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920600" y="396864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925640" y="3966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928520" y="396468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904760" y="3975840"/>
                  <a:ext cx="32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1911240" y="3971880"/>
                  <a:ext cx="93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920600" y="396864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927080" y="3966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931760" y="396468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V="1">
                  <a:off x="1909440" y="3972240"/>
                  <a:ext cx="1116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1920600" y="3968640"/>
                  <a:ext cx="50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1927080" y="39668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1931760" y="396432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1909440" y="3972240"/>
                  <a:ext cx="1116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1920600" y="3968640"/>
                  <a:ext cx="50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927080" y="39686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1931760" y="3964320"/>
                  <a:ext cx="18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1904760" y="3977280"/>
                  <a:ext cx="4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1911240" y="3974400"/>
                  <a:ext cx="79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920600" y="397224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927080" y="3968640"/>
                  <a:ext cx="14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931760" y="3966840"/>
                  <a:ext cx="18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1903320" y="3975840"/>
                  <a:ext cx="61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1903320" y="3975840"/>
                  <a:ext cx="61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898640" y="396684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1898640" y="396684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1898640" y="3966840"/>
                  <a:ext cx="4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"/>
              <p:cNvSpPr/>
              <p:nvPr/>
            </p:nvSpPr>
            <p:spPr>
              <a:xfrm flipV="1">
                <a:off x="1909440" y="3976560"/>
                <a:ext cx="9720" cy="3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20600" y="3976560"/>
                <a:ext cx="1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1925640" y="3969000"/>
                <a:ext cx="9360" cy="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1935000" y="3967200"/>
                <a:ext cx="4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1911240" y="3978000"/>
                <a:ext cx="9360" cy="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1922400" y="3976560"/>
                <a:ext cx="61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928520" y="3972240"/>
                <a:ext cx="64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350800" y="3969000"/>
                <a:ext cx="12960" cy="5760"/>
              </a:xfrm>
              <a:prstGeom prst="rect">
                <a:avLst/>
              </a:prstGeom>
              <a:solidFill>
                <a:srgbClr val="7c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354040" y="3994560"/>
                <a:ext cx="12600" cy="3600"/>
              </a:xfrm>
              <a:prstGeom prst="rect">
                <a:avLst/>
              </a:prstGeom>
              <a:solidFill>
                <a:srgbClr val="7c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350800" y="3969000"/>
                <a:ext cx="12960" cy="5760"/>
              </a:xfrm>
              <a:prstGeom prst="rect">
                <a:avLst/>
              </a:prstGeom>
              <a:solidFill>
                <a:srgbClr val="b3f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354040" y="3994560"/>
                <a:ext cx="12600" cy="3600"/>
              </a:xfrm>
              <a:prstGeom prst="rect">
                <a:avLst/>
              </a:prstGeom>
              <a:solidFill>
                <a:srgbClr val="3c3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420640" y="399456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420640" y="3994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420640" y="3994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2373120" y="3990960"/>
                <a:ext cx="9720" cy="10800"/>
                <a:chOff x="2373120" y="3990960"/>
                <a:chExt cx="9720" cy="108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2373120" y="399456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373120" y="399996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1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377800" y="39945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373120" y="3990960"/>
                  <a:ext cx="6480" cy="36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373120" y="3990960"/>
                <a:ext cx="7920" cy="4680"/>
                <a:chOff x="2373120" y="3990960"/>
                <a:chExt cx="7920" cy="46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2379600" y="3990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2373120" y="39942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373120" y="3990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8" name=""/>
              <p:cNvSpPr/>
              <p:nvPr/>
            </p:nvSpPr>
            <p:spPr>
              <a:xfrm>
                <a:off x="2373120" y="39909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373120" y="39945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373120" y="39909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373120" y="39945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73080" y="4024080"/>
                <a:ext cx="574560" cy="25200"/>
              </a:xfrm>
              <a:custGeom>
                <a:avLst/>
                <a:gdLst/>
                <a:ahLst/>
                <a:rect l="l" t="t" r="r" b="b"/>
                <a:pathLst>
                  <a:path w="362" h="14">
                    <a:moveTo>
                      <a:pt x="362" y="0"/>
                    </a:moveTo>
                    <a:lnTo>
                      <a:pt x="362" y="14"/>
                    </a:lnTo>
                    <a:lnTo>
                      <a:pt x="0" y="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334960" y="4020120"/>
                <a:ext cx="1800" cy="252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70080" y="4020120"/>
                <a:ext cx="1440" cy="252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003400" y="4020120"/>
                <a:ext cx="1440" cy="252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1873080" y="4008600"/>
                <a:ext cx="1440" cy="36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2006280" y="3943440"/>
                <a:ext cx="79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flipV="1">
                <a:off x="2174760" y="3945240"/>
                <a:ext cx="6480" cy="59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 flipV="1">
                <a:off x="2336760" y="3946680"/>
                <a:ext cx="9360" cy="57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670040" y="3875760"/>
                <a:ext cx="780840" cy="45720"/>
              </a:xfrm>
              <a:custGeom>
                <a:avLst/>
                <a:gdLst/>
                <a:ahLst/>
                <a:rect l="l" t="t" r="r" b="b"/>
                <a:pathLst>
                  <a:path w="492" h="25">
                    <a:moveTo>
                      <a:pt x="492" y="25"/>
                    </a:moveTo>
                    <a:lnTo>
                      <a:pt x="117" y="25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1667880" y="3875760"/>
                <a:ext cx="18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1666800" y="387576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55800" y="3921840"/>
                <a:ext cx="1440" cy="21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16000" y="3976560"/>
                <a:ext cx="15840" cy="72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1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c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16000" y="397800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c3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44760" y="4067280"/>
                <a:ext cx="288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4476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3504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3504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2712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42712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41920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41920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41272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41272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40336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4033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39544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39544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38572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385720" y="4067280"/>
                <a:ext cx="504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37960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37960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37168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37168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36376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36376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35404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35404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4792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34792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33964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3964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33028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33028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32236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2236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31588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31588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0796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30796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29860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29860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9068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29068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28420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28420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27484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27484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26692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26692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5900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25900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25252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5252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24280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24280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23668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23668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22876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2287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22228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22228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21292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21292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20500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20500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9708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19708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19060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19060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18124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181240" y="40672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17296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729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6360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6360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5712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5712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14920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14920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4128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4128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3192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3192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2544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2544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1752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1752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10816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10816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0024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0024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09376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9376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08584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08584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07612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076120" y="4067280"/>
                <a:ext cx="504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6820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820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08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08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52360" y="4067280"/>
                <a:ext cx="504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523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4444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04444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03652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3652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030400" y="4067280"/>
                <a:ext cx="288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03040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02068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02068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01276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0127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00340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00340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99692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99692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98900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98900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98108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98108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97136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971360" y="4067280"/>
                <a:ext cx="504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96524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96524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95732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95732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94760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947600" y="4067280"/>
                <a:ext cx="504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93968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93968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93356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1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3356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925640" y="4067280"/>
                <a:ext cx="288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925640" y="4067280"/>
                <a:ext cx="144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91592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1592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2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90800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90800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90152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90152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92160" y="4067280"/>
                <a:ext cx="4680" cy="67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2" y="37"/>
                    </a:moveTo>
                    <a:lnTo>
                      <a:pt x="3" y="3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89216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884240" y="4067280"/>
                <a:ext cx="648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1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884240" y="4067280"/>
                <a:ext cx="4680" cy="655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36"/>
                    </a:moveTo>
                    <a:lnTo>
                      <a:pt x="3" y="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876320" y="406728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2" y="37"/>
                    </a:moveTo>
                    <a:lnTo>
                      <a:pt x="4" y="3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876320" y="4067280"/>
                <a:ext cx="3240" cy="655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1" y="36"/>
                    </a:moveTo>
                    <a:lnTo>
                      <a:pt x="2" y="3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869840" y="4067280"/>
                <a:ext cx="3240" cy="676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37"/>
                    </a:moveTo>
                    <a:lnTo>
                      <a:pt x="2" y="3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69840" y="4067280"/>
                <a:ext cx="1800" cy="65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1" y="3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0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865160" y="4098240"/>
                <a:ext cx="5904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1744560" y="3399840"/>
                <a:ext cx="95040" cy="411840"/>
                <a:chOff x="1744560" y="3399840"/>
                <a:chExt cx="95040" cy="4118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1744560" y="3399840"/>
                  <a:ext cx="95040" cy="411840"/>
                </a:xfrm>
                <a:custGeom>
                  <a:avLst/>
                  <a:gdLst/>
                  <a:ahLst/>
                  <a:rect l="l" t="t" r="r" b="b"/>
                  <a:pathLst>
                    <a:path w="60" h="226">
                      <a:moveTo>
                        <a:pt x="57" y="226"/>
                      </a:moveTo>
                      <a:lnTo>
                        <a:pt x="56" y="225"/>
                      </a:lnTo>
                      <a:lnTo>
                        <a:pt x="52" y="225"/>
                      </a:lnTo>
                      <a:lnTo>
                        <a:pt x="45" y="222"/>
                      </a:lnTo>
                      <a:lnTo>
                        <a:pt x="38" y="221"/>
                      </a:lnTo>
                      <a:lnTo>
                        <a:pt x="30" y="220"/>
                      </a:lnTo>
                      <a:lnTo>
                        <a:pt x="23" y="219"/>
                      </a:lnTo>
                      <a:lnTo>
                        <a:pt x="19" y="218"/>
                      </a:lnTo>
                      <a:lnTo>
                        <a:pt x="17" y="216"/>
                      </a:lnTo>
                      <a:lnTo>
                        <a:pt x="0" y="201"/>
                      </a:lnTo>
                      <a:lnTo>
                        <a:pt x="0" y="18"/>
                      </a:lnTo>
                      <a:lnTo>
                        <a:pt x="3" y="15"/>
                      </a:lnTo>
                      <a:lnTo>
                        <a:pt x="9" y="9"/>
                      </a:lnTo>
                      <a:lnTo>
                        <a:pt x="14" y="4"/>
                      </a:ln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1"/>
                      </a:lnTo>
                      <a:lnTo>
                        <a:pt x="45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57" y="226"/>
                      </a:lnTo>
                      <a:close/>
                    </a:path>
                  </a:pathLst>
                </a:custGeom>
                <a:solidFill>
                  <a:srgbClr val="b8bb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744560" y="3399840"/>
                  <a:ext cx="95040" cy="411840"/>
                </a:xfrm>
                <a:custGeom>
                  <a:avLst/>
                  <a:gdLst/>
                  <a:ahLst/>
                  <a:rect l="l" t="t" r="r" b="b"/>
                  <a:pathLst>
                    <a:path w="60" h="226">
                      <a:moveTo>
                        <a:pt x="57" y="226"/>
                      </a:moveTo>
                      <a:lnTo>
                        <a:pt x="57" y="226"/>
                      </a:lnTo>
                      <a:lnTo>
                        <a:pt x="56" y="225"/>
                      </a:lnTo>
                      <a:lnTo>
                        <a:pt x="52" y="225"/>
                      </a:lnTo>
                      <a:lnTo>
                        <a:pt x="45" y="222"/>
                      </a:lnTo>
                      <a:lnTo>
                        <a:pt x="38" y="221"/>
                      </a:lnTo>
                      <a:lnTo>
                        <a:pt x="30" y="220"/>
                      </a:lnTo>
                      <a:lnTo>
                        <a:pt x="23" y="219"/>
                      </a:lnTo>
                      <a:lnTo>
                        <a:pt x="19" y="218"/>
                      </a:lnTo>
                      <a:lnTo>
                        <a:pt x="17" y="216"/>
                      </a:lnTo>
                      <a:lnTo>
                        <a:pt x="0" y="20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3" y="15"/>
                      </a:lnTo>
                      <a:lnTo>
                        <a:pt x="9" y="9"/>
                      </a:lnTo>
                      <a:lnTo>
                        <a:pt x="14" y="4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1"/>
                      </a:lnTo>
                      <a:lnTo>
                        <a:pt x="45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57" y="226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1820520" y="3389400"/>
                <a:ext cx="582840" cy="446040"/>
                <a:chOff x="1820520" y="3389400"/>
                <a:chExt cx="582840" cy="4460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1820520" y="3389400"/>
                  <a:ext cx="582840" cy="446040"/>
                </a:xfrm>
                <a:custGeom>
                  <a:avLst/>
                  <a:gdLst/>
                  <a:ahLst/>
                  <a:rect l="l" t="t" r="r" b="b"/>
                  <a:pathLst>
                    <a:path w="367" h="245">
                      <a:moveTo>
                        <a:pt x="56" y="245"/>
                      </a:moveTo>
                      <a:lnTo>
                        <a:pt x="55" y="245"/>
                      </a:lnTo>
                      <a:lnTo>
                        <a:pt x="49" y="244"/>
                      </a:lnTo>
                      <a:lnTo>
                        <a:pt x="41" y="243"/>
                      </a:lnTo>
                      <a:lnTo>
                        <a:pt x="33" y="242"/>
                      </a:lnTo>
                      <a:lnTo>
                        <a:pt x="25" y="240"/>
                      </a:lnTo>
                      <a:lnTo>
                        <a:pt x="17" y="239"/>
                      </a:lnTo>
                      <a:lnTo>
                        <a:pt x="12" y="238"/>
                      </a:lnTo>
                      <a:lnTo>
                        <a:pt x="9" y="237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1" y="231"/>
                      </a:lnTo>
                      <a:lnTo>
                        <a:pt x="0" y="225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20" y="1"/>
                      </a:lnTo>
                      <a:lnTo>
                        <a:pt x="28" y="1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62" y="0"/>
                      </a:lnTo>
                      <a:lnTo>
                        <a:pt x="74" y="0"/>
                      </a:lnTo>
                      <a:lnTo>
                        <a:pt x="90" y="0"/>
                      </a:lnTo>
                      <a:lnTo>
                        <a:pt x="109" y="0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53" y="0"/>
                      </a:lnTo>
                      <a:lnTo>
                        <a:pt x="157" y="0"/>
                      </a:lnTo>
                      <a:lnTo>
                        <a:pt x="167" y="0"/>
                      </a:lnTo>
                      <a:lnTo>
                        <a:pt x="188" y="0"/>
                      </a:lnTo>
                      <a:lnTo>
                        <a:pt x="220" y="0"/>
                      </a:lnTo>
                      <a:lnTo>
                        <a:pt x="258" y="0"/>
                      </a:lnTo>
                      <a:lnTo>
                        <a:pt x="294" y="0"/>
                      </a:lnTo>
                      <a:lnTo>
                        <a:pt x="328" y="1"/>
                      </a:lnTo>
                      <a:lnTo>
                        <a:pt x="355" y="1"/>
                      </a:lnTo>
                      <a:lnTo>
                        <a:pt x="367" y="1"/>
                      </a:lnTo>
                      <a:lnTo>
                        <a:pt x="365" y="3"/>
                      </a:lnTo>
                      <a:lnTo>
                        <a:pt x="355" y="12"/>
                      </a:lnTo>
                      <a:lnTo>
                        <a:pt x="339" y="24"/>
                      </a:lnTo>
                      <a:lnTo>
                        <a:pt x="320" y="39"/>
                      </a:lnTo>
                      <a:lnTo>
                        <a:pt x="296" y="57"/>
                      </a:lnTo>
                      <a:lnTo>
                        <a:pt x="270" y="79"/>
                      </a:lnTo>
                      <a:lnTo>
                        <a:pt x="243" y="100"/>
                      </a:lnTo>
                      <a:lnTo>
                        <a:pt x="214" y="123"/>
                      </a:lnTo>
                      <a:lnTo>
                        <a:pt x="184" y="146"/>
                      </a:lnTo>
                      <a:lnTo>
                        <a:pt x="156" y="169"/>
                      </a:lnTo>
                      <a:lnTo>
                        <a:pt x="129" y="189"/>
                      </a:lnTo>
                      <a:lnTo>
                        <a:pt x="106" y="207"/>
                      </a:lnTo>
                      <a:lnTo>
                        <a:pt x="86" y="222"/>
                      </a:lnTo>
                      <a:lnTo>
                        <a:pt x="70" y="234"/>
                      </a:lnTo>
                      <a:lnTo>
                        <a:pt x="60" y="243"/>
                      </a:lnTo>
                      <a:lnTo>
                        <a:pt x="56" y="245"/>
                      </a:lnTo>
                      <a:close/>
                    </a:path>
                  </a:pathLst>
                </a:custGeom>
                <a:solidFill>
                  <a:srgbClr val="b8bb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820520" y="3389400"/>
                  <a:ext cx="582840" cy="446040"/>
                </a:xfrm>
                <a:custGeom>
                  <a:avLst/>
                  <a:gdLst/>
                  <a:ahLst/>
                  <a:rect l="l" t="t" r="r" b="b"/>
                  <a:pathLst>
                    <a:path w="367" h="245">
                      <a:moveTo>
                        <a:pt x="56" y="245"/>
                      </a:moveTo>
                      <a:lnTo>
                        <a:pt x="56" y="245"/>
                      </a:lnTo>
                      <a:lnTo>
                        <a:pt x="55" y="245"/>
                      </a:lnTo>
                      <a:lnTo>
                        <a:pt x="49" y="244"/>
                      </a:lnTo>
                      <a:lnTo>
                        <a:pt x="41" y="243"/>
                      </a:lnTo>
                      <a:lnTo>
                        <a:pt x="33" y="242"/>
                      </a:lnTo>
                      <a:lnTo>
                        <a:pt x="25" y="240"/>
                      </a:lnTo>
                      <a:lnTo>
                        <a:pt x="17" y="239"/>
                      </a:lnTo>
                      <a:lnTo>
                        <a:pt x="12" y="238"/>
                      </a:lnTo>
                      <a:lnTo>
                        <a:pt x="9" y="237"/>
                      </a:lnTo>
                      <a:lnTo>
                        <a:pt x="9" y="237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1" y="231"/>
                      </a:lnTo>
                      <a:lnTo>
                        <a:pt x="0" y="22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20" y="1"/>
                      </a:lnTo>
                      <a:lnTo>
                        <a:pt x="28" y="1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lnTo>
                        <a:pt x="62" y="0"/>
                      </a:lnTo>
                      <a:lnTo>
                        <a:pt x="74" y="0"/>
                      </a:lnTo>
                      <a:lnTo>
                        <a:pt x="90" y="0"/>
                      </a:lnTo>
                      <a:lnTo>
                        <a:pt x="109" y="0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53" y="0"/>
                      </a:lnTo>
                      <a:lnTo>
                        <a:pt x="157" y="0"/>
                      </a:lnTo>
                      <a:lnTo>
                        <a:pt x="157" y="0"/>
                      </a:lnTo>
                      <a:lnTo>
                        <a:pt x="167" y="0"/>
                      </a:lnTo>
                      <a:lnTo>
                        <a:pt x="188" y="0"/>
                      </a:lnTo>
                      <a:lnTo>
                        <a:pt x="220" y="0"/>
                      </a:lnTo>
                      <a:lnTo>
                        <a:pt x="258" y="0"/>
                      </a:lnTo>
                      <a:lnTo>
                        <a:pt x="294" y="0"/>
                      </a:lnTo>
                      <a:lnTo>
                        <a:pt x="328" y="1"/>
                      </a:lnTo>
                      <a:lnTo>
                        <a:pt x="355" y="1"/>
                      </a:lnTo>
                      <a:lnTo>
                        <a:pt x="367" y="1"/>
                      </a:lnTo>
                      <a:lnTo>
                        <a:pt x="367" y="1"/>
                      </a:lnTo>
                      <a:lnTo>
                        <a:pt x="365" y="3"/>
                      </a:lnTo>
                      <a:lnTo>
                        <a:pt x="355" y="12"/>
                      </a:lnTo>
                      <a:lnTo>
                        <a:pt x="339" y="24"/>
                      </a:lnTo>
                      <a:lnTo>
                        <a:pt x="320" y="39"/>
                      </a:lnTo>
                      <a:lnTo>
                        <a:pt x="296" y="57"/>
                      </a:lnTo>
                      <a:lnTo>
                        <a:pt x="270" y="79"/>
                      </a:lnTo>
                      <a:lnTo>
                        <a:pt x="243" y="100"/>
                      </a:lnTo>
                      <a:lnTo>
                        <a:pt x="214" y="123"/>
                      </a:lnTo>
                      <a:lnTo>
                        <a:pt x="184" y="146"/>
                      </a:lnTo>
                      <a:lnTo>
                        <a:pt x="156" y="169"/>
                      </a:lnTo>
                      <a:lnTo>
                        <a:pt x="129" y="189"/>
                      </a:lnTo>
                      <a:lnTo>
                        <a:pt x="106" y="207"/>
                      </a:lnTo>
                      <a:lnTo>
                        <a:pt x="86" y="222"/>
                      </a:lnTo>
                      <a:lnTo>
                        <a:pt x="70" y="234"/>
                      </a:lnTo>
                      <a:lnTo>
                        <a:pt x="60" y="243"/>
                      </a:lnTo>
                      <a:lnTo>
                        <a:pt x="56" y="245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1833480" y="3854160"/>
                <a:ext cx="438120" cy="52560"/>
                <a:chOff x="1833480" y="3854160"/>
                <a:chExt cx="438120" cy="5256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833480" y="3854160"/>
                  <a:ext cx="438120" cy="52560"/>
                </a:xfrm>
                <a:custGeom>
                  <a:avLst/>
                  <a:gdLst/>
                  <a:ahLst/>
                  <a:rect l="l" t="t" r="r" b="b"/>
                  <a:pathLst>
                    <a:path w="276" h="29">
                      <a:moveTo>
                        <a:pt x="140" y="0"/>
                      </a:move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0" y="12"/>
                      </a:lnTo>
                      <a:lnTo>
                        <a:pt x="79" y="29"/>
                      </a:lnTo>
                      <a:lnTo>
                        <a:pt x="276" y="29"/>
                      </a:lnTo>
                      <a:lnTo>
                        <a:pt x="272" y="19"/>
                      </a:lnTo>
                      <a:lnTo>
                        <a:pt x="272" y="19"/>
                      </a:lnTo>
                      <a:lnTo>
                        <a:pt x="272" y="17"/>
                      </a:lnTo>
                      <a:lnTo>
                        <a:pt x="270" y="15"/>
                      </a:lnTo>
                      <a:lnTo>
                        <a:pt x="268" y="12"/>
                      </a:lnTo>
                      <a:lnTo>
                        <a:pt x="218" y="6"/>
                      </a:lnTo>
                      <a:lnTo>
                        <a:pt x="16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b8bb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833480" y="3854160"/>
                  <a:ext cx="438120" cy="52560"/>
                </a:xfrm>
                <a:custGeom>
                  <a:avLst/>
                  <a:gdLst/>
                  <a:ahLst/>
                  <a:rect l="l" t="t" r="r" b="b"/>
                  <a:pathLst>
                    <a:path w="276" h="29">
                      <a:moveTo>
                        <a:pt x="14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0" y="12"/>
                      </a:lnTo>
                      <a:lnTo>
                        <a:pt x="79" y="29"/>
                      </a:lnTo>
                      <a:lnTo>
                        <a:pt x="276" y="29"/>
                      </a:lnTo>
                      <a:lnTo>
                        <a:pt x="272" y="19"/>
                      </a:lnTo>
                      <a:lnTo>
                        <a:pt x="272" y="19"/>
                      </a:lnTo>
                      <a:lnTo>
                        <a:pt x="272" y="19"/>
                      </a:lnTo>
                      <a:lnTo>
                        <a:pt x="272" y="17"/>
                      </a:lnTo>
                      <a:lnTo>
                        <a:pt x="270" y="15"/>
                      </a:lnTo>
                      <a:lnTo>
                        <a:pt x="268" y="12"/>
                      </a:lnTo>
                      <a:lnTo>
                        <a:pt x="218" y="6"/>
                      </a:lnTo>
                      <a:lnTo>
                        <a:pt x="16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1958760" y="3887280"/>
                <a:ext cx="309600" cy="19800"/>
              </a:xfrm>
              <a:custGeom>
                <a:avLst/>
                <a:gdLst/>
                <a:ahLst/>
                <a:rect l="l" t="t" r="r" b="b"/>
                <a:pathLst>
                  <a:path w="195" h="11">
                    <a:moveTo>
                      <a:pt x="3" y="0"/>
                    </a:moveTo>
                    <a:lnTo>
                      <a:pt x="191" y="0"/>
                    </a:lnTo>
                    <a:lnTo>
                      <a:pt x="195" y="11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2d5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34920" y="3863520"/>
                <a:ext cx="128520" cy="4320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81" y="13"/>
                    </a:moveTo>
                    <a:lnTo>
                      <a:pt x="4" y="0"/>
                    </a:lnTo>
                    <a:lnTo>
                      <a:pt x="0" y="7"/>
                    </a:lnTo>
                    <a:lnTo>
                      <a:pt x="78" y="24"/>
                    </a:lnTo>
                    <a:lnTo>
                      <a:pt x="81" y="13"/>
                    </a:lnTo>
                    <a:close/>
                  </a:path>
                </a:pathLst>
              </a:custGeom>
              <a:solidFill>
                <a:srgbClr val="9fa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1965240" y="3887280"/>
                <a:ext cx="296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5" name=""/>
              <p:cNvGrpSpPr/>
              <p:nvPr/>
            </p:nvGrpSpPr>
            <p:grpSpPr>
              <a:xfrm>
                <a:off x="1965240" y="3885120"/>
                <a:ext cx="296640" cy="3240"/>
                <a:chOff x="1965240" y="3885120"/>
                <a:chExt cx="296640" cy="32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1965240" y="3886920"/>
                  <a:ext cx="2966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965240" y="3885120"/>
                  <a:ext cx="2966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 flipH="1">
                <a:off x="1965240" y="3885120"/>
                <a:ext cx="2966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9" name=""/>
              <p:cNvGrpSpPr/>
              <p:nvPr/>
            </p:nvGrpSpPr>
            <p:grpSpPr>
              <a:xfrm>
                <a:off x="1965240" y="3881880"/>
                <a:ext cx="295200" cy="4680"/>
                <a:chOff x="1965240" y="3881880"/>
                <a:chExt cx="295200" cy="468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1965240" y="3884760"/>
                  <a:ext cx="2952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965240" y="3881880"/>
                  <a:ext cx="295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 flipH="1">
                <a:off x="1965240" y="3881880"/>
                <a:ext cx="29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847520" y="3855960"/>
                <a:ext cx="406440" cy="23400"/>
              </a:xfrm>
              <a:custGeom>
                <a:avLst/>
                <a:gdLst/>
                <a:ahLst/>
                <a:rect l="l" t="t" r="r" b="b"/>
                <a:pathLst>
                  <a:path w="256" h="13">
                    <a:moveTo>
                      <a:pt x="0" y="1"/>
                    </a:moveTo>
                    <a:lnTo>
                      <a:pt x="70" y="12"/>
                    </a:lnTo>
                    <a:lnTo>
                      <a:pt x="70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7" y="13"/>
                    </a:lnTo>
                    <a:lnTo>
                      <a:pt x="256" y="13"/>
                    </a:lnTo>
                    <a:lnTo>
                      <a:pt x="256" y="13"/>
                    </a:lnTo>
                    <a:lnTo>
                      <a:pt x="256" y="13"/>
                    </a:lnTo>
                    <a:lnTo>
                      <a:pt x="255" y="12"/>
                    </a:lnTo>
                    <a:lnTo>
                      <a:pt x="248" y="11"/>
                    </a:lnTo>
                    <a:lnTo>
                      <a:pt x="158" y="1"/>
                    </a:lnTo>
                    <a:lnTo>
                      <a:pt x="156" y="1"/>
                    </a:lnTo>
                    <a:lnTo>
                      <a:pt x="155" y="1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97" y="0"/>
                    </a:lnTo>
                    <a:lnTo>
                      <a:pt x="71" y="0"/>
                    </a:lnTo>
                    <a:lnTo>
                      <a:pt x="46" y="0"/>
                    </a:lnTo>
                    <a:lnTo>
                      <a:pt x="24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58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4" name=""/>
              <p:cNvGrpSpPr/>
              <p:nvPr/>
            </p:nvGrpSpPr>
            <p:grpSpPr>
              <a:xfrm>
                <a:off x="1954080" y="3779640"/>
                <a:ext cx="183960" cy="90360"/>
                <a:chOff x="1954080" y="3779640"/>
                <a:chExt cx="183960" cy="9036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1954080" y="3779640"/>
                  <a:ext cx="183960" cy="90360"/>
                </a:xfrm>
                <a:custGeom>
                  <a:avLst/>
                  <a:gdLst/>
                  <a:ahLst/>
                  <a:rect l="l" t="t" r="r" b="b"/>
                  <a:pathLst>
                    <a:path w="116" h="50">
                      <a:moveTo>
                        <a:pt x="0" y="47"/>
                      </a:moveTo>
                      <a:lnTo>
                        <a:pt x="2" y="47"/>
                      </a:lnTo>
                      <a:lnTo>
                        <a:pt x="6" y="47"/>
                      </a:lnTo>
                      <a:lnTo>
                        <a:pt x="10" y="48"/>
                      </a:lnTo>
                      <a:lnTo>
                        <a:pt x="18" y="48"/>
                      </a:lnTo>
                      <a:lnTo>
                        <a:pt x="26" y="49"/>
                      </a:lnTo>
                      <a:lnTo>
                        <a:pt x="35" y="49"/>
                      </a:lnTo>
                      <a:lnTo>
                        <a:pt x="48" y="50"/>
                      </a:lnTo>
                      <a:lnTo>
                        <a:pt x="58" y="50"/>
                      </a:lnTo>
                      <a:lnTo>
                        <a:pt x="70" y="50"/>
                      </a:lnTo>
                      <a:lnTo>
                        <a:pt x="81" y="50"/>
                      </a:lnTo>
                      <a:lnTo>
                        <a:pt x="91" y="50"/>
                      </a:lnTo>
                      <a:lnTo>
                        <a:pt x="100" y="50"/>
                      </a:lnTo>
                      <a:lnTo>
                        <a:pt x="107" y="49"/>
                      </a:lnTo>
                      <a:lnTo>
                        <a:pt x="112" y="49"/>
                      </a:lnTo>
                      <a:lnTo>
                        <a:pt x="116" y="48"/>
                      </a:lnTo>
                      <a:lnTo>
                        <a:pt x="116" y="48"/>
                      </a:lnTo>
                      <a:lnTo>
                        <a:pt x="116" y="7"/>
                      </a:lnTo>
                      <a:lnTo>
                        <a:pt x="0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b8bb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954080" y="3779640"/>
                  <a:ext cx="183960" cy="90360"/>
                </a:xfrm>
                <a:custGeom>
                  <a:avLst/>
                  <a:gdLst/>
                  <a:ahLst/>
                  <a:rect l="l" t="t" r="r" b="b"/>
                  <a:pathLst>
                    <a:path w="116" h="50">
                      <a:moveTo>
                        <a:pt x="0" y="47"/>
                      </a:moveTo>
                      <a:lnTo>
                        <a:pt x="0" y="47"/>
                      </a:lnTo>
                      <a:lnTo>
                        <a:pt x="2" y="47"/>
                      </a:lnTo>
                      <a:lnTo>
                        <a:pt x="6" y="47"/>
                      </a:lnTo>
                      <a:lnTo>
                        <a:pt x="10" y="48"/>
                      </a:lnTo>
                      <a:lnTo>
                        <a:pt x="18" y="48"/>
                      </a:lnTo>
                      <a:lnTo>
                        <a:pt x="26" y="49"/>
                      </a:lnTo>
                      <a:lnTo>
                        <a:pt x="35" y="49"/>
                      </a:lnTo>
                      <a:lnTo>
                        <a:pt x="48" y="50"/>
                      </a:lnTo>
                      <a:lnTo>
                        <a:pt x="58" y="50"/>
                      </a:lnTo>
                      <a:lnTo>
                        <a:pt x="58" y="50"/>
                      </a:lnTo>
                      <a:lnTo>
                        <a:pt x="70" y="50"/>
                      </a:lnTo>
                      <a:lnTo>
                        <a:pt x="81" y="50"/>
                      </a:lnTo>
                      <a:lnTo>
                        <a:pt x="91" y="50"/>
                      </a:lnTo>
                      <a:lnTo>
                        <a:pt x="100" y="50"/>
                      </a:lnTo>
                      <a:lnTo>
                        <a:pt x="107" y="49"/>
                      </a:lnTo>
                      <a:lnTo>
                        <a:pt x="112" y="49"/>
                      </a:lnTo>
                      <a:lnTo>
                        <a:pt x="116" y="48"/>
                      </a:lnTo>
                      <a:lnTo>
                        <a:pt x="116" y="48"/>
                      </a:lnTo>
                      <a:lnTo>
                        <a:pt x="116" y="7"/>
                      </a:lnTo>
                      <a:lnTo>
                        <a:pt x="0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1958760" y="3779640"/>
                <a:ext cx="177840" cy="90360"/>
                <a:chOff x="1958760" y="3779640"/>
                <a:chExt cx="177840" cy="9036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1958760" y="3779640"/>
                  <a:ext cx="177840" cy="90360"/>
                </a:xfrm>
                <a:custGeom>
                  <a:avLst/>
                  <a:gdLst/>
                  <a:ahLst/>
                  <a:rect l="l" t="t" r="r" b="b"/>
                  <a:pathLst>
                    <a:path w="112" h="50">
                      <a:moveTo>
                        <a:pt x="112" y="48"/>
                      </a:moveTo>
                      <a:lnTo>
                        <a:pt x="111" y="49"/>
                      </a:lnTo>
                      <a:lnTo>
                        <a:pt x="106" y="49"/>
                      </a:lnTo>
                      <a:lnTo>
                        <a:pt x="101" y="50"/>
                      </a:lnTo>
                      <a:lnTo>
                        <a:pt x="94" y="50"/>
                      </a:lnTo>
                      <a:lnTo>
                        <a:pt x="86" y="50"/>
                      </a:lnTo>
                      <a:lnTo>
                        <a:pt x="77" y="50"/>
                      </a:lnTo>
                      <a:lnTo>
                        <a:pt x="67" y="50"/>
                      </a:lnTo>
                      <a:lnTo>
                        <a:pt x="55" y="50"/>
                      </a:lnTo>
                      <a:lnTo>
                        <a:pt x="45" y="50"/>
                      </a:lnTo>
                      <a:lnTo>
                        <a:pt x="34" y="49"/>
                      </a:lnTo>
                      <a:lnTo>
                        <a:pt x="24" y="49"/>
                      </a:lnTo>
                      <a:lnTo>
                        <a:pt x="16" y="49"/>
                      </a:lnTo>
                      <a:lnTo>
                        <a:pt x="10" y="48"/>
                      </a:lnTo>
                      <a:lnTo>
                        <a:pt x="4" y="47"/>
                      </a:lnTo>
                      <a:lnTo>
                        <a:pt x="1" y="47"/>
                      </a:lnTo>
                      <a:lnTo>
                        <a:pt x="0" y="47"/>
                      </a:lnTo>
                      <a:lnTo>
                        <a:pt x="0" y="0"/>
                      </a:lnTo>
                      <a:lnTo>
                        <a:pt x="112" y="7"/>
                      </a:lnTo>
                      <a:lnTo>
                        <a:pt x="112" y="48"/>
                      </a:lnTo>
                      <a:close/>
                    </a:path>
                  </a:pathLst>
                </a:custGeom>
                <a:solidFill>
                  <a:srgbClr val="bbbe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963440" y="3781080"/>
                  <a:ext cx="168480" cy="88920"/>
                </a:xfrm>
                <a:custGeom>
                  <a:avLst/>
                  <a:gdLst/>
                  <a:ahLst/>
                  <a:rect l="l" t="t" r="r" b="b"/>
                  <a:pathLst>
                    <a:path w="106" h="49">
                      <a:moveTo>
                        <a:pt x="106" y="48"/>
                      </a:moveTo>
                      <a:lnTo>
                        <a:pt x="105" y="48"/>
                      </a:lnTo>
                      <a:lnTo>
                        <a:pt x="101" y="48"/>
                      </a:lnTo>
                      <a:lnTo>
                        <a:pt x="97" y="49"/>
                      </a:lnTo>
                      <a:lnTo>
                        <a:pt x="90" y="49"/>
                      </a:lnTo>
                      <a:lnTo>
                        <a:pt x="82" y="49"/>
                      </a:lnTo>
                      <a:lnTo>
                        <a:pt x="73" y="49"/>
                      </a:lnTo>
                      <a:lnTo>
                        <a:pt x="63" y="49"/>
                      </a:lnTo>
                      <a:lnTo>
                        <a:pt x="52" y="49"/>
                      </a:lnTo>
                      <a:lnTo>
                        <a:pt x="42" y="49"/>
                      </a:lnTo>
                      <a:lnTo>
                        <a:pt x="31" y="48"/>
                      </a:lnTo>
                      <a:lnTo>
                        <a:pt x="23" y="48"/>
                      </a:lnTo>
                      <a:lnTo>
                        <a:pt x="15" y="48"/>
                      </a:lnTo>
                      <a:lnTo>
                        <a:pt x="9" y="47"/>
                      </a:lnTo>
                      <a:lnTo>
                        <a:pt x="4" y="47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06" y="6"/>
                      </a:lnTo>
                      <a:lnTo>
                        <a:pt x="106" y="48"/>
                      </a:lnTo>
                      <a:close/>
                    </a:path>
                  </a:pathLst>
                </a:custGeom>
                <a:solidFill>
                  <a:srgbClr val="bec1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0" name=""/>
              <p:cNvSpPr/>
              <p:nvPr/>
            </p:nvSpPr>
            <p:spPr>
              <a:xfrm>
                <a:off x="1966680" y="3781080"/>
                <a:ext cx="160560" cy="89280"/>
              </a:xfrm>
              <a:custGeom>
                <a:avLst/>
                <a:gdLst/>
                <a:ahLst/>
                <a:rect l="l" t="t" r="r" b="b"/>
                <a:pathLst>
                  <a:path w="101" h="49">
                    <a:moveTo>
                      <a:pt x="0" y="47"/>
                    </a:moveTo>
                    <a:lnTo>
                      <a:pt x="0" y="0"/>
                    </a:lnTo>
                    <a:lnTo>
                      <a:pt x="101" y="6"/>
                    </a:lnTo>
                    <a:lnTo>
                      <a:pt x="101" y="48"/>
                    </a:lnTo>
                    <a:lnTo>
                      <a:pt x="100" y="48"/>
                    </a:lnTo>
                    <a:lnTo>
                      <a:pt x="97" y="49"/>
                    </a:lnTo>
                    <a:lnTo>
                      <a:pt x="92" y="49"/>
                    </a:lnTo>
                    <a:lnTo>
                      <a:pt x="85" y="49"/>
                    </a:lnTo>
                    <a:lnTo>
                      <a:pt x="79" y="49"/>
                    </a:lnTo>
                    <a:lnTo>
                      <a:pt x="69" y="49"/>
                    </a:lnTo>
                    <a:lnTo>
                      <a:pt x="61" y="49"/>
                    </a:lnTo>
                    <a:lnTo>
                      <a:pt x="50" y="49"/>
                    </a:lnTo>
                    <a:lnTo>
                      <a:pt x="40" y="49"/>
                    </a:lnTo>
                    <a:lnTo>
                      <a:pt x="30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9" y="47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3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1971360" y="3781080"/>
                <a:ext cx="154080" cy="88920"/>
                <a:chOff x="1971360" y="3781080"/>
                <a:chExt cx="154080" cy="889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971360" y="3781080"/>
                  <a:ext cx="154080" cy="88920"/>
                </a:xfrm>
                <a:custGeom>
                  <a:avLst/>
                  <a:gdLst/>
                  <a:ahLst/>
                  <a:rect l="l" t="t" r="r" b="b"/>
                  <a:pathLst>
                    <a:path w="97" h="49">
                      <a:moveTo>
                        <a:pt x="97" y="48"/>
                      </a:moveTo>
                      <a:lnTo>
                        <a:pt x="94" y="48"/>
                      </a:lnTo>
                      <a:lnTo>
                        <a:pt x="92" y="49"/>
                      </a:lnTo>
                      <a:lnTo>
                        <a:pt x="86" y="49"/>
                      </a:lnTo>
                      <a:lnTo>
                        <a:pt x="81" y="49"/>
                      </a:lnTo>
                      <a:lnTo>
                        <a:pt x="74" y="49"/>
                      </a:lnTo>
                      <a:lnTo>
                        <a:pt x="66" y="49"/>
                      </a:lnTo>
                      <a:lnTo>
                        <a:pt x="57" y="49"/>
                      </a:lnTo>
                      <a:lnTo>
                        <a:pt x="47" y="49"/>
                      </a:lnTo>
                      <a:lnTo>
                        <a:pt x="37" y="49"/>
                      </a:lnTo>
                      <a:lnTo>
                        <a:pt x="27" y="49"/>
                      </a:lnTo>
                      <a:lnTo>
                        <a:pt x="19" y="48"/>
                      </a:lnTo>
                      <a:lnTo>
                        <a:pt x="12" y="48"/>
                      </a:lnTo>
                      <a:lnTo>
                        <a:pt x="7" y="48"/>
                      </a:lnTo>
                      <a:lnTo>
                        <a:pt x="4" y="47"/>
                      </a:lnTo>
                      <a:lnTo>
                        <a:pt x="2" y="47"/>
                      </a:lnTo>
                      <a:lnTo>
                        <a:pt x="0" y="47"/>
                      </a:lnTo>
                      <a:lnTo>
                        <a:pt x="0" y="0"/>
                      </a:lnTo>
                      <a:lnTo>
                        <a:pt x="97" y="7"/>
                      </a:lnTo>
                      <a:lnTo>
                        <a:pt x="97" y="48"/>
                      </a:lnTo>
                      <a:close/>
                    </a:path>
                  </a:pathLst>
                </a:custGeom>
                <a:solidFill>
                  <a:srgbClr val="c0c3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976400" y="3784680"/>
                  <a:ext cx="144360" cy="85320"/>
                </a:xfrm>
                <a:custGeom>
                  <a:avLst/>
                  <a:gdLst/>
                  <a:ahLst/>
                  <a:rect l="l" t="t" r="r" b="b"/>
                  <a:pathLst>
                    <a:path w="91" h="47">
                      <a:moveTo>
                        <a:pt x="91" y="46"/>
                      </a:moveTo>
                      <a:lnTo>
                        <a:pt x="90" y="47"/>
                      </a:lnTo>
                      <a:lnTo>
                        <a:pt x="86" y="47"/>
                      </a:lnTo>
                      <a:lnTo>
                        <a:pt x="82" y="47"/>
                      </a:lnTo>
                      <a:lnTo>
                        <a:pt x="77" y="47"/>
                      </a:lnTo>
                      <a:lnTo>
                        <a:pt x="69" y="47"/>
                      </a:lnTo>
                      <a:lnTo>
                        <a:pt x="62" y="47"/>
                      </a:lnTo>
                      <a:lnTo>
                        <a:pt x="54" y="47"/>
                      </a:lnTo>
                      <a:lnTo>
                        <a:pt x="44" y="47"/>
                      </a:lnTo>
                      <a:lnTo>
                        <a:pt x="34" y="47"/>
                      </a:lnTo>
                      <a:lnTo>
                        <a:pt x="24" y="47"/>
                      </a:lnTo>
                      <a:lnTo>
                        <a:pt x="17" y="46"/>
                      </a:lnTo>
                      <a:lnTo>
                        <a:pt x="11" y="46"/>
                      </a:lnTo>
                      <a:lnTo>
                        <a:pt x="7" y="46"/>
                      </a:lnTo>
                      <a:lnTo>
                        <a:pt x="3" y="45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91" y="5"/>
                      </a:lnTo>
                      <a:lnTo>
                        <a:pt x="91" y="46"/>
                      </a:lnTo>
                      <a:close/>
                    </a:path>
                  </a:pathLst>
                </a:custGeom>
                <a:solidFill>
                  <a:srgbClr val="c3c6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4" name=""/>
              <p:cNvSpPr/>
              <p:nvPr/>
            </p:nvSpPr>
            <p:spPr>
              <a:xfrm>
                <a:off x="1981080" y="3785040"/>
                <a:ext cx="136440" cy="85320"/>
              </a:xfrm>
              <a:custGeom>
                <a:avLst/>
                <a:gdLst/>
                <a:ahLst/>
                <a:rect l="l" t="t" r="r" b="b"/>
                <a:pathLst>
                  <a:path w="86" h="47">
                    <a:moveTo>
                      <a:pt x="86" y="5"/>
                    </a:moveTo>
                    <a:lnTo>
                      <a:pt x="86" y="47"/>
                    </a:lnTo>
                    <a:lnTo>
                      <a:pt x="84" y="47"/>
                    </a:lnTo>
                    <a:lnTo>
                      <a:pt x="82" y="47"/>
                    </a:lnTo>
                    <a:lnTo>
                      <a:pt x="76" y="47"/>
                    </a:lnTo>
                    <a:lnTo>
                      <a:pt x="71" y="47"/>
                    </a:lnTo>
                    <a:lnTo>
                      <a:pt x="64" y="47"/>
                    </a:lnTo>
                    <a:lnTo>
                      <a:pt x="57" y="47"/>
                    </a:lnTo>
                    <a:lnTo>
                      <a:pt x="49" y="47"/>
                    </a:lnTo>
                    <a:lnTo>
                      <a:pt x="41" y="47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4" y="46"/>
                    </a:lnTo>
                    <a:lnTo>
                      <a:pt x="9" y="46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86" y="5"/>
                    </a:lnTo>
                    <a:close/>
                  </a:path>
                </a:pathLst>
              </a:custGeom>
              <a:solidFill>
                <a:srgbClr val="c5c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5" name=""/>
              <p:cNvGrpSpPr/>
              <p:nvPr/>
            </p:nvGrpSpPr>
            <p:grpSpPr>
              <a:xfrm>
                <a:off x="1984320" y="3785040"/>
                <a:ext cx="128520" cy="84960"/>
                <a:chOff x="1984320" y="3785040"/>
                <a:chExt cx="128520" cy="849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984320" y="3785040"/>
                  <a:ext cx="128520" cy="84960"/>
                </a:xfrm>
                <a:custGeom>
                  <a:avLst/>
                  <a:gdLst/>
                  <a:ahLst/>
                  <a:rect l="l" t="t" r="r" b="b"/>
                  <a:pathLst>
                    <a:path w="81" h="47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81" y="5"/>
                      </a:lnTo>
                      <a:lnTo>
                        <a:pt x="81" y="47"/>
                      </a:lnTo>
                      <a:lnTo>
                        <a:pt x="80" y="47"/>
                      </a:lnTo>
                      <a:lnTo>
                        <a:pt x="77" y="47"/>
                      </a:lnTo>
                      <a:lnTo>
                        <a:pt x="72" y="47"/>
                      </a:lnTo>
                      <a:lnTo>
                        <a:pt x="66" y="47"/>
                      </a:lnTo>
                      <a:lnTo>
                        <a:pt x="61" y="47"/>
                      </a:lnTo>
                      <a:lnTo>
                        <a:pt x="54" y="47"/>
                      </a:lnTo>
                      <a:lnTo>
                        <a:pt x="47" y="47"/>
                      </a:lnTo>
                      <a:lnTo>
                        <a:pt x="39" y="47"/>
                      </a:lnTo>
                      <a:lnTo>
                        <a:pt x="20" y="47"/>
                      </a:lnTo>
                      <a:lnTo>
                        <a:pt x="8" y="46"/>
                      </a:lnTo>
                      <a:lnTo>
                        <a:pt x="3" y="46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8c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989000" y="3786480"/>
                  <a:ext cx="119160" cy="8352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75" y="4"/>
                      </a:lnTo>
                      <a:lnTo>
                        <a:pt x="75" y="46"/>
                      </a:lnTo>
                      <a:lnTo>
                        <a:pt x="71" y="46"/>
                      </a:lnTo>
                      <a:lnTo>
                        <a:pt x="62" y="46"/>
                      </a:lnTo>
                      <a:lnTo>
                        <a:pt x="50" y="46"/>
                      </a:lnTo>
                      <a:lnTo>
                        <a:pt x="36" y="46"/>
                      </a:lnTo>
                      <a:lnTo>
                        <a:pt x="17" y="46"/>
                      </a:lnTo>
                      <a:lnTo>
                        <a:pt x="7" y="45"/>
                      </a:lnTo>
                      <a:lnTo>
                        <a:pt x="3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ac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995480" y="3786480"/>
                  <a:ext cx="109440" cy="83520"/>
                </a:xfrm>
                <a:custGeom>
                  <a:avLst/>
                  <a:gdLst/>
                  <a:ahLst/>
                  <a:rect l="l" t="t" r="r" b="b"/>
                  <a:pathLst>
                    <a:path w="69" h="46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69" y="4"/>
                      </a:lnTo>
                      <a:lnTo>
                        <a:pt x="69" y="46"/>
                      </a:lnTo>
                      <a:lnTo>
                        <a:pt x="65" y="46"/>
                      </a:lnTo>
                      <a:lnTo>
                        <a:pt x="55" y="46"/>
                      </a:lnTo>
                      <a:lnTo>
                        <a:pt x="44" y="46"/>
                      </a:lnTo>
                      <a:lnTo>
                        <a:pt x="32" y="46"/>
                      </a:lnTo>
                      <a:lnTo>
                        <a:pt x="13" y="46"/>
                      </a:lnTo>
                      <a:lnTo>
                        <a:pt x="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dd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000160" y="3788640"/>
                  <a:ext cx="100080" cy="8136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63" y="3"/>
                      </a:lnTo>
                      <a:lnTo>
                        <a:pt x="63" y="45"/>
                      </a:lnTo>
                      <a:lnTo>
                        <a:pt x="59" y="45"/>
                      </a:lnTo>
                      <a:lnTo>
                        <a:pt x="51" y="45"/>
                      </a:lnTo>
                      <a:lnTo>
                        <a:pt x="40" y="45"/>
                      </a:lnTo>
                      <a:lnTo>
                        <a:pt x="29" y="45"/>
                      </a:lnTo>
                      <a:lnTo>
                        <a:pt x="12" y="45"/>
                      </a:lnTo>
                      <a:lnTo>
                        <a:pt x="2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cfd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0" name=""/>
              <p:cNvSpPr/>
              <p:nvPr/>
            </p:nvSpPr>
            <p:spPr>
              <a:xfrm>
                <a:off x="2003400" y="3788640"/>
                <a:ext cx="91800" cy="817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4"/>
                    </a:moveTo>
                    <a:lnTo>
                      <a:pt x="0" y="44"/>
                    </a:lnTo>
                    <a:lnTo>
                      <a:pt x="2" y="44"/>
                    </a:lnTo>
                    <a:lnTo>
                      <a:pt x="10" y="45"/>
                    </a:lnTo>
                    <a:lnTo>
                      <a:pt x="27" y="45"/>
                    </a:lnTo>
                    <a:lnTo>
                      <a:pt x="37" y="45"/>
                    </a:lnTo>
                    <a:lnTo>
                      <a:pt x="46" y="45"/>
                    </a:lnTo>
                    <a:lnTo>
                      <a:pt x="54" y="45"/>
                    </a:lnTo>
                    <a:lnTo>
                      <a:pt x="58" y="45"/>
                    </a:lnTo>
                    <a:lnTo>
                      <a:pt x="58" y="3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2d5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54080" y="3865320"/>
                <a:ext cx="183960" cy="5040"/>
              </a:xfrm>
              <a:custGeom>
                <a:avLst/>
                <a:gdLst/>
                <a:ahLst/>
                <a:rect l="l" t="t" r="r" b="b"/>
                <a:pathLst>
                  <a:path w="116" h="3">
                    <a:moveTo>
                      <a:pt x="116" y="1"/>
                    </a:moveTo>
                    <a:lnTo>
                      <a:pt x="116" y="1"/>
                    </a:lnTo>
                    <a:lnTo>
                      <a:pt x="116" y="1"/>
                    </a:lnTo>
                    <a:lnTo>
                      <a:pt x="115" y="2"/>
                    </a:lnTo>
                    <a:lnTo>
                      <a:pt x="111" y="2"/>
                    </a:lnTo>
                    <a:lnTo>
                      <a:pt x="105" y="3"/>
                    </a:lnTo>
                    <a:lnTo>
                      <a:pt x="97" y="3"/>
                    </a:lnTo>
                    <a:lnTo>
                      <a:pt x="88" y="3"/>
                    </a:lnTo>
                    <a:lnTo>
                      <a:pt x="76" y="3"/>
                    </a:lnTo>
                    <a:lnTo>
                      <a:pt x="61" y="3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3" y="3"/>
                    </a:lnTo>
                    <a:lnTo>
                      <a:pt x="43" y="3"/>
                    </a:lnTo>
                    <a:lnTo>
                      <a:pt x="34" y="2"/>
                    </a:lnTo>
                    <a:lnTo>
                      <a:pt x="23" y="2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1941480" y="3832560"/>
                <a:ext cx="382320" cy="11880"/>
                <a:chOff x="1941480" y="3832560"/>
                <a:chExt cx="382320" cy="118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941480" y="3832560"/>
                  <a:ext cx="382320" cy="11880"/>
                </a:xfrm>
                <a:custGeom>
                  <a:avLst/>
                  <a:gdLst/>
                  <a:ahLst/>
                  <a:rect l="l" t="t" r="r" b="b"/>
                  <a:pathLst>
                    <a:path w="241" h="7">
                      <a:moveTo>
                        <a:pt x="0" y="2"/>
                      </a:moveTo>
                      <a:lnTo>
                        <a:pt x="7" y="5"/>
                      </a:lnTo>
                      <a:lnTo>
                        <a:pt x="14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37" y="7"/>
                      </a:lnTo>
                      <a:lnTo>
                        <a:pt x="239" y="7"/>
                      </a:lnTo>
                      <a:lnTo>
                        <a:pt x="240" y="6"/>
                      </a:lnTo>
                      <a:lnTo>
                        <a:pt x="241" y="5"/>
                      </a:lnTo>
                      <a:lnTo>
                        <a:pt x="241" y="3"/>
                      </a:lnTo>
                      <a:lnTo>
                        <a:pt x="241" y="3"/>
                      </a:lnTo>
                      <a:lnTo>
                        <a:pt x="241" y="2"/>
                      </a:lnTo>
                      <a:lnTo>
                        <a:pt x="240" y="1"/>
                      </a:lnTo>
                      <a:lnTo>
                        <a:pt x="239" y="0"/>
                      </a:lnTo>
                      <a:lnTo>
                        <a:pt x="23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b8bb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941480" y="3832560"/>
                  <a:ext cx="382320" cy="11880"/>
                </a:xfrm>
                <a:custGeom>
                  <a:avLst/>
                  <a:gdLst/>
                  <a:ahLst/>
                  <a:rect l="l" t="t" r="r" b="b"/>
                  <a:pathLst>
                    <a:path w="241" h="7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7" y="5"/>
                      </a:lnTo>
                      <a:lnTo>
                        <a:pt x="14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37" y="7"/>
                      </a:lnTo>
                      <a:lnTo>
                        <a:pt x="237" y="7"/>
                      </a:lnTo>
                      <a:lnTo>
                        <a:pt x="239" y="7"/>
                      </a:lnTo>
                      <a:lnTo>
                        <a:pt x="240" y="6"/>
                      </a:lnTo>
                      <a:lnTo>
                        <a:pt x="241" y="5"/>
                      </a:lnTo>
                      <a:lnTo>
                        <a:pt x="241" y="3"/>
                      </a:lnTo>
                      <a:lnTo>
                        <a:pt x="241" y="3"/>
                      </a:lnTo>
                      <a:lnTo>
                        <a:pt x="241" y="3"/>
                      </a:lnTo>
                      <a:lnTo>
                        <a:pt x="241" y="2"/>
                      </a:lnTo>
                      <a:lnTo>
                        <a:pt x="240" y="1"/>
                      </a:lnTo>
                      <a:lnTo>
                        <a:pt x="239" y="0"/>
                      </a:lnTo>
                      <a:lnTo>
                        <a:pt x="23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898640" y="3390840"/>
                <a:ext cx="527040" cy="446400"/>
                <a:chOff x="1898640" y="3390840"/>
                <a:chExt cx="527040" cy="4464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898640" y="3390840"/>
                  <a:ext cx="523800" cy="446400"/>
                </a:xfrm>
                <a:custGeom>
                  <a:avLst/>
                  <a:gdLst/>
                  <a:ahLst/>
                  <a:rect l="l" t="t" r="r" b="b"/>
                  <a:pathLst>
                    <a:path w="330" h="245">
                      <a:moveTo>
                        <a:pt x="318" y="245"/>
                      </a:moveTo>
                      <a:lnTo>
                        <a:pt x="324" y="244"/>
                      </a:lnTo>
                      <a:lnTo>
                        <a:pt x="328" y="242"/>
                      </a:lnTo>
                      <a:lnTo>
                        <a:pt x="330" y="238"/>
                      </a:lnTo>
                      <a:lnTo>
                        <a:pt x="330" y="235"/>
                      </a:lnTo>
                      <a:lnTo>
                        <a:pt x="330" y="11"/>
                      </a:lnTo>
                      <a:lnTo>
                        <a:pt x="330" y="7"/>
                      </a:lnTo>
                      <a:lnTo>
                        <a:pt x="328" y="3"/>
                      </a:lnTo>
                      <a:lnTo>
                        <a:pt x="324" y="1"/>
                      </a:lnTo>
                      <a:lnTo>
                        <a:pt x="318" y="0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235"/>
                      </a:lnTo>
                      <a:lnTo>
                        <a:pt x="2" y="238"/>
                      </a:lnTo>
                      <a:lnTo>
                        <a:pt x="4" y="242"/>
                      </a:lnTo>
                      <a:lnTo>
                        <a:pt x="8" y="244"/>
                      </a:lnTo>
                      <a:lnTo>
                        <a:pt x="13" y="245"/>
                      </a:lnTo>
                      <a:lnTo>
                        <a:pt x="318" y="245"/>
                      </a:lnTo>
                      <a:close/>
                    </a:path>
                  </a:pathLst>
                </a:custGeom>
                <a:solidFill>
                  <a:srgbClr val="d2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03360" y="381924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1" y="3"/>
                      </a:lnTo>
                      <a:lnTo>
                        <a:pt x="8" y="7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10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22440" y="3411000"/>
                  <a:ext cx="3240" cy="408240"/>
                </a:xfrm>
                <a:custGeom>
                  <a:avLst/>
                  <a:gdLst/>
                  <a:ahLst/>
                  <a:rect l="l" t="t" r="r" b="b"/>
                  <a:pathLst>
                    <a:path w="2" h="2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24"/>
                      </a:lnTo>
                      <a:lnTo>
                        <a:pt x="2" y="22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03360" y="3390840"/>
                  <a:ext cx="22320" cy="201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8" y="3"/>
                      </a:lnTo>
                      <a:lnTo>
                        <a:pt x="11" y="7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919160" y="3390840"/>
                  <a:ext cx="484200" cy="1800"/>
                </a:xfrm>
                <a:custGeom>
                  <a:avLst/>
                  <a:gdLst/>
                  <a:ahLst/>
                  <a:rect l="l" t="t" r="r" b="b"/>
                  <a:pathLst>
                    <a:path w="305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305" y="1"/>
                      </a:lnTo>
                      <a:lnTo>
                        <a:pt x="305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898640" y="339084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2" y="11"/>
                      </a:moveTo>
                      <a:lnTo>
                        <a:pt x="2" y="11"/>
                      </a:lnTo>
                      <a:lnTo>
                        <a:pt x="2" y="7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898640" y="3411000"/>
                  <a:ext cx="2880" cy="408240"/>
                </a:xfrm>
                <a:custGeom>
                  <a:avLst/>
                  <a:gdLst/>
                  <a:ahLst/>
                  <a:rect l="l" t="t" r="r" b="b"/>
                  <a:pathLst>
                    <a:path w="2" h="224">
                      <a:moveTo>
                        <a:pt x="2" y="224"/>
                      </a:moveTo>
                      <a:lnTo>
                        <a:pt x="2" y="22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24"/>
                      </a:lnTo>
                      <a:lnTo>
                        <a:pt x="2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898640" y="38192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3" y="8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919160" y="3835440"/>
                  <a:ext cx="484200" cy="1800"/>
                </a:xfrm>
                <a:custGeom>
                  <a:avLst/>
                  <a:gdLst/>
                  <a:ahLst/>
                  <a:rect l="l" t="t" r="r" b="b"/>
                  <a:pathLst>
                    <a:path w="305" h="1">
                      <a:moveTo>
                        <a:pt x="305" y="0"/>
                      </a:moveTo>
                      <a:lnTo>
                        <a:pt x="305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305" y="1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1909440" y="3399840"/>
                <a:ext cx="503280" cy="426240"/>
                <a:chOff x="1909440" y="3399840"/>
                <a:chExt cx="503280" cy="42624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1909440" y="3399840"/>
                  <a:ext cx="503280" cy="426240"/>
                </a:xfrm>
                <a:custGeom>
                  <a:avLst/>
                  <a:gdLst/>
                  <a:ahLst/>
                  <a:rect l="l" t="t" r="r" b="b"/>
                  <a:pathLst>
                    <a:path w="317" h="234">
                      <a:moveTo>
                        <a:pt x="304" y="234"/>
                      </a:moveTo>
                      <a:lnTo>
                        <a:pt x="310" y="234"/>
                      </a:lnTo>
                      <a:lnTo>
                        <a:pt x="314" y="232"/>
                      </a:lnTo>
                      <a:lnTo>
                        <a:pt x="315" y="228"/>
                      </a:lnTo>
                      <a:lnTo>
                        <a:pt x="317" y="225"/>
                      </a:lnTo>
                      <a:lnTo>
                        <a:pt x="317" y="10"/>
                      </a:lnTo>
                      <a:lnTo>
                        <a:pt x="315" y="7"/>
                      </a:lnTo>
                      <a:lnTo>
                        <a:pt x="314" y="3"/>
                      </a:lnTo>
                      <a:lnTo>
                        <a:pt x="310" y="1"/>
                      </a:lnTo>
                      <a:lnTo>
                        <a:pt x="304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225"/>
                      </a:lnTo>
                      <a:lnTo>
                        <a:pt x="1" y="228"/>
                      </a:lnTo>
                      <a:lnTo>
                        <a:pt x="4" y="232"/>
                      </a:lnTo>
                      <a:lnTo>
                        <a:pt x="8" y="234"/>
                      </a:lnTo>
                      <a:lnTo>
                        <a:pt x="12" y="234"/>
                      </a:lnTo>
                      <a:lnTo>
                        <a:pt x="304" y="234"/>
                      </a:lnTo>
                      <a:close/>
                    </a:path>
                  </a:pathLst>
                </a:custGeom>
                <a:solidFill>
                  <a:srgbClr val="797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09440" y="3399840"/>
                  <a:ext cx="503280" cy="426240"/>
                </a:xfrm>
                <a:custGeom>
                  <a:avLst/>
                  <a:gdLst/>
                  <a:ahLst/>
                  <a:rect l="l" t="t" r="r" b="b"/>
                  <a:pathLst>
                    <a:path w="317" h="234">
                      <a:moveTo>
                        <a:pt x="304" y="234"/>
                      </a:moveTo>
                      <a:lnTo>
                        <a:pt x="304" y="234"/>
                      </a:lnTo>
                      <a:lnTo>
                        <a:pt x="310" y="234"/>
                      </a:lnTo>
                      <a:lnTo>
                        <a:pt x="314" y="232"/>
                      </a:lnTo>
                      <a:lnTo>
                        <a:pt x="315" y="228"/>
                      </a:lnTo>
                      <a:lnTo>
                        <a:pt x="317" y="225"/>
                      </a:lnTo>
                      <a:lnTo>
                        <a:pt x="317" y="10"/>
                      </a:lnTo>
                      <a:lnTo>
                        <a:pt x="317" y="10"/>
                      </a:lnTo>
                      <a:lnTo>
                        <a:pt x="315" y="7"/>
                      </a:lnTo>
                      <a:lnTo>
                        <a:pt x="314" y="3"/>
                      </a:lnTo>
                      <a:lnTo>
                        <a:pt x="310" y="1"/>
                      </a:lnTo>
                      <a:lnTo>
                        <a:pt x="304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225"/>
                      </a:lnTo>
                      <a:lnTo>
                        <a:pt x="0" y="225"/>
                      </a:lnTo>
                      <a:lnTo>
                        <a:pt x="1" y="228"/>
                      </a:lnTo>
                      <a:lnTo>
                        <a:pt x="4" y="232"/>
                      </a:lnTo>
                      <a:lnTo>
                        <a:pt x="8" y="234"/>
                      </a:lnTo>
                      <a:lnTo>
                        <a:pt x="12" y="234"/>
                      </a:lnTo>
                      <a:lnTo>
                        <a:pt x="304" y="23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1919160" y="3402000"/>
                <a:ext cx="496800" cy="428040"/>
                <a:chOff x="1919160" y="3402000"/>
                <a:chExt cx="496800" cy="4280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1919160" y="3402000"/>
                  <a:ext cx="496800" cy="428040"/>
                </a:xfrm>
                <a:custGeom>
                  <a:avLst/>
                  <a:gdLst/>
                  <a:ahLst/>
                  <a:rect l="l" t="t" r="r" b="b"/>
                  <a:pathLst>
                    <a:path w="313" h="235">
                      <a:moveTo>
                        <a:pt x="301" y="235"/>
                      </a:moveTo>
                      <a:lnTo>
                        <a:pt x="307" y="233"/>
                      </a:lnTo>
                      <a:lnTo>
                        <a:pt x="309" y="232"/>
                      </a:lnTo>
                      <a:lnTo>
                        <a:pt x="312" y="229"/>
                      </a:lnTo>
                      <a:lnTo>
                        <a:pt x="313" y="224"/>
                      </a:lnTo>
                      <a:lnTo>
                        <a:pt x="313" y="11"/>
                      </a:lnTo>
                      <a:lnTo>
                        <a:pt x="312" y="6"/>
                      </a:lnTo>
                      <a:lnTo>
                        <a:pt x="309" y="3"/>
                      </a:lnTo>
                      <a:lnTo>
                        <a:pt x="307" y="1"/>
                      </a:lnTo>
                      <a:lnTo>
                        <a:pt x="301" y="0"/>
                      </a:lnTo>
                      <a:lnTo>
                        <a:pt x="12" y="0"/>
                      </a:lnTo>
                      <a:lnTo>
                        <a:pt x="6" y="1"/>
                      </a:lnTo>
                      <a:lnTo>
                        <a:pt x="2" y="3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224"/>
                      </a:lnTo>
                      <a:lnTo>
                        <a:pt x="1" y="229"/>
                      </a:lnTo>
                      <a:lnTo>
                        <a:pt x="2" y="232"/>
                      </a:lnTo>
                      <a:lnTo>
                        <a:pt x="6" y="233"/>
                      </a:lnTo>
                      <a:lnTo>
                        <a:pt x="12" y="235"/>
                      </a:lnTo>
                      <a:lnTo>
                        <a:pt x="301" y="235"/>
                      </a:lnTo>
                      <a:close/>
                    </a:path>
                  </a:pathLst>
                </a:custGeom>
                <a:solidFill>
                  <a:srgbClr val="9f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919160" y="3402000"/>
                  <a:ext cx="496800" cy="428040"/>
                </a:xfrm>
                <a:custGeom>
                  <a:avLst/>
                  <a:gdLst/>
                  <a:ahLst/>
                  <a:rect l="l" t="t" r="r" b="b"/>
                  <a:pathLst>
                    <a:path w="313" h="235">
                      <a:moveTo>
                        <a:pt x="301" y="235"/>
                      </a:moveTo>
                      <a:lnTo>
                        <a:pt x="301" y="235"/>
                      </a:lnTo>
                      <a:lnTo>
                        <a:pt x="307" y="233"/>
                      </a:lnTo>
                      <a:lnTo>
                        <a:pt x="309" y="232"/>
                      </a:lnTo>
                      <a:lnTo>
                        <a:pt x="312" y="229"/>
                      </a:lnTo>
                      <a:lnTo>
                        <a:pt x="313" y="224"/>
                      </a:lnTo>
                      <a:lnTo>
                        <a:pt x="313" y="11"/>
                      </a:lnTo>
                      <a:lnTo>
                        <a:pt x="313" y="11"/>
                      </a:lnTo>
                      <a:lnTo>
                        <a:pt x="312" y="6"/>
                      </a:lnTo>
                      <a:lnTo>
                        <a:pt x="309" y="3"/>
                      </a:lnTo>
                      <a:lnTo>
                        <a:pt x="307" y="1"/>
                      </a:lnTo>
                      <a:lnTo>
                        <a:pt x="30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6" y="1"/>
                      </a:lnTo>
                      <a:lnTo>
                        <a:pt x="2" y="3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" y="229"/>
                      </a:lnTo>
                      <a:lnTo>
                        <a:pt x="2" y="232"/>
                      </a:lnTo>
                      <a:lnTo>
                        <a:pt x="6" y="233"/>
                      </a:lnTo>
                      <a:lnTo>
                        <a:pt x="12" y="235"/>
                      </a:lnTo>
                      <a:lnTo>
                        <a:pt x="301" y="235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1896840" y="3389400"/>
                <a:ext cx="480960" cy="442800"/>
                <a:chOff x="1896840" y="3389400"/>
                <a:chExt cx="480960" cy="44280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2376360" y="3389400"/>
                  <a:ext cx="1440" cy="360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920600" y="3389400"/>
                  <a:ext cx="455760" cy="3600"/>
                </a:xfrm>
                <a:custGeom>
                  <a:avLst/>
                  <a:gdLst/>
                  <a:ahLst/>
                  <a:rect l="l" t="t" r="r" b="b"/>
                  <a:pathLst>
                    <a:path w="287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87" y="2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1896840" y="3389400"/>
                  <a:ext cx="23760" cy="2160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9" y="1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1896840" y="3411000"/>
                  <a:ext cx="4680" cy="408240"/>
                </a:xfrm>
                <a:custGeom>
                  <a:avLst/>
                  <a:gdLst/>
                  <a:ahLst/>
                  <a:rect l="l" t="t" r="r" b="b"/>
                  <a:pathLst>
                    <a:path w="3" h="224">
                      <a:moveTo>
                        <a:pt x="3" y="224"/>
                      </a:moveTo>
                      <a:lnTo>
                        <a:pt x="3" y="22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3" y="224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896840" y="381960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901520" y="3826440"/>
                  <a:ext cx="3240" cy="5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2"/>
                      </a:move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bee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1903320" y="3830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904760" y="3832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052360" y="3389400"/>
                <a:ext cx="347760" cy="1440"/>
              </a:xfrm>
              <a:custGeom>
                <a:avLst/>
                <a:gdLst/>
                <a:ahLst/>
                <a:rect l="l" t="t" r="r" b="b"/>
                <a:pathLst>
                  <a:path w="219" h="1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46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100" y="0"/>
                    </a:lnTo>
                    <a:lnTo>
                      <a:pt x="118" y="0"/>
                    </a:lnTo>
                    <a:lnTo>
                      <a:pt x="135" y="1"/>
                    </a:lnTo>
                    <a:lnTo>
                      <a:pt x="154" y="1"/>
                    </a:lnTo>
                    <a:lnTo>
                      <a:pt x="170" y="1"/>
                    </a:lnTo>
                    <a:lnTo>
                      <a:pt x="185" y="1"/>
                    </a:lnTo>
                    <a:lnTo>
                      <a:pt x="197" y="1"/>
                    </a:lnTo>
                    <a:lnTo>
                      <a:pt x="208" y="1"/>
                    </a:lnTo>
                    <a:lnTo>
                      <a:pt x="214" y="1"/>
                    </a:lnTo>
                    <a:lnTo>
                      <a:pt x="219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60560" y="3440160"/>
                <a:ext cx="411120" cy="257040"/>
              </a:xfrm>
              <a:custGeom>
                <a:avLst/>
                <a:gdLst/>
                <a:ahLst/>
                <a:rect l="l" t="t" r="r" b="b"/>
                <a:pathLst>
                  <a:path w="259" h="141">
                    <a:moveTo>
                      <a:pt x="259" y="3"/>
                    </a:moveTo>
                    <a:lnTo>
                      <a:pt x="258" y="2"/>
                    </a:lnTo>
                    <a:lnTo>
                      <a:pt x="256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136" y="141"/>
                    </a:lnTo>
                    <a:lnTo>
                      <a:pt x="259" y="3"/>
                    </a:lnTo>
                    <a:close/>
                  </a:path>
                </a:pathLst>
              </a:custGeom>
              <a:solidFill>
                <a:srgbClr val="797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957320" y="3445920"/>
                <a:ext cx="274680" cy="335160"/>
              </a:xfrm>
              <a:custGeom>
                <a:avLst/>
                <a:gdLst/>
                <a:ahLst/>
                <a:rect l="l" t="t" r="r" b="b"/>
                <a:pathLst>
                  <a:path w="173" h="184">
                    <a:moveTo>
                      <a:pt x="2" y="184"/>
                    </a:moveTo>
                    <a:lnTo>
                      <a:pt x="1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73" y="109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9295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958760" y="344376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7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1" y="8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58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960560" y="3595320"/>
                <a:ext cx="411120" cy="191160"/>
              </a:xfrm>
              <a:custGeom>
                <a:avLst/>
                <a:gdLst/>
                <a:ahLst/>
                <a:rect l="l" t="t" r="r" b="b"/>
                <a:pathLst>
                  <a:path w="259" h="105">
                    <a:moveTo>
                      <a:pt x="0" y="102"/>
                    </a:moveTo>
                    <a:lnTo>
                      <a:pt x="2" y="104"/>
                    </a:lnTo>
                    <a:lnTo>
                      <a:pt x="4" y="104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252" y="105"/>
                    </a:lnTo>
                    <a:lnTo>
                      <a:pt x="254" y="105"/>
                    </a:lnTo>
                    <a:lnTo>
                      <a:pt x="256" y="104"/>
                    </a:lnTo>
                    <a:lnTo>
                      <a:pt x="258" y="104"/>
                    </a:lnTo>
                    <a:lnTo>
                      <a:pt x="259" y="102"/>
                    </a:lnTo>
                    <a:lnTo>
                      <a:pt x="126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58760" y="376308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2"/>
                    </a:moveTo>
                    <a:lnTo>
                      <a:pt x="5" y="12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aca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119320" y="3445920"/>
                <a:ext cx="257040" cy="335160"/>
              </a:xfrm>
              <a:custGeom>
                <a:avLst/>
                <a:gdLst/>
                <a:ahLst/>
                <a:rect l="l" t="t" r="r" b="b"/>
                <a:pathLst>
                  <a:path w="162" h="184">
                    <a:moveTo>
                      <a:pt x="159" y="184"/>
                    </a:moveTo>
                    <a:lnTo>
                      <a:pt x="160" y="183"/>
                    </a:lnTo>
                    <a:lnTo>
                      <a:pt x="160" y="182"/>
                    </a:lnTo>
                    <a:lnTo>
                      <a:pt x="162" y="180"/>
                    </a:lnTo>
                    <a:lnTo>
                      <a:pt x="162" y="178"/>
                    </a:lnTo>
                    <a:lnTo>
                      <a:pt x="162" y="6"/>
                    </a:lnTo>
                    <a:lnTo>
                      <a:pt x="162" y="3"/>
                    </a:lnTo>
                    <a:lnTo>
                      <a:pt x="160" y="2"/>
                    </a:lnTo>
                    <a:lnTo>
                      <a:pt x="160" y="1"/>
                    </a:lnTo>
                    <a:lnTo>
                      <a:pt x="159" y="0"/>
                    </a:lnTo>
                    <a:lnTo>
                      <a:pt x="0" y="103"/>
                    </a:lnTo>
                    <a:lnTo>
                      <a:pt x="159" y="184"/>
                    </a:lnTo>
                    <a:close/>
                  </a:path>
                </a:pathLst>
              </a:custGeom>
              <a:solidFill>
                <a:srgbClr val="b3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346120" y="375948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9"/>
                    </a:move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bec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344680" y="34437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3"/>
                    </a:moveTo>
                    <a:lnTo>
                      <a:pt x="2" y="13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9295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9" name=""/>
              <p:cNvGrpSpPr/>
              <p:nvPr/>
            </p:nvGrpSpPr>
            <p:grpSpPr>
              <a:xfrm>
                <a:off x="1969920" y="3454920"/>
                <a:ext cx="384120" cy="315000"/>
                <a:chOff x="1969920" y="3454920"/>
                <a:chExt cx="384120" cy="315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1969920" y="3454920"/>
                  <a:ext cx="384120" cy="315000"/>
                </a:xfrm>
                <a:custGeom>
                  <a:avLst/>
                  <a:gdLst/>
                  <a:ahLst/>
                  <a:rect l="l" t="t" r="r" b="b"/>
                  <a:pathLst>
                    <a:path w="242" h="173">
                      <a:moveTo>
                        <a:pt x="9" y="172"/>
                      </a:moveTo>
                      <a:lnTo>
                        <a:pt x="5" y="171"/>
                      </a:lnTo>
                      <a:lnTo>
                        <a:pt x="3" y="170"/>
                      </a:lnTo>
                      <a:lnTo>
                        <a:pt x="1" y="167"/>
                      </a:lnTo>
                      <a:lnTo>
                        <a:pt x="0" y="16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9" y="0"/>
                      </a:lnTo>
                      <a:lnTo>
                        <a:pt x="233" y="0"/>
                      </a:lnTo>
                      <a:lnTo>
                        <a:pt x="237" y="1"/>
                      </a:lnTo>
                      <a:lnTo>
                        <a:pt x="240" y="2"/>
                      </a:lnTo>
                      <a:lnTo>
                        <a:pt x="242" y="4"/>
                      </a:lnTo>
                      <a:lnTo>
                        <a:pt x="242" y="8"/>
                      </a:lnTo>
                      <a:lnTo>
                        <a:pt x="242" y="164"/>
                      </a:lnTo>
                      <a:lnTo>
                        <a:pt x="242" y="167"/>
                      </a:lnTo>
                      <a:lnTo>
                        <a:pt x="240" y="170"/>
                      </a:lnTo>
                      <a:lnTo>
                        <a:pt x="237" y="171"/>
                      </a:lnTo>
                      <a:lnTo>
                        <a:pt x="233" y="172"/>
                      </a:lnTo>
                      <a:lnTo>
                        <a:pt x="209" y="172"/>
                      </a:lnTo>
                      <a:lnTo>
                        <a:pt x="186" y="173"/>
                      </a:lnTo>
                      <a:lnTo>
                        <a:pt x="164" y="173"/>
                      </a:lnTo>
                      <a:lnTo>
                        <a:pt x="143" y="173"/>
                      </a:lnTo>
                      <a:lnTo>
                        <a:pt x="122" y="173"/>
                      </a:lnTo>
                      <a:lnTo>
                        <a:pt x="105" y="173"/>
                      </a:lnTo>
                      <a:lnTo>
                        <a:pt x="87" y="173"/>
                      </a:lnTo>
                      <a:lnTo>
                        <a:pt x="71" y="173"/>
                      </a:lnTo>
                      <a:lnTo>
                        <a:pt x="58" y="173"/>
                      </a:lnTo>
                      <a:lnTo>
                        <a:pt x="46" y="173"/>
                      </a:lnTo>
                      <a:lnTo>
                        <a:pt x="35" y="172"/>
                      </a:lnTo>
                      <a:lnTo>
                        <a:pt x="25" y="172"/>
                      </a:lnTo>
                      <a:lnTo>
                        <a:pt x="19" y="172"/>
                      </a:lnTo>
                      <a:lnTo>
                        <a:pt x="13" y="172"/>
                      </a:lnTo>
                      <a:lnTo>
                        <a:pt x="11" y="172"/>
                      </a:lnTo>
                      <a:lnTo>
                        <a:pt x="9" y="172"/>
                      </a:lnTo>
                      <a:close/>
                    </a:path>
                  </a:pathLst>
                </a:custGeom>
                <a:solidFill>
                  <a:srgbClr val="272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969920" y="3454920"/>
                  <a:ext cx="384120" cy="315000"/>
                </a:xfrm>
                <a:custGeom>
                  <a:avLst/>
                  <a:gdLst/>
                  <a:ahLst/>
                  <a:rect l="l" t="t" r="r" b="b"/>
                  <a:pathLst>
                    <a:path w="242" h="173">
                      <a:moveTo>
                        <a:pt x="9" y="172"/>
                      </a:moveTo>
                      <a:lnTo>
                        <a:pt x="9" y="172"/>
                      </a:lnTo>
                      <a:lnTo>
                        <a:pt x="5" y="171"/>
                      </a:lnTo>
                      <a:lnTo>
                        <a:pt x="3" y="170"/>
                      </a:lnTo>
                      <a:lnTo>
                        <a:pt x="1" y="167"/>
                      </a:lnTo>
                      <a:lnTo>
                        <a:pt x="0" y="16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9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7" y="1"/>
                      </a:lnTo>
                      <a:lnTo>
                        <a:pt x="240" y="2"/>
                      </a:lnTo>
                      <a:lnTo>
                        <a:pt x="242" y="4"/>
                      </a:lnTo>
                      <a:lnTo>
                        <a:pt x="242" y="8"/>
                      </a:lnTo>
                      <a:lnTo>
                        <a:pt x="242" y="164"/>
                      </a:lnTo>
                      <a:lnTo>
                        <a:pt x="242" y="164"/>
                      </a:lnTo>
                      <a:lnTo>
                        <a:pt x="242" y="167"/>
                      </a:lnTo>
                      <a:lnTo>
                        <a:pt x="240" y="170"/>
                      </a:lnTo>
                      <a:lnTo>
                        <a:pt x="237" y="171"/>
                      </a:lnTo>
                      <a:lnTo>
                        <a:pt x="233" y="172"/>
                      </a:lnTo>
                      <a:lnTo>
                        <a:pt x="233" y="172"/>
                      </a:lnTo>
                      <a:lnTo>
                        <a:pt x="209" y="172"/>
                      </a:lnTo>
                      <a:lnTo>
                        <a:pt x="186" y="173"/>
                      </a:lnTo>
                      <a:lnTo>
                        <a:pt x="164" y="173"/>
                      </a:lnTo>
                      <a:lnTo>
                        <a:pt x="143" y="173"/>
                      </a:lnTo>
                      <a:lnTo>
                        <a:pt x="122" y="173"/>
                      </a:lnTo>
                      <a:lnTo>
                        <a:pt x="105" y="173"/>
                      </a:lnTo>
                      <a:lnTo>
                        <a:pt x="87" y="173"/>
                      </a:lnTo>
                      <a:lnTo>
                        <a:pt x="71" y="173"/>
                      </a:lnTo>
                      <a:lnTo>
                        <a:pt x="58" y="173"/>
                      </a:lnTo>
                      <a:lnTo>
                        <a:pt x="46" y="173"/>
                      </a:lnTo>
                      <a:lnTo>
                        <a:pt x="35" y="172"/>
                      </a:lnTo>
                      <a:lnTo>
                        <a:pt x="25" y="172"/>
                      </a:lnTo>
                      <a:lnTo>
                        <a:pt x="19" y="172"/>
                      </a:lnTo>
                      <a:lnTo>
                        <a:pt x="13" y="172"/>
                      </a:lnTo>
                      <a:lnTo>
                        <a:pt x="11" y="172"/>
                      </a:lnTo>
                      <a:lnTo>
                        <a:pt x="9" y="172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1993680" y="3478680"/>
                <a:ext cx="336600" cy="270000"/>
              </a:xfrm>
              <a:prstGeom prst="rect">
                <a:avLst/>
              </a:prstGeom>
              <a:solidFill>
                <a:srgbClr val="1a8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354040" y="3804840"/>
                <a:ext cx="15840" cy="7200"/>
              </a:xfrm>
              <a:prstGeom prst="rect">
                <a:avLst/>
              </a:prstGeom>
              <a:solidFill>
                <a:srgbClr val="55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352600" y="3808440"/>
                <a:ext cx="14040" cy="3600"/>
              </a:xfrm>
              <a:prstGeom prst="rect">
                <a:avLst/>
              </a:prstGeom>
              <a:solidFill>
                <a:srgbClr val="b3f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1830240" y="4095000"/>
                <a:ext cx="981000" cy="246960"/>
                <a:chOff x="1830240" y="4095000"/>
                <a:chExt cx="981000" cy="246960"/>
              </a:xfrm>
            </p:grpSpPr>
            <p:grpSp>
              <p:nvGrpSpPr>
                <p:cNvPr id="1356" name=""/>
                <p:cNvGrpSpPr/>
                <p:nvPr/>
              </p:nvGrpSpPr>
              <p:grpSpPr>
                <a:xfrm>
                  <a:off x="1860480" y="4194720"/>
                  <a:ext cx="65160" cy="97920"/>
                  <a:chOff x="1860480" y="4194720"/>
                  <a:chExt cx="65160" cy="9792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>
                    <a:off x="1860480" y="4194720"/>
                    <a:ext cx="651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4">
                        <a:moveTo>
                          <a:pt x="41" y="54"/>
                        </a:move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0" y="13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41" y="54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1860480" y="4194720"/>
                    <a:ext cx="6516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4">
                        <a:moveTo>
                          <a:pt x="41" y="54"/>
                        </a:move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0" y="13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41" y="5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1830240" y="4095000"/>
                  <a:ext cx="981000" cy="246960"/>
                  <a:chOff x="1830240" y="4095000"/>
                  <a:chExt cx="981000" cy="246960"/>
                </a:xfrm>
              </p:grpSpPr>
              <p:sp>
                <p:nvSpPr>
                  <p:cNvPr id="1360" name=""/>
                  <p:cNvSpPr/>
                  <p:nvPr/>
                </p:nvSpPr>
                <p:spPr>
                  <a:xfrm>
                    <a:off x="1830240" y="4095000"/>
                    <a:ext cx="9810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36">
                        <a:moveTo>
                          <a:pt x="47" y="97"/>
                        </a:moveTo>
                        <a:lnTo>
                          <a:pt x="2" y="51"/>
                        </a:lnTo>
                        <a:lnTo>
                          <a:pt x="2" y="51"/>
                        </a:lnTo>
                        <a:lnTo>
                          <a:pt x="2" y="50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39"/>
                        </a:lnTo>
                        <a:lnTo>
                          <a:pt x="2" y="34"/>
                        </a:lnTo>
                        <a:lnTo>
                          <a:pt x="2" y="31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26"/>
                        </a:lnTo>
                        <a:lnTo>
                          <a:pt x="3" y="26"/>
                        </a:lnTo>
                        <a:lnTo>
                          <a:pt x="3" y="26"/>
                        </a:lnTo>
                        <a:lnTo>
                          <a:pt x="3" y="25"/>
                        </a:lnTo>
                        <a:lnTo>
                          <a:pt x="3" y="25"/>
                        </a:lnTo>
                        <a:lnTo>
                          <a:pt x="4" y="18"/>
                        </a:lnTo>
                        <a:lnTo>
                          <a:pt x="4" y="18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11" y="15"/>
                        </a:lnTo>
                        <a:lnTo>
                          <a:pt x="18" y="15"/>
                        </a:lnTo>
                        <a:lnTo>
                          <a:pt x="34" y="15"/>
                        </a:lnTo>
                        <a:lnTo>
                          <a:pt x="60" y="14"/>
                        </a:lnTo>
                        <a:lnTo>
                          <a:pt x="92" y="13"/>
                        </a:lnTo>
                        <a:lnTo>
                          <a:pt x="130" y="12"/>
                        </a:lnTo>
                        <a:lnTo>
                          <a:pt x="173" y="10"/>
                        </a:lnTo>
                        <a:lnTo>
                          <a:pt x="218" y="9"/>
                        </a:lnTo>
                        <a:lnTo>
                          <a:pt x="264" y="8"/>
                        </a:lnTo>
                        <a:lnTo>
                          <a:pt x="310" y="7"/>
                        </a:lnTo>
                        <a:lnTo>
                          <a:pt x="356" y="5"/>
                        </a:lnTo>
                        <a:lnTo>
                          <a:pt x="398" y="3"/>
                        </a:lnTo>
                        <a:lnTo>
                          <a:pt x="435" y="2"/>
                        </a:lnTo>
                        <a:lnTo>
                          <a:pt x="468" y="2"/>
                        </a:lnTo>
                        <a:lnTo>
                          <a:pt x="492" y="1"/>
                        </a:lnTo>
                        <a:lnTo>
                          <a:pt x="508" y="0"/>
                        </a:lnTo>
                        <a:lnTo>
                          <a:pt x="513" y="0"/>
                        </a:lnTo>
                        <a:lnTo>
                          <a:pt x="515" y="0"/>
                        </a:lnTo>
                        <a:lnTo>
                          <a:pt x="517" y="0"/>
                        </a:lnTo>
                        <a:lnTo>
                          <a:pt x="520" y="1"/>
                        </a:lnTo>
                        <a:lnTo>
                          <a:pt x="523" y="3"/>
                        </a:lnTo>
                        <a:lnTo>
                          <a:pt x="526" y="7"/>
                        </a:lnTo>
                        <a:lnTo>
                          <a:pt x="532" y="14"/>
                        </a:lnTo>
                        <a:lnTo>
                          <a:pt x="543" y="24"/>
                        </a:lnTo>
                        <a:lnTo>
                          <a:pt x="554" y="34"/>
                        </a:lnTo>
                        <a:lnTo>
                          <a:pt x="563" y="45"/>
                        </a:lnTo>
                        <a:lnTo>
                          <a:pt x="573" y="54"/>
                        </a:lnTo>
                        <a:lnTo>
                          <a:pt x="579" y="61"/>
                        </a:lnTo>
                        <a:lnTo>
                          <a:pt x="582" y="63"/>
                        </a:lnTo>
                        <a:lnTo>
                          <a:pt x="589" y="68"/>
                        </a:lnTo>
                        <a:lnTo>
                          <a:pt x="601" y="79"/>
                        </a:lnTo>
                        <a:lnTo>
                          <a:pt x="612" y="90"/>
                        </a:lnTo>
                        <a:lnTo>
                          <a:pt x="617" y="94"/>
                        </a:lnTo>
                        <a:lnTo>
                          <a:pt x="617" y="94"/>
                        </a:lnTo>
                        <a:lnTo>
                          <a:pt x="618" y="96"/>
                        </a:lnTo>
                        <a:lnTo>
                          <a:pt x="618" y="96"/>
                        </a:lnTo>
                        <a:lnTo>
                          <a:pt x="618" y="97"/>
                        </a:lnTo>
                        <a:lnTo>
                          <a:pt x="618" y="99"/>
                        </a:lnTo>
                        <a:lnTo>
                          <a:pt x="618" y="100"/>
                        </a:lnTo>
                        <a:lnTo>
                          <a:pt x="618" y="100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7" y="102"/>
                        </a:lnTo>
                        <a:lnTo>
                          <a:pt x="618" y="103"/>
                        </a:lnTo>
                        <a:lnTo>
                          <a:pt x="618" y="103"/>
                        </a:lnTo>
                        <a:lnTo>
                          <a:pt x="618" y="103"/>
                        </a:lnTo>
                        <a:lnTo>
                          <a:pt x="618" y="104"/>
                        </a:lnTo>
                        <a:lnTo>
                          <a:pt x="618" y="104"/>
                        </a:lnTo>
                        <a:lnTo>
                          <a:pt x="618" y="105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8"/>
                        </a:lnTo>
                        <a:lnTo>
                          <a:pt x="618" y="108"/>
                        </a:lnTo>
                        <a:lnTo>
                          <a:pt x="617" y="108"/>
                        </a:lnTo>
                        <a:lnTo>
                          <a:pt x="92" y="136"/>
                        </a:lnTo>
                        <a:lnTo>
                          <a:pt x="92" y="136"/>
                        </a:lnTo>
                        <a:lnTo>
                          <a:pt x="91" y="136"/>
                        </a:lnTo>
                        <a:lnTo>
                          <a:pt x="89" y="135"/>
                        </a:lnTo>
                        <a:lnTo>
                          <a:pt x="86" y="134"/>
                        </a:lnTo>
                        <a:lnTo>
                          <a:pt x="82" y="130"/>
                        </a:lnTo>
                        <a:lnTo>
                          <a:pt x="78" y="127"/>
                        </a:lnTo>
                        <a:lnTo>
                          <a:pt x="76" y="123"/>
                        </a:lnTo>
                        <a:lnTo>
                          <a:pt x="74" y="122"/>
                        </a:lnTo>
                        <a:lnTo>
                          <a:pt x="70" y="118"/>
                        </a:lnTo>
                        <a:lnTo>
                          <a:pt x="62" y="110"/>
                        </a:lnTo>
                        <a:lnTo>
                          <a:pt x="53" y="102"/>
                        </a:lnTo>
                        <a:lnTo>
                          <a:pt x="47" y="97"/>
                        </a:lnTo>
                        <a:close/>
                      </a:path>
                    </a:pathLst>
                  </a:custGeom>
                  <a:solidFill>
                    <a:srgbClr val="d0d0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1830240" y="4095000"/>
                    <a:ext cx="9810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36">
                        <a:moveTo>
                          <a:pt x="47" y="97"/>
                        </a:moveTo>
                        <a:lnTo>
                          <a:pt x="2" y="51"/>
                        </a:lnTo>
                        <a:lnTo>
                          <a:pt x="2" y="51"/>
                        </a:lnTo>
                        <a:lnTo>
                          <a:pt x="2" y="51"/>
                        </a:lnTo>
                        <a:lnTo>
                          <a:pt x="2" y="50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4"/>
                        </a:lnTo>
                        <a:lnTo>
                          <a:pt x="0" y="39"/>
                        </a:lnTo>
                        <a:lnTo>
                          <a:pt x="2" y="34"/>
                        </a:lnTo>
                        <a:lnTo>
                          <a:pt x="2" y="31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26"/>
                        </a:lnTo>
                        <a:lnTo>
                          <a:pt x="3" y="26"/>
                        </a:lnTo>
                        <a:lnTo>
                          <a:pt x="3" y="26"/>
                        </a:lnTo>
                        <a:lnTo>
                          <a:pt x="3" y="26"/>
                        </a:lnTo>
                        <a:lnTo>
                          <a:pt x="3" y="25"/>
                        </a:lnTo>
                        <a:lnTo>
                          <a:pt x="3" y="25"/>
                        </a:lnTo>
                        <a:lnTo>
                          <a:pt x="4" y="18"/>
                        </a:lnTo>
                        <a:lnTo>
                          <a:pt x="4" y="18"/>
                        </a:lnTo>
                        <a:lnTo>
                          <a:pt x="4" y="18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11" y="15"/>
                        </a:lnTo>
                        <a:lnTo>
                          <a:pt x="11" y="15"/>
                        </a:lnTo>
                        <a:lnTo>
                          <a:pt x="18" y="15"/>
                        </a:lnTo>
                        <a:lnTo>
                          <a:pt x="34" y="15"/>
                        </a:lnTo>
                        <a:lnTo>
                          <a:pt x="60" y="14"/>
                        </a:lnTo>
                        <a:lnTo>
                          <a:pt x="92" y="13"/>
                        </a:lnTo>
                        <a:lnTo>
                          <a:pt x="130" y="12"/>
                        </a:lnTo>
                        <a:lnTo>
                          <a:pt x="173" y="10"/>
                        </a:lnTo>
                        <a:lnTo>
                          <a:pt x="218" y="9"/>
                        </a:lnTo>
                        <a:lnTo>
                          <a:pt x="264" y="8"/>
                        </a:lnTo>
                        <a:lnTo>
                          <a:pt x="310" y="7"/>
                        </a:lnTo>
                        <a:lnTo>
                          <a:pt x="356" y="5"/>
                        </a:lnTo>
                        <a:lnTo>
                          <a:pt x="398" y="3"/>
                        </a:lnTo>
                        <a:lnTo>
                          <a:pt x="435" y="2"/>
                        </a:lnTo>
                        <a:lnTo>
                          <a:pt x="468" y="2"/>
                        </a:lnTo>
                        <a:lnTo>
                          <a:pt x="492" y="1"/>
                        </a:lnTo>
                        <a:lnTo>
                          <a:pt x="508" y="0"/>
                        </a:lnTo>
                        <a:lnTo>
                          <a:pt x="513" y="0"/>
                        </a:lnTo>
                        <a:lnTo>
                          <a:pt x="513" y="0"/>
                        </a:lnTo>
                        <a:lnTo>
                          <a:pt x="515" y="0"/>
                        </a:lnTo>
                        <a:lnTo>
                          <a:pt x="517" y="0"/>
                        </a:lnTo>
                        <a:lnTo>
                          <a:pt x="520" y="1"/>
                        </a:lnTo>
                        <a:lnTo>
                          <a:pt x="523" y="3"/>
                        </a:lnTo>
                        <a:lnTo>
                          <a:pt x="523" y="3"/>
                        </a:lnTo>
                        <a:lnTo>
                          <a:pt x="526" y="7"/>
                        </a:lnTo>
                        <a:lnTo>
                          <a:pt x="532" y="14"/>
                        </a:lnTo>
                        <a:lnTo>
                          <a:pt x="543" y="24"/>
                        </a:lnTo>
                        <a:lnTo>
                          <a:pt x="554" y="34"/>
                        </a:lnTo>
                        <a:lnTo>
                          <a:pt x="563" y="45"/>
                        </a:lnTo>
                        <a:lnTo>
                          <a:pt x="573" y="54"/>
                        </a:lnTo>
                        <a:lnTo>
                          <a:pt x="579" y="61"/>
                        </a:lnTo>
                        <a:lnTo>
                          <a:pt x="582" y="63"/>
                        </a:lnTo>
                        <a:lnTo>
                          <a:pt x="582" y="63"/>
                        </a:lnTo>
                        <a:lnTo>
                          <a:pt x="589" y="68"/>
                        </a:lnTo>
                        <a:lnTo>
                          <a:pt x="601" y="79"/>
                        </a:lnTo>
                        <a:lnTo>
                          <a:pt x="612" y="90"/>
                        </a:lnTo>
                        <a:lnTo>
                          <a:pt x="617" y="94"/>
                        </a:lnTo>
                        <a:lnTo>
                          <a:pt x="617" y="94"/>
                        </a:lnTo>
                        <a:lnTo>
                          <a:pt x="617" y="94"/>
                        </a:lnTo>
                        <a:lnTo>
                          <a:pt x="618" y="96"/>
                        </a:lnTo>
                        <a:lnTo>
                          <a:pt x="618" y="96"/>
                        </a:lnTo>
                        <a:lnTo>
                          <a:pt x="618" y="97"/>
                        </a:lnTo>
                        <a:lnTo>
                          <a:pt x="618" y="97"/>
                        </a:lnTo>
                        <a:lnTo>
                          <a:pt x="618" y="99"/>
                        </a:lnTo>
                        <a:lnTo>
                          <a:pt x="618" y="100"/>
                        </a:lnTo>
                        <a:lnTo>
                          <a:pt x="618" y="100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8" y="102"/>
                        </a:lnTo>
                        <a:lnTo>
                          <a:pt x="617" y="102"/>
                        </a:lnTo>
                        <a:lnTo>
                          <a:pt x="618" y="103"/>
                        </a:lnTo>
                        <a:lnTo>
                          <a:pt x="618" y="103"/>
                        </a:lnTo>
                        <a:lnTo>
                          <a:pt x="618" y="103"/>
                        </a:lnTo>
                        <a:lnTo>
                          <a:pt x="618" y="103"/>
                        </a:lnTo>
                        <a:lnTo>
                          <a:pt x="618" y="104"/>
                        </a:lnTo>
                        <a:lnTo>
                          <a:pt x="618" y="104"/>
                        </a:lnTo>
                        <a:lnTo>
                          <a:pt x="618" y="104"/>
                        </a:lnTo>
                        <a:lnTo>
                          <a:pt x="618" y="105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6"/>
                        </a:lnTo>
                        <a:lnTo>
                          <a:pt x="618" y="108"/>
                        </a:lnTo>
                        <a:lnTo>
                          <a:pt x="618" y="108"/>
                        </a:lnTo>
                        <a:lnTo>
                          <a:pt x="617" y="108"/>
                        </a:lnTo>
                        <a:lnTo>
                          <a:pt x="92" y="136"/>
                        </a:lnTo>
                        <a:lnTo>
                          <a:pt x="92" y="136"/>
                        </a:lnTo>
                        <a:lnTo>
                          <a:pt x="92" y="136"/>
                        </a:lnTo>
                        <a:lnTo>
                          <a:pt x="91" y="136"/>
                        </a:lnTo>
                        <a:lnTo>
                          <a:pt x="89" y="135"/>
                        </a:lnTo>
                        <a:lnTo>
                          <a:pt x="86" y="134"/>
                        </a:lnTo>
                        <a:lnTo>
                          <a:pt x="86" y="134"/>
                        </a:lnTo>
                        <a:lnTo>
                          <a:pt x="82" y="130"/>
                        </a:lnTo>
                        <a:lnTo>
                          <a:pt x="78" y="127"/>
                        </a:lnTo>
                        <a:lnTo>
                          <a:pt x="76" y="123"/>
                        </a:lnTo>
                        <a:lnTo>
                          <a:pt x="74" y="122"/>
                        </a:lnTo>
                        <a:lnTo>
                          <a:pt x="74" y="122"/>
                        </a:lnTo>
                        <a:lnTo>
                          <a:pt x="70" y="118"/>
                        </a:lnTo>
                        <a:lnTo>
                          <a:pt x="62" y="110"/>
                        </a:lnTo>
                        <a:lnTo>
                          <a:pt x="53" y="102"/>
                        </a:lnTo>
                        <a:lnTo>
                          <a:pt x="47" y="97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2" name=""/>
                <p:cNvSpPr/>
                <p:nvPr/>
              </p:nvSpPr>
              <p:spPr>
                <a:xfrm>
                  <a:off x="1839600" y="4096440"/>
                  <a:ext cx="970200" cy="227520"/>
                </a:xfrm>
                <a:custGeom>
                  <a:avLst/>
                  <a:gdLst/>
                  <a:ahLst/>
                  <a:rect l="l" t="t" r="r" b="b"/>
                  <a:pathLst>
                    <a:path w="611" h="125">
                      <a:moveTo>
                        <a:pt x="575" y="61"/>
                      </a:moveTo>
                      <a:lnTo>
                        <a:pt x="572" y="59"/>
                      </a:lnTo>
                      <a:lnTo>
                        <a:pt x="565" y="51"/>
                      </a:lnTo>
                      <a:lnTo>
                        <a:pt x="556" y="43"/>
                      </a:lnTo>
                      <a:lnTo>
                        <a:pt x="545" y="32"/>
                      </a:lnTo>
                      <a:lnTo>
                        <a:pt x="536" y="21"/>
                      </a:lnTo>
                      <a:lnTo>
                        <a:pt x="526" y="13"/>
                      </a:lnTo>
                      <a:lnTo>
                        <a:pt x="520" y="6"/>
                      </a:lnTo>
                      <a:lnTo>
                        <a:pt x="517" y="4"/>
                      </a:lnTo>
                      <a:lnTo>
                        <a:pt x="515" y="2"/>
                      </a:lnTo>
                      <a:lnTo>
                        <a:pt x="514" y="1"/>
                      </a:lnTo>
                      <a:lnTo>
                        <a:pt x="513" y="0"/>
                      </a:lnTo>
                      <a:lnTo>
                        <a:pt x="509" y="0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8" y="29"/>
                      </a:lnTo>
                      <a:lnTo>
                        <a:pt x="17" y="41"/>
                      </a:lnTo>
                      <a:lnTo>
                        <a:pt x="27" y="54"/>
                      </a:lnTo>
                      <a:lnTo>
                        <a:pt x="37" y="68"/>
                      </a:lnTo>
                      <a:lnTo>
                        <a:pt x="47" y="80"/>
                      </a:lnTo>
                      <a:lnTo>
                        <a:pt x="54" y="89"/>
                      </a:lnTo>
                      <a:lnTo>
                        <a:pt x="56" y="92"/>
                      </a:lnTo>
                      <a:lnTo>
                        <a:pt x="60" y="97"/>
                      </a:lnTo>
                      <a:lnTo>
                        <a:pt x="70" y="108"/>
                      </a:lnTo>
                      <a:lnTo>
                        <a:pt x="78" y="119"/>
                      </a:lnTo>
                      <a:lnTo>
                        <a:pt x="82" y="123"/>
                      </a:lnTo>
                      <a:lnTo>
                        <a:pt x="82" y="123"/>
                      </a:lnTo>
                      <a:lnTo>
                        <a:pt x="83" y="125"/>
                      </a:lnTo>
                      <a:lnTo>
                        <a:pt x="86" y="125"/>
                      </a:lnTo>
                      <a:lnTo>
                        <a:pt x="90" y="125"/>
                      </a:lnTo>
                      <a:lnTo>
                        <a:pt x="97" y="125"/>
                      </a:lnTo>
                      <a:lnTo>
                        <a:pt x="113" y="123"/>
                      </a:lnTo>
                      <a:lnTo>
                        <a:pt x="140" y="122"/>
                      </a:lnTo>
                      <a:lnTo>
                        <a:pt x="173" y="120"/>
                      </a:lnTo>
                      <a:lnTo>
                        <a:pt x="212" y="117"/>
                      </a:lnTo>
                      <a:lnTo>
                        <a:pt x="256" y="115"/>
                      </a:lnTo>
                      <a:lnTo>
                        <a:pt x="303" y="113"/>
                      </a:lnTo>
                      <a:lnTo>
                        <a:pt x="351" y="110"/>
                      </a:lnTo>
                      <a:lnTo>
                        <a:pt x="398" y="108"/>
                      </a:lnTo>
                      <a:lnTo>
                        <a:pt x="445" y="105"/>
                      </a:lnTo>
                      <a:lnTo>
                        <a:pt x="490" y="102"/>
                      </a:lnTo>
                      <a:lnTo>
                        <a:pt x="529" y="101"/>
                      </a:lnTo>
                      <a:lnTo>
                        <a:pt x="561" y="98"/>
                      </a:lnTo>
                      <a:lnTo>
                        <a:pt x="587" y="97"/>
                      </a:lnTo>
                      <a:lnTo>
                        <a:pt x="603" y="96"/>
                      </a:lnTo>
                      <a:lnTo>
                        <a:pt x="610" y="96"/>
                      </a:lnTo>
                      <a:lnTo>
                        <a:pt x="610" y="96"/>
                      </a:lnTo>
                      <a:lnTo>
                        <a:pt x="611" y="95"/>
                      </a:lnTo>
                      <a:lnTo>
                        <a:pt x="611" y="93"/>
                      </a:lnTo>
                      <a:lnTo>
                        <a:pt x="608" y="92"/>
                      </a:lnTo>
                      <a:lnTo>
                        <a:pt x="575" y="61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882440" y="4118400"/>
                  <a:ext cx="890640" cy="187560"/>
                </a:xfrm>
                <a:custGeom>
                  <a:avLst/>
                  <a:gdLst/>
                  <a:ahLst/>
                  <a:rect l="l" t="t" r="r" b="b"/>
                  <a:pathLst>
                    <a:path w="561" h="103">
                      <a:moveTo>
                        <a:pt x="2" y="17"/>
                      </a:moveTo>
                      <a:lnTo>
                        <a:pt x="478" y="0"/>
                      </a:lnTo>
                      <a:lnTo>
                        <a:pt x="478" y="0"/>
                      </a:lnTo>
                      <a:lnTo>
                        <a:pt x="479" y="0"/>
                      </a:lnTo>
                      <a:lnTo>
                        <a:pt x="480" y="1"/>
                      </a:lnTo>
                      <a:lnTo>
                        <a:pt x="482" y="1"/>
                      </a:lnTo>
                      <a:lnTo>
                        <a:pt x="486" y="6"/>
                      </a:lnTo>
                      <a:lnTo>
                        <a:pt x="495" y="15"/>
                      </a:lnTo>
                      <a:lnTo>
                        <a:pt x="507" y="26"/>
                      </a:lnTo>
                      <a:lnTo>
                        <a:pt x="522" y="39"/>
                      </a:lnTo>
                      <a:lnTo>
                        <a:pt x="536" y="53"/>
                      </a:lnTo>
                      <a:lnTo>
                        <a:pt x="548" y="63"/>
                      </a:lnTo>
                      <a:lnTo>
                        <a:pt x="556" y="72"/>
                      </a:lnTo>
                      <a:lnTo>
                        <a:pt x="560" y="74"/>
                      </a:lnTo>
                      <a:lnTo>
                        <a:pt x="560" y="75"/>
                      </a:lnTo>
                      <a:lnTo>
                        <a:pt x="561" y="75"/>
                      </a:lnTo>
                      <a:lnTo>
                        <a:pt x="561" y="77"/>
                      </a:lnTo>
                      <a:lnTo>
                        <a:pt x="559" y="77"/>
                      </a:lnTo>
                      <a:lnTo>
                        <a:pt x="552" y="78"/>
                      </a:lnTo>
                      <a:lnTo>
                        <a:pt x="536" y="78"/>
                      </a:lnTo>
                      <a:lnTo>
                        <a:pt x="511" y="79"/>
                      </a:lnTo>
                      <a:lnTo>
                        <a:pt x="479" y="81"/>
                      </a:lnTo>
                      <a:lnTo>
                        <a:pt x="443" y="83"/>
                      </a:lnTo>
                      <a:lnTo>
                        <a:pt x="402" y="85"/>
                      </a:lnTo>
                      <a:lnTo>
                        <a:pt x="359" y="87"/>
                      </a:lnTo>
                      <a:lnTo>
                        <a:pt x="313" y="90"/>
                      </a:lnTo>
                      <a:lnTo>
                        <a:pt x="269" y="92"/>
                      </a:lnTo>
                      <a:lnTo>
                        <a:pt x="226" y="95"/>
                      </a:lnTo>
                      <a:lnTo>
                        <a:pt x="187" y="97"/>
                      </a:lnTo>
                      <a:lnTo>
                        <a:pt x="150" y="99"/>
                      </a:lnTo>
                      <a:lnTo>
                        <a:pt x="119" y="101"/>
                      </a:lnTo>
                      <a:lnTo>
                        <a:pt x="97" y="102"/>
                      </a:lnTo>
                      <a:lnTo>
                        <a:pt x="82" y="103"/>
                      </a:lnTo>
                      <a:lnTo>
                        <a:pt x="75" y="103"/>
                      </a:lnTo>
                      <a:lnTo>
                        <a:pt x="75" y="103"/>
                      </a:lnTo>
                      <a:lnTo>
                        <a:pt x="72" y="103"/>
                      </a:lnTo>
                      <a:lnTo>
                        <a:pt x="70" y="102"/>
                      </a:lnTo>
                      <a:lnTo>
                        <a:pt x="67" y="99"/>
                      </a:lnTo>
                      <a:lnTo>
                        <a:pt x="60" y="92"/>
                      </a:lnTo>
                      <a:lnTo>
                        <a:pt x="51" y="83"/>
                      </a:lnTo>
                      <a:lnTo>
                        <a:pt x="40" y="71"/>
                      </a:lnTo>
                      <a:lnTo>
                        <a:pt x="29" y="57"/>
                      </a:lnTo>
                      <a:lnTo>
                        <a:pt x="20" y="44"/>
                      </a:lnTo>
                      <a:lnTo>
                        <a:pt x="10" y="32"/>
                      </a:lnTo>
                      <a:lnTo>
                        <a:pt x="4" y="2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885680" y="4120200"/>
                  <a:ext cx="884520" cy="185760"/>
                </a:xfrm>
                <a:custGeom>
                  <a:avLst/>
                  <a:gdLst/>
                  <a:ahLst/>
                  <a:rect l="l" t="t" r="r" b="b"/>
                  <a:pathLst>
                    <a:path w="557" h="102">
                      <a:moveTo>
                        <a:pt x="2" y="17"/>
                      </a:moveTo>
                      <a:lnTo>
                        <a:pt x="476" y="0"/>
                      </a:lnTo>
                      <a:lnTo>
                        <a:pt x="476" y="0"/>
                      </a:lnTo>
                      <a:lnTo>
                        <a:pt x="477" y="0"/>
                      </a:lnTo>
                      <a:lnTo>
                        <a:pt x="478" y="1"/>
                      </a:lnTo>
                      <a:lnTo>
                        <a:pt x="480" y="2"/>
                      </a:lnTo>
                      <a:lnTo>
                        <a:pt x="485" y="7"/>
                      </a:lnTo>
                      <a:lnTo>
                        <a:pt x="493" y="16"/>
                      </a:lnTo>
                      <a:lnTo>
                        <a:pt x="503" y="25"/>
                      </a:lnTo>
                      <a:lnTo>
                        <a:pt x="513" y="37"/>
                      </a:lnTo>
                      <a:lnTo>
                        <a:pt x="524" y="48"/>
                      </a:lnTo>
                      <a:lnTo>
                        <a:pt x="536" y="59"/>
                      </a:lnTo>
                      <a:lnTo>
                        <a:pt x="547" y="67"/>
                      </a:lnTo>
                      <a:lnTo>
                        <a:pt x="557" y="73"/>
                      </a:lnTo>
                      <a:lnTo>
                        <a:pt x="557" y="73"/>
                      </a:lnTo>
                      <a:lnTo>
                        <a:pt x="557" y="74"/>
                      </a:lnTo>
                      <a:lnTo>
                        <a:pt x="557" y="76"/>
                      </a:lnTo>
                      <a:lnTo>
                        <a:pt x="554" y="76"/>
                      </a:lnTo>
                      <a:lnTo>
                        <a:pt x="547" y="76"/>
                      </a:lnTo>
                      <a:lnTo>
                        <a:pt x="531" y="77"/>
                      </a:lnTo>
                      <a:lnTo>
                        <a:pt x="507" y="78"/>
                      </a:lnTo>
                      <a:lnTo>
                        <a:pt x="476" y="79"/>
                      </a:lnTo>
                      <a:lnTo>
                        <a:pt x="439" y="82"/>
                      </a:lnTo>
                      <a:lnTo>
                        <a:pt x="399" y="84"/>
                      </a:lnTo>
                      <a:lnTo>
                        <a:pt x="356" y="86"/>
                      </a:lnTo>
                      <a:lnTo>
                        <a:pt x="311" y="89"/>
                      </a:lnTo>
                      <a:lnTo>
                        <a:pt x="267" y="91"/>
                      </a:lnTo>
                      <a:lnTo>
                        <a:pt x="224" y="94"/>
                      </a:lnTo>
                      <a:lnTo>
                        <a:pt x="185" y="96"/>
                      </a:lnTo>
                      <a:lnTo>
                        <a:pt x="148" y="97"/>
                      </a:lnTo>
                      <a:lnTo>
                        <a:pt x="119" y="100"/>
                      </a:lnTo>
                      <a:lnTo>
                        <a:pt x="95" y="101"/>
                      </a:lnTo>
                      <a:lnTo>
                        <a:pt x="80" y="101"/>
                      </a:lnTo>
                      <a:lnTo>
                        <a:pt x="74" y="102"/>
                      </a:lnTo>
                      <a:lnTo>
                        <a:pt x="73" y="102"/>
                      </a:lnTo>
                      <a:lnTo>
                        <a:pt x="70" y="102"/>
                      </a:lnTo>
                      <a:lnTo>
                        <a:pt x="69" y="101"/>
                      </a:lnTo>
                      <a:lnTo>
                        <a:pt x="65" y="97"/>
                      </a:lnTo>
                      <a:lnTo>
                        <a:pt x="58" y="91"/>
                      </a:lnTo>
                      <a:lnTo>
                        <a:pt x="50" y="82"/>
                      </a:lnTo>
                      <a:lnTo>
                        <a:pt x="39" y="70"/>
                      </a:lnTo>
                      <a:lnTo>
                        <a:pt x="29" y="56"/>
                      </a:lnTo>
                      <a:lnTo>
                        <a:pt x="19" y="44"/>
                      </a:lnTo>
                      <a:lnTo>
                        <a:pt x="10" y="32"/>
                      </a:lnTo>
                      <a:lnTo>
                        <a:pt x="3" y="24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560320" y="4189320"/>
                  <a:ext cx="101880" cy="7272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41" y="40"/>
                      </a:moveTo>
                      <a:lnTo>
                        <a:pt x="43" y="40"/>
                      </a:lnTo>
                      <a:lnTo>
                        <a:pt x="48" y="36"/>
                      </a:lnTo>
                      <a:lnTo>
                        <a:pt x="55" y="33"/>
                      </a:lnTo>
                      <a:lnTo>
                        <a:pt x="61" y="27"/>
                      </a:lnTo>
                      <a:lnTo>
                        <a:pt x="64" y="21"/>
                      </a:lnTo>
                      <a:lnTo>
                        <a:pt x="61" y="15"/>
                      </a:lnTo>
                      <a:lnTo>
                        <a:pt x="51" y="9"/>
                      </a:lnTo>
                      <a:lnTo>
                        <a:pt x="32" y="3"/>
                      </a:lnTo>
                      <a:lnTo>
                        <a:pt x="25" y="2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10"/>
                      </a:lnTo>
                      <a:lnTo>
                        <a:pt x="5" y="15"/>
                      </a:lnTo>
                      <a:lnTo>
                        <a:pt x="17" y="24"/>
                      </a:lnTo>
                      <a:lnTo>
                        <a:pt x="29" y="33"/>
                      </a:lnTo>
                      <a:lnTo>
                        <a:pt x="37" y="39"/>
                      </a:lnTo>
                      <a:lnTo>
                        <a:pt x="41" y="4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833480" y="4127400"/>
                  <a:ext cx="137880" cy="213120"/>
                </a:xfrm>
                <a:custGeom>
                  <a:avLst/>
                  <a:gdLst/>
                  <a:ahLst/>
                  <a:rect l="l" t="t" r="r" b="b"/>
                  <a:pathLst>
                    <a:path w="87" h="117">
                      <a:moveTo>
                        <a:pt x="2" y="33"/>
                      </a:move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56" y="70"/>
                      </a:lnTo>
                      <a:lnTo>
                        <a:pt x="58" y="72"/>
                      </a:lnTo>
                      <a:lnTo>
                        <a:pt x="59" y="73"/>
                      </a:lnTo>
                      <a:lnTo>
                        <a:pt x="60" y="75"/>
                      </a:lnTo>
                      <a:lnTo>
                        <a:pt x="62" y="78"/>
                      </a:lnTo>
                      <a:lnTo>
                        <a:pt x="66" y="82"/>
                      </a:lnTo>
                      <a:lnTo>
                        <a:pt x="74" y="92"/>
                      </a:lnTo>
                      <a:lnTo>
                        <a:pt x="80" y="102"/>
                      </a:lnTo>
                      <a:lnTo>
                        <a:pt x="84" y="105"/>
                      </a:lnTo>
                      <a:lnTo>
                        <a:pt x="84" y="105"/>
                      </a:lnTo>
                      <a:lnTo>
                        <a:pt x="86" y="106"/>
                      </a:lnTo>
                      <a:lnTo>
                        <a:pt x="87" y="106"/>
                      </a:lnTo>
                      <a:lnTo>
                        <a:pt x="87" y="108"/>
                      </a:lnTo>
                      <a:lnTo>
                        <a:pt x="87" y="117"/>
                      </a:lnTo>
                      <a:lnTo>
                        <a:pt x="87" y="117"/>
                      </a:lnTo>
                      <a:lnTo>
                        <a:pt x="86" y="117"/>
                      </a:lnTo>
                      <a:lnTo>
                        <a:pt x="86" y="116"/>
                      </a:lnTo>
                      <a:lnTo>
                        <a:pt x="83" y="115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c5c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969920" y="4324320"/>
                  <a:ext cx="6480" cy="162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fd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834920" y="4141800"/>
                  <a:ext cx="974880" cy="193320"/>
                </a:xfrm>
                <a:custGeom>
                  <a:avLst/>
                  <a:gdLst/>
                  <a:ahLst/>
                  <a:rect l="l" t="t" r="r" b="b"/>
                  <a:pathLst>
                    <a:path w="614" h="106">
                      <a:moveTo>
                        <a:pt x="54" y="71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11" y="16"/>
                      </a:lnTo>
                      <a:lnTo>
                        <a:pt x="20" y="25"/>
                      </a:lnTo>
                      <a:lnTo>
                        <a:pt x="30" y="37"/>
                      </a:lnTo>
                      <a:lnTo>
                        <a:pt x="39" y="49"/>
                      </a:lnTo>
                      <a:lnTo>
                        <a:pt x="47" y="59"/>
                      </a:lnTo>
                      <a:lnTo>
                        <a:pt x="53" y="66"/>
                      </a:lnTo>
                      <a:lnTo>
                        <a:pt x="54" y="68"/>
                      </a:lnTo>
                      <a:lnTo>
                        <a:pt x="57" y="71"/>
                      </a:lnTo>
                      <a:lnTo>
                        <a:pt x="61" y="76"/>
                      </a:lnTo>
                      <a:lnTo>
                        <a:pt x="66" y="82"/>
                      </a:lnTo>
                      <a:lnTo>
                        <a:pt x="71" y="88"/>
                      </a:lnTo>
                      <a:lnTo>
                        <a:pt x="77" y="94"/>
                      </a:lnTo>
                      <a:lnTo>
                        <a:pt x="81" y="100"/>
                      </a:lnTo>
                      <a:lnTo>
                        <a:pt x="83" y="103"/>
                      </a:lnTo>
                      <a:lnTo>
                        <a:pt x="85" y="104"/>
                      </a:lnTo>
                      <a:lnTo>
                        <a:pt x="85" y="104"/>
                      </a:lnTo>
                      <a:lnTo>
                        <a:pt x="86" y="104"/>
                      </a:lnTo>
                      <a:lnTo>
                        <a:pt x="88" y="104"/>
                      </a:lnTo>
                      <a:lnTo>
                        <a:pt x="89" y="106"/>
                      </a:lnTo>
                      <a:lnTo>
                        <a:pt x="96" y="104"/>
                      </a:lnTo>
                      <a:lnTo>
                        <a:pt x="113" y="103"/>
                      </a:lnTo>
                      <a:lnTo>
                        <a:pt x="140" y="102"/>
                      </a:lnTo>
                      <a:lnTo>
                        <a:pt x="174" y="101"/>
                      </a:lnTo>
                      <a:lnTo>
                        <a:pt x="214" y="98"/>
                      </a:lnTo>
                      <a:lnTo>
                        <a:pt x="257" y="96"/>
                      </a:lnTo>
                      <a:lnTo>
                        <a:pt x="304" y="94"/>
                      </a:lnTo>
                      <a:lnTo>
                        <a:pt x="353" y="90"/>
                      </a:lnTo>
                      <a:lnTo>
                        <a:pt x="401" y="88"/>
                      </a:lnTo>
                      <a:lnTo>
                        <a:pt x="448" y="85"/>
                      </a:lnTo>
                      <a:lnTo>
                        <a:pt x="493" y="83"/>
                      </a:lnTo>
                      <a:lnTo>
                        <a:pt x="533" y="80"/>
                      </a:lnTo>
                      <a:lnTo>
                        <a:pt x="566" y="79"/>
                      </a:lnTo>
                      <a:lnTo>
                        <a:pt x="593" y="77"/>
                      </a:lnTo>
                      <a:lnTo>
                        <a:pt x="609" y="77"/>
                      </a:lnTo>
                      <a:lnTo>
                        <a:pt x="614" y="76"/>
                      </a:lnTo>
                      <a:lnTo>
                        <a:pt x="614" y="77"/>
                      </a:lnTo>
                      <a:lnTo>
                        <a:pt x="89" y="106"/>
                      </a:lnTo>
                      <a:lnTo>
                        <a:pt x="89" y="106"/>
                      </a:lnTo>
                      <a:lnTo>
                        <a:pt x="88" y="106"/>
                      </a:lnTo>
                      <a:lnTo>
                        <a:pt x="86" y="106"/>
                      </a:lnTo>
                      <a:lnTo>
                        <a:pt x="85" y="104"/>
                      </a:lnTo>
                      <a:lnTo>
                        <a:pt x="79" y="98"/>
                      </a:lnTo>
                      <a:lnTo>
                        <a:pt x="69" y="88"/>
                      </a:lnTo>
                      <a:lnTo>
                        <a:pt x="59" y="76"/>
                      </a:lnTo>
                      <a:lnTo>
                        <a:pt x="54" y="71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1836720" y="4123800"/>
                  <a:ext cx="974520" cy="201960"/>
                  <a:chOff x="1836720" y="4123800"/>
                  <a:chExt cx="974520" cy="20196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1836720" y="412380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2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1836720" y="4127400"/>
                    <a:ext cx="10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8"/>
                        </a:move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4"/>
                        </a:lnTo>
                        <a:lnTo>
                          <a:pt x="4" y="7"/>
                        </a:lnTo>
                        <a:lnTo>
                          <a:pt x="6" y="9"/>
                        </a:lnTo>
                        <a:lnTo>
                          <a:pt x="7" y="8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1846080" y="4141800"/>
                    <a:ext cx="763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1">
                        <a:moveTo>
                          <a:pt x="48" y="61"/>
                        </a:moveTo>
                        <a:lnTo>
                          <a:pt x="48" y="61"/>
                        </a:lnTo>
                        <a:lnTo>
                          <a:pt x="46" y="58"/>
                        </a:lnTo>
                        <a:lnTo>
                          <a:pt x="40" y="50"/>
                        </a:lnTo>
                        <a:lnTo>
                          <a:pt x="33" y="41"/>
                        </a:lnTo>
                        <a:lnTo>
                          <a:pt x="24" y="30"/>
                        </a:lnTo>
                        <a:lnTo>
                          <a:pt x="16" y="19"/>
                        </a:lnTo>
                        <a:lnTo>
                          <a:pt x="9" y="10"/>
                        </a:lnTo>
                        <a:lnTo>
                          <a:pt x="4" y="2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2" y="4"/>
                        </a:lnTo>
                        <a:lnTo>
                          <a:pt x="8" y="11"/>
                        </a:lnTo>
                        <a:lnTo>
                          <a:pt x="15" y="20"/>
                        </a:lnTo>
                        <a:lnTo>
                          <a:pt x="23" y="31"/>
                        </a:lnTo>
                        <a:lnTo>
                          <a:pt x="32" y="42"/>
                        </a:lnTo>
                        <a:lnTo>
                          <a:pt x="39" y="52"/>
                        </a:lnTo>
                        <a:lnTo>
                          <a:pt x="44" y="59"/>
                        </a:lnTo>
                        <a:lnTo>
                          <a:pt x="47" y="61"/>
                        </a:lnTo>
                        <a:lnTo>
                          <a:pt x="48" y="61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1920600" y="42526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8" y="7"/>
                        </a:moveTo>
                        <a:lnTo>
                          <a:pt x="8" y="7"/>
                        </a:lnTo>
                        <a:lnTo>
                          <a:pt x="5" y="5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3" y="4"/>
                        </a:lnTo>
                        <a:lnTo>
                          <a:pt x="4" y="6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1931760" y="4265640"/>
                    <a:ext cx="381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24" y="29"/>
                        </a:moveTo>
                        <a:lnTo>
                          <a:pt x="24" y="29"/>
                        </a:lnTo>
                        <a:lnTo>
                          <a:pt x="20" y="24"/>
                        </a:lnTo>
                        <a:lnTo>
                          <a:pt x="13" y="16"/>
                        </a:lnTo>
                        <a:lnTo>
                          <a:pt x="5" y="6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4" y="6"/>
                        </a:lnTo>
                        <a:lnTo>
                          <a:pt x="12" y="16"/>
                        </a:lnTo>
                        <a:lnTo>
                          <a:pt x="18" y="26"/>
                        </a:lnTo>
                        <a:lnTo>
                          <a:pt x="22" y="30"/>
                        </a:lnTo>
                        <a:lnTo>
                          <a:pt x="24" y="29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966680" y="431856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3"/>
                        </a:move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lnTo>
                          <a:pt x="5" y="3"/>
                        </a:lnTo>
                        <a:lnTo>
                          <a:pt x="6" y="4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981080" y="4269240"/>
                    <a:ext cx="82692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31">
                        <a:moveTo>
                          <a:pt x="519" y="0"/>
                        </a:moveTo>
                        <a:lnTo>
                          <a:pt x="519" y="0"/>
                        </a:lnTo>
                        <a:lnTo>
                          <a:pt x="514" y="1"/>
                        </a:lnTo>
                        <a:lnTo>
                          <a:pt x="498" y="1"/>
                        </a:lnTo>
                        <a:lnTo>
                          <a:pt x="472" y="3"/>
                        </a:lnTo>
                        <a:lnTo>
                          <a:pt x="439" y="4"/>
                        </a:lnTo>
                        <a:lnTo>
                          <a:pt x="400" y="7"/>
                        </a:lnTo>
                        <a:lnTo>
                          <a:pt x="355" y="9"/>
                        </a:lnTo>
                        <a:lnTo>
                          <a:pt x="309" y="12"/>
                        </a:lnTo>
                        <a:lnTo>
                          <a:pt x="261" y="14"/>
                        </a:lnTo>
                        <a:lnTo>
                          <a:pt x="212" y="18"/>
                        </a:lnTo>
                        <a:lnTo>
                          <a:pt x="165" y="20"/>
                        </a:lnTo>
                        <a:lnTo>
                          <a:pt x="122" y="22"/>
                        </a:lnTo>
                        <a:lnTo>
                          <a:pt x="83" y="25"/>
                        </a:lnTo>
                        <a:lnTo>
                          <a:pt x="49" y="26"/>
                        </a:lnTo>
                        <a:lnTo>
                          <a:pt x="22" y="28"/>
                        </a:lnTo>
                        <a:lnTo>
                          <a:pt x="6" y="28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6" y="30"/>
                        </a:lnTo>
                        <a:lnTo>
                          <a:pt x="22" y="30"/>
                        </a:lnTo>
                        <a:lnTo>
                          <a:pt x="49" y="28"/>
                        </a:lnTo>
                        <a:lnTo>
                          <a:pt x="83" y="26"/>
                        </a:lnTo>
                        <a:lnTo>
                          <a:pt x="122" y="24"/>
                        </a:lnTo>
                        <a:lnTo>
                          <a:pt x="165" y="21"/>
                        </a:lnTo>
                        <a:lnTo>
                          <a:pt x="212" y="19"/>
                        </a:lnTo>
                        <a:lnTo>
                          <a:pt x="261" y="16"/>
                        </a:lnTo>
                        <a:lnTo>
                          <a:pt x="309" y="13"/>
                        </a:lnTo>
                        <a:lnTo>
                          <a:pt x="356" y="10"/>
                        </a:lnTo>
                        <a:lnTo>
                          <a:pt x="400" y="8"/>
                        </a:lnTo>
                        <a:lnTo>
                          <a:pt x="439" y="6"/>
                        </a:lnTo>
                        <a:lnTo>
                          <a:pt x="472" y="4"/>
                        </a:lnTo>
                        <a:lnTo>
                          <a:pt x="498" y="3"/>
                        </a:lnTo>
                        <a:lnTo>
                          <a:pt x="514" y="2"/>
                        </a:lnTo>
                        <a:lnTo>
                          <a:pt x="521" y="2"/>
                        </a:lnTo>
                        <a:lnTo>
                          <a:pt x="521" y="2"/>
                        </a:lnTo>
                        <a:lnTo>
                          <a:pt x="519" y="0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805120" y="426924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2809800" y="4265640"/>
                    <a:ext cx="1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2"/>
                        </a:move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f3f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2647800" y="4171320"/>
                  <a:ext cx="39600" cy="21240"/>
                  <a:chOff x="2647800" y="4171320"/>
                  <a:chExt cx="39600" cy="2124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2647800" y="4171320"/>
                    <a:ext cx="39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4"/>
                        </a:move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9"/>
                        </a:ln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11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2647800" y="4171320"/>
                    <a:ext cx="39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4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9"/>
                        </a:ln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11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2" name=""/>
                <p:cNvSpPr/>
                <p:nvPr/>
              </p:nvSpPr>
              <p:spPr>
                <a:xfrm>
                  <a:off x="2649240" y="4171320"/>
                  <a:ext cx="17640" cy="234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3" name=""/>
                <p:cNvGrpSpPr/>
                <p:nvPr/>
              </p:nvGrpSpPr>
              <p:grpSpPr>
                <a:xfrm>
                  <a:off x="2660400" y="4178160"/>
                  <a:ext cx="31680" cy="15840"/>
                  <a:chOff x="2660400" y="4178160"/>
                  <a:chExt cx="31680" cy="1584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2660400" y="417816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20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2660400" y="417816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20" y="6"/>
                        </a:lnTo>
                        <a:lnTo>
                          <a:pt x="20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2662200" y="4178160"/>
                  <a:ext cx="23760" cy="1476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655720" y="417312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662200" y="419328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9" name=""/>
                <p:cNvGrpSpPr/>
                <p:nvPr/>
              </p:nvGrpSpPr>
              <p:grpSpPr>
                <a:xfrm>
                  <a:off x="2617560" y="4173120"/>
                  <a:ext cx="38160" cy="21240"/>
                  <a:chOff x="2617560" y="4173120"/>
                  <a:chExt cx="38160" cy="2124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617560" y="417312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617560" y="417312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617560" y="417312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1" y="9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3" name=""/>
                <p:cNvGrpSpPr/>
                <p:nvPr/>
              </p:nvGrpSpPr>
              <p:grpSpPr>
                <a:xfrm>
                  <a:off x="2630160" y="4182120"/>
                  <a:ext cx="30240" cy="14400"/>
                  <a:chOff x="2630160" y="4182120"/>
                  <a:chExt cx="30240" cy="144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2630160" y="4182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2630160" y="4182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6" name=""/>
                <p:cNvSpPr/>
                <p:nvPr/>
              </p:nvSpPr>
              <p:spPr>
                <a:xfrm>
                  <a:off x="2630160" y="418212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625480" y="417312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630160" y="419472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9" name=""/>
                <p:cNvGrpSpPr/>
                <p:nvPr/>
              </p:nvGrpSpPr>
              <p:grpSpPr>
                <a:xfrm>
                  <a:off x="2582640" y="4173120"/>
                  <a:ext cx="39600" cy="23400"/>
                  <a:chOff x="2582640" y="4173120"/>
                  <a:chExt cx="39600" cy="2340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>
                    <a:off x="2582640" y="4173120"/>
                    <a:ext cx="39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6"/>
                        </a:move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582640" y="4173120"/>
                    <a:ext cx="39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6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2" name=""/>
                <p:cNvSpPr/>
                <p:nvPr/>
              </p:nvSpPr>
              <p:spPr>
                <a:xfrm>
                  <a:off x="2582640" y="417492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8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3" name=""/>
                <p:cNvGrpSpPr/>
                <p:nvPr/>
              </p:nvGrpSpPr>
              <p:grpSpPr>
                <a:xfrm>
                  <a:off x="2595240" y="4184280"/>
                  <a:ext cx="30240" cy="14040"/>
                  <a:chOff x="2595240" y="4184280"/>
                  <a:chExt cx="30240" cy="1404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2595240" y="4184280"/>
                    <a:ext cx="30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7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2595240" y="4184280"/>
                    <a:ext cx="30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6" name=""/>
                <p:cNvSpPr/>
                <p:nvPr/>
              </p:nvSpPr>
              <p:spPr>
                <a:xfrm>
                  <a:off x="2598480" y="418428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592360" y="417492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595240" y="419688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2549520" y="4176720"/>
                  <a:ext cx="37800" cy="21240"/>
                  <a:chOff x="2549520" y="4176720"/>
                  <a:chExt cx="37800" cy="2124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2549520" y="4176720"/>
                    <a:ext cx="378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2549520" y="4176720"/>
                    <a:ext cx="378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2" name=""/>
                <p:cNvSpPr/>
                <p:nvPr/>
              </p:nvSpPr>
              <p:spPr>
                <a:xfrm>
                  <a:off x="2549520" y="417672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8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3" name=""/>
                <p:cNvGrpSpPr/>
                <p:nvPr/>
              </p:nvGrpSpPr>
              <p:grpSpPr>
                <a:xfrm>
                  <a:off x="2562120" y="4185720"/>
                  <a:ext cx="30240" cy="17640"/>
                  <a:chOff x="2562120" y="4185720"/>
                  <a:chExt cx="30240" cy="17640"/>
                </a:xfrm>
              </p:grpSpPr>
              <p:sp>
                <p:nvSpPr>
                  <p:cNvPr id="1414" name=""/>
                  <p:cNvSpPr/>
                  <p:nvPr/>
                </p:nvSpPr>
                <p:spPr>
                  <a:xfrm>
                    <a:off x="2562120" y="41857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562120" y="41857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6" name=""/>
                <p:cNvSpPr/>
                <p:nvPr/>
              </p:nvSpPr>
              <p:spPr>
                <a:xfrm>
                  <a:off x="2562120" y="418572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2557440" y="41767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549520" y="4185720"/>
                  <a:ext cx="25200" cy="2340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9" y="13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6"/>
                      </a:lnTo>
                      <a:lnTo>
                        <a:pt x="4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9" name=""/>
                <p:cNvGrpSpPr/>
                <p:nvPr/>
              </p:nvGrpSpPr>
              <p:grpSpPr>
                <a:xfrm>
                  <a:off x="2666880" y="4187520"/>
                  <a:ext cx="55440" cy="39600"/>
                  <a:chOff x="2666880" y="4187520"/>
                  <a:chExt cx="55440" cy="3960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>
                    <a:off x="2666880" y="418752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2">
                        <a:moveTo>
                          <a:pt x="35" y="16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3" y="9"/>
                        </a:lnTo>
                        <a:lnTo>
                          <a:pt x="8" y="13"/>
                        </a:lnTo>
                        <a:lnTo>
                          <a:pt x="13" y="17"/>
                        </a:lnTo>
                        <a:lnTo>
                          <a:pt x="16" y="18"/>
                        </a:lnTo>
                        <a:lnTo>
                          <a:pt x="21" y="22"/>
                        </a:lnTo>
                        <a:lnTo>
                          <a:pt x="35" y="1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2666880" y="418752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2">
                        <a:moveTo>
                          <a:pt x="35" y="1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3" y="9"/>
                        </a:lnTo>
                        <a:lnTo>
                          <a:pt x="8" y="13"/>
                        </a:lnTo>
                        <a:lnTo>
                          <a:pt x="13" y="17"/>
                        </a:lnTo>
                        <a:lnTo>
                          <a:pt x="16" y="18"/>
                        </a:lnTo>
                        <a:lnTo>
                          <a:pt x="21" y="22"/>
                        </a:lnTo>
                        <a:lnTo>
                          <a:pt x="35" y="1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2" name=""/>
                <p:cNvSpPr/>
                <p:nvPr/>
              </p:nvSpPr>
              <p:spPr>
                <a:xfrm>
                  <a:off x="2666880" y="4189320"/>
                  <a:ext cx="36360" cy="3996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4" y="0"/>
                      </a:moveTo>
                      <a:lnTo>
                        <a:pt x="7" y="3"/>
                      </a:lnTo>
                      <a:lnTo>
                        <a:pt x="13" y="8"/>
                      </a:lnTo>
                      <a:lnTo>
                        <a:pt x="19" y="14"/>
                      </a:lnTo>
                      <a:lnTo>
                        <a:pt x="23" y="16"/>
                      </a:lnTo>
                      <a:lnTo>
                        <a:pt x="23" y="17"/>
                      </a:lnTo>
                      <a:lnTo>
                        <a:pt x="21" y="20"/>
                      </a:lnTo>
                      <a:lnTo>
                        <a:pt x="20" y="21"/>
                      </a:lnTo>
                      <a:lnTo>
                        <a:pt x="19" y="22"/>
                      </a:lnTo>
                      <a:lnTo>
                        <a:pt x="16" y="18"/>
                      </a:lnTo>
                      <a:lnTo>
                        <a:pt x="13" y="16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3" name=""/>
                <p:cNvGrpSpPr/>
                <p:nvPr/>
              </p:nvGrpSpPr>
              <p:grpSpPr>
                <a:xfrm>
                  <a:off x="2697120" y="4216680"/>
                  <a:ext cx="29880" cy="12240"/>
                  <a:chOff x="2697120" y="4216680"/>
                  <a:chExt cx="29880" cy="1224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2697120" y="421668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2697120" y="421668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"/>
                <p:cNvSpPr/>
                <p:nvPr/>
              </p:nvSpPr>
              <p:spPr>
                <a:xfrm>
                  <a:off x="2697120" y="4216680"/>
                  <a:ext cx="25200" cy="104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673360" y="418932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16"/>
                      </a:moveTo>
                      <a:lnTo>
                        <a:pt x="19" y="16"/>
                      </a:lnTo>
                      <a:lnTo>
                        <a:pt x="16" y="14"/>
                      </a:lnTo>
                      <a:lnTo>
                        <a:pt x="9" y="9"/>
                      </a:lnTo>
                      <a:lnTo>
                        <a:pt x="4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8" name=""/>
                <p:cNvGrpSpPr/>
                <p:nvPr/>
              </p:nvGrpSpPr>
              <p:grpSpPr>
                <a:xfrm>
                  <a:off x="2631960" y="4189320"/>
                  <a:ext cx="41400" cy="21240"/>
                  <a:chOff x="2631960" y="4189320"/>
                  <a:chExt cx="41400" cy="2124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2631960" y="418932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6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2631960" y="418932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6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1" name=""/>
                <p:cNvSpPr/>
                <p:nvPr/>
              </p:nvSpPr>
              <p:spPr>
                <a:xfrm>
                  <a:off x="2631960" y="41932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2" name=""/>
                <p:cNvGrpSpPr/>
                <p:nvPr/>
              </p:nvGrpSpPr>
              <p:grpSpPr>
                <a:xfrm>
                  <a:off x="2644560" y="4198680"/>
                  <a:ext cx="30240" cy="17640"/>
                  <a:chOff x="2644560" y="4198680"/>
                  <a:chExt cx="30240" cy="1764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2644560" y="41986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7" y="10"/>
                        </a:lnTo>
                        <a:lnTo>
                          <a:pt x="19" y="7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2644560" y="41986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7" y="10"/>
                        </a:lnTo>
                        <a:lnTo>
                          <a:pt x="19" y="7"/>
                        </a:lnTo>
                        <a:lnTo>
                          <a:pt x="19" y="7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5" name=""/>
                <p:cNvSpPr/>
                <p:nvPr/>
              </p:nvSpPr>
              <p:spPr>
                <a:xfrm>
                  <a:off x="2647800" y="419868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641320" y="4193280"/>
                  <a:ext cx="9720" cy="68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647800" y="421524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8" name=""/>
                <p:cNvGrpSpPr/>
                <p:nvPr/>
              </p:nvGrpSpPr>
              <p:grpSpPr>
                <a:xfrm>
                  <a:off x="2600280" y="4193280"/>
                  <a:ext cx="38160" cy="21240"/>
                  <a:chOff x="2600280" y="4193280"/>
                  <a:chExt cx="38160" cy="212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2600280" y="419328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0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2600280" y="419328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0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1" name=""/>
                <p:cNvSpPr/>
                <p:nvPr/>
              </p:nvSpPr>
              <p:spPr>
                <a:xfrm>
                  <a:off x="2600280" y="419472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2" name=""/>
                <p:cNvGrpSpPr/>
                <p:nvPr/>
              </p:nvGrpSpPr>
              <p:grpSpPr>
                <a:xfrm>
                  <a:off x="2612880" y="4200120"/>
                  <a:ext cx="30240" cy="17640"/>
                  <a:chOff x="2612880" y="4200120"/>
                  <a:chExt cx="30240" cy="17640"/>
                </a:xfrm>
              </p:grpSpPr>
              <p:sp>
                <p:nvSpPr>
                  <p:cNvPr id="1443" name=""/>
                  <p:cNvSpPr/>
                  <p:nvPr/>
                </p:nvSpPr>
                <p:spPr>
                  <a:xfrm>
                    <a:off x="2612880" y="42001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9" y="8"/>
                        </a:lnTo>
                        <a:lnTo>
                          <a:pt x="19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612880" y="42001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5" name=""/>
                <p:cNvSpPr/>
                <p:nvPr/>
              </p:nvSpPr>
              <p:spPr>
                <a:xfrm>
                  <a:off x="2612880" y="4200120"/>
                  <a:ext cx="23760" cy="1800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5"/>
                      </a:lnTo>
                      <a:lnTo>
                        <a:pt x="0" y="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608200" y="419472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611440" y="42166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2563560" y="4194720"/>
                  <a:ext cx="41400" cy="23040"/>
                  <a:chOff x="2563560" y="4194720"/>
                  <a:chExt cx="41400" cy="2304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2563560" y="419472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3"/>
                        </a:lnTo>
                        <a:lnTo>
                          <a:pt x="26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2563560" y="419472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3"/>
                        </a:lnTo>
                        <a:lnTo>
                          <a:pt x="26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1" name=""/>
                <p:cNvSpPr/>
                <p:nvPr/>
              </p:nvSpPr>
              <p:spPr>
                <a:xfrm>
                  <a:off x="2566800" y="4196880"/>
                  <a:ext cx="15840" cy="2340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6" y="13"/>
                      </a:lnTo>
                      <a:lnTo>
                        <a:pt x="4" y="12"/>
                      </a:lnTo>
                      <a:lnTo>
                        <a:pt x="2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2" name=""/>
                <p:cNvGrpSpPr/>
                <p:nvPr/>
              </p:nvGrpSpPr>
              <p:grpSpPr>
                <a:xfrm>
                  <a:off x="2576520" y="4204080"/>
                  <a:ext cx="29880" cy="15840"/>
                  <a:chOff x="2576520" y="4204080"/>
                  <a:chExt cx="29880" cy="1584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>
                    <a:off x="2576520" y="4204080"/>
                    <a:ext cx="29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9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2576520" y="4204080"/>
                    <a:ext cx="29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9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5" name=""/>
                <p:cNvSpPr/>
                <p:nvPr/>
              </p:nvSpPr>
              <p:spPr>
                <a:xfrm>
                  <a:off x="2576520" y="4204080"/>
                  <a:ext cx="25200" cy="16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2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573280" y="419688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2563560" y="4205880"/>
                  <a:ext cx="25560" cy="198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7"/>
                      </a:lnTo>
                      <a:lnTo>
                        <a:pt x="7" y="9"/>
                      </a:lnTo>
                      <a:lnTo>
                        <a:pt x="8" y="11"/>
                      </a:lnTo>
                      <a:lnTo>
                        <a:pt x="16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8" name=""/>
                <p:cNvGrpSpPr/>
                <p:nvPr/>
              </p:nvGrpSpPr>
              <p:grpSpPr>
                <a:xfrm>
                  <a:off x="2700000" y="4222080"/>
                  <a:ext cx="55800" cy="36000"/>
                  <a:chOff x="2700000" y="4222080"/>
                  <a:chExt cx="55800" cy="3600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2700000" y="4222080"/>
                    <a:ext cx="55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0">
                        <a:moveTo>
                          <a:pt x="35" y="14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3" y="9"/>
                        </a:lnTo>
                        <a:lnTo>
                          <a:pt x="8" y="14"/>
                        </a:lnTo>
                        <a:lnTo>
                          <a:pt x="14" y="17"/>
                        </a:lnTo>
                        <a:lnTo>
                          <a:pt x="17" y="20"/>
                        </a:lnTo>
                        <a:lnTo>
                          <a:pt x="22" y="20"/>
                        </a:lnTo>
                        <a:lnTo>
                          <a:pt x="35" y="1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2700000" y="4222080"/>
                    <a:ext cx="55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0">
                        <a:moveTo>
                          <a:pt x="35" y="1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3" y="9"/>
                        </a:lnTo>
                        <a:lnTo>
                          <a:pt x="8" y="14"/>
                        </a:lnTo>
                        <a:lnTo>
                          <a:pt x="14" y="17"/>
                        </a:lnTo>
                        <a:lnTo>
                          <a:pt x="17" y="20"/>
                        </a:lnTo>
                        <a:lnTo>
                          <a:pt x="22" y="20"/>
                        </a:lnTo>
                        <a:lnTo>
                          <a:pt x="35" y="1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2703240" y="4226040"/>
                  <a:ext cx="33480" cy="32400"/>
                </a:xfrm>
                <a:custGeom>
                  <a:avLst/>
                  <a:gdLst/>
                  <a:ahLst/>
                  <a:rect l="l" t="t" r="r" b="b"/>
                  <a:pathLst>
                    <a:path w="21" h="18">
                      <a:moveTo>
                        <a:pt x="2" y="0"/>
                      </a:moveTo>
                      <a:lnTo>
                        <a:pt x="5" y="1"/>
                      </a:lnTo>
                      <a:lnTo>
                        <a:pt x="12" y="6"/>
                      </a:lnTo>
                      <a:lnTo>
                        <a:pt x="17" y="10"/>
                      </a:lnTo>
                      <a:lnTo>
                        <a:pt x="21" y="13"/>
                      </a:lnTo>
                      <a:lnTo>
                        <a:pt x="21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8"/>
                      </a:lnTo>
                      <a:lnTo>
                        <a:pt x="15" y="18"/>
                      </a:lnTo>
                      <a:lnTo>
                        <a:pt x="12" y="15"/>
                      </a:lnTo>
                      <a:lnTo>
                        <a:pt x="8" y="12"/>
                      </a:lnTo>
                      <a:lnTo>
                        <a:pt x="2" y="8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2" name=""/>
                <p:cNvGrpSpPr/>
                <p:nvPr/>
              </p:nvGrpSpPr>
              <p:grpSpPr>
                <a:xfrm>
                  <a:off x="2733480" y="4247640"/>
                  <a:ext cx="27000" cy="10080"/>
                  <a:chOff x="2733480" y="4247640"/>
                  <a:chExt cx="27000" cy="100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2733480" y="4247640"/>
                    <a:ext cx="27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4" y="0"/>
                        </a:moveTo>
                        <a:lnTo>
                          <a:pt x="13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7" y="4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2733480" y="4247640"/>
                    <a:ext cx="27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5" name=""/>
                <p:cNvSpPr/>
                <p:nvPr/>
              </p:nvSpPr>
              <p:spPr>
                <a:xfrm>
                  <a:off x="2733480" y="4247640"/>
                  <a:ext cx="20520" cy="10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709720" y="4226040"/>
                  <a:ext cx="25200" cy="2340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6" y="13"/>
                      </a:move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8" y="7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7" name=""/>
                <p:cNvGrpSpPr/>
                <p:nvPr/>
              </p:nvGrpSpPr>
              <p:grpSpPr>
                <a:xfrm>
                  <a:off x="2654280" y="4209480"/>
                  <a:ext cx="37800" cy="19800"/>
                  <a:chOff x="2654280" y="4209480"/>
                  <a:chExt cx="37800" cy="1980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>
                    <a:off x="2654280" y="4209480"/>
                    <a:ext cx="378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4" y="5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9"/>
                        </a:lnTo>
                        <a:lnTo>
                          <a:pt x="4" y="10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2654280" y="4209480"/>
                    <a:ext cx="378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4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9"/>
                        </a:lnTo>
                        <a:lnTo>
                          <a:pt x="4" y="10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0" name=""/>
                <p:cNvSpPr/>
                <p:nvPr/>
              </p:nvSpPr>
              <p:spPr>
                <a:xfrm>
                  <a:off x="2654280" y="4211280"/>
                  <a:ext cx="17280" cy="198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7" y="2"/>
                      </a:lnTo>
                      <a:lnTo>
                        <a:pt x="9" y="4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1" name=""/>
                <p:cNvGrpSpPr/>
                <p:nvPr/>
              </p:nvGrpSpPr>
              <p:grpSpPr>
                <a:xfrm>
                  <a:off x="2666880" y="4218480"/>
                  <a:ext cx="30240" cy="18000"/>
                  <a:chOff x="2666880" y="4218480"/>
                  <a:chExt cx="30240" cy="1800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2666880" y="4218480"/>
                    <a:ext cx="30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19" y="5"/>
                        </a:lnTo>
                        <a:lnTo>
                          <a:pt x="17" y="4"/>
                        </a:lnTo>
                        <a:lnTo>
                          <a:pt x="17" y="2"/>
                        </a:lnTo>
                        <a:lnTo>
                          <a:pt x="16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666880" y="4218480"/>
                    <a:ext cx="30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7" y="4"/>
                        </a:lnTo>
                        <a:lnTo>
                          <a:pt x="17" y="2"/>
                        </a:lnTo>
                        <a:lnTo>
                          <a:pt x="16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2666880" y="42184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660400" y="421128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2665080" y="423108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2671560" y="4226040"/>
                  <a:ext cx="38160" cy="17640"/>
                  <a:chOff x="2671560" y="4226040"/>
                  <a:chExt cx="38160" cy="1764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2671560" y="422604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2671560" y="422604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0" name=""/>
                <p:cNvSpPr/>
                <p:nvPr/>
              </p:nvSpPr>
              <p:spPr>
                <a:xfrm>
                  <a:off x="2673360" y="4227480"/>
                  <a:ext cx="17280" cy="2016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7" y="11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1" name=""/>
                <p:cNvGrpSpPr/>
                <p:nvPr/>
              </p:nvGrpSpPr>
              <p:grpSpPr>
                <a:xfrm>
                  <a:off x="2684160" y="4233240"/>
                  <a:ext cx="28800" cy="17640"/>
                  <a:chOff x="2684160" y="4233240"/>
                  <a:chExt cx="28800" cy="1764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2684160" y="4233240"/>
                    <a:ext cx="28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5" y="10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2684160" y="4233240"/>
                    <a:ext cx="28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5" y="10"/>
                        </a:lnTo>
                        <a:lnTo>
                          <a:pt x="18" y="5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4" name=""/>
                <p:cNvSpPr/>
                <p:nvPr/>
              </p:nvSpPr>
              <p:spPr>
                <a:xfrm>
                  <a:off x="2685960" y="4233240"/>
                  <a:ext cx="20520" cy="10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2679480" y="422748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5"/>
                      </a:move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684160" y="424404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7" name=""/>
                <p:cNvGrpSpPr/>
                <p:nvPr/>
              </p:nvGrpSpPr>
              <p:grpSpPr>
                <a:xfrm>
                  <a:off x="2687400" y="4240440"/>
                  <a:ext cx="39600" cy="19800"/>
                  <a:chOff x="2687400" y="4240440"/>
                  <a:chExt cx="39600" cy="198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2687400" y="4240440"/>
                    <a:ext cx="39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11" y="11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2687400" y="4240440"/>
                    <a:ext cx="396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11" y="11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"/>
                <p:cNvSpPr/>
                <p:nvPr/>
              </p:nvSpPr>
              <p:spPr>
                <a:xfrm>
                  <a:off x="2690640" y="4242240"/>
                  <a:ext cx="15840" cy="180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0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2703240" y="4249440"/>
                  <a:ext cx="27000" cy="10800"/>
                  <a:chOff x="2703240" y="4249440"/>
                  <a:chExt cx="27000" cy="1080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2703240" y="4249440"/>
                    <a:ext cx="270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5" y="0"/>
                        </a:moveTo>
                        <a:lnTo>
                          <a:pt x="13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7" y="5"/>
                        </a:lnTo>
                        <a:lnTo>
                          <a:pt x="17" y="3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703240" y="4249440"/>
                    <a:ext cx="270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7" y="5"/>
                        </a:lnTo>
                        <a:lnTo>
                          <a:pt x="17" y="5"/>
                        </a:lnTo>
                        <a:lnTo>
                          <a:pt x="17" y="3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4" name=""/>
                <p:cNvSpPr/>
                <p:nvPr/>
              </p:nvSpPr>
              <p:spPr>
                <a:xfrm>
                  <a:off x="2703240" y="4249440"/>
                  <a:ext cx="20880" cy="111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697120" y="4242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5"/>
                      </a:move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2617560" y="4211280"/>
                  <a:ext cx="38160" cy="17640"/>
                  <a:chOff x="2617560" y="4211280"/>
                  <a:chExt cx="38160" cy="1764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2617560" y="421128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3" y="9"/>
                        </a:lnTo>
                        <a:lnTo>
                          <a:pt x="4" y="10"/>
                        </a:lnTo>
                        <a:lnTo>
                          <a:pt x="5" y="10"/>
                        </a:lnTo>
                        <a:lnTo>
                          <a:pt x="11" y="10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2617560" y="421128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3" y="9"/>
                        </a:lnTo>
                        <a:lnTo>
                          <a:pt x="4" y="10"/>
                        </a:lnTo>
                        <a:lnTo>
                          <a:pt x="5" y="10"/>
                        </a:lnTo>
                        <a:lnTo>
                          <a:pt x="11" y="10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9" name=""/>
                <p:cNvSpPr/>
                <p:nvPr/>
              </p:nvSpPr>
              <p:spPr>
                <a:xfrm>
                  <a:off x="2617560" y="42112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4" y="0"/>
                      </a:moveTo>
                      <a:lnTo>
                        <a:pt x="5" y="2"/>
                      </a:lnTo>
                      <a:lnTo>
                        <a:pt x="8" y="3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0" name=""/>
                <p:cNvGrpSpPr/>
                <p:nvPr/>
              </p:nvGrpSpPr>
              <p:grpSpPr>
                <a:xfrm>
                  <a:off x="2630160" y="4220640"/>
                  <a:ext cx="30240" cy="19440"/>
                  <a:chOff x="2630160" y="4220640"/>
                  <a:chExt cx="30240" cy="1944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>
                    <a:off x="2630160" y="4220640"/>
                    <a:ext cx="30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4" y="11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7" y="3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2630160" y="4220640"/>
                    <a:ext cx="30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4" y="11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7" y="3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"/>
                <p:cNvSpPr/>
                <p:nvPr/>
              </p:nvSpPr>
              <p:spPr>
                <a:xfrm>
                  <a:off x="2630160" y="4220640"/>
                  <a:ext cx="2412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625480" y="42112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628720" y="423108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0"/>
                      </a:move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6" name=""/>
                <p:cNvGrpSpPr/>
                <p:nvPr/>
              </p:nvGrpSpPr>
              <p:grpSpPr>
                <a:xfrm>
                  <a:off x="2636640" y="4227480"/>
                  <a:ext cx="36720" cy="15840"/>
                  <a:chOff x="2636640" y="4227480"/>
                  <a:chExt cx="36720" cy="1584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2636640" y="4227480"/>
                    <a:ext cx="367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9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9" y="9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2636640" y="4227480"/>
                    <a:ext cx="367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9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9" y="9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9" name=""/>
                <p:cNvSpPr/>
                <p:nvPr/>
              </p:nvSpPr>
              <p:spPr>
                <a:xfrm>
                  <a:off x="2636640" y="4227480"/>
                  <a:ext cx="17640" cy="2160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9" y="8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2649240" y="4237200"/>
                  <a:ext cx="28800" cy="11880"/>
                  <a:chOff x="2649240" y="4237200"/>
                  <a:chExt cx="28800" cy="1188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649240" y="4237200"/>
                    <a:ext cx="288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7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5" y="7"/>
                        </a:lnTo>
                        <a:lnTo>
                          <a:pt x="18" y="3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649240" y="4237200"/>
                    <a:ext cx="288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7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5" y="7"/>
                        </a:lnTo>
                        <a:lnTo>
                          <a:pt x="18" y="3"/>
                        </a:lnTo>
                        <a:lnTo>
                          <a:pt x="18" y="3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2649240" y="4237200"/>
                  <a:ext cx="24120" cy="68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643120" y="4229640"/>
                  <a:ext cx="11160" cy="7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5" name=""/>
                <p:cNvGrpSpPr/>
                <p:nvPr/>
              </p:nvGrpSpPr>
              <p:grpSpPr>
                <a:xfrm>
                  <a:off x="2579400" y="4211280"/>
                  <a:ext cx="38160" cy="19440"/>
                  <a:chOff x="2579400" y="4211280"/>
                  <a:chExt cx="38160" cy="19440"/>
                </a:xfrm>
              </p:grpSpPr>
              <p:sp>
                <p:nvSpPr>
                  <p:cNvPr id="1516" name=""/>
                  <p:cNvSpPr/>
                  <p:nvPr/>
                </p:nvSpPr>
                <p:spPr>
                  <a:xfrm>
                    <a:off x="2579400" y="4211280"/>
                    <a:ext cx="38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6" y="2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2" y="10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2579400" y="4211280"/>
                    <a:ext cx="38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2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2" y="10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8" name=""/>
                <p:cNvSpPr/>
                <p:nvPr/>
              </p:nvSpPr>
              <p:spPr>
                <a:xfrm>
                  <a:off x="2579400" y="42152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0" y="8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9" name=""/>
                <p:cNvGrpSpPr/>
                <p:nvPr/>
              </p:nvGrpSpPr>
              <p:grpSpPr>
                <a:xfrm>
                  <a:off x="2592360" y="4222080"/>
                  <a:ext cx="29880" cy="14400"/>
                  <a:chOff x="2592360" y="4222080"/>
                  <a:chExt cx="29880" cy="1440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2592360" y="422208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6" y="6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2592360" y="422208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6" y="6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9" y="4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2" name=""/>
                <p:cNvSpPr/>
                <p:nvPr/>
              </p:nvSpPr>
              <p:spPr>
                <a:xfrm>
                  <a:off x="2592360" y="42220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2587320" y="421524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2579400" y="4220640"/>
                  <a:ext cx="27000" cy="2160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6" y="9"/>
                      </a:lnTo>
                      <a:lnTo>
                        <a:pt x="9" y="11"/>
                      </a:lnTo>
                      <a:lnTo>
                        <a:pt x="12" y="12"/>
                      </a:lnTo>
                      <a:lnTo>
                        <a:pt x="17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5" name=""/>
                <p:cNvGrpSpPr/>
                <p:nvPr/>
              </p:nvGrpSpPr>
              <p:grpSpPr>
                <a:xfrm>
                  <a:off x="2598480" y="4229640"/>
                  <a:ext cx="36720" cy="17640"/>
                  <a:chOff x="2598480" y="4229640"/>
                  <a:chExt cx="36720" cy="1764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2598480" y="422964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9" y="10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2598480" y="422964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9" y="10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8" name=""/>
                <p:cNvSpPr/>
                <p:nvPr/>
              </p:nvSpPr>
              <p:spPr>
                <a:xfrm>
                  <a:off x="2598480" y="4229640"/>
                  <a:ext cx="17640" cy="2160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4" y="0"/>
                      </a:move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8" y="11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2611440" y="4238640"/>
                  <a:ext cx="27000" cy="12240"/>
                  <a:chOff x="2611440" y="4238640"/>
                  <a:chExt cx="27000" cy="1224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2611440" y="4238640"/>
                    <a:ext cx="27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15" y="0"/>
                        </a:move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5" y="7"/>
                        </a:lnTo>
                        <a:lnTo>
                          <a:pt x="17" y="5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2611440" y="4238640"/>
                    <a:ext cx="27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5" y="7"/>
                        </a:lnTo>
                        <a:lnTo>
                          <a:pt x="17" y="5"/>
                        </a:lnTo>
                        <a:lnTo>
                          <a:pt x="17" y="5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2" name=""/>
                <p:cNvSpPr/>
                <p:nvPr/>
              </p:nvSpPr>
              <p:spPr>
                <a:xfrm>
                  <a:off x="2611440" y="4238640"/>
                  <a:ext cx="23760" cy="104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2604960" y="422964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2595240" y="4238640"/>
                  <a:ext cx="30240" cy="19800"/>
                </a:xfrm>
                <a:custGeom>
                  <a:avLst/>
                  <a:gdLst/>
                  <a:ahLst/>
                  <a:rect l="l" t="t" r="r" b="b"/>
                  <a:pathLst>
                    <a:path w="19" h="11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8" y="7"/>
                      </a:lnTo>
                      <a:lnTo>
                        <a:pt x="13" y="9"/>
                      </a:lnTo>
                      <a:lnTo>
                        <a:pt x="15" y="11"/>
                      </a:lnTo>
                      <a:lnTo>
                        <a:pt x="19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5" name=""/>
                <p:cNvGrpSpPr/>
                <p:nvPr/>
              </p:nvGrpSpPr>
              <p:grpSpPr>
                <a:xfrm>
                  <a:off x="2617560" y="4242240"/>
                  <a:ext cx="74520" cy="21240"/>
                  <a:chOff x="2617560" y="4242240"/>
                  <a:chExt cx="74520" cy="2124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2617560" y="4242240"/>
                    <a:ext cx="745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47" y="5"/>
                        </a:moveTo>
                        <a:lnTo>
                          <a:pt x="40" y="0"/>
                        </a:lnTo>
                        <a:lnTo>
                          <a:pt x="36" y="0"/>
                        </a:lnTo>
                        <a:lnTo>
                          <a:pt x="28" y="1"/>
                        </a:lnTo>
                        <a:lnTo>
                          <a:pt x="16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0"/>
                        </a:lnTo>
                        <a:lnTo>
                          <a:pt x="5" y="11"/>
                        </a:lnTo>
                        <a:lnTo>
                          <a:pt x="7" y="12"/>
                        </a:lnTo>
                        <a:lnTo>
                          <a:pt x="11" y="12"/>
                        </a:lnTo>
                        <a:lnTo>
                          <a:pt x="47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2617560" y="4242240"/>
                    <a:ext cx="745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47" y="5"/>
                        </a:moveTo>
                        <a:lnTo>
                          <a:pt x="40" y="0"/>
                        </a:lnTo>
                        <a:lnTo>
                          <a:pt x="40" y="0"/>
                        </a:lnTo>
                        <a:lnTo>
                          <a:pt x="36" y="0"/>
                        </a:lnTo>
                        <a:lnTo>
                          <a:pt x="28" y="1"/>
                        </a:lnTo>
                        <a:lnTo>
                          <a:pt x="16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0"/>
                        </a:lnTo>
                        <a:lnTo>
                          <a:pt x="5" y="11"/>
                        </a:lnTo>
                        <a:lnTo>
                          <a:pt x="7" y="12"/>
                        </a:lnTo>
                        <a:lnTo>
                          <a:pt x="11" y="12"/>
                        </a:lnTo>
                        <a:lnTo>
                          <a:pt x="47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8" name=""/>
                <p:cNvSpPr/>
                <p:nvPr/>
              </p:nvSpPr>
              <p:spPr>
                <a:xfrm>
                  <a:off x="2617560" y="4247640"/>
                  <a:ext cx="19080" cy="162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9" name=""/>
                <p:cNvGrpSpPr/>
                <p:nvPr/>
              </p:nvGrpSpPr>
              <p:grpSpPr>
                <a:xfrm>
                  <a:off x="2631960" y="4251600"/>
                  <a:ext cx="65160" cy="12240"/>
                  <a:chOff x="2631960" y="4251600"/>
                  <a:chExt cx="65160" cy="1224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2631960" y="4251600"/>
                    <a:ext cx="65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7">
                        <a:moveTo>
                          <a:pt x="38" y="0"/>
                        </a:moveTo>
                        <a:lnTo>
                          <a:pt x="33" y="0"/>
                        </a:lnTo>
                        <a:lnTo>
                          <a:pt x="22" y="1"/>
                        </a:lnTo>
                        <a:lnTo>
                          <a:pt x="1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41" y="5"/>
                        </a:lnTo>
                        <a:lnTo>
                          <a:pt x="41" y="4"/>
                        </a:lnTo>
                        <a:lnTo>
                          <a:pt x="39" y="2"/>
                        </a:lnTo>
                        <a:lnTo>
                          <a:pt x="39" y="1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2631960" y="4251600"/>
                    <a:ext cx="65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7">
                        <a:moveTo>
                          <a:pt x="38" y="0"/>
                        </a:move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22" y="1"/>
                        </a:lnTo>
                        <a:lnTo>
                          <a:pt x="1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41" y="5"/>
                        </a:lnTo>
                        <a:lnTo>
                          <a:pt x="41" y="5"/>
                        </a:lnTo>
                        <a:lnTo>
                          <a:pt x="41" y="4"/>
                        </a:lnTo>
                        <a:lnTo>
                          <a:pt x="39" y="2"/>
                        </a:lnTo>
                        <a:lnTo>
                          <a:pt x="39" y="1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2" name=""/>
                <p:cNvSpPr/>
                <p:nvPr/>
              </p:nvSpPr>
              <p:spPr>
                <a:xfrm>
                  <a:off x="2631960" y="425160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38" h="6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33" y="1"/>
                      </a:lnTo>
                      <a:lnTo>
                        <a:pt x="23" y="1"/>
                      </a:lnTo>
                      <a:lnTo>
                        <a:pt x="1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625480" y="424764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>
                  <a:off x="2563200" y="4205880"/>
                  <a:ext cx="324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2579040" y="4220640"/>
                  <a:ext cx="1800" cy="68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>
                  <a:off x="2594880" y="4238640"/>
                  <a:ext cx="3240" cy="36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544480" y="4185720"/>
                  <a:ext cx="87480" cy="78480"/>
                </a:xfrm>
                <a:custGeom>
                  <a:avLst/>
                  <a:gdLst/>
                  <a:ahLst/>
                  <a:rect l="l" t="t" r="r" b="b"/>
                  <a:pathLst>
                    <a:path w="55" h="43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5" y="5"/>
                      </a:lnTo>
                      <a:lnTo>
                        <a:pt x="10" y="10"/>
                      </a:lnTo>
                      <a:lnTo>
                        <a:pt x="15" y="16"/>
                      </a:lnTo>
                      <a:lnTo>
                        <a:pt x="23" y="22"/>
                      </a:lnTo>
                      <a:lnTo>
                        <a:pt x="31" y="29"/>
                      </a:lnTo>
                      <a:lnTo>
                        <a:pt x="43" y="36"/>
                      </a:lnTo>
                      <a:lnTo>
                        <a:pt x="55" y="43"/>
                      </a:lnTo>
                      <a:lnTo>
                        <a:pt x="50" y="43"/>
                      </a:lnTo>
                      <a:lnTo>
                        <a:pt x="49" y="43"/>
                      </a:lnTo>
                      <a:lnTo>
                        <a:pt x="43" y="41"/>
                      </a:lnTo>
                      <a:lnTo>
                        <a:pt x="36" y="37"/>
                      </a:lnTo>
                      <a:lnTo>
                        <a:pt x="28" y="32"/>
                      </a:lnTo>
                      <a:lnTo>
                        <a:pt x="20" y="26"/>
                      </a:lnTo>
                      <a:lnTo>
                        <a:pt x="12" y="19"/>
                      </a:lnTo>
                      <a:lnTo>
                        <a:pt x="5" y="1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2549520" y="4185720"/>
                  <a:ext cx="82440" cy="7848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5"/>
                      </a:lnTo>
                      <a:lnTo>
                        <a:pt x="7" y="10"/>
                      </a:lnTo>
                      <a:lnTo>
                        <a:pt x="12" y="16"/>
                      </a:lnTo>
                      <a:lnTo>
                        <a:pt x="19" y="22"/>
                      </a:lnTo>
                      <a:lnTo>
                        <a:pt x="28" y="29"/>
                      </a:lnTo>
                      <a:lnTo>
                        <a:pt x="39" y="36"/>
                      </a:lnTo>
                      <a:lnTo>
                        <a:pt x="52" y="4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9" name=""/>
                <p:cNvGrpSpPr/>
                <p:nvPr/>
              </p:nvGrpSpPr>
              <p:grpSpPr>
                <a:xfrm>
                  <a:off x="2490480" y="4178160"/>
                  <a:ext cx="39960" cy="21240"/>
                  <a:chOff x="2490480" y="4178160"/>
                  <a:chExt cx="39960" cy="2124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2490480" y="4178160"/>
                    <a:ext cx="399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490480" y="4178160"/>
                    <a:ext cx="399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2" name=""/>
                <p:cNvSpPr/>
                <p:nvPr/>
              </p:nvSpPr>
              <p:spPr>
                <a:xfrm>
                  <a:off x="2490480" y="4182120"/>
                  <a:ext cx="20880" cy="237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6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1" y="3"/>
                      </a:ln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1" y="8"/>
                      </a:lnTo>
                      <a:lnTo>
                        <a:pt x="10" y="12"/>
                      </a:lnTo>
                      <a:lnTo>
                        <a:pt x="9" y="13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3" name=""/>
                <p:cNvGrpSpPr/>
                <p:nvPr/>
              </p:nvGrpSpPr>
              <p:grpSpPr>
                <a:xfrm>
                  <a:off x="2504880" y="4187520"/>
                  <a:ext cx="28440" cy="18000"/>
                  <a:chOff x="2504880" y="4187520"/>
                  <a:chExt cx="28440" cy="1800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>
                    <a:off x="2504880" y="4187520"/>
                    <a:ext cx="284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6" y="10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504880" y="4187520"/>
                    <a:ext cx="284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6" y="1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6" name=""/>
                <p:cNvSpPr/>
                <p:nvPr/>
              </p:nvSpPr>
              <p:spPr>
                <a:xfrm>
                  <a:off x="2506320" y="4187520"/>
                  <a:ext cx="2412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2500200" y="4182120"/>
                  <a:ext cx="11160" cy="7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2493720" y="4189320"/>
                  <a:ext cx="208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9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5" y="8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9" name=""/>
                <p:cNvGrpSpPr/>
                <p:nvPr/>
              </p:nvGrpSpPr>
              <p:grpSpPr>
                <a:xfrm>
                  <a:off x="2458800" y="4182120"/>
                  <a:ext cx="38160" cy="21240"/>
                  <a:chOff x="2458800" y="4182120"/>
                  <a:chExt cx="38160" cy="2124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>
                    <a:off x="2458800" y="418212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458800" y="418212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2" name=""/>
                <p:cNvSpPr/>
                <p:nvPr/>
              </p:nvSpPr>
              <p:spPr>
                <a:xfrm>
                  <a:off x="2458800" y="418212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2469960" y="4189320"/>
                  <a:ext cx="30240" cy="15840"/>
                  <a:chOff x="2469960" y="4189320"/>
                  <a:chExt cx="30240" cy="1584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2469960" y="418932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469960" y="418932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6" name=""/>
                <p:cNvSpPr/>
                <p:nvPr/>
              </p:nvSpPr>
              <p:spPr>
                <a:xfrm>
                  <a:off x="2471400" y="4189320"/>
                  <a:ext cx="2412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468520" y="4182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458800" y="419328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422440" y="419328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0" name=""/>
                <p:cNvGrpSpPr/>
                <p:nvPr/>
              </p:nvGrpSpPr>
              <p:grpSpPr>
                <a:xfrm>
                  <a:off x="2425680" y="4184280"/>
                  <a:ext cx="37800" cy="23040"/>
                  <a:chOff x="2425680" y="4184280"/>
                  <a:chExt cx="37800" cy="2304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2425680" y="4184280"/>
                    <a:ext cx="378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425680" y="4184280"/>
                    <a:ext cx="378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3" name=""/>
                <p:cNvSpPr/>
                <p:nvPr/>
              </p:nvSpPr>
              <p:spPr>
                <a:xfrm>
                  <a:off x="2425680" y="418428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9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8" y="13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4" name=""/>
                <p:cNvGrpSpPr/>
                <p:nvPr/>
              </p:nvGrpSpPr>
              <p:grpSpPr>
                <a:xfrm>
                  <a:off x="2435040" y="4193280"/>
                  <a:ext cx="30240" cy="15480"/>
                  <a:chOff x="2435040" y="4193280"/>
                  <a:chExt cx="30240" cy="1548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2435040" y="4193280"/>
                    <a:ext cx="30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9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2435040" y="4193280"/>
                    <a:ext cx="30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9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7" name=""/>
                <p:cNvSpPr/>
                <p:nvPr/>
              </p:nvSpPr>
              <p:spPr>
                <a:xfrm>
                  <a:off x="2438280" y="41932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433600" y="41842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5"/>
                      </a:move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425680" y="4196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9" y="10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0" name=""/>
                <p:cNvGrpSpPr/>
                <p:nvPr/>
              </p:nvGrpSpPr>
              <p:grpSpPr>
                <a:xfrm>
                  <a:off x="2506320" y="4196880"/>
                  <a:ext cx="38160" cy="23040"/>
                  <a:chOff x="2506320" y="4196880"/>
                  <a:chExt cx="38160" cy="2304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2506320" y="4196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2506320" y="4196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3" name=""/>
                <p:cNvSpPr/>
                <p:nvPr/>
              </p:nvSpPr>
              <p:spPr>
                <a:xfrm>
                  <a:off x="2506320" y="419688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5" y="0"/>
                      </a:move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1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2546280" y="421668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5" name=""/>
                <p:cNvGrpSpPr/>
                <p:nvPr/>
              </p:nvGrpSpPr>
              <p:grpSpPr>
                <a:xfrm>
                  <a:off x="2519280" y="4205880"/>
                  <a:ext cx="30240" cy="15480"/>
                  <a:chOff x="2519280" y="4205880"/>
                  <a:chExt cx="30240" cy="1548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2519280" y="4205880"/>
                    <a:ext cx="30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2519280" y="4205880"/>
                    <a:ext cx="302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7" y="9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8" name=""/>
                <p:cNvSpPr/>
                <p:nvPr/>
              </p:nvSpPr>
              <p:spPr>
                <a:xfrm>
                  <a:off x="2519280" y="420588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514600" y="419868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506320" y="4209480"/>
                  <a:ext cx="43200" cy="1620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1" y="7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1" name=""/>
                <p:cNvGrpSpPr/>
                <p:nvPr/>
              </p:nvGrpSpPr>
              <p:grpSpPr>
                <a:xfrm>
                  <a:off x="2474640" y="4196880"/>
                  <a:ext cx="38160" cy="23040"/>
                  <a:chOff x="2474640" y="4196880"/>
                  <a:chExt cx="38160" cy="2304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2474640" y="4196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2474640" y="4196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>
                  <a:off x="2474640" y="419868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0" y="7"/>
                      </a:lnTo>
                      <a:lnTo>
                        <a:pt x="9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2484360" y="4207680"/>
                  <a:ext cx="30240" cy="17640"/>
                  <a:chOff x="2484360" y="4207680"/>
                  <a:chExt cx="30240" cy="1764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2484360" y="42076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2484360" y="42076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2487600" y="420768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2482560" y="41986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5"/>
                      </a:move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2471400" y="4211280"/>
                  <a:ext cx="43200" cy="1584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9" y="5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7" y="8"/>
                      </a:lnTo>
                      <a:lnTo>
                        <a:pt x="23" y="8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7" y="8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1" name=""/>
                <p:cNvGrpSpPr/>
                <p:nvPr/>
              </p:nvGrpSpPr>
              <p:grpSpPr>
                <a:xfrm>
                  <a:off x="2439720" y="4198680"/>
                  <a:ext cx="38160" cy="23040"/>
                  <a:chOff x="2439720" y="4198680"/>
                  <a:chExt cx="38160" cy="23040"/>
                </a:xfrm>
              </p:grpSpPr>
              <p:sp>
                <p:nvSpPr>
                  <p:cNvPr id="1602" name=""/>
                  <p:cNvSpPr/>
                  <p:nvPr/>
                </p:nvSpPr>
                <p:spPr>
                  <a:xfrm>
                    <a:off x="2439720" y="41986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2439720" y="41986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4" name=""/>
                <p:cNvSpPr/>
                <p:nvPr/>
              </p:nvSpPr>
              <p:spPr>
                <a:xfrm>
                  <a:off x="2439720" y="420012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5" y="0"/>
                      </a:moveTo>
                      <a:lnTo>
                        <a:pt x="5" y="2"/>
                      </a:lnTo>
                      <a:lnTo>
                        <a:pt x="8" y="3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2" y="8"/>
                      </a:lnTo>
                      <a:lnTo>
                        <a:pt x="10" y="10"/>
                      </a:lnTo>
                      <a:lnTo>
                        <a:pt x="8" y="14"/>
                      </a:lnTo>
                      <a:lnTo>
                        <a:pt x="7" y="15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450880" y="4209480"/>
                  <a:ext cx="31680" cy="17640"/>
                  <a:chOff x="2450880" y="4209480"/>
                  <a:chExt cx="31680" cy="1764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450880" y="42094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50880" y="42094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>
                  <a:off x="2452680" y="420948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2447640" y="42001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439720" y="4211280"/>
                  <a:ext cx="42840" cy="1584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9" y="6"/>
                      </a:lnTo>
                      <a:lnTo>
                        <a:pt x="24" y="6"/>
                      </a:lnTo>
                      <a:lnTo>
                        <a:pt x="26" y="5"/>
                      </a:lnTo>
                      <a:lnTo>
                        <a:pt x="27" y="8"/>
                      </a:lnTo>
                      <a:lnTo>
                        <a:pt x="22" y="9"/>
                      </a:lnTo>
                      <a:lnTo>
                        <a:pt x="15" y="9"/>
                      </a:ln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6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422440" y="4193280"/>
                  <a:ext cx="128520" cy="36360"/>
                </a:xfrm>
                <a:custGeom>
                  <a:avLst/>
                  <a:gdLst/>
                  <a:ahLst/>
                  <a:rect l="l" t="t" r="r" b="b"/>
                  <a:pathLst>
                    <a:path w="81" h="20">
                      <a:moveTo>
                        <a:pt x="81" y="15"/>
                      </a:moveTo>
                      <a:lnTo>
                        <a:pt x="19" y="18"/>
                      </a:lnTo>
                      <a:lnTo>
                        <a:pt x="16" y="15"/>
                      </a:lnTo>
                      <a:lnTo>
                        <a:pt x="11" y="12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9"/>
                      </a:lnTo>
                      <a:lnTo>
                        <a:pt x="10" y="14"/>
                      </a:lnTo>
                      <a:lnTo>
                        <a:pt x="15" y="18"/>
                      </a:lnTo>
                      <a:lnTo>
                        <a:pt x="18" y="20"/>
                      </a:lnTo>
                      <a:lnTo>
                        <a:pt x="22" y="20"/>
                      </a:lnTo>
                      <a:lnTo>
                        <a:pt x="29" y="20"/>
                      </a:lnTo>
                      <a:lnTo>
                        <a:pt x="38" y="19"/>
                      </a:lnTo>
                      <a:lnTo>
                        <a:pt x="50" y="19"/>
                      </a:lnTo>
                      <a:lnTo>
                        <a:pt x="61" y="18"/>
                      </a:lnTo>
                      <a:lnTo>
                        <a:pt x="70" y="18"/>
                      </a:lnTo>
                      <a:lnTo>
                        <a:pt x="77" y="16"/>
                      </a:lnTo>
                      <a:lnTo>
                        <a:pt x="80" y="16"/>
                      </a:lnTo>
                      <a:lnTo>
                        <a:pt x="81" y="15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2422440" y="4193280"/>
                  <a:ext cx="128520" cy="3240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81" y="15"/>
                      </a:moveTo>
                      <a:lnTo>
                        <a:pt x="19" y="18"/>
                      </a:lnTo>
                      <a:lnTo>
                        <a:pt x="19" y="18"/>
                      </a:lnTo>
                      <a:lnTo>
                        <a:pt x="16" y="15"/>
                      </a:lnTo>
                      <a:lnTo>
                        <a:pt x="11" y="12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2506320" y="423864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508120" y="4227480"/>
                  <a:ext cx="38160" cy="21240"/>
                  <a:chOff x="2508120" y="4227480"/>
                  <a:chExt cx="38160" cy="2124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508120" y="422748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2508120" y="4227480"/>
                    <a:ext cx="38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>
                  <a:off x="2508120" y="4229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8" name=""/>
                <p:cNvGrpSpPr/>
                <p:nvPr/>
              </p:nvGrpSpPr>
              <p:grpSpPr>
                <a:xfrm>
                  <a:off x="2520720" y="4237200"/>
                  <a:ext cx="30240" cy="14040"/>
                  <a:chOff x="2520720" y="4237200"/>
                  <a:chExt cx="30240" cy="1404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2520720" y="4237200"/>
                    <a:ext cx="30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2520720" y="4237200"/>
                    <a:ext cx="30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1" name=""/>
                <p:cNvSpPr/>
                <p:nvPr/>
              </p:nvSpPr>
              <p:spPr>
                <a:xfrm>
                  <a:off x="2523960" y="4237200"/>
                  <a:ext cx="22320" cy="1224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2517480" y="422964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2508120" y="423864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6" y="7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2506320" y="423864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506320" y="423864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"/>
                <p:cNvGrpSpPr/>
                <p:nvPr/>
              </p:nvGrpSpPr>
              <p:grpSpPr>
                <a:xfrm>
                  <a:off x="2560320" y="4240440"/>
                  <a:ext cx="38160" cy="23400"/>
                  <a:chOff x="2560320" y="4240440"/>
                  <a:chExt cx="38160" cy="2340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>
                    <a:off x="2560320" y="42404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2560320" y="42404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9" name=""/>
                <p:cNvSpPr/>
                <p:nvPr/>
              </p:nvSpPr>
              <p:spPr>
                <a:xfrm>
                  <a:off x="2560320" y="424224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600280" y="426060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1" name=""/>
                <p:cNvGrpSpPr/>
                <p:nvPr/>
              </p:nvGrpSpPr>
              <p:grpSpPr>
                <a:xfrm>
                  <a:off x="2573280" y="4251600"/>
                  <a:ext cx="28440" cy="17640"/>
                  <a:chOff x="2573280" y="4251600"/>
                  <a:chExt cx="28440" cy="1764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>
                    <a:off x="2573280" y="4251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6" y="8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  <a:lnTo>
                          <a:pt x="18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2573280" y="4251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6" y="8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  <a:lnTo>
                          <a:pt x="18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4" name=""/>
                <p:cNvSpPr/>
                <p:nvPr/>
              </p:nvSpPr>
              <p:spPr>
                <a:xfrm>
                  <a:off x="2573280" y="425160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2566800" y="42422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557440" y="4253040"/>
                  <a:ext cx="44280" cy="1620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4" y="6"/>
                      </a:lnTo>
                      <a:lnTo>
                        <a:pt x="20" y="6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6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7" name=""/>
                <p:cNvGrpSpPr/>
                <p:nvPr/>
              </p:nvGrpSpPr>
              <p:grpSpPr>
                <a:xfrm>
                  <a:off x="2525400" y="4242240"/>
                  <a:ext cx="38160" cy="23040"/>
                  <a:chOff x="2525400" y="4242240"/>
                  <a:chExt cx="38160" cy="23040"/>
                </a:xfrm>
              </p:grpSpPr>
              <p:sp>
                <p:nvSpPr>
                  <p:cNvPr id="1638" name=""/>
                  <p:cNvSpPr/>
                  <p:nvPr/>
                </p:nvSpPr>
                <p:spPr>
                  <a:xfrm>
                    <a:off x="2525400" y="424224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2525400" y="424224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0" name=""/>
                <p:cNvSpPr/>
                <p:nvPr/>
              </p:nvSpPr>
              <p:spPr>
                <a:xfrm>
                  <a:off x="2525400" y="424404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0"/>
                      </a:moveTo>
                      <a:lnTo>
                        <a:pt x="5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7" y="15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1" name=""/>
                <p:cNvGrpSpPr/>
                <p:nvPr/>
              </p:nvGrpSpPr>
              <p:grpSpPr>
                <a:xfrm>
                  <a:off x="2536560" y="4251600"/>
                  <a:ext cx="31680" cy="19440"/>
                  <a:chOff x="2536560" y="4251600"/>
                  <a:chExt cx="31680" cy="1944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>
                    <a:off x="2536560" y="42516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6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10"/>
                        </a:lnTo>
                        <a:lnTo>
                          <a:pt x="20" y="8"/>
                        </a:lnTo>
                        <a:lnTo>
                          <a:pt x="20" y="5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2536560" y="42516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8"/>
                        </a:lnTo>
                        <a:lnTo>
                          <a:pt x="20" y="5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4" name=""/>
                <p:cNvSpPr/>
                <p:nvPr/>
              </p:nvSpPr>
              <p:spPr>
                <a:xfrm>
                  <a:off x="2538360" y="425304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533320" y="42440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523960" y="4258440"/>
                  <a:ext cx="44280" cy="126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20" y="4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6"/>
                      </a:lnTo>
                      <a:lnTo>
                        <a:pt x="23" y="7"/>
                      </a:lnTo>
                      <a:lnTo>
                        <a:pt x="17" y="7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5" y="4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2487600" y="425520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8" name=""/>
                <p:cNvGrpSpPr/>
                <p:nvPr/>
              </p:nvGrpSpPr>
              <p:grpSpPr>
                <a:xfrm>
                  <a:off x="2489040" y="4247640"/>
                  <a:ext cx="41400" cy="21240"/>
                  <a:chOff x="2489040" y="4247640"/>
                  <a:chExt cx="41400" cy="2124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2489040" y="424764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4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1" y="12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2489040" y="424764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1" y="12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1" name=""/>
                <p:cNvSpPr/>
                <p:nvPr/>
              </p:nvSpPr>
              <p:spPr>
                <a:xfrm>
                  <a:off x="2489040" y="4247640"/>
                  <a:ext cx="19080" cy="255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5" y="0"/>
                      </a:move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11" y="9"/>
                      </a:lnTo>
                      <a:lnTo>
                        <a:pt x="10" y="13"/>
                      </a:lnTo>
                      <a:lnTo>
                        <a:pt x="8" y="14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2" name=""/>
                <p:cNvGrpSpPr/>
                <p:nvPr/>
              </p:nvGrpSpPr>
              <p:grpSpPr>
                <a:xfrm>
                  <a:off x="2501640" y="4255200"/>
                  <a:ext cx="31680" cy="17640"/>
                  <a:chOff x="2501640" y="4255200"/>
                  <a:chExt cx="31680" cy="1764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>
                    <a:off x="2501640" y="425520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20" y="9"/>
                        </a:lnTo>
                        <a:lnTo>
                          <a:pt x="20" y="8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2501640" y="425520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8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5" name=""/>
                <p:cNvSpPr/>
                <p:nvPr/>
              </p:nvSpPr>
              <p:spPr>
                <a:xfrm>
                  <a:off x="2504880" y="425520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496960" y="4249440"/>
                  <a:ext cx="1116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2489040" y="4258440"/>
                  <a:ext cx="44280" cy="1476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7" y="4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4" y="6"/>
                      </a:lnTo>
                      <a:lnTo>
                        <a:pt x="20" y="6"/>
                      </a:lnTo>
                      <a:lnTo>
                        <a:pt x="26" y="4"/>
                      </a:lnTo>
                      <a:lnTo>
                        <a:pt x="28" y="4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8" y="8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2487600" y="4258440"/>
                  <a:ext cx="117360" cy="16200"/>
                </a:xfrm>
                <a:custGeom>
                  <a:avLst/>
                  <a:gdLst/>
                  <a:ahLst/>
                  <a:rect l="l" t="t" r="r" b="b"/>
                  <a:pathLst>
                    <a:path w="74" h="9">
                      <a:moveTo>
                        <a:pt x="74" y="3"/>
                      </a:moveTo>
                      <a:lnTo>
                        <a:pt x="11" y="7"/>
                      </a:lnTo>
                      <a:lnTo>
                        <a:pt x="9" y="7"/>
                      </a:lnTo>
                      <a:lnTo>
                        <a:pt x="6" y="6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9"/>
                      </a:lnTo>
                      <a:lnTo>
                        <a:pt x="20" y="8"/>
                      </a:lnTo>
                      <a:lnTo>
                        <a:pt x="31" y="8"/>
                      </a:lnTo>
                      <a:lnTo>
                        <a:pt x="41" y="7"/>
                      </a:lnTo>
                      <a:lnTo>
                        <a:pt x="54" y="7"/>
                      </a:lnTo>
                      <a:lnTo>
                        <a:pt x="63" y="6"/>
                      </a:lnTo>
                      <a:lnTo>
                        <a:pt x="71" y="6"/>
                      </a:lnTo>
                      <a:lnTo>
                        <a:pt x="72" y="4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487600" y="4258440"/>
                  <a:ext cx="117360" cy="12600"/>
                </a:xfrm>
                <a:custGeom>
                  <a:avLst/>
                  <a:gdLst/>
                  <a:ahLst/>
                  <a:rect l="l" t="t" r="r" b="b"/>
                  <a:pathLst>
                    <a:path w="74" h="7">
                      <a:moveTo>
                        <a:pt x="74" y="3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9" y="7"/>
                      </a:lnTo>
                      <a:lnTo>
                        <a:pt x="6" y="6"/>
                      </a:lnTo>
                      <a:lnTo>
                        <a:pt x="4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0" name=""/>
                <p:cNvGrpSpPr/>
                <p:nvPr/>
              </p:nvGrpSpPr>
              <p:grpSpPr>
                <a:xfrm>
                  <a:off x="2369880" y="4184280"/>
                  <a:ext cx="44640" cy="23040"/>
                  <a:chOff x="2369880" y="4184280"/>
                  <a:chExt cx="44640" cy="2304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2369880" y="418428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1" y="0"/>
                        </a:lnTo>
                        <a:lnTo>
                          <a:pt x="20" y="1"/>
                        </a:lnTo>
                        <a:lnTo>
                          <a:pt x="16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2369880" y="418428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0" y="1"/>
                        </a:lnTo>
                        <a:lnTo>
                          <a:pt x="16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3" name=""/>
                <p:cNvSpPr/>
                <p:nvPr/>
              </p:nvSpPr>
              <p:spPr>
                <a:xfrm>
                  <a:off x="2369880" y="4185720"/>
                  <a:ext cx="19080" cy="255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4" name=""/>
                <p:cNvGrpSpPr/>
                <p:nvPr/>
              </p:nvGrpSpPr>
              <p:grpSpPr>
                <a:xfrm>
                  <a:off x="2382840" y="4193280"/>
                  <a:ext cx="37800" cy="17640"/>
                  <a:chOff x="2382840" y="4193280"/>
                  <a:chExt cx="37800" cy="17640"/>
                </a:xfrm>
              </p:grpSpPr>
              <p:sp>
                <p:nvSpPr>
                  <p:cNvPr id="1665" name=""/>
                  <p:cNvSpPr/>
                  <p:nvPr/>
                </p:nvSpPr>
                <p:spPr>
                  <a:xfrm>
                    <a:off x="2382840" y="4193280"/>
                    <a:ext cx="37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0" y="0"/>
                        </a:moveTo>
                        <a:lnTo>
                          <a:pt x="19" y="0"/>
                        </a:lnTo>
                        <a:lnTo>
                          <a:pt x="15" y="1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2" y="9"/>
                        </a:lnTo>
                        <a:lnTo>
                          <a:pt x="24" y="8"/>
                        </a:lnTo>
                        <a:lnTo>
                          <a:pt x="23" y="7"/>
                        </a:lnTo>
                        <a:lnTo>
                          <a:pt x="23" y="4"/>
                        </a:lnTo>
                        <a:lnTo>
                          <a:pt x="21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2382840" y="4193280"/>
                    <a:ext cx="37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5" y="1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2" y="9"/>
                        </a:lnTo>
                        <a:lnTo>
                          <a:pt x="24" y="8"/>
                        </a:lnTo>
                        <a:lnTo>
                          <a:pt x="24" y="8"/>
                        </a:lnTo>
                        <a:lnTo>
                          <a:pt x="23" y="7"/>
                        </a:lnTo>
                        <a:lnTo>
                          <a:pt x="23" y="4"/>
                        </a:lnTo>
                        <a:lnTo>
                          <a:pt x="21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7" name=""/>
                <p:cNvSpPr/>
                <p:nvPr/>
              </p:nvSpPr>
              <p:spPr>
                <a:xfrm>
                  <a:off x="2382840" y="4193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8" name=""/>
                <p:cNvGrpSpPr/>
                <p:nvPr/>
              </p:nvGrpSpPr>
              <p:grpSpPr>
                <a:xfrm>
                  <a:off x="2384280" y="4200120"/>
                  <a:ext cx="44280" cy="25200"/>
                  <a:chOff x="2384280" y="4200120"/>
                  <a:chExt cx="44280" cy="25200"/>
                </a:xfrm>
              </p:grpSpPr>
              <p:sp>
                <p:nvSpPr>
                  <p:cNvPr id="1669" name=""/>
                  <p:cNvSpPr/>
                  <p:nvPr/>
                </p:nvSpPr>
                <p:spPr>
                  <a:xfrm>
                    <a:off x="2384280" y="4200120"/>
                    <a:ext cx="44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28" y="5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6" y="2"/>
                        </a:lnTo>
                        <a:lnTo>
                          <a:pt x="12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1" y="14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2384280" y="4200120"/>
                    <a:ext cx="44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28" y="5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6" y="2"/>
                        </a:lnTo>
                        <a:lnTo>
                          <a:pt x="12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1" y="14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1" name=""/>
                <p:cNvSpPr/>
                <p:nvPr/>
              </p:nvSpPr>
              <p:spPr>
                <a:xfrm>
                  <a:off x="2385720" y="4204080"/>
                  <a:ext cx="20880" cy="255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10" y="3"/>
                      </a:lnTo>
                      <a:lnTo>
                        <a:pt x="13" y="4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2" name=""/>
                <p:cNvGrpSpPr/>
                <p:nvPr/>
              </p:nvGrpSpPr>
              <p:grpSpPr>
                <a:xfrm>
                  <a:off x="2396880" y="4209480"/>
                  <a:ext cx="36720" cy="19800"/>
                  <a:chOff x="2396880" y="4209480"/>
                  <a:chExt cx="36720" cy="1980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>
                    <a:off x="2396880" y="4209480"/>
                    <a:ext cx="367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">
                        <a:moveTo>
                          <a:pt x="20" y="0"/>
                        </a:move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1"/>
                        </a:lnTo>
                        <a:lnTo>
                          <a:pt x="12" y="10"/>
                        </a:lnTo>
                        <a:lnTo>
                          <a:pt x="23" y="9"/>
                        </a:lnTo>
                        <a:lnTo>
                          <a:pt x="23" y="7"/>
                        </a:lnTo>
                        <a:lnTo>
                          <a:pt x="22" y="5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396880" y="4209480"/>
                    <a:ext cx="367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1"/>
                        </a:lnTo>
                        <a:lnTo>
                          <a:pt x="12" y="10"/>
                        </a:lnTo>
                        <a:lnTo>
                          <a:pt x="23" y="9"/>
                        </a:lnTo>
                        <a:lnTo>
                          <a:pt x="23" y="9"/>
                        </a:lnTo>
                        <a:lnTo>
                          <a:pt x="23" y="7"/>
                        </a:lnTo>
                        <a:lnTo>
                          <a:pt x="22" y="5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5" name=""/>
                <p:cNvSpPr/>
                <p:nvPr/>
              </p:nvSpPr>
              <p:spPr>
                <a:xfrm>
                  <a:off x="2400120" y="420948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6" name=""/>
                <p:cNvGrpSpPr/>
                <p:nvPr/>
              </p:nvGrpSpPr>
              <p:grpSpPr>
                <a:xfrm>
                  <a:off x="2344680" y="4185720"/>
                  <a:ext cx="34920" cy="23040"/>
                  <a:chOff x="2344680" y="4185720"/>
                  <a:chExt cx="34920" cy="2304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>
                    <a:off x="2344680" y="4185720"/>
                    <a:ext cx="34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22" y="5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2344680" y="4185720"/>
                    <a:ext cx="34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22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9" name=""/>
                <p:cNvSpPr/>
                <p:nvPr/>
              </p:nvSpPr>
              <p:spPr>
                <a:xfrm>
                  <a:off x="2344680" y="41875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6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354040" y="4194720"/>
                  <a:ext cx="30240" cy="15840"/>
                  <a:chOff x="2354040" y="4194720"/>
                  <a:chExt cx="30240" cy="1584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>
                    <a:off x="2354040" y="419472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8" y="5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2354040" y="419472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8" y="5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3" name=""/>
                <p:cNvSpPr/>
                <p:nvPr/>
              </p:nvSpPr>
              <p:spPr>
                <a:xfrm>
                  <a:off x="2357280" y="4194720"/>
                  <a:ext cx="20520" cy="144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341440" y="4198680"/>
                  <a:ext cx="42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4" y="6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6" y="5"/>
                      </a:lnTo>
                      <a:lnTo>
                        <a:pt x="27" y="7"/>
                      </a:lnTo>
                      <a:lnTo>
                        <a:pt x="22" y="7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3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5" name=""/>
                <p:cNvGrpSpPr/>
                <p:nvPr/>
              </p:nvGrpSpPr>
              <p:grpSpPr>
                <a:xfrm>
                  <a:off x="2354040" y="4204080"/>
                  <a:ext cx="41400" cy="23040"/>
                  <a:chOff x="2354040" y="4204080"/>
                  <a:chExt cx="41400" cy="2304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2354040" y="420408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4"/>
                        </a:move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2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2354040" y="420408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4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2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8" name=""/>
                <p:cNvSpPr/>
                <p:nvPr/>
              </p:nvSpPr>
              <p:spPr>
                <a:xfrm>
                  <a:off x="2357280" y="42058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2"/>
                      </a:lnTo>
                      <a:lnTo>
                        <a:pt x="6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9" name=""/>
                <p:cNvGrpSpPr/>
                <p:nvPr/>
              </p:nvGrpSpPr>
              <p:grpSpPr>
                <a:xfrm>
                  <a:off x="2366640" y="4211280"/>
                  <a:ext cx="33480" cy="17640"/>
                  <a:chOff x="2366640" y="4211280"/>
                  <a:chExt cx="33480" cy="17640"/>
                </a:xfrm>
              </p:grpSpPr>
              <p:sp>
                <p:nvSpPr>
                  <p:cNvPr id="1690" name=""/>
                  <p:cNvSpPr/>
                  <p:nvPr/>
                </p:nvSpPr>
                <p:spPr>
                  <a:xfrm>
                    <a:off x="2366640" y="4211280"/>
                    <a:ext cx="33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1" y="9"/>
                        </a:lnTo>
                        <a:lnTo>
                          <a:pt x="21" y="8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2366640" y="4211280"/>
                    <a:ext cx="33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1" y="8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2" name=""/>
                <p:cNvSpPr/>
                <p:nvPr/>
              </p:nvSpPr>
              <p:spPr>
                <a:xfrm>
                  <a:off x="2369880" y="421128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354040" y="4216680"/>
                  <a:ext cx="46080" cy="14400"/>
                </a:xfrm>
                <a:custGeom>
                  <a:avLst/>
                  <a:gdLst/>
                  <a:ahLst/>
                  <a:rect l="l" t="t" r="r" b="b"/>
                  <a:pathLst>
                    <a:path w="29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20" y="5"/>
                      </a:lnTo>
                      <a:lnTo>
                        <a:pt x="26" y="5"/>
                      </a:lnTo>
                      <a:lnTo>
                        <a:pt x="29" y="5"/>
                      </a:lnTo>
                      <a:lnTo>
                        <a:pt x="29" y="7"/>
                      </a:lnTo>
                      <a:lnTo>
                        <a:pt x="23" y="7"/>
                      </a:lnTo>
                      <a:lnTo>
                        <a:pt x="16" y="8"/>
                      </a:lnTo>
                      <a:lnTo>
                        <a:pt x="11" y="8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4" name=""/>
                <p:cNvGrpSpPr/>
                <p:nvPr/>
              </p:nvGrpSpPr>
              <p:grpSpPr>
                <a:xfrm>
                  <a:off x="2392200" y="4216680"/>
                  <a:ext cx="52560" cy="23040"/>
                  <a:chOff x="2392200" y="4216680"/>
                  <a:chExt cx="52560" cy="2304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2392200" y="4216680"/>
                    <a:ext cx="525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3">
                        <a:moveTo>
                          <a:pt x="33" y="5"/>
                        </a:moveTo>
                        <a:lnTo>
                          <a:pt x="26" y="0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33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2392200" y="4216680"/>
                    <a:ext cx="525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3">
                        <a:moveTo>
                          <a:pt x="33" y="5"/>
                        </a:move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3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7" name=""/>
                <p:cNvSpPr/>
                <p:nvPr/>
              </p:nvSpPr>
              <p:spPr>
                <a:xfrm>
                  <a:off x="2392200" y="421848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5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8" name=""/>
                <p:cNvGrpSpPr/>
                <p:nvPr/>
              </p:nvGrpSpPr>
              <p:grpSpPr>
                <a:xfrm>
                  <a:off x="2406600" y="4226040"/>
                  <a:ext cx="41040" cy="17640"/>
                  <a:chOff x="2406600" y="4226040"/>
                  <a:chExt cx="41040" cy="17640"/>
                </a:xfrm>
              </p:grpSpPr>
              <p:sp>
                <p:nvSpPr>
                  <p:cNvPr id="1699" name=""/>
                  <p:cNvSpPr/>
                  <p:nvPr/>
                </p:nvSpPr>
                <p:spPr>
                  <a:xfrm>
                    <a:off x="2406600" y="4226040"/>
                    <a:ext cx="41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">
                        <a:moveTo>
                          <a:pt x="24" y="0"/>
                        </a:move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4" y="9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6" y="4"/>
                        </a:lnTo>
                        <a:lnTo>
                          <a:pt x="25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2406600" y="4226040"/>
                    <a:ext cx="41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">
                        <a:moveTo>
                          <a:pt x="24" y="0"/>
                        </a:moveTo>
                        <a:lnTo>
                          <a:pt x="24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4" y="9"/>
                        </a:lnTo>
                        <a:lnTo>
                          <a:pt x="26" y="8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6" y="4"/>
                        </a:lnTo>
                        <a:lnTo>
                          <a:pt x="25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1" name=""/>
                <p:cNvSpPr/>
                <p:nvPr/>
              </p:nvSpPr>
              <p:spPr>
                <a:xfrm>
                  <a:off x="2406600" y="4226040"/>
                  <a:ext cx="34920" cy="1440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2" name=""/>
                <p:cNvGrpSpPr/>
                <p:nvPr/>
              </p:nvGrpSpPr>
              <p:grpSpPr>
                <a:xfrm>
                  <a:off x="2314440" y="4187520"/>
                  <a:ext cx="36360" cy="23400"/>
                  <a:chOff x="2314440" y="4187520"/>
                  <a:chExt cx="36360" cy="23400"/>
                </a:xfrm>
              </p:grpSpPr>
              <p:sp>
                <p:nvSpPr>
                  <p:cNvPr id="1703" name=""/>
                  <p:cNvSpPr/>
                  <p:nvPr/>
                </p:nvSpPr>
                <p:spPr>
                  <a:xfrm>
                    <a:off x="2314440" y="4187520"/>
                    <a:ext cx="36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2314440" y="4187520"/>
                    <a:ext cx="36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5" name=""/>
                <p:cNvSpPr/>
                <p:nvPr/>
              </p:nvSpPr>
              <p:spPr>
                <a:xfrm>
                  <a:off x="2314440" y="41893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6" name=""/>
                <p:cNvGrpSpPr/>
                <p:nvPr/>
              </p:nvGrpSpPr>
              <p:grpSpPr>
                <a:xfrm>
                  <a:off x="2327040" y="4196880"/>
                  <a:ext cx="27000" cy="17640"/>
                  <a:chOff x="2327040" y="4196880"/>
                  <a:chExt cx="27000" cy="1764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>
                    <a:off x="2327040" y="4196880"/>
                    <a:ext cx="27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15" y="0"/>
                        </a:move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17" y="8"/>
                        </a:lnTo>
                        <a:lnTo>
                          <a:pt x="17" y="7"/>
                        </a:lnTo>
                        <a:lnTo>
                          <a:pt x="17" y="5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2327040" y="4196880"/>
                    <a:ext cx="27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17" y="8"/>
                        </a:lnTo>
                        <a:lnTo>
                          <a:pt x="17" y="8"/>
                        </a:lnTo>
                        <a:lnTo>
                          <a:pt x="17" y="7"/>
                        </a:lnTo>
                        <a:lnTo>
                          <a:pt x="17" y="5"/>
                        </a:lnTo>
                        <a:lnTo>
                          <a:pt x="16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9" name=""/>
                <p:cNvSpPr/>
                <p:nvPr/>
              </p:nvSpPr>
              <p:spPr>
                <a:xfrm>
                  <a:off x="2327040" y="41968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314440" y="420012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2" y="5"/>
                      </a:lnTo>
                      <a:lnTo>
                        <a:pt x="17" y="5"/>
                      </a:lnTo>
                      <a:lnTo>
                        <a:pt x="23" y="5"/>
                      </a:lnTo>
                      <a:lnTo>
                        <a:pt x="25" y="5"/>
                      </a:lnTo>
                      <a:lnTo>
                        <a:pt x="25" y="8"/>
                      </a:lnTo>
                      <a:lnTo>
                        <a:pt x="21" y="8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6" y="8"/>
                      </a:lnTo>
                      <a:lnTo>
                        <a:pt x="4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1" name=""/>
                <p:cNvGrpSpPr/>
                <p:nvPr/>
              </p:nvGrpSpPr>
              <p:grpSpPr>
                <a:xfrm>
                  <a:off x="2323800" y="4205880"/>
                  <a:ext cx="39960" cy="23040"/>
                  <a:chOff x="2323800" y="4205880"/>
                  <a:chExt cx="39960" cy="2304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>
                    <a:off x="2323800" y="4205880"/>
                    <a:ext cx="39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3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10" y="12"/>
                        </a:lnTo>
                        <a:lnTo>
                          <a:pt x="25" y="3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2323800" y="4205880"/>
                    <a:ext cx="39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3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10" y="12"/>
                        </a:lnTo>
                        <a:lnTo>
                          <a:pt x="25" y="3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>
                  <a:off x="2323800" y="4207680"/>
                  <a:ext cx="20880" cy="234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1" y="8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2336760" y="4211280"/>
                  <a:ext cx="29880" cy="19440"/>
                  <a:chOff x="2336760" y="4211280"/>
                  <a:chExt cx="29880" cy="1944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2336760" y="4211280"/>
                    <a:ext cx="29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7" y="0"/>
                        </a:move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19" y="9"/>
                        </a:lnTo>
                        <a:lnTo>
                          <a:pt x="19" y="8"/>
                        </a:lnTo>
                        <a:lnTo>
                          <a:pt x="19" y="5"/>
                        </a:lnTo>
                        <a:lnTo>
                          <a:pt x="18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2336760" y="4211280"/>
                    <a:ext cx="29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8"/>
                        </a:lnTo>
                        <a:lnTo>
                          <a:pt x="19" y="5"/>
                        </a:lnTo>
                        <a:lnTo>
                          <a:pt x="18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8" name=""/>
                <p:cNvSpPr/>
                <p:nvPr/>
              </p:nvSpPr>
              <p:spPr>
                <a:xfrm>
                  <a:off x="2336760" y="42112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9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322360" y="4218480"/>
                  <a:ext cx="44280" cy="1476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20" y="5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3" y="7"/>
                      </a:lnTo>
                      <a:lnTo>
                        <a:pt x="18" y="7"/>
                      </a:lnTo>
                      <a:lnTo>
                        <a:pt x="11" y="8"/>
                      </a:lnTo>
                      <a:lnTo>
                        <a:pt x="8" y="7"/>
                      </a:lnTo>
                      <a:lnTo>
                        <a:pt x="5" y="5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0" name=""/>
                <p:cNvGrpSpPr/>
                <p:nvPr/>
              </p:nvGrpSpPr>
              <p:grpSpPr>
                <a:xfrm>
                  <a:off x="2279520" y="4187520"/>
                  <a:ext cx="36360" cy="23400"/>
                  <a:chOff x="2279520" y="4187520"/>
                  <a:chExt cx="36360" cy="23400"/>
                </a:xfrm>
              </p:grpSpPr>
              <p:sp>
                <p:nvSpPr>
                  <p:cNvPr id="1721" name=""/>
                  <p:cNvSpPr/>
                  <p:nvPr/>
                </p:nvSpPr>
                <p:spPr>
                  <a:xfrm>
                    <a:off x="2279520" y="4187520"/>
                    <a:ext cx="36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279520" y="4187520"/>
                    <a:ext cx="36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5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3" name=""/>
                <p:cNvSpPr/>
                <p:nvPr/>
              </p:nvSpPr>
              <p:spPr>
                <a:xfrm>
                  <a:off x="2279520" y="4189320"/>
                  <a:ext cx="17280" cy="2556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4" y="0"/>
                      </a:move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7" y="14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4" name=""/>
                <p:cNvGrpSpPr/>
                <p:nvPr/>
              </p:nvGrpSpPr>
              <p:grpSpPr>
                <a:xfrm>
                  <a:off x="2290680" y="4196880"/>
                  <a:ext cx="30240" cy="17640"/>
                  <a:chOff x="2290680" y="4196880"/>
                  <a:chExt cx="30240" cy="1764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>
                    <a:off x="2290680" y="41968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2290680" y="41968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7" name=""/>
                <p:cNvSpPr/>
                <p:nvPr/>
              </p:nvSpPr>
              <p:spPr>
                <a:xfrm>
                  <a:off x="2292120" y="41968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277720" y="4200120"/>
                  <a:ext cx="43200" cy="1620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6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7" y="8"/>
                      </a:lnTo>
                      <a:lnTo>
                        <a:pt x="23" y="8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8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38240" y="42152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0" name=""/>
                <p:cNvGrpSpPr/>
                <p:nvPr/>
              </p:nvGrpSpPr>
              <p:grpSpPr>
                <a:xfrm>
                  <a:off x="2241360" y="4189320"/>
                  <a:ext cx="39600" cy="25200"/>
                  <a:chOff x="2241360" y="4189320"/>
                  <a:chExt cx="39600" cy="2520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2241360" y="418932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4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1" y="14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241360" y="418932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4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1" y="14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2242800" y="41932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4" name=""/>
                <p:cNvGrpSpPr/>
                <p:nvPr/>
              </p:nvGrpSpPr>
              <p:grpSpPr>
                <a:xfrm>
                  <a:off x="2253960" y="4198680"/>
                  <a:ext cx="32040" cy="17640"/>
                  <a:chOff x="2253960" y="4198680"/>
                  <a:chExt cx="32040" cy="176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2253960" y="4198680"/>
                    <a:ext cx="32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" y="9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2253960" y="4198680"/>
                    <a:ext cx="32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" y="9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2255760" y="419868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241360" y="4204080"/>
                  <a:ext cx="4464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7" y="4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20" y="6"/>
                      </a:lnTo>
                      <a:lnTo>
                        <a:pt x="25" y="4"/>
                      </a:ln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6" y="8"/>
                      </a:lnTo>
                      <a:lnTo>
                        <a:pt x="11" y="8"/>
                      </a:lnTo>
                      <a:lnTo>
                        <a:pt x="8" y="7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9" name=""/>
                <p:cNvGrpSpPr/>
                <p:nvPr/>
              </p:nvGrpSpPr>
              <p:grpSpPr>
                <a:xfrm>
                  <a:off x="2209680" y="4193280"/>
                  <a:ext cx="36360" cy="23040"/>
                  <a:chOff x="2209680" y="4193280"/>
                  <a:chExt cx="36360" cy="2304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2209680" y="4193280"/>
                    <a:ext cx="36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4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3"/>
                        </a:lnTo>
                        <a:lnTo>
                          <a:pt x="23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2209680" y="4193280"/>
                    <a:ext cx="36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4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3"/>
                        </a:lnTo>
                        <a:lnTo>
                          <a:pt x="23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2" name=""/>
                <p:cNvSpPr/>
                <p:nvPr/>
              </p:nvSpPr>
              <p:spPr>
                <a:xfrm>
                  <a:off x="2209680" y="419472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2222280" y="4200120"/>
                  <a:ext cx="30240" cy="17640"/>
                  <a:chOff x="2222280" y="4200120"/>
                  <a:chExt cx="30240" cy="1764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2222280" y="42001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5" y="0"/>
                        </a:move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19" y="9"/>
                        </a:lnTo>
                        <a:lnTo>
                          <a:pt x="19" y="8"/>
                        </a:lnTo>
                        <a:lnTo>
                          <a:pt x="17" y="5"/>
                        </a:lnTo>
                        <a:lnTo>
                          <a:pt x="16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222280" y="420012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8"/>
                        </a:lnTo>
                        <a:lnTo>
                          <a:pt x="17" y="5"/>
                        </a:lnTo>
                        <a:lnTo>
                          <a:pt x="16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6" name=""/>
                <p:cNvSpPr/>
                <p:nvPr/>
              </p:nvSpPr>
              <p:spPr>
                <a:xfrm>
                  <a:off x="2222280" y="420012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09680" y="420588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5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3" y="5"/>
                      </a:lnTo>
                      <a:lnTo>
                        <a:pt x="19" y="5"/>
                      </a:lnTo>
                      <a:lnTo>
                        <a:pt x="23" y="5"/>
                      </a:lnTo>
                      <a:lnTo>
                        <a:pt x="25" y="5"/>
                      </a:lnTo>
                      <a:lnTo>
                        <a:pt x="27" y="7"/>
                      </a:lnTo>
                      <a:lnTo>
                        <a:pt x="21" y="7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6" y="7"/>
                      </a:lnTo>
                      <a:lnTo>
                        <a:pt x="4" y="5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2174760" y="4194720"/>
                  <a:ext cx="38160" cy="23040"/>
                  <a:chOff x="2174760" y="4194720"/>
                  <a:chExt cx="38160" cy="2304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2174760" y="419472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3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10" y="12"/>
                        </a:lnTo>
                        <a:lnTo>
                          <a:pt x="24" y="3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174760" y="419472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3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10" y="12"/>
                        </a:lnTo>
                        <a:lnTo>
                          <a:pt x="24" y="3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1" name=""/>
                <p:cNvSpPr/>
                <p:nvPr/>
              </p:nvSpPr>
              <p:spPr>
                <a:xfrm>
                  <a:off x="2174760" y="41968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0" y="8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2" name=""/>
                <p:cNvGrpSpPr/>
                <p:nvPr/>
              </p:nvGrpSpPr>
              <p:grpSpPr>
                <a:xfrm>
                  <a:off x="2185920" y="4200120"/>
                  <a:ext cx="31680" cy="19800"/>
                  <a:chOff x="2185920" y="4200120"/>
                  <a:chExt cx="31680" cy="1980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>
                    <a:off x="2185920" y="420012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6" y="2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10"/>
                        </a:lnTo>
                        <a:lnTo>
                          <a:pt x="20" y="9"/>
                        </a:lnTo>
                        <a:lnTo>
                          <a:pt x="20" y="5"/>
                        </a:lnTo>
                        <a:lnTo>
                          <a:pt x="19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185920" y="420012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2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9"/>
                        </a:lnTo>
                        <a:lnTo>
                          <a:pt x="20" y="5"/>
                        </a:lnTo>
                        <a:lnTo>
                          <a:pt x="19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5" name=""/>
                <p:cNvSpPr/>
                <p:nvPr/>
              </p:nvSpPr>
              <p:spPr>
                <a:xfrm>
                  <a:off x="2187360" y="42040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2960" y="4207680"/>
                  <a:ext cx="4464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20" y="5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7" y="7"/>
                      </a:lnTo>
                      <a:lnTo>
                        <a:pt x="11" y="8"/>
                      </a:lnTo>
                      <a:lnTo>
                        <a:pt x="8" y="7"/>
                      </a:lnTo>
                      <a:lnTo>
                        <a:pt x="5" y="5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7" name=""/>
                <p:cNvGrpSpPr/>
                <p:nvPr/>
              </p:nvGrpSpPr>
              <p:grpSpPr>
                <a:xfrm>
                  <a:off x="2141280" y="4196880"/>
                  <a:ext cx="39960" cy="23040"/>
                  <a:chOff x="2141280" y="4196880"/>
                  <a:chExt cx="39960" cy="230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2141280" y="4196880"/>
                    <a:ext cx="39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4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141280" y="4196880"/>
                    <a:ext cx="39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4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0" name=""/>
                <p:cNvSpPr/>
                <p:nvPr/>
              </p:nvSpPr>
              <p:spPr>
                <a:xfrm>
                  <a:off x="2141280" y="41986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1" name=""/>
                <p:cNvGrpSpPr/>
                <p:nvPr/>
              </p:nvGrpSpPr>
              <p:grpSpPr>
                <a:xfrm>
                  <a:off x="2154240" y="4204080"/>
                  <a:ext cx="31680" cy="17640"/>
                  <a:chOff x="2154240" y="4204080"/>
                  <a:chExt cx="31680" cy="1764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>
                    <a:off x="2154240" y="42040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9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2154240" y="42040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9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19" y="4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>
                  <a:off x="2155680" y="42040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141280" y="4209480"/>
                  <a:ext cx="44640" cy="126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0" y="5"/>
                      </a:lnTo>
                      <a:lnTo>
                        <a:pt x="13" y="5"/>
                      </a:lnTo>
                      <a:lnTo>
                        <a:pt x="18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22" y="7"/>
                      </a:lnTo>
                      <a:lnTo>
                        <a:pt x="16" y="7"/>
                      </a:lnTo>
                      <a:lnTo>
                        <a:pt x="10" y="7"/>
                      </a:lnTo>
                      <a:lnTo>
                        <a:pt x="6" y="7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6" name=""/>
                <p:cNvGrpSpPr/>
                <p:nvPr/>
              </p:nvGrpSpPr>
              <p:grpSpPr>
                <a:xfrm>
                  <a:off x="2108160" y="4198680"/>
                  <a:ext cx="39600" cy="21240"/>
                  <a:chOff x="2108160" y="4198680"/>
                  <a:chExt cx="39600" cy="2124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>
                    <a:off x="2108160" y="4198680"/>
                    <a:ext cx="39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4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2108160" y="4198680"/>
                    <a:ext cx="39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">
                        <a:moveTo>
                          <a:pt x="25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9" name=""/>
                <p:cNvSpPr/>
                <p:nvPr/>
              </p:nvSpPr>
              <p:spPr>
                <a:xfrm>
                  <a:off x="2108160" y="419868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8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0" name=""/>
                <p:cNvGrpSpPr/>
                <p:nvPr/>
              </p:nvGrpSpPr>
              <p:grpSpPr>
                <a:xfrm>
                  <a:off x="2120760" y="4205880"/>
                  <a:ext cx="33480" cy="19440"/>
                  <a:chOff x="2120760" y="4205880"/>
                  <a:chExt cx="33480" cy="1944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>
                    <a:off x="2120760" y="420588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10" y="9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2120760" y="420588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10" y="9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2120760" y="4205880"/>
                  <a:ext cx="27000" cy="1440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2108160" y="4211280"/>
                  <a:ext cx="46080" cy="14400"/>
                </a:xfrm>
                <a:custGeom>
                  <a:avLst/>
                  <a:gdLst/>
                  <a:ahLst/>
                  <a:rect l="l" t="t" r="r" b="b"/>
                  <a:pathLst>
                    <a:path w="29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6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4" y="5"/>
                      </a:lnTo>
                      <a:lnTo>
                        <a:pt x="19" y="5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7" y="8"/>
                      </a:lnTo>
                      <a:lnTo>
                        <a:pt x="11" y="8"/>
                      </a:lnTo>
                      <a:lnTo>
                        <a:pt x="7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2074680" y="4198680"/>
                  <a:ext cx="39600" cy="23040"/>
                  <a:chOff x="2074680" y="4198680"/>
                  <a:chExt cx="39600" cy="2304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2074680" y="4198680"/>
                    <a:ext cx="39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2074680" y="4198680"/>
                    <a:ext cx="39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8" name=""/>
                <p:cNvSpPr/>
                <p:nvPr/>
              </p:nvSpPr>
              <p:spPr>
                <a:xfrm>
                  <a:off x="2076120" y="420012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0"/>
                      </a:move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0"/>
                      </a:lnTo>
                      <a:lnTo>
                        <a:pt x="8" y="14"/>
                      </a:lnTo>
                      <a:lnTo>
                        <a:pt x="7" y="15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9" name=""/>
                <p:cNvGrpSpPr/>
                <p:nvPr/>
              </p:nvGrpSpPr>
              <p:grpSpPr>
                <a:xfrm>
                  <a:off x="2087280" y="4207680"/>
                  <a:ext cx="32040" cy="19440"/>
                  <a:chOff x="2087280" y="4207680"/>
                  <a:chExt cx="32040" cy="1944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>
                    <a:off x="2087280" y="420768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20" y="5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2087280" y="420768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20" y="5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2" name=""/>
                <p:cNvSpPr/>
                <p:nvPr/>
              </p:nvSpPr>
              <p:spPr>
                <a:xfrm>
                  <a:off x="2089080" y="420768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074680" y="4211280"/>
                  <a:ext cx="44640" cy="1584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20" y="6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8"/>
                      </a:lnTo>
                      <a:lnTo>
                        <a:pt x="23" y="9"/>
                      </a:lnTo>
                      <a:lnTo>
                        <a:pt x="17" y="9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5" y="6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4" name=""/>
                <p:cNvGrpSpPr/>
                <p:nvPr/>
              </p:nvGrpSpPr>
              <p:grpSpPr>
                <a:xfrm>
                  <a:off x="2043000" y="4200120"/>
                  <a:ext cx="38160" cy="25200"/>
                  <a:chOff x="2043000" y="4200120"/>
                  <a:chExt cx="38160" cy="2520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>
                    <a:off x="2043000" y="420012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9" y="14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2043000" y="420012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9" y="14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7" name=""/>
                <p:cNvSpPr/>
                <p:nvPr/>
              </p:nvSpPr>
              <p:spPr>
                <a:xfrm>
                  <a:off x="2043000" y="42040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8" name=""/>
                <p:cNvGrpSpPr/>
                <p:nvPr/>
              </p:nvGrpSpPr>
              <p:grpSpPr>
                <a:xfrm>
                  <a:off x="2055600" y="4209480"/>
                  <a:ext cx="31680" cy="17640"/>
                  <a:chOff x="2055600" y="4209480"/>
                  <a:chExt cx="31680" cy="1764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>
                    <a:off x="2055600" y="42094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2055600" y="42094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1" name=""/>
                <p:cNvSpPr/>
                <p:nvPr/>
              </p:nvSpPr>
              <p:spPr>
                <a:xfrm>
                  <a:off x="2055600" y="4209480"/>
                  <a:ext cx="25560" cy="16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043000" y="421524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8" y="4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7" y="7"/>
                      </a:lnTo>
                      <a:lnTo>
                        <a:pt x="23" y="7"/>
                      </a:lnTo>
                      <a:lnTo>
                        <a:pt x="16" y="8"/>
                      </a:lnTo>
                      <a:lnTo>
                        <a:pt x="9" y="8"/>
                      </a:lnTo>
                      <a:lnTo>
                        <a:pt x="6" y="7"/>
                      </a:lnTo>
                      <a:lnTo>
                        <a:pt x="4" y="6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2008080" y="4204080"/>
                  <a:ext cx="38160" cy="23040"/>
                  <a:chOff x="2008080" y="4204080"/>
                  <a:chExt cx="38160" cy="2304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2008080" y="42040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3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2008080" y="42040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3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6" name=""/>
                <p:cNvSpPr/>
                <p:nvPr/>
              </p:nvSpPr>
              <p:spPr>
                <a:xfrm>
                  <a:off x="2008080" y="42058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7" name=""/>
                <p:cNvGrpSpPr/>
                <p:nvPr/>
              </p:nvGrpSpPr>
              <p:grpSpPr>
                <a:xfrm>
                  <a:off x="2020680" y="4211280"/>
                  <a:ext cx="31680" cy="17640"/>
                  <a:chOff x="2020680" y="4211280"/>
                  <a:chExt cx="31680" cy="17640"/>
                </a:xfrm>
              </p:grpSpPr>
              <p:sp>
                <p:nvSpPr>
                  <p:cNvPr id="1798" name=""/>
                  <p:cNvSpPr/>
                  <p:nvPr/>
                </p:nvSpPr>
                <p:spPr>
                  <a:xfrm>
                    <a:off x="2020680" y="42112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19" y="8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2020680" y="421128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9" y="8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0" name=""/>
                <p:cNvSpPr/>
                <p:nvPr/>
              </p:nvSpPr>
              <p:spPr>
                <a:xfrm>
                  <a:off x="2020680" y="421128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2008080" y="421668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5" y="5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3" y="7"/>
                      </a:lnTo>
                      <a:lnTo>
                        <a:pt x="16" y="8"/>
                      </a:lnTo>
                      <a:lnTo>
                        <a:pt x="11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1974600" y="4205880"/>
                  <a:ext cx="38160" cy="23040"/>
                  <a:chOff x="1974600" y="4205880"/>
                  <a:chExt cx="38160" cy="2304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1974600" y="4205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1974600" y="42058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"/>
                <p:cNvSpPr/>
                <p:nvPr/>
              </p:nvSpPr>
              <p:spPr>
                <a:xfrm>
                  <a:off x="1974600" y="42076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"/>
                <p:cNvGrpSpPr/>
                <p:nvPr/>
              </p:nvGrpSpPr>
              <p:grpSpPr>
                <a:xfrm>
                  <a:off x="1987560" y="4215240"/>
                  <a:ext cx="31680" cy="15480"/>
                  <a:chOff x="1987560" y="4215240"/>
                  <a:chExt cx="31680" cy="1548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1987560" y="421524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8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1987560" y="421524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8" y="4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"/>
                <p:cNvSpPr/>
                <p:nvPr/>
              </p:nvSpPr>
              <p:spPr>
                <a:xfrm>
                  <a:off x="1989000" y="421524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974600" y="4218480"/>
                  <a:ext cx="44640" cy="1476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5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3" y="5"/>
                      </a:lnTo>
                      <a:lnTo>
                        <a:pt x="18" y="5"/>
                      </a:lnTo>
                      <a:lnTo>
                        <a:pt x="24" y="5"/>
                      </a:lnTo>
                      <a:lnTo>
                        <a:pt x="26" y="5"/>
                      </a:lnTo>
                      <a:lnTo>
                        <a:pt x="28" y="7"/>
                      </a:lnTo>
                      <a:lnTo>
                        <a:pt x="22" y="7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6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1" name=""/>
                <p:cNvGrpSpPr/>
                <p:nvPr/>
              </p:nvGrpSpPr>
              <p:grpSpPr>
                <a:xfrm>
                  <a:off x="1939680" y="4207680"/>
                  <a:ext cx="38160" cy="23040"/>
                  <a:chOff x="1939680" y="4207680"/>
                  <a:chExt cx="38160" cy="23040"/>
                </a:xfrm>
              </p:grpSpPr>
              <p:sp>
                <p:nvSpPr>
                  <p:cNvPr id="1812" name=""/>
                  <p:cNvSpPr/>
                  <p:nvPr/>
                </p:nvSpPr>
                <p:spPr>
                  <a:xfrm>
                    <a:off x="1939680" y="42076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1939680" y="420768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4" name=""/>
                <p:cNvSpPr/>
                <p:nvPr/>
              </p:nvSpPr>
              <p:spPr>
                <a:xfrm>
                  <a:off x="1939680" y="420948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5" name=""/>
                <p:cNvGrpSpPr/>
                <p:nvPr/>
              </p:nvGrpSpPr>
              <p:grpSpPr>
                <a:xfrm>
                  <a:off x="1952640" y="4216680"/>
                  <a:ext cx="31680" cy="15840"/>
                  <a:chOff x="1952640" y="4216680"/>
                  <a:chExt cx="31680" cy="15840"/>
                </a:xfrm>
              </p:grpSpPr>
              <p:sp>
                <p:nvSpPr>
                  <p:cNvPr id="1816" name=""/>
                  <p:cNvSpPr/>
                  <p:nvPr/>
                </p:nvSpPr>
                <p:spPr>
                  <a:xfrm>
                    <a:off x="1952640" y="421668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1952640" y="421668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8" name=""/>
                <p:cNvSpPr/>
                <p:nvPr/>
              </p:nvSpPr>
              <p:spPr>
                <a:xfrm>
                  <a:off x="1952640" y="421668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939680" y="4220640"/>
                  <a:ext cx="44640" cy="19800"/>
                </a:xfrm>
                <a:custGeom>
                  <a:avLst/>
                  <a:gdLst/>
                  <a:ahLst/>
                  <a:rect l="l" t="t" r="r" b="b"/>
                  <a:pathLst>
                    <a:path w="28" h="1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3" y="5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6" y="10"/>
                      </a:lnTo>
                      <a:lnTo>
                        <a:pt x="11" y="11"/>
                      </a:lnTo>
                      <a:lnTo>
                        <a:pt x="7" y="11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0" name=""/>
                <p:cNvGrpSpPr/>
                <p:nvPr/>
              </p:nvGrpSpPr>
              <p:grpSpPr>
                <a:xfrm>
                  <a:off x="1989000" y="4205880"/>
                  <a:ext cx="345960" cy="45000"/>
                  <a:chOff x="1989000" y="4205880"/>
                  <a:chExt cx="345960" cy="45000"/>
                </a:xfrm>
              </p:grpSpPr>
              <p:grpSp>
                <p:nvGrpSpPr>
                  <p:cNvPr id="1821" name=""/>
                  <p:cNvGrpSpPr/>
                  <p:nvPr/>
                </p:nvGrpSpPr>
                <p:grpSpPr>
                  <a:xfrm>
                    <a:off x="2292120" y="4205880"/>
                    <a:ext cx="38160" cy="23040"/>
                    <a:chOff x="2292120" y="4205880"/>
                    <a:chExt cx="38160" cy="23040"/>
                  </a:xfrm>
                </p:grpSpPr>
                <p:sp>
                  <p:nvSpPr>
                    <p:cNvPr id="1822" name=""/>
                    <p:cNvSpPr/>
                    <p:nvPr/>
                  </p:nvSpPr>
                  <p:spPr>
                    <a:xfrm>
                      <a:off x="2292120" y="420588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2" y="11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>
                      <a:off x="2292120" y="420588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2" y="11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24" name=""/>
                  <p:cNvSpPr/>
                  <p:nvPr/>
                </p:nvSpPr>
                <p:spPr>
                  <a:xfrm>
                    <a:off x="2292120" y="4207320"/>
                    <a:ext cx="19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10" y="4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8" y="12"/>
                        </a:lnTo>
                        <a:lnTo>
                          <a:pt x="7" y="14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2" y="5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25" name=""/>
                  <p:cNvGrpSpPr/>
                  <p:nvPr/>
                </p:nvGrpSpPr>
                <p:grpSpPr>
                  <a:xfrm>
                    <a:off x="2304720" y="4214880"/>
                    <a:ext cx="30240" cy="17640"/>
                    <a:chOff x="2304720" y="4214880"/>
                    <a:chExt cx="30240" cy="17640"/>
                  </a:xfrm>
                </p:grpSpPr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2304720" y="4214880"/>
                      <a:ext cx="302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0">
                          <a:moveTo>
                            <a:pt x="16" y="0"/>
                          </a:move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9" y="4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2304720" y="4214880"/>
                      <a:ext cx="302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9" y="4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28" name=""/>
                  <p:cNvSpPr/>
                  <p:nvPr/>
                </p:nvSpPr>
                <p:spPr>
                  <a:xfrm>
                    <a:off x="2304720" y="4214880"/>
                    <a:ext cx="24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290680" y="4218120"/>
                    <a:ext cx="44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4" y="2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3" y="6"/>
                        </a:lnTo>
                        <a:lnTo>
                          <a:pt x="20" y="6"/>
                        </a:lnTo>
                        <a:lnTo>
                          <a:pt x="25" y="5"/>
                        </a:lnTo>
                        <a:lnTo>
                          <a:pt x="28" y="5"/>
                        </a:lnTo>
                        <a:lnTo>
                          <a:pt x="28" y="7"/>
                        </a:lnTo>
                        <a:lnTo>
                          <a:pt x="23" y="7"/>
                        </a:lnTo>
                        <a:lnTo>
                          <a:pt x="17" y="8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5" y="6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2255760" y="4207320"/>
                    <a:ext cx="39600" cy="23040"/>
                    <a:chOff x="2255760" y="4207320"/>
                    <a:chExt cx="39600" cy="2304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2255760" y="4207320"/>
                      <a:ext cx="39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3">
                          <a:moveTo>
                            <a:pt x="25" y="5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2" y="6"/>
                          </a:lnTo>
                          <a:lnTo>
                            <a:pt x="0" y="7"/>
                          </a:lnTo>
                          <a:lnTo>
                            <a:pt x="0" y="10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2255760" y="4207320"/>
                      <a:ext cx="39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3">
                          <a:moveTo>
                            <a:pt x="25" y="5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2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10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3" name=""/>
                  <p:cNvSpPr/>
                  <p:nvPr/>
                </p:nvSpPr>
                <p:spPr>
                  <a:xfrm>
                    <a:off x="2255760" y="420912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6" y="0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10" y="12"/>
                        </a:lnTo>
                        <a:lnTo>
                          <a:pt x="8" y="13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4" y="10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3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2268360" y="4216320"/>
                    <a:ext cx="33480" cy="15840"/>
                    <a:chOff x="2268360" y="4216320"/>
                    <a:chExt cx="33480" cy="1584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2268360" y="4216320"/>
                      <a:ext cx="334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9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2" y="5"/>
                          </a:lnTo>
                          <a:lnTo>
                            <a:pt x="2" y="8"/>
                          </a:lnTo>
                          <a:lnTo>
                            <a:pt x="0" y="9"/>
                          </a:lnTo>
                          <a:lnTo>
                            <a:pt x="10" y="9"/>
                          </a:lnTo>
                          <a:lnTo>
                            <a:pt x="21" y="8"/>
                          </a:lnTo>
                          <a:lnTo>
                            <a:pt x="21" y="7"/>
                          </a:lnTo>
                          <a:lnTo>
                            <a:pt x="19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2268360" y="4216320"/>
                      <a:ext cx="334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9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2" y="5"/>
                          </a:lnTo>
                          <a:lnTo>
                            <a:pt x="2" y="8"/>
                          </a:lnTo>
                          <a:lnTo>
                            <a:pt x="0" y="9"/>
                          </a:lnTo>
                          <a:lnTo>
                            <a:pt x="10" y="9"/>
                          </a:lnTo>
                          <a:lnTo>
                            <a:pt x="21" y="8"/>
                          </a:lnTo>
                          <a:lnTo>
                            <a:pt x="21" y="8"/>
                          </a:lnTo>
                          <a:lnTo>
                            <a:pt x="21" y="7"/>
                          </a:lnTo>
                          <a:lnTo>
                            <a:pt x="19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7" name=""/>
                  <p:cNvSpPr/>
                  <p:nvPr/>
                </p:nvSpPr>
                <p:spPr>
                  <a:xfrm>
                    <a:off x="2271600" y="4216320"/>
                    <a:ext cx="23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2255760" y="4220280"/>
                    <a:ext cx="46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3"/>
                        </a:lnTo>
                        <a:lnTo>
                          <a:pt x="6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4" y="6"/>
                        </a:lnTo>
                        <a:lnTo>
                          <a:pt x="19" y="5"/>
                        </a:lnTo>
                        <a:lnTo>
                          <a:pt x="25" y="5"/>
                        </a:lnTo>
                        <a:lnTo>
                          <a:pt x="27" y="5"/>
                        </a:lnTo>
                        <a:lnTo>
                          <a:pt x="29" y="7"/>
                        </a:lnTo>
                        <a:lnTo>
                          <a:pt x="23" y="7"/>
                        </a:lnTo>
                        <a:lnTo>
                          <a:pt x="16" y="9"/>
                        </a:lnTo>
                        <a:lnTo>
                          <a:pt x="11" y="9"/>
                        </a:lnTo>
                        <a:lnTo>
                          <a:pt x="7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2224080" y="4209120"/>
                    <a:ext cx="36360" cy="23400"/>
                    <a:chOff x="2224080" y="4209120"/>
                    <a:chExt cx="36360" cy="2340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2224080" y="4209120"/>
                      <a:ext cx="363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3">
                          <a:moveTo>
                            <a:pt x="23" y="5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1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10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2224080" y="4209120"/>
                      <a:ext cx="363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3">
                          <a:moveTo>
                            <a:pt x="23" y="5"/>
                          </a:move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1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10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2" name=""/>
                  <p:cNvSpPr/>
                  <p:nvPr/>
                </p:nvSpPr>
                <p:spPr>
                  <a:xfrm>
                    <a:off x="2224080" y="4210920"/>
                    <a:ext cx="17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4" y="0"/>
                        </a:moveTo>
                        <a:lnTo>
                          <a:pt x="5" y="0"/>
                        </a:lnTo>
                        <a:lnTo>
                          <a:pt x="8" y="3"/>
                        </a:lnTo>
                        <a:lnTo>
                          <a:pt x="10" y="4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8" y="14"/>
                        </a:lnTo>
                        <a:lnTo>
                          <a:pt x="5" y="11"/>
                        </a:lnTo>
                        <a:lnTo>
                          <a:pt x="4" y="11"/>
                        </a:lnTo>
                        <a:lnTo>
                          <a:pt x="3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3" name=""/>
                  <p:cNvGrpSpPr/>
                  <p:nvPr/>
                </p:nvGrpSpPr>
                <p:grpSpPr>
                  <a:xfrm>
                    <a:off x="2236680" y="4218120"/>
                    <a:ext cx="28440" cy="18000"/>
                    <a:chOff x="2236680" y="4218120"/>
                    <a:chExt cx="28440" cy="18000"/>
                  </a:xfrm>
                </p:grpSpPr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2236680" y="4218120"/>
                      <a:ext cx="2844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0">
                          <a:moveTo>
                            <a:pt x="15" y="0"/>
                          </a:move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7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5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7" y="10"/>
                          </a:lnTo>
                          <a:lnTo>
                            <a:pt x="18" y="8"/>
                          </a:lnTo>
                          <a:lnTo>
                            <a:pt x="18" y="7"/>
                          </a:lnTo>
                          <a:lnTo>
                            <a:pt x="18" y="5"/>
                          </a:lnTo>
                          <a:lnTo>
                            <a:pt x="16" y="1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2236680" y="4218120"/>
                      <a:ext cx="2844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0">
                          <a:moveTo>
                            <a:pt x="15" y="0"/>
                          </a:move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7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5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7" y="10"/>
                          </a:lnTo>
                          <a:lnTo>
                            <a:pt x="18" y="8"/>
                          </a:lnTo>
                          <a:lnTo>
                            <a:pt x="18" y="8"/>
                          </a:lnTo>
                          <a:lnTo>
                            <a:pt x="18" y="7"/>
                          </a:lnTo>
                          <a:lnTo>
                            <a:pt x="18" y="5"/>
                          </a:lnTo>
                          <a:lnTo>
                            <a:pt x="16" y="1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6" name=""/>
                  <p:cNvSpPr/>
                  <p:nvPr/>
                </p:nvSpPr>
                <p:spPr>
                  <a:xfrm>
                    <a:off x="2236680" y="4218120"/>
                    <a:ext cx="223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2222280" y="4221720"/>
                    <a:ext cx="428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1" y="0"/>
                        </a:moveTo>
                        <a:lnTo>
                          <a:pt x="2" y="2"/>
                        </a:lnTo>
                        <a:lnTo>
                          <a:pt x="4" y="3"/>
                        </a:lnTo>
                        <a:lnTo>
                          <a:pt x="6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3" y="6"/>
                        </a:lnTo>
                        <a:lnTo>
                          <a:pt x="19" y="5"/>
                        </a:lnTo>
                        <a:lnTo>
                          <a:pt x="24" y="5"/>
                        </a:lnTo>
                        <a:lnTo>
                          <a:pt x="27" y="5"/>
                        </a:lnTo>
                        <a:lnTo>
                          <a:pt x="27" y="8"/>
                        </a:lnTo>
                        <a:lnTo>
                          <a:pt x="23" y="8"/>
                        </a:lnTo>
                        <a:lnTo>
                          <a:pt x="16" y="9"/>
                        </a:lnTo>
                        <a:lnTo>
                          <a:pt x="11" y="9"/>
                        </a:lnTo>
                        <a:lnTo>
                          <a:pt x="8" y="8"/>
                        </a:lnTo>
                        <a:lnTo>
                          <a:pt x="5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8" name=""/>
                  <p:cNvGrpSpPr/>
                  <p:nvPr/>
                </p:nvGrpSpPr>
                <p:grpSpPr>
                  <a:xfrm>
                    <a:off x="2190600" y="4210920"/>
                    <a:ext cx="39600" cy="24840"/>
                    <a:chOff x="2190600" y="4210920"/>
                    <a:chExt cx="39600" cy="24840"/>
                  </a:xfrm>
                </p:grpSpPr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2190600" y="4210920"/>
                      <a:ext cx="396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4">
                          <a:moveTo>
                            <a:pt x="25" y="5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9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2" y="11"/>
                          </a:lnTo>
                          <a:lnTo>
                            <a:pt x="4" y="12"/>
                          </a:lnTo>
                          <a:lnTo>
                            <a:pt x="5" y="14"/>
                          </a:lnTo>
                          <a:lnTo>
                            <a:pt x="10" y="14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2190600" y="4210920"/>
                      <a:ext cx="396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4">
                          <a:moveTo>
                            <a:pt x="25" y="5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9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2" y="11"/>
                          </a:lnTo>
                          <a:lnTo>
                            <a:pt x="4" y="12"/>
                          </a:lnTo>
                          <a:lnTo>
                            <a:pt x="5" y="14"/>
                          </a:lnTo>
                          <a:lnTo>
                            <a:pt x="10" y="14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1" name=""/>
                  <p:cNvSpPr/>
                  <p:nvPr/>
                </p:nvSpPr>
                <p:spPr>
                  <a:xfrm>
                    <a:off x="2192040" y="421488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4" y="0"/>
                        </a:move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9" y="3"/>
                        </a:lnTo>
                        <a:lnTo>
                          <a:pt x="11" y="4"/>
                        </a:lnTo>
                        <a:lnTo>
                          <a:pt x="11" y="6"/>
                        </a:lnTo>
                        <a:lnTo>
                          <a:pt x="9" y="9"/>
                        </a:lnTo>
                        <a:lnTo>
                          <a:pt x="8" y="12"/>
                        </a:lnTo>
                        <a:lnTo>
                          <a:pt x="7" y="13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3" y="9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52" name=""/>
                  <p:cNvGrpSpPr/>
                  <p:nvPr/>
                </p:nvGrpSpPr>
                <p:grpSpPr>
                  <a:xfrm>
                    <a:off x="2203200" y="4220280"/>
                    <a:ext cx="31680" cy="17640"/>
                    <a:chOff x="2203200" y="4220280"/>
                    <a:chExt cx="31680" cy="17640"/>
                  </a:xfrm>
                </p:grpSpPr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2203200" y="422028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7" y="0"/>
                          </a:move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2" y="5"/>
                          </a:lnTo>
                          <a:lnTo>
                            <a:pt x="1" y="9"/>
                          </a:lnTo>
                          <a:lnTo>
                            <a:pt x="0" y="10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2203200" y="422028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2" y="5"/>
                          </a:lnTo>
                          <a:lnTo>
                            <a:pt x="1" y="9"/>
                          </a:lnTo>
                          <a:lnTo>
                            <a:pt x="0" y="10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5" name=""/>
                  <p:cNvSpPr/>
                  <p:nvPr/>
                </p:nvSpPr>
                <p:spPr>
                  <a:xfrm>
                    <a:off x="2205000" y="4220280"/>
                    <a:ext cx="23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2190600" y="4225320"/>
                    <a:ext cx="44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0" y="6"/>
                        </a:lnTo>
                        <a:lnTo>
                          <a:pt x="13" y="6"/>
                        </a:lnTo>
                        <a:lnTo>
                          <a:pt x="20" y="4"/>
                        </a:lnTo>
                        <a:lnTo>
                          <a:pt x="25" y="4"/>
                        </a:lnTo>
                        <a:lnTo>
                          <a:pt x="28" y="4"/>
                        </a:lnTo>
                        <a:lnTo>
                          <a:pt x="28" y="7"/>
                        </a:lnTo>
                        <a:lnTo>
                          <a:pt x="22" y="7"/>
                        </a:lnTo>
                        <a:lnTo>
                          <a:pt x="16" y="8"/>
                        </a:lnTo>
                        <a:lnTo>
                          <a:pt x="10" y="8"/>
                        </a:lnTo>
                        <a:lnTo>
                          <a:pt x="8" y="7"/>
                        </a:lnTo>
                        <a:lnTo>
                          <a:pt x="5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57" name=""/>
                  <p:cNvGrpSpPr/>
                  <p:nvPr/>
                </p:nvGrpSpPr>
                <p:grpSpPr>
                  <a:xfrm>
                    <a:off x="2157120" y="4214880"/>
                    <a:ext cx="41400" cy="23040"/>
                    <a:chOff x="2157120" y="4214880"/>
                    <a:chExt cx="41400" cy="23040"/>
                  </a:xfrm>
                </p:grpSpPr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2157120" y="421488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4"/>
                          </a:move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0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3" y="10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6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2157120" y="421488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4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0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3" y="10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6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0" name=""/>
                  <p:cNvSpPr/>
                  <p:nvPr/>
                </p:nvSpPr>
                <p:spPr>
                  <a:xfrm>
                    <a:off x="2157120" y="4216320"/>
                    <a:ext cx="19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6" y="0"/>
                        </a:lnTo>
                        <a:lnTo>
                          <a:pt x="8" y="2"/>
                        </a:lnTo>
                        <a:lnTo>
                          <a:pt x="11" y="3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10" y="12"/>
                        </a:lnTo>
                        <a:lnTo>
                          <a:pt x="8" y="13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4" y="9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2" y="6"/>
                        </a:lnTo>
                        <a:lnTo>
                          <a:pt x="3" y="3"/>
                        </a:lnTo>
                        <a:lnTo>
                          <a:pt x="4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1" name=""/>
                  <p:cNvGrpSpPr/>
                  <p:nvPr/>
                </p:nvGrpSpPr>
                <p:grpSpPr>
                  <a:xfrm>
                    <a:off x="2170080" y="4221720"/>
                    <a:ext cx="33120" cy="17640"/>
                    <a:chOff x="2170080" y="4221720"/>
                    <a:chExt cx="33120" cy="17640"/>
                  </a:xfrm>
                </p:grpSpPr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2170080" y="4221720"/>
                      <a:ext cx="3312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18" y="0"/>
                          </a:move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9" y="2"/>
                          </a:lnTo>
                          <a:lnTo>
                            <a:pt x="4" y="0"/>
                          </a:lnTo>
                          <a:lnTo>
                            <a:pt x="4" y="3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0" y="10"/>
                          </a:lnTo>
                          <a:lnTo>
                            <a:pt x="10" y="10"/>
                          </a:lnTo>
                          <a:lnTo>
                            <a:pt x="21" y="9"/>
                          </a:lnTo>
                          <a:lnTo>
                            <a:pt x="21" y="8"/>
                          </a:lnTo>
                          <a:lnTo>
                            <a:pt x="19" y="5"/>
                          </a:lnTo>
                          <a:lnTo>
                            <a:pt x="19" y="2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2170080" y="4221720"/>
                      <a:ext cx="3312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18" y="0"/>
                          </a:move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9" y="2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3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0" y="10"/>
                          </a:lnTo>
                          <a:lnTo>
                            <a:pt x="10" y="10"/>
                          </a:lnTo>
                          <a:lnTo>
                            <a:pt x="21" y="9"/>
                          </a:lnTo>
                          <a:lnTo>
                            <a:pt x="21" y="9"/>
                          </a:lnTo>
                          <a:lnTo>
                            <a:pt x="21" y="8"/>
                          </a:lnTo>
                          <a:lnTo>
                            <a:pt x="19" y="5"/>
                          </a:lnTo>
                          <a:lnTo>
                            <a:pt x="19" y="2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4" name=""/>
                  <p:cNvSpPr/>
                  <p:nvPr/>
                </p:nvSpPr>
                <p:spPr>
                  <a:xfrm>
                    <a:off x="2172960" y="4221720"/>
                    <a:ext cx="241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157120" y="4227120"/>
                    <a:ext cx="460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2"/>
                        </a:lnTo>
                        <a:lnTo>
                          <a:pt x="6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6" y="5"/>
                        </a:lnTo>
                        <a:lnTo>
                          <a:pt x="27" y="5"/>
                        </a:lnTo>
                        <a:lnTo>
                          <a:pt x="29" y="7"/>
                        </a:lnTo>
                        <a:lnTo>
                          <a:pt x="23" y="7"/>
                        </a:lnTo>
                        <a:lnTo>
                          <a:pt x="17" y="8"/>
                        </a:lnTo>
                        <a:lnTo>
                          <a:pt x="11" y="8"/>
                        </a:lnTo>
                        <a:lnTo>
                          <a:pt x="7" y="7"/>
                        </a:lnTo>
                        <a:lnTo>
                          <a:pt x="4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6" name=""/>
                  <p:cNvGrpSpPr/>
                  <p:nvPr/>
                </p:nvGrpSpPr>
                <p:grpSpPr>
                  <a:xfrm>
                    <a:off x="2125440" y="4216320"/>
                    <a:ext cx="38160" cy="23040"/>
                    <a:chOff x="2125440" y="4216320"/>
                    <a:chExt cx="38160" cy="23040"/>
                  </a:xfrm>
                </p:grpSpPr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2125440" y="421632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2125440" y="421632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9" name=""/>
                  <p:cNvSpPr/>
                  <p:nvPr/>
                </p:nvSpPr>
                <p:spPr>
                  <a:xfrm>
                    <a:off x="2125440" y="421812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4" y="0"/>
                        </a:moveTo>
                        <a:lnTo>
                          <a:pt x="6" y="0"/>
                        </a:lnTo>
                        <a:lnTo>
                          <a:pt x="8" y="2"/>
                        </a:lnTo>
                        <a:lnTo>
                          <a:pt x="10" y="4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8" y="12"/>
                        </a:lnTo>
                        <a:lnTo>
                          <a:pt x="8" y="13"/>
                        </a:lnTo>
                        <a:lnTo>
                          <a:pt x="6" y="11"/>
                        </a:lnTo>
                        <a:lnTo>
                          <a:pt x="4" y="11"/>
                        </a:lnTo>
                        <a:lnTo>
                          <a:pt x="3" y="10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2138040" y="4225320"/>
                    <a:ext cx="30240" cy="15840"/>
                    <a:chOff x="2138040" y="4225320"/>
                    <a:chExt cx="30240" cy="1584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2138040" y="4225320"/>
                      <a:ext cx="30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9">
                          <a:moveTo>
                            <a:pt x="16" y="0"/>
                          </a:moveTo>
                          <a:lnTo>
                            <a:pt x="15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9" y="4"/>
                          </a:lnTo>
                          <a:lnTo>
                            <a:pt x="18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2138040" y="4225320"/>
                      <a:ext cx="30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9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9" y="4"/>
                          </a:lnTo>
                          <a:lnTo>
                            <a:pt x="18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3" name=""/>
                  <p:cNvSpPr/>
                  <p:nvPr/>
                </p:nvSpPr>
                <p:spPr>
                  <a:xfrm>
                    <a:off x="2138040" y="4225320"/>
                    <a:ext cx="255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2124000" y="4229280"/>
                    <a:ext cx="44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4" y="2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5" y="5"/>
                        </a:lnTo>
                        <a:lnTo>
                          <a:pt x="20" y="5"/>
                        </a:lnTo>
                        <a:lnTo>
                          <a:pt x="25" y="5"/>
                        </a:lnTo>
                        <a:lnTo>
                          <a:pt x="28" y="5"/>
                        </a:lnTo>
                        <a:lnTo>
                          <a:pt x="28" y="7"/>
                        </a:lnTo>
                        <a:lnTo>
                          <a:pt x="24" y="7"/>
                        </a:lnTo>
                        <a:lnTo>
                          <a:pt x="17" y="8"/>
                        </a:lnTo>
                        <a:lnTo>
                          <a:pt x="11" y="8"/>
                        </a:lnTo>
                        <a:lnTo>
                          <a:pt x="8" y="7"/>
                        </a:lnTo>
                        <a:lnTo>
                          <a:pt x="5" y="5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2092320" y="4218120"/>
                    <a:ext cx="37800" cy="23400"/>
                    <a:chOff x="2092320" y="4218120"/>
                    <a:chExt cx="37800" cy="234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2092320" y="4218120"/>
                      <a:ext cx="378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2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9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2092320" y="4218120"/>
                      <a:ext cx="378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2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9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8" name=""/>
                  <p:cNvSpPr/>
                  <p:nvPr/>
                </p:nvSpPr>
                <p:spPr>
                  <a:xfrm>
                    <a:off x="2092320" y="4220280"/>
                    <a:ext cx="187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5" y="0"/>
                        </a:moveTo>
                        <a:lnTo>
                          <a:pt x="5" y="0"/>
                        </a:lnTo>
                        <a:lnTo>
                          <a:pt x="8" y="1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5" y="11"/>
                        </a:lnTo>
                        <a:lnTo>
                          <a:pt x="4" y="11"/>
                        </a:lnTo>
                        <a:lnTo>
                          <a:pt x="2" y="10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2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9" name=""/>
                  <p:cNvGrpSpPr/>
                  <p:nvPr/>
                </p:nvGrpSpPr>
                <p:grpSpPr>
                  <a:xfrm>
                    <a:off x="2104920" y="4225320"/>
                    <a:ext cx="31680" cy="17640"/>
                    <a:chOff x="2104920" y="4225320"/>
                    <a:chExt cx="31680" cy="17640"/>
                  </a:xfrm>
                </p:grpSpPr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2104920" y="422532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4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4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2104920" y="422532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4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4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2" name=""/>
                  <p:cNvSpPr/>
                  <p:nvPr/>
                </p:nvSpPr>
                <p:spPr>
                  <a:xfrm>
                    <a:off x="2104920" y="4225320"/>
                    <a:ext cx="252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2092320" y="4230720"/>
                    <a:ext cx="44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3"/>
                        </a:lnTo>
                        <a:lnTo>
                          <a:pt x="5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13" y="5"/>
                        </a:lnTo>
                        <a:lnTo>
                          <a:pt x="18" y="5"/>
                        </a:lnTo>
                        <a:lnTo>
                          <a:pt x="24" y="5"/>
                        </a:lnTo>
                        <a:lnTo>
                          <a:pt x="27" y="5"/>
                        </a:lnTo>
                        <a:lnTo>
                          <a:pt x="28" y="6"/>
                        </a:lnTo>
                        <a:lnTo>
                          <a:pt x="22" y="7"/>
                        </a:lnTo>
                        <a:lnTo>
                          <a:pt x="16" y="7"/>
                        </a:lnTo>
                        <a:lnTo>
                          <a:pt x="10" y="7"/>
                        </a:lnTo>
                        <a:lnTo>
                          <a:pt x="6" y="7"/>
                        </a:lnTo>
                        <a:lnTo>
                          <a:pt x="4" y="5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4" name=""/>
                  <p:cNvGrpSpPr/>
                  <p:nvPr/>
                </p:nvGrpSpPr>
                <p:grpSpPr>
                  <a:xfrm>
                    <a:off x="2057400" y="4220280"/>
                    <a:ext cx="37800" cy="23040"/>
                    <a:chOff x="2057400" y="4220280"/>
                    <a:chExt cx="37800" cy="23040"/>
                  </a:xfrm>
                </p:grpSpPr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2057400" y="4220280"/>
                      <a:ext cx="37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2057400" y="4220280"/>
                      <a:ext cx="37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7" name=""/>
                  <p:cNvSpPr/>
                  <p:nvPr/>
                </p:nvSpPr>
                <p:spPr>
                  <a:xfrm>
                    <a:off x="2057400" y="4221720"/>
                    <a:ext cx="187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5" y="0"/>
                        </a:moveTo>
                        <a:lnTo>
                          <a:pt x="5" y="0"/>
                        </a:ln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2" y="4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4" y="10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8" name=""/>
                  <p:cNvGrpSpPr/>
                  <p:nvPr/>
                </p:nvGrpSpPr>
                <p:grpSpPr>
                  <a:xfrm>
                    <a:off x="2070000" y="4227120"/>
                    <a:ext cx="31680" cy="19800"/>
                    <a:chOff x="2070000" y="4227120"/>
                    <a:chExt cx="31680" cy="19800"/>
                  </a:xfrm>
                </p:grpSpPr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2070000" y="422712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5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10" y="9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2070000" y="422712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10" y="9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1" name=""/>
                  <p:cNvSpPr/>
                  <p:nvPr/>
                </p:nvSpPr>
                <p:spPr>
                  <a:xfrm>
                    <a:off x="2071440" y="4227120"/>
                    <a:ext cx="23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4" y="1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2057400" y="4232880"/>
                    <a:ext cx="44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3"/>
                        </a:lnTo>
                        <a:lnTo>
                          <a:pt x="5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4" y="5"/>
                        </a:lnTo>
                        <a:lnTo>
                          <a:pt x="27" y="5"/>
                        </a:lnTo>
                        <a:lnTo>
                          <a:pt x="28" y="6"/>
                        </a:lnTo>
                        <a:lnTo>
                          <a:pt x="23" y="8"/>
                        </a:lnTo>
                        <a:lnTo>
                          <a:pt x="16" y="8"/>
                        </a:lnTo>
                        <a:lnTo>
                          <a:pt x="11" y="9"/>
                        </a:lnTo>
                        <a:lnTo>
                          <a:pt x="7" y="8"/>
                        </a:lnTo>
                        <a:lnTo>
                          <a:pt x="4" y="5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2022480" y="4221720"/>
                    <a:ext cx="41040" cy="21240"/>
                    <a:chOff x="2022480" y="4221720"/>
                    <a:chExt cx="41040" cy="2124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2022480" y="4221720"/>
                      <a:ext cx="41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2">
                          <a:moveTo>
                            <a:pt x="26" y="4"/>
                          </a:move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0"/>
                          </a:lnTo>
                          <a:lnTo>
                            <a:pt x="10" y="0"/>
                          </a:lnTo>
                          <a:lnTo>
                            <a:pt x="6" y="0"/>
                          </a:ln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2" y="5"/>
                          </a:lnTo>
                          <a:lnTo>
                            <a:pt x="0" y="8"/>
                          </a:lnTo>
                          <a:lnTo>
                            <a:pt x="2" y="9"/>
                          </a:lnTo>
                          <a:lnTo>
                            <a:pt x="3" y="11"/>
                          </a:lnTo>
                          <a:lnTo>
                            <a:pt x="5" y="12"/>
                          </a:lnTo>
                          <a:lnTo>
                            <a:pt x="6" y="12"/>
                          </a:lnTo>
                          <a:lnTo>
                            <a:pt x="11" y="12"/>
                          </a:lnTo>
                          <a:lnTo>
                            <a:pt x="26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2022480" y="4221720"/>
                      <a:ext cx="41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2">
                          <a:moveTo>
                            <a:pt x="26" y="4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0"/>
                          </a:lnTo>
                          <a:lnTo>
                            <a:pt x="10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2" y="5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2" y="9"/>
                          </a:lnTo>
                          <a:lnTo>
                            <a:pt x="3" y="11"/>
                          </a:lnTo>
                          <a:lnTo>
                            <a:pt x="5" y="12"/>
                          </a:lnTo>
                          <a:lnTo>
                            <a:pt x="6" y="12"/>
                          </a:lnTo>
                          <a:lnTo>
                            <a:pt x="11" y="12"/>
                          </a:lnTo>
                          <a:lnTo>
                            <a:pt x="26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6" name=""/>
                  <p:cNvSpPr/>
                  <p:nvPr/>
                </p:nvSpPr>
                <p:spPr>
                  <a:xfrm>
                    <a:off x="2025360" y="4225320"/>
                    <a:ext cx="19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4" y="0"/>
                        </a:moveTo>
                        <a:lnTo>
                          <a:pt x="5" y="0"/>
                        </a:lnTo>
                        <a:lnTo>
                          <a:pt x="7" y="1"/>
                        </a:lnTo>
                        <a:lnTo>
                          <a:pt x="9" y="3"/>
                        </a:lnTo>
                        <a:lnTo>
                          <a:pt x="12" y="3"/>
                        </a:lnTo>
                        <a:lnTo>
                          <a:pt x="11" y="6"/>
                        </a:lnTo>
                        <a:lnTo>
                          <a:pt x="9" y="8"/>
                        </a:lnTo>
                        <a:lnTo>
                          <a:pt x="8" y="12"/>
                        </a:lnTo>
                        <a:lnTo>
                          <a:pt x="7" y="13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3" y="9"/>
                        </a:ln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7" name=""/>
                  <p:cNvGrpSpPr/>
                  <p:nvPr/>
                </p:nvGrpSpPr>
                <p:grpSpPr>
                  <a:xfrm>
                    <a:off x="2036520" y="4229280"/>
                    <a:ext cx="31680" cy="19080"/>
                    <a:chOff x="2036520" y="4229280"/>
                    <a:chExt cx="31680" cy="19080"/>
                  </a:xfrm>
                </p:grpSpPr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2036520" y="4229280"/>
                      <a:ext cx="31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7" y="0"/>
                          </a:moveTo>
                          <a:lnTo>
                            <a:pt x="16" y="1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6"/>
                          </a:lnTo>
                          <a:lnTo>
                            <a:pt x="1" y="8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2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2036520" y="4229280"/>
                      <a:ext cx="31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6" y="1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6"/>
                          </a:lnTo>
                          <a:lnTo>
                            <a:pt x="1" y="8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2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0" name=""/>
                  <p:cNvSpPr/>
                  <p:nvPr/>
                </p:nvSpPr>
                <p:spPr>
                  <a:xfrm>
                    <a:off x="2038320" y="4229280"/>
                    <a:ext cx="23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2022480" y="4236480"/>
                    <a:ext cx="457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4" y="4"/>
                        </a:lnTo>
                        <a:lnTo>
                          <a:pt x="21" y="4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6"/>
                        </a:lnTo>
                        <a:lnTo>
                          <a:pt x="23" y="7"/>
                        </a:lnTo>
                        <a:lnTo>
                          <a:pt x="17" y="7"/>
                        </a:lnTo>
                        <a:lnTo>
                          <a:pt x="11" y="7"/>
                        </a:lnTo>
                        <a:lnTo>
                          <a:pt x="7" y="7"/>
                        </a:lnTo>
                        <a:lnTo>
                          <a:pt x="6" y="4"/>
                        </a:lnTo>
                        <a:lnTo>
                          <a:pt x="3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2" name=""/>
                  <p:cNvGrpSpPr/>
                  <p:nvPr/>
                </p:nvGrpSpPr>
                <p:grpSpPr>
                  <a:xfrm>
                    <a:off x="1989000" y="4225320"/>
                    <a:ext cx="41400" cy="23040"/>
                    <a:chOff x="1989000" y="4225320"/>
                    <a:chExt cx="41400" cy="23040"/>
                  </a:xfrm>
                </p:grpSpPr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1989000" y="422532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3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1" y="8"/>
                          </a:lnTo>
                          <a:lnTo>
                            <a:pt x="3" y="10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2"/>
                          </a:lnTo>
                          <a:lnTo>
                            <a:pt x="26" y="3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1989000" y="422532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3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1" y="8"/>
                          </a:lnTo>
                          <a:lnTo>
                            <a:pt x="3" y="10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2"/>
                          </a:lnTo>
                          <a:lnTo>
                            <a:pt x="26" y="3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5" name=""/>
                  <p:cNvSpPr/>
                  <p:nvPr/>
                </p:nvSpPr>
                <p:spPr>
                  <a:xfrm>
                    <a:off x="1989000" y="4225320"/>
                    <a:ext cx="19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5" y="0"/>
                        </a:moveTo>
                        <a:lnTo>
                          <a:pt x="5" y="1"/>
                        </a:ln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2" y="4"/>
                        </a:lnTo>
                        <a:lnTo>
                          <a:pt x="12" y="7"/>
                        </a:lnTo>
                        <a:lnTo>
                          <a:pt x="11" y="9"/>
                        </a:lnTo>
                        <a:lnTo>
                          <a:pt x="9" y="13"/>
                        </a:lnTo>
                        <a:lnTo>
                          <a:pt x="8" y="14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3" y="4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2001600" y="4230720"/>
                    <a:ext cx="31680" cy="19800"/>
                    <a:chOff x="2001600" y="4230720"/>
                    <a:chExt cx="31680" cy="1980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2001600" y="423072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8" y="0"/>
                          </a:move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3" y="6"/>
                          </a:ln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3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2001600" y="423072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8" y="0"/>
                          </a:moveTo>
                          <a:lnTo>
                            <a:pt x="18" y="0"/>
                          </a:ln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3" y="6"/>
                          </a:ln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3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9" name=""/>
                  <p:cNvSpPr/>
                  <p:nvPr/>
                </p:nvSpPr>
                <p:spPr>
                  <a:xfrm>
                    <a:off x="2003400" y="4230720"/>
                    <a:ext cx="23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1989000" y="4238280"/>
                    <a:ext cx="44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11" y="5"/>
                        </a:lnTo>
                        <a:lnTo>
                          <a:pt x="13" y="5"/>
                        </a:lnTo>
                        <a:lnTo>
                          <a:pt x="20" y="5"/>
                        </a:lnTo>
                        <a:lnTo>
                          <a:pt x="26" y="5"/>
                        </a:lnTo>
                        <a:lnTo>
                          <a:pt x="27" y="5"/>
                        </a:lnTo>
                        <a:lnTo>
                          <a:pt x="28" y="6"/>
                        </a:lnTo>
                        <a:lnTo>
                          <a:pt x="23" y="7"/>
                        </a:lnTo>
                        <a:lnTo>
                          <a:pt x="16" y="7"/>
                        </a:lnTo>
                        <a:lnTo>
                          <a:pt x="11" y="7"/>
                        </a:lnTo>
                        <a:lnTo>
                          <a:pt x="7" y="7"/>
                        </a:lnTo>
                        <a:lnTo>
                          <a:pt x="4" y="5"/>
                        </a:lnTo>
                        <a:lnTo>
                          <a:pt x="3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1" name=""/>
                <p:cNvGrpSpPr/>
                <p:nvPr/>
              </p:nvGrpSpPr>
              <p:grpSpPr>
                <a:xfrm>
                  <a:off x="2354040" y="4220640"/>
                  <a:ext cx="38160" cy="23040"/>
                  <a:chOff x="2354040" y="4220640"/>
                  <a:chExt cx="38160" cy="23040"/>
                </a:xfrm>
              </p:grpSpPr>
              <p:sp>
                <p:nvSpPr>
                  <p:cNvPr id="1912" name=""/>
                  <p:cNvSpPr/>
                  <p:nvPr/>
                </p:nvSpPr>
                <p:spPr>
                  <a:xfrm>
                    <a:off x="2354040" y="422064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2354040" y="422064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4" name=""/>
                <p:cNvSpPr/>
                <p:nvPr/>
              </p:nvSpPr>
              <p:spPr>
                <a:xfrm>
                  <a:off x="2354040" y="4222080"/>
                  <a:ext cx="19080" cy="255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5" name=""/>
                <p:cNvGrpSpPr/>
                <p:nvPr/>
              </p:nvGrpSpPr>
              <p:grpSpPr>
                <a:xfrm>
                  <a:off x="2366640" y="4229640"/>
                  <a:ext cx="33480" cy="17640"/>
                  <a:chOff x="2366640" y="4229640"/>
                  <a:chExt cx="33480" cy="17640"/>
                </a:xfrm>
              </p:grpSpPr>
              <p:sp>
                <p:nvSpPr>
                  <p:cNvPr id="1916" name=""/>
                  <p:cNvSpPr/>
                  <p:nvPr/>
                </p:nvSpPr>
                <p:spPr>
                  <a:xfrm>
                    <a:off x="2366640" y="4229640"/>
                    <a:ext cx="33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19" y="5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366640" y="4229640"/>
                    <a:ext cx="33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19" y="5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8" name=""/>
                <p:cNvSpPr/>
                <p:nvPr/>
              </p:nvSpPr>
              <p:spPr>
                <a:xfrm>
                  <a:off x="2369880" y="422964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2354040" y="42332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9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6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9" y="5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8"/>
                      </a:lnTo>
                      <a:lnTo>
                        <a:pt x="23" y="8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7" y="8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0" name=""/>
                <p:cNvGrpSpPr/>
                <p:nvPr/>
              </p:nvGrpSpPr>
              <p:grpSpPr>
                <a:xfrm>
                  <a:off x="2016000" y="4222080"/>
                  <a:ext cx="347760" cy="46800"/>
                  <a:chOff x="2016000" y="4222080"/>
                  <a:chExt cx="347760" cy="46800"/>
                </a:xfrm>
              </p:grpSpPr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2320920" y="4222080"/>
                    <a:ext cx="37800" cy="25200"/>
                    <a:chOff x="2320920" y="4222080"/>
                    <a:chExt cx="37800" cy="2520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2320920" y="4222080"/>
                      <a:ext cx="378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2"/>
                          </a:lnTo>
                          <a:lnTo>
                            <a:pt x="2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4"/>
                          </a:lnTo>
                          <a:lnTo>
                            <a:pt x="9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2320920" y="4222080"/>
                      <a:ext cx="378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2"/>
                          </a:lnTo>
                          <a:lnTo>
                            <a:pt x="2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1" y="11"/>
                          </a:lnTo>
                          <a:lnTo>
                            <a:pt x="4" y="12"/>
                          </a:lnTo>
                          <a:lnTo>
                            <a:pt x="4" y="14"/>
                          </a:lnTo>
                          <a:lnTo>
                            <a:pt x="9" y="12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4" name=""/>
                  <p:cNvSpPr/>
                  <p:nvPr/>
                </p:nvSpPr>
                <p:spPr>
                  <a:xfrm>
                    <a:off x="2320920" y="4225680"/>
                    <a:ext cx="187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4" y="0"/>
                        </a:moveTo>
                        <a:lnTo>
                          <a:pt x="5" y="0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10" y="8"/>
                        </a:lnTo>
                        <a:lnTo>
                          <a:pt x="8" y="12"/>
                        </a:lnTo>
                        <a:lnTo>
                          <a:pt x="8" y="13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2" y="9"/>
                        </a:ln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2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2333520" y="4229280"/>
                    <a:ext cx="30240" cy="19440"/>
                    <a:chOff x="2333520" y="4229280"/>
                    <a:chExt cx="30240" cy="1944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>
                      <a:off x="2333520" y="4229280"/>
                      <a:ext cx="302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1">
                          <a:moveTo>
                            <a:pt x="16" y="0"/>
                          </a:moveTo>
                          <a:lnTo>
                            <a:pt x="15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>
                      <a:off x="2333520" y="4229280"/>
                      <a:ext cx="302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8" name=""/>
                  <p:cNvSpPr/>
                  <p:nvPr/>
                </p:nvSpPr>
                <p:spPr>
                  <a:xfrm>
                    <a:off x="2333520" y="4231080"/>
                    <a:ext cx="252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2317680" y="4236840"/>
                    <a:ext cx="4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">
                        <a:moveTo>
                          <a:pt x="2" y="0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5" y="4"/>
                        </a:lnTo>
                        <a:lnTo>
                          <a:pt x="21" y="4"/>
                        </a:lnTo>
                        <a:lnTo>
                          <a:pt x="26" y="4"/>
                        </a:lnTo>
                        <a:lnTo>
                          <a:pt x="29" y="4"/>
                        </a:lnTo>
                        <a:lnTo>
                          <a:pt x="29" y="7"/>
                        </a:lnTo>
                        <a:lnTo>
                          <a:pt x="25" y="7"/>
                        </a:lnTo>
                        <a:lnTo>
                          <a:pt x="18" y="7"/>
                        </a:lnTo>
                        <a:lnTo>
                          <a:pt x="11" y="8"/>
                        </a:lnTo>
                        <a:lnTo>
                          <a:pt x="8" y="7"/>
                        </a:lnTo>
                        <a:lnTo>
                          <a:pt x="6" y="4"/>
                        </a:lnTo>
                        <a:lnTo>
                          <a:pt x="3" y="2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0" name=""/>
                  <p:cNvGrpSpPr/>
                  <p:nvPr/>
                </p:nvGrpSpPr>
                <p:grpSpPr>
                  <a:xfrm>
                    <a:off x="2284200" y="4222080"/>
                    <a:ext cx="38160" cy="25200"/>
                    <a:chOff x="2284200" y="4222080"/>
                    <a:chExt cx="38160" cy="25200"/>
                  </a:xfrm>
                </p:grpSpPr>
                <p:sp>
                  <p:nvSpPr>
                    <p:cNvPr id="1931" name=""/>
                    <p:cNvSpPr/>
                    <p:nvPr/>
                  </p:nvSpPr>
                  <p:spPr>
                    <a:xfrm>
                      <a:off x="2284200" y="4222080"/>
                      <a:ext cx="38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5"/>
                          </a:moveTo>
                          <a:lnTo>
                            <a:pt x="17" y="0"/>
                          </a:lnTo>
                          <a:lnTo>
                            <a:pt x="16" y="2"/>
                          </a:lnTo>
                          <a:lnTo>
                            <a:pt x="13" y="2"/>
                          </a:lnTo>
                          <a:lnTo>
                            <a:pt x="8" y="2"/>
                          </a:lnTo>
                          <a:lnTo>
                            <a:pt x="5" y="2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2" y="12"/>
                          </a:lnTo>
                          <a:lnTo>
                            <a:pt x="4" y="14"/>
                          </a:lnTo>
                          <a:lnTo>
                            <a:pt x="5" y="14"/>
                          </a:lnTo>
                          <a:lnTo>
                            <a:pt x="11" y="14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>
                      <a:off x="2284200" y="4222080"/>
                      <a:ext cx="38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5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2"/>
                          </a:lnTo>
                          <a:lnTo>
                            <a:pt x="13" y="2"/>
                          </a:lnTo>
                          <a:lnTo>
                            <a:pt x="8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2" y="12"/>
                          </a:lnTo>
                          <a:lnTo>
                            <a:pt x="4" y="14"/>
                          </a:lnTo>
                          <a:lnTo>
                            <a:pt x="5" y="14"/>
                          </a:lnTo>
                          <a:lnTo>
                            <a:pt x="11" y="14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3" name=""/>
                  <p:cNvSpPr/>
                  <p:nvPr/>
                </p:nvSpPr>
                <p:spPr>
                  <a:xfrm>
                    <a:off x="2284200" y="4225680"/>
                    <a:ext cx="190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5" y="0"/>
                        </a:moveTo>
                        <a:lnTo>
                          <a:pt x="5" y="1"/>
                        </a:lnTo>
                        <a:lnTo>
                          <a:pt x="8" y="2"/>
                        </a:lnTo>
                        <a:lnTo>
                          <a:pt x="11" y="3"/>
                        </a:lnTo>
                        <a:lnTo>
                          <a:pt x="12" y="4"/>
                        </a:lnTo>
                        <a:lnTo>
                          <a:pt x="12" y="7"/>
                        </a:lnTo>
                        <a:lnTo>
                          <a:pt x="11" y="9"/>
                        </a:lnTo>
                        <a:lnTo>
                          <a:pt x="9" y="13"/>
                        </a:lnTo>
                        <a:lnTo>
                          <a:pt x="8" y="14"/>
                        </a:lnTo>
                        <a:lnTo>
                          <a:pt x="5" y="12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2" y="4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4" name=""/>
                  <p:cNvGrpSpPr/>
                  <p:nvPr/>
                </p:nvGrpSpPr>
                <p:grpSpPr>
                  <a:xfrm>
                    <a:off x="2296800" y="4231080"/>
                    <a:ext cx="32040" cy="19800"/>
                    <a:chOff x="2296800" y="4231080"/>
                    <a:chExt cx="32040" cy="19800"/>
                  </a:xfrm>
                </p:grpSpPr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2296800" y="4231080"/>
                      <a:ext cx="320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3" y="6"/>
                          </a:ln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3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2296800" y="4231080"/>
                      <a:ext cx="320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3" y="6"/>
                          </a:ln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3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7" name=""/>
                  <p:cNvSpPr/>
                  <p:nvPr/>
                </p:nvSpPr>
                <p:spPr>
                  <a:xfrm>
                    <a:off x="2298600" y="4231080"/>
                    <a:ext cx="23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284200" y="4238280"/>
                    <a:ext cx="44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11" y="5"/>
                        </a:lnTo>
                        <a:lnTo>
                          <a:pt x="13" y="5"/>
                        </a:lnTo>
                        <a:lnTo>
                          <a:pt x="19" y="5"/>
                        </a:lnTo>
                        <a:lnTo>
                          <a:pt x="25" y="3"/>
                        </a:lnTo>
                        <a:lnTo>
                          <a:pt x="27" y="3"/>
                        </a:lnTo>
                        <a:lnTo>
                          <a:pt x="28" y="6"/>
                        </a:lnTo>
                        <a:lnTo>
                          <a:pt x="23" y="7"/>
                        </a:lnTo>
                        <a:lnTo>
                          <a:pt x="16" y="7"/>
                        </a:lnTo>
                        <a:lnTo>
                          <a:pt x="11" y="7"/>
                        </a:lnTo>
                        <a:lnTo>
                          <a:pt x="7" y="7"/>
                        </a:lnTo>
                        <a:lnTo>
                          <a:pt x="4" y="5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2249280" y="4225680"/>
                    <a:ext cx="38160" cy="23040"/>
                    <a:chOff x="2249280" y="4225680"/>
                    <a:chExt cx="38160" cy="2304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2249280" y="422568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8" y="0"/>
                          </a:ln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6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2249280" y="422568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10" y="13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2" name=""/>
                  <p:cNvSpPr/>
                  <p:nvPr/>
                </p:nvSpPr>
                <p:spPr>
                  <a:xfrm>
                    <a:off x="2249280" y="4227120"/>
                    <a:ext cx="190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8" y="2"/>
                        </a:lnTo>
                        <a:lnTo>
                          <a:pt x="10" y="3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1" y="9"/>
                        </a:lnTo>
                        <a:lnTo>
                          <a:pt x="8" y="13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4" y="12"/>
                        </a:lnTo>
                        <a:lnTo>
                          <a:pt x="3" y="11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2" y="5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3" name=""/>
                  <p:cNvGrpSpPr/>
                  <p:nvPr/>
                </p:nvGrpSpPr>
                <p:grpSpPr>
                  <a:xfrm>
                    <a:off x="2261880" y="4232880"/>
                    <a:ext cx="30240" cy="19440"/>
                    <a:chOff x="2261880" y="4232880"/>
                    <a:chExt cx="30240" cy="19440"/>
                  </a:xfrm>
                </p:grpSpPr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2261880" y="4232880"/>
                      <a:ext cx="302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1">
                          <a:moveTo>
                            <a:pt x="16" y="0"/>
                          </a:moveTo>
                          <a:lnTo>
                            <a:pt x="15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19" y="9"/>
                          </a:lnTo>
                          <a:lnTo>
                            <a:pt x="19" y="8"/>
                          </a:lnTo>
                          <a:lnTo>
                            <a:pt x="19" y="5"/>
                          </a:lnTo>
                          <a:lnTo>
                            <a:pt x="18" y="3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2261880" y="4232880"/>
                      <a:ext cx="302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19" y="9"/>
                          </a:lnTo>
                          <a:lnTo>
                            <a:pt x="19" y="9"/>
                          </a:lnTo>
                          <a:lnTo>
                            <a:pt x="19" y="8"/>
                          </a:lnTo>
                          <a:lnTo>
                            <a:pt x="19" y="5"/>
                          </a:lnTo>
                          <a:lnTo>
                            <a:pt x="18" y="3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6" name=""/>
                  <p:cNvSpPr/>
                  <p:nvPr/>
                </p:nvSpPr>
                <p:spPr>
                  <a:xfrm>
                    <a:off x="2261880" y="4232880"/>
                    <a:ext cx="25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2249280" y="4240080"/>
                    <a:ext cx="42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6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10" y="5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4" y="5"/>
                        </a:lnTo>
                        <a:lnTo>
                          <a:pt x="27" y="4"/>
                        </a:lnTo>
                        <a:lnTo>
                          <a:pt x="27" y="6"/>
                        </a:lnTo>
                        <a:lnTo>
                          <a:pt x="23" y="7"/>
                        </a:lnTo>
                        <a:lnTo>
                          <a:pt x="16" y="7"/>
                        </a:lnTo>
                        <a:lnTo>
                          <a:pt x="10" y="7"/>
                        </a:lnTo>
                        <a:lnTo>
                          <a:pt x="7" y="7"/>
                        </a:lnTo>
                        <a:lnTo>
                          <a:pt x="4" y="5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8" name=""/>
                  <p:cNvGrpSpPr/>
                  <p:nvPr/>
                </p:nvGrpSpPr>
                <p:grpSpPr>
                  <a:xfrm>
                    <a:off x="2217600" y="4227120"/>
                    <a:ext cx="38160" cy="23400"/>
                    <a:chOff x="2217600" y="4227120"/>
                    <a:chExt cx="38160" cy="23400"/>
                  </a:xfrm>
                </p:grpSpPr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2217600" y="4227120"/>
                      <a:ext cx="381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6" y="0"/>
                          </a:lnTo>
                          <a:lnTo>
                            <a:pt x="15" y="1"/>
                          </a:lnTo>
                          <a:lnTo>
                            <a:pt x="14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1" y="9"/>
                          </a:lnTo>
                          <a:lnTo>
                            <a:pt x="3" y="12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2217600" y="4227120"/>
                      <a:ext cx="381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15" y="1"/>
                          </a:lnTo>
                          <a:lnTo>
                            <a:pt x="14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1" y="9"/>
                          </a:lnTo>
                          <a:lnTo>
                            <a:pt x="3" y="12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1" name=""/>
                  <p:cNvSpPr/>
                  <p:nvPr/>
                </p:nvSpPr>
                <p:spPr>
                  <a:xfrm>
                    <a:off x="2219040" y="4229280"/>
                    <a:ext cx="20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10" y="4"/>
                        </a:lnTo>
                        <a:lnTo>
                          <a:pt x="13" y="5"/>
                        </a:lnTo>
                        <a:lnTo>
                          <a:pt x="13" y="7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2" y="10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2" y="5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2230200" y="4236840"/>
                    <a:ext cx="30240" cy="17640"/>
                    <a:chOff x="2230200" y="4236840"/>
                    <a:chExt cx="30240" cy="1764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2230200" y="4236840"/>
                      <a:ext cx="302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0">
                          <a:moveTo>
                            <a:pt x="16" y="0"/>
                          </a:move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7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8" y="4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2230200" y="4236840"/>
                      <a:ext cx="302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7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8"/>
                          </a:lnTo>
                          <a:lnTo>
                            <a:pt x="0" y="10"/>
                          </a:lnTo>
                          <a:lnTo>
                            <a:pt x="8" y="9"/>
                          </a:lnTo>
                          <a:lnTo>
                            <a:pt x="19" y="8"/>
                          </a:lnTo>
                          <a:lnTo>
                            <a:pt x="19" y="8"/>
                          </a:lnTo>
                          <a:lnTo>
                            <a:pt x="19" y="7"/>
                          </a:lnTo>
                          <a:lnTo>
                            <a:pt x="18" y="4"/>
                          </a:lnTo>
                          <a:lnTo>
                            <a:pt x="18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5" name=""/>
                  <p:cNvSpPr/>
                  <p:nvPr/>
                </p:nvSpPr>
                <p:spPr>
                  <a:xfrm>
                    <a:off x="2232000" y="4236840"/>
                    <a:ext cx="21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2217600" y="4240080"/>
                    <a:ext cx="42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8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4" y="4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19" y="6"/>
                        </a:lnTo>
                        <a:lnTo>
                          <a:pt x="24" y="5"/>
                        </a:lnTo>
                        <a:lnTo>
                          <a:pt x="27" y="5"/>
                        </a:lnTo>
                        <a:lnTo>
                          <a:pt x="27" y="7"/>
                        </a:lnTo>
                        <a:lnTo>
                          <a:pt x="22" y="8"/>
                        </a:lnTo>
                        <a:lnTo>
                          <a:pt x="16" y="8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5" y="6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7" name=""/>
                  <p:cNvGrpSpPr/>
                  <p:nvPr/>
                </p:nvGrpSpPr>
                <p:grpSpPr>
                  <a:xfrm>
                    <a:off x="2185920" y="4229280"/>
                    <a:ext cx="39600" cy="23040"/>
                    <a:chOff x="2185920" y="4229280"/>
                    <a:chExt cx="39600" cy="23040"/>
                  </a:xfrm>
                </p:grpSpPr>
                <p:sp>
                  <p:nvSpPr>
                    <p:cNvPr id="1958" name=""/>
                    <p:cNvSpPr/>
                    <p:nvPr/>
                  </p:nvSpPr>
                  <p:spPr>
                    <a:xfrm>
                      <a:off x="2185920" y="4229280"/>
                      <a:ext cx="39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3">
                          <a:moveTo>
                            <a:pt x="25" y="5"/>
                          </a:moveTo>
                          <a:lnTo>
                            <a:pt x="17" y="0"/>
                          </a:lnTo>
                          <a:lnTo>
                            <a:pt x="16" y="1"/>
                          </a:lnTo>
                          <a:lnTo>
                            <a:pt x="13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3" y="12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>
                      <a:off x="2185920" y="4229280"/>
                      <a:ext cx="39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3">
                          <a:moveTo>
                            <a:pt x="25" y="5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1"/>
                          </a:lnTo>
                          <a:lnTo>
                            <a:pt x="13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3" y="12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5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0" name=""/>
                  <p:cNvSpPr/>
                  <p:nvPr/>
                </p:nvSpPr>
                <p:spPr>
                  <a:xfrm>
                    <a:off x="2187360" y="4231080"/>
                    <a:ext cx="17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7" y="3"/>
                        </a:lnTo>
                        <a:lnTo>
                          <a:pt x="10" y="4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7" y="15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2" y="10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1" name=""/>
                  <p:cNvGrpSpPr/>
                  <p:nvPr/>
                </p:nvGrpSpPr>
                <p:grpSpPr>
                  <a:xfrm>
                    <a:off x="2198520" y="4238280"/>
                    <a:ext cx="31680" cy="19440"/>
                    <a:chOff x="2198520" y="4238280"/>
                    <a:chExt cx="31680" cy="19440"/>
                  </a:xfrm>
                </p:grpSpPr>
                <p:sp>
                  <p:nvSpPr>
                    <p:cNvPr id="1962" name=""/>
                    <p:cNvSpPr/>
                    <p:nvPr/>
                  </p:nvSpPr>
                  <p:spPr>
                    <a:xfrm>
                      <a:off x="2198520" y="4238280"/>
                      <a:ext cx="316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7" y="0"/>
                          </a:move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6"/>
                          </a:lnTo>
                          <a:lnTo>
                            <a:pt x="1" y="8"/>
                          </a:lnTo>
                          <a:lnTo>
                            <a:pt x="0" y="11"/>
                          </a:lnTo>
                          <a:lnTo>
                            <a:pt x="9" y="9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2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>
                      <a:off x="2198520" y="4238280"/>
                      <a:ext cx="316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6"/>
                          </a:lnTo>
                          <a:lnTo>
                            <a:pt x="1" y="8"/>
                          </a:lnTo>
                          <a:lnTo>
                            <a:pt x="0" y="11"/>
                          </a:lnTo>
                          <a:lnTo>
                            <a:pt x="9" y="9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9" y="2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4" name=""/>
                  <p:cNvSpPr/>
                  <p:nvPr/>
                </p:nvSpPr>
                <p:spPr>
                  <a:xfrm>
                    <a:off x="2199960" y="4238280"/>
                    <a:ext cx="24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2185920" y="4242240"/>
                    <a:ext cx="44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4" y="4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3" y="6"/>
                        </a:lnTo>
                        <a:lnTo>
                          <a:pt x="20" y="6"/>
                        </a:lnTo>
                        <a:lnTo>
                          <a:pt x="25" y="5"/>
                        </a:lnTo>
                        <a:lnTo>
                          <a:pt x="27" y="5"/>
                        </a:lnTo>
                        <a:lnTo>
                          <a:pt x="28" y="7"/>
                        </a:lnTo>
                        <a:lnTo>
                          <a:pt x="23" y="9"/>
                        </a:lnTo>
                        <a:lnTo>
                          <a:pt x="16" y="9"/>
                        </a:lnTo>
                        <a:lnTo>
                          <a:pt x="11" y="9"/>
                        </a:lnTo>
                        <a:lnTo>
                          <a:pt x="8" y="9"/>
                        </a:lnTo>
                        <a:lnTo>
                          <a:pt x="5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6" name=""/>
                  <p:cNvGrpSpPr/>
                  <p:nvPr/>
                </p:nvGrpSpPr>
                <p:grpSpPr>
                  <a:xfrm>
                    <a:off x="2154240" y="4231080"/>
                    <a:ext cx="37800" cy="23400"/>
                    <a:chOff x="2154240" y="4231080"/>
                    <a:chExt cx="37800" cy="23400"/>
                  </a:xfrm>
                </p:grpSpPr>
                <p:sp>
                  <p:nvSpPr>
                    <p:cNvPr id="1967" name=""/>
                    <p:cNvSpPr/>
                    <p:nvPr/>
                  </p:nvSpPr>
                  <p:spPr>
                    <a:xfrm>
                      <a:off x="2154240" y="4231080"/>
                      <a:ext cx="378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7" y="0"/>
                          </a:ln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1" y="12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9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8" name=""/>
                    <p:cNvSpPr/>
                    <p:nvPr/>
                  </p:nvSpPr>
                  <p:spPr>
                    <a:xfrm>
                      <a:off x="2154240" y="4231080"/>
                      <a:ext cx="378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5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1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1" y="12"/>
                          </a:lnTo>
                          <a:lnTo>
                            <a:pt x="4" y="13"/>
                          </a:lnTo>
                          <a:lnTo>
                            <a:pt x="4" y="13"/>
                          </a:lnTo>
                          <a:lnTo>
                            <a:pt x="9" y="13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9" name=""/>
                  <p:cNvSpPr/>
                  <p:nvPr/>
                </p:nvSpPr>
                <p:spPr>
                  <a:xfrm>
                    <a:off x="2154240" y="4232880"/>
                    <a:ext cx="18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4" y="0"/>
                        </a:move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8" y="14"/>
                        </a:lnTo>
                        <a:lnTo>
                          <a:pt x="8" y="15"/>
                        </a:lnTo>
                        <a:lnTo>
                          <a:pt x="5" y="12"/>
                        </a:lnTo>
                        <a:lnTo>
                          <a:pt x="4" y="11"/>
                        </a:lnTo>
                        <a:lnTo>
                          <a:pt x="2" y="11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0" name=""/>
                  <p:cNvGrpSpPr/>
                  <p:nvPr/>
                </p:nvGrpSpPr>
                <p:grpSpPr>
                  <a:xfrm>
                    <a:off x="2166840" y="4240080"/>
                    <a:ext cx="31680" cy="19800"/>
                    <a:chOff x="2166840" y="4240080"/>
                    <a:chExt cx="31680" cy="19800"/>
                  </a:xfrm>
                </p:grpSpPr>
                <p:sp>
                  <p:nvSpPr>
                    <p:cNvPr id="1971" name=""/>
                    <p:cNvSpPr/>
                    <p:nvPr/>
                  </p:nvSpPr>
                  <p:spPr>
                    <a:xfrm>
                      <a:off x="2166840" y="424008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20" y="8"/>
                          </a:lnTo>
                          <a:lnTo>
                            <a:pt x="19" y="7"/>
                          </a:lnTo>
                          <a:lnTo>
                            <a:pt x="19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"/>
                    <p:cNvSpPr/>
                    <p:nvPr/>
                  </p:nvSpPr>
                  <p:spPr>
                    <a:xfrm>
                      <a:off x="2166840" y="4240080"/>
                      <a:ext cx="316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1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8" y="10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19" y="7"/>
                          </a:lnTo>
                          <a:lnTo>
                            <a:pt x="19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3" name=""/>
                  <p:cNvSpPr/>
                  <p:nvPr/>
                </p:nvSpPr>
                <p:spPr>
                  <a:xfrm>
                    <a:off x="2166840" y="4240080"/>
                    <a:ext cx="252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2154240" y="4243680"/>
                    <a:ext cx="428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2" y="4"/>
                        </a:lnTo>
                        <a:lnTo>
                          <a:pt x="5" y="5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3" y="6"/>
                        </a:lnTo>
                        <a:lnTo>
                          <a:pt x="19" y="6"/>
                        </a:lnTo>
                        <a:lnTo>
                          <a:pt x="24" y="5"/>
                        </a:lnTo>
                        <a:lnTo>
                          <a:pt x="27" y="5"/>
                        </a:lnTo>
                        <a:lnTo>
                          <a:pt x="27" y="8"/>
                        </a:lnTo>
                        <a:lnTo>
                          <a:pt x="23" y="9"/>
                        </a:lnTo>
                        <a:lnTo>
                          <a:pt x="16" y="9"/>
                        </a:lnTo>
                        <a:lnTo>
                          <a:pt x="9" y="9"/>
                        </a:lnTo>
                        <a:lnTo>
                          <a:pt x="6" y="9"/>
                        </a:lnTo>
                        <a:lnTo>
                          <a:pt x="4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5" name=""/>
                  <p:cNvGrpSpPr/>
                  <p:nvPr/>
                </p:nvGrpSpPr>
                <p:grpSpPr>
                  <a:xfrm>
                    <a:off x="2119320" y="4232880"/>
                    <a:ext cx="37800" cy="24480"/>
                    <a:chOff x="2119320" y="4232880"/>
                    <a:chExt cx="37800" cy="24480"/>
                  </a:xfrm>
                </p:grpSpPr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2119320" y="423288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3" y="11"/>
                          </a:lnTo>
                          <a:lnTo>
                            <a:pt x="4" y="14"/>
                          </a:lnTo>
                          <a:lnTo>
                            <a:pt x="5" y="14"/>
                          </a:lnTo>
                          <a:lnTo>
                            <a:pt x="11" y="14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2119320" y="423288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4">
                          <a:moveTo>
                            <a:pt x="24" y="5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3" y="11"/>
                          </a:lnTo>
                          <a:lnTo>
                            <a:pt x="4" y="14"/>
                          </a:lnTo>
                          <a:lnTo>
                            <a:pt x="5" y="14"/>
                          </a:lnTo>
                          <a:lnTo>
                            <a:pt x="11" y="14"/>
                          </a:lnTo>
                          <a:lnTo>
                            <a:pt x="24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8" name=""/>
                  <p:cNvSpPr/>
                  <p:nvPr/>
                </p:nvSpPr>
                <p:spPr>
                  <a:xfrm>
                    <a:off x="2119320" y="4236840"/>
                    <a:ext cx="187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5" y="0"/>
                        </a:moveTo>
                        <a:lnTo>
                          <a:pt x="5" y="1"/>
                        </a:lnTo>
                        <a:lnTo>
                          <a:pt x="8" y="2"/>
                        </a:lnTo>
                        <a:lnTo>
                          <a:pt x="11" y="3"/>
                        </a:lnTo>
                        <a:lnTo>
                          <a:pt x="12" y="4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10" y="12"/>
                        </a:lnTo>
                        <a:lnTo>
                          <a:pt x="8" y="13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9" name=""/>
                  <p:cNvGrpSpPr/>
                  <p:nvPr/>
                </p:nvGrpSpPr>
                <p:grpSpPr>
                  <a:xfrm>
                    <a:off x="2131920" y="4242240"/>
                    <a:ext cx="31680" cy="17640"/>
                    <a:chOff x="2131920" y="4242240"/>
                    <a:chExt cx="31680" cy="17640"/>
                  </a:xfrm>
                </p:grpSpPr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2131920" y="424224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2" y="5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10" y="10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8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2131920" y="424224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2" y="5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10" y="10"/>
                          </a:lnTo>
                          <a:lnTo>
                            <a:pt x="20" y="9"/>
                          </a:lnTo>
                          <a:lnTo>
                            <a:pt x="20" y="9"/>
                          </a:lnTo>
                          <a:lnTo>
                            <a:pt x="20" y="7"/>
                          </a:lnTo>
                          <a:lnTo>
                            <a:pt x="19" y="5"/>
                          </a:lnTo>
                          <a:lnTo>
                            <a:pt x="18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2" name=""/>
                  <p:cNvSpPr/>
                  <p:nvPr/>
                </p:nvSpPr>
                <p:spPr>
                  <a:xfrm>
                    <a:off x="2135160" y="4242240"/>
                    <a:ext cx="21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2119320" y="4247640"/>
                    <a:ext cx="44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4" y="6"/>
                        </a:lnTo>
                        <a:lnTo>
                          <a:pt x="19" y="4"/>
                        </a:lnTo>
                        <a:lnTo>
                          <a:pt x="24" y="4"/>
                        </a:lnTo>
                        <a:lnTo>
                          <a:pt x="27" y="4"/>
                        </a:lnTo>
                        <a:lnTo>
                          <a:pt x="28" y="7"/>
                        </a:lnTo>
                        <a:lnTo>
                          <a:pt x="23" y="7"/>
                        </a:lnTo>
                        <a:lnTo>
                          <a:pt x="16" y="8"/>
                        </a:lnTo>
                        <a:lnTo>
                          <a:pt x="11" y="8"/>
                        </a:lnTo>
                        <a:lnTo>
                          <a:pt x="7" y="7"/>
                        </a:lnTo>
                        <a:lnTo>
                          <a:pt x="4" y="6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4" name=""/>
                  <p:cNvGrpSpPr/>
                  <p:nvPr/>
                </p:nvGrpSpPr>
                <p:grpSpPr>
                  <a:xfrm>
                    <a:off x="2085840" y="4236840"/>
                    <a:ext cx="38160" cy="23040"/>
                    <a:chOff x="2085840" y="4236840"/>
                    <a:chExt cx="38160" cy="23040"/>
                  </a:xfrm>
                </p:grpSpPr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2085840" y="423684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2" y="3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2" y="10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0" y="13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2085840" y="4236840"/>
                      <a:ext cx="38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3">
                          <a:moveTo>
                            <a:pt x="24" y="4"/>
                          </a:moveTo>
                          <a:lnTo>
                            <a:pt x="17" y="0"/>
                          </a:ln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2" y="3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2" y="10"/>
                          </a:lnTo>
                          <a:lnTo>
                            <a:pt x="4" y="13"/>
                          </a:lnTo>
                          <a:lnTo>
                            <a:pt x="5" y="13"/>
                          </a:lnTo>
                          <a:lnTo>
                            <a:pt x="10" y="13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7" name=""/>
                  <p:cNvSpPr/>
                  <p:nvPr/>
                </p:nvSpPr>
                <p:spPr>
                  <a:xfrm>
                    <a:off x="2085840" y="4238280"/>
                    <a:ext cx="19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5" y="0"/>
                        </a:moveTo>
                        <a:lnTo>
                          <a:pt x="5" y="1"/>
                        </a:lnTo>
                        <a:lnTo>
                          <a:pt x="8" y="2"/>
                        </a:lnTo>
                        <a:lnTo>
                          <a:pt x="10" y="3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4" y="9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8" name=""/>
                  <p:cNvGrpSpPr/>
                  <p:nvPr/>
                </p:nvGrpSpPr>
                <p:grpSpPr>
                  <a:xfrm>
                    <a:off x="2098440" y="4243680"/>
                    <a:ext cx="31680" cy="17640"/>
                    <a:chOff x="2098440" y="4243680"/>
                    <a:chExt cx="31680" cy="17640"/>
                  </a:xfrm>
                </p:grpSpPr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2098440" y="424368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4" y="2"/>
                          </a:ln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1" y="9"/>
                          </a:lnTo>
                          <a:lnTo>
                            <a:pt x="0" y="10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8"/>
                          </a:lnTo>
                          <a:lnTo>
                            <a:pt x="18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2098440" y="4243680"/>
                      <a:ext cx="316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0">
                          <a:moveTo>
                            <a:pt x="16" y="0"/>
                          </a:move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1" y="9"/>
                          </a:lnTo>
                          <a:lnTo>
                            <a:pt x="0" y="10"/>
                          </a:lnTo>
                          <a:lnTo>
                            <a:pt x="9" y="10"/>
                          </a:lnTo>
                          <a:lnTo>
                            <a:pt x="20" y="9"/>
                          </a:lnTo>
                          <a:lnTo>
                            <a:pt x="20" y="9"/>
                          </a:lnTo>
                          <a:lnTo>
                            <a:pt x="20" y="8"/>
                          </a:lnTo>
                          <a:lnTo>
                            <a:pt x="18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1" name=""/>
                  <p:cNvSpPr/>
                  <p:nvPr/>
                </p:nvSpPr>
                <p:spPr>
                  <a:xfrm>
                    <a:off x="2100240" y="4243680"/>
                    <a:ext cx="23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2085840" y="4249080"/>
                    <a:ext cx="44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4" y="2"/>
                        </a:lnTo>
                        <a:lnTo>
                          <a:pt x="5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0" y="6"/>
                        </a:lnTo>
                        <a:lnTo>
                          <a:pt x="13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6" y="5"/>
                        </a:lnTo>
                        <a:lnTo>
                          <a:pt x="28" y="7"/>
                        </a:lnTo>
                        <a:lnTo>
                          <a:pt x="22" y="7"/>
                        </a:lnTo>
                        <a:lnTo>
                          <a:pt x="16" y="8"/>
                        </a:lnTo>
                        <a:lnTo>
                          <a:pt x="10" y="8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2050920" y="4238280"/>
                    <a:ext cx="41400" cy="23040"/>
                    <a:chOff x="2050920" y="4238280"/>
                    <a:chExt cx="41400" cy="2304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2050920" y="423828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5"/>
                          </a:moveTo>
                          <a:lnTo>
                            <a:pt x="19" y="0"/>
                          </a:ln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1" y="9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6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2050920" y="4238280"/>
                      <a:ext cx="41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5"/>
                          </a:moveTo>
                          <a:lnTo>
                            <a:pt x="19" y="0"/>
                          </a:lnTo>
                          <a:lnTo>
                            <a:pt x="19" y="0"/>
                          </a:ln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9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1" y="9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11" y="13"/>
                          </a:lnTo>
                          <a:lnTo>
                            <a:pt x="26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6" name=""/>
                  <p:cNvSpPr/>
                  <p:nvPr/>
                </p:nvSpPr>
                <p:spPr>
                  <a:xfrm>
                    <a:off x="2052360" y="424008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10" y="4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7" y="13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3" y="10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7" name=""/>
                  <p:cNvGrpSpPr/>
                  <p:nvPr/>
                </p:nvGrpSpPr>
                <p:grpSpPr>
                  <a:xfrm>
                    <a:off x="2063520" y="4247640"/>
                    <a:ext cx="31680" cy="15840"/>
                    <a:chOff x="2063520" y="4247640"/>
                    <a:chExt cx="31680" cy="15840"/>
                  </a:xfrm>
                </p:grpSpPr>
                <p:sp>
                  <p:nvSpPr>
                    <p:cNvPr id="1998" name=""/>
                    <p:cNvSpPr/>
                    <p:nvPr/>
                  </p:nvSpPr>
                  <p:spPr>
                    <a:xfrm>
                      <a:off x="2063520" y="4247640"/>
                      <a:ext cx="316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18" y="0"/>
                          </a:moveTo>
                          <a:lnTo>
                            <a:pt x="16" y="0"/>
                          </a:lnTo>
                          <a:lnTo>
                            <a:pt x="14" y="1"/>
                          </a:lnTo>
                          <a:lnTo>
                            <a:pt x="10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8"/>
                          </a:lnTo>
                          <a:lnTo>
                            <a:pt x="0" y="9"/>
                          </a:lnTo>
                          <a:lnTo>
                            <a:pt x="10" y="9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20" y="4"/>
                          </a:lnTo>
                          <a:lnTo>
                            <a:pt x="19" y="1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>
                      <a:off x="2063520" y="4247640"/>
                      <a:ext cx="316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18" y="0"/>
                          </a:move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4" y="1"/>
                          </a:lnTo>
                          <a:lnTo>
                            <a:pt x="10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3" y="4"/>
                          </a:lnTo>
                          <a:lnTo>
                            <a:pt x="1" y="8"/>
                          </a:lnTo>
                          <a:lnTo>
                            <a:pt x="0" y="9"/>
                          </a:lnTo>
                          <a:lnTo>
                            <a:pt x="10" y="9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20" y="4"/>
                          </a:lnTo>
                          <a:lnTo>
                            <a:pt x="19" y="1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0" name=""/>
                  <p:cNvSpPr/>
                  <p:nvPr/>
                </p:nvSpPr>
                <p:spPr>
                  <a:xfrm>
                    <a:off x="2065320" y="4247640"/>
                    <a:ext cx="23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2050920" y="4251240"/>
                    <a:ext cx="44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4" y="2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11" y="6"/>
                        </a:lnTo>
                        <a:lnTo>
                          <a:pt x="13" y="6"/>
                        </a:lnTo>
                        <a:lnTo>
                          <a:pt x="20" y="5"/>
                        </a:lnTo>
                        <a:lnTo>
                          <a:pt x="26" y="5"/>
                        </a:lnTo>
                        <a:lnTo>
                          <a:pt x="28" y="5"/>
                        </a:lnTo>
                        <a:lnTo>
                          <a:pt x="28" y="7"/>
                        </a:lnTo>
                        <a:lnTo>
                          <a:pt x="23" y="7"/>
                        </a:lnTo>
                        <a:lnTo>
                          <a:pt x="18" y="8"/>
                        </a:lnTo>
                        <a:lnTo>
                          <a:pt x="11" y="8"/>
                        </a:lnTo>
                        <a:lnTo>
                          <a:pt x="8" y="7"/>
                        </a:lnTo>
                        <a:lnTo>
                          <a:pt x="5" y="6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2" name=""/>
                  <p:cNvGrpSpPr/>
                  <p:nvPr/>
                </p:nvGrpSpPr>
                <p:grpSpPr>
                  <a:xfrm>
                    <a:off x="2016000" y="4240080"/>
                    <a:ext cx="41400" cy="23400"/>
                    <a:chOff x="2016000" y="4240080"/>
                    <a:chExt cx="41400" cy="23400"/>
                  </a:xfrm>
                </p:grpSpPr>
                <p:sp>
                  <p:nvSpPr>
                    <p:cNvPr id="2003" name=""/>
                    <p:cNvSpPr/>
                    <p:nvPr/>
                  </p:nvSpPr>
                  <p:spPr>
                    <a:xfrm>
                      <a:off x="2016000" y="4240080"/>
                      <a:ext cx="414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5"/>
                          </a:move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1"/>
                          </a:lnTo>
                          <a:lnTo>
                            <a:pt x="10" y="1"/>
                          </a:lnTo>
                          <a:lnTo>
                            <a:pt x="6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2" y="6"/>
                          </a:lnTo>
                          <a:lnTo>
                            <a:pt x="0" y="7"/>
                          </a:lnTo>
                          <a:lnTo>
                            <a:pt x="2" y="10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6" y="5"/>
                          </a:lnTo>
                          <a:close/>
                        </a:path>
                      </a:pathLst>
                    </a:custGeom>
                    <a:solidFill>
                      <a:srgbClr val="e7e7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>
                      <a:off x="2016000" y="4240080"/>
                      <a:ext cx="414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26" y="5"/>
                          </a:move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17" y="0"/>
                          </a:lnTo>
                          <a:lnTo>
                            <a:pt x="14" y="1"/>
                          </a:lnTo>
                          <a:lnTo>
                            <a:pt x="10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4" y="1"/>
                          </a:lnTo>
                          <a:lnTo>
                            <a:pt x="3" y="4"/>
                          </a:lnTo>
                          <a:lnTo>
                            <a:pt x="2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2" y="10"/>
                          </a:lnTo>
                          <a:lnTo>
                            <a:pt x="3" y="11"/>
                          </a:lnTo>
                          <a:lnTo>
                            <a:pt x="4" y="12"/>
                          </a:lnTo>
                          <a:lnTo>
                            <a:pt x="6" y="13"/>
                          </a:lnTo>
                          <a:lnTo>
                            <a:pt x="11" y="13"/>
                          </a:lnTo>
                          <a:lnTo>
                            <a:pt x="26" y="5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5" name=""/>
                  <p:cNvSpPr/>
                  <p:nvPr/>
                </p:nvSpPr>
                <p:spPr>
                  <a:xfrm>
                    <a:off x="2019240" y="4242240"/>
                    <a:ext cx="17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4" y="0"/>
                        </a:moveTo>
                        <a:lnTo>
                          <a:pt x="5" y="0"/>
                        </a:lnTo>
                        <a:lnTo>
                          <a:pt x="7" y="3"/>
                        </a:lnTo>
                        <a:lnTo>
                          <a:pt x="9" y="4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9" y="10"/>
                        </a:lnTo>
                        <a:lnTo>
                          <a:pt x="8" y="12"/>
                        </a:lnTo>
                        <a:lnTo>
                          <a:pt x="7" y="13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2" y="10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2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5d5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6" name=""/>
                  <p:cNvGrpSpPr/>
                  <p:nvPr/>
                </p:nvGrpSpPr>
                <p:grpSpPr>
                  <a:xfrm>
                    <a:off x="2030400" y="4249080"/>
                    <a:ext cx="31680" cy="15840"/>
                    <a:chOff x="2030400" y="4249080"/>
                    <a:chExt cx="31680" cy="15840"/>
                  </a:xfrm>
                </p:grpSpPr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2030400" y="4249080"/>
                      <a:ext cx="316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17" y="0"/>
                          </a:move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5"/>
                          </a:lnTo>
                          <a:lnTo>
                            <a:pt x="1" y="8"/>
                          </a:lnTo>
                          <a:lnTo>
                            <a:pt x="0" y="9"/>
                          </a:lnTo>
                          <a:lnTo>
                            <a:pt x="9" y="9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bbbb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2030400" y="4249080"/>
                      <a:ext cx="316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17" y="0"/>
                          </a:moveTo>
                          <a:lnTo>
                            <a:pt x="17" y="0"/>
                          </a:lnTo>
                          <a:lnTo>
                            <a:pt x="16" y="0"/>
                          </a:lnTo>
                          <a:lnTo>
                            <a:pt x="13" y="1"/>
                          </a:lnTo>
                          <a:lnTo>
                            <a:pt x="8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5"/>
                          </a:lnTo>
                          <a:lnTo>
                            <a:pt x="1" y="8"/>
                          </a:lnTo>
                          <a:lnTo>
                            <a:pt x="0" y="9"/>
                          </a:lnTo>
                          <a:lnTo>
                            <a:pt x="9" y="9"/>
                          </a:lnTo>
                          <a:lnTo>
                            <a:pt x="20" y="8"/>
                          </a:lnTo>
                          <a:lnTo>
                            <a:pt x="20" y="8"/>
                          </a:lnTo>
                          <a:lnTo>
                            <a:pt x="20" y="7"/>
                          </a:lnTo>
                          <a:lnTo>
                            <a:pt x="18" y="5"/>
                          </a:lnTo>
                          <a:lnTo>
                            <a:pt x="18" y="1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9" name=""/>
                  <p:cNvSpPr/>
                  <p:nvPr/>
                </p:nvSpPr>
                <p:spPr>
                  <a:xfrm>
                    <a:off x="2031840" y="4249080"/>
                    <a:ext cx="237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2016000" y="4252680"/>
                    <a:ext cx="46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3"/>
                        </a:lnTo>
                        <a:lnTo>
                          <a:pt x="7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21" y="5"/>
                        </a:lnTo>
                        <a:lnTo>
                          <a:pt x="26" y="5"/>
                        </a:lnTo>
                        <a:lnTo>
                          <a:pt x="29" y="5"/>
                        </a:lnTo>
                        <a:lnTo>
                          <a:pt x="29" y="7"/>
                        </a:lnTo>
                        <a:lnTo>
                          <a:pt x="23" y="7"/>
                        </a:lnTo>
                        <a:lnTo>
                          <a:pt x="17" y="9"/>
                        </a:lnTo>
                        <a:lnTo>
                          <a:pt x="11" y="9"/>
                        </a:lnTo>
                        <a:lnTo>
                          <a:pt x="9" y="7"/>
                        </a:lnTo>
                        <a:lnTo>
                          <a:pt x="6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595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"/>
                <p:cNvGrpSpPr/>
                <p:nvPr/>
              </p:nvGrpSpPr>
              <p:grpSpPr>
                <a:xfrm>
                  <a:off x="2382840" y="4233240"/>
                  <a:ext cx="79200" cy="26640"/>
                  <a:chOff x="2382840" y="4233240"/>
                  <a:chExt cx="79200" cy="2664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2382840" y="4233240"/>
                    <a:ext cx="792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5">
                        <a:moveTo>
                          <a:pt x="50" y="5"/>
                        </a:moveTo>
                        <a:lnTo>
                          <a:pt x="43" y="0"/>
                        </a:lnTo>
                        <a:lnTo>
                          <a:pt x="39" y="0"/>
                        </a:lnTo>
                        <a:lnTo>
                          <a:pt x="29" y="2"/>
                        </a:lnTo>
                        <a:lnTo>
                          <a:pt x="17" y="2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9" y="15"/>
                        </a:lnTo>
                        <a:lnTo>
                          <a:pt x="50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2382840" y="4233240"/>
                    <a:ext cx="792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5">
                        <a:moveTo>
                          <a:pt x="50" y="5"/>
                        </a:moveTo>
                        <a:lnTo>
                          <a:pt x="43" y="0"/>
                        </a:lnTo>
                        <a:lnTo>
                          <a:pt x="43" y="0"/>
                        </a:lnTo>
                        <a:lnTo>
                          <a:pt x="39" y="0"/>
                        </a:lnTo>
                        <a:lnTo>
                          <a:pt x="29" y="2"/>
                        </a:lnTo>
                        <a:lnTo>
                          <a:pt x="17" y="2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9" y="15"/>
                        </a:lnTo>
                        <a:lnTo>
                          <a:pt x="50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>
                  <a:off x="2382840" y="4238640"/>
                  <a:ext cx="1872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2395440" y="4242240"/>
                  <a:ext cx="73080" cy="19440"/>
                  <a:chOff x="2395440" y="4242240"/>
                  <a:chExt cx="73080" cy="1944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2395440" y="4242240"/>
                    <a:ext cx="73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1">
                        <a:moveTo>
                          <a:pt x="42" y="0"/>
                        </a:moveTo>
                        <a:lnTo>
                          <a:pt x="36" y="0"/>
                        </a:lnTo>
                        <a:lnTo>
                          <a:pt x="24" y="1"/>
                        </a:lnTo>
                        <a:lnTo>
                          <a:pt x="12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2" y="11"/>
                        </a:lnTo>
                        <a:lnTo>
                          <a:pt x="46" y="9"/>
                        </a:lnTo>
                        <a:lnTo>
                          <a:pt x="46" y="7"/>
                        </a:lnTo>
                        <a:lnTo>
                          <a:pt x="44" y="5"/>
                        </a:lnTo>
                        <a:lnTo>
                          <a:pt x="43" y="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2395440" y="4242240"/>
                    <a:ext cx="73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1">
                        <a:moveTo>
                          <a:pt x="42" y="0"/>
                        </a:moveTo>
                        <a:lnTo>
                          <a:pt x="42" y="0"/>
                        </a:lnTo>
                        <a:lnTo>
                          <a:pt x="36" y="0"/>
                        </a:lnTo>
                        <a:lnTo>
                          <a:pt x="24" y="1"/>
                        </a:lnTo>
                        <a:lnTo>
                          <a:pt x="1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2" y="11"/>
                        </a:lnTo>
                        <a:lnTo>
                          <a:pt x="46" y="9"/>
                        </a:lnTo>
                        <a:lnTo>
                          <a:pt x="46" y="9"/>
                        </a:lnTo>
                        <a:lnTo>
                          <a:pt x="46" y="7"/>
                        </a:lnTo>
                        <a:lnTo>
                          <a:pt x="44" y="5"/>
                        </a:lnTo>
                        <a:lnTo>
                          <a:pt x="43" y="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8" name=""/>
                <p:cNvSpPr/>
                <p:nvPr/>
              </p:nvSpPr>
              <p:spPr>
                <a:xfrm>
                  <a:off x="2395440" y="4242240"/>
                  <a:ext cx="66600" cy="18000"/>
                </a:xfrm>
                <a:custGeom>
                  <a:avLst/>
                  <a:gdLst/>
                  <a:ahLst/>
                  <a:rect l="l" t="t" r="r" b="b"/>
                  <a:pathLst>
                    <a:path w="42" h="10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25" y="1"/>
                      </a:lnTo>
                      <a:lnTo>
                        <a:pt x="1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2382840" y="4249440"/>
                  <a:ext cx="69840" cy="1260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5" y="3"/>
                      </a:lnTo>
                      <a:lnTo>
                        <a:pt x="6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7" y="5"/>
                      </a:lnTo>
                      <a:lnTo>
                        <a:pt x="20" y="5"/>
                      </a:lnTo>
                      <a:lnTo>
                        <a:pt x="24" y="5"/>
                      </a:lnTo>
                      <a:lnTo>
                        <a:pt x="32" y="5"/>
                      </a:lnTo>
                      <a:lnTo>
                        <a:pt x="40" y="3"/>
                      </a:lnTo>
                      <a:lnTo>
                        <a:pt x="44" y="3"/>
                      </a:lnTo>
                      <a:lnTo>
                        <a:pt x="44" y="6"/>
                      </a:lnTo>
                      <a:lnTo>
                        <a:pt x="44" y="6"/>
                      </a:lnTo>
                      <a:lnTo>
                        <a:pt x="40" y="6"/>
                      </a:lnTo>
                      <a:lnTo>
                        <a:pt x="35" y="7"/>
                      </a:lnTo>
                      <a:lnTo>
                        <a:pt x="28" y="7"/>
                      </a:lnTo>
                      <a:lnTo>
                        <a:pt x="20" y="7"/>
                      </a:lnTo>
                      <a:lnTo>
                        <a:pt x="13" y="7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4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400120" y="4260600"/>
                  <a:ext cx="38160" cy="3600"/>
                </a:xfrm>
                <a:custGeom>
                  <a:avLst/>
                  <a:gdLst/>
                  <a:ahLst/>
                  <a:rect l="l" t="t" r="r" b="b"/>
                  <a:pathLst>
                    <a:path w="24" h="2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2" y="1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1" name=""/>
                <p:cNvGrpSpPr/>
                <p:nvPr/>
              </p:nvGrpSpPr>
              <p:grpSpPr>
                <a:xfrm>
                  <a:off x="2433600" y="4249440"/>
                  <a:ext cx="47520" cy="23400"/>
                  <a:chOff x="2433600" y="4249440"/>
                  <a:chExt cx="47520" cy="23400"/>
                </a:xfrm>
              </p:grpSpPr>
              <p:sp>
                <p:nvSpPr>
                  <p:cNvPr id="2022" name=""/>
                  <p:cNvSpPr/>
                  <p:nvPr/>
                </p:nvSpPr>
                <p:spPr>
                  <a:xfrm>
                    <a:off x="2433600" y="4249440"/>
                    <a:ext cx="47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">
                        <a:moveTo>
                          <a:pt x="30" y="5"/>
                        </a:move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5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1" y="13"/>
                        </a:lnTo>
                        <a:lnTo>
                          <a:pt x="30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2433600" y="4249440"/>
                    <a:ext cx="47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">
                        <a:moveTo>
                          <a:pt x="30" y="5"/>
                        </a:move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5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1" y="13"/>
                        </a:lnTo>
                        <a:lnTo>
                          <a:pt x="30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4" name=""/>
                <p:cNvSpPr/>
                <p:nvPr/>
              </p:nvSpPr>
              <p:spPr>
                <a:xfrm>
                  <a:off x="2433600" y="425160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2481120" y="426600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2446200" y="4258440"/>
                  <a:ext cx="38160" cy="15840"/>
                  <a:chOff x="2446200" y="4258440"/>
                  <a:chExt cx="38160" cy="1584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446200" y="4258440"/>
                    <a:ext cx="38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9">
                        <a:moveTo>
                          <a:pt x="22" y="0"/>
                        </a:move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4" y="8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2446200" y="4258440"/>
                    <a:ext cx="38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9">
                        <a:moveTo>
                          <a:pt x="22" y="0"/>
                        </a:move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4" y="8"/>
                        </a:lnTo>
                        <a:lnTo>
                          <a:pt x="24" y="8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9" name=""/>
                <p:cNvSpPr/>
                <p:nvPr/>
              </p:nvSpPr>
              <p:spPr>
                <a:xfrm>
                  <a:off x="2447640" y="4258440"/>
                  <a:ext cx="30240" cy="1476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2433600" y="4262400"/>
                  <a:ext cx="50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7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4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31" y="4"/>
                      </a:lnTo>
                      <a:lnTo>
                        <a:pt x="32" y="6"/>
                      </a:lnTo>
                      <a:lnTo>
                        <a:pt x="26" y="7"/>
                      </a:lnTo>
                      <a:lnTo>
                        <a:pt x="19" y="7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1" name=""/>
                <p:cNvGrpSpPr/>
                <p:nvPr/>
              </p:nvGrpSpPr>
              <p:grpSpPr>
                <a:xfrm>
                  <a:off x="2344680" y="4238640"/>
                  <a:ext cx="39600" cy="23040"/>
                  <a:chOff x="2344680" y="4238640"/>
                  <a:chExt cx="39600" cy="23040"/>
                </a:xfrm>
              </p:grpSpPr>
              <p:sp>
                <p:nvSpPr>
                  <p:cNvPr id="2032" name=""/>
                  <p:cNvSpPr/>
                  <p:nvPr/>
                </p:nvSpPr>
                <p:spPr>
                  <a:xfrm>
                    <a:off x="2344680" y="4238640"/>
                    <a:ext cx="39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344680" y="4238640"/>
                    <a:ext cx="39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4" name=""/>
                <p:cNvSpPr/>
                <p:nvPr/>
              </p:nvSpPr>
              <p:spPr>
                <a:xfrm>
                  <a:off x="2346120" y="424044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7" y="2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5" name=""/>
                <p:cNvGrpSpPr/>
                <p:nvPr/>
              </p:nvGrpSpPr>
              <p:grpSpPr>
                <a:xfrm>
                  <a:off x="2357280" y="4247640"/>
                  <a:ext cx="31680" cy="15840"/>
                  <a:chOff x="2357280" y="4247640"/>
                  <a:chExt cx="31680" cy="15840"/>
                </a:xfrm>
              </p:grpSpPr>
              <p:sp>
                <p:nvSpPr>
                  <p:cNvPr id="2036" name=""/>
                  <p:cNvSpPr/>
                  <p:nvPr/>
                </p:nvSpPr>
                <p:spPr>
                  <a:xfrm>
                    <a:off x="2357280" y="424764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8" y="4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2357280" y="424764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8" y="4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"/>
                <p:cNvSpPr/>
                <p:nvPr/>
              </p:nvSpPr>
              <p:spPr>
                <a:xfrm>
                  <a:off x="2358720" y="4247640"/>
                  <a:ext cx="2412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344680" y="4251600"/>
                  <a:ext cx="4428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6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3" y="5"/>
                      </a:lnTo>
                      <a:lnTo>
                        <a:pt x="20" y="5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8" y="7"/>
                      </a:lnTo>
                      <a:lnTo>
                        <a:pt x="22" y="7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6" y="7"/>
                      </a:lnTo>
                      <a:lnTo>
                        <a:pt x="5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0" name=""/>
                <p:cNvGrpSpPr/>
                <p:nvPr/>
              </p:nvGrpSpPr>
              <p:grpSpPr>
                <a:xfrm>
                  <a:off x="2358720" y="4253040"/>
                  <a:ext cx="44640" cy="23400"/>
                  <a:chOff x="2358720" y="4253040"/>
                  <a:chExt cx="44640" cy="2340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2358720" y="4253040"/>
                    <a:ext cx="44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358720" y="4253040"/>
                    <a:ext cx="44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3" name=""/>
                <p:cNvSpPr/>
                <p:nvPr/>
              </p:nvSpPr>
              <p:spPr>
                <a:xfrm>
                  <a:off x="2358720" y="42552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5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4" name=""/>
                <p:cNvGrpSpPr/>
                <p:nvPr/>
              </p:nvGrpSpPr>
              <p:grpSpPr>
                <a:xfrm>
                  <a:off x="2371680" y="4262400"/>
                  <a:ext cx="38160" cy="17640"/>
                  <a:chOff x="2371680" y="4262400"/>
                  <a:chExt cx="38160" cy="17640"/>
                </a:xfrm>
              </p:grpSpPr>
              <p:sp>
                <p:nvSpPr>
                  <p:cNvPr id="2045" name=""/>
                  <p:cNvSpPr/>
                  <p:nvPr/>
                </p:nvSpPr>
                <p:spPr>
                  <a:xfrm>
                    <a:off x="2371680" y="426240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0" y="0"/>
                        </a:moveTo>
                        <a:lnTo>
                          <a:pt x="19" y="0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24" y="8"/>
                        </a:lnTo>
                        <a:lnTo>
                          <a:pt x="24" y="7"/>
                        </a:lnTo>
                        <a:lnTo>
                          <a:pt x="23" y="5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2371680" y="426240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24" y="8"/>
                        </a:lnTo>
                        <a:lnTo>
                          <a:pt x="24" y="8"/>
                        </a:lnTo>
                        <a:lnTo>
                          <a:pt x="24" y="7"/>
                        </a:lnTo>
                        <a:lnTo>
                          <a:pt x="23" y="5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7" name=""/>
                <p:cNvSpPr/>
                <p:nvPr/>
              </p:nvSpPr>
              <p:spPr>
                <a:xfrm>
                  <a:off x="2373120" y="4262400"/>
                  <a:ext cx="30240" cy="1476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358720" y="4266000"/>
                  <a:ext cx="51120" cy="16200"/>
                </a:xfrm>
                <a:custGeom>
                  <a:avLst/>
                  <a:gdLst/>
                  <a:ahLst/>
                  <a:rect l="l" t="t" r="r" b="b"/>
                  <a:pathLst>
                    <a:path w="32" h="9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2" y="6"/>
                      </a:lnTo>
                      <a:lnTo>
                        <a:pt x="26" y="8"/>
                      </a:lnTo>
                      <a:lnTo>
                        <a:pt x="19" y="8"/>
                      </a:lnTo>
                      <a:lnTo>
                        <a:pt x="12" y="9"/>
                      </a:lnTo>
                      <a:lnTo>
                        <a:pt x="8" y="8"/>
                      </a:lnTo>
                      <a:lnTo>
                        <a:pt x="5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9" name=""/>
                <p:cNvGrpSpPr/>
                <p:nvPr/>
              </p:nvGrpSpPr>
              <p:grpSpPr>
                <a:xfrm>
                  <a:off x="2309760" y="4240440"/>
                  <a:ext cx="38160" cy="23400"/>
                  <a:chOff x="2309760" y="4240440"/>
                  <a:chExt cx="38160" cy="2340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2309760" y="42404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2309760" y="42404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9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2" name=""/>
                <p:cNvSpPr/>
                <p:nvPr/>
              </p:nvSpPr>
              <p:spPr>
                <a:xfrm>
                  <a:off x="2309760" y="424224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2322360" y="4247640"/>
                  <a:ext cx="31680" cy="17640"/>
                  <a:chOff x="2322360" y="4247640"/>
                  <a:chExt cx="31680" cy="1764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2322360" y="424764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20" y="8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2322360" y="424764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6" name=""/>
                <p:cNvSpPr/>
                <p:nvPr/>
              </p:nvSpPr>
              <p:spPr>
                <a:xfrm>
                  <a:off x="2322360" y="424944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309760" y="4253040"/>
                  <a:ext cx="42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3" y="5"/>
                      </a:lnTo>
                      <a:lnTo>
                        <a:pt x="19" y="5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7" y="6"/>
                      </a:lnTo>
                      <a:lnTo>
                        <a:pt x="23" y="7"/>
                      </a:lnTo>
                      <a:lnTo>
                        <a:pt x="16" y="7"/>
                      </a:lnTo>
                      <a:lnTo>
                        <a:pt x="11" y="9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8" name=""/>
                <p:cNvGrpSpPr/>
                <p:nvPr/>
              </p:nvGrpSpPr>
              <p:grpSpPr>
                <a:xfrm>
                  <a:off x="2273040" y="4242240"/>
                  <a:ext cx="41400" cy="23040"/>
                  <a:chOff x="2273040" y="4242240"/>
                  <a:chExt cx="41400" cy="2304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>
                    <a:off x="2273040" y="424224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4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2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2273040" y="4242240"/>
                    <a:ext cx="414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26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2"/>
                        </a:lnTo>
                        <a:lnTo>
                          <a:pt x="26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1" name=""/>
                <p:cNvSpPr/>
                <p:nvPr/>
              </p:nvSpPr>
              <p:spPr>
                <a:xfrm>
                  <a:off x="2274840" y="424404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1" y="6"/>
                      </a:lnTo>
                      <a:lnTo>
                        <a:pt x="10" y="9"/>
                      </a:lnTo>
                      <a:lnTo>
                        <a:pt x="8" y="12"/>
                      </a:lnTo>
                      <a:lnTo>
                        <a:pt x="7" y="14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2" name=""/>
                <p:cNvGrpSpPr/>
                <p:nvPr/>
              </p:nvGrpSpPr>
              <p:grpSpPr>
                <a:xfrm>
                  <a:off x="2286000" y="4249440"/>
                  <a:ext cx="31680" cy="19800"/>
                  <a:chOff x="2286000" y="4249440"/>
                  <a:chExt cx="31680" cy="19800"/>
                </a:xfrm>
              </p:grpSpPr>
              <p:sp>
                <p:nvSpPr>
                  <p:cNvPr id="2063" name=""/>
                  <p:cNvSpPr/>
                  <p:nvPr/>
                </p:nvSpPr>
                <p:spPr>
                  <a:xfrm>
                    <a:off x="2286000" y="424944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8" y="0"/>
                        </a:move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10" y="9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2286000" y="424944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10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5" name=""/>
                <p:cNvSpPr/>
                <p:nvPr/>
              </p:nvSpPr>
              <p:spPr>
                <a:xfrm>
                  <a:off x="2287440" y="4249440"/>
                  <a:ext cx="23760" cy="1476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273040" y="4255200"/>
                  <a:ext cx="44640" cy="1584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4" y="5"/>
                      </a:lnTo>
                      <a:lnTo>
                        <a:pt x="20" y="5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23" y="8"/>
                      </a:lnTo>
                      <a:lnTo>
                        <a:pt x="16" y="8"/>
                      </a:lnTo>
                      <a:lnTo>
                        <a:pt x="11" y="9"/>
                      </a:lnTo>
                      <a:lnTo>
                        <a:pt x="7" y="8"/>
                      </a:lnTo>
                      <a:lnTo>
                        <a:pt x="5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7" name=""/>
                <p:cNvGrpSpPr/>
                <p:nvPr/>
              </p:nvGrpSpPr>
              <p:grpSpPr>
                <a:xfrm>
                  <a:off x="2241360" y="4244040"/>
                  <a:ext cx="38160" cy="25200"/>
                  <a:chOff x="2241360" y="4244040"/>
                  <a:chExt cx="38160" cy="2520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2241360" y="424404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4"/>
                        </a:lnTo>
                        <a:lnTo>
                          <a:pt x="11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2241360" y="424404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4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4"/>
                        </a:lnTo>
                        <a:lnTo>
                          <a:pt x="11" y="12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0" name=""/>
                <p:cNvSpPr/>
                <p:nvPr/>
              </p:nvSpPr>
              <p:spPr>
                <a:xfrm>
                  <a:off x="2241360" y="424764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1" name=""/>
                <p:cNvGrpSpPr/>
                <p:nvPr/>
              </p:nvGrpSpPr>
              <p:grpSpPr>
                <a:xfrm>
                  <a:off x="2253960" y="4251600"/>
                  <a:ext cx="32040" cy="19440"/>
                  <a:chOff x="2253960" y="4251600"/>
                  <a:chExt cx="32040" cy="19440"/>
                </a:xfrm>
              </p:grpSpPr>
              <p:sp>
                <p:nvSpPr>
                  <p:cNvPr id="2072" name=""/>
                  <p:cNvSpPr/>
                  <p:nvPr/>
                </p:nvSpPr>
                <p:spPr>
                  <a:xfrm>
                    <a:off x="2253960" y="42516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2253960" y="42516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4" name=""/>
                <p:cNvSpPr/>
                <p:nvPr/>
              </p:nvSpPr>
              <p:spPr>
                <a:xfrm>
                  <a:off x="2255760" y="425160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241360" y="4258440"/>
                  <a:ext cx="42840" cy="1260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3" y="4"/>
                      </a:lnTo>
                      <a:lnTo>
                        <a:pt x="19" y="4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7" y="6"/>
                      </a:lnTo>
                      <a:lnTo>
                        <a:pt x="23" y="7"/>
                      </a:lnTo>
                      <a:lnTo>
                        <a:pt x="16" y="7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4" y="4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6" name=""/>
                <p:cNvGrpSpPr/>
                <p:nvPr/>
              </p:nvGrpSpPr>
              <p:grpSpPr>
                <a:xfrm>
                  <a:off x="2211120" y="4247640"/>
                  <a:ext cx="36720" cy="23040"/>
                  <a:chOff x="2211120" y="4247640"/>
                  <a:chExt cx="36720" cy="2304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>
                    <a:off x="2211120" y="4247640"/>
                    <a:ext cx="367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3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2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2211120" y="4247640"/>
                    <a:ext cx="367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3">
                        <a:moveTo>
                          <a:pt x="23" y="3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9" y="12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9" name=""/>
                <p:cNvSpPr/>
                <p:nvPr/>
              </p:nvSpPr>
              <p:spPr>
                <a:xfrm>
                  <a:off x="2211120" y="424944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0" name=""/>
                <p:cNvGrpSpPr/>
                <p:nvPr/>
              </p:nvGrpSpPr>
              <p:grpSpPr>
                <a:xfrm>
                  <a:off x="2224080" y="4253040"/>
                  <a:ext cx="29880" cy="19800"/>
                  <a:chOff x="2224080" y="4253040"/>
                  <a:chExt cx="29880" cy="19800"/>
                </a:xfrm>
              </p:grpSpPr>
              <p:sp>
                <p:nvSpPr>
                  <p:cNvPr id="2081" name=""/>
                  <p:cNvSpPr/>
                  <p:nvPr/>
                </p:nvSpPr>
                <p:spPr>
                  <a:xfrm>
                    <a:off x="2224080" y="4253040"/>
                    <a:ext cx="29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5" y="0"/>
                        </a:move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8" y="10"/>
                        </a:lnTo>
                        <a:lnTo>
                          <a:pt x="19" y="9"/>
                        </a:lnTo>
                        <a:lnTo>
                          <a:pt x="19" y="7"/>
                        </a:lnTo>
                        <a:lnTo>
                          <a:pt x="18" y="5"/>
                        </a:lnTo>
                        <a:lnTo>
                          <a:pt x="16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2224080" y="4253040"/>
                    <a:ext cx="29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8" y="1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7"/>
                        </a:lnTo>
                        <a:lnTo>
                          <a:pt x="18" y="5"/>
                        </a:lnTo>
                        <a:lnTo>
                          <a:pt x="16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3" name=""/>
                <p:cNvSpPr/>
                <p:nvPr/>
              </p:nvSpPr>
              <p:spPr>
                <a:xfrm>
                  <a:off x="2224080" y="425304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211120" y="4260600"/>
                  <a:ext cx="41400" cy="12600"/>
                </a:xfrm>
                <a:custGeom>
                  <a:avLst/>
                  <a:gdLst/>
                  <a:ahLst/>
                  <a:rect l="l" t="t" r="r" b="b"/>
                  <a:pathLst>
                    <a:path w="26" h="7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3" y="5"/>
                      </a:lnTo>
                      <a:lnTo>
                        <a:pt x="18" y="5"/>
                      </a:lnTo>
                      <a:lnTo>
                        <a:pt x="23" y="5"/>
                      </a:lnTo>
                      <a:lnTo>
                        <a:pt x="26" y="5"/>
                      </a:lnTo>
                      <a:lnTo>
                        <a:pt x="26" y="6"/>
                      </a:lnTo>
                      <a:lnTo>
                        <a:pt x="22" y="7"/>
                      </a:lnTo>
                      <a:lnTo>
                        <a:pt x="16" y="7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5" name=""/>
                <p:cNvGrpSpPr/>
                <p:nvPr/>
              </p:nvGrpSpPr>
              <p:grpSpPr>
                <a:xfrm>
                  <a:off x="2176200" y="4249440"/>
                  <a:ext cx="41400" cy="21240"/>
                  <a:chOff x="2176200" y="4249440"/>
                  <a:chExt cx="41400" cy="2124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>
                    <a:off x="2176200" y="424944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3"/>
                        </a:move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11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2176200" y="4249440"/>
                    <a:ext cx="41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">
                        <a:moveTo>
                          <a:pt x="26" y="3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11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11" y="12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8" name=""/>
                <p:cNvSpPr/>
                <p:nvPr/>
              </p:nvSpPr>
              <p:spPr>
                <a:xfrm>
                  <a:off x="2179440" y="425160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9" y="8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9" name=""/>
                <p:cNvGrpSpPr/>
                <p:nvPr/>
              </p:nvGrpSpPr>
              <p:grpSpPr>
                <a:xfrm>
                  <a:off x="2190600" y="4255200"/>
                  <a:ext cx="31680" cy="19440"/>
                  <a:chOff x="2190600" y="4255200"/>
                  <a:chExt cx="31680" cy="194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2190600" y="42552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lnTo>
                          <a:pt x="1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9"/>
                        </a:lnTo>
                        <a:lnTo>
                          <a:pt x="20" y="8"/>
                        </a:lnTo>
                        <a:lnTo>
                          <a:pt x="20" y="5"/>
                        </a:lnTo>
                        <a:lnTo>
                          <a:pt x="18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2190600" y="42552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lnTo>
                          <a:pt x="1" y="9"/>
                        </a:lnTo>
                        <a:lnTo>
                          <a:pt x="0" y="11"/>
                        </a:lnTo>
                        <a:lnTo>
                          <a:pt x="9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8"/>
                        </a:lnTo>
                        <a:lnTo>
                          <a:pt x="20" y="5"/>
                        </a:lnTo>
                        <a:lnTo>
                          <a:pt x="18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>
                  <a:off x="2192040" y="425520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176200" y="426240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4" y="5"/>
                      </a:lnTo>
                      <a:lnTo>
                        <a:pt x="21" y="5"/>
                      </a:lnTo>
                      <a:lnTo>
                        <a:pt x="26" y="5"/>
                      </a:lnTo>
                      <a:lnTo>
                        <a:pt x="29" y="5"/>
                      </a:lnTo>
                      <a:lnTo>
                        <a:pt x="29" y="6"/>
                      </a:lnTo>
                      <a:lnTo>
                        <a:pt x="23" y="7"/>
                      </a:lnTo>
                      <a:lnTo>
                        <a:pt x="18" y="7"/>
                      </a:lnTo>
                      <a:lnTo>
                        <a:pt x="11" y="7"/>
                      </a:lnTo>
                      <a:lnTo>
                        <a:pt x="9" y="7"/>
                      </a:lnTo>
                      <a:lnTo>
                        <a:pt x="6" y="5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4" name=""/>
                <p:cNvGrpSpPr/>
                <p:nvPr/>
              </p:nvGrpSpPr>
              <p:grpSpPr>
                <a:xfrm>
                  <a:off x="2144520" y="4249440"/>
                  <a:ext cx="39600" cy="23400"/>
                  <a:chOff x="2144520" y="4249440"/>
                  <a:chExt cx="39600" cy="2340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2144520" y="4249440"/>
                    <a:ext cx="39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2144520" y="4249440"/>
                    <a:ext cx="39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25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10" y="13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7" name=""/>
                <p:cNvSpPr/>
                <p:nvPr/>
              </p:nvSpPr>
              <p:spPr>
                <a:xfrm>
                  <a:off x="2144520" y="4251600"/>
                  <a:ext cx="19080" cy="255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8" name=""/>
                <p:cNvGrpSpPr/>
                <p:nvPr/>
              </p:nvGrpSpPr>
              <p:grpSpPr>
                <a:xfrm>
                  <a:off x="2157120" y="4258440"/>
                  <a:ext cx="30240" cy="18000"/>
                  <a:chOff x="2157120" y="4258440"/>
                  <a:chExt cx="30240" cy="1800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2157120" y="4258440"/>
                    <a:ext cx="30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7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2157120" y="4258440"/>
                    <a:ext cx="30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8" y="9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1" name=""/>
                <p:cNvSpPr/>
                <p:nvPr/>
              </p:nvSpPr>
              <p:spPr>
                <a:xfrm>
                  <a:off x="2157120" y="4258440"/>
                  <a:ext cx="27000" cy="1476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143080" y="4262400"/>
                  <a:ext cx="44280" cy="1476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" y="0"/>
                      </a:move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6"/>
                      </a:lnTo>
                      <a:lnTo>
                        <a:pt x="20" y="6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lnTo>
                        <a:pt x="24" y="8"/>
                      </a:lnTo>
                      <a:lnTo>
                        <a:pt x="17" y="8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5" y="6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3" name=""/>
                <p:cNvGrpSpPr/>
                <p:nvPr/>
              </p:nvGrpSpPr>
              <p:grpSpPr>
                <a:xfrm>
                  <a:off x="2111040" y="4251600"/>
                  <a:ext cx="38160" cy="23040"/>
                  <a:chOff x="2111040" y="4251600"/>
                  <a:chExt cx="38160" cy="23040"/>
                </a:xfrm>
              </p:grpSpPr>
              <p:sp>
                <p:nvSpPr>
                  <p:cNvPr id="2104" name=""/>
                  <p:cNvSpPr/>
                  <p:nvPr/>
                </p:nvSpPr>
                <p:spPr>
                  <a:xfrm>
                    <a:off x="2111040" y="425160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2111040" y="4251600"/>
                    <a:ext cx="38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9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6" name=""/>
                <p:cNvSpPr/>
                <p:nvPr/>
              </p:nvSpPr>
              <p:spPr>
                <a:xfrm>
                  <a:off x="2111040" y="425304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7" name=""/>
                <p:cNvGrpSpPr/>
                <p:nvPr/>
              </p:nvGrpSpPr>
              <p:grpSpPr>
                <a:xfrm>
                  <a:off x="2124000" y="4260600"/>
                  <a:ext cx="31680" cy="19440"/>
                  <a:chOff x="2124000" y="4260600"/>
                  <a:chExt cx="31680" cy="1944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>
                    <a:off x="2124000" y="42606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8" y="9"/>
                        </a:lnTo>
                        <a:lnTo>
                          <a:pt x="20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2124000" y="42606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8" y="9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19" y="7"/>
                        </a:lnTo>
                        <a:lnTo>
                          <a:pt x="19" y="5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0" name=""/>
                <p:cNvSpPr/>
                <p:nvPr/>
              </p:nvSpPr>
              <p:spPr>
                <a:xfrm>
                  <a:off x="2124000" y="426060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111040" y="4264200"/>
                  <a:ext cx="43200" cy="1584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4" y="6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2076120" y="4253040"/>
                  <a:ext cx="38160" cy="23400"/>
                  <a:chOff x="2076120" y="4253040"/>
                  <a:chExt cx="38160" cy="2340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2076120" y="42530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076120" y="4253040"/>
                    <a:ext cx="38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5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11" y="13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5" name=""/>
                <p:cNvSpPr/>
                <p:nvPr/>
              </p:nvSpPr>
              <p:spPr>
                <a:xfrm>
                  <a:off x="2076120" y="42552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8" y="3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2" y="9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6" name=""/>
                <p:cNvGrpSpPr/>
                <p:nvPr/>
              </p:nvGrpSpPr>
              <p:grpSpPr>
                <a:xfrm>
                  <a:off x="2089080" y="4262400"/>
                  <a:ext cx="31680" cy="19800"/>
                  <a:chOff x="2089080" y="4262400"/>
                  <a:chExt cx="31680" cy="19800"/>
                </a:xfrm>
              </p:grpSpPr>
              <p:sp>
                <p:nvSpPr>
                  <p:cNvPr id="2117" name=""/>
                  <p:cNvSpPr/>
                  <p:nvPr/>
                </p:nvSpPr>
                <p:spPr>
                  <a:xfrm>
                    <a:off x="2089080" y="426240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2089080" y="4262400"/>
                    <a:ext cx="31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9" name=""/>
                <p:cNvSpPr/>
                <p:nvPr/>
              </p:nvSpPr>
              <p:spPr>
                <a:xfrm>
                  <a:off x="2092320" y="4262400"/>
                  <a:ext cx="21960" cy="1476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6120" y="4266000"/>
                  <a:ext cx="44640" cy="1620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4" y="6"/>
                      </a:lnTo>
                      <a:lnTo>
                        <a:pt x="19" y="6"/>
                      </a:lnTo>
                      <a:lnTo>
                        <a:pt x="24" y="5"/>
                      </a:lnTo>
                      <a:lnTo>
                        <a:pt x="27" y="5"/>
                      </a:lnTo>
                      <a:lnTo>
                        <a:pt x="28" y="8"/>
                      </a:lnTo>
                      <a:lnTo>
                        <a:pt x="23" y="8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1" name=""/>
                <p:cNvGrpSpPr/>
                <p:nvPr/>
              </p:nvGrpSpPr>
              <p:grpSpPr>
                <a:xfrm>
                  <a:off x="2043000" y="4255200"/>
                  <a:ext cx="38160" cy="24840"/>
                  <a:chOff x="2043000" y="4255200"/>
                  <a:chExt cx="38160" cy="24840"/>
                </a:xfrm>
              </p:grpSpPr>
              <p:sp>
                <p:nvSpPr>
                  <p:cNvPr id="2122" name=""/>
                  <p:cNvSpPr/>
                  <p:nvPr/>
                </p:nvSpPr>
                <p:spPr>
                  <a:xfrm>
                    <a:off x="2043000" y="4255200"/>
                    <a:ext cx="381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0" y="14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2043000" y="4255200"/>
                    <a:ext cx="381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10" y="14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4" name=""/>
                <p:cNvSpPr/>
                <p:nvPr/>
              </p:nvSpPr>
              <p:spPr>
                <a:xfrm>
                  <a:off x="2043000" y="425844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5" name=""/>
                <p:cNvGrpSpPr/>
                <p:nvPr/>
              </p:nvGrpSpPr>
              <p:grpSpPr>
                <a:xfrm>
                  <a:off x="2055600" y="4264200"/>
                  <a:ext cx="31680" cy="17640"/>
                  <a:chOff x="2055600" y="4264200"/>
                  <a:chExt cx="31680" cy="1764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2055600" y="426420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2055600" y="4264200"/>
                    <a:ext cx="31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7"/>
                        </a:lnTo>
                        <a:lnTo>
                          <a:pt x="19" y="5"/>
                        </a:lnTo>
                        <a:lnTo>
                          <a:pt x="17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8" name=""/>
                <p:cNvSpPr/>
                <p:nvPr/>
              </p:nvSpPr>
              <p:spPr>
                <a:xfrm>
                  <a:off x="2055600" y="426420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043000" y="4269600"/>
                  <a:ext cx="42840" cy="1440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7" y="7"/>
                      </a:lnTo>
                      <a:lnTo>
                        <a:pt x="23" y="7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4" y="6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0" name=""/>
                <p:cNvGrpSpPr/>
                <p:nvPr/>
              </p:nvGrpSpPr>
              <p:grpSpPr>
                <a:xfrm>
                  <a:off x="1952640" y="4226040"/>
                  <a:ext cx="44280" cy="23040"/>
                  <a:chOff x="1952640" y="4226040"/>
                  <a:chExt cx="44280" cy="2304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1952640" y="4226040"/>
                    <a:ext cx="442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4"/>
                        </a:moveTo>
                        <a:lnTo>
                          <a:pt x="22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1952640" y="4226040"/>
                    <a:ext cx="442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4"/>
                        </a:move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3" name=""/>
                <p:cNvSpPr/>
                <p:nvPr/>
              </p:nvSpPr>
              <p:spPr>
                <a:xfrm>
                  <a:off x="1954080" y="422748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10" y="5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4" name=""/>
                <p:cNvGrpSpPr/>
                <p:nvPr/>
              </p:nvGrpSpPr>
              <p:grpSpPr>
                <a:xfrm>
                  <a:off x="1966680" y="4233240"/>
                  <a:ext cx="36720" cy="19440"/>
                  <a:chOff x="1966680" y="4233240"/>
                  <a:chExt cx="36720" cy="19440"/>
                </a:xfrm>
              </p:grpSpPr>
              <p:sp>
                <p:nvSpPr>
                  <p:cNvPr id="2135" name=""/>
                  <p:cNvSpPr/>
                  <p:nvPr/>
                </p:nvSpPr>
                <p:spPr>
                  <a:xfrm>
                    <a:off x="1966680" y="4233240"/>
                    <a:ext cx="36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">
                        <a:moveTo>
                          <a:pt x="19" y="0"/>
                        </a:move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2" y="5"/>
                        </a:lnTo>
                        <a:lnTo>
                          <a:pt x="21" y="3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1966680" y="4233240"/>
                    <a:ext cx="36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23" y="9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2" y="5"/>
                        </a:lnTo>
                        <a:lnTo>
                          <a:pt x="21" y="3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7" name=""/>
                <p:cNvSpPr/>
                <p:nvPr/>
              </p:nvSpPr>
              <p:spPr>
                <a:xfrm>
                  <a:off x="1966680" y="4233240"/>
                  <a:ext cx="30240" cy="1584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8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954080" y="4237200"/>
                  <a:ext cx="49320" cy="23400"/>
                </a:xfrm>
                <a:custGeom>
                  <a:avLst/>
                  <a:gdLst/>
                  <a:ahLst/>
                  <a:rect l="l" t="t" r="r" b="b"/>
                  <a:pathLst>
                    <a:path w="31" h="13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7" y="6"/>
                      </a:lnTo>
                      <a:lnTo>
                        <a:pt x="31" y="6"/>
                      </a:lnTo>
                      <a:lnTo>
                        <a:pt x="31" y="8"/>
                      </a:lnTo>
                      <a:lnTo>
                        <a:pt x="26" y="9"/>
                      </a:lnTo>
                      <a:lnTo>
                        <a:pt x="19" y="12"/>
                      </a:lnTo>
                      <a:lnTo>
                        <a:pt x="13" y="13"/>
                      </a:lnTo>
                      <a:lnTo>
                        <a:pt x="8" y="13"/>
                      </a:lnTo>
                      <a:lnTo>
                        <a:pt x="6" y="10"/>
                      </a:lnTo>
                      <a:lnTo>
                        <a:pt x="3" y="7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9" name=""/>
                <p:cNvGrpSpPr/>
                <p:nvPr/>
              </p:nvGrpSpPr>
              <p:grpSpPr>
                <a:xfrm>
                  <a:off x="1969920" y="4242240"/>
                  <a:ext cx="50760" cy="23040"/>
                  <a:chOff x="1969920" y="4242240"/>
                  <a:chExt cx="50760" cy="2304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1969920" y="4242240"/>
                    <a:ext cx="507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32" y="5"/>
                        </a:move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32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1969920" y="4242240"/>
                    <a:ext cx="507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32" y="5"/>
                        </a:move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32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2" name=""/>
                <p:cNvSpPr/>
                <p:nvPr/>
              </p:nvSpPr>
              <p:spPr>
                <a:xfrm>
                  <a:off x="1971360" y="424404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0"/>
                      </a:move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1" y="10"/>
                      </a:lnTo>
                      <a:lnTo>
                        <a:pt x="8" y="14"/>
                      </a:lnTo>
                      <a:lnTo>
                        <a:pt x="8" y="15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3" name=""/>
                <p:cNvGrpSpPr/>
                <p:nvPr/>
              </p:nvGrpSpPr>
              <p:grpSpPr>
                <a:xfrm>
                  <a:off x="1984320" y="4251600"/>
                  <a:ext cx="42840" cy="19440"/>
                  <a:chOff x="1984320" y="4251600"/>
                  <a:chExt cx="42840" cy="19440"/>
                </a:xfrm>
              </p:grpSpPr>
              <p:sp>
                <p:nvSpPr>
                  <p:cNvPr id="2144" name=""/>
                  <p:cNvSpPr/>
                  <p:nvPr/>
                </p:nvSpPr>
                <p:spPr>
                  <a:xfrm>
                    <a:off x="1984320" y="4251600"/>
                    <a:ext cx="428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1">
                        <a:moveTo>
                          <a:pt x="23" y="0"/>
                        </a:move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14" y="10"/>
                        </a:lnTo>
                        <a:lnTo>
                          <a:pt x="27" y="8"/>
                        </a:lnTo>
                        <a:lnTo>
                          <a:pt x="27" y="7"/>
                        </a:lnTo>
                        <a:lnTo>
                          <a:pt x="26" y="5"/>
                        </a:lnTo>
                        <a:lnTo>
                          <a:pt x="24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1984320" y="4251600"/>
                    <a:ext cx="428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1">
                        <a:moveTo>
                          <a:pt x="23" y="0"/>
                        </a:moveTo>
                        <a:lnTo>
                          <a:pt x="23" y="0"/>
                        </a:ln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14" y="10"/>
                        </a:lnTo>
                        <a:lnTo>
                          <a:pt x="27" y="8"/>
                        </a:lnTo>
                        <a:lnTo>
                          <a:pt x="27" y="8"/>
                        </a:lnTo>
                        <a:lnTo>
                          <a:pt x="27" y="7"/>
                        </a:lnTo>
                        <a:lnTo>
                          <a:pt x="26" y="5"/>
                        </a:lnTo>
                        <a:lnTo>
                          <a:pt x="24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6" name=""/>
                <p:cNvSpPr/>
                <p:nvPr/>
              </p:nvSpPr>
              <p:spPr>
                <a:xfrm>
                  <a:off x="1984320" y="4251600"/>
                  <a:ext cx="36360" cy="1800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1969920" y="4255200"/>
                  <a:ext cx="23760" cy="198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" y="0"/>
                      </a:move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7" y="6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8" name=""/>
                <p:cNvGrpSpPr/>
                <p:nvPr/>
              </p:nvGrpSpPr>
              <p:grpSpPr>
                <a:xfrm>
                  <a:off x="1984320" y="4258440"/>
                  <a:ext cx="64800" cy="23400"/>
                  <a:chOff x="1984320" y="4258440"/>
                  <a:chExt cx="64800" cy="23400"/>
                </a:xfrm>
              </p:grpSpPr>
              <p:sp>
                <p:nvSpPr>
                  <p:cNvPr id="2149" name=""/>
                  <p:cNvSpPr/>
                  <p:nvPr/>
                </p:nvSpPr>
                <p:spPr>
                  <a:xfrm>
                    <a:off x="1984320" y="4258440"/>
                    <a:ext cx="64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3">
                        <a:moveTo>
                          <a:pt x="41" y="4"/>
                        </a:move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0" y="1"/>
                        </a:lnTo>
                        <a:lnTo>
                          <a:pt x="11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984320" y="4258440"/>
                    <a:ext cx="64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3">
                        <a:moveTo>
                          <a:pt x="41" y="4"/>
                        </a:move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0" y="1"/>
                        </a:lnTo>
                        <a:lnTo>
                          <a:pt x="11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1" name=""/>
                <p:cNvSpPr/>
                <p:nvPr/>
              </p:nvSpPr>
              <p:spPr>
                <a:xfrm>
                  <a:off x="1984320" y="426240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2" name=""/>
                <p:cNvGrpSpPr/>
                <p:nvPr/>
              </p:nvGrpSpPr>
              <p:grpSpPr>
                <a:xfrm>
                  <a:off x="1996920" y="4266000"/>
                  <a:ext cx="58680" cy="19800"/>
                  <a:chOff x="1996920" y="4266000"/>
                  <a:chExt cx="58680" cy="19800"/>
                </a:xfrm>
              </p:grpSpPr>
              <p:sp>
                <p:nvSpPr>
                  <p:cNvPr id="2153" name=""/>
                  <p:cNvSpPr/>
                  <p:nvPr/>
                </p:nvSpPr>
                <p:spPr>
                  <a:xfrm>
                    <a:off x="1996920" y="4266000"/>
                    <a:ext cx="58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33" y="0"/>
                        </a:moveTo>
                        <a:lnTo>
                          <a:pt x="29" y="0"/>
                        </a:lnTo>
                        <a:lnTo>
                          <a:pt x="21" y="2"/>
                        </a:lnTo>
                        <a:lnTo>
                          <a:pt x="11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37" y="9"/>
                        </a:lnTo>
                        <a:lnTo>
                          <a:pt x="35" y="8"/>
                        </a:lnTo>
                        <a:lnTo>
                          <a:pt x="35" y="5"/>
                        </a:lnTo>
                        <a:lnTo>
                          <a:pt x="34" y="3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1996920" y="4266000"/>
                    <a:ext cx="58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33" y="0"/>
                        </a:moveTo>
                        <a:lnTo>
                          <a:pt x="33" y="0"/>
                        </a:lnTo>
                        <a:lnTo>
                          <a:pt x="29" y="0"/>
                        </a:lnTo>
                        <a:lnTo>
                          <a:pt x="21" y="2"/>
                        </a:lnTo>
                        <a:lnTo>
                          <a:pt x="11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37" y="9"/>
                        </a:lnTo>
                        <a:lnTo>
                          <a:pt x="37" y="9"/>
                        </a:lnTo>
                        <a:lnTo>
                          <a:pt x="35" y="8"/>
                        </a:lnTo>
                        <a:lnTo>
                          <a:pt x="35" y="5"/>
                        </a:lnTo>
                        <a:lnTo>
                          <a:pt x="34" y="3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5" name=""/>
                <p:cNvSpPr/>
                <p:nvPr/>
              </p:nvSpPr>
              <p:spPr>
                <a:xfrm>
                  <a:off x="1996920" y="4266000"/>
                  <a:ext cx="49320" cy="16200"/>
                </a:xfrm>
                <a:custGeom>
                  <a:avLst/>
                  <a:gdLst/>
                  <a:ahLst/>
                  <a:rect l="l" t="t" r="r" b="b"/>
                  <a:pathLst>
                    <a:path w="31" h="9"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1982520" y="4271400"/>
                  <a:ext cx="69840" cy="20160"/>
                </a:xfrm>
                <a:custGeom>
                  <a:avLst/>
                  <a:gdLst/>
                  <a:ahLst/>
                  <a:rect l="l" t="t" r="r" b="b"/>
                  <a:pathLst>
                    <a:path w="44" h="11">
                      <a:moveTo>
                        <a:pt x="1" y="0"/>
                      </a:move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7" y="6"/>
                      </a:lnTo>
                      <a:lnTo>
                        <a:pt x="28" y="5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38" y="7"/>
                      </a:lnTo>
                      <a:lnTo>
                        <a:pt x="25" y="9"/>
                      </a:lnTo>
                      <a:lnTo>
                        <a:pt x="13" y="11"/>
                      </a:ln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043000" y="4280400"/>
                  <a:ext cx="39600" cy="5760"/>
                </a:xfrm>
                <a:custGeom>
                  <a:avLst/>
                  <a:gdLst/>
                  <a:ahLst/>
                  <a:rect l="l" t="t" r="r" b="b"/>
                  <a:pathLst>
                    <a:path w="25" h="3">
                      <a:moveTo>
                        <a:pt x="25" y="0"/>
                      </a:move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8" name=""/>
                <p:cNvGrpSpPr/>
                <p:nvPr/>
              </p:nvGrpSpPr>
              <p:grpSpPr>
                <a:xfrm>
                  <a:off x="2117520" y="4255200"/>
                  <a:ext cx="247680" cy="37440"/>
                  <a:chOff x="2117520" y="4255200"/>
                  <a:chExt cx="247680" cy="37440"/>
                </a:xfrm>
              </p:grpSpPr>
              <p:sp>
                <p:nvSpPr>
                  <p:cNvPr id="2159" name=""/>
                  <p:cNvSpPr/>
                  <p:nvPr/>
                </p:nvSpPr>
                <p:spPr>
                  <a:xfrm>
                    <a:off x="2117520" y="4255200"/>
                    <a:ext cx="247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">
                        <a:moveTo>
                          <a:pt x="156" y="5"/>
                        </a:moveTo>
                        <a:lnTo>
                          <a:pt x="149" y="0"/>
                        </a:lnTo>
                        <a:lnTo>
                          <a:pt x="143" y="2"/>
                        </a:lnTo>
                        <a:lnTo>
                          <a:pt x="128" y="2"/>
                        </a:lnTo>
                        <a:lnTo>
                          <a:pt x="105" y="3"/>
                        </a:lnTo>
                        <a:lnTo>
                          <a:pt x="79" y="4"/>
                        </a:lnTo>
                        <a:lnTo>
                          <a:pt x="54" y="5"/>
                        </a:lnTo>
                        <a:lnTo>
                          <a:pt x="31" y="6"/>
                        </a:lnTo>
                        <a:lnTo>
                          <a:pt x="13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2" y="10"/>
                        </a:lnTo>
                        <a:lnTo>
                          <a:pt x="1" y="12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5" y="21"/>
                        </a:lnTo>
                        <a:lnTo>
                          <a:pt x="11" y="21"/>
                        </a:lnTo>
                        <a:lnTo>
                          <a:pt x="156" y="5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2117520" y="4255200"/>
                    <a:ext cx="247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">
                        <a:moveTo>
                          <a:pt x="156" y="5"/>
                        </a:moveTo>
                        <a:lnTo>
                          <a:pt x="149" y="0"/>
                        </a:lnTo>
                        <a:lnTo>
                          <a:pt x="149" y="0"/>
                        </a:lnTo>
                        <a:lnTo>
                          <a:pt x="143" y="2"/>
                        </a:lnTo>
                        <a:lnTo>
                          <a:pt x="128" y="2"/>
                        </a:lnTo>
                        <a:lnTo>
                          <a:pt x="105" y="3"/>
                        </a:lnTo>
                        <a:lnTo>
                          <a:pt x="79" y="4"/>
                        </a:lnTo>
                        <a:lnTo>
                          <a:pt x="54" y="5"/>
                        </a:lnTo>
                        <a:lnTo>
                          <a:pt x="31" y="6"/>
                        </a:lnTo>
                        <a:lnTo>
                          <a:pt x="13" y="8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2" y="10"/>
                        </a:lnTo>
                        <a:lnTo>
                          <a:pt x="1" y="12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5" y="21"/>
                        </a:lnTo>
                        <a:lnTo>
                          <a:pt x="11" y="21"/>
                        </a:lnTo>
                        <a:lnTo>
                          <a:pt x="156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1" name=""/>
                <p:cNvSpPr/>
                <p:nvPr/>
              </p:nvSpPr>
              <p:spPr>
                <a:xfrm>
                  <a:off x="2117520" y="427140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1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9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2" name=""/>
                <p:cNvGrpSpPr/>
                <p:nvPr/>
              </p:nvGrpSpPr>
              <p:grpSpPr>
                <a:xfrm>
                  <a:off x="2130120" y="4264200"/>
                  <a:ext cx="241560" cy="30600"/>
                  <a:chOff x="2130120" y="4264200"/>
                  <a:chExt cx="241560" cy="30600"/>
                </a:xfrm>
              </p:grpSpPr>
              <p:sp>
                <p:nvSpPr>
                  <p:cNvPr id="2163" name=""/>
                  <p:cNvSpPr/>
                  <p:nvPr/>
                </p:nvSpPr>
                <p:spPr>
                  <a:xfrm>
                    <a:off x="2130120" y="4264200"/>
                    <a:ext cx="2415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7">
                        <a:moveTo>
                          <a:pt x="148" y="0"/>
                        </a:moveTo>
                        <a:lnTo>
                          <a:pt x="143" y="1"/>
                        </a:lnTo>
                        <a:lnTo>
                          <a:pt x="126" y="1"/>
                        </a:lnTo>
                        <a:lnTo>
                          <a:pt x="105" y="3"/>
                        </a:lnTo>
                        <a:lnTo>
                          <a:pt x="79" y="4"/>
                        </a:lnTo>
                        <a:lnTo>
                          <a:pt x="54" y="5"/>
                        </a:lnTo>
                        <a:lnTo>
                          <a:pt x="31" y="6"/>
                        </a:lnTo>
                        <a:lnTo>
                          <a:pt x="13" y="7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3" y="12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140" y="10"/>
                        </a:lnTo>
                        <a:lnTo>
                          <a:pt x="152" y="9"/>
                        </a:lnTo>
                        <a:lnTo>
                          <a:pt x="151" y="7"/>
                        </a:lnTo>
                        <a:lnTo>
                          <a:pt x="151" y="5"/>
                        </a:lnTo>
                        <a:lnTo>
                          <a:pt x="149" y="3"/>
                        </a:lnTo>
                        <a:lnTo>
                          <a:pt x="14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2130120" y="4264200"/>
                    <a:ext cx="2415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7">
                        <a:moveTo>
                          <a:pt x="148" y="0"/>
                        </a:moveTo>
                        <a:lnTo>
                          <a:pt x="148" y="0"/>
                        </a:lnTo>
                        <a:lnTo>
                          <a:pt x="143" y="1"/>
                        </a:lnTo>
                        <a:lnTo>
                          <a:pt x="126" y="1"/>
                        </a:lnTo>
                        <a:lnTo>
                          <a:pt x="105" y="3"/>
                        </a:lnTo>
                        <a:lnTo>
                          <a:pt x="79" y="4"/>
                        </a:lnTo>
                        <a:lnTo>
                          <a:pt x="54" y="5"/>
                        </a:lnTo>
                        <a:lnTo>
                          <a:pt x="31" y="6"/>
                        </a:lnTo>
                        <a:lnTo>
                          <a:pt x="13" y="7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3" y="12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140" y="10"/>
                        </a:lnTo>
                        <a:lnTo>
                          <a:pt x="152" y="9"/>
                        </a:lnTo>
                        <a:lnTo>
                          <a:pt x="152" y="9"/>
                        </a:lnTo>
                        <a:lnTo>
                          <a:pt x="151" y="7"/>
                        </a:lnTo>
                        <a:lnTo>
                          <a:pt x="151" y="5"/>
                        </a:lnTo>
                        <a:lnTo>
                          <a:pt x="149" y="3"/>
                        </a:lnTo>
                        <a:lnTo>
                          <a:pt x="14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5" name=""/>
                <p:cNvSpPr/>
                <p:nvPr/>
              </p:nvSpPr>
              <p:spPr>
                <a:xfrm>
                  <a:off x="2131920" y="4264200"/>
                  <a:ext cx="233280" cy="28800"/>
                </a:xfrm>
                <a:custGeom>
                  <a:avLst/>
                  <a:gdLst/>
                  <a:ahLst/>
                  <a:rect l="l" t="t" r="r" b="b"/>
                  <a:pathLst>
                    <a:path w="147" h="16">
                      <a:moveTo>
                        <a:pt x="147" y="0"/>
                      </a:moveTo>
                      <a:lnTo>
                        <a:pt x="147" y="0"/>
                      </a:lnTo>
                      <a:lnTo>
                        <a:pt x="140" y="1"/>
                      </a:lnTo>
                      <a:lnTo>
                        <a:pt x="125" y="1"/>
                      </a:lnTo>
                      <a:lnTo>
                        <a:pt x="103" y="3"/>
                      </a:lnTo>
                      <a:lnTo>
                        <a:pt x="77" y="4"/>
                      </a:lnTo>
                      <a:lnTo>
                        <a:pt x="53" y="6"/>
                      </a:lnTo>
                      <a:lnTo>
                        <a:pt x="30" y="6"/>
                      </a:lnTo>
                      <a:lnTo>
                        <a:pt x="11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117520" y="4277160"/>
                  <a:ext cx="252360" cy="18000"/>
                </a:xfrm>
                <a:custGeom>
                  <a:avLst/>
                  <a:gdLst/>
                  <a:ahLst/>
                  <a:rect l="l" t="t" r="r" b="b"/>
                  <a:pathLst>
                    <a:path w="159" h="10"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7" y="8"/>
                      </a:lnTo>
                      <a:lnTo>
                        <a:pt x="35" y="6"/>
                      </a:lnTo>
                      <a:lnTo>
                        <a:pt x="59" y="5"/>
                      </a:lnTo>
                      <a:lnTo>
                        <a:pt x="85" y="4"/>
                      </a:lnTo>
                      <a:lnTo>
                        <a:pt x="112" y="3"/>
                      </a:lnTo>
                      <a:lnTo>
                        <a:pt x="136" y="2"/>
                      </a:lnTo>
                      <a:lnTo>
                        <a:pt x="152" y="0"/>
                      </a:lnTo>
                      <a:lnTo>
                        <a:pt x="159" y="0"/>
                      </a:lnTo>
                      <a:lnTo>
                        <a:pt x="159" y="3"/>
                      </a:lnTo>
                      <a:lnTo>
                        <a:pt x="152" y="3"/>
                      </a:lnTo>
                      <a:lnTo>
                        <a:pt x="133" y="4"/>
                      </a:lnTo>
                      <a:lnTo>
                        <a:pt x="109" y="5"/>
                      </a:lnTo>
                      <a:lnTo>
                        <a:pt x="82" y="6"/>
                      </a:lnTo>
                      <a:lnTo>
                        <a:pt x="55" y="9"/>
                      </a:lnTo>
                      <a:lnTo>
                        <a:pt x="32" y="10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7" name=""/>
                <p:cNvGrpSpPr/>
                <p:nvPr/>
              </p:nvGrpSpPr>
              <p:grpSpPr>
                <a:xfrm>
                  <a:off x="2076120" y="4269600"/>
                  <a:ext cx="44640" cy="25200"/>
                  <a:chOff x="2076120" y="4269600"/>
                  <a:chExt cx="44640" cy="2520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2076120" y="42696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28" y="4"/>
                        </a:moveTo>
                        <a:lnTo>
                          <a:pt x="22" y="0"/>
                        </a:lnTo>
                        <a:lnTo>
                          <a:pt x="19" y="1"/>
                        </a:lnTo>
                        <a:lnTo>
                          <a:pt x="15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4"/>
                        </a:lnTo>
                        <a:lnTo>
                          <a:pt x="28" y="4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2076120" y="42696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28" y="4"/>
                        </a:move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9" y="1"/>
                        </a:lnTo>
                        <a:lnTo>
                          <a:pt x="15" y="1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3" y="10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4"/>
                        </a:lnTo>
                        <a:lnTo>
                          <a:pt x="28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0" name=""/>
                <p:cNvSpPr/>
                <p:nvPr/>
              </p:nvSpPr>
              <p:spPr>
                <a:xfrm>
                  <a:off x="2076120" y="427356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1" name=""/>
                <p:cNvGrpSpPr/>
                <p:nvPr/>
              </p:nvGrpSpPr>
              <p:grpSpPr>
                <a:xfrm>
                  <a:off x="2089080" y="4277160"/>
                  <a:ext cx="38160" cy="19440"/>
                  <a:chOff x="2089080" y="4277160"/>
                  <a:chExt cx="38160" cy="1944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>
                    <a:off x="2089080" y="4277160"/>
                    <a:ext cx="38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0" y="0"/>
                        </a:moveTo>
                        <a:lnTo>
                          <a:pt x="19" y="2"/>
                        </a:lnTo>
                        <a:lnTo>
                          <a:pt x="15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5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2089080" y="4277160"/>
                    <a:ext cx="38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15" y="2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1" y="10"/>
                        </a:lnTo>
                        <a:lnTo>
                          <a:pt x="24" y="9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5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4" name=""/>
                <p:cNvSpPr/>
                <p:nvPr/>
              </p:nvSpPr>
              <p:spPr>
                <a:xfrm>
                  <a:off x="2089080" y="4277160"/>
                  <a:ext cx="31680" cy="18000"/>
                </a:xfrm>
                <a:custGeom>
                  <a:avLst/>
                  <a:gdLst/>
                  <a:ahLst/>
                  <a:rect l="l" t="t" r="r" b="b"/>
                  <a:pathLst>
                    <a:path w="20" h="10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9" y="2"/>
                      </a:lnTo>
                      <a:lnTo>
                        <a:pt x="15" y="2"/>
                      </a:lnTo>
                      <a:lnTo>
                        <a:pt x="10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076120" y="4284000"/>
                  <a:ext cx="49320" cy="12600"/>
                </a:xfrm>
                <a:custGeom>
                  <a:avLst/>
                  <a:gdLst/>
                  <a:ahLst/>
                  <a:rect l="l" t="t" r="r" b="b"/>
                  <a:pathLst>
                    <a:path w="31" h="7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6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4" y="5"/>
                      </a:lnTo>
                      <a:lnTo>
                        <a:pt x="22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1" y="6"/>
                      </a:lnTo>
                      <a:lnTo>
                        <a:pt x="26" y="6"/>
                      </a:lnTo>
                      <a:lnTo>
                        <a:pt x="18" y="7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6" name=""/>
                <p:cNvGrpSpPr/>
                <p:nvPr/>
              </p:nvGrpSpPr>
              <p:grpSpPr>
                <a:xfrm>
                  <a:off x="2001600" y="4275000"/>
                  <a:ext cx="44640" cy="23040"/>
                  <a:chOff x="2001600" y="4275000"/>
                  <a:chExt cx="44640" cy="23040"/>
                </a:xfrm>
              </p:grpSpPr>
              <p:sp>
                <p:nvSpPr>
                  <p:cNvPr id="2177" name=""/>
                  <p:cNvSpPr/>
                  <p:nvPr/>
                </p:nvSpPr>
                <p:spPr>
                  <a:xfrm>
                    <a:off x="2001600" y="427500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2001600" y="427500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28" y="5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3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1" y="13"/>
                        </a:lnTo>
                        <a:lnTo>
                          <a:pt x="28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9" name=""/>
                <p:cNvSpPr/>
                <p:nvPr/>
              </p:nvSpPr>
              <p:spPr>
                <a:xfrm>
                  <a:off x="2001600" y="427716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8" y="3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10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0" name=""/>
                <p:cNvGrpSpPr/>
                <p:nvPr/>
              </p:nvGrpSpPr>
              <p:grpSpPr>
                <a:xfrm>
                  <a:off x="2014200" y="4284000"/>
                  <a:ext cx="36720" cy="17640"/>
                  <a:chOff x="2014200" y="4284000"/>
                  <a:chExt cx="36720" cy="17640"/>
                </a:xfrm>
              </p:grpSpPr>
              <p:sp>
                <p:nvSpPr>
                  <p:cNvPr id="2181" name=""/>
                  <p:cNvSpPr/>
                  <p:nvPr/>
                </p:nvSpPr>
                <p:spPr>
                  <a:xfrm>
                    <a:off x="2014200" y="42840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20" y="0"/>
                        </a:move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1" y="8"/>
                        </a:lnTo>
                        <a:lnTo>
                          <a:pt x="23" y="7"/>
                        </a:lnTo>
                        <a:lnTo>
                          <a:pt x="23" y="7"/>
                        </a:lnTo>
                        <a:lnTo>
                          <a:pt x="23" y="5"/>
                        </a:lnTo>
                        <a:lnTo>
                          <a:pt x="22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2014200" y="42840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11" y="8"/>
                        </a:lnTo>
                        <a:lnTo>
                          <a:pt x="23" y="7"/>
                        </a:lnTo>
                        <a:lnTo>
                          <a:pt x="23" y="7"/>
                        </a:lnTo>
                        <a:lnTo>
                          <a:pt x="23" y="7"/>
                        </a:lnTo>
                        <a:lnTo>
                          <a:pt x="23" y="5"/>
                        </a:lnTo>
                        <a:lnTo>
                          <a:pt x="22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3" name=""/>
                <p:cNvSpPr/>
                <p:nvPr/>
              </p:nvSpPr>
              <p:spPr>
                <a:xfrm>
                  <a:off x="2014200" y="428400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19" h="7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001600" y="4287960"/>
                  <a:ext cx="49320" cy="14400"/>
                </a:xfrm>
                <a:custGeom>
                  <a:avLst/>
                  <a:gdLst/>
                  <a:ahLst/>
                  <a:rect l="l" t="t" r="r" b="b"/>
                  <a:pathLst>
                    <a:path w="31" h="8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22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1" y="6"/>
                      </a:lnTo>
                      <a:lnTo>
                        <a:pt x="26" y="8"/>
                      </a:lnTo>
                      <a:lnTo>
                        <a:pt x="19" y="8"/>
                      </a:lnTo>
                      <a:lnTo>
                        <a:pt x="11" y="8"/>
                      </a:lnTo>
                      <a:lnTo>
                        <a:pt x="7" y="8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938240" y="4215240"/>
                  <a:ext cx="549360" cy="89280"/>
                </a:xfrm>
                <a:custGeom>
                  <a:avLst/>
                  <a:gdLst/>
                  <a:ahLst/>
                  <a:rect l="l" t="t" r="r" b="b"/>
                  <a:pathLst>
                    <a:path w="346" h="49">
                      <a:moveTo>
                        <a:pt x="346" y="31"/>
                      </a:moveTo>
                      <a:lnTo>
                        <a:pt x="319" y="32"/>
                      </a:lnTo>
                      <a:lnTo>
                        <a:pt x="311" y="25"/>
                      </a:lnTo>
                      <a:lnTo>
                        <a:pt x="293" y="25"/>
                      </a:lnTo>
                      <a:lnTo>
                        <a:pt x="299" y="33"/>
                      </a:lnTo>
                      <a:lnTo>
                        <a:pt x="94" y="44"/>
                      </a:lnTo>
                      <a:lnTo>
                        <a:pt x="86" y="37"/>
                      </a:lnTo>
                      <a:lnTo>
                        <a:pt x="70" y="37"/>
                      </a:lnTo>
                      <a:lnTo>
                        <a:pt x="72" y="45"/>
                      </a:lnTo>
                      <a:lnTo>
                        <a:pt x="48" y="46"/>
                      </a:lnTo>
                      <a:lnTo>
                        <a:pt x="47" y="46"/>
                      </a:lnTo>
                      <a:lnTo>
                        <a:pt x="44" y="44"/>
                      </a:lnTo>
                      <a:lnTo>
                        <a:pt x="39" y="40"/>
                      </a:lnTo>
                      <a:lnTo>
                        <a:pt x="32" y="36"/>
                      </a:lnTo>
                      <a:lnTo>
                        <a:pt x="24" y="30"/>
                      </a:lnTo>
                      <a:lnTo>
                        <a:pt x="16" y="21"/>
                      </a:lnTo>
                      <a:lnTo>
                        <a:pt x="8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6" y="15"/>
                      </a:lnTo>
                      <a:lnTo>
                        <a:pt x="13" y="24"/>
                      </a:lnTo>
                      <a:lnTo>
                        <a:pt x="21" y="32"/>
                      </a:lnTo>
                      <a:lnTo>
                        <a:pt x="29" y="38"/>
                      </a:lnTo>
                      <a:lnTo>
                        <a:pt x="36" y="43"/>
                      </a:lnTo>
                      <a:lnTo>
                        <a:pt x="41" y="46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52" y="49"/>
                      </a:lnTo>
                      <a:lnTo>
                        <a:pt x="62" y="49"/>
                      </a:lnTo>
                      <a:lnTo>
                        <a:pt x="76" y="48"/>
                      </a:lnTo>
                      <a:lnTo>
                        <a:pt x="95" y="46"/>
                      </a:lnTo>
                      <a:lnTo>
                        <a:pt x="118" y="45"/>
                      </a:lnTo>
                      <a:lnTo>
                        <a:pt x="142" y="44"/>
                      </a:lnTo>
                      <a:lnTo>
                        <a:pt x="169" y="43"/>
                      </a:lnTo>
                      <a:lnTo>
                        <a:pt x="196" y="42"/>
                      </a:lnTo>
                      <a:lnTo>
                        <a:pt x="225" y="39"/>
                      </a:lnTo>
                      <a:lnTo>
                        <a:pt x="250" y="38"/>
                      </a:lnTo>
                      <a:lnTo>
                        <a:pt x="276" y="37"/>
                      </a:lnTo>
                      <a:lnTo>
                        <a:pt x="299" y="36"/>
                      </a:lnTo>
                      <a:lnTo>
                        <a:pt x="317" y="34"/>
                      </a:lnTo>
                      <a:lnTo>
                        <a:pt x="332" y="33"/>
                      </a:lnTo>
                      <a:lnTo>
                        <a:pt x="342" y="33"/>
                      </a:lnTo>
                      <a:lnTo>
                        <a:pt x="344" y="33"/>
                      </a:lnTo>
                      <a:lnTo>
                        <a:pt x="346" y="31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431800" y="426240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35" h="6">
                      <a:moveTo>
                        <a:pt x="35" y="5"/>
                      </a:moveTo>
                      <a:lnTo>
                        <a:pt x="9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076120" y="4271400"/>
                  <a:ext cx="336600" cy="23760"/>
                </a:xfrm>
                <a:custGeom>
                  <a:avLst/>
                  <a:gdLst/>
                  <a:ahLst/>
                  <a:rect l="l" t="t" r="r" b="b"/>
                  <a:pathLst>
                    <a:path w="212" h="13">
                      <a:moveTo>
                        <a:pt x="0" y="7"/>
                      </a:moveTo>
                      <a:lnTo>
                        <a:pt x="7" y="13"/>
                      </a:lnTo>
                      <a:lnTo>
                        <a:pt x="212" y="2"/>
                      </a:lnTo>
                      <a:lnTo>
                        <a:pt x="209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939680" y="42152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12"/>
                      </a:lnTo>
                      <a:lnTo>
                        <a:pt x="16" y="21"/>
                      </a:lnTo>
                      <a:lnTo>
                        <a:pt x="24" y="30"/>
                      </a:lnTo>
                      <a:lnTo>
                        <a:pt x="31" y="37"/>
                      </a:lnTo>
                      <a:lnTo>
                        <a:pt x="38" y="42"/>
                      </a:lnTo>
                      <a:lnTo>
                        <a:pt x="43" y="44"/>
                      </a:lnTo>
                      <a:lnTo>
                        <a:pt x="46" y="46"/>
                      </a:lnTo>
                      <a:lnTo>
                        <a:pt x="47" y="46"/>
                      </a:lnTo>
                      <a:lnTo>
                        <a:pt x="71" y="45"/>
                      </a:lnTo>
                      <a:lnTo>
                        <a:pt x="70" y="4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9" name=""/>
                <p:cNvGrpSpPr/>
                <p:nvPr/>
              </p:nvGrpSpPr>
              <p:grpSpPr>
                <a:xfrm>
                  <a:off x="2452680" y="4118400"/>
                  <a:ext cx="37800" cy="30600"/>
                  <a:chOff x="2452680" y="4118400"/>
                  <a:chExt cx="37800" cy="3060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>
                    <a:off x="2452680" y="4118400"/>
                    <a:ext cx="378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4" y="6"/>
                        </a:move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6" y="2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4" y="14"/>
                        </a:lnTo>
                        <a:lnTo>
                          <a:pt x="6" y="15"/>
                        </a:lnTo>
                        <a:lnTo>
                          <a:pt x="10" y="17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2452680" y="4118400"/>
                    <a:ext cx="378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4" y="6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6" y="2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4" y="14"/>
                        </a:lnTo>
                        <a:lnTo>
                          <a:pt x="6" y="15"/>
                        </a:lnTo>
                        <a:lnTo>
                          <a:pt x="10" y="17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>
                  <a:off x="2452680" y="4120200"/>
                  <a:ext cx="21960" cy="309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1" y="5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1" y="12"/>
                      </a:lnTo>
                      <a:lnTo>
                        <a:pt x="8" y="16"/>
                      </a:lnTo>
                      <a:lnTo>
                        <a:pt x="7" y="17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490480" y="41439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4" name=""/>
                <p:cNvGrpSpPr/>
                <p:nvPr/>
              </p:nvGrpSpPr>
              <p:grpSpPr>
                <a:xfrm>
                  <a:off x="2463480" y="4129200"/>
                  <a:ext cx="30240" cy="21240"/>
                  <a:chOff x="2463480" y="4129200"/>
                  <a:chExt cx="30240" cy="21240"/>
                </a:xfrm>
              </p:grpSpPr>
              <p:sp>
                <p:nvSpPr>
                  <p:cNvPr id="2195" name=""/>
                  <p:cNvSpPr/>
                  <p:nvPr/>
                </p:nvSpPr>
                <p:spPr>
                  <a:xfrm>
                    <a:off x="2463480" y="412920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463480" y="412920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7" name=""/>
                <p:cNvSpPr/>
                <p:nvPr/>
              </p:nvSpPr>
              <p:spPr>
                <a:xfrm>
                  <a:off x="2465280" y="412920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455560" y="4134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lnTo>
                        <a:pt x="20" y="9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388960" y="413496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901520" y="4156560"/>
                  <a:ext cx="3240" cy="5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939680" y="4167720"/>
                  <a:ext cx="4680" cy="72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2" name=""/>
                <p:cNvGrpSpPr/>
                <p:nvPr/>
              </p:nvGrpSpPr>
              <p:grpSpPr>
                <a:xfrm>
                  <a:off x="1901520" y="4143960"/>
                  <a:ext cx="38160" cy="28440"/>
                  <a:chOff x="1901520" y="4143960"/>
                  <a:chExt cx="38160" cy="28440"/>
                </a:xfrm>
              </p:grpSpPr>
              <p:sp>
                <p:nvSpPr>
                  <p:cNvPr id="2203" name=""/>
                  <p:cNvSpPr/>
                  <p:nvPr/>
                </p:nvSpPr>
                <p:spPr>
                  <a:xfrm>
                    <a:off x="1901520" y="414396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5"/>
                        </a:move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4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3"/>
                        </a:lnTo>
                        <a:lnTo>
                          <a:pt x="4" y="15"/>
                        </a:lnTo>
                        <a:lnTo>
                          <a:pt x="4" y="15"/>
                        </a:lnTo>
                        <a:lnTo>
                          <a:pt x="9" y="16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1901520" y="414396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5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4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3"/>
                        </a:lnTo>
                        <a:lnTo>
                          <a:pt x="4" y="15"/>
                        </a:lnTo>
                        <a:lnTo>
                          <a:pt x="4" y="15"/>
                        </a:lnTo>
                        <a:lnTo>
                          <a:pt x="9" y="16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5" name=""/>
                <p:cNvSpPr/>
                <p:nvPr/>
              </p:nvSpPr>
              <p:spPr>
                <a:xfrm>
                  <a:off x="1901520" y="4143960"/>
                  <a:ext cx="19080" cy="3240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6" name=""/>
                <p:cNvGrpSpPr/>
                <p:nvPr/>
              </p:nvGrpSpPr>
              <p:grpSpPr>
                <a:xfrm>
                  <a:off x="1911240" y="4152960"/>
                  <a:ext cx="30240" cy="23040"/>
                  <a:chOff x="1911240" y="4152960"/>
                  <a:chExt cx="30240" cy="23040"/>
                </a:xfrm>
              </p:grpSpPr>
              <p:sp>
                <p:nvSpPr>
                  <p:cNvPr id="2207" name=""/>
                  <p:cNvSpPr/>
                  <p:nvPr/>
                </p:nvSpPr>
                <p:spPr>
                  <a:xfrm>
                    <a:off x="1911240" y="4152960"/>
                    <a:ext cx="30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3">
                        <a:moveTo>
                          <a:pt x="18" y="0"/>
                        </a:moveTo>
                        <a:lnTo>
                          <a:pt x="17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1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1911240" y="4152960"/>
                    <a:ext cx="30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3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2"/>
                        </a:lnTo>
                        <a:lnTo>
                          <a:pt x="19" y="11"/>
                        </a:lnTo>
                        <a:lnTo>
                          <a:pt x="19" y="7"/>
                        </a:lnTo>
                        <a:lnTo>
                          <a:pt x="19" y="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9" name=""/>
                <p:cNvSpPr/>
                <p:nvPr/>
              </p:nvSpPr>
              <p:spPr>
                <a:xfrm>
                  <a:off x="1914480" y="4152960"/>
                  <a:ext cx="25200" cy="198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0" y="1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901520" y="4160160"/>
                  <a:ext cx="39960" cy="14760"/>
                </a:xfrm>
                <a:custGeom>
                  <a:avLst/>
                  <a:gdLst/>
                  <a:ahLst/>
                  <a:rect l="l" t="t" r="r" b="b"/>
                  <a:pathLst>
                    <a:path w="25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5" y="6"/>
                      </a:lnTo>
                      <a:lnTo>
                        <a:pt x="25" y="8"/>
                      </a:lnTo>
                      <a:lnTo>
                        <a:pt x="20" y="8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6" y="8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1898640" y="4156560"/>
                  <a:ext cx="45720" cy="2160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29" y="9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7" y="8"/>
                      </a:lnTo>
                      <a:lnTo>
                        <a:pt x="4" y="5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7" y="11"/>
                      </a:lnTo>
                      <a:lnTo>
                        <a:pt x="8" y="12"/>
                      </a:lnTo>
                      <a:lnTo>
                        <a:pt x="13" y="12"/>
                      </a:lnTo>
                      <a:lnTo>
                        <a:pt x="18" y="12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9" y="9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1901520" y="4156560"/>
                  <a:ext cx="42840" cy="1836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7" y="9"/>
                      </a:move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377800" y="414576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242800" y="4141800"/>
                  <a:ext cx="6480" cy="36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834920" y="4143960"/>
                  <a:ext cx="976320" cy="192960"/>
                </a:xfrm>
                <a:custGeom>
                  <a:avLst/>
                  <a:gdLst/>
                  <a:ahLst/>
                  <a:rect l="l" t="t" r="r" b="b"/>
                  <a:pathLst>
                    <a:path w="615" h="10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8" y="11"/>
                      </a:lnTo>
                      <a:lnTo>
                        <a:pt x="16" y="22"/>
                      </a:lnTo>
                      <a:lnTo>
                        <a:pt x="26" y="34"/>
                      </a:lnTo>
                      <a:lnTo>
                        <a:pt x="36" y="47"/>
                      </a:lnTo>
                      <a:lnTo>
                        <a:pt x="44" y="58"/>
                      </a:lnTo>
                      <a:lnTo>
                        <a:pt x="51" y="66"/>
                      </a:lnTo>
                      <a:lnTo>
                        <a:pt x="54" y="70"/>
                      </a:lnTo>
                      <a:lnTo>
                        <a:pt x="54" y="70"/>
                      </a:lnTo>
                      <a:lnTo>
                        <a:pt x="59" y="76"/>
                      </a:lnTo>
                      <a:lnTo>
                        <a:pt x="69" y="87"/>
                      </a:lnTo>
                      <a:lnTo>
                        <a:pt x="79" y="99"/>
                      </a:lnTo>
                      <a:lnTo>
                        <a:pt x="85" y="105"/>
                      </a:lnTo>
                      <a:lnTo>
                        <a:pt x="85" y="105"/>
                      </a:lnTo>
                      <a:lnTo>
                        <a:pt x="86" y="106"/>
                      </a:lnTo>
                      <a:lnTo>
                        <a:pt x="88" y="106"/>
                      </a:lnTo>
                      <a:lnTo>
                        <a:pt x="89" y="106"/>
                      </a:lnTo>
                      <a:lnTo>
                        <a:pt x="89" y="106"/>
                      </a:lnTo>
                      <a:lnTo>
                        <a:pt x="615" y="7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2422440" y="4120200"/>
                  <a:ext cx="39600" cy="30600"/>
                  <a:chOff x="2422440" y="4120200"/>
                  <a:chExt cx="39600" cy="3060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>
                    <a:off x="2422440" y="4120200"/>
                    <a:ext cx="39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25" y="6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8" y="17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2422440" y="4120200"/>
                    <a:ext cx="39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25" y="6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8" y="17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>
                  <a:off x="2422440" y="412200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6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1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0" name=""/>
                <p:cNvGrpSpPr/>
                <p:nvPr/>
              </p:nvGrpSpPr>
              <p:grpSpPr>
                <a:xfrm>
                  <a:off x="2433600" y="4131360"/>
                  <a:ext cx="28440" cy="21240"/>
                  <a:chOff x="2433600" y="4131360"/>
                  <a:chExt cx="28440" cy="21240"/>
                </a:xfrm>
              </p:grpSpPr>
              <p:sp>
                <p:nvSpPr>
                  <p:cNvPr id="2221" name=""/>
                  <p:cNvSpPr/>
                  <p:nvPr/>
                </p:nvSpPr>
                <p:spPr>
                  <a:xfrm>
                    <a:off x="2433600" y="4131360"/>
                    <a:ext cx="284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2433600" y="4131360"/>
                    <a:ext cx="284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3" name=""/>
                <p:cNvSpPr/>
                <p:nvPr/>
              </p:nvSpPr>
              <p:spPr>
                <a:xfrm>
                  <a:off x="2433600" y="4131360"/>
                  <a:ext cx="25200" cy="198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422440" y="4134960"/>
                  <a:ext cx="39600" cy="1800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6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2" y="8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1" y="9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6" y="9"/>
                      </a:lnTo>
                      <a:lnTo>
                        <a:pt x="3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5" name=""/>
                <p:cNvGrpSpPr/>
                <p:nvPr/>
              </p:nvGrpSpPr>
              <p:grpSpPr>
                <a:xfrm>
                  <a:off x="2390760" y="4120200"/>
                  <a:ext cx="37800" cy="30600"/>
                  <a:chOff x="2390760" y="4120200"/>
                  <a:chExt cx="37800" cy="3060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2390760" y="4120200"/>
                    <a:ext cx="378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8" y="17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2390760" y="4120200"/>
                    <a:ext cx="378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6" y="1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8" y="17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8" name=""/>
                <p:cNvSpPr/>
                <p:nvPr/>
              </p:nvSpPr>
              <p:spPr>
                <a:xfrm>
                  <a:off x="2390760" y="412200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6" y="0"/>
                      </a:moveTo>
                      <a:lnTo>
                        <a:pt x="7" y="1"/>
                      </a:lnTo>
                      <a:lnTo>
                        <a:pt x="8" y="3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4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9" name=""/>
                <p:cNvGrpSpPr/>
                <p:nvPr/>
              </p:nvGrpSpPr>
              <p:grpSpPr>
                <a:xfrm>
                  <a:off x="2401560" y="4131360"/>
                  <a:ext cx="30240" cy="21240"/>
                  <a:chOff x="2401560" y="4131360"/>
                  <a:chExt cx="30240" cy="21240"/>
                </a:xfrm>
              </p:grpSpPr>
              <p:sp>
                <p:nvSpPr>
                  <p:cNvPr id="2230" name=""/>
                  <p:cNvSpPr/>
                  <p:nvPr/>
                </p:nvSpPr>
                <p:spPr>
                  <a:xfrm>
                    <a:off x="2401560" y="4131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401560" y="4131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2" name=""/>
                <p:cNvSpPr/>
                <p:nvPr/>
              </p:nvSpPr>
              <p:spPr>
                <a:xfrm>
                  <a:off x="2401560" y="4131360"/>
                  <a:ext cx="25560" cy="198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2390760" y="4138200"/>
                  <a:ext cx="3780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7"/>
                      </a:lnTo>
                      <a:lnTo>
                        <a:pt x="20" y="8"/>
                      </a:lnTo>
                      <a:lnTo>
                        <a:pt x="14" y="8"/>
                      </a:lnTo>
                      <a:lnTo>
                        <a:pt x="10" y="8"/>
                      </a:lnTo>
                      <a:lnTo>
                        <a:pt x="6" y="7"/>
                      </a:lnTo>
                      <a:lnTo>
                        <a:pt x="4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4" name=""/>
                <p:cNvGrpSpPr/>
                <p:nvPr/>
              </p:nvGrpSpPr>
              <p:grpSpPr>
                <a:xfrm>
                  <a:off x="2339640" y="4123800"/>
                  <a:ext cx="38160" cy="28800"/>
                  <a:chOff x="2339640" y="4123800"/>
                  <a:chExt cx="38160" cy="2880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>
                    <a:off x="2339640" y="4123800"/>
                    <a:ext cx="38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4"/>
                        </a:lnTo>
                        <a:lnTo>
                          <a:pt x="3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2339640" y="4123800"/>
                    <a:ext cx="38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4"/>
                        </a:lnTo>
                        <a:lnTo>
                          <a:pt x="3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7" name=""/>
                <p:cNvSpPr/>
                <p:nvPr/>
              </p:nvSpPr>
              <p:spPr>
                <a:xfrm>
                  <a:off x="2339640" y="4127400"/>
                  <a:ext cx="19080" cy="288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5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3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8" name=""/>
                <p:cNvGrpSpPr/>
                <p:nvPr/>
              </p:nvGrpSpPr>
              <p:grpSpPr>
                <a:xfrm>
                  <a:off x="2350800" y="4134960"/>
                  <a:ext cx="28800" cy="20880"/>
                  <a:chOff x="2350800" y="4134960"/>
                  <a:chExt cx="28800" cy="2088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2350800" y="4134960"/>
                    <a:ext cx="28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6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7" y="6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2350800" y="4134960"/>
                    <a:ext cx="28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6" y="12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7" y="6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1" name=""/>
                <p:cNvSpPr/>
                <p:nvPr/>
              </p:nvSpPr>
              <p:spPr>
                <a:xfrm>
                  <a:off x="2350800" y="4134960"/>
                  <a:ext cx="25560" cy="180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9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2339640" y="41403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3" y="8"/>
                      </a:lnTo>
                      <a:lnTo>
                        <a:pt x="8" y="9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3" name=""/>
                <p:cNvGrpSpPr/>
                <p:nvPr/>
              </p:nvGrpSpPr>
              <p:grpSpPr>
                <a:xfrm>
                  <a:off x="2307960" y="4127400"/>
                  <a:ext cx="38160" cy="26640"/>
                  <a:chOff x="2307960" y="4127400"/>
                  <a:chExt cx="38160" cy="2664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>
                    <a:off x="2307960" y="4127400"/>
                    <a:ext cx="38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2307960" y="4127400"/>
                    <a:ext cx="38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6" name=""/>
                <p:cNvSpPr/>
                <p:nvPr/>
              </p:nvSpPr>
              <p:spPr>
                <a:xfrm>
                  <a:off x="2307960" y="4127400"/>
                  <a:ext cx="19080" cy="3240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7" name=""/>
                <p:cNvGrpSpPr/>
                <p:nvPr/>
              </p:nvGrpSpPr>
              <p:grpSpPr>
                <a:xfrm>
                  <a:off x="2317680" y="4134960"/>
                  <a:ext cx="30240" cy="24840"/>
                  <a:chOff x="2317680" y="4134960"/>
                  <a:chExt cx="30240" cy="24840"/>
                </a:xfrm>
              </p:grpSpPr>
              <p:sp>
                <p:nvSpPr>
                  <p:cNvPr id="2248" name=""/>
                  <p:cNvSpPr/>
                  <p:nvPr/>
                </p:nvSpPr>
                <p:spPr>
                  <a:xfrm>
                    <a:off x="2317680" y="4134960"/>
                    <a:ext cx="30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4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8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2317680" y="4134960"/>
                    <a:ext cx="30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4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8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0" name=""/>
                <p:cNvSpPr/>
                <p:nvPr/>
              </p:nvSpPr>
              <p:spPr>
                <a:xfrm>
                  <a:off x="2320920" y="4134960"/>
                  <a:ext cx="25200" cy="198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307960" y="414180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25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4" y="2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5" y="6"/>
                      </a:lnTo>
                      <a:lnTo>
                        <a:pt x="25" y="8"/>
                      </a:lnTo>
                      <a:lnTo>
                        <a:pt x="20" y="8"/>
                      </a:lnTo>
                      <a:lnTo>
                        <a:pt x="14" y="8"/>
                      </a:lnTo>
                      <a:lnTo>
                        <a:pt x="9" y="8"/>
                      </a:lnTo>
                      <a:lnTo>
                        <a:pt x="6" y="8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2" name=""/>
                <p:cNvGrpSpPr/>
                <p:nvPr/>
              </p:nvGrpSpPr>
              <p:grpSpPr>
                <a:xfrm>
                  <a:off x="2277720" y="4127400"/>
                  <a:ext cx="36720" cy="28440"/>
                  <a:chOff x="2277720" y="4127400"/>
                  <a:chExt cx="36720" cy="28440"/>
                </a:xfrm>
              </p:grpSpPr>
              <p:sp>
                <p:nvSpPr>
                  <p:cNvPr id="2253" name=""/>
                  <p:cNvSpPr/>
                  <p:nvPr/>
                </p:nvSpPr>
                <p:spPr>
                  <a:xfrm>
                    <a:off x="2277720" y="412740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6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3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2277720" y="412740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3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5" name=""/>
                <p:cNvSpPr/>
                <p:nvPr/>
              </p:nvSpPr>
              <p:spPr>
                <a:xfrm>
                  <a:off x="2277720" y="412920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2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6" y="15"/>
                      </a:lnTo>
                      <a:lnTo>
                        <a:pt x="5" y="17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1" y="5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6" name=""/>
                <p:cNvGrpSpPr/>
                <p:nvPr/>
              </p:nvGrpSpPr>
              <p:grpSpPr>
                <a:xfrm>
                  <a:off x="2286000" y="4138200"/>
                  <a:ext cx="29880" cy="21240"/>
                  <a:chOff x="2286000" y="4138200"/>
                  <a:chExt cx="29880" cy="21240"/>
                </a:xfrm>
              </p:grpSpPr>
              <p:sp>
                <p:nvSpPr>
                  <p:cNvPr id="2257" name=""/>
                  <p:cNvSpPr/>
                  <p:nvPr/>
                </p:nvSpPr>
                <p:spPr>
                  <a:xfrm>
                    <a:off x="2286000" y="413820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0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2286000" y="413820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9" name=""/>
                <p:cNvSpPr/>
                <p:nvPr/>
              </p:nvSpPr>
              <p:spPr>
                <a:xfrm>
                  <a:off x="2287440" y="4138200"/>
                  <a:ext cx="27000" cy="1800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4"/>
                      </a:lnTo>
                      <a:lnTo>
                        <a:pt x="2" y="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277720" y="4141800"/>
                  <a:ext cx="38160" cy="1800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12" y="7"/>
                      </a:lnTo>
                      <a:lnTo>
                        <a:pt x="17" y="6"/>
                      </a:lnTo>
                      <a:lnTo>
                        <a:pt x="21" y="6"/>
                      </a:lnTo>
                      <a:lnTo>
                        <a:pt x="24" y="6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5" y="8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1" name=""/>
                <p:cNvGrpSpPr/>
                <p:nvPr/>
              </p:nvGrpSpPr>
              <p:grpSpPr>
                <a:xfrm>
                  <a:off x="2246040" y="4129200"/>
                  <a:ext cx="38160" cy="26640"/>
                  <a:chOff x="2246040" y="4129200"/>
                  <a:chExt cx="38160" cy="26640"/>
                </a:xfrm>
              </p:grpSpPr>
              <p:sp>
                <p:nvSpPr>
                  <p:cNvPr id="2262" name=""/>
                  <p:cNvSpPr/>
                  <p:nvPr/>
                </p:nvSpPr>
                <p:spPr>
                  <a:xfrm>
                    <a:off x="2246040" y="4129200"/>
                    <a:ext cx="38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2246040" y="4129200"/>
                    <a:ext cx="38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6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4" name=""/>
                <p:cNvSpPr/>
                <p:nvPr/>
              </p:nvSpPr>
              <p:spPr>
                <a:xfrm>
                  <a:off x="2246040" y="412920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2" y="8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5" name=""/>
                <p:cNvGrpSpPr/>
                <p:nvPr/>
              </p:nvGrpSpPr>
              <p:grpSpPr>
                <a:xfrm>
                  <a:off x="2255760" y="4140360"/>
                  <a:ext cx="30240" cy="21240"/>
                  <a:chOff x="2255760" y="4140360"/>
                  <a:chExt cx="30240" cy="21240"/>
                </a:xfrm>
              </p:grpSpPr>
              <p:sp>
                <p:nvSpPr>
                  <p:cNvPr id="2266" name=""/>
                  <p:cNvSpPr/>
                  <p:nvPr/>
                </p:nvSpPr>
                <p:spPr>
                  <a:xfrm>
                    <a:off x="2255760" y="4140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6"/>
                        </a:lnTo>
                        <a:lnTo>
                          <a:pt x="2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2255760" y="4140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6"/>
                        </a:lnTo>
                        <a:lnTo>
                          <a:pt x="2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8" name=""/>
                <p:cNvSpPr/>
                <p:nvPr/>
              </p:nvSpPr>
              <p:spPr>
                <a:xfrm>
                  <a:off x="2259000" y="414036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2246040" y="4143960"/>
                  <a:ext cx="39960" cy="1800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2" y="6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0" y="9"/>
                      </a:lnTo>
                      <a:lnTo>
                        <a:pt x="14" y="9"/>
                      </a:lnTo>
                      <a:lnTo>
                        <a:pt x="9" y="10"/>
                      </a:lnTo>
                      <a:lnTo>
                        <a:pt x="6" y="9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2239920" y="41529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108160" y="414936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2203200" y="4131360"/>
                  <a:ext cx="36720" cy="28440"/>
                  <a:chOff x="2203200" y="4131360"/>
                  <a:chExt cx="36720" cy="2844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>
                    <a:off x="2203200" y="413136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8" y="16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2203200" y="413136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8" y="16"/>
                        </a:lnTo>
                        <a:lnTo>
                          <a:pt x="23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5" name=""/>
                <p:cNvSpPr/>
                <p:nvPr/>
              </p:nvSpPr>
              <p:spPr>
                <a:xfrm>
                  <a:off x="2203200" y="413136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5" y="0"/>
                      </a:move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9" y="12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6" name=""/>
                <p:cNvGrpSpPr/>
                <p:nvPr/>
              </p:nvGrpSpPr>
              <p:grpSpPr>
                <a:xfrm>
                  <a:off x="2212920" y="4140360"/>
                  <a:ext cx="28440" cy="21240"/>
                  <a:chOff x="2212920" y="4140360"/>
                  <a:chExt cx="28440" cy="21240"/>
                </a:xfrm>
              </p:grpSpPr>
              <p:sp>
                <p:nvSpPr>
                  <p:cNvPr id="2277" name=""/>
                  <p:cNvSpPr/>
                  <p:nvPr/>
                </p:nvSpPr>
                <p:spPr>
                  <a:xfrm>
                    <a:off x="2212920" y="4140360"/>
                    <a:ext cx="284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8" y="11"/>
                        </a:lnTo>
                        <a:lnTo>
                          <a:pt x="18" y="9"/>
                        </a:lnTo>
                        <a:lnTo>
                          <a:pt x="17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212920" y="4140360"/>
                    <a:ext cx="284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8" y="9"/>
                        </a:lnTo>
                        <a:lnTo>
                          <a:pt x="17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9" name=""/>
                <p:cNvSpPr/>
                <p:nvPr/>
              </p:nvSpPr>
              <p:spPr>
                <a:xfrm>
                  <a:off x="2212920" y="4140360"/>
                  <a:ext cx="270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203200" y="4145760"/>
                  <a:ext cx="36720" cy="1620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23" y="8"/>
                      </a:lnTo>
                      <a:lnTo>
                        <a:pt x="20" y="9"/>
                      </a:lnTo>
                      <a:lnTo>
                        <a:pt x="13" y="9"/>
                      </a:lnTo>
                      <a:lnTo>
                        <a:pt x="9" y="9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1" name=""/>
                <p:cNvGrpSpPr/>
                <p:nvPr/>
              </p:nvGrpSpPr>
              <p:grpSpPr>
                <a:xfrm>
                  <a:off x="2170080" y="4131360"/>
                  <a:ext cx="39600" cy="30600"/>
                  <a:chOff x="2170080" y="4131360"/>
                  <a:chExt cx="39600" cy="30600"/>
                </a:xfrm>
              </p:grpSpPr>
              <p:sp>
                <p:nvSpPr>
                  <p:cNvPr id="2282" name=""/>
                  <p:cNvSpPr/>
                  <p:nvPr/>
                </p:nvSpPr>
                <p:spPr>
                  <a:xfrm>
                    <a:off x="2170080" y="4131360"/>
                    <a:ext cx="39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25" y="6"/>
                        </a:move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3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10" y="17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2170080" y="4131360"/>
                    <a:ext cx="39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25" y="6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3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10" y="17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4" name=""/>
                <p:cNvSpPr/>
                <p:nvPr/>
              </p:nvSpPr>
              <p:spPr>
                <a:xfrm>
                  <a:off x="2170080" y="4132800"/>
                  <a:ext cx="20520" cy="3096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10" y="3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1" y="11"/>
                      </a:lnTo>
                      <a:lnTo>
                        <a:pt x="9" y="16"/>
                      </a:lnTo>
                      <a:lnTo>
                        <a:pt x="7" y="17"/>
                      </a:lnTo>
                      <a:lnTo>
                        <a:pt x="4" y="15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5" name=""/>
                <p:cNvGrpSpPr/>
                <p:nvPr/>
              </p:nvGrpSpPr>
              <p:grpSpPr>
                <a:xfrm>
                  <a:off x="2181240" y="4141800"/>
                  <a:ext cx="29880" cy="21240"/>
                  <a:chOff x="2181240" y="4141800"/>
                  <a:chExt cx="29880" cy="2124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>
                    <a:off x="2181240" y="414180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6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2181240" y="414180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6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8" name=""/>
                <p:cNvSpPr/>
                <p:nvPr/>
              </p:nvSpPr>
              <p:spPr>
                <a:xfrm>
                  <a:off x="2184120" y="414180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5"/>
                      </a:lnTo>
                      <a:lnTo>
                        <a:pt x="1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170080" y="4145760"/>
                  <a:ext cx="41040" cy="1800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2" y="0"/>
                      </a:move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26" y="6"/>
                      </a:lnTo>
                      <a:lnTo>
                        <a:pt x="26" y="9"/>
                      </a:lnTo>
                      <a:lnTo>
                        <a:pt x="21" y="9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0" name=""/>
                <p:cNvGrpSpPr/>
                <p:nvPr/>
              </p:nvGrpSpPr>
              <p:grpSpPr>
                <a:xfrm>
                  <a:off x="2141280" y="4132800"/>
                  <a:ext cx="38160" cy="28800"/>
                  <a:chOff x="2141280" y="4132800"/>
                  <a:chExt cx="38160" cy="2880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>
                    <a:off x="2141280" y="4132800"/>
                    <a:ext cx="38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2141280" y="4132800"/>
                    <a:ext cx="38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5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3" name=""/>
                <p:cNvSpPr/>
                <p:nvPr/>
              </p:nvSpPr>
              <p:spPr>
                <a:xfrm>
                  <a:off x="2141280" y="413280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5" y="0"/>
                      </a:moveTo>
                      <a:lnTo>
                        <a:pt x="6" y="1"/>
                      </a:lnTo>
                      <a:lnTo>
                        <a:pt x="8" y="3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9" y="12"/>
                      </a:lnTo>
                      <a:lnTo>
                        <a:pt x="6" y="16"/>
                      </a:lnTo>
                      <a:lnTo>
                        <a:pt x="5" y="18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4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4" name=""/>
                <p:cNvGrpSpPr/>
                <p:nvPr/>
              </p:nvGrpSpPr>
              <p:grpSpPr>
                <a:xfrm>
                  <a:off x="2149200" y="4141800"/>
                  <a:ext cx="30240" cy="23400"/>
                  <a:chOff x="2149200" y="4141800"/>
                  <a:chExt cx="30240" cy="23400"/>
                </a:xfrm>
              </p:grpSpPr>
              <p:sp>
                <p:nvSpPr>
                  <p:cNvPr id="2295" name=""/>
                  <p:cNvSpPr/>
                  <p:nvPr/>
                </p:nvSpPr>
                <p:spPr>
                  <a:xfrm>
                    <a:off x="2149200" y="4141800"/>
                    <a:ext cx="30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3">
                        <a:moveTo>
                          <a:pt x="19" y="0"/>
                        </a:move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4" y="6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2149200" y="4141800"/>
                    <a:ext cx="30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3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4" y="6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7" name=""/>
                <p:cNvSpPr/>
                <p:nvPr/>
              </p:nvSpPr>
              <p:spPr>
                <a:xfrm>
                  <a:off x="2151000" y="414180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2141280" y="41493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4" y="7"/>
                      </a:lnTo>
                      <a:lnTo>
                        <a:pt x="20" y="8"/>
                      </a:lnTo>
                      <a:lnTo>
                        <a:pt x="13" y="8"/>
                      </a:lnTo>
                      <a:lnTo>
                        <a:pt x="8" y="8"/>
                      </a:lnTo>
                      <a:lnTo>
                        <a:pt x="5" y="7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9" name=""/>
                <p:cNvGrpSpPr/>
                <p:nvPr/>
              </p:nvGrpSpPr>
              <p:grpSpPr>
                <a:xfrm>
                  <a:off x="2108160" y="4134960"/>
                  <a:ext cx="39600" cy="28440"/>
                  <a:chOff x="2108160" y="4134960"/>
                  <a:chExt cx="39600" cy="28440"/>
                </a:xfrm>
              </p:grpSpPr>
              <p:sp>
                <p:nvSpPr>
                  <p:cNvPr id="2300" name=""/>
                  <p:cNvSpPr/>
                  <p:nvPr/>
                </p:nvSpPr>
                <p:spPr>
                  <a:xfrm>
                    <a:off x="2108160" y="4134960"/>
                    <a:ext cx="39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4" y="15"/>
                        </a:lnTo>
                        <a:lnTo>
                          <a:pt x="4" y="15"/>
                        </a:lnTo>
                        <a:lnTo>
                          <a:pt x="10" y="16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afaf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2108160" y="4134960"/>
                    <a:ext cx="39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25" y="5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4" y="15"/>
                        </a:lnTo>
                        <a:lnTo>
                          <a:pt x="4" y="15"/>
                        </a:lnTo>
                        <a:lnTo>
                          <a:pt x="10" y="16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2" name=""/>
                <p:cNvSpPr/>
                <p:nvPr/>
              </p:nvSpPr>
              <p:spPr>
                <a:xfrm>
                  <a:off x="2108160" y="413496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2" y="8"/>
                      </a:lnTo>
                      <a:lnTo>
                        <a:pt x="11" y="12"/>
                      </a:lnTo>
                      <a:lnTo>
                        <a:pt x="8" y="16"/>
                      </a:lnTo>
                      <a:lnTo>
                        <a:pt x="7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4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2a2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2119320" y="4143960"/>
                  <a:ext cx="29880" cy="21240"/>
                  <a:chOff x="2119320" y="4143960"/>
                  <a:chExt cx="29880" cy="21240"/>
                </a:xfrm>
              </p:grpSpPr>
              <p:sp>
                <p:nvSpPr>
                  <p:cNvPr id="2304" name=""/>
                  <p:cNvSpPr/>
                  <p:nvPr/>
                </p:nvSpPr>
                <p:spPr>
                  <a:xfrm>
                    <a:off x="2119320" y="414396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5" y="0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888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2119320" y="4143960"/>
                    <a:ext cx="29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6" name=""/>
                <p:cNvSpPr/>
                <p:nvPr/>
              </p:nvSpPr>
              <p:spPr>
                <a:xfrm>
                  <a:off x="2120760" y="4143960"/>
                  <a:ext cx="270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0" y="9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108160" y="4151160"/>
                  <a:ext cx="41040" cy="14760"/>
                </a:xfrm>
                <a:custGeom>
                  <a:avLst/>
                  <a:gdLst/>
                  <a:ahLst/>
                  <a:rect l="l" t="t" r="r" b="b"/>
                  <a:pathLst>
                    <a:path w="26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6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5"/>
                      </a:lnTo>
                      <a:lnTo>
                        <a:pt x="26" y="5"/>
                      </a:lnTo>
                      <a:lnTo>
                        <a:pt x="26" y="7"/>
                      </a:lnTo>
                      <a:lnTo>
                        <a:pt x="21" y="8"/>
                      </a:lnTo>
                      <a:lnTo>
                        <a:pt x="15" y="8"/>
                      </a:lnTo>
                      <a:lnTo>
                        <a:pt x="10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6f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100240" y="415656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1966680" y="41529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062080" y="4134960"/>
                  <a:ext cx="38160" cy="28440"/>
                  <a:chOff x="2062080" y="4134960"/>
                  <a:chExt cx="38160" cy="2844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>
                    <a:off x="2062080" y="413496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2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2062080" y="413496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6">
                        <a:moveTo>
                          <a:pt x="24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2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2" y="4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3" name=""/>
                <p:cNvSpPr/>
                <p:nvPr/>
              </p:nvSpPr>
              <p:spPr>
                <a:xfrm>
                  <a:off x="2062080" y="4138200"/>
                  <a:ext cx="1908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4" name=""/>
                <p:cNvGrpSpPr/>
                <p:nvPr/>
              </p:nvGrpSpPr>
              <p:grpSpPr>
                <a:xfrm>
                  <a:off x="2071440" y="4145760"/>
                  <a:ext cx="30240" cy="21240"/>
                  <a:chOff x="2071440" y="4145760"/>
                  <a:chExt cx="30240" cy="2124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>
                    <a:off x="2071440" y="41457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071440" y="41457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2"/>
                        </a:lnTo>
                        <a:lnTo>
                          <a:pt x="3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9" y="6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7" name=""/>
                <p:cNvSpPr/>
                <p:nvPr/>
              </p:nvSpPr>
              <p:spPr>
                <a:xfrm>
                  <a:off x="2071440" y="4145760"/>
                  <a:ext cx="27000" cy="1800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3" y="5"/>
                      </a:lnTo>
                      <a:lnTo>
                        <a:pt x="2" y="9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062080" y="415116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9" y="7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9" name=""/>
                <p:cNvGrpSpPr/>
                <p:nvPr/>
              </p:nvGrpSpPr>
              <p:grpSpPr>
                <a:xfrm>
                  <a:off x="2030400" y="4138200"/>
                  <a:ext cx="37800" cy="27000"/>
                  <a:chOff x="2030400" y="4138200"/>
                  <a:chExt cx="37800" cy="27000"/>
                </a:xfrm>
              </p:grpSpPr>
              <p:sp>
                <p:nvSpPr>
                  <p:cNvPr id="2320" name=""/>
                  <p:cNvSpPr/>
                  <p:nvPr/>
                </p:nvSpPr>
                <p:spPr>
                  <a:xfrm>
                    <a:off x="2030400" y="4138200"/>
                    <a:ext cx="37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2030400" y="4138200"/>
                    <a:ext cx="37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4" y="4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4" y="14"/>
                        </a:lnTo>
                        <a:lnTo>
                          <a:pt x="9" y="15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2" name=""/>
                <p:cNvSpPr/>
                <p:nvPr/>
              </p:nvSpPr>
              <p:spPr>
                <a:xfrm>
                  <a:off x="2030400" y="4138200"/>
                  <a:ext cx="20520" cy="3276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lnTo>
                        <a:pt x="13" y="6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3" name=""/>
                <p:cNvGrpSpPr/>
                <p:nvPr/>
              </p:nvGrpSpPr>
              <p:grpSpPr>
                <a:xfrm>
                  <a:off x="2039760" y="4145760"/>
                  <a:ext cx="30240" cy="25200"/>
                  <a:chOff x="2039760" y="4145760"/>
                  <a:chExt cx="30240" cy="25200"/>
                </a:xfrm>
              </p:grpSpPr>
              <p:sp>
                <p:nvSpPr>
                  <p:cNvPr id="2324" name=""/>
                  <p:cNvSpPr/>
                  <p:nvPr/>
                </p:nvSpPr>
                <p:spPr>
                  <a:xfrm>
                    <a:off x="2039760" y="414576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4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8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2039760" y="414576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2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2" y="11"/>
                        </a:lnTo>
                        <a:lnTo>
                          <a:pt x="0" y="14"/>
                        </a:lnTo>
                        <a:lnTo>
                          <a:pt x="7" y="12"/>
                        </a:lnTo>
                        <a:lnTo>
                          <a:pt x="19" y="12"/>
                        </a:lnTo>
                        <a:lnTo>
                          <a:pt x="19" y="12"/>
                        </a:lnTo>
                        <a:lnTo>
                          <a:pt x="19" y="10"/>
                        </a:lnTo>
                        <a:lnTo>
                          <a:pt x="19" y="8"/>
                        </a:lnTo>
                        <a:lnTo>
                          <a:pt x="19" y="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6" name=""/>
                <p:cNvSpPr/>
                <p:nvPr/>
              </p:nvSpPr>
              <p:spPr>
                <a:xfrm>
                  <a:off x="2043000" y="414576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2031840" y="41529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7" y="6"/>
                      </a:lnTo>
                      <a:lnTo>
                        <a:pt x="21" y="6"/>
                      </a:lnTo>
                      <a:lnTo>
                        <a:pt x="24" y="6"/>
                      </a:lnTo>
                      <a:lnTo>
                        <a:pt x="24" y="7"/>
                      </a:lnTo>
                      <a:lnTo>
                        <a:pt x="20" y="8"/>
                      </a:lnTo>
                      <a:lnTo>
                        <a:pt x="13" y="8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8" name=""/>
                <p:cNvGrpSpPr/>
                <p:nvPr/>
              </p:nvGrpSpPr>
              <p:grpSpPr>
                <a:xfrm>
                  <a:off x="2000160" y="4138200"/>
                  <a:ext cx="36360" cy="28800"/>
                  <a:chOff x="2000160" y="4138200"/>
                  <a:chExt cx="36360" cy="28800"/>
                </a:xfrm>
              </p:grpSpPr>
              <p:sp>
                <p:nvSpPr>
                  <p:cNvPr id="2329" name=""/>
                  <p:cNvSpPr/>
                  <p:nvPr/>
                </p:nvSpPr>
                <p:spPr>
                  <a:xfrm>
                    <a:off x="2000160" y="4138200"/>
                    <a:ext cx="363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6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3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2000160" y="4138200"/>
                    <a:ext cx="363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3" y="6"/>
                        </a:move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23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"/>
                <p:cNvSpPr/>
                <p:nvPr/>
              </p:nvSpPr>
              <p:spPr>
                <a:xfrm>
                  <a:off x="2000160" y="4140360"/>
                  <a:ext cx="19080" cy="3096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2" y="5"/>
                      </a:lnTo>
                      <a:lnTo>
                        <a:pt x="10" y="7"/>
                      </a:lnTo>
                      <a:lnTo>
                        <a:pt x="9" y="11"/>
                      </a:lnTo>
                      <a:lnTo>
                        <a:pt x="6" y="15"/>
                      </a:lnTo>
                      <a:lnTo>
                        <a:pt x="5" y="17"/>
                      </a:lnTo>
                      <a:lnTo>
                        <a:pt x="4" y="14"/>
                      </a:lnTo>
                      <a:lnTo>
                        <a:pt x="2" y="13"/>
                      </a:lnTo>
                      <a:lnTo>
                        <a:pt x="2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1" y="5"/>
                      </a:lnTo>
                      <a:lnTo>
                        <a:pt x="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2" name=""/>
                <p:cNvGrpSpPr/>
                <p:nvPr/>
              </p:nvGrpSpPr>
              <p:grpSpPr>
                <a:xfrm>
                  <a:off x="2008080" y="4149360"/>
                  <a:ext cx="30240" cy="21240"/>
                  <a:chOff x="2008080" y="4149360"/>
                  <a:chExt cx="30240" cy="21240"/>
                </a:xfrm>
              </p:grpSpPr>
              <p:sp>
                <p:nvSpPr>
                  <p:cNvPr id="2333" name=""/>
                  <p:cNvSpPr/>
                  <p:nvPr/>
                </p:nvSpPr>
                <p:spPr>
                  <a:xfrm>
                    <a:off x="2008080" y="4149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0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008080" y="41493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6"/>
                        </a:lnTo>
                        <a:lnTo>
                          <a:pt x="1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5" name=""/>
                <p:cNvSpPr/>
                <p:nvPr/>
              </p:nvSpPr>
              <p:spPr>
                <a:xfrm>
                  <a:off x="2009520" y="414936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2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000160" y="4152960"/>
                  <a:ext cx="38160" cy="1800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12" y="7"/>
                      </a:lnTo>
                      <a:lnTo>
                        <a:pt x="17" y="6"/>
                      </a:lnTo>
                      <a:lnTo>
                        <a:pt x="21" y="6"/>
                      </a:lnTo>
                      <a:lnTo>
                        <a:pt x="24" y="6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5" y="8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7" name=""/>
                <p:cNvGrpSpPr/>
                <p:nvPr/>
              </p:nvGrpSpPr>
              <p:grpSpPr>
                <a:xfrm>
                  <a:off x="1966680" y="4140360"/>
                  <a:ext cx="39600" cy="26640"/>
                  <a:chOff x="1966680" y="4140360"/>
                  <a:chExt cx="39600" cy="2664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1966680" y="414036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">
                        <a:moveTo>
                          <a:pt x="25" y="6"/>
                        </a:move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5" y="14"/>
                        </a:lnTo>
                        <a:lnTo>
                          <a:pt x="5" y="14"/>
                        </a:lnTo>
                        <a:lnTo>
                          <a:pt x="10" y="15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solidFill>
                    <a:srgbClr val="e7e7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1966680" y="414036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">
                        <a:moveTo>
                          <a:pt x="25" y="6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5" y="14"/>
                        </a:lnTo>
                        <a:lnTo>
                          <a:pt x="5" y="14"/>
                        </a:lnTo>
                        <a:lnTo>
                          <a:pt x="10" y="15"/>
                        </a:lnTo>
                        <a:lnTo>
                          <a:pt x="25" y="6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0" name=""/>
                <p:cNvSpPr/>
                <p:nvPr/>
              </p:nvSpPr>
              <p:spPr>
                <a:xfrm>
                  <a:off x="1966680" y="4140360"/>
                  <a:ext cx="20880" cy="3240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1" y="12"/>
                      </a:lnTo>
                      <a:lnTo>
                        <a:pt x="9" y="17"/>
                      </a:lnTo>
                      <a:lnTo>
                        <a:pt x="7" y="18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0" y="11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5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5d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1" name=""/>
                <p:cNvGrpSpPr/>
                <p:nvPr/>
              </p:nvGrpSpPr>
              <p:grpSpPr>
                <a:xfrm>
                  <a:off x="1977840" y="4151160"/>
                  <a:ext cx="30240" cy="21240"/>
                  <a:chOff x="1977840" y="4151160"/>
                  <a:chExt cx="30240" cy="21240"/>
                </a:xfrm>
              </p:grpSpPr>
              <p:sp>
                <p:nvSpPr>
                  <p:cNvPr id="2342" name=""/>
                  <p:cNvSpPr/>
                  <p:nvPr/>
                </p:nvSpPr>
                <p:spPr>
                  <a:xfrm>
                    <a:off x="1977840" y="41511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bbb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1977840" y="4151160"/>
                    <a:ext cx="30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3" y="5"/>
                        </a:lnTo>
                        <a:lnTo>
                          <a:pt x="2" y="9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9"/>
                        </a:lnTo>
                        <a:lnTo>
                          <a:pt x="19" y="6"/>
                        </a:lnTo>
                        <a:lnTo>
                          <a:pt x="19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4" name=""/>
                <p:cNvSpPr/>
                <p:nvPr/>
              </p:nvSpPr>
              <p:spPr>
                <a:xfrm>
                  <a:off x="1981080" y="4151160"/>
                  <a:ext cx="25200" cy="16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5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1966680" y="4154760"/>
                  <a:ext cx="41400" cy="1800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5" y="4"/>
                      </a:lnTo>
                      <a:lnTo>
                        <a:pt x="6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0" y="7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26" y="6"/>
                      </a:lnTo>
                      <a:lnTo>
                        <a:pt x="26" y="9"/>
                      </a:lnTo>
                      <a:lnTo>
                        <a:pt x="21" y="9"/>
                      </a:lnTo>
                      <a:lnTo>
                        <a:pt x="15" y="9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5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9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385720" y="4134960"/>
                  <a:ext cx="111240" cy="21240"/>
                </a:xfrm>
                <a:custGeom>
                  <a:avLst/>
                  <a:gdLst/>
                  <a:ahLst/>
                  <a:rect l="l" t="t" r="r" b="b"/>
                  <a:pathLst>
                    <a:path w="70" h="12">
                      <a:moveTo>
                        <a:pt x="70" y="8"/>
                      </a:moveTo>
                      <a:lnTo>
                        <a:pt x="10" y="10"/>
                      </a:lnTo>
                      <a:lnTo>
                        <a:pt x="9" y="9"/>
                      </a:lnTo>
                      <a:lnTo>
                        <a:pt x="7" y="8"/>
                      </a:lnTo>
                      <a:lnTo>
                        <a:pt x="4" y="5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8" y="12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50" y="11"/>
                      </a:lnTo>
                      <a:lnTo>
                        <a:pt x="60" y="10"/>
                      </a:lnTo>
                      <a:lnTo>
                        <a:pt x="66" y="10"/>
                      </a:lnTo>
                      <a:lnTo>
                        <a:pt x="69" y="10"/>
                      </a:lnTo>
                      <a:lnTo>
                        <a:pt x="70" y="8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241360" y="4143960"/>
                  <a:ext cx="141480" cy="19800"/>
                </a:xfrm>
                <a:custGeom>
                  <a:avLst/>
                  <a:gdLst/>
                  <a:ahLst/>
                  <a:rect l="l" t="t" r="r" b="b"/>
                  <a:pathLst>
                    <a:path w="89" h="11">
                      <a:moveTo>
                        <a:pt x="89" y="5"/>
                      </a:move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5" y="4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21" y="11"/>
                      </a:lnTo>
                      <a:lnTo>
                        <a:pt x="35" y="10"/>
                      </a:lnTo>
                      <a:lnTo>
                        <a:pt x="48" y="10"/>
                      </a:lnTo>
                      <a:lnTo>
                        <a:pt x="63" y="9"/>
                      </a:lnTo>
                      <a:lnTo>
                        <a:pt x="75" y="9"/>
                      </a:lnTo>
                      <a:lnTo>
                        <a:pt x="85" y="7"/>
                      </a:lnTo>
                      <a:lnTo>
                        <a:pt x="87" y="7"/>
                      </a:lnTo>
                      <a:lnTo>
                        <a:pt x="89" y="5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2104920" y="4149360"/>
                  <a:ext cx="137880" cy="21600"/>
                </a:xfrm>
                <a:custGeom>
                  <a:avLst/>
                  <a:gdLst/>
                  <a:ahLst/>
                  <a:rect l="l" t="t" r="r" b="b"/>
                  <a:pathLst>
                    <a:path w="87" h="12">
                      <a:moveTo>
                        <a:pt x="87" y="6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6" y="7"/>
                      </a:lnTo>
                      <a:lnTo>
                        <a:pt x="4" y="4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21" y="10"/>
                      </a:lnTo>
                      <a:lnTo>
                        <a:pt x="35" y="10"/>
                      </a:lnTo>
                      <a:lnTo>
                        <a:pt x="48" y="9"/>
                      </a:lnTo>
                      <a:lnTo>
                        <a:pt x="63" y="9"/>
                      </a:lnTo>
                      <a:lnTo>
                        <a:pt x="75" y="8"/>
                      </a:lnTo>
                      <a:lnTo>
                        <a:pt x="85" y="8"/>
                      </a:lnTo>
                      <a:lnTo>
                        <a:pt x="86" y="8"/>
                      </a:lnTo>
                      <a:lnTo>
                        <a:pt x="87" y="6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1965240" y="4154760"/>
                  <a:ext cx="139680" cy="20160"/>
                </a:xfrm>
                <a:custGeom>
                  <a:avLst/>
                  <a:gdLst/>
                  <a:ahLst/>
                  <a:rect l="l" t="t" r="r" b="b"/>
                  <a:pathLst>
                    <a:path w="88" h="11">
                      <a:moveTo>
                        <a:pt x="88" y="5"/>
                      </a:move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6" y="7"/>
                      </a:lnTo>
                      <a:lnTo>
                        <a:pt x="4" y="4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34" y="10"/>
                      </a:lnTo>
                      <a:lnTo>
                        <a:pt x="49" y="10"/>
                      </a:lnTo>
                      <a:lnTo>
                        <a:pt x="62" y="9"/>
                      </a:lnTo>
                      <a:lnTo>
                        <a:pt x="74" y="9"/>
                      </a:lnTo>
                      <a:lnTo>
                        <a:pt x="84" y="7"/>
                      </a:lnTo>
                      <a:lnTo>
                        <a:pt x="86" y="7"/>
                      </a:lnTo>
                      <a:lnTo>
                        <a:pt x="88" y="5"/>
                      </a:lnTo>
                      <a:close/>
                    </a:path>
                  </a:pathLst>
                </a:custGeom>
                <a:solidFill>
                  <a:srgbClr val="e7e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388960" y="4134960"/>
                  <a:ext cx="108000" cy="1800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68" y="8"/>
                      </a:move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242800" y="4143960"/>
                  <a:ext cx="140040" cy="15840"/>
                </a:xfrm>
                <a:custGeom>
                  <a:avLst/>
                  <a:gdLst/>
                  <a:ahLst/>
                  <a:rect l="l" t="t" r="r" b="b"/>
                  <a:pathLst>
                    <a:path w="88" h="9">
                      <a:moveTo>
                        <a:pt x="88" y="5"/>
                      </a:move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6" y="6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106360" y="4149360"/>
                  <a:ext cx="136440" cy="16200"/>
                </a:xfrm>
                <a:custGeom>
                  <a:avLst/>
                  <a:gdLst/>
                  <a:ahLst/>
                  <a:rect l="l" t="t" r="r" b="b"/>
                  <a:pathLst>
                    <a:path w="86" h="9">
                      <a:moveTo>
                        <a:pt x="86" y="6"/>
                      </a:move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7" y="8"/>
                      </a:lnTo>
                      <a:lnTo>
                        <a:pt x="5" y="7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1966680" y="4154760"/>
                  <a:ext cx="138240" cy="16200"/>
                </a:xfrm>
                <a:custGeom>
                  <a:avLst/>
                  <a:gdLst/>
                  <a:ahLst/>
                  <a:rect l="l" t="t" r="r" b="b"/>
                  <a:pathLst>
                    <a:path w="87" h="9">
                      <a:moveTo>
                        <a:pt x="87" y="5"/>
                      </a:move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495520" y="4127400"/>
                  <a:ext cx="166680" cy="32400"/>
                </a:xfrm>
                <a:custGeom>
                  <a:avLst/>
                  <a:gdLst/>
                  <a:ahLst/>
                  <a:rect l="l" t="t" r="r" b="b"/>
                  <a:pathLst>
                    <a:path w="105" h="18">
                      <a:moveTo>
                        <a:pt x="105" y="14"/>
                      </a:moveTo>
                      <a:lnTo>
                        <a:pt x="90" y="0"/>
                      </a:lnTo>
                      <a:lnTo>
                        <a:pt x="0" y="2"/>
                      </a:lnTo>
                      <a:lnTo>
                        <a:pt x="12" y="18"/>
                      </a:lnTo>
                      <a:lnTo>
                        <a:pt x="105" y="1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500200" y="4131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40" y="13"/>
                      </a:moveTo>
                      <a:lnTo>
                        <a:pt x="28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40" y="1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46280" y="4129200"/>
                  <a:ext cx="65160" cy="25560"/>
                </a:xfrm>
                <a:custGeom>
                  <a:avLst/>
                  <a:gdLst/>
                  <a:ahLst/>
                  <a:rect l="l" t="t" r="r" b="b"/>
                  <a:pathLst>
                    <a:path w="41" h="14">
                      <a:moveTo>
                        <a:pt x="41" y="13"/>
                      </a:moveTo>
                      <a:lnTo>
                        <a:pt x="27" y="0"/>
                      </a:lnTo>
                      <a:lnTo>
                        <a:pt x="0" y="1"/>
                      </a:lnTo>
                      <a:lnTo>
                        <a:pt x="13" y="14"/>
                      </a:lnTo>
                      <a:lnTo>
                        <a:pt x="41" y="1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592360" y="4127400"/>
                  <a:ext cx="68040" cy="25560"/>
                </a:xfrm>
                <a:custGeom>
                  <a:avLst/>
                  <a:gdLst/>
                  <a:ahLst/>
                  <a:rect l="l" t="t" r="r" b="b"/>
                  <a:pathLst>
                    <a:path w="43" h="14">
                      <a:moveTo>
                        <a:pt x="43" y="13"/>
                      </a:moveTo>
                      <a:lnTo>
                        <a:pt x="29" y="0"/>
                      </a:lnTo>
                      <a:lnTo>
                        <a:pt x="0" y="1"/>
                      </a:lnTo>
                      <a:lnTo>
                        <a:pt x="13" y="14"/>
                      </a:lnTo>
                      <a:lnTo>
                        <a:pt x="43" y="1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2506320" y="4135320"/>
                <a:ext cx="19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2508120" y="4138200"/>
                <a:ext cx="126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V="1">
                <a:off x="2517480" y="4153320"/>
                <a:ext cx="129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552400" y="4133160"/>
                <a:ext cx="20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2555640" y="4134960"/>
                <a:ext cx="126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566800" y="4151520"/>
                <a:ext cx="126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2600280" y="4131360"/>
                <a:ext cx="19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601720" y="4135320"/>
                <a:ext cx="144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2616120" y="4149720"/>
                <a:ext cx="126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7" name=""/>
          <p:cNvSpPr/>
          <p:nvPr/>
        </p:nvSpPr>
        <p:spPr>
          <a:xfrm>
            <a:off x="3368160" y="331488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xDTU-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958720" y="331488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xDTU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425840" y="2276640"/>
            <a:ext cx="1417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546440" y="2498760"/>
            <a:ext cx="12304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DSL 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H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673520" y="4267080"/>
            <a:ext cx="486000" cy="595440"/>
          </a:xfrm>
          <a:prstGeom prst="downArrow">
            <a:avLst>
              <a:gd name="adj1" fmla="val 50000"/>
              <a:gd name="adj2" fmla="val 3063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4120-8F4E-4CA4-9CD3-CE9C39235CB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7FF0A7-6A1C-4B37-8237-3B4FEE0256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SL 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663200" y="1195560"/>
            <a:ext cx="7480440" cy="52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HDSL - G.991.1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, High bit rate digital subscriber line transceiver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wo wire bidirectional transceiver: Three system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wo or three pairs, each 748 kbit/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wo pairs, each 1168 kbit/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One pair, 2 320 kbit/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ode: 2B1Q or CAP (Carrierless Amplitude and Phase modulation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HDSL - G.991.2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, Single pair high-speed digital subscriber line transceiver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uplex (bidirectional) operation on one copper pair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ayload 192 kbit/s up to 2.312 Mbit/s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ptional 2 pairs: Payload 384 kbit/s up to 4.624 Mbit/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ode: TC-PAM (Trellis Coded Pulse Amplitude Modulation)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ADSL - G.992.1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, Asymmetric digital subscriber line transceiver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ne twisted pair, payload upstream up to 640 kbit/s, downstream up to 6.144 Mbit/s. Simultaneous Voiceband and N-ISDN possible. Code: DMT (Discrete MultiTone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ADSL lite - G.992.2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, Splitterless asymmetric digital subscriber line transceiver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ne twisted pair, payload downstream up to 1.536 Mbit/s, upstream up to 512 kbit/s. Code: DMT (Discrete MultiTone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VDSL - G.993.1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, Very high bit rate digital subscriber line transceivers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ne twisted pair, symmetrical operation 6 Mbit/s or 13 Mbit/s up and down, asymmetrical operation down 22 Mbit/s, up 3 Mbit/s, Code: not yet decide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9D77-A88B-4226-9A44-CD799509B5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08F860-17EC-4408-88F9-FF4151E863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Related 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.994.1 – Handshake procedures for DSL Rec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.995.1 – Overview of DSL Rec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.996.1 – Test procedures for DSL transceive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.997.1 – Physical layer management for DSL transceive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3A3F-CFA4-4587-AE67-A3AED1BFE8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34E6F8-F6D7-4A0F-A679-D022ABADE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.261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Video Codec for A/V services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t p x 64 kbit/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first practical video coding standard (1990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today in (ISDN) video conferencing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it rates commonly 40 kbits/s to 2 Mbits/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14A9-3F37-400A-B804-759D7DF452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169FAC-CEC0-420E-AE70-7CE28D830F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.262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ame as MPEG-2/Video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(ISO/IEC 13818-2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monly used for entertainment-quality video applic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first practical standard for interlaced video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in digital cable, digital broadcast, satellite, DVD, etc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it rates commonly 4-20 Mbits/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BBB9-8192-486C-B013-85723B7F97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42DF420-423C-452D-9D0B-C35644500D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.263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Video Coding for Low Bit Rate Communication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ignificantly improved video coding compression performance (esp. at very low rates, but also at higher rates as well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first error and packet loss resilient video coding standard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sed in Internet protocol, wireless, and ISDN video conferencing terminals (H.323, H.324, 3GPP, etc.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Baseline” core mode interoperable with MPEG4/Video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Very wide range of bit rates and possible application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7403-13E9-4A9E-9211-34E992A144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B296DD-0945-4A1B-BB73-EF23B0006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Greg Jones</dc:creator>
  <dc:description/>
  <dc:language>en-US</dc:language>
  <cp:lastModifiedBy>Greg Jones</cp:lastModifiedBy>
  <cp:lastPrinted>2001-03-15T13:10:50Z</cp:lastPrinted>
  <dcterms:modified xsi:type="dcterms:W3CDTF">2002-07-18T20:34:43Z</dcterms:modified>
  <cp:revision>144</cp:revision>
  <dc:subject>Lisbon, 25 June 2002</dc:subject>
  <dc:title>ITU-T products and services</dc:title>
</cp:coreProperties>
</file>