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0EFA-2030-40B3-88B9-05904EC9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5D2-91B1-4425-AAE9-10F350BA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89120" y="4346640"/>
            <a:ext cx="53100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Img"/>
          </p:nvPr>
        </p:nvSpPr>
        <p:spPr>
          <a:xfrm>
            <a:off x="1293840" y="800280"/>
            <a:ext cx="4267080" cy="320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042-75A0-45E5-B67F-AB1B54B9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596-A362-45BF-B78E-A929D0A4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ED0-415D-4972-8493-F5D13ED9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362-B5C5-41F6-970F-4042675E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F9E-16BD-4E73-A13D-D62CC9A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3DF-7EB9-4C00-A26A-BCD9C59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A48-05C8-492D-8CE1-1444AEE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E12-8612-42C9-B529-F10EBDA4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0D7-CE31-472E-9A39-8E3D0B8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CF9-0368-4101-ADF0-9E0B2AA2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B7D-DBFA-46C9-8DF4-DF62762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D35-8929-4B9B-BFF5-825B179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7C5-8AD8-42F9-B0C9-AEDC274B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70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gnalling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89787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ttawa"/>
              </a:rPr>
              <a:t>Arshey Odedra</a:t>
            </a: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U-T </a:t>
            </a:r>
            <a:r>
              <a:rPr b="0" lang="en-US" sz="2400" spc="-1" strike="noStrike">
                <a:solidFill>
                  <a:srgbClr val="000000"/>
                </a:solidFill>
                <a:latin typeface="Ottawa"/>
              </a:rPr>
              <a:t>TSB Engineer: arshey.odedra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ttawa"/>
              </a:rPr>
              <a:t>International Telecommunication Un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Ottawa"/>
              </a:rPr>
              <a:t>[ITU-T Workshop Botswana 24-26 July – 200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06760" y="4422600"/>
          <a:ext cx="20559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6760" y="4422600"/>
                    <a:ext cx="205596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2000)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More on SS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00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765 (Rev - 06/2000)-Application transport Mechanis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765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B24-A6A8-4A57-B9B3-7B51F7B2CCFA}" type="slidenum">
              <a:t>10</a:t>
            </a:fld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ow-band ISDN, DS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Subscriber Signalling System No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: Q.850, Q.86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6/00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layer Q.920-Q.9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layer Q.930-Q.9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network management Q.940, Q.9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3 description for supplementary services using DSS 1 Q.950-Q.957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3A3-7794-4597-AA3A-5D4D0A9A9E45}" type="slidenum">
              <a:t>11</a:t>
            </a:fld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band ISDN, DSS 2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spects: Q.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ATM adaptation layer (S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100-Q.215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network protocols: Q.2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aspects of B-ISDN application protocols for access signalling and network signalling and 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610-Q.26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B00-197A-46E1-8FD1-2BDC1AC1C8B6}" type="slidenum">
              <a:t>12</a:t>
            </a:fld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band ISDN, DSS 2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ISDN application protocols for the network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721.1 to Q.2769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ISDN application protocols for access signalling (includes DSS 2 aspe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2931-Q.29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(12/99) Q.2981-2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Q.2931/2961&amp;2/2971/2991-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670-F586-42D8-9523-72A538E0BF1E}" type="slidenum">
              <a:t>13</a:t>
            </a:fld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lligent Network (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00 – Q.12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10 – Q.1219 IN-C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20 – Q.1229 IN-CS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31 – Q.1238.7 IN-CS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241,1244,1248.1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7 IN-CS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869-3351-409B-8F54-FFE835AE6828}" type="slidenum">
              <a:t>14</a:t>
            </a:fld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1 (CS-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to be deployed over PSTN, ISDN and PLM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such services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card c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icious call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715000"/>
            <a:ext cx="6095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, Q.121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2 (CS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257120"/>
            <a:ext cx="79632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added: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work Fre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call to busy subscr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Hold, transfer and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tore and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lecommunication Charg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7913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7, Q.122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e.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-ISD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nterworking of IN and IP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3 (CS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, Q.123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3 (CS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election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lling Line presentation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-Network Service ind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ing on Call Failur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53341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, Q.123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s e.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oint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hanced Number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-working with the services in Internet Protocol (IP)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4 (CS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3341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, Q.124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S7 Rec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Book (19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cle VI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 Q.701-Q.7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User Part (D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8FA-24AC-4B02-B3FD-7E1C9DB33129}" type="slidenum">
              <a:t>2</a:t>
            </a:fld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180800"/>
            <a:ext cx="80010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or determined barr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r defined ba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 forwarding uncon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 forwarding on busy, no reply and not 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osed user group, Advise of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ing name identificati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apability Set 4 (CS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86728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, Q.124X series of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gnalling  Convergence towards Packet based Network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lligent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Bearer Independent Call Control (BICC) protocols – Q.19xx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54560" cy="417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3372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4320" y="1979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76520" y="380880"/>
          <a:ext cx="2055600" cy="197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80880"/>
                    <a:ext cx="2055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F8A-1C6B-486C-B0C8-6F71D8F02DAE}" type="slidenum">
              <a:t>22</a:t>
            </a:fld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4)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Book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cicle VI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1-Q.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BX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Connection Control Part (SCCP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1-Q.7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671-385C-4C57-A2EE-F9A925846F7B}" type="slidenum">
              <a:t>3</a:t>
            </a:fld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4)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Book (19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cicle VI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User Part (T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21-Q.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Services Digital Network User Part (IS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61-Q.7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and Measurements for the 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and Maintenance Application Part (OMAP): Q.7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CC2-BF3A-44A7-8973-57D007D1FE6F}" type="slidenum">
              <a:t>4</a:t>
            </a:fld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Transfer Part (M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01-Q.7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d MTP: Q.7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ling Connection Control Part (SC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11-Q.7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6DB-F361-4F2F-B0D3-85475EB9007F}" type="slidenum">
              <a:t>5</a:t>
            </a:fld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 User Part (TUP): Q.721-Q.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Supplementary Services: Q.7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User Part (DUP): Q.7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Services Digital Network User Part (ISUP): Q.761-Q.7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582-B985-4522-9860-94711C17244C}" type="slidenum">
              <a:t>6</a:t>
            </a:fld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88)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 Book (1988), Fascicle VI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apability Application Part (TCAP): Q.771-Q.7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pecification: Q.780-Q.7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and Measurement Q.7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, Maintenance and Administration Part (OMAP): Q.7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6C8-5370-4177-A2AB-C88AFBB5B9A8}" type="slidenum">
              <a:t>7</a:t>
            </a:fld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99)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Transf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Q.701-Q.7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ing Connection Control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711- Q.7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21-Q.7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DN Supplementary Serv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.730-Q.737.1, 732.2(Rev),733.5(Ne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839-66F1-4EBC-BF3C-6EB5390D1F37}" type="slidenum">
              <a:t>8</a:t>
            </a:fld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ling System No. 7 (1999)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50-Q.7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 User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Q.761-Q.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Capabilities Application Part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.771- Q.7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pecification: Q.780-Q.7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769.1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16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.765Bis, Q.765.1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C76-AA4A-4B69-A387-5B1CA0B8A637}" type="slidenum">
              <a:t>9</a:t>
            </a:fld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5:44:43Z</dcterms:created>
  <dc:creator>A Odedra</dc:creator>
  <dc:description/>
  <dc:language>en-US</dc:language>
  <cp:lastModifiedBy>user</cp:lastModifiedBy>
  <dcterms:modified xsi:type="dcterms:W3CDTF">2002-07-16T17:11:57Z</dcterms:modified>
  <cp:revision>179</cp:revision>
  <dc:subject/>
  <dc:title>PowerPoint Presentation</dc:title>
</cp:coreProperties>
</file>