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552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09240" y="687240"/>
            <a:ext cx="4584600" cy="343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3480" y="4354560"/>
            <a:ext cx="513720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784720"/>
            <a:ext cx="303516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8640" y="8784720"/>
            <a:ext cx="303552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3C174C-26F4-4071-86BB-3095A8716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968640" y="8784720"/>
            <a:ext cx="303552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64ACFA-FAE0-4174-BD8E-7B9232A73E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8784720"/>
            <a:ext cx="303516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0"/>
            <a:ext cx="30351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968640" y="0"/>
            <a:ext cx="303552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355760" y="809640"/>
            <a:ext cx="4294080" cy="3220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577800" y="4392720"/>
            <a:ext cx="5695920" cy="36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968640" y="8784720"/>
            <a:ext cx="303552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95C582-B4F0-43D6-B245-40298F4A3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8784720"/>
            <a:ext cx="303516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0"/>
            <a:ext cx="30351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968640" y="0"/>
            <a:ext cx="303552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8640" y="4680"/>
            <a:ext cx="3036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68640" y="8782200"/>
            <a:ext cx="3036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440" y="8782200"/>
            <a:ext cx="303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-1440" y="4680"/>
            <a:ext cx="303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357200" y="809640"/>
            <a:ext cx="4294440" cy="32209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28800" y="4389120"/>
            <a:ext cx="514008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68640" y="8784720"/>
            <a:ext cx="303552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C54F714-E339-4BA8-90C7-FEA9A07AC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8784720"/>
            <a:ext cx="303516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0"/>
            <a:ext cx="30351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968640" y="0"/>
            <a:ext cx="303552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68640" y="4680"/>
            <a:ext cx="3036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68640" y="8782200"/>
            <a:ext cx="3036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-1440" y="8782200"/>
            <a:ext cx="303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-1440" y="4680"/>
            <a:ext cx="303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57200" y="809640"/>
            <a:ext cx="4294440" cy="32209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28800" y="4389120"/>
            <a:ext cx="514008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87A-2B1E-4618-BEA0-9EAD19F7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9B6-63F6-47B4-95AF-727E056C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3D7-0EC4-45E5-A9FE-7C580003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F09-4A7E-44F9-A7DF-BD52F897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EF91-A2C6-4B98-8553-8A61ADBF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C852-A0CB-46F5-92AD-98EE0BD9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73FA-B34E-4C45-87CF-4B5306B5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C351-41FB-4206-BE2B-87663C5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95B0-F4A5-479D-A639-5B4562C8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298C-CDD9-41E7-B34C-1DB2418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83C4-E5D7-470B-82F5-1D14D387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3D9-8946-44F8-A187-6DFCAAC5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D9AA-40E8-421F-9E6A-4EF1F53D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EB6E-F642-400D-B10D-5093918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5B94-57F9-4821-A0C5-BB3BEF28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6B8F-A9D5-4479-A61E-5BFB3585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DBFE-3DCA-4346-B0E5-339CE54D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16B-83ED-4D12-B628-A25B47B7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74D-7C3E-41CC-88AB-321B5D50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B35-3511-4AA6-A211-BE9E02DD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79C-84BF-4A5A-85E2-0BCC66A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CB5-BDA0-45EF-B614-4ADB8D8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A34-F00A-4B45-827E-F09A703D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8DF-849C-482C-ACE3-82DF8CE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05FD-D182-4B54-B1D2-986D3B3F75F2}" type="slidenum"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eft00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BD9C-0EDE-489E-B889-0BD025D6B9FB}" type="slidenum"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eft0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NATOT524" descr=""/>
          <p:cNvPicPr/>
          <p:nvPr/>
        </p:nvPicPr>
        <p:blipFill>
          <a:blip r:embed="rId1">
            <a:lum bright="18000"/>
          </a:blip>
          <a:srcRect l="0" t="12500" r="0" b="0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-152280" y="457200"/>
            <a:ext cx="10896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Internet users, millions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Annual rate of chang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7770600" cy="41148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7810200" y="6553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Source: ITU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838080" y="771480"/>
            <a:ext cx="76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The state of the marke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2057400"/>
            <a:ext cx="714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Increasing competi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Around two-thirds of telecom subscribers now have a choice of opera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More than 99 per cent of mobile and Internet subscribers now have a choice of opera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Dominantly private-ownershi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19 out of top 20 top public telecom operators are partially or fully private-own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Of the top 20 mobile operators, 16 are fully-private, 3 are partially private, 1 is state-own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Independent regulator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There are currently 112 independent regulators (only 12 in 1990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5943600" cy="3612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31800" y="152280"/>
            <a:ext cx="91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Private, competitive, mobile &amp; globa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6172200"/>
            <a:ext cx="857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Times New Roman"/>
              </a:rPr>
              <a:t>Status of telecommunication privatization , by country and by share of global revenue, 200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19320" y="1146240"/>
            <a:ext cx="7543800" cy="5178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33520" y="647712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egal status of telecommunication competition, by country, 200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200" y="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Legal status of competi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Distribution by country, 200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8305560" cy="5562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295280" y="228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Mobile as the new global net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647712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Times New Roman"/>
              </a:rPr>
              <a:t>Mobile and fixed telephone subscribers worldwide, 1982-200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593640"/>
            <a:ext cx="84582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925040" cy="5506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04920" y="304920"/>
            <a:ext cx="883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Total telephone user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(fixed plus mobile) per 100 inhabita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085760" y="285840"/>
            <a:ext cx="7848720" cy="62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81200" y="1447920"/>
            <a:ext cx="7772400" cy="4814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09480" y="22860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Distribution of population, main telephone lines, mobile cellular subscribers and Internet users by country economic classification, 200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7162560" cy="42670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295280" y="2286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Growth in fixed line teledensity,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hile and Argentina, 1986-2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137304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Mr. Cleveland Thom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36232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Vice Chairma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12732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Working Party 2/3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88620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Study Group 3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80384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ITU-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7162920" cy="4647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914400" y="380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Growth in mobile teledensity,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Hong Kong SAR and Singapore, 1988-2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28600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Teledensity with rising ran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1448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93432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362320" y="228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Teledensity with falling ran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448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752480" y="1143000"/>
            <a:ext cx="6340680" cy="4741560"/>
            <a:chOff x="1752480" y="1143000"/>
            <a:chExt cx="6340680" cy="4741560"/>
          </a:xfrm>
        </p:grpSpPr>
        <p:sp>
          <p:nvSpPr>
            <p:cNvPr id="379" name=""/>
            <p:cNvSpPr/>
            <p:nvPr/>
          </p:nvSpPr>
          <p:spPr>
            <a:xfrm>
              <a:off x="1752480" y="1143000"/>
              <a:ext cx="6316920" cy="51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01080" y="1406520"/>
              <a:ext cx="831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Country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09240" y="1406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200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30400" y="1406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199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03760" y="1159200"/>
              <a:ext cx="59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Rank 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55960" y="1406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200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27880" y="1159200"/>
              <a:ext cx="59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Rank 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79720" y="1406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199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96840" y="1406520"/>
              <a:ext cx="796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Change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02880" y="1688400"/>
              <a:ext cx="866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Armeni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61080" y="16884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5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82960" y="16884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5.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56040" y="16884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0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85640" y="168840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43600" y="16884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4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600" y="19684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Iraq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63680" y="1968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2.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85560" y="1968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3.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56040" y="19684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4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83040" y="19684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0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43600" y="196848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4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01440" y="2250360"/>
              <a:ext cx="97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Tajikistan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63680" y="22503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3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85560" y="22503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4.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56040" y="22503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43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83040" y="22503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0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43600" y="225036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3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02520" y="2530800"/>
              <a:ext cx="1131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Uzbekistan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63680" y="25308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.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85560" y="25308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.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56040" y="25308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2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85640" y="253080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9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43600" y="25308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3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03240" y="2810880"/>
              <a:ext cx="113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Kyrgyzstan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63680" y="28108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7.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85560" y="28108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7.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56040" y="28108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2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85640" y="281088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9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43600" y="281088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3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03240" y="309240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Angol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63680" y="3092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0.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85560" y="3092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0.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56040" y="30924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7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83040" y="30924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4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43600" y="30924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3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02520" y="3372840"/>
              <a:ext cx="711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Liberi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63680" y="33728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0.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85560" y="33728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0.4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56040" y="337284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9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83040" y="337284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6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43600" y="337284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02160" y="365472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DPR Kore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63680" y="36547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4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85560" y="36547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3.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56040" y="36547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3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83040" y="36547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1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43600" y="365472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03240" y="3935160"/>
              <a:ext cx="8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Canad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61080" y="3935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96.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82960" y="3935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58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60080" y="393516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33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88600" y="39351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43600" y="393516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02880" y="4216680"/>
              <a:ext cx="1370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Turkmenistan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63680" y="42166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8.4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85560" y="42166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.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56040" y="42166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23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85640" y="421668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9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43600" y="421668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02880" y="4496760"/>
              <a:ext cx="57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Cub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63680" y="44967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4.4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85560" y="44967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3.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56040" y="44967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4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83040" y="44967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1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43600" y="449676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02880" y="4777200"/>
              <a:ext cx="878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Moldov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1080" y="4777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6.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82960" y="4777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0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0080" y="477720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9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85640" y="477720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74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43600" y="47772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03960" y="5058720"/>
              <a:ext cx="1190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Kazakhstan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61080" y="505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2.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85560" y="50587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8.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56040" y="50587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1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85640" y="505872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8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43600" y="505872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4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2880" y="5339160"/>
              <a:ext cx="937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Comoros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63680" y="53391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.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85560" y="53391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0.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56040" y="53391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7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83040" y="53391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4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43600" y="533916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02520" y="5621040"/>
              <a:ext cx="80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Ukraine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61080" y="56210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22.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82960" y="56210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3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60080" y="562104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8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5640" y="562104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43600" y="562104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52480" y="1143000"/>
              <a:ext cx="1620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32320" y="1143000"/>
              <a:ext cx="1764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55280" y="1143000"/>
              <a:ext cx="1620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76440" y="1143000"/>
              <a:ext cx="1620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00200" y="1143000"/>
              <a:ext cx="1764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25400" y="1143000"/>
              <a:ext cx="1620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68680" y="114300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68680" y="114300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52840" y="1143000"/>
              <a:ext cx="165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68680" y="163908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68680" y="163908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68680" y="191952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68680" y="191952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68680" y="219996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68680" y="219996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68680" y="2481480"/>
              <a:ext cx="630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68680" y="248148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68680" y="2761560"/>
              <a:ext cx="630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68680" y="276156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68680" y="304344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68680" y="3043440"/>
              <a:ext cx="63003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68680" y="332388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68680" y="3323880"/>
              <a:ext cx="63003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68680" y="360540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68680" y="360540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8680" y="388584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68680" y="388584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68680" y="416592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68680" y="416592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68680" y="4447440"/>
              <a:ext cx="630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68680" y="444744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68680" y="4727880"/>
              <a:ext cx="630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68680" y="472788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68680" y="500976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68680" y="500976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68680" y="529020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68680" y="529020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68680" y="557028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768680" y="5570280"/>
              <a:ext cx="63003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52480" y="1143000"/>
              <a:ext cx="1080" cy="47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52480" y="1143000"/>
              <a:ext cx="16200" cy="472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32320" y="1159200"/>
              <a:ext cx="108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32320" y="1159200"/>
              <a:ext cx="1764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55280" y="1159200"/>
              <a:ext cx="108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55280" y="1159200"/>
              <a:ext cx="1620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76440" y="1159200"/>
              <a:ext cx="108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76440" y="1159200"/>
              <a:ext cx="1620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00200" y="1159200"/>
              <a:ext cx="144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00200" y="1159200"/>
              <a:ext cx="1764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25400" y="1159200"/>
              <a:ext cx="108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25400" y="1159200"/>
              <a:ext cx="1620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68680" y="585180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68680" y="585180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52840" y="1159200"/>
              <a:ext cx="144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052840" y="1159200"/>
              <a:ext cx="1656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58683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58683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32320" y="58683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32320" y="5868360"/>
              <a:ext cx="1764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55280" y="58683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55280" y="58683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76440" y="58683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76440" y="58683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00200" y="586836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00200" y="5868360"/>
              <a:ext cx="1764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25400" y="58683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25400" y="58683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52840" y="586836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52840" y="5868360"/>
              <a:ext cx="1656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69400" y="114300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69400" y="114300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69400" y="163908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69400" y="163908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69400" y="191952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69400" y="191952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69400" y="21999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69400" y="21999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69400" y="2481480"/>
              <a:ext cx="10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69400" y="248148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069400" y="2761560"/>
              <a:ext cx="10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69400" y="27615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69400" y="304344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069400" y="3043440"/>
              <a:ext cx="1620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69400" y="332388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69400" y="3323880"/>
              <a:ext cx="1620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69400" y="360540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69400" y="360540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69400" y="388584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069400" y="388584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69400" y="416592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069400" y="416592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69400" y="4447440"/>
              <a:ext cx="10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69400" y="444744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69400" y="4727880"/>
              <a:ext cx="10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69400" y="472788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69400" y="50097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69400" y="50097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69400" y="529020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69400" y="529020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69400" y="557028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69400" y="5570280"/>
              <a:ext cx="1620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8763120" y="66103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763120" y="6610320"/>
            <a:ext cx="20520" cy="19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7315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7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511200" y="62197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Comic Sans MS"/>
                <a:ea typeface="Andalus"/>
              </a:rPr>
              <a:t> 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511200" y="61815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Comic Sans MS"/>
                <a:ea typeface="Andalus"/>
              </a:rPr>
              <a:t> 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666880" y="457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Telephone tariffs (200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143000" y="1447920"/>
          <a:ext cx="7772400" cy="376380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133280"/>
                <a:gridCol w="1092240"/>
                <a:gridCol w="1231920"/>
                <a:gridCol w="946080"/>
                <a:gridCol w="12351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sidential (US$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Business (US$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Local call (US$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 min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ubscription  as % of GDP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per capi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onnectio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M. Subscriptio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onnectio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M. Subscriptio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Worl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1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.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0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fric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7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0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2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merica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0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.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3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7.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0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si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0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.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3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.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0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Europ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7.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1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.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ceani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.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7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4.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1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edf7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666880" y="4572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ellular tariffs (200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US$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523880" y="1752480"/>
          <a:ext cx="7086600" cy="37339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546200"/>
                <a:gridCol w="1171440"/>
                <a:gridCol w="2006640"/>
              </a:tblGrid>
              <a:tr h="40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onnec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M. Subscrip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 minutes local cal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Peak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ff Peak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Worl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7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6.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4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fric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7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3.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5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3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merica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5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si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4.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4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Europ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3.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5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4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ceani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.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.4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51452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1371600" y="762120"/>
            <a:ext cx="7248600" cy="58482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666880" y="228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Accounting Rates Tre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95280" y="17524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Telephony : Some DATA(2000)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Intern’l Telephone revenue : 54 billion US $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Settlement transaction  :   27 billion US $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Net Settlement payment to developing countries amount to around : 5 billion US$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Int’l Infrastructure costs reduction: &lt; 20 %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Annual average traffic increase : 8 %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 Average Settlement rate reduction: ? %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3224160" y="1984320"/>
            <a:ext cx="84344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24160" y="1984320"/>
            <a:ext cx="84344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1039680" y="958680"/>
            <a:ext cx="782316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062080"/>
            <a:ext cx="76960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Arial Black"/>
              </a:rPr>
              <a:t>Botswana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50820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Black"/>
              </a:rPr>
              <a:t>July 2002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7086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0" y="7632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Falling prices</a:t>
            </a:r>
            <a:br>
              <a:rPr sz="44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0" y="0"/>
            <a:ext cx="98298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raditional regime: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Joint provision of servic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251000" y="1125360"/>
            <a:ext cx="7816680" cy="5734800"/>
            <a:chOff x="1251000" y="1125360"/>
            <a:chExt cx="7816680" cy="5734800"/>
          </a:xfrm>
        </p:grpSpPr>
        <p:sp>
          <p:nvSpPr>
            <p:cNvPr id="614" name=""/>
            <p:cNvSpPr/>
            <p:nvPr/>
          </p:nvSpPr>
          <p:spPr>
            <a:xfrm>
              <a:off x="1251000" y="2496960"/>
              <a:ext cx="2687760" cy="3298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615" name="" descr=""/>
            <p:cNvPicPr/>
            <p:nvPr/>
          </p:nvPicPr>
          <p:blipFill>
            <a:blip r:embed="rId2"/>
            <a:stretch/>
          </p:blipFill>
          <p:spPr>
            <a:xfrm>
              <a:off x="1604880" y="4222440"/>
              <a:ext cx="180036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2314440" y="2612880"/>
              <a:ext cx="6289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2603520" y="3060360"/>
              <a:ext cx="1440" cy="122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2719440" y="1333440"/>
              <a:ext cx="2144520" cy="169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88080" y="1125360"/>
              <a:ext cx="144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14800" y="1133280"/>
              <a:ext cx="1800" cy="41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80280" y="2465280"/>
              <a:ext cx="2687400" cy="33210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622" name="" descr=""/>
            <p:cNvPicPr/>
            <p:nvPr/>
          </p:nvPicPr>
          <p:blipFill>
            <a:blip r:embed="rId3"/>
            <a:stretch/>
          </p:blipFill>
          <p:spPr>
            <a:xfrm>
              <a:off x="6718320" y="4275000"/>
              <a:ext cx="180036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7416720" y="2641320"/>
              <a:ext cx="62856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705800" y="3088800"/>
              <a:ext cx="1440" cy="1244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5043600" y="1325160"/>
              <a:ext cx="2628720" cy="1771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55920" y="196344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Country A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34240" y="196344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Country B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90760" y="5851440"/>
              <a:ext cx="719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Two different national operators jointly establish an international circuit and decide the revenue they wish to obtain. They then divide that revenue fifty-fifty split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57200" y="0"/>
            <a:ext cx="91314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merging regime: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Market entry and interconnectio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143000" y="1143000"/>
            <a:ext cx="8283600" cy="5717160"/>
            <a:chOff x="1143000" y="1143000"/>
            <a:chExt cx="8283600" cy="5717160"/>
          </a:xfrm>
        </p:grpSpPr>
        <p:sp>
          <p:nvSpPr>
            <p:cNvPr id="634" name=""/>
            <p:cNvSpPr/>
            <p:nvPr/>
          </p:nvSpPr>
          <p:spPr>
            <a:xfrm>
              <a:off x="1143000" y="2482920"/>
              <a:ext cx="2379600" cy="36687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2"/>
            <a:stretch/>
          </p:blipFill>
          <p:spPr>
            <a:xfrm>
              <a:off x="1203480" y="4680000"/>
              <a:ext cx="180000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1415880" y="2602080"/>
              <a:ext cx="6289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1676520" y="3020760"/>
              <a:ext cx="0" cy="16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714680" y="1350720"/>
              <a:ext cx="324936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87800" y="11430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14880" y="1150920"/>
              <a:ext cx="0" cy="41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08800" y="2425680"/>
              <a:ext cx="2330280" cy="37148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642" name="" descr=""/>
            <p:cNvPicPr/>
            <p:nvPr/>
          </p:nvPicPr>
          <p:blipFill>
            <a:blip r:embed="rId3"/>
            <a:stretch/>
          </p:blipFill>
          <p:spPr>
            <a:xfrm>
              <a:off x="6824520" y="4745160"/>
              <a:ext cx="180036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7545240" y="2602080"/>
              <a:ext cx="6289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835760" y="3049560"/>
              <a:ext cx="0" cy="164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5143320" y="1343160"/>
              <a:ext cx="2657160" cy="174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2886120" y="3029040"/>
              <a:ext cx="4914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98760" y="2602080"/>
              <a:ext cx="62856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1714680" y="3029040"/>
              <a:ext cx="100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00440" y="3029040"/>
              <a:ext cx="0" cy="165744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43000" y="1905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Country A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36480" y="1828800"/>
              <a:ext cx="176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Country B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67280" y="12193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Jointly provided circui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48520" y="16002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09880" y="40384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Circuit provided by operator 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029200" y="3048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7000" y="615636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Cross border interconnection and the trading of international traffic minutes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27672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934320" cy="47466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144792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elivering international voice traffic in 2002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NATOT524" descr=""/>
          <p:cNvPicPr/>
          <p:nvPr/>
        </p:nvPicPr>
        <p:blipFill>
          <a:blip r:embed="rId1">
            <a:lum bright="18000"/>
          </a:blip>
          <a:srcRect l="0" t="12500" r="0" b="0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 Black"/>
              </a:rPr>
              <a:t>Global Trends in Telecom Development &amp;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 Black"/>
              </a:rPr>
              <a:t>Study Group 3 Activiti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2822400"/>
            <a:ext cx="899172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The state of the indust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The state of the marke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Situation in the Reg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685800" y="385920"/>
            <a:ext cx="109728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Global trends in telecom developmen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&amp;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Study Group 3 Activiti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82720" y="0"/>
            <a:ext cx="7162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A Mobile Revolu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064880" y="865080"/>
            <a:ext cx="11538360" cy="5917680"/>
            <a:chOff x="1064880" y="865080"/>
            <a:chExt cx="11538360" cy="5917680"/>
          </a:xfrm>
        </p:grpSpPr>
        <p:sp>
          <p:nvSpPr>
            <p:cNvPr id="105" name=""/>
            <p:cNvSpPr/>
            <p:nvPr/>
          </p:nvSpPr>
          <p:spPr>
            <a:xfrm>
              <a:off x="1173240" y="6477120"/>
              <a:ext cx="861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99"/>
                  </a:solidFill>
                  <a:latin typeface="Arial"/>
                </a:rPr>
                <a:t>Source:  ITU World Telecommunication Indicators Database.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9240" y="5873760"/>
              <a:ext cx="6461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91924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64500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34664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07348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79924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50088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22628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95348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5512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938052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9240" y="24098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2320" y="1517760"/>
              <a:ext cx="7153560" cy="425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9560" y="5662440"/>
              <a:ext cx="282600" cy="114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32240" y="5605560"/>
              <a:ext cx="284040" cy="171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4560" y="5492880"/>
              <a:ext cx="284040" cy="2840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36880" y="5322960"/>
              <a:ext cx="284400" cy="4539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1000" y="5122800"/>
              <a:ext cx="284040" cy="6541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43680" y="4811760"/>
              <a:ext cx="255240" cy="9651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7560" y="4329000"/>
              <a:ext cx="284040" cy="14479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21320" y="3789360"/>
              <a:ext cx="284400" cy="1987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74000" y="3192480"/>
              <a:ext cx="284040" cy="25844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6320" y="2568600"/>
              <a:ext cx="284040" cy="32083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440" y="1916280"/>
              <a:ext cx="282600" cy="38606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62160" y="3930480"/>
              <a:ext cx="255600" cy="184644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6280" y="3817800"/>
              <a:ext cx="255600" cy="195912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8600" y="3675240"/>
              <a:ext cx="255600" cy="210168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21280" y="3533760"/>
              <a:ext cx="255600" cy="22431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75040" y="3363840"/>
              <a:ext cx="255600" cy="241308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8920" y="3220920"/>
              <a:ext cx="255600" cy="255600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1600" y="3022560"/>
              <a:ext cx="255600" cy="27543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05720" y="2824200"/>
              <a:ext cx="255600" cy="295272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8040" y="2625840"/>
              <a:ext cx="255600" cy="315108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10360" y="2398680"/>
              <a:ext cx="255600" cy="337824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63040" y="2171880"/>
              <a:ext cx="255600" cy="360504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2320" y="1517760"/>
              <a:ext cx="1800" cy="425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36640" y="57769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36640" y="518004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36640" y="45561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36640" y="39592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36640" y="333540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36640" y="27385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36640" y="211464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36640" y="15177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2320" y="5776920"/>
              <a:ext cx="715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822320" y="5776920"/>
              <a:ext cx="180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47500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127320" y="5776920"/>
              <a:ext cx="180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78144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433760" y="5776920"/>
              <a:ext cx="180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08644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711760" y="5776920"/>
              <a:ext cx="180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36444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01676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67088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323200" y="5776920"/>
              <a:ext cx="180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97588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34040" y="557856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2040" y="498168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2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2040" y="43578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4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2040" y="37609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6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2040" y="31370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8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4880" y="2540160"/>
              <a:ext cx="48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'0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4880" y="1916280"/>
              <a:ext cx="48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'2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4880" y="1319040"/>
              <a:ext cx="48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'4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9244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99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9888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995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0388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997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032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999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1532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200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2176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200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60680" y="1488960"/>
              <a:ext cx="3406680" cy="1079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70240" y="1660680"/>
              <a:ext cx="198360" cy="198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51040" y="1546200"/>
              <a:ext cx="111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Mobile User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0240" y="2171880"/>
              <a:ext cx="198360" cy="1983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50680" y="2057400"/>
              <a:ext cx="98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Fixed Lin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27040" y="865080"/>
              <a:ext cx="82044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2160" y="893880"/>
              <a:ext cx="2539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Fixed Lines vs. Mobile Users,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50040" y="893880"/>
              <a:ext cx="153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worldwide, Millio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4440" y="179280"/>
            <a:ext cx="91425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rojection of revenue growth (US$bn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14400" y="990720"/>
            <a:ext cx="7019280" cy="5307840"/>
            <a:chOff x="914400" y="990720"/>
            <a:chExt cx="7019280" cy="5307840"/>
          </a:xfrm>
        </p:grpSpPr>
        <p:sp>
          <p:nvSpPr>
            <p:cNvPr id="187" name=""/>
            <p:cNvSpPr/>
            <p:nvPr/>
          </p:nvSpPr>
          <p:spPr>
            <a:xfrm>
              <a:off x="2411280" y="1138320"/>
              <a:ext cx="5349960" cy="4386240"/>
            </a:xfrm>
            <a:custGeom>
              <a:avLst/>
              <a:gdLst/>
              <a:ahLst/>
              <a:rect l="l" t="t" r="r" b="b"/>
              <a:pathLst>
                <a:path w="4340" h="3326">
                  <a:moveTo>
                    <a:pt x="0" y="0"/>
                  </a:moveTo>
                  <a:lnTo>
                    <a:pt x="4339" y="0"/>
                  </a:lnTo>
                  <a:lnTo>
                    <a:pt x="4339" y="3325"/>
                  </a:lnTo>
                  <a:lnTo>
                    <a:pt x="0" y="332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11280" y="1138320"/>
              <a:ext cx="5349960" cy="4386240"/>
            </a:xfrm>
            <a:custGeom>
              <a:avLst/>
              <a:gdLst/>
              <a:ahLst/>
              <a:rect l="l" t="t" r="r" b="b"/>
              <a:pathLst>
                <a:path w="4340" h="3326">
                  <a:moveTo>
                    <a:pt x="0" y="0"/>
                  </a:moveTo>
                  <a:lnTo>
                    <a:pt x="4339" y="0"/>
                  </a:lnTo>
                  <a:lnTo>
                    <a:pt x="4339" y="3325"/>
                  </a:lnTo>
                  <a:lnTo>
                    <a:pt x="0" y="332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11280" y="3579840"/>
              <a:ext cx="5349960" cy="1944720"/>
            </a:xfrm>
            <a:custGeom>
              <a:avLst/>
              <a:gdLst/>
              <a:ahLst/>
              <a:rect l="l" t="t" r="r" b="b"/>
              <a:pathLst>
                <a:path w="4340" h="1475">
                  <a:moveTo>
                    <a:pt x="0" y="428"/>
                  </a:moveTo>
                  <a:lnTo>
                    <a:pt x="360" y="377"/>
                  </a:lnTo>
                  <a:lnTo>
                    <a:pt x="720" y="325"/>
                  </a:lnTo>
                  <a:lnTo>
                    <a:pt x="1080" y="291"/>
                  </a:lnTo>
                  <a:lnTo>
                    <a:pt x="1440" y="188"/>
                  </a:lnTo>
                  <a:lnTo>
                    <a:pt x="1801" y="34"/>
                  </a:lnTo>
                  <a:lnTo>
                    <a:pt x="2178" y="0"/>
                  </a:lnTo>
                  <a:lnTo>
                    <a:pt x="2538" y="51"/>
                  </a:lnTo>
                  <a:lnTo>
                    <a:pt x="2898" y="51"/>
                  </a:lnTo>
                  <a:lnTo>
                    <a:pt x="3258" y="102"/>
                  </a:lnTo>
                  <a:lnTo>
                    <a:pt x="3619" y="137"/>
                  </a:lnTo>
                  <a:lnTo>
                    <a:pt x="3979" y="205"/>
                  </a:lnTo>
                  <a:lnTo>
                    <a:pt x="4339" y="291"/>
                  </a:lnTo>
                  <a:lnTo>
                    <a:pt x="4339" y="1474"/>
                  </a:lnTo>
                  <a:lnTo>
                    <a:pt x="3979" y="1474"/>
                  </a:lnTo>
                  <a:lnTo>
                    <a:pt x="3619" y="1474"/>
                  </a:lnTo>
                  <a:lnTo>
                    <a:pt x="3258" y="1474"/>
                  </a:lnTo>
                  <a:lnTo>
                    <a:pt x="2898" y="1474"/>
                  </a:lnTo>
                  <a:lnTo>
                    <a:pt x="2538" y="1474"/>
                  </a:lnTo>
                  <a:lnTo>
                    <a:pt x="2178" y="1474"/>
                  </a:lnTo>
                  <a:lnTo>
                    <a:pt x="1801" y="1474"/>
                  </a:lnTo>
                  <a:lnTo>
                    <a:pt x="1440" y="1474"/>
                  </a:lnTo>
                  <a:lnTo>
                    <a:pt x="1080" y="1474"/>
                  </a:lnTo>
                  <a:lnTo>
                    <a:pt x="720" y="1474"/>
                  </a:lnTo>
                  <a:lnTo>
                    <a:pt x="360" y="1474"/>
                  </a:lnTo>
                  <a:lnTo>
                    <a:pt x="0" y="1474"/>
                  </a:lnTo>
                  <a:lnTo>
                    <a:pt x="0" y="428"/>
                  </a:lnTo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11280" y="3286080"/>
              <a:ext cx="5349960" cy="858960"/>
            </a:xfrm>
            <a:custGeom>
              <a:avLst/>
              <a:gdLst/>
              <a:ahLst/>
              <a:rect l="l" t="t" r="r" b="b"/>
              <a:pathLst>
                <a:path w="4340" h="652">
                  <a:moveTo>
                    <a:pt x="0" y="514"/>
                  </a:moveTo>
                  <a:lnTo>
                    <a:pt x="360" y="463"/>
                  </a:lnTo>
                  <a:lnTo>
                    <a:pt x="720" y="394"/>
                  </a:lnTo>
                  <a:lnTo>
                    <a:pt x="1080" y="325"/>
                  </a:lnTo>
                  <a:lnTo>
                    <a:pt x="1440" y="223"/>
                  </a:lnTo>
                  <a:lnTo>
                    <a:pt x="1801" y="51"/>
                  </a:lnTo>
                  <a:lnTo>
                    <a:pt x="2178" y="0"/>
                  </a:lnTo>
                  <a:lnTo>
                    <a:pt x="2538" y="51"/>
                  </a:lnTo>
                  <a:lnTo>
                    <a:pt x="2898" y="68"/>
                  </a:lnTo>
                  <a:lnTo>
                    <a:pt x="3258" y="120"/>
                  </a:lnTo>
                  <a:lnTo>
                    <a:pt x="3619" y="171"/>
                  </a:lnTo>
                  <a:lnTo>
                    <a:pt x="3979" y="240"/>
                  </a:lnTo>
                  <a:lnTo>
                    <a:pt x="4339" y="325"/>
                  </a:lnTo>
                  <a:lnTo>
                    <a:pt x="4339" y="514"/>
                  </a:lnTo>
                  <a:lnTo>
                    <a:pt x="3979" y="428"/>
                  </a:lnTo>
                  <a:lnTo>
                    <a:pt x="3619" y="360"/>
                  </a:lnTo>
                  <a:lnTo>
                    <a:pt x="3258" y="325"/>
                  </a:lnTo>
                  <a:lnTo>
                    <a:pt x="2898" y="274"/>
                  </a:lnTo>
                  <a:lnTo>
                    <a:pt x="2538" y="274"/>
                  </a:lnTo>
                  <a:lnTo>
                    <a:pt x="2178" y="223"/>
                  </a:lnTo>
                  <a:lnTo>
                    <a:pt x="1801" y="257"/>
                  </a:lnTo>
                  <a:lnTo>
                    <a:pt x="1440" y="411"/>
                  </a:lnTo>
                  <a:lnTo>
                    <a:pt x="1080" y="514"/>
                  </a:lnTo>
                  <a:lnTo>
                    <a:pt x="720" y="548"/>
                  </a:lnTo>
                  <a:lnTo>
                    <a:pt x="360" y="600"/>
                  </a:lnTo>
                  <a:lnTo>
                    <a:pt x="0" y="651"/>
                  </a:lnTo>
                  <a:lnTo>
                    <a:pt x="0" y="514"/>
                  </a:lnTo>
                </a:path>
              </a:pathLst>
            </a:custGeom>
            <a:solidFill>
              <a:srgbClr val="8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11280" y="2063880"/>
              <a:ext cx="5349960" cy="1900080"/>
            </a:xfrm>
            <a:custGeom>
              <a:avLst/>
              <a:gdLst/>
              <a:ahLst/>
              <a:rect l="l" t="t" r="r" b="b"/>
              <a:pathLst>
                <a:path w="4340" h="1441">
                  <a:moveTo>
                    <a:pt x="0" y="1389"/>
                  </a:moveTo>
                  <a:lnTo>
                    <a:pt x="360" y="1320"/>
                  </a:lnTo>
                  <a:lnTo>
                    <a:pt x="720" y="1234"/>
                  </a:lnTo>
                  <a:lnTo>
                    <a:pt x="1080" y="1149"/>
                  </a:lnTo>
                  <a:lnTo>
                    <a:pt x="1440" y="977"/>
                  </a:lnTo>
                  <a:lnTo>
                    <a:pt x="1801" y="720"/>
                  </a:lnTo>
                  <a:lnTo>
                    <a:pt x="2178" y="583"/>
                  </a:lnTo>
                  <a:lnTo>
                    <a:pt x="2538" y="497"/>
                  </a:lnTo>
                  <a:lnTo>
                    <a:pt x="2898" y="377"/>
                  </a:lnTo>
                  <a:lnTo>
                    <a:pt x="3258" y="292"/>
                  </a:lnTo>
                  <a:lnTo>
                    <a:pt x="3619" y="172"/>
                  </a:lnTo>
                  <a:lnTo>
                    <a:pt x="3979" y="69"/>
                  </a:lnTo>
                  <a:lnTo>
                    <a:pt x="4339" y="0"/>
                  </a:lnTo>
                  <a:lnTo>
                    <a:pt x="4339" y="1251"/>
                  </a:lnTo>
                  <a:lnTo>
                    <a:pt x="3979" y="1166"/>
                  </a:lnTo>
                  <a:lnTo>
                    <a:pt x="3619" y="1097"/>
                  </a:lnTo>
                  <a:lnTo>
                    <a:pt x="3258" y="1046"/>
                  </a:lnTo>
                  <a:lnTo>
                    <a:pt x="2898" y="994"/>
                  </a:lnTo>
                  <a:lnTo>
                    <a:pt x="2538" y="977"/>
                  </a:lnTo>
                  <a:lnTo>
                    <a:pt x="2178" y="926"/>
                  </a:lnTo>
                  <a:lnTo>
                    <a:pt x="1801" y="977"/>
                  </a:lnTo>
                  <a:lnTo>
                    <a:pt x="1440" y="1149"/>
                  </a:lnTo>
                  <a:lnTo>
                    <a:pt x="1080" y="1251"/>
                  </a:lnTo>
                  <a:lnTo>
                    <a:pt x="720" y="1320"/>
                  </a:lnTo>
                  <a:lnTo>
                    <a:pt x="360" y="1389"/>
                  </a:lnTo>
                  <a:lnTo>
                    <a:pt x="0" y="1440"/>
                  </a:lnTo>
                  <a:lnTo>
                    <a:pt x="0" y="1389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11280" y="1500120"/>
              <a:ext cx="5349960" cy="2397240"/>
            </a:xfrm>
            <a:custGeom>
              <a:avLst/>
              <a:gdLst/>
              <a:ahLst/>
              <a:rect l="l" t="t" r="r" b="b"/>
              <a:pathLst>
                <a:path w="4340" h="1818">
                  <a:moveTo>
                    <a:pt x="0" y="1731"/>
                  </a:moveTo>
                  <a:lnTo>
                    <a:pt x="360" y="1662"/>
                  </a:lnTo>
                  <a:lnTo>
                    <a:pt x="720" y="1525"/>
                  </a:lnTo>
                  <a:lnTo>
                    <a:pt x="1080" y="1422"/>
                  </a:lnTo>
                  <a:lnTo>
                    <a:pt x="1440" y="1285"/>
                  </a:lnTo>
                  <a:lnTo>
                    <a:pt x="1801" y="1011"/>
                  </a:lnTo>
                  <a:lnTo>
                    <a:pt x="2178" y="805"/>
                  </a:lnTo>
                  <a:lnTo>
                    <a:pt x="2538" y="720"/>
                  </a:lnTo>
                  <a:lnTo>
                    <a:pt x="2898" y="548"/>
                  </a:lnTo>
                  <a:lnTo>
                    <a:pt x="3258" y="428"/>
                  </a:lnTo>
                  <a:lnTo>
                    <a:pt x="3619" y="274"/>
                  </a:lnTo>
                  <a:lnTo>
                    <a:pt x="3979" y="120"/>
                  </a:lnTo>
                  <a:lnTo>
                    <a:pt x="4339" y="0"/>
                  </a:lnTo>
                  <a:lnTo>
                    <a:pt x="4339" y="428"/>
                  </a:lnTo>
                  <a:lnTo>
                    <a:pt x="3979" y="497"/>
                  </a:lnTo>
                  <a:lnTo>
                    <a:pt x="3619" y="600"/>
                  </a:lnTo>
                  <a:lnTo>
                    <a:pt x="3258" y="720"/>
                  </a:lnTo>
                  <a:lnTo>
                    <a:pt x="2898" y="805"/>
                  </a:lnTo>
                  <a:lnTo>
                    <a:pt x="2538" y="925"/>
                  </a:lnTo>
                  <a:lnTo>
                    <a:pt x="2178" y="1011"/>
                  </a:lnTo>
                  <a:lnTo>
                    <a:pt x="1801" y="1148"/>
                  </a:lnTo>
                  <a:lnTo>
                    <a:pt x="1440" y="1405"/>
                  </a:lnTo>
                  <a:lnTo>
                    <a:pt x="1080" y="1577"/>
                  </a:lnTo>
                  <a:lnTo>
                    <a:pt x="720" y="1662"/>
                  </a:lnTo>
                  <a:lnTo>
                    <a:pt x="360" y="1748"/>
                  </a:lnTo>
                  <a:lnTo>
                    <a:pt x="0" y="1817"/>
                  </a:lnTo>
                  <a:lnTo>
                    <a:pt x="0" y="1731"/>
                  </a:lnTo>
                </a:path>
              </a:pathLst>
            </a:custGeom>
            <a:solidFill>
              <a:srgbClr val="a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374920" y="4143240"/>
              <a:ext cx="1440" cy="137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11280" y="3579840"/>
              <a:ext cx="5349960" cy="1944720"/>
            </a:xfrm>
            <a:custGeom>
              <a:avLst/>
              <a:gdLst/>
              <a:ahLst/>
              <a:rect l="l" t="t" r="r" b="b"/>
              <a:pathLst>
                <a:path w="4340" h="1475">
                  <a:moveTo>
                    <a:pt x="0" y="428"/>
                  </a:moveTo>
                  <a:lnTo>
                    <a:pt x="360" y="377"/>
                  </a:lnTo>
                  <a:lnTo>
                    <a:pt x="720" y="325"/>
                  </a:lnTo>
                  <a:lnTo>
                    <a:pt x="1080" y="291"/>
                  </a:lnTo>
                  <a:lnTo>
                    <a:pt x="1440" y="188"/>
                  </a:lnTo>
                  <a:lnTo>
                    <a:pt x="1801" y="34"/>
                  </a:lnTo>
                  <a:lnTo>
                    <a:pt x="2178" y="0"/>
                  </a:lnTo>
                  <a:lnTo>
                    <a:pt x="2538" y="51"/>
                  </a:lnTo>
                  <a:lnTo>
                    <a:pt x="2898" y="51"/>
                  </a:lnTo>
                  <a:lnTo>
                    <a:pt x="3258" y="102"/>
                  </a:lnTo>
                  <a:lnTo>
                    <a:pt x="3619" y="137"/>
                  </a:lnTo>
                  <a:lnTo>
                    <a:pt x="3979" y="205"/>
                  </a:lnTo>
                  <a:lnTo>
                    <a:pt x="4339" y="291"/>
                  </a:lnTo>
                  <a:lnTo>
                    <a:pt x="4339" y="147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74920" y="3963960"/>
              <a:ext cx="144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11280" y="3286080"/>
              <a:ext cx="5349960" cy="677880"/>
            </a:xfrm>
            <a:custGeom>
              <a:avLst/>
              <a:gdLst/>
              <a:ahLst/>
              <a:rect l="l" t="t" r="r" b="b"/>
              <a:pathLst>
                <a:path w="4340" h="515">
                  <a:moveTo>
                    <a:pt x="0" y="514"/>
                  </a:moveTo>
                  <a:lnTo>
                    <a:pt x="360" y="463"/>
                  </a:lnTo>
                  <a:lnTo>
                    <a:pt x="720" y="394"/>
                  </a:lnTo>
                  <a:lnTo>
                    <a:pt x="1080" y="325"/>
                  </a:lnTo>
                  <a:lnTo>
                    <a:pt x="1440" y="223"/>
                  </a:lnTo>
                  <a:lnTo>
                    <a:pt x="1801" y="51"/>
                  </a:lnTo>
                  <a:lnTo>
                    <a:pt x="2178" y="0"/>
                  </a:lnTo>
                  <a:lnTo>
                    <a:pt x="2538" y="51"/>
                  </a:lnTo>
                  <a:lnTo>
                    <a:pt x="2898" y="68"/>
                  </a:lnTo>
                  <a:lnTo>
                    <a:pt x="3258" y="120"/>
                  </a:lnTo>
                  <a:lnTo>
                    <a:pt x="3619" y="171"/>
                  </a:lnTo>
                  <a:lnTo>
                    <a:pt x="3979" y="240"/>
                  </a:lnTo>
                  <a:lnTo>
                    <a:pt x="4339" y="325"/>
                  </a:lnTo>
                  <a:lnTo>
                    <a:pt x="4339" y="51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374920" y="3895560"/>
              <a:ext cx="14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11280" y="2063880"/>
              <a:ext cx="5349960" cy="1833480"/>
            </a:xfrm>
            <a:custGeom>
              <a:avLst/>
              <a:gdLst/>
              <a:ahLst/>
              <a:rect l="l" t="t" r="r" b="b"/>
              <a:pathLst>
                <a:path w="4340" h="1390">
                  <a:moveTo>
                    <a:pt x="0" y="1389"/>
                  </a:moveTo>
                  <a:lnTo>
                    <a:pt x="360" y="1320"/>
                  </a:lnTo>
                  <a:lnTo>
                    <a:pt x="720" y="1234"/>
                  </a:lnTo>
                  <a:lnTo>
                    <a:pt x="1080" y="1149"/>
                  </a:lnTo>
                  <a:lnTo>
                    <a:pt x="1440" y="977"/>
                  </a:lnTo>
                  <a:lnTo>
                    <a:pt x="1801" y="720"/>
                  </a:lnTo>
                  <a:lnTo>
                    <a:pt x="2178" y="583"/>
                  </a:lnTo>
                  <a:lnTo>
                    <a:pt x="2538" y="497"/>
                  </a:lnTo>
                  <a:lnTo>
                    <a:pt x="2898" y="377"/>
                  </a:lnTo>
                  <a:lnTo>
                    <a:pt x="3258" y="292"/>
                  </a:lnTo>
                  <a:lnTo>
                    <a:pt x="3619" y="172"/>
                  </a:lnTo>
                  <a:lnTo>
                    <a:pt x="3979" y="69"/>
                  </a:lnTo>
                  <a:lnTo>
                    <a:pt x="4339" y="0"/>
                  </a:lnTo>
                  <a:lnTo>
                    <a:pt x="4339" y="125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374920" y="3782520"/>
              <a:ext cx="144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1500120"/>
              <a:ext cx="5349960" cy="2284560"/>
            </a:xfrm>
            <a:custGeom>
              <a:avLst/>
              <a:gdLst/>
              <a:ahLst/>
              <a:rect l="l" t="t" r="r" b="b"/>
              <a:pathLst>
                <a:path w="4340" h="1732">
                  <a:moveTo>
                    <a:pt x="0" y="1731"/>
                  </a:moveTo>
                  <a:lnTo>
                    <a:pt x="360" y="1662"/>
                  </a:lnTo>
                  <a:lnTo>
                    <a:pt x="720" y="1525"/>
                  </a:lnTo>
                  <a:lnTo>
                    <a:pt x="1080" y="1422"/>
                  </a:lnTo>
                  <a:lnTo>
                    <a:pt x="1440" y="1285"/>
                  </a:lnTo>
                  <a:lnTo>
                    <a:pt x="1801" y="1011"/>
                  </a:lnTo>
                  <a:lnTo>
                    <a:pt x="2178" y="805"/>
                  </a:lnTo>
                  <a:lnTo>
                    <a:pt x="2538" y="720"/>
                  </a:lnTo>
                  <a:lnTo>
                    <a:pt x="2898" y="548"/>
                  </a:lnTo>
                  <a:lnTo>
                    <a:pt x="3258" y="428"/>
                  </a:lnTo>
                  <a:lnTo>
                    <a:pt x="3619" y="274"/>
                  </a:lnTo>
                  <a:lnTo>
                    <a:pt x="3979" y="120"/>
                  </a:lnTo>
                  <a:lnTo>
                    <a:pt x="4339" y="0"/>
                  </a:lnTo>
                  <a:lnTo>
                    <a:pt x="4339" y="4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74920" y="1138320"/>
              <a:ext cx="1440" cy="438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11560" y="5522760"/>
              <a:ext cx="12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11560" y="50943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1560" y="46418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11560" y="42130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11560" y="37609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1560" y="3330720"/>
              <a:ext cx="1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1560" y="2900520"/>
              <a:ext cx="1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11560" y="2449440"/>
              <a:ext cx="12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11560" y="2019240"/>
              <a:ext cx="12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11560" y="1566720"/>
              <a:ext cx="12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11560" y="1138320"/>
              <a:ext cx="1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1280" y="5522760"/>
              <a:ext cx="5348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374920" y="545436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85588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29868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74328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18608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32480" y="5454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09580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540400" y="545436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98320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427800" y="545436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72400" y="545436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31664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759800" y="545436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91600" y="53625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49760" y="4946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49760" y="449424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9760" y="406548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49760" y="36133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49760" y="3182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49760" y="27525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49760" y="230184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7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49760" y="187164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8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49760" y="14191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23760" y="9907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0248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4708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8988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3448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7728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4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2332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5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884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6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160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7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758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8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204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9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650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078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0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06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0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-23760" y="3161880"/>
              <a:ext cx="385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rvice revenue (US$ bn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305840" y="1204920"/>
              <a:ext cx="1440" cy="438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37000" y="1246320"/>
              <a:ext cx="681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99"/>
                  </a:solidFill>
                  <a:latin typeface="Arial"/>
                </a:rPr>
                <a:t>Actual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8880" y="2195640"/>
              <a:ext cx="93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99"/>
                  </a:solidFill>
                  <a:latin typeface="Arial"/>
                </a:rPr>
                <a:t>Project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14960" y="4687920"/>
              <a:ext cx="22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Domestic Telephone/fax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29120" y="3286080"/>
              <a:ext cx="496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Int'l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60760" y="274320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Mobil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14920" y="1838160"/>
              <a:ext cx="2010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Other: Data, Internet,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18280" y="2178000"/>
              <a:ext cx="212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Leased lines, telex, et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5992920"/>
              <a:ext cx="6921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Source:  ITU.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54960" y="4665600"/>
              <a:ext cx="71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43%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54960" y="3589200"/>
              <a:ext cx="591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8%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46800" y="301932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36%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54960" y="1879560"/>
              <a:ext cx="82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13%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295280" y="1295280"/>
            <a:ext cx="7467840" cy="4842000"/>
            <a:chOff x="1295280" y="1295280"/>
            <a:chExt cx="7467840" cy="484200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1295280" y="1295280"/>
              <a:ext cx="7334280" cy="484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391520" y="35193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(180%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7480" y="47386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(227%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47920" y="2133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M. US$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1874880" y="1162080"/>
            <a:ext cx="10698120" cy="5697720"/>
            <a:chOff x="1874880" y="1162080"/>
            <a:chExt cx="10698120" cy="5697720"/>
          </a:xfrm>
        </p:grpSpPr>
        <p:sp>
          <p:nvSpPr>
            <p:cNvPr id="271" name=""/>
            <p:cNvSpPr/>
            <p:nvPr/>
          </p:nvSpPr>
          <p:spPr>
            <a:xfrm>
              <a:off x="3429000" y="1666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01880" y="1251000"/>
              <a:ext cx="497052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01880" y="4910040"/>
              <a:ext cx="497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01880" y="445464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01880" y="3995640"/>
              <a:ext cx="497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01880" y="3538440"/>
              <a:ext cx="497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01880" y="307980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01880" y="2624040"/>
              <a:ext cx="497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01880" y="216540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01880" y="170820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1880" y="125100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1880" y="1251000"/>
              <a:ext cx="4970520" cy="41180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560" y="5302080"/>
              <a:ext cx="331920" cy="669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78280" y="5284800"/>
              <a:ext cx="331920" cy="842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07000" y="5256360"/>
              <a:ext cx="330120" cy="1126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33920" y="5234040"/>
              <a:ext cx="331920" cy="13500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2640" y="5178600"/>
              <a:ext cx="331920" cy="1904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1360" y="4941720"/>
              <a:ext cx="331920" cy="4273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560" y="5278320"/>
              <a:ext cx="331920" cy="2376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8280" y="5208480"/>
              <a:ext cx="331920" cy="7632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7000" y="5140440"/>
              <a:ext cx="330120" cy="11592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33920" y="5002200"/>
              <a:ext cx="331920" cy="23184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62640" y="4503600"/>
              <a:ext cx="331920" cy="67500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91360" y="3197160"/>
              <a:ext cx="331920" cy="174456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49560" y="5138640"/>
              <a:ext cx="331920" cy="139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78280" y="5100480"/>
              <a:ext cx="331920" cy="108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7000" y="5003640"/>
              <a:ext cx="330120" cy="1368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3920" y="4627440"/>
              <a:ext cx="331920" cy="3747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62640" y="4262400"/>
              <a:ext cx="331920" cy="241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91360" y="1709640"/>
              <a:ext cx="331920" cy="14875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01880" y="1251000"/>
              <a:ext cx="1800" cy="411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1120" y="53690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51120" y="49100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51120" y="44546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51120" y="39956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1120" y="35384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1120" y="30798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51120" y="26240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51120" y="21654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51120" y="17082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51120" y="12510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01880" y="536904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801880" y="53686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630600" y="53686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459320" y="53686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286240" y="53686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114960" y="53686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43680" y="53686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019920" y="55972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308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11480" y="48229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2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11480" y="43657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4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11480" y="39067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6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11480" y="34513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8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26520" y="29923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0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26520" y="25351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2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26520" y="207648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4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26520" y="16207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6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26520" y="116208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8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380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995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7396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996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0124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997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2996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998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5868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999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8704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1043280" y="2752920"/>
              <a:ext cx="196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Capacity (Mbp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05600" y="5884920"/>
              <a:ext cx="1706400" cy="668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54560" y="5954760"/>
              <a:ext cx="100080" cy="100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9920" y="591660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Unused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54560" y="6175440"/>
              <a:ext cx="100080" cy="10152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91360" y="613872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54560" y="6397560"/>
              <a:ext cx="100080" cy="1015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86680" y="6361200"/>
              <a:ext cx="1480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Basic voice telephony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19920" y="6583320"/>
              <a:ext cx="274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Source: FC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85800" y="258840"/>
            <a:ext cx="99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of international circuits from the USA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29:54Z</dcterms:created>
  <dc:creator>Wyn Lucas</dc:creator>
  <dc:description/>
  <dc:language>en-US</dc:language>
  <cp:lastModifiedBy>TSTT</cp:lastModifiedBy>
  <cp:lastPrinted>2002-07-16T16:13:36Z</cp:lastPrinted>
  <dcterms:modified xsi:type="dcterms:W3CDTF">2002-07-16T21:27:25Z</dcterms:modified>
  <cp:revision>101</cp:revision>
  <dc:subject/>
  <dc:title>Wyn Lucas</dc:title>
</cp:coreProperties>
</file>