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972-F98E-4202-99F3-AB58C9EA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325-1822-46EB-9660-1D2816C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A28-7221-4744-8C96-D895839D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C08-8B60-41D1-8C2E-A1526E5E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79E-D66B-4DBB-AD57-B4F36BC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F04-A39B-4EB7-993F-A4907734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43D-44E6-4841-9A31-796CA42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0AF-9A1F-4E43-9E8B-0D0DCA86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78E-2C2A-491A-98AE-D6473482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576-5267-4065-9DA8-A3B623E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C2D-4C4E-4E43-979D-D22007D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6C1-D048-43C0-9A9B-B3BD68E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885-BDD3-43DF-AA4C-E6863E3A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INTERNATIONAL TELECOMMUNICATION UNION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Futura Lt BT"/>
              </a:rPr>
              <a:t>Telecommunications Development Bureau (BDT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ONAL OFFICE FOR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ecting existing invest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ring migration. (proposal 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the International standard signal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in the digitized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ISDN and IPTC platform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 and GPRS in mobile/cellular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establish IP 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mmunication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IGRATION STEP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TN &amp; CELLULAR/MOBILE NETWORKS – FLOW CH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828800"/>
            <a:ext cx="3504960" cy="1523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the basic PST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ell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 avail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00200"/>
            <a:ext cx="3352680" cy="213372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ell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447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657600"/>
            <a:ext cx="3504960" cy="259092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Switching 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ized and planned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connection capac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038480"/>
            <a:ext cx="3276720" cy="16002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ize the Switchin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ll nodes and plan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connection capac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962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648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352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6095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5638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371600"/>
            <a:ext cx="3733560" cy="19810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Transmission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ISC and Earth St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ISC and NTSC,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SC and NSC,between NTSC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s and between NTSC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ular networks digitiz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1371600"/>
            <a:ext cx="3810240" cy="259092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iz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between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809880"/>
            <a:ext cx="3504960" cy="259092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nter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SS7 Signa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ize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419720"/>
            <a:ext cx="3276720" cy="16002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the SS7 signa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igit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990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114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3526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962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6172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6248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209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4495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1066680"/>
            <a:ext cx="3276360" cy="16002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SDN, IPTC and 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forms for Packe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in the PST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obile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276720"/>
            <a:ext cx="3886200" cy="17524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IP (Internet protocol)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lecommunication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ternal plant, ensure 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tandard cabling, use Modem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, etc for Packet Swit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257800"/>
            <a:ext cx="7772400" cy="6858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LL ESTABLISHMENT OF PACKET SWITCHIN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685800"/>
            <a:ext cx="3810240" cy="2286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ISDN, IP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PSTN and 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mobile Networ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971800"/>
            <a:ext cx="3657600" cy="19810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P implemented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t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487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2666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2819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876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57200" y="1066680"/>
          <a:ext cx="822960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82296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 VERY MUCH FOR YOUR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IONAL OFFICE FOR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sane, Botsw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and evolution of telecommunication technologie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s and evolution of telecommunication net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ng existing investment during migration. (propos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IE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, telex, tele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everything (education, health, commerce, governance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/mail, e-mail, multimedia, video, conferencing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COMMUNICATIO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Circuit switched an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Circuit switched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circuit switched an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circuit switched dig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Packet 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/mobile Packet 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/Op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UAL SIT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technical interconnection capa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platforms for new technologi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infrastructure, if not none in rural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ow tele-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population covered by mobile/cellular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rea covered by mobile/cellula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usage of communication facility for safety 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UAL SITUATION - 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utilization of fixed/land mobile wireless techn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networks for voice, data, video and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usage of  and implementation of International standard signalling system in the digitalized 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Internet access pene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data speed (9.6Kbps) in mobile/cellular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ue transmission and switching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velopment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AH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internationally accepted standards for signa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end to end digital transmission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development of sufficient platforms for new technologi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implementation of migration steps for the converging transportation of voice, data video an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of conducive environment for network expansion/development in rural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S AHEAD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fixed/mobile wireless and Satellite technology in rural telecommunication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 participation of Universities, Engineering Institutions, Science and Technology, professional Associations in rural telecommunication development and in telecommunication industry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ecting existing invest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ring migration. (propos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migration steps for networks in PSTN and Mobile/Cell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availability of basic infrastructur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T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obile/cell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STN digitize the Switching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and plan for interconn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STN digitize the transmission syst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4817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5:24:57Z</dcterms:created>
  <dc:creator>Tumelo</dc:creator>
  <dc:description/>
  <dc:language>en-US</dc:language>
  <cp:lastModifiedBy>itu_a</cp:lastModifiedBy>
  <dcterms:modified xsi:type="dcterms:W3CDTF">2002-07-15T14:44:01Z</dcterms:modified>
  <cp:revision>37</cp:revision>
  <dc:subject/>
  <dc:title>ITU/BDT</dc:title>
</cp:coreProperties>
</file>