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C1B-66A8-43B7-92E4-3E9F373D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1EE-E9BF-4549-8A36-F01C908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049-F867-457F-ADF3-8100F862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B6C-F2EA-44AB-B517-B20D578C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B11DC-DECD-48C1-962C-C4CAD76C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7EEAD-817F-42E2-A2D8-C5893DA3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4D3F-9ABF-41AD-B808-B1D3CEB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94FE-9E48-4DF1-8364-D9721A0F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22DC8-9A49-43A8-9C41-10769AD2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A4C8-DA85-4638-81DC-39282A58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3089-2425-4E56-8765-B31AF09D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3A-BC9D-4133-8C48-35C5D10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18197-160E-4E87-8DBE-4CEF65A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6AE6-C9AF-4B3A-A8F6-FB0CB53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6EBC-1522-4BBC-8FF9-3463517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28825-4318-46F6-B33C-6812C4F1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924D-C37C-45D1-84E3-62304A8F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43D-CDBA-4504-828D-D53405F8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232-31A1-4118-A49E-E61E3D9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7CE-FD0D-4102-BDE0-41C30090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F7E-A965-47B4-B7DE-74E5478F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8C3-544C-4DFE-A714-0527E1E2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E2F-3481-4E0D-AB3F-B1537E6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842-772B-4839-B30B-E5BCE48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22C9-7B64-4B57-AB66-A8A0D0DAF0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6FF-C108-4EF9-AE3B-029ABBB925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ATA’S ROLE IN STANDARDS</a:t>
            </a:r>
            <a:br>
              <a:rPr sz="5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__________________________________________________________________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19320" y="2924280"/>
            <a:ext cx="640080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Y MWAZ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SECRE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AFRICA TELECOMMUN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COND OBJ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 regional universal service with regard to telecomms services and regional universal access to advanced information  servic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RD OBJ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service interconnectivity in the region and glob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LECOMMS POLI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attain telecomms objectives, Member States agree to develop a HARMONIZED regional telecomms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ONIZATION: The dynamic process of establishing mutually complementary policies, legislation, rules, STANDARDS, PRACTICES or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TABLISHMENT OF SA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Africa Telecommunica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ion Constitution was a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ember 1999 in pursuit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C Treaty and SADC Protocol 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, Communications 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logy to serve as a region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form to face new challenges and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ies in the    ever- chang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comms environ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ERAL OBJECTIVES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F SA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the interests of its members in the changing global and regional regulatory and business environment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ully representative of public telecomms operators and service providers in the SADC reg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echnological and busi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 amongst Member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ERAL OBJECTIVES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CONT’D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beneficial access to innovative technologies for members;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o-operation amongst members in training and human resource development and capacity buil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 and sensitize its members, international and regional organizations, governments and the public about on-going developments and areas of concern in telecomms in the reg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e common positions, views and responses on issues affecting members at national, regional and international lev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ECIFIC OBJECTIVES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CONT’D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e and promote the adoption of region-wide standards for network characteristics, services, equipment and other technical issues of collective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members’ views on the use of the radio frequency spectrum and submit the same to TRASA for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A is a Consultative Member of the SATCC Telecomms Committe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ING COMMITT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and Strategy Committ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r policy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and Infrastructure Committe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r techn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 has various sub-committees under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ve two committe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CY &amp; STRATEGY COM’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B-COMMITE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esource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Partnerships and Al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Global Reg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Backg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Intent and Driving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C Objectives/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comms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ment of S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 Working Committ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CH &amp; INFRASTRACTURE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B-COMMITTEES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7840" y="2349360"/>
            <a:ext cx="79074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y and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vity and Inter-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 of regional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ng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 frequenc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ST BUSINESS PRACT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to DEL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s clearance rates: 24,48 &amp; 7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Ceasure Ratio (AS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digitalization: Swg &amp; Tx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ults per 100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ST BUSINESS PRACT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uted bills per 10,000 bills sent</a:t>
            </a:r>
            <a:fld id="{A1F86239-CD8B-4813-8D89-5419B464F4EC}" type="slidenum">
              <a:rPr b="0" lang="en-US" sz="3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 complaints per 1,000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f provision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waiting time for serv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 fide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TA - MEMBERSHI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bership is open to all telecom service providers who own a public networ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47800" y="3048120"/>
            <a:ext cx="47628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? ? ?  STANDARDS  ! !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C TREA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s 22 &amp; 23 of the provides for Member States to conclude a protocol  to expand  and deepen their corporation in the areas of INFRASTRUCTURE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way to the signing of the PROTOCOL On Transport, Communications  and Meteorology and the establishment of SATCC-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ITIAL I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stablish VIABLE and SUSTAINABLE transport, communications and meteorology within the SADC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JOR DRIVING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, Communications and meteorology functions have a regional and global character and are a PREREQUISITE for the promotion of economic growth and development, and consequently, the quality of life and social interaction of all their citizens within the region, continentally and internationally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JOR DRIVING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s’ Rights and Obligations under the regional and international agreements must be built collectively to promote CONVERGENCE and COMPATIBILITY with regional and global trends, while a unified approach is adopted to common issues of common interest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JOR DRIVING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, Communications and Meteorology INFRASTRUCTURE, EQUIPMENT, HUMAN RESOURCES,TECHNOLOGY, and SERVICES represent the collective patrimony of the region and comprise assets of significant strategic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LECOMMS  OBJEC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 States agree to take advantage of international technological developments  and to develop national telecomms networks for the provisions of reliable, effective and affordable telecomms services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RST OBJ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adequate high quality and efficient services responsive to the diverse needs of commerce and industry in support of regional social and economic grow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6:10:29Z</dcterms:created>
  <dc:creator>satcc</dc:creator>
  <dc:description/>
  <dc:language>en-US</dc:language>
  <cp:lastModifiedBy>T. Mosinyi</cp:lastModifiedBy>
  <dcterms:modified xsi:type="dcterms:W3CDTF">2002-07-26T08:26:11Z</dcterms:modified>
  <cp:revision>43</cp:revision>
  <dc:subject/>
  <dc:title>SATA’S ROLE IN STANDARDS</dc:title>
</cp:coreProperties>
</file>