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8640" y="0"/>
            <a:ext cx="303552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09240" y="687240"/>
            <a:ext cx="4584600" cy="343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3480" y="4354560"/>
            <a:ext cx="5137200" cy="420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784720"/>
            <a:ext cx="3035160" cy="45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8640" y="8784720"/>
            <a:ext cx="3035520" cy="45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511E9A2-C19C-4243-AEF6-73FB822DDE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3968640" y="8784720"/>
            <a:ext cx="3035520" cy="45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FC3413A-214E-4A6A-A7BA-782D3067E8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-360" y="8784720"/>
            <a:ext cx="3035160" cy="45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-360" y="0"/>
            <a:ext cx="303516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968640" y="0"/>
            <a:ext cx="303552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355760" y="809640"/>
            <a:ext cx="4294080" cy="32209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577800" y="4392720"/>
            <a:ext cx="5695920" cy="36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3968640" y="8784720"/>
            <a:ext cx="3035520" cy="45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3DB4971-B023-46B4-8B8D-FA3201C35F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-360" y="8784720"/>
            <a:ext cx="3035160" cy="45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-360" y="0"/>
            <a:ext cx="303516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968640" y="0"/>
            <a:ext cx="303552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8640" y="4680"/>
            <a:ext cx="3036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968640" y="8782200"/>
            <a:ext cx="3036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-1440" y="8782200"/>
            <a:ext cx="3033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-1440" y="4680"/>
            <a:ext cx="3033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357200" y="809640"/>
            <a:ext cx="4294440" cy="322092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28800" y="4389120"/>
            <a:ext cx="514008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3968640" y="8784720"/>
            <a:ext cx="3035520" cy="45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FBC8FFC-C26D-43CE-8306-3080BD613F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-360" y="8784720"/>
            <a:ext cx="3035160" cy="45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-360" y="0"/>
            <a:ext cx="303516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3968640" y="0"/>
            <a:ext cx="303552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968640" y="4680"/>
            <a:ext cx="3036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968640" y="8782200"/>
            <a:ext cx="3036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-1440" y="8782200"/>
            <a:ext cx="3033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-1440" y="4680"/>
            <a:ext cx="3033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357200" y="809640"/>
            <a:ext cx="4294440" cy="322092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28800" y="4389120"/>
            <a:ext cx="514008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942E-31EB-462B-89E3-D003A910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9801-BC1A-446F-BC5E-FD74A609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CA03-1E85-421F-B852-37BB57BD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3C99-F941-4F8D-B244-68FBA30C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B1E7-1F95-4C0B-AE40-C8220CCD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7608-4DF8-4C29-B175-2611FD02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CB01-701E-462A-AAAF-2E0F81D1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03BA-22A4-4143-A81C-F8492E8B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DD55-55BB-41F8-8D98-A71832E4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767A-C604-4656-8B09-644ED011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64A6-AC7C-4DA6-8B13-069BED44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BC1-5899-4F02-8B82-26F5F5CF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E987-7710-4618-B3BA-B759E452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64B4-2677-4AC5-9B10-5F954F67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FB25-7B24-40D2-BAE3-BEE88354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5E14-7D73-45E9-9054-E3157B08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C9FC-26F9-4B92-B1E8-1A99A5DF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7651-0A2B-419C-A173-96DBE3EF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347-3828-4C2A-9AAE-1B0239FE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FA0C-9B9A-4639-8C22-DAF85644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76B9-2420-4D8C-99B7-78EC3A6D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D657-539E-403F-96BA-F3F411C2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DD67-465D-4AEA-A75B-963F8A51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DDFE-8B78-4B64-8621-07E0A20B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F436-A1CE-40BB-8F2A-3EB07B2ED4AD}" type="slidenum">
              <a:rPr b="0" lang="en-US" sz="1400" spc="-1" strike="noStrike">
                <a:solidFill>
                  <a:srgbClr val="40458c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eft00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4A6D-7728-45C8-BA95-DAD2739A6C46}" type="slidenum">
              <a:rPr b="0" lang="en-US" sz="1400" spc="-1" strike="noStrike">
                <a:solidFill>
                  <a:srgbClr val="40458c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eft0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NATOT524" descr=""/>
          <p:cNvPicPr/>
          <p:nvPr/>
        </p:nvPicPr>
        <p:blipFill>
          <a:blip r:embed="rId1">
            <a:lum bright="18000"/>
          </a:blip>
          <a:srcRect l="0" t="12500" r="0" b="0"/>
          <a:stretch/>
        </p:blipFill>
        <p:spPr>
          <a:xfrm>
            <a:off x="0" y="-7452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-152280" y="457200"/>
            <a:ext cx="10896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Black"/>
              </a:rPr>
              <a:t>Internet users, millions</a:t>
            </a: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Arial Black"/>
              </a:rPr>
              <a:t>Annual rate of chang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7770600" cy="41148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7810200" y="6553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ahoma"/>
              </a:rPr>
              <a:t>Source: ITU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838080" y="771480"/>
            <a:ext cx="7691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The state of the market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47920" y="2057400"/>
            <a:ext cx="7143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90000"/>
              </a:lnSpc>
              <a:spcBef>
                <a:spcPts val="451"/>
              </a:spcBef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Increasing competi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Around two-thirds of telecom subscribers now have a choice of operato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More than 99 per cent of mobile and Internet subscribers now have a choice of operato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Dominantly private-ownershi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19 out of top 20 top public telecom operators are partially or fully private-owne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Of the top 20 mobile operators, 16 are fully-private, 3 are partially private, 1 is state-owne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Independent regulator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Black"/>
              </a:rPr>
              <a:t>There are currently 112 independent regulators (only 12 in 1990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5943600" cy="36129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631800" y="152280"/>
            <a:ext cx="91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Private, competitive, mobile &amp; globa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6172200"/>
            <a:ext cx="857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Times New Roman"/>
              </a:rPr>
              <a:t>Status of telecommunication privatization , by country and by share of global revenue, 200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219320" y="1146240"/>
            <a:ext cx="7543800" cy="51782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533520" y="647712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egal status of telecommunication competition, by country, 200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200" y="0"/>
            <a:ext cx="860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Legal status of competi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Distribution by country, 2001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8305560" cy="55627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295280" y="2286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Mobile as the new global network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90720" y="6477120"/>
            <a:ext cx="76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Times New Roman"/>
              </a:rPr>
              <a:t>Mobile and fixed telephone subscribers worldwide, 1982-2005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9480" y="593640"/>
            <a:ext cx="845820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925040" cy="55069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04920" y="304920"/>
            <a:ext cx="8839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Total telephone user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Black"/>
              </a:rPr>
              <a:t>(fixed plus mobile) per 100 inhabitan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left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1085760" y="285840"/>
            <a:ext cx="7848720" cy="62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81200" y="1447920"/>
            <a:ext cx="7772400" cy="48146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609480" y="22860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Distribution of population, main telephone lines, mobile cellular subscribers and Internet users by country economic classification, 200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7162560" cy="42670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295280" y="2286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Growth in fixed line teledensity, 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hile and Argentina, 1986-2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47920" y="1373040"/>
            <a:ext cx="76960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Black"/>
              </a:rPr>
              <a:t>Mr. Cleveland Thoma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2362320"/>
            <a:ext cx="76960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Black"/>
              </a:rPr>
              <a:t>Vice Chairma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3127320"/>
            <a:ext cx="76960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Black"/>
              </a:rPr>
              <a:t>Working Party 2/3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3886200"/>
            <a:ext cx="76960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Black"/>
              </a:rPr>
              <a:t>Study Group 3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4803840"/>
            <a:ext cx="76960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Black"/>
              </a:rPr>
              <a:t>ITU-T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7162920" cy="46479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914400" y="3808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Growth in mobile teledensity, 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Hong Kong SAR and Singapore, 1988-2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left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2286000" y="457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Teledensity with rising ran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1448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93432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left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2362320" y="2286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Teledensity with falling ran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1448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752480" y="1143000"/>
            <a:ext cx="6340680" cy="4741560"/>
            <a:chOff x="1752480" y="1143000"/>
            <a:chExt cx="6340680" cy="4741560"/>
          </a:xfrm>
        </p:grpSpPr>
        <p:sp>
          <p:nvSpPr>
            <p:cNvPr id="379" name=""/>
            <p:cNvSpPr/>
            <p:nvPr/>
          </p:nvSpPr>
          <p:spPr>
            <a:xfrm>
              <a:off x="1752480" y="1143000"/>
              <a:ext cx="6316920" cy="512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01080" y="1406520"/>
              <a:ext cx="831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Country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909240" y="14065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2000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30400" y="14065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1990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03760" y="1159200"/>
              <a:ext cx="59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Rank 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655960" y="14065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2000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27880" y="1159200"/>
              <a:ext cx="59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Rank 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579720" y="14065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1990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296840" y="1406520"/>
              <a:ext cx="796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Change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02880" y="1688400"/>
              <a:ext cx="866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Armenia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61080" y="16884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5.6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782960" y="16884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5.7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56040" y="168840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02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85640" y="1688400"/>
              <a:ext cx="241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60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43600" y="168840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-42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03600" y="1968480"/>
              <a:ext cx="43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Iraq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63680" y="19684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2.9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85560" y="19684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3.9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756040" y="196848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49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83040" y="196848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09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743600" y="196848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-40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801440" y="2250360"/>
              <a:ext cx="975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Tajikistan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63680" y="22503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3.6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85560" y="22503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4.5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56040" y="225036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43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83040" y="225036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05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743600" y="225036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-38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802520" y="2530800"/>
              <a:ext cx="1131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Uzbekistan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63680" y="253080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6.9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85560" y="253080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6.9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56040" y="253080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28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85640" y="2530800"/>
              <a:ext cx="241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92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43600" y="253080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-36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03240" y="2810880"/>
              <a:ext cx="1130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Kyrgyzstan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063680" y="28108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7.9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85560" y="28108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7.2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56040" y="281088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25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785640" y="2810880"/>
              <a:ext cx="241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90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743600" y="281088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-35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803240" y="3092400"/>
              <a:ext cx="73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Angola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63680" y="309240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0.7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85560" y="309240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0.8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56040" y="309240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77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683040" y="309240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46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743600" y="309240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-31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802520" y="3372840"/>
              <a:ext cx="711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Liberia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63680" y="33728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0.2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85560" y="33728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0.4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756040" y="337284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90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83040" y="337284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62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43600" y="337284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-28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02160" y="3654720"/>
              <a:ext cx="1155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DPR Korea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063680" y="36547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4.6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85560" y="36547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3.8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756040" y="365472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38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683040" y="365472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11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743600" y="365472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-27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03240" y="3935160"/>
              <a:ext cx="819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Canada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61080" y="39351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96.1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782960" y="39351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58.6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60080" y="3935160"/>
              <a:ext cx="241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33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888600" y="39351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6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743600" y="393516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-27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802880" y="4216680"/>
              <a:ext cx="1370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Turkmenistan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063680" y="42166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8.4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85560" y="42166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6.0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56040" y="421668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23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785640" y="4216680"/>
              <a:ext cx="241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97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43600" y="421668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-26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02880" y="4496760"/>
              <a:ext cx="578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Cuba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63680" y="44967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4.4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85560" y="44967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3.1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756040" y="449676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40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683040" y="449676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15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743600" y="449676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-25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02880" y="4777200"/>
              <a:ext cx="878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Moldova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61080" y="47772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6.5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82960" y="47772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0.6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60080" y="4777200"/>
              <a:ext cx="241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99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785640" y="4777200"/>
              <a:ext cx="241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74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743600" y="477720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-25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03960" y="5058720"/>
              <a:ext cx="1190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Kazakhstan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61080" y="50587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2.5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85560" y="50587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8.0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56040" y="505872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11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85640" y="5058720"/>
              <a:ext cx="241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87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743600" y="505872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-24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02880" y="5339160"/>
              <a:ext cx="937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Comoros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63680" y="53391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.0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85560" y="53391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0.8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56040" y="533916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71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83040" y="533916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49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743600" y="533916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-22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02520" y="5621040"/>
              <a:ext cx="806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Ukraine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961080" y="56210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22.7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782960" y="56210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13.6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60080" y="5621040"/>
              <a:ext cx="241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87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85640" y="5621040"/>
              <a:ext cx="241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66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743600" y="562104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99"/>
                  </a:solidFill>
                  <a:latin typeface="Arial"/>
                </a:rPr>
                <a:t>-21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752480" y="1143000"/>
              <a:ext cx="1620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532320" y="1143000"/>
              <a:ext cx="1764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55280" y="1143000"/>
              <a:ext cx="1620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76440" y="1143000"/>
              <a:ext cx="1620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100200" y="1143000"/>
              <a:ext cx="1764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025400" y="1143000"/>
              <a:ext cx="1620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768680" y="1143000"/>
              <a:ext cx="630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768680" y="1143000"/>
              <a:ext cx="63003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052840" y="1143000"/>
              <a:ext cx="1656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768680" y="1639080"/>
              <a:ext cx="630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68680" y="1639080"/>
              <a:ext cx="63003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68680" y="1919520"/>
              <a:ext cx="630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68680" y="1919520"/>
              <a:ext cx="63003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68680" y="2199960"/>
              <a:ext cx="630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768680" y="2199960"/>
              <a:ext cx="63003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768680" y="2481480"/>
              <a:ext cx="6300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768680" y="2481480"/>
              <a:ext cx="63003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768680" y="2761560"/>
              <a:ext cx="6300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768680" y="2761560"/>
              <a:ext cx="63003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768680" y="3043440"/>
              <a:ext cx="630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768680" y="3043440"/>
              <a:ext cx="63003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768680" y="3323880"/>
              <a:ext cx="630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768680" y="3323880"/>
              <a:ext cx="63003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68680" y="3605400"/>
              <a:ext cx="630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768680" y="3605400"/>
              <a:ext cx="63003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8680" y="3885840"/>
              <a:ext cx="630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768680" y="3885840"/>
              <a:ext cx="63003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68680" y="4165920"/>
              <a:ext cx="630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768680" y="4165920"/>
              <a:ext cx="63003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68680" y="4447440"/>
              <a:ext cx="6300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768680" y="4447440"/>
              <a:ext cx="63003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768680" y="4727880"/>
              <a:ext cx="6300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768680" y="4727880"/>
              <a:ext cx="63003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768680" y="5009760"/>
              <a:ext cx="630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768680" y="5009760"/>
              <a:ext cx="63003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768680" y="5290200"/>
              <a:ext cx="630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768680" y="5290200"/>
              <a:ext cx="63003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768680" y="5570280"/>
              <a:ext cx="630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768680" y="5570280"/>
              <a:ext cx="63003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752480" y="1143000"/>
              <a:ext cx="1080" cy="472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752480" y="1143000"/>
              <a:ext cx="16200" cy="472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532320" y="1159200"/>
              <a:ext cx="1080" cy="470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532320" y="1159200"/>
              <a:ext cx="17640" cy="470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55280" y="1159200"/>
              <a:ext cx="1080" cy="470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355280" y="1159200"/>
              <a:ext cx="16200" cy="470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76440" y="1159200"/>
              <a:ext cx="1080" cy="470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76440" y="1159200"/>
              <a:ext cx="16200" cy="470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100200" y="1159200"/>
              <a:ext cx="1440" cy="470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100200" y="1159200"/>
              <a:ext cx="17640" cy="470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25400" y="1159200"/>
              <a:ext cx="1080" cy="470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025400" y="1159200"/>
              <a:ext cx="16200" cy="470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68680" y="5851800"/>
              <a:ext cx="6300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768680" y="5851800"/>
              <a:ext cx="63003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052840" y="1159200"/>
              <a:ext cx="1440" cy="470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052840" y="1159200"/>
              <a:ext cx="16560" cy="470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52480" y="586836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2480" y="586836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32320" y="586836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32320" y="5868360"/>
              <a:ext cx="1764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55280" y="586836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55280" y="586836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76440" y="586836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176440" y="586836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00200" y="5868360"/>
              <a:ext cx="144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00200" y="5868360"/>
              <a:ext cx="1764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025400" y="586836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25400" y="586836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052840" y="5868360"/>
              <a:ext cx="144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052840" y="5868360"/>
              <a:ext cx="1656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069400" y="114300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069400" y="114300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069400" y="163908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69400" y="163908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069400" y="191952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069400" y="191952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069400" y="219996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069400" y="219996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069400" y="2481480"/>
              <a:ext cx="10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069400" y="248148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069400" y="2761560"/>
              <a:ext cx="10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069400" y="276156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069400" y="304344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069400" y="3043440"/>
              <a:ext cx="1620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069400" y="332388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069400" y="3323880"/>
              <a:ext cx="1620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069400" y="360540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69400" y="360540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069400" y="388584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069400" y="388584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069400" y="416592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069400" y="416592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069400" y="4447440"/>
              <a:ext cx="10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069400" y="444744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069400" y="4727880"/>
              <a:ext cx="10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069400" y="472788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069400" y="500976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069400" y="500976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069400" y="529020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069400" y="5290200"/>
              <a:ext cx="16200" cy="1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069400" y="5570280"/>
              <a:ext cx="1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069400" y="5570280"/>
              <a:ext cx="16200" cy="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8763120" y="661032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763120" y="6610320"/>
            <a:ext cx="20520" cy="19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left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1600200" y="762120"/>
            <a:ext cx="67816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left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1371600" y="685800"/>
            <a:ext cx="731520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7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-511200" y="621972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986200"/>
                <a:tab algn="r" pos="5972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99"/>
                </a:solidFill>
                <a:latin typeface="Comic Sans MS"/>
                <a:ea typeface="Andalus"/>
              </a:rPr>
              <a:t> 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986200"/>
                <a:tab algn="r" pos="5972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-511200" y="618156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986200"/>
                <a:tab algn="r" pos="5972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99"/>
                </a:solidFill>
                <a:latin typeface="Comic Sans MS"/>
                <a:ea typeface="Andalus"/>
              </a:rPr>
              <a:t> 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986200"/>
                <a:tab algn="r" pos="5972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666880" y="457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Telephone tariffs (2000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1143000" y="1447920"/>
          <a:ext cx="7772400" cy="376380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  <a:gridCol w="1133280"/>
                <a:gridCol w="1092240"/>
                <a:gridCol w="1231920"/>
                <a:gridCol w="946080"/>
                <a:gridCol w="123516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sidential (US$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Business (US$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Local call (US$,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 min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ubscription  as % of GDP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per capit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Connection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M. Subscription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Connection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M. Subscription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World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8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6.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1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9.8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07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.7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Africa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6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.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77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.7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08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2.7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America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0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8.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3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7.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07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.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Asia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08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.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3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8.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0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.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Europ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8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7.8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17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9.7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1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.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Oceania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8.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79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4.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1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.7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edf7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2666880" y="45720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ellular tariffs (2000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US$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1523880" y="1752480"/>
          <a:ext cx="7086600" cy="3733920"/>
        </p:xfrm>
        <a:graphic>
          <a:graphicData uri="http://schemas.openxmlformats.org/drawingml/2006/table">
            <a:tbl>
              <a:tblPr/>
              <a:tblGrid>
                <a:gridCol w="1219320"/>
                <a:gridCol w="1143000"/>
                <a:gridCol w="1546200"/>
                <a:gridCol w="1171440"/>
                <a:gridCol w="2006640"/>
              </a:tblGrid>
              <a:tr h="409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Connectio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M. Subscriptio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 minutes local call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Peak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Off Peak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World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75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6.6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6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4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Africa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79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3.3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56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39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America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7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5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Asia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83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4.9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4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3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Europ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6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3.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59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4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Oceania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9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5.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.4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75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1514520" y="4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3"/>
          <a:stretch/>
        </p:blipFill>
        <p:spPr>
          <a:xfrm>
            <a:off x="1371600" y="762120"/>
            <a:ext cx="7248600" cy="584820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2666880" y="2286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Accounting Rates Tren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left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95280" y="175248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Arial Black"/>
              </a:rPr>
              <a:t>Telephony : Some DATA(2000)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003399"/>
                </a:solidFill>
                <a:latin typeface="Arial Black"/>
              </a:rPr>
              <a:t>Intern’l Telephone revenue : 54 billion US $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003399"/>
                </a:solidFill>
                <a:latin typeface="Arial Black"/>
              </a:rPr>
              <a:t>Settlement transaction  :   27 billion US $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003399"/>
                </a:solidFill>
                <a:latin typeface="Arial Black"/>
              </a:rPr>
              <a:t>Net Settlement payment to developing countries amount to around : 5 billion US$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003399"/>
                </a:solidFill>
                <a:latin typeface="Arial Black"/>
              </a:rPr>
              <a:t>Int’l Infrastructure costs reduction: &lt; 20 %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003399"/>
                </a:solidFill>
                <a:latin typeface="Arial Black"/>
              </a:rPr>
              <a:t>Annual average traffic increase : 8 %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003399"/>
                </a:solidFill>
                <a:latin typeface="Arial Black"/>
              </a:rPr>
              <a:t> Average Settlement rate reduction: ? %</a:t>
            </a:r>
            <a:endParaRPr b="0" lang="en-US" sz="2400" spc="-1" strike="noStrike">
              <a:solidFill>
                <a:srgbClr val="66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left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3224160" y="1984320"/>
            <a:ext cx="843444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224160" y="1984320"/>
            <a:ext cx="843444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1039680" y="958680"/>
            <a:ext cx="782316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2062080"/>
            <a:ext cx="769608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99"/>
                </a:solidFill>
                <a:latin typeface="Arial Black"/>
              </a:rPr>
              <a:t>Botswana</a:t>
            </a:r>
            <a:endParaRPr b="0" lang="en-US" sz="6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3508200"/>
            <a:ext cx="7696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 Black"/>
              </a:rPr>
              <a:t>July 2002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left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1523880" y="914400"/>
            <a:ext cx="70866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left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0" y="76320"/>
            <a:ext cx="914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Black"/>
              </a:rPr>
              <a:t>Falling prices</a:t>
            </a:r>
            <a:br>
              <a:rPr sz="4400"/>
            </a:b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1752480" y="1371600"/>
            <a:ext cx="6629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f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left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0" y="0"/>
            <a:ext cx="982980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raditional regime: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Joint provision of servic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1251000" y="1125360"/>
            <a:ext cx="7816680" cy="5734800"/>
            <a:chOff x="1251000" y="1125360"/>
            <a:chExt cx="7816680" cy="5734800"/>
          </a:xfrm>
        </p:grpSpPr>
        <p:sp>
          <p:nvSpPr>
            <p:cNvPr id="614" name=""/>
            <p:cNvSpPr/>
            <p:nvPr/>
          </p:nvSpPr>
          <p:spPr>
            <a:xfrm>
              <a:off x="1251000" y="2496960"/>
              <a:ext cx="2687760" cy="3298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615" name="" descr=""/>
            <p:cNvPicPr/>
            <p:nvPr/>
          </p:nvPicPr>
          <p:blipFill>
            <a:blip r:embed="rId2"/>
            <a:stretch/>
          </p:blipFill>
          <p:spPr>
            <a:xfrm>
              <a:off x="1604880" y="4222440"/>
              <a:ext cx="180036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2314440" y="2612880"/>
              <a:ext cx="6289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3399"/>
                  </a:solidFill>
                  <a:latin typeface="Arial"/>
                </a:rPr>
                <a:t>X</a:t>
              </a:r>
              <a:endParaRPr b="0" lang="en-US" sz="6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2603520" y="3060360"/>
              <a:ext cx="1440" cy="122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2719440" y="1333440"/>
              <a:ext cx="2144520" cy="169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88080" y="1125360"/>
              <a:ext cx="144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014800" y="1133280"/>
              <a:ext cx="1800" cy="419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380280" y="2465280"/>
              <a:ext cx="2687400" cy="33210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622" name="" descr=""/>
            <p:cNvPicPr/>
            <p:nvPr/>
          </p:nvPicPr>
          <p:blipFill>
            <a:blip r:embed="rId3"/>
            <a:stretch/>
          </p:blipFill>
          <p:spPr>
            <a:xfrm>
              <a:off x="6718320" y="4275000"/>
              <a:ext cx="180036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7416720" y="2641320"/>
              <a:ext cx="62856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3399"/>
                  </a:solidFill>
                  <a:latin typeface="Arial"/>
                </a:rPr>
                <a:t>X</a:t>
              </a:r>
              <a:endParaRPr b="0" lang="en-US" sz="6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705800" y="3088800"/>
              <a:ext cx="1440" cy="1244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 flipV="1">
              <a:off x="5043600" y="1325160"/>
              <a:ext cx="2628720" cy="1771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555920" y="196344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Country A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834240" y="196344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Country B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490760" y="5851440"/>
              <a:ext cx="7199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Arial"/>
                </a:rPr>
                <a:t>Two different national operators jointly establish an international circuit and decide the revenue they wish to obtain. They then divide that revenue fifty-fifty split.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f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left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457200" y="0"/>
            <a:ext cx="913140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Emerging regime: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Market entry and interconnection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1143000" y="1143000"/>
            <a:ext cx="8283600" cy="5717160"/>
            <a:chOff x="1143000" y="1143000"/>
            <a:chExt cx="8283600" cy="5717160"/>
          </a:xfrm>
        </p:grpSpPr>
        <p:sp>
          <p:nvSpPr>
            <p:cNvPr id="634" name=""/>
            <p:cNvSpPr/>
            <p:nvPr/>
          </p:nvSpPr>
          <p:spPr>
            <a:xfrm>
              <a:off x="1143000" y="2482920"/>
              <a:ext cx="2379600" cy="36687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2"/>
            <a:stretch/>
          </p:blipFill>
          <p:spPr>
            <a:xfrm>
              <a:off x="1203480" y="4680000"/>
              <a:ext cx="180000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1415880" y="2602080"/>
              <a:ext cx="6289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3399"/>
                  </a:solidFill>
                  <a:latin typeface="Arial"/>
                </a:rPr>
                <a:t>X</a:t>
              </a:r>
              <a:endParaRPr b="0" lang="en-US" sz="6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1676520" y="3020760"/>
              <a:ext cx="0" cy="16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1714680" y="1350720"/>
              <a:ext cx="3249360" cy="167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987800" y="11430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114880" y="1150920"/>
              <a:ext cx="0" cy="419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508800" y="2425680"/>
              <a:ext cx="2330280" cy="371484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642" name="" descr=""/>
            <p:cNvPicPr/>
            <p:nvPr/>
          </p:nvPicPr>
          <p:blipFill>
            <a:blip r:embed="rId3"/>
            <a:stretch/>
          </p:blipFill>
          <p:spPr>
            <a:xfrm>
              <a:off x="6824520" y="4745160"/>
              <a:ext cx="180036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7545240" y="2602080"/>
              <a:ext cx="6289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3399"/>
                  </a:solidFill>
                  <a:latin typeface="Arial"/>
                </a:rPr>
                <a:t>X</a:t>
              </a:r>
              <a:endParaRPr b="0" lang="en-US" sz="6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835760" y="3049560"/>
              <a:ext cx="0" cy="1649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5143320" y="1343160"/>
              <a:ext cx="2657160" cy="1743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2886120" y="3029040"/>
              <a:ext cx="49147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98760" y="2602080"/>
              <a:ext cx="62856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3399"/>
                  </a:solidFill>
                  <a:latin typeface="Arial"/>
                </a:rPr>
                <a:t>X</a:t>
              </a:r>
              <a:endParaRPr b="0" lang="en-US" sz="6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1714680" y="3029040"/>
              <a:ext cx="100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800440" y="3029040"/>
              <a:ext cx="0" cy="165744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143000" y="19051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Country A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936480" y="1828800"/>
              <a:ext cx="176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Country B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867280" y="12193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Arial"/>
                </a:rPr>
                <a:t>Jointly provided circuit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248520" y="16002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809880" y="4038480"/>
              <a:ext cx="251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Arial"/>
                </a:rPr>
                <a:t>Circuit provided by operator B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5029200" y="30481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7000" y="6156360"/>
              <a:ext cx="822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Arial"/>
                </a:rPr>
                <a:t>Cross border interconnection and the trading of international traffic minutes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327672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934320" cy="474660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1447920" y="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Delivering international voice traffic in 2002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NATOT524" descr=""/>
          <p:cNvPicPr/>
          <p:nvPr/>
        </p:nvPicPr>
        <p:blipFill>
          <a:blip r:embed="rId1">
            <a:lum bright="18000"/>
          </a:blip>
          <a:srcRect l="0" t="12500" r="0" b="0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 Black"/>
              </a:rPr>
              <a:t>Global Trends in Telecom Development &amp; 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 Black"/>
              </a:rPr>
              <a:t>Study Group 3 Activitie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95280" y="2822400"/>
            <a:ext cx="8991720" cy="16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Black"/>
              </a:rPr>
              <a:t>The state of the indust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Black"/>
              </a:rPr>
              <a:t>The state of the marke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Black"/>
              </a:rPr>
              <a:t>Situation in the Regio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685800" y="385920"/>
            <a:ext cx="109728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Black"/>
              </a:rPr>
              <a:t>Global trends in telecom developmen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Black"/>
              </a:rPr>
              <a:t>&amp;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Black"/>
              </a:rPr>
              <a:t>Study Group 3 Activiti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82720" y="0"/>
            <a:ext cx="71629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A Mobile Revolutio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064880" y="865080"/>
            <a:ext cx="11538360" cy="5917680"/>
            <a:chOff x="1064880" y="865080"/>
            <a:chExt cx="11538360" cy="5917680"/>
          </a:xfrm>
        </p:grpSpPr>
        <p:sp>
          <p:nvSpPr>
            <p:cNvPr id="105" name=""/>
            <p:cNvSpPr/>
            <p:nvPr/>
          </p:nvSpPr>
          <p:spPr>
            <a:xfrm>
              <a:off x="1173240" y="6477120"/>
              <a:ext cx="861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3399"/>
                  </a:solidFill>
                  <a:latin typeface="Arial"/>
                </a:rPr>
                <a:t>Source:  ITU World Telecommunication Indicators Database.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19240" y="5873760"/>
              <a:ext cx="6461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2919240" y="5803920"/>
              <a:ext cx="0" cy="139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3645000" y="5803920"/>
              <a:ext cx="0" cy="139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346640" y="5803920"/>
              <a:ext cx="0" cy="139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5073480" y="5803920"/>
              <a:ext cx="0" cy="139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5799240" y="5803920"/>
              <a:ext cx="0" cy="139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500880" y="5803920"/>
              <a:ext cx="0" cy="139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7226280" y="5803920"/>
              <a:ext cx="0" cy="139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953480" y="5803920"/>
              <a:ext cx="0" cy="139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8655120" y="5803920"/>
              <a:ext cx="0" cy="139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9380520" y="5803920"/>
              <a:ext cx="0" cy="139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59240" y="24098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22320" y="1517760"/>
              <a:ext cx="7153560" cy="425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79560" y="5662440"/>
              <a:ext cx="282600" cy="1144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32240" y="5605560"/>
              <a:ext cx="284040" cy="1713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84560" y="5492880"/>
              <a:ext cx="284040" cy="2840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36880" y="5322960"/>
              <a:ext cx="284400" cy="4539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1000" y="5122800"/>
              <a:ext cx="284040" cy="6541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43680" y="4811760"/>
              <a:ext cx="255240" cy="9651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67560" y="4329000"/>
              <a:ext cx="284040" cy="14479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21320" y="3789360"/>
              <a:ext cx="284400" cy="19875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74000" y="3192480"/>
              <a:ext cx="284040" cy="25844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26320" y="2568600"/>
              <a:ext cx="284040" cy="32083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80440" y="1916280"/>
              <a:ext cx="282600" cy="38606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62160" y="3930480"/>
              <a:ext cx="255600" cy="184644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6280" y="3817800"/>
              <a:ext cx="255600" cy="195912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68600" y="3675240"/>
              <a:ext cx="255600" cy="210168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21280" y="3533760"/>
              <a:ext cx="255600" cy="224316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75040" y="3363840"/>
              <a:ext cx="255600" cy="241308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98920" y="3220920"/>
              <a:ext cx="255600" cy="255600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1600" y="3022560"/>
              <a:ext cx="255600" cy="275436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05720" y="2824200"/>
              <a:ext cx="255600" cy="295272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8040" y="2625840"/>
              <a:ext cx="255600" cy="315108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010360" y="2398680"/>
              <a:ext cx="255600" cy="337824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63040" y="2171880"/>
              <a:ext cx="255600" cy="360504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22320" y="1517760"/>
              <a:ext cx="1800" cy="4259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36640" y="57769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36640" y="518004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36640" y="455616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36640" y="395928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36640" y="333540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36640" y="27385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36640" y="211464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36640" y="151776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22320" y="5776920"/>
              <a:ext cx="715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1822320" y="5776920"/>
              <a:ext cx="180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2475000" y="5776920"/>
              <a:ext cx="144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127320" y="5776920"/>
              <a:ext cx="180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781440" y="5776920"/>
              <a:ext cx="144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433760" y="5776920"/>
              <a:ext cx="180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086440" y="5776920"/>
              <a:ext cx="144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711760" y="5776920"/>
              <a:ext cx="180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364440" y="5776920"/>
              <a:ext cx="144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7016760" y="5776920"/>
              <a:ext cx="144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670880" y="5776920"/>
              <a:ext cx="144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8323200" y="5776920"/>
              <a:ext cx="180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8975880" y="5776920"/>
              <a:ext cx="144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34040" y="557856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0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92040" y="498168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200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92040" y="43578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400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92040" y="376092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600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92040" y="313704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800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4880" y="2540160"/>
              <a:ext cx="48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1'000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64880" y="1916280"/>
              <a:ext cx="48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1'200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4880" y="1319040"/>
              <a:ext cx="48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1'400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92440" y="6032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1993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98880" y="6032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1995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03880" y="6032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1997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0320" y="6032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1999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15320" y="6032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200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21760" y="6032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2003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60680" y="1488960"/>
              <a:ext cx="3406680" cy="1079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70240" y="1660680"/>
              <a:ext cx="198360" cy="1983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51040" y="1546200"/>
              <a:ext cx="1110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Mobile User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70240" y="2171880"/>
              <a:ext cx="198360" cy="19836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50680" y="2057400"/>
              <a:ext cx="98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Fixed Line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27040" y="865080"/>
              <a:ext cx="82044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2160" y="893880"/>
              <a:ext cx="2539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Fixed Lines vs. Mobile Users,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50040" y="893880"/>
              <a:ext cx="153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worldwide, Million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44440" y="179280"/>
            <a:ext cx="914256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rojection of revenue growth (US$bn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914400" y="990720"/>
            <a:ext cx="7019280" cy="5307840"/>
            <a:chOff x="914400" y="990720"/>
            <a:chExt cx="7019280" cy="5307840"/>
          </a:xfrm>
        </p:grpSpPr>
        <p:sp>
          <p:nvSpPr>
            <p:cNvPr id="187" name=""/>
            <p:cNvSpPr/>
            <p:nvPr/>
          </p:nvSpPr>
          <p:spPr>
            <a:xfrm>
              <a:off x="2411280" y="1138320"/>
              <a:ext cx="5349960" cy="4386240"/>
            </a:xfrm>
            <a:custGeom>
              <a:avLst/>
              <a:gdLst/>
              <a:ahLst/>
              <a:rect l="l" t="t" r="r" b="b"/>
              <a:pathLst>
                <a:path w="4340" h="3326">
                  <a:moveTo>
                    <a:pt x="0" y="0"/>
                  </a:moveTo>
                  <a:lnTo>
                    <a:pt x="4339" y="0"/>
                  </a:lnTo>
                  <a:lnTo>
                    <a:pt x="4339" y="3325"/>
                  </a:lnTo>
                  <a:lnTo>
                    <a:pt x="0" y="332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411280" y="1138320"/>
              <a:ext cx="5349960" cy="4386240"/>
            </a:xfrm>
            <a:custGeom>
              <a:avLst/>
              <a:gdLst/>
              <a:ahLst/>
              <a:rect l="l" t="t" r="r" b="b"/>
              <a:pathLst>
                <a:path w="4340" h="3326">
                  <a:moveTo>
                    <a:pt x="0" y="0"/>
                  </a:moveTo>
                  <a:lnTo>
                    <a:pt x="4339" y="0"/>
                  </a:lnTo>
                  <a:lnTo>
                    <a:pt x="4339" y="3325"/>
                  </a:lnTo>
                  <a:lnTo>
                    <a:pt x="0" y="3325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11280" y="3579840"/>
              <a:ext cx="5349960" cy="1944720"/>
            </a:xfrm>
            <a:custGeom>
              <a:avLst/>
              <a:gdLst/>
              <a:ahLst/>
              <a:rect l="l" t="t" r="r" b="b"/>
              <a:pathLst>
                <a:path w="4340" h="1475">
                  <a:moveTo>
                    <a:pt x="0" y="428"/>
                  </a:moveTo>
                  <a:lnTo>
                    <a:pt x="360" y="377"/>
                  </a:lnTo>
                  <a:lnTo>
                    <a:pt x="720" y="325"/>
                  </a:lnTo>
                  <a:lnTo>
                    <a:pt x="1080" y="291"/>
                  </a:lnTo>
                  <a:lnTo>
                    <a:pt x="1440" y="188"/>
                  </a:lnTo>
                  <a:lnTo>
                    <a:pt x="1801" y="34"/>
                  </a:lnTo>
                  <a:lnTo>
                    <a:pt x="2178" y="0"/>
                  </a:lnTo>
                  <a:lnTo>
                    <a:pt x="2538" y="51"/>
                  </a:lnTo>
                  <a:lnTo>
                    <a:pt x="2898" y="51"/>
                  </a:lnTo>
                  <a:lnTo>
                    <a:pt x="3258" y="102"/>
                  </a:lnTo>
                  <a:lnTo>
                    <a:pt x="3619" y="137"/>
                  </a:lnTo>
                  <a:lnTo>
                    <a:pt x="3979" y="205"/>
                  </a:lnTo>
                  <a:lnTo>
                    <a:pt x="4339" y="291"/>
                  </a:lnTo>
                  <a:lnTo>
                    <a:pt x="4339" y="1474"/>
                  </a:lnTo>
                  <a:lnTo>
                    <a:pt x="3979" y="1474"/>
                  </a:lnTo>
                  <a:lnTo>
                    <a:pt x="3619" y="1474"/>
                  </a:lnTo>
                  <a:lnTo>
                    <a:pt x="3258" y="1474"/>
                  </a:lnTo>
                  <a:lnTo>
                    <a:pt x="2898" y="1474"/>
                  </a:lnTo>
                  <a:lnTo>
                    <a:pt x="2538" y="1474"/>
                  </a:lnTo>
                  <a:lnTo>
                    <a:pt x="2178" y="1474"/>
                  </a:lnTo>
                  <a:lnTo>
                    <a:pt x="1801" y="1474"/>
                  </a:lnTo>
                  <a:lnTo>
                    <a:pt x="1440" y="1474"/>
                  </a:lnTo>
                  <a:lnTo>
                    <a:pt x="1080" y="1474"/>
                  </a:lnTo>
                  <a:lnTo>
                    <a:pt x="720" y="1474"/>
                  </a:lnTo>
                  <a:lnTo>
                    <a:pt x="360" y="1474"/>
                  </a:lnTo>
                  <a:lnTo>
                    <a:pt x="0" y="1474"/>
                  </a:lnTo>
                  <a:lnTo>
                    <a:pt x="0" y="428"/>
                  </a:lnTo>
                </a:path>
              </a:pathLst>
            </a:cu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11280" y="3286080"/>
              <a:ext cx="5349960" cy="858960"/>
            </a:xfrm>
            <a:custGeom>
              <a:avLst/>
              <a:gdLst/>
              <a:ahLst/>
              <a:rect l="l" t="t" r="r" b="b"/>
              <a:pathLst>
                <a:path w="4340" h="652">
                  <a:moveTo>
                    <a:pt x="0" y="514"/>
                  </a:moveTo>
                  <a:lnTo>
                    <a:pt x="360" y="463"/>
                  </a:lnTo>
                  <a:lnTo>
                    <a:pt x="720" y="394"/>
                  </a:lnTo>
                  <a:lnTo>
                    <a:pt x="1080" y="325"/>
                  </a:lnTo>
                  <a:lnTo>
                    <a:pt x="1440" y="223"/>
                  </a:lnTo>
                  <a:lnTo>
                    <a:pt x="1801" y="51"/>
                  </a:lnTo>
                  <a:lnTo>
                    <a:pt x="2178" y="0"/>
                  </a:lnTo>
                  <a:lnTo>
                    <a:pt x="2538" y="51"/>
                  </a:lnTo>
                  <a:lnTo>
                    <a:pt x="2898" y="68"/>
                  </a:lnTo>
                  <a:lnTo>
                    <a:pt x="3258" y="120"/>
                  </a:lnTo>
                  <a:lnTo>
                    <a:pt x="3619" y="171"/>
                  </a:lnTo>
                  <a:lnTo>
                    <a:pt x="3979" y="240"/>
                  </a:lnTo>
                  <a:lnTo>
                    <a:pt x="4339" y="325"/>
                  </a:lnTo>
                  <a:lnTo>
                    <a:pt x="4339" y="514"/>
                  </a:lnTo>
                  <a:lnTo>
                    <a:pt x="3979" y="428"/>
                  </a:lnTo>
                  <a:lnTo>
                    <a:pt x="3619" y="360"/>
                  </a:lnTo>
                  <a:lnTo>
                    <a:pt x="3258" y="325"/>
                  </a:lnTo>
                  <a:lnTo>
                    <a:pt x="2898" y="274"/>
                  </a:lnTo>
                  <a:lnTo>
                    <a:pt x="2538" y="274"/>
                  </a:lnTo>
                  <a:lnTo>
                    <a:pt x="2178" y="223"/>
                  </a:lnTo>
                  <a:lnTo>
                    <a:pt x="1801" y="257"/>
                  </a:lnTo>
                  <a:lnTo>
                    <a:pt x="1440" y="411"/>
                  </a:lnTo>
                  <a:lnTo>
                    <a:pt x="1080" y="514"/>
                  </a:lnTo>
                  <a:lnTo>
                    <a:pt x="720" y="548"/>
                  </a:lnTo>
                  <a:lnTo>
                    <a:pt x="360" y="600"/>
                  </a:lnTo>
                  <a:lnTo>
                    <a:pt x="0" y="651"/>
                  </a:lnTo>
                  <a:lnTo>
                    <a:pt x="0" y="514"/>
                  </a:lnTo>
                </a:path>
              </a:pathLst>
            </a:custGeom>
            <a:solidFill>
              <a:srgbClr val="8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11280" y="2063880"/>
              <a:ext cx="5349960" cy="1900080"/>
            </a:xfrm>
            <a:custGeom>
              <a:avLst/>
              <a:gdLst/>
              <a:ahLst/>
              <a:rect l="l" t="t" r="r" b="b"/>
              <a:pathLst>
                <a:path w="4340" h="1441">
                  <a:moveTo>
                    <a:pt x="0" y="1389"/>
                  </a:moveTo>
                  <a:lnTo>
                    <a:pt x="360" y="1320"/>
                  </a:lnTo>
                  <a:lnTo>
                    <a:pt x="720" y="1234"/>
                  </a:lnTo>
                  <a:lnTo>
                    <a:pt x="1080" y="1149"/>
                  </a:lnTo>
                  <a:lnTo>
                    <a:pt x="1440" y="977"/>
                  </a:lnTo>
                  <a:lnTo>
                    <a:pt x="1801" y="720"/>
                  </a:lnTo>
                  <a:lnTo>
                    <a:pt x="2178" y="583"/>
                  </a:lnTo>
                  <a:lnTo>
                    <a:pt x="2538" y="497"/>
                  </a:lnTo>
                  <a:lnTo>
                    <a:pt x="2898" y="377"/>
                  </a:lnTo>
                  <a:lnTo>
                    <a:pt x="3258" y="292"/>
                  </a:lnTo>
                  <a:lnTo>
                    <a:pt x="3619" y="172"/>
                  </a:lnTo>
                  <a:lnTo>
                    <a:pt x="3979" y="69"/>
                  </a:lnTo>
                  <a:lnTo>
                    <a:pt x="4339" y="0"/>
                  </a:lnTo>
                  <a:lnTo>
                    <a:pt x="4339" y="1251"/>
                  </a:lnTo>
                  <a:lnTo>
                    <a:pt x="3979" y="1166"/>
                  </a:lnTo>
                  <a:lnTo>
                    <a:pt x="3619" y="1097"/>
                  </a:lnTo>
                  <a:lnTo>
                    <a:pt x="3258" y="1046"/>
                  </a:lnTo>
                  <a:lnTo>
                    <a:pt x="2898" y="994"/>
                  </a:lnTo>
                  <a:lnTo>
                    <a:pt x="2538" y="977"/>
                  </a:lnTo>
                  <a:lnTo>
                    <a:pt x="2178" y="926"/>
                  </a:lnTo>
                  <a:lnTo>
                    <a:pt x="1801" y="977"/>
                  </a:lnTo>
                  <a:lnTo>
                    <a:pt x="1440" y="1149"/>
                  </a:lnTo>
                  <a:lnTo>
                    <a:pt x="1080" y="1251"/>
                  </a:lnTo>
                  <a:lnTo>
                    <a:pt x="720" y="1320"/>
                  </a:lnTo>
                  <a:lnTo>
                    <a:pt x="360" y="1389"/>
                  </a:lnTo>
                  <a:lnTo>
                    <a:pt x="0" y="1440"/>
                  </a:lnTo>
                  <a:lnTo>
                    <a:pt x="0" y="1389"/>
                  </a:lnTo>
                </a:path>
              </a:pathLst>
            </a:custGeom>
            <a:solidFill>
              <a:srgbClr val="fff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11280" y="1500120"/>
              <a:ext cx="5349960" cy="2397240"/>
            </a:xfrm>
            <a:custGeom>
              <a:avLst/>
              <a:gdLst/>
              <a:ahLst/>
              <a:rect l="l" t="t" r="r" b="b"/>
              <a:pathLst>
                <a:path w="4340" h="1818">
                  <a:moveTo>
                    <a:pt x="0" y="1731"/>
                  </a:moveTo>
                  <a:lnTo>
                    <a:pt x="360" y="1662"/>
                  </a:lnTo>
                  <a:lnTo>
                    <a:pt x="720" y="1525"/>
                  </a:lnTo>
                  <a:lnTo>
                    <a:pt x="1080" y="1422"/>
                  </a:lnTo>
                  <a:lnTo>
                    <a:pt x="1440" y="1285"/>
                  </a:lnTo>
                  <a:lnTo>
                    <a:pt x="1801" y="1011"/>
                  </a:lnTo>
                  <a:lnTo>
                    <a:pt x="2178" y="805"/>
                  </a:lnTo>
                  <a:lnTo>
                    <a:pt x="2538" y="720"/>
                  </a:lnTo>
                  <a:lnTo>
                    <a:pt x="2898" y="548"/>
                  </a:lnTo>
                  <a:lnTo>
                    <a:pt x="3258" y="428"/>
                  </a:lnTo>
                  <a:lnTo>
                    <a:pt x="3619" y="274"/>
                  </a:lnTo>
                  <a:lnTo>
                    <a:pt x="3979" y="120"/>
                  </a:lnTo>
                  <a:lnTo>
                    <a:pt x="4339" y="0"/>
                  </a:lnTo>
                  <a:lnTo>
                    <a:pt x="4339" y="428"/>
                  </a:lnTo>
                  <a:lnTo>
                    <a:pt x="3979" y="497"/>
                  </a:lnTo>
                  <a:lnTo>
                    <a:pt x="3619" y="600"/>
                  </a:lnTo>
                  <a:lnTo>
                    <a:pt x="3258" y="720"/>
                  </a:lnTo>
                  <a:lnTo>
                    <a:pt x="2898" y="805"/>
                  </a:lnTo>
                  <a:lnTo>
                    <a:pt x="2538" y="925"/>
                  </a:lnTo>
                  <a:lnTo>
                    <a:pt x="2178" y="1011"/>
                  </a:lnTo>
                  <a:lnTo>
                    <a:pt x="1801" y="1148"/>
                  </a:lnTo>
                  <a:lnTo>
                    <a:pt x="1440" y="1405"/>
                  </a:lnTo>
                  <a:lnTo>
                    <a:pt x="1080" y="1577"/>
                  </a:lnTo>
                  <a:lnTo>
                    <a:pt x="720" y="1662"/>
                  </a:lnTo>
                  <a:lnTo>
                    <a:pt x="360" y="1748"/>
                  </a:lnTo>
                  <a:lnTo>
                    <a:pt x="0" y="1817"/>
                  </a:lnTo>
                  <a:lnTo>
                    <a:pt x="0" y="1731"/>
                  </a:lnTo>
                </a:path>
              </a:pathLst>
            </a:custGeom>
            <a:solidFill>
              <a:srgbClr val="a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2374920" y="4143240"/>
              <a:ext cx="1440" cy="1379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11280" y="3579840"/>
              <a:ext cx="5349960" cy="1944720"/>
            </a:xfrm>
            <a:custGeom>
              <a:avLst/>
              <a:gdLst/>
              <a:ahLst/>
              <a:rect l="l" t="t" r="r" b="b"/>
              <a:pathLst>
                <a:path w="4340" h="1475">
                  <a:moveTo>
                    <a:pt x="0" y="428"/>
                  </a:moveTo>
                  <a:lnTo>
                    <a:pt x="360" y="377"/>
                  </a:lnTo>
                  <a:lnTo>
                    <a:pt x="720" y="325"/>
                  </a:lnTo>
                  <a:lnTo>
                    <a:pt x="1080" y="291"/>
                  </a:lnTo>
                  <a:lnTo>
                    <a:pt x="1440" y="188"/>
                  </a:lnTo>
                  <a:lnTo>
                    <a:pt x="1801" y="34"/>
                  </a:lnTo>
                  <a:lnTo>
                    <a:pt x="2178" y="0"/>
                  </a:lnTo>
                  <a:lnTo>
                    <a:pt x="2538" y="51"/>
                  </a:lnTo>
                  <a:lnTo>
                    <a:pt x="2898" y="51"/>
                  </a:lnTo>
                  <a:lnTo>
                    <a:pt x="3258" y="102"/>
                  </a:lnTo>
                  <a:lnTo>
                    <a:pt x="3619" y="137"/>
                  </a:lnTo>
                  <a:lnTo>
                    <a:pt x="3979" y="205"/>
                  </a:lnTo>
                  <a:lnTo>
                    <a:pt x="4339" y="291"/>
                  </a:lnTo>
                  <a:lnTo>
                    <a:pt x="4339" y="147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374920" y="3963960"/>
              <a:ext cx="144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11280" y="3286080"/>
              <a:ext cx="5349960" cy="677880"/>
            </a:xfrm>
            <a:custGeom>
              <a:avLst/>
              <a:gdLst/>
              <a:ahLst/>
              <a:rect l="l" t="t" r="r" b="b"/>
              <a:pathLst>
                <a:path w="4340" h="515">
                  <a:moveTo>
                    <a:pt x="0" y="514"/>
                  </a:moveTo>
                  <a:lnTo>
                    <a:pt x="360" y="463"/>
                  </a:lnTo>
                  <a:lnTo>
                    <a:pt x="720" y="394"/>
                  </a:lnTo>
                  <a:lnTo>
                    <a:pt x="1080" y="325"/>
                  </a:lnTo>
                  <a:lnTo>
                    <a:pt x="1440" y="223"/>
                  </a:lnTo>
                  <a:lnTo>
                    <a:pt x="1801" y="51"/>
                  </a:lnTo>
                  <a:lnTo>
                    <a:pt x="2178" y="0"/>
                  </a:lnTo>
                  <a:lnTo>
                    <a:pt x="2538" y="51"/>
                  </a:lnTo>
                  <a:lnTo>
                    <a:pt x="2898" y="68"/>
                  </a:lnTo>
                  <a:lnTo>
                    <a:pt x="3258" y="120"/>
                  </a:lnTo>
                  <a:lnTo>
                    <a:pt x="3619" y="171"/>
                  </a:lnTo>
                  <a:lnTo>
                    <a:pt x="3979" y="240"/>
                  </a:lnTo>
                  <a:lnTo>
                    <a:pt x="4339" y="325"/>
                  </a:lnTo>
                  <a:lnTo>
                    <a:pt x="4339" y="51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374920" y="3895560"/>
              <a:ext cx="1440" cy="6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11280" y="2063880"/>
              <a:ext cx="5349960" cy="1833480"/>
            </a:xfrm>
            <a:custGeom>
              <a:avLst/>
              <a:gdLst/>
              <a:ahLst/>
              <a:rect l="l" t="t" r="r" b="b"/>
              <a:pathLst>
                <a:path w="4340" h="1390">
                  <a:moveTo>
                    <a:pt x="0" y="1389"/>
                  </a:moveTo>
                  <a:lnTo>
                    <a:pt x="360" y="1320"/>
                  </a:lnTo>
                  <a:lnTo>
                    <a:pt x="720" y="1234"/>
                  </a:lnTo>
                  <a:lnTo>
                    <a:pt x="1080" y="1149"/>
                  </a:lnTo>
                  <a:lnTo>
                    <a:pt x="1440" y="977"/>
                  </a:lnTo>
                  <a:lnTo>
                    <a:pt x="1801" y="720"/>
                  </a:lnTo>
                  <a:lnTo>
                    <a:pt x="2178" y="583"/>
                  </a:lnTo>
                  <a:lnTo>
                    <a:pt x="2538" y="497"/>
                  </a:lnTo>
                  <a:lnTo>
                    <a:pt x="2898" y="377"/>
                  </a:lnTo>
                  <a:lnTo>
                    <a:pt x="3258" y="292"/>
                  </a:lnTo>
                  <a:lnTo>
                    <a:pt x="3619" y="172"/>
                  </a:lnTo>
                  <a:lnTo>
                    <a:pt x="3979" y="69"/>
                  </a:lnTo>
                  <a:lnTo>
                    <a:pt x="4339" y="0"/>
                  </a:lnTo>
                  <a:lnTo>
                    <a:pt x="4339" y="125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374920" y="3782520"/>
              <a:ext cx="1440" cy="11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11280" y="1500120"/>
              <a:ext cx="5349960" cy="2284560"/>
            </a:xfrm>
            <a:custGeom>
              <a:avLst/>
              <a:gdLst/>
              <a:ahLst/>
              <a:rect l="l" t="t" r="r" b="b"/>
              <a:pathLst>
                <a:path w="4340" h="1732">
                  <a:moveTo>
                    <a:pt x="0" y="1731"/>
                  </a:moveTo>
                  <a:lnTo>
                    <a:pt x="360" y="1662"/>
                  </a:lnTo>
                  <a:lnTo>
                    <a:pt x="720" y="1525"/>
                  </a:lnTo>
                  <a:lnTo>
                    <a:pt x="1080" y="1422"/>
                  </a:lnTo>
                  <a:lnTo>
                    <a:pt x="1440" y="1285"/>
                  </a:lnTo>
                  <a:lnTo>
                    <a:pt x="1801" y="1011"/>
                  </a:lnTo>
                  <a:lnTo>
                    <a:pt x="2178" y="805"/>
                  </a:lnTo>
                  <a:lnTo>
                    <a:pt x="2538" y="720"/>
                  </a:lnTo>
                  <a:lnTo>
                    <a:pt x="2898" y="548"/>
                  </a:lnTo>
                  <a:lnTo>
                    <a:pt x="3258" y="428"/>
                  </a:lnTo>
                  <a:lnTo>
                    <a:pt x="3619" y="274"/>
                  </a:lnTo>
                  <a:lnTo>
                    <a:pt x="3979" y="120"/>
                  </a:lnTo>
                  <a:lnTo>
                    <a:pt x="4339" y="0"/>
                  </a:lnTo>
                  <a:lnTo>
                    <a:pt x="4339" y="42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74920" y="1138320"/>
              <a:ext cx="1440" cy="438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11560" y="5522760"/>
              <a:ext cx="12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11560" y="509436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11560" y="464184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11560" y="421308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11560" y="376092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11560" y="3330720"/>
              <a:ext cx="1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11560" y="2900520"/>
              <a:ext cx="1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11560" y="2449440"/>
              <a:ext cx="12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11560" y="2019240"/>
              <a:ext cx="12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11560" y="1566720"/>
              <a:ext cx="12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11560" y="1138320"/>
              <a:ext cx="1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11280" y="5522760"/>
              <a:ext cx="5348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2374920" y="5454360"/>
              <a:ext cx="144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2855880" y="5454360"/>
              <a:ext cx="18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298680" y="5454360"/>
              <a:ext cx="18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743280" y="5454360"/>
              <a:ext cx="18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186080" y="5454360"/>
              <a:ext cx="18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32480" y="545436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5095800" y="5454360"/>
              <a:ext cx="18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540400" y="5454360"/>
              <a:ext cx="144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5983200" y="5454360"/>
              <a:ext cx="18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427800" y="5454360"/>
              <a:ext cx="144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872400" y="5454360"/>
              <a:ext cx="144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7316640" y="5454360"/>
              <a:ext cx="18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759800" y="5454360"/>
              <a:ext cx="144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91600" y="536256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49760" y="494676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49760" y="449424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49760" y="406548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49760" y="361332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49760" y="318276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49760" y="275256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49760" y="230184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70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49760" y="187164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80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49760" y="141912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90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23760" y="99072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02480" y="5675400"/>
              <a:ext cx="38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9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47080" y="5675400"/>
              <a:ext cx="38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9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89880" y="5675400"/>
              <a:ext cx="38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92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534480" y="5675400"/>
              <a:ext cx="38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93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77280" y="5675400"/>
              <a:ext cx="38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94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23320" y="5675400"/>
              <a:ext cx="38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95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88440" y="5675400"/>
              <a:ext cx="38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96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31600" y="5675400"/>
              <a:ext cx="38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97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75840" y="5675400"/>
              <a:ext cx="38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98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20440" y="5675400"/>
              <a:ext cx="38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99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65040" y="5675400"/>
              <a:ext cx="38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0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107840" y="5675400"/>
              <a:ext cx="38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0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50640" y="5675400"/>
              <a:ext cx="38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02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6200000">
              <a:off x="-23760" y="3161880"/>
              <a:ext cx="385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Service revenue (US$ bn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305840" y="1204920"/>
              <a:ext cx="1440" cy="438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37000" y="1246320"/>
              <a:ext cx="681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99"/>
                  </a:solidFill>
                  <a:latin typeface="Arial"/>
                </a:rPr>
                <a:t>Actual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78880" y="2195640"/>
              <a:ext cx="939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99"/>
                  </a:solidFill>
                  <a:latin typeface="Arial"/>
                </a:rPr>
                <a:t>Projected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14960" y="4687920"/>
              <a:ext cx="223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</a:rPr>
                <a:t>Domestic Telephone/fax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29120" y="3286080"/>
              <a:ext cx="496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</a:rPr>
                <a:t>Int'l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60760" y="2743200"/>
              <a:ext cx="74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</a:rPr>
                <a:t>Mobil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14920" y="1838160"/>
              <a:ext cx="2010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</a:rPr>
                <a:t>Other: Data, Internet,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18280" y="2178000"/>
              <a:ext cx="2120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</a:rPr>
                <a:t>Leased lines, telex, etc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14400" y="5992920"/>
              <a:ext cx="6921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Source:  ITU.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54960" y="4665600"/>
              <a:ext cx="71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43%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54960" y="3589200"/>
              <a:ext cx="5918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8%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46800" y="301932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36%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54960" y="1879560"/>
              <a:ext cx="82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99"/>
                  </a:solidFill>
                  <a:latin typeface="Arial"/>
                </a:rPr>
                <a:t>13%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1295280" y="1295280"/>
            <a:ext cx="7467840" cy="4842000"/>
            <a:chOff x="1295280" y="1295280"/>
            <a:chExt cx="7467840" cy="4842000"/>
          </a:xfrm>
        </p:grpSpPr>
        <p:pic>
          <p:nvPicPr>
            <p:cNvPr id="266" name="" descr=""/>
            <p:cNvPicPr/>
            <p:nvPr/>
          </p:nvPicPr>
          <p:blipFill>
            <a:blip r:embed="rId1"/>
            <a:stretch/>
          </p:blipFill>
          <p:spPr>
            <a:xfrm>
              <a:off x="1295280" y="1295280"/>
              <a:ext cx="7334280" cy="484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7391520" y="351936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Comic Sans MS"/>
                  <a:ea typeface="Times New Roman"/>
                </a:rPr>
                <a:t>(180%)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67480" y="473868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Comic Sans MS"/>
                  <a:ea typeface="Times New Roman"/>
                </a:rPr>
                <a:t>(227%)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47920" y="21337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Comic Sans MS"/>
                  <a:ea typeface="Times New Roman"/>
                </a:rPr>
                <a:t>M. US$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1874880" y="1162080"/>
            <a:ext cx="10698120" cy="5697720"/>
            <a:chOff x="1874880" y="1162080"/>
            <a:chExt cx="10698120" cy="5697720"/>
          </a:xfrm>
        </p:grpSpPr>
        <p:sp>
          <p:nvSpPr>
            <p:cNvPr id="271" name=""/>
            <p:cNvSpPr/>
            <p:nvPr/>
          </p:nvSpPr>
          <p:spPr>
            <a:xfrm>
              <a:off x="3429000" y="16668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01880" y="1251000"/>
              <a:ext cx="497052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01880" y="4910040"/>
              <a:ext cx="497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01880" y="4454640"/>
              <a:ext cx="497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01880" y="3995640"/>
              <a:ext cx="497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01880" y="3538440"/>
              <a:ext cx="497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01880" y="3079800"/>
              <a:ext cx="497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01880" y="2624040"/>
              <a:ext cx="497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01880" y="2165400"/>
              <a:ext cx="497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01880" y="1708200"/>
              <a:ext cx="497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01880" y="1251000"/>
              <a:ext cx="497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01880" y="1251000"/>
              <a:ext cx="4970520" cy="411804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49560" y="5302080"/>
              <a:ext cx="331920" cy="6696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78280" y="5284800"/>
              <a:ext cx="331920" cy="842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07000" y="5256360"/>
              <a:ext cx="330120" cy="1126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33920" y="5234040"/>
              <a:ext cx="331920" cy="13500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62640" y="5178600"/>
              <a:ext cx="331920" cy="1904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91360" y="4941720"/>
              <a:ext cx="331920" cy="4273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49560" y="5278320"/>
              <a:ext cx="331920" cy="23760"/>
            </a:xfrm>
            <a:prstGeom prst="rect">
              <a:avLst/>
            </a:prstGeom>
            <a:solidFill>
              <a:srgbClr val="33cc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78280" y="5208480"/>
              <a:ext cx="331920" cy="76320"/>
            </a:xfrm>
            <a:prstGeom prst="rect">
              <a:avLst/>
            </a:prstGeom>
            <a:solidFill>
              <a:srgbClr val="33cc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07000" y="5140440"/>
              <a:ext cx="330120" cy="115920"/>
            </a:xfrm>
            <a:prstGeom prst="rect">
              <a:avLst/>
            </a:prstGeom>
            <a:solidFill>
              <a:srgbClr val="33cc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33920" y="5002200"/>
              <a:ext cx="331920" cy="231840"/>
            </a:xfrm>
            <a:prstGeom prst="rect">
              <a:avLst/>
            </a:prstGeom>
            <a:solidFill>
              <a:srgbClr val="33cc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62640" y="4503600"/>
              <a:ext cx="331920" cy="675000"/>
            </a:xfrm>
            <a:prstGeom prst="rect">
              <a:avLst/>
            </a:prstGeom>
            <a:solidFill>
              <a:srgbClr val="33cc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91360" y="3197160"/>
              <a:ext cx="331920" cy="1744560"/>
            </a:xfrm>
            <a:prstGeom prst="rect">
              <a:avLst/>
            </a:prstGeom>
            <a:solidFill>
              <a:srgbClr val="33cc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49560" y="5138640"/>
              <a:ext cx="331920" cy="1396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78280" y="5100480"/>
              <a:ext cx="331920" cy="1080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07000" y="5003640"/>
              <a:ext cx="330120" cy="1368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3920" y="4627440"/>
              <a:ext cx="331920" cy="3747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62640" y="4262400"/>
              <a:ext cx="331920" cy="2412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91360" y="1709640"/>
              <a:ext cx="331920" cy="14875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01880" y="1251000"/>
              <a:ext cx="1800" cy="411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51120" y="53690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51120" y="491004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51120" y="44546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751120" y="399564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1120" y="353844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51120" y="307980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51120" y="262404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51120" y="216540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51120" y="170820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51120" y="125100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801880" y="5369040"/>
              <a:ext cx="497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801880" y="53686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630600" y="53686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4459320" y="53686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5286240" y="53686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6114960" y="53686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43680" y="53686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6019920" y="55972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93080" y="528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211480" y="482292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20,00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11480" y="436572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40,00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11480" y="390672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60,00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11480" y="345132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80,00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26520" y="299232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100,00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126520" y="253512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120,00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126520" y="207648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140,00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126520" y="162072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160,00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126520" y="116208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180,00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43800" y="55134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1995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73960" y="55134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1996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01240" y="55134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1997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29960" y="55134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1998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58680" y="55134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1999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187040" y="55134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6200000">
              <a:off x="1043280" y="2752920"/>
              <a:ext cx="196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Capacity (Mbps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05600" y="5884920"/>
              <a:ext cx="1706400" cy="668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54560" y="5954760"/>
              <a:ext cx="100080" cy="1000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89920" y="5916600"/>
              <a:ext cx="52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Unused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154560" y="6175440"/>
              <a:ext cx="100080" cy="101520"/>
            </a:xfrm>
            <a:prstGeom prst="rect">
              <a:avLst/>
            </a:prstGeom>
            <a:solidFill>
              <a:srgbClr val="33cc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91360" y="613872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154560" y="6397560"/>
              <a:ext cx="100080" cy="1015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286680" y="6361200"/>
              <a:ext cx="1480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Basic voice telephony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19920" y="6583320"/>
              <a:ext cx="274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Source: FC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85800" y="258840"/>
            <a:ext cx="998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Use of international circuits from the USA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2T15:29:54Z</dcterms:created>
  <dc:creator>Wyn Lucas</dc:creator>
  <dc:description/>
  <dc:language>en-US</dc:language>
  <cp:lastModifiedBy>T. Mosinyi</cp:lastModifiedBy>
  <cp:lastPrinted>2002-07-16T16:13:36Z</cp:lastPrinted>
  <dcterms:modified xsi:type="dcterms:W3CDTF">2002-07-25T10:58:08Z</dcterms:modified>
  <cp:revision>101</cp:revision>
  <dc:subject/>
  <dc:title>Wyn Lucas</dc:title>
</cp:coreProperties>
</file>