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E6D4-DCC0-4E0F-9C34-0B7E9C075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562F-CEB2-4BDD-AB68-EDBE1E6D6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4743-0689-4D80-8194-C9EE6B822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19BD-2527-4409-831B-6A47D125B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D352-6CE2-49D1-AA0F-BDA71B92C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8C39-7550-45A8-831C-02E7EB297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041D-C351-4FCC-8872-122A10435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6F3B-B376-453D-86CC-11B566B0E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6D5D-A1FA-42C3-A420-EDC4FFABA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9B13-4772-4AAE-A40F-DF2361B45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D431-FCAC-43B9-84DE-6B5BB3B8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0180-BDAC-4E30-9BB9-396213CC8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08AA1-D2E7-4064-955D-3A5822C61D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utura Lt BT"/>
              </a:rPr>
              <a:t>INTERNATIONAL TELECOMMUNICATION UNION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Futura Lt BT"/>
              </a:rPr>
              <a:t>Telecommunications Development Bureau (BDT)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GIONAL OFFICE FOR AF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53341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TWORK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962520" y="2590920"/>
            <a:ext cx="12952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P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nds and evolution of telecommunication technologies and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nds and evolution of telecommunication network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ual sit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llenges ah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5481720"/>
            <a:ext cx="11430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ECHNOLOGIES AND SERVI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ice, telex, telef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d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-m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-p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and the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-everything (education, health, commerce, governance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ice/mail, e-mail, multimedia, video, conferencing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5486400"/>
            <a:ext cx="11430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ELECOMMUNICATIO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ctromechan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xed Circuit switched analog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xed Circuit switched digi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reless/mobile circuit switched analog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reless/mobile circuit switched digi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xed Packet switc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reless/mobile Packet switc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P/Optic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5481720"/>
            <a:ext cx="11430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TUAL SITU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rnal Plant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ing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mission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 poor state of the external plant network which needs a lot of management atten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availability of OMC in some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ufficient practice of standard technical management proced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rious under investment in network manag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ttle or no plans to develop a total integrated Information Technology (IT) policy for management of the External pl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5481720"/>
            <a:ext cx="11430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TUAL SITUATION - Continu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9903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ufficient availability of network’s operational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tion and management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availability of TMN (Telecommunica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agement Network) in most of the networ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-existence of analogue and digital equip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interface difficulties and propaga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satisfactory Network operation, interoperabilit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Quality of Service standa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availability of network performance hist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olescence and difficulties with supply of spa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s (production lines having closed d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3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ttle or no use of information technology tools like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SMS typ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5481720"/>
            <a:ext cx="11430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ALLENGES AHE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agement of networks by well established and standard technical management procedures and installation of TM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ablishment of sub-regional management, operational and maintenance cen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um utilization of already established repair centers in some countries on a sub-regional lev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thly collection of network data and reports, establishment of web sites with management, operations and maintenance data by Regulatory Authority bodi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5481720"/>
            <a:ext cx="11430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ALLENGES AHEAD (Continued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ion of national technical committees participated by all national operators and coordinated by the National Adminis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ablishment of statistical goals for telecommunication service lev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 overhaul, if possible, of external for good quality of service for new technologies and servi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ablishment of procedures for utilization of network management categories (i.e Configuration, Fault location and repair, performance, security and accounting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velopment and usage of Information technology tools for management of the external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5481720"/>
            <a:ext cx="11430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 VERY MUCH FOR YOUR ATT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32000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GIONAL OFFICE FOR AFR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ETWORK MANAG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asane, Botswa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July 200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5481720"/>
            <a:ext cx="11430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6T15:24:57Z</dcterms:created>
  <dc:creator>Tumelo</dc:creator>
  <dc:description/>
  <dc:language>en-US</dc:language>
  <cp:lastModifiedBy>itu_a</cp:lastModifiedBy>
  <dcterms:modified xsi:type="dcterms:W3CDTF">2002-07-15T11:20:16Z</dcterms:modified>
  <cp:revision>31</cp:revision>
  <dc:subject/>
  <dc:title>ITU/BDT</dc:title>
</cp:coreProperties>
</file>