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D079-E335-43A6-93E0-3A0C69D64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6E23-31D3-4094-B492-2338C4918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789120" y="4346640"/>
            <a:ext cx="53100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ldImg"/>
          </p:nvPr>
        </p:nvSpPr>
        <p:spPr>
          <a:xfrm>
            <a:off x="1293840" y="800280"/>
            <a:ext cx="4267080" cy="320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F641-7DEA-43EA-A34E-DAFAB657D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1C2A-E88E-4708-9020-338366098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468F-3602-4CBC-9966-723001E1B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A562-FC03-48C0-9C1D-85959DEA4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EFB3-B896-42B3-8E62-DB71EBDE4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6106-01CA-4B49-80B0-9AC95A7C7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83F0-10D3-4F02-80D1-046159442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3748-C8B4-442F-A234-90C95D3E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12C4-40D5-4DEF-B464-E3FCB8FD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81C1-811D-4FF5-AD5B-3D53D4AD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E9CC-6828-4801-B1F7-E9CA3133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300C-B312-437E-A621-B1045DD2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1439-0F24-4D4D-9E11-5A1C5541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776B-827E-4ADA-AA46-984D8CA3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912D-D672-4B6E-9B80-C1F40F75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40F6-E2D8-4F35-8E5D-616961B4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03FC-FA96-4DF9-BF96-969F6E7F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B66E-9ED8-4F67-BA55-A19F6C41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D4BE-E333-43F6-8598-22E2DE234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38120" y="0"/>
            <a:ext cx="8705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TU-T IP Related Studies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86000"/>
            <a:ext cx="8978760" cy="18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Ottawa"/>
              </a:rPr>
              <a:t>Arshey Odedra</a:t>
            </a:r>
            <a:r>
              <a:rPr b="1" lang="en-US" sz="2800" spc="-1" strike="noStrike">
                <a:solidFill>
                  <a:srgbClr val="000000"/>
                </a:solidFill>
                <a:latin typeface="Ottaw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U-T </a:t>
            </a:r>
            <a:r>
              <a:rPr b="0" lang="en-US" sz="2400" spc="-1" strike="noStrike">
                <a:solidFill>
                  <a:srgbClr val="000000"/>
                </a:solidFill>
                <a:latin typeface="Ottawa"/>
              </a:rPr>
              <a:t>TSB Engineer: arshey.odedra@itu.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ttawa"/>
              </a:rPr>
              <a:t>International Telecommunication Union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Ottawa"/>
              </a:rPr>
              <a:t>[ITU-T Seminar Botswana 24-26 July – 2002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200400" y="4419720"/>
          <a:ext cx="2055960" cy="19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419720"/>
                    <a:ext cx="2055960" cy="19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S7 Convergence towards Packet based Network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telligent Network architecture and protocols enh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For Call control signalling, Bearer Independent Call Control (BICC) protocols - over Packet based transport network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BICC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cs approved (2000 &amp; 200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BICC CS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Recs approval target: 200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3) IP Cable Communn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Cablecom (SG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s architecture and interface spe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active services over cab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evision network using 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 driver: IP telepho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Cablecom  Service Possi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idential/ Business IP Telepho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deo IP telepho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ice/data/video unified mess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conferencing and media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ertainment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-time multiplayer interactive ga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2440" y="4952880"/>
            <a:ext cx="3818880" cy="18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Access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M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Cable Mod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MS Call Management Server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F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Hybrid Fiber Coax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TA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ultimedia Terminal Adap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STN Public Switched Tel.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COMP1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1523880" cy="1171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14400" y="4419720"/>
            <a:ext cx="201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mbedded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HONE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685800" cy="625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90720" y="41911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934320" y="3048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33920" y="1828800"/>
            <a:ext cx="3047760" cy="3048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763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PCablecom Compon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229600" y="4343400"/>
            <a:ext cx="152280" cy="4572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HONE" descr=""/>
          <p:cNvPicPr/>
          <p:nvPr/>
        </p:nvPicPr>
        <p:blipFill>
          <a:blip r:embed="rId3"/>
          <a:stretch/>
        </p:blipFill>
        <p:spPr>
          <a:xfrm>
            <a:off x="8077320" y="4800600"/>
            <a:ext cx="685800" cy="625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934320" y="2971800"/>
            <a:ext cx="1676160" cy="15238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  <a:ea typeface="ＭＳ Ｐゴシック"/>
              </a:rPr>
              <a:t>PST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_OEQ128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6553080" y="2514600"/>
            <a:ext cx="505080" cy="609480"/>
          </a:xfrm>
          <a:prstGeom prst="rect">
            <a:avLst/>
          </a:prstGeom>
          <a:ln w="0">
            <a:noFill/>
          </a:ln>
        </p:spPr>
      </p:pic>
      <p:pic>
        <p:nvPicPr>
          <p:cNvPr id="88" name="B_OEQ128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4495680" y="3733920"/>
            <a:ext cx="408240" cy="761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780600" y="1828800"/>
            <a:ext cx="114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ST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22840" y="167652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2133720"/>
            <a:ext cx="1447920" cy="23619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2209680"/>
            <a:ext cx="1295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2438280"/>
            <a:ext cx="1218960" cy="152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876920" y="2819520"/>
            <a:ext cx="1218960" cy="12952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2895480"/>
            <a:ext cx="228600" cy="8384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3886200"/>
            <a:ext cx="1219320" cy="457200"/>
          </a:xfrm>
          <a:prstGeom prst="rect">
            <a:avLst/>
          </a:prstGeom>
          <a:solidFill>
            <a:srgbClr val="cc00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4038480"/>
            <a:ext cx="621000" cy="250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  <a:ea typeface="ＭＳ Ｐゴシック"/>
              </a:rPr>
              <a:t>M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4200" y="37591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B_OEQ128" descr=""/>
          <p:cNvPicPr/>
          <p:nvPr/>
        </p:nvPicPr>
        <p:blipFill>
          <a:blip r:embed="rId6">
            <a:grayscl/>
          </a:blip>
          <a:stretch/>
        </p:blipFill>
        <p:spPr>
          <a:xfrm>
            <a:off x="5334120" y="5029200"/>
            <a:ext cx="407880" cy="762120"/>
          </a:xfrm>
          <a:prstGeom prst="rect">
            <a:avLst/>
          </a:prstGeom>
          <a:ln w="0">
            <a:noFill/>
          </a:ln>
        </p:spPr>
      </p:pic>
      <p:pic>
        <p:nvPicPr>
          <p:cNvPr id="100" name="B_OEQ128" descr=""/>
          <p:cNvPicPr/>
          <p:nvPr/>
        </p:nvPicPr>
        <p:blipFill>
          <a:blip r:embed="rId7">
            <a:grayscl/>
          </a:blip>
          <a:stretch/>
        </p:blipFill>
        <p:spPr>
          <a:xfrm>
            <a:off x="5486400" y="5105520"/>
            <a:ext cx="407880" cy="761760"/>
          </a:xfrm>
          <a:prstGeom prst="rect">
            <a:avLst/>
          </a:prstGeom>
          <a:ln w="0">
            <a:noFill/>
          </a:ln>
        </p:spPr>
      </p:pic>
      <p:pic>
        <p:nvPicPr>
          <p:cNvPr id="101" name="B_OEQ128" descr=""/>
          <p:cNvPicPr/>
          <p:nvPr/>
        </p:nvPicPr>
        <p:blipFill>
          <a:blip r:embed="rId8">
            <a:grayscl/>
          </a:blip>
          <a:stretch/>
        </p:blipFill>
        <p:spPr>
          <a:xfrm>
            <a:off x="5638680" y="5181480"/>
            <a:ext cx="40824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018840" y="5105520"/>
            <a:ext cx="146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ck Off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4600" y="2743200"/>
            <a:ext cx="152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  <a:ea typeface="ＭＳ Ｐゴシック"/>
              </a:rPr>
              <a:t>Managed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  <a:ea typeface="ＭＳ Ｐゴシック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_OEQ128" descr=""/>
          <p:cNvPicPr/>
          <p:nvPr/>
        </p:nvPicPr>
        <p:blipFill>
          <a:blip r:embed="rId9">
            <a:grayscl/>
          </a:blip>
          <a:stretch/>
        </p:blipFill>
        <p:spPr>
          <a:xfrm>
            <a:off x="2590920" y="1828800"/>
            <a:ext cx="407880" cy="762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135160" y="16002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2819520"/>
            <a:ext cx="863640" cy="282600"/>
          </a:xfrm>
          <a:prstGeom prst="rect">
            <a:avLst/>
          </a:prstGeom>
          <a:solidFill>
            <a:srgbClr val="cc00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2133720"/>
            <a:ext cx="0" cy="208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20600" y="31240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  <a:ea typeface="ＭＳ Ｐゴシック"/>
              </a:rPr>
              <a:t>HF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29718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B_OEQ128" descr=""/>
          <p:cNvPicPr/>
          <p:nvPr/>
        </p:nvPicPr>
        <p:blipFill>
          <a:blip r:embed="rId10">
            <a:grayscl/>
          </a:blip>
          <a:stretch/>
        </p:blipFill>
        <p:spPr>
          <a:xfrm>
            <a:off x="5867280" y="2133720"/>
            <a:ext cx="408240" cy="761760"/>
          </a:xfrm>
          <a:prstGeom prst="rect">
            <a:avLst/>
          </a:prstGeom>
          <a:ln w="0">
            <a:noFill/>
          </a:ln>
        </p:spPr>
      </p:pic>
      <p:pic>
        <p:nvPicPr>
          <p:cNvPr id="111" name="B_OEQ128" descr=""/>
          <p:cNvPicPr/>
          <p:nvPr/>
        </p:nvPicPr>
        <p:blipFill>
          <a:blip r:embed="rId11">
            <a:grayscl/>
          </a:blip>
          <a:stretch/>
        </p:blipFill>
        <p:spPr>
          <a:xfrm>
            <a:off x="4267080" y="2209680"/>
            <a:ext cx="408240" cy="762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248520" y="2666880"/>
            <a:ext cx="304560" cy="152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78000" y="56372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457200"/>
            <a:ext cx="79250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PCablecom Recs. for interoperability intra-zone and with PST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2362320"/>
            <a:ext cx="41907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J.160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gn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J.162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twork  Call Sign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J.165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PCablecom Signalling Transport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J.17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runk Gateway Control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J.163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ynamic Q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236232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edia/Code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J.16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udio Codec Requir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J.16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Event Mess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J.166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B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J.167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TA Provis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J.168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TA M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J.169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CS M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J.170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02/0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1676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A set of recommendations approved (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2001/2002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78000" y="56372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60948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PCablecom Recs. for 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ter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perability inter-zone and inter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main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rectly over managed IP backb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2743200"/>
            <a:ext cx="3581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J.174 (02/02)Inter-domain Q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J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70 (02/02)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further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2743200"/>
            <a:ext cx="3733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further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J.164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03/0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ent Mess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4)IP-QoS/Performanc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371600"/>
            <a:ext cx="8305920" cy="53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oS Classes 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asis for IP Network QoS Contro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QoS control: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/PSTN network converg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.1541(05/200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.1540=I.3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QoS signaling protocols </a:t>
            </a:r>
            <a:r>
              <a:rPr b="1" lang="en-US" sz="2800" spc="-1" strike="noStrike">
                <a:solidFill>
                  <a:srgbClr val="00cc99"/>
                </a:solidFill>
                <a:latin typeface="Wingdings"/>
                <a:ea typeface="Wingdings"/>
              </a:rPr>
              <a:t>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 Y.15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442080" y="3962520"/>
            <a:ext cx="8041320" cy="1846080"/>
            <a:chOff x="442080" y="3962520"/>
            <a:chExt cx="8041320" cy="1846080"/>
          </a:xfrm>
        </p:grpSpPr>
        <p:grpSp>
          <p:nvGrpSpPr>
            <p:cNvPr id="126" name=""/>
            <p:cNvGrpSpPr/>
            <p:nvPr/>
          </p:nvGrpSpPr>
          <p:grpSpPr>
            <a:xfrm>
              <a:off x="442080" y="4800600"/>
              <a:ext cx="8041320" cy="1008000"/>
              <a:chOff x="442080" y="4800600"/>
              <a:chExt cx="8041320" cy="1008000"/>
            </a:xfrm>
          </p:grpSpPr>
          <p:sp>
            <p:nvSpPr>
              <p:cNvPr id="127" name=""/>
              <p:cNvSpPr/>
              <p:nvPr/>
            </p:nvSpPr>
            <p:spPr>
              <a:xfrm>
                <a:off x="658080" y="4800600"/>
                <a:ext cx="6067080" cy="1008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42080" y="5146560"/>
                <a:ext cx="6410520" cy="305280"/>
              </a:xfrm>
              <a:prstGeom prst="rect">
                <a:avLst/>
              </a:prstGeom>
              <a:noFill/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Max Packet Loss, Max Mean Delay, Max Delay Vari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24080" y="5089680"/>
                <a:ext cx="1759320" cy="458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815160" y="5178600"/>
                <a:ext cx="1570320" cy="305280"/>
              </a:xfrm>
              <a:prstGeom prst="rect">
                <a:avLst/>
              </a:prstGeom>
              <a:noFill/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TRANSPOR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551040" y="3962520"/>
              <a:ext cx="236880" cy="822240"/>
              <a:chOff x="3551040" y="3962520"/>
              <a:chExt cx="236880" cy="82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3637080" y="3962520"/>
                <a:ext cx="67320" cy="56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551040" y="4519800"/>
                <a:ext cx="236880" cy="264960"/>
              </a:xfrm>
              <a:custGeom>
                <a:avLst/>
                <a:gdLst/>
                <a:ahLst/>
                <a:rect l="l" t="t" r="r" b="b"/>
                <a:pathLst>
                  <a:path w="336" h="335">
                    <a:moveTo>
                      <a:pt x="0" y="0"/>
                    </a:moveTo>
                    <a:lnTo>
                      <a:pt x="169" y="335"/>
                    </a:lnTo>
                    <a:lnTo>
                      <a:pt x="33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" name=""/>
          <p:cNvGrpSpPr/>
          <p:nvPr/>
        </p:nvGrpSpPr>
        <p:grpSpPr>
          <a:xfrm>
            <a:off x="628560" y="2236680"/>
            <a:ext cx="7862760" cy="1936800"/>
            <a:chOff x="628560" y="2236680"/>
            <a:chExt cx="7862760" cy="1936800"/>
          </a:xfrm>
        </p:grpSpPr>
        <p:sp>
          <p:nvSpPr>
            <p:cNvPr id="135" name=""/>
            <p:cNvSpPr/>
            <p:nvPr/>
          </p:nvSpPr>
          <p:spPr>
            <a:xfrm>
              <a:off x="6710760" y="3474720"/>
              <a:ext cx="1780560" cy="459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60080" y="3546360"/>
              <a:ext cx="168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3537720" y="2236680"/>
              <a:ext cx="236880" cy="1006200"/>
              <a:chOff x="3537720" y="2236680"/>
              <a:chExt cx="236880" cy="1006200"/>
            </a:xfrm>
          </p:grpSpPr>
          <p:sp>
            <p:nvSpPr>
              <p:cNvPr id="138" name=""/>
              <p:cNvSpPr/>
              <p:nvPr/>
            </p:nvSpPr>
            <p:spPr>
              <a:xfrm>
                <a:off x="3623760" y="2236680"/>
                <a:ext cx="67320" cy="744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537720" y="2977920"/>
                <a:ext cx="236880" cy="264960"/>
              </a:xfrm>
              <a:custGeom>
                <a:avLst/>
                <a:gdLst/>
                <a:ahLst/>
                <a:rect l="l" t="t" r="r" b="b"/>
                <a:pathLst>
                  <a:path w="336" h="334">
                    <a:moveTo>
                      <a:pt x="0" y="0"/>
                    </a:moveTo>
                    <a:lnTo>
                      <a:pt x="169" y="334"/>
                    </a:lnTo>
                    <a:lnTo>
                      <a:pt x="33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628560" y="3257280"/>
              <a:ext cx="6067080" cy="916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89480" y="3444480"/>
              <a:ext cx="57186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dec Performance, VAD, Frames per Packet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itter Buffer Size,Codec Delay, FEC (Redundanc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103560" y="343080"/>
            <a:ext cx="290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oS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902280" y="2727360"/>
            <a:ext cx="1511640" cy="519120"/>
            <a:chOff x="6902280" y="2727360"/>
            <a:chExt cx="1511640" cy="519120"/>
          </a:xfrm>
        </p:grpSpPr>
        <p:sp>
          <p:nvSpPr>
            <p:cNvPr id="144" name=""/>
            <p:cNvSpPr/>
            <p:nvPr/>
          </p:nvSpPr>
          <p:spPr>
            <a:xfrm>
              <a:off x="6902280" y="2727360"/>
              <a:ext cx="1511640" cy="519120"/>
            </a:xfrm>
            <a:prstGeom prst="wedgeRectCallout">
              <a:avLst>
                <a:gd name="adj1" fmla="val -80319"/>
                <a:gd name="adj2" fmla="val 103212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03440" y="2870280"/>
              <a:ext cx="1373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TU-T SG16/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859440" y="4213080"/>
            <a:ext cx="1587240" cy="519120"/>
            <a:chOff x="6859440" y="4213080"/>
            <a:chExt cx="1587240" cy="519120"/>
          </a:xfrm>
        </p:grpSpPr>
        <p:sp>
          <p:nvSpPr>
            <p:cNvPr id="147" name=""/>
            <p:cNvSpPr/>
            <p:nvPr/>
          </p:nvSpPr>
          <p:spPr>
            <a:xfrm>
              <a:off x="6889680" y="4213080"/>
              <a:ext cx="1524240" cy="519120"/>
            </a:xfrm>
            <a:prstGeom prst="wedgeRectCallout">
              <a:avLst>
                <a:gd name="adj1" fmla="val -80064"/>
                <a:gd name="adj2" fmla="val 103212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59440" y="4356000"/>
              <a:ext cx="158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TU-T SG13/IET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44400" y="1747800"/>
            <a:ext cx="7805520" cy="916200"/>
            <a:chOff x="644400" y="1747800"/>
            <a:chExt cx="7805520" cy="916200"/>
          </a:xfrm>
        </p:grpSpPr>
        <p:sp>
          <p:nvSpPr>
            <p:cNvPr id="150" name=""/>
            <p:cNvSpPr/>
            <p:nvPr/>
          </p:nvSpPr>
          <p:spPr>
            <a:xfrm>
              <a:off x="6698880" y="2019600"/>
              <a:ext cx="1751040" cy="458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32600" y="2108160"/>
              <a:ext cx="1116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4400" y="1747800"/>
              <a:ext cx="6041520" cy="916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51960" y="2033640"/>
              <a:ext cx="2323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ser Perceived Q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902280" y="1284120"/>
            <a:ext cx="1538280" cy="519120"/>
            <a:chOff x="6902280" y="1284120"/>
            <a:chExt cx="1538280" cy="519120"/>
          </a:xfrm>
        </p:grpSpPr>
        <p:sp>
          <p:nvSpPr>
            <p:cNvPr id="155" name=""/>
            <p:cNvSpPr/>
            <p:nvPr/>
          </p:nvSpPr>
          <p:spPr>
            <a:xfrm>
              <a:off x="6902280" y="1284120"/>
              <a:ext cx="1538280" cy="519120"/>
            </a:xfrm>
            <a:prstGeom prst="wedgeRectCallout">
              <a:avLst>
                <a:gd name="adj1" fmla="val -79787"/>
                <a:gd name="adj2" fmla="val 103212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42600" y="1382400"/>
              <a:ext cx="1373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TU-T SG12/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04760" y="609480"/>
            <a:ext cx="647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 Discussion topics on IP Network QoS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monised IP QoS signa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working IP QoS mech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5) IP-Optical Network &amp; Performance Aspect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P-Optical Networks: 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Infrastructure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Operational Benef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TU-T IP Related Stud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 ITU-T IP 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U-T SG11Signalling &amp; IP activit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IP Cable Communic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4)IP-QoS/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5)IP-Optical Perf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6)Numb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7)IP and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8)Multimedia (MM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P/Optical Networks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formance Benefits &amp; Challe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ance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transmission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d packet transfer delay, delay variation, loss,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call set up delays and blocking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service avail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Challe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 interoperable performance signaling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e IP user/client requirements with control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compatible network management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PM and Question 6/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RFC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s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lk Transfer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(IETF) Draf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 Reord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 Meas. Protocol Req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PM M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Work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 Bandwidth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.1541 (May 2002), six QoS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 QoS Signaling Support/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 Rev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.1540 (Nov 20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” Packet Transf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PL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6) Numbe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UM Significa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apping telephone numbers onto Inter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Could allow conventional telephones to call IP terminals (PC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TU Responsibility: 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fine and implement administrative procedures that coordinate delegations of E.164 numbering resources into the agreed DNS name 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raft Recommendation E.A-ENUM is being prepared by Study Group 2: (target E.A-ENUM, Dec. 2002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7)IP and Secur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6880" y="1371600"/>
            <a:ext cx="84567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rectory Access Control with X.509 Attribute Certific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user given Attribute Certificate (AC) which strongly binds his/her name to the privileges being given to him/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C is signed by the Attribute Authority (Resource Owner or his deleg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milar to X.509v3 certificate, only holds a sequence of attributes rather than a public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attribute certificate can be stored anywhere since it is secure and self cont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tandardisation Work of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Q.9/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iends attributes in X.501, X.5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tributed page results service in X.5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lated Entries in X.501, X.511, X.5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ignment with IETF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fect reports in entire X.500-s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SG Role on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Q.3/SSG Identification of existing and evolving IMT-2000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.1741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3GPP security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Q.1/SSG   Service and network capability requirements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two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amp; Q.7/SSG   Convergence of fixed and existing IMT-2000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udy Group 16 - Security-relate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s in the MediaCom2004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1523880"/>
            <a:ext cx="5639040" cy="27648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C/16 - MM Applications &amp; Services                               F.7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1981080"/>
            <a:ext cx="5639040" cy="27648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D/16 - Interoperability of MM Systems &amp;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2438280"/>
            <a:ext cx="563904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G/16 - Security of MM Systems &amp; Services                   H.233, H.234, H.2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3429000"/>
            <a:ext cx="1143000" cy="289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1/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 Systems, Terminals &amp; Data Confere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.3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.3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70400" y="3429000"/>
            <a:ext cx="990360" cy="289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2/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 over Packet Networks using H.323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.22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.3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.4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.4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3429000"/>
            <a:ext cx="1219320" cy="289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3/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structure &amp; Interoperability for MM over Packet Network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.2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.2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.2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867280" y="3429000"/>
            <a:ext cx="1067040" cy="289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4/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and Data conferencing using Internet supporte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10280" y="3429000"/>
            <a:ext cx="846360" cy="289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5/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ity for MM Systems &amp;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.5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.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.5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743200" y="2743200"/>
            <a:ext cx="220968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954240" y="2743200"/>
            <a:ext cx="99828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2725560"/>
            <a:ext cx="195480" cy="70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52880" y="2733840"/>
            <a:ext cx="1498680" cy="695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52880" y="2752560"/>
            <a:ext cx="2463840" cy="676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09680" y="2895480"/>
            <a:ext cx="5639040" cy="27648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F/16 - MM Quality of Service &amp; E-2-E Performance in MM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89080" y="2590920"/>
            <a:ext cx="120600" cy="423720"/>
          </a:xfrm>
          <a:custGeom>
            <a:avLst/>
            <a:gdLst/>
            <a:ahLst/>
            <a:rect l="l" t="t" r="r" b="b"/>
            <a:pathLst>
              <a:path w="76" h="267">
                <a:moveTo>
                  <a:pt x="76" y="0"/>
                </a:moveTo>
                <a:cubicBezTo>
                  <a:pt x="39" y="26"/>
                  <a:pt x="2" y="52"/>
                  <a:pt x="1" y="96"/>
                </a:cubicBezTo>
                <a:cubicBezTo>
                  <a:pt x="0" y="140"/>
                  <a:pt x="59" y="239"/>
                  <a:pt x="71" y="26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48040" y="2141640"/>
            <a:ext cx="161640" cy="441360"/>
          </a:xfrm>
          <a:custGeom>
            <a:avLst/>
            <a:gdLst/>
            <a:ahLst/>
            <a:rect l="l" t="t" r="r" b="b"/>
            <a:pathLst>
              <a:path w="102" h="278">
                <a:moveTo>
                  <a:pt x="97" y="278"/>
                </a:moveTo>
                <a:cubicBezTo>
                  <a:pt x="48" y="223"/>
                  <a:pt x="0" y="169"/>
                  <a:pt x="1" y="123"/>
                </a:cubicBezTo>
                <a:cubicBezTo>
                  <a:pt x="2" y="77"/>
                  <a:pt x="85" y="20"/>
                  <a:pt x="10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00360" y="1650960"/>
            <a:ext cx="409320" cy="914400"/>
          </a:xfrm>
          <a:custGeom>
            <a:avLst/>
            <a:gdLst/>
            <a:ahLst/>
            <a:rect l="l" t="t" r="r" b="b"/>
            <a:pathLst>
              <a:path w="258" h="576">
                <a:moveTo>
                  <a:pt x="253" y="576"/>
                </a:moveTo>
                <a:cubicBezTo>
                  <a:pt x="160" y="535"/>
                  <a:pt x="68" y="495"/>
                  <a:pt x="34" y="416"/>
                </a:cubicBezTo>
                <a:cubicBezTo>
                  <a:pt x="0" y="337"/>
                  <a:pt x="13" y="170"/>
                  <a:pt x="50" y="101"/>
                </a:cubicBezTo>
                <a:cubicBezTo>
                  <a:pt x="87" y="32"/>
                  <a:pt x="172" y="16"/>
                  <a:pt x="258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.G/16 Work and Study Item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Highli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07732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gate confidentiality and privacy of all sign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 centralized key management for MM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 for MM Mo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e voice encryption, develop video en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 security support for emergenc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olidate or develope new security pro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 interworking H.323-S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153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mergency Telecoms Services (ETS) Security for MM Applications and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objecti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ent theft of service and denial of service by unauthorized 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access control and authorization of  ETS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dentiality and integrity of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rapid and user-friendly authentication of ETS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.SETS : provisional title for a new work item under study in Q.G/16 - focus on the multimedia security aspects of 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8)Multimedia (MM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Impact"/>
              </a:rPr>
              <a:t>ITU-T Study Group 16 Project:  MediaCom 200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Impact"/>
              </a:rPr>
              <a:t>Objectiv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 ??"/>
              </a:rPr>
              <a:t>to create a framework for the harmonized and coordinated development of multimedia communic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ndardization for us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 ??"/>
              </a:rPr>
              <a:t>across all ITU-T and ITU-R Study Groups, and in close cooperation with other regional and international SDOs and industry for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1) The ITU-T IP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IP Project’ Cover IP related ITU-T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Doc Issue 4:  SG13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10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ACOM 2004 Framework in SG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76520" y="3429000"/>
            <a:ext cx="5867280" cy="91440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76520" y="4343400"/>
            <a:ext cx="533160" cy="1447920"/>
          </a:xfrm>
          <a:prstGeom prst="rect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9680" y="4343400"/>
            <a:ext cx="533520" cy="1447920"/>
          </a:xfrm>
          <a:prstGeom prst="rect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43200" y="4343400"/>
            <a:ext cx="533520" cy="1447920"/>
          </a:xfrm>
          <a:prstGeom prst="rect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4343400"/>
            <a:ext cx="533160" cy="1447920"/>
          </a:xfrm>
          <a:prstGeom prst="rect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9880" y="4343400"/>
            <a:ext cx="533520" cy="1447920"/>
          </a:xfrm>
          <a:prstGeom prst="rect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43400" y="4343400"/>
            <a:ext cx="533520" cy="1447920"/>
          </a:xfrm>
          <a:prstGeom prst="rect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76920" y="4343400"/>
            <a:ext cx="533160" cy="1447920"/>
          </a:xfrm>
          <a:prstGeom prst="rect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0080" y="4343400"/>
            <a:ext cx="533520" cy="1447920"/>
          </a:xfrm>
          <a:prstGeom prst="rect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43600" y="4343400"/>
            <a:ext cx="533520" cy="1447920"/>
          </a:xfrm>
          <a:prstGeom prst="rect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77120" y="4343400"/>
            <a:ext cx="533160" cy="1447920"/>
          </a:xfrm>
          <a:prstGeom prst="rect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10280" y="4343400"/>
            <a:ext cx="533520" cy="1447920"/>
          </a:xfrm>
          <a:prstGeom prst="rect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2286000"/>
            <a:ext cx="6019920" cy="11430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MEDIACOM 2004 (Q A/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76520" y="3733920"/>
            <a:ext cx="58672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76520" y="3886200"/>
            <a:ext cx="58672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76520" y="4038480"/>
            <a:ext cx="58672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6520" y="4191120"/>
            <a:ext cx="58672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42400" y="3657600"/>
            <a:ext cx="399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Arial Black"/>
              </a:rPr>
              <a:t>Generic Questions B/16 to H/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Arial Black"/>
              </a:rPr>
              <a:t>Framework Standardisation Areas (F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37240" y="4800600"/>
            <a:ext cx="339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Arial Black"/>
              </a:rPr>
              <a:t>Equipment and system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 Black"/>
              </a:rPr>
              <a:t>1/16 to 15/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FSA Framework Study Are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281952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51920" y="236196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Impact"/>
                <a:ea typeface="ＭＳ 明朝"/>
              </a:rPr>
              <a:t>Project MediaCom 2004</a:t>
            </a:r>
            <a:r>
              <a:rPr b="0" lang="en-GB" sz="2000" spc="-1" strike="noStrike">
                <a:solidFill>
                  <a:srgbClr val="000000"/>
                </a:solidFill>
                <a:latin typeface="Impact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Impact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Impact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Impact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Impact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Impact"/>
                <a:ea typeface="ＭＳ 明朝"/>
              </a:rPr>
              <a:t>(A/16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ＭＳ 明朝"/>
              </a:rPr>
              <a:t>MM Architecture 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ＭＳ 明朝"/>
              </a:rPr>
              <a:t>(B/1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ＭＳ 明朝"/>
              </a:rPr>
              <a:t>MM Applications and Services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ＭＳ 明朝"/>
              </a:rPr>
              <a:t>(C/1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ＭＳ 明朝"/>
              </a:rPr>
              <a:t>Interoperability of MM Systems and Services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ＭＳ 明朝"/>
              </a:rPr>
              <a:t>(D/1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ＭＳ 明朝"/>
              </a:rPr>
              <a:t>Media Coding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ＭＳ 明朝"/>
              </a:rPr>
              <a:t>(E/16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ＭＳ 明朝"/>
              </a:rPr>
              <a:t>QoS &amp; E-to-E performance in MM Systems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ＭＳ 明朝"/>
              </a:rPr>
              <a:t>(F/16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ＭＳ 明朝"/>
              </a:rPr>
              <a:t>Security of MM Systems and Services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ＭＳ 明朝"/>
              </a:rPr>
              <a:t>(G/16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ＭＳ 明朝"/>
              </a:rPr>
              <a:t>Accessibility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ＭＳ 明朝"/>
              </a:rPr>
              <a:t>(H/16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4572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mework Study Areas (F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mediacom_f1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137360" cy="45892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M Element Interdepend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73800" y="2439360"/>
            <a:ext cx="137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r perspe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-475560" y="4655880"/>
            <a:ext cx="24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quipment/protocol perspe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254560" cy="41785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133720" y="5943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ANK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44320" y="197964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Medium"/>
              </a:rPr>
              <a:t>GENE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ITU_Logo" descr=""/>
          <p:cNvPicPr/>
          <p:nvPr/>
        </p:nvPicPr>
        <p:blipFill>
          <a:blip r:embed="rId2"/>
          <a:stretch/>
        </p:blipFill>
        <p:spPr>
          <a:xfrm>
            <a:off x="3962520" y="0"/>
            <a:ext cx="1203120" cy="121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BDA1-0302-48FF-965B-865C14463ECE}" type="slidenum">
              <a:t>33</a:t>
            </a:fld>
          </a:p>
        </p:txBody>
      </p:sp>
    </p:spTree>
  </p:cSld>
  <p:transition spd="med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of the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4788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371600" y="1523880"/>
          <a:ext cx="6794640" cy="5042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23880"/>
                    <a:ext cx="6794640" cy="50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G13 IP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.1231 - IP Access Network Architect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.1310 - Transport of IP over ATM in public network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.1401 - General requirements for interworking with IP-based Network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.1241 - Support of IP-based services using IP transfer capabilit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G13 IP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.17oam - OAM and protection switching for IP-based networ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.1540 - IP packet transfer and availability performance parame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.1541 - IP performance objectives and alloc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.1311 - IP VP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.1311.1 - IP VPN over MP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.satip - Satellite IP networking archite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.123qos - IP access quality of serv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.ipbypass - IP bypass in access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G13 Futur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Gs continue to build links with the IET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G13 develop  and manage the IP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2) ITU-T SG11Signalling &amp; IP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CO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ine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ignalling requirements and protocol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nhancements to existing Recommendations on access (UNI) and (inter)-network (NNI) signalling protocols for  PSTN, ISDN and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acket (ATM and IP)-based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me Mobility &amp; MM related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support of voice, data and Multi-media communications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merging NGN architectures, signalling requirements, and control Protocols including Internet Protocol (IP) related control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d Study Group fo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ITU-T SG1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urrent work foc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6168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eractions between IN and IP-based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-related signalling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arer (ATM, IP) Independent Call Control (i.e. BIC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gnalling transport over 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1T15:44:43Z</dcterms:created>
  <dc:creator>A Odedra</dc:creator>
  <dc:description/>
  <dc:language>en-US</dc:language>
  <cp:lastModifiedBy>user</cp:lastModifiedBy>
  <dcterms:modified xsi:type="dcterms:W3CDTF">2002-07-15T16:06:38Z</dcterms:modified>
  <cp:revision>520</cp:revision>
  <dc:subject/>
  <dc:title>PPT Presentation</dc:title>
</cp:coreProperties>
</file>