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478-E038-4471-AFA4-4936E050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A6B-1B68-4733-8DF2-5200249C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0B7-F01B-430E-9F71-BFA6E4CF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162-F2A5-4E6C-88E8-761F753B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CD99-845C-461E-9B41-913A39E3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E993-9192-4EA1-B63E-3DA12952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067F-8D3B-4C00-8866-38B6992B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2C00-EA56-484A-8F94-DAAE1D0F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2273-6B69-44B7-84E8-3A7CC4CD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680E-480A-45D2-8BB0-B0FFA468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3DB5-B0E4-4947-AB50-C0A5B487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74E-450C-4672-A812-D35B73AF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C07C-A9CF-47D1-A32A-C9A6ED70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79B9-D2DE-45BE-8DB2-4621D80D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69A6-DDBC-49FD-9AE5-D0CE576F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33E0-DE5B-4727-AFA4-E18D6390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8B24-B781-4021-919B-FD52C7AE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7EC3-D314-431B-9B1F-7A6980C5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1E4-C896-4A4A-821B-8DA9F26E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21A-A1EF-4DB8-9A54-8001ECC0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16F-B52F-449C-AAD0-2F58DBA4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2D7C-3B45-4F7E-8EA9-4C47EF16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3193-3C24-4F67-9D74-B6984326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86AB-1E6A-4A37-B454-30F8CC72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77F9-D4C1-467F-A11A-C7B961D7A1A4}" type="slidenum"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eft00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EB73-EB1A-44C0-99DD-54BA12AD3D3B}" type="slidenum">
              <a:rPr b="0" lang="en-US" sz="1400" spc="-1" strike="noStrike">
                <a:solidFill>
                  <a:srgbClr val="40458c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eft00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golden640" descr=""/>
          <p:cNvPicPr/>
          <p:nvPr/>
        </p:nvPicPr>
        <p:blipFill>
          <a:blip r:embed="rId1">
            <a:lum bright="6000"/>
          </a:blip>
          <a:srcRect l="0" t="0" r="0" b="667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99"/>
                </a:solidFill>
                <a:latin typeface="Arial Black"/>
              </a:rPr>
              <a:t>Sector Member Role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Black"/>
              </a:rPr>
              <a:t>For a technical Recommendation Sector Members are involved in each step of the process from the development and approval of the question in a Study group through to the approval of the Recommendation in the Study Group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1373040"/>
            <a:ext cx="769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Mr. Cleveland Thoma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2362320"/>
            <a:ext cx="769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Vice Chairman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127320"/>
            <a:ext cx="769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Working Party 2/3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3886200"/>
            <a:ext cx="769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Study Group 3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4803840"/>
            <a:ext cx="769608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Black"/>
              </a:rPr>
              <a:t>ITU-T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89" name="concierge_podium_writing_reservations_md_wht" descr=""/>
          <p:cNvPicPr/>
          <p:nvPr/>
        </p:nvPicPr>
        <p:blipFill>
          <a:blip r:embed="rId1"/>
          <a:stretch/>
        </p:blipFill>
        <p:spPr>
          <a:xfrm>
            <a:off x="7478640" y="4267080"/>
            <a:ext cx="1665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99"/>
                </a:solidFill>
                <a:latin typeface="Arial Black"/>
              </a:rPr>
              <a:t>The ITU-T Proces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600200"/>
            <a:ext cx="9677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fro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Worl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Telecommunica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Standardis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Assembl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 Black"/>
              </a:rPr>
              <a:t>Recommend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59400" y="1676520"/>
            <a:ext cx="1218960" cy="6094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Plenipotentiar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Conferenc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68880" y="228600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2514600"/>
            <a:ext cx="57913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2514600"/>
            <a:ext cx="0" cy="11430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68880" y="251460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69080" y="251460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64360" y="2514600"/>
            <a:ext cx="0" cy="11430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74320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Radio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communica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Secto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68960" y="2743200"/>
            <a:ext cx="1562040" cy="685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Telecommunica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Standardiza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Secto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9600" y="2743200"/>
            <a:ext cx="1218960" cy="685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Developmen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Secto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342900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68880" y="342900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69080" y="342900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657600"/>
            <a:ext cx="1335240" cy="8380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World/Region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Conferenc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Radio-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Communica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Assembl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70400" y="3657600"/>
            <a:ext cx="1573200" cy="8380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Worl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Telecommunica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Standardiza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Assembly (WTSA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59600" y="3657600"/>
            <a:ext cx="1218960" cy="8380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World/Region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Conferenc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4495680"/>
            <a:ext cx="0" cy="1295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68880" y="4495680"/>
            <a:ext cx="0" cy="1295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69080" y="4495680"/>
            <a:ext cx="0" cy="1295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657600"/>
            <a:ext cx="1067040" cy="8380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Counci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4495680"/>
            <a:ext cx="0" cy="129564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54880" y="3670200"/>
            <a:ext cx="1689120" cy="8254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Worl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Conferences 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Internation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Telecommunication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64360" y="44956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22560" y="472428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52960" y="47242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09960" y="47242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33920" y="49528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Stud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Group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952880"/>
            <a:ext cx="990720" cy="53352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Radi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Regulation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Boar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68880" y="472428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26080" y="47242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07040" y="49528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Stud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Group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24280"/>
            <a:ext cx="4572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226280" y="472428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07240" y="49528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Stud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Group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5791320"/>
            <a:ext cx="762120" cy="685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Directo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________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Bureau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62040" y="5791320"/>
            <a:ext cx="1511280" cy="685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Secretary-Gener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Deput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3399"/>
                </a:solidFill>
                <a:uFillTx/>
                <a:latin typeface="Tahoma"/>
              </a:rPr>
              <a:t>Secretary-General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General Secretariat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7913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Committe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2520" y="5791320"/>
            <a:ext cx="711000" cy="3808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Advisor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Grou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76840" y="5791320"/>
            <a:ext cx="647640" cy="3808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Advisor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Grou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49840" y="5791320"/>
            <a:ext cx="838080" cy="685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Directo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________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Bureau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353360" y="5791320"/>
            <a:ext cx="723960" cy="38088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Advisory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Group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62640" y="5791320"/>
            <a:ext cx="914400" cy="685800"/>
          </a:xfrm>
          <a:prstGeom prst="roundRect">
            <a:avLst>
              <a:gd name="adj" fmla="val 16667"/>
            </a:avLst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Director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_________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ahoma"/>
              </a:rPr>
              <a:t>Bureau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5943600"/>
            <a:ext cx="759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00880" y="5943600"/>
            <a:ext cx="7596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77040" y="5943600"/>
            <a:ext cx="763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5943600"/>
            <a:ext cx="763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5562720"/>
            <a:ext cx="5715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5562720"/>
            <a:ext cx="0" cy="2286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012200" y="260280"/>
            <a:ext cx="16322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</a:rPr>
              <a:t>Plenipotentiary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</a:rPr>
              <a:t>Conferen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952560"/>
            <a:ext cx="3240" cy="33984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94120" y="1295280"/>
            <a:ext cx="1098720" cy="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70520" y="1066680"/>
            <a:ext cx="882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</a:rPr>
              <a:t>Counci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1676520"/>
            <a:ext cx="259092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1677960"/>
            <a:ext cx="0" cy="3366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77520" y="1981080"/>
            <a:ext cx="13456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</a:rPr>
              <a:t>ITU-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</a:rPr>
              <a:t>World Radi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</a:rPr>
              <a:t>Conferenc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514600" y="1677960"/>
            <a:ext cx="4724280" cy="1122120"/>
            <a:chOff x="2514600" y="1677960"/>
            <a:chExt cx="4724280" cy="1122120"/>
          </a:xfrm>
        </p:grpSpPr>
        <p:sp>
          <p:nvSpPr>
            <p:cNvPr id="149" name=""/>
            <p:cNvSpPr/>
            <p:nvPr/>
          </p:nvSpPr>
          <p:spPr>
            <a:xfrm>
              <a:off x="4800600" y="1677960"/>
              <a:ext cx="0" cy="3366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14600" y="1981080"/>
              <a:ext cx="47242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ITU-T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World Conferenc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International Telecommunication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354800" y="1677960"/>
            <a:ext cx="723960" cy="635400"/>
            <a:chOff x="7354800" y="1677960"/>
            <a:chExt cx="723960" cy="635400"/>
          </a:xfrm>
        </p:grpSpPr>
        <p:sp>
          <p:nvSpPr>
            <p:cNvPr id="152" name=""/>
            <p:cNvSpPr/>
            <p:nvPr/>
          </p:nvSpPr>
          <p:spPr>
            <a:xfrm>
              <a:off x="7354800" y="1981080"/>
              <a:ext cx="7239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ITU-D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72400" y="1677960"/>
              <a:ext cx="0" cy="3366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384200" y="2744640"/>
            <a:ext cx="1587600" cy="879120"/>
            <a:chOff x="1384200" y="2744640"/>
            <a:chExt cx="1587600" cy="879120"/>
          </a:xfrm>
        </p:grpSpPr>
        <p:sp>
          <p:nvSpPr>
            <p:cNvPr id="155" name=""/>
            <p:cNvSpPr/>
            <p:nvPr/>
          </p:nvSpPr>
          <p:spPr>
            <a:xfrm>
              <a:off x="2209680" y="2744640"/>
              <a:ext cx="0" cy="3794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384200" y="3048120"/>
              <a:ext cx="15876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Radio Assembly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90920" y="2819520"/>
            <a:ext cx="4495680" cy="804240"/>
            <a:chOff x="2590920" y="2819520"/>
            <a:chExt cx="4495680" cy="804240"/>
          </a:xfrm>
        </p:grpSpPr>
        <p:sp>
          <p:nvSpPr>
            <p:cNvPr id="158" name=""/>
            <p:cNvSpPr/>
            <p:nvPr/>
          </p:nvSpPr>
          <p:spPr>
            <a:xfrm>
              <a:off x="4800600" y="2819520"/>
              <a:ext cx="0" cy="3794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3048120"/>
              <a:ext cx="44956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World Telecommunication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Standardisation Assembly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038360" y="2286000"/>
            <a:ext cx="1461600" cy="1504800"/>
            <a:chOff x="7038360" y="2286000"/>
            <a:chExt cx="1461600" cy="1504800"/>
          </a:xfrm>
        </p:grpSpPr>
        <p:sp>
          <p:nvSpPr>
            <p:cNvPr id="161" name=""/>
            <p:cNvSpPr/>
            <p:nvPr/>
          </p:nvSpPr>
          <p:spPr>
            <a:xfrm>
              <a:off x="7772400" y="2286000"/>
              <a:ext cx="0" cy="7621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38360" y="2971800"/>
              <a:ext cx="14616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World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Development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Conferenc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679760" y="3657600"/>
            <a:ext cx="1051560" cy="1276200"/>
            <a:chOff x="1679760" y="3657600"/>
            <a:chExt cx="1051560" cy="1276200"/>
          </a:xfrm>
        </p:grpSpPr>
        <p:sp>
          <p:nvSpPr>
            <p:cNvPr id="164" name=""/>
            <p:cNvSpPr/>
            <p:nvPr/>
          </p:nvSpPr>
          <p:spPr>
            <a:xfrm>
              <a:off x="2205000" y="3657600"/>
              <a:ext cx="3240" cy="53352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79760" y="4114800"/>
              <a:ext cx="105156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Radi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Advisory 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Group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392480" y="5076720"/>
            <a:ext cx="1473840" cy="713520"/>
            <a:chOff x="1392480" y="5076720"/>
            <a:chExt cx="1473840" cy="713520"/>
          </a:xfrm>
        </p:grpSpPr>
        <p:sp>
          <p:nvSpPr>
            <p:cNvPr id="167" name=""/>
            <p:cNvSpPr/>
            <p:nvPr/>
          </p:nvSpPr>
          <p:spPr>
            <a:xfrm>
              <a:off x="1392480" y="5457960"/>
              <a:ext cx="1473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Study Group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09680" y="5076720"/>
              <a:ext cx="0" cy="3812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200400" y="3581280"/>
            <a:ext cx="3121200" cy="1384200"/>
            <a:chOff x="3200400" y="3581280"/>
            <a:chExt cx="3121200" cy="1384200"/>
          </a:xfrm>
        </p:grpSpPr>
        <p:sp>
          <p:nvSpPr>
            <p:cNvPr id="170" name=""/>
            <p:cNvSpPr/>
            <p:nvPr/>
          </p:nvSpPr>
          <p:spPr>
            <a:xfrm>
              <a:off x="4797360" y="3581280"/>
              <a:ext cx="3240" cy="6858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00400" y="4146480"/>
              <a:ext cx="312120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Telecommunicatio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 </a:t>
              </a: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Standardisation Advisory Group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983400" y="5229360"/>
            <a:ext cx="1473840" cy="636840"/>
            <a:chOff x="3983400" y="5229360"/>
            <a:chExt cx="1473840" cy="636840"/>
          </a:xfrm>
        </p:grpSpPr>
        <p:sp>
          <p:nvSpPr>
            <p:cNvPr id="173" name=""/>
            <p:cNvSpPr/>
            <p:nvPr/>
          </p:nvSpPr>
          <p:spPr>
            <a:xfrm>
              <a:off x="3983400" y="5533920"/>
              <a:ext cx="1473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Study Group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0600" y="5229360"/>
              <a:ext cx="0" cy="37944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663240" y="3809880"/>
            <a:ext cx="2154960" cy="1123920"/>
            <a:chOff x="6663240" y="3809880"/>
            <a:chExt cx="2154960" cy="1123920"/>
          </a:xfrm>
        </p:grpSpPr>
        <p:sp>
          <p:nvSpPr>
            <p:cNvPr id="176" name=""/>
            <p:cNvSpPr/>
            <p:nvPr/>
          </p:nvSpPr>
          <p:spPr>
            <a:xfrm>
              <a:off x="6663240" y="4114800"/>
              <a:ext cx="215496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Telecommunication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Development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Advisory Group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72400" y="3809880"/>
              <a:ext cx="0" cy="4572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797360" y="1295280"/>
            <a:ext cx="0" cy="336600"/>
          </a:xfrm>
          <a:prstGeom prst="line">
            <a:avLst/>
          </a:prstGeom>
          <a:ln w="28440">
            <a:solidFill>
              <a:srgbClr val="66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09960" y="1676520"/>
            <a:ext cx="2962440" cy="0"/>
          </a:xfrm>
          <a:prstGeom prst="line">
            <a:avLst/>
          </a:prstGeom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248520" y="4952880"/>
            <a:ext cx="2895480" cy="1185480"/>
            <a:chOff x="6248520" y="4952880"/>
            <a:chExt cx="2895480" cy="1185480"/>
          </a:xfrm>
        </p:grpSpPr>
        <p:sp>
          <p:nvSpPr>
            <p:cNvPr id="181" name=""/>
            <p:cNvSpPr/>
            <p:nvPr/>
          </p:nvSpPr>
          <p:spPr>
            <a:xfrm>
              <a:off x="6248520" y="5562720"/>
              <a:ext cx="14475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Study Group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6934320" y="5294160"/>
              <a:ext cx="1523880" cy="336600"/>
              <a:chOff x="6934320" y="5294160"/>
              <a:chExt cx="1523880" cy="33660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934320" y="5294160"/>
                <a:ext cx="1522440" cy="336600"/>
                <a:chOff x="6934320" y="5294160"/>
                <a:chExt cx="1522440" cy="33660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934320" y="5295960"/>
                  <a:ext cx="1522440" cy="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934320" y="5294160"/>
                  <a:ext cx="0" cy="336600"/>
                </a:xfrm>
                <a:prstGeom prst="line">
                  <a:avLst/>
                </a:prstGeom>
                <a:ln w="28440">
                  <a:solidFill>
                    <a:srgbClr val="660066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8458200" y="5294160"/>
                <a:ext cx="0" cy="336600"/>
              </a:xfrm>
              <a:prstGeom prst="line">
                <a:avLst/>
              </a:prstGeom>
              <a:ln w="28440">
                <a:solidFill>
                  <a:srgbClr val="660066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7608960" y="5562720"/>
              <a:ext cx="15350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Actio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99"/>
                  </a:solidFill>
                  <a:latin typeface="Arial Black"/>
                </a:rPr>
                <a:t>Plan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72400" y="4952880"/>
              <a:ext cx="0" cy="336600"/>
            </a:xfrm>
            <a:prstGeom prst="line">
              <a:avLst/>
            </a:prstGeom>
            <a:ln w="28440">
              <a:solidFill>
                <a:srgbClr val="66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091160" y="388800"/>
            <a:ext cx="711108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99"/>
                </a:solidFill>
                <a:latin typeface="Arial Black"/>
              </a:rPr>
              <a:t>Structure of the ITU - T</a:t>
            </a:r>
            <a:endParaRPr b="0" lang="en-US" sz="4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377496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44440" y="1380960"/>
            <a:ext cx="7923240" cy="4600080"/>
            <a:chOff x="1144440" y="1380960"/>
            <a:chExt cx="7923240" cy="4600080"/>
          </a:xfrm>
        </p:grpSpPr>
        <p:sp>
          <p:nvSpPr>
            <p:cNvPr id="192" name=""/>
            <p:cNvSpPr/>
            <p:nvPr/>
          </p:nvSpPr>
          <p:spPr>
            <a:xfrm>
              <a:off x="1395720" y="3817800"/>
              <a:ext cx="102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ahoma"/>
                </a:rPr>
                <a:t>Study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ahoma"/>
                </a:rPr>
                <a:t> </a:t>
              </a:r>
              <a:r>
                <a:rPr b="1" lang="en-US" sz="1600" spc="-1" strike="noStrike">
                  <a:solidFill>
                    <a:srgbClr val="003399"/>
                  </a:solidFill>
                  <a:latin typeface="Tahoma"/>
                </a:rPr>
                <a:t>Group 2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1144440" y="1380960"/>
              <a:ext cx="7923240" cy="4600080"/>
              <a:chOff x="1144440" y="1380960"/>
              <a:chExt cx="7923240" cy="4600080"/>
            </a:xfrm>
          </p:grpSpPr>
          <p:sp>
            <p:nvSpPr>
              <p:cNvPr id="194" name=""/>
              <p:cNvSpPr/>
              <p:nvPr/>
            </p:nvSpPr>
            <p:spPr>
              <a:xfrm>
                <a:off x="3007440" y="1380960"/>
                <a:ext cx="3366720" cy="911880"/>
              </a:xfrm>
              <a:prstGeom prst="rect">
                <a:avLst/>
              </a:prstGeom>
              <a:noFill/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Arial Black"/>
                  </a:rPr>
                  <a:t>World Telecommunications 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Arial Black"/>
                  </a:rPr>
                  <a:t>Standardisation Assembly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Arial Black"/>
                  </a:rPr>
                  <a:t>WTSA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24280" y="2293920"/>
                <a:ext cx="0" cy="121896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06560" y="3512880"/>
                <a:ext cx="563724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25720" y="2827080"/>
                <a:ext cx="45576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360760" y="2446200"/>
                <a:ext cx="2708280" cy="911880"/>
              </a:xfrm>
              <a:prstGeom prst="rect">
                <a:avLst/>
              </a:prstGeom>
              <a:noFill/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Arial Black"/>
                  </a:rPr>
                  <a:t>Telecommunications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Arial Black"/>
                  </a:rPr>
                  <a:t>Standardisation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Arial Black"/>
                  </a:rPr>
                  <a:t>Advisory Group.  TSAG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04760" y="3514680"/>
                <a:ext cx="0" cy="45540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790960" y="3514680"/>
                <a:ext cx="0" cy="45540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666880" y="3514680"/>
                <a:ext cx="0" cy="45540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1680" y="3514680"/>
                <a:ext cx="0" cy="45540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543800" y="3512880"/>
                <a:ext cx="0" cy="45576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57600" y="3514680"/>
                <a:ext cx="0" cy="45540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19880" y="3971880"/>
                <a:ext cx="1789200" cy="363240"/>
              </a:xfrm>
              <a:prstGeom prst="rect">
                <a:avLst/>
              </a:prstGeom>
              <a:noFill/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Arial Black"/>
                  </a:rPr>
                  <a:t>Study Group 3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657600" y="4352760"/>
                <a:ext cx="0" cy="45576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06560" y="4808520"/>
                <a:ext cx="2360520" cy="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904760" y="4809960"/>
                <a:ext cx="0" cy="45576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44440" y="5343480"/>
                <a:ext cx="1521000" cy="637560"/>
              </a:xfrm>
              <a:prstGeom prst="rect">
                <a:avLst/>
              </a:prstGeom>
              <a:noFill/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Arial Black"/>
                  </a:rPr>
                  <a:t>Working Party 1/3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506760" y="5343480"/>
                <a:ext cx="1520640" cy="637560"/>
              </a:xfrm>
              <a:prstGeom prst="rect">
                <a:avLst/>
              </a:prstGeom>
              <a:noFill/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Arial Black"/>
                  </a:rPr>
                  <a:t>Working Party 2/3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67080" y="4809960"/>
                <a:ext cx="0" cy="455760"/>
              </a:xfrm>
              <a:prstGeom prst="line">
                <a:avLst/>
              </a:prstGeom>
              <a:ln w="3816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32640" y="3514680"/>
                <a:ext cx="1713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99"/>
                    </a:solidFill>
                    <a:latin typeface="Arial Black"/>
                  </a:rPr>
                  <a:t>Study Groups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660320" y="37749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933960" y="3817800"/>
                <a:ext cx="13716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99"/>
                    </a:solidFill>
                    <a:latin typeface="Tahoma"/>
                  </a:rPr>
                  <a:t>Study Group 16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43800" y="3512880"/>
                <a:ext cx="1218960" cy="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762760" y="3512880"/>
                <a:ext cx="0" cy="381240"/>
              </a:xfrm>
              <a:prstGeom prst="line">
                <a:avLst/>
              </a:prstGeom>
              <a:ln w="381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458200" y="3894120"/>
                <a:ext cx="609480" cy="380880"/>
              </a:xfrm>
              <a:prstGeom prst="rect">
                <a:avLst/>
              </a:prstGeom>
              <a:solidFill>
                <a:srgbClr val="ecd882"/>
              </a:solidFill>
              <a:ln w="1260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3399"/>
                    </a:solidFill>
                    <a:latin typeface="Arial Black"/>
                  </a:rPr>
                  <a:t>SSG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3737160" y="4876920"/>
            <a:ext cx="2663280" cy="941400"/>
            <a:chOff x="3737160" y="4876920"/>
            <a:chExt cx="2663280" cy="941400"/>
          </a:xfrm>
        </p:grpSpPr>
        <p:sp>
          <p:nvSpPr>
            <p:cNvPr id="219" name=""/>
            <p:cNvSpPr/>
            <p:nvPr/>
          </p:nvSpPr>
          <p:spPr>
            <a:xfrm flipH="1">
              <a:off x="5638320" y="5486400"/>
              <a:ext cx="762120" cy="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737160" y="4876920"/>
              <a:ext cx="1847160" cy="941400"/>
            </a:xfrm>
            <a:prstGeom prst="rect">
              <a:avLst/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Draft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Recommendation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to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Study Group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143360" y="457200"/>
            <a:ext cx="7030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 Black"/>
              </a:rPr>
              <a:t>How is a Recommendation Developed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81880" y="1868400"/>
            <a:ext cx="1528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 Black"/>
              </a:rPr>
              <a:t>Member Stat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 Black"/>
              </a:rPr>
              <a:t>Study Group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946240" y="1486080"/>
            <a:ext cx="3198960" cy="941400"/>
            <a:chOff x="2946240" y="1486080"/>
            <a:chExt cx="3198960" cy="941400"/>
          </a:xfrm>
        </p:grpSpPr>
        <p:sp>
          <p:nvSpPr>
            <p:cNvPr id="224" name=""/>
            <p:cNvSpPr/>
            <p:nvPr/>
          </p:nvSpPr>
          <p:spPr>
            <a:xfrm>
              <a:off x="2946240" y="2171520"/>
              <a:ext cx="760680" cy="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35520" y="1486080"/>
              <a:ext cx="2209680" cy="941400"/>
            </a:xfrm>
            <a:prstGeom prst="rect">
              <a:avLst/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WTSA</a:t>
              </a:r>
              <a:r>
                <a:rPr b="1" lang="en-GB" sz="1400" spc="-1" strike="noStrike">
                  <a:solidFill>
                    <a:srgbClr val="003399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Approv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Questions</a:t>
              </a:r>
              <a:r>
                <a:rPr b="1" lang="en-GB" sz="1400" spc="-1" strike="noStrike">
                  <a:solidFill>
                    <a:srgbClr val="003399"/>
                  </a:solidFill>
                  <a:latin typeface="Arial Black"/>
                </a:rPr>
                <a:t> or Study Group Approves Question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172200" y="1525680"/>
            <a:ext cx="2589120" cy="728280"/>
            <a:chOff x="6172200" y="1525680"/>
            <a:chExt cx="2589120" cy="728280"/>
          </a:xfrm>
        </p:grpSpPr>
        <p:sp>
          <p:nvSpPr>
            <p:cNvPr id="227" name=""/>
            <p:cNvSpPr/>
            <p:nvPr/>
          </p:nvSpPr>
          <p:spPr>
            <a:xfrm>
              <a:off x="6172200" y="1981080"/>
              <a:ext cx="533520" cy="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3480" y="1525680"/>
              <a:ext cx="1977840" cy="728280"/>
            </a:xfrm>
            <a:prstGeom prst="rect">
              <a:avLst/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Questions Allocated to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Study Group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789960" y="2438280"/>
            <a:ext cx="1845720" cy="897840"/>
            <a:chOff x="6789960" y="2438280"/>
            <a:chExt cx="1845720" cy="897840"/>
          </a:xfrm>
        </p:grpSpPr>
        <p:sp>
          <p:nvSpPr>
            <p:cNvPr id="230" name=""/>
            <p:cNvSpPr/>
            <p:nvPr/>
          </p:nvSpPr>
          <p:spPr>
            <a:xfrm>
              <a:off x="7696080" y="2438280"/>
              <a:ext cx="0" cy="38124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89960" y="2820960"/>
              <a:ext cx="1845720" cy="515160"/>
            </a:xfrm>
            <a:prstGeom prst="rect">
              <a:avLst/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S. G</a:t>
              </a:r>
              <a:r>
                <a:rPr b="1" lang="en-GB" sz="1400" spc="-1" strike="noStrike">
                  <a:solidFill>
                    <a:srgbClr val="003399"/>
                  </a:solidFill>
                  <a:latin typeface="Arial Black"/>
                </a:rPr>
                <a:t>.</a:t>
              </a: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 allocat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to Working Parti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6801840" y="3505320"/>
            <a:ext cx="1888200" cy="897480"/>
            <a:chOff x="6801840" y="3505320"/>
            <a:chExt cx="1888200" cy="897480"/>
          </a:xfrm>
        </p:grpSpPr>
        <p:sp>
          <p:nvSpPr>
            <p:cNvPr id="233" name=""/>
            <p:cNvSpPr/>
            <p:nvPr/>
          </p:nvSpPr>
          <p:spPr>
            <a:xfrm>
              <a:off x="7696080" y="3505320"/>
              <a:ext cx="0" cy="3808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01840" y="3887640"/>
              <a:ext cx="1888200" cy="515160"/>
            </a:xfrm>
            <a:prstGeom prst="rect">
              <a:avLst/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Rapporteur Group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Establish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402240" y="4572000"/>
            <a:ext cx="2589480" cy="1110960"/>
            <a:chOff x="6402240" y="4572000"/>
            <a:chExt cx="2589480" cy="1110960"/>
          </a:xfrm>
        </p:grpSpPr>
        <p:sp>
          <p:nvSpPr>
            <p:cNvPr id="236" name=""/>
            <p:cNvSpPr/>
            <p:nvPr/>
          </p:nvSpPr>
          <p:spPr>
            <a:xfrm>
              <a:off x="7696080" y="4572000"/>
              <a:ext cx="0" cy="38088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2240" y="4954680"/>
              <a:ext cx="2589480" cy="728280"/>
            </a:xfrm>
            <a:prstGeom prst="rect">
              <a:avLst/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Draft Recommendation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to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Working Parti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086600" y="4497480"/>
            <a:ext cx="0" cy="45540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070280" y="2819520"/>
            <a:ext cx="1847160" cy="1065240"/>
            <a:chOff x="1070280" y="2819520"/>
            <a:chExt cx="1847160" cy="1065240"/>
          </a:xfrm>
        </p:grpSpPr>
        <p:sp>
          <p:nvSpPr>
            <p:cNvPr id="240" name=""/>
            <p:cNvSpPr/>
            <p:nvPr/>
          </p:nvSpPr>
          <p:spPr>
            <a:xfrm>
              <a:off x="1070280" y="2819520"/>
              <a:ext cx="1847160" cy="515160"/>
            </a:xfrm>
            <a:prstGeom prst="rect">
              <a:avLst/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Recommendation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Published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06720" y="3505320"/>
              <a:ext cx="0" cy="37944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193760" y="3887640"/>
            <a:ext cx="2436480" cy="1522440"/>
            <a:chOff x="1193760" y="3887640"/>
            <a:chExt cx="2436480" cy="1522440"/>
          </a:xfrm>
        </p:grpSpPr>
        <p:sp>
          <p:nvSpPr>
            <p:cNvPr id="243" name=""/>
            <p:cNvSpPr/>
            <p:nvPr/>
          </p:nvSpPr>
          <p:spPr>
            <a:xfrm flipH="1">
              <a:off x="2106360" y="5410080"/>
              <a:ext cx="1523880" cy="0"/>
            </a:xfrm>
            <a:prstGeom prst="line">
              <a:avLst/>
            </a:prstGeom>
            <a:ln w="5724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93760" y="3887640"/>
              <a:ext cx="1825920" cy="515160"/>
            </a:xfrm>
            <a:prstGeom prst="rect">
              <a:avLst/>
            </a:prstGeom>
            <a:noFill/>
            <a:ln w="12600">
              <a:solidFill>
                <a:srgbClr val="66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Approval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Arial Black"/>
                </a:rPr>
                <a:t>Process</a:t>
              </a:r>
              <a:r>
                <a:rPr b="1" lang="en-GB" sz="1400" spc="-1" strike="noStrike">
                  <a:solidFill>
                    <a:srgbClr val="003399"/>
                  </a:solidFill>
                  <a:latin typeface="Arial Black"/>
                </a:rPr>
                <a:t> –TAP/AAP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106720" y="48002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 flipH="1">
            <a:off x="5638320" y="5181480"/>
            <a:ext cx="762120" cy="0"/>
          </a:xfrm>
          <a:prstGeom prst="line">
            <a:avLst/>
          </a:prstGeom>
          <a:ln w="28440">
            <a:solidFill>
              <a:srgbClr val="660066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563920" y="4800600"/>
            <a:ext cx="990360" cy="380880"/>
            <a:chOff x="2563920" y="4800600"/>
            <a:chExt cx="990360" cy="380880"/>
          </a:xfrm>
        </p:grpSpPr>
        <p:sp>
          <p:nvSpPr>
            <p:cNvPr id="248" name=""/>
            <p:cNvSpPr/>
            <p:nvPr/>
          </p:nvSpPr>
          <p:spPr>
            <a:xfrm>
              <a:off x="2563920" y="4800600"/>
              <a:ext cx="0" cy="380880"/>
            </a:xfrm>
            <a:prstGeom prst="line">
              <a:avLst/>
            </a:prstGeom>
            <a:ln w="2844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63920" y="5181480"/>
              <a:ext cx="990360" cy="0"/>
            </a:xfrm>
            <a:prstGeom prst="line">
              <a:avLst/>
            </a:prstGeom>
            <a:ln w="28440">
              <a:solidFill>
                <a:srgbClr val="6600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886200" y="2590920"/>
            <a:ext cx="2286000" cy="22762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048120" y="3124080"/>
            <a:ext cx="914400" cy="0"/>
          </a:xfrm>
          <a:prstGeom prst="line">
            <a:avLst/>
          </a:prstGeom>
          <a:ln w="572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99"/>
                </a:solidFill>
                <a:latin typeface="Arial Black"/>
              </a:rPr>
              <a:t>Study Group Proces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13716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Black"/>
              </a:rPr>
              <a:t>Study Group meeting establishes Working Parties and Rapporteur Group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Black"/>
              </a:rPr>
              <a:t>Study Group members submit contributions addressing a question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Black"/>
              </a:rPr>
              <a:t>On the basis of contributions and debate a new Recommendation is drafted or amendments to an existing recommendation drafted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Black"/>
              </a:rPr>
              <a:t>If agreed the Study Group starts the approval proces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9144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99"/>
                </a:solidFill>
                <a:latin typeface="Arial Black"/>
              </a:rPr>
              <a:t>Approval Proces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Black"/>
              </a:rPr>
              <a:t>Traditional Approval Process, TAP, for policy regulatory and tariff type recommendation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Arial Black"/>
              </a:rPr>
              <a:t>Alternative Approval Process, AAP, for technical type recommendations (standards)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2T15:29:54Z</dcterms:created>
  <dc:creator>Wyn Lucas</dc:creator>
  <dc:description/>
  <dc:language>en-US</dc:language>
  <cp:lastModifiedBy>TSTT</cp:lastModifiedBy>
  <cp:lastPrinted>2002-07-04T18:37:03Z</cp:lastPrinted>
  <dcterms:modified xsi:type="dcterms:W3CDTF">2002-07-16T20:46:55Z</dcterms:modified>
  <cp:revision>64</cp:revision>
  <dc:subject/>
  <dc:title>Wyn Lucas</dc:title>
</cp:coreProperties>
</file>