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4962-3BF0-477A-9718-2596E5B3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093F-4953-46F0-9549-D6A4F7F3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D78D-1C53-44DB-92FD-116E0549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85D2-01D4-4BA3-96AA-DD13E743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33256-E623-4515-854D-F8E620F4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8D80-1E79-470C-9268-FF7C359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CA7E6-3738-4CE6-A32B-4ED7189B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A2745-1584-42F2-ABE0-B2359E2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70DC7-5FB0-4026-94B6-62660C05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499B3-CF45-4796-B431-65E40864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72BD9-C93F-4625-8FBF-D3419CD4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D9F4-D7FF-4227-82A2-8A432E3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AFEE-7EF4-4EF3-8D20-2144F922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3F1EF-2E9C-4307-97CB-982802A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AEBF-98DF-4CD9-976E-9BF2BA4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6E5CA-A316-4D78-8814-38FECE54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06F41-0A43-45D2-889A-A2E2F0D6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F183-E969-4B7E-884D-A1DA903D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391-346D-461A-A3A3-53364E6A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92E5-2961-462A-BEF4-058E96B9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372C-CCE2-40B8-A1C8-A55EDA5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E213-CC3B-466A-867B-C478AFB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9653-0E89-4430-9D41-25C05AF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A445-1C0C-4608-AA3B-6F933CC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0FC-CFF0-41C0-BA8B-15003874B2F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4 July 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3333cc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Verdana"/>
                <a:ea typeface="Times New Roman"/>
              </a:rPr>
              <a:t>ITU-T Seminar – Kasane, Jul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3BD6C5B5-5013-4668-A69F-9AB91436FA8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4A6C-642C-49E3-B55A-AFD24A2D4830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6440" y="6248520"/>
            <a:ext cx="62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Seminar – Kasane, 24 Jul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233316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ITU-T Products &amp; Services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0280" y="4818240"/>
            <a:ext cx="7696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Greg Jone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U Telecommunication Standardization Sector (ITU-T)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g.jones@itu.int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public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TSA Resolu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ppend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ppl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ndbook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rectiv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U Operational Bulletin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57B1-3054-4194-B25A-B8631B7078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037902-7FBE-4B98-A518-D14E80E982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ree and discounted ITU-T public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scounts of 15% and one free online subscription are granted to Member States and Sector Members participating in the work of IT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discount of 80% of the catalogue price on all ITU publications is granted to Administrations of the Least Developed Countries (LDCs), as well as to libraries of educational institutions (for online subscriptions and CD-ROM publications only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6D16-2BE5-4D7A-A0C1-3B22073C36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C05A29A-B812-4387-AA04-275469E62B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Series (A-L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28680" y="1555920"/>
            <a:ext cx="791532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tion of the work of 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ns of expression: definitions, symbols,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neral telecommunic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neral tariff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verall network operation, telephone service, service operation and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on-telephone tele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nsmission systems and media, digital system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diovisual and multimedi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grated services digit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nsmission of television, sound programme and other multimedia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tection against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20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struction, installation and protection of cables and other elements of outside plan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D24-2A50-495A-B670-2CEB7183497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D0E13F-0474-4F30-BB3D-35EB6FFD468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2520" y="196920"/>
            <a:ext cx="70102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Series (M-Z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136520" y="870120"/>
            <a:ext cx="8007480" cy="58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MN and network maintenance: international transmission systems, telephone circuits, telegraphy, facsimile and leased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intenance: international sound programme and television transmission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pecifications of measuring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lephone transmission quality, telephone installations, local lin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witching and signa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legraph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legraph services terminal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rminals for telematic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legraph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 communication over the 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 networks and open system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lobal information infrastructure and Internet protocol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-54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rebuchet MS"/>
              <a:buAutoNum type="alphaU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nguages and general software aspects for telecommunic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B626-2A31-4A87-959E-FFF2CA2CAB8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0DC10D-138F-4E90-9A0F-0D4BF384CB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andbooks &amp; Directives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(recent examples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Protection of telecommunication buildings from fire (SG6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nstruction, Installation, Jointing and Protection of Optical Fibre Cables (SG6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pplication of Computers and Microprocessors to the Construction, Installation and Protection of Telecommunication Cables (SG6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andbook on Marinized Terrestrial Cables (SG6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andbook on interference measuring techniqu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andbook on Telephonometry (SG12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Guide to the use of ITU-T publications produced by Study Group 5 aimed at achieving electromagnetic compatibility and safety (SG5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Directives Concerning the Protection of Telecommunication Lines against Harmful Effects from Electric Power and Electrified Railway Lines (SG5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3033-283E-42C9-BF68-3858580844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480C0D-DB8A-4B9E-AFD6-824B8D6F1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reely accessible web resourc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U-T patent databa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rnational numbering resour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.4, A.5 and A.6 recognized organiz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erms and defini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st of ITU-T Recommend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U-T Work program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N.1 module database – </a:t>
            </a:r>
            <a:r>
              <a:rPr b="0" lang="en-US" sz="3000" spc="-1" strike="noStrike">
                <a:solidFill>
                  <a:srgbClr val="ff0000"/>
                </a:solidFill>
                <a:latin typeface="Trebuchet MS"/>
              </a:rPr>
              <a:t>new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3730-1C33-4419-963A-7D3B208CDE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298790-0B7D-4167-82EA-3FAD6315F86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TU-T working metho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TU-T stud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TU-T products &amp;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TU-T strategy and priorit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3256-125F-4ED1-98AA-19C83C8995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B58A90-2D59-417A-800C-B474E4047F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orking metho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mmendation A.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ribu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layed Contribu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mporary Docu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ail reflect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l FTP are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ysical meet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G, WP, Rapporteur, Edi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mmendation A.9 for SS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7A4F-FE82-46AC-B2E0-00B9AAFF48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32FF76E-1DA3-42B1-BAA1-9A6AA7478F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pproval metho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2320" y="1388880"/>
            <a:ext cx="7321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P – traditional approval process (Res.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ermination at physical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roval at physical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 available before approval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AP – alternative approval process (Rec. A.8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ent at physical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st call peri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roval if no substantive com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eview or revert to SG or TA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n-normative texts approved at Study Group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 Appendices, Supplements, Handboo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3FCA-AD66-462C-979D-8AFAEE9736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7DF7B1-A6F6-4087-AD8E-C47E673DEC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pproval time for ITU-T 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2920" y="1798560"/>
            <a:ext cx="69706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fore 1988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989-199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993-1996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8 month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997-200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 months (5 months in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ceptional circumstanc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00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nimum 4 weeks (AAP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 months (TAP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AP = Alternative Approval Proced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P = Traditional Approval Proced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D073-0C9B-4C89-88A2-3AC8F76894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BC921B1-910B-4DB9-9E31-206BBA474F3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ope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0400" y="1723680"/>
            <a:ext cx="7383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.4 – Communication with forums/cons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.5 – Organizations qualified for referenc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.6 – Communication with S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U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U ICANN Protocol Supporting Organization, 14 July 1999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U between IEC, ISO, ITU and UN/ECE Concerning Standardization in the Field of Electronic Business, 24 March 2000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U between ITU and ETSI, 14 June 2000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4DF6-BD0F-46EC-ABE4-D9CAE25C32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246479-B26A-4C8C-A698-CB4DA6DF0E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gration towards an IP-based backbone net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1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0814-7B31-4DD0-9A85-6952AF7D262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4160C77-0E4D-4361-998A-B08654667F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GII: Technology convergence (based on Figure 5-1/Y.110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60400" y="1436760"/>
          <a:ext cx="7383600" cy="5162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36760"/>
                    <a:ext cx="738360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9C32-D7A7-474C-A0E8-350A1481351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3E8A4D-B957-4D67-A1F7-F7920368C8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nsuring global interoper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Quality of Service (Qo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umbering and rout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ariffs and Accounting rat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rwork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3D28-B439-4B9A-8859-DBF7EB03F6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7F7022-AA30-488E-A8B3-1CEA768A9B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Greg Jones</dc:creator>
  <dc:description/>
  <dc:language>en-US</dc:language>
  <cp:lastModifiedBy>UGALE, Arvin Carlos D.</cp:lastModifiedBy>
  <cp:lastPrinted>2001-03-15T13:10:50Z</cp:lastPrinted>
  <dcterms:modified xsi:type="dcterms:W3CDTF">2002-08-29T13:47:39Z</dcterms:modified>
  <cp:revision>131</cp:revision>
  <dc:subject>Lisbon, 25 June 2002</dc:subject>
  <dc:title>ITU-T products and services</dc:title>
</cp:coreProperties>
</file>