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1800" y="2880"/>
            <a:ext cx="4235400" cy="323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540040" y="2880"/>
            <a:ext cx="4235400" cy="323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-1800" y="6530760"/>
            <a:ext cx="4235400" cy="323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540040" y="6530760"/>
            <a:ext cx="4235400" cy="323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fld id="{69E41C97-07A8-466B-95DC-750E806C6D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1303200" y="3260520"/>
            <a:ext cx="7167600" cy="28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ttaw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Ottawa"/>
            </a:endParaRPr>
          </a:p>
        </p:txBody>
      </p:sp>
      <p:sp>
        <p:nvSpPr>
          <p:cNvPr id="53" name=""/>
          <p:cNvSpPr/>
          <p:nvPr/>
        </p:nvSpPr>
        <p:spPr>
          <a:xfrm>
            <a:off x="4228920" y="6534000"/>
            <a:ext cx="1318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ttawa"/>
              </a:rPr>
              <a:t>Page </a:t>
            </a:r>
            <a:fld id="{FADE8249-F745-4BC0-BBEB-CF198D4BA66C}" type="slidenum">
              <a:rPr b="0" lang="en-US" sz="1200" spc="-1" strike="noStrike">
                <a:solidFill>
                  <a:srgbClr val="000000"/>
                </a:solidFill>
                <a:latin typeface="Ottaw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3290760" y="601560"/>
            <a:ext cx="3200400" cy="240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2920" y="3260520"/>
            <a:ext cx="8469000" cy="28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</a:t>
            </a:r>
            <a:endParaRPr b="0" lang="en-US" sz="1200" spc="-1" strike="noStrike">
              <a:solidFill>
                <a:srgbClr val="000000"/>
              </a:solidFill>
              <a:latin typeface="Ottaw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Img"/>
          </p:nvPr>
        </p:nvSpPr>
        <p:spPr>
          <a:xfrm>
            <a:off x="3290760" y="601560"/>
            <a:ext cx="3200400" cy="2400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06F-589B-4177-9E43-420302EC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2708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6C6-9924-487B-AA36-7A3BF8EF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70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0976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2C0-FC53-4F83-9308-85EA45C0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5508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272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2708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5508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272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4E5-2960-4301-8BD9-70869ED5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270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B31-5354-4777-B8FD-6866CCC8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82E-CA13-44DC-8441-8DB8337B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E0E-91E7-4335-9B6C-DF7A6A06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304-84A1-4365-A4D8-5D63E31C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8B8-5EE7-4413-87B5-AC6399A5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270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1B6-427B-46FC-A229-364F2725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0976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963-FF46-423F-90FB-ECEA5530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2708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F11-2E50-4B01-8D6E-D51D114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F13A55-3B3F-411E-91E6-2C30F4397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428840" cy="6843600"/>
          </a:xfrm>
          <a:prstGeom prst="rect">
            <a:avLst/>
          </a:prstGeom>
          <a:gradFill rotWithShape="0">
            <a:gsLst>
              <a:gs pos="0">
                <a:srgbClr val="98f2fc"/>
              </a:gs>
              <a:gs pos="100000">
                <a:srgbClr val="00e2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tta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328680"/>
            <a:ext cx="8704080" cy="471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0270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836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96760" y="419040"/>
            <a:ext cx="12913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33D-A29B-4820-85F1-E7F108EB02E0}" type="slidenum">
              <a:rPr b="1" i="1" lang="en-US" sz="1800" spc="-1" strike="noStrike">
                <a:solidFill>
                  <a:srgbClr val="ffff99"/>
                </a:solidFill>
                <a:latin typeface="Ottaw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90640" y="363240"/>
            <a:ext cx="670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TU – Global standardizati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476280" y="208080"/>
          <a:ext cx="771480" cy="76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208080"/>
                    <a:ext cx="77148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tu.int/ITU-T/index.html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itu.int/ITU-T/index.html" TargetMode="External"/><Relationship Id="rId2" Type="http://schemas.openxmlformats.org/officeDocument/2006/relationships/hyperlink" Target="http://www.itu.int/ITU-T/itu-t_pub.htm" TargetMode="External"/><Relationship Id="rId3" Type="http://schemas.openxmlformats.org/officeDocument/2006/relationships/hyperlink" Target="http://www.itu.int/ITU-T/itu-t_sg.htm" TargetMode="External"/><Relationship Id="rId4" Type="http://schemas.openxmlformats.org/officeDocument/2006/relationships/hyperlink" Target="http://www.itu.int/ITU-T/patent/index.html" TargetMode="Externa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cantero@itu.int" TargetMode="External"/><Relationship Id="rId2" Type="http://schemas.openxmlformats.org/officeDocument/2006/relationships/hyperlink" Target="mailto:cantero@itu.int" TargetMode="External"/><Relationship Id="rId3" Type="http://schemas.openxmlformats.org/officeDocument/2006/relationships/hyperlink" Target="mailto:cantero@itu.int" TargetMode="External"/><Relationship Id="rId4" Type="http://schemas.openxmlformats.org/officeDocument/2006/relationships/hyperlink" Target="mailto:cantero@itu.int" TargetMode="Externa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U Telecommunication Standardization Sector (ITU-T)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7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Times New Roman"/>
              </a:rPr>
              <a:t>New telecommunications’ technolog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Times New Roman"/>
              </a:rPr>
              <a:t>From Standards to Real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. Petersbu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3-15 December 20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. J. Cantero Fernánde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lecommunication Standardization Bureau (TSB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rancisco.cantero@itu.i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60680" y="2209680"/>
            <a:ext cx="7178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on access network transport and optical technolog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on Multimedia services, systems and terminals, and on e-business and e-commer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G o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T 2000 and beyond and for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106668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U-T Lead Study Groups (2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TU-T Meetings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7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Part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ion/Manage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pporteurs/edi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ecommunication Standardization Advisory Group (TSA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TSA,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d every four years) WTSA-2000 (Montreal, 27 Sept. – 6 Oct. 200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Resolutions (1/4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199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ules of procedure of the ITU Telecommunication Standardization Sector (ITU-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udy group responsibility and man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laboration with the International Organization for Standardization (ISO) and the International Electrotechnical Commission (IE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laboration with the Postal Operations Council (POC) of the Universal Postal Union (UPU) in the study of services concerning both the postal and the telecommunication sector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lecommunication standardization in relation to the interests of developing countr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Resolutions (2/4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275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les and procedures for the allocation of work to, and coordination between, the Radiocommunication and Telecommunication Standardization Sect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dures for allocation and management of international numbering resour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ization for TSAG to act between WTS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ssistance to the Regional Tariff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calling procedures on international telecommunication networ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ssion of entities or organizations to participate as Associates in the work of ITU-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Resolutions (3/4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275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the use of electronic document handling for the work of ITU-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s for ITU-T strategic activi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contribu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ointment and maximum term of office for chairmen and vice‑chairmen of ITU-T Study Groups and of the Telecommunication Standardization Advisory Group (TSA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Refo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approval process for ITU-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Resolutions (4/4)</a:t>
            </a:r>
            <a:br>
              <a:rPr sz="3600"/>
            </a:b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27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ion among ITU-T, ITU-R and ITU-D for IMT-2000 activi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nging Role of the World Telecommunication Standardization Assemb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 aspects of ITU-T 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rate principles for international telephone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xts of ITU-T Resolutions are free (public) and can be obtained a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itu.int/itudoc/itu-t/wtsa-res/index.ht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914400"/>
            <a:ext cx="76960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TU-T SERIES OF RECOMMENDATIONS 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Organization of the work of the ITU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Means of expression: definitions, symbols,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- General telecommunicatio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- General tariff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- Overall network operation, telephone service, service operation and human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- Non-telephone telecommun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- Transmission systems and media, digital system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Audiovisual and multimedia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Integrated services digit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- Transmission of television, sound programme and other multimedia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914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TU-T SERIES OF RECOMMENDATIONS 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56280" y="2727360"/>
            <a:ext cx="70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08040" y="1905120"/>
            <a:ext cx="7443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- Protection agains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- Construction, installation and protection of cables and other elements of outsid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- TMN and network maintenance: international transmission systems, telephone circuits, telegraphy, facsimile and leased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- Maintenance: international sound programme and television transmission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- Specifications of measuring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- Telephone transmission quality, telephone installations, local lin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- Switching and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08040" y="2362320"/>
            <a:ext cx="74199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- Telegraph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Telegraph services terminal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- Terminals for telematic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- Telegraph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- Data communication over th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 Data networks and open system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- Global information infrastructure and Internet protocol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- Languages and general software aspects for tele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990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TU-T SERIES OF RECOMMENDATIONS 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A- Series Recs. (1/3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7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methods for study groups of the ITU Telecommunication Standardization Sector (ITU-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2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on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o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-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4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process between ITU-T and forums and consort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5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 procedures for including references to documents of other organizations in ITU-T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6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and exchange of information between ITU-T and national and regional standards development organiz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line of Presentation (1/2)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– ITU Telecommunication Standardization Sec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Study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Lead Study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Meet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Series of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A-Series of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pen drawing up of progr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andards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A- Series Recs. (2/3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7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7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Groups: Working methods and procedur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8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approval procedure for new and revised Recommend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9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al working procedures for the Special Study Group on IMT-2000 and beyo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1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ation of ITU-T Recommendations and WTSA proceeding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12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and layout of ITU-T Recommend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13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s to ITU-T Recommend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A- Series Recs. (3/3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7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23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with the International Organization for Standardization (ISO) and the International Electrotechnical Commission (IEC) on information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23 Annex A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 for ITU-T and ISO/IEC JTC 1 coope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. 1 to A-Ser.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s on quality aspects of protocol related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. 2 to A-Ser.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s on interoperability experi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xts of ITU-T Resolutions are free (public) and can be obtained a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itu.int/itudoc/itu-t/approved/a/index.ht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U-T TOP PRIORITIES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6720" y="1904760"/>
            <a:ext cx="8116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 related network aspects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bile communication technologies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iff and Account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n drawing up of programs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7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largest platform 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TU-T provides, through its broad membership, the largest platform worldwide for experts in telecommunication standardization. Experience and information are shared through active participation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udy Questions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or revised Questions, agreed by consensus during WTSA, TSAG or Study Groups meeting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400"/>
              </a:spcBef>
              <a:spcAft>
                <a:spcPts val="52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ork programs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Study Group work programs are constantly revised and adapted reflecting priorities,  requirements and market nee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ndards development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7275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5000"/>
              </a:lnSpc>
              <a:spcBef>
                <a:spcPts val="1749"/>
              </a:spcBef>
              <a:spcAft>
                <a:spcPts val="52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TU official and working languages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rabic, Chinese, English, French, Russian and Spanish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5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Upon agreement of all participants in a conference or meeting,  discussions may be conducted in fewer languag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ength of standards development process 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time between determination meeting (stable texts) and decision meeting (approval of the Recommendation) is normally 10 month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articipation in meeting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readth of participation : more than 4,000 attendants per year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enue of meetings : in Geneva or outside, all year rou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9144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cedures for comments and decision-making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270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TU-T studies are driven by contributions from its membershi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ntributions are discussed at meetings, with assessment made by Rapporteurs and management team of Study Group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nsultation process for approval of Recommendations : 70 % of Member States must support the submission of a Recommendation for the approval procedure to a given Study Group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pproval procedure : the Study Group meeting must reach unopposed agreement in order for a Recommendation to be approv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pplication of adopted Recommendations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199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though ITU-T Recommendations are non-binding, they are generally complied with due to their high quality and because they guarantee the interconnectivity of networks and enable telecommunication services to be provided on a worldwide scale.</a:t>
            </a: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nsparency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7199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7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formation and documents :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ember States, Sector Members and Associates receive all ITU-T information and study group documents in paper form or through electronic access via T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formal FTP areas :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udy Group information exchange area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TU-T WEB site :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rovides full information relating to activities, membership, meetings, work programs, recommendations, etc…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itu.int/ITU-T/index.ht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TU Operational Bulletin :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xchange of administrative, operational, statistical and tariff inform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mbership, the strength of ITU-T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27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 Member States : 189 Adminst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Sector Member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ognized operating agencies (ROAs : network and service provider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cientific and industrial organizations (SIO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entities dealing with telecommunication mat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gional and other international organiz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gional telecommunications organiz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ergovernmental organizations operating satellite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oci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to become ITU-T Sector Member or Associate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275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 States :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y right, all ITU Member States may participate in the activities of ITU-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ctor Member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d Associate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ognized operating agencies Scientific or industrial organization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inancial or development instit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National telecommunication Administration approval requi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Contribution to  ITU expen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egional/International organizations</a:t>
            </a:r>
            <a:br>
              <a:rPr sz="32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pecific application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line of Presentation (1/2)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600"/>
            <a:ext cx="7199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dures for comments and decision-ma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pplication of adopted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anspar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mbership, the strength of ITU-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to become ITU-T Sector Member or Associ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much does it costs to be a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Sector Member or an Associ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sociates (Resolution 31 extract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P/AAP (1/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me ITU-T Web Addr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8380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much does it costs to be a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Sector Member or an Associate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708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lass of contribution :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TU-T Sector Members choose, on a voluntary basis, how many “contributory units” they are willing to contribute to the ITU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ctor Members may choose their unit class in accordance with their importance and the image they wish to convey to the world</a:t>
            </a:r>
            <a:br>
              <a:rPr sz="20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tributory unit for 2000 &amp; 2001 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ctor Member : 63,000 Swiss Francs per year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Minimum 1/2 unit, maximum 40 unit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ssociat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0.500 Swiss Francs per y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sociates (Resolution 31 extracts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275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Associate … to take part in the work of a selected single study group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ssociates are limited to the study group roles described below and excluded from all other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s may take part … preparing Recommendations within a SG, including …: meeting participant, contribution submitter, Recommendation editor, and during the AAP, provider of comments during the Last Call period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s may have access to documentation required for their work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ssociate may serve as rapporteur, responsible for directing the studies for the relevant study Question within the selected study group, except for liaison activities which are to be handled separate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P/AAP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P – Traditional Approval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xts are first determined during a SG meeting and the SG takes the decision of approval at the next meeting (9 months later in general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2952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ion criteria: Standardization doma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4 (Numbering, Addressing)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ff/charging/accoun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AP – Alternative approval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G/WP consent for mature texts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riod for Last Comments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riod for Additional Review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pproval at the end of those periods or at the next SG Meeting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 ITU-T Web Addresses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27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l ITU-T Addres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itu.int/ITU-T/index.htm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U-T Publications: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itu.int/ITU-T/itu-t_pub.ht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U-T Study Groups and TSAG: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itu.int/ITU-T/itu-t_sg.ht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U-T Patent Statements Database: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itu.int/ITU-T/patent/index.htm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rms and definitions (SANCHO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7.itu.int/sancho/index.ht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more information …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7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 J. Cantero Fernández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d, Promotion, Edition and Production Department, TSB (M 40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ce des N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-1211 Geneva 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antero@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itu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.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i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ph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+4122) 730 58 9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x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+4122) 730 58 5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1387440"/>
            <a:ext cx="6477120" cy="455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4495680" y="1143000"/>
          <a:ext cx="10875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143000"/>
                    <a:ext cx="1087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37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International Telecommunication Un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nded in 1865 as the International Telegrap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on. Specialized agency of the United Nations sinc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47.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Telecommunication Standardization Se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R Radiocommunication Se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D Telecommunication Development Se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TU-T (1/2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7427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TU-T –ITU Telecommunication Standardization Sec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SB  - Telecommunication Standardization Burea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TSA - World Telecommunication Standardization Assembly  (every 4 years). WTSA-2000 in Montreal (Canada). 27/9-6/10/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SAG - Telecommunication Standardization Advisory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4 Study Groups - study areas are called “Questions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85440" y="837720"/>
            <a:ext cx="7215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1. ITU-T (2/2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ission :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buClr>
                <a:srgbClr val="ff0000"/>
              </a:buClr>
              <a:buFont typeface="Monotype Sorts" charset="2"/>
              <a:buChar char="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laboration, adoption, distribution and follow-up of high quality global STANDARDS (Recommendations) in order to standardize telecommunications (except radiocommunications) on a worldwide basis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buClr>
                <a:srgbClr val="ff0000"/>
              </a:buClr>
              <a:buFont typeface="Monotype Sorts" charset="2"/>
              <a:buChar char="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andards are developed within the Study Groups by highly qualified experts from leading telecommunication organizations and companies worldwide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buClr>
                <a:srgbClr val="ff0000"/>
              </a:buClr>
              <a:buFont typeface="Monotype Sorts" charset="2"/>
              <a:buChar char="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re than 2,700 Recommendations are in force on some 70,000 pages, and published in different forms :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aper booklets - electronic files available on line and CD-ROM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480" y="9907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U-T Study Groups (1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981080"/>
            <a:ext cx="67820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2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spects of service provision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and performa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3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ff and accounting principles including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telecommunication economic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issu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4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mmunication management, including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5   Protection against electromagnetic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vironment eff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6   Outside Pla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7   Data networks and open syste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mmunicatio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 9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broadband cable networks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vision and sound transmiss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47720" y="990720"/>
            <a:ext cx="65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1 ITU-T Study Groups (2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5960" y="2057400"/>
            <a:ext cx="732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0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and general software aspects fo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mmunication syste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1  Signalling requirements and protocol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2  End-to-end transmission performanc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networks and terminal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3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protocol and IP-based networks and thei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work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5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and other transport network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6  Multimedia services, systems and termina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4360" y="1219320"/>
            <a:ext cx="73310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U-T Lead Study Groups (1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on service definition, numbering, and  rout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n TM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 relay and for communication system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broadband cable and television networ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on languages and description techniqu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 on intelligent network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of Service and perform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P related matters, B-ISDN, Global Information Infrastructure and satellite mat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6T08:31:06Z</dcterms:created>
  <dc:creator>Tim Kelly</dc:creator>
  <dc:description>27 May 1997</dc:description>
  <dc:language>en-US</dc:language>
  <cp:lastModifiedBy>cantero</cp:lastModifiedBy>
  <cp:lastPrinted>1999-11-10T09:44:18Z</cp:lastPrinted>
  <dcterms:modified xsi:type="dcterms:W3CDTF">2000-12-11T17:00:06Z</dcterms:modified>
  <cp:revision>188</cp:revision>
  <dc:subject>Speech to ITU-T SG 3</dc:subject>
  <dc:title>The 1998 Telecommunications Revolution</dc:title>
</cp:coreProperties>
</file>